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382-9D09-4A23-AA67-AF857E98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616-CAEC-4399-BBF0-47B65825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13C-75F5-42A2-8098-BC66F7B7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E26-52C6-4944-B191-CB2E3711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E31-2A97-4DF8-9979-EC968506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4AF-3D8A-4ABD-A1B1-3C279838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A4C-9972-4F34-A81F-117E40E7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F29-CEAA-4E6A-BE3F-AFC444B8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E0C-8E4C-4419-B21F-70FA7B97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D66-86DE-4389-989A-7B4FDD1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0B0-AAE4-4D52-8040-0474BC0D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21A-9D10-4A47-A957-6A6AC0D3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8AC9-1AC7-4503-8A92-B60849BEF8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iu.org.u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95280" y="2894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  <a:ea typeface="Calibri"/>
              </a:rPr>
              <a:t>CONCURSOS DE PROYECTOS FINALES DE INGENI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  <a:ea typeface="Calibri"/>
              </a:rPr>
              <a:t>CONCURSOS DE TESIS DE POSTGRADO DE INGENI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90360" y="1322280"/>
            <a:ext cx="89632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Verdana"/>
              </a:rPr>
              <a:t>                        </a:t>
            </a:r>
            <a:r>
              <a:rPr b="1" lang="es-ES" sz="1800" spc="-1" strike="noStrike">
                <a:solidFill>
                  <a:srgbClr val="333399"/>
                </a:solidFill>
                <a:latin typeface="Verdana"/>
              </a:rPr>
              <a:t>LA ACADEMIA NACIONAL DE INGENIERÍ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Verdana"/>
              </a:rPr>
              <a:t>                     </a:t>
            </a:r>
            <a:r>
              <a:rPr b="1" lang="es-ES" sz="1800" spc="-1" strike="noStrike">
                <a:solidFill>
                  <a:srgbClr val="333399"/>
                </a:solidFill>
                <a:latin typeface="Verdana"/>
              </a:rPr>
              <a:t>CONVOCA A LA PRESENTACIÓN DE TRABA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Verdana"/>
              </a:rPr>
              <a:t>                            </a:t>
            </a:r>
            <a:r>
              <a:rPr b="1" lang="es-ES" sz="1800" spc="-1" strike="noStrike">
                <a:solidFill>
                  <a:srgbClr val="333399"/>
                </a:solidFill>
                <a:latin typeface="Verdana"/>
              </a:rPr>
              <a:t>PERÍODO DE RECEP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Verdana"/>
              </a:rPr>
              <a:t>                            </a:t>
            </a:r>
            <a:r>
              <a:rPr b="1" lang="es-ES" sz="1800" spc="-1" strike="noStrike">
                <a:solidFill>
                  <a:srgbClr val="333399"/>
                </a:solidFill>
                <a:latin typeface="Verdana"/>
              </a:rPr>
              <a:t>15 de MAYO a 31 de JULIO de 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ENVIAR versión electrónica a :                                              </a:t>
            </a:r>
            <a:r>
              <a:rPr b="1" lang="es-ES" sz="2400" spc="-1" strike="noStrike">
                <a:solidFill>
                  <a:srgbClr val="ff6600"/>
                </a:solidFill>
                <a:latin typeface="Verdana"/>
              </a:rPr>
              <a:t>acadinguy</a:t>
            </a: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NSULTAS : 099 107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VER CAMBIOS EN LA  </a:t>
            </a: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versión 2021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DE LOS RESPECTIVOS REGLAMENTOS QUE ESTÁN A DISPOSICIÓN DE LOS INTERESADOS EN EL SITIO DE LA ACADEMIA 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www.aniu.org.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s trabajos deben haber sido aprobados con posterioridad a la fecha de cierre del período anterior: 31 de julio d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971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2:39:36Z</dcterms:created>
  <dc:creator>ag</dc:creator>
  <dc:description/>
  <dc:language>en-US</dc:language>
  <cp:lastModifiedBy>Adriana Gambogi</cp:lastModifiedBy>
  <dcterms:modified xsi:type="dcterms:W3CDTF">2021-03-25T21:37:22Z</dcterms:modified>
  <cp:revision>26</cp:revision>
  <dc:subject/>
  <dc:title>Diapositiva 1</dc:title>
</cp:coreProperties>
</file>