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206A-69DA-4C39-B49E-1C0E83E5236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938-9987-402A-B313-4C01790D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4AB-E910-4AA5-9A1B-2CFD2B87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E5C-9E61-4C4A-8753-E41EBA8D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184-C358-493D-8CF3-0AF33B77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D60-4A00-4191-B286-81CD6464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A05-EA75-4CDD-B5CC-67C8BDDC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BCA-1449-4A28-B5B5-9BB9C598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C50-0BD8-4274-B8C5-F14370F4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F55-8EB9-4F07-8E9A-DF545ECB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A34-2BD4-4DA0-A3CC-3CE42AC2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7C4-E095-44DC-8F2E-8C90E9C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4C6-D0CF-4F7D-A905-E7EDCEC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5037-05FD-4683-ADE6-A984F885FF34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856-623A-4272-AFBC-39CE12C0867A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26960" y="2362320"/>
            <a:ext cx="8288280" cy="2730240"/>
            <a:chOff x="426960" y="2362320"/>
            <a:chExt cx="8288280" cy="2730240"/>
          </a:xfrm>
        </p:grpSpPr>
        <p:sp>
          <p:nvSpPr>
            <p:cNvPr id="92" name=""/>
            <p:cNvSpPr/>
            <p:nvPr/>
          </p:nvSpPr>
          <p:spPr>
            <a:xfrm>
              <a:off x="3097080" y="3728880"/>
              <a:ext cx="54496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270240" y="2365200"/>
              <a:ext cx="0" cy="272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46440" y="2362320"/>
              <a:ext cx="455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51720" y="353052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273120" y="2711520"/>
              <a:ext cx="4793760" cy="2038320"/>
              <a:chOff x="3273120" y="2711520"/>
              <a:chExt cx="4793760" cy="203832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3273120" y="2711520"/>
                <a:ext cx="1197720" cy="1018440"/>
                <a:chOff x="3273120" y="2711520"/>
                <a:chExt cx="1197720" cy="10184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273120" y="2711520"/>
                  <a:ext cx="59940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72520" y="2711520"/>
                  <a:ext cx="59832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469040" y="3730680"/>
                <a:ext cx="1198080" cy="1019160"/>
                <a:chOff x="4469040" y="3730680"/>
                <a:chExt cx="1198080" cy="101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469040" y="3730680"/>
                  <a:ext cx="59904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68080" y="3731400"/>
                  <a:ext cx="599040" cy="1018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28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5667480" y="2711520"/>
                <a:ext cx="59832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268320" y="2711520"/>
                <a:ext cx="59760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65920" y="3730680"/>
                <a:ext cx="59832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69280" y="3730680"/>
                <a:ext cx="597600" cy="1019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44400" y="2687760"/>
              <a:ext cx="2084400" cy="208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960" y="372888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685880" y="2471760"/>
              <a:ext cx="0" cy="25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685880" y="2839680"/>
              <a:ext cx="536400" cy="87948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12920" y="2840040"/>
              <a:ext cx="146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81360" y="2849400"/>
              <a:ext cx="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224720" y="3268080"/>
              <a:ext cx="923400" cy="92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5"/>
                  </a:moveTo>
                  <a:arcTo wR="10800" hR="10800" stAng="-10763378" swAng="35294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5"/>
                  </a:moveTo>
                  <a:arcTo wR="10800" hR="10800" stAng="-10763378" swAng="3529435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2040" y="281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98360" y="324324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6120" y="36860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68840" y="36860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59600" y="368604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EF4-BF73-4312-BB1A-95D9512AC07C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23080" y="5333040"/>
            <a:ext cx="10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626160" y="4890960"/>
            <a:ext cx="609840" cy="37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8240" y="1654920"/>
            <a:ext cx="760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ambién se puede agregar un ángulo de </a:t>
            </a:r>
            <a:r>
              <a:rPr b="1" lang="es-ES_tradnl" sz="4000" spc="-1" strike="noStrike">
                <a:solidFill>
                  <a:srgbClr val="ff0000"/>
                </a:solidFill>
                <a:latin typeface="Arial"/>
              </a:rPr>
              <a:t>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5720" y="4183920"/>
            <a:ext cx="563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sen(2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40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004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8304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560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70160" y="4890960"/>
            <a:ext cx="160200" cy="387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05280" y="4890960"/>
            <a:ext cx="0" cy="378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551560" y="4890960"/>
            <a:ext cx="164880" cy="378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F1F-4B76-4027-9AAF-22DBA4A100CD}" type="slidenum">
              <a:t>11</a:t>
            </a:fld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23920" y="2781360"/>
            <a:ext cx="433440" cy="94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3728880"/>
            <a:ext cx="56880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327480" y="2365200"/>
            <a:ext cx="0" cy="27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89400" y="2362320"/>
            <a:ext cx="455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08960" y="353052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30720" y="2711520"/>
            <a:ext cx="4793400" cy="2038320"/>
            <a:chOff x="3330720" y="2711520"/>
            <a:chExt cx="4793400" cy="2038320"/>
          </a:xfrm>
        </p:grpSpPr>
        <p:grpSp>
          <p:nvGrpSpPr>
            <p:cNvPr id="135" name=""/>
            <p:cNvGrpSpPr/>
            <p:nvPr/>
          </p:nvGrpSpPr>
          <p:grpSpPr>
            <a:xfrm>
              <a:off x="3330720" y="2711520"/>
              <a:ext cx="1197720" cy="1018440"/>
              <a:chOff x="3330720" y="2711520"/>
              <a:chExt cx="1197720" cy="1018440"/>
            </a:xfrm>
          </p:grpSpPr>
          <p:sp>
            <p:nvSpPr>
              <p:cNvPr id="136" name=""/>
              <p:cNvSpPr/>
              <p:nvPr/>
            </p:nvSpPr>
            <p:spPr>
              <a:xfrm>
                <a:off x="3330720" y="2711520"/>
                <a:ext cx="59940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30120" y="2711520"/>
                <a:ext cx="59832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526640" y="3730680"/>
              <a:ext cx="1198080" cy="1019160"/>
              <a:chOff x="4526640" y="3730680"/>
              <a:chExt cx="1198080" cy="1019160"/>
            </a:xfrm>
          </p:grpSpPr>
          <p:sp>
            <p:nvSpPr>
              <p:cNvPr id="139" name=""/>
              <p:cNvSpPr/>
              <p:nvPr/>
            </p:nvSpPr>
            <p:spPr>
              <a:xfrm>
                <a:off x="4526640" y="373068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25680" y="3731400"/>
                <a:ext cx="599040" cy="1018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1260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725080" y="271152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5560" y="271152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23520" y="3730680"/>
              <a:ext cx="59832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26520" y="3730680"/>
              <a:ext cx="597600" cy="1019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1260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20560" y="2687760"/>
            <a:ext cx="2084400" cy="208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840" y="37288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562040" y="247176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562040" y="2839680"/>
            <a:ext cx="536760" cy="879480"/>
          </a:xfrm>
          <a:prstGeom prst="line">
            <a:avLst/>
          </a:prstGeom>
          <a:ln w="1260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091520" y="3268080"/>
            <a:ext cx="923400" cy="92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85"/>
                </a:moveTo>
                <a:arcTo wR="10800" hR="10800" stAng="-10763378" swAng="3529435"/>
                <a:lnTo>
                  <a:pt x="10800" y="10800"/>
                </a:lnTo>
                <a:close/>
              </a:path>
              <a:path fill="none" w="21600" h="21600">
                <a:moveTo>
                  <a:pt x="1" y="10685"/>
                </a:moveTo>
                <a:arcTo wR="10800" hR="10800" stAng="-10763378" swAng="3529435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73240" y="2817720"/>
            <a:ext cx="50760" cy="50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18600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73360" y="368604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26080" y="3686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16840" y="368604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82720" y="2707200"/>
            <a:ext cx="2390760" cy="2040840"/>
            <a:chOff x="5382720" y="2707200"/>
            <a:chExt cx="2390760" cy="2040840"/>
          </a:xfrm>
        </p:grpSpPr>
        <p:grpSp>
          <p:nvGrpSpPr>
            <p:cNvPr id="156" name=""/>
            <p:cNvGrpSpPr/>
            <p:nvPr/>
          </p:nvGrpSpPr>
          <p:grpSpPr>
            <a:xfrm>
              <a:off x="6579720" y="3726360"/>
              <a:ext cx="1193760" cy="1021680"/>
              <a:chOff x="6579720" y="3726360"/>
              <a:chExt cx="1193760" cy="1021680"/>
            </a:xfrm>
          </p:grpSpPr>
          <p:sp>
            <p:nvSpPr>
              <p:cNvPr id="157" name=""/>
              <p:cNvSpPr/>
              <p:nvPr/>
            </p:nvSpPr>
            <p:spPr>
              <a:xfrm flipH="1" flipV="1">
                <a:off x="7176600" y="3726360"/>
                <a:ext cx="596520" cy="1020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6579360" y="3727080"/>
                <a:ext cx="596520" cy="1020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382720" y="2707200"/>
              <a:ext cx="1195920" cy="1021320"/>
              <a:chOff x="5382720" y="2707200"/>
              <a:chExt cx="1195920" cy="102132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5982480" y="2707560"/>
                <a:ext cx="596160" cy="1020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5382720" y="2706840"/>
                <a:ext cx="596160" cy="1020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4189680" y="3727080"/>
            <a:ext cx="1193400" cy="1020600"/>
            <a:chOff x="4189680" y="3727080"/>
            <a:chExt cx="1193400" cy="1020600"/>
          </a:xfrm>
        </p:grpSpPr>
        <p:sp>
          <p:nvSpPr>
            <p:cNvPr id="163" name=""/>
            <p:cNvSpPr/>
            <p:nvPr/>
          </p:nvSpPr>
          <p:spPr>
            <a:xfrm flipH="1" flipV="1">
              <a:off x="4786200" y="3726720"/>
              <a:ext cx="596520" cy="1019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189680" y="3727440"/>
              <a:ext cx="596160" cy="1019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 flipV="1">
            <a:off x="3587760" y="2709720"/>
            <a:ext cx="596880" cy="10209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1042" y="1591"/>
                </a:lnTo>
                <a:lnTo>
                  <a:pt x="1958" y="3108"/>
                </a:lnTo>
                <a:lnTo>
                  <a:pt x="3000" y="4625"/>
                </a:lnTo>
                <a:lnTo>
                  <a:pt x="3958" y="6253"/>
                </a:lnTo>
                <a:lnTo>
                  <a:pt x="5042" y="7660"/>
                </a:lnTo>
                <a:lnTo>
                  <a:pt x="5958" y="9029"/>
                </a:lnTo>
                <a:lnTo>
                  <a:pt x="7000" y="10416"/>
                </a:lnTo>
                <a:lnTo>
                  <a:pt x="7958" y="11730"/>
                </a:lnTo>
                <a:lnTo>
                  <a:pt x="9000" y="12969"/>
                </a:lnTo>
                <a:lnTo>
                  <a:pt x="10042" y="14080"/>
                </a:lnTo>
                <a:lnTo>
                  <a:pt x="11000" y="15134"/>
                </a:lnTo>
                <a:lnTo>
                  <a:pt x="12000" y="16189"/>
                </a:lnTo>
                <a:lnTo>
                  <a:pt x="12958" y="16984"/>
                </a:lnTo>
                <a:lnTo>
                  <a:pt x="14042" y="17743"/>
                </a:lnTo>
                <a:lnTo>
                  <a:pt x="14958" y="18464"/>
                </a:lnTo>
                <a:lnTo>
                  <a:pt x="16000" y="19019"/>
                </a:lnTo>
                <a:lnTo>
                  <a:pt x="16958" y="19408"/>
                </a:lnTo>
                <a:lnTo>
                  <a:pt x="18042" y="19759"/>
                </a:lnTo>
                <a:lnTo>
                  <a:pt x="18917" y="19944"/>
                </a:lnTo>
                <a:lnTo>
                  <a:pt x="19958" y="199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330720" y="2709720"/>
            <a:ext cx="266400" cy="247680"/>
          </a:xfrm>
          <a:custGeom>
            <a:avLst/>
            <a:gdLst/>
            <a:ahLst/>
            <a:rect l="l" t="t" r="r" b="b"/>
            <a:pathLst>
              <a:path w="56" h="68">
                <a:moveTo>
                  <a:pt x="56" y="0"/>
                </a:moveTo>
                <a:lnTo>
                  <a:pt x="50" y="14"/>
                </a:lnTo>
                <a:lnTo>
                  <a:pt x="44" y="26"/>
                </a:lnTo>
                <a:lnTo>
                  <a:pt x="38" y="36"/>
                </a:lnTo>
                <a:lnTo>
                  <a:pt x="32" y="46"/>
                </a:lnTo>
                <a:lnTo>
                  <a:pt x="25" y="54"/>
                </a:lnTo>
                <a:lnTo>
                  <a:pt x="19" y="60"/>
                </a:lnTo>
                <a:lnTo>
                  <a:pt x="13" y="65"/>
                </a:lnTo>
                <a:lnTo>
                  <a:pt x="7" y="67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7768440" y="2957400"/>
            <a:ext cx="328680" cy="773280"/>
          </a:xfrm>
          <a:custGeom>
            <a:avLst/>
            <a:gdLst/>
            <a:ahLst/>
            <a:rect l="l" t="t" r="r" b="b"/>
            <a:pathLst>
              <a:path w="69" h="213">
                <a:moveTo>
                  <a:pt x="69" y="0"/>
                </a:moveTo>
                <a:lnTo>
                  <a:pt x="57" y="44"/>
                </a:lnTo>
                <a:lnTo>
                  <a:pt x="44" y="88"/>
                </a:lnTo>
                <a:lnTo>
                  <a:pt x="32" y="127"/>
                </a:lnTo>
                <a:lnTo>
                  <a:pt x="25" y="146"/>
                </a:lnTo>
                <a:lnTo>
                  <a:pt x="19" y="165"/>
                </a:lnTo>
                <a:lnTo>
                  <a:pt x="13" y="182"/>
                </a:lnTo>
                <a:lnTo>
                  <a:pt x="7" y="198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7440" y="2782800"/>
            <a:ext cx="261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8600" y="2787480"/>
            <a:ext cx="0" cy="9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094400" y="3268800"/>
            <a:ext cx="921240" cy="92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40" y="1312"/>
                </a:moveTo>
                <a:arcTo wR="10800" hR="10800" stAng="-7112303" swAng="3295984"/>
                <a:lnTo>
                  <a:pt x="10800" y="10800"/>
                </a:lnTo>
                <a:close/>
              </a:path>
              <a:path fill="none" w="21600" h="21600">
                <a:moveTo>
                  <a:pt x="5640" y="1312"/>
                </a:moveTo>
                <a:arcTo wR="10800" hR="10800" stAng="-7112303" swAng="3295984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73360" y="368604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26080" y="3686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16840" y="368604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89400" y="392760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r>
              <a:rPr b="0" i="1" lang="es-ES" sz="1800" spc="-1" strike="noStrike">
                <a:solidFill>
                  <a:srgbClr val="009999"/>
                </a:solidFill>
                <a:latin typeface="Times New Roman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37160" y="39276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6720" y="39276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420040" y="39276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993400" y="2957400"/>
            <a:ext cx="328680" cy="773280"/>
          </a:xfrm>
          <a:custGeom>
            <a:avLst/>
            <a:gdLst/>
            <a:ahLst/>
            <a:rect l="l" t="t" r="r" b="b"/>
            <a:pathLst>
              <a:path w="69" h="213">
                <a:moveTo>
                  <a:pt x="69" y="0"/>
                </a:moveTo>
                <a:lnTo>
                  <a:pt x="57" y="44"/>
                </a:lnTo>
                <a:lnTo>
                  <a:pt x="44" y="88"/>
                </a:lnTo>
                <a:lnTo>
                  <a:pt x="32" y="127"/>
                </a:lnTo>
                <a:lnTo>
                  <a:pt x="25" y="146"/>
                </a:lnTo>
                <a:lnTo>
                  <a:pt x="19" y="165"/>
                </a:lnTo>
                <a:lnTo>
                  <a:pt x="13" y="182"/>
                </a:lnTo>
                <a:lnTo>
                  <a:pt x="7" y="198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46360" y="392760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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5680" y="29192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96920" y="2755800"/>
            <a:ext cx="50760" cy="50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54E-DDD1-4590-9C64-038AF3C33D67}" type="slidenum">
              <a:t>12</a:t>
            </a:fld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42840" y="1726560"/>
            <a:ext cx="725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uando una seña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oid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procesada por un sistema lineal el resultado es otra seña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oid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te 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ferente 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F02-8DFC-4284-AAF0-B923A43B0275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452760" y="565200"/>
            <a:ext cx="2235240" cy="198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95520" y="1558800"/>
            <a:ext cx="95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89440" y="1558800"/>
            <a:ext cx="95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91080" y="133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68600" y="12582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s-ES_tradnl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75400" y="12582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3457440"/>
            <a:ext cx="54500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36800" y="304956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17680" y="287172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18280" y="325908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940040" y="3267000"/>
            <a:ext cx="4793400" cy="383760"/>
            <a:chOff x="1940040" y="3267000"/>
            <a:chExt cx="4793400" cy="383760"/>
          </a:xfrm>
        </p:grpSpPr>
        <p:grpSp>
          <p:nvGrpSpPr>
            <p:cNvPr id="194" name=""/>
            <p:cNvGrpSpPr/>
            <p:nvPr/>
          </p:nvGrpSpPr>
          <p:grpSpPr>
            <a:xfrm>
              <a:off x="1940040" y="3267000"/>
              <a:ext cx="1197720" cy="191880"/>
              <a:chOff x="1940040" y="3267000"/>
              <a:chExt cx="1197720" cy="191880"/>
            </a:xfrm>
          </p:grpSpPr>
          <p:sp>
            <p:nvSpPr>
              <p:cNvPr id="195" name=""/>
              <p:cNvSpPr/>
              <p:nvPr/>
            </p:nvSpPr>
            <p:spPr>
              <a:xfrm>
                <a:off x="1940040" y="3267000"/>
                <a:ext cx="59940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539440" y="3267000"/>
                <a:ext cx="59832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135960" y="3458880"/>
              <a:ext cx="1198080" cy="191880"/>
              <a:chOff x="3135960" y="3458880"/>
              <a:chExt cx="1198080" cy="191880"/>
            </a:xfrm>
          </p:grpSpPr>
          <p:sp>
            <p:nvSpPr>
              <p:cNvPr id="198" name=""/>
              <p:cNvSpPr/>
              <p:nvPr/>
            </p:nvSpPr>
            <p:spPr>
              <a:xfrm>
                <a:off x="3135960" y="3458880"/>
                <a:ext cx="59904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35000" y="3458880"/>
                <a:ext cx="59904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4334400" y="3267000"/>
              <a:ext cx="59832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34880" y="3267000"/>
              <a:ext cx="59760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32840" y="3458880"/>
              <a:ext cx="59832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35840" y="3458880"/>
              <a:ext cx="59760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066680" y="5494320"/>
            <a:ext cx="6147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36800" y="4324320"/>
            <a:ext cx="0" cy="209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6680" y="3952800"/>
            <a:ext cx="585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18280" y="529596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33880" y="545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617840" y="4675320"/>
            <a:ext cx="5088960" cy="1634760"/>
            <a:chOff x="1617840" y="4675320"/>
            <a:chExt cx="5088960" cy="1634760"/>
          </a:xfrm>
        </p:grpSpPr>
        <p:grpSp>
          <p:nvGrpSpPr>
            <p:cNvPr id="210" name=""/>
            <p:cNvGrpSpPr/>
            <p:nvPr/>
          </p:nvGrpSpPr>
          <p:grpSpPr>
            <a:xfrm>
              <a:off x="5189400" y="5491440"/>
              <a:ext cx="1193760" cy="818640"/>
              <a:chOff x="5189400" y="5491440"/>
              <a:chExt cx="1193760" cy="818640"/>
            </a:xfrm>
          </p:grpSpPr>
          <p:sp>
            <p:nvSpPr>
              <p:cNvPr id="211" name=""/>
              <p:cNvSpPr/>
              <p:nvPr/>
            </p:nvSpPr>
            <p:spPr>
              <a:xfrm flipH="1" flipV="1">
                <a:off x="5786280" y="5491440"/>
                <a:ext cx="596520" cy="81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5189040" y="5492160"/>
                <a:ext cx="596520" cy="81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992040" y="4675320"/>
              <a:ext cx="1195560" cy="818640"/>
              <a:chOff x="3992040" y="4675320"/>
              <a:chExt cx="1195560" cy="818640"/>
            </a:xfrm>
          </p:grpSpPr>
          <p:sp>
            <p:nvSpPr>
              <p:cNvPr id="214" name=""/>
              <p:cNvSpPr/>
              <p:nvPr/>
            </p:nvSpPr>
            <p:spPr>
              <a:xfrm flipH="1" flipV="1">
                <a:off x="4591440" y="4676040"/>
                <a:ext cx="596160" cy="81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3992040" y="4675320"/>
                <a:ext cx="596160" cy="81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H="1" flipV="1">
              <a:off x="3395520" y="5492160"/>
              <a:ext cx="596880" cy="816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2798640" y="5493240"/>
              <a:ext cx="596880" cy="816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2197080" y="4677840"/>
              <a:ext cx="596880" cy="81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1939320" y="4677120"/>
              <a:ext cx="266760" cy="19836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50" y="14"/>
                  </a:lnTo>
                  <a:lnTo>
                    <a:pt x="44" y="26"/>
                  </a:lnTo>
                  <a:lnTo>
                    <a:pt x="38" y="36"/>
                  </a:lnTo>
                  <a:lnTo>
                    <a:pt x="32" y="46"/>
                  </a:lnTo>
                  <a:lnTo>
                    <a:pt x="25" y="54"/>
                  </a:lnTo>
                  <a:lnTo>
                    <a:pt x="19" y="60"/>
                  </a:lnTo>
                  <a:lnTo>
                    <a:pt x="13" y="65"/>
                  </a:lnTo>
                  <a:lnTo>
                    <a:pt x="7" y="67"/>
                  </a:lnTo>
                  <a:lnTo>
                    <a:pt x="0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6377760" y="4875480"/>
              <a:ext cx="328680" cy="61884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69" y="0"/>
                  </a:moveTo>
                  <a:lnTo>
                    <a:pt x="57" y="44"/>
                  </a:lnTo>
                  <a:lnTo>
                    <a:pt x="44" y="88"/>
                  </a:lnTo>
                  <a:lnTo>
                    <a:pt x="32" y="127"/>
                  </a:lnTo>
                  <a:lnTo>
                    <a:pt x="25" y="146"/>
                  </a:lnTo>
                  <a:lnTo>
                    <a:pt x="19" y="165"/>
                  </a:lnTo>
                  <a:lnTo>
                    <a:pt x="13" y="182"/>
                  </a:lnTo>
                  <a:lnTo>
                    <a:pt x="7" y="198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1617840" y="4875480"/>
              <a:ext cx="328320" cy="61884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69" y="0"/>
                  </a:moveTo>
                  <a:lnTo>
                    <a:pt x="57" y="44"/>
                  </a:lnTo>
                  <a:lnTo>
                    <a:pt x="44" y="88"/>
                  </a:lnTo>
                  <a:lnTo>
                    <a:pt x="32" y="127"/>
                  </a:lnTo>
                  <a:lnTo>
                    <a:pt x="25" y="146"/>
                  </a:lnTo>
                  <a:lnTo>
                    <a:pt x="19" y="165"/>
                  </a:lnTo>
                  <a:lnTo>
                    <a:pt x="13" y="182"/>
                  </a:lnTo>
                  <a:lnTo>
                    <a:pt x="7" y="198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319040" y="54514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69920" y="4299120"/>
            <a:ext cx="45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6680" y="2690640"/>
            <a:ext cx="585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7040" y="443556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Symbol"/>
                <a:ea typeface="Symbol"/>
              </a:rPr>
              <a:t></a:t>
            </a:r>
            <a:r>
              <a:rPr b="0" lang="es-E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9999"/>
                </a:solidFill>
                <a:latin typeface="Times New Roman"/>
              </a:rPr>
              <a:t>&g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35400" y="3114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4880" y="312912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35400" y="5151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54880" y="516564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99080" y="545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33880" y="344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99080" y="344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848-F243-4A2A-9DE6-2A78FB07F43C}" type="slidenum">
              <a:t>14</a:t>
            </a:fld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452760" y="565200"/>
            <a:ext cx="2235240" cy="198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95520" y="1558800"/>
            <a:ext cx="95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89440" y="1558800"/>
            <a:ext cx="95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91080" y="133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68600" y="12582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s-ES_tradnl" sz="28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75400" y="12582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s-ES_tradnl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63640" y="3457440"/>
            <a:ext cx="54500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936800" y="3049560"/>
            <a:ext cx="0" cy="757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17680" y="2871720"/>
            <a:ext cx="45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18280" y="325908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940040" y="3267000"/>
            <a:ext cx="4793400" cy="383760"/>
            <a:chOff x="1940040" y="3267000"/>
            <a:chExt cx="4793400" cy="383760"/>
          </a:xfrm>
        </p:grpSpPr>
        <p:grpSp>
          <p:nvGrpSpPr>
            <p:cNvPr id="244" name=""/>
            <p:cNvGrpSpPr/>
            <p:nvPr/>
          </p:nvGrpSpPr>
          <p:grpSpPr>
            <a:xfrm>
              <a:off x="1940040" y="3267000"/>
              <a:ext cx="1197720" cy="191880"/>
              <a:chOff x="1940040" y="3267000"/>
              <a:chExt cx="1197720" cy="191880"/>
            </a:xfrm>
          </p:grpSpPr>
          <p:sp>
            <p:nvSpPr>
              <p:cNvPr id="245" name=""/>
              <p:cNvSpPr/>
              <p:nvPr/>
            </p:nvSpPr>
            <p:spPr>
              <a:xfrm>
                <a:off x="1940040" y="3267000"/>
                <a:ext cx="59940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539440" y="3267000"/>
                <a:ext cx="59832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135960" y="3458880"/>
              <a:ext cx="1198080" cy="191880"/>
              <a:chOff x="3135960" y="3458880"/>
              <a:chExt cx="1198080" cy="191880"/>
            </a:xfrm>
          </p:grpSpPr>
          <p:sp>
            <p:nvSpPr>
              <p:cNvPr id="248" name=""/>
              <p:cNvSpPr/>
              <p:nvPr/>
            </p:nvSpPr>
            <p:spPr>
              <a:xfrm>
                <a:off x="3135960" y="3458880"/>
                <a:ext cx="59904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35000" y="3458880"/>
                <a:ext cx="599040" cy="191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334400" y="3267000"/>
              <a:ext cx="59832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34880" y="3267000"/>
              <a:ext cx="59760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32840" y="3458880"/>
              <a:ext cx="59832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35840" y="3458880"/>
              <a:ext cx="597600" cy="191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235400" y="3114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54880" y="312912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5494320"/>
            <a:ext cx="6147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936800" y="4324320"/>
            <a:ext cx="0" cy="209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6680" y="3952800"/>
            <a:ext cx="585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118280" y="5295960"/>
            <a:ext cx="26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35400" y="5151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54880" y="516564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260440" y="4675320"/>
            <a:ext cx="1194120" cy="819000"/>
            <a:chOff x="2260440" y="4675320"/>
            <a:chExt cx="1194120" cy="819000"/>
          </a:xfrm>
        </p:grpSpPr>
        <p:sp>
          <p:nvSpPr>
            <p:cNvPr id="263" name=""/>
            <p:cNvSpPr/>
            <p:nvPr/>
          </p:nvSpPr>
          <p:spPr>
            <a:xfrm>
              <a:off x="2260440" y="4676040"/>
              <a:ext cx="596520" cy="818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58040" y="4675320"/>
              <a:ext cx="596520" cy="818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456000" y="5491080"/>
            <a:ext cx="1195200" cy="819360"/>
            <a:chOff x="3456000" y="5491080"/>
            <a:chExt cx="1195200" cy="819360"/>
          </a:xfrm>
        </p:grpSpPr>
        <p:sp>
          <p:nvSpPr>
            <p:cNvPr id="266" name=""/>
            <p:cNvSpPr/>
            <p:nvPr/>
          </p:nvSpPr>
          <p:spPr>
            <a:xfrm>
              <a:off x="3456000" y="5491080"/>
              <a:ext cx="595800" cy="818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55400" y="5491800"/>
              <a:ext cx="595800" cy="818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0" y="4676760"/>
            <a:ext cx="597240" cy="8161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9981"/>
                </a:moveTo>
                <a:lnTo>
                  <a:pt x="1042" y="18390"/>
                </a:lnTo>
                <a:lnTo>
                  <a:pt x="1958" y="16873"/>
                </a:lnTo>
                <a:lnTo>
                  <a:pt x="3000" y="15356"/>
                </a:lnTo>
                <a:lnTo>
                  <a:pt x="3958" y="13747"/>
                </a:lnTo>
                <a:lnTo>
                  <a:pt x="5042" y="12340"/>
                </a:lnTo>
                <a:lnTo>
                  <a:pt x="5958" y="10953"/>
                </a:lnTo>
                <a:lnTo>
                  <a:pt x="7000" y="9584"/>
                </a:lnTo>
                <a:lnTo>
                  <a:pt x="7958" y="8252"/>
                </a:lnTo>
                <a:lnTo>
                  <a:pt x="9000" y="7012"/>
                </a:lnTo>
                <a:lnTo>
                  <a:pt x="10042" y="5920"/>
                </a:lnTo>
                <a:lnTo>
                  <a:pt x="11000" y="4847"/>
                </a:lnTo>
                <a:lnTo>
                  <a:pt x="12000" y="3793"/>
                </a:lnTo>
                <a:lnTo>
                  <a:pt x="12958" y="3016"/>
                </a:lnTo>
                <a:lnTo>
                  <a:pt x="14042" y="2239"/>
                </a:lnTo>
                <a:lnTo>
                  <a:pt x="14958" y="1536"/>
                </a:lnTo>
                <a:lnTo>
                  <a:pt x="16000" y="962"/>
                </a:lnTo>
                <a:lnTo>
                  <a:pt x="16958" y="592"/>
                </a:lnTo>
                <a:lnTo>
                  <a:pt x="18042" y="222"/>
                </a:lnTo>
                <a:lnTo>
                  <a:pt x="18917" y="37"/>
                </a:lnTo>
                <a:lnTo>
                  <a:pt x="199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48440" y="4675320"/>
            <a:ext cx="596880" cy="815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58" y="19981"/>
                </a:moveTo>
                <a:lnTo>
                  <a:pt x="18958" y="18390"/>
                </a:lnTo>
                <a:lnTo>
                  <a:pt x="18042" y="16873"/>
                </a:lnTo>
                <a:lnTo>
                  <a:pt x="17000" y="15356"/>
                </a:lnTo>
                <a:lnTo>
                  <a:pt x="16042" y="13747"/>
                </a:lnTo>
                <a:lnTo>
                  <a:pt x="14958" y="12340"/>
                </a:lnTo>
                <a:lnTo>
                  <a:pt x="14042" y="10953"/>
                </a:lnTo>
                <a:lnTo>
                  <a:pt x="12958" y="9584"/>
                </a:lnTo>
                <a:lnTo>
                  <a:pt x="12000" y="8252"/>
                </a:lnTo>
                <a:lnTo>
                  <a:pt x="11000" y="7012"/>
                </a:lnTo>
                <a:lnTo>
                  <a:pt x="10042" y="5920"/>
                </a:lnTo>
                <a:lnTo>
                  <a:pt x="9000" y="4847"/>
                </a:lnTo>
                <a:lnTo>
                  <a:pt x="8000" y="3793"/>
                </a:lnTo>
                <a:lnTo>
                  <a:pt x="7000" y="3016"/>
                </a:lnTo>
                <a:lnTo>
                  <a:pt x="6042" y="2239"/>
                </a:lnTo>
                <a:lnTo>
                  <a:pt x="5042" y="1536"/>
                </a:lnTo>
                <a:lnTo>
                  <a:pt x="4000" y="962"/>
                </a:lnTo>
                <a:lnTo>
                  <a:pt x="3000" y="592"/>
                </a:lnTo>
                <a:lnTo>
                  <a:pt x="2042" y="222"/>
                </a:lnTo>
                <a:lnTo>
                  <a:pt x="1042" y="37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50000" y="5489640"/>
            <a:ext cx="596880" cy="817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1042" y="1591"/>
                </a:lnTo>
                <a:lnTo>
                  <a:pt x="1958" y="3108"/>
                </a:lnTo>
                <a:lnTo>
                  <a:pt x="3000" y="4625"/>
                </a:lnTo>
                <a:lnTo>
                  <a:pt x="3958" y="6253"/>
                </a:lnTo>
                <a:lnTo>
                  <a:pt x="5042" y="7660"/>
                </a:lnTo>
                <a:lnTo>
                  <a:pt x="5958" y="9029"/>
                </a:lnTo>
                <a:lnTo>
                  <a:pt x="7000" y="10416"/>
                </a:lnTo>
                <a:lnTo>
                  <a:pt x="7958" y="11730"/>
                </a:lnTo>
                <a:lnTo>
                  <a:pt x="9000" y="12969"/>
                </a:lnTo>
                <a:lnTo>
                  <a:pt x="10042" y="14080"/>
                </a:lnTo>
                <a:lnTo>
                  <a:pt x="11000" y="15134"/>
                </a:lnTo>
                <a:lnTo>
                  <a:pt x="12000" y="16189"/>
                </a:lnTo>
                <a:lnTo>
                  <a:pt x="12958" y="16984"/>
                </a:lnTo>
                <a:lnTo>
                  <a:pt x="14042" y="17743"/>
                </a:lnTo>
                <a:lnTo>
                  <a:pt x="14958" y="18464"/>
                </a:lnTo>
                <a:lnTo>
                  <a:pt x="16000" y="19019"/>
                </a:lnTo>
                <a:lnTo>
                  <a:pt x="16958" y="19408"/>
                </a:lnTo>
                <a:lnTo>
                  <a:pt x="18042" y="19759"/>
                </a:lnTo>
                <a:lnTo>
                  <a:pt x="18917" y="19944"/>
                </a:lnTo>
                <a:lnTo>
                  <a:pt x="19958" y="199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37160" y="6108840"/>
            <a:ext cx="266760" cy="198360"/>
          </a:xfrm>
          <a:custGeom>
            <a:avLst/>
            <a:gdLst/>
            <a:ahLst/>
            <a:rect l="l" t="t" r="r" b="b"/>
            <a:pathLst>
              <a:path w="56" h="68">
                <a:moveTo>
                  <a:pt x="56" y="0"/>
                </a:moveTo>
                <a:lnTo>
                  <a:pt x="50" y="14"/>
                </a:lnTo>
                <a:lnTo>
                  <a:pt x="44" y="26"/>
                </a:lnTo>
                <a:lnTo>
                  <a:pt x="38" y="36"/>
                </a:lnTo>
                <a:lnTo>
                  <a:pt x="32" y="46"/>
                </a:lnTo>
                <a:lnTo>
                  <a:pt x="25" y="54"/>
                </a:lnTo>
                <a:lnTo>
                  <a:pt x="19" y="60"/>
                </a:lnTo>
                <a:lnTo>
                  <a:pt x="13" y="65"/>
                </a:lnTo>
                <a:lnTo>
                  <a:pt x="7" y="67"/>
                </a:lnTo>
                <a:lnTo>
                  <a:pt x="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5489640"/>
            <a:ext cx="328680" cy="619200"/>
          </a:xfrm>
          <a:custGeom>
            <a:avLst/>
            <a:gdLst/>
            <a:ahLst/>
            <a:rect l="l" t="t" r="r" b="b"/>
            <a:pathLst>
              <a:path w="69" h="213">
                <a:moveTo>
                  <a:pt x="69" y="0"/>
                </a:moveTo>
                <a:lnTo>
                  <a:pt x="57" y="44"/>
                </a:lnTo>
                <a:lnTo>
                  <a:pt x="44" y="88"/>
                </a:lnTo>
                <a:lnTo>
                  <a:pt x="32" y="127"/>
                </a:lnTo>
                <a:lnTo>
                  <a:pt x="25" y="146"/>
                </a:lnTo>
                <a:lnTo>
                  <a:pt x="19" y="165"/>
                </a:lnTo>
                <a:lnTo>
                  <a:pt x="13" y="182"/>
                </a:lnTo>
                <a:lnTo>
                  <a:pt x="7" y="198"/>
                </a:lnTo>
                <a:lnTo>
                  <a:pt x="0" y="2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31920" y="54514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24040" y="4299120"/>
            <a:ext cx="45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06680" y="2690640"/>
            <a:ext cx="585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7040" y="443556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Symbol"/>
                <a:ea typeface="Symbol"/>
              </a:rPr>
              <a:t></a:t>
            </a:r>
            <a:r>
              <a:rPr b="0" lang="es-E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009999"/>
                </a:solidFill>
                <a:latin typeface="Times New Roman"/>
              </a:rPr>
              <a:t>&lt;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33880" y="545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99080" y="545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33880" y="344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99080" y="3449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Times New Roman"/>
              </a:rPr>
              <a:t>4</a:t>
            </a:r>
            <a:r>
              <a:rPr b="0" lang="es-ES" sz="1800" spc="-1" strike="noStrike">
                <a:solidFill>
                  <a:srgbClr val="009999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98A-EC57-4ED5-AD23-3E7435B5115C}" type="slidenum">
              <a:t>15</a:t>
            </a:fld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26920" y="958320"/>
            <a:ext cx="749016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mareas responden a la acción gravitatoria de la Luna y en menor medida del Sol, pero por la inercia del mar, s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trasa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respecto al ciclo diario de estos as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B6C-FA07-4C0C-8D51-F4F6C9767F4D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26920" y="1263240"/>
            <a:ext cx="74901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ercia térm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 atmosfera hace que el ciclo de temperatura ambient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tras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respecto al ciclo de irradiación so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A5F-C9C7-4D88-94D6-E70FAB4B53CD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42840" y="1726560"/>
            <a:ext cx="7258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introduc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mo el cociente entr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ali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tra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un sistema. Es función de la frec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5B9-A68B-481C-95A6-986863428FFC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826920" y="653760"/>
            <a:ext cx="74901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s variaciones de temperatura exterio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ar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son atenuadas por la pared, techo, etc. Las variacion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tacion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j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no se atenú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B48-5C96-495A-8B11-8DD3A66A7166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23720" y="1163520"/>
            <a:ext cx="82965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9999"/>
                </a:solidFill>
                <a:latin typeface="Arial"/>
              </a:rPr>
              <a:t>Introducción al concepto de función de transferencia y de impeda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C11-CA5A-412F-8B7A-B53886A93616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87480" y="958320"/>
            <a:ext cx="71690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sonidos externos agudos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on atenuados por las paredes. Los sonidos graves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j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no se atenú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EF9-D1CD-42C3-AA4F-2F0FCCD731E2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87480" y="653760"/>
            <a:ext cx="716904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 en el control de tonos de un amplificador se aplica ganancia en los graves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j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éstos se acentúan, mientras que los agudos (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no se alter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7F5-CD53-43E9-B547-A34C578D3768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54200" y="89928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rincipio se podría intentar hacer el cociente entre los valor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stantáne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 salida y la entr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684520" y="3700440"/>
            <a:ext cx="3774600" cy="1625400"/>
            <a:chOff x="2684520" y="3700440"/>
            <a:chExt cx="3774600" cy="1625400"/>
          </a:xfrm>
        </p:grpSpPr>
        <p:sp>
          <p:nvSpPr>
            <p:cNvPr id="289" name=""/>
            <p:cNvSpPr/>
            <p:nvPr/>
          </p:nvSpPr>
          <p:spPr>
            <a:xfrm>
              <a:off x="4945680" y="3700440"/>
              <a:ext cx="116388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45680" y="4504320"/>
              <a:ext cx="116388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84520" y="4127040"/>
              <a:ext cx="377460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s-ES" sz="4000" spc="-1" strike="noStrike">
                  <a:solidFill>
                    <a:srgbClr val="000000"/>
                  </a:solidFill>
                  <a:latin typeface="Times New Roman"/>
                </a:rPr>
                <a:t>  =   </a:t>
              </a:r>
              <a:r>
                <a:rPr b="1" lang="es-E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88B-2454-4F28-BED4-2E8C49D00D15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54200" y="1509120"/>
            <a:ext cx="763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 funcionaría si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n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xistier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sfa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684520" y="3700440"/>
            <a:ext cx="3774600" cy="1625400"/>
            <a:chOff x="2684520" y="3700440"/>
            <a:chExt cx="3774600" cy="1625400"/>
          </a:xfrm>
        </p:grpSpPr>
        <p:sp>
          <p:nvSpPr>
            <p:cNvPr id="294" name=""/>
            <p:cNvSpPr/>
            <p:nvPr/>
          </p:nvSpPr>
          <p:spPr>
            <a:xfrm>
              <a:off x="4945680" y="3700440"/>
              <a:ext cx="116388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45680" y="4504320"/>
              <a:ext cx="116388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84520" y="4127040"/>
              <a:ext cx="3774600" cy="8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4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s-ES" sz="4000" spc="-1" strike="noStrike">
                  <a:solidFill>
                    <a:srgbClr val="000000"/>
                  </a:solidFill>
                  <a:latin typeface="Times New Roman"/>
                </a:rPr>
                <a:t>  =   </a:t>
              </a:r>
              <a:r>
                <a:rPr b="1" lang="es-E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760-5207-4D6E-8447-DF65CC7CFF8D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522600" y="5292720"/>
            <a:ext cx="596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24200" y="1784520"/>
            <a:ext cx="5968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38240" y="2584440"/>
            <a:ext cx="5986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54240" y="3429000"/>
            <a:ext cx="693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67600" y="3198960"/>
            <a:ext cx="3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469880" y="2514600"/>
            <a:ext cx="6098760" cy="1830240"/>
            <a:chOff x="1469880" y="2514600"/>
            <a:chExt cx="6098760" cy="1830240"/>
          </a:xfrm>
        </p:grpSpPr>
        <p:grpSp>
          <p:nvGrpSpPr>
            <p:cNvPr id="303" name=""/>
            <p:cNvGrpSpPr/>
            <p:nvPr/>
          </p:nvGrpSpPr>
          <p:grpSpPr>
            <a:xfrm>
              <a:off x="1469880" y="2514600"/>
              <a:ext cx="1523520" cy="914400"/>
              <a:chOff x="1469880" y="2514600"/>
              <a:chExt cx="1523520" cy="914400"/>
            </a:xfrm>
          </p:grpSpPr>
          <p:sp>
            <p:nvSpPr>
              <p:cNvPr id="304" name=""/>
              <p:cNvSpPr/>
              <p:nvPr/>
            </p:nvSpPr>
            <p:spPr>
              <a:xfrm>
                <a:off x="1469880" y="2514600"/>
                <a:ext cx="762480" cy="91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32360" y="2514600"/>
                <a:ext cx="761040" cy="91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991600" y="3429720"/>
              <a:ext cx="1524240" cy="915120"/>
              <a:chOff x="2991600" y="3429720"/>
              <a:chExt cx="1524240" cy="915120"/>
            </a:xfrm>
          </p:grpSpPr>
          <p:sp>
            <p:nvSpPr>
              <p:cNvPr id="307" name=""/>
              <p:cNvSpPr/>
              <p:nvPr/>
            </p:nvSpPr>
            <p:spPr>
              <a:xfrm>
                <a:off x="2991600" y="3429720"/>
                <a:ext cx="762120" cy="91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53720" y="3430440"/>
                <a:ext cx="762120" cy="914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516200" y="2514600"/>
              <a:ext cx="761040" cy="91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80120" y="2514600"/>
              <a:ext cx="760320" cy="91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40800" y="3429720"/>
              <a:ext cx="761040" cy="91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08320" y="3429720"/>
              <a:ext cx="760320" cy="915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80680" y="1599840"/>
            <a:ext cx="6082920" cy="3663360"/>
            <a:chOff x="1480680" y="1599840"/>
            <a:chExt cx="6082920" cy="3663360"/>
          </a:xfrm>
        </p:grpSpPr>
        <p:grpSp>
          <p:nvGrpSpPr>
            <p:cNvPr id="314" name=""/>
            <p:cNvGrpSpPr/>
            <p:nvPr/>
          </p:nvGrpSpPr>
          <p:grpSpPr>
            <a:xfrm>
              <a:off x="6040080" y="3427560"/>
              <a:ext cx="1523520" cy="1835640"/>
              <a:chOff x="6040080" y="3427560"/>
              <a:chExt cx="1523520" cy="1835640"/>
            </a:xfrm>
          </p:grpSpPr>
          <p:sp>
            <p:nvSpPr>
              <p:cNvPr id="315" name=""/>
              <p:cNvSpPr/>
              <p:nvPr/>
            </p:nvSpPr>
            <p:spPr>
              <a:xfrm flipH="1" flipV="1">
                <a:off x="6802560" y="3427200"/>
                <a:ext cx="761040" cy="1834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6040080" y="3428640"/>
                <a:ext cx="761040" cy="1834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511880" y="1599840"/>
              <a:ext cx="1526040" cy="1834920"/>
              <a:chOff x="4511880" y="1599840"/>
              <a:chExt cx="1526040" cy="1834920"/>
            </a:xfrm>
          </p:grpSpPr>
          <p:sp>
            <p:nvSpPr>
              <p:cNvPr id="318" name=""/>
              <p:cNvSpPr/>
              <p:nvPr/>
            </p:nvSpPr>
            <p:spPr>
              <a:xfrm flipH="1" flipV="1">
                <a:off x="5276880" y="1600920"/>
                <a:ext cx="760680" cy="1833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4511520" y="1599480"/>
                <a:ext cx="760680" cy="1833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 flipH="1" flipV="1">
              <a:off x="3750480" y="3431160"/>
              <a:ext cx="761760" cy="1827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2988720" y="3434400"/>
              <a:ext cx="761760" cy="1828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flipV="1">
              <a:off x="2220840" y="1607400"/>
              <a:ext cx="761760" cy="1831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1891440" y="1607400"/>
              <a:ext cx="340200" cy="44424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50" y="14"/>
                  </a:lnTo>
                  <a:lnTo>
                    <a:pt x="44" y="26"/>
                  </a:lnTo>
                  <a:lnTo>
                    <a:pt x="38" y="36"/>
                  </a:lnTo>
                  <a:lnTo>
                    <a:pt x="32" y="46"/>
                  </a:lnTo>
                  <a:lnTo>
                    <a:pt x="25" y="54"/>
                  </a:lnTo>
                  <a:lnTo>
                    <a:pt x="19" y="60"/>
                  </a:lnTo>
                  <a:lnTo>
                    <a:pt x="13" y="65"/>
                  </a:lnTo>
                  <a:lnTo>
                    <a:pt x="7" y="67"/>
                  </a:lnTo>
                  <a:lnTo>
                    <a:pt x="0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1480320" y="2050920"/>
              <a:ext cx="419400" cy="138708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69" y="0"/>
                  </a:moveTo>
                  <a:lnTo>
                    <a:pt x="57" y="44"/>
                  </a:lnTo>
                  <a:lnTo>
                    <a:pt x="44" y="88"/>
                  </a:lnTo>
                  <a:lnTo>
                    <a:pt x="32" y="127"/>
                  </a:lnTo>
                  <a:lnTo>
                    <a:pt x="25" y="146"/>
                  </a:lnTo>
                  <a:lnTo>
                    <a:pt x="19" y="165"/>
                  </a:lnTo>
                  <a:lnTo>
                    <a:pt x="13" y="182"/>
                  </a:lnTo>
                  <a:lnTo>
                    <a:pt x="7" y="198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V="1">
            <a:off x="1965240" y="1906200"/>
            <a:ext cx="0" cy="153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3755880" y="3436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786280" y="2513160"/>
            <a:ext cx="0" cy="9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95760" y="4330800"/>
            <a:ext cx="5968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18320" y="2303640"/>
            <a:ext cx="596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78600" y="2778120"/>
            <a:ext cx="596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080" y="339552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53920" y="305604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7280" y="339552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671920" y="585720"/>
            <a:ext cx="5416560" cy="717480"/>
            <a:chOff x="2671920" y="585720"/>
            <a:chExt cx="5416560" cy="717480"/>
          </a:xfrm>
        </p:grpSpPr>
        <p:sp>
          <p:nvSpPr>
            <p:cNvPr id="335" name=""/>
            <p:cNvSpPr/>
            <p:nvPr/>
          </p:nvSpPr>
          <p:spPr>
            <a:xfrm>
              <a:off x="3861000" y="585720"/>
              <a:ext cx="585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59560" y="93348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71920" y="774720"/>
              <a:ext cx="5416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H   =   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04160" y="585720"/>
              <a:ext cx="585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02360" y="93348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04040" y="585720"/>
              <a:ext cx="5860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02600" y="93348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V="1">
            <a:off x="1476360" y="1391760"/>
            <a:ext cx="0" cy="394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253-A12D-4554-8AA7-50FFCEE17770}" type="slidenum">
              <a:t>24</a:t>
            </a:fld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54200" y="1537560"/>
            <a:ext cx="763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Habien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sfasaje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resultados dependerían del tiempo y darían valores extravag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5AB-AB0F-4EAB-95CE-90899E7A3EB6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2131920" y="557280"/>
            <a:ext cx="2193840" cy="717480"/>
            <a:chOff x="2131920" y="557280"/>
            <a:chExt cx="2193840" cy="717480"/>
          </a:xfrm>
        </p:grpSpPr>
        <p:sp>
          <p:nvSpPr>
            <p:cNvPr id="345" name=""/>
            <p:cNvSpPr/>
            <p:nvPr/>
          </p:nvSpPr>
          <p:spPr>
            <a:xfrm>
              <a:off x="2958840" y="557280"/>
              <a:ext cx="5860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57400" y="90504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1920" y="701640"/>
              <a:ext cx="2193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H 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=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136520" y="5607000"/>
            <a:ext cx="2628720" cy="717480"/>
            <a:chOff x="1136520" y="5607000"/>
            <a:chExt cx="2628720" cy="717480"/>
          </a:xfrm>
        </p:grpSpPr>
        <p:sp>
          <p:nvSpPr>
            <p:cNvPr id="349" name=""/>
            <p:cNvSpPr/>
            <p:nvPr/>
          </p:nvSpPr>
          <p:spPr>
            <a:xfrm>
              <a:off x="2044440" y="560700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43000" y="5954400"/>
              <a:ext cx="585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36520" y="5795640"/>
              <a:ext cx="2628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H 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= 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410080" y="833400"/>
            <a:ext cx="2193840" cy="717480"/>
            <a:chOff x="5410080" y="833400"/>
            <a:chExt cx="2193840" cy="717480"/>
          </a:xfrm>
        </p:grpSpPr>
        <p:sp>
          <p:nvSpPr>
            <p:cNvPr id="353" name=""/>
            <p:cNvSpPr/>
            <p:nvPr/>
          </p:nvSpPr>
          <p:spPr>
            <a:xfrm>
              <a:off x="6226200" y="833400"/>
              <a:ext cx="585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24400" y="1180800"/>
              <a:ext cx="58608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979200"/>
              <a:ext cx="2193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H 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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 =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V="1">
            <a:off x="2379600" y="1376280"/>
            <a:ext cx="75564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481040" y="2516040"/>
            <a:ext cx="6076440" cy="1800000"/>
            <a:chOff x="1481040" y="2516040"/>
            <a:chExt cx="6076440" cy="1800000"/>
          </a:xfrm>
        </p:grpSpPr>
        <p:grpSp>
          <p:nvGrpSpPr>
            <p:cNvPr id="358" name=""/>
            <p:cNvGrpSpPr/>
            <p:nvPr/>
          </p:nvGrpSpPr>
          <p:grpSpPr>
            <a:xfrm>
              <a:off x="1481040" y="2516040"/>
              <a:ext cx="1518480" cy="899280"/>
              <a:chOff x="1481040" y="2516040"/>
              <a:chExt cx="1518480" cy="899280"/>
            </a:xfrm>
          </p:grpSpPr>
          <p:sp>
            <p:nvSpPr>
              <p:cNvPr id="359" name=""/>
              <p:cNvSpPr/>
              <p:nvPr/>
            </p:nvSpPr>
            <p:spPr>
              <a:xfrm>
                <a:off x="1481040" y="2516040"/>
                <a:ext cx="759960" cy="899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41000" y="2516040"/>
                <a:ext cx="758520" cy="899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997000" y="3416040"/>
              <a:ext cx="1518480" cy="900000"/>
              <a:chOff x="2997000" y="3416040"/>
              <a:chExt cx="1518480" cy="900000"/>
            </a:xfrm>
          </p:grpSpPr>
          <p:sp>
            <p:nvSpPr>
              <p:cNvPr id="362" name=""/>
              <p:cNvSpPr/>
              <p:nvPr/>
            </p:nvSpPr>
            <p:spPr>
              <a:xfrm>
                <a:off x="2997000" y="3416040"/>
                <a:ext cx="759240" cy="899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56240" y="3416760"/>
                <a:ext cx="759240" cy="899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4516200" y="2516040"/>
              <a:ext cx="758160" cy="900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77240" y="2516040"/>
              <a:ext cx="757440" cy="900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35040" y="3416040"/>
              <a:ext cx="758160" cy="900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00040" y="3416040"/>
              <a:ext cx="757440" cy="900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0"/>
                  </a:moveTo>
                  <a:lnTo>
                    <a:pt x="18958" y="1591"/>
                  </a:lnTo>
                  <a:lnTo>
                    <a:pt x="18042" y="3108"/>
                  </a:lnTo>
                  <a:lnTo>
                    <a:pt x="17000" y="4625"/>
                  </a:lnTo>
                  <a:lnTo>
                    <a:pt x="16042" y="6253"/>
                  </a:lnTo>
                  <a:lnTo>
                    <a:pt x="14958" y="7660"/>
                  </a:lnTo>
                  <a:lnTo>
                    <a:pt x="14042" y="9029"/>
                  </a:lnTo>
                  <a:lnTo>
                    <a:pt x="12958" y="10416"/>
                  </a:lnTo>
                  <a:lnTo>
                    <a:pt x="12000" y="11730"/>
                  </a:lnTo>
                  <a:lnTo>
                    <a:pt x="11000" y="12969"/>
                  </a:lnTo>
                  <a:lnTo>
                    <a:pt x="10042" y="14080"/>
                  </a:lnTo>
                  <a:lnTo>
                    <a:pt x="9000" y="15134"/>
                  </a:lnTo>
                  <a:lnTo>
                    <a:pt x="8000" y="16189"/>
                  </a:lnTo>
                  <a:lnTo>
                    <a:pt x="7000" y="16984"/>
                  </a:lnTo>
                  <a:lnTo>
                    <a:pt x="6042" y="17743"/>
                  </a:lnTo>
                  <a:lnTo>
                    <a:pt x="5042" y="18464"/>
                  </a:lnTo>
                  <a:lnTo>
                    <a:pt x="4000" y="19019"/>
                  </a:lnTo>
                  <a:lnTo>
                    <a:pt x="3000" y="19408"/>
                  </a:lnTo>
                  <a:lnTo>
                    <a:pt x="2042" y="19759"/>
                  </a:lnTo>
                  <a:lnTo>
                    <a:pt x="1042" y="19944"/>
                  </a:lnTo>
                  <a:lnTo>
                    <a:pt x="0" y="1998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888840" y="3414600"/>
            <a:ext cx="7275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476360" y="1391760"/>
            <a:ext cx="0" cy="394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43840" y="3189240"/>
            <a:ext cx="3351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073160" y="1616040"/>
            <a:ext cx="6450840" cy="3600000"/>
            <a:chOff x="1073160" y="1616040"/>
            <a:chExt cx="6450840" cy="3600000"/>
          </a:xfrm>
        </p:grpSpPr>
        <p:grpSp>
          <p:nvGrpSpPr>
            <p:cNvPr id="372" name=""/>
            <p:cNvGrpSpPr/>
            <p:nvPr/>
          </p:nvGrpSpPr>
          <p:grpSpPr>
            <a:xfrm>
              <a:off x="5600160" y="3413160"/>
              <a:ext cx="1513080" cy="1802880"/>
              <a:chOff x="5600160" y="3413160"/>
              <a:chExt cx="1513080" cy="1802880"/>
            </a:xfrm>
          </p:grpSpPr>
          <p:sp>
            <p:nvSpPr>
              <p:cNvPr id="373" name=""/>
              <p:cNvSpPr/>
              <p:nvPr/>
            </p:nvSpPr>
            <p:spPr>
              <a:xfrm flipH="1" flipV="1">
                <a:off x="6357240" y="3413160"/>
                <a:ext cx="756000" cy="1801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5600160" y="3414600"/>
                <a:ext cx="756000" cy="1801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082760" y="1616040"/>
              <a:ext cx="1515240" cy="1802880"/>
              <a:chOff x="4082760" y="1616040"/>
              <a:chExt cx="1515240" cy="1802880"/>
            </a:xfrm>
          </p:grpSpPr>
          <p:sp>
            <p:nvSpPr>
              <p:cNvPr id="376" name=""/>
              <p:cNvSpPr/>
              <p:nvPr/>
            </p:nvSpPr>
            <p:spPr>
              <a:xfrm flipH="1" flipV="1">
                <a:off x="4842720" y="1617480"/>
                <a:ext cx="755280" cy="1801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4082760" y="1616040"/>
                <a:ext cx="755280" cy="18014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8958" y="1591"/>
                    </a:lnTo>
                    <a:lnTo>
                      <a:pt x="18042" y="3108"/>
                    </a:lnTo>
                    <a:lnTo>
                      <a:pt x="17000" y="4625"/>
                    </a:lnTo>
                    <a:lnTo>
                      <a:pt x="16042" y="6253"/>
                    </a:lnTo>
                    <a:lnTo>
                      <a:pt x="14958" y="7660"/>
                    </a:lnTo>
                    <a:lnTo>
                      <a:pt x="14042" y="9029"/>
                    </a:lnTo>
                    <a:lnTo>
                      <a:pt x="12958" y="10416"/>
                    </a:lnTo>
                    <a:lnTo>
                      <a:pt x="12000" y="11730"/>
                    </a:lnTo>
                    <a:lnTo>
                      <a:pt x="11000" y="12969"/>
                    </a:lnTo>
                    <a:lnTo>
                      <a:pt x="10042" y="14080"/>
                    </a:lnTo>
                    <a:lnTo>
                      <a:pt x="9000" y="15134"/>
                    </a:lnTo>
                    <a:lnTo>
                      <a:pt x="8000" y="16189"/>
                    </a:lnTo>
                    <a:lnTo>
                      <a:pt x="7000" y="16984"/>
                    </a:lnTo>
                    <a:lnTo>
                      <a:pt x="6042" y="17743"/>
                    </a:lnTo>
                    <a:lnTo>
                      <a:pt x="5042" y="18464"/>
                    </a:lnTo>
                    <a:lnTo>
                      <a:pt x="4000" y="19019"/>
                    </a:lnTo>
                    <a:lnTo>
                      <a:pt x="3000" y="19408"/>
                    </a:lnTo>
                    <a:lnTo>
                      <a:pt x="2042" y="19759"/>
                    </a:lnTo>
                    <a:lnTo>
                      <a:pt x="1042" y="19944"/>
                    </a:lnTo>
                    <a:lnTo>
                      <a:pt x="0" y="1998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 flipH="1" flipV="1">
              <a:off x="3325680" y="3416400"/>
              <a:ext cx="756360" cy="1797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81"/>
                  </a:moveTo>
                  <a:lnTo>
                    <a:pt x="1042" y="18390"/>
                  </a:lnTo>
                  <a:lnTo>
                    <a:pt x="1958" y="16873"/>
                  </a:lnTo>
                  <a:lnTo>
                    <a:pt x="3000" y="15356"/>
                  </a:lnTo>
                  <a:lnTo>
                    <a:pt x="3958" y="13747"/>
                  </a:lnTo>
                  <a:lnTo>
                    <a:pt x="5042" y="12340"/>
                  </a:lnTo>
                  <a:lnTo>
                    <a:pt x="5958" y="10953"/>
                  </a:lnTo>
                  <a:lnTo>
                    <a:pt x="7000" y="9584"/>
                  </a:lnTo>
                  <a:lnTo>
                    <a:pt x="7958" y="8252"/>
                  </a:lnTo>
                  <a:lnTo>
                    <a:pt x="9000" y="7012"/>
                  </a:lnTo>
                  <a:lnTo>
                    <a:pt x="10042" y="5920"/>
                  </a:lnTo>
                  <a:lnTo>
                    <a:pt x="11000" y="4847"/>
                  </a:lnTo>
                  <a:lnTo>
                    <a:pt x="12000" y="3793"/>
                  </a:lnTo>
                  <a:lnTo>
                    <a:pt x="12958" y="3016"/>
                  </a:lnTo>
                  <a:lnTo>
                    <a:pt x="14042" y="2239"/>
                  </a:lnTo>
                  <a:lnTo>
                    <a:pt x="14958" y="1536"/>
                  </a:lnTo>
                  <a:lnTo>
                    <a:pt x="16000" y="962"/>
                  </a:lnTo>
                  <a:lnTo>
                    <a:pt x="16958" y="592"/>
                  </a:lnTo>
                  <a:lnTo>
                    <a:pt x="18042" y="222"/>
                  </a:lnTo>
                  <a:lnTo>
                    <a:pt x="18917" y="37"/>
                  </a:lnTo>
                  <a:lnTo>
                    <a:pt x="199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2568960" y="3418920"/>
              <a:ext cx="756360" cy="1797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8" y="19981"/>
                  </a:moveTo>
                  <a:lnTo>
                    <a:pt x="18958" y="18390"/>
                  </a:lnTo>
                  <a:lnTo>
                    <a:pt x="18042" y="16873"/>
                  </a:lnTo>
                  <a:lnTo>
                    <a:pt x="17000" y="15356"/>
                  </a:lnTo>
                  <a:lnTo>
                    <a:pt x="16042" y="13747"/>
                  </a:lnTo>
                  <a:lnTo>
                    <a:pt x="14958" y="12340"/>
                  </a:lnTo>
                  <a:lnTo>
                    <a:pt x="14042" y="10953"/>
                  </a:lnTo>
                  <a:lnTo>
                    <a:pt x="12958" y="9584"/>
                  </a:lnTo>
                  <a:lnTo>
                    <a:pt x="12000" y="8252"/>
                  </a:lnTo>
                  <a:lnTo>
                    <a:pt x="11000" y="7012"/>
                  </a:lnTo>
                  <a:lnTo>
                    <a:pt x="10042" y="5920"/>
                  </a:lnTo>
                  <a:lnTo>
                    <a:pt x="9000" y="4847"/>
                  </a:lnTo>
                  <a:lnTo>
                    <a:pt x="8000" y="3793"/>
                  </a:lnTo>
                  <a:lnTo>
                    <a:pt x="7000" y="3016"/>
                  </a:lnTo>
                  <a:lnTo>
                    <a:pt x="6042" y="2239"/>
                  </a:lnTo>
                  <a:lnTo>
                    <a:pt x="5042" y="1536"/>
                  </a:lnTo>
                  <a:lnTo>
                    <a:pt x="4000" y="962"/>
                  </a:lnTo>
                  <a:lnTo>
                    <a:pt x="3000" y="592"/>
                  </a:lnTo>
                  <a:lnTo>
                    <a:pt x="2042" y="222"/>
                  </a:lnTo>
                  <a:lnTo>
                    <a:pt x="104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1806480" y="1620720"/>
              <a:ext cx="756360" cy="1799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042" y="1591"/>
                  </a:lnTo>
                  <a:lnTo>
                    <a:pt x="1958" y="3108"/>
                  </a:lnTo>
                  <a:lnTo>
                    <a:pt x="3000" y="4625"/>
                  </a:lnTo>
                  <a:lnTo>
                    <a:pt x="3958" y="6253"/>
                  </a:lnTo>
                  <a:lnTo>
                    <a:pt x="5042" y="7660"/>
                  </a:lnTo>
                  <a:lnTo>
                    <a:pt x="5958" y="9029"/>
                  </a:lnTo>
                  <a:lnTo>
                    <a:pt x="7000" y="10416"/>
                  </a:lnTo>
                  <a:lnTo>
                    <a:pt x="7958" y="11730"/>
                  </a:lnTo>
                  <a:lnTo>
                    <a:pt x="9000" y="12969"/>
                  </a:lnTo>
                  <a:lnTo>
                    <a:pt x="10042" y="14080"/>
                  </a:lnTo>
                  <a:lnTo>
                    <a:pt x="11000" y="15134"/>
                  </a:lnTo>
                  <a:lnTo>
                    <a:pt x="12000" y="16189"/>
                  </a:lnTo>
                  <a:lnTo>
                    <a:pt x="12958" y="16984"/>
                  </a:lnTo>
                  <a:lnTo>
                    <a:pt x="14042" y="17743"/>
                  </a:lnTo>
                  <a:lnTo>
                    <a:pt x="14958" y="18464"/>
                  </a:lnTo>
                  <a:lnTo>
                    <a:pt x="16000" y="19019"/>
                  </a:lnTo>
                  <a:lnTo>
                    <a:pt x="16958" y="19408"/>
                  </a:lnTo>
                  <a:lnTo>
                    <a:pt x="18042" y="19759"/>
                  </a:lnTo>
                  <a:lnTo>
                    <a:pt x="18917" y="19944"/>
                  </a:lnTo>
                  <a:lnTo>
                    <a:pt x="19958" y="199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1480680" y="1620720"/>
              <a:ext cx="338040" cy="43668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56" y="0"/>
                  </a:moveTo>
                  <a:lnTo>
                    <a:pt x="50" y="14"/>
                  </a:lnTo>
                  <a:lnTo>
                    <a:pt x="44" y="26"/>
                  </a:lnTo>
                  <a:lnTo>
                    <a:pt x="38" y="36"/>
                  </a:lnTo>
                  <a:lnTo>
                    <a:pt x="32" y="46"/>
                  </a:lnTo>
                  <a:lnTo>
                    <a:pt x="25" y="54"/>
                  </a:lnTo>
                  <a:lnTo>
                    <a:pt x="19" y="60"/>
                  </a:lnTo>
                  <a:lnTo>
                    <a:pt x="13" y="65"/>
                  </a:lnTo>
                  <a:lnTo>
                    <a:pt x="7" y="67"/>
                  </a:lnTo>
                  <a:lnTo>
                    <a:pt x="0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7107120" y="2058480"/>
              <a:ext cx="416520" cy="136296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69" y="0"/>
                  </a:moveTo>
                  <a:lnTo>
                    <a:pt x="57" y="44"/>
                  </a:lnTo>
                  <a:lnTo>
                    <a:pt x="44" y="88"/>
                  </a:lnTo>
                  <a:lnTo>
                    <a:pt x="32" y="127"/>
                  </a:lnTo>
                  <a:lnTo>
                    <a:pt x="25" y="146"/>
                  </a:lnTo>
                  <a:lnTo>
                    <a:pt x="19" y="165"/>
                  </a:lnTo>
                  <a:lnTo>
                    <a:pt x="13" y="182"/>
                  </a:lnTo>
                  <a:lnTo>
                    <a:pt x="7" y="198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1072800" y="2058480"/>
              <a:ext cx="416160" cy="1362960"/>
            </a:xfrm>
            <a:custGeom>
              <a:avLst/>
              <a:gdLst/>
              <a:ahLst/>
              <a:rect l="l" t="t" r="r" b="b"/>
              <a:pathLst>
                <a:path w="69" h="213">
                  <a:moveTo>
                    <a:pt x="69" y="0"/>
                  </a:moveTo>
                  <a:lnTo>
                    <a:pt x="57" y="44"/>
                  </a:lnTo>
                  <a:lnTo>
                    <a:pt x="44" y="88"/>
                  </a:lnTo>
                  <a:lnTo>
                    <a:pt x="32" y="127"/>
                  </a:lnTo>
                  <a:lnTo>
                    <a:pt x="25" y="146"/>
                  </a:lnTo>
                  <a:lnTo>
                    <a:pt x="19" y="165"/>
                  </a:lnTo>
                  <a:lnTo>
                    <a:pt x="13" y="182"/>
                  </a:lnTo>
                  <a:lnTo>
                    <a:pt x="7" y="198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95360" y="2500200"/>
            <a:ext cx="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995560" y="3389040"/>
            <a:ext cx="0" cy="138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589720" y="2716200"/>
            <a:ext cx="0" cy="69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90600" y="2212920"/>
            <a:ext cx="741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2214720"/>
            <a:ext cx="744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73480" y="4633920"/>
            <a:ext cx="741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60560" y="3075120"/>
            <a:ext cx="743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56120" y="3086280"/>
            <a:ext cx="743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70560" y="2455920"/>
            <a:ext cx="744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18240" y="3348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18360" y="3348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40960" y="33480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45160" y="1638360"/>
            <a:ext cx="755640" cy="8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315880" y="5049720"/>
            <a:ext cx="50004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246-0215-4E0E-AD69-886184CE7D51}" type="slidenum">
              <a:t>26</a:t>
            </a:fld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27000" y="937800"/>
            <a:ext cx="729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solución surge de observar que lo que se mantien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varia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el tiempo es, por un lado, la razón entre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, por el otro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ambas ond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619-4F70-4D6B-A675-32009360A51E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27000" y="1547280"/>
            <a:ext cx="729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definirá como un número complejo cuy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ódul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ciente de amplitud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cuy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rgument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474-4B39-4CD2-A088-88153450AB26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639880" y="1747800"/>
            <a:ext cx="3862440" cy="1436760"/>
            <a:chOff x="2639880" y="1747800"/>
            <a:chExt cx="3862440" cy="1436760"/>
          </a:xfrm>
        </p:grpSpPr>
        <p:sp>
          <p:nvSpPr>
            <p:cNvPr id="401" name=""/>
            <p:cNvSpPr/>
            <p:nvPr/>
          </p:nvSpPr>
          <p:spPr>
            <a:xfrm>
              <a:off x="5221080" y="1747800"/>
              <a:ext cx="1047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21080" y="2450880"/>
              <a:ext cx="1047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39880" y="2085840"/>
              <a:ext cx="3862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|H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1" lang="es-ES" sz="4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1" lang="es-E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639880" y="3914640"/>
            <a:ext cx="3862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g(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 =   </a:t>
            </a:r>
            <a:r>
              <a:rPr b="0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C4A-A355-4B8B-BBB3-E6A7BEB1E3B7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42840" y="1117080"/>
            <a:ext cx="7258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ado 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istem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ualquiera que proces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como un amplificador, un filtro o una parte de un organismo vivo, podemos identificar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xcit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tra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puest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al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3AE-385E-4A86-A53D-68AC2400D611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724040" y="587160"/>
            <a:ext cx="5692320" cy="5689080"/>
            <a:chOff x="1724040" y="587160"/>
            <a:chExt cx="5692320" cy="5689080"/>
          </a:xfrm>
        </p:grpSpPr>
        <p:sp>
          <p:nvSpPr>
            <p:cNvPr id="406" name=""/>
            <p:cNvSpPr/>
            <p:nvPr/>
          </p:nvSpPr>
          <p:spPr>
            <a:xfrm>
              <a:off x="2453040" y="1314000"/>
              <a:ext cx="4236120" cy="423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24040" y="3430800"/>
              <a:ext cx="56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571280" y="587160"/>
              <a:ext cx="0" cy="56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571280" y="1657080"/>
              <a:ext cx="1163520" cy="178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1560" y="2433600"/>
              <a:ext cx="1999080" cy="20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57" y="1792"/>
                  </a:moveTo>
                  <a:arcTo wR="10800" hR="10800" stAng="-3391328" swAng="33683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57" y="1792"/>
                  </a:moveTo>
                  <a:arcTo wR="10800" hR="10800" stAng="-3391328" swAng="3368325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679360" y="114156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35640" y="25495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81000" y="17161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|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5680800" y="1613880"/>
            <a:ext cx="104760" cy="1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E29-2E59-44B2-9D2B-E357D23D3359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454120" y="1314360"/>
            <a:ext cx="4235760" cy="4233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24040" y="3430440"/>
            <a:ext cx="569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572000" y="587520"/>
            <a:ext cx="0" cy="56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572000" y="1657440"/>
            <a:ext cx="1163520" cy="178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22800" y="146196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572000" y="1663560"/>
            <a:ext cx="11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42000" y="1654200"/>
            <a:ext cx="0" cy="17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92840" y="340848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5680800" y="1613880"/>
            <a:ext cx="104760" cy="1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79360" y="114156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753-1EDF-494B-B76E-2DD142358718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27000" y="1242720"/>
            <a:ext cx="729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lgo muy interesante es que esta definición de función de transferencia permite un cálculo directo dentro del campo de los números complej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D2B-4902-4AD7-9364-6D1DA5815EBE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927000" y="2461320"/>
            <a:ext cx="729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ello se introduce un nuevo concepto: el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D2B-63D2-4892-97F7-2ABF337F8817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27000" y="1547280"/>
            <a:ext cx="729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or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una forma de representar en un solo número (complejo) las dos propiedades de una onda senoidal: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8C0-7E16-4BDC-9D5C-55B7A9AA95C6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3325680" y="3537000"/>
            <a:ext cx="2492280" cy="2662920"/>
            <a:chOff x="3325680" y="3537000"/>
            <a:chExt cx="2492280" cy="2662920"/>
          </a:xfrm>
        </p:grpSpPr>
        <p:sp>
          <p:nvSpPr>
            <p:cNvPr id="429" name=""/>
            <p:cNvSpPr/>
            <p:nvPr/>
          </p:nvSpPr>
          <p:spPr>
            <a:xfrm>
              <a:off x="3421080" y="379224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25680" y="494316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572000" y="368388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572000" y="405396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27680" y="439992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14160" y="35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32800" y="4373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8920" y="3935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5276880" y="402660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539720" y="220680"/>
            <a:ext cx="6062760" cy="3300480"/>
            <a:chOff x="1539720" y="220680"/>
            <a:chExt cx="6062760" cy="3300480"/>
          </a:xfrm>
        </p:grpSpPr>
        <p:sp>
          <p:nvSpPr>
            <p:cNvPr id="439" name=""/>
            <p:cNvSpPr/>
            <p:nvPr/>
          </p:nvSpPr>
          <p:spPr>
            <a:xfrm>
              <a:off x="159228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15748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2736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896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5456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838520" y="1104840"/>
              <a:ext cx="5088960" cy="2304720"/>
              <a:chOff x="1838520" y="1104840"/>
              <a:chExt cx="5088960" cy="23047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410080" y="2255400"/>
                <a:ext cx="1193760" cy="1154160"/>
                <a:chOff x="5410080" y="2255400"/>
                <a:chExt cx="1193760" cy="1154160"/>
              </a:xfrm>
            </p:grpSpPr>
            <p:sp>
              <p:nvSpPr>
                <p:cNvPr id="446" name=""/>
                <p:cNvSpPr/>
                <p:nvPr/>
              </p:nvSpPr>
              <p:spPr>
                <a:xfrm flipH="1" flipV="1">
                  <a:off x="600696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flipV="1">
                  <a:off x="540972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212720" y="1104840"/>
                <a:ext cx="1195560" cy="1154160"/>
                <a:chOff x="4212720" y="1104840"/>
                <a:chExt cx="1195560" cy="1154160"/>
              </a:xfrm>
            </p:grpSpPr>
            <p:sp>
              <p:nvSpPr>
                <p:cNvPr id="449" name=""/>
                <p:cNvSpPr/>
                <p:nvPr/>
              </p:nvSpPr>
              <p:spPr>
                <a:xfrm flipH="1" flipV="1">
                  <a:off x="481212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flipV="1">
                  <a:off x="421272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 flipH="1" flipV="1">
                <a:off x="361620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301932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241776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216000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659844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183852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153972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9060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5608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7556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1976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6244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B13-B9DF-4BEF-8DBA-AA317628D965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2754360" y="3537000"/>
            <a:ext cx="2492280" cy="2662920"/>
            <a:chOff x="2754360" y="3537000"/>
            <a:chExt cx="2492280" cy="2662920"/>
          </a:xfrm>
        </p:grpSpPr>
        <p:sp>
          <p:nvSpPr>
            <p:cNvPr id="464" name=""/>
            <p:cNvSpPr/>
            <p:nvPr/>
          </p:nvSpPr>
          <p:spPr>
            <a:xfrm>
              <a:off x="2849760" y="379224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54360" y="494316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000680" y="368388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4000680" y="405396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56360" y="439992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42840" y="35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61480" y="4373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7600" y="3935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Y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4705560" y="402660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825560" y="220680"/>
            <a:ext cx="6062760" cy="3300480"/>
            <a:chOff x="1825560" y="220680"/>
            <a:chExt cx="6062760" cy="3300480"/>
          </a:xfrm>
        </p:grpSpPr>
        <p:sp>
          <p:nvSpPr>
            <p:cNvPr id="474" name=""/>
            <p:cNvSpPr/>
            <p:nvPr/>
          </p:nvSpPr>
          <p:spPr>
            <a:xfrm>
              <a:off x="187812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44332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1320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2480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4040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2124360" y="1104840"/>
              <a:ext cx="5088960" cy="2304720"/>
              <a:chOff x="2124360" y="1104840"/>
              <a:chExt cx="5088960" cy="23047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5695920" y="2255400"/>
                <a:ext cx="1193760" cy="1154160"/>
                <a:chOff x="5695920" y="2255400"/>
                <a:chExt cx="1193760" cy="1154160"/>
              </a:xfrm>
            </p:grpSpPr>
            <p:sp>
              <p:nvSpPr>
                <p:cNvPr id="481" name=""/>
                <p:cNvSpPr/>
                <p:nvPr/>
              </p:nvSpPr>
              <p:spPr>
                <a:xfrm flipH="1" flipV="1">
                  <a:off x="629280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>
                  <a:off x="569556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498560" y="1104840"/>
                <a:ext cx="1195560" cy="1154160"/>
                <a:chOff x="4498560" y="1104840"/>
                <a:chExt cx="1195560" cy="1154160"/>
              </a:xfrm>
            </p:grpSpPr>
            <p:sp>
              <p:nvSpPr>
                <p:cNvPr id="484" name=""/>
                <p:cNvSpPr/>
                <p:nvPr/>
              </p:nvSpPr>
              <p:spPr>
                <a:xfrm flipH="1" flipV="1">
                  <a:off x="509796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flipV="1">
                  <a:off x="449856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 flipH="1" flipV="1">
                <a:off x="390204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330516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flipV="1">
                <a:off x="270360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244584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688428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212436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182556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7644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4192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6140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0560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4828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754360" y="3537000"/>
            <a:ext cx="2492280" cy="2662920"/>
            <a:chOff x="2754360" y="3537000"/>
            <a:chExt cx="2492280" cy="2662920"/>
          </a:xfrm>
        </p:grpSpPr>
        <p:sp>
          <p:nvSpPr>
            <p:cNvPr id="499" name=""/>
            <p:cNvSpPr/>
            <p:nvPr/>
          </p:nvSpPr>
          <p:spPr>
            <a:xfrm>
              <a:off x="2849760" y="379224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54360" y="494316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4000680" y="368388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4000680" y="405396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56360" y="439992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42840" y="35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61480" y="4373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17600" y="3935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Y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4705560" y="402660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754360" y="3537000"/>
            <a:ext cx="2492280" cy="2662920"/>
            <a:chOff x="2754360" y="3537000"/>
            <a:chExt cx="2492280" cy="2662920"/>
          </a:xfrm>
        </p:grpSpPr>
        <p:sp>
          <p:nvSpPr>
            <p:cNvPr id="509" name=""/>
            <p:cNvSpPr/>
            <p:nvPr/>
          </p:nvSpPr>
          <p:spPr>
            <a:xfrm>
              <a:off x="2849760" y="379224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54360" y="494316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4000680" y="368388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000680" y="405396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56360" y="439992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42840" y="35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461480" y="4373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17600" y="3935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4705560" y="402660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37E-69FA-415B-98B8-2064C4AC457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2182680" y="3537000"/>
            <a:ext cx="2492280" cy="2662920"/>
            <a:chOff x="2182680" y="3537000"/>
            <a:chExt cx="2492280" cy="2662920"/>
          </a:xfrm>
        </p:grpSpPr>
        <p:sp>
          <p:nvSpPr>
            <p:cNvPr id="519" name=""/>
            <p:cNvSpPr/>
            <p:nvPr/>
          </p:nvSpPr>
          <p:spPr>
            <a:xfrm>
              <a:off x="2278080" y="379224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2680" y="494316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429000" y="368388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429000" y="405396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84680" y="439992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71160" y="353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9800" y="4373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45920" y="393516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4133880" y="402660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111400" y="220680"/>
            <a:ext cx="6062760" cy="3300480"/>
            <a:chOff x="2111400" y="220680"/>
            <a:chExt cx="6062760" cy="3300480"/>
          </a:xfrm>
        </p:grpSpPr>
        <p:sp>
          <p:nvSpPr>
            <p:cNvPr id="529" name=""/>
            <p:cNvSpPr/>
            <p:nvPr/>
          </p:nvSpPr>
          <p:spPr>
            <a:xfrm>
              <a:off x="216396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272916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9904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1064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2624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410200" y="1104840"/>
              <a:ext cx="5088960" cy="2304720"/>
              <a:chOff x="2410200" y="1104840"/>
              <a:chExt cx="5088960" cy="230472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5981760" y="2255400"/>
                <a:ext cx="1193760" cy="1154160"/>
                <a:chOff x="5981760" y="2255400"/>
                <a:chExt cx="1193760" cy="1154160"/>
              </a:xfrm>
            </p:grpSpPr>
            <p:sp>
              <p:nvSpPr>
                <p:cNvPr id="536" name=""/>
                <p:cNvSpPr/>
                <p:nvPr/>
              </p:nvSpPr>
              <p:spPr>
                <a:xfrm flipH="1" flipV="1">
                  <a:off x="657864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>
                  <a:off x="598140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4784400" y="1104840"/>
                <a:ext cx="1195560" cy="1154160"/>
                <a:chOff x="4784400" y="1104840"/>
                <a:chExt cx="1195560" cy="1154160"/>
              </a:xfrm>
            </p:grpSpPr>
            <p:sp>
              <p:nvSpPr>
                <p:cNvPr id="539" name=""/>
                <p:cNvSpPr/>
                <p:nvPr/>
              </p:nvSpPr>
              <p:spPr>
                <a:xfrm flipH="1" flipV="1">
                  <a:off x="538380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 flipV="1">
                  <a:off x="478440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 flipH="1" flipV="1">
                <a:off x="418788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>
                <a:off x="359100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>
                <a:off x="298944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flipV="1">
                <a:off x="273168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 flipV="1">
                <a:off x="717012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flipV="1">
                <a:off x="241020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211140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6228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2776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4724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9144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048-4D0B-4A23-9FCD-25121D33331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1611360" y="3251160"/>
            <a:ext cx="2492280" cy="2664000"/>
            <a:chOff x="1611360" y="3251160"/>
            <a:chExt cx="2492280" cy="2664000"/>
          </a:xfrm>
        </p:grpSpPr>
        <p:sp>
          <p:nvSpPr>
            <p:cNvPr id="554" name=""/>
            <p:cNvSpPr/>
            <p:nvPr/>
          </p:nvSpPr>
          <p:spPr>
            <a:xfrm>
              <a:off x="1706760" y="3506760"/>
              <a:ext cx="2303280" cy="229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11360" y="465768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857680" y="3398760"/>
              <a:ext cx="0" cy="251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2857680" y="3768840"/>
              <a:ext cx="728640" cy="89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313360" y="4114440"/>
              <a:ext cx="1088280" cy="108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99840" y="3251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18480" y="4087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74600" y="364968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>
              <a:off x="3562560" y="3741840"/>
              <a:ext cx="56880" cy="56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397240" y="220680"/>
            <a:ext cx="6062040" cy="3300480"/>
            <a:chOff x="2397240" y="220680"/>
            <a:chExt cx="6062040" cy="3300480"/>
          </a:xfrm>
        </p:grpSpPr>
        <p:sp>
          <p:nvSpPr>
            <p:cNvPr id="564" name=""/>
            <p:cNvSpPr/>
            <p:nvPr/>
          </p:nvSpPr>
          <p:spPr>
            <a:xfrm>
              <a:off x="2449440" y="2259000"/>
              <a:ext cx="584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01464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84520" y="220680"/>
              <a:ext cx="58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96120" y="2060640"/>
              <a:ext cx="263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11720" y="2216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695320" y="1104840"/>
              <a:ext cx="5088960" cy="2304720"/>
              <a:chOff x="2695320" y="1104840"/>
              <a:chExt cx="5088960" cy="230472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6266520" y="2255400"/>
                <a:ext cx="1193400" cy="1154160"/>
                <a:chOff x="6266520" y="2255400"/>
                <a:chExt cx="1193400" cy="1154160"/>
              </a:xfrm>
            </p:grpSpPr>
            <p:sp>
              <p:nvSpPr>
                <p:cNvPr id="571" name=""/>
                <p:cNvSpPr/>
                <p:nvPr/>
              </p:nvSpPr>
              <p:spPr>
                <a:xfrm flipH="1" flipV="1">
                  <a:off x="6863760" y="225540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 flipV="1">
                  <a:off x="6266520" y="225612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5069880" y="1104840"/>
                <a:ext cx="1195200" cy="1154160"/>
                <a:chOff x="5069880" y="1104840"/>
                <a:chExt cx="1195200" cy="1154160"/>
              </a:xfrm>
            </p:grpSpPr>
            <p:sp>
              <p:nvSpPr>
                <p:cNvPr id="574" name=""/>
                <p:cNvSpPr/>
                <p:nvPr/>
              </p:nvSpPr>
              <p:spPr>
                <a:xfrm flipH="1" flipV="1">
                  <a:off x="5668920" y="1105560"/>
                  <a:ext cx="59580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flipV="1">
                  <a:off x="5069520" y="1104840"/>
                  <a:ext cx="59580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flipH="1" flipV="1">
                <a:off x="4472280" y="2257560"/>
                <a:ext cx="59652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3875400" y="2259000"/>
                <a:ext cx="59652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>
                <a:off x="3273840" y="1108440"/>
                <a:ext cx="59652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>
                <a:off x="3017520" y="1108440"/>
                <a:ext cx="26640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 flipV="1">
                <a:off x="745596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flipV="1">
                <a:off x="2694960" y="1387800"/>
                <a:ext cx="32796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2397240" y="2216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7760" y="735120"/>
              <a:ext cx="455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13240" y="1916280"/>
              <a:ext cx="3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632720" y="1930320"/>
              <a:ext cx="43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576920" y="2216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1960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53D-2876-4F0F-89DC-EFBDC0A4992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"/>
          <p:cNvGrpSpPr/>
          <p:nvPr/>
        </p:nvGrpSpPr>
        <p:grpSpPr>
          <a:xfrm>
            <a:off x="1039680" y="2679840"/>
            <a:ext cx="2492280" cy="2662920"/>
            <a:chOff x="1039680" y="2679840"/>
            <a:chExt cx="2492280" cy="2662920"/>
          </a:xfrm>
        </p:grpSpPr>
        <p:sp>
          <p:nvSpPr>
            <p:cNvPr id="589" name=""/>
            <p:cNvSpPr/>
            <p:nvPr/>
          </p:nvSpPr>
          <p:spPr>
            <a:xfrm>
              <a:off x="1135080" y="293508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039680" y="408600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286000" y="282672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286000" y="319680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41680" y="354276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28160" y="2679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46800" y="3516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02920" y="307800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2990880" y="316944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540160" y="220680"/>
            <a:ext cx="6062040" cy="3300480"/>
            <a:chOff x="2540160" y="220680"/>
            <a:chExt cx="6062040" cy="3300480"/>
          </a:xfrm>
        </p:grpSpPr>
        <p:sp>
          <p:nvSpPr>
            <p:cNvPr id="599" name=""/>
            <p:cNvSpPr/>
            <p:nvPr/>
          </p:nvSpPr>
          <p:spPr>
            <a:xfrm>
              <a:off x="2592360" y="2259000"/>
              <a:ext cx="584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5756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27440" y="220680"/>
              <a:ext cx="58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39040" y="2060640"/>
              <a:ext cx="263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54640" y="2216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838240" y="1104840"/>
              <a:ext cx="5088960" cy="2304720"/>
              <a:chOff x="2838240" y="1104840"/>
              <a:chExt cx="5088960" cy="230472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6409440" y="2255400"/>
                <a:ext cx="1193400" cy="1154160"/>
                <a:chOff x="6409440" y="2255400"/>
                <a:chExt cx="1193400" cy="1154160"/>
              </a:xfrm>
            </p:grpSpPr>
            <p:sp>
              <p:nvSpPr>
                <p:cNvPr id="606" name=""/>
                <p:cNvSpPr/>
                <p:nvPr/>
              </p:nvSpPr>
              <p:spPr>
                <a:xfrm flipH="1" flipV="1">
                  <a:off x="7006680" y="225540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>
                  <a:off x="6409440" y="225612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212800" y="1104840"/>
                <a:ext cx="1195200" cy="1154160"/>
                <a:chOff x="5212800" y="1104840"/>
                <a:chExt cx="1195200" cy="1154160"/>
              </a:xfrm>
            </p:grpSpPr>
            <p:sp>
              <p:nvSpPr>
                <p:cNvPr id="609" name=""/>
                <p:cNvSpPr/>
                <p:nvPr/>
              </p:nvSpPr>
              <p:spPr>
                <a:xfrm flipH="1" flipV="1">
                  <a:off x="5811840" y="1105560"/>
                  <a:ext cx="59580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5212440" y="1104840"/>
                  <a:ext cx="59580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 flipH="1" flipV="1">
                <a:off x="4615200" y="2257560"/>
                <a:ext cx="59652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4018320" y="2259000"/>
                <a:ext cx="59652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3416760" y="1108440"/>
                <a:ext cx="59652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3160440" y="1108440"/>
                <a:ext cx="26640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759888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2837880" y="1387800"/>
                <a:ext cx="32796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2540160" y="2216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90680" y="735120"/>
              <a:ext cx="455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56160" y="1916280"/>
              <a:ext cx="32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775640" y="1930320"/>
              <a:ext cx="43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19840" y="22161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6252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C86-9EB7-4DD4-870D-10DFDE51152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52760" y="2438280"/>
            <a:ext cx="2235240" cy="1989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95520" y="3432240"/>
            <a:ext cx="9572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89440" y="3432240"/>
            <a:ext cx="9576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23920" y="320400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19880" y="320400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91080" y="3204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6480" y="3780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(Excit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34200" y="378216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Arial"/>
              </a:rPr>
              <a:t>(Respue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41E-EE9D-4D42-83B4-5539343E87B2}" type="slidenum">
              <a:t>4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611280" y="2108160"/>
            <a:ext cx="2492280" cy="2664000"/>
            <a:chOff x="611280" y="2108160"/>
            <a:chExt cx="2492280" cy="2664000"/>
          </a:xfrm>
        </p:grpSpPr>
        <p:sp>
          <p:nvSpPr>
            <p:cNvPr id="624" name=""/>
            <p:cNvSpPr/>
            <p:nvPr/>
          </p:nvSpPr>
          <p:spPr>
            <a:xfrm>
              <a:off x="706680" y="2363760"/>
              <a:ext cx="2303280" cy="229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1280" y="351468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857600" y="2255760"/>
              <a:ext cx="0" cy="251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1857600" y="2625840"/>
              <a:ext cx="728640" cy="89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13280" y="2971440"/>
              <a:ext cx="1088280" cy="108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99760" y="2108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18400" y="29448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74520" y="250668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2562480" y="2598840"/>
              <a:ext cx="56880" cy="56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2682720" y="220680"/>
            <a:ext cx="6062760" cy="3300480"/>
            <a:chOff x="2682720" y="220680"/>
            <a:chExt cx="6062760" cy="3300480"/>
          </a:xfrm>
        </p:grpSpPr>
        <p:sp>
          <p:nvSpPr>
            <p:cNvPr id="634" name=""/>
            <p:cNvSpPr/>
            <p:nvPr/>
          </p:nvSpPr>
          <p:spPr>
            <a:xfrm>
              <a:off x="273528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330048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7036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48196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9756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2981520" y="1104840"/>
              <a:ext cx="5088960" cy="2304720"/>
              <a:chOff x="2981520" y="1104840"/>
              <a:chExt cx="5088960" cy="230472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6553080" y="2255400"/>
                <a:ext cx="1193760" cy="1154160"/>
                <a:chOff x="6553080" y="2255400"/>
                <a:chExt cx="1193760" cy="1154160"/>
              </a:xfrm>
            </p:grpSpPr>
            <p:sp>
              <p:nvSpPr>
                <p:cNvPr id="641" name=""/>
                <p:cNvSpPr/>
                <p:nvPr/>
              </p:nvSpPr>
              <p:spPr>
                <a:xfrm flipH="1" flipV="1">
                  <a:off x="714996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H="1" flipV="1">
                  <a:off x="655272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5355720" y="1104840"/>
                <a:ext cx="1195560" cy="1154160"/>
                <a:chOff x="5355720" y="1104840"/>
                <a:chExt cx="1195560" cy="1154160"/>
              </a:xfrm>
            </p:grpSpPr>
            <p:sp>
              <p:nvSpPr>
                <p:cNvPr id="644" name=""/>
                <p:cNvSpPr/>
                <p:nvPr/>
              </p:nvSpPr>
              <p:spPr>
                <a:xfrm flipH="1" flipV="1">
                  <a:off x="595512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flipV="1">
                  <a:off x="535572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 flipH="1" flipV="1">
                <a:off x="475920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416232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flipV="1">
                <a:off x="356076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>
                <a:off x="330300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flipV="1">
                <a:off x="774144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>
                <a:off x="298152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268272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3360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9908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1856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86276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0544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E72-F6A4-442B-8E58-A6AD13745FE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468360" y="1536840"/>
            <a:ext cx="2492280" cy="2662920"/>
            <a:chOff x="468360" y="1536840"/>
            <a:chExt cx="2492280" cy="2662920"/>
          </a:xfrm>
        </p:grpSpPr>
        <p:sp>
          <p:nvSpPr>
            <p:cNvPr id="659" name=""/>
            <p:cNvSpPr/>
            <p:nvPr/>
          </p:nvSpPr>
          <p:spPr>
            <a:xfrm>
              <a:off x="563760" y="1792080"/>
              <a:ext cx="2303280" cy="229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8360" y="294300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1714680" y="1683720"/>
              <a:ext cx="0" cy="25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1714680" y="2053800"/>
              <a:ext cx="728640" cy="89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170360" y="2399760"/>
              <a:ext cx="1088280" cy="10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56840" y="15368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75480" y="2373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31600" y="193500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2419560" y="2026440"/>
              <a:ext cx="56880" cy="56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825640" y="220680"/>
            <a:ext cx="6062760" cy="3300480"/>
            <a:chOff x="2825640" y="220680"/>
            <a:chExt cx="6062760" cy="3300480"/>
          </a:xfrm>
        </p:grpSpPr>
        <p:sp>
          <p:nvSpPr>
            <p:cNvPr id="669" name=""/>
            <p:cNvSpPr/>
            <p:nvPr/>
          </p:nvSpPr>
          <p:spPr>
            <a:xfrm>
              <a:off x="287820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44340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1328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62488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404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124440" y="1104840"/>
              <a:ext cx="5088960" cy="2304720"/>
              <a:chOff x="3124440" y="1104840"/>
              <a:chExt cx="5088960" cy="230472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6696000" y="2255400"/>
                <a:ext cx="1193760" cy="1154160"/>
                <a:chOff x="6696000" y="2255400"/>
                <a:chExt cx="1193760" cy="1154160"/>
              </a:xfrm>
            </p:grpSpPr>
            <p:sp>
              <p:nvSpPr>
                <p:cNvPr id="676" name=""/>
                <p:cNvSpPr/>
                <p:nvPr/>
              </p:nvSpPr>
              <p:spPr>
                <a:xfrm flipH="1" flipV="1">
                  <a:off x="729288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 flipV="1">
                  <a:off x="669564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5498640" y="1104840"/>
                <a:ext cx="1195560" cy="1154160"/>
                <a:chOff x="5498640" y="1104840"/>
                <a:chExt cx="1195560" cy="1154160"/>
              </a:xfrm>
            </p:grpSpPr>
            <p:sp>
              <p:nvSpPr>
                <p:cNvPr id="679" name=""/>
                <p:cNvSpPr/>
                <p:nvPr/>
              </p:nvSpPr>
              <p:spPr>
                <a:xfrm flipH="1" flipV="1">
                  <a:off x="609804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 flipV="1">
                  <a:off x="549864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 flipH="1" flipV="1">
                <a:off x="490212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 flipV="1">
                <a:off x="430524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>
                <a:off x="370368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344592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 flipV="1">
                <a:off x="788436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 flipV="1">
                <a:off x="312444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82564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7652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74200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6148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056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4836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2E5-41F5-409F-A412-FC5B032106E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297000" y="865080"/>
            <a:ext cx="2492280" cy="2664000"/>
            <a:chOff x="297000" y="865080"/>
            <a:chExt cx="2492280" cy="2664000"/>
          </a:xfrm>
        </p:grpSpPr>
        <p:sp>
          <p:nvSpPr>
            <p:cNvPr id="694" name=""/>
            <p:cNvSpPr/>
            <p:nvPr/>
          </p:nvSpPr>
          <p:spPr>
            <a:xfrm>
              <a:off x="392400" y="1120680"/>
              <a:ext cx="2303280" cy="229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97000" y="227160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543320" y="1012680"/>
              <a:ext cx="0" cy="251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543320" y="1382760"/>
              <a:ext cx="728640" cy="89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99000" y="1728360"/>
              <a:ext cx="1088280" cy="108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85480" y="865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04120" y="17017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60240" y="126360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2248200" y="1355760"/>
              <a:ext cx="56880" cy="56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2825640" y="220680"/>
            <a:ext cx="6062760" cy="3300480"/>
            <a:chOff x="2825640" y="220680"/>
            <a:chExt cx="6062760" cy="3300480"/>
          </a:xfrm>
        </p:grpSpPr>
        <p:sp>
          <p:nvSpPr>
            <p:cNvPr id="704" name=""/>
            <p:cNvSpPr/>
            <p:nvPr/>
          </p:nvSpPr>
          <p:spPr>
            <a:xfrm>
              <a:off x="287820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344340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1328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62488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404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3124440" y="1104840"/>
              <a:ext cx="5088960" cy="2304720"/>
              <a:chOff x="3124440" y="1104840"/>
              <a:chExt cx="5088960" cy="2304720"/>
            </a:xfrm>
          </p:grpSpPr>
          <p:grpSp>
            <p:nvGrpSpPr>
              <p:cNvPr id="710" name=""/>
              <p:cNvGrpSpPr/>
              <p:nvPr/>
            </p:nvGrpSpPr>
            <p:grpSpPr>
              <a:xfrm>
                <a:off x="6696000" y="2255400"/>
                <a:ext cx="1193760" cy="1154160"/>
                <a:chOff x="6696000" y="2255400"/>
                <a:chExt cx="1193760" cy="1154160"/>
              </a:xfrm>
            </p:grpSpPr>
            <p:sp>
              <p:nvSpPr>
                <p:cNvPr id="711" name=""/>
                <p:cNvSpPr/>
                <p:nvPr/>
              </p:nvSpPr>
              <p:spPr>
                <a:xfrm flipH="1" flipV="1">
                  <a:off x="729288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 flipV="1">
                  <a:off x="669564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498640" y="1104840"/>
                <a:ext cx="1195560" cy="1154160"/>
                <a:chOff x="5498640" y="1104840"/>
                <a:chExt cx="1195560" cy="1154160"/>
              </a:xfrm>
            </p:grpSpPr>
            <p:sp>
              <p:nvSpPr>
                <p:cNvPr id="714" name=""/>
                <p:cNvSpPr/>
                <p:nvPr/>
              </p:nvSpPr>
              <p:spPr>
                <a:xfrm flipH="1" flipV="1">
                  <a:off x="609804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 flipV="1">
                  <a:off x="549864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 flipH="1" flipV="1">
                <a:off x="490212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 flipV="1">
                <a:off x="430524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flipV="1">
                <a:off x="370368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 flipV="1">
                <a:off x="344592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788436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>
                <a:off x="312444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282564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47652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4200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06148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056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4836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5A5-59CF-4023-8C41-38234E24E66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2278080" y="1386000"/>
            <a:ext cx="117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97000" y="865080"/>
            <a:ext cx="2492280" cy="2664000"/>
            <a:chOff x="297000" y="865080"/>
            <a:chExt cx="2492280" cy="2664000"/>
          </a:xfrm>
        </p:grpSpPr>
        <p:sp>
          <p:nvSpPr>
            <p:cNvPr id="730" name=""/>
            <p:cNvSpPr/>
            <p:nvPr/>
          </p:nvSpPr>
          <p:spPr>
            <a:xfrm>
              <a:off x="392400" y="1120680"/>
              <a:ext cx="2303280" cy="229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7000" y="2271600"/>
              <a:ext cx="24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1543320" y="1012680"/>
              <a:ext cx="0" cy="251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1543320" y="1382760"/>
              <a:ext cx="728640" cy="89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99000" y="1728360"/>
              <a:ext cx="1088280" cy="108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06" y="2497"/>
                  </a:moveTo>
                  <a:arcTo wR="10800" hR="10800" stAng="-3014961" swAng="2991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06" y="2497"/>
                  </a:moveTo>
                  <a:arcTo wR="10800" hR="10800" stAng="-3014961" swAng="2991957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85480" y="865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4120" y="17017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60240" y="126360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Ẏ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2248200" y="1355760"/>
              <a:ext cx="56880" cy="56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2825640" y="220680"/>
            <a:ext cx="6062760" cy="3300480"/>
            <a:chOff x="2825640" y="220680"/>
            <a:chExt cx="6062760" cy="3300480"/>
          </a:xfrm>
        </p:grpSpPr>
        <p:sp>
          <p:nvSpPr>
            <p:cNvPr id="740" name=""/>
            <p:cNvSpPr/>
            <p:nvPr/>
          </p:nvSpPr>
          <p:spPr>
            <a:xfrm>
              <a:off x="2878200" y="2259000"/>
              <a:ext cx="5842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3443400" y="669960"/>
              <a:ext cx="0" cy="285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13280" y="220680"/>
              <a:ext cx="5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624880" y="2060640"/>
              <a:ext cx="263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404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124440" y="1104840"/>
              <a:ext cx="5088960" cy="2304720"/>
              <a:chOff x="3124440" y="1104840"/>
              <a:chExt cx="5088960" cy="230472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6696000" y="2255400"/>
                <a:ext cx="1193760" cy="1154160"/>
                <a:chOff x="6696000" y="2255400"/>
                <a:chExt cx="1193760" cy="1154160"/>
              </a:xfrm>
            </p:grpSpPr>
            <p:sp>
              <p:nvSpPr>
                <p:cNvPr id="747" name=""/>
                <p:cNvSpPr/>
                <p:nvPr/>
              </p:nvSpPr>
              <p:spPr>
                <a:xfrm flipH="1" flipV="1">
                  <a:off x="7292880" y="225540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1"/>
                      </a:moveTo>
                      <a:lnTo>
                        <a:pt x="1042" y="18390"/>
                      </a:lnTo>
                      <a:lnTo>
                        <a:pt x="1958" y="16873"/>
                      </a:lnTo>
                      <a:lnTo>
                        <a:pt x="3000" y="15356"/>
                      </a:lnTo>
                      <a:lnTo>
                        <a:pt x="3958" y="13747"/>
                      </a:lnTo>
                      <a:lnTo>
                        <a:pt x="5042" y="12340"/>
                      </a:lnTo>
                      <a:lnTo>
                        <a:pt x="5958" y="10953"/>
                      </a:lnTo>
                      <a:lnTo>
                        <a:pt x="7000" y="9584"/>
                      </a:lnTo>
                      <a:lnTo>
                        <a:pt x="7958" y="8252"/>
                      </a:lnTo>
                      <a:lnTo>
                        <a:pt x="9000" y="7012"/>
                      </a:lnTo>
                      <a:lnTo>
                        <a:pt x="10042" y="5920"/>
                      </a:lnTo>
                      <a:lnTo>
                        <a:pt x="11000" y="4847"/>
                      </a:lnTo>
                      <a:lnTo>
                        <a:pt x="12000" y="3793"/>
                      </a:lnTo>
                      <a:lnTo>
                        <a:pt x="12958" y="3016"/>
                      </a:lnTo>
                      <a:lnTo>
                        <a:pt x="14042" y="2239"/>
                      </a:lnTo>
                      <a:lnTo>
                        <a:pt x="14958" y="1536"/>
                      </a:lnTo>
                      <a:lnTo>
                        <a:pt x="16000" y="962"/>
                      </a:lnTo>
                      <a:lnTo>
                        <a:pt x="16958" y="592"/>
                      </a:lnTo>
                      <a:lnTo>
                        <a:pt x="18042" y="222"/>
                      </a:lnTo>
                      <a:lnTo>
                        <a:pt x="18917" y="37"/>
                      </a:lnTo>
                      <a:lnTo>
                        <a:pt x="1995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flipV="1">
                  <a:off x="6695640" y="2256120"/>
                  <a:ext cx="59652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19981"/>
                      </a:moveTo>
                      <a:lnTo>
                        <a:pt x="18958" y="18390"/>
                      </a:lnTo>
                      <a:lnTo>
                        <a:pt x="18042" y="16873"/>
                      </a:lnTo>
                      <a:lnTo>
                        <a:pt x="17000" y="15356"/>
                      </a:lnTo>
                      <a:lnTo>
                        <a:pt x="16042" y="13747"/>
                      </a:lnTo>
                      <a:lnTo>
                        <a:pt x="14958" y="12340"/>
                      </a:lnTo>
                      <a:lnTo>
                        <a:pt x="14042" y="10953"/>
                      </a:lnTo>
                      <a:lnTo>
                        <a:pt x="12958" y="9584"/>
                      </a:lnTo>
                      <a:lnTo>
                        <a:pt x="12000" y="8252"/>
                      </a:lnTo>
                      <a:lnTo>
                        <a:pt x="11000" y="7012"/>
                      </a:lnTo>
                      <a:lnTo>
                        <a:pt x="10042" y="5920"/>
                      </a:lnTo>
                      <a:lnTo>
                        <a:pt x="9000" y="4847"/>
                      </a:lnTo>
                      <a:lnTo>
                        <a:pt x="8000" y="3793"/>
                      </a:lnTo>
                      <a:lnTo>
                        <a:pt x="7000" y="3016"/>
                      </a:lnTo>
                      <a:lnTo>
                        <a:pt x="6042" y="2239"/>
                      </a:lnTo>
                      <a:lnTo>
                        <a:pt x="5042" y="1536"/>
                      </a:lnTo>
                      <a:lnTo>
                        <a:pt x="4000" y="962"/>
                      </a:lnTo>
                      <a:lnTo>
                        <a:pt x="3000" y="592"/>
                      </a:lnTo>
                      <a:lnTo>
                        <a:pt x="2042" y="222"/>
                      </a:lnTo>
                      <a:lnTo>
                        <a:pt x="1042" y="3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5498640" y="1104840"/>
                <a:ext cx="1195560" cy="1154160"/>
                <a:chOff x="5498640" y="1104840"/>
                <a:chExt cx="1195560" cy="1154160"/>
              </a:xfrm>
            </p:grpSpPr>
            <p:sp>
              <p:nvSpPr>
                <p:cNvPr id="750" name=""/>
                <p:cNvSpPr/>
                <p:nvPr/>
              </p:nvSpPr>
              <p:spPr>
                <a:xfrm flipH="1" flipV="1">
                  <a:off x="6098040" y="110556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042" y="1591"/>
                      </a:lnTo>
                      <a:lnTo>
                        <a:pt x="1958" y="3108"/>
                      </a:lnTo>
                      <a:lnTo>
                        <a:pt x="3000" y="4625"/>
                      </a:lnTo>
                      <a:lnTo>
                        <a:pt x="3958" y="6253"/>
                      </a:lnTo>
                      <a:lnTo>
                        <a:pt x="5042" y="7660"/>
                      </a:lnTo>
                      <a:lnTo>
                        <a:pt x="5958" y="9029"/>
                      </a:lnTo>
                      <a:lnTo>
                        <a:pt x="7000" y="10416"/>
                      </a:lnTo>
                      <a:lnTo>
                        <a:pt x="7958" y="11730"/>
                      </a:lnTo>
                      <a:lnTo>
                        <a:pt x="9000" y="12969"/>
                      </a:lnTo>
                      <a:lnTo>
                        <a:pt x="10042" y="14080"/>
                      </a:lnTo>
                      <a:lnTo>
                        <a:pt x="11000" y="15134"/>
                      </a:lnTo>
                      <a:lnTo>
                        <a:pt x="12000" y="16189"/>
                      </a:lnTo>
                      <a:lnTo>
                        <a:pt x="12958" y="16984"/>
                      </a:lnTo>
                      <a:lnTo>
                        <a:pt x="14042" y="17743"/>
                      </a:lnTo>
                      <a:lnTo>
                        <a:pt x="14958" y="18464"/>
                      </a:lnTo>
                      <a:lnTo>
                        <a:pt x="16000" y="19019"/>
                      </a:lnTo>
                      <a:lnTo>
                        <a:pt x="16958" y="19408"/>
                      </a:lnTo>
                      <a:lnTo>
                        <a:pt x="18042" y="19759"/>
                      </a:lnTo>
                      <a:lnTo>
                        <a:pt x="18917" y="19944"/>
                      </a:lnTo>
                      <a:lnTo>
                        <a:pt x="19958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 flipV="1">
                  <a:off x="5498640" y="1104840"/>
                  <a:ext cx="596160" cy="1153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58" y="0"/>
                      </a:moveTo>
                      <a:lnTo>
                        <a:pt x="18958" y="1591"/>
                      </a:lnTo>
                      <a:lnTo>
                        <a:pt x="18042" y="3108"/>
                      </a:lnTo>
                      <a:lnTo>
                        <a:pt x="17000" y="4625"/>
                      </a:lnTo>
                      <a:lnTo>
                        <a:pt x="16042" y="6253"/>
                      </a:lnTo>
                      <a:lnTo>
                        <a:pt x="14958" y="7660"/>
                      </a:lnTo>
                      <a:lnTo>
                        <a:pt x="14042" y="9029"/>
                      </a:lnTo>
                      <a:lnTo>
                        <a:pt x="12958" y="10416"/>
                      </a:lnTo>
                      <a:lnTo>
                        <a:pt x="12000" y="11730"/>
                      </a:lnTo>
                      <a:lnTo>
                        <a:pt x="11000" y="12969"/>
                      </a:lnTo>
                      <a:lnTo>
                        <a:pt x="10042" y="14080"/>
                      </a:lnTo>
                      <a:lnTo>
                        <a:pt x="9000" y="15134"/>
                      </a:lnTo>
                      <a:lnTo>
                        <a:pt x="8000" y="16189"/>
                      </a:lnTo>
                      <a:lnTo>
                        <a:pt x="7000" y="16984"/>
                      </a:lnTo>
                      <a:lnTo>
                        <a:pt x="6042" y="17743"/>
                      </a:lnTo>
                      <a:lnTo>
                        <a:pt x="5042" y="18464"/>
                      </a:lnTo>
                      <a:lnTo>
                        <a:pt x="4000" y="19019"/>
                      </a:lnTo>
                      <a:lnTo>
                        <a:pt x="3000" y="19408"/>
                      </a:lnTo>
                      <a:lnTo>
                        <a:pt x="2042" y="19759"/>
                      </a:lnTo>
                      <a:lnTo>
                        <a:pt x="1042" y="19944"/>
                      </a:lnTo>
                      <a:lnTo>
                        <a:pt x="0" y="1998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 flipH="1" flipV="1">
                <a:off x="4902120" y="225756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1"/>
                    </a:moveTo>
                    <a:lnTo>
                      <a:pt x="1042" y="18390"/>
                    </a:lnTo>
                    <a:lnTo>
                      <a:pt x="1958" y="16873"/>
                    </a:lnTo>
                    <a:lnTo>
                      <a:pt x="3000" y="15356"/>
                    </a:lnTo>
                    <a:lnTo>
                      <a:pt x="3958" y="13747"/>
                    </a:lnTo>
                    <a:lnTo>
                      <a:pt x="5042" y="12340"/>
                    </a:lnTo>
                    <a:lnTo>
                      <a:pt x="5958" y="10953"/>
                    </a:lnTo>
                    <a:lnTo>
                      <a:pt x="7000" y="9584"/>
                    </a:lnTo>
                    <a:lnTo>
                      <a:pt x="7958" y="8252"/>
                    </a:lnTo>
                    <a:lnTo>
                      <a:pt x="9000" y="7012"/>
                    </a:lnTo>
                    <a:lnTo>
                      <a:pt x="10042" y="5920"/>
                    </a:lnTo>
                    <a:lnTo>
                      <a:pt x="11000" y="4847"/>
                    </a:lnTo>
                    <a:lnTo>
                      <a:pt x="12000" y="3793"/>
                    </a:lnTo>
                    <a:lnTo>
                      <a:pt x="12958" y="3016"/>
                    </a:lnTo>
                    <a:lnTo>
                      <a:pt x="14042" y="2239"/>
                    </a:lnTo>
                    <a:lnTo>
                      <a:pt x="14958" y="1536"/>
                    </a:lnTo>
                    <a:lnTo>
                      <a:pt x="16000" y="962"/>
                    </a:lnTo>
                    <a:lnTo>
                      <a:pt x="16958" y="592"/>
                    </a:lnTo>
                    <a:lnTo>
                      <a:pt x="18042" y="222"/>
                    </a:lnTo>
                    <a:lnTo>
                      <a:pt x="18917" y="37"/>
                    </a:lnTo>
                    <a:lnTo>
                      <a:pt x="1995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flipV="1">
                <a:off x="4305240" y="2259000"/>
                <a:ext cx="596880" cy="1150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19981"/>
                    </a:moveTo>
                    <a:lnTo>
                      <a:pt x="18958" y="18390"/>
                    </a:lnTo>
                    <a:lnTo>
                      <a:pt x="18042" y="16873"/>
                    </a:lnTo>
                    <a:lnTo>
                      <a:pt x="17000" y="15356"/>
                    </a:lnTo>
                    <a:lnTo>
                      <a:pt x="16042" y="13747"/>
                    </a:lnTo>
                    <a:lnTo>
                      <a:pt x="14958" y="12340"/>
                    </a:lnTo>
                    <a:lnTo>
                      <a:pt x="14042" y="10953"/>
                    </a:lnTo>
                    <a:lnTo>
                      <a:pt x="12958" y="9584"/>
                    </a:lnTo>
                    <a:lnTo>
                      <a:pt x="12000" y="8252"/>
                    </a:lnTo>
                    <a:lnTo>
                      <a:pt x="11000" y="7012"/>
                    </a:lnTo>
                    <a:lnTo>
                      <a:pt x="10042" y="5920"/>
                    </a:lnTo>
                    <a:lnTo>
                      <a:pt x="9000" y="4847"/>
                    </a:lnTo>
                    <a:lnTo>
                      <a:pt x="8000" y="3793"/>
                    </a:lnTo>
                    <a:lnTo>
                      <a:pt x="7000" y="3016"/>
                    </a:lnTo>
                    <a:lnTo>
                      <a:pt x="6042" y="2239"/>
                    </a:lnTo>
                    <a:lnTo>
                      <a:pt x="5042" y="1536"/>
                    </a:lnTo>
                    <a:lnTo>
                      <a:pt x="4000" y="962"/>
                    </a:lnTo>
                    <a:lnTo>
                      <a:pt x="3000" y="592"/>
                    </a:lnTo>
                    <a:lnTo>
                      <a:pt x="2042" y="222"/>
                    </a:lnTo>
                    <a:lnTo>
                      <a:pt x="1042" y="37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>
                <a:off x="3703680" y="1108440"/>
                <a:ext cx="596880" cy="1152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042" y="1591"/>
                    </a:lnTo>
                    <a:lnTo>
                      <a:pt x="1958" y="3108"/>
                    </a:lnTo>
                    <a:lnTo>
                      <a:pt x="3000" y="4625"/>
                    </a:lnTo>
                    <a:lnTo>
                      <a:pt x="3958" y="6253"/>
                    </a:lnTo>
                    <a:lnTo>
                      <a:pt x="5042" y="7660"/>
                    </a:lnTo>
                    <a:lnTo>
                      <a:pt x="5958" y="9029"/>
                    </a:lnTo>
                    <a:lnTo>
                      <a:pt x="7000" y="10416"/>
                    </a:lnTo>
                    <a:lnTo>
                      <a:pt x="7958" y="11730"/>
                    </a:lnTo>
                    <a:lnTo>
                      <a:pt x="9000" y="12969"/>
                    </a:lnTo>
                    <a:lnTo>
                      <a:pt x="10042" y="14080"/>
                    </a:lnTo>
                    <a:lnTo>
                      <a:pt x="11000" y="15134"/>
                    </a:lnTo>
                    <a:lnTo>
                      <a:pt x="12000" y="16189"/>
                    </a:lnTo>
                    <a:lnTo>
                      <a:pt x="12958" y="16984"/>
                    </a:lnTo>
                    <a:lnTo>
                      <a:pt x="14042" y="17743"/>
                    </a:lnTo>
                    <a:lnTo>
                      <a:pt x="14958" y="18464"/>
                    </a:lnTo>
                    <a:lnTo>
                      <a:pt x="16000" y="19019"/>
                    </a:lnTo>
                    <a:lnTo>
                      <a:pt x="16958" y="19408"/>
                    </a:lnTo>
                    <a:lnTo>
                      <a:pt x="18042" y="19759"/>
                    </a:lnTo>
                    <a:lnTo>
                      <a:pt x="18917" y="19944"/>
                    </a:lnTo>
                    <a:lnTo>
                      <a:pt x="19958" y="1998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>
                <a:off x="3445920" y="1108440"/>
                <a:ext cx="266760" cy="27936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50" y="14"/>
                    </a:lnTo>
                    <a:lnTo>
                      <a:pt x="44" y="26"/>
                    </a:lnTo>
                    <a:lnTo>
                      <a:pt x="38" y="36"/>
                    </a:lnTo>
                    <a:lnTo>
                      <a:pt x="32" y="46"/>
                    </a:lnTo>
                    <a:lnTo>
                      <a:pt x="25" y="54"/>
                    </a:lnTo>
                    <a:lnTo>
                      <a:pt x="19" y="60"/>
                    </a:lnTo>
                    <a:lnTo>
                      <a:pt x="13" y="65"/>
                    </a:lnTo>
                    <a:lnTo>
                      <a:pt x="7" y="67"/>
                    </a:lnTo>
                    <a:lnTo>
                      <a:pt x="0" y="6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flipV="1">
                <a:off x="7884360" y="1387800"/>
                <a:ext cx="32868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 flipV="1">
                <a:off x="3124440" y="1387800"/>
                <a:ext cx="328320" cy="872640"/>
              </a:xfrm>
              <a:custGeom>
                <a:avLst/>
                <a:gdLst/>
                <a:ahLst/>
                <a:rect l="l" t="t" r="r" b="b"/>
                <a:pathLst>
                  <a:path w="69" h="213">
                    <a:moveTo>
                      <a:pt x="69" y="0"/>
                    </a:moveTo>
                    <a:lnTo>
                      <a:pt x="57" y="44"/>
                    </a:lnTo>
                    <a:lnTo>
                      <a:pt x="44" y="88"/>
                    </a:lnTo>
                    <a:lnTo>
                      <a:pt x="32" y="127"/>
                    </a:lnTo>
                    <a:lnTo>
                      <a:pt x="25" y="146"/>
                    </a:lnTo>
                    <a:lnTo>
                      <a:pt x="19" y="165"/>
                    </a:lnTo>
                    <a:lnTo>
                      <a:pt x="13" y="182"/>
                    </a:lnTo>
                    <a:lnTo>
                      <a:pt x="7" y="198"/>
                    </a:lnTo>
                    <a:lnTo>
                      <a:pt x="0" y="213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825640" y="221616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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76520" y="735120"/>
              <a:ext cx="455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42000" y="1916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61480" y="193032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05680" y="2216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9999"/>
                  </a:solidFill>
                  <a:latin typeface="Times New Roman"/>
                </a:rPr>
                <a:t>4</a:t>
              </a:r>
              <a:r>
                <a:rPr b="0" lang="es-ES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48360" y="1089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1546200" y="1120680"/>
            <a:ext cx="62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433600" y="1117440"/>
            <a:ext cx="1252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4BE-1203-4D25-91A8-4AA4FFD63673}" type="slidenum">
              <a:t>43</a:t>
            </a:fld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927000" y="1047240"/>
            <a:ext cx="729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demos considerar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ciente complej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or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ali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tr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C0D-BFC3-4A8D-AD6E-DD4E6AA144F2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2639880" y="2433600"/>
            <a:ext cx="3862440" cy="1479600"/>
            <a:chOff x="2639880" y="2433600"/>
            <a:chExt cx="3862440" cy="1479600"/>
          </a:xfrm>
        </p:grpSpPr>
        <p:grpSp>
          <p:nvGrpSpPr>
            <p:cNvPr id="768" name=""/>
            <p:cNvGrpSpPr/>
            <p:nvPr/>
          </p:nvGrpSpPr>
          <p:grpSpPr>
            <a:xfrm>
              <a:off x="5164200" y="2433600"/>
              <a:ext cx="1047600" cy="1479600"/>
              <a:chOff x="5164200" y="2433600"/>
              <a:chExt cx="1047600" cy="1479600"/>
            </a:xfrm>
          </p:grpSpPr>
          <p:sp>
            <p:nvSpPr>
              <p:cNvPr id="769" name=""/>
              <p:cNvSpPr/>
              <p:nvPr/>
            </p:nvSpPr>
            <p:spPr>
              <a:xfrm>
                <a:off x="5164200" y="2433600"/>
                <a:ext cx="10476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4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Ẏ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164200" y="3179880"/>
                <a:ext cx="10476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4400" spc="-1" strike="noStrike">
                    <a:solidFill>
                      <a:srgbClr val="000000"/>
                    </a:solidFill>
                    <a:latin typeface="Times New Roman"/>
                  </a:rPr>
                  <a:t>Ẋ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2639880" y="2714760"/>
              <a:ext cx="3862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s-ES" sz="4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1" lang="es-E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B95-3900-4E8C-91B0-B0E91770B514}" type="slidenum">
              <a:t>45</a:t>
            </a:fld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927000" y="1490040"/>
            <a:ext cx="729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o se debe a que el módulo del cociente de dos complejos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ciente de los módul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la fase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sta de las f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71C-3E2C-434D-B462-D0808705A01C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1204920" y="3933720"/>
            <a:ext cx="6734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g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=   arg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Ẏ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g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rot="16200000">
            <a:off x="4912200" y="4449960"/>
            <a:ext cx="290520" cy="1146240"/>
          </a:xfrm>
          <a:custGeom>
            <a:avLst/>
            <a:gdLst>
              <a:gd name="textAreaLeft" fmla="*/ 185760 w 290520"/>
              <a:gd name="textAreaRight" fmla="*/ 290880 w 290520"/>
              <a:gd name="textAreaTop" fmla="*/ 29880 h 1146240"/>
              <a:gd name="textAreaBottom" fmla="*/ 1116360 h 11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6899760" y="4449960"/>
            <a:ext cx="290520" cy="1146240"/>
          </a:xfrm>
          <a:custGeom>
            <a:avLst/>
            <a:gdLst>
              <a:gd name="textAreaLeft" fmla="*/ 185760 w 290520"/>
              <a:gd name="textAreaRight" fmla="*/ 290880 w 290520"/>
              <a:gd name="textAreaTop" fmla="*/ 29880 h 1146240"/>
              <a:gd name="textAreaBottom" fmla="*/ 1116360 h 114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75320" y="5037120"/>
            <a:ext cx="75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676920" y="5108400"/>
            <a:ext cx="752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1508040" y="1768320"/>
            <a:ext cx="6127920" cy="1522440"/>
            <a:chOff x="1508040" y="1768320"/>
            <a:chExt cx="6127920" cy="1522440"/>
          </a:xfrm>
        </p:grpSpPr>
        <p:sp>
          <p:nvSpPr>
            <p:cNvPr id="779" name=""/>
            <p:cNvSpPr/>
            <p:nvPr/>
          </p:nvSpPr>
          <p:spPr>
            <a:xfrm>
              <a:off x="4479840" y="1768320"/>
              <a:ext cx="1047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Ẏ|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79840" y="2557440"/>
              <a:ext cx="1047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|Ẋ|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08040" y="2135160"/>
              <a:ext cx="6127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|H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s-ES" sz="44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1" lang="es-ES" sz="4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1" lang="es-E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r>
                <a:rPr b="1" lang="es-ES" sz="4400" spc="-1" strike="noStrike">
                  <a:solidFill>
                    <a:srgbClr val="000000"/>
                  </a:solidFill>
                  <a:latin typeface="Times New Roman"/>
                </a:rPr>
                <a:t>   =   </a:t>
              </a:r>
              <a:r>
                <a:rPr b="1" lang="es-E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119640" y="1768320"/>
              <a:ext cx="10479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19640" y="2557440"/>
              <a:ext cx="1047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5DA-0802-4308-A700-28D62BE6F5F8}" type="slidenum">
              <a:t>47</a:t>
            </a:fld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927000" y="2099520"/>
            <a:ext cx="729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Un caso particular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 transfer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mpeda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15B-54FF-43A3-9243-901314E46463}" type="slidenum">
              <a:t>48</a:t>
            </a:fld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927000" y="1794600"/>
            <a:ext cx="729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Impedanci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el cociente de fasores de dos tipos diferentes de variables cuyo producto es una pot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8B2-132C-40A2-A7AF-1CA610662D3A}" type="slidenum">
              <a:t>49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42840" y="812520"/>
            <a:ext cx="725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os conceptos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tra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alid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on muy amplios. Nosotros nos centraremos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es fís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mo presión sonora, tensión eléctrica, temperatura, velocidad, desplazamiento, todas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del tie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0AC-5ECE-4C59-9044-1D0A8EDA1862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927000" y="1636200"/>
            <a:ext cx="729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1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mpedancia eléctric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el cociente de fasor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ens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r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E7C-D4B9-47CE-99EA-EA5994CEBA74}" type="slidenum">
              <a:t>50</a:t>
            </a:fld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927000" y="1636200"/>
            <a:ext cx="729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mpedancia acústic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el cociente de fasor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esión sono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aud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57B-E37F-4AA1-95A5-D8BF3721DD10}" type="slidenum">
              <a:t>51</a:t>
            </a:fld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927000" y="1636200"/>
            <a:ext cx="7290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3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mpedancia mecánic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el cociente de fasor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erz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eloc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8B1-B1BA-46D7-943B-B84862AEAC2E}" type="slidenum">
              <a:t>52</a:t>
            </a:fld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B48-6780-485A-9C1B-AD5C58E68FCA}" type="slidenum">
              <a:t>53</a:t>
            </a:fld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ED0-617A-4618-BF18-C35970B7145C}" type="slidenum">
              <a:t>54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3960" y="81216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52760" y="2438280"/>
            <a:ext cx="2235240" cy="1989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0044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91080" y="3204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8800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7720" y="3021120"/>
            <a:ext cx="234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emperatura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15120" y="3021120"/>
            <a:ext cx="23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Temperatura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C7A-30F5-4ADB-8799-15CF2A58388D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23960" y="81216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52760" y="2438280"/>
            <a:ext cx="2235240" cy="1989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044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91080" y="3204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8800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7720" y="3021120"/>
            <a:ext cx="234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ivel sonoro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15120" y="3021120"/>
            <a:ext cx="23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Nivel sonoro i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7C9-FB27-4849-AA48-4330E6A680B7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3960" y="81216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3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52760" y="2438280"/>
            <a:ext cx="2235240" cy="19893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0044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16480" y="2653560"/>
            <a:ext cx="217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mplificador de audio 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+</a:t>
            </a: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Alta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88000" y="3432240"/>
            <a:ext cx="6523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7720" y="3204000"/>
            <a:ext cx="23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ñal de 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15120" y="3204000"/>
            <a:ext cx="24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esión son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F29-89EF-4C46-A75D-6A570DDBF1CC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8240" y="1045440"/>
            <a:ext cx="760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entro de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ñales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hay una familia muy importante, las señal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senoid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también llamad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rmónic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42840" y="4183920"/>
            <a:ext cx="72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sen(2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2872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740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16560" y="533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12880" y="4890960"/>
            <a:ext cx="231840" cy="378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319640" y="4890960"/>
            <a:ext cx="0" cy="378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965920" y="4890960"/>
            <a:ext cx="231840" cy="378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786-2CAD-48CC-926E-37A3C6614EC6}" type="slidenum">
              <a:t>9</a:t>
            </a:fld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04:34Z</dcterms:modified>
  <cp:revision>216</cp:revision>
  <dc:subject/>
  <dc:title>PSICOACÚSTICA  aplicada a la calidad acústica de espacios educativos.  Materiales absorbentes acústicos reciclados </dc:title>
</cp:coreProperties>
</file>