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BE48-3AC4-485E-A02F-E58D430D0CA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668-EDB0-49D7-936E-6EB000E0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6B1-EB42-4FFC-9EB6-3024882C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DD4-0932-4BEE-A26C-14C420C5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6CD-3339-445D-BD82-254CA5C8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7AA-0F91-4D36-AA73-82CFBF7D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DFF-8BE7-4368-908A-EE7E3728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1FB-5661-4329-947B-F3DC528D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2E6-E97C-4DD7-B94C-E68AB0C2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615-CB59-4989-8AEF-4BD528C1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A38-CF78-4C2B-9D95-9F3900B3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E9B-3459-4356-8FB5-0382532E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024-6E87-4AA5-AF45-FD407C77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8B7B-98C8-4071-BBC3-6EE4C9D41C5F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3B1-D22F-4545-BF41-76BE8B70F15C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7680" y="1726560"/>
            <a:ext cx="8108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sí, podemos englobar el conjunto de respuestas sensoriales que ocasiona un sonido dentro del rango auditivo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 sono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BD7-56AF-44DC-BC8E-75BB6BC43650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7680" y="1422000"/>
            <a:ext cx="810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ero a los efectos de estudiar esta sensación conviene separarla en diversos aspectos cuantificables: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u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onor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gos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erza de fluctu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tc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1DD-4219-411F-BFD2-6234770E70C0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7680" y="1726560"/>
            <a:ext cx="8108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tonces en cada estudio que realicemos llamarem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la variable seleccionada, por ejempl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 de sono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753-2F1B-4D43-9E69-E762498FDBF7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7680" y="2336040"/>
            <a:ext cx="810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ad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sociada a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uede depender de vari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s del estím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4AA6-9B22-4157-98AE-FDEEA21F69E6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17680" y="2336040"/>
            <a:ext cx="810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onor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pende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ns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ur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1F4-0447-45F9-A481-9A17D64FED49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17680" y="1422000"/>
            <a:ext cx="810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general suele suceder que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del estímul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iene más peso que otras en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perceptiv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por ejemplo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u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pende más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de la intens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399-9526-4CC7-8C84-34953488D1F9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7680" y="2915280"/>
            <a:ext cx="810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97B-6E43-4EC9-A5DA-0DCCB746D7FA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7680" y="1422000"/>
            <a:ext cx="810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sicoacú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utilizan los conceptos de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umbrales absolut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mbrales diferenci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dad subjetiv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ón de sensacion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ABB-0F3F-4242-AF9F-84907007D614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7680" y="1117080"/>
            <a:ext cx="8108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llam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mbral absolut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un estímulo físico al valo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lími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la situación en la que el estímul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o evoca 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lguna y aquella en la que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ercibe una 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sociable al estím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E26-07EE-4CC6-97D9-73F022E94B2B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60520" y="3451320"/>
            <a:ext cx="547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8120" y="3362400"/>
            <a:ext cx="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2400" y="1814400"/>
            <a:ext cx="0" cy="176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81400" y="3235320"/>
            <a:ext cx="12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tím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29080" y="3708360"/>
            <a:ext cx="14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Umbral absol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19640" y="286056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231720" y="286056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78400" y="19080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e percibe la 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8640" y="1908000"/>
            <a:ext cx="193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o se percibe la 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B64-FFCB-411E-AD4E-E0E2DC0942E4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3720" y="1649520"/>
            <a:ext cx="82965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Métodos utilizados en experimentos de Psicoacúst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A2B-B394-4F38-8980-993E565B2B0C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7680" y="2031480"/>
            <a:ext cx="8108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general la determinación 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í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a que en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ximidad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umbral los sujetos experimenta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ud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81E-2F5B-483A-A750-EE98CFCC7FFE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7680" y="1422000"/>
            <a:ext cx="810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lo se debe tanto 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ciones fisiológ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mo a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o psicológ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a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fecto memor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puede provocar sensación evocativa cuando ni siquiera está el estím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1B4-69FB-4763-AD69-88762883F614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flipV="1">
            <a:off x="1643040" y="2050920"/>
            <a:ext cx="0" cy="280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67000" y="4646520"/>
            <a:ext cx="573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8640" y="2523960"/>
            <a:ext cx="544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9560" y="2508120"/>
            <a:ext cx="0" cy="21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28640" y="3584520"/>
            <a:ext cx="55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94960" y="2558880"/>
            <a:ext cx="4843800" cy="2046240"/>
            <a:chOff x="1794960" y="2558880"/>
            <a:chExt cx="4843800" cy="2046240"/>
          </a:xfrm>
        </p:grpSpPr>
        <p:sp>
          <p:nvSpPr>
            <p:cNvPr id="85" name=""/>
            <p:cNvSpPr/>
            <p:nvPr/>
          </p:nvSpPr>
          <p:spPr>
            <a:xfrm>
              <a:off x="4217760" y="2558880"/>
              <a:ext cx="2421000" cy="1020600"/>
            </a:xfrm>
            <a:custGeom>
              <a:avLst/>
              <a:gdLst/>
              <a:ahLst/>
              <a:rect l="l" t="t" r="r" b="b"/>
              <a:pathLst>
                <a:path w="1525" h="643">
                  <a:moveTo>
                    <a:pt x="0" y="643"/>
                  </a:moveTo>
                  <a:lnTo>
                    <a:pt x="91" y="507"/>
                  </a:lnTo>
                  <a:lnTo>
                    <a:pt x="185" y="379"/>
                  </a:lnTo>
                  <a:lnTo>
                    <a:pt x="268" y="289"/>
                  </a:lnTo>
                  <a:lnTo>
                    <a:pt x="360" y="210"/>
                  </a:lnTo>
                  <a:lnTo>
                    <a:pt x="433" y="163"/>
                  </a:lnTo>
                  <a:lnTo>
                    <a:pt x="536" y="116"/>
                  </a:lnTo>
                  <a:lnTo>
                    <a:pt x="645" y="84"/>
                  </a:lnTo>
                  <a:lnTo>
                    <a:pt x="768" y="60"/>
                  </a:lnTo>
                  <a:lnTo>
                    <a:pt x="892" y="40"/>
                  </a:lnTo>
                  <a:lnTo>
                    <a:pt x="1038" y="22"/>
                  </a:lnTo>
                  <a:lnTo>
                    <a:pt x="1128" y="13"/>
                  </a:lnTo>
                  <a:lnTo>
                    <a:pt x="1194" y="9"/>
                  </a:lnTo>
                  <a:lnTo>
                    <a:pt x="1273" y="6"/>
                  </a:lnTo>
                  <a:lnTo>
                    <a:pt x="152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794600" y="3584160"/>
              <a:ext cx="2421000" cy="1020960"/>
            </a:xfrm>
            <a:custGeom>
              <a:avLst/>
              <a:gdLst/>
              <a:ahLst/>
              <a:rect l="l" t="t" r="r" b="b"/>
              <a:pathLst>
                <a:path w="1525" h="643">
                  <a:moveTo>
                    <a:pt x="0" y="643"/>
                  </a:moveTo>
                  <a:lnTo>
                    <a:pt x="91" y="507"/>
                  </a:lnTo>
                  <a:lnTo>
                    <a:pt x="185" y="379"/>
                  </a:lnTo>
                  <a:lnTo>
                    <a:pt x="268" y="289"/>
                  </a:lnTo>
                  <a:lnTo>
                    <a:pt x="360" y="210"/>
                  </a:lnTo>
                  <a:lnTo>
                    <a:pt x="433" y="163"/>
                  </a:lnTo>
                  <a:lnTo>
                    <a:pt x="536" y="116"/>
                  </a:lnTo>
                  <a:lnTo>
                    <a:pt x="645" y="84"/>
                  </a:lnTo>
                  <a:lnTo>
                    <a:pt x="768" y="60"/>
                  </a:lnTo>
                  <a:lnTo>
                    <a:pt x="892" y="40"/>
                  </a:lnTo>
                  <a:lnTo>
                    <a:pt x="1038" y="22"/>
                  </a:lnTo>
                  <a:lnTo>
                    <a:pt x="1128" y="13"/>
                  </a:lnTo>
                  <a:lnTo>
                    <a:pt x="1194" y="9"/>
                  </a:lnTo>
                  <a:lnTo>
                    <a:pt x="1273" y="6"/>
                  </a:lnTo>
                  <a:lnTo>
                    <a:pt x="1525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92080" y="1271520"/>
            <a:ext cx="15051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robabilidad de producir sensación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4560" y="2410200"/>
            <a:ext cx="46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4560" y="3457800"/>
            <a:ext cx="46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4560" y="4372200"/>
            <a:ext cx="46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92440" y="4802400"/>
            <a:ext cx="123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Umb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59600" y="4371120"/>
            <a:ext cx="1235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tímulo fí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15040" y="2730240"/>
            <a:ext cx="2163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99"/>
                </a:solidFill>
                <a:latin typeface="Arial"/>
              </a:rPr>
              <a:t>Se deben especificar las condiciones y parámetros aso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51A-540E-4AF3-A51D-94D09206E35B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17680" y="2336040"/>
            <a:ext cx="810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os ejemplos son el umbral de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audi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os umbrales inferior y superior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834-39E9-4E4F-8C5E-DC50FCEEFD08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7680" y="1117080"/>
            <a:ext cx="8108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mbrales diferenci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cias apenas perceptib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scriben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cremen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bsoluto o relativo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necesario para provocar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mbi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preciable en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2D6-76BC-4276-96BF-C8D770F37392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7680" y="1117080"/>
            <a:ext cx="8108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 pueden medir bajo estímu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stant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odulad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etectando un cambio entr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os nive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estímulo interrumpidos por un intervalo o ante un cambio continuo per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luctu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766-7B0E-4E95-B4A3-4003CCE6EC79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084320" y="1196280"/>
            <a:ext cx="7029360" cy="1922760"/>
            <a:chOff x="1084320" y="1196280"/>
            <a:chExt cx="7029360" cy="1922760"/>
          </a:xfrm>
        </p:grpSpPr>
        <p:sp>
          <p:nvSpPr>
            <p:cNvPr id="98" name=""/>
            <p:cNvSpPr/>
            <p:nvPr/>
          </p:nvSpPr>
          <p:spPr>
            <a:xfrm>
              <a:off x="4683240" y="1310400"/>
              <a:ext cx="114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Nivel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19280" y="2901960"/>
              <a:ext cx="5342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757520" y="1644480"/>
              <a:ext cx="0" cy="136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5720" y="1841760"/>
              <a:ext cx="4734000" cy="1062000"/>
            </a:xfrm>
            <a:custGeom>
              <a:avLst/>
              <a:gdLst/>
              <a:ahLst/>
              <a:rect l="l" t="t" r="r" b="b"/>
              <a:pathLst>
                <a:path w="2982" h="669">
                  <a:moveTo>
                    <a:pt x="0" y="669"/>
                  </a:moveTo>
                  <a:lnTo>
                    <a:pt x="501" y="669"/>
                  </a:lnTo>
                  <a:lnTo>
                    <a:pt x="501" y="167"/>
                  </a:lnTo>
                  <a:lnTo>
                    <a:pt x="1235" y="167"/>
                  </a:lnTo>
                  <a:lnTo>
                    <a:pt x="1235" y="669"/>
                  </a:lnTo>
                  <a:lnTo>
                    <a:pt x="1848" y="669"/>
                  </a:lnTo>
                  <a:lnTo>
                    <a:pt x="1848" y="0"/>
                  </a:lnTo>
                  <a:lnTo>
                    <a:pt x="2573" y="0"/>
                  </a:lnTo>
                  <a:lnTo>
                    <a:pt x="2573" y="669"/>
                  </a:lnTo>
                  <a:lnTo>
                    <a:pt x="2982" y="66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62120" y="1607400"/>
              <a:ext cx="114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Nivel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04080" y="272016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84320" y="119628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Estím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84320" y="3962880"/>
            <a:ext cx="7029360" cy="1827720"/>
            <a:chOff x="1084320" y="3962880"/>
            <a:chExt cx="7029360" cy="1827720"/>
          </a:xfrm>
        </p:grpSpPr>
        <p:sp>
          <p:nvSpPr>
            <p:cNvPr id="106" name=""/>
            <p:cNvSpPr/>
            <p:nvPr/>
          </p:nvSpPr>
          <p:spPr>
            <a:xfrm>
              <a:off x="1619280" y="5586120"/>
              <a:ext cx="5342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757520" y="4328640"/>
              <a:ext cx="0" cy="136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757520" y="4549680"/>
              <a:ext cx="4882680" cy="230040"/>
              <a:chOff x="1757520" y="4549680"/>
              <a:chExt cx="4882680" cy="23004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757520" y="4549680"/>
                <a:ext cx="3663720" cy="230040"/>
                <a:chOff x="1757520" y="4549680"/>
                <a:chExt cx="3663720" cy="230040"/>
              </a:xfrm>
            </p:grpSpPr>
            <p:grpSp>
              <p:nvGrpSpPr>
                <p:cNvPr id="110" name=""/>
                <p:cNvGrpSpPr/>
                <p:nvPr/>
              </p:nvGrpSpPr>
              <p:grpSpPr>
                <a:xfrm>
                  <a:off x="1757520" y="4549680"/>
                  <a:ext cx="2443320" cy="230040"/>
                  <a:chOff x="1757520" y="4549680"/>
                  <a:chExt cx="2443320" cy="230040"/>
                </a:xfrm>
              </p:grpSpPr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1757520" y="4549680"/>
                    <a:ext cx="1220400" cy="230040"/>
                    <a:chOff x="1757520" y="4549680"/>
                    <a:chExt cx="1220400" cy="230040"/>
                  </a:xfrm>
                </p:grpSpPr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1757520" y="4549680"/>
                      <a:ext cx="609120" cy="115200"/>
                      <a:chOff x="1757520" y="4549680"/>
                      <a:chExt cx="609120" cy="11520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1757520" y="454968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1"/>
                            </a:moveTo>
                            <a:lnTo>
                              <a:pt x="1042" y="18390"/>
                            </a:lnTo>
                            <a:lnTo>
                              <a:pt x="1958" y="16873"/>
                            </a:lnTo>
                            <a:lnTo>
                              <a:pt x="3000" y="15356"/>
                            </a:lnTo>
                            <a:lnTo>
                              <a:pt x="3958" y="13747"/>
                            </a:lnTo>
                            <a:lnTo>
                              <a:pt x="5042" y="12340"/>
                            </a:lnTo>
                            <a:lnTo>
                              <a:pt x="5958" y="10953"/>
                            </a:lnTo>
                            <a:lnTo>
                              <a:pt x="7000" y="9584"/>
                            </a:lnTo>
                            <a:lnTo>
                              <a:pt x="7958" y="8252"/>
                            </a:lnTo>
                            <a:lnTo>
                              <a:pt x="9000" y="7012"/>
                            </a:lnTo>
                            <a:lnTo>
                              <a:pt x="10042" y="5920"/>
                            </a:lnTo>
                            <a:lnTo>
                              <a:pt x="11000" y="4847"/>
                            </a:lnTo>
                            <a:lnTo>
                              <a:pt x="12000" y="3793"/>
                            </a:lnTo>
                            <a:lnTo>
                              <a:pt x="12958" y="3016"/>
                            </a:lnTo>
                            <a:lnTo>
                              <a:pt x="14042" y="2239"/>
                            </a:lnTo>
                            <a:lnTo>
                              <a:pt x="14958" y="1536"/>
                            </a:lnTo>
                            <a:lnTo>
                              <a:pt x="16000" y="962"/>
                            </a:lnTo>
                            <a:lnTo>
                              <a:pt x="16958" y="592"/>
                            </a:lnTo>
                            <a:lnTo>
                              <a:pt x="18042" y="222"/>
                            </a:lnTo>
                            <a:lnTo>
                              <a:pt x="18917" y="37"/>
                            </a:lnTo>
                            <a:lnTo>
                              <a:pt x="1995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2062080" y="454968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958" y="19981"/>
                            </a:moveTo>
                            <a:lnTo>
                              <a:pt x="18958" y="18390"/>
                            </a:lnTo>
                            <a:lnTo>
                              <a:pt x="18042" y="16873"/>
                            </a:lnTo>
                            <a:lnTo>
                              <a:pt x="17000" y="15356"/>
                            </a:lnTo>
                            <a:lnTo>
                              <a:pt x="16042" y="13747"/>
                            </a:lnTo>
                            <a:lnTo>
                              <a:pt x="14958" y="12340"/>
                            </a:lnTo>
                            <a:lnTo>
                              <a:pt x="14042" y="10953"/>
                            </a:lnTo>
                            <a:lnTo>
                              <a:pt x="12958" y="9584"/>
                            </a:lnTo>
                            <a:lnTo>
                              <a:pt x="12000" y="8252"/>
                            </a:lnTo>
                            <a:lnTo>
                              <a:pt x="11000" y="7012"/>
                            </a:lnTo>
                            <a:lnTo>
                              <a:pt x="10042" y="5920"/>
                            </a:lnTo>
                            <a:lnTo>
                              <a:pt x="9000" y="4847"/>
                            </a:lnTo>
                            <a:lnTo>
                              <a:pt x="8000" y="3793"/>
                            </a:lnTo>
                            <a:lnTo>
                              <a:pt x="7000" y="3016"/>
                            </a:lnTo>
                            <a:lnTo>
                              <a:pt x="6042" y="2239"/>
                            </a:lnTo>
                            <a:lnTo>
                              <a:pt x="5042" y="1536"/>
                            </a:lnTo>
                            <a:lnTo>
                              <a:pt x="4000" y="962"/>
                            </a:lnTo>
                            <a:lnTo>
                              <a:pt x="3000" y="592"/>
                            </a:lnTo>
                            <a:lnTo>
                              <a:pt x="2042" y="222"/>
                            </a:lnTo>
                            <a:lnTo>
                              <a:pt x="1042" y="3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5" name=""/>
                    <p:cNvGrpSpPr/>
                    <p:nvPr/>
                  </p:nvGrpSpPr>
                  <p:grpSpPr>
                    <a:xfrm>
                      <a:off x="2368800" y="4664520"/>
                      <a:ext cx="609120" cy="115200"/>
                      <a:chOff x="2368800" y="4664520"/>
                      <a:chExt cx="609120" cy="115200"/>
                    </a:xfrm>
                  </p:grpSpPr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2368800" y="466452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042" y="1591"/>
                            </a:lnTo>
                            <a:lnTo>
                              <a:pt x="1958" y="3108"/>
                            </a:lnTo>
                            <a:lnTo>
                              <a:pt x="3000" y="4625"/>
                            </a:lnTo>
                            <a:lnTo>
                              <a:pt x="3958" y="6253"/>
                            </a:lnTo>
                            <a:lnTo>
                              <a:pt x="5042" y="7660"/>
                            </a:lnTo>
                            <a:lnTo>
                              <a:pt x="5958" y="9029"/>
                            </a:lnTo>
                            <a:lnTo>
                              <a:pt x="7000" y="10416"/>
                            </a:lnTo>
                            <a:lnTo>
                              <a:pt x="7958" y="11730"/>
                            </a:lnTo>
                            <a:lnTo>
                              <a:pt x="9000" y="12969"/>
                            </a:lnTo>
                            <a:lnTo>
                              <a:pt x="10042" y="14080"/>
                            </a:lnTo>
                            <a:lnTo>
                              <a:pt x="11000" y="15134"/>
                            </a:lnTo>
                            <a:lnTo>
                              <a:pt x="12000" y="16189"/>
                            </a:lnTo>
                            <a:lnTo>
                              <a:pt x="12958" y="16984"/>
                            </a:lnTo>
                            <a:lnTo>
                              <a:pt x="14042" y="17743"/>
                            </a:lnTo>
                            <a:lnTo>
                              <a:pt x="14958" y="18464"/>
                            </a:lnTo>
                            <a:lnTo>
                              <a:pt x="16000" y="19019"/>
                            </a:lnTo>
                            <a:lnTo>
                              <a:pt x="16958" y="19408"/>
                            </a:lnTo>
                            <a:lnTo>
                              <a:pt x="18042" y="19759"/>
                            </a:lnTo>
                            <a:lnTo>
                              <a:pt x="18917" y="19944"/>
                            </a:lnTo>
                            <a:lnTo>
                              <a:pt x="19958" y="1998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2673360" y="466452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958" y="0"/>
                            </a:moveTo>
                            <a:lnTo>
                              <a:pt x="18958" y="1591"/>
                            </a:lnTo>
                            <a:lnTo>
                              <a:pt x="18042" y="3108"/>
                            </a:lnTo>
                            <a:lnTo>
                              <a:pt x="17000" y="4625"/>
                            </a:lnTo>
                            <a:lnTo>
                              <a:pt x="16042" y="6253"/>
                            </a:lnTo>
                            <a:lnTo>
                              <a:pt x="14958" y="7660"/>
                            </a:lnTo>
                            <a:lnTo>
                              <a:pt x="14042" y="9029"/>
                            </a:lnTo>
                            <a:lnTo>
                              <a:pt x="12958" y="10416"/>
                            </a:lnTo>
                            <a:lnTo>
                              <a:pt x="12000" y="11730"/>
                            </a:lnTo>
                            <a:lnTo>
                              <a:pt x="11000" y="12969"/>
                            </a:lnTo>
                            <a:lnTo>
                              <a:pt x="10042" y="14080"/>
                            </a:lnTo>
                            <a:lnTo>
                              <a:pt x="9000" y="15134"/>
                            </a:lnTo>
                            <a:lnTo>
                              <a:pt x="8000" y="16189"/>
                            </a:lnTo>
                            <a:lnTo>
                              <a:pt x="7000" y="16984"/>
                            </a:lnTo>
                            <a:lnTo>
                              <a:pt x="6042" y="17743"/>
                            </a:lnTo>
                            <a:lnTo>
                              <a:pt x="5042" y="18464"/>
                            </a:lnTo>
                            <a:lnTo>
                              <a:pt x="4000" y="19019"/>
                            </a:lnTo>
                            <a:lnTo>
                              <a:pt x="3000" y="19408"/>
                            </a:lnTo>
                            <a:lnTo>
                              <a:pt x="2042" y="19759"/>
                            </a:lnTo>
                            <a:lnTo>
                              <a:pt x="1042" y="19944"/>
                            </a:lnTo>
                            <a:lnTo>
                              <a:pt x="0" y="1998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978640" y="4549680"/>
                    <a:ext cx="1222200" cy="230040"/>
                    <a:chOff x="2978640" y="4549680"/>
                    <a:chExt cx="1222200" cy="230040"/>
                  </a:xfrm>
                </p:grpSpPr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2978640" y="4549680"/>
                      <a:ext cx="610200" cy="115200"/>
                      <a:chOff x="2978640" y="4549680"/>
                      <a:chExt cx="610200" cy="11520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2978640" y="4549680"/>
                        <a:ext cx="30492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19981"/>
                            </a:moveTo>
                            <a:lnTo>
                              <a:pt x="1042" y="18390"/>
                            </a:lnTo>
                            <a:lnTo>
                              <a:pt x="1958" y="16873"/>
                            </a:lnTo>
                            <a:lnTo>
                              <a:pt x="3000" y="15356"/>
                            </a:lnTo>
                            <a:lnTo>
                              <a:pt x="3958" y="13747"/>
                            </a:lnTo>
                            <a:lnTo>
                              <a:pt x="5042" y="12340"/>
                            </a:lnTo>
                            <a:lnTo>
                              <a:pt x="5958" y="10953"/>
                            </a:lnTo>
                            <a:lnTo>
                              <a:pt x="7000" y="9584"/>
                            </a:lnTo>
                            <a:lnTo>
                              <a:pt x="7958" y="8252"/>
                            </a:lnTo>
                            <a:lnTo>
                              <a:pt x="9000" y="7012"/>
                            </a:lnTo>
                            <a:lnTo>
                              <a:pt x="10042" y="5920"/>
                            </a:lnTo>
                            <a:lnTo>
                              <a:pt x="11000" y="4847"/>
                            </a:lnTo>
                            <a:lnTo>
                              <a:pt x="12000" y="3793"/>
                            </a:lnTo>
                            <a:lnTo>
                              <a:pt x="12958" y="3016"/>
                            </a:lnTo>
                            <a:lnTo>
                              <a:pt x="14042" y="2239"/>
                            </a:lnTo>
                            <a:lnTo>
                              <a:pt x="14958" y="1536"/>
                            </a:lnTo>
                            <a:lnTo>
                              <a:pt x="16000" y="962"/>
                            </a:lnTo>
                            <a:lnTo>
                              <a:pt x="16958" y="592"/>
                            </a:lnTo>
                            <a:lnTo>
                              <a:pt x="18042" y="222"/>
                            </a:lnTo>
                            <a:lnTo>
                              <a:pt x="18917" y="37"/>
                            </a:lnTo>
                            <a:lnTo>
                              <a:pt x="1995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283920" y="4549680"/>
                        <a:ext cx="30492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958" y="19981"/>
                            </a:moveTo>
                            <a:lnTo>
                              <a:pt x="18958" y="18390"/>
                            </a:lnTo>
                            <a:lnTo>
                              <a:pt x="18042" y="16873"/>
                            </a:lnTo>
                            <a:lnTo>
                              <a:pt x="17000" y="15356"/>
                            </a:lnTo>
                            <a:lnTo>
                              <a:pt x="16042" y="13747"/>
                            </a:lnTo>
                            <a:lnTo>
                              <a:pt x="14958" y="12340"/>
                            </a:lnTo>
                            <a:lnTo>
                              <a:pt x="14042" y="10953"/>
                            </a:lnTo>
                            <a:lnTo>
                              <a:pt x="12958" y="9584"/>
                            </a:lnTo>
                            <a:lnTo>
                              <a:pt x="12000" y="8252"/>
                            </a:lnTo>
                            <a:lnTo>
                              <a:pt x="11000" y="7012"/>
                            </a:lnTo>
                            <a:lnTo>
                              <a:pt x="10042" y="5920"/>
                            </a:lnTo>
                            <a:lnTo>
                              <a:pt x="9000" y="4847"/>
                            </a:lnTo>
                            <a:lnTo>
                              <a:pt x="8000" y="3793"/>
                            </a:lnTo>
                            <a:lnTo>
                              <a:pt x="7000" y="3016"/>
                            </a:lnTo>
                            <a:lnTo>
                              <a:pt x="6042" y="2239"/>
                            </a:lnTo>
                            <a:lnTo>
                              <a:pt x="5042" y="1536"/>
                            </a:lnTo>
                            <a:lnTo>
                              <a:pt x="4000" y="962"/>
                            </a:lnTo>
                            <a:lnTo>
                              <a:pt x="3000" y="592"/>
                            </a:lnTo>
                            <a:lnTo>
                              <a:pt x="2042" y="222"/>
                            </a:lnTo>
                            <a:lnTo>
                              <a:pt x="1042" y="3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2" name=""/>
                    <p:cNvGrpSpPr/>
                    <p:nvPr/>
                  </p:nvGrpSpPr>
                  <p:grpSpPr>
                    <a:xfrm>
                      <a:off x="3589560" y="4664520"/>
                      <a:ext cx="611280" cy="115200"/>
                      <a:chOff x="3589560" y="4664520"/>
                      <a:chExt cx="611280" cy="115200"/>
                    </a:xfrm>
                  </p:grpSpPr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589560" y="466452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0" y="0"/>
                            </a:moveTo>
                            <a:lnTo>
                              <a:pt x="1042" y="1591"/>
                            </a:lnTo>
                            <a:lnTo>
                              <a:pt x="1958" y="3108"/>
                            </a:lnTo>
                            <a:lnTo>
                              <a:pt x="3000" y="4625"/>
                            </a:lnTo>
                            <a:lnTo>
                              <a:pt x="3958" y="6253"/>
                            </a:lnTo>
                            <a:lnTo>
                              <a:pt x="5042" y="7660"/>
                            </a:lnTo>
                            <a:lnTo>
                              <a:pt x="5958" y="9029"/>
                            </a:lnTo>
                            <a:lnTo>
                              <a:pt x="7000" y="10416"/>
                            </a:lnTo>
                            <a:lnTo>
                              <a:pt x="7958" y="11730"/>
                            </a:lnTo>
                            <a:lnTo>
                              <a:pt x="9000" y="12969"/>
                            </a:lnTo>
                            <a:lnTo>
                              <a:pt x="10042" y="14080"/>
                            </a:lnTo>
                            <a:lnTo>
                              <a:pt x="11000" y="15134"/>
                            </a:lnTo>
                            <a:lnTo>
                              <a:pt x="12000" y="16189"/>
                            </a:lnTo>
                            <a:lnTo>
                              <a:pt x="12958" y="16984"/>
                            </a:lnTo>
                            <a:lnTo>
                              <a:pt x="14042" y="17743"/>
                            </a:lnTo>
                            <a:lnTo>
                              <a:pt x="14958" y="18464"/>
                            </a:lnTo>
                            <a:lnTo>
                              <a:pt x="16000" y="19019"/>
                            </a:lnTo>
                            <a:lnTo>
                              <a:pt x="16958" y="19408"/>
                            </a:lnTo>
                            <a:lnTo>
                              <a:pt x="18042" y="19759"/>
                            </a:lnTo>
                            <a:lnTo>
                              <a:pt x="18917" y="19944"/>
                            </a:lnTo>
                            <a:lnTo>
                              <a:pt x="19958" y="1998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896280" y="4664520"/>
                        <a:ext cx="304560" cy="11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00" h="20000">
                            <a:moveTo>
                              <a:pt x="19958" y="0"/>
                            </a:moveTo>
                            <a:lnTo>
                              <a:pt x="18958" y="1591"/>
                            </a:lnTo>
                            <a:lnTo>
                              <a:pt x="18042" y="3108"/>
                            </a:lnTo>
                            <a:lnTo>
                              <a:pt x="17000" y="4625"/>
                            </a:lnTo>
                            <a:lnTo>
                              <a:pt x="16042" y="6253"/>
                            </a:lnTo>
                            <a:lnTo>
                              <a:pt x="14958" y="7660"/>
                            </a:lnTo>
                            <a:lnTo>
                              <a:pt x="14042" y="9029"/>
                            </a:lnTo>
                            <a:lnTo>
                              <a:pt x="12958" y="10416"/>
                            </a:lnTo>
                            <a:lnTo>
                              <a:pt x="12000" y="11730"/>
                            </a:lnTo>
                            <a:lnTo>
                              <a:pt x="11000" y="12969"/>
                            </a:lnTo>
                            <a:lnTo>
                              <a:pt x="10042" y="14080"/>
                            </a:lnTo>
                            <a:lnTo>
                              <a:pt x="9000" y="15134"/>
                            </a:lnTo>
                            <a:lnTo>
                              <a:pt x="8000" y="16189"/>
                            </a:lnTo>
                            <a:lnTo>
                              <a:pt x="7000" y="16984"/>
                            </a:lnTo>
                            <a:lnTo>
                              <a:pt x="6042" y="17743"/>
                            </a:lnTo>
                            <a:lnTo>
                              <a:pt x="5042" y="18464"/>
                            </a:lnTo>
                            <a:lnTo>
                              <a:pt x="4000" y="19019"/>
                            </a:lnTo>
                            <a:lnTo>
                              <a:pt x="3000" y="19408"/>
                            </a:lnTo>
                            <a:lnTo>
                              <a:pt x="2042" y="19759"/>
                            </a:lnTo>
                            <a:lnTo>
                              <a:pt x="1042" y="19944"/>
                            </a:lnTo>
                            <a:lnTo>
                              <a:pt x="0" y="1998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4200120" y="4549680"/>
                  <a:ext cx="1221120" cy="230040"/>
                  <a:chOff x="4200120" y="4549680"/>
                  <a:chExt cx="1221120" cy="230040"/>
                </a:xfrm>
              </p:grpSpPr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4200120" y="4549680"/>
                    <a:ext cx="609840" cy="115200"/>
                    <a:chOff x="4200120" y="4549680"/>
                    <a:chExt cx="609840" cy="11520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4200120" y="4549680"/>
                      <a:ext cx="3045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19981"/>
                          </a:moveTo>
                          <a:lnTo>
                            <a:pt x="1042" y="18390"/>
                          </a:lnTo>
                          <a:lnTo>
                            <a:pt x="1958" y="16873"/>
                          </a:lnTo>
                          <a:lnTo>
                            <a:pt x="3000" y="15356"/>
                          </a:lnTo>
                          <a:lnTo>
                            <a:pt x="3958" y="13747"/>
                          </a:lnTo>
                          <a:lnTo>
                            <a:pt x="5042" y="12340"/>
                          </a:lnTo>
                          <a:lnTo>
                            <a:pt x="5958" y="10953"/>
                          </a:lnTo>
                          <a:lnTo>
                            <a:pt x="7000" y="9584"/>
                          </a:lnTo>
                          <a:lnTo>
                            <a:pt x="7958" y="8252"/>
                          </a:lnTo>
                          <a:lnTo>
                            <a:pt x="9000" y="7012"/>
                          </a:lnTo>
                          <a:lnTo>
                            <a:pt x="10042" y="5920"/>
                          </a:lnTo>
                          <a:lnTo>
                            <a:pt x="11000" y="4847"/>
                          </a:lnTo>
                          <a:lnTo>
                            <a:pt x="12000" y="3793"/>
                          </a:lnTo>
                          <a:lnTo>
                            <a:pt x="12958" y="3016"/>
                          </a:lnTo>
                          <a:lnTo>
                            <a:pt x="14042" y="2239"/>
                          </a:lnTo>
                          <a:lnTo>
                            <a:pt x="14958" y="1536"/>
                          </a:lnTo>
                          <a:lnTo>
                            <a:pt x="16000" y="962"/>
                          </a:lnTo>
                          <a:lnTo>
                            <a:pt x="16958" y="592"/>
                          </a:lnTo>
                          <a:lnTo>
                            <a:pt x="18042" y="222"/>
                          </a:lnTo>
                          <a:lnTo>
                            <a:pt x="18917" y="37"/>
                          </a:lnTo>
                          <a:lnTo>
                            <a:pt x="1995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4505400" y="4549680"/>
                      <a:ext cx="3045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19981"/>
                          </a:moveTo>
                          <a:lnTo>
                            <a:pt x="18958" y="18390"/>
                          </a:lnTo>
                          <a:lnTo>
                            <a:pt x="18042" y="16873"/>
                          </a:lnTo>
                          <a:lnTo>
                            <a:pt x="17000" y="15356"/>
                          </a:lnTo>
                          <a:lnTo>
                            <a:pt x="16042" y="13747"/>
                          </a:lnTo>
                          <a:lnTo>
                            <a:pt x="14958" y="12340"/>
                          </a:lnTo>
                          <a:lnTo>
                            <a:pt x="14042" y="10953"/>
                          </a:lnTo>
                          <a:lnTo>
                            <a:pt x="12958" y="9584"/>
                          </a:lnTo>
                          <a:lnTo>
                            <a:pt x="12000" y="8252"/>
                          </a:lnTo>
                          <a:lnTo>
                            <a:pt x="11000" y="7012"/>
                          </a:lnTo>
                          <a:lnTo>
                            <a:pt x="10042" y="5920"/>
                          </a:lnTo>
                          <a:lnTo>
                            <a:pt x="9000" y="4847"/>
                          </a:lnTo>
                          <a:lnTo>
                            <a:pt x="8000" y="3793"/>
                          </a:lnTo>
                          <a:lnTo>
                            <a:pt x="7000" y="3016"/>
                          </a:lnTo>
                          <a:lnTo>
                            <a:pt x="6042" y="2239"/>
                          </a:lnTo>
                          <a:lnTo>
                            <a:pt x="5042" y="1536"/>
                          </a:lnTo>
                          <a:lnTo>
                            <a:pt x="4000" y="962"/>
                          </a:lnTo>
                          <a:lnTo>
                            <a:pt x="3000" y="592"/>
                          </a:lnTo>
                          <a:lnTo>
                            <a:pt x="2042" y="222"/>
                          </a:lnTo>
                          <a:lnTo>
                            <a:pt x="1042" y="3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4811400" y="4664520"/>
                    <a:ext cx="609840" cy="115200"/>
                    <a:chOff x="4811400" y="4664520"/>
                    <a:chExt cx="609840" cy="11520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811400" y="4664520"/>
                      <a:ext cx="3045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0" y="0"/>
                          </a:moveTo>
                          <a:lnTo>
                            <a:pt x="1042" y="1591"/>
                          </a:lnTo>
                          <a:lnTo>
                            <a:pt x="1958" y="3108"/>
                          </a:lnTo>
                          <a:lnTo>
                            <a:pt x="3000" y="4625"/>
                          </a:lnTo>
                          <a:lnTo>
                            <a:pt x="3958" y="6253"/>
                          </a:lnTo>
                          <a:lnTo>
                            <a:pt x="5042" y="7660"/>
                          </a:lnTo>
                          <a:lnTo>
                            <a:pt x="5958" y="9029"/>
                          </a:lnTo>
                          <a:lnTo>
                            <a:pt x="7000" y="10416"/>
                          </a:lnTo>
                          <a:lnTo>
                            <a:pt x="7958" y="11730"/>
                          </a:lnTo>
                          <a:lnTo>
                            <a:pt x="9000" y="12969"/>
                          </a:lnTo>
                          <a:lnTo>
                            <a:pt x="10042" y="14080"/>
                          </a:lnTo>
                          <a:lnTo>
                            <a:pt x="11000" y="15134"/>
                          </a:lnTo>
                          <a:lnTo>
                            <a:pt x="12000" y="16189"/>
                          </a:lnTo>
                          <a:lnTo>
                            <a:pt x="12958" y="16984"/>
                          </a:lnTo>
                          <a:lnTo>
                            <a:pt x="14042" y="17743"/>
                          </a:lnTo>
                          <a:lnTo>
                            <a:pt x="14958" y="18464"/>
                          </a:lnTo>
                          <a:lnTo>
                            <a:pt x="16000" y="19019"/>
                          </a:lnTo>
                          <a:lnTo>
                            <a:pt x="16958" y="19408"/>
                          </a:lnTo>
                          <a:lnTo>
                            <a:pt x="18042" y="19759"/>
                          </a:lnTo>
                          <a:lnTo>
                            <a:pt x="18917" y="19944"/>
                          </a:lnTo>
                          <a:lnTo>
                            <a:pt x="19958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5116680" y="4664520"/>
                      <a:ext cx="3045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58" y="0"/>
                          </a:moveTo>
                          <a:lnTo>
                            <a:pt x="18958" y="1591"/>
                          </a:lnTo>
                          <a:lnTo>
                            <a:pt x="18042" y="3108"/>
                          </a:lnTo>
                          <a:lnTo>
                            <a:pt x="17000" y="4625"/>
                          </a:lnTo>
                          <a:lnTo>
                            <a:pt x="16042" y="6253"/>
                          </a:lnTo>
                          <a:lnTo>
                            <a:pt x="14958" y="7660"/>
                          </a:lnTo>
                          <a:lnTo>
                            <a:pt x="14042" y="9029"/>
                          </a:lnTo>
                          <a:lnTo>
                            <a:pt x="12958" y="10416"/>
                          </a:lnTo>
                          <a:lnTo>
                            <a:pt x="12000" y="11730"/>
                          </a:lnTo>
                          <a:lnTo>
                            <a:pt x="11000" y="12969"/>
                          </a:lnTo>
                          <a:lnTo>
                            <a:pt x="10042" y="14080"/>
                          </a:lnTo>
                          <a:lnTo>
                            <a:pt x="9000" y="15134"/>
                          </a:lnTo>
                          <a:lnTo>
                            <a:pt x="8000" y="16189"/>
                          </a:lnTo>
                          <a:lnTo>
                            <a:pt x="7000" y="16984"/>
                          </a:lnTo>
                          <a:lnTo>
                            <a:pt x="6042" y="17743"/>
                          </a:lnTo>
                          <a:lnTo>
                            <a:pt x="5042" y="18464"/>
                          </a:lnTo>
                          <a:lnTo>
                            <a:pt x="4000" y="19019"/>
                          </a:lnTo>
                          <a:lnTo>
                            <a:pt x="3000" y="19408"/>
                          </a:lnTo>
                          <a:lnTo>
                            <a:pt x="2042" y="19759"/>
                          </a:lnTo>
                          <a:lnTo>
                            <a:pt x="1042" y="19944"/>
                          </a:lnTo>
                          <a:lnTo>
                            <a:pt x="0" y="1998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5419800" y="4549680"/>
                <a:ext cx="1220400" cy="230040"/>
                <a:chOff x="5419800" y="4549680"/>
                <a:chExt cx="1220400" cy="23004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5419800" y="4549680"/>
                  <a:ext cx="609120" cy="115200"/>
                  <a:chOff x="5419800" y="4549680"/>
                  <a:chExt cx="609120" cy="11520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5419800" y="4549680"/>
                    <a:ext cx="30456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1"/>
                        </a:moveTo>
                        <a:lnTo>
                          <a:pt x="1042" y="18390"/>
                        </a:lnTo>
                        <a:lnTo>
                          <a:pt x="1958" y="16873"/>
                        </a:lnTo>
                        <a:lnTo>
                          <a:pt x="3000" y="15356"/>
                        </a:lnTo>
                        <a:lnTo>
                          <a:pt x="3958" y="13747"/>
                        </a:lnTo>
                        <a:lnTo>
                          <a:pt x="5042" y="12340"/>
                        </a:lnTo>
                        <a:lnTo>
                          <a:pt x="5958" y="10953"/>
                        </a:lnTo>
                        <a:lnTo>
                          <a:pt x="7000" y="9584"/>
                        </a:lnTo>
                        <a:lnTo>
                          <a:pt x="7958" y="8252"/>
                        </a:lnTo>
                        <a:lnTo>
                          <a:pt x="9000" y="7012"/>
                        </a:lnTo>
                        <a:lnTo>
                          <a:pt x="10042" y="5920"/>
                        </a:lnTo>
                        <a:lnTo>
                          <a:pt x="11000" y="4847"/>
                        </a:lnTo>
                        <a:lnTo>
                          <a:pt x="12000" y="3793"/>
                        </a:lnTo>
                        <a:lnTo>
                          <a:pt x="12958" y="3016"/>
                        </a:lnTo>
                        <a:lnTo>
                          <a:pt x="14042" y="2239"/>
                        </a:lnTo>
                        <a:lnTo>
                          <a:pt x="14958" y="1536"/>
                        </a:lnTo>
                        <a:lnTo>
                          <a:pt x="16000" y="962"/>
                        </a:lnTo>
                        <a:lnTo>
                          <a:pt x="16958" y="592"/>
                        </a:lnTo>
                        <a:lnTo>
                          <a:pt x="18042" y="222"/>
                        </a:lnTo>
                        <a:lnTo>
                          <a:pt x="18917" y="37"/>
                        </a:lnTo>
                        <a:lnTo>
                          <a:pt x="19958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724360" y="4549680"/>
                    <a:ext cx="30456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19981"/>
                        </a:moveTo>
                        <a:lnTo>
                          <a:pt x="18958" y="18390"/>
                        </a:lnTo>
                        <a:lnTo>
                          <a:pt x="18042" y="16873"/>
                        </a:lnTo>
                        <a:lnTo>
                          <a:pt x="17000" y="15356"/>
                        </a:lnTo>
                        <a:lnTo>
                          <a:pt x="16042" y="13747"/>
                        </a:lnTo>
                        <a:lnTo>
                          <a:pt x="14958" y="12340"/>
                        </a:lnTo>
                        <a:lnTo>
                          <a:pt x="14042" y="10953"/>
                        </a:lnTo>
                        <a:lnTo>
                          <a:pt x="12958" y="9584"/>
                        </a:lnTo>
                        <a:lnTo>
                          <a:pt x="12000" y="8252"/>
                        </a:lnTo>
                        <a:lnTo>
                          <a:pt x="11000" y="7012"/>
                        </a:lnTo>
                        <a:lnTo>
                          <a:pt x="10042" y="5920"/>
                        </a:lnTo>
                        <a:lnTo>
                          <a:pt x="9000" y="4847"/>
                        </a:lnTo>
                        <a:lnTo>
                          <a:pt x="8000" y="3793"/>
                        </a:lnTo>
                        <a:lnTo>
                          <a:pt x="7000" y="3016"/>
                        </a:lnTo>
                        <a:lnTo>
                          <a:pt x="6042" y="2239"/>
                        </a:lnTo>
                        <a:lnTo>
                          <a:pt x="5042" y="1536"/>
                        </a:lnTo>
                        <a:lnTo>
                          <a:pt x="4000" y="962"/>
                        </a:lnTo>
                        <a:lnTo>
                          <a:pt x="3000" y="592"/>
                        </a:lnTo>
                        <a:lnTo>
                          <a:pt x="2042" y="222"/>
                        </a:lnTo>
                        <a:lnTo>
                          <a:pt x="1042" y="3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031080" y="4664520"/>
                  <a:ext cx="609120" cy="115200"/>
                  <a:chOff x="6031080" y="4664520"/>
                  <a:chExt cx="609120" cy="1152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6031080" y="4664520"/>
                    <a:ext cx="30456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042" y="1591"/>
                        </a:lnTo>
                        <a:lnTo>
                          <a:pt x="1958" y="3108"/>
                        </a:lnTo>
                        <a:lnTo>
                          <a:pt x="3000" y="4625"/>
                        </a:lnTo>
                        <a:lnTo>
                          <a:pt x="3958" y="6253"/>
                        </a:lnTo>
                        <a:lnTo>
                          <a:pt x="5042" y="7660"/>
                        </a:lnTo>
                        <a:lnTo>
                          <a:pt x="5958" y="9029"/>
                        </a:lnTo>
                        <a:lnTo>
                          <a:pt x="7000" y="10416"/>
                        </a:lnTo>
                        <a:lnTo>
                          <a:pt x="7958" y="11730"/>
                        </a:lnTo>
                        <a:lnTo>
                          <a:pt x="9000" y="12969"/>
                        </a:lnTo>
                        <a:lnTo>
                          <a:pt x="10042" y="14080"/>
                        </a:lnTo>
                        <a:lnTo>
                          <a:pt x="11000" y="15134"/>
                        </a:lnTo>
                        <a:lnTo>
                          <a:pt x="12000" y="16189"/>
                        </a:lnTo>
                        <a:lnTo>
                          <a:pt x="12958" y="16984"/>
                        </a:lnTo>
                        <a:lnTo>
                          <a:pt x="14042" y="17743"/>
                        </a:lnTo>
                        <a:lnTo>
                          <a:pt x="14958" y="18464"/>
                        </a:lnTo>
                        <a:lnTo>
                          <a:pt x="16000" y="19019"/>
                        </a:lnTo>
                        <a:lnTo>
                          <a:pt x="16958" y="19408"/>
                        </a:lnTo>
                        <a:lnTo>
                          <a:pt x="18042" y="19759"/>
                        </a:lnTo>
                        <a:lnTo>
                          <a:pt x="18917" y="19944"/>
                        </a:lnTo>
                        <a:lnTo>
                          <a:pt x="19958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335640" y="4664520"/>
                    <a:ext cx="30456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58" y="0"/>
                        </a:moveTo>
                        <a:lnTo>
                          <a:pt x="18958" y="1591"/>
                        </a:lnTo>
                        <a:lnTo>
                          <a:pt x="18042" y="3108"/>
                        </a:lnTo>
                        <a:lnTo>
                          <a:pt x="17000" y="4625"/>
                        </a:lnTo>
                        <a:lnTo>
                          <a:pt x="16042" y="6253"/>
                        </a:lnTo>
                        <a:lnTo>
                          <a:pt x="14958" y="7660"/>
                        </a:lnTo>
                        <a:lnTo>
                          <a:pt x="14042" y="9029"/>
                        </a:lnTo>
                        <a:lnTo>
                          <a:pt x="12958" y="10416"/>
                        </a:lnTo>
                        <a:lnTo>
                          <a:pt x="12000" y="11730"/>
                        </a:lnTo>
                        <a:lnTo>
                          <a:pt x="11000" y="12969"/>
                        </a:lnTo>
                        <a:lnTo>
                          <a:pt x="10042" y="14080"/>
                        </a:lnTo>
                        <a:lnTo>
                          <a:pt x="9000" y="15134"/>
                        </a:lnTo>
                        <a:lnTo>
                          <a:pt x="8000" y="16189"/>
                        </a:lnTo>
                        <a:lnTo>
                          <a:pt x="7000" y="16984"/>
                        </a:lnTo>
                        <a:lnTo>
                          <a:pt x="6042" y="17743"/>
                        </a:lnTo>
                        <a:lnTo>
                          <a:pt x="5042" y="18464"/>
                        </a:lnTo>
                        <a:lnTo>
                          <a:pt x="4000" y="19019"/>
                        </a:lnTo>
                        <a:lnTo>
                          <a:pt x="3000" y="19408"/>
                        </a:lnTo>
                        <a:lnTo>
                          <a:pt x="2042" y="19759"/>
                        </a:lnTo>
                        <a:lnTo>
                          <a:pt x="1042" y="19944"/>
                        </a:lnTo>
                        <a:lnTo>
                          <a:pt x="0" y="19981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9" name=""/>
            <p:cNvSpPr/>
            <p:nvPr/>
          </p:nvSpPr>
          <p:spPr>
            <a:xfrm>
              <a:off x="3465360" y="403920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Modul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04080" y="539172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84320" y="396288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Estím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F73-3E07-45E5-AEA6-AC1347F1ACF1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17680" y="2336040"/>
            <a:ext cx="810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diferencias apenas perceptible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ns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on do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A6F-EFD5-4A02-81FE-7C69669A12AF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17680" y="1117080"/>
            <a:ext cx="8108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experimento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dad subjetiv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buscan encontrar un estímulo con ciertas características que se perciba con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ismo nive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ciert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de 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otro sonid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fe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F78-54F3-466A-85EA-3D38BE7D7DEC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26920" y="2031480"/>
            <a:ext cx="749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 podríamos buscar un ton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500 H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se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mente sono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un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1 kH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60 d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159-FD2B-4704-9808-B47A39C6A87F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3720" y="2062080"/>
            <a:ext cx="8296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7DE-13C5-4ACC-8AE3-80161C451233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083120" y="238068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gualmente sono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300400" y="2055600"/>
            <a:ext cx="0" cy="296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81240" y="4805280"/>
            <a:ext cx="520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65760" y="3575160"/>
            <a:ext cx="88920" cy="8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1120" y="3043080"/>
            <a:ext cx="88920" cy="8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10040" y="366552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0440" y="3132000"/>
            <a:ext cx="0" cy="166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293560" y="3087720"/>
            <a:ext cx="134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312640" y="3619440"/>
            <a:ext cx="255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1000" y="3430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6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05760" y="48020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2520" y="4802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50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92320" y="168768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4760" y="28018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64160" y="46213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7561400">
            <a:off x="4340880" y="2468880"/>
            <a:ext cx="206280" cy="1287360"/>
          </a:xfrm>
          <a:custGeom>
            <a:avLst/>
            <a:gdLst>
              <a:gd name="textAreaLeft" fmla="*/ 0 w 206280"/>
              <a:gd name="textAreaRight" fmla="*/ 74520 w 20628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57F-236F-420B-9A61-ABB2947BC65A}" type="slidenum">
              <a:t>30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2031480"/>
            <a:ext cx="749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general el resultado está afectado por ciert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pers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tant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rasuje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rsuje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CA2-FC12-4192-A509-F30145BFD874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 flipV="1">
            <a:off x="1935000" y="1835280"/>
            <a:ext cx="0" cy="34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5320" y="5024520"/>
            <a:ext cx="604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21200" y="3597120"/>
            <a:ext cx="8892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64040" y="3701880"/>
            <a:ext cx="0" cy="131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59320" y="2532240"/>
            <a:ext cx="0" cy="24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27080" y="3041640"/>
            <a:ext cx="301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949040" y="3649680"/>
            <a:ext cx="296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94040" y="3430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60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56520" y="5021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99600" y="5021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50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24760" y="140796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99240" y="2700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34320" y="4811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156280" y="3005280"/>
            <a:ext cx="1915920" cy="714240"/>
            <a:chOff x="5156280" y="3005280"/>
            <a:chExt cx="1915920" cy="714240"/>
          </a:xfrm>
        </p:grpSpPr>
        <p:sp>
          <p:nvSpPr>
            <p:cNvPr id="176" name=""/>
            <p:cNvSpPr/>
            <p:nvPr/>
          </p:nvSpPr>
          <p:spPr>
            <a:xfrm>
              <a:off x="5156280" y="3015720"/>
              <a:ext cx="191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Igualmente sono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26120" y="3005280"/>
              <a:ext cx="114120" cy="71424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18360 h 714240"/>
                <a:gd name="textAreaBottom" fmla="*/ 69588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516480" y="30956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16480" y="32432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16480" y="304308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16480" y="298116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16480" y="29336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16480" y="27716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16480" y="260496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16480" y="28670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16480" y="339084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16480" y="2438280"/>
            <a:ext cx="88560" cy="8892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886200" y="2152800"/>
            <a:ext cx="600120" cy="1900080"/>
            <a:chOff x="3886200" y="2152800"/>
            <a:chExt cx="600120" cy="1900080"/>
          </a:xfrm>
        </p:grpSpPr>
        <p:sp>
          <p:nvSpPr>
            <p:cNvPr id="189" name=""/>
            <p:cNvSpPr/>
            <p:nvPr/>
          </p:nvSpPr>
          <p:spPr>
            <a:xfrm flipV="1">
              <a:off x="3938760" y="2152800"/>
              <a:ext cx="0" cy="19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3805200" y="2471400"/>
              <a:ext cx="701640" cy="425520"/>
            </a:xfrm>
            <a:custGeom>
              <a:avLst/>
              <a:gdLst/>
              <a:ahLst/>
              <a:rect l="l" t="t" r="r" b="b"/>
              <a:pathLst>
                <a:path w="2151" h="1338">
                  <a:moveTo>
                    <a:pt x="0" y="1338"/>
                  </a:moveTo>
                  <a:lnTo>
                    <a:pt x="312" y="1338"/>
                  </a:lnTo>
                  <a:lnTo>
                    <a:pt x="449" y="1335"/>
                  </a:lnTo>
                  <a:lnTo>
                    <a:pt x="556" y="1329"/>
                  </a:lnTo>
                  <a:lnTo>
                    <a:pt x="701" y="1320"/>
                  </a:lnTo>
                  <a:lnTo>
                    <a:pt x="842" y="1302"/>
                  </a:lnTo>
                  <a:lnTo>
                    <a:pt x="966" y="1272"/>
                  </a:lnTo>
                  <a:lnTo>
                    <a:pt x="1039" y="1245"/>
                  </a:lnTo>
                  <a:lnTo>
                    <a:pt x="1108" y="1212"/>
                  </a:lnTo>
                  <a:lnTo>
                    <a:pt x="1176" y="1167"/>
                  </a:lnTo>
                  <a:lnTo>
                    <a:pt x="1244" y="1116"/>
                  </a:lnTo>
                  <a:lnTo>
                    <a:pt x="1330" y="1038"/>
                  </a:lnTo>
                  <a:lnTo>
                    <a:pt x="1394" y="963"/>
                  </a:lnTo>
                  <a:lnTo>
                    <a:pt x="1475" y="849"/>
                  </a:lnTo>
                  <a:lnTo>
                    <a:pt x="1552" y="735"/>
                  </a:lnTo>
                  <a:lnTo>
                    <a:pt x="1621" y="627"/>
                  </a:lnTo>
                  <a:lnTo>
                    <a:pt x="1693" y="504"/>
                  </a:lnTo>
                  <a:lnTo>
                    <a:pt x="1758" y="396"/>
                  </a:lnTo>
                  <a:lnTo>
                    <a:pt x="1813" y="306"/>
                  </a:lnTo>
                  <a:lnTo>
                    <a:pt x="1862" y="234"/>
                  </a:lnTo>
                  <a:lnTo>
                    <a:pt x="1912" y="165"/>
                  </a:lnTo>
                  <a:lnTo>
                    <a:pt x="1967" y="102"/>
                  </a:lnTo>
                  <a:lnTo>
                    <a:pt x="2018" y="54"/>
                  </a:lnTo>
                  <a:lnTo>
                    <a:pt x="2061" y="24"/>
                  </a:lnTo>
                  <a:lnTo>
                    <a:pt x="2117" y="3"/>
                  </a:lnTo>
                  <a:lnTo>
                    <a:pt x="2151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44880" y="3035160"/>
              <a:ext cx="424080" cy="920880"/>
            </a:xfrm>
            <a:custGeom>
              <a:avLst/>
              <a:gdLst/>
              <a:ahLst/>
              <a:rect l="l" t="t" r="r" b="b"/>
              <a:pathLst>
                <a:path w="267" h="580">
                  <a:moveTo>
                    <a:pt x="2" y="580"/>
                  </a:moveTo>
                  <a:lnTo>
                    <a:pt x="1" y="380"/>
                  </a:lnTo>
                  <a:lnTo>
                    <a:pt x="0" y="350"/>
                  </a:lnTo>
                  <a:lnTo>
                    <a:pt x="1" y="328"/>
                  </a:lnTo>
                  <a:lnTo>
                    <a:pt x="3" y="298"/>
                  </a:lnTo>
                  <a:lnTo>
                    <a:pt x="6" y="269"/>
                  </a:lnTo>
                  <a:lnTo>
                    <a:pt x="12" y="243"/>
                  </a:lnTo>
                  <a:lnTo>
                    <a:pt x="18" y="228"/>
                  </a:lnTo>
                  <a:lnTo>
                    <a:pt x="24" y="214"/>
                  </a:lnTo>
                  <a:lnTo>
                    <a:pt x="33" y="200"/>
                  </a:lnTo>
                  <a:lnTo>
                    <a:pt x="43" y="186"/>
                  </a:lnTo>
                  <a:lnTo>
                    <a:pt x="59" y="169"/>
                  </a:lnTo>
                  <a:lnTo>
                    <a:pt x="74" y="156"/>
                  </a:lnTo>
                  <a:lnTo>
                    <a:pt x="97" y="139"/>
                  </a:lnTo>
                  <a:lnTo>
                    <a:pt x="120" y="123"/>
                  </a:lnTo>
                  <a:lnTo>
                    <a:pt x="141" y="109"/>
                  </a:lnTo>
                  <a:lnTo>
                    <a:pt x="165" y="95"/>
                  </a:lnTo>
                  <a:lnTo>
                    <a:pt x="188" y="81"/>
                  </a:lnTo>
                  <a:lnTo>
                    <a:pt x="206" y="69"/>
                  </a:lnTo>
                  <a:lnTo>
                    <a:pt x="220" y="60"/>
                  </a:lnTo>
                  <a:lnTo>
                    <a:pt x="234" y="49"/>
                  </a:lnTo>
                  <a:lnTo>
                    <a:pt x="247" y="38"/>
                  </a:lnTo>
                  <a:lnTo>
                    <a:pt x="256" y="27"/>
                  </a:lnTo>
                  <a:lnTo>
                    <a:pt x="262" y="18"/>
                  </a:lnTo>
                  <a:lnTo>
                    <a:pt x="266" y="7"/>
                  </a:lnTo>
                  <a:lnTo>
                    <a:pt x="267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86200" y="3962520"/>
              <a:ext cx="60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5E2-90C3-4F56-A6C3-5F3227798E08}" type="slidenum">
              <a:t>32</a:t>
            </a:fld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26920" y="1117080"/>
            <a:ext cx="7490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último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ón de sensacion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busca obtener un estímulo tal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de 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sociada sea mayor en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ada que la correspondiente a un estímul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fe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60A-B24F-4BD8-9547-0AFDB942D6EF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74880" y="1726560"/>
            <a:ext cx="7194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, podríamos buscar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un sonido que se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la mitad de agu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un sonid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8000 H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60 d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300-3A3A-487A-948F-F0214F913BDB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1843200" y="2169720"/>
            <a:ext cx="0" cy="296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919760"/>
            <a:ext cx="520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6200" y="2612880"/>
            <a:ext cx="88920" cy="8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93920" y="3749760"/>
            <a:ext cx="88920" cy="8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00480" y="2703600"/>
            <a:ext cx="0" cy="21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3851280"/>
            <a:ext cx="0" cy="10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36360" y="3794040"/>
            <a:ext cx="134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65560" y="2468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69840" y="49165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8000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39120" y="48639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31840" y="147312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Variable de sen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89680" y="47214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ím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828800" y="2657520"/>
            <a:ext cx="323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75120" y="3621240"/>
            <a:ext cx="5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C581-4908-4B73-A6A3-EE14EB57B5B1}" type="slidenum">
              <a:t>35</a:t>
            </a:fld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74880" y="1726560"/>
            <a:ext cx="7194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determinació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ón de sensacion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una tare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ás difíci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la búsqueda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mbrales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dad subje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BDB-CDBC-43A0-AF22-71C2DDFD2A49}" type="slidenum">
              <a:t>36</a:t>
            </a:fld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4880" y="2031480"/>
            <a:ext cx="7194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lo se debe a que en general no hay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oción a priori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esca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on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sens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0EA-5075-41E3-AFD0-37A0C8FD202E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74880" y="2031480"/>
            <a:ext cx="7194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algunos casos es posible sugerir pautas que lleven a una situación de búsqueda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dad subje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D80-024D-4149-A41D-463B4F870E43}" type="slidenum">
              <a:t>38</a:t>
            </a:fld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7680" y="2915280"/>
            <a:ext cx="810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Métod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870-986F-43C2-A57F-BC308A264848}" type="slidenum">
              <a:t>39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7680" y="1726560"/>
            <a:ext cx="8108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particularidades de las variables involucradas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sicoacú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implican la necesidad de métodos específicos de experimen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1093-64D7-4B84-9339-B83750AB1500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974880" y="1726560"/>
            <a:ext cx="7194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la tarea de correlaciona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s de 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s perceptiv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pueden utilizar varios 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6AD-E7EF-49D6-BB19-6109344C5592}" type="slidenum">
              <a:t>40</a:t>
            </a:fld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74880" y="1117080"/>
            <a:ext cx="7194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rimer lugar tenemo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étodo de ajus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onde el sujeto controla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ive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una variable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sta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lcance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gún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sig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C0E-9FBC-4D77-A5BD-DA8FEA956677}" type="slidenum">
              <a:t>41</a:t>
            </a:fld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74880" y="1726560"/>
            <a:ext cx="7194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, podrí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just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ivel de presión sono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un sonido hasta que resul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gualmente sono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un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fer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FFB-FEA0-47E8-903F-F6632E362ABB}" type="slidenum">
              <a:t>42</a:t>
            </a:fld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74880" y="507600"/>
            <a:ext cx="7194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segundo lugar está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étodo de seguimien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n el que el sujeto controla la dirección de evolución (creciente o decreciente) de  una variable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tratando de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mantenga en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gún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sig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63D-AAFA-44EA-B4D6-4497CA3D0ECA}" type="slidenum">
              <a:t>43</a:t>
            </a:fld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880" y="1117080"/>
            <a:ext cx="7194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ejemplo es el audiómetr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ékésy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donde el estado que se busca es el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bil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El sujeto hac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rece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l nivel hasta se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bl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uego lo hac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j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hasta volver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audibl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4DF-56AE-45AB-92F6-27B06302F1B6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74880" y="1117080"/>
            <a:ext cx="7194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equipo lleva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gis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stant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mut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ti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variación, lo que permite reconstruir los niveles que había en el momento de cada conmu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378-C3A7-4EF4-9688-09B7B846D0BE}" type="slidenum">
              <a:t>45</a:t>
            </a:fld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042920" y="770040"/>
            <a:ext cx="7058160" cy="5032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87480" y="6273720"/>
            <a:ext cx="721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Zwicker, Eberhard; Fastl, Hugo (1999) </a:t>
            </a:r>
            <a:r>
              <a:rPr b="1" i="1" lang="es-ES_tradnl" sz="1400" spc="-1" strike="noStrike">
                <a:solidFill>
                  <a:srgbClr val="333399"/>
                </a:solidFill>
                <a:latin typeface="Arial"/>
              </a:rPr>
              <a:t>Psychocoustics. Facts and models</a:t>
            </a: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. Spr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3D6-E89E-4584-B460-153A1ACFF111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74880" y="1117080"/>
            <a:ext cx="7194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tercer método es el de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s constant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Se presenta una serie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iveles fij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 variable de estímulo y ante cada uno el sujet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cla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i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umpl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no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di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seada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936-BCEB-4773-9F7A-5EABA2DC185C}" type="slidenum">
              <a:t>47</a:t>
            </a:fld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19200" y="4195800"/>
            <a:ext cx="470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11560" y="4100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02000" y="4100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4000" y="4100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07200" y="410040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1432080" y="2865240"/>
            <a:ext cx="16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o cu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3571920" y="2865240"/>
            <a:ext cx="16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u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597040" y="2865240"/>
            <a:ext cx="16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o cu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545000" y="2865240"/>
            <a:ext cx="167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u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51400" y="3973680"/>
            <a:ext cx="12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Estím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309-9BF6-4BCE-892F-16D434DAD3B2}" type="slidenum">
              <a:t>48</a:t>
            </a:fld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74880" y="1422000"/>
            <a:ext cx="7194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ejemplo es el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udiometría ton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lásica, donde se presentan tonos de diferent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ive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el sujeto dice si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cuch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no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02C-2E63-4FFA-AF91-8FEDE3E9E98F}" type="slidenum">
              <a:t>49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7680" y="2336040"/>
            <a:ext cx="810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rimer lugar debemos distinguir los concepto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0A9-5883-4C4F-8DE9-4010BD78F128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74880" y="1422000"/>
            <a:ext cx="7194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e método suele ser más rápido y permite además participa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imultáneame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ujetos. La desventaja es que se pierde precis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AB1-CF04-4D03-8560-21C30EC4300D}" type="slidenum">
              <a:t>50</a:t>
            </a:fld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43120" y="2031480"/>
            <a:ext cx="7457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todos los métodos existe algún grad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pers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los resultados, no sól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rsuje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in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rasuje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29F-43D4-4773-9E55-018403A1918F}" type="slidenum">
              <a:t>51</a:t>
            </a:fld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43120" y="2031480"/>
            <a:ext cx="7457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l caso intersujetos se debe a la considerabl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il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existe entre diferentes pers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8C1-05F2-4992-9676-BC812E15BB6E}" type="slidenum">
              <a:t>52</a:t>
            </a:fld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43120" y="1726560"/>
            <a:ext cx="7457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reducirla se deben seleccionar aleatoriam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ujet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o má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homogéne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sea posible a los efectos del estu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178-90FD-4431-91E2-EA7C9D86B80B}" type="slidenum">
              <a:t>53</a:t>
            </a:fld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43120" y="812520"/>
            <a:ext cx="7457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 si se desea obtener resultados par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ujetos otológicamente norm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preciso hacer un cribado entre los potenciales participantes descartando aquellos que present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omal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D05-05E9-469D-B8D2-346A96DBA396}" type="slidenum">
              <a:t>54</a:t>
            </a:fld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43120" y="812520"/>
            <a:ext cx="7457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, por el contrario, se pretendiera estudiar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conocimiento de fonem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personas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hipoacus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ería preciso establecer grados de hipoacusia y promediar resultados para cada ni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346-4EA1-441E-B6FC-211A77B0C825}" type="slidenum">
              <a:t>55</a:t>
            </a:fld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43120" y="812520"/>
            <a:ext cx="74577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studios donde participa un número considerable de sujetos conviene reportar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tribución estadí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cada resultado, por ejempl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edi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uarti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o algun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ercenti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ignificativ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53D-3C95-4511-9988-767A9A6C1579}" type="slidenum">
              <a:t>56</a:t>
            </a:fld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66760" y="4495680"/>
            <a:ext cx="65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727280" y="2803680"/>
            <a:ext cx="5445000" cy="1692000"/>
            <a:chOff x="1727280" y="2803680"/>
            <a:chExt cx="5445000" cy="1692000"/>
          </a:xfrm>
        </p:grpSpPr>
        <p:sp>
          <p:nvSpPr>
            <p:cNvPr id="242" name=""/>
            <p:cNvSpPr/>
            <p:nvPr/>
          </p:nvSpPr>
          <p:spPr>
            <a:xfrm>
              <a:off x="172728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2151" h="1338">
                  <a:moveTo>
                    <a:pt x="0" y="1338"/>
                  </a:moveTo>
                  <a:lnTo>
                    <a:pt x="312" y="1338"/>
                  </a:lnTo>
                  <a:lnTo>
                    <a:pt x="449" y="1335"/>
                  </a:lnTo>
                  <a:lnTo>
                    <a:pt x="556" y="1329"/>
                  </a:lnTo>
                  <a:lnTo>
                    <a:pt x="701" y="1320"/>
                  </a:lnTo>
                  <a:lnTo>
                    <a:pt x="842" y="1302"/>
                  </a:lnTo>
                  <a:lnTo>
                    <a:pt x="966" y="1272"/>
                  </a:lnTo>
                  <a:lnTo>
                    <a:pt x="1039" y="1245"/>
                  </a:lnTo>
                  <a:lnTo>
                    <a:pt x="1108" y="1212"/>
                  </a:lnTo>
                  <a:lnTo>
                    <a:pt x="1176" y="1167"/>
                  </a:lnTo>
                  <a:lnTo>
                    <a:pt x="1244" y="1116"/>
                  </a:lnTo>
                  <a:lnTo>
                    <a:pt x="1330" y="1038"/>
                  </a:lnTo>
                  <a:lnTo>
                    <a:pt x="1394" y="963"/>
                  </a:lnTo>
                  <a:lnTo>
                    <a:pt x="1475" y="849"/>
                  </a:lnTo>
                  <a:lnTo>
                    <a:pt x="1552" y="735"/>
                  </a:lnTo>
                  <a:lnTo>
                    <a:pt x="1621" y="627"/>
                  </a:lnTo>
                  <a:lnTo>
                    <a:pt x="1693" y="504"/>
                  </a:lnTo>
                  <a:lnTo>
                    <a:pt x="1758" y="396"/>
                  </a:lnTo>
                  <a:lnTo>
                    <a:pt x="1813" y="306"/>
                  </a:lnTo>
                  <a:lnTo>
                    <a:pt x="1862" y="234"/>
                  </a:lnTo>
                  <a:lnTo>
                    <a:pt x="1912" y="165"/>
                  </a:lnTo>
                  <a:lnTo>
                    <a:pt x="1967" y="102"/>
                  </a:lnTo>
                  <a:lnTo>
                    <a:pt x="2018" y="54"/>
                  </a:lnTo>
                  <a:lnTo>
                    <a:pt x="2061" y="24"/>
                  </a:lnTo>
                  <a:lnTo>
                    <a:pt x="2117" y="3"/>
                  </a:lnTo>
                  <a:lnTo>
                    <a:pt x="2151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5104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1509" h="1338">
                  <a:moveTo>
                    <a:pt x="1509" y="1338"/>
                  </a:moveTo>
                  <a:lnTo>
                    <a:pt x="1290" y="1338"/>
                  </a:lnTo>
                  <a:lnTo>
                    <a:pt x="1194" y="1335"/>
                  </a:lnTo>
                  <a:lnTo>
                    <a:pt x="1119" y="1329"/>
                  </a:lnTo>
                  <a:lnTo>
                    <a:pt x="1017" y="1320"/>
                  </a:lnTo>
                  <a:lnTo>
                    <a:pt x="918" y="1302"/>
                  </a:lnTo>
                  <a:lnTo>
                    <a:pt x="831" y="1272"/>
                  </a:lnTo>
                  <a:lnTo>
                    <a:pt x="780" y="1245"/>
                  </a:lnTo>
                  <a:lnTo>
                    <a:pt x="732" y="1212"/>
                  </a:lnTo>
                  <a:lnTo>
                    <a:pt x="684" y="1167"/>
                  </a:lnTo>
                  <a:lnTo>
                    <a:pt x="636" y="1116"/>
                  </a:lnTo>
                  <a:lnTo>
                    <a:pt x="576" y="1038"/>
                  </a:lnTo>
                  <a:lnTo>
                    <a:pt x="531" y="963"/>
                  </a:lnTo>
                  <a:lnTo>
                    <a:pt x="474" y="849"/>
                  </a:lnTo>
                  <a:lnTo>
                    <a:pt x="420" y="735"/>
                  </a:lnTo>
                  <a:lnTo>
                    <a:pt x="372" y="627"/>
                  </a:lnTo>
                  <a:lnTo>
                    <a:pt x="323" y="507"/>
                  </a:lnTo>
                  <a:lnTo>
                    <a:pt x="276" y="396"/>
                  </a:lnTo>
                  <a:lnTo>
                    <a:pt x="237" y="306"/>
                  </a:lnTo>
                  <a:lnTo>
                    <a:pt x="204" y="234"/>
                  </a:lnTo>
                  <a:lnTo>
                    <a:pt x="168" y="165"/>
                  </a:lnTo>
                  <a:lnTo>
                    <a:pt x="129" y="102"/>
                  </a:lnTo>
                  <a:lnTo>
                    <a:pt x="93" y="54"/>
                  </a:lnTo>
                  <a:lnTo>
                    <a:pt x="63" y="24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4446720" y="226224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11640" y="19573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58280" y="4365720"/>
            <a:ext cx="3189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38680" y="3510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1320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48160" y="44845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81640" y="2560680"/>
            <a:ext cx="836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399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91200" y="3381480"/>
            <a:ext cx="806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242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06268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83364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191120" y="247968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035600" y="3200400"/>
            <a:ext cx="822240" cy="1293840"/>
          </a:xfrm>
          <a:custGeom>
            <a:avLst/>
            <a:gdLst/>
            <a:ahLst/>
            <a:rect l="l" t="t" r="r" b="b"/>
            <a:pathLst>
              <a:path w="518" h="815">
                <a:moveTo>
                  <a:pt x="2" y="815"/>
                </a:moveTo>
                <a:lnTo>
                  <a:pt x="0" y="0"/>
                </a:lnTo>
                <a:lnTo>
                  <a:pt x="518" y="0"/>
                </a:lnTo>
                <a:lnTo>
                  <a:pt x="518" y="8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3560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0228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6252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11520" y="559944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4714920"/>
            <a:ext cx="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1960" y="515988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Me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52840" y="5599440"/>
            <a:ext cx="8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7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C06-0914-4AAC-98C7-7D90CD607072}" type="slidenum">
              <a:t>57</a:t>
            </a:fld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727280" y="3168720"/>
            <a:ext cx="2308320" cy="1324080"/>
          </a:xfrm>
          <a:custGeom>
            <a:avLst/>
            <a:gdLst/>
            <a:ahLst/>
            <a:rect l="l" t="t" r="r" b="b"/>
            <a:pathLst>
              <a:path w="1454" h="834">
                <a:moveTo>
                  <a:pt x="0" y="834"/>
                </a:moveTo>
                <a:lnTo>
                  <a:pt x="342" y="834"/>
                </a:lnTo>
                <a:lnTo>
                  <a:pt x="486" y="824"/>
                </a:lnTo>
                <a:lnTo>
                  <a:pt x="554" y="822"/>
                </a:lnTo>
                <a:lnTo>
                  <a:pt x="656" y="808"/>
                </a:lnTo>
                <a:lnTo>
                  <a:pt x="768" y="784"/>
                </a:lnTo>
                <a:lnTo>
                  <a:pt x="880" y="744"/>
                </a:lnTo>
                <a:lnTo>
                  <a:pt x="1058" y="602"/>
                </a:lnTo>
                <a:lnTo>
                  <a:pt x="1142" y="490"/>
                </a:lnTo>
                <a:lnTo>
                  <a:pt x="1226" y="378"/>
                </a:lnTo>
                <a:lnTo>
                  <a:pt x="1290" y="272"/>
                </a:lnTo>
                <a:lnTo>
                  <a:pt x="1368" y="142"/>
                </a:lnTo>
                <a:lnTo>
                  <a:pt x="1454" y="0"/>
                </a:lnTo>
                <a:lnTo>
                  <a:pt x="1454" y="832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66760" y="4495680"/>
            <a:ext cx="65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727280" y="2803680"/>
            <a:ext cx="5445000" cy="1692000"/>
            <a:chOff x="1727280" y="2803680"/>
            <a:chExt cx="5445000" cy="1692000"/>
          </a:xfrm>
        </p:grpSpPr>
        <p:sp>
          <p:nvSpPr>
            <p:cNvPr id="266" name=""/>
            <p:cNvSpPr/>
            <p:nvPr/>
          </p:nvSpPr>
          <p:spPr>
            <a:xfrm>
              <a:off x="172728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2151" h="1338">
                  <a:moveTo>
                    <a:pt x="0" y="1338"/>
                  </a:moveTo>
                  <a:lnTo>
                    <a:pt x="312" y="1338"/>
                  </a:lnTo>
                  <a:lnTo>
                    <a:pt x="449" y="1335"/>
                  </a:lnTo>
                  <a:lnTo>
                    <a:pt x="556" y="1329"/>
                  </a:lnTo>
                  <a:lnTo>
                    <a:pt x="701" y="1320"/>
                  </a:lnTo>
                  <a:lnTo>
                    <a:pt x="842" y="1302"/>
                  </a:lnTo>
                  <a:lnTo>
                    <a:pt x="966" y="1272"/>
                  </a:lnTo>
                  <a:lnTo>
                    <a:pt x="1039" y="1245"/>
                  </a:lnTo>
                  <a:lnTo>
                    <a:pt x="1108" y="1212"/>
                  </a:lnTo>
                  <a:lnTo>
                    <a:pt x="1176" y="1167"/>
                  </a:lnTo>
                  <a:lnTo>
                    <a:pt x="1244" y="1116"/>
                  </a:lnTo>
                  <a:lnTo>
                    <a:pt x="1330" y="1038"/>
                  </a:lnTo>
                  <a:lnTo>
                    <a:pt x="1394" y="963"/>
                  </a:lnTo>
                  <a:lnTo>
                    <a:pt x="1475" y="849"/>
                  </a:lnTo>
                  <a:lnTo>
                    <a:pt x="1552" y="735"/>
                  </a:lnTo>
                  <a:lnTo>
                    <a:pt x="1621" y="627"/>
                  </a:lnTo>
                  <a:lnTo>
                    <a:pt x="1693" y="504"/>
                  </a:lnTo>
                  <a:lnTo>
                    <a:pt x="1758" y="396"/>
                  </a:lnTo>
                  <a:lnTo>
                    <a:pt x="1813" y="306"/>
                  </a:lnTo>
                  <a:lnTo>
                    <a:pt x="1862" y="234"/>
                  </a:lnTo>
                  <a:lnTo>
                    <a:pt x="1912" y="165"/>
                  </a:lnTo>
                  <a:lnTo>
                    <a:pt x="1967" y="102"/>
                  </a:lnTo>
                  <a:lnTo>
                    <a:pt x="2018" y="54"/>
                  </a:lnTo>
                  <a:lnTo>
                    <a:pt x="2061" y="24"/>
                  </a:lnTo>
                  <a:lnTo>
                    <a:pt x="2117" y="3"/>
                  </a:lnTo>
                  <a:lnTo>
                    <a:pt x="2151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5104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1509" h="1338">
                  <a:moveTo>
                    <a:pt x="1509" y="1338"/>
                  </a:moveTo>
                  <a:lnTo>
                    <a:pt x="1290" y="1338"/>
                  </a:lnTo>
                  <a:lnTo>
                    <a:pt x="1194" y="1335"/>
                  </a:lnTo>
                  <a:lnTo>
                    <a:pt x="1119" y="1329"/>
                  </a:lnTo>
                  <a:lnTo>
                    <a:pt x="1017" y="1320"/>
                  </a:lnTo>
                  <a:lnTo>
                    <a:pt x="918" y="1302"/>
                  </a:lnTo>
                  <a:lnTo>
                    <a:pt x="831" y="1272"/>
                  </a:lnTo>
                  <a:lnTo>
                    <a:pt x="780" y="1245"/>
                  </a:lnTo>
                  <a:lnTo>
                    <a:pt x="732" y="1212"/>
                  </a:lnTo>
                  <a:lnTo>
                    <a:pt x="684" y="1167"/>
                  </a:lnTo>
                  <a:lnTo>
                    <a:pt x="636" y="1116"/>
                  </a:lnTo>
                  <a:lnTo>
                    <a:pt x="576" y="1038"/>
                  </a:lnTo>
                  <a:lnTo>
                    <a:pt x="531" y="963"/>
                  </a:lnTo>
                  <a:lnTo>
                    <a:pt x="474" y="849"/>
                  </a:lnTo>
                  <a:lnTo>
                    <a:pt x="420" y="735"/>
                  </a:lnTo>
                  <a:lnTo>
                    <a:pt x="372" y="627"/>
                  </a:lnTo>
                  <a:lnTo>
                    <a:pt x="323" y="507"/>
                  </a:lnTo>
                  <a:lnTo>
                    <a:pt x="276" y="396"/>
                  </a:lnTo>
                  <a:lnTo>
                    <a:pt x="237" y="306"/>
                  </a:lnTo>
                  <a:lnTo>
                    <a:pt x="204" y="234"/>
                  </a:lnTo>
                  <a:lnTo>
                    <a:pt x="168" y="165"/>
                  </a:lnTo>
                  <a:lnTo>
                    <a:pt x="129" y="102"/>
                  </a:lnTo>
                  <a:lnTo>
                    <a:pt x="93" y="54"/>
                  </a:lnTo>
                  <a:lnTo>
                    <a:pt x="63" y="24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V="1">
            <a:off x="4446720" y="226224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11640" y="19573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58280" y="4365720"/>
            <a:ext cx="3189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38680" y="3510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1320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48160" y="44845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81640" y="2560680"/>
            <a:ext cx="836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399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91200" y="3381480"/>
            <a:ext cx="806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242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06268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83364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191120" y="247968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4035600" y="3200400"/>
            <a:ext cx="822240" cy="1293840"/>
          </a:xfrm>
          <a:custGeom>
            <a:avLst/>
            <a:gdLst/>
            <a:ahLst/>
            <a:rect l="l" t="t" r="r" b="b"/>
            <a:pathLst>
              <a:path w="518" h="815">
                <a:moveTo>
                  <a:pt x="2" y="815"/>
                </a:moveTo>
                <a:lnTo>
                  <a:pt x="0" y="0"/>
                </a:lnTo>
                <a:lnTo>
                  <a:pt x="518" y="0"/>
                </a:lnTo>
                <a:lnTo>
                  <a:pt x="518" y="8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560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0228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6252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1520" y="559944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49600" y="473076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1960" y="515988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Me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52840" y="5599440"/>
            <a:ext cx="8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7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68800" y="4158360"/>
            <a:ext cx="6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2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9A1-6442-463B-B63C-2AB43EF5042E}" type="slidenum">
              <a:t>58</a:t>
            </a:fld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727280" y="2800440"/>
            <a:ext cx="2716200" cy="1695240"/>
          </a:xfrm>
          <a:custGeom>
            <a:avLst/>
            <a:gdLst/>
            <a:ahLst/>
            <a:rect l="l" t="t" r="r" b="b"/>
            <a:pathLst>
              <a:path w="1711" h="1068">
                <a:moveTo>
                  <a:pt x="0" y="1066"/>
                </a:moveTo>
                <a:lnTo>
                  <a:pt x="342" y="1066"/>
                </a:lnTo>
                <a:lnTo>
                  <a:pt x="486" y="1056"/>
                </a:lnTo>
                <a:lnTo>
                  <a:pt x="554" y="1054"/>
                </a:lnTo>
                <a:lnTo>
                  <a:pt x="656" y="1040"/>
                </a:lnTo>
                <a:lnTo>
                  <a:pt x="768" y="1016"/>
                </a:lnTo>
                <a:lnTo>
                  <a:pt x="880" y="976"/>
                </a:lnTo>
                <a:lnTo>
                  <a:pt x="1058" y="834"/>
                </a:lnTo>
                <a:lnTo>
                  <a:pt x="1142" y="722"/>
                </a:lnTo>
                <a:lnTo>
                  <a:pt x="1226" y="610"/>
                </a:lnTo>
                <a:lnTo>
                  <a:pt x="1290" y="504"/>
                </a:lnTo>
                <a:lnTo>
                  <a:pt x="1368" y="374"/>
                </a:lnTo>
                <a:lnTo>
                  <a:pt x="1536" y="126"/>
                </a:lnTo>
                <a:lnTo>
                  <a:pt x="1602" y="48"/>
                </a:lnTo>
                <a:lnTo>
                  <a:pt x="1656" y="20"/>
                </a:lnTo>
                <a:lnTo>
                  <a:pt x="1689" y="6"/>
                </a:lnTo>
                <a:lnTo>
                  <a:pt x="1711" y="0"/>
                </a:lnTo>
                <a:lnTo>
                  <a:pt x="1711" y="1068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66760" y="4495680"/>
            <a:ext cx="65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727280" y="2803680"/>
            <a:ext cx="5445000" cy="1692000"/>
            <a:chOff x="1727280" y="2803680"/>
            <a:chExt cx="5445000" cy="1692000"/>
          </a:xfrm>
        </p:grpSpPr>
        <p:sp>
          <p:nvSpPr>
            <p:cNvPr id="291" name=""/>
            <p:cNvSpPr/>
            <p:nvPr/>
          </p:nvSpPr>
          <p:spPr>
            <a:xfrm>
              <a:off x="172728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2151" h="1338">
                  <a:moveTo>
                    <a:pt x="0" y="1338"/>
                  </a:moveTo>
                  <a:lnTo>
                    <a:pt x="312" y="1338"/>
                  </a:lnTo>
                  <a:lnTo>
                    <a:pt x="449" y="1335"/>
                  </a:lnTo>
                  <a:lnTo>
                    <a:pt x="556" y="1329"/>
                  </a:lnTo>
                  <a:lnTo>
                    <a:pt x="701" y="1320"/>
                  </a:lnTo>
                  <a:lnTo>
                    <a:pt x="842" y="1302"/>
                  </a:lnTo>
                  <a:lnTo>
                    <a:pt x="966" y="1272"/>
                  </a:lnTo>
                  <a:lnTo>
                    <a:pt x="1039" y="1245"/>
                  </a:lnTo>
                  <a:lnTo>
                    <a:pt x="1108" y="1212"/>
                  </a:lnTo>
                  <a:lnTo>
                    <a:pt x="1176" y="1167"/>
                  </a:lnTo>
                  <a:lnTo>
                    <a:pt x="1244" y="1116"/>
                  </a:lnTo>
                  <a:lnTo>
                    <a:pt x="1330" y="1038"/>
                  </a:lnTo>
                  <a:lnTo>
                    <a:pt x="1394" y="963"/>
                  </a:lnTo>
                  <a:lnTo>
                    <a:pt x="1475" y="849"/>
                  </a:lnTo>
                  <a:lnTo>
                    <a:pt x="1552" y="735"/>
                  </a:lnTo>
                  <a:lnTo>
                    <a:pt x="1621" y="627"/>
                  </a:lnTo>
                  <a:lnTo>
                    <a:pt x="1693" y="504"/>
                  </a:lnTo>
                  <a:lnTo>
                    <a:pt x="1758" y="396"/>
                  </a:lnTo>
                  <a:lnTo>
                    <a:pt x="1813" y="306"/>
                  </a:lnTo>
                  <a:lnTo>
                    <a:pt x="1862" y="234"/>
                  </a:lnTo>
                  <a:lnTo>
                    <a:pt x="1912" y="165"/>
                  </a:lnTo>
                  <a:lnTo>
                    <a:pt x="1967" y="102"/>
                  </a:lnTo>
                  <a:lnTo>
                    <a:pt x="2018" y="54"/>
                  </a:lnTo>
                  <a:lnTo>
                    <a:pt x="2061" y="24"/>
                  </a:lnTo>
                  <a:lnTo>
                    <a:pt x="2117" y="3"/>
                  </a:lnTo>
                  <a:lnTo>
                    <a:pt x="2151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104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1509" h="1338">
                  <a:moveTo>
                    <a:pt x="1509" y="1338"/>
                  </a:moveTo>
                  <a:lnTo>
                    <a:pt x="1290" y="1338"/>
                  </a:lnTo>
                  <a:lnTo>
                    <a:pt x="1194" y="1335"/>
                  </a:lnTo>
                  <a:lnTo>
                    <a:pt x="1119" y="1329"/>
                  </a:lnTo>
                  <a:lnTo>
                    <a:pt x="1017" y="1320"/>
                  </a:lnTo>
                  <a:lnTo>
                    <a:pt x="918" y="1302"/>
                  </a:lnTo>
                  <a:lnTo>
                    <a:pt x="831" y="1272"/>
                  </a:lnTo>
                  <a:lnTo>
                    <a:pt x="780" y="1245"/>
                  </a:lnTo>
                  <a:lnTo>
                    <a:pt x="732" y="1212"/>
                  </a:lnTo>
                  <a:lnTo>
                    <a:pt x="684" y="1167"/>
                  </a:lnTo>
                  <a:lnTo>
                    <a:pt x="636" y="1116"/>
                  </a:lnTo>
                  <a:lnTo>
                    <a:pt x="576" y="1038"/>
                  </a:lnTo>
                  <a:lnTo>
                    <a:pt x="531" y="963"/>
                  </a:lnTo>
                  <a:lnTo>
                    <a:pt x="474" y="849"/>
                  </a:lnTo>
                  <a:lnTo>
                    <a:pt x="420" y="735"/>
                  </a:lnTo>
                  <a:lnTo>
                    <a:pt x="372" y="627"/>
                  </a:lnTo>
                  <a:lnTo>
                    <a:pt x="323" y="507"/>
                  </a:lnTo>
                  <a:lnTo>
                    <a:pt x="276" y="396"/>
                  </a:lnTo>
                  <a:lnTo>
                    <a:pt x="237" y="306"/>
                  </a:lnTo>
                  <a:lnTo>
                    <a:pt x="204" y="234"/>
                  </a:lnTo>
                  <a:lnTo>
                    <a:pt x="168" y="165"/>
                  </a:lnTo>
                  <a:lnTo>
                    <a:pt x="129" y="102"/>
                  </a:lnTo>
                  <a:lnTo>
                    <a:pt x="93" y="54"/>
                  </a:lnTo>
                  <a:lnTo>
                    <a:pt x="63" y="24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4446720" y="226224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11640" y="19573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58280" y="4365720"/>
            <a:ext cx="3189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38680" y="3510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1320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48160" y="44845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81640" y="2560680"/>
            <a:ext cx="836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399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91200" y="3381480"/>
            <a:ext cx="806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242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06268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83364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191120" y="2479680"/>
                <a:ext cx="7617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035600" y="3200400"/>
            <a:ext cx="822240" cy="1293840"/>
          </a:xfrm>
          <a:custGeom>
            <a:avLst/>
            <a:gdLst/>
            <a:ahLst/>
            <a:rect l="l" t="t" r="r" b="b"/>
            <a:pathLst>
              <a:path w="518" h="815">
                <a:moveTo>
                  <a:pt x="2" y="815"/>
                </a:moveTo>
                <a:lnTo>
                  <a:pt x="0" y="0"/>
                </a:lnTo>
                <a:lnTo>
                  <a:pt x="518" y="0"/>
                </a:lnTo>
                <a:lnTo>
                  <a:pt x="518" y="8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560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0228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6252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11520" y="559944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49600" y="473076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1960" y="515988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Me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52840" y="5599440"/>
            <a:ext cx="8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7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35520" y="3834720"/>
            <a:ext cx="6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5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F39-5A94-4A6F-931F-1FAE31C73961}" type="slidenum">
              <a:t>59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7680" y="812520"/>
            <a:ext cx="8108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una primera aproximación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enómeno físi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cuya presencia se encuentra un órgano sensorial. Sin embargo restringiremos el concepto limitándolo a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fís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pertinente asociada al fenóm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B23-66E9-4681-B15A-883E2C1E0A94}" type="slidenum">
              <a:t>6</a:t>
            </a:fld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27280" y="2805120"/>
            <a:ext cx="3146400" cy="1693800"/>
          </a:xfrm>
          <a:custGeom>
            <a:avLst/>
            <a:gdLst/>
            <a:ahLst/>
            <a:rect l="l" t="t" r="r" b="b"/>
            <a:pathLst>
              <a:path w="1982" h="1067">
                <a:moveTo>
                  <a:pt x="0" y="1064"/>
                </a:moveTo>
                <a:lnTo>
                  <a:pt x="342" y="1064"/>
                </a:lnTo>
                <a:lnTo>
                  <a:pt x="486" y="1054"/>
                </a:lnTo>
                <a:lnTo>
                  <a:pt x="554" y="1052"/>
                </a:lnTo>
                <a:lnTo>
                  <a:pt x="656" y="1038"/>
                </a:lnTo>
                <a:lnTo>
                  <a:pt x="768" y="1014"/>
                </a:lnTo>
                <a:lnTo>
                  <a:pt x="880" y="974"/>
                </a:lnTo>
                <a:lnTo>
                  <a:pt x="1058" y="832"/>
                </a:lnTo>
                <a:lnTo>
                  <a:pt x="1142" y="720"/>
                </a:lnTo>
                <a:lnTo>
                  <a:pt x="1226" y="608"/>
                </a:lnTo>
                <a:lnTo>
                  <a:pt x="1290" y="502"/>
                </a:lnTo>
                <a:lnTo>
                  <a:pt x="1368" y="372"/>
                </a:lnTo>
                <a:lnTo>
                  <a:pt x="1454" y="230"/>
                </a:lnTo>
                <a:lnTo>
                  <a:pt x="1531" y="117"/>
                </a:lnTo>
                <a:lnTo>
                  <a:pt x="1581" y="71"/>
                </a:lnTo>
                <a:lnTo>
                  <a:pt x="1617" y="36"/>
                </a:lnTo>
                <a:lnTo>
                  <a:pt x="1714" y="0"/>
                </a:lnTo>
                <a:lnTo>
                  <a:pt x="1762" y="6"/>
                </a:lnTo>
                <a:lnTo>
                  <a:pt x="1810" y="33"/>
                </a:lnTo>
                <a:lnTo>
                  <a:pt x="1849" y="72"/>
                </a:lnTo>
                <a:lnTo>
                  <a:pt x="1906" y="132"/>
                </a:lnTo>
                <a:lnTo>
                  <a:pt x="1982" y="241"/>
                </a:lnTo>
                <a:lnTo>
                  <a:pt x="1982" y="1067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66760" y="4495680"/>
            <a:ext cx="65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727280" y="2803680"/>
            <a:ext cx="5445000" cy="1692000"/>
            <a:chOff x="1727280" y="2803680"/>
            <a:chExt cx="5445000" cy="1692000"/>
          </a:xfrm>
        </p:grpSpPr>
        <p:sp>
          <p:nvSpPr>
            <p:cNvPr id="316" name=""/>
            <p:cNvSpPr/>
            <p:nvPr/>
          </p:nvSpPr>
          <p:spPr>
            <a:xfrm>
              <a:off x="172728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2151" h="1338">
                  <a:moveTo>
                    <a:pt x="0" y="1338"/>
                  </a:moveTo>
                  <a:lnTo>
                    <a:pt x="312" y="1338"/>
                  </a:lnTo>
                  <a:lnTo>
                    <a:pt x="449" y="1335"/>
                  </a:lnTo>
                  <a:lnTo>
                    <a:pt x="556" y="1329"/>
                  </a:lnTo>
                  <a:lnTo>
                    <a:pt x="701" y="1320"/>
                  </a:lnTo>
                  <a:lnTo>
                    <a:pt x="842" y="1302"/>
                  </a:lnTo>
                  <a:lnTo>
                    <a:pt x="966" y="1272"/>
                  </a:lnTo>
                  <a:lnTo>
                    <a:pt x="1039" y="1245"/>
                  </a:lnTo>
                  <a:lnTo>
                    <a:pt x="1108" y="1212"/>
                  </a:lnTo>
                  <a:lnTo>
                    <a:pt x="1176" y="1167"/>
                  </a:lnTo>
                  <a:lnTo>
                    <a:pt x="1244" y="1116"/>
                  </a:lnTo>
                  <a:lnTo>
                    <a:pt x="1330" y="1038"/>
                  </a:lnTo>
                  <a:lnTo>
                    <a:pt x="1394" y="963"/>
                  </a:lnTo>
                  <a:lnTo>
                    <a:pt x="1475" y="849"/>
                  </a:lnTo>
                  <a:lnTo>
                    <a:pt x="1552" y="735"/>
                  </a:lnTo>
                  <a:lnTo>
                    <a:pt x="1621" y="627"/>
                  </a:lnTo>
                  <a:lnTo>
                    <a:pt x="1693" y="504"/>
                  </a:lnTo>
                  <a:lnTo>
                    <a:pt x="1758" y="396"/>
                  </a:lnTo>
                  <a:lnTo>
                    <a:pt x="1813" y="306"/>
                  </a:lnTo>
                  <a:lnTo>
                    <a:pt x="1862" y="234"/>
                  </a:lnTo>
                  <a:lnTo>
                    <a:pt x="1912" y="165"/>
                  </a:lnTo>
                  <a:lnTo>
                    <a:pt x="1967" y="102"/>
                  </a:lnTo>
                  <a:lnTo>
                    <a:pt x="2018" y="54"/>
                  </a:lnTo>
                  <a:lnTo>
                    <a:pt x="2061" y="24"/>
                  </a:lnTo>
                  <a:lnTo>
                    <a:pt x="2117" y="3"/>
                  </a:lnTo>
                  <a:lnTo>
                    <a:pt x="2151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51040" y="2803680"/>
              <a:ext cx="2721240" cy="1692000"/>
            </a:xfrm>
            <a:custGeom>
              <a:avLst/>
              <a:gdLst/>
              <a:ahLst/>
              <a:rect l="l" t="t" r="r" b="b"/>
              <a:pathLst>
                <a:path w="1509" h="1338">
                  <a:moveTo>
                    <a:pt x="1509" y="1338"/>
                  </a:moveTo>
                  <a:lnTo>
                    <a:pt x="1290" y="1338"/>
                  </a:lnTo>
                  <a:lnTo>
                    <a:pt x="1194" y="1335"/>
                  </a:lnTo>
                  <a:lnTo>
                    <a:pt x="1119" y="1329"/>
                  </a:lnTo>
                  <a:lnTo>
                    <a:pt x="1017" y="1320"/>
                  </a:lnTo>
                  <a:lnTo>
                    <a:pt x="918" y="1302"/>
                  </a:lnTo>
                  <a:lnTo>
                    <a:pt x="831" y="1272"/>
                  </a:lnTo>
                  <a:lnTo>
                    <a:pt x="780" y="1245"/>
                  </a:lnTo>
                  <a:lnTo>
                    <a:pt x="732" y="1212"/>
                  </a:lnTo>
                  <a:lnTo>
                    <a:pt x="684" y="1167"/>
                  </a:lnTo>
                  <a:lnTo>
                    <a:pt x="636" y="1116"/>
                  </a:lnTo>
                  <a:lnTo>
                    <a:pt x="576" y="1038"/>
                  </a:lnTo>
                  <a:lnTo>
                    <a:pt x="531" y="963"/>
                  </a:lnTo>
                  <a:lnTo>
                    <a:pt x="474" y="849"/>
                  </a:lnTo>
                  <a:lnTo>
                    <a:pt x="420" y="735"/>
                  </a:lnTo>
                  <a:lnTo>
                    <a:pt x="372" y="627"/>
                  </a:lnTo>
                  <a:lnTo>
                    <a:pt x="323" y="507"/>
                  </a:lnTo>
                  <a:lnTo>
                    <a:pt x="276" y="396"/>
                  </a:lnTo>
                  <a:lnTo>
                    <a:pt x="237" y="306"/>
                  </a:lnTo>
                  <a:lnTo>
                    <a:pt x="204" y="234"/>
                  </a:lnTo>
                  <a:lnTo>
                    <a:pt x="168" y="165"/>
                  </a:lnTo>
                  <a:lnTo>
                    <a:pt x="129" y="102"/>
                  </a:lnTo>
                  <a:lnTo>
                    <a:pt x="93" y="54"/>
                  </a:lnTo>
                  <a:lnTo>
                    <a:pt x="63" y="24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V="1">
            <a:off x="4446720" y="226224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11640" y="19573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58280" y="4365720"/>
            <a:ext cx="3189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38680" y="3510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1320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48160" y="4484520"/>
            <a:ext cx="4935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81640" y="2560680"/>
            <a:ext cx="836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399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91200" y="3381480"/>
            <a:ext cx="806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,242/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06268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833640" y="350784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35600" y="3200400"/>
            <a:ext cx="834840" cy="1293840"/>
          </a:xfrm>
          <a:custGeom>
            <a:avLst/>
            <a:gdLst/>
            <a:ahLst/>
            <a:rect l="l" t="t" r="r" b="b"/>
            <a:pathLst>
              <a:path w="518" h="815">
                <a:moveTo>
                  <a:pt x="2" y="815"/>
                </a:moveTo>
                <a:lnTo>
                  <a:pt x="0" y="0"/>
                </a:lnTo>
                <a:lnTo>
                  <a:pt x="518" y="0"/>
                </a:lnTo>
                <a:lnTo>
                  <a:pt x="518" y="8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03560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2280" y="4489560"/>
            <a:ext cx="4921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62520" y="4716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11520" y="559944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2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49600" y="473076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1960" y="515988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Me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52840" y="5599440"/>
            <a:ext cx="80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Cuartil 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75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5480" y="3834720"/>
            <a:ext cx="6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7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663-C355-42CD-A70D-A0BED96AD412}" type="slidenum">
              <a:t>60</a:t>
            </a:fld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CA0-FE21-45DA-95FD-0B0582636B8A}" type="slidenum">
              <a:t>61</a:t>
            </a:fld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08AC-E719-437C-AF2B-85D5CC218AC0}" type="slidenum">
              <a:t>62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7680" y="2031480"/>
            <a:ext cx="8108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mo ejemplo,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onid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cuanto fenómeno físico presente en el oído, sería en si mismo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ím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A4F-B9FF-49FE-9449-821EADB07C86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7680" y="1117080"/>
            <a:ext cx="8108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n embargo podemos tomar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 de estím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egún el caso,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ns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ncho de ban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ur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su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fundidad de modul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tc. dependiendo de qué estemos investiga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6F3-AAE5-449D-9F7F-E100F642981B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422000"/>
            <a:ext cx="810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forma similar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s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un fenómen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erceptiv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puede abarcar varios aspectos de la respuesta, pero podemos, selecciona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bles perceptiv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019-2F49-440A-9372-8CADF3D74631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20:45Z</dcterms:modified>
  <cp:revision>243</cp:revision>
  <dc:subject/>
  <dc:title>PSICOACÚSTICA  aplicada a la calidad acústica de espacios educativos.  Materiales absorbentes acústicos reciclados </dc:title>
</cp:coreProperties>
</file>