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611-0211-46BC-853B-B5B93ED0868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C70-DA68-4698-AE8F-AC86318C3DC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079D-00AF-436E-9581-578BE5B46EB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FD5-9E7F-436E-BF42-0A5753F9C1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2D0B-62B3-42CF-9ECE-83799CC09E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695-B6BD-41EC-AA72-E521DC2F718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4EF-FAB9-4FD0-A370-D5D3D5FDE6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15A-BC24-45A2-9CD2-0BBD04A40C1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3C7-B720-434E-B07F-17110F835A4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B41-66FE-4B1F-978B-81E9894488B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233-9584-421D-ADDA-45F7730D280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A7B0-27B4-441E-BF69-97817E04268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3F73-1BDB-4A91-8771-20699BB943D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39F-841C-4E41-BD47-AF046E82316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8046-0AA5-4FB5-B776-5C6216F268F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FF6-AE1A-40CE-9769-DE707B62708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7E4-8A88-4DF8-8D9C-172585DEC50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D0F5-9DF2-4947-8E27-A07C00FFF72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4DD7-7221-47DD-97CC-84F820A0852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26AD-5D51-4A6B-BEFD-00C164D3E2D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E3D-0A34-4732-9092-EB71BBA7CFA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310F-CEF5-4C01-9041-D9E03ABDA8E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3435-17CF-4A29-A870-D372528BC22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BF72-10D9-4B19-A61D-4EB9C18F96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7563-43F3-49A4-AD30-912FA2AF06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30D5-07D0-473D-9258-1670D1DC7C0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FD26-D682-49FA-B3E2-AE29AA69D8C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0E8-CE37-4DB8-A380-9A8F73DC3BD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AB5-E2BB-423A-9ADE-280B09AE02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7985-5E29-479A-B087-6061D496A7D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9473-BC15-43DA-A78D-824A1FBC901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AECD-C6A9-42F0-A497-338077DE7D7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240A-DB91-436E-8337-35C6D2EBBC3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9CD1-AE57-432D-8A93-3DBA9B1B0B9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9B13-7709-4B67-AAC6-EAA0D41BEAB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BC3-C266-4B22-9AAB-943C297D749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D3D-9FA8-481F-BA66-02B18C83977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93C-D217-436A-9A71-64B4746A565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FF2-CFDD-43A4-9C11-C408B7115D3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6AF-E898-4CB2-99BE-9789AA61BE5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733C-583E-408A-B856-FD8490A863F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F23E-F71A-4A24-B8F5-BC21083413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471-9D25-4BE9-82DA-1002375C7DF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E25C-F1C7-4E4F-8AA8-3DA498F24DE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20C-F28C-4BD2-9BAC-B0A7F31B768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F02D-7036-4035-A08C-E2C534B96A5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331-1955-40ED-984C-71D133150DE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18F-9469-4B78-836A-F929021B49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8D4C-F119-4944-AEBA-43E6ADB9096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8BE-C5DD-4207-9B84-2DFA2763B5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4E82-B0C6-4920-BDA8-961CBC1068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ED74-33E1-47E4-A24A-4EA58D62CF5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C40-F787-45C2-B7C2-3523A00CE27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0DE-1D1F-42C8-A58E-9DAFE02322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F1A-1514-414A-BE7B-586E3167B8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C8F-56A0-4AE2-8605-087D9AB9B52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1164-6447-4E46-A140-3CE9152DB13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033A-7C55-458C-8037-DC06E21C59E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F407-140C-49B5-ACC4-F35FEADBC70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E3D-4A8D-416B-A76D-D6F2787085D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6AD-35BB-43B0-A041-B027B1F1B49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da banda tiene el mismo peso en la inteligibilidad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74F9-5FDD-4D38-B859-EC8AF3569AC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 asigna un 5% de aporte máximo de cada banda a la inteligibilidad (de allí el 0,05). Cuando la relación señal / ruido es muy alta (muy buena), la inteligibilidad ya no mejora sino que alcanza el óptimo. Por eso es que si (S/R)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+ k &gt; 30 directamente se toma un aporte de 0,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669-8385-453A-A070-6BADB0B8909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uso de bandas de tercio de octava, cuyo aporte a la inteligibilidad total no es parejo implicará la necesidad de asignar un peso al aporte de cada ban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501-2209-49BC-B363-BB3C518F35C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valor de pico no es igual, como se vio, al valor eficaz, por eso es que se usa la notación </a:t>
            </a:r>
            <a:r>
              <a:rPr b="0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n lugar de S/R, que se reserva para diferencia de niveles de presión sonora (que corresponden, por lo tanto, a valores eficaces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2B72-F214-49F3-8298-2363B2BDFC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AB5F-7280-45A1-A465-98F9E0648B4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 curva es para el idioma inglés, pero hay similitudes entre los diversos idi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9F01-A3D0-4327-B2FF-8520230A260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35E-D97E-45E2-B20F-F4447A002EA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8721-2581-4129-BCAA-C82617EAF52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41A-AFE6-4AD0-9F40-EB0A13B959E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239F-C46B-4492-B41D-8AB32B00C50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AAAD-3851-4DF5-9EA7-3FA657D7F50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B37-7E33-4FEE-8134-E577880F755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327-3AA1-45E0-915B-71A14505C0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D5E-0D7A-4A64-9DE3-3201B45A37D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BA98-5552-48EC-9AEC-F79BC65431D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032-3301-4BF4-8963-2EBB4B1CE07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88BA-7BF4-4FE6-8C89-F1634C57573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razón por la que la profundidad de la modulación disminuye es porq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reverberación impiden que la amplitud decrezca tan rápidamente. Por ejemplo, si un ciclo dura 0,1 s (F = 10 Hz) y el tiempo de reverberación es 1s, en 0,1s la caída debida a la reverberación es de sólo 6 dB, es decir, hubo una caída a la mitad, y no a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ruido impide que la caída llegue hasta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sérvese que la forma de la portadora se altera mucho, pero eso para este caso no interesa, ya que sólo estamos interesados en la envolv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EFD3-D5B0-4EA6-BFD1-D027F601842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6356-C9F1-4826-83B9-C17343C3AB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siempre es una cantidad negativa de dB  o a lo sumo 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891-7A9B-4225-8947-46B0045365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E623-94B7-47C0-B131-EF8BDD41DF3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1B98-A5D6-455F-AE1F-87E7B2F18FD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31C-F412-4730-BC81-6732E6C8F77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9A7-B7FD-4025-BA46-F75836BCEE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128-BBC5-4B4E-AD9A-53FEA2C94C6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7345-3F86-4F5F-BE58-2EECF3BB6F2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950-41A1-4C2F-BD99-B39B15DCB92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518C-5806-4489-9102-389050164B7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0D94-5E26-4F44-988A-BAEAEF7F33E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62C-5B29-4CD8-BDD1-4E57EA51634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BE99-3BBE-4F56-8AA2-49C9827E1C3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18A-55E4-4693-B16D-1CE6A1D5DC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D5D-847C-49E5-892A-89395F6C37F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4A82-A327-4238-8D04-043CE32430F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E1AB-B3DB-4DD0-A1DA-2612D61090D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056-7BC6-4144-BB28-8576A21D0A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D1B-6572-4FB4-8E05-367DF1E503B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33E-ED76-4EDE-BB9E-1B59227E8F0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9F1-8BFE-4AD9-B94A-15AE22D381B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731-CB1C-425A-83C7-58AE59FEFB7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736-4F0B-4557-A1B3-F5595746CF6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A4DD-EF16-4706-8CA7-1FE2351C82E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1200" spc="-1" strike="noStrike" baseline="-25000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0734-C8F5-47FC-83D3-242052C0D70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ser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TF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negativo o a lo sumo 0, el denominador es mayor o igual que 1, y por lo tanto cada sumando es menor o igual que 1, por lo que STI, por ser un promedio expresado en porcentaje, resulta menor o igual que el 100%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9B12-887C-4C3D-ADD5-5F97947E6A6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6A95-648F-4821-A55D-45264180710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F92-7CEA-4369-AF82-29AA7B6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982-0011-4FCA-A54F-984DF989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794-B6C0-44CF-9F43-6E2C187B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7FE-22CC-487C-8D23-0096E4C9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334-ADE1-4DE0-A158-D9D9ADD1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A02-63C8-4F38-B2D5-3E8EE18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70D-ED5F-4F9F-B816-E94354C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9F3-05B3-43DE-B98B-45FC0CD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9DE-9F9E-4C8A-AD14-461361A1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FCC-4781-4276-B718-2440283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CFC-4391-493F-871C-9CD64DC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CCD-A939-4FFC-BEBC-71496B8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93D-5CDB-4EFC-A901-5674C26AA80E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2s.wav" TargetMode="External"/><Relationship Id="rId3" Type="http://schemas.openxmlformats.org/officeDocument/2006/relationships/hyperlink" Target="file:///tmp/home/.config/libreoffice/4/user/gallery/Voz_masculina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2s.wav" TargetMode="External"/><Relationship Id="rId3" Type="http://schemas.openxmlformats.org/officeDocument/2006/relationships/hyperlink" Target="file:///tmp/home/.config/libreoffice/4/user/gallery/Voz_masculina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Voz_femenina_03_15Hz_2s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Voz_femenina_03_15Hz_2s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urioso.wav" TargetMode="External"/><Relationship Id="rId4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Aula21_1_Voz_femenina___3.15Hz.wav" TargetMode="External"/><Relationship Id="rId4" Type="http://schemas.openxmlformats.org/officeDocument/2006/relationships/hyperlink" Target="file:///tmp/home/.config/libreoffice/4/user/gallery/Voz_femenina_03_15Hz_2s.wav" TargetMode="External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Aula21_1_Voz_femenina___3.15Hz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9FE-C808-4ABC-908F-6549456DC27A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7424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mpliemos los tres primeros fonemas, /c/, /u/ y /r/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5EC-6B9D-4FF8-A612-EA66C2B37DB9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2247840" y="4010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47640" y="1603080"/>
            <a:ext cx="784872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iyara, Federico: “Control de Ruido”. Publicación electrónica en CD. Editorial ASOLOFAL, Rosario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: “Acústica”. Editorial Hispanoamericana S. A. Buenos Aires (Arg.), 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, Vér, István (eds.): “Noise and Vibration Control Engineering”. John Wiley.  New York  (USA), 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iyara, Federico: “Acústica y Sistemas de Sonido”. UNR Editora. Rosario (Arg.), 199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Harris, Cyril M.: “Handbook of Acoustical Measurements and Noise Control”. Acoustical Society of America.  Woodbury (USA)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Makrinenko, Leoni: “Acoustics of Auditoriums in Public Buildings”. Acoustical Society of America, Woodbury (USA),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8A4-4BC9-44CA-B0EE-957E88A78ED8}" type="slidenum">
              <a:t>100</a:t>
            </a:fld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2247840" y="4010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914400" y="1187280"/>
            <a:ext cx="76582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arron, Michael: “Auditorium Acoustics and Architectural Design”. E &amp; FN Spon. Londres (UK)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Beranek, Leo L.: “Concert Opera Halls: How they Sound”. Acoustical Society of America.  New York  (USA), 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Davis, Don; Davis, Carolyn: “Sound System Engineering”. SAMS (Prentice Hall Computer Publishing). Carmel, Indiana (USA)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Everest, F. Alton:  “The Master Handbook of  Acoustics”. McGraw-Hill. Blue Ridge Summit (USA) 19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Haas, Helmut: 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“The influence of a single echo on the audibility of speech”. Journal of the Audio Engineering Society, Vol 20, No 2, March 1972, pp 146-15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99"/>
                </a:solidFill>
                <a:latin typeface="Times New Roman"/>
              </a:rPr>
              <a:t>IRAM 4070:1986</a:t>
            </a: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AR" sz="2000" spc="-1" strike="noStrike">
                <a:solidFill>
                  <a:srgbClr val="333399"/>
                </a:solidFill>
                <a:latin typeface="Times New Roman"/>
              </a:rPr>
              <a:t>“Ruidos. Procedimiento para su evaluación utilizando las curvas ‘NR’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BE5-8E63-4B81-B5E8-1C2F4A58C5E7}" type="slidenum">
              <a:t>101</a:t>
            </a:fld>
          </a:p>
        </p:txBody>
      </p:sp>
    </p:spTree>
  </p:cSld>
  <p:transition>
    <p:fad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A02-8210-460F-81F0-C0E8A87151A9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685800" y="14479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333399"/>
                </a:solidFill>
                <a:latin typeface="Courier New"/>
              </a:rPr>
              <a:t>PROBLE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826-F3B8-4D73-B415-5E4A0666F9F8}" type="slidenum">
              <a:t>103</a:t>
            </a:fld>
          </a:p>
        </p:txBody>
      </p:sp>
    </p:spTree>
  </p:cSld>
  <p:transition>
    <p:fad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685800" y="1447920"/>
            <a:ext cx="8077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1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n Acústica Musical una quinta justa es un intervalo cuya relación de frecuencias es 3:2. Verificar que una quinta temperada, es decir, un intervalo formado por 7 semitonos, coincide con mucha aproximación con una quinta 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Obtener la frecuencia de un fa 2 octavas por debajo de la octav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A9F-D9A8-495C-AF78-968D2990ED96}" type="slidenum">
              <a:t>104</a:t>
            </a:fld>
          </a:p>
        </p:txBody>
      </p:sp>
    </p:spTree>
  </p:cSld>
  <p:transition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685800" y="1646280"/>
            <a:ext cx="8077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3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Determinar si un tono puro de 100 Hz y 70 dB es más o menos sonoro que uno de 700 Hz y 64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4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Obtener el nivel de sonoridad en fon de un tono de 60 dB y 200 H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48E-CF67-4BFD-9E09-977E911BE3E9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685800" y="147960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5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Luego de mejorar el aislamiento acústico de una habitación en la cual se produce un sonido de 90 Hz y 100 dB se obtiene, fuera de ella, un nivel sonoro de 35 dB. ¿Qué puede afirmarse de la efectividad del tratamient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4C1-09E9-4FB5-A85D-C17FCDBD508D}" type="slidenum">
              <a:t>106</a:t>
            </a:fld>
          </a:p>
        </p:txBody>
      </p:sp>
    </p:spTree>
  </p:cSld>
  <p:transition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685800" y="990720"/>
            <a:ext cx="80773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6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¿Cuál es la sonoridad en son de un tono de 7 kHz y 61 d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.7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¿Cuál es la sonoridad de una onda cuadrada de 300 Hz y 80 dB? Sugerencia: Los armónicos de una onda cuadrada son de orden impar y sus amplitudes vienen dadas por </a:t>
            </a:r>
            <a:br>
              <a:rPr sz="3200"/>
            </a:b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4 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0" i="1" lang="es-ES" sz="3200" spc="-1" strike="noStrike" baseline="-25000">
                <a:solidFill>
                  <a:srgbClr val="333399"/>
                </a:solidFill>
                <a:latin typeface="Times New Roman"/>
              </a:rPr>
              <a:t>máx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/(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), donde </a:t>
            </a:r>
            <a:r>
              <a:rPr b="0" i="1" lang="es-ES" sz="32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 es el orden del armónico impar consider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E64-7A4D-40D3-A7F2-C8155AA1D198}" type="slidenum">
              <a:t>107</a:t>
            </a:fld>
          </a:p>
        </p:txBody>
      </p:sp>
    </p:spTree>
  </p:cSld>
  <p:transition>
    <p:fad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685800" y="9907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a) Calcular la potencia sonora que llega al tímpano cuando se escucha un sonido de 60 dB. b) Determinar qué fracción de esa potencia llega al oído interno (ventana oval). Sugerencia: trabajar con la intensidad sonora, teniendo en cuenta las áreas del tímpano y la ventana oval, así como la ganancia mecánica del oído medio, suponiendo que éste no tiene pérd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287-4AA4-4C71-8BDC-B41C12147E06}" type="slidenum">
              <a:t>108</a:t>
            </a:fld>
          </a:p>
        </p:txBody>
      </p:sp>
    </p:spTree>
  </p:cSld>
  <p:transition>
    <p:fad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685800" y="99072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Un individuo es capaz de entender un 40% de las palabras tomadas de una lista de palabras fonéticamente balanceadas pronunciadas de manera de tener 20 dB en su oído. Indicar si su audición es normal o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E3D-064D-4D47-B3F9-C2E1FF1E9AC6}" type="slidenum">
              <a:t>109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764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7A2-A72D-4A2C-A49C-3299AEEA6AA9}" type="slidenum">
              <a:t>11</a:t>
            </a:fld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/>
          <p:nvPr/>
        </p:nvSpPr>
        <p:spPr>
          <a:xfrm>
            <a:off x="685800" y="1387440"/>
            <a:ext cx="8077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Determinar el índice porcentual de articulación de frases cuando el nivel de presión sonora es de 30 dB, en ausencia de r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Repetir el problema anterior cuando el nivel de presión sonora es de 40 dB pero el ruido ambiente es de 43 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5C3-8ECE-4FB2-92C7-47E419B0EA0F}" type="slidenum">
              <a:t>110</a:t>
            </a:fld>
          </a:p>
        </p:txBody>
      </p:sp>
    </p:spTree>
  </p:cSld>
  <p:transition>
    <p:fad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685800" y="9907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n un ambiente hay un ruido rosa de 75 dB. Determinar si será posible comunicarse oralmente sin gritar a 2 m de distancia. Sugerencia: para calcular el espectro del ruido rosa tener en cuenta que el mismo tiene la misma energía en todas las bandas de octa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7BC-5616-45CE-B511-EF5760284CE1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533520" y="458640"/>
            <a:ext cx="8076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2.1</a:t>
            </a:r>
            <a:r>
              <a:rPr b="0" lang="es-ES_tradnl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99"/>
                </a:solidFill>
                <a:latin typeface="Times New Roman"/>
              </a:rPr>
              <a:t>El espectro promedio de la música de rock típica sube a razón de 18 dB por octava hasta los 80 Hz, y luego baja a razón de 6 dB por octava. a) Si el nivel sonoro máximo dentro de  una discoteca es de 105 dB, determinar el espectro de bandas de octava entre 31,5 Hz y 8 kHz. b) Si la atenuación provista por la pared medianera con una casa vecina se incrementa a razón de 12 dB por octava arrancando en 30 dB en la octava de 31,5 Hz, determinar si dicha casa cumple con el criterio NR para residencias urb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39F-AE6D-4876-95B0-FD154E2BA1FD}" type="slidenum">
              <a:t>112</a:t>
            </a:fld>
          </a:p>
        </p:txBody>
      </p:sp>
    </p:spTree>
  </p:cSld>
  <p:transition>
    <p:fad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"/>
          <p:cNvSpPr/>
          <p:nvPr/>
        </p:nvSpPr>
        <p:spPr>
          <a:xfrm flipV="1">
            <a:off x="1295280" y="13716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19320" y="480060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6919920" y="455076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838080" y="594720"/>
            <a:ext cx="1177920" cy="777600"/>
            <a:chOff x="838080" y="594720"/>
            <a:chExt cx="1177920" cy="777600"/>
          </a:xfrm>
        </p:grpSpPr>
        <p:sp>
          <p:nvSpPr>
            <p:cNvPr id="1865" name=""/>
            <p:cNvSpPr/>
            <p:nvPr/>
          </p:nvSpPr>
          <p:spPr>
            <a:xfrm>
              <a:off x="838080" y="851760"/>
              <a:ext cx="117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n-US" sz="28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93520" y="5947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7" name=""/>
          <p:cNvSpPr/>
          <p:nvPr/>
        </p:nvSpPr>
        <p:spPr>
          <a:xfrm>
            <a:off x="3216240" y="2057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88960" y="2057400"/>
            <a:ext cx="5133960" cy="2004840"/>
          </a:xfrm>
          <a:custGeom>
            <a:avLst/>
            <a:gdLst/>
            <a:ahLst/>
            <a:rect l="l" t="t" r="r" b="b"/>
            <a:pathLst>
              <a:path w="3234" h="134">
                <a:moveTo>
                  <a:pt x="0" y="120"/>
                </a:moveTo>
                <a:lnTo>
                  <a:pt x="1085" y="0"/>
                </a:lnTo>
                <a:lnTo>
                  <a:pt x="3234" y="134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627280" y="480924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80 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AD2-8A70-40BF-9275-B9B85DA179A4}" type="slidenum">
              <a:t>113</a:t>
            </a:fld>
          </a:p>
        </p:txBody>
      </p:sp>
    </p:spTree>
  </p:cSld>
  <p:transition>
    <p:fade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87B-F8CB-47AA-A0D5-97274537BA8E}" type="slidenum">
              <a:t>114</a:t>
            </a:fld>
          </a:p>
        </p:txBody>
      </p:sp>
    </p:spTree>
  </p:cSld>
  <p:transition>
    <p:fad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444-B28A-49DA-B527-9371223D8437}" type="slidenum">
              <a:t>115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/>
          </p:cNvPr>
          <p:cNvSpPr/>
          <p:nvPr/>
        </p:nvSpPr>
        <p:spPr>
          <a:xfrm>
            <a:off x="404640" y="569268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9B4-368C-43B3-BC81-6BAC0F4337C2}" type="slidenum">
              <a:t>12</a:t>
            </a:fld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8431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/>
          </p:cNvPr>
          <p:cNvSpPr/>
          <p:nvPr/>
        </p:nvSpPr>
        <p:spPr>
          <a:xfrm>
            <a:off x="404640" y="569268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9D4-5AD3-419D-8929-E7C5B6B18A18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71680" y="2133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vocal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ienen su energía principalmente 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 L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nsonantes,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4B5-BD16-4B57-A8C0-5BF60CC0CD8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04840" y="243756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ocales so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en gener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n</a:t>
            </a:r>
            <a:r>
              <a:rPr b="1" lang="es-ES_tradnl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las consona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8AC-018C-4D33-90C5-971E6E0EF55A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consecuencia la palabra se encuentra amenazada por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C2E-8EF7-4E97-AB43-60776AF2BCB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43756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enmascarar total o parcialmente a las débiles consona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C16-073C-4229-B9F2-77215B6A4FEB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4440" y="2133000"/>
            <a:ext cx="81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superponer la energía de las vocales reflejada múltiples veces a las consonante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1D4-D55A-4E2D-B762-E7027E0B5717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4440" y="1523520"/>
            <a:ext cx="811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inteligibilidad se mide com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orcentaje de articulación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a como el promedio para varias personas de la cantidad de aciertos dividida por la cantidad de emision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396-E203-4CB4-8E6F-9985B6C3324E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42840" y="2581560"/>
            <a:ext cx="725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Inteligibilidad </a:t>
            </a:r>
            <a:br>
              <a:rPr sz="4400"/>
            </a:b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 la pala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EE0-6003-4BC5-9887-CF593FC7BABE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y tres tipos de porcentajes de articulación: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ilábic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labra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ras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FB2-03E9-4E3D-A1A8-224DF0DF0F65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s tres porcentaje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P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A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tán relacionados entre sí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BE3-7F35-49AF-8396-EA72CA51E32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94000" y="1219320"/>
            <a:ext cx="63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153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06800" y="1349280"/>
            <a:ext cx="5648040" cy="3533760"/>
          </a:xfrm>
          <a:custGeom>
            <a:avLst/>
            <a:gdLst/>
            <a:ahLst/>
            <a:rect l="l" t="t" r="r" b="b"/>
            <a:pathLst>
              <a:path w="5214" h="3268">
                <a:moveTo>
                  <a:pt x="0" y="3268"/>
                </a:moveTo>
                <a:lnTo>
                  <a:pt x="312" y="3070"/>
                </a:lnTo>
                <a:lnTo>
                  <a:pt x="580" y="2896"/>
                </a:lnTo>
                <a:lnTo>
                  <a:pt x="822" y="2728"/>
                </a:lnTo>
                <a:lnTo>
                  <a:pt x="1129" y="2506"/>
                </a:lnTo>
                <a:lnTo>
                  <a:pt x="1372" y="2323"/>
                </a:lnTo>
                <a:lnTo>
                  <a:pt x="1612" y="2125"/>
                </a:lnTo>
                <a:lnTo>
                  <a:pt x="1800" y="1948"/>
                </a:lnTo>
                <a:lnTo>
                  <a:pt x="1996" y="1741"/>
                </a:lnTo>
                <a:lnTo>
                  <a:pt x="2182" y="1522"/>
                </a:lnTo>
                <a:lnTo>
                  <a:pt x="2344" y="1315"/>
                </a:lnTo>
                <a:lnTo>
                  <a:pt x="2551" y="1060"/>
                </a:lnTo>
                <a:lnTo>
                  <a:pt x="2749" y="841"/>
                </a:lnTo>
                <a:lnTo>
                  <a:pt x="2935" y="664"/>
                </a:lnTo>
                <a:lnTo>
                  <a:pt x="3142" y="505"/>
                </a:lnTo>
                <a:lnTo>
                  <a:pt x="3316" y="403"/>
                </a:lnTo>
                <a:lnTo>
                  <a:pt x="3480" y="328"/>
                </a:lnTo>
                <a:lnTo>
                  <a:pt x="3654" y="268"/>
                </a:lnTo>
                <a:lnTo>
                  <a:pt x="3924" y="192"/>
                </a:lnTo>
                <a:lnTo>
                  <a:pt x="4186" y="133"/>
                </a:lnTo>
                <a:lnTo>
                  <a:pt x="4422" y="88"/>
                </a:lnTo>
                <a:lnTo>
                  <a:pt x="4716" y="42"/>
                </a:lnTo>
                <a:lnTo>
                  <a:pt x="4860" y="28"/>
                </a:lnTo>
                <a:lnTo>
                  <a:pt x="521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E9D-B8DE-43BE-A5DE-BCFD9E583B49}" type="slidenum">
              <a:t>22</a:t>
            </a:fld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14440" y="182808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emos que ante un moderado porcentaje de articul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ílab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obtiene un alto porcentaje de articul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BFE-8D13-4EB9-B22C-43370FA8DE63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14440" y="185832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las personas muchas veces pued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oc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una palabra aun 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ierde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gú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tal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su pronunc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290-3589-4DCF-9847-925E74E432C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71640" y="4952880"/>
            <a:ext cx="666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0000" y="261144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0000" y="295740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0000" y="330048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3649680"/>
            <a:ext cx="666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33520" y="4008600"/>
            <a:ext cx="6667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50800" y="4392720"/>
            <a:ext cx="665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0040" y="4748040"/>
            <a:ext cx="704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49360" y="2290680"/>
            <a:ext cx="665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76440" y="193356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0" y="156060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81120" y="1216080"/>
            <a:ext cx="542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7032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35160" y="495288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0216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70240" y="4952880"/>
            <a:ext cx="586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35440" y="49528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00640" y="495288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459400"/>
            <a:ext cx="1071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116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2780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93000" y="4940280"/>
            <a:ext cx="58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854440"/>
            <a:ext cx="11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196720" y="1346040"/>
            <a:ext cx="5653440" cy="3535200"/>
            <a:chOff x="2196720" y="1346040"/>
            <a:chExt cx="5653440" cy="3535200"/>
          </a:xfrm>
        </p:grpSpPr>
        <p:sp>
          <p:nvSpPr>
            <p:cNvPr id="202" name=""/>
            <p:cNvSpPr/>
            <p:nvPr/>
          </p:nvSpPr>
          <p:spPr>
            <a:xfrm>
              <a:off x="220032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7020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30360" y="1350720"/>
              <a:ext cx="180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360" y="1350720"/>
              <a:ext cx="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6076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8792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36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3000" y="1350720"/>
              <a:ext cx="144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7400" y="1350720"/>
              <a:ext cx="0" cy="352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198520" y="4879800"/>
              <a:ext cx="563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01760" y="4528800"/>
              <a:ext cx="5626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198520" y="4171680"/>
              <a:ext cx="563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201760" y="3831480"/>
              <a:ext cx="563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1760" y="3111120"/>
              <a:ext cx="5626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01760" y="2061720"/>
              <a:ext cx="562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201400" y="2404800"/>
              <a:ext cx="56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196720" y="2757240"/>
              <a:ext cx="5632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203200" y="1351800"/>
              <a:ext cx="564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207880" y="1706400"/>
              <a:ext cx="563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197080" y="3468240"/>
              <a:ext cx="5635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91440" y="1346040"/>
              <a:ext cx="1440" cy="352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1360" y="1347480"/>
              <a:ext cx="7920" cy="353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526160" y="4950000"/>
            <a:ext cx="586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09680" y="1371600"/>
            <a:ext cx="5629320" cy="3533400"/>
            <a:chOff x="2209680" y="1371600"/>
            <a:chExt cx="5629320" cy="3533400"/>
          </a:xfrm>
        </p:grpSpPr>
        <p:sp>
          <p:nvSpPr>
            <p:cNvPr id="226" name=""/>
            <p:cNvSpPr/>
            <p:nvPr/>
          </p:nvSpPr>
          <p:spPr>
            <a:xfrm>
              <a:off x="3272040" y="1371600"/>
              <a:ext cx="4566960" cy="2299680"/>
            </a:xfrm>
            <a:custGeom>
              <a:avLst/>
              <a:gdLst/>
              <a:ahLst/>
              <a:rect l="l" t="t" r="r" b="b"/>
              <a:pathLst>
                <a:path w="4230" h="2130">
                  <a:moveTo>
                    <a:pt x="0" y="2130"/>
                  </a:moveTo>
                  <a:lnTo>
                    <a:pt x="120" y="1962"/>
                  </a:lnTo>
                  <a:lnTo>
                    <a:pt x="252" y="1800"/>
                  </a:lnTo>
                  <a:lnTo>
                    <a:pt x="458" y="1581"/>
                  </a:lnTo>
                  <a:lnTo>
                    <a:pt x="584" y="1455"/>
                  </a:lnTo>
                  <a:lnTo>
                    <a:pt x="756" y="1308"/>
                  </a:lnTo>
                  <a:lnTo>
                    <a:pt x="947" y="1161"/>
                  </a:lnTo>
                  <a:lnTo>
                    <a:pt x="1184" y="1002"/>
                  </a:lnTo>
                  <a:lnTo>
                    <a:pt x="1424" y="858"/>
                  </a:lnTo>
                  <a:lnTo>
                    <a:pt x="1632" y="738"/>
                  </a:lnTo>
                  <a:lnTo>
                    <a:pt x="1926" y="588"/>
                  </a:lnTo>
                  <a:lnTo>
                    <a:pt x="2153" y="489"/>
                  </a:lnTo>
                  <a:lnTo>
                    <a:pt x="2322" y="420"/>
                  </a:lnTo>
                  <a:lnTo>
                    <a:pt x="2508" y="354"/>
                  </a:lnTo>
                  <a:lnTo>
                    <a:pt x="2676" y="300"/>
                  </a:lnTo>
                  <a:lnTo>
                    <a:pt x="2946" y="228"/>
                  </a:lnTo>
                  <a:lnTo>
                    <a:pt x="3198" y="168"/>
                  </a:lnTo>
                  <a:lnTo>
                    <a:pt x="3438" y="120"/>
                  </a:lnTo>
                  <a:lnTo>
                    <a:pt x="3732" y="72"/>
                  </a:lnTo>
                  <a:lnTo>
                    <a:pt x="3930" y="42"/>
                  </a:lnTo>
                  <a:lnTo>
                    <a:pt x="4230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9680" y="3658320"/>
              <a:ext cx="1070640" cy="1246680"/>
            </a:xfrm>
            <a:custGeom>
              <a:avLst/>
              <a:gdLst/>
              <a:ahLst/>
              <a:rect l="l" t="t" r="r" b="b"/>
              <a:pathLst>
                <a:path w="992" h="1155">
                  <a:moveTo>
                    <a:pt x="992" y="0"/>
                  </a:moveTo>
                  <a:lnTo>
                    <a:pt x="876" y="171"/>
                  </a:lnTo>
                  <a:lnTo>
                    <a:pt x="774" y="321"/>
                  </a:lnTo>
                  <a:lnTo>
                    <a:pt x="702" y="423"/>
                  </a:lnTo>
                  <a:lnTo>
                    <a:pt x="630" y="525"/>
                  </a:lnTo>
                  <a:lnTo>
                    <a:pt x="522" y="693"/>
                  </a:lnTo>
                  <a:lnTo>
                    <a:pt x="426" y="831"/>
                  </a:lnTo>
                  <a:lnTo>
                    <a:pt x="330" y="951"/>
                  </a:lnTo>
                  <a:lnTo>
                    <a:pt x="275" y="1014"/>
                  </a:lnTo>
                  <a:lnTo>
                    <a:pt x="200" y="1080"/>
                  </a:lnTo>
                  <a:lnTo>
                    <a:pt x="137" y="1116"/>
                  </a:lnTo>
                  <a:lnTo>
                    <a:pt x="72" y="1143"/>
                  </a:lnTo>
                  <a:lnTo>
                    <a:pt x="0" y="1155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4A8-9D47-4E4E-AFDB-A6EA0DB8621A}" type="slidenum">
              <a:t>25</a:t>
            </a:fld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4440" y="2133000"/>
            <a:ext cx="81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nálogamente, aun perdiendo alg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oyente pue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strui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frase a partir del contex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B2D-FA63-4C38-AE51-E3AB260BCC7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14440" y="1669680"/>
            <a:ext cx="81151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i el porcentaje de articulación silábico es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70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¿cuántas frases serán reconocidas de un total d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34D-4ABA-419E-8F63-996B65B82CA8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25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206800" y="1349280"/>
            <a:ext cx="5648040" cy="3533760"/>
          </a:xfrm>
          <a:custGeom>
            <a:avLst/>
            <a:gdLst/>
            <a:ahLst/>
            <a:rect l="l" t="t" r="r" b="b"/>
            <a:pathLst>
              <a:path w="5214" h="3268">
                <a:moveTo>
                  <a:pt x="0" y="3268"/>
                </a:moveTo>
                <a:lnTo>
                  <a:pt x="312" y="3070"/>
                </a:lnTo>
                <a:lnTo>
                  <a:pt x="580" y="2896"/>
                </a:lnTo>
                <a:lnTo>
                  <a:pt x="822" y="2728"/>
                </a:lnTo>
                <a:lnTo>
                  <a:pt x="1129" y="2506"/>
                </a:lnTo>
                <a:lnTo>
                  <a:pt x="1372" y="2323"/>
                </a:lnTo>
                <a:lnTo>
                  <a:pt x="1612" y="2125"/>
                </a:lnTo>
                <a:lnTo>
                  <a:pt x="1800" y="1948"/>
                </a:lnTo>
                <a:lnTo>
                  <a:pt x="1996" y="1741"/>
                </a:lnTo>
                <a:lnTo>
                  <a:pt x="2182" y="1522"/>
                </a:lnTo>
                <a:lnTo>
                  <a:pt x="2344" y="1315"/>
                </a:lnTo>
                <a:lnTo>
                  <a:pt x="2551" y="1060"/>
                </a:lnTo>
                <a:lnTo>
                  <a:pt x="2749" y="841"/>
                </a:lnTo>
                <a:lnTo>
                  <a:pt x="2935" y="664"/>
                </a:lnTo>
                <a:lnTo>
                  <a:pt x="3142" y="505"/>
                </a:lnTo>
                <a:lnTo>
                  <a:pt x="3316" y="403"/>
                </a:lnTo>
                <a:lnTo>
                  <a:pt x="3480" y="328"/>
                </a:lnTo>
                <a:lnTo>
                  <a:pt x="3654" y="268"/>
                </a:lnTo>
                <a:lnTo>
                  <a:pt x="3924" y="192"/>
                </a:lnTo>
                <a:lnTo>
                  <a:pt x="4186" y="133"/>
                </a:lnTo>
                <a:lnTo>
                  <a:pt x="4422" y="88"/>
                </a:lnTo>
                <a:lnTo>
                  <a:pt x="4716" y="42"/>
                </a:lnTo>
                <a:lnTo>
                  <a:pt x="4860" y="28"/>
                </a:lnTo>
                <a:lnTo>
                  <a:pt x="521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1636560"/>
            <a:ext cx="3965760" cy="3237120"/>
          </a:xfrm>
          <a:custGeom>
            <a:avLst/>
            <a:gdLst/>
            <a:ahLst/>
            <a:rect l="l" t="t" r="r" b="b"/>
            <a:pathLst>
              <a:path w="2496" h="2016">
                <a:moveTo>
                  <a:pt x="2496" y="2016"/>
                </a:moveTo>
                <a:lnTo>
                  <a:pt x="249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828800"/>
            <a:ext cx="83520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20B-4125-4241-84B1-F9602E2168B0}" type="slidenum">
              <a:t>28</a:t>
            </a:fld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30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209680" y="1390680"/>
            <a:ext cx="5629320" cy="3476160"/>
            <a:chOff x="2209680" y="1390680"/>
            <a:chExt cx="5629320" cy="3476160"/>
          </a:xfrm>
        </p:grpSpPr>
        <p:sp>
          <p:nvSpPr>
            <p:cNvPr id="328" name=""/>
            <p:cNvSpPr/>
            <p:nvPr/>
          </p:nvSpPr>
          <p:spPr>
            <a:xfrm>
              <a:off x="3272040" y="1390680"/>
              <a:ext cx="4566960" cy="2262240"/>
            </a:xfrm>
            <a:custGeom>
              <a:avLst/>
              <a:gdLst/>
              <a:ahLst/>
              <a:rect l="l" t="t" r="r" b="b"/>
              <a:pathLst>
                <a:path w="4230" h="2130">
                  <a:moveTo>
                    <a:pt x="0" y="2130"/>
                  </a:moveTo>
                  <a:lnTo>
                    <a:pt x="120" y="1962"/>
                  </a:lnTo>
                  <a:lnTo>
                    <a:pt x="252" y="1800"/>
                  </a:lnTo>
                  <a:lnTo>
                    <a:pt x="458" y="1581"/>
                  </a:lnTo>
                  <a:lnTo>
                    <a:pt x="584" y="1455"/>
                  </a:lnTo>
                  <a:lnTo>
                    <a:pt x="756" y="1308"/>
                  </a:lnTo>
                  <a:lnTo>
                    <a:pt x="947" y="1161"/>
                  </a:lnTo>
                  <a:lnTo>
                    <a:pt x="1184" y="1002"/>
                  </a:lnTo>
                  <a:lnTo>
                    <a:pt x="1424" y="858"/>
                  </a:lnTo>
                  <a:lnTo>
                    <a:pt x="1632" y="738"/>
                  </a:lnTo>
                  <a:lnTo>
                    <a:pt x="1926" y="588"/>
                  </a:lnTo>
                  <a:lnTo>
                    <a:pt x="2153" y="489"/>
                  </a:lnTo>
                  <a:lnTo>
                    <a:pt x="2322" y="420"/>
                  </a:lnTo>
                  <a:lnTo>
                    <a:pt x="2508" y="354"/>
                  </a:lnTo>
                  <a:lnTo>
                    <a:pt x="2676" y="300"/>
                  </a:lnTo>
                  <a:lnTo>
                    <a:pt x="2946" y="228"/>
                  </a:lnTo>
                  <a:lnTo>
                    <a:pt x="3198" y="168"/>
                  </a:lnTo>
                  <a:lnTo>
                    <a:pt x="3438" y="120"/>
                  </a:lnTo>
                  <a:lnTo>
                    <a:pt x="3732" y="72"/>
                  </a:lnTo>
                  <a:lnTo>
                    <a:pt x="3930" y="42"/>
                  </a:lnTo>
                  <a:lnTo>
                    <a:pt x="4230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9680" y="3640320"/>
              <a:ext cx="1070640" cy="1226520"/>
            </a:xfrm>
            <a:custGeom>
              <a:avLst/>
              <a:gdLst/>
              <a:ahLst/>
              <a:rect l="l" t="t" r="r" b="b"/>
              <a:pathLst>
                <a:path w="992" h="1155">
                  <a:moveTo>
                    <a:pt x="992" y="0"/>
                  </a:moveTo>
                  <a:lnTo>
                    <a:pt x="876" y="171"/>
                  </a:lnTo>
                  <a:lnTo>
                    <a:pt x="774" y="321"/>
                  </a:lnTo>
                  <a:lnTo>
                    <a:pt x="702" y="423"/>
                  </a:lnTo>
                  <a:lnTo>
                    <a:pt x="630" y="525"/>
                  </a:lnTo>
                  <a:lnTo>
                    <a:pt x="522" y="693"/>
                  </a:lnTo>
                  <a:lnTo>
                    <a:pt x="426" y="831"/>
                  </a:lnTo>
                  <a:lnTo>
                    <a:pt x="330" y="951"/>
                  </a:lnTo>
                  <a:lnTo>
                    <a:pt x="275" y="1014"/>
                  </a:lnTo>
                  <a:lnTo>
                    <a:pt x="200" y="1080"/>
                  </a:lnTo>
                  <a:lnTo>
                    <a:pt x="137" y="1116"/>
                  </a:lnTo>
                  <a:lnTo>
                    <a:pt x="72" y="1143"/>
                  </a:lnTo>
                  <a:lnTo>
                    <a:pt x="0" y="1155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209680" y="1447920"/>
            <a:ext cx="5181840" cy="3429000"/>
          </a:xfrm>
          <a:custGeom>
            <a:avLst/>
            <a:gdLst/>
            <a:ahLst/>
            <a:rect l="l" t="t" r="r" b="b"/>
            <a:pathLst>
              <a:path w="3312" h="2160">
                <a:moveTo>
                  <a:pt x="3312" y="2160"/>
                </a:moveTo>
                <a:lnTo>
                  <a:pt x="331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67652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BDA-88D2-4016-A515-A8FE6837BB61}" type="slidenum">
              <a:t>29</a:t>
            </a:fld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4440" y="2437560"/>
            <a:ext cx="811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factor muy importante en una buena acústica es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nteligibilidad de la palabra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CF6-E23D-4EFA-BA17-8A1403A2EF37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Vemos que con u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70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sílabas correctas se reconocerá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92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palabras y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97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frase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67F-79EF-4933-9710-4AD716DB9565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95320" y="1523520"/>
            <a:ext cx="7353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porcentaje de articulación silábica para ambientes típicos co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uy baja reverber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ede estimarse en función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la palabra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BB4-D998-4BF7-A533-6FE821AF52B3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335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348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359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488-85BD-4031-9886-413A62E06FE5}" type="slidenum">
              <a:t>32</a:t>
            </a:fld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383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b2b2b2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b2b2b2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396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407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95320" y="2742480"/>
            <a:ext cx="73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í, para un nivel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40 dB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   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DBC-3121-4E34-AD06-0A0A9469B963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43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44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45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043000" y="1881360"/>
            <a:ext cx="2738520" cy="317628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05740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2EA-3B0F-44CB-8405-D3D40E886DA8}" type="slidenum">
              <a:t>34</a:t>
            </a:fld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48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b2b2b2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b2b2b2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b2b2b2"/>
                </a:solidFill>
                <a:latin typeface="Times New Roman"/>
              </a:rPr>
              <a:t> [d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49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2b2b2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2b2b2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50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43000" y="1881360"/>
            <a:ext cx="2738520" cy="317628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95320" y="2742480"/>
            <a:ext cx="735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.. se percibe correctamente u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88 %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la sílabas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564-D4E6-45EA-B62E-35D7782D6A43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95320" y="1828080"/>
            <a:ext cx="7353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l agregar ruido ambiente, la inteligibilidad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mpe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un mismo nivel vocal. Por ejemplo, para un ruid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43 dB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.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E50-DB1D-4E20-9A40-96B387881AA7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533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546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557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203040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C324-022F-4700-8C9D-47B5D737FBFA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582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595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606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1515960"/>
            <a:ext cx="5775480" cy="3551400"/>
          </a:xfrm>
          <a:custGeom>
            <a:avLst/>
            <a:gdLst/>
            <a:ahLst/>
            <a:rect l="l" t="t" r="r" b="b"/>
            <a:pathLst>
              <a:path w="3638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462" y="3"/>
                </a:lnTo>
                <a:lnTo>
                  <a:pt x="3638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121-39A4-4E57-B293-2F19002E1DC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631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644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655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3200" y="1515960"/>
            <a:ext cx="5495760" cy="3551400"/>
          </a:xfrm>
          <a:custGeom>
            <a:avLst/>
            <a:gdLst/>
            <a:ahLst/>
            <a:rect l="l" t="t" r="r" b="b"/>
            <a:pathLst>
              <a:path w="3462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462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B01-D6C7-4012-A782-3AE38C9FA44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4440" y="1828080"/>
            <a:ext cx="811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comprender las causas de la pérdida de inteligibilidad tengamos en cuenta l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racterísticas acústic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labra habl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C0E-2587-4A1D-834C-87F6A93B7A18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680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670280" y="5638680"/>
            <a:ext cx="1555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 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693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704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48120" y="1515960"/>
            <a:ext cx="5165640" cy="3551400"/>
          </a:xfrm>
          <a:custGeom>
            <a:avLst/>
            <a:gdLst/>
            <a:ahLst/>
            <a:rect l="l" t="t" r="r" b="b"/>
            <a:pathLst>
              <a:path w="3254" h="2237">
                <a:moveTo>
                  <a:pt x="0" y="2237"/>
                </a:moveTo>
                <a:lnTo>
                  <a:pt x="64" y="2227"/>
                </a:lnTo>
                <a:lnTo>
                  <a:pt x="121" y="2210"/>
                </a:lnTo>
                <a:lnTo>
                  <a:pt x="189" y="2190"/>
                </a:lnTo>
                <a:lnTo>
                  <a:pt x="272" y="2160"/>
                </a:lnTo>
                <a:lnTo>
                  <a:pt x="353" y="2123"/>
                </a:lnTo>
                <a:lnTo>
                  <a:pt x="410" y="2089"/>
                </a:lnTo>
                <a:lnTo>
                  <a:pt x="465" y="2055"/>
                </a:lnTo>
                <a:lnTo>
                  <a:pt x="525" y="2005"/>
                </a:lnTo>
                <a:lnTo>
                  <a:pt x="589" y="1941"/>
                </a:lnTo>
                <a:lnTo>
                  <a:pt x="639" y="1883"/>
                </a:lnTo>
                <a:lnTo>
                  <a:pt x="673" y="1833"/>
                </a:lnTo>
                <a:lnTo>
                  <a:pt x="707" y="1774"/>
                </a:lnTo>
                <a:lnTo>
                  <a:pt x="739" y="1709"/>
                </a:lnTo>
                <a:lnTo>
                  <a:pt x="770" y="1649"/>
                </a:lnTo>
                <a:lnTo>
                  <a:pt x="817" y="1545"/>
                </a:lnTo>
                <a:lnTo>
                  <a:pt x="874" y="1424"/>
                </a:lnTo>
                <a:lnTo>
                  <a:pt x="925" y="1320"/>
                </a:lnTo>
                <a:lnTo>
                  <a:pt x="991" y="1199"/>
                </a:lnTo>
                <a:lnTo>
                  <a:pt x="1053" y="1092"/>
                </a:lnTo>
                <a:lnTo>
                  <a:pt x="1099" y="1011"/>
                </a:lnTo>
                <a:lnTo>
                  <a:pt x="1143" y="937"/>
                </a:lnTo>
                <a:lnTo>
                  <a:pt x="1187" y="860"/>
                </a:lnTo>
                <a:lnTo>
                  <a:pt x="1240" y="766"/>
                </a:lnTo>
                <a:lnTo>
                  <a:pt x="1281" y="699"/>
                </a:lnTo>
                <a:lnTo>
                  <a:pt x="1324" y="632"/>
                </a:lnTo>
                <a:lnTo>
                  <a:pt x="1409" y="511"/>
                </a:lnTo>
                <a:lnTo>
                  <a:pt x="1492" y="410"/>
                </a:lnTo>
                <a:lnTo>
                  <a:pt x="1557" y="346"/>
                </a:lnTo>
                <a:lnTo>
                  <a:pt x="1606" y="306"/>
                </a:lnTo>
                <a:lnTo>
                  <a:pt x="1674" y="258"/>
                </a:lnTo>
                <a:lnTo>
                  <a:pt x="1742" y="218"/>
                </a:lnTo>
                <a:lnTo>
                  <a:pt x="1825" y="179"/>
                </a:lnTo>
                <a:lnTo>
                  <a:pt x="1966" y="128"/>
                </a:lnTo>
                <a:lnTo>
                  <a:pt x="2087" y="90"/>
                </a:lnTo>
                <a:lnTo>
                  <a:pt x="2194" y="68"/>
                </a:lnTo>
                <a:lnTo>
                  <a:pt x="2329" y="44"/>
                </a:lnTo>
                <a:lnTo>
                  <a:pt x="2514" y="20"/>
                </a:lnTo>
                <a:lnTo>
                  <a:pt x="2598" y="10"/>
                </a:lnTo>
                <a:lnTo>
                  <a:pt x="2806" y="3"/>
                </a:lnTo>
                <a:lnTo>
                  <a:pt x="3034" y="0"/>
                </a:lnTo>
                <a:lnTo>
                  <a:pt x="3119" y="0"/>
                </a:lnTo>
                <a:lnTo>
                  <a:pt x="3254" y="2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D62-1F7F-472A-A4B7-CAF283126E5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333440" y="1295280"/>
            <a:ext cx="800280" cy="3960720"/>
            <a:chOff x="1333440" y="1295280"/>
            <a:chExt cx="800280" cy="3960720"/>
          </a:xfrm>
        </p:grpSpPr>
        <p:sp>
          <p:nvSpPr>
            <p:cNvPr id="728" name=""/>
            <p:cNvSpPr/>
            <p:nvPr/>
          </p:nvSpPr>
          <p:spPr>
            <a:xfrm>
              <a:off x="1494000" y="306864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94000" y="271512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94000" y="34185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88960" y="377028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484280" y="414180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03360" y="45291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97160" y="4889880"/>
              <a:ext cx="666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98680" y="238788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03360" y="2023560"/>
              <a:ext cx="53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17760" y="1643760"/>
              <a:ext cx="53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33440" y="1295280"/>
              <a:ext cx="80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4876920" y="5638680"/>
            <a:ext cx="114300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L</a:t>
            </a:r>
            <a:r>
              <a:rPr b="1" i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38280" y="5105520"/>
            <a:ext cx="6019560" cy="377280"/>
            <a:chOff x="2438280" y="5105520"/>
            <a:chExt cx="6019560" cy="377280"/>
          </a:xfrm>
        </p:grpSpPr>
        <p:sp>
          <p:nvSpPr>
            <p:cNvPr id="741" name=""/>
            <p:cNvSpPr/>
            <p:nvPr/>
          </p:nvSpPr>
          <p:spPr>
            <a:xfrm>
              <a:off x="243828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1940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98360" y="511668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912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5844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39200" y="5116680"/>
              <a:ext cx="595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0772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8704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62400" y="5105520"/>
              <a:ext cx="59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85800" y="2895480"/>
            <a:ext cx="914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025720" y="1447920"/>
            <a:ext cx="6203160" cy="3631680"/>
            <a:chOff x="2025720" y="1447920"/>
            <a:chExt cx="6203160" cy="3631680"/>
          </a:xfrm>
        </p:grpSpPr>
        <p:sp>
          <p:nvSpPr>
            <p:cNvPr id="752" name=""/>
            <p:cNvSpPr/>
            <p:nvPr/>
          </p:nvSpPr>
          <p:spPr>
            <a:xfrm flipH="1">
              <a:off x="2036520" y="5077800"/>
              <a:ext cx="6186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36520" y="4715640"/>
              <a:ext cx="6186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036160" y="4353120"/>
              <a:ext cx="6181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36520" y="397980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030760" y="3260160"/>
              <a:ext cx="6192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030760" y="2178000"/>
              <a:ext cx="618732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041560" y="2530080"/>
              <a:ext cx="618156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030400" y="2898000"/>
              <a:ext cx="6187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25720" y="1453320"/>
              <a:ext cx="6192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046960" y="1815480"/>
              <a:ext cx="6181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365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255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0740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09644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836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5492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84216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31200" y="1453320"/>
              <a:ext cx="180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71280" y="1453320"/>
              <a:ext cx="1440" cy="36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030400" y="3628080"/>
              <a:ext cx="6187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8223840" y="1447920"/>
              <a:ext cx="1800" cy="36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752480" y="5114880"/>
            <a:ext cx="53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30720" y="1494000"/>
            <a:ext cx="4898880" cy="3568680"/>
          </a:xfrm>
          <a:custGeom>
            <a:avLst/>
            <a:gdLst/>
            <a:ahLst/>
            <a:rect l="l" t="t" r="r" b="b"/>
            <a:pathLst>
              <a:path w="4356" h="3172">
                <a:moveTo>
                  <a:pt x="0" y="3172"/>
                </a:moveTo>
                <a:lnTo>
                  <a:pt x="95" y="3156"/>
                </a:lnTo>
                <a:lnTo>
                  <a:pt x="174" y="3136"/>
                </a:lnTo>
                <a:lnTo>
                  <a:pt x="270" y="3106"/>
                </a:lnTo>
                <a:lnTo>
                  <a:pt x="383" y="3060"/>
                </a:lnTo>
                <a:lnTo>
                  <a:pt x="494" y="3009"/>
                </a:lnTo>
                <a:lnTo>
                  <a:pt x="587" y="2958"/>
                </a:lnTo>
                <a:lnTo>
                  <a:pt x="660" y="2914"/>
                </a:lnTo>
                <a:lnTo>
                  <a:pt x="750" y="2842"/>
                </a:lnTo>
                <a:lnTo>
                  <a:pt x="840" y="2752"/>
                </a:lnTo>
                <a:lnTo>
                  <a:pt x="900" y="2686"/>
                </a:lnTo>
                <a:lnTo>
                  <a:pt x="956" y="2604"/>
                </a:lnTo>
                <a:lnTo>
                  <a:pt x="1008" y="2512"/>
                </a:lnTo>
                <a:lnTo>
                  <a:pt x="1055" y="2424"/>
                </a:lnTo>
                <a:lnTo>
                  <a:pt x="1112" y="2304"/>
                </a:lnTo>
                <a:lnTo>
                  <a:pt x="1170" y="2182"/>
                </a:lnTo>
                <a:lnTo>
                  <a:pt x="1247" y="2010"/>
                </a:lnTo>
                <a:lnTo>
                  <a:pt x="1320" y="1864"/>
                </a:lnTo>
                <a:lnTo>
                  <a:pt x="1415" y="1683"/>
                </a:lnTo>
                <a:lnTo>
                  <a:pt x="1500" y="1534"/>
                </a:lnTo>
                <a:lnTo>
                  <a:pt x="1562" y="1425"/>
                </a:lnTo>
                <a:lnTo>
                  <a:pt x="1637" y="1302"/>
                </a:lnTo>
                <a:lnTo>
                  <a:pt x="1692" y="1210"/>
                </a:lnTo>
                <a:lnTo>
                  <a:pt x="1770" y="1072"/>
                </a:lnTo>
                <a:lnTo>
                  <a:pt x="1830" y="976"/>
                </a:lnTo>
                <a:lnTo>
                  <a:pt x="1890" y="880"/>
                </a:lnTo>
                <a:lnTo>
                  <a:pt x="2010" y="706"/>
                </a:lnTo>
                <a:lnTo>
                  <a:pt x="2130" y="562"/>
                </a:lnTo>
                <a:lnTo>
                  <a:pt x="2204" y="486"/>
                </a:lnTo>
                <a:lnTo>
                  <a:pt x="2292" y="412"/>
                </a:lnTo>
                <a:lnTo>
                  <a:pt x="2376" y="352"/>
                </a:lnTo>
                <a:lnTo>
                  <a:pt x="2478" y="292"/>
                </a:lnTo>
                <a:lnTo>
                  <a:pt x="2604" y="232"/>
                </a:lnTo>
                <a:lnTo>
                  <a:pt x="2798" y="159"/>
                </a:lnTo>
                <a:lnTo>
                  <a:pt x="2982" y="106"/>
                </a:lnTo>
                <a:lnTo>
                  <a:pt x="3102" y="76"/>
                </a:lnTo>
                <a:lnTo>
                  <a:pt x="3330" y="34"/>
                </a:lnTo>
                <a:lnTo>
                  <a:pt x="3503" y="15"/>
                </a:lnTo>
                <a:lnTo>
                  <a:pt x="3644" y="6"/>
                </a:lnTo>
                <a:lnTo>
                  <a:pt x="3740" y="0"/>
                </a:lnTo>
                <a:lnTo>
                  <a:pt x="3842" y="3"/>
                </a:lnTo>
                <a:lnTo>
                  <a:pt x="3966" y="10"/>
                </a:lnTo>
                <a:lnTo>
                  <a:pt x="4121" y="18"/>
                </a:lnTo>
                <a:lnTo>
                  <a:pt x="4356" y="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43000" y="3670200"/>
            <a:ext cx="2741760" cy="1387440"/>
          </a:xfrm>
          <a:custGeom>
            <a:avLst/>
            <a:gdLst/>
            <a:ahLst/>
            <a:rect l="l" t="t" r="r" b="b"/>
            <a:pathLst>
              <a:path w="1776" h="2016">
                <a:moveTo>
                  <a:pt x="1776" y="2016"/>
                </a:moveTo>
                <a:lnTo>
                  <a:pt x="1776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62320" y="3048120"/>
            <a:ext cx="834840" cy="38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99"/>
                </a:solidFill>
                <a:latin typeface="Times New Roman"/>
              </a:rPr>
              <a:t>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038320" y="1515960"/>
            <a:ext cx="6188040" cy="3551400"/>
          </a:xfrm>
          <a:custGeom>
            <a:avLst/>
            <a:gdLst/>
            <a:ahLst/>
            <a:rect l="l" t="t" r="r" b="b"/>
            <a:pathLst>
              <a:path w="3448" h="1979">
                <a:moveTo>
                  <a:pt x="0" y="1979"/>
                </a:moveTo>
                <a:lnTo>
                  <a:pt x="57" y="1970"/>
                </a:lnTo>
                <a:lnTo>
                  <a:pt x="107" y="1955"/>
                </a:lnTo>
                <a:lnTo>
                  <a:pt x="167" y="1937"/>
                </a:lnTo>
                <a:lnTo>
                  <a:pt x="241" y="1911"/>
                </a:lnTo>
                <a:lnTo>
                  <a:pt x="312" y="1878"/>
                </a:lnTo>
                <a:lnTo>
                  <a:pt x="363" y="1848"/>
                </a:lnTo>
                <a:lnTo>
                  <a:pt x="411" y="1818"/>
                </a:lnTo>
                <a:lnTo>
                  <a:pt x="464" y="1774"/>
                </a:lnTo>
                <a:lnTo>
                  <a:pt x="521" y="1717"/>
                </a:lnTo>
                <a:lnTo>
                  <a:pt x="565" y="1666"/>
                </a:lnTo>
                <a:lnTo>
                  <a:pt x="595" y="1622"/>
                </a:lnTo>
                <a:lnTo>
                  <a:pt x="625" y="1569"/>
                </a:lnTo>
                <a:lnTo>
                  <a:pt x="654" y="1512"/>
                </a:lnTo>
                <a:lnTo>
                  <a:pt x="681" y="1459"/>
                </a:lnTo>
                <a:lnTo>
                  <a:pt x="723" y="1367"/>
                </a:lnTo>
                <a:lnTo>
                  <a:pt x="773" y="1260"/>
                </a:lnTo>
                <a:lnTo>
                  <a:pt x="818" y="1168"/>
                </a:lnTo>
                <a:lnTo>
                  <a:pt x="877" y="1061"/>
                </a:lnTo>
                <a:lnTo>
                  <a:pt x="931" y="966"/>
                </a:lnTo>
                <a:lnTo>
                  <a:pt x="972" y="894"/>
                </a:lnTo>
                <a:lnTo>
                  <a:pt x="1011" y="829"/>
                </a:lnTo>
                <a:lnTo>
                  <a:pt x="1050" y="761"/>
                </a:lnTo>
                <a:lnTo>
                  <a:pt x="1097" y="678"/>
                </a:lnTo>
                <a:lnTo>
                  <a:pt x="1133" y="618"/>
                </a:lnTo>
                <a:lnTo>
                  <a:pt x="1171" y="559"/>
                </a:lnTo>
                <a:lnTo>
                  <a:pt x="1246" y="452"/>
                </a:lnTo>
                <a:lnTo>
                  <a:pt x="1320" y="363"/>
                </a:lnTo>
                <a:lnTo>
                  <a:pt x="1377" y="306"/>
                </a:lnTo>
                <a:lnTo>
                  <a:pt x="1421" y="271"/>
                </a:lnTo>
                <a:lnTo>
                  <a:pt x="1481" y="228"/>
                </a:lnTo>
                <a:lnTo>
                  <a:pt x="1541" y="193"/>
                </a:lnTo>
                <a:lnTo>
                  <a:pt x="1614" y="158"/>
                </a:lnTo>
                <a:lnTo>
                  <a:pt x="1739" y="113"/>
                </a:lnTo>
                <a:lnTo>
                  <a:pt x="1846" y="80"/>
                </a:lnTo>
                <a:lnTo>
                  <a:pt x="1941" y="60"/>
                </a:lnTo>
                <a:lnTo>
                  <a:pt x="2060" y="39"/>
                </a:lnTo>
                <a:lnTo>
                  <a:pt x="2224" y="18"/>
                </a:lnTo>
                <a:lnTo>
                  <a:pt x="2298" y="9"/>
                </a:lnTo>
                <a:lnTo>
                  <a:pt x="2482" y="3"/>
                </a:lnTo>
                <a:lnTo>
                  <a:pt x="2684" y="0"/>
                </a:lnTo>
                <a:lnTo>
                  <a:pt x="2759" y="0"/>
                </a:lnTo>
                <a:lnTo>
                  <a:pt x="3062" y="3"/>
                </a:lnTo>
                <a:lnTo>
                  <a:pt x="3353" y="18"/>
                </a:lnTo>
                <a:lnTo>
                  <a:pt x="3448" y="24"/>
                </a:lnTo>
              </a:path>
            </a:pathLst>
          </a:custGeom>
          <a:noFill/>
          <a:ln w="38160">
            <a:solidFill>
              <a:srgbClr val="333399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381-93DF-448E-8B86-D912435B122C}" type="slidenum">
              <a:t>41</a:t>
            </a:fld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 posible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alificar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lugar para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udición de la palabr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blada en función d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rticulación silábic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43B-7CBA-4310-A9D7-1D12F691C7BB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457200" y="1568520"/>
            <a:ext cx="82296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429000"/>
                <a:tab algn="ctr" pos="67626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s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ificació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S medio,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ctr" pos="762120"/>
                <a:tab algn="ctr" pos="3429000"/>
                <a:tab algn="ctr" pos="67626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celente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&gt; 9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ena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80 - 90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tisfactori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0 - 80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No satisfactoria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&lt; 70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B4A-6E8E-4FED-B164-6E34BF362B00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895320" y="2133000"/>
            <a:ext cx="735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asos anteriores se referían 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sts subjetiv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n la participación de un equip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y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2FA-5909-45D1-BFAE-533B5DE7788C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76040" y="2133000"/>
            <a:ext cx="879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n primer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est objetivo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tiliz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20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ndas de frecuencia cuyas contribuciones a la inteligibilidad son consideradas similar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2C1-52D0-4133-BAC5-E1839FDBF312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76040" y="1828080"/>
            <a:ext cx="8791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una de est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bandas se determinó eliminando, por filtrado pasaband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ancho 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la articulación silábica cayera en un 5 %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669-60BB-41E4-AD74-387A52632E92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725480" y="1914480"/>
            <a:ext cx="5970600" cy="2343240"/>
          </a:xfrm>
          <a:custGeom>
            <a:avLst/>
            <a:gdLst/>
            <a:ahLst/>
            <a:rect l="l" t="t" r="r" b="b"/>
            <a:pathLst>
              <a:path w="3761" h="1476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98" y="2"/>
                </a:lnTo>
                <a:lnTo>
                  <a:pt x="1283" y="24"/>
                </a:lnTo>
                <a:lnTo>
                  <a:pt x="1375" y="67"/>
                </a:lnTo>
                <a:lnTo>
                  <a:pt x="1457" y="123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788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2D7-834D-49B1-B2F3-10B1074D189A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25480" y="1914480"/>
            <a:ext cx="5970600" cy="2886120"/>
          </a:xfrm>
          <a:custGeom>
            <a:avLst/>
            <a:gdLst/>
            <a:ahLst/>
            <a:rect l="l" t="t" r="r" b="b"/>
            <a:pathLst>
              <a:path w="3761" h="1818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98" y="2"/>
                </a:lnTo>
                <a:lnTo>
                  <a:pt x="1199" y="1818"/>
                </a:lnTo>
                <a:lnTo>
                  <a:pt x="1409" y="1818"/>
                </a:lnTo>
                <a:lnTo>
                  <a:pt x="1409" y="84"/>
                </a:lnTo>
                <a:lnTo>
                  <a:pt x="1457" y="123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797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1D9-27AA-4A6A-B972-2939328C309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25480" y="1914480"/>
            <a:ext cx="5970600" cy="2886120"/>
          </a:xfrm>
          <a:custGeom>
            <a:avLst/>
            <a:gdLst/>
            <a:ahLst/>
            <a:rect l="l" t="t" r="r" b="b"/>
            <a:pathLst>
              <a:path w="3761" h="1818">
                <a:moveTo>
                  <a:pt x="0" y="1414"/>
                </a:moveTo>
                <a:lnTo>
                  <a:pt x="79" y="1131"/>
                </a:lnTo>
                <a:lnTo>
                  <a:pt x="161" y="915"/>
                </a:lnTo>
                <a:lnTo>
                  <a:pt x="263" y="708"/>
                </a:lnTo>
                <a:lnTo>
                  <a:pt x="409" y="457"/>
                </a:lnTo>
                <a:lnTo>
                  <a:pt x="497" y="339"/>
                </a:lnTo>
                <a:lnTo>
                  <a:pt x="567" y="253"/>
                </a:lnTo>
                <a:lnTo>
                  <a:pt x="629" y="195"/>
                </a:lnTo>
                <a:lnTo>
                  <a:pt x="706" y="141"/>
                </a:lnTo>
                <a:lnTo>
                  <a:pt x="824" y="72"/>
                </a:lnTo>
                <a:lnTo>
                  <a:pt x="932" y="30"/>
                </a:lnTo>
                <a:lnTo>
                  <a:pt x="1025" y="9"/>
                </a:lnTo>
                <a:lnTo>
                  <a:pt x="1118" y="0"/>
                </a:lnTo>
                <a:lnTo>
                  <a:pt x="1121" y="1818"/>
                </a:lnTo>
                <a:lnTo>
                  <a:pt x="1493" y="1818"/>
                </a:lnTo>
                <a:lnTo>
                  <a:pt x="1487" y="156"/>
                </a:lnTo>
                <a:lnTo>
                  <a:pt x="1556" y="234"/>
                </a:lnTo>
                <a:lnTo>
                  <a:pt x="1679" y="375"/>
                </a:lnTo>
                <a:lnTo>
                  <a:pt x="1811" y="519"/>
                </a:lnTo>
                <a:lnTo>
                  <a:pt x="1976" y="666"/>
                </a:lnTo>
                <a:lnTo>
                  <a:pt x="2118" y="764"/>
                </a:lnTo>
                <a:lnTo>
                  <a:pt x="2246" y="822"/>
                </a:lnTo>
                <a:lnTo>
                  <a:pt x="2388" y="856"/>
                </a:lnTo>
                <a:lnTo>
                  <a:pt x="2543" y="867"/>
                </a:lnTo>
                <a:lnTo>
                  <a:pt x="2722" y="856"/>
                </a:lnTo>
                <a:lnTo>
                  <a:pt x="2774" y="834"/>
                </a:lnTo>
                <a:lnTo>
                  <a:pt x="2819" y="810"/>
                </a:lnTo>
                <a:lnTo>
                  <a:pt x="2906" y="726"/>
                </a:lnTo>
                <a:lnTo>
                  <a:pt x="2993" y="642"/>
                </a:lnTo>
                <a:lnTo>
                  <a:pt x="3053" y="585"/>
                </a:lnTo>
                <a:lnTo>
                  <a:pt x="3101" y="555"/>
                </a:lnTo>
                <a:lnTo>
                  <a:pt x="3149" y="541"/>
                </a:lnTo>
                <a:lnTo>
                  <a:pt x="3182" y="543"/>
                </a:lnTo>
                <a:lnTo>
                  <a:pt x="3230" y="564"/>
                </a:lnTo>
                <a:lnTo>
                  <a:pt x="3284" y="603"/>
                </a:lnTo>
                <a:lnTo>
                  <a:pt x="3326" y="643"/>
                </a:lnTo>
                <a:lnTo>
                  <a:pt x="3413" y="744"/>
                </a:lnTo>
                <a:lnTo>
                  <a:pt x="3497" y="855"/>
                </a:lnTo>
                <a:lnTo>
                  <a:pt x="3605" y="1052"/>
                </a:lnTo>
                <a:lnTo>
                  <a:pt x="3677" y="1221"/>
                </a:lnTo>
                <a:lnTo>
                  <a:pt x="3761" y="14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06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337-6832-46B3-BA00-9BBAB2D9BA5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737640"/>
            <a:ext cx="8534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fonemas (mínimo fragmento con identidad fonética propia) que constituyen el lenguaje hablado se dividen e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vocal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nsonantes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1299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consonantes confieren mayor cantidad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orm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las voc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6A1-6D2D-41E7-8540-EE128CEC1605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725480" y="1928880"/>
            <a:ext cx="5970600" cy="2871720"/>
          </a:xfrm>
          <a:custGeom>
            <a:avLst/>
            <a:gdLst/>
            <a:ahLst/>
            <a:rect l="l" t="t" r="r" b="b"/>
            <a:pathLst>
              <a:path w="3761" h="1809">
                <a:moveTo>
                  <a:pt x="0" y="1405"/>
                </a:moveTo>
                <a:lnTo>
                  <a:pt x="79" y="1122"/>
                </a:lnTo>
                <a:lnTo>
                  <a:pt x="161" y="906"/>
                </a:lnTo>
                <a:lnTo>
                  <a:pt x="263" y="699"/>
                </a:lnTo>
                <a:lnTo>
                  <a:pt x="409" y="448"/>
                </a:lnTo>
                <a:lnTo>
                  <a:pt x="497" y="330"/>
                </a:lnTo>
                <a:lnTo>
                  <a:pt x="567" y="244"/>
                </a:lnTo>
                <a:lnTo>
                  <a:pt x="629" y="186"/>
                </a:lnTo>
                <a:lnTo>
                  <a:pt x="706" y="132"/>
                </a:lnTo>
                <a:lnTo>
                  <a:pt x="824" y="63"/>
                </a:lnTo>
                <a:lnTo>
                  <a:pt x="932" y="21"/>
                </a:lnTo>
                <a:lnTo>
                  <a:pt x="1025" y="0"/>
                </a:lnTo>
                <a:lnTo>
                  <a:pt x="1025" y="1809"/>
                </a:lnTo>
                <a:lnTo>
                  <a:pt x="1559" y="1803"/>
                </a:lnTo>
                <a:lnTo>
                  <a:pt x="1556" y="225"/>
                </a:lnTo>
                <a:lnTo>
                  <a:pt x="1679" y="366"/>
                </a:lnTo>
                <a:lnTo>
                  <a:pt x="1811" y="510"/>
                </a:lnTo>
                <a:lnTo>
                  <a:pt x="1976" y="657"/>
                </a:lnTo>
                <a:lnTo>
                  <a:pt x="2118" y="755"/>
                </a:lnTo>
                <a:lnTo>
                  <a:pt x="2246" y="813"/>
                </a:lnTo>
                <a:lnTo>
                  <a:pt x="2388" y="847"/>
                </a:lnTo>
                <a:lnTo>
                  <a:pt x="2543" y="858"/>
                </a:lnTo>
                <a:lnTo>
                  <a:pt x="2722" y="847"/>
                </a:lnTo>
                <a:lnTo>
                  <a:pt x="2774" y="825"/>
                </a:lnTo>
                <a:lnTo>
                  <a:pt x="2819" y="801"/>
                </a:lnTo>
                <a:lnTo>
                  <a:pt x="2906" y="717"/>
                </a:lnTo>
                <a:lnTo>
                  <a:pt x="2993" y="633"/>
                </a:lnTo>
                <a:lnTo>
                  <a:pt x="3053" y="576"/>
                </a:lnTo>
                <a:lnTo>
                  <a:pt x="3101" y="546"/>
                </a:lnTo>
                <a:lnTo>
                  <a:pt x="3149" y="532"/>
                </a:lnTo>
                <a:lnTo>
                  <a:pt x="3182" y="534"/>
                </a:lnTo>
                <a:lnTo>
                  <a:pt x="3230" y="555"/>
                </a:lnTo>
                <a:lnTo>
                  <a:pt x="3284" y="594"/>
                </a:lnTo>
                <a:lnTo>
                  <a:pt x="3326" y="634"/>
                </a:lnTo>
                <a:lnTo>
                  <a:pt x="3413" y="735"/>
                </a:lnTo>
                <a:lnTo>
                  <a:pt x="3497" y="846"/>
                </a:lnTo>
                <a:lnTo>
                  <a:pt x="3605" y="1043"/>
                </a:lnTo>
                <a:lnTo>
                  <a:pt x="3677" y="1212"/>
                </a:lnTo>
                <a:lnTo>
                  <a:pt x="3761" y="1467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15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C7B-4A7B-4DA1-82A7-C7844005E6E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725480" y="1962000"/>
            <a:ext cx="5970600" cy="2843280"/>
          </a:xfrm>
          <a:custGeom>
            <a:avLst/>
            <a:gdLst/>
            <a:ahLst/>
            <a:rect l="l" t="t" r="r" b="b"/>
            <a:pathLst>
              <a:path w="3761" h="1791">
                <a:moveTo>
                  <a:pt x="0" y="1384"/>
                </a:moveTo>
                <a:lnTo>
                  <a:pt x="79" y="1101"/>
                </a:lnTo>
                <a:lnTo>
                  <a:pt x="161" y="885"/>
                </a:lnTo>
                <a:lnTo>
                  <a:pt x="263" y="678"/>
                </a:lnTo>
                <a:lnTo>
                  <a:pt x="409" y="427"/>
                </a:lnTo>
                <a:lnTo>
                  <a:pt x="497" y="309"/>
                </a:lnTo>
                <a:lnTo>
                  <a:pt x="567" y="223"/>
                </a:lnTo>
                <a:lnTo>
                  <a:pt x="629" y="165"/>
                </a:lnTo>
                <a:lnTo>
                  <a:pt x="706" y="111"/>
                </a:lnTo>
                <a:lnTo>
                  <a:pt x="824" y="42"/>
                </a:lnTo>
                <a:lnTo>
                  <a:pt x="932" y="0"/>
                </a:lnTo>
                <a:lnTo>
                  <a:pt x="935" y="1788"/>
                </a:lnTo>
                <a:lnTo>
                  <a:pt x="1646" y="1791"/>
                </a:lnTo>
                <a:lnTo>
                  <a:pt x="1646" y="309"/>
                </a:lnTo>
                <a:lnTo>
                  <a:pt x="1679" y="345"/>
                </a:lnTo>
                <a:lnTo>
                  <a:pt x="1811" y="489"/>
                </a:lnTo>
                <a:lnTo>
                  <a:pt x="1976" y="636"/>
                </a:lnTo>
                <a:lnTo>
                  <a:pt x="2118" y="734"/>
                </a:lnTo>
                <a:lnTo>
                  <a:pt x="2246" y="792"/>
                </a:lnTo>
                <a:lnTo>
                  <a:pt x="2388" y="826"/>
                </a:lnTo>
                <a:lnTo>
                  <a:pt x="2543" y="837"/>
                </a:lnTo>
                <a:lnTo>
                  <a:pt x="2722" y="826"/>
                </a:lnTo>
                <a:lnTo>
                  <a:pt x="2774" y="804"/>
                </a:lnTo>
                <a:lnTo>
                  <a:pt x="2819" y="780"/>
                </a:lnTo>
                <a:lnTo>
                  <a:pt x="2906" y="696"/>
                </a:lnTo>
                <a:lnTo>
                  <a:pt x="2993" y="612"/>
                </a:lnTo>
                <a:lnTo>
                  <a:pt x="3053" y="555"/>
                </a:lnTo>
                <a:lnTo>
                  <a:pt x="3101" y="525"/>
                </a:lnTo>
                <a:lnTo>
                  <a:pt x="3149" y="511"/>
                </a:lnTo>
                <a:lnTo>
                  <a:pt x="3182" y="513"/>
                </a:lnTo>
                <a:lnTo>
                  <a:pt x="3230" y="534"/>
                </a:lnTo>
                <a:lnTo>
                  <a:pt x="3284" y="573"/>
                </a:lnTo>
                <a:lnTo>
                  <a:pt x="3326" y="613"/>
                </a:lnTo>
                <a:lnTo>
                  <a:pt x="3413" y="714"/>
                </a:lnTo>
                <a:lnTo>
                  <a:pt x="3497" y="825"/>
                </a:lnTo>
                <a:lnTo>
                  <a:pt x="3605" y="1022"/>
                </a:lnTo>
                <a:lnTo>
                  <a:pt x="3677" y="1191"/>
                </a:lnTo>
                <a:lnTo>
                  <a:pt x="3761" y="144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24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19C-CEF2-4CCC-902F-6FDAFC18E09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386000" y="4808520"/>
            <a:ext cx="657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1577880" y="1062000"/>
            <a:ext cx="0" cy="395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25480" y="1962000"/>
            <a:ext cx="5970600" cy="2843280"/>
          </a:xfrm>
          <a:custGeom>
            <a:avLst/>
            <a:gdLst/>
            <a:ahLst/>
            <a:rect l="l" t="t" r="r" b="b"/>
            <a:pathLst>
              <a:path w="3761" h="1791">
                <a:moveTo>
                  <a:pt x="0" y="1384"/>
                </a:moveTo>
                <a:lnTo>
                  <a:pt x="79" y="1101"/>
                </a:lnTo>
                <a:lnTo>
                  <a:pt x="161" y="885"/>
                </a:lnTo>
                <a:lnTo>
                  <a:pt x="263" y="678"/>
                </a:lnTo>
                <a:lnTo>
                  <a:pt x="409" y="427"/>
                </a:lnTo>
                <a:lnTo>
                  <a:pt x="497" y="309"/>
                </a:lnTo>
                <a:lnTo>
                  <a:pt x="567" y="223"/>
                </a:lnTo>
                <a:lnTo>
                  <a:pt x="629" y="165"/>
                </a:lnTo>
                <a:lnTo>
                  <a:pt x="706" y="111"/>
                </a:lnTo>
                <a:lnTo>
                  <a:pt x="824" y="42"/>
                </a:lnTo>
                <a:lnTo>
                  <a:pt x="932" y="0"/>
                </a:lnTo>
                <a:lnTo>
                  <a:pt x="935" y="1788"/>
                </a:lnTo>
                <a:lnTo>
                  <a:pt x="1646" y="1791"/>
                </a:lnTo>
                <a:lnTo>
                  <a:pt x="1646" y="309"/>
                </a:lnTo>
                <a:lnTo>
                  <a:pt x="1679" y="345"/>
                </a:lnTo>
                <a:lnTo>
                  <a:pt x="1811" y="489"/>
                </a:lnTo>
                <a:lnTo>
                  <a:pt x="1976" y="636"/>
                </a:lnTo>
                <a:lnTo>
                  <a:pt x="2118" y="734"/>
                </a:lnTo>
                <a:lnTo>
                  <a:pt x="2246" y="792"/>
                </a:lnTo>
                <a:lnTo>
                  <a:pt x="2388" y="826"/>
                </a:lnTo>
                <a:lnTo>
                  <a:pt x="2543" y="837"/>
                </a:lnTo>
                <a:lnTo>
                  <a:pt x="2722" y="826"/>
                </a:lnTo>
                <a:lnTo>
                  <a:pt x="2774" y="804"/>
                </a:lnTo>
                <a:lnTo>
                  <a:pt x="2819" y="780"/>
                </a:lnTo>
                <a:lnTo>
                  <a:pt x="2906" y="696"/>
                </a:lnTo>
                <a:lnTo>
                  <a:pt x="2993" y="612"/>
                </a:lnTo>
                <a:lnTo>
                  <a:pt x="3053" y="555"/>
                </a:lnTo>
                <a:lnTo>
                  <a:pt x="3101" y="525"/>
                </a:lnTo>
                <a:lnTo>
                  <a:pt x="3149" y="511"/>
                </a:lnTo>
                <a:lnTo>
                  <a:pt x="3182" y="513"/>
                </a:lnTo>
                <a:lnTo>
                  <a:pt x="3230" y="534"/>
                </a:lnTo>
                <a:lnTo>
                  <a:pt x="3284" y="573"/>
                </a:lnTo>
                <a:lnTo>
                  <a:pt x="3326" y="613"/>
                </a:lnTo>
                <a:lnTo>
                  <a:pt x="3413" y="714"/>
                </a:lnTo>
                <a:lnTo>
                  <a:pt x="3497" y="825"/>
                </a:lnTo>
                <a:lnTo>
                  <a:pt x="3605" y="1022"/>
                </a:lnTo>
                <a:lnTo>
                  <a:pt x="3677" y="1191"/>
                </a:lnTo>
                <a:lnTo>
                  <a:pt x="3761" y="1446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00520" y="1984320"/>
            <a:ext cx="0" cy="28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976320" y="379800"/>
            <a:ext cx="1031400" cy="667800"/>
            <a:chOff x="976320" y="379800"/>
            <a:chExt cx="1031400" cy="667800"/>
          </a:xfrm>
        </p:grpSpPr>
        <p:sp>
          <p:nvSpPr>
            <p:cNvPr id="833" name=""/>
            <p:cNvSpPr/>
            <p:nvPr/>
          </p:nvSpPr>
          <p:spPr>
            <a:xfrm>
              <a:off x="1179360" y="58788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r>
                <a:rPr b="1" lang="es-ES_tradnl" sz="2400" spc="-1" strike="noStrike" baseline="30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1" i="1" lang="es-ES_tradnl" sz="2400" spc="-1" strike="noStrike">
                  <a:solidFill>
                    <a:srgbClr val="333399"/>
                  </a:solidFill>
                  <a:latin typeface="Times New Roman"/>
                </a:rPr>
                <a:t>f</a:t>
              </a: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76320" y="379800"/>
              <a:ext cx="8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7877160" y="4540680"/>
            <a:ext cx="3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392640" y="475380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33920" y="1262160"/>
            <a:ext cx="22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9999"/>
                </a:solidFill>
                <a:latin typeface="Arial"/>
              </a:rPr>
              <a:t>Inteligibilidad 9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FA5-CAE5-4C3C-96FC-B1682F711045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533520" y="106596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inteligibilidad se calcula a partir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índice de articul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o com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38280" y="4052880"/>
            <a:ext cx="426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   =        AI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10160" y="383508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67400" y="3915720"/>
            <a:ext cx="76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i =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67400" y="3530880"/>
            <a:ext cx="7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20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590-CD18-4C60-A4B5-19FA63C17C26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3520" y="784440"/>
            <a:ext cx="80769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i="1" lang="es-ES_tradnl" sz="36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es la inteligibilidad de la banda 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, obtenida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2899800"/>
            <a:ext cx="17524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=  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724120" y="24382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76720" y="2499480"/>
            <a:ext cx="5333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0,05 ———    si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9999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886200" y="2137320"/>
            <a:ext cx="12463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86200" y="2852640"/>
            <a:ext cx="1246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30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76720" y="3521880"/>
            <a:ext cx="53337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0,05                 si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 &gt;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4656240"/>
            <a:ext cx="86868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/</a:t>
            </a:r>
            <a:r>
              <a:rPr b="1" i="1" lang="es-ES_tradnl" sz="3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36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es relación señal / ruido en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9999"/>
                </a:solidFill>
                <a:latin typeface="Times New Roman"/>
              </a:rPr>
              <a:t>dB</a:t>
            </a:r>
            <a:r>
              <a:rPr b="1" i="1" lang="es-ES_tradnl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ara la </a:t>
            </a:r>
            <a:r>
              <a:rPr b="1" i="1" lang="es-ES_tradnl" sz="36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-ésima b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C5D-4BFB-42B5-B26E-9A402B80519F}" type="slidenum">
              <a:t>54</a:t>
            </a:fld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533520" y="1355400"/>
            <a:ext cx="8076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ugar de utilizar bandas específicas, difíciles de obtener en los analizadores de espectro convencionales, otros métodos proponen la utilización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tercio de octav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A9C-92DE-4E86-A105-920B03847348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533520" y="795600"/>
            <a:ext cx="80769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le asigna un pes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q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i="1" lang="es-ES_tradnl" sz="4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cada banda y se calcu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438280" y="2086560"/>
            <a:ext cx="4267080" cy="2551320"/>
            <a:chOff x="2438280" y="2086560"/>
            <a:chExt cx="4267080" cy="2551320"/>
          </a:xfrm>
        </p:grpSpPr>
        <p:sp>
          <p:nvSpPr>
            <p:cNvPr id="854" name=""/>
            <p:cNvSpPr/>
            <p:nvPr/>
          </p:nvSpPr>
          <p:spPr>
            <a:xfrm>
              <a:off x="2438280" y="2833560"/>
              <a:ext cx="4267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AI   =        q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L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48000" y="263448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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05240" y="2715480"/>
              <a:ext cx="7617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99"/>
                  </a:solidFill>
                  <a:latin typeface="Times New Roman"/>
                </a:rPr>
                <a:t>i = </a:t>
              </a: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20865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99"/>
                  </a:solidFill>
                  <a:latin typeface="Times New Roman"/>
                </a:rPr>
                <a:t>n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28600" y="4286520"/>
            <a:ext cx="86868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diferencia entre el nivel de pico de la voz y el nivel de ruido en la </a:t>
            </a: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-ésima ban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FDF-1B02-4099-A147-FB19F616A7A7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609480" y="213300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partir d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A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 el porcentaje de articulación silábica mediante curvas como la siguiente..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95C-91EA-4C79-AEE9-602DAD25AF34}" type="slidenum">
              <a:t>57</a:t>
            </a:fld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885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212920" y="1441440"/>
            <a:ext cx="5635800" cy="3427560"/>
          </a:xfrm>
          <a:custGeom>
            <a:avLst/>
            <a:gdLst/>
            <a:ahLst/>
            <a:rect l="l" t="t" r="r" b="b"/>
            <a:pathLst>
              <a:path w="3546" h="2164">
                <a:moveTo>
                  <a:pt x="0" y="2164"/>
                </a:moveTo>
                <a:lnTo>
                  <a:pt x="194" y="2072"/>
                </a:lnTo>
                <a:lnTo>
                  <a:pt x="354" y="1992"/>
                </a:lnTo>
                <a:lnTo>
                  <a:pt x="546" y="1864"/>
                </a:lnTo>
                <a:lnTo>
                  <a:pt x="714" y="1712"/>
                </a:lnTo>
                <a:lnTo>
                  <a:pt x="922" y="1504"/>
                </a:lnTo>
                <a:lnTo>
                  <a:pt x="1114" y="1272"/>
                </a:lnTo>
                <a:lnTo>
                  <a:pt x="1434" y="880"/>
                </a:lnTo>
                <a:lnTo>
                  <a:pt x="1618" y="704"/>
                </a:lnTo>
                <a:lnTo>
                  <a:pt x="1786" y="584"/>
                </a:lnTo>
                <a:lnTo>
                  <a:pt x="1954" y="480"/>
                </a:lnTo>
                <a:lnTo>
                  <a:pt x="2146" y="368"/>
                </a:lnTo>
                <a:lnTo>
                  <a:pt x="2330" y="280"/>
                </a:lnTo>
                <a:lnTo>
                  <a:pt x="2498" y="216"/>
                </a:lnTo>
                <a:lnTo>
                  <a:pt x="2874" y="112"/>
                </a:lnTo>
                <a:lnTo>
                  <a:pt x="3218" y="40"/>
                </a:lnTo>
                <a:lnTo>
                  <a:pt x="354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C4B-9551-45C3-BF18-09552277025F}" type="slidenum">
              <a:t>58</a:t>
            </a:fld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226944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es posibl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lific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rect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inteligibilidad a partir del índice de artic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DCD-605F-4A34-897C-CE8FC6DD6E66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4440" y="914040"/>
            <a:ext cx="81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ocales son sonid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si periód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por lo tanto poseen un espectro formad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u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dament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su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mónico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consonantes, en cambio, por lo general tienen un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edominante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F81-5E16-48EB-AE0A-6C0F3387D84D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765800"/>
            <a:ext cx="82296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809880"/>
                <a:tab algn="ctr" pos="69534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ase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alificación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AI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ctr" pos="762120"/>
                <a:tab algn="ctr" pos="3809880"/>
                <a:tab algn="ctr" pos="6953400"/>
                <a:tab algn="r" pos="7905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xcelente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&gt; 0,7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ena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0,5 - 0,7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atisfactori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,3 - 0,5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No satisfactoria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0,1 - 0,3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99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uy mala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&lt; 0,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48F-7554-4E91-9784-5AC846AAE19E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533520" y="165996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 método es el que utiliza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de la Palabra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T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speech transmission index) y su versión rápida,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RASTI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1A5-1E2A-44E9-AFF4-A9F3480C1658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533520" y="165996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s métodos consisten en aplicar una señal modulada en amplitud y obtener l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 de modulación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697-9912-4B7D-BCA9-67942A92A532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743040" y="1964520"/>
            <a:ext cx="76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gran ventaja es que permite incluir también el efecto 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mascaramient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usado po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verb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FA0-B6AE-4627-BB85-A96C0ED83EFB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743040" y="53280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utiliza una señal del tip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33520" y="2818800"/>
            <a:ext cx="8076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portadora, es decir bandas de ruido de octava entr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25 Hz</a:t>
            </a:r>
            <a:r>
              <a:rPr b="1" i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8 k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frecuencias que van desde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25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25 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43040" y="1583640"/>
            <a:ext cx="7657920" cy="1106280"/>
            <a:chOff x="743040" y="1583640"/>
            <a:chExt cx="7657920" cy="1106280"/>
          </a:xfrm>
        </p:grpSpPr>
        <p:sp>
          <p:nvSpPr>
            <p:cNvPr id="916" name=""/>
            <p:cNvSpPr/>
            <p:nvPr/>
          </p:nvSpPr>
          <p:spPr>
            <a:xfrm>
              <a:off x="743040" y="1583640"/>
              <a:ext cx="76579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)   = 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o</a:t>
              </a:r>
              <a:r>
                <a:rPr b="1" lang="es-ES_tradnl" sz="48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 +  sen 2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F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03720" y="1590480"/>
              <a:ext cx="949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6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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81600" y="1695600"/>
              <a:ext cx="30556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345-CF91-4809-8EAE-B0E40ED0DCA6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743040" y="764640"/>
            <a:ext cx="7657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aíz cuadrada es para que la intensidad, que es proporcional a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dra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 presión, esté modulada senoidalme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43040" y="4465800"/>
            <a:ext cx="765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  = 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1  +  sen 2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EFA-4D90-4FDC-A157-291A278A4772}" type="slidenum">
              <a:t>65</a:t>
            </a:fld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458120" y="312048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87560" y="128988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606680" y="2036880"/>
            <a:ext cx="5140800" cy="2787120"/>
            <a:chOff x="1606680" y="2036880"/>
            <a:chExt cx="5140800" cy="2787120"/>
          </a:xfrm>
        </p:grpSpPr>
        <p:grpSp>
          <p:nvGrpSpPr>
            <p:cNvPr id="924" name=""/>
            <p:cNvGrpSpPr/>
            <p:nvPr/>
          </p:nvGrpSpPr>
          <p:grpSpPr>
            <a:xfrm>
              <a:off x="1606680" y="2036880"/>
              <a:ext cx="5140800" cy="1374480"/>
              <a:chOff x="1606680" y="2036880"/>
              <a:chExt cx="5140800" cy="137448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1606680" y="2036880"/>
                <a:ext cx="3428640" cy="1374480"/>
                <a:chOff x="1606680" y="2036880"/>
                <a:chExt cx="3428640" cy="1374480"/>
              </a:xfrm>
            </p:grpSpPr>
            <p:grpSp>
              <p:nvGrpSpPr>
                <p:cNvPr id="926" name=""/>
                <p:cNvGrpSpPr/>
                <p:nvPr/>
              </p:nvGrpSpPr>
              <p:grpSpPr>
                <a:xfrm>
                  <a:off x="1606680" y="2036880"/>
                  <a:ext cx="1712880" cy="1374480"/>
                  <a:chOff x="1606680" y="2036880"/>
                  <a:chExt cx="1712880" cy="1374480"/>
                </a:xfrm>
              </p:grpSpPr>
              <p:grpSp>
                <p:nvGrpSpPr>
                  <p:cNvPr id="927" name=""/>
                  <p:cNvGrpSpPr/>
                  <p:nvPr/>
                </p:nvGrpSpPr>
                <p:grpSpPr>
                  <a:xfrm>
                    <a:off x="1606680" y="2036880"/>
                    <a:ext cx="855360" cy="687240"/>
                    <a:chOff x="1606680" y="2036880"/>
                    <a:chExt cx="855360" cy="687240"/>
                  </a:xfrm>
                </p:grpSpPr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160668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203436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2464200" y="2724120"/>
                    <a:ext cx="855360" cy="687240"/>
                    <a:chOff x="2464200" y="2724120"/>
                    <a:chExt cx="855360" cy="687240"/>
                  </a:xfrm>
                </p:grpSpPr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246420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89188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3320280" y="2036880"/>
                  <a:ext cx="1715040" cy="1374480"/>
                  <a:chOff x="3320280" y="2036880"/>
                  <a:chExt cx="1715040" cy="137448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3320280" y="2036880"/>
                    <a:ext cx="855720" cy="687240"/>
                    <a:chOff x="3320280" y="2036880"/>
                    <a:chExt cx="855720" cy="687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320280" y="203688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748320" y="20368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178160" y="2724120"/>
                    <a:ext cx="857160" cy="687240"/>
                    <a:chOff x="4178160" y="2724120"/>
                    <a:chExt cx="857160" cy="687240"/>
                  </a:xfrm>
                </p:grpSpPr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4178160" y="27241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4607280" y="272412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40" name=""/>
              <p:cNvGrpSpPr/>
              <p:nvPr/>
            </p:nvGrpSpPr>
            <p:grpSpPr>
              <a:xfrm>
                <a:off x="5034240" y="2036880"/>
                <a:ext cx="1713240" cy="1373040"/>
                <a:chOff x="5034240" y="2036880"/>
                <a:chExt cx="1713240" cy="137304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034240" y="2036880"/>
                  <a:ext cx="855720" cy="687240"/>
                  <a:chOff x="5034240" y="2036880"/>
                  <a:chExt cx="855720" cy="68724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5034240" y="203688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462280" y="203688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891760" y="2722680"/>
                  <a:ext cx="855720" cy="687240"/>
                  <a:chOff x="5891760" y="2722680"/>
                  <a:chExt cx="855720" cy="68724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>
                    <a:off x="5891760" y="272268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319800" y="272268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47" name=""/>
            <p:cNvGrpSpPr/>
            <p:nvPr/>
          </p:nvGrpSpPr>
          <p:grpSpPr>
            <a:xfrm>
              <a:off x="1606680" y="3449520"/>
              <a:ext cx="5140800" cy="1374480"/>
              <a:chOff x="1606680" y="3449520"/>
              <a:chExt cx="5140800" cy="137448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1606680" y="3449520"/>
                <a:ext cx="3428640" cy="1374480"/>
                <a:chOff x="1606680" y="3449520"/>
                <a:chExt cx="3428640" cy="1374480"/>
              </a:xfrm>
            </p:grpSpPr>
            <p:grpSp>
              <p:nvGrpSpPr>
                <p:cNvPr id="949" name=""/>
                <p:cNvGrpSpPr/>
                <p:nvPr/>
              </p:nvGrpSpPr>
              <p:grpSpPr>
                <a:xfrm>
                  <a:off x="1606680" y="3449520"/>
                  <a:ext cx="1712880" cy="1374480"/>
                  <a:chOff x="1606680" y="3449520"/>
                  <a:chExt cx="1712880" cy="1374480"/>
                </a:xfrm>
              </p:grpSpPr>
              <p:grpSp>
                <p:nvGrpSpPr>
                  <p:cNvPr id="950" name=""/>
                  <p:cNvGrpSpPr/>
                  <p:nvPr/>
                </p:nvGrpSpPr>
                <p:grpSpPr>
                  <a:xfrm>
                    <a:off x="1606680" y="4136760"/>
                    <a:ext cx="855360" cy="687240"/>
                    <a:chOff x="1606680" y="4136760"/>
                    <a:chExt cx="855360" cy="687240"/>
                  </a:xfrm>
                </p:grpSpPr>
                <p:sp>
                  <p:nvSpPr>
                    <p:cNvPr id="951" name=""/>
                    <p:cNvSpPr/>
                    <p:nvPr/>
                  </p:nvSpPr>
                  <p:spPr>
                    <a:xfrm flipV="1">
                      <a:off x="160668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 flipV="1">
                      <a:off x="203436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2464200" y="3449520"/>
                    <a:ext cx="855360" cy="687240"/>
                    <a:chOff x="2464200" y="3449520"/>
                    <a:chExt cx="855360" cy="687240"/>
                  </a:xfrm>
                </p:grpSpPr>
                <p:sp>
                  <p:nvSpPr>
                    <p:cNvPr id="954" name=""/>
                    <p:cNvSpPr/>
                    <p:nvPr/>
                  </p:nvSpPr>
                  <p:spPr>
                    <a:xfrm flipV="1">
                      <a:off x="246420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289188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3320280" y="3449520"/>
                  <a:ext cx="1715040" cy="1374480"/>
                  <a:chOff x="3320280" y="3449520"/>
                  <a:chExt cx="1715040" cy="1374480"/>
                </a:xfrm>
              </p:grpSpPr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3320280" y="4136760"/>
                    <a:ext cx="855720" cy="687240"/>
                    <a:chOff x="3320280" y="4136760"/>
                    <a:chExt cx="855720" cy="68724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320280" y="413640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V="1">
                      <a:off x="3748320" y="413640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4178160" y="3449520"/>
                    <a:ext cx="857160" cy="687240"/>
                    <a:chOff x="4178160" y="3449520"/>
                    <a:chExt cx="857160" cy="68724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flipV="1">
                      <a:off x="4178160" y="34491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V="1">
                      <a:off x="4607280" y="344916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fff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63" name=""/>
              <p:cNvGrpSpPr/>
              <p:nvPr/>
            </p:nvGrpSpPr>
            <p:grpSpPr>
              <a:xfrm>
                <a:off x="5034240" y="3450960"/>
                <a:ext cx="1713240" cy="1373040"/>
                <a:chOff x="5034240" y="3450960"/>
                <a:chExt cx="1713240" cy="1373040"/>
              </a:xfrm>
            </p:grpSpPr>
            <p:grpSp>
              <p:nvGrpSpPr>
                <p:cNvPr id="964" name=""/>
                <p:cNvGrpSpPr/>
                <p:nvPr/>
              </p:nvGrpSpPr>
              <p:grpSpPr>
                <a:xfrm>
                  <a:off x="5034240" y="4136760"/>
                  <a:ext cx="855720" cy="687240"/>
                  <a:chOff x="5034240" y="4136760"/>
                  <a:chExt cx="855720" cy="687240"/>
                </a:xfrm>
              </p:grpSpPr>
              <p:sp>
                <p:nvSpPr>
                  <p:cNvPr id="965" name=""/>
                  <p:cNvSpPr/>
                  <p:nvPr/>
                </p:nvSpPr>
                <p:spPr>
                  <a:xfrm flipV="1">
                    <a:off x="5034240" y="413640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V="1">
                    <a:off x="5462280" y="413640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" name=""/>
                <p:cNvGrpSpPr/>
                <p:nvPr/>
              </p:nvGrpSpPr>
              <p:grpSpPr>
                <a:xfrm>
                  <a:off x="5891760" y="3450960"/>
                  <a:ext cx="855720" cy="687240"/>
                  <a:chOff x="5891760" y="3450960"/>
                  <a:chExt cx="855720" cy="687240"/>
                </a:xfrm>
              </p:grpSpPr>
              <p:sp>
                <p:nvSpPr>
                  <p:cNvPr id="968" name=""/>
                  <p:cNvSpPr/>
                  <p:nvPr/>
                </p:nvSpPr>
                <p:spPr>
                  <a:xfrm flipV="1">
                    <a:off x="5891760" y="345060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V="1">
                    <a:off x="6319800" y="345060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70" name=""/>
          <p:cNvGrpSpPr/>
          <p:nvPr/>
        </p:nvGrpSpPr>
        <p:grpSpPr>
          <a:xfrm>
            <a:off x="1603440" y="2090880"/>
            <a:ext cx="5164200" cy="2743200"/>
            <a:chOff x="1603440" y="2090880"/>
            <a:chExt cx="5164200" cy="2743200"/>
          </a:xfrm>
        </p:grpSpPr>
        <p:grpSp>
          <p:nvGrpSpPr>
            <p:cNvPr id="971" name=""/>
            <p:cNvGrpSpPr/>
            <p:nvPr/>
          </p:nvGrpSpPr>
          <p:grpSpPr>
            <a:xfrm>
              <a:off x="1603440" y="2633760"/>
              <a:ext cx="77400" cy="791640"/>
              <a:chOff x="1603440" y="2633760"/>
              <a:chExt cx="77400" cy="791640"/>
            </a:xfrm>
          </p:grpSpPr>
          <p:sp>
            <p:nvSpPr>
              <p:cNvPr id="972" name=""/>
              <p:cNvSpPr/>
              <p:nvPr/>
            </p:nvSpPr>
            <p:spPr>
              <a:xfrm>
                <a:off x="16034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412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1681200" y="3426120"/>
              <a:ext cx="77400" cy="974520"/>
              <a:chOff x="1681200" y="3426120"/>
              <a:chExt cx="77400" cy="974520"/>
            </a:xfrm>
          </p:grpSpPr>
          <p:sp>
            <p:nvSpPr>
              <p:cNvPr id="975" name=""/>
              <p:cNvSpPr/>
              <p:nvPr/>
            </p:nvSpPr>
            <p:spPr>
              <a:xfrm flipV="1">
                <a:off x="16812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17190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758960" y="2295360"/>
              <a:ext cx="77400" cy="1130040"/>
              <a:chOff x="1758960" y="2295360"/>
              <a:chExt cx="77400" cy="1130040"/>
            </a:xfrm>
          </p:grpSpPr>
          <p:sp>
            <p:nvSpPr>
              <p:cNvPr id="978" name=""/>
              <p:cNvSpPr/>
              <p:nvPr/>
            </p:nvSpPr>
            <p:spPr>
              <a:xfrm>
                <a:off x="17589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17967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836720" y="3425760"/>
              <a:ext cx="77400" cy="1288800"/>
              <a:chOff x="1836720" y="3425760"/>
              <a:chExt cx="77400" cy="1288800"/>
            </a:xfrm>
          </p:grpSpPr>
          <p:sp>
            <p:nvSpPr>
              <p:cNvPr id="981" name=""/>
              <p:cNvSpPr/>
              <p:nvPr/>
            </p:nvSpPr>
            <p:spPr>
              <a:xfrm flipV="1">
                <a:off x="1836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18745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914480" y="2090880"/>
              <a:ext cx="77400" cy="1334520"/>
              <a:chOff x="1914480" y="2090880"/>
              <a:chExt cx="77400" cy="1334520"/>
            </a:xfrm>
          </p:grpSpPr>
          <p:sp>
            <p:nvSpPr>
              <p:cNvPr id="984" name=""/>
              <p:cNvSpPr/>
              <p:nvPr/>
            </p:nvSpPr>
            <p:spPr>
              <a:xfrm>
                <a:off x="19144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19522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1992240" y="3426480"/>
              <a:ext cx="77400" cy="1407600"/>
              <a:chOff x="1992240" y="3426480"/>
              <a:chExt cx="77400" cy="14076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19922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20300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070000" y="2090880"/>
              <a:ext cx="77400" cy="1334520"/>
              <a:chOff x="2070000" y="2090880"/>
              <a:chExt cx="77400" cy="1334520"/>
            </a:xfrm>
          </p:grpSpPr>
          <p:sp>
            <p:nvSpPr>
              <p:cNvPr id="990" name=""/>
              <p:cNvSpPr/>
              <p:nvPr/>
            </p:nvSpPr>
            <p:spPr>
              <a:xfrm>
                <a:off x="20700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21078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147760" y="3425760"/>
              <a:ext cx="77400" cy="1288800"/>
              <a:chOff x="2147760" y="3425760"/>
              <a:chExt cx="77400" cy="1288800"/>
            </a:xfrm>
          </p:grpSpPr>
          <p:sp>
            <p:nvSpPr>
              <p:cNvPr id="993" name=""/>
              <p:cNvSpPr/>
              <p:nvPr/>
            </p:nvSpPr>
            <p:spPr>
              <a:xfrm flipV="1">
                <a:off x="21477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21855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2225520" y="2295360"/>
              <a:ext cx="77760" cy="1130040"/>
              <a:chOff x="2225520" y="2295360"/>
              <a:chExt cx="77760" cy="1130040"/>
            </a:xfrm>
          </p:grpSpPr>
          <p:sp>
            <p:nvSpPr>
              <p:cNvPr id="996" name=""/>
              <p:cNvSpPr/>
              <p:nvPr/>
            </p:nvSpPr>
            <p:spPr>
              <a:xfrm>
                <a:off x="22255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2636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2303640" y="3426120"/>
              <a:ext cx="77400" cy="974520"/>
              <a:chOff x="2303640" y="3426120"/>
              <a:chExt cx="77400" cy="974520"/>
            </a:xfrm>
          </p:grpSpPr>
          <p:sp>
            <p:nvSpPr>
              <p:cNvPr id="999" name=""/>
              <p:cNvSpPr/>
              <p:nvPr/>
            </p:nvSpPr>
            <p:spPr>
              <a:xfrm flipV="1">
                <a:off x="23036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23414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2381400" y="2633760"/>
              <a:ext cx="77400" cy="791640"/>
              <a:chOff x="2381400" y="2633760"/>
              <a:chExt cx="77400" cy="791640"/>
            </a:xfrm>
          </p:grpSpPr>
          <p:sp>
            <p:nvSpPr>
              <p:cNvPr id="1002" name=""/>
              <p:cNvSpPr/>
              <p:nvPr/>
            </p:nvSpPr>
            <p:spPr>
              <a:xfrm>
                <a:off x="2381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24192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2463840" y="3425400"/>
              <a:ext cx="77400" cy="622440"/>
              <a:chOff x="2463840" y="3425400"/>
              <a:chExt cx="77400" cy="622440"/>
            </a:xfrm>
          </p:grpSpPr>
          <p:sp>
            <p:nvSpPr>
              <p:cNvPr id="1005" name=""/>
              <p:cNvSpPr/>
              <p:nvPr/>
            </p:nvSpPr>
            <p:spPr>
              <a:xfrm flipV="1">
                <a:off x="24638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25016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2541600" y="3017880"/>
              <a:ext cx="77400" cy="407880"/>
              <a:chOff x="2541600" y="3017880"/>
              <a:chExt cx="77400" cy="407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25416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25794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2619360" y="3425760"/>
              <a:ext cx="77400" cy="271440"/>
              <a:chOff x="2619360" y="3425760"/>
              <a:chExt cx="77400" cy="271440"/>
            </a:xfrm>
          </p:grpSpPr>
          <p:sp>
            <p:nvSpPr>
              <p:cNvPr id="1011" name=""/>
              <p:cNvSpPr/>
              <p:nvPr/>
            </p:nvSpPr>
            <p:spPr>
              <a:xfrm flipV="1">
                <a:off x="26193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26571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2697120" y="3303720"/>
              <a:ext cx="77400" cy="122040"/>
              <a:chOff x="2697120" y="3303720"/>
              <a:chExt cx="77400" cy="122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26971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27349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2774880" y="3425760"/>
              <a:ext cx="77400" cy="47520"/>
              <a:chOff x="2774880" y="3425760"/>
              <a:chExt cx="77400" cy="47520"/>
            </a:xfrm>
          </p:grpSpPr>
          <p:sp>
            <p:nvSpPr>
              <p:cNvPr id="1017" name=""/>
              <p:cNvSpPr/>
              <p:nvPr/>
            </p:nvSpPr>
            <p:spPr>
              <a:xfrm flipV="1">
                <a:off x="277488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281268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2852640" y="3408480"/>
              <a:ext cx="77400" cy="17280"/>
              <a:chOff x="2852640" y="3408480"/>
              <a:chExt cx="77400" cy="17280"/>
            </a:xfrm>
          </p:grpSpPr>
          <p:sp>
            <p:nvSpPr>
              <p:cNvPr id="1020" name=""/>
              <p:cNvSpPr/>
              <p:nvPr/>
            </p:nvSpPr>
            <p:spPr>
              <a:xfrm>
                <a:off x="285264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289044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4102560" y="2633760"/>
              <a:ext cx="77400" cy="791640"/>
              <a:chOff x="4102560" y="2633760"/>
              <a:chExt cx="77400" cy="79164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414036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10256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4024800" y="3426120"/>
              <a:ext cx="77400" cy="974520"/>
              <a:chOff x="4024800" y="3426120"/>
              <a:chExt cx="77400" cy="974520"/>
            </a:xfrm>
          </p:grpSpPr>
          <p:sp>
            <p:nvSpPr>
              <p:cNvPr id="1026" name=""/>
              <p:cNvSpPr/>
              <p:nvPr/>
            </p:nvSpPr>
            <p:spPr>
              <a:xfrm flipH="1" flipV="1">
                <a:off x="40626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40248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3947040" y="2295360"/>
              <a:ext cx="77400" cy="1130040"/>
              <a:chOff x="3947040" y="2295360"/>
              <a:chExt cx="77400" cy="1130040"/>
            </a:xfrm>
          </p:grpSpPr>
          <p:sp>
            <p:nvSpPr>
              <p:cNvPr id="1029" name=""/>
              <p:cNvSpPr/>
              <p:nvPr/>
            </p:nvSpPr>
            <p:spPr>
              <a:xfrm flipH="1">
                <a:off x="398484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94704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3868560" y="3425760"/>
              <a:ext cx="77760" cy="1288800"/>
              <a:chOff x="3868560" y="3425760"/>
              <a:chExt cx="77760" cy="1288800"/>
            </a:xfrm>
          </p:grpSpPr>
          <p:sp>
            <p:nvSpPr>
              <p:cNvPr id="1032" name=""/>
              <p:cNvSpPr/>
              <p:nvPr/>
            </p:nvSpPr>
            <p:spPr>
              <a:xfrm flipH="1" flipV="1">
                <a:off x="3906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38685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3791160" y="2090880"/>
              <a:ext cx="77400" cy="1334520"/>
              <a:chOff x="3791160" y="2090880"/>
              <a:chExt cx="77400" cy="1334520"/>
            </a:xfrm>
          </p:grpSpPr>
          <p:sp>
            <p:nvSpPr>
              <p:cNvPr id="1035" name=""/>
              <p:cNvSpPr/>
              <p:nvPr/>
            </p:nvSpPr>
            <p:spPr>
              <a:xfrm flipH="1">
                <a:off x="382896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79116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3713400" y="3426480"/>
              <a:ext cx="77400" cy="1407600"/>
              <a:chOff x="3713400" y="3426480"/>
              <a:chExt cx="77400" cy="1407600"/>
            </a:xfrm>
          </p:grpSpPr>
          <p:sp>
            <p:nvSpPr>
              <p:cNvPr id="1038" name=""/>
              <p:cNvSpPr/>
              <p:nvPr/>
            </p:nvSpPr>
            <p:spPr>
              <a:xfrm flipH="1" flipV="1">
                <a:off x="375120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371340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635640" y="2090880"/>
              <a:ext cx="77400" cy="1334520"/>
              <a:chOff x="3635640" y="2090880"/>
              <a:chExt cx="77400" cy="133452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367344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63564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3557880" y="3425760"/>
              <a:ext cx="77400" cy="1288800"/>
              <a:chOff x="3557880" y="3425760"/>
              <a:chExt cx="77400" cy="1288800"/>
            </a:xfrm>
          </p:grpSpPr>
          <p:sp>
            <p:nvSpPr>
              <p:cNvPr id="1044" name=""/>
              <p:cNvSpPr/>
              <p:nvPr/>
            </p:nvSpPr>
            <p:spPr>
              <a:xfrm flipH="1" flipV="1">
                <a:off x="359568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55788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3480120" y="2295360"/>
              <a:ext cx="77400" cy="1130040"/>
              <a:chOff x="3480120" y="2295360"/>
              <a:chExt cx="77400" cy="1130040"/>
            </a:xfrm>
          </p:grpSpPr>
          <p:sp>
            <p:nvSpPr>
              <p:cNvPr id="1047" name=""/>
              <p:cNvSpPr/>
              <p:nvPr/>
            </p:nvSpPr>
            <p:spPr>
              <a:xfrm flipH="1">
                <a:off x="35179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48012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402360" y="3426120"/>
              <a:ext cx="77400" cy="974520"/>
              <a:chOff x="3402360" y="3426120"/>
              <a:chExt cx="77400" cy="974520"/>
            </a:xfrm>
          </p:grpSpPr>
          <p:sp>
            <p:nvSpPr>
              <p:cNvPr id="1050" name=""/>
              <p:cNvSpPr/>
              <p:nvPr/>
            </p:nvSpPr>
            <p:spPr>
              <a:xfrm flipH="1" flipV="1">
                <a:off x="344016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40236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24600" y="2633760"/>
              <a:ext cx="77400" cy="791640"/>
              <a:chOff x="3324600" y="2633760"/>
              <a:chExt cx="77400" cy="791640"/>
            </a:xfrm>
          </p:grpSpPr>
          <p:sp>
            <p:nvSpPr>
              <p:cNvPr id="1053" name=""/>
              <p:cNvSpPr/>
              <p:nvPr/>
            </p:nvSpPr>
            <p:spPr>
              <a:xfrm flipH="1">
                <a:off x="3362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246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242160" y="3425400"/>
              <a:ext cx="77400" cy="622440"/>
              <a:chOff x="3242160" y="3425400"/>
              <a:chExt cx="77400" cy="622440"/>
            </a:xfrm>
          </p:grpSpPr>
          <p:sp>
            <p:nvSpPr>
              <p:cNvPr id="1056" name=""/>
              <p:cNvSpPr/>
              <p:nvPr/>
            </p:nvSpPr>
            <p:spPr>
              <a:xfrm flipH="1" flipV="1">
                <a:off x="327996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324216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3164400" y="3017880"/>
              <a:ext cx="77400" cy="407880"/>
              <a:chOff x="3164400" y="3017880"/>
              <a:chExt cx="77400" cy="40788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32022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6440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3086640" y="3425760"/>
              <a:ext cx="77400" cy="271440"/>
              <a:chOff x="3086640" y="3425760"/>
              <a:chExt cx="77400" cy="271440"/>
            </a:xfrm>
          </p:grpSpPr>
          <p:sp>
            <p:nvSpPr>
              <p:cNvPr id="1062" name=""/>
              <p:cNvSpPr/>
              <p:nvPr/>
            </p:nvSpPr>
            <p:spPr>
              <a:xfrm flipH="1" flipV="1">
                <a:off x="312444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308664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3008160" y="3303720"/>
              <a:ext cx="77760" cy="122040"/>
              <a:chOff x="3008160" y="3303720"/>
              <a:chExt cx="77760" cy="12204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304632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081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930760" y="3425760"/>
              <a:ext cx="77400" cy="47520"/>
              <a:chOff x="2930760" y="3425760"/>
              <a:chExt cx="77400" cy="47520"/>
            </a:xfrm>
          </p:grpSpPr>
          <p:sp>
            <p:nvSpPr>
              <p:cNvPr id="1068" name=""/>
              <p:cNvSpPr/>
              <p:nvPr/>
            </p:nvSpPr>
            <p:spPr>
              <a:xfrm flipH="1" flipV="1">
                <a:off x="296856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293076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 flipV="1">
              <a:off x="417996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421812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25772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429588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433548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7364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41324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445140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49100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452916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826600" y="2633760"/>
              <a:ext cx="77400" cy="791640"/>
              <a:chOff x="5826600" y="2633760"/>
              <a:chExt cx="77400" cy="791640"/>
            </a:xfrm>
          </p:grpSpPr>
          <p:sp>
            <p:nvSpPr>
              <p:cNvPr id="1081" name=""/>
              <p:cNvSpPr/>
              <p:nvPr/>
            </p:nvSpPr>
            <p:spPr>
              <a:xfrm flipH="1">
                <a:off x="58644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2660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5748840" y="3426120"/>
              <a:ext cx="77400" cy="974520"/>
              <a:chOff x="5748840" y="3426120"/>
              <a:chExt cx="77400" cy="974520"/>
            </a:xfrm>
          </p:grpSpPr>
          <p:sp>
            <p:nvSpPr>
              <p:cNvPr id="1084" name=""/>
              <p:cNvSpPr/>
              <p:nvPr/>
            </p:nvSpPr>
            <p:spPr>
              <a:xfrm flipH="1" flipV="1">
                <a:off x="57866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74884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5671080" y="2295360"/>
              <a:ext cx="77400" cy="1130040"/>
              <a:chOff x="5671080" y="2295360"/>
              <a:chExt cx="77400" cy="1130040"/>
            </a:xfrm>
          </p:grpSpPr>
          <p:sp>
            <p:nvSpPr>
              <p:cNvPr id="1087" name=""/>
              <p:cNvSpPr/>
              <p:nvPr/>
            </p:nvSpPr>
            <p:spPr>
              <a:xfrm flipH="1">
                <a:off x="57088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67108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5592600" y="3425760"/>
              <a:ext cx="77760" cy="1288800"/>
              <a:chOff x="5592600" y="3425760"/>
              <a:chExt cx="77760" cy="1288800"/>
            </a:xfrm>
          </p:grpSpPr>
          <p:sp>
            <p:nvSpPr>
              <p:cNvPr id="1090" name=""/>
              <p:cNvSpPr/>
              <p:nvPr/>
            </p:nvSpPr>
            <p:spPr>
              <a:xfrm flipH="1" flipV="1">
                <a:off x="563076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559260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5515200" y="2090880"/>
              <a:ext cx="77400" cy="1334520"/>
              <a:chOff x="5515200" y="2090880"/>
              <a:chExt cx="77400" cy="1334520"/>
            </a:xfrm>
          </p:grpSpPr>
          <p:sp>
            <p:nvSpPr>
              <p:cNvPr id="1093" name=""/>
              <p:cNvSpPr/>
              <p:nvPr/>
            </p:nvSpPr>
            <p:spPr>
              <a:xfrm flipH="1">
                <a:off x="55530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51520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5437440" y="3426480"/>
              <a:ext cx="77400" cy="1407600"/>
              <a:chOff x="5437440" y="3426480"/>
              <a:chExt cx="77400" cy="1407600"/>
            </a:xfrm>
          </p:grpSpPr>
          <p:sp>
            <p:nvSpPr>
              <p:cNvPr id="1096" name=""/>
              <p:cNvSpPr/>
              <p:nvPr/>
            </p:nvSpPr>
            <p:spPr>
              <a:xfrm flipH="1" flipV="1">
                <a:off x="54752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>
                <a:off x="5437440" y="342648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5359680" y="2090880"/>
              <a:ext cx="77400" cy="1334520"/>
              <a:chOff x="5359680" y="2090880"/>
              <a:chExt cx="77400" cy="1334520"/>
            </a:xfrm>
          </p:grpSpPr>
          <p:sp>
            <p:nvSpPr>
              <p:cNvPr id="1099" name=""/>
              <p:cNvSpPr/>
              <p:nvPr/>
            </p:nvSpPr>
            <p:spPr>
              <a:xfrm flipH="1">
                <a:off x="53974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359680" y="209088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281920" y="3425760"/>
              <a:ext cx="77400" cy="1288800"/>
              <a:chOff x="5281920" y="3425760"/>
              <a:chExt cx="77400" cy="1288800"/>
            </a:xfrm>
          </p:grpSpPr>
          <p:sp>
            <p:nvSpPr>
              <p:cNvPr id="1102" name=""/>
              <p:cNvSpPr/>
              <p:nvPr/>
            </p:nvSpPr>
            <p:spPr>
              <a:xfrm flipH="1" flipV="1">
                <a:off x="53197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5281920" y="342576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204160" y="2295360"/>
              <a:ext cx="77400" cy="1130040"/>
              <a:chOff x="5204160" y="2295360"/>
              <a:chExt cx="77400" cy="1130040"/>
            </a:xfrm>
          </p:grpSpPr>
          <p:sp>
            <p:nvSpPr>
              <p:cNvPr id="1105" name=""/>
              <p:cNvSpPr/>
              <p:nvPr/>
            </p:nvSpPr>
            <p:spPr>
              <a:xfrm flipH="1">
                <a:off x="52419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4160" y="229536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5126400" y="3426120"/>
              <a:ext cx="77400" cy="974520"/>
              <a:chOff x="5126400" y="3426120"/>
              <a:chExt cx="77400" cy="974520"/>
            </a:xfrm>
          </p:grpSpPr>
          <p:sp>
            <p:nvSpPr>
              <p:cNvPr id="1108" name=""/>
              <p:cNvSpPr/>
              <p:nvPr/>
            </p:nvSpPr>
            <p:spPr>
              <a:xfrm flipH="1" flipV="1">
                <a:off x="51642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5126400" y="342576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5048640" y="2633760"/>
              <a:ext cx="77400" cy="791640"/>
              <a:chOff x="5048640" y="2633760"/>
              <a:chExt cx="77400" cy="791640"/>
            </a:xfrm>
          </p:grpSpPr>
          <p:sp>
            <p:nvSpPr>
              <p:cNvPr id="1111" name=""/>
              <p:cNvSpPr/>
              <p:nvPr/>
            </p:nvSpPr>
            <p:spPr>
              <a:xfrm flipH="1">
                <a:off x="50864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48640" y="263376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4966200" y="3425400"/>
              <a:ext cx="77400" cy="622440"/>
              <a:chOff x="4966200" y="3425400"/>
              <a:chExt cx="77400" cy="622440"/>
            </a:xfrm>
          </p:grpSpPr>
          <p:sp>
            <p:nvSpPr>
              <p:cNvPr id="1114" name=""/>
              <p:cNvSpPr/>
              <p:nvPr/>
            </p:nvSpPr>
            <p:spPr>
              <a:xfrm flipH="1" flipV="1">
                <a:off x="500400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496620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4888440" y="3017880"/>
              <a:ext cx="77400" cy="407880"/>
              <a:chOff x="4888440" y="3017880"/>
              <a:chExt cx="77400" cy="40788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492624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88844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809960" y="3425760"/>
              <a:ext cx="77760" cy="271440"/>
              <a:chOff x="4809960" y="3425760"/>
              <a:chExt cx="77760" cy="271440"/>
            </a:xfrm>
          </p:grpSpPr>
          <p:sp>
            <p:nvSpPr>
              <p:cNvPr id="1120" name=""/>
              <p:cNvSpPr/>
              <p:nvPr/>
            </p:nvSpPr>
            <p:spPr>
              <a:xfrm flipH="1" flipV="1">
                <a:off x="484812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48099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732560" y="3303720"/>
              <a:ext cx="77400" cy="122040"/>
              <a:chOff x="4732560" y="3303720"/>
              <a:chExt cx="77400" cy="122040"/>
            </a:xfrm>
          </p:grpSpPr>
          <p:sp>
            <p:nvSpPr>
              <p:cNvPr id="1123" name=""/>
              <p:cNvSpPr/>
              <p:nvPr/>
            </p:nvSpPr>
            <p:spPr>
              <a:xfrm flipH="1">
                <a:off x="47703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3256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654800" y="3425760"/>
              <a:ext cx="77400" cy="47520"/>
              <a:chOff x="4654800" y="3425760"/>
              <a:chExt cx="77400" cy="47520"/>
            </a:xfrm>
          </p:grpSpPr>
          <p:sp>
            <p:nvSpPr>
              <p:cNvPr id="1126" name=""/>
              <p:cNvSpPr/>
              <p:nvPr/>
            </p:nvSpPr>
            <p:spPr>
              <a:xfrm flipH="1" flipV="1">
                <a:off x="469260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465480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 flipV="1">
              <a:off x="590400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5942160" y="34250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98176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6019920" y="301788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05952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097680" y="342576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3728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6175440" y="330372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621504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6253200" y="342576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4568760" y="3408480"/>
              <a:ext cx="77400" cy="17280"/>
              <a:chOff x="4568760" y="3408480"/>
              <a:chExt cx="77400" cy="17280"/>
            </a:xfrm>
          </p:grpSpPr>
          <p:sp>
            <p:nvSpPr>
              <p:cNvPr id="1139" name=""/>
              <p:cNvSpPr/>
              <p:nvPr/>
            </p:nvSpPr>
            <p:spPr>
              <a:xfrm>
                <a:off x="456876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60656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6690240" y="3425400"/>
              <a:ext cx="77400" cy="622440"/>
              <a:chOff x="6690240" y="3425400"/>
              <a:chExt cx="77400" cy="622440"/>
            </a:xfrm>
          </p:grpSpPr>
          <p:sp>
            <p:nvSpPr>
              <p:cNvPr id="1142" name=""/>
              <p:cNvSpPr/>
              <p:nvPr/>
            </p:nvSpPr>
            <p:spPr>
              <a:xfrm flipH="1" flipV="1">
                <a:off x="67280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6690240" y="342504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6611760" y="3017880"/>
              <a:ext cx="77760" cy="407880"/>
              <a:chOff x="6611760" y="3017880"/>
              <a:chExt cx="77760" cy="407880"/>
            </a:xfrm>
          </p:grpSpPr>
          <p:sp>
            <p:nvSpPr>
              <p:cNvPr id="1145" name=""/>
              <p:cNvSpPr/>
              <p:nvPr/>
            </p:nvSpPr>
            <p:spPr>
              <a:xfrm flipH="1">
                <a:off x="664992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11760" y="301788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6534360" y="3425760"/>
              <a:ext cx="77400" cy="271440"/>
              <a:chOff x="6534360" y="3425760"/>
              <a:chExt cx="77400" cy="271440"/>
            </a:xfrm>
          </p:grpSpPr>
          <p:sp>
            <p:nvSpPr>
              <p:cNvPr id="1148" name=""/>
              <p:cNvSpPr/>
              <p:nvPr/>
            </p:nvSpPr>
            <p:spPr>
              <a:xfrm flipH="1" flipV="1">
                <a:off x="65721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6534360" y="342576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456600" y="3303720"/>
              <a:ext cx="77400" cy="122040"/>
              <a:chOff x="6456600" y="3303720"/>
              <a:chExt cx="77400" cy="122040"/>
            </a:xfrm>
          </p:grpSpPr>
          <p:sp>
            <p:nvSpPr>
              <p:cNvPr id="1151" name=""/>
              <p:cNvSpPr/>
              <p:nvPr/>
            </p:nvSpPr>
            <p:spPr>
              <a:xfrm flipH="1">
                <a:off x="649440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456600" y="330372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378840" y="3425760"/>
              <a:ext cx="77400" cy="47520"/>
              <a:chOff x="6378840" y="3425760"/>
              <a:chExt cx="77400" cy="47520"/>
            </a:xfrm>
          </p:grpSpPr>
          <p:sp>
            <p:nvSpPr>
              <p:cNvPr id="1154" name=""/>
              <p:cNvSpPr/>
              <p:nvPr/>
            </p:nvSpPr>
            <p:spPr>
              <a:xfrm flipH="1" flipV="1">
                <a:off x="641664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6378840" y="342576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6292800" y="3408480"/>
              <a:ext cx="77400" cy="17280"/>
              <a:chOff x="6292800" y="3408480"/>
              <a:chExt cx="77400" cy="17280"/>
            </a:xfrm>
          </p:grpSpPr>
          <p:sp>
            <p:nvSpPr>
              <p:cNvPr id="1157" name=""/>
              <p:cNvSpPr/>
              <p:nvPr/>
            </p:nvSpPr>
            <p:spPr>
              <a:xfrm>
                <a:off x="629280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6330600" y="34084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"/>
          <p:cNvSpPr/>
          <p:nvPr/>
        </p:nvSpPr>
        <p:spPr>
          <a:xfrm>
            <a:off x="1469880" y="3427560"/>
            <a:ext cx="595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595520" y="188568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48C-6AA5-4FEE-A501-CAB391703FC9}" type="slidenum">
              <a:t>66</a:t>
            </a:fld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743040" y="1964520"/>
            <a:ext cx="765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señal recibida tendrá un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enor amplitud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odulación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causa del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d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everber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145-FBB6-4457-8138-5E799142ECCA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28600" y="22273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=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1  +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 sen 2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 -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)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3520" y="364104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lang="es-ES_tradnl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la reducción en la profundidad de la modulación y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Symbol"/>
                <a:ea typeface="Symbol"/>
              </a:rPr>
              <a:t>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ventual retard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43040" y="548640"/>
            <a:ext cx="76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presión cuadrática de la señal recibida será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0AB-CC75-45F4-92D2-D7E8AFDF916D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7458120" y="190584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87560" y="7560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603440" y="876240"/>
            <a:ext cx="5164200" cy="2743200"/>
            <a:chOff x="1603440" y="876240"/>
            <a:chExt cx="5164200" cy="2743200"/>
          </a:xfrm>
        </p:grpSpPr>
        <p:grpSp>
          <p:nvGrpSpPr>
            <p:cNvPr id="1168" name=""/>
            <p:cNvGrpSpPr/>
            <p:nvPr/>
          </p:nvGrpSpPr>
          <p:grpSpPr>
            <a:xfrm>
              <a:off x="1603440" y="1419120"/>
              <a:ext cx="77400" cy="791640"/>
              <a:chOff x="1603440" y="1419120"/>
              <a:chExt cx="77400" cy="791640"/>
            </a:xfrm>
          </p:grpSpPr>
          <p:sp>
            <p:nvSpPr>
              <p:cNvPr id="1169" name=""/>
              <p:cNvSpPr/>
              <p:nvPr/>
            </p:nvSpPr>
            <p:spPr>
              <a:xfrm>
                <a:off x="16034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6412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681200" y="2211480"/>
              <a:ext cx="77400" cy="974520"/>
              <a:chOff x="1681200" y="2211480"/>
              <a:chExt cx="77400" cy="974520"/>
            </a:xfrm>
          </p:grpSpPr>
          <p:sp>
            <p:nvSpPr>
              <p:cNvPr id="1172" name=""/>
              <p:cNvSpPr/>
              <p:nvPr/>
            </p:nvSpPr>
            <p:spPr>
              <a:xfrm flipV="1">
                <a:off x="16812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17190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1758960" y="1080720"/>
              <a:ext cx="77400" cy="1130040"/>
              <a:chOff x="1758960" y="1080720"/>
              <a:chExt cx="77400" cy="1130040"/>
            </a:xfrm>
          </p:grpSpPr>
          <p:sp>
            <p:nvSpPr>
              <p:cNvPr id="1175" name=""/>
              <p:cNvSpPr/>
              <p:nvPr/>
            </p:nvSpPr>
            <p:spPr>
              <a:xfrm>
                <a:off x="17589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17967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1836720" y="2211120"/>
              <a:ext cx="77400" cy="1288800"/>
              <a:chOff x="1836720" y="2211120"/>
              <a:chExt cx="77400" cy="128880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1836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 flipV="1">
                <a:off x="18745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1914480" y="876240"/>
              <a:ext cx="77400" cy="1334520"/>
              <a:chOff x="1914480" y="876240"/>
              <a:chExt cx="77400" cy="1334520"/>
            </a:xfrm>
          </p:grpSpPr>
          <p:sp>
            <p:nvSpPr>
              <p:cNvPr id="1181" name=""/>
              <p:cNvSpPr/>
              <p:nvPr/>
            </p:nvSpPr>
            <p:spPr>
              <a:xfrm>
                <a:off x="19144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9522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1992240" y="2211840"/>
              <a:ext cx="77400" cy="1407600"/>
              <a:chOff x="1992240" y="2211840"/>
              <a:chExt cx="77400" cy="140760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19922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 flipV="1">
                <a:off x="20300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2070000" y="876240"/>
              <a:ext cx="77400" cy="1334520"/>
              <a:chOff x="2070000" y="876240"/>
              <a:chExt cx="77400" cy="1334520"/>
            </a:xfrm>
          </p:grpSpPr>
          <p:sp>
            <p:nvSpPr>
              <p:cNvPr id="1187" name=""/>
              <p:cNvSpPr/>
              <p:nvPr/>
            </p:nvSpPr>
            <p:spPr>
              <a:xfrm>
                <a:off x="20700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21078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2147760" y="2211120"/>
              <a:ext cx="77400" cy="1288800"/>
              <a:chOff x="2147760" y="2211120"/>
              <a:chExt cx="77400" cy="1288800"/>
            </a:xfrm>
          </p:grpSpPr>
          <p:sp>
            <p:nvSpPr>
              <p:cNvPr id="1190" name=""/>
              <p:cNvSpPr/>
              <p:nvPr/>
            </p:nvSpPr>
            <p:spPr>
              <a:xfrm flipV="1">
                <a:off x="21477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 flipV="1">
                <a:off x="21855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2225520" y="1080720"/>
              <a:ext cx="77760" cy="1130040"/>
              <a:chOff x="2225520" y="1080720"/>
              <a:chExt cx="77760" cy="1130040"/>
            </a:xfrm>
          </p:grpSpPr>
          <p:sp>
            <p:nvSpPr>
              <p:cNvPr id="1193" name=""/>
              <p:cNvSpPr/>
              <p:nvPr/>
            </p:nvSpPr>
            <p:spPr>
              <a:xfrm>
                <a:off x="22255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22636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2303640" y="2211480"/>
              <a:ext cx="77400" cy="974520"/>
              <a:chOff x="2303640" y="2211480"/>
              <a:chExt cx="77400" cy="97452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23036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23414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2381400" y="1419120"/>
              <a:ext cx="77400" cy="791640"/>
              <a:chOff x="2381400" y="1419120"/>
              <a:chExt cx="77400" cy="791640"/>
            </a:xfrm>
          </p:grpSpPr>
          <p:sp>
            <p:nvSpPr>
              <p:cNvPr id="1199" name=""/>
              <p:cNvSpPr/>
              <p:nvPr/>
            </p:nvSpPr>
            <p:spPr>
              <a:xfrm>
                <a:off x="2381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24192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2463840" y="2210760"/>
              <a:ext cx="77400" cy="622440"/>
              <a:chOff x="2463840" y="2210760"/>
              <a:chExt cx="77400" cy="622440"/>
            </a:xfrm>
          </p:grpSpPr>
          <p:sp>
            <p:nvSpPr>
              <p:cNvPr id="1202" name=""/>
              <p:cNvSpPr/>
              <p:nvPr/>
            </p:nvSpPr>
            <p:spPr>
              <a:xfrm flipV="1">
                <a:off x="24638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 flipV="1">
                <a:off x="25016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2541600" y="1803240"/>
              <a:ext cx="77400" cy="407880"/>
              <a:chOff x="2541600" y="1803240"/>
              <a:chExt cx="77400" cy="407880"/>
            </a:xfrm>
          </p:grpSpPr>
          <p:sp>
            <p:nvSpPr>
              <p:cNvPr id="1205" name=""/>
              <p:cNvSpPr/>
              <p:nvPr/>
            </p:nvSpPr>
            <p:spPr>
              <a:xfrm>
                <a:off x="25416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25794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2619360" y="2211120"/>
              <a:ext cx="77400" cy="271440"/>
              <a:chOff x="2619360" y="2211120"/>
              <a:chExt cx="77400" cy="271440"/>
            </a:xfrm>
          </p:grpSpPr>
          <p:sp>
            <p:nvSpPr>
              <p:cNvPr id="1208" name=""/>
              <p:cNvSpPr/>
              <p:nvPr/>
            </p:nvSpPr>
            <p:spPr>
              <a:xfrm flipV="1">
                <a:off x="26193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 flipV="1">
                <a:off x="26571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2697120" y="2089080"/>
              <a:ext cx="77400" cy="122040"/>
              <a:chOff x="2697120" y="2089080"/>
              <a:chExt cx="77400" cy="122040"/>
            </a:xfrm>
          </p:grpSpPr>
          <p:sp>
            <p:nvSpPr>
              <p:cNvPr id="1211" name=""/>
              <p:cNvSpPr/>
              <p:nvPr/>
            </p:nvSpPr>
            <p:spPr>
              <a:xfrm>
                <a:off x="26971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27349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2774880" y="2211120"/>
              <a:ext cx="77400" cy="47520"/>
              <a:chOff x="2774880" y="2211120"/>
              <a:chExt cx="77400" cy="47520"/>
            </a:xfrm>
          </p:grpSpPr>
          <p:sp>
            <p:nvSpPr>
              <p:cNvPr id="1214" name=""/>
              <p:cNvSpPr/>
              <p:nvPr/>
            </p:nvSpPr>
            <p:spPr>
              <a:xfrm flipV="1">
                <a:off x="277488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281268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2852640" y="2193840"/>
              <a:ext cx="77400" cy="17280"/>
              <a:chOff x="2852640" y="2193840"/>
              <a:chExt cx="77400" cy="17280"/>
            </a:xfrm>
          </p:grpSpPr>
          <p:sp>
            <p:nvSpPr>
              <p:cNvPr id="1217" name=""/>
              <p:cNvSpPr/>
              <p:nvPr/>
            </p:nvSpPr>
            <p:spPr>
              <a:xfrm>
                <a:off x="285264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289044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4102560" y="1419120"/>
              <a:ext cx="77400" cy="791640"/>
              <a:chOff x="4102560" y="1419120"/>
              <a:chExt cx="77400" cy="791640"/>
            </a:xfrm>
          </p:grpSpPr>
          <p:sp>
            <p:nvSpPr>
              <p:cNvPr id="1220" name=""/>
              <p:cNvSpPr/>
              <p:nvPr/>
            </p:nvSpPr>
            <p:spPr>
              <a:xfrm flipH="1">
                <a:off x="414036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10256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4024800" y="2211480"/>
              <a:ext cx="77400" cy="974520"/>
              <a:chOff x="4024800" y="2211480"/>
              <a:chExt cx="77400" cy="974520"/>
            </a:xfrm>
          </p:grpSpPr>
          <p:sp>
            <p:nvSpPr>
              <p:cNvPr id="1223" name=""/>
              <p:cNvSpPr/>
              <p:nvPr/>
            </p:nvSpPr>
            <p:spPr>
              <a:xfrm flipH="1" flipV="1">
                <a:off x="40626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40248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947040" y="1080720"/>
              <a:ext cx="77400" cy="1130040"/>
              <a:chOff x="3947040" y="1080720"/>
              <a:chExt cx="77400" cy="1130040"/>
            </a:xfrm>
          </p:grpSpPr>
          <p:sp>
            <p:nvSpPr>
              <p:cNvPr id="1226" name=""/>
              <p:cNvSpPr/>
              <p:nvPr/>
            </p:nvSpPr>
            <p:spPr>
              <a:xfrm flipH="1">
                <a:off x="398484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94704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868560" y="2211120"/>
              <a:ext cx="77760" cy="1288800"/>
              <a:chOff x="3868560" y="2211120"/>
              <a:chExt cx="77760" cy="1288800"/>
            </a:xfrm>
          </p:grpSpPr>
          <p:sp>
            <p:nvSpPr>
              <p:cNvPr id="1229" name=""/>
              <p:cNvSpPr/>
              <p:nvPr/>
            </p:nvSpPr>
            <p:spPr>
              <a:xfrm flipH="1" flipV="1">
                <a:off x="3906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38685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3791160" y="876240"/>
              <a:ext cx="77400" cy="1334520"/>
              <a:chOff x="3791160" y="876240"/>
              <a:chExt cx="77400" cy="1334520"/>
            </a:xfrm>
          </p:grpSpPr>
          <p:sp>
            <p:nvSpPr>
              <p:cNvPr id="1232" name=""/>
              <p:cNvSpPr/>
              <p:nvPr/>
            </p:nvSpPr>
            <p:spPr>
              <a:xfrm flipH="1">
                <a:off x="382896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79116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713400" y="2211840"/>
              <a:ext cx="77400" cy="1407600"/>
              <a:chOff x="3713400" y="2211840"/>
              <a:chExt cx="77400" cy="1407600"/>
            </a:xfrm>
          </p:grpSpPr>
          <p:sp>
            <p:nvSpPr>
              <p:cNvPr id="1235" name=""/>
              <p:cNvSpPr/>
              <p:nvPr/>
            </p:nvSpPr>
            <p:spPr>
              <a:xfrm flipH="1" flipV="1">
                <a:off x="375120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V="1">
                <a:off x="371340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3635640" y="876240"/>
              <a:ext cx="77400" cy="1334520"/>
              <a:chOff x="3635640" y="876240"/>
              <a:chExt cx="77400" cy="1334520"/>
            </a:xfrm>
          </p:grpSpPr>
          <p:sp>
            <p:nvSpPr>
              <p:cNvPr id="1238" name=""/>
              <p:cNvSpPr/>
              <p:nvPr/>
            </p:nvSpPr>
            <p:spPr>
              <a:xfrm flipH="1">
                <a:off x="367344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63564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3557880" y="2211120"/>
              <a:ext cx="77400" cy="1288800"/>
              <a:chOff x="3557880" y="2211120"/>
              <a:chExt cx="77400" cy="1288800"/>
            </a:xfrm>
          </p:grpSpPr>
          <p:sp>
            <p:nvSpPr>
              <p:cNvPr id="1241" name=""/>
              <p:cNvSpPr/>
              <p:nvPr/>
            </p:nvSpPr>
            <p:spPr>
              <a:xfrm flipH="1" flipV="1">
                <a:off x="359568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V="1">
                <a:off x="355788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3480120" y="1080720"/>
              <a:ext cx="77400" cy="1130040"/>
              <a:chOff x="3480120" y="1080720"/>
              <a:chExt cx="77400" cy="1130040"/>
            </a:xfrm>
          </p:grpSpPr>
          <p:sp>
            <p:nvSpPr>
              <p:cNvPr id="1244" name=""/>
              <p:cNvSpPr/>
              <p:nvPr/>
            </p:nvSpPr>
            <p:spPr>
              <a:xfrm flipH="1">
                <a:off x="35179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48012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02360" y="2211480"/>
              <a:ext cx="77400" cy="974520"/>
              <a:chOff x="3402360" y="2211480"/>
              <a:chExt cx="77400" cy="974520"/>
            </a:xfrm>
          </p:grpSpPr>
          <p:sp>
            <p:nvSpPr>
              <p:cNvPr id="1247" name=""/>
              <p:cNvSpPr/>
              <p:nvPr/>
            </p:nvSpPr>
            <p:spPr>
              <a:xfrm flipH="1" flipV="1">
                <a:off x="344016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340236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3324600" y="1419120"/>
              <a:ext cx="77400" cy="791640"/>
              <a:chOff x="3324600" y="1419120"/>
              <a:chExt cx="77400" cy="791640"/>
            </a:xfrm>
          </p:grpSpPr>
          <p:sp>
            <p:nvSpPr>
              <p:cNvPr id="1250" name=""/>
              <p:cNvSpPr/>
              <p:nvPr/>
            </p:nvSpPr>
            <p:spPr>
              <a:xfrm flipH="1">
                <a:off x="3362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3246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3242160" y="2210760"/>
              <a:ext cx="77400" cy="622440"/>
              <a:chOff x="3242160" y="2210760"/>
              <a:chExt cx="77400" cy="622440"/>
            </a:xfrm>
          </p:grpSpPr>
          <p:sp>
            <p:nvSpPr>
              <p:cNvPr id="1253" name=""/>
              <p:cNvSpPr/>
              <p:nvPr/>
            </p:nvSpPr>
            <p:spPr>
              <a:xfrm flipH="1" flipV="1">
                <a:off x="327996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324216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3164400" y="1803240"/>
              <a:ext cx="77400" cy="407880"/>
              <a:chOff x="3164400" y="1803240"/>
              <a:chExt cx="77400" cy="40788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32022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16440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3086640" y="2211120"/>
              <a:ext cx="77400" cy="271440"/>
              <a:chOff x="3086640" y="2211120"/>
              <a:chExt cx="77400" cy="271440"/>
            </a:xfrm>
          </p:grpSpPr>
          <p:sp>
            <p:nvSpPr>
              <p:cNvPr id="1259" name=""/>
              <p:cNvSpPr/>
              <p:nvPr/>
            </p:nvSpPr>
            <p:spPr>
              <a:xfrm flipH="1" flipV="1">
                <a:off x="312444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308664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3008160" y="2089080"/>
              <a:ext cx="77760" cy="122040"/>
              <a:chOff x="3008160" y="2089080"/>
              <a:chExt cx="77760" cy="122040"/>
            </a:xfrm>
          </p:grpSpPr>
          <p:sp>
            <p:nvSpPr>
              <p:cNvPr id="1262" name=""/>
              <p:cNvSpPr/>
              <p:nvPr/>
            </p:nvSpPr>
            <p:spPr>
              <a:xfrm flipH="1">
                <a:off x="304632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0081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2930760" y="2211120"/>
              <a:ext cx="77400" cy="47520"/>
              <a:chOff x="2930760" y="2211120"/>
              <a:chExt cx="77400" cy="47520"/>
            </a:xfrm>
          </p:grpSpPr>
          <p:sp>
            <p:nvSpPr>
              <p:cNvPr id="1265" name=""/>
              <p:cNvSpPr/>
              <p:nvPr/>
            </p:nvSpPr>
            <p:spPr>
              <a:xfrm flipH="1" flipV="1">
                <a:off x="296856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93076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 flipV="1">
              <a:off x="417996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421812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5772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429588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433548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437364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1324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445140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449100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452916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5826600" y="1419120"/>
              <a:ext cx="77400" cy="791640"/>
              <a:chOff x="5826600" y="1419120"/>
              <a:chExt cx="77400" cy="791640"/>
            </a:xfrm>
          </p:grpSpPr>
          <p:sp>
            <p:nvSpPr>
              <p:cNvPr id="1278" name=""/>
              <p:cNvSpPr/>
              <p:nvPr/>
            </p:nvSpPr>
            <p:spPr>
              <a:xfrm flipH="1">
                <a:off x="58644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2660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5748840" y="2211480"/>
              <a:ext cx="77400" cy="974520"/>
              <a:chOff x="5748840" y="2211480"/>
              <a:chExt cx="77400" cy="974520"/>
            </a:xfrm>
          </p:grpSpPr>
          <p:sp>
            <p:nvSpPr>
              <p:cNvPr id="1281" name=""/>
              <p:cNvSpPr/>
              <p:nvPr/>
            </p:nvSpPr>
            <p:spPr>
              <a:xfrm flipH="1" flipV="1">
                <a:off x="57866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574884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5671080" y="1080720"/>
              <a:ext cx="77400" cy="1130040"/>
              <a:chOff x="5671080" y="1080720"/>
              <a:chExt cx="77400" cy="1130040"/>
            </a:xfrm>
          </p:grpSpPr>
          <p:sp>
            <p:nvSpPr>
              <p:cNvPr id="1284" name=""/>
              <p:cNvSpPr/>
              <p:nvPr/>
            </p:nvSpPr>
            <p:spPr>
              <a:xfrm flipH="1">
                <a:off x="57088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67108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5592600" y="2211120"/>
              <a:ext cx="77760" cy="1288800"/>
              <a:chOff x="5592600" y="2211120"/>
              <a:chExt cx="77760" cy="1288800"/>
            </a:xfrm>
          </p:grpSpPr>
          <p:sp>
            <p:nvSpPr>
              <p:cNvPr id="1287" name=""/>
              <p:cNvSpPr/>
              <p:nvPr/>
            </p:nvSpPr>
            <p:spPr>
              <a:xfrm flipH="1" flipV="1">
                <a:off x="563076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559260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5515200" y="876240"/>
              <a:ext cx="77400" cy="1334520"/>
              <a:chOff x="5515200" y="876240"/>
              <a:chExt cx="77400" cy="1334520"/>
            </a:xfrm>
          </p:grpSpPr>
          <p:sp>
            <p:nvSpPr>
              <p:cNvPr id="1290" name=""/>
              <p:cNvSpPr/>
              <p:nvPr/>
            </p:nvSpPr>
            <p:spPr>
              <a:xfrm flipH="1">
                <a:off x="55530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1520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5437440" y="2211840"/>
              <a:ext cx="77400" cy="1407600"/>
              <a:chOff x="5437440" y="2211840"/>
              <a:chExt cx="77400" cy="1407600"/>
            </a:xfrm>
          </p:grpSpPr>
          <p:sp>
            <p:nvSpPr>
              <p:cNvPr id="1293" name=""/>
              <p:cNvSpPr/>
              <p:nvPr/>
            </p:nvSpPr>
            <p:spPr>
              <a:xfrm flipH="1" flipV="1">
                <a:off x="54752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5437440" y="2211840"/>
                <a:ext cx="39240" cy="1407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5359680" y="876240"/>
              <a:ext cx="77400" cy="1334520"/>
              <a:chOff x="5359680" y="876240"/>
              <a:chExt cx="77400" cy="1334520"/>
            </a:xfrm>
          </p:grpSpPr>
          <p:sp>
            <p:nvSpPr>
              <p:cNvPr id="1296" name=""/>
              <p:cNvSpPr/>
              <p:nvPr/>
            </p:nvSpPr>
            <p:spPr>
              <a:xfrm flipH="1">
                <a:off x="53974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59680" y="876240"/>
                <a:ext cx="39240" cy="133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281920" y="2211120"/>
              <a:ext cx="77400" cy="1288800"/>
              <a:chOff x="5281920" y="2211120"/>
              <a:chExt cx="77400" cy="1288800"/>
            </a:xfrm>
          </p:grpSpPr>
          <p:sp>
            <p:nvSpPr>
              <p:cNvPr id="1299" name=""/>
              <p:cNvSpPr/>
              <p:nvPr/>
            </p:nvSpPr>
            <p:spPr>
              <a:xfrm flipH="1" flipV="1">
                <a:off x="53197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5281920" y="2211120"/>
                <a:ext cx="39240" cy="1288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204160" y="1080720"/>
              <a:ext cx="77400" cy="1130040"/>
              <a:chOff x="5204160" y="1080720"/>
              <a:chExt cx="77400" cy="1130040"/>
            </a:xfrm>
          </p:grpSpPr>
          <p:sp>
            <p:nvSpPr>
              <p:cNvPr id="1302" name=""/>
              <p:cNvSpPr/>
              <p:nvPr/>
            </p:nvSpPr>
            <p:spPr>
              <a:xfrm flipH="1">
                <a:off x="52419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204160" y="1080720"/>
                <a:ext cx="39240" cy="113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5126400" y="2211480"/>
              <a:ext cx="77400" cy="974520"/>
              <a:chOff x="5126400" y="2211480"/>
              <a:chExt cx="77400" cy="974520"/>
            </a:xfrm>
          </p:grpSpPr>
          <p:sp>
            <p:nvSpPr>
              <p:cNvPr id="1305" name=""/>
              <p:cNvSpPr/>
              <p:nvPr/>
            </p:nvSpPr>
            <p:spPr>
              <a:xfrm flipH="1" flipV="1">
                <a:off x="51642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5126400" y="2211120"/>
                <a:ext cx="39240" cy="974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048640" y="1419120"/>
              <a:ext cx="77400" cy="791640"/>
              <a:chOff x="5048640" y="1419120"/>
              <a:chExt cx="77400" cy="791640"/>
            </a:xfrm>
          </p:grpSpPr>
          <p:sp>
            <p:nvSpPr>
              <p:cNvPr id="1308" name=""/>
              <p:cNvSpPr/>
              <p:nvPr/>
            </p:nvSpPr>
            <p:spPr>
              <a:xfrm flipH="1">
                <a:off x="50864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048640" y="1419120"/>
                <a:ext cx="39240" cy="791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4966200" y="2210760"/>
              <a:ext cx="77400" cy="622440"/>
              <a:chOff x="4966200" y="2210760"/>
              <a:chExt cx="77400" cy="622440"/>
            </a:xfrm>
          </p:grpSpPr>
          <p:sp>
            <p:nvSpPr>
              <p:cNvPr id="1311" name=""/>
              <p:cNvSpPr/>
              <p:nvPr/>
            </p:nvSpPr>
            <p:spPr>
              <a:xfrm flipH="1" flipV="1">
                <a:off x="500400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496620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4888440" y="1803240"/>
              <a:ext cx="77400" cy="407880"/>
              <a:chOff x="4888440" y="1803240"/>
              <a:chExt cx="77400" cy="407880"/>
            </a:xfrm>
          </p:grpSpPr>
          <p:sp>
            <p:nvSpPr>
              <p:cNvPr id="1314" name=""/>
              <p:cNvSpPr/>
              <p:nvPr/>
            </p:nvSpPr>
            <p:spPr>
              <a:xfrm flipH="1">
                <a:off x="492624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88844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4809960" y="2211120"/>
              <a:ext cx="77760" cy="271440"/>
              <a:chOff x="4809960" y="2211120"/>
              <a:chExt cx="77760" cy="271440"/>
            </a:xfrm>
          </p:grpSpPr>
          <p:sp>
            <p:nvSpPr>
              <p:cNvPr id="1317" name=""/>
              <p:cNvSpPr/>
              <p:nvPr/>
            </p:nvSpPr>
            <p:spPr>
              <a:xfrm flipH="1" flipV="1">
                <a:off x="484812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48099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4732560" y="2089080"/>
              <a:ext cx="77400" cy="122040"/>
              <a:chOff x="4732560" y="2089080"/>
              <a:chExt cx="77400" cy="122040"/>
            </a:xfrm>
          </p:grpSpPr>
          <p:sp>
            <p:nvSpPr>
              <p:cNvPr id="1320" name=""/>
              <p:cNvSpPr/>
              <p:nvPr/>
            </p:nvSpPr>
            <p:spPr>
              <a:xfrm flipH="1">
                <a:off x="47703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73256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4654800" y="2211120"/>
              <a:ext cx="77400" cy="47520"/>
              <a:chOff x="4654800" y="2211120"/>
              <a:chExt cx="77400" cy="47520"/>
            </a:xfrm>
          </p:grpSpPr>
          <p:sp>
            <p:nvSpPr>
              <p:cNvPr id="1323" name=""/>
              <p:cNvSpPr/>
              <p:nvPr/>
            </p:nvSpPr>
            <p:spPr>
              <a:xfrm flipH="1" flipV="1">
                <a:off x="469260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465480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V="1">
              <a:off x="590400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5942160" y="221040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8176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019920" y="1803240"/>
              <a:ext cx="39600" cy="407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605952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6097680" y="2211120"/>
              <a:ext cx="39600" cy="271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6175440" y="2089080"/>
              <a:ext cx="39600" cy="1220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621504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6253200" y="2211120"/>
              <a:ext cx="39600" cy="475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4568760" y="2193840"/>
              <a:ext cx="77400" cy="17280"/>
              <a:chOff x="4568760" y="2193840"/>
              <a:chExt cx="77400" cy="17280"/>
            </a:xfrm>
          </p:grpSpPr>
          <p:sp>
            <p:nvSpPr>
              <p:cNvPr id="1336" name=""/>
              <p:cNvSpPr/>
              <p:nvPr/>
            </p:nvSpPr>
            <p:spPr>
              <a:xfrm>
                <a:off x="456876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460656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6690240" y="2210760"/>
              <a:ext cx="77400" cy="622440"/>
              <a:chOff x="6690240" y="2210760"/>
              <a:chExt cx="77400" cy="622440"/>
            </a:xfrm>
          </p:grpSpPr>
          <p:sp>
            <p:nvSpPr>
              <p:cNvPr id="1339" name=""/>
              <p:cNvSpPr/>
              <p:nvPr/>
            </p:nvSpPr>
            <p:spPr>
              <a:xfrm flipH="1" flipV="1">
                <a:off x="67280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6690240" y="2210400"/>
                <a:ext cx="39240" cy="622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6611760" y="1803240"/>
              <a:ext cx="77760" cy="407880"/>
              <a:chOff x="6611760" y="1803240"/>
              <a:chExt cx="77760" cy="407880"/>
            </a:xfrm>
          </p:grpSpPr>
          <p:sp>
            <p:nvSpPr>
              <p:cNvPr id="1342" name=""/>
              <p:cNvSpPr/>
              <p:nvPr/>
            </p:nvSpPr>
            <p:spPr>
              <a:xfrm flipH="1">
                <a:off x="664992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611760" y="1803240"/>
                <a:ext cx="39240" cy="40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534360" y="2211120"/>
              <a:ext cx="77400" cy="271440"/>
              <a:chOff x="6534360" y="2211120"/>
              <a:chExt cx="77400" cy="271440"/>
            </a:xfrm>
          </p:grpSpPr>
          <p:sp>
            <p:nvSpPr>
              <p:cNvPr id="1345" name=""/>
              <p:cNvSpPr/>
              <p:nvPr/>
            </p:nvSpPr>
            <p:spPr>
              <a:xfrm flipH="1" flipV="1">
                <a:off x="65721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6534360" y="2211120"/>
                <a:ext cx="39240" cy="2714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456600" y="2089080"/>
              <a:ext cx="77400" cy="122040"/>
              <a:chOff x="6456600" y="2089080"/>
              <a:chExt cx="77400" cy="122040"/>
            </a:xfrm>
          </p:grpSpPr>
          <p:sp>
            <p:nvSpPr>
              <p:cNvPr id="1348" name=""/>
              <p:cNvSpPr/>
              <p:nvPr/>
            </p:nvSpPr>
            <p:spPr>
              <a:xfrm flipH="1">
                <a:off x="649440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56600" y="2089080"/>
                <a:ext cx="39240" cy="122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6378840" y="2211120"/>
              <a:ext cx="77400" cy="47520"/>
              <a:chOff x="6378840" y="2211120"/>
              <a:chExt cx="77400" cy="47520"/>
            </a:xfrm>
          </p:grpSpPr>
          <p:sp>
            <p:nvSpPr>
              <p:cNvPr id="1351" name=""/>
              <p:cNvSpPr/>
              <p:nvPr/>
            </p:nvSpPr>
            <p:spPr>
              <a:xfrm flipH="1" flipV="1">
                <a:off x="641664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6378840" y="221112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6292800" y="2193840"/>
              <a:ext cx="77400" cy="17280"/>
              <a:chOff x="6292800" y="2193840"/>
              <a:chExt cx="77400" cy="17280"/>
            </a:xfrm>
          </p:grpSpPr>
          <p:sp>
            <p:nvSpPr>
              <p:cNvPr id="1354" name=""/>
              <p:cNvSpPr/>
              <p:nvPr/>
            </p:nvSpPr>
            <p:spPr>
              <a:xfrm>
                <a:off x="629280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6330600" y="219384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"/>
          <p:cNvSpPr/>
          <p:nvPr/>
        </p:nvSpPr>
        <p:spPr>
          <a:xfrm>
            <a:off x="1469880" y="2212920"/>
            <a:ext cx="595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1595520" y="671040"/>
            <a:ext cx="0" cy="29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458120" y="51109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087560" y="365688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469880" y="5418000"/>
            <a:ext cx="5954760" cy="1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595520" y="4209840"/>
            <a:ext cx="0" cy="226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606680" y="822240"/>
            <a:ext cx="5140800" cy="2787120"/>
            <a:chOff x="1606680" y="822240"/>
            <a:chExt cx="5140800" cy="2787120"/>
          </a:xfrm>
        </p:grpSpPr>
        <p:grpSp>
          <p:nvGrpSpPr>
            <p:cNvPr id="1363" name=""/>
            <p:cNvGrpSpPr/>
            <p:nvPr/>
          </p:nvGrpSpPr>
          <p:grpSpPr>
            <a:xfrm>
              <a:off x="1606680" y="822240"/>
              <a:ext cx="5140800" cy="1374480"/>
              <a:chOff x="1606680" y="822240"/>
              <a:chExt cx="5140800" cy="1374480"/>
            </a:xfrm>
          </p:grpSpPr>
          <p:grpSp>
            <p:nvGrpSpPr>
              <p:cNvPr id="1364" name=""/>
              <p:cNvGrpSpPr/>
              <p:nvPr/>
            </p:nvGrpSpPr>
            <p:grpSpPr>
              <a:xfrm>
                <a:off x="1606680" y="822240"/>
                <a:ext cx="3428640" cy="1374480"/>
                <a:chOff x="1606680" y="822240"/>
                <a:chExt cx="3428640" cy="1374480"/>
              </a:xfrm>
            </p:grpSpPr>
            <p:grpSp>
              <p:nvGrpSpPr>
                <p:cNvPr id="1365" name=""/>
                <p:cNvGrpSpPr/>
                <p:nvPr/>
              </p:nvGrpSpPr>
              <p:grpSpPr>
                <a:xfrm>
                  <a:off x="1606680" y="822240"/>
                  <a:ext cx="1712880" cy="1374480"/>
                  <a:chOff x="1606680" y="822240"/>
                  <a:chExt cx="1712880" cy="1374480"/>
                </a:xfrm>
              </p:grpSpPr>
              <p:grpSp>
                <p:nvGrpSpPr>
                  <p:cNvPr id="1366" name=""/>
                  <p:cNvGrpSpPr/>
                  <p:nvPr/>
                </p:nvGrpSpPr>
                <p:grpSpPr>
                  <a:xfrm>
                    <a:off x="1606680" y="822240"/>
                    <a:ext cx="855360" cy="687240"/>
                    <a:chOff x="1606680" y="822240"/>
                    <a:chExt cx="855360" cy="687240"/>
                  </a:xfrm>
                </p:grpSpPr>
                <p:sp>
                  <p:nvSpPr>
                    <p:cNvPr id="1367" name=""/>
                    <p:cNvSpPr/>
                    <p:nvPr/>
                  </p:nvSpPr>
                  <p:spPr>
                    <a:xfrm>
                      <a:off x="160668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>
                      <a:off x="203436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9" name=""/>
                  <p:cNvGrpSpPr/>
                  <p:nvPr/>
                </p:nvGrpSpPr>
                <p:grpSpPr>
                  <a:xfrm>
                    <a:off x="2464200" y="1509480"/>
                    <a:ext cx="855360" cy="687240"/>
                    <a:chOff x="2464200" y="1509480"/>
                    <a:chExt cx="855360" cy="687240"/>
                  </a:xfrm>
                </p:grpSpPr>
                <p:sp>
                  <p:nvSpPr>
                    <p:cNvPr id="1370" name=""/>
                    <p:cNvSpPr/>
                    <p:nvPr/>
                  </p:nvSpPr>
                  <p:spPr>
                    <a:xfrm>
                      <a:off x="246420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>
                      <a:off x="289188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3320280" y="822240"/>
                  <a:ext cx="1715040" cy="1374480"/>
                  <a:chOff x="3320280" y="822240"/>
                  <a:chExt cx="1715040" cy="1374480"/>
                </a:xfrm>
              </p:grpSpPr>
              <p:grpSp>
                <p:nvGrpSpPr>
                  <p:cNvPr id="1373" name=""/>
                  <p:cNvGrpSpPr/>
                  <p:nvPr/>
                </p:nvGrpSpPr>
                <p:grpSpPr>
                  <a:xfrm>
                    <a:off x="3320280" y="822240"/>
                    <a:ext cx="855720" cy="687240"/>
                    <a:chOff x="3320280" y="822240"/>
                    <a:chExt cx="855720" cy="687240"/>
                  </a:xfrm>
                </p:grpSpPr>
                <p:sp>
                  <p:nvSpPr>
                    <p:cNvPr id="1374" name=""/>
                    <p:cNvSpPr/>
                    <p:nvPr/>
                  </p:nvSpPr>
                  <p:spPr>
                    <a:xfrm>
                      <a:off x="3320280" y="82224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3748320" y="82224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4178160" y="1509480"/>
                    <a:ext cx="857160" cy="687240"/>
                    <a:chOff x="4178160" y="1509480"/>
                    <a:chExt cx="857160" cy="68724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4178160" y="150948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4607280" y="150948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79" name=""/>
              <p:cNvGrpSpPr/>
              <p:nvPr/>
            </p:nvGrpSpPr>
            <p:grpSpPr>
              <a:xfrm>
                <a:off x="5034240" y="822240"/>
                <a:ext cx="1713240" cy="1373040"/>
                <a:chOff x="5034240" y="822240"/>
                <a:chExt cx="1713240" cy="137304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5034240" y="822240"/>
                  <a:ext cx="855720" cy="687240"/>
                  <a:chOff x="5034240" y="822240"/>
                  <a:chExt cx="855720" cy="6872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5034240" y="82224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5462280" y="82224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" name=""/>
                <p:cNvGrpSpPr/>
                <p:nvPr/>
              </p:nvGrpSpPr>
              <p:grpSpPr>
                <a:xfrm>
                  <a:off x="5891760" y="1508040"/>
                  <a:ext cx="855720" cy="687240"/>
                  <a:chOff x="5891760" y="1508040"/>
                  <a:chExt cx="855720" cy="68724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5891760" y="150804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319800" y="150804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86" name=""/>
            <p:cNvGrpSpPr/>
            <p:nvPr/>
          </p:nvGrpSpPr>
          <p:grpSpPr>
            <a:xfrm>
              <a:off x="1606680" y="2234880"/>
              <a:ext cx="5140800" cy="1374480"/>
              <a:chOff x="1606680" y="2234880"/>
              <a:chExt cx="5140800" cy="1374480"/>
            </a:xfrm>
          </p:grpSpPr>
          <p:grpSp>
            <p:nvGrpSpPr>
              <p:cNvPr id="1387" name=""/>
              <p:cNvGrpSpPr/>
              <p:nvPr/>
            </p:nvGrpSpPr>
            <p:grpSpPr>
              <a:xfrm>
                <a:off x="1606680" y="2234880"/>
                <a:ext cx="3428640" cy="1374480"/>
                <a:chOff x="1606680" y="2234880"/>
                <a:chExt cx="3428640" cy="1374480"/>
              </a:xfrm>
            </p:grpSpPr>
            <p:grpSp>
              <p:nvGrpSpPr>
                <p:cNvPr id="1388" name=""/>
                <p:cNvGrpSpPr/>
                <p:nvPr/>
              </p:nvGrpSpPr>
              <p:grpSpPr>
                <a:xfrm>
                  <a:off x="1606680" y="2234880"/>
                  <a:ext cx="1712880" cy="1374480"/>
                  <a:chOff x="1606680" y="2234880"/>
                  <a:chExt cx="1712880" cy="1374480"/>
                </a:xfrm>
              </p:grpSpPr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1606680" y="2922120"/>
                    <a:ext cx="855360" cy="687240"/>
                    <a:chOff x="1606680" y="2922120"/>
                    <a:chExt cx="855360" cy="68724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 flipV="1">
                      <a:off x="160668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 flipV="1">
                      <a:off x="203436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2" name=""/>
                  <p:cNvGrpSpPr/>
                  <p:nvPr/>
                </p:nvGrpSpPr>
                <p:grpSpPr>
                  <a:xfrm>
                    <a:off x="2464200" y="2234880"/>
                    <a:ext cx="855360" cy="687240"/>
                    <a:chOff x="2464200" y="2234880"/>
                    <a:chExt cx="855360" cy="687240"/>
                  </a:xfrm>
                </p:grpSpPr>
                <p:sp>
                  <p:nvSpPr>
                    <p:cNvPr id="1393" name=""/>
                    <p:cNvSpPr/>
                    <p:nvPr/>
                  </p:nvSpPr>
                  <p:spPr>
                    <a:xfrm flipV="1">
                      <a:off x="246420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4" name=""/>
                    <p:cNvSpPr/>
                    <p:nvPr/>
                  </p:nvSpPr>
                  <p:spPr>
                    <a:xfrm flipV="1">
                      <a:off x="289188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3320280" y="2234880"/>
                  <a:ext cx="1715040" cy="1374480"/>
                  <a:chOff x="3320280" y="2234880"/>
                  <a:chExt cx="1715040" cy="1374480"/>
                </a:xfrm>
              </p:grpSpPr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3320280" y="2922120"/>
                    <a:ext cx="855720" cy="687240"/>
                    <a:chOff x="3320280" y="2922120"/>
                    <a:chExt cx="855720" cy="68724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flipV="1">
                      <a:off x="3320280" y="292176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flipV="1">
                      <a:off x="3748320" y="292176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4178160" y="2234880"/>
                    <a:ext cx="857160" cy="687240"/>
                    <a:chOff x="4178160" y="2234880"/>
                    <a:chExt cx="857160" cy="687240"/>
                  </a:xfrm>
                </p:grpSpPr>
                <p:sp>
                  <p:nvSpPr>
                    <p:cNvPr id="1400" name=""/>
                    <p:cNvSpPr/>
                    <p:nvPr/>
                  </p:nvSpPr>
                  <p:spPr>
                    <a:xfrm flipV="1">
                      <a:off x="4178160" y="2234520"/>
                      <a:ext cx="42768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1" name=""/>
                    <p:cNvSpPr/>
                    <p:nvPr/>
                  </p:nvSpPr>
                  <p:spPr>
                    <a:xfrm flipV="1">
                      <a:off x="4607280" y="2234520"/>
                      <a:ext cx="428040" cy="68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02" name=""/>
              <p:cNvGrpSpPr/>
              <p:nvPr/>
            </p:nvGrpSpPr>
            <p:grpSpPr>
              <a:xfrm>
                <a:off x="5034240" y="2236320"/>
                <a:ext cx="1713240" cy="1373040"/>
                <a:chOff x="5034240" y="2236320"/>
                <a:chExt cx="1713240" cy="1373040"/>
              </a:xfrm>
            </p:grpSpPr>
            <p:grpSp>
              <p:nvGrpSpPr>
                <p:cNvPr id="1403" name=""/>
                <p:cNvGrpSpPr/>
                <p:nvPr/>
              </p:nvGrpSpPr>
              <p:grpSpPr>
                <a:xfrm>
                  <a:off x="5034240" y="2922120"/>
                  <a:ext cx="855720" cy="687240"/>
                  <a:chOff x="5034240" y="2922120"/>
                  <a:chExt cx="855720" cy="687240"/>
                </a:xfrm>
              </p:grpSpPr>
              <p:sp>
                <p:nvSpPr>
                  <p:cNvPr id="1404" name=""/>
                  <p:cNvSpPr/>
                  <p:nvPr/>
                </p:nvSpPr>
                <p:spPr>
                  <a:xfrm flipV="1">
                    <a:off x="5034240" y="292176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V="1">
                    <a:off x="5462280" y="292176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" name=""/>
                <p:cNvGrpSpPr/>
                <p:nvPr/>
              </p:nvGrpSpPr>
              <p:grpSpPr>
                <a:xfrm>
                  <a:off x="5891760" y="2236320"/>
                  <a:ext cx="855720" cy="687240"/>
                  <a:chOff x="5891760" y="2236320"/>
                  <a:chExt cx="855720" cy="68724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 flipV="1">
                    <a:off x="5891760" y="2235960"/>
                    <a:ext cx="42804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 flipV="1">
                    <a:off x="6319800" y="2235960"/>
                    <a:ext cx="4276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09" name=""/>
          <p:cNvGrpSpPr/>
          <p:nvPr/>
        </p:nvGrpSpPr>
        <p:grpSpPr>
          <a:xfrm>
            <a:off x="2066760" y="4491000"/>
            <a:ext cx="4697280" cy="1866600"/>
            <a:chOff x="2066760" y="4491000"/>
            <a:chExt cx="4697280" cy="1866600"/>
          </a:xfrm>
        </p:grpSpPr>
        <p:grpSp>
          <p:nvGrpSpPr>
            <p:cNvPr id="1410" name=""/>
            <p:cNvGrpSpPr/>
            <p:nvPr/>
          </p:nvGrpSpPr>
          <p:grpSpPr>
            <a:xfrm>
              <a:off x="4487760" y="4803840"/>
              <a:ext cx="77760" cy="612360"/>
              <a:chOff x="4487760" y="4803840"/>
              <a:chExt cx="77760" cy="612360"/>
            </a:xfrm>
          </p:grpSpPr>
          <p:sp>
            <p:nvSpPr>
              <p:cNvPr id="1411" name=""/>
              <p:cNvSpPr/>
              <p:nvPr/>
            </p:nvSpPr>
            <p:spPr>
              <a:xfrm>
                <a:off x="4487760" y="4803840"/>
                <a:ext cx="39600" cy="612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525920" y="4803840"/>
                <a:ext cx="39600" cy="612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066760" y="5416560"/>
              <a:ext cx="77400" cy="902880"/>
              <a:chOff x="2066760" y="5416560"/>
              <a:chExt cx="77400" cy="902880"/>
            </a:xfrm>
          </p:grpSpPr>
          <p:sp>
            <p:nvSpPr>
              <p:cNvPr id="1414" name=""/>
              <p:cNvSpPr/>
              <p:nvPr/>
            </p:nvSpPr>
            <p:spPr>
              <a:xfrm flipV="1">
                <a:off x="206676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210456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2144520" y="4503600"/>
              <a:ext cx="77400" cy="912600"/>
              <a:chOff x="2144520" y="4503600"/>
              <a:chExt cx="77400" cy="912600"/>
            </a:xfrm>
          </p:grpSpPr>
          <p:sp>
            <p:nvSpPr>
              <p:cNvPr id="1417" name=""/>
              <p:cNvSpPr/>
              <p:nvPr/>
            </p:nvSpPr>
            <p:spPr>
              <a:xfrm>
                <a:off x="2144520" y="4503600"/>
                <a:ext cx="39240" cy="912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2182320" y="4503600"/>
                <a:ext cx="39240" cy="912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2222280" y="5416920"/>
              <a:ext cx="77400" cy="936360"/>
              <a:chOff x="2222280" y="5416920"/>
              <a:chExt cx="77400" cy="936360"/>
            </a:xfrm>
          </p:grpSpPr>
          <p:sp>
            <p:nvSpPr>
              <p:cNvPr id="1420" name=""/>
              <p:cNvSpPr/>
              <p:nvPr/>
            </p:nvSpPr>
            <p:spPr>
              <a:xfrm flipV="1">
                <a:off x="2222280" y="5416560"/>
                <a:ext cx="39240" cy="936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2260080" y="5416560"/>
                <a:ext cx="39240" cy="936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2300040" y="4498920"/>
              <a:ext cx="77400" cy="917280"/>
              <a:chOff x="2300040" y="4498920"/>
              <a:chExt cx="77400" cy="917280"/>
            </a:xfrm>
          </p:grpSpPr>
          <p:sp>
            <p:nvSpPr>
              <p:cNvPr id="1423" name=""/>
              <p:cNvSpPr/>
              <p:nvPr/>
            </p:nvSpPr>
            <p:spPr>
              <a:xfrm>
                <a:off x="2300040" y="4498920"/>
                <a:ext cx="39240" cy="9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2337840" y="4498920"/>
                <a:ext cx="39240" cy="9172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2377800" y="5416560"/>
              <a:ext cx="77400" cy="902880"/>
              <a:chOff x="2377800" y="5416560"/>
              <a:chExt cx="77400" cy="902880"/>
            </a:xfrm>
          </p:grpSpPr>
          <p:sp>
            <p:nvSpPr>
              <p:cNvPr id="1426" name=""/>
              <p:cNvSpPr/>
              <p:nvPr/>
            </p:nvSpPr>
            <p:spPr>
              <a:xfrm flipV="1">
                <a:off x="237780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2415600" y="5416560"/>
                <a:ext cx="39240" cy="902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2455560" y="4556160"/>
              <a:ext cx="77760" cy="860040"/>
              <a:chOff x="2455560" y="4556160"/>
              <a:chExt cx="77760" cy="860040"/>
            </a:xfrm>
          </p:grpSpPr>
          <p:sp>
            <p:nvSpPr>
              <p:cNvPr id="1429" name=""/>
              <p:cNvSpPr/>
              <p:nvPr/>
            </p:nvSpPr>
            <p:spPr>
              <a:xfrm>
                <a:off x="2455560" y="4556160"/>
                <a:ext cx="39240" cy="86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2493720" y="4556160"/>
                <a:ext cx="39240" cy="860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2533680" y="5416920"/>
              <a:ext cx="77400" cy="812520"/>
              <a:chOff x="2533680" y="5416920"/>
              <a:chExt cx="77400" cy="812520"/>
            </a:xfrm>
          </p:grpSpPr>
          <p:sp>
            <p:nvSpPr>
              <p:cNvPr id="1432" name=""/>
              <p:cNvSpPr/>
              <p:nvPr/>
            </p:nvSpPr>
            <p:spPr>
              <a:xfrm flipV="1">
                <a:off x="253368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257148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2611440" y="4673520"/>
              <a:ext cx="77400" cy="742680"/>
              <a:chOff x="2611440" y="4673520"/>
              <a:chExt cx="77400" cy="742680"/>
            </a:xfrm>
          </p:grpSpPr>
          <p:sp>
            <p:nvSpPr>
              <p:cNvPr id="1435" name=""/>
              <p:cNvSpPr/>
              <p:nvPr/>
            </p:nvSpPr>
            <p:spPr>
              <a:xfrm>
                <a:off x="2611440" y="4673520"/>
                <a:ext cx="39240" cy="742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2649240" y="4673520"/>
                <a:ext cx="39240" cy="742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2693880" y="5416200"/>
              <a:ext cx="77400" cy="677880"/>
              <a:chOff x="2693880" y="5416200"/>
              <a:chExt cx="77400" cy="677880"/>
            </a:xfrm>
          </p:grpSpPr>
          <p:sp>
            <p:nvSpPr>
              <p:cNvPr id="1438" name=""/>
              <p:cNvSpPr/>
              <p:nvPr/>
            </p:nvSpPr>
            <p:spPr>
              <a:xfrm flipV="1">
                <a:off x="269388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 flipV="1">
                <a:off x="273168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2771640" y="4807080"/>
              <a:ext cx="77400" cy="609480"/>
              <a:chOff x="2771640" y="4807080"/>
              <a:chExt cx="77400" cy="609480"/>
            </a:xfrm>
          </p:grpSpPr>
          <p:sp>
            <p:nvSpPr>
              <p:cNvPr id="1441" name=""/>
              <p:cNvSpPr/>
              <p:nvPr/>
            </p:nvSpPr>
            <p:spPr>
              <a:xfrm>
                <a:off x="2771640" y="4807080"/>
                <a:ext cx="39240" cy="609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2809440" y="4807080"/>
                <a:ext cx="39240" cy="609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2849400" y="5416200"/>
              <a:ext cx="77400" cy="571320"/>
              <a:chOff x="2849400" y="5416200"/>
              <a:chExt cx="77400" cy="571320"/>
            </a:xfrm>
          </p:grpSpPr>
          <p:sp>
            <p:nvSpPr>
              <p:cNvPr id="1444" name=""/>
              <p:cNvSpPr/>
              <p:nvPr/>
            </p:nvSpPr>
            <p:spPr>
              <a:xfrm flipV="1">
                <a:off x="284940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 flipV="1">
                <a:off x="288720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2927160" y="4889520"/>
              <a:ext cx="77400" cy="527040"/>
              <a:chOff x="2927160" y="4889520"/>
              <a:chExt cx="77400" cy="527040"/>
            </a:xfrm>
          </p:grpSpPr>
          <p:sp>
            <p:nvSpPr>
              <p:cNvPr id="1447" name=""/>
              <p:cNvSpPr/>
              <p:nvPr/>
            </p:nvSpPr>
            <p:spPr>
              <a:xfrm>
                <a:off x="292716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296496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004920" y="5416200"/>
              <a:ext cx="77400" cy="490680"/>
              <a:chOff x="3004920" y="5416200"/>
              <a:chExt cx="77400" cy="490680"/>
            </a:xfrm>
          </p:grpSpPr>
          <p:sp>
            <p:nvSpPr>
              <p:cNvPr id="1450" name=""/>
              <p:cNvSpPr/>
              <p:nvPr/>
            </p:nvSpPr>
            <p:spPr>
              <a:xfrm flipV="1">
                <a:off x="300492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304272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082680" y="4933800"/>
              <a:ext cx="77400" cy="482760"/>
              <a:chOff x="3082680" y="4933800"/>
              <a:chExt cx="77400" cy="4827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08268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12048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332600" y="4680000"/>
              <a:ext cx="77400" cy="736200"/>
              <a:chOff x="4332600" y="4680000"/>
              <a:chExt cx="77400" cy="736200"/>
            </a:xfrm>
          </p:grpSpPr>
          <p:sp>
            <p:nvSpPr>
              <p:cNvPr id="1456" name=""/>
              <p:cNvSpPr/>
              <p:nvPr/>
            </p:nvSpPr>
            <p:spPr>
              <a:xfrm flipH="1">
                <a:off x="437040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33260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4254840" y="5416560"/>
              <a:ext cx="77400" cy="815760"/>
              <a:chOff x="4254840" y="5416560"/>
              <a:chExt cx="77400" cy="815760"/>
            </a:xfrm>
          </p:grpSpPr>
          <p:sp>
            <p:nvSpPr>
              <p:cNvPr id="1459" name=""/>
              <p:cNvSpPr/>
              <p:nvPr/>
            </p:nvSpPr>
            <p:spPr>
              <a:xfrm flipH="1" flipV="1">
                <a:off x="4292640" y="5416560"/>
                <a:ext cx="39240" cy="815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4254840" y="5416560"/>
                <a:ext cx="39240" cy="815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"/>
            <p:cNvGrpSpPr/>
            <p:nvPr/>
          </p:nvGrpSpPr>
          <p:grpSpPr>
            <a:xfrm>
              <a:off x="4177080" y="4565520"/>
              <a:ext cx="77400" cy="850680"/>
              <a:chOff x="4177080" y="4565520"/>
              <a:chExt cx="77400" cy="85068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421488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17708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"/>
            <p:cNvGrpSpPr/>
            <p:nvPr/>
          </p:nvGrpSpPr>
          <p:grpSpPr>
            <a:xfrm>
              <a:off x="4098600" y="5416560"/>
              <a:ext cx="77760" cy="909360"/>
              <a:chOff x="4098600" y="5416560"/>
              <a:chExt cx="77760" cy="909360"/>
            </a:xfrm>
          </p:grpSpPr>
          <p:sp>
            <p:nvSpPr>
              <p:cNvPr id="1465" name=""/>
              <p:cNvSpPr/>
              <p:nvPr/>
            </p:nvSpPr>
            <p:spPr>
              <a:xfrm flipH="1" flipV="1">
                <a:off x="413676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409860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4021200" y="4491000"/>
              <a:ext cx="77400" cy="925200"/>
              <a:chOff x="4021200" y="4491000"/>
              <a:chExt cx="77400" cy="92520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405900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02120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3943440" y="5416560"/>
              <a:ext cx="77400" cy="941040"/>
              <a:chOff x="3943440" y="5416560"/>
              <a:chExt cx="77400" cy="941040"/>
            </a:xfrm>
          </p:grpSpPr>
          <p:sp>
            <p:nvSpPr>
              <p:cNvPr id="1471" name=""/>
              <p:cNvSpPr/>
              <p:nvPr/>
            </p:nvSpPr>
            <p:spPr>
              <a:xfrm flipH="1" flipV="1">
                <a:off x="3981240" y="5416560"/>
                <a:ext cx="39240" cy="941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3943440" y="5416560"/>
                <a:ext cx="39240" cy="941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3865680" y="4491000"/>
              <a:ext cx="77400" cy="925200"/>
              <a:chOff x="3865680" y="4491000"/>
              <a:chExt cx="77400" cy="92520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390348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865680" y="4491000"/>
                <a:ext cx="39240" cy="925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3787920" y="5416560"/>
              <a:ext cx="77400" cy="909360"/>
              <a:chOff x="3787920" y="5416560"/>
              <a:chExt cx="77400" cy="909360"/>
            </a:xfrm>
          </p:grpSpPr>
          <p:sp>
            <p:nvSpPr>
              <p:cNvPr id="1477" name=""/>
              <p:cNvSpPr/>
              <p:nvPr/>
            </p:nvSpPr>
            <p:spPr>
              <a:xfrm flipH="1" flipV="1">
                <a:off x="382572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3787920" y="5416560"/>
                <a:ext cx="39240" cy="909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3710160" y="4565520"/>
              <a:ext cx="77400" cy="850680"/>
              <a:chOff x="3710160" y="4565520"/>
              <a:chExt cx="77400" cy="85068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374796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710160" y="4565520"/>
                <a:ext cx="39240" cy="85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3632400" y="5416920"/>
              <a:ext cx="77400" cy="812520"/>
              <a:chOff x="3632400" y="5416920"/>
              <a:chExt cx="77400" cy="812520"/>
            </a:xfrm>
          </p:grpSpPr>
          <p:sp>
            <p:nvSpPr>
              <p:cNvPr id="1483" name=""/>
              <p:cNvSpPr/>
              <p:nvPr/>
            </p:nvSpPr>
            <p:spPr>
              <a:xfrm flipH="1" flipV="1">
                <a:off x="367020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3632400" y="5416560"/>
                <a:ext cx="39240" cy="812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3554640" y="4680000"/>
              <a:ext cx="77400" cy="736200"/>
              <a:chOff x="3554640" y="4680000"/>
              <a:chExt cx="77400" cy="73620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359244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554640" y="4680000"/>
                <a:ext cx="39240" cy="736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3472200" y="5416200"/>
              <a:ext cx="77400" cy="677880"/>
              <a:chOff x="3472200" y="5416200"/>
              <a:chExt cx="77400" cy="677880"/>
            </a:xfrm>
          </p:grpSpPr>
          <p:sp>
            <p:nvSpPr>
              <p:cNvPr id="1489" name=""/>
              <p:cNvSpPr/>
              <p:nvPr/>
            </p:nvSpPr>
            <p:spPr>
              <a:xfrm flipH="1" flipV="1">
                <a:off x="351000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3472200" y="5415840"/>
                <a:ext cx="39240" cy="677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3394440" y="4799160"/>
              <a:ext cx="77400" cy="617400"/>
              <a:chOff x="3394440" y="4799160"/>
              <a:chExt cx="77400" cy="61740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3432240" y="4799160"/>
                <a:ext cx="39240" cy="6174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394440" y="4799160"/>
                <a:ext cx="39240" cy="6174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3316680" y="5416200"/>
              <a:ext cx="77400" cy="571320"/>
              <a:chOff x="3316680" y="5416200"/>
              <a:chExt cx="77400" cy="571320"/>
            </a:xfrm>
          </p:grpSpPr>
          <p:sp>
            <p:nvSpPr>
              <p:cNvPr id="1495" name=""/>
              <p:cNvSpPr/>
              <p:nvPr/>
            </p:nvSpPr>
            <p:spPr>
              <a:xfrm flipH="1" flipV="1">
                <a:off x="335448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V="1">
                <a:off x="3316680" y="5415840"/>
                <a:ext cx="39240" cy="5713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3238200" y="4903920"/>
              <a:ext cx="77760" cy="512640"/>
              <a:chOff x="3238200" y="4903920"/>
              <a:chExt cx="77760" cy="5126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3276360" y="4903920"/>
                <a:ext cx="39240" cy="512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38200" y="4903920"/>
                <a:ext cx="39240" cy="512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3160800" y="5416200"/>
              <a:ext cx="77400" cy="490680"/>
              <a:chOff x="3160800" y="5416200"/>
              <a:chExt cx="77400" cy="490680"/>
            </a:xfrm>
          </p:grpSpPr>
          <p:sp>
            <p:nvSpPr>
              <p:cNvPr id="1501" name=""/>
              <p:cNvSpPr/>
              <p:nvPr/>
            </p:nvSpPr>
            <p:spPr>
              <a:xfrm flipH="1" flipV="1">
                <a:off x="319860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V="1">
                <a:off x="3160800" y="5415840"/>
                <a:ext cx="39240" cy="4906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4410000" y="5416560"/>
              <a:ext cx="77760" cy="677520"/>
              <a:chOff x="4410000" y="5416560"/>
              <a:chExt cx="77760" cy="677520"/>
            </a:xfrm>
          </p:grpSpPr>
          <p:sp>
            <p:nvSpPr>
              <p:cNvPr id="1504" name=""/>
              <p:cNvSpPr/>
              <p:nvPr/>
            </p:nvSpPr>
            <p:spPr>
              <a:xfrm flipV="1">
                <a:off x="4410000" y="5416560"/>
                <a:ext cx="39600" cy="67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4448160" y="5416560"/>
                <a:ext cx="39600" cy="677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4565520" y="5416200"/>
              <a:ext cx="77760" cy="570600"/>
              <a:chOff x="4565520" y="5416200"/>
              <a:chExt cx="77760" cy="570600"/>
            </a:xfrm>
          </p:grpSpPr>
          <p:sp>
            <p:nvSpPr>
              <p:cNvPr id="1507" name=""/>
              <p:cNvSpPr/>
              <p:nvPr/>
            </p:nvSpPr>
            <p:spPr>
              <a:xfrm flipV="1">
                <a:off x="4565520" y="5415840"/>
                <a:ext cx="39600" cy="570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4603680" y="5415840"/>
                <a:ext cx="39600" cy="570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4643280" y="4889520"/>
              <a:ext cx="77760" cy="525600"/>
              <a:chOff x="4643280" y="4889520"/>
              <a:chExt cx="77760" cy="525600"/>
            </a:xfrm>
          </p:grpSpPr>
          <p:sp>
            <p:nvSpPr>
              <p:cNvPr id="1510" name=""/>
              <p:cNvSpPr/>
              <p:nvPr/>
            </p:nvSpPr>
            <p:spPr>
              <a:xfrm>
                <a:off x="4643280" y="4889520"/>
                <a:ext cx="39600" cy="525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4681440" y="4889520"/>
                <a:ext cx="39600" cy="525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4721040" y="5416200"/>
              <a:ext cx="77760" cy="504360"/>
              <a:chOff x="4721040" y="5416200"/>
              <a:chExt cx="77760" cy="504360"/>
            </a:xfrm>
          </p:grpSpPr>
          <p:sp>
            <p:nvSpPr>
              <p:cNvPr id="1513" name=""/>
              <p:cNvSpPr/>
              <p:nvPr/>
            </p:nvSpPr>
            <p:spPr>
              <a:xfrm flipV="1">
                <a:off x="4721040" y="5415840"/>
                <a:ext cx="39600" cy="504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4759200" y="5415840"/>
                <a:ext cx="39600" cy="504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6056640" y="4675320"/>
              <a:ext cx="77400" cy="740880"/>
              <a:chOff x="6056640" y="4675320"/>
              <a:chExt cx="77400" cy="740880"/>
            </a:xfrm>
          </p:grpSpPr>
          <p:sp>
            <p:nvSpPr>
              <p:cNvPr id="1516" name=""/>
              <p:cNvSpPr/>
              <p:nvPr/>
            </p:nvSpPr>
            <p:spPr>
              <a:xfrm flipH="1">
                <a:off x="609444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05664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5978880" y="5416560"/>
              <a:ext cx="77400" cy="817200"/>
              <a:chOff x="5978880" y="5416560"/>
              <a:chExt cx="77400" cy="817200"/>
            </a:xfrm>
          </p:grpSpPr>
          <p:sp>
            <p:nvSpPr>
              <p:cNvPr id="1519" name=""/>
              <p:cNvSpPr/>
              <p:nvPr/>
            </p:nvSpPr>
            <p:spPr>
              <a:xfrm flipH="1" flipV="1">
                <a:off x="601668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597888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901120" y="4570560"/>
              <a:ext cx="77400" cy="845640"/>
              <a:chOff x="5901120" y="4570560"/>
              <a:chExt cx="77400" cy="845640"/>
            </a:xfrm>
          </p:grpSpPr>
          <p:sp>
            <p:nvSpPr>
              <p:cNvPr id="1522" name=""/>
              <p:cNvSpPr/>
              <p:nvPr/>
            </p:nvSpPr>
            <p:spPr>
              <a:xfrm flipH="1">
                <a:off x="593892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90112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5822640" y="5416920"/>
              <a:ext cx="77760" cy="907560"/>
              <a:chOff x="5822640" y="5416920"/>
              <a:chExt cx="77760" cy="907560"/>
            </a:xfrm>
          </p:grpSpPr>
          <p:sp>
            <p:nvSpPr>
              <p:cNvPr id="1525" name=""/>
              <p:cNvSpPr/>
              <p:nvPr/>
            </p:nvSpPr>
            <p:spPr>
              <a:xfrm flipH="1" flipV="1">
                <a:off x="586080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582264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5745240" y="4500720"/>
              <a:ext cx="77400" cy="915480"/>
              <a:chOff x="5745240" y="4500720"/>
              <a:chExt cx="77400" cy="915480"/>
            </a:xfrm>
          </p:grpSpPr>
          <p:sp>
            <p:nvSpPr>
              <p:cNvPr id="1528" name=""/>
              <p:cNvSpPr/>
              <p:nvPr/>
            </p:nvSpPr>
            <p:spPr>
              <a:xfrm flipH="1">
                <a:off x="578304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74524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5667480" y="5416560"/>
              <a:ext cx="77400" cy="933120"/>
              <a:chOff x="5667480" y="5416560"/>
              <a:chExt cx="77400" cy="933120"/>
            </a:xfrm>
          </p:grpSpPr>
          <p:sp>
            <p:nvSpPr>
              <p:cNvPr id="1531" name=""/>
              <p:cNvSpPr/>
              <p:nvPr/>
            </p:nvSpPr>
            <p:spPr>
              <a:xfrm flipH="1" flipV="1">
                <a:off x="5705280" y="5416560"/>
                <a:ext cx="39240" cy="933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667480" y="5416560"/>
                <a:ext cx="39240" cy="933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5589720" y="4500720"/>
              <a:ext cx="77400" cy="915480"/>
              <a:chOff x="5589720" y="4500720"/>
              <a:chExt cx="77400" cy="915480"/>
            </a:xfrm>
          </p:grpSpPr>
          <p:sp>
            <p:nvSpPr>
              <p:cNvPr id="1534" name=""/>
              <p:cNvSpPr/>
              <p:nvPr/>
            </p:nvSpPr>
            <p:spPr>
              <a:xfrm flipH="1">
                <a:off x="562752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589720" y="4500720"/>
                <a:ext cx="39240" cy="9154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5511960" y="5416920"/>
              <a:ext cx="77400" cy="907560"/>
              <a:chOff x="5511960" y="5416920"/>
              <a:chExt cx="77400" cy="907560"/>
            </a:xfrm>
          </p:grpSpPr>
          <p:sp>
            <p:nvSpPr>
              <p:cNvPr id="1537" name=""/>
              <p:cNvSpPr/>
              <p:nvPr/>
            </p:nvSpPr>
            <p:spPr>
              <a:xfrm flipH="1" flipV="1">
                <a:off x="554976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5511960" y="5416560"/>
                <a:ext cx="39240" cy="9075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5434200" y="4570560"/>
              <a:ext cx="77400" cy="845640"/>
              <a:chOff x="5434200" y="4570560"/>
              <a:chExt cx="77400" cy="845640"/>
            </a:xfrm>
          </p:grpSpPr>
          <p:sp>
            <p:nvSpPr>
              <p:cNvPr id="1540" name=""/>
              <p:cNvSpPr/>
              <p:nvPr/>
            </p:nvSpPr>
            <p:spPr>
              <a:xfrm flipH="1">
                <a:off x="547200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434200" y="4570560"/>
                <a:ext cx="39240" cy="8456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5356440" y="5416560"/>
              <a:ext cx="77400" cy="817200"/>
              <a:chOff x="5356440" y="5416560"/>
              <a:chExt cx="77400" cy="817200"/>
            </a:xfrm>
          </p:grpSpPr>
          <p:sp>
            <p:nvSpPr>
              <p:cNvPr id="1543" name=""/>
              <p:cNvSpPr/>
              <p:nvPr/>
            </p:nvSpPr>
            <p:spPr>
              <a:xfrm flipH="1" flipV="1">
                <a:off x="539424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5356440" y="5416560"/>
                <a:ext cx="39240" cy="817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5278680" y="4675320"/>
              <a:ext cx="77400" cy="740880"/>
              <a:chOff x="5278680" y="4675320"/>
              <a:chExt cx="77400" cy="740880"/>
            </a:xfrm>
          </p:grpSpPr>
          <p:sp>
            <p:nvSpPr>
              <p:cNvPr id="1546" name=""/>
              <p:cNvSpPr/>
              <p:nvPr/>
            </p:nvSpPr>
            <p:spPr>
              <a:xfrm flipH="1">
                <a:off x="531648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78680" y="4675320"/>
                <a:ext cx="39240" cy="74088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5196240" y="5416920"/>
              <a:ext cx="77400" cy="696600"/>
              <a:chOff x="5196240" y="5416920"/>
              <a:chExt cx="77400" cy="696600"/>
            </a:xfrm>
          </p:grpSpPr>
          <p:sp>
            <p:nvSpPr>
              <p:cNvPr id="1549" name=""/>
              <p:cNvSpPr/>
              <p:nvPr/>
            </p:nvSpPr>
            <p:spPr>
              <a:xfrm flipH="1" flipV="1">
                <a:off x="5234040" y="5416560"/>
                <a:ext cx="39240" cy="696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5196240" y="5416560"/>
                <a:ext cx="39240" cy="696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5118480" y="4786200"/>
              <a:ext cx="77400" cy="630360"/>
              <a:chOff x="5118480" y="4786200"/>
              <a:chExt cx="77400" cy="630360"/>
            </a:xfrm>
          </p:grpSpPr>
          <p:sp>
            <p:nvSpPr>
              <p:cNvPr id="1552" name=""/>
              <p:cNvSpPr/>
              <p:nvPr/>
            </p:nvSpPr>
            <p:spPr>
              <a:xfrm flipH="1">
                <a:off x="5156280" y="4786200"/>
                <a:ext cx="39240" cy="630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118480" y="4786200"/>
                <a:ext cx="39240" cy="6303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5040000" y="5416560"/>
              <a:ext cx="77760" cy="579600"/>
              <a:chOff x="5040000" y="5416560"/>
              <a:chExt cx="77760" cy="579600"/>
            </a:xfrm>
          </p:grpSpPr>
          <p:sp>
            <p:nvSpPr>
              <p:cNvPr id="1555" name=""/>
              <p:cNvSpPr/>
              <p:nvPr/>
            </p:nvSpPr>
            <p:spPr>
              <a:xfrm flipH="1" flipV="1">
                <a:off x="5078160" y="5416560"/>
                <a:ext cx="39240" cy="579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040000" y="5416560"/>
                <a:ext cx="39240" cy="5796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962600" y="4889520"/>
              <a:ext cx="77400" cy="527040"/>
              <a:chOff x="4962600" y="4889520"/>
              <a:chExt cx="77400" cy="527040"/>
            </a:xfrm>
          </p:grpSpPr>
          <p:sp>
            <p:nvSpPr>
              <p:cNvPr id="1558" name=""/>
              <p:cNvSpPr/>
              <p:nvPr/>
            </p:nvSpPr>
            <p:spPr>
              <a:xfrm flipH="1">
                <a:off x="500040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962600" y="4889520"/>
                <a:ext cx="39240" cy="52704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4884840" y="5416200"/>
              <a:ext cx="77400" cy="507960"/>
              <a:chOff x="4884840" y="5416200"/>
              <a:chExt cx="77400" cy="507960"/>
            </a:xfrm>
          </p:grpSpPr>
          <p:sp>
            <p:nvSpPr>
              <p:cNvPr id="1561" name=""/>
              <p:cNvSpPr/>
              <p:nvPr/>
            </p:nvSpPr>
            <p:spPr>
              <a:xfrm flipH="1" flipV="1">
                <a:off x="4922640" y="5415840"/>
                <a:ext cx="39240" cy="5079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4884840" y="5415840"/>
                <a:ext cx="39240" cy="5079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 flipV="1">
              <a:off x="6134040" y="54158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flipV="1">
              <a:off x="6172200" y="5415840"/>
              <a:ext cx="39600" cy="62244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6211800" y="4805280"/>
              <a:ext cx="77760" cy="610920"/>
              <a:chOff x="6211800" y="4805280"/>
              <a:chExt cx="77760" cy="610920"/>
            </a:xfrm>
          </p:grpSpPr>
          <p:sp>
            <p:nvSpPr>
              <p:cNvPr id="1566" name=""/>
              <p:cNvSpPr/>
              <p:nvPr/>
            </p:nvSpPr>
            <p:spPr>
              <a:xfrm>
                <a:off x="6211800" y="4805280"/>
                <a:ext cx="39600" cy="6109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6249960" y="4805280"/>
                <a:ext cx="39600" cy="6109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6289560" y="5416200"/>
              <a:ext cx="77760" cy="559800"/>
              <a:chOff x="6289560" y="5416200"/>
              <a:chExt cx="77760" cy="559800"/>
            </a:xfrm>
          </p:grpSpPr>
          <p:sp>
            <p:nvSpPr>
              <p:cNvPr id="1569" name=""/>
              <p:cNvSpPr/>
              <p:nvPr/>
            </p:nvSpPr>
            <p:spPr>
              <a:xfrm flipV="1">
                <a:off x="6289560" y="5415840"/>
                <a:ext cx="39600" cy="559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 flipV="1">
                <a:off x="6327720" y="5415840"/>
                <a:ext cx="39600" cy="5598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6367320" y="4908600"/>
              <a:ext cx="77760" cy="506520"/>
              <a:chOff x="6367320" y="4908600"/>
              <a:chExt cx="77760" cy="506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6367320" y="4908600"/>
                <a:ext cx="39600" cy="506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405480" y="4908600"/>
                <a:ext cx="39600" cy="506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445080" y="5416560"/>
              <a:ext cx="77760" cy="501120"/>
              <a:chOff x="6445080" y="5416560"/>
              <a:chExt cx="77760" cy="501120"/>
            </a:xfrm>
          </p:grpSpPr>
          <p:sp>
            <p:nvSpPr>
              <p:cNvPr id="1575" name=""/>
              <p:cNvSpPr/>
              <p:nvPr/>
            </p:nvSpPr>
            <p:spPr>
              <a:xfrm flipV="1">
                <a:off x="6445080" y="5416560"/>
                <a:ext cx="39600" cy="501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6483240" y="5416560"/>
                <a:ext cx="39600" cy="5011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798800" y="4933800"/>
              <a:ext cx="77400" cy="482760"/>
              <a:chOff x="4798800" y="4933800"/>
              <a:chExt cx="77400" cy="482760"/>
            </a:xfrm>
          </p:grpSpPr>
          <p:sp>
            <p:nvSpPr>
              <p:cNvPr id="1578" name=""/>
              <p:cNvSpPr/>
              <p:nvPr/>
            </p:nvSpPr>
            <p:spPr>
              <a:xfrm>
                <a:off x="479880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4836600" y="4933800"/>
                <a:ext cx="39240" cy="48276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6686640" y="4883040"/>
              <a:ext cx="77400" cy="533520"/>
              <a:chOff x="6686640" y="4883040"/>
              <a:chExt cx="77400" cy="533520"/>
            </a:xfrm>
          </p:grpSpPr>
          <p:sp>
            <p:nvSpPr>
              <p:cNvPr id="1581" name=""/>
              <p:cNvSpPr/>
              <p:nvPr/>
            </p:nvSpPr>
            <p:spPr>
              <a:xfrm flipH="1">
                <a:off x="6724440" y="4883040"/>
                <a:ext cx="39240" cy="533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686640" y="4883040"/>
                <a:ext cx="39240" cy="5335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6608880" y="5416560"/>
              <a:ext cx="77400" cy="504720"/>
              <a:chOff x="6608880" y="5416560"/>
              <a:chExt cx="77400" cy="504720"/>
            </a:xfrm>
          </p:grpSpPr>
          <p:sp>
            <p:nvSpPr>
              <p:cNvPr id="1584" name=""/>
              <p:cNvSpPr/>
              <p:nvPr/>
            </p:nvSpPr>
            <p:spPr>
              <a:xfrm flipH="1" flipV="1">
                <a:off x="6646680" y="5416560"/>
                <a:ext cx="39240" cy="5047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608880" y="5416560"/>
                <a:ext cx="39240" cy="50472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6522840" y="4932360"/>
              <a:ext cx="77400" cy="484200"/>
              <a:chOff x="6522840" y="4932360"/>
              <a:chExt cx="77400" cy="484200"/>
            </a:xfrm>
          </p:grpSpPr>
          <p:sp>
            <p:nvSpPr>
              <p:cNvPr id="1587" name=""/>
              <p:cNvSpPr/>
              <p:nvPr/>
            </p:nvSpPr>
            <p:spPr>
              <a:xfrm>
                <a:off x="6522840" y="4932360"/>
                <a:ext cx="39240" cy="484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6560640" y="4932360"/>
                <a:ext cx="39240" cy="484200"/>
              </a:xfrm>
              <a:custGeom>
                <a:avLst/>
                <a:gdLst/>
                <a:ahLst/>
                <a:rect l="l" t="t" r="r" b="b"/>
                <a:pathLst>
                  <a:path w="283" h="433">
                    <a:moveTo>
                      <a:pt x="0" y="433"/>
                    </a:moveTo>
                    <a:lnTo>
                      <a:pt x="58" y="299"/>
                    </a:lnTo>
                    <a:lnTo>
                      <a:pt x="116" y="177"/>
                    </a:lnTo>
                    <a:lnTo>
                      <a:pt x="143" y="128"/>
                    </a:lnTo>
                    <a:lnTo>
                      <a:pt x="175" y="78"/>
                    </a:lnTo>
                    <a:lnTo>
                      <a:pt x="215" y="33"/>
                    </a:lnTo>
                    <a:lnTo>
                      <a:pt x="241" y="13"/>
                    </a:lnTo>
                    <a:lnTo>
                      <a:pt x="269" y="1"/>
                    </a:lnTo>
                    <a:lnTo>
                      <a:pt x="283" y="0"/>
                    </a:ln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9" name=""/>
          <p:cNvGrpSpPr/>
          <p:nvPr/>
        </p:nvGrpSpPr>
        <p:grpSpPr>
          <a:xfrm>
            <a:off x="1836720" y="4495680"/>
            <a:ext cx="857160" cy="219240"/>
            <a:chOff x="1836720" y="4495680"/>
            <a:chExt cx="857160" cy="219240"/>
          </a:xfrm>
        </p:grpSpPr>
        <p:sp>
          <p:nvSpPr>
            <p:cNvPr id="1590" name=""/>
            <p:cNvSpPr/>
            <p:nvPr/>
          </p:nvSpPr>
          <p:spPr>
            <a:xfrm>
              <a:off x="1836720" y="4495680"/>
              <a:ext cx="428400" cy="21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265120" y="4495680"/>
              <a:ext cx="428760" cy="219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836720" y="6127920"/>
            <a:ext cx="857160" cy="218880"/>
            <a:chOff x="1836720" y="6127920"/>
            <a:chExt cx="857160" cy="218880"/>
          </a:xfrm>
        </p:grpSpPr>
        <p:sp>
          <p:nvSpPr>
            <p:cNvPr id="1593" name=""/>
            <p:cNvSpPr/>
            <p:nvPr/>
          </p:nvSpPr>
          <p:spPr>
            <a:xfrm flipV="1">
              <a:off x="1836720" y="6127920"/>
              <a:ext cx="42840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2265120" y="6127920"/>
              <a:ext cx="42876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1833480" y="4708440"/>
            <a:ext cx="77400" cy="730080"/>
            <a:chOff x="1833480" y="4708440"/>
            <a:chExt cx="77400" cy="730080"/>
          </a:xfrm>
        </p:grpSpPr>
        <p:sp>
          <p:nvSpPr>
            <p:cNvPr id="1596" name=""/>
            <p:cNvSpPr/>
            <p:nvPr/>
          </p:nvSpPr>
          <p:spPr>
            <a:xfrm>
              <a:off x="1833480" y="4708440"/>
              <a:ext cx="39240" cy="7300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1871280" y="4708440"/>
              <a:ext cx="39240" cy="7300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911240" y="5438880"/>
            <a:ext cx="77400" cy="794880"/>
            <a:chOff x="1911240" y="5438880"/>
            <a:chExt cx="77400" cy="794880"/>
          </a:xfrm>
        </p:grpSpPr>
        <p:sp>
          <p:nvSpPr>
            <p:cNvPr id="1599" name=""/>
            <p:cNvSpPr/>
            <p:nvPr/>
          </p:nvSpPr>
          <p:spPr>
            <a:xfrm flipV="1">
              <a:off x="1911240" y="5438880"/>
              <a:ext cx="39240" cy="794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flipV="1">
              <a:off x="1949040" y="5438880"/>
              <a:ext cx="39240" cy="79488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989000" y="4586400"/>
            <a:ext cx="77400" cy="852120"/>
            <a:chOff x="1989000" y="4586400"/>
            <a:chExt cx="77400" cy="852120"/>
          </a:xfrm>
        </p:grpSpPr>
        <p:sp>
          <p:nvSpPr>
            <p:cNvPr id="1602" name=""/>
            <p:cNvSpPr/>
            <p:nvPr/>
          </p:nvSpPr>
          <p:spPr>
            <a:xfrm>
              <a:off x="1989000" y="4586400"/>
              <a:ext cx="39240" cy="8521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026800" y="4586400"/>
              <a:ext cx="39240" cy="85212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1756080" y="5438880"/>
            <a:ext cx="77400" cy="682560"/>
            <a:chOff x="1756080" y="5438880"/>
            <a:chExt cx="77400" cy="682560"/>
          </a:xfrm>
        </p:grpSpPr>
        <p:sp>
          <p:nvSpPr>
            <p:cNvPr id="1605" name=""/>
            <p:cNvSpPr/>
            <p:nvPr/>
          </p:nvSpPr>
          <p:spPr>
            <a:xfrm flipH="1" flipV="1">
              <a:off x="1793880" y="5438880"/>
              <a:ext cx="39240" cy="6825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1756080" y="5438880"/>
              <a:ext cx="39240" cy="6825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1678320" y="4808520"/>
            <a:ext cx="77400" cy="630360"/>
            <a:chOff x="1678320" y="4808520"/>
            <a:chExt cx="77400" cy="630360"/>
          </a:xfrm>
        </p:grpSpPr>
        <p:sp>
          <p:nvSpPr>
            <p:cNvPr id="1608" name=""/>
            <p:cNvSpPr/>
            <p:nvPr/>
          </p:nvSpPr>
          <p:spPr>
            <a:xfrm flipH="1">
              <a:off x="1716120" y="4808520"/>
              <a:ext cx="39240" cy="6303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678320" y="4808520"/>
              <a:ext cx="39240" cy="6303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1600560" y="5438880"/>
            <a:ext cx="77400" cy="588960"/>
            <a:chOff x="1600560" y="5438880"/>
            <a:chExt cx="77400" cy="588960"/>
          </a:xfrm>
        </p:grpSpPr>
        <p:sp>
          <p:nvSpPr>
            <p:cNvPr id="1611" name=""/>
            <p:cNvSpPr/>
            <p:nvPr/>
          </p:nvSpPr>
          <p:spPr>
            <a:xfrm flipH="1" flipV="1">
              <a:off x="1638360" y="5438880"/>
              <a:ext cx="39240" cy="5889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1600560" y="5438880"/>
              <a:ext cx="39240" cy="588960"/>
            </a:xfrm>
            <a:custGeom>
              <a:avLst/>
              <a:gdLst/>
              <a:ahLst/>
              <a:rect l="l" t="t" r="r" b="b"/>
              <a:pathLst>
                <a:path w="283" h="433">
                  <a:moveTo>
                    <a:pt x="0" y="433"/>
                  </a:moveTo>
                  <a:lnTo>
                    <a:pt x="58" y="299"/>
                  </a:lnTo>
                  <a:lnTo>
                    <a:pt x="116" y="177"/>
                  </a:lnTo>
                  <a:lnTo>
                    <a:pt x="143" y="128"/>
                  </a:lnTo>
                  <a:lnTo>
                    <a:pt x="175" y="78"/>
                  </a:lnTo>
                  <a:lnTo>
                    <a:pt x="215" y="33"/>
                  </a:lnTo>
                  <a:lnTo>
                    <a:pt x="241" y="13"/>
                  </a:lnTo>
                  <a:lnTo>
                    <a:pt x="269" y="1"/>
                  </a:lnTo>
                  <a:lnTo>
                    <a:pt x="283" y="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1601640" y="4495680"/>
            <a:ext cx="5164200" cy="1851120"/>
            <a:chOff x="1601640" y="4495680"/>
            <a:chExt cx="5164200" cy="1851120"/>
          </a:xfrm>
        </p:grpSpPr>
        <p:grpSp>
          <p:nvGrpSpPr>
            <p:cNvPr id="1614" name=""/>
            <p:cNvGrpSpPr/>
            <p:nvPr/>
          </p:nvGrpSpPr>
          <p:grpSpPr>
            <a:xfrm>
              <a:off x="1601640" y="5908320"/>
              <a:ext cx="5164200" cy="438480"/>
              <a:chOff x="1601640" y="5908320"/>
              <a:chExt cx="5164200" cy="438480"/>
            </a:xfrm>
          </p:grpSpPr>
          <p:grpSp>
            <p:nvGrpSpPr>
              <p:cNvPr id="1615" name=""/>
              <p:cNvGrpSpPr/>
              <p:nvPr/>
            </p:nvGrpSpPr>
            <p:grpSpPr>
              <a:xfrm>
                <a:off x="2693880" y="5908320"/>
                <a:ext cx="856800" cy="219240"/>
                <a:chOff x="2693880" y="5908320"/>
                <a:chExt cx="856800" cy="219240"/>
              </a:xfrm>
            </p:grpSpPr>
            <p:sp>
              <p:nvSpPr>
                <p:cNvPr id="1616" name=""/>
                <p:cNvSpPr/>
                <p:nvPr/>
              </p:nvSpPr>
              <p:spPr>
                <a:xfrm flipV="1">
                  <a:off x="2693880" y="5907960"/>
                  <a:ext cx="428400" cy="219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V="1">
                  <a:off x="3122280" y="5907960"/>
                  <a:ext cx="428400" cy="2192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3551040" y="5908680"/>
                <a:ext cx="1714320" cy="437760"/>
                <a:chOff x="3551040" y="5908680"/>
                <a:chExt cx="1714320" cy="437760"/>
              </a:xfrm>
            </p:grpSpPr>
            <p:grpSp>
              <p:nvGrpSpPr>
                <p:cNvPr id="1619" name=""/>
                <p:cNvGrpSpPr/>
                <p:nvPr/>
              </p:nvGrpSpPr>
              <p:grpSpPr>
                <a:xfrm>
                  <a:off x="3551040" y="6127560"/>
                  <a:ext cx="855720" cy="218880"/>
                  <a:chOff x="3551040" y="6127560"/>
                  <a:chExt cx="855720" cy="21888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 flipV="1">
                    <a:off x="3551040" y="612756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3979080" y="612756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2" name=""/>
                <p:cNvGrpSpPr/>
                <p:nvPr/>
              </p:nvGrpSpPr>
              <p:grpSpPr>
                <a:xfrm>
                  <a:off x="4408560" y="5908680"/>
                  <a:ext cx="856800" cy="218880"/>
                  <a:chOff x="4408560" y="5908680"/>
                  <a:chExt cx="856800" cy="218880"/>
                </a:xfrm>
              </p:grpSpPr>
              <p:sp>
                <p:nvSpPr>
                  <p:cNvPr id="1623" name=""/>
                  <p:cNvSpPr/>
                  <p:nvPr/>
                </p:nvSpPr>
                <p:spPr>
                  <a:xfrm flipV="1">
                    <a:off x="4408560" y="590868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flipV="1">
                    <a:off x="4837320" y="590868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5" name=""/>
              <p:cNvGrpSpPr/>
              <p:nvPr/>
            </p:nvGrpSpPr>
            <p:grpSpPr>
              <a:xfrm>
                <a:off x="5263920" y="5908320"/>
                <a:ext cx="1501920" cy="438480"/>
                <a:chOff x="5263920" y="5908320"/>
                <a:chExt cx="1501920" cy="438480"/>
              </a:xfrm>
            </p:grpSpPr>
            <p:grpSp>
              <p:nvGrpSpPr>
                <p:cNvPr id="1626" name=""/>
                <p:cNvGrpSpPr/>
                <p:nvPr/>
              </p:nvGrpSpPr>
              <p:grpSpPr>
                <a:xfrm>
                  <a:off x="5263920" y="6127920"/>
                  <a:ext cx="857160" cy="218880"/>
                  <a:chOff x="5263920" y="6127920"/>
                  <a:chExt cx="857160" cy="21888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 flipV="1">
                    <a:off x="5263920" y="6127920"/>
                    <a:ext cx="428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V="1">
                    <a:off x="5692680" y="6127920"/>
                    <a:ext cx="42840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6121080" y="5908320"/>
                  <a:ext cx="644760" cy="219240"/>
                  <a:chOff x="6121080" y="5908320"/>
                  <a:chExt cx="644760" cy="21924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6121080" y="5907960"/>
                    <a:ext cx="42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549840" y="5908680"/>
                    <a:ext cx="216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41">
                        <a:moveTo>
                          <a:pt x="136" y="41"/>
                        </a:moveTo>
                        <a:lnTo>
                          <a:pt x="122" y="34"/>
                        </a:lnTo>
                        <a:lnTo>
                          <a:pt x="108" y="26"/>
                        </a:lnTo>
                        <a:lnTo>
                          <a:pt x="95" y="21"/>
                        </a:lnTo>
                        <a:lnTo>
                          <a:pt x="82" y="16"/>
                        </a:lnTo>
                        <a:lnTo>
                          <a:pt x="68" y="11"/>
                        </a:lnTo>
                        <a:lnTo>
                          <a:pt x="54" y="7"/>
                        </a:lnTo>
                        <a:lnTo>
                          <a:pt x="41" y="4"/>
                        </a:lnTo>
                        <a:lnTo>
                          <a:pt x="28" y="2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601640" y="5962680"/>
                <a:ext cx="233280" cy="16524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147" y="104"/>
                    </a:moveTo>
                    <a:lnTo>
                      <a:pt x="134" y="93"/>
                    </a:lnTo>
                    <a:lnTo>
                      <a:pt x="122" y="83"/>
                    </a:lnTo>
                    <a:lnTo>
                      <a:pt x="108" y="72"/>
                    </a:lnTo>
                    <a:lnTo>
                      <a:pt x="95" y="61"/>
                    </a:lnTo>
                    <a:lnTo>
                      <a:pt x="80" y="51"/>
                    </a:lnTo>
                    <a:lnTo>
                      <a:pt x="68" y="42"/>
                    </a:lnTo>
                    <a:lnTo>
                      <a:pt x="53" y="32"/>
                    </a:lnTo>
                    <a:lnTo>
                      <a:pt x="40" y="23"/>
                    </a:lnTo>
                    <a:lnTo>
                      <a:pt x="27" y="15"/>
                    </a:lnTo>
                    <a:lnTo>
                      <a:pt x="14" y="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3" name=""/>
            <p:cNvGrpSpPr/>
            <p:nvPr/>
          </p:nvGrpSpPr>
          <p:grpSpPr>
            <a:xfrm>
              <a:off x="1601640" y="4495680"/>
              <a:ext cx="5164200" cy="438120"/>
              <a:chOff x="1601640" y="4495680"/>
              <a:chExt cx="5164200" cy="43812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3551040" y="4495680"/>
                <a:ext cx="1714320" cy="437760"/>
                <a:chOff x="3551040" y="4495680"/>
                <a:chExt cx="1714320" cy="43776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3551040" y="4495680"/>
                  <a:ext cx="855720" cy="218880"/>
                  <a:chOff x="3551040" y="4495680"/>
                  <a:chExt cx="855720" cy="218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3551040" y="449568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979080" y="449568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4408560" y="4714560"/>
                  <a:ext cx="856800" cy="218880"/>
                  <a:chOff x="4408560" y="4714560"/>
                  <a:chExt cx="856800" cy="21888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4408560" y="4714560"/>
                    <a:ext cx="42768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837320" y="4714560"/>
                    <a:ext cx="42804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5263920" y="4495680"/>
                <a:ext cx="1501920" cy="438120"/>
                <a:chOff x="5263920" y="4495680"/>
                <a:chExt cx="1501920" cy="43812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5263920" y="4495680"/>
                  <a:ext cx="857160" cy="219240"/>
                  <a:chOff x="5263920" y="4495680"/>
                  <a:chExt cx="857160" cy="21924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5263920" y="4495680"/>
                    <a:ext cx="4287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692680" y="4495680"/>
                    <a:ext cx="42840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6121080" y="4714920"/>
                  <a:ext cx="644760" cy="218880"/>
                  <a:chOff x="6121080" y="4714920"/>
                  <a:chExt cx="644760" cy="21888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6121080" y="4714920"/>
                    <a:ext cx="42876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6549840" y="4869000"/>
                    <a:ext cx="2160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41">
                        <a:moveTo>
                          <a:pt x="136" y="0"/>
                        </a:moveTo>
                        <a:lnTo>
                          <a:pt x="122" y="7"/>
                        </a:lnTo>
                        <a:lnTo>
                          <a:pt x="108" y="15"/>
                        </a:lnTo>
                        <a:lnTo>
                          <a:pt x="95" y="20"/>
                        </a:lnTo>
                        <a:lnTo>
                          <a:pt x="82" y="25"/>
                        </a:lnTo>
                        <a:lnTo>
                          <a:pt x="68" y="30"/>
                        </a:lnTo>
                        <a:lnTo>
                          <a:pt x="54" y="34"/>
                        </a:lnTo>
                        <a:lnTo>
                          <a:pt x="41" y="37"/>
                        </a:lnTo>
                        <a:lnTo>
                          <a:pt x="28" y="39"/>
                        </a:lnTo>
                        <a:lnTo>
                          <a:pt x="14" y="41"/>
                        </a:lnTo>
                        <a:lnTo>
                          <a:pt x="0" y="41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8" name=""/>
              <p:cNvGrpSpPr/>
              <p:nvPr/>
            </p:nvGrpSpPr>
            <p:grpSpPr>
              <a:xfrm>
                <a:off x="2693880" y="4714920"/>
                <a:ext cx="856800" cy="218880"/>
                <a:chOff x="2693880" y="4714920"/>
                <a:chExt cx="856800" cy="21888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2693880" y="4714920"/>
                  <a:ext cx="42840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3122280" y="4714920"/>
                  <a:ext cx="42840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1" name=""/>
              <p:cNvSpPr/>
              <p:nvPr/>
            </p:nvSpPr>
            <p:spPr>
              <a:xfrm flipV="1">
                <a:off x="1601640" y="4714920"/>
                <a:ext cx="233280" cy="164880"/>
              </a:xfrm>
              <a:custGeom>
                <a:avLst/>
                <a:gdLst/>
                <a:ahLst/>
                <a:rect l="l" t="t" r="r" b="b"/>
                <a:pathLst>
                  <a:path w="147" h="104">
                    <a:moveTo>
                      <a:pt x="147" y="104"/>
                    </a:moveTo>
                    <a:lnTo>
                      <a:pt x="134" y="93"/>
                    </a:lnTo>
                    <a:lnTo>
                      <a:pt x="122" y="83"/>
                    </a:lnTo>
                    <a:lnTo>
                      <a:pt x="108" y="72"/>
                    </a:lnTo>
                    <a:lnTo>
                      <a:pt x="95" y="61"/>
                    </a:lnTo>
                    <a:lnTo>
                      <a:pt x="80" y="51"/>
                    </a:lnTo>
                    <a:lnTo>
                      <a:pt x="68" y="42"/>
                    </a:lnTo>
                    <a:lnTo>
                      <a:pt x="53" y="32"/>
                    </a:lnTo>
                    <a:lnTo>
                      <a:pt x="40" y="23"/>
                    </a:lnTo>
                    <a:lnTo>
                      <a:pt x="27" y="15"/>
                    </a:lnTo>
                    <a:lnTo>
                      <a:pt x="14" y="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2" name=""/>
          <p:cNvSpPr/>
          <p:nvPr/>
        </p:nvSpPr>
        <p:spPr>
          <a:xfrm>
            <a:off x="611280" y="118908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11280" y="438444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1606680" y="822240"/>
            <a:ext cx="5160960" cy="682560"/>
            <a:chOff x="1606680" y="822240"/>
            <a:chExt cx="5160960" cy="682560"/>
          </a:xfrm>
        </p:grpSpPr>
        <p:sp>
          <p:nvSpPr>
            <p:cNvPr id="1655" name=""/>
            <p:cNvSpPr/>
            <p:nvPr/>
          </p:nvSpPr>
          <p:spPr>
            <a:xfrm>
              <a:off x="1606680" y="1504800"/>
              <a:ext cx="51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37080" y="822240"/>
              <a:ext cx="13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1606680" y="4478400"/>
            <a:ext cx="5160960" cy="236520"/>
            <a:chOff x="1606680" y="4478400"/>
            <a:chExt cx="5160960" cy="236520"/>
          </a:xfrm>
        </p:grpSpPr>
        <p:sp>
          <p:nvSpPr>
            <p:cNvPr id="1658" name=""/>
            <p:cNvSpPr/>
            <p:nvPr/>
          </p:nvSpPr>
          <p:spPr>
            <a:xfrm>
              <a:off x="1606680" y="4714920"/>
              <a:ext cx="516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05640" y="4478400"/>
              <a:ext cx="104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"/>
          <p:cNvSpPr/>
          <p:nvPr/>
        </p:nvSpPr>
        <p:spPr>
          <a:xfrm flipV="1">
            <a:off x="6651720" y="82224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6686640" y="447192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823080" y="807840"/>
            <a:ext cx="117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823080" y="4300560"/>
            <a:ext cx="14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009999"/>
                </a:solidFill>
                <a:latin typeface="Times New Roman"/>
              </a:rPr>
              <a:t>2</a:t>
            </a:r>
            <a:r>
              <a:rPr b="1" lang="es-ES_tradnl" sz="28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7CD-3246-41B5-A8D1-EBA9E6269CFC}" type="slidenum">
              <a:t>69</a:t>
            </a:fld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7424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eamos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scilogram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una palabra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452-E742-4443-99EF-F0DBE211AC48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743040" y="913680"/>
            <a:ext cx="765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define la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unción de transferencia de modulación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743040" y="326016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  =   10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log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m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)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D4C-DD13-4163-B242-AC89F970B7A9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98440" y="565920"/>
            <a:ext cx="854856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l estudio se obtienen 98 valore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k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a función de transferencia de modulación para las envolventes de frecuenci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4000"/>
            </a:b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=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63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a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12,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licadas a bandas de ruido centradas en las frecuencias de octava</a:t>
            </a:r>
            <a:br>
              <a:rPr sz="4000"/>
            </a:b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k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= 125 Hz a 8 kHz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529-D6EF-475D-9D78-A7D798A57284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743040" y="393480"/>
            <a:ext cx="765792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gún Makrinenko, para el estudio se obtienen las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T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para las frecuencias </a:t>
            </a:r>
            <a:br>
              <a:rPr sz="4000"/>
            </a:b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=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,2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25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Hz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luego se calcula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se transferencia de la palabra,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ST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l siguiente mo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533520" y="4728240"/>
            <a:ext cx="8076960" cy="2551320"/>
            <a:chOff x="533520" y="4728240"/>
            <a:chExt cx="8076960" cy="2551320"/>
          </a:xfrm>
        </p:grpSpPr>
        <p:sp>
          <p:nvSpPr>
            <p:cNvPr id="1669" name=""/>
            <p:cNvSpPr/>
            <p:nvPr/>
          </p:nvSpPr>
          <p:spPr>
            <a:xfrm>
              <a:off x="533520" y="5460120"/>
              <a:ext cx="80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99"/>
                  </a:solidFill>
                  <a:latin typeface="Times New Roman"/>
                </a:rPr>
                <a:t>STI   =   ——       —————</a:t>
              </a: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4190760" y="4728240"/>
              <a:ext cx="838080" cy="2551320"/>
              <a:chOff x="4190760" y="4728240"/>
              <a:chExt cx="838080" cy="2551320"/>
            </a:xfrm>
          </p:grpSpPr>
          <p:sp>
            <p:nvSpPr>
              <p:cNvPr id="1671" name=""/>
              <p:cNvSpPr/>
              <p:nvPr/>
            </p:nvSpPr>
            <p:spPr>
              <a:xfrm>
                <a:off x="4190760" y="5276520"/>
                <a:ext cx="8380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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247640" y="5357160"/>
                <a:ext cx="76176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i = </a:t>
                </a:r>
                <a:r>
                  <a:rPr b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1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Times New Roman"/>
                  </a:rPr>
                  <a:t>      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247640" y="4728240"/>
                <a:ext cx="761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99"/>
                    </a:solidFill>
                    <a:latin typeface="Times New Roman"/>
                  </a:rPr>
                  <a:t>21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Times New Roman"/>
                  </a:rPr>
                  <a:t>      </a:t>
                </a:r>
                <a:r>
                  <a:rPr b="1" lang="en-US" sz="4000" spc="-1" strike="noStrike">
                    <a:solidFill>
                      <a:srgbClr val="009999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5086080" y="5518080"/>
              <a:ext cx="27810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9999"/>
                  </a:solidFill>
                  <a:latin typeface="Times New Roman"/>
                </a:rPr>
                <a:t>1 – 0,3 </a:t>
              </a:r>
              <a:r>
                <a:rPr b="1" i="1" lang="es-ES_tradnl" sz="3600" spc="-1" strike="noStrike">
                  <a:solidFill>
                    <a:srgbClr val="009999"/>
                  </a:solidFill>
                  <a:latin typeface="Times New Roman"/>
                </a:rPr>
                <a:t>MTF</a:t>
              </a:r>
              <a:r>
                <a:rPr b="1" i="1" lang="es-ES_tradnl" sz="3600" spc="-1" strike="noStrike" baseline="-25000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3600" spc="-1" strike="noStrike">
                  <a:solidFill>
                    <a:srgbClr val="009999"/>
                  </a:solidFill>
                  <a:latin typeface="Times New Roman"/>
                </a:rPr>
                <a:t>     </a:t>
              </a:r>
              <a:r>
                <a:rPr b="1" lang="es-ES_tradnl" sz="3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276360" y="4888440"/>
              <a:ext cx="1066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100     </a:t>
              </a:r>
              <a:r>
                <a:rPr b="1" lang="en-US" sz="40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276360" y="583776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360" y="5215680"/>
              <a:ext cx="18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398-96D3-4531-A232-FDBF2D2ED866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298440" y="1009800"/>
            <a:ext cx="854856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cad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ik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 una relación señal/ruido aparente mediante la expre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1922400" y="3645000"/>
            <a:ext cx="5298840" cy="1495440"/>
            <a:chOff x="1922400" y="3645000"/>
            <a:chExt cx="5298840" cy="1495440"/>
          </a:xfrm>
        </p:grpSpPr>
        <p:sp>
          <p:nvSpPr>
            <p:cNvPr id="1680" name=""/>
            <p:cNvSpPr/>
            <p:nvPr/>
          </p:nvSpPr>
          <p:spPr>
            <a:xfrm>
              <a:off x="1922400" y="3995640"/>
              <a:ext cx="5283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apar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449680" y="4353120"/>
              <a:ext cx="1771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449680" y="3645000"/>
              <a:ext cx="1771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5AF-DC06-42ED-9563-ECC808B2118C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98440" y="332640"/>
            <a:ext cx="854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fect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025640" y="2203200"/>
            <a:ext cx="80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Times New Roman"/>
              </a:rPr>
              <a:t>o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613640" y="329328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243080" y="147564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25760" y="3571920"/>
            <a:ext cx="5954400" cy="1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1751040" y="2028600"/>
            <a:ext cx="0" cy="168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1757520" y="2314440"/>
            <a:ext cx="4948200" cy="438120"/>
            <a:chOff x="1757520" y="2314440"/>
            <a:chExt cx="4948200" cy="438120"/>
          </a:xfrm>
        </p:grpSpPr>
        <p:grpSp>
          <p:nvGrpSpPr>
            <p:cNvPr id="1690" name=""/>
            <p:cNvGrpSpPr/>
            <p:nvPr/>
          </p:nvGrpSpPr>
          <p:grpSpPr>
            <a:xfrm>
              <a:off x="1992240" y="2314440"/>
              <a:ext cx="857160" cy="219240"/>
              <a:chOff x="1992240" y="2314440"/>
              <a:chExt cx="857160" cy="219240"/>
            </a:xfrm>
          </p:grpSpPr>
          <p:sp>
            <p:nvSpPr>
              <p:cNvPr id="1691" name=""/>
              <p:cNvSpPr/>
              <p:nvPr/>
            </p:nvSpPr>
            <p:spPr>
              <a:xfrm>
                <a:off x="1992240" y="2314440"/>
                <a:ext cx="4284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420640" y="2314440"/>
                <a:ext cx="42876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3706920" y="2314440"/>
              <a:ext cx="1713600" cy="437760"/>
              <a:chOff x="3706920" y="2314440"/>
              <a:chExt cx="1713600" cy="437760"/>
            </a:xfrm>
          </p:grpSpPr>
          <p:grpSp>
            <p:nvGrpSpPr>
              <p:cNvPr id="1694" name=""/>
              <p:cNvGrpSpPr/>
              <p:nvPr/>
            </p:nvGrpSpPr>
            <p:grpSpPr>
              <a:xfrm>
                <a:off x="3706920" y="2314440"/>
                <a:ext cx="855000" cy="218880"/>
                <a:chOff x="3706920" y="2314440"/>
                <a:chExt cx="855000" cy="21888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706920" y="2314440"/>
                  <a:ext cx="42768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4134600" y="2314440"/>
                  <a:ext cx="42732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564080" y="2533320"/>
                <a:ext cx="856440" cy="218880"/>
                <a:chOff x="4564080" y="2533320"/>
                <a:chExt cx="856440" cy="2188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564080" y="2533320"/>
                  <a:ext cx="42732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992840" y="2533320"/>
                  <a:ext cx="427680" cy="2188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0" name=""/>
            <p:cNvGrpSpPr/>
            <p:nvPr/>
          </p:nvGrpSpPr>
          <p:grpSpPr>
            <a:xfrm>
              <a:off x="5419800" y="2314440"/>
              <a:ext cx="857160" cy="219240"/>
              <a:chOff x="5419800" y="2314440"/>
              <a:chExt cx="857160" cy="219240"/>
            </a:xfrm>
          </p:grpSpPr>
          <p:sp>
            <p:nvSpPr>
              <p:cNvPr id="1701" name=""/>
              <p:cNvSpPr/>
              <p:nvPr/>
            </p:nvSpPr>
            <p:spPr>
              <a:xfrm>
                <a:off x="5419800" y="2314440"/>
                <a:ext cx="42876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48560" y="2314440"/>
                <a:ext cx="428400" cy="219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6276960" y="2533680"/>
              <a:ext cx="428760" cy="218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849400" y="2533680"/>
              <a:ext cx="857520" cy="218880"/>
              <a:chOff x="2849400" y="2533680"/>
              <a:chExt cx="857520" cy="218880"/>
            </a:xfrm>
          </p:grpSpPr>
          <p:sp>
            <p:nvSpPr>
              <p:cNvPr id="1705" name=""/>
              <p:cNvSpPr/>
              <p:nvPr/>
            </p:nvSpPr>
            <p:spPr>
              <a:xfrm>
                <a:off x="2849400" y="2533680"/>
                <a:ext cx="42876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278160" y="2533680"/>
                <a:ext cx="428760" cy="218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7" name=""/>
            <p:cNvSpPr/>
            <p:nvPr/>
          </p:nvSpPr>
          <p:spPr>
            <a:xfrm flipV="1">
              <a:off x="1757520" y="2532960"/>
              <a:ext cx="233280" cy="165240"/>
            </a:xfrm>
            <a:custGeom>
              <a:avLst/>
              <a:gdLst/>
              <a:ahLst/>
              <a:rect l="l" t="t" r="r" b="b"/>
              <a:pathLst>
                <a:path w="147" h="104">
                  <a:moveTo>
                    <a:pt x="147" y="104"/>
                  </a:moveTo>
                  <a:lnTo>
                    <a:pt x="134" y="93"/>
                  </a:lnTo>
                  <a:lnTo>
                    <a:pt x="122" y="83"/>
                  </a:lnTo>
                  <a:lnTo>
                    <a:pt x="108" y="72"/>
                  </a:lnTo>
                  <a:lnTo>
                    <a:pt x="95" y="61"/>
                  </a:lnTo>
                  <a:lnTo>
                    <a:pt x="80" y="51"/>
                  </a:lnTo>
                  <a:lnTo>
                    <a:pt x="68" y="42"/>
                  </a:lnTo>
                  <a:lnTo>
                    <a:pt x="53" y="32"/>
                  </a:lnTo>
                  <a:lnTo>
                    <a:pt x="40" y="23"/>
                  </a:lnTo>
                  <a:lnTo>
                    <a:pt x="27" y="15"/>
                  </a:lnTo>
                  <a:lnTo>
                    <a:pt x="1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8" name=""/>
          <p:cNvSpPr/>
          <p:nvPr/>
        </p:nvSpPr>
        <p:spPr>
          <a:xfrm>
            <a:off x="1762200" y="2533680"/>
            <a:ext cx="516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912000" y="23803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3278160" y="2785680"/>
            <a:ext cx="0" cy="77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5864400" y="2538000"/>
            <a:ext cx="0" cy="102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6705720" y="2762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959440" y="2816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 + 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78160" y="285480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6842160" y="25239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1119240" y="4388760"/>
            <a:ext cx="6904080" cy="2130480"/>
            <a:chOff x="1119240" y="4388760"/>
            <a:chExt cx="6904080" cy="2130480"/>
          </a:xfrm>
        </p:grpSpPr>
        <p:sp>
          <p:nvSpPr>
            <p:cNvPr id="1717" name=""/>
            <p:cNvSpPr/>
            <p:nvPr/>
          </p:nvSpPr>
          <p:spPr>
            <a:xfrm>
              <a:off x="2759040" y="5096880"/>
              <a:ext cx="14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 + 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19600" y="4388760"/>
              <a:ext cx="107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119240" y="4739400"/>
              <a:ext cx="690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 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  =  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740560" y="4388760"/>
              <a:ext cx="107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5016600" y="5163480"/>
              <a:ext cx="2527200" cy="1355760"/>
              <a:chOff x="5016600" y="5163480"/>
              <a:chExt cx="2527200" cy="1355760"/>
            </a:xfrm>
          </p:grpSpPr>
          <p:sp>
            <p:nvSpPr>
              <p:cNvPr id="1722" name=""/>
              <p:cNvSpPr/>
              <p:nvPr/>
            </p:nvSpPr>
            <p:spPr>
              <a:xfrm>
                <a:off x="5016600" y="5447520"/>
                <a:ext cx="252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1 + </a:t>
                </a: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——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934240" y="51634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34240" y="58158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S</a:t>
                </a:r>
                <a:r>
                  <a:rPr b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/</a:t>
                </a:r>
                <a:r>
                  <a:rPr b="1" i="1" lang="es-ES_tradnl" sz="4000" spc="-1" strike="noStrike">
                    <a:solidFill>
                      <a:srgbClr val="009999"/>
                    </a:solidFill>
                    <a:latin typeface="Times New Roman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FAF-2E22-4199-BB7C-2DE084A2D366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298440" y="1107360"/>
            <a:ext cx="854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donde, despejando la relación señal/ruido, se obti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930320" y="2955240"/>
            <a:ext cx="5283360" cy="1411560"/>
            <a:chOff x="1930320" y="2955240"/>
            <a:chExt cx="5283360" cy="1411560"/>
          </a:xfrm>
        </p:grpSpPr>
        <p:sp>
          <p:nvSpPr>
            <p:cNvPr id="1727" name=""/>
            <p:cNvSpPr/>
            <p:nvPr/>
          </p:nvSpPr>
          <p:spPr>
            <a:xfrm>
              <a:off x="1930320" y="3305880"/>
              <a:ext cx="528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157720" y="3663360"/>
              <a:ext cx="177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57720" y="2955240"/>
              <a:ext cx="177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197-7B2F-4117-AD6C-E4D15503482A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0" y="691560"/>
            <a:ext cx="887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as relaciones señal/ruido aparentes se normalizan entre 0 y 1 mediante la expres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1198440" y="2824200"/>
            <a:ext cx="6480000" cy="1453320"/>
            <a:chOff x="1198440" y="2824200"/>
            <a:chExt cx="6480000" cy="1453320"/>
          </a:xfrm>
        </p:grpSpPr>
        <p:sp>
          <p:nvSpPr>
            <p:cNvPr id="1732" name=""/>
            <p:cNvSpPr/>
            <p:nvPr/>
          </p:nvSpPr>
          <p:spPr>
            <a:xfrm>
              <a:off x="1198440" y="3152880"/>
              <a:ext cx="648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071680" y="3574080"/>
              <a:ext cx="149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647960" y="2824200"/>
              <a:ext cx="2346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+ 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5" name=""/>
          <p:cNvSpPr/>
          <p:nvPr/>
        </p:nvSpPr>
        <p:spPr>
          <a:xfrm>
            <a:off x="133200" y="4580640"/>
            <a:ext cx="887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os valores menores que 0 o mayores que 1 se trunc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8DF-F80E-4ECB-83F5-D02D1261CDD0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6" name=""/>
          <p:cNvGrpSpPr/>
          <p:nvPr/>
        </p:nvGrpSpPr>
        <p:grpSpPr>
          <a:xfrm>
            <a:off x="133200" y="936000"/>
            <a:ext cx="8877600" cy="4995360"/>
            <a:chOff x="133200" y="936000"/>
            <a:chExt cx="8877600" cy="4995360"/>
          </a:xfrm>
        </p:grpSpPr>
        <p:sp>
          <p:nvSpPr>
            <p:cNvPr id="1737" name=""/>
            <p:cNvSpPr/>
            <p:nvPr/>
          </p:nvSpPr>
          <p:spPr>
            <a:xfrm>
              <a:off x="133200" y="936000"/>
              <a:ext cx="8877600" cy="49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Se obtienen los siguientes valores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2500"/>
                </a:spcBef>
                <a:tabLst>
                  <a:tab algn="l" pos="0"/>
                  <a:tab algn="ctr" pos="1606680"/>
                  <a:tab algn="ctr" pos="4660920"/>
                  <a:tab algn="ctr" pos="71820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969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5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,000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.75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4,8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659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50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500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 0,25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4,8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341 </a:t>
              </a:r>
              <a:br>
                <a:rPr sz="4000"/>
              </a:b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0307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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15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0,000</a:t>
              </a: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79640" y="2343240"/>
              <a:ext cx="6984720" cy="0"/>
            </a:xfrm>
            <a:prstGeom prst="line">
              <a:avLst/>
            </a:prstGeom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A6A-B868-43FD-AE18-B909128BE852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133200" y="1412280"/>
            <a:ext cx="88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33200" y="4796640"/>
            <a:ext cx="88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nomina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1332000" y="2824200"/>
            <a:ext cx="6480000" cy="1453320"/>
            <a:chOff x="1332000" y="2824200"/>
            <a:chExt cx="6480000" cy="1453320"/>
          </a:xfrm>
        </p:grpSpPr>
        <p:sp>
          <p:nvSpPr>
            <p:cNvPr id="1742" name=""/>
            <p:cNvSpPr/>
            <p:nvPr/>
          </p:nvSpPr>
          <p:spPr>
            <a:xfrm>
              <a:off x="1332000" y="3152880"/>
              <a:ext cx="648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0 log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——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05240" y="3574080"/>
              <a:ext cx="1498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781520" y="2824200"/>
              <a:ext cx="2346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/R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 + 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5A2-ED13-440A-855B-F817E98598BB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579600" y="680400"/>
            <a:ext cx="798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14 índices de transmisión para cada banda de ruido se promedian obteniendose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medio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sa band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1917720" y="4060080"/>
            <a:ext cx="5308560" cy="2033280"/>
            <a:chOff x="1917720" y="4060080"/>
            <a:chExt cx="5308560" cy="2033280"/>
          </a:xfrm>
        </p:grpSpPr>
        <p:sp>
          <p:nvSpPr>
            <p:cNvPr id="1747" name=""/>
            <p:cNvSpPr/>
            <p:nvPr/>
          </p:nvSpPr>
          <p:spPr>
            <a:xfrm>
              <a:off x="1917720" y="4581360"/>
              <a:ext cx="53085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M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 =  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——         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i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00400" y="4125240"/>
              <a:ext cx="105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96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∑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957480" y="4980960"/>
              <a:ext cx="9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957480" y="4272840"/>
              <a:ext cx="90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005440" y="5572800"/>
              <a:ext cx="107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r>
                <a:rPr b="1" lang="es-ES_tradnl" sz="2800" spc="-1" strike="noStrike">
                  <a:solidFill>
                    <a:srgbClr val="009999"/>
                  </a:solidFill>
                  <a:latin typeface="Times New Roman"/>
                </a:rPr>
                <a:t>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983120" y="40600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9999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B77-D18B-427C-8C72-BF5F93EA5DF0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rId3"/>
          </p:cNvPr>
          <p:cNvSpPr/>
          <p:nvPr/>
        </p:nvSpPr>
        <p:spPr>
          <a:xfrm>
            <a:off x="403200" y="569916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19520"/>
            <a:ext cx="342720" cy="8380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9999"/>
                </a:solidFill>
                <a:latin typeface="Courier New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66ffff"/>
                </a:solidFill>
                <a:latin typeface="Courier New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00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9966"/>
                </a:solidFill>
                <a:latin typeface="Courier New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ccff"/>
                </a:solidFill>
                <a:latin typeface="Courier New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4594320"/>
            <a:ext cx="685800" cy="10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38156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99ff99"/>
                </a:solidFill>
                <a:latin typeface="Courier New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362320"/>
            <a:ext cx="457200" cy="1752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8200" y="2819520"/>
            <a:ext cx="304920" cy="83808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0640" y="2133720"/>
            <a:ext cx="495360" cy="2209680"/>
          </a:xfrm>
          <a:prstGeom prst="rect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3240" y="1676520"/>
            <a:ext cx="399960" cy="312408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90720" y="1600200"/>
            <a:ext cx="638280" cy="3276720"/>
          </a:xfrm>
          <a:prstGeom prst="rect">
            <a:avLst/>
          </a:prstGeom>
          <a:noFill/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76520" y="2295360"/>
            <a:ext cx="486000" cy="188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10040" y="2781360"/>
            <a:ext cx="485640" cy="91440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2552760"/>
            <a:ext cx="457200" cy="13716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7360" y="2819520"/>
            <a:ext cx="1409760" cy="83808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8120"/>
            <a:ext cx="209520" cy="380880"/>
          </a:xfrm>
          <a:prstGeom prst="rect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19840" y="2819520"/>
            <a:ext cx="1104840" cy="8380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54B-1F3D-4957-AAAB-463FBCFB149D}" type="slidenum">
              <a:t>8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395280" y="802440"/>
            <a:ext cx="83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inalmente, los 7 valores del índice de transmisión medio se promedian con una ponderació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55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57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C32-14AA-4E64-995F-FB4CF85FB1A2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133200" y="1065240"/>
            <a:ext cx="8877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ponderaciones </a:t>
            </a:r>
            <a:r>
              <a:rPr b="1" lang="el-GR" sz="4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α</a:t>
            </a:r>
            <a:r>
              <a:rPr b="1" i="1" lang="es-ES_tradnl" sz="4000" spc="-1" strike="noStrike" baseline="-25000">
                <a:solidFill>
                  <a:srgbClr val="009999"/>
                </a:solidFill>
                <a:latin typeface="Times New Roman"/>
                <a:ea typeface="Arial"/>
              </a:rPr>
              <a:t>k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án tabuladas para varones y muje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62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64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B7C-E46B-45BE-8205-9B37ABDBD8E2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395280" y="110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transmisión de la palabra</a:t>
            </a:r>
            <a:r>
              <a:rPr b="1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1979640" y="3499560"/>
            <a:ext cx="5184720" cy="2033640"/>
            <a:chOff x="1979640" y="3499560"/>
            <a:chExt cx="5184720" cy="2033640"/>
          </a:xfrm>
        </p:grpSpPr>
        <p:sp>
          <p:nvSpPr>
            <p:cNvPr id="1769" name=""/>
            <p:cNvSpPr/>
            <p:nvPr/>
          </p:nvSpPr>
          <p:spPr>
            <a:xfrm>
              <a:off x="1979640" y="4094280"/>
              <a:ext cx="5184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STI  =         </a:t>
              </a:r>
              <a:r>
                <a:rPr b="1" lang="el-GR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M</a:t>
              </a:r>
              <a:r>
                <a:rPr b="1" i="1" lang="es-ES_tradnl" sz="4000" spc="-1" strike="noStrike">
                  <a:solidFill>
                    <a:srgbClr val="009999"/>
                  </a:solidFill>
                  <a:latin typeface="Times New Roman"/>
                </a:rPr>
                <a:t>TI</a:t>
              </a:r>
              <a:r>
                <a:rPr b="1" i="1" lang="es-ES_tradnl" sz="4000" spc="-1" strike="noStrike" baseline="-25000">
                  <a:solidFill>
                    <a:srgbClr val="009999"/>
                  </a:solidFill>
                  <a:latin typeface="Times New Roman"/>
                </a:rPr>
                <a:t>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3924360" y="3499560"/>
              <a:ext cx="1101600" cy="2033640"/>
              <a:chOff x="3924360" y="3499560"/>
              <a:chExt cx="1101600" cy="2033640"/>
            </a:xfrm>
          </p:grpSpPr>
          <p:sp>
            <p:nvSpPr>
              <p:cNvPr id="1771" name=""/>
              <p:cNvSpPr/>
              <p:nvPr/>
            </p:nvSpPr>
            <p:spPr>
              <a:xfrm>
                <a:off x="3942000" y="3565080"/>
                <a:ext cx="10540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9600" spc="-1" strike="noStrike">
                    <a:solidFill>
                      <a:srgbClr val="009999"/>
                    </a:solidFill>
                    <a:latin typeface="Times New Roman"/>
                    <a:ea typeface="Times New Roman"/>
                  </a:rPr>
                  <a:t>∑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946680" y="5012640"/>
                <a:ext cx="107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k</a:t>
                </a: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 = 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924360" y="3499560"/>
                <a:ext cx="107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9999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C92-5B1A-40B8-8631-574F36E4C74A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/>
          <p:nvPr/>
        </p:nvSpPr>
        <p:spPr>
          <a:xfrm>
            <a:off x="395280" y="1483920"/>
            <a:ext cx="835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ha determinado experimentalmente una relación entre el</a:t>
            </a:r>
            <a:r>
              <a:rPr b="1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y el porcentaje de articulación de palabras, dada en la gráfca que sigue…</a:t>
            </a:r>
            <a:r>
              <a:rPr b="1" lang="es-ES_trad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C25-D76F-4BE4-8935-8E54CF04255B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874880" y="4962600"/>
            <a:ext cx="66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1441440" y="26161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41440" y="29624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441440" y="330660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440000" y="3656160"/>
            <a:ext cx="668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434960" y="401472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450800" y="4400640"/>
            <a:ext cx="6685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401840" y="4756320"/>
            <a:ext cx="706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49360" y="2295360"/>
            <a:ext cx="6685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577880" y="193680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589040" y="1563840"/>
            <a:ext cx="544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582560" y="1219320"/>
            <a:ext cx="54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2475000" y="49626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04308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1152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181400" y="4962600"/>
            <a:ext cx="587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74804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5316480" y="49626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591080" y="5443560"/>
            <a:ext cx="1076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STI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87700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446880" y="4950000"/>
            <a:ext cx="587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013520" y="4950000"/>
            <a:ext cx="588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990720" y="2860560"/>
            <a:ext cx="83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Times New Roman"/>
              </a:rPr>
              <a:t>P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548480" y="4940280"/>
            <a:ext cx="588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2200320" y="1349280"/>
            <a:ext cx="5668560" cy="3551400"/>
            <a:chOff x="2200320" y="1349280"/>
            <a:chExt cx="5668560" cy="3551400"/>
          </a:xfrm>
        </p:grpSpPr>
        <p:sp>
          <p:nvSpPr>
            <p:cNvPr id="1800" name=""/>
            <p:cNvSpPr/>
            <p:nvPr/>
          </p:nvSpPr>
          <p:spPr>
            <a:xfrm>
              <a:off x="220320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7723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3864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90636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74080" y="1353600"/>
              <a:ext cx="108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60952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17616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7446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41800" y="1353600"/>
              <a:ext cx="720" cy="353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2203200" y="4886640"/>
              <a:ext cx="56548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203200" y="4532760"/>
              <a:ext cx="56548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2203200" y="4177080"/>
              <a:ext cx="5652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201400" y="3826440"/>
              <a:ext cx="565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200320" y="3112560"/>
              <a:ext cx="566136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206800" y="2067480"/>
              <a:ext cx="565056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2208240" y="241020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2201040" y="2760840"/>
              <a:ext cx="565380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2201400" y="1352160"/>
              <a:ext cx="566748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2212920" y="1706040"/>
              <a:ext cx="56516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2201040" y="3471480"/>
              <a:ext cx="565668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314480" y="1349280"/>
              <a:ext cx="1080" cy="352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862760" y="1349280"/>
              <a:ext cx="720" cy="355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3067200" y="1390680"/>
            <a:ext cx="4800600" cy="3124080"/>
          </a:xfrm>
          <a:custGeom>
            <a:avLst/>
            <a:gdLst/>
            <a:ahLst/>
            <a:rect l="l" t="t" r="r" b="b"/>
            <a:pathLst>
              <a:path w="3024" h="1968">
                <a:moveTo>
                  <a:pt x="0" y="1968"/>
                </a:moveTo>
                <a:lnTo>
                  <a:pt x="81" y="1752"/>
                </a:lnTo>
                <a:lnTo>
                  <a:pt x="168" y="1542"/>
                </a:lnTo>
                <a:lnTo>
                  <a:pt x="288" y="1296"/>
                </a:lnTo>
                <a:lnTo>
                  <a:pt x="432" y="1086"/>
                </a:lnTo>
                <a:lnTo>
                  <a:pt x="600" y="864"/>
                </a:lnTo>
                <a:lnTo>
                  <a:pt x="741" y="717"/>
                </a:lnTo>
                <a:lnTo>
                  <a:pt x="888" y="588"/>
                </a:lnTo>
                <a:lnTo>
                  <a:pt x="1053" y="465"/>
                </a:lnTo>
                <a:lnTo>
                  <a:pt x="1236" y="348"/>
                </a:lnTo>
                <a:lnTo>
                  <a:pt x="1407" y="267"/>
                </a:lnTo>
                <a:lnTo>
                  <a:pt x="1584" y="204"/>
                </a:lnTo>
                <a:lnTo>
                  <a:pt x="1752" y="156"/>
                </a:lnTo>
                <a:lnTo>
                  <a:pt x="1959" y="111"/>
                </a:lnTo>
                <a:lnTo>
                  <a:pt x="2115" y="87"/>
                </a:lnTo>
                <a:lnTo>
                  <a:pt x="2316" y="60"/>
                </a:lnTo>
                <a:lnTo>
                  <a:pt x="30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238-517C-40A8-96CD-6FE650715F98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43080" y="1431360"/>
            <a:ext cx="845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Este método puede mejorarse agregando un término que tiene en cuenta el enmascaramiento que produce una banda de ruido de octava en la siguient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rId2"/>
          </p:cNvPr>
          <p:cNvSpPr/>
          <p:nvPr/>
        </p:nvSpPr>
        <p:spPr>
          <a:xfrm>
            <a:off x="4140360" y="4305240"/>
            <a:ext cx="2743200" cy="53352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1000" h="21600">
                <a:moveTo>
                  <a:pt x="0" y="0"/>
                </a:moveTo>
                <a:lnTo>
                  <a:pt x="111000" y="0"/>
                </a:lnTo>
                <a:lnTo>
                  <a:pt x="111000" y="21600"/>
                </a:lnTo>
                <a:lnTo>
                  <a:pt x="0" y="21600"/>
                </a:lnTo>
                <a:close/>
              </a:path>
              <a:path fill="lightenLess" w="111000" h="21600">
                <a:moveTo>
                  <a:pt x="0" y="0"/>
                </a:moveTo>
                <a:lnTo>
                  <a:pt x="111000" y="0"/>
                </a:lnTo>
                <a:lnTo>
                  <a:pt x="109600" y="1400"/>
                </a:lnTo>
                <a:lnTo>
                  <a:pt x="1400" y="1400"/>
                </a:lnTo>
                <a:close/>
              </a:path>
              <a:path fill="darken" w="111000" h="21600">
                <a:moveTo>
                  <a:pt x="111000" y="0"/>
                </a:moveTo>
                <a:lnTo>
                  <a:pt x="111000" y="21600"/>
                </a:lnTo>
                <a:lnTo>
                  <a:pt x="109600" y="20200"/>
                </a:lnTo>
                <a:lnTo>
                  <a:pt x="109600" y="1400"/>
                </a:lnTo>
                <a:close/>
              </a:path>
              <a:path fill="darkenLess" w="111000" h="21600">
                <a:moveTo>
                  <a:pt x="11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00" y="20200"/>
                </a:lnTo>
                <a:close/>
              </a:path>
              <a:path fill="lighten" w="11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rId3"/>
          </p:cNvPr>
          <p:cNvSpPr/>
          <p:nvPr/>
        </p:nvSpPr>
        <p:spPr>
          <a:xfrm>
            <a:off x="2971800" y="49528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C9C-6A81-4D0F-84CB-D84C93A157DB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"/>
          <p:cNvSpPr/>
          <p:nvPr/>
        </p:nvSpPr>
        <p:spPr>
          <a:xfrm>
            <a:off x="343080" y="1126800"/>
            <a:ext cx="8458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las mediciones se sigue el protocolo de la norma 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EC 60268-16</a:t>
            </a:r>
            <a:r>
              <a:rPr b="1" lang="es-ES_tradn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sintetizan señales formadas por un ruido con espectro promedio igual al de las voce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menina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asculinas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rId2"/>
          </p:cNvPr>
          <p:cNvSpPr/>
          <p:nvPr/>
        </p:nvSpPr>
        <p:spPr>
          <a:xfrm>
            <a:off x="4140360" y="4305240"/>
            <a:ext cx="2743200" cy="533520"/>
          </a:xfrm>
          <a:custGeom>
            <a:avLst/>
            <a:gdLst>
              <a:gd name="textAreaLeft" fmla="*/ 34560 w 2743200"/>
              <a:gd name="textAreaRight" fmla="*/ 2708640 w 2743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1000" h="21600">
                <a:moveTo>
                  <a:pt x="0" y="0"/>
                </a:moveTo>
                <a:lnTo>
                  <a:pt x="111000" y="0"/>
                </a:lnTo>
                <a:lnTo>
                  <a:pt x="111000" y="21600"/>
                </a:lnTo>
                <a:lnTo>
                  <a:pt x="0" y="21600"/>
                </a:lnTo>
                <a:close/>
              </a:path>
              <a:path fill="lightenLess" w="111000" h="21600">
                <a:moveTo>
                  <a:pt x="0" y="0"/>
                </a:moveTo>
                <a:lnTo>
                  <a:pt x="111000" y="0"/>
                </a:lnTo>
                <a:lnTo>
                  <a:pt x="109600" y="1400"/>
                </a:lnTo>
                <a:lnTo>
                  <a:pt x="1400" y="1400"/>
                </a:lnTo>
                <a:close/>
              </a:path>
              <a:path fill="darken" w="111000" h="21600">
                <a:moveTo>
                  <a:pt x="111000" y="0"/>
                </a:moveTo>
                <a:lnTo>
                  <a:pt x="111000" y="21600"/>
                </a:lnTo>
                <a:lnTo>
                  <a:pt x="109600" y="20200"/>
                </a:lnTo>
                <a:lnTo>
                  <a:pt x="109600" y="1400"/>
                </a:lnTo>
                <a:close/>
              </a:path>
              <a:path fill="darkenLess" w="111000" h="21600">
                <a:moveTo>
                  <a:pt x="111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600" y="20200"/>
                </a:lnTo>
                <a:close/>
              </a:path>
              <a:path fill="lighten" w="111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rId3"/>
          </p:cNvPr>
          <p:cNvSpPr/>
          <p:nvPr/>
        </p:nvSpPr>
        <p:spPr>
          <a:xfrm>
            <a:off x="2971800" y="4952880"/>
            <a:ext cx="3124080" cy="533520"/>
          </a:xfrm>
          <a:custGeom>
            <a:avLst/>
            <a:gdLst>
              <a:gd name="textAreaLeft" fmla="*/ 34560 w 3124080"/>
              <a:gd name="textAreaRight" fmla="*/ 3089520 w 3124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6410" h="21600">
                <a:moveTo>
                  <a:pt x="0" y="0"/>
                </a:moveTo>
                <a:lnTo>
                  <a:pt x="126410" y="0"/>
                </a:lnTo>
                <a:lnTo>
                  <a:pt x="126410" y="21600"/>
                </a:lnTo>
                <a:lnTo>
                  <a:pt x="0" y="21600"/>
                </a:lnTo>
                <a:close/>
              </a:path>
              <a:path fill="lightenLess" w="126410" h="21600">
                <a:moveTo>
                  <a:pt x="0" y="0"/>
                </a:moveTo>
                <a:lnTo>
                  <a:pt x="126410" y="0"/>
                </a:lnTo>
                <a:lnTo>
                  <a:pt x="125010" y="1400"/>
                </a:lnTo>
                <a:lnTo>
                  <a:pt x="1400" y="1400"/>
                </a:lnTo>
                <a:close/>
              </a:path>
              <a:path fill="darken" w="126410" h="21600">
                <a:moveTo>
                  <a:pt x="126410" y="0"/>
                </a:moveTo>
                <a:lnTo>
                  <a:pt x="126410" y="21600"/>
                </a:lnTo>
                <a:lnTo>
                  <a:pt x="125010" y="20200"/>
                </a:lnTo>
                <a:lnTo>
                  <a:pt x="125010" y="1400"/>
                </a:lnTo>
                <a:close/>
              </a:path>
              <a:path fill="darkenLess" w="126410" h="21600">
                <a:moveTo>
                  <a:pt x="126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010" y="20200"/>
                </a:lnTo>
                <a:close/>
              </a:path>
              <a:path fill="lighten" w="126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F33-1256-4DD6-A826-5FCB095BD695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343080" y="234576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as señales se modularon en amplitud con diversas frecuencias, por ejemplo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3,15 Hz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rId2"/>
          </p:cNvPr>
          <p:cNvSpPr/>
          <p:nvPr/>
        </p:nvSpPr>
        <p:spPr>
          <a:xfrm>
            <a:off x="6515280" y="3695760"/>
            <a:ext cx="2286000" cy="53352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2503" h="21600">
                <a:moveTo>
                  <a:pt x="0" y="0"/>
                </a:moveTo>
                <a:lnTo>
                  <a:pt x="92503" y="0"/>
                </a:lnTo>
                <a:lnTo>
                  <a:pt x="92503" y="21600"/>
                </a:lnTo>
                <a:lnTo>
                  <a:pt x="0" y="21600"/>
                </a:lnTo>
                <a:close/>
              </a:path>
              <a:path fill="lightenLess" w="92503" h="21600">
                <a:moveTo>
                  <a:pt x="0" y="0"/>
                </a:moveTo>
                <a:lnTo>
                  <a:pt x="92503" y="0"/>
                </a:lnTo>
                <a:lnTo>
                  <a:pt x="91103" y="1400"/>
                </a:lnTo>
                <a:lnTo>
                  <a:pt x="1400" y="1400"/>
                </a:lnTo>
                <a:close/>
              </a:path>
              <a:path fill="darken" w="92503" h="21600">
                <a:moveTo>
                  <a:pt x="92503" y="0"/>
                </a:moveTo>
                <a:lnTo>
                  <a:pt x="92503" y="21600"/>
                </a:lnTo>
                <a:lnTo>
                  <a:pt x="91103" y="20200"/>
                </a:lnTo>
                <a:lnTo>
                  <a:pt x="91103" y="1400"/>
                </a:lnTo>
                <a:close/>
              </a:path>
              <a:path fill="darkenLess" w="92503" h="21600">
                <a:moveTo>
                  <a:pt x="9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03" y="20200"/>
                </a:lnTo>
                <a:close/>
              </a:path>
              <a:path fill="lighten" w="9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395-2206-49BC-8638-453D90C88CEC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2" name="">
            <a:hlinkClick r:id="rId3"/>
          </p:cNvPr>
          <p:cNvSpPr/>
          <p:nvPr/>
        </p:nvSpPr>
        <p:spPr>
          <a:xfrm>
            <a:off x="399960" y="56926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A30-EB0F-4FBF-B94E-90886C8AA743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343080" y="17362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eviamente al ensayo se calibra el nivel medio de la señal para que coincida con el nivel equivalente del habla tal como se utiliza en el ambiente.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26D-285B-4C3E-A396-3C0CDBBF25D3}" type="slidenum">
              <a:t>89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rId3"/>
          </p:cNvPr>
          <p:cNvSpPr/>
          <p:nvPr/>
        </p:nvSpPr>
        <p:spPr>
          <a:xfrm>
            <a:off x="403200" y="5699160"/>
            <a:ext cx="336600" cy="262080"/>
          </a:xfrm>
          <a:custGeom>
            <a:avLst/>
            <a:gdLst>
              <a:gd name="textAreaLeft" fmla="*/ 1440 w 336600"/>
              <a:gd name="textAreaRight" fmla="*/ 335160 w 336600"/>
              <a:gd name="textAreaTop" fmla="*/ 1440 h 262080"/>
              <a:gd name="textAreaBottom" fmla="*/ 260640 h 262080"/>
            </a:gdLst>
            <a:ahLst/>
            <a:rect l="textAreaLeft" t="textAreaTop" r="textAreaRight" b="textAreaBottom"/>
            <a:pathLst>
              <a:path w="27733" h="21600">
                <a:moveTo>
                  <a:pt x="0" y="0"/>
                </a:moveTo>
                <a:lnTo>
                  <a:pt x="27733" y="0"/>
                </a:lnTo>
                <a:lnTo>
                  <a:pt x="27733" y="21600"/>
                </a:lnTo>
                <a:lnTo>
                  <a:pt x="0" y="21600"/>
                </a:lnTo>
                <a:close/>
              </a:path>
              <a:path fill="lightenLess" w="27733" h="21600">
                <a:moveTo>
                  <a:pt x="0" y="0"/>
                </a:moveTo>
                <a:lnTo>
                  <a:pt x="27733" y="0"/>
                </a:lnTo>
                <a:lnTo>
                  <a:pt x="27612" y="121"/>
                </a:lnTo>
                <a:lnTo>
                  <a:pt x="121" y="121"/>
                </a:lnTo>
                <a:close/>
              </a:path>
              <a:path fill="darken" w="27733" h="21600">
                <a:moveTo>
                  <a:pt x="27733" y="0"/>
                </a:moveTo>
                <a:lnTo>
                  <a:pt x="27733" y="21600"/>
                </a:lnTo>
                <a:lnTo>
                  <a:pt x="27612" y="21479"/>
                </a:lnTo>
                <a:lnTo>
                  <a:pt x="27612" y="121"/>
                </a:lnTo>
                <a:close/>
              </a:path>
              <a:path fill="darkenLess" w="27733" h="21600">
                <a:moveTo>
                  <a:pt x="27733" y="21600"/>
                </a:moveTo>
                <a:lnTo>
                  <a:pt x="0" y="21600"/>
                </a:lnTo>
                <a:lnTo>
                  <a:pt x="121" y="21479"/>
                </a:lnTo>
                <a:lnTo>
                  <a:pt x="27612" y="21479"/>
                </a:lnTo>
                <a:close/>
              </a:path>
              <a:path fill="lighten" w="27733" h="21600">
                <a:moveTo>
                  <a:pt x="0" y="21600"/>
                </a:moveTo>
                <a:lnTo>
                  <a:pt x="0" y="0"/>
                </a:lnTo>
                <a:lnTo>
                  <a:pt x="121" y="121"/>
                </a:lnTo>
                <a:lnTo>
                  <a:pt x="121" y="21479"/>
                </a:lnTo>
                <a:close/>
              </a:path>
            </a:pathLst>
          </a:custGeom>
          <a:noFill/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85760"/>
            <a:ext cx="1447920" cy="427680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625-2623-4BC9-831A-3AE4308339F8}" type="slidenum">
              <a:t>9</a:t>
            </a:fld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E46-B864-4C15-83E0-D7928843B27E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B38-9C46-4F48-9B2F-79B64D451E1D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/>
          <p:nvPr/>
        </p:nvSpPr>
        <p:spPr>
          <a:xfrm>
            <a:off x="343080" y="20408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espuesta del ambiente se graba digitalmente para su posterior análisis por computadora</a:t>
            </a:r>
            <a:r>
              <a:rPr b="1" lang="es-ES_tradnl" sz="4000" spc="-1" strike="noStrike">
                <a:solidFill>
                  <a:srgbClr val="99ff99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EB1-F8A0-454C-A928-CB5718B6B954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1838" name="">
            <a:hlinkClick r:id="rId3"/>
          </p:cNvPr>
          <p:cNvSpPr/>
          <p:nvPr/>
        </p:nvSpPr>
        <p:spPr>
          <a:xfrm>
            <a:off x="7086600" y="15238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rId4"/>
          </p:cNvPr>
          <p:cNvSpPr/>
          <p:nvPr/>
        </p:nvSpPr>
        <p:spPr>
          <a:xfrm>
            <a:off x="1028880" y="1447920"/>
            <a:ext cx="533160" cy="555480"/>
          </a:xfrm>
          <a:custGeom>
            <a:avLst/>
            <a:gdLst>
              <a:gd name="textAreaLeft" fmla="*/ 0 w 533160"/>
              <a:gd name="textAreaRight" fmla="*/ 533520 w 53316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2504">
                <a:moveTo>
                  <a:pt x="0" y="0"/>
                </a:moveTo>
                <a:lnTo>
                  <a:pt x="21600" y="0"/>
                </a:lnTo>
                <a:lnTo>
                  <a:pt x="21600" y="22504"/>
                </a:lnTo>
                <a:lnTo>
                  <a:pt x="0" y="22504"/>
                </a:lnTo>
                <a:close/>
              </a:path>
              <a:path fill="lightenLess" w="21600" h="22504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2504">
                <a:moveTo>
                  <a:pt x="21600" y="0"/>
                </a:moveTo>
                <a:lnTo>
                  <a:pt x="21600" y="22504"/>
                </a:lnTo>
                <a:lnTo>
                  <a:pt x="21600" y="22504"/>
                </a:lnTo>
                <a:lnTo>
                  <a:pt x="21600" y="0"/>
                </a:lnTo>
                <a:close/>
              </a:path>
              <a:path fill="darkenLess" w="21600" h="22504">
                <a:moveTo>
                  <a:pt x="21600" y="22504"/>
                </a:moveTo>
                <a:lnTo>
                  <a:pt x="0" y="22504"/>
                </a:lnTo>
                <a:lnTo>
                  <a:pt x="0" y="22504"/>
                </a:lnTo>
                <a:lnTo>
                  <a:pt x="21600" y="22504"/>
                </a:lnTo>
                <a:close/>
              </a:path>
              <a:path fill="lighten" w="21600" h="22504">
                <a:moveTo>
                  <a:pt x="0" y="22504"/>
                </a:moveTo>
                <a:lnTo>
                  <a:pt x="0" y="0"/>
                </a:lnTo>
                <a:lnTo>
                  <a:pt x="0" y="0"/>
                </a:lnTo>
                <a:lnTo>
                  <a:pt x="0" y="225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EC2-E401-4FF6-81FC-AA6B2FFD8C32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1" name="">
            <a:hlinkClick r:id="rId3"/>
          </p:cNvPr>
          <p:cNvSpPr/>
          <p:nvPr/>
        </p:nvSpPr>
        <p:spPr>
          <a:xfrm>
            <a:off x="399960" y="5692680"/>
            <a:ext cx="333360" cy="250920"/>
          </a:xfrm>
          <a:custGeom>
            <a:avLst/>
            <a:gdLst>
              <a:gd name="textAreaLeft" fmla="*/ 0 w 333360"/>
              <a:gd name="textAreaRight" fmla="*/ 333720 w 333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8687" h="21600">
                <a:moveTo>
                  <a:pt x="0" y="0"/>
                </a:moveTo>
                <a:lnTo>
                  <a:pt x="28687" y="0"/>
                </a:lnTo>
                <a:lnTo>
                  <a:pt x="28687" y="21600"/>
                </a:lnTo>
                <a:lnTo>
                  <a:pt x="0" y="21600"/>
                </a:lnTo>
                <a:close/>
              </a:path>
              <a:path fill="lightenLess" w="28687" h="21600">
                <a:moveTo>
                  <a:pt x="0" y="0"/>
                </a:moveTo>
                <a:lnTo>
                  <a:pt x="28687" y="0"/>
                </a:lnTo>
                <a:lnTo>
                  <a:pt x="28687" y="0"/>
                </a:lnTo>
                <a:lnTo>
                  <a:pt x="0" y="0"/>
                </a:lnTo>
                <a:close/>
              </a:path>
              <a:path fill="darken" w="28687" h="21600">
                <a:moveTo>
                  <a:pt x="28687" y="0"/>
                </a:moveTo>
                <a:lnTo>
                  <a:pt x="28687" y="21600"/>
                </a:lnTo>
                <a:lnTo>
                  <a:pt x="28687" y="21600"/>
                </a:lnTo>
                <a:lnTo>
                  <a:pt x="28687" y="0"/>
                </a:lnTo>
                <a:close/>
              </a:path>
              <a:path fill="darkenLess" w="28687" h="21600">
                <a:moveTo>
                  <a:pt x="2868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8687" y="21600"/>
                </a:lnTo>
                <a:close/>
              </a:path>
              <a:path fill="lighten" w="2868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66F-7DFD-4002-9AC7-D69EA5FDD1C3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343080" y="204084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inalmente, se calculan los índices de transmisión de la palabra mediante un programa apropi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A4B-D6D2-4CA4-8FD3-204EA78CB33C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"/>
          <p:cNvSpPr/>
          <p:nvPr/>
        </p:nvSpPr>
        <p:spPr>
          <a:xfrm>
            <a:off x="343080" y="173628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ejemplo, veamos los índices de modulación obtenidos en el caso de un aula cuya acústica era considerad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fi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or sus usuarios </a:t>
            </a:r>
            <a:r>
              <a:rPr b="1" lang="es-ES_tradnl" sz="40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B8C-775D-4431-BD9A-8A071847F98E}" type="slidenum">
              <a:t>96</a:t>
            </a:fld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4" name=""/>
          <p:cNvGraphicFramePr/>
          <p:nvPr/>
        </p:nvGraphicFramePr>
        <p:xfrm>
          <a:off x="415800" y="754200"/>
          <a:ext cx="8702640" cy="56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5800" y="754200"/>
                    <a:ext cx="8702640" cy="56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32C-96C3-4639-8FEB-1B39429BABCD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0" y="1113840"/>
            <a:ext cx="9144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voces femeninas se obtuv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TI = 0,46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esultado que no garantiza más que un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70%</a:t>
            </a:r>
            <a:r>
              <a:rPr b="1" lang="es-ES_tradnl" sz="4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articulación de palabras, lo cual corrobora lo observado por los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3EF-7446-4531-8BE0-75C1E00B3247}" type="slidenum">
              <a:t>98</a:t>
            </a:fld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640-BAE8-422A-8569-2BA592B426BE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34:17Z</dcterms:modified>
  <cp:revision>244</cp:revision>
  <dc:subject/>
  <dc:title>PSICOACÚSTICA  aplicada a la calidad acústica de espacios educativos.  Materiales absorbentes acústicos reciclados </dc:title>
</cp:coreProperties>
</file>