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7CC3-89A9-4FAA-B88F-64070522D8E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338-EDE5-47C0-8357-06A9D1D6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033-59B9-448D-843D-FF86676A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760-5B1B-4584-A7CD-10047E58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9A4-24F7-4B9A-88A3-57456FDD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3CE-E3CF-407F-AA16-9481ADCB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B4A-8D83-4313-BE94-703DFCDD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916-63C4-4F6B-B52A-6F9788D4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5DA-C70A-40E1-A258-E4EEDAC0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039-8848-4B5B-BA51-12AC013E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E7F-04D1-4A91-8265-D6F8837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F16-D841-40AA-BE2D-50A17C50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614-EA73-47D3-8D83-F064DFAC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4C32-9715-4683-9435-91039566F28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603-750A-4F79-98DA-C6D33E5B8266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4200" y="1117080"/>
            <a:ext cx="763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radicionalmente las señale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inu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han procesado media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alogí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levándolas media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ansduc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dominios físicos más propicios para su tratamient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8BF-18C4-40C2-BC8D-E17B687C33D4}" type="slidenum">
              <a:t>10</a:t>
            </a:fld>
          </a:p>
        </p:txBody>
      </p:sp>
    </p:spTree>
  </p:cSld>
  <p:transition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754200" y="93132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a señal muy utilizada para este propósito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ulso gaussia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que es interesante debido a que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ambién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gaussi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1" name=""/>
              <p:cNvSpPr txBox="1"/>
              <p:nvPr/>
            </p:nvSpPr>
            <p:spPr>
              <a:xfrm>
                <a:off x="682560" y="4705200"/>
                <a:ext cx="30276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4624560" y="4765680"/>
                <a:ext cx="37321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4F4-64A2-4201-8C27-F592D1F254B9}" type="slidenum">
              <a:t>100</a:t>
            </a:fld>
          </a:p>
        </p:txBody>
      </p:sp>
    </p:spTree>
  </p:cSld>
  <p:transition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4" name=""/>
          <p:cNvGrpSpPr/>
          <p:nvPr/>
        </p:nvGrpSpPr>
        <p:grpSpPr>
          <a:xfrm>
            <a:off x="588960" y="858960"/>
            <a:ext cx="8039880" cy="5255280"/>
            <a:chOff x="588960" y="858960"/>
            <a:chExt cx="8039880" cy="5255280"/>
          </a:xfrm>
        </p:grpSpPr>
        <p:sp>
          <p:nvSpPr>
            <p:cNvPr id="2795" name=""/>
            <p:cNvSpPr/>
            <p:nvPr/>
          </p:nvSpPr>
          <p:spPr>
            <a:xfrm>
              <a:off x="5386320" y="1111320"/>
              <a:ext cx="3033720" cy="1324080"/>
            </a:xfrm>
            <a:custGeom>
              <a:avLst/>
              <a:gdLst/>
              <a:ahLst/>
              <a:rect l="l" t="t" r="r" b="b"/>
              <a:pathLst>
                <a:path w="3186" h="1719">
                  <a:moveTo>
                    <a:pt x="0" y="1719"/>
                  </a:moveTo>
                  <a:lnTo>
                    <a:pt x="3" y="1719"/>
                  </a:lnTo>
                  <a:lnTo>
                    <a:pt x="10" y="1719"/>
                  </a:lnTo>
                  <a:lnTo>
                    <a:pt x="15" y="1719"/>
                  </a:lnTo>
                  <a:lnTo>
                    <a:pt x="22" y="1719"/>
                  </a:lnTo>
                  <a:lnTo>
                    <a:pt x="28" y="1719"/>
                  </a:lnTo>
                  <a:lnTo>
                    <a:pt x="33" y="1719"/>
                  </a:lnTo>
                  <a:lnTo>
                    <a:pt x="40" y="1719"/>
                  </a:lnTo>
                  <a:lnTo>
                    <a:pt x="45" y="1719"/>
                  </a:lnTo>
                  <a:lnTo>
                    <a:pt x="52" y="1719"/>
                  </a:lnTo>
                  <a:lnTo>
                    <a:pt x="58" y="1719"/>
                  </a:lnTo>
                  <a:lnTo>
                    <a:pt x="63" y="1719"/>
                  </a:lnTo>
                  <a:lnTo>
                    <a:pt x="70" y="1719"/>
                  </a:lnTo>
                  <a:lnTo>
                    <a:pt x="75" y="1719"/>
                  </a:lnTo>
                  <a:lnTo>
                    <a:pt x="82" y="1719"/>
                  </a:lnTo>
                  <a:lnTo>
                    <a:pt x="88" y="1719"/>
                  </a:lnTo>
                  <a:lnTo>
                    <a:pt x="93" y="1719"/>
                  </a:lnTo>
                  <a:lnTo>
                    <a:pt x="100" y="1719"/>
                  </a:lnTo>
                  <a:lnTo>
                    <a:pt x="106" y="1719"/>
                  </a:lnTo>
                  <a:lnTo>
                    <a:pt x="112" y="1719"/>
                  </a:lnTo>
                  <a:lnTo>
                    <a:pt x="118" y="1719"/>
                  </a:lnTo>
                  <a:lnTo>
                    <a:pt x="123" y="1719"/>
                  </a:lnTo>
                  <a:lnTo>
                    <a:pt x="130" y="1719"/>
                  </a:lnTo>
                  <a:lnTo>
                    <a:pt x="136" y="1719"/>
                  </a:lnTo>
                  <a:lnTo>
                    <a:pt x="142" y="1719"/>
                  </a:lnTo>
                  <a:lnTo>
                    <a:pt x="148" y="1719"/>
                  </a:lnTo>
                  <a:lnTo>
                    <a:pt x="154" y="1719"/>
                  </a:lnTo>
                  <a:lnTo>
                    <a:pt x="160" y="1719"/>
                  </a:lnTo>
                  <a:lnTo>
                    <a:pt x="166" y="1719"/>
                  </a:lnTo>
                  <a:lnTo>
                    <a:pt x="172" y="1719"/>
                  </a:lnTo>
                  <a:lnTo>
                    <a:pt x="178" y="1719"/>
                  </a:lnTo>
                  <a:lnTo>
                    <a:pt x="184" y="1719"/>
                  </a:lnTo>
                  <a:lnTo>
                    <a:pt x="190" y="1719"/>
                  </a:lnTo>
                  <a:lnTo>
                    <a:pt x="196" y="1719"/>
                  </a:lnTo>
                  <a:lnTo>
                    <a:pt x="203" y="1719"/>
                  </a:lnTo>
                  <a:lnTo>
                    <a:pt x="208" y="1719"/>
                  </a:lnTo>
                  <a:lnTo>
                    <a:pt x="214" y="1719"/>
                  </a:lnTo>
                  <a:lnTo>
                    <a:pt x="220" y="1719"/>
                  </a:lnTo>
                  <a:lnTo>
                    <a:pt x="226" y="1719"/>
                  </a:lnTo>
                  <a:lnTo>
                    <a:pt x="233" y="1719"/>
                  </a:lnTo>
                  <a:lnTo>
                    <a:pt x="238" y="1719"/>
                  </a:lnTo>
                  <a:lnTo>
                    <a:pt x="244" y="1719"/>
                  </a:lnTo>
                  <a:lnTo>
                    <a:pt x="250" y="1719"/>
                  </a:lnTo>
                  <a:lnTo>
                    <a:pt x="256" y="1719"/>
                  </a:lnTo>
                  <a:lnTo>
                    <a:pt x="263" y="1719"/>
                  </a:lnTo>
                  <a:lnTo>
                    <a:pt x="268" y="1719"/>
                  </a:lnTo>
                  <a:lnTo>
                    <a:pt x="274" y="1719"/>
                  </a:lnTo>
                  <a:lnTo>
                    <a:pt x="281" y="1719"/>
                  </a:lnTo>
                  <a:lnTo>
                    <a:pt x="286" y="1719"/>
                  </a:lnTo>
                  <a:lnTo>
                    <a:pt x="293" y="1719"/>
                  </a:lnTo>
                  <a:lnTo>
                    <a:pt x="298" y="1719"/>
                  </a:lnTo>
                  <a:lnTo>
                    <a:pt x="304" y="1719"/>
                  </a:lnTo>
                  <a:lnTo>
                    <a:pt x="311" y="1719"/>
                  </a:lnTo>
                  <a:lnTo>
                    <a:pt x="316" y="1719"/>
                  </a:lnTo>
                  <a:lnTo>
                    <a:pt x="323" y="1719"/>
                  </a:lnTo>
                  <a:lnTo>
                    <a:pt x="329" y="1719"/>
                  </a:lnTo>
                  <a:lnTo>
                    <a:pt x="334" y="1719"/>
                  </a:lnTo>
                  <a:lnTo>
                    <a:pt x="341" y="1719"/>
                  </a:lnTo>
                  <a:lnTo>
                    <a:pt x="346" y="1719"/>
                  </a:lnTo>
                  <a:lnTo>
                    <a:pt x="353" y="1719"/>
                  </a:lnTo>
                  <a:lnTo>
                    <a:pt x="359" y="1719"/>
                  </a:lnTo>
                  <a:lnTo>
                    <a:pt x="364" y="1719"/>
                  </a:lnTo>
                  <a:lnTo>
                    <a:pt x="371" y="1719"/>
                  </a:lnTo>
                  <a:lnTo>
                    <a:pt x="376" y="1719"/>
                  </a:lnTo>
                  <a:lnTo>
                    <a:pt x="383" y="1719"/>
                  </a:lnTo>
                  <a:lnTo>
                    <a:pt x="389" y="1719"/>
                  </a:lnTo>
                  <a:lnTo>
                    <a:pt x="395" y="1719"/>
                  </a:lnTo>
                  <a:lnTo>
                    <a:pt x="401" y="1719"/>
                  </a:lnTo>
                  <a:lnTo>
                    <a:pt x="407" y="1719"/>
                  </a:lnTo>
                  <a:lnTo>
                    <a:pt x="413" y="1719"/>
                  </a:lnTo>
                  <a:lnTo>
                    <a:pt x="419" y="1719"/>
                  </a:lnTo>
                  <a:lnTo>
                    <a:pt x="425" y="1719"/>
                  </a:lnTo>
                  <a:lnTo>
                    <a:pt x="431" y="1719"/>
                  </a:lnTo>
                  <a:lnTo>
                    <a:pt x="437" y="1719"/>
                  </a:lnTo>
                  <a:lnTo>
                    <a:pt x="443" y="1719"/>
                  </a:lnTo>
                  <a:lnTo>
                    <a:pt x="449" y="1719"/>
                  </a:lnTo>
                  <a:lnTo>
                    <a:pt x="456" y="1719"/>
                  </a:lnTo>
                  <a:lnTo>
                    <a:pt x="461" y="1719"/>
                  </a:lnTo>
                  <a:lnTo>
                    <a:pt x="467" y="1719"/>
                  </a:lnTo>
                  <a:lnTo>
                    <a:pt x="473" y="1719"/>
                  </a:lnTo>
                  <a:lnTo>
                    <a:pt x="479" y="1719"/>
                  </a:lnTo>
                  <a:lnTo>
                    <a:pt x="486" y="1719"/>
                  </a:lnTo>
                  <a:lnTo>
                    <a:pt x="491" y="1719"/>
                  </a:lnTo>
                  <a:lnTo>
                    <a:pt x="497" y="1719"/>
                  </a:lnTo>
                  <a:lnTo>
                    <a:pt x="503" y="1719"/>
                  </a:lnTo>
                  <a:lnTo>
                    <a:pt x="509" y="1719"/>
                  </a:lnTo>
                  <a:lnTo>
                    <a:pt x="516" y="1719"/>
                  </a:lnTo>
                  <a:lnTo>
                    <a:pt x="521" y="1719"/>
                  </a:lnTo>
                  <a:lnTo>
                    <a:pt x="527" y="1719"/>
                  </a:lnTo>
                  <a:lnTo>
                    <a:pt x="534" y="1719"/>
                  </a:lnTo>
                  <a:lnTo>
                    <a:pt x="539" y="1719"/>
                  </a:lnTo>
                  <a:lnTo>
                    <a:pt x="546" y="1719"/>
                  </a:lnTo>
                  <a:lnTo>
                    <a:pt x="551" y="1719"/>
                  </a:lnTo>
                  <a:lnTo>
                    <a:pt x="557" y="1719"/>
                  </a:lnTo>
                  <a:lnTo>
                    <a:pt x="564" y="1719"/>
                  </a:lnTo>
                  <a:lnTo>
                    <a:pt x="569" y="1719"/>
                  </a:lnTo>
                  <a:lnTo>
                    <a:pt x="576" y="1719"/>
                  </a:lnTo>
                  <a:lnTo>
                    <a:pt x="582" y="1719"/>
                  </a:lnTo>
                  <a:lnTo>
                    <a:pt x="587" y="1719"/>
                  </a:lnTo>
                  <a:lnTo>
                    <a:pt x="594" y="1719"/>
                  </a:lnTo>
                  <a:lnTo>
                    <a:pt x="599" y="1719"/>
                  </a:lnTo>
                  <a:lnTo>
                    <a:pt x="606" y="1719"/>
                  </a:lnTo>
                  <a:lnTo>
                    <a:pt x="612" y="1719"/>
                  </a:lnTo>
                  <a:lnTo>
                    <a:pt x="617" y="1719"/>
                  </a:lnTo>
                  <a:lnTo>
                    <a:pt x="624" y="1719"/>
                  </a:lnTo>
                  <a:lnTo>
                    <a:pt x="629" y="1719"/>
                  </a:lnTo>
                  <a:lnTo>
                    <a:pt x="636" y="1719"/>
                  </a:lnTo>
                  <a:lnTo>
                    <a:pt x="642" y="1719"/>
                  </a:lnTo>
                  <a:lnTo>
                    <a:pt x="647" y="1719"/>
                  </a:lnTo>
                  <a:lnTo>
                    <a:pt x="654" y="1719"/>
                  </a:lnTo>
                  <a:lnTo>
                    <a:pt x="660" y="1719"/>
                  </a:lnTo>
                  <a:lnTo>
                    <a:pt x="666" y="1719"/>
                  </a:lnTo>
                  <a:lnTo>
                    <a:pt x="672" y="1719"/>
                  </a:lnTo>
                  <a:lnTo>
                    <a:pt x="677" y="1719"/>
                  </a:lnTo>
                  <a:lnTo>
                    <a:pt x="684" y="1719"/>
                  </a:lnTo>
                  <a:lnTo>
                    <a:pt x="690" y="1719"/>
                  </a:lnTo>
                  <a:lnTo>
                    <a:pt x="696" y="1719"/>
                  </a:lnTo>
                  <a:lnTo>
                    <a:pt x="702" y="1719"/>
                  </a:lnTo>
                  <a:lnTo>
                    <a:pt x="707" y="1719"/>
                  </a:lnTo>
                  <a:lnTo>
                    <a:pt x="714" y="1719"/>
                  </a:lnTo>
                  <a:lnTo>
                    <a:pt x="720" y="1719"/>
                  </a:lnTo>
                  <a:lnTo>
                    <a:pt x="726" y="1719"/>
                  </a:lnTo>
                  <a:lnTo>
                    <a:pt x="732" y="1719"/>
                  </a:lnTo>
                  <a:lnTo>
                    <a:pt x="738" y="1719"/>
                  </a:lnTo>
                  <a:lnTo>
                    <a:pt x="744" y="1719"/>
                  </a:lnTo>
                  <a:lnTo>
                    <a:pt x="750" y="1719"/>
                  </a:lnTo>
                  <a:lnTo>
                    <a:pt x="757" y="1719"/>
                  </a:lnTo>
                  <a:lnTo>
                    <a:pt x="762" y="1719"/>
                  </a:lnTo>
                  <a:lnTo>
                    <a:pt x="769" y="1719"/>
                  </a:lnTo>
                  <a:lnTo>
                    <a:pt x="774" y="1719"/>
                  </a:lnTo>
                  <a:lnTo>
                    <a:pt x="780" y="1719"/>
                  </a:lnTo>
                  <a:lnTo>
                    <a:pt x="787" y="1719"/>
                  </a:lnTo>
                  <a:lnTo>
                    <a:pt x="792" y="1719"/>
                  </a:lnTo>
                  <a:lnTo>
                    <a:pt x="799" y="1719"/>
                  </a:lnTo>
                  <a:lnTo>
                    <a:pt x="804" y="1719"/>
                  </a:lnTo>
                  <a:lnTo>
                    <a:pt x="810" y="1719"/>
                  </a:lnTo>
                  <a:lnTo>
                    <a:pt x="817" y="1719"/>
                  </a:lnTo>
                  <a:lnTo>
                    <a:pt x="822" y="1719"/>
                  </a:lnTo>
                  <a:lnTo>
                    <a:pt x="829" y="1719"/>
                  </a:lnTo>
                  <a:lnTo>
                    <a:pt x="835" y="1719"/>
                  </a:lnTo>
                  <a:lnTo>
                    <a:pt x="840" y="1719"/>
                  </a:lnTo>
                  <a:lnTo>
                    <a:pt x="847" y="1719"/>
                  </a:lnTo>
                  <a:lnTo>
                    <a:pt x="852" y="1719"/>
                  </a:lnTo>
                  <a:lnTo>
                    <a:pt x="859" y="1719"/>
                  </a:lnTo>
                  <a:lnTo>
                    <a:pt x="865" y="1719"/>
                  </a:lnTo>
                  <a:lnTo>
                    <a:pt x="870" y="1719"/>
                  </a:lnTo>
                  <a:lnTo>
                    <a:pt x="877" y="1719"/>
                  </a:lnTo>
                  <a:lnTo>
                    <a:pt x="882" y="1719"/>
                  </a:lnTo>
                  <a:lnTo>
                    <a:pt x="889" y="1719"/>
                  </a:lnTo>
                  <a:lnTo>
                    <a:pt x="895" y="1719"/>
                  </a:lnTo>
                  <a:lnTo>
                    <a:pt x="900" y="1719"/>
                  </a:lnTo>
                  <a:lnTo>
                    <a:pt x="907" y="1719"/>
                  </a:lnTo>
                  <a:lnTo>
                    <a:pt x="913" y="1719"/>
                  </a:lnTo>
                  <a:lnTo>
                    <a:pt x="919" y="1719"/>
                  </a:lnTo>
                  <a:lnTo>
                    <a:pt x="925" y="1719"/>
                  </a:lnTo>
                  <a:lnTo>
                    <a:pt x="930" y="1719"/>
                  </a:lnTo>
                  <a:lnTo>
                    <a:pt x="937" y="1719"/>
                  </a:lnTo>
                  <a:lnTo>
                    <a:pt x="943" y="1719"/>
                  </a:lnTo>
                  <a:lnTo>
                    <a:pt x="949" y="1719"/>
                  </a:lnTo>
                  <a:lnTo>
                    <a:pt x="955" y="1719"/>
                  </a:lnTo>
                  <a:lnTo>
                    <a:pt x="961" y="1719"/>
                  </a:lnTo>
                  <a:lnTo>
                    <a:pt x="967" y="1719"/>
                  </a:lnTo>
                  <a:lnTo>
                    <a:pt x="973" y="1719"/>
                  </a:lnTo>
                  <a:lnTo>
                    <a:pt x="979" y="1719"/>
                  </a:lnTo>
                  <a:lnTo>
                    <a:pt x="985" y="1719"/>
                  </a:lnTo>
                  <a:lnTo>
                    <a:pt x="991" y="1719"/>
                  </a:lnTo>
                  <a:lnTo>
                    <a:pt x="997" y="1719"/>
                  </a:lnTo>
                  <a:lnTo>
                    <a:pt x="1003" y="1719"/>
                  </a:lnTo>
                  <a:lnTo>
                    <a:pt x="1010" y="1719"/>
                  </a:lnTo>
                  <a:lnTo>
                    <a:pt x="1015" y="1719"/>
                  </a:lnTo>
                  <a:lnTo>
                    <a:pt x="1021" y="1719"/>
                  </a:lnTo>
                  <a:lnTo>
                    <a:pt x="1027" y="1719"/>
                  </a:lnTo>
                  <a:lnTo>
                    <a:pt x="1033" y="1719"/>
                  </a:lnTo>
                  <a:lnTo>
                    <a:pt x="1040" y="1719"/>
                  </a:lnTo>
                  <a:lnTo>
                    <a:pt x="1045" y="1719"/>
                  </a:lnTo>
                  <a:lnTo>
                    <a:pt x="1051" y="1719"/>
                  </a:lnTo>
                  <a:lnTo>
                    <a:pt x="1057" y="1719"/>
                  </a:lnTo>
                  <a:lnTo>
                    <a:pt x="1063" y="1719"/>
                  </a:lnTo>
                  <a:lnTo>
                    <a:pt x="1070" y="1719"/>
                  </a:lnTo>
                  <a:lnTo>
                    <a:pt x="1075" y="1719"/>
                  </a:lnTo>
                  <a:lnTo>
                    <a:pt x="1081" y="1719"/>
                  </a:lnTo>
                  <a:lnTo>
                    <a:pt x="1088" y="1719"/>
                  </a:lnTo>
                  <a:lnTo>
                    <a:pt x="1093" y="1719"/>
                  </a:lnTo>
                  <a:lnTo>
                    <a:pt x="1100" y="1719"/>
                  </a:lnTo>
                  <a:lnTo>
                    <a:pt x="1105" y="1719"/>
                  </a:lnTo>
                  <a:lnTo>
                    <a:pt x="1111" y="1719"/>
                  </a:lnTo>
                  <a:lnTo>
                    <a:pt x="1118" y="1719"/>
                  </a:lnTo>
                  <a:lnTo>
                    <a:pt x="1123" y="1719"/>
                  </a:lnTo>
                  <a:lnTo>
                    <a:pt x="1130" y="1719"/>
                  </a:lnTo>
                  <a:lnTo>
                    <a:pt x="1135" y="1719"/>
                  </a:lnTo>
                  <a:lnTo>
                    <a:pt x="1142" y="1719"/>
                  </a:lnTo>
                  <a:lnTo>
                    <a:pt x="1148" y="1719"/>
                  </a:lnTo>
                  <a:lnTo>
                    <a:pt x="1153" y="1719"/>
                  </a:lnTo>
                  <a:lnTo>
                    <a:pt x="1160" y="1719"/>
                  </a:lnTo>
                  <a:lnTo>
                    <a:pt x="1166" y="1719"/>
                  </a:lnTo>
                  <a:lnTo>
                    <a:pt x="1172" y="1719"/>
                  </a:lnTo>
                  <a:lnTo>
                    <a:pt x="1178" y="1719"/>
                  </a:lnTo>
                  <a:lnTo>
                    <a:pt x="1183" y="1719"/>
                  </a:lnTo>
                  <a:lnTo>
                    <a:pt x="1190" y="1719"/>
                  </a:lnTo>
                  <a:lnTo>
                    <a:pt x="1196" y="1719"/>
                  </a:lnTo>
                  <a:lnTo>
                    <a:pt x="1202" y="1719"/>
                  </a:lnTo>
                  <a:lnTo>
                    <a:pt x="1208" y="1719"/>
                  </a:lnTo>
                  <a:lnTo>
                    <a:pt x="1214" y="1719"/>
                  </a:lnTo>
                  <a:lnTo>
                    <a:pt x="1220" y="1719"/>
                  </a:lnTo>
                  <a:lnTo>
                    <a:pt x="1226" y="1719"/>
                  </a:lnTo>
                  <a:lnTo>
                    <a:pt x="1232" y="1719"/>
                  </a:lnTo>
                  <a:lnTo>
                    <a:pt x="1238" y="1719"/>
                  </a:lnTo>
                  <a:lnTo>
                    <a:pt x="1244" y="1718"/>
                  </a:lnTo>
                  <a:lnTo>
                    <a:pt x="1250" y="1718"/>
                  </a:lnTo>
                  <a:lnTo>
                    <a:pt x="1256" y="1718"/>
                  </a:lnTo>
                  <a:lnTo>
                    <a:pt x="1263" y="1718"/>
                  </a:lnTo>
                  <a:lnTo>
                    <a:pt x="1268" y="1718"/>
                  </a:lnTo>
                  <a:lnTo>
                    <a:pt x="1274" y="1718"/>
                  </a:lnTo>
                  <a:lnTo>
                    <a:pt x="1280" y="1718"/>
                  </a:lnTo>
                  <a:lnTo>
                    <a:pt x="1286" y="1718"/>
                  </a:lnTo>
                  <a:lnTo>
                    <a:pt x="1293" y="1717"/>
                  </a:lnTo>
                  <a:lnTo>
                    <a:pt x="1298" y="1717"/>
                  </a:lnTo>
                  <a:lnTo>
                    <a:pt x="1304" y="1716"/>
                  </a:lnTo>
                  <a:lnTo>
                    <a:pt x="1310" y="1716"/>
                  </a:lnTo>
                  <a:lnTo>
                    <a:pt x="1316" y="1715"/>
                  </a:lnTo>
                  <a:lnTo>
                    <a:pt x="1323" y="1713"/>
                  </a:lnTo>
                  <a:lnTo>
                    <a:pt x="1328" y="1711"/>
                  </a:lnTo>
                  <a:lnTo>
                    <a:pt x="1334" y="1710"/>
                  </a:lnTo>
                  <a:lnTo>
                    <a:pt x="1341" y="1708"/>
                  </a:lnTo>
                  <a:lnTo>
                    <a:pt x="1346" y="1705"/>
                  </a:lnTo>
                  <a:lnTo>
                    <a:pt x="1353" y="1701"/>
                  </a:lnTo>
                  <a:lnTo>
                    <a:pt x="1358" y="1697"/>
                  </a:lnTo>
                  <a:lnTo>
                    <a:pt x="1364" y="1691"/>
                  </a:lnTo>
                  <a:lnTo>
                    <a:pt x="1371" y="1684"/>
                  </a:lnTo>
                  <a:lnTo>
                    <a:pt x="1376" y="1677"/>
                  </a:lnTo>
                  <a:lnTo>
                    <a:pt x="1383" y="1667"/>
                  </a:lnTo>
                  <a:lnTo>
                    <a:pt x="1389" y="1655"/>
                  </a:lnTo>
                  <a:lnTo>
                    <a:pt x="1394" y="1642"/>
                  </a:lnTo>
                  <a:lnTo>
                    <a:pt x="1401" y="1626"/>
                  </a:lnTo>
                  <a:lnTo>
                    <a:pt x="1406" y="1609"/>
                  </a:lnTo>
                  <a:lnTo>
                    <a:pt x="1413" y="1587"/>
                  </a:lnTo>
                  <a:lnTo>
                    <a:pt x="1419" y="1563"/>
                  </a:lnTo>
                  <a:lnTo>
                    <a:pt x="1424" y="1536"/>
                  </a:lnTo>
                  <a:lnTo>
                    <a:pt x="1431" y="1505"/>
                  </a:lnTo>
                  <a:lnTo>
                    <a:pt x="1436" y="1469"/>
                  </a:lnTo>
                  <a:lnTo>
                    <a:pt x="1443" y="1430"/>
                  </a:lnTo>
                  <a:lnTo>
                    <a:pt x="1449" y="1387"/>
                  </a:lnTo>
                  <a:lnTo>
                    <a:pt x="1454" y="1340"/>
                  </a:lnTo>
                  <a:lnTo>
                    <a:pt x="1461" y="1287"/>
                  </a:lnTo>
                  <a:lnTo>
                    <a:pt x="1467" y="1232"/>
                  </a:lnTo>
                  <a:lnTo>
                    <a:pt x="1473" y="1170"/>
                  </a:lnTo>
                  <a:lnTo>
                    <a:pt x="1479" y="1105"/>
                  </a:lnTo>
                  <a:lnTo>
                    <a:pt x="1484" y="1037"/>
                  </a:lnTo>
                  <a:lnTo>
                    <a:pt x="1491" y="966"/>
                  </a:lnTo>
                  <a:lnTo>
                    <a:pt x="1497" y="891"/>
                  </a:lnTo>
                  <a:lnTo>
                    <a:pt x="1503" y="815"/>
                  </a:lnTo>
                  <a:lnTo>
                    <a:pt x="1509" y="737"/>
                  </a:lnTo>
                  <a:lnTo>
                    <a:pt x="1516" y="658"/>
                  </a:lnTo>
                  <a:lnTo>
                    <a:pt x="1521" y="580"/>
                  </a:lnTo>
                  <a:lnTo>
                    <a:pt x="1527" y="503"/>
                  </a:lnTo>
                  <a:lnTo>
                    <a:pt x="1533" y="427"/>
                  </a:lnTo>
                  <a:lnTo>
                    <a:pt x="1539" y="356"/>
                  </a:lnTo>
                  <a:lnTo>
                    <a:pt x="1546" y="288"/>
                  </a:lnTo>
                  <a:lnTo>
                    <a:pt x="1551" y="225"/>
                  </a:lnTo>
                  <a:lnTo>
                    <a:pt x="1557" y="168"/>
                  </a:lnTo>
                  <a:lnTo>
                    <a:pt x="1564" y="119"/>
                  </a:lnTo>
                  <a:lnTo>
                    <a:pt x="1569" y="77"/>
                  </a:lnTo>
                  <a:lnTo>
                    <a:pt x="1576" y="45"/>
                  </a:lnTo>
                  <a:lnTo>
                    <a:pt x="1581" y="20"/>
                  </a:lnTo>
                  <a:lnTo>
                    <a:pt x="1587" y="6"/>
                  </a:lnTo>
                  <a:lnTo>
                    <a:pt x="1594" y="0"/>
                  </a:lnTo>
                  <a:lnTo>
                    <a:pt x="1599" y="6"/>
                  </a:lnTo>
                  <a:lnTo>
                    <a:pt x="1606" y="20"/>
                  </a:lnTo>
                  <a:lnTo>
                    <a:pt x="1611" y="45"/>
                  </a:lnTo>
                  <a:lnTo>
                    <a:pt x="1617" y="77"/>
                  </a:lnTo>
                  <a:lnTo>
                    <a:pt x="1624" y="119"/>
                  </a:lnTo>
                  <a:lnTo>
                    <a:pt x="1629" y="168"/>
                  </a:lnTo>
                  <a:lnTo>
                    <a:pt x="1636" y="225"/>
                  </a:lnTo>
                  <a:lnTo>
                    <a:pt x="1642" y="288"/>
                  </a:lnTo>
                  <a:lnTo>
                    <a:pt x="1647" y="356"/>
                  </a:lnTo>
                  <a:lnTo>
                    <a:pt x="1654" y="427"/>
                  </a:lnTo>
                  <a:lnTo>
                    <a:pt x="1659" y="503"/>
                  </a:lnTo>
                  <a:lnTo>
                    <a:pt x="1666" y="580"/>
                  </a:lnTo>
                  <a:lnTo>
                    <a:pt x="1672" y="658"/>
                  </a:lnTo>
                  <a:lnTo>
                    <a:pt x="1677" y="737"/>
                  </a:lnTo>
                  <a:lnTo>
                    <a:pt x="1684" y="815"/>
                  </a:lnTo>
                  <a:lnTo>
                    <a:pt x="1689" y="891"/>
                  </a:lnTo>
                  <a:lnTo>
                    <a:pt x="1696" y="966"/>
                  </a:lnTo>
                  <a:lnTo>
                    <a:pt x="1702" y="1037"/>
                  </a:lnTo>
                  <a:lnTo>
                    <a:pt x="1707" y="1105"/>
                  </a:lnTo>
                  <a:lnTo>
                    <a:pt x="1714" y="1170"/>
                  </a:lnTo>
                  <a:lnTo>
                    <a:pt x="1720" y="1232"/>
                  </a:lnTo>
                  <a:lnTo>
                    <a:pt x="1726" y="1287"/>
                  </a:lnTo>
                  <a:lnTo>
                    <a:pt x="1732" y="1340"/>
                  </a:lnTo>
                  <a:lnTo>
                    <a:pt x="1737" y="1387"/>
                  </a:lnTo>
                  <a:lnTo>
                    <a:pt x="1744" y="1430"/>
                  </a:lnTo>
                  <a:lnTo>
                    <a:pt x="1750" y="1469"/>
                  </a:lnTo>
                  <a:lnTo>
                    <a:pt x="1756" y="1505"/>
                  </a:lnTo>
                  <a:lnTo>
                    <a:pt x="1762" y="1536"/>
                  </a:lnTo>
                  <a:lnTo>
                    <a:pt x="1767" y="1563"/>
                  </a:lnTo>
                  <a:lnTo>
                    <a:pt x="1774" y="1587"/>
                  </a:lnTo>
                  <a:lnTo>
                    <a:pt x="1780" y="1609"/>
                  </a:lnTo>
                  <a:lnTo>
                    <a:pt x="1786" y="1626"/>
                  </a:lnTo>
                  <a:lnTo>
                    <a:pt x="1792" y="1642"/>
                  </a:lnTo>
                  <a:lnTo>
                    <a:pt x="1798" y="1655"/>
                  </a:lnTo>
                  <a:lnTo>
                    <a:pt x="1804" y="1667"/>
                  </a:lnTo>
                  <a:lnTo>
                    <a:pt x="1810" y="1677"/>
                  </a:lnTo>
                  <a:lnTo>
                    <a:pt x="1817" y="1684"/>
                  </a:lnTo>
                  <a:lnTo>
                    <a:pt x="1822" y="1691"/>
                  </a:lnTo>
                  <a:lnTo>
                    <a:pt x="1828" y="1697"/>
                  </a:lnTo>
                  <a:lnTo>
                    <a:pt x="1834" y="1701"/>
                  </a:lnTo>
                  <a:lnTo>
                    <a:pt x="1840" y="1705"/>
                  </a:lnTo>
                  <a:lnTo>
                    <a:pt x="1847" y="1708"/>
                  </a:lnTo>
                  <a:lnTo>
                    <a:pt x="1852" y="1710"/>
                  </a:lnTo>
                  <a:lnTo>
                    <a:pt x="1858" y="1711"/>
                  </a:lnTo>
                  <a:lnTo>
                    <a:pt x="1864" y="1713"/>
                  </a:lnTo>
                  <a:lnTo>
                    <a:pt x="1870" y="1715"/>
                  </a:lnTo>
                  <a:lnTo>
                    <a:pt x="1877" y="1716"/>
                  </a:lnTo>
                  <a:lnTo>
                    <a:pt x="1882" y="1716"/>
                  </a:lnTo>
                  <a:lnTo>
                    <a:pt x="1889" y="1717"/>
                  </a:lnTo>
                  <a:lnTo>
                    <a:pt x="1895" y="1717"/>
                  </a:lnTo>
                  <a:lnTo>
                    <a:pt x="1900" y="1718"/>
                  </a:lnTo>
                  <a:lnTo>
                    <a:pt x="1907" y="1718"/>
                  </a:lnTo>
                  <a:lnTo>
                    <a:pt x="1912" y="1718"/>
                  </a:lnTo>
                  <a:lnTo>
                    <a:pt x="1919" y="1718"/>
                  </a:lnTo>
                  <a:lnTo>
                    <a:pt x="1925" y="1718"/>
                  </a:lnTo>
                  <a:lnTo>
                    <a:pt x="1930" y="1718"/>
                  </a:lnTo>
                  <a:lnTo>
                    <a:pt x="1937" y="1718"/>
                  </a:lnTo>
                  <a:lnTo>
                    <a:pt x="1942" y="1718"/>
                  </a:lnTo>
                  <a:lnTo>
                    <a:pt x="1949" y="1719"/>
                  </a:lnTo>
                  <a:lnTo>
                    <a:pt x="1955" y="1719"/>
                  </a:lnTo>
                  <a:lnTo>
                    <a:pt x="1960" y="1719"/>
                  </a:lnTo>
                  <a:lnTo>
                    <a:pt x="1967" y="1719"/>
                  </a:lnTo>
                  <a:lnTo>
                    <a:pt x="1973" y="1719"/>
                  </a:lnTo>
                  <a:lnTo>
                    <a:pt x="1979" y="1719"/>
                  </a:lnTo>
                  <a:lnTo>
                    <a:pt x="1985" y="1719"/>
                  </a:lnTo>
                  <a:lnTo>
                    <a:pt x="1990" y="1719"/>
                  </a:lnTo>
                  <a:lnTo>
                    <a:pt x="1997" y="1719"/>
                  </a:lnTo>
                  <a:lnTo>
                    <a:pt x="2003" y="1719"/>
                  </a:lnTo>
                  <a:lnTo>
                    <a:pt x="2009" y="1719"/>
                  </a:lnTo>
                  <a:lnTo>
                    <a:pt x="2015" y="1719"/>
                  </a:lnTo>
                  <a:lnTo>
                    <a:pt x="2021" y="1719"/>
                  </a:lnTo>
                  <a:lnTo>
                    <a:pt x="2027" y="1719"/>
                  </a:lnTo>
                  <a:lnTo>
                    <a:pt x="2033" y="1719"/>
                  </a:lnTo>
                  <a:lnTo>
                    <a:pt x="2039" y="1719"/>
                  </a:lnTo>
                  <a:lnTo>
                    <a:pt x="2045" y="1719"/>
                  </a:lnTo>
                  <a:lnTo>
                    <a:pt x="2051" y="1719"/>
                  </a:lnTo>
                  <a:lnTo>
                    <a:pt x="2057" y="1719"/>
                  </a:lnTo>
                  <a:lnTo>
                    <a:pt x="2063" y="1719"/>
                  </a:lnTo>
                  <a:lnTo>
                    <a:pt x="2070" y="1719"/>
                  </a:lnTo>
                  <a:lnTo>
                    <a:pt x="2075" y="1719"/>
                  </a:lnTo>
                  <a:lnTo>
                    <a:pt x="2081" y="1719"/>
                  </a:lnTo>
                  <a:lnTo>
                    <a:pt x="2087" y="1719"/>
                  </a:lnTo>
                  <a:lnTo>
                    <a:pt x="2093" y="1719"/>
                  </a:lnTo>
                  <a:lnTo>
                    <a:pt x="2100" y="1719"/>
                  </a:lnTo>
                  <a:lnTo>
                    <a:pt x="2105" y="1719"/>
                  </a:lnTo>
                  <a:lnTo>
                    <a:pt x="2111" y="1719"/>
                  </a:lnTo>
                  <a:lnTo>
                    <a:pt x="2117" y="1719"/>
                  </a:lnTo>
                  <a:lnTo>
                    <a:pt x="2123" y="1719"/>
                  </a:lnTo>
                  <a:lnTo>
                    <a:pt x="2130" y="1719"/>
                  </a:lnTo>
                  <a:lnTo>
                    <a:pt x="2135" y="1719"/>
                  </a:lnTo>
                  <a:lnTo>
                    <a:pt x="2141" y="1719"/>
                  </a:lnTo>
                  <a:lnTo>
                    <a:pt x="2148" y="1719"/>
                  </a:lnTo>
                  <a:lnTo>
                    <a:pt x="2153" y="1719"/>
                  </a:lnTo>
                  <a:lnTo>
                    <a:pt x="2160" y="1719"/>
                  </a:lnTo>
                  <a:lnTo>
                    <a:pt x="2165" y="1719"/>
                  </a:lnTo>
                  <a:lnTo>
                    <a:pt x="2171" y="1719"/>
                  </a:lnTo>
                  <a:lnTo>
                    <a:pt x="2178" y="1719"/>
                  </a:lnTo>
                  <a:lnTo>
                    <a:pt x="2183" y="1719"/>
                  </a:lnTo>
                  <a:lnTo>
                    <a:pt x="2190" y="1719"/>
                  </a:lnTo>
                  <a:lnTo>
                    <a:pt x="2196" y="1719"/>
                  </a:lnTo>
                  <a:lnTo>
                    <a:pt x="2201" y="1719"/>
                  </a:lnTo>
                  <a:lnTo>
                    <a:pt x="2208" y="1719"/>
                  </a:lnTo>
                  <a:lnTo>
                    <a:pt x="2213" y="1719"/>
                  </a:lnTo>
                  <a:lnTo>
                    <a:pt x="2220" y="1719"/>
                  </a:lnTo>
                  <a:lnTo>
                    <a:pt x="2226" y="1719"/>
                  </a:lnTo>
                  <a:lnTo>
                    <a:pt x="2231" y="1719"/>
                  </a:lnTo>
                  <a:lnTo>
                    <a:pt x="2238" y="1719"/>
                  </a:lnTo>
                  <a:lnTo>
                    <a:pt x="2243" y="1719"/>
                  </a:lnTo>
                  <a:lnTo>
                    <a:pt x="2250" y="1719"/>
                  </a:lnTo>
                  <a:lnTo>
                    <a:pt x="2256" y="1719"/>
                  </a:lnTo>
                  <a:lnTo>
                    <a:pt x="2262" y="1719"/>
                  </a:lnTo>
                  <a:lnTo>
                    <a:pt x="2268" y="1719"/>
                  </a:lnTo>
                  <a:lnTo>
                    <a:pt x="2274" y="1719"/>
                  </a:lnTo>
                  <a:lnTo>
                    <a:pt x="2280" y="1719"/>
                  </a:lnTo>
                  <a:lnTo>
                    <a:pt x="2286" y="1719"/>
                  </a:lnTo>
                  <a:lnTo>
                    <a:pt x="2292" y="1719"/>
                  </a:lnTo>
                  <a:lnTo>
                    <a:pt x="2298" y="1719"/>
                  </a:lnTo>
                  <a:lnTo>
                    <a:pt x="2304" y="1719"/>
                  </a:lnTo>
                  <a:lnTo>
                    <a:pt x="2310" y="1719"/>
                  </a:lnTo>
                  <a:lnTo>
                    <a:pt x="2316" y="1719"/>
                  </a:lnTo>
                  <a:lnTo>
                    <a:pt x="2323" y="1719"/>
                  </a:lnTo>
                  <a:lnTo>
                    <a:pt x="2328" y="1719"/>
                  </a:lnTo>
                  <a:lnTo>
                    <a:pt x="2334" y="1719"/>
                  </a:lnTo>
                  <a:lnTo>
                    <a:pt x="2340" y="1719"/>
                  </a:lnTo>
                  <a:lnTo>
                    <a:pt x="2346" y="1719"/>
                  </a:lnTo>
                  <a:lnTo>
                    <a:pt x="2353" y="1719"/>
                  </a:lnTo>
                  <a:lnTo>
                    <a:pt x="2358" y="1719"/>
                  </a:lnTo>
                  <a:lnTo>
                    <a:pt x="2364" y="1719"/>
                  </a:lnTo>
                  <a:lnTo>
                    <a:pt x="2371" y="1719"/>
                  </a:lnTo>
                  <a:lnTo>
                    <a:pt x="2376" y="1719"/>
                  </a:lnTo>
                  <a:lnTo>
                    <a:pt x="2383" y="1719"/>
                  </a:lnTo>
                  <a:lnTo>
                    <a:pt x="2388" y="1719"/>
                  </a:lnTo>
                  <a:lnTo>
                    <a:pt x="2394" y="1719"/>
                  </a:lnTo>
                  <a:lnTo>
                    <a:pt x="2401" y="1719"/>
                  </a:lnTo>
                  <a:lnTo>
                    <a:pt x="2406" y="1719"/>
                  </a:lnTo>
                  <a:lnTo>
                    <a:pt x="2413" y="1719"/>
                  </a:lnTo>
                  <a:lnTo>
                    <a:pt x="2418" y="1719"/>
                  </a:lnTo>
                  <a:lnTo>
                    <a:pt x="2424" y="1719"/>
                  </a:lnTo>
                  <a:lnTo>
                    <a:pt x="2431" y="1719"/>
                  </a:lnTo>
                  <a:lnTo>
                    <a:pt x="2436" y="1719"/>
                  </a:lnTo>
                  <a:lnTo>
                    <a:pt x="2443" y="1719"/>
                  </a:lnTo>
                  <a:lnTo>
                    <a:pt x="2449" y="1719"/>
                  </a:lnTo>
                  <a:lnTo>
                    <a:pt x="2454" y="1719"/>
                  </a:lnTo>
                  <a:lnTo>
                    <a:pt x="2461" y="1719"/>
                  </a:lnTo>
                  <a:lnTo>
                    <a:pt x="2466" y="1719"/>
                  </a:lnTo>
                  <a:lnTo>
                    <a:pt x="2473" y="1719"/>
                  </a:lnTo>
                  <a:lnTo>
                    <a:pt x="2479" y="1719"/>
                  </a:lnTo>
                  <a:lnTo>
                    <a:pt x="2484" y="1719"/>
                  </a:lnTo>
                  <a:lnTo>
                    <a:pt x="2491" y="1719"/>
                  </a:lnTo>
                  <a:lnTo>
                    <a:pt x="2496" y="1719"/>
                  </a:lnTo>
                  <a:lnTo>
                    <a:pt x="2503" y="1719"/>
                  </a:lnTo>
                  <a:lnTo>
                    <a:pt x="2509" y="1719"/>
                  </a:lnTo>
                  <a:lnTo>
                    <a:pt x="2514" y="1719"/>
                  </a:lnTo>
                  <a:lnTo>
                    <a:pt x="2521" y="1719"/>
                  </a:lnTo>
                  <a:lnTo>
                    <a:pt x="2527" y="1719"/>
                  </a:lnTo>
                  <a:lnTo>
                    <a:pt x="2533" y="1719"/>
                  </a:lnTo>
                  <a:lnTo>
                    <a:pt x="2539" y="1719"/>
                  </a:lnTo>
                  <a:lnTo>
                    <a:pt x="2544" y="1719"/>
                  </a:lnTo>
                  <a:lnTo>
                    <a:pt x="2551" y="1719"/>
                  </a:lnTo>
                  <a:lnTo>
                    <a:pt x="2557" y="1719"/>
                  </a:lnTo>
                  <a:lnTo>
                    <a:pt x="2563" y="1719"/>
                  </a:lnTo>
                  <a:lnTo>
                    <a:pt x="2569" y="1719"/>
                  </a:lnTo>
                  <a:lnTo>
                    <a:pt x="2574" y="1719"/>
                  </a:lnTo>
                  <a:lnTo>
                    <a:pt x="2581" y="1719"/>
                  </a:lnTo>
                  <a:lnTo>
                    <a:pt x="2587" y="1719"/>
                  </a:lnTo>
                  <a:lnTo>
                    <a:pt x="2593" y="1719"/>
                  </a:lnTo>
                  <a:lnTo>
                    <a:pt x="2599" y="1719"/>
                  </a:lnTo>
                  <a:lnTo>
                    <a:pt x="2605" y="1719"/>
                  </a:lnTo>
                  <a:lnTo>
                    <a:pt x="2611" y="1719"/>
                  </a:lnTo>
                  <a:lnTo>
                    <a:pt x="2617" y="1719"/>
                  </a:lnTo>
                  <a:lnTo>
                    <a:pt x="2624" y="1719"/>
                  </a:lnTo>
                  <a:lnTo>
                    <a:pt x="2629" y="1719"/>
                  </a:lnTo>
                  <a:lnTo>
                    <a:pt x="2636" y="1719"/>
                  </a:lnTo>
                  <a:lnTo>
                    <a:pt x="2641" y="1719"/>
                  </a:lnTo>
                  <a:lnTo>
                    <a:pt x="2647" y="1719"/>
                  </a:lnTo>
                  <a:lnTo>
                    <a:pt x="2654" y="1719"/>
                  </a:lnTo>
                  <a:lnTo>
                    <a:pt x="2659" y="1719"/>
                  </a:lnTo>
                  <a:lnTo>
                    <a:pt x="2666" y="1719"/>
                  </a:lnTo>
                  <a:lnTo>
                    <a:pt x="2671" y="1719"/>
                  </a:lnTo>
                  <a:lnTo>
                    <a:pt x="2677" y="1719"/>
                  </a:lnTo>
                  <a:lnTo>
                    <a:pt x="2684" y="1719"/>
                  </a:lnTo>
                  <a:lnTo>
                    <a:pt x="2689" y="1719"/>
                  </a:lnTo>
                  <a:lnTo>
                    <a:pt x="2696" y="1719"/>
                  </a:lnTo>
                  <a:lnTo>
                    <a:pt x="2702" y="1719"/>
                  </a:lnTo>
                  <a:lnTo>
                    <a:pt x="2707" y="1719"/>
                  </a:lnTo>
                  <a:lnTo>
                    <a:pt x="2714" y="1719"/>
                  </a:lnTo>
                  <a:lnTo>
                    <a:pt x="2719" y="1719"/>
                  </a:lnTo>
                  <a:lnTo>
                    <a:pt x="2726" y="1719"/>
                  </a:lnTo>
                  <a:lnTo>
                    <a:pt x="2732" y="1719"/>
                  </a:lnTo>
                  <a:lnTo>
                    <a:pt x="2737" y="1719"/>
                  </a:lnTo>
                  <a:lnTo>
                    <a:pt x="2744" y="1719"/>
                  </a:lnTo>
                  <a:lnTo>
                    <a:pt x="2749" y="1719"/>
                  </a:lnTo>
                  <a:lnTo>
                    <a:pt x="2756" y="1719"/>
                  </a:lnTo>
                  <a:lnTo>
                    <a:pt x="2762" y="1719"/>
                  </a:lnTo>
                  <a:lnTo>
                    <a:pt x="2767" y="1719"/>
                  </a:lnTo>
                  <a:lnTo>
                    <a:pt x="2774" y="1719"/>
                  </a:lnTo>
                  <a:lnTo>
                    <a:pt x="2780" y="1719"/>
                  </a:lnTo>
                  <a:lnTo>
                    <a:pt x="2786" y="1719"/>
                  </a:lnTo>
                  <a:lnTo>
                    <a:pt x="2792" y="1719"/>
                  </a:lnTo>
                  <a:lnTo>
                    <a:pt x="2797" y="1719"/>
                  </a:lnTo>
                  <a:lnTo>
                    <a:pt x="2804" y="1719"/>
                  </a:lnTo>
                  <a:lnTo>
                    <a:pt x="2810" y="1719"/>
                  </a:lnTo>
                  <a:lnTo>
                    <a:pt x="2816" y="1719"/>
                  </a:lnTo>
                  <a:lnTo>
                    <a:pt x="2822" y="1719"/>
                  </a:lnTo>
                  <a:lnTo>
                    <a:pt x="2828" y="1719"/>
                  </a:lnTo>
                  <a:lnTo>
                    <a:pt x="2834" y="1719"/>
                  </a:lnTo>
                  <a:lnTo>
                    <a:pt x="2840" y="1719"/>
                  </a:lnTo>
                  <a:lnTo>
                    <a:pt x="2846" y="1719"/>
                  </a:lnTo>
                  <a:lnTo>
                    <a:pt x="2852" y="1719"/>
                  </a:lnTo>
                  <a:lnTo>
                    <a:pt x="2858" y="1719"/>
                  </a:lnTo>
                  <a:lnTo>
                    <a:pt x="2864" y="1719"/>
                  </a:lnTo>
                  <a:lnTo>
                    <a:pt x="2870" y="1719"/>
                  </a:lnTo>
                  <a:lnTo>
                    <a:pt x="2877" y="1719"/>
                  </a:lnTo>
                  <a:lnTo>
                    <a:pt x="2882" y="1719"/>
                  </a:lnTo>
                  <a:lnTo>
                    <a:pt x="2888" y="1719"/>
                  </a:lnTo>
                  <a:lnTo>
                    <a:pt x="2894" y="1719"/>
                  </a:lnTo>
                  <a:lnTo>
                    <a:pt x="2900" y="1719"/>
                  </a:lnTo>
                  <a:lnTo>
                    <a:pt x="2907" y="1719"/>
                  </a:lnTo>
                  <a:lnTo>
                    <a:pt x="2912" y="1719"/>
                  </a:lnTo>
                  <a:lnTo>
                    <a:pt x="2918" y="1719"/>
                  </a:lnTo>
                  <a:lnTo>
                    <a:pt x="2924" y="1719"/>
                  </a:lnTo>
                  <a:lnTo>
                    <a:pt x="2930" y="1719"/>
                  </a:lnTo>
                  <a:lnTo>
                    <a:pt x="2937" y="1719"/>
                  </a:lnTo>
                  <a:lnTo>
                    <a:pt x="2942" y="1719"/>
                  </a:lnTo>
                  <a:lnTo>
                    <a:pt x="2948" y="1719"/>
                  </a:lnTo>
                  <a:lnTo>
                    <a:pt x="2955" y="1719"/>
                  </a:lnTo>
                  <a:lnTo>
                    <a:pt x="2960" y="1719"/>
                  </a:lnTo>
                  <a:lnTo>
                    <a:pt x="2967" y="1719"/>
                  </a:lnTo>
                  <a:lnTo>
                    <a:pt x="2972" y="1719"/>
                  </a:lnTo>
                  <a:lnTo>
                    <a:pt x="2978" y="1719"/>
                  </a:lnTo>
                  <a:lnTo>
                    <a:pt x="2985" y="1719"/>
                  </a:lnTo>
                  <a:lnTo>
                    <a:pt x="2990" y="1719"/>
                  </a:lnTo>
                  <a:lnTo>
                    <a:pt x="2997" y="1719"/>
                  </a:lnTo>
                  <a:lnTo>
                    <a:pt x="3003" y="1719"/>
                  </a:lnTo>
                  <a:lnTo>
                    <a:pt x="3009" y="1719"/>
                  </a:lnTo>
                  <a:lnTo>
                    <a:pt x="3015" y="1719"/>
                  </a:lnTo>
                  <a:lnTo>
                    <a:pt x="3020" y="1719"/>
                  </a:lnTo>
                  <a:lnTo>
                    <a:pt x="3027" y="1719"/>
                  </a:lnTo>
                  <a:lnTo>
                    <a:pt x="3033" y="1719"/>
                  </a:lnTo>
                  <a:lnTo>
                    <a:pt x="3039" y="1719"/>
                  </a:lnTo>
                  <a:lnTo>
                    <a:pt x="3045" y="1719"/>
                  </a:lnTo>
                  <a:lnTo>
                    <a:pt x="3050" y="1719"/>
                  </a:lnTo>
                  <a:lnTo>
                    <a:pt x="3057" y="1719"/>
                  </a:lnTo>
                  <a:lnTo>
                    <a:pt x="3063" y="1719"/>
                  </a:lnTo>
                  <a:lnTo>
                    <a:pt x="3069" y="1719"/>
                  </a:lnTo>
                  <a:lnTo>
                    <a:pt x="3075" y="1719"/>
                  </a:lnTo>
                  <a:lnTo>
                    <a:pt x="3081" y="1719"/>
                  </a:lnTo>
                  <a:lnTo>
                    <a:pt x="3087" y="1719"/>
                  </a:lnTo>
                  <a:lnTo>
                    <a:pt x="3093" y="1719"/>
                  </a:lnTo>
                  <a:lnTo>
                    <a:pt x="3099" y="1719"/>
                  </a:lnTo>
                  <a:lnTo>
                    <a:pt x="3105" y="1719"/>
                  </a:lnTo>
                  <a:lnTo>
                    <a:pt x="3111" y="1719"/>
                  </a:lnTo>
                  <a:lnTo>
                    <a:pt x="3117" y="1719"/>
                  </a:lnTo>
                  <a:lnTo>
                    <a:pt x="3123" y="1719"/>
                  </a:lnTo>
                  <a:lnTo>
                    <a:pt x="3130" y="1719"/>
                  </a:lnTo>
                  <a:lnTo>
                    <a:pt x="3135" y="1719"/>
                  </a:lnTo>
                  <a:lnTo>
                    <a:pt x="3141" y="1719"/>
                  </a:lnTo>
                  <a:lnTo>
                    <a:pt x="3147" y="1719"/>
                  </a:lnTo>
                  <a:lnTo>
                    <a:pt x="3153" y="1719"/>
                  </a:lnTo>
                  <a:lnTo>
                    <a:pt x="3160" y="1719"/>
                  </a:lnTo>
                  <a:lnTo>
                    <a:pt x="3165" y="1719"/>
                  </a:lnTo>
                  <a:lnTo>
                    <a:pt x="3171" y="1719"/>
                  </a:lnTo>
                  <a:lnTo>
                    <a:pt x="3178" y="1719"/>
                  </a:lnTo>
                  <a:lnTo>
                    <a:pt x="3183" y="1719"/>
                  </a:lnTo>
                  <a:lnTo>
                    <a:pt x="3186" y="171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847560" y="2836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20992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71464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22260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25328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5800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826776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38164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88816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3943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90084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40556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9135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41860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3816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6340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88816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1405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3943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6470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9008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1532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40556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6597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9135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1662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4186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163480" y="2332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180760" y="1019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042520" y="167652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H="1">
              <a:off x="5300280" y="243684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5300280" y="177948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H="1">
              <a:off x="5300280" y="112248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H="1">
              <a:off x="5342040" y="26989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H="1">
              <a:off x="5342040" y="25686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H="1">
              <a:off x="5342040" y="24368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H="1">
              <a:off x="5342040" y="23050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H="1">
              <a:off x="5342040" y="21733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H="1">
              <a:off x="5342040" y="20430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H="1">
              <a:off x="5342040" y="19112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H="1">
              <a:off x="5342040" y="17794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>
              <a:off x="5342040" y="16477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5342040" y="15159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>
              <a:off x="5342040" y="13842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H="1">
              <a:off x="5342040" y="12524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H="1">
              <a:off x="5342040" y="11224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>
              <a:off x="5342040" y="9907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H="1">
              <a:off x="5342040" y="8589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381640" y="858960"/>
              <a:ext cx="3036960" cy="1839960"/>
            </a:xfrm>
            <a:custGeom>
              <a:avLst/>
              <a:gdLst/>
              <a:ahLst/>
              <a:rect l="l" t="t" r="r" b="b"/>
              <a:pathLst>
                <a:path w="3189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9" y="0"/>
                  </a:lnTo>
                  <a:lnTo>
                    <a:pt x="3189" y="2403"/>
                  </a:lnTo>
                  <a:lnTo>
                    <a:pt x="3189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645240" y="310356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  (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6200000">
              <a:off x="4441680" y="1671120"/>
              <a:ext cx="672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325520" y="1119240"/>
              <a:ext cx="3035520" cy="1316160"/>
            </a:xfrm>
            <a:custGeom>
              <a:avLst/>
              <a:gdLst/>
              <a:ahLst/>
              <a:rect l="l" t="t" r="r" b="b"/>
              <a:pathLst>
                <a:path w="3186" h="1719">
                  <a:moveTo>
                    <a:pt x="0" y="1719"/>
                  </a:moveTo>
                  <a:lnTo>
                    <a:pt x="3" y="1719"/>
                  </a:lnTo>
                  <a:lnTo>
                    <a:pt x="9" y="1719"/>
                  </a:lnTo>
                  <a:lnTo>
                    <a:pt x="15" y="1719"/>
                  </a:lnTo>
                  <a:lnTo>
                    <a:pt x="21" y="1719"/>
                  </a:lnTo>
                  <a:lnTo>
                    <a:pt x="26" y="1719"/>
                  </a:lnTo>
                  <a:lnTo>
                    <a:pt x="33" y="1719"/>
                  </a:lnTo>
                  <a:lnTo>
                    <a:pt x="39" y="1719"/>
                  </a:lnTo>
                  <a:lnTo>
                    <a:pt x="45" y="1719"/>
                  </a:lnTo>
                  <a:lnTo>
                    <a:pt x="51" y="1719"/>
                  </a:lnTo>
                  <a:lnTo>
                    <a:pt x="57" y="1719"/>
                  </a:lnTo>
                  <a:lnTo>
                    <a:pt x="63" y="1719"/>
                  </a:lnTo>
                  <a:lnTo>
                    <a:pt x="69" y="1719"/>
                  </a:lnTo>
                  <a:lnTo>
                    <a:pt x="75" y="1719"/>
                  </a:lnTo>
                  <a:lnTo>
                    <a:pt x="81" y="1719"/>
                  </a:lnTo>
                  <a:lnTo>
                    <a:pt x="87" y="1719"/>
                  </a:lnTo>
                  <a:lnTo>
                    <a:pt x="93" y="1719"/>
                  </a:lnTo>
                  <a:lnTo>
                    <a:pt x="99" y="1719"/>
                  </a:lnTo>
                  <a:lnTo>
                    <a:pt x="106" y="1719"/>
                  </a:lnTo>
                  <a:lnTo>
                    <a:pt x="111" y="1719"/>
                  </a:lnTo>
                  <a:lnTo>
                    <a:pt x="117" y="1719"/>
                  </a:lnTo>
                  <a:lnTo>
                    <a:pt x="123" y="1719"/>
                  </a:lnTo>
                  <a:lnTo>
                    <a:pt x="129" y="1719"/>
                  </a:lnTo>
                  <a:lnTo>
                    <a:pt x="136" y="1719"/>
                  </a:lnTo>
                  <a:lnTo>
                    <a:pt x="141" y="1719"/>
                  </a:lnTo>
                  <a:lnTo>
                    <a:pt x="147" y="1719"/>
                  </a:lnTo>
                  <a:lnTo>
                    <a:pt x="154" y="1719"/>
                  </a:lnTo>
                  <a:lnTo>
                    <a:pt x="159" y="1719"/>
                  </a:lnTo>
                  <a:lnTo>
                    <a:pt x="166" y="1719"/>
                  </a:lnTo>
                  <a:lnTo>
                    <a:pt x="171" y="1719"/>
                  </a:lnTo>
                  <a:lnTo>
                    <a:pt x="177" y="1719"/>
                  </a:lnTo>
                  <a:lnTo>
                    <a:pt x="184" y="1719"/>
                  </a:lnTo>
                  <a:lnTo>
                    <a:pt x="189" y="1719"/>
                  </a:lnTo>
                  <a:lnTo>
                    <a:pt x="196" y="1719"/>
                  </a:lnTo>
                  <a:lnTo>
                    <a:pt x="201" y="1719"/>
                  </a:lnTo>
                  <a:lnTo>
                    <a:pt x="208" y="1719"/>
                  </a:lnTo>
                  <a:lnTo>
                    <a:pt x="214" y="1719"/>
                  </a:lnTo>
                  <a:lnTo>
                    <a:pt x="219" y="1719"/>
                  </a:lnTo>
                  <a:lnTo>
                    <a:pt x="226" y="1719"/>
                  </a:lnTo>
                  <a:lnTo>
                    <a:pt x="232" y="1719"/>
                  </a:lnTo>
                  <a:lnTo>
                    <a:pt x="238" y="1719"/>
                  </a:lnTo>
                  <a:lnTo>
                    <a:pt x="244" y="1719"/>
                  </a:lnTo>
                  <a:lnTo>
                    <a:pt x="249" y="1719"/>
                  </a:lnTo>
                  <a:lnTo>
                    <a:pt x="256" y="1719"/>
                  </a:lnTo>
                  <a:lnTo>
                    <a:pt x="262" y="1719"/>
                  </a:lnTo>
                  <a:lnTo>
                    <a:pt x="268" y="1719"/>
                  </a:lnTo>
                  <a:lnTo>
                    <a:pt x="274" y="1719"/>
                  </a:lnTo>
                  <a:lnTo>
                    <a:pt x="279" y="1719"/>
                  </a:lnTo>
                  <a:lnTo>
                    <a:pt x="286" y="1719"/>
                  </a:lnTo>
                  <a:lnTo>
                    <a:pt x="292" y="1719"/>
                  </a:lnTo>
                  <a:lnTo>
                    <a:pt x="298" y="1719"/>
                  </a:lnTo>
                  <a:lnTo>
                    <a:pt x="304" y="1719"/>
                  </a:lnTo>
                  <a:lnTo>
                    <a:pt x="310" y="1719"/>
                  </a:lnTo>
                  <a:lnTo>
                    <a:pt x="316" y="1719"/>
                  </a:lnTo>
                  <a:lnTo>
                    <a:pt x="322" y="1719"/>
                  </a:lnTo>
                  <a:lnTo>
                    <a:pt x="329" y="1719"/>
                  </a:lnTo>
                  <a:lnTo>
                    <a:pt x="334" y="1719"/>
                  </a:lnTo>
                  <a:lnTo>
                    <a:pt x="340" y="1719"/>
                  </a:lnTo>
                  <a:lnTo>
                    <a:pt x="346" y="1719"/>
                  </a:lnTo>
                  <a:lnTo>
                    <a:pt x="352" y="1719"/>
                  </a:lnTo>
                  <a:lnTo>
                    <a:pt x="359" y="1719"/>
                  </a:lnTo>
                  <a:lnTo>
                    <a:pt x="364" y="1719"/>
                  </a:lnTo>
                  <a:lnTo>
                    <a:pt x="370" y="1719"/>
                  </a:lnTo>
                  <a:lnTo>
                    <a:pt x="376" y="1719"/>
                  </a:lnTo>
                  <a:lnTo>
                    <a:pt x="382" y="1719"/>
                  </a:lnTo>
                  <a:lnTo>
                    <a:pt x="389" y="1719"/>
                  </a:lnTo>
                  <a:lnTo>
                    <a:pt x="394" y="1719"/>
                  </a:lnTo>
                  <a:lnTo>
                    <a:pt x="400" y="1719"/>
                  </a:lnTo>
                  <a:lnTo>
                    <a:pt x="407" y="1719"/>
                  </a:lnTo>
                  <a:lnTo>
                    <a:pt x="412" y="1719"/>
                  </a:lnTo>
                  <a:lnTo>
                    <a:pt x="419" y="1719"/>
                  </a:lnTo>
                  <a:lnTo>
                    <a:pt x="424" y="1719"/>
                  </a:lnTo>
                  <a:lnTo>
                    <a:pt x="430" y="1719"/>
                  </a:lnTo>
                  <a:lnTo>
                    <a:pt x="437" y="1719"/>
                  </a:lnTo>
                  <a:lnTo>
                    <a:pt x="442" y="1719"/>
                  </a:lnTo>
                  <a:lnTo>
                    <a:pt x="449" y="1719"/>
                  </a:lnTo>
                  <a:lnTo>
                    <a:pt x="454" y="1719"/>
                  </a:lnTo>
                  <a:lnTo>
                    <a:pt x="460" y="1719"/>
                  </a:lnTo>
                  <a:lnTo>
                    <a:pt x="467" y="1719"/>
                  </a:lnTo>
                  <a:lnTo>
                    <a:pt x="472" y="1719"/>
                  </a:lnTo>
                  <a:lnTo>
                    <a:pt x="479" y="1719"/>
                  </a:lnTo>
                  <a:lnTo>
                    <a:pt x="485" y="1719"/>
                  </a:lnTo>
                  <a:lnTo>
                    <a:pt x="490" y="1719"/>
                  </a:lnTo>
                  <a:lnTo>
                    <a:pt x="497" y="1719"/>
                  </a:lnTo>
                  <a:lnTo>
                    <a:pt x="502" y="1719"/>
                  </a:lnTo>
                  <a:lnTo>
                    <a:pt x="509" y="1719"/>
                  </a:lnTo>
                  <a:lnTo>
                    <a:pt x="515" y="1719"/>
                  </a:lnTo>
                  <a:lnTo>
                    <a:pt x="520" y="1719"/>
                  </a:lnTo>
                  <a:lnTo>
                    <a:pt x="527" y="1719"/>
                  </a:lnTo>
                  <a:lnTo>
                    <a:pt x="532" y="1719"/>
                  </a:lnTo>
                  <a:lnTo>
                    <a:pt x="539" y="1719"/>
                  </a:lnTo>
                  <a:lnTo>
                    <a:pt x="545" y="1719"/>
                  </a:lnTo>
                  <a:lnTo>
                    <a:pt x="550" y="1719"/>
                  </a:lnTo>
                  <a:lnTo>
                    <a:pt x="557" y="1719"/>
                  </a:lnTo>
                  <a:lnTo>
                    <a:pt x="563" y="1719"/>
                  </a:lnTo>
                  <a:lnTo>
                    <a:pt x="569" y="1719"/>
                  </a:lnTo>
                  <a:lnTo>
                    <a:pt x="575" y="1719"/>
                  </a:lnTo>
                  <a:lnTo>
                    <a:pt x="582" y="1719"/>
                  </a:lnTo>
                  <a:lnTo>
                    <a:pt x="587" y="1719"/>
                  </a:lnTo>
                  <a:lnTo>
                    <a:pt x="593" y="1719"/>
                  </a:lnTo>
                  <a:lnTo>
                    <a:pt x="599" y="1719"/>
                  </a:lnTo>
                  <a:lnTo>
                    <a:pt x="605" y="1719"/>
                  </a:lnTo>
                  <a:lnTo>
                    <a:pt x="612" y="1719"/>
                  </a:lnTo>
                  <a:lnTo>
                    <a:pt x="617" y="1719"/>
                  </a:lnTo>
                  <a:lnTo>
                    <a:pt x="623" y="1719"/>
                  </a:lnTo>
                  <a:lnTo>
                    <a:pt x="629" y="1719"/>
                  </a:lnTo>
                  <a:lnTo>
                    <a:pt x="635" y="1719"/>
                  </a:lnTo>
                  <a:lnTo>
                    <a:pt x="642" y="1719"/>
                  </a:lnTo>
                  <a:lnTo>
                    <a:pt x="647" y="1719"/>
                  </a:lnTo>
                  <a:lnTo>
                    <a:pt x="653" y="1719"/>
                  </a:lnTo>
                  <a:lnTo>
                    <a:pt x="660" y="1719"/>
                  </a:lnTo>
                  <a:lnTo>
                    <a:pt x="665" y="1719"/>
                  </a:lnTo>
                  <a:lnTo>
                    <a:pt x="672" y="1719"/>
                  </a:lnTo>
                  <a:lnTo>
                    <a:pt x="677" y="1719"/>
                  </a:lnTo>
                  <a:lnTo>
                    <a:pt x="683" y="1719"/>
                  </a:lnTo>
                  <a:lnTo>
                    <a:pt x="690" y="1719"/>
                  </a:lnTo>
                  <a:lnTo>
                    <a:pt x="695" y="1719"/>
                  </a:lnTo>
                  <a:lnTo>
                    <a:pt x="702" y="1719"/>
                  </a:lnTo>
                  <a:lnTo>
                    <a:pt x="707" y="1719"/>
                  </a:lnTo>
                  <a:lnTo>
                    <a:pt x="713" y="1719"/>
                  </a:lnTo>
                  <a:lnTo>
                    <a:pt x="720" y="1719"/>
                  </a:lnTo>
                  <a:lnTo>
                    <a:pt x="725" y="1719"/>
                  </a:lnTo>
                  <a:lnTo>
                    <a:pt x="732" y="1719"/>
                  </a:lnTo>
                  <a:lnTo>
                    <a:pt x="738" y="1719"/>
                  </a:lnTo>
                  <a:lnTo>
                    <a:pt x="743" y="1719"/>
                  </a:lnTo>
                  <a:lnTo>
                    <a:pt x="750" y="1719"/>
                  </a:lnTo>
                  <a:lnTo>
                    <a:pt x="755" y="1719"/>
                  </a:lnTo>
                  <a:lnTo>
                    <a:pt x="762" y="1719"/>
                  </a:lnTo>
                  <a:lnTo>
                    <a:pt x="768" y="1719"/>
                  </a:lnTo>
                  <a:lnTo>
                    <a:pt x="773" y="1719"/>
                  </a:lnTo>
                  <a:lnTo>
                    <a:pt x="780" y="1719"/>
                  </a:lnTo>
                  <a:lnTo>
                    <a:pt x="786" y="1719"/>
                  </a:lnTo>
                  <a:lnTo>
                    <a:pt x="792" y="1719"/>
                  </a:lnTo>
                  <a:lnTo>
                    <a:pt x="798" y="1719"/>
                  </a:lnTo>
                  <a:lnTo>
                    <a:pt x="803" y="1719"/>
                  </a:lnTo>
                  <a:lnTo>
                    <a:pt x="810" y="1719"/>
                  </a:lnTo>
                  <a:lnTo>
                    <a:pt x="816" y="1719"/>
                  </a:lnTo>
                  <a:lnTo>
                    <a:pt x="822" y="1719"/>
                  </a:lnTo>
                  <a:lnTo>
                    <a:pt x="828" y="1719"/>
                  </a:lnTo>
                  <a:lnTo>
                    <a:pt x="833" y="1719"/>
                  </a:lnTo>
                  <a:lnTo>
                    <a:pt x="840" y="1719"/>
                  </a:lnTo>
                  <a:lnTo>
                    <a:pt x="846" y="1719"/>
                  </a:lnTo>
                  <a:lnTo>
                    <a:pt x="852" y="1719"/>
                  </a:lnTo>
                  <a:lnTo>
                    <a:pt x="858" y="1719"/>
                  </a:lnTo>
                  <a:lnTo>
                    <a:pt x="864" y="1719"/>
                  </a:lnTo>
                  <a:lnTo>
                    <a:pt x="870" y="1719"/>
                  </a:lnTo>
                  <a:lnTo>
                    <a:pt x="876" y="1719"/>
                  </a:lnTo>
                  <a:lnTo>
                    <a:pt x="882" y="1719"/>
                  </a:lnTo>
                  <a:lnTo>
                    <a:pt x="888" y="1719"/>
                  </a:lnTo>
                  <a:lnTo>
                    <a:pt x="894" y="1719"/>
                  </a:lnTo>
                  <a:lnTo>
                    <a:pt x="900" y="1719"/>
                  </a:lnTo>
                  <a:lnTo>
                    <a:pt x="906" y="1719"/>
                  </a:lnTo>
                  <a:lnTo>
                    <a:pt x="913" y="1719"/>
                  </a:lnTo>
                  <a:lnTo>
                    <a:pt x="918" y="1719"/>
                  </a:lnTo>
                  <a:lnTo>
                    <a:pt x="924" y="1719"/>
                  </a:lnTo>
                  <a:lnTo>
                    <a:pt x="930" y="1719"/>
                  </a:lnTo>
                  <a:lnTo>
                    <a:pt x="936" y="1719"/>
                  </a:lnTo>
                  <a:lnTo>
                    <a:pt x="943" y="1719"/>
                  </a:lnTo>
                  <a:lnTo>
                    <a:pt x="948" y="1719"/>
                  </a:lnTo>
                  <a:lnTo>
                    <a:pt x="955" y="1719"/>
                  </a:lnTo>
                  <a:lnTo>
                    <a:pt x="961" y="1719"/>
                  </a:lnTo>
                  <a:lnTo>
                    <a:pt x="966" y="1719"/>
                  </a:lnTo>
                  <a:lnTo>
                    <a:pt x="973" y="1719"/>
                  </a:lnTo>
                  <a:lnTo>
                    <a:pt x="978" y="1719"/>
                  </a:lnTo>
                  <a:lnTo>
                    <a:pt x="985" y="1719"/>
                  </a:lnTo>
                  <a:lnTo>
                    <a:pt x="991" y="1719"/>
                  </a:lnTo>
                  <a:lnTo>
                    <a:pt x="996" y="1719"/>
                  </a:lnTo>
                  <a:lnTo>
                    <a:pt x="1003" y="1719"/>
                  </a:lnTo>
                  <a:lnTo>
                    <a:pt x="1008" y="1719"/>
                  </a:lnTo>
                  <a:lnTo>
                    <a:pt x="1015" y="1719"/>
                  </a:lnTo>
                  <a:lnTo>
                    <a:pt x="1021" y="1719"/>
                  </a:lnTo>
                  <a:lnTo>
                    <a:pt x="1026" y="1719"/>
                  </a:lnTo>
                  <a:lnTo>
                    <a:pt x="1033" y="1719"/>
                  </a:lnTo>
                  <a:lnTo>
                    <a:pt x="1039" y="1719"/>
                  </a:lnTo>
                  <a:lnTo>
                    <a:pt x="1045" y="1719"/>
                  </a:lnTo>
                  <a:lnTo>
                    <a:pt x="1051" y="1719"/>
                  </a:lnTo>
                  <a:lnTo>
                    <a:pt x="1056" y="1719"/>
                  </a:lnTo>
                  <a:lnTo>
                    <a:pt x="1063" y="1719"/>
                  </a:lnTo>
                  <a:lnTo>
                    <a:pt x="1069" y="1719"/>
                  </a:lnTo>
                  <a:lnTo>
                    <a:pt x="1075" y="1719"/>
                  </a:lnTo>
                  <a:lnTo>
                    <a:pt x="1081" y="1719"/>
                  </a:lnTo>
                  <a:lnTo>
                    <a:pt x="1086" y="1719"/>
                  </a:lnTo>
                  <a:lnTo>
                    <a:pt x="1093" y="1719"/>
                  </a:lnTo>
                  <a:lnTo>
                    <a:pt x="1099" y="1719"/>
                  </a:lnTo>
                  <a:lnTo>
                    <a:pt x="1105" y="1719"/>
                  </a:lnTo>
                  <a:lnTo>
                    <a:pt x="1111" y="1719"/>
                  </a:lnTo>
                  <a:lnTo>
                    <a:pt x="1117" y="1719"/>
                  </a:lnTo>
                  <a:lnTo>
                    <a:pt x="1123" y="1719"/>
                  </a:lnTo>
                  <a:lnTo>
                    <a:pt x="1129" y="1719"/>
                  </a:lnTo>
                  <a:lnTo>
                    <a:pt x="1135" y="1719"/>
                  </a:lnTo>
                  <a:lnTo>
                    <a:pt x="1141" y="1719"/>
                  </a:lnTo>
                  <a:lnTo>
                    <a:pt x="1147" y="1719"/>
                  </a:lnTo>
                  <a:lnTo>
                    <a:pt x="1153" y="1719"/>
                  </a:lnTo>
                  <a:lnTo>
                    <a:pt x="1159" y="1719"/>
                  </a:lnTo>
                  <a:lnTo>
                    <a:pt x="1166" y="1719"/>
                  </a:lnTo>
                  <a:lnTo>
                    <a:pt x="1171" y="1719"/>
                  </a:lnTo>
                  <a:lnTo>
                    <a:pt x="1177" y="1719"/>
                  </a:lnTo>
                  <a:lnTo>
                    <a:pt x="1183" y="1719"/>
                  </a:lnTo>
                  <a:lnTo>
                    <a:pt x="1189" y="1719"/>
                  </a:lnTo>
                  <a:lnTo>
                    <a:pt x="1196" y="1719"/>
                  </a:lnTo>
                  <a:lnTo>
                    <a:pt x="1201" y="1719"/>
                  </a:lnTo>
                  <a:lnTo>
                    <a:pt x="1207" y="1719"/>
                  </a:lnTo>
                  <a:lnTo>
                    <a:pt x="1214" y="1719"/>
                  </a:lnTo>
                  <a:lnTo>
                    <a:pt x="1219" y="1719"/>
                  </a:lnTo>
                  <a:lnTo>
                    <a:pt x="1226" y="1719"/>
                  </a:lnTo>
                  <a:lnTo>
                    <a:pt x="1231" y="1719"/>
                  </a:lnTo>
                  <a:lnTo>
                    <a:pt x="1237" y="1719"/>
                  </a:lnTo>
                  <a:lnTo>
                    <a:pt x="1244" y="1719"/>
                  </a:lnTo>
                  <a:lnTo>
                    <a:pt x="1249" y="1719"/>
                  </a:lnTo>
                  <a:lnTo>
                    <a:pt x="1256" y="1719"/>
                  </a:lnTo>
                  <a:lnTo>
                    <a:pt x="1261" y="1719"/>
                  </a:lnTo>
                  <a:lnTo>
                    <a:pt x="1267" y="1719"/>
                  </a:lnTo>
                  <a:lnTo>
                    <a:pt x="1274" y="1719"/>
                  </a:lnTo>
                  <a:lnTo>
                    <a:pt x="1279" y="1719"/>
                  </a:lnTo>
                  <a:lnTo>
                    <a:pt x="1286" y="1719"/>
                  </a:lnTo>
                  <a:lnTo>
                    <a:pt x="1292" y="1719"/>
                  </a:lnTo>
                  <a:lnTo>
                    <a:pt x="1297" y="1719"/>
                  </a:lnTo>
                  <a:lnTo>
                    <a:pt x="1304" y="1719"/>
                  </a:lnTo>
                  <a:lnTo>
                    <a:pt x="1309" y="1719"/>
                  </a:lnTo>
                  <a:lnTo>
                    <a:pt x="1316" y="1719"/>
                  </a:lnTo>
                  <a:lnTo>
                    <a:pt x="1322" y="1719"/>
                  </a:lnTo>
                  <a:lnTo>
                    <a:pt x="1328" y="1719"/>
                  </a:lnTo>
                  <a:lnTo>
                    <a:pt x="1334" y="1719"/>
                  </a:lnTo>
                  <a:lnTo>
                    <a:pt x="1339" y="1719"/>
                  </a:lnTo>
                  <a:lnTo>
                    <a:pt x="1346" y="1719"/>
                  </a:lnTo>
                  <a:lnTo>
                    <a:pt x="1352" y="1719"/>
                  </a:lnTo>
                  <a:lnTo>
                    <a:pt x="1358" y="1719"/>
                  </a:lnTo>
                  <a:lnTo>
                    <a:pt x="1364" y="1719"/>
                  </a:lnTo>
                  <a:lnTo>
                    <a:pt x="1370" y="1719"/>
                  </a:lnTo>
                  <a:lnTo>
                    <a:pt x="1376" y="1719"/>
                  </a:lnTo>
                  <a:lnTo>
                    <a:pt x="1382" y="1719"/>
                  </a:lnTo>
                  <a:lnTo>
                    <a:pt x="1389" y="1719"/>
                  </a:lnTo>
                  <a:lnTo>
                    <a:pt x="1394" y="1719"/>
                  </a:lnTo>
                  <a:lnTo>
                    <a:pt x="1400" y="1719"/>
                  </a:lnTo>
                  <a:lnTo>
                    <a:pt x="1406" y="1719"/>
                  </a:lnTo>
                  <a:lnTo>
                    <a:pt x="1412" y="1719"/>
                  </a:lnTo>
                  <a:lnTo>
                    <a:pt x="1419" y="1719"/>
                  </a:lnTo>
                  <a:lnTo>
                    <a:pt x="1424" y="1719"/>
                  </a:lnTo>
                  <a:lnTo>
                    <a:pt x="1430" y="1719"/>
                  </a:lnTo>
                  <a:lnTo>
                    <a:pt x="1436" y="1719"/>
                  </a:lnTo>
                  <a:lnTo>
                    <a:pt x="1442" y="1719"/>
                  </a:lnTo>
                  <a:lnTo>
                    <a:pt x="1449" y="1719"/>
                  </a:lnTo>
                  <a:lnTo>
                    <a:pt x="1454" y="1719"/>
                  </a:lnTo>
                  <a:lnTo>
                    <a:pt x="1460" y="1719"/>
                  </a:lnTo>
                  <a:lnTo>
                    <a:pt x="1467" y="1719"/>
                  </a:lnTo>
                  <a:lnTo>
                    <a:pt x="1472" y="1719"/>
                  </a:lnTo>
                  <a:lnTo>
                    <a:pt x="1479" y="1718"/>
                  </a:lnTo>
                  <a:lnTo>
                    <a:pt x="1484" y="1718"/>
                  </a:lnTo>
                  <a:lnTo>
                    <a:pt x="1490" y="1718"/>
                  </a:lnTo>
                  <a:lnTo>
                    <a:pt x="1497" y="1716"/>
                  </a:lnTo>
                  <a:lnTo>
                    <a:pt x="1502" y="1713"/>
                  </a:lnTo>
                  <a:lnTo>
                    <a:pt x="1509" y="1708"/>
                  </a:lnTo>
                  <a:lnTo>
                    <a:pt x="1514" y="1697"/>
                  </a:lnTo>
                  <a:lnTo>
                    <a:pt x="1520" y="1677"/>
                  </a:lnTo>
                  <a:lnTo>
                    <a:pt x="1527" y="1642"/>
                  </a:lnTo>
                  <a:lnTo>
                    <a:pt x="1532" y="1587"/>
                  </a:lnTo>
                  <a:lnTo>
                    <a:pt x="1539" y="1505"/>
                  </a:lnTo>
                  <a:lnTo>
                    <a:pt x="1545" y="1387"/>
                  </a:lnTo>
                  <a:lnTo>
                    <a:pt x="1550" y="1232"/>
                  </a:lnTo>
                  <a:lnTo>
                    <a:pt x="1557" y="1037"/>
                  </a:lnTo>
                  <a:lnTo>
                    <a:pt x="1562" y="815"/>
                  </a:lnTo>
                  <a:lnTo>
                    <a:pt x="1569" y="580"/>
                  </a:lnTo>
                  <a:lnTo>
                    <a:pt x="1575" y="356"/>
                  </a:lnTo>
                  <a:lnTo>
                    <a:pt x="1580" y="168"/>
                  </a:lnTo>
                  <a:lnTo>
                    <a:pt x="1587" y="45"/>
                  </a:lnTo>
                  <a:lnTo>
                    <a:pt x="1593" y="0"/>
                  </a:lnTo>
                  <a:lnTo>
                    <a:pt x="1599" y="45"/>
                  </a:lnTo>
                  <a:lnTo>
                    <a:pt x="1605" y="168"/>
                  </a:lnTo>
                  <a:lnTo>
                    <a:pt x="1610" y="356"/>
                  </a:lnTo>
                  <a:lnTo>
                    <a:pt x="1617" y="580"/>
                  </a:lnTo>
                  <a:lnTo>
                    <a:pt x="1623" y="815"/>
                  </a:lnTo>
                  <a:lnTo>
                    <a:pt x="1629" y="1037"/>
                  </a:lnTo>
                  <a:lnTo>
                    <a:pt x="1635" y="1232"/>
                  </a:lnTo>
                  <a:lnTo>
                    <a:pt x="1640" y="1387"/>
                  </a:lnTo>
                  <a:lnTo>
                    <a:pt x="1647" y="1505"/>
                  </a:lnTo>
                  <a:lnTo>
                    <a:pt x="1653" y="1587"/>
                  </a:lnTo>
                  <a:lnTo>
                    <a:pt x="1659" y="1642"/>
                  </a:lnTo>
                  <a:lnTo>
                    <a:pt x="1665" y="1677"/>
                  </a:lnTo>
                  <a:lnTo>
                    <a:pt x="1671" y="1697"/>
                  </a:lnTo>
                  <a:lnTo>
                    <a:pt x="1677" y="1708"/>
                  </a:lnTo>
                  <a:lnTo>
                    <a:pt x="1683" y="1713"/>
                  </a:lnTo>
                  <a:lnTo>
                    <a:pt x="1689" y="1716"/>
                  </a:lnTo>
                  <a:lnTo>
                    <a:pt x="1695" y="1718"/>
                  </a:lnTo>
                  <a:lnTo>
                    <a:pt x="1702" y="1718"/>
                  </a:lnTo>
                  <a:lnTo>
                    <a:pt x="1707" y="1718"/>
                  </a:lnTo>
                  <a:lnTo>
                    <a:pt x="1713" y="1719"/>
                  </a:lnTo>
                  <a:lnTo>
                    <a:pt x="1720" y="1719"/>
                  </a:lnTo>
                  <a:lnTo>
                    <a:pt x="1725" y="1719"/>
                  </a:lnTo>
                  <a:lnTo>
                    <a:pt x="1732" y="1719"/>
                  </a:lnTo>
                  <a:lnTo>
                    <a:pt x="1737" y="1719"/>
                  </a:lnTo>
                  <a:lnTo>
                    <a:pt x="1743" y="1719"/>
                  </a:lnTo>
                  <a:lnTo>
                    <a:pt x="1750" y="1719"/>
                  </a:lnTo>
                  <a:lnTo>
                    <a:pt x="1755" y="1719"/>
                  </a:lnTo>
                  <a:lnTo>
                    <a:pt x="1762" y="1719"/>
                  </a:lnTo>
                  <a:lnTo>
                    <a:pt x="1767" y="1719"/>
                  </a:lnTo>
                  <a:lnTo>
                    <a:pt x="1773" y="1719"/>
                  </a:lnTo>
                  <a:lnTo>
                    <a:pt x="1780" y="1719"/>
                  </a:lnTo>
                  <a:lnTo>
                    <a:pt x="1785" y="1719"/>
                  </a:lnTo>
                  <a:lnTo>
                    <a:pt x="1792" y="1719"/>
                  </a:lnTo>
                  <a:lnTo>
                    <a:pt x="1798" y="1719"/>
                  </a:lnTo>
                  <a:lnTo>
                    <a:pt x="1803" y="1719"/>
                  </a:lnTo>
                  <a:lnTo>
                    <a:pt x="1810" y="1719"/>
                  </a:lnTo>
                  <a:lnTo>
                    <a:pt x="1815" y="1719"/>
                  </a:lnTo>
                  <a:lnTo>
                    <a:pt x="1822" y="1719"/>
                  </a:lnTo>
                  <a:lnTo>
                    <a:pt x="1828" y="1719"/>
                  </a:lnTo>
                  <a:lnTo>
                    <a:pt x="1833" y="1719"/>
                  </a:lnTo>
                  <a:lnTo>
                    <a:pt x="1840" y="1719"/>
                  </a:lnTo>
                  <a:lnTo>
                    <a:pt x="1846" y="1719"/>
                  </a:lnTo>
                  <a:lnTo>
                    <a:pt x="1852" y="1719"/>
                  </a:lnTo>
                  <a:lnTo>
                    <a:pt x="1858" y="1719"/>
                  </a:lnTo>
                  <a:lnTo>
                    <a:pt x="1863" y="1719"/>
                  </a:lnTo>
                  <a:lnTo>
                    <a:pt x="1870" y="1719"/>
                  </a:lnTo>
                  <a:lnTo>
                    <a:pt x="1876" y="1719"/>
                  </a:lnTo>
                  <a:lnTo>
                    <a:pt x="1882" y="1719"/>
                  </a:lnTo>
                  <a:lnTo>
                    <a:pt x="1888" y="1719"/>
                  </a:lnTo>
                  <a:lnTo>
                    <a:pt x="1893" y="1719"/>
                  </a:lnTo>
                  <a:lnTo>
                    <a:pt x="1900" y="1719"/>
                  </a:lnTo>
                  <a:lnTo>
                    <a:pt x="1906" y="1719"/>
                  </a:lnTo>
                  <a:lnTo>
                    <a:pt x="1912" y="1719"/>
                  </a:lnTo>
                  <a:lnTo>
                    <a:pt x="1918" y="1719"/>
                  </a:lnTo>
                  <a:lnTo>
                    <a:pt x="1924" y="1719"/>
                  </a:lnTo>
                  <a:lnTo>
                    <a:pt x="1930" y="1719"/>
                  </a:lnTo>
                  <a:lnTo>
                    <a:pt x="1936" y="1719"/>
                  </a:lnTo>
                  <a:lnTo>
                    <a:pt x="1942" y="1719"/>
                  </a:lnTo>
                  <a:lnTo>
                    <a:pt x="1948" y="1719"/>
                  </a:lnTo>
                  <a:lnTo>
                    <a:pt x="1954" y="1719"/>
                  </a:lnTo>
                  <a:lnTo>
                    <a:pt x="1960" y="1719"/>
                  </a:lnTo>
                  <a:lnTo>
                    <a:pt x="1966" y="1719"/>
                  </a:lnTo>
                  <a:lnTo>
                    <a:pt x="1973" y="1719"/>
                  </a:lnTo>
                  <a:lnTo>
                    <a:pt x="1978" y="1719"/>
                  </a:lnTo>
                  <a:lnTo>
                    <a:pt x="1984" y="1719"/>
                  </a:lnTo>
                  <a:lnTo>
                    <a:pt x="1990" y="1719"/>
                  </a:lnTo>
                  <a:lnTo>
                    <a:pt x="1996" y="1719"/>
                  </a:lnTo>
                  <a:lnTo>
                    <a:pt x="2003" y="1719"/>
                  </a:lnTo>
                  <a:lnTo>
                    <a:pt x="2008" y="1719"/>
                  </a:lnTo>
                  <a:lnTo>
                    <a:pt x="2014" y="1719"/>
                  </a:lnTo>
                  <a:lnTo>
                    <a:pt x="2021" y="1719"/>
                  </a:lnTo>
                  <a:lnTo>
                    <a:pt x="2026" y="1719"/>
                  </a:lnTo>
                  <a:lnTo>
                    <a:pt x="2033" y="1719"/>
                  </a:lnTo>
                  <a:lnTo>
                    <a:pt x="2038" y="1719"/>
                  </a:lnTo>
                  <a:lnTo>
                    <a:pt x="2044" y="1719"/>
                  </a:lnTo>
                  <a:lnTo>
                    <a:pt x="2051" y="1719"/>
                  </a:lnTo>
                  <a:lnTo>
                    <a:pt x="2056" y="1719"/>
                  </a:lnTo>
                  <a:lnTo>
                    <a:pt x="2063" y="1719"/>
                  </a:lnTo>
                  <a:lnTo>
                    <a:pt x="2068" y="1719"/>
                  </a:lnTo>
                  <a:lnTo>
                    <a:pt x="2075" y="1719"/>
                  </a:lnTo>
                  <a:lnTo>
                    <a:pt x="2081" y="1719"/>
                  </a:lnTo>
                  <a:lnTo>
                    <a:pt x="2086" y="1719"/>
                  </a:lnTo>
                  <a:lnTo>
                    <a:pt x="2093" y="1719"/>
                  </a:lnTo>
                  <a:lnTo>
                    <a:pt x="2099" y="1719"/>
                  </a:lnTo>
                  <a:lnTo>
                    <a:pt x="2105" y="1719"/>
                  </a:lnTo>
                  <a:lnTo>
                    <a:pt x="2111" y="1719"/>
                  </a:lnTo>
                  <a:lnTo>
                    <a:pt x="2116" y="1719"/>
                  </a:lnTo>
                  <a:lnTo>
                    <a:pt x="2123" y="1719"/>
                  </a:lnTo>
                  <a:lnTo>
                    <a:pt x="2129" y="1719"/>
                  </a:lnTo>
                  <a:lnTo>
                    <a:pt x="2135" y="1719"/>
                  </a:lnTo>
                  <a:lnTo>
                    <a:pt x="2141" y="1719"/>
                  </a:lnTo>
                  <a:lnTo>
                    <a:pt x="2146" y="1719"/>
                  </a:lnTo>
                  <a:lnTo>
                    <a:pt x="2153" y="1719"/>
                  </a:lnTo>
                  <a:lnTo>
                    <a:pt x="2159" y="1719"/>
                  </a:lnTo>
                  <a:lnTo>
                    <a:pt x="2165" y="1719"/>
                  </a:lnTo>
                  <a:lnTo>
                    <a:pt x="2171" y="1719"/>
                  </a:lnTo>
                  <a:lnTo>
                    <a:pt x="2177" y="1719"/>
                  </a:lnTo>
                  <a:lnTo>
                    <a:pt x="2183" y="1719"/>
                  </a:lnTo>
                  <a:lnTo>
                    <a:pt x="2189" y="1719"/>
                  </a:lnTo>
                  <a:lnTo>
                    <a:pt x="2196" y="1719"/>
                  </a:lnTo>
                  <a:lnTo>
                    <a:pt x="2201" y="1719"/>
                  </a:lnTo>
                  <a:lnTo>
                    <a:pt x="2207" y="1719"/>
                  </a:lnTo>
                  <a:lnTo>
                    <a:pt x="2213" y="1719"/>
                  </a:lnTo>
                  <a:lnTo>
                    <a:pt x="2219" y="1719"/>
                  </a:lnTo>
                  <a:lnTo>
                    <a:pt x="2226" y="1719"/>
                  </a:lnTo>
                  <a:lnTo>
                    <a:pt x="2231" y="1719"/>
                  </a:lnTo>
                  <a:lnTo>
                    <a:pt x="2237" y="1719"/>
                  </a:lnTo>
                  <a:lnTo>
                    <a:pt x="2243" y="1719"/>
                  </a:lnTo>
                  <a:lnTo>
                    <a:pt x="2249" y="1719"/>
                  </a:lnTo>
                  <a:lnTo>
                    <a:pt x="2256" y="1719"/>
                  </a:lnTo>
                  <a:lnTo>
                    <a:pt x="2261" y="1719"/>
                  </a:lnTo>
                  <a:lnTo>
                    <a:pt x="2267" y="1719"/>
                  </a:lnTo>
                  <a:lnTo>
                    <a:pt x="2274" y="1719"/>
                  </a:lnTo>
                  <a:lnTo>
                    <a:pt x="2279" y="1719"/>
                  </a:lnTo>
                  <a:lnTo>
                    <a:pt x="2286" y="1719"/>
                  </a:lnTo>
                  <a:lnTo>
                    <a:pt x="2291" y="1719"/>
                  </a:lnTo>
                  <a:lnTo>
                    <a:pt x="2297" y="1719"/>
                  </a:lnTo>
                  <a:lnTo>
                    <a:pt x="2304" y="1719"/>
                  </a:lnTo>
                  <a:lnTo>
                    <a:pt x="2309" y="1719"/>
                  </a:lnTo>
                  <a:lnTo>
                    <a:pt x="2316" y="1719"/>
                  </a:lnTo>
                  <a:lnTo>
                    <a:pt x="2321" y="1719"/>
                  </a:lnTo>
                  <a:lnTo>
                    <a:pt x="2327" y="1719"/>
                  </a:lnTo>
                  <a:lnTo>
                    <a:pt x="2334" y="1719"/>
                  </a:lnTo>
                  <a:lnTo>
                    <a:pt x="2339" y="1719"/>
                  </a:lnTo>
                  <a:lnTo>
                    <a:pt x="2346" y="1719"/>
                  </a:lnTo>
                  <a:lnTo>
                    <a:pt x="2352" y="1719"/>
                  </a:lnTo>
                  <a:lnTo>
                    <a:pt x="2357" y="1719"/>
                  </a:lnTo>
                  <a:lnTo>
                    <a:pt x="2364" y="1719"/>
                  </a:lnTo>
                  <a:lnTo>
                    <a:pt x="2369" y="1719"/>
                  </a:lnTo>
                  <a:lnTo>
                    <a:pt x="2376" y="1719"/>
                  </a:lnTo>
                  <a:lnTo>
                    <a:pt x="2382" y="1719"/>
                  </a:lnTo>
                  <a:lnTo>
                    <a:pt x="2387" y="1719"/>
                  </a:lnTo>
                  <a:lnTo>
                    <a:pt x="2394" y="1719"/>
                  </a:lnTo>
                  <a:lnTo>
                    <a:pt x="2399" y="1719"/>
                  </a:lnTo>
                  <a:lnTo>
                    <a:pt x="2406" y="1719"/>
                  </a:lnTo>
                  <a:lnTo>
                    <a:pt x="2412" y="1719"/>
                  </a:lnTo>
                  <a:lnTo>
                    <a:pt x="2417" y="1719"/>
                  </a:lnTo>
                  <a:lnTo>
                    <a:pt x="2424" y="1719"/>
                  </a:lnTo>
                  <a:lnTo>
                    <a:pt x="2430" y="1719"/>
                  </a:lnTo>
                  <a:lnTo>
                    <a:pt x="2436" y="1719"/>
                  </a:lnTo>
                  <a:lnTo>
                    <a:pt x="2442" y="1719"/>
                  </a:lnTo>
                  <a:lnTo>
                    <a:pt x="2449" y="1719"/>
                  </a:lnTo>
                  <a:lnTo>
                    <a:pt x="2454" y="1719"/>
                  </a:lnTo>
                  <a:lnTo>
                    <a:pt x="2460" y="1719"/>
                  </a:lnTo>
                  <a:lnTo>
                    <a:pt x="2466" y="1719"/>
                  </a:lnTo>
                  <a:lnTo>
                    <a:pt x="2472" y="1719"/>
                  </a:lnTo>
                  <a:lnTo>
                    <a:pt x="2479" y="1719"/>
                  </a:lnTo>
                  <a:lnTo>
                    <a:pt x="2484" y="1719"/>
                  </a:lnTo>
                  <a:lnTo>
                    <a:pt x="2490" y="1719"/>
                  </a:lnTo>
                  <a:lnTo>
                    <a:pt x="2496" y="1719"/>
                  </a:lnTo>
                  <a:lnTo>
                    <a:pt x="2502" y="1719"/>
                  </a:lnTo>
                  <a:lnTo>
                    <a:pt x="2509" y="1719"/>
                  </a:lnTo>
                  <a:lnTo>
                    <a:pt x="2514" y="1719"/>
                  </a:lnTo>
                  <a:lnTo>
                    <a:pt x="2520" y="1719"/>
                  </a:lnTo>
                  <a:lnTo>
                    <a:pt x="2527" y="1719"/>
                  </a:lnTo>
                  <a:lnTo>
                    <a:pt x="2532" y="1719"/>
                  </a:lnTo>
                  <a:lnTo>
                    <a:pt x="2539" y="1719"/>
                  </a:lnTo>
                  <a:lnTo>
                    <a:pt x="2544" y="1719"/>
                  </a:lnTo>
                  <a:lnTo>
                    <a:pt x="2550" y="1719"/>
                  </a:lnTo>
                  <a:lnTo>
                    <a:pt x="2557" y="1719"/>
                  </a:lnTo>
                  <a:lnTo>
                    <a:pt x="2562" y="1719"/>
                  </a:lnTo>
                  <a:lnTo>
                    <a:pt x="2569" y="1719"/>
                  </a:lnTo>
                  <a:lnTo>
                    <a:pt x="2574" y="1719"/>
                  </a:lnTo>
                  <a:lnTo>
                    <a:pt x="2580" y="1719"/>
                  </a:lnTo>
                  <a:lnTo>
                    <a:pt x="2587" y="1719"/>
                  </a:lnTo>
                  <a:lnTo>
                    <a:pt x="2592" y="1719"/>
                  </a:lnTo>
                  <a:lnTo>
                    <a:pt x="2599" y="1719"/>
                  </a:lnTo>
                  <a:lnTo>
                    <a:pt x="2605" y="1719"/>
                  </a:lnTo>
                  <a:lnTo>
                    <a:pt x="2610" y="1719"/>
                  </a:lnTo>
                  <a:lnTo>
                    <a:pt x="2617" y="1719"/>
                  </a:lnTo>
                  <a:lnTo>
                    <a:pt x="2622" y="1719"/>
                  </a:lnTo>
                  <a:lnTo>
                    <a:pt x="2629" y="1719"/>
                  </a:lnTo>
                  <a:lnTo>
                    <a:pt x="2635" y="1719"/>
                  </a:lnTo>
                  <a:lnTo>
                    <a:pt x="2640" y="1719"/>
                  </a:lnTo>
                  <a:lnTo>
                    <a:pt x="2647" y="1719"/>
                  </a:lnTo>
                  <a:lnTo>
                    <a:pt x="2653" y="1719"/>
                  </a:lnTo>
                  <a:lnTo>
                    <a:pt x="2659" y="1719"/>
                  </a:lnTo>
                  <a:lnTo>
                    <a:pt x="2665" y="1719"/>
                  </a:lnTo>
                  <a:lnTo>
                    <a:pt x="2670" y="1719"/>
                  </a:lnTo>
                  <a:lnTo>
                    <a:pt x="2677" y="1719"/>
                  </a:lnTo>
                  <a:lnTo>
                    <a:pt x="2683" y="1719"/>
                  </a:lnTo>
                  <a:lnTo>
                    <a:pt x="2689" y="1719"/>
                  </a:lnTo>
                  <a:lnTo>
                    <a:pt x="2695" y="1719"/>
                  </a:lnTo>
                  <a:lnTo>
                    <a:pt x="2700" y="1719"/>
                  </a:lnTo>
                  <a:lnTo>
                    <a:pt x="2707" y="1719"/>
                  </a:lnTo>
                  <a:lnTo>
                    <a:pt x="2713" y="1719"/>
                  </a:lnTo>
                  <a:lnTo>
                    <a:pt x="2719" y="1719"/>
                  </a:lnTo>
                  <a:lnTo>
                    <a:pt x="2725" y="1719"/>
                  </a:lnTo>
                  <a:lnTo>
                    <a:pt x="2731" y="1719"/>
                  </a:lnTo>
                  <a:lnTo>
                    <a:pt x="2737" y="1719"/>
                  </a:lnTo>
                  <a:lnTo>
                    <a:pt x="2743" y="1719"/>
                  </a:lnTo>
                  <a:lnTo>
                    <a:pt x="2749" y="1719"/>
                  </a:lnTo>
                  <a:lnTo>
                    <a:pt x="2755" y="1719"/>
                  </a:lnTo>
                  <a:lnTo>
                    <a:pt x="2761" y="1719"/>
                  </a:lnTo>
                  <a:lnTo>
                    <a:pt x="2767" y="1719"/>
                  </a:lnTo>
                  <a:lnTo>
                    <a:pt x="2773" y="1719"/>
                  </a:lnTo>
                  <a:lnTo>
                    <a:pt x="2780" y="1719"/>
                  </a:lnTo>
                  <a:lnTo>
                    <a:pt x="2785" y="1719"/>
                  </a:lnTo>
                  <a:lnTo>
                    <a:pt x="2791" y="1719"/>
                  </a:lnTo>
                  <a:lnTo>
                    <a:pt x="2797" y="1719"/>
                  </a:lnTo>
                  <a:lnTo>
                    <a:pt x="2803" y="1719"/>
                  </a:lnTo>
                  <a:lnTo>
                    <a:pt x="2810" y="1719"/>
                  </a:lnTo>
                  <a:lnTo>
                    <a:pt x="2815" y="1719"/>
                  </a:lnTo>
                  <a:lnTo>
                    <a:pt x="2822" y="1719"/>
                  </a:lnTo>
                  <a:lnTo>
                    <a:pt x="2828" y="1719"/>
                  </a:lnTo>
                  <a:lnTo>
                    <a:pt x="2833" y="1719"/>
                  </a:lnTo>
                  <a:lnTo>
                    <a:pt x="2840" y="1719"/>
                  </a:lnTo>
                  <a:lnTo>
                    <a:pt x="2845" y="1719"/>
                  </a:lnTo>
                  <a:lnTo>
                    <a:pt x="2852" y="1719"/>
                  </a:lnTo>
                  <a:lnTo>
                    <a:pt x="2858" y="1719"/>
                  </a:lnTo>
                  <a:lnTo>
                    <a:pt x="2863" y="1719"/>
                  </a:lnTo>
                  <a:lnTo>
                    <a:pt x="2870" y="1719"/>
                  </a:lnTo>
                  <a:lnTo>
                    <a:pt x="2875" y="1719"/>
                  </a:lnTo>
                  <a:lnTo>
                    <a:pt x="2882" y="1719"/>
                  </a:lnTo>
                  <a:lnTo>
                    <a:pt x="2888" y="1719"/>
                  </a:lnTo>
                  <a:lnTo>
                    <a:pt x="2893" y="1719"/>
                  </a:lnTo>
                  <a:lnTo>
                    <a:pt x="2900" y="1719"/>
                  </a:lnTo>
                  <a:lnTo>
                    <a:pt x="2906" y="1719"/>
                  </a:lnTo>
                  <a:lnTo>
                    <a:pt x="2912" y="1719"/>
                  </a:lnTo>
                  <a:lnTo>
                    <a:pt x="2918" y="1719"/>
                  </a:lnTo>
                  <a:lnTo>
                    <a:pt x="2923" y="1719"/>
                  </a:lnTo>
                  <a:lnTo>
                    <a:pt x="2930" y="1719"/>
                  </a:lnTo>
                  <a:lnTo>
                    <a:pt x="2936" y="1719"/>
                  </a:lnTo>
                  <a:lnTo>
                    <a:pt x="2942" y="1719"/>
                  </a:lnTo>
                  <a:lnTo>
                    <a:pt x="2948" y="1719"/>
                  </a:lnTo>
                  <a:lnTo>
                    <a:pt x="2953" y="1719"/>
                  </a:lnTo>
                  <a:lnTo>
                    <a:pt x="2960" y="1719"/>
                  </a:lnTo>
                  <a:lnTo>
                    <a:pt x="2966" y="1719"/>
                  </a:lnTo>
                  <a:lnTo>
                    <a:pt x="2972" y="1719"/>
                  </a:lnTo>
                  <a:lnTo>
                    <a:pt x="2978" y="1719"/>
                  </a:lnTo>
                  <a:lnTo>
                    <a:pt x="2984" y="1719"/>
                  </a:lnTo>
                  <a:lnTo>
                    <a:pt x="2990" y="1719"/>
                  </a:lnTo>
                  <a:lnTo>
                    <a:pt x="2996" y="1719"/>
                  </a:lnTo>
                  <a:lnTo>
                    <a:pt x="3003" y="1719"/>
                  </a:lnTo>
                  <a:lnTo>
                    <a:pt x="3008" y="1719"/>
                  </a:lnTo>
                  <a:lnTo>
                    <a:pt x="3014" y="1719"/>
                  </a:lnTo>
                  <a:lnTo>
                    <a:pt x="3020" y="1719"/>
                  </a:lnTo>
                  <a:lnTo>
                    <a:pt x="3026" y="1719"/>
                  </a:lnTo>
                  <a:lnTo>
                    <a:pt x="3033" y="1719"/>
                  </a:lnTo>
                  <a:lnTo>
                    <a:pt x="3038" y="1719"/>
                  </a:lnTo>
                  <a:lnTo>
                    <a:pt x="3044" y="1719"/>
                  </a:lnTo>
                  <a:lnTo>
                    <a:pt x="3050" y="1719"/>
                  </a:lnTo>
                  <a:lnTo>
                    <a:pt x="3056" y="1719"/>
                  </a:lnTo>
                  <a:lnTo>
                    <a:pt x="3063" y="1719"/>
                  </a:lnTo>
                  <a:lnTo>
                    <a:pt x="3068" y="1719"/>
                  </a:lnTo>
                  <a:lnTo>
                    <a:pt x="3074" y="1719"/>
                  </a:lnTo>
                  <a:lnTo>
                    <a:pt x="3081" y="1719"/>
                  </a:lnTo>
                  <a:lnTo>
                    <a:pt x="3086" y="1719"/>
                  </a:lnTo>
                  <a:lnTo>
                    <a:pt x="3093" y="1719"/>
                  </a:lnTo>
                  <a:lnTo>
                    <a:pt x="3098" y="1719"/>
                  </a:lnTo>
                  <a:lnTo>
                    <a:pt x="3104" y="1719"/>
                  </a:lnTo>
                  <a:lnTo>
                    <a:pt x="3111" y="1719"/>
                  </a:lnTo>
                  <a:lnTo>
                    <a:pt x="3116" y="1719"/>
                  </a:lnTo>
                  <a:lnTo>
                    <a:pt x="3123" y="1719"/>
                  </a:lnTo>
                  <a:lnTo>
                    <a:pt x="3128" y="1719"/>
                  </a:lnTo>
                  <a:lnTo>
                    <a:pt x="3134" y="1719"/>
                  </a:lnTo>
                  <a:lnTo>
                    <a:pt x="3141" y="1719"/>
                  </a:lnTo>
                  <a:lnTo>
                    <a:pt x="3146" y="1719"/>
                  </a:lnTo>
                  <a:lnTo>
                    <a:pt x="3153" y="1719"/>
                  </a:lnTo>
                  <a:lnTo>
                    <a:pt x="3159" y="1719"/>
                  </a:lnTo>
                  <a:lnTo>
                    <a:pt x="3164" y="1719"/>
                  </a:lnTo>
                  <a:lnTo>
                    <a:pt x="3171" y="1719"/>
                  </a:lnTo>
                  <a:lnTo>
                    <a:pt x="3176" y="1719"/>
                  </a:lnTo>
                  <a:lnTo>
                    <a:pt x="3183" y="1719"/>
                  </a:lnTo>
                  <a:lnTo>
                    <a:pt x="3186" y="1719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794680" y="2836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15524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66320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169720" y="2836800"/>
              <a:ext cx="37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19860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70656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213080" y="28368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13273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183348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34000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8465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5268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85920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365720" y="270504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3273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5811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83348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0876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3400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5938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8465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10032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35268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60684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85920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113360" y="27050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108800" y="2332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126440" y="1019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989640" y="167652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1247400" y="243684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1247400" y="177948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H="1">
              <a:off x="1247400" y="112248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1287000" y="26989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H="1">
              <a:off x="1287000" y="256860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1287000" y="243684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H="1">
              <a:off x="1287000" y="230508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1287000" y="21733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1287000" y="204300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H="1">
              <a:off x="1287000" y="191124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H="1">
              <a:off x="1287000" y="177948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 flipH="1">
              <a:off x="1287000" y="16477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H="1">
              <a:off x="1287000" y="151596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>
              <a:off x="1287000" y="138420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>
              <a:off x="1287000" y="125244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>
              <a:off x="1287000" y="112248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H="1">
              <a:off x="1287000" y="99072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>
              <a:off x="1287000" y="858960"/>
              <a:ext cx="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327320" y="858960"/>
              <a:ext cx="3038400" cy="1839960"/>
            </a:xfrm>
            <a:custGeom>
              <a:avLst/>
              <a:gdLst/>
              <a:ahLst/>
              <a:rect l="l" t="t" r="r" b="b"/>
              <a:pathLst>
                <a:path w="3189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9" y="0"/>
                  </a:lnTo>
                  <a:lnTo>
                    <a:pt x="3189" y="2403"/>
                  </a:lnTo>
                  <a:lnTo>
                    <a:pt x="3189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590920" y="3103560"/>
              <a:ext cx="50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  (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rot="16200000">
              <a:off x="387360" y="1671120"/>
              <a:ext cx="672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392120" y="4605480"/>
              <a:ext cx="2976840" cy="255600"/>
            </a:xfrm>
            <a:custGeom>
              <a:avLst/>
              <a:gdLst/>
              <a:ahLst/>
              <a:rect l="l" t="t" r="r" b="b"/>
              <a:pathLst>
                <a:path w="3186" h="335">
                  <a:moveTo>
                    <a:pt x="0" y="335"/>
                  </a:moveTo>
                  <a:lnTo>
                    <a:pt x="19" y="335"/>
                  </a:lnTo>
                  <a:lnTo>
                    <a:pt x="40" y="335"/>
                  </a:lnTo>
                  <a:lnTo>
                    <a:pt x="61" y="335"/>
                  </a:lnTo>
                  <a:lnTo>
                    <a:pt x="83" y="335"/>
                  </a:lnTo>
                  <a:lnTo>
                    <a:pt x="104" y="335"/>
                  </a:lnTo>
                  <a:lnTo>
                    <a:pt x="126" y="335"/>
                  </a:lnTo>
                  <a:lnTo>
                    <a:pt x="147" y="335"/>
                  </a:lnTo>
                  <a:lnTo>
                    <a:pt x="169" y="335"/>
                  </a:lnTo>
                  <a:lnTo>
                    <a:pt x="190" y="335"/>
                  </a:lnTo>
                  <a:lnTo>
                    <a:pt x="211" y="335"/>
                  </a:lnTo>
                  <a:lnTo>
                    <a:pt x="233" y="335"/>
                  </a:lnTo>
                  <a:lnTo>
                    <a:pt x="255" y="335"/>
                  </a:lnTo>
                  <a:lnTo>
                    <a:pt x="276" y="335"/>
                  </a:lnTo>
                  <a:lnTo>
                    <a:pt x="297" y="335"/>
                  </a:lnTo>
                  <a:lnTo>
                    <a:pt x="318" y="335"/>
                  </a:lnTo>
                  <a:lnTo>
                    <a:pt x="341" y="335"/>
                  </a:lnTo>
                  <a:lnTo>
                    <a:pt x="362" y="335"/>
                  </a:lnTo>
                  <a:lnTo>
                    <a:pt x="383" y="335"/>
                  </a:lnTo>
                  <a:lnTo>
                    <a:pt x="404" y="335"/>
                  </a:lnTo>
                  <a:lnTo>
                    <a:pt x="427" y="335"/>
                  </a:lnTo>
                  <a:lnTo>
                    <a:pt x="448" y="335"/>
                  </a:lnTo>
                  <a:lnTo>
                    <a:pt x="469" y="335"/>
                  </a:lnTo>
                  <a:lnTo>
                    <a:pt x="490" y="335"/>
                  </a:lnTo>
                  <a:lnTo>
                    <a:pt x="511" y="335"/>
                  </a:lnTo>
                  <a:lnTo>
                    <a:pt x="534" y="335"/>
                  </a:lnTo>
                  <a:lnTo>
                    <a:pt x="555" y="335"/>
                  </a:lnTo>
                  <a:lnTo>
                    <a:pt x="576" y="335"/>
                  </a:lnTo>
                  <a:lnTo>
                    <a:pt x="597" y="335"/>
                  </a:lnTo>
                  <a:lnTo>
                    <a:pt x="619" y="335"/>
                  </a:lnTo>
                  <a:lnTo>
                    <a:pt x="641" y="335"/>
                  </a:lnTo>
                  <a:lnTo>
                    <a:pt x="662" y="335"/>
                  </a:lnTo>
                  <a:lnTo>
                    <a:pt x="683" y="333"/>
                  </a:lnTo>
                  <a:lnTo>
                    <a:pt x="705" y="333"/>
                  </a:lnTo>
                  <a:lnTo>
                    <a:pt x="726" y="333"/>
                  </a:lnTo>
                  <a:lnTo>
                    <a:pt x="748" y="333"/>
                  </a:lnTo>
                  <a:lnTo>
                    <a:pt x="769" y="332"/>
                  </a:lnTo>
                  <a:lnTo>
                    <a:pt x="791" y="332"/>
                  </a:lnTo>
                  <a:lnTo>
                    <a:pt x="812" y="331"/>
                  </a:lnTo>
                  <a:lnTo>
                    <a:pt x="833" y="330"/>
                  </a:lnTo>
                  <a:lnTo>
                    <a:pt x="855" y="330"/>
                  </a:lnTo>
                  <a:lnTo>
                    <a:pt x="877" y="328"/>
                  </a:lnTo>
                  <a:lnTo>
                    <a:pt x="898" y="327"/>
                  </a:lnTo>
                  <a:lnTo>
                    <a:pt x="919" y="325"/>
                  </a:lnTo>
                  <a:lnTo>
                    <a:pt x="940" y="322"/>
                  </a:lnTo>
                  <a:lnTo>
                    <a:pt x="963" y="319"/>
                  </a:lnTo>
                  <a:lnTo>
                    <a:pt x="984" y="316"/>
                  </a:lnTo>
                  <a:lnTo>
                    <a:pt x="1005" y="311"/>
                  </a:lnTo>
                  <a:lnTo>
                    <a:pt x="1026" y="307"/>
                  </a:lnTo>
                  <a:lnTo>
                    <a:pt x="1049" y="301"/>
                  </a:lnTo>
                  <a:lnTo>
                    <a:pt x="1070" y="294"/>
                  </a:lnTo>
                  <a:lnTo>
                    <a:pt x="1091" y="287"/>
                  </a:lnTo>
                  <a:lnTo>
                    <a:pt x="1112" y="279"/>
                  </a:lnTo>
                  <a:lnTo>
                    <a:pt x="1133" y="269"/>
                  </a:lnTo>
                  <a:lnTo>
                    <a:pt x="1156" y="259"/>
                  </a:lnTo>
                  <a:lnTo>
                    <a:pt x="1177" y="248"/>
                  </a:lnTo>
                  <a:lnTo>
                    <a:pt x="1198" y="234"/>
                  </a:lnTo>
                  <a:lnTo>
                    <a:pt x="1219" y="221"/>
                  </a:lnTo>
                  <a:lnTo>
                    <a:pt x="1241" y="206"/>
                  </a:lnTo>
                  <a:lnTo>
                    <a:pt x="1263" y="191"/>
                  </a:lnTo>
                  <a:lnTo>
                    <a:pt x="1284" y="175"/>
                  </a:lnTo>
                  <a:lnTo>
                    <a:pt x="1305" y="158"/>
                  </a:lnTo>
                  <a:lnTo>
                    <a:pt x="1327" y="142"/>
                  </a:lnTo>
                  <a:lnTo>
                    <a:pt x="1348" y="124"/>
                  </a:lnTo>
                  <a:lnTo>
                    <a:pt x="1370" y="107"/>
                  </a:lnTo>
                  <a:lnTo>
                    <a:pt x="1391" y="90"/>
                  </a:lnTo>
                  <a:lnTo>
                    <a:pt x="1413" y="75"/>
                  </a:lnTo>
                  <a:lnTo>
                    <a:pt x="1434" y="59"/>
                  </a:lnTo>
                  <a:lnTo>
                    <a:pt x="1455" y="46"/>
                  </a:lnTo>
                  <a:lnTo>
                    <a:pt x="1477" y="32"/>
                  </a:lnTo>
                  <a:lnTo>
                    <a:pt x="1499" y="22"/>
                  </a:lnTo>
                  <a:lnTo>
                    <a:pt x="1520" y="13"/>
                  </a:lnTo>
                  <a:lnTo>
                    <a:pt x="1541" y="7"/>
                  </a:lnTo>
                  <a:lnTo>
                    <a:pt x="1562" y="2"/>
                  </a:lnTo>
                  <a:lnTo>
                    <a:pt x="1585" y="0"/>
                  </a:lnTo>
                  <a:lnTo>
                    <a:pt x="1606" y="0"/>
                  </a:lnTo>
                  <a:lnTo>
                    <a:pt x="1627" y="2"/>
                  </a:lnTo>
                  <a:lnTo>
                    <a:pt x="1648" y="8"/>
                  </a:lnTo>
                  <a:lnTo>
                    <a:pt x="1671" y="14"/>
                  </a:lnTo>
                  <a:lnTo>
                    <a:pt x="1692" y="23"/>
                  </a:lnTo>
                  <a:lnTo>
                    <a:pt x="1713" y="35"/>
                  </a:lnTo>
                  <a:lnTo>
                    <a:pt x="1734" y="48"/>
                  </a:lnTo>
                  <a:lnTo>
                    <a:pt x="1755" y="62"/>
                  </a:lnTo>
                  <a:lnTo>
                    <a:pt x="1778" y="77"/>
                  </a:lnTo>
                  <a:lnTo>
                    <a:pt x="1799" y="94"/>
                  </a:lnTo>
                  <a:lnTo>
                    <a:pt x="1820" y="110"/>
                  </a:lnTo>
                  <a:lnTo>
                    <a:pt x="1841" y="127"/>
                  </a:lnTo>
                  <a:lnTo>
                    <a:pt x="1863" y="145"/>
                  </a:lnTo>
                  <a:lnTo>
                    <a:pt x="1885" y="162"/>
                  </a:lnTo>
                  <a:lnTo>
                    <a:pt x="1906" y="178"/>
                  </a:lnTo>
                  <a:lnTo>
                    <a:pt x="1927" y="194"/>
                  </a:lnTo>
                  <a:lnTo>
                    <a:pt x="1949" y="210"/>
                  </a:lnTo>
                  <a:lnTo>
                    <a:pt x="1970" y="224"/>
                  </a:lnTo>
                  <a:lnTo>
                    <a:pt x="1992" y="238"/>
                  </a:lnTo>
                  <a:lnTo>
                    <a:pt x="2013" y="250"/>
                  </a:lnTo>
                  <a:lnTo>
                    <a:pt x="2035" y="261"/>
                  </a:lnTo>
                  <a:lnTo>
                    <a:pt x="2056" y="271"/>
                  </a:lnTo>
                  <a:lnTo>
                    <a:pt x="2077" y="281"/>
                  </a:lnTo>
                  <a:lnTo>
                    <a:pt x="2099" y="289"/>
                  </a:lnTo>
                  <a:lnTo>
                    <a:pt x="2121" y="296"/>
                  </a:lnTo>
                  <a:lnTo>
                    <a:pt x="2142" y="302"/>
                  </a:lnTo>
                  <a:lnTo>
                    <a:pt x="2163" y="308"/>
                  </a:lnTo>
                  <a:lnTo>
                    <a:pt x="2184" y="312"/>
                  </a:lnTo>
                  <a:lnTo>
                    <a:pt x="2207" y="317"/>
                  </a:lnTo>
                  <a:lnTo>
                    <a:pt x="2228" y="320"/>
                  </a:lnTo>
                  <a:lnTo>
                    <a:pt x="2249" y="322"/>
                  </a:lnTo>
                  <a:lnTo>
                    <a:pt x="2270" y="325"/>
                  </a:lnTo>
                  <a:lnTo>
                    <a:pt x="2292" y="327"/>
                  </a:lnTo>
                  <a:lnTo>
                    <a:pt x="2314" y="329"/>
                  </a:lnTo>
                  <a:lnTo>
                    <a:pt x="2335" y="330"/>
                  </a:lnTo>
                  <a:lnTo>
                    <a:pt x="2356" y="331"/>
                  </a:lnTo>
                  <a:lnTo>
                    <a:pt x="2377" y="331"/>
                  </a:lnTo>
                  <a:lnTo>
                    <a:pt x="2399" y="332"/>
                  </a:lnTo>
                  <a:lnTo>
                    <a:pt x="2421" y="332"/>
                  </a:lnTo>
                  <a:lnTo>
                    <a:pt x="2442" y="333"/>
                  </a:lnTo>
                  <a:lnTo>
                    <a:pt x="2463" y="333"/>
                  </a:lnTo>
                  <a:lnTo>
                    <a:pt x="2485" y="333"/>
                  </a:lnTo>
                  <a:lnTo>
                    <a:pt x="2507" y="333"/>
                  </a:lnTo>
                  <a:lnTo>
                    <a:pt x="2528" y="335"/>
                  </a:lnTo>
                  <a:lnTo>
                    <a:pt x="2549" y="335"/>
                  </a:lnTo>
                  <a:lnTo>
                    <a:pt x="2571" y="335"/>
                  </a:lnTo>
                  <a:lnTo>
                    <a:pt x="2592" y="335"/>
                  </a:lnTo>
                  <a:lnTo>
                    <a:pt x="2614" y="335"/>
                  </a:lnTo>
                  <a:lnTo>
                    <a:pt x="2635" y="335"/>
                  </a:lnTo>
                  <a:lnTo>
                    <a:pt x="2657" y="335"/>
                  </a:lnTo>
                  <a:lnTo>
                    <a:pt x="2678" y="335"/>
                  </a:lnTo>
                  <a:lnTo>
                    <a:pt x="2699" y="335"/>
                  </a:lnTo>
                  <a:lnTo>
                    <a:pt x="2721" y="335"/>
                  </a:lnTo>
                  <a:lnTo>
                    <a:pt x="2743" y="335"/>
                  </a:lnTo>
                  <a:lnTo>
                    <a:pt x="2764" y="335"/>
                  </a:lnTo>
                  <a:lnTo>
                    <a:pt x="2785" y="335"/>
                  </a:lnTo>
                  <a:lnTo>
                    <a:pt x="2806" y="335"/>
                  </a:lnTo>
                  <a:lnTo>
                    <a:pt x="2829" y="335"/>
                  </a:lnTo>
                  <a:lnTo>
                    <a:pt x="2850" y="335"/>
                  </a:lnTo>
                  <a:lnTo>
                    <a:pt x="2871" y="335"/>
                  </a:lnTo>
                  <a:lnTo>
                    <a:pt x="2892" y="335"/>
                  </a:lnTo>
                  <a:lnTo>
                    <a:pt x="2914" y="335"/>
                  </a:lnTo>
                  <a:lnTo>
                    <a:pt x="2936" y="335"/>
                  </a:lnTo>
                  <a:lnTo>
                    <a:pt x="2957" y="335"/>
                  </a:lnTo>
                  <a:lnTo>
                    <a:pt x="2978" y="335"/>
                  </a:lnTo>
                  <a:lnTo>
                    <a:pt x="2999" y="335"/>
                  </a:lnTo>
                  <a:lnTo>
                    <a:pt x="3021" y="335"/>
                  </a:lnTo>
                  <a:lnTo>
                    <a:pt x="3043" y="335"/>
                  </a:lnTo>
                  <a:lnTo>
                    <a:pt x="3064" y="335"/>
                  </a:lnTo>
                  <a:lnTo>
                    <a:pt x="3085" y="335"/>
                  </a:lnTo>
                  <a:lnTo>
                    <a:pt x="3107" y="335"/>
                  </a:lnTo>
                  <a:lnTo>
                    <a:pt x="3128" y="335"/>
                  </a:lnTo>
                  <a:lnTo>
                    <a:pt x="3150" y="335"/>
                  </a:lnTo>
                  <a:lnTo>
                    <a:pt x="3171" y="335"/>
                  </a:lnTo>
                  <a:lnTo>
                    <a:pt x="3186" y="335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828160" y="561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178640" y="5616720"/>
              <a:ext cx="4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173120" y="56167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983960" y="5616720"/>
              <a:ext cx="3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489120" y="5616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39212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13660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88144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62412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36716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3921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541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6891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8381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1987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1366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284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4336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5830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7320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8814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0290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1780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3256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4750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6241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773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9211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070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219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3671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54640" y="5240160"/>
              <a:ext cx="4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172520" y="4761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85680" y="374004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93160" y="424980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H="1">
              <a:off x="1314360" y="537372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H="1">
              <a:off x="1314360" y="486396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H="1">
              <a:off x="1314360" y="435132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1314360" y="3840120"/>
              <a:ext cx="7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 flipH="1">
              <a:off x="1352520" y="54770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 flipH="1">
              <a:off x="1352520" y="53737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H="1">
              <a:off x="1352520" y="52722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 flipH="1">
              <a:off x="1352520" y="51688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H="1">
              <a:off x="1352520" y="50673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H="1">
              <a:off x="1352520" y="49658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H="1">
              <a:off x="1352520" y="48639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H="1">
              <a:off x="1352520" y="47610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H="1">
              <a:off x="1352520" y="46594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H="1">
              <a:off x="1352520" y="45561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H="1">
              <a:off x="1352520" y="44546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352520" y="43513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H="1">
              <a:off x="1352520" y="42498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>
              <a:off x="1352520" y="41464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H="1">
              <a:off x="1352520" y="404496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>
              <a:off x="1352520" y="394344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H="1">
              <a:off x="1352520" y="384012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H="1">
              <a:off x="1352520" y="373860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H="1">
              <a:off x="1352520" y="3635280"/>
              <a:ext cx="3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1392120" y="3635280"/>
              <a:ext cx="0" cy="18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392120" y="3635280"/>
              <a:ext cx="2975040" cy="1841760"/>
            </a:xfrm>
            <a:custGeom>
              <a:avLst/>
              <a:gdLst/>
              <a:ahLst/>
              <a:rect l="l" t="t" r="r" b="b"/>
              <a:pathLst>
                <a:path w="3121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21" y="0"/>
                  </a:lnTo>
                  <a:lnTo>
                    <a:pt x="3121" y="2403"/>
                  </a:lnTo>
                  <a:lnTo>
                    <a:pt x="3121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2560680" y="5870520"/>
              <a:ext cx="638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  (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 rot="16200000">
              <a:off x="372960" y="4433400"/>
              <a:ext cx="672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881040" y="5616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232960" y="5616720"/>
              <a:ext cx="4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224200" y="56167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036840" y="5616720"/>
              <a:ext cx="3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543440" y="56167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44680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18984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93252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67556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418600" y="548316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54468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55944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7434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58910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0404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18984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3388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4864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6340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78348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932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0819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2952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378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5279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6755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82496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9740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1234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2710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418600" y="548316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907520" y="5240160"/>
              <a:ext cx="46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446800" y="3635280"/>
              <a:ext cx="360" cy="184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446800" y="3635280"/>
              <a:ext cx="360" cy="1841760"/>
            </a:xfrm>
            <a:custGeom>
              <a:avLst/>
              <a:gdLst/>
              <a:ahLst/>
              <a:rect l="l" t="t" r="r" b="b"/>
              <a:pathLst>
                <a:path w="0" h="2403">
                  <a:moveTo>
                    <a:pt x="0" y="0"/>
                  </a:moveTo>
                  <a:lnTo>
                    <a:pt x="0" y="0"/>
                  </a:lnTo>
                  <a:lnTo>
                    <a:pt x="0" y="2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228640" y="4761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041800" y="374004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947840" y="424980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 flipH="1">
              <a:off x="5365440" y="537372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5365440" y="486396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>
              <a:off x="5365440" y="435132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H="1">
              <a:off x="5365440" y="3840120"/>
              <a:ext cx="8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H="1">
              <a:off x="5405040" y="547704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H="1">
              <a:off x="5405040" y="537372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H="1">
              <a:off x="5405040" y="527220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>
              <a:off x="5405040" y="516888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 flipH="1">
              <a:off x="5405040" y="506736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 flipH="1">
              <a:off x="5405040" y="496584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>
              <a:off x="5405040" y="486396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 flipH="1">
              <a:off x="5405040" y="476100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 flipH="1">
              <a:off x="5405040" y="465948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405040" y="455616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H="1">
              <a:off x="5405040" y="445464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H="1">
              <a:off x="5405040" y="435132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 flipH="1">
              <a:off x="5405040" y="424980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5405040" y="414648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 flipH="1">
              <a:off x="5405040" y="404496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5405040" y="394344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 flipH="1">
              <a:off x="5405040" y="384012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H="1">
              <a:off x="5405040" y="373860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>
              <a:off x="5405040" y="3635280"/>
              <a:ext cx="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446800" y="3635280"/>
              <a:ext cx="0" cy="18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446800" y="3635280"/>
              <a:ext cx="2971800" cy="1841760"/>
            </a:xfrm>
            <a:custGeom>
              <a:avLst/>
              <a:gdLst/>
              <a:ahLst/>
              <a:rect l="l" t="t" r="r" b="b"/>
              <a:pathLst>
                <a:path w="3121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21" y="0"/>
                  </a:lnTo>
                  <a:lnTo>
                    <a:pt x="3121" y="2403"/>
                  </a:lnTo>
                  <a:lnTo>
                    <a:pt x="3121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615000" y="5870520"/>
              <a:ext cx="63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  (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rot="16200000">
              <a:off x="4441680" y="4433400"/>
              <a:ext cx="672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446800" y="4084560"/>
              <a:ext cx="2965320" cy="776520"/>
            </a:xfrm>
            <a:custGeom>
              <a:avLst/>
              <a:gdLst/>
              <a:ahLst/>
              <a:rect l="l" t="t" r="r" b="b"/>
              <a:pathLst>
                <a:path w="3114" h="814">
                  <a:moveTo>
                    <a:pt x="0" y="814"/>
                  </a:moveTo>
                  <a:lnTo>
                    <a:pt x="1047" y="814"/>
                  </a:lnTo>
                  <a:lnTo>
                    <a:pt x="1054" y="814"/>
                  </a:lnTo>
                  <a:lnTo>
                    <a:pt x="1061" y="814"/>
                  </a:lnTo>
                  <a:lnTo>
                    <a:pt x="1068" y="814"/>
                  </a:lnTo>
                  <a:lnTo>
                    <a:pt x="1075" y="814"/>
                  </a:lnTo>
                  <a:lnTo>
                    <a:pt x="1082" y="814"/>
                  </a:lnTo>
                  <a:lnTo>
                    <a:pt x="1089" y="814"/>
                  </a:lnTo>
                  <a:lnTo>
                    <a:pt x="1096" y="814"/>
                  </a:lnTo>
                  <a:lnTo>
                    <a:pt x="1103" y="814"/>
                  </a:lnTo>
                  <a:lnTo>
                    <a:pt x="1110" y="814"/>
                  </a:lnTo>
                  <a:lnTo>
                    <a:pt x="1117" y="814"/>
                  </a:lnTo>
                  <a:lnTo>
                    <a:pt x="1124" y="814"/>
                  </a:lnTo>
                  <a:lnTo>
                    <a:pt x="1131" y="814"/>
                  </a:lnTo>
                  <a:lnTo>
                    <a:pt x="1138" y="814"/>
                  </a:lnTo>
                  <a:lnTo>
                    <a:pt x="1144" y="814"/>
                  </a:lnTo>
                  <a:lnTo>
                    <a:pt x="1152" y="814"/>
                  </a:lnTo>
                  <a:lnTo>
                    <a:pt x="1159" y="814"/>
                  </a:lnTo>
                  <a:lnTo>
                    <a:pt x="1166" y="814"/>
                  </a:lnTo>
                  <a:lnTo>
                    <a:pt x="1172" y="814"/>
                  </a:lnTo>
                  <a:lnTo>
                    <a:pt x="1180" y="814"/>
                  </a:lnTo>
                  <a:lnTo>
                    <a:pt x="1187" y="814"/>
                  </a:lnTo>
                  <a:lnTo>
                    <a:pt x="1194" y="814"/>
                  </a:lnTo>
                  <a:lnTo>
                    <a:pt x="1200" y="814"/>
                  </a:lnTo>
                  <a:lnTo>
                    <a:pt x="1207" y="814"/>
                  </a:lnTo>
                  <a:lnTo>
                    <a:pt x="1215" y="814"/>
                  </a:lnTo>
                  <a:lnTo>
                    <a:pt x="1221" y="814"/>
                  </a:lnTo>
                  <a:lnTo>
                    <a:pt x="1228" y="814"/>
                  </a:lnTo>
                  <a:lnTo>
                    <a:pt x="1235" y="814"/>
                  </a:lnTo>
                  <a:lnTo>
                    <a:pt x="1242" y="814"/>
                  </a:lnTo>
                  <a:lnTo>
                    <a:pt x="1249" y="814"/>
                  </a:lnTo>
                  <a:lnTo>
                    <a:pt x="1256" y="814"/>
                  </a:lnTo>
                  <a:lnTo>
                    <a:pt x="1263" y="809"/>
                  </a:lnTo>
                  <a:lnTo>
                    <a:pt x="1270" y="809"/>
                  </a:lnTo>
                  <a:lnTo>
                    <a:pt x="1277" y="809"/>
                  </a:lnTo>
                  <a:lnTo>
                    <a:pt x="1284" y="809"/>
                  </a:lnTo>
                  <a:lnTo>
                    <a:pt x="1291" y="807"/>
                  </a:lnTo>
                  <a:lnTo>
                    <a:pt x="1298" y="807"/>
                  </a:lnTo>
                  <a:lnTo>
                    <a:pt x="1305" y="804"/>
                  </a:lnTo>
                  <a:lnTo>
                    <a:pt x="1312" y="802"/>
                  </a:lnTo>
                  <a:lnTo>
                    <a:pt x="1319" y="802"/>
                  </a:lnTo>
                  <a:lnTo>
                    <a:pt x="1326" y="797"/>
                  </a:lnTo>
                  <a:lnTo>
                    <a:pt x="1333" y="795"/>
                  </a:lnTo>
                  <a:lnTo>
                    <a:pt x="1340" y="790"/>
                  </a:lnTo>
                  <a:lnTo>
                    <a:pt x="1347" y="782"/>
                  </a:lnTo>
                  <a:lnTo>
                    <a:pt x="1354" y="775"/>
                  </a:lnTo>
                  <a:lnTo>
                    <a:pt x="1361" y="768"/>
                  </a:lnTo>
                  <a:lnTo>
                    <a:pt x="1368" y="756"/>
                  </a:lnTo>
                  <a:lnTo>
                    <a:pt x="1375" y="746"/>
                  </a:lnTo>
                  <a:lnTo>
                    <a:pt x="1382" y="731"/>
                  </a:lnTo>
                  <a:lnTo>
                    <a:pt x="1389" y="714"/>
                  </a:lnTo>
                  <a:lnTo>
                    <a:pt x="1396" y="697"/>
                  </a:lnTo>
                  <a:lnTo>
                    <a:pt x="1403" y="678"/>
                  </a:lnTo>
                  <a:lnTo>
                    <a:pt x="1409" y="654"/>
                  </a:lnTo>
                  <a:lnTo>
                    <a:pt x="1417" y="629"/>
                  </a:lnTo>
                  <a:lnTo>
                    <a:pt x="1424" y="603"/>
                  </a:lnTo>
                  <a:lnTo>
                    <a:pt x="1431" y="569"/>
                  </a:lnTo>
                  <a:lnTo>
                    <a:pt x="1437" y="537"/>
                  </a:lnTo>
                  <a:lnTo>
                    <a:pt x="1445" y="501"/>
                  </a:lnTo>
                  <a:lnTo>
                    <a:pt x="1452" y="464"/>
                  </a:lnTo>
                  <a:lnTo>
                    <a:pt x="1459" y="425"/>
                  </a:lnTo>
                  <a:lnTo>
                    <a:pt x="1465" y="384"/>
                  </a:lnTo>
                  <a:lnTo>
                    <a:pt x="1473" y="345"/>
                  </a:lnTo>
                  <a:lnTo>
                    <a:pt x="1479" y="301"/>
                  </a:lnTo>
                  <a:lnTo>
                    <a:pt x="1486" y="260"/>
                  </a:lnTo>
                  <a:lnTo>
                    <a:pt x="1493" y="219"/>
                  </a:lnTo>
                  <a:lnTo>
                    <a:pt x="1500" y="182"/>
                  </a:lnTo>
                  <a:lnTo>
                    <a:pt x="1507" y="143"/>
                  </a:lnTo>
                  <a:lnTo>
                    <a:pt x="1514" y="112"/>
                  </a:lnTo>
                  <a:lnTo>
                    <a:pt x="1521" y="78"/>
                  </a:lnTo>
                  <a:lnTo>
                    <a:pt x="1528" y="53"/>
                  </a:lnTo>
                  <a:lnTo>
                    <a:pt x="1535" y="32"/>
                  </a:lnTo>
                  <a:lnTo>
                    <a:pt x="1542" y="17"/>
                  </a:lnTo>
                  <a:lnTo>
                    <a:pt x="1549" y="5"/>
                  </a:lnTo>
                  <a:lnTo>
                    <a:pt x="1556" y="0"/>
                  </a:lnTo>
                  <a:lnTo>
                    <a:pt x="1563" y="0"/>
                  </a:lnTo>
                  <a:lnTo>
                    <a:pt x="1570" y="5"/>
                  </a:lnTo>
                  <a:lnTo>
                    <a:pt x="1577" y="19"/>
                  </a:lnTo>
                  <a:lnTo>
                    <a:pt x="1584" y="34"/>
                  </a:lnTo>
                  <a:lnTo>
                    <a:pt x="1591" y="56"/>
                  </a:lnTo>
                  <a:lnTo>
                    <a:pt x="1598" y="85"/>
                  </a:lnTo>
                  <a:lnTo>
                    <a:pt x="1605" y="117"/>
                  </a:lnTo>
                  <a:lnTo>
                    <a:pt x="1612" y="151"/>
                  </a:lnTo>
                  <a:lnTo>
                    <a:pt x="1619" y="187"/>
                  </a:lnTo>
                  <a:lnTo>
                    <a:pt x="1626" y="228"/>
                  </a:lnTo>
                  <a:lnTo>
                    <a:pt x="1633" y="267"/>
                  </a:lnTo>
                  <a:lnTo>
                    <a:pt x="1640" y="309"/>
                  </a:lnTo>
                  <a:lnTo>
                    <a:pt x="1647" y="352"/>
                  </a:lnTo>
                  <a:lnTo>
                    <a:pt x="1654" y="394"/>
                  </a:lnTo>
                  <a:lnTo>
                    <a:pt x="1661" y="433"/>
                  </a:lnTo>
                  <a:lnTo>
                    <a:pt x="1668" y="471"/>
                  </a:lnTo>
                  <a:lnTo>
                    <a:pt x="1675" y="510"/>
                  </a:lnTo>
                  <a:lnTo>
                    <a:pt x="1682" y="544"/>
                  </a:lnTo>
                  <a:lnTo>
                    <a:pt x="1689" y="578"/>
                  </a:lnTo>
                  <a:lnTo>
                    <a:pt x="1696" y="607"/>
                  </a:lnTo>
                  <a:lnTo>
                    <a:pt x="1703" y="634"/>
                  </a:lnTo>
                  <a:lnTo>
                    <a:pt x="1710" y="658"/>
                  </a:lnTo>
                  <a:lnTo>
                    <a:pt x="1716" y="683"/>
                  </a:lnTo>
                  <a:lnTo>
                    <a:pt x="1724" y="702"/>
                  </a:lnTo>
                  <a:lnTo>
                    <a:pt x="1731" y="719"/>
                  </a:lnTo>
                  <a:lnTo>
                    <a:pt x="1738" y="734"/>
                  </a:lnTo>
                  <a:lnTo>
                    <a:pt x="1744" y="748"/>
                  </a:lnTo>
                  <a:lnTo>
                    <a:pt x="1751" y="758"/>
                  </a:lnTo>
                  <a:lnTo>
                    <a:pt x="1759" y="770"/>
                  </a:lnTo>
                  <a:lnTo>
                    <a:pt x="1765" y="778"/>
                  </a:lnTo>
                  <a:lnTo>
                    <a:pt x="1772" y="782"/>
                  </a:lnTo>
                  <a:lnTo>
                    <a:pt x="1779" y="790"/>
                  </a:lnTo>
                  <a:lnTo>
                    <a:pt x="1786" y="795"/>
                  </a:lnTo>
                  <a:lnTo>
                    <a:pt x="1793" y="799"/>
                  </a:lnTo>
                  <a:lnTo>
                    <a:pt x="1800" y="802"/>
                  </a:lnTo>
                  <a:lnTo>
                    <a:pt x="1807" y="804"/>
                  </a:lnTo>
                  <a:lnTo>
                    <a:pt x="1814" y="804"/>
                  </a:lnTo>
                  <a:lnTo>
                    <a:pt x="1821" y="807"/>
                  </a:lnTo>
                  <a:lnTo>
                    <a:pt x="1828" y="807"/>
                  </a:lnTo>
                  <a:lnTo>
                    <a:pt x="1835" y="809"/>
                  </a:lnTo>
                  <a:lnTo>
                    <a:pt x="1842" y="809"/>
                  </a:lnTo>
                  <a:lnTo>
                    <a:pt x="1849" y="809"/>
                  </a:lnTo>
                  <a:lnTo>
                    <a:pt x="1856" y="809"/>
                  </a:lnTo>
                  <a:lnTo>
                    <a:pt x="1863" y="814"/>
                  </a:lnTo>
                  <a:lnTo>
                    <a:pt x="1870" y="814"/>
                  </a:lnTo>
                  <a:lnTo>
                    <a:pt x="1877" y="814"/>
                  </a:lnTo>
                  <a:lnTo>
                    <a:pt x="1884" y="814"/>
                  </a:lnTo>
                  <a:lnTo>
                    <a:pt x="1891" y="814"/>
                  </a:lnTo>
                  <a:lnTo>
                    <a:pt x="1898" y="814"/>
                  </a:lnTo>
                  <a:lnTo>
                    <a:pt x="1905" y="814"/>
                  </a:lnTo>
                  <a:lnTo>
                    <a:pt x="1912" y="814"/>
                  </a:lnTo>
                  <a:lnTo>
                    <a:pt x="1919" y="814"/>
                  </a:lnTo>
                  <a:lnTo>
                    <a:pt x="1926" y="814"/>
                  </a:lnTo>
                  <a:lnTo>
                    <a:pt x="1933" y="814"/>
                  </a:lnTo>
                  <a:lnTo>
                    <a:pt x="1940" y="814"/>
                  </a:lnTo>
                  <a:lnTo>
                    <a:pt x="1947" y="814"/>
                  </a:lnTo>
                  <a:lnTo>
                    <a:pt x="1953" y="814"/>
                  </a:lnTo>
                  <a:lnTo>
                    <a:pt x="1961" y="814"/>
                  </a:lnTo>
                  <a:lnTo>
                    <a:pt x="1968" y="814"/>
                  </a:lnTo>
                  <a:lnTo>
                    <a:pt x="1975" y="814"/>
                  </a:lnTo>
                  <a:lnTo>
                    <a:pt x="1981" y="814"/>
                  </a:lnTo>
                  <a:lnTo>
                    <a:pt x="1989" y="814"/>
                  </a:lnTo>
                  <a:lnTo>
                    <a:pt x="1996" y="814"/>
                  </a:lnTo>
                  <a:lnTo>
                    <a:pt x="2003" y="814"/>
                  </a:lnTo>
                  <a:lnTo>
                    <a:pt x="2009" y="814"/>
                  </a:lnTo>
                  <a:lnTo>
                    <a:pt x="2016" y="814"/>
                  </a:lnTo>
                  <a:lnTo>
                    <a:pt x="2023" y="814"/>
                  </a:lnTo>
                  <a:lnTo>
                    <a:pt x="2031" y="814"/>
                  </a:lnTo>
                  <a:lnTo>
                    <a:pt x="2037" y="814"/>
                  </a:lnTo>
                  <a:lnTo>
                    <a:pt x="2044" y="814"/>
                  </a:lnTo>
                  <a:lnTo>
                    <a:pt x="2051" y="814"/>
                  </a:lnTo>
                  <a:lnTo>
                    <a:pt x="2058" y="814"/>
                  </a:lnTo>
                  <a:lnTo>
                    <a:pt x="3114" y="814"/>
                  </a:lnTo>
                  <a:lnTo>
                    <a:pt x="2072" y="814"/>
                  </a:lnTo>
                  <a:lnTo>
                    <a:pt x="2077" y="81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6" name=""/>
          <p:cNvSpPr/>
          <p:nvPr/>
        </p:nvSpPr>
        <p:spPr>
          <a:xfrm>
            <a:off x="3041640" y="1187280"/>
            <a:ext cx="121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τ</a:t>
            </a:r>
            <a:r>
              <a:rPr b="1" lang="es-E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= 1 m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7105680" y="1187280"/>
            <a:ext cx="121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τ</a:t>
            </a:r>
            <a:r>
              <a:rPr b="1" lang="es-E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= 3 m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056-726D-4387-936C-0A874B0DC902}" type="slidenum">
              <a:t>101</a:t>
            </a:fld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754200" y="12358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pulsos también pueden utilizarse en forma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en de puls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 una sucesión de pulsos repet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BB1-7EA9-4F42-A40D-0D11FB1625FD}" type="slidenum">
              <a:t>102</a:t>
            </a:fld>
          </a:p>
        </p:txBody>
      </p:sp>
    </p:spTree>
  </p:cSld>
  <p:transition>
    <p:fad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4" name=""/>
          <p:cNvGrpSpPr/>
          <p:nvPr/>
        </p:nvGrpSpPr>
        <p:grpSpPr>
          <a:xfrm>
            <a:off x="1109520" y="1612800"/>
            <a:ext cx="6924960" cy="2466720"/>
            <a:chOff x="1109520" y="1612800"/>
            <a:chExt cx="6924960" cy="2466720"/>
          </a:xfrm>
        </p:grpSpPr>
        <p:grpSp>
          <p:nvGrpSpPr>
            <p:cNvPr id="3035" name=""/>
            <p:cNvGrpSpPr/>
            <p:nvPr/>
          </p:nvGrpSpPr>
          <p:grpSpPr>
            <a:xfrm>
              <a:off x="1332000" y="2644920"/>
              <a:ext cx="6152760" cy="1319040"/>
              <a:chOff x="1332000" y="2644920"/>
              <a:chExt cx="6152760" cy="1319040"/>
            </a:xfrm>
          </p:grpSpPr>
          <p:grpSp>
            <p:nvGrpSpPr>
              <p:cNvPr id="3036" name=""/>
              <p:cNvGrpSpPr/>
              <p:nvPr/>
            </p:nvGrpSpPr>
            <p:grpSpPr>
              <a:xfrm>
                <a:off x="1332000" y="2644920"/>
                <a:ext cx="3074760" cy="1319040"/>
                <a:chOff x="1332000" y="2644920"/>
                <a:chExt cx="3074760" cy="1319040"/>
              </a:xfrm>
            </p:grpSpPr>
            <p:sp>
              <p:nvSpPr>
                <p:cNvPr id="3037" name=""/>
                <p:cNvSpPr/>
                <p:nvPr/>
              </p:nvSpPr>
              <p:spPr>
                <a:xfrm>
                  <a:off x="209880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133200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364176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287496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1" name=""/>
              <p:cNvGrpSpPr/>
              <p:nvPr/>
            </p:nvGrpSpPr>
            <p:grpSpPr>
              <a:xfrm>
                <a:off x="4410000" y="2644920"/>
                <a:ext cx="3074760" cy="1319040"/>
                <a:chOff x="4410000" y="2644920"/>
                <a:chExt cx="3074760" cy="1319040"/>
              </a:xfrm>
            </p:grpSpPr>
            <p:sp>
              <p:nvSpPr>
                <p:cNvPr id="3042" name=""/>
                <p:cNvSpPr/>
                <p:nvPr/>
              </p:nvSpPr>
              <p:spPr>
                <a:xfrm>
                  <a:off x="517680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441000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671976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5952960" y="2644920"/>
                  <a:ext cx="765000" cy="1319040"/>
                </a:xfrm>
                <a:custGeom>
                  <a:avLst/>
                  <a:gdLst/>
                  <a:ahLst/>
                  <a:rect l="l" t="t" r="r" b="b"/>
                  <a:pathLst>
                    <a:path w="482" h="831">
                      <a:moveTo>
                        <a:pt x="0" y="831"/>
                      </a:moveTo>
                      <a:lnTo>
                        <a:pt x="164" y="831"/>
                      </a:lnTo>
                      <a:lnTo>
                        <a:pt x="182" y="830"/>
                      </a:lnTo>
                      <a:lnTo>
                        <a:pt x="191" y="826"/>
                      </a:lnTo>
                      <a:lnTo>
                        <a:pt x="197" y="817"/>
                      </a:lnTo>
                      <a:lnTo>
                        <a:pt x="204" y="787"/>
                      </a:lnTo>
                      <a:lnTo>
                        <a:pt x="209" y="751"/>
                      </a:lnTo>
                      <a:lnTo>
                        <a:pt x="213" y="702"/>
                      </a:lnTo>
                      <a:lnTo>
                        <a:pt x="216" y="631"/>
                      </a:lnTo>
                      <a:lnTo>
                        <a:pt x="224" y="394"/>
                      </a:lnTo>
                      <a:lnTo>
                        <a:pt x="233" y="159"/>
                      </a:lnTo>
                      <a:lnTo>
                        <a:pt x="239" y="16"/>
                      </a:lnTo>
                      <a:lnTo>
                        <a:pt x="242" y="0"/>
                      </a:lnTo>
                      <a:lnTo>
                        <a:pt x="248" y="16"/>
                      </a:lnTo>
                      <a:lnTo>
                        <a:pt x="254" y="160"/>
                      </a:lnTo>
                      <a:lnTo>
                        <a:pt x="260" y="394"/>
                      </a:lnTo>
                      <a:lnTo>
                        <a:pt x="270" y="633"/>
                      </a:lnTo>
                      <a:lnTo>
                        <a:pt x="272" y="697"/>
                      </a:lnTo>
                      <a:lnTo>
                        <a:pt x="276" y="750"/>
                      </a:lnTo>
                      <a:lnTo>
                        <a:pt x="279" y="781"/>
                      </a:lnTo>
                      <a:lnTo>
                        <a:pt x="290" y="820"/>
                      </a:lnTo>
                      <a:lnTo>
                        <a:pt x="297" y="826"/>
                      </a:lnTo>
                      <a:lnTo>
                        <a:pt x="311" y="829"/>
                      </a:lnTo>
                      <a:lnTo>
                        <a:pt x="320" y="830"/>
                      </a:lnTo>
                      <a:lnTo>
                        <a:pt x="482" y="831"/>
                      </a:lnTo>
                    </a:path>
                  </a:pathLst>
                </a:custGeom>
                <a:noFill/>
                <a:ln w="28440">
                  <a:solidFill>
                    <a:srgbClr val="1111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6" name=""/>
            <p:cNvSpPr/>
            <p:nvPr/>
          </p:nvSpPr>
          <p:spPr>
            <a:xfrm>
              <a:off x="1125720" y="3963960"/>
              <a:ext cx="674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300320" y="1960200"/>
              <a:ext cx="0" cy="21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524720" y="380376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1109520" y="1612800"/>
              <a:ext cx="50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56B8-2AEA-4B42-8124-EA8B9D4285BD}" type="slidenum">
              <a:t>103</a:t>
            </a:fld>
          </a:p>
        </p:txBody>
      </p:sp>
    </p:spTree>
  </p:cSld>
  <p:transition>
    <p:fade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jemplo es cuando se desea investigar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puesta neuroeléctr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oído a través de los denomina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otenciales evoc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996-AECE-4592-92A4-9C04A3208209}" type="slidenum">
              <a:t>104</a:t>
            </a:fld>
          </a:p>
        </p:txBody>
      </p:sp>
    </p:spTree>
  </p:cSld>
  <p:transition>
    <p:fade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754200" y="55656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da pulso da origen a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puest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éctric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voc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este tip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2" name="" descr=""/>
          <p:cNvPicPr/>
          <p:nvPr/>
        </p:nvPicPr>
        <p:blipFill>
          <a:blip r:embed="rId2"/>
          <a:stretch/>
        </p:blipFill>
        <p:spPr>
          <a:xfrm>
            <a:off x="1666800" y="2700360"/>
            <a:ext cx="5810400" cy="340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F5F-96B3-4A24-BB62-2913075F517E}" type="slidenum">
              <a:t>105</a:t>
            </a:fld>
          </a:p>
        </p:txBody>
      </p:sp>
    </p:spTree>
  </p:cSld>
  <p:transition>
    <p:fad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n embargo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eléctr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cerebro, de los electrodos, y de los múscu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amina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ada respuesta, resultando todas difer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FA5-2BE9-4561-8C9B-3A89759BBCDF}" type="slidenum">
              <a:t>106</a:t>
            </a:fld>
          </a:p>
        </p:txBody>
      </p:sp>
    </p:spTree>
  </p:cSld>
  <p:transition>
    <p:fade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4" name=""/>
          <p:cNvGrpSpPr/>
          <p:nvPr/>
        </p:nvGrpSpPr>
        <p:grpSpPr>
          <a:xfrm>
            <a:off x="343080" y="541440"/>
            <a:ext cx="8458200" cy="5781600"/>
            <a:chOff x="343080" y="541440"/>
            <a:chExt cx="8458200" cy="5781600"/>
          </a:xfrm>
        </p:grpSpPr>
        <p:pic>
          <p:nvPicPr>
            <p:cNvPr id="3075" name="" descr=""/>
            <p:cNvPicPr/>
            <p:nvPr/>
          </p:nvPicPr>
          <p:blipFill>
            <a:blip r:embed="rId2"/>
            <a:stretch/>
          </p:blipFill>
          <p:spPr>
            <a:xfrm>
              <a:off x="343080" y="541440"/>
              <a:ext cx="8458200" cy="578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6" name=""/>
            <p:cNvSpPr/>
            <p:nvPr/>
          </p:nvSpPr>
          <p:spPr>
            <a:xfrm>
              <a:off x="4659480" y="2452680"/>
              <a:ext cx="4019400" cy="219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365-F755-48CF-A4BD-75D1CD5D145E}" type="slidenum">
              <a:t>107</a:t>
            </a:fld>
          </a:p>
        </p:txBody>
      </p:sp>
    </p:spTree>
  </p:cSld>
  <p:transition>
    <p:fade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754200" y="216612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media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s respuestas se obtiene algo que se parece mucho más a la respuesta no contamina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5C4-CF1B-48FC-91E5-677DD68ADF5D}" type="slidenum">
              <a:t>108</a:t>
            </a:fld>
          </a:p>
        </p:txBody>
      </p:sp>
    </p:spTree>
  </p:cSld>
  <p:transition>
    <p:fade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8" name="" descr=""/>
          <p:cNvPicPr/>
          <p:nvPr/>
        </p:nvPicPr>
        <p:blipFill>
          <a:blip r:embed="rId2"/>
          <a:stretch/>
        </p:blipFill>
        <p:spPr>
          <a:xfrm>
            <a:off x="343080" y="541440"/>
            <a:ext cx="8458200" cy="57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546-85D6-4F74-B887-5F3D6AF7EBF8}" type="slidenum">
              <a:t>109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54200" y="142200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unque no el único, uno de los más versátiles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ominio eléctr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onde es posibl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fic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iltra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edi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generación de señ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tc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313-7F32-4CC6-9CB4-3347833AF903}" type="slidenum">
              <a:t>11</a:t>
            </a:fld>
          </a:p>
        </p:txBody>
      </p:sp>
    </p:spTree>
  </p:cSld>
  <p:transition>
    <p:fade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Señales moduladas en ampl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EC4-ACD2-4366-B79B-67C149B2E162}" type="slidenum">
              <a:t>110</a:t>
            </a:fld>
          </a:p>
        </p:txBody>
      </p:sp>
    </p:spTree>
  </p:cSld>
  <p:transition>
    <p:fade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754200" y="155700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uladas en 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on muy útiles para estudi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es diferenci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cias apenas perceptib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intens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2F8-ABFA-41FD-82ED-FED7417FE277}" type="slidenum">
              <a:t>111</a:t>
            </a:fld>
          </a:p>
        </p:txBody>
      </p:sp>
    </p:spTree>
  </p:cSld>
  <p:transition>
    <p:fade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"/>
          <p:cNvSpPr/>
          <p:nvPr/>
        </p:nvSpPr>
        <p:spPr>
          <a:xfrm>
            <a:off x="5921280" y="2193840"/>
            <a:ext cx="0" cy="3780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5151600" y="253476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2922480" y="1735200"/>
                <a:ext cx="3299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 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1287360" y="4356000"/>
                <a:ext cx="6570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2" name=""/>
          <p:cNvSpPr/>
          <p:nvPr/>
        </p:nvSpPr>
        <p:spPr>
          <a:xfrm>
            <a:off x="1363680" y="3475800"/>
            <a:ext cx="64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Modulación con una seno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2306520" y="776880"/>
            <a:ext cx="45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Definición genér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6985080" y="52477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5969160" y="4903920"/>
            <a:ext cx="0" cy="357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5202360" y="52477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mod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 flipH="1">
            <a:off x="4457520" y="4897440"/>
            <a:ext cx="39996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3616200" y="524772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Índice de mod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7362720" y="4897440"/>
            <a:ext cx="40032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8AF2-FAD5-43F5-B6F4-B6FEF1997FF4}" type="slidenum">
              <a:t>112</a:t>
            </a:fld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3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1015920" y="389880"/>
            <a:ext cx="711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Mediante igualdades trigonométricas se puede descomponer as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184640" y="4826160"/>
            <a:ext cx="0" cy="357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125880" y="51843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 lateral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187200" y="3462480"/>
                <a:ext cx="8740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6" name=""/>
          <p:cNvSpPr/>
          <p:nvPr/>
        </p:nvSpPr>
        <p:spPr>
          <a:xfrm flipV="1">
            <a:off x="3052800" y="3111480"/>
            <a:ext cx="0" cy="357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2284560" y="268992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7608960" y="4826160"/>
            <a:ext cx="0" cy="357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6638760" y="5169960"/>
            <a:ext cx="19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 lateral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6CD-32C9-4186-AE54-E322918E84CF}" type="slidenum">
              <a:t>113</a:t>
            </a:fld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"/>
          <p:cNvSpPr/>
          <p:nvPr/>
        </p:nvSpPr>
        <p:spPr>
          <a:xfrm flipV="1">
            <a:off x="1784520" y="1174680"/>
            <a:ext cx="1440" cy="180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575720" y="2041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357200" y="1498680"/>
            <a:ext cx="3272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flipH="1">
            <a:off x="1709640" y="2644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 flipH="1">
            <a:off x="1709640" y="2151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 flipH="1">
            <a:off x="1709640" y="16556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1785960" y="1413000"/>
            <a:ext cx="5838840" cy="1476360"/>
          </a:xfrm>
          <a:custGeom>
            <a:avLst/>
            <a:gdLst/>
            <a:ahLst/>
            <a:rect l="l" t="t" r="r" b="b"/>
            <a:pathLst>
              <a:path w="6380" h="1614">
                <a:moveTo>
                  <a:pt x="0" y="808"/>
                </a:moveTo>
                <a:lnTo>
                  <a:pt x="3" y="777"/>
                </a:lnTo>
                <a:lnTo>
                  <a:pt x="6" y="745"/>
                </a:lnTo>
                <a:lnTo>
                  <a:pt x="9" y="714"/>
                </a:lnTo>
                <a:lnTo>
                  <a:pt x="11" y="684"/>
                </a:lnTo>
                <a:lnTo>
                  <a:pt x="15" y="653"/>
                </a:lnTo>
                <a:lnTo>
                  <a:pt x="18" y="623"/>
                </a:lnTo>
                <a:lnTo>
                  <a:pt x="20" y="593"/>
                </a:lnTo>
                <a:lnTo>
                  <a:pt x="24" y="564"/>
                </a:lnTo>
                <a:lnTo>
                  <a:pt x="26" y="536"/>
                </a:lnTo>
                <a:lnTo>
                  <a:pt x="29" y="507"/>
                </a:lnTo>
                <a:lnTo>
                  <a:pt x="32" y="480"/>
                </a:lnTo>
                <a:lnTo>
                  <a:pt x="35" y="455"/>
                </a:lnTo>
                <a:lnTo>
                  <a:pt x="38" y="429"/>
                </a:lnTo>
                <a:lnTo>
                  <a:pt x="40" y="406"/>
                </a:lnTo>
                <a:lnTo>
                  <a:pt x="44" y="382"/>
                </a:lnTo>
                <a:lnTo>
                  <a:pt x="47" y="361"/>
                </a:lnTo>
                <a:lnTo>
                  <a:pt x="49" y="340"/>
                </a:lnTo>
                <a:lnTo>
                  <a:pt x="53" y="322"/>
                </a:lnTo>
                <a:lnTo>
                  <a:pt x="55" y="304"/>
                </a:lnTo>
                <a:lnTo>
                  <a:pt x="58" y="289"/>
                </a:lnTo>
                <a:lnTo>
                  <a:pt x="61" y="274"/>
                </a:lnTo>
                <a:lnTo>
                  <a:pt x="64" y="262"/>
                </a:lnTo>
                <a:lnTo>
                  <a:pt x="67" y="251"/>
                </a:lnTo>
                <a:lnTo>
                  <a:pt x="69" y="242"/>
                </a:lnTo>
                <a:lnTo>
                  <a:pt x="73" y="235"/>
                </a:lnTo>
                <a:lnTo>
                  <a:pt x="76" y="230"/>
                </a:lnTo>
                <a:lnTo>
                  <a:pt x="78" y="226"/>
                </a:lnTo>
                <a:lnTo>
                  <a:pt x="82" y="224"/>
                </a:lnTo>
                <a:lnTo>
                  <a:pt x="84" y="224"/>
                </a:lnTo>
                <a:lnTo>
                  <a:pt x="87" y="226"/>
                </a:lnTo>
                <a:lnTo>
                  <a:pt x="90" y="231"/>
                </a:lnTo>
                <a:lnTo>
                  <a:pt x="93" y="236"/>
                </a:lnTo>
                <a:lnTo>
                  <a:pt x="96" y="244"/>
                </a:lnTo>
                <a:lnTo>
                  <a:pt x="98" y="254"/>
                </a:lnTo>
                <a:lnTo>
                  <a:pt x="102" y="266"/>
                </a:lnTo>
                <a:lnTo>
                  <a:pt x="104" y="280"/>
                </a:lnTo>
                <a:lnTo>
                  <a:pt x="107" y="294"/>
                </a:lnTo>
                <a:lnTo>
                  <a:pt x="111" y="312"/>
                </a:lnTo>
                <a:lnTo>
                  <a:pt x="113" y="330"/>
                </a:lnTo>
                <a:lnTo>
                  <a:pt x="116" y="351"/>
                </a:lnTo>
                <a:lnTo>
                  <a:pt x="118" y="372"/>
                </a:lnTo>
                <a:lnTo>
                  <a:pt x="122" y="397"/>
                </a:lnTo>
                <a:lnTo>
                  <a:pt x="125" y="421"/>
                </a:lnTo>
                <a:lnTo>
                  <a:pt x="127" y="448"/>
                </a:lnTo>
                <a:lnTo>
                  <a:pt x="131" y="475"/>
                </a:lnTo>
                <a:lnTo>
                  <a:pt x="133" y="504"/>
                </a:lnTo>
                <a:lnTo>
                  <a:pt x="136" y="534"/>
                </a:lnTo>
                <a:lnTo>
                  <a:pt x="140" y="565"/>
                </a:lnTo>
                <a:lnTo>
                  <a:pt x="142" y="597"/>
                </a:lnTo>
                <a:lnTo>
                  <a:pt x="145" y="630"/>
                </a:lnTo>
                <a:lnTo>
                  <a:pt x="147" y="663"/>
                </a:lnTo>
                <a:lnTo>
                  <a:pt x="151" y="697"/>
                </a:lnTo>
                <a:lnTo>
                  <a:pt x="154" y="732"/>
                </a:lnTo>
                <a:lnTo>
                  <a:pt x="156" y="768"/>
                </a:lnTo>
                <a:lnTo>
                  <a:pt x="160" y="803"/>
                </a:lnTo>
                <a:lnTo>
                  <a:pt x="162" y="839"/>
                </a:lnTo>
                <a:lnTo>
                  <a:pt x="165" y="875"/>
                </a:lnTo>
                <a:lnTo>
                  <a:pt x="169" y="910"/>
                </a:lnTo>
                <a:lnTo>
                  <a:pt x="171" y="945"/>
                </a:lnTo>
                <a:lnTo>
                  <a:pt x="174" y="980"/>
                </a:lnTo>
                <a:lnTo>
                  <a:pt x="176" y="1015"/>
                </a:lnTo>
                <a:lnTo>
                  <a:pt x="180" y="1050"/>
                </a:lnTo>
                <a:lnTo>
                  <a:pt x="183" y="1083"/>
                </a:lnTo>
                <a:lnTo>
                  <a:pt x="185" y="1116"/>
                </a:lnTo>
                <a:lnTo>
                  <a:pt x="189" y="1148"/>
                </a:lnTo>
                <a:lnTo>
                  <a:pt x="191" y="1179"/>
                </a:lnTo>
                <a:lnTo>
                  <a:pt x="194" y="1209"/>
                </a:lnTo>
                <a:lnTo>
                  <a:pt x="196" y="1238"/>
                </a:lnTo>
                <a:lnTo>
                  <a:pt x="200" y="1266"/>
                </a:lnTo>
                <a:lnTo>
                  <a:pt x="203" y="1291"/>
                </a:lnTo>
                <a:lnTo>
                  <a:pt x="205" y="1316"/>
                </a:lnTo>
                <a:lnTo>
                  <a:pt x="209" y="1339"/>
                </a:lnTo>
                <a:lnTo>
                  <a:pt x="211" y="1360"/>
                </a:lnTo>
                <a:lnTo>
                  <a:pt x="214" y="1380"/>
                </a:lnTo>
                <a:lnTo>
                  <a:pt x="218" y="1398"/>
                </a:lnTo>
                <a:lnTo>
                  <a:pt x="220" y="1415"/>
                </a:lnTo>
                <a:lnTo>
                  <a:pt x="223" y="1428"/>
                </a:lnTo>
                <a:lnTo>
                  <a:pt x="225" y="1441"/>
                </a:lnTo>
                <a:lnTo>
                  <a:pt x="229" y="1451"/>
                </a:lnTo>
                <a:lnTo>
                  <a:pt x="232" y="1460"/>
                </a:lnTo>
                <a:lnTo>
                  <a:pt x="234" y="1465"/>
                </a:lnTo>
                <a:lnTo>
                  <a:pt x="238" y="1470"/>
                </a:lnTo>
                <a:lnTo>
                  <a:pt x="240" y="1471"/>
                </a:lnTo>
                <a:lnTo>
                  <a:pt x="243" y="1471"/>
                </a:lnTo>
                <a:lnTo>
                  <a:pt x="247" y="1468"/>
                </a:lnTo>
                <a:lnTo>
                  <a:pt x="249" y="1463"/>
                </a:lnTo>
                <a:lnTo>
                  <a:pt x="252" y="1456"/>
                </a:lnTo>
                <a:lnTo>
                  <a:pt x="254" y="1447"/>
                </a:lnTo>
                <a:lnTo>
                  <a:pt x="258" y="1436"/>
                </a:lnTo>
                <a:lnTo>
                  <a:pt x="261" y="1423"/>
                </a:lnTo>
                <a:lnTo>
                  <a:pt x="263" y="1407"/>
                </a:lnTo>
                <a:lnTo>
                  <a:pt x="267" y="1390"/>
                </a:lnTo>
                <a:lnTo>
                  <a:pt x="269" y="1370"/>
                </a:lnTo>
                <a:lnTo>
                  <a:pt x="272" y="1349"/>
                </a:lnTo>
                <a:lnTo>
                  <a:pt x="276" y="1327"/>
                </a:lnTo>
                <a:lnTo>
                  <a:pt x="278" y="1301"/>
                </a:lnTo>
                <a:lnTo>
                  <a:pt x="281" y="1276"/>
                </a:lnTo>
                <a:lnTo>
                  <a:pt x="283" y="1247"/>
                </a:lnTo>
                <a:lnTo>
                  <a:pt x="287" y="1217"/>
                </a:lnTo>
                <a:lnTo>
                  <a:pt x="289" y="1185"/>
                </a:lnTo>
                <a:lnTo>
                  <a:pt x="292" y="1153"/>
                </a:lnTo>
                <a:lnTo>
                  <a:pt x="296" y="1120"/>
                </a:lnTo>
                <a:lnTo>
                  <a:pt x="298" y="1084"/>
                </a:lnTo>
                <a:lnTo>
                  <a:pt x="301" y="1048"/>
                </a:lnTo>
                <a:lnTo>
                  <a:pt x="304" y="1012"/>
                </a:lnTo>
                <a:lnTo>
                  <a:pt x="307" y="974"/>
                </a:lnTo>
                <a:lnTo>
                  <a:pt x="310" y="936"/>
                </a:lnTo>
                <a:lnTo>
                  <a:pt x="312" y="897"/>
                </a:lnTo>
                <a:lnTo>
                  <a:pt x="316" y="857"/>
                </a:lnTo>
                <a:lnTo>
                  <a:pt x="318" y="818"/>
                </a:lnTo>
                <a:lnTo>
                  <a:pt x="321" y="778"/>
                </a:lnTo>
                <a:lnTo>
                  <a:pt x="325" y="738"/>
                </a:lnTo>
                <a:lnTo>
                  <a:pt x="327" y="697"/>
                </a:lnTo>
                <a:lnTo>
                  <a:pt x="330" y="658"/>
                </a:lnTo>
                <a:lnTo>
                  <a:pt x="333" y="618"/>
                </a:lnTo>
                <a:lnTo>
                  <a:pt x="336" y="580"/>
                </a:lnTo>
                <a:lnTo>
                  <a:pt x="339" y="541"/>
                </a:lnTo>
                <a:lnTo>
                  <a:pt x="341" y="505"/>
                </a:lnTo>
                <a:lnTo>
                  <a:pt x="345" y="468"/>
                </a:lnTo>
                <a:lnTo>
                  <a:pt x="347" y="432"/>
                </a:lnTo>
                <a:lnTo>
                  <a:pt x="350" y="398"/>
                </a:lnTo>
                <a:lnTo>
                  <a:pt x="354" y="364"/>
                </a:lnTo>
                <a:lnTo>
                  <a:pt x="356" y="332"/>
                </a:lnTo>
                <a:lnTo>
                  <a:pt x="359" y="302"/>
                </a:lnTo>
                <a:lnTo>
                  <a:pt x="362" y="273"/>
                </a:lnTo>
                <a:lnTo>
                  <a:pt x="365" y="246"/>
                </a:lnTo>
                <a:lnTo>
                  <a:pt x="368" y="221"/>
                </a:lnTo>
                <a:lnTo>
                  <a:pt x="370" y="196"/>
                </a:lnTo>
                <a:lnTo>
                  <a:pt x="374" y="175"/>
                </a:lnTo>
                <a:lnTo>
                  <a:pt x="376" y="155"/>
                </a:lnTo>
                <a:lnTo>
                  <a:pt x="379" y="137"/>
                </a:lnTo>
                <a:lnTo>
                  <a:pt x="382" y="121"/>
                </a:lnTo>
                <a:lnTo>
                  <a:pt x="385" y="108"/>
                </a:lnTo>
                <a:lnTo>
                  <a:pt x="388" y="97"/>
                </a:lnTo>
                <a:lnTo>
                  <a:pt x="391" y="88"/>
                </a:lnTo>
                <a:lnTo>
                  <a:pt x="394" y="81"/>
                </a:lnTo>
                <a:lnTo>
                  <a:pt x="396" y="78"/>
                </a:lnTo>
                <a:lnTo>
                  <a:pt x="399" y="76"/>
                </a:lnTo>
                <a:lnTo>
                  <a:pt x="403" y="76"/>
                </a:lnTo>
                <a:lnTo>
                  <a:pt x="405" y="79"/>
                </a:lnTo>
                <a:lnTo>
                  <a:pt x="408" y="85"/>
                </a:lnTo>
                <a:lnTo>
                  <a:pt x="411" y="93"/>
                </a:lnTo>
                <a:lnTo>
                  <a:pt x="414" y="103"/>
                </a:lnTo>
                <a:lnTo>
                  <a:pt x="417" y="115"/>
                </a:lnTo>
                <a:lnTo>
                  <a:pt x="420" y="129"/>
                </a:lnTo>
                <a:lnTo>
                  <a:pt x="423" y="146"/>
                </a:lnTo>
                <a:lnTo>
                  <a:pt x="425" y="165"/>
                </a:lnTo>
                <a:lnTo>
                  <a:pt x="428" y="187"/>
                </a:lnTo>
                <a:lnTo>
                  <a:pt x="432" y="211"/>
                </a:lnTo>
                <a:lnTo>
                  <a:pt x="434" y="235"/>
                </a:lnTo>
                <a:lnTo>
                  <a:pt x="437" y="263"/>
                </a:lnTo>
                <a:lnTo>
                  <a:pt x="440" y="292"/>
                </a:lnTo>
                <a:lnTo>
                  <a:pt x="443" y="323"/>
                </a:lnTo>
                <a:lnTo>
                  <a:pt x="446" y="355"/>
                </a:lnTo>
                <a:lnTo>
                  <a:pt x="449" y="390"/>
                </a:lnTo>
                <a:lnTo>
                  <a:pt x="452" y="426"/>
                </a:lnTo>
                <a:lnTo>
                  <a:pt x="454" y="462"/>
                </a:lnTo>
                <a:lnTo>
                  <a:pt x="458" y="500"/>
                </a:lnTo>
                <a:lnTo>
                  <a:pt x="460" y="539"/>
                </a:lnTo>
                <a:lnTo>
                  <a:pt x="463" y="580"/>
                </a:lnTo>
                <a:lnTo>
                  <a:pt x="466" y="621"/>
                </a:lnTo>
                <a:lnTo>
                  <a:pt x="469" y="663"/>
                </a:lnTo>
                <a:lnTo>
                  <a:pt x="472" y="705"/>
                </a:lnTo>
                <a:lnTo>
                  <a:pt x="474" y="748"/>
                </a:lnTo>
                <a:lnTo>
                  <a:pt x="478" y="791"/>
                </a:lnTo>
                <a:lnTo>
                  <a:pt x="481" y="835"/>
                </a:lnTo>
                <a:lnTo>
                  <a:pt x="483" y="878"/>
                </a:lnTo>
                <a:lnTo>
                  <a:pt x="487" y="921"/>
                </a:lnTo>
                <a:lnTo>
                  <a:pt x="489" y="964"/>
                </a:lnTo>
                <a:lnTo>
                  <a:pt x="492" y="1006"/>
                </a:lnTo>
                <a:lnTo>
                  <a:pt x="495" y="1048"/>
                </a:lnTo>
                <a:lnTo>
                  <a:pt x="498" y="1090"/>
                </a:lnTo>
                <a:lnTo>
                  <a:pt x="501" y="1130"/>
                </a:lnTo>
                <a:lnTo>
                  <a:pt x="503" y="1169"/>
                </a:lnTo>
                <a:lnTo>
                  <a:pt x="507" y="1208"/>
                </a:lnTo>
                <a:lnTo>
                  <a:pt x="510" y="1244"/>
                </a:lnTo>
                <a:lnTo>
                  <a:pt x="512" y="1280"/>
                </a:lnTo>
                <a:lnTo>
                  <a:pt x="516" y="1315"/>
                </a:lnTo>
                <a:lnTo>
                  <a:pt x="518" y="1348"/>
                </a:lnTo>
                <a:lnTo>
                  <a:pt x="521" y="1378"/>
                </a:lnTo>
                <a:lnTo>
                  <a:pt x="524" y="1408"/>
                </a:lnTo>
                <a:lnTo>
                  <a:pt x="527" y="1435"/>
                </a:lnTo>
                <a:lnTo>
                  <a:pt x="530" y="1461"/>
                </a:lnTo>
                <a:lnTo>
                  <a:pt x="532" y="1484"/>
                </a:lnTo>
                <a:lnTo>
                  <a:pt x="536" y="1505"/>
                </a:lnTo>
                <a:lnTo>
                  <a:pt x="539" y="1524"/>
                </a:lnTo>
                <a:lnTo>
                  <a:pt x="541" y="1541"/>
                </a:lnTo>
                <a:lnTo>
                  <a:pt x="545" y="1554"/>
                </a:lnTo>
                <a:lnTo>
                  <a:pt x="547" y="1566"/>
                </a:lnTo>
                <a:lnTo>
                  <a:pt x="550" y="1575"/>
                </a:lnTo>
                <a:lnTo>
                  <a:pt x="552" y="1582"/>
                </a:lnTo>
                <a:lnTo>
                  <a:pt x="556" y="1587"/>
                </a:lnTo>
                <a:lnTo>
                  <a:pt x="559" y="1589"/>
                </a:lnTo>
                <a:lnTo>
                  <a:pt x="561" y="1588"/>
                </a:lnTo>
                <a:lnTo>
                  <a:pt x="565" y="1584"/>
                </a:lnTo>
                <a:lnTo>
                  <a:pt x="567" y="1579"/>
                </a:lnTo>
                <a:lnTo>
                  <a:pt x="570" y="1571"/>
                </a:lnTo>
                <a:lnTo>
                  <a:pt x="574" y="1560"/>
                </a:lnTo>
                <a:lnTo>
                  <a:pt x="576" y="1546"/>
                </a:lnTo>
                <a:lnTo>
                  <a:pt x="579" y="1531"/>
                </a:lnTo>
                <a:lnTo>
                  <a:pt x="581" y="1513"/>
                </a:lnTo>
                <a:lnTo>
                  <a:pt x="585" y="1492"/>
                </a:lnTo>
                <a:lnTo>
                  <a:pt x="588" y="1470"/>
                </a:lnTo>
                <a:lnTo>
                  <a:pt x="590" y="1444"/>
                </a:lnTo>
                <a:lnTo>
                  <a:pt x="594" y="1417"/>
                </a:lnTo>
                <a:lnTo>
                  <a:pt x="596" y="1388"/>
                </a:lnTo>
                <a:lnTo>
                  <a:pt x="599" y="1357"/>
                </a:lnTo>
                <a:lnTo>
                  <a:pt x="603" y="1325"/>
                </a:lnTo>
                <a:lnTo>
                  <a:pt x="605" y="1290"/>
                </a:lnTo>
                <a:lnTo>
                  <a:pt x="608" y="1253"/>
                </a:lnTo>
                <a:lnTo>
                  <a:pt x="610" y="1216"/>
                </a:lnTo>
                <a:lnTo>
                  <a:pt x="614" y="1177"/>
                </a:lnTo>
                <a:lnTo>
                  <a:pt x="617" y="1136"/>
                </a:lnTo>
                <a:lnTo>
                  <a:pt x="619" y="1095"/>
                </a:lnTo>
                <a:lnTo>
                  <a:pt x="623" y="1053"/>
                </a:lnTo>
                <a:lnTo>
                  <a:pt x="625" y="1009"/>
                </a:lnTo>
                <a:lnTo>
                  <a:pt x="628" y="965"/>
                </a:lnTo>
                <a:lnTo>
                  <a:pt x="632" y="920"/>
                </a:lnTo>
                <a:lnTo>
                  <a:pt x="634" y="876"/>
                </a:lnTo>
                <a:lnTo>
                  <a:pt x="637" y="830"/>
                </a:lnTo>
                <a:lnTo>
                  <a:pt x="639" y="784"/>
                </a:lnTo>
                <a:lnTo>
                  <a:pt x="643" y="740"/>
                </a:lnTo>
                <a:lnTo>
                  <a:pt x="645" y="694"/>
                </a:lnTo>
                <a:lnTo>
                  <a:pt x="648" y="650"/>
                </a:lnTo>
                <a:lnTo>
                  <a:pt x="652" y="605"/>
                </a:lnTo>
                <a:lnTo>
                  <a:pt x="654" y="560"/>
                </a:lnTo>
                <a:lnTo>
                  <a:pt x="657" y="518"/>
                </a:lnTo>
                <a:lnTo>
                  <a:pt x="659" y="476"/>
                </a:lnTo>
                <a:lnTo>
                  <a:pt x="663" y="435"/>
                </a:lnTo>
                <a:lnTo>
                  <a:pt x="666" y="394"/>
                </a:lnTo>
                <a:lnTo>
                  <a:pt x="668" y="355"/>
                </a:lnTo>
                <a:lnTo>
                  <a:pt x="672" y="319"/>
                </a:lnTo>
                <a:lnTo>
                  <a:pt x="674" y="283"/>
                </a:lnTo>
                <a:lnTo>
                  <a:pt x="677" y="248"/>
                </a:lnTo>
                <a:lnTo>
                  <a:pt x="681" y="216"/>
                </a:lnTo>
                <a:lnTo>
                  <a:pt x="683" y="186"/>
                </a:lnTo>
                <a:lnTo>
                  <a:pt x="686" y="158"/>
                </a:lnTo>
                <a:lnTo>
                  <a:pt x="688" y="131"/>
                </a:lnTo>
                <a:lnTo>
                  <a:pt x="692" y="107"/>
                </a:lnTo>
                <a:lnTo>
                  <a:pt x="695" y="86"/>
                </a:lnTo>
                <a:lnTo>
                  <a:pt x="697" y="66"/>
                </a:lnTo>
                <a:lnTo>
                  <a:pt x="701" y="49"/>
                </a:lnTo>
                <a:lnTo>
                  <a:pt x="703" y="35"/>
                </a:lnTo>
                <a:lnTo>
                  <a:pt x="706" y="22"/>
                </a:lnTo>
                <a:lnTo>
                  <a:pt x="710" y="13"/>
                </a:lnTo>
                <a:lnTo>
                  <a:pt x="712" y="6"/>
                </a:lnTo>
                <a:lnTo>
                  <a:pt x="715" y="2"/>
                </a:lnTo>
                <a:lnTo>
                  <a:pt x="717" y="0"/>
                </a:lnTo>
                <a:lnTo>
                  <a:pt x="721" y="1"/>
                </a:lnTo>
                <a:lnTo>
                  <a:pt x="724" y="4"/>
                </a:lnTo>
                <a:lnTo>
                  <a:pt x="726" y="10"/>
                </a:lnTo>
                <a:lnTo>
                  <a:pt x="730" y="19"/>
                </a:lnTo>
                <a:lnTo>
                  <a:pt x="732" y="31"/>
                </a:lnTo>
                <a:lnTo>
                  <a:pt x="735" y="45"/>
                </a:lnTo>
                <a:lnTo>
                  <a:pt x="738" y="61"/>
                </a:lnTo>
                <a:lnTo>
                  <a:pt x="741" y="80"/>
                </a:lnTo>
                <a:lnTo>
                  <a:pt x="744" y="101"/>
                </a:lnTo>
                <a:lnTo>
                  <a:pt x="746" y="125"/>
                </a:lnTo>
                <a:lnTo>
                  <a:pt x="750" y="150"/>
                </a:lnTo>
                <a:lnTo>
                  <a:pt x="752" y="178"/>
                </a:lnTo>
                <a:lnTo>
                  <a:pt x="755" y="208"/>
                </a:lnTo>
                <a:lnTo>
                  <a:pt x="759" y="240"/>
                </a:lnTo>
                <a:lnTo>
                  <a:pt x="761" y="274"/>
                </a:lnTo>
                <a:lnTo>
                  <a:pt x="764" y="309"/>
                </a:lnTo>
                <a:lnTo>
                  <a:pt x="767" y="347"/>
                </a:lnTo>
                <a:lnTo>
                  <a:pt x="770" y="384"/>
                </a:lnTo>
                <a:lnTo>
                  <a:pt x="773" y="425"/>
                </a:lnTo>
                <a:lnTo>
                  <a:pt x="775" y="466"/>
                </a:lnTo>
                <a:lnTo>
                  <a:pt x="779" y="508"/>
                </a:lnTo>
                <a:lnTo>
                  <a:pt x="781" y="552"/>
                </a:lnTo>
                <a:lnTo>
                  <a:pt x="784" y="596"/>
                </a:lnTo>
                <a:lnTo>
                  <a:pt x="788" y="641"/>
                </a:lnTo>
                <a:lnTo>
                  <a:pt x="790" y="686"/>
                </a:lnTo>
                <a:lnTo>
                  <a:pt x="793" y="732"/>
                </a:lnTo>
                <a:lnTo>
                  <a:pt x="796" y="779"/>
                </a:lnTo>
                <a:lnTo>
                  <a:pt x="799" y="824"/>
                </a:lnTo>
                <a:lnTo>
                  <a:pt x="802" y="871"/>
                </a:lnTo>
                <a:lnTo>
                  <a:pt x="804" y="917"/>
                </a:lnTo>
                <a:lnTo>
                  <a:pt x="808" y="963"/>
                </a:lnTo>
                <a:lnTo>
                  <a:pt x="810" y="1007"/>
                </a:lnTo>
                <a:lnTo>
                  <a:pt x="813" y="1052"/>
                </a:lnTo>
                <a:lnTo>
                  <a:pt x="817" y="1095"/>
                </a:lnTo>
                <a:lnTo>
                  <a:pt x="819" y="1139"/>
                </a:lnTo>
                <a:lnTo>
                  <a:pt x="822" y="1180"/>
                </a:lnTo>
                <a:lnTo>
                  <a:pt x="825" y="1220"/>
                </a:lnTo>
                <a:lnTo>
                  <a:pt x="828" y="1259"/>
                </a:lnTo>
                <a:lnTo>
                  <a:pt x="830" y="1297"/>
                </a:lnTo>
                <a:lnTo>
                  <a:pt x="833" y="1333"/>
                </a:lnTo>
                <a:lnTo>
                  <a:pt x="837" y="1367"/>
                </a:lnTo>
                <a:lnTo>
                  <a:pt x="839" y="1399"/>
                </a:lnTo>
                <a:lnTo>
                  <a:pt x="842" y="1429"/>
                </a:lnTo>
                <a:lnTo>
                  <a:pt x="845" y="1458"/>
                </a:lnTo>
                <a:lnTo>
                  <a:pt x="848" y="1484"/>
                </a:lnTo>
                <a:lnTo>
                  <a:pt x="851" y="1509"/>
                </a:lnTo>
                <a:lnTo>
                  <a:pt x="854" y="1530"/>
                </a:lnTo>
                <a:lnTo>
                  <a:pt x="857" y="1550"/>
                </a:lnTo>
                <a:lnTo>
                  <a:pt x="859" y="1566"/>
                </a:lnTo>
                <a:lnTo>
                  <a:pt x="862" y="1581"/>
                </a:lnTo>
                <a:lnTo>
                  <a:pt x="866" y="1593"/>
                </a:lnTo>
                <a:lnTo>
                  <a:pt x="868" y="1602"/>
                </a:lnTo>
                <a:lnTo>
                  <a:pt x="871" y="1609"/>
                </a:lnTo>
                <a:lnTo>
                  <a:pt x="874" y="1613"/>
                </a:lnTo>
                <a:lnTo>
                  <a:pt x="877" y="1614"/>
                </a:lnTo>
                <a:lnTo>
                  <a:pt x="880" y="1613"/>
                </a:lnTo>
                <a:lnTo>
                  <a:pt x="883" y="1610"/>
                </a:lnTo>
                <a:lnTo>
                  <a:pt x="886" y="1604"/>
                </a:lnTo>
                <a:lnTo>
                  <a:pt x="888" y="1595"/>
                </a:lnTo>
                <a:lnTo>
                  <a:pt x="891" y="1583"/>
                </a:lnTo>
                <a:lnTo>
                  <a:pt x="895" y="1570"/>
                </a:lnTo>
                <a:lnTo>
                  <a:pt x="897" y="1553"/>
                </a:lnTo>
                <a:lnTo>
                  <a:pt x="900" y="1534"/>
                </a:lnTo>
                <a:lnTo>
                  <a:pt x="903" y="1513"/>
                </a:lnTo>
                <a:lnTo>
                  <a:pt x="906" y="1490"/>
                </a:lnTo>
                <a:lnTo>
                  <a:pt x="908" y="1464"/>
                </a:lnTo>
                <a:lnTo>
                  <a:pt x="912" y="1436"/>
                </a:lnTo>
                <a:lnTo>
                  <a:pt x="915" y="1406"/>
                </a:lnTo>
                <a:lnTo>
                  <a:pt x="917" y="1375"/>
                </a:lnTo>
                <a:lnTo>
                  <a:pt x="920" y="1340"/>
                </a:lnTo>
                <a:lnTo>
                  <a:pt x="923" y="1306"/>
                </a:lnTo>
                <a:lnTo>
                  <a:pt x="926" y="1269"/>
                </a:lnTo>
                <a:lnTo>
                  <a:pt x="929" y="1230"/>
                </a:lnTo>
                <a:lnTo>
                  <a:pt x="932" y="1191"/>
                </a:lnTo>
                <a:lnTo>
                  <a:pt x="935" y="1150"/>
                </a:lnTo>
                <a:lnTo>
                  <a:pt x="937" y="1107"/>
                </a:lnTo>
                <a:lnTo>
                  <a:pt x="941" y="1065"/>
                </a:lnTo>
                <a:lnTo>
                  <a:pt x="944" y="1022"/>
                </a:lnTo>
                <a:lnTo>
                  <a:pt x="946" y="977"/>
                </a:lnTo>
                <a:lnTo>
                  <a:pt x="949" y="933"/>
                </a:lnTo>
                <a:lnTo>
                  <a:pt x="952" y="887"/>
                </a:lnTo>
                <a:lnTo>
                  <a:pt x="955" y="841"/>
                </a:lnTo>
                <a:lnTo>
                  <a:pt x="958" y="796"/>
                </a:lnTo>
                <a:lnTo>
                  <a:pt x="961" y="751"/>
                </a:lnTo>
                <a:lnTo>
                  <a:pt x="964" y="705"/>
                </a:lnTo>
                <a:lnTo>
                  <a:pt x="966" y="661"/>
                </a:lnTo>
                <a:lnTo>
                  <a:pt x="970" y="616"/>
                </a:lnTo>
                <a:lnTo>
                  <a:pt x="973" y="573"/>
                </a:lnTo>
                <a:lnTo>
                  <a:pt x="975" y="530"/>
                </a:lnTo>
                <a:lnTo>
                  <a:pt x="978" y="489"/>
                </a:lnTo>
                <a:lnTo>
                  <a:pt x="981" y="448"/>
                </a:lnTo>
                <a:lnTo>
                  <a:pt x="984" y="409"/>
                </a:lnTo>
                <a:lnTo>
                  <a:pt x="987" y="371"/>
                </a:lnTo>
                <a:lnTo>
                  <a:pt x="990" y="334"/>
                </a:lnTo>
                <a:lnTo>
                  <a:pt x="993" y="299"/>
                </a:lnTo>
                <a:lnTo>
                  <a:pt x="995" y="265"/>
                </a:lnTo>
                <a:lnTo>
                  <a:pt x="999" y="234"/>
                </a:lnTo>
                <a:lnTo>
                  <a:pt x="1001" y="205"/>
                </a:lnTo>
                <a:lnTo>
                  <a:pt x="1004" y="177"/>
                </a:lnTo>
                <a:lnTo>
                  <a:pt x="1007" y="152"/>
                </a:lnTo>
                <a:lnTo>
                  <a:pt x="1010" y="128"/>
                </a:lnTo>
                <a:lnTo>
                  <a:pt x="1013" y="107"/>
                </a:lnTo>
                <a:lnTo>
                  <a:pt x="1015" y="88"/>
                </a:lnTo>
                <a:lnTo>
                  <a:pt x="1019" y="72"/>
                </a:lnTo>
                <a:lnTo>
                  <a:pt x="1022" y="58"/>
                </a:lnTo>
                <a:lnTo>
                  <a:pt x="1024" y="47"/>
                </a:lnTo>
                <a:lnTo>
                  <a:pt x="1028" y="38"/>
                </a:lnTo>
                <a:lnTo>
                  <a:pt x="1030" y="31"/>
                </a:lnTo>
                <a:lnTo>
                  <a:pt x="1033" y="28"/>
                </a:lnTo>
                <a:lnTo>
                  <a:pt x="1036" y="26"/>
                </a:lnTo>
                <a:lnTo>
                  <a:pt x="1039" y="27"/>
                </a:lnTo>
                <a:lnTo>
                  <a:pt x="1042" y="31"/>
                </a:lnTo>
                <a:lnTo>
                  <a:pt x="1044" y="37"/>
                </a:lnTo>
                <a:lnTo>
                  <a:pt x="1048" y="46"/>
                </a:lnTo>
                <a:lnTo>
                  <a:pt x="1051" y="57"/>
                </a:lnTo>
                <a:lnTo>
                  <a:pt x="1053" y="70"/>
                </a:lnTo>
                <a:lnTo>
                  <a:pt x="1057" y="87"/>
                </a:lnTo>
                <a:lnTo>
                  <a:pt x="1059" y="105"/>
                </a:lnTo>
                <a:lnTo>
                  <a:pt x="1062" y="126"/>
                </a:lnTo>
                <a:lnTo>
                  <a:pt x="1065" y="148"/>
                </a:lnTo>
                <a:lnTo>
                  <a:pt x="1068" y="173"/>
                </a:lnTo>
                <a:lnTo>
                  <a:pt x="1071" y="199"/>
                </a:lnTo>
                <a:lnTo>
                  <a:pt x="1073" y="228"/>
                </a:lnTo>
                <a:lnTo>
                  <a:pt x="1077" y="260"/>
                </a:lnTo>
                <a:lnTo>
                  <a:pt x="1080" y="292"/>
                </a:lnTo>
                <a:lnTo>
                  <a:pt x="1082" y="325"/>
                </a:lnTo>
                <a:lnTo>
                  <a:pt x="1086" y="361"/>
                </a:lnTo>
                <a:lnTo>
                  <a:pt x="1088" y="398"/>
                </a:lnTo>
                <a:lnTo>
                  <a:pt x="1091" y="436"/>
                </a:lnTo>
                <a:lnTo>
                  <a:pt x="1093" y="475"/>
                </a:lnTo>
                <a:lnTo>
                  <a:pt x="1097" y="515"/>
                </a:lnTo>
                <a:lnTo>
                  <a:pt x="1100" y="556"/>
                </a:lnTo>
                <a:lnTo>
                  <a:pt x="1102" y="598"/>
                </a:lnTo>
                <a:lnTo>
                  <a:pt x="1106" y="641"/>
                </a:lnTo>
                <a:lnTo>
                  <a:pt x="1108" y="683"/>
                </a:lnTo>
                <a:lnTo>
                  <a:pt x="1111" y="726"/>
                </a:lnTo>
                <a:lnTo>
                  <a:pt x="1115" y="770"/>
                </a:lnTo>
                <a:lnTo>
                  <a:pt x="1117" y="813"/>
                </a:lnTo>
                <a:lnTo>
                  <a:pt x="1120" y="856"/>
                </a:lnTo>
                <a:lnTo>
                  <a:pt x="1122" y="899"/>
                </a:lnTo>
                <a:lnTo>
                  <a:pt x="1126" y="941"/>
                </a:lnTo>
                <a:lnTo>
                  <a:pt x="1129" y="984"/>
                </a:lnTo>
                <a:lnTo>
                  <a:pt x="1131" y="1025"/>
                </a:lnTo>
                <a:lnTo>
                  <a:pt x="1135" y="1065"/>
                </a:lnTo>
                <a:lnTo>
                  <a:pt x="1137" y="1104"/>
                </a:lnTo>
                <a:lnTo>
                  <a:pt x="1140" y="1143"/>
                </a:lnTo>
                <a:lnTo>
                  <a:pt x="1144" y="1180"/>
                </a:lnTo>
                <a:lnTo>
                  <a:pt x="1146" y="1217"/>
                </a:lnTo>
                <a:lnTo>
                  <a:pt x="1149" y="1251"/>
                </a:lnTo>
                <a:lnTo>
                  <a:pt x="1151" y="1283"/>
                </a:lnTo>
                <a:lnTo>
                  <a:pt x="1155" y="1316"/>
                </a:lnTo>
                <a:lnTo>
                  <a:pt x="1158" y="1345"/>
                </a:lnTo>
                <a:lnTo>
                  <a:pt x="1160" y="1373"/>
                </a:lnTo>
                <a:lnTo>
                  <a:pt x="1164" y="1398"/>
                </a:lnTo>
                <a:lnTo>
                  <a:pt x="1166" y="1423"/>
                </a:lnTo>
                <a:lnTo>
                  <a:pt x="1169" y="1444"/>
                </a:lnTo>
                <a:lnTo>
                  <a:pt x="1173" y="1464"/>
                </a:lnTo>
                <a:lnTo>
                  <a:pt x="1175" y="1482"/>
                </a:lnTo>
                <a:lnTo>
                  <a:pt x="1178" y="1496"/>
                </a:lnTo>
                <a:lnTo>
                  <a:pt x="1180" y="1510"/>
                </a:lnTo>
                <a:lnTo>
                  <a:pt x="1184" y="1521"/>
                </a:lnTo>
                <a:lnTo>
                  <a:pt x="1186" y="1529"/>
                </a:lnTo>
                <a:lnTo>
                  <a:pt x="1189" y="1534"/>
                </a:lnTo>
                <a:lnTo>
                  <a:pt x="1193" y="1539"/>
                </a:lnTo>
                <a:lnTo>
                  <a:pt x="1195" y="1540"/>
                </a:lnTo>
                <a:lnTo>
                  <a:pt x="1198" y="1538"/>
                </a:lnTo>
                <a:lnTo>
                  <a:pt x="1200" y="1534"/>
                </a:lnTo>
                <a:lnTo>
                  <a:pt x="1204" y="1529"/>
                </a:lnTo>
                <a:lnTo>
                  <a:pt x="1207" y="1520"/>
                </a:lnTo>
                <a:lnTo>
                  <a:pt x="1209" y="1510"/>
                </a:lnTo>
                <a:lnTo>
                  <a:pt x="1213" y="1496"/>
                </a:lnTo>
                <a:lnTo>
                  <a:pt x="1215" y="1482"/>
                </a:lnTo>
                <a:lnTo>
                  <a:pt x="1218" y="1464"/>
                </a:lnTo>
                <a:lnTo>
                  <a:pt x="1222" y="1445"/>
                </a:lnTo>
                <a:lnTo>
                  <a:pt x="1224" y="1424"/>
                </a:lnTo>
                <a:lnTo>
                  <a:pt x="1227" y="1400"/>
                </a:lnTo>
                <a:lnTo>
                  <a:pt x="1229" y="1376"/>
                </a:lnTo>
                <a:lnTo>
                  <a:pt x="1233" y="1349"/>
                </a:lnTo>
                <a:lnTo>
                  <a:pt x="1236" y="1320"/>
                </a:lnTo>
                <a:lnTo>
                  <a:pt x="1238" y="1290"/>
                </a:lnTo>
                <a:lnTo>
                  <a:pt x="1242" y="1259"/>
                </a:lnTo>
                <a:lnTo>
                  <a:pt x="1244" y="1226"/>
                </a:lnTo>
                <a:lnTo>
                  <a:pt x="1247" y="1191"/>
                </a:lnTo>
                <a:lnTo>
                  <a:pt x="1251" y="1156"/>
                </a:lnTo>
                <a:lnTo>
                  <a:pt x="1253" y="1120"/>
                </a:lnTo>
                <a:lnTo>
                  <a:pt x="1256" y="1083"/>
                </a:lnTo>
                <a:lnTo>
                  <a:pt x="1258" y="1044"/>
                </a:lnTo>
                <a:lnTo>
                  <a:pt x="1262" y="1006"/>
                </a:lnTo>
                <a:lnTo>
                  <a:pt x="1265" y="967"/>
                </a:lnTo>
                <a:lnTo>
                  <a:pt x="1267" y="927"/>
                </a:lnTo>
                <a:lnTo>
                  <a:pt x="1271" y="887"/>
                </a:lnTo>
                <a:lnTo>
                  <a:pt x="1273" y="848"/>
                </a:lnTo>
                <a:lnTo>
                  <a:pt x="1276" y="808"/>
                </a:lnTo>
                <a:lnTo>
                  <a:pt x="1279" y="768"/>
                </a:lnTo>
                <a:lnTo>
                  <a:pt x="1282" y="729"/>
                </a:lnTo>
                <a:lnTo>
                  <a:pt x="1285" y="689"/>
                </a:lnTo>
                <a:lnTo>
                  <a:pt x="1287" y="651"/>
                </a:lnTo>
                <a:lnTo>
                  <a:pt x="1291" y="613"/>
                </a:lnTo>
                <a:lnTo>
                  <a:pt x="1293" y="575"/>
                </a:lnTo>
                <a:lnTo>
                  <a:pt x="1296" y="539"/>
                </a:lnTo>
                <a:lnTo>
                  <a:pt x="1300" y="504"/>
                </a:lnTo>
                <a:lnTo>
                  <a:pt x="1302" y="470"/>
                </a:lnTo>
                <a:lnTo>
                  <a:pt x="1305" y="437"/>
                </a:lnTo>
                <a:lnTo>
                  <a:pt x="1308" y="406"/>
                </a:lnTo>
                <a:lnTo>
                  <a:pt x="1311" y="375"/>
                </a:lnTo>
                <a:lnTo>
                  <a:pt x="1314" y="347"/>
                </a:lnTo>
                <a:lnTo>
                  <a:pt x="1316" y="320"/>
                </a:lnTo>
                <a:lnTo>
                  <a:pt x="1320" y="294"/>
                </a:lnTo>
                <a:lnTo>
                  <a:pt x="1322" y="271"/>
                </a:lnTo>
                <a:lnTo>
                  <a:pt x="1325" y="248"/>
                </a:lnTo>
                <a:lnTo>
                  <a:pt x="1329" y="230"/>
                </a:lnTo>
                <a:lnTo>
                  <a:pt x="1331" y="212"/>
                </a:lnTo>
                <a:lnTo>
                  <a:pt x="1334" y="195"/>
                </a:lnTo>
                <a:lnTo>
                  <a:pt x="1337" y="182"/>
                </a:lnTo>
                <a:lnTo>
                  <a:pt x="1340" y="170"/>
                </a:lnTo>
                <a:lnTo>
                  <a:pt x="1343" y="160"/>
                </a:lnTo>
                <a:lnTo>
                  <a:pt x="1345" y="153"/>
                </a:lnTo>
                <a:lnTo>
                  <a:pt x="1349" y="148"/>
                </a:lnTo>
                <a:lnTo>
                  <a:pt x="1351" y="145"/>
                </a:lnTo>
                <a:lnTo>
                  <a:pt x="1354" y="144"/>
                </a:lnTo>
                <a:lnTo>
                  <a:pt x="1357" y="145"/>
                </a:lnTo>
                <a:lnTo>
                  <a:pt x="1360" y="148"/>
                </a:lnTo>
                <a:lnTo>
                  <a:pt x="1363" y="154"/>
                </a:lnTo>
                <a:lnTo>
                  <a:pt x="1366" y="162"/>
                </a:lnTo>
                <a:lnTo>
                  <a:pt x="1369" y="172"/>
                </a:lnTo>
                <a:lnTo>
                  <a:pt x="1371" y="183"/>
                </a:lnTo>
                <a:lnTo>
                  <a:pt x="1374" y="196"/>
                </a:lnTo>
                <a:lnTo>
                  <a:pt x="1378" y="213"/>
                </a:lnTo>
                <a:lnTo>
                  <a:pt x="1380" y="230"/>
                </a:lnTo>
                <a:lnTo>
                  <a:pt x="1383" y="250"/>
                </a:lnTo>
                <a:lnTo>
                  <a:pt x="1386" y="270"/>
                </a:lnTo>
                <a:lnTo>
                  <a:pt x="1389" y="293"/>
                </a:lnTo>
                <a:lnTo>
                  <a:pt x="1392" y="318"/>
                </a:lnTo>
                <a:lnTo>
                  <a:pt x="1395" y="343"/>
                </a:lnTo>
                <a:lnTo>
                  <a:pt x="1398" y="370"/>
                </a:lnTo>
                <a:lnTo>
                  <a:pt x="1400" y="399"/>
                </a:lnTo>
                <a:lnTo>
                  <a:pt x="1403" y="428"/>
                </a:lnTo>
                <a:lnTo>
                  <a:pt x="1407" y="459"/>
                </a:lnTo>
                <a:lnTo>
                  <a:pt x="1409" y="490"/>
                </a:lnTo>
                <a:lnTo>
                  <a:pt x="1412" y="524"/>
                </a:lnTo>
                <a:lnTo>
                  <a:pt x="1415" y="557"/>
                </a:lnTo>
                <a:lnTo>
                  <a:pt x="1418" y="591"/>
                </a:lnTo>
                <a:lnTo>
                  <a:pt x="1421" y="625"/>
                </a:lnTo>
                <a:lnTo>
                  <a:pt x="1424" y="661"/>
                </a:lnTo>
                <a:lnTo>
                  <a:pt x="1427" y="696"/>
                </a:lnTo>
                <a:lnTo>
                  <a:pt x="1429" y="732"/>
                </a:lnTo>
                <a:lnTo>
                  <a:pt x="1432" y="768"/>
                </a:lnTo>
                <a:lnTo>
                  <a:pt x="1436" y="803"/>
                </a:lnTo>
                <a:lnTo>
                  <a:pt x="1438" y="839"/>
                </a:lnTo>
                <a:lnTo>
                  <a:pt x="1441" y="873"/>
                </a:lnTo>
                <a:lnTo>
                  <a:pt x="1444" y="908"/>
                </a:lnTo>
                <a:lnTo>
                  <a:pt x="1447" y="943"/>
                </a:lnTo>
                <a:lnTo>
                  <a:pt x="1449" y="977"/>
                </a:lnTo>
                <a:lnTo>
                  <a:pt x="1453" y="1009"/>
                </a:lnTo>
                <a:lnTo>
                  <a:pt x="1456" y="1042"/>
                </a:lnTo>
                <a:lnTo>
                  <a:pt x="1458" y="1073"/>
                </a:lnTo>
                <a:lnTo>
                  <a:pt x="1462" y="1103"/>
                </a:lnTo>
                <a:lnTo>
                  <a:pt x="1464" y="1133"/>
                </a:lnTo>
                <a:lnTo>
                  <a:pt x="1467" y="1161"/>
                </a:lnTo>
                <a:lnTo>
                  <a:pt x="1470" y="1188"/>
                </a:lnTo>
                <a:lnTo>
                  <a:pt x="1473" y="1212"/>
                </a:lnTo>
                <a:lnTo>
                  <a:pt x="1476" y="1237"/>
                </a:lnTo>
                <a:lnTo>
                  <a:pt x="1478" y="1259"/>
                </a:lnTo>
                <a:lnTo>
                  <a:pt x="1482" y="1279"/>
                </a:lnTo>
                <a:lnTo>
                  <a:pt x="1485" y="1299"/>
                </a:lnTo>
                <a:lnTo>
                  <a:pt x="1487" y="1316"/>
                </a:lnTo>
                <a:lnTo>
                  <a:pt x="1491" y="1331"/>
                </a:lnTo>
                <a:lnTo>
                  <a:pt x="1493" y="1346"/>
                </a:lnTo>
                <a:lnTo>
                  <a:pt x="1496" y="1358"/>
                </a:lnTo>
                <a:lnTo>
                  <a:pt x="1499" y="1368"/>
                </a:lnTo>
                <a:lnTo>
                  <a:pt x="1502" y="1376"/>
                </a:lnTo>
                <a:lnTo>
                  <a:pt x="1505" y="1383"/>
                </a:lnTo>
                <a:lnTo>
                  <a:pt x="1507" y="1387"/>
                </a:lnTo>
                <a:lnTo>
                  <a:pt x="1511" y="1390"/>
                </a:lnTo>
                <a:lnTo>
                  <a:pt x="1514" y="1390"/>
                </a:lnTo>
                <a:lnTo>
                  <a:pt x="1516" y="1389"/>
                </a:lnTo>
                <a:lnTo>
                  <a:pt x="1520" y="1387"/>
                </a:lnTo>
                <a:lnTo>
                  <a:pt x="1522" y="1382"/>
                </a:lnTo>
                <a:lnTo>
                  <a:pt x="1525" y="1375"/>
                </a:lnTo>
                <a:lnTo>
                  <a:pt x="1528" y="1366"/>
                </a:lnTo>
                <a:lnTo>
                  <a:pt x="1531" y="1356"/>
                </a:lnTo>
                <a:lnTo>
                  <a:pt x="1534" y="1344"/>
                </a:lnTo>
                <a:lnTo>
                  <a:pt x="1536" y="1330"/>
                </a:lnTo>
                <a:lnTo>
                  <a:pt x="1540" y="1315"/>
                </a:lnTo>
                <a:lnTo>
                  <a:pt x="1542" y="1298"/>
                </a:lnTo>
                <a:lnTo>
                  <a:pt x="1545" y="1279"/>
                </a:lnTo>
                <a:lnTo>
                  <a:pt x="1549" y="1259"/>
                </a:lnTo>
                <a:lnTo>
                  <a:pt x="1551" y="1238"/>
                </a:lnTo>
                <a:lnTo>
                  <a:pt x="1554" y="1216"/>
                </a:lnTo>
                <a:lnTo>
                  <a:pt x="1556" y="1192"/>
                </a:lnTo>
                <a:lnTo>
                  <a:pt x="1560" y="1167"/>
                </a:lnTo>
                <a:lnTo>
                  <a:pt x="1563" y="1141"/>
                </a:lnTo>
                <a:lnTo>
                  <a:pt x="1565" y="1114"/>
                </a:lnTo>
                <a:lnTo>
                  <a:pt x="1569" y="1086"/>
                </a:lnTo>
                <a:lnTo>
                  <a:pt x="1571" y="1058"/>
                </a:lnTo>
                <a:lnTo>
                  <a:pt x="1574" y="1029"/>
                </a:lnTo>
                <a:lnTo>
                  <a:pt x="1578" y="999"/>
                </a:lnTo>
                <a:lnTo>
                  <a:pt x="1580" y="969"/>
                </a:lnTo>
                <a:lnTo>
                  <a:pt x="1583" y="938"/>
                </a:lnTo>
                <a:lnTo>
                  <a:pt x="1585" y="908"/>
                </a:lnTo>
                <a:lnTo>
                  <a:pt x="1589" y="877"/>
                </a:lnTo>
                <a:lnTo>
                  <a:pt x="1592" y="846"/>
                </a:lnTo>
                <a:lnTo>
                  <a:pt x="1594" y="816"/>
                </a:lnTo>
                <a:lnTo>
                  <a:pt x="1598" y="784"/>
                </a:lnTo>
                <a:lnTo>
                  <a:pt x="1600" y="754"/>
                </a:lnTo>
                <a:lnTo>
                  <a:pt x="1603" y="724"/>
                </a:lnTo>
                <a:lnTo>
                  <a:pt x="1607" y="694"/>
                </a:lnTo>
                <a:lnTo>
                  <a:pt x="1609" y="665"/>
                </a:lnTo>
                <a:lnTo>
                  <a:pt x="1612" y="636"/>
                </a:lnTo>
                <a:lnTo>
                  <a:pt x="1614" y="608"/>
                </a:lnTo>
                <a:lnTo>
                  <a:pt x="1618" y="582"/>
                </a:lnTo>
                <a:lnTo>
                  <a:pt x="1621" y="555"/>
                </a:lnTo>
                <a:lnTo>
                  <a:pt x="1623" y="530"/>
                </a:lnTo>
                <a:lnTo>
                  <a:pt x="1627" y="506"/>
                </a:lnTo>
                <a:lnTo>
                  <a:pt x="1629" y="484"/>
                </a:lnTo>
                <a:lnTo>
                  <a:pt x="1632" y="461"/>
                </a:lnTo>
                <a:lnTo>
                  <a:pt x="1634" y="441"/>
                </a:lnTo>
                <a:lnTo>
                  <a:pt x="1638" y="421"/>
                </a:lnTo>
                <a:lnTo>
                  <a:pt x="1641" y="403"/>
                </a:lnTo>
                <a:lnTo>
                  <a:pt x="1643" y="388"/>
                </a:lnTo>
                <a:lnTo>
                  <a:pt x="1647" y="372"/>
                </a:lnTo>
                <a:lnTo>
                  <a:pt x="1649" y="359"/>
                </a:lnTo>
                <a:lnTo>
                  <a:pt x="1652" y="347"/>
                </a:lnTo>
                <a:lnTo>
                  <a:pt x="1656" y="336"/>
                </a:lnTo>
                <a:lnTo>
                  <a:pt x="1658" y="328"/>
                </a:lnTo>
                <a:lnTo>
                  <a:pt x="1661" y="321"/>
                </a:lnTo>
                <a:lnTo>
                  <a:pt x="1663" y="315"/>
                </a:lnTo>
                <a:lnTo>
                  <a:pt x="1667" y="311"/>
                </a:lnTo>
                <a:lnTo>
                  <a:pt x="1670" y="309"/>
                </a:lnTo>
                <a:lnTo>
                  <a:pt x="1672" y="309"/>
                </a:lnTo>
                <a:lnTo>
                  <a:pt x="1676" y="310"/>
                </a:lnTo>
                <a:lnTo>
                  <a:pt x="1678" y="312"/>
                </a:lnTo>
                <a:lnTo>
                  <a:pt x="1681" y="316"/>
                </a:lnTo>
                <a:lnTo>
                  <a:pt x="1685" y="322"/>
                </a:lnTo>
                <a:lnTo>
                  <a:pt x="1687" y="330"/>
                </a:lnTo>
                <a:lnTo>
                  <a:pt x="1690" y="339"/>
                </a:lnTo>
                <a:lnTo>
                  <a:pt x="1692" y="349"/>
                </a:lnTo>
                <a:lnTo>
                  <a:pt x="1696" y="360"/>
                </a:lnTo>
                <a:lnTo>
                  <a:pt x="1699" y="373"/>
                </a:lnTo>
                <a:lnTo>
                  <a:pt x="1701" y="388"/>
                </a:lnTo>
                <a:lnTo>
                  <a:pt x="1705" y="403"/>
                </a:lnTo>
                <a:lnTo>
                  <a:pt x="1707" y="421"/>
                </a:lnTo>
                <a:lnTo>
                  <a:pt x="1710" y="439"/>
                </a:lnTo>
                <a:lnTo>
                  <a:pt x="1713" y="458"/>
                </a:lnTo>
                <a:lnTo>
                  <a:pt x="1716" y="478"/>
                </a:lnTo>
                <a:lnTo>
                  <a:pt x="1719" y="499"/>
                </a:lnTo>
                <a:lnTo>
                  <a:pt x="1721" y="521"/>
                </a:lnTo>
                <a:lnTo>
                  <a:pt x="1725" y="544"/>
                </a:lnTo>
                <a:lnTo>
                  <a:pt x="1727" y="567"/>
                </a:lnTo>
                <a:lnTo>
                  <a:pt x="1730" y="592"/>
                </a:lnTo>
                <a:lnTo>
                  <a:pt x="1734" y="616"/>
                </a:lnTo>
                <a:lnTo>
                  <a:pt x="1736" y="642"/>
                </a:lnTo>
                <a:lnTo>
                  <a:pt x="1739" y="667"/>
                </a:lnTo>
                <a:lnTo>
                  <a:pt x="1742" y="693"/>
                </a:lnTo>
                <a:lnTo>
                  <a:pt x="1745" y="719"/>
                </a:lnTo>
                <a:lnTo>
                  <a:pt x="1748" y="745"/>
                </a:lnTo>
                <a:lnTo>
                  <a:pt x="1750" y="771"/>
                </a:lnTo>
                <a:lnTo>
                  <a:pt x="1754" y="798"/>
                </a:lnTo>
                <a:lnTo>
                  <a:pt x="1756" y="823"/>
                </a:lnTo>
                <a:lnTo>
                  <a:pt x="1759" y="849"/>
                </a:lnTo>
                <a:lnTo>
                  <a:pt x="1763" y="875"/>
                </a:lnTo>
                <a:lnTo>
                  <a:pt x="1765" y="900"/>
                </a:lnTo>
                <a:lnTo>
                  <a:pt x="1768" y="925"/>
                </a:lnTo>
                <a:lnTo>
                  <a:pt x="1771" y="949"/>
                </a:lnTo>
                <a:lnTo>
                  <a:pt x="1774" y="973"/>
                </a:lnTo>
                <a:lnTo>
                  <a:pt x="1777" y="995"/>
                </a:lnTo>
                <a:lnTo>
                  <a:pt x="1779" y="1017"/>
                </a:lnTo>
                <a:lnTo>
                  <a:pt x="1783" y="1038"/>
                </a:lnTo>
                <a:lnTo>
                  <a:pt x="1785" y="1058"/>
                </a:lnTo>
                <a:lnTo>
                  <a:pt x="1788" y="1078"/>
                </a:lnTo>
                <a:lnTo>
                  <a:pt x="1792" y="1096"/>
                </a:lnTo>
                <a:lnTo>
                  <a:pt x="1794" y="1114"/>
                </a:lnTo>
                <a:lnTo>
                  <a:pt x="1797" y="1130"/>
                </a:lnTo>
                <a:lnTo>
                  <a:pt x="1800" y="1145"/>
                </a:lnTo>
                <a:lnTo>
                  <a:pt x="1803" y="1159"/>
                </a:lnTo>
                <a:lnTo>
                  <a:pt x="1805" y="1172"/>
                </a:lnTo>
                <a:lnTo>
                  <a:pt x="1808" y="1183"/>
                </a:lnTo>
                <a:lnTo>
                  <a:pt x="1812" y="1193"/>
                </a:lnTo>
                <a:lnTo>
                  <a:pt x="1814" y="1202"/>
                </a:lnTo>
                <a:lnTo>
                  <a:pt x="1817" y="1209"/>
                </a:lnTo>
                <a:lnTo>
                  <a:pt x="1820" y="1216"/>
                </a:lnTo>
                <a:lnTo>
                  <a:pt x="1823" y="1220"/>
                </a:lnTo>
                <a:lnTo>
                  <a:pt x="1826" y="1223"/>
                </a:lnTo>
                <a:lnTo>
                  <a:pt x="1829" y="1226"/>
                </a:lnTo>
                <a:lnTo>
                  <a:pt x="1832" y="1226"/>
                </a:lnTo>
                <a:lnTo>
                  <a:pt x="1834" y="1226"/>
                </a:lnTo>
                <a:lnTo>
                  <a:pt x="1837" y="1223"/>
                </a:lnTo>
                <a:lnTo>
                  <a:pt x="1841" y="1220"/>
                </a:lnTo>
                <a:lnTo>
                  <a:pt x="1843" y="1214"/>
                </a:lnTo>
                <a:lnTo>
                  <a:pt x="1846" y="1209"/>
                </a:lnTo>
                <a:lnTo>
                  <a:pt x="1849" y="1201"/>
                </a:lnTo>
                <a:lnTo>
                  <a:pt x="1852" y="1193"/>
                </a:lnTo>
                <a:lnTo>
                  <a:pt x="1855" y="1183"/>
                </a:lnTo>
                <a:lnTo>
                  <a:pt x="1858" y="1172"/>
                </a:lnTo>
                <a:lnTo>
                  <a:pt x="1861" y="1160"/>
                </a:lnTo>
                <a:lnTo>
                  <a:pt x="1863" y="1146"/>
                </a:lnTo>
                <a:lnTo>
                  <a:pt x="1866" y="1133"/>
                </a:lnTo>
                <a:lnTo>
                  <a:pt x="1870" y="1117"/>
                </a:lnTo>
                <a:lnTo>
                  <a:pt x="1872" y="1102"/>
                </a:lnTo>
                <a:lnTo>
                  <a:pt x="1875" y="1085"/>
                </a:lnTo>
                <a:lnTo>
                  <a:pt x="1878" y="1067"/>
                </a:lnTo>
                <a:lnTo>
                  <a:pt x="1881" y="1048"/>
                </a:lnTo>
                <a:lnTo>
                  <a:pt x="1884" y="1029"/>
                </a:lnTo>
                <a:lnTo>
                  <a:pt x="1887" y="1011"/>
                </a:lnTo>
                <a:lnTo>
                  <a:pt x="1890" y="990"/>
                </a:lnTo>
                <a:lnTo>
                  <a:pt x="1892" y="969"/>
                </a:lnTo>
                <a:lnTo>
                  <a:pt x="1895" y="948"/>
                </a:lnTo>
                <a:lnTo>
                  <a:pt x="1898" y="927"/>
                </a:lnTo>
                <a:lnTo>
                  <a:pt x="1901" y="906"/>
                </a:lnTo>
                <a:lnTo>
                  <a:pt x="1904" y="884"/>
                </a:lnTo>
                <a:lnTo>
                  <a:pt x="1907" y="862"/>
                </a:lnTo>
                <a:lnTo>
                  <a:pt x="1910" y="840"/>
                </a:lnTo>
                <a:lnTo>
                  <a:pt x="1912" y="818"/>
                </a:lnTo>
                <a:lnTo>
                  <a:pt x="1916" y="797"/>
                </a:lnTo>
                <a:lnTo>
                  <a:pt x="1919" y="775"/>
                </a:lnTo>
                <a:lnTo>
                  <a:pt x="1921" y="753"/>
                </a:lnTo>
                <a:lnTo>
                  <a:pt x="1924" y="733"/>
                </a:lnTo>
                <a:lnTo>
                  <a:pt x="1927" y="712"/>
                </a:lnTo>
                <a:lnTo>
                  <a:pt x="1930" y="692"/>
                </a:lnTo>
                <a:lnTo>
                  <a:pt x="1933" y="672"/>
                </a:lnTo>
                <a:lnTo>
                  <a:pt x="1936" y="653"/>
                </a:lnTo>
                <a:lnTo>
                  <a:pt x="1939" y="635"/>
                </a:lnTo>
                <a:lnTo>
                  <a:pt x="1941" y="617"/>
                </a:lnTo>
                <a:lnTo>
                  <a:pt x="1945" y="599"/>
                </a:lnTo>
                <a:lnTo>
                  <a:pt x="1948" y="584"/>
                </a:lnTo>
                <a:lnTo>
                  <a:pt x="1950" y="568"/>
                </a:lnTo>
                <a:lnTo>
                  <a:pt x="1953" y="554"/>
                </a:lnTo>
                <a:lnTo>
                  <a:pt x="1956" y="539"/>
                </a:lnTo>
                <a:lnTo>
                  <a:pt x="1959" y="527"/>
                </a:lnTo>
                <a:lnTo>
                  <a:pt x="1962" y="515"/>
                </a:lnTo>
                <a:lnTo>
                  <a:pt x="1965" y="505"/>
                </a:lnTo>
                <a:lnTo>
                  <a:pt x="1968" y="495"/>
                </a:lnTo>
                <a:lnTo>
                  <a:pt x="1970" y="486"/>
                </a:lnTo>
                <a:lnTo>
                  <a:pt x="1974" y="479"/>
                </a:lnTo>
                <a:lnTo>
                  <a:pt x="1977" y="472"/>
                </a:lnTo>
                <a:lnTo>
                  <a:pt x="1979" y="467"/>
                </a:lnTo>
                <a:lnTo>
                  <a:pt x="1982" y="464"/>
                </a:lnTo>
                <a:lnTo>
                  <a:pt x="1985" y="460"/>
                </a:lnTo>
                <a:lnTo>
                  <a:pt x="1988" y="458"/>
                </a:lnTo>
                <a:lnTo>
                  <a:pt x="1990" y="458"/>
                </a:lnTo>
                <a:lnTo>
                  <a:pt x="1994" y="458"/>
                </a:lnTo>
                <a:lnTo>
                  <a:pt x="1997" y="459"/>
                </a:lnTo>
                <a:lnTo>
                  <a:pt x="1999" y="462"/>
                </a:lnTo>
                <a:lnTo>
                  <a:pt x="2003" y="466"/>
                </a:lnTo>
                <a:lnTo>
                  <a:pt x="2005" y="471"/>
                </a:lnTo>
                <a:lnTo>
                  <a:pt x="2008" y="477"/>
                </a:lnTo>
                <a:lnTo>
                  <a:pt x="2011" y="484"/>
                </a:lnTo>
                <a:lnTo>
                  <a:pt x="2014" y="491"/>
                </a:lnTo>
                <a:lnTo>
                  <a:pt x="2017" y="500"/>
                </a:lnTo>
                <a:lnTo>
                  <a:pt x="2019" y="510"/>
                </a:lnTo>
                <a:lnTo>
                  <a:pt x="2023" y="521"/>
                </a:lnTo>
                <a:lnTo>
                  <a:pt x="2026" y="533"/>
                </a:lnTo>
                <a:lnTo>
                  <a:pt x="2028" y="546"/>
                </a:lnTo>
                <a:lnTo>
                  <a:pt x="2032" y="559"/>
                </a:lnTo>
                <a:lnTo>
                  <a:pt x="2034" y="573"/>
                </a:lnTo>
                <a:lnTo>
                  <a:pt x="2037" y="587"/>
                </a:lnTo>
                <a:lnTo>
                  <a:pt x="2040" y="603"/>
                </a:lnTo>
                <a:lnTo>
                  <a:pt x="2043" y="618"/>
                </a:lnTo>
                <a:lnTo>
                  <a:pt x="2046" y="635"/>
                </a:lnTo>
                <a:lnTo>
                  <a:pt x="2048" y="652"/>
                </a:lnTo>
                <a:lnTo>
                  <a:pt x="2052" y="668"/>
                </a:lnTo>
                <a:lnTo>
                  <a:pt x="2055" y="686"/>
                </a:lnTo>
                <a:lnTo>
                  <a:pt x="2057" y="704"/>
                </a:lnTo>
                <a:lnTo>
                  <a:pt x="2061" y="722"/>
                </a:lnTo>
                <a:lnTo>
                  <a:pt x="2063" y="741"/>
                </a:lnTo>
                <a:lnTo>
                  <a:pt x="2066" y="759"/>
                </a:lnTo>
                <a:lnTo>
                  <a:pt x="2069" y="778"/>
                </a:lnTo>
                <a:lnTo>
                  <a:pt x="2072" y="796"/>
                </a:lnTo>
                <a:lnTo>
                  <a:pt x="2075" y="814"/>
                </a:lnTo>
                <a:lnTo>
                  <a:pt x="2077" y="832"/>
                </a:lnTo>
                <a:lnTo>
                  <a:pt x="2081" y="850"/>
                </a:lnTo>
                <a:lnTo>
                  <a:pt x="2083" y="868"/>
                </a:lnTo>
                <a:lnTo>
                  <a:pt x="2086" y="886"/>
                </a:lnTo>
                <a:lnTo>
                  <a:pt x="2090" y="904"/>
                </a:lnTo>
                <a:lnTo>
                  <a:pt x="2092" y="920"/>
                </a:lnTo>
                <a:lnTo>
                  <a:pt x="2095" y="936"/>
                </a:lnTo>
                <a:lnTo>
                  <a:pt x="2097" y="951"/>
                </a:lnTo>
                <a:lnTo>
                  <a:pt x="2101" y="967"/>
                </a:lnTo>
                <a:lnTo>
                  <a:pt x="2104" y="982"/>
                </a:lnTo>
                <a:lnTo>
                  <a:pt x="2106" y="996"/>
                </a:lnTo>
                <a:lnTo>
                  <a:pt x="2110" y="1009"/>
                </a:lnTo>
                <a:lnTo>
                  <a:pt x="2112" y="1022"/>
                </a:lnTo>
                <a:lnTo>
                  <a:pt x="2115" y="1034"/>
                </a:lnTo>
                <a:lnTo>
                  <a:pt x="2119" y="1045"/>
                </a:lnTo>
                <a:lnTo>
                  <a:pt x="2121" y="1055"/>
                </a:lnTo>
                <a:lnTo>
                  <a:pt x="2124" y="1064"/>
                </a:lnTo>
                <a:lnTo>
                  <a:pt x="2126" y="1073"/>
                </a:lnTo>
                <a:lnTo>
                  <a:pt x="2130" y="1081"/>
                </a:lnTo>
                <a:lnTo>
                  <a:pt x="2133" y="1087"/>
                </a:lnTo>
                <a:lnTo>
                  <a:pt x="2135" y="1093"/>
                </a:lnTo>
                <a:lnTo>
                  <a:pt x="2139" y="1097"/>
                </a:lnTo>
                <a:lnTo>
                  <a:pt x="2141" y="1102"/>
                </a:lnTo>
                <a:lnTo>
                  <a:pt x="2144" y="1104"/>
                </a:lnTo>
                <a:lnTo>
                  <a:pt x="2148" y="1106"/>
                </a:lnTo>
                <a:lnTo>
                  <a:pt x="2150" y="1107"/>
                </a:lnTo>
                <a:lnTo>
                  <a:pt x="2153" y="1107"/>
                </a:lnTo>
                <a:lnTo>
                  <a:pt x="2155" y="1106"/>
                </a:lnTo>
                <a:lnTo>
                  <a:pt x="2159" y="1104"/>
                </a:lnTo>
                <a:lnTo>
                  <a:pt x="2161" y="1102"/>
                </a:lnTo>
                <a:lnTo>
                  <a:pt x="2164" y="1097"/>
                </a:lnTo>
                <a:lnTo>
                  <a:pt x="2168" y="1093"/>
                </a:lnTo>
                <a:lnTo>
                  <a:pt x="2170" y="1087"/>
                </a:lnTo>
                <a:lnTo>
                  <a:pt x="2173" y="1081"/>
                </a:lnTo>
                <a:lnTo>
                  <a:pt x="2175" y="1073"/>
                </a:lnTo>
                <a:lnTo>
                  <a:pt x="2179" y="1065"/>
                </a:lnTo>
                <a:lnTo>
                  <a:pt x="2182" y="1056"/>
                </a:lnTo>
                <a:lnTo>
                  <a:pt x="2184" y="1046"/>
                </a:lnTo>
                <a:lnTo>
                  <a:pt x="2188" y="1036"/>
                </a:lnTo>
                <a:lnTo>
                  <a:pt x="2190" y="1025"/>
                </a:lnTo>
                <a:lnTo>
                  <a:pt x="2193" y="1013"/>
                </a:lnTo>
                <a:lnTo>
                  <a:pt x="2197" y="1001"/>
                </a:lnTo>
                <a:lnTo>
                  <a:pt x="2199" y="987"/>
                </a:lnTo>
                <a:lnTo>
                  <a:pt x="2202" y="974"/>
                </a:lnTo>
                <a:lnTo>
                  <a:pt x="2204" y="959"/>
                </a:lnTo>
                <a:lnTo>
                  <a:pt x="2208" y="945"/>
                </a:lnTo>
                <a:lnTo>
                  <a:pt x="2211" y="930"/>
                </a:lnTo>
                <a:lnTo>
                  <a:pt x="2213" y="915"/>
                </a:lnTo>
                <a:lnTo>
                  <a:pt x="2217" y="899"/>
                </a:lnTo>
                <a:lnTo>
                  <a:pt x="2219" y="884"/>
                </a:lnTo>
                <a:lnTo>
                  <a:pt x="2222" y="868"/>
                </a:lnTo>
                <a:lnTo>
                  <a:pt x="2226" y="852"/>
                </a:lnTo>
                <a:lnTo>
                  <a:pt x="2228" y="836"/>
                </a:lnTo>
                <a:lnTo>
                  <a:pt x="2231" y="820"/>
                </a:lnTo>
                <a:lnTo>
                  <a:pt x="2233" y="803"/>
                </a:lnTo>
                <a:lnTo>
                  <a:pt x="2237" y="788"/>
                </a:lnTo>
                <a:lnTo>
                  <a:pt x="2240" y="771"/>
                </a:lnTo>
                <a:lnTo>
                  <a:pt x="2242" y="755"/>
                </a:lnTo>
                <a:lnTo>
                  <a:pt x="2246" y="740"/>
                </a:lnTo>
                <a:lnTo>
                  <a:pt x="2248" y="724"/>
                </a:lnTo>
                <a:lnTo>
                  <a:pt x="2251" y="710"/>
                </a:lnTo>
                <a:lnTo>
                  <a:pt x="2254" y="695"/>
                </a:lnTo>
                <a:lnTo>
                  <a:pt x="2257" y="681"/>
                </a:lnTo>
                <a:lnTo>
                  <a:pt x="2260" y="667"/>
                </a:lnTo>
                <a:lnTo>
                  <a:pt x="2262" y="654"/>
                </a:lnTo>
                <a:lnTo>
                  <a:pt x="2266" y="641"/>
                </a:lnTo>
                <a:lnTo>
                  <a:pt x="2268" y="628"/>
                </a:lnTo>
                <a:lnTo>
                  <a:pt x="2271" y="617"/>
                </a:lnTo>
                <a:lnTo>
                  <a:pt x="2275" y="606"/>
                </a:lnTo>
                <a:lnTo>
                  <a:pt x="2277" y="596"/>
                </a:lnTo>
                <a:lnTo>
                  <a:pt x="2280" y="586"/>
                </a:lnTo>
                <a:lnTo>
                  <a:pt x="2283" y="577"/>
                </a:lnTo>
                <a:lnTo>
                  <a:pt x="2286" y="569"/>
                </a:lnTo>
                <a:lnTo>
                  <a:pt x="2289" y="562"/>
                </a:lnTo>
                <a:lnTo>
                  <a:pt x="2291" y="556"/>
                </a:lnTo>
                <a:lnTo>
                  <a:pt x="2295" y="549"/>
                </a:lnTo>
                <a:lnTo>
                  <a:pt x="2297" y="545"/>
                </a:lnTo>
                <a:lnTo>
                  <a:pt x="2300" y="541"/>
                </a:lnTo>
                <a:lnTo>
                  <a:pt x="2304" y="538"/>
                </a:lnTo>
                <a:lnTo>
                  <a:pt x="2306" y="536"/>
                </a:lnTo>
                <a:lnTo>
                  <a:pt x="2309" y="535"/>
                </a:lnTo>
                <a:lnTo>
                  <a:pt x="2312" y="534"/>
                </a:lnTo>
                <a:lnTo>
                  <a:pt x="2315" y="534"/>
                </a:lnTo>
                <a:lnTo>
                  <a:pt x="2318" y="536"/>
                </a:lnTo>
                <a:lnTo>
                  <a:pt x="2320" y="538"/>
                </a:lnTo>
                <a:lnTo>
                  <a:pt x="2324" y="540"/>
                </a:lnTo>
                <a:lnTo>
                  <a:pt x="2326" y="545"/>
                </a:lnTo>
                <a:lnTo>
                  <a:pt x="2329" y="549"/>
                </a:lnTo>
                <a:lnTo>
                  <a:pt x="2333" y="555"/>
                </a:lnTo>
                <a:lnTo>
                  <a:pt x="2335" y="562"/>
                </a:lnTo>
                <a:lnTo>
                  <a:pt x="2338" y="568"/>
                </a:lnTo>
                <a:lnTo>
                  <a:pt x="2341" y="576"/>
                </a:lnTo>
                <a:lnTo>
                  <a:pt x="2344" y="585"/>
                </a:lnTo>
                <a:lnTo>
                  <a:pt x="2346" y="594"/>
                </a:lnTo>
                <a:lnTo>
                  <a:pt x="2349" y="604"/>
                </a:lnTo>
                <a:lnTo>
                  <a:pt x="2353" y="615"/>
                </a:lnTo>
                <a:lnTo>
                  <a:pt x="2355" y="626"/>
                </a:lnTo>
                <a:lnTo>
                  <a:pt x="2358" y="637"/>
                </a:lnTo>
                <a:lnTo>
                  <a:pt x="2361" y="651"/>
                </a:lnTo>
                <a:lnTo>
                  <a:pt x="2364" y="663"/>
                </a:lnTo>
                <a:lnTo>
                  <a:pt x="2367" y="676"/>
                </a:lnTo>
                <a:lnTo>
                  <a:pt x="2370" y="690"/>
                </a:lnTo>
                <a:lnTo>
                  <a:pt x="2373" y="704"/>
                </a:lnTo>
                <a:lnTo>
                  <a:pt x="2375" y="719"/>
                </a:lnTo>
                <a:lnTo>
                  <a:pt x="2378" y="733"/>
                </a:lnTo>
                <a:lnTo>
                  <a:pt x="2382" y="749"/>
                </a:lnTo>
                <a:lnTo>
                  <a:pt x="2384" y="763"/>
                </a:lnTo>
                <a:lnTo>
                  <a:pt x="2387" y="779"/>
                </a:lnTo>
                <a:lnTo>
                  <a:pt x="2390" y="794"/>
                </a:lnTo>
                <a:lnTo>
                  <a:pt x="2393" y="809"/>
                </a:lnTo>
                <a:lnTo>
                  <a:pt x="2396" y="824"/>
                </a:lnTo>
                <a:lnTo>
                  <a:pt x="2399" y="840"/>
                </a:lnTo>
                <a:lnTo>
                  <a:pt x="2402" y="856"/>
                </a:lnTo>
                <a:lnTo>
                  <a:pt x="2404" y="870"/>
                </a:lnTo>
                <a:lnTo>
                  <a:pt x="2407" y="886"/>
                </a:lnTo>
                <a:lnTo>
                  <a:pt x="2411" y="900"/>
                </a:lnTo>
                <a:lnTo>
                  <a:pt x="2413" y="915"/>
                </a:lnTo>
                <a:lnTo>
                  <a:pt x="2416" y="928"/>
                </a:lnTo>
                <a:lnTo>
                  <a:pt x="2419" y="941"/>
                </a:lnTo>
                <a:lnTo>
                  <a:pt x="2422" y="955"/>
                </a:lnTo>
                <a:lnTo>
                  <a:pt x="2425" y="968"/>
                </a:lnTo>
                <a:lnTo>
                  <a:pt x="2428" y="980"/>
                </a:lnTo>
                <a:lnTo>
                  <a:pt x="2431" y="992"/>
                </a:lnTo>
                <a:lnTo>
                  <a:pt x="2433" y="1003"/>
                </a:lnTo>
                <a:lnTo>
                  <a:pt x="2436" y="1014"/>
                </a:lnTo>
                <a:lnTo>
                  <a:pt x="2439" y="1023"/>
                </a:lnTo>
                <a:lnTo>
                  <a:pt x="2442" y="1033"/>
                </a:lnTo>
                <a:lnTo>
                  <a:pt x="2445" y="1041"/>
                </a:lnTo>
                <a:lnTo>
                  <a:pt x="2448" y="1048"/>
                </a:lnTo>
                <a:lnTo>
                  <a:pt x="2451" y="1055"/>
                </a:lnTo>
                <a:lnTo>
                  <a:pt x="2453" y="1062"/>
                </a:lnTo>
                <a:lnTo>
                  <a:pt x="2457" y="1067"/>
                </a:lnTo>
                <a:lnTo>
                  <a:pt x="2460" y="1072"/>
                </a:lnTo>
                <a:lnTo>
                  <a:pt x="2462" y="1075"/>
                </a:lnTo>
                <a:lnTo>
                  <a:pt x="2466" y="1077"/>
                </a:lnTo>
                <a:lnTo>
                  <a:pt x="2468" y="1080"/>
                </a:lnTo>
                <a:lnTo>
                  <a:pt x="2471" y="1081"/>
                </a:lnTo>
                <a:lnTo>
                  <a:pt x="2474" y="1081"/>
                </a:lnTo>
                <a:lnTo>
                  <a:pt x="2477" y="1081"/>
                </a:lnTo>
                <a:lnTo>
                  <a:pt x="2480" y="1078"/>
                </a:lnTo>
                <a:lnTo>
                  <a:pt x="2482" y="1076"/>
                </a:lnTo>
                <a:lnTo>
                  <a:pt x="2486" y="1073"/>
                </a:lnTo>
                <a:lnTo>
                  <a:pt x="2489" y="1068"/>
                </a:lnTo>
                <a:lnTo>
                  <a:pt x="2491" y="1064"/>
                </a:lnTo>
                <a:lnTo>
                  <a:pt x="2495" y="1057"/>
                </a:lnTo>
                <a:lnTo>
                  <a:pt x="2497" y="1051"/>
                </a:lnTo>
                <a:lnTo>
                  <a:pt x="2500" y="1044"/>
                </a:lnTo>
                <a:lnTo>
                  <a:pt x="2503" y="1035"/>
                </a:lnTo>
                <a:lnTo>
                  <a:pt x="2506" y="1026"/>
                </a:lnTo>
                <a:lnTo>
                  <a:pt x="2509" y="1016"/>
                </a:lnTo>
                <a:lnTo>
                  <a:pt x="2511" y="1006"/>
                </a:lnTo>
                <a:lnTo>
                  <a:pt x="2515" y="995"/>
                </a:lnTo>
                <a:lnTo>
                  <a:pt x="2518" y="984"/>
                </a:lnTo>
                <a:lnTo>
                  <a:pt x="2520" y="970"/>
                </a:lnTo>
                <a:lnTo>
                  <a:pt x="2524" y="958"/>
                </a:lnTo>
                <a:lnTo>
                  <a:pt x="2526" y="945"/>
                </a:lnTo>
                <a:lnTo>
                  <a:pt x="2529" y="930"/>
                </a:lnTo>
                <a:lnTo>
                  <a:pt x="2531" y="916"/>
                </a:lnTo>
                <a:lnTo>
                  <a:pt x="2535" y="901"/>
                </a:lnTo>
                <a:lnTo>
                  <a:pt x="2538" y="887"/>
                </a:lnTo>
                <a:lnTo>
                  <a:pt x="2540" y="871"/>
                </a:lnTo>
                <a:lnTo>
                  <a:pt x="2544" y="856"/>
                </a:lnTo>
                <a:lnTo>
                  <a:pt x="2546" y="840"/>
                </a:lnTo>
                <a:lnTo>
                  <a:pt x="2549" y="823"/>
                </a:lnTo>
                <a:lnTo>
                  <a:pt x="2553" y="808"/>
                </a:lnTo>
                <a:lnTo>
                  <a:pt x="2555" y="791"/>
                </a:lnTo>
                <a:lnTo>
                  <a:pt x="2558" y="775"/>
                </a:lnTo>
                <a:lnTo>
                  <a:pt x="2560" y="759"/>
                </a:lnTo>
                <a:lnTo>
                  <a:pt x="2564" y="743"/>
                </a:lnTo>
                <a:lnTo>
                  <a:pt x="2567" y="728"/>
                </a:lnTo>
                <a:lnTo>
                  <a:pt x="2569" y="711"/>
                </a:lnTo>
                <a:lnTo>
                  <a:pt x="2573" y="696"/>
                </a:lnTo>
                <a:lnTo>
                  <a:pt x="2575" y="681"/>
                </a:lnTo>
                <a:lnTo>
                  <a:pt x="2578" y="666"/>
                </a:lnTo>
                <a:lnTo>
                  <a:pt x="2582" y="652"/>
                </a:lnTo>
                <a:lnTo>
                  <a:pt x="2584" y="637"/>
                </a:lnTo>
                <a:lnTo>
                  <a:pt x="2587" y="624"/>
                </a:lnTo>
                <a:lnTo>
                  <a:pt x="2589" y="612"/>
                </a:lnTo>
                <a:lnTo>
                  <a:pt x="2593" y="599"/>
                </a:lnTo>
                <a:lnTo>
                  <a:pt x="2596" y="587"/>
                </a:lnTo>
                <a:lnTo>
                  <a:pt x="2598" y="576"/>
                </a:lnTo>
                <a:lnTo>
                  <a:pt x="2602" y="566"/>
                </a:lnTo>
                <a:lnTo>
                  <a:pt x="2604" y="556"/>
                </a:lnTo>
                <a:lnTo>
                  <a:pt x="2607" y="548"/>
                </a:lnTo>
                <a:lnTo>
                  <a:pt x="2609" y="539"/>
                </a:lnTo>
                <a:lnTo>
                  <a:pt x="2613" y="533"/>
                </a:lnTo>
                <a:lnTo>
                  <a:pt x="2616" y="526"/>
                </a:lnTo>
                <a:lnTo>
                  <a:pt x="2618" y="520"/>
                </a:lnTo>
                <a:lnTo>
                  <a:pt x="2622" y="516"/>
                </a:lnTo>
                <a:lnTo>
                  <a:pt x="2624" y="513"/>
                </a:lnTo>
                <a:lnTo>
                  <a:pt x="2627" y="510"/>
                </a:lnTo>
                <a:lnTo>
                  <a:pt x="2631" y="508"/>
                </a:lnTo>
                <a:lnTo>
                  <a:pt x="2633" y="507"/>
                </a:lnTo>
                <a:lnTo>
                  <a:pt x="2636" y="508"/>
                </a:lnTo>
                <a:lnTo>
                  <a:pt x="2638" y="509"/>
                </a:lnTo>
                <a:lnTo>
                  <a:pt x="2642" y="511"/>
                </a:lnTo>
                <a:lnTo>
                  <a:pt x="2645" y="514"/>
                </a:lnTo>
                <a:lnTo>
                  <a:pt x="2647" y="518"/>
                </a:lnTo>
                <a:lnTo>
                  <a:pt x="2651" y="524"/>
                </a:lnTo>
                <a:lnTo>
                  <a:pt x="2653" y="529"/>
                </a:lnTo>
                <a:lnTo>
                  <a:pt x="2656" y="536"/>
                </a:lnTo>
                <a:lnTo>
                  <a:pt x="2660" y="544"/>
                </a:lnTo>
                <a:lnTo>
                  <a:pt x="2662" y="553"/>
                </a:lnTo>
                <a:lnTo>
                  <a:pt x="2665" y="563"/>
                </a:lnTo>
                <a:lnTo>
                  <a:pt x="2667" y="573"/>
                </a:lnTo>
                <a:lnTo>
                  <a:pt x="2671" y="584"/>
                </a:lnTo>
                <a:lnTo>
                  <a:pt x="2674" y="596"/>
                </a:lnTo>
                <a:lnTo>
                  <a:pt x="2676" y="609"/>
                </a:lnTo>
                <a:lnTo>
                  <a:pt x="2680" y="623"/>
                </a:lnTo>
                <a:lnTo>
                  <a:pt x="2682" y="636"/>
                </a:lnTo>
                <a:lnTo>
                  <a:pt x="2685" y="652"/>
                </a:lnTo>
                <a:lnTo>
                  <a:pt x="2689" y="666"/>
                </a:lnTo>
                <a:lnTo>
                  <a:pt x="2691" y="683"/>
                </a:lnTo>
                <a:lnTo>
                  <a:pt x="2694" y="700"/>
                </a:lnTo>
                <a:lnTo>
                  <a:pt x="2696" y="716"/>
                </a:lnTo>
                <a:lnTo>
                  <a:pt x="2700" y="733"/>
                </a:lnTo>
                <a:lnTo>
                  <a:pt x="2702" y="751"/>
                </a:lnTo>
                <a:lnTo>
                  <a:pt x="2705" y="769"/>
                </a:lnTo>
                <a:lnTo>
                  <a:pt x="2709" y="787"/>
                </a:lnTo>
                <a:lnTo>
                  <a:pt x="2711" y="806"/>
                </a:lnTo>
                <a:lnTo>
                  <a:pt x="2714" y="823"/>
                </a:lnTo>
                <a:lnTo>
                  <a:pt x="2717" y="842"/>
                </a:lnTo>
                <a:lnTo>
                  <a:pt x="2720" y="860"/>
                </a:lnTo>
                <a:lnTo>
                  <a:pt x="2723" y="879"/>
                </a:lnTo>
                <a:lnTo>
                  <a:pt x="2725" y="897"/>
                </a:lnTo>
                <a:lnTo>
                  <a:pt x="2729" y="915"/>
                </a:lnTo>
                <a:lnTo>
                  <a:pt x="2731" y="933"/>
                </a:lnTo>
                <a:lnTo>
                  <a:pt x="2734" y="950"/>
                </a:lnTo>
                <a:lnTo>
                  <a:pt x="2738" y="967"/>
                </a:lnTo>
                <a:lnTo>
                  <a:pt x="2740" y="984"/>
                </a:lnTo>
                <a:lnTo>
                  <a:pt x="2743" y="1001"/>
                </a:lnTo>
                <a:lnTo>
                  <a:pt x="2746" y="1016"/>
                </a:lnTo>
                <a:lnTo>
                  <a:pt x="2749" y="1032"/>
                </a:lnTo>
                <a:lnTo>
                  <a:pt x="2752" y="1046"/>
                </a:lnTo>
                <a:lnTo>
                  <a:pt x="2754" y="1060"/>
                </a:lnTo>
                <a:lnTo>
                  <a:pt x="2758" y="1073"/>
                </a:lnTo>
                <a:lnTo>
                  <a:pt x="2760" y="1085"/>
                </a:lnTo>
                <a:lnTo>
                  <a:pt x="2763" y="1096"/>
                </a:lnTo>
                <a:lnTo>
                  <a:pt x="2767" y="1106"/>
                </a:lnTo>
                <a:lnTo>
                  <a:pt x="2769" y="1116"/>
                </a:lnTo>
                <a:lnTo>
                  <a:pt x="2772" y="1125"/>
                </a:lnTo>
                <a:lnTo>
                  <a:pt x="2775" y="1133"/>
                </a:lnTo>
                <a:lnTo>
                  <a:pt x="2778" y="1140"/>
                </a:lnTo>
                <a:lnTo>
                  <a:pt x="2781" y="1145"/>
                </a:lnTo>
                <a:lnTo>
                  <a:pt x="2783" y="1150"/>
                </a:lnTo>
                <a:lnTo>
                  <a:pt x="2787" y="1153"/>
                </a:lnTo>
                <a:lnTo>
                  <a:pt x="2789" y="1155"/>
                </a:lnTo>
                <a:lnTo>
                  <a:pt x="2792" y="1158"/>
                </a:lnTo>
                <a:lnTo>
                  <a:pt x="2795" y="1158"/>
                </a:lnTo>
                <a:lnTo>
                  <a:pt x="2798" y="1156"/>
                </a:lnTo>
                <a:lnTo>
                  <a:pt x="2801" y="1154"/>
                </a:lnTo>
                <a:lnTo>
                  <a:pt x="2804" y="1151"/>
                </a:lnTo>
                <a:lnTo>
                  <a:pt x="2807" y="1146"/>
                </a:lnTo>
                <a:lnTo>
                  <a:pt x="2809" y="1141"/>
                </a:lnTo>
                <a:lnTo>
                  <a:pt x="2812" y="1134"/>
                </a:lnTo>
                <a:lnTo>
                  <a:pt x="2816" y="1126"/>
                </a:lnTo>
                <a:lnTo>
                  <a:pt x="2818" y="1117"/>
                </a:lnTo>
                <a:lnTo>
                  <a:pt x="2821" y="1107"/>
                </a:lnTo>
                <a:lnTo>
                  <a:pt x="2824" y="1096"/>
                </a:lnTo>
                <a:lnTo>
                  <a:pt x="2827" y="1085"/>
                </a:lnTo>
                <a:lnTo>
                  <a:pt x="2830" y="1072"/>
                </a:lnTo>
                <a:lnTo>
                  <a:pt x="2833" y="1058"/>
                </a:lnTo>
                <a:lnTo>
                  <a:pt x="2836" y="1043"/>
                </a:lnTo>
                <a:lnTo>
                  <a:pt x="2838" y="1027"/>
                </a:lnTo>
                <a:lnTo>
                  <a:pt x="2841" y="1011"/>
                </a:lnTo>
                <a:lnTo>
                  <a:pt x="2845" y="994"/>
                </a:lnTo>
                <a:lnTo>
                  <a:pt x="2847" y="976"/>
                </a:lnTo>
                <a:lnTo>
                  <a:pt x="2850" y="957"/>
                </a:lnTo>
                <a:lnTo>
                  <a:pt x="2853" y="938"/>
                </a:lnTo>
                <a:lnTo>
                  <a:pt x="2856" y="918"/>
                </a:lnTo>
                <a:lnTo>
                  <a:pt x="2859" y="898"/>
                </a:lnTo>
                <a:lnTo>
                  <a:pt x="2862" y="877"/>
                </a:lnTo>
                <a:lnTo>
                  <a:pt x="2865" y="856"/>
                </a:lnTo>
                <a:lnTo>
                  <a:pt x="2867" y="835"/>
                </a:lnTo>
                <a:lnTo>
                  <a:pt x="2870" y="813"/>
                </a:lnTo>
                <a:lnTo>
                  <a:pt x="2874" y="791"/>
                </a:lnTo>
                <a:lnTo>
                  <a:pt x="2876" y="769"/>
                </a:lnTo>
                <a:lnTo>
                  <a:pt x="2879" y="748"/>
                </a:lnTo>
                <a:lnTo>
                  <a:pt x="2882" y="725"/>
                </a:lnTo>
                <a:lnTo>
                  <a:pt x="2885" y="704"/>
                </a:lnTo>
                <a:lnTo>
                  <a:pt x="2887" y="682"/>
                </a:lnTo>
                <a:lnTo>
                  <a:pt x="2891" y="661"/>
                </a:lnTo>
                <a:lnTo>
                  <a:pt x="2894" y="640"/>
                </a:lnTo>
                <a:lnTo>
                  <a:pt x="2896" y="619"/>
                </a:lnTo>
                <a:lnTo>
                  <a:pt x="2899" y="599"/>
                </a:lnTo>
                <a:lnTo>
                  <a:pt x="2902" y="580"/>
                </a:lnTo>
                <a:lnTo>
                  <a:pt x="2905" y="562"/>
                </a:lnTo>
                <a:lnTo>
                  <a:pt x="2908" y="543"/>
                </a:lnTo>
                <a:lnTo>
                  <a:pt x="2911" y="526"/>
                </a:lnTo>
                <a:lnTo>
                  <a:pt x="2914" y="509"/>
                </a:lnTo>
                <a:lnTo>
                  <a:pt x="2916" y="494"/>
                </a:lnTo>
                <a:lnTo>
                  <a:pt x="2920" y="478"/>
                </a:lnTo>
                <a:lnTo>
                  <a:pt x="2923" y="465"/>
                </a:lnTo>
                <a:lnTo>
                  <a:pt x="2925" y="451"/>
                </a:lnTo>
                <a:lnTo>
                  <a:pt x="2928" y="440"/>
                </a:lnTo>
                <a:lnTo>
                  <a:pt x="2931" y="429"/>
                </a:lnTo>
                <a:lnTo>
                  <a:pt x="2934" y="420"/>
                </a:lnTo>
                <a:lnTo>
                  <a:pt x="2937" y="411"/>
                </a:lnTo>
                <a:lnTo>
                  <a:pt x="2940" y="404"/>
                </a:lnTo>
                <a:lnTo>
                  <a:pt x="2943" y="399"/>
                </a:lnTo>
                <a:lnTo>
                  <a:pt x="2945" y="394"/>
                </a:lnTo>
                <a:lnTo>
                  <a:pt x="2949" y="391"/>
                </a:lnTo>
                <a:lnTo>
                  <a:pt x="2952" y="389"/>
                </a:lnTo>
                <a:lnTo>
                  <a:pt x="2954" y="389"/>
                </a:lnTo>
                <a:lnTo>
                  <a:pt x="2957" y="390"/>
                </a:lnTo>
                <a:lnTo>
                  <a:pt x="2960" y="392"/>
                </a:lnTo>
                <a:lnTo>
                  <a:pt x="2963" y="396"/>
                </a:lnTo>
                <a:lnTo>
                  <a:pt x="2966" y="401"/>
                </a:lnTo>
                <a:lnTo>
                  <a:pt x="2969" y="408"/>
                </a:lnTo>
                <a:lnTo>
                  <a:pt x="2972" y="414"/>
                </a:lnTo>
                <a:lnTo>
                  <a:pt x="2974" y="425"/>
                </a:lnTo>
                <a:lnTo>
                  <a:pt x="2978" y="435"/>
                </a:lnTo>
                <a:lnTo>
                  <a:pt x="2980" y="446"/>
                </a:lnTo>
                <a:lnTo>
                  <a:pt x="2983" y="459"/>
                </a:lnTo>
                <a:lnTo>
                  <a:pt x="2986" y="474"/>
                </a:lnTo>
                <a:lnTo>
                  <a:pt x="2989" y="489"/>
                </a:lnTo>
                <a:lnTo>
                  <a:pt x="2992" y="505"/>
                </a:lnTo>
                <a:lnTo>
                  <a:pt x="2994" y="523"/>
                </a:lnTo>
                <a:lnTo>
                  <a:pt x="2998" y="541"/>
                </a:lnTo>
                <a:lnTo>
                  <a:pt x="3001" y="562"/>
                </a:lnTo>
                <a:lnTo>
                  <a:pt x="3003" y="582"/>
                </a:lnTo>
                <a:lnTo>
                  <a:pt x="3007" y="603"/>
                </a:lnTo>
                <a:lnTo>
                  <a:pt x="3009" y="625"/>
                </a:lnTo>
                <a:lnTo>
                  <a:pt x="3012" y="648"/>
                </a:lnTo>
                <a:lnTo>
                  <a:pt x="3015" y="672"/>
                </a:lnTo>
                <a:lnTo>
                  <a:pt x="3018" y="696"/>
                </a:lnTo>
                <a:lnTo>
                  <a:pt x="3021" y="721"/>
                </a:lnTo>
                <a:lnTo>
                  <a:pt x="3023" y="746"/>
                </a:lnTo>
                <a:lnTo>
                  <a:pt x="3027" y="772"/>
                </a:lnTo>
                <a:lnTo>
                  <a:pt x="3030" y="798"/>
                </a:lnTo>
                <a:lnTo>
                  <a:pt x="3032" y="823"/>
                </a:lnTo>
                <a:lnTo>
                  <a:pt x="3036" y="850"/>
                </a:lnTo>
                <a:lnTo>
                  <a:pt x="3038" y="876"/>
                </a:lnTo>
                <a:lnTo>
                  <a:pt x="3041" y="902"/>
                </a:lnTo>
                <a:lnTo>
                  <a:pt x="3044" y="928"/>
                </a:lnTo>
                <a:lnTo>
                  <a:pt x="3047" y="954"/>
                </a:lnTo>
                <a:lnTo>
                  <a:pt x="3050" y="979"/>
                </a:lnTo>
                <a:lnTo>
                  <a:pt x="3052" y="1005"/>
                </a:lnTo>
                <a:lnTo>
                  <a:pt x="3056" y="1029"/>
                </a:lnTo>
                <a:lnTo>
                  <a:pt x="3058" y="1053"/>
                </a:lnTo>
                <a:lnTo>
                  <a:pt x="3061" y="1076"/>
                </a:lnTo>
                <a:lnTo>
                  <a:pt x="3065" y="1099"/>
                </a:lnTo>
                <a:lnTo>
                  <a:pt x="3067" y="1121"/>
                </a:lnTo>
                <a:lnTo>
                  <a:pt x="3070" y="1142"/>
                </a:lnTo>
                <a:lnTo>
                  <a:pt x="3072" y="1162"/>
                </a:lnTo>
                <a:lnTo>
                  <a:pt x="3076" y="1181"/>
                </a:lnTo>
                <a:lnTo>
                  <a:pt x="3079" y="1199"/>
                </a:lnTo>
                <a:lnTo>
                  <a:pt x="3081" y="1216"/>
                </a:lnTo>
                <a:lnTo>
                  <a:pt x="3085" y="1231"/>
                </a:lnTo>
                <a:lnTo>
                  <a:pt x="3087" y="1244"/>
                </a:lnTo>
                <a:lnTo>
                  <a:pt x="3090" y="1258"/>
                </a:lnTo>
                <a:lnTo>
                  <a:pt x="3094" y="1269"/>
                </a:lnTo>
                <a:lnTo>
                  <a:pt x="3096" y="1279"/>
                </a:lnTo>
                <a:lnTo>
                  <a:pt x="3099" y="1287"/>
                </a:lnTo>
                <a:lnTo>
                  <a:pt x="3101" y="1295"/>
                </a:lnTo>
                <a:lnTo>
                  <a:pt x="3105" y="1300"/>
                </a:lnTo>
                <a:lnTo>
                  <a:pt x="3108" y="1304"/>
                </a:lnTo>
                <a:lnTo>
                  <a:pt x="3110" y="1306"/>
                </a:lnTo>
                <a:lnTo>
                  <a:pt x="3114" y="1307"/>
                </a:lnTo>
                <a:lnTo>
                  <a:pt x="3116" y="1306"/>
                </a:lnTo>
                <a:lnTo>
                  <a:pt x="3119" y="1302"/>
                </a:lnTo>
                <a:lnTo>
                  <a:pt x="3123" y="1298"/>
                </a:lnTo>
                <a:lnTo>
                  <a:pt x="3125" y="1292"/>
                </a:lnTo>
                <a:lnTo>
                  <a:pt x="3128" y="1285"/>
                </a:lnTo>
                <a:lnTo>
                  <a:pt x="3130" y="1276"/>
                </a:lnTo>
                <a:lnTo>
                  <a:pt x="3134" y="1265"/>
                </a:lnTo>
                <a:lnTo>
                  <a:pt x="3137" y="1252"/>
                </a:lnTo>
                <a:lnTo>
                  <a:pt x="3139" y="1239"/>
                </a:lnTo>
                <a:lnTo>
                  <a:pt x="3143" y="1223"/>
                </a:lnTo>
                <a:lnTo>
                  <a:pt x="3145" y="1207"/>
                </a:lnTo>
                <a:lnTo>
                  <a:pt x="3148" y="1189"/>
                </a:lnTo>
                <a:lnTo>
                  <a:pt x="3150" y="1169"/>
                </a:lnTo>
                <a:lnTo>
                  <a:pt x="3154" y="1149"/>
                </a:lnTo>
                <a:lnTo>
                  <a:pt x="3157" y="1126"/>
                </a:lnTo>
                <a:lnTo>
                  <a:pt x="3159" y="1103"/>
                </a:lnTo>
                <a:lnTo>
                  <a:pt x="3163" y="1078"/>
                </a:lnTo>
                <a:lnTo>
                  <a:pt x="3165" y="1053"/>
                </a:lnTo>
                <a:lnTo>
                  <a:pt x="3168" y="1027"/>
                </a:lnTo>
                <a:lnTo>
                  <a:pt x="3172" y="999"/>
                </a:lnTo>
                <a:lnTo>
                  <a:pt x="3174" y="972"/>
                </a:lnTo>
                <a:lnTo>
                  <a:pt x="3177" y="943"/>
                </a:lnTo>
                <a:lnTo>
                  <a:pt x="3179" y="914"/>
                </a:lnTo>
                <a:lnTo>
                  <a:pt x="3183" y="884"/>
                </a:lnTo>
                <a:lnTo>
                  <a:pt x="3186" y="853"/>
                </a:lnTo>
                <a:lnTo>
                  <a:pt x="3188" y="822"/>
                </a:lnTo>
                <a:lnTo>
                  <a:pt x="3192" y="792"/>
                </a:lnTo>
                <a:lnTo>
                  <a:pt x="3194" y="761"/>
                </a:lnTo>
                <a:lnTo>
                  <a:pt x="3197" y="730"/>
                </a:lnTo>
                <a:lnTo>
                  <a:pt x="3201" y="700"/>
                </a:lnTo>
                <a:lnTo>
                  <a:pt x="3203" y="668"/>
                </a:lnTo>
                <a:lnTo>
                  <a:pt x="3206" y="638"/>
                </a:lnTo>
                <a:lnTo>
                  <a:pt x="3208" y="608"/>
                </a:lnTo>
                <a:lnTo>
                  <a:pt x="3212" y="578"/>
                </a:lnTo>
                <a:lnTo>
                  <a:pt x="3215" y="549"/>
                </a:lnTo>
                <a:lnTo>
                  <a:pt x="3217" y="521"/>
                </a:lnTo>
                <a:lnTo>
                  <a:pt x="3221" y="494"/>
                </a:lnTo>
                <a:lnTo>
                  <a:pt x="3223" y="467"/>
                </a:lnTo>
                <a:lnTo>
                  <a:pt x="3226" y="441"/>
                </a:lnTo>
                <a:lnTo>
                  <a:pt x="3230" y="417"/>
                </a:lnTo>
                <a:lnTo>
                  <a:pt x="3232" y="393"/>
                </a:lnTo>
                <a:lnTo>
                  <a:pt x="3235" y="371"/>
                </a:lnTo>
                <a:lnTo>
                  <a:pt x="3237" y="350"/>
                </a:lnTo>
                <a:lnTo>
                  <a:pt x="3241" y="331"/>
                </a:lnTo>
                <a:lnTo>
                  <a:pt x="3243" y="313"/>
                </a:lnTo>
                <a:lnTo>
                  <a:pt x="3246" y="296"/>
                </a:lnTo>
                <a:lnTo>
                  <a:pt x="3250" y="281"/>
                </a:lnTo>
                <a:lnTo>
                  <a:pt x="3252" y="267"/>
                </a:lnTo>
                <a:lnTo>
                  <a:pt x="3255" y="256"/>
                </a:lnTo>
                <a:lnTo>
                  <a:pt x="3258" y="246"/>
                </a:lnTo>
                <a:lnTo>
                  <a:pt x="3261" y="238"/>
                </a:lnTo>
                <a:lnTo>
                  <a:pt x="3264" y="232"/>
                </a:lnTo>
                <a:lnTo>
                  <a:pt x="3266" y="227"/>
                </a:lnTo>
                <a:lnTo>
                  <a:pt x="3270" y="225"/>
                </a:lnTo>
                <a:lnTo>
                  <a:pt x="3272" y="224"/>
                </a:lnTo>
                <a:lnTo>
                  <a:pt x="3275" y="225"/>
                </a:lnTo>
                <a:lnTo>
                  <a:pt x="3279" y="228"/>
                </a:lnTo>
                <a:lnTo>
                  <a:pt x="3281" y="233"/>
                </a:lnTo>
                <a:lnTo>
                  <a:pt x="3284" y="241"/>
                </a:lnTo>
                <a:lnTo>
                  <a:pt x="3287" y="250"/>
                </a:lnTo>
                <a:lnTo>
                  <a:pt x="3290" y="260"/>
                </a:lnTo>
                <a:lnTo>
                  <a:pt x="3293" y="272"/>
                </a:lnTo>
                <a:lnTo>
                  <a:pt x="3295" y="286"/>
                </a:lnTo>
                <a:lnTo>
                  <a:pt x="3299" y="303"/>
                </a:lnTo>
                <a:lnTo>
                  <a:pt x="3301" y="321"/>
                </a:lnTo>
                <a:lnTo>
                  <a:pt x="3304" y="340"/>
                </a:lnTo>
                <a:lnTo>
                  <a:pt x="3308" y="361"/>
                </a:lnTo>
                <a:lnTo>
                  <a:pt x="3310" y="384"/>
                </a:lnTo>
                <a:lnTo>
                  <a:pt x="3313" y="409"/>
                </a:lnTo>
                <a:lnTo>
                  <a:pt x="3316" y="435"/>
                </a:lnTo>
                <a:lnTo>
                  <a:pt x="3319" y="461"/>
                </a:lnTo>
                <a:lnTo>
                  <a:pt x="3322" y="489"/>
                </a:lnTo>
                <a:lnTo>
                  <a:pt x="3324" y="519"/>
                </a:lnTo>
                <a:lnTo>
                  <a:pt x="3328" y="549"/>
                </a:lnTo>
                <a:lnTo>
                  <a:pt x="3330" y="580"/>
                </a:lnTo>
                <a:lnTo>
                  <a:pt x="3333" y="614"/>
                </a:lnTo>
                <a:lnTo>
                  <a:pt x="3336" y="646"/>
                </a:lnTo>
                <a:lnTo>
                  <a:pt x="3339" y="681"/>
                </a:lnTo>
                <a:lnTo>
                  <a:pt x="3342" y="715"/>
                </a:lnTo>
                <a:lnTo>
                  <a:pt x="3345" y="750"/>
                </a:lnTo>
                <a:lnTo>
                  <a:pt x="3348" y="785"/>
                </a:lnTo>
                <a:lnTo>
                  <a:pt x="3350" y="821"/>
                </a:lnTo>
                <a:lnTo>
                  <a:pt x="3353" y="857"/>
                </a:lnTo>
                <a:lnTo>
                  <a:pt x="3357" y="892"/>
                </a:lnTo>
                <a:lnTo>
                  <a:pt x="3359" y="928"/>
                </a:lnTo>
                <a:lnTo>
                  <a:pt x="3362" y="963"/>
                </a:lnTo>
                <a:lnTo>
                  <a:pt x="3365" y="998"/>
                </a:lnTo>
                <a:lnTo>
                  <a:pt x="3368" y="1033"/>
                </a:lnTo>
                <a:lnTo>
                  <a:pt x="3371" y="1066"/>
                </a:lnTo>
                <a:lnTo>
                  <a:pt x="3374" y="1100"/>
                </a:lnTo>
                <a:lnTo>
                  <a:pt x="3377" y="1132"/>
                </a:lnTo>
                <a:lnTo>
                  <a:pt x="3379" y="1163"/>
                </a:lnTo>
                <a:lnTo>
                  <a:pt x="3382" y="1194"/>
                </a:lnTo>
                <a:lnTo>
                  <a:pt x="3386" y="1223"/>
                </a:lnTo>
                <a:lnTo>
                  <a:pt x="3388" y="1251"/>
                </a:lnTo>
                <a:lnTo>
                  <a:pt x="3391" y="1279"/>
                </a:lnTo>
                <a:lnTo>
                  <a:pt x="3394" y="1304"/>
                </a:lnTo>
                <a:lnTo>
                  <a:pt x="3397" y="1328"/>
                </a:lnTo>
                <a:lnTo>
                  <a:pt x="3400" y="1350"/>
                </a:lnTo>
                <a:lnTo>
                  <a:pt x="3403" y="1370"/>
                </a:lnTo>
                <a:lnTo>
                  <a:pt x="3406" y="1389"/>
                </a:lnTo>
                <a:lnTo>
                  <a:pt x="3408" y="1407"/>
                </a:lnTo>
                <a:lnTo>
                  <a:pt x="3411" y="1422"/>
                </a:lnTo>
                <a:lnTo>
                  <a:pt x="3414" y="1435"/>
                </a:lnTo>
                <a:lnTo>
                  <a:pt x="3417" y="1446"/>
                </a:lnTo>
                <a:lnTo>
                  <a:pt x="3420" y="1455"/>
                </a:lnTo>
                <a:lnTo>
                  <a:pt x="3423" y="1463"/>
                </a:lnTo>
                <a:lnTo>
                  <a:pt x="3426" y="1467"/>
                </a:lnTo>
                <a:lnTo>
                  <a:pt x="3428" y="1471"/>
                </a:lnTo>
                <a:lnTo>
                  <a:pt x="3432" y="1471"/>
                </a:lnTo>
                <a:lnTo>
                  <a:pt x="3435" y="1470"/>
                </a:lnTo>
                <a:lnTo>
                  <a:pt x="3437" y="1466"/>
                </a:lnTo>
                <a:lnTo>
                  <a:pt x="3441" y="1461"/>
                </a:lnTo>
                <a:lnTo>
                  <a:pt x="3443" y="1452"/>
                </a:lnTo>
                <a:lnTo>
                  <a:pt x="3446" y="1442"/>
                </a:lnTo>
                <a:lnTo>
                  <a:pt x="3449" y="1429"/>
                </a:lnTo>
                <a:lnTo>
                  <a:pt x="3452" y="1416"/>
                </a:lnTo>
                <a:lnTo>
                  <a:pt x="3455" y="1399"/>
                </a:lnTo>
                <a:lnTo>
                  <a:pt x="3457" y="1380"/>
                </a:lnTo>
                <a:lnTo>
                  <a:pt x="3461" y="1360"/>
                </a:lnTo>
                <a:lnTo>
                  <a:pt x="3464" y="1338"/>
                </a:lnTo>
                <a:lnTo>
                  <a:pt x="3466" y="1315"/>
                </a:lnTo>
                <a:lnTo>
                  <a:pt x="3470" y="1289"/>
                </a:lnTo>
                <a:lnTo>
                  <a:pt x="3472" y="1261"/>
                </a:lnTo>
                <a:lnTo>
                  <a:pt x="3475" y="1232"/>
                </a:lnTo>
                <a:lnTo>
                  <a:pt x="3478" y="1202"/>
                </a:lnTo>
                <a:lnTo>
                  <a:pt x="3481" y="1170"/>
                </a:lnTo>
                <a:lnTo>
                  <a:pt x="3484" y="1136"/>
                </a:lnTo>
                <a:lnTo>
                  <a:pt x="3486" y="1102"/>
                </a:lnTo>
                <a:lnTo>
                  <a:pt x="3490" y="1066"/>
                </a:lnTo>
                <a:lnTo>
                  <a:pt x="3493" y="1031"/>
                </a:lnTo>
                <a:lnTo>
                  <a:pt x="3495" y="993"/>
                </a:lnTo>
                <a:lnTo>
                  <a:pt x="3499" y="955"/>
                </a:lnTo>
                <a:lnTo>
                  <a:pt x="3501" y="916"/>
                </a:lnTo>
                <a:lnTo>
                  <a:pt x="3504" y="877"/>
                </a:lnTo>
                <a:lnTo>
                  <a:pt x="3506" y="837"/>
                </a:lnTo>
                <a:lnTo>
                  <a:pt x="3510" y="798"/>
                </a:lnTo>
                <a:lnTo>
                  <a:pt x="3513" y="758"/>
                </a:lnTo>
                <a:lnTo>
                  <a:pt x="3515" y="718"/>
                </a:lnTo>
                <a:lnTo>
                  <a:pt x="3519" y="677"/>
                </a:lnTo>
                <a:lnTo>
                  <a:pt x="3521" y="638"/>
                </a:lnTo>
                <a:lnTo>
                  <a:pt x="3524" y="599"/>
                </a:lnTo>
                <a:lnTo>
                  <a:pt x="3528" y="560"/>
                </a:lnTo>
                <a:lnTo>
                  <a:pt x="3530" y="523"/>
                </a:lnTo>
                <a:lnTo>
                  <a:pt x="3533" y="486"/>
                </a:lnTo>
                <a:lnTo>
                  <a:pt x="3535" y="450"/>
                </a:lnTo>
                <a:lnTo>
                  <a:pt x="3539" y="414"/>
                </a:lnTo>
                <a:lnTo>
                  <a:pt x="3542" y="381"/>
                </a:lnTo>
                <a:lnTo>
                  <a:pt x="3544" y="349"/>
                </a:lnTo>
                <a:lnTo>
                  <a:pt x="3548" y="318"/>
                </a:lnTo>
                <a:lnTo>
                  <a:pt x="3550" y="287"/>
                </a:lnTo>
                <a:lnTo>
                  <a:pt x="3553" y="260"/>
                </a:lnTo>
                <a:lnTo>
                  <a:pt x="3557" y="233"/>
                </a:lnTo>
                <a:lnTo>
                  <a:pt x="3559" y="208"/>
                </a:lnTo>
                <a:lnTo>
                  <a:pt x="3562" y="185"/>
                </a:lnTo>
                <a:lnTo>
                  <a:pt x="3564" y="165"/>
                </a:lnTo>
                <a:lnTo>
                  <a:pt x="3568" y="146"/>
                </a:lnTo>
                <a:lnTo>
                  <a:pt x="3571" y="129"/>
                </a:lnTo>
                <a:lnTo>
                  <a:pt x="3573" y="115"/>
                </a:lnTo>
                <a:lnTo>
                  <a:pt x="3577" y="103"/>
                </a:lnTo>
                <a:lnTo>
                  <a:pt x="3579" y="93"/>
                </a:lnTo>
                <a:lnTo>
                  <a:pt x="3582" y="85"/>
                </a:lnTo>
                <a:lnTo>
                  <a:pt x="3586" y="79"/>
                </a:lnTo>
                <a:lnTo>
                  <a:pt x="3588" y="76"/>
                </a:lnTo>
                <a:lnTo>
                  <a:pt x="3591" y="76"/>
                </a:lnTo>
                <a:lnTo>
                  <a:pt x="3593" y="77"/>
                </a:lnTo>
                <a:lnTo>
                  <a:pt x="3597" y="81"/>
                </a:lnTo>
                <a:lnTo>
                  <a:pt x="3599" y="88"/>
                </a:lnTo>
                <a:lnTo>
                  <a:pt x="3602" y="97"/>
                </a:lnTo>
                <a:lnTo>
                  <a:pt x="3606" y="108"/>
                </a:lnTo>
                <a:lnTo>
                  <a:pt x="3608" y="121"/>
                </a:lnTo>
                <a:lnTo>
                  <a:pt x="3611" y="137"/>
                </a:lnTo>
                <a:lnTo>
                  <a:pt x="3613" y="156"/>
                </a:lnTo>
                <a:lnTo>
                  <a:pt x="3617" y="176"/>
                </a:lnTo>
                <a:lnTo>
                  <a:pt x="3620" y="198"/>
                </a:lnTo>
                <a:lnTo>
                  <a:pt x="3622" y="223"/>
                </a:lnTo>
                <a:lnTo>
                  <a:pt x="3626" y="248"/>
                </a:lnTo>
                <a:lnTo>
                  <a:pt x="3628" y="277"/>
                </a:lnTo>
                <a:lnTo>
                  <a:pt x="3631" y="308"/>
                </a:lnTo>
                <a:lnTo>
                  <a:pt x="3635" y="339"/>
                </a:lnTo>
                <a:lnTo>
                  <a:pt x="3637" y="372"/>
                </a:lnTo>
                <a:lnTo>
                  <a:pt x="3640" y="408"/>
                </a:lnTo>
                <a:lnTo>
                  <a:pt x="3642" y="443"/>
                </a:lnTo>
                <a:lnTo>
                  <a:pt x="3646" y="481"/>
                </a:lnTo>
                <a:lnTo>
                  <a:pt x="3649" y="520"/>
                </a:lnTo>
                <a:lnTo>
                  <a:pt x="3651" y="559"/>
                </a:lnTo>
                <a:lnTo>
                  <a:pt x="3655" y="601"/>
                </a:lnTo>
                <a:lnTo>
                  <a:pt x="3657" y="642"/>
                </a:lnTo>
                <a:lnTo>
                  <a:pt x="3660" y="684"/>
                </a:lnTo>
                <a:lnTo>
                  <a:pt x="3664" y="726"/>
                </a:lnTo>
                <a:lnTo>
                  <a:pt x="3666" y="770"/>
                </a:lnTo>
                <a:lnTo>
                  <a:pt x="3669" y="813"/>
                </a:lnTo>
                <a:lnTo>
                  <a:pt x="3671" y="856"/>
                </a:lnTo>
                <a:lnTo>
                  <a:pt x="3675" y="899"/>
                </a:lnTo>
                <a:lnTo>
                  <a:pt x="3678" y="943"/>
                </a:lnTo>
                <a:lnTo>
                  <a:pt x="3680" y="985"/>
                </a:lnTo>
                <a:lnTo>
                  <a:pt x="3684" y="1027"/>
                </a:lnTo>
                <a:lnTo>
                  <a:pt x="3686" y="1068"/>
                </a:lnTo>
                <a:lnTo>
                  <a:pt x="3689" y="1110"/>
                </a:lnTo>
                <a:lnTo>
                  <a:pt x="3692" y="1150"/>
                </a:lnTo>
                <a:lnTo>
                  <a:pt x="3695" y="1189"/>
                </a:lnTo>
                <a:lnTo>
                  <a:pt x="3698" y="1227"/>
                </a:lnTo>
                <a:lnTo>
                  <a:pt x="3700" y="1262"/>
                </a:lnTo>
                <a:lnTo>
                  <a:pt x="3704" y="1298"/>
                </a:lnTo>
                <a:lnTo>
                  <a:pt x="3706" y="1331"/>
                </a:lnTo>
                <a:lnTo>
                  <a:pt x="3709" y="1364"/>
                </a:lnTo>
                <a:lnTo>
                  <a:pt x="3713" y="1394"/>
                </a:lnTo>
                <a:lnTo>
                  <a:pt x="3715" y="1422"/>
                </a:lnTo>
                <a:lnTo>
                  <a:pt x="3718" y="1448"/>
                </a:lnTo>
                <a:lnTo>
                  <a:pt x="3721" y="1473"/>
                </a:lnTo>
                <a:lnTo>
                  <a:pt x="3724" y="1495"/>
                </a:lnTo>
                <a:lnTo>
                  <a:pt x="3727" y="1514"/>
                </a:lnTo>
                <a:lnTo>
                  <a:pt x="3729" y="1532"/>
                </a:lnTo>
                <a:lnTo>
                  <a:pt x="3733" y="1548"/>
                </a:lnTo>
                <a:lnTo>
                  <a:pt x="3735" y="1561"/>
                </a:lnTo>
                <a:lnTo>
                  <a:pt x="3738" y="1571"/>
                </a:lnTo>
                <a:lnTo>
                  <a:pt x="3742" y="1580"/>
                </a:lnTo>
                <a:lnTo>
                  <a:pt x="3744" y="1585"/>
                </a:lnTo>
                <a:lnTo>
                  <a:pt x="3747" y="1588"/>
                </a:lnTo>
                <a:lnTo>
                  <a:pt x="3750" y="1589"/>
                </a:lnTo>
                <a:lnTo>
                  <a:pt x="3753" y="1587"/>
                </a:lnTo>
                <a:lnTo>
                  <a:pt x="3756" y="1582"/>
                </a:lnTo>
                <a:lnTo>
                  <a:pt x="3758" y="1575"/>
                </a:lnTo>
                <a:lnTo>
                  <a:pt x="3762" y="1565"/>
                </a:lnTo>
                <a:lnTo>
                  <a:pt x="3764" y="1553"/>
                </a:lnTo>
                <a:lnTo>
                  <a:pt x="3767" y="1539"/>
                </a:lnTo>
                <a:lnTo>
                  <a:pt x="3771" y="1522"/>
                </a:lnTo>
                <a:lnTo>
                  <a:pt x="3773" y="1503"/>
                </a:lnTo>
                <a:lnTo>
                  <a:pt x="3776" y="1481"/>
                </a:lnTo>
                <a:lnTo>
                  <a:pt x="3779" y="1457"/>
                </a:lnTo>
                <a:lnTo>
                  <a:pt x="3782" y="1432"/>
                </a:lnTo>
                <a:lnTo>
                  <a:pt x="3784" y="1403"/>
                </a:lnTo>
                <a:lnTo>
                  <a:pt x="3787" y="1373"/>
                </a:lnTo>
                <a:lnTo>
                  <a:pt x="3791" y="1341"/>
                </a:lnTo>
                <a:lnTo>
                  <a:pt x="3793" y="1307"/>
                </a:lnTo>
                <a:lnTo>
                  <a:pt x="3796" y="1272"/>
                </a:lnTo>
                <a:lnTo>
                  <a:pt x="3799" y="1234"/>
                </a:lnTo>
                <a:lnTo>
                  <a:pt x="3802" y="1197"/>
                </a:lnTo>
                <a:lnTo>
                  <a:pt x="3805" y="1156"/>
                </a:lnTo>
                <a:lnTo>
                  <a:pt x="3808" y="1116"/>
                </a:lnTo>
                <a:lnTo>
                  <a:pt x="3811" y="1074"/>
                </a:lnTo>
                <a:lnTo>
                  <a:pt x="3813" y="1031"/>
                </a:lnTo>
                <a:lnTo>
                  <a:pt x="3816" y="987"/>
                </a:lnTo>
                <a:lnTo>
                  <a:pt x="3820" y="943"/>
                </a:lnTo>
                <a:lnTo>
                  <a:pt x="3822" y="898"/>
                </a:lnTo>
                <a:lnTo>
                  <a:pt x="3825" y="852"/>
                </a:lnTo>
                <a:lnTo>
                  <a:pt x="3828" y="808"/>
                </a:lnTo>
                <a:lnTo>
                  <a:pt x="3831" y="762"/>
                </a:lnTo>
                <a:lnTo>
                  <a:pt x="3834" y="716"/>
                </a:lnTo>
                <a:lnTo>
                  <a:pt x="3837" y="672"/>
                </a:lnTo>
                <a:lnTo>
                  <a:pt x="3840" y="627"/>
                </a:lnTo>
                <a:lnTo>
                  <a:pt x="3842" y="583"/>
                </a:lnTo>
                <a:lnTo>
                  <a:pt x="3845" y="539"/>
                </a:lnTo>
                <a:lnTo>
                  <a:pt x="3849" y="497"/>
                </a:lnTo>
                <a:lnTo>
                  <a:pt x="3851" y="455"/>
                </a:lnTo>
                <a:lnTo>
                  <a:pt x="3854" y="414"/>
                </a:lnTo>
                <a:lnTo>
                  <a:pt x="3857" y="374"/>
                </a:lnTo>
                <a:lnTo>
                  <a:pt x="3860" y="336"/>
                </a:lnTo>
                <a:lnTo>
                  <a:pt x="3862" y="301"/>
                </a:lnTo>
                <a:lnTo>
                  <a:pt x="3866" y="265"/>
                </a:lnTo>
                <a:lnTo>
                  <a:pt x="3869" y="232"/>
                </a:lnTo>
                <a:lnTo>
                  <a:pt x="3871" y="201"/>
                </a:lnTo>
                <a:lnTo>
                  <a:pt x="3874" y="172"/>
                </a:lnTo>
                <a:lnTo>
                  <a:pt x="3877" y="145"/>
                </a:lnTo>
                <a:lnTo>
                  <a:pt x="3880" y="119"/>
                </a:lnTo>
                <a:lnTo>
                  <a:pt x="3883" y="96"/>
                </a:lnTo>
                <a:lnTo>
                  <a:pt x="3886" y="76"/>
                </a:lnTo>
                <a:lnTo>
                  <a:pt x="3889" y="58"/>
                </a:lnTo>
                <a:lnTo>
                  <a:pt x="3891" y="41"/>
                </a:lnTo>
                <a:lnTo>
                  <a:pt x="3895" y="28"/>
                </a:lnTo>
                <a:lnTo>
                  <a:pt x="3898" y="18"/>
                </a:lnTo>
                <a:lnTo>
                  <a:pt x="3900" y="9"/>
                </a:lnTo>
                <a:lnTo>
                  <a:pt x="3903" y="3"/>
                </a:lnTo>
                <a:lnTo>
                  <a:pt x="3906" y="0"/>
                </a:lnTo>
                <a:lnTo>
                  <a:pt x="3909" y="0"/>
                </a:lnTo>
                <a:lnTo>
                  <a:pt x="3912" y="2"/>
                </a:lnTo>
                <a:lnTo>
                  <a:pt x="3915" y="7"/>
                </a:lnTo>
                <a:lnTo>
                  <a:pt x="3918" y="15"/>
                </a:lnTo>
                <a:lnTo>
                  <a:pt x="3920" y="25"/>
                </a:lnTo>
                <a:lnTo>
                  <a:pt x="3924" y="37"/>
                </a:lnTo>
                <a:lnTo>
                  <a:pt x="3927" y="52"/>
                </a:lnTo>
                <a:lnTo>
                  <a:pt x="3929" y="70"/>
                </a:lnTo>
                <a:lnTo>
                  <a:pt x="3932" y="90"/>
                </a:lnTo>
                <a:lnTo>
                  <a:pt x="3935" y="113"/>
                </a:lnTo>
                <a:lnTo>
                  <a:pt x="3938" y="137"/>
                </a:lnTo>
                <a:lnTo>
                  <a:pt x="3941" y="164"/>
                </a:lnTo>
                <a:lnTo>
                  <a:pt x="3944" y="193"/>
                </a:lnTo>
                <a:lnTo>
                  <a:pt x="3947" y="224"/>
                </a:lnTo>
                <a:lnTo>
                  <a:pt x="3949" y="256"/>
                </a:lnTo>
                <a:lnTo>
                  <a:pt x="3953" y="291"/>
                </a:lnTo>
                <a:lnTo>
                  <a:pt x="3955" y="328"/>
                </a:lnTo>
                <a:lnTo>
                  <a:pt x="3958" y="365"/>
                </a:lnTo>
                <a:lnTo>
                  <a:pt x="3961" y="404"/>
                </a:lnTo>
                <a:lnTo>
                  <a:pt x="3964" y="446"/>
                </a:lnTo>
                <a:lnTo>
                  <a:pt x="3967" y="487"/>
                </a:lnTo>
                <a:lnTo>
                  <a:pt x="3969" y="530"/>
                </a:lnTo>
                <a:lnTo>
                  <a:pt x="3973" y="574"/>
                </a:lnTo>
                <a:lnTo>
                  <a:pt x="3976" y="618"/>
                </a:lnTo>
                <a:lnTo>
                  <a:pt x="3978" y="664"/>
                </a:lnTo>
                <a:lnTo>
                  <a:pt x="3982" y="710"/>
                </a:lnTo>
                <a:lnTo>
                  <a:pt x="3984" y="755"/>
                </a:lnTo>
                <a:lnTo>
                  <a:pt x="3987" y="802"/>
                </a:lnTo>
                <a:lnTo>
                  <a:pt x="3990" y="848"/>
                </a:lnTo>
                <a:lnTo>
                  <a:pt x="3993" y="894"/>
                </a:lnTo>
                <a:lnTo>
                  <a:pt x="3996" y="939"/>
                </a:lnTo>
                <a:lnTo>
                  <a:pt x="3998" y="985"/>
                </a:lnTo>
                <a:lnTo>
                  <a:pt x="4002" y="1029"/>
                </a:lnTo>
                <a:lnTo>
                  <a:pt x="4005" y="1074"/>
                </a:lnTo>
                <a:lnTo>
                  <a:pt x="4007" y="1117"/>
                </a:lnTo>
                <a:lnTo>
                  <a:pt x="4011" y="1159"/>
                </a:lnTo>
                <a:lnTo>
                  <a:pt x="4013" y="1200"/>
                </a:lnTo>
                <a:lnTo>
                  <a:pt x="4016" y="1240"/>
                </a:lnTo>
                <a:lnTo>
                  <a:pt x="4019" y="1278"/>
                </a:lnTo>
                <a:lnTo>
                  <a:pt x="4022" y="1315"/>
                </a:lnTo>
                <a:lnTo>
                  <a:pt x="4025" y="1350"/>
                </a:lnTo>
                <a:lnTo>
                  <a:pt x="4027" y="1383"/>
                </a:lnTo>
                <a:lnTo>
                  <a:pt x="4031" y="1415"/>
                </a:lnTo>
                <a:lnTo>
                  <a:pt x="4034" y="1444"/>
                </a:lnTo>
                <a:lnTo>
                  <a:pt x="4036" y="1472"/>
                </a:lnTo>
                <a:lnTo>
                  <a:pt x="4040" y="1496"/>
                </a:lnTo>
                <a:lnTo>
                  <a:pt x="4042" y="1520"/>
                </a:lnTo>
                <a:lnTo>
                  <a:pt x="4045" y="1540"/>
                </a:lnTo>
                <a:lnTo>
                  <a:pt x="4047" y="1559"/>
                </a:lnTo>
                <a:lnTo>
                  <a:pt x="4051" y="1574"/>
                </a:lnTo>
                <a:lnTo>
                  <a:pt x="4054" y="1588"/>
                </a:lnTo>
                <a:lnTo>
                  <a:pt x="4056" y="1598"/>
                </a:lnTo>
                <a:lnTo>
                  <a:pt x="4060" y="1605"/>
                </a:lnTo>
                <a:lnTo>
                  <a:pt x="4062" y="1611"/>
                </a:lnTo>
                <a:lnTo>
                  <a:pt x="4065" y="1614"/>
                </a:lnTo>
                <a:lnTo>
                  <a:pt x="4069" y="1614"/>
                </a:lnTo>
                <a:lnTo>
                  <a:pt x="4071" y="1612"/>
                </a:lnTo>
                <a:lnTo>
                  <a:pt x="4074" y="1608"/>
                </a:lnTo>
                <a:lnTo>
                  <a:pt x="4076" y="1600"/>
                </a:lnTo>
                <a:lnTo>
                  <a:pt x="4080" y="1590"/>
                </a:lnTo>
                <a:lnTo>
                  <a:pt x="4083" y="1576"/>
                </a:lnTo>
                <a:lnTo>
                  <a:pt x="4085" y="1562"/>
                </a:lnTo>
                <a:lnTo>
                  <a:pt x="4089" y="1544"/>
                </a:lnTo>
                <a:lnTo>
                  <a:pt x="4091" y="1524"/>
                </a:lnTo>
                <a:lnTo>
                  <a:pt x="4094" y="1502"/>
                </a:lnTo>
                <a:lnTo>
                  <a:pt x="4098" y="1477"/>
                </a:lnTo>
                <a:lnTo>
                  <a:pt x="4100" y="1451"/>
                </a:lnTo>
                <a:lnTo>
                  <a:pt x="4103" y="1422"/>
                </a:lnTo>
                <a:lnTo>
                  <a:pt x="4105" y="1390"/>
                </a:lnTo>
                <a:lnTo>
                  <a:pt x="4109" y="1358"/>
                </a:lnTo>
                <a:lnTo>
                  <a:pt x="4112" y="1324"/>
                </a:lnTo>
                <a:lnTo>
                  <a:pt x="4114" y="1287"/>
                </a:lnTo>
                <a:lnTo>
                  <a:pt x="4118" y="1250"/>
                </a:lnTo>
                <a:lnTo>
                  <a:pt x="4120" y="1211"/>
                </a:lnTo>
                <a:lnTo>
                  <a:pt x="4123" y="1170"/>
                </a:lnTo>
                <a:lnTo>
                  <a:pt x="4127" y="1129"/>
                </a:lnTo>
                <a:lnTo>
                  <a:pt x="4129" y="1086"/>
                </a:lnTo>
                <a:lnTo>
                  <a:pt x="4132" y="1043"/>
                </a:lnTo>
                <a:lnTo>
                  <a:pt x="4134" y="999"/>
                </a:lnTo>
                <a:lnTo>
                  <a:pt x="4138" y="955"/>
                </a:lnTo>
                <a:lnTo>
                  <a:pt x="4140" y="909"/>
                </a:lnTo>
                <a:lnTo>
                  <a:pt x="4143" y="865"/>
                </a:lnTo>
                <a:lnTo>
                  <a:pt x="4147" y="819"/>
                </a:lnTo>
                <a:lnTo>
                  <a:pt x="4149" y="773"/>
                </a:lnTo>
                <a:lnTo>
                  <a:pt x="4152" y="728"/>
                </a:lnTo>
                <a:lnTo>
                  <a:pt x="4154" y="683"/>
                </a:lnTo>
                <a:lnTo>
                  <a:pt x="4158" y="638"/>
                </a:lnTo>
                <a:lnTo>
                  <a:pt x="4161" y="595"/>
                </a:lnTo>
                <a:lnTo>
                  <a:pt x="4163" y="552"/>
                </a:lnTo>
                <a:lnTo>
                  <a:pt x="4167" y="509"/>
                </a:lnTo>
                <a:lnTo>
                  <a:pt x="4169" y="468"/>
                </a:lnTo>
                <a:lnTo>
                  <a:pt x="4172" y="428"/>
                </a:lnTo>
                <a:lnTo>
                  <a:pt x="4176" y="389"/>
                </a:lnTo>
                <a:lnTo>
                  <a:pt x="4178" y="352"/>
                </a:lnTo>
                <a:lnTo>
                  <a:pt x="4181" y="316"/>
                </a:lnTo>
                <a:lnTo>
                  <a:pt x="4183" y="282"/>
                </a:lnTo>
                <a:lnTo>
                  <a:pt x="4187" y="250"/>
                </a:lnTo>
                <a:lnTo>
                  <a:pt x="4190" y="220"/>
                </a:lnTo>
                <a:lnTo>
                  <a:pt x="4192" y="191"/>
                </a:lnTo>
                <a:lnTo>
                  <a:pt x="4196" y="164"/>
                </a:lnTo>
                <a:lnTo>
                  <a:pt x="4198" y="139"/>
                </a:lnTo>
                <a:lnTo>
                  <a:pt x="4201" y="117"/>
                </a:lnTo>
                <a:lnTo>
                  <a:pt x="4205" y="98"/>
                </a:lnTo>
                <a:lnTo>
                  <a:pt x="4207" y="80"/>
                </a:lnTo>
                <a:lnTo>
                  <a:pt x="4210" y="65"/>
                </a:lnTo>
                <a:lnTo>
                  <a:pt x="4212" y="52"/>
                </a:lnTo>
                <a:lnTo>
                  <a:pt x="4216" y="42"/>
                </a:lnTo>
                <a:lnTo>
                  <a:pt x="4219" y="35"/>
                </a:lnTo>
                <a:lnTo>
                  <a:pt x="4221" y="29"/>
                </a:lnTo>
                <a:lnTo>
                  <a:pt x="4225" y="27"/>
                </a:lnTo>
                <a:lnTo>
                  <a:pt x="4227" y="27"/>
                </a:lnTo>
                <a:lnTo>
                  <a:pt x="4230" y="29"/>
                </a:lnTo>
                <a:lnTo>
                  <a:pt x="4233" y="33"/>
                </a:lnTo>
                <a:lnTo>
                  <a:pt x="4236" y="41"/>
                </a:lnTo>
                <a:lnTo>
                  <a:pt x="4239" y="51"/>
                </a:lnTo>
                <a:lnTo>
                  <a:pt x="4241" y="64"/>
                </a:lnTo>
                <a:lnTo>
                  <a:pt x="4245" y="78"/>
                </a:lnTo>
                <a:lnTo>
                  <a:pt x="4247" y="96"/>
                </a:lnTo>
                <a:lnTo>
                  <a:pt x="4250" y="115"/>
                </a:lnTo>
                <a:lnTo>
                  <a:pt x="4254" y="137"/>
                </a:lnTo>
                <a:lnTo>
                  <a:pt x="4256" y="160"/>
                </a:lnTo>
                <a:lnTo>
                  <a:pt x="4259" y="186"/>
                </a:lnTo>
                <a:lnTo>
                  <a:pt x="4262" y="214"/>
                </a:lnTo>
                <a:lnTo>
                  <a:pt x="4265" y="244"/>
                </a:lnTo>
                <a:lnTo>
                  <a:pt x="4268" y="275"/>
                </a:lnTo>
                <a:lnTo>
                  <a:pt x="4270" y="309"/>
                </a:lnTo>
                <a:lnTo>
                  <a:pt x="4274" y="343"/>
                </a:lnTo>
                <a:lnTo>
                  <a:pt x="4276" y="379"/>
                </a:lnTo>
                <a:lnTo>
                  <a:pt x="4279" y="417"/>
                </a:lnTo>
                <a:lnTo>
                  <a:pt x="4283" y="456"/>
                </a:lnTo>
                <a:lnTo>
                  <a:pt x="4285" y="495"/>
                </a:lnTo>
                <a:lnTo>
                  <a:pt x="4288" y="536"/>
                </a:lnTo>
                <a:lnTo>
                  <a:pt x="4291" y="577"/>
                </a:lnTo>
                <a:lnTo>
                  <a:pt x="4294" y="619"/>
                </a:lnTo>
                <a:lnTo>
                  <a:pt x="4297" y="662"/>
                </a:lnTo>
                <a:lnTo>
                  <a:pt x="4299" y="704"/>
                </a:lnTo>
                <a:lnTo>
                  <a:pt x="4303" y="748"/>
                </a:lnTo>
                <a:lnTo>
                  <a:pt x="4305" y="791"/>
                </a:lnTo>
                <a:lnTo>
                  <a:pt x="4308" y="835"/>
                </a:lnTo>
                <a:lnTo>
                  <a:pt x="4311" y="878"/>
                </a:lnTo>
                <a:lnTo>
                  <a:pt x="4314" y="920"/>
                </a:lnTo>
                <a:lnTo>
                  <a:pt x="4317" y="963"/>
                </a:lnTo>
                <a:lnTo>
                  <a:pt x="4320" y="1004"/>
                </a:lnTo>
                <a:lnTo>
                  <a:pt x="4323" y="1045"/>
                </a:lnTo>
                <a:lnTo>
                  <a:pt x="4325" y="1085"/>
                </a:lnTo>
                <a:lnTo>
                  <a:pt x="4328" y="1124"/>
                </a:lnTo>
                <a:lnTo>
                  <a:pt x="4332" y="1162"/>
                </a:lnTo>
                <a:lnTo>
                  <a:pt x="4334" y="1199"/>
                </a:lnTo>
                <a:lnTo>
                  <a:pt x="4337" y="1233"/>
                </a:lnTo>
                <a:lnTo>
                  <a:pt x="4340" y="1268"/>
                </a:lnTo>
                <a:lnTo>
                  <a:pt x="4343" y="1300"/>
                </a:lnTo>
                <a:lnTo>
                  <a:pt x="4346" y="1330"/>
                </a:lnTo>
                <a:lnTo>
                  <a:pt x="4349" y="1359"/>
                </a:lnTo>
                <a:lnTo>
                  <a:pt x="4352" y="1386"/>
                </a:lnTo>
                <a:lnTo>
                  <a:pt x="4354" y="1410"/>
                </a:lnTo>
                <a:lnTo>
                  <a:pt x="4357" y="1434"/>
                </a:lnTo>
                <a:lnTo>
                  <a:pt x="4361" y="1454"/>
                </a:lnTo>
                <a:lnTo>
                  <a:pt x="4363" y="1473"/>
                </a:lnTo>
                <a:lnTo>
                  <a:pt x="4366" y="1490"/>
                </a:lnTo>
                <a:lnTo>
                  <a:pt x="4369" y="1504"/>
                </a:lnTo>
                <a:lnTo>
                  <a:pt x="4372" y="1515"/>
                </a:lnTo>
                <a:lnTo>
                  <a:pt x="4375" y="1525"/>
                </a:lnTo>
                <a:lnTo>
                  <a:pt x="4378" y="1532"/>
                </a:lnTo>
                <a:lnTo>
                  <a:pt x="4381" y="1536"/>
                </a:lnTo>
                <a:lnTo>
                  <a:pt x="4383" y="1539"/>
                </a:lnTo>
                <a:lnTo>
                  <a:pt x="4386" y="1539"/>
                </a:lnTo>
                <a:lnTo>
                  <a:pt x="4390" y="1536"/>
                </a:lnTo>
                <a:lnTo>
                  <a:pt x="4392" y="1532"/>
                </a:lnTo>
                <a:lnTo>
                  <a:pt x="4395" y="1524"/>
                </a:lnTo>
                <a:lnTo>
                  <a:pt x="4398" y="1515"/>
                </a:lnTo>
                <a:lnTo>
                  <a:pt x="4401" y="1503"/>
                </a:lnTo>
                <a:lnTo>
                  <a:pt x="4403" y="1490"/>
                </a:lnTo>
                <a:lnTo>
                  <a:pt x="4407" y="1473"/>
                </a:lnTo>
                <a:lnTo>
                  <a:pt x="4410" y="1455"/>
                </a:lnTo>
                <a:lnTo>
                  <a:pt x="4412" y="1435"/>
                </a:lnTo>
                <a:lnTo>
                  <a:pt x="4415" y="1413"/>
                </a:lnTo>
                <a:lnTo>
                  <a:pt x="4418" y="1388"/>
                </a:lnTo>
                <a:lnTo>
                  <a:pt x="4421" y="1363"/>
                </a:lnTo>
                <a:lnTo>
                  <a:pt x="4424" y="1335"/>
                </a:lnTo>
                <a:lnTo>
                  <a:pt x="4427" y="1306"/>
                </a:lnTo>
                <a:lnTo>
                  <a:pt x="4430" y="1275"/>
                </a:lnTo>
                <a:lnTo>
                  <a:pt x="4432" y="1242"/>
                </a:lnTo>
                <a:lnTo>
                  <a:pt x="4436" y="1209"/>
                </a:lnTo>
                <a:lnTo>
                  <a:pt x="4439" y="1174"/>
                </a:lnTo>
                <a:lnTo>
                  <a:pt x="4441" y="1138"/>
                </a:lnTo>
                <a:lnTo>
                  <a:pt x="4445" y="1101"/>
                </a:lnTo>
                <a:lnTo>
                  <a:pt x="4447" y="1064"/>
                </a:lnTo>
                <a:lnTo>
                  <a:pt x="4450" y="1025"/>
                </a:lnTo>
                <a:lnTo>
                  <a:pt x="4453" y="986"/>
                </a:lnTo>
                <a:lnTo>
                  <a:pt x="4456" y="947"/>
                </a:lnTo>
                <a:lnTo>
                  <a:pt x="4459" y="907"/>
                </a:lnTo>
                <a:lnTo>
                  <a:pt x="4461" y="867"/>
                </a:lnTo>
                <a:lnTo>
                  <a:pt x="4465" y="828"/>
                </a:lnTo>
                <a:lnTo>
                  <a:pt x="4468" y="788"/>
                </a:lnTo>
                <a:lnTo>
                  <a:pt x="4470" y="748"/>
                </a:lnTo>
                <a:lnTo>
                  <a:pt x="4474" y="709"/>
                </a:lnTo>
                <a:lnTo>
                  <a:pt x="4476" y="670"/>
                </a:lnTo>
                <a:lnTo>
                  <a:pt x="4479" y="632"/>
                </a:lnTo>
                <a:lnTo>
                  <a:pt x="4482" y="594"/>
                </a:lnTo>
                <a:lnTo>
                  <a:pt x="4485" y="557"/>
                </a:lnTo>
                <a:lnTo>
                  <a:pt x="4488" y="521"/>
                </a:lnTo>
                <a:lnTo>
                  <a:pt x="4490" y="487"/>
                </a:lnTo>
                <a:lnTo>
                  <a:pt x="4494" y="453"/>
                </a:lnTo>
                <a:lnTo>
                  <a:pt x="4496" y="421"/>
                </a:lnTo>
                <a:lnTo>
                  <a:pt x="4499" y="390"/>
                </a:lnTo>
                <a:lnTo>
                  <a:pt x="4503" y="361"/>
                </a:lnTo>
                <a:lnTo>
                  <a:pt x="4505" y="333"/>
                </a:lnTo>
                <a:lnTo>
                  <a:pt x="4508" y="306"/>
                </a:lnTo>
                <a:lnTo>
                  <a:pt x="4510" y="282"/>
                </a:lnTo>
                <a:lnTo>
                  <a:pt x="4514" y="260"/>
                </a:lnTo>
                <a:lnTo>
                  <a:pt x="4517" y="238"/>
                </a:lnTo>
                <a:lnTo>
                  <a:pt x="4519" y="220"/>
                </a:lnTo>
                <a:lnTo>
                  <a:pt x="4523" y="203"/>
                </a:lnTo>
                <a:lnTo>
                  <a:pt x="4525" y="188"/>
                </a:lnTo>
                <a:lnTo>
                  <a:pt x="4528" y="176"/>
                </a:lnTo>
                <a:lnTo>
                  <a:pt x="4532" y="165"/>
                </a:lnTo>
                <a:lnTo>
                  <a:pt x="4534" y="156"/>
                </a:lnTo>
                <a:lnTo>
                  <a:pt x="4537" y="150"/>
                </a:lnTo>
                <a:lnTo>
                  <a:pt x="4539" y="146"/>
                </a:lnTo>
                <a:lnTo>
                  <a:pt x="4543" y="144"/>
                </a:lnTo>
                <a:lnTo>
                  <a:pt x="4546" y="144"/>
                </a:lnTo>
                <a:lnTo>
                  <a:pt x="4548" y="146"/>
                </a:lnTo>
                <a:lnTo>
                  <a:pt x="4552" y="150"/>
                </a:lnTo>
                <a:lnTo>
                  <a:pt x="4554" y="157"/>
                </a:lnTo>
                <a:lnTo>
                  <a:pt x="4557" y="166"/>
                </a:lnTo>
                <a:lnTo>
                  <a:pt x="4561" y="177"/>
                </a:lnTo>
                <a:lnTo>
                  <a:pt x="4563" y="189"/>
                </a:lnTo>
                <a:lnTo>
                  <a:pt x="4566" y="204"/>
                </a:lnTo>
                <a:lnTo>
                  <a:pt x="4568" y="221"/>
                </a:lnTo>
                <a:lnTo>
                  <a:pt x="4572" y="240"/>
                </a:lnTo>
                <a:lnTo>
                  <a:pt x="4575" y="260"/>
                </a:lnTo>
                <a:lnTo>
                  <a:pt x="4577" y="281"/>
                </a:lnTo>
                <a:lnTo>
                  <a:pt x="4581" y="305"/>
                </a:lnTo>
                <a:lnTo>
                  <a:pt x="4583" y="330"/>
                </a:lnTo>
                <a:lnTo>
                  <a:pt x="4586" y="357"/>
                </a:lnTo>
                <a:lnTo>
                  <a:pt x="4588" y="384"/>
                </a:lnTo>
                <a:lnTo>
                  <a:pt x="4592" y="413"/>
                </a:lnTo>
                <a:lnTo>
                  <a:pt x="4595" y="443"/>
                </a:lnTo>
                <a:lnTo>
                  <a:pt x="4597" y="475"/>
                </a:lnTo>
                <a:lnTo>
                  <a:pt x="4601" y="507"/>
                </a:lnTo>
                <a:lnTo>
                  <a:pt x="4603" y="540"/>
                </a:lnTo>
                <a:lnTo>
                  <a:pt x="4606" y="574"/>
                </a:lnTo>
                <a:lnTo>
                  <a:pt x="4610" y="608"/>
                </a:lnTo>
                <a:lnTo>
                  <a:pt x="4612" y="643"/>
                </a:lnTo>
                <a:lnTo>
                  <a:pt x="4615" y="679"/>
                </a:lnTo>
                <a:lnTo>
                  <a:pt x="4617" y="714"/>
                </a:lnTo>
                <a:lnTo>
                  <a:pt x="4621" y="750"/>
                </a:lnTo>
                <a:lnTo>
                  <a:pt x="4624" y="785"/>
                </a:lnTo>
                <a:lnTo>
                  <a:pt x="4626" y="821"/>
                </a:lnTo>
                <a:lnTo>
                  <a:pt x="4630" y="856"/>
                </a:lnTo>
                <a:lnTo>
                  <a:pt x="4632" y="891"/>
                </a:lnTo>
                <a:lnTo>
                  <a:pt x="4635" y="926"/>
                </a:lnTo>
                <a:lnTo>
                  <a:pt x="4639" y="959"/>
                </a:lnTo>
                <a:lnTo>
                  <a:pt x="4641" y="993"/>
                </a:lnTo>
                <a:lnTo>
                  <a:pt x="4644" y="1026"/>
                </a:lnTo>
                <a:lnTo>
                  <a:pt x="4646" y="1057"/>
                </a:lnTo>
                <a:lnTo>
                  <a:pt x="4650" y="1089"/>
                </a:lnTo>
                <a:lnTo>
                  <a:pt x="4653" y="1119"/>
                </a:lnTo>
                <a:lnTo>
                  <a:pt x="4655" y="1146"/>
                </a:lnTo>
                <a:lnTo>
                  <a:pt x="4659" y="1174"/>
                </a:lnTo>
                <a:lnTo>
                  <a:pt x="4661" y="1200"/>
                </a:lnTo>
                <a:lnTo>
                  <a:pt x="4664" y="1224"/>
                </a:lnTo>
                <a:lnTo>
                  <a:pt x="4668" y="1248"/>
                </a:lnTo>
                <a:lnTo>
                  <a:pt x="4670" y="1269"/>
                </a:lnTo>
                <a:lnTo>
                  <a:pt x="4673" y="1289"/>
                </a:lnTo>
                <a:lnTo>
                  <a:pt x="4675" y="1308"/>
                </a:lnTo>
                <a:lnTo>
                  <a:pt x="4679" y="1325"/>
                </a:lnTo>
                <a:lnTo>
                  <a:pt x="4681" y="1339"/>
                </a:lnTo>
                <a:lnTo>
                  <a:pt x="4684" y="1351"/>
                </a:lnTo>
                <a:lnTo>
                  <a:pt x="4688" y="1364"/>
                </a:lnTo>
                <a:lnTo>
                  <a:pt x="4690" y="1373"/>
                </a:lnTo>
                <a:lnTo>
                  <a:pt x="4693" y="1380"/>
                </a:lnTo>
                <a:lnTo>
                  <a:pt x="4696" y="1385"/>
                </a:lnTo>
                <a:lnTo>
                  <a:pt x="4699" y="1389"/>
                </a:lnTo>
                <a:lnTo>
                  <a:pt x="4702" y="1390"/>
                </a:lnTo>
                <a:lnTo>
                  <a:pt x="4704" y="1390"/>
                </a:lnTo>
                <a:lnTo>
                  <a:pt x="4708" y="1388"/>
                </a:lnTo>
                <a:lnTo>
                  <a:pt x="4710" y="1385"/>
                </a:lnTo>
                <a:lnTo>
                  <a:pt x="4713" y="1378"/>
                </a:lnTo>
                <a:lnTo>
                  <a:pt x="4717" y="1370"/>
                </a:lnTo>
                <a:lnTo>
                  <a:pt x="4719" y="1361"/>
                </a:lnTo>
                <a:lnTo>
                  <a:pt x="4722" y="1350"/>
                </a:lnTo>
                <a:lnTo>
                  <a:pt x="4725" y="1337"/>
                </a:lnTo>
                <a:lnTo>
                  <a:pt x="4728" y="1322"/>
                </a:lnTo>
                <a:lnTo>
                  <a:pt x="4731" y="1307"/>
                </a:lnTo>
                <a:lnTo>
                  <a:pt x="4733" y="1289"/>
                </a:lnTo>
                <a:lnTo>
                  <a:pt x="4737" y="1269"/>
                </a:lnTo>
                <a:lnTo>
                  <a:pt x="4739" y="1249"/>
                </a:lnTo>
                <a:lnTo>
                  <a:pt x="4742" y="1227"/>
                </a:lnTo>
                <a:lnTo>
                  <a:pt x="4746" y="1204"/>
                </a:lnTo>
                <a:lnTo>
                  <a:pt x="4748" y="1180"/>
                </a:lnTo>
                <a:lnTo>
                  <a:pt x="4751" y="1154"/>
                </a:lnTo>
                <a:lnTo>
                  <a:pt x="4754" y="1128"/>
                </a:lnTo>
                <a:lnTo>
                  <a:pt x="4757" y="1101"/>
                </a:lnTo>
                <a:lnTo>
                  <a:pt x="4759" y="1072"/>
                </a:lnTo>
                <a:lnTo>
                  <a:pt x="4762" y="1044"/>
                </a:lnTo>
                <a:lnTo>
                  <a:pt x="4766" y="1014"/>
                </a:lnTo>
                <a:lnTo>
                  <a:pt x="4768" y="984"/>
                </a:lnTo>
                <a:lnTo>
                  <a:pt x="4771" y="954"/>
                </a:lnTo>
                <a:lnTo>
                  <a:pt x="4774" y="924"/>
                </a:lnTo>
                <a:lnTo>
                  <a:pt x="4777" y="892"/>
                </a:lnTo>
                <a:lnTo>
                  <a:pt x="4780" y="861"/>
                </a:lnTo>
                <a:lnTo>
                  <a:pt x="4783" y="830"/>
                </a:lnTo>
                <a:lnTo>
                  <a:pt x="4786" y="800"/>
                </a:lnTo>
                <a:lnTo>
                  <a:pt x="4788" y="769"/>
                </a:lnTo>
                <a:lnTo>
                  <a:pt x="4791" y="739"/>
                </a:lnTo>
                <a:lnTo>
                  <a:pt x="4795" y="709"/>
                </a:lnTo>
                <a:lnTo>
                  <a:pt x="4797" y="680"/>
                </a:lnTo>
                <a:lnTo>
                  <a:pt x="4800" y="651"/>
                </a:lnTo>
                <a:lnTo>
                  <a:pt x="4803" y="623"/>
                </a:lnTo>
                <a:lnTo>
                  <a:pt x="4806" y="595"/>
                </a:lnTo>
                <a:lnTo>
                  <a:pt x="4809" y="568"/>
                </a:lnTo>
                <a:lnTo>
                  <a:pt x="4812" y="543"/>
                </a:lnTo>
                <a:lnTo>
                  <a:pt x="4815" y="518"/>
                </a:lnTo>
                <a:lnTo>
                  <a:pt x="4817" y="495"/>
                </a:lnTo>
                <a:lnTo>
                  <a:pt x="4820" y="472"/>
                </a:lnTo>
                <a:lnTo>
                  <a:pt x="4824" y="451"/>
                </a:lnTo>
                <a:lnTo>
                  <a:pt x="4826" y="431"/>
                </a:lnTo>
                <a:lnTo>
                  <a:pt x="4829" y="412"/>
                </a:lnTo>
                <a:lnTo>
                  <a:pt x="4832" y="396"/>
                </a:lnTo>
                <a:lnTo>
                  <a:pt x="4835" y="380"/>
                </a:lnTo>
                <a:lnTo>
                  <a:pt x="4838" y="365"/>
                </a:lnTo>
                <a:lnTo>
                  <a:pt x="4841" y="353"/>
                </a:lnTo>
                <a:lnTo>
                  <a:pt x="4844" y="342"/>
                </a:lnTo>
                <a:lnTo>
                  <a:pt x="4846" y="332"/>
                </a:lnTo>
                <a:lnTo>
                  <a:pt x="4849" y="324"/>
                </a:lnTo>
                <a:lnTo>
                  <a:pt x="4852" y="318"/>
                </a:lnTo>
                <a:lnTo>
                  <a:pt x="4855" y="313"/>
                </a:lnTo>
                <a:lnTo>
                  <a:pt x="4858" y="310"/>
                </a:lnTo>
                <a:lnTo>
                  <a:pt x="4861" y="309"/>
                </a:lnTo>
                <a:lnTo>
                  <a:pt x="4864" y="309"/>
                </a:lnTo>
                <a:lnTo>
                  <a:pt x="4866" y="311"/>
                </a:lnTo>
                <a:lnTo>
                  <a:pt x="4870" y="314"/>
                </a:lnTo>
                <a:lnTo>
                  <a:pt x="4873" y="319"/>
                </a:lnTo>
                <a:lnTo>
                  <a:pt x="4875" y="325"/>
                </a:lnTo>
                <a:lnTo>
                  <a:pt x="4878" y="334"/>
                </a:lnTo>
                <a:lnTo>
                  <a:pt x="4881" y="343"/>
                </a:lnTo>
                <a:lnTo>
                  <a:pt x="4884" y="354"/>
                </a:lnTo>
                <a:lnTo>
                  <a:pt x="4887" y="367"/>
                </a:lnTo>
                <a:lnTo>
                  <a:pt x="4890" y="381"/>
                </a:lnTo>
                <a:lnTo>
                  <a:pt x="4893" y="396"/>
                </a:lnTo>
                <a:lnTo>
                  <a:pt x="4895" y="412"/>
                </a:lnTo>
                <a:lnTo>
                  <a:pt x="4899" y="430"/>
                </a:lnTo>
                <a:lnTo>
                  <a:pt x="4902" y="448"/>
                </a:lnTo>
                <a:lnTo>
                  <a:pt x="4904" y="468"/>
                </a:lnTo>
                <a:lnTo>
                  <a:pt x="4907" y="489"/>
                </a:lnTo>
                <a:lnTo>
                  <a:pt x="4910" y="510"/>
                </a:lnTo>
                <a:lnTo>
                  <a:pt x="4913" y="533"/>
                </a:lnTo>
                <a:lnTo>
                  <a:pt x="4916" y="556"/>
                </a:lnTo>
                <a:lnTo>
                  <a:pt x="4919" y="579"/>
                </a:lnTo>
                <a:lnTo>
                  <a:pt x="4922" y="604"/>
                </a:lnTo>
                <a:lnTo>
                  <a:pt x="4924" y="630"/>
                </a:lnTo>
                <a:lnTo>
                  <a:pt x="4928" y="654"/>
                </a:lnTo>
                <a:lnTo>
                  <a:pt x="4931" y="680"/>
                </a:lnTo>
                <a:lnTo>
                  <a:pt x="4933" y="706"/>
                </a:lnTo>
                <a:lnTo>
                  <a:pt x="4936" y="732"/>
                </a:lnTo>
                <a:lnTo>
                  <a:pt x="4939" y="759"/>
                </a:lnTo>
                <a:lnTo>
                  <a:pt x="4942" y="784"/>
                </a:lnTo>
                <a:lnTo>
                  <a:pt x="4944" y="811"/>
                </a:lnTo>
                <a:lnTo>
                  <a:pt x="4948" y="837"/>
                </a:lnTo>
                <a:lnTo>
                  <a:pt x="4951" y="862"/>
                </a:lnTo>
                <a:lnTo>
                  <a:pt x="4953" y="888"/>
                </a:lnTo>
                <a:lnTo>
                  <a:pt x="4957" y="912"/>
                </a:lnTo>
                <a:lnTo>
                  <a:pt x="4959" y="937"/>
                </a:lnTo>
                <a:lnTo>
                  <a:pt x="4962" y="960"/>
                </a:lnTo>
                <a:lnTo>
                  <a:pt x="4965" y="984"/>
                </a:lnTo>
                <a:lnTo>
                  <a:pt x="4968" y="1006"/>
                </a:lnTo>
                <a:lnTo>
                  <a:pt x="4971" y="1028"/>
                </a:lnTo>
                <a:lnTo>
                  <a:pt x="4973" y="1048"/>
                </a:lnTo>
                <a:lnTo>
                  <a:pt x="4977" y="1068"/>
                </a:lnTo>
                <a:lnTo>
                  <a:pt x="4980" y="1087"/>
                </a:lnTo>
                <a:lnTo>
                  <a:pt x="4982" y="1105"/>
                </a:lnTo>
                <a:lnTo>
                  <a:pt x="4986" y="1122"/>
                </a:lnTo>
                <a:lnTo>
                  <a:pt x="4988" y="1138"/>
                </a:lnTo>
                <a:lnTo>
                  <a:pt x="4991" y="1152"/>
                </a:lnTo>
                <a:lnTo>
                  <a:pt x="4994" y="1165"/>
                </a:lnTo>
                <a:lnTo>
                  <a:pt x="4997" y="1178"/>
                </a:lnTo>
                <a:lnTo>
                  <a:pt x="5000" y="1189"/>
                </a:lnTo>
                <a:lnTo>
                  <a:pt x="5002" y="1198"/>
                </a:lnTo>
                <a:lnTo>
                  <a:pt x="5006" y="1205"/>
                </a:lnTo>
                <a:lnTo>
                  <a:pt x="5009" y="1212"/>
                </a:lnTo>
                <a:lnTo>
                  <a:pt x="5011" y="1218"/>
                </a:lnTo>
                <a:lnTo>
                  <a:pt x="5015" y="1222"/>
                </a:lnTo>
                <a:lnTo>
                  <a:pt x="5017" y="1224"/>
                </a:lnTo>
                <a:lnTo>
                  <a:pt x="5020" y="1226"/>
                </a:lnTo>
                <a:lnTo>
                  <a:pt x="5023" y="1226"/>
                </a:lnTo>
                <a:lnTo>
                  <a:pt x="5026" y="1224"/>
                </a:lnTo>
                <a:lnTo>
                  <a:pt x="5029" y="1221"/>
                </a:lnTo>
                <a:lnTo>
                  <a:pt x="5031" y="1218"/>
                </a:lnTo>
                <a:lnTo>
                  <a:pt x="5035" y="1212"/>
                </a:lnTo>
                <a:lnTo>
                  <a:pt x="5037" y="1205"/>
                </a:lnTo>
                <a:lnTo>
                  <a:pt x="5040" y="1198"/>
                </a:lnTo>
                <a:lnTo>
                  <a:pt x="5044" y="1188"/>
                </a:lnTo>
                <a:lnTo>
                  <a:pt x="5046" y="1178"/>
                </a:lnTo>
                <a:lnTo>
                  <a:pt x="5049" y="1167"/>
                </a:lnTo>
                <a:lnTo>
                  <a:pt x="5051" y="1153"/>
                </a:lnTo>
                <a:lnTo>
                  <a:pt x="5055" y="1140"/>
                </a:lnTo>
                <a:lnTo>
                  <a:pt x="5058" y="1125"/>
                </a:lnTo>
                <a:lnTo>
                  <a:pt x="5060" y="1110"/>
                </a:lnTo>
                <a:lnTo>
                  <a:pt x="5064" y="1093"/>
                </a:lnTo>
                <a:lnTo>
                  <a:pt x="5066" y="1076"/>
                </a:lnTo>
                <a:lnTo>
                  <a:pt x="5069" y="1058"/>
                </a:lnTo>
                <a:lnTo>
                  <a:pt x="5073" y="1039"/>
                </a:lnTo>
                <a:lnTo>
                  <a:pt x="5075" y="1021"/>
                </a:lnTo>
                <a:lnTo>
                  <a:pt x="5078" y="1001"/>
                </a:lnTo>
                <a:lnTo>
                  <a:pt x="5080" y="980"/>
                </a:lnTo>
                <a:lnTo>
                  <a:pt x="5084" y="959"/>
                </a:lnTo>
                <a:lnTo>
                  <a:pt x="5087" y="938"/>
                </a:lnTo>
                <a:lnTo>
                  <a:pt x="5089" y="917"/>
                </a:lnTo>
                <a:lnTo>
                  <a:pt x="5093" y="895"/>
                </a:lnTo>
                <a:lnTo>
                  <a:pt x="5095" y="873"/>
                </a:lnTo>
                <a:lnTo>
                  <a:pt x="5098" y="851"/>
                </a:lnTo>
                <a:lnTo>
                  <a:pt x="5102" y="829"/>
                </a:lnTo>
                <a:lnTo>
                  <a:pt x="5104" y="808"/>
                </a:lnTo>
                <a:lnTo>
                  <a:pt x="5107" y="785"/>
                </a:lnTo>
                <a:lnTo>
                  <a:pt x="5109" y="764"/>
                </a:lnTo>
                <a:lnTo>
                  <a:pt x="5113" y="743"/>
                </a:lnTo>
                <a:lnTo>
                  <a:pt x="5115" y="722"/>
                </a:lnTo>
                <a:lnTo>
                  <a:pt x="5118" y="702"/>
                </a:lnTo>
                <a:lnTo>
                  <a:pt x="5122" y="682"/>
                </a:lnTo>
                <a:lnTo>
                  <a:pt x="5124" y="663"/>
                </a:lnTo>
                <a:lnTo>
                  <a:pt x="5127" y="644"/>
                </a:lnTo>
                <a:lnTo>
                  <a:pt x="5129" y="625"/>
                </a:lnTo>
                <a:lnTo>
                  <a:pt x="5133" y="608"/>
                </a:lnTo>
                <a:lnTo>
                  <a:pt x="5136" y="592"/>
                </a:lnTo>
                <a:lnTo>
                  <a:pt x="5138" y="576"/>
                </a:lnTo>
                <a:lnTo>
                  <a:pt x="5142" y="560"/>
                </a:lnTo>
                <a:lnTo>
                  <a:pt x="5144" y="546"/>
                </a:lnTo>
                <a:lnTo>
                  <a:pt x="5147" y="533"/>
                </a:lnTo>
                <a:lnTo>
                  <a:pt x="5151" y="520"/>
                </a:lnTo>
                <a:lnTo>
                  <a:pt x="5153" y="509"/>
                </a:lnTo>
                <a:lnTo>
                  <a:pt x="5156" y="499"/>
                </a:lnTo>
                <a:lnTo>
                  <a:pt x="5158" y="490"/>
                </a:lnTo>
                <a:lnTo>
                  <a:pt x="5162" y="482"/>
                </a:lnTo>
                <a:lnTo>
                  <a:pt x="5165" y="476"/>
                </a:lnTo>
                <a:lnTo>
                  <a:pt x="5167" y="469"/>
                </a:lnTo>
                <a:lnTo>
                  <a:pt x="5171" y="465"/>
                </a:lnTo>
                <a:lnTo>
                  <a:pt x="5173" y="461"/>
                </a:lnTo>
                <a:lnTo>
                  <a:pt x="5176" y="459"/>
                </a:lnTo>
                <a:lnTo>
                  <a:pt x="5180" y="458"/>
                </a:lnTo>
                <a:lnTo>
                  <a:pt x="5182" y="458"/>
                </a:lnTo>
                <a:lnTo>
                  <a:pt x="5185" y="459"/>
                </a:lnTo>
                <a:lnTo>
                  <a:pt x="5187" y="461"/>
                </a:lnTo>
                <a:lnTo>
                  <a:pt x="5191" y="464"/>
                </a:lnTo>
                <a:lnTo>
                  <a:pt x="5194" y="468"/>
                </a:lnTo>
                <a:lnTo>
                  <a:pt x="5196" y="474"/>
                </a:lnTo>
                <a:lnTo>
                  <a:pt x="5200" y="480"/>
                </a:lnTo>
                <a:lnTo>
                  <a:pt x="5202" y="488"/>
                </a:lnTo>
                <a:lnTo>
                  <a:pt x="5205" y="496"/>
                </a:lnTo>
                <a:lnTo>
                  <a:pt x="5208" y="506"/>
                </a:lnTo>
                <a:lnTo>
                  <a:pt x="5211" y="516"/>
                </a:lnTo>
                <a:lnTo>
                  <a:pt x="5214" y="527"/>
                </a:lnTo>
                <a:lnTo>
                  <a:pt x="5216" y="539"/>
                </a:lnTo>
                <a:lnTo>
                  <a:pt x="5220" y="552"/>
                </a:lnTo>
                <a:lnTo>
                  <a:pt x="5222" y="566"/>
                </a:lnTo>
                <a:lnTo>
                  <a:pt x="5225" y="580"/>
                </a:lnTo>
                <a:lnTo>
                  <a:pt x="5229" y="595"/>
                </a:lnTo>
                <a:lnTo>
                  <a:pt x="5231" y="611"/>
                </a:lnTo>
                <a:lnTo>
                  <a:pt x="5234" y="626"/>
                </a:lnTo>
                <a:lnTo>
                  <a:pt x="5237" y="643"/>
                </a:lnTo>
                <a:lnTo>
                  <a:pt x="5240" y="661"/>
                </a:lnTo>
                <a:lnTo>
                  <a:pt x="5243" y="677"/>
                </a:lnTo>
                <a:lnTo>
                  <a:pt x="5245" y="695"/>
                </a:lnTo>
                <a:lnTo>
                  <a:pt x="5249" y="713"/>
                </a:lnTo>
                <a:lnTo>
                  <a:pt x="5251" y="732"/>
                </a:lnTo>
                <a:lnTo>
                  <a:pt x="5254" y="750"/>
                </a:lnTo>
                <a:lnTo>
                  <a:pt x="5258" y="769"/>
                </a:lnTo>
                <a:lnTo>
                  <a:pt x="5260" y="787"/>
                </a:lnTo>
                <a:lnTo>
                  <a:pt x="5263" y="806"/>
                </a:lnTo>
                <a:lnTo>
                  <a:pt x="5266" y="823"/>
                </a:lnTo>
                <a:lnTo>
                  <a:pt x="5269" y="841"/>
                </a:lnTo>
                <a:lnTo>
                  <a:pt x="5272" y="859"/>
                </a:lnTo>
                <a:lnTo>
                  <a:pt x="5274" y="877"/>
                </a:lnTo>
                <a:lnTo>
                  <a:pt x="5278" y="895"/>
                </a:lnTo>
                <a:lnTo>
                  <a:pt x="5280" y="911"/>
                </a:lnTo>
                <a:lnTo>
                  <a:pt x="5283" y="928"/>
                </a:lnTo>
                <a:lnTo>
                  <a:pt x="5287" y="944"/>
                </a:lnTo>
                <a:lnTo>
                  <a:pt x="5289" y="959"/>
                </a:lnTo>
                <a:lnTo>
                  <a:pt x="5292" y="975"/>
                </a:lnTo>
                <a:lnTo>
                  <a:pt x="5295" y="989"/>
                </a:lnTo>
                <a:lnTo>
                  <a:pt x="5298" y="1003"/>
                </a:lnTo>
                <a:lnTo>
                  <a:pt x="5300" y="1016"/>
                </a:lnTo>
                <a:lnTo>
                  <a:pt x="5303" y="1027"/>
                </a:lnTo>
                <a:lnTo>
                  <a:pt x="5307" y="1039"/>
                </a:lnTo>
                <a:lnTo>
                  <a:pt x="5309" y="1050"/>
                </a:lnTo>
                <a:lnTo>
                  <a:pt x="5312" y="1060"/>
                </a:lnTo>
                <a:lnTo>
                  <a:pt x="5315" y="1068"/>
                </a:lnTo>
                <a:lnTo>
                  <a:pt x="5318" y="1076"/>
                </a:lnTo>
                <a:lnTo>
                  <a:pt x="5321" y="1084"/>
                </a:lnTo>
                <a:lnTo>
                  <a:pt x="5324" y="1090"/>
                </a:lnTo>
                <a:lnTo>
                  <a:pt x="5327" y="1095"/>
                </a:lnTo>
                <a:lnTo>
                  <a:pt x="5329" y="1100"/>
                </a:lnTo>
                <a:lnTo>
                  <a:pt x="5332" y="1103"/>
                </a:lnTo>
                <a:lnTo>
                  <a:pt x="5336" y="1105"/>
                </a:lnTo>
                <a:lnTo>
                  <a:pt x="5338" y="1107"/>
                </a:lnTo>
                <a:lnTo>
                  <a:pt x="5341" y="1107"/>
                </a:lnTo>
                <a:lnTo>
                  <a:pt x="5344" y="1106"/>
                </a:lnTo>
                <a:lnTo>
                  <a:pt x="5347" y="1105"/>
                </a:lnTo>
                <a:lnTo>
                  <a:pt x="5350" y="1103"/>
                </a:lnTo>
                <a:lnTo>
                  <a:pt x="5353" y="1100"/>
                </a:lnTo>
                <a:lnTo>
                  <a:pt x="5356" y="1095"/>
                </a:lnTo>
                <a:lnTo>
                  <a:pt x="5358" y="1090"/>
                </a:lnTo>
                <a:lnTo>
                  <a:pt x="5361" y="1084"/>
                </a:lnTo>
                <a:lnTo>
                  <a:pt x="5365" y="1077"/>
                </a:lnTo>
                <a:lnTo>
                  <a:pt x="5367" y="1070"/>
                </a:lnTo>
                <a:lnTo>
                  <a:pt x="5370" y="1061"/>
                </a:lnTo>
                <a:lnTo>
                  <a:pt x="5373" y="1051"/>
                </a:lnTo>
                <a:lnTo>
                  <a:pt x="5376" y="1041"/>
                </a:lnTo>
                <a:lnTo>
                  <a:pt x="5379" y="1031"/>
                </a:lnTo>
                <a:lnTo>
                  <a:pt x="5382" y="1018"/>
                </a:lnTo>
                <a:lnTo>
                  <a:pt x="5385" y="1006"/>
                </a:lnTo>
                <a:lnTo>
                  <a:pt x="5387" y="994"/>
                </a:lnTo>
                <a:lnTo>
                  <a:pt x="5390" y="980"/>
                </a:lnTo>
                <a:lnTo>
                  <a:pt x="5393" y="967"/>
                </a:lnTo>
                <a:lnTo>
                  <a:pt x="5396" y="953"/>
                </a:lnTo>
                <a:lnTo>
                  <a:pt x="5399" y="938"/>
                </a:lnTo>
                <a:lnTo>
                  <a:pt x="5402" y="923"/>
                </a:lnTo>
                <a:lnTo>
                  <a:pt x="5405" y="907"/>
                </a:lnTo>
                <a:lnTo>
                  <a:pt x="5407" y="891"/>
                </a:lnTo>
                <a:lnTo>
                  <a:pt x="5411" y="876"/>
                </a:lnTo>
                <a:lnTo>
                  <a:pt x="5414" y="860"/>
                </a:lnTo>
                <a:lnTo>
                  <a:pt x="5416" y="843"/>
                </a:lnTo>
                <a:lnTo>
                  <a:pt x="5419" y="828"/>
                </a:lnTo>
                <a:lnTo>
                  <a:pt x="5422" y="811"/>
                </a:lnTo>
                <a:lnTo>
                  <a:pt x="5425" y="796"/>
                </a:lnTo>
                <a:lnTo>
                  <a:pt x="5428" y="779"/>
                </a:lnTo>
                <a:lnTo>
                  <a:pt x="5431" y="763"/>
                </a:lnTo>
                <a:lnTo>
                  <a:pt x="5434" y="748"/>
                </a:lnTo>
                <a:lnTo>
                  <a:pt x="5436" y="732"/>
                </a:lnTo>
                <a:lnTo>
                  <a:pt x="5440" y="718"/>
                </a:lnTo>
                <a:lnTo>
                  <a:pt x="5443" y="702"/>
                </a:lnTo>
                <a:lnTo>
                  <a:pt x="5445" y="687"/>
                </a:lnTo>
                <a:lnTo>
                  <a:pt x="5449" y="674"/>
                </a:lnTo>
                <a:lnTo>
                  <a:pt x="5451" y="660"/>
                </a:lnTo>
                <a:lnTo>
                  <a:pt x="5454" y="647"/>
                </a:lnTo>
                <a:lnTo>
                  <a:pt x="5457" y="635"/>
                </a:lnTo>
                <a:lnTo>
                  <a:pt x="5460" y="623"/>
                </a:lnTo>
                <a:lnTo>
                  <a:pt x="5463" y="612"/>
                </a:lnTo>
                <a:lnTo>
                  <a:pt x="5465" y="601"/>
                </a:lnTo>
                <a:lnTo>
                  <a:pt x="5469" y="591"/>
                </a:lnTo>
                <a:lnTo>
                  <a:pt x="5472" y="582"/>
                </a:lnTo>
                <a:lnTo>
                  <a:pt x="5474" y="573"/>
                </a:lnTo>
                <a:lnTo>
                  <a:pt x="5478" y="566"/>
                </a:lnTo>
                <a:lnTo>
                  <a:pt x="5480" y="558"/>
                </a:lnTo>
                <a:lnTo>
                  <a:pt x="5483" y="553"/>
                </a:lnTo>
                <a:lnTo>
                  <a:pt x="5485" y="547"/>
                </a:lnTo>
                <a:lnTo>
                  <a:pt x="5489" y="543"/>
                </a:lnTo>
                <a:lnTo>
                  <a:pt x="5492" y="539"/>
                </a:lnTo>
                <a:lnTo>
                  <a:pt x="5494" y="537"/>
                </a:lnTo>
                <a:lnTo>
                  <a:pt x="5498" y="535"/>
                </a:lnTo>
                <a:lnTo>
                  <a:pt x="5500" y="534"/>
                </a:lnTo>
                <a:lnTo>
                  <a:pt x="5503" y="534"/>
                </a:lnTo>
                <a:lnTo>
                  <a:pt x="5507" y="535"/>
                </a:lnTo>
                <a:lnTo>
                  <a:pt x="5509" y="536"/>
                </a:lnTo>
                <a:lnTo>
                  <a:pt x="5512" y="539"/>
                </a:lnTo>
                <a:lnTo>
                  <a:pt x="5514" y="543"/>
                </a:lnTo>
                <a:lnTo>
                  <a:pt x="5518" y="547"/>
                </a:lnTo>
                <a:lnTo>
                  <a:pt x="5521" y="552"/>
                </a:lnTo>
                <a:lnTo>
                  <a:pt x="5523" y="558"/>
                </a:lnTo>
                <a:lnTo>
                  <a:pt x="5527" y="565"/>
                </a:lnTo>
                <a:lnTo>
                  <a:pt x="5529" y="572"/>
                </a:lnTo>
                <a:lnTo>
                  <a:pt x="5532" y="580"/>
                </a:lnTo>
                <a:lnTo>
                  <a:pt x="5536" y="589"/>
                </a:lnTo>
                <a:lnTo>
                  <a:pt x="5538" y="599"/>
                </a:lnTo>
                <a:lnTo>
                  <a:pt x="5541" y="609"/>
                </a:lnTo>
                <a:lnTo>
                  <a:pt x="5543" y="621"/>
                </a:lnTo>
                <a:lnTo>
                  <a:pt x="5547" y="632"/>
                </a:lnTo>
                <a:lnTo>
                  <a:pt x="5550" y="644"/>
                </a:lnTo>
                <a:lnTo>
                  <a:pt x="5552" y="656"/>
                </a:lnTo>
                <a:lnTo>
                  <a:pt x="5556" y="670"/>
                </a:lnTo>
                <a:lnTo>
                  <a:pt x="5558" y="683"/>
                </a:lnTo>
                <a:lnTo>
                  <a:pt x="5561" y="697"/>
                </a:lnTo>
                <a:lnTo>
                  <a:pt x="5563" y="711"/>
                </a:lnTo>
                <a:lnTo>
                  <a:pt x="5567" y="726"/>
                </a:lnTo>
                <a:lnTo>
                  <a:pt x="5570" y="741"/>
                </a:lnTo>
                <a:lnTo>
                  <a:pt x="5572" y="755"/>
                </a:lnTo>
                <a:lnTo>
                  <a:pt x="5576" y="771"/>
                </a:lnTo>
                <a:lnTo>
                  <a:pt x="5578" y="787"/>
                </a:lnTo>
                <a:lnTo>
                  <a:pt x="5581" y="802"/>
                </a:lnTo>
                <a:lnTo>
                  <a:pt x="5585" y="817"/>
                </a:lnTo>
                <a:lnTo>
                  <a:pt x="5587" y="832"/>
                </a:lnTo>
                <a:lnTo>
                  <a:pt x="5590" y="848"/>
                </a:lnTo>
                <a:lnTo>
                  <a:pt x="5592" y="862"/>
                </a:lnTo>
                <a:lnTo>
                  <a:pt x="5596" y="878"/>
                </a:lnTo>
                <a:lnTo>
                  <a:pt x="5599" y="892"/>
                </a:lnTo>
                <a:lnTo>
                  <a:pt x="5601" y="907"/>
                </a:lnTo>
                <a:lnTo>
                  <a:pt x="5605" y="921"/>
                </a:lnTo>
                <a:lnTo>
                  <a:pt x="5607" y="935"/>
                </a:lnTo>
                <a:lnTo>
                  <a:pt x="5610" y="948"/>
                </a:lnTo>
                <a:lnTo>
                  <a:pt x="5614" y="962"/>
                </a:lnTo>
                <a:lnTo>
                  <a:pt x="5616" y="974"/>
                </a:lnTo>
                <a:lnTo>
                  <a:pt x="5619" y="986"/>
                </a:lnTo>
                <a:lnTo>
                  <a:pt x="5621" y="997"/>
                </a:lnTo>
                <a:lnTo>
                  <a:pt x="5625" y="1008"/>
                </a:lnTo>
                <a:lnTo>
                  <a:pt x="5628" y="1018"/>
                </a:lnTo>
                <a:lnTo>
                  <a:pt x="5630" y="1028"/>
                </a:lnTo>
                <a:lnTo>
                  <a:pt x="5634" y="1036"/>
                </a:lnTo>
                <a:lnTo>
                  <a:pt x="5636" y="1045"/>
                </a:lnTo>
                <a:lnTo>
                  <a:pt x="5639" y="1052"/>
                </a:lnTo>
                <a:lnTo>
                  <a:pt x="5643" y="1058"/>
                </a:lnTo>
                <a:lnTo>
                  <a:pt x="5645" y="1064"/>
                </a:lnTo>
                <a:lnTo>
                  <a:pt x="5648" y="1070"/>
                </a:lnTo>
                <a:lnTo>
                  <a:pt x="5650" y="1073"/>
                </a:lnTo>
                <a:lnTo>
                  <a:pt x="5654" y="1076"/>
                </a:lnTo>
                <a:lnTo>
                  <a:pt x="5656" y="1078"/>
                </a:lnTo>
                <a:lnTo>
                  <a:pt x="5659" y="1081"/>
                </a:lnTo>
                <a:lnTo>
                  <a:pt x="5663" y="1081"/>
                </a:lnTo>
                <a:lnTo>
                  <a:pt x="5665" y="1081"/>
                </a:lnTo>
                <a:lnTo>
                  <a:pt x="5668" y="1080"/>
                </a:lnTo>
                <a:lnTo>
                  <a:pt x="5670" y="1077"/>
                </a:lnTo>
                <a:lnTo>
                  <a:pt x="5674" y="1075"/>
                </a:lnTo>
                <a:lnTo>
                  <a:pt x="5677" y="1071"/>
                </a:lnTo>
                <a:lnTo>
                  <a:pt x="5679" y="1066"/>
                </a:lnTo>
                <a:lnTo>
                  <a:pt x="5683" y="1061"/>
                </a:lnTo>
                <a:lnTo>
                  <a:pt x="5685" y="1055"/>
                </a:lnTo>
                <a:lnTo>
                  <a:pt x="5688" y="1047"/>
                </a:lnTo>
                <a:lnTo>
                  <a:pt x="5692" y="1039"/>
                </a:lnTo>
                <a:lnTo>
                  <a:pt x="5694" y="1031"/>
                </a:lnTo>
                <a:lnTo>
                  <a:pt x="5697" y="1022"/>
                </a:lnTo>
                <a:lnTo>
                  <a:pt x="5700" y="1012"/>
                </a:lnTo>
                <a:lnTo>
                  <a:pt x="5703" y="1001"/>
                </a:lnTo>
                <a:lnTo>
                  <a:pt x="5706" y="989"/>
                </a:lnTo>
                <a:lnTo>
                  <a:pt x="5708" y="977"/>
                </a:lnTo>
                <a:lnTo>
                  <a:pt x="5712" y="965"/>
                </a:lnTo>
                <a:lnTo>
                  <a:pt x="5714" y="951"/>
                </a:lnTo>
                <a:lnTo>
                  <a:pt x="5717" y="938"/>
                </a:lnTo>
                <a:lnTo>
                  <a:pt x="5721" y="924"/>
                </a:lnTo>
                <a:lnTo>
                  <a:pt x="5723" y="909"/>
                </a:lnTo>
                <a:lnTo>
                  <a:pt x="5726" y="894"/>
                </a:lnTo>
                <a:lnTo>
                  <a:pt x="5729" y="879"/>
                </a:lnTo>
                <a:lnTo>
                  <a:pt x="5732" y="863"/>
                </a:lnTo>
                <a:lnTo>
                  <a:pt x="5735" y="848"/>
                </a:lnTo>
                <a:lnTo>
                  <a:pt x="5737" y="831"/>
                </a:lnTo>
                <a:lnTo>
                  <a:pt x="5741" y="816"/>
                </a:lnTo>
                <a:lnTo>
                  <a:pt x="5743" y="799"/>
                </a:lnTo>
                <a:lnTo>
                  <a:pt x="5746" y="783"/>
                </a:lnTo>
                <a:lnTo>
                  <a:pt x="5749" y="767"/>
                </a:lnTo>
                <a:lnTo>
                  <a:pt x="5752" y="751"/>
                </a:lnTo>
                <a:lnTo>
                  <a:pt x="5755" y="735"/>
                </a:lnTo>
                <a:lnTo>
                  <a:pt x="5758" y="719"/>
                </a:lnTo>
                <a:lnTo>
                  <a:pt x="5761" y="704"/>
                </a:lnTo>
                <a:lnTo>
                  <a:pt x="5763" y="689"/>
                </a:lnTo>
                <a:lnTo>
                  <a:pt x="5766" y="673"/>
                </a:lnTo>
                <a:lnTo>
                  <a:pt x="5770" y="658"/>
                </a:lnTo>
                <a:lnTo>
                  <a:pt x="5772" y="645"/>
                </a:lnTo>
                <a:lnTo>
                  <a:pt x="5775" y="631"/>
                </a:lnTo>
                <a:lnTo>
                  <a:pt x="5778" y="617"/>
                </a:lnTo>
                <a:lnTo>
                  <a:pt x="5781" y="605"/>
                </a:lnTo>
                <a:lnTo>
                  <a:pt x="5784" y="593"/>
                </a:lnTo>
                <a:lnTo>
                  <a:pt x="5787" y="582"/>
                </a:lnTo>
                <a:lnTo>
                  <a:pt x="5790" y="572"/>
                </a:lnTo>
                <a:lnTo>
                  <a:pt x="5792" y="562"/>
                </a:lnTo>
                <a:lnTo>
                  <a:pt x="5795" y="552"/>
                </a:lnTo>
                <a:lnTo>
                  <a:pt x="5799" y="544"/>
                </a:lnTo>
                <a:lnTo>
                  <a:pt x="5801" y="536"/>
                </a:lnTo>
                <a:lnTo>
                  <a:pt x="5804" y="529"/>
                </a:lnTo>
                <a:lnTo>
                  <a:pt x="5807" y="524"/>
                </a:lnTo>
                <a:lnTo>
                  <a:pt x="5810" y="518"/>
                </a:lnTo>
                <a:lnTo>
                  <a:pt x="5813" y="515"/>
                </a:lnTo>
                <a:lnTo>
                  <a:pt x="5816" y="511"/>
                </a:lnTo>
                <a:lnTo>
                  <a:pt x="5819" y="509"/>
                </a:lnTo>
                <a:lnTo>
                  <a:pt x="5821" y="508"/>
                </a:lnTo>
                <a:lnTo>
                  <a:pt x="5824" y="507"/>
                </a:lnTo>
                <a:lnTo>
                  <a:pt x="5828" y="508"/>
                </a:lnTo>
                <a:lnTo>
                  <a:pt x="5830" y="510"/>
                </a:lnTo>
                <a:lnTo>
                  <a:pt x="5833" y="513"/>
                </a:lnTo>
                <a:lnTo>
                  <a:pt x="5836" y="516"/>
                </a:lnTo>
                <a:lnTo>
                  <a:pt x="5839" y="520"/>
                </a:lnTo>
                <a:lnTo>
                  <a:pt x="5841" y="526"/>
                </a:lnTo>
                <a:lnTo>
                  <a:pt x="5845" y="533"/>
                </a:lnTo>
                <a:lnTo>
                  <a:pt x="5848" y="540"/>
                </a:lnTo>
                <a:lnTo>
                  <a:pt x="5850" y="548"/>
                </a:lnTo>
                <a:lnTo>
                  <a:pt x="5853" y="557"/>
                </a:lnTo>
                <a:lnTo>
                  <a:pt x="5856" y="567"/>
                </a:lnTo>
                <a:lnTo>
                  <a:pt x="5859" y="578"/>
                </a:lnTo>
                <a:lnTo>
                  <a:pt x="5862" y="591"/>
                </a:lnTo>
                <a:lnTo>
                  <a:pt x="5865" y="603"/>
                </a:lnTo>
                <a:lnTo>
                  <a:pt x="5868" y="616"/>
                </a:lnTo>
                <a:lnTo>
                  <a:pt x="5870" y="630"/>
                </a:lnTo>
                <a:lnTo>
                  <a:pt x="5874" y="644"/>
                </a:lnTo>
                <a:lnTo>
                  <a:pt x="5877" y="660"/>
                </a:lnTo>
                <a:lnTo>
                  <a:pt x="5879" y="675"/>
                </a:lnTo>
                <a:lnTo>
                  <a:pt x="5882" y="691"/>
                </a:lnTo>
                <a:lnTo>
                  <a:pt x="5885" y="707"/>
                </a:lnTo>
                <a:lnTo>
                  <a:pt x="5888" y="724"/>
                </a:lnTo>
                <a:lnTo>
                  <a:pt x="5891" y="742"/>
                </a:lnTo>
                <a:lnTo>
                  <a:pt x="5894" y="760"/>
                </a:lnTo>
                <a:lnTo>
                  <a:pt x="5897" y="778"/>
                </a:lnTo>
                <a:lnTo>
                  <a:pt x="5899" y="796"/>
                </a:lnTo>
                <a:lnTo>
                  <a:pt x="5903" y="814"/>
                </a:lnTo>
                <a:lnTo>
                  <a:pt x="5906" y="832"/>
                </a:lnTo>
                <a:lnTo>
                  <a:pt x="5908" y="851"/>
                </a:lnTo>
                <a:lnTo>
                  <a:pt x="5911" y="869"/>
                </a:lnTo>
                <a:lnTo>
                  <a:pt x="5914" y="888"/>
                </a:lnTo>
                <a:lnTo>
                  <a:pt x="5917" y="906"/>
                </a:lnTo>
                <a:lnTo>
                  <a:pt x="5920" y="924"/>
                </a:lnTo>
                <a:lnTo>
                  <a:pt x="5923" y="941"/>
                </a:lnTo>
                <a:lnTo>
                  <a:pt x="5926" y="959"/>
                </a:lnTo>
                <a:lnTo>
                  <a:pt x="5928" y="976"/>
                </a:lnTo>
                <a:lnTo>
                  <a:pt x="5932" y="993"/>
                </a:lnTo>
                <a:lnTo>
                  <a:pt x="5934" y="1008"/>
                </a:lnTo>
                <a:lnTo>
                  <a:pt x="5937" y="1024"/>
                </a:lnTo>
                <a:lnTo>
                  <a:pt x="5940" y="1038"/>
                </a:lnTo>
                <a:lnTo>
                  <a:pt x="5943" y="1053"/>
                </a:lnTo>
                <a:lnTo>
                  <a:pt x="5946" y="1066"/>
                </a:lnTo>
                <a:lnTo>
                  <a:pt x="5948" y="1078"/>
                </a:lnTo>
                <a:lnTo>
                  <a:pt x="5952" y="1091"/>
                </a:lnTo>
                <a:lnTo>
                  <a:pt x="5955" y="1102"/>
                </a:lnTo>
                <a:lnTo>
                  <a:pt x="5957" y="1112"/>
                </a:lnTo>
                <a:lnTo>
                  <a:pt x="5961" y="1121"/>
                </a:lnTo>
                <a:lnTo>
                  <a:pt x="5963" y="1129"/>
                </a:lnTo>
                <a:lnTo>
                  <a:pt x="5966" y="1136"/>
                </a:lnTo>
                <a:lnTo>
                  <a:pt x="5969" y="1142"/>
                </a:lnTo>
                <a:lnTo>
                  <a:pt x="5972" y="1148"/>
                </a:lnTo>
                <a:lnTo>
                  <a:pt x="5975" y="1152"/>
                </a:lnTo>
                <a:lnTo>
                  <a:pt x="5977" y="1154"/>
                </a:lnTo>
                <a:lnTo>
                  <a:pt x="5981" y="1156"/>
                </a:lnTo>
                <a:lnTo>
                  <a:pt x="5984" y="1158"/>
                </a:lnTo>
                <a:lnTo>
                  <a:pt x="5986" y="1156"/>
                </a:lnTo>
                <a:lnTo>
                  <a:pt x="5990" y="1155"/>
                </a:lnTo>
                <a:lnTo>
                  <a:pt x="5992" y="1153"/>
                </a:lnTo>
                <a:lnTo>
                  <a:pt x="5995" y="1149"/>
                </a:lnTo>
                <a:lnTo>
                  <a:pt x="5998" y="1144"/>
                </a:lnTo>
                <a:lnTo>
                  <a:pt x="6001" y="1138"/>
                </a:lnTo>
                <a:lnTo>
                  <a:pt x="6004" y="1131"/>
                </a:lnTo>
                <a:lnTo>
                  <a:pt x="6006" y="1122"/>
                </a:lnTo>
                <a:lnTo>
                  <a:pt x="6010" y="1113"/>
                </a:lnTo>
                <a:lnTo>
                  <a:pt x="6012" y="1103"/>
                </a:lnTo>
                <a:lnTo>
                  <a:pt x="6015" y="1091"/>
                </a:lnTo>
                <a:lnTo>
                  <a:pt x="6019" y="1078"/>
                </a:lnTo>
                <a:lnTo>
                  <a:pt x="6021" y="1065"/>
                </a:lnTo>
                <a:lnTo>
                  <a:pt x="6024" y="1051"/>
                </a:lnTo>
                <a:lnTo>
                  <a:pt x="6026" y="1035"/>
                </a:lnTo>
                <a:lnTo>
                  <a:pt x="6030" y="1019"/>
                </a:lnTo>
                <a:lnTo>
                  <a:pt x="6033" y="1003"/>
                </a:lnTo>
                <a:lnTo>
                  <a:pt x="6035" y="985"/>
                </a:lnTo>
                <a:lnTo>
                  <a:pt x="6039" y="966"/>
                </a:lnTo>
                <a:lnTo>
                  <a:pt x="6041" y="947"/>
                </a:lnTo>
                <a:lnTo>
                  <a:pt x="6044" y="928"/>
                </a:lnTo>
                <a:lnTo>
                  <a:pt x="6048" y="908"/>
                </a:lnTo>
                <a:lnTo>
                  <a:pt x="6050" y="887"/>
                </a:lnTo>
                <a:lnTo>
                  <a:pt x="6053" y="867"/>
                </a:lnTo>
                <a:lnTo>
                  <a:pt x="6055" y="846"/>
                </a:lnTo>
                <a:lnTo>
                  <a:pt x="6059" y="823"/>
                </a:lnTo>
                <a:lnTo>
                  <a:pt x="6062" y="802"/>
                </a:lnTo>
                <a:lnTo>
                  <a:pt x="6064" y="780"/>
                </a:lnTo>
                <a:lnTo>
                  <a:pt x="6068" y="759"/>
                </a:lnTo>
                <a:lnTo>
                  <a:pt x="6070" y="736"/>
                </a:lnTo>
                <a:lnTo>
                  <a:pt x="6073" y="714"/>
                </a:lnTo>
                <a:lnTo>
                  <a:pt x="6077" y="693"/>
                </a:lnTo>
                <a:lnTo>
                  <a:pt x="6079" y="672"/>
                </a:lnTo>
                <a:lnTo>
                  <a:pt x="6082" y="651"/>
                </a:lnTo>
                <a:lnTo>
                  <a:pt x="6084" y="630"/>
                </a:lnTo>
                <a:lnTo>
                  <a:pt x="6088" y="609"/>
                </a:lnTo>
                <a:lnTo>
                  <a:pt x="6091" y="589"/>
                </a:lnTo>
                <a:lnTo>
                  <a:pt x="6093" y="570"/>
                </a:lnTo>
                <a:lnTo>
                  <a:pt x="6097" y="552"/>
                </a:lnTo>
                <a:lnTo>
                  <a:pt x="6099" y="534"/>
                </a:lnTo>
                <a:lnTo>
                  <a:pt x="6102" y="517"/>
                </a:lnTo>
                <a:lnTo>
                  <a:pt x="6104" y="501"/>
                </a:lnTo>
                <a:lnTo>
                  <a:pt x="6108" y="486"/>
                </a:lnTo>
                <a:lnTo>
                  <a:pt x="6111" y="471"/>
                </a:lnTo>
                <a:lnTo>
                  <a:pt x="6113" y="458"/>
                </a:lnTo>
                <a:lnTo>
                  <a:pt x="6117" y="446"/>
                </a:lnTo>
                <a:lnTo>
                  <a:pt x="6119" y="435"/>
                </a:lnTo>
                <a:lnTo>
                  <a:pt x="6122" y="425"/>
                </a:lnTo>
                <a:lnTo>
                  <a:pt x="6126" y="416"/>
                </a:lnTo>
                <a:lnTo>
                  <a:pt x="6128" y="408"/>
                </a:lnTo>
                <a:lnTo>
                  <a:pt x="6131" y="401"/>
                </a:lnTo>
                <a:lnTo>
                  <a:pt x="6133" y="397"/>
                </a:lnTo>
                <a:lnTo>
                  <a:pt x="6137" y="392"/>
                </a:lnTo>
                <a:lnTo>
                  <a:pt x="6140" y="390"/>
                </a:lnTo>
                <a:lnTo>
                  <a:pt x="6142" y="389"/>
                </a:lnTo>
                <a:lnTo>
                  <a:pt x="6146" y="389"/>
                </a:lnTo>
                <a:lnTo>
                  <a:pt x="6148" y="391"/>
                </a:lnTo>
                <a:lnTo>
                  <a:pt x="6151" y="393"/>
                </a:lnTo>
                <a:lnTo>
                  <a:pt x="6155" y="398"/>
                </a:lnTo>
                <a:lnTo>
                  <a:pt x="6157" y="403"/>
                </a:lnTo>
                <a:lnTo>
                  <a:pt x="6160" y="411"/>
                </a:lnTo>
                <a:lnTo>
                  <a:pt x="6162" y="419"/>
                </a:lnTo>
                <a:lnTo>
                  <a:pt x="6166" y="429"/>
                </a:lnTo>
                <a:lnTo>
                  <a:pt x="6169" y="440"/>
                </a:lnTo>
                <a:lnTo>
                  <a:pt x="6171" y="452"/>
                </a:lnTo>
                <a:lnTo>
                  <a:pt x="6175" y="466"/>
                </a:lnTo>
                <a:lnTo>
                  <a:pt x="6177" y="481"/>
                </a:lnTo>
                <a:lnTo>
                  <a:pt x="6180" y="497"/>
                </a:lnTo>
                <a:lnTo>
                  <a:pt x="6184" y="514"/>
                </a:lnTo>
                <a:lnTo>
                  <a:pt x="6186" y="531"/>
                </a:lnTo>
                <a:lnTo>
                  <a:pt x="6189" y="552"/>
                </a:lnTo>
                <a:lnTo>
                  <a:pt x="6191" y="572"/>
                </a:lnTo>
                <a:lnTo>
                  <a:pt x="6195" y="593"/>
                </a:lnTo>
                <a:lnTo>
                  <a:pt x="6197" y="614"/>
                </a:lnTo>
                <a:lnTo>
                  <a:pt x="6200" y="636"/>
                </a:lnTo>
                <a:lnTo>
                  <a:pt x="6204" y="660"/>
                </a:lnTo>
                <a:lnTo>
                  <a:pt x="6206" y="684"/>
                </a:lnTo>
                <a:lnTo>
                  <a:pt x="6209" y="709"/>
                </a:lnTo>
                <a:lnTo>
                  <a:pt x="6212" y="733"/>
                </a:lnTo>
                <a:lnTo>
                  <a:pt x="6215" y="759"/>
                </a:lnTo>
                <a:lnTo>
                  <a:pt x="6218" y="784"/>
                </a:lnTo>
                <a:lnTo>
                  <a:pt x="6220" y="811"/>
                </a:lnTo>
                <a:lnTo>
                  <a:pt x="6224" y="837"/>
                </a:lnTo>
                <a:lnTo>
                  <a:pt x="6226" y="863"/>
                </a:lnTo>
                <a:lnTo>
                  <a:pt x="6229" y="889"/>
                </a:lnTo>
                <a:lnTo>
                  <a:pt x="6233" y="916"/>
                </a:lnTo>
                <a:lnTo>
                  <a:pt x="6235" y="941"/>
                </a:lnTo>
                <a:lnTo>
                  <a:pt x="6238" y="967"/>
                </a:lnTo>
                <a:lnTo>
                  <a:pt x="6241" y="992"/>
                </a:lnTo>
                <a:lnTo>
                  <a:pt x="6244" y="1017"/>
                </a:lnTo>
                <a:lnTo>
                  <a:pt x="6247" y="1042"/>
                </a:lnTo>
                <a:lnTo>
                  <a:pt x="6249" y="1065"/>
                </a:lnTo>
                <a:lnTo>
                  <a:pt x="6253" y="1087"/>
                </a:lnTo>
                <a:lnTo>
                  <a:pt x="6255" y="1110"/>
                </a:lnTo>
                <a:lnTo>
                  <a:pt x="6258" y="1132"/>
                </a:lnTo>
                <a:lnTo>
                  <a:pt x="6262" y="1152"/>
                </a:lnTo>
                <a:lnTo>
                  <a:pt x="6264" y="1171"/>
                </a:lnTo>
                <a:lnTo>
                  <a:pt x="6267" y="1190"/>
                </a:lnTo>
                <a:lnTo>
                  <a:pt x="6270" y="1207"/>
                </a:lnTo>
                <a:lnTo>
                  <a:pt x="6273" y="1223"/>
                </a:lnTo>
                <a:lnTo>
                  <a:pt x="6276" y="1238"/>
                </a:lnTo>
                <a:lnTo>
                  <a:pt x="6278" y="1251"/>
                </a:lnTo>
                <a:lnTo>
                  <a:pt x="6282" y="1263"/>
                </a:lnTo>
                <a:lnTo>
                  <a:pt x="6284" y="1275"/>
                </a:lnTo>
                <a:lnTo>
                  <a:pt x="6287" y="1283"/>
                </a:lnTo>
                <a:lnTo>
                  <a:pt x="6290" y="1291"/>
                </a:lnTo>
                <a:lnTo>
                  <a:pt x="6293" y="1297"/>
                </a:lnTo>
                <a:lnTo>
                  <a:pt x="6296" y="1301"/>
                </a:lnTo>
                <a:lnTo>
                  <a:pt x="6299" y="1305"/>
                </a:lnTo>
                <a:lnTo>
                  <a:pt x="6302" y="1306"/>
                </a:lnTo>
                <a:lnTo>
                  <a:pt x="6304" y="1306"/>
                </a:lnTo>
                <a:lnTo>
                  <a:pt x="6307" y="1305"/>
                </a:lnTo>
                <a:lnTo>
                  <a:pt x="6311" y="1300"/>
                </a:lnTo>
                <a:lnTo>
                  <a:pt x="6313" y="1296"/>
                </a:lnTo>
                <a:lnTo>
                  <a:pt x="6316" y="1289"/>
                </a:lnTo>
                <a:lnTo>
                  <a:pt x="6319" y="1280"/>
                </a:lnTo>
                <a:lnTo>
                  <a:pt x="6322" y="1270"/>
                </a:lnTo>
                <a:lnTo>
                  <a:pt x="6325" y="1259"/>
                </a:lnTo>
                <a:lnTo>
                  <a:pt x="6328" y="1246"/>
                </a:lnTo>
                <a:lnTo>
                  <a:pt x="6331" y="1231"/>
                </a:lnTo>
                <a:lnTo>
                  <a:pt x="6333" y="1216"/>
                </a:lnTo>
                <a:lnTo>
                  <a:pt x="6336" y="1198"/>
                </a:lnTo>
                <a:lnTo>
                  <a:pt x="6340" y="1179"/>
                </a:lnTo>
                <a:lnTo>
                  <a:pt x="6342" y="1159"/>
                </a:lnTo>
                <a:lnTo>
                  <a:pt x="6345" y="1138"/>
                </a:lnTo>
                <a:lnTo>
                  <a:pt x="6348" y="1114"/>
                </a:lnTo>
                <a:lnTo>
                  <a:pt x="6351" y="1091"/>
                </a:lnTo>
                <a:lnTo>
                  <a:pt x="6354" y="1066"/>
                </a:lnTo>
                <a:lnTo>
                  <a:pt x="6357" y="1039"/>
                </a:lnTo>
                <a:lnTo>
                  <a:pt x="6360" y="1013"/>
                </a:lnTo>
                <a:lnTo>
                  <a:pt x="6362" y="986"/>
                </a:lnTo>
                <a:lnTo>
                  <a:pt x="6365" y="957"/>
                </a:lnTo>
                <a:lnTo>
                  <a:pt x="6368" y="928"/>
                </a:lnTo>
                <a:lnTo>
                  <a:pt x="6371" y="899"/>
                </a:lnTo>
                <a:lnTo>
                  <a:pt x="6374" y="869"/>
                </a:lnTo>
                <a:lnTo>
                  <a:pt x="6377" y="838"/>
                </a:lnTo>
                <a:lnTo>
                  <a:pt x="6380" y="808"/>
                </a:lnTo>
                <a:lnTo>
                  <a:pt x="6380" y="80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1785960" y="1409760"/>
            <a:ext cx="5838840" cy="493560"/>
          </a:xfrm>
          <a:custGeom>
            <a:avLst/>
            <a:gdLst/>
            <a:ahLst/>
            <a:rect l="l" t="t" r="r" b="b"/>
            <a:pathLst>
              <a:path w="6380" h="540">
                <a:moveTo>
                  <a:pt x="0" y="270"/>
                </a:moveTo>
                <a:lnTo>
                  <a:pt x="3" y="268"/>
                </a:lnTo>
                <a:lnTo>
                  <a:pt x="6" y="267"/>
                </a:lnTo>
                <a:lnTo>
                  <a:pt x="9" y="265"/>
                </a:lnTo>
                <a:lnTo>
                  <a:pt x="11" y="264"/>
                </a:lnTo>
                <a:lnTo>
                  <a:pt x="15" y="263"/>
                </a:lnTo>
                <a:lnTo>
                  <a:pt x="18" y="260"/>
                </a:lnTo>
                <a:lnTo>
                  <a:pt x="20" y="259"/>
                </a:lnTo>
                <a:lnTo>
                  <a:pt x="24" y="257"/>
                </a:lnTo>
                <a:lnTo>
                  <a:pt x="26" y="256"/>
                </a:lnTo>
                <a:lnTo>
                  <a:pt x="29" y="255"/>
                </a:lnTo>
                <a:lnTo>
                  <a:pt x="32" y="253"/>
                </a:lnTo>
                <a:lnTo>
                  <a:pt x="35" y="251"/>
                </a:lnTo>
                <a:lnTo>
                  <a:pt x="38" y="250"/>
                </a:lnTo>
                <a:lnTo>
                  <a:pt x="40" y="248"/>
                </a:lnTo>
                <a:lnTo>
                  <a:pt x="44" y="247"/>
                </a:lnTo>
                <a:lnTo>
                  <a:pt x="47" y="245"/>
                </a:lnTo>
                <a:lnTo>
                  <a:pt x="49" y="244"/>
                </a:lnTo>
                <a:lnTo>
                  <a:pt x="53" y="243"/>
                </a:lnTo>
                <a:lnTo>
                  <a:pt x="55" y="240"/>
                </a:lnTo>
                <a:lnTo>
                  <a:pt x="58" y="239"/>
                </a:lnTo>
                <a:lnTo>
                  <a:pt x="61" y="238"/>
                </a:lnTo>
                <a:lnTo>
                  <a:pt x="64" y="236"/>
                </a:lnTo>
                <a:lnTo>
                  <a:pt x="67" y="235"/>
                </a:lnTo>
                <a:lnTo>
                  <a:pt x="69" y="233"/>
                </a:lnTo>
                <a:lnTo>
                  <a:pt x="73" y="231"/>
                </a:lnTo>
                <a:lnTo>
                  <a:pt x="76" y="230"/>
                </a:lnTo>
                <a:lnTo>
                  <a:pt x="78" y="228"/>
                </a:lnTo>
                <a:lnTo>
                  <a:pt x="82" y="227"/>
                </a:lnTo>
                <a:lnTo>
                  <a:pt x="84" y="226"/>
                </a:lnTo>
                <a:lnTo>
                  <a:pt x="87" y="224"/>
                </a:lnTo>
                <a:lnTo>
                  <a:pt x="90" y="223"/>
                </a:lnTo>
                <a:lnTo>
                  <a:pt x="93" y="221"/>
                </a:lnTo>
                <a:lnTo>
                  <a:pt x="96" y="219"/>
                </a:lnTo>
                <a:lnTo>
                  <a:pt x="98" y="218"/>
                </a:lnTo>
                <a:lnTo>
                  <a:pt x="102" y="216"/>
                </a:lnTo>
                <a:lnTo>
                  <a:pt x="104" y="215"/>
                </a:lnTo>
                <a:lnTo>
                  <a:pt x="107" y="214"/>
                </a:lnTo>
                <a:lnTo>
                  <a:pt x="111" y="211"/>
                </a:lnTo>
                <a:lnTo>
                  <a:pt x="113" y="210"/>
                </a:lnTo>
                <a:lnTo>
                  <a:pt x="116" y="209"/>
                </a:lnTo>
                <a:lnTo>
                  <a:pt x="118" y="207"/>
                </a:lnTo>
                <a:lnTo>
                  <a:pt x="122" y="206"/>
                </a:lnTo>
                <a:lnTo>
                  <a:pt x="125" y="205"/>
                </a:lnTo>
                <a:lnTo>
                  <a:pt x="127" y="202"/>
                </a:lnTo>
                <a:lnTo>
                  <a:pt x="131" y="201"/>
                </a:lnTo>
                <a:lnTo>
                  <a:pt x="133" y="200"/>
                </a:lnTo>
                <a:lnTo>
                  <a:pt x="136" y="198"/>
                </a:lnTo>
                <a:lnTo>
                  <a:pt x="140" y="197"/>
                </a:lnTo>
                <a:lnTo>
                  <a:pt x="142" y="196"/>
                </a:lnTo>
                <a:lnTo>
                  <a:pt x="145" y="194"/>
                </a:lnTo>
                <a:lnTo>
                  <a:pt x="147" y="192"/>
                </a:lnTo>
                <a:lnTo>
                  <a:pt x="151" y="191"/>
                </a:lnTo>
                <a:lnTo>
                  <a:pt x="154" y="189"/>
                </a:lnTo>
                <a:lnTo>
                  <a:pt x="156" y="188"/>
                </a:lnTo>
                <a:lnTo>
                  <a:pt x="160" y="187"/>
                </a:lnTo>
                <a:lnTo>
                  <a:pt x="162" y="185"/>
                </a:lnTo>
                <a:lnTo>
                  <a:pt x="165" y="184"/>
                </a:lnTo>
                <a:lnTo>
                  <a:pt x="169" y="182"/>
                </a:lnTo>
                <a:lnTo>
                  <a:pt x="171" y="180"/>
                </a:lnTo>
                <a:lnTo>
                  <a:pt x="174" y="179"/>
                </a:lnTo>
                <a:lnTo>
                  <a:pt x="176" y="178"/>
                </a:lnTo>
                <a:lnTo>
                  <a:pt x="180" y="177"/>
                </a:lnTo>
                <a:lnTo>
                  <a:pt x="183" y="175"/>
                </a:lnTo>
                <a:lnTo>
                  <a:pt x="185" y="173"/>
                </a:lnTo>
                <a:lnTo>
                  <a:pt x="189" y="172"/>
                </a:lnTo>
                <a:lnTo>
                  <a:pt x="191" y="170"/>
                </a:lnTo>
                <a:lnTo>
                  <a:pt x="194" y="169"/>
                </a:lnTo>
                <a:lnTo>
                  <a:pt x="196" y="168"/>
                </a:lnTo>
                <a:lnTo>
                  <a:pt x="200" y="167"/>
                </a:lnTo>
                <a:lnTo>
                  <a:pt x="203" y="165"/>
                </a:lnTo>
                <a:lnTo>
                  <a:pt x="205" y="163"/>
                </a:lnTo>
                <a:lnTo>
                  <a:pt x="209" y="162"/>
                </a:lnTo>
                <a:lnTo>
                  <a:pt x="211" y="160"/>
                </a:lnTo>
                <a:lnTo>
                  <a:pt x="214" y="159"/>
                </a:lnTo>
                <a:lnTo>
                  <a:pt x="218" y="158"/>
                </a:lnTo>
                <a:lnTo>
                  <a:pt x="220" y="157"/>
                </a:lnTo>
                <a:lnTo>
                  <a:pt x="223" y="155"/>
                </a:lnTo>
                <a:lnTo>
                  <a:pt x="225" y="153"/>
                </a:lnTo>
                <a:lnTo>
                  <a:pt x="229" y="152"/>
                </a:lnTo>
                <a:lnTo>
                  <a:pt x="232" y="151"/>
                </a:lnTo>
                <a:lnTo>
                  <a:pt x="234" y="149"/>
                </a:lnTo>
                <a:lnTo>
                  <a:pt x="238" y="148"/>
                </a:lnTo>
                <a:lnTo>
                  <a:pt x="240" y="147"/>
                </a:lnTo>
                <a:lnTo>
                  <a:pt x="243" y="146"/>
                </a:lnTo>
                <a:lnTo>
                  <a:pt x="247" y="145"/>
                </a:lnTo>
                <a:lnTo>
                  <a:pt x="249" y="142"/>
                </a:lnTo>
                <a:lnTo>
                  <a:pt x="252" y="141"/>
                </a:lnTo>
                <a:lnTo>
                  <a:pt x="254" y="140"/>
                </a:lnTo>
                <a:lnTo>
                  <a:pt x="258" y="139"/>
                </a:lnTo>
                <a:lnTo>
                  <a:pt x="261" y="137"/>
                </a:lnTo>
                <a:lnTo>
                  <a:pt x="263" y="136"/>
                </a:lnTo>
                <a:lnTo>
                  <a:pt x="267" y="134"/>
                </a:lnTo>
                <a:lnTo>
                  <a:pt x="269" y="133"/>
                </a:lnTo>
                <a:lnTo>
                  <a:pt x="272" y="132"/>
                </a:lnTo>
                <a:lnTo>
                  <a:pt x="276" y="131"/>
                </a:lnTo>
                <a:lnTo>
                  <a:pt x="278" y="129"/>
                </a:lnTo>
                <a:lnTo>
                  <a:pt x="281" y="128"/>
                </a:lnTo>
                <a:lnTo>
                  <a:pt x="283" y="127"/>
                </a:lnTo>
                <a:lnTo>
                  <a:pt x="287" y="126"/>
                </a:lnTo>
                <a:lnTo>
                  <a:pt x="289" y="124"/>
                </a:lnTo>
                <a:lnTo>
                  <a:pt x="292" y="122"/>
                </a:lnTo>
                <a:lnTo>
                  <a:pt x="296" y="121"/>
                </a:lnTo>
                <a:lnTo>
                  <a:pt x="298" y="120"/>
                </a:lnTo>
                <a:lnTo>
                  <a:pt x="301" y="119"/>
                </a:lnTo>
                <a:lnTo>
                  <a:pt x="304" y="118"/>
                </a:lnTo>
                <a:lnTo>
                  <a:pt x="307" y="117"/>
                </a:lnTo>
                <a:lnTo>
                  <a:pt x="310" y="116"/>
                </a:lnTo>
                <a:lnTo>
                  <a:pt x="312" y="113"/>
                </a:lnTo>
                <a:lnTo>
                  <a:pt x="316" y="112"/>
                </a:lnTo>
                <a:lnTo>
                  <a:pt x="318" y="111"/>
                </a:lnTo>
                <a:lnTo>
                  <a:pt x="321" y="110"/>
                </a:lnTo>
                <a:lnTo>
                  <a:pt x="325" y="109"/>
                </a:lnTo>
                <a:lnTo>
                  <a:pt x="327" y="108"/>
                </a:lnTo>
                <a:lnTo>
                  <a:pt x="330" y="107"/>
                </a:lnTo>
                <a:lnTo>
                  <a:pt x="333" y="106"/>
                </a:lnTo>
                <a:lnTo>
                  <a:pt x="336" y="104"/>
                </a:lnTo>
                <a:lnTo>
                  <a:pt x="339" y="103"/>
                </a:lnTo>
                <a:lnTo>
                  <a:pt x="341" y="101"/>
                </a:lnTo>
                <a:lnTo>
                  <a:pt x="345" y="100"/>
                </a:lnTo>
                <a:lnTo>
                  <a:pt x="347" y="99"/>
                </a:lnTo>
                <a:lnTo>
                  <a:pt x="350" y="98"/>
                </a:lnTo>
                <a:lnTo>
                  <a:pt x="354" y="97"/>
                </a:lnTo>
                <a:lnTo>
                  <a:pt x="356" y="96"/>
                </a:lnTo>
                <a:lnTo>
                  <a:pt x="359" y="94"/>
                </a:lnTo>
                <a:lnTo>
                  <a:pt x="362" y="93"/>
                </a:lnTo>
                <a:lnTo>
                  <a:pt x="365" y="92"/>
                </a:lnTo>
                <a:lnTo>
                  <a:pt x="368" y="91"/>
                </a:lnTo>
                <a:lnTo>
                  <a:pt x="370" y="90"/>
                </a:lnTo>
                <a:lnTo>
                  <a:pt x="374" y="89"/>
                </a:lnTo>
                <a:lnTo>
                  <a:pt x="376" y="88"/>
                </a:lnTo>
                <a:lnTo>
                  <a:pt x="379" y="87"/>
                </a:lnTo>
                <a:lnTo>
                  <a:pt x="382" y="85"/>
                </a:lnTo>
                <a:lnTo>
                  <a:pt x="385" y="84"/>
                </a:lnTo>
                <a:lnTo>
                  <a:pt x="388" y="83"/>
                </a:lnTo>
                <a:lnTo>
                  <a:pt x="391" y="82"/>
                </a:lnTo>
                <a:lnTo>
                  <a:pt x="394" y="81"/>
                </a:lnTo>
                <a:lnTo>
                  <a:pt x="396" y="80"/>
                </a:lnTo>
                <a:lnTo>
                  <a:pt x="399" y="79"/>
                </a:lnTo>
                <a:lnTo>
                  <a:pt x="403" y="78"/>
                </a:lnTo>
                <a:lnTo>
                  <a:pt x="405" y="77"/>
                </a:lnTo>
                <a:lnTo>
                  <a:pt x="408" y="75"/>
                </a:lnTo>
                <a:lnTo>
                  <a:pt x="411" y="74"/>
                </a:lnTo>
                <a:lnTo>
                  <a:pt x="414" y="73"/>
                </a:lnTo>
                <a:lnTo>
                  <a:pt x="417" y="72"/>
                </a:lnTo>
                <a:lnTo>
                  <a:pt x="420" y="71"/>
                </a:lnTo>
                <a:lnTo>
                  <a:pt x="423" y="70"/>
                </a:lnTo>
                <a:lnTo>
                  <a:pt x="425" y="69"/>
                </a:lnTo>
                <a:lnTo>
                  <a:pt x="428" y="68"/>
                </a:lnTo>
                <a:lnTo>
                  <a:pt x="432" y="67"/>
                </a:lnTo>
                <a:lnTo>
                  <a:pt x="434" y="67"/>
                </a:lnTo>
                <a:lnTo>
                  <a:pt x="437" y="65"/>
                </a:lnTo>
                <a:lnTo>
                  <a:pt x="440" y="64"/>
                </a:lnTo>
                <a:lnTo>
                  <a:pt x="443" y="63"/>
                </a:lnTo>
                <a:lnTo>
                  <a:pt x="446" y="62"/>
                </a:lnTo>
                <a:lnTo>
                  <a:pt x="449" y="61"/>
                </a:lnTo>
                <a:lnTo>
                  <a:pt x="452" y="60"/>
                </a:lnTo>
                <a:lnTo>
                  <a:pt x="454" y="59"/>
                </a:lnTo>
                <a:lnTo>
                  <a:pt x="458" y="58"/>
                </a:lnTo>
                <a:lnTo>
                  <a:pt x="460" y="58"/>
                </a:lnTo>
                <a:lnTo>
                  <a:pt x="463" y="57"/>
                </a:lnTo>
                <a:lnTo>
                  <a:pt x="466" y="55"/>
                </a:lnTo>
                <a:lnTo>
                  <a:pt x="469" y="54"/>
                </a:lnTo>
                <a:lnTo>
                  <a:pt x="472" y="53"/>
                </a:lnTo>
                <a:lnTo>
                  <a:pt x="474" y="52"/>
                </a:lnTo>
                <a:lnTo>
                  <a:pt x="478" y="52"/>
                </a:lnTo>
                <a:lnTo>
                  <a:pt x="481" y="51"/>
                </a:lnTo>
                <a:lnTo>
                  <a:pt x="483" y="50"/>
                </a:lnTo>
                <a:lnTo>
                  <a:pt x="487" y="49"/>
                </a:lnTo>
                <a:lnTo>
                  <a:pt x="489" y="48"/>
                </a:lnTo>
                <a:lnTo>
                  <a:pt x="492" y="48"/>
                </a:lnTo>
                <a:lnTo>
                  <a:pt x="495" y="46"/>
                </a:lnTo>
                <a:lnTo>
                  <a:pt x="498" y="45"/>
                </a:lnTo>
                <a:lnTo>
                  <a:pt x="501" y="44"/>
                </a:lnTo>
                <a:lnTo>
                  <a:pt x="503" y="44"/>
                </a:lnTo>
                <a:lnTo>
                  <a:pt x="507" y="43"/>
                </a:lnTo>
                <a:lnTo>
                  <a:pt x="510" y="42"/>
                </a:lnTo>
                <a:lnTo>
                  <a:pt x="512" y="41"/>
                </a:lnTo>
                <a:lnTo>
                  <a:pt x="516" y="41"/>
                </a:lnTo>
                <a:lnTo>
                  <a:pt x="518" y="40"/>
                </a:lnTo>
                <a:lnTo>
                  <a:pt x="521" y="39"/>
                </a:lnTo>
                <a:lnTo>
                  <a:pt x="524" y="38"/>
                </a:lnTo>
                <a:lnTo>
                  <a:pt x="527" y="38"/>
                </a:lnTo>
                <a:lnTo>
                  <a:pt x="530" y="36"/>
                </a:lnTo>
                <a:lnTo>
                  <a:pt x="532" y="35"/>
                </a:lnTo>
                <a:lnTo>
                  <a:pt x="536" y="35"/>
                </a:lnTo>
                <a:lnTo>
                  <a:pt x="539" y="34"/>
                </a:lnTo>
                <a:lnTo>
                  <a:pt x="541" y="33"/>
                </a:lnTo>
                <a:lnTo>
                  <a:pt x="545" y="33"/>
                </a:lnTo>
                <a:lnTo>
                  <a:pt x="547" y="32"/>
                </a:lnTo>
                <a:lnTo>
                  <a:pt x="550" y="31"/>
                </a:lnTo>
                <a:lnTo>
                  <a:pt x="552" y="31"/>
                </a:lnTo>
                <a:lnTo>
                  <a:pt x="556" y="30"/>
                </a:lnTo>
                <a:lnTo>
                  <a:pt x="559" y="29"/>
                </a:lnTo>
                <a:lnTo>
                  <a:pt x="561" y="29"/>
                </a:lnTo>
                <a:lnTo>
                  <a:pt x="565" y="28"/>
                </a:lnTo>
                <a:lnTo>
                  <a:pt x="567" y="28"/>
                </a:lnTo>
                <a:lnTo>
                  <a:pt x="570" y="26"/>
                </a:lnTo>
                <a:lnTo>
                  <a:pt x="574" y="25"/>
                </a:lnTo>
                <a:lnTo>
                  <a:pt x="576" y="25"/>
                </a:lnTo>
                <a:lnTo>
                  <a:pt x="579" y="24"/>
                </a:lnTo>
                <a:lnTo>
                  <a:pt x="581" y="24"/>
                </a:lnTo>
                <a:lnTo>
                  <a:pt x="585" y="23"/>
                </a:lnTo>
                <a:lnTo>
                  <a:pt x="588" y="22"/>
                </a:lnTo>
                <a:lnTo>
                  <a:pt x="590" y="22"/>
                </a:lnTo>
                <a:lnTo>
                  <a:pt x="594" y="21"/>
                </a:lnTo>
                <a:lnTo>
                  <a:pt x="596" y="21"/>
                </a:lnTo>
                <a:lnTo>
                  <a:pt x="599" y="20"/>
                </a:lnTo>
                <a:lnTo>
                  <a:pt x="603" y="20"/>
                </a:lnTo>
                <a:lnTo>
                  <a:pt x="605" y="19"/>
                </a:lnTo>
                <a:lnTo>
                  <a:pt x="608" y="19"/>
                </a:lnTo>
                <a:lnTo>
                  <a:pt x="610" y="18"/>
                </a:lnTo>
                <a:lnTo>
                  <a:pt x="614" y="18"/>
                </a:lnTo>
                <a:lnTo>
                  <a:pt x="617" y="16"/>
                </a:lnTo>
                <a:lnTo>
                  <a:pt x="619" y="16"/>
                </a:lnTo>
                <a:lnTo>
                  <a:pt x="623" y="15"/>
                </a:lnTo>
                <a:lnTo>
                  <a:pt x="625" y="15"/>
                </a:lnTo>
                <a:lnTo>
                  <a:pt x="628" y="14"/>
                </a:lnTo>
                <a:lnTo>
                  <a:pt x="632" y="14"/>
                </a:lnTo>
                <a:lnTo>
                  <a:pt x="634" y="13"/>
                </a:lnTo>
                <a:lnTo>
                  <a:pt x="637" y="13"/>
                </a:lnTo>
                <a:lnTo>
                  <a:pt x="639" y="13"/>
                </a:lnTo>
                <a:lnTo>
                  <a:pt x="643" y="12"/>
                </a:lnTo>
                <a:lnTo>
                  <a:pt x="645" y="12"/>
                </a:lnTo>
                <a:lnTo>
                  <a:pt x="648" y="11"/>
                </a:lnTo>
                <a:lnTo>
                  <a:pt x="652" y="11"/>
                </a:lnTo>
                <a:lnTo>
                  <a:pt x="654" y="11"/>
                </a:lnTo>
                <a:lnTo>
                  <a:pt x="657" y="10"/>
                </a:lnTo>
                <a:lnTo>
                  <a:pt x="659" y="10"/>
                </a:lnTo>
                <a:lnTo>
                  <a:pt x="663" y="9"/>
                </a:lnTo>
                <a:lnTo>
                  <a:pt x="666" y="9"/>
                </a:lnTo>
                <a:lnTo>
                  <a:pt x="668" y="9"/>
                </a:lnTo>
                <a:lnTo>
                  <a:pt x="672" y="7"/>
                </a:lnTo>
                <a:lnTo>
                  <a:pt x="674" y="7"/>
                </a:lnTo>
                <a:lnTo>
                  <a:pt x="677" y="7"/>
                </a:lnTo>
                <a:lnTo>
                  <a:pt x="681" y="6"/>
                </a:lnTo>
                <a:lnTo>
                  <a:pt x="683" y="6"/>
                </a:lnTo>
                <a:lnTo>
                  <a:pt x="686" y="6"/>
                </a:lnTo>
                <a:lnTo>
                  <a:pt x="688" y="6"/>
                </a:lnTo>
                <a:lnTo>
                  <a:pt x="692" y="5"/>
                </a:lnTo>
                <a:lnTo>
                  <a:pt x="695" y="5"/>
                </a:lnTo>
                <a:lnTo>
                  <a:pt x="697" y="5"/>
                </a:lnTo>
                <a:lnTo>
                  <a:pt x="701" y="4"/>
                </a:lnTo>
                <a:lnTo>
                  <a:pt x="703" y="4"/>
                </a:lnTo>
                <a:lnTo>
                  <a:pt x="706" y="4"/>
                </a:lnTo>
                <a:lnTo>
                  <a:pt x="710" y="4"/>
                </a:lnTo>
                <a:lnTo>
                  <a:pt x="712" y="3"/>
                </a:lnTo>
                <a:lnTo>
                  <a:pt x="715" y="3"/>
                </a:lnTo>
                <a:lnTo>
                  <a:pt x="717" y="3"/>
                </a:lnTo>
                <a:lnTo>
                  <a:pt x="721" y="3"/>
                </a:lnTo>
                <a:lnTo>
                  <a:pt x="724" y="3"/>
                </a:lnTo>
                <a:lnTo>
                  <a:pt x="726" y="2"/>
                </a:lnTo>
                <a:lnTo>
                  <a:pt x="730" y="2"/>
                </a:lnTo>
                <a:lnTo>
                  <a:pt x="732" y="2"/>
                </a:lnTo>
                <a:lnTo>
                  <a:pt x="735" y="2"/>
                </a:lnTo>
                <a:lnTo>
                  <a:pt x="738" y="2"/>
                </a:lnTo>
                <a:lnTo>
                  <a:pt x="741" y="1"/>
                </a:lnTo>
                <a:lnTo>
                  <a:pt x="744" y="1"/>
                </a:lnTo>
                <a:lnTo>
                  <a:pt x="746" y="1"/>
                </a:lnTo>
                <a:lnTo>
                  <a:pt x="750" y="1"/>
                </a:lnTo>
                <a:lnTo>
                  <a:pt x="752" y="1"/>
                </a:lnTo>
                <a:lnTo>
                  <a:pt x="755" y="1"/>
                </a:lnTo>
                <a:lnTo>
                  <a:pt x="759" y="1"/>
                </a:lnTo>
                <a:lnTo>
                  <a:pt x="761" y="1"/>
                </a:lnTo>
                <a:lnTo>
                  <a:pt x="764" y="0"/>
                </a:lnTo>
                <a:lnTo>
                  <a:pt x="767" y="0"/>
                </a:lnTo>
                <a:lnTo>
                  <a:pt x="770" y="0"/>
                </a:lnTo>
                <a:lnTo>
                  <a:pt x="773" y="0"/>
                </a:lnTo>
                <a:lnTo>
                  <a:pt x="775" y="0"/>
                </a:lnTo>
                <a:lnTo>
                  <a:pt x="779" y="0"/>
                </a:lnTo>
                <a:lnTo>
                  <a:pt x="781" y="0"/>
                </a:lnTo>
                <a:lnTo>
                  <a:pt x="784" y="0"/>
                </a:lnTo>
                <a:lnTo>
                  <a:pt x="788" y="0"/>
                </a:lnTo>
                <a:lnTo>
                  <a:pt x="790" y="0"/>
                </a:lnTo>
                <a:lnTo>
                  <a:pt x="793" y="0"/>
                </a:lnTo>
                <a:lnTo>
                  <a:pt x="796" y="0"/>
                </a:lnTo>
                <a:lnTo>
                  <a:pt x="799" y="0"/>
                </a:lnTo>
                <a:lnTo>
                  <a:pt x="802" y="0"/>
                </a:lnTo>
                <a:lnTo>
                  <a:pt x="804" y="0"/>
                </a:lnTo>
                <a:lnTo>
                  <a:pt x="808" y="0"/>
                </a:lnTo>
                <a:lnTo>
                  <a:pt x="810" y="0"/>
                </a:lnTo>
                <a:lnTo>
                  <a:pt x="813" y="0"/>
                </a:lnTo>
                <a:lnTo>
                  <a:pt x="817" y="0"/>
                </a:lnTo>
                <a:lnTo>
                  <a:pt x="819" y="0"/>
                </a:lnTo>
                <a:lnTo>
                  <a:pt x="822" y="0"/>
                </a:lnTo>
                <a:lnTo>
                  <a:pt x="825" y="0"/>
                </a:lnTo>
                <a:lnTo>
                  <a:pt x="828" y="0"/>
                </a:lnTo>
                <a:lnTo>
                  <a:pt x="830" y="0"/>
                </a:lnTo>
                <a:lnTo>
                  <a:pt x="833" y="1"/>
                </a:lnTo>
                <a:lnTo>
                  <a:pt x="837" y="1"/>
                </a:lnTo>
                <a:lnTo>
                  <a:pt x="839" y="1"/>
                </a:lnTo>
                <a:lnTo>
                  <a:pt x="842" y="1"/>
                </a:lnTo>
                <a:lnTo>
                  <a:pt x="845" y="1"/>
                </a:lnTo>
                <a:lnTo>
                  <a:pt x="848" y="1"/>
                </a:lnTo>
                <a:lnTo>
                  <a:pt x="851" y="1"/>
                </a:lnTo>
                <a:lnTo>
                  <a:pt x="854" y="1"/>
                </a:lnTo>
                <a:lnTo>
                  <a:pt x="857" y="2"/>
                </a:lnTo>
                <a:lnTo>
                  <a:pt x="859" y="2"/>
                </a:lnTo>
                <a:lnTo>
                  <a:pt x="862" y="2"/>
                </a:lnTo>
                <a:lnTo>
                  <a:pt x="866" y="2"/>
                </a:lnTo>
                <a:lnTo>
                  <a:pt x="868" y="2"/>
                </a:lnTo>
                <a:lnTo>
                  <a:pt x="871" y="2"/>
                </a:lnTo>
                <a:lnTo>
                  <a:pt x="874" y="3"/>
                </a:lnTo>
                <a:lnTo>
                  <a:pt x="877" y="3"/>
                </a:lnTo>
                <a:lnTo>
                  <a:pt x="880" y="3"/>
                </a:lnTo>
                <a:lnTo>
                  <a:pt x="883" y="3"/>
                </a:lnTo>
                <a:lnTo>
                  <a:pt x="886" y="4"/>
                </a:lnTo>
                <a:lnTo>
                  <a:pt x="888" y="4"/>
                </a:lnTo>
                <a:lnTo>
                  <a:pt x="891" y="4"/>
                </a:lnTo>
                <a:lnTo>
                  <a:pt x="895" y="4"/>
                </a:lnTo>
                <a:lnTo>
                  <a:pt x="897" y="5"/>
                </a:lnTo>
                <a:lnTo>
                  <a:pt x="900" y="5"/>
                </a:lnTo>
                <a:lnTo>
                  <a:pt x="903" y="5"/>
                </a:lnTo>
                <a:lnTo>
                  <a:pt x="906" y="5"/>
                </a:lnTo>
                <a:lnTo>
                  <a:pt x="908" y="6"/>
                </a:lnTo>
                <a:lnTo>
                  <a:pt x="912" y="6"/>
                </a:lnTo>
                <a:lnTo>
                  <a:pt x="915" y="6"/>
                </a:lnTo>
                <a:lnTo>
                  <a:pt x="917" y="7"/>
                </a:lnTo>
                <a:lnTo>
                  <a:pt x="920" y="7"/>
                </a:lnTo>
                <a:lnTo>
                  <a:pt x="923" y="7"/>
                </a:lnTo>
                <a:lnTo>
                  <a:pt x="926" y="9"/>
                </a:lnTo>
                <a:lnTo>
                  <a:pt x="929" y="9"/>
                </a:lnTo>
                <a:lnTo>
                  <a:pt x="932" y="9"/>
                </a:lnTo>
                <a:lnTo>
                  <a:pt x="935" y="10"/>
                </a:lnTo>
                <a:lnTo>
                  <a:pt x="937" y="10"/>
                </a:lnTo>
                <a:lnTo>
                  <a:pt x="941" y="10"/>
                </a:lnTo>
                <a:lnTo>
                  <a:pt x="944" y="11"/>
                </a:lnTo>
                <a:lnTo>
                  <a:pt x="946" y="11"/>
                </a:lnTo>
                <a:lnTo>
                  <a:pt x="949" y="12"/>
                </a:lnTo>
                <a:lnTo>
                  <a:pt x="952" y="12"/>
                </a:lnTo>
                <a:lnTo>
                  <a:pt x="955" y="13"/>
                </a:lnTo>
                <a:lnTo>
                  <a:pt x="958" y="13"/>
                </a:lnTo>
                <a:lnTo>
                  <a:pt x="961" y="13"/>
                </a:lnTo>
                <a:lnTo>
                  <a:pt x="964" y="14"/>
                </a:lnTo>
                <a:lnTo>
                  <a:pt x="966" y="14"/>
                </a:lnTo>
                <a:lnTo>
                  <a:pt x="970" y="15"/>
                </a:lnTo>
                <a:lnTo>
                  <a:pt x="973" y="15"/>
                </a:lnTo>
                <a:lnTo>
                  <a:pt x="975" y="16"/>
                </a:lnTo>
                <a:lnTo>
                  <a:pt x="978" y="16"/>
                </a:lnTo>
                <a:lnTo>
                  <a:pt x="981" y="18"/>
                </a:lnTo>
                <a:lnTo>
                  <a:pt x="984" y="18"/>
                </a:lnTo>
                <a:lnTo>
                  <a:pt x="987" y="19"/>
                </a:lnTo>
                <a:lnTo>
                  <a:pt x="990" y="19"/>
                </a:lnTo>
                <a:lnTo>
                  <a:pt x="993" y="20"/>
                </a:lnTo>
                <a:lnTo>
                  <a:pt x="995" y="20"/>
                </a:lnTo>
                <a:lnTo>
                  <a:pt x="999" y="21"/>
                </a:lnTo>
                <a:lnTo>
                  <a:pt x="1001" y="21"/>
                </a:lnTo>
                <a:lnTo>
                  <a:pt x="1004" y="22"/>
                </a:lnTo>
                <a:lnTo>
                  <a:pt x="1007" y="22"/>
                </a:lnTo>
                <a:lnTo>
                  <a:pt x="1010" y="23"/>
                </a:lnTo>
                <a:lnTo>
                  <a:pt x="1013" y="23"/>
                </a:lnTo>
                <a:lnTo>
                  <a:pt x="1015" y="24"/>
                </a:lnTo>
                <a:lnTo>
                  <a:pt x="1019" y="25"/>
                </a:lnTo>
                <a:lnTo>
                  <a:pt x="1022" y="25"/>
                </a:lnTo>
                <a:lnTo>
                  <a:pt x="1024" y="26"/>
                </a:lnTo>
                <a:lnTo>
                  <a:pt x="1028" y="26"/>
                </a:lnTo>
                <a:lnTo>
                  <a:pt x="1030" y="28"/>
                </a:lnTo>
                <a:lnTo>
                  <a:pt x="1033" y="29"/>
                </a:lnTo>
                <a:lnTo>
                  <a:pt x="1036" y="29"/>
                </a:lnTo>
                <a:lnTo>
                  <a:pt x="1039" y="30"/>
                </a:lnTo>
                <a:lnTo>
                  <a:pt x="1042" y="30"/>
                </a:lnTo>
                <a:lnTo>
                  <a:pt x="1044" y="31"/>
                </a:lnTo>
                <a:lnTo>
                  <a:pt x="1048" y="32"/>
                </a:lnTo>
                <a:lnTo>
                  <a:pt x="1051" y="32"/>
                </a:lnTo>
                <a:lnTo>
                  <a:pt x="1053" y="33"/>
                </a:lnTo>
                <a:lnTo>
                  <a:pt x="1057" y="34"/>
                </a:lnTo>
                <a:lnTo>
                  <a:pt x="1059" y="34"/>
                </a:lnTo>
                <a:lnTo>
                  <a:pt x="1062" y="35"/>
                </a:lnTo>
                <a:lnTo>
                  <a:pt x="1065" y="36"/>
                </a:lnTo>
                <a:lnTo>
                  <a:pt x="1068" y="36"/>
                </a:lnTo>
                <a:lnTo>
                  <a:pt x="1071" y="38"/>
                </a:lnTo>
                <a:lnTo>
                  <a:pt x="1073" y="39"/>
                </a:lnTo>
                <a:lnTo>
                  <a:pt x="1077" y="40"/>
                </a:lnTo>
                <a:lnTo>
                  <a:pt x="1080" y="40"/>
                </a:lnTo>
                <a:lnTo>
                  <a:pt x="1082" y="41"/>
                </a:lnTo>
                <a:lnTo>
                  <a:pt x="1086" y="42"/>
                </a:lnTo>
                <a:lnTo>
                  <a:pt x="1088" y="43"/>
                </a:lnTo>
                <a:lnTo>
                  <a:pt x="1091" y="43"/>
                </a:lnTo>
                <a:lnTo>
                  <a:pt x="1093" y="44"/>
                </a:lnTo>
                <a:lnTo>
                  <a:pt x="1097" y="45"/>
                </a:lnTo>
                <a:lnTo>
                  <a:pt x="1100" y="46"/>
                </a:lnTo>
                <a:lnTo>
                  <a:pt x="1102" y="46"/>
                </a:lnTo>
                <a:lnTo>
                  <a:pt x="1106" y="48"/>
                </a:lnTo>
                <a:lnTo>
                  <a:pt x="1108" y="49"/>
                </a:lnTo>
                <a:lnTo>
                  <a:pt x="1111" y="50"/>
                </a:lnTo>
                <a:lnTo>
                  <a:pt x="1115" y="51"/>
                </a:lnTo>
                <a:lnTo>
                  <a:pt x="1117" y="51"/>
                </a:lnTo>
                <a:lnTo>
                  <a:pt x="1120" y="52"/>
                </a:lnTo>
                <a:lnTo>
                  <a:pt x="1122" y="53"/>
                </a:lnTo>
                <a:lnTo>
                  <a:pt x="1126" y="54"/>
                </a:lnTo>
                <a:lnTo>
                  <a:pt x="1129" y="55"/>
                </a:lnTo>
                <a:lnTo>
                  <a:pt x="1131" y="57"/>
                </a:lnTo>
                <a:lnTo>
                  <a:pt x="1135" y="57"/>
                </a:lnTo>
                <a:lnTo>
                  <a:pt x="1137" y="58"/>
                </a:lnTo>
                <a:lnTo>
                  <a:pt x="1140" y="59"/>
                </a:lnTo>
                <a:lnTo>
                  <a:pt x="1144" y="60"/>
                </a:lnTo>
                <a:lnTo>
                  <a:pt x="1146" y="61"/>
                </a:lnTo>
                <a:lnTo>
                  <a:pt x="1149" y="62"/>
                </a:lnTo>
                <a:lnTo>
                  <a:pt x="1151" y="63"/>
                </a:lnTo>
                <a:lnTo>
                  <a:pt x="1155" y="63"/>
                </a:lnTo>
                <a:lnTo>
                  <a:pt x="1158" y="64"/>
                </a:lnTo>
                <a:lnTo>
                  <a:pt x="1160" y="65"/>
                </a:lnTo>
                <a:lnTo>
                  <a:pt x="1164" y="67"/>
                </a:lnTo>
                <a:lnTo>
                  <a:pt x="1166" y="68"/>
                </a:lnTo>
                <a:lnTo>
                  <a:pt x="1169" y="69"/>
                </a:lnTo>
                <a:lnTo>
                  <a:pt x="1173" y="70"/>
                </a:lnTo>
                <a:lnTo>
                  <a:pt x="1175" y="71"/>
                </a:lnTo>
                <a:lnTo>
                  <a:pt x="1178" y="72"/>
                </a:lnTo>
                <a:lnTo>
                  <a:pt x="1180" y="73"/>
                </a:lnTo>
                <a:lnTo>
                  <a:pt x="1184" y="74"/>
                </a:lnTo>
                <a:lnTo>
                  <a:pt x="1186" y="75"/>
                </a:lnTo>
                <a:lnTo>
                  <a:pt x="1189" y="77"/>
                </a:lnTo>
                <a:lnTo>
                  <a:pt x="1193" y="78"/>
                </a:lnTo>
                <a:lnTo>
                  <a:pt x="1195" y="79"/>
                </a:lnTo>
                <a:lnTo>
                  <a:pt x="1198" y="80"/>
                </a:lnTo>
                <a:lnTo>
                  <a:pt x="1200" y="81"/>
                </a:lnTo>
                <a:lnTo>
                  <a:pt x="1204" y="82"/>
                </a:lnTo>
                <a:lnTo>
                  <a:pt x="1207" y="83"/>
                </a:lnTo>
                <a:lnTo>
                  <a:pt x="1209" y="84"/>
                </a:lnTo>
                <a:lnTo>
                  <a:pt x="1213" y="85"/>
                </a:lnTo>
                <a:lnTo>
                  <a:pt x="1215" y="87"/>
                </a:lnTo>
                <a:lnTo>
                  <a:pt x="1218" y="88"/>
                </a:lnTo>
                <a:lnTo>
                  <a:pt x="1222" y="89"/>
                </a:lnTo>
                <a:lnTo>
                  <a:pt x="1224" y="90"/>
                </a:lnTo>
                <a:lnTo>
                  <a:pt x="1227" y="91"/>
                </a:lnTo>
                <a:lnTo>
                  <a:pt x="1229" y="92"/>
                </a:lnTo>
                <a:lnTo>
                  <a:pt x="1233" y="93"/>
                </a:lnTo>
                <a:lnTo>
                  <a:pt x="1236" y="94"/>
                </a:lnTo>
                <a:lnTo>
                  <a:pt x="1238" y="96"/>
                </a:lnTo>
                <a:lnTo>
                  <a:pt x="1242" y="97"/>
                </a:lnTo>
                <a:lnTo>
                  <a:pt x="1244" y="98"/>
                </a:lnTo>
                <a:lnTo>
                  <a:pt x="1247" y="99"/>
                </a:lnTo>
                <a:lnTo>
                  <a:pt x="1251" y="100"/>
                </a:lnTo>
                <a:lnTo>
                  <a:pt x="1253" y="101"/>
                </a:lnTo>
                <a:lnTo>
                  <a:pt x="1256" y="102"/>
                </a:lnTo>
                <a:lnTo>
                  <a:pt x="1258" y="103"/>
                </a:lnTo>
                <a:lnTo>
                  <a:pt x="1262" y="104"/>
                </a:lnTo>
                <a:lnTo>
                  <a:pt x="1265" y="107"/>
                </a:lnTo>
                <a:lnTo>
                  <a:pt x="1267" y="108"/>
                </a:lnTo>
                <a:lnTo>
                  <a:pt x="1271" y="109"/>
                </a:lnTo>
                <a:lnTo>
                  <a:pt x="1273" y="110"/>
                </a:lnTo>
                <a:lnTo>
                  <a:pt x="1276" y="111"/>
                </a:lnTo>
                <a:lnTo>
                  <a:pt x="1279" y="112"/>
                </a:lnTo>
                <a:lnTo>
                  <a:pt x="1282" y="113"/>
                </a:lnTo>
                <a:lnTo>
                  <a:pt x="1285" y="114"/>
                </a:lnTo>
                <a:lnTo>
                  <a:pt x="1287" y="116"/>
                </a:lnTo>
                <a:lnTo>
                  <a:pt x="1291" y="118"/>
                </a:lnTo>
                <a:lnTo>
                  <a:pt x="1293" y="119"/>
                </a:lnTo>
                <a:lnTo>
                  <a:pt x="1296" y="120"/>
                </a:lnTo>
                <a:lnTo>
                  <a:pt x="1300" y="121"/>
                </a:lnTo>
                <a:lnTo>
                  <a:pt x="1302" y="122"/>
                </a:lnTo>
                <a:lnTo>
                  <a:pt x="1305" y="123"/>
                </a:lnTo>
                <a:lnTo>
                  <a:pt x="1308" y="126"/>
                </a:lnTo>
                <a:lnTo>
                  <a:pt x="1311" y="127"/>
                </a:lnTo>
                <a:lnTo>
                  <a:pt x="1314" y="128"/>
                </a:lnTo>
                <a:lnTo>
                  <a:pt x="1316" y="129"/>
                </a:lnTo>
                <a:lnTo>
                  <a:pt x="1320" y="130"/>
                </a:lnTo>
                <a:lnTo>
                  <a:pt x="1322" y="131"/>
                </a:lnTo>
                <a:lnTo>
                  <a:pt x="1325" y="133"/>
                </a:lnTo>
                <a:lnTo>
                  <a:pt x="1329" y="134"/>
                </a:lnTo>
                <a:lnTo>
                  <a:pt x="1331" y="136"/>
                </a:lnTo>
                <a:lnTo>
                  <a:pt x="1334" y="137"/>
                </a:lnTo>
                <a:lnTo>
                  <a:pt x="1337" y="138"/>
                </a:lnTo>
                <a:lnTo>
                  <a:pt x="1340" y="140"/>
                </a:lnTo>
                <a:lnTo>
                  <a:pt x="1343" y="141"/>
                </a:lnTo>
                <a:lnTo>
                  <a:pt x="1345" y="142"/>
                </a:lnTo>
                <a:lnTo>
                  <a:pt x="1349" y="143"/>
                </a:lnTo>
                <a:lnTo>
                  <a:pt x="1351" y="145"/>
                </a:lnTo>
                <a:lnTo>
                  <a:pt x="1354" y="147"/>
                </a:lnTo>
                <a:lnTo>
                  <a:pt x="1357" y="148"/>
                </a:lnTo>
                <a:lnTo>
                  <a:pt x="1360" y="149"/>
                </a:lnTo>
                <a:lnTo>
                  <a:pt x="1363" y="150"/>
                </a:lnTo>
                <a:lnTo>
                  <a:pt x="1366" y="152"/>
                </a:lnTo>
                <a:lnTo>
                  <a:pt x="1369" y="153"/>
                </a:lnTo>
                <a:lnTo>
                  <a:pt x="1371" y="155"/>
                </a:lnTo>
                <a:lnTo>
                  <a:pt x="1374" y="156"/>
                </a:lnTo>
                <a:lnTo>
                  <a:pt x="1378" y="158"/>
                </a:lnTo>
                <a:lnTo>
                  <a:pt x="1380" y="159"/>
                </a:lnTo>
                <a:lnTo>
                  <a:pt x="1383" y="160"/>
                </a:lnTo>
                <a:lnTo>
                  <a:pt x="1386" y="161"/>
                </a:lnTo>
                <a:lnTo>
                  <a:pt x="1389" y="163"/>
                </a:lnTo>
                <a:lnTo>
                  <a:pt x="1392" y="165"/>
                </a:lnTo>
                <a:lnTo>
                  <a:pt x="1395" y="166"/>
                </a:lnTo>
                <a:lnTo>
                  <a:pt x="1398" y="168"/>
                </a:lnTo>
                <a:lnTo>
                  <a:pt x="1400" y="169"/>
                </a:lnTo>
                <a:lnTo>
                  <a:pt x="1403" y="170"/>
                </a:lnTo>
                <a:lnTo>
                  <a:pt x="1407" y="171"/>
                </a:lnTo>
                <a:lnTo>
                  <a:pt x="1409" y="173"/>
                </a:lnTo>
                <a:lnTo>
                  <a:pt x="1412" y="175"/>
                </a:lnTo>
                <a:lnTo>
                  <a:pt x="1415" y="176"/>
                </a:lnTo>
                <a:lnTo>
                  <a:pt x="1418" y="178"/>
                </a:lnTo>
                <a:lnTo>
                  <a:pt x="1421" y="179"/>
                </a:lnTo>
                <a:lnTo>
                  <a:pt x="1424" y="180"/>
                </a:lnTo>
                <a:lnTo>
                  <a:pt x="1427" y="181"/>
                </a:lnTo>
                <a:lnTo>
                  <a:pt x="1429" y="184"/>
                </a:lnTo>
                <a:lnTo>
                  <a:pt x="1432" y="185"/>
                </a:lnTo>
                <a:lnTo>
                  <a:pt x="1436" y="186"/>
                </a:lnTo>
                <a:lnTo>
                  <a:pt x="1438" y="188"/>
                </a:lnTo>
                <a:lnTo>
                  <a:pt x="1441" y="189"/>
                </a:lnTo>
                <a:lnTo>
                  <a:pt x="1444" y="190"/>
                </a:lnTo>
                <a:lnTo>
                  <a:pt x="1447" y="192"/>
                </a:lnTo>
                <a:lnTo>
                  <a:pt x="1449" y="194"/>
                </a:lnTo>
                <a:lnTo>
                  <a:pt x="1453" y="195"/>
                </a:lnTo>
                <a:lnTo>
                  <a:pt x="1456" y="197"/>
                </a:lnTo>
                <a:lnTo>
                  <a:pt x="1458" y="198"/>
                </a:lnTo>
                <a:lnTo>
                  <a:pt x="1462" y="199"/>
                </a:lnTo>
                <a:lnTo>
                  <a:pt x="1464" y="201"/>
                </a:lnTo>
                <a:lnTo>
                  <a:pt x="1467" y="202"/>
                </a:lnTo>
                <a:lnTo>
                  <a:pt x="1470" y="204"/>
                </a:lnTo>
                <a:lnTo>
                  <a:pt x="1473" y="206"/>
                </a:lnTo>
                <a:lnTo>
                  <a:pt x="1476" y="207"/>
                </a:lnTo>
                <a:lnTo>
                  <a:pt x="1478" y="208"/>
                </a:lnTo>
                <a:lnTo>
                  <a:pt x="1482" y="210"/>
                </a:lnTo>
                <a:lnTo>
                  <a:pt x="1485" y="211"/>
                </a:lnTo>
                <a:lnTo>
                  <a:pt x="1487" y="212"/>
                </a:lnTo>
                <a:lnTo>
                  <a:pt x="1491" y="215"/>
                </a:lnTo>
                <a:lnTo>
                  <a:pt x="1493" y="216"/>
                </a:lnTo>
                <a:lnTo>
                  <a:pt x="1496" y="217"/>
                </a:lnTo>
                <a:lnTo>
                  <a:pt x="1499" y="219"/>
                </a:lnTo>
                <a:lnTo>
                  <a:pt x="1502" y="220"/>
                </a:lnTo>
                <a:lnTo>
                  <a:pt x="1505" y="223"/>
                </a:lnTo>
                <a:lnTo>
                  <a:pt x="1507" y="224"/>
                </a:lnTo>
                <a:lnTo>
                  <a:pt x="1511" y="225"/>
                </a:lnTo>
                <a:lnTo>
                  <a:pt x="1514" y="227"/>
                </a:lnTo>
                <a:lnTo>
                  <a:pt x="1516" y="228"/>
                </a:lnTo>
                <a:lnTo>
                  <a:pt x="1520" y="229"/>
                </a:lnTo>
                <a:lnTo>
                  <a:pt x="1522" y="231"/>
                </a:lnTo>
                <a:lnTo>
                  <a:pt x="1525" y="233"/>
                </a:lnTo>
                <a:lnTo>
                  <a:pt x="1528" y="234"/>
                </a:lnTo>
                <a:lnTo>
                  <a:pt x="1531" y="236"/>
                </a:lnTo>
                <a:lnTo>
                  <a:pt x="1534" y="237"/>
                </a:lnTo>
                <a:lnTo>
                  <a:pt x="1536" y="239"/>
                </a:lnTo>
                <a:lnTo>
                  <a:pt x="1540" y="240"/>
                </a:lnTo>
                <a:lnTo>
                  <a:pt x="1542" y="241"/>
                </a:lnTo>
                <a:lnTo>
                  <a:pt x="1545" y="244"/>
                </a:lnTo>
                <a:lnTo>
                  <a:pt x="1549" y="245"/>
                </a:lnTo>
                <a:lnTo>
                  <a:pt x="1551" y="246"/>
                </a:lnTo>
                <a:lnTo>
                  <a:pt x="1554" y="248"/>
                </a:lnTo>
                <a:lnTo>
                  <a:pt x="1556" y="249"/>
                </a:lnTo>
                <a:lnTo>
                  <a:pt x="1560" y="251"/>
                </a:lnTo>
                <a:lnTo>
                  <a:pt x="1563" y="253"/>
                </a:lnTo>
                <a:lnTo>
                  <a:pt x="1565" y="254"/>
                </a:lnTo>
                <a:lnTo>
                  <a:pt x="1569" y="256"/>
                </a:lnTo>
                <a:lnTo>
                  <a:pt x="1571" y="257"/>
                </a:lnTo>
                <a:lnTo>
                  <a:pt x="1574" y="259"/>
                </a:lnTo>
                <a:lnTo>
                  <a:pt x="1578" y="260"/>
                </a:lnTo>
                <a:lnTo>
                  <a:pt x="1580" y="262"/>
                </a:lnTo>
                <a:lnTo>
                  <a:pt x="1583" y="264"/>
                </a:lnTo>
                <a:lnTo>
                  <a:pt x="1585" y="265"/>
                </a:lnTo>
                <a:lnTo>
                  <a:pt x="1589" y="266"/>
                </a:lnTo>
                <a:lnTo>
                  <a:pt x="1592" y="268"/>
                </a:lnTo>
                <a:lnTo>
                  <a:pt x="1594" y="269"/>
                </a:lnTo>
                <a:lnTo>
                  <a:pt x="1598" y="272"/>
                </a:lnTo>
                <a:lnTo>
                  <a:pt x="1600" y="273"/>
                </a:lnTo>
                <a:lnTo>
                  <a:pt x="1603" y="274"/>
                </a:lnTo>
                <a:lnTo>
                  <a:pt x="1607" y="276"/>
                </a:lnTo>
                <a:lnTo>
                  <a:pt x="1609" y="277"/>
                </a:lnTo>
                <a:lnTo>
                  <a:pt x="1612" y="278"/>
                </a:lnTo>
                <a:lnTo>
                  <a:pt x="1614" y="280"/>
                </a:lnTo>
                <a:lnTo>
                  <a:pt x="1618" y="282"/>
                </a:lnTo>
                <a:lnTo>
                  <a:pt x="1621" y="284"/>
                </a:lnTo>
                <a:lnTo>
                  <a:pt x="1623" y="285"/>
                </a:lnTo>
                <a:lnTo>
                  <a:pt x="1627" y="286"/>
                </a:lnTo>
                <a:lnTo>
                  <a:pt x="1629" y="288"/>
                </a:lnTo>
                <a:lnTo>
                  <a:pt x="1632" y="289"/>
                </a:lnTo>
                <a:lnTo>
                  <a:pt x="1634" y="292"/>
                </a:lnTo>
                <a:lnTo>
                  <a:pt x="1638" y="293"/>
                </a:lnTo>
                <a:lnTo>
                  <a:pt x="1641" y="294"/>
                </a:lnTo>
                <a:lnTo>
                  <a:pt x="1643" y="296"/>
                </a:lnTo>
                <a:lnTo>
                  <a:pt x="1647" y="297"/>
                </a:lnTo>
                <a:lnTo>
                  <a:pt x="1649" y="298"/>
                </a:lnTo>
                <a:lnTo>
                  <a:pt x="1652" y="301"/>
                </a:lnTo>
                <a:lnTo>
                  <a:pt x="1656" y="302"/>
                </a:lnTo>
                <a:lnTo>
                  <a:pt x="1658" y="304"/>
                </a:lnTo>
                <a:lnTo>
                  <a:pt x="1661" y="305"/>
                </a:lnTo>
                <a:lnTo>
                  <a:pt x="1663" y="306"/>
                </a:lnTo>
                <a:lnTo>
                  <a:pt x="1667" y="308"/>
                </a:lnTo>
                <a:lnTo>
                  <a:pt x="1670" y="309"/>
                </a:lnTo>
                <a:lnTo>
                  <a:pt x="1672" y="311"/>
                </a:lnTo>
                <a:lnTo>
                  <a:pt x="1676" y="313"/>
                </a:lnTo>
                <a:lnTo>
                  <a:pt x="1678" y="314"/>
                </a:lnTo>
                <a:lnTo>
                  <a:pt x="1681" y="315"/>
                </a:lnTo>
                <a:lnTo>
                  <a:pt x="1685" y="317"/>
                </a:lnTo>
                <a:lnTo>
                  <a:pt x="1687" y="318"/>
                </a:lnTo>
                <a:lnTo>
                  <a:pt x="1690" y="321"/>
                </a:lnTo>
                <a:lnTo>
                  <a:pt x="1692" y="322"/>
                </a:lnTo>
                <a:lnTo>
                  <a:pt x="1696" y="323"/>
                </a:lnTo>
                <a:lnTo>
                  <a:pt x="1699" y="325"/>
                </a:lnTo>
                <a:lnTo>
                  <a:pt x="1701" y="326"/>
                </a:lnTo>
                <a:lnTo>
                  <a:pt x="1705" y="327"/>
                </a:lnTo>
                <a:lnTo>
                  <a:pt x="1707" y="329"/>
                </a:lnTo>
                <a:lnTo>
                  <a:pt x="1710" y="331"/>
                </a:lnTo>
                <a:lnTo>
                  <a:pt x="1713" y="332"/>
                </a:lnTo>
                <a:lnTo>
                  <a:pt x="1716" y="334"/>
                </a:lnTo>
                <a:lnTo>
                  <a:pt x="1719" y="335"/>
                </a:lnTo>
                <a:lnTo>
                  <a:pt x="1721" y="336"/>
                </a:lnTo>
                <a:lnTo>
                  <a:pt x="1725" y="338"/>
                </a:lnTo>
                <a:lnTo>
                  <a:pt x="1727" y="339"/>
                </a:lnTo>
                <a:lnTo>
                  <a:pt x="1730" y="341"/>
                </a:lnTo>
                <a:lnTo>
                  <a:pt x="1734" y="343"/>
                </a:lnTo>
                <a:lnTo>
                  <a:pt x="1736" y="344"/>
                </a:lnTo>
                <a:lnTo>
                  <a:pt x="1739" y="345"/>
                </a:lnTo>
                <a:lnTo>
                  <a:pt x="1742" y="347"/>
                </a:lnTo>
                <a:lnTo>
                  <a:pt x="1745" y="348"/>
                </a:lnTo>
                <a:lnTo>
                  <a:pt x="1748" y="350"/>
                </a:lnTo>
                <a:lnTo>
                  <a:pt x="1750" y="352"/>
                </a:lnTo>
                <a:lnTo>
                  <a:pt x="1754" y="353"/>
                </a:lnTo>
                <a:lnTo>
                  <a:pt x="1756" y="354"/>
                </a:lnTo>
                <a:lnTo>
                  <a:pt x="1759" y="356"/>
                </a:lnTo>
                <a:lnTo>
                  <a:pt x="1763" y="357"/>
                </a:lnTo>
                <a:lnTo>
                  <a:pt x="1765" y="358"/>
                </a:lnTo>
                <a:lnTo>
                  <a:pt x="1768" y="361"/>
                </a:lnTo>
                <a:lnTo>
                  <a:pt x="1771" y="362"/>
                </a:lnTo>
                <a:lnTo>
                  <a:pt x="1774" y="363"/>
                </a:lnTo>
                <a:lnTo>
                  <a:pt x="1777" y="364"/>
                </a:lnTo>
                <a:lnTo>
                  <a:pt x="1779" y="366"/>
                </a:lnTo>
                <a:lnTo>
                  <a:pt x="1783" y="367"/>
                </a:lnTo>
                <a:lnTo>
                  <a:pt x="1785" y="368"/>
                </a:lnTo>
                <a:lnTo>
                  <a:pt x="1788" y="371"/>
                </a:lnTo>
                <a:lnTo>
                  <a:pt x="1792" y="372"/>
                </a:lnTo>
                <a:lnTo>
                  <a:pt x="1794" y="373"/>
                </a:lnTo>
                <a:lnTo>
                  <a:pt x="1797" y="374"/>
                </a:lnTo>
                <a:lnTo>
                  <a:pt x="1800" y="376"/>
                </a:lnTo>
                <a:lnTo>
                  <a:pt x="1803" y="377"/>
                </a:lnTo>
                <a:lnTo>
                  <a:pt x="1805" y="378"/>
                </a:lnTo>
                <a:lnTo>
                  <a:pt x="1808" y="381"/>
                </a:lnTo>
                <a:lnTo>
                  <a:pt x="1812" y="382"/>
                </a:lnTo>
                <a:lnTo>
                  <a:pt x="1814" y="383"/>
                </a:lnTo>
                <a:lnTo>
                  <a:pt x="1817" y="384"/>
                </a:lnTo>
                <a:lnTo>
                  <a:pt x="1820" y="386"/>
                </a:lnTo>
                <a:lnTo>
                  <a:pt x="1823" y="387"/>
                </a:lnTo>
                <a:lnTo>
                  <a:pt x="1826" y="389"/>
                </a:lnTo>
                <a:lnTo>
                  <a:pt x="1829" y="390"/>
                </a:lnTo>
                <a:lnTo>
                  <a:pt x="1832" y="392"/>
                </a:lnTo>
                <a:lnTo>
                  <a:pt x="1834" y="393"/>
                </a:lnTo>
                <a:lnTo>
                  <a:pt x="1837" y="394"/>
                </a:lnTo>
                <a:lnTo>
                  <a:pt x="1841" y="395"/>
                </a:lnTo>
                <a:lnTo>
                  <a:pt x="1843" y="396"/>
                </a:lnTo>
                <a:lnTo>
                  <a:pt x="1846" y="399"/>
                </a:lnTo>
                <a:lnTo>
                  <a:pt x="1849" y="400"/>
                </a:lnTo>
                <a:lnTo>
                  <a:pt x="1852" y="401"/>
                </a:lnTo>
                <a:lnTo>
                  <a:pt x="1855" y="402"/>
                </a:lnTo>
                <a:lnTo>
                  <a:pt x="1858" y="403"/>
                </a:lnTo>
                <a:lnTo>
                  <a:pt x="1861" y="405"/>
                </a:lnTo>
                <a:lnTo>
                  <a:pt x="1863" y="406"/>
                </a:lnTo>
                <a:lnTo>
                  <a:pt x="1866" y="407"/>
                </a:lnTo>
                <a:lnTo>
                  <a:pt x="1870" y="409"/>
                </a:lnTo>
                <a:lnTo>
                  <a:pt x="1872" y="410"/>
                </a:lnTo>
                <a:lnTo>
                  <a:pt x="1875" y="412"/>
                </a:lnTo>
                <a:lnTo>
                  <a:pt x="1878" y="413"/>
                </a:lnTo>
                <a:lnTo>
                  <a:pt x="1881" y="414"/>
                </a:lnTo>
                <a:lnTo>
                  <a:pt x="1884" y="415"/>
                </a:lnTo>
                <a:lnTo>
                  <a:pt x="1887" y="416"/>
                </a:lnTo>
                <a:lnTo>
                  <a:pt x="1890" y="417"/>
                </a:lnTo>
                <a:lnTo>
                  <a:pt x="1892" y="420"/>
                </a:lnTo>
                <a:lnTo>
                  <a:pt x="1895" y="421"/>
                </a:lnTo>
                <a:lnTo>
                  <a:pt x="1898" y="422"/>
                </a:lnTo>
                <a:lnTo>
                  <a:pt x="1901" y="423"/>
                </a:lnTo>
                <a:lnTo>
                  <a:pt x="1904" y="424"/>
                </a:lnTo>
                <a:lnTo>
                  <a:pt x="1907" y="425"/>
                </a:lnTo>
                <a:lnTo>
                  <a:pt x="1910" y="426"/>
                </a:lnTo>
                <a:lnTo>
                  <a:pt x="1912" y="429"/>
                </a:lnTo>
                <a:lnTo>
                  <a:pt x="1916" y="430"/>
                </a:lnTo>
                <a:lnTo>
                  <a:pt x="1919" y="431"/>
                </a:lnTo>
                <a:lnTo>
                  <a:pt x="1921" y="432"/>
                </a:lnTo>
                <a:lnTo>
                  <a:pt x="1924" y="433"/>
                </a:lnTo>
                <a:lnTo>
                  <a:pt x="1927" y="434"/>
                </a:lnTo>
                <a:lnTo>
                  <a:pt x="1930" y="435"/>
                </a:lnTo>
                <a:lnTo>
                  <a:pt x="1933" y="436"/>
                </a:lnTo>
                <a:lnTo>
                  <a:pt x="1936" y="438"/>
                </a:lnTo>
                <a:lnTo>
                  <a:pt x="1939" y="439"/>
                </a:lnTo>
                <a:lnTo>
                  <a:pt x="1941" y="441"/>
                </a:lnTo>
                <a:lnTo>
                  <a:pt x="1945" y="442"/>
                </a:lnTo>
                <a:lnTo>
                  <a:pt x="1948" y="443"/>
                </a:lnTo>
                <a:lnTo>
                  <a:pt x="1950" y="444"/>
                </a:lnTo>
                <a:lnTo>
                  <a:pt x="1953" y="445"/>
                </a:lnTo>
                <a:lnTo>
                  <a:pt x="1956" y="446"/>
                </a:lnTo>
                <a:lnTo>
                  <a:pt x="1959" y="448"/>
                </a:lnTo>
                <a:lnTo>
                  <a:pt x="1962" y="449"/>
                </a:lnTo>
                <a:lnTo>
                  <a:pt x="1965" y="450"/>
                </a:lnTo>
                <a:lnTo>
                  <a:pt x="1968" y="451"/>
                </a:lnTo>
                <a:lnTo>
                  <a:pt x="1970" y="452"/>
                </a:lnTo>
                <a:lnTo>
                  <a:pt x="1974" y="453"/>
                </a:lnTo>
                <a:lnTo>
                  <a:pt x="1977" y="454"/>
                </a:lnTo>
                <a:lnTo>
                  <a:pt x="1979" y="455"/>
                </a:lnTo>
                <a:lnTo>
                  <a:pt x="1982" y="456"/>
                </a:lnTo>
                <a:lnTo>
                  <a:pt x="1985" y="458"/>
                </a:lnTo>
                <a:lnTo>
                  <a:pt x="1988" y="459"/>
                </a:lnTo>
                <a:lnTo>
                  <a:pt x="1990" y="460"/>
                </a:lnTo>
                <a:lnTo>
                  <a:pt x="1994" y="461"/>
                </a:lnTo>
                <a:lnTo>
                  <a:pt x="1997" y="462"/>
                </a:lnTo>
                <a:lnTo>
                  <a:pt x="1999" y="463"/>
                </a:lnTo>
                <a:lnTo>
                  <a:pt x="2003" y="464"/>
                </a:lnTo>
                <a:lnTo>
                  <a:pt x="2005" y="465"/>
                </a:lnTo>
                <a:lnTo>
                  <a:pt x="2008" y="467"/>
                </a:lnTo>
                <a:lnTo>
                  <a:pt x="2011" y="468"/>
                </a:lnTo>
                <a:lnTo>
                  <a:pt x="2014" y="469"/>
                </a:lnTo>
                <a:lnTo>
                  <a:pt x="2017" y="470"/>
                </a:lnTo>
                <a:lnTo>
                  <a:pt x="2019" y="471"/>
                </a:lnTo>
                <a:lnTo>
                  <a:pt x="2023" y="471"/>
                </a:lnTo>
                <a:lnTo>
                  <a:pt x="2026" y="472"/>
                </a:lnTo>
                <a:lnTo>
                  <a:pt x="2028" y="473"/>
                </a:lnTo>
                <a:lnTo>
                  <a:pt x="2032" y="474"/>
                </a:lnTo>
                <a:lnTo>
                  <a:pt x="2034" y="475"/>
                </a:lnTo>
                <a:lnTo>
                  <a:pt x="2037" y="477"/>
                </a:lnTo>
                <a:lnTo>
                  <a:pt x="2040" y="478"/>
                </a:lnTo>
                <a:lnTo>
                  <a:pt x="2043" y="479"/>
                </a:lnTo>
                <a:lnTo>
                  <a:pt x="2046" y="480"/>
                </a:lnTo>
                <a:lnTo>
                  <a:pt x="2048" y="481"/>
                </a:lnTo>
                <a:lnTo>
                  <a:pt x="2052" y="481"/>
                </a:lnTo>
                <a:lnTo>
                  <a:pt x="2055" y="482"/>
                </a:lnTo>
                <a:lnTo>
                  <a:pt x="2057" y="483"/>
                </a:lnTo>
                <a:lnTo>
                  <a:pt x="2061" y="484"/>
                </a:lnTo>
                <a:lnTo>
                  <a:pt x="2063" y="485"/>
                </a:lnTo>
                <a:lnTo>
                  <a:pt x="2066" y="487"/>
                </a:lnTo>
                <a:lnTo>
                  <a:pt x="2069" y="487"/>
                </a:lnTo>
                <a:lnTo>
                  <a:pt x="2072" y="488"/>
                </a:lnTo>
                <a:lnTo>
                  <a:pt x="2075" y="489"/>
                </a:lnTo>
                <a:lnTo>
                  <a:pt x="2077" y="490"/>
                </a:lnTo>
                <a:lnTo>
                  <a:pt x="2081" y="491"/>
                </a:lnTo>
                <a:lnTo>
                  <a:pt x="2083" y="491"/>
                </a:lnTo>
                <a:lnTo>
                  <a:pt x="2086" y="492"/>
                </a:lnTo>
                <a:lnTo>
                  <a:pt x="2090" y="493"/>
                </a:lnTo>
                <a:lnTo>
                  <a:pt x="2092" y="494"/>
                </a:lnTo>
                <a:lnTo>
                  <a:pt x="2095" y="495"/>
                </a:lnTo>
                <a:lnTo>
                  <a:pt x="2097" y="495"/>
                </a:lnTo>
                <a:lnTo>
                  <a:pt x="2101" y="497"/>
                </a:lnTo>
                <a:lnTo>
                  <a:pt x="2104" y="498"/>
                </a:lnTo>
                <a:lnTo>
                  <a:pt x="2106" y="499"/>
                </a:lnTo>
                <a:lnTo>
                  <a:pt x="2110" y="499"/>
                </a:lnTo>
                <a:lnTo>
                  <a:pt x="2112" y="500"/>
                </a:lnTo>
                <a:lnTo>
                  <a:pt x="2115" y="501"/>
                </a:lnTo>
                <a:lnTo>
                  <a:pt x="2119" y="502"/>
                </a:lnTo>
                <a:lnTo>
                  <a:pt x="2121" y="502"/>
                </a:lnTo>
                <a:lnTo>
                  <a:pt x="2124" y="503"/>
                </a:lnTo>
                <a:lnTo>
                  <a:pt x="2126" y="504"/>
                </a:lnTo>
                <a:lnTo>
                  <a:pt x="2130" y="504"/>
                </a:lnTo>
                <a:lnTo>
                  <a:pt x="2133" y="505"/>
                </a:lnTo>
                <a:lnTo>
                  <a:pt x="2135" y="507"/>
                </a:lnTo>
                <a:lnTo>
                  <a:pt x="2139" y="507"/>
                </a:lnTo>
                <a:lnTo>
                  <a:pt x="2141" y="508"/>
                </a:lnTo>
                <a:lnTo>
                  <a:pt x="2144" y="509"/>
                </a:lnTo>
                <a:lnTo>
                  <a:pt x="2148" y="509"/>
                </a:lnTo>
                <a:lnTo>
                  <a:pt x="2150" y="510"/>
                </a:lnTo>
                <a:lnTo>
                  <a:pt x="2153" y="511"/>
                </a:lnTo>
                <a:lnTo>
                  <a:pt x="2155" y="511"/>
                </a:lnTo>
                <a:lnTo>
                  <a:pt x="2159" y="512"/>
                </a:lnTo>
                <a:lnTo>
                  <a:pt x="2161" y="512"/>
                </a:lnTo>
                <a:lnTo>
                  <a:pt x="2164" y="513"/>
                </a:lnTo>
                <a:lnTo>
                  <a:pt x="2168" y="514"/>
                </a:lnTo>
                <a:lnTo>
                  <a:pt x="2170" y="514"/>
                </a:lnTo>
                <a:lnTo>
                  <a:pt x="2173" y="516"/>
                </a:lnTo>
                <a:lnTo>
                  <a:pt x="2175" y="516"/>
                </a:lnTo>
                <a:lnTo>
                  <a:pt x="2179" y="517"/>
                </a:lnTo>
                <a:lnTo>
                  <a:pt x="2182" y="517"/>
                </a:lnTo>
                <a:lnTo>
                  <a:pt x="2184" y="518"/>
                </a:lnTo>
                <a:lnTo>
                  <a:pt x="2188" y="519"/>
                </a:lnTo>
                <a:lnTo>
                  <a:pt x="2190" y="519"/>
                </a:lnTo>
                <a:lnTo>
                  <a:pt x="2193" y="520"/>
                </a:lnTo>
                <a:lnTo>
                  <a:pt x="2197" y="520"/>
                </a:lnTo>
                <a:lnTo>
                  <a:pt x="2199" y="521"/>
                </a:lnTo>
                <a:lnTo>
                  <a:pt x="2202" y="521"/>
                </a:lnTo>
                <a:lnTo>
                  <a:pt x="2204" y="522"/>
                </a:lnTo>
                <a:lnTo>
                  <a:pt x="2208" y="522"/>
                </a:lnTo>
                <a:lnTo>
                  <a:pt x="2211" y="523"/>
                </a:lnTo>
                <a:lnTo>
                  <a:pt x="2213" y="523"/>
                </a:lnTo>
                <a:lnTo>
                  <a:pt x="2217" y="524"/>
                </a:lnTo>
                <a:lnTo>
                  <a:pt x="2219" y="524"/>
                </a:lnTo>
                <a:lnTo>
                  <a:pt x="2222" y="526"/>
                </a:lnTo>
                <a:lnTo>
                  <a:pt x="2226" y="526"/>
                </a:lnTo>
                <a:lnTo>
                  <a:pt x="2228" y="526"/>
                </a:lnTo>
                <a:lnTo>
                  <a:pt x="2231" y="527"/>
                </a:lnTo>
                <a:lnTo>
                  <a:pt x="2233" y="527"/>
                </a:lnTo>
                <a:lnTo>
                  <a:pt x="2237" y="528"/>
                </a:lnTo>
                <a:lnTo>
                  <a:pt x="2240" y="528"/>
                </a:lnTo>
                <a:lnTo>
                  <a:pt x="2242" y="529"/>
                </a:lnTo>
                <a:lnTo>
                  <a:pt x="2246" y="529"/>
                </a:lnTo>
                <a:lnTo>
                  <a:pt x="2248" y="529"/>
                </a:lnTo>
                <a:lnTo>
                  <a:pt x="2251" y="530"/>
                </a:lnTo>
                <a:lnTo>
                  <a:pt x="2254" y="530"/>
                </a:lnTo>
                <a:lnTo>
                  <a:pt x="2257" y="531"/>
                </a:lnTo>
                <a:lnTo>
                  <a:pt x="2260" y="531"/>
                </a:lnTo>
                <a:lnTo>
                  <a:pt x="2262" y="531"/>
                </a:lnTo>
                <a:lnTo>
                  <a:pt x="2266" y="532"/>
                </a:lnTo>
                <a:lnTo>
                  <a:pt x="2268" y="532"/>
                </a:lnTo>
                <a:lnTo>
                  <a:pt x="2271" y="532"/>
                </a:lnTo>
                <a:lnTo>
                  <a:pt x="2275" y="533"/>
                </a:lnTo>
                <a:lnTo>
                  <a:pt x="2277" y="533"/>
                </a:lnTo>
                <a:lnTo>
                  <a:pt x="2280" y="533"/>
                </a:lnTo>
                <a:lnTo>
                  <a:pt x="2283" y="533"/>
                </a:lnTo>
                <a:lnTo>
                  <a:pt x="2286" y="534"/>
                </a:lnTo>
                <a:lnTo>
                  <a:pt x="2289" y="534"/>
                </a:lnTo>
                <a:lnTo>
                  <a:pt x="2291" y="534"/>
                </a:lnTo>
                <a:lnTo>
                  <a:pt x="2295" y="536"/>
                </a:lnTo>
                <a:lnTo>
                  <a:pt x="2297" y="536"/>
                </a:lnTo>
                <a:lnTo>
                  <a:pt x="2300" y="536"/>
                </a:lnTo>
                <a:lnTo>
                  <a:pt x="2304" y="536"/>
                </a:lnTo>
                <a:lnTo>
                  <a:pt x="2306" y="537"/>
                </a:lnTo>
                <a:lnTo>
                  <a:pt x="2309" y="537"/>
                </a:lnTo>
                <a:lnTo>
                  <a:pt x="2312" y="537"/>
                </a:lnTo>
                <a:lnTo>
                  <a:pt x="2315" y="537"/>
                </a:lnTo>
                <a:lnTo>
                  <a:pt x="2318" y="537"/>
                </a:lnTo>
                <a:lnTo>
                  <a:pt x="2320" y="538"/>
                </a:lnTo>
                <a:lnTo>
                  <a:pt x="2324" y="538"/>
                </a:lnTo>
                <a:lnTo>
                  <a:pt x="2326" y="538"/>
                </a:lnTo>
                <a:lnTo>
                  <a:pt x="2329" y="538"/>
                </a:lnTo>
                <a:lnTo>
                  <a:pt x="2333" y="538"/>
                </a:lnTo>
                <a:lnTo>
                  <a:pt x="2335" y="539"/>
                </a:lnTo>
                <a:lnTo>
                  <a:pt x="2338" y="539"/>
                </a:lnTo>
                <a:lnTo>
                  <a:pt x="2341" y="539"/>
                </a:lnTo>
                <a:lnTo>
                  <a:pt x="2344" y="539"/>
                </a:lnTo>
                <a:lnTo>
                  <a:pt x="2346" y="539"/>
                </a:lnTo>
                <a:lnTo>
                  <a:pt x="2349" y="539"/>
                </a:lnTo>
                <a:lnTo>
                  <a:pt x="2353" y="539"/>
                </a:lnTo>
                <a:lnTo>
                  <a:pt x="2355" y="539"/>
                </a:lnTo>
                <a:lnTo>
                  <a:pt x="2358" y="540"/>
                </a:lnTo>
                <a:lnTo>
                  <a:pt x="2361" y="540"/>
                </a:lnTo>
                <a:lnTo>
                  <a:pt x="2364" y="540"/>
                </a:lnTo>
                <a:lnTo>
                  <a:pt x="2367" y="540"/>
                </a:lnTo>
                <a:lnTo>
                  <a:pt x="2370" y="540"/>
                </a:lnTo>
                <a:lnTo>
                  <a:pt x="2373" y="540"/>
                </a:lnTo>
                <a:lnTo>
                  <a:pt x="2375" y="540"/>
                </a:lnTo>
                <a:lnTo>
                  <a:pt x="2378" y="540"/>
                </a:lnTo>
                <a:lnTo>
                  <a:pt x="2382" y="540"/>
                </a:lnTo>
                <a:lnTo>
                  <a:pt x="2384" y="540"/>
                </a:lnTo>
                <a:lnTo>
                  <a:pt x="2387" y="540"/>
                </a:lnTo>
                <a:lnTo>
                  <a:pt x="2390" y="540"/>
                </a:lnTo>
                <a:lnTo>
                  <a:pt x="2393" y="540"/>
                </a:lnTo>
                <a:lnTo>
                  <a:pt x="2396" y="540"/>
                </a:lnTo>
                <a:lnTo>
                  <a:pt x="2399" y="540"/>
                </a:lnTo>
                <a:lnTo>
                  <a:pt x="2402" y="540"/>
                </a:lnTo>
                <a:lnTo>
                  <a:pt x="2404" y="540"/>
                </a:lnTo>
                <a:lnTo>
                  <a:pt x="2407" y="540"/>
                </a:lnTo>
                <a:lnTo>
                  <a:pt x="2411" y="540"/>
                </a:lnTo>
                <a:lnTo>
                  <a:pt x="2413" y="540"/>
                </a:lnTo>
                <a:lnTo>
                  <a:pt x="2416" y="540"/>
                </a:lnTo>
                <a:lnTo>
                  <a:pt x="2419" y="540"/>
                </a:lnTo>
                <a:lnTo>
                  <a:pt x="2422" y="540"/>
                </a:lnTo>
                <a:lnTo>
                  <a:pt x="2425" y="540"/>
                </a:lnTo>
                <a:lnTo>
                  <a:pt x="2428" y="540"/>
                </a:lnTo>
                <a:lnTo>
                  <a:pt x="2431" y="539"/>
                </a:lnTo>
                <a:lnTo>
                  <a:pt x="2433" y="539"/>
                </a:lnTo>
                <a:lnTo>
                  <a:pt x="2436" y="539"/>
                </a:lnTo>
                <a:lnTo>
                  <a:pt x="2439" y="539"/>
                </a:lnTo>
                <a:lnTo>
                  <a:pt x="2442" y="539"/>
                </a:lnTo>
                <a:lnTo>
                  <a:pt x="2445" y="539"/>
                </a:lnTo>
                <a:lnTo>
                  <a:pt x="2448" y="539"/>
                </a:lnTo>
                <a:lnTo>
                  <a:pt x="2451" y="539"/>
                </a:lnTo>
                <a:lnTo>
                  <a:pt x="2453" y="538"/>
                </a:lnTo>
                <a:lnTo>
                  <a:pt x="2457" y="538"/>
                </a:lnTo>
                <a:lnTo>
                  <a:pt x="2460" y="538"/>
                </a:lnTo>
                <a:lnTo>
                  <a:pt x="2462" y="538"/>
                </a:lnTo>
                <a:lnTo>
                  <a:pt x="2466" y="538"/>
                </a:lnTo>
                <a:lnTo>
                  <a:pt x="2468" y="537"/>
                </a:lnTo>
                <a:lnTo>
                  <a:pt x="2471" y="537"/>
                </a:lnTo>
                <a:lnTo>
                  <a:pt x="2474" y="537"/>
                </a:lnTo>
                <a:lnTo>
                  <a:pt x="2477" y="537"/>
                </a:lnTo>
                <a:lnTo>
                  <a:pt x="2480" y="537"/>
                </a:lnTo>
                <a:lnTo>
                  <a:pt x="2482" y="536"/>
                </a:lnTo>
                <a:lnTo>
                  <a:pt x="2486" y="536"/>
                </a:lnTo>
                <a:lnTo>
                  <a:pt x="2489" y="536"/>
                </a:lnTo>
                <a:lnTo>
                  <a:pt x="2491" y="536"/>
                </a:lnTo>
                <a:lnTo>
                  <a:pt x="2495" y="534"/>
                </a:lnTo>
                <a:lnTo>
                  <a:pt x="2497" y="534"/>
                </a:lnTo>
                <a:lnTo>
                  <a:pt x="2500" y="534"/>
                </a:lnTo>
                <a:lnTo>
                  <a:pt x="2503" y="533"/>
                </a:lnTo>
                <a:lnTo>
                  <a:pt x="2506" y="533"/>
                </a:lnTo>
                <a:lnTo>
                  <a:pt x="2509" y="533"/>
                </a:lnTo>
                <a:lnTo>
                  <a:pt x="2511" y="532"/>
                </a:lnTo>
                <a:lnTo>
                  <a:pt x="2515" y="532"/>
                </a:lnTo>
                <a:lnTo>
                  <a:pt x="2518" y="532"/>
                </a:lnTo>
                <a:lnTo>
                  <a:pt x="2520" y="531"/>
                </a:lnTo>
                <a:lnTo>
                  <a:pt x="2524" y="531"/>
                </a:lnTo>
                <a:lnTo>
                  <a:pt x="2526" y="531"/>
                </a:lnTo>
                <a:lnTo>
                  <a:pt x="2529" y="530"/>
                </a:lnTo>
                <a:lnTo>
                  <a:pt x="2531" y="530"/>
                </a:lnTo>
                <a:lnTo>
                  <a:pt x="2535" y="530"/>
                </a:lnTo>
                <a:lnTo>
                  <a:pt x="2538" y="529"/>
                </a:lnTo>
                <a:lnTo>
                  <a:pt x="2540" y="529"/>
                </a:lnTo>
                <a:lnTo>
                  <a:pt x="2544" y="528"/>
                </a:lnTo>
                <a:lnTo>
                  <a:pt x="2546" y="528"/>
                </a:lnTo>
                <a:lnTo>
                  <a:pt x="2549" y="528"/>
                </a:lnTo>
                <a:lnTo>
                  <a:pt x="2553" y="527"/>
                </a:lnTo>
                <a:lnTo>
                  <a:pt x="2555" y="527"/>
                </a:lnTo>
                <a:lnTo>
                  <a:pt x="2558" y="526"/>
                </a:lnTo>
                <a:lnTo>
                  <a:pt x="2560" y="526"/>
                </a:lnTo>
                <a:lnTo>
                  <a:pt x="2564" y="524"/>
                </a:lnTo>
                <a:lnTo>
                  <a:pt x="2567" y="524"/>
                </a:lnTo>
                <a:lnTo>
                  <a:pt x="2569" y="524"/>
                </a:lnTo>
                <a:lnTo>
                  <a:pt x="2573" y="523"/>
                </a:lnTo>
                <a:lnTo>
                  <a:pt x="2575" y="523"/>
                </a:lnTo>
                <a:lnTo>
                  <a:pt x="2578" y="522"/>
                </a:lnTo>
                <a:lnTo>
                  <a:pt x="2582" y="522"/>
                </a:lnTo>
                <a:lnTo>
                  <a:pt x="2584" y="521"/>
                </a:lnTo>
                <a:lnTo>
                  <a:pt x="2587" y="521"/>
                </a:lnTo>
                <a:lnTo>
                  <a:pt x="2589" y="520"/>
                </a:lnTo>
                <a:lnTo>
                  <a:pt x="2593" y="520"/>
                </a:lnTo>
                <a:lnTo>
                  <a:pt x="2596" y="519"/>
                </a:lnTo>
                <a:lnTo>
                  <a:pt x="2598" y="518"/>
                </a:lnTo>
                <a:lnTo>
                  <a:pt x="2602" y="518"/>
                </a:lnTo>
                <a:lnTo>
                  <a:pt x="2604" y="517"/>
                </a:lnTo>
                <a:lnTo>
                  <a:pt x="2607" y="517"/>
                </a:lnTo>
                <a:lnTo>
                  <a:pt x="2609" y="516"/>
                </a:lnTo>
                <a:lnTo>
                  <a:pt x="2613" y="516"/>
                </a:lnTo>
                <a:lnTo>
                  <a:pt x="2616" y="514"/>
                </a:lnTo>
                <a:lnTo>
                  <a:pt x="2618" y="513"/>
                </a:lnTo>
                <a:lnTo>
                  <a:pt x="2622" y="513"/>
                </a:lnTo>
                <a:lnTo>
                  <a:pt x="2624" y="512"/>
                </a:lnTo>
                <a:lnTo>
                  <a:pt x="2627" y="512"/>
                </a:lnTo>
                <a:lnTo>
                  <a:pt x="2631" y="511"/>
                </a:lnTo>
                <a:lnTo>
                  <a:pt x="2633" y="510"/>
                </a:lnTo>
                <a:lnTo>
                  <a:pt x="2636" y="510"/>
                </a:lnTo>
                <a:lnTo>
                  <a:pt x="2638" y="509"/>
                </a:lnTo>
                <a:lnTo>
                  <a:pt x="2642" y="508"/>
                </a:lnTo>
                <a:lnTo>
                  <a:pt x="2645" y="508"/>
                </a:lnTo>
                <a:lnTo>
                  <a:pt x="2647" y="507"/>
                </a:lnTo>
                <a:lnTo>
                  <a:pt x="2651" y="505"/>
                </a:lnTo>
                <a:lnTo>
                  <a:pt x="2653" y="505"/>
                </a:lnTo>
                <a:lnTo>
                  <a:pt x="2656" y="504"/>
                </a:lnTo>
                <a:lnTo>
                  <a:pt x="2660" y="503"/>
                </a:lnTo>
                <a:lnTo>
                  <a:pt x="2662" y="503"/>
                </a:lnTo>
                <a:lnTo>
                  <a:pt x="2665" y="502"/>
                </a:lnTo>
                <a:lnTo>
                  <a:pt x="2667" y="501"/>
                </a:lnTo>
                <a:lnTo>
                  <a:pt x="2671" y="501"/>
                </a:lnTo>
                <a:lnTo>
                  <a:pt x="2674" y="500"/>
                </a:lnTo>
                <a:lnTo>
                  <a:pt x="2676" y="499"/>
                </a:lnTo>
                <a:lnTo>
                  <a:pt x="2680" y="498"/>
                </a:lnTo>
                <a:lnTo>
                  <a:pt x="2682" y="498"/>
                </a:lnTo>
                <a:lnTo>
                  <a:pt x="2685" y="497"/>
                </a:lnTo>
                <a:lnTo>
                  <a:pt x="2689" y="495"/>
                </a:lnTo>
                <a:lnTo>
                  <a:pt x="2691" y="494"/>
                </a:lnTo>
                <a:lnTo>
                  <a:pt x="2694" y="494"/>
                </a:lnTo>
                <a:lnTo>
                  <a:pt x="2696" y="493"/>
                </a:lnTo>
                <a:lnTo>
                  <a:pt x="2700" y="492"/>
                </a:lnTo>
                <a:lnTo>
                  <a:pt x="2702" y="491"/>
                </a:lnTo>
                <a:lnTo>
                  <a:pt x="2705" y="490"/>
                </a:lnTo>
                <a:lnTo>
                  <a:pt x="2709" y="490"/>
                </a:lnTo>
                <a:lnTo>
                  <a:pt x="2711" y="489"/>
                </a:lnTo>
                <a:lnTo>
                  <a:pt x="2714" y="488"/>
                </a:lnTo>
                <a:lnTo>
                  <a:pt x="2717" y="487"/>
                </a:lnTo>
                <a:lnTo>
                  <a:pt x="2720" y="485"/>
                </a:lnTo>
                <a:lnTo>
                  <a:pt x="2723" y="485"/>
                </a:lnTo>
                <a:lnTo>
                  <a:pt x="2725" y="484"/>
                </a:lnTo>
                <a:lnTo>
                  <a:pt x="2729" y="483"/>
                </a:lnTo>
                <a:lnTo>
                  <a:pt x="2731" y="482"/>
                </a:lnTo>
                <a:lnTo>
                  <a:pt x="2734" y="481"/>
                </a:lnTo>
                <a:lnTo>
                  <a:pt x="2738" y="480"/>
                </a:lnTo>
                <a:lnTo>
                  <a:pt x="2740" y="479"/>
                </a:lnTo>
                <a:lnTo>
                  <a:pt x="2743" y="479"/>
                </a:lnTo>
                <a:lnTo>
                  <a:pt x="2746" y="478"/>
                </a:lnTo>
                <a:lnTo>
                  <a:pt x="2749" y="477"/>
                </a:lnTo>
                <a:lnTo>
                  <a:pt x="2752" y="475"/>
                </a:lnTo>
                <a:lnTo>
                  <a:pt x="2754" y="474"/>
                </a:lnTo>
                <a:lnTo>
                  <a:pt x="2758" y="473"/>
                </a:lnTo>
                <a:lnTo>
                  <a:pt x="2760" y="472"/>
                </a:lnTo>
                <a:lnTo>
                  <a:pt x="2763" y="471"/>
                </a:lnTo>
                <a:lnTo>
                  <a:pt x="2767" y="470"/>
                </a:lnTo>
                <a:lnTo>
                  <a:pt x="2769" y="469"/>
                </a:lnTo>
                <a:lnTo>
                  <a:pt x="2772" y="468"/>
                </a:lnTo>
                <a:lnTo>
                  <a:pt x="2775" y="468"/>
                </a:lnTo>
                <a:lnTo>
                  <a:pt x="2778" y="467"/>
                </a:lnTo>
                <a:lnTo>
                  <a:pt x="2781" y="465"/>
                </a:lnTo>
                <a:lnTo>
                  <a:pt x="2783" y="464"/>
                </a:lnTo>
                <a:lnTo>
                  <a:pt x="2787" y="463"/>
                </a:lnTo>
                <a:lnTo>
                  <a:pt x="2789" y="462"/>
                </a:lnTo>
                <a:lnTo>
                  <a:pt x="2792" y="461"/>
                </a:lnTo>
                <a:lnTo>
                  <a:pt x="2795" y="460"/>
                </a:lnTo>
                <a:lnTo>
                  <a:pt x="2798" y="459"/>
                </a:lnTo>
                <a:lnTo>
                  <a:pt x="2801" y="458"/>
                </a:lnTo>
                <a:lnTo>
                  <a:pt x="2804" y="456"/>
                </a:lnTo>
                <a:lnTo>
                  <a:pt x="2807" y="455"/>
                </a:lnTo>
                <a:lnTo>
                  <a:pt x="2809" y="454"/>
                </a:lnTo>
                <a:lnTo>
                  <a:pt x="2812" y="453"/>
                </a:lnTo>
                <a:lnTo>
                  <a:pt x="2816" y="452"/>
                </a:lnTo>
                <a:lnTo>
                  <a:pt x="2818" y="451"/>
                </a:lnTo>
                <a:lnTo>
                  <a:pt x="2821" y="450"/>
                </a:lnTo>
                <a:lnTo>
                  <a:pt x="2824" y="449"/>
                </a:lnTo>
                <a:lnTo>
                  <a:pt x="2827" y="448"/>
                </a:lnTo>
                <a:lnTo>
                  <a:pt x="2830" y="446"/>
                </a:lnTo>
                <a:lnTo>
                  <a:pt x="2833" y="445"/>
                </a:lnTo>
                <a:lnTo>
                  <a:pt x="2836" y="443"/>
                </a:lnTo>
                <a:lnTo>
                  <a:pt x="2838" y="442"/>
                </a:lnTo>
                <a:lnTo>
                  <a:pt x="2841" y="441"/>
                </a:lnTo>
                <a:lnTo>
                  <a:pt x="2845" y="440"/>
                </a:lnTo>
                <a:lnTo>
                  <a:pt x="2847" y="439"/>
                </a:lnTo>
                <a:lnTo>
                  <a:pt x="2850" y="438"/>
                </a:lnTo>
                <a:lnTo>
                  <a:pt x="2853" y="436"/>
                </a:lnTo>
                <a:lnTo>
                  <a:pt x="2856" y="435"/>
                </a:lnTo>
                <a:lnTo>
                  <a:pt x="2859" y="434"/>
                </a:lnTo>
                <a:lnTo>
                  <a:pt x="2862" y="433"/>
                </a:lnTo>
                <a:lnTo>
                  <a:pt x="2865" y="432"/>
                </a:lnTo>
                <a:lnTo>
                  <a:pt x="2867" y="431"/>
                </a:lnTo>
                <a:lnTo>
                  <a:pt x="2870" y="429"/>
                </a:lnTo>
                <a:lnTo>
                  <a:pt x="2874" y="428"/>
                </a:lnTo>
                <a:lnTo>
                  <a:pt x="2876" y="426"/>
                </a:lnTo>
                <a:lnTo>
                  <a:pt x="2879" y="425"/>
                </a:lnTo>
                <a:lnTo>
                  <a:pt x="2882" y="424"/>
                </a:lnTo>
                <a:lnTo>
                  <a:pt x="2885" y="423"/>
                </a:lnTo>
                <a:lnTo>
                  <a:pt x="2887" y="422"/>
                </a:lnTo>
                <a:lnTo>
                  <a:pt x="2891" y="420"/>
                </a:lnTo>
                <a:lnTo>
                  <a:pt x="2894" y="419"/>
                </a:lnTo>
                <a:lnTo>
                  <a:pt x="2896" y="417"/>
                </a:lnTo>
                <a:lnTo>
                  <a:pt x="2899" y="416"/>
                </a:lnTo>
                <a:lnTo>
                  <a:pt x="2902" y="415"/>
                </a:lnTo>
                <a:lnTo>
                  <a:pt x="2905" y="414"/>
                </a:lnTo>
                <a:lnTo>
                  <a:pt x="2908" y="412"/>
                </a:lnTo>
                <a:lnTo>
                  <a:pt x="2911" y="411"/>
                </a:lnTo>
                <a:lnTo>
                  <a:pt x="2914" y="410"/>
                </a:lnTo>
                <a:lnTo>
                  <a:pt x="2916" y="409"/>
                </a:lnTo>
                <a:lnTo>
                  <a:pt x="2920" y="407"/>
                </a:lnTo>
                <a:lnTo>
                  <a:pt x="2923" y="406"/>
                </a:lnTo>
                <a:lnTo>
                  <a:pt x="2925" y="404"/>
                </a:lnTo>
                <a:lnTo>
                  <a:pt x="2928" y="403"/>
                </a:lnTo>
                <a:lnTo>
                  <a:pt x="2931" y="402"/>
                </a:lnTo>
                <a:lnTo>
                  <a:pt x="2934" y="401"/>
                </a:lnTo>
                <a:lnTo>
                  <a:pt x="2937" y="400"/>
                </a:lnTo>
                <a:lnTo>
                  <a:pt x="2940" y="397"/>
                </a:lnTo>
                <a:lnTo>
                  <a:pt x="2943" y="396"/>
                </a:lnTo>
                <a:lnTo>
                  <a:pt x="2945" y="395"/>
                </a:lnTo>
                <a:lnTo>
                  <a:pt x="2949" y="394"/>
                </a:lnTo>
                <a:lnTo>
                  <a:pt x="2952" y="392"/>
                </a:lnTo>
                <a:lnTo>
                  <a:pt x="2954" y="391"/>
                </a:lnTo>
                <a:lnTo>
                  <a:pt x="2957" y="390"/>
                </a:lnTo>
                <a:lnTo>
                  <a:pt x="2960" y="389"/>
                </a:lnTo>
                <a:lnTo>
                  <a:pt x="2963" y="386"/>
                </a:lnTo>
                <a:lnTo>
                  <a:pt x="2966" y="385"/>
                </a:lnTo>
                <a:lnTo>
                  <a:pt x="2969" y="384"/>
                </a:lnTo>
                <a:lnTo>
                  <a:pt x="2972" y="383"/>
                </a:lnTo>
                <a:lnTo>
                  <a:pt x="2974" y="381"/>
                </a:lnTo>
                <a:lnTo>
                  <a:pt x="2978" y="380"/>
                </a:lnTo>
                <a:lnTo>
                  <a:pt x="2980" y="378"/>
                </a:lnTo>
                <a:lnTo>
                  <a:pt x="2983" y="377"/>
                </a:lnTo>
                <a:lnTo>
                  <a:pt x="2986" y="375"/>
                </a:lnTo>
                <a:lnTo>
                  <a:pt x="2989" y="374"/>
                </a:lnTo>
                <a:lnTo>
                  <a:pt x="2992" y="373"/>
                </a:lnTo>
                <a:lnTo>
                  <a:pt x="2994" y="372"/>
                </a:lnTo>
                <a:lnTo>
                  <a:pt x="2998" y="370"/>
                </a:lnTo>
                <a:lnTo>
                  <a:pt x="3001" y="368"/>
                </a:lnTo>
                <a:lnTo>
                  <a:pt x="3003" y="367"/>
                </a:lnTo>
                <a:lnTo>
                  <a:pt x="3007" y="365"/>
                </a:lnTo>
                <a:lnTo>
                  <a:pt x="3009" y="364"/>
                </a:lnTo>
                <a:lnTo>
                  <a:pt x="3012" y="363"/>
                </a:lnTo>
                <a:lnTo>
                  <a:pt x="3015" y="362"/>
                </a:lnTo>
                <a:lnTo>
                  <a:pt x="3018" y="360"/>
                </a:lnTo>
                <a:lnTo>
                  <a:pt x="3021" y="358"/>
                </a:lnTo>
                <a:lnTo>
                  <a:pt x="3023" y="357"/>
                </a:lnTo>
                <a:lnTo>
                  <a:pt x="3027" y="355"/>
                </a:lnTo>
                <a:lnTo>
                  <a:pt x="3030" y="354"/>
                </a:lnTo>
                <a:lnTo>
                  <a:pt x="3032" y="353"/>
                </a:lnTo>
                <a:lnTo>
                  <a:pt x="3036" y="351"/>
                </a:lnTo>
                <a:lnTo>
                  <a:pt x="3038" y="350"/>
                </a:lnTo>
                <a:lnTo>
                  <a:pt x="3041" y="348"/>
                </a:lnTo>
                <a:lnTo>
                  <a:pt x="3044" y="346"/>
                </a:lnTo>
                <a:lnTo>
                  <a:pt x="3047" y="345"/>
                </a:lnTo>
                <a:lnTo>
                  <a:pt x="3050" y="344"/>
                </a:lnTo>
                <a:lnTo>
                  <a:pt x="3052" y="342"/>
                </a:lnTo>
                <a:lnTo>
                  <a:pt x="3056" y="341"/>
                </a:lnTo>
                <a:lnTo>
                  <a:pt x="3058" y="339"/>
                </a:lnTo>
                <a:lnTo>
                  <a:pt x="3061" y="337"/>
                </a:lnTo>
                <a:lnTo>
                  <a:pt x="3065" y="336"/>
                </a:lnTo>
                <a:lnTo>
                  <a:pt x="3067" y="335"/>
                </a:lnTo>
                <a:lnTo>
                  <a:pt x="3070" y="333"/>
                </a:lnTo>
                <a:lnTo>
                  <a:pt x="3072" y="332"/>
                </a:lnTo>
                <a:lnTo>
                  <a:pt x="3076" y="331"/>
                </a:lnTo>
                <a:lnTo>
                  <a:pt x="3079" y="328"/>
                </a:lnTo>
                <a:lnTo>
                  <a:pt x="3081" y="327"/>
                </a:lnTo>
                <a:lnTo>
                  <a:pt x="3085" y="326"/>
                </a:lnTo>
                <a:lnTo>
                  <a:pt x="3087" y="324"/>
                </a:lnTo>
                <a:lnTo>
                  <a:pt x="3090" y="323"/>
                </a:lnTo>
                <a:lnTo>
                  <a:pt x="3094" y="322"/>
                </a:lnTo>
                <a:lnTo>
                  <a:pt x="3096" y="319"/>
                </a:lnTo>
                <a:lnTo>
                  <a:pt x="3099" y="318"/>
                </a:lnTo>
                <a:lnTo>
                  <a:pt x="3101" y="316"/>
                </a:lnTo>
                <a:lnTo>
                  <a:pt x="3105" y="315"/>
                </a:lnTo>
                <a:lnTo>
                  <a:pt x="3108" y="314"/>
                </a:lnTo>
                <a:lnTo>
                  <a:pt x="3110" y="312"/>
                </a:lnTo>
                <a:lnTo>
                  <a:pt x="3114" y="311"/>
                </a:lnTo>
                <a:lnTo>
                  <a:pt x="3116" y="309"/>
                </a:lnTo>
                <a:lnTo>
                  <a:pt x="3119" y="307"/>
                </a:lnTo>
                <a:lnTo>
                  <a:pt x="3123" y="306"/>
                </a:lnTo>
                <a:lnTo>
                  <a:pt x="3125" y="305"/>
                </a:lnTo>
                <a:lnTo>
                  <a:pt x="3128" y="303"/>
                </a:lnTo>
                <a:lnTo>
                  <a:pt x="3130" y="302"/>
                </a:lnTo>
                <a:lnTo>
                  <a:pt x="3134" y="299"/>
                </a:lnTo>
                <a:lnTo>
                  <a:pt x="3137" y="298"/>
                </a:lnTo>
                <a:lnTo>
                  <a:pt x="3139" y="297"/>
                </a:lnTo>
                <a:lnTo>
                  <a:pt x="3143" y="295"/>
                </a:lnTo>
                <a:lnTo>
                  <a:pt x="3145" y="294"/>
                </a:lnTo>
                <a:lnTo>
                  <a:pt x="3148" y="293"/>
                </a:lnTo>
                <a:lnTo>
                  <a:pt x="3150" y="290"/>
                </a:lnTo>
                <a:lnTo>
                  <a:pt x="3154" y="289"/>
                </a:lnTo>
                <a:lnTo>
                  <a:pt x="3157" y="287"/>
                </a:lnTo>
                <a:lnTo>
                  <a:pt x="3159" y="286"/>
                </a:lnTo>
                <a:lnTo>
                  <a:pt x="3163" y="285"/>
                </a:lnTo>
                <a:lnTo>
                  <a:pt x="3165" y="283"/>
                </a:lnTo>
                <a:lnTo>
                  <a:pt x="3168" y="282"/>
                </a:lnTo>
                <a:lnTo>
                  <a:pt x="3172" y="280"/>
                </a:lnTo>
                <a:lnTo>
                  <a:pt x="3174" y="278"/>
                </a:lnTo>
                <a:lnTo>
                  <a:pt x="3177" y="277"/>
                </a:lnTo>
                <a:lnTo>
                  <a:pt x="3179" y="275"/>
                </a:lnTo>
                <a:lnTo>
                  <a:pt x="3183" y="274"/>
                </a:lnTo>
                <a:lnTo>
                  <a:pt x="3186" y="273"/>
                </a:lnTo>
                <a:lnTo>
                  <a:pt x="3188" y="270"/>
                </a:lnTo>
                <a:lnTo>
                  <a:pt x="3192" y="269"/>
                </a:lnTo>
                <a:lnTo>
                  <a:pt x="3194" y="267"/>
                </a:lnTo>
                <a:lnTo>
                  <a:pt x="3197" y="266"/>
                </a:lnTo>
                <a:lnTo>
                  <a:pt x="3201" y="265"/>
                </a:lnTo>
                <a:lnTo>
                  <a:pt x="3203" y="263"/>
                </a:lnTo>
                <a:lnTo>
                  <a:pt x="3206" y="262"/>
                </a:lnTo>
                <a:lnTo>
                  <a:pt x="3208" y="260"/>
                </a:lnTo>
                <a:lnTo>
                  <a:pt x="3212" y="258"/>
                </a:lnTo>
                <a:lnTo>
                  <a:pt x="3215" y="257"/>
                </a:lnTo>
                <a:lnTo>
                  <a:pt x="3217" y="255"/>
                </a:lnTo>
                <a:lnTo>
                  <a:pt x="3221" y="254"/>
                </a:lnTo>
                <a:lnTo>
                  <a:pt x="3223" y="253"/>
                </a:lnTo>
                <a:lnTo>
                  <a:pt x="3226" y="250"/>
                </a:lnTo>
                <a:lnTo>
                  <a:pt x="3230" y="249"/>
                </a:lnTo>
                <a:lnTo>
                  <a:pt x="3232" y="248"/>
                </a:lnTo>
                <a:lnTo>
                  <a:pt x="3235" y="246"/>
                </a:lnTo>
                <a:lnTo>
                  <a:pt x="3237" y="245"/>
                </a:lnTo>
                <a:lnTo>
                  <a:pt x="3241" y="243"/>
                </a:lnTo>
                <a:lnTo>
                  <a:pt x="3243" y="241"/>
                </a:lnTo>
                <a:lnTo>
                  <a:pt x="3246" y="240"/>
                </a:lnTo>
                <a:lnTo>
                  <a:pt x="3250" y="238"/>
                </a:lnTo>
                <a:lnTo>
                  <a:pt x="3252" y="237"/>
                </a:lnTo>
                <a:lnTo>
                  <a:pt x="3255" y="236"/>
                </a:lnTo>
                <a:lnTo>
                  <a:pt x="3258" y="234"/>
                </a:lnTo>
                <a:lnTo>
                  <a:pt x="3261" y="233"/>
                </a:lnTo>
                <a:lnTo>
                  <a:pt x="3264" y="230"/>
                </a:lnTo>
                <a:lnTo>
                  <a:pt x="3266" y="229"/>
                </a:lnTo>
                <a:lnTo>
                  <a:pt x="3270" y="228"/>
                </a:lnTo>
                <a:lnTo>
                  <a:pt x="3272" y="226"/>
                </a:lnTo>
                <a:lnTo>
                  <a:pt x="3275" y="225"/>
                </a:lnTo>
                <a:lnTo>
                  <a:pt x="3279" y="224"/>
                </a:lnTo>
                <a:lnTo>
                  <a:pt x="3281" y="221"/>
                </a:lnTo>
                <a:lnTo>
                  <a:pt x="3284" y="220"/>
                </a:lnTo>
                <a:lnTo>
                  <a:pt x="3287" y="219"/>
                </a:lnTo>
                <a:lnTo>
                  <a:pt x="3290" y="217"/>
                </a:lnTo>
                <a:lnTo>
                  <a:pt x="3293" y="216"/>
                </a:lnTo>
                <a:lnTo>
                  <a:pt x="3295" y="214"/>
                </a:lnTo>
                <a:lnTo>
                  <a:pt x="3299" y="212"/>
                </a:lnTo>
                <a:lnTo>
                  <a:pt x="3301" y="211"/>
                </a:lnTo>
                <a:lnTo>
                  <a:pt x="3304" y="209"/>
                </a:lnTo>
                <a:lnTo>
                  <a:pt x="3308" y="208"/>
                </a:lnTo>
                <a:lnTo>
                  <a:pt x="3310" y="207"/>
                </a:lnTo>
                <a:lnTo>
                  <a:pt x="3313" y="205"/>
                </a:lnTo>
                <a:lnTo>
                  <a:pt x="3316" y="204"/>
                </a:lnTo>
                <a:lnTo>
                  <a:pt x="3319" y="202"/>
                </a:lnTo>
                <a:lnTo>
                  <a:pt x="3322" y="200"/>
                </a:lnTo>
                <a:lnTo>
                  <a:pt x="3324" y="199"/>
                </a:lnTo>
                <a:lnTo>
                  <a:pt x="3328" y="198"/>
                </a:lnTo>
                <a:lnTo>
                  <a:pt x="3330" y="196"/>
                </a:lnTo>
                <a:lnTo>
                  <a:pt x="3333" y="195"/>
                </a:lnTo>
                <a:lnTo>
                  <a:pt x="3336" y="194"/>
                </a:lnTo>
                <a:lnTo>
                  <a:pt x="3339" y="191"/>
                </a:lnTo>
                <a:lnTo>
                  <a:pt x="3342" y="190"/>
                </a:lnTo>
                <a:lnTo>
                  <a:pt x="3345" y="189"/>
                </a:lnTo>
                <a:lnTo>
                  <a:pt x="3348" y="187"/>
                </a:lnTo>
                <a:lnTo>
                  <a:pt x="3350" y="186"/>
                </a:lnTo>
                <a:lnTo>
                  <a:pt x="3353" y="185"/>
                </a:lnTo>
                <a:lnTo>
                  <a:pt x="3357" y="182"/>
                </a:lnTo>
                <a:lnTo>
                  <a:pt x="3359" y="181"/>
                </a:lnTo>
                <a:lnTo>
                  <a:pt x="3362" y="180"/>
                </a:lnTo>
                <a:lnTo>
                  <a:pt x="3365" y="179"/>
                </a:lnTo>
                <a:lnTo>
                  <a:pt x="3368" y="177"/>
                </a:lnTo>
                <a:lnTo>
                  <a:pt x="3371" y="176"/>
                </a:lnTo>
                <a:lnTo>
                  <a:pt x="3374" y="175"/>
                </a:lnTo>
                <a:lnTo>
                  <a:pt x="3377" y="172"/>
                </a:lnTo>
                <a:lnTo>
                  <a:pt x="3379" y="171"/>
                </a:lnTo>
                <a:lnTo>
                  <a:pt x="3382" y="170"/>
                </a:lnTo>
                <a:lnTo>
                  <a:pt x="3386" y="169"/>
                </a:lnTo>
                <a:lnTo>
                  <a:pt x="3388" y="167"/>
                </a:lnTo>
                <a:lnTo>
                  <a:pt x="3391" y="166"/>
                </a:lnTo>
                <a:lnTo>
                  <a:pt x="3394" y="165"/>
                </a:lnTo>
                <a:lnTo>
                  <a:pt x="3397" y="162"/>
                </a:lnTo>
                <a:lnTo>
                  <a:pt x="3400" y="161"/>
                </a:lnTo>
                <a:lnTo>
                  <a:pt x="3403" y="160"/>
                </a:lnTo>
                <a:lnTo>
                  <a:pt x="3406" y="159"/>
                </a:lnTo>
                <a:lnTo>
                  <a:pt x="3408" y="157"/>
                </a:lnTo>
                <a:lnTo>
                  <a:pt x="3411" y="156"/>
                </a:lnTo>
                <a:lnTo>
                  <a:pt x="3414" y="155"/>
                </a:lnTo>
                <a:lnTo>
                  <a:pt x="3417" y="153"/>
                </a:lnTo>
                <a:lnTo>
                  <a:pt x="3420" y="151"/>
                </a:lnTo>
                <a:lnTo>
                  <a:pt x="3423" y="150"/>
                </a:lnTo>
                <a:lnTo>
                  <a:pt x="3426" y="149"/>
                </a:lnTo>
                <a:lnTo>
                  <a:pt x="3428" y="148"/>
                </a:lnTo>
                <a:lnTo>
                  <a:pt x="3432" y="146"/>
                </a:lnTo>
                <a:lnTo>
                  <a:pt x="3435" y="145"/>
                </a:lnTo>
                <a:lnTo>
                  <a:pt x="3437" y="143"/>
                </a:lnTo>
                <a:lnTo>
                  <a:pt x="3441" y="142"/>
                </a:lnTo>
                <a:lnTo>
                  <a:pt x="3443" y="141"/>
                </a:lnTo>
                <a:lnTo>
                  <a:pt x="3446" y="139"/>
                </a:lnTo>
                <a:lnTo>
                  <a:pt x="3449" y="138"/>
                </a:lnTo>
                <a:lnTo>
                  <a:pt x="3452" y="137"/>
                </a:lnTo>
                <a:lnTo>
                  <a:pt x="3455" y="136"/>
                </a:lnTo>
                <a:lnTo>
                  <a:pt x="3457" y="133"/>
                </a:lnTo>
                <a:lnTo>
                  <a:pt x="3461" y="132"/>
                </a:lnTo>
                <a:lnTo>
                  <a:pt x="3464" y="131"/>
                </a:lnTo>
                <a:lnTo>
                  <a:pt x="3466" y="130"/>
                </a:lnTo>
                <a:lnTo>
                  <a:pt x="3470" y="129"/>
                </a:lnTo>
                <a:lnTo>
                  <a:pt x="3472" y="128"/>
                </a:lnTo>
                <a:lnTo>
                  <a:pt x="3475" y="126"/>
                </a:lnTo>
                <a:lnTo>
                  <a:pt x="3478" y="124"/>
                </a:lnTo>
                <a:lnTo>
                  <a:pt x="3481" y="123"/>
                </a:lnTo>
                <a:lnTo>
                  <a:pt x="3484" y="122"/>
                </a:lnTo>
                <a:lnTo>
                  <a:pt x="3486" y="121"/>
                </a:lnTo>
                <a:lnTo>
                  <a:pt x="3490" y="120"/>
                </a:lnTo>
                <a:lnTo>
                  <a:pt x="3493" y="118"/>
                </a:lnTo>
                <a:lnTo>
                  <a:pt x="3495" y="117"/>
                </a:lnTo>
                <a:lnTo>
                  <a:pt x="3499" y="116"/>
                </a:lnTo>
                <a:lnTo>
                  <a:pt x="3501" y="114"/>
                </a:lnTo>
                <a:lnTo>
                  <a:pt x="3504" y="113"/>
                </a:lnTo>
                <a:lnTo>
                  <a:pt x="3506" y="112"/>
                </a:lnTo>
                <a:lnTo>
                  <a:pt x="3510" y="111"/>
                </a:lnTo>
                <a:lnTo>
                  <a:pt x="3513" y="110"/>
                </a:lnTo>
                <a:lnTo>
                  <a:pt x="3515" y="108"/>
                </a:lnTo>
                <a:lnTo>
                  <a:pt x="3519" y="107"/>
                </a:lnTo>
                <a:lnTo>
                  <a:pt x="3521" y="106"/>
                </a:lnTo>
                <a:lnTo>
                  <a:pt x="3524" y="104"/>
                </a:lnTo>
                <a:lnTo>
                  <a:pt x="3528" y="103"/>
                </a:lnTo>
                <a:lnTo>
                  <a:pt x="3530" y="102"/>
                </a:lnTo>
                <a:lnTo>
                  <a:pt x="3533" y="101"/>
                </a:lnTo>
                <a:lnTo>
                  <a:pt x="3535" y="100"/>
                </a:lnTo>
                <a:lnTo>
                  <a:pt x="3539" y="99"/>
                </a:lnTo>
                <a:lnTo>
                  <a:pt x="3542" y="98"/>
                </a:lnTo>
                <a:lnTo>
                  <a:pt x="3544" y="97"/>
                </a:lnTo>
                <a:lnTo>
                  <a:pt x="3548" y="96"/>
                </a:lnTo>
                <a:lnTo>
                  <a:pt x="3550" y="93"/>
                </a:lnTo>
                <a:lnTo>
                  <a:pt x="3553" y="92"/>
                </a:lnTo>
                <a:lnTo>
                  <a:pt x="3557" y="91"/>
                </a:lnTo>
                <a:lnTo>
                  <a:pt x="3559" y="90"/>
                </a:lnTo>
                <a:lnTo>
                  <a:pt x="3562" y="89"/>
                </a:lnTo>
                <a:lnTo>
                  <a:pt x="3564" y="88"/>
                </a:lnTo>
                <a:lnTo>
                  <a:pt x="3568" y="87"/>
                </a:lnTo>
                <a:lnTo>
                  <a:pt x="3571" y="85"/>
                </a:lnTo>
                <a:lnTo>
                  <a:pt x="3573" y="84"/>
                </a:lnTo>
                <a:lnTo>
                  <a:pt x="3577" y="83"/>
                </a:lnTo>
                <a:lnTo>
                  <a:pt x="3579" y="82"/>
                </a:lnTo>
                <a:lnTo>
                  <a:pt x="3582" y="81"/>
                </a:lnTo>
                <a:lnTo>
                  <a:pt x="3586" y="80"/>
                </a:lnTo>
                <a:lnTo>
                  <a:pt x="3588" y="79"/>
                </a:lnTo>
                <a:lnTo>
                  <a:pt x="3591" y="78"/>
                </a:lnTo>
                <a:lnTo>
                  <a:pt x="3593" y="77"/>
                </a:lnTo>
                <a:lnTo>
                  <a:pt x="3597" y="75"/>
                </a:lnTo>
                <a:lnTo>
                  <a:pt x="3599" y="74"/>
                </a:lnTo>
                <a:lnTo>
                  <a:pt x="3602" y="73"/>
                </a:lnTo>
                <a:lnTo>
                  <a:pt x="3606" y="73"/>
                </a:lnTo>
                <a:lnTo>
                  <a:pt x="3608" y="72"/>
                </a:lnTo>
                <a:lnTo>
                  <a:pt x="3611" y="71"/>
                </a:lnTo>
                <a:lnTo>
                  <a:pt x="3613" y="70"/>
                </a:lnTo>
                <a:lnTo>
                  <a:pt x="3617" y="69"/>
                </a:lnTo>
                <a:lnTo>
                  <a:pt x="3620" y="68"/>
                </a:lnTo>
                <a:lnTo>
                  <a:pt x="3622" y="67"/>
                </a:lnTo>
                <a:lnTo>
                  <a:pt x="3626" y="65"/>
                </a:lnTo>
                <a:lnTo>
                  <a:pt x="3628" y="64"/>
                </a:lnTo>
                <a:lnTo>
                  <a:pt x="3631" y="63"/>
                </a:lnTo>
                <a:lnTo>
                  <a:pt x="3635" y="62"/>
                </a:lnTo>
                <a:lnTo>
                  <a:pt x="3637" y="61"/>
                </a:lnTo>
                <a:lnTo>
                  <a:pt x="3640" y="61"/>
                </a:lnTo>
                <a:lnTo>
                  <a:pt x="3642" y="60"/>
                </a:lnTo>
                <a:lnTo>
                  <a:pt x="3646" y="59"/>
                </a:lnTo>
                <a:lnTo>
                  <a:pt x="3649" y="58"/>
                </a:lnTo>
                <a:lnTo>
                  <a:pt x="3651" y="57"/>
                </a:lnTo>
                <a:lnTo>
                  <a:pt x="3655" y="55"/>
                </a:lnTo>
                <a:lnTo>
                  <a:pt x="3657" y="54"/>
                </a:lnTo>
                <a:lnTo>
                  <a:pt x="3660" y="54"/>
                </a:lnTo>
                <a:lnTo>
                  <a:pt x="3664" y="53"/>
                </a:lnTo>
                <a:lnTo>
                  <a:pt x="3666" y="52"/>
                </a:lnTo>
                <a:lnTo>
                  <a:pt x="3669" y="51"/>
                </a:lnTo>
                <a:lnTo>
                  <a:pt x="3671" y="50"/>
                </a:lnTo>
                <a:lnTo>
                  <a:pt x="3675" y="50"/>
                </a:lnTo>
                <a:lnTo>
                  <a:pt x="3678" y="49"/>
                </a:lnTo>
                <a:lnTo>
                  <a:pt x="3680" y="48"/>
                </a:lnTo>
                <a:lnTo>
                  <a:pt x="3684" y="46"/>
                </a:lnTo>
                <a:lnTo>
                  <a:pt x="3686" y="45"/>
                </a:lnTo>
                <a:lnTo>
                  <a:pt x="3689" y="45"/>
                </a:lnTo>
                <a:lnTo>
                  <a:pt x="3692" y="44"/>
                </a:lnTo>
                <a:lnTo>
                  <a:pt x="3695" y="43"/>
                </a:lnTo>
                <a:lnTo>
                  <a:pt x="3698" y="42"/>
                </a:lnTo>
                <a:lnTo>
                  <a:pt x="3700" y="42"/>
                </a:lnTo>
                <a:lnTo>
                  <a:pt x="3704" y="41"/>
                </a:lnTo>
                <a:lnTo>
                  <a:pt x="3706" y="40"/>
                </a:lnTo>
                <a:lnTo>
                  <a:pt x="3709" y="39"/>
                </a:lnTo>
                <a:lnTo>
                  <a:pt x="3713" y="39"/>
                </a:lnTo>
                <a:lnTo>
                  <a:pt x="3715" y="38"/>
                </a:lnTo>
                <a:lnTo>
                  <a:pt x="3718" y="36"/>
                </a:lnTo>
                <a:lnTo>
                  <a:pt x="3721" y="36"/>
                </a:lnTo>
                <a:lnTo>
                  <a:pt x="3724" y="35"/>
                </a:lnTo>
                <a:lnTo>
                  <a:pt x="3727" y="34"/>
                </a:lnTo>
                <a:lnTo>
                  <a:pt x="3729" y="34"/>
                </a:lnTo>
                <a:lnTo>
                  <a:pt x="3733" y="33"/>
                </a:lnTo>
                <a:lnTo>
                  <a:pt x="3735" y="32"/>
                </a:lnTo>
                <a:lnTo>
                  <a:pt x="3738" y="32"/>
                </a:lnTo>
                <a:lnTo>
                  <a:pt x="3742" y="31"/>
                </a:lnTo>
                <a:lnTo>
                  <a:pt x="3744" y="30"/>
                </a:lnTo>
                <a:lnTo>
                  <a:pt x="3747" y="30"/>
                </a:lnTo>
                <a:lnTo>
                  <a:pt x="3750" y="29"/>
                </a:lnTo>
                <a:lnTo>
                  <a:pt x="3753" y="28"/>
                </a:lnTo>
                <a:lnTo>
                  <a:pt x="3756" y="28"/>
                </a:lnTo>
                <a:lnTo>
                  <a:pt x="3758" y="26"/>
                </a:lnTo>
                <a:lnTo>
                  <a:pt x="3762" y="26"/>
                </a:lnTo>
                <a:lnTo>
                  <a:pt x="3764" y="25"/>
                </a:lnTo>
                <a:lnTo>
                  <a:pt x="3767" y="24"/>
                </a:lnTo>
                <a:lnTo>
                  <a:pt x="3771" y="24"/>
                </a:lnTo>
                <a:lnTo>
                  <a:pt x="3773" y="23"/>
                </a:lnTo>
                <a:lnTo>
                  <a:pt x="3776" y="23"/>
                </a:lnTo>
                <a:lnTo>
                  <a:pt x="3779" y="22"/>
                </a:lnTo>
                <a:lnTo>
                  <a:pt x="3782" y="22"/>
                </a:lnTo>
                <a:lnTo>
                  <a:pt x="3784" y="21"/>
                </a:lnTo>
                <a:lnTo>
                  <a:pt x="3787" y="21"/>
                </a:lnTo>
                <a:lnTo>
                  <a:pt x="3791" y="20"/>
                </a:lnTo>
                <a:lnTo>
                  <a:pt x="3793" y="19"/>
                </a:lnTo>
                <a:lnTo>
                  <a:pt x="3796" y="19"/>
                </a:lnTo>
                <a:lnTo>
                  <a:pt x="3799" y="18"/>
                </a:lnTo>
                <a:lnTo>
                  <a:pt x="3802" y="18"/>
                </a:lnTo>
                <a:lnTo>
                  <a:pt x="3805" y="16"/>
                </a:lnTo>
                <a:lnTo>
                  <a:pt x="3808" y="16"/>
                </a:lnTo>
                <a:lnTo>
                  <a:pt x="3811" y="16"/>
                </a:lnTo>
                <a:lnTo>
                  <a:pt x="3813" y="15"/>
                </a:lnTo>
                <a:lnTo>
                  <a:pt x="3816" y="15"/>
                </a:lnTo>
                <a:lnTo>
                  <a:pt x="3820" y="14"/>
                </a:lnTo>
                <a:lnTo>
                  <a:pt x="3822" y="14"/>
                </a:lnTo>
                <a:lnTo>
                  <a:pt x="3825" y="13"/>
                </a:lnTo>
                <a:lnTo>
                  <a:pt x="3828" y="13"/>
                </a:lnTo>
                <a:lnTo>
                  <a:pt x="3831" y="12"/>
                </a:lnTo>
                <a:lnTo>
                  <a:pt x="3834" y="12"/>
                </a:lnTo>
                <a:lnTo>
                  <a:pt x="3837" y="12"/>
                </a:lnTo>
                <a:lnTo>
                  <a:pt x="3840" y="11"/>
                </a:lnTo>
                <a:lnTo>
                  <a:pt x="3842" y="11"/>
                </a:lnTo>
                <a:lnTo>
                  <a:pt x="3845" y="10"/>
                </a:lnTo>
                <a:lnTo>
                  <a:pt x="3849" y="10"/>
                </a:lnTo>
                <a:lnTo>
                  <a:pt x="3851" y="10"/>
                </a:lnTo>
                <a:lnTo>
                  <a:pt x="3854" y="9"/>
                </a:lnTo>
                <a:lnTo>
                  <a:pt x="3857" y="9"/>
                </a:lnTo>
                <a:lnTo>
                  <a:pt x="3860" y="9"/>
                </a:lnTo>
                <a:lnTo>
                  <a:pt x="3862" y="7"/>
                </a:lnTo>
                <a:lnTo>
                  <a:pt x="3866" y="7"/>
                </a:lnTo>
                <a:lnTo>
                  <a:pt x="3869" y="7"/>
                </a:lnTo>
                <a:lnTo>
                  <a:pt x="3871" y="6"/>
                </a:lnTo>
                <a:lnTo>
                  <a:pt x="3874" y="6"/>
                </a:lnTo>
                <a:lnTo>
                  <a:pt x="3877" y="6"/>
                </a:lnTo>
                <a:lnTo>
                  <a:pt x="3880" y="5"/>
                </a:lnTo>
                <a:lnTo>
                  <a:pt x="3883" y="5"/>
                </a:lnTo>
                <a:lnTo>
                  <a:pt x="3886" y="5"/>
                </a:lnTo>
                <a:lnTo>
                  <a:pt x="3889" y="5"/>
                </a:lnTo>
                <a:lnTo>
                  <a:pt x="3891" y="4"/>
                </a:lnTo>
                <a:lnTo>
                  <a:pt x="3895" y="4"/>
                </a:lnTo>
                <a:lnTo>
                  <a:pt x="3898" y="4"/>
                </a:lnTo>
                <a:lnTo>
                  <a:pt x="3900" y="4"/>
                </a:lnTo>
                <a:lnTo>
                  <a:pt x="3903" y="3"/>
                </a:lnTo>
                <a:lnTo>
                  <a:pt x="3906" y="3"/>
                </a:lnTo>
                <a:lnTo>
                  <a:pt x="3909" y="3"/>
                </a:lnTo>
                <a:lnTo>
                  <a:pt x="3912" y="3"/>
                </a:lnTo>
                <a:lnTo>
                  <a:pt x="3915" y="2"/>
                </a:lnTo>
                <a:lnTo>
                  <a:pt x="3918" y="2"/>
                </a:lnTo>
                <a:lnTo>
                  <a:pt x="3920" y="2"/>
                </a:lnTo>
                <a:lnTo>
                  <a:pt x="3924" y="2"/>
                </a:lnTo>
                <a:lnTo>
                  <a:pt x="3927" y="2"/>
                </a:lnTo>
                <a:lnTo>
                  <a:pt x="3929" y="2"/>
                </a:lnTo>
                <a:lnTo>
                  <a:pt x="3932" y="1"/>
                </a:lnTo>
                <a:lnTo>
                  <a:pt x="3935" y="1"/>
                </a:lnTo>
                <a:lnTo>
                  <a:pt x="3938" y="1"/>
                </a:lnTo>
                <a:lnTo>
                  <a:pt x="3941" y="1"/>
                </a:lnTo>
                <a:lnTo>
                  <a:pt x="3944" y="1"/>
                </a:lnTo>
                <a:lnTo>
                  <a:pt x="3947" y="1"/>
                </a:lnTo>
                <a:lnTo>
                  <a:pt x="3949" y="1"/>
                </a:lnTo>
                <a:lnTo>
                  <a:pt x="3953" y="1"/>
                </a:lnTo>
                <a:lnTo>
                  <a:pt x="3955" y="0"/>
                </a:lnTo>
                <a:lnTo>
                  <a:pt x="3958" y="0"/>
                </a:lnTo>
                <a:lnTo>
                  <a:pt x="3961" y="0"/>
                </a:lnTo>
                <a:lnTo>
                  <a:pt x="3964" y="0"/>
                </a:lnTo>
                <a:lnTo>
                  <a:pt x="3967" y="0"/>
                </a:lnTo>
                <a:lnTo>
                  <a:pt x="3969" y="0"/>
                </a:lnTo>
                <a:lnTo>
                  <a:pt x="3973" y="0"/>
                </a:lnTo>
                <a:lnTo>
                  <a:pt x="3976" y="0"/>
                </a:lnTo>
                <a:lnTo>
                  <a:pt x="3978" y="0"/>
                </a:lnTo>
                <a:lnTo>
                  <a:pt x="3982" y="0"/>
                </a:lnTo>
                <a:lnTo>
                  <a:pt x="3984" y="0"/>
                </a:lnTo>
                <a:lnTo>
                  <a:pt x="3987" y="0"/>
                </a:lnTo>
                <a:lnTo>
                  <a:pt x="3990" y="0"/>
                </a:lnTo>
                <a:lnTo>
                  <a:pt x="3993" y="0"/>
                </a:lnTo>
                <a:lnTo>
                  <a:pt x="3996" y="0"/>
                </a:lnTo>
                <a:lnTo>
                  <a:pt x="3998" y="0"/>
                </a:lnTo>
                <a:lnTo>
                  <a:pt x="4002" y="0"/>
                </a:lnTo>
                <a:lnTo>
                  <a:pt x="4005" y="0"/>
                </a:lnTo>
                <a:lnTo>
                  <a:pt x="4007" y="0"/>
                </a:lnTo>
                <a:lnTo>
                  <a:pt x="4011" y="0"/>
                </a:lnTo>
                <a:lnTo>
                  <a:pt x="4013" y="0"/>
                </a:lnTo>
                <a:lnTo>
                  <a:pt x="4016" y="0"/>
                </a:lnTo>
                <a:lnTo>
                  <a:pt x="4019" y="0"/>
                </a:lnTo>
                <a:lnTo>
                  <a:pt x="4022" y="1"/>
                </a:lnTo>
                <a:lnTo>
                  <a:pt x="4025" y="1"/>
                </a:lnTo>
                <a:lnTo>
                  <a:pt x="4027" y="1"/>
                </a:lnTo>
                <a:lnTo>
                  <a:pt x="4031" y="1"/>
                </a:lnTo>
                <a:lnTo>
                  <a:pt x="4034" y="1"/>
                </a:lnTo>
                <a:lnTo>
                  <a:pt x="4036" y="1"/>
                </a:lnTo>
                <a:lnTo>
                  <a:pt x="4040" y="1"/>
                </a:lnTo>
                <a:lnTo>
                  <a:pt x="4042" y="1"/>
                </a:lnTo>
                <a:lnTo>
                  <a:pt x="4045" y="2"/>
                </a:lnTo>
                <a:lnTo>
                  <a:pt x="4047" y="2"/>
                </a:lnTo>
                <a:lnTo>
                  <a:pt x="4051" y="2"/>
                </a:lnTo>
                <a:lnTo>
                  <a:pt x="4054" y="2"/>
                </a:lnTo>
                <a:lnTo>
                  <a:pt x="4056" y="2"/>
                </a:lnTo>
                <a:lnTo>
                  <a:pt x="4060" y="2"/>
                </a:lnTo>
                <a:lnTo>
                  <a:pt x="4062" y="3"/>
                </a:lnTo>
                <a:lnTo>
                  <a:pt x="4065" y="3"/>
                </a:lnTo>
                <a:lnTo>
                  <a:pt x="4069" y="3"/>
                </a:lnTo>
                <a:lnTo>
                  <a:pt x="4071" y="3"/>
                </a:lnTo>
                <a:lnTo>
                  <a:pt x="4074" y="3"/>
                </a:lnTo>
                <a:lnTo>
                  <a:pt x="4076" y="4"/>
                </a:lnTo>
                <a:lnTo>
                  <a:pt x="4080" y="4"/>
                </a:lnTo>
                <a:lnTo>
                  <a:pt x="4083" y="4"/>
                </a:lnTo>
                <a:lnTo>
                  <a:pt x="4085" y="4"/>
                </a:lnTo>
                <a:lnTo>
                  <a:pt x="4089" y="5"/>
                </a:lnTo>
                <a:lnTo>
                  <a:pt x="4091" y="5"/>
                </a:lnTo>
                <a:lnTo>
                  <a:pt x="4094" y="5"/>
                </a:lnTo>
                <a:lnTo>
                  <a:pt x="4098" y="6"/>
                </a:lnTo>
                <a:lnTo>
                  <a:pt x="4100" y="6"/>
                </a:lnTo>
                <a:lnTo>
                  <a:pt x="4103" y="6"/>
                </a:lnTo>
                <a:lnTo>
                  <a:pt x="4105" y="7"/>
                </a:lnTo>
                <a:lnTo>
                  <a:pt x="4109" y="7"/>
                </a:lnTo>
                <a:lnTo>
                  <a:pt x="4112" y="7"/>
                </a:lnTo>
                <a:lnTo>
                  <a:pt x="4114" y="7"/>
                </a:lnTo>
                <a:lnTo>
                  <a:pt x="4118" y="9"/>
                </a:lnTo>
                <a:lnTo>
                  <a:pt x="4120" y="9"/>
                </a:lnTo>
                <a:lnTo>
                  <a:pt x="4123" y="10"/>
                </a:lnTo>
                <a:lnTo>
                  <a:pt x="4127" y="10"/>
                </a:lnTo>
                <a:lnTo>
                  <a:pt x="4129" y="10"/>
                </a:lnTo>
                <a:lnTo>
                  <a:pt x="4132" y="11"/>
                </a:lnTo>
                <a:lnTo>
                  <a:pt x="4134" y="11"/>
                </a:lnTo>
                <a:lnTo>
                  <a:pt x="4138" y="11"/>
                </a:lnTo>
                <a:lnTo>
                  <a:pt x="4140" y="12"/>
                </a:lnTo>
                <a:lnTo>
                  <a:pt x="4143" y="12"/>
                </a:lnTo>
                <a:lnTo>
                  <a:pt x="4147" y="13"/>
                </a:lnTo>
                <a:lnTo>
                  <a:pt x="4149" y="13"/>
                </a:lnTo>
                <a:lnTo>
                  <a:pt x="4152" y="14"/>
                </a:lnTo>
                <a:lnTo>
                  <a:pt x="4154" y="14"/>
                </a:lnTo>
                <a:lnTo>
                  <a:pt x="4158" y="14"/>
                </a:lnTo>
                <a:lnTo>
                  <a:pt x="4161" y="15"/>
                </a:lnTo>
                <a:lnTo>
                  <a:pt x="4163" y="15"/>
                </a:lnTo>
                <a:lnTo>
                  <a:pt x="4167" y="16"/>
                </a:lnTo>
                <a:lnTo>
                  <a:pt x="4169" y="16"/>
                </a:lnTo>
                <a:lnTo>
                  <a:pt x="4172" y="18"/>
                </a:lnTo>
                <a:lnTo>
                  <a:pt x="4176" y="18"/>
                </a:lnTo>
                <a:lnTo>
                  <a:pt x="4178" y="19"/>
                </a:lnTo>
                <a:lnTo>
                  <a:pt x="4181" y="19"/>
                </a:lnTo>
                <a:lnTo>
                  <a:pt x="4183" y="20"/>
                </a:lnTo>
                <a:lnTo>
                  <a:pt x="4187" y="20"/>
                </a:lnTo>
                <a:lnTo>
                  <a:pt x="4190" y="21"/>
                </a:lnTo>
                <a:lnTo>
                  <a:pt x="4192" y="21"/>
                </a:lnTo>
                <a:lnTo>
                  <a:pt x="4196" y="22"/>
                </a:lnTo>
                <a:lnTo>
                  <a:pt x="4198" y="23"/>
                </a:lnTo>
                <a:lnTo>
                  <a:pt x="4201" y="23"/>
                </a:lnTo>
                <a:lnTo>
                  <a:pt x="4205" y="24"/>
                </a:lnTo>
                <a:lnTo>
                  <a:pt x="4207" y="24"/>
                </a:lnTo>
                <a:lnTo>
                  <a:pt x="4210" y="25"/>
                </a:lnTo>
                <a:lnTo>
                  <a:pt x="4212" y="25"/>
                </a:lnTo>
                <a:lnTo>
                  <a:pt x="4216" y="26"/>
                </a:lnTo>
                <a:lnTo>
                  <a:pt x="4219" y="28"/>
                </a:lnTo>
                <a:lnTo>
                  <a:pt x="4221" y="28"/>
                </a:lnTo>
                <a:lnTo>
                  <a:pt x="4225" y="29"/>
                </a:lnTo>
                <a:lnTo>
                  <a:pt x="4227" y="30"/>
                </a:lnTo>
                <a:lnTo>
                  <a:pt x="4230" y="30"/>
                </a:lnTo>
                <a:lnTo>
                  <a:pt x="4233" y="31"/>
                </a:lnTo>
                <a:lnTo>
                  <a:pt x="4236" y="31"/>
                </a:lnTo>
                <a:lnTo>
                  <a:pt x="4239" y="32"/>
                </a:lnTo>
                <a:lnTo>
                  <a:pt x="4241" y="33"/>
                </a:lnTo>
                <a:lnTo>
                  <a:pt x="4245" y="33"/>
                </a:lnTo>
                <a:lnTo>
                  <a:pt x="4247" y="34"/>
                </a:lnTo>
                <a:lnTo>
                  <a:pt x="4250" y="35"/>
                </a:lnTo>
                <a:lnTo>
                  <a:pt x="4254" y="35"/>
                </a:lnTo>
                <a:lnTo>
                  <a:pt x="4256" y="36"/>
                </a:lnTo>
                <a:lnTo>
                  <a:pt x="4259" y="38"/>
                </a:lnTo>
                <a:lnTo>
                  <a:pt x="4262" y="39"/>
                </a:lnTo>
                <a:lnTo>
                  <a:pt x="4265" y="39"/>
                </a:lnTo>
                <a:lnTo>
                  <a:pt x="4268" y="40"/>
                </a:lnTo>
                <a:lnTo>
                  <a:pt x="4270" y="41"/>
                </a:lnTo>
                <a:lnTo>
                  <a:pt x="4274" y="41"/>
                </a:lnTo>
                <a:lnTo>
                  <a:pt x="4276" y="42"/>
                </a:lnTo>
                <a:lnTo>
                  <a:pt x="4279" y="43"/>
                </a:lnTo>
                <a:lnTo>
                  <a:pt x="4283" y="44"/>
                </a:lnTo>
                <a:lnTo>
                  <a:pt x="4285" y="44"/>
                </a:lnTo>
                <a:lnTo>
                  <a:pt x="4288" y="45"/>
                </a:lnTo>
                <a:lnTo>
                  <a:pt x="4291" y="46"/>
                </a:lnTo>
                <a:lnTo>
                  <a:pt x="4294" y="48"/>
                </a:lnTo>
                <a:lnTo>
                  <a:pt x="4297" y="49"/>
                </a:lnTo>
                <a:lnTo>
                  <a:pt x="4299" y="49"/>
                </a:lnTo>
                <a:lnTo>
                  <a:pt x="4303" y="50"/>
                </a:lnTo>
                <a:lnTo>
                  <a:pt x="4305" y="51"/>
                </a:lnTo>
                <a:lnTo>
                  <a:pt x="4308" y="52"/>
                </a:lnTo>
                <a:lnTo>
                  <a:pt x="4311" y="53"/>
                </a:lnTo>
                <a:lnTo>
                  <a:pt x="4314" y="53"/>
                </a:lnTo>
                <a:lnTo>
                  <a:pt x="4317" y="54"/>
                </a:lnTo>
                <a:lnTo>
                  <a:pt x="4320" y="55"/>
                </a:lnTo>
                <a:lnTo>
                  <a:pt x="4323" y="57"/>
                </a:lnTo>
                <a:lnTo>
                  <a:pt x="4325" y="58"/>
                </a:lnTo>
                <a:lnTo>
                  <a:pt x="4328" y="59"/>
                </a:lnTo>
                <a:lnTo>
                  <a:pt x="4332" y="60"/>
                </a:lnTo>
                <a:lnTo>
                  <a:pt x="4334" y="60"/>
                </a:lnTo>
                <a:lnTo>
                  <a:pt x="4337" y="61"/>
                </a:lnTo>
                <a:lnTo>
                  <a:pt x="4340" y="62"/>
                </a:lnTo>
                <a:lnTo>
                  <a:pt x="4343" y="63"/>
                </a:lnTo>
                <a:lnTo>
                  <a:pt x="4346" y="64"/>
                </a:lnTo>
                <a:lnTo>
                  <a:pt x="4349" y="65"/>
                </a:lnTo>
                <a:lnTo>
                  <a:pt x="4352" y="67"/>
                </a:lnTo>
                <a:lnTo>
                  <a:pt x="4354" y="68"/>
                </a:lnTo>
                <a:lnTo>
                  <a:pt x="4357" y="69"/>
                </a:lnTo>
                <a:lnTo>
                  <a:pt x="4361" y="69"/>
                </a:lnTo>
                <a:lnTo>
                  <a:pt x="4363" y="70"/>
                </a:lnTo>
                <a:lnTo>
                  <a:pt x="4366" y="71"/>
                </a:lnTo>
                <a:lnTo>
                  <a:pt x="4369" y="72"/>
                </a:lnTo>
                <a:lnTo>
                  <a:pt x="4372" y="73"/>
                </a:lnTo>
                <a:lnTo>
                  <a:pt x="4375" y="74"/>
                </a:lnTo>
                <a:lnTo>
                  <a:pt x="4378" y="75"/>
                </a:lnTo>
                <a:lnTo>
                  <a:pt x="4381" y="77"/>
                </a:lnTo>
                <a:lnTo>
                  <a:pt x="4383" y="78"/>
                </a:lnTo>
                <a:lnTo>
                  <a:pt x="4386" y="79"/>
                </a:lnTo>
                <a:lnTo>
                  <a:pt x="4390" y="80"/>
                </a:lnTo>
                <a:lnTo>
                  <a:pt x="4392" y="81"/>
                </a:lnTo>
                <a:lnTo>
                  <a:pt x="4395" y="82"/>
                </a:lnTo>
                <a:lnTo>
                  <a:pt x="4398" y="83"/>
                </a:lnTo>
                <a:lnTo>
                  <a:pt x="4401" y="84"/>
                </a:lnTo>
                <a:lnTo>
                  <a:pt x="4403" y="85"/>
                </a:lnTo>
                <a:lnTo>
                  <a:pt x="4407" y="87"/>
                </a:lnTo>
                <a:lnTo>
                  <a:pt x="4410" y="88"/>
                </a:lnTo>
                <a:lnTo>
                  <a:pt x="4412" y="89"/>
                </a:lnTo>
                <a:lnTo>
                  <a:pt x="4415" y="90"/>
                </a:lnTo>
                <a:lnTo>
                  <a:pt x="4418" y="91"/>
                </a:lnTo>
                <a:lnTo>
                  <a:pt x="4421" y="92"/>
                </a:lnTo>
                <a:lnTo>
                  <a:pt x="4424" y="93"/>
                </a:lnTo>
                <a:lnTo>
                  <a:pt x="4427" y="94"/>
                </a:lnTo>
                <a:lnTo>
                  <a:pt x="4430" y="96"/>
                </a:lnTo>
                <a:lnTo>
                  <a:pt x="4432" y="97"/>
                </a:lnTo>
                <a:lnTo>
                  <a:pt x="4436" y="98"/>
                </a:lnTo>
                <a:lnTo>
                  <a:pt x="4439" y="100"/>
                </a:lnTo>
                <a:lnTo>
                  <a:pt x="4441" y="101"/>
                </a:lnTo>
                <a:lnTo>
                  <a:pt x="4445" y="102"/>
                </a:lnTo>
                <a:lnTo>
                  <a:pt x="4447" y="103"/>
                </a:lnTo>
                <a:lnTo>
                  <a:pt x="4450" y="104"/>
                </a:lnTo>
                <a:lnTo>
                  <a:pt x="4453" y="106"/>
                </a:lnTo>
                <a:lnTo>
                  <a:pt x="4456" y="107"/>
                </a:lnTo>
                <a:lnTo>
                  <a:pt x="4459" y="108"/>
                </a:lnTo>
                <a:lnTo>
                  <a:pt x="4461" y="109"/>
                </a:lnTo>
                <a:lnTo>
                  <a:pt x="4465" y="110"/>
                </a:lnTo>
                <a:lnTo>
                  <a:pt x="4468" y="112"/>
                </a:lnTo>
                <a:lnTo>
                  <a:pt x="4470" y="113"/>
                </a:lnTo>
                <a:lnTo>
                  <a:pt x="4474" y="114"/>
                </a:lnTo>
                <a:lnTo>
                  <a:pt x="4476" y="116"/>
                </a:lnTo>
                <a:lnTo>
                  <a:pt x="4479" y="117"/>
                </a:lnTo>
                <a:lnTo>
                  <a:pt x="4482" y="118"/>
                </a:lnTo>
                <a:lnTo>
                  <a:pt x="4485" y="119"/>
                </a:lnTo>
                <a:lnTo>
                  <a:pt x="4488" y="120"/>
                </a:lnTo>
                <a:lnTo>
                  <a:pt x="4490" y="122"/>
                </a:lnTo>
                <a:lnTo>
                  <a:pt x="4494" y="123"/>
                </a:lnTo>
                <a:lnTo>
                  <a:pt x="4496" y="124"/>
                </a:lnTo>
                <a:lnTo>
                  <a:pt x="4499" y="126"/>
                </a:lnTo>
                <a:lnTo>
                  <a:pt x="4503" y="127"/>
                </a:lnTo>
                <a:lnTo>
                  <a:pt x="4505" y="128"/>
                </a:lnTo>
                <a:lnTo>
                  <a:pt x="4508" y="130"/>
                </a:lnTo>
                <a:lnTo>
                  <a:pt x="4510" y="131"/>
                </a:lnTo>
                <a:lnTo>
                  <a:pt x="4514" y="132"/>
                </a:lnTo>
                <a:lnTo>
                  <a:pt x="4517" y="133"/>
                </a:lnTo>
                <a:lnTo>
                  <a:pt x="4519" y="134"/>
                </a:lnTo>
                <a:lnTo>
                  <a:pt x="4523" y="137"/>
                </a:lnTo>
                <a:lnTo>
                  <a:pt x="4525" y="138"/>
                </a:lnTo>
                <a:lnTo>
                  <a:pt x="4528" y="139"/>
                </a:lnTo>
                <a:lnTo>
                  <a:pt x="4532" y="140"/>
                </a:lnTo>
                <a:lnTo>
                  <a:pt x="4534" y="141"/>
                </a:lnTo>
                <a:lnTo>
                  <a:pt x="4537" y="143"/>
                </a:lnTo>
                <a:lnTo>
                  <a:pt x="4539" y="145"/>
                </a:lnTo>
                <a:lnTo>
                  <a:pt x="4543" y="146"/>
                </a:lnTo>
                <a:lnTo>
                  <a:pt x="4546" y="147"/>
                </a:lnTo>
                <a:lnTo>
                  <a:pt x="4548" y="149"/>
                </a:lnTo>
                <a:lnTo>
                  <a:pt x="4552" y="150"/>
                </a:lnTo>
                <a:lnTo>
                  <a:pt x="4554" y="151"/>
                </a:lnTo>
                <a:lnTo>
                  <a:pt x="4557" y="152"/>
                </a:lnTo>
                <a:lnTo>
                  <a:pt x="4561" y="155"/>
                </a:lnTo>
                <a:lnTo>
                  <a:pt x="4563" y="156"/>
                </a:lnTo>
                <a:lnTo>
                  <a:pt x="4566" y="157"/>
                </a:lnTo>
                <a:lnTo>
                  <a:pt x="4568" y="158"/>
                </a:lnTo>
                <a:lnTo>
                  <a:pt x="4572" y="160"/>
                </a:lnTo>
                <a:lnTo>
                  <a:pt x="4575" y="161"/>
                </a:lnTo>
                <a:lnTo>
                  <a:pt x="4577" y="162"/>
                </a:lnTo>
                <a:lnTo>
                  <a:pt x="4581" y="163"/>
                </a:lnTo>
                <a:lnTo>
                  <a:pt x="4583" y="166"/>
                </a:lnTo>
                <a:lnTo>
                  <a:pt x="4586" y="167"/>
                </a:lnTo>
                <a:lnTo>
                  <a:pt x="4588" y="168"/>
                </a:lnTo>
                <a:lnTo>
                  <a:pt x="4592" y="169"/>
                </a:lnTo>
                <a:lnTo>
                  <a:pt x="4595" y="171"/>
                </a:lnTo>
                <a:lnTo>
                  <a:pt x="4597" y="172"/>
                </a:lnTo>
                <a:lnTo>
                  <a:pt x="4601" y="173"/>
                </a:lnTo>
                <a:lnTo>
                  <a:pt x="4603" y="176"/>
                </a:lnTo>
                <a:lnTo>
                  <a:pt x="4606" y="177"/>
                </a:lnTo>
                <a:lnTo>
                  <a:pt x="4610" y="178"/>
                </a:lnTo>
                <a:lnTo>
                  <a:pt x="4612" y="180"/>
                </a:lnTo>
                <a:lnTo>
                  <a:pt x="4615" y="181"/>
                </a:lnTo>
                <a:lnTo>
                  <a:pt x="4617" y="182"/>
                </a:lnTo>
                <a:lnTo>
                  <a:pt x="4621" y="184"/>
                </a:lnTo>
                <a:lnTo>
                  <a:pt x="4624" y="186"/>
                </a:lnTo>
                <a:lnTo>
                  <a:pt x="4626" y="187"/>
                </a:lnTo>
                <a:lnTo>
                  <a:pt x="4630" y="188"/>
                </a:lnTo>
                <a:lnTo>
                  <a:pt x="4632" y="190"/>
                </a:lnTo>
                <a:lnTo>
                  <a:pt x="4635" y="191"/>
                </a:lnTo>
                <a:lnTo>
                  <a:pt x="4639" y="192"/>
                </a:lnTo>
                <a:lnTo>
                  <a:pt x="4641" y="195"/>
                </a:lnTo>
                <a:lnTo>
                  <a:pt x="4644" y="196"/>
                </a:lnTo>
                <a:lnTo>
                  <a:pt x="4646" y="197"/>
                </a:lnTo>
                <a:lnTo>
                  <a:pt x="4650" y="199"/>
                </a:lnTo>
                <a:lnTo>
                  <a:pt x="4653" y="200"/>
                </a:lnTo>
                <a:lnTo>
                  <a:pt x="4655" y="201"/>
                </a:lnTo>
                <a:lnTo>
                  <a:pt x="4659" y="204"/>
                </a:lnTo>
                <a:lnTo>
                  <a:pt x="4661" y="205"/>
                </a:lnTo>
                <a:lnTo>
                  <a:pt x="4664" y="206"/>
                </a:lnTo>
                <a:lnTo>
                  <a:pt x="4668" y="208"/>
                </a:lnTo>
                <a:lnTo>
                  <a:pt x="4670" y="209"/>
                </a:lnTo>
                <a:lnTo>
                  <a:pt x="4673" y="210"/>
                </a:lnTo>
                <a:lnTo>
                  <a:pt x="4675" y="212"/>
                </a:lnTo>
                <a:lnTo>
                  <a:pt x="4679" y="214"/>
                </a:lnTo>
                <a:lnTo>
                  <a:pt x="4681" y="215"/>
                </a:lnTo>
                <a:lnTo>
                  <a:pt x="4684" y="217"/>
                </a:lnTo>
                <a:lnTo>
                  <a:pt x="4688" y="218"/>
                </a:lnTo>
                <a:lnTo>
                  <a:pt x="4690" y="220"/>
                </a:lnTo>
                <a:lnTo>
                  <a:pt x="4693" y="221"/>
                </a:lnTo>
                <a:lnTo>
                  <a:pt x="4696" y="223"/>
                </a:lnTo>
                <a:lnTo>
                  <a:pt x="4699" y="225"/>
                </a:lnTo>
                <a:lnTo>
                  <a:pt x="4702" y="226"/>
                </a:lnTo>
                <a:lnTo>
                  <a:pt x="4704" y="227"/>
                </a:lnTo>
                <a:lnTo>
                  <a:pt x="4708" y="229"/>
                </a:lnTo>
                <a:lnTo>
                  <a:pt x="4710" y="230"/>
                </a:lnTo>
                <a:lnTo>
                  <a:pt x="4713" y="231"/>
                </a:lnTo>
                <a:lnTo>
                  <a:pt x="4717" y="234"/>
                </a:lnTo>
                <a:lnTo>
                  <a:pt x="4719" y="235"/>
                </a:lnTo>
                <a:lnTo>
                  <a:pt x="4722" y="237"/>
                </a:lnTo>
                <a:lnTo>
                  <a:pt x="4725" y="238"/>
                </a:lnTo>
                <a:lnTo>
                  <a:pt x="4728" y="239"/>
                </a:lnTo>
                <a:lnTo>
                  <a:pt x="4731" y="241"/>
                </a:lnTo>
                <a:lnTo>
                  <a:pt x="4733" y="243"/>
                </a:lnTo>
                <a:lnTo>
                  <a:pt x="4737" y="244"/>
                </a:lnTo>
                <a:lnTo>
                  <a:pt x="4739" y="246"/>
                </a:lnTo>
                <a:lnTo>
                  <a:pt x="4742" y="247"/>
                </a:lnTo>
                <a:lnTo>
                  <a:pt x="4746" y="249"/>
                </a:lnTo>
                <a:lnTo>
                  <a:pt x="4748" y="250"/>
                </a:lnTo>
                <a:lnTo>
                  <a:pt x="4751" y="251"/>
                </a:lnTo>
                <a:lnTo>
                  <a:pt x="4754" y="254"/>
                </a:lnTo>
                <a:lnTo>
                  <a:pt x="4757" y="255"/>
                </a:lnTo>
                <a:lnTo>
                  <a:pt x="4759" y="256"/>
                </a:lnTo>
                <a:lnTo>
                  <a:pt x="4762" y="258"/>
                </a:lnTo>
                <a:lnTo>
                  <a:pt x="4766" y="259"/>
                </a:lnTo>
                <a:lnTo>
                  <a:pt x="4768" y="262"/>
                </a:lnTo>
                <a:lnTo>
                  <a:pt x="4771" y="263"/>
                </a:lnTo>
                <a:lnTo>
                  <a:pt x="4774" y="264"/>
                </a:lnTo>
                <a:lnTo>
                  <a:pt x="4777" y="266"/>
                </a:lnTo>
                <a:lnTo>
                  <a:pt x="4780" y="267"/>
                </a:lnTo>
                <a:lnTo>
                  <a:pt x="4783" y="268"/>
                </a:lnTo>
                <a:lnTo>
                  <a:pt x="4786" y="270"/>
                </a:lnTo>
                <a:lnTo>
                  <a:pt x="4788" y="272"/>
                </a:lnTo>
                <a:lnTo>
                  <a:pt x="4791" y="274"/>
                </a:lnTo>
                <a:lnTo>
                  <a:pt x="4795" y="275"/>
                </a:lnTo>
                <a:lnTo>
                  <a:pt x="4797" y="276"/>
                </a:lnTo>
                <a:lnTo>
                  <a:pt x="4800" y="278"/>
                </a:lnTo>
                <a:lnTo>
                  <a:pt x="4803" y="279"/>
                </a:lnTo>
                <a:lnTo>
                  <a:pt x="4806" y="282"/>
                </a:lnTo>
                <a:lnTo>
                  <a:pt x="4809" y="283"/>
                </a:lnTo>
                <a:lnTo>
                  <a:pt x="4812" y="284"/>
                </a:lnTo>
                <a:lnTo>
                  <a:pt x="4815" y="286"/>
                </a:lnTo>
                <a:lnTo>
                  <a:pt x="4817" y="287"/>
                </a:lnTo>
                <a:lnTo>
                  <a:pt x="4820" y="288"/>
                </a:lnTo>
                <a:lnTo>
                  <a:pt x="4824" y="290"/>
                </a:lnTo>
                <a:lnTo>
                  <a:pt x="4826" y="292"/>
                </a:lnTo>
                <a:lnTo>
                  <a:pt x="4829" y="294"/>
                </a:lnTo>
                <a:lnTo>
                  <a:pt x="4832" y="295"/>
                </a:lnTo>
                <a:lnTo>
                  <a:pt x="4835" y="296"/>
                </a:lnTo>
                <a:lnTo>
                  <a:pt x="4838" y="298"/>
                </a:lnTo>
                <a:lnTo>
                  <a:pt x="4841" y="299"/>
                </a:lnTo>
                <a:lnTo>
                  <a:pt x="4844" y="301"/>
                </a:lnTo>
                <a:lnTo>
                  <a:pt x="4846" y="303"/>
                </a:lnTo>
                <a:lnTo>
                  <a:pt x="4849" y="304"/>
                </a:lnTo>
                <a:lnTo>
                  <a:pt x="4852" y="306"/>
                </a:lnTo>
                <a:lnTo>
                  <a:pt x="4855" y="307"/>
                </a:lnTo>
                <a:lnTo>
                  <a:pt x="4858" y="308"/>
                </a:lnTo>
                <a:lnTo>
                  <a:pt x="4861" y="311"/>
                </a:lnTo>
                <a:lnTo>
                  <a:pt x="4864" y="312"/>
                </a:lnTo>
                <a:lnTo>
                  <a:pt x="4866" y="313"/>
                </a:lnTo>
                <a:lnTo>
                  <a:pt x="4870" y="315"/>
                </a:lnTo>
                <a:lnTo>
                  <a:pt x="4873" y="316"/>
                </a:lnTo>
                <a:lnTo>
                  <a:pt x="4875" y="318"/>
                </a:lnTo>
                <a:lnTo>
                  <a:pt x="4878" y="319"/>
                </a:lnTo>
                <a:lnTo>
                  <a:pt x="4881" y="321"/>
                </a:lnTo>
                <a:lnTo>
                  <a:pt x="4884" y="323"/>
                </a:lnTo>
                <a:lnTo>
                  <a:pt x="4887" y="324"/>
                </a:lnTo>
                <a:lnTo>
                  <a:pt x="4890" y="325"/>
                </a:lnTo>
                <a:lnTo>
                  <a:pt x="4893" y="327"/>
                </a:lnTo>
                <a:lnTo>
                  <a:pt x="4895" y="328"/>
                </a:lnTo>
                <a:lnTo>
                  <a:pt x="4899" y="329"/>
                </a:lnTo>
                <a:lnTo>
                  <a:pt x="4902" y="332"/>
                </a:lnTo>
                <a:lnTo>
                  <a:pt x="4904" y="333"/>
                </a:lnTo>
                <a:lnTo>
                  <a:pt x="4907" y="334"/>
                </a:lnTo>
                <a:lnTo>
                  <a:pt x="4910" y="336"/>
                </a:lnTo>
                <a:lnTo>
                  <a:pt x="4913" y="337"/>
                </a:lnTo>
                <a:lnTo>
                  <a:pt x="4916" y="338"/>
                </a:lnTo>
                <a:lnTo>
                  <a:pt x="4919" y="341"/>
                </a:lnTo>
                <a:lnTo>
                  <a:pt x="4922" y="342"/>
                </a:lnTo>
                <a:lnTo>
                  <a:pt x="4924" y="343"/>
                </a:lnTo>
                <a:lnTo>
                  <a:pt x="4928" y="345"/>
                </a:lnTo>
                <a:lnTo>
                  <a:pt x="4931" y="346"/>
                </a:lnTo>
                <a:lnTo>
                  <a:pt x="4933" y="347"/>
                </a:lnTo>
                <a:lnTo>
                  <a:pt x="4936" y="350"/>
                </a:lnTo>
                <a:lnTo>
                  <a:pt x="4939" y="351"/>
                </a:lnTo>
                <a:lnTo>
                  <a:pt x="4942" y="352"/>
                </a:lnTo>
                <a:lnTo>
                  <a:pt x="4944" y="354"/>
                </a:lnTo>
                <a:lnTo>
                  <a:pt x="4948" y="355"/>
                </a:lnTo>
                <a:lnTo>
                  <a:pt x="4951" y="356"/>
                </a:lnTo>
                <a:lnTo>
                  <a:pt x="4953" y="358"/>
                </a:lnTo>
                <a:lnTo>
                  <a:pt x="4957" y="360"/>
                </a:lnTo>
                <a:lnTo>
                  <a:pt x="4959" y="361"/>
                </a:lnTo>
                <a:lnTo>
                  <a:pt x="4962" y="362"/>
                </a:lnTo>
                <a:lnTo>
                  <a:pt x="4965" y="364"/>
                </a:lnTo>
                <a:lnTo>
                  <a:pt x="4968" y="365"/>
                </a:lnTo>
                <a:lnTo>
                  <a:pt x="4971" y="366"/>
                </a:lnTo>
                <a:lnTo>
                  <a:pt x="4973" y="368"/>
                </a:lnTo>
                <a:lnTo>
                  <a:pt x="4977" y="370"/>
                </a:lnTo>
                <a:lnTo>
                  <a:pt x="4980" y="371"/>
                </a:lnTo>
                <a:lnTo>
                  <a:pt x="4982" y="373"/>
                </a:lnTo>
                <a:lnTo>
                  <a:pt x="4986" y="374"/>
                </a:lnTo>
                <a:lnTo>
                  <a:pt x="4988" y="375"/>
                </a:lnTo>
                <a:lnTo>
                  <a:pt x="4991" y="376"/>
                </a:lnTo>
                <a:lnTo>
                  <a:pt x="4994" y="378"/>
                </a:lnTo>
                <a:lnTo>
                  <a:pt x="4997" y="380"/>
                </a:lnTo>
                <a:lnTo>
                  <a:pt x="5000" y="381"/>
                </a:lnTo>
                <a:lnTo>
                  <a:pt x="5002" y="382"/>
                </a:lnTo>
                <a:lnTo>
                  <a:pt x="5006" y="384"/>
                </a:lnTo>
                <a:lnTo>
                  <a:pt x="5009" y="385"/>
                </a:lnTo>
                <a:lnTo>
                  <a:pt x="5011" y="386"/>
                </a:lnTo>
                <a:lnTo>
                  <a:pt x="5015" y="387"/>
                </a:lnTo>
                <a:lnTo>
                  <a:pt x="5017" y="390"/>
                </a:lnTo>
                <a:lnTo>
                  <a:pt x="5020" y="391"/>
                </a:lnTo>
                <a:lnTo>
                  <a:pt x="5023" y="392"/>
                </a:lnTo>
                <a:lnTo>
                  <a:pt x="5026" y="393"/>
                </a:lnTo>
                <a:lnTo>
                  <a:pt x="5029" y="395"/>
                </a:lnTo>
                <a:lnTo>
                  <a:pt x="5031" y="396"/>
                </a:lnTo>
                <a:lnTo>
                  <a:pt x="5035" y="397"/>
                </a:lnTo>
                <a:lnTo>
                  <a:pt x="5037" y="399"/>
                </a:lnTo>
                <a:lnTo>
                  <a:pt x="5040" y="400"/>
                </a:lnTo>
                <a:lnTo>
                  <a:pt x="5044" y="402"/>
                </a:lnTo>
                <a:lnTo>
                  <a:pt x="5046" y="403"/>
                </a:lnTo>
                <a:lnTo>
                  <a:pt x="5049" y="404"/>
                </a:lnTo>
                <a:lnTo>
                  <a:pt x="5051" y="405"/>
                </a:lnTo>
                <a:lnTo>
                  <a:pt x="5055" y="406"/>
                </a:lnTo>
                <a:lnTo>
                  <a:pt x="5058" y="409"/>
                </a:lnTo>
                <a:lnTo>
                  <a:pt x="5060" y="410"/>
                </a:lnTo>
                <a:lnTo>
                  <a:pt x="5064" y="411"/>
                </a:lnTo>
                <a:lnTo>
                  <a:pt x="5066" y="412"/>
                </a:lnTo>
                <a:lnTo>
                  <a:pt x="5069" y="413"/>
                </a:lnTo>
                <a:lnTo>
                  <a:pt x="5073" y="415"/>
                </a:lnTo>
                <a:lnTo>
                  <a:pt x="5075" y="416"/>
                </a:lnTo>
                <a:lnTo>
                  <a:pt x="5078" y="417"/>
                </a:lnTo>
                <a:lnTo>
                  <a:pt x="5080" y="419"/>
                </a:lnTo>
                <a:lnTo>
                  <a:pt x="5084" y="420"/>
                </a:lnTo>
                <a:lnTo>
                  <a:pt x="5087" y="421"/>
                </a:lnTo>
                <a:lnTo>
                  <a:pt x="5089" y="422"/>
                </a:lnTo>
                <a:lnTo>
                  <a:pt x="5093" y="424"/>
                </a:lnTo>
                <a:lnTo>
                  <a:pt x="5095" y="425"/>
                </a:lnTo>
                <a:lnTo>
                  <a:pt x="5098" y="426"/>
                </a:lnTo>
                <a:lnTo>
                  <a:pt x="5102" y="428"/>
                </a:lnTo>
                <a:lnTo>
                  <a:pt x="5104" y="429"/>
                </a:lnTo>
                <a:lnTo>
                  <a:pt x="5107" y="430"/>
                </a:lnTo>
                <a:lnTo>
                  <a:pt x="5109" y="431"/>
                </a:lnTo>
                <a:lnTo>
                  <a:pt x="5113" y="432"/>
                </a:lnTo>
                <a:lnTo>
                  <a:pt x="5115" y="434"/>
                </a:lnTo>
                <a:lnTo>
                  <a:pt x="5118" y="435"/>
                </a:lnTo>
                <a:lnTo>
                  <a:pt x="5122" y="436"/>
                </a:lnTo>
                <a:lnTo>
                  <a:pt x="5124" y="438"/>
                </a:lnTo>
                <a:lnTo>
                  <a:pt x="5127" y="439"/>
                </a:lnTo>
                <a:lnTo>
                  <a:pt x="5129" y="440"/>
                </a:lnTo>
                <a:lnTo>
                  <a:pt x="5133" y="441"/>
                </a:lnTo>
                <a:lnTo>
                  <a:pt x="5136" y="442"/>
                </a:lnTo>
                <a:lnTo>
                  <a:pt x="5138" y="443"/>
                </a:lnTo>
                <a:lnTo>
                  <a:pt x="5142" y="444"/>
                </a:lnTo>
                <a:lnTo>
                  <a:pt x="5144" y="445"/>
                </a:lnTo>
                <a:lnTo>
                  <a:pt x="5147" y="446"/>
                </a:lnTo>
                <a:lnTo>
                  <a:pt x="5151" y="448"/>
                </a:lnTo>
                <a:lnTo>
                  <a:pt x="5153" y="449"/>
                </a:lnTo>
                <a:lnTo>
                  <a:pt x="5156" y="450"/>
                </a:lnTo>
                <a:lnTo>
                  <a:pt x="5158" y="451"/>
                </a:lnTo>
                <a:lnTo>
                  <a:pt x="5162" y="453"/>
                </a:lnTo>
                <a:lnTo>
                  <a:pt x="5165" y="454"/>
                </a:lnTo>
                <a:lnTo>
                  <a:pt x="5167" y="455"/>
                </a:lnTo>
                <a:lnTo>
                  <a:pt x="5171" y="456"/>
                </a:lnTo>
                <a:lnTo>
                  <a:pt x="5173" y="458"/>
                </a:lnTo>
                <a:lnTo>
                  <a:pt x="5176" y="459"/>
                </a:lnTo>
                <a:lnTo>
                  <a:pt x="5180" y="460"/>
                </a:lnTo>
                <a:lnTo>
                  <a:pt x="5182" y="461"/>
                </a:lnTo>
                <a:lnTo>
                  <a:pt x="5185" y="461"/>
                </a:lnTo>
                <a:lnTo>
                  <a:pt x="5187" y="462"/>
                </a:lnTo>
                <a:lnTo>
                  <a:pt x="5191" y="463"/>
                </a:lnTo>
                <a:lnTo>
                  <a:pt x="5194" y="464"/>
                </a:lnTo>
                <a:lnTo>
                  <a:pt x="5196" y="465"/>
                </a:lnTo>
                <a:lnTo>
                  <a:pt x="5200" y="467"/>
                </a:lnTo>
                <a:lnTo>
                  <a:pt x="5202" y="468"/>
                </a:lnTo>
                <a:lnTo>
                  <a:pt x="5205" y="469"/>
                </a:lnTo>
                <a:lnTo>
                  <a:pt x="5208" y="470"/>
                </a:lnTo>
                <a:lnTo>
                  <a:pt x="5211" y="471"/>
                </a:lnTo>
                <a:lnTo>
                  <a:pt x="5214" y="472"/>
                </a:lnTo>
                <a:lnTo>
                  <a:pt x="5216" y="473"/>
                </a:lnTo>
                <a:lnTo>
                  <a:pt x="5220" y="474"/>
                </a:lnTo>
                <a:lnTo>
                  <a:pt x="5222" y="475"/>
                </a:lnTo>
                <a:lnTo>
                  <a:pt x="5225" y="477"/>
                </a:lnTo>
                <a:lnTo>
                  <a:pt x="5229" y="477"/>
                </a:lnTo>
                <a:lnTo>
                  <a:pt x="5231" y="478"/>
                </a:lnTo>
                <a:lnTo>
                  <a:pt x="5234" y="479"/>
                </a:lnTo>
                <a:lnTo>
                  <a:pt x="5237" y="480"/>
                </a:lnTo>
                <a:lnTo>
                  <a:pt x="5240" y="481"/>
                </a:lnTo>
                <a:lnTo>
                  <a:pt x="5243" y="482"/>
                </a:lnTo>
                <a:lnTo>
                  <a:pt x="5245" y="483"/>
                </a:lnTo>
                <a:lnTo>
                  <a:pt x="5249" y="484"/>
                </a:lnTo>
                <a:lnTo>
                  <a:pt x="5251" y="484"/>
                </a:lnTo>
                <a:lnTo>
                  <a:pt x="5254" y="485"/>
                </a:lnTo>
                <a:lnTo>
                  <a:pt x="5258" y="487"/>
                </a:lnTo>
                <a:lnTo>
                  <a:pt x="5260" y="488"/>
                </a:lnTo>
                <a:lnTo>
                  <a:pt x="5263" y="489"/>
                </a:lnTo>
                <a:lnTo>
                  <a:pt x="5266" y="489"/>
                </a:lnTo>
                <a:lnTo>
                  <a:pt x="5269" y="490"/>
                </a:lnTo>
                <a:lnTo>
                  <a:pt x="5272" y="491"/>
                </a:lnTo>
                <a:lnTo>
                  <a:pt x="5274" y="492"/>
                </a:lnTo>
                <a:lnTo>
                  <a:pt x="5278" y="493"/>
                </a:lnTo>
                <a:lnTo>
                  <a:pt x="5280" y="493"/>
                </a:lnTo>
                <a:lnTo>
                  <a:pt x="5283" y="494"/>
                </a:lnTo>
                <a:lnTo>
                  <a:pt x="5287" y="495"/>
                </a:lnTo>
                <a:lnTo>
                  <a:pt x="5289" y="497"/>
                </a:lnTo>
                <a:lnTo>
                  <a:pt x="5292" y="497"/>
                </a:lnTo>
                <a:lnTo>
                  <a:pt x="5295" y="498"/>
                </a:lnTo>
                <a:lnTo>
                  <a:pt x="5298" y="499"/>
                </a:lnTo>
                <a:lnTo>
                  <a:pt x="5300" y="500"/>
                </a:lnTo>
                <a:lnTo>
                  <a:pt x="5303" y="500"/>
                </a:lnTo>
                <a:lnTo>
                  <a:pt x="5307" y="501"/>
                </a:lnTo>
                <a:lnTo>
                  <a:pt x="5309" y="502"/>
                </a:lnTo>
                <a:lnTo>
                  <a:pt x="5312" y="503"/>
                </a:lnTo>
                <a:lnTo>
                  <a:pt x="5315" y="503"/>
                </a:lnTo>
                <a:lnTo>
                  <a:pt x="5318" y="504"/>
                </a:lnTo>
                <a:lnTo>
                  <a:pt x="5321" y="505"/>
                </a:lnTo>
                <a:lnTo>
                  <a:pt x="5324" y="505"/>
                </a:lnTo>
                <a:lnTo>
                  <a:pt x="5327" y="507"/>
                </a:lnTo>
                <a:lnTo>
                  <a:pt x="5329" y="508"/>
                </a:lnTo>
                <a:lnTo>
                  <a:pt x="5332" y="508"/>
                </a:lnTo>
                <a:lnTo>
                  <a:pt x="5336" y="509"/>
                </a:lnTo>
                <a:lnTo>
                  <a:pt x="5338" y="510"/>
                </a:lnTo>
                <a:lnTo>
                  <a:pt x="5341" y="510"/>
                </a:lnTo>
                <a:lnTo>
                  <a:pt x="5344" y="511"/>
                </a:lnTo>
                <a:lnTo>
                  <a:pt x="5347" y="511"/>
                </a:lnTo>
                <a:lnTo>
                  <a:pt x="5350" y="512"/>
                </a:lnTo>
                <a:lnTo>
                  <a:pt x="5353" y="513"/>
                </a:lnTo>
                <a:lnTo>
                  <a:pt x="5356" y="513"/>
                </a:lnTo>
                <a:lnTo>
                  <a:pt x="5358" y="514"/>
                </a:lnTo>
                <a:lnTo>
                  <a:pt x="5361" y="514"/>
                </a:lnTo>
                <a:lnTo>
                  <a:pt x="5365" y="516"/>
                </a:lnTo>
                <a:lnTo>
                  <a:pt x="5367" y="517"/>
                </a:lnTo>
                <a:lnTo>
                  <a:pt x="5370" y="517"/>
                </a:lnTo>
                <a:lnTo>
                  <a:pt x="5373" y="518"/>
                </a:lnTo>
                <a:lnTo>
                  <a:pt x="5376" y="518"/>
                </a:lnTo>
                <a:lnTo>
                  <a:pt x="5379" y="519"/>
                </a:lnTo>
                <a:lnTo>
                  <a:pt x="5382" y="519"/>
                </a:lnTo>
                <a:lnTo>
                  <a:pt x="5385" y="520"/>
                </a:lnTo>
                <a:lnTo>
                  <a:pt x="5387" y="520"/>
                </a:lnTo>
                <a:lnTo>
                  <a:pt x="5390" y="521"/>
                </a:lnTo>
                <a:lnTo>
                  <a:pt x="5393" y="521"/>
                </a:lnTo>
                <a:lnTo>
                  <a:pt x="5396" y="522"/>
                </a:lnTo>
                <a:lnTo>
                  <a:pt x="5399" y="522"/>
                </a:lnTo>
                <a:lnTo>
                  <a:pt x="5402" y="523"/>
                </a:lnTo>
                <a:lnTo>
                  <a:pt x="5405" y="523"/>
                </a:lnTo>
                <a:lnTo>
                  <a:pt x="5407" y="524"/>
                </a:lnTo>
                <a:lnTo>
                  <a:pt x="5411" y="524"/>
                </a:lnTo>
                <a:lnTo>
                  <a:pt x="5414" y="526"/>
                </a:lnTo>
                <a:lnTo>
                  <a:pt x="5416" y="526"/>
                </a:lnTo>
                <a:lnTo>
                  <a:pt x="5419" y="527"/>
                </a:lnTo>
                <a:lnTo>
                  <a:pt x="5422" y="527"/>
                </a:lnTo>
                <a:lnTo>
                  <a:pt x="5425" y="528"/>
                </a:lnTo>
                <a:lnTo>
                  <a:pt x="5428" y="528"/>
                </a:lnTo>
                <a:lnTo>
                  <a:pt x="5431" y="528"/>
                </a:lnTo>
                <a:lnTo>
                  <a:pt x="5434" y="529"/>
                </a:lnTo>
                <a:lnTo>
                  <a:pt x="5436" y="529"/>
                </a:lnTo>
                <a:lnTo>
                  <a:pt x="5440" y="530"/>
                </a:lnTo>
                <a:lnTo>
                  <a:pt x="5443" y="530"/>
                </a:lnTo>
                <a:lnTo>
                  <a:pt x="5445" y="530"/>
                </a:lnTo>
                <a:lnTo>
                  <a:pt x="5449" y="531"/>
                </a:lnTo>
                <a:lnTo>
                  <a:pt x="5451" y="531"/>
                </a:lnTo>
                <a:lnTo>
                  <a:pt x="5454" y="531"/>
                </a:lnTo>
                <a:lnTo>
                  <a:pt x="5457" y="532"/>
                </a:lnTo>
                <a:lnTo>
                  <a:pt x="5460" y="532"/>
                </a:lnTo>
                <a:lnTo>
                  <a:pt x="5463" y="532"/>
                </a:lnTo>
                <a:lnTo>
                  <a:pt x="5465" y="533"/>
                </a:lnTo>
                <a:lnTo>
                  <a:pt x="5469" y="533"/>
                </a:lnTo>
                <a:lnTo>
                  <a:pt x="5472" y="533"/>
                </a:lnTo>
                <a:lnTo>
                  <a:pt x="5474" y="534"/>
                </a:lnTo>
                <a:lnTo>
                  <a:pt x="5478" y="534"/>
                </a:lnTo>
                <a:lnTo>
                  <a:pt x="5480" y="534"/>
                </a:lnTo>
                <a:lnTo>
                  <a:pt x="5483" y="534"/>
                </a:lnTo>
                <a:lnTo>
                  <a:pt x="5485" y="536"/>
                </a:lnTo>
                <a:lnTo>
                  <a:pt x="5489" y="536"/>
                </a:lnTo>
                <a:lnTo>
                  <a:pt x="5492" y="536"/>
                </a:lnTo>
                <a:lnTo>
                  <a:pt x="5494" y="536"/>
                </a:lnTo>
                <a:lnTo>
                  <a:pt x="5498" y="537"/>
                </a:lnTo>
                <a:lnTo>
                  <a:pt x="5500" y="537"/>
                </a:lnTo>
                <a:lnTo>
                  <a:pt x="5503" y="537"/>
                </a:lnTo>
                <a:lnTo>
                  <a:pt x="5507" y="537"/>
                </a:lnTo>
                <a:lnTo>
                  <a:pt x="5509" y="538"/>
                </a:lnTo>
                <a:lnTo>
                  <a:pt x="5512" y="538"/>
                </a:lnTo>
                <a:lnTo>
                  <a:pt x="5514" y="538"/>
                </a:lnTo>
                <a:lnTo>
                  <a:pt x="5518" y="538"/>
                </a:lnTo>
                <a:lnTo>
                  <a:pt x="5521" y="538"/>
                </a:lnTo>
                <a:lnTo>
                  <a:pt x="5523" y="538"/>
                </a:lnTo>
                <a:lnTo>
                  <a:pt x="5527" y="539"/>
                </a:lnTo>
                <a:lnTo>
                  <a:pt x="5529" y="539"/>
                </a:lnTo>
                <a:lnTo>
                  <a:pt x="5532" y="539"/>
                </a:lnTo>
                <a:lnTo>
                  <a:pt x="5536" y="539"/>
                </a:lnTo>
                <a:lnTo>
                  <a:pt x="5538" y="539"/>
                </a:lnTo>
                <a:lnTo>
                  <a:pt x="5541" y="539"/>
                </a:lnTo>
                <a:lnTo>
                  <a:pt x="5543" y="539"/>
                </a:lnTo>
                <a:lnTo>
                  <a:pt x="5547" y="540"/>
                </a:lnTo>
                <a:lnTo>
                  <a:pt x="5550" y="540"/>
                </a:lnTo>
                <a:lnTo>
                  <a:pt x="5552" y="540"/>
                </a:lnTo>
                <a:lnTo>
                  <a:pt x="5556" y="540"/>
                </a:lnTo>
                <a:lnTo>
                  <a:pt x="5558" y="540"/>
                </a:lnTo>
                <a:lnTo>
                  <a:pt x="5561" y="540"/>
                </a:lnTo>
                <a:lnTo>
                  <a:pt x="5563" y="540"/>
                </a:lnTo>
                <a:lnTo>
                  <a:pt x="5567" y="540"/>
                </a:lnTo>
                <a:lnTo>
                  <a:pt x="5570" y="540"/>
                </a:lnTo>
                <a:lnTo>
                  <a:pt x="5572" y="540"/>
                </a:lnTo>
                <a:lnTo>
                  <a:pt x="5576" y="540"/>
                </a:lnTo>
                <a:lnTo>
                  <a:pt x="5578" y="540"/>
                </a:lnTo>
                <a:lnTo>
                  <a:pt x="5581" y="540"/>
                </a:lnTo>
                <a:lnTo>
                  <a:pt x="5585" y="540"/>
                </a:lnTo>
                <a:lnTo>
                  <a:pt x="5587" y="540"/>
                </a:lnTo>
                <a:lnTo>
                  <a:pt x="5590" y="540"/>
                </a:lnTo>
                <a:lnTo>
                  <a:pt x="5592" y="540"/>
                </a:lnTo>
                <a:lnTo>
                  <a:pt x="5596" y="540"/>
                </a:lnTo>
                <a:lnTo>
                  <a:pt x="5599" y="540"/>
                </a:lnTo>
                <a:lnTo>
                  <a:pt x="5601" y="540"/>
                </a:lnTo>
                <a:lnTo>
                  <a:pt x="5605" y="540"/>
                </a:lnTo>
                <a:lnTo>
                  <a:pt x="5607" y="540"/>
                </a:lnTo>
                <a:lnTo>
                  <a:pt x="5610" y="540"/>
                </a:lnTo>
                <a:lnTo>
                  <a:pt x="5614" y="540"/>
                </a:lnTo>
                <a:lnTo>
                  <a:pt x="5616" y="540"/>
                </a:lnTo>
                <a:lnTo>
                  <a:pt x="5619" y="539"/>
                </a:lnTo>
                <a:lnTo>
                  <a:pt x="5621" y="539"/>
                </a:lnTo>
                <a:lnTo>
                  <a:pt x="5625" y="539"/>
                </a:lnTo>
                <a:lnTo>
                  <a:pt x="5628" y="539"/>
                </a:lnTo>
                <a:lnTo>
                  <a:pt x="5630" y="539"/>
                </a:lnTo>
                <a:lnTo>
                  <a:pt x="5634" y="539"/>
                </a:lnTo>
                <a:lnTo>
                  <a:pt x="5636" y="539"/>
                </a:lnTo>
                <a:lnTo>
                  <a:pt x="5639" y="539"/>
                </a:lnTo>
                <a:lnTo>
                  <a:pt x="5643" y="538"/>
                </a:lnTo>
                <a:lnTo>
                  <a:pt x="5645" y="538"/>
                </a:lnTo>
                <a:lnTo>
                  <a:pt x="5648" y="538"/>
                </a:lnTo>
                <a:lnTo>
                  <a:pt x="5650" y="538"/>
                </a:lnTo>
                <a:lnTo>
                  <a:pt x="5654" y="538"/>
                </a:lnTo>
                <a:lnTo>
                  <a:pt x="5656" y="538"/>
                </a:lnTo>
                <a:lnTo>
                  <a:pt x="5659" y="537"/>
                </a:lnTo>
                <a:lnTo>
                  <a:pt x="5663" y="537"/>
                </a:lnTo>
                <a:lnTo>
                  <a:pt x="5665" y="537"/>
                </a:lnTo>
                <a:lnTo>
                  <a:pt x="5668" y="537"/>
                </a:lnTo>
                <a:lnTo>
                  <a:pt x="5670" y="536"/>
                </a:lnTo>
                <a:lnTo>
                  <a:pt x="5674" y="536"/>
                </a:lnTo>
                <a:lnTo>
                  <a:pt x="5677" y="536"/>
                </a:lnTo>
                <a:lnTo>
                  <a:pt x="5679" y="536"/>
                </a:lnTo>
                <a:lnTo>
                  <a:pt x="5683" y="534"/>
                </a:lnTo>
                <a:lnTo>
                  <a:pt x="5685" y="534"/>
                </a:lnTo>
                <a:lnTo>
                  <a:pt x="5688" y="534"/>
                </a:lnTo>
                <a:lnTo>
                  <a:pt x="5692" y="534"/>
                </a:lnTo>
                <a:lnTo>
                  <a:pt x="5694" y="533"/>
                </a:lnTo>
                <a:lnTo>
                  <a:pt x="5697" y="533"/>
                </a:lnTo>
                <a:lnTo>
                  <a:pt x="5700" y="533"/>
                </a:lnTo>
                <a:lnTo>
                  <a:pt x="5703" y="532"/>
                </a:lnTo>
                <a:lnTo>
                  <a:pt x="5706" y="532"/>
                </a:lnTo>
                <a:lnTo>
                  <a:pt x="5708" y="532"/>
                </a:lnTo>
                <a:lnTo>
                  <a:pt x="5712" y="531"/>
                </a:lnTo>
                <a:lnTo>
                  <a:pt x="5714" y="531"/>
                </a:lnTo>
                <a:lnTo>
                  <a:pt x="5717" y="531"/>
                </a:lnTo>
                <a:lnTo>
                  <a:pt x="5721" y="530"/>
                </a:lnTo>
                <a:lnTo>
                  <a:pt x="5723" y="530"/>
                </a:lnTo>
                <a:lnTo>
                  <a:pt x="5726" y="529"/>
                </a:lnTo>
                <a:lnTo>
                  <a:pt x="5729" y="529"/>
                </a:lnTo>
                <a:lnTo>
                  <a:pt x="5732" y="529"/>
                </a:lnTo>
                <a:lnTo>
                  <a:pt x="5735" y="528"/>
                </a:lnTo>
                <a:lnTo>
                  <a:pt x="5737" y="528"/>
                </a:lnTo>
                <a:lnTo>
                  <a:pt x="5741" y="527"/>
                </a:lnTo>
                <a:lnTo>
                  <a:pt x="5743" y="527"/>
                </a:lnTo>
                <a:lnTo>
                  <a:pt x="5746" y="527"/>
                </a:lnTo>
                <a:lnTo>
                  <a:pt x="5749" y="526"/>
                </a:lnTo>
                <a:lnTo>
                  <a:pt x="5752" y="526"/>
                </a:lnTo>
                <a:lnTo>
                  <a:pt x="5755" y="524"/>
                </a:lnTo>
                <a:lnTo>
                  <a:pt x="5758" y="524"/>
                </a:lnTo>
                <a:lnTo>
                  <a:pt x="5761" y="523"/>
                </a:lnTo>
                <a:lnTo>
                  <a:pt x="5763" y="523"/>
                </a:lnTo>
                <a:lnTo>
                  <a:pt x="5766" y="522"/>
                </a:lnTo>
                <a:lnTo>
                  <a:pt x="5770" y="522"/>
                </a:lnTo>
                <a:lnTo>
                  <a:pt x="5772" y="521"/>
                </a:lnTo>
                <a:lnTo>
                  <a:pt x="5775" y="521"/>
                </a:lnTo>
                <a:lnTo>
                  <a:pt x="5778" y="520"/>
                </a:lnTo>
                <a:lnTo>
                  <a:pt x="5781" y="520"/>
                </a:lnTo>
                <a:lnTo>
                  <a:pt x="5784" y="519"/>
                </a:lnTo>
                <a:lnTo>
                  <a:pt x="5787" y="519"/>
                </a:lnTo>
                <a:lnTo>
                  <a:pt x="5790" y="518"/>
                </a:lnTo>
                <a:lnTo>
                  <a:pt x="5792" y="518"/>
                </a:lnTo>
                <a:lnTo>
                  <a:pt x="5795" y="517"/>
                </a:lnTo>
                <a:lnTo>
                  <a:pt x="5799" y="517"/>
                </a:lnTo>
                <a:lnTo>
                  <a:pt x="5801" y="516"/>
                </a:lnTo>
                <a:lnTo>
                  <a:pt x="5804" y="514"/>
                </a:lnTo>
                <a:lnTo>
                  <a:pt x="5807" y="514"/>
                </a:lnTo>
                <a:lnTo>
                  <a:pt x="5810" y="513"/>
                </a:lnTo>
                <a:lnTo>
                  <a:pt x="5813" y="513"/>
                </a:lnTo>
                <a:lnTo>
                  <a:pt x="5816" y="512"/>
                </a:lnTo>
                <a:lnTo>
                  <a:pt x="5819" y="511"/>
                </a:lnTo>
                <a:lnTo>
                  <a:pt x="5821" y="511"/>
                </a:lnTo>
                <a:lnTo>
                  <a:pt x="5824" y="510"/>
                </a:lnTo>
                <a:lnTo>
                  <a:pt x="5828" y="509"/>
                </a:lnTo>
                <a:lnTo>
                  <a:pt x="5830" y="509"/>
                </a:lnTo>
                <a:lnTo>
                  <a:pt x="5833" y="508"/>
                </a:lnTo>
                <a:lnTo>
                  <a:pt x="5836" y="507"/>
                </a:lnTo>
                <a:lnTo>
                  <a:pt x="5839" y="507"/>
                </a:lnTo>
                <a:lnTo>
                  <a:pt x="5841" y="505"/>
                </a:lnTo>
                <a:lnTo>
                  <a:pt x="5845" y="504"/>
                </a:lnTo>
                <a:lnTo>
                  <a:pt x="5848" y="504"/>
                </a:lnTo>
                <a:lnTo>
                  <a:pt x="5850" y="503"/>
                </a:lnTo>
                <a:lnTo>
                  <a:pt x="5853" y="502"/>
                </a:lnTo>
                <a:lnTo>
                  <a:pt x="5856" y="502"/>
                </a:lnTo>
                <a:lnTo>
                  <a:pt x="5859" y="501"/>
                </a:lnTo>
                <a:lnTo>
                  <a:pt x="5862" y="500"/>
                </a:lnTo>
                <a:lnTo>
                  <a:pt x="5865" y="500"/>
                </a:lnTo>
                <a:lnTo>
                  <a:pt x="5868" y="499"/>
                </a:lnTo>
                <a:lnTo>
                  <a:pt x="5870" y="498"/>
                </a:lnTo>
                <a:lnTo>
                  <a:pt x="5874" y="497"/>
                </a:lnTo>
                <a:lnTo>
                  <a:pt x="5877" y="497"/>
                </a:lnTo>
                <a:lnTo>
                  <a:pt x="5879" y="495"/>
                </a:lnTo>
                <a:lnTo>
                  <a:pt x="5882" y="494"/>
                </a:lnTo>
                <a:lnTo>
                  <a:pt x="5885" y="493"/>
                </a:lnTo>
                <a:lnTo>
                  <a:pt x="5888" y="492"/>
                </a:lnTo>
                <a:lnTo>
                  <a:pt x="5891" y="492"/>
                </a:lnTo>
                <a:lnTo>
                  <a:pt x="5894" y="491"/>
                </a:lnTo>
                <a:lnTo>
                  <a:pt x="5897" y="490"/>
                </a:lnTo>
                <a:lnTo>
                  <a:pt x="5899" y="489"/>
                </a:lnTo>
                <a:lnTo>
                  <a:pt x="5903" y="488"/>
                </a:lnTo>
                <a:lnTo>
                  <a:pt x="5906" y="488"/>
                </a:lnTo>
                <a:lnTo>
                  <a:pt x="5908" y="487"/>
                </a:lnTo>
                <a:lnTo>
                  <a:pt x="5911" y="485"/>
                </a:lnTo>
                <a:lnTo>
                  <a:pt x="5914" y="484"/>
                </a:lnTo>
                <a:lnTo>
                  <a:pt x="5917" y="483"/>
                </a:lnTo>
                <a:lnTo>
                  <a:pt x="5920" y="482"/>
                </a:lnTo>
                <a:lnTo>
                  <a:pt x="5923" y="482"/>
                </a:lnTo>
                <a:lnTo>
                  <a:pt x="5926" y="481"/>
                </a:lnTo>
                <a:lnTo>
                  <a:pt x="5928" y="480"/>
                </a:lnTo>
                <a:lnTo>
                  <a:pt x="5932" y="479"/>
                </a:lnTo>
                <a:lnTo>
                  <a:pt x="5934" y="478"/>
                </a:lnTo>
                <a:lnTo>
                  <a:pt x="5937" y="477"/>
                </a:lnTo>
                <a:lnTo>
                  <a:pt x="5940" y="475"/>
                </a:lnTo>
                <a:lnTo>
                  <a:pt x="5943" y="474"/>
                </a:lnTo>
                <a:lnTo>
                  <a:pt x="5946" y="474"/>
                </a:lnTo>
                <a:lnTo>
                  <a:pt x="5948" y="473"/>
                </a:lnTo>
                <a:lnTo>
                  <a:pt x="5952" y="472"/>
                </a:lnTo>
                <a:lnTo>
                  <a:pt x="5955" y="471"/>
                </a:lnTo>
                <a:lnTo>
                  <a:pt x="5957" y="470"/>
                </a:lnTo>
                <a:lnTo>
                  <a:pt x="5961" y="469"/>
                </a:lnTo>
                <a:lnTo>
                  <a:pt x="5963" y="468"/>
                </a:lnTo>
                <a:lnTo>
                  <a:pt x="5966" y="467"/>
                </a:lnTo>
                <a:lnTo>
                  <a:pt x="5969" y="465"/>
                </a:lnTo>
                <a:lnTo>
                  <a:pt x="5972" y="464"/>
                </a:lnTo>
                <a:lnTo>
                  <a:pt x="5975" y="463"/>
                </a:lnTo>
                <a:lnTo>
                  <a:pt x="5977" y="462"/>
                </a:lnTo>
                <a:lnTo>
                  <a:pt x="5981" y="461"/>
                </a:lnTo>
                <a:lnTo>
                  <a:pt x="5984" y="460"/>
                </a:lnTo>
                <a:lnTo>
                  <a:pt x="5986" y="459"/>
                </a:lnTo>
                <a:lnTo>
                  <a:pt x="5990" y="458"/>
                </a:lnTo>
                <a:lnTo>
                  <a:pt x="5992" y="456"/>
                </a:lnTo>
                <a:lnTo>
                  <a:pt x="5995" y="455"/>
                </a:lnTo>
                <a:lnTo>
                  <a:pt x="5998" y="454"/>
                </a:lnTo>
                <a:lnTo>
                  <a:pt x="6001" y="453"/>
                </a:lnTo>
                <a:lnTo>
                  <a:pt x="6004" y="452"/>
                </a:lnTo>
                <a:lnTo>
                  <a:pt x="6006" y="451"/>
                </a:lnTo>
                <a:lnTo>
                  <a:pt x="6010" y="450"/>
                </a:lnTo>
                <a:lnTo>
                  <a:pt x="6012" y="449"/>
                </a:lnTo>
                <a:lnTo>
                  <a:pt x="6015" y="448"/>
                </a:lnTo>
                <a:lnTo>
                  <a:pt x="6019" y="446"/>
                </a:lnTo>
                <a:lnTo>
                  <a:pt x="6021" y="445"/>
                </a:lnTo>
                <a:lnTo>
                  <a:pt x="6024" y="444"/>
                </a:lnTo>
                <a:lnTo>
                  <a:pt x="6026" y="443"/>
                </a:lnTo>
                <a:lnTo>
                  <a:pt x="6030" y="442"/>
                </a:lnTo>
                <a:lnTo>
                  <a:pt x="6033" y="441"/>
                </a:lnTo>
                <a:lnTo>
                  <a:pt x="6035" y="440"/>
                </a:lnTo>
                <a:lnTo>
                  <a:pt x="6039" y="439"/>
                </a:lnTo>
                <a:lnTo>
                  <a:pt x="6041" y="438"/>
                </a:lnTo>
                <a:lnTo>
                  <a:pt x="6044" y="435"/>
                </a:lnTo>
                <a:lnTo>
                  <a:pt x="6048" y="434"/>
                </a:lnTo>
                <a:lnTo>
                  <a:pt x="6050" y="433"/>
                </a:lnTo>
                <a:lnTo>
                  <a:pt x="6053" y="432"/>
                </a:lnTo>
                <a:lnTo>
                  <a:pt x="6055" y="431"/>
                </a:lnTo>
                <a:lnTo>
                  <a:pt x="6059" y="430"/>
                </a:lnTo>
                <a:lnTo>
                  <a:pt x="6062" y="429"/>
                </a:lnTo>
                <a:lnTo>
                  <a:pt x="6064" y="428"/>
                </a:lnTo>
                <a:lnTo>
                  <a:pt x="6068" y="426"/>
                </a:lnTo>
                <a:lnTo>
                  <a:pt x="6070" y="424"/>
                </a:lnTo>
                <a:lnTo>
                  <a:pt x="6073" y="423"/>
                </a:lnTo>
                <a:lnTo>
                  <a:pt x="6077" y="422"/>
                </a:lnTo>
                <a:lnTo>
                  <a:pt x="6079" y="421"/>
                </a:lnTo>
                <a:lnTo>
                  <a:pt x="6082" y="420"/>
                </a:lnTo>
                <a:lnTo>
                  <a:pt x="6084" y="419"/>
                </a:lnTo>
                <a:lnTo>
                  <a:pt x="6088" y="417"/>
                </a:lnTo>
                <a:lnTo>
                  <a:pt x="6091" y="415"/>
                </a:lnTo>
                <a:lnTo>
                  <a:pt x="6093" y="414"/>
                </a:lnTo>
                <a:lnTo>
                  <a:pt x="6097" y="413"/>
                </a:lnTo>
                <a:lnTo>
                  <a:pt x="6099" y="412"/>
                </a:lnTo>
                <a:lnTo>
                  <a:pt x="6102" y="411"/>
                </a:lnTo>
                <a:lnTo>
                  <a:pt x="6104" y="410"/>
                </a:lnTo>
                <a:lnTo>
                  <a:pt x="6108" y="407"/>
                </a:lnTo>
                <a:lnTo>
                  <a:pt x="6111" y="406"/>
                </a:lnTo>
                <a:lnTo>
                  <a:pt x="6113" y="405"/>
                </a:lnTo>
                <a:lnTo>
                  <a:pt x="6117" y="404"/>
                </a:lnTo>
                <a:lnTo>
                  <a:pt x="6119" y="403"/>
                </a:lnTo>
                <a:lnTo>
                  <a:pt x="6122" y="401"/>
                </a:lnTo>
                <a:lnTo>
                  <a:pt x="6126" y="400"/>
                </a:lnTo>
                <a:lnTo>
                  <a:pt x="6128" y="399"/>
                </a:lnTo>
                <a:lnTo>
                  <a:pt x="6131" y="397"/>
                </a:lnTo>
                <a:lnTo>
                  <a:pt x="6133" y="395"/>
                </a:lnTo>
                <a:lnTo>
                  <a:pt x="6137" y="394"/>
                </a:lnTo>
                <a:lnTo>
                  <a:pt x="6140" y="393"/>
                </a:lnTo>
                <a:lnTo>
                  <a:pt x="6142" y="392"/>
                </a:lnTo>
                <a:lnTo>
                  <a:pt x="6146" y="391"/>
                </a:lnTo>
                <a:lnTo>
                  <a:pt x="6148" y="389"/>
                </a:lnTo>
                <a:lnTo>
                  <a:pt x="6151" y="387"/>
                </a:lnTo>
                <a:lnTo>
                  <a:pt x="6155" y="386"/>
                </a:lnTo>
                <a:lnTo>
                  <a:pt x="6157" y="385"/>
                </a:lnTo>
                <a:lnTo>
                  <a:pt x="6160" y="383"/>
                </a:lnTo>
                <a:lnTo>
                  <a:pt x="6162" y="382"/>
                </a:lnTo>
                <a:lnTo>
                  <a:pt x="6166" y="381"/>
                </a:lnTo>
                <a:lnTo>
                  <a:pt x="6169" y="380"/>
                </a:lnTo>
                <a:lnTo>
                  <a:pt x="6171" y="377"/>
                </a:lnTo>
                <a:lnTo>
                  <a:pt x="6175" y="376"/>
                </a:lnTo>
                <a:lnTo>
                  <a:pt x="6177" y="375"/>
                </a:lnTo>
                <a:lnTo>
                  <a:pt x="6180" y="373"/>
                </a:lnTo>
                <a:lnTo>
                  <a:pt x="6184" y="372"/>
                </a:lnTo>
                <a:lnTo>
                  <a:pt x="6186" y="371"/>
                </a:lnTo>
                <a:lnTo>
                  <a:pt x="6189" y="370"/>
                </a:lnTo>
                <a:lnTo>
                  <a:pt x="6191" y="367"/>
                </a:lnTo>
                <a:lnTo>
                  <a:pt x="6195" y="366"/>
                </a:lnTo>
                <a:lnTo>
                  <a:pt x="6197" y="365"/>
                </a:lnTo>
                <a:lnTo>
                  <a:pt x="6200" y="363"/>
                </a:lnTo>
                <a:lnTo>
                  <a:pt x="6204" y="362"/>
                </a:lnTo>
                <a:lnTo>
                  <a:pt x="6206" y="361"/>
                </a:lnTo>
                <a:lnTo>
                  <a:pt x="6209" y="360"/>
                </a:lnTo>
                <a:lnTo>
                  <a:pt x="6212" y="357"/>
                </a:lnTo>
                <a:lnTo>
                  <a:pt x="6215" y="356"/>
                </a:lnTo>
                <a:lnTo>
                  <a:pt x="6218" y="355"/>
                </a:lnTo>
                <a:lnTo>
                  <a:pt x="6220" y="353"/>
                </a:lnTo>
                <a:lnTo>
                  <a:pt x="6224" y="352"/>
                </a:lnTo>
                <a:lnTo>
                  <a:pt x="6226" y="351"/>
                </a:lnTo>
                <a:lnTo>
                  <a:pt x="6229" y="348"/>
                </a:lnTo>
                <a:lnTo>
                  <a:pt x="6233" y="347"/>
                </a:lnTo>
                <a:lnTo>
                  <a:pt x="6235" y="346"/>
                </a:lnTo>
                <a:lnTo>
                  <a:pt x="6238" y="344"/>
                </a:lnTo>
                <a:lnTo>
                  <a:pt x="6241" y="343"/>
                </a:lnTo>
                <a:lnTo>
                  <a:pt x="6244" y="342"/>
                </a:lnTo>
                <a:lnTo>
                  <a:pt x="6247" y="339"/>
                </a:lnTo>
                <a:lnTo>
                  <a:pt x="6249" y="338"/>
                </a:lnTo>
                <a:lnTo>
                  <a:pt x="6253" y="337"/>
                </a:lnTo>
                <a:lnTo>
                  <a:pt x="6255" y="335"/>
                </a:lnTo>
                <a:lnTo>
                  <a:pt x="6258" y="334"/>
                </a:lnTo>
                <a:lnTo>
                  <a:pt x="6262" y="333"/>
                </a:lnTo>
                <a:lnTo>
                  <a:pt x="6264" y="331"/>
                </a:lnTo>
                <a:lnTo>
                  <a:pt x="6267" y="329"/>
                </a:lnTo>
                <a:lnTo>
                  <a:pt x="6270" y="328"/>
                </a:lnTo>
                <a:lnTo>
                  <a:pt x="6273" y="326"/>
                </a:lnTo>
                <a:lnTo>
                  <a:pt x="6276" y="325"/>
                </a:lnTo>
                <a:lnTo>
                  <a:pt x="6278" y="324"/>
                </a:lnTo>
                <a:lnTo>
                  <a:pt x="6282" y="322"/>
                </a:lnTo>
                <a:lnTo>
                  <a:pt x="6284" y="321"/>
                </a:lnTo>
                <a:lnTo>
                  <a:pt x="6287" y="319"/>
                </a:lnTo>
                <a:lnTo>
                  <a:pt x="6290" y="317"/>
                </a:lnTo>
                <a:lnTo>
                  <a:pt x="6293" y="316"/>
                </a:lnTo>
                <a:lnTo>
                  <a:pt x="6296" y="314"/>
                </a:lnTo>
                <a:lnTo>
                  <a:pt x="6299" y="313"/>
                </a:lnTo>
                <a:lnTo>
                  <a:pt x="6302" y="312"/>
                </a:lnTo>
                <a:lnTo>
                  <a:pt x="6304" y="309"/>
                </a:lnTo>
                <a:lnTo>
                  <a:pt x="6307" y="308"/>
                </a:lnTo>
                <a:lnTo>
                  <a:pt x="6311" y="307"/>
                </a:lnTo>
                <a:lnTo>
                  <a:pt x="6313" y="305"/>
                </a:lnTo>
                <a:lnTo>
                  <a:pt x="6316" y="304"/>
                </a:lnTo>
                <a:lnTo>
                  <a:pt x="6319" y="302"/>
                </a:lnTo>
                <a:lnTo>
                  <a:pt x="6322" y="301"/>
                </a:lnTo>
                <a:lnTo>
                  <a:pt x="6325" y="299"/>
                </a:lnTo>
                <a:lnTo>
                  <a:pt x="6328" y="297"/>
                </a:lnTo>
                <a:lnTo>
                  <a:pt x="6331" y="296"/>
                </a:lnTo>
                <a:lnTo>
                  <a:pt x="6333" y="295"/>
                </a:lnTo>
                <a:lnTo>
                  <a:pt x="6336" y="293"/>
                </a:lnTo>
                <a:lnTo>
                  <a:pt x="6340" y="292"/>
                </a:lnTo>
                <a:lnTo>
                  <a:pt x="6342" y="289"/>
                </a:lnTo>
                <a:lnTo>
                  <a:pt x="6345" y="288"/>
                </a:lnTo>
                <a:lnTo>
                  <a:pt x="6348" y="287"/>
                </a:lnTo>
                <a:lnTo>
                  <a:pt x="6351" y="285"/>
                </a:lnTo>
                <a:lnTo>
                  <a:pt x="6354" y="284"/>
                </a:lnTo>
                <a:lnTo>
                  <a:pt x="6357" y="283"/>
                </a:lnTo>
                <a:lnTo>
                  <a:pt x="6360" y="280"/>
                </a:lnTo>
                <a:lnTo>
                  <a:pt x="6362" y="279"/>
                </a:lnTo>
                <a:lnTo>
                  <a:pt x="6365" y="277"/>
                </a:lnTo>
                <a:lnTo>
                  <a:pt x="6368" y="276"/>
                </a:lnTo>
                <a:lnTo>
                  <a:pt x="6371" y="275"/>
                </a:lnTo>
                <a:lnTo>
                  <a:pt x="6374" y="273"/>
                </a:lnTo>
                <a:lnTo>
                  <a:pt x="6377" y="272"/>
                </a:lnTo>
                <a:lnTo>
                  <a:pt x="6380" y="270"/>
                </a:lnTo>
                <a:lnTo>
                  <a:pt x="6380" y="27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7800840" y="2008080"/>
            <a:ext cx="2066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1730520" y="2152800"/>
            <a:ext cx="615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1684440" y="934920"/>
            <a:ext cx="2048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357200" y="2470320"/>
            <a:ext cx="3272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2071800" y="1106640"/>
            <a:ext cx="9842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3471840" y="1539720"/>
            <a:ext cx="986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4589640" y="5234040"/>
            <a:ext cx="446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3859200" y="49417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5167440" y="5234040"/>
            <a:ext cx="637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7628040" y="4024440"/>
            <a:ext cx="360" cy="12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7628040" y="4024440"/>
            <a:ext cx="360" cy="1207800"/>
          </a:xfrm>
          <a:custGeom>
            <a:avLst/>
            <a:gdLst/>
            <a:ahLst/>
            <a:rect l="l" t="t" r="r" b="b"/>
            <a:pathLst>
              <a:path w="0" h="2163">
                <a:moveTo>
                  <a:pt x="0" y="0"/>
                </a:moveTo>
                <a:lnTo>
                  <a:pt x="0" y="0"/>
                </a:lnTo>
                <a:lnTo>
                  <a:pt x="0" y="216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6380" y="0"/>
                </a:moveTo>
                <a:lnTo>
                  <a:pt x="0" y="0"/>
                </a:lnTo>
                <a:lnTo>
                  <a:pt x="63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0" y="0"/>
                </a:moveTo>
                <a:lnTo>
                  <a:pt x="0" y="0"/>
                </a:lnTo>
                <a:lnTo>
                  <a:pt x="63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176480" y="3857760"/>
            <a:ext cx="498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1712880" y="402444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1789200" y="3765600"/>
            <a:ext cx="1440" cy="15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7804080" y="5081760"/>
            <a:ext cx="206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1735200" y="5232240"/>
            <a:ext cx="6153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1544760" y="349416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1784520" y="4022640"/>
            <a:ext cx="3003480" cy="18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 flipH="1">
            <a:off x="4846680" y="3630600"/>
            <a:ext cx="782640" cy="392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5486400" y="333792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6202440" y="57240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s 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 flipH="1" flipV="1">
            <a:off x="3919680" y="5587920"/>
            <a:ext cx="2401920" cy="4348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 flipH="1" flipV="1">
            <a:off x="5721480" y="4978080"/>
            <a:ext cx="606240" cy="10494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2212920" y="4898880"/>
            <a:ext cx="34592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 flipH="1">
            <a:off x="1049040" y="4581360"/>
            <a:ext cx="15001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735120" y="590400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V="1">
            <a:off x="3809880" y="5224320"/>
            <a:ext cx="30168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 flipV="1">
            <a:off x="5448240" y="4890960"/>
            <a:ext cx="22248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8" name=""/>
          <p:cNvGrpSpPr/>
          <p:nvPr/>
        </p:nvGrpSpPr>
        <p:grpSpPr>
          <a:xfrm>
            <a:off x="1666800" y="4513320"/>
            <a:ext cx="612360" cy="437760"/>
            <a:chOff x="1666800" y="4513320"/>
            <a:chExt cx="612360" cy="437760"/>
          </a:xfrm>
        </p:grpSpPr>
        <p:sp>
          <p:nvSpPr>
            <p:cNvPr id="3159" name=""/>
            <p:cNvSpPr/>
            <p:nvPr/>
          </p:nvSpPr>
          <p:spPr>
            <a:xfrm>
              <a:off x="1742760" y="4722840"/>
              <a:ext cx="393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666800" y="4622760"/>
              <a:ext cx="545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699920" y="4513320"/>
              <a:ext cx="479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018880" y="4579920"/>
              <a:ext cx="2602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3" name=""/>
          <p:cNvSpPr/>
          <p:nvPr/>
        </p:nvSpPr>
        <p:spPr>
          <a:xfrm flipV="1">
            <a:off x="4802040" y="4022280"/>
            <a:ext cx="0" cy="12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1379520" y="5599080"/>
            <a:ext cx="2440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5" name=""/>
          <p:cNvGrpSpPr/>
          <p:nvPr/>
        </p:nvGrpSpPr>
        <p:grpSpPr>
          <a:xfrm>
            <a:off x="771480" y="5270400"/>
            <a:ext cx="612360" cy="437760"/>
            <a:chOff x="771480" y="5270400"/>
            <a:chExt cx="612360" cy="437760"/>
          </a:xfrm>
        </p:grpSpPr>
        <p:sp>
          <p:nvSpPr>
            <p:cNvPr id="3166" name=""/>
            <p:cNvSpPr/>
            <p:nvPr/>
          </p:nvSpPr>
          <p:spPr>
            <a:xfrm>
              <a:off x="847440" y="5479920"/>
              <a:ext cx="393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71480" y="5379840"/>
              <a:ext cx="545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04600" y="5270400"/>
              <a:ext cx="479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123560" y="5337000"/>
              <a:ext cx="2602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5911920" y="4031640"/>
            <a:ext cx="290340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os fasores reales corresponden a senos, los imaginarios, a cosenos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6C2-757A-4736-A230-9BC468754B2F}" type="slidenum">
              <a:t>114</a:t>
            </a:fld>
          </a:p>
        </p:txBody>
      </p:sp>
    </p:spTree>
  </p:cSld>
  <p:transition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3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parecen 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later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terminología heredada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 modul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radiocomun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2F2-7CE7-4FE1-98C4-F23E56ECB006}" type="slidenum">
              <a:t>115</a:t>
            </a:fld>
          </a:p>
        </p:txBody>
      </p:sp>
    </p:spTree>
  </p:cSld>
  <p:transition>
    <p:fade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defin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fundidad de modulación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modulation depth,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M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como la diferencia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B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las amplitudes máxima y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E1E-E654-40FA-A7E3-6B82FC4E4CE7}" type="slidenum">
              <a:t>116</a:t>
            </a:fld>
          </a:p>
        </p:txBody>
      </p:sp>
    </p:spTree>
  </p:cSld>
  <p:transition>
    <p:fade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4" name=""/>
          <p:cNvGrpSpPr/>
          <p:nvPr/>
        </p:nvGrpSpPr>
        <p:grpSpPr>
          <a:xfrm>
            <a:off x="1298520" y="1093680"/>
            <a:ext cx="6649560" cy="2046240"/>
            <a:chOff x="1298520" y="1093680"/>
            <a:chExt cx="6649560" cy="2046240"/>
          </a:xfrm>
        </p:grpSpPr>
        <p:sp>
          <p:nvSpPr>
            <p:cNvPr id="3185" name=""/>
            <p:cNvSpPr/>
            <p:nvPr/>
          </p:nvSpPr>
          <p:spPr>
            <a:xfrm flipV="1">
              <a:off x="1725480" y="1333440"/>
              <a:ext cx="1080" cy="18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516680" y="2200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298520" y="1657440"/>
              <a:ext cx="326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H="1">
              <a:off x="1650240" y="2803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>
              <a:off x="1650240" y="23097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H="1">
              <a:off x="1650240" y="1814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726920" y="1571400"/>
              <a:ext cx="5838480" cy="1476360"/>
            </a:xfrm>
            <a:custGeom>
              <a:avLst/>
              <a:gdLst/>
              <a:ahLst/>
              <a:rect l="l" t="t" r="r" b="b"/>
              <a:pathLst>
                <a:path w="6380" h="1614">
                  <a:moveTo>
                    <a:pt x="0" y="808"/>
                  </a:moveTo>
                  <a:lnTo>
                    <a:pt x="3" y="777"/>
                  </a:lnTo>
                  <a:lnTo>
                    <a:pt x="6" y="745"/>
                  </a:lnTo>
                  <a:lnTo>
                    <a:pt x="9" y="714"/>
                  </a:lnTo>
                  <a:lnTo>
                    <a:pt x="11" y="684"/>
                  </a:lnTo>
                  <a:lnTo>
                    <a:pt x="15" y="653"/>
                  </a:lnTo>
                  <a:lnTo>
                    <a:pt x="18" y="623"/>
                  </a:lnTo>
                  <a:lnTo>
                    <a:pt x="20" y="593"/>
                  </a:lnTo>
                  <a:lnTo>
                    <a:pt x="24" y="564"/>
                  </a:lnTo>
                  <a:lnTo>
                    <a:pt x="26" y="536"/>
                  </a:lnTo>
                  <a:lnTo>
                    <a:pt x="29" y="507"/>
                  </a:lnTo>
                  <a:lnTo>
                    <a:pt x="32" y="480"/>
                  </a:lnTo>
                  <a:lnTo>
                    <a:pt x="35" y="455"/>
                  </a:lnTo>
                  <a:lnTo>
                    <a:pt x="38" y="429"/>
                  </a:lnTo>
                  <a:lnTo>
                    <a:pt x="40" y="406"/>
                  </a:lnTo>
                  <a:lnTo>
                    <a:pt x="44" y="382"/>
                  </a:lnTo>
                  <a:lnTo>
                    <a:pt x="47" y="361"/>
                  </a:lnTo>
                  <a:lnTo>
                    <a:pt x="49" y="340"/>
                  </a:lnTo>
                  <a:lnTo>
                    <a:pt x="53" y="322"/>
                  </a:lnTo>
                  <a:lnTo>
                    <a:pt x="55" y="304"/>
                  </a:lnTo>
                  <a:lnTo>
                    <a:pt x="58" y="289"/>
                  </a:lnTo>
                  <a:lnTo>
                    <a:pt x="61" y="274"/>
                  </a:lnTo>
                  <a:lnTo>
                    <a:pt x="64" y="262"/>
                  </a:lnTo>
                  <a:lnTo>
                    <a:pt x="67" y="251"/>
                  </a:lnTo>
                  <a:lnTo>
                    <a:pt x="69" y="242"/>
                  </a:lnTo>
                  <a:lnTo>
                    <a:pt x="73" y="235"/>
                  </a:lnTo>
                  <a:lnTo>
                    <a:pt x="76" y="230"/>
                  </a:lnTo>
                  <a:lnTo>
                    <a:pt x="78" y="226"/>
                  </a:lnTo>
                  <a:lnTo>
                    <a:pt x="82" y="224"/>
                  </a:lnTo>
                  <a:lnTo>
                    <a:pt x="84" y="224"/>
                  </a:lnTo>
                  <a:lnTo>
                    <a:pt x="87" y="226"/>
                  </a:lnTo>
                  <a:lnTo>
                    <a:pt x="90" y="231"/>
                  </a:lnTo>
                  <a:lnTo>
                    <a:pt x="93" y="236"/>
                  </a:lnTo>
                  <a:lnTo>
                    <a:pt x="96" y="244"/>
                  </a:lnTo>
                  <a:lnTo>
                    <a:pt x="98" y="254"/>
                  </a:lnTo>
                  <a:lnTo>
                    <a:pt x="102" y="266"/>
                  </a:lnTo>
                  <a:lnTo>
                    <a:pt x="104" y="280"/>
                  </a:lnTo>
                  <a:lnTo>
                    <a:pt x="107" y="294"/>
                  </a:lnTo>
                  <a:lnTo>
                    <a:pt x="111" y="312"/>
                  </a:lnTo>
                  <a:lnTo>
                    <a:pt x="113" y="330"/>
                  </a:lnTo>
                  <a:lnTo>
                    <a:pt x="116" y="351"/>
                  </a:lnTo>
                  <a:lnTo>
                    <a:pt x="118" y="372"/>
                  </a:lnTo>
                  <a:lnTo>
                    <a:pt x="122" y="397"/>
                  </a:lnTo>
                  <a:lnTo>
                    <a:pt x="125" y="421"/>
                  </a:lnTo>
                  <a:lnTo>
                    <a:pt x="127" y="448"/>
                  </a:lnTo>
                  <a:lnTo>
                    <a:pt x="131" y="475"/>
                  </a:lnTo>
                  <a:lnTo>
                    <a:pt x="133" y="504"/>
                  </a:lnTo>
                  <a:lnTo>
                    <a:pt x="136" y="534"/>
                  </a:lnTo>
                  <a:lnTo>
                    <a:pt x="140" y="565"/>
                  </a:lnTo>
                  <a:lnTo>
                    <a:pt x="142" y="597"/>
                  </a:lnTo>
                  <a:lnTo>
                    <a:pt x="145" y="630"/>
                  </a:lnTo>
                  <a:lnTo>
                    <a:pt x="147" y="663"/>
                  </a:lnTo>
                  <a:lnTo>
                    <a:pt x="151" y="697"/>
                  </a:lnTo>
                  <a:lnTo>
                    <a:pt x="154" y="732"/>
                  </a:lnTo>
                  <a:lnTo>
                    <a:pt x="156" y="768"/>
                  </a:lnTo>
                  <a:lnTo>
                    <a:pt x="160" y="803"/>
                  </a:lnTo>
                  <a:lnTo>
                    <a:pt x="162" y="839"/>
                  </a:lnTo>
                  <a:lnTo>
                    <a:pt x="165" y="875"/>
                  </a:lnTo>
                  <a:lnTo>
                    <a:pt x="169" y="910"/>
                  </a:lnTo>
                  <a:lnTo>
                    <a:pt x="171" y="945"/>
                  </a:lnTo>
                  <a:lnTo>
                    <a:pt x="174" y="980"/>
                  </a:lnTo>
                  <a:lnTo>
                    <a:pt x="176" y="1015"/>
                  </a:lnTo>
                  <a:lnTo>
                    <a:pt x="180" y="1050"/>
                  </a:lnTo>
                  <a:lnTo>
                    <a:pt x="183" y="1083"/>
                  </a:lnTo>
                  <a:lnTo>
                    <a:pt x="185" y="1116"/>
                  </a:lnTo>
                  <a:lnTo>
                    <a:pt x="189" y="1148"/>
                  </a:lnTo>
                  <a:lnTo>
                    <a:pt x="191" y="1179"/>
                  </a:lnTo>
                  <a:lnTo>
                    <a:pt x="194" y="1209"/>
                  </a:lnTo>
                  <a:lnTo>
                    <a:pt x="196" y="1238"/>
                  </a:lnTo>
                  <a:lnTo>
                    <a:pt x="200" y="1266"/>
                  </a:lnTo>
                  <a:lnTo>
                    <a:pt x="203" y="1291"/>
                  </a:lnTo>
                  <a:lnTo>
                    <a:pt x="205" y="1316"/>
                  </a:lnTo>
                  <a:lnTo>
                    <a:pt x="209" y="1339"/>
                  </a:lnTo>
                  <a:lnTo>
                    <a:pt x="211" y="1360"/>
                  </a:lnTo>
                  <a:lnTo>
                    <a:pt x="214" y="1380"/>
                  </a:lnTo>
                  <a:lnTo>
                    <a:pt x="218" y="1398"/>
                  </a:lnTo>
                  <a:lnTo>
                    <a:pt x="220" y="1415"/>
                  </a:lnTo>
                  <a:lnTo>
                    <a:pt x="223" y="1428"/>
                  </a:lnTo>
                  <a:lnTo>
                    <a:pt x="225" y="1441"/>
                  </a:lnTo>
                  <a:lnTo>
                    <a:pt x="229" y="1451"/>
                  </a:lnTo>
                  <a:lnTo>
                    <a:pt x="232" y="1460"/>
                  </a:lnTo>
                  <a:lnTo>
                    <a:pt x="234" y="1465"/>
                  </a:lnTo>
                  <a:lnTo>
                    <a:pt x="238" y="1470"/>
                  </a:lnTo>
                  <a:lnTo>
                    <a:pt x="240" y="1471"/>
                  </a:lnTo>
                  <a:lnTo>
                    <a:pt x="243" y="1471"/>
                  </a:lnTo>
                  <a:lnTo>
                    <a:pt x="247" y="1468"/>
                  </a:lnTo>
                  <a:lnTo>
                    <a:pt x="249" y="1463"/>
                  </a:lnTo>
                  <a:lnTo>
                    <a:pt x="252" y="1456"/>
                  </a:lnTo>
                  <a:lnTo>
                    <a:pt x="254" y="1447"/>
                  </a:lnTo>
                  <a:lnTo>
                    <a:pt x="258" y="1436"/>
                  </a:lnTo>
                  <a:lnTo>
                    <a:pt x="261" y="1423"/>
                  </a:lnTo>
                  <a:lnTo>
                    <a:pt x="263" y="1407"/>
                  </a:lnTo>
                  <a:lnTo>
                    <a:pt x="267" y="1390"/>
                  </a:lnTo>
                  <a:lnTo>
                    <a:pt x="269" y="1370"/>
                  </a:lnTo>
                  <a:lnTo>
                    <a:pt x="272" y="1349"/>
                  </a:lnTo>
                  <a:lnTo>
                    <a:pt x="276" y="1327"/>
                  </a:lnTo>
                  <a:lnTo>
                    <a:pt x="278" y="1301"/>
                  </a:lnTo>
                  <a:lnTo>
                    <a:pt x="281" y="1276"/>
                  </a:lnTo>
                  <a:lnTo>
                    <a:pt x="283" y="1247"/>
                  </a:lnTo>
                  <a:lnTo>
                    <a:pt x="287" y="1217"/>
                  </a:lnTo>
                  <a:lnTo>
                    <a:pt x="289" y="1185"/>
                  </a:lnTo>
                  <a:lnTo>
                    <a:pt x="292" y="1153"/>
                  </a:lnTo>
                  <a:lnTo>
                    <a:pt x="296" y="1120"/>
                  </a:lnTo>
                  <a:lnTo>
                    <a:pt x="298" y="1084"/>
                  </a:lnTo>
                  <a:lnTo>
                    <a:pt x="301" y="1048"/>
                  </a:lnTo>
                  <a:lnTo>
                    <a:pt x="304" y="1012"/>
                  </a:lnTo>
                  <a:lnTo>
                    <a:pt x="307" y="974"/>
                  </a:lnTo>
                  <a:lnTo>
                    <a:pt x="310" y="936"/>
                  </a:lnTo>
                  <a:lnTo>
                    <a:pt x="312" y="897"/>
                  </a:lnTo>
                  <a:lnTo>
                    <a:pt x="316" y="857"/>
                  </a:lnTo>
                  <a:lnTo>
                    <a:pt x="318" y="818"/>
                  </a:lnTo>
                  <a:lnTo>
                    <a:pt x="321" y="778"/>
                  </a:lnTo>
                  <a:lnTo>
                    <a:pt x="325" y="738"/>
                  </a:lnTo>
                  <a:lnTo>
                    <a:pt x="327" y="697"/>
                  </a:lnTo>
                  <a:lnTo>
                    <a:pt x="330" y="658"/>
                  </a:lnTo>
                  <a:lnTo>
                    <a:pt x="333" y="618"/>
                  </a:lnTo>
                  <a:lnTo>
                    <a:pt x="336" y="580"/>
                  </a:lnTo>
                  <a:lnTo>
                    <a:pt x="339" y="541"/>
                  </a:lnTo>
                  <a:lnTo>
                    <a:pt x="341" y="505"/>
                  </a:lnTo>
                  <a:lnTo>
                    <a:pt x="345" y="468"/>
                  </a:lnTo>
                  <a:lnTo>
                    <a:pt x="347" y="432"/>
                  </a:lnTo>
                  <a:lnTo>
                    <a:pt x="350" y="398"/>
                  </a:lnTo>
                  <a:lnTo>
                    <a:pt x="354" y="364"/>
                  </a:lnTo>
                  <a:lnTo>
                    <a:pt x="356" y="332"/>
                  </a:lnTo>
                  <a:lnTo>
                    <a:pt x="359" y="302"/>
                  </a:lnTo>
                  <a:lnTo>
                    <a:pt x="362" y="273"/>
                  </a:lnTo>
                  <a:lnTo>
                    <a:pt x="365" y="246"/>
                  </a:lnTo>
                  <a:lnTo>
                    <a:pt x="368" y="221"/>
                  </a:lnTo>
                  <a:lnTo>
                    <a:pt x="370" y="196"/>
                  </a:lnTo>
                  <a:lnTo>
                    <a:pt x="374" y="175"/>
                  </a:lnTo>
                  <a:lnTo>
                    <a:pt x="376" y="155"/>
                  </a:lnTo>
                  <a:lnTo>
                    <a:pt x="379" y="137"/>
                  </a:lnTo>
                  <a:lnTo>
                    <a:pt x="382" y="121"/>
                  </a:lnTo>
                  <a:lnTo>
                    <a:pt x="385" y="108"/>
                  </a:lnTo>
                  <a:lnTo>
                    <a:pt x="388" y="97"/>
                  </a:lnTo>
                  <a:lnTo>
                    <a:pt x="391" y="88"/>
                  </a:lnTo>
                  <a:lnTo>
                    <a:pt x="394" y="81"/>
                  </a:lnTo>
                  <a:lnTo>
                    <a:pt x="396" y="78"/>
                  </a:lnTo>
                  <a:lnTo>
                    <a:pt x="399" y="76"/>
                  </a:lnTo>
                  <a:lnTo>
                    <a:pt x="403" y="76"/>
                  </a:lnTo>
                  <a:lnTo>
                    <a:pt x="405" y="79"/>
                  </a:lnTo>
                  <a:lnTo>
                    <a:pt x="408" y="85"/>
                  </a:lnTo>
                  <a:lnTo>
                    <a:pt x="411" y="93"/>
                  </a:lnTo>
                  <a:lnTo>
                    <a:pt x="414" y="103"/>
                  </a:lnTo>
                  <a:lnTo>
                    <a:pt x="417" y="115"/>
                  </a:lnTo>
                  <a:lnTo>
                    <a:pt x="420" y="129"/>
                  </a:lnTo>
                  <a:lnTo>
                    <a:pt x="423" y="146"/>
                  </a:lnTo>
                  <a:lnTo>
                    <a:pt x="425" y="165"/>
                  </a:lnTo>
                  <a:lnTo>
                    <a:pt x="428" y="187"/>
                  </a:lnTo>
                  <a:lnTo>
                    <a:pt x="432" y="211"/>
                  </a:lnTo>
                  <a:lnTo>
                    <a:pt x="434" y="235"/>
                  </a:lnTo>
                  <a:lnTo>
                    <a:pt x="437" y="263"/>
                  </a:lnTo>
                  <a:lnTo>
                    <a:pt x="440" y="292"/>
                  </a:lnTo>
                  <a:lnTo>
                    <a:pt x="443" y="323"/>
                  </a:lnTo>
                  <a:lnTo>
                    <a:pt x="446" y="355"/>
                  </a:lnTo>
                  <a:lnTo>
                    <a:pt x="449" y="390"/>
                  </a:lnTo>
                  <a:lnTo>
                    <a:pt x="452" y="426"/>
                  </a:lnTo>
                  <a:lnTo>
                    <a:pt x="454" y="462"/>
                  </a:lnTo>
                  <a:lnTo>
                    <a:pt x="458" y="500"/>
                  </a:lnTo>
                  <a:lnTo>
                    <a:pt x="460" y="539"/>
                  </a:lnTo>
                  <a:lnTo>
                    <a:pt x="463" y="580"/>
                  </a:lnTo>
                  <a:lnTo>
                    <a:pt x="466" y="621"/>
                  </a:lnTo>
                  <a:lnTo>
                    <a:pt x="469" y="663"/>
                  </a:lnTo>
                  <a:lnTo>
                    <a:pt x="472" y="705"/>
                  </a:lnTo>
                  <a:lnTo>
                    <a:pt x="474" y="748"/>
                  </a:lnTo>
                  <a:lnTo>
                    <a:pt x="478" y="791"/>
                  </a:lnTo>
                  <a:lnTo>
                    <a:pt x="481" y="835"/>
                  </a:lnTo>
                  <a:lnTo>
                    <a:pt x="483" y="878"/>
                  </a:lnTo>
                  <a:lnTo>
                    <a:pt x="487" y="921"/>
                  </a:lnTo>
                  <a:lnTo>
                    <a:pt x="489" y="964"/>
                  </a:lnTo>
                  <a:lnTo>
                    <a:pt x="492" y="1006"/>
                  </a:lnTo>
                  <a:lnTo>
                    <a:pt x="495" y="1048"/>
                  </a:lnTo>
                  <a:lnTo>
                    <a:pt x="498" y="1090"/>
                  </a:lnTo>
                  <a:lnTo>
                    <a:pt x="501" y="1130"/>
                  </a:lnTo>
                  <a:lnTo>
                    <a:pt x="503" y="1169"/>
                  </a:lnTo>
                  <a:lnTo>
                    <a:pt x="507" y="1208"/>
                  </a:lnTo>
                  <a:lnTo>
                    <a:pt x="510" y="1244"/>
                  </a:lnTo>
                  <a:lnTo>
                    <a:pt x="512" y="1280"/>
                  </a:lnTo>
                  <a:lnTo>
                    <a:pt x="516" y="1315"/>
                  </a:lnTo>
                  <a:lnTo>
                    <a:pt x="518" y="1348"/>
                  </a:lnTo>
                  <a:lnTo>
                    <a:pt x="521" y="1378"/>
                  </a:lnTo>
                  <a:lnTo>
                    <a:pt x="524" y="1408"/>
                  </a:lnTo>
                  <a:lnTo>
                    <a:pt x="527" y="1435"/>
                  </a:lnTo>
                  <a:lnTo>
                    <a:pt x="530" y="1461"/>
                  </a:lnTo>
                  <a:lnTo>
                    <a:pt x="532" y="1484"/>
                  </a:lnTo>
                  <a:lnTo>
                    <a:pt x="536" y="1505"/>
                  </a:lnTo>
                  <a:lnTo>
                    <a:pt x="539" y="1524"/>
                  </a:lnTo>
                  <a:lnTo>
                    <a:pt x="541" y="1541"/>
                  </a:lnTo>
                  <a:lnTo>
                    <a:pt x="545" y="1554"/>
                  </a:lnTo>
                  <a:lnTo>
                    <a:pt x="547" y="1566"/>
                  </a:lnTo>
                  <a:lnTo>
                    <a:pt x="550" y="1575"/>
                  </a:lnTo>
                  <a:lnTo>
                    <a:pt x="552" y="1582"/>
                  </a:lnTo>
                  <a:lnTo>
                    <a:pt x="556" y="1587"/>
                  </a:lnTo>
                  <a:lnTo>
                    <a:pt x="559" y="1589"/>
                  </a:lnTo>
                  <a:lnTo>
                    <a:pt x="561" y="1588"/>
                  </a:lnTo>
                  <a:lnTo>
                    <a:pt x="565" y="1584"/>
                  </a:lnTo>
                  <a:lnTo>
                    <a:pt x="567" y="1579"/>
                  </a:lnTo>
                  <a:lnTo>
                    <a:pt x="570" y="1571"/>
                  </a:lnTo>
                  <a:lnTo>
                    <a:pt x="574" y="1560"/>
                  </a:lnTo>
                  <a:lnTo>
                    <a:pt x="576" y="1546"/>
                  </a:lnTo>
                  <a:lnTo>
                    <a:pt x="579" y="1531"/>
                  </a:lnTo>
                  <a:lnTo>
                    <a:pt x="581" y="1513"/>
                  </a:lnTo>
                  <a:lnTo>
                    <a:pt x="585" y="1492"/>
                  </a:lnTo>
                  <a:lnTo>
                    <a:pt x="588" y="1470"/>
                  </a:lnTo>
                  <a:lnTo>
                    <a:pt x="590" y="1444"/>
                  </a:lnTo>
                  <a:lnTo>
                    <a:pt x="594" y="1417"/>
                  </a:lnTo>
                  <a:lnTo>
                    <a:pt x="596" y="1388"/>
                  </a:lnTo>
                  <a:lnTo>
                    <a:pt x="599" y="1357"/>
                  </a:lnTo>
                  <a:lnTo>
                    <a:pt x="603" y="1325"/>
                  </a:lnTo>
                  <a:lnTo>
                    <a:pt x="605" y="1290"/>
                  </a:lnTo>
                  <a:lnTo>
                    <a:pt x="608" y="1253"/>
                  </a:lnTo>
                  <a:lnTo>
                    <a:pt x="610" y="1216"/>
                  </a:lnTo>
                  <a:lnTo>
                    <a:pt x="614" y="1177"/>
                  </a:lnTo>
                  <a:lnTo>
                    <a:pt x="617" y="1136"/>
                  </a:lnTo>
                  <a:lnTo>
                    <a:pt x="619" y="1095"/>
                  </a:lnTo>
                  <a:lnTo>
                    <a:pt x="623" y="1053"/>
                  </a:lnTo>
                  <a:lnTo>
                    <a:pt x="625" y="1009"/>
                  </a:lnTo>
                  <a:lnTo>
                    <a:pt x="628" y="965"/>
                  </a:lnTo>
                  <a:lnTo>
                    <a:pt x="632" y="920"/>
                  </a:lnTo>
                  <a:lnTo>
                    <a:pt x="634" y="876"/>
                  </a:lnTo>
                  <a:lnTo>
                    <a:pt x="637" y="830"/>
                  </a:lnTo>
                  <a:lnTo>
                    <a:pt x="639" y="784"/>
                  </a:lnTo>
                  <a:lnTo>
                    <a:pt x="643" y="740"/>
                  </a:lnTo>
                  <a:lnTo>
                    <a:pt x="645" y="694"/>
                  </a:lnTo>
                  <a:lnTo>
                    <a:pt x="648" y="650"/>
                  </a:lnTo>
                  <a:lnTo>
                    <a:pt x="652" y="605"/>
                  </a:lnTo>
                  <a:lnTo>
                    <a:pt x="654" y="560"/>
                  </a:lnTo>
                  <a:lnTo>
                    <a:pt x="657" y="518"/>
                  </a:lnTo>
                  <a:lnTo>
                    <a:pt x="659" y="476"/>
                  </a:lnTo>
                  <a:lnTo>
                    <a:pt x="663" y="435"/>
                  </a:lnTo>
                  <a:lnTo>
                    <a:pt x="666" y="394"/>
                  </a:lnTo>
                  <a:lnTo>
                    <a:pt x="668" y="355"/>
                  </a:lnTo>
                  <a:lnTo>
                    <a:pt x="672" y="319"/>
                  </a:lnTo>
                  <a:lnTo>
                    <a:pt x="674" y="283"/>
                  </a:lnTo>
                  <a:lnTo>
                    <a:pt x="677" y="248"/>
                  </a:lnTo>
                  <a:lnTo>
                    <a:pt x="681" y="216"/>
                  </a:lnTo>
                  <a:lnTo>
                    <a:pt x="683" y="186"/>
                  </a:lnTo>
                  <a:lnTo>
                    <a:pt x="686" y="158"/>
                  </a:lnTo>
                  <a:lnTo>
                    <a:pt x="688" y="131"/>
                  </a:lnTo>
                  <a:lnTo>
                    <a:pt x="692" y="107"/>
                  </a:lnTo>
                  <a:lnTo>
                    <a:pt x="695" y="86"/>
                  </a:lnTo>
                  <a:lnTo>
                    <a:pt x="697" y="66"/>
                  </a:lnTo>
                  <a:lnTo>
                    <a:pt x="701" y="49"/>
                  </a:lnTo>
                  <a:lnTo>
                    <a:pt x="703" y="35"/>
                  </a:lnTo>
                  <a:lnTo>
                    <a:pt x="706" y="22"/>
                  </a:lnTo>
                  <a:lnTo>
                    <a:pt x="710" y="13"/>
                  </a:lnTo>
                  <a:lnTo>
                    <a:pt x="712" y="6"/>
                  </a:lnTo>
                  <a:lnTo>
                    <a:pt x="715" y="2"/>
                  </a:lnTo>
                  <a:lnTo>
                    <a:pt x="717" y="0"/>
                  </a:lnTo>
                  <a:lnTo>
                    <a:pt x="721" y="1"/>
                  </a:lnTo>
                  <a:lnTo>
                    <a:pt x="724" y="4"/>
                  </a:lnTo>
                  <a:lnTo>
                    <a:pt x="726" y="10"/>
                  </a:lnTo>
                  <a:lnTo>
                    <a:pt x="730" y="19"/>
                  </a:lnTo>
                  <a:lnTo>
                    <a:pt x="732" y="31"/>
                  </a:lnTo>
                  <a:lnTo>
                    <a:pt x="735" y="45"/>
                  </a:lnTo>
                  <a:lnTo>
                    <a:pt x="738" y="61"/>
                  </a:lnTo>
                  <a:lnTo>
                    <a:pt x="741" y="80"/>
                  </a:lnTo>
                  <a:lnTo>
                    <a:pt x="744" y="101"/>
                  </a:lnTo>
                  <a:lnTo>
                    <a:pt x="746" y="125"/>
                  </a:lnTo>
                  <a:lnTo>
                    <a:pt x="750" y="150"/>
                  </a:lnTo>
                  <a:lnTo>
                    <a:pt x="752" y="178"/>
                  </a:lnTo>
                  <a:lnTo>
                    <a:pt x="755" y="208"/>
                  </a:lnTo>
                  <a:lnTo>
                    <a:pt x="759" y="240"/>
                  </a:lnTo>
                  <a:lnTo>
                    <a:pt x="761" y="274"/>
                  </a:lnTo>
                  <a:lnTo>
                    <a:pt x="764" y="309"/>
                  </a:lnTo>
                  <a:lnTo>
                    <a:pt x="767" y="347"/>
                  </a:lnTo>
                  <a:lnTo>
                    <a:pt x="770" y="384"/>
                  </a:lnTo>
                  <a:lnTo>
                    <a:pt x="773" y="425"/>
                  </a:lnTo>
                  <a:lnTo>
                    <a:pt x="775" y="466"/>
                  </a:lnTo>
                  <a:lnTo>
                    <a:pt x="779" y="508"/>
                  </a:lnTo>
                  <a:lnTo>
                    <a:pt x="781" y="552"/>
                  </a:lnTo>
                  <a:lnTo>
                    <a:pt x="784" y="596"/>
                  </a:lnTo>
                  <a:lnTo>
                    <a:pt x="788" y="641"/>
                  </a:lnTo>
                  <a:lnTo>
                    <a:pt x="790" y="686"/>
                  </a:lnTo>
                  <a:lnTo>
                    <a:pt x="793" y="732"/>
                  </a:lnTo>
                  <a:lnTo>
                    <a:pt x="796" y="779"/>
                  </a:lnTo>
                  <a:lnTo>
                    <a:pt x="799" y="824"/>
                  </a:lnTo>
                  <a:lnTo>
                    <a:pt x="802" y="871"/>
                  </a:lnTo>
                  <a:lnTo>
                    <a:pt x="804" y="917"/>
                  </a:lnTo>
                  <a:lnTo>
                    <a:pt x="808" y="963"/>
                  </a:lnTo>
                  <a:lnTo>
                    <a:pt x="810" y="1007"/>
                  </a:lnTo>
                  <a:lnTo>
                    <a:pt x="813" y="1052"/>
                  </a:lnTo>
                  <a:lnTo>
                    <a:pt x="817" y="1095"/>
                  </a:lnTo>
                  <a:lnTo>
                    <a:pt x="819" y="1139"/>
                  </a:lnTo>
                  <a:lnTo>
                    <a:pt x="822" y="1180"/>
                  </a:lnTo>
                  <a:lnTo>
                    <a:pt x="825" y="1220"/>
                  </a:lnTo>
                  <a:lnTo>
                    <a:pt x="828" y="1259"/>
                  </a:lnTo>
                  <a:lnTo>
                    <a:pt x="830" y="1297"/>
                  </a:lnTo>
                  <a:lnTo>
                    <a:pt x="833" y="1333"/>
                  </a:lnTo>
                  <a:lnTo>
                    <a:pt x="837" y="1367"/>
                  </a:lnTo>
                  <a:lnTo>
                    <a:pt x="839" y="1399"/>
                  </a:lnTo>
                  <a:lnTo>
                    <a:pt x="842" y="1429"/>
                  </a:lnTo>
                  <a:lnTo>
                    <a:pt x="845" y="1458"/>
                  </a:lnTo>
                  <a:lnTo>
                    <a:pt x="848" y="1484"/>
                  </a:lnTo>
                  <a:lnTo>
                    <a:pt x="851" y="1509"/>
                  </a:lnTo>
                  <a:lnTo>
                    <a:pt x="854" y="1530"/>
                  </a:lnTo>
                  <a:lnTo>
                    <a:pt x="857" y="1550"/>
                  </a:lnTo>
                  <a:lnTo>
                    <a:pt x="859" y="1566"/>
                  </a:lnTo>
                  <a:lnTo>
                    <a:pt x="862" y="1581"/>
                  </a:lnTo>
                  <a:lnTo>
                    <a:pt x="866" y="1593"/>
                  </a:lnTo>
                  <a:lnTo>
                    <a:pt x="868" y="1602"/>
                  </a:lnTo>
                  <a:lnTo>
                    <a:pt x="871" y="1609"/>
                  </a:lnTo>
                  <a:lnTo>
                    <a:pt x="874" y="1613"/>
                  </a:lnTo>
                  <a:lnTo>
                    <a:pt x="877" y="1614"/>
                  </a:lnTo>
                  <a:lnTo>
                    <a:pt x="880" y="1613"/>
                  </a:lnTo>
                  <a:lnTo>
                    <a:pt x="883" y="1610"/>
                  </a:lnTo>
                  <a:lnTo>
                    <a:pt x="886" y="1604"/>
                  </a:lnTo>
                  <a:lnTo>
                    <a:pt x="888" y="1595"/>
                  </a:lnTo>
                  <a:lnTo>
                    <a:pt x="891" y="1583"/>
                  </a:lnTo>
                  <a:lnTo>
                    <a:pt x="895" y="1570"/>
                  </a:lnTo>
                  <a:lnTo>
                    <a:pt x="897" y="1553"/>
                  </a:lnTo>
                  <a:lnTo>
                    <a:pt x="900" y="1534"/>
                  </a:lnTo>
                  <a:lnTo>
                    <a:pt x="903" y="1513"/>
                  </a:lnTo>
                  <a:lnTo>
                    <a:pt x="906" y="1490"/>
                  </a:lnTo>
                  <a:lnTo>
                    <a:pt x="908" y="1464"/>
                  </a:lnTo>
                  <a:lnTo>
                    <a:pt x="912" y="1436"/>
                  </a:lnTo>
                  <a:lnTo>
                    <a:pt x="915" y="1406"/>
                  </a:lnTo>
                  <a:lnTo>
                    <a:pt x="917" y="1375"/>
                  </a:lnTo>
                  <a:lnTo>
                    <a:pt x="920" y="1340"/>
                  </a:lnTo>
                  <a:lnTo>
                    <a:pt x="923" y="1306"/>
                  </a:lnTo>
                  <a:lnTo>
                    <a:pt x="926" y="1269"/>
                  </a:lnTo>
                  <a:lnTo>
                    <a:pt x="929" y="1230"/>
                  </a:lnTo>
                  <a:lnTo>
                    <a:pt x="932" y="1191"/>
                  </a:lnTo>
                  <a:lnTo>
                    <a:pt x="935" y="1150"/>
                  </a:lnTo>
                  <a:lnTo>
                    <a:pt x="937" y="1107"/>
                  </a:lnTo>
                  <a:lnTo>
                    <a:pt x="941" y="1065"/>
                  </a:lnTo>
                  <a:lnTo>
                    <a:pt x="944" y="1022"/>
                  </a:lnTo>
                  <a:lnTo>
                    <a:pt x="946" y="977"/>
                  </a:lnTo>
                  <a:lnTo>
                    <a:pt x="949" y="933"/>
                  </a:lnTo>
                  <a:lnTo>
                    <a:pt x="952" y="887"/>
                  </a:lnTo>
                  <a:lnTo>
                    <a:pt x="955" y="841"/>
                  </a:lnTo>
                  <a:lnTo>
                    <a:pt x="958" y="796"/>
                  </a:lnTo>
                  <a:lnTo>
                    <a:pt x="961" y="751"/>
                  </a:lnTo>
                  <a:lnTo>
                    <a:pt x="964" y="705"/>
                  </a:lnTo>
                  <a:lnTo>
                    <a:pt x="966" y="661"/>
                  </a:lnTo>
                  <a:lnTo>
                    <a:pt x="970" y="616"/>
                  </a:lnTo>
                  <a:lnTo>
                    <a:pt x="973" y="573"/>
                  </a:lnTo>
                  <a:lnTo>
                    <a:pt x="975" y="530"/>
                  </a:lnTo>
                  <a:lnTo>
                    <a:pt x="978" y="489"/>
                  </a:lnTo>
                  <a:lnTo>
                    <a:pt x="981" y="448"/>
                  </a:lnTo>
                  <a:lnTo>
                    <a:pt x="984" y="409"/>
                  </a:lnTo>
                  <a:lnTo>
                    <a:pt x="987" y="371"/>
                  </a:lnTo>
                  <a:lnTo>
                    <a:pt x="990" y="334"/>
                  </a:lnTo>
                  <a:lnTo>
                    <a:pt x="993" y="299"/>
                  </a:lnTo>
                  <a:lnTo>
                    <a:pt x="995" y="265"/>
                  </a:lnTo>
                  <a:lnTo>
                    <a:pt x="999" y="234"/>
                  </a:lnTo>
                  <a:lnTo>
                    <a:pt x="1001" y="205"/>
                  </a:lnTo>
                  <a:lnTo>
                    <a:pt x="1004" y="177"/>
                  </a:lnTo>
                  <a:lnTo>
                    <a:pt x="1007" y="152"/>
                  </a:lnTo>
                  <a:lnTo>
                    <a:pt x="1010" y="128"/>
                  </a:lnTo>
                  <a:lnTo>
                    <a:pt x="1013" y="107"/>
                  </a:lnTo>
                  <a:lnTo>
                    <a:pt x="1015" y="88"/>
                  </a:lnTo>
                  <a:lnTo>
                    <a:pt x="1019" y="72"/>
                  </a:lnTo>
                  <a:lnTo>
                    <a:pt x="1022" y="58"/>
                  </a:lnTo>
                  <a:lnTo>
                    <a:pt x="1024" y="47"/>
                  </a:lnTo>
                  <a:lnTo>
                    <a:pt x="1028" y="38"/>
                  </a:lnTo>
                  <a:lnTo>
                    <a:pt x="1030" y="31"/>
                  </a:lnTo>
                  <a:lnTo>
                    <a:pt x="1033" y="28"/>
                  </a:lnTo>
                  <a:lnTo>
                    <a:pt x="1036" y="26"/>
                  </a:lnTo>
                  <a:lnTo>
                    <a:pt x="1039" y="27"/>
                  </a:lnTo>
                  <a:lnTo>
                    <a:pt x="1042" y="31"/>
                  </a:lnTo>
                  <a:lnTo>
                    <a:pt x="1044" y="37"/>
                  </a:lnTo>
                  <a:lnTo>
                    <a:pt x="1048" y="46"/>
                  </a:lnTo>
                  <a:lnTo>
                    <a:pt x="1051" y="57"/>
                  </a:lnTo>
                  <a:lnTo>
                    <a:pt x="1053" y="70"/>
                  </a:lnTo>
                  <a:lnTo>
                    <a:pt x="1057" y="87"/>
                  </a:lnTo>
                  <a:lnTo>
                    <a:pt x="1059" y="105"/>
                  </a:lnTo>
                  <a:lnTo>
                    <a:pt x="1062" y="126"/>
                  </a:lnTo>
                  <a:lnTo>
                    <a:pt x="1065" y="148"/>
                  </a:lnTo>
                  <a:lnTo>
                    <a:pt x="1068" y="173"/>
                  </a:lnTo>
                  <a:lnTo>
                    <a:pt x="1071" y="199"/>
                  </a:lnTo>
                  <a:lnTo>
                    <a:pt x="1073" y="228"/>
                  </a:lnTo>
                  <a:lnTo>
                    <a:pt x="1077" y="260"/>
                  </a:lnTo>
                  <a:lnTo>
                    <a:pt x="1080" y="292"/>
                  </a:lnTo>
                  <a:lnTo>
                    <a:pt x="1082" y="325"/>
                  </a:lnTo>
                  <a:lnTo>
                    <a:pt x="1086" y="361"/>
                  </a:lnTo>
                  <a:lnTo>
                    <a:pt x="1088" y="398"/>
                  </a:lnTo>
                  <a:lnTo>
                    <a:pt x="1091" y="436"/>
                  </a:lnTo>
                  <a:lnTo>
                    <a:pt x="1093" y="475"/>
                  </a:lnTo>
                  <a:lnTo>
                    <a:pt x="1097" y="515"/>
                  </a:lnTo>
                  <a:lnTo>
                    <a:pt x="1100" y="556"/>
                  </a:lnTo>
                  <a:lnTo>
                    <a:pt x="1102" y="598"/>
                  </a:lnTo>
                  <a:lnTo>
                    <a:pt x="1106" y="641"/>
                  </a:lnTo>
                  <a:lnTo>
                    <a:pt x="1108" y="683"/>
                  </a:lnTo>
                  <a:lnTo>
                    <a:pt x="1111" y="726"/>
                  </a:lnTo>
                  <a:lnTo>
                    <a:pt x="1115" y="770"/>
                  </a:lnTo>
                  <a:lnTo>
                    <a:pt x="1117" y="813"/>
                  </a:lnTo>
                  <a:lnTo>
                    <a:pt x="1120" y="856"/>
                  </a:lnTo>
                  <a:lnTo>
                    <a:pt x="1122" y="899"/>
                  </a:lnTo>
                  <a:lnTo>
                    <a:pt x="1126" y="941"/>
                  </a:lnTo>
                  <a:lnTo>
                    <a:pt x="1129" y="984"/>
                  </a:lnTo>
                  <a:lnTo>
                    <a:pt x="1131" y="1025"/>
                  </a:lnTo>
                  <a:lnTo>
                    <a:pt x="1135" y="1065"/>
                  </a:lnTo>
                  <a:lnTo>
                    <a:pt x="1137" y="1104"/>
                  </a:lnTo>
                  <a:lnTo>
                    <a:pt x="1140" y="1143"/>
                  </a:lnTo>
                  <a:lnTo>
                    <a:pt x="1144" y="1180"/>
                  </a:lnTo>
                  <a:lnTo>
                    <a:pt x="1146" y="1217"/>
                  </a:lnTo>
                  <a:lnTo>
                    <a:pt x="1149" y="1251"/>
                  </a:lnTo>
                  <a:lnTo>
                    <a:pt x="1151" y="1283"/>
                  </a:lnTo>
                  <a:lnTo>
                    <a:pt x="1155" y="1316"/>
                  </a:lnTo>
                  <a:lnTo>
                    <a:pt x="1158" y="1345"/>
                  </a:lnTo>
                  <a:lnTo>
                    <a:pt x="1160" y="1373"/>
                  </a:lnTo>
                  <a:lnTo>
                    <a:pt x="1164" y="1398"/>
                  </a:lnTo>
                  <a:lnTo>
                    <a:pt x="1166" y="1423"/>
                  </a:lnTo>
                  <a:lnTo>
                    <a:pt x="1169" y="1444"/>
                  </a:lnTo>
                  <a:lnTo>
                    <a:pt x="1173" y="1464"/>
                  </a:lnTo>
                  <a:lnTo>
                    <a:pt x="1175" y="1482"/>
                  </a:lnTo>
                  <a:lnTo>
                    <a:pt x="1178" y="1496"/>
                  </a:lnTo>
                  <a:lnTo>
                    <a:pt x="1180" y="1510"/>
                  </a:lnTo>
                  <a:lnTo>
                    <a:pt x="1184" y="1521"/>
                  </a:lnTo>
                  <a:lnTo>
                    <a:pt x="1186" y="1529"/>
                  </a:lnTo>
                  <a:lnTo>
                    <a:pt x="1189" y="1534"/>
                  </a:lnTo>
                  <a:lnTo>
                    <a:pt x="1193" y="1539"/>
                  </a:lnTo>
                  <a:lnTo>
                    <a:pt x="1195" y="1540"/>
                  </a:lnTo>
                  <a:lnTo>
                    <a:pt x="1198" y="1538"/>
                  </a:lnTo>
                  <a:lnTo>
                    <a:pt x="1200" y="1534"/>
                  </a:lnTo>
                  <a:lnTo>
                    <a:pt x="1204" y="1529"/>
                  </a:lnTo>
                  <a:lnTo>
                    <a:pt x="1207" y="1520"/>
                  </a:lnTo>
                  <a:lnTo>
                    <a:pt x="1209" y="1510"/>
                  </a:lnTo>
                  <a:lnTo>
                    <a:pt x="1213" y="1496"/>
                  </a:lnTo>
                  <a:lnTo>
                    <a:pt x="1215" y="1482"/>
                  </a:lnTo>
                  <a:lnTo>
                    <a:pt x="1218" y="1464"/>
                  </a:lnTo>
                  <a:lnTo>
                    <a:pt x="1222" y="1445"/>
                  </a:lnTo>
                  <a:lnTo>
                    <a:pt x="1224" y="1424"/>
                  </a:lnTo>
                  <a:lnTo>
                    <a:pt x="1227" y="1400"/>
                  </a:lnTo>
                  <a:lnTo>
                    <a:pt x="1229" y="1376"/>
                  </a:lnTo>
                  <a:lnTo>
                    <a:pt x="1233" y="1349"/>
                  </a:lnTo>
                  <a:lnTo>
                    <a:pt x="1236" y="1320"/>
                  </a:lnTo>
                  <a:lnTo>
                    <a:pt x="1238" y="1290"/>
                  </a:lnTo>
                  <a:lnTo>
                    <a:pt x="1242" y="1259"/>
                  </a:lnTo>
                  <a:lnTo>
                    <a:pt x="1244" y="1226"/>
                  </a:lnTo>
                  <a:lnTo>
                    <a:pt x="1247" y="1191"/>
                  </a:lnTo>
                  <a:lnTo>
                    <a:pt x="1251" y="1156"/>
                  </a:lnTo>
                  <a:lnTo>
                    <a:pt x="1253" y="1120"/>
                  </a:lnTo>
                  <a:lnTo>
                    <a:pt x="1256" y="1083"/>
                  </a:lnTo>
                  <a:lnTo>
                    <a:pt x="1258" y="1044"/>
                  </a:lnTo>
                  <a:lnTo>
                    <a:pt x="1262" y="1006"/>
                  </a:lnTo>
                  <a:lnTo>
                    <a:pt x="1265" y="967"/>
                  </a:lnTo>
                  <a:lnTo>
                    <a:pt x="1267" y="927"/>
                  </a:lnTo>
                  <a:lnTo>
                    <a:pt x="1271" y="887"/>
                  </a:lnTo>
                  <a:lnTo>
                    <a:pt x="1273" y="848"/>
                  </a:lnTo>
                  <a:lnTo>
                    <a:pt x="1276" y="808"/>
                  </a:lnTo>
                  <a:lnTo>
                    <a:pt x="1279" y="768"/>
                  </a:lnTo>
                  <a:lnTo>
                    <a:pt x="1282" y="729"/>
                  </a:lnTo>
                  <a:lnTo>
                    <a:pt x="1285" y="689"/>
                  </a:lnTo>
                  <a:lnTo>
                    <a:pt x="1287" y="651"/>
                  </a:lnTo>
                  <a:lnTo>
                    <a:pt x="1291" y="613"/>
                  </a:lnTo>
                  <a:lnTo>
                    <a:pt x="1293" y="575"/>
                  </a:lnTo>
                  <a:lnTo>
                    <a:pt x="1296" y="539"/>
                  </a:lnTo>
                  <a:lnTo>
                    <a:pt x="1300" y="504"/>
                  </a:lnTo>
                  <a:lnTo>
                    <a:pt x="1302" y="470"/>
                  </a:lnTo>
                  <a:lnTo>
                    <a:pt x="1305" y="437"/>
                  </a:lnTo>
                  <a:lnTo>
                    <a:pt x="1308" y="406"/>
                  </a:lnTo>
                  <a:lnTo>
                    <a:pt x="1311" y="375"/>
                  </a:lnTo>
                  <a:lnTo>
                    <a:pt x="1314" y="347"/>
                  </a:lnTo>
                  <a:lnTo>
                    <a:pt x="1316" y="320"/>
                  </a:lnTo>
                  <a:lnTo>
                    <a:pt x="1320" y="294"/>
                  </a:lnTo>
                  <a:lnTo>
                    <a:pt x="1322" y="271"/>
                  </a:lnTo>
                  <a:lnTo>
                    <a:pt x="1325" y="248"/>
                  </a:lnTo>
                  <a:lnTo>
                    <a:pt x="1329" y="230"/>
                  </a:lnTo>
                  <a:lnTo>
                    <a:pt x="1331" y="212"/>
                  </a:lnTo>
                  <a:lnTo>
                    <a:pt x="1334" y="195"/>
                  </a:lnTo>
                  <a:lnTo>
                    <a:pt x="1337" y="182"/>
                  </a:lnTo>
                  <a:lnTo>
                    <a:pt x="1340" y="170"/>
                  </a:lnTo>
                  <a:lnTo>
                    <a:pt x="1343" y="160"/>
                  </a:lnTo>
                  <a:lnTo>
                    <a:pt x="1345" y="153"/>
                  </a:lnTo>
                  <a:lnTo>
                    <a:pt x="1349" y="148"/>
                  </a:lnTo>
                  <a:lnTo>
                    <a:pt x="1351" y="145"/>
                  </a:lnTo>
                  <a:lnTo>
                    <a:pt x="1354" y="144"/>
                  </a:lnTo>
                  <a:lnTo>
                    <a:pt x="1357" y="145"/>
                  </a:lnTo>
                  <a:lnTo>
                    <a:pt x="1360" y="148"/>
                  </a:lnTo>
                  <a:lnTo>
                    <a:pt x="1363" y="154"/>
                  </a:lnTo>
                  <a:lnTo>
                    <a:pt x="1366" y="162"/>
                  </a:lnTo>
                  <a:lnTo>
                    <a:pt x="1369" y="172"/>
                  </a:lnTo>
                  <a:lnTo>
                    <a:pt x="1371" y="183"/>
                  </a:lnTo>
                  <a:lnTo>
                    <a:pt x="1374" y="196"/>
                  </a:lnTo>
                  <a:lnTo>
                    <a:pt x="1378" y="213"/>
                  </a:lnTo>
                  <a:lnTo>
                    <a:pt x="1380" y="230"/>
                  </a:lnTo>
                  <a:lnTo>
                    <a:pt x="1383" y="250"/>
                  </a:lnTo>
                  <a:lnTo>
                    <a:pt x="1386" y="270"/>
                  </a:lnTo>
                  <a:lnTo>
                    <a:pt x="1389" y="293"/>
                  </a:lnTo>
                  <a:lnTo>
                    <a:pt x="1392" y="318"/>
                  </a:lnTo>
                  <a:lnTo>
                    <a:pt x="1395" y="343"/>
                  </a:lnTo>
                  <a:lnTo>
                    <a:pt x="1398" y="370"/>
                  </a:lnTo>
                  <a:lnTo>
                    <a:pt x="1400" y="399"/>
                  </a:lnTo>
                  <a:lnTo>
                    <a:pt x="1403" y="428"/>
                  </a:lnTo>
                  <a:lnTo>
                    <a:pt x="1407" y="459"/>
                  </a:lnTo>
                  <a:lnTo>
                    <a:pt x="1409" y="490"/>
                  </a:lnTo>
                  <a:lnTo>
                    <a:pt x="1412" y="524"/>
                  </a:lnTo>
                  <a:lnTo>
                    <a:pt x="1415" y="557"/>
                  </a:lnTo>
                  <a:lnTo>
                    <a:pt x="1418" y="591"/>
                  </a:lnTo>
                  <a:lnTo>
                    <a:pt x="1421" y="625"/>
                  </a:lnTo>
                  <a:lnTo>
                    <a:pt x="1424" y="661"/>
                  </a:lnTo>
                  <a:lnTo>
                    <a:pt x="1427" y="696"/>
                  </a:lnTo>
                  <a:lnTo>
                    <a:pt x="1429" y="732"/>
                  </a:lnTo>
                  <a:lnTo>
                    <a:pt x="1432" y="768"/>
                  </a:lnTo>
                  <a:lnTo>
                    <a:pt x="1436" y="803"/>
                  </a:lnTo>
                  <a:lnTo>
                    <a:pt x="1438" y="839"/>
                  </a:lnTo>
                  <a:lnTo>
                    <a:pt x="1441" y="873"/>
                  </a:lnTo>
                  <a:lnTo>
                    <a:pt x="1444" y="908"/>
                  </a:lnTo>
                  <a:lnTo>
                    <a:pt x="1447" y="943"/>
                  </a:lnTo>
                  <a:lnTo>
                    <a:pt x="1449" y="977"/>
                  </a:lnTo>
                  <a:lnTo>
                    <a:pt x="1453" y="1009"/>
                  </a:lnTo>
                  <a:lnTo>
                    <a:pt x="1456" y="1042"/>
                  </a:lnTo>
                  <a:lnTo>
                    <a:pt x="1458" y="1073"/>
                  </a:lnTo>
                  <a:lnTo>
                    <a:pt x="1462" y="1103"/>
                  </a:lnTo>
                  <a:lnTo>
                    <a:pt x="1464" y="1133"/>
                  </a:lnTo>
                  <a:lnTo>
                    <a:pt x="1467" y="1161"/>
                  </a:lnTo>
                  <a:lnTo>
                    <a:pt x="1470" y="1188"/>
                  </a:lnTo>
                  <a:lnTo>
                    <a:pt x="1473" y="1212"/>
                  </a:lnTo>
                  <a:lnTo>
                    <a:pt x="1476" y="1237"/>
                  </a:lnTo>
                  <a:lnTo>
                    <a:pt x="1478" y="1259"/>
                  </a:lnTo>
                  <a:lnTo>
                    <a:pt x="1482" y="1279"/>
                  </a:lnTo>
                  <a:lnTo>
                    <a:pt x="1485" y="1299"/>
                  </a:lnTo>
                  <a:lnTo>
                    <a:pt x="1487" y="1316"/>
                  </a:lnTo>
                  <a:lnTo>
                    <a:pt x="1491" y="1331"/>
                  </a:lnTo>
                  <a:lnTo>
                    <a:pt x="1493" y="1346"/>
                  </a:lnTo>
                  <a:lnTo>
                    <a:pt x="1496" y="1358"/>
                  </a:lnTo>
                  <a:lnTo>
                    <a:pt x="1499" y="1368"/>
                  </a:lnTo>
                  <a:lnTo>
                    <a:pt x="1502" y="1376"/>
                  </a:lnTo>
                  <a:lnTo>
                    <a:pt x="1505" y="1383"/>
                  </a:lnTo>
                  <a:lnTo>
                    <a:pt x="1507" y="1387"/>
                  </a:lnTo>
                  <a:lnTo>
                    <a:pt x="1511" y="1390"/>
                  </a:lnTo>
                  <a:lnTo>
                    <a:pt x="1514" y="1390"/>
                  </a:lnTo>
                  <a:lnTo>
                    <a:pt x="1516" y="1389"/>
                  </a:lnTo>
                  <a:lnTo>
                    <a:pt x="1520" y="1387"/>
                  </a:lnTo>
                  <a:lnTo>
                    <a:pt x="1522" y="1382"/>
                  </a:lnTo>
                  <a:lnTo>
                    <a:pt x="1525" y="1375"/>
                  </a:lnTo>
                  <a:lnTo>
                    <a:pt x="1528" y="1366"/>
                  </a:lnTo>
                  <a:lnTo>
                    <a:pt x="1531" y="1356"/>
                  </a:lnTo>
                  <a:lnTo>
                    <a:pt x="1534" y="1344"/>
                  </a:lnTo>
                  <a:lnTo>
                    <a:pt x="1536" y="1330"/>
                  </a:lnTo>
                  <a:lnTo>
                    <a:pt x="1540" y="1315"/>
                  </a:lnTo>
                  <a:lnTo>
                    <a:pt x="1542" y="1298"/>
                  </a:lnTo>
                  <a:lnTo>
                    <a:pt x="1545" y="1279"/>
                  </a:lnTo>
                  <a:lnTo>
                    <a:pt x="1549" y="1259"/>
                  </a:lnTo>
                  <a:lnTo>
                    <a:pt x="1551" y="1238"/>
                  </a:lnTo>
                  <a:lnTo>
                    <a:pt x="1554" y="1216"/>
                  </a:lnTo>
                  <a:lnTo>
                    <a:pt x="1556" y="1192"/>
                  </a:lnTo>
                  <a:lnTo>
                    <a:pt x="1560" y="1167"/>
                  </a:lnTo>
                  <a:lnTo>
                    <a:pt x="1563" y="1141"/>
                  </a:lnTo>
                  <a:lnTo>
                    <a:pt x="1565" y="1114"/>
                  </a:lnTo>
                  <a:lnTo>
                    <a:pt x="1569" y="1086"/>
                  </a:lnTo>
                  <a:lnTo>
                    <a:pt x="1571" y="1058"/>
                  </a:lnTo>
                  <a:lnTo>
                    <a:pt x="1574" y="1029"/>
                  </a:lnTo>
                  <a:lnTo>
                    <a:pt x="1578" y="999"/>
                  </a:lnTo>
                  <a:lnTo>
                    <a:pt x="1580" y="969"/>
                  </a:lnTo>
                  <a:lnTo>
                    <a:pt x="1583" y="938"/>
                  </a:lnTo>
                  <a:lnTo>
                    <a:pt x="1585" y="908"/>
                  </a:lnTo>
                  <a:lnTo>
                    <a:pt x="1589" y="877"/>
                  </a:lnTo>
                  <a:lnTo>
                    <a:pt x="1592" y="846"/>
                  </a:lnTo>
                  <a:lnTo>
                    <a:pt x="1594" y="816"/>
                  </a:lnTo>
                  <a:lnTo>
                    <a:pt x="1598" y="784"/>
                  </a:lnTo>
                  <a:lnTo>
                    <a:pt x="1600" y="754"/>
                  </a:lnTo>
                  <a:lnTo>
                    <a:pt x="1603" y="724"/>
                  </a:lnTo>
                  <a:lnTo>
                    <a:pt x="1607" y="694"/>
                  </a:lnTo>
                  <a:lnTo>
                    <a:pt x="1609" y="665"/>
                  </a:lnTo>
                  <a:lnTo>
                    <a:pt x="1612" y="636"/>
                  </a:lnTo>
                  <a:lnTo>
                    <a:pt x="1614" y="608"/>
                  </a:lnTo>
                  <a:lnTo>
                    <a:pt x="1618" y="582"/>
                  </a:lnTo>
                  <a:lnTo>
                    <a:pt x="1621" y="555"/>
                  </a:lnTo>
                  <a:lnTo>
                    <a:pt x="1623" y="530"/>
                  </a:lnTo>
                  <a:lnTo>
                    <a:pt x="1627" y="506"/>
                  </a:lnTo>
                  <a:lnTo>
                    <a:pt x="1629" y="484"/>
                  </a:lnTo>
                  <a:lnTo>
                    <a:pt x="1632" y="461"/>
                  </a:lnTo>
                  <a:lnTo>
                    <a:pt x="1634" y="441"/>
                  </a:lnTo>
                  <a:lnTo>
                    <a:pt x="1638" y="421"/>
                  </a:lnTo>
                  <a:lnTo>
                    <a:pt x="1641" y="403"/>
                  </a:lnTo>
                  <a:lnTo>
                    <a:pt x="1643" y="388"/>
                  </a:lnTo>
                  <a:lnTo>
                    <a:pt x="1647" y="372"/>
                  </a:lnTo>
                  <a:lnTo>
                    <a:pt x="1649" y="359"/>
                  </a:lnTo>
                  <a:lnTo>
                    <a:pt x="1652" y="347"/>
                  </a:lnTo>
                  <a:lnTo>
                    <a:pt x="1656" y="336"/>
                  </a:lnTo>
                  <a:lnTo>
                    <a:pt x="1658" y="328"/>
                  </a:lnTo>
                  <a:lnTo>
                    <a:pt x="1661" y="321"/>
                  </a:lnTo>
                  <a:lnTo>
                    <a:pt x="1663" y="315"/>
                  </a:lnTo>
                  <a:lnTo>
                    <a:pt x="1667" y="311"/>
                  </a:lnTo>
                  <a:lnTo>
                    <a:pt x="1670" y="309"/>
                  </a:lnTo>
                  <a:lnTo>
                    <a:pt x="1672" y="309"/>
                  </a:lnTo>
                  <a:lnTo>
                    <a:pt x="1676" y="310"/>
                  </a:lnTo>
                  <a:lnTo>
                    <a:pt x="1678" y="312"/>
                  </a:lnTo>
                  <a:lnTo>
                    <a:pt x="1681" y="316"/>
                  </a:lnTo>
                  <a:lnTo>
                    <a:pt x="1685" y="322"/>
                  </a:lnTo>
                  <a:lnTo>
                    <a:pt x="1687" y="330"/>
                  </a:lnTo>
                  <a:lnTo>
                    <a:pt x="1690" y="339"/>
                  </a:lnTo>
                  <a:lnTo>
                    <a:pt x="1692" y="349"/>
                  </a:lnTo>
                  <a:lnTo>
                    <a:pt x="1696" y="360"/>
                  </a:lnTo>
                  <a:lnTo>
                    <a:pt x="1699" y="373"/>
                  </a:lnTo>
                  <a:lnTo>
                    <a:pt x="1701" y="388"/>
                  </a:lnTo>
                  <a:lnTo>
                    <a:pt x="1705" y="403"/>
                  </a:lnTo>
                  <a:lnTo>
                    <a:pt x="1707" y="421"/>
                  </a:lnTo>
                  <a:lnTo>
                    <a:pt x="1710" y="439"/>
                  </a:lnTo>
                  <a:lnTo>
                    <a:pt x="1713" y="458"/>
                  </a:lnTo>
                  <a:lnTo>
                    <a:pt x="1716" y="478"/>
                  </a:lnTo>
                  <a:lnTo>
                    <a:pt x="1719" y="499"/>
                  </a:lnTo>
                  <a:lnTo>
                    <a:pt x="1721" y="521"/>
                  </a:lnTo>
                  <a:lnTo>
                    <a:pt x="1725" y="544"/>
                  </a:lnTo>
                  <a:lnTo>
                    <a:pt x="1727" y="567"/>
                  </a:lnTo>
                  <a:lnTo>
                    <a:pt x="1730" y="592"/>
                  </a:lnTo>
                  <a:lnTo>
                    <a:pt x="1734" y="616"/>
                  </a:lnTo>
                  <a:lnTo>
                    <a:pt x="1736" y="642"/>
                  </a:lnTo>
                  <a:lnTo>
                    <a:pt x="1739" y="667"/>
                  </a:lnTo>
                  <a:lnTo>
                    <a:pt x="1742" y="693"/>
                  </a:lnTo>
                  <a:lnTo>
                    <a:pt x="1745" y="719"/>
                  </a:lnTo>
                  <a:lnTo>
                    <a:pt x="1748" y="745"/>
                  </a:lnTo>
                  <a:lnTo>
                    <a:pt x="1750" y="771"/>
                  </a:lnTo>
                  <a:lnTo>
                    <a:pt x="1754" y="798"/>
                  </a:lnTo>
                  <a:lnTo>
                    <a:pt x="1756" y="823"/>
                  </a:lnTo>
                  <a:lnTo>
                    <a:pt x="1759" y="849"/>
                  </a:lnTo>
                  <a:lnTo>
                    <a:pt x="1763" y="875"/>
                  </a:lnTo>
                  <a:lnTo>
                    <a:pt x="1765" y="900"/>
                  </a:lnTo>
                  <a:lnTo>
                    <a:pt x="1768" y="925"/>
                  </a:lnTo>
                  <a:lnTo>
                    <a:pt x="1771" y="949"/>
                  </a:lnTo>
                  <a:lnTo>
                    <a:pt x="1774" y="973"/>
                  </a:lnTo>
                  <a:lnTo>
                    <a:pt x="1777" y="995"/>
                  </a:lnTo>
                  <a:lnTo>
                    <a:pt x="1779" y="1017"/>
                  </a:lnTo>
                  <a:lnTo>
                    <a:pt x="1783" y="1038"/>
                  </a:lnTo>
                  <a:lnTo>
                    <a:pt x="1785" y="1058"/>
                  </a:lnTo>
                  <a:lnTo>
                    <a:pt x="1788" y="1078"/>
                  </a:lnTo>
                  <a:lnTo>
                    <a:pt x="1792" y="1096"/>
                  </a:lnTo>
                  <a:lnTo>
                    <a:pt x="1794" y="1114"/>
                  </a:lnTo>
                  <a:lnTo>
                    <a:pt x="1797" y="1130"/>
                  </a:lnTo>
                  <a:lnTo>
                    <a:pt x="1800" y="1145"/>
                  </a:lnTo>
                  <a:lnTo>
                    <a:pt x="1803" y="1159"/>
                  </a:lnTo>
                  <a:lnTo>
                    <a:pt x="1805" y="1172"/>
                  </a:lnTo>
                  <a:lnTo>
                    <a:pt x="1808" y="1183"/>
                  </a:lnTo>
                  <a:lnTo>
                    <a:pt x="1812" y="1193"/>
                  </a:lnTo>
                  <a:lnTo>
                    <a:pt x="1814" y="1202"/>
                  </a:lnTo>
                  <a:lnTo>
                    <a:pt x="1817" y="1209"/>
                  </a:lnTo>
                  <a:lnTo>
                    <a:pt x="1820" y="1216"/>
                  </a:lnTo>
                  <a:lnTo>
                    <a:pt x="1823" y="1220"/>
                  </a:lnTo>
                  <a:lnTo>
                    <a:pt x="1826" y="1223"/>
                  </a:lnTo>
                  <a:lnTo>
                    <a:pt x="1829" y="1226"/>
                  </a:lnTo>
                  <a:lnTo>
                    <a:pt x="1832" y="1226"/>
                  </a:lnTo>
                  <a:lnTo>
                    <a:pt x="1834" y="1226"/>
                  </a:lnTo>
                  <a:lnTo>
                    <a:pt x="1837" y="1223"/>
                  </a:lnTo>
                  <a:lnTo>
                    <a:pt x="1841" y="1220"/>
                  </a:lnTo>
                  <a:lnTo>
                    <a:pt x="1843" y="1214"/>
                  </a:lnTo>
                  <a:lnTo>
                    <a:pt x="1846" y="1209"/>
                  </a:lnTo>
                  <a:lnTo>
                    <a:pt x="1849" y="1201"/>
                  </a:lnTo>
                  <a:lnTo>
                    <a:pt x="1852" y="1193"/>
                  </a:lnTo>
                  <a:lnTo>
                    <a:pt x="1855" y="1183"/>
                  </a:lnTo>
                  <a:lnTo>
                    <a:pt x="1858" y="1172"/>
                  </a:lnTo>
                  <a:lnTo>
                    <a:pt x="1861" y="1160"/>
                  </a:lnTo>
                  <a:lnTo>
                    <a:pt x="1863" y="1146"/>
                  </a:lnTo>
                  <a:lnTo>
                    <a:pt x="1866" y="1133"/>
                  </a:lnTo>
                  <a:lnTo>
                    <a:pt x="1870" y="1117"/>
                  </a:lnTo>
                  <a:lnTo>
                    <a:pt x="1872" y="1102"/>
                  </a:lnTo>
                  <a:lnTo>
                    <a:pt x="1875" y="1085"/>
                  </a:lnTo>
                  <a:lnTo>
                    <a:pt x="1878" y="1067"/>
                  </a:lnTo>
                  <a:lnTo>
                    <a:pt x="1881" y="1048"/>
                  </a:lnTo>
                  <a:lnTo>
                    <a:pt x="1884" y="1029"/>
                  </a:lnTo>
                  <a:lnTo>
                    <a:pt x="1887" y="1011"/>
                  </a:lnTo>
                  <a:lnTo>
                    <a:pt x="1890" y="990"/>
                  </a:lnTo>
                  <a:lnTo>
                    <a:pt x="1892" y="969"/>
                  </a:lnTo>
                  <a:lnTo>
                    <a:pt x="1895" y="948"/>
                  </a:lnTo>
                  <a:lnTo>
                    <a:pt x="1898" y="927"/>
                  </a:lnTo>
                  <a:lnTo>
                    <a:pt x="1901" y="906"/>
                  </a:lnTo>
                  <a:lnTo>
                    <a:pt x="1904" y="884"/>
                  </a:lnTo>
                  <a:lnTo>
                    <a:pt x="1907" y="862"/>
                  </a:lnTo>
                  <a:lnTo>
                    <a:pt x="1910" y="840"/>
                  </a:lnTo>
                  <a:lnTo>
                    <a:pt x="1912" y="818"/>
                  </a:lnTo>
                  <a:lnTo>
                    <a:pt x="1916" y="797"/>
                  </a:lnTo>
                  <a:lnTo>
                    <a:pt x="1919" y="775"/>
                  </a:lnTo>
                  <a:lnTo>
                    <a:pt x="1921" y="753"/>
                  </a:lnTo>
                  <a:lnTo>
                    <a:pt x="1924" y="733"/>
                  </a:lnTo>
                  <a:lnTo>
                    <a:pt x="1927" y="712"/>
                  </a:lnTo>
                  <a:lnTo>
                    <a:pt x="1930" y="692"/>
                  </a:lnTo>
                  <a:lnTo>
                    <a:pt x="1933" y="672"/>
                  </a:lnTo>
                  <a:lnTo>
                    <a:pt x="1936" y="653"/>
                  </a:lnTo>
                  <a:lnTo>
                    <a:pt x="1939" y="635"/>
                  </a:lnTo>
                  <a:lnTo>
                    <a:pt x="1941" y="617"/>
                  </a:lnTo>
                  <a:lnTo>
                    <a:pt x="1945" y="599"/>
                  </a:lnTo>
                  <a:lnTo>
                    <a:pt x="1948" y="584"/>
                  </a:lnTo>
                  <a:lnTo>
                    <a:pt x="1950" y="568"/>
                  </a:lnTo>
                  <a:lnTo>
                    <a:pt x="1953" y="554"/>
                  </a:lnTo>
                  <a:lnTo>
                    <a:pt x="1956" y="539"/>
                  </a:lnTo>
                  <a:lnTo>
                    <a:pt x="1959" y="527"/>
                  </a:lnTo>
                  <a:lnTo>
                    <a:pt x="1962" y="515"/>
                  </a:lnTo>
                  <a:lnTo>
                    <a:pt x="1965" y="505"/>
                  </a:lnTo>
                  <a:lnTo>
                    <a:pt x="1968" y="495"/>
                  </a:lnTo>
                  <a:lnTo>
                    <a:pt x="1970" y="486"/>
                  </a:lnTo>
                  <a:lnTo>
                    <a:pt x="1974" y="479"/>
                  </a:lnTo>
                  <a:lnTo>
                    <a:pt x="1977" y="472"/>
                  </a:lnTo>
                  <a:lnTo>
                    <a:pt x="1979" y="467"/>
                  </a:lnTo>
                  <a:lnTo>
                    <a:pt x="1982" y="464"/>
                  </a:lnTo>
                  <a:lnTo>
                    <a:pt x="1985" y="460"/>
                  </a:lnTo>
                  <a:lnTo>
                    <a:pt x="1988" y="458"/>
                  </a:lnTo>
                  <a:lnTo>
                    <a:pt x="1990" y="458"/>
                  </a:lnTo>
                  <a:lnTo>
                    <a:pt x="1994" y="458"/>
                  </a:lnTo>
                  <a:lnTo>
                    <a:pt x="1997" y="459"/>
                  </a:lnTo>
                  <a:lnTo>
                    <a:pt x="1999" y="462"/>
                  </a:lnTo>
                  <a:lnTo>
                    <a:pt x="2003" y="466"/>
                  </a:lnTo>
                  <a:lnTo>
                    <a:pt x="2005" y="471"/>
                  </a:lnTo>
                  <a:lnTo>
                    <a:pt x="2008" y="477"/>
                  </a:lnTo>
                  <a:lnTo>
                    <a:pt x="2011" y="484"/>
                  </a:lnTo>
                  <a:lnTo>
                    <a:pt x="2014" y="491"/>
                  </a:lnTo>
                  <a:lnTo>
                    <a:pt x="2017" y="500"/>
                  </a:lnTo>
                  <a:lnTo>
                    <a:pt x="2019" y="510"/>
                  </a:lnTo>
                  <a:lnTo>
                    <a:pt x="2023" y="521"/>
                  </a:lnTo>
                  <a:lnTo>
                    <a:pt x="2026" y="533"/>
                  </a:lnTo>
                  <a:lnTo>
                    <a:pt x="2028" y="546"/>
                  </a:lnTo>
                  <a:lnTo>
                    <a:pt x="2032" y="559"/>
                  </a:lnTo>
                  <a:lnTo>
                    <a:pt x="2034" y="573"/>
                  </a:lnTo>
                  <a:lnTo>
                    <a:pt x="2037" y="587"/>
                  </a:lnTo>
                  <a:lnTo>
                    <a:pt x="2040" y="603"/>
                  </a:lnTo>
                  <a:lnTo>
                    <a:pt x="2043" y="618"/>
                  </a:lnTo>
                  <a:lnTo>
                    <a:pt x="2046" y="635"/>
                  </a:lnTo>
                  <a:lnTo>
                    <a:pt x="2048" y="652"/>
                  </a:lnTo>
                  <a:lnTo>
                    <a:pt x="2052" y="668"/>
                  </a:lnTo>
                  <a:lnTo>
                    <a:pt x="2055" y="686"/>
                  </a:lnTo>
                  <a:lnTo>
                    <a:pt x="2057" y="704"/>
                  </a:lnTo>
                  <a:lnTo>
                    <a:pt x="2061" y="722"/>
                  </a:lnTo>
                  <a:lnTo>
                    <a:pt x="2063" y="741"/>
                  </a:lnTo>
                  <a:lnTo>
                    <a:pt x="2066" y="759"/>
                  </a:lnTo>
                  <a:lnTo>
                    <a:pt x="2069" y="778"/>
                  </a:lnTo>
                  <a:lnTo>
                    <a:pt x="2072" y="796"/>
                  </a:lnTo>
                  <a:lnTo>
                    <a:pt x="2075" y="814"/>
                  </a:lnTo>
                  <a:lnTo>
                    <a:pt x="2077" y="832"/>
                  </a:lnTo>
                  <a:lnTo>
                    <a:pt x="2081" y="850"/>
                  </a:lnTo>
                  <a:lnTo>
                    <a:pt x="2083" y="868"/>
                  </a:lnTo>
                  <a:lnTo>
                    <a:pt x="2086" y="886"/>
                  </a:lnTo>
                  <a:lnTo>
                    <a:pt x="2090" y="904"/>
                  </a:lnTo>
                  <a:lnTo>
                    <a:pt x="2092" y="920"/>
                  </a:lnTo>
                  <a:lnTo>
                    <a:pt x="2095" y="936"/>
                  </a:lnTo>
                  <a:lnTo>
                    <a:pt x="2097" y="951"/>
                  </a:lnTo>
                  <a:lnTo>
                    <a:pt x="2101" y="967"/>
                  </a:lnTo>
                  <a:lnTo>
                    <a:pt x="2104" y="982"/>
                  </a:lnTo>
                  <a:lnTo>
                    <a:pt x="2106" y="996"/>
                  </a:lnTo>
                  <a:lnTo>
                    <a:pt x="2110" y="1009"/>
                  </a:lnTo>
                  <a:lnTo>
                    <a:pt x="2112" y="1022"/>
                  </a:lnTo>
                  <a:lnTo>
                    <a:pt x="2115" y="1034"/>
                  </a:lnTo>
                  <a:lnTo>
                    <a:pt x="2119" y="1045"/>
                  </a:lnTo>
                  <a:lnTo>
                    <a:pt x="2121" y="1055"/>
                  </a:lnTo>
                  <a:lnTo>
                    <a:pt x="2124" y="1064"/>
                  </a:lnTo>
                  <a:lnTo>
                    <a:pt x="2126" y="1073"/>
                  </a:lnTo>
                  <a:lnTo>
                    <a:pt x="2130" y="1081"/>
                  </a:lnTo>
                  <a:lnTo>
                    <a:pt x="2133" y="1087"/>
                  </a:lnTo>
                  <a:lnTo>
                    <a:pt x="2135" y="1093"/>
                  </a:lnTo>
                  <a:lnTo>
                    <a:pt x="2139" y="1097"/>
                  </a:lnTo>
                  <a:lnTo>
                    <a:pt x="2141" y="1102"/>
                  </a:lnTo>
                  <a:lnTo>
                    <a:pt x="2144" y="1104"/>
                  </a:lnTo>
                  <a:lnTo>
                    <a:pt x="2148" y="1106"/>
                  </a:lnTo>
                  <a:lnTo>
                    <a:pt x="2150" y="1107"/>
                  </a:lnTo>
                  <a:lnTo>
                    <a:pt x="2153" y="1107"/>
                  </a:lnTo>
                  <a:lnTo>
                    <a:pt x="2155" y="1106"/>
                  </a:lnTo>
                  <a:lnTo>
                    <a:pt x="2159" y="1104"/>
                  </a:lnTo>
                  <a:lnTo>
                    <a:pt x="2161" y="1102"/>
                  </a:lnTo>
                  <a:lnTo>
                    <a:pt x="2164" y="1097"/>
                  </a:lnTo>
                  <a:lnTo>
                    <a:pt x="2168" y="1093"/>
                  </a:lnTo>
                  <a:lnTo>
                    <a:pt x="2170" y="1087"/>
                  </a:lnTo>
                  <a:lnTo>
                    <a:pt x="2173" y="1081"/>
                  </a:lnTo>
                  <a:lnTo>
                    <a:pt x="2175" y="1073"/>
                  </a:lnTo>
                  <a:lnTo>
                    <a:pt x="2179" y="1065"/>
                  </a:lnTo>
                  <a:lnTo>
                    <a:pt x="2182" y="1056"/>
                  </a:lnTo>
                  <a:lnTo>
                    <a:pt x="2184" y="1046"/>
                  </a:lnTo>
                  <a:lnTo>
                    <a:pt x="2188" y="1036"/>
                  </a:lnTo>
                  <a:lnTo>
                    <a:pt x="2190" y="1025"/>
                  </a:lnTo>
                  <a:lnTo>
                    <a:pt x="2193" y="1013"/>
                  </a:lnTo>
                  <a:lnTo>
                    <a:pt x="2197" y="1001"/>
                  </a:lnTo>
                  <a:lnTo>
                    <a:pt x="2199" y="987"/>
                  </a:lnTo>
                  <a:lnTo>
                    <a:pt x="2202" y="974"/>
                  </a:lnTo>
                  <a:lnTo>
                    <a:pt x="2204" y="959"/>
                  </a:lnTo>
                  <a:lnTo>
                    <a:pt x="2208" y="945"/>
                  </a:lnTo>
                  <a:lnTo>
                    <a:pt x="2211" y="930"/>
                  </a:lnTo>
                  <a:lnTo>
                    <a:pt x="2213" y="915"/>
                  </a:lnTo>
                  <a:lnTo>
                    <a:pt x="2217" y="899"/>
                  </a:lnTo>
                  <a:lnTo>
                    <a:pt x="2219" y="884"/>
                  </a:lnTo>
                  <a:lnTo>
                    <a:pt x="2222" y="868"/>
                  </a:lnTo>
                  <a:lnTo>
                    <a:pt x="2226" y="852"/>
                  </a:lnTo>
                  <a:lnTo>
                    <a:pt x="2228" y="836"/>
                  </a:lnTo>
                  <a:lnTo>
                    <a:pt x="2231" y="820"/>
                  </a:lnTo>
                  <a:lnTo>
                    <a:pt x="2233" y="803"/>
                  </a:lnTo>
                  <a:lnTo>
                    <a:pt x="2237" y="788"/>
                  </a:lnTo>
                  <a:lnTo>
                    <a:pt x="2240" y="771"/>
                  </a:lnTo>
                  <a:lnTo>
                    <a:pt x="2242" y="755"/>
                  </a:lnTo>
                  <a:lnTo>
                    <a:pt x="2246" y="740"/>
                  </a:lnTo>
                  <a:lnTo>
                    <a:pt x="2248" y="724"/>
                  </a:lnTo>
                  <a:lnTo>
                    <a:pt x="2251" y="710"/>
                  </a:lnTo>
                  <a:lnTo>
                    <a:pt x="2254" y="695"/>
                  </a:lnTo>
                  <a:lnTo>
                    <a:pt x="2257" y="681"/>
                  </a:lnTo>
                  <a:lnTo>
                    <a:pt x="2260" y="667"/>
                  </a:lnTo>
                  <a:lnTo>
                    <a:pt x="2262" y="654"/>
                  </a:lnTo>
                  <a:lnTo>
                    <a:pt x="2266" y="641"/>
                  </a:lnTo>
                  <a:lnTo>
                    <a:pt x="2268" y="628"/>
                  </a:lnTo>
                  <a:lnTo>
                    <a:pt x="2271" y="617"/>
                  </a:lnTo>
                  <a:lnTo>
                    <a:pt x="2275" y="606"/>
                  </a:lnTo>
                  <a:lnTo>
                    <a:pt x="2277" y="596"/>
                  </a:lnTo>
                  <a:lnTo>
                    <a:pt x="2280" y="586"/>
                  </a:lnTo>
                  <a:lnTo>
                    <a:pt x="2283" y="577"/>
                  </a:lnTo>
                  <a:lnTo>
                    <a:pt x="2286" y="569"/>
                  </a:lnTo>
                  <a:lnTo>
                    <a:pt x="2289" y="562"/>
                  </a:lnTo>
                  <a:lnTo>
                    <a:pt x="2291" y="556"/>
                  </a:lnTo>
                  <a:lnTo>
                    <a:pt x="2295" y="549"/>
                  </a:lnTo>
                  <a:lnTo>
                    <a:pt x="2297" y="545"/>
                  </a:lnTo>
                  <a:lnTo>
                    <a:pt x="2300" y="541"/>
                  </a:lnTo>
                  <a:lnTo>
                    <a:pt x="2304" y="538"/>
                  </a:lnTo>
                  <a:lnTo>
                    <a:pt x="2306" y="536"/>
                  </a:lnTo>
                  <a:lnTo>
                    <a:pt x="2309" y="535"/>
                  </a:lnTo>
                  <a:lnTo>
                    <a:pt x="2312" y="534"/>
                  </a:lnTo>
                  <a:lnTo>
                    <a:pt x="2315" y="534"/>
                  </a:lnTo>
                  <a:lnTo>
                    <a:pt x="2318" y="536"/>
                  </a:lnTo>
                  <a:lnTo>
                    <a:pt x="2320" y="538"/>
                  </a:lnTo>
                  <a:lnTo>
                    <a:pt x="2324" y="540"/>
                  </a:lnTo>
                  <a:lnTo>
                    <a:pt x="2326" y="545"/>
                  </a:lnTo>
                  <a:lnTo>
                    <a:pt x="2329" y="549"/>
                  </a:lnTo>
                  <a:lnTo>
                    <a:pt x="2333" y="555"/>
                  </a:lnTo>
                  <a:lnTo>
                    <a:pt x="2335" y="562"/>
                  </a:lnTo>
                  <a:lnTo>
                    <a:pt x="2338" y="568"/>
                  </a:lnTo>
                  <a:lnTo>
                    <a:pt x="2341" y="576"/>
                  </a:lnTo>
                  <a:lnTo>
                    <a:pt x="2344" y="585"/>
                  </a:lnTo>
                  <a:lnTo>
                    <a:pt x="2346" y="594"/>
                  </a:lnTo>
                  <a:lnTo>
                    <a:pt x="2349" y="604"/>
                  </a:lnTo>
                  <a:lnTo>
                    <a:pt x="2353" y="615"/>
                  </a:lnTo>
                  <a:lnTo>
                    <a:pt x="2355" y="626"/>
                  </a:lnTo>
                  <a:lnTo>
                    <a:pt x="2358" y="637"/>
                  </a:lnTo>
                  <a:lnTo>
                    <a:pt x="2361" y="651"/>
                  </a:lnTo>
                  <a:lnTo>
                    <a:pt x="2364" y="663"/>
                  </a:lnTo>
                  <a:lnTo>
                    <a:pt x="2367" y="676"/>
                  </a:lnTo>
                  <a:lnTo>
                    <a:pt x="2370" y="690"/>
                  </a:lnTo>
                  <a:lnTo>
                    <a:pt x="2373" y="704"/>
                  </a:lnTo>
                  <a:lnTo>
                    <a:pt x="2375" y="719"/>
                  </a:lnTo>
                  <a:lnTo>
                    <a:pt x="2378" y="733"/>
                  </a:lnTo>
                  <a:lnTo>
                    <a:pt x="2382" y="749"/>
                  </a:lnTo>
                  <a:lnTo>
                    <a:pt x="2384" y="763"/>
                  </a:lnTo>
                  <a:lnTo>
                    <a:pt x="2387" y="779"/>
                  </a:lnTo>
                  <a:lnTo>
                    <a:pt x="2390" y="794"/>
                  </a:lnTo>
                  <a:lnTo>
                    <a:pt x="2393" y="809"/>
                  </a:lnTo>
                  <a:lnTo>
                    <a:pt x="2396" y="824"/>
                  </a:lnTo>
                  <a:lnTo>
                    <a:pt x="2399" y="840"/>
                  </a:lnTo>
                  <a:lnTo>
                    <a:pt x="2402" y="856"/>
                  </a:lnTo>
                  <a:lnTo>
                    <a:pt x="2404" y="870"/>
                  </a:lnTo>
                  <a:lnTo>
                    <a:pt x="2407" y="886"/>
                  </a:lnTo>
                  <a:lnTo>
                    <a:pt x="2411" y="900"/>
                  </a:lnTo>
                  <a:lnTo>
                    <a:pt x="2413" y="915"/>
                  </a:lnTo>
                  <a:lnTo>
                    <a:pt x="2416" y="928"/>
                  </a:lnTo>
                  <a:lnTo>
                    <a:pt x="2419" y="941"/>
                  </a:lnTo>
                  <a:lnTo>
                    <a:pt x="2422" y="955"/>
                  </a:lnTo>
                  <a:lnTo>
                    <a:pt x="2425" y="968"/>
                  </a:lnTo>
                  <a:lnTo>
                    <a:pt x="2428" y="980"/>
                  </a:lnTo>
                  <a:lnTo>
                    <a:pt x="2431" y="992"/>
                  </a:lnTo>
                  <a:lnTo>
                    <a:pt x="2433" y="1003"/>
                  </a:lnTo>
                  <a:lnTo>
                    <a:pt x="2436" y="1014"/>
                  </a:lnTo>
                  <a:lnTo>
                    <a:pt x="2439" y="1023"/>
                  </a:lnTo>
                  <a:lnTo>
                    <a:pt x="2442" y="1033"/>
                  </a:lnTo>
                  <a:lnTo>
                    <a:pt x="2445" y="1041"/>
                  </a:lnTo>
                  <a:lnTo>
                    <a:pt x="2448" y="1048"/>
                  </a:lnTo>
                  <a:lnTo>
                    <a:pt x="2451" y="1055"/>
                  </a:lnTo>
                  <a:lnTo>
                    <a:pt x="2453" y="1062"/>
                  </a:lnTo>
                  <a:lnTo>
                    <a:pt x="2457" y="1067"/>
                  </a:lnTo>
                  <a:lnTo>
                    <a:pt x="2460" y="1072"/>
                  </a:lnTo>
                  <a:lnTo>
                    <a:pt x="2462" y="1075"/>
                  </a:lnTo>
                  <a:lnTo>
                    <a:pt x="2466" y="1077"/>
                  </a:lnTo>
                  <a:lnTo>
                    <a:pt x="2468" y="1080"/>
                  </a:lnTo>
                  <a:lnTo>
                    <a:pt x="2471" y="1081"/>
                  </a:lnTo>
                  <a:lnTo>
                    <a:pt x="2474" y="1081"/>
                  </a:lnTo>
                  <a:lnTo>
                    <a:pt x="2477" y="1081"/>
                  </a:lnTo>
                  <a:lnTo>
                    <a:pt x="2480" y="1078"/>
                  </a:lnTo>
                  <a:lnTo>
                    <a:pt x="2482" y="1076"/>
                  </a:lnTo>
                  <a:lnTo>
                    <a:pt x="2486" y="1073"/>
                  </a:lnTo>
                  <a:lnTo>
                    <a:pt x="2489" y="1068"/>
                  </a:lnTo>
                  <a:lnTo>
                    <a:pt x="2491" y="1064"/>
                  </a:lnTo>
                  <a:lnTo>
                    <a:pt x="2495" y="1057"/>
                  </a:lnTo>
                  <a:lnTo>
                    <a:pt x="2497" y="1051"/>
                  </a:lnTo>
                  <a:lnTo>
                    <a:pt x="2500" y="1044"/>
                  </a:lnTo>
                  <a:lnTo>
                    <a:pt x="2503" y="1035"/>
                  </a:lnTo>
                  <a:lnTo>
                    <a:pt x="2506" y="1026"/>
                  </a:lnTo>
                  <a:lnTo>
                    <a:pt x="2509" y="1016"/>
                  </a:lnTo>
                  <a:lnTo>
                    <a:pt x="2511" y="1006"/>
                  </a:lnTo>
                  <a:lnTo>
                    <a:pt x="2515" y="995"/>
                  </a:lnTo>
                  <a:lnTo>
                    <a:pt x="2518" y="984"/>
                  </a:lnTo>
                  <a:lnTo>
                    <a:pt x="2520" y="970"/>
                  </a:lnTo>
                  <a:lnTo>
                    <a:pt x="2524" y="958"/>
                  </a:lnTo>
                  <a:lnTo>
                    <a:pt x="2526" y="945"/>
                  </a:lnTo>
                  <a:lnTo>
                    <a:pt x="2529" y="930"/>
                  </a:lnTo>
                  <a:lnTo>
                    <a:pt x="2531" y="916"/>
                  </a:lnTo>
                  <a:lnTo>
                    <a:pt x="2535" y="901"/>
                  </a:lnTo>
                  <a:lnTo>
                    <a:pt x="2538" y="887"/>
                  </a:lnTo>
                  <a:lnTo>
                    <a:pt x="2540" y="871"/>
                  </a:lnTo>
                  <a:lnTo>
                    <a:pt x="2544" y="856"/>
                  </a:lnTo>
                  <a:lnTo>
                    <a:pt x="2546" y="840"/>
                  </a:lnTo>
                  <a:lnTo>
                    <a:pt x="2549" y="823"/>
                  </a:lnTo>
                  <a:lnTo>
                    <a:pt x="2553" y="808"/>
                  </a:lnTo>
                  <a:lnTo>
                    <a:pt x="2555" y="791"/>
                  </a:lnTo>
                  <a:lnTo>
                    <a:pt x="2558" y="775"/>
                  </a:lnTo>
                  <a:lnTo>
                    <a:pt x="2560" y="759"/>
                  </a:lnTo>
                  <a:lnTo>
                    <a:pt x="2564" y="743"/>
                  </a:lnTo>
                  <a:lnTo>
                    <a:pt x="2567" y="728"/>
                  </a:lnTo>
                  <a:lnTo>
                    <a:pt x="2569" y="711"/>
                  </a:lnTo>
                  <a:lnTo>
                    <a:pt x="2573" y="696"/>
                  </a:lnTo>
                  <a:lnTo>
                    <a:pt x="2575" y="681"/>
                  </a:lnTo>
                  <a:lnTo>
                    <a:pt x="2578" y="666"/>
                  </a:lnTo>
                  <a:lnTo>
                    <a:pt x="2582" y="652"/>
                  </a:lnTo>
                  <a:lnTo>
                    <a:pt x="2584" y="637"/>
                  </a:lnTo>
                  <a:lnTo>
                    <a:pt x="2587" y="624"/>
                  </a:lnTo>
                  <a:lnTo>
                    <a:pt x="2589" y="612"/>
                  </a:lnTo>
                  <a:lnTo>
                    <a:pt x="2593" y="599"/>
                  </a:lnTo>
                  <a:lnTo>
                    <a:pt x="2596" y="587"/>
                  </a:lnTo>
                  <a:lnTo>
                    <a:pt x="2598" y="576"/>
                  </a:lnTo>
                  <a:lnTo>
                    <a:pt x="2602" y="566"/>
                  </a:lnTo>
                  <a:lnTo>
                    <a:pt x="2604" y="556"/>
                  </a:lnTo>
                  <a:lnTo>
                    <a:pt x="2607" y="548"/>
                  </a:lnTo>
                  <a:lnTo>
                    <a:pt x="2609" y="539"/>
                  </a:lnTo>
                  <a:lnTo>
                    <a:pt x="2613" y="533"/>
                  </a:lnTo>
                  <a:lnTo>
                    <a:pt x="2616" y="526"/>
                  </a:lnTo>
                  <a:lnTo>
                    <a:pt x="2618" y="520"/>
                  </a:lnTo>
                  <a:lnTo>
                    <a:pt x="2622" y="516"/>
                  </a:lnTo>
                  <a:lnTo>
                    <a:pt x="2624" y="513"/>
                  </a:lnTo>
                  <a:lnTo>
                    <a:pt x="2627" y="510"/>
                  </a:lnTo>
                  <a:lnTo>
                    <a:pt x="2631" y="508"/>
                  </a:lnTo>
                  <a:lnTo>
                    <a:pt x="2633" y="507"/>
                  </a:lnTo>
                  <a:lnTo>
                    <a:pt x="2636" y="508"/>
                  </a:lnTo>
                  <a:lnTo>
                    <a:pt x="2638" y="509"/>
                  </a:lnTo>
                  <a:lnTo>
                    <a:pt x="2642" y="511"/>
                  </a:lnTo>
                  <a:lnTo>
                    <a:pt x="2645" y="514"/>
                  </a:lnTo>
                  <a:lnTo>
                    <a:pt x="2647" y="518"/>
                  </a:lnTo>
                  <a:lnTo>
                    <a:pt x="2651" y="524"/>
                  </a:lnTo>
                  <a:lnTo>
                    <a:pt x="2653" y="529"/>
                  </a:lnTo>
                  <a:lnTo>
                    <a:pt x="2656" y="536"/>
                  </a:lnTo>
                  <a:lnTo>
                    <a:pt x="2660" y="544"/>
                  </a:lnTo>
                  <a:lnTo>
                    <a:pt x="2662" y="553"/>
                  </a:lnTo>
                  <a:lnTo>
                    <a:pt x="2665" y="563"/>
                  </a:lnTo>
                  <a:lnTo>
                    <a:pt x="2667" y="573"/>
                  </a:lnTo>
                  <a:lnTo>
                    <a:pt x="2671" y="584"/>
                  </a:lnTo>
                  <a:lnTo>
                    <a:pt x="2674" y="596"/>
                  </a:lnTo>
                  <a:lnTo>
                    <a:pt x="2676" y="609"/>
                  </a:lnTo>
                  <a:lnTo>
                    <a:pt x="2680" y="623"/>
                  </a:lnTo>
                  <a:lnTo>
                    <a:pt x="2682" y="636"/>
                  </a:lnTo>
                  <a:lnTo>
                    <a:pt x="2685" y="652"/>
                  </a:lnTo>
                  <a:lnTo>
                    <a:pt x="2689" y="666"/>
                  </a:lnTo>
                  <a:lnTo>
                    <a:pt x="2691" y="683"/>
                  </a:lnTo>
                  <a:lnTo>
                    <a:pt x="2694" y="700"/>
                  </a:lnTo>
                  <a:lnTo>
                    <a:pt x="2696" y="716"/>
                  </a:lnTo>
                  <a:lnTo>
                    <a:pt x="2700" y="733"/>
                  </a:lnTo>
                  <a:lnTo>
                    <a:pt x="2702" y="751"/>
                  </a:lnTo>
                  <a:lnTo>
                    <a:pt x="2705" y="769"/>
                  </a:lnTo>
                  <a:lnTo>
                    <a:pt x="2709" y="787"/>
                  </a:lnTo>
                  <a:lnTo>
                    <a:pt x="2711" y="806"/>
                  </a:lnTo>
                  <a:lnTo>
                    <a:pt x="2714" y="823"/>
                  </a:lnTo>
                  <a:lnTo>
                    <a:pt x="2717" y="842"/>
                  </a:lnTo>
                  <a:lnTo>
                    <a:pt x="2720" y="860"/>
                  </a:lnTo>
                  <a:lnTo>
                    <a:pt x="2723" y="879"/>
                  </a:lnTo>
                  <a:lnTo>
                    <a:pt x="2725" y="897"/>
                  </a:lnTo>
                  <a:lnTo>
                    <a:pt x="2729" y="915"/>
                  </a:lnTo>
                  <a:lnTo>
                    <a:pt x="2731" y="933"/>
                  </a:lnTo>
                  <a:lnTo>
                    <a:pt x="2734" y="950"/>
                  </a:lnTo>
                  <a:lnTo>
                    <a:pt x="2738" y="967"/>
                  </a:lnTo>
                  <a:lnTo>
                    <a:pt x="2740" y="984"/>
                  </a:lnTo>
                  <a:lnTo>
                    <a:pt x="2743" y="1001"/>
                  </a:lnTo>
                  <a:lnTo>
                    <a:pt x="2746" y="1016"/>
                  </a:lnTo>
                  <a:lnTo>
                    <a:pt x="2749" y="1032"/>
                  </a:lnTo>
                  <a:lnTo>
                    <a:pt x="2752" y="1046"/>
                  </a:lnTo>
                  <a:lnTo>
                    <a:pt x="2754" y="1060"/>
                  </a:lnTo>
                  <a:lnTo>
                    <a:pt x="2758" y="1073"/>
                  </a:lnTo>
                  <a:lnTo>
                    <a:pt x="2760" y="1085"/>
                  </a:lnTo>
                  <a:lnTo>
                    <a:pt x="2763" y="1096"/>
                  </a:lnTo>
                  <a:lnTo>
                    <a:pt x="2767" y="1106"/>
                  </a:lnTo>
                  <a:lnTo>
                    <a:pt x="2769" y="1116"/>
                  </a:lnTo>
                  <a:lnTo>
                    <a:pt x="2772" y="1125"/>
                  </a:lnTo>
                  <a:lnTo>
                    <a:pt x="2775" y="1133"/>
                  </a:lnTo>
                  <a:lnTo>
                    <a:pt x="2778" y="1140"/>
                  </a:lnTo>
                  <a:lnTo>
                    <a:pt x="2781" y="1145"/>
                  </a:lnTo>
                  <a:lnTo>
                    <a:pt x="2783" y="1150"/>
                  </a:lnTo>
                  <a:lnTo>
                    <a:pt x="2787" y="1153"/>
                  </a:lnTo>
                  <a:lnTo>
                    <a:pt x="2789" y="1155"/>
                  </a:lnTo>
                  <a:lnTo>
                    <a:pt x="2792" y="1158"/>
                  </a:lnTo>
                  <a:lnTo>
                    <a:pt x="2795" y="1158"/>
                  </a:lnTo>
                  <a:lnTo>
                    <a:pt x="2798" y="1156"/>
                  </a:lnTo>
                  <a:lnTo>
                    <a:pt x="2801" y="1154"/>
                  </a:lnTo>
                  <a:lnTo>
                    <a:pt x="2804" y="1151"/>
                  </a:lnTo>
                  <a:lnTo>
                    <a:pt x="2807" y="1146"/>
                  </a:lnTo>
                  <a:lnTo>
                    <a:pt x="2809" y="1141"/>
                  </a:lnTo>
                  <a:lnTo>
                    <a:pt x="2812" y="1134"/>
                  </a:lnTo>
                  <a:lnTo>
                    <a:pt x="2816" y="1126"/>
                  </a:lnTo>
                  <a:lnTo>
                    <a:pt x="2818" y="1117"/>
                  </a:lnTo>
                  <a:lnTo>
                    <a:pt x="2821" y="1107"/>
                  </a:lnTo>
                  <a:lnTo>
                    <a:pt x="2824" y="1096"/>
                  </a:lnTo>
                  <a:lnTo>
                    <a:pt x="2827" y="1085"/>
                  </a:lnTo>
                  <a:lnTo>
                    <a:pt x="2830" y="1072"/>
                  </a:lnTo>
                  <a:lnTo>
                    <a:pt x="2833" y="1058"/>
                  </a:lnTo>
                  <a:lnTo>
                    <a:pt x="2836" y="1043"/>
                  </a:lnTo>
                  <a:lnTo>
                    <a:pt x="2838" y="1027"/>
                  </a:lnTo>
                  <a:lnTo>
                    <a:pt x="2841" y="1011"/>
                  </a:lnTo>
                  <a:lnTo>
                    <a:pt x="2845" y="994"/>
                  </a:lnTo>
                  <a:lnTo>
                    <a:pt x="2847" y="976"/>
                  </a:lnTo>
                  <a:lnTo>
                    <a:pt x="2850" y="957"/>
                  </a:lnTo>
                  <a:lnTo>
                    <a:pt x="2853" y="938"/>
                  </a:lnTo>
                  <a:lnTo>
                    <a:pt x="2856" y="918"/>
                  </a:lnTo>
                  <a:lnTo>
                    <a:pt x="2859" y="898"/>
                  </a:lnTo>
                  <a:lnTo>
                    <a:pt x="2862" y="877"/>
                  </a:lnTo>
                  <a:lnTo>
                    <a:pt x="2865" y="856"/>
                  </a:lnTo>
                  <a:lnTo>
                    <a:pt x="2867" y="835"/>
                  </a:lnTo>
                  <a:lnTo>
                    <a:pt x="2870" y="813"/>
                  </a:lnTo>
                  <a:lnTo>
                    <a:pt x="2874" y="791"/>
                  </a:lnTo>
                  <a:lnTo>
                    <a:pt x="2876" y="769"/>
                  </a:lnTo>
                  <a:lnTo>
                    <a:pt x="2879" y="748"/>
                  </a:lnTo>
                  <a:lnTo>
                    <a:pt x="2882" y="725"/>
                  </a:lnTo>
                  <a:lnTo>
                    <a:pt x="2885" y="704"/>
                  </a:lnTo>
                  <a:lnTo>
                    <a:pt x="2887" y="682"/>
                  </a:lnTo>
                  <a:lnTo>
                    <a:pt x="2891" y="661"/>
                  </a:lnTo>
                  <a:lnTo>
                    <a:pt x="2894" y="640"/>
                  </a:lnTo>
                  <a:lnTo>
                    <a:pt x="2896" y="619"/>
                  </a:lnTo>
                  <a:lnTo>
                    <a:pt x="2899" y="599"/>
                  </a:lnTo>
                  <a:lnTo>
                    <a:pt x="2902" y="580"/>
                  </a:lnTo>
                  <a:lnTo>
                    <a:pt x="2905" y="562"/>
                  </a:lnTo>
                  <a:lnTo>
                    <a:pt x="2908" y="543"/>
                  </a:lnTo>
                  <a:lnTo>
                    <a:pt x="2911" y="526"/>
                  </a:lnTo>
                  <a:lnTo>
                    <a:pt x="2914" y="509"/>
                  </a:lnTo>
                  <a:lnTo>
                    <a:pt x="2916" y="494"/>
                  </a:lnTo>
                  <a:lnTo>
                    <a:pt x="2920" y="478"/>
                  </a:lnTo>
                  <a:lnTo>
                    <a:pt x="2923" y="465"/>
                  </a:lnTo>
                  <a:lnTo>
                    <a:pt x="2925" y="451"/>
                  </a:lnTo>
                  <a:lnTo>
                    <a:pt x="2928" y="440"/>
                  </a:lnTo>
                  <a:lnTo>
                    <a:pt x="2931" y="429"/>
                  </a:lnTo>
                  <a:lnTo>
                    <a:pt x="2934" y="420"/>
                  </a:lnTo>
                  <a:lnTo>
                    <a:pt x="2937" y="411"/>
                  </a:lnTo>
                  <a:lnTo>
                    <a:pt x="2940" y="404"/>
                  </a:lnTo>
                  <a:lnTo>
                    <a:pt x="2943" y="399"/>
                  </a:lnTo>
                  <a:lnTo>
                    <a:pt x="2945" y="394"/>
                  </a:lnTo>
                  <a:lnTo>
                    <a:pt x="2949" y="391"/>
                  </a:lnTo>
                  <a:lnTo>
                    <a:pt x="2952" y="389"/>
                  </a:lnTo>
                  <a:lnTo>
                    <a:pt x="2954" y="389"/>
                  </a:lnTo>
                  <a:lnTo>
                    <a:pt x="2957" y="390"/>
                  </a:lnTo>
                  <a:lnTo>
                    <a:pt x="2960" y="392"/>
                  </a:lnTo>
                  <a:lnTo>
                    <a:pt x="2963" y="396"/>
                  </a:lnTo>
                  <a:lnTo>
                    <a:pt x="2966" y="401"/>
                  </a:lnTo>
                  <a:lnTo>
                    <a:pt x="2969" y="408"/>
                  </a:lnTo>
                  <a:lnTo>
                    <a:pt x="2972" y="414"/>
                  </a:lnTo>
                  <a:lnTo>
                    <a:pt x="2974" y="425"/>
                  </a:lnTo>
                  <a:lnTo>
                    <a:pt x="2978" y="435"/>
                  </a:lnTo>
                  <a:lnTo>
                    <a:pt x="2980" y="446"/>
                  </a:lnTo>
                  <a:lnTo>
                    <a:pt x="2983" y="459"/>
                  </a:lnTo>
                  <a:lnTo>
                    <a:pt x="2986" y="474"/>
                  </a:lnTo>
                  <a:lnTo>
                    <a:pt x="2989" y="489"/>
                  </a:lnTo>
                  <a:lnTo>
                    <a:pt x="2992" y="505"/>
                  </a:lnTo>
                  <a:lnTo>
                    <a:pt x="2994" y="523"/>
                  </a:lnTo>
                  <a:lnTo>
                    <a:pt x="2998" y="541"/>
                  </a:lnTo>
                  <a:lnTo>
                    <a:pt x="3001" y="562"/>
                  </a:lnTo>
                  <a:lnTo>
                    <a:pt x="3003" y="582"/>
                  </a:lnTo>
                  <a:lnTo>
                    <a:pt x="3007" y="603"/>
                  </a:lnTo>
                  <a:lnTo>
                    <a:pt x="3009" y="625"/>
                  </a:lnTo>
                  <a:lnTo>
                    <a:pt x="3012" y="648"/>
                  </a:lnTo>
                  <a:lnTo>
                    <a:pt x="3015" y="672"/>
                  </a:lnTo>
                  <a:lnTo>
                    <a:pt x="3018" y="696"/>
                  </a:lnTo>
                  <a:lnTo>
                    <a:pt x="3021" y="721"/>
                  </a:lnTo>
                  <a:lnTo>
                    <a:pt x="3023" y="746"/>
                  </a:lnTo>
                  <a:lnTo>
                    <a:pt x="3027" y="772"/>
                  </a:lnTo>
                  <a:lnTo>
                    <a:pt x="3030" y="798"/>
                  </a:lnTo>
                  <a:lnTo>
                    <a:pt x="3032" y="823"/>
                  </a:lnTo>
                  <a:lnTo>
                    <a:pt x="3036" y="850"/>
                  </a:lnTo>
                  <a:lnTo>
                    <a:pt x="3038" y="876"/>
                  </a:lnTo>
                  <a:lnTo>
                    <a:pt x="3041" y="902"/>
                  </a:lnTo>
                  <a:lnTo>
                    <a:pt x="3044" y="928"/>
                  </a:lnTo>
                  <a:lnTo>
                    <a:pt x="3047" y="954"/>
                  </a:lnTo>
                  <a:lnTo>
                    <a:pt x="3050" y="979"/>
                  </a:lnTo>
                  <a:lnTo>
                    <a:pt x="3052" y="1005"/>
                  </a:lnTo>
                  <a:lnTo>
                    <a:pt x="3056" y="1029"/>
                  </a:lnTo>
                  <a:lnTo>
                    <a:pt x="3058" y="1053"/>
                  </a:lnTo>
                  <a:lnTo>
                    <a:pt x="3061" y="1076"/>
                  </a:lnTo>
                  <a:lnTo>
                    <a:pt x="3065" y="1099"/>
                  </a:lnTo>
                  <a:lnTo>
                    <a:pt x="3067" y="1121"/>
                  </a:lnTo>
                  <a:lnTo>
                    <a:pt x="3070" y="1142"/>
                  </a:lnTo>
                  <a:lnTo>
                    <a:pt x="3072" y="1162"/>
                  </a:lnTo>
                  <a:lnTo>
                    <a:pt x="3076" y="1181"/>
                  </a:lnTo>
                  <a:lnTo>
                    <a:pt x="3079" y="1199"/>
                  </a:lnTo>
                  <a:lnTo>
                    <a:pt x="3081" y="1216"/>
                  </a:lnTo>
                  <a:lnTo>
                    <a:pt x="3085" y="1231"/>
                  </a:lnTo>
                  <a:lnTo>
                    <a:pt x="3087" y="1244"/>
                  </a:lnTo>
                  <a:lnTo>
                    <a:pt x="3090" y="1258"/>
                  </a:lnTo>
                  <a:lnTo>
                    <a:pt x="3094" y="1269"/>
                  </a:lnTo>
                  <a:lnTo>
                    <a:pt x="3096" y="1279"/>
                  </a:lnTo>
                  <a:lnTo>
                    <a:pt x="3099" y="1287"/>
                  </a:lnTo>
                  <a:lnTo>
                    <a:pt x="3101" y="1295"/>
                  </a:lnTo>
                  <a:lnTo>
                    <a:pt x="3105" y="1300"/>
                  </a:lnTo>
                  <a:lnTo>
                    <a:pt x="3108" y="1304"/>
                  </a:lnTo>
                  <a:lnTo>
                    <a:pt x="3110" y="1306"/>
                  </a:lnTo>
                  <a:lnTo>
                    <a:pt x="3114" y="1307"/>
                  </a:lnTo>
                  <a:lnTo>
                    <a:pt x="3116" y="1306"/>
                  </a:lnTo>
                  <a:lnTo>
                    <a:pt x="3119" y="1302"/>
                  </a:lnTo>
                  <a:lnTo>
                    <a:pt x="3123" y="1298"/>
                  </a:lnTo>
                  <a:lnTo>
                    <a:pt x="3125" y="1292"/>
                  </a:lnTo>
                  <a:lnTo>
                    <a:pt x="3128" y="1285"/>
                  </a:lnTo>
                  <a:lnTo>
                    <a:pt x="3130" y="1276"/>
                  </a:lnTo>
                  <a:lnTo>
                    <a:pt x="3134" y="1265"/>
                  </a:lnTo>
                  <a:lnTo>
                    <a:pt x="3137" y="1252"/>
                  </a:lnTo>
                  <a:lnTo>
                    <a:pt x="3139" y="1239"/>
                  </a:lnTo>
                  <a:lnTo>
                    <a:pt x="3143" y="1223"/>
                  </a:lnTo>
                  <a:lnTo>
                    <a:pt x="3145" y="1207"/>
                  </a:lnTo>
                  <a:lnTo>
                    <a:pt x="3148" y="1189"/>
                  </a:lnTo>
                  <a:lnTo>
                    <a:pt x="3150" y="1169"/>
                  </a:lnTo>
                  <a:lnTo>
                    <a:pt x="3154" y="1149"/>
                  </a:lnTo>
                  <a:lnTo>
                    <a:pt x="3157" y="1126"/>
                  </a:lnTo>
                  <a:lnTo>
                    <a:pt x="3159" y="1103"/>
                  </a:lnTo>
                  <a:lnTo>
                    <a:pt x="3163" y="1078"/>
                  </a:lnTo>
                  <a:lnTo>
                    <a:pt x="3165" y="1053"/>
                  </a:lnTo>
                  <a:lnTo>
                    <a:pt x="3168" y="1027"/>
                  </a:lnTo>
                  <a:lnTo>
                    <a:pt x="3172" y="999"/>
                  </a:lnTo>
                  <a:lnTo>
                    <a:pt x="3174" y="972"/>
                  </a:lnTo>
                  <a:lnTo>
                    <a:pt x="3177" y="943"/>
                  </a:lnTo>
                  <a:lnTo>
                    <a:pt x="3179" y="914"/>
                  </a:lnTo>
                  <a:lnTo>
                    <a:pt x="3183" y="884"/>
                  </a:lnTo>
                  <a:lnTo>
                    <a:pt x="3186" y="853"/>
                  </a:lnTo>
                  <a:lnTo>
                    <a:pt x="3188" y="822"/>
                  </a:lnTo>
                  <a:lnTo>
                    <a:pt x="3192" y="792"/>
                  </a:lnTo>
                  <a:lnTo>
                    <a:pt x="3194" y="761"/>
                  </a:lnTo>
                  <a:lnTo>
                    <a:pt x="3197" y="730"/>
                  </a:lnTo>
                  <a:lnTo>
                    <a:pt x="3201" y="700"/>
                  </a:lnTo>
                  <a:lnTo>
                    <a:pt x="3203" y="668"/>
                  </a:lnTo>
                  <a:lnTo>
                    <a:pt x="3206" y="638"/>
                  </a:lnTo>
                  <a:lnTo>
                    <a:pt x="3208" y="608"/>
                  </a:lnTo>
                  <a:lnTo>
                    <a:pt x="3212" y="578"/>
                  </a:lnTo>
                  <a:lnTo>
                    <a:pt x="3215" y="549"/>
                  </a:lnTo>
                  <a:lnTo>
                    <a:pt x="3217" y="521"/>
                  </a:lnTo>
                  <a:lnTo>
                    <a:pt x="3221" y="494"/>
                  </a:lnTo>
                  <a:lnTo>
                    <a:pt x="3223" y="467"/>
                  </a:lnTo>
                  <a:lnTo>
                    <a:pt x="3226" y="441"/>
                  </a:lnTo>
                  <a:lnTo>
                    <a:pt x="3230" y="417"/>
                  </a:lnTo>
                  <a:lnTo>
                    <a:pt x="3232" y="393"/>
                  </a:lnTo>
                  <a:lnTo>
                    <a:pt x="3235" y="371"/>
                  </a:lnTo>
                  <a:lnTo>
                    <a:pt x="3237" y="350"/>
                  </a:lnTo>
                  <a:lnTo>
                    <a:pt x="3241" y="331"/>
                  </a:lnTo>
                  <a:lnTo>
                    <a:pt x="3243" y="313"/>
                  </a:lnTo>
                  <a:lnTo>
                    <a:pt x="3246" y="296"/>
                  </a:lnTo>
                  <a:lnTo>
                    <a:pt x="3250" y="281"/>
                  </a:lnTo>
                  <a:lnTo>
                    <a:pt x="3252" y="267"/>
                  </a:lnTo>
                  <a:lnTo>
                    <a:pt x="3255" y="256"/>
                  </a:lnTo>
                  <a:lnTo>
                    <a:pt x="3258" y="246"/>
                  </a:lnTo>
                  <a:lnTo>
                    <a:pt x="3261" y="238"/>
                  </a:lnTo>
                  <a:lnTo>
                    <a:pt x="3264" y="232"/>
                  </a:lnTo>
                  <a:lnTo>
                    <a:pt x="3266" y="227"/>
                  </a:lnTo>
                  <a:lnTo>
                    <a:pt x="3270" y="225"/>
                  </a:lnTo>
                  <a:lnTo>
                    <a:pt x="3272" y="224"/>
                  </a:lnTo>
                  <a:lnTo>
                    <a:pt x="3275" y="225"/>
                  </a:lnTo>
                  <a:lnTo>
                    <a:pt x="3279" y="228"/>
                  </a:lnTo>
                  <a:lnTo>
                    <a:pt x="3281" y="233"/>
                  </a:lnTo>
                  <a:lnTo>
                    <a:pt x="3284" y="241"/>
                  </a:lnTo>
                  <a:lnTo>
                    <a:pt x="3287" y="250"/>
                  </a:lnTo>
                  <a:lnTo>
                    <a:pt x="3290" y="260"/>
                  </a:lnTo>
                  <a:lnTo>
                    <a:pt x="3293" y="272"/>
                  </a:lnTo>
                  <a:lnTo>
                    <a:pt x="3295" y="286"/>
                  </a:lnTo>
                  <a:lnTo>
                    <a:pt x="3299" y="303"/>
                  </a:lnTo>
                  <a:lnTo>
                    <a:pt x="3301" y="321"/>
                  </a:lnTo>
                  <a:lnTo>
                    <a:pt x="3304" y="340"/>
                  </a:lnTo>
                  <a:lnTo>
                    <a:pt x="3308" y="361"/>
                  </a:lnTo>
                  <a:lnTo>
                    <a:pt x="3310" y="384"/>
                  </a:lnTo>
                  <a:lnTo>
                    <a:pt x="3313" y="409"/>
                  </a:lnTo>
                  <a:lnTo>
                    <a:pt x="3316" y="435"/>
                  </a:lnTo>
                  <a:lnTo>
                    <a:pt x="3319" y="461"/>
                  </a:lnTo>
                  <a:lnTo>
                    <a:pt x="3322" y="489"/>
                  </a:lnTo>
                  <a:lnTo>
                    <a:pt x="3324" y="519"/>
                  </a:lnTo>
                  <a:lnTo>
                    <a:pt x="3328" y="549"/>
                  </a:lnTo>
                  <a:lnTo>
                    <a:pt x="3330" y="580"/>
                  </a:lnTo>
                  <a:lnTo>
                    <a:pt x="3333" y="614"/>
                  </a:lnTo>
                  <a:lnTo>
                    <a:pt x="3336" y="646"/>
                  </a:lnTo>
                  <a:lnTo>
                    <a:pt x="3339" y="681"/>
                  </a:lnTo>
                  <a:lnTo>
                    <a:pt x="3342" y="715"/>
                  </a:lnTo>
                  <a:lnTo>
                    <a:pt x="3345" y="750"/>
                  </a:lnTo>
                  <a:lnTo>
                    <a:pt x="3348" y="785"/>
                  </a:lnTo>
                  <a:lnTo>
                    <a:pt x="3350" y="821"/>
                  </a:lnTo>
                  <a:lnTo>
                    <a:pt x="3353" y="857"/>
                  </a:lnTo>
                  <a:lnTo>
                    <a:pt x="3357" y="892"/>
                  </a:lnTo>
                  <a:lnTo>
                    <a:pt x="3359" y="928"/>
                  </a:lnTo>
                  <a:lnTo>
                    <a:pt x="3362" y="963"/>
                  </a:lnTo>
                  <a:lnTo>
                    <a:pt x="3365" y="998"/>
                  </a:lnTo>
                  <a:lnTo>
                    <a:pt x="3368" y="1033"/>
                  </a:lnTo>
                  <a:lnTo>
                    <a:pt x="3371" y="1066"/>
                  </a:lnTo>
                  <a:lnTo>
                    <a:pt x="3374" y="1100"/>
                  </a:lnTo>
                  <a:lnTo>
                    <a:pt x="3377" y="1132"/>
                  </a:lnTo>
                  <a:lnTo>
                    <a:pt x="3379" y="1163"/>
                  </a:lnTo>
                  <a:lnTo>
                    <a:pt x="3382" y="1194"/>
                  </a:lnTo>
                  <a:lnTo>
                    <a:pt x="3386" y="1223"/>
                  </a:lnTo>
                  <a:lnTo>
                    <a:pt x="3388" y="1251"/>
                  </a:lnTo>
                  <a:lnTo>
                    <a:pt x="3391" y="1279"/>
                  </a:lnTo>
                  <a:lnTo>
                    <a:pt x="3394" y="1304"/>
                  </a:lnTo>
                  <a:lnTo>
                    <a:pt x="3397" y="1328"/>
                  </a:lnTo>
                  <a:lnTo>
                    <a:pt x="3400" y="1350"/>
                  </a:lnTo>
                  <a:lnTo>
                    <a:pt x="3403" y="1370"/>
                  </a:lnTo>
                  <a:lnTo>
                    <a:pt x="3406" y="1389"/>
                  </a:lnTo>
                  <a:lnTo>
                    <a:pt x="3408" y="1407"/>
                  </a:lnTo>
                  <a:lnTo>
                    <a:pt x="3411" y="1422"/>
                  </a:lnTo>
                  <a:lnTo>
                    <a:pt x="3414" y="1435"/>
                  </a:lnTo>
                  <a:lnTo>
                    <a:pt x="3417" y="1446"/>
                  </a:lnTo>
                  <a:lnTo>
                    <a:pt x="3420" y="1455"/>
                  </a:lnTo>
                  <a:lnTo>
                    <a:pt x="3423" y="1463"/>
                  </a:lnTo>
                  <a:lnTo>
                    <a:pt x="3426" y="1467"/>
                  </a:lnTo>
                  <a:lnTo>
                    <a:pt x="3428" y="1471"/>
                  </a:lnTo>
                  <a:lnTo>
                    <a:pt x="3432" y="1471"/>
                  </a:lnTo>
                  <a:lnTo>
                    <a:pt x="3435" y="1470"/>
                  </a:lnTo>
                  <a:lnTo>
                    <a:pt x="3437" y="1466"/>
                  </a:lnTo>
                  <a:lnTo>
                    <a:pt x="3441" y="1461"/>
                  </a:lnTo>
                  <a:lnTo>
                    <a:pt x="3443" y="1452"/>
                  </a:lnTo>
                  <a:lnTo>
                    <a:pt x="3446" y="1442"/>
                  </a:lnTo>
                  <a:lnTo>
                    <a:pt x="3449" y="1429"/>
                  </a:lnTo>
                  <a:lnTo>
                    <a:pt x="3452" y="1416"/>
                  </a:lnTo>
                  <a:lnTo>
                    <a:pt x="3455" y="1399"/>
                  </a:lnTo>
                  <a:lnTo>
                    <a:pt x="3457" y="1380"/>
                  </a:lnTo>
                  <a:lnTo>
                    <a:pt x="3461" y="1360"/>
                  </a:lnTo>
                  <a:lnTo>
                    <a:pt x="3464" y="1338"/>
                  </a:lnTo>
                  <a:lnTo>
                    <a:pt x="3466" y="1315"/>
                  </a:lnTo>
                  <a:lnTo>
                    <a:pt x="3470" y="1289"/>
                  </a:lnTo>
                  <a:lnTo>
                    <a:pt x="3472" y="1261"/>
                  </a:lnTo>
                  <a:lnTo>
                    <a:pt x="3475" y="1232"/>
                  </a:lnTo>
                  <a:lnTo>
                    <a:pt x="3478" y="1202"/>
                  </a:lnTo>
                  <a:lnTo>
                    <a:pt x="3481" y="1170"/>
                  </a:lnTo>
                  <a:lnTo>
                    <a:pt x="3484" y="1136"/>
                  </a:lnTo>
                  <a:lnTo>
                    <a:pt x="3486" y="1102"/>
                  </a:lnTo>
                  <a:lnTo>
                    <a:pt x="3490" y="1066"/>
                  </a:lnTo>
                  <a:lnTo>
                    <a:pt x="3493" y="1031"/>
                  </a:lnTo>
                  <a:lnTo>
                    <a:pt x="3495" y="993"/>
                  </a:lnTo>
                  <a:lnTo>
                    <a:pt x="3499" y="955"/>
                  </a:lnTo>
                  <a:lnTo>
                    <a:pt x="3501" y="916"/>
                  </a:lnTo>
                  <a:lnTo>
                    <a:pt x="3504" y="877"/>
                  </a:lnTo>
                  <a:lnTo>
                    <a:pt x="3506" y="837"/>
                  </a:lnTo>
                  <a:lnTo>
                    <a:pt x="3510" y="798"/>
                  </a:lnTo>
                  <a:lnTo>
                    <a:pt x="3513" y="758"/>
                  </a:lnTo>
                  <a:lnTo>
                    <a:pt x="3515" y="718"/>
                  </a:lnTo>
                  <a:lnTo>
                    <a:pt x="3519" y="677"/>
                  </a:lnTo>
                  <a:lnTo>
                    <a:pt x="3521" y="638"/>
                  </a:lnTo>
                  <a:lnTo>
                    <a:pt x="3524" y="599"/>
                  </a:lnTo>
                  <a:lnTo>
                    <a:pt x="3528" y="560"/>
                  </a:lnTo>
                  <a:lnTo>
                    <a:pt x="3530" y="523"/>
                  </a:lnTo>
                  <a:lnTo>
                    <a:pt x="3533" y="486"/>
                  </a:lnTo>
                  <a:lnTo>
                    <a:pt x="3535" y="450"/>
                  </a:lnTo>
                  <a:lnTo>
                    <a:pt x="3539" y="414"/>
                  </a:lnTo>
                  <a:lnTo>
                    <a:pt x="3542" y="381"/>
                  </a:lnTo>
                  <a:lnTo>
                    <a:pt x="3544" y="349"/>
                  </a:lnTo>
                  <a:lnTo>
                    <a:pt x="3548" y="318"/>
                  </a:lnTo>
                  <a:lnTo>
                    <a:pt x="3550" y="287"/>
                  </a:lnTo>
                  <a:lnTo>
                    <a:pt x="3553" y="260"/>
                  </a:lnTo>
                  <a:lnTo>
                    <a:pt x="3557" y="233"/>
                  </a:lnTo>
                  <a:lnTo>
                    <a:pt x="3559" y="208"/>
                  </a:lnTo>
                  <a:lnTo>
                    <a:pt x="3562" y="185"/>
                  </a:lnTo>
                  <a:lnTo>
                    <a:pt x="3564" y="165"/>
                  </a:lnTo>
                  <a:lnTo>
                    <a:pt x="3568" y="146"/>
                  </a:lnTo>
                  <a:lnTo>
                    <a:pt x="3571" y="129"/>
                  </a:lnTo>
                  <a:lnTo>
                    <a:pt x="3573" y="115"/>
                  </a:lnTo>
                  <a:lnTo>
                    <a:pt x="3577" y="103"/>
                  </a:lnTo>
                  <a:lnTo>
                    <a:pt x="3579" y="93"/>
                  </a:lnTo>
                  <a:lnTo>
                    <a:pt x="3582" y="85"/>
                  </a:lnTo>
                  <a:lnTo>
                    <a:pt x="3586" y="79"/>
                  </a:lnTo>
                  <a:lnTo>
                    <a:pt x="3588" y="76"/>
                  </a:lnTo>
                  <a:lnTo>
                    <a:pt x="3591" y="76"/>
                  </a:lnTo>
                  <a:lnTo>
                    <a:pt x="3593" y="77"/>
                  </a:lnTo>
                  <a:lnTo>
                    <a:pt x="3597" y="81"/>
                  </a:lnTo>
                  <a:lnTo>
                    <a:pt x="3599" y="88"/>
                  </a:lnTo>
                  <a:lnTo>
                    <a:pt x="3602" y="97"/>
                  </a:lnTo>
                  <a:lnTo>
                    <a:pt x="3606" y="108"/>
                  </a:lnTo>
                  <a:lnTo>
                    <a:pt x="3608" y="121"/>
                  </a:lnTo>
                  <a:lnTo>
                    <a:pt x="3611" y="137"/>
                  </a:lnTo>
                  <a:lnTo>
                    <a:pt x="3613" y="156"/>
                  </a:lnTo>
                  <a:lnTo>
                    <a:pt x="3617" y="176"/>
                  </a:lnTo>
                  <a:lnTo>
                    <a:pt x="3620" y="198"/>
                  </a:lnTo>
                  <a:lnTo>
                    <a:pt x="3622" y="223"/>
                  </a:lnTo>
                  <a:lnTo>
                    <a:pt x="3626" y="248"/>
                  </a:lnTo>
                  <a:lnTo>
                    <a:pt x="3628" y="277"/>
                  </a:lnTo>
                  <a:lnTo>
                    <a:pt x="3631" y="308"/>
                  </a:lnTo>
                  <a:lnTo>
                    <a:pt x="3635" y="339"/>
                  </a:lnTo>
                  <a:lnTo>
                    <a:pt x="3637" y="372"/>
                  </a:lnTo>
                  <a:lnTo>
                    <a:pt x="3640" y="408"/>
                  </a:lnTo>
                  <a:lnTo>
                    <a:pt x="3642" y="443"/>
                  </a:lnTo>
                  <a:lnTo>
                    <a:pt x="3646" y="481"/>
                  </a:lnTo>
                  <a:lnTo>
                    <a:pt x="3649" y="520"/>
                  </a:lnTo>
                  <a:lnTo>
                    <a:pt x="3651" y="559"/>
                  </a:lnTo>
                  <a:lnTo>
                    <a:pt x="3655" y="601"/>
                  </a:lnTo>
                  <a:lnTo>
                    <a:pt x="3657" y="642"/>
                  </a:lnTo>
                  <a:lnTo>
                    <a:pt x="3660" y="684"/>
                  </a:lnTo>
                  <a:lnTo>
                    <a:pt x="3664" y="726"/>
                  </a:lnTo>
                  <a:lnTo>
                    <a:pt x="3666" y="770"/>
                  </a:lnTo>
                  <a:lnTo>
                    <a:pt x="3669" y="813"/>
                  </a:lnTo>
                  <a:lnTo>
                    <a:pt x="3671" y="856"/>
                  </a:lnTo>
                  <a:lnTo>
                    <a:pt x="3675" y="899"/>
                  </a:lnTo>
                  <a:lnTo>
                    <a:pt x="3678" y="943"/>
                  </a:lnTo>
                  <a:lnTo>
                    <a:pt x="3680" y="985"/>
                  </a:lnTo>
                  <a:lnTo>
                    <a:pt x="3684" y="1027"/>
                  </a:lnTo>
                  <a:lnTo>
                    <a:pt x="3686" y="1068"/>
                  </a:lnTo>
                  <a:lnTo>
                    <a:pt x="3689" y="1110"/>
                  </a:lnTo>
                  <a:lnTo>
                    <a:pt x="3692" y="1150"/>
                  </a:lnTo>
                  <a:lnTo>
                    <a:pt x="3695" y="1189"/>
                  </a:lnTo>
                  <a:lnTo>
                    <a:pt x="3698" y="1227"/>
                  </a:lnTo>
                  <a:lnTo>
                    <a:pt x="3700" y="1262"/>
                  </a:lnTo>
                  <a:lnTo>
                    <a:pt x="3704" y="1298"/>
                  </a:lnTo>
                  <a:lnTo>
                    <a:pt x="3706" y="1331"/>
                  </a:lnTo>
                  <a:lnTo>
                    <a:pt x="3709" y="1364"/>
                  </a:lnTo>
                  <a:lnTo>
                    <a:pt x="3713" y="1394"/>
                  </a:lnTo>
                  <a:lnTo>
                    <a:pt x="3715" y="1422"/>
                  </a:lnTo>
                  <a:lnTo>
                    <a:pt x="3718" y="1448"/>
                  </a:lnTo>
                  <a:lnTo>
                    <a:pt x="3721" y="1473"/>
                  </a:lnTo>
                  <a:lnTo>
                    <a:pt x="3724" y="1495"/>
                  </a:lnTo>
                  <a:lnTo>
                    <a:pt x="3727" y="1514"/>
                  </a:lnTo>
                  <a:lnTo>
                    <a:pt x="3729" y="1532"/>
                  </a:lnTo>
                  <a:lnTo>
                    <a:pt x="3733" y="1548"/>
                  </a:lnTo>
                  <a:lnTo>
                    <a:pt x="3735" y="1561"/>
                  </a:lnTo>
                  <a:lnTo>
                    <a:pt x="3738" y="1571"/>
                  </a:lnTo>
                  <a:lnTo>
                    <a:pt x="3742" y="1580"/>
                  </a:lnTo>
                  <a:lnTo>
                    <a:pt x="3744" y="1585"/>
                  </a:lnTo>
                  <a:lnTo>
                    <a:pt x="3747" y="1588"/>
                  </a:lnTo>
                  <a:lnTo>
                    <a:pt x="3750" y="1589"/>
                  </a:lnTo>
                  <a:lnTo>
                    <a:pt x="3753" y="1587"/>
                  </a:lnTo>
                  <a:lnTo>
                    <a:pt x="3756" y="1582"/>
                  </a:lnTo>
                  <a:lnTo>
                    <a:pt x="3758" y="1575"/>
                  </a:lnTo>
                  <a:lnTo>
                    <a:pt x="3762" y="1565"/>
                  </a:lnTo>
                  <a:lnTo>
                    <a:pt x="3764" y="1553"/>
                  </a:lnTo>
                  <a:lnTo>
                    <a:pt x="3767" y="1539"/>
                  </a:lnTo>
                  <a:lnTo>
                    <a:pt x="3771" y="1522"/>
                  </a:lnTo>
                  <a:lnTo>
                    <a:pt x="3773" y="1503"/>
                  </a:lnTo>
                  <a:lnTo>
                    <a:pt x="3776" y="1481"/>
                  </a:lnTo>
                  <a:lnTo>
                    <a:pt x="3779" y="1457"/>
                  </a:lnTo>
                  <a:lnTo>
                    <a:pt x="3782" y="1432"/>
                  </a:lnTo>
                  <a:lnTo>
                    <a:pt x="3784" y="1403"/>
                  </a:lnTo>
                  <a:lnTo>
                    <a:pt x="3787" y="1373"/>
                  </a:lnTo>
                  <a:lnTo>
                    <a:pt x="3791" y="1341"/>
                  </a:lnTo>
                  <a:lnTo>
                    <a:pt x="3793" y="1307"/>
                  </a:lnTo>
                  <a:lnTo>
                    <a:pt x="3796" y="1272"/>
                  </a:lnTo>
                  <a:lnTo>
                    <a:pt x="3799" y="1234"/>
                  </a:lnTo>
                  <a:lnTo>
                    <a:pt x="3802" y="1197"/>
                  </a:lnTo>
                  <a:lnTo>
                    <a:pt x="3805" y="1156"/>
                  </a:lnTo>
                  <a:lnTo>
                    <a:pt x="3808" y="1116"/>
                  </a:lnTo>
                  <a:lnTo>
                    <a:pt x="3811" y="1074"/>
                  </a:lnTo>
                  <a:lnTo>
                    <a:pt x="3813" y="1031"/>
                  </a:lnTo>
                  <a:lnTo>
                    <a:pt x="3816" y="987"/>
                  </a:lnTo>
                  <a:lnTo>
                    <a:pt x="3820" y="943"/>
                  </a:lnTo>
                  <a:lnTo>
                    <a:pt x="3822" y="898"/>
                  </a:lnTo>
                  <a:lnTo>
                    <a:pt x="3825" y="852"/>
                  </a:lnTo>
                  <a:lnTo>
                    <a:pt x="3828" y="808"/>
                  </a:lnTo>
                  <a:lnTo>
                    <a:pt x="3831" y="762"/>
                  </a:lnTo>
                  <a:lnTo>
                    <a:pt x="3834" y="716"/>
                  </a:lnTo>
                  <a:lnTo>
                    <a:pt x="3837" y="672"/>
                  </a:lnTo>
                  <a:lnTo>
                    <a:pt x="3840" y="627"/>
                  </a:lnTo>
                  <a:lnTo>
                    <a:pt x="3842" y="583"/>
                  </a:lnTo>
                  <a:lnTo>
                    <a:pt x="3845" y="539"/>
                  </a:lnTo>
                  <a:lnTo>
                    <a:pt x="3849" y="497"/>
                  </a:lnTo>
                  <a:lnTo>
                    <a:pt x="3851" y="455"/>
                  </a:lnTo>
                  <a:lnTo>
                    <a:pt x="3854" y="414"/>
                  </a:lnTo>
                  <a:lnTo>
                    <a:pt x="3857" y="374"/>
                  </a:lnTo>
                  <a:lnTo>
                    <a:pt x="3860" y="336"/>
                  </a:lnTo>
                  <a:lnTo>
                    <a:pt x="3862" y="301"/>
                  </a:lnTo>
                  <a:lnTo>
                    <a:pt x="3866" y="265"/>
                  </a:lnTo>
                  <a:lnTo>
                    <a:pt x="3869" y="232"/>
                  </a:lnTo>
                  <a:lnTo>
                    <a:pt x="3871" y="201"/>
                  </a:lnTo>
                  <a:lnTo>
                    <a:pt x="3874" y="172"/>
                  </a:lnTo>
                  <a:lnTo>
                    <a:pt x="3877" y="145"/>
                  </a:lnTo>
                  <a:lnTo>
                    <a:pt x="3880" y="119"/>
                  </a:lnTo>
                  <a:lnTo>
                    <a:pt x="3883" y="96"/>
                  </a:lnTo>
                  <a:lnTo>
                    <a:pt x="3886" y="76"/>
                  </a:lnTo>
                  <a:lnTo>
                    <a:pt x="3889" y="58"/>
                  </a:lnTo>
                  <a:lnTo>
                    <a:pt x="3891" y="41"/>
                  </a:lnTo>
                  <a:lnTo>
                    <a:pt x="3895" y="28"/>
                  </a:lnTo>
                  <a:lnTo>
                    <a:pt x="3898" y="18"/>
                  </a:lnTo>
                  <a:lnTo>
                    <a:pt x="3900" y="9"/>
                  </a:lnTo>
                  <a:lnTo>
                    <a:pt x="3903" y="3"/>
                  </a:lnTo>
                  <a:lnTo>
                    <a:pt x="3906" y="0"/>
                  </a:lnTo>
                  <a:lnTo>
                    <a:pt x="3909" y="0"/>
                  </a:lnTo>
                  <a:lnTo>
                    <a:pt x="3912" y="2"/>
                  </a:lnTo>
                  <a:lnTo>
                    <a:pt x="3915" y="7"/>
                  </a:lnTo>
                  <a:lnTo>
                    <a:pt x="3918" y="15"/>
                  </a:lnTo>
                  <a:lnTo>
                    <a:pt x="3920" y="25"/>
                  </a:lnTo>
                  <a:lnTo>
                    <a:pt x="3924" y="37"/>
                  </a:lnTo>
                  <a:lnTo>
                    <a:pt x="3927" y="52"/>
                  </a:lnTo>
                  <a:lnTo>
                    <a:pt x="3929" y="70"/>
                  </a:lnTo>
                  <a:lnTo>
                    <a:pt x="3932" y="90"/>
                  </a:lnTo>
                  <a:lnTo>
                    <a:pt x="3935" y="113"/>
                  </a:lnTo>
                  <a:lnTo>
                    <a:pt x="3938" y="137"/>
                  </a:lnTo>
                  <a:lnTo>
                    <a:pt x="3941" y="164"/>
                  </a:lnTo>
                  <a:lnTo>
                    <a:pt x="3944" y="193"/>
                  </a:lnTo>
                  <a:lnTo>
                    <a:pt x="3947" y="224"/>
                  </a:lnTo>
                  <a:lnTo>
                    <a:pt x="3949" y="256"/>
                  </a:lnTo>
                  <a:lnTo>
                    <a:pt x="3953" y="291"/>
                  </a:lnTo>
                  <a:lnTo>
                    <a:pt x="3955" y="328"/>
                  </a:lnTo>
                  <a:lnTo>
                    <a:pt x="3958" y="365"/>
                  </a:lnTo>
                  <a:lnTo>
                    <a:pt x="3961" y="404"/>
                  </a:lnTo>
                  <a:lnTo>
                    <a:pt x="3964" y="446"/>
                  </a:lnTo>
                  <a:lnTo>
                    <a:pt x="3967" y="487"/>
                  </a:lnTo>
                  <a:lnTo>
                    <a:pt x="3969" y="530"/>
                  </a:lnTo>
                  <a:lnTo>
                    <a:pt x="3973" y="574"/>
                  </a:lnTo>
                  <a:lnTo>
                    <a:pt x="3976" y="618"/>
                  </a:lnTo>
                  <a:lnTo>
                    <a:pt x="3978" y="664"/>
                  </a:lnTo>
                  <a:lnTo>
                    <a:pt x="3982" y="710"/>
                  </a:lnTo>
                  <a:lnTo>
                    <a:pt x="3984" y="755"/>
                  </a:lnTo>
                  <a:lnTo>
                    <a:pt x="3987" y="802"/>
                  </a:lnTo>
                  <a:lnTo>
                    <a:pt x="3990" y="848"/>
                  </a:lnTo>
                  <a:lnTo>
                    <a:pt x="3993" y="894"/>
                  </a:lnTo>
                  <a:lnTo>
                    <a:pt x="3996" y="939"/>
                  </a:lnTo>
                  <a:lnTo>
                    <a:pt x="3998" y="985"/>
                  </a:lnTo>
                  <a:lnTo>
                    <a:pt x="4002" y="1029"/>
                  </a:lnTo>
                  <a:lnTo>
                    <a:pt x="4005" y="1074"/>
                  </a:lnTo>
                  <a:lnTo>
                    <a:pt x="4007" y="1117"/>
                  </a:lnTo>
                  <a:lnTo>
                    <a:pt x="4011" y="1159"/>
                  </a:lnTo>
                  <a:lnTo>
                    <a:pt x="4013" y="1200"/>
                  </a:lnTo>
                  <a:lnTo>
                    <a:pt x="4016" y="1240"/>
                  </a:lnTo>
                  <a:lnTo>
                    <a:pt x="4019" y="1278"/>
                  </a:lnTo>
                  <a:lnTo>
                    <a:pt x="4022" y="1315"/>
                  </a:lnTo>
                  <a:lnTo>
                    <a:pt x="4025" y="1350"/>
                  </a:lnTo>
                  <a:lnTo>
                    <a:pt x="4027" y="1383"/>
                  </a:lnTo>
                  <a:lnTo>
                    <a:pt x="4031" y="1415"/>
                  </a:lnTo>
                  <a:lnTo>
                    <a:pt x="4034" y="1444"/>
                  </a:lnTo>
                  <a:lnTo>
                    <a:pt x="4036" y="1472"/>
                  </a:lnTo>
                  <a:lnTo>
                    <a:pt x="4040" y="1496"/>
                  </a:lnTo>
                  <a:lnTo>
                    <a:pt x="4042" y="1520"/>
                  </a:lnTo>
                  <a:lnTo>
                    <a:pt x="4045" y="1540"/>
                  </a:lnTo>
                  <a:lnTo>
                    <a:pt x="4047" y="1559"/>
                  </a:lnTo>
                  <a:lnTo>
                    <a:pt x="4051" y="1574"/>
                  </a:lnTo>
                  <a:lnTo>
                    <a:pt x="4054" y="1588"/>
                  </a:lnTo>
                  <a:lnTo>
                    <a:pt x="4056" y="1598"/>
                  </a:lnTo>
                  <a:lnTo>
                    <a:pt x="4060" y="1605"/>
                  </a:lnTo>
                  <a:lnTo>
                    <a:pt x="4062" y="1611"/>
                  </a:lnTo>
                  <a:lnTo>
                    <a:pt x="4065" y="1614"/>
                  </a:lnTo>
                  <a:lnTo>
                    <a:pt x="4069" y="1614"/>
                  </a:lnTo>
                  <a:lnTo>
                    <a:pt x="4071" y="1612"/>
                  </a:lnTo>
                  <a:lnTo>
                    <a:pt x="4074" y="1608"/>
                  </a:lnTo>
                  <a:lnTo>
                    <a:pt x="4076" y="1600"/>
                  </a:lnTo>
                  <a:lnTo>
                    <a:pt x="4080" y="1590"/>
                  </a:lnTo>
                  <a:lnTo>
                    <a:pt x="4083" y="1576"/>
                  </a:lnTo>
                  <a:lnTo>
                    <a:pt x="4085" y="1562"/>
                  </a:lnTo>
                  <a:lnTo>
                    <a:pt x="4089" y="1544"/>
                  </a:lnTo>
                  <a:lnTo>
                    <a:pt x="4091" y="1524"/>
                  </a:lnTo>
                  <a:lnTo>
                    <a:pt x="4094" y="1502"/>
                  </a:lnTo>
                  <a:lnTo>
                    <a:pt x="4098" y="1477"/>
                  </a:lnTo>
                  <a:lnTo>
                    <a:pt x="4100" y="1451"/>
                  </a:lnTo>
                  <a:lnTo>
                    <a:pt x="4103" y="1422"/>
                  </a:lnTo>
                  <a:lnTo>
                    <a:pt x="4105" y="1390"/>
                  </a:lnTo>
                  <a:lnTo>
                    <a:pt x="4109" y="1358"/>
                  </a:lnTo>
                  <a:lnTo>
                    <a:pt x="4112" y="1324"/>
                  </a:lnTo>
                  <a:lnTo>
                    <a:pt x="4114" y="1287"/>
                  </a:lnTo>
                  <a:lnTo>
                    <a:pt x="4118" y="1250"/>
                  </a:lnTo>
                  <a:lnTo>
                    <a:pt x="4120" y="1211"/>
                  </a:lnTo>
                  <a:lnTo>
                    <a:pt x="4123" y="1170"/>
                  </a:lnTo>
                  <a:lnTo>
                    <a:pt x="4127" y="1129"/>
                  </a:lnTo>
                  <a:lnTo>
                    <a:pt x="4129" y="1086"/>
                  </a:lnTo>
                  <a:lnTo>
                    <a:pt x="4132" y="1043"/>
                  </a:lnTo>
                  <a:lnTo>
                    <a:pt x="4134" y="999"/>
                  </a:lnTo>
                  <a:lnTo>
                    <a:pt x="4138" y="955"/>
                  </a:lnTo>
                  <a:lnTo>
                    <a:pt x="4140" y="909"/>
                  </a:lnTo>
                  <a:lnTo>
                    <a:pt x="4143" y="865"/>
                  </a:lnTo>
                  <a:lnTo>
                    <a:pt x="4147" y="819"/>
                  </a:lnTo>
                  <a:lnTo>
                    <a:pt x="4149" y="773"/>
                  </a:lnTo>
                  <a:lnTo>
                    <a:pt x="4152" y="728"/>
                  </a:lnTo>
                  <a:lnTo>
                    <a:pt x="4154" y="683"/>
                  </a:lnTo>
                  <a:lnTo>
                    <a:pt x="4158" y="638"/>
                  </a:lnTo>
                  <a:lnTo>
                    <a:pt x="4161" y="595"/>
                  </a:lnTo>
                  <a:lnTo>
                    <a:pt x="4163" y="552"/>
                  </a:lnTo>
                  <a:lnTo>
                    <a:pt x="4167" y="509"/>
                  </a:lnTo>
                  <a:lnTo>
                    <a:pt x="4169" y="468"/>
                  </a:lnTo>
                  <a:lnTo>
                    <a:pt x="4172" y="428"/>
                  </a:lnTo>
                  <a:lnTo>
                    <a:pt x="4176" y="389"/>
                  </a:lnTo>
                  <a:lnTo>
                    <a:pt x="4178" y="352"/>
                  </a:lnTo>
                  <a:lnTo>
                    <a:pt x="4181" y="316"/>
                  </a:lnTo>
                  <a:lnTo>
                    <a:pt x="4183" y="282"/>
                  </a:lnTo>
                  <a:lnTo>
                    <a:pt x="4187" y="250"/>
                  </a:lnTo>
                  <a:lnTo>
                    <a:pt x="4190" y="220"/>
                  </a:lnTo>
                  <a:lnTo>
                    <a:pt x="4192" y="191"/>
                  </a:lnTo>
                  <a:lnTo>
                    <a:pt x="4196" y="164"/>
                  </a:lnTo>
                  <a:lnTo>
                    <a:pt x="4198" y="139"/>
                  </a:lnTo>
                  <a:lnTo>
                    <a:pt x="4201" y="117"/>
                  </a:lnTo>
                  <a:lnTo>
                    <a:pt x="4205" y="98"/>
                  </a:lnTo>
                  <a:lnTo>
                    <a:pt x="4207" y="80"/>
                  </a:lnTo>
                  <a:lnTo>
                    <a:pt x="4210" y="65"/>
                  </a:lnTo>
                  <a:lnTo>
                    <a:pt x="4212" y="52"/>
                  </a:lnTo>
                  <a:lnTo>
                    <a:pt x="4216" y="42"/>
                  </a:lnTo>
                  <a:lnTo>
                    <a:pt x="4219" y="35"/>
                  </a:lnTo>
                  <a:lnTo>
                    <a:pt x="4221" y="29"/>
                  </a:lnTo>
                  <a:lnTo>
                    <a:pt x="4225" y="27"/>
                  </a:lnTo>
                  <a:lnTo>
                    <a:pt x="4227" y="27"/>
                  </a:lnTo>
                  <a:lnTo>
                    <a:pt x="4230" y="29"/>
                  </a:lnTo>
                  <a:lnTo>
                    <a:pt x="4233" y="33"/>
                  </a:lnTo>
                  <a:lnTo>
                    <a:pt x="4236" y="41"/>
                  </a:lnTo>
                  <a:lnTo>
                    <a:pt x="4239" y="51"/>
                  </a:lnTo>
                  <a:lnTo>
                    <a:pt x="4241" y="64"/>
                  </a:lnTo>
                  <a:lnTo>
                    <a:pt x="4245" y="78"/>
                  </a:lnTo>
                  <a:lnTo>
                    <a:pt x="4247" y="96"/>
                  </a:lnTo>
                  <a:lnTo>
                    <a:pt x="4250" y="115"/>
                  </a:lnTo>
                  <a:lnTo>
                    <a:pt x="4254" y="137"/>
                  </a:lnTo>
                  <a:lnTo>
                    <a:pt x="4256" y="160"/>
                  </a:lnTo>
                  <a:lnTo>
                    <a:pt x="4259" y="186"/>
                  </a:lnTo>
                  <a:lnTo>
                    <a:pt x="4262" y="214"/>
                  </a:lnTo>
                  <a:lnTo>
                    <a:pt x="4265" y="244"/>
                  </a:lnTo>
                  <a:lnTo>
                    <a:pt x="4268" y="275"/>
                  </a:lnTo>
                  <a:lnTo>
                    <a:pt x="4270" y="309"/>
                  </a:lnTo>
                  <a:lnTo>
                    <a:pt x="4274" y="343"/>
                  </a:lnTo>
                  <a:lnTo>
                    <a:pt x="4276" y="379"/>
                  </a:lnTo>
                  <a:lnTo>
                    <a:pt x="4279" y="417"/>
                  </a:lnTo>
                  <a:lnTo>
                    <a:pt x="4283" y="456"/>
                  </a:lnTo>
                  <a:lnTo>
                    <a:pt x="4285" y="495"/>
                  </a:lnTo>
                  <a:lnTo>
                    <a:pt x="4288" y="536"/>
                  </a:lnTo>
                  <a:lnTo>
                    <a:pt x="4291" y="577"/>
                  </a:lnTo>
                  <a:lnTo>
                    <a:pt x="4294" y="619"/>
                  </a:lnTo>
                  <a:lnTo>
                    <a:pt x="4297" y="662"/>
                  </a:lnTo>
                  <a:lnTo>
                    <a:pt x="4299" y="704"/>
                  </a:lnTo>
                  <a:lnTo>
                    <a:pt x="4303" y="748"/>
                  </a:lnTo>
                  <a:lnTo>
                    <a:pt x="4305" y="791"/>
                  </a:lnTo>
                  <a:lnTo>
                    <a:pt x="4308" y="835"/>
                  </a:lnTo>
                  <a:lnTo>
                    <a:pt x="4311" y="878"/>
                  </a:lnTo>
                  <a:lnTo>
                    <a:pt x="4314" y="920"/>
                  </a:lnTo>
                  <a:lnTo>
                    <a:pt x="4317" y="963"/>
                  </a:lnTo>
                  <a:lnTo>
                    <a:pt x="4320" y="1004"/>
                  </a:lnTo>
                  <a:lnTo>
                    <a:pt x="4323" y="1045"/>
                  </a:lnTo>
                  <a:lnTo>
                    <a:pt x="4325" y="1085"/>
                  </a:lnTo>
                  <a:lnTo>
                    <a:pt x="4328" y="1124"/>
                  </a:lnTo>
                  <a:lnTo>
                    <a:pt x="4332" y="1162"/>
                  </a:lnTo>
                  <a:lnTo>
                    <a:pt x="4334" y="1199"/>
                  </a:lnTo>
                  <a:lnTo>
                    <a:pt x="4337" y="1233"/>
                  </a:lnTo>
                  <a:lnTo>
                    <a:pt x="4340" y="1268"/>
                  </a:lnTo>
                  <a:lnTo>
                    <a:pt x="4343" y="1300"/>
                  </a:lnTo>
                  <a:lnTo>
                    <a:pt x="4346" y="1330"/>
                  </a:lnTo>
                  <a:lnTo>
                    <a:pt x="4349" y="1359"/>
                  </a:lnTo>
                  <a:lnTo>
                    <a:pt x="4352" y="1386"/>
                  </a:lnTo>
                  <a:lnTo>
                    <a:pt x="4354" y="1410"/>
                  </a:lnTo>
                  <a:lnTo>
                    <a:pt x="4357" y="1434"/>
                  </a:lnTo>
                  <a:lnTo>
                    <a:pt x="4361" y="1454"/>
                  </a:lnTo>
                  <a:lnTo>
                    <a:pt x="4363" y="1473"/>
                  </a:lnTo>
                  <a:lnTo>
                    <a:pt x="4366" y="1490"/>
                  </a:lnTo>
                  <a:lnTo>
                    <a:pt x="4369" y="1504"/>
                  </a:lnTo>
                  <a:lnTo>
                    <a:pt x="4372" y="1515"/>
                  </a:lnTo>
                  <a:lnTo>
                    <a:pt x="4375" y="1525"/>
                  </a:lnTo>
                  <a:lnTo>
                    <a:pt x="4378" y="1532"/>
                  </a:lnTo>
                  <a:lnTo>
                    <a:pt x="4381" y="1536"/>
                  </a:lnTo>
                  <a:lnTo>
                    <a:pt x="4383" y="1539"/>
                  </a:lnTo>
                  <a:lnTo>
                    <a:pt x="4386" y="1539"/>
                  </a:lnTo>
                  <a:lnTo>
                    <a:pt x="4390" y="1536"/>
                  </a:lnTo>
                  <a:lnTo>
                    <a:pt x="4392" y="1532"/>
                  </a:lnTo>
                  <a:lnTo>
                    <a:pt x="4395" y="1524"/>
                  </a:lnTo>
                  <a:lnTo>
                    <a:pt x="4398" y="1515"/>
                  </a:lnTo>
                  <a:lnTo>
                    <a:pt x="4401" y="1503"/>
                  </a:lnTo>
                  <a:lnTo>
                    <a:pt x="4403" y="1490"/>
                  </a:lnTo>
                  <a:lnTo>
                    <a:pt x="4407" y="1473"/>
                  </a:lnTo>
                  <a:lnTo>
                    <a:pt x="4410" y="1455"/>
                  </a:lnTo>
                  <a:lnTo>
                    <a:pt x="4412" y="1435"/>
                  </a:lnTo>
                  <a:lnTo>
                    <a:pt x="4415" y="1413"/>
                  </a:lnTo>
                  <a:lnTo>
                    <a:pt x="4418" y="1388"/>
                  </a:lnTo>
                  <a:lnTo>
                    <a:pt x="4421" y="1363"/>
                  </a:lnTo>
                  <a:lnTo>
                    <a:pt x="4424" y="1335"/>
                  </a:lnTo>
                  <a:lnTo>
                    <a:pt x="4427" y="1306"/>
                  </a:lnTo>
                  <a:lnTo>
                    <a:pt x="4430" y="1275"/>
                  </a:lnTo>
                  <a:lnTo>
                    <a:pt x="4432" y="1242"/>
                  </a:lnTo>
                  <a:lnTo>
                    <a:pt x="4436" y="1209"/>
                  </a:lnTo>
                  <a:lnTo>
                    <a:pt x="4439" y="1174"/>
                  </a:lnTo>
                  <a:lnTo>
                    <a:pt x="4441" y="1138"/>
                  </a:lnTo>
                  <a:lnTo>
                    <a:pt x="4445" y="1101"/>
                  </a:lnTo>
                  <a:lnTo>
                    <a:pt x="4447" y="1064"/>
                  </a:lnTo>
                  <a:lnTo>
                    <a:pt x="4450" y="1025"/>
                  </a:lnTo>
                  <a:lnTo>
                    <a:pt x="4453" y="986"/>
                  </a:lnTo>
                  <a:lnTo>
                    <a:pt x="4456" y="947"/>
                  </a:lnTo>
                  <a:lnTo>
                    <a:pt x="4459" y="907"/>
                  </a:lnTo>
                  <a:lnTo>
                    <a:pt x="4461" y="867"/>
                  </a:lnTo>
                  <a:lnTo>
                    <a:pt x="4465" y="828"/>
                  </a:lnTo>
                  <a:lnTo>
                    <a:pt x="4468" y="788"/>
                  </a:lnTo>
                  <a:lnTo>
                    <a:pt x="4470" y="748"/>
                  </a:lnTo>
                  <a:lnTo>
                    <a:pt x="4474" y="709"/>
                  </a:lnTo>
                  <a:lnTo>
                    <a:pt x="4476" y="670"/>
                  </a:lnTo>
                  <a:lnTo>
                    <a:pt x="4479" y="632"/>
                  </a:lnTo>
                  <a:lnTo>
                    <a:pt x="4482" y="594"/>
                  </a:lnTo>
                  <a:lnTo>
                    <a:pt x="4485" y="557"/>
                  </a:lnTo>
                  <a:lnTo>
                    <a:pt x="4488" y="521"/>
                  </a:lnTo>
                  <a:lnTo>
                    <a:pt x="4490" y="487"/>
                  </a:lnTo>
                  <a:lnTo>
                    <a:pt x="4494" y="453"/>
                  </a:lnTo>
                  <a:lnTo>
                    <a:pt x="4496" y="421"/>
                  </a:lnTo>
                  <a:lnTo>
                    <a:pt x="4499" y="390"/>
                  </a:lnTo>
                  <a:lnTo>
                    <a:pt x="4503" y="361"/>
                  </a:lnTo>
                  <a:lnTo>
                    <a:pt x="4505" y="333"/>
                  </a:lnTo>
                  <a:lnTo>
                    <a:pt x="4508" y="306"/>
                  </a:lnTo>
                  <a:lnTo>
                    <a:pt x="4510" y="282"/>
                  </a:lnTo>
                  <a:lnTo>
                    <a:pt x="4514" y="260"/>
                  </a:lnTo>
                  <a:lnTo>
                    <a:pt x="4517" y="238"/>
                  </a:lnTo>
                  <a:lnTo>
                    <a:pt x="4519" y="220"/>
                  </a:lnTo>
                  <a:lnTo>
                    <a:pt x="4523" y="203"/>
                  </a:lnTo>
                  <a:lnTo>
                    <a:pt x="4525" y="188"/>
                  </a:lnTo>
                  <a:lnTo>
                    <a:pt x="4528" y="176"/>
                  </a:lnTo>
                  <a:lnTo>
                    <a:pt x="4532" y="165"/>
                  </a:lnTo>
                  <a:lnTo>
                    <a:pt x="4534" y="156"/>
                  </a:lnTo>
                  <a:lnTo>
                    <a:pt x="4537" y="150"/>
                  </a:lnTo>
                  <a:lnTo>
                    <a:pt x="4539" y="146"/>
                  </a:lnTo>
                  <a:lnTo>
                    <a:pt x="4543" y="144"/>
                  </a:lnTo>
                  <a:lnTo>
                    <a:pt x="4546" y="144"/>
                  </a:lnTo>
                  <a:lnTo>
                    <a:pt x="4548" y="146"/>
                  </a:lnTo>
                  <a:lnTo>
                    <a:pt x="4552" y="150"/>
                  </a:lnTo>
                  <a:lnTo>
                    <a:pt x="4554" y="157"/>
                  </a:lnTo>
                  <a:lnTo>
                    <a:pt x="4557" y="166"/>
                  </a:lnTo>
                  <a:lnTo>
                    <a:pt x="4561" y="177"/>
                  </a:lnTo>
                  <a:lnTo>
                    <a:pt x="4563" y="189"/>
                  </a:lnTo>
                  <a:lnTo>
                    <a:pt x="4566" y="204"/>
                  </a:lnTo>
                  <a:lnTo>
                    <a:pt x="4568" y="221"/>
                  </a:lnTo>
                  <a:lnTo>
                    <a:pt x="4572" y="240"/>
                  </a:lnTo>
                  <a:lnTo>
                    <a:pt x="4575" y="260"/>
                  </a:lnTo>
                  <a:lnTo>
                    <a:pt x="4577" y="281"/>
                  </a:lnTo>
                  <a:lnTo>
                    <a:pt x="4581" y="305"/>
                  </a:lnTo>
                  <a:lnTo>
                    <a:pt x="4583" y="330"/>
                  </a:lnTo>
                  <a:lnTo>
                    <a:pt x="4586" y="357"/>
                  </a:lnTo>
                  <a:lnTo>
                    <a:pt x="4588" y="384"/>
                  </a:lnTo>
                  <a:lnTo>
                    <a:pt x="4592" y="413"/>
                  </a:lnTo>
                  <a:lnTo>
                    <a:pt x="4595" y="443"/>
                  </a:lnTo>
                  <a:lnTo>
                    <a:pt x="4597" y="475"/>
                  </a:lnTo>
                  <a:lnTo>
                    <a:pt x="4601" y="507"/>
                  </a:lnTo>
                  <a:lnTo>
                    <a:pt x="4603" y="540"/>
                  </a:lnTo>
                  <a:lnTo>
                    <a:pt x="4606" y="574"/>
                  </a:lnTo>
                  <a:lnTo>
                    <a:pt x="4610" y="608"/>
                  </a:lnTo>
                  <a:lnTo>
                    <a:pt x="4612" y="643"/>
                  </a:lnTo>
                  <a:lnTo>
                    <a:pt x="4615" y="679"/>
                  </a:lnTo>
                  <a:lnTo>
                    <a:pt x="4617" y="714"/>
                  </a:lnTo>
                  <a:lnTo>
                    <a:pt x="4621" y="750"/>
                  </a:lnTo>
                  <a:lnTo>
                    <a:pt x="4624" y="785"/>
                  </a:lnTo>
                  <a:lnTo>
                    <a:pt x="4626" y="821"/>
                  </a:lnTo>
                  <a:lnTo>
                    <a:pt x="4630" y="856"/>
                  </a:lnTo>
                  <a:lnTo>
                    <a:pt x="4632" y="891"/>
                  </a:lnTo>
                  <a:lnTo>
                    <a:pt x="4635" y="926"/>
                  </a:lnTo>
                  <a:lnTo>
                    <a:pt x="4639" y="959"/>
                  </a:lnTo>
                  <a:lnTo>
                    <a:pt x="4641" y="993"/>
                  </a:lnTo>
                  <a:lnTo>
                    <a:pt x="4644" y="1026"/>
                  </a:lnTo>
                  <a:lnTo>
                    <a:pt x="4646" y="1057"/>
                  </a:lnTo>
                  <a:lnTo>
                    <a:pt x="4650" y="1089"/>
                  </a:lnTo>
                  <a:lnTo>
                    <a:pt x="4653" y="1119"/>
                  </a:lnTo>
                  <a:lnTo>
                    <a:pt x="4655" y="1146"/>
                  </a:lnTo>
                  <a:lnTo>
                    <a:pt x="4659" y="1174"/>
                  </a:lnTo>
                  <a:lnTo>
                    <a:pt x="4661" y="1200"/>
                  </a:lnTo>
                  <a:lnTo>
                    <a:pt x="4664" y="1224"/>
                  </a:lnTo>
                  <a:lnTo>
                    <a:pt x="4668" y="1248"/>
                  </a:lnTo>
                  <a:lnTo>
                    <a:pt x="4670" y="1269"/>
                  </a:lnTo>
                  <a:lnTo>
                    <a:pt x="4673" y="1289"/>
                  </a:lnTo>
                  <a:lnTo>
                    <a:pt x="4675" y="1308"/>
                  </a:lnTo>
                  <a:lnTo>
                    <a:pt x="4679" y="1325"/>
                  </a:lnTo>
                  <a:lnTo>
                    <a:pt x="4681" y="1339"/>
                  </a:lnTo>
                  <a:lnTo>
                    <a:pt x="4684" y="1351"/>
                  </a:lnTo>
                  <a:lnTo>
                    <a:pt x="4688" y="1364"/>
                  </a:lnTo>
                  <a:lnTo>
                    <a:pt x="4690" y="1373"/>
                  </a:lnTo>
                  <a:lnTo>
                    <a:pt x="4693" y="1380"/>
                  </a:lnTo>
                  <a:lnTo>
                    <a:pt x="4696" y="1385"/>
                  </a:lnTo>
                  <a:lnTo>
                    <a:pt x="4699" y="1389"/>
                  </a:lnTo>
                  <a:lnTo>
                    <a:pt x="4702" y="1390"/>
                  </a:lnTo>
                  <a:lnTo>
                    <a:pt x="4704" y="1390"/>
                  </a:lnTo>
                  <a:lnTo>
                    <a:pt x="4708" y="1388"/>
                  </a:lnTo>
                  <a:lnTo>
                    <a:pt x="4710" y="1385"/>
                  </a:lnTo>
                  <a:lnTo>
                    <a:pt x="4713" y="1378"/>
                  </a:lnTo>
                  <a:lnTo>
                    <a:pt x="4717" y="1370"/>
                  </a:lnTo>
                  <a:lnTo>
                    <a:pt x="4719" y="1361"/>
                  </a:lnTo>
                  <a:lnTo>
                    <a:pt x="4722" y="1350"/>
                  </a:lnTo>
                  <a:lnTo>
                    <a:pt x="4725" y="1337"/>
                  </a:lnTo>
                  <a:lnTo>
                    <a:pt x="4728" y="1322"/>
                  </a:lnTo>
                  <a:lnTo>
                    <a:pt x="4731" y="1307"/>
                  </a:lnTo>
                  <a:lnTo>
                    <a:pt x="4733" y="1289"/>
                  </a:lnTo>
                  <a:lnTo>
                    <a:pt x="4737" y="1269"/>
                  </a:lnTo>
                  <a:lnTo>
                    <a:pt x="4739" y="1249"/>
                  </a:lnTo>
                  <a:lnTo>
                    <a:pt x="4742" y="1227"/>
                  </a:lnTo>
                  <a:lnTo>
                    <a:pt x="4746" y="1204"/>
                  </a:lnTo>
                  <a:lnTo>
                    <a:pt x="4748" y="1180"/>
                  </a:lnTo>
                  <a:lnTo>
                    <a:pt x="4751" y="1154"/>
                  </a:lnTo>
                  <a:lnTo>
                    <a:pt x="4754" y="1128"/>
                  </a:lnTo>
                  <a:lnTo>
                    <a:pt x="4757" y="1101"/>
                  </a:lnTo>
                  <a:lnTo>
                    <a:pt x="4759" y="1072"/>
                  </a:lnTo>
                  <a:lnTo>
                    <a:pt x="4762" y="1044"/>
                  </a:lnTo>
                  <a:lnTo>
                    <a:pt x="4766" y="1014"/>
                  </a:lnTo>
                  <a:lnTo>
                    <a:pt x="4768" y="984"/>
                  </a:lnTo>
                  <a:lnTo>
                    <a:pt x="4771" y="954"/>
                  </a:lnTo>
                  <a:lnTo>
                    <a:pt x="4774" y="924"/>
                  </a:lnTo>
                  <a:lnTo>
                    <a:pt x="4777" y="892"/>
                  </a:lnTo>
                  <a:lnTo>
                    <a:pt x="4780" y="861"/>
                  </a:lnTo>
                  <a:lnTo>
                    <a:pt x="4783" y="830"/>
                  </a:lnTo>
                  <a:lnTo>
                    <a:pt x="4786" y="800"/>
                  </a:lnTo>
                  <a:lnTo>
                    <a:pt x="4788" y="769"/>
                  </a:lnTo>
                  <a:lnTo>
                    <a:pt x="4791" y="739"/>
                  </a:lnTo>
                  <a:lnTo>
                    <a:pt x="4795" y="709"/>
                  </a:lnTo>
                  <a:lnTo>
                    <a:pt x="4797" y="680"/>
                  </a:lnTo>
                  <a:lnTo>
                    <a:pt x="4800" y="651"/>
                  </a:lnTo>
                  <a:lnTo>
                    <a:pt x="4803" y="623"/>
                  </a:lnTo>
                  <a:lnTo>
                    <a:pt x="4806" y="595"/>
                  </a:lnTo>
                  <a:lnTo>
                    <a:pt x="4809" y="568"/>
                  </a:lnTo>
                  <a:lnTo>
                    <a:pt x="4812" y="543"/>
                  </a:lnTo>
                  <a:lnTo>
                    <a:pt x="4815" y="518"/>
                  </a:lnTo>
                  <a:lnTo>
                    <a:pt x="4817" y="495"/>
                  </a:lnTo>
                  <a:lnTo>
                    <a:pt x="4820" y="472"/>
                  </a:lnTo>
                  <a:lnTo>
                    <a:pt x="4824" y="451"/>
                  </a:lnTo>
                  <a:lnTo>
                    <a:pt x="4826" y="431"/>
                  </a:lnTo>
                  <a:lnTo>
                    <a:pt x="4829" y="412"/>
                  </a:lnTo>
                  <a:lnTo>
                    <a:pt x="4832" y="396"/>
                  </a:lnTo>
                  <a:lnTo>
                    <a:pt x="4835" y="380"/>
                  </a:lnTo>
                  <a:lnTo>
                    <a:pt x="4838" y="365"/>
                  </a:lnTo>
                  <a:lnTo>
                    <a:pt x="4841" y="353"/>
                  </a:lnTo>
                  <a:lnTo>
                    <a:pt x="4844" y="342"/>
                  </a:lnTo>
                  <a:lnTo>
                    <a:pt x="4846" y="332"/>
                  </a:lnTo>
                  <a:lnTo>
                    <a:pt x="4849" y="324"/>
                  </a:lnTo>
                  <a:lnTo>
                    <a:pt x="4852" y="318"/>
                  </a:lnTo>
                  <a:lnTo>
                    <a:pt x="4855" y="313"/>
                  </a:lnTo>
                  <a:lnTo>
                    <a:pt x="4858" y="310"/>
                  </a:lnTo>
                  <a:lnTo>
                    <a:pt x="4861" y="309"/>
                  </a:lnTo>
                  <a:lnTo>
                    <a:pt x="4864" y="309"/>
                  </a:lnTo>
                  <a:lnTo>
                    <a:pt x="4866" y="311"/>
                  </a:lnTo>
                  <a:lnTo>
                    <a:pt x="4870" y="314"/>
                  </a:lnTo>
                  <a:lnTo>
                    <a:pt x="4873" y="319"/>
                  </a:lnTo>
                  <a:lnTo>
                    <a:pt x="4875" y="325"/>
                  </a:lnTo>
                  <a:lnTo>
                    <a:pt x="4878" y="334"/>
                  </a:lnTo>
                  <a:lnTo>
                    <a:pt x="4881" y="343"/>
                  </a:lnTo>
                  <a:lnTo>
                    <a:pt x="4884" y="354"/>
                  </a:lnTo>
                  <a:lnTo>
                    <a:pt x="4887" y="367"/>
                  </a:lnTo>
                  <a:lnTo>
                    <a:pt x="4890" y="381"/>
                  </a:lnTo>
                  <a:lnTo>
                    <a:pt x="4893" y="396"/>
                  </a:lnTo>
                  <a:lnTo>
                    <a:pt x="4895" y="412"/>
                  </a:lnTo>
                  <a:lnTo>
                    <a:pt x="4899" y="430"/>
                  </a:lnTo>
                  <a:lnTo>
                    <a:pt x="4902" y="448"/>
                  </a:lnTo>
                  <a:lnTo>
                    <a:pt x="4904" y="468"/>
                  </a:lnTo>
                  <a:lnTo>
                    <a:pt x="4907" y="489"/>
                  </a:lnTo>
                  <a:lnTo>
                    <a:pt x="4910" y="510"/>
                  </a:lnTo>
                  <a:lnTo>
                    <a:pt x="4913" y="533"/>
                  </a:lnTo>
                  <a:lnTo>
                    <a:pt x="4916" y="556"/>
                  </a:lnTo>
                  <a:lnTo>
                    <a:pt x="4919" y="579"/>
                  </a:lnTo>
                  <a:lnTo>
                    <a:pt x="4922" y="604"/>
                  </a:lnTo>
                  <a:lnTo>
                    <a:pt x="4924" y="630"/>
                  </a:lnTo>
                  <a:lnTo>
                    <a:pt x="4928" y="654"/>
                  </a:lnTo>
                  <a:lnTo>
                    <a:pt x="4931" y="680"/>
                  </a:lnTo>
                  <a:lnTo>
                    <a:pt x="4933" y="706"/>
                  </a:lnTo>
                  <a:lnTo>
                    <a:pt x="4936" y="732"/>
                  </a:lnTo>
                  <a:lnTo>
                    <a:pt x="4939" y="759"/>
                  </a:lnTo>
                  <a:lnTo>
                    <a:pt x="4942" y="784"/>
                  </a:lnTo>
                  <a:lnTo>
                    <a:pt x="4944" y="811"/>
                  </a:lnTo>
                  <a:lnTo>
                    <a:pt x="4948" y="837"/>
                  </a:lnTo>
                  <a:lnTo>
                    <a:pt x="4951" y="862"/>
                  </a:lnTo>
                  <a:lnTo>
                    <a:pt x="4953" y="888"/>
                  </a:lnTo>
                  <a:lnTo>
                    <a:pt x="4957" y="912"/>
                  </a:lnTo>
                  <a:lnTo>
                    <a:pt x="4959" y="937"/>
                  </a:lnTo>
                  <a:lnTo>
                    <a:pt x="4962" y="960"/>
                  </a:lnTo>
                  <a:lnTo>
                    <a:pt x="4965" y="984"/>
                  </a:lnTo>
                  <a:lnTo>
                    <a:pt x="4968" y="1006"/>
                  </a:lnTo>
                  <a:lnTo>
                    <a:pt x="4971" y="1028"/>
                  </a:lnTo>
                  <a:lnTo>
                    <a:pt x="4973" y="1048"/>
                  </a:lnTo>
                  <a:lnTo>
                    <a:pt x="4977" y="1068"/>
                  </a:lnTo>
                  <a:lnTo>
                    <a:pt x="4980" y="1087"/>
                  </a:lnTo>
                  <a:lnTo>
                    <a:pt x="4982" y="1105"/>
                  </a:lnTo>
                  <a:lnTo>
                    <a:pt x="4986" y="1122"/>
                  </a:lnTo>
                  <a:lnTo>
                    <a:pt x="4988" y="1138"/>
                  </a:lnTo>
                  <a:lnTo>
                    <a:pt x="4991" y="1152"/>
                  </a:lnTo>
                  <a:lnTo>
                    <a:pt x="4994" y="1165"/>
                  </a:lnTo>
                  <a:lnTo>
                    <a:pt x="4997" y="1178"/>
                  </a:lnTo>
                  <a:lnTo>
                    <a:pt x="5000" y="1189"/>
                  </a:lnTo>
                  <a:lnTo>
                    <a:pt x="5002" y="1198"/>
                  </a:lnTo>
                  <a:lnTo>
                    <a:pt x="5006" y="1205"/>
                  </a:lnTo>
                  <a:lnTo>
                    <a:pt x="5009" y="1212"/>
                  </a:lnTo>
                  <a:lnTo>
                    <a:pt x="5011" y="1218"/>
                  </a:lnTo>
                  <a:lnTo>
                    <a:pt x="5015" y="1222"/>
                  </a:lnTo>
                  <a:lnTo>
                    <a:pt x="5017" y="1224"/>
                  </a:lnTo>
                  <a:lnTo>
                    <a:pt x="5020" y="1226"/>
                  </a:lnTo>
                  <a:lnTo>
                    <a:pt x="5023" y="1226"/>
                  </a:lnTo>
                  <a:lnTo>
                    <a:pt x="5026" y="1224"/>
                  </a:lnTo>
                  <a:lnTo>
                    <a:pt x="5029" y="1221"/>
                  </a:lnTo>
                  <a:lnTo>
                    <a:pt x="5031" y="1218"/>
                  </a:lnTo>
                  <a:lnTo>
                    <a:pt x="5035" y="1212"/>
                  </a:lnTo>
                  <a:lnTo>
                    <a:pt x="5037" y="1205"/>
                  </a:lnTo>
                  <a:lnTo>
                    <a:pt x="5040" y="1198"/>
                  </a:lnTo>
                  <a:lnTo>
                    <a:pt x="5044" y="1188"/>
                  </a:lnTo>
                  <a:lnTo>
                    <a:pt x="5046" y="1178"/>
                  </a:lnTo>
                  <a:lnTo>
                    <a:pt x="5049" y="1167"/>
                  </a:lnTo>
                  <a:lnTo>
                    <a:pt x="5051" y="1153"/>
                  </a:lnTo>
                  <a:lnTo>
                    <a:pt x="5055" y="1140"/>
                  </a:lnTo>
                  <a:lnTo>
                    <a:pt x="5058" y="1125"/>
                  </a:lnTo>
                  <a:lnTo>
                    <a:pt x="5060" y="1110"/>
                  </a:lnTo>
                  <a:lnTo>
                    <a:pt x="5064" y="1093"/>
                  </a:lnTo>
                  <a:lnTo>
                    <a:pt x="5066" y="1076"/>
                  </a:lnTo>
                  <a:lnTo>
                    <a:pt x="5069" y="1058"/>
                  </a:lnTo>
                  <a:lnTo>
                    <a:pt x="5073" y="1039"/>
                  </a:lnTo>
                  <a:lnTo>
                    <a:pt x="5075" y="1021"/>
                  </a:lnTo>
                  <a:lnTo>
                    <a:pt x="5078" y="1001"/>
                  </a:lnTo>
                  <a:lnTo>
                    <a:pt x="5080" y="980"/>
                  </a:lnTo>
                  <a:lnTo>
                    <a:pt x="5084" y="959"/>
                  </a:lnTo>
                  <a:lnTo>
                    <a:pt x="5087" y="938"/>
                  </a:lnTo>
                  <a:lnTo>
                    <a:pt x="5089" y="917"/>
                  </a:lnTo>
                  <a:lnTo>
                    <a:pt x="5093" y="895"/>
                  </a:lnTo>
                  <a:lnTo>
                    <a:pt x="5095" y="873"/>
                  </a:lnTo>
                  <a:lnTo>
                    <a:pt x="5098" y="851"/>
                  </a:lnTo>
                  <a:lnTo>
                    <a:pt x="5102" y="829"/>
                  </a:lnTo>
                  <a:lnTo>
                    <a:pt x="5104" y="808"/>
                  </a:lnTo>
                  <a:lnTo>
                    <a:pt x="5107" y="785"/>
                  </a:lnTo>
                  <a:lnTo>
                    <a:pt x="5109" y="764"/>
                  </a:lnTo>
                  <a:lnTo>
                    <a:pt x="5113" y="743"/>
                  </a:lnTo>
                  <a:lnTo>
                    <a:pt x="5115" y="722"/>
                  </a:lnTo>
                  <a:lnTo>
                    <a:pt x="5118" y="702"/>
                  </a:lnTo>
                  <a:lnTo>
                    <a:pt x="5122" y="682"/>
                  </a:lnTo>
                  <a:lnTo>
                    <a:pt x="5124" y="663"/>
                  </a:lnTo>
                  <a:lnTo>
                    <a:pt x="5127" y="644"/>
                  </a:lnTo>
                  <a:lnTo>
                    <a:pt x="5129" y="625"/>
                  </a:lnTo>
                  <a:lnTo>
                    <a:pt x="5133" y="608"/>
                  </a:lnTo>
                  <a:lnTo>
                    <a:pt x="5136" y="592"/>
                  </a:lnTo>
                  <a:lnTo>
                    <a:pt x="5138" y="576"/>
                  </a:lnTo>
                  <a:lnTo>
                    <a:pt x="5142" y="560"/>
                  </a:lnTo>
                  <a:lnTo>
                    <a:pt x="5144" y="546"/>
                  </a:lnTo>
                  <a:lnTo>
                    <a:pt x="5147" y="533"/>
                  </a:lnTo>
                  <a:lnTo>
                    <a:pt x="5151" y="520"/>
                  </a:lnTo>
                  <a:lnTo>
                    <a:pt x="5153" y="509"/>
                  </a:lnTo>
                  <a:lnTo>
                    <a:pt x="5156" y="499"/>
                  </a:lnTo>
                  <a:lnTo>
                    <a:pt x="5158" y="490"/>
                  </a:lnTo>
                  <a:lnTo>
                    <a:pt x="5162" y="482"/>
                  </a:lnTo>
                  <a:lnTo>
                    <a:pt x="5165" y="476"/>
                  </a:lnTo>
                  <a:lnTo>
                    <a:pt x="5167" y="469"/>
                  </a:lnTo>
                  <a:lnTo>
                    <a:pt x="5171" y="465"/>
                  </a:lnTo>
                  <a:lnTo>
                    <a:pt x="5173" y="461"/>
                  </a:lnTo>
                  <a:lnTo>
                    <a:pt x="5176" y="459"/>
                  </a:lnTo>
                  <a:lnTo>
                    <a:pt x="5180" y="458"/>
                  </a:lnTo>
                  <a:lnTo>
                    <a:pt x="5182" y="458"/>
                  </a:lnTo>
                  <a:lnTo>
                    <a:pt x="5185" y="459"/>
                  </a:lnTo>
                  <a:lnTo>
                    <a:pt x="5187" y="461"/>
                  </a:lnTo>
                  <a:lnTo>
                    <a:pt x="5191" y="464"/>
                  </a:lnTo>
                  <a:lnTo>
                    <a:pt x="5194" y="468"/>
                  </a:lnTo>
                  <a:lnTo>
                    <a:pt x="5196" y="474"/>
                  </a:lnTo>
                  <a:lnTo>
                    <a:pt x="5200" y="480"/>
                  </a:lnTo>
                  <a:lnTo>
                    <a:pt x="5202" y="488"/>
                  </a:lnTo>
                  <a:lnTo>
                    <a:pt x="5205" y="496"/>
                  </a:lnTo>
                  <a:lnTo>
                    <a:pt x="5208" y="506"/>
                  </a:lnTo>
                  <a:lnTo>
                    <a:pt x="5211" y="516"/>
                  </a:lnTo>
                  <a:lnTo>
                    <a:pt x="5214" y="527"/>
                  </a:lnTo>
                  <a:lnTo>
                    <a:pt x="5216" y="539"/>
                  </a:lnTo>
                  <a:lnTo>
                    <a:pt x="5220" y="552"/>
                  </a:lnTo>
                  <a:lnTo>
                    <a:pt x="5222" y="566"/>
                  </a:lnTo>
                  <a:lnTo>
                    <a:pt x="5225" y="580"/>
                  </a:lnTo>
                  <a:lnTo>
                    <a:pt x="5229" y="595"/>
                  </a:lnTo>
                  <a:lnTo>
                    <a:pt x="5231" y="611"/>
                  </a:lnTo>
                  <a:lnTo>
                    <a:pt x="5234" y="626"/>
                  </a:lnTo>
                  <a:lnTo>
                    <a:pt x="5237" y="643"/>
                  </a:lnTo>
                  <a:lnTo>
                    <a:pt x="5240" y="661"/>
                  </a:lnTo>
                  <a:lnTo>
                    <a:pt x="5243" y="677"/>
                  </a:lnTo>
                  <a:lnTo>
                    <a:pt x="5245" y="695"/>
                  </a:lnTo>
                  <a:lnTo>
                    <a:pt x="5249" y="713"/>
                  </a:lnTo>
                  <a:lnTo>
                    <a:pt x="5251" y="732"/>
                  </a:lnTo>
                  <a:lnTo>
                    <a:pt x="5254" y="750"/>
                  </a:lnTo>
                  <a:lnTo>
                    <a:pt x="5258" y="769"/>
                  </a:lnTo>
                  <a:lnTo>
                    <a:pt x="5260" y="787"/>
                  </a:lnTo>
                  <a:lnTo>
                    <a:pt x="5263" y="806"/>
                  </a:lnTo>
                  <a:lnTo>
                    <a:pt x="5266" y="823"/>
                  </a:lnTo>
                  <a:lnTo>
                    <a:pt x="5269" y="841"/>
                  </a:lnTo>
                  <a:lnTo>
                    <a:pt x="5272" y="859"/>
                  </a:lnTo>
                  <a:lnTo>
                    <a:pt x="5274" y="877"/>
                  </a:lnTo>
                  <a:lnTo>
                    <a:pt x="5278" y="895"/>
                  </a:lnTo>
                  <a:lnTo>
                    <a:pt x="5280" y="911"/>
                  </a:lnTo>
                  <a:lnTo>
                    <a:pt x="5283" y="928"/>
                  </a:lnTo>
                  <a:lnTo>
                    <a:pt x="5287" y="944"/>
                  </a:lnTo>
                  <a:lnTo>
                    <a:pt x="5289" y="959"/>
                  </a:lnTo>
                  <a:lnTo>
                    <a:pt x="5292" y="975"/>
                  </a:lnTo>
                  <a:lnTo>
                    <a:pt x="5295" y="989"/>
                  </a:lnTo>
                  <a:lnTo>
                    <a:pt x="5298" y="1003"/>
                  </a:lnTo>
                  <a:lnTo>
                    <a:pt x="5300" y="1016"/>
                  </a:lnTo>
                  <a:lnTo>
                    <a:pt x="5303" y="1027"/>
                  </a:lnTo>
                  <a:lnTo>
                    <a:pt x="5307" y="1039"/>
                  </a:lnTo>
                  <a:lnTo>
                    <a:pt x="5309" y="1050"/>
                  </a:lnTo>
                  <a:lnTo>
                    <a:pt x="5312" y="1060"/>
                  </a:lnTo>
                  <a:lnTo>
                    <a:pt x="5315" y="1068"/>
                  </a:lnTo>
                  <a:lnTo>
                    <a:pt x="5318" y="1076"/>
                  </a:lnTo>
                  <a:lnTo>
                    <a:pt x="5321" y="1084"/>
                  </a:lnTo>
                  <a:lnTo>
                    <a:pt x="5324" y="1090"/>
                  </a:lnTo>
                  <a:lnTo>
                    <a:pt x="5327" y="1095"/>
                  </a:lnTo>
                  <a:lnTo>
                    <a:pt x="5329" y="1100"/>
                  </a:lnTo>
                  <a:lnTo>
                    <a:pt x="5332" y="1103"/>
                  </a:lnTo>
                  <a:lnTo>
                    <a:pt x="5336" y="1105"/>
                  </a:lnTo>
                  <a:lnTo>
                    <a:pt x="5338" y="1107"/>
                  </a:lnTo>
                  <a:lnTo>
                    <a:pt x="5341" y="1107"/>
                  </a:lnTo>
                  <a:lnTo>
                    <a:pt x="5344" y="1106"/>
                  </a:lnTo>
                  <a:lnTo>
                    <a:pt x="5347" y="1105"/>
                  </a:lnTo>
                  <a:lnTo>
                    <a:pt x="5350" y="1103"/>
                  </a:lnTo>
                  <a:lnTo>
                    <a:pt x="5353" y="1100"/>
                  </a:lnTo>
                  <a:lnTo>
                    <a:pt x="5356" y="1095"/>
                  </a:lnTo>
                  <a:lnTo>
                    <a:pt x="5358" y="1090"/>
                  </a:lnTo>
                  <a:lnTo>
                    <a:pt x="5361" y="1084"/>
                  </a:lnTo>
                  <a:lnTo>
                    <a:pt x="5365" y="1077"/>
                  </a:lnTo>
                  <a:lnTo>
                    <a:pt x="5367" y="1070"/>
                  </a:lnTo>
                  <a:lnTo>
                    <a:pt x="5370" y="1061"/>
                  </a:lnTo>
                  <a:lnTo>
                    <a:pt x="5373" y="1051"/>
                  </a:lnTo>
                  <a:lnTo>
                    <a:pt x="5376" y="1041"/>
                  </a:lnTo>
                  <a:lnTo>
                    <a:pt x="5379" y="1031"/>
                  </a:lnTo>
                  <a:lnTo>
                    <a:pt x="5382" y="1018"/>
                  </a:lnTo>
                  <a:lnTo>
                    <a:pt x="5385" y="1006"/>
                  </a:lnTo>
                  <a:lnTo>
                    <a:pt x="5387" y="994"/>
                  </a:lnTo>
                  <a:lnTo>
                    <a:pt x="5390" y="980"/>
                  </a:lnTo>
                  <a:lnTo>
                    <a:pt x="5393" y="967"/>
                  </a:lnTo>
                  <a:lnTo>
                    <a:pt x="5396" y="953"/>
                  </a:lnTo>
                  <a:lnTo>
                    <a:pt x="5399" y="938"/>
                  </a:lnTo>
                  <a:lnTo>
                    <a:pt x="5402" y="923"/>
                  </a:lnTo>
                  <a:lnTo>
                    <a:pt x="5405" y="907"/>
                  </a:lnTo>
                  <a:lnTo>
                    <a:pt x="5407" y="891"/>
                  </a:lnTo>
                  <a:lnTo>
                    <a:pt x="5411" y="876"/>
                  </a:lnTo>
                  <a:lnTo>
                    <a:pt x="5414" y="860"/>
                  </a:lnTo>
                  <a:lnTo>
                    <a:pt x="5416" y="843"/>
                  </a:lnTo>
                  <a:lnTo>
                    <a:pt x="5419" y="828"/>
                  </a:lnTo>
                  <a:lnTo>
                    <a:pt x="5422" y="811"/>
                  </a:lnTo>
                  <a:lnTo>
                    <a:pt x="5425" y="796"/>
                  </a:lnTo>
                  <a:lnTo>
                    <a:pt x="5428" y="779"/>
                  </a:lnTo>
                  <a:lnTo>
                    <a:pt x="5431" y="763"/>
                  </a:lnTo>
                  <a:lnTo>
                    <a:pt x="5434" y="748"/>
                  </a:lnTo>
                  <a:lnTo>
                    <a:pt x="5436" y="732"/>
                  </a:lnTo>
                  <a:lnTo>
                    <a:pt x="5440" y="718"/>
                  </a:lnTo>
                  <a:lnTo>
                    <a:pt x="5443" y="702"/>
                  </a:lnTo>
                  <a:lnTo>
                    <a:pt x="5445" y="687"/>
                  </a:lnTo>
                  <a:lnTo>
                    <a:pt x="5449" y="674"/>
                  </a:lnTo>
                  <a:lnTo>
                    <a:pt x="5451" y="660"/>
                  </a:lnTo>
                  <a:lnTo>
                    <a:pt x="5454" y="647"/>
                  </a:lnTo>
                  <a:lnTo>
                    <a:pt x="5457" y="635"/>
                  </a:lnTo>
                  <a:lnTo>
                    <a:pt x="5460" y="623"/>
                  </a:lnTo>
                  <a:lnTo>
                    <a:pt x="5463" y="612"/>
                  </a:lnTo>
                  <a:lnTo>
                    <a:pt x="5465" y="601"/>
                  </a:lnTo>
                  <a:lnTo>
                    <a:pt x="5469" y="591"/>
                  </a:lnTo>
                  <a:lnTo>
                    <a:pt x="5472" y="582"/>
                  </a:lnTo>
                  <a:lnTo>
                    <a:pt x="5474" y="573"/>
                  </a:lnTo>
                  <a:lnTo>
                    <a:pt x="5478" y="566"/>
                  </a:lnTo>
                  <a:lnTo>
                    <a:pt x="5480" y="558"/>
                  </a:lnTo>
                  <a:lnTo>
                    <a:pt x="5483" y="553"/>
                  </a:lnTo>
                  <a:lnTo>
                    <a:pt x="5485" y="547"/>
                  </a:lnTo>
                  <a:lnTo>
                    <a:pt x="5489" y="543"/>
                  </a:lnTo>
                  <a:lnTo>
                    <a:pt x="5492" y="539"/>
                  </a:lnTo>
                  <a:lnTo>
                    <a:pt x="5494" y="537"/>
                  </a:lnTo>
                  <a:lnTo>
                    <a:pt x="5498" y="535"/>
                  </a:lnTo>
                  <a:lnTo>
                    <a:pt x="5500" y="534"/>
                  </a:lnTo>
                  <a:lnTo>
                    <a:pt x="5503" y="534"/>
                  </a:lnTo>
                  <a:lnTo>
                    <a:pt x="5507" y="535"/>
                  </a:lnTo>
                  <a:lnTo>
                    <a:pt x="5509" y="536"/>
                  </a:lnTo>
                  <a:lnTo>
                    <a:pt x="5512" y="539"/>
                  </a:lnTo>
                  <a:lnTo>
                    <a:pt x="5514" y="543"/>
                  </a:lnTo>
                  <a:lnTo>
                    <a:pt x="5518" y="547"/>
                  </a:lnTo>
                  <a:lnTo>
                    <a:pt x="5521" y="552"/>
                  </a:lnTo>
                  <a:lnTo>
                    <a:pt x="5523" y="558"/>
                  </a:lnTo>
                  <a:lnTo>
                    <a:pt x="5527" y="565"/>
                  </a:lnTo>
                  <a:lnTo>
                    <a:pt x="5529" y="572"/>
                  </a:lnTo>
                  <a:lnTo>
                    <a:pt x="5532" y="580"/>
                  </a:lnTo>
                  <a:lnTo>
                    <a:pt x="5536" y="589"/>
                  </a:lnTo>
                  <a:lnTo>
                    <a:pt x="5538" y="599"/>
                  </a:lnTo>
                  <a:lnTo>
                    <a:pt x="5541" y="609"/>
                  </a:lnTo>
                  <a:lnTo>
                    <a:pt x="5543" y="621"/>
                  </a:lnTo>
                  <a:lnTo>
                    <a:pt x="5547" y="632"/>
                  </a:lnTo>
                  <a:lnTo>
                    <a:pt x="5550" y="644"/>
                  </a:lnTo>
                  <a:lnTo>
                    <a:pt x="5552" y="656"/>
                  </a:lnTo>
                  <a:lnTo>
                    <a:pt x="5556" y="670"/>
                  </a:lnTo>
                  <a:lnTo>
                    <a:pt x="5558" y="683"/>
                  </a:lnTo>
                  <a:lnTo>
                    <a:pt x="5561" y="697"/>
                  </a:lnTo>
                  <a:lnTo>
                    <a:pt x="5563" y="711"/>
                  </a:lnTo>
                  <a:lnTo>
                    <a:pt x="5567" y="726"/>
                  </a:lnTo>
                  <a:lnTo>
                    <a:pt x="5570" y="741"/>
                  </a:lnTo>
                  <a:lnTo>
                    <a:pt x="5572" y="755"/>
                  </a:lnTo>
                  <a:lnTo>
                    <a:pt x="5576" y="771"/>
                  </a:lnTo>
                  <a:lnTo>
                    <a:pt x="5578" y="787"/>
                  </a:lnTo>
                  <a:lnTo>
                    <a:pt x="5581" y="802"/>
                  </a:lnTo>
                  <a:lnTo>
                    <a:pt x="5585" y="817"/>
                  </a:lnTo>
                  <a:lnTo>
                    <a:pt x="5587" y="832"/>
                  </a:lnTo>
                  <a:lnTo>
                    <a:pt x="5590" y="848"/>
                  </a:lnTo>
                  <a:lnTo>
                    <a:pt x="5592" y="862"/>
                  </a:lnTo>
                  <a:lnTo>
                    <a:pt x="5596" y="878"/>
                  </a:lnTo>
                  <a:lnTo>
                    <a:pt x="5599" y="892"/>
                  </a:lnTo>
                  <a:lnTo>
                    <a:pt x="5601" y="907"/>
                  </a:lnTo>
                  <a:lnTo>
                    <a:pt x="5605" y="921"/>
                  </a:lnTo>
                  <a:lnTo>
                    <a:pt x="5607" y="935"/>
                  </a:lnTo>
                  <a:lnTo>
                    <a:pt x="5610" y="948"/>
                  </a:lnTo>
                  <a:lnTo>
                    <a:pt x="5614" y="962"/>
                  </a:lnTo>
                  <a:lnTo>
                    <a:pt x="5616" y="974"/>
                  </a:lnTo>
                  <a:lnTo>
                    <a:pt x="5619" y="986"/>
                  </a:lnTo>
                  <a:lnTo>
                    <a:pt x="5621" y="997"/>
                  </a:lnTo>
                  <a:lnTo>
                    <a:pt x="5625" y="1008"/>
                  </a:lnTo>
                  <a:lnTo>
                    <a:pt x="5628" y="1018"/>
                  </a:lnTo>
                  <a:lnTo>
                    <a:pt x="5630" y="1028"/>
                  </a:lnTo>
                  <a:lnTo>
                    <a:pt x="5634" y="1036"/>
                  </a:lnTo>
                  <a:lnTo>
                    <a:pt x="5636" y="1045"/>
                  </a:lnTo>
                  <a:lnTo>
                    <a:pt x="5639" y="1052"/>
                  </a:lnTo>
                  <a:lnTo>
                    <a:pt x="5643" y="1058"/>
                  </a:lnTo>
                  <a:lnTo>
                    <a:pt x="5645" y="1064"/>
                  </a:lnTo>
                  <a:lnTo>
                    <a:pt x="5648" y="1070"/>
                  </a:lnTo>
                  <a:lnTo>
                    <a:pt x="5650" y="1073"/>
                  </a:lnTo>
                  <a:lnTo>
                    <a:pt x="5654" y="1076"/>
                  </a:lnTo>
                  <a:lnTo>
                    <a:pt x="5656" y="1078"/>
                  </a:lnTo>
                  <a:lnTo>
                    <a:pt x="5659" y="1081"/>
                  </a:lnTo>
                  <a:lnTo>
                    <a:pt x="5663" y="1081"/>
                  </a:lnTo>
                  <a:lnTo>
                    <a:pt x="5665" y="1081"/>
                  </a:lnTo>
                  <a:lnTo>
                    <a:pt x="5668" y="1080"/>
                  </a:lnTo>
                  <a:lnTo>
                    <a:pt x="5670" y="1077"/>
                  </a:lnTo>
                  <a:lnTo>
                    <a:pt x="5674" y="1075"/>
                  </a:lnTo>
                  <a:lnTo>
                    <a:pt x="5677" y="1071"/>
                  </a:lnTo>
                  <a:lnTo>
                    <a:pt x="5679" y="1066"/>
                  </a:lnTo>
                  <a:lnTo>
                    <a:pt x="5683" y="1061"/>
                  </a:lnTo>
                  <a:lnTo>
                    <a:pt x="5685" y="1055"/>
                  </a:lnTo>
                  <a:lnTo>
                    <a:pt x="5688" y="1047"/>
                  </a:lnTo>
                  <a:lnTo>
                    <a:pt x="5692" y="1039"/>
                  </a:lnTo>
                  <a:lnTo>
                    <a:pt x="5694" y="1031"/>
                  </a:lnTo>
                  <a:lnTo>
                    <a:pt x="5697" y="1022"/>
                  </a:lnTo>
                  <a:lnTo>
                    <a:pt x="5700" y="1012"/>
                  </a:lnTo>
                  <a:lnTo>
                    <a:pt x="5703" y="1001"/>
                  </a:lnTo>
                  <a:lnTo>
                    <a:pt x="5706" y="989"/>
                  </a:lnTo>
                  <a:lnTo>
                    <a:pt x="5708" y="977"/>
                  </a:lnTo>
                  <a:lnTo>
                    <a:pt x="5712" y="965"/>
                  </a:lnTo>
                  <a:lnTo>
                    <a:pt x="5714" y="951"/>
                  </a:lnTo>
                  <a:lnTo>
                    <a:pt x="5717" y="938"/>
                  </a:lnTo>
                  <a:lnTo>
                    <a:pt x="5721" y="924"/>
                  </a:lnTo>
                  <a:lnTo>
                    <a:pt x="5723" y="909"/>
                  </a:lnTo>
                  <a:lnTo>
                    <a:pt x="5726" y="894"/>
                  </a:lnTo>
                  <a:lnTo>
                    <a:pt x="5729" y="879"/>
                  </a:lnTo>
                  <a:lnTo>
                    <a:pt x="5732" y="863"/>
                  </a:lnTo>
                  <a:lnTo>
                    <a:pt x="5735" y="848"/>
                  </a:lnTo>
                  <a:lnTo>
                    <a:pt x="5737" y="831"/>
                  </a:lnTo>
                  <a:lnTo>
                    <a:pt x="5741" y="816"/>
                  </a:lnTo>
                  <a:lnTo>
                    <a:pt x="5743" y="799"/>
                  </a:lnTo>
                  <a:lnTo>
                    <a:pt x="5746" y="783"/>
                  </a:lnTo>
                  <a:lnTo>
                    <a:pt x="5749" y="767"/>
                  </a:lnTo>
                  <a:lnTo>
                    <a:pt x="5752" y="751"/>
                  </a:lnTo>
                  <a:lnTo>
                    <a:pt x="5755" y="735"/>
                  </a:lnTo>
                  <a:lnTo>
                    <a:pt x="5758" y="719"/>
                  </a:lnTo>
                  <a:lnTo>
                    <a:pt x="5761" y="704"/>
                  </a:lnTo>
                  <a:lnTo>
                    <a:pt x="5763" y="689"/>
                  </a:lnTo>
                  <a:lnTo>
                    <a:pt x="5766" y="673"/>
                  </a:lnTo>
                  <a:lnTo>
                    <a:pt x="5770" y="658"/>
                  </a:lnTo>
                  <a:lnTo>
                    <a:pt x="5772" y="645"/>
                  </a:lnTo>
                  <a:lnTo>
                    <a:pt x="5775" y="631"/>
                  </a:lnTo>
                  <a:lnTo>
                    <a:pt x="5778" y="617"/>
                  </a:lnTo>
                  <a:lnTo>
                    <a:pt x="5781" y="605"/>
                  </a:lnTo>
                  <a:lnTo>
                    <a:pt x="5784" y="593"/>
                  </a:lnTo>
                  <a:lnTo>
                    <a:pt x="5787" y="582"/>
                  </a:lnTo>
                  <a:lnTo>
                    <a:pt x="5790" y="572"/>
                  </a:lnTo>
                  <a:lnTo>
                    <a:pt x="5792" y="562"/>
                  </a:lnTo>
                  <a:lnTo>
                    <a:pt x="5795" y="552"/>
                  </a:lnTo>
                  <a:lnTo>
                    <a:pt x="5799" y="544"/>
                  </a:lnTo>
                  <a:lnTo>
                    <a:pt x="5801" y="536"/>
                  </a:lnTo>
                  <a:lnTo>
                    <a:pt x="5804" y="529"/>
                  </a:lnTo>
                  <a:lnTo>
                    <a:pt x="5807" y="524"/>
                  </a:lnTo>
                  <a:lnTo>
                    <a:pt x="5810" y="518"/>
                  </a:lnTo>
                  <a:lnTo>
                    <a:pt x="5813" y="515"/>
                  </a:lnTo>
                  <a:lnTo>
                    <a:pt x="5816" y="511"/>
                  </a:lnTo>
                  <a:lnTo>
                    <a:pt x="5819" y="509"/>
                  </a:lnTo>
                  <a:lnTo>
                    <a:pt x="5821" y="508"/>
                  </a:lnTo>
                  <a:lnTo>
                    <a:pt x="5824" y="507"/>
                  </a:lnTo>
                  <a:lnTo>
                    <a:pt x="5828" y="508"/>
                  </a:lnTo>
                  <a:lnTo>
                    <a:pt x="5830" y="510"/>
                  </a:lnTo>
                  <a:lnTo>
                    <a:pt x="5833" y="513"/>
                  </a:lnTo>
                  <a:lnTo>
                    <a:pt x="5836" y="516"/>
                  </a:lnTo>
                  <a:lnTo>
                    <a:pt x="5839" y="520"/>
                  </a:lnTo>
                  <a:lnTo>
                    <a:pt x="5841" y="526"/>
                  </a:lnTo>
                  <a:lnTo>
                    <a:pt x="5845" y="533"/>
                  </a:lnTo>
                  <a:lnTo>
                    <a:pt x="5848" y="540"/>
                  </a:lnTo>
                  <a:lnTo>
                    <a:pt x="5850" y="548"/>
                  </a:lnTo>
                  <a:lnTo>
                    <a:pt x="5853" y="557"/>
                  </a:lnTo>
                  <a:lnTo>
                    <a:pt x="5856" y="567"/>
                  </a:lnTo>
                  <a:lnTo>
                    <a:pt x="5859" y="578"/>
                  </a:lnTo>
                  <a:lnTo>
                    <a:pt x="5862" y="591"/>
                  </a:lnTo>
                  <a:lnTo>
                    <a:pt x="5865" y="603"/>
                  </a:lnTo>
                  <a:lnTo>
                    <a:pt x="5868" y="616"/>
                  </a:lnTo>
                  <a:lnTo>
                    <a:pt x="5870" y="630"/>
                  </a:lnTo>
                  <a:lnTo>
                    <a:pt x="5874" y="644"/>
                  </a:lnTo>
                  <a:lnTo>
                    <a:pt x="5877" y="660"/>
                  </a:lnTo>
                  <a:lnTo>
                    <a:pt x="5879" y="675"/>
                  </a:lnTo>
                  <a:lnTo>
                    <a:pt x="5882" y="691"/>
                  </a:lnTo>
                  <a:lnTo>
                    <a:pt x="5885" y="707"/>
                  </a:lnTo>
                  <a:lnTo>
                    <a:pt x="5888" y="724"/>
                  </a:lnTo>
                  <a:lnTo>
                    <a:pt x="5891" y="742"/>
                  </a:lnTo>
                  <a:lnTo>
                    <a:pt x="5894" y="760"/>
                  </a:lnTo>
                  <a:lnTo>
                    <a:pt x="5897" y="778"/>
                  </a:lnTo>
                  <a:lnTo>
                    <a:pt x="5899" y="796"/>
                  </a:lnTo>
                  <a:lnTo>
                    <a:pt x="5903" y="814"/>
                  </a:lnTo>
                  <a:lnTo>
                    <a:pt x="5906" y="832"/>
                  </a:lnTo>
                  <a:lnTo>
                    <a:pt x="5908" y="851"/>
                  </a:lnTo>
                  <a:lnTo>
                    <a:pt x="5911" y="869"/>
                  </a:lnTo>
                  <a:lnTo>
                    <a:pt x="5914" y="888"/>
                  </a:lnTo>
                  <a:lnTo>
                    <a:pt x="5917" y="906"/>
                  </a:lnTo>
                  <a:lnTo>
                    <a:pt x="5920" y="924"/>
                  </a:lnTo>
                  <a:lnTo>
                    <a:pt x="5923" y="941"/>
                  </a:lnTo>
                  <a:lnTo>
                    <a:pt x="5926" y="959"/>
                  </a:lnTo>
                  <a:lnTo>
                    <a:pt x="5928" y="976"/>
                  </a:lnTo>
                  <a:lnTo>
                    <a:pt x="5932" y="993"/>
                  </a:lnTo>
                  <a:lnTo>
                    <a:pt x="5934" y="1008"/>
                  </a:lnTo>
                  <a:lnTo>
                    <a:pt x="5937" y="1024"/>
                  </a:lnTo>
                  <a:lnTo>
                    <a:pt x="5940" y="1038"/>
                  </a:lnTo>
                  <a:lnTo>
                    <a:pt x="5943" y="1053"/>
                  </a:lnTo>
                  <a:lnTo>
                    <a:pt x="5946" y="1066"/>
                  </a:lnTo>
                  <a:lnTo>
                    <a:pt x="5948" y="1078"/>
                  </a:lnTo>
                  <a:lnTo>
                    <a:pt x="5952" y="1091"/>
                  </a:lnTo>
                  <a:lnTo>
                    <a:pt x="5955" y="1102"/>
                  </a:lnTo>
                  <a:lnTo>
                    <a:pt x="5957" y="1112"/>
                  </a:lnTo>
                  <a:lnTo>
                    <a:pt x="5961" y="1121"/>
                  </a:lnTo>
                  <a:lnTo>
                    <a:pt x="5963" y="1129"/>
                  </a:lnTo>
                  <a:lnTo>
                    <a:pt x="5966" y="1136"/>
                  </a:lnTo>
                  <a:lnTo>
                    <a:pt x="5969" y="1142"/>
                  </a:lnTo>
                  <a:lnTo>
                    <a:pt x="5972" y="1148"/>
                  </a:lnTo>
                  <a:lnTo>
                    <a:pt x="5975" y="1152"/>
                  </a:lnTo>
                  <a:lnTo>
                    <a:pt x="5977" y="1154"/>
                  </a:lnTo>
                  <a:lnTo>
                    <a:pt x="5981" y="1156"/>
                  </a:lnTo>
                  <a:lnTo>
                    <a:pt x="5984" y="1158"/>
                  </a:lnTo>
                  <a:lnTo>
                    <a:pt x="5986" y="1156"/>
                  </a:lnTo>
                  <a:lnTo>
                    <a:pt x="5990" y="1155"/>
                  </a:lnTo>
                  <a:lnTo>
                    <a:pt x="5992" y="1153"/>
                  </a:lnTo>
                  <a:lnTo>
                    <a:pt x="5995" y="1149"/>
                  </a:lnTo>
                  <a:lnTo>
                    <a:pt x="5998" y="1144"/>
                  </a:lnTo>
                  <a:lnTo>
                    <a:pt x="6001" y="1138"/>
                  </a:lnTo>
                  <a:lnTo>
                    <a:pt x="6004" y="1131"/>
                  </a:lnTo>
                  <a:lnTo>
                    <a:pt x="6006" y="1122"/>
                  </a:lnTo>
                  <a:lnTo>
                    <a:pt x="6010" y="1113"/>
                  </a:lnTo>
                  <a:lnTo>
                    <a:pt x="6012" y="1103"/>
                  </a:lnTo>
                  <a:lnTo>
                    <a:pt x="6015" y="1091"/>
                  </a:lnTo>
                  <a:lnTo>
                    <a:pt x="6019" y="1078"/>
                  </a:lnTo>
                  <a:lnTo>
                    <a:pt x="6021" y="1065"/>
                  </a:lnTo>
                  <a:lnTo>
                    <a:pt x="6024" y="1051"/>
                  </a:lnTo>
                  <a:lnTo>
                    <a:pt x="6026" y="1035"/>
                  </a:lnTo>
                  <a:lnTo>
                    <a:pt x="6030" y="1019"/>
                  </a:lnTo>
                  <a:lnTo>
                    <a:pt x="6033" y="1003"/>
                  </a:lnTo>
                  <a:lnTo>
                    <a:pt x="6035" y="985"/>
                  </a:lnTo>
                  <a:lnTo>
                    <a:pt x="6039" y="966"/>
                  </a:lnTo>
                  <a:lnTo>
                    <a:pt x="6041" y="947"/>
                  </a:lnTo>
                  <a:lnTo>
                    <a:pt x="6044" y="928"/>
                  </a:lnTo>
                  <a:lnTo>
                    <a:pt x="6048" y="908"/>
                  </a:lnTo>
                  <a:lnTo>
                    <a:pt x="6050" y="887"/>
                  </a:lnTo>
                  <a:lnTo>
                    <a:pt x="6053" y="867"/>
                  </a:lnTo>
                  <a:lnTo>
                    <a:pt x="6055" y="846"/>
                  </a:lnTo>
                  <a:lnTo>
                    <a:pt x="6059" y="823"/>
                  </a:lnTo>
                  <a:lnTo>
                    <a:pt x="6062" y="802"/>
                  </a:lnTo>
                  <a:lnTo>
                    <a:pt x="6064" y="780"/>
                  </a:lnTo>
                  <a:lnTo>
                    <a:pt x="6068" y="759"/>
                  </a:lnTo>
                  <a:lnTo>
                    <a:pt x="6070" y="736"/>
                  </a:lnTo>
                  <a:lnTo>
                    <a:pt x="6073" y="714"/>
                  </a:lnTo>
                  <a:lnTo>
                    <a:pt x="6077" y="693"/>
                  </a:lnTo>
                  <a:lnTo>
                    <a:pt x="6079" y="672"/>
                  </a:lnTo>
                  <a:lnTo>
                    <a:pt x="6082" y="651"/>
                  </a:lnTo>
                  <a:lnTo>
                    <a:pt x="6084" y="630"/>
                  </a:lnTo>
                  <a:lnTo>
                    <a:pt x="6088" y="609"/>
                  </a:lnTo>
                  <a:lnTo>
                    <a:pt x="6091" y="589"/>
                  </a:lnTo>
                  <a:lnTo>
                    <a:pt x="6093" y="570"/>
                  </a:lnTo>
                  <a:lnTo>
                    <a:pt x="6097" y="552"/>
                  </a:lnTo>
                  <a:lnTo>
                    <a:pt x="6099" y="534"/>
                  </a:lnTo>
                  <a:lnTo>
                    <a:pt x="6102" y="517"/>
                  </a:lnTo>
                  <a:lnTo>
                    <a:pt x="6104" y="501"/>
                  </a:lnTo>
                  <a:lnTo>
                    <a:pt x="6108" y="486"/>
                  </a:lnTo>
                  <a:lnTo>
                    <a:pt x="6111" y="471"/>
                  </a:lnTo>
                  <a:lnTo>
                    <a:pt x="6113" y="458"/>
                  </a:lnTo>
                  <a:lnTo>
                    <a:pt x="6117" y="446"/>
                  </a:lnTo>
                  <a:lnTo>
                    <a:pt x="6119" y="435"/>
                  </a:lnTo>
                  <a:lnTo>
                    <a:pt x="6122" y="425"/>
                  </a:lnTo>
                  <a:lnTo>
                    <a:pt x="6126" y="416"/>
                  </a:lnTo>
                  <a:lnTo>
                    <a:pt x="6128" y="408"/>
                  </a:lnTo>
                  <a:lnTo>
                    <a:pt x="6131" y="401"/>
                  </a:lnTo>
                  <a:lnTo>
                    <a:pt x="6133" y="397"/>
                  </a:lnTo>
                  <a:lnTo>
                    <a:pt x="6137" y="392"/>
                  </a:lnTo>
                  <a:lnTo>
                    <a:pt x="6140" y="390"/>
                  </a:lnTo>
                  <a:lnTo>
                    <a:pt x="6142" y="389"/>
                  </a:lnTo>
                  <a:lnTo>
                    <a:pt x="6146" y="389"/>
                  </a:lnTo>
                  <a:lnTo>
                    <a:pt x="6148" y="391"/>
                  </a:lnTo>
                  <a:lnTo>
                    <a:pt x="6151" y="393"/>
                  </a:lnTo>
                  <a:lnTo>
                    <a:pt x="6155" y="398"/>
                  </a:lnTo>
                  <a:lnTo>
                    <a:pt x="6157" y="403"/>
                  </a:lnTo>
                  <a:lnTo>
                    <a:pt x="6160" y="411"/>
                  </a:lnTo>
                  <a:lnTo>
                    <a:pt x="6162" y="419"/>
                  </a:lnTo>
                  <a:lnTo>
                    <a:pt x="6166" y="429"/>
                  </a:lnTo>
                  <a:lnTo>
                    <a:pt x="6169" y="440"/>
                  </a:lnTo>
                  <a:lnTo>
                    <a:pt x="6171" y="452"/>
                  </a:lnTo>
                  <a:lnTo>
                    <a:pt x="6175" y="466"/>
                  </a:lnTo>
                  <a:lnTo>
                    <a:pt x="6177" y="481"/>
                  </a:lnTo>
                  <a:lnTo>
                    <a:pt x="6180" y="497"/>
                  </a:lnTo>
                  <a:lnTo>
                    <a:pt x="6184" y="514"/>
                  </a:lnTo>
                  <a:lnTo>
                    <a:pt x="6186" y="531"/>
                  </a:lnTo>
                  <a:lnTo>
                    <a:pt x="6189" y="552"/>
                  </a:lnTo>
                  <a:lnTo>
                    <a:pt x="6191" y="572"/>
                  </a:lnTo>
                  <a:lnTo>
                    <a:pt x="6195" y="593"/>
                  </a:lnTo>
                  <a:lnTo>
                    <a:pt x="6197" y="614"/>
                  </a:lnTo>
                  <a:lnTo>
                    <a:pt x="6200" y="636"/>
                  </a:lnTo>
                  <a:lnTo>
                    <a:pt x="6204" y="660"/>
                  </a:lnTo>
                  <a:lnTo>
                    <a:pt x="6206" y="684"/>
                  </a:lnTo>
                  <a:lnTo>
                    <a:pt x="6209" y="709"/>
                  </a:lnTo>
                  <a:lnTo>
                    <a:pt x="6212" y="733"/>
                  </a:lnTo>
                  <a:lnTo>
                    <a:pt x="6215" y="759"/>
                  </a:lnTo>
                  <a:lnTo>
                    <a:pt x="6218" y="784"/>
                  </a:lnTo>
                  <a:lnTo>
                    <a:pt x="6220" y="811"/>
                  </a:lnTo>
                  <a:lnTo>
                    <a:pt x="6224" y="837"/>
                  </a:lnTo>
                  <a:lnTo>
                    <a:pt x="6226" y="863"/>
                  </a:lnTo>
                  <a:lnTo>
                    <a:pt x="6229" y="889"/>
                  </a:lnTo>
                  <a:lnTo>
                    <a:pt x="6233" y="916"/>
                  </a:lnTo>
                  <a:lnTo>
                    <a:pt x="6235" y="941"/>
                  </a:lnTo>
                  <a:lnTo>
                    <a:pt x="6238" y="967"/>
                  </a:lnTo>
                  <a:lnTo>
                    <a:pt x="6241" y="992"/>
                  </a:lnTo>
                  <a:lnTo>
                    <a:pt x="6244" y="1017"/>
                  </a:lnTo>
                  <a:lnTo>
                    <a:pt x="6247" y="1042"/>
                  </a:lnTo>
                  <a:lnTo>
                    <a:pt x="6249" y="1065"/>
                  </a:lnTo>
                  <a:lnTo>
                    <a:pt x="6253" y="1087"/>
                  </a:lnTo>
                  <a:lnTo>
                    <a:pt x="6255" y="1110"/>
                  </a:lnTo>
                  <a:lnTo>
                    <a:pt x="6258" y="1132"/>
                  </a:lnTo>
                  <a:lnTo>
                    <a:pt x="6262" y="1152"/>
                  </a:lnTo>
                  <a:lnTo>
                    <a:pt x="6264" y="1171"/>
                  </a:lnTo>
                  <a:lnTo>
                    <a:pt x="6267" y="1190"/>
                  </a:lnTo>
                  <a:lnTo>
                    <a:pt x="6270" y="1207"/>
                  </a:lnTo>
                  <a:lnTo>
                    <a:pt x="6273" y="1223"/>
                  </a:lnTo>
                  <a:lnTo>
                    <a:pt x="6276" y="1238"/>
                  </a:lnTo>
                  <a:lnTo>
                    <a:pt x="6278" y="1251"/>
                  </a:lnTo>
                  <a:lnTo>
                    <a:pt x="6282" y="1263"/>
                  </a:lnTo>
                  <a:lnTo>
                    <a:pt x="6284" y="1275"/>
                  </a:lnTo>
                  <a:lnTo>
                    <a:pt x="6287" y="1283"/>
                  </a:lnTo>
                  <a:lnTo>
                    <a:pt x="6290" y="1291"/>
                  </a:lnTo>
                  <a:lnTo>
                    <a:pt x="6293" y="1297"/>
                  </a:lnTo>
                  <a:lnTo>
                    <a:pt x="6296" y="1301"/>
                  </a:lnTo>
                  <a:lnTo>
                    <a:pt x="6299" y="1305"/>
                  </a:lnTo>
                  <a:lnTo>
                    <a:pt x="6302" y="1306"/>
                  </a:lnTo>
                  <a:lnTo>
                    <a:pt x="6304" y="1306"/>
                  </a:lnTo>
                  <a:lnTo>
                    <a:pt x="6307" y="1305"/>
                  </a:lnTo>
                  <a:lnTo>
                    <a:pt x="6311" y="1300"/>
                  </a:lnTo>
                  <a:lnTo>
                    <a:pt x="6313" y="1296"/>
                  </a:lnTo>
                  <a:lnTo>
                    <a:pt x="6316" y="1289"/>
                  </a:lnTo>
                  <a:lnTo>
                    <a:pt x="6319" y="1280"/>
                  </a:lnTo>
                  <a:lnTo>
                    <a:pt x="6322" y="1270"/>
                  </a:lnTo>
                  <a:lnTo>
                    <a:pt x="6325" y="1259"/>
                  </a:lnTo>
                  <a:lnTo>
                    <a:pt x="6328" y="1246"/>
                  </a:lnTo>
                  <a:lnTo>
                    <a:pt x="6331" y="1231"/>
                  </a:lnTo>
                  <a:lnTo>
                    <a:pt x="6333" y="1216"/>
                  </a:lnTo>
                  <a:lnTo>
                    <a:pt x="6336" y="1198"/>
                  </a:lnTo>
                  <a:lnTo>
                    <a:pt x="6340" y="1179"/>
                  </a:lnTo>
                  <a:lnTo>
                    <a:pt x="6342" y="1159"/>
                  </a:lnTo>
                  <a:lnTo>
                    <a:pt x="6345" y="1138"/>
                  </a:lnTo>
                  <a:lnTo>
                    <a:pt x="6348" y="1114"/>
                  </a:lnTo>
                  <a:lnTo>
                    <a:pt x="6351" y="1091"/>
                  </a:lnTo>
                  <a:lnTo>
                    <a:pt x="6354" y="1066"/>
                  </a:lnTo>
                  <a:lnTo>
                    <a:pt x="6357" y="1039"/>
                  </a:lnTo>
                  <a:lnTo>
                    <a:pt x="6360" y="1013"/>
                  </a:lnTo>
                  <a:lnTo>
                    <a:pt x="6362" y="986"/>
                  </a:lnTo>
                  <a:lnTo>
                    <a:pt x="6365" y="957"/>
                  </a:lnTo>
                  <a:lnTo>
                    <a:pt x="6368" y="928"/>
                  </a:lnTo>
                  <a:lnTo>
                    <a:pt x="6371" y="899"/>
                  </a:lnTo>
                  <a:lnTo>
                    <a:pt x="6374" y="869"/>
                  </a:lnTo>
                  <a:lnTo>
                    <a:pt x="6377" y="838"/>
                  </a:lnTo>
                  <a:lnTo>
                    <a:pt x="6380" y="808"/>
                  </a:lnTo>
                  <a:lnTo>
                    <a:pt x="6380" y="80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726920" y="1568520"/>
              <a:ext cx="5838480" cy="493560"/>
            </a:xfrm>
            <a:custGeom>
              <a:avLst/>
              <a:gdLst/>
              <a:ahLst/>
              <a:rect l="l" t="t" r="r" b="b"/>
              <a:pathLst>
                <a:path w="6380" h="540">
                  <a:moveTo>
                    <a:pt x="0" y="270"/>
                  </a:moveTo>
                  <a:lnTo>
                    <a:pt x="3" y="268"/>
                  </a:lnTo>
                  <a:lnTo>
                    <a:pt x="6" y="267"/>
                  </a:lnTo>
                  <a:lnTo>
                    <a:pt x="9" y="265"/>
                  </a:lnTo>
                  <a:lnTo>
                    <a:pt x="11" y="264"/>
                  </a:lnTo>
                  <a:lnTo>
                    <a:pt x="15" y="263"/>
                  </a:lnTo>
                  <a:lnTo>
                    <a:pt x="18" y="260"/>
                  </a:lnTo>
                  <a:lnTo>
                    <a:pt x="20" y="259"/>
                  </a:lnTo>
                  <a:lnTo>
                    <a:pt x="24" y="257"/>
                  </a:lnTo>
                  <a:lnTo>
                    <a:pt x="26" y="256"/>
                  </a:lnTo>
                  <a:lnTo>
                    <a:pt x="29" y="255"/>
                  </a:lnTo>
                  <a:lnTo>
                    <a:pt x="32" y="253"/>
                  </a:lnTo>
                  <a:lnTo>
                    <a:pt x="35" y="251"/>
                  </a:lnTo>
                  <a:lnTo>
                    <a:pt x="38" y="250"/>
                  </a:lnTo>
                  <a:lnTo>
                    <a:pt x="40" y="248"/>
                  </a:lnTo>
                  <a:lnTo>
                    <a:pt x="44" y="247"/>
                  </a:lnTo>
                  <a:lnTo>
                    <a:pt x="47" y="245"/>
                  </a:lnTo>
                  <a:lnTo>
                    <a:pt x="49" y="244"/>
                  </a:lnTo>
                  <a:lnTo>
                    <a:pt x="53" y="243"/>
                  </a:lnTo>
                  <a:lnTo>
                    <a:pt x="55" y="240"/>
                  </a:lnTo>
                  <a:lnTo>
                    <a:pt x="58" y="239"/>
                  </a:lnTo>
                  <a:lnTo>
                    <a:pt x="61" y="238"/>
                  </a:lnTo>
                  <a:lnTo>
                    <a:pt x="64" y="236"/>
                  </a:lnTo>
                  <a:lnTo>
                    <a:pt x="67" y="235"/>
                  </a:lnTo>
                  <a:lnTo>
                    <a:pt x="69" y="233"/>
                  </a:lnTo>
                  <a:lnTo>
                    <a:pt x="73" y="231"/>
                  </a:lnTo>
                  <a:lnTo>
                    <a:pt x="76" y="230"/>
                  </a:lnTo>
                  <a:lnTo>
                    <a:pt x="78" y="228"/>
                  </a:lnTo>
                  <a:lnTo>
                    <a:pt x="82" y="227"/>
                  </a:lnTo>
                  <a:lnTo>
                    <a:pt x="84" y="226"/>
                  </a:lnTo>
                  <a:lnTo>
                    <a:pt x="87" y="224"/>
                  </a:lnTo>
                  <a:lnTo>
                    <a:pt x="90" y="223"/>
                  </a:lnTo>
                  <a:lnTo>
                    <a:pt x="93" y="221"/>
                  </a:lnTo>
                  <a:lnTo>
                    <a:pt x="96" y="219"/>
                  </a:lnTo>
                  <a:lnTo>
                    <a:pt x="98" y="218"/>
                  </a:lnTo>
                  <a:lnTo>
                    <a:pt x="102" y="216"/>
                  </a:lnTo>
                  <a:lnTo>
                    <a:pt x="104" y="215"/>
                  </a:lnTo>
                  <a:lnTo>
                    <a:pt x="107" y="214"/>
                  </a:lnTo>
                  <a:lnTo>
                    <a:pt x="111" y="211"/>
                  </a:lnTo>
                  <a:lnTo>
                    <a:pt x="113" y="210"/>
                  </a:lnTo>
                  <a:lnTo>
                    <a:pt x="116" y="209"/>
                  </a:lnTo>
                  <a:lnTo>
                    <a:pt x="118" y="207"/>
                  </a:lnTo>
                  <a:lnTo>
                    <a:pt x="122" y="206"/>
                  </a:lnTo>
                  <a:lnTo>
                    <a:pt x="125" y="205"/>
                  </a:lnTo>
                  <a:lnTo>
                    <a:pt x="127" y="202"/>
                  </a:lnTo>
                  <a:lnTo>
                    <a:pt x="131" y="201"/>
                  </a:lnTo>
                  <a:lnTo>
                    <a:pt x="133" y="200"/>
                  </a:lnTo>
                  <a:lnTo>
                    <a:pt x="136" y="198"/>
                  </a:lnTo>
                  <a:lnTo>
                    <a:pt x="140" y="197"/>
                  </a:lnTo>
                  <a:lnTo>
                    <a:pt x="142" y="196"/>
                  </a:lnTo>
                  <a:lnTo>
                    <a:pt x="145" y="194"/>
                  </a:lnTo>
                  <a:lnTo>
                    <a:pt x="147" y="192"/>
                  </a:lnTo>
                  <a:lnTo>
                    <a:pt x="151" y="191"/>
                  </a:lnTo>
                  <a:lnTo>
                    <a:pt x="154" y="189"/>
                  </a:lnTo>
                  <a:lnTo>
                    <a:pt x="156" y="188"/>
                  </a:lnTo>
                  <a:lnTo>
                    <a:pt x="160" y="187"/>
                  </a:lnTo>
                  <a:lnTo>
                    <a:pt x="162" y="185"/>
                  </a:lnTo>
                  <a:lnTo>
                    <a:pt x="165" y="184"/>
                  </a:lnTo>
                  <a:lnTo>
                    <a:pt x="169" y="182"/>
                  </a:lnTo>
                  <a:lnTo>
                    <a:pt x="171" y="180"/>
                  </a:lnTo>
                  <a:lnTo>
                    <a:pt x="174" y="179"/>
                  </a:lnTo>
                  <a:lnTo>
                    <a:pt x="176" y="178"/>
                  </a:lnTo>
                  <a:lnTo>
                    <a:pt x="180" y="177"/>
                  </a:lnTo>
                  <a:lnTo>
                    <a:pt x="183" y="175"/>
                  </a:lnTo>
                  <a:lnTo>
                    <a:pt x="185" y="173"/>
                  </a:lnTo>
                  <a:lnTo>
                    <a:pt x="189" y="172"/>
                  </a:lnTo>
                  <a:lnTo>
                    <a:pt x="191" y="170"/>
                  </a:lnTo>
                  <a:lnTo>
                    <a:pt x="194" y="169"/>
                  </a:lnTo>
                  <a:lnTo>
                    <a:pt x="196" y="168"/>
                  </a:lnTo>
                  <a:lnTo>
                    <a:pt x="200" y="167"/>
                  </a:lnTo>
                  <a:lnTo>
                    <a:pt x="203" y="165"/>
                  </a:lnTo>
                  <a:lnTo>
                    <a:pt x="205" y="163"/>
                  </a:lnTo>
                  <a:lnTo>
                    <a:pt x="209" y="162"/>
                  </a:lnTo>
                  <a:lnTo>
                    <a:pt x="211" y="160"/>
                  </a:lnTo>
                  <a:lnTo>
                    <a:pt x="214" y="159"/>
                  </a:lnTo>
                  <a:lnTo>
                    <a:pt x="218" y="158"/>
                  </a:lnTo>
                  <a:lnTo>
                    <a:pt x="220" y="157"/>
                  </a:lnTo>
                  <a:lnTo>
                    <a:pt x="223" y="155"/>
                  </a:lnTo>
                  <a:lnTo>
                    <a:pt x="225" y="153"/>
                  </a:lnTo>
                  <a:lnTo>
                    <a:pt x="229" y="152"/>
                  </a:lnTo>
                  <a:lnTo>
                    <a:pt x="232" y="151"/>
                  </a:lnTo>
                  <a:lnTo>
                    <a:pt x="234" y="149"/>
                  </a:lnTo>
                  <a:lnTo>
                    <a:pt x="238" y="148"/>
                  </a:lnTo>
                  <a:lnTo>
                    <a:pt x="240" y="147"/>
                  </a:lnTo>
                  <a:lnTo>
                    <a:pt x="243" y="146"/>
                  </a:lnTo>
                  <a:lnTo>
                    <a:pt x="247" y="145"/>
                  </a:lnTo>
                  <a:lnTo>
                    <a:pt x="249" y="142"/>
                  </a:lnTo>
                  <a:lnTo>
                    <a:pt x="252" y="141"/>
                  </a:lnTo>
                  <a:lnTo>
                    <a:pt x="254" y="140"/>
                  </a:lnTo>
                  <a:lnTo>
                    <a:pt x="258" y="139"/>
                  </a:lnTo>
                  <a:lnTo>
                    <a:pt x="261" y="137"/>
                  </a:lnTo>
                  <a:lnTo>
                    <a:pt x="263" y="136"/>
                  </a:lnTo>
                  <a:lnTo>
                    <a:pt x="267" y="134"/>
                  </a:lnTo>
                  <a:lnTo>
                    <a:pt x="269" y="133"/>
                  </a:lnTo>
                  <a:lnTo>
                    <a:pt x="272" y="132"/>
                  </a:lnTo>
                  <a:lnTo>
                    <a:pt x="276" y="131"/>
                  </a:lnTo>
                  <a:lnTo>
                    <a:pt x="278" y="129"/>
                  </a:lnTo>
                  <a:lnTo>
                    <a:pt x="281" y="128"/>
                  </a:lnTo>
                  <a:lnTo>
                    <a:pt x="283" y="127"/>
                  </a:lnTo>
                  <a:lnTo>
                    <a:pt x="287" y="126"/>
                  </a:lnTo>
                  <a:lnTo>
                    <a:pt x="289" y="124"/>
                  </a:lnTo>
                  <a:lnTo>
                    <a:pt x="292" y="122"/>
                  </a:lnTo>
                  <a:lnTo>
                    <a:pt x="296" y="121"/>
                  </a:lnTo>
                  <a:lnTo>
                    <a:pt x="298" y="120"/>
                  </a:lnTo>
                  <a:lnTo>
                    <a:pt x="301" y="119"/>
                  </a:lnTo>
                  <a:lnTo>
                    <a:pt x="304" y="118"/>
                  </a:lnTo>
                  <a:lnTo>
                    <a:pt x="307" y="117"/>
                  </a:lnTo>
                  <a:lnTo>
                    <a:pt x="310" y="116"/>
                  </a:lnTo>
                  <a:lnTo>
                    <a:pt x="312" y="113"/>
                  </a:lnTo>
                  <a:lnTo>
                    <a:pt x="316" y="112"/>
                  </a:lnTo>
                  <a:lnTo>
                    <a:pt x="318" y="111"/>
                  </a:lnTo>
                  <a:lnTo>
                    <a:pt x="321" y="110"/>
                  </a:lnTo>
                  <a:lnTo>
                    <a:pt x="325" y="109"/>
                  </a:lnTo>
                  <a:lnTo>
                    <a:pt x="327" y="108"/>
                  </a:lnTo>
                  <a:lnTo>
                    <a:pt x="330" y="107"/>
                  </a:lnTo>
                  <a:lnTo>
                    <a:pt x="333" y="106"/>
                  </a:lnTo>
                  <a:lnTo>
                    <a:pt x="336" y="104"/>
                  </a:lnTo>
                  <a:lnTo>
                    <a:pt x="339" y="103"/>
                  </a:lnTo>
                  <a:lnTo>
                    <a:pt x="341" y="101"/>
                  </a:lnTo>
                  <a:lnTo>
                    <a:pt x="345" y="100"/>
                  </a:lnTo>
                  <a:lnTo>
                    <a:pt x="347" y="99"/>
                  </a:lnTo>
                  <a:lnTo>
                    <a:pt x="350" y="98"/>
                  </a:lnTo>
                  <a:lnTo>
                    <a:pt x="354" y="97"/>
                  </a:lnTo>
                  <a:lnTo>
                    <a:pt x="356" y="96"/>
                  </a:lnTo>
                  <a:lnTo>
                    <a:pt x="359" y="94"/>
                  </a:lnTo>
                  <a:lnTo>
                    <a:pt x="362" y="93"/>
                  </a:lnTo>
                  <a:lnTo>
                    <a:pt x="365" y="92"/>
                  </a:lnTo>
                  <a:lnTo>
                    <a:pt x="368" y="91"/>
                  </a:lnTo>
                  <a:lnTo>
                    <a:pt x="370" y="90"/>
                  </a:lnTo>
                  <a:lnTo>
                    <a:pt x="374" y="89"/>
                  </a:lnTo>
                  <a:lnTo>
                    <a:pt x="376" y="88"/>
                  </a:lnTo>
                  <a:lnTo>
                    <a:pt x="379" y="87"/>
                  </a:lnTo>
                  <a:lnTo>
                    <a:pt x="382" y="85"/>
                  </a:lnTo>
                  <a:lnTo>
                    <a:pt x="385" y="84"/>
                  </a:lnTo>
                  <a:lnTo>
                    <a:pt x="388" y="83"/>
                  </a:lnTo>
                  <a:lnTo>
                    <a:pt x="391" y="82"/>
                  </a:lnTo>
                  <a:lnTo>
                    <a:pt x="394" y="81"/>
                  </a:lnTo>
                  <a:lnTo>
                    <a:pt x="396" y="80"/>
                  </a:lnTo>
                  <a:lnTo>
                    <a:pt x="399" y="79"/>
                  </a:lnTo>
                  <a:lnTo>
                    <a:pt x="403" y="78"/>
                  </a:lnTo>
                  <a:lnTo>
                    <a:pt x="405" y="77"/>
                  </a:lnTo>
                  <a:lnTo>
                    <a:pt x="408" y="75"/>
                  </a:lnTo>
                  <a:lnTo>
                    <a:pt x="411" y="74"/>
                  </a:lnTo>
                  <a:lnTo>
                    <a:pt x="414" y="73"/>
                  </a:lnTo>
                  <a:lnTo>
                    <a:pt x="417" y="72"/>
                  </a:lnTo>
                  <a:lnTo>
                    <a:pt x="420" y="71"/>
                  </a:lnTo>
                  <a:lnTo>
                    <a:pt x="423" y="70"/>
                  </a:lnTo>
                  <a:lnTo>
                    <a:pt x="425" y="69"/>
                  </a:lnTo>
                  <a:lnTo>
                    <a:pt x="428" y="68"/>
                  </a:lnTo>
                  <a:lnTo>
                    <a:pt x="432" y="67"/>
                  </a:lnTo>
                  <a:lnTo>
                    <a:pt x="434" y="67"/>
                  </a:lnTo>
                  <a:lnTo>
                    <a:pt x="437" y="65"/>
                  </a:lnTo>
                  <a:lnTo>
                    <a:pt x="440" y="64"/>
                  </a:lnTo>
                  <a:lnTo>
                    <a:pt x="443" y="63"/>
                  </a:lnTo>
                  <a:lnTo>
                    <a:pt x="446" y="62"/>
                  </a:lnTo>
                  <a:lnTo>
                    <a:pt x="449" y="61"/>
                  </a:lnTo>
                  <a:lnTo>
                    <a:pt x="452" y="60"/>
                  </a:lnTo>
                  <a:lnTo>
                    <a:pt x="454" y="59"/>
                  </a:lnTo>
                  <a:lnTo>
                    <a:pt x="458" y="58"/>
                  </a:lnTo>
                  <a:lnTo>
                    <a:pt x="460" y="58"/>
                  </a:lnTo>
                  <a:lnTo>
                    <a:pt x="463" y="57"/>
                  </a:lnTo>
                  <a:lnTo>
                    <a:pt x="466" y="55"/>
                  </a:lnTo>
                  <a:lnTo>
                    <a:pt x="469" y="54"/>
                  </a:lnTo>
                  <a:lnTo>
                    <a:pt x="472" y="53"/>
                  </a:lnTo>
                  <a:lnTo>
                    <a:pt x="474" y="52"/>
                  </a:lnTo>
                  <a:lnTo>
                    <a:pt x="478" y="52"/>
                  </a:lnTo>
                  <a:lnTo>
                    <a:pt x="481" y="51"/>
                  </a:lnTo>
                  <a:lnTo>
                    <a:pt x="483" y="50"/>
                  </a:lnTo>
                  <a:lnTo>
                    <a:pt x="487" y="49"/>
                  </a:lnTo>
                  <a:lnTo>
                    <a:pt x="489" y="48"/>
                  </a:lnTo>
                  <a:lnTo>
                    <a:pt x="492" y="48"/>
                  </a:lnTo>
                  <a:lnTo>
                    <a:pt x="495" y="46"/>
                  </a:lnTo>
                  <a:lnTo>
                    <a:pt x="498" y="45"/>
                  </a:lnTo>
                  <a:lnTo>
                    <a:pt x="501" y="44"/>
                  </a:lnTo>
                  <a:lnTo>
                    <a:pt x="503" y="44"/>
                  </a:lnTo>
                  <a:lnTo>
                    <a:pt x="507" y="43"/>
                  </a:lnTo>
                  <a:lnTo>
                    <a:pt x="510" y="42"/>
                  </a:lnTo>
                  <a:lnTo>
                    <a:pt x="512" y="41"/>
                  </a:lnTo>
                  <a:lnTo>
                    <a:pt x="516" y="41"/>
                  </a:lnTo>
                  <a:lnTo>
                    <a:pt x="518" y="40"/>
                  </a:lnTo>
                  <a:lnTo>
                    <a:pt x="521" y="39"/>
                  </a:lnTo>
                  <a:lnTo>
                    <a:pt x="524" y="38"/>
                  </a:lnTo>
                  <a:lnTo>
                    <a:pt x="527" y="38"/>
                  </a:lnTo>
                  <a:lnTo>
                    <a:pt x="530" y="36"/>
                  </a:lnTo>
                  <a:lnTo>
                    <a:pt x="532" y="35"/>
                  </a:lnTo>
                  <a:lnTo>
                    <a:pt x="536" y="35"/>
                  </a:lnTo>
                  <a:lnTo>
                    <a:pt x="539" y="34"/>
                  </a:lnTo>
                  <a:lnTo>
                    <a:pt x="541" y="33"/>
                  </a:lnTo>
                  <a:lnTo>
                    <a:pt x="545" y="33"/>
                  </a:lnTo>
                  <a:lnTo>
                    <a:pt x="547" y="32"/>
                  </a:lnTo>
                  <a:lnTo>
                    <a:pt x="550" y="31"/>
                  </a:lnTo>
                  <a:lnTo>
                    <a:pt x="552" y="31"/>
                  </a:lnTo>
                  <a:lnTo>
                    <a:pt x="556" y="30"/>
                  </a:lnTo>
                  <a:lnTo>
                    <a:pt x="559" y="29"/>
                  </a:lnTo>
                  <a:lnTo>
                    <a:pt x="561" y="29"/>
                  </a:lnTo>
                  <a:lnTo>
                    <a:pt x="565" y="28"/>
                  </a:lnTo>
                  <a:lnTo>
                    <a:pt x="567" y="28"/>
                  </a:lnTo>
                  <a:lnTo>
                    <a:pt x="570" y="26"/>
                  </a:lnTo>
                  <a:lnTo>
                    <a:pt x="574" y="25"/>
                  </a:lnTo>
                  <a:lnTo>
                    <a:pt x="576" y="25"/>
                  </a:lnTo>
                  <a:lnTo>
                    <a:pt x="579" y="24"/>
                  </a:lnTo>
                  <a:lnTo>
                    <a:pt x="581" y="24"/>
                  </a:lnTo>
                  <a:lnTo>
                    <a:pt x="585" y="23"/>
                  </a:lnTo>
                  <a:lnTo>
                    <a:pt x="588" y="22"/>
                  </a:lnTo>
                  <a:lnTo>
                    <a:pt x="590" y="22"/>
                  </a:lnTo>
                  <a:lnTo>
                    <a:pt x="594" y="21"/>
                  </a:lnTo>
                  <a:lnTo>
                    <a:pt x="596" y="21"/>
                  </a:lnTo>
                  <a:lnTo>
                    <a:pt x="599" y="20"/>
                  </a:lnTo>
                  <a:lnTo>
                    <a:pt x="603" y="20"/>
                  </a:lnTo>
                  <a:lnTo>
                    <a:pt x="605" y="19"/>
                  </a:lnTo>
                  <a:lnTo>
                    <a:pt x="608" y="19"/>
                  </a:lnTo>
                  <a:lnTo>
                    <a:pt x="610" y="18"/>
                  </a:lnTo>
                  <a:lnTo>
                    <a:pt x="614" y="18"/>
                  </a:lnTo>
                  <a:lnTo>
                    <a:pt x="617" y="16"/>
                  </a:lnTo>
                  <a:lnTo>
                    <a:pt x="619" y="16"/>
                  </a:lnTo>
                  <a:lnTo>
                    <a:pt x="623" y="15"/>
                  </a:lnTo>
                  <a:lnTo>
                    <a:pt x="625" y="15"/>
                  </a:lnTo>
                  <a:lnTo>
                    <a:pt x="628" y="14"/>
                  </a:lnTo>
                  <a:lnTo>
                    <a:pt x="632" y="14"/>
                  </a:lnTo>
                  <a:lnTo>
                    <a:pt x="634" y="13"/>
                  </a:lnTo>
                  <a:lnTo>
                    <a:pt x="637" y="13"/>
                  </a:lnTo>
                  <a:lnTo>
                    <a:pt x="639" y="13"/>
                  </a:lnTo>
                  <a:lnTo>
                    <a:pt x="643" y="12"/>
                  </a:lnTo>
                  <a:lnTo>
                    <a:pt x="645" y="12"/>
                  </a:lnTo>
                  <a:lnTo>
                    <a:pt x="648" y="11"/>
                  </a:lnTo>
                  <a:lnTo>
                    <a:pt x="652" y="11"/>
                  </a:lnTo>
                  <a:lnTo>
                    <a:pt x="654" y="11"/>
                  </a:lnTo>
                  <a:lnTo>
                    <a:pt x="657" y="10"/>
                  </a:lnTo>
                  <a:lnTo>
                    <a:pt x="659" y="10"/>
                  </a:lnTo>
                  <a:lnTo>
                    <a:pt x="663" y="9"/>
                  </a:lnTo>
                  <a:lnTo>
                    <a:pt x="666" y="9"/>
                  </a:lnTo>
                  <a:lnTo>
                    <a:pt x="668" y="9"/>
                  </a:lnTo>
                  <a:lnTo>
                    <a:pt x="672" y="7"/>
                  </a:lnTo>
                  <a:lnTo>
                    <a:pt x="674" y="7"/>
                  </a:lnTo>
                  <a:lnTo>
                    <a:pt x="677" y="7"/>
                  </a:lnTo>
                  <a:lnTo>
                    <a:pt x="681" y="6"/>
                  </a:lnTo>
                  <a:lnTo>
                    <a:pt x="683" y="6"/>
                  </a:lnTo>
                  <a:lnTo>
                    <a:pt x="686" y="6"/>
                  </a:lnTo>
                  <a:lnTo>
                    <a:pt x="688" y="6"/>
                  </a:lnTo>
                  <a:lnTo>
                    <a:pt x="692" y="5"/>
                  </a:lnTo>
                  <a:lnTo>
                    <a:pt x="695" y="5"/>
                  </a:lnTo>
                  <a:lnTo>
                    <a:pt x="697" y="5"/>
                  </a:lnTo>
                  <a:lnTo>
                    <a:pt x="701" y="4"/>
                  </a:lnTo>
                  <a:lnTo>
                    <a:pt x="703" y="4"/>
                  </a:lnTo>
                  <a:lnTo>
                    <a:pt x="706" y="4"/>
                  </a:lnTo>
                  <a:lnTo>
                    <a:pt x="710" y="4"/>
                  </a:lnTo>
                  <a:lnTo>
                    <a:pt x="712" y="3"/>
                  </a:lnTo>
                  <a:lnTo>
                    <a:pt x="715" y="3"/>
                  </a:lnTo>
                  <a:lnTo>
                    <a:pt x="717" y="3"/>
                  </a:lnTo>
                  <a:lnTo>
                    <a:pt x="721" y="3"/>
                  </a:lnTo>
                  <a:lnTo>
                    <a:pt x="724" y="3"/>
                  </a:lnTo>
                  <a:lnTo>
                    <a:pt x="726" y="2"/>
                  </a:lnTo>
                  <a:lnTo>
                    <a:pt x="730" y="2"/>
                  </a:lnTo>
                  <a:lnTo>
                    <a:pt x="732" y="2"/>
                  </a:lnTo>
                  <a:lnTo>
                    <a:pt x="735" y="2"/>
                  </a:lnTo>
                  <a:lnTo>
                    <a:pt x="738" y="2"/>
                  </a:lnTo>
                  <a:lnTo>
                    <a:pt x="741" y="1"/>
                  </a:lnTo>
                  <a:lnTo>
                    <a:pt x="744" y="1"/>
                  </a:lnTo>
                  <a:lnTo>
                    <a:pt x="746" y="1"/>
                  </a:lnTo>
                  <a:lnTo>
                    <a:pt x="750" y="1"/>
                  </a:lnTo>
                  <a:lnTo>
                    <a:pt x="752" y="1"/>
                  </a:lnTo>
                  <a:lnTo>
                    <a:pt x="755" y="1"/>
                  </a:lnTo>
                  <a:lnTo>
                    <a:pt x="759" y="1"/>
                  </a:lnTo>
                  <a:lnTo>
                    <a:pt x="761" y="1"/>
                  </a:lnTo>
                  <a:lnTo>
                    <a:pt x="764" y="0"/>
                  </a:lnTo>
                  <a:lnTo>
                    <a:pt x="767" y="0"/>
                  </a:lnTo>
                  <a:lnTo>
                    <a:pt x="770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9" y="0"/>
                  </a:lnTo>
                  <a:lnTo>
                    <a:pt x="781" y="0"/>
                  </a:lnTo>
                  <a:lnTo>
                    <a:pt x="784" y="0"/>
                  </a:lnTo>
                  <a:lnTo>
                    <a:pt x="788" y="0"/>
                  </a:lnTo>
                  <a:lnTo>
                    <a:pt x="790" y="0"/>
                  </a:lnTo>
                  <a:lnTo>
                    <a:pt x="793" y="0"/>
                  </a:lnTo>
                  <a:lnTo>
                    <a:pt x="796" y="0"/>
                  </a:lnTo>
                  <a:lnTo>
                    <a:pt x="799" y="0"/>
                  </a:lnTo>
                  <a:lnTo>
                    <a:pt x="802" y="0"/>
                  </a:lnTo>
                  <a:lnTo>
                    <a:pt x="804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3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2" y="0"/>
                  </a:lnTo>
                  <a:lnTo>
                    <a:pt x="825" y="0"/>
                  </a:lnTo>
                  <a:lnTo>
                    <a:pt x="828" y="0"/>
                  </a:lnTo>
                  <a:lnTo>
                    <a:pt x="830" y="0"/>
                  </a:lnTo>
                  <a:lnTo>
                    <a:pt x="833" y="1"/>
                  </a:lnTo>
                  <a:lnTo>
                    <a:pt x="837" y="1"/>
                  </a:lnTo>
                  <a:lnTo>
                    <a:pt x="839" y="1"/>
                  </a:lnTo>
                  <a:lnTo>
                    <a:pt x="842" y="1"/>
                  </a:lnTo>
                  <a:lnTo>
                    <a:pt x="845" y="1"/>
                  </a:lnTo>
                  <a:lnTo>
                    <a:pt x="848" y="1"/>
                  </a:lnTo>
                  <a:lnTo>
                    <a:pt x="851" y="1"/>
                  </a:lnTo>
                  <a:lnTo>
                    <a:pt x="854" y="1"/>
                  </a:lnTo>
                  <a:lnTo>
                    <a:pt x="857" y="2"/>
                  </a:lnTo>
                  <a:lnTo>
                    <a:pt x="859" y="2"/>
                  </a:lnTo>
                  <a:lnTo>
                    <a:pt x="862" y="2"/>
                  </a:lnTo>
                  <a:lnTo>
                    <a:pt x="866" y="2"/>
                  </a:lnTo>
                  <a:lnTo>
                    <a:pt x="868" y="2"/>
                  </a:lnTo>
                  <a:lnTo>
                    <a:pt x="871" y="2"/>
                  </a:lnTo>
                  <a:lnTo>
                    <a:pt x="874" y="3"/>
                  </a:lnTo>
                  <a:lnTo>
                    <a:pt x="877" y="3"/>
                  </a:lnTo>
                  <a:lnTo>
                    <a:pt x="880" y="3"/>
                  </a:lnTo>
                  <a:lnTo>
                    <a:pt x="883" y="3"/>
                  </a:lnTo>
                  <a:lnTo>
                    <a:pt x="886" y="4"/>
                  </a:lnTo>
                  <a:lnTo>
                    <a:pt x="888" y="4"/>
                  </a:lnTo>
                  <a:lnTo>
                    <a:pt x="891" y="4"/>
                  </a:lnTo>
                  <a:lnTo>
                    <a:pt x="895" y="4"/>
                  </a:lnTo>
                  <a:lnTo>
                    <a:pt x="897" y="5"/>
                  </a:lnTo>
                  <a:lnTo>
                    <a:pt x="900" y="5"/>
                  </a:lnTo>
                  <a:lnTo>
                    <a:pt x="903" y="5"/>
                  </a:lnTo>
                  <a:lnTo>
                    <a:pt x="906" y="5"/>
                  </a:lnTo>
                  <a:lnTo>
                    <a:pt x="908" y="6"/>
                  </a:lnTo>
                  <a:lnTo>
                    <a:pt x="912" y="6"/>
                  </a:lnTo>
                  <a:lnTo>
                    <a:pt x="915" y="6"/>
                  </a:lnTo>
                  <a:lnTo>
                    <a:pt x="917" y="7"/>
                  </a:lnTo>
                  <a:lnTo>
                    <a:pt x="920" y="7"/>
                  </a:lnTo>
                  <a:lnTo>
                    <a:pt x="923" y="7"/>
                  </a:lnTo>
                  <a:lnTo>
                    <a:pt x="926" y="9"/>
                  </a:lnTo>
                  <a:lnTo>
                    <a:pt x="929" y="9"/>
                  </a:lnTo>
                  <a:lnTo>
                    <a:pt x="932" y="9"/>
                  </a:lnTo>
                  <a:lnTo>
                    <a:pt x="935" y="10"/>
                  </a:lnTo>
                  <a:lnTo>
                    <a:pt x="937" y="10"/>
                  </a:lnTo>
                  <a:lnTo>
                    <a:pt x="941" y="10"/>
                  </a:lnTo>
                  <a:lnTo>
                    <a:pt x="944" y="11"/>
                  </a:lnTo>
                  <a:lnTo>
                    <a:pt x="946" y="11"/>
                  </a:lnTo>
                  <a:lnTo>
                    <a:pt x="949" y="12"/>
                  </a:lnTo>
                  <a:lnTo>
                    <a:pt x="952" y="12"/>
                  </a:lnTo>
                  <a:lnTo>
                    <a:pt x="955" y="13"/>
                  </a:lnTo>
                  <a:lnTo>
                    <a:pt x="958" y="13"/>
                  </a:lnTo>
                  <a:lnTo>
                    <a:pt x="961" y="13"/>
                  </a:lnTo>
                  <a:lnTo>
                    <a:pt x="964" y="14"/>
                  </a:lnTo>
                  <a:lnTo>
                    <a:pt x="966" y="14"/>
                  </a:lnTo>
                  <a:lnTo>
                    <a:pt x="970" y="15"/>
                  </a:lnTo>
                  <a:lnTo>
                    <a:pt x="973" y="15"/>
                  </a:lnTo>
                  <a:lnTo>
                    <a:pt x="975" y="16"/>
                  </a:lnTo>
                  <a:lnTo>
                    <a:pt x="978" y="16"/>
                  </a:lnTo>
                  <a:lnTo>
                    <a:pt x="981" y="18"/>
                  </a:lnTo>
                  <a:lnTo>
                    <a:pt x="984" y="18"/>
                  </a:lnTo>
                  <a:lnTo>
                    <a:pt x="987" y="19"/>
                  </a:lnTo>
                  <a:lnTo>
                    <a:pt x="990" y="19"/>
                  </a:lnTo>
                  <a:lnTo>
                    <a:pt x="993" y="20"/>
                  </a:lnTo>
                  <a:lnTo>
                    <a:pt x="995" y="20"/>
                  </a:lnTo>
                  <a:lnTo>
                    <a:pt x="999" y="21"/>
                  </a:lnTo>
                  <a:lnTo>
                    <a:pt x="1001" y="21"/>
                  </a:lnTo>
                  <a:lnTo>
                    <a:pt x="1004" y="22"/>
                  </a:lnTo>
                  <a:lnTo>
                    <a:pt x="1007" y="22"/>
                  </a:lnTo>
                  <a:lnTo>
                    <a:pt x="1010" y="23"/>
                  </a:lnTo>
                  <a:lnTo>
                    <a:pt x="1013" y="23"/>
                  </a:lnTo>
                  <a:lnTo>
                    <a:pt x="1015" y="24"/>
                  </a:lnTo>
                  <a:lnTo>
                    <a:pt x="1019" y="25"/>
                  </a:lnTo>
                  <a:lnTo>
                    <a:pt x="1022" y="25"/>
                  </a:lnTo>
                  <a:lnTo>
                    <a:pt x="1024" y="26"/>
                  </a:lnTo>
                  <a:lnTo>
                    <a:pt x="1028" y="26"/>
                  </a:lnTo>
                  <a:lnTo>
                    <a:pt x="1030" y="28"/>
                  </a:lnTo>
                  <a:lnTo>
                    <a:pt x="1033" y="29"/>
                  </a:lnTo>
                  <a:lnTo>
                    <a:pt x="1036" y="29"/>
                  </a:lnTo>
                  <a:lnTo>
                    <a:pt x="1039" y="30"/>
                  </a:lnTo>
                  <a:lnTo>
                    <a:pt x="1042" y="30"/>
                  </a:lnTo>
                  <a:lnTo>
                    <a:pt x="1044" y="31"/>
                  </a:lnTo>
                  <a:lnTo>
                    <a:pt x="1048" y="32"/>
                  </a:lnTo>
                  <a:lnTo>
                    <a:pt x="1051" y="32"/>
                  </a:lnTo>
                  <a:lnTo>
                    <a:pt x="1053" y="33"/>
                  </a:lnTo>
                  <a:lnTo>
                    <a:pt x="1057" y="34"/>
                  </a:lnTo>
                  <a:lnTo>
                    <a:pt x="1059" y="34"/>
                  </a:lnTo>
                  <a:lnTo>
                    <a:pt x="1062" y="35"/>
                  </a:lnTo>
                  <a:lnTo>
                    <a:pt x="1065" y="36"/>
                  </a:lnTo>
                  <a:lnTo>
                    <a:pt x="1068" y="36"/>
                  </a:lnTo>
                  <a:lnTo>
                    <a:pt x="1071" y="38"/>
                  </a:lnTo>
                  <a:lnTo>
                    <a:pt x="1073" y="39"/>
                  </a:lnTo>
                  <a:lnTo>
                    <a:pt x="1077" y="40"/>
                  </a:lnTo>
                  <a:lnTo>
                    <a:pt x="1080" y="40"/>
                  </a:lnTo>
                  <a:lnTo>
                    <a:pt x="1082" y="41"/>
                  </a:lnTo>
                  <a:lnTo>
                    <a:pt x="1086" y="42"/>
                  </a:lnTo>
                  <a:lnTo>
                    <a:pt x="1088" y="43"/>
                  </a:lnTo>
                  <a:lnTo>
                    <a:pt x="1091" y="43"/>
                  </a:lnTo>
                  <a:lnTo>
                    <a:pt x="1093" y="44"/>
                  </a:lnTo>
                  <a:lnTo>
                    <a:pt x="1097" y="45"/>
                  </a:lnTo>
                  <a:lnTo>
                    <a:pt x="1100" y="46"/>
                  </a:lnTo>
                  <a:lnTo>
                    <a:pt x="1102" y="46"/>
                  </a:lnTo>
                  <a:lnTo>
                    <a:pt x="1106" y="48"/>
                  </a:lnTo>
                  <a:lnTo>
                    <a:pt x="1108" y="49"/>
                  </a:lnTo>
                  <a:lnTo>
                    <a:pt x="1111" y="50"/>
                  </a:lnTo>
                  <a:lnTo>
                    <a:pt x="1115" y="51"/>
                  </a:lnTo>
                  <a:lnTo>
                    <a:pt x="1117" y="51"/>
                  </a:lnTo>
                  <a:lnTo>
                    <a:pt x="1120" y="52"/>
                  </a:lnTo>
                  <a:lnTo>
                    <a:pt x="1122" y="53"/>
                  </a:lnTo>
                  <a:lnTo>
                    <a:pt x="1126" y="54"/>
                  </a:lnTo>
                  <a:lnTo>
                    <a:pt x="1129" y="55"/>
                  </a:lnTo>
                  <a:lnTo>
                    <a:pt x="1131" y="57"/>
                  </a:lnTo>
                  <a:lnTo>
                    <a:pt x="1135" y="57"/>
                  </a:lnTo>
                  <a:lnTo>
                    <a:pt x="1137" y="58"/>
                  </a:lnTo>
                  <a:lnTo>
                    <a:pt x="1140" y="59"/>
                  </a:lnTo>
                  <a:lnTo>
                    <a:pt x="1144" y="60"/>
                  </a:lnTo>
                  <a:lnTo>
                    <a:pt x="1146" y="61"/>
                  </a:lnTo>
                  <a:lnTo>
                    <a:pt x="1149" y="62"/>
                  </a:lnTo>
                  <a:lnTo>
                    <a:pt x="1151" y="63"/>
                  </a:lnTo>
                  <a:lnTo>
                    <a:pt x="1155" y="63"/>
                  </a:lnTo>
                  <a:lnTo>
                    <a:pt x="1158" y="64"/>
                  </a:lnTo>
                  <a:lnTo>
                    <a:pt x="1160" y="65"/>
                  </a:lnTo>
                  <a:lnTo>
                    <a:pt x="1164" y="67"/>
                  </a:lnTo>
                  <a:lnTo>
                    <a:pt x="1166" y="68"/>
                  </a:lnTo>
                  <a:lnTo>
                    <a:pt x="1169" y="69"/>
                  </a:lnTo>
                  <a:lnTo>
                    <a:pt x="1173" y="70"/>
                  </a:lnTo>
                  <a:lnTo>
                    <a:pt x="1175" y="71"/>
                  </a:lnTo>
                  <a:lnTo>
                    <a:pt x="1178" y="72"/>
                  </a:lnTo>
                  <a:lnTo>
                    <a:pt x="1180" y="73"/>
                  </a:lnTo>
                  <a:lnTo>
                    <a:pt x="1184" y="74"/>
                  </a:lnTo>
                  <a:lnTo>
                    <a:pt x="1186" y="75"/>
                  </a:lnTo>
                  <a:lnTo>
                    <a:pt x="1189" y="77"/>
                  </a:lnTo>
                  <a:lnTo>
                    <a:pt x="1193" y="78"/>
                  </a:lnTo>
                  <a:lnTo>
                    <a:pt x="1195" y="79"/>
                  </a:lnTo>
                  <a:lnTo>
                    <a:pt x="1198" y="80"/>
                  </a:lnTo>
                  <a:lnTo>
                    <a:pt x="1200" y="81"/>
                  </a:lnTo>
                  <a:lnTo>
                    <a:pt x="1204" y="82"/>
                  </a:lnTo>
                  <a:lnTo>
                    <a:pt x="1207" y="83"/>
                  </a:lnTo>
                  <a:lnTo>
                    <a:pt x="1209" y="84"/>
                  </a:lnTo>
                  <a:lnTo>
                    <a:pt x="1213" y="85"/>
                  </a:lnTo>
                  <a:lnTo>
                    <a:pt x="1215" y="87"/>
                  </a:lnTo>
                  <a:lnTo>
                    <a:pt x="1218" y="88"/>
                  </a:lnTo>
                  <a:lnTo>
                    <a:pt x="1222" y="89"/>
                  </a:lnTo>
                  <a:lnTo>
                    <a:pt x="1224" y="90"/>
                  </a:lnTo>
                  <a:lnTo>
                    <a:pt x="1227" y="91"/>
                  </a:lnTo>
                  <a:lnTo>
                    <a:pt x="1229" y="92"/>
                  </a:lnTo>
                  <a:lnTo>
                    <a:pt x="1233" y="93"/>
                  </a:lnTo>
                  <a:lnTo>
                    <a:pt x="1236" y="94"/>
                  </a:lnTo>
                  <a:lnTo>
                    <a:pt x="1238" y="96"/>
                  </a:lnTo>
                  <a:lnTo>
                    <a:pt x="1242" y="97"/>
                  </a:lnTo>
                  <a:lnTo>
                    <a:pt x="1244" y="98"/>
                  </a:lnTo>
                  <a:lnTo>
                    <a:pt x="1247" y="99"/>
                  </a:lnTo>
                  <a:lnTo>
                    <a:pt x="1251" y="100"/>
                  </a:lnTo>
                  <a:lnTo>
                    <a:pt x="1253" y="101"/>
                  </a:lnTo>
                  <a:lnTo>
                    <a:pt x="1256" y="102"/>
                  </a:lnTo>
                  <a:lnTo>
                    <a:pt x="1258" y="103"/>
                  </a:lnTo>
                  <a:lnTo>
                    <a:pt x="1262" y="104"/>
                  </a:lnTo>
                  <a:lnTo>
                    <a:pt x="1265" y="107"/>
                  </a:lnTo>
                  <a:lnTo>
                    <a:pt x="1267" y="108"/>
                  </a:lnTo>
                  <a:lnTo>
                    <a:pt x="1271" y="109"/>
                  </a:lnTo>
                  <a:lnTo>
                    <a:pt x="1273" y="110"/>
                  </a:lnTo>
                  <a:lnTo>
                    <a:pt x="1276" y="111"/>
                  </a:lnTo>
                  <a:lnTo>
                    <a:pt x="1279" y="112"/>
                  </a:lnTo>
                  <a:lnTo>
                    <a:pt x="1282" y="113"/>
                  </a:lnTo>
                  <a:lnTo>
                    <a:pt x="1285" y="114"/>
                  </a:lnTo>
                  <a:lnTo>
                    <a:pt x="1287" y="116"/>
                  </a:lnTo>
                  <a:lnTo>
                    <a:pt x="1291" y="118"/>
                  </a:lnTo>
                  <a:lnTo>
                    <a:pt x="1293" y="119"/>
                  </a:lnTo>
                  <a:lnTo>
                    <a:pt x="1296" y="120"/>
                  </a:lnTo>
                  <a:lnTo>
                    <a:pt x="1300" y="121"/>
                  </a:lnTo>
                  <a:lnTo>
                    <a:pt x="1302" y="122"/>
                  </a:lnTo>
                  <a:lnTo>
                    <a:pt x="1305" y="123"/>
                  </a:lnTo>
                  <a:lnTo>
                    <a:pt x="1308" y="126"/>
                  </a:lnTo>
                  <a:lnTo>
                    <a:pt x="1311" y="127"/>
                  </a:lnTo>
                  <a:lnTo>
                    <a:pt x="1314" y="128"/>
                  </a:lnTo>
                  <a:lnTo>
                    <a:pt x="1316" y="129"/>
                  </a:lnTo>
                  <a:lnTo>
                    <a:pt x="1320" y="130"/>
                  </a:lnTo>
                  <a:lnTo>
                    <a:pt x="1322" y="131"/>
                  </a:lnTo>
                  <a:lnTo>
                    <a:pt x="1325" y="133"/>
                  </a:lnTo>
                  <a:lnTo>
                    <a:pt x="1329" y="134"/>
                  </a:lnTo>
                  <a:lnTo>
                    <a:pt x="1331" y="136"/>
                  </a:lnTo>
                  <a:lnTo>
                    <a:pt x="1334" y="137"/>
                  </a:lnTo>
                  <a:lnTo>
                    <a:pt x="1337" y="138"/>
                  </a:lnTo>
                  <a:lnTo>
                    <a:pt x="1340" y="140"/>
                  </a:lnTo>
                  <a:lnTo>
                    <a:pt x="1343" y="141"/>
                  </a:lnTo>
                  <a:lnTo>
                    <a:pt x="1345" y="142"/>
                  </a:lnTo>
                  <a:lnTo>
                    <a:pt x="1349" y="143"/>
                  </a:lnTo>
                  <a:lnTo>
                    <a:pt x="1351" y="145"/>
                  </a:lnTo>
                  <a:lnTo>
                    <a:pt x="1354" y="147"/>
                  </a:lnTo>
                  <a:lnTo>
                    <a:pt x="1357" y="148"/>
                  </a:lnTo>
                  <a:lnTo>
                    <a:pt x="1360" y="149"/>
                  </a:lnTo>
                  <a:lnTo>
                    <a:pt x="1363" y="150"/>
                  </a:lnTo>
                  <a:lnTo>
                    <a:pt x="1366" y="152"/>
                  </a:lnTo>
                  <a:lnTo>
                    <a:pt x="1369" y="153"/>
                  </a:lnTo>
                  <a:lnTo>
                    <a:pt x="1371" y="155"/>
                  </a:lnTo>
                  <a:lnTo>
                    <a:pt x="1374" y="156"/>
                  </a:lnTo>
                  <a:lnTo>
                    <a:pt x="1378" y="158"/>
                  </a:lnTo>
                  <a:lnTo>
                    <a:pt x="1380" y="159"/>
                  </a:lnTo>
                  <a:lnTo>
                    <a:pt x="1383" y="160"/>
                  </a:lnTo>
                  <a:lnTo>
                    <a:pt x="1386" y="161"/>
                  </a:lnTo>
                  <a:lnTo>
                    <a:pt x="1389" y="163"/>
                  </a:lnTo>
                  <a:lnTo>
                    <a:pt x="1392" y="165"/>
                  </a:lnTo>
                  <a:lnTo>
                    <a:pt x="1395" y="166"/>
                  </a:lnTo>
                  <a:lnTo>
                    <a:pt x="1398" y="168"/>
                  </a:lnTo>
                  <a:lnTo>
                    <a:pt x="1400" y="169"/>
                  </a:lnTo>
                  <a:lnTo>
                    <a:pt x="1403" y="170"/>
                  </a:lnTo>
                  <a:lnTo>
                    <a:pt x="1407" y="171"/>
                  </a:lnTo>
                  <a:lnTo>
                    <a:pt x="1409" y="173"/>
                  </a:lnTo>
                  <a:lnTo>
                    <a:pt x="1412" y="175"/>
                  </a:lnTo>
                  <a:lnTo>
                    <a:pt x="1415" y="176"/>
                  </a:lnTo>
                  <a:lnTo>
                    <a:pt x="1418" y="178"/>
                  </a:lnTo>
                  <a:lnTo>
                    <a:pt x="1421" y="179"/>
                  </a:lnTo>
                  <a:lnTo>
                    <a:pt x="1424" y="180"/>
                  </a:lnTo>
                  <a:lnTo>
                    <a:pt x="1427" y="181"/>
                  </a:lnTo>
                  <a:lnTo>
                    <a:pt x="1429" y="184"/>
                  </a:lnTo>
                  <a:lnTo>
                    <a:pt x="1432" y="185"/>
                  </a:lnTo>
                  <a:lnTo>
                    <a:pt x="1436" y="186"/>
                  </a:lnTo>
                  <a:lnTo>
                    <a:pt x="1438" y="188"/>
                  </a:lnTo>
                  <a:lnTo>
                    <a:pt x="1441" y="189"/>
                  </a:lnTo>
                  <a:lnTo>
                    <a:pt x="1444" y="190"/>
                  </a:lnTo>
                  <a:lnTo>
                    <a:pt x="1447" y="192"/>
                  </a:lnTo>
                  <a:lnTo>
                    <a:pt x="1449" y="194"/>
                  </a:lnTo>
                  <a:lnTo>
                    <a:pt x="1453" y="195"/>
                  </a:lnTo>
                  <a:lnTo>
                    <a:pt x="1456" y="197"/>
                  </a:lnTo>
                  <a:lnTo>
                    <a:pt x="1458" y="198"/>
                  </a:lnTo>
                  <a:lnTo>
                    <a:pt x="1462" y="199"/>
                  </a:lnTo>
                  <a:lnTo>
                    <a:pt x="1464" y="201"/>
                  </a:lnTo>
                  <a:lnTo>
                    <a:pt x="1467" y="202"/>
                  </a:lnTo>
                  <a:lnTo>
                    <a:pt x="1470" y="204"/>
                  </a:lnTo>
                  <a:lnTo>
                    <a:pt x="1473" y="206"/>
                  </a:lnTo>
                  <a:lnTo>
                    <a:pt x="1476" y="207"/>
                  </a:lnTo>
                  <a:lnTo>
                    <a:pt x="1478" y="208"/>
                  </a:lnTo>
                  <a:lnTo>
                    <a:pt x="1482" y="210"/>
                  </a:lnTo>
                  <a:lnTo>
                    <a:pt x="1485" y="211"/>
                  </a:lnTo>
                  <a:lnTo>
                    <a:pt x="1487" y="212"/>
                  </a:lnTo>
                  <a:lnTo>
                    <a:pt x="1491" y="215"/>
                  </a:lnTo>
                  <a:lnTo>
                    <a:pt x="1493" y="216"/>
                  </a:lnTo>
                  <a:lnTo>
                    <a:pt x="1496" y="217"/>
                  </a:lnTo>
                  <a:lnTo>
                    <a:pt x="1499" y="219"/>
                  </a:lnTo>
                  <a:lnTo>
                    <a:pt x="1502" y="220"/>
                  </a:lnTo>
                  <a:lnTo>
                    <a:pt x="1505" y="223"/>
                  </a:lnTo>
                  <a:lnTo>
                    <a:pt x="1507" y="224"/>
                  </a:lnTo>
                  <a:lnTo>
                    <a:pt x="1511" y="225"/>
                  </a:lnTo>
                  <a:lnTo>
                    <a:pt x="1514" y="227"/>
                  </a:lnTo>
                  <a:lnTo>
                    <a:pt x="1516" y="228"/>
                  </a:lnTo>
                  <a:lnTo>
                    <a:pt x="1520" y="229"/>
                  </a:lnTo>
                  <a:lnTo>
                    <a:pt x="1522" y="231"/>
                  </a:lnTo>
                  <a:lnTo>
                    <a:pt x="1525" y="233"/>
                  </a:lnTo>
                  <a:lnTo>
                    <a:pt x="1528" y="234"/>
                  </a:lnTo>
                  <a:lnTo>
                    <a:pt x="1531" y="236"/>
                  </a:lnTo>
                  <a:lnTo>
                    <a:pt x="1534" y="237"/>
                  </a:lnTo>
                  <a:lnTo>
                    <a:pt x="1536" y="239"/>
                  </a:lnTo>
                  <a:lnTo>
                    <a:pt x="1540" y="240"/>
                  </a:lnTo>
                  <a:lnTo>
                    <a:pt x="1542" y="241"/>
                  </a:lnTo>
                  <a:lnTo>
                    <a:pt x="1545" y="244"/>
                  </a:lnTo>
                  <a:lnTo>
                    <a:pt x="1549" y="245"/>
                  </a:lnTo>
                  <a:lnTo>
                    <a:pt x="1551" y="246"/>
                  </a:lnTo>
                  <a:lnTo>
                    <a:pt x="1554" y="248"/>
                  </a:lnTo>
                  <a:lnTo>
                    <a:pt x="1556" y="249"/>
                  </a:lnTo>
                  <a:lnTo>
                    <a:pt x="1560" y="251"/>
                  </a:lnTo>
                  <a:lnTo>
                    <a:pt x="1563" y="253"/>
                  </a:lnTo>
                  <a:lnTo>
                    <a:pt x="1565" y="254"/>
                  </a:lnTo>
                  <a:lnTo>
                    <a:pt x="1569" y="256"/>
                  </a:lnTo>
                  <a:lnTo>
                    <a:pt x="1571" y="257"/>
                  </a:lnTo>
                  <a:lnTo>
                    <a:pt x="1574" y="259"/>
                  </a:lnTo>
                  <a:lnTo>
                    <a:pt x="1578" y="260"/>
                  </a:lnTo>
                  <a:lnTo>
                    <a:pt x="1580" y="262"/>
                  </a:lnTo>
                  <a:lnTo>
                    <a:pt x="1583" y="264"/>
                  </a:lnTo>
                  <a:lnTo>
                    <a:pt x="1585" y="265"/>
                  </a:lnTo>
                  <a:lnTo>
                    <a:pt x="1589" y="266"/>
                  </a:lnTo>
                  <a:lnTo>
                    <a:pt x="1592" y="268"/>
                  </a:lnTo>
                  <a:lnTo>
                    <a:pt x="1594" y="269"/>
                  </a:lnTo>
                  <a:lnTo>
                    <a:pt x="1598" y="272"/>
                  </a:lnTo>
                  <a:lnTo>
                    <a:pt x="1600" y="273"/>
                  </a:lnTo>
                  <a:lnTo>
                    <a:pt x="1603" y="274"/>
                  </a:lnTo>
                  <a:lnTo>
                    <a:pt x="1607" y="276"/>
                  </a:lnTo>
                  <a:lnTo>
                    <a:pt x="1609" y="277"/>
                  </a:lnTo>
                  <a:lnTo>
                    <a:pt x="1612" y="278"/>
                  </a:lnTo>
                  <a:lnTo>
                    <a:pt x="1614" y="280"/>
                  </a:lnTo>
                  <a:lnTo>
                    <a:pt x="1618" y="282"/>
                  </a:lnTo>
                  <a:lnTo>
                    <a:pt x="1621" y="284"/>
                  </a:lnTo>
                  <a:lnTo>
                    <a:pt x="1623" y="285"/>
                  </a:lnTo>
                  <a:lnTo>
                    <a:pt x="1627" y="286"/>
                  </a:lnTo>
                  <a:lnTo>
                    <a:pt x="1629" y="288"/>
                  </a:lnTo>
                  <a:lnTo>
                    <a:pt x="1632" y="289"/>
                  </a:lnTo>
                  <a:lnTo>
                    <a:pt x="1634" y="292"/>
                  </a:lnTo>
                  <a:lnTo>
                    <a:pt x="1638" y="293"/>
                  </a:lnTo>
                  <a:lnTo>
                    <a:pt x="1641" y="294"/>
                  </a:lnTo>
                  <a:lnTo>
                    <a:pt x="1643" y="296"/>
                  </a:lnTo>
                  <a:lnTo>
                    <a:pt x="1647" y="297"/>
                  </a:lnTo>
                  <a:lnTo>
                    <a:pt x="1649" y="298"/>
                  </a:lnTo>
                  <a:lnTo>
                    <a:pt x="1652" y="301"/>
                  </a:lnTo>
                  <a:lnTo>
                    <a:pt x="1656" y="302"/>
                  </a:lnTo>
                  <a:lnTo>
                    <a:pt x="1658" y="304"/>
                  </a:lnTo>
                  <a:lnTo>
                    <a:pt x="1661" y="305"/>
                  </a:lnTo>
                  <a:lnTo>
                    <a:pt x="1663" y="306"/>
                  </a:lnTo>
                  <a:lnTo>
                    <a:pt x="1667" y="308"/>
                  </a:lnTo>
                  <a:lnTo>
                    <a:pt x="1670" y="309"/>
                  </a:lnTo>
                  <a:lnTo>
                    <a:pt x="1672" y="311"/>
                  </a:lnTo>
                  <a:lnTo>
                    <a:pt x="1676" y="313"/>
                  </a:lnTo>
                  <a:lnTo>
                    <a:pt x="1678" y="314"/>
                  </a:lnTo>
                  <a:lnTo>
                    <a:pt x="1681" y="315"/>
                  </a:lnTo>
                  <a:lnTo>
                    <a:pt x="1685" y="317"/>
                  </a:lnTo>
                  <a:lnTo>
                    <a:pt x="1687" y="318"/>
                  </a:lnTo>
                  <a:lnTo>
                    <a:pt x="1690" y="321"/>
                  </a:lnTo>
                  <a:lnTo>
                    <a:pt x="1692" y="322"/>
                  </a:lnTo>
                  <a:lnTo>
                    <a:pt x="1696" y="323"/>
                  </a:lnTo>
                  <a:lnTo>
                    <a:pt x="1699" y="325"/>
                  </a:lnTo>
                  <a:lnTo>
                    <a:pt x="1701" y="326"/>
                  </a:lnTo>
                  <a:lnTo>
                    <a:pt x="1705" y="327"/>
                  </a:lnTo>
                  <a:lnTo>
                    <a:pt x="1707" y="329"/>
                  </a:lnTo>
                  <a:lnTo>
                    <a:pt x="1710" y="331"/>
                  </a:lnTo>
                  <a:lnTo>
                    <a:pt x="1713" y="332"/>
                  </a:lnTo>
                  <a:lnTo>
                    <a:pt x="1716" y="334"/>
                  </a:lnTo>
                  <a:lnTo>
                    <a:pt x="1719" y="335"/>
                  </a:lnTo>
                  <a:lnTo>
                    <a:pt x="1721" y="336"/>
                  </a:lnTo>
                  <a:lnTo>
                    <a:pt x="1725" y="338"/>
                  </a:lnTo>
                  <a:lnTo>
                    <a:pt x="1727" y="339"/>
                  </a:lnTo>
                  <a:lnTo>
                    <a:pt x="1730" y="341"/>
                  </a:lnTo>
                  <a:lnTo>
                    <a:pt x="1734" y="343"/>
                  </a:lnTo>
                  <a:lnTo>
                    <a:pt x="1736" y="344"/>
                  </a:lnTo>
                  <a:lnTo>
                    <a:pt x="1739" y="345"/>
                  </a:lnTo>
                  <a:lnTo>
                    <a:pt x="1742" y="347"/>
                  </a:lnTo>
                  <a:lnTo>
                    <a:pt x="1745" y="348"/>
                  </a:lnTo>
                  <a:lnTo>
                    <a:pt x="1748" y="350"/>
                  </a:lnTo>
                  <a:lnTo>
                    <a:pt x="1750" y="352"/>
                  </a:lnTo>
                  <a:lnTo>
                    <a:pt x="1754" y="353"/>
                  </a:lnTo>
                  <a:lnTo>
                    <a:pt x="1756" y="354"/>
                  </a:lnTo>
                  <a:lnTo>
                    <a:pt x="1759" y="356"/>
                  </a:lnTo>
                  <a:lnTo>
                    <a:pt x="1763" y="357"/>
                  </a:lnTo>
                  <a:lnTo>
                    <a:pt x="1765" y="358"/>
                  </a:lnTo>
                  <a:lnTo>
                    <a:pt x="1768" y="361"/>
                  </a:lnTo>
                  <a:lnTo>
                    <a:pt x="1771" y="362"/>
                  </a:lnTo>
                  <a:lnTo>
                    <a:pt x="1774" y="363"/>
                  </a:lnTo>
                  <a:lnTo>
                    <a:pt x="1777" y="364"/>
                  </a:lnTo>
                  <a:lnTo>
                    <a:pt x="1779" y="366"/>
                  </a:lnTo>
                  <a:lnTo>
                    <a:pt x="1783" y="367"/>
                  </a:lnTo>
                  <a:lnTo>
                    <a:pt x="1785" y="368"/>
                  </a:lnTo>
                  <a:lnTo>
                    <a:pt x="1788" y="371"/>
                  </a:lnTo>
                  <a:lnTo>
                    <a:pt x="1792" y="372"/>
                  </a:lnTo>
                  <a:lnTo>
                    <a:pt x="1794" y="373"/>
                  </a:lnTo>
                  <a:lnTo>
                    <a:pt x="1797" y="374"/>
                  </a:lnTo>
                  <a:lnTo>
                    <a:pt x="1800" y="376"/>
                  </a:lnTo>
                  <a:lnTo>
                    <a:pt x="1803" y="377"/>
                  </a:lnTo>
                  <a:lnTo>
                    <a:pt x="1805" y="378"/>
                  </a:lnTo>
                  <a:lnTo>
                    <a:pt x="1808" y="381"/>
                  </a:lnTo>
                  <a:lnTo>
                    <a:pt x="1812" y="382"/>
                  </a:lnTo>
                  <a:lnTo>
                    <a:pt x="1814" y="383"/>
                  </a:lnTo>
                  <a:lnTo>
                    <a:pt x="1817" y="384"/>
                  </a:lnTo>
                  <a:lnTo>
                    <a:pt x="1820" y="386"/>
                  </a:lnTo>
                  <a:lnTo>
                    <a:pt x="1823" y="387"/>
                  </a:lnTo>
                  <a:lnTo>
                    <a:pt x="1826" y="389"/>
                  </a:lnTo>
                  <a:lnTo>
                    <a:pt x="1829" y="390"/>
                  </a:lnTo>
                  <a:lnTo>
                    <a:pt x="1832" y="392"/>
                  </a:lnTo>
                  <a:lnTo>
                    <a:pt x="1834" y="393"/>
                  </a:lnTo>
                  <a:lnTo>
                    <a:pt x="1837" y="394"/>
                  </a:lnTo>
                  <a:lnTo>
                    <a:pt x="1841" y="395"/>
                  </a:lnTo>
                  <a:lnTo>
                    <a:pt x="1843" y="396"/>
                  </a:lnTo>
                  <a:lnTo>
                    <a:pt x="1846" y="399"/>
                  </a:lnTo>
                  <a:lnTo>
                    <a:pt x="1849" y="400"/>
                  </a:lnTo>
                  <a:lnTo>
                    <a:pt x="1852" y="401"/>
                  </a:lnTo>
                  <a:lnTo>
                    <a:pt x="1855" y="402"/>
                  </a:lnTo>
                  <a:lnTo>
                    <a:pt x="1858" y="403"/>
                  </a:lnTo>
                  <a:lnTo>
                    <a:pt x="1861" y="405"/>
                  </a:lnTo>
                  <a:lnTo>
                    <a:pt x="1863" y="406"/>
                  </a:lnTo>
                  <a:lnTo>
                    <a:pt x="1866" y="407"/>
                  </a:lnTo>
                  <a:lnTo>
                    <a:pt x="1870" y="409"/>
                  </a:lnTo>
                  <a:lnTo>
                    <a:pt x="1872" y="410"/>
                  </a:lnTo>
                  <a:lnTo>
                    <a:pt x="1875" y="412"/>
                  </a:lnTo>
                  <a:lnTo>
                    <a:pt x="1878" y="413"/>
                  </a:lnTo>
                  <a:lnTo>
                    <a:pt x="1881" y="414"/>
                  </a:lnTo>
                  <a:lnTo>
                    <a:pt x="1884" y="415"/>
                  </a:lnTo>
                  <a:lnTo>
                    <a:pt x="1887" y="416"/>
                  </a:lnTo>
                  <a:lnTo>
                    <a:pt x="1890" y="417"/>
                  </a:lnTo>
                  <a:lnTo>
                    <a:pt x="1892" y="420"/>
                  </a:lnTo>
                  <a:lnTo>
                    <a:pt x="1895" y="421"/>
                  </a:lnTo>
                  <a:lnTo>
                    <a:pt x="1898" y="422"/>
                  </a:lnTo>
                  <a:lnTo>
                    <a:pt x="1901" y="423"/>
                  </a:lnTo>
                  <a:lnTo>
                    <a:pt x="1904" y="424"/>
                  </a:lnTo>
                  <a:lnTo>
                    <a:pt x="1907" y="425"/>
                  </a:lnTo>
                  <a:lnTo>
                    <a:pt x="1910" y="426"/>
                  </a:lnTo>
                  <a:lnTo>
                    <a:pt x="1912" y="429"/>
                  </a:lnTo>
                  <a:lnTo>
                    <a:pt x="1916" y="430"/>
                  </a:lnTo>
                  <a:lnTo>
                    <a:pt x="1919" y="431"/>
                  </a:lnTo>
                  <a:lnTo>
                    <a:pt x="1921" y="432"/>
                  </a:lnTo>
                  <a:lnTo>
                    <a:pt x="1924" y="433"/>
                  </a:lnTo>
                  <a:lnTo>
                    <a:pt x="1927" y="434"/>
                  </a:lnTo>
                  <a:lnTo>
                    <a:pt x="1930" y="435"/>
                  </a:lnTo>
                  <a:lnTo>
                    <a:pt x="1933" y="436"/>
                  </a:lnTo>
                  <a:lnTo>
                    <a:pt x="1936" y="438"/>
                  </a:lnTo>
                  <a:lnTo>
                    <a:pt x="1939" y="439"/>
                  </a:lnTo>
                  <a:lnTo>
                    <a:pt x="1941" y="441"/>
                  </a:lnTo>
                  <a:lnTo>
                    <a:pt x="1945" y="442"/>
                  </a:lnTo>
                  <a:lnTo>
                    <a:pt x="1948" y="443"/>
                  </a:lnTo>
                  <a:lnTo>
                    <a:pt x="1950" y="444"/>
                  </a:lnTo>
                  <a:lnTo>
                    <a:pt x="1953" y="445"/>
                  </a:lnTo>
                  <a:lnTo>
                    <a:pt x="1956" y="446"/>
                  </a:lnTo>
                  <a:lnTo>
                    <a:pt x="1959" y="448"/>
                  </a:lnTo>
                  <a:lnTo>
                    <a:pt x="1962" y="449"/>
                  </a:lnTo>
                  <a:lnTo>
                    <a:pt x="1965" y="450"/>
                  </a:lnTo>
                  <a:lnTo>
                    <a:pt x="1968" y="451"/>
                  </a:lnTo>
                  <a:lnTo>
                    <a:pt x="1970" y="452"/>
                  </a:lnTo>
                  <a:lnTo>
                    <a:pt x="1974" y="453"/>
                  </a:lnTo>
                  <a:lnTo>
                    <a:pt x="1977" y="454"/>
                  </a:lnTo>
                  <a:lnTo>
                    <a:pt x="1979" y="455"/>
                  </a:lnTo>
                  <a:lnTo>
                    <a:pt x="1982" y="456"/>
                  </a:lnTo>
                  <a:lnTo>
                    <a:pt x="1985" y="458"/>
                  </a:lnTo>
                  <a:lnTo>
                    <a:pt x="1988" y="459"/>
                  </a:lnTo>
                  <a:lnTo>
                    <a:pt x="1990" y="460"/>
                  </a:lnTo>
                  <a:lnTo>
                    <a:pt x="1994" y="461"/>
                  </a:lnTo>
                  <a:lnTo>
                    <a:pt x="1997" y="462"/>
                  </a:lnTo>
                  <a:lnTo>
                    <a:pt x="1999" y="463"/>
                  </a:lnTo>
                  <a:lnTo>
                    <a:pt x="2003" y="464"/>
                  </a:lnTo>
                  <a:lnTo>
                    <a:pt x="2005" y="465"/>
                  </a:lnTo>
                  <a:lnTo>
                    <a:pt x="2008" y="467"/>
                  </a:lnTo>
                  <a:lnTo>
                    <a:pt x="2011" y="468"/>
                  </a:lnTo>
                  <a:lnTo>
                    <a:pt x="2014" y="469"/>
                  </a:lnTo>
                  <a:lnTo>
                    <a:pt x="2017" y="470"/>
                  </a:lnTo>
                  <a:lnTo>
                    <a:pt x="2019" y="471"/>
                  </a:lnTo>
                  <a:lnTo>
                    <a:pt x="2023" y="471"/>
                  </a:lnTo>
                  <a:lnTo>
                    <a:pt x="2026" y="472"/>
                  </a:lnTo>
                  <a:lnTo>
                    <a:pt x="2028" y="473"/>
                  </a:lnTo>
                  <a:lnTo>
                    <a:pt x="2032" y="474"/>
                  </a:lnTo>
                  <a:lnTo>
                    <a:pt x="2034" y="475"/>
                  </a:lnTo>
                  <a:lnTo>
                    <a:pt x="2037" y="477"/>
                  </a:lnTo>
                  <a:lnTo>
                    <a:pt x="2040" y="478"/>
                  </a:lnTo>
                  <a:lnTo>
                    <a:pt x="2043" y="479"/>
                  </a:lnTo>
                  <a:lnTo>
                    <a:pt x="2046" y="480"/>
                  </a:lnTo>
                  <a:lnTo>
                    <a:pt x="2048" y="481"/>
                  </a:lnTo>
                  <a:lnTo>
                    <a:pt x="2052" y="481"/>
                  </a:lnTo>
                  <a:lnTo>
                    <a:pt x="2055" y="482"/>
                  </a:lnTo>
                  <a:lnTo>
                    <a:pt x="2057" y="483"/>
                  </a:lnTo>
                  <a:lnTo>
                    <a:pt x="2061" y="484"/>
                  </a:lnTo>
                  <a:lnTo>
                    <a:pt x="2063" y="485"/>
                  </a:lnTo>
                  <a:lnTo>
                    <a:pt x="2066" y="487"/>
                  </a:lnTo>
                  <a:lnTo>
                    <a:pt x="2069" y="487"/>
                  </a:lnTo>
                  <a:lnTo>
                    <a:pt x="2072" y="488"/>
                  </a:lnTo>
                  <a:lnTo>
                    <a:pt x="2075" y="489"/>
                  </a:lnTo>
                  <a:lnTo>
                    <a:pt x="2077" y="490"/>
                  </a:lnTo>
                  <a:lnTo>
                    <a:pt x="2081" y="491"/>
                  </a:lnTo>
                  <a:lnTo>
                    <a:pt x="2083" y="491"/>
                  </a:lnTo>
                  <a:lnTo>
                    <a:pt x="2086" y="492"/>
                  </a:lnTo>
                  <a:lnTo>
                    <a:pt x="2090" y="493"/>
                  </a:lnTo>
                  <a:lnTo>
                    <a:pt x="2092" y="494"/>
                  </a:lnTo>
                  <a:lnTo>
                    <a:pt x="2095" y="495"/>
                  </a:lnTo>
                  <a:lnTo>
                    <a:pt x="2097" y="495"/>
                  </a:lnTo>
                  <a:lnTo>
                    <a:pt x="2101" y="497"/>
                  </a:lnTo>
                  <a:lnTo>
                    <a:pt x="2104" y="498"/>
                  </a:lnTo>
                  <a:lnTo>
                    <a:pt x="2106" y="499"/>
                  </a:lnTo>
                  <a:lnTo>
                    <a:pt x="2110" y="499"/>
                  </a:lnTo>
                  <a:lnTo>
                    <a:pt x="2112" y="500"/>
                  </a:lnTo>
                  <a:lnTo>
                    <a:pt x="2115" y="501"/>
                  </a:lnTo>
                  <a:lnTo>
                    <a:pt x="2119" y="502"/>
                  </a:lnTo>
                  <a:lnTo>
                    <a:pt x="2121" y="502"/>
                  </a:lnTo>
                  <a:lnTo>
                    <a:pt x="2124" y="503"/>
                  </a:lnTo>
                  <a:lnTo>
                    <a:pt x="2126" y="504"/>
                  </a:lnTo>
                  <a:lnTo>
                    <a:pt x="2130" y="504"/>
                  </a:lnTo>
                  <a:lnTo>
                    <a:pt x="2133" y="505"/>
                  </a:lnTo>
                  <a:lnTo>
                    <a:pt x="2135" y="507"/>
                  </a:lnTo>
                  <a:lnTo>
                    <a:pt x="2139" y="507"/>
                  </a:lnTo>
                  <a:lnTo>
                    <a:pt x="2141" y="508"/>
                  </a:lnTo>
                  <a:lnTo>
                    <a:pt x="2144" y="509"/>
                  </a:lnTo>
                  <a:lnTo>
                    <a:pt x="2148" y="509"/>
                  </a:lnTo>
                  <a:lnTo>
                    <a:pt x="2150" y="510"/>
                  </a:lnTo>
                  <a:lnTo>
                    <a:pt x="2153" y="511"/>
                  </a:lnTo>
                  <a:lnTo>
                    <a:pt x="2155" y="511"/>
                  </a:lnTo>
                  <a:lnTo>
                    <a:pt x="2159" y="512"/>
                  </a:lnTo>
                  <a:lnTo>
                    <a:pt x="2161" y="512"/>
                  </a:lnTo>
                  <a:lnTo>
                    <a:pt x="2164" y="513"/>
                  </a:lnTo>
                  <a:lnTo>
                    <a:pt x="2168" y="514"/>
                  </a:lnTo>
                  <a:lnTo>
                    <a:pt x="2170" y="514"/>
                  </a:lnTo>
                  <a:lnTo>
                    <a:pt x="2173" y="516"/>
                  </a:lnTo>
                  <a:lnTo>
                    <a:pt x="2175" y="516"/>
                  </a:lnTo>
                  <a:lnTo>
                    <a:pt x="2179" y="517"/>
                  </a:lnTo>
                  <a:lnTo>
                    <a:pt x="2182" y="517"/>
                  </a:lnTo>
                  <a:lnTo>
                    <a:pt x="2184" y="518"/>
                  </a:lnTo>
                  <a:lnTo>
                    <a:pt x="2188" y="519"/>
                  </a:lnTo>
                  <a:lnTo>
                    <a:pt x="2190" y="519"/>
                  </a:lnTo>
                  <a:lnTo>
                    <a:pt x="2193" y="520"/>
                  </a:lnTo>
                  <a:lnTo>
                    <a:pt x="2197" y="520"/>
                  </a:lnTo>
                  <a:lnTo>
                    <a:pt x="2199" y="521"/>
                  </a:lnTo>
                  <a:lnTo>
                    <a:pt x="2202" y="521"/>
                  </a:lnTo>
                  <a:lnTo>
                    <a:pt x="2204" y="522"/>
                  </a:lnTo>
                  <a:lnTo>
                    <a:pt x="2208" y="522"/>
                  </a:lnTo>
                  <a:lnTo>
                    <a:pt x="2211" y="523"/>
                  </a:lnTo>
                  <a:lnTo>
                    <a:pt x="2213" y="523"/>
                  </a:lnTo>
                  <a:lnTo>
                    <a:pt x="2217" y="524"/>
                  </a:lnTo>
                  <a:lnTo>
                    <a:pt x="2219" y="524"/>
                  </a:lnTo>
                  <a:lnTo>
                    <a:pt x="2222" y="526"/>
                  </a:lnTo>
                  <a:lnTo>
                    <a:pt x="2226" y="526"/>
                  </a:lnTo>
                  <a:lnTo>
                    <a:pt x="2228" y="526"/>
                  </a:lnTo>
                  <a:lnTo>
                    <a:pt x="2231" y="527"/>
                  </a:lnTo>
                  <a:lnTo>
                    <a:pt x="2233" y="527"/>
                  </a:lnTo>
                  <a:lnTo>
                    <a:pt x="2237" y="528"/>
                  </a:lnTo>
                  <a:lnTo>
                    <a:pt x="2240" y="528"/>
                  </a:lnTo>
                  <a:lnTo>
                    <a:pt x="2242" y="529"/>
                  </a:lnTo>
                  <a:lnTo>
                    <a:pt x="2246" y="529"/>
                  </a:lnTo>
                  <a:lnTo>
                    <a:pt x="2248" y="529"/>
                  </a:lnTo>
                  <a:lnTo>
                    <a:pt x="2251" y="530"/>
                  </a:lnTo>
                  <a:lnTo>
                    <a:pt x="2254" y="530"/>
                  </a:lnTo>
                  <a:lnTo>
                    <a:pt x="2257" y="531"/>
                  </a:lnTo>
                  <a:lnTo>
                    <a:pt x="2260" y="531"/>
                  </a:lnTo>
                  <a:lnTo>
                    <a:pt x="2262" y="531"/>
                  </a:lnTo>
                  <a:lnTo>
                    <a:pt x="2266" y="532"/>
                  </a:lnTo>
                  <a:lnTo>
                    <a:pt x="2268" y="532"/>
                  </a:lnTo>
                  <a:lnTo>
                    <a:pt x="2271" y="532"/>
                  </a:lnTo>
                  <a:lnTo>
                    <a:pt x="2275" y="533"/>
                  </a:lnTo>
                  <a:lnTo>
                    <a:pt x="2277" y="533"/>
                  </a:lnTo>
                  <a:lnTo>
                    <a:pt x="2280" y="533"/>
                  </a:lnTo>
                  <a:lnTo>
                    <a:pt x="2283" y="533"/>
                  </a:lnTo>
                  <a:lnTo>
                    <a:pt x="2286" y="534"/>
                  </a:lnTo>
                  <a:lnTo>
                    <a:pt x="2289" y="534"/>
                  </a:lnTo>
                  <a:lnTo>
                    <a:pt x="2291" y="534"/>
                  </a:lnTo>
                  <a:lnTo>
                    <a:pt x="2295" y="536"/>
                  </a:lnTo>
                  <a:lnTo>
                    <a:pt x="2297" y="536"/>
                  </a:lnTo>
                  <a:lnTo>
                    <a:pt x="2300" y="536"/>
                  </a:lnTo>
                  <a:lnTo>
                    <a:pt x="2304" y="536"/>
                  </a:lnTo>
                  <a:lnTo>
                    <a:pt x="2306" y="537"/>
                  </a:lnTo>
                  <a:lnTo>
                    <a:pt x="2309" y="537"/>
                  </a:lnTo>
                  <a:lnTo>
                    <a:pt x="2312" y="537"/>
                  </a:lnTo>
                  <a:lnTo>
                    <a:pt x="2315" y="537"/>
                  </a:lnTo>
                  <a:lnTo>
                    <a:pt x="2318" y="537"/>
                  </a:lnTo>
                  <a:lnTo>
                    <a:pt x="2320" y="538"/>
                  </a:lnTo>
                  <a:lnTo>
                    <a:pt x="2324" y="538"/>
                  </a:lnTo>
                  <a:lnTo>
                    <a:pt x="2326" y="538"/>
                  </a:lnTo>
                  <a:lnTo>
                    <a:pt x="2329" y="538"/>
                  </a:lnTo>
                  <a:lnTo>
                    <a:pt x="2333" y="538"/>
                  </a:lnTo>
                  <a:lnTo>
                    <a:pt x="2335" y="539"/>
                  </a:lnTo>
                  <a:lnTo>
                    <a:pt x="2338" y="539"/>
                  </a:lnTo>
                  <a:lnTo>
                    <a:pt x="2341" y="539"/>
                  </a:lnTo>
                  <a:lnTo>
                    <a:pt x="2344" y="539"/>
                  </a:lnTo>
                  <a:lnTo>
                    <a:pt x="2346" y="539"/>
                  </a:lnTo>
                  <a:lnTo>
                    <a:pt x="2349" y="539"/>
                  </a:lnTo>
                  <a:lnTo>
                    <a:pt x="2353" y="539"/>
                  </a:lnTo>
                  <a:lnTo>
                    <a:pt x="2355" y="539"/>
                  </a:lnTo>
                  <a:lnTo>
                    <a:pt x="2358" y="540"/>
                  </a:lnTo>
                  <a:lnTo>
                    <a:pt x="2361" y="540"/>
                  </a:lnTo>
                  <a:lnTo>
                    <a:pt x="2364" y="540"/>
                  </a:lnTo>
                  <a:lnTo>
                    <a:pt x="2367" y="540"/>
                  </a:lnTo>
                  <a:lnTo>
                    <a:pt x="2370" y="540"/>
                  </a:lnTo>
                  <a:lnTo>
                    <a:pt x="2373" y="540"/>
                  </a:lnTo>
                  <a:lnTo>
                    <a:pt x="2375" y="540"/>
                  </a:lnTo>
                  <a:lnTo>
                    <a:pt x="2378" y="540"/>
                  </a:lnTo>
                  <a:lnTo>
                    <a:pt x="2382" y="540"/>
                  </a:lnTo>
                  <a:lnTo>
                    <a:pt x="2384" y="540"/>
                  </a:lnTo>
                  <a:lnTo>
                    <a:pt x="2387" y="540"/>
                  </a:lnTo>
                  <a:lnTo>
                    <a:pt x="2390" y="540"/>
                  </a:lnTo>
                  <a:lnTo>
                    <a:pt x="2393" y="540"/>
                  </a:lnTo>
                  <a:lnTo>
                    <a:pt x="2396" y="540"/>
                  </a:lnTo>
                  <a:lnTo>
                    <a:pt x="2399" y="540"/>
                  </a:lnTo>
                  <a:lnTo>
                    <a:pt x="2402" y="540"/>
                  </a:lnTo>
                  <a:lnTo>
                    <a:pt x="2404" y="540"/>
                  </a:lnTo>
                  <a:lnTo>
                    <a:pt x="2407" y="540"/>
                  </a:lnTo>
                  <a:lnTo>
                    <a:pt x="2411" y="540"/>
                  </a:lnTo>
                  <a:lnTo>
                    <a:pt x="2413" y="540"/>
                  </a:lnTo>
                  <a:lnTo>
                    <a:pt x="2416" y="540"/>
                  </a:lnTo>
                  <a:lnTo>
                    <a:pt x="2419" y="540"/>
                  </a:lnTo>
                  <a:lnTo>
                    <a:pt x="2422" y="540"/>
                  </a:lnTo>
                  <a:lnTo>
                    <a:pt x="2425" y="540"/>
                  </a:lnTo>
                  <a:lnTo>
                    <a:pt x="2428" y="540"/>
                  </a:lnTo>
                  <a:lnTo>
                    <a:pt x="2431" y="539"/>
                  </a:lnTo>
                  <a:lnTo>
                    <a:pt x="2433" y="539"/>
                  </a:lnTo>
                  <a:lnTo>
                    <a:pt x="2436" y="539"/>
                  </a:lnTo>
                  <a:lnTo>
                    <a:pt x="2439" y="539"/>
                  </a:lnTo>
                  <a:lnTo>
                    <a:pt x="2442" y="539"/>
                  </a:lnTo>
                  <a:lnTo>
                    <a:pt x="2445" y="539"/>
                  </a:lnTo>
                  <a:lnTo>
                    <a:pt x="2448" y="539"/>
                  </a:lnTo>
                  <a:lnTo>
                    <a:pt x="2451" y="539"/>
                  </a:lnTo>
                  <a:lnTo>
                    <a:pt x="2453" y="538"/>
                  </a:lnTo>
                  <a:lnTo>
                    <a:pt x="2457" y="538"/>
                  </a:lnTo>
                  <a:lnTo>
                    <a:pt x="2460" y="538"/>
                  </a:lnTo>
                  <a:lnTo>
                    <a:pt x="2462" y="538"/>
                  </a:lnTo>
                  <a:lnTo>
                    <a:pt x="2466" y="538"/>
                  </a:lnTo>
                  <a:lnTo>
                    <a:pt x="2468" y="537"/>
                  </a:lnTo>
                  <a:lnTo>
                    <a:pt x="2471" y="537"/>
                  </a:lnTo>
                  <a:lnTo>
                    <a:pt x="2474" y="537"/>
                  </a:lnTo>
                  <a:lnTo>
                    <a:pt x="2477" y="537"/>
                  </a:lnTo>
                  <a:lnTo>
                    <a:pt x="2480" y="537"/>
                  </a:lnTo>
                  <a:lnTo>
                    <a:pt x="2482" y="536"/>
                  </a:lnTo>
                  <a:lnTo>
                    <a:pt x="2486" y="536"/>
                  </a:lnTo>
                  <a:lnTo>
                    <a:pt x="2489" y="536"/>
                  </a:lnTo>
                  <a:lnTo>
                    <a:pt x="2491" y="536"/>
                  </a:lnTo>
                  <a:lnTo>
                    <a:pt x="2495" y="534"/>
                  </a:lnTo>
                  <a:lnTo>
                    <a:pt x="2497" y="534"/>
                  </a:lnTo>
                  <a:lnTo>
                    <a:pt x="2500" y="534"/>
                  </a:lnTo>
                  <a:lnTo>
                    <a:pt x="2503" y="533"/>
                  </a:lnTo>
                  <a:lnTo>
                    <a:pt x="2506" y="533"/>
                  </a:lnTo>
                  <a:lnTo>
                    <a:pt x="2509" y="533"/>
                  </a:lnTo>
                  <a:lnTo>
                    <a:pt x="2511" y="532"/>
                  </a:lnTo>
                  <a:lnTo>
                    <a:pt x="2515" y="532"/>
                  </a:lnTo>
                  <a:lnTo>
                    <a:pt x="2518" y="532"/>
                  </a:lnTo>
                  <a:lnTo>
                    <a:pt x="2520" y="531"/>
                  </a:lnTo>
                  <a:lnTo>
                    <a:pt x="2524" y="531"/>
                  </a:lnTo>
                  <a:lnTo>
                    <a:pt x="2526" y="531"/>
                  </a:lnTo>
                  <a:lnTo>
                    <a:pt x="2529" y="530"/>
                  </a:lnTo>
                  <a:lnTo>
                    <a:pt x="2531" y="530"/>
                  </a:lnTo>
                  <a:lnTo>
                    <a:pt x="2535" y="530"/>
                  </a:lnTo>
                  <a:lnTo>
                    <a:pt x="2538" y="529"/>
                  </a:lnTo>
                  <a:lnTo>
                    <a:pt x="2540" y="529"/>
                  </a:lnTo>
                  <a:lnTo>
                    <a:pt x="2544" y="528"/>
                  </a:lnTo>
                  <a:lnTo>
                    <a:pt x="2546" y="528"/>
                  </a:lnTo>
                  <a:lnTo>
                    <a:pt x="2549" y="528"/>
                  </a:lnTo>
                  <a:lnTo>
                    <a:pt x="2553" y="527"/>
                  </a:lnTo>
                  <a:lnTo>
                    <a:pt x="2555" y="527"/>
                  </a:lnTo>
                  <a:lnTo>
                    <a:pt x="2558" y="526"/>
                  </a:lnTo>
                  <a:lnTo>
                    <a:pt x="2560" y="526"/>
                  </a:lnTo>
                  <a:lnTo>
                    <a:pt x="2564" y="524"/>
                  </a:lnTo>
                  <a:lnTo>
                    <a:pt x="2567" y="524"/>
                  </a:lnTo>
                  <a:lnTo>
                    <a:pt x="2569" y="524"/>
                  </a:lnTo>
                  <a:lnTo>
                    <a:pt x="2573" y="523"/>
                  </a:lnTo>
                  <a:lnTo>
                    <a:pt x="2575" y="523"/>
                  </a:lnTo>
                  <a:lnTo>
                    <a:pt x="2578" y="522"/>
                  </a:lnTo>
                  <a:lnTo>
                    <a:pt x="2582" y="522"/>
                  </a:lnTo>
                  <a:lnTo>
                    <a:pt x="2584" y="521"/>
                  </a:lnTo>
                  <a:lnTo>
                    <a:pt x="2587" y="521"/>
                  </a:lnTo>
                  <a:lnTo>
                    <a:pt x="2589" y="520"/>
                  </a:lnTo>
                  <a:lnTo>
                    <a:pt x="2593" y="520"/>
                  </a:lnTo>
                  <a:lnTo>
                    <a:pt x="2596" y="519"/>
                  </a:lnTo>
                  <a:lnTo>
                    <a:pt x="2598" y="518"/>
                  </a:lnTo>
                  <a:lnTo>
                    <a:pt x="2602" y="518"/>
                  </a:lnTo>
                  <a:lnTo>
                    <a:pt x="2604" y="517"/>
                  </a:lnTo>
                  <a:lnTo>
                    <a:pt x="2607" y="517"/>
                  </a:lnTo>
                  <a:lnTo>
                    <a:pt x="2609" y="516"/>
                  </a:lnTo>
                  <a:lnTo>
                    <a:pt x="2613" y="516"/>
                  </a:lnTo>
                  <a:lnTo>
                    <a:pt x="2616" y="514"/>
                  </a:lnTo>
                  <a:lnTo>
                    <a:pt x="2618" y="513"/>
                  </a:lnTo>
                  <a:lnTo>
                    <a:pt x="2622" y="513"/>
                  </a:lnTo>
                  <a:lnTo>
                    <a:pt x="2624" y="512"/>
                  </a:lnTo>
                  <a:lnTo>
                    <a:pt x="2627" y="512"/>
                  </a:lnTo>
                  <a:lnTo>
                    <a:pt x="2631" y="511"/>
                  </a:lnTo>
                  <a:lnTo>
                    <a:pt x="2633" y="510"/>
                  </a:lnTo>
                  <a:lnTo>
                    <a:pt x="2636" y="510"/>
                  </a:lnTo>
                  <a:lnTo>
                    <a:pt x="2638" y="509"/>
                  </a:lnTo>
                  <a:lnTo>
                    <a:pt x="2642" y="508"/>
                  </a:lnTo>
                  <a:lnTo>
                    <a:pt x="2645" y="508"/>
                  </a:lnTo>
                  <a:lnTo>
                    <a:pt x="2647" y="507"/>
                  </a:lnTo>
                  <a:lnTo>
                    <a:pt x="2651" y="505"/>
                  </a:lnTo>
                  <a:lnTo>
                    <a:pt x="2653" y="505"/>
                  </a:lnTo>
                  <a:lnTo>
                    <a:pt x="2656" y="504"/>
                  </a:lnTo>
                  <a:lnTo>
                    <a:pt x="2660" y="503"/>
                  </a:lnTo>
                  <a:lnTo>
                    <a:pt x="2662" y="503"/>
                  </a:lnTo>
                  <a:lnTo>
                    <a:pt x="2665" y="502"/>
                  </a:lnTo>
                  <a:lnTo>
                    <a:pt x="2667" y="501"/>
                  </a:lnTo>
                  <a:lnTo>
                    <a:pt x="2671" y="501"/>
                  </a:lnTo>
                  <a:lnTo>
                    <a:pt x="2674" y="500"/>
                  </a:lnTo>
                  <a:lnTo>
                    <a:pt x="2676" y="499"/>
                  </a:lnTo>
                  <a:lnTo>
                    <a:pt x="2680" y="498"/>
                  </a:lnTo>
                  <a:lnTo>
                    <a:pt x="2682" y="498"/>
                  </a:lnTo>
                  <a:lnTo>
                    <a:pt x="2685" y="497"/>
                  </a:lnTo>
                  <a:lnTo>
                    <a:pt x="2689" y="495"/>
                  </a:lnTo>
                  <a:lnTo>
                    <a:pt x="2691" y="494"/>
                  </a:lnTo>
                  <a:lnTo>
                    <a:pt x="2694" y="494"/>
                  </a:lnTo>
                  <a:lnTo>
                    <a:pt x="2696" y="493"/>
                  </a:lnTo>
                  <a:lnTo>
                    <a:pt x="2700" y="492"/>
                  </a:lnTo>
                  <a:lnTo>
                    <a:pt x="2702" y="491"/>
                  </a:lnTo>
                  <a:lnTo>
                    <a:pt x="2705" y="490"/>
                  </a:lnTo>
                  <a:lnTo>
                    <a:pt x="2709" y="490"/>
                  </a:lnTo>
                  <a:lnTo>
                    <a:pt x="2711" y="489"/>
                  </a:lnTo>
                  <a:lnTo>
                    <a:pt x="2714" y="488"/>
                  </a:lnTo>
                  <a:lnTo>
                    <a:pt x="2717" y="487"/>
                  </a:lnTo>
                  <a:lnTo>
                    <a:pt x="2720" y="485"/>
                  </a:lnTo>
                  <a:lnTo>
                    <a:pt x="2723" y="485"/>
                  </a:lnTo>
                  <a:lnTo>
                    <a:pt x="2725" y="484"/>
                  </a:lnTo>
                  <a:lnTo>
                    <a:pt x="2729" y="483"/>
                  </a:lnTo>
                  <a:lnTo>
                    <a:pt x="2731" y="482"/>
                  </a:lnTo>
                  <a:lnTo>
                    <a:pt x="2734" y="481"/>
                  </a:lnTo>
                  <a:lnTo>
                    <a:pt x="2738" y="480"/>
                  </a:lnTo>
                  <a:lnTo>
                    <a:pt x="2740" y="479"/>
                  </a:lnTo>
                  <a:lnTo>
                    <a:pt x="2743" y="479"/>
                  </a:lnTo>
                  <a:lnTo>
                    <a:pt x="2746" y="478"/>
                  </a:lnTo>
                  <a:lnTo>
                    <a:pt x="2749" y="477"/>
                  </a:lnTo>
                  <a:lnTo>
                    <a:pt x="2752" y="475"/>
                  </a:lnTo>
                  <a:lnTo>
                    <a:pt x="2754" y="474"/>
                  </a:lnTo>
                  <a:lnTo>
                    <a:pt x="2758" y="473"/>
                  </a:lnTo>
                  <a:lnTo>
                    <a:pt x="2760" y="472"/>
                  </a:lnTo>
                  <a:lnTo>
                    <a:pt x="2763" y="471"/>
                  </a:lnTo>
                  <a:lnTo>
                    <a:pt x="2767" y="470"/>
                  </a:lnTo>
                  <a:lnTo>
                    <a:pt x="2769" y="469"/>
                  </a:lnTo>
                  <a:lnTo>
                    <a:pt x="2772" y="468"/>
                  </a:lnTo>
                  <a:lnTo>
                    <a:pt x="2775" y="468"/>
                  </a:lnTo>
                  <a:lnTo>
                    <a:pt x="2778" y="467"/>
                  </a:lnTo>
                  <a:lnTo>
                    <a:pt x="2781" y="465"/>
                  </a:lnTo>
                  <a:lnTo>
                    <a:pt x="2783" y="464"/>
                  </a:lnTo>
                  <a:lnTo>
                    <a:pt x="2787" y="463"/>
                  </a:lnTo>
                  <a:lnTo>
                    <a:pt x="2789" y="462"/>
                  </a:lnTo>
                  <a:lnTo>
                    <a:pt x="2792" y="461"/>
                  </a:lnTo>
                  <a:lnTo>
                    <a:pt x="2795" y="460"/>
                  </a:lnTo>
                  <a:lnTo>
                    <a:pt x="2798" y="459"/>
                  </a:lnTo>
                  <a:lnTo>
                    <a:pt x="2801" y="458"/>
                  </a:lnTo>
                  <a:lnTo>
                    <a:pt x="2804" y="456"/>
                  </a:lnTo>
                  <a:lnTo>
                    <a:pt x="2807" y="455"/>
                  </a:lnTo>
                  <a:lnTo>
                    <a:pt x="2809" y="454"/>
                  </a:lnTo>
                  <a:lnTo>
                    <a:pt x="2812" y="453"/>
                  </a:lnTo>
                  <a:lnTo>
                    <a:pt x="2816" y="452"/>
                  </a:lnTo>
                  <a:lnTo>
                    <a:pt x="2818" y="451"/>
                  </a:lnTo>
                  <a:lnTo>
                    <a:pt x="2821" y="450"/>
                  </a:lnTo>
                  <a:lnTo>
                    <a:pt x="2824" y="449"/>
                  </a:lnTo>
                  <a:lnTo>
                    <a:pt x="2827" y="448"/>
                  </a:lnTo>
                  <a:lnTo>
                    <a:pt x="2830" y="446"/>
                  </a:lnTo>
                  <a:lnTo>
                    <a:pt x="2833" y="445"/>
                  </a:lnTo>
                  <a:lnTo>
                    <a:pt x="2836" y="443"/>
                  </a:lnTo>
                  <a:lnTo>
                    <a:pt x="2838" y="442"/>
                  </a:lnTo>
                  <a:lnTo>
                    <a:pt x="2841" y="441"/>
                  </a:lnTo>
                  <a:lnTo>
                    <a:pt x="2845" y="440"/>
                  </a:lnTo>
                  <a:lnTo>
                    <a:pt x="2847" y="439"/>
                  </a:lnTo>
                  <a:lnTo>
                    <a:pt x="2850" y="438"/>
                  </a:lnTo>
                  <a:lnTo>
                    <a:pt x="2853" y="436"/>
                  </a:lnTo>
                  <a:lnTo>
                    <a:pt x="2856" y="435"/>
                  </a:lnTo>
                  <a:lnTo>
                    <a:pt x="2859" y="434"/>
                  </a:lnTo>
                  <a:lnTo>
                    <a:pt x="2862" y="433"/>
                  </a:lnTo>
                  <a:lnTo>
                    <a:pt x="2865" y="432"/>
                  </a:lnTo>
                  <a:lnTo>
                    <a:pt x="2867" y="431"/>
                  </a:lnTo>
                  <a:lnTo>
                    <a:pt x="2870" y="429"/>
                  </a:lnTo>
                  <a:lnTo>
                    <a:pt x="2874" y="428"/>
                  </a:lnTo>
                  <a:lnTo>
                    <a:pt x="2876" y="426"/>
                  </a:lnTo>
                  <a:lnTo>
                    <a:pt x="2879" y="425"/>
                  </a:lnTo>
                  <a:lnTo>
                    <a:pt x="2882" y="424"/>
                  </a:lnTo>
                  <a:lnTo>
                    <a:pt x="2885" y="423"/>
                  </a:lnTo>
                  <a:lnTo>
                    <a:pt x="2887" y="422"/>
                  </a:lnTo>
                  <a:lnTo>
                    <a:pt x="2891" y="420"/>
                  </a:lnTo>
                  <a:lnTo>
                    <a:pt x="2894" y="419"/>
                  </a:lnTo>
                  <a:lnTo>
                    <a:pt x="2896" y="417"/>
                  </a:lnTo>
                  <a:lnTo>
                    <a:pt x="2899" y="416"/>
                  </a:lnTo>
                  <a:lnTo>
                    <a:pt x="2902" y="415"/>
                  </a:lnTo>
                  <a:lnTo>
                    <a:pt x="2905" y="414"/>
                  </a:lnTo>
                  <a:lnTo>
                    <a:pt x="2908" y="412"/>
                  </a:lnTo>
                  <a:lnTo>
                    <a:pt x="2911" y="411"/>
                  </a:lnTo>
                  <a:lnTo>
                    <a:pt x="2914" y="410"/>
                  </a:lnTo>
                  <a:lnTo>
                    <a:pt x="2916" y="409"/>
                  </a:lnTo>
                  <a:lnTo>
                    <a:pt x="2920" y="407"/>
                  </a:lnTo>
                  <a:lnTo>
                    <a:pt x="2923" y="406"/>
                  </a:lnTo>
                  <a:lnTo>
                    <a:pt x="2925" y="404"/>
                  </a:lnTo>
                  <a:lnTo>
                    <a:pt x="2928" y="403"/>
                  </a:lnTo>
                  <a:lnTo>
                    <a:pt x="2931" y="402"/>
                  </a:lnTo>
                  <a:lnTo>
                    <a:pt x="2934" y="401"/>
                  </a:lnTo>
                  <a:lnTo>
                    <a:pt x="2937" y="400"/>
                  </a:lnTo>
                  <a:lnTo>
                    <a:pt x="2940" y="397"/>
                  </a:lnTo>
                  <a:lnTo>
                    <a:pt x="2943" y="396"/>
                  </a:lnTo>
                  <a:lnTo>
                    <a:pt x="2945" y="395"/>
                  </a:lnTo>
                  <a:lnTo>
                    <a:pt x="2949" y="394"/>
                  </a:lnTo>
                  <a:lnTo>
                    <a:pt x="2952" y="392"/>
                  </a:lnTo>
                  <a:lnTo>
                    <a:pt x="2954" y="391"/>
                  </a:lnTo>
                  <a:lnTo>
                    <a:pt x="2957" y="390"/>
                  </a:lnTo>
                  <a:lnTo>
                    <a:pt x="2960" y="389"/>
                  </a:lnTo>
                  <a:lnTo>
                    <a:pt x="2963" y="386"/>
                  </a:lnTo>
                  <a:lnTo>
                    <a:pt x="2966" y="385"/>
                  </a:lnTo>
                  <a:lnTo>
                    <a:pt x="2969" y="384"/>
                  </a:lnTo>
                  <a:lnTo>
                    <a:pt x="2972" y="383"/>
                  </a:lnTo>
                  <a:lnTo>
                    <a:pt x="2974" y="381"/>
                  </a:lnTo>
                  <a:lnTo>
                    <a:pt x="2978" y="380"/>
                  </a:lnTo>
                  <a:lnTo>
                    <a:pt x="2980" y="378"/>
                  </a:lnTo>
                  <a:lnTo>
                    <a:pt x="2983" y="377"/>
                  </a:lnTo>
                  <a:lnTo>
                    <a:pt x="2986" y="375"/>
                  </a:lnTo>
                  <a:lnTo>
                    <a:pt x="2989" y="374"/>
                  </a:lnTo>
                  <a:lnTo>
                    <a:pt x="2992" y="373"/>
                  </a:lnTo>
                  <a:lnTo>
                    <a:pt x="2994" y="372"/>
                  </a:lnTo>
                  <a:lnTo>
                    <a:pt x="2998" y="370"/>
                  </a:lnTo>
                  <a:lnTo>
                    <a:pt x="3001" y="368"/>
                  </a:lnTo>
                  <a:lnTo>
                    <a:pt x="3003" y="367"/>
                  </a:lnTo>
                  <a:lnTo>
                    <a:pt x="3007" y="365"/>
                  </a:lnTo>
                  <a:lnTo>
                    <a:pt x="3009" y="364"/>
                  </a:lnTo>
                  <a:lnTo>
                    <a:pt x="3012" y="363"/>
                  </a:lnTo>
                  <a:lnTo>
                    <a:pt x="3015" y="362"/>
                  </a:lnTo>
                  <a:lnTo>
                    <a:pt x="3018" y="360"/>
                  </a:lnTo>
                  <a:lnTo>
                    <a:pt x="3021" y="358"/>
                  </a:lnTo>
                  <a:lnTo>
                    <a:pt x="3023" y="357"/>
                  </a:lnTo>
                  <a:lnTo>
                    <a:pt x="3027" y="355"/>
                  </a:lnTo>
                  <a:lnTo>
                    <a:pt x="3030" y="354"/>
                  </a:lnTo>
                  <a:lnTo>
                    <a:pt x="3032" y="353"/>
                  </a:lnTo>
                  <a:lnTo>
                    <a:pt x="3036" y="351"/>
                  </a:lnTo>
                  <a:lnTo>
                    <a:pt x="3038" y="350"/>
                  </a:lnTo>
                  <a:lnTo>
                    <a:pt x="3041" y="348"/>
                  </a:lnTo>
                  <a:lnTo>
                    <a:pt x="3044" y="346"/>
                  </a:lnTo>
                  <a:lnTo>
                    <a:pt x="3047" y="345"/>
                  </a:lnTo>
                  <a:lnTo>
                    <a:pt x="3050" y="344"/>
                  </a:lnTo>
                  <a:lnTo>
                    <a:pt x="3052" y="342"/>
                  </a:lnTo>
                  <a:lnTo>
                    <a:pt x="3056" y="341"/>
                  </a:lnTo>
                  <a:lnTo>
                    <a:pt x="3058" y="339"/>
                  </a:lnTo>
                  <a:lnTo>
                    <a:pt x="3061" y="337"/>
                  </a:lnTo>
                  <a:lnTo>
                    <a:pt x="3065" y="336"/>
                  </a:lnTo>
                  <a:lnTo>
                    <a:pt x="3067" y="335"/>
                  </a:lnTo>
                  <a:lnTo>
                    <a:pt x="3070" y="333"/>
                  </a:lnTo>
                  <a:lnTo>
                    <a:pt x="3072" y="332"/>
                  </a:lnTo>
                  <a:lnTo>
                    <a:pt x="3076" y="331"/>
                  </a:lnTo>
                  <a:lnTo>
                    <a:pt x="3079" y="328"/>
                  </a:lnTo>
                  <a:lnTo>
                    <a:pt x="3081" y="327"/>
                  </a:lnTo>
                  <a:lnTo>
                    <a:pt x="3085" y="326"/>
                  </a:lnTo>
                  <a:lnTo>
                    <a:pt x="3087" y="324"/>
                  </a:lnTo>
                  <a:lnTo>
                    <a:pt x="3090" y="323"/>
                  </a:lnTo>
                  <a:lnTo>
                    <a:pt x="3094" y="322"/>
                  </a:lnTo>
                  <a:lnTo>
                    <a:pt x="3096" y="319"/>
                  </a:lnTo>
                  <a:lnTo>
                    <a:pt x="3099" y="318"/>
                  </a:lnTo>
                  <a:lnTo>
                    <a:pt x="3101" y="316"/>
                  </a:lnTo>
                  <a:lnTo>
                    <a:pt x="3105" y="315"/>
                  </a:lnTo>
                  <a:lnTo>
                    <a:pt x="3108" y="314"/>
                  </a:lnTo>
                  <a:lnTo>
                    <a:pt x="3110" y="312"/>
                  </a:lnTo>
                  <a:lnTo>
                    <a:pt x="3114" y="311"/>
                  </a:lnTo>
                  <a:lnTo>
                    <a:pt x="3116" y="309"/>
                  </a:lnTo>
                  <a:lnTo>
                    <a:pt x="3119" y="307"/>
                  </a:lnTo>
                  <a:lnTo>
                    <a:pt x="3123" y="306"/>
                  </a:lnTo>
                  <a:lnTo>
                    <a:pt x="3125" y="305"/>
                  </a:lnTo>
                  <a:lnTo>
                    <a:pt x="3128" y="303"/>
                  </a:lnTo>
                  <a:lnTo>
                    <a:pt x="3130" y="302"/>
                  </a:lnTo>
                  <a:lnTo>
                    <a:pt x="3134" y="299"/>
                  </a:lnTo>
                  <a:lnTo>
                    <a:pt x="3137" y="298"/>
                  </a:lnTo>
                  <a:lnTo>
                    <a:pt x="3139" y="297"/>
                  </a:lnTo>
                  <a:lnTo>
                    <a:pt x="3143" y="295"/>
                  </a:lnTo>
                  <a:lnTo>
                    <a:pt x="3145" y="294"/>
                  </a:lnTo>
                  <a:lnTo>
                    <a:pt x="3148" y="293"/>
                  </a:lnTo>
                  <a:lnTo>
                    <a:pt x="3150" y="290"/>
                  </a:lnTo>
                  <a:lnTo>
                    <a:pt x="3154" y="289"/>
                  </a:lnTo>
                  <a:lnTo>
                    <a:pt x="3157" y="287"/>
                  </a:lnTo>
                  <a:lnTo>
                    <a:pt x="3159" y="286"/>
                  </a:lnTo>
                  <a:lnTo>
                    <a:pt x="3163" y="285"/>
                  </a:lnTo>
                  <a:lnTo>
                    <a:pt x="3165" y="283"/>
                  </a:lnTo>
                  <a:lnTo>
                    <a:pt x="3168" y="282"/>
                  </a:lnTo>
                  <a:lnTo>
                    <a:pt x="3172" y="280"/>
                  </a:lnTo>
                  <a:lnTo>
                    <a:pt x="3174" y="278"/>
                  </a:lnTo>
                  <a:lnTo>
                    <a:pt x="3177" y="277"/>
                  </a:lnTo>
                  <a:lnTo>
                    <a:pt x="3179" y="275"/>
                  </a:lnTo>
                  <a:lnTo>
                    <a:pt x="3183" y="274"/>
                  </a:lnTo>
                  <a:lnTo>
                    <a:pt x="3186" y="273"/>
                  </a:lnTo>
                  <a:lnTo>
                    <a:pt x="3188" y="270"/>
                  </a:lnTo>
                  <a:lnTo>
                    <a:pt x="3192" y="269"/>
                  </a:lnTo>
                  <a:lnTo>
                    <a:pt x="3194" y="267"/>
                  </a:lnTo>
                  <a:lnTo>
                    <a:pt x="3197" y="266"/>
                  </a:lnTo>
                  <a:lnTo>
                    <a:pt x="3201" y="265"/>
                  </a:lnTo>
                  <a:lnTo>
                    <a:pt x="3203" y="263"/>
                  </a:lnTo>
                  <a:lnTo>
                    <a:pt x="3206" y="262"/>
                  </a:lnTo>
                  <a:lnTo>
                    <a:pt x="3208" y="260"/>
                  </a:lnTo>
                  <a:lnTo>
                    <a:pt x="3212" y="258"/>
                  </a:lnTo>
                  <a:lnTo>
                    <a:pt x="3215" y="257"/>
                  </a:lnTo>
                  <a:lnTo>
                    <a:pt x="3217" y="255"/>
                  </a:lnTo>
                  <a:lnTo>
                    <a:pt x="3221" y="254"/>
                  </a:lnTo>
                  <a:lnTo>
                    <a:pt x="3223" y="253"/>
                  </a:lnTo>
                  <a:lnTo>
                    <a:pt x="3226" y="250"/>
                  </a:lnTo>
                  <a:lnTo>
                    <a:pt x="3230" y="249"/>
                  </a:lnTo>
                  <a:lnTo>
                    <a:pt x="3232" y="248"/>
                  </a:lnTo>
                  <a:lnTo>
                    <a:pt x="3235" y="246"/>
                  </a:lnTo>
                  <a:lnTo>
                    <a:pt x="3237" y="245"/>
                  </a:lnTo>
                  <a:lnTo>
                    <a:pt x="3241" y="243"/>
                  </a:lnTo>
                  <a:lnTo>
                    <a:pt x="3243" y="241"/>
                  </a:lnTo>
                  <a:lnTo>
                    <a:pt x="3246" y="240"/>
                  </a:lnTo>
                  <a:lnTo>
                    <a:pt x="3250" y="238"/>
                  </a:lnTo>
                  <a:lnTo>
                    <a:pt x="3252" y="237"/>
                  </a:lnTo>
                  <a:lnTo>
                    <a:pt x="3255" y="236"/>
                  </a:lnTo>
                  <a:lnTo>
                    <a:pt x="3258" y="234"/>
                  </a:lnTo>
                  <a:lnTo>
                    <a:pt x="3261" y="233"/>
                  </a:lnTo>
                  <a:lnTo>
                    <a:pt x="3264" y="230"/>
                  </a:lnTo>
                  <a:lnTo>
                    <a:pt x="3266" y="229"/>
                  </a:lnTo>
                  <a:lnTo>
                    <a:pt x="3270" y="228"/>
                  </a:lnTo>
                  <a:lnTo>
                    <a:pt x="3272" y="226"/>
                  </a:lnTo>
                  <a:lnTo>
                    <a:pt x="3275" y="225"/>
                  </a:lnTo>
                  <a:lnTo>
                    <a:pt x="3279" y="224"/>
                  </a:lnTo>
                  <a:lnTo>
                    <a:pt x="3281" y="221"/>
                  </a:lnTo>
                  <a:lnTo>
                    <a:pt x="3284" y="220"/>
                  </a:lnTo>
                  <a:lnTo>
                    <a:pt x="3287" y="219"/>
                  </a:lnTo>
                  <a:lnTo>
                    <a:pt x="3290" y="217"/>
                  </a:lnTo>
                  <a:lnTo>
                    <a:pt x="3293" y="216"/>
                  </a:lnTo>
                  <a:lnTo>
                    <a:pt x="3295" y="214"/>
                  </a:lnTo>
                  <a:lnTo>
                    <a:pt x="3299" y="212"/>
                  </a:lnTo>
                  <a:lnTo>
                    <a:pt x="3301" y="211"/>
                  </a:lnTo>
                  <a:lnTo>
                    <a:pt x="3304" y="209"/>
                  </a:lnTo>
                  <a:lnTo>
                    <a:pt x="3308" y="208"/>
                  </a:lnTo>
                  <a:lnTo>
                    <a:pt x="3310" y="207"/>
                  </a:lnTo>
                  <a:lnTo>
                    <a:pt x="3313" y="205"/>
                  </a:lnTo>
                  <a:lnTo>
                    <a:pt x="3316" y="204"/>
                  </a:lnTo>
                  <a:lnTo>
                    <a:pt x="3319" y="202"/>
                  </a:lnTo>
                  <a:lnTo>
                    <a:pt x="3322" y="200"/>
                  </a:lnTo>
                  <a:lnTo>
                    <a:pt x="3324" y="199"/>
                  </a:lnTo>
                  <a:lnTo>
                    <a:pt x="3328" y="198"/>
                  </a:lnTo>
                  <a:lnTo>
                    <a:pt x="3330" y="196"/>
                  </a:lnTo>
                  <a:lnTo>
                    <a:pt x="3333" y="195"/>
                  </a:lnTo>
                  <a:lnTo>
                    <a:pt x="3336" y="194"/>
                  </a:lnTo>
                  <a:lnTo>
                    <a:pt x="3339" y="191"/>
                  </a:lnTo>
                  <a:lnTo>
                    <a:pt x="3342" y="190"/>
                  </a:lnTo>
                  <a:lnTo>
                    <a:pt x="3345" y="189"/>
                  </a:lnTo>
                  <a:lnTo>
                    <a:pt x="3348" y="187"/>
                  </a:lnTo>
                  <a:lnTo>
                    <a:pt x="3350" y="186"/>
                  </a:lnTo>
                  <a:lnTo>
                    <a:pt x="3353" y="185"/>
                  </a:lnTo>
                  <a:lnTo>
                    <a:pt x="3357" y="182"/>
                  </a:lnTo>
                  <a:lnTo>
                    <a:pt x="3359" y="181"/>
                  </a:lnTo>
                  <a:lnTo>
                    <a:pt x="3362" y="180"/>
                  </a:lnTo>
                  <a:lnTo>
                    <a:pt x="3365" y="179"/>
                  </a:lnTo>
                  <a:lnTo>
                    <a:pt x="3368" y="177"/>
                  </a:lnTo>
                  <a:lnTo>
                    <a:pt x="3371" y="176"/>
                  </a:lnTo>
                  <a:lnTo>
                    <a:pt x="3374" y="175"/>
                  </a:lnTo>
                  <a:lnTo>
                    <a:pt x="3377" y="172"/>
                  </a:lnTo>
                  <a:lnTo>
                    <a:pt x="3379" y="171"/>
                  </a:lnTo>
                  <a:lnTo>
                    <a:pt x="3382" y="170"/>
                  </a:lnTo>
                  <a:lnTo>
                    <a:pt x="3386" y="169"/>
                  </a:lnTo>
                  <a:lnTo>
                    <a:pt x="3388" y="167"/>
                  </a:lnTo>
                  <a:lnTo>
                    <a:pt x="3391" y="166"/>
                  </a:lnTo>
                  <a:lnTo>
                    <a:pt x="3394" y="165"/>
                  </a:lnTo>
                  <a:lnTo>
                    <a:pt x="3397" y="162"/>
                  </a:lnTo>
                  <a:lnTo>
                    <a:pt x="3400" y="161"/>
                  </a:lnTo>
                  <a:lnTo>
                    <a:pt x="3403" y="160"/>
                  </a:lnTo>
                  <a:lnTo>
                    <a:pt x="3406" y="159"/>
                  </a:lnTo>
                  <a:lnTo>
                    <a:pt x="3408" y="157"/>
                  </a:lnTo>
                  <a:lnTo>
                    <a:pt x="3411" y="156"/>
                  </a:lnTo>
                  <a:lnTo>
                    <a:pt x="3414" y="155"/>
                  </a:lnTo>
                  <a:lnTo>
                    <a:pt x="3417" y="153"/>
                  </a:lnTo>
                  <a:lnTo>
                    <a:pt x="3420" y="151"/>
                  </a:lnTo>
                  <a:lnTo>
                    <a:pt x="3423" y="150"/>
                  </a:lnTo>
                  <a:lnTo>
                    <a:pt x="3426" y="149"/>
                  </a:lnTo>
                  <a:lnTo>
                    <a:pt x="3428" y="148"/>
                  </a:lnTo>
                  <a:lnTo>
                    <a:pt x="3432" y="146"/>
                  </a:lnTo>
                  <a:lnTo>
                    <a:pt x="3435" y="145"/>
                  </a:lnTo>
                  <a:lnTo>
                    <a:pt x="3437" y="143"/>
                  </a:lnTo>
                  <a:lnTo>
                    <a:pt x="3441" y="142"/>
                  </a:lnTo>
                  <a:lnTo>
                    <a:pt x="3443" y="141"/>
                  </a:lnTo>
                  <a:lnTo>
                    <a:pt x="3446" y="139"/>
                  </a:lnTo>
                  <a:lnTo>
                    <a:pt x="3449" y="138"/>
                  </a:lnTo>
                  <a:lnTo>
                    <a:pt x="3452" y="137"/>
                  </a:lnTo>
                  <a:lnTo>
                    <a:pt x="3455" y="136"/>
                  </a:lnTo>
                  <a:lnTo>
                    <a:pt x="3457" y="133"/>
                  </a:lnTo>
                  <a:lnTo>
                    <a:pt x="3461" y="132"/>
                  </a:lnTo>
                  <a:lnTo>
                    <a:pt x="3464" y="131"/>
                  </a:lnTo>
                  <a:lnTo>
                    <a:pt x="3466" y="130"/>
                  </a:lnTo>
                  <a:lnTo>
                    <a:pt x="3470" y="129"/>
                  </a:lnTo>
                  <a:lnTo>
                    <a:pt x="3472" y="128"/>
                  </a:lnTo>
                  <a:lnTo>
                    <a:pt x="3475" y="126"/>
                  </a:lnTo>
                  <a:lnTo>
                    <a:pt x="3478" y="124"/>
                  </a:lnTo>
                  <a:lnTo>
                    <a:pt x="3481" y="123"/>
                  </a:lnTo>
                  <a:lnTo>
                    <a:pt x="3484" y="122"/>
                  </a:lnTo>
                  <a:lnTo>
                    <a:pt x="3486" y="121"/>
                  </a:lnTo>
                  <a:lnTo>
                    <a:pt x="3490" y="120"/>
                  </a:lnTo>
                  <a:lnTo>
                    <a:pt x="3493" y="118"/>
                  </a:lnTo>
                  <a:lnTo>
                    <a:pt x="3495" y="117"/>
                  </a:lnTo>
                  <a:lnTo>
                    <a:pt x="3499" y="116"/>
                  </a:lnTo>
                  <a:lnTo>
                    <a:pt x="3501" y="114"/>
                  </a:lnTo>
                  <a:lnTo>
                    <a:pt x="3504" y="113"/>
                  </a:lnTo>
                  <a:lnTo>
                    <a:pt x="3506" y="112"/>
                  </a:lnTo>
                  <a:lnTo>
                    <a:pt x="3510" y="111"/>
                  </a:lnTo>
                  <a:lnTo>
                    <a:pt x="3513" y="110"/>
                  </a:lnTo>
                  <a:lnTo>
                    <a:pt x="3515" y="108"/>
                  </a:lnTo>
                  <a:lnTo>
                    <a:pt x="3519" y="107"/>
                  </a:lnTo>
                  <a:lnTo>
                    <a:pt x="3521" y="106"/>
                  </a:lnTo>
                  <a:lnTo>
                    <a:pt x="3524" y="104"/>
                  </a:lnTo>
                  <a:lnTo>
                    <a:pt x="3528" y="103"/>
                  </a:lnTo>
                  <a:lnTo>
                    <a:pt x="3530" y="102"/>
                  </a:lnTo>
                  <a:lnTo>
                    <a:pt x="3533" y="101"/>
                  </a:lnTo>
                  <a:lnTo>
                    <a:pt x="3535" y="100"/>
                  </a:lnTo>
                  <a:lnTo>
                    <a:pt x="3539" y="99"/>
                  </a:lnTo>
                  <a:lnTo>
                    <a:pt x="3542" y="98"/>
                  </a:lnTo>
                  <a:lnTo>
                    <a:pt x="3544" y="97"/>
                  </a:lnTo>
                  <a:lnTo>
                    <a:pt x="3548" y="96"/>
                  </a:lnTo>
                  <a:lnTo>
                    <a:pt x="3550" y="93"/>
                  </a:lnTo>
                  <a:lnTo>
                    <a:pt x="3553" y="92"/>
                  </a:lnTo>
                  <a:lnTo>
                    <a:pt x="3557" y="91"/>
                  </a:lnTo>
                  <a:lnTo>
                    <a:pt x="3559" y="90"/>
                  </a:lnTo>
                  <a:lnTo>
                    <a:pt x="3562" y="89"/>
                  </a:lnTo>
                  <a:lnTo>
                    <a:pt x="3564" y="88"/>
                  </a:lnTo>
                  <a:lnTo>
                    <a:pt x="3568" y="87"/>
                  </a:lnTo>
                  <a:lnTo>
                    <a:pt x="3571" y="85"/>
                  </a:lnTo>
                  <a:lnTo>
                    <a:pt x="3573" y="84"/>
                  </a:lnTo>
                  <a:lnTo>
                    <a:pt x="3577" y="83"/>
                  </a:lnTo>
                  <a:lnTo>
                    <a:pt x="3579" y="82"/>
                  </a:lnTo>
                  <a:lnTo>
                    <a:pt x="3582" y="81"/>
                  </a:lnTo>
                  <a:lnTo>
                    <a:pt x="3586" y="80"/>
                  </a:lnTo>
                  <a:lnTo>
                    <a:pt x="3588" y="79"/>
                  </a:lnTo>
                  <a:lnTo>
                    <a:pt x="3591" y="78"/>
                  </a:lnTo>
                  <a:lnTo>
                    <a:pt x="3593" y="77"/>
                  </a:lnTo>
                  <a:lnTo>
                    <a:pt x="3597" y="75"/>
                  </a:lnTo>
                  <a:lnTo>
                    <a:pt x="3599" y="74"/>
                  </a:lnTo>
                  <a:lnTo>
                    <a:pt x="3602" y="73"/>
                  </a:lnTo>
                  <a:lnTo>
                    <a:pt x="3606" y="73"/>
                  </a:lnTo>
                  <a:lnTo>
                    <a:pt x="3608" y="72"/>
                  </a:lnTo>
                  <a:lnTo>
                    <a:pt x="3611" y="71"/>
                  </a:lnTo>
                  <a:lnTo>
                    <a:pt x="3613" y="70"/>
                  </a:lnTo>
                  <a:lnTo>
                    <a:pt x="3617" y="69"/>
                  </a:lnTo>
                  <a:lnTo>
                    <a:pt x="3620" y="68"/>
                  </a:lnTo>
                  <a:lnTo>
                    <a:pt x="3622" y="67"/>
                  </a:lnTo>
                  <a:lnTo>
                    <a:pt x="3626" y="65"/>
                  </a:lnTo>
                  <a:lnTo>
                    <a:pt x="3628" y="64"/>
                  </a:lnTo>
                  <a:lnTo>
                    <a:pt x="3631" y="63"/>
                  </a:lnTo>
                  <a:lnTo>
                    <a:pt x="3635" y="62"/>
                  </a:lnTo>
                  <a:lnTo>
                    <a:pt x="3637" y="61"/>
                  </a:lnTo>
                  <a:lnTo>
                    <a:pt x="3640" y="61"/>
                  </a:lnTo>
                  <a:lnTo>
                    <a:pt x="3642" y="60"/>
                  </a:lnTo>
                  <a:lnTo>
                    <a:pt x="3646" y="59"/>
                  </a:lnTo>
                  <a:lnTo>
                    <a:pt x="3649" y="58"/>
                  </a:lnTo>
                  <a:lnTo>
                    <a:pt x="3651" y="57"/>
                  </a:lnTo>
                  <a:lnTo>
                    <a:pt x="3655" y="55"/>
                  </a:lnTo>
                  <a:lnTo>
                    <a:pt x="3657" y="54"/>
                  </a:lnTo>
                  <a:lnTo>
                    <a:pt x="3660" y="54"/>
                  </a:lnTo>
                  <a:lnTo>
                    <a:pt x="3664" y="53"/>
                  </a:lnTo>
                  <a:lnTo>
                    <a:pt x="3666" y="52"/>
                  </a:lnTo>
                  <a:lnTo>
                    <a:pt x="3669" y="51"/>
                  </a:lnTo>
                  <a:lnTo>
                    <a:pt x="3671" y="50"/>
                  </a:lnTo>
                  <a:lnTo>
                    <a:pt x="3675" y="50"/>
                  </a:lnTo>
                  <a:lnTo>
                    <a:pt x="3678" y="49"/>
                  </a:lnTo>
                  <a:lnTo>
                    <a:pt x="3680" y="48"/>
                  </a:lnTo>
                  <a:lnTo>
                    <a:pt x="3684" y="46"/>
                  </a:lnTo>
                  <a:lnTo>
                    <a:pt x="3686" y="45"/>
                  </a:lnTo>
                  <a:lnTo>
                    <a:pt x="3689" y="45"/>
                  </a:lnTo>
                  <a:lnTo>
                    <a:pt x="3692" y="44"/>
                  </a:lnTo>
                  <a:lnTo>
                    <a:pt x="3695" y="43"/>
                  </a:lnTo>
                  <a:lnTo>
                    <a:pt x="3698" y="42"/>
                  </a:lnTo>
                  <a:lnTo>
                    <a:pt x="3700" y="42"/>
                  </a:lnTo>
                  <a:lnTo>
                    <a:pt x="3704" y="41"/>
                  </a:lnTo>
                  <a:lnTo>
                    <a:pt x="3706" y="40"/>
                  </a:lnTo>
                  <a:lnTo>
                    <a:pt x="3709" y="39"/>
                  </a:lnTo>
                  <a:lnTo>
                    <a:pt x="3713" y="39"/>
                  </a:lnTo>
                  <a:lnTo>
                    <a:pt x="3715" y="38"/>
                  </a:lnTo>
                  <a:lnTo>
                    <a:pt x="3718" y="36"/>
                  </a:lnTo>
                  <a:lnTo>
                    <a:pt x="3721" y="36"/>
                  </a:lnTo>
                  <a:lnTo>
                    <a:pt x="3724" y="35"/>
                  </a:lnTo>
                  <a:lnTo>
                    <a:pt x="3727" y="34"/>
                  </a:lnTo>
                  <a:lnTo>
                    <a:pt x="3729" y="34"/>
                  </a:lnTo>
                  <a:lnTo>
                    <a:pt x="3733" y="33"/>
                  </a:lnTo>
                  <a:lnTo>
                    <a:pt x="3735" y="32"/>
                  </a:lnTo>
                  <a:lnTo>
                    <a:pt x="3738" y="32"/>
                  </a:lnTo>
                  <a:lnTo>
                    <a:pt x="3742" y="31"/>
                  </a:lnTo>
                  <a:lnTo>
                    <a:pt x="3744" y="30"/>
                  </a:lnTo>
                  <a:lnTo>
                    <a:pt x="3747" y="30"/>
                  </a:lnTo>
                  <a:lnTo>
                    <a:pt x="3750" y="29"/>
                  </a:lnTo>
                  <a:lnTo>
                    <a:pt x="3753" y="28"/>
                  </a:lnTo>
                  <a:lnTo>
                    <a:pt x="3756" y="28"/>
                  </a:lnTo>
                  <a:lnTo>
                    <a:pt x="3758" y="26"/>
                  </a:lnTo>
                  <a:lnTo>
                    <a:pt x="3762" y="26"/>
                  </a:lnTo>
                  <a:lnTo>
                    <a:pt x="3764" y="25"/>
                  </a:lnTo>
                  <a:lnTo>
                    <a:pt x="3767" y="24"/>
                  </a:lnTo>
                  <a:lnTo>
                    <a:pt x="3771" y="24"/>
                  </a:lnTo>
                  <a:lnTo>
                    <a:pt x="3773" y="23"/>
                  </a:lnTo>
                  <a:lnTo>
                    <a:pt x="3776" y="23"/>
                  </a:lnTo>
                  <a:lnTo>
                    <a:pt x="3779" y="22"/>
                  </a:lnTo>
                  <a:lnTo>
                    <a:pt x="3782" y="22"/>
                  </a:lnTo>
                  <a:lnTo>
                    <a:pt x="3784" y="21"/>
                  </a:lnTo>
                  <a:lnTo>
                    <a:pt x="3787" y="21"/>
                  </a:lnTo>
                  <a:lnTo>
                    <a:pt x="3791" y="20"/>
                  </a:lnTo>
                  <a:lnTo>
                    <a:pt x="3793" y="19"/>
                  </a:lnTo>
                  <a:lnTo>
                    <a:pt x="3796" y="19"/>
                  </a:lnTo>
                  <a:lnTo>
                    <a:pt x="3799" y="18"/>
                  </a:lnTo>
                  <a:lnTo>
                    <a:pt x="3802" y="18"/>
                  </a:lnTo>
                  <a:lnTo>
                    <a:pt x="3805" y="16"/>
                  </a:lnTo>
                  <a:lnTo>
                    <a:pt x="3808" y="16"/>
                  </a:lnTo>
                  <a:lnTo>
                    <a:pt x="3811" y="16"/>
                  </a:lnTo>
                  <a:lnTo>
                    <a:pt x="3813" y="15"/>
                  </a:lnTo>
                  <a:lnTo>
                    <a:pt x="3816" y="15"/>
                  </a:lnTo>
                  <a:lnTo>
                    <a:pt x="3820" y="14"/>
                  </a:lnTo>
                  <a:lnTo>
                    <a:pt x="3822" y="14"/>
                  </a:lnTo>
                  <a:lnTo>
                    <a:pt x="3825" y="13"/>
                  </a:lnTo>
                  <a:lnTo>
                    <a:pt x="3828" y="13"/>
                  </a:lnTo>
                  <a:lnTo>
                    <a:pt x="3831" y="12"/>
                  </a:lnTo>
                  <a:lnTo>
                    <a:pt x="3834" y="12"/>
                  </a:lnTo>
                  <a:lnTo>
                    <a:pt x="3837" y="12"/>
                  </a:lnTo>
                  <a:lnTo>
                    <a:pt x="3840" y="11"/>
                  </a:lnTo>
                  <a:lnTo>
                    <a:pt x="3842" y="11"/>
                  </a:lnTo>
                  <a:lnTo>
                    <a:pt x="3845" y="10"/>
                  </a:lnTo>
                  <a:lnTo>
                    <a:pt x="3849" y="10"/>
                  </a:lnTo>
                  <a:lnTo>
                    <a:pt x="3851" y="10"/>
                  </a:lnTo>
                  <a:lnTo>
                    <a:pt x="3854" y="9"/>
                  </a:lnTo>
                  <a:lnTo>
                    <a:pt x="3857" y="9"/>
                  </a:lnTo>
                  <a:lnTo>
                    <a:pt x="3860" y="9"/>
                  </a:lnTo>
                  <a:lnTo>
                    <a:pt x="3862" y="7"/>
                  </a:lnTo>
                  <a:lnTo>
                    <a:pt x="3866" y="7"/>
                  </a:lnTo>
                  <a:lnTo>
                    <a:pt x="3869" y="7"/>
                  </a:lnTo>
                  <a:lnTo>
                    <a:pt x="3871" y="6"/>
                  </a:lnTo>
                  <a:lnTo>
                    <a:pt x="3874" y="6"/>
                  </a:lnTo>
                  <a:lnTo>
                    <a:pt x="3877" y="6"/>
                  </a:lnTo>
                  <a:lnTo>
                    <a:pt x="3880" y="5"/>
                  </a:lnTo>
                  <a:lnTo>
                    <a:pt x="3883" y="5"/>
                  </a:lnTo>
                  <a:lnTo>
                    <a:pt x="3886" y="5"/>
                  </a:lnTo>
                  <a:lnTo>
                    <a:pt x="3889" y="5"/>
                  </a:lnTo>
                  <a:lnTo>
                    <a:pt x="3891" y="4"/>
                  </a:lnTo>
                  <a:lnTo>
                    <a:pt x="3895" y="4"/>
                  </a:lnTo>
                  <a:lnTo>
                    <a:pt x="3898" y="4"/>
                  </a:lnTo>
                  <a:lnTo>
                    <a:pt x="3900" y="4"/>
                  </a:lnTo>
                  <a:lnTo>
                    <a:pt x="3903" y="3"/>
                  </a:lnTo>
                  <a:lnTo>
                    <a:pt x="3906" y="3"/>
                  </a:lnTo>
                  <a:lnTo>
                    <a:pt x="3909" y="3"/>
                  </a:lnTo>
                  <a:lnTo>
                    <a:pt x="3912" y="3"/>
                  </a:lnTo>
                  <a:lnTo>
                    <a:pt x="3915" y="2"/>
                  </a:lnTo>
                  <a:lnTo>
                    <a:pt x="3918" y="2"/>
                  </a:lnTo>
                  <a:lnTo>
                    <a:pt x="3920" y="2"/>
                  </a:lnTo>
                  <a:lnTo>
                    <a:pt x="3924" y="2"/>
                  </a:lnTo>
                  <a:lnTo>
                    <a:pt x="3927" y="2"/>
                  </a:lnTo>
                  <a:lnTo>
                    <a:pt x="3929" y="2"/>
                  </a:lnTo>
                  <a:lnTo>
                    <a:pt x="3932" y="1"/>
                  </a:lnTo>
                  <a:lnTo>
                    <a:pt x="3935" y="1"/>
                  </a:lnTo>
                  <a:lnTo>
                    <a:pt x="3938" y="1"/>
                  </a:lnTo>
                  <a:lnTo>
                    <a:pt x="3941" y="1"/>
                  </a:lnTo>
                  <a:lnTo>
                    <a:pt x="3944" y="1"/>
                  </a:lnTo>
                  <a:lnTo>
                    <a:pt x="3947" y="1"/>
                  </a:lnTo>
                  <a:lnTo>
                    <a:pt x="3949" y="1"/>
                  </a:lnTo>
                  <a:lnTo>
                    <a:pt x="3953" y="1"/>
                  </a:lnTo>
                  <a:lnTo>
                    <a:pt x="3955" y="0"/>
                  </a:lnTo>
                  <a:lnTo>
                    <a:pt x="3958" y="0"/>
                  </a:lnTo>
                  <a:lnTo>
                    <a:pt x="3961" y="0"/>
                  </a:lnTo>
                  <a:lnTo>
                    <a:pt x="3964" y="0"/>
                  </a:lnTo>
                  <a:lnTo>
                    <a:pt x="3967" y="0"/>
                  </a:lnTo>
                  <a:lnTo>
                    <a:pt x="3969" y="0"/>
                  </a:lnTo>
                  <a:lnTo>
                    <a:pt x="3973" y="0"/>
                  </a:lnTo>
                  <a:lnTo>
                    <a:pt x="3976" y="0"/>
                  </a:lnTo>
                  <a:lnTo>
                    <a:pt x="3978" y="0"/>
                  </a:lnTo>
                  <a:lnTo>
                    <a:pt x="3982" y="0"/>
                  </a:lnTo>
                  <a:lnTo>
                    <a:pt x="3984" y="0"/>
                  </a:lnTo>
                  <a:lnTo>
                    <a:pt x="3987" y="0"/>
                  </a:lnTo>
                  <a:lnTo>
                    <a:pt x="3990" y="0"/>
                  </a:lnTo>
                  <a:lnTo>
                    <a:pt x="3993" y="0"/>
                  </a:lnTo>
                  <a:lnTo>
                    <a:pt x="3996" y="0"/>
                  </a:lnTo>
                  <a:lnTo>
                    <a:pt x="3998" y="0"/>
                  </a:lnTo>
                  <a:lnTo>
                    <a:pt x="4002" y="0"/>
                  </a:lnTo>
                  <a:lnTo>
                    <a:pt x="4005" y="0"/>
                  </a:lnTo>
                  <a:lnTo>
                    <a:pt x="4007" y="0"/>
                  </a:lnTo>
                  <a:lnTo>
                    <a:pt x="4011" y="0"/>
                  </a:lnTo>
                  <a:lnTo>
                    <a:pt x="4013" y="0"/>
                  </a:lnTo>
                  <a:lnTo>
                    <a:pt x="4016" y="0"/>
                  </a:lnTo>
                  <a:lnTo>
                    <a:pt x="4019" y="0"/>
                  </a:lnTo>
                  <a:lnTo>
                    <a:pt x="4022" y="1"/>
                  </a:lnTo>
                  <a:lnTo>
                    <a:pt x="4025" y="1"/>
                  </a:lnTo>
                  <a:lnTo>
                    <a:pt x="4027" y="1"/>
                  </a:lnTo>
                  <a:lnTo>
                    <a:pt x="4031" y="1"/>
                  </a:lnTo>
                  <a:lnTo>
                    <a:pt x="4034" y="1"/>
                  </a:lnTo>
                  <a:lnTo>
                    <a:pt x="4036" y="1"/>
                  </a:lnTo>
                  <a:lnTo>
                    <a:pt x="4040" y="1"/>
                  </a:lnTo>
                  <a:lnTo>
                    <a:pt x="4042" y="1"/>
                  </a:lnTo>
                  <a:lnTo>
                    <a:pt x="4045" y="2"/>
                  </a:lnTo>
                  <a:lnTo>
                    <a:pt x="4047" y="2"/>
                  </a:lnTo>
                  <a:lnTo>
                    <a:pt x="4051" y="2"/>
                  </a:lnTo>
                  <a:lnTo>
                    <a:pt x="4054" y="2"/>
                  </a:lnTo>
                  <a:lnTo>
                    <a:pt x="4056" y="2"/>
                  </a:lnTo>
                  <a:lnTo>
                    <a:pt x="4060" y="2"/>
                  </a:lnTo>
                  <a:lnTo>
                    <a:pt x="4062" y="3"/>
                  </a:lnTo>
                  <a:lnTo>
                    <a:pt x="4065" y="3"/>
                  </a:lnTo>
                  <a:lnTo>
                    <a:pt x="4069" y="3"/>
                  </a:lnTo>
                  <a:lnTo>
                    <a:pt x="4071" y="3"/>
                  </a:lnTo>
                  <a:lnTo>
                    <a:pt x="4074" y="3"/>
                  </a:lnTo>
                  <a:lnTo>
                    <a:pt x="4076" y="4"/>
                  </a:lnTo>
                  <a:lnTo>
                    <a:pt x="4080" y="4"/>
                  </a:lnTo>
                  <a:lnTo>
                    <a:pt x="4083" y="4"/>
                  </a:lnTo>
                  <a:lnTo>
                    <a:pt x="4085" y="4"/>
                  </a:lnTo>
                  <a:lnTo>
                    <a:pt x="4089" y="5"/>
                  </a:lnTo>
                  <a:lnTo>
                    <a:pt x="4091" y="5"/>
                  </a:lnTo>
                  <a:lnTo>
                    <a:pt x="4094" y="5"/>
                  </a:lnTo>
                  <a:lnTo>
                    <a:pt x="4098" y="6"/>
                  </a:lnTo>
                  <a:lnTo>
                    <a:pt x="4100" y="6"/>
                  </a:lnTo>
                  <a:lnTo>
                    <a:pt x="4103" y="6"/>
                  </a:lnTo>
                  <a:lnTo>
                    <a:pt x="4105" y="7"/>
                  </a:lnTo>
                  <a:lnTo>
                    <a:pt x="4109" y="7"/>
                  </a:lnTo>
                  <a:lnTo>
                    <a:pt x="4112" y="7"/>
                  </a:lnTo>
                  <a:lnTo>
                    <a:pt x="4114" y="7"/>
                  </a:lnTo>
                  <a:lnTo>
                    <a:pt x="4118" y="9"/>
                  </a:lnTo>
                  <a:lnTo>
                    <a:pt x="4120" y="9"/>
                  </a:lnTo>
                  <a:lnTo>
                    <a:pt x="4123" y="10"/>
                  </a:lnTo>
                  <a:lnTo>
                    <a:pt x="4127" y="10"/>
                  </a:lnTo>
                  <a:lnTo>
                    <a:pt x="4129" y="10"/>
                  </a:lnTo>
                  <a:lnTo>
                    <a:pt x="4132" y="11"/>
                  </a:lnTo>
                  <a:lnTo>
                    <a:pt x="4134" y="11"/>
                  </a:lnTo>
                  <a:lnTo>
                    <a:pt x="4138" y="11"/>
                  </a:lnTo>
                  <a:lnTo>
                    <a:pt x="4140" y="12"/>
                  </a:lnTo>
                  <a:lnTo>
                    <a:pt x="4143" y="12"/>
                  </a:lnTo>
                  <a:lnTo>
                    <a:pt x="4147" y="13"/>
                  </a:lnTo>
                  <a:lnTo>
                    <a:pt x="4149" y="13"/>
                  </a:lnTo>
                  <a:lnTo>
                    <a:pt x="4152" y="14"/>
                  </a:lnTo>
                  <a:lnTo>
                    <a:pt x="4154" y="14"/>
                  </a:lnTo>
                  <a:lnTo>
                    <a:pt x="4158" y="14"/>
                  </a:lnTo>
                  <a:lnTo>
                    <a:pt x="4161" y="15"/>
                  </a:lnTo>
                  <a:lnTo>
                    <a:pt x="4163" y="15"/>
                  </a:lnTo>
                  <a:lnTo>
                    <a:pt x="4167" y="16"/>
                  </a:lnTo>
                  <a:lnTo>
                    <a:pt x="4169" y="16"/>
                  </a:lnTo>
                  <a:lnTo>
                    <a:pt x="4172" y="18"/>
                  </a:lnTo>
                  <a:lnTo>
                    <a:pt x="4176" y="18"/>
                  </a:lnTo>
                  <a:lnTo>
                    <a:pt x="4178" y="19"/>
                  </a:lnTo>
                  <a:lnTo>
                    <a:pt x="4181" y="19"/>
                  </a:lnTo>
                  <a:lnTo>
                    <a:pt x="4183" y="20"/>
                  </a:lnTo>
                  <a:lnTo>
                    <a:pt x="4187" y="20"/>
                  </a:lnTo>
                  <a:lnTo>
                    <a:pt x="4190" y="21"/>
                  </a:lnTo>
                  <a:lnTo>
                    <a:pt x="4192" y="21"/>
                  </a:lnTo>
                  <a:lnTo>
                    <a:pt x="4196" y="22"/>
                  </a:lnTo>
                  <a:lnTo>
                    <a:pt x="4198" y="23"/>
                  </a:lnTo>
                  <a:lnTo>
                    <a:pt x="4201" y="23"/>
                  </a:lnTo>
                  <a:lnTo>
                    <a:pt x="4205" y="24"/>
                  </a:lnTo>
                  <a:lnTo>
                    <a:pt x="4207" y="24"/>
                  </a:lnTo>
                  <a:lnTo>
                    <a:pt x="4210" y="25"/>
                  </a:lnTo>
                  <a:lnTo>
                    <a:pt x="4212" y="25"/>
                  </a:lnTo>
                  <a:lnTo>
                    <a:pt x="4216" y="26"/>
                  </a:lnTo>
                  <a:lnTo>
                    <a:pt x="4219" y="28"/>
                  </a:lnTo>
                  <a:lnTo>
                    <a:pt x="4221" y="28"/>
                  </a:lnTo>
                  <a:lnTo>
                    <a:pt x="4225" y="29"/>
                  </a:lnTo>
                  <a:lnTo>
                    <a:pt x="4227" y="30"/>
                  </a:lnTo>
                  <a:lnTo>
                    <a:pt x="4230" y="30"/>
                  </a:lnTo>
                  <a:lnTo>
                    <a:pt x="4233" y="31"/>
                  </a:lnTo>
                  <a:lnTo>
                    <a:pt x="4236" y="31"/>
                  </a:lnTo>
                  <a:lnTo>
                    <a:pt x="4239" y="32"/>
                  </a:lnTo>
                  <a:lnTo>
                    <a:pt x="4241" y="33"/>
                  </a:lnTo>
                  <a:lnTo>
                    <a:pt x="4245" y="33"/>
                  </a:lnTo>
                  <a:lnTo>
                    <a:pt x="4247" y="34"/>
                  </a:lnTo>
                  <a:lnTo>
                    <a:pt x="4250" y="35"/>
                  </a:lnTo>
                  <a:lnTo>
                    <a:pt x="4254" y="35"/>
                  </a:lnTo>
                  <a:lnTo>
                    <a:pt x="4256" y="36"/>
                  </a:lnTo>
                  <a:lnTo>
                    <a:pt x="4259" y="38"/>
                  </a:lnTo>
                  <a:lnTo>
                    <a:pt x="4262" y="39"/>
                  </a:lnTo>
                  <a:lnTo>
                    <a:pt x="4265" y="39"/>
                  </a:lnTo>
                  <a:lnTo>
                    <a:pt x="4268" y="40"/>
                  </a:lnTo>
                  <a:lnTo>
                    <a:pt x="4270" y="41"/>
                  </a:lnTo>
                  <a:lnTo>
                    <a:pt x="4274" y="41"/>
                  </a:lnTo>
                  <a:lnTo>
                    <a:pt x="4276" y="42"/>
                  </a:lnTo>
                  <a:lnTo>
                    <a:pt x="4279" y="43"/>
                  </a:lnTo>
                  <a:lnTo>
                    <a:pt x="4283" y="44"/>
                  </a:lnTo>
                  <a:lnTo>
                    <a:pt x="4285" y="44"/>
                  </a:lnTo>
                  <a:lnTo>
                    <a:pt x="4288" y="45"/>
                  </a:lnTo>
                  <a:lnTo>
                    <a:pt x="4291" y="46"/>
                  </a:lnTo>
                  <a:lnTo>
                    <a:pt x="4294" y="48"/>
                  </a:lnTo>
                  <a:lnTo>
                    <a:pt x="4297" y="49"/>
                  </a:lnTo>
                  <a:lnTo>
                    <a:pt x="4299" y="49"/>
                  </a:lnTo>
                  <a:lnTo>
                    <a:pt x="4303" y="50"/>
                  </a:lnTo>
                  <a:lnTo>
                    <a:pt x="4305" y="51"/>
                  </a:lnTo>
                  <a:lnTo>
                    <a:pt x="4308" y="52"/>
                  </a:lnTo>
                  <a:lnTo>
                    <a:pt x="4311" y="53"/>
                  </a:lnTo>
                  <a:lnTo>
                    <a:pt x="4314" y="53"/>
                  </a:lnTo>
                  <a:lnTo>
                    <a:pt x="4317" y="54"/>
                  </a:lnTo>
                  <a:lnTo>
                    <a:pt x="4320" y="55"/>
                  </a:lnTo>
                  <a:lnTo>
                    <a:pt x="4323" y="57"/>
                  </a:lnTo>
                  <a:lnTo>
                    <a:pt x="4325" y="58"/>
                  </a:lnTo>
                  <a:lnTo>
                    <a:pt x="4328" y="59"/>
                  </a:lnTo>
                  <a:lnTo>
                    <a:pt x="4332" y="60"/>
                  </a:lnTo>
                  <a:lnTo>
                    <a:pt x="4334" y="60"/>
                  </a:lnTo>
                  <a:lnTo>
                    <a:pt x="4337" y="61"/>
                  </a:lnTo>
                  <a:lnTo>
                    <a:pt x="4340" y="62"/>
                  </a:lnTo>
                  <a:lnTo>
                    <a:pt x="4343" y="63"/>
                  </a:lnTo>
                  <a:lnTo>
                    <a:pt x="4346" y="64"/>
                  </a:lnTo>
                  <a:lnTo>
                    <a:pt x="4349" y="65"/>
                  </a:lnTo>
                  <a:lnTo>
                    <a:pt x="4352" y="67"/>
                  </a:lnTo>
                  <a:lnTo>
                    <a:pt x="4354" y="68"/>
                  </a:lnTo>
                  <a:lnTo>
                    <a:pt x="4357" y="69"/>
                  </a:lnTo>
                  <a:lnTo>
                    <a:pt x="4361" y="69"/>
                  </a:lnTo>
                  <a:lnTo>
                    <a:pt x="4363" y="70"/>
                  </a:lnTo>
                  <a:lnTo>
                    <a:pt x="4366" y="71"/>
                  </a:lnTo>
                  <a:lnTo>
                    <a:pt x="4369" y="72"/>
                  </a:lnTo>
                  <a:lnTo>
                    <a:pt x="4372" y="73"/>
                  </a:lnTo>
                  <a:lnTo>
                    <a:pt x="4375" y="74"/>
                  </a:lnTo>
                  <a:lnTo>
                    <a:pt x="4378" y="75"/>
                  </a:lnTo>
                  <a:lnTo>
                    <a:pt x="4381" y="77"/>
                  </a:lnTo>
                  <a:lnTo>
                    <a:pt x="4383" y="78"/>
                  </a:lnTo>
                  <a:lnTo>
                    <a:pt x="4386" y="79"/>
                  </a:lnTo>
                  <a:lnTo>
                    <a:pt x="4390" y="80"/>
                  </a:lnTo>
                  <a:lnTo>
                    <a:pt x="4392" y="81"/>
                  </a:lnTo>
                  <a:lnTo>
                    <a:pt x="4395" y="82"/>
                  </a:lnTo>
                  <a:lnTo>
                    <a:pt x="4398" y="83"/>
                  </a:lnTo>
                  <a:lnTo>
                    <a:pt x="4401" y="84"/>
                  </a:lnTo>
                  <a:lnTo>
                    <a:pt x="4403" y="85"/>
                  </a:lnTo>
                  <a:lnTo>
                    <a:pt x="4407" y="87"/>
                  </a:lnTo>
                  <a:lnTo>
                    <a:pt x="4410" y="88"/>
                  </a:lnTo>
                  <a:lnTo>
                    <a:pt x="4412" y="89"/>
                  </a:lnTo>
                  <a:lnTo>
                    <a:pt x="4415" y="90"/>
                  </a:lnTo>
                  <a:lnTo>
                    <a:pt x="4418" y="91"/>
                  </a:lnTo>
                  <a:lnTo>
                    <a:pt x="4421" y="92"/>
                  </a:lnTo>
                  <a:lnTo>
                    <a:pt x="4424" y="93"/>
                  </a:lnTo>
                  <a:lnTo>
                    <a:pt x="4427" y="94"/>
                  </a:lnTo>
                  <a:lnTo>
                    <a:pt x="4430" y="96"/>
                  </a:lnTo>
                  <a:lnTo>
                    <a:pt x="4432" y="97"/>
                  </a:lnTo>
                  <a:lnTo>
                    <a:pt x="4436" y="98"/>
                  </a:lnTo>
                  <a:lnTo>
                    <a:pt x="4439" y="100"/>
                  </a:lnTo>
                  <a:lnTo>
                    <a:pt x="4441" y="101"/>
                  </a:lnTo>
                  <a:lnTo>
                    <a:pt x="4445" y="102"/>
                  </a:lnTo>
                  <a:lnTo>
                    <a:pt x="4447" y="103"/>
                  </a:lnTo>
                  <a:lnTo>
                    <a:pt x="4450" y="104"/>
                  </a:lnTo>
                  <a:lnTo>
                    <a:pt x="4453" y="106"/>
                  </a:lnTo>
                  <a:lnTo>
                    <a:pt x="4456" y="107"/>
                  </a:lnTo>
                  <a:lnTo>
                    <a:pt x="4459" y="108"/>
                  </a:lnTo>
                  <a:lnTo>
                    <a:pt x="4461" y="109"/>
                  </a:lnTo>
                  <a:lnTo>
                    <a:pt x="4465" y="110"/>
                  </a:lnTo>
                  <a:lnTo>
                    <a:pt x="4468" y="112"/>
                  </a:lnTo>
                  <a:lnTo>
                    <a:pt x="4470" y="113"/>
                  </a:lnTo>
                  <a:lnTo>
                    <a:pt x="4474" y="114"/>
                  </a:lnTo>
                  <a:lnTo>
                    <a:pt x="4476" y="116"/>
                  </a:lnTo>
                  <a:lnTo>
                    <a:pt x="4479" y="117"/>
                  </a:lnTo>
                  <a:lnTo>
                    <a:pt x="4482" y="118"/>
                  </a:lnTo>
                  <a:lnTo>
                    <a:pt x="4485" y="119"/>
                  </a:lnTo>
                  <a:lnTo>
                    <a:pt x="4488" y="120"/>
                  </a:lnTo>
                  <a:lnTo>
                    <a:pt x="4490" y="122"/>
                  </a:lnTo>
                  <a:lnTo>
                    <a:pt x="4494" y="123"/>
                  </a:lnTo>
                  <a:lnTo>
                    <a:pt x="4496" y="124"/>
                  </a:lnTo>
                  <a:lnTo>
                    <a:pt x="4499" y="126"/>
                  </a:lnTo>
                  <a:lnTo>
                    <a:pt x="4503" y="127"/>
                  </a:lnTo>
                  <a:lnTo>
                    <a:pt x="4505" y="128"/>
                  </a:lnTo>
                  <a:lnTo>
                    <a:pt x="4508" y="130"/>
                  </a:lnTo>
                  <a:lnTo>
                    <a:pt x="4510" y="131"/>
                  </a:lnTo>
                  <a:lnTo>
                    <a:pt x="4514" y="132"/>
                  </a:lnTo>
                  <a:lnTo>
                    <a:pt x="4517" y="133"/>
                  </a:lnTo>
                  <a:lnTo>
                    <a:pt x="4519" y="134"/>
                  </a:lnTo>
                  <a:lnTo>
                    <a:pt x="4523" y="137"/>
                  </a:lnTo>
                  <a:lnTo>
                    <a:pt x="4525" y="138"/>
                  </a:lnTo>
                  <a:lnTo>
                    <a:pt x="4528" y="139"/>
                  </a:lnTo>
                  <a:lnTo>
                    <a:pt x="4532" y="140"/>
                  </a:lnTo>
                  <a:lnTo>
                    <a:pt x="4534" y="141"/>
                  </a:lnTo>
                  <a:lnTo>
                    <a:pt x="4537" y="143"/>
                  </a:lnTo>
                  <a:lnTo>
                    <a:pt x="4539" y="145"/>
                  </a:lnTo>
                  <a:lnTo>
                    <a:pt x="4543" y="146"/>
                  </a:lnTo>
                  <a:lnTo>
                    <a:pt x="4546" y="147"/>
                  </a:lnTo>
                  <a:lnTo>
                    <a:pt x="4548" y="149"/>
                  </a:lnTo>
                  <a:lnTo>
                    <a:pt x="4552" y="150"/>
                  </a:lnTo>
                  <a:lnTo>
                    <a:pt x="4554" y="151"/>
                  </a:lnTo>
                  <a:lnTo>
                    <a:pt x="4557" y="152"/>
                  </a:lnTo>
                  <a:lnTo>
                    <a:pt x="4561" y="155"/>
                  </a:lnTo>
                  <a:lnTo>
                    <a:pt x="4563" y="156"/>
                  </a:lnTo>
                  <a:lnTo>
                    <a:pt x="4566" y="157"/>
                  </a:lnTo>
                  <a:lnTo>
                    <a:pt x="4568" y="158"/>
                  </a:lnTo>
                  <a:lnTo>
                    <a:pt x="4572" y="160"/>
                  </a:lnTo>
                  <a:lnTo>
                    <a:pt x="4575" y="161"/>
                  </a:lnTo>
                  <a:lnTo>
                    <a:pt x="4577" y="162"/>
                  </a:lnTo>
                  <a:lnTo>
                    <a:pt x="4581" y="163"/>
                  </a:lnTo>
                  <a:lnTo>
                    <a:pt x="4583" y="166"/>
                  </a:lnTo>
                  <a:lnTo>
                    <a:pt x="4586" y="167"/>
                  </a:lnTo>
                  <a:lnTo>
                    <a:pt x="4588" y="168"/>
                  </a:lnTo>
                  <a:lnTo>
                    <a:pt x="4592" y="169"/>
                  </a:lnTo>
                  <a:lnTo>
                    <a:pt x="4595" y="171"/>
                  </a:lnTo>
                  <a:lnTo>
                    <a:pt x="4597" y="172"/>
                  </a:lnTo>
                  <a:lnTo>
                    <a:pt x="4601" y="173"/>
                  </a:lnTo>
                  <a:lnTo>
                    <a:pt x="4603" y="176"/>
                  </a:lnTo>
                  <a:lnTo>
                    <a:pt x="4606" y="177"/>
                  </a:lnTo>
                  <a:lnTo>
                    <a:pt x="4610" y="178"/>
                  </a:lnTo>
                  <a:lnTo>
                    <a:pt x="4612" y="180"/>
                  </a:lnTo>
                  <a:lnTo>
                    <a:pt x="4615" y="181"/>
                  </a:lnTo>
                  <a:lnTo>
                    <a:pt x="4617" y="182"/>
                  </a:lnTo>
                  <a:lnTo>
                    <a:pt x="4621" y="184"/>
                  </a:lnTo>
                  <a:lnTo>
                    <a:pt x="4624" y="186"/>
                  </a:lnTo>
                  <a:lnTo>
                    <a:pt x="4626" y="187"/>
                  </a:lnTo>
                  <a:lnTo>
                    <a:pt x="4630" y="188"/>
                  </a:lnTo>
                  <a:lnTo>
                    <a:pt x="4632" y="190"/>
                  </a:lnTo>
                  <a:lnTo>
                    <a:pt x="4635" y="191"/>
                  </a:lnTo>
                  <a:lnTo>
                    <a:pt x="4639" y="192"/>
                  </a:lnTo>
                  <a:lnTo>
                    <a:pt x="4641" y="195"/>
                  </a:lnTo>
                  <a:lnTo>
                    <a:pt x="4644" y="196"/>
                  </a:lnTo>
                  <a:lnTo>
                    <a:pt x="4646" y="197"/>
                  </a:lnTo>
                  <a:lnTo>
                    <a:pt x="4650" y="199"/>
                  </a:lnTo>
                  <a:lnTo>
                    <a:pt x="4653" y="200"/>
                  </a:lnTo>
                  <a:lnTo>
                    <a:pt x="4655" y="201"/>
                  </a:lnTo>
                  <a:lnTo>
                    <a:pt x="4659" y="204"/>
                  </a:lnTo>
                  <a:lnTo>
                    <a:pt x="4661" y="205"/>
                  </a:lnTo>
                  <a:lnTo>
                    <a:pt x="4664" y="206"/>
                  </a:lnTo>
                  <a:lnTo>
                    <a:pt x="4668" y="208"/>
                  </a:lnTo>
                  <a:lnTo>
                    <a:pt x="4670" y="209"/>
                  </a:lnTo>
                  <a:lnTo>
                    <a:pt x="4673" y="210"/>
                  </a:lnTo>
                  <a:lnTo>
                    <a:pt x="4675" y="212"/>
                  </a:lnTo>
                  <a:lnTo>
                    <a:pt x="4679" y="214"/>
                  </a:lnTo>
                  <a:lnTo>
                    <a:pt x="4681" y="215"/>
                  </a:lnTo>
                  <a:lnTo>
                    <a:pt x="4684" y="217"/>
                  </a:lnTo>
                  <a:lnTo>
                    <a:pt x="4688" y="218"/>
                  </a:lnTo>
                  <a:lnTo>
                    <a:pt x="4690" y="220"/>
                  </a:lnTo>
                  <a:lnTo>
                    <a:pt x="4693" y="221"/>
                  </a:lnTo>
                  <a:lnTo>
                    <a:pt x="4696" y="223"/>
                  </a:lnTo>
                  <a:lnTo>
                    <a:pt x="4699" y="225"/>
                  </a:lnTo>
                  <a:lnTo>
                    <a:pt x="4702" y="226"/>
                  </a:lnTo>
                  <a:lnTo>
                    <a:pt x="4704" y="227"/>
                  </a:lnTo>
                  <a:lnTo>
                    <a:pt x="4708" y="229"/>
                  </a:lnTo>
                  <a:lnTo>
                    <a:pt x="4710" y="230"/>
                  </a:lnTo>
                  <a:lnTo>
                    <a:pt x="4713" y="231"/>
                  </a:lnTo>
                  <a:lnTo>
                    <a:pt x="4717" y="234"/>
                  </a:lnTo>
                  <a:lnTo>
                    <a:pt x="4719" y="235"/>
                  </a:lnTo>
                  <a:lnTo>
                    <a:pt x="4722" y="237"/>
                  </a:lnTo>
                  <a:lnTo>
                    <a:pt x="4725" y="238"/>
                  </a:lnTo>
                  <a:lnTo>
                    <a:pt x="4728" y="239"/>
                  </a:lnTo>
                  <a:lnTo>
                    <a:pt x="4731" y="241"/>
                  </a:lnTo>
                  <a:lnTo>
                    <a:pt x="4733" y="243"/>
                  </a:lnTo>
                  <a:lnTo>
                    <a:pt x="4737" y="244"/>
                  </a:lnTo>
                  <a:lnTo>
                    <a:pt x="4739" y="246"/>
                  </a:lnTo>
                  <a:lnTo>
                    <a:pt x="4742" y="247"/>
                  </a:lnTo>
                  <a:lnTo>
                    <a:pt x="4746" y="249"/>
                  </a:lnTo>
                  <a:lnTo>
                    <a:pt x="4748" y="250"/>
                  </a:lnTo>
                  <a:lnTo>
                    <a:pt x="4751" y="251"/>
                  </a:lnTo>
                  <a:lnTo>
                    <a:pt x="4754" y="254"/>
                  </a:lnTo>
                  <a:lnTo>
                    <a:pt x="4757" y="255"/>
                  </a:lnTo>
                  <a:lnTo>
                    <a:pt x="4759" y="256"/>
                  </a:lnTo>
                  <a:lnTo>
                    <a:pt x="4762" y="258"/>
                  </a:lnTo>
                  <a:lnTo>
                    <a:pt x="4766" y="259"/>
                  </a:lnTo>
                  <a:lnTo>
                    <a:pt x="4768" y="262"/>
                  </a:lnTo>
                  <a:lnTo>
                    <a:pt x="4771" y="263"/>
                  </a:lnTo>
                  <a:lnTo>
                    <a:pt x="4774" y="264"/>
                  </a:lnTo>
                  <a:lnTo>
                    <a:pt x="4777" y="266"/>
                  </a:lnTo>
                  <a:lnTo>
                    <a:pt x="4780" y="267"/>
                  </a:lnTo>
                  <a:lnTo>
                    <a:pt x="4783" y="268"/>
                  </a:lnTo>
                  <a:lnTo>
                    <a:pt x="4786" y="270"/>
                  </a:lnTo>
                  <a:lnTo>
                    <a:pt x="4788" y="272"/>
                  </a:lnTo>
                  <a:lnTo>
                    <a:pt x="4791" y="274"/>
                  </a:lnTo>
                  <a:lnTo>
                    <a:pt x="4795" y="275"/>
                  </a:lnTo>
                  <a:lnTo>
                    <a:pt x="4797" y="276"/>
                  </a:lnTo>
                  <a:lnTo>
                    <a:pt x="4800" y="278"/>
                  </a:lnTo>
                  <a:lnTo>
                    <a:pt x="4803" y="279"/>
                  </a:lnTo>
                  <a:lnTo>
                    <a:pt x="4806" y="282"/>
                  </a:lnTo>
                  <a:lnTo>
                    <a:pt x="4809" y="283"/>
                  </a:lnTo>
                  <a:lnTo>
                    <a:pt x="4812" y="284"/>
                  </a:lnTo>
                  <a:lnTo>
                    <a:pt x="4815" y="286"/>
                  </a:lnTo>
                  <a:lnTo>
                    <a:pt x="4817" y="287"/>
                  </a:lnTo>
                  <a:lnTo>
                    <a:pt x="4820" y="288"/>
                  </a:lnTo>
                  <a:lnTo>
                    <a:pt x="4824" y="290"/>
                  </a:lnTo>
                  <a:lnTo>
                    <a:pt x="4826" y="292"/>
                  </a:lnTo>
                  <a:lnTo>
                    <a:pt x="4829" y="294"/>
                  </a:lnTo>
                  <a:lnTo>
                    <a:pt x="4832" y="295"/>
                  </a:lnTo>
                  <a:lnTo>
                    <a:pt x="4835" y="296"/>
                  </a:lnTo>
                  <a:lnTo>
                    <a:pt x="4838" y="298"/>
                  </a:lnTo>
                  <a:lnTo>
                    <a:pt x="4841" y="299"/>
                  </a:lnTo>
                  <a:lnTo>
                    <a:pt x="4844" y="301"/>
                  </a:lnTo>
                  <a:lnTo>
                    <a:pt x="4846" y="303"/>
                  </a:lnTo>
                  <a:lnTo>
                    <a:pt x="4849" y="304"/>
                  </a:lnTo>
                  <a:lnTo>
                    <a:pt x="4852" y="306"/>
                  </a:lnTo>
                  <a:lnTo>
                    <a:pt x="4855" y="307"/>
                  </a:lnTo>
                  <a:lnTo>
                    <a:pt x="4858" y="308"/>
                  </a:lnTo>
                  <a:lnTo>
                    <a:pt x="4861" y="311"/>
                  </a:lnTo>
                  <a:lnTo>
                    <a:pt x="4864" y="312"/>
                  </a:lnTo>
                  <a:lnTo>
                    <a:pt x="4866" y="313"/>
                  </a:lnTo>
                  <a:lnTo>
                    <a:pt x="4870" y="315"/>
                  </a:lnTo>
                  <a:lnTo>
                    <a:pt x="4873" y="316"/>
                  </a:lnTo>
                  <a:lnTo>
                    <a:pt x="4875" y="318"/>
                  </a:lnTo>
                  <a:lnTo>
                    <a:pt x="4878" y="319"/>
                  </a:lnTo>
                  <a:lnTo>
                    <a:pt x="4881" y="321"/>
                  </a:lnTo>
                  <a:lnTo>
                    <a:pt x="4884" y="323"/>
                  </a:lnTo>
                  <a:lnTo>
                    <a:pt x="4887" y="324"/>
                  </a:lnTo>
                  <a:lnTo>
                    <a:pt x="4890" y="325"/>
                  </a:lnTo>
                  <a:lnTo>
                    <a:pt x="4893" y="327"/>
                  </a:lnTo>
                  <a:lnTo>
                    <a:pt x="4895" y="328"/>
                  </a:lnTo>
                  <a:lnTo>
                    <a:pt x="4899" y="329"/>
                  </a:lnTo>
                  <a:lnTo>
                    <a:pt x="4902" y="332"/>
                  </a:lnTo>
                  <a:lnTo>
                    <a:pt x="4904" y="333"/>
                  </a:lnTo>
                  <a:lnTo>
                    <a:pt x="4907" y="334"/>
                  </a:lnTo>
                  <a:lnTo>
                    <a:pt x="4910" y="336"/>
                  </a:lnTo>
                  <a:lnTo>
                    <a:pt x="4913" y="337"/>
                  </a:lnTo>
                  <a:lnTo>
                    <a:pt x="4916" y="338"/>
                  </a:lnTo>
                  <a:lnTo>
                    <a:pt x="4919" y="341"/>
                  </a:lnTo>
                  <a:lnTo>
                    <a:pt x="4922" y="342"/>
                  </a:lnTo>
                  <a:lnTo>
                    <a:pt x="4924" y="343"/>
                  </a:lnTo>
                  <a:lnTo>
                    <a:pt x="4928" y="345"/>
                  </a:lnTo>
                  <a:lnTo>
                    <a:pt x="4931" y="346"/>
                  </a:lnTo>
                  <a:lnTo>
                    <a:pt x="4933" y="347"/>
                  </a:lnTo>
                  <a:lnTo>
                    <a:pt x="4936" y="350"/>
                  </a:lnTo>
                  <a:lnTo>
                    <a:pt x="4939" y="351"/>
                  </a:lnTo>
                  <a:lnTo>
                    <a:pt x="4942" y="352"/>
                  </a:lnTo>
                  <a:lnTo>
                    <a:pt x="4944" y="354"/>
                  </a:lnTo>
                  <a:lnTo>
                    <a:pt x="4948" y="355"/>
                  </a:lnTo>
                  <a:lnTo>
                    <a:pt x="4951" y="356"/>
                  </a:lnTo>
                  <a:lnTo>
                    <a:pt x="4953" y="358"/>
                  </a:lnTo>
                  <a:lnTo>
                    <a:pt x="4957" y="360"/>
                  </a:lnTo>
                  <a:lnTo>
                    <a:pt x="4959" y="361"/>
                  </a:lnTo>
                  <a:lnTo>
                    <a:pt x="4962" y="362"/>
                  </a:lnTo>
                  <a:lnTo>
                    <a:pt x="4965" y="364"/>
                  </a:lnTo>
                  <a:lnTo>
                    <a:pt x="4968" y="365"/>
                  </a:lnTo>
                  <a:lnTo>
                    <a:pt x="4971" y="366"/>
                  </a:lnTo>
                  <a:lnTo>
                    <a:pt x="4973" y="368"/>
                  </a:lnTo>
                  <a:lnTo>
                    <a:pt x="4977" y="370"/>
                  </a:lnTo>
                  <a:lnTo>
                    <a:pt x="4980" y="371"/>
                  </a:lnTo>
                  <a:lnTo>
                    <a:pt x="4982" y="373"/>
                  </a:lnTo>
                  <a:lnTo>
                    <a:pt x="4986" y="374"/>
                  </a:lnTo>
                  <a:lnTo>
                    <a:pt x="4988" y="375"/>
                  </a:lnTo>
                  <a:lnTo>
                    <a:pt x="4991" y="376"/>
                  </a:lnTo>
                  <a:lnTo>
                    <a:pt x="4994" y="378"/>
                  </a:lnTo>
                  <a:lnTo>
                    <a:pt x="4997" y="380"/>
                  </a:lnTo>
                  <a:lnTo>
                    <a:pt x="5000" y="381"/>
                  </a:lnTo>
                  <a:lnTo>
                    <a:pt x="5002" y="382"/>
                  </a:lnTo>
                  <a:lnTo>
                    <a:pt x="5006" y="384"/>
                  </a:lnTo>
                  <a:lnTo>
                    <a:pt x="5009" y="385"/>
                  </a:lnTo>
                  <a:lnTo>
                    <a:pt x="5011" y="386"/>
                  </a:lnTo>
                  <a:lnTo>
                    <a:pt x="5015" y="387"/>
                  </a:lnTo>
                  <a:lnTo>
                    <a:pt x="5017" y="390"/>
                  </a:lnTo>
                  <a:lnTo>
                    <a:pt x="5020" y="391"/>
                  </a:lnTo>
                  <a:lnTo>
                    <a:pt x="5023" y="392"/>
                  </a:lnTo>
                  <a:lnTo>
                    <a:pt x="5026" y="393"/>
                  </a:lnTo>
                  <a:lnTo>
                    <a:pt x="5029" y="395"/>
                  </a:lnTo>
                  <a:lnTo>
                    <a:pt x="5031" y="396"/>
                  </a:lnTo>
                  <a:lnTo>
                    <a:pt x="5035" y="397"/>
                  </a:lnTo>
                  <a:lnTo>
                    <a:pt x="5037" y="399"/>
                  </a:lnTo>
                  <a:lnTo>
                    <a:pt x="5040" y="400"/>
                  </a:lnTo>
                  <a:lnTo>
                    <a:pt x="5044" y="402"/>
                  </a:lnTo>
                  <a:lnTo>
                    <a:pt x="5046" y="403"/>
                  </a:lnTo>
                  <a:lnTo>
                    <a:pt x="5049" y="404"/>
                  </a:lnTo>
                  <a:lnTo>
                    <a:pt x="5051" y="405"/>
                  </a:lnTo>
                  <a:lnTo>
                    <a:pt x="5055" y="406"/>
                  </a:lnTo>
                  <a:lnTo>
                    <a:pt x="5058" y="409"/>
                  </a:lnTo>
                  <a:lnTo>
                    <a:pt x="5060" y="410"/>
                  </a:lnTo>
                  <a:lnTo>
                    <a:pt x="5064" y="411"/>
                  </a:lnTo>
                  <a:lnTo>
                    <a:pt x="5066" y="412"/>
                  </a:lnTo>
                  <a:lnTo>
                    <a:pt x="5069" y="413"/>
                  </a:lnTo>
                  <a:lnTo>
                    <a:pt x="5073" y="415"/>
                  </a:lnTo>
                  <a:lnTo>
                    <a:pt x="5075" y="416"/>
                  </a:lnTo>
                  <a:lnTo>
                    <a:pt x="5078" y="417"/>
                  </a:lnTo>
                  <a:lnTo>
                    <a:pt x="5080" y="419"/>
                  </a:lnTo>
                  <a:lnTo>
                    <a:pt x="5084" y="420"/>
                  </a:lnTo>
                  <a:lnTo>
                    <a:pt x="5087" y="421"/>
                  </a:lnTo>
                  <a:lnTo>
                    <a:pt x="5089" y="422"/>
                  </a:lnTo>
                  <a:lnTo>
                    <a:pt x="5093" y="424"/>
                  </a:lnTo>
                  <a:lnTo>
                    <a:pt x="5095" y="425"/>
                  </a:lnTo>
                  <a:lnTo>
                    <a:pt x="5098" y="426"/>
                  </a:lnTo>
                  <a:lnTo>
                    <a:pt x="5102" y="428"/>
                  </a:lnTo>
                  <a:lnTo>
                    <a:pt x="5104" y="429"/>
                  </a:lnTo>
                  <a:lnTo>
                    <a:pt x="5107" y="430"/>
                  </a:lnTo>
                  <a:lnTo>
                    <a:pt x="5109" y="431"/>
                  </a:lnTo>
                  <a:lnTo>
                    <a:pt x="5113" y="432"/>
                  </a:lnTo>
                  <a:lnTo>
                    <a:pt x="5115" y="434"/>
                  </a:lnTo>
                  <a:lnTo>
                    <a:pt x="5118" y="435"/>
                  </a:lnTo>
                  <a:lnTo>
                    <a:pt x="5122" y="436"/>
                  </a:lnTo>
                  <a:lnTo>
                    <a:pt x="5124" y="438"/>
                  </a:lnTo>
                  <a:lnTo>
                    <a:pt x="5127" y="439"/>
                  </a:lnTo>
                  <a:lnTo>
                    <a:pt x="5129" y="440"/>
                  </a:lnTo>
                  <a:lnTo>
                    <a:pt x="5133" y="441"/>
                  </a:lnTo>
                  <a:lnTo>
                    <a:pt x="5136" y="442"/>
                  </a:lnTo>
                  <a:lnTo>
                    <a:pt x="5138" y="443"/>
                  </a:lnTo>
                  <a:lnTo>
                    <a:pt x="5142" y="444"/>
                  </a:lnTo>
                  <a:lnTo>
                    <a:pt x="5144" y="445"/>
                  </a:lnTo>
                  <a:lnTo>
                    <a:pt x="5147" y="446"/>
                  </a:lnTo>
                  <a:lnTo>
                    <a:pt x="5151" y="448"/>
                  </a:lnTo>
                  <a:lnTo>
                    <a:pt x="5153" y="449"/>
                  </a:lnTo>
                  <a:lnTo>
                    <a:pt x="5156" y="450"/>
                  </a:lnTo>
                  <a:lnTo>
                    <a:pt x="5158" y="451"/>
                  </a:lnTo>
                  <a:lnTo>
                    <a:pt x="5162" y="453"/>
                  </a:lnTo>
                  <a:lnTo>
                    <a:pt x="5165" y="454"/>
                  </a:lnTo>
                  <a:lnTo>
                    <a:pt x="5167" y="455"/>
                  </a:lnTo>
                  <a:lnTo>
                    <a:pt x="5171" y="456"/>
                  </a:lnTo>
                  <a:lnTo>
                    <a:pt x="5173" y="458"/>
                  </a:lnTo>
                  <a:lnTo>
                    <a:pt x="5176" y="459"/>
                  </a:lnTo>
                  <a:lnTo>
                    <a:pt x="5180" y="460"/>
                  </a:lnTo>
                  <a:lnTo>
                    <a:pt x="5182" y="461"/>
                  </a:lnTo>
                  <a:lnTo>
                    <a:pt x="5185" y="461"/>
                  </a:lnTo>
                  <a:lnTo>
                    <a:pt x="5187" y="462"/>
                  </a:lnTo>
                  <a:lnTo>
                    <a:pt x="5191" y="463"/>
                  </a:lnTo>
                  <a:lnTo>
                    <a:pt x="5194" y="464"/>
                  </a:lnTo>
                  <a:lnTo>
                    <a:pt x="5196" y="465"/>
                  </a:lnTo>
                  <a:lnTo>
                    <a:pt x="5200" y="467"/>
                  </a:lnTo>
                  <a:lnTo>
                    <a:pt x="5202" y="468"/>
                  </a:lnTo>
                  <a:lnTo>
                    <a:pt x="5205" y="469"/>
                  </a:lnTo>
                  <a:lnTo>
                    <a:pt x="5208" y="470"/>
                  </a:lnTo>
                  <a:lnTo>
                    <a:pt x="5211" y="471"/>
                  </a:lnTo>
                  <a:lnTo>
                    <a:pt x="5214" y="472"/>
                  </a:lnTo>
                  <a:lnTo>
                    <a:pt x="5216" y="473"/>
                  </a:lnTo>
                  <a:lnTo>
                    <a:pt x="5220" y="474"/>
                  </a:lnTo>
                  <a:lnTo>
                    <a:pt x="5222" y="475"/>
                  </a:lnTo>
                  <a:lnTo>
                    <a:pt x="5225" y="477"/>
                  </a:lnTo>
                  <a:lnTo>
                    <a:pt x="5229" y="477"/>
                  </a:lnTo>
                  <a:lnTo>
                    <a:pt x="5231" y="478"/>
                  </a:lnTo>
                  <a:lnTo>
                    <a:pt x="5234" y="479"/>
                  </a:lnTo>
                  <a:lnTo>
                    <a:pt x="5237" y="480"/>
                  </a:lnTo>
                  <a:lnTo>
                    <a:pt x="5240" y="481"/>
                  </a:lnTo>
                  <a:lnTo>
                    <a:pt x="5243" y="482"/>
                  </a:lnTo>
                  <a:lnTo>
                    <a:pt x="5245" y="483"/>
                  </a:lnTo>
                  <a:lnTo>
                    <a:pt x="5249" y="484"/>
                  </a:lnTo>
                  <a:lnTo>
                    <a:pt x="5251" y="484"/>
                  </a:lnTo>
                  <a:lnTo>
                    <a:pt x="5254" y="485"/>
                  </a:lnTo>
                  <a:lnTo>
                    <a:pt x="5258" y="487"/>
                  </a:lnTo>
                  <a:lnTo>
                    <a:pt x="5260" y="488"/>
                  </a:lnTo>
                  <a:lnTo>
                    <a:pt x="5263" y="489"/>
                  </a:lnTo>
                  <a:lnTo>
                    <a:pt x="5266" y="489"/>
                  </a:lnTo>
                  <a:lnTo>
                    <a:pt x="5269" y="490"/>
                  </a:lnTo>
                  <a:lnTo>
                    <a:pt x="5272" y="491"/>
                  </a:lnTo>
                  <a:lnTo>
                    <a:pt x="5274" y="492"/>
                  </a:lnTo>
                  <a:lnTo>
                    <a:pt x="5278" y="493"/>
                  </a:lnTo>
                  <a:lnTo>
                    <a:pt x="5280" y="493"/>
                  </a:lnTo>
                  <a:lnTo>
                    <a:pt x="5283" y="494"/>
                  </a:lnTo>
                  <a:lnTo>
                    <a:pt x="5287" y="495"/>
                  </a:lnTo>
                  <a:lnTo>
                    <a:pt x="5289" y="497"/>
                  </a:lnTo>
                  <a:lnTo>
                    <a:pt x="5292" y="497"/>
                  </a:lnTo>
                  <a:lnTo>
                    <a:pt x="5295" y="498"/>
                  </a:lnTo>
                  <a:lnTo>
                    <a:pt x="5298" y="499"/>
                  </a:lnTo>
                  <a:lnTo>
                    <a:pt x="5300" y="500"/>
                  </a:lnTo>
                  <a:lnTo>
                    <a:pt x="5303" y="500"/>
                  </a:lnTo>
                  <a:lnTo>
                    <a:pt x="5307" y="501"/>
                  </a:lnTo>
                  <a:lnTo>
                    <a:pt x="5309" y="502"/>
                  </a:lnTo>
                  <a:lnTo>
                    <a:pt x="5312" y="503"/>
                  </a:lnTo>
                  <a:lnTo>
                    <a:pt x="5315" y="503"/>
                  </a:lnTo>
                  <a:lnTo>
                    <a:pt x="5318" y="504"/>
                  </a:lnTo>
                  <a:lnTo>
                    <a:pt x="5321" y="505"/>
                  </a:lnTo>
                  <a:lnTo>
                    <a:pt x="5324" y="505"/>
                  </a:lnTo>
                  <a:lnTo>
                    <a:pt x="5327" y="507"/>
                  </a:lnTo>
                  <a:lnTo>
                    <a:pt x="5329" y="508"/>
                  </a:lnTo>
                  <a:lnTo>
                    <a:pt x="5332" y="508"/>
                  </a:lnTo>
                  <a:lnTo>
                    <a:pt x="5336" y="509"/>
                  </a:lnTo>
                  <a:lnTo>
                    <a:pt x="5338" y="510"/>
                  </a:lnTo>
                  <a:lnTo>
                    <a:pt x="5341" y="510"/>
                  </a:lnTo>
                  <a:lnTo>
                    <a:pt x="5344" y="511"/>
                  </a:lnTo>
                  <a:lnTo>
                    <a:pt x="5347" y="511"/>
                  </a:lnTo>
                  <a:lnTo>
                    <a:pt x="5350" y="512"/>
                  </a:lnTo>
                  <a:lnTo>
                    <a:pt x="5353" y="513"/>
                  </a:lnTo>
                  <a:lnTo>
                    <a:pt x="5356" y="513"/>
                  </a:lnTo>
                  <a:lnTo>
                    <a:pt x="5358" y="514"/>
                  </a:lnTo>
                  <a:lnTo>
                    <a:pt x="5361" y="514"/>
                  </a:lnTo>
                  <a:lnTo>
                    <a:pt x="5365" y="516"/>
                  </a:lnTo>
                  <a:lnTo>
                    <a:pt x="5367" y="517"/>
                  </a:lnTo>
                  <a:lnTo>
                    <a:pt x="5370" y="517"/>
                  </a:lnTo>
                  <a:lnTo>
                    <a:pt x="5373" y="518"/>
                  </a:lnTo>
                  <a:lnTo>
                    <a:pt x="5376" y="518"/>
                  </a:lnTo>
                  <a:lnTo>
                    <a:pt x="5379" y="519"/>
                  </a:lnTo>
                  <a:lnTo>
                    <a:pt x="5382" y="519"/>
                  </a:lnTo>
                  <a:lnTo>
                    <a:pt x="5385" y="520"/>
                  </a:lnTo>
                  <a:lnTo>
                    <a:pt x="5387" y="520"/>
                  </a:lnTo>
                  <a:lnTo>
                    <a:pt x="5390" y="521"/>
                  </a:lnTo>
                  <a:lnTo>
                    <a:pt x="5393" y="521"/>
                  </a:lnTo>
                  <a:lnTo>
                    <a:pt x="5396" y="522"/>
                  </a:lnTo>
                  <a:lnTo>
                    <a:pt x="5399" y="522"/>
                  </a:lnTo>
                  <a:lnTo>
                    <a:pt x="5402" y="523"/>
                  </a:lnTo>
                  <a:lnTo>
                    <a:pt x="5405" y="523"/>
                  </a:lnTo>
                  <a:lnTo>
                    <a:pt x="5407" y="524"/>
                  </a:lnTo>
                  <a:lnTo>
                    <a:pt x="5411" y="524"/>
                  </a:lnTo>
                  <a:lnTo>
                    <a:pt x="5414" y="526"/>
                  </a:lnTo>
                  <a:lnTo>
                    <a:pt x="5416" y="526"/>
                  </a:lnTo>
                  <a:lnTo>
                    <a:pt x="5419" y="527"/>
                  </a:lnTo>
                  <a:lnTo>
                    <a:pt x="5422" y="527"/>
                  </a:lnTo>
                  <a:lnTo>
                    <a:pt x="5425" y="528"/>
                  </a:lnTo>
                  <a:lnTo>
                    <a:pt x="5428" y="528"/>
                  </a:lnTo>
                  <a:lnTo>
                    <a:pt x="5431" y="528"/>
                  </a:lnTo>
                  <a:lnTo>
                    <a:pt x="5434" y="529"/>
                  </a:lnTo>
                  <a:lnTo>
                    <a:pt x="5436" y="529"/>
                  </a:lnTo>
                  <a:lnTo>
                    <a:pt x="5440" y="530"/>
                  </a:lnTo>
                  <a:lnTo>
                    <a:pt x="5443" y="530"/>
                  </a:lnTo>
                  <a:lnTo>
                    <a:pt x="5445" y="530"/>
                  </a:lnTo>
                  <a:lnTo>
                    <a:pt x="5449" y="531"/>
                  </a:lnTo>
                  <a:lnTo>
                    <a:pt x="5451" y="531"/>
                  </a:lnTo>
                  <a:lnTo>
                    <a:pt x="5454" y="531"/>
                  </a:lnTo>
                  <a:lnTo>
                    <a:pt x="5457" y="532"/>
                  </a:lnTo>
                  <a:lnTo>
                    <a:pt x="5460" y="532"/>
                  </a:lnTo>
                  <a:lnTo>
                    <a:pt x="5463" y="532"/>
                  </a:lnTo>
                  <a:lnTo>
                    <a:pt x="5465" y="533"/>
                  </a:lnTo>
                  <a:lnTo>
                    <a:pt x="5469" y="533"/>
                  </a:lnTo>
                  <a:lnTo>
                    <a:pt x="5472" y="533"/>
                  </a:lnTo>
                  <a:lnTo>
                    <a:pt x="5474" y="534"/>
                  </a:lnTo>
                  <a:lnTo>
                    <a:pt x="5478" y="534"/>
                  </a:lnTo>
                  <a:lnTo>
                    <a:pt x="5480" y="534"/>
                  </a:lnTo>
                  <a:lnTo>
                    <a:pt x="5483" y="534"/>
                  </a:lnTo>
                  <a:lnTo>
                    <a:pt x="5485" y="536"/>
                  </a:lnTo>
                  <a:lnTo>
                    <a:pt x="5489" y="536"/>
                  </a:lnTo>
                  <a:lnTo>
                    <a:pt x="5492" y="536"/>
                  </a:lnTo>
                  <a:lnTo>
                    <a:pt x="5494" y="536"/>
                  </a:lnTo>
                  <a:lnTo>
                    <a:pt x="5498" y="537"/>
                  </a:lnTo>
                  <a:lnTo>
                    <a:pt x="5500" y="537"/>
                  </a:lnTo>
                  <a:lnTo>
                    <a:pt x="5503" y="537"/>
                  </a:lnTo>
                  <a:lnTo>
                    <a:pt x="5507" y="537"/>
                  </a:lnTo>
                  <a:lnTo>
                    <a:pt x="5509" y="538"/>
                  </a:lnTo>
                  <a:lnTo>
                    <a:pt x="5512" y="538"/>
                  </a:lnTo>
                  <a:lnTo>
                    <a:pt x="5514" y="538"/>
                  </a:lnTo>
                  <a:lnTo>
                    <a:pt x="5518" y="538"/>
                  </a:lnTo>
                  <a:lnTo>
                    <a:pt x="5521" y="538"/>
                  </a:lnTo>
                  <a:lnTo>
                    <a:pt x="5523" y="538"/>
                  </a:lnTo>
                  <a:lnTo>
                    <a:pt x="5527" y="539"/>
                  </a:lnTo>
                  <a:lnTo>
                    <a:pt x="5529" y="539"/>
                  </a:lnTo>
                  <a:lnTo>
                    <a:pt x="5532" y="539"/>
                  </a:lnTo>
                  <a:lnTo>
                    <a:pt x="5536" y="539"/>
                  </a:lnTo>
                  <a:lnTo>
                    <a:pt x="5538" y="539"/>
                  </a:lnTo>
                  <a:lnTo>
                    <a:pt x="5541" y="539"/>
                  </a:lnTo>
                  <a:lnTo>
                    <a:pt x="5543" y="539"/>
                  </a:lnTo>
                  <a:lnTo>
                    <a:pt x="5547" y="540"/>
                  </a:lnTo>
                  <a:lnTo>
                    <a:pt x="5550" y="540"/>
                  </a:lnTo>
                  <a:lnTo>
                    <a:pt x="5552" y="540"/>
                  </a:lnTo>
                  <a:lnTo>
                    <a:pt x="5556" y="540"/>
                  </a:lnTo>
                  <a:lnTo>
                    <a:pt x="5558" y="540"/>
                  </a:lnTo>
                  <a:lnTo>
                    <a:pt x="5561" y="540"/>
                  </a:lnTo>
                  <a:lnTo>
                    <a:pt x="5563" y="540"/>
                  </a:lnTo>
                  <a:lnTo>
                    <a:pt x="5567" y="540"/>
                  </a:lnTo>
                  <a:lnTo>
                    <a:pt x="5570" y="540"/>
                  </a:lnTo>
                  <a:lnTo>
                    <a:pt x="5572" y="540"/>
                  </a:lnTo>
                  <a:lnTo>
                    <a:pt x="5576" y="540"/>
                  </a:lnTo>
                  <a:lnTo>
                    <a:pt x="5578" y="540"/>
                  </a:lnTo>
                  <a:lnTo>
                    <a:pt x="5581" y="540"/>
                  </a:lnTo>
                  <a:lnTo>
                    <a:pt x="5585" y="540"/>
                  </a:lnTo>
                  <a:lnTo>
                    <a:pt x="5587" y="540"/>
                  </a:lnTo>
                  <a:lnTo>
                    <a:pt x="5590" y="540"/>
                  </a:lnTo>
                  <a:lnTo>
                    <a:pt x="5592" y="540"/>
                  </a:lnTo>
                  <a:lnTo>
                    <a:pt x="5596" y="540"/>
                  </a:lnTo>
                  <a:lnTo>
                    <a:pt x="5599" y="540"/>
                  </a:lnTo>
                  <a:lnTo>
                    <a:pt x="5601" y="540"/>
                  </a:lnTo>
                  <a:lnTo>
                    <a:pt x="5605" y="540"/>
                  </a:lnTo>
                  <a:lnTo>
                    <a:pt x="5607" y="540"/>
                  </a:lnTo>
                  <a:lnTo>
                    <a:pt x="5610" y="540"/>
                  </a:lnTo>
                  <a:lnTo>
                    <a:pt x="5614" y="540"/>
                  </a:lnTo>
                  <a:lnTo>
                    <a:pt x="5616" y="540"/>
                  </a:lnTo>
                  <a:lnTo>
                    <a:pt x="5619" y="539"/>
                  </a:lnTo>
                  <a:lnTo>
                    <a:pt x="5621" y="539"/>
                  </a:lnTo>
                  <a:lnTo>
                    <a:pt x="5625" y="539"/>
                  </a:lnTo>
                  <a:lnTo>
                    <a:pt x="5628" y="539"/>
                  </a:lnTo>
                  <a:lnTo>
                    <a:pt x="5630" y="539"/>
                  </a:lnTo>
                  <a:lnTo>
                    <a:pt x="5634" y="539"/>
                  </a:lnTo>
                  <a:lnTo>
                    <a:pt x="5636" y="539"/>
                  </a:lnTo>
                  <a:lnTo>
                    <a:pt x="5639" y="539"/>
                  </a:lnTo>
                  <a:lnTo>
                    <a:pt x="5643" y="538"/>
                  </a:lnTo>
                  <a:lnTo>
                    <a:pt x="5645" y="538"/>
                  </a:lnTo>
                  <a:lnTo>
                    <a:pt x="5648" y="538"/>
                  </a:lnTo>
                  <a:lnTo>
                    <a:pt x="5650" y="538"/>
                  </a:lnTo>
                  <a:lnTo>
                    <a:pt x="5654" y="538"/>
                  </a:lnTo>
                  <a:lnTo>
                    <a:pt x="5656" y="538"/>
                  </a:lnTo>
                  <a:lnTo>
                    <a:pt x="5659" y="537"/>
                  </a:lnTo>
                  <a:lnTo>
                    <a:pt x="5663" y="537"/>
                  </a:lnTo>
                  <a:lnTo>
                    <a:pt x="5665" y="537"/>
                  </a:lnTo>
                  <a:lnTo>
                    <a:pt x="5668" y="537"/>
                  </a:lnTo>
                  <a:lnTo>
                    <a:pt x="5670" y="536"/>
                  </a:lnTo>
                  <a:lnTo>
                    <a:pt x="5674" y="536"/>
                  </a:lnTo>
                  <a:lnTo>
                    <a:pt x="5677" y="536"/>
                  </a:lnTo>
                  <a:lnTo>
                    <a:pt x="5679" y="536"/>
                  </a:lnTo>
                  <a:lnTo>
                    <a:pt x="5683" y="534"/>
                  </a:lnTo>
                  <a:lnTo>
                    <a:pt x="5685" y="534"/>
                  </a:lnTo>
                  <a:lnTo>
                    <a:pt x="5688" y="534"/>
                  </a:lnTo>
                  <a:lnTo>
                    <a:pt x="5692" y="534"/>
                  </a:lnTo>
                  <a:lnTo>
                    <a:pt x="5694" y="533"/>
                  </a:lnTo>
                  <a:lnTo>
                    <a:pt x="5697" y="533"/>
                  </a:lnTo>
                  <a:lnTo>
                    <a:pt x="5700" y="533"/>
                  </a:lnTo>
                  <a:lnTo>
                    <a:pt x="5703" y="532"/>
                  </a:lnTo>
                  <a:lnTo>
                    <a:pt x="5706" y="532"/>
                  </a:lnTo>
                  <a:lnTo>
                    <a:pt x="5708" y="532"/>
                  </a:lnTo>
                  <a:lnTo>
                    <a:pt x="5712" y="531"/>
                  </a:lnTo>
                  <a:lnTo>
                    <a:pt x="5714" y="531"/>
                  </a:lnTo>
                  <a:lnTo>
                    <a:pt x="5717" y="531"/>
                  </a:lnTo>
                  <a:lnTo>
                    <a:pt x="5721" y="530"/>
                  </a:lnTo>
                  <a:lnTo>
                    <a:pt x="5723" y="530"/>
                  </a:lnTo>
                  <a:lnTo>
                    <a:pt x="5726" y="529"/>
                  </a:lnTo>
                  <a:lnTo>
                    <a:pt x="5729" y="529"/>
                  </a:lnTo>
                  <a:lnTo>
                    <a:pt x="5732" y="529"/>
                  </a:lnTo>
                  <a:lnTo>
                    <a:pt x="5735" y="528"/>
                  </a:lnTo>
                  <a:lnTo>
                    <a:pt x="5737" y="528"/>
                  </a:lnTo>
                  <a:lnTo>
                    <a:pt x="5741" y="527"/>
                  </a:lnTo>
                  <a:lnTo>
                    <a:pt x="5743" y="527"/>
                  </a:lnTo>
                  <a:lnTo>
                    <a:pt x="5746" y="527"/>
                  </a:lnTo>
                  <a:lnTo>
                    <a:pt x="5749" y="526"/>
                  </a:lnTo>
                  <a:lnTo>
                    <a:pt x="5752" y="526"/>
                  </a:lnTo>
                  <a:lnTo>
                    <a:pt x="5755" y="524"/>
                  </a:lnTo>
                  <a:lnTo>
                    <a:pt x="5758" y="524"/>
                  </a:lnTo>
                  <a:lnTo>
                    <a:pt x="5761" y="523"/>
                  </a:lnTo>
                  <a:lnTo>
                    <a:pt x="5763" y="523"/>
                  </a:lnTo>
                  <a:lnTo>
                    <a:pt x="5766" y="522"/>
                  </a:lnTo>
                  <a:lnTo>
                    <a:pt x="5770" y="522"/>
                  </a:lnTo>
                  <a:lnTo>
                    <a:pt x="5772" y="521"/>
                  </a:lnTo>
                  <a:lnTo>
                    <a:pt x="5775" y="521"/>
                  </a:lnTo>
                  <a:lnTo>
                    <a:pt x="5778" y="520"/>
                  </a:lnTo>
                  <a:lnTo>
                    <a:pt x="5781" y="520"/>
                  </a:lnTo>
                  <a:lnTo>
                    <a:pt x="5784" y="519"/>
                  </a:lnTo>
                  <a:lnTo>
                    <a:pt x="5787" y="519"/>
                  </a:lnTo>
                  <a:lnTo>
                    <a:pt x="5790" y="518"/>
                  </a:lnTo>
                  <a:lnTo>
                    <a:pt x="5792" y="518"/>
                  </a:lnTo>
                  <a:lnTo>
                    <a:pt x="5795" y="517"/>
                  </a:lnTo>
                  <a:lnTo>
                    <a:pt x="5799" y="517"/>
                  </a:lnTo>
                  <a:lnTo>
                    <a:pt x="5801" y="516"/>
                  </a:lnTo>
                  <a:lnTo>
                    <a:pt x="5804" y="514"/>
                  </a:lnTo>
                  <a:lnTo>
                    <a:pt x="5807" y="514"/>
                  </a:lnTo>
                  <a:lnTo>
                    <a:pt x="5810" y="513"/>
                  </a:lnTo>
                  <a:lnTo>
                    <a:pt x="5813" y="513"/>
                  </a:lnTo>
                  <a:lnTo>
                    <a:pt x="5816" y="512"/>
                  </a:lnTo>
                  <a:lnTo>
                    <a:pt x="5819" y="511"/>
                  </a:lnTo>
                  <a:lnTo>
                    <a:pt x="5821" y="511"/>
                  </a:lnTo>
                  <a:lnTo>
                    <a:pt x="5824" y="510"/>
                  </a:lnTo>
                  <a:lnTo>
                    <a:pt x="5828" y="509"/>
                  </a:lnTo>
                  <a:lnTo>
                    <a:pt x="5830" y="509"/>
                  </a:lnTo>
                  <a:lnTo>
                    <a:pt x="5833" y="508"/>
                  </a:lnTo>
                  <a:lnTo>
                    <a:pt x="5836" y="507"/>
                  </a:lnTo>
                  <a:lnTo>
                    <a:pt x="5839" y="507"/>
                  </a:lnTo>
                  <a:lnTo>
                    <a:pt x="5841" y="505"/>
                  </a:lnTo>
                  <a:lnTo>
                    <a:pt x="5845" y="504"/>
                  </a:lnTo>
                  <a:lnTo>
                    <a:pt x="5848" y="504"/>
                  </a:lnTo>
                  <a:lnTo>
                    <a:pt x="5850" y="503"/>
                  </a:lnTo>
                  <a:lnTo>
                    <a:pt x="5853" y="502"/>
                  </a:lnTo>
                  <a:lnTo>
                    <a:pt x="5856" y="502"/>
                  </a:lnTo>
                  <a:lnTo>
                    <a:pt x="5859" y="501"/>
                  </a:lnTo>
                  <a:lnTo>
                    <a:pt x="5862" y="500"/>
                  </a:lnTo>
                  <a:lnTo>
                    <a:pt x="5865" y="500"/>
                  </a:lnTo>
                  <a:lnTo>
                    <a:pt x="5868" y="499"/>
                  </a:lnTo>
                  <a:lnTo>
                    <a:pt x="5870" y="498"/>
                  </a:lnTo>
                  <a:lnTo>
                    <a:pt x="5874" y="497"/>
                  </a:lnTo>
                  <a:lnTo>
                    <a:pt x="5877" y="497"/>
                  </a:lnTo>
                  <a:lnTo>
                    <a:pt x="5879" y="495"/>
                  </a:lnTo>
                  <a:lnTo>
                    <a:pt x="5882" y="494"/>
                  </a:lnTo>
                  <a:lnTo>
                    <a:pt x="5885" y="493"/>
                  </a:lnTo>
                  <a:lnTo>
                    <a:pt x="5888" y="492"/>
                  </a:lnTo>
                  <a:lnTo>
                    <a:pt x="5891" y="492"/>
                  </a:lnTo>
                  <a:lnTo>
                    <a:pt x="5894" y="491"/>
                  </a:lnTo>
                  <a:lnTo>
                    <a:pt x="5897" y="490"/>
                  </a:lnTo>
                  <a:lnTo>
                    <a:pt x="5899" y="489"/>
                  </a:lnTo>
                  <a:lnTo>
                    <a:pt x="5903" y="488"/>
                  </a:lnTo>
                  <a:lnTo>
                    <a:pt x="5906" y="488"/>
                  </a:lnTo>
                  <a:lnTo>
                    <a:pt x="5908" y="487"/>
                  </a:lnTo>
                  <a:lnTo>
                    <a:pt x="5911" y="485"/>
                  </a:lnTo>
                  <a:lnTo>
                    <a:pt x="5914" y="484"/>
                  </a:lnTo>
                  <a:lnTo>
                    <a:pt x="5917" y="483"/>
                  </a:lnTo>
                  <a:lnTo>
                    <a:pt x="5920" y="482"/>
                  </a:lnTo>
                  <a:lnTo>
                    <a:pt x="5923" y="482"/>
                  </a:lnTo>
                  <a:lnTo>
                    <a:pt x="5926" y="481"/>
                  </a:lnTo>
                  <a:lnTo>
                    <a:pt x="5928" y="480"/>
                  </a:lnTo>
                  <a:lnTo>
                    <a:pt x="5932" y="479"/>
                  </a:lnTo>
                  <a:lnTo>
                    <a:pt x="5934" y="478"/>
                  </a:lnTo>
                  <a:lnTo>
                    <a:pt x="5937" y="477"/>
                  </a:lnTo>
                  <a:lnTo>
                    <a:pt x="5940" y="475"/>
                  </a:lnTo>
                  <a:lnTo>
                    <a:pt x="5943" y="474"/>
                  </a:lnTo>
                  <a:lnTo>
                    <a:pt x="5946" y="474"/>
                  </a:lnTo>
                  <a:lnTo>
                    <a:pt x="5948" y="473"/>
                  </a:lnTo>
                  <a:lnTo>
                    <a:pt x="5952" y="472"/>
                  </a:lnTo>
                  <a:lnTo>
                    <a:pt x="5955" y="471"/>
                  </a:lnTo>
                  <a:lnTo>
                    <a:pt x="5957" y="470"/>
                  </a:lnTo>
                  <a:lnTo>
                    <a:pt x="5961" y="469"/>
                  </a:lnTo>
                  <a:lnTo>
                    <a:pt x="5963" y="468"/>
                  </a:lnTo>
                  <a:lnTo>
                    <a:pt x="5966" y="467"/>
                  </a:lnTo>
                  <a:lnTo>
                    <a:pt x="5969" y="465"/>
                  </a:lnTo>
                  <a:lnTo>
                    <a:pt x="5972" y="464"/>
                  </a:lnTo>
                  <a:lnTo>
                    <a:pt x="5975" y="463"/>
                  </a:lnTo>
                  <a:lnTo>
                    <a:pt x="5977" y="462"/>
                  </a:lnTo>
                  <a:lnTo>
                    <a:pt x="5981" y="461"/>
                  </a:lnTo>
                  <a:lnTo>
                    <a:pt x="5984" y="460"/>
                  </a:lnTo>
                  <a:lnTo>
                    <a:pt x="5986" y="459"/>
                  </a:lnTo>
                  <a:lnTo>
                    <a:pt x="5990" y="458"/>
                  </a:lnTo>
                  <a:lnTo>
                    <a:pt x="5992" y="456"/>
                  </a:lnTo>
                  <a:lnTo>
                    <a:pt x="5995" y="455"/>
                  </a:lnTo>
                  <a:lnTo>
                    <a:pt x="5998" y="454"/>
                  </a:lnTo>
                  <a:lnTo>
                    <a:pt x="6001" y="453"/>
                  </a:lnTo>
                  <a:lnTo>
                    <a:pt x="6004" y="452"/>
                  </a:lnTo>
                  <a:lnTo>
                    <a:pt x="6006" y="451"/>
                  </a:lnTo>
                  <a:lnTo>
                    <a:pt x="6010" y="450"/>
                  </a:lnTo>
                  <a:lnTo>
                    <a:pt x="6012" y="449"/>
                  </a:lnTo>
                  <a:lnTo>
                    <a:pt x="6015" y="448"/>
                  </a:lnTo>
                  <a:lnTo>
                    <a:pt x="6019" y="446"/>
                  </a:lnTo>
                  <a:lnTo>
                    <a:pt x="6021" y="445"/>
                  </a:lnTo>
                  <a:lnTo>
                    <a:pt x="6024" y="444"/>
                  </a:lnTo>
                  <a:lnTo>
                    <a:pt x="6026" y="443"/>
                  </a:lnTo>
                  <a:lnTo>
                    <a:pt x="6030" y="442"/>
                  </a:lnTo>
                  <a:lnTo>
                    <a:pt x="6033" y="441"/>
                  </a:lnTo>
                  <a:lnTo>
                    <a:pt x="6035" y="440"/>
                  </a:lnTo>
                  <a:lnTo>
                    <a:pt x="6039" y="439"/>
                  </a:lnTo>
                  <a:lnTo>
                    <a:pt x="6041" y="438"/>
                  </a:lnTo>
                  <a:lnTo>
                    <a:pt x="6044" y="435"/>
                  </a:lnTo>
                  <a:lnTo>
                    <a:pt x="6048" y="434"/>
                  </a:lnTo>
                  <a:lnTo>
                    <a:pt x="6050" y="433"/>
                  </a:lnTo>
                  <a:lnTo>
                    <a:pt x="6053" y="432"/>
                  </a:lnTo>
                  <a:lnTo>
                    <a:pt x="6055" y="431"/>
                  </a:lnTo>
                  <a:lnTo>
                    <a:pt x="6059" y="430"/>
                  </a:lnTo>
                  <a:lnTo>
                    <a:pt x="6062" y="429"/>
                  </a:lnTo>
                  <a:lnTo>
                    <a:pt x="6064" y="428"/>
                  </a:lnTo>
                  <a:lnTo>
                    <a:pt x="6068" y="426"/>
                  </a:lnTo>
                  <a:lnTo>
                    <a:pt x="6070" y="424"/>
                  </a:lnTo>
                  <a:lnTo>
                    <a:pt x="6073" y="423"/>
                  </a:lnTo>
                  <a:lnTo>
                    <a:pt x="6077" y="422"/>
                  </a:lnTo>
                  <a:lnTo>
                    <a:pt x="6079" y="421"/>
                  </a:lnTo>
                  <a:lnTo>
                    <a:pt x="6082" y="420"/>
                  </a:lnTo>
                  <a:lnTo>
                    <a:pt x="6084" y="419"/>
                  </a:lnTo>
                  <a:lnTo>
                    <a:pt x="6088" y="417"/>
                  </a:lnTo>
                  <a:lnTo>
                    <a:pt x="6091" y="415"/>
                  </a:lnTo>
                  <a:lnTo>
                    <a:pt x="6093" y="414"/>
                  </a:lnTo>
                  <a:lnTo>
                    <a:pt x="6097" y="413"/>
                  </a:lnTo>
                  <a:lnTo>
                    <a:pt x="6099" y="412"/>
                  </a:lnTo>
                  <a:lnTo>
                    <a:pt x="6102" y="411"/>
                  </a:lnTo>
                  <a:lnTo>
                    <a:pt x="6104" y="410"/>
                  </a:lnTo>
                  <a:lnTo>
                    <a:pt x="6108" y="407"/>
                  </a:lnTo>
                  <a:lnTo>
                    <a:pt x="6111" y="406"/>
                  </a:lnTo>
                  <a:lnTo>
                    <a:pt x="6113" y="405"/>
                  </a:lnTo>
                  <a:lnTo>
                    <a:pt x="6117" y="404"/>
                  </a:lnTo>
                  <a:lnTo>
                    <a:pt x="6119" y="403"/>
                  </a:lnTo>
                  <a:lnTo>
                    <a:pt x="6122" y="401"/>
                  </a:lnTo>
                  <a:lnTo>
                    <a:pt x="6126" y="400"/>
                  </a:lnTo>
                  <a:lnTo>
                    <a:pt x="6128" y="399"/>
                  </a:lnTo>
                  <a:lnTo>
                    <a:pt x="6131" y="397"/>
                  </a:lnTo>
                  <a:lnTo>
                    <a:pt x="6133" y="395"/>
                  </a:lnTo>
                  <a:lnTo>
                    <a:pt x="6137" y="394"/>
                  </a:lnTo>
                  <a:lnTo>
                    <a:pt x="6140" y="393"/>
                  </a:lnTo>
                  <a:lnTo>
                    <a:pt x="6142" y="392"/>
                  </a:lnTo>
                  <a:lnTo>
                    <a:pt x="6146" y="391"/>
                  </a:lnTo>
                  <a:lnTo>
                    <a:pt x="6148" y="389"/>
                  </a:lnTo>
                  <a:lnTo>
                    <a:pt x="6151" y="387"/>
                  </a:lnTo>
                  <a:lnTo>
                    <a:pt x="6155" y="386"/>
                  </a:lnTo>
                  <a:lnTo>
                    <a:pt x="6157" y="385"/>
                  </a:lnTo>
                  <a:lnTo>
                    <a:pt x="6160" y="383"/>
                  </a:lnTo>
                  <a:lnTo>
                    <a:pt x="6162" y="382"/>
                  </a:lnTo>
                  <a:lnTo>
                    <a:pt x="6166" y="381"/>
                  </a:lnTo>
                  <a:lnTo>
                    <a:pt x="6169" y="380"/>
                  </a:lnTo>
                  <a:lnTo>
                    <a:pt x="6171" y="377"/>
                  </a:lnTo>
                  <a:lnTo>
                    <a:pt x="6175" y="376"/>
                  </a:lnTo>
                  <a:lnTo>
                    <a:pt x="6177" y="375"/>
                  </a:lnTo>
                  <a:lnTo>
                    <a:pt x="6180" y="373"/>
                  </a:lnTo>
                  <a:lnTo>
                    <a:pt x="6184" y="372"/>
                  </a:lnTo>
                  <a:lnTo>
                    <a:pt x="6186" y="371"/>
                  </a:lnTo>
                  <a:lnTo>
                    <a:pt x="6189" y="370"/>
                  </a:lnTo>
                  <a:lnTo>
                    <a:pt x="6191" y="367"/>
                  </a:lnTo>
                  <a:lnTo>
                    <a:pt x="6195" y="366"/>
                  </a:lnTo>
                  <a:lnTo>
                    <a:pt x="6197" y="365"/>
                  </a:lnTo>
                  <a:lnTo>
                    <a:pt x="6200" y="363"/>
                  </a:lnTo>
                  <a:lnTo>
                    <a:pt x="6204" y="362"/>
                  </a:lnTo>
                  <a:lnTo>
                    <a:pt x="6206" y="361"/>
                  </a:lnTo>
                  <a:lnTo>
                    <a:pt x="6209" y="360"/>
                  </a:lnTo>
                  <a:lnTo>
                    <a:pt x="6212" y="357"/>
                  </a:lnTo>
                  <a:lnTo>
                    <a:pt x="6215" y="356"/>
                  </a:lnTo>
                  <a:lnTo>
                    <a:pt x="6218" y="355"/>
                  </a:lnTo>
                  <a:lnTo>
                    <a:pt x="6220" y="353"/>
                  </a:lnTo>
                  <a:lnTo>
                    <a:pt x="6224" y="352"/>
                  </a:lnTo>
                  <a:lnTo>
                    <a:pt x="6226" y="351"/>
                  </a:lnTo>
                  <a:lnTo>
                    <a:pt x="6229" y="348"/>
                  </a:lnTo>
                  <a:lnTo>
                    <a:pt x="6233" y="347"/>
                  </a:lnTo>
                  <a:lnTo>
                    <a:pt x="6235" y="346"/>
                  </a:lnTo>
                  <a:lnTo>
                    <a:pt x="6238" y="344"/>
                  </a:lnTo>
                  <a:lnTo>
                    <a:pt x="6241" y="343"/>
                  </a:lnTo>
                  <a:lnTo>
                    <a:pt x="6244" y="342"/>
                  </a:lnTo>
                  <a:lnTo>
                    <a:pt x="6247" y="339"/>
                  </a:lnTo>
                  <a:lnTo>
                    <a:pt x="6249" y="338"/>
                  </a:lnTo>
                  <a:lnTo>
                    <a:pt x="6253" y="337"/>
                  </a:lnTo>
                  <a:lnTo>
                    <a:pt x="6255" y="335"/>
                  </a:lnTo>
                  <a:lnTo>
                    <a:pt x="6258" y="334"/>
                  </a:lnTo>
                  <a:lnTo>
                    <a:pt x="6262" y="333"/>
                  </a:lnTo>
                  <a:lnTo>
                    <a:pt x="6264" y="331"/>
                  </a:lnTo>
                  <a:lnTo>
                    <a:pt x="6267" y="329"/>
                  </a:lnTo>
                  <a:lnTo>
                    <a:pt x="6270" y="328"/>
                  </a:lnTo>
                  <a:lnTo>
                    <a:pt x="6273" y="326"/>
                  </a:lnTo>
                  <a:lnTo>
                    <a:pt x="6276" y="325"/>
                  </a:lnTo>
                  <a:lnTo>
                    <a:pt x="6278" y="324"/>
                  </a:lnTo>
                  <a:lnTo>
                    <a:pt x="6282" y="322"/>
                  </a:lnTo>
                  <a:lnTo>
                    <a:pt x="6284" y="321"/>
                  </a:lnTo>
                  <a:lnTo>
                    <a:pt x="6287" y="319"/>
                  </a:lnTo>
                  <a:lnTo>
                    <a:pt x="6290" y="317"/>
                  </a:lnTo>
                  <a:lnTo>
                    <a:pt x="6293" y="316"/>
                  </a:lnTo>
                  <a:lnTo>
                    <a:pt x="6296" y="314"/>
                  </a:lnTo>
                  <a:lnTo>
                    <a:pt x="6299" y="313"/>
                  </a:lnTo>
                  <a:lnTo>
                    <a:pt x="6302" y="312"/>
                  </a:lnTo>
                  <a:lnTo>
                    <a:pt x="6304" y="309"/>
                  </a:lnTo>
                  <a:lnTo>
                    <a:pt x="6307" y="308"/>
                  </a:lnTo>
                  <a:lnTo>
                    <a:pt x="6311" y="307"/>
                  </a:lnTo>
                  <a:lnTo>
                    <a:pt x="6313" y="305"/>
                  </a:lnTo>
                  <a:lnTo>
                    <a:pt x="6316" y="304"/>
                  </a:lnTo>
                  <a:lnTo>
                    <a:pt x="6319" y="302"/>
                  </a:lnTo>
                  <a:lnTo>
                    <a:pt x="6322" y="301"/>
                  </a:lnTo>
                  <a:lnTo>
                    <a:pt x="6325" y="299"/>
                  </a:lnTo>
                  <a:lnTo>
                    <a:pt x="6328" y="297"/>
                  </a:lnTo>
                  <a:lnTo>
                    <a:pt x="6331" y="296"/>
                  </a:lnTo>
                  <a:lnTo>
                    <a:pt x="6333" y="295"/>
                  </a:lnTo>
                  <a:lnTo>
                    <a:pt x="6336" y="293"/>
                  </a:lnTo>
                  <a:lnTo>
                    <a:pt x="6340" y="292"/>
                  </a:lnTo>
                  <a:lnTo>
                    <a:pt x="6342" y="289"/>
                  </a:lnTo>
                  <a:lnTo>
                    <a:pt x="6345" y="288"/>
                  </a:lnTo>
                  <a:lnTo>
                    <a:pt x="6348" y="287"/>
                  </a:lnTo>
                  <a:lnTo>
                    <a:pt x="6351" y="285"/>
                  </a:lnTo>
                  <a:lnTo>
                    <a:pt x="6354" y="284"/>
                  </a:lnTo>
                  <a:lnTo>
                    <a:pt x="6357" y="283"/>
                  </a:lnTo>
                  <a:lnTo>
                    <a:pt x="6360" y="280"/>
                  </a:lnTo>
                  <a:lnTo>
                    <a:pt x="6362" y="279"/>
                  </a:lnTo>
                  <a:lnTo>
                    <a:pt x="6365" y="277"/>
                  </a:lnTo>
                  <a:lnTo>
                    <a:pt x="6368" y="276"/>
                  </a:lnTo>
                  <a:lnTo>
                    <a:pt x="6371" y="275"/>
                  </a:lnTo>
                  <a:lnTo>
                    <a:pt x="6374" y="273"/>
                  </a:lnTo>
                  <a:lnTo>
                    <a:pt x="6377" y="272"/>
                  </a:lnTo>
                  <a:lnTo>
                    <a:pt x="6380" y="270"/>
                  </a:lnTo>
                  <a:lnTo>
                    <a:pt x="6380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7741800" y="2166840"/>
              <a:ext cx="2062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671480" y="2311200"/>
              <a:ext cx="615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625400" y="1093680"/>
              <a:ext cx="204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298520" y="2628720"/>
              <a:ext cx="326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012760" y="1265040"/>
              <a:ext cx="983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3412800" y="1698480"/>
              <a:ext cx="9856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1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2320920" y="4029120"/>
                <a:ext cx="4533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>
            <a:off x="2062080" y="944640"/>
            <a:ext cx="898560" cy="89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456000" y="1393920"/>
            <a:ext cx="898560" cy="89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FD9-9576-4628-B401-021481A3B7BF}" type="slidenum">
              <a:t>117</a:t>
            </a:fld>
          </a:p>
        </p:txBody>
      </p:sp>
    </p:spTree>
  </p:cSld>
  <p:transition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2" name="" descr=""/>
          <p:cNvPicPr/>
          <p:nvPr/>
        </p:nvPicPr>
        <p:blipFill>
          <a:blip r:embed="rId2"/>
          <a:stretch/>
        </p:blipFill>
        <p:spPr>
          <a:xfrm>
            <a:off x="1116000" y="825480"/>
            <a:ext cx="6912000" cy="521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893-D330-4652-A69C-522211F5C7D1}" type="slidenum">
              <a:t>118</a:t>
            </a:fld>
          </a:p>
        </p:txBody>
      </p:sp>
    </p:spTree>
  </p:cSld>
  <p:transition>
    <p:fade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754200" y="216612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de amplitud modulada se perciben como el efecto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émo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usado en mú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7DB-EA1E-42EA-8688-898083A546A9}" type="slidenum">
              <a:t>119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4200" y="1726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utiliza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icrófo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ansducto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ara pasar del dominio acústico al eléctrico, y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vo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ricul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ara la transducción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C32-39AB-4AC2-ADB7-897B892EFE95}" type="slidenum">
              <a:t>12</a:t>
            </a:fld>
          </a:p>
        </p:txBody>
      </p:sp>
    </p:spTree>
  </p:cSld>
  <p:transition>
    <p:fade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Señales moduladas en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412-2C66-4C71-A483-D776D1D8DB8E}" type="slidenum">
              <a:t>120</a:t>
            </a:fld>
          </a:p>
        </p:txBody>
      </p:sp>
    </p:spTree>
  </p:cSld>
  <p:transition>
    <p:fade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754200" y="111996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de frecuencia modulada son un tipo de señales de fase modul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2451240" y="3602160"/>
                <a:ext cx="42685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0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D1C-B4F4-45DA-AF0A-D1EB4FC183CB}" type="slidenum">
              <a:t>121</a:t>
            </a:fld>
          </a:p>
        </p:txBody>
      </p:sp>
    </p:spTree>
  </p:cSld>
  <p:transition>
    <p:fade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754200" y="142488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constant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3422520" y="3430440"/>
                <a:ext cx="23241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0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1247760" y="4608360"/>
                <a:ext cx="664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1E2-71FC-42BE-97BA-BB5D7399BC2F}" type="slidenum">
              <a:t>122</a:t>
            </a:fld>
          </a:p>
        </p:txBody>
      </p:sp>
    </p:spTree>
  </p:cSld>
  <p:transition>
    <p:fade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754200" y="9025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variab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1" name=""/>
          <p:cNvGrpSpPr/>
          <p:nvPr/>
        </p:nvGrpSpPr>
        <p:grpSpPr>
          <a:xfrm>
            <a:off x="1960560" y="2276640"/>
            <a:ext cx="4379400" cy="4057560"/>
            <a:chOff x="1960560" y="2276640"/>
            <a:chExt cx="4379400" cy="4057560"/>
          </a:xfrm>
        </p:grpSpPr>
        <p:sp>
          <p:nvSpPr>
            <p:cNvPr id="3242" name=""/>
            <p:cNvSpPr/>
            <p:nvPr/>
          </p:nvSpPr>
          <p:spPr>
            <a:xfrm>
              <a:off x="5621040" y="2570040"/>
              <a:ext cx="7189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H="1">
              <a:off x="4060440" y="3090960"/>
              <a:ext cx="13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225520" y="2443320"/>
              <a:ext cx="3674520" cy="36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4055760" y="3090600"/>
              <a:ext cx="1391760" cy="119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447880" y="3086280"/>
              <a:ext cx="0" cy="11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397120" y="3038400"/>
              <a:ext cx="99720" cy="98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960560" y="4281480"/>
              <a:ext cx="420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057200" y="2276640"/>
              <a:ext cx="0" cy="40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H="1" rot="5400000">
              <a:off x="3462840" y="3692160"/>
              <a:ext cx="1194840" cy="11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4592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45922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H="1" rot="5400000">
              <a:off x="2072880" y="2306160"/>
              <a:ext cx="400248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35" y="2127"/>
                  </a:moveTo>
                  <a:arcTo wR="10800" hR="10800" stAng="-3205560" swAng="633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35" y="2127"/>
                  </a:moveTo>
                  <a:arcTo wR="10800" hR="10800" stAng="-3205560" swAng="63361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874600" y="2876400"/>
              <a:ext cx="1377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n (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635360" y="3800520"/>
              <a:ext cx="582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766-5E54-4EBB-8F98-A18A17FA3618}" type="slidenum">
              <a:t>123</a:t>
            </a:fld>
          </a:p>
        </p:txBody>
      </p:sp>
    </p:spTree>
  </p:cSld>
  <p:transition>
    <p:fade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754200" y="9025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variab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3" name=""/>
          <p:cNvGrpSpPr/>
          <p:nvPr/>
        </p:nvGrpSpPr>
        <p:grpSpPr>
          <a:xfrm>
            <a:off x="1424160" y="2276640"/>
            <a:ext cx="4379400" cy="4057560"/>
            <a:chOff x="1424160" y="2276640"/>
            <a:chExt cx="4379400" cy="4057560"/>
          </a:xfrm>
        </p:grpSpPr>
        <p:sp>
          <p:nvSpPr>
            <p:cNvPr id="3264" name=""/>
            <p:cNvSpPr/>
            <p:nvPr/>
          </p:nvSpPr>
          <p:spPr>
            <a:xfrm>
              <a:off x="5084640" y="2570040"/>
              <a:ext cx="7189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>
              <a:off x="3524040" y="3090960"/>
              <a:ext cx="13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689120" y="2443320"/>
              <a:ext cx="3674520" cy="36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V="1">
              <a:off x="3519360" y="3090600"/>
              <a:ext cx="1391760" cy="119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911480" y="3086280"/>
              <a:ext cx="0" cy="11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860720" y="3038400"/>
              <a:ext cx="99720" cy="98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424160" y="4281480"/>
              <a:ext cx="420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520800" y="2276640"/>
              <a:ext cx="0" cy="40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 rot="5400000">
              <a:off x="2926440" y="3692160"/>
              <a:ext cx="1194840" cy="11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4592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45922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 rot="5400000">
              <a:off x="1536480" y="2306160"/>
              <a:ext cx="400248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35" y="2127"/>
                  </a:moveTo>
                  <a:arcTo wR="10800" hR="10800" stAng="-3205560" swAng="633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35" y="2127"/>
                  </a:moveTo>
                  <a:arcTo wR="10800" hR="10800" stAng="-3205560" swAng="63361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338200" y="2876400"/>
              <a:ext cx="1377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n (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098960" y="3800520"/>
              <a:ext cx="582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AC9-91C4-47E4-8889-2ED1298A411D}" type="slidenum">
              <a:t>124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754200" y="9025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variab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5" name=""/>
          <p:cNvGrpSpPr/>
          <p:nvPr/>
        </p:nvGrpSpPr>
        <p:grpSpPr>
          <a:xfrm>
            <a:off x="755640" y="2276640"/>
            <a:ext cx="4379400" cy="4057560"/>
            <a:chOff x="755640" y="2276640"/>
            <a:chExt cx="4379400" cy="4057560"/>
          </a:xfrm>
        </p:grpSpPr>
        <p:sp>
          <p:nvSpPr>
            <p:cNvPr id="3286" name=""/>
            <p:cNvSpPr/>
            <p:nvPr/>
          </p:nvSpPr>
          <p:spPr>
            <a:xfrm>
              <a:off x="4416120" y="2570040"/>
              <a:ext cx="7189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2855520" y="3090960"/>
              <a:ext cx="13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020600" y="2443320"/>
              <a:ext cx="3674520" cy="36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2850840" y="3090600"/>
              <a:ext cx="1391760" cy="119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242960" y="3086280"/>
              <a:ext cx="0" cy="11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192200" y="3038400"/>
              <a:ext cx="99720" cy="98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55640" y="4281480"/>
              <a:ext cx="420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852280" y="2276640"/>
              <a:ext cx="0" cy="40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 rot="5400000">
              <a:off x="2257920" y="3692160"/>
              <a:ext cx="1194840" cy="11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4592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45922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 rot="5400000">
              <a:off x="867960" y="2306160"/>
              <a:ext cx="4002480" cy="39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35" y="2127"/>
                  </a:moveTo>
                  <a:arcTo wR="10800" hR="10800" stAng="-3205560" swAng="633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35" y="2127"/>
                  </a:moveTo>
                  <a:arcTo wR="10800" hR="10800" stAng="-3205560" swAng="63361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669680" y="2876400"/>
              <a:ext cx="13777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n (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430440" y="3800520"/>
              <a:ext cx="582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72E-75C6-40DC-9353-3FB31627D0EC}" type="slidenum">
              <a:t>125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754200" y="9025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señal de frecuencia variab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7" name=""/>
          <p:cNvGrpSpPr/>
          <p:nvPr/>
        </p:nvGrpSpPr>
        <p:grpSpPr>
          <a:xfrm>
            <a:off x="365040" y="2276640"/>
            <a:ext cx="4380120" cy="4057560"/>
            <a:chOff x="365040" y="2276640"/>
            <a:chExt cx="4380120" cy="4057560"/>
          </a:xfrm>
        </p:grpSpPr>
        <p:sp>
          <p:nvSpPr>
            <p:cNvPr id="3308" name=""/>
            <p:cNvSpPr/>
            <p:nvPr/>
          </p:nvSpPr>
          <p:spPr>
            <a:xfrm>
              <a:off x="4025880" y="2570040"/>
              <a:ext cx="7192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H="1">
              <a:off x="2464920" y="309096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30360" y="2443320"/>
              <a:ext cx="3674880" cy="36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V="1">
              <a:off x="2460600" y="3090600"/>
              <a:ext cx="1392120" cy="119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852720" y="3086280"/>
              <a:ext cx="0" cy="11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801960" y="3038400"/>
              <a:ext cx="100080" cy="98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65040" y="4281480"/>
              <a:ext cx="420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462040" y="2276640"/>
              <a:ext cx="0" cy="40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H="1" rot="5400000">
              <a:off x="1867680" y="3691800"/>
              <a:ext cx="1194840" cy="119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4592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45922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 rot="5400000">
              <a:off x="478080" y="2305440"/>
              <a:ext cx="4002480" cy="399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235" y="2127"/>
                  </a:moveTo>
                  <a:arcTo wR="10800" hR="10800" stAng="-3205560" swAng="633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235" y="2127"/>
                  </a:moveTo>
                  <a:arcTo wR="10800" hR="10800" stAng="-3205560" swAng="63361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1279440" y="2876400"/>
              <a:ext cx="13780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en (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040200" y="3800520"/>
              <a:ext cx="582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0" name=""/>
          <p:cNvSpPr/>
          <p:nvPr/>
        </p:nvSpPr>
        <p:spPr>
          <a:xfrm>
            <a:off x="4807080" y="2710440"/>
            <a:ext cx="3541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La frecuencia actúa como una velocidad angular, por lo tanto el ángulo de fase es la integral de la frecu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2" name=""/>
              <p:cNvSpPr txBox="1"/>
              <p:nvPr/>
            </p:nvSpPr>
            <p:spPr>
              <a:xfrm>
                <a:off x="5110200" y="4494240"/>
                <a:ext cx="30020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B38-0DF1-4D86-A57E-ECDE11D0FEC4}" type="slidenum">
              <a:t>126</a:t>
            </a:fld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"/>
          <p:cNvSpPr/>
          <p:nvPr/>
        </p:nvSpPr>
        <p:spPr>
          <a:xfrm>
            <a:off x="754200" y="59760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primer ejemplo son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rridos de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por ejemplo el barri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onen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71920" y="3181320"/>
                <a:ext cx="38001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4A5-2378-42F9-B6A5-D916C843D447}" type="slidenum">
              <a:t>127</a:t>
            </a:fld>
          </a:p>
        </p:txBody>
      </p:sp>
    </p:spTree>
  </p:cSld>
  <p:transition>
    <p:fade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3257640" y="2739960"/>
                <a:ext cx="2565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28" name=""/>
          <p:cNvSpPr/>
          <p:nvPr/>
        </p:nvSpPr>
        <p:spPr>
          <a:xfrm>
            <a:off x="2046240" y="5130720"/>
            <a:ext cx="497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 flipV="1">
            <a:off x="2163600" y="1785960"/>
            <a:ext cx="0" cy="3440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2160720" y="2160720"/>
            <a:ext cx="4349520" cy="2909880"/>
          </a:xfrm>
          <a:custGeom>
            <a:avLst/>
            <a:gdLst/>
            <a:ahLst/>
            <a:rect l="l" t="t" r="r" b="b"/>
            <a:pathLst>
              <a:path w="2740" h="1833">
                <a:moveTo>
                  <a:pt x="0" y="1833"/>
                </a:moveTo>
                <a:lnTo>
                  <a:pt x="245" y="1818"/>
                </a:lnTo>
                <a:lnTo>
                  <a:pt x="469" y="1803"/>
                </a:lnTo>
                <a:lnTo>
                  <a:pt x="715" y="1773"/>
                </a:lnTo>
                <a:lnTo>
                  <a:pt x="980" y="1726"/>
                </a:lnTo>
                <a:lnTo>
                  <a:pt x="1193" y="1675"/>
                </a:lnTo>
                <a:lnTo>
                  <a:pt x="1400" y="1603"/>
                </a:lnTo>
                <a:lnTo>
                  <a:pt x="1559" y="1534"/>
                </a:lnTo>
                <a:lnTo>
                  <a:pt x="1727" y="1444"/>
                </a:lnTo>
                <a:lnTo>
                  <a:pt x="1876" y="1338"/>
                </a:lnTo>
                <a:lnTo>
                  <a:pt x="2054" y="1182"/>
                </a:lnTo>
                <a:lnTo>
                  <a:pt x="2201" y="1015"/>
                </a:lnTo>
                <a:lnTo>
                  <a:pt x="2297" y="885"/>
                </a:lnTo>
                <a:lnTo>
                  <a:pt x="2426" y="687"/>
                </a:lnTo>
                <a:lnTo>
                  <a:pt x="2557" y="438"/>
                </a:lnTo>
                <a:lnTo>
                  <a:pt x="2656" y="216"/>
                </a:lnTo>
                <a:lnTo>
                  <a:pt x="27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 flipH="1">
            <a:off x="2161800" y="2160720"/>
            <a:ext cx="434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6510240" y="2163600"/>
            <a:ext cx="0" cy="2946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6095880" y="51260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6967440" y="4894200"/>
            <a:ext cx="4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1712880" y="4662360"/>
            <a:ext cx="46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1712880" y="1878120"/>
            <a:ext cx="46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>
            <a:off x="1771560" y="128268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E669-F9B1-4471-B5A9-9BE413BF45E4}" type="slidenum">
              <a:t>128</a:t>
            </a:fld>
          </a:p>
        </p:txBody>
      </p:sp>
    </p:spTree>
  </p:cSld>
  <p:transition>
    <p:fade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"/>
          <p:cNvSpPr/>
          <p:nvPr/>
        </p:nvSpPr>
        <p:spPr>
          <a:xfrm>
            <a:off x="754200" y="1207440"/>
            <a:ext cx="76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fase re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1392120" y="2576520"/>
                <a:ext cx="6361200" cy="25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85F-9DF4-4AF1-803A-62D24CFDB3B2}" type="slidenum">
              <a:t>129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4200" y="142200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ominio eléctric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iene, sin embargo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imita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cuanto al tipo de procesos que se pueden realizar, por ejemplo sólo son posibles filtros relativa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imp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CAA-2CC4-4917-8E8A-B211AD781159}" type="slidenum">
              <a:t>13</a:t>
            </a:fld>
          </a:p>
        </p:txBody>
      </p:sp>
    </p:spTree>
  </p:cSld>
  <p:transition>
    <p:fade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"/>
          <p:cNvSpPr/>
          <p:nvPr/>
        </p:nvSpPr>
        <p:spPr>
          <a:xfrm>
            <a:off x="912960" y="947520"/>
            <a:ext cx="7318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jemplo de aplicación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ometría de Békésy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onde se va aumentando gradualmente la frecuencia y el sujeto alterna intensidad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reci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que escucha y lueg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creci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que no escuch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828-3F51-4B2A-BDA7-DC2B1F5BA8E5}" type="slidenum">
              <a:t>130</a:t>
            </a:fld>
          </a:p>
        </p:txBody>
      </p:sp>
    </p:spTree>
  </p:cSld>
  <p:transition>
    <p:fade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5" name="" descr=""/>
          <p:cNvPicPr/>
          <p:nvPr/>
        </p:nvPicPr>
        <p:blipFill>
          <a:blip r:embed="rId2"/>
          <a:stretch/>
        </p:blipFill>
        <p:spPr>
          <a:xfrm>
            <a:off x="858960" y="863640"/>
            <a:ext cx="7424640" cy="5137200"/>
          </a:xfrm>
          <a:prstGeom prst="rect">
            <a:avLst/>
          </a:prstGeom>
          <a:ln w="0">
            <a:noFill/>
          </a:ln>
        </p:spPr>
      </p:pic>
      <p:sp>
        <p:nvSpPr>
          <p:cNvPr id="3346" name=""/>
          <p:cNvSpPr/>
          <p:nvPr/>
        </p:nvSpPr>
        <p:spPr>
          <a:xfrm>
            <a:off x="666720" y="6217560"/>
            <a:ext cx="78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Zwicker, Eberhard; Fastl, Hugo (1999) Psychoacoustics. Facts and models. Spri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5F0-C7F7-41E7-980C-DB9313F006CE}" type="slidenum">
              <a:t>131</a:t>
            </a:fld>
          </a:p>
        </p:txBody>
      </p:sp>
    </p:spTree>
  </p:cSld>
  <p:transition>
    <p:fade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"/>
          <p:cNvSpPr/>
          <p:nvPr/>
        </p:nvSpPr>
        <p:spPr>
          <a:xfrm>
            <a:off x="912960" y="1398240"/>
            <a:ext cx="73180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¿Por qué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onenci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que así el númer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octavas por unidad de 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mantiene constante, por ejemplo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3 oct/m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741-4486-4E54-AA12-63ECA989D2F5}" type="slidenum">
              <a:t>132</a:t>
            </a:fld>
          </a:p>
        </p:txBody>
      </p:sp>
    </p:spTree>
  </p:cSld>
  <p:transition>
    <p:fade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"/>
          <p:cNvSpPr/>
          <p:nvPr/>
        </p:nvSpPr>
        <p:spPr>
          <a:xfrm>
            <a:off x="912960" y="1091520"/>
            <a:ext cx="731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segundo y más famoso ejemplo es el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 modulada senoidal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4" name=""/>
              <p:cNvSpPr txBox="1"/>
              <p:nvPr/>
            </p:nvSpPr>
            <p:spPr>
              <a:xfrm>
                <a:off x="1550880" y="4251240"/>
                <a:ext cx="59850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Δ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5" name=""/>
          <p:cNvSpPr/>
          <p:nvPr/>
        </p:nvSpPr>
        <p:spPr>
          <a:xfrm>
            <a:off x="2271600" y="5336280"/>
            <a:ext cx="16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 flipH="1">
            <a:off x="3152520" y="4998960"/>
            <a:ext cx="39996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5284800" y="4940280"/>
            <a:ext cx="0" cy="412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317840" y="533628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Desviación de 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7054920" y="4940280"/>
            <a:ext cx="339480" cy="4096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6562800" y="5336280"/>
            <a:ext cx="168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Frecuencia modul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2F9-07CC-44FF-94E4-980A47AFD37B}" type="slidenum">
              <a:t>133</a:t>
            </a:fld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"/>
          <p:cNvSpPr/>
          <p:nvPr/>
        </p:nvSpPr>
        <p:spPr>
          <a:xfrm flipV="1">
            <a:off x="1873080" y="1533240"/>
            <a:ext cx="0" cy="16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1708200" y="1239840"/>
            <a:ext cx="349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7369200" y="2833560"/>
            <a:ext cx="349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1681200" y="3044880"/>
            <a:ext cx="587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5" name=""/>
          <p:cNvGrpSpPr/>
          <p:nvPr/>
        </p:nvGrpSpPr>
        <p:grpSpPr>
          <a:xfrm>
            <a:off x="1873080" y="1843200"/>
            <a:ext cx="5097240" cy="804240"/>
            <a:chOff x="1873080" y="1843200"/>
            <a:chExt cx="5097240" cy="804240"/>
          </a:xfrm>
        </p:grpSpPr>
        <p:sp>
          <p:nvSpPr>
            <p:cNvPr id="3366" name=""/>
            <p:cNvSpPr/>
            <p:nvPr/>
          </p:nvSpPr>
          <p:spPr>
            <a:xfrm>
              <a:off x="1873080" y="1843200"/>
              <a:ext cx="1276560" cy="401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146760" y="1844280"/>
              <a:ext cx="1275480" cy="401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423680" y="2246400"/>
              <a:ext cx="1276560" cy="401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5697360" y="2244960"/>
              <a:ext cx="1272960" cy="400680"/>
            </a:xfrm>
            <a:custGeom>
              <a:avLst/>
              <a:gdLst/>
              <a:ahLst/>
              <a:rect l="l" t="t" r="r" b="b"/>
              <a:pathLst>
                <a:path w="1426" h="586">
                  <a:moveTo>
                    <a:pt x="1426" y="0"/>
                  </a:moveTo>
                  <a:lnTo>
                    <a:pt x="1355" y="47"/>
                  </a:lnTo>
                  <a:lnTo>
                    <a:pt x="1289" y="91"/>
                  </a:lnTo>
                  <a:lnTo>
                    <a:pt x="1215" y="136"/>
                  </a:lnTo>
                  <a:lnTo>
                    <a:pt x="1147" y="179"/>
                  </a:lnTo>
                  <a:lnTo>
                    <a:pt x="1075" y="221"/>
                  </a:lnTo>
                  <a:lnTo>
                    <a:pt x="1003" y="265"/>
                  </a:lnTo>
                  <a:lnTo>
                    <a:pt x="926" y="306"/>
                  </a:lnTo>
                  <a:lnTo>
                    <a:pt x="857" y="344"/>
                  </a:lnTo>
                  <a:lnTo>
                    <a:pt x="786" y="381"/>
                  </a:lnTo>
                  <a:lnTo>
                    <a:pt x="718" y="413"/>
                  </a:lnTo>
                  <a:lnTo>
                    <a:pt x="643" y="446"/>
                  </a:lnTo>
                  <a:lnTo>
                    <a:pt x="572" y="475"/>
                  </a:lnTo>
                  <a:lnTo>
                    <a:pt x="499" y="500"/>
                  </a:lnTo>
                  <a:lnTo>
                    <a:pt x="432" y="521"/>
                  </a:lnTo>
                  <a:lnTo>
                    <a:pt x="360" y="542"/>
                  </a:lnTo>
                  <a:lnTo>
                    <a:pt x="286" y="558"/>
                  </a:lnTo>
                  <a:lnTo>
                    <a:pt x="214" y="570"/>
                  </a:lnTo>
                  <a:lnTo>
                    <a:pt x="148" y="578"/>
                  </a:lnTo>
                  <a:lnTo>
                    <a:pt x="74" y="585"/>
                  </a:lnTo>
                  <a:lnTo>
                    <a:pt x="0" y="58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0" name=""/>
          <p:cNvSpPr/>
          <p:nvPr/>
        </p:nvSpPr>
        <p:spPr>
          <a:xfrm>
            <a:off x="2048040" y="1681200"/>
            <a:ext cx="4539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1866960" y="2244600"/>
            <a:ext cx="53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1519200" y="2041560"/>
            <a:ext cx="349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 flipV="1">
            <a:off x="1873080" y="3741480"/>
            <a:ext cx="0" cy="11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708200" y="3433680"/>
            <a:ext cx="349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7396200" y="4167360"/>
            <a:ext cx="349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1708200" y="4378320"/>
            <a:ext cx="587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7" name=""/>
          <p:cNvGrpSpPr/>
          <p:nvPr/>
        </p:nvGrpSpPr>
        <p:grpSpPr>
          <a:xfrm>
            <a:off x="1874880" y="4011480"/>
            <a:ext cx="5104800" cy="734400"/>
            <a:chOff x="1874880" y="4011480"/>
            <a:chExt cx="5104800" cy="734400"/>
          </a:xfrm>
        </p:grpSpPr>
        <p:grpSp>
          <p:nvGrpSpPr>
            <p:cNvPr id="3378" name=""/>
            <p:cNvGrpSpPr/>
            <p:nvPr/>
          </p:nvGrpSpPr>
          <p:grpSpPr>
            <a:xfrm>
              <a:off x="3063600" y="4012200"/>
              <a:ext cx="160200" cy="733680"/>
              <a:chOff x="3063600" y="4012200"/>
              <a:chExt cx="160200" cy="733680"/>
            </a:xfrm>
          </p:grpSpPr>
          <p:sp>
            <p:nvSpPr>
              <p:cNvPr id="3379" name=""/>
              <p:cNvSpPr/>
              <p:nvPr/>
            </p:nvSpPr>
            <p:spPr>
              <a:xfrm>
                <a:off x="3063600" y="4012200"/>
                <a:ext cx="39960" cy="367200"/>
              </a:xfrm>
              <a:custGeom>
                <a:avLst/>
                <a:gdLst/>
                <a:ahLst/>
                <a:rect l="l" t="t" r="r" b="b"/>
                <a:pathLst>
                  <a:path w="742" h="586">
                    <a:moveTo>
                      <a:pt x="0" y="586"/>
                    </a:moveTo>
                    <a:lnTo>
                      <a:pt x="184" y="364"/>
                    </a:lnTo>
                    <a:lnTo>
                      <a:pt x="343" y="193"/>
                    </a:lnTo>
                    <a:lnTo>
                      <a:pt x="430" y="118"/>
                    </a:lnTo>
                    <a:lnTo>
                      <a:pt x="523" y="61"/>
                    </a:lnTo>
                    <a:lnTo>
                      <a:pt x="595" y="28"/>
                    </a:lnTo>
                    <a:lnTo>
                      <a:pt x="671" y="7"/>
                    </a:lnTo>
                    <a:lnTo>
                      <a:pt x="704" y="1"/>
                    </a:lnTo>
                    <a:lnTo>
                      <a:pt x="74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 flipH="1">
                <a:off x="3102840" y="4012200"/>
                <a:ext cx="39960" cy="367200"/>
              </a:xfrm>
              <a:custGeom>
                <a:avLst/>
                <a:gdLst/>
                <a:ahLst/>
                <a:rect l="l" t="t" r="r" b="b"/>
                <a:pathLst>
                  <a:path w="742" h="586">
                    <a:moveTo>
                      <a:pt x="0" y="586"/>
                    </a:moveTo>
                    <a:lnTo>
                      <a:pt x="184" y="364"/>
                    </a:lnTo>
                    <a:lnTo>
                      <a:pt x="343" y="193"/>
                    </a:lnTo>
                    <a:lnTo>
                      <a:pt x="430" y="118"/>
                    </a:lnTo>
                    <a:lnTo>
                      <a:pt x="523" y="61"/>
                    </a:lnTo>
                    <a:lnTo>
                      <a:pt x="595" y="28"/>
                    </a:lnTo>
                    <a:lnTo>
                      <a:pt x="671" y="7"/>
                    </a:lnTo>
                    <a:lnTo>
                      <a:pt x="704" y="1"/>
                    </a:lnTo>
                    <a:lnTo>
                      <a:pt x="74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 flipV="1">
                <a:off x="3143880" y="4378680"/>
                <a:ext cx="39960" cy="367200"/>
              </a:xfrm>
              <a:custGeom>
                <a:avLst/>
                <a:gdLst/>
                <a:ahLst/>
                <a:rect l="l" t="t" r="r" b="b"/>
                <a:pathLst>
                  <a:path w="742" h="586">
                    <a:moveTo>
                      <a:pt x="0" y="586"/>
                    </a:moveTo>
                    <a:lnTo>
                      <a:pt x="184" y="364"/>
                    </a:lnTo>
                    <a:lnTo>
                      <a:pt x="343" y="193"/>
                    </a:lnTo>
                    <a:lnTo>
                      <a:pt x="430" y="118"/>
                    </a:lnTo>
                    <a:lnTo>
                      <a:pt x="523" y="61"/>
                    </a:lnTo>
                    <a:lnTo>
                      <a:pt x="595" y="28"/>
                    </a:lnTo>
                    <a:lnTo>
                      <a:pt x="671" y="7"/>
                    </a:lnTo>
                    <a:lnTo>
                      <a:pt x="704" y="1"/>
                    </a:lnTo>
                    <a:lnTo>
                      <a:pt x="74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 flipV="1">
                <a:off x="3183480" y="4378680"/>
                <a:ext cx="39960" cy="367200"/>
              </a:xfrm>
              <a:custGeom>
                <a:avLst/>
                <a:gdLst/>
                <a:ahLst/>
                <a:rect l="l" t="t" r="r" b="b"/>
                <a:pathLst>
                  <a:path w="742" h="586">
                    <a:moveTo>
                      <a:pt x="0" y="586"/>
                    </a:moveTo>
                    <a:lnTo>
                      <a:pt x="184" y="364"/>
                    </a:lnTo>
                    <a:lnTo>
                      <a:pt x="343" y="193"/>
                    </a:lnTo>
                    <a:lnTo>
                      <a:pt x="430" y="118"/>
                    </a:lnTo>
                    <a:lnTo>
                      <a:pt x="523" y="61"/>
                    </a:lnTo>
                    <a:lnTo>
                      <a:pt x="595" y="28"/>
                    </a:lnTo>
                    <a:lnTo>
                      <a:pt x="671" y="7"/>
                    </a:lnTo>
                    <a:lnTo>
                      <a:pt x="704" y="1"/>
                    </a:lnTo>
                    <a:lnTo>
                      <a:pt x="74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1874880" y="4012200"/>
              <a:ext cx="1185480" cy="733680"/>
              <a:chOff x="1874880" y="4012200"/>
              <a:chExt cx="1185480" cy="733680"/>
            </a:xfrm>
          </p:grpSpPr>
          <p:grpSp>
            <p:nvGrpSpPr>
              <p:cNvPr id="3384" name=""/>
              <p:cNvGrpSpPr/>
              <p:nvPr/>
            </p:nvGrpSpPr>
            <p:grpSpPr>
              <a:xfrm>
                <a:off x="1874880" y="4012200"/>
                <a:ext cx="303120" cy="733680"/>
                <a:chOff x="1874880" y="4012200"/>
                <a:chExt cx="303120" cy="733680"/>
              </a:xfrm>
            </p:grpSpPr>
            <p:sp>
              <p:nvSpPr>
                <p:cNvPr id="3385" name=""/>
                <p:cNvSpPr/>
                <p:nvPr/>
              </p:nvSpPr>
              <p:spPr>
                <a:xfrm>
                  <a:off x="1874880" y="401220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 flipH="1">
                  <a:off x="1949760" y="401220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 flipV="1">
                  <a:off x="2026440" y="437868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 flipH="1" flipV="1">
                  <a:off x="2101680" y="437868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9" name=""/>
              <p:cNvGrpSpPr/>
              <p:nvPr/>
            </p:nvGrpSpPr>
            <p:grpSpPr>
              <a:xfrm>
                <a:off x="2178360" y="4012200"/>
                <a:ext cx="253800" cy="733680"/>
                <a:chOff x="2178360" y="4012200"/>
                <a:chExt cx="253800" cy="73368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2178360" y="401220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 flipH="1">
                  <a:off x="2241000" y="401220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V="1">
                  <a:off x="2305440" y="437868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 flipH="1" flipV="1">
                  <a:off x="2368080" y="437868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4" name=""/>
              <p:cNvGrpSpPr/>
              <p:nvPr/>
            </p:nvGrpSpPr>
            <p:grpSpPr>
              <a:xfrm>
                <a:off x="2432520" y="4012200"/>
                <a:ext cx="227880" cy="733680"/>
                <a:chOff x="2432520" y="4012200"/>
                <a:chExt cx="227880" cy="733680"/>
              </a:xfrm>
            </p:grpSpPr>
            <p:sp>
              <p:nvSpPr>
                <p:cNvPr id="3395" name=""/>
                <p:cNvSpPr/>
                <p:nvPr/>
              </p:nvSpPr>
              <p:spPr>
                <a:xfrm>
                  <a:off x="2432520" y="401220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 flipH="1">
                  <a:off x="2488680" y="401220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V="1">
                  <a:off x="2546640" y="437868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 flipH="1" flipV="1">
                  <a:off x="2602800" y="437868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9" name=""/>
              <p:cNvGrpSpPr/>
              <p:nvPr/>
            </p:nvGrpSpPr>
            <p:grpSpPr>
              <a:xfrm>
                <a:off x="2661120" y="4012200"/>
                <a:ext cx="199440" cy="733680"/>
                <a:chOff x="2661120" y="4012200"/>
                <a:chExt cx="199440" cy="733680"/>
              </a:xfrm>
            </p:grpSpPr>
            <p:sp>
              <p:nvSpPr>
                <p:cNvPr id="3400" name=""/>
                <p:cNvSpPr/>
                <p:nvPr/>
              </p:nvSpPr>
              <p:spPr>
                <a:xfrm>
                  <a:off x="2661120" y="401220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 flipH="1">
                  <a:off x="2710080" y="401220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 flipV="1">
                  <a:off x="2760840" y="437868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 flipH="1" flipV="1">
                  <a:off x="2810160" y="437868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4" name=""/>
              <p:cNvGrpSpPr/>
              <p:nvPr/>
            </p:nvGrpSpPr>
            <p:grpSpPr>
              <a:xfrm>
                <a:off x="2861280" y="4012200"/>
                <a:ext cx="199080" cy="733680"/>
                <a:chOff x="2861280" y="4012200"/>
                <a:chExt cx="199080" cy="733680"/>
              </a:xfrm>
            </p:grpSpPr>
            <p:sp>
              <p:nvSpPr>
                <p:cNvPr id="3405" name=""/>
                <p:cNvSpPr/>
                <p:nvPr/>
              </p:nvSpPr>
              <p:spPr>
                <a:xfrm>
                  <a:off x="2861280" y="401220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 flipH="1">
                  <a:off x="2910960" y="401220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 flipV="1">
                  <a:off x="2960640" y="437868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 flipH="1" flipV="1">
                  <a:off x="3010680" y="437868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9" name=""/>
            <p:cNvGrpSpPr/>
            <p:nvPr/>
          </p:nvGrpSpPr>
          <p:grpSpPr>
            <a:xfrm>
              <a:off x="3228120" y="4012200"/>
              <a:ext cx="1185120" cy="733680"/>
              <a:chOff x="3228120" y="4012200"/>
              <a:chExt cx="1185120" cy="733680"/>
            </a:xfrm>
          </p:grpSpPr>
          <p:grpSp>
            <p:nvGrpSpPr>
              <p:cNvPr id="3410" name=""/>
              <p:cNvGrpSpPr/>
              <p:nvPr/>
            </p:nvGrpSpPr>
            <p:grpSpPr>
              <a:xfrm>
                <a:off x="4110120" y="4012200"/>
                <a:ext cx="303120" cy="733680"/>
                <a:chOff x="4110120" y="4012200"/>
                <a:chExt cx="303120" cy="733680"/>
              </a:xfrm>
            </p:grpSpPr>
            <p:sp>
              <p:nvSpPr>
                <p:cNvPr id="3411" name=""/>
                <p:cNvSpPr/>
                <p:nvPr/>
              </p:nvSpPr>
              <p:spPr>
                <a:xfrm flipH="1" flipV="1">
                  <a:off x="4336920" y="437868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 flipV="1">
                  <a:off x="4262040" y="437868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 flipH="1">
                  <a:off x="4185360" y="401220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4110120" y="4012200"/>
                  <a:ext cx="7596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5" name=""/>
              <p:cNvGrpSpPr/>
              <p:nvPr/>
            </p:nvGrpSpPr>
            <p:grpSpPr>
              <a:xfrm>
                <a:off x="3855960" y="4012200"/>
                <a:ext cx="253800" cy="733680"/>
                <a:chOff x="3855960" y="4012200"/>
                <a:chExt cx="253800" cy="733680"/>
              </a:xfrm>
            </p:grpSpPr>
            <p:sp>
              <p:nvSpPr>
                <p:cNvPr id="3416" name=""/>
                <p:cNvSpPr/>
                <p:nvPr/>
              </p:nvSpPr>
              <p:spPr>
                <a:xfrm flipH="1" flipV="1">
                  <a:off x="4045680" y="437868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 flipV="1">
                  <a:off x="3983040" y="437868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 flipH="1">
                  <a:off x="3918600" y="401220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3855960" y="4012200"/>
                  <a:ext cx="6372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0" name=""/>
              <p:cNvGrpSpPr/>
              <p:nvPr/>
            </p:nvGrpSpPr>
            <p:grpSpPr>
              <a:xfrm>
                <a:off x="3627360" y="4012200"/>
                <a:ext cx="227880" cy="733680"/>
                <a:chOff x="3627360" y="4012200"/>
                <a:chExt cx="227880" cy="733680"/>
              </a:xfrm>
            </p:grpSpPr>
            <p:sp>
              <p:nvSpPr>
                <p:cNvPr id="3421" name=""/>
                <p:cNvSpPr/>
                <p:nvPr/>
              </p:nvSpPr>
              <p:spPr>
                <a:xfrm flipH="1" flipV="1">
                  <a:off x="3797640" y="437868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 flipV="1">
                  <a:off x="3741480" y="437868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 flipH="1">
                  <a:off x="3683520" y="401220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3627360" y="4012200"/>
                  <a:ext cx="572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5" name=""/>
              <p:cNvGrpSpPr/>
              <p:nvPr/>
            </p:nvGrpSpPr>
            <p:grpSpPr>
              <a:xfrm>
                <a:off x="3426840" y="4012200"/>
                <a:ext cx="199440" cy="733680"/>
                <a:chOff x="3426840" y="4012200"/>
                <a:chExt cx="199440" cy="733680"/>
              </a:xfrm>
            </p:grpSpPr>
            <p:sp>
              <p:nvSpPr>
                <p:cNvPr id="3426" name=""/>
                <p:cNvSpPr/>
                <p:nvPr/>
              </p:nvSpPr>
              <p:spPr>
                <a:xfrm flipH="1" flipV="1">
                  <a:off x="3575880" y="437868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 flipV="1">
                  <a:off x="3526920" y="437868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 flipH="1">
                  <a:off x="3476160" y="401220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3426840" y="4012200"/>
                  <a:ext cx="5004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0" name=""/>
              <p:cNvGrpSpPr/>
              <p:nvPr/>
            </p:nvGrpSpPr>
            <p:grpSpPr>
              <a:xfrm>
                <a:off x="3228120" y="4012200"/>
                <a:ext cx="198720" cy="733680"/>
                <a:chOff x="3228120" y="4012200"/>
                <a:chExt cx="198720" cy="733680"/>
              </a:xfrm>
            </p:grpSpPr>
            <p:sp>
              <p:nvSpPr>
                <p:cNvPr id="3431" name=""/>
                <p:cNvSpPr/>
                <p:nvPr/>
              </p:nvSpPr>
              <p:spPr>
                <a:xfrm flipH="1" flipV="1">
                  <a:off x="3377160" y="437868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 flipV="1">
                  <a:off x="3327840" y="437868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H="1">
                  <a:off x="3277800" y="401220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3228120" y="4012200"/>
                  <a:ext cx="49680" cy="36720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5" name=""/>
            <p:cNvGrpSpPr/>
            <p:nvPr/>
          </p:nvGrpSpPr>
          <p:grpSpPr>
            <a:xfrm>
              <a:off x="4419000" y="4011840"/>
              <a:ext cx="1277640" cy="734040"/>
              <a:chOff x="4419000" y="4011840"/>
              <a:chExt cx="1277640" cy="734040"/>
            </a:xfrm>
          </p:grpSpPr>
          <p:grpSp>
            <p:nvGrpSpPr>
              <p:cNvPr id="3436" name=""/>
              <p:cNvGrpSpPr/>
              <p:nvPr/>
            </p:nvGrpSpPr>
            <p:grpSpPr>
              <a:xfrm>
                <a:off x="5329080" y="4011840"/>
                <a:ext cx="367560" cy="734040"/>
                <a:chOff x="5329080" y="4011840"/>
                <a:chExt cx="367560" cy="734040"/>
              </a:xfrm>
            </p:grpSpPr>
            <p:sp>
              <p:nvSpPr>
                <p:cNvPr id="3437" name=""/>
                <p:cNvSpPr/>
                <p:nvPr/>
              </p:nvSpPr>
              <p:spPr>
                <a:xfrm flipH="1" flipV="1">
                  <a:off x="5604480" y="4377960"/>
                  <a:ext cx="92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 flipV="1">
                  <a:off x="5513040" y="4377960"/>
                  <a:ext cx="92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 flipH="1">
                  <a:off x="5420880" y="4011840"/>
                  <a:ext cx="92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5329080" y="4011840"/>
                  <a:ext cx="92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1" name=""/>
              <p:cNvGrpSpPr/>
              <p:nvPr/>
            </p:nvGrpSpPr>
            <p:grpSpPr>
              <a:xfrm>
                <a:off x="4997880" y="4011840"/>
                <a:ext cx="331560" cy="734040"/>
                <a:chOff x="4997880" y="4011840"/>
                <a:chExt cx="331560" cy="734040"/>
              </a:xfrm>
            </p:grpSpPr>
            <p:sp>
              <p:nvSpPr>
                <p:cNvPr id="3442" name=""/>
                <p:cNvSpPr/>
                <p:nvPr/>
              </p:nvSpPr>
              <p:spPr>
                <a:xfrm flipH="1" flipV="1">
                  <a:off x="5245920" y="4377960"/>
                  <a:ext cx="83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V="1">
                  <a:off x="5163840" y="4377960"/>
                  <a:ext cx="83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H="1">
                  <a:off x="5079960" y="4011840"/>
                  <a:ext cx="83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4997880" y="4011840"/>
                  <a:ext cx="831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6" name=""/>
              <p:cNvGrpSpPr/>
              <p:nvPr/>
            </p:nvGrpSpPr>
            <p:grpSpPr>
              <a:xfrm>
                <a:off x="4708080" y="4011840"/>
                <a:ext cx="288720" cy="734040"/>
                <a:chOff x="4708080" y="4011840"/>
                <a:chExt cx="288720" cy="734040"/>
              </a:xfrm>
            </p:grpSpPr>
            <p:sp>
              <p:nvSpPr>
                <p:cNvPr id="3447" name=""/>
                <p:cNvSpPr/>
                <p:nvPr/>
              </p:nvSpPr>
              <p:spPr>
                <a:xfrm flipH="1" flipV="1">
                  <a:off x="4924080" y="437796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4852800" y="437796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H="1">
                  <a:off x="4779720" y="401184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4708080" y="401184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1" name=""/>
              <p:cNvGrpSpPr/>
              <p:nvPr/>
            </p:nvGrpSpPr>
            <p:grpSpPr>
              <a:xfrm>
                <a:off x="4419000" y="4011840"/>
                <a:ext cx="288720" cy="734040"/>
                <a:chOff x="4419000" y="4011840"/>
                <a:chExt cx="288720" cy="734040"/>
              </a:xfrm>
            </p:grpSpPr>
            <p:sp>
              <p:nvSpPr>
                <p:cNvPr id="3452" name=""/>
                <p:cNvSpPr/>
                <p:nvPr/>
              </p:nvSpPr>
              <p:spPr>
                <a:xfrm flipH="1" flipV="1">
                  <a:off x="4635000" y="437796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 flipV="1">
                  <a:off x="4563720" y="437796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 flipH="1">
                  <a:off x="4490640" y="401184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4419000" y="401184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6" name=""/>
            <p:cNvGrpSpPr/>
            <p:nvPr/>
          </p:nvGrpSpPr>
          <p:grpSpPr>
            <a:xfrm>
              <a:off x="5702040" y="4011480"/>
              <a:ext cx="1277640" cy="733680"/>
              <a:chOff x="5702040" y="4011480"/>
              <a:chExt cx="1277640" cy="733680"/>
            </a:xfrm>
          </p:grpSpPr>
          <p:grpSp>
            <p:nvGrpSpPr>
              <p:cNvPr id="3457" name=""/>
              <p:cNvGrpSpPr/>
              <p:nvPr/>
            </p:nvGrpSpPr>
            <p:grpSpPr>
              <a:xfrm>
                <a:off x="5702040" y="4011480"/>
                <a:ext cx="367200" cy="733680"/>
                <a:chOff x="5702040" y="4011480"/>
                <a:chExt cx="367200" cy="733680"/>
              </a:xfrm>
            </p:grpSpPr>
            <p:sp>
              <p:nvSpPr>
                <p:cNvPr id="3458" name=""/>
                <p:cNvSpPr/>
                <p:nvPr/>
              </p:nvSpPr>
              <p:spPr>
                <a:xfrm>
                  <a:off x="5702040" y="4011480"/>
                  <a:ext cx="91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 flipH="1">
                  <a:off x="5793120" y="4011480"/>
                  <a:ext cx="91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 flipV="1">
                  <a:off x="5886000" y="4377240"/>
                  <a:ext cx="91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 flipH="1" flipV="1">
                  <a:off x="5977080" y="4377240"/>
                  <a:ext cx="91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2" name=""/>
              <p:cNvGrpSpPr/>
              <p:nvPr/>
            </p:nvGrpSpPr>
            <p:grpSpPr>
              <a:xfrm>
                <a:off x="6069600" y="4011480"/>
                <a:ext cx="331560" cy="733680"/>
                <a:chOff x="6069600" y="4011480"/>
                <a:chExt cx="331560" cy="733680"/>
              </a:xfrm>
            </p:grpSpPr>
            <p:sp>
              <p:nvSpPr>
                <p:cNvPr id="3463" name=""/>
                <p:cNvSpPr/>
                <p:nvPr/>
              </p:nvSpPr>
              <p:spPr>
                <a:xfrm>
                  <a:off x="6069600" y="4011480"/>
                  <a:ext cx="82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 flipH="1">
                  <a:off x="6152400" y="4011480"/>
                  <a:ext cx="82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 flipV="1">
                  <a:off x="6235560" y="4377240"/>
                  <a:ext cx="82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 flipH="1" flipV="1">
                  <a:off x="6318360" y="4377240"/>
                  <a:ext cx="828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7" name=""/>
              <p:cNvGrpSpPr/>
              <p:nvPr/>
            </p:nvGrpSpPr>
            <p:grpSpPr>
              <a:xfrm>
                <a:off x="6401880" y="4011480"/>
                <a:ext cx="288720" cy="733680"/>
                <a:chOff x="6401880" y="4011480"/>
                <a:chExt cx="288720" cy="733680"/>
              </a:xfrm>
            </p:grpSpPr>
            <p:sp>
              <p:nvSpPr>
                <p:cNvPr id="3468" name=""/>
                <p:cNvSpPr/>
                <p:nvPr/>
              </p:nvSpPr>
              <p:spPr>
                <a:xfrm>
                  <a:off x="6401880" y="401148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 flipH="1">
                  <a:off x="6474240" y="401148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 flipV="1">
                  <a:off x="6546600" y="437724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H="1" flipV="1">
                  <a:off x="6618600" y="437724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2" name=""/>
              <p:cNvGrpSpPr/>
              <p:nvPr/>
            </p:nvGrpSpPr>
            <p:grpSpPr>
              <a:xfrm>
                <a:off x="6690960" y="4011480"/>
                <a:ext cx="288720" cy="733680"/>
                <a:chOff x="6690960" y="4011480"/>
                <a:chExt cx="288720" cy="733680"/>
              </a:xfrm>
            </p:grpSpPr>
            <p:sp>
              <p:nvSpPr>
                <p:cNvPr id="3473" name=""/>
                <p:cNvSpPr/>
                <p:nvPr/>
              </p:nvSpPr>
              <p:spPr>
                <a:xfrm>
                  <a:off x="6690960" y="401148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 flipH="1">
                  <a:off x="6762240" y="4011480"/>
                  <a:ext cx="7236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 flipV="1">
                  <a:off x="6835680" y="437724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 flipH="1" flipV="1">
                  <a:off x="6907680" y="4377240"/>
                  <a:ext cx="72000" cy="367560"/>
                </a:xfrm>
                <a:custGeom>
                  <a:avLst/>
                  <a:gdLst/>
                  <a:ahLst/>
                  <a:rect l="l" t="t" r="r" b="b"/>
                  <a:pathLst>
                    <a:path w="742" h="586">
                      <a:moveTo>
                        <a:pt x="0" y="586"/>
                      </a:moveTo>
                      <a:lnTo>
                        <a:pt x="184" y="364"/>
                      </a:lnTo>
                      <a:lnTo>
                        <a:pt x="343" y="193"/>
                      </a:lnTo>
                      <a:lnTo>
                        <a:pt x="430" y="118"/>
                      </a:lnTo>
                      <a:lnTo>
                        <a:pt x="523" y="61"/>
                      </a:lnTo>
                      <a:lnTo>
                        <a:pt x="595" y="28"/>
                      </a:lnTo>
                      <a:lnTo>
                        <a:pt x="671" y="7"/>
                      </a:lnTo>
                      <a:lnTo>
                        <a:pt x="704" y="1"/>
                      </a:lnTo>
                      <a:lnTo>
                        <a:pt x="742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77" name=""/>
          <p:cNvSpPr/>
          <p:nvPr/>
        </p:nvSpPr>
        <p:spPr>
          <a:xfrm>
            <a:off x="3236760" y="4940280"/>
            <a:ext cx="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2751120" y="551448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000" spc="-1" strike="noStrike">
                <a:solidFill>
                  <a:srgbClr val="009999"/>
                </a:solidFill>
                <a:latin typeface="Times New Roman"/>
              </a:rPr>
              <a:t> + </a:t>
            </a:r>
            <a:r>
              <a:rPr b="1" lang="el-G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Δ</a:t>
            </a:r>
            <a:r>
              <a:rPr b="1" i="1" lang="es-E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5724360" y="4940280"/>
            <a:ext cx="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5238720" y="551448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ES_tradnl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9999"/>
                </a:solidFill>
                <a:latin typeface="Symbol"/>
                <a:ea typeface="Symbol"/>
              </a:rPr>
              <a:t></a:t>
            </a:r>
            <a:r>
              <a:rPr b="1" lang="es-ES_tradnl" sz="2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Δ</a:t>
            </a:r>
            <a:r>
              <a:rPr b="1" i="1" lang="es-E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4441680" y="4940280"/>
            <a:ext cx="0" cy="3650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3956040" y="551448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2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2662200" y="143640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5187960" y="2626920"/>
            <a:ext cx="9558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0B8-9442-4BC9-95AF-89FD88151702}" type="slidenum">
              <a:t>134</a:t>
            </a:fld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"/>
          <p:cNvSpPr/>
          <p:nvPr/>
        </p:nvSpPr>
        <p:spPr>
          <a:xfrm>
            <a:off x="912960" y="1512000"/>
            <a:ext cx="73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fase re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0" name=""/>
              <p:cNvSpPr txBox="1"/>
              <p:nvPr/>
            </p:nvSpPr>
            <p:spPr>
              <a:xfrm>
                <a:off x="689040" y="3214800"/>
                <a:ext cx="77659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047-AD21-4DD9-9DB7-7C1CC2FD0DDE}" type="slidenum">
              <a:t>135</a:t>
            </a:fld>
          </a:p>
        </p:txBody>
      </p:sp>
    </p:spTree>
  </p:cSld>
  <p:transition>
    <p:fade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"/>
          <p:cNvSpPr/>
          <p:nvPr/>
        </p:nvSpPr>
        <p:spPr>
          <a:xfrm>
            <a:off x="912960" y="2163240"/>
            <a:ext cx="731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de frecuencia modulada se parecen al efec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ibra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utilizado en mús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757-FF34-4213-B0D0-53E8EB74F4EE}" type="slidenum">
              <a:t>136</a:t>
            </a:fld>
          </a:p>
        </p:txBody>
      </p:sp>
    </p:spTree>
  </p:cSld>
  <p:transition>
    <p:fade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"/>
          <p:cNvSpPr/>
          <p:nvPr/>
        </p:nvSpPr>
        <p:spPr>
          <a:xfrm>
            <a:off x="912960" y="1165320"/>
            <a:ext cx="73180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usa como parámetro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índice de modul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1" lang="es-ES_tradnl" sz="4000" spc="-1" strike="noStrike" baseline="-25000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2" name=""/>
              <p:cNvSpPr txBox="1"/>
              <p:nvPr/>
            </p:nvSpPr>
            <p:spPr>
              <a:xfrm>
                <a:off x="3402000" y="3200400"/>
                <a:ext cx="23400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7BF-56B8-45A5-BB8D-D36641E5659B}" type="slidenum">
              <a:t>137</a:t>
            </a:fld>
          </a:p>
        </p:txBody>
      </p:sp>
    </p:spTree>
  </p:cSld>
  <p:transition>
    <p:fade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"/>
          <p:cNvSpPr/>
          <p:nvPr/>
        </p:nvSpPr>
        <p:spPr>
          <a:xfrm>
            <a:off x="912960" y="818640"/>
            <a:ext cx="7318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si </a:t>
            </a:r>
            <a:r>
              <a:rPr b="1" i="1" lang="es-AR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AR" sz="40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s-AR" sz="4000" spc="-1" strike="noStrike">
                <a:solidFill>
                  <a:srgbClr val="009999"/>
                </a:solidFill>
                <a:latin typeface="Times New Roman"/>
              </a:rPr>
              <a:t> = 400 Hz</a:t>
            </a: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s-AR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AR" sz="4000" spc="-1" strike="noStrike" baseline="-25000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AR" sz="4000" spc="-1" strike="noStrike">
                <a:solidFill>
                  <a:srgbClr val="009999"/>
                </a:solidFill>
                <a:latin typeface="Times New Roman"/>
              </a:rPr>
              <a:t> = 10 Hz</a:t>
            </a: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AR" sz="4000" spc="-1" strike="noStrike">
                <a:solidFill>
                  <a:srgbClr val="009999"/>
                </a:solidFill>
                <a:latin typeface="Symbol"/>
                <a:ea typeface="Symbol"/>
              </a:rPr>
              <a:t></a:t>
            </a:r>
            <a:r>
              <a:rPr b="1" i="1" lang="es-AR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AR" sz="4000" spc="-1" strike="noStrike">
                <a:solidFill>
                  <a:srgbClr val="009999"/>
                </a:solidFill>
                <a:latin typeface="Times New Roman"/>
              </a:rPr>
              <a:t> = 100 Hz</a:t>
            </a: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re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9" name=""/>
              <p:cNvSpPr txBox="1"/>
              <p:nvPr/>
            </p:nvSpPr>
            <p:spPr>
              <a:xfrm>
                <a:off x="2117880" y="3328920"/>
                <a:ext cx="491004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f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8FF-DC9A-4081-B76F-E57A8BE53850}" type="slidenum">
              <a:t>138</a:t>
            </a:fld>
          </a:p>
        </p:txBody>
      </p:sp>
    </p:spTree>
  </p:cSld>
  <p:transition>
    <p:fade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"/>
          <p:cNvSpPr/>
          <p:nvPr/>
        </p:nvSpPr>
        <p:spPr>
          <a:xfrm>
            <a:off x="912960" y="1193400"/>
            <a:ext cx="731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los ejemplos más típicos en Psicoacústica la desviación de frecuencia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queñ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a que se estudian los umbrales de discrimin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14F-B537-4E9A-84F3-5263C1DD456A}" type="slidenum">
              <a:t>139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20314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 discre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on señales definidas en instantes discretos de ti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668-62E6-4FE9-A001-BD4B7AE27B27}" type="slidenum">
              <a:t>14</a:t>
            </a:fld>
          </a:p>
        </p:txBody>
      </p:sp>
    </p:spTree>
  </p:cSld>
  <p:transition>
    <p:fade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"/>
          <p:cNvSpPr/>
          <p:nvPr/>
        </p:nvSpPr>
        <p:spPr>
          <a:xfrm>
            <a:off x="912960" y="813960"/>
            <a:ext cx="731808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lo tanto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uele se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queñ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Cuando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m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f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&lt;&lt; 1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espectro 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4589640" y="5234040"/>
            <a:ext cx="446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3741840" y="5224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5167440" y="5234040"/>
            <a:ext cx="637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7628040" y="4024440"/>
            <a:ext cx="360" cy="12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7628040" y="4024440"/>
            <a:ext cx="360" cy="1207800"/>
          </a:xfrm>
          <a:custGeom>
            <a:avLst/>
            <a:gdLst/>
            <a:ahLst/>
            <a:rect l="l" t="t" r="r" b="b"/>
            <a:pathLst>
              <a:path w="0" h="2163">
                <a:moveTo>
                  <a:pt x="0" y="0"/>
                </a:moveTo>
                <a:lnTo>
                  <a:pt x="0" y="0"/>
                </a:lnTo>
                <a:lnTo>
                  <a:pt x="0" y="216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6380" y="0"/>
                </a:moveTo>
                <a:lnTo>
                  <a:pt x="0" y="0"/>
                </a:lnTo>
                <a:lnTo>
                  <a:pt x="63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0" y="0"/>
                </a:moveTo>
                <a:lnTo>
                  <a:pt x="0" y="0"/>
                </a:lnTo>
                <a:lnTo>
                  <a:pt x="63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1176480" y="3857760"/>
            <a:ext cx="498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 flipH="1">
            <a:off x="1712880" y="402444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V="1">
            <a:off x="1789200" y="3765600"/>
            <a:ext cx="1440" cy="15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7804080" y="5081760"/>
            <a:ext cx="206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1735200" y="5232240"/>
            <a:ext cx="6153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544760" y="349416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1784520" y="4022640"/>
            <a:ext cx="3003480" cy="18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 flipH="1">
            <a:off x="4846320" y="3732120"/>
            <a:ext cx="609480" cy="290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5281560" y="34981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6159600" y="40255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s 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 flipH="1">
            <a:off x="4390560" y="4344840"/>
            <a:ext cx="1971720" cy="511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 flipH="1">
            <a:off x="5702040" y="4344840"/>
            <a:ext cx="669960" cy="5050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2212920" y="4898880"/>
            <a:ext cx="34592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 flipH="1">
            <a:off x="1049040" y="4465800"/>
            <a:ext cx="163332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735120" y="590400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4065480" y="4900320"/>
            <a:ext cx="26352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 flipV="1">
            <a:off x="5448240" y="4890960"/>
            <a:ext cx="22248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4802040" y="4022280"/>
            <a:ext cx="0" cy="12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5" name=""/>
          <p:cNvGrpSpPr/>
          <p:nvPr/>
        </p:nvGrpSpPr>
        <p:grpSpPr>
          <a:xfrm>
            <a:off x="1690560" y="4427640"/>
            <a:ext cx="613080" cy="495360"/>
            <a:chOff x="1690560" y="4427640"/>
            <a:chExt cx="613080" cy="495360"/>
          </a:xfrm>
        </p:grpSpPr>
        <p:sp>
          <p:nvSpPr>
            <p:cNvPr id="3546" name=""/>
            <p:cNvSpPr/>
            <p:nvPr/>
          </p:nvSpPr>
          <p:spPr>
            <a:xfrm>
              <a:off x="1766880" y="469440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690560" y="4594320"/>
              <a:ext cx="54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1724040" y="4427640"/>
              <a:ext cx="47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043000" y="4551480"/>
              <a:ext cx="2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F90-EAAF-4A80-90FE-1D88B2B98AB4}" type="slidenum">
              <a:t>140</a:t>
            </a:fld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"/>
          <p:cNvSpPr/>
          <p:nvPr/>
        </p:nvSpPr>
        <p:spPr>
          <a:xfrm>
            <a:off x="912960" y="592920"/>
            <a:ext cx="731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decir, se parece al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modulada sólo que las bandas laterales tiene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ismo si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4589640" y="5234040"/>
            <a:ext cx="446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3741840" y="5224320"/>
            <a:ext cx="63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5167440" y="5234040"/>
            <a:ext cx="637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7628040" y="4024440"/>
            <a:ext cx="360" cy="12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7628040" y="4024440"/>
            <a:ext cx="360" cy="1207800"/>
          </a:xfrm>
          <a:custGeom>
            <a:avLst/>
            <a:gdLst/>
            <a:ahLst/>
            <a:rect l="l" t="t" r="r" b="b"/>
            <a:pathLst>
              <a:path w="0" h="2163">
                <a:moveTo>
                  <a:pt x="0" y="0"/>
                </a:moveTo>
                <a:lnTo>
                  <a:pt x="0" y="0"/>
                </a:lnTo>
                <a:lnTo>
                  <a:pt x="0" y="216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6380" y="0"/>
                </a:moveTo>
                <a:lnTo>
                  <a:pt x="0" y="0"/>
                </a:lnTo>
                <a:lnTo>
                  <a:pt x="63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1790640" y="4024440"/>
            <a:ext cx="5837400" cy="360"/>
          </a:xfrm>
          <a:custGeom>
            <a:avLst/>
            <a:gdLst/>
            <a:ahLst/>
            <a:rect l="l" t="t" r="r" b="b"/>
            <a:pathLst>
              <a:path w="6380" h="0">
                <a:moveTo>
                  <a:pt x="0" y="0"/>
                </a:moveTo>
                <a:lnTo>
                  <a:pt x="0" y="0"/>
                </a:lnTo>
                <a:lnTo>
                  <a:pt x="638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1176480" y="3857760"/>
            <a:ext cx="498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H="1">
            <a:off x="1712880" y="4024440"/>
            <a:ext cx="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 flipV="1">
            <a:off x="1789200" y="3765600"/>
            <a:ext cx="1440" cy="15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7804080" y="5081760"/>
            <a:ext cx="206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1735200" y="5232240"/>
            <a:ext cx="6153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1544760" y="349416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Re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1784520" y="4022640"/>
            <a:ext cx="3003480" cy="18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 flipH="1">
            <a:off x="4846320" y="3732120"/>
            <a:ext cx="609480" cy="290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5281560" y="34981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ort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2212920" y="4898880"/>
            <a:ext cx="34592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 flipH="1">
            <a:off x="1049040" y="4465800"/>
            <a:ext cx="1633320" cy="14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735120" y="5904000"/>
            <a:ext cx="4921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i="1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 flipV="1">
            <a:off x="4065480" y="4900320"/>
            <a:ext cx="26352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 flipV="1">
            <a:off x="5448240" y="4890960"/>
            <a:ext cx="22248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6159600" y="40255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Bandas lat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 flipH="1">
            <a:off x="4390560" y="4344840"/>
            <a:ext cx="1971720" cy="511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 flipH="1">
            <a:off x="5702040" y="4344840"/>
            <a:ext cx="669960" cy="5050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4802040" y="4022280"/>
            <a:ext cx="0" cy="12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7" name=""/>
          <p:cNvGrpSpPr/>
          <p:nvPr/>
        </p:nvGrpSpPr>
        <p:grpSpPr>
          <a:xfrm>
            <a:off x="1690560" y="4427640"/>
            <a:ext cx="613080" cy="495360"/>
            <a:chOff x="1690560" y="4427640"/>
            <a:chExt cx="613080" cy="495360"/>
          </a:xfrm>
        </p:grpSpPr>
        <p:sp>
          <p:nvSpPr>
            <p:cNvPr id="3578" name=""/>
            <p:cNvSpPr/>
            <p:nvPr/>
          </p:nvSpPr>
          <p:spPr>
            <a:xfrm>
              <a:off x="1766880" y="469440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690560" y="4594320"/>
              <a:ext cx="54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724040" y="4427640"/>
              <a:ext cx="47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043000" y="4551480"/>
              <a:ext cx="26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C0F-74E1-4608-B4EB-65E9842B421B}" type="slidenum">
              <a:t>141</a:t>
            </a:fld>
          </a:p>
        </p:txBody>
      </p:sp>
    </p:spTree>
  </p:cSld>
  <p:transition>
    <p:fade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28C-6946-477A-9DC9-5781AEC85993}" type="slidenum">
              <a:t>142</a:t>
            </a:fld>
          </a:p>
        </p:txBody>
      </p:sp>
    </p:spTree>
  </p:cSld>
  <p:transition>
    <p:fade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B40-C7B2-4A15-8A37-D9BE54389EC6}" type="slidenum">
              <a:t>143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54200" y="1117080"/>
            <a:ext cx="763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bien existen algunos ejemplos de señales de tiempo discre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alóg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n general también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cretizan en magn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obteniéndo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 digit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, numé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89F-AFD0-4D2A-AD15-20D26BA99038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728640" y="1955880"/>
            <a:ext cx="7729560" cy="2884320"/>
            <a:chOff x="728640" y="1955880"/>
            <a:chExt cx="7729560" cy="2884320"/>
          </a:xfrm>
        </p:grpSpPr>
        <p:sp>
          <p:nvSpPr>
            <p:cNvPr id="66" name=""/>
            <p:cNvSpPr/>
            <p:nvPr/>
          </p:nvSpPr>
          <p:spPr>
            <a:xfrm>
              <a:off x="5689440" y="4613400"/>
              <a:ext cx="365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67320" y="347040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89440" y="2527200"/>
              <a:ext cx="3654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89440" y="268596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89440" y="284796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89440" y="299088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89440" y="3129120"/>
              <a:ext cx="365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9440" y="325908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9440" y="3390840"/>
              <a:ext cx="36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89440" y="3527280"/>
              <a:ext cx="365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89440" y="4470480"/>
              <a:ext cx="365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89440" y="3659040"/>
              <a:ext cx="365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89440" y="3790800"/>
              <a:ext cx="3654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89440" y="3927600"/>
              <a:ext cx="365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89440" y="4064040"/>
              <a:ext cx="365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89440" y="4202280"/>
              <a:ext cx="3654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89440" y="4332240"/>
              <a:ext cx="3654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0160" y="3629160"/>
              <a:ext cx="22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868320" y="2276640"/>
              <a:ext cx="0" cy="24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240600" y="3349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367320" y="3074760"/>
              <a:ext cx="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492960" y="2949480"/>
              <a:ext cx="0" cy="6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620040" y="2800440"/>
              <a:ext cx="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746760" y="279540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872400" y="2663640"/>
              <a:ext cx="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999120" y="2670120"/>
              <a:ext cx="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124760" y="2663640"/>
              <a:ext cx="0" cy="9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251840" y="279540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377120" y="3081240"/>
              <a:ext cx="0" cy="5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04200" y="33498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629480" y="3635280"/>
              <a:ext cx="0" cy="262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56560" y="3629160"/>
              <a:ext cx="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881840" y="3622320"/>
              <a:ext cx="0" cy="42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76800" y="3629160"/>
              <a:ext cx="22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19640" y="2592360"/>
              <a:ext cx="1889280" cy="1487520"/>
            </a:xfrm>
            <a:custGeom>
              <a:avLst/>
              <a:gdLst/>
              <a:ahLst/>
              <a:rect l="l" t="t" r="r" b="b"/>
              <a:pathLst>
                <a:path w="2064" h="1467">
                  <a:moveTo>
                    <a:pt x="0" y="1004"/>
                  </a:moveTo>
                  <a:lnTo>
                    <a:pt x="66" y="820"/>
                  </a:lnTo>
                  <a:lnTo>
                    <a:pt x="132" y="673"/>
                  </a:lnTo>
                  <a:lnTo>
                    <a:pt x="204" y="544"/>
                  </a:lnTo>
                  <a:lnTo>
                    <a:pt x="282" y="432"/>
                  </a:lnTo>
                  <a:lnTo>
                    <a:pt x="348" y="352"/>
                  </a:lnTo>
                  <a:lnTo>
                    <a:pt x="414" y="280"/>
                  </a:lnTo>
                  <a:lnTo>
                    <a:pt x="504" y="193"/>
                  </a:lnTo>
                  <a:lnTo>
                    <a:pt x="597" y="118"/>
                  </a:lnTo>
                  <a:lnTo>
                    <a:pt x="660" y="82"/>
                  </a:lnTo>
                  <a:lnTo>
                    <a:pt x="729" y="46"/>
                  </a:lnTo>
                  <a:lnTo>
                    <a:pt x="807" y="22"/>
                  </a:lnTo>
                  <a:lnTo>
                    <a:pt x="885" y="7"/>
                  </a:lnTo>
                  <a:lnTo>
                    <a:pt x="948" y="0"/>
                  </a:lnTo>
                  <a:lnTo>
                    <a:pt x="984" y="3"/>
                  </a:lnTo>
                  <a:lnTo>
                    <a:pt x="1029" y="10"/>
                  </a:lnTo>
                  <a:lnTo>
                    <a:pt x="1104" y="40"/>
                  </a:lnTo>
                  <a:lnTo>
                    <a:pt x="1164" y="84"/>
                  </a:lnTo>
                  <a:lnTo>
                    <a:pt x="1239" y="168"/>
                  </a:lnTo>
                  <a:lnTo>
                    <a:pt x="1311" y="267"/>
                  </a:lnTo>
                  <a:lnTo>
                    <a:pt x="1368" y="360"/>
                  </a:lnTo>
                  <a:lnTo>
                    <a:pt x="1434" y="501"/>
                  </a:lnTo>
                  <a:lnTo>
                    <a:pt x="1497" y="657"/>
                  </a:lnTo>
                  <a:lnTo>
                    <a:pt x="1560" y="862"/>
                  </a:lnTo>
                  <a:lnTo>
                    <a:pt x="1626" y="1105"/>
                  </a:lnTo>
                  <a:lnTo>
                    <a:pt x="1668" y="1246"/>
                  </a:lnTo>
                  <a:lnTo>
                    <a:pt x="1692" y="1312"/>
                  </a:lnTo>
                  <a:lnTo>
                    <a:pt x="1710" y="1348"/>
                  </a:lnTo>
                  <a:lnTo>
                    <a:pt x="1731" y="1389"/>
                  </a:lnTo>
                  <a:lnTo>
                    <a:pt x="1755" y="1426"/>
                  </a:lnTo>
                  <a:lnTo>
                    <a:pt x="1788" y="1452"/>
                  </a:lnTo>
                  <a:lnTo>
                    <a:pt x="1809" y="1467"/>
                  </a:lnTo>
                  <a:lnTo>
                    <a:pt x="1830" y="1467"/>
                  </a:lnTo>
                  <a:lnTo>
                    <a:pt x="1854" y="1450"/>
                  </a:lnTo>
                  <a:lnTo>
                    <a:pt x="1878" y="1426"/>
                  </a:lnTo>
                  <a:lnTo>
                    <a:pt x="1905" y="1384"/>
                  </a:lnTo>
                  <a:lnTo>
                    <a:pt x="1944" y="1318"/>
                  </a:lnTo>
                  <a:lnTo>
                    <a:pt x="1986" y="1237"/>
                  </a:lnTo>
                  <a:lnTo>
                    <a:pt x="2034" y="1120"/>
                  </a:lnTo>
                  <a:lnTo>
                    <a:pt x="2064" y="10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6114960" y="2276640"/>
              <a:ext cx="0" cy="249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092280" y="35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983360" y="3598920"/>
              <a:ext cx="511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215760" y="332568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469200" y="2917800"/>
              <a:ext cx="4896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593760" y="2779560"/>
              <a:ext cx="507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21560" y="2779560"/>
              <a:ext cx="489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225560" y="277956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848640" y="2643120"/>
              <a:ext cx="489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973200" y="264312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101000" y="2643120"/>
              <a:ext cx="489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352640" y="305424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477920" y="3328920"/>
              <a:ext cx="49320" cy="52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605000" y="387360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857360" y="401004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730280" y="4151160"/>
              <a:ext cx="5076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341400" y="3051000"/>
              <a:ext cx="4932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629480" y="36352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7756560" y="36291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881840" y="362880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72360" y="3475080"/>
              <a:ext cx="285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k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3200" y="196056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6114960" y="2670120"/>
              <a:ext cx="1900440" cy="2055960"/>
              <a:chOff x="6114960" y="2670120"/>
              <a:chExt cx="1900440" cy="2055960"/>
            </a:xfrm>
          </p:grpSpPr>
          <p:sp>
            <p:nvSpPr>
              <p:cNvPr id="124" name=""/>
              <p:cNvSpPr/>
              <p:nvPr/>
            </p:nvSpPr>
            <p:spPr>
              <a:xfrm>
                <a:off x="6114960" y="267012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14960" y="280728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14960" y="294444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14960" y="308124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14960" y="321840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14960" y="335520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114960" y="349236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14960" y="376668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14960" y="390348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114960" y="404064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14960" y="417744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14960" y="431460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14960" y="445176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14960" y="458892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14960" y="4726080"/>
                <a:ext cx="1900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425760" y="3624120"/>
              <a:ext cx="225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68600" y="2587680"/>
              <a:ext cx="1889280" cy="1485720"/>
            </a:xfrm>
            <a:custGeom>
              <a:avLst/>
              <a:gdLst/>
              <a:ahLst/>
              <a:rect l="l" t="t" r="r" b="b"/>
              <a:pathLst>
                <a:path w="2064" h="1467">
                  <a:moveTo>
                    <a:pt x="0" y="1004"/>
                  </a:moveTo>
                  <a:lnTo>
                    <a:pt x="66" y="820"/>
                  </a:lnTo>
                  <a:lnTo>
                    <a:pt x="132" y="673"/>
                  </a:lnTo>
                  <a:lnTo>
                    <a:pt x="204" y="544"/>
                  </a:lnTo>
                  <a:lnTo>
                    <a:pt x="282" y="432"/>
                  </a:lnTo>
                  <a:lnTo>
                    <a:pt x="348" y="352"/>
                  </a:lnTo>
                  <a:lnTo>
                    <a:pt x="414" y="280"/>
                  </a:lnTo>
                  <a:lnTo>
                    <a:pt x="504" y="193"/>
                  </a:lnTo>
                  <a:lnTo>
                    <a:pt x="597" y="118"/>
                  </a:lnTo>
                  <a:lnTo>
                    <a:pt x="660" y="82"/>
                  </a:lnTo>
                  <a:lnTo>
                    <a:pt x="729" y="46"/>
                  </a:lnTo>
                  <a:lnTo>
                    <a:pt x="807" y="22"/>
                  </a:lnTo>
                  <a:lnTo>
                    <a:pt x="885" y="7"/>
                  </a:lnTo>
                  <a:lnTo>
                    <a:pt x="948" y="0"/>
                  </a:lnTo>
                  <a:lnTo>
                    <a:pt x="984" y="3"/>
                  </a:lnTo>
                  <a:lnTo>
                    <a:pt x="1029" y="10"/>
                  </a:lnTo>
                  <a:lnTo>
                    <a:pt x="1104" y="40"/>
                  </a:lnTo>
                  <a:lnTo>
                    <a:pt x="1164" y="84"/>
                  </a:lnTo>
                  <a:lnTo>
                    <a:pt x="1239" y="168"/>
                  </a:lnTo>
                  <a:lnTo>
                    <a:pt x="1311" y="267"/>
                  </a:lnTo>
                  <a:lnTo>
                    <a:pt x="1368" y="360"/>
                  </a:lnTo>
                  <a:lnTo>
                    <a:pt x="1434" y="501"/>
                  </a:lnTo>
                  <a:lnTo>
                    <a:pt x="1497" y="657"/>
                  </a:lnTo>
                  <a:lnTo>
                    <a:pt x="1560" y="862"/>
                  </a:lnTo>
                  <a:lnTo>
                    <a:pt x="1626" y="1105"/>
                  </a:lnTo>
                  <a:lnTo>
                    <a:pt x="1668" y="1246"/>
                  </a:lnTo>
                  <a:lnTo>
                    <a:pt x="1692" y="1312"/>
                  </a:lnTo>
                  <a:lnTo>
                    <a:pt x="1710" y="1348"/>
                  </a:lnTo>
                  <a:lnTo>
                    <a:pt x="1731" y="1389"/>
                  </a:lnTo>
                  <a:lnTo>
                    <a:pt x="1755" y="1426"/>
                  </a:lnTo>
                  <a:lnTo>
                    <a:pt x="1788" y="1452"/>
                  </a:lnTo>
                  <a:lnTo>
                    <a:pt x="1809" y="1467"/>
                  </a:lnTo>
                  <a:lnTo>
                    <a:pt x="1830" y="1467"/>
                  </a:lnTo>
                  <a:lnTo>
                    <a:pt x="1854" y="1450"/>
                  </a:lnTo>
                  <a:lnTo>
                    <a:pt x="1878" y="1426"/>
                  </a:lnTo>
                  <a:lnTo>
                    <a:pt x="1905" y="1384"/>
                  </a:lnTo>
                  <a:lnTo>
                    <a:pt x="1944" y="1318"/>
                  </a:lnTo>
                  <a:lnTo>
                    <a:pt x="1986" y="1237"/>
                  </a:lnTo>
                  <a:lnTo>
                    <a:pt x="2034" y="1120"/>
                  </a:lnTo>
                  <a:lnTo>
                    <a:pt x="2064" y="10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463920" y="2271240"/>
              <a:ext cx="0" cy="24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589200" y="328428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6280" y="3040200"/>
              <a:ext cx="0" cy="58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41920" y="2903040"/>
              <a:ext cx="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68640" y="2730240"/>
              <a:ext cx="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095720" y="265248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221000" y="261144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348080" y="258084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473720" y="2622600"/>
              <a:ext cx="0" cy="10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600440" y="2747520"/>
              <a:ext cx="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726080" y="2962440"/>
              <a:ext cx="0" cy="66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853160" y="329076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978440" y="363024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105520" y="3623760"/>
              <a:ext cx="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230800" y="363060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069800" y="2629080"/>
              <a:ext cx="5220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65440" y="3251160"/>
              <a:ext cx="525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817800" y="2843280"/>
              <a:ext cx="525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436200" y="3594240"/>
              <a:ext cx="5076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942720" y="2712960"/>
              <a:ext cx="5220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196520" y="2575080"/>
              <a:ext cx="5076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322160" y="2557440"/>
              <a:ext cx="5220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49600" y="2593800"/>
              <a:ext cx="5112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574520" y="2720880"/>
              <a:ext cx="5220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701600" y="2935440"/>
              <a:ext cx="5220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826880" y="3260880"/>
              <a:ext cx="5220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953960" y="3753000"/>
              <a:ext cx="52200" cy="55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079960" y="4025880"/>
              <a:ext cx="52560" cy="5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206320" y="3922560"/>
              <a:ext cx="5220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327640" y="3594240"/>
              <a:ext cx="5256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690360" y="3008160"/>
              <a:ext cx="52200" cy="5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9840" y="195588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35520" y="3594240"/>
              <a:ext cx="285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74800" y="2592360"/>
              <a:ext cx="1888920" cy="1486080"/>
            </a:xfrm>
            <a:custGeom>
              <a:avLst/>
              <a:gdLst/>
              <a:ahLst/>
              <a:rect l="l" t="t" r="r" b="b"/>
              <a:pathLst>
                <a:path w="2064" h="1467">
                  <a:moveTo>
                    <a:pt x="0" y="1004"/>
                  </a:moveTo>
                  <a:lnTo>
                    <a:pt x="66" y="820"/>
                  </a:lnTo>
                  <a:lnTo>
                    <a:pt x="132" y="673"/>
                  </a:lnTo>
                  <a:lnTo>
                    <a:pt x="204" y="544"/>
                  </a:lnTo>
                  <a:lnTo>
                    <a:pt x="282" y="432"/>
                  </a:lnTo>
                  <a:lnTo>
                    <a:pt x="348" y="352"/>
                  </a:lnTo>
                  <a:lnTo>
                    <a:pt x="414" y="280"/>
                  </a:lnTo>
                  <a:lnTo>
                    <a:pt x="504" y="193"/>
                  </a:lnTo>
                  <a:lnTo>
                    <a:pt x="597" y="118"/>
                  </a:lnTo>
                  <a:lnTo>
                    <a:pt x="660" y="82"/>
                  </a:lnTo>
                  <a:lnTo>
                    <a:pt x="729" y="46"/>
                  </a:lnTo>
                  <a:lnTo>
                    <a:pt x="807" y="22"/>
                  </a:lnTo>
                  <a:lnTo>
                    <a:pt x="885" y="7"/>
                  </a:lnTo>
                  <a:lnTo>
                    <a:pt x="948" y="0"/>
                  </a:lnTo>
                  <a:lnTo>
                    <a:pt x="984" y="3"/>
                  </a:lnTo>
                  <a:lnTo>
                    <a:pt x="1029" y="10"/>
                  </a:lnTo>
                  <a:lnTo>
                    <a:pt x="1104" y="40"/>
                  </a:lnTo>
                  <a:lnTo>
                    <a:pt x="1164" y="84"/>
                  </a:lnTo>
                  <a:lnTo>
                    <a:pt x="1239" y="168"/>
                  </a:lnTo>
                  <a:lnTo>
                    <a:pt x="1311" y="267"/>
                  </a:lnTo>
                  <a:lnTo>
                    <a:pt x="1368" y="360"/>
                  </a:lnTo>
                  <a:lnTo>
                    <a:pt x="1434" y="501"/>
                  </a:lnTo>
                  <a:lnTo>
                    <a:pt x="1497" y="657"/>
                  </a:lnTo>
                  <a:lnTo>
                    <a:pt x="1560" y="862"/>
                  </a:lnTo>
                  <a:lnTo>
                    <a:pt x="1626" y="1105"/>
                  </a:lnTo>
                  <a:lnTo>
                    <a:pt x="1668" y="1246"/>
                  </a:lnTo>
                  <a:lnTo>
                    <a:pt x="1692" y="1312"/>
                  </a:lnTo>
                  <a:lnTo>
                    <a:pt x="1710" y="1348"/>
                  </a:lnTo>
                  <a:lnTo>
                    <a:pt x="1731" y="1389"/>
                  </a:lnTo>
                  <a:lnTo>
                    <a:pt x="1755" y="1426"/>
                  </a:lnTo>
                  <a:lnTo>
                    <a:pt x="1788" y="1452"/>
                  </a:lnTo>
                  <a:lnTo>
                    <a:pt x="1809" y="1467"/>
                  </a:lnTo>
                  <a:lnTo>
                    <a:pt x="1830" y="1467"/>
                  </a:lnTo>
                  <a:lnTo>
                    <a:pt x="1854" y="1450"/>
                  </a:lnTo>
                  <a:lnTo>
                    <a:pt x="1878" y="1426"/>
                  </a:lnTo>
                  <a:lnTo>
                    <a:pt x="1905" y="1384"/>
                  </a:lnTo>
                  <a:lnTo>
                    <a:pt x="1944" y="1318"/>
                  </a:lnTo>
                  <a:lnTo>
                    <a:pt x="1986" y="1237"/>
                  </a:lnTo>
                  <a:lnTo>
                    <a:pt x="2034" y="1120"/>
                  </a:lnTo>
                  <a:lnTo>
                    <a:pt x="2064" y="102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8640" y="195588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70280" y="3470400"/>
              <a:ext cx="2858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05640" y="3608280"/>
              <a:ext cx="285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 rot="10800000">
            <a:off x="1037880" y="4987800"/>
            <a:ext cx="1265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3823920" y="4987800"/>
            <a:ext cx="12654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discr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0800000">
            <a:off x="6465960" y="4987800"/>
            <a:ext cx="1265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0BC-D234-4BE7-8B2B-16B7F9BB14CA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4200" y="142200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ventaja es que puede aplicárseles cualquier proceso susceptible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elizarse matemáticam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incluyen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iltros sofistica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álisis de 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álisis estadíst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57B-F640-4011-9AB7-49683AB2B3F9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4200" y="845640"/>
            <a:ext cx="7635600" cy="45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asa de muestre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ebe cumplir co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orema de muestre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&gt; 2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má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 lo contrario se produce el fenóme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ia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240-EB1D-42F1-9392-3D09F901F5C8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173560" y="3621240"/>
            <a:ext cx="1743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reconstr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33920" y="3992040"/>
            <a:ext cx="471600" cy="452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 rot="10800000">
            <a:off x="5492880" y="806400"/>
            <a:ext cx="1265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Señal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952880" y="1177560"/>
            <a:ext cx="471600" cy="452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258920" y="1209600"/>
            <a:ext cx="6626160" cy="4447800"/>
            <a:chOff x="1258920" y="1209600"/>
            <a:chExt cx="6626160" cy="4447800"/>
          </a:xfrm>
        </p:grpSpPr>
        <p:grpSp>
          <p:nvGrpSpPr>
            <p:cNvPr id="188" name=""/>
            <p:cNvGrpSpPr/>
            <p:nvPr/>
          </p:nvGrpSpPr>
          <p:grpSpPr>
            <a:xfrm>
              <a:off x="1317600" y="1209600"/>
              <a:ext cx="6567480" cy="4299120"/>
              <a:chOff x="1317600" y="1209600"/>
              <a:chExt cx="6567480" cy="42991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541520" y="4057560"/>
                <a:ext cx="5745240" cy="1451160"/>
                <a:chOff x="1541520" y="4057560"/>
                <a:chExt cx="5745240" cy="14511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541520" y="4057560"/>
                  <a:ext cx="3268440" cy="1446480"/>
                  <a:chOff x="1541520" y="4057560"/>
                  <a:chExt cx="3268440" cy="14464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1541520" y="4781520"/>
                    <a:ext cx="823680" cy="72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80" y="1577"/>
                        </a:lnTo>
                        <a:lnTo>
                          <a:pt x="2061" y="3323"/>
                        </a:lnTo>
                        <a:lnTo>
                          <a:pt x="2945" y="4522"/>
                        </a:lnTo>
                        <a:lnTo>
                          <a:pt x="4049" y="6183"/>
                        </a:lnTo>
                        <a:lnTo>
                          <a:pt x="4982" y="7739"/>
                        </a:lnTo>
                        <a:lnTo>
                          <a:pt x="6012" y="9043"/>
                        </a:lnTo>
                        <a:lnTo>
                          <a:pt x="6920" y="10347"/>
                        </a:lnTo>
                        <a:lnTo>
                          <a:pt x="8000" y="11651"/>
                        </a:lnTo>
                        <a:lnTo>
                          <a:pt x="8982" y="12892"/>
                        </a:lnTo>
                        <a:lnTo>
                          <a:pt x="10012" y="14027"/>
                        </a:lnTo>
                        <a:lnTo>
                          <a:pt x="11018" y="15100"/>
                        </a:lnTo>
                        <a:lnTo>
                          <a:pt x="11877" y="16046"/>
                        </a:lnTo>
                        <a:lnTo>
                          <a:pt x="13055" y="16887"/>
                        </a:lnTo>
                        <a:lnTo>
                          <a:pt x="14012" y="17603"/>
                        </a:lnTo>
                        <a:lnTo>
                          <a:pt x="15067" y="18444"/>
                        </a:lnTo>
                        <a:lnTo>
                          <a:pt x="16147" y="19033"/>
                        </a:lnTo>
                        <a:lnTo>
                          <a:pt x="17055" y="19390"/>
                        </a:lnTo>
                        <a:lnTo>
                          <a:pt x="17988" y="19748"/>
                        </a:lnTo>
                        <a:lnTo>
                          <a:pt x="19141" y="19979"/>
                        </a:lnTo>
                        <a:lnTo>
                          <a:pt x="19975" y="19979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365200" y="4781520"/>
                    <a:ext cx="824040" cy="72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5" y="0"/>
                        </a:moveTo>
                        <a:lnTo>
                          <a:pt x="18920" y="1577"/>
                        </a:lnTo>
                        <a:lnTo>
                          <a:pt x="17939" y="3028"/>
                        </a:lnTo>
                        <a:lnTo>
                          <a:pt x="17055" y="4522"/>
                        </a:lnTo>
                        <a:lnTo>
                          <a:pt x="15951" y="6183"/>
                        </a:lnTo>
                        <a:lnTo>
                          <a:pt x="15018" y="7739"/>
                        </a:lnTo>
                        <a:lnTo>
                          <a:pt x="13988" y="9043"/>
                        </a:lnTo>
                        <a:lnTo>
                          <a:pt x="13080" y="10347"/>
                        </a:lnTo>
                        <a:lnTo>
                          <a:pt x="11975" y="11651"/>
                        </a:lnTo>
                        <a:lnTo>
                          <a:pt x="11018" y="12892"/>
                        </a:lnTo>
                        <a:lnTo>
                          <a:pt x="9988" y="13922"/>
                        </a:lnTo>
                        <a:lnTo>
                          <a:pt x="8982" y="15100"/>
                        </a:lnTo>
                        <a:lnTo>
                          <a:pt x="8098" y="16046"/>
                        </a:lnTo>
                        <a:lnTo>
                          <a:pt x="7067" y="16761"/>
                        </a:lnTo>
                        <a:lnTo>
                          <a:pt x="5988" y="17603"/>
                        </a:lnTo>
                        <a:lnTo>
                          <a:pt x="4933" y="18444"/>
                        </a:lnTo>
                        <a:lnTo>
                          <a:pt x="3853" y="19033"/>
                        </a:lnTo>
                        <a:lnTo>
                          <a:pt x="2945" y="19390"/>
                        </a:lnTo>
                        <a:lnTo>
                          <a:pt x="2012" y="19748"/>
                        </a:lnTo>
                        <a:lnTo>
                          <a:pt x="859" y="19979"/>
                        </a:lnTo>
                        <a:lnTo>
                          <a:pt x="0" y="19979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184560" y="4057560"/>
                    <a:ext cx="819000" cy="72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79"/>
                        </a:moveTo>
                        <a:lnTo>
                          <a:pt x="1062" y="18201"/>
                        </a:lnTo>
                        <a:lnTo>
                          <a:pt x="1901" y="16778"/>
                        </a:lnTo>
                        <a:lnTo>
                          <a:pt x="2840" y="15377"/>
                        </a:lnTo>
                        <a:lnTo>
                          <a:pt x="3975" y="13598"/>
                        </a:lnTo>
                        <a:lnTo>
                          <a:pt x="5012" y="12050"/>
                        </a:lnTo>
                        <a:lnTo>
                          <a:pt x="5926" y="10879"/>
                        </a:lnTo>
                        <a:lnTo>
                          <a:pt x="6840" y="9582"/>
                        </a:lnTo>
                        <a:lnTo>
                          <a:pt x="7975" y="8285"/>
                        </a:lnTo>
                        <a:lnTo>
                          <a:pt x="8914" y="6967"/>
                        </a:lnTo>
                        <a:lnTo>
                          <a:pt x="9975" y="5795"/>
                        </a:lnTo>
                        <a:lnTo>
                          <a:pt x="10988" y="4854"/>
                        </a:lnTo>
                        <a:lnTo>
                          <a:pt x="11827" y="3891"/>
                        </a:lnTo>
                        <a:lnTo>
                          <a:pt x="12938" y="3075"/>
                        </a:lnTo>
                        <a:lnTo>
                          <a:pt x="13975" y="2238"/>
                        </a:lnTo>
                        <a:lnTo>
                          <a:pt x="15037" y="1527"/>
                        </a:lnTo>
                        <a:lnTo>
                          <a:pt x="16123" y="941"/>
                        </a:lnTo>
                        <a:lnTo>
                          <a:pt x="17037" y="586"/>
                        </a:lnTo>
                        <a:lnTo>
                          <a:pt x="17975" y="230"/>
                        </a:lnTo>
                        <a:lnTo>
                          <a:pt x="19136" y="0"/>
                        </a:lnTo>
                        <a:lnTo>
                          <a:pt x="19975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000680" y="4057560"/>
                    <a:ext cx="809280" cy="72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75" y="19979"/>
                        </a:moveTo>
                        <a:lnTo>
                          <a:pt x="19001" y="18326"/>
                        </a:lnTo>
                        <a:lnTo>
                          <a:pt x="18252" y="16841"/>
                        </a:lnTo>
                        <a:lnTo>
                          <a:pt x="17353" y="15377"/>
                        </a:lnTo>
                        <a:lnTo>
                          <a:pt x="16255" y="13724"/>
                        </a:lnTo>
                        <a:lnTo>
                          <a:pt x="15206" y="12050"/>
                        </a:lnTo>
                        <a:lnTo>
                          <a:pt x="14257" y="10879"/>
                        </a:lnTo>
                        <a:lnTo>
                          <a:pt x="13283" y="9582"/>
                        </a:lnTo>
                        <a:lnTo>
                          <a:pt x="12210" y="8285"/>
                        </a:lnTo>
                        <a:lnTo>
                          <a:pt x="11211" y="7050"/>
                        </a:lnTo>
                        <a:lnTo>
                          <a:pt x="10112" y="5941"/>
                        </a:lnTo>
                        <a:lnTo>
                          <a:pt x="9139" y="4854"/>
                        </a:lnTo>
                        <a:lnTo>
                          <a:pt x="8414" y="4142"/>
                        </a:lnTo>
                        <a:lnTo>
                          <a:pt x="7341" y="3075"/>
                        </a:lnTo>
                        <a:lnTo>
                          <a:pt x="6167" y="2238"/>
                        </a:lnTo>
                        <a:lnTo>
                          <a:pt x="5019" y="1527"/>
                        </a:lnTo>
                        <a:lnTo>
                          <a:pt x="3920" y="941"/>
                        </a:lnTo>
                        <a:lnTo>
                          <a:pt x="2996" y="586"/>
                        </a:lnTo>
                        <a:lnTo>
                          <a:pt x="2047" y="230"/>
                        </a:lnTo>
                        <a:lnTo>
                          <a:pt x="874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4824360" y="4786200"/>
                  <a:ext cx="824040" cy="722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80" y="1577"/>
                      </a:lnTo>
                      <a:lnTo>
                        <a:pt x="2061" y="3323"/>
                      </a:lnTo>
                      <a:lnTo>
                        <a:pt x="2945" y="4522"/>
                      </a:lnTo>
                      <a:lnTo>
                        <a:pt x="4049" y="6183"/>
                      </a:lnTo>
                      <a:lnTo>
                        <a:pt x="4982" y="7739"/>
                      </a:lnTo>
                      <a:lnTo>
                        <a:pt x="6012" y="9043"/>
                      </a:lnTo>
                      <a:lnTo>
                        <a:pt x="6920" y="10347"/>
                      </a:lnTo>
                      <a:lnTo>
                        <a:pt x="8000" y="11651"/>
                      </a:lnTo>
                      <a:lnTo>
                        <a:pt x="8982" y="12892"/>
                      </a:lnTo>
                      <a:lnTo>
                        <a:pt x="10012" y="14027"/>
                      </a:lnTo>
                      <a:lnTo>
                        <a:pt x="11018" y="15100"/>
                      </a:lnTo>
                      <a:lnTo>
                        <a:pt x="11877" y="16046"/>
                      </a:lnTo>
                      <a:lnTo>
                        <a:pt x="13055" y="16887"/>
                      </a:lnTo>
                      <a:lnTo>
                        <a:pt x="14012" y="17603"/>
                      </a:lnTo>
                      <a:lnTo>
                        <a:pt x="15067" y="18444"/>
                      </a:lnTo>
                      <a:lnTo>
                        <a:pt x="16147" y="19033"/>
                      </a:lnTo>
                      <a:lnTo>
                        <a:pt x="17055" y="19390"/>
                      </a:lnTo>
                      <a:lnTo>
                        <a:pt x="17988" y="19748"/>
                      </a:lnTo>
                      <a:lnTo>
                        <a:pt x="19141" y="19979"/>
                      </a:lnTo>
                      <a:lnTo>
                        <a:pt x="19975" y="1997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49840" y="4786200"/>
                  <a:ext cx="824040" cy="722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5" y="0"/>
                      </a:moveTo>
                      <a:lnTo>
                        <a:pt x="18920" y="1577"/>
                      </a:lnTo>
                      <a:lnTo>
                        <a:pt x="17939" y="3028"/>
                      </a:lnTo>
                      <a:lnTo>
                        <a:pt x="17055" y="4522"/>
                      </a:lnTo>
                      <a:lnTo>
                        <a:pt x="15951" y="6183"/>
                      </a:lnTo>
                      <a:lnTo>
                        <a:pt x="15018" y="7739"/>
                      </a:lnTo>
                      <a:lnTo>
                        <a:pt x="13988" y="9043"/>
                      </a:lnTo>
                      <a:lnTo>
                        <a:pt x="13080" y="10347"/>
                      </a:lnTo>
                      <a:lnTo>
                        <a:pt x="11975" y="11651"/>
                      </a:lnTo>
                      <a:lnTo>
                        <a:pt x="11018" y="12892"/>
                      </a:lnTo>
                      <a:lnTo>
                        <a:pt x="9988" y="13922"/>
                      </a:lnTo>
                      <a:lnTo>
                        <a:pt x="8982" y="15100"/>
                      </a:lnTo>
                      <a:lnTo>
                        <a:pt x="8098" y="16046"/>
                      </a:lnTo>
                      <a:lnTo>
                        <a:pt x="7067" y="16761"/>
                      </a:lnTo>
                      <a:lnTo>
                        <a:pt x="5988" y="17603"/>
                      </a:lnTo>
                      <a:lnTo>
                        <a:pt x="4933" y="18444"/>
                      </a:lnTo>
                      <a:lnTo>
                        <a:pt x="3853" y="19033"/>
                      </a:lnTo>
                      <a:lnTo>
                        <a:pt x="2945" y="19390"/>
                      </a:lnTo>
                      <a:lnTo>
                        <a:pt x="2012" y="19748"/>
                      </a:lnTo>
                      <a:lnTo>
                        <a:pt x="859" y="19979"/>
                      </a:lnTo>
                      <a:lnTo>
                        <a:pt x="0" y="1997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467400" y="4062240"/>
                  <a:ext cx="819360" cy="725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79"/>
                      </a:moveTo>
                      <a:lnTo>
                        <a:pt x="1062" y="18201"/>
                      </a:lnTo>
                      <a:lnTo>
                        <a:pt x="1901" y="16778"/>
                      </a:lnTo>
                      <a:lnTo>
                        <a:pt x="2840" y="15377"/>
                      </a:lnTo>
                      <a:lnTo>
                        <a:pt x="3975" y="13598"/>
                      </a:lnTo>
                      <a:lnTo>
                        <a:pt x="5012" y="12050"/>
                      </a:lnTo>
                      <a:lnTo>
                        <a:pt x="5926" y="10879"/>
                      </a:lnTo>
                      <a:lnTo>
                        <a:pt x="6840" y="9582"/>
                      </a:lnTo>
                      <a:lnTo>
                        <a:pt x="7975" y="8285"/>
                      </a:lnTo>
                      <a:lnTo>
                        <a:pt x="8914" y="6967"/>
                      </a:lnTo>
                      <a:lnTo>
                        <a:pt x="9975" y="5795"/>
                      </a:lnTo>
                      <a:lnTo>
                        <a:pt x="10988" y="4854"/>
                      </a:lnTo>
                      <a:lnTo>
                        <a:pt x="11827" y="3891"/>
                      </a:lnTo>
                      <a:lnTo>
                        <a:pt x="12938" y="3075"/>
                      </a:lnTo>
                      <a:lnTo>
                        <a:pt x="13975" y="2238"/>
                      </a:lnTo>
                      <a:lnTo>
                        <a:pt x="15037" y="1527"/>
                      </a:lnTo>
                      <a:lnTo>
                        <a:pt x="16123" y="941"/>
                      </a:lnTo>
                      <a:lnTo>
                        <a:pt x="17037" y="586"/>
                      </a:lnTo>
                      <a:lnTo>
                        <a:pt x="17975" y="230"/>
                      </a:lnTo>
                      <a:lnTo>
                        <a:pt x="19136" y="0"/>
                      </a:lnTo>
                      <a:lnTo>
                        <a:pt x="19975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317600" y="1209600"/>
                <a:ext cx="6567480" cy="2113200"/>
                <a:chOff x="1317600" y="1209600"/>
                <a:chExt cx="6567480" cy="21132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317600" y="1209600"/>
                  <a:ext cx="482760" cy="29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r>
                    <a:rPr b="0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1941480" y="1695600"/>
                  <a:ext cx="4922640" cy="1510920"/>
                  <a:chOff x="1941480" y="1695600"/>
                  <a:chExt cx="4922640" cy="15109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941480" y="2450880"/>
                    <a:ext cx="1080" cy="496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2345760" y="2450880"/>
                    <a:ext cx="1080" cy="705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2757240" y="2450880"/>
                    <a:ext cx="6840" cy="48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3578760" y="1932120"/>
                    <a:ext cx="720" cy="516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3991320" y="1695600"/>
                    <a:ext cx="720" cy="753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V="1">
                    <a:off x="4401000" y="1973160"/>
                    <a:ext cx="720" cy="472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H="1">
                    <a:off x="5214960" y="2447640"/>
                    <a:ext cx="3600" cy="53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618520" y="2444760"/>
                    <a:ext cx="3960" cy="76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31080" y="2447640"/>
                    <a:ext cx="1080" cy="46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V="1">
                    <a:off x="6863400" y="1927080"/>
                    <a:ext cx="720" cy="518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1531800" y="1488960"/>
                  <a:ext cx="1800" cy="183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378080" y="2449080"/>
                  <a:ext cx="62388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1536840" y="1681200"/>
                  <a:ext cx="5627160" cy="1535040"/>
                  <a:chOff x="1536840" y="1681200"/>
                  <a:chExt cx="5627160" cy="1535040"/>
                </a:xfrm>
              </p:grpSpPr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1536840" y="1681200"/>
                    <a:ext cx="941040" cy="1535040"/>
                    <a:chOff x="1536840" y="1681200"/>
                    <a:chExt cx="941040" cy="1535040"/>
                  </a:xfrm>
                </p:grpSpPr>
                <p:grpSp>
                  <p:nvGrpSpPr>
                    <p:cNvPr id="215" name=""/>
                    <p:cNvGrpSpPr/>
                    <p:nvPr/>
                  </p:nvGrpSpPr>
                  <p:grpSpPr>
                    <a:xfrm>
                      <a:off x="1536840" y="1681200"/>
                      <a:ext cx="468000" cy="1534320"/>
                      <a:chOff x="1536840" y="1681200"/>
                      <a:chExt cx="468000" cy="1534320"/>
                    </a:xfrm>
                  </p:grpSpPr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153684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165384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177552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1887840" y="244584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2007000" y="1681920"/>
                      <a:ext cx="470880" cy="1534320"/>
                      <a:chOff x="2007000" y="1681920"/>
                      <a:chExt cx="470880" cy="153432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200700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212436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2245680" y="2446560"/>
                        <a:ext cx="11844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2360880" y="244656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473200" y="1681200"/>
                    <a:ext cx="941400" cy="1535040"/>
                    <a:chOff x="2473200" y="1681200"/>
                    <a:chExt cx="941400" cy="1535040"/>
                  </a:xfrm>
                </p:grpSpPr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2473200" y="1681200"/>
                      <a:ext cx="470160" cy="1534320"/>
                      <a:chOff x="2473200" y="1681200"/>
                      <a:chExt cx="470160" cy="153432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247320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259056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271188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2826000" y="2445840"/>
                        <a:ext cx="11736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"/>
                    <p:cNvGrpSpPr/>
                    <p:nvPr/>
                  </p:nvGrpSpPr>
                  <p:grpSpPr>
                    <a:xfrm>
                      <a:off x="2942280" y="1681920"/>
                      <a:ext cx="472320" cy="1534320"/>
                      <a:chOff x="2942280" y="1681920"/>
                      <a:chExt cx="472320" cy="1534320"/>
                    </a:xfrm>
                  </p:grpSpPr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2942280" y="1681920"/>
                        <a:ext cx="11844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306072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3182040" y="2446560"/>
                        <a:ext cx="11844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3297240" y="2446560"/>
                        <a:ext cx="11736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3408480" y="1681200"/>
                    <a:ext cx="938160" cy="1535040"/>
                    <a:chOff x="3408480" y="1681200"/>
                    <a:chExt cx="938160" cy="1535040"/>
                  </a:xfrm>
                </p:grpSpPr>
                <p:grpSp>
                  <p:nvGrpSpPr>
                    <p:cNvPr id="237" name=""/>
                    <p:cNvGrpSpPr/>
                    <p:nvPr/>
                  </p:nvGrpSpPr>
                  <p:grpSpPr>
                    <a:xfrm>
                      <a:off x="3408480" y="1681200"/>
                      <a:ext cx="467640" cy="1534320"/>
                      <a:chOff x="3408480" y="1681200"/>
                      <a:chExt cx="467640" cy="1534320"/>
                    </a:xfrm>
                  </p:grpSpPr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340848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352368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363960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3759120" y="244584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3876120" y="1681920"/>
                      <a:ext cx="470520" cy="1534320"/>
                      <a:chOff x="3876120" y="1681920"/>
                      <a:chExt cx="470520" cy="1534320"/>
                    </a:xfrm>
                  </p:grpSpPr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387612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399528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4109400" y="244656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229640" y="244656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4343400" y="1681200"/>
                    <a:ext cx="941040" cy="1535040"/>
                    <a:chOff x="4343400" y="1681200"/>
                    <a:chExt cx="941040" cy="1535040"/>
                  </a:xfrm>
                </p:grpSpPr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4343400" y="1681200"/>
                      <a:ext cx="468000" cy="1534320"/>
                      <a:chOff x="4343400" y="1681200"/>
                      <a:chExt cx="468000" cy="1534320"/>
                    </a:xfrm>
                  </p:grpSpPr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434340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445968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457596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4694400" y="244584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811400" y="1681920"/>
                      <a:ext cx="473040" cy="1534320"/>
                      <a:chOff x="4811400" y="1681920"/>
                      <a:chExt cx="473040" cy="153432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481140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493056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5046840" y="244656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167440" y="244656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5281560" y="1681200"/>
                    <a:ext cx="941400" cy="1534680"/>
                    <a:chOff x="5281560" y="1681200"/>
                    <a:chExt cx="941400" cy="153468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5281560" y="1681200"/>
                      <a:ext cx="118080" cy="76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0"/>
                          </a:moveTo>
                          <a:lnTo>
                            <a:pt x="1197" y="18394"/>
                          </a:lnTo>
                          <a:lnTo>
                            <a:pt x="2051" y="16650"/>
                          </a:lnTo>
                          <a:lnTo>
                            <a:pt x="2735" y="15461"/>
                          </a:lnTo>
                          <a:lnTo>
                            <a:pt x="3761" y="13796"/>
                          </a:lnTo>
                          <a:lnTo>
                            <a:pt x="4615" y="12250"/>
                          </a:lnTo>
                          <a:lnTo>
                            <a:pt x="5812" y="10942"/>
                          </a:lnTo>
                          <a:lnTo>
                            <a:pt x="6667" y="9633"/>
                          </a:lnTo>
                          <a:lnTo>
                            <a:pt x="7863" y="8325"/>
                          </a:lnTo>
                          <a:lnTo>
                            <a:pt x="8547" y="7096"/>
                          </a:lnTo>
                          <a:lnTo>
                            <a:pt x="10256" y="5946"/>
                          </a:lnTo>
                          <a:lnTo>
                            <a:pt x="11111" y="4876"/>
                          </a:lnTo>
                          <a:lnTo>
                            <a:pt x="11966" y="3925"/>
                          </a:lnTo>
                          <a:lnTo>
                            <a:pt x="12821" y="3092"/>
                          </a:lnTo>
                          <a:lnTo>
                            <a:pt x="14017" y="2379"/>
                          </a:lnTo>
                          <a:lnTo>
                            <a:pt x="15214" y="1546"/>
                          </a:lnTo>
                          <a:lnTo>
                            <a:pt x="16239" y="951"/>
                          </a:lnTo>
                          <a:lnTo>
                            <a:pt x="16752" y="595"/>
                          </a:lnTo>
                          <a:lnTo>
                            <a:pt x="17949" y="238"/>
                          </a:lnTo>
                          <a:lnTo>
                            <a:pt x="18803" y="0"/>
                          </a:lnTo>
                          <a:lnTo>
                            <a:pt x="19829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5398920" y="1681200"/>
                      <a:ext cx="118080" cy="76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9" y="19980"/>
                          </a:moveTo>
                          <a:lnTo>
                            <a:pt x="18803" y="18394"/>
                          </a:lnTo>
                          <a:lnTo>
                            <a:pt x="17778" y="16947"/>
                          </a:lnTo>
                          <a:lnTo>
                            <a:pt x="16752" y="15461"/>
                          </a:lnTo>
                          <a:lnTo>
                            <a:pt x="16068" y="13796"/>
                          </a:lnTo>
                          <a:lnTo>
                            <a:pt x="15214" y="12250"/>
                          </a:lnTo>
                          <a:lnTo>
                            <a:pt x="14017" y="10942"/>
                          </a:lnTo>
                          <a:lnTo>
                            <a:pt x="12821" y="9633"/>
                          </a:lnTo>
                          <a:lnTo>
                            <a:pt x="11966" y="8325"/>
                          </a:lnTo>
                          <a:lnTo>
                            <a:pt x="11111" y="7096"/>
                          </a:lnTo>
                          <a:lnTo>
                            <a:pt x="10256" y="6065"/>
                          </a:lnTo>
                          <a:lnTo>
                            <a:pt x="8547" y="4876"/>
                          </a:lnTo>
                          <a:lnTo>
                            <a:pt x="7863" y="3925"/>
                          </a:lnTo>
                          <a:lnTo>
                            <a:pt x="6838" y="3211"/>
                          </a:lnTo>
                          <a:lnTo>
                            <a:pt x="5812" y="2379"/>
                          </a:lnTo>
                          <a:lnTo>
                            <a:pt x="4615" y="1546"/>
                          </a:lnTo>
                          <a:lnTo>
                            <a:pt x="3590" y="951"/>
                          </a:lnTo>
                          <a:lnTo>
                            <a:pt x="2735" y="595"/>
                          </a:lnTo>
                          <a:lnTo>
                            <a:pt x="1880" y="238"/>
                          </a:lnTo>
                          <a:lnTo>
                            <a:pt x="855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5517000" y="2444760"/>
                      <a:ext cx="118080" cy="76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197" y="1773"/>
                          </a:lnTo>
                          <a:lnTo>
                            <a:pt x="1880" y="3192"/>
                          </a:lnTo>
                          <a:lnTo>
                            <a:pt x="2564" y="4611"/>
                          </a:lnTo>
                          <a:lnTo>
                            <a:pt x="3761" y="6384"/>
                          </a:lnTo>
                          <a:lnTo>
                            <a:pt x="5128" y="7921"/>
                          </a:lnTo>
                          <a:lnTo>
                            <a:pt x="5812" y="9103"/>
                          </a:lnTo>
                          <a:lnTo>
                            <a:pt x="6667" y="10404"/>
                          </a:lnTo>
                          <a:lnTo>
                            <a:pt x="7521" y="11704"/>
                          </a:lnTo>
                          <a:lnTo>
                            <a:pt x="8547" y="13005"/>
                          </a:lnTo>
                          <a:lnTo>
                            <a:pt x="10256" y="14187"/>
                          </a:lnTo>
                          <a:lnTo>
                            <a:pt x="11111" y="15133"/>
                          </a:lnTo>
                          <a:lnTo>
                            <a:pt x="11966" y="16079"/>
                          </a:lnTo>
                          <a:lnTo>
                            <a:pt x="12821" y="16906"/>
                          </a:lnTo>
                          <a:lnTo>
                            <a:pt x="14017" y="17734"/>
                          </a:lnTo>
                          <a:lnTo>
                            <a:pt x="15214" y="18443"/>
                          </a:lnTo>
                          <a:lnTo>
                            <a:pt x="16239" y="19034"/>
                          </a:lnTo>
                          <a:lnTo>
                            <a:pt x="16752" y="19389"/>
                          </a:lnTo>
                          <a:lnTo>
                            <a:pt x="17778" y="19744"/>
                          </a:lnTo>
                          <a:lnTo>
                            <a:pt x="18803" y="19980"/>
                          </a:lnTo>
                          <a:lnTo>
                            <a:pt x="19829" y="1998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5635440" y="2445480"/>
                      <a:ext cx="117000" cy="76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828" y="0"/>
                          </a:moveTo>
                          <a:lnTo>
                            <a:pt x="18793" y="1655"/>
                          </a:lnTo>
                          <a:lnTo>
                            <a:pt x="18103" y="3133"/>
                          </a:lnTo>
                          <a:lnTo>
                            <a:pt x="17414" y="4611"/>
                          </a:lnTo>
                          <a:lnTo>
                            <a:pt x="16379" y="6266"/>
                          </a:lnTo>
                          <a:lnTo>
                            <a:pt x="15345" y="7921"/>
                          </a:lnTo>
                          <a:lnTo>
                            <a:pt x="14138" y="9103"/>
                          </a:lnTo>
                          <a:lnTo>
                            <a:pt x="13276" y="10404"/>
                          </a:lnTo>
                          <a:lnTo>
                            <a:pt x="12414" y="11704"/>
                          </a:lnTo>
                          <a:lnTo>
                            <a:pt x="11379" y="12926"/>
                          </a:lnTo>
                          <a:lnTo>
                            <a:pt x="10345" y="14030"/>
                          </a:lnTo>
                          <a:lnTo>
                            <a:pt x="9138" y="15133"/>
                          </a:lnTo>
                          <a:lnTo>
                            <a:pt x="8103" y="15842"/>
                          </a:lnTo>
                          <a:lnTo>
                            <a:pt x="7241" y="16906"/>
                          </a:lnTo>
                          <a:lnTo>
                            <a:pt x="6034" y="17734"/>
                          </a:lnTo>
                          <a:lnTo>
                            <a:pt x="4655" y="18443"/>
                          </a:lnTo>
                          <a:lnTo>
                            <a:pt x="3621" y="19034"/>
                          </a:lnTo>
                          <a:lnTo>
                            <a:pt x="2759" y="19389"/>
                          </a:lnTo>
                          <a:lnTo>
                            <a:pt x="2069" y="19744"/>
                          </a:lnTo>
                          <a:lnTo>
                            <a:pt x="862" y="19980"/>
                          </a:lnTo>
                          <a:lnTo>
                            <a:pt x="0" y="1998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3" name=""/>
                    <p:cNvGrpSpPr/>
                    <p:nvPr/>
                  </p:nvGrpSpPr>
                  <p:grpSpPr>
                    <a:xfrm>
                      <a:off x="5750640" y="1681560"/>
                      <a:ext cx="472320" cy="1534320"/>
                      <a:chOff x="5750640" y="1681560"/>
                      <a:chExt cx="472320" cy="1534320"/>
                    </a:xfrm>
                  </p:grpSpPr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5750640" y="168156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5868720" y="168156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5985360" y="244620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6105600" y="2446200"/>
                        <a:ext cx="11736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6224760" y="1681200"/>
                    <a:ext cx="939240" cy="1535040"/>
                    <a:chOff x="6224760" y="1681200"/>
                    <a:chExt cx="939240" cy="1535040"/>
                  </a:xfrm>
                </p:grpSpPr>
                <p:grpSp>
                  <p:nvGrpSpPr>
                    <p:cNvPr id="269" name=""/>
                    <p:cNvGrpSpPr/>
                    <p:nvPr/>
                  </p:nvGrpSpPr>
                  <p:grpSpPr>
                    <a:xfrm>
                      <a:off x="6224760" y="1681200"/>
                      <a:ext cx="468720" cy="1534320"/>
                      <a:chOff x="6224760" y="1681200"/>
                      <a:chExt cx="468720" cy="1534320"/>
                    </a:xfrm>
                  </p:grpSpPr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22476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6341760" y="168120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6456960" y="244584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6576480" y="244584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4" name=""/>
                    <p:cNvGrpSpPr/>
                    <p:nvPr/>
                  </p:nvGrpSpPr>
                  <p:grpSpPr>
                    <a:xfrm>
                      <a:off x="6692400" y="1681920"/>
                      <a:ext cx="471600" cy="1534320"/>
                      <a:chOff x="6692400" y="1681920"/>
                      <a:chExt cx="471600" cy="1534320"/>
                    </a:xfrm>
                  </p:grpSpPr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669240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0"/>
                            </a:moveTo>
                            <a:lnTo>
                              <a:pt x="1197" y="18394"/>
                            </a:lnTo>
                            <a:lnTo>
                              <a:pt x="2051" y="16650"/>
                            </a:lnTo>
                            <a:lnTo>
                              <a:pt x="2735" y="15461"/>
                            </a:lnTo>
                            <a:lnTo>
                              <a:pt x="3761" y="13796"/>
                            </a:lnTo>
                            <a:lnTo>
                              <a:pt x="4615" y="12250"/>
                            </a:lnTo>
                            <a:lnTo>
                              <a:pt x="5812" y="10942"/>
                            </a:lnTo>
                            <a:lnTo>
                              <a:pt x="6667" y="9633"/>
                            </a:lnTo>
                            <a:lnTo>
                              <a:pt x="7863" y="8325"/>
                            </a:lnTo>
                            <a:lnTo>
                              <a:pt x="8547" y="7096"/>
                            </a:lnTo>
                            <a:lnTo>
                              <a:pt x="10256" y="5946"/>
                            </a:lnTo>
                            <a:lnTo>
                              <a:pt x="11111" y="4876"/>
                            </a:lnTo>
                            <a:lnTo>
                              <a:pt x="11966" y="3925"/>
                            </a:lnTo>
                            <a:lnTo>
                              <a:pt x="12821" y="3092"/>
                            </a:lnTo>
                            <a:lnTo>
                              <a:pt x="14017" y="2379"/>
                            </a:lnTo>
                            <a:lnTo>
                              <a:pt x="15214" y="1546"/>
                            </a:lnTo>
                            <a:lnTo>
                              <a:pt x="16239" y="951"/>
                            </a:lnTo>
                            <a:lnTo>
                              <a:pt x="16752" y="595"/>
                            </a:lnTo>
                            <a:lnTo>
                              <a:pt x="17949" y="238"/>
                            </a:lnTo>
                            <a:lnTo>
                              <a:pt x="18803" y="0"/>
                            </a:lnTo>
                            <a:lnTo>
                              <a:pt x="19829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6812640" y="1681920"/>
                        <a:ext cx="118080" cy="76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9" y="19980"/>
                            </a:moveTo>
                            <a:lnTo>
                              <a:pt x="18803" y="18394"/>
                            </a:lnTo>
                            <a:lnTo>
                              <a:pt x="17778" y="16947"/>
                            </a:lnTo>
                            <a:lnTo>
                              <a:pt x="16752" y="15461"/>
                            </a:lnTo>
                            <a:lnTo>
                              <a:pt x="16068" y="13796"/>
                            </a:lnTo>
                            <a:lnTo>
                              <a:pt x="15214" y="12250"/>
                            </a:lnTo>
                            <a:lnTo>
                              <a:pt x="14017" y="10942"/>
                            </a:lnTo>
                            <a:lnTo>
                              <a:pt x="12821" y="9633"/>
                            </a:lnTo>
                            <a:lnTo>
                              <a:pt x="11966" y="8325"/>
                            </a:lnTo>
                            <a:lnTo>
                              <a:pt x="11111" y="7096"/>
                            </a:lnTo>
                            <a:lnTo>
                              <a:pt x="10256" y="6065"/>
                            </a:lnTo>
                            <a:lnTo>
                              <a:pt x="8547" y="4876"/>
                            </a:lnTo>
                            <a:lnTo>
                              <a:pt x="7863" y="3925"/>
                            </a:lnTo>
                            <a:lnTo>
                              <a:pt x="6838" y="3211"/>
                            </a:lnTo>
                            <a:lnTo>
                              <a:pt x="5812" y="2379"/>
                            </a:lnTo>
                            <a:lnTo>
                              <a:pt x="4615" y="1546"/>
                            </a:lnTo>
                            <a:lnTo>
                              <a:pt x="3590" y="951"/>
                            </a:lnTo>
                            <a:lnTo>
                              <a:pt x="2735" y="595"/>
                            </a:lnTo>
                            <a:lnTo>
                              <a:pt x="1880" y="238"/>
                            </a:lnTo>
                            <a:lnTo>
                              <a:pt x="855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6927840" y="2446560"/>
                        <a:ext cx="11808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197" y="1773"/>
                            </a:lnTo>
                            <a:lnTo>
                              <a:pt x="1880" y="3192"/>
                            </a:lnTo>
                            <a:lnTo>
                              <a:pt x="2564" y="4611"/>
                            </a:lnTo>
                            <a:lnTo>
                              <a:pt x="3761" y="6384"/>
                            </a:lnTo>
                            <a:lnTo>
                              <a:pt x="5128" y="7921"/>
                            </a:lnTo>
                            <a:lnTo>
                              <a:pt x="5812" y="9103"/>
                            </a:lnTo>
                            <a:lnTo>
                              <a:pt x="6667" y="10404"/>
                            </a:lnTo>
                            <a:lnTo>
                              <a:pt x="7521" y="11704"/>
                            </a:lnTo>
                            <a:lnTo>
                              <a:pt x="8547" y="13005"/>
                            </a:lnTo>
                            <a:lnTo>
                              <a:pt x="10256" y="14187"/>
                            </a:lnTo>
                            <a:lnTo>
                              <a:pt x="11111" y="15133"/>
                            </a:lnTo>
                            <a:lnTo>
                              <a:pt x="11966" y="16079"/>
                            </a:lnTo>
                            <a:lnTo>
                              <a:pt x="12821" y="16906"/>
                            </a:lnTo>
                            <a:lnTo>
                              <a:pt x="14017" y="17734"/>
                            </a:lnTo>
                            <a:lnTo>
                              <a:pt x="15214" y="18443"/>
                            </a:lnTo>
                            <a:lnTo>
                              <a:pt x="16239" y="19034"/>
                            </a:lnTo>
                            <a:lnTo>
                              <a:pt x="16752" y="19389"/>
                            </a:lnTo>
                            <a:lnTo>
                              <a:pt x="17778" y="19744"/>
                            </a:lnTo>
                            <a:lnTo>
                              <a:pt x="18803" y="19980"/>
                            </a:lnTo>
                            <a:lnTo>
                              <a:pt x="19829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7047000" y="2446560"/>
                        <a:ext cx="117000" cy="76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828" y="0"/>
                            </a:moveTo>
                            <a:lnTo>
                              <a:pt x="18793" y="1655"/>
                            </a:lnTo>
                            <a:lnTo>
                              <a:pt x="18103" y="3133"/>
                            </a:lnTo>
                            <a:lnTo>
                              <a:pt x="17414" y="4611"/>
                            </a:lnTo>
                            <a:lnTo>
                              <a:pt x="16379" y="6266"/>
                            </a:lnTo>
                            <a:lnTo>
                              <a:pt x="15345" y="7921"/>
                            </a:lnTo>
                            <a:lnTo>
                              <a:pt x="14138" y="9103"/>
                            </a:lnTo>
                            <a:lnTo>
                              <a:pt x="13276" y="10404"/>
                            </a:lnTo>
                            <a:lnTo>
                              <a:pt x="12414" y="11704"/>
                            </a:lnTo>
                            <a:lnTo>
                              <a:pt x="11379" y="12926"/>
                            </a:lnTo>
                            <a:lnTo>
                              <a:pt x="10345" y="14030"/>
                            </a:lnTo>
                            <a:lnTo>
                              <a:pt x="9138" y="15133"/>
                            </a:lnTo>
                            <a:lnTo>
                              <a:pt x="8103" y="15842"/>
                            </a:lnTo>
                            <a:lnTo>
                              <a:pt x="7241" y="16906"/>
                            </a:lnTo>
                            <a:lnTo>
                              <a:pt x="6034" y="17734"/>
                            </a:lnTo>
                            <a:lnTo>
                              <a:pt x="4655" y="18443"/>
                            </a:lnTo>
                            <a:lnTo>
                              <a:pt x="3621" y="19034"/>
                            </a:lnTo>
                            <a:lnTo>
                              <a:pt x="2759" y="19389"/>
                            </a:lnTo>
                            <a:lnTo>
                              <a:pt x="2069" y="19744"/>
                            </a:lnTo>
                            <a:lnTo>
                              <a:pt x="862" y="19980"/>
                            </a:lnTo>
                            <a:lnTo>
                              <a:pt x="0" y="19980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79" name=""/>
                <p:cNvSpPr/>
                <p:nvPr/>
              </p:nvSpPr>
              <p:spPr>
                <a:xfrm>
                  <a:off x="1486080" y="2417760"/>
                  <a:ext cx="8712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892160" y="2909880"/>
                  <a:ext cx="874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305080" y="313704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711520" y="29275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949560" y="1690560"/>
                  <a:ext cx="8604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530520" y="1908000"/>
                  <a:ext cx="85680" cy="86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137040" y="24177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349880" y="18939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762440" y="24177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006960" y="2932200"/>
                  <a:ext cx="8604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87920" y="3139920"/>
                  <a:ext cx="85680" cy="874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168880" y="29131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819840" y="19177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18440" y="2417760"/>
                  <a:ext cx="8712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502400" y="2300400"/>
                  <a:ext cx="38268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258920" y="3497400"/>
              <a:ext cx="6626160" cy="2160000"/>
              <a:chOff x="1258920" y="3497400"/>
              <a:chExt cx="6626160" cy="2160000"/>
            </a:xfrm>
          </p:grpSpPr>
          <p:sp>
            <p:nvSpPr>
              <p:cNvPr id="295" name=""/>
              <p:cNvSpPr/>
              <p:nvPr/>
            </p:nvSpPr>
            <p:spPr>
              <a:xfrm>
                <a:off x="1258920" y="3497400"/>
                <a:ext cx="59040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02400" y="4638600"/>
                <a:ext cx="3826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533600" y="3823920"/>
                <a:ext cx="0" cy="18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75160" y="4840200"/>
                <a:ext cx="0" cy="20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000680" y="484020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51400" y="5086440"/>
                <a:ext cx="482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75160" y="5006880"/>
                <a:ext cx="42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788000"/>
                <a:ext cx="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349360" y="4788000"/>
                <a:ext cx="1800" cy="72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578400" y="4273200"/>
                <a:ext cx="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4000680" y="4054320"/>
                <a:ext cx="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30760" y="4786200"/>
                <a:ext cx="1800" cy="72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53040" y="4788000"/>
                <a:ext cx="0" cy="51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869160" y="4276800"/>
                <a:ext cx="1440" cy="5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4394160" y="4258800"/>
                <a:ext cx="1800" cy="52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14960" y="4788000"/>
                <a:ext cx="0" cy="50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59040" y="4784760"/>
                <a:ext cx="0" cy="5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1380960" y="4784400"/>
                <a:ext cx="623736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488960" y="4019400"/>
                <a:ext cx="5419800" cy="1536840"/>
                <a:chOff x="1488960" y="4019400"/>
                <a:chExt cx="5419800" cy="15368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895400" y="523872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308320" y="546588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714760" y="5256360"/>
                  <a:ext cx="85680" cy="8712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952800" y="4019400"/>
                  <a:ext cx="85680" cy="86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533760" y="423864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139920" y="4748040"/>
                  <a:ext cx="86040" cy="86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352760" y="4224240"/>
                  <a:ext cx="8604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759200" y="473868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010200" y="526104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591160" y="54705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172120" y="524340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23080" y="4246560"/>
                  <a:ext cx="856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427800" y="4741920"/>
                  <a:ext cx="87480" cy="856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488960" y="4748040"/>
                  <a:ext cx="85680" cy="860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5F0-A2F3-4F24-81BF-AABD6074C10E}" type="slidenum">
              <a:t>19</a:t>
            </a:fld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Señales para uso en Psicoacú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D0C-D3BD-4922-AD55-8B38F1AE5E5D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28800" y="900360"/>
            <a:ext cx="69246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l siguiente ejemplo se muestra una senoide con  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 &lt; 2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tres versiones de onda cuadrada: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il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tial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35 armón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finitos armó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B52-1F59-4CAE-B811-C2D5BD71B286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28800" y="1772640"/>
            <a:ext cx="6924600" cy="26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armónicos que exceden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/2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fleja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aparecen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s al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0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 </a:t>
            </a:r>
            <a:r>
              <a:rPr b="1" i="1" lang="es-ES_tradnl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9999"/>
                </a:solidFill>
                <a:latin typeface="Times New Roman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B59-00FD-4C31-85F1-CE2338EBF57D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223920" y="541440"/>
            <a:ext cx="8696160" cy="57816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254560" y="3700440"/>
            <a:ext cx="2863800" cy="490680"/>
          </a:xfrm>
          <a:custGeom>
            <a:avLst/>
            <a:gdLst/>
            <a:ahLst/>
            <a:rect l="l" t="t" r="r" b="b"/>
            <a:pathLst>
              <a:path w="1804" h="309">
                <a:moveTo>
                  <a:pt x="0" y="0"/>
                </a:moveTo>
                <a:lnTo>
                  <a:pt x="80" y="51"/>
                </a:lnTo>
                <a:lnTo>
                  <a:pt x="182" y="99"/>
                </a:lnTo>
                <a:lnTo>
                  <a:pt x="272" y="129"/>
                </a:lnTo>
                <a:lnTo>
                  <a:pt x="350" y="147"/>
                </a:lnTo>
                <a:lnTo>
                  <a:pt x="446" y="162"/>
                </a:lnTo>
                <a:lnTo>
                  <a:pt x="524" y="174"/>
                </a:lnTo>
                <a:lnTo>
                  <a:pt x="698" y="192"/>
                </a:lnTo>
                <a:lnTo>
                  <a:pt x="878" y="207"/>
                </a:lnTo>
                <a:lnTo>
                  <a:pt x="1226" y="231"/>
                </a:lnTo>
                <a:lnTo>
                  <a:pt x="1399" y="242"/>
                </a:lnTo>
                <a:lnTo>
                  <a:pt x="1574" y="251"/>
                </a:lnTo>
                <a:lnTo>
                  <a:pt x="1748" y="260"/>
                </a:lnTo>
                <a:lnTo>
                  <a:pt x="1804" y="263"/>
                </a:lnTo>
                <a:lnTo>
                  <a:pt x="1678" y="270"/>
                </a:lnTo>
                <a:lnTo>
                  <a:pt x="1496" y="273"/>
                </a:lnTo>
                <a:lnTo>
                  <a:pt x="1324" y="278"/>
                </a:lnTo>
                <a:lnTo>
                  <a:pt x="1150" y="284"/>
                </a:lnTo>
                <a:lnTo>
                  <a:pt x="614" y="309"/>
                </a:ln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120160" y="3619080"/>
            <a:ext cx="0" cy="10098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67800" y="459108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s-ES" sz="1800" spc="-1" strike="noStrike" baseline="-25000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43280" y="3614760"/>
            <a:ext cx="88920" cy="2568600"/>
          </a:xfrm>
          <a:custGeom>
            <a:avLst/>
            <a:gdLst>
              <a:gd name="textAreaLeft" fmla="*/ 56880 w 88920"/>
              <a:gd name="textAreaRight" fmla="*/ 89280 w 88920"/>
              <a:gd name="textAreaTop" fmla="*/ 30960 h 2568600"/>
              <a:gd name="textAreaBottom" fmla="*/ 2537640 h 25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1"/>
                  <a:pt x="10800" y="841"/>
                </a:cubicBezTo>
                <a:lnTo>
                  <a:pt x="10800" y="9959"/>
                </a:lnTo>
                <a:cubicBezTo>
                  <a:pt x="10800" y="10380"/>
                  <a:pt x="5400" y="10800"/>
                  <a:pt x="0" y="10800"/>
                </a:cubicBezTo>
                <a:cubicBezTo>
                  <a:pt x="5400" y="10800"/>
                  <a:pt x="10800" y="11221"/>
                  <a:pt x="10800" y="11641"/>
                </a:cubicBezTo>
                <a:lnTo>
                  <a:pt x="10800" y="20759"/>
                </a:lnTo>
                <a:cubicBezTo>
                  <a:pt x="10800" y="2118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3475080" y="4714560"/>
            <a:ext cx="20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Con a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43280" y="668160"/>
            <a:ext cx="88920" cy="2568600"/>
          </a:xfrm>
          <a:custGeom>
            <a:avLst/>
            <a:gdLst>
              <a:gd name="textAreaLeft" fmla="*/ 56880 w 88920"/>
              <a:gd name="textAreaRight" fmla="*/ 89280 w 88920"/>
              <a:gd name="textAreaTop" fmla="*/ 30960 h 2568600"/>
              <a:gd name="textAreaBottom" fmla="*/ 2537640 h 256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21"/>
                  <a:pt x="10800" y="841"/>
                </a:cubicBezTo>
                <a:lnTo>
                  <a:pt x="10800" y="9959"/>
                </a:lnTo>
                <a:cubicBezTo>
                  <a:pt x="10800" y="10380"/>
                  <a:pt x="5400" y="10800"/>
                  <a:pt x="0" y="10800"/>
                </a:cubicBezTo>
                <a:cubicBezTo>
                  <a:pt x="5400" y="10800"/>
                  <a:pt x="10800" y="11221"/>
                  <a:pt x="10800" y="11641"/>
                </a:cubicBezTo>
                <a:lnTo>
                  <a:pt x="10800" y="20759"/>
                </a:lnTo>
                <a:cubicBezTo>
                  <a:pt x="10800" y="2118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475080" y="1768320"/>
            <a:ext cx="20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Sin a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0D0-F266-474E-94C6-2AA59317DEEB}" type="slidenum">
              <a:t>22</a:t>
            </a:fld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754200" y="1042560"/>
            <a:ext cx="763560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olu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i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e vincula con la relació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/ru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dB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i="1" lang="es-ES_tradn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5AF-FBD5-4C3E-84A4-02F58F6263F3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251000" y="649440"/>
            <a:ext cx="6642000" cy="5566320"/>
            <a:chOff x="1251000" y="649440"/>
            <a:chExt cx="6642000" cy="5566320"/>
          </a:xfrm>
        </p:grpSpPr>
        <p:sp>
          <p:nvSpPr>
            <p:cNvPr id="340" name=""/>
            <p:cNvSpPr/>
            <p:nvPr/>
          </p:nvSpPr>
          <p:spPr>
            <a:xfrm flipV="1">
              <a:off x="2241720" y="4070160"/>
              <a:ext cx="0" cy="10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73880" y="51084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51680" y="5108400"/>
              <a:ext cx="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11880" y="51084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29480" y="5108400"/>
              <a:ext cx="0" cy="10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89680" y="5108400"/>
              <a:ext cx="0" cy="10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08720" y="51084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68920" y="510840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08600" y="510552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86040" y="5105520"/>
              <a:ext cx="0" cy="10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46600" y="5105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65640" y="510552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24400" y="510552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4880" y="5105520"/>
              <a:ext cx="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03640" y="5105520"/>
              <a:ext cx="0" cy="7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73880" y="2238480"/>
              <a:ext cx="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51680" y="2238480"/>
              <a:ext cx="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11880" y="2238480"/>
              <a:ext cx="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30920" y="223848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89680" y="223848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0160" y="22384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68920" y="223848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48080" y="2136600"/>
              <a:ext cx="1796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606680" y="909720"/>
              <a:ext cx="0" cy="24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89240" y="649440"/>
              <a:ext cx="47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57360" y="223992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2280" y="749520"/>
              <a:ext cx="841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á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13000" y="2161800"/>
              <a:ext cx="12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8840" y="1288800"/>
              <a:ext cx="66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9999"/>
                  </a:solidFill>
                  <a:latin typeface="Times New Roman"/>
                </a:rPr>
                <a:t>1 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3000" y="3193560"/>
              <a:ext cx="12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15160" y="2138400"/>
              <a:ext cx="177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971960" y="911160"/>
              <a:ext cx="0" cy="24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49840" y="649440"/>
              <a:ext cx="485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23000" y="223992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27560" y="751320"/>
              <a:ext cx="839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á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11680" y="1652040"/>
              <a:ext cx="19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94480" y="128880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9999"/>
                  </a:solidFill>
                  <a:latin typeface="Times New Roman"/>
                </a:rPr>
                <a:t>2 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11680" y="2684160"/>
              <a:ext cx="19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11680" y="2174400"/>
              <a:ext cx="19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11680" y="3198600"/>
              <a:ext cx="19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8080" y="5003640"/>
              <a:ext cx="1796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606680" y="3778200"/>
              <a:ext cx="0" cy="24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57360" y="510696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596960" y="4064040"/>
              <a:ext cx="2566800" cy="2064960"/>
              <a:chOff x="1596960" y="4064040"/>
              <a:chExt cx="2566800" cy="2064960"/>
            </a:xfrm>
          </p:grpSpPr>
          <p:sp>
            <p:nvSpPr>
              <p:cNvPr id="384" name=""/>
              <p:cNvSpPr/>
              <p:nvPr/>
            </p:nvSpPr>
            <p:spPr>
              <a:xfrm>
                <a:off x="1596960" y="4064040"/>
                <a:ext cx="643680" cy="103464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1385"/>
                    </a:moveTo>
                    <a:lnTo>
                      <a:pt x="45" y="1274"/>
                    </a:lnTo>
                    <a:lnTo>
                      <a:pt x="84" y="1169"/>
                    </a:lnTo>
                    <a:lnTo>
                      <a:pt x="129" y="1064"/>
                    </a:lnTo>
                    <a:lnTo>
                      <a:pt x="173" y="950"/>
                    </a:lnTo>
                    <a:lnTo>
                      <a:pt x="215" y="851"/>
                    </a:lnTo>
                    <a:lnTo>
                      <a:pt x="257" y="759"/>
                    </a:lnTo>
                    <a:lnTo>
                      <a:pt x="302" y="664"/>
                    </a:lnTo>
                    <a:lnTo>
                      <a:pt x="343" y="572"/>
                    </a:lnTo>
                    <a:lnTo>
                      <a:pt x="388" y="486"/>
                    </a:lnTo>
                    <a:lnTo>
                      <a:pt x="431" y="404"/>
                    </a:lnTo>
                    <a:lnTo>
                      <a:pt x="474" y="336"/>
                    </a:lnTo>
                    <a:lnTo>
                      <a:pt x="517" y="263"/>
                    </a:lnTo>
                    <a:lnTo>
                      <a:pt x="558" y="209"/>
                    </a:lnTo>
                    <a:lnTo>
                      <a:pt x="602" y="155"/>
                    </a:lnTo>
                    <a:lnTo>
                      <a:pt x="645" y="106"/>
                    </a:lnTo>
                    <a:lnTo>
                      <a:pt x="690" y="67"/>
                    </a:lnTo>
                    <a:lnTo>
                      <a:pt x="731" y="41"/>
                    </a:lnTo>
                    <a:lnTo>
                      <a:pt x="778" y="15"/>
                    </a:lnTo>
                    <a:lnTo>
                      <a:pt x="815" y="3"/>
                    </a:lnTo>
                    <a:lnTo>
                      <a:pt x="8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8120" y="4064400"/>
                <a:ext cx="642240" cy="103500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1385"/>
                    </a:moveTo>
                    <a:lnTo>
                      <a:pt x="816" y="1274"/>
                    </a:lnTo>
                    <a:lnTo>
                      <a:pt x="777" y="1169"/>
                    </a:lnTo>
                    <a:lnTo>
                      <a:pt x="732" y="1064"/>
                    </a:lnTo>
                    <a:lnTo>
                      <a:pt x="696" y="976"/>
                    </a:lnTo>
                    <a:lnTo>
                      <a:pt x="644" y="855"/>
                    </a:lnTo>
                    <a:lnTo>
                      <a:pt x="605" y="765"/>
                    </a:lnTo>
                    <a:lnTo>
                      <a:pt x="558" y="664"/>
                    </a:lnTo>
                    <a:lnTo>
                      <a:pt x="517" y="572"/>
                    </a:lnTo>
                    <a:lnTo>
                      <a:pt x="474" y="486"/>
                    </a:lnTo>
                    <a:lnTo>
                      <a:pt x="432" y="410"/>
                    </a:lnTo>
                    <a:lnTo>
                      <a:pt x="390" y="336"/>
                    </a:lnTo>
                    <a:lnTo>
                      <a:pt x="344" y="263"/>
                    </a:lnTo>
                    <a:lnTo>
                      <a:pt x="307" y="213"/>
                    </a:lnTo>
                    <a:lnTo>
                      <a:pt x="262" y="156"/>
                    </a:lnTo>
                    <a:lnTo>
                      <a:pt x="217" y="106"/>
                    </a:lnTo>
                    <a:lnTo>
                      <a:pt x="172" y="67"/>
                    </a:lnTo>
                    <a:lnTo>
                      <a:pt x="136" y="39"/>
                    </a:lnTo>
                    <a:lnTo>
                      <a:pt x="88" y="15"/>
                    </a:lnTo>
                    <a:lnTo>
                      <a:pt x="45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80720" y="5095080"/>
                <a:ext cx="642240" cy="103392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0"/>
                    </a:moveTo>
                    <a:lnTo>
                      <a:pt x="46" y="112"/>
                    </a:lnTo>
                    <a:lnTo>
                      <a:pt x="84" y="215"/>
                    </a:lnTo>
                    <a:lnTo>
                      <a:pt x="128" y="322"/>
                    </a:lnTo>
                    <a:lnTo>
                      <a:pt x="173" y="431"/>
                    </a:lnTo>
                    <a:lnTo>
                      <a:pt x="217" y="531"/>
                    </a:lnTo>
                    <a:lnTo>
                      <a:pt x="257" y="626"/>
                    </a:lnTo>
                    <a:lnTo>
                      <a:pt x="302" y="724"/>
                    </a:lnTo>
                    <a:lnTo>
                      <a:pt x="343" y="813"/>
                    </a:lnTo>
                    <a:lnTo>
                      <a:pt x="388" y="902"/>
                    </a:lnTo>
                    <a:lnTo>
                      <a:pt x="430" y="982"/>
                    </a:lnTo>
                    <a:lnTo>
                      <a:pt x="475" y="1063"/>
                    </a:lnTo>
                    <a:lnTo>
                      <a:pt x="517" y="1122"/>
                    </a:lnTo>
                    <a:lnTo>
                      <a:pt x="558" y="1177"/>
                    </a:lnTo>
                    <a:lnTo>
                      <a:pt x="605" y="1234"/>
                    </a:lnTo>
                    <a:lnTo>
                      <a:pt x="647" y="1279"/>
                    </a:lnTo>
                    <a:lnTo>
                      <a:pt x="690" y="1318"/>
                    </a:lnTo>
                    <a:lnTo>
                      <a:pt x="731" y="1345"/>
                    </a:lnTo>
                    <a:lnTo>
                      <a:pt x="778" y="1369"/>
                    </a:lnTo>
                    <a:lnTo>
                      <a:pt x="815" y="1382"/>
                    </a:lnTo>
                    <a:lnTo>
                      <a:pt x="86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21520" y="5094000"/>
                <a:ext cx="642240" cy="103464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0"/>
                    </a:moveTo>
                    <a:lnTo>
                      <a:pt x="816" y="110"/>
                    </a:lnTo>
                    <a:lnTo>
                      <a:pt x="777" y="215"/>
                    </a:lnTo>
                    <a:lnTo>
                      <a:pt x="734" y="323"/>
                    </a:lnTo>
                    <a:lnTo>
                      <a:pt x="689" y="434"/>
                    </a:lnTo>
                    <a:lnTo>
                      <a:pt x="648" y="531"/>
                    </a:lnTo>
                    <a:lnTo>
                      <a:pt x="605" y="626"/>
                    </a:lnTo>
                    <a:lnTo>
                      <a:pt x="558" y="722"/>
                    </a:lnTo>
                    <a:lnTo>
                      <a:pt x="517" y="813"/>
                    </a:lnTo>
                    <a:lnTo>
                      <a:pt x="474" y="899"/>
                    </a:lnTo>
                    <a:lnTo>
                      <a:pt x="434" y="974"/>
                    </a:lnTo>
                    <a:lnTo>
                      <a:pt x="387" y="1050"/>
                    </a:lnTo>
                    <a:lnTo>
                      <a:pt x="344" y="1122"/>
                    </a:lnTo>
                    <a:lnTo>
                      <a:pt x="308" y="1175"/>
                    </a:lnTo>
                    <a:lnTo>
                      <a:pt x="261" y="1235"/>
                    </a:lnTo>
                    <a:lnTo>
                      <a:pt x="217" y="1280"/>
                    </a:lnTo>
                    <a:lnTo>
                      <a:pt x="172" y="1318"/>
                    </a:lnTo>
                    <a:lnTo>
                      <a:pt x="131" y="1347"/>
                    </a:lnTo>
                    <a:lnTo>
                      <a:pt x="88" y="1369"/>
                    </a:lnTo>
                    <a:lnTo>
                      <a:pt x="45" y="1382"/>
                    </a:lnTo>
                    <a:lnTo>
                      <a:pt x="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960560" y="3606480"/>
              <a:ext cx="5666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á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715160" y="5005440"/>
              <a:ext cx="1778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971960" y="3778200"/>
              <a:ext cx="0" cy="240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3000" y="510840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27560" y="3618360"/>
              <a:ext cx="839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má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94480" y="4157640"/>
              <a:ext cx="668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9999"/>
                  </a:solidFill>
                  <a:latin typeface="Times New Roman"/>
                </a:rPr>
                <a:t>4 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51000" y="425088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51000" y="528444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51000" y="477324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1000" y="579708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51000" y="451116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1000" y="503028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1000" y="554472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51000" y="6057360"/>
              <a:ext cx="271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19440" y="4144680"/>
              <a:ext cx="36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19440" y="517644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19440" y="45367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19440" y="569088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19440" y="427968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19440" y="47923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19440" y="54385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19440" y="59497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7497000" y="50713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7016040" y="61063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6857280" y="61063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6695280" y="61063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967640" y="4073400"/>
              <a:ext cx="2565000" cy="2067120"/>
              <a:chOff x="4967640" y="4073400"/>
              <a:chExt cx="2565000" cy="2067120"/>
            </a:xfrm>
          </p:grpSpPr>
          <p:sp>
            <p:nvSpPr>
              <p:cNvPr id="415" name=""/>
              <p:cNvSpPr/>
              <p:nvPr/>
            </p:nvSpPr>
            <p:spPr>
              <a:xfrm flipH="1" flipV="1">
                <a:off x="6888960" y="5104440"/>
                <a:ext cx="643320" cy="103572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1385"/>
                    </a:moveTo>
                    <a:lnTo>
                      <a:pt x="45" y="1274"/>
                    </a:lnTo>
                    <a:lnTo>
                      <a:pt x="84" y="1169"/>
                    </a:lnTo>
                    <a:lnTo>
                      <a:pt x="129" y="1064"/>
                    </a:lnTo>
                    <a:lnTo>
                      <a:pt x="173" y="950"/>
                    </a:lnTo>
                    <a:lnTo>
                      <a:pt x="215" y="851"/>
                    </a:lnTo>
                    <a:lnTo>
                      <a:pt x="257" y="759"/>
                    </a:lnTo>
                    <a:lnTo>
                      <a:pt x="302" y="664"/>
                    </a:lnTo>
                    <a:lnTo>
                      <a:pt x="343" y="572"/>
                    </a:lnTo>
                    <a:lnTo>
                      <a:pt x="388" y="486"/>
                    </a:lnTo>
                    <a:lnTo>
                      <a:pt x="431" y="404"/>
                    </a:lnTo>
                    <a:lnTo>
                      <a:pt x="474" y="336"/>
                    </a:lnTo>
                    <a:lnTo>
                      <a:pt x="517" y="263"/>
                    </a:lnTo>
                    <a:lnTo>
                      <a:pt x="558" y="209"/>
                    </a:lnTo>
                    <a:lnTo>
                      <a:pt x="602" y="155"/>
                    </a:lnTo>
                    <a:lnTo>
                      <a:pt x="645" y="106"/>
                    </a:lnTo>
                    <a:lnTo>
                      <a:pt x="690" y="67"/>
                    </a:lnTo>
                    <a:lnTo>
                      <a:pt x="731" y="41"/>
                    </a:lnTo>
                    <a:lnTo>
                      <a:pt x="778" y="15"/>
                    </a:lnTo>
                    <a:lnTo>
                      <a:pt x="815" y="3"/>
                    </a:lnTo>
                    <a:lnTo>
                      <a:pt x="8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flipV="1">
                <a:off x="6249600" y="5104080"/>
                <a:ext cx="641880" cy="103572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1385"/>
                    </a:moveTo>
                    <a:lnTo>
                      <a:pt x="816" y="1274"/>
                    </a:lnTo>
                    <a:lnTo>
                      <a:pt x="777" y="1169"/>
                    </a:lnTo>
                    <a:lnTo>
                      <a:pt x="732" y="1064"/>
                    </a:lnTo>
                    <a:lnTo>
                      <a:pt x="696" y="976"/>
                    </a:lnTo>
                    <a:lnTo>
                      <a:pt x="644" y="855"/>
                    </a:lnTo>
                    <a:lnTo>
                      <a:pt x="605" y="765"/>
                    </a:lnTo>
                    <a:lnTo>
                      <a:pt x="558" y="664"/>
                    </a:lnTo>
                    <a:lnTo>
                      <a:pt x="517" y="572"/>
                    </a:lnTo>
                    <a:lnTo>
                      <a:pt x="474" y="486"/>
                    </a:lnTo>
                    <a:lnTo>
                      <a:pt x="432" y="410"/>
                    </a:lnTo>
                    <a:lnTo>
                      <a:pt x="390" y="336"/>
                    </a:lnTo>
                    <a:lnTo>
                      <a:pt x="344" y="263"/>
                    </a:lnTo>
                    <a:lnTo>
                      <a:pt x="307" y="213"/>
                    </a:lnTo>
                    <a:lnTo>
                      <a:pt x="262" y="156"/>
                    </a:lnTo>
                    <a:lnTo>
                      <a:pt x="217" y="106"/>
                    </a:lnTo>
                    <a:lnTo>
                      <a:pt x="172" y="67"/>
                    </a:lnTo>
                    <a:lnTo>
                      <a:pt x="136" y="39"/>
                    </a:lnTo>
                    <a:lnTo>
                      <a:pt x="88" y="15"/>
                    </a:lnTo>
                    <a:lnTo>
                      <a:pt x="45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5607360" y="4073040"/>
                <a:ext cx="641880" cy="103500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0"/>
                    </a:moveTo>
                    <a:lnTo>
                      <a:pt x="46" y="112"/>
                    </a:lnTo>
                    <a:lnTo>
                      <a:pt x="84" y="215"/>
                    </a:lnTo>
                    <a:lnTo>
                      <a:pt x="128" y="322"/>
                    </a:lnTo>
                    <a:lnTo>
                      <a:pt x="173" y="431"/>
                    </a:lnTo>
                    <a:lnTo>
                      <a:pt x="217" y="531"/>
                    </a:lnTo>
                    <a:lnTo>
                      <a:pt x="257" y="626"/>
                    </a:lnTo>
                    <a:lnTo>
                      <a:pt x="302" y="724"/>
                    </a:lnTo>
                    <a:lnTo>
                      <a:pt x="343" y="813"/>
                    </a:lnTo>
                    <a:lnTo>
                      <a:pt x="388" y="902"/>
                    </a:lnTo>
                    <a:lnTo>
                      <a:pt x="430" y="982"/>
                    </a:lnTo>
                    <a:lnTo>
                      <a:pt x="475" y="1063"/>
                    </a:lnTo>
                    <a:lnTo>
                      <a:pt x="517" y="1122"/>
                    </a:lnTo>
                    <a:lnTo>
                      <a:pt x="558" y="1177"/>
                    </a:lnTo>
                    <a:lnTo>
                      <a:pt x="605" y="1234"/>
                    </a:lnTo>
                    <a:lnTo>
                      <a:pt x="647" y="1279"/>
                    </a:lnTo>
                    <a:lnTo>
                      <a:pt x="690" y="1318"/>
                    </a:lnTo>
                    <a:lnTo>
                      <a:pt x="731" y="1345"/>
                    </a:lnTo>
                    <a:lnTo>
                      <a:pt x="778" y="1369"/>
                    </a:lnTo>
                    <a:lnTo>
                      <a:pt x="815" y="1382"/>
                    </a:lnTo>
                    <a:lnTo>
                      <a:pt x="86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 flipV="1">
                <a:off x="4967280" y="4073760"/>
                <a:ext cx="641880" cy="103572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0"/>
                    </a:moveTo>
                    <a:lnTo>
                      <a:pt x="816" y="110"/>
                    </a:lnTo>
                    <a:lnTo>
                      <a:pt x="777" y="215"/>
                    </a:lnTo>
                    <a:lnTo>
                      <a:pt x="734" y="323"/>
                    </a:lnTo>
                    <a:lnTo>
                      <a:pt x="689" y="434"/>
                    </a:lnTo>
                    <a:lnTo>
                      <a:pt x="648" y="531"/>
                    </a:lnTo>
                    <a:lnTo>
                      <a:pt x="605" y="626"/>
                    </a:lnTo>
                    <a:lnTo>
                      <a:pt x="558" y="722"/>
                    </a:lnTo>
                    <a:lnTo>
                      <a:pt x="517" y="813"/>
                    </a:lnTo>
                    <a:lnTo>
                      <a:pt x="474" y="899"/>
                    </a:lnTo>
                    <a:lnTo>
                      <a:pt x="434" y="974"/>
                    </a:lnTo>
                    <a:lnTo>
                      <a:pt x="387" y="1050"/>
                    </a:lnTo>
                    <a:lnTo>
                      <a:pt x="344" y="1122"/>
                    </a:lnTo>
                    <a:lnTo>
                      <a:pt x="308" y="1175"/>
                    </a:lnTo>
                    <a:lnTo>
                      <a:pt x="261" y="1235"/>
                    </a:lnTo>
                    <a:lnTo>
                      <a:pt x="217" y="1280"/>
                    </a:lnTo>
                    <a:lnTo>
                      <a:pt x="172" y="1318"/>
                    </a:lnTo>
                    <a:lnTo>
                      <a:pt x="131" y="1347"/>
                    </a:lnTo>
                    <a:lnTo>
                      <a:pt x="88" y="1369"/>
                    </a:lnTo>
                    <a:lnTo>
                      <a:pt x="45" y="1382"/>
                    </a:lnTo>
                    <a:lnTo>
                      <a:pt x="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 flipV="1">
              <a:off x="5124600" y="471024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445000" y="41529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284800" y="437976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65760" y="41529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605560" y="4070160"/>
              <a:ext cx="0" cy="10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6087960" y="47080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927760" y="4378320"/>
              <a:ext cx="0" cy="72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76640" y="6137280"/>
              <a:ext cx="20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7178040" y="57999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7020720" y="602280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6698520" y="6022800"/>
              <a:ext cx="66600" cy="6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6536520" y="57999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5897520" y="4351320"/>
              <a:ext cx="684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5251320" y="4351320"/>
              <a:ext cx="6696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5731920" y="4120560"/>
              <a:ext cx="6804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5410080" y="412056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6217560" y="506988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6054120" y="4686120"/>
              <a:ext cx="6804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5894280" y="442512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5731920" y="416484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573160" y="416484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5411160" y="416484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5252400" y="44251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5092560" y="4686120"/>
              <a:ext cx="6696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7338240" y="545724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7178040" y="584820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6536520" y="584820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6375240" y="545868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4938120" y="506988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76640" y="5621400"/>
              <a:ext cx="223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71960" y="458784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76640" y="6008760"/>
              <a:ext cx="20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76640" y="5880240"/>
              <a:ext cx="22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76640" y="5749920"/>
              <a:ext cx="223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76640" y="5491080"/>
              <a:ext cx="24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76640" y="5362560"/>
              <a:ext cx="24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76640" y="5232240"/>
              <a:ext cx="240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71960" y="4976640"/>
              <a:ext cx="11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71960" y="484812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71960" y="471816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71960" y="4457520"/>
              <a:ext cx="95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71960" y="432900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71960" y="419904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5573160" y="403632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600200" y="1200240"/>
              <a:ext cx="2566800" cy="2066400"/>
              <a:chOff x="1600200" y="1200240"/>
              <a:chExt cx="2566800" cy="2066400"/>
            </a:xfrm>
          </p:grpSpPr>
          <p:sp>
            <p:nvSpPr>
              <p:cNvPr id="464" name=""/>
              <p:cNvSpPr/>
              <p:nvPr/>
            </p:nvSpPr>
            <p:spPr>
              <a:xfrm flipH="1" flipV="1">
                <a:off x="3523320" y="2231280"/>
                <a:ext cx="643680" cy="103536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1385"/>
                    </a:moveTo>
                    <a:lnTo>
                      <a:pt x="45" y="1274"/>
                    </a:lnTo>
                    <a:lnTo>
                      <a:pt x="84" y="1169"/>
                    </a:lnTo>
                    <a:lnTo>
                      <a:pt x="129" y="1064"/>
                    </a:lnTo>
                    <a:lnTo>
                      <a:pt x="173" y="950"/>
                    </a:lnTo>
                    <a:lnTo>
                      <a:pt x="215" y="851"/>
                    </a:lnTo>
                    <a:lnTo>
                      <a:pt x="257" y="759"/>
                    </a:lnTo>
                    <a:lnTo>
                      <a:pt x="302" y="664"/>
                    </a:lnTo>
                    <a:lnTo>
                      <a:pt x="343" y="572"/>
                    </a:lnTo>
                    <a:lnTo>
                      <a:pt x="388" y="486"/>
                    </a:lnTo>
                    <a:lnTo>
                      <a:pt x="431" y="404"/>
                    </a:lnTo>
                    <a:lnTo>
                      <a:pt x="474" y="336"/>
                    </a:lnTo>
                    <a:lnTo>
                      <a:pt x="517" y="263"/>
                    </a:lnTo>
                    <a:lnTo>
                      <a:pt x="558" y="209"/>
                    </a:lnTo>
                    <a:lnTo>
                      <a:pt x="602" y="155"/>
                    </a:lnTo>
                    <a:lnTo>
                      <a:pt x="645" y="106"/>
                    </a:lnTo>
                    <a:lnTo>
                      <a:pt x="690" y="67"/>
                    </a:lnTo>
                    <a:lnTo>
                      <a:pt x="731" y="41"/>
                    </a:lnTo>
                    <a:lnTo>
                      <a:pt x="778" y="15"/>
                    </a:lnTo>
                    <a:lnTo>
                      <a:pt x="815" y="3"/>
                    </a:lnTo>
                    <a:lnTo>
                      <a:pt x="8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2883600" y="2230200"/>
                <a:ext cx="642240" cy="103572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1385"/>
                    </a:moveTo>
                    <a:lnTo>
                      <a:pt x="816" y="1274"/>
                    </a:lnTo>
                    <a:lnTo>
                      <a:pt x="777" y="1169"/>
                    </a:lnTo>
                    <a:lnTo>
                      <a:pt x="732" y="1064"/>
                    </a:lnTo>
                    <a:lnTo>
                      <a:pt x="696" y="976"/>
                    </a:lnTo>
                    <a:lnTo>
                      <a:pt x="644" y="855"/>
                    </a:lnTo>
                    <a:lnTo>
                      <a:pt x="605" y="765"/>
                    </a:lnTo>
                    <a:lnTo>
                      <a:pt x="558" y="664"/>
                    </a:lnTo>
                    <a:lnTo>
                      <a:pt x="517" y="572"/>
                    </a:lnTo>
                    <a:lnTo>
                      <a:pt x="474" y="486"/>
                    </a:lnTo>
                    <a:lnTo>
                      <a:pt x="432" y="410"/>
                    </a:lnTo>
                    <a:lnTo>
                      <a:pt x="390" y="336"/>
                    </a:lnTo>
                    <a:lnTo>
                      <a:pt x="344" y="263"/>
                    </a:lnTo>
                    <a:lnTo>
                      <a:pt x="307" y="213"/>
                    </a:lnTo>
                    <a:lnTo>
                      <a:pt x="262" y="156"/>
                    </a:lnTo>
                    <a:lnTo>
                      <a:pt x="217" y="106"/>
                    </a:lnTo>
                    <a:lnTo>
                      <a:pt x="172" y="67"/>
                    </a:lnTo>
                    <a:lnTo>
                      <a:pt x="136" y="39"/>
                    </a:lnTo>
                    <a:lnTo>
                      <a:pt x="88" y="15"/>
                    </a:lnTo>
                    <a:lnTo>
                      <a:pt x="45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 flipV="1">
                <a:off x="2241000" y="1200240"/>
                <a:ext cx="642240" cy="103464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0"/>
                    </a:moveTo>
                    <a:lnTo>
                      <a:pt x="46" y="112"/>
                    </a:lnTo>
                    <a:lnTo>
                      <a:pt x="84" y="215"/>
                    </a:lnTo>
                    <a:lnTo>
                      <a:pt x="128" y="322"/>
                    </a:lnTo>
                    <a:lnTo>
                      <a:pt x="173" y="431"/>
                    </a:lnTo>
                    <a:lnTo>
                      <a:pt x="217" y="531"/>
                    </a:lnTo>
                    <a:lnTo>
                      <a:pt x="257" y="626"/>
                    </a:lnTo>
                    <a:lnTo>
                      <a:pt x="302" y="724"/>
                    </a:lnTo>
                    <a:lnTo>
                      <a:pt x="343" y="813"/>
                    </a:lnTo>
                    <a:lnTo>
                      <a:pt x="388" y="902"/>
                    </a:lnTo>
                    <a:lnTo>
                      <a:pt x="430" y="982"/>
                    </a:lnTo>
                    <a:lnTo>
                      <a:pt x="475" y="1063"/>
                    </a:lnTo>
                    <a:lnTo>
                      <a:pt x="517" y="1122"/>
                    </a:lnTo>
                    <a:lnTo>
                      <a:pt x="558" y="1177"/>
                    </a:lnTo>
                    <a:lnTo>
                      <a:pt x="605" y="1234"/>
                    </a:lnTo>
                    <a:lnTo>
                      <a:pt x="647" y="1279"/>
                    </a:lnTo>
                    <a:lnTo>
                      <a:pt x="690" y="1318"/>
                    </a:lnTo>
                    <a:lnTo>
                      <a:pt x="731" y="1345"/>
                    </a:lnTo>
                    <a:lnTo>
                      <a:pt x="778" y="1369"/>
                    </a:lnTo>
                    <a:lnTo>
                      <a:pt x="815" y="1382"/>
                    </a:lnTo>
                    <a:lnTo>
                      <a:pt x="86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1600200" y="1200600"/>
                <a:ext cx="642240" cy="103536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0"/>
                    </a:moveTo>
                    <a:lnTo>
                      <a:pt x="816" y="110"/>
                    </a:lnTo>
                    <a:lnTo>
                      <a:pt x="777" y="215"/>
                    </a:lnTo>
                    <a:lnTo>
                      <a:pt x="734" y="323"/>
                    </a:lnTo>
                    <a:lnTo>
                      <a:pt x="689" y="434"/>
                    </a:lnTo>
                    <a:lnTo>
                      <a:pt x="648" y="531"/>
                    </a:lnTo>
                    <a:lnTo>
                      <a:pt x="605" y="626"/>
                    </a:lnTo>
                    <a:lnTo>
                      <a:pt x="558" y="722"/>
                    </a:lnTo>
                    <a:lnTo>
                      <a:pt x="517" y="813"/>
                    </a:lnTo>
                    <a:lnTo>
                      <a:pt x="474" y="899"/>
                    </a:lnTo>
                    <a:lnTo>
                      <a:pt x="434" y="974"/>
                    </a:lnTo>
                    <a:lnTo>
                      <a:pt x="387" y="1050"/>
                    </a:lnTo>
                    <a:lnTo>
                      <a:pt x="344" y="1122"/>
                    </a:lnTo>
                    <a:lnTo>
                      <a:pt x="308" y="1175"/>
                    </a:lnTo>
                    <a:lnTo>
                      <a:pt x="261" y="1235"/>
                    </a:lnTo>
                    <a:lnTo>
                      <a:pt x="217" y="1280"/>
                    </a:lnTo>
                    <a:lnTo>
                      <a:pt x="172" y="1318"/>
                    </a:lnTo>
                    <a:lnTo>
                      <a:pt x="131" y="1347"/>
                    </a:lnTo>
                    <a:lnTo>
                      <a:pt x="88" y="1369"/>
                    </a:lnTo>
                    <a:lnTo>
                      <a:pt x="45" y="1382"/>
                    </a:lnTo>
                    <a:lnTo>
                      <a:pt x="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4008600" y="2238480"/>
              <a:ext cx="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87840" y="2238480"/>
              <a:ext cx="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48040" y="2238480"/>
              <a:ext cx="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65640" y="223848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25840" y="223848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4880" y="2238480"/>
              <a:ext cx="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05080" y="223848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758960" y="18367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079720" y="127944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1918800" y="150660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4572000" y="299880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239920" y="119664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2722680" y="18352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562120" y="1504800"/>
              <a:ext cx="0" cy="72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06680" y="3263760"/>
              <a:ext cx="23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3979800" y="2598840"/>
              <a:ext cx="5400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3810960" y="292716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3654360" y="314892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3332160" y="314892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3171240" y="2927160"/>
              <a:ext cx="666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flipV="1">
              <a:off x="3011400" y="25916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2689200" y="18122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1723320" y="181224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2531520" y="147780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885320" y="1477800"/>
              <a:ext cx="666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367000" y="12470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2044080" y="124704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131720" y="219852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285192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689200" y="219708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252828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367000" y="219708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220752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04552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188676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172656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972960" y="323316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3810960" y="32331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3651120" y="323316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490920" y="3233160"/>
              <a:ext cx="684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3330000" y="323316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3171240" y="323316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3009240" y="323316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1572480" y="2197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05000" y="1168200"/>
              <a:ext cx="684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73880" y="260352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967640" y="1203480"/>
              <a:ext cx="2565000" cy="2064960"/>
              <a:chOff x="4967640" y="1203480"/>
              <a:chExt cx="2565000" cy="2064960"/>
            </a:xfrm>
          </p:grpSpPr>
          <p:sp>
            <p:nvSpPr>
              <p:cNvPr id="515" name=""/>
              <p:cNvSpPr/>
              <p:nvPr/>
            </p:nvSpPr>
            <p:spPr>
              <a:xfrm flipH="1" flipV="1">
                <a:off x="6888960" y="2233800"/>
                <a:ext cx="643320" cy="103464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1385"/>
                    </a:moveTo>
                    <a:lnTo>
                      <a:pt x="45" y="1274"/>
                    </a:lnTo>
                    <a:lnTo>
                      <a:pt x="84" y="1169"/>
                    </a:lnTo>
                    <a:lnTo>
                      <a:pt x="129" y="1064"/>
                    </a:lnTo>
                    <a:lnTo>
                      <a:pt x="173" y="950"/>
                    </a:lnTo>
                    <a:lnTo>
                      <a:pt x="215" y="851"/>
                    </a:lnTo>
                    <a:lnTo>
                      <a:pt x="257" y="759"/>
                    </a:lnTo>
                    <a:lnTo>
                      <a:pt x="302" y="664"/>
                    </a:lnTo>
                    <a:lnTo>
                      <a:pt x="343" y="572"/>
                    </a:lnTo>
                    <a:lnTo>
                      <a:pt x="388" y="486"/>
                    </a:lnTo>
                    <a:lnTo>
                      <a:pt x="431" y="404"/>
                    </a:lnTo>
                    <a:lnTo>
                      <a:pt x="474" y="336"/>
                    </a:lnTo>
                    <a:lnTo>
                      <a:pt x="517" y="263"/>
                    </a:lnTo>
                    <a:lnTo>
                      <a:pt x="558" y="209"/>
                    </a:lnTo>
                    <a:lnTo>
                      <a:pt x="602" y="155"/>
                    </a:lnTo>
                    <a:lnTo>
                      <a:pt x="645" y="106"/>
                    </a:lnTo>
                    <a:lnTo>
                      <a:pt x="690" y="67"/>
                    </a:lnTo>
                    <a:lnTo>
                      <a:pt x="731" y="41"/>
                    </a:lnTo>
                    <a:lnTo>
                      <a:pt x="778" y="15"/>
                    </a:lnTo>
                    <a:lnTo>
                      <a:pt x="815" y="3"/>
                    </a:lnTo>
                    <a:lnTo>
                      <a:pt x="8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6249600" y="2232720"/>
                <a:ext cx="641880" cy="103500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1385"/>
                    </a:moveTo>
                    <a:lnTo>
                      <a:pt x="816" y="1274"/>
                    </a:lnTo>
                    <a:lnTo>
                      <a:pt x="777" y="1169"/>
                    </a:lnTo>
                    <a:lnTo>
                      <a:pt x="732" y="1064"/>
                    </a:lnTo>
                    <a:lnTo>
                      <a:pt x="696" y="976"/>
                    </a:lnTo>
                    <a:lnTo>
                      <a:pt x="644" y="855"/>
                    </a:lnTo>
                    <a:lnTo>
                      <a:pt x="605" y="765"/>
                    </a:lnTo>
                    <a:lnTo>
                      <a:pt x="558" y="664"/>
                    </a:lnTo>
                    <a:lnTo>
                      <a:pt x="517" y="572"/>
                    </a:lnTo>
                    <a:lnTo>
                      <a:pt x="474" y="486"/>
                    </a:lnTo>
                    <a:lnTo>
                      <a:pt x="432" y="410"/>
                    </a:lnTo>
                    <a:lnTo>
                      <a:pt x="390" y="336"/>
                    </a:lnTo>
                    <a:lnTo>
                      <a:pt x="344" y="263"/>
                    </a:lnTo>
                    <a:lnTo>
                      <a:pt x="307" y="213"/>
                    </a:lnTo>
                    <a:lnTo>
                      <a:pt x="262" y="156"/>
                    </a:lnTo>
                    <a:lnTo>
                      <a:pt x="217" y="106"/>
                    </a:lnTo>
                    <a:lnTo>
                      <a:pt x="172" y="67"/>
                    </a:lnTo>
                    <a:lnTo>
                      <a:pt x="136" y="39"/>
                    </a:lnTo>
                    <a:lnTo>
                      <a:pt x="88" y="15"/>
                    </a:lnTo>
                    <a:lnTo>
                      <a:pt x="45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5607360" y="1203480"/>
                <a:ext cx="641880" cy="1033920"/>
              </a:xfrm>
              <a:custGeom>
                <a:avLst/>
                <a:gdLst/>
                <a:ahLst/>
                <a:rect l="l" t="t" r="r" b="b"/>
                <a:pathLst>
                  <a:path w="860" h="1385">
                    <a:moveTo>
                      <a:pt x="0" y="0"/>
                    </a:moveTo>
                    <a:lnTo>
                      <a:pt x="46" y="112"/>
                    </a:lnTo>
                    <a:lnTo>
                      <a:pt x="84" y="215"/>
                    </a:lnTo>
                    <a:lnTo>
                      <a:pt x="128" y="322"/>
                    </a:lnTo>
                    <a:lnTo>
                      <a:pt x="173" y="431"/>
                    </a:lnTo>
                    <a:lnTo>
                      <a:pt x="217" y="531"/>
                    </a:lnTo>
                    <a:lnTo>
                      <a:pt x="257" y="626"/>
                    </a:lnTo>
                    <a:lnTo>
                      <a:pt x="302" y="724"/>
                    </a:lnTo>
                    <a:lnTo>
                      <a:pt x="343" y="813"/>
                    </a:lnTo>
                    <a:lnTo>
                      <a:pt x="388" y="902"/>
                    </a:lnTo>
                    <a:lnTo>
                      <a:pt x="430" y="982"/>
                    </a:lnTo>
                    <a:lnTo>
                      <a:pt x="475" y="1063"/>
                    </a:lnTo>
                    <a:lnTo>
                      <a:pt x="517" y="1122"/>
                    </a:lnTo>
                    <a:lnTo>
                      <a:pt x="558" y="1177"/>
                    </a:lnTo>
                    <a:lnTo>
                      <a:pt x="605" y="1234"/>
                    </a:lnTo>
                    <a:lnTo>
                      <a:pt x="647" y="1279"/>
                    </a:lnTo>
                    <a:lnTo>
                      <a:pt x="690" y="1318"/>
                    </a:lnTo>
                    <a:lnTo>
                      <a:pt x="731" y="1345"/>
                    </a:lnTo>
                    <a:lnTo>
                      <a:pt x="778" y="1369"/>
                    </a:lnTo>
                    <a:lnTo>
                      <a:pt x="815" y="1382"/>
                    </a:lnTo>
                    <a:lnTo>
                      <a:pt x="86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4967280" y="1203840"/>
                <a:ext cx="641880" cy="1034640"/>
              </a:xfrm>
              <a:custGeom>
                <a:avLst/>
                <a:gdLst/>
                <a:ahLst/>
                <a:rect l="l" t="t" r="r" b="b"/>
                <a:pathLst>
                  <a:path w="859" h="1385">
                    <a:moveTo>
                      <a:pt x="859" y="0"/>
                    </a:moveTo>
                    <a:lnTo>
                      <a:pt x="816" y="110"/>
                    </a:lnTo>
                    <a:lnTo>
                      <a:pt x="777" y="215"/>
                    </a:lnTo>
                    <a:lnTo>
                      <a:pt x="734" y="323"/>
                    </a:lnTo>
                    <a:lnTo>
                      <a:pt x="689" y="434"/>
                    </a:lnTo>
                    <a:lnTo>
                      <a:pt x="648" y="531"/>
                    </a:lnTo>
                    <a:lnTo>
                      <a:pt x="605" y="626"/>
                    </a:lnTo>
                    <a:lnTo>
                      <a:pt x="558" y="722"/>
                    </a:lnTo>
                    <a:lnTo>
                      <a:pt x="517" y="813"/>
                    </a:lnTo>
                    <a:lnTo>
                      <a:pt x="474" y="899"/>
                    </a:lnTo>
                    <a:lnTo>
                      <a:pt x="434" y="974"/>
                    </a:lnTo>
                    <a:lnTo>
                      <a:pt x="387" y="1050"/>
                    </a:lnTo>
                    <a:lnTo>
                      <a:pt x="344" y="1122"/>
                    </a:lnTo>
                    <a:lnTo>
                      <a:pt x="308" y="1175"/>
                    </a:lnTo>
                    <a:lnTo>
                      <a:pt x="261" y="1235"/>
                    </a:lnTo>
                    <a:lnTo>
                      <a:pt x="217" y="1280"/>
                    </a:lnTo>
                    <a:lnTo>
                      <a:pt x="172" y="1318"/>
                    </a:lnTo>
                    <a:lnTo>
                      <a:pt x="131" y="1347"/>
                    </a:lnTo>
                    <a:lnTo>
                      <a:pt x="88" y="1369"/>
                    </a:lnTo>
                    <a:lnTo>
                      <a:pt x="45" y="1382"/>
                    </a:lnTo>
                    <a:lnTo>
                      <a:pt x="0" y="138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 flipV="1">
              <a:off x="5124600" y="183996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45000" y="1281240"/>
              <a:ext cx="0" cy="9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284800" y="1509840"/>
              <a:ext cx="14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765760" y="1281240"/>
              <a:ext cx="0" cy="9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605560" y="119988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6087960" y="183636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927760" y="1508040"/>
              <a:ext cx="0" cy="72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83120" y="326700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7345440" y="2600280"/>
              <a:ext cx="54000" cy="5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7178040" y="292968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7020720" y="315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6698520" y="31521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6536520" y="292968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6376320" y="259380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6054120" y="181440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5088960" y="181440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5897520" y="148032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5251320" y="1480320"/>
              <a:ext cx="6696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5731920" y="1250280"/>
              <a:ext cx="6804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5410080" y="125028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7497000" y="219960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6217560" y="219960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6054120" y="219960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5894280" y="168192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5731920" y="16819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flipV="1">
              <a:off x="5573160" y="168192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411160" y="16819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252400" y="16819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5092560" y="2199600"/>
              <a:ext cx="6696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7338240" y="271548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717804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701604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685728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69528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6536520" y="32353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6375240" y="2717640"/>
              <a:ext cx="684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4938120" y="219960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8440" y="274968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78440" y="1716120"/>
              <a:ext cx="94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5573160" y="116928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8840" y="4155840"/>
              <a:ext cx="66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9999"/>
                  </a:solidFill>
                  <a:latin typeface="Times New Roman"/>
                </a:rPr>
                <a:t>3 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1758960" y="471024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2079720" y="41529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>
              <a:off x="1918800" y="4384800"/>
              <a:ext cx="18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400480" y="4152960"/>
              <a:ext cx="0" cy="9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722680" y="47080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562120" y="4378320"/>
              <a:ext cx="0" cy="72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3979800" y="5457240"/>
              <a:ext cx="54000" cy="5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3810960" y="578628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3654360" y="60080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3332160" y="600804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3171240" y="5786280"/>
              <a:ext cx="666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flipV="1">
              <a:off x="3011400" y="545076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2689200" y="467136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1723320" y="46713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2531520" y="4336920"/>
              <a:ext cx="680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1885320" y="4336920"/>
              <a:ext cx="6660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2367000" y="4106160"/>
              <a:ext cx="684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2047320" y="410616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 flipV="1">
              <a:off x="4131720" y="505764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2851920" y="505620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2689200" y="4802040"/>
              <a:ext cx="684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2528280" y="45385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2367000" y="4284000"/>
              <a:ext cx="684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2207520" y="428400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2045520" y="4284000"/>
              <a:ext cx="6660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1886760" y="453852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1726560" y="480204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3972960" y="557208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3810960" y="583344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>
              <a:off x="3651120" y="6092640"/>
              <a:ext cx="6696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3490920" y="6092640"/>
              <a:ext cx="684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3330000" y="6092640"/>
              <a:ext cx="66600" cy="66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3171240" y="5833440"/>
              <a:ext cx="6660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3009240" y="5569920"/>
              <a:ext cx="680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1572480" y="5056200"/>
              <a:ext cx="6660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06680" y="6122880"/>
              <a:ext cx="20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06680" y="5864040"/>
              <a:ext cx="22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06680" y="560376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06680" y="5348160"/>
              <a:ext cx="23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606680" y="4834080"/>
              <a:ext cx="11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606320" y="4573440"/>
              <a:ext cx="94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606320" y="4316400"/>
              <a:ext cx="79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2207520" y="403632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19440" y="440640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1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19440" y="465732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19440" y="491616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19440" y="503676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19440" y="530820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19440" y="556704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19440" y="582084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19440" y="6078240"/>
              <a:ext cx="365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89240" y="3535200"/>
              <a:ext cx="473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49840" y="3537000"/>
              <a:ext cx="485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1BE-5D24-4D76-A795-0574B07BFD43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"/>
          <p:cNvGrpSpPr/>
          <p:nvPr/>
        </p:nvGrpSpPr>
        <p:grpSpPr>
          <a:xfrm>
            <a:off x="847800" y="2840040"/>
            <a:ext cx="7448400" cy="1840320"/>
            <a:chOff x="847800" y="2840040"/>
            <a:chExt cx="7448400" cy="1840320"/>
          </a:xfrm>
        </p:grpSpPr>
        <p:sp>
          <p:nvSpPr>
            <p:cNvPr id="614" name=""/>
            <p:cNvSpPr/>
            <p:nvPr/>
          </p:nvSpPr>
          <p:spPr>
            <a:xfrm>
              <a:off x="847800" y="4362480"/>
              <a:ext cx="5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7800" y="3817800"/>
              <a:ext cx="5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,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1452600" y="3586320"/>
              <a:ext cx="6424560" cy="931680"/>
              <a:chOff x="1452600" y="3586320"/>
              <a:chExt cx="6424560" cy="931680"/>
            </a:xfrm>
          </p:grpSpPr>
          <p:sp>
            <p:nvSpPr>
              <p:cNvPr id="617" name=""/>
              <p:cNvSpPr/>
              <p:nvPr/>
            </p:nvSpPr>
            <p:spPr>
              <a:xfrm>
                <a:off x="1452600" y="3586320"/>
                <a:ext cx="1776960" cy="931680"/>
              </a:xfrm>
              <a:custGeom>
                <a:avLst/>
                <a:gdLst/>
                <a:ahLst/>
                <a:rect l="l" t="t" r="r" b="b"/>
                <a:pathLst>
                  <a:path w="1755" h="1020">
                    <a:moveTo>
                      <a:pt x="0" y="1020"/>
                    </a:moveTo>
                    <a:lnTo>
                      <a:pt x="15" y="555"/>
                    </a:lnTo>
                    <a:lnTo>
                      <a:pt x="30" y="105"/>
                    </a:lnTo>
                    <a:lnTo>
                      <a:pt x="30" y="660"/>
                    </a:lnTo>
                    <a:lnTo>
                      <a:pt x="45" y="210"/>
                    </a:lnTo>
                    <a:lnTo>
                      <a:pt x="60" y="765"/>
                    </a:lnTo>
                    <a:lnTo>
                      <a:pt x="75" y="315"/>
                    </a:lnTo>
                    <a:lnTo>
                      <a:pt x="90" y="885"/>
                    </a:lnTo>
                    <a:lnTo>
                      <a:pt x="105" y="420"/>
                    </a:lnTo>
                    <a:lnTo>
                      <a:pt x="120" y="990"/>
                    </a:lnTo>
                    <a:lnTo>
                      <a:pt x="135" y="540"/>
                    </a:lnTo>
                    <a:lnTo>
                      <a:pt x="150" y="90"/>
                    </a:lnTo>
                    <a:lnTo>
                      <a:pt x="165" y="660"/>
                    </a:lnTo>
                    <a:lnTo>
                      <a:pt x="180" y="210"/>
                    </a:lnTo>
                    <a:lnTo>
                      <a:pt x="195" y="765"/>
                    </a:lnTo>
                    <a:lnTo>
                      <a:pt x="195" y="330"/>
                    </a:lnTo>
                    <a:lnTo>
                      <a:pt x="210" y="900"/>
                    </a:lnTo>
                    <a:lnTo>
                      <a:pt x="225" y="450"/>
                    </a:lnTo>
                    <a:lnTo>
                      <a:pt x="240" y="15"/>
                    </a:lnTo>
                    <a:lnTo>
                      <a:pt x="255" y="585"/>
                    </a:lnTo>
                    <a:lnTo>
                      <a:pt x="270" y="150"/>
                    </a:lnTo>
                    <a:lnTo>
                      <a:pt x="285" y="735"/>
                    </a:lnTo>
                    <a:lnTo>
                      <a:pt x="300" y="300"/>
                    </a:lnTo>
                    <a:lnTo>
                      <a:pt x="315" y="870"/>
                    </a:lnTo>
                    <a:lnTo>
                      <a:pt x="330" y="450"/>
                    </a:lnTo>
                    <a:lnTo>
                      <a:pt x="345" y="15"/>
                    </a:lnTo>
                    <a:lnTo>
                      <a:pt x="360" y="615"/>
                    </a:lnTo>
                    <a:lnTo>
                      <a:pt x="375" y="180"/>
                    </a:lnTo>
                    <a:lnTo>
                      <a:pt x="375" y="780"/>
                    </a:lnTo>
                    <a:lnTo>
                      <a:pt x="390" y="360"/>
                    </a:lnTo>
                    <a:lnTo>
                      <a:pt x="405" y="960"/>
                    </a:lnTo>
                    <a:lnTo>
                      <a:pt x="420" y="540"/>
                    </a:lnTo>
                    <a:lnTo>
                      <a:pt x="435" y="135"/>
                    </a:lnTo>
                    <a:lnTo>
                      <a:pt x="450" y="750"/>
                    </a:lnTo>
                    <a:lnTo>
                      <a:pt x="465" y="345"/>
                    </a:lnTo>
                    <a:lnTo>
                      <a:pt x="480" y="945"/>
                    </a:lnTo>
                    <a:lnTo>
                      <a:pt x="495" y="555"/>
                    </a:lnTo>
                    <a:lnTo>
                      <a:pt x="510" y="150"/>
                    </a:lnTo>
                    <a:lnTo>
                      <a:pt x="525" y="780"/>
                    </a:lnTo>
                    <a:lnTo>
                      <a:pt x="540" y="390"/>
                    </a:lnTo>
                    <a:lnTo>
                      <a:pt x="540" y="0"/>
                    </a:lnTo>
                    <a:lnTo>
                      <a:pt x="555" y="645"/>
                    </a:lnTo>
                    <a:lnTo>
                      <a:pt x="570" y="255"/>
                    </a:lnTo>
                    <a:lnTo>
                      <a:pt x="585" y="900"/>
                    </a:lnTo>
                    <a:lnTo>
                      <a:pt x="600" y="525"/>
                    </a:lnTo>
                    <a:lnTo>
                      <a:pt x="615" y="165"/>
                    </a:lnTo>
                    <a:lnTo>
                      <a:pt x="630" y="810"/>
                    </a:lnTo>
                    <a:lnTo>
                      <a:pt x="645" y="450"/>
                    </a:lnTo>
                    <a:lnTo>
                      <a:pt x="660" y="105"/>
                    </a:lnTo>
                    <a:lnTo>
                      <a:pt x="675" y="765"/>
                    </a:lnTo>
                    <a:lnTo>
                      <a:pt x="690" y="420"/>
                    </a:lnTo>
                    <a:lnTo>
                      <a:pt x="705" y="75"/>
                    </a:lnTo>
                    <a:lnTo>
                      <a:pt x="720" y="750"/>
                    </a:lnTo>
                    <a:lnTo>
                      <a:pt x="720" y="420"/>
                    </a:lnTo>
                    <a:lnTo>
                      <a:pt x="735" y="90"/>
                    </a:lnTo>
                    <a:lnTo>
                      <a:pt x="750" y="780"/>
                    </a:lnTo>
                    <a:lnTo>
                      <a:pt x="765" y="465"/>
                    </a:lnTo>
                    <a:lnTo>
                      <a:pt x="780" y="150"/>
                    </a:lnTo>
                    <a:lnTo>
                      <a:pt x="795" y="855"/>
                    </a:lnTo>
                    <a:lnTo>
                      <a:pt x="810" y="540"/>
                    </a:lnTo>
                    <a:lnTo>
                      <a:pt x="825" y="240"/>
                    </a:lnTo>
                    <a:lnTo>
                      <a:pt x="840" y="960"/>
                    </a:lnTo>
                    <a:lnTo>
                      <a:pt x="855" y="660"/>
                    </a:lnTo>
                    <a:lnTo>
                      <a:pt x="870" y="375"/>
                    </a:lnTo>
                    <a:lnTo>
                      <a:pt x="885" y="105"/>
                    </a:lnTo>
                    <a:lnTo>
                      <a:pt x="885" y="840"/>
                    </a:lnTo>
                    <a:lnTo>
                      <a:pt x="900" y="570"/>
                    </a:lnTo>
                    <a:lnTo>
                      <a:pt x="915" y="300"/>
                    </a:lnTo>
                    <a:lnTo>
                      <a:pt x="930" y="45"/>
                    </a:lnTo>
                    <a:lnTo>
                      <a:pt x="945" y="795"/>
                    </a:lnTo>
                    <a:lnTo>
                      <a:pt x="960" y="555"/>
                    </a:lnTo>
                    <a:lnTo>
                      <a:pt x="975" y="300"/>
                    </a:lnTo>
                    <a:lnTo>
                      <a:pt x="990" y="60"/>
                    </a:lnTo>
                    <a:lnTo>
                      <a:pt x="1005" y="855"/>
                    </a:lnTo>
                    <a:lnTo>
                      <a:pt x="1020" y="615"/>
                    </a:lnTo>
                    <a:lnTo>
                      <a:pt x="1035" y="405"/>
                    </a:lnTo>
                    <a:lnTo>
                      <a:pt x="1050" y="180"/>
                    </a:lnTo>
                    <a:lnTo>
                      <a:pt x="1065" y="990"/>
                    </a:lnTo>
                    <a:lnTo>
                      <a:pt x="1065" y="780"/>
                    </a:lnTo>
                    <a:lnTo>
                      <a:pt x="1080" y="585"/>
                    </a:lnTo>
                    <a:lnTo>
                      <a:pt x="1095" y="390"/>
                    </a:lnTo>
                    <a:lnTo>
                      <a:pt x="1110" y="195"/>
                    </a:lnTo>
                    <a:lnTo>
                      <a:pt x="1125" y="15"/>
                    </a:lnTo>
                    <a:lnTo>
                      <a:pt x="1140" y="855"/>
                    </a:lnTo>
                    <a:lnTo>
                      <a:pt x="1155" y="690"/>
                    </a:lnTo>
                    <a:lnTo>
                      <a:pt x="1170" y="525"/>
                    </a:lnTo>
                    <a:lnTo>
                      <a:pt x="1185" y="375"/>
                    </a:lnTo>
                    <a:lnTo>
                      <a:pt x="1200" y="225"/>
                    </a:lnTo>
                    <a:lnTo>
                      <a:pt x="1215" y="75"/>
                    </a:lnTo>
                    <a:lnTo>
                      <a:pt x="1230" y="945"/>
                    </a:lnTo>
                    <a:lnTo>
                      <a:pt x="1245" y="810"/>
                    </a:lnTo>
                    <a:lnTo>
                      <a:pt x="1245" y="690"/>
                    </a:lnTo>
                    <a:lnTo>
                      <a:pt x="1260" y="570"/>
                    </a:lnTo>
                    <a:lnTo>
                      <a:pt x="1275" y="450"/>
                    </a:lnTo>
                    <a:lnTo>
                      <a:pt x="1290" y="345"/>
                    </a:lnTo>
                    <a:lnTo>
                      <a:pt x="1305" y="240"/>
                    </a:lnTo>
                    <a:lnTo>
                      <a:pt x="1320" y="150"/>
                    </a:lnTo>
                    <a:lnTo>
                      <a:pt x="1335" y="60"/>
                    </a:lnTo>
                    <a:lnTo>
                      <a:pt x="1350" y="990"/>
                    </a:lnTo>
                    <a:lnTo>
                      <a:pt x="1365" y="915"/>
                    </a:lnTo>
                    <a:lnTo>
                      <a:pt x="1395" y="780"/>
                    </a:lnTo>
                    <a:lnTo>
                      <a:pt x="1431" y="638"/>
                    </a:lnTo>
                    <a:lnTo>
                      <a:pt x="1455" y="570"/>
                    </a:lnTo>
                    <a:lnTo>
                      <a:pt x="1470" y="540"/>
                    </a:lnTo>
                    <a:lnTo>
                      <a:pt x="1485" y="525"/>
                    </a:lnTo>
                    <a:lnTo>
                      <a:pt x="1500" y="510"/>
                    </a:lnTo>
                    <a:lnTo>
                      <a:pt x="1515" y="510"/>
                    </a:lnTo>
                    <a:lnTo>
                      <a:pt x="1533" y="515"/>
                    </a:lnTo>
                    <a:lnTo>
                      <a:pt x="1545" y="525"/>
                    </a:lnTo>
                    <a:lnTo>
                      <a:pt x="1560" y="540"/>
                    </a:lnTo>
                    <a:lnTo>
                      <a:pt x="1590" y="615"/>
                    </a:lnTo>
                    <a:lnTo>
                      <a:pt x="1605" y="660"/>
                    </a:lnTo>
                    <a:lnTo>
                      <a:pt x="1620" y="705"/>
                    </a:lnTo>
                    <a:lnTo>
                      <a:pt x="1635" y="765"/>
                    </a:lnTo>
                    <a:lnTo>
                      <a:pt x="1650" y="825"/>
                    </a:lnTo>
                    <a:lnTo>
                      <a:pt x="1665" y="885"/>
                    </a:lnTo>
                    <a:lnTo>
                      <a:pt x="1680" y="960"/>
                    </a:lnTo>
                    <a:lnTo>
                      <a:pt x="1695" y="15"/>
                    </a:lnTo>
                    <a:lnTo>
                      <a:pt x="1710" y="105"/>
                    </a:lnTo>
                    <a:lnTo>
                      <a:pt x="1725" y="195"/>
                    </a:lnTo>
                    <a:lnTo>
                      <a:pt x="1740" y="300"/>
                    </a:lnTo>
                    <a:lnTo>
                      <a:pt x="1755" y="40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229560" y="3586320"/>
                <a:ext cx="1761840" cy="918000"/>
              </a:xfrm>
              <a:custGeom>
                <a:avLst/>
                <a:gdLst/>
                <a:ahLst/>
                <a:rect l="l" t="t" r="r" b="b"/>
                <a:pathLst>
                  <a:path w="1740" h="1005">
                    <a:moveTo>
                      <a:pt x="0" y="405"/>
                    </a:moveTo>
                    <a:lnTo>
                      <a:pt x="0" y="510"/>
                    </a:lnTo>
                    <a:lnTo>
                      <a:pt x="15" y="630"/>
                    </a:lnTo>
                    <a:lnTo>
                      <a:pt x="30" y="750"/>
                    </a:lnTo>
                    <a:lnTo>
                      <a:pt x="45" y="885"/>
                    </a:lnTo>
                    <a:lnTo>
                      <a:pt x="60" y="0"/>
                    </a:lnTo>
                    <a:lnTo>
                      <a:pt x="75" y="150"/>
                    </a:lnTo>
                    <a:lnTo>
                      <a:pt x="90" y="300"/>
                    </a:lnTo>
                    <a:lnTo>
                      <a:pt x="105" y="450"/>
                    </a:lnTo>
                    <a:lnTo>
                      <a:pt x="120" y="615"/>
                    </a:lnTo>
                    <a:lnTo>
                      <a:pt x="135" y="780"/>
                    </a:lnTo>
                    <a:lnTo>
                      <a:pt x="150" y="945"/>
                    </a:lnTo>
                    <a:lnTo>
                      <a:pt x="165" y="105"/>
                    </a:lnTo>
                    <a:lnTo>
                      <a:pt x="180" y="300"/>
                    </a:lnTo>
                    <a:lnTo>
                      <a:pt x="180" y="480"/>
                    </a:lnTo>
                    <a:lnTo>
                      <a:pt x="195" y="675"/>
                    </a:lnTo>
                    <a:lnTo>
                      <a:pt x="210" y="885"/>
                    </a:lnTo>
                    <a:lnTo>
                      <a:pt x="225" y="75"/>
                    </a:lnTo>
                    <a:lnTo>
                      <a:pt x="240" y="285"/>
                    </a:lnTo>
                    <a:lnTo>
                      <a:pt x="255" y="510"/>
                    </a:lnTo>
                    <a:lnTo>
                      <a:pt x="270" y="735"/>
                    </a:lnTo>
                    <a:lnTo>
                      <a:pt x="285" y="960"/>
                    </a:lnTo>
                    <a:lnTo>
                      <a:pt x="300" y="180"/>
                    </a:lnTo>
                    <a:lnTo>
                      <a:pt x="315" y="420"/>
                    </a:lnTo>
                    <a:lnTo>
                      <a:pt x="330" y="675"/>
                    </a:lnTo>
                    <a:lnTo>
                      <a:pt x="345" y="930"/>
                    </a:lnTo>
                    <a:lnTo>
                      <a:pt x="345" y="165"/>
                    </a:lnTo>
                    <a:lnTo>
                      <a:pt x="360" y="435"/>
                    </a:lnTo>
                    <a:lnTo>
                      <a:pt x="375" y="705"/>
                    </a:lnTo>
                    <a:lnTo>
                      <a:pt x="390" y="975"/>
                    </a:lnTo>
                    <a:lnTo>
                      <a:pt x="405" y="240"/>
                    </a:lnTo>
                    <a:lnTo>
                      <a:pt x="420" y="525"/>
                    </a:lnTo>
                    <a:lnTo>
                      <a:pt x="435" y="810"/>
                    </a:lnTo>
                    <a:lnTo>
                      <a:pt x="450" y="90"/>
                    </a:lnTo>
                    <a:lnTo>
                      <a:pt x="465" y="390"/>
                    </a:lnTo>
                    <a:lnTo>
                      <a:pt x="480" y="690"/>
                    </a:lnTo>
                    <a:lnTo>
                      <a:pt x="495" y="1005"/>
                    </a:lnTo>
                    <a:lnTo>
                      <a:pt x="510" y="300"/>
                    </a:lnTo>
                    <a:lnTo>
                      <a:pt x="525" y="615"/>
                    </a:lnTo>
                    <a:lnTo>
                      <a:pt x="525" y="945"/>
                    </a:lnTo>
                    <a:lnTo>
                      <a:pt x="540" y="255"/>
                    </a:lnTo>
                    <a:lnTo>
                      <a:pt x="555" y="585"/>
                    </a:lnTo>
                    <a:lnTo>
                      <a:pt x="570" y="915"/>
                    </a:lnTo>
                    <a:lnTo>
                      <a:pt x="585" y="240"/>
                    </a:lnTo>
                    <a:lnTo>
                      <a:pt x="600" y="585"/>
                    </a:lnTo>
                    <a:lnTo>
                      <a:pt x="615" y="945"/>
                    </a:lnTo>
                    <a:lnTo>
                      <a:pt x="630" y="285"/>
                    </a:lnTo>
                    <a:lnTo>
                      <a:pt x="645" y="630"/>
                    </a:lnTo>
                    <a:lnTo>
                      <a:pt x="660" y="990"/>
                    </a:lnTo>
                    <a:lnTo>
                      <a:pt x="675" y="345"/>
                    </a:lnTo>
                    <a:lnTo>
                      <a:pt x="690" y="720"/>
                    </a:lnTo>
                    <a:lnTo>
                      <a:pt x="705" y="75"/>
                    </a:lnTo>
                    <a:lnTo>
                      <a:pt x="705" y="450"/>
                    </a:lnTo>
                    <a:lnTo>
                      <a:pt x="720" y="825"/>
                    </a:lnTo>
                    <a:lnTo>
                      <a:pt x="735" y="195"/>
                    </a:lnTo>
                    <a:lnTo>
                      <a:pt x="750" y="585"/>
                    </a:lnTo>
                    <a:lnTo>
                      <a:pt x="765" y="975"/>
                    </a:lnTo>
                    <a:lnTo>
                      <a:pt x="780" y="360"/>
                    </a:lnTo>
                    <a:lnTo>
                      <a:pt x="795" y="750"/>
                    </a:lnTo>
                    <a:lnTo>
                      <a:pt x="810" y="135"/>
                    </a:lnTo>
                    <a:lnTo>
                      <a:pt x="825" y="540"/>
                    </a:lnTo>
                    <a:lnTo>
                      <a:pt x="840" y="945"/>
                    </a:lnTo>
                    <a:lnTo>
                      <a:pt x="855" y="345"/>
                    </a:lnTo>
                    <a:lnTo>
                      <a:pt x="870" y="750"/>
                    </a:lnTo>
                    <a:lnTo>
                      <a:pt x="870" y="150"/>
                    </a:lnTo>
                    <a:lnTo>
                      <a:pt x="885" y="570"/>
                    </a:lnTo>
                    <a:lnTo>
                      <a:pt x="900" y="990"/>
                    </a:lnTo>
                    <a:lnTo>
                      <a:pt x="915" y="390"/>
                    </a:lnTo>
                    <a:lnTo>
                      <a:pt x="930" y="825"/>
                    </a:lnTo>
                    <a:lnTo>
                      <a:pt x="945" y="225"/>
                    </a:lnTo>
                    <a:lnTo>
                      <a:pt x="960" y="660"/>
                    </a:lnTo>
                    <a:lnTo>
                      <a:pt x="975" y="75"/>
                    </a:lnTo>
                    <a:lnTo>
                      <a:pt x="990" y="510"/>
                    </a:lnTo>
                    <a:lnTo>
                      <a:pt x="1005" y="945"/>
                    </a:lnTo>
                    <a:lnTo>
                      <a:pt x="1020" y="375"/>
                    </a:lnTo>
                    <a:lnTo>
                      <a:pt x="1035" y="810"/>
                    </a:lnTo>
                    <a:lnTo>
                      <a:pt x="1050" y="240"/>
                    </a:lnTo>
                    <a:lnTo>
                      <a:pt x="1050" y="675"/>
                    </a:lnTo>
                    <a:lnTo>
                      <a:pt x="1065" y="105"/>
                    </a:lnTo>
                    <a:lnTo>
                      <a:pt x="1080" y="555"/>
                    </a:lnTo>
                    <a:lnTo>
                      <a:pt x="1095" y="990"/>
                    </a:lnTo>
                    <a:lnTo>
                      <a:pt x="1110" y="435"/>
                    </a:lnTo>
                    <a:lnTo>
                      <a:pt x="1125" y="870"/>
                    </a:lnTo>
                    <a:lnTo>
                      <a:pt x="1140" y="315"/>
                    </a:lnTo>
                    <a:lnTo>
                      <a:pt x="1155" y="765"/>
                    </a:lnTo>
                    <a:lnTo>
                      <a:pt x="1170" y="195"/>
                    </a:lnTo>
                    <a:lnTo>
                      <a:pt x="1185" y="645"/>
                    </a:lnTo>
                    <a:lnTo>
                      <a:pt x="1200" y="90"/>
                    </a:lnTo>
                    <a:lnTo>
                      <a:pt x="1215" y="540"/>
                    </a:lnTo>
                    <a:lnTo>
                      <a:pt x="1215" y="1005"/>
                    </a:lnTo>
                    <a:lnTo>
                      <a:pt x="1230" y="435"/>
                    </a:lnTo>
                    <a:lnTo>
                      <a:pt x="1245" y="900"/>
                    </a:lnTo>
                    <a:lnTo>
                      <a:pt x="1260" y="330"/>
                    </a:lnTo>
                    <a:lnTo>
                      <a:pt x="1275" y="795"/>
                    </a:lnTo>
                    <a:lnTo>
                      <a:pt x="1290" y="225"/>
                    </a:lnTo>
                    <a:lnTo>
                      <a:pt x="1305" y="690"/>
                    </a:lnTo>
                    <a:lnTo>
                      <a:pt x="1320" y="120"/>
                    </a:lnTo>
                    <a:lnTo>
                      <a:pt x="1335" y="585"/>
                    </a:lnTo>
                    <a:lnTo>
                      <a:pt x="1350" y="15"/>
                    </a:lnTo>
                    <a:lnTo>
                      <a:pt x="1365" y="480"/>
                    </a:lnTo>
                    <a:lnTo>
                      <a:pt x="1380" y="930"/>
                    </a:lnTo>
                    <a:lnTo>
                      <a:pt x="1395" y="360"/>
                    </a:lnTo>
                    <a:lnTo>
                      <a:pt x="1395" y="825"/>
                    </a:lnTo>
                    <a:lnTo>
                      <a:pt x="1410" y="255"/>
                    </a:lnTo>
                    <a:lnTo>
                      <a:pt x="1425" y="705"/>
                    </a:lnTo>
                    <a:lnTo>
                      <a:pt x="1440" y="135"/>
                    </a:lnTo>
                    <a:lnTo>
                      <a:pt x="1455" y="585"/>
                    </a:lnTo>
                    <a:lnTo>
                      <a:pt x="1470" y="30"/>
                    </a:lnTo>
                    <a:lnTo>
                      <a:pt x="1485" y="465"/>
                    </a:lnTo>
                    <a:lnTo>
                      <a:pt x="1500" y="915"/>
                    </a:lnTo>
                    <a:lnTo>
                      <a:pt x="1515" y="345"/>
                    </a:lnTo>
                    <a:lnTo>
                      <a:pt x="1530" y="780"/>
                    </a:lnTo>
                    <a:lnTo>
                      <a:pt x="1545" y="210"/>
                    </a:lnTo>
                    <a:lnTo>
                      <a:pt x="1560" y="645"/>
                    </a:lnTo>
                    <a:lnTo>
                      <a:pt x="1560" y="75"/>
                    </a:lnTo>
                    <a:lnTo>
                      <a:pt x="1575" y="510"/>
                    </a:lnTo>
                    <a:lnTo>
                      <a:pt x="1590" y="945"/>
                    </a:lnTo>
                    <a:lnTo>
                      <a:pt x="1605" y="360"/>
                    </a:lnTo>
                    <a:lnTo>
                      <a:pt x="1620" y="795"/>
                    </a:lnTo>
                    <a:lnTo>
                      <a:pt x="1635" y="195"/>
                    </a:lnTo>
                    <a:lnTo>
                      <a:pt x="1650" y="630"/>
                    </a:lnTo>
                    <a:lnTo>
                      <a:pt x="1665" y="30"/>
                    </a:lnTo>
                    <a:lnTo>
                      <a:pt x="1680" y="450"/>
                    </a:lnTo>
                    <a:lnTo>
                      <a:pt x="1695" y="870"/>
                    </a:lnTo>
                    <a:lnTo>
                      <a:pt x="1710" y="270"/>
                    </a:lnTo>
                    <a:lnTo>
                      <a:pt x="1725" y="675"/>
                    </a:lnTo>
                    <a:lnTo>
                      <a:pt x="1740" y="75"/>
                    </a:lnTo>
                    <a:lnTo>
                      <a:pt x="1740" y="48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991400" y="3599640"/>
                <a:ext cx="1776960" cy="918000"/>
              </a:xfrm>
              <a:custGeom>
                <a:avLst/>
                <a:gdLst/>
                <a:ahLst/>
                <a:rect l="l" t="t" r="r" b="b"/>
                <a:pathLst>
                  <a:path w="1755" h="1005">
                    <a:moveTo>
                      <a:pt x="0" y="465"/>
                    </a:moveTo>
                    <a:lnTo>
                      <a:pt x="15" y="870"/>
                    </a:lnTo>
                    <a:lnTo>
                      <a:pt x="30" y="255"/>
                    </a:lnTo>
                    <a:lnTo>
                      <a:pt x="45" y="645"/>
                    </a:lnTo>
                    <a:lnTo>
                      <a:pt x="60" y="30"/>
                    </a:lnTo>
                    <a:lnTo>
                      <a:pt x="75" y="420"/>
                    </a:lnTo>
                    <a:lnTo>
                      <a:pt x="90" y="810"/>
                    </a:lnTo>
                    <a:lnTo>
                      <a:pt x="105" y="180"/>
                    </a:lnTo>
                    <a:lnTo>
                      <a:pt x="120" y="555"/>
                    </a:lnTo>
                    <a:lnTo>
                      <a:pt x="135" y="930"/>
                    </a:lnTo>
                    <a:lnTo>
                      <a:pt x="150" y="285"/>
                    </a:lnTo>
                    <a:lnTo>
                      <a:pt x="165" y="660"/>
                    </a:lnTo>
                    <a:lnTo>
                      <a:pt x="180" y="0"/>
                    </a:lnTo>
                    <a:lnTo>
                      <a:pt x="180" y="375"/>
                    </a:lnTo>
                    <a:lnTo>
                      <a:pt x="195" y="720"/>
                    </a:lnTo>
                    <a:lnTo>
                      <a:pt x="210" y="60"/>
                    </a:lnTo>
                    <a:lnTo>
                      <a:pt x="225" y="420"/>
                    </a:lnTo>
                    <a:lnTo>
                      <a:pt x="240" y="765"/>
                    </a:lnTo>
                    <a:lnTo>
                      <a:pt x="255" y="90"/>
                    </a:lnTo>
                    <a:lnTo>
                      <a:pt x="270" y="420"/>
                    </a:lnTo>
                    <a:lnTo>
                      <a:pt x="285" y="750"/>
                    </a:lnTo>
                    <a:lnTo>
                      <a:pt x="300" y="60"/>
                    </a:lnTo>
                    <a:lnTo>
                      <a:pt x="315" y="390"/>
                    </a:lnTo>
                    <a:lnTo>
                      <a:pt x="330" y="705"/>
                    </a:lnTo>
                    <a:lnTo>
                      <a:pt x="345" y="0"/>
                    </a:lnTo>
                    <a:lnTo>
                      <a:pt x="345" y="315"/>
                    </a:lnTo>
                    <a:lnTo>
                      <a:pt x="360" y="615"/>
                    </a:lnTo>
                    <a:lnTo>
                      <a:pt x="375" y="915"/>
                    </a:lnTo>
                    <a:lnTo>
                      <a:pt x="390" y="195"/>
                    </a:lnTo>
                    <a:lnTo>
                      <a:pt x="405" y="480"/>
                    </a:lnTo>
                    <a:lnTo>
                      <a:pt x="420" y="765"/>
                    </a:lnTo>
                    <a:lnTo>
                      <a:pt x="435" y="30"/>
                    </a:lnTo>
                    <a:lnTo>
                      <a:pt x="450" y="300"/>
                    </a:lnTo>
                    <a:lnTo>
                      <a:pt x="465" y="570"/>
                    </a:lnTo>
                    <a:lnTo>
                      <a:pt x="480" y="840"/>
                    </a:lnTo>
                    <a:lnTo>
                      <a:pt x="495" y="75"/>
                    </a:lnTo>
                    <a:lnTo>
                      <a:pt x="510" y="330"/>
                    </a:lnTo>
                    <a:lnTo>
                      <a:pt x="525" y="585"/>
                    </a:lnTo>
                    <a:lnTo>
                      <a:pt x="525" y="825"/>
                    </a:lnTo>
                    <a:lnTo>
                      <a:pt x="540" y="45"/>
                    </a:lnTo>
                    <a:lnTo>
                      <a:pt x="555" y="270"/>
                    </a:lnTo>
                    <a:lnTo>
                      <a:pt x="570" y="495"/>
                    </a:lnTo>
                    <a:lnTo>
                      <a:pt x="585" y="720"/>
                    </a:lnTo>
                    <a:lnTo>
                      <a:pt x="600" y="930"/>
                    </a:lnTo>
                    <a:lnTo>
                      <a:pt x="615" y="120"/>
                    </a:lnTo>
                    <a:lnTo>
                      <a:pt x="630" y="330"/>
                    </a:lnTo>
                    <a:lnTo>
                      <a:pt x="645" y="525"/>
                    </a:lnTo>
                    <a:lnTo>
                      <a:pt x="660" y="705"/>
                    </a:lnTo>
                    <a:lnTo>
                      <a:pt x="675" y="900"/>
                    </a:lnTo>
                    <a:lnTo>
                      <a:pt x="690" y="60"/>
                    </a:lnTo>
                    <a:lnTo>
                      <a:pt x="690" y="225"/>
                    </a:lnTo>
                    <a:lnTo>
                      <a:pt x="705" y="390"/>
                    </a:lnTo>
                    <a:lnTo>
                      <a:pt x="720" y="555"/>
                    </a:lnTo>
                    <a:lnTo>
                      <a:pt x="735" y="705"/>
                    </a:lnTo>
                    <a:lnTo>
                      <a:pt x="750" y="855"/>
                    </a:lnTo>
                    <a:lnTo>
                      <a:pt x="765" y="1005"/>
                    </a:lnTo>
                    <a:lnTo>
                      <a:pt x="780" y="120"/>
                    </a:lnTo>
                    <a:lnTo>
                      <a:pt x="795" y="255"/>
                    </a:lnTo>
                    <a:lnTo>
                      <a:pt x="810" y="375"/>
                    </a:lnTo>
                    <a:lnTo>
                      <a:pt x="825" y="495"/>
                    </a:lnTo>
                    <a:lnTo>
                      <a:pt x="840" y="600"/>
                    </a:lnTo>
                    <a:lnTo>
                      <a:pt x="855" y="705"/>
                    </a:lnTo>
                    <a:lnTo>
                      <a:pt x="870" y="810"/>
                    </a:lnTo>
                    <a:lnTo>
                      <a:pt x="870" y="900"/>
                    </a:lnTo>
                    <a:lnTo>
                      <a:pt x="885" y="990"/>
                    </a:lnTo>
                    <a:lnTo>
                      <a:pt x="900" y="45"/>
                    </a:lnTo>
                    <a:lnTo>
                      <a:pt x="915" y="120"/>
                    </a:lnTo>
                    <a:lnTo>
                      <a:pt x="930" y="180"/>
                    </a:lnTo>
                    <a:lnTo>
                      <a:pt x="945" y="240"/>
                    </a:lnTo>
                    <a:lnTo>
                      <a:pt x="960" y="300"/>
                    </a:lnTo>
                    <a:lnTo>
                      <a:pt x="975" y="345"/>
                    </a:lnTo>
                    <a:lnTo>
                      <a:pt x="990" y="390"/>
                    </a:lnTo>
                    <a:lnTo>
                      <a:pt x="1005" y="420"/>
                    </a:lnTo>
                    <a:lnTo>
                      <a:pt x="1020" y="450"/>
                    </a:lnTo>
                    <a:lnTo>
                      <a:pt x="1035" y="465"/>
                    </a:lnTo>
                    <a:lnTo>
                      <a:pt x="1065" y="495"/>
                    </a:lnTo>
                    <a:lnTo>
                      <a:pt x="1065" y="495"/>
                    </a:lnTo>
                    <a:lnTo>
                      <a:pt x="1080" y="495"/>
                    </a:lnTo>
                    <a:lnTo>
                      <a:pt x="1095" y="480"/>
                    </a:lnTo>
                    <a:lnTo>
                      <a:pt x="1110" y="465"/>
                    </a:lnTo>
                    <a:lnTo>
                      <a:pt x="1125" y="435"/>
                    </a:lnTo>
                    <a:lnTo>
                      <a:pt x="1140" y="405"/>
                    </a:lnTo>
                    <a:lnTo>
                      <a:pt x="1155" y="375"/>
                    </a:lnTo>
                    <a:lnTo>
                      <a:pt x="1170" y="330"/>
                    </a:lnTo>
                    <a:lnTo>
                      <a:pt x="1194" y="215"/>
                    </a:lnTo>
                    <a:lnTo>
                      <a:pt x="1230" y="15"/>
                    </a:lnTo>
                    <a:lnTo>
                      <a:pt x="1245" y="945"/>
                    </a:lnTo>
                    <a:lnTo>
                      <a:pt x="1260" y="855"/>
                    </a:lnTo>
                    <a:lnTo>
                      <a:pt x="1275" y="765"/>
                    </a:lnTo>
                    <a:lnTo>
                      <a:pt x="1290" y="660"/>
                    </a:lnTo>
                    <a:lnTo>
                      <a:pt x="1305" y="555"/>
                    </a:lnTo>
                    <a:lnTo>
                      <a:pt x="1320" y="435"/>
                    </a:lnTo>
                    <a:lnTo>
                      <a:pt x="1335" y="315"/>
                    </a:lnTo>
                    <a:lnTo>
                      <a:pt x="1350" y="195"/>
                    </a:lnTo>
                    <a:lnTo>
                      <a:pt x="1365" y="60"/>
                    </a:lnTo>
                    <a:lnTo>
                      <a:pt x="1380" y="930"/>
                    </a:lnTo>
                    <a:lnTo>
                      <a:pt x="1395" y="780"/>
                    </a:lnTo>
                    <a:lnTo>
                      <a:pt x="1395" y="630"/>
                    </a:lnTo>
                    <a:lnTo>
                      <a:pt x="1410" y="480"/>
                    </a:lnTo>
                    <a:lnTo>
                      <a:pt x="1425" y="315"/>
                    </a:lnTo>
                    <a:lnTo>
                      <a:pt x="1440" y="150"/>
                    </a:lnTo>
                    <a:lnTo>
                      <a:pt x="1455" y="990"/>
                    </a:lnTo>
                    <a:lnTo>
                      <a:pt x="1470" y="810"/>
                    </a:lnTo>
                    <a:lnTo>
                      <a:pt x="1485" y="615"/>
                    </a:lnTo>
                    <a:lnTo>
                      <a:pt x="1500" y="420"/>
                    </a:lnTo>
                    <a:lnTo>
                      <a:pt x="1515" y="225"/>
                    </a:lnTo>
                    <a:lnTo>
                      <a:pt x="1530" y="15"/>
                    </a:lnTo>
                    <a:lnTo>
                      <a:pt x="1545" y="825"/>
                    </a:lnTo>
                    <a:lnTo>
                      <a:pt x="1560" y="600"/>
                    </a:lnTo>
                    <a:lnTo>
                      <a:pt x="1560" y="390"/>
                    </a:lnTo>
                    <a:lnTo>
                      <a:pt x="1575" y="150"/>
                    </a:lnTo>
                    <a:lnTo>
                      <a:pt x="1590" y="945"/>
                    </a:lnTo>
                    <a:lnTo>
                      <a:pt x="1605" y="705"/>
                    </a:lnTo>
                    <a:lnTo>
                      <a:pt x="1620" y="450"/>
                    </a:lnTo>
                    <a:lnTo>
                      <a:pt x="1635" y="210"/>
                    </a:lnTo>
                    <a:lnTo>
                      <a:pt x="1650" y="960"/>
                    </a:lnTo>
                    <a:lnTo>
                      <a:pt x="1665" y="705"/>
                    </a:lnTo>
                    <a:lnTo>
                      <a:pt x="1680" y="435"/>
                    </a:lnTo>
                    <a:lnTo>
                      <a:pt x="1695" y="165"/>
                    </a:lnTo>
                    <a:lnTo>
                      <a:pt x="1710" y="900"/>
                    </a:lnTo>
                    <a:lnTo>
                      <a:pt x="1725" y="630"/>
                    </a:lnTo>
                    <a:lnTo>
                      <a:pt x="1740" y="345"/>
                    </a:lnTo>
                    <a:lnTo>
                      <a:pt x="1740" y="45"/>
                    </a:lnTo>
                    <a:lnTo>
                      <a:pt x="1755" y="7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768360" y="3586320"/>
                <a:ext cx="1108800" cy="931680"/>
              </a:xfrm>
              <a:custGeom>
                <a:avLst/>
                <a:gdLst/>
                <a:ahLst/>
                <a:rect l="l" t="t" r="r" b="b"/>
                <a:pathLst>
                  <a:path w="1095" h="1020">
                    <a:moveTo>
                      <a:pt x="0" y="780"/>
                    </a:moveTo>
                    <a:lnTo>
                      <a:pt x="15" y="480"/>
                    </a:lnTo>
                    <a:lnTo>
                      <a:pt x="30" y="165"/>
                    </a:lnTo>
                    <a:lnTo>
                      <a:pt x="45" y="870"/>
                    </a:lnTo>
                    <a:lnTo>
                      <a:pt x="60" y="555"/>
                    </a:lnTo>
                    <a:lnTo>
                      <a:pt x="75" y="240"/>
                    </a:lnTo>
                    <a:lnTo>
                      <a:pt x="90" y="930"/>
                    </a:lnTo>
                    <a:lnTo>
                      <a:pt x="105" y="600"/>
                    </a:lnTo>
                    <a:lnTo>
                      <a:pt x="120" y="270"/>
                    </a:lnTo>
                    <a:lnTo>
                      <a:pt x="135" y="945"/>
                    </a:lnTo>
                    <a:lnTo>
                      <a:pt x="150" y="600"/>
                    </a:lnTo>
                    <a:lnTo>
                      <a:pt x="150" y="255"/>
                    </a:lnTo>
                    <a:lnTo>
                      <a:pt x="165" y="915"/>
                    </a:lnTo>
                    <a:lnTo>
                      <a:pt x="180" y="570"/>
                    </a:lnTo>
                    <a:lnTo>
                      <a:pt x="195" y="210"/>
                    </a:lnTo>
                    <a:lnTo>
                      <a:pt x="210" y="855"/>
                    </a:lnTo>
                    <a:lnTo>
                      <a:pt x="225" y="495"/>
                    </a:lnTo>
                    <a:lnTo>
                      <a:pt x="240" y="120"/>
                    </a:lnTo>
                    <a:lnTo>
                      <a:pt x="255" y="765"/>
                    </a:lnTo>
                    <a:lnTo>
                      <a:pt x="270" y="375"/>
                    </a:lnTo>
                    <a:lnTo>
                      <a:pt x="285" y="1020"/>
                    </a:lnTo>
                    <a:lnTo>
                      <a:pt x="300" y="630"/>
                    </a:lnTo>
                    <a:lnTo>
                      <a:pt x="315" y="240"/>
                    </a:lnTo>
                    <a:lnTo>
                      <a:pt x="330" y="855"/>
                    </a:lnTo>
                    <a:lnTo>
                      <a:pt x="330" y="465"/>
                    </a:lnTo>
                    <a:lnTo>
                      <a:pt x="345" y="75"/>
                    </a:lnTo>
                    <a:lnTo>
                      <a:pt x="360" y="675"/>
                    </a:lnTo>
                    <a:lnTo>
                      <a:pt x="375" y="270"/>
                    </a:lnTo>
                    <a:lnTo>
                      <a:pt x="390" y="885"/>
                    </a:lnTo>
                    <a:lnTo>
                      <a:pt x="405" y="480"/>
                    </a:lnTo>
                    <a:lnTo>
                      <a:pt x="420" y="60"/>
                    </a:lnTo>
                    <a:lnTo>
                      <a:pt x="435" y="660"/>
                    </a:lnTo>
                    <a:lnTo>
                      <a:pt x="450" y="240"/>
                    </a:lnTo>
                    <a:lnTo>
                      <a:pt x="465" y="840"/>
                    </a:lnTo>
                    <a:lnTo>
                      <a:pt x="480" y="405"/>
                    </a:lnTo>
                    <a:lnTo>
                      <a:pt x="495" y="1005"/>
                    </a:lnTo>
                    <a:lnTo>
                      <a:pt x="510" y="570"/>
                    </a:lnTo>
                    <a:lnTo>
                      <a:pt x="510" y="150"/>
                    </a:lnTo>
                    <a:lnTo>
                      <a:pt x="525" y="720"/>
                    </a:lnTo>
                    <a:lnTo>
                      <a:pt x="540" y="285"/>
                    </a:lnTo>
                    <a:lnTo>
                      <a:pt x="555" y="870"/>
                    </a:lnTo>
                    <a:lnTo>
                      <a:pt x="570" y="435"/>
                    </a:lnTo>
                    <a:lnTo>
                      <a:pt x="585" y="1005"/>
                    </a:lnTo>
                    <a:lnTo>
                      <a:pt x="600" y="570"/>
                    </a:lnTo>
                    <a:lnTo>
                      <a:pt x="615" y="120"/>
                    </a:lnTo>
                    <a:lnTo>
                      <a:pt x="630" y="690"/>
                    </a:lnTo>
                    <a:lnTo>
                      <a:pt x="645" y="240"/>
                    </a:lnTo>
                    <a:lnTo>
                      <a:pt x="660" y="810"/>
                    </a:lnTo>
                    <a:lnTo>
                      <a:pt x="675" y="360"/>
                    </a:lnTo>
                    <a:lnTo>
                      <a:pt x="675" y="930"/>
                    </a:lnTo>
                    <a:lnTo>
                      <a:pt x="690" y="480"/>
                    </a:lnTo>
                    <a:lnTo>
                      <a:pt x="705" y="30"/>
                    </a:lnTo>
                    <a:lnTo>
                      <a:pt x="720" y="600"/>
                    </a:lnTo>
                    <a:lnTo>
                      <a:pt x="735" y="135"/>
                    </a:lnTo>
                    <a:lnTo>
                      <a:pt x="750" y="705"/>
                    </a:lnTo>
                    <a:lnTo>
                      <a:pt x="765" y="255"/>
                    </a:lnTo>
                    <a:lnTo>
                      <a:pt x="780" y="810"/>
                    </a:lnTo>
                    <a:lnTo>
                      <a:pt x="795" y="360"/>
                    </a:lnTo>
                    <a:lnTo>
                      <a:pt x="810" y="915"/>
                    </a:lnTo>
                    <a:lnTo>
                      <a:pt x="825" y="465"/>
                    </a:lnTo>
                    <a:lnTo>
                      <a:pt x="840" y="0"/>
                    </a:lnTo>
                    <a:lnTo>
                      <a:pt x="855" y="555"/>
                    </a:lnTo>
                    <a:lnTo>
                      <a:pt x="855" y="105"/>
                    </a:lnTo>
                    <a:lnTo>
                      <a:pt x="870" y="660"/>
                    </a:lnTo>
                    <a:lnTo>
                      <a:pt x="885" y="210"/>
                    </a:lnTo>
                    <a:lnTo>
                      <a:pt x="900" y="765"/>
                    </a:lnTo>
                    <a:lnTo>
                      <a:pt x="915" y="315"/>
                    </a:lnTo>
                    <a:lnTo>
                      <a:pt x="930" y="885"/>
                    </a:lnTo>
                    <a:lnTo>
                      <a:pt x="945" y="420"/>
                    </a:lnTo>
                    <a:lnTo>
                      <a:pt x="960" y="990"/>
                    </a:lnTo>
                    <a:lnTo>
                      <a:pt x="975" y="540"/>
                    </a:lnTo>
                    <a:lnTo>
                      <a:pt x="990" y="90"/>
                    </a:lnTo>
                    <a:lnTo>
                      <a:pt x="1005" y="660"/>
                    </a:lnTo>
                    <a:lnTo>
                      <a:pt x="1020" y="210"/>
                    </a:lnTo>
                    <a:lnTo>
                      <a:pt x="1020" y="765"/>
                    </a:lnTo>
                    <a:lnTo>
                      <a:pt x="1035" y="330"/>
                    </a:lnTo>
                    <a:lnTo>
                      <a:pt x="1050" y="900"/>
                    </a:lnTo>
                    <a:lnTo>
                      <a:pt x="1065" y="450"/>
                    </a:lnTo>
                    <a:lnTo>
                      <a:pt x="1080" y="15"/>
                    </a:lnTo>
                    <a:lnTo>
                      <a:pt x="1095" y="22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413000" y="4518000"/>
              <a:ext cx="665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455840" y="3144960"/>
              <a:ext cx="0" cy="142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2600" y="3922560"/>
              <a:ext cx="6458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974880" y="2840040"/>
              <a:ext cx="10508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 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47080" y="4375080"/>
              <a:ext cx="249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52600" y="3583080"/>
              <a:ext cx="64580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47800" y="3465360"/>
              <a:ext cx="5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54200" y="1094400"/>
            <a:ext cx="76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Ruido de digitalización para una senoide muestreada con 6 b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7C9-E1C5-45AC-A0CD-3BA194C47DDB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54200" y="2733840"/>
            <a:ext cx="7635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Times New Roman"/>
              </a:rPr>
              <a:t>bi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to el ruido se vuelve cada vez má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lan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5B2-F819-49F0-AEF6-A829BC07E9A1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Señ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274-6FDC-4D7E-AE5E-F38BC8594CDA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Tono p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E14-CB0A-45BC-A61F-C1A6BB0DF74F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754200" y="20314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señal más simple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tambíén conocida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onda senoid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ono p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40C-155D-414E-BD2B-2FCB066AF9D6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C07-0077-4DB6-8AA9-CDFEFEA15F5C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426960" y="3147840"/>
            <a:ext cx="8288280" cy="2730240"/>
            <a:chOff x="426960" y="3147840"/>
            <a:chExt cx="8288280" cy="2730240"/>
          </a:xfrm>
        </p:grpSpPr>
        <p:sp>
          <p:nvSpPr>
            <p:cNvPr id="634" name=""/>
            <p:cNvSpPr/>
            <p:nvPr/>
          </p:nvSpPr>
          <p:spPr>
            <a:xfrm>
              <a:off x="3097080" y="4514400"/>
              <a:ext cx="544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3270240" y="315072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46440" y="3147840"/>
              <a:ext cx="455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451720" y="43160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3273120" y="3497040"/>
              <a:ext cx="4793760" cy="2038320"/>
              <a:chOff x="3273120" y="3497040"/>
              <a:chExt cx="4793760" cy="203832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3273120" y="3497040"/>
                <a:ext cx="1197720" cy="1018440"/>
                <a:chOff x="3273120" y="3497040"/>
                <a:chExt cx="1197720" cy="10184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3273120" y="3497040"/>
                  <a:ext cx="59940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872520" y="3497040"/>
                  <a:ext cx="59832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4469040" y="4516200"/>
                <a:ext cx="1198080" cy="1019160"/>
                <a:chOff x="4469040" y="4516200"/>
                <a:chExt cx="1198080" cy="10191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469040" y="4516200"/>
                  <a:ext cx="59904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68080" y="4516920"/>
                  <a:ext cx="59904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5667480" y="3497040"/>
                <a:ext cx="59832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68320" y="3497040"/>
                <a:ext cx="59760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65920" y="4516200"/>
                <a:ext cx="59832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469280" y="4516200"/>
                <a:ext cx="59760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644400" y="3473280"/>
              <a:ext cx="2084400" cy="20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960" y="451440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685880" y="3257280"/>
              <a:ext cx="0" cy="25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685880" y="3625200"/>
              <a:ext cx="536400" cy="8794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12920" y="3625560"/>
              <a:ext cx="146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681360" y="3634920"/>
              <a:ext cx="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1224720" y="4053600"/>
              <a:ext cx="923400" cy="92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5"/>
                  </a:moveTo>
                  <a:arcTo wR="10800" hR="10800" stAng="-10763378" swAng="3529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5"/>
                  </a:moveTo>
                  <a:arcTo wR="10800" hR="10800" stAng="-10763378" swAng="352943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92040" y="35985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98360" y="402876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16120" y="44715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68840" y="44715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59600" y="447156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B74-15D8-44C6-B03D-EB9B694D4F99}" type="slidenum">
              <a:t>30</a:t>
            </a:fld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67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67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67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1685880" y="3625560"/>
            <a:ext cx="536760" cy="87948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212920" y="3625920"/>
            <a:ext cx="146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681360" y="363528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92400" y="3598920"/>
            <a:ext cx="50760" cy="50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516480" y="44719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6BC-DC89-44B5-BE70-9D7A08376ED2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70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70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70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054160" y="3546360"/>
            <a:ext cx="16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745080" y="3551400"/>
            <a:ext cx="0" cy="9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44400" y="3151080"/>
            <a:ext cx="2625840" cy="2727360"/>
            <a:chOff x="644400" y="3151080"/>
            <a:chExt cx="2625840" cy="2727360"/>
          </a:xfrm>
        </p:grpSpPr>
        <p:sp>
          <p:nvSpPr>
            <p:cNvPr id="725" name=""/>
            <p:cNvSpPr/>
            <p:nvPr/>
          </p:nvSpPr>
          <p:spPr>
            <a:xfrm flipV="1">
              <a:off x="3270240" y="315108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3473280"/>
              <a:ext cx="2084400" cy="20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1690920" y="3518640"/>
              <a:ext cx="396000" cy="997920"/>
              <a:chOff x="1690920" y="3518640"/>
              <a:chExt cx="396000" cy="997920"/>
            </a:xfrm>
          </p:grpSpPr>
          <p:sp>
            <p:nvSpPr>
              <p:cNvPr id="728" name=""/>
              <p:cNvSpPr/>
              <p:nvPr/>
            </p:nvSpPr>
            <p:spPr>
              <a:xfrm flipV="1">
                <a:off x="1690920" y="3547800"/>
                <a:ext cx="366480" cy="96876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0971800">
                <a:off x="2031840" y="35229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E04-011F-4E57-8D98-956FBCEE8B2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876320" y="3503520"/>
            <a:ext cx="19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735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736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739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95840" y="3521160"/>
            <a:ext cx="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44400" y="3151080"/>
            <a:ext cx="2625840" cy="2727360"/>
            <a:chOff x="644400" y="3151080"/>
            <a:chExt cx="2625840" cy="2727360"/>
          </a:xfrm>
        </p:grpSpPr>
        <p:sp>
          <p:nvSpPr>
            <p:cNvPr id="757" name=""/>
            <p:cNvSpPr/>
            <p:nvPr/>
          </p:nvSpPr>
          <p:spPr>
            <a:xfrm flipV="1">
              <a:off x="3270240" y="315108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400" y="3473280"/>
              <a:ext cx="2084400" cy="20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1689840" y="3465360"/>
              <a:ext cx="222480" cy="1050480"/>
              <a:chOff x="1689840" y="3465360"/>
              <a:chExt cx="222480" cy="1050480"/>
            </a:xfrm>
          </p:grpSpPr>
          <p:sp>
            <p:nvSpPr>
              <p:cNvPr id="760" name=""/>
              <p:cNvSpPr/>
              <p:nvPr/>
            </p:nvSpPr>
            <p:spPr>
              <a:xfrm flipV="1">
                <a:off x="1689840" y="3497400"/>
                <a:ext cx="189360" cy="101844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20360400">
                <a:off x="1854000" y="347256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BDC-EA57-4A8F-BEF9-A1CB96CD1E2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766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767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770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714680" y="3476520"/>
            <a:ext cx="214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871800" y="3479760"/>
            <a:ext cx="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44400" y="3151080"/>
            <a:ext cx="2625840" cy="2727360"/>
            <a:chOff x="644400" y="3151080"/>
            <a:chExt cx="2625840" cy="2727360"/>
          </a:xfrm>
        </p:grpSpPr>
        <p:sp>
          <p:nvSpPr>
            <p:cNvPr id="789" name=""/>
            <p:cNvSpPr/>
            <p:nvPr/>
          </p:nvSpPr>
          <p:spPr>
            <a:xfrm flipV="1">
              <a:off x="3270240" y="315108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4400" y="3473280"/>
              <a:ext cx="2084400" cy="20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663560" y="3444840"/>
              <a:ext cx="69480" cy="1069920"/>
              <a:chOff x="1663560" y="3444840"/>
              <a:chExt cx="69480" cy="1069920"/>
            </a:xfrm>
          </p:grpSpPr>
          <p:sp>
            <p:nvSpPr>
              <p:cNvPr id="792" name=""/>
              <p:cNvSpPr/>
              <p:nvPr/>
            </p:nvSpPr>
            <p:spPr>
              <a:xfrm flipV="1">
                <a:off x="1689840" y="3479040"/>
                <a:ext cx="8280" cy="1035720"/>
              </a:xfrm>
              <a:prstGeom prst="line">
                <a:avLst/>
              </a:prstGeom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755600">
                <a:off x="1672920" y="34542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D1A-9BC4-4985-BE20-A3A1AE00012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800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801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804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11280" y="3502080"/>
            <a:ext cx="244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63960" y="3508200"/>
            <a:ext cx="0" cy="101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460880" y="3461040"/>
            <a:ext cx="228240" cy="1053000"/>
            <a:chOff x="1460880" y="3461040"/>
            <a:chExt cx="228240" cy="1053000"/>
          </a:xfrm>
        </p:grpSpPr>
        <p:sp>
          <p:nvSpPr>
            <p:cNvPr id="823" name=""/>
            <p:cNvSpPr/>
            <p:nvPr/>
          </p:nvSpPr>
          <p:spPr>
            <a:xfrm flipH="1" flipV="1">
              <a:off x="1496160" y="3496680"/>
              <a:ext cx="192960" cy="10173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9084200">
              <a:off x="1471320" y="3471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465-41EA-434E-B57E-17D3279C5EE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830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831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834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320840" y="3556080"/>
            <a:ext cx="26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998880" y="3549600"/>
            <a:ext cx="0" cy="9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1254600" y="3521880"/>
            <a:ext cx="432000" cy="992160"/>
            <a:chOff x="1254600" y="3521880"/>
            <a:chExt cx="432000" cy="992160"/>
          </a:xfrm>
        </p:grpSpPr>
        <p:sp>
          <p:nvSpPr>
            <p:cNvPr id="854" name=""/>
            <p:cNvSpPr/>
            <p:nvPr/>
          </p:nvSpPr>
          <p:spPr>
            <a:xfrm flipH="1" flipV="1">
              <a:off x="1289520" y="3557520"/>
              <a:ext cx="397080" cy="9565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8376200">
              <a:off x="1264680" y="35319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57C-1EDB-4454-80BB-E21842E17C5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857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858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861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143000" y="3648240"/>
            <a:ext cx="293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075200" y="363528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087200" y="3612240"/>
            <a:ext cx="597240" cy="902520"/>
            <a:chOff x="1087200" y="3612240"/>
            <a:chExt cx="597240" cy="902520"/>
          </a:xfrm>
        </p:grpSpPr>
        <p:sp>
          <p:nvSpPr>
            <p:cNvPr id="885" name=""/>
            <p:cNvSpPr/>
            <p:nvPr/>
          </p:nvSpPr>
          <p:spPr>
            <a:xfrm flipH="1" flipV="1">
              <a:off x="1120320" y="3646080"/>
              <a:ext cx="564120" cy="8686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7748600">
              <a:off x="1095480" y="36205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5A6-09F3-4ED8-9663-D91B97664C6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89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89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89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993600" y="3759120"/>
            <a:ext cx="315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151160" y="3753000"/>
            <a:ext cx="0" cy="75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1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943920" y="3727440"/>
            <a:ext cx="739440" cy="786600"/>
            <a:chOff x="943920" y="3727440"/>
            <a:chExt cx="739440" cy="786600"/>
          </a:xfrm>
        </p:grpSpPr>
        <p:sp>
          <p:nvSpPr>
            <p:cNvPr id="916" name=""/>
            <p:cNvSpPr/>
            <p:nvPr/>
          </p:nvSpPr>
          <p:spPr>
            <a:xfrm flipH="1" flipV="1">
              <a:off x="974520" y="3758760"/>
              <a:ext cx="708840" cy="7552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7136600">
              <a:off x="949680" y="37332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9E2-7EBB-4EFD-8376-0C80AD64015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923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924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927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63640" y="3908520"/>
            <a:ext cx="33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227480" y="389880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814320" y="3882960"/>
            <a:ext cx="868680" cy="630720"/>
            <a:chOff x="814320" y="3882960"/>
            <a:chExt cx="868680" cy="630720"/>
          </a:xfrm>
        </p:grpSpPr>
        <p:sp>
          <p:nvSpPr>
            <p:cNvPr id="947" name=""/>
            <p:cNvSpPr/>
            <p:nvPr/>
          </p:nvSpPr>
          <p:spPr>
            <a:xfrm flipH="1" flipV="1">
              <a:off x="840960" y="3910680"/>
              <a:ext cx="842040" cy="603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16465200">
              <a:off x="816120" y="388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515-ECA1-4AFB-AE8D-F0F852DF98E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3960" y="111708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aparato auditivo es básicamente un procesador que recib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 acúst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por lo que para realiz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perimentos psicoacúst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utilizan señales de diversos t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7FF-078F-48A8-926C-BC8AEDD3622D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954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955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958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49160" y="4108320"/>
            <a:ext cx="355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316400" y="4105440"/>
            <a:ext cx="0" cy="40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99480" y="4079880"/>
            <a:ext cx="982080" cy="432720"/>
            <a:chOff x="699480" y="4079880"/>
            <a:chExt cx="982080" cy="432720"/>
          </a:xfrm>
        </p:grpSpPr>
        <p:sp>
          <p:nvSpPr>
            <p:cNvPr id="978" name=""/>
            <p:cNvSpPr/>
            <p:nvPr/>
          </p:nvSpPr>
          <p:spPr>
            <a:xfrm flipH="1" flipV="1">
              <a:off x="727560" y="4109040"/>
              <a:ext cx="954000" cy="4035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15705000">
              <a:off x="702720" y="4083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8C9-7DB5-493B-ACEC-A35E0DB4B86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985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986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989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1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98400" y="4317840"/>
            <a:ext cx="370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389480" y="43210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635040" y="4287600"/>
            <a:ext cx="1050480" cy="222840"/>
            <a:chOff x="635040" y="4287600"/>
            <a:chExt cx="1050480" cy="222840"/>
          </a:xfrm>
        </p:grpSpPr>
        <p:sp>
          <p:nvSpPr>
            <p:cNvPr id="1009" name=""/>
            <p:cNvSpPr/>
            <p:nvPr/>
          </p:nvSpPr>
          <p:spPr>
            <a:xfrm flipH="1" flipV="1">
              <a:off x="667080" y="4320720"/>
              <a:ext cx="1018440" cy="1897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4961600">
              <a:off x="642240" y="42948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527-32C5-4194-9104-0F4CAF4371C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016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017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020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613800" y="4474800"/>
            <a:ext cx="1070280" cy="69840"/>
            <a:chOff x="613800" y="4474800"/>
            <a:chExt cx="1070280" cy="69840"/>
          </a:xfrm>
        </p:grpSpPr>
        <p:sp>
          <p:nvSpPr>
            <p:cNvPr id="1038" name=""/>
            <p:cNvSpPr/>
            <p:nvPr/>
          </p:nvSpPr>
          <p:spPr>
            <a:xfrm flipH="1" flipV="1">
              <a:off x="648360" y="4510440"/>
              <a:ext cx="1035720" cy="14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14334000">
              <a:off x="623160" y="44841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682560" y="4514760"/>
            <a:ext cx="378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336-3127-4A6B-9CD4-0417F7A27AA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046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047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050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4695840"/>
            <a:ext cx="384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538520" y="451800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29280" y="4514040"/>
            <a:ext cx="1055160" cy="217080"/>
            <a:chOff x="629280" y="4514040"/>
            <a:chExt cx="1055160" cy="217080"/>
          </a:xfrm>
        </p:grpSpPr>
        <p:sp>
          <p:nvSpPr>
            <p:cNvPr id="1070" name=""/>
            <p:cNvSpPr/>
            <p:nvPr/>
          </p:nvSpPr>
          <p:spPr>
            <a:xfrm flipH="1">
              <a:off x="664920" y="4514040"/>
              <a:ext cx="1019520" cy="1818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3722600">
              <a:off x="639360" y="46699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340-FE79-401D-8718-C16CA3C879F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077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078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081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17480" y="4869000"/>
            <a:ext cx="388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610160" y="451656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6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675360" y="4513680"/>
            <a:ext cx="1007640" cy="392400"/>
            <a:chOff x="675360" y="4513680"/>
            <a:chExt cx="1007640" cy="392400"/>
          </a:xfrm>
        </p:grpSpPr>
        <p:sp>
          <p:nvSpPr>
            <p:cNvPr id="1101" name=""/>
            <p:cNvSpPr/>
            <p:nvPr/>
          </p:nvSpPr>
          <p:spPr>
            <a:xfrm flipH="1">
              <a:off x="711000" y="4513680"/>
              <a:ext cx="972000" cy="3571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3117800">
              <a:off x="685440" y="484488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6D9-770B-4092-BC82-D10081D63E5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108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109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112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22240" y="5054760"/>
            <a:ext cx="384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81440" y="451152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764280" y="4514760"/>
            <a:ext cx="918360" cy="572760"/>
            <a:chOff x="764280" y="4514760"/>
            <a:chExt cx="918360" cy="572760"/>
          </a:xfrm>
        </p:grpSpPr>
        <p:sp>
          <p:nvSpPr>
            <p:cNvPr id="1132" name=""/>
            <p:cNvSpPr/>
            <p:nvPr/>
          </p:nvSpPr>
          <p:spPr>
            <a:xfrm flipH="1">
              <a:off x="798480" y="4514760"/>
              <a:ext cx="884160" cy="5389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2446400">
              <a:off x="772920" y="50277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344-34DB-47B1-AB65-1C5BD8667BB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139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140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143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941400" y="5226120"/>
            <a:ext cx="38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67120" y="4521240"/>
            <a:ext cx="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8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898560" y="4515840"/>
            <a:ext cx="786600" cy="739440"/>
            <a:chOff x="898560" y="4515840"/>
            <a:chExt cx="786600" cy="739440"/>
          </a:xfrm>
        </p:grpSpPr>
        <p:sp>
          <p:nvSpPr>
            <p:cNvPr id="1163" name=""/>
            <p:cNvSpPr/>
            <p:nvPr/>
          </p:nvSpPr>
          <p:spPr>
            <a:xfrm flipH="1">
              <a:off x="929880" y="4515840"/>
              <a:ext cx="755280" cy="7084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1737800">
              <a:off x="904320" y="51984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5E1-A092-44B0-BE3B-0CEDC69E5AD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170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171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174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122480" y="5373720"/>
            <a:ext cx="372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53160" y="451656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1066320" y="4519800"/>
            <a:ext cx="619560" cy="875880"/>
            <a:chOff x="1066320" y="4519800"/>
            <a:chExt cx="619560" cy="875880"/>
          </a:xfrm>
        </p:grpSpPr>
        <p:sp>
          <p:nvSpPr>
            <p:cNvPr id="1194" name=""/>
            <p:cNvSpPr/>
            <p:nvPr/>
          </p:nvSpPr>
          <p:spPr>
            <a:xfrm flipH="1">
              <a:off x="1093320" y="4519800"/>
              <a:ext cx="592560" cy="8496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1021400">
              <a:off x="1067760" y="5343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3A9-594B-40E6-9FA7-56E2278CE13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201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202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205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289160" y="5468760"/>
            <a:ext cx="36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910040" y="4511520"/>
            <a:ext cx="972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1247760" y="4517640"/>
            <a:ext cx="439560" cy="978480"/>
            <a:chOff x="1247760" y="4517640"/>
            <a:chExt cx="439560" cy="978480"/>
          </a:xfrm>
        </p:grpSpPr>
        <p:sp>
          <p:nvSpPr>
            <p:cNvPr id="1225" name=""/>
            <p:cNvSpPr/>
            <p:nvPr/>
          </p:nvSpPr>
          <p:spPr>
            <a:xfrm flipH="1">
              <a:off x="1276920" y="4517640"/>
              <a:ext cx="410400" cy="9507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0330200">
              <a:off x="1251000" y="5442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1AE-3B46-4BBB-83BD-120B13E2307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23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23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23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498680" y="5526000"/>
            <a:ext cx="348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986360" y="4511520"/>
            <a:ext cx="0" cy="10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1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446120" y="4516200"/>
            <a:ext cx="236880" cy="1047600"/>
            <a:chOff x="1446120" y="4516200"/>
            <a:chExt cx="236880" cy="1047600"/>
          </a:xfrm>
        </p:grpSpPr>
        <p:sp>
          <p:nvSpPr>
            <p:cNvPr id="1256" name=""/>
            <p:cNvSpPr/>
            <p:nvPr/>
          </p:nvSpPr>
          <p:spPr>
            <a:xfrm flipH="1">
              <a:off x="1478880" y="4516200"/>
              <a:ext cx="204120" cy="10155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9610800">
              <a:off x="1452960" y="550584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54A-FD79-4B9D-AA65-B74967F7251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42840" y="2336040"/>
            <a:ext cx="725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sa razón nos interesan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racteríst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iedad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s mism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6A4-7A8F-4083-B38A-EB0296D4E52D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263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264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267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698480" y="5554800"/>
            <a:ext cx="336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072040" y="4516560"/>
            <a:ext cx="0" cy="10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2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651320" y="4519440"/>
            <a:ext cx="69840" cy="1070280"/>
            <a:chOff x="1651320" y="4519440"/>
            <a:chExt cx="69840" cy="1070280"/>
          </a:xfrm>
        </p:grpSpPr>
        <p:sp>
          <p:nvSpPr>
            <p:cNvPr id="1287" name=""/>
            <p:cNvSpPr/>
            <p:nvPr/>
          </p:nvSpPr>
          <p:spPr>
            <a:xfrm flipH="1">
              <a:off x="1686600" y="4519440"/>
              <a:ext cx="720" cy="10357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8930400">
              <a:off x="1660680" y="552924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78F-AC13-409A-AAE9-EF23A921BA3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294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295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298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913040" y="5530680"/>
            <a:ext cx="320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119560" y="4516560"/>
            <a:ext cx="0" cy="10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1687320" y="4517640"/>
            <a:ext cx="237240" cy="1051560"/>
            <a:chOff x="1687320" y="4517640"/>
            <a:chExt cx="237240" cy="1051560"/>
          </a:xfrm>
        </p:grpSpPr>
        <p:sp>
          <p:nvSpPr>
            <p:cNvPr id="1318" name=""/>
            <p:cNvSpPr/>
            <p:nvPr/>
          </p:nvSpPr>
          <p:spPr>
            <a:xfrm>
              <a:off x="1687320" y="4517640"/>
              <a:ext cx="201960" cy="10159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8254200">
              <a:off x="1863000" y="55080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543-416B-44ED-91F5-2BE0B5F7808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325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326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329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060640" y="5483160"/>
            <a:ext cx="315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191200" y="45115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1687680" y="4527000"/>
            <a:ext cx="432720" cy="982080"/>
            <a:chOff x="1687680" y="4527000"/>
            <a:chExt cx="432720" cy="982080"/>
          </a:xfrm>
        </p:grpSpPr>
        <p:sp>
          <p:nvSpPr>
            <p:cNvPr id="1349" name=""/>
            <p:cNvSpPr/>
            <p:nvPr/>
          </p:nvSpPr>
          <p:spPr>
            <a:xfrm>
              <a:off x="1687680" y="4527000"/>
              <a:ext cx="403560" cy="9540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rot="11295000">
              <a:off x="2066040" y="5455080"/>
              <a:ext cx="50760" cy="50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8C4-BC8A-4F4E-8BAE-0C704B5922C2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356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357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9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360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322360" y="5364000"/>
            <a:ext cx="295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291280" y="4516560"/>
            <a:ext cx="0" cy="84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5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1686600" y="4525200"/>
            <a:ext cx="630720" cy="868680"/>
            <a:chOff x="1686600" y="4525200"/>
            <a:chExt cx="630720" cy="868680"/>
          </a:xfrm>
        </p:grpSpPr>
        <p:sp>
          <p:nvSpPr>
            <p:cNvPr id="1380" name=""/>
            <p:cNvSpPr/>
            <p:nvPr/>
          </p:nvSpPr>
          <p:spPr>
            <a:xfrm>
              <a:off x="1686600" y="4525200"/>
              <a:ext cx="603000" cy="8420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rot="10534800">
              <a:off x="2264400" y="5341320"/>
              <a:ext cx="50760" cy="50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4B4-C368-41AF-B6C7-361408B7F2A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387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388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391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7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484360" y="5240160"/>
            <a:ext cx="288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362560" y="452592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6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686240" y="4524840"/>
            <a:ext cx="786600" cy="739440"/>
            <a:chOff x="1686240" y="4524840"/>
            <a:chExt cx="786600" cy="739440"/>
          </a:xfrm>
        </p:grpSpPr>
        <p:sp>
          <p:nvSpPr>
            <p:cNvPr id="1411" name=""/>
            <p:cNvSpPr/>
            <p:nvPr/>
          </p:nvSpPr>
          <p:spPr>
            <a:xfrm>
              <a:off x="1686240" y="4524840"/>
              <a:ext cx="755280" cy="7088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 rot="9863400">
              <a:off x="2415960" y="52074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C25-41CC-4623-8929-6DF384381F8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418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419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422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560680" y="5087880"/>
            <a:ext cx="287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433840" y="452124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685520" y="4523760"/>
            <a:ext cx="902520" cy="597240"/>
            <a:chOff x="1685520" y="4523760"/>
            <a:chExt cx="902520" cy="597240"/>
          </a:xfrm>
        </p:grpSpPr>
        <p:sp>
          <p:nvSpPr>
            <p:cNvPr id="1442" name=""/>
            <p:cNvSpPr/>
            <p:nvPr/>
          </p:nvSpPr>
          <p:spPr>
            <a:xfrm>
              <a:off x="1685520" y="4523760"/>
              <a:ext cx="868680" cy="5641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rot="9251400">
              <a:off x="2528640" y="50616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42E-8B68-46AE-8199-5B2331C6E55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449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450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453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5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9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60760" y="4925880"/>
            <a:ext cx="284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500800" y="45212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1686960" y="4521960"/>
            <a:ext cx="992160" cy="432000"/>
            <a:chOff x="1686960" y="4521960"/>
            <a:chExt cx="992160" cy="432000"/>
          </a:xfrm>
        </p:grpSpPr>
        <p:sp>
          <p:nvSpPr>
            <p:cNvPr id="1473" name=""/>
            <p:cNvSpPr/>
            <p:nvPr/>
          </p:nvSpPr>
          <p:spPr>
            <a:xfrm>
              <a:off x="1686960" y="4521960"/>
              <a:ext cx="956880" cy="3970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rot="8623200">
              <a:off x="2617920" y="4892760"/>
              <a:ext cx="50760" cy="5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74F-A2C5-43BD-A241-8A886E51C39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480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481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484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12960" y="4716360"/>
            <a:ext cx="289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591160" y="45212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9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1686600" y="4519440"/>
            <a:ext cx="1053000" cy="228240"/>
            <a:chOff x="1686600" y="4519440"/>
            <a:chExt cx="1053000" cy="228240"/>
          </a:xfrm>
        </p:grpSpPr>
        <p:sp>
          <p:nvSpPr>
            <p:cNvPr id="1504" name=""/>
            <p:cNvSpPr/>
            <p:nvPr/>
          </p:nvSpPr>
          <p:spPr>
            <a:xfrm>
              <a:off x="1686600" y="4519440"/>
              <a:ext cx="1017360" cy="1929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 rot="7915800">
              <a:off x="2677680" y="468612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98C-839C-4612-9A40-0B15CF04393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511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512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515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7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46440" y="4516560"/>
            <a:ext cx="29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9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1693800" y="4478040"/>
            <a:ext cx="1070280" cy="69840"/>
            <a:chOff x="1693800" y="4478040"/>
            <a:chExt cx="1070280" cy="69840"/>
          </a:xfrm>
        </p:grpSpPr>
        <p:sp>
          <p:nvSpPr>
            <p:cNvPr id="1534" name=""/>
            <p:cNvSpPr/>
            <p:nvPr/>
          </p:nvSpPr>
          <p:spPr>
            <a:xfrm flipV="1">
              <a:off x="1693800" y="4513680"/>
              <a:ext cx="1035720" cy="14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 rot="7266000">
              <a:off x="2703600" y="44874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E96-87AA-4F3C-9750-9C5FD5B7958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541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542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545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736720" y="4321080"/>
            <a:ext cx="30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743440" y="432576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9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0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1689840" y="4287960"/>
            <a:ext cx="1053360" cy="228240"/>
            <a:chOff x="1689840" y="4287960"/>
            <a:chExt cx="1053360" cy="228240"/>
          </a:xfrm>
        </p:grpSpPr>
        <p:sp>
          <p:nvSpPr>
            <p:cNvPr id="1565" name=""/>
            <p:cNvSpPr/>
            <p:nvPr/>
          </p:nvSpPr>
          <p:spPr>
            <a:xfrm flipV="1">
              <a:off x="1689840" y="4323240"/>
              <a:ext cx="1017720" cy="1929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 flipV="1" rot="13684200">
              <a:off x="2681280" y="429768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DD3-5A91-4DE7-B0DE-623BB624259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términos generales las señales pueden estudiarse según su comportamien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mpo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íst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4F8-FBC5-4203-9C50-96BA4385B912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572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573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576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2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660760" y="4102200"/>
            <a:ext cx="315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829480" y="411156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1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1689120" y="4070880"/>
            <a:ext cx="987480" cy="442080"/>
            <a:chOff x="1689120" y="4070880"/>
            <a:chExt cx="987480" cy="442080"/>
          </a:xfrm>
        </p:grpSpPr>
        <p:sp>
          <p:nvSpPr>
            <p:cNvPr id="1596" name=""/>
            <p:cNvSpPr/>
            <p:nvPr/>
          </p:nvSpPr>
          <p:spPr>
            <a:xfrm flipV="1">
              <a:off x="1689120" y="4105800"/>
              <a:ext cx="952200" cy="4071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 flipV="1" rot="12939600">
              <a:off x="2615400" y="4080240"/>
              <a:ext cx="50760" cy="5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45A-360F-4BF1-BC28-363871027EA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603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604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541600" y="3911760"/>
            <a:ext cx="335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910120" y="3916440"/>
            <a:ext cx="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1687320" y="3881880"/>
            <a:ext cx="879840" cy="629280"/>
            <a:chOff x="1687320" y="3881880"/>
            <a:chExt cx="879840" cy="629280"/>
          </a:xfrm>
        </p:grpSpPr>
        <p:sp>
          <p:nvSpPr>
            <p:cNvPr id="1627" name=""/>
            <p:cNvSpPr/>
            <p:nvPr/>
          </p:nvSpPr>
          <p:spPr>
            <a:xfrm flipV="1">
              <a:off x="1687320" y="3914640"/>
              <a:ext cx="846720" cy="5965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 flipV="1" rot="12217800">
              <a:off x="2508120" y="388980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9B8-1B24-4362-AA71-AF802D4C15EB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634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635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7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638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4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2413080" y="3749760"/>
            <a:ext cx="358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991120" y="3740040"/>
            <a:ext cx="0" cy="7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1689120" y="3722040"/>
            <a:ext cx="736200" cy="787320"/>
            <a:chOff x="1689120" y="3722040"/>
            <a:chExt cx="736200" cy="787320"/>
          </a:xfrm>
        </p:grpSpPr>
        <p:sp>
          <p:nvSpPr>
            <p:cNvPr id="1658" name=""/>
            <p:cNvSpPr/>
            <p:nvPr/>
          </p:nvSpPr>
          <p:spPr>
            <a:xfrm flipV="1">
              <a:off x="1689120" y="3751560"/>
              <a:ext cx="705960" cy="7578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 rot="11506200">
              <a:off x="2369520" y="37263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B7E-9E9A-4D8B-8EFE-79F43DE8F1A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3097080" y="4514760"/>
            <a:ext cx="545004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3270240" y="315108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646440" y="314784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8451720" y="431640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3273480" y="3497400"/>
            <a:ext cx="4793400" cy="2038320"/>
            <a:chOff x="3273480" y="3497400"/>
            <a:chExt cx="4793400" cy="2038320"/>
          </a:xfrm>
        </p:grpSpPr>
        <p:grpSp>
          <p:nvGrpSpPr>
            <p:cNvPr id="1665" name=""/>
            <p:cNvGrpSpPr/>
            <p:nvPr/>
          </p:nvGrpSpPr>
          <p:grpSpPr>
            <a:xfrm>
              <a:off x="3273480" y="3497400"/>
              <a:ext cx="1197720" cy="1018440"/>
              <a:chOff x="3273480" y="3497400"/>
              <a:chExt cx="1197720" cy="1018440"/>
            </a:xfrm>
          </p:grpSpPr>
          <p:sp>
            <p:nvSpPr>
              <p:cNvPr id="1666" name=""/>
              <p:cNvSpPr/>
              <p:nvPr/>
            </p:nvSpPr>
            <p:spPr>
              <a:xfrm>
                <a:off x="3273480" y="349740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872880" y="349740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4469400" y="4516560"/>
              <a:ext cx="1198080" cy="1019160"/>
              <a:chOff x="4469400" y="4516560"/>
              <a:chExt cx="1198080" cy="1019160"/>
            </a:xfrm>
          </p:grpSpPr>
          <p:sp>
            <p:nvSpPr>
              <p:cNvPr id="1669" name=""/>
              <p:cNvSpPr/>
              <p:nvPr/>
            </p:nvSpPr>
            <p:spPr>
              <a:xfrm>
                <a:off x="4469400" y="451656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068440" y="45172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1" name=""/>
            <p:cNvSpPr/>
            <p:nvPr/>
          </p:nvSpPr>
          <p:spPr>
            <a:xfrm>
              <a:off x="5667840" y="349740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268320" y="349740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66280" y="451656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469280" y="451656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644400" y="3473280"/>
            <a:ext cx="2084400" cy="2086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26960" y="45147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1685880" y="325764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212920" y="3625920"/>
            <a:ext cx="38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072120" y="363528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568840" y="447192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59600" y="447192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2422440" y="824040"/>
                <a:ext cx="43005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2422440" y="1703520"/>
                <a:ext cx="3943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5708520" y="2351160"/>
            <a:ext cx="852480" cy="47952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6589800" y="2526840"/>
            <a:ext cx="18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angular (rad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100920" y="1511280"/>
            <a:ext cx="460080" cy="231840"/>
          </a:xfrm>
          <a:custGeom>
            <a:avLst/>
            <a:gdLst/>
            <a:ahLst/>
            <a:rect l="l" t="t" r="r" b="b"/>
            <a:pathLst>
              <a:path w="576" h="302">
                <a:moveTo>
                  <a:pt x="0" y="0"/>
                </a:moveTo>
                <a:lnTo>
                  <a:pt x="0" y="302"/>
                </a:lnTo>
                <a:lnTo>
                  <a:pt x="576" y="30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589800" y="15757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687680" y="3598920"/>
            <a:ext cx="561960" cy="910800"/>
            <a:chOff x="1687680" y="3598920"/>
            <a:chExt cx="561960" cy="910800"/>
          </a:xfrm>
        </p:grpSpPr>
        <p:sp>
          <p:nvSpPr>
            <p:cNvPr id="1689" name=""/>
            <p:cNvSpPr/>
            <p:nvPr/>
          </p:nvSpPr>
          <p:spPr>
            <a:xfrm flipV="1">
              <a:off x="1687680" y="3623760"/>
              <a:ext cx="536400" cy="8859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flipV="1" rot="10800000">
              <a:off x="2198520" y="359856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1" name="">
            <a:hlinkClick r:id="rId2" action="ppaction://hlinksldjump"/>
          </p:cNvPr>
          <p:cNvSpPr/>
          <p:nvPr/>
        </p:nvSpPr>
        <p:spPr>
          <a:xfrm>
            <a:off x="1001880" y="3948120"/>
            <a:ext cx="1450800" cy="1219320"/>
          </a:xfrm>
          <a:custGeom>
            <a:avLst/>
            <a:gdLst>
              <a:gd name="textAreaLeft" fmla="*/ 78840 w 1450800"/>
              <a:gd name="textAreaRight" fmla="*/ 1371960 w 14508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99" h="21600">
                <a:moveTo>
                  <a:pt x="0" y="0"/>
                </a:moveTo>
                <a:lnTo>
                  <a:pt x="25699" y="0"/>
                </a:lnTo>
                <a:lnTo>
                  <a:pt x="25699" y="21600"/>
                </a:lnTo>
                <a:lnTo>
                  <a:pt x="0" y="21600"/>
                </a:lnTo>
                <a:close/>
              </a:path>
              <a:path fill="lightenLess" w="25699" h="21600">
                <a:moveTo>
                  <a:pt x="0" y="0"/>
                </a:moveTo>
                <a:lnTo>
                  <a:pt x="25699" y="0"/>
                </a:lnTo>
                <a:lnTo>
                  <a:pt x="24299" y="1400"/>
                </a:lnTo>
                <a:lnTo>
                  <a:pt x="1400" y="1400"/>
                </a:lnTo>
                <a:close/>
              </a:path>
              <a:path fill="darken" w="25699" h="21600">
                <a:moveTo>
                  <a:pt x="25699" y="0"/>
                </a:moveTo>
                <a:lnTo>
                  <a:pt x="25699" y="21600"/>
                </a:lnTo>
                <a:lnTo>
                  <a:pt x="24299" y="20200"/>
                </a:lnTo>
                <a:lnTo>
                  <a:pt x="24299" y="1400"/>
                </a:lnTo>
                <a:close/>
              </a:path>
              <a:path fill="darkenLess" w="25699" h="21600">
                <a:moveTo>
                  <a:pt x="25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99" y="20200"/>
                </a:lnTo>
                <a:close/>
              </a:path>
              <a:path fill="lighten" w="25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594-B0B6-4745-A6FF-72203638BC9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Sonidos poliarmó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706-863C-4803-8A7B-D7C160360B28}" type="slidenum">
              <a:t>64</a:t>
            </a:fld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754200" y="20314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demos combinar varias senoides en dos situaciones: soni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oliarmón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armó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A87-0B4F-40AF-8E1F-812E47CF94F0}" type="slidenum">
              <a:t>65</a:t>
            </a:fld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754200" y="7246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soni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oliarmón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tienen una cantidad de tonos puros de frecuenci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últipl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da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1276200" y="3833640"/>
                <a:ext cx="659304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7" name=""/>
          <p:cNvSpPr/>
          <p:nvPr/>
        </p:nvSpPr>
        <p:spPr>
          <a:xfrm>
            <a:off x="5994360" y="3860640"/>
            <a:ext cx="434880" cy="449280"/>
          </a:xfrm>
          <a:custGeom>
            <a:avLst/>
            <a:gdLst/>
            <a:ahLst/>
            <a:rect l="l" t="t" r="r" b="b"/>
            <a:pathLst>
              <a:path w="274" h="283">
                <a:moveTo>
                  <a:pt x="0" y="283"/>
                </a:moveTo>
                <a:lnTo>
                  <a:pt x="0" y="0"/>
                </a:lnTo>
                <a:lnTo>
                  <a:pt x="274" y="0"/>
                </a:ln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375240" y="35384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Frecuencia 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rot="16200000">
            <a:off x="5873760" y="4821120"/>
            <a:ext cx="101520" cy="546120"/>
          </a:xfrm>
          <a:custGeom>
            <a:avLst/>
            <a:gdLst>
              <a:gd name="textAreaLeft" fmla="*/ 64800 w 101520"/>
              <a:gd name="textAreaRight" fmla="*/ 101880 w 101520"/>
              <a:gd name="textAreaTop" fmla="*/ 14040 h 546120"/>
              <a:gd name="textAreaBottom" fmla="*/ 532080 h 5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099040" y="5267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Armónico </a:t>
            </a:r>
            <a:r>
              <a:rPr b="1" i="1" lang="es-ES_tradnl" sz="18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D30-342C-4C3B-9C70-4AD883632487}" type="slidenum">
              <a:t>66</a:t>
            </a:fld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577800" y="1434960"/>
            <a:ext cx="7988040" cy="3997080"/>
            <a:chOff x="577800" y="1434960"/>
            <a:chExt cx="7988040" cy="3997080"/>
          </a:xfrm>
        </p:grpSpPr>
        <p:grpSp>
          <p:nvGrpSpPr>
            <p:cNvPr id="1703" name=""/>
            <p:cNvGrpSpPr/>
            <p:nvPr/>
          </p:nvGrpSpPr>
          <p:grpSpPr>
            <a:xfrm>
              <a:off x="577800" y="1434960"/>
              <a:ext cx="7988040" cy="1906200"/>
              <a:chOff x="577800" y="1434960"/>
              <a:chExt cx="7988040" cy="1906200"/>
            </a:xfrm>
          </p:grpSpPr>
          <p:sp>
            <p:nvSpPr>
              <p:cNvPr id="1704" name=""/>
              <p:cNvSpPr/>
              <p:nvPr/>
            </p:nvSpPr>
            <p:spPr>
              <a:xfrm>
                <a:off x="968400" y="2997000"/>
                <a:ext cx="10620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659560" y="2997000"/>
                <a:ext cx="4726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239640" y="2997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091720" y="2997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967400" y="2997000"/>
                <a:ext cx="5785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398840" y="2997000"/>
                <a:ext cx="57924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826320" y="2997000"/>
                <a:ext cx="57924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00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031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246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461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67748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891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106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321400" y="2910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274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517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60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3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246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4901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732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975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218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461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7036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947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1896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33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6774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9186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16348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4043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6491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891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134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377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620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8641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106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35012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59240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83576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078040" y="2910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1031400" y="2910600"/>
                <a:ext cx="72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68240" y="2096280"/>
                <a:ext cx="10512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77800" y="2557080"/>
                <a:ext cx="33228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0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23160" y="1635840"/>
                <a:ext cx="2638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934920" y="263412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934920" y="217332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>
                <a:off x="934920" y="171216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984600" y="29106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984600" y="28188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984600" y="27259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984600" y="26341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>
                <a:off x="984600" y="25419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>
                <a:off x="984600" y="24494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984600" y="235728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984600" y="22647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984600" y="21733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984600" y="20808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984600" y="19879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984600" y="189612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984600" y="18032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984600" y="17121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984600" y="161928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984600" y="15267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984600" y="14349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031400" y="1443240"/>
                <a:ext cx="7292160" cy="1451520"/>
              </a:xfrm>
              <a:custGeom>
                <a:avLst/>
                <a:gdLst/>
                <a:ahLst/>
                <a:rect l="l" t="t" r="r" b="b"/>
                <a:pathLst>
                  <a:path w="6380" h="2363">
                    <a:moveTo>
                      <a:pt x="0" y="1188"/>
                    </a:moveTo>
                    <a:lnTo>
                      <a:pt x="48" y="672"/>
                    </a:lnTo>
                    <a:lnTo>
                      <a:pt x="97" y="266"/>
                    </a:lnTo>
                    <a:lnTo>
                      <a:pt x="145" y="41"/>
                    </a:lnTo>
                    <a:lnTo>
                      <a:pt x="193" y="8"/>
                    </a:lnTo>
                    <a:lnTo>
                      <a:pt x="241" y="122"/>
                    </a:lnTo>
                    <a:lnTo>
                      <a:pt x="289" y="300"/>
                    </a:lnTo>
                    <a:lnTo>
                      <a:pt x="338" y="463"/>
                    </a:lnTo>
                    <a:lnTo>
                      <a:pt x="386" y="558"/>
                    </a:lnTo>
                    <a:lnTo>
                      <a:pt x="434" y="578"/>
                    </a:lnTo>
                    <a:lnTo>
                      <a:pt x="482" y="555"/>
                    </a:lnTo>
                    <a:lnTo>
                      <a:pt x="530" y="537"/>
                    </a:lnTo>
                    <a:lnTo>
                      <a:pt x="579" y="562"/>
                    </a:lnTo>
                    <a:lnTo>
                      <a:pt x="627" y="639"/>
                    </a:lnTo>
                    <a:lnTo>
                      <a:pt x="675" y="750"/>
                    </a:lnTo>
                    <a:lnTo>
                      <a:pt x="723" y="861"/>
                    </a:lnTo>
                    <a:lnTo>
                      <a:pt x="772" y="939"/>
                    </a:lnTo>
                    <a:lnTo>
                      <a:pt x="820" y="972"/>
                    </a:lnTo>
                    <a:lnTo>
                      <a:pt x="868" y="975"/>
                    </a:lnTo>
                    <a:lnTo>
                      <a:pt x="916" y="979"/>
                    </a:lnTo>
                    <a:lnTo>
                      <a:pt x="964" y="1010"/>
                    </a:lnTo>
                    <a:lnTo>
                      <a:pt x="1013" y="1081"/>
                    </a:lnTo>
                    <a:lnTo>
                      <a:pt x="1061" y="1183"/>
                    </a:lnTo>
                    <a:lnTo>
                      <a:pt x="1109" y="1285"/>
                    </a:lnTo>
                    <a:lnTo>
                      <a:pt x="1157" y="1360"/>
                    </a:lnTo>
                    <a:lnTo>
                      <a:pt x="1205" y="1395"/>
                    </a:lnTo>
                    <a:lnTo>
                      <a:pt x="1254" y="1400"/>
                    </a:lnTo>
                    <a:lnTo>
                      <a:pt x="1302" y="1402"/>
                    </a:lnTo>
                    <a:lnTo>
                      <a:pt x="1350" y="1432"/>
                    </a:lnTo>
                    <a:lnTo>
                      <a:pt x="1398" y="1504"/>
                    </a:lnTo>
                    <a:lnTo>
                      <a:pt x="1446" y="1613"/>
                    </a:lnTo>
                    <a:lnTo>
                      <a:pt x="1495" y="1726"/>
                    </a:lnTo>
                    <a:lnTo>
                      <a:pt x="1543" y="1809"/>
                    </a:lnTo>
                    <a:lnTo>
                      <a:pt x="1591" y="1838"/>
                    </a:lnTo>
                    <a:lnTo>
                      <a:pt x="1639" y="1823"/>
                    </a:lnTo>
                    <a:lnTo>
                      <a:pt x="1687" y="1799"/>
                    </a:lnTo>
                    <a:lnTo>
                      <a:pt x="1736" y="1812"/>
                    </a:lnTo>
                    <a:lnTo>
                      <a:pt x="1784" y="1899"/>
                    </a:lnTo>
                    <a:lnTo>
                      <a:pt x="1832" y="2057"/>
                    </a:lnTo>
                    <a:lnTo>
                      <a:pt x="1880" y="2238"/>
                    </a:lnTo>
                    <a:lnTo>
                      <a:pt x="1929" y="2361"/>
                    </a:lnTo>
                    <a:lnTo>
                      <a:pt x="1977" y="2346"/>
                    </a:lnTo>
                    <a:lnTo>
                      <a:pt x="2025" y="2141"/>
                    </a:lnTo>
                    <a:lnTo>
                      <a:pt x="2073" y="1750"/>
                    </a:lnTo>
                    <a:lnTo>
                      <a:pt x="2121" y="1240"/>
                    </a:lnTo>
                    <a:lnTo>
                      <a:pt x="2170" y="720"/>
                    </a:lnTo>
                    <a:lnTo>
                      <a:pt x="2218" y="299"/>
                    </a:lnTo>
                    <a:lnTo>
                      <a:pt x="2266" y="54"/>
                    </a:lnTo>
                    <a:lnTo>
                      <a:pt x="2314" y="4"/>
                    </a:lnTo>
                    <a:lnTo>
                      <a:pt x="2362" y="106"/>
                    </a:lnTo>
                    <a:lnTo>
                      <a:pt x="2411" y="282"/>
                    </a:lnTo>
                    <a:lnTo>
                      <a:pt x="2459" y="449"/>
                    </a:lnTo>
                    <a:lnTo>
                      <a:pt x="2507" y="552"/>
                    </a:lnTo>
                    <a:lnTo>
                      <a:pt x="2555" y="579"/>
                    </a:lnTo>
                    <a:lnTo>
                      <a:pt x="2604" y="558"/>
                    </a:lnTo>
                    <a:lnTo>
                      <a:pt x="2652" y="537"/>
                    </a:lnTo>
                    <a:lnTo>
                      <a:pt x="2700" y="556"/>
                    </a:lnTo>
                    <a:lnTo>
                      <a:pt x="2748" y="629"/>
                    </a:lnTo>
                    <a:lnTo>
                      <a:pt x="2796" y="739"/>
                    </a:lnTo>
                    <a:lnTo>
                      <a:pt x="2845" y="851"/>
                    </a:lnTo>
                    <a:lnTo>
                      <a:pt x="2893" y="933"/>
                    </a:lnTo>
                    <a:lnTo>
                      <a:pt x="2941" y="970"/>
                    </a:lnTo>
                    <a:lnTo>
                      <a:pt x="2989" y="975"/>
                    </a:lnTo>
                    <a:lnTo>
                      <a:pt x="3037" y="976"/>
                    </a:lnTo>
                    <a:lnTo>
                      <a:pt x="3086" y="1004"/>
                    </a:lnTo>
                    <a:lnTo>
                      <a:pt x="3134" y="1072"/>
                    </a:lnTo>
                    <a:lnTo>
                      <a:pt x="3182" y="1171"/>
                    </a:lnTo>
                    <a:lnTo>
                      <a:pt x="3230" y="1275"/>
                    </a:lnTo>
                    <a:lnTo>
                      <a:pt x="3279" y="1354"/>
                    </a:lnTo>
                    <a:lnTo>
                      <a:pt x="3327" y="1394"/>
                    </a:lnTo>
                    <a:lnTo>
                      <a:pt x="3375" y="1401"/>
                    </a:lnTo>
                    <a:lnTo>
                      <a:pt x="3423" y="1401"/>
                    </a:lnTo>
                    <a:lnTo>
                      <a:pt x="3471" y="1427"/>
                    </a:lnTo>
                    <a:lnTo>
                      <a:pt x="3520" y="1496"/>
                    </a:lnTo>
                    <a:lnTo>
                      <a:pt x="3568" y="1601"/>
                    </a:lnTo>
                    <a:lnTo>
                      <a:pt x="3616" y="1715"/>
                    </a:lnTo>
                    <a:lnTo>
                      <a:pt x="3664" y="1802"/>
                    </a:lnTo>
                    <a:lnTo>
                      <a:pt x="3712" y="1838"/>
                    </a:lnTo>
                    <a:lnTo>
                      <a:pt x="3761" y="1825"/>
                    </a:lnTo>
                    <a:lnTo>
                      <a:pt x="3809" y="1800"/>
                    </a:lnTo>
                    <a:lnTo>
                      <a:pt x="3857" y="1809"/>
                    </a:lnTo>
                    <a:lnTo>
                      <a:pt x="3905" y="1887"/>
                    </a:lnTo>
                    <a:lnTo>
                      <a:pt x="3953" y="2039"/>
                    </a:lnTo>
                    <a:lnTo>
                      <a:pt x="4002" y="2220"/>
                    </a:lnTo>
                    <a:lnTo>
                      <a:pt x="4050" y="2353"/>
                    </a:lnTo>
                    <a:lnTo>
                      <a:pt x="4098" y="2356"/>
                    </a:lnTo>
                    <a:lnTo>
                      <a:pt x="4146" y="2170"/>
                    </a:lnTo>
                    <a:lnTo>
                      <a:pt x="4195" y="1795"/>
                    </a:lnTo>
                    <a:lnTo>
                      <a:pt x="4243" y="1294"/>
                    </a:lnTo>
                    <a:lnTo>
                      <a:pt x="4291" y="770"/>
                    </a:lnTo>
                    <a:lnTo>
                      <a:pt x="4339" y="335"/>
                    </a:lnTo>
                    <a:lnTo>
                      <a:pt x="4386" y="70"/>
                    </a:lnTo>
                    <a:lnTo>
                      <a:pt x="4436" y="0"/>
                    </a:lnTo>
                    <a:lnTo>
                      <a:pt x="4484" y="91"/>
                    </a:lnTo>
                    <a:lnTo>
                      <a:pt x="4532" y="263"/>
                    </a:lnTo>
                    <a:lnTo>
                      <a:pt x="4579" y="435"/>
                    </a:lnTo>
                    <a:lnTo>
                      <a:pt x="4627" y="545"/>
                    </a:lnTo>
                    <a:lnTo>
                      <a:pt x="4677" y="579"/>
                    </a:lnTo>
                    <a:lnTo>
                      <a:pt x="4725" y="561"/>
                    </a:lnTo>
                    <a:lnTo>
                      <a:pt x="4772" y="539"/>
                    </a:lnTo>
                    <a:lnTo>
                      <a:pt x="4820" y="552"/>
                    </a:lnTo>
                    <a:lnTo>
                      <a:pt x="4868" y="620"/>
                    </a:lnTo>
                    <a:lnTo>
                      <a:pt x="4917" y="727"/>
                    </a:lnTo>
                    <a:lnTo>
                      <a:pt x="4965" y="840"/>
                    </a:lnTo>
                    <a:lnTo>
                      <a:pt x="5013" y="926"/>
                    </a:lnTo>
                    <a:lnTo>
                      <a:pt x="5061" y="969"/>
                    </a:lnTo>
                    <a:lnTo>
                      <a:pt x="5110" y="975"/>
                    </a:lnTo>
                    <a:lnTo>
                      <a:pt x="5158" y="976"/>
                    </a:lnTo>
                    <a:lnTo>
                      <a:pt x="5206" y="1000"/>
                    </a:lnTo>
                    <a:lnTo>
                      <a:pt x="5254" y="1064"/>
                    </a:lnTo>
                    <a:lnTo>
                      <a:pt x="5302" y="1161"/>
                    </a:lnTo>
                    <a:lnTo>
                      <a:pt x="5351" y="1265"/>
                    </a:lnTo>
                    <a:lnTo>
                      <a:pt x="5399" y="1349"/>
                    </a:lnTo>
                    <a:lnTo>
                      <a:pt x="5447" y="1392"/>
                    </a:lnTo>
                    <a:lnTo>
                      <a:pt x="5495" y="1401"/>
                    </a:lnTo>
                    <a:lnTo>
                      <a:pt x="5543" y="1401"/>
                    </a:lnTo>
                    <a:lnTo>
                      <a:pt x="5592" y="1422"/>
                    </a:lnTo>
                    <a:lnTo>
                      <a:pt x="5640" y="1487"/>
                    </a:lnTo>
                    <a:lnTo>
                      <a:pt x="5688" y="1589"/>
                    </a:lnTo>
                    <a:lnTo>
                      <a:pt x="5736" y="1705"/>
                    </a:lnTo>
                    <a:lnTo>
                      <a:pt x="5784" y="1795"/>
                    </a:lnTo>
                    <a:lnTo>
                      <a:pt x="5833" y="1836"/>
                    </a:lnTo>
                    <a:lnTo>
                      <a:pt x="5881" y="1828"/>
                    </a:lnTo>
                    <a:lnTo>
                      <a:pt x="5929" y="1802"/>
                    </a:lnTo>
                    <a:lnTo>
                      <a:pt x="5977" y="1804"/>
                    </a:lnTo>
                    <a:lnTo>
                      <a:pt x="6026" y="1875"/>
                    </a:lnTo>
                    <a:lnTo>
                      <a:pt x="6074" y="2021"/>
                    </a:lnTo>
                    <a:lnTo>
                      <a:pt x="6122" y="2203"/>
                    </a:lnTo>
                    <a:lnTo>
                      <a:pt x="6170" y="2346"/>
                    </a:lnTo>
                    <a:lnTo>
                      <a:pt x="6218" y="2363"/>
                    </a:lnTo>
                    <a:lnTo>
                      <a:pt x="6267" y="2197"/>
                    </a:lnTo>
                    <a:lnTo>
                      <a:pt x="6315" y="1840"/>
                    </a:lnTo>
                    <a:lnTo>
                      <a:pt x="6363" y="1347"/>
                    </a:lnTo>
                    <a:lnTo>
                      <a:pt x="6380" y="11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031400" y="1434960"/>
                <a:ext cx="7292160" cy="1475640"/>
              </a:xfrm>
              <a:custGeom>
                <a:avLst/>
                <a:gdLst/>
                <a:ahLst/>
                <a:rect l="l" t="t" r="r" b="b"/>
                <a:pathLst>
                  <a:path w="6380" h="2403">
                    <a:moveTo>
                      <a:pt x="0" y="240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380" y="0"/>
                    </a:lnTo>
                    <a:lnTo>
                      <a:pt x="6380" y="2403"/>
                    </a:lnTo>
                    <a:lnTo>
                      <a:pt x="6380" y="2403"/>
                    </a:lnTo>
                    <a:lnTo>
                      <a:pt x="0" y="24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>
                <a:off x="1031400" y="1434960"/>
                <a:ext cx="72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037160" y="2171880"/>
                <a:ext cx="728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338000" y="3180960"/>
                <a:ext cx="43776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  (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623160" y="3410280"/>
              <a:ext cx="7700040" cy="2021760"/>
              <a:chOff x="623160" y="3410280"/>
              <a:chExt cx="7700040" cy="2021760"/>
            </a:xfrm>
          </p:grpSpPr>
          <p:sp>
            <p:nvSpPr>
              <p:cNvPr id="1777" name=""/>
              <p:cNvSpPr/>
              <p:nvPr/>
            </p:nvSpPr>
            <p:spPr>
              <a:xfrm>
                <a:off x="968400" y="5049000"/>
                <a:ext cx="10620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26800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73680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19876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66144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530720" y="5049000"/>
                <a:ext cx="4726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99844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46364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92884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7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395120" y="5049000"/>
                <a:ext cx="4741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9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03104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76508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4966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2292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9618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46944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42592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1596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9112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624800" y="4962600"/>
                <a:ext cx="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3968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76508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13084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4966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8623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2292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59604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9618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3275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6944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0601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42592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7927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1596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52536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89112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25688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62480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990920" y="4962600"/>
                <a:ext cx="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1031040" y="4962600"/>
                <a:ext cx="729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67160" y="4886280"/>
                <a:ext cx="10620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23160" y="4295520"/>
                <a:ext cx="26388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23160" y="3705480"/>
                <a:ext cx="26388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40440" y="4590720"/>
                <a:ext cx="263520" cy="2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23160" y="4001040"/>
                <a:ext cx="2638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23160" y="3410280"/>
                <a:ext cx="26388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934560" y="496260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934560" y="466704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934560" y="437256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934560" y="407664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934560" y="378180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934560" y="3486600"/>
                <a:ext cx="9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984240" y="49626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984240" y="48153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984240" y="46670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984240" y="45198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>
                <a:off x="984240" y="43725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984240" y="42246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984240" y="40766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984240" y="392904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984240" y="37818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984240" y="363456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984240" y="3486600"/>
                <a:ext cx="4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1031040" y="3523320"/>
                <a:ext cx="7292160" cy="1438560"/>
              </a:xfrm>
              <a:custGeom>
                <a:avLst/>
                <a:gdLst/>
                <a:ahLst/>
                <a:rect l="l" t="t" r="r" b="b"/>
                <a:pathLst>
                  <a:path w="6380" h="2342">
                    <a:moveTo>
                      <a:pt x="0" y="2334"/>
                    </a:moveTo>
                    <a:lnTo>
                      <a:pt x="7" y="2334"/>
                    </a:lnTo>
                    <a:lnTo>
                      <a:pt x="14" y="2334"/>
                    </a:lnTo>
                    <a:lnTo>
                      <a:pt x="21" y="2334"/>
                    </a:lnTo>
                    <a:lnTo>
                      <a:pt x="28" y="2334"/>
                    </a:lnTo>
                    <a:lnTo>
                      <a:pt x="35" y="2334"/>
                    </a:lnTo>
                    <a:lnTo>
                      <a:pt x="41" y="2334"/>
                    </a:lnTo>
                    <a:lnTo>
                      <a:pt x="48" y="2334"/>
                    </a:lnTo>
                    <a:lnTo>
                      <a:pt x="56" y="2334"/>
                    </a:lnTo>
                    <a:lnTo>
                      <a:pt x="63" y="2334"/>
                    </a:lnTo>
                    <a:lnTo>
                      <a:pt x="69" y="2334"/>
                    </a:lnTo>
                    <a:lnTo>
                      <a:pt x="76" y="2334"/>
                    </a:lnTo>
                    <a:lnTo>
                      <a:pt x="83" y="2334"/>
                    </a:lnTo>
                    <a:lnTo>
                      <a:pt x="90" y="2334"/>
                    </a:lnTo>
                    <a:lnTo>
                      <a:pt x="97" y="2334"/>
                    </a:lnTo>
                    <a:lnTo>
                      <a:pt x="104" y="2334"/>
                    </a:lnTo>
                    <a:lnTo>
                      <a:pt x="111" y="2334"/>
                    </a:lnTo>
                    <a:lnTo>
                      <a:pt x="117" y="2334"/>
                    </a:lnTo>
                    <a:lnTo>
                      <a:pt x="124" y="2334"/>
                    </a:lnTo>
                    <a:lnTo>
                      <a:pt x="132" y="2334"/>
                    </a:lnTo>
                    <a:lnTo>
                      <a:pt x="138" y="2334"/>
                    </a:lnTo>
                    <a:lnTo>
                      <a:pt x="145" y="2334"/>
                    </a:lnTo>
                    <a:lnTo>
                      <a:pt x="152" y="2334"/>
                    </a:lnTo>
                    <a:lnTo>
                      <a:pt x="159" y="2334"/>
                    </a:lnTo>
                    <a:lnTo>
                      <a:pt x="166" y="2334"/>
                    </a:lnTo>
                    <a:lnTo>
                      <a:pt x="173" y="2334"/>
                    </a:lnTo>
                    <a:lnTo>
                      <a:pt x="180" y="2334"/>
                    </a:lnTo>
                    <a:lnTo>
                      <a:pt x="186" y="2334"/>
                    </a:lnTo>
                    <a:lnTo>
                      <a:pt x="193" y="2334"/>
                    </a:lnTo>
                    <a:lnTo>
                      <a:pt x="201" y="2334"/>
                    </a:lnTo>
                    <a:lnTo>
                      <a:pt x="208" y="2334"/>
                    </a:lnTo>
                    <a:lnTo>
                      <a:pt x="214" y="2334"/>
                    </a:lnTo>
                    <a:lnTo>
                      <a:pt x="221" y="2334"/>
                    </a:lnTo>
                    <a:lnTo>
                      <a:pt x="228" y="2334"/>
                    </a:lnTo>
                    <a:lnTo>
                      <a:pt x="234" y="2334"/>
                    </a:lnTo>
                    <a:lnTo>
                      <a:pt x="242" y="2334"/>
                    </a:lnTo>
                    <a:lnTo>
                      <a:pt x="249" y="2334"/>
                    </a:lnTo>
                    <a:lnTo>
                      <a:pt x="256" y="2333"/>
                    </a:lnTo>
                    <a:lnTo>
                      <a:pt x="262" y="2333"/>
                    </a:lnTo>
                    <a:lnTo>
                      <a:pt x="269" y="2333"/>
                    </a:lnTo>
                    <a:lnTo>
                      <a:pt x="277" y="2333"/>
                    </a:lnTo>
                    <a:lnTo>
                      <a:pt x="283" y="2333"/>
                    </a:lnTo>
                    <a:lnTo>
                      <a:pt x="290" y="2333"/>
                    </a:lnTo>
                    <a:lnTo>
                      <a:pt x="297" y="2333"/>
                    </a:lnTo>
                    <a:lnTo>
                      <a:pt x="304" y="2333"/>
                    </a:lnTo>
                    <a:lnTo>
                      <a:pt x="310" y="2333"/>
                    </a:lnTo>
                    <a:lnTo>
                      <a:pt x="318" y="2333"/>
                    </a:lnTo>
                    <a:lnTo>
                      <a:pt x="325" y="2333"/>
                    </a:lnTo>
                    <a:lnTo>
                      <a:pt x="331" y="2333"/>
                    </a:lnTo>
                    <a:lnTo>
                      <a:pt x="338" y="2332"/>
                    </a:lnTo>
                    <a:lnTo>
                      <a:pt x="345" y="2332"/>
                    </a:lnTo>
                    <a:lnTo>
                      <a:pt x="353" y="2332"/>
                    </a:lnTo>
                    <a:lnTo>
                      <a:pt x="359" y="2332"/>
                    </a:lnTo>
                    <a:lnTo>
                      <a:pt x="366" y="2332"/>
                    </a:lnTo>
                    <a:lnTo>
                      <a:pt x="373" y="2332"/>
                    </a:lnTo>
                    <a:lnTo>
                      <a:pt x="379" y="2332"/>
                    </a:lnTo>
                    <a:lnTo>
                      <a:pt x="387" y="2331"/>
                    </a:lnTo>
                    <a:lnTo>
                      <a:pt x="394" y="2331"/>
                    </a:lnTo>
                    <a:lnTo>
                      <a:pt x="401" y="2331"/>
                    </a:lnTo>
                    <a:lnTo>
                      <a:pt x="407" y="2331"/>
                    </a:lnTo>
                    <a:lnTo>
                      <a:pt x="414" y="2331"/>
                    </a:lnTo>
                    <a:lnTo>
                      <a:pt x="421" y="2330"/>
                    </a:lnTo>
                    <a:lnTo>
                      <a:pt x="428" y="2330"/>
                    </a:lnTo>
                    <a:lnTo>
                      <a:pt x="435" y="2330"/>
                    </a:lnTo>
                    <a:lnTo>
                      <a:pt x="442" y="2330"/>
                    </a:lnTo>
                    <a:lnTo>
                      <a:pt x="449" y="2329"/>
                    </a:lnTo>
                    <a:lnTo>
                      <a:pt x="455" y="2329"/>
                    </a:lnTo>
                    <a:lnTo>
                      <a:pt x="463" y="2329"/>
                    </a:lnTo>
                    <a:lnTo>
                      <a:pt x="470" y="2328"/>
                    </a:lnTo>
                    <a:lnTo>
                      <a:pt x="476" y="2328"/>
                    </a:lnTo>
                    <a:lnTo>
                      <a:pt x="483" y="2326"/>
                    </a:lnTo>
                    <a:lnTo>
                      <a:pt x="490" y="2326"/>
                    </a:lnTo>
                    <a:lnTo>
                      <a:pt x="497" y="2325"/>
                    </a:lnTo>
                    <a:lnTo>
                      <a:pt x="504" y="2325"/>
                    </a:lnTo>
                    <a:lnTo>
                      <a:pt x="511" y="2324"/>
                    </a:lnTo>
                    <a:lnTo>
                      <a:pt x="518" y="2323"/>
                    </a:lnTo>
                    <a:lnTo>
                      <a:pt x="524" y="2323"/>
                    </a:lnTo>
                    <a:lnTo>
                      <a:pt x="531" y="2322"/>
                    </a:lnTo>
                    <a:lnTo>
                      <a:pt x="539" y="2321"/>
                    </a:lnTo>
                    <a:lnTo>
                      <a:pt x="546" y="2319"/>
                    </a:lnTo>
                    <a:lnTo>
                      <a:pt x="552" y="2318"/>
                    </a:lnTo>
                    <a:lnTo>
                      <a:pt x="559" y="2315"/>
                    </a:lnTo>
                    <a:lnTo>
                      <a:pt x="566" y="2313"/>
                    </a:lnTo>
                    <a:lnTo>
                      <a:pt x="574" y="2311"/>
                    </a:lnTo>
                    <a:lnTo>
                      <a:pt x="580" y="2307"/>
                    </a:lnTo>
                    <a:lnTo>
                      <a:pt x="587" y="2304"/>
                    </a:lnTo>
                    <a:lnTo>
                      <a:pt x="594" y="2299"/>
                    </a:lnTo>
                    <a:lnTo>
                      <a:pt x="600" y="2292"/>
                    </a:lnTo>
                    <a:lnTo>
                      <a:pt x="607" y="2282"/>
                    </a:lnTo>
                    <a:lnTo>
                      <a:pt x="615" y="2267"/>
                    </a:lnTo>
                    <a:lnTo>
                      <a:pt x="621" y="2242"/>
                    </a:lnTo>
                    <a:lnTo>
                      <a:pt x="628" y="2189"/>
                    </a:lnTo>
                    <a:lnTo>
                      <a:pt x="635" y="2019"/>
                    </a:lnTo>
                    <a:lnTo>
                      <a:pt x="642" y="0"/>
                    </a:lnTo>
                    <a:lnTo>
                      <a:pt x="649" y="2094"/>
                    </a:lnTo>
                    <a:lnTo>
                      <a:pt x="656" y="2213"/>
                    </a:lnTo>
                    <a:lnTo>
                      <a:pt x="663" y="2255"/>
                    </a:lnTo>
                    <a:lnTo>
                      <a:pt x="669" y="2277"/>
                    </a:lnTo>
                    <a:lnTo>
                      <a:pt x="676" y="2291"/>
                    </a:lnTo>
                    <a:lnTo>
                      <a:pt x="683" y="2300"/>
                    </a:lnTo>
                    <a:lnTo>
                      <a:pt x="691" y="2305"/>
                    </a:lnTo>
                    <a:lnTo>
                      <a:pt x="697" y="2311"/>
                    </a:lnTo>
                    <a:lnTo>
                      <a:pt x="704" y="2314"/>
                    </a:lnTo>
                    <a:lnTo>
                      <a:pt x="711" y="2318"/>
                    </a:lnTo>
                    <a:lnTo>
                      <a:pt x="717" y="2320"/>
                    </a:lnTo>
                    <a:lnTo>
                      <a:pt x="725" y="2322"/>
                    </a:lnTo>
                    <a:lnTo>
                      <a:pt x="732" y="2323"/>
                    </a:lnTo>
                    <a:lnTo>
                      <a:pt x="739" y="2325"/>
                    </a:lnTo>
                    <a:lnTo>
                      <a:pt x="745" y="2326"/>
                    </a:lnTo>
                    <a:lnTo>
                      <a:pt x="752" y="2328"/>
                    </a:lnTo>
                    <a:lnTo>
                      <a:pt x="760" y="2329"/>
                    </a:lnTo>
                    <a:lnTo>
                      <a:pt x="767" y="2329"/>
                    </a:lnTo>
                    <a:lnTo>
                      <a:pt x="773" y="2330"/>
                    </a:lnTo>
                    <a:lnTo>
                      <a:pt x="780" y="2331"/>
                    </a:lnTo>
                    <a:lnTo>
                      <a:pt x="787" y="2331"/>
                    </a:lnTo>
                    <a:lnTo>
                      <a:pt x="793" y="2332"/>
                    </a:lnTo>
                    <a:lnTo>
                      <a:pt x="801" y="2332"/>
                    </a:lnTo>
                    <a:lnTo>
                      <a:pt x="808" y="2332"/>
                    </a:lnTo>
                    <a:lnTo>
                      <a:pt x="814" y="2333"/>
                    </a:lnTo>
                    <a:lnTo>
                      <a:pt x="821" y="2333"/>
                    </a:lnTo>
                    <a:lnTo>
                      <a:pt x="828" y="2333"/>
                    </a:lnTo>
                    <a:lnTo>
                      <a:pt x="836" y="2334"/>
                    </a:lnTo>
                    <a:lnTo>
                      <a:pt x="842" y="2334"/>
                    </a:lnTo>
                    <a:lnTo>
                      <a:pt x="849" y="2334"/>
                    </a:lnTo>
                    <a:lnTo>
                      <a:pt x="856" y="2334"/>
                    </a:lnTo>
                    <a:lnTo>
                      <a:pt x="862" y="2334"/>
                    </a:lnTo>
                    <a:lnTo>
                      <a:pt x="870" y="2334"/>
                    </a:lnTo>
                    <a:lnTo>
                      <a:pt x="877" y="2334"/>
                    </a:lnTo>
                    <a:lnTo>
                      <a:pt x="884" y="2335"/>
                    </a:lnTo>
                    <a:lnTo>
                      <a:pt x="890" y="2335"/>
                    </a:lnTo>
                    <a:lnTo>
                      <a:pt x="897" y="2335"/>
                    </a:lnTo>
                    <a:lnTo>
                      <a:pt x="904" y="2335"/>
                    </a:lnTo>
                    <a:lnTo>
                      <a:pt x="912" y="2335"/>
                    </a:lnTo>
                    <a:lnTo>
                      <a:pt x="918" y="2335"/>
                    </a:lnTo>
                    <a:lnTo>
                      <a:pt x="925" y="2335"/>
                    </a:lnTo>
                    <a:lnTo>
                      <a:pt x="932" y="2335"/>
                    </a:lnTo>
                    <a:lnTo>
                      <a:pt x="938" y="2335"/>
                    </a:lnTo>
                    <a:lnTo>
                      <a:pt x="946" y="2335"/>
                    </a:lnTo>
                    <a:lnTo>
                      <a:pt x="953" y="2335"/>
                    </a:lnTo>
                    <a:lnTo>
                      <a:pt x="960" y="2335"/>
                    </a:lnTo>
                    <a:lnTo>
                      <a:pt x="966" y="2335"/>
                    </a:lnTo>
                    <a:lnTo>
                      <a:pt x="973" y="2335"/>
                    </a:lnTo>
                    <a:lnTo>
                      <a:pt x="980" y="2335"/>
                    </a:lnTo>
                    <a:lnTo>
                      <a:pt x="987" y="2334"/>
                    </a:lnTo>
                    <a:lnTo>
                      <a:pt x="994" y="2334"/>
                    </a:lnTo>
                    <a:lnTo>
                      <a:pt x="1001" y="2334"/>
                    </a:lnTo>
                    <a:lnTo>
                      <a:pt x="1007" y="2334"/>
                    </a:lnTo>
                    <a:lnTo>
                      <a:pt x="1014" y="2334"/>
                    </a:lnTo>
                    <a:lnTo>
                      <a:pt x="1022" y="2334"/>
                    </a:lnTo>
                    <a:lnTo>
                      <a:pt x="1029" y="2334"/>
                    </a:lnTo>
                    <a:lnTo>
                      <a:pt x="1035" y="2334"/>
                    </a:lnTo>
                    <a:lnTo>
                      <a:pt x="1042" y="2333"/>
                    </a:lnTo>
                    <a:lnTo>
                      <a:pt x="1049" y="2333"/>
                    </a:lnTo>
                    <a:lnTo>
                      <a:pt x="1057" y="2333"/>
                    </a:lnTo>
                    <a:lnTo>
                      <a:pt x="1063" y="2333"/>
                    </a:lnTo>
                    <a:lnTo>
                      <a:pt x="1070" y="2333"/>
                    </a:lnTo>
                    <a:lnTo>
                      <a:pt x="1077" y="2332"/>
                    </a:lnTo>
                    <a:lnTo>
                      <a:pt x="1083" y="2332"/>
                    </a:lnTo>
                    <a:lnTo>
                      <a:pt x="1090" y="2332"/>
                    </a:lnTo>
                    <a:lnTo>
                      <a:pt x="1098" y="2332"/>
                    </a:lnTo>
                    <a:lnTo>
                      <a:pt x="1105" y="2331"/>
                    </a:lnTo>
                    <a:lnTo>
                      <a:pt x="1111" y="2331"/>
                    </a:lnTo>
                    <a:lnTo>
                      <a:pt x="1118" y="2331"/>
                    </a:lnTo>
                    <a:lnTo>
                      <a:pt x="1125" y="2330"/>
                    </a:lnTo>
                    <a:lnTo>
                      <a:pt x="1132" y="2330"/>
                    </a:lnTo>
                    <a:lnTo>
                      <a:pt x="1139" y="2329"/>
                    </a:lnTo>
                    <a:lnTo>
                      <a:pt x="1146" y="2329"/>
                    </a:lnTo>
                    <a:lnTo>
                      <a:pt x="1152" y="2328"/>
                    </a:lnTo>
                    <a:lnTo>
                      <a:pt x="1159" y="2326"/>
                    </a:lnTo>
                    <a:lnTo>
                      <a:pt x="1166" y="2325"/>
                    </a:lnTo>
                    <a:lnTo>
                      <a:pt x="1174" y="2325"/>
                    </a:lnTo>
                    <a:lnTo>
                      <a:pt x="1180" y="2324"/>
                    </a:lnTo>
                    <a:lnTo>
                      <a:pt x="1187" y="2322"/>
                    </a:lnTo>
                    <a:lnTo>
                      <a:pt x="1194" y="2321"/>
                    </a:lnTo>
                    <a:lnTo>
                      <a:pt x="1200" y="2320"/>
                    </a:lnTo>
                    <a:lnTo>
                      <a:pt x="1208" y="2318"/>
                    </a:lnTo>
                    <a:lnTo>
                      <a:pt x="1215" y="2314"/>
                    </a:lnTo>
                    <a:lnTo>
                      <a:pt x="1222" y="2312"/>
                    </a:lnTo>
                    <a:lnTo>
                      <a:pt x="1228" y="2307"/>
                    </a:lnTo>
                    <a:lnTo>
                      <a:pt x="1235" y="2303"/>
                    </a:lnTo>
                    <a:lnTo>
                      <a:pt x="1243" y="2296"/>
                    </a:lnTo>
                    <a:lnTo>
                      <a:pt x="1250" y="2286"/>
                    </a:lnTo>
                    <a:lnTo>
                      <a:pt x="1256" y="2272"/>
                    </a:lnTo>
                    <a:lnTo>
                      <a:pt x="1263" y="2246"/>
                    </a:lnTo>
                    <a:lnTo>
                      <a:pt x="1270" y="2193"/>
                    </a:lnTo>
                    <a:lnTo>
                      <a:pt x="1276" y="1997"/>
                    </a:lnTo>
                    <a:lnTo>
                      <a:pt x="1284" y="1254"/>
                    </a:lnTo>
                    <a:lnTo>
                      <a:pt x="1291" y="2133"/>
                    </a:lnTo>
                    <a:lnTo>
                      <a:pt x="1298" y="2227"/>
                    </a:lnTo>
                    <a:lnTo>
                      <a:pt x="1304" y="2263"/>
                    </a:lnTo>
                    <a:lnTo>
                      <a:pt x="1311" y="2282"/>
                    </a:lnTo>
                    <a:lnTo>
                      <a:pt x="1319" y="2294"/>
                    </a:lnTo>
                    <a:lnTo>
                      <a:pt x="1325" y="2302"/>
                    </a:lnTo>
                    <a:lnTo>
                      <a:pt x="1332" y="2307"/>
                    </a:lnTo>
                    <a:lnTo>
                      <a:pt x="1339" y="2312"/>
                    </a:lnTo>
                    <a:lnTo>
                      <a:pt x="1345" y="2315"/>
                    </a:lnTo>
                    <a:lnTo>
                      <a:pt x="1352" y="2318"/>
                    </a:lnTo>
                    <a:lnTo>
                      <a:pt x="1360" y="2321"/>
                    </a:lnTo>
                    <a:lnTo>
                      <a:pt x="1367" y="2322"/>
                    </a:lnTo>
                    <a:lnTo>
                      <a:pt x="1373" y="2324"/>
                    </a:lnTo>
                    <a:lnTo>
                      <a:pt x="1380" y="2325"/>
                    </a:lnTo>
                    <a:lnTo>
                      <a:pt x="1387" y="2326"/>
                    </a:lnTo>
                    <a:lnTo>
                      <a:pt x="1395" y="2328"/>
                    </a:lnTo>
                    <a:lnTo>
                      <a:pt x="1401" y="2329"/>
                    </a:lnTo>
                    <a:lnTo>
                      <a:pt x="1408" y="2329"/>
                    </a:lnTo>
                    <a:lnTo>
                      <a:pt x="1415" y="2330"/>
                    </a:lnTo>
                    <a:lnTo>
                      <a:pt x="1421" y="2331"/>
                    </a:lnTo>
                    <a:lnTo>
                      <a:pt x="1429" y="2331"/>
                    </a:lnTo>
                    <a:lnTo>
                      <a:pt x="1436" y="2332"/>
                    </a:lnTo>
                    <a:lnTo>
                      <a:pt x="1443" y="2332"/>
                    </a:lnTo>
                    <a:lnTo>
                      <a:pt x="1449" y="2332"/>
                    </a:lnTo>
                    <a:lnTo>
                      <a:pt x="1456" y="2333"/>
                    </a:lnTo>
                    <a:lnTo>
                      <a:pt x="1463" y="2333"/>
                    </a:lnTo>
                    <a:lnTo>
                      <a:pt x="1470" y="2333"/>
                    </a:lnTo>
                    <a:lnTo>
                      <a:pt x="1477" y="2334"/>
                    </a:lnTo>
                    <a:lnTo>
                      <a:pt x="1484" y="2334"/>
                    </a:lnTo>
                    <a:lnTo>
                      <a:pt x="1491" y="2334"/>
                    </a:lnTo>
                    <a:lnTo>
                      <a:pt x="1497" y="2334"/>
                    </a:lnTo>
                    <a:lnTo>
                      <a:pt x="1505" y="2334"/>
                    </a:lnTo>
                    <a:lnTo>
                      <a:pt x="1512" y="2335"/>
                    </a:lnTo>
                    <a:lnTo>
                      <a:pt x="1518" y="2335"/>
                    </a:lnTo>
                    <a:lnTo>
                      <a:pt x="1525" y="2335"/>
                    </a:lnTo>
                    <a:lnTo>
                      <a:pt x="1532" y="2335"/>
                    </a:lnTo>
                    <a:lnTo>
                      <a:pt x="1540" y="2335"/>
                    </a:lnTo>
                    <a:lnTo>
                      <a:pt x="1546" y="2335"/>
                    </a:lnTo>
                    <a:lnTo>
                      <a:pt x="1553" y="2335"/>
                    </a:lnTo>
                    <a:lnTo>
                      <a:pt x="1560" y="2335"/>
                    </a:lnTo>
                    <a:lnTo>
                      <a:pt x="1566" y="2335"/>
                    </a:lnTo>
                    <a:lnTo>
                      <a:pt x="1573" y="2335"/>
                    </a:lnTo>
                    <a:lnTo>
                      <a:pt x="1581" y="2335"/>
                    </a:lnTo>
                    <a:lnTo>
                      <a:pt x="1588" y="2335"/>
                    </a:lnTo>
                    <a:lnTo>
                      <a:pt x="1594" y="2336"/>
                    </a:lnTo>
                    <a:lnTo>
                      <a:pt x="1601" y="2336"/>
                    </a:lnTo>
                    <a:lnTo>
                      <a:pt x="1608" y="2336"/>
                    </a:lnTo>
                    <a:lnTo>
                      <a:pt x="1615" y="2335"/>
                    </a:lnTo>
                    <a:lnTo>
                      <a:pt x="1622" y="2335"/>
                    </a:lnTo>
                    <a:lnTo>
                      <a:pt x="1629" y="2335"/>
                    </a:lnTo>
                    <a:lnTo>
                      <a:pt x="1636" y="2335"/>
                    </a:lnTo>
                    <a:lnTo>
                      <a:pt x="1642" y="2335"/>
                    </a:lnTo>
                    <a:lnTo>
                      <a:pt x="1649" y="2335"/>
                    </a:lnTo>
                    <a:lnTo>
                      <a:pt x="1657" y="2335"/>
                    </a:lnTo>
                    <a:lnTo>
                      <a:pt x="1663" y="2335"/>
                    </a:lnTo>
                    <a:lnTo>
                      <a:pt x="1670" y="2335"/>
                    </a:lnTo>
                    <a:lnTo>
                      <a:pt x="1677" y="2335"/>
                    </a:lnTo>
                    <a:lnTo>
                      <a:pt x="1683" y="2335"/>
                    </a:lnTo>
                    <a:lnTo>
                      <a:pt x="1691" y="2335"/>
                    </a:lnTo>
                    <a:lnTo>
                      <a:pt x="1698" y="2335"/>
                    </a:lnTo>
                    <a:lnTo>
                      <a:pt x="1705" y="2334"/>
                    </a:lnTo>
                    <a:lnTo>
                      <a:pt x="1711" y="2334"/>
                    </a:lnTo>
                    <a:lnTo>
                      <a:pt x="1718" y="2334"/>
                    </a:lnTo>
                    <a:lnTo>
                      <a:pt x="1726" y="2334"/>
                    </a:lnTo>
                    <a:lnTo>
                      <a:pt x="1733" y="2334"/>
                    </a:lnTo>
                    <a:lnTo>
                      <a:pt x="1739" y="2333"/>
                    </a:lnTo>
                    <a:lnTo>
                      <a:pt x="1746" y="2333"/>
                    </a:lnTo>
                    <a:lnTo>
                      <a:pt x="1753" y="2333"/>
                    </a:lnTo>
                    <a:lnTo>
                      <a:pt x="1759" y="2332"/>
                    </a:lnTo>
                    <a:lnTo>
                      <a:pt x="1767" y="2332"/>
                    </a:lnTo>
                    <a:lnTo>
                      <a:pt x="1774" y="2332"/>
                    </a:lnTo>
                    <a:lnTo>
                      <a:pt x="1781" y="2331"/>
                    </a:lnTo>
                    <a:lnTo>
                      <a:pt x="1787" y="2331"/>
                    </a:lnTo>
                    <a:lnTo>
                      <a:pt x="1794" y="2330"/>
                    </a:lnTo>
                    <a:lnTo>
                      <a:pt x="1802" y="2329"/>
                    </a:lnTo>
                    <a:lnTo>
                      <a:pt x="1808" y="2329"/>
                    </a:lnTo>
                    <a:lnTo>
                      <a:pt x="1815" y="2328"/>
                    </a:lnTo>
                    <a:lnTo>
                      <a:pt x="1822" y="2326"/>
                    </a:lnTo>
                    <a:lnTo>
                      <a:pt x="1829" y="2325"/>
                    </a:lnTo>
                    <a:lnTo>
                      <a:pt x="1835" y="2324"/>
                    </a:lnTo>
                    <a:lnTo>
                      <a:pt x="1843" y="2323"/>
                    </a:lnTo>
                    <a:lnTo>
                      <a:pt x="1850" y="2321"/>
                    </a:lnTo>
                    <a:lnTo>
                      <a:pt x="1856" y="2319"/>
                    </a:lnTo>
                    <a:lnTo>
                      <a:pt x="1863" y="2315"/>
                    </a:lnTo>
                    <a:lnTo>
                      <a:pt x="1870" y="2312"/>
                    </a:lnTo>
                    <a:lnTo>
                      <a:pt x="1878" y="2307"/>
                    </a:lnTo>
                    <a:lnTo>
                      <a:pt x="1884" y="2302"/>
                    </a:lnTo>
                    <a:lnTo>
                      <a:pt x="1891" y="2293"/>
                    </a:lnTo>
                    <a:lnTo>
                      <a:pt x="1898" y="2279"/>
                    </a:lnTo>
                    <a:lnTo>
                      <a:pt x="1904" y="2255"/>
                    </a:lnTo>
                    <a:lnTo>
                      <a:pt x="1912" y="2202"/>
                    </a:lnTo>
                    <a:lnTo>
                      <a:pt x="1919" y="1981"/>
                    </a:lnTo>
                    <a:lnTo>
                      <a:pt x="1926" y="1703"/>
                    </a:lnTo>
                    <a:lnTo>
                      <a:pt x="1932" y="2174"/>
                    </a:lnTo>
                    <a:lnTo>
                      <a:pt x="1939" y="2245"/>
                    </a:lnTo>
                    <a:lnTo>
                      <a:pt x="1946" y="2274"/>
                    </a:lnTo>
                    <a:lnTo>
                      <a:pt x="1953" y="2290"/>
                    </a:lnTo>
                    <a:lnTo>
                      <a:pt x="1960" y="2300"/>
                    </a:lnTo>
                    <a:lnTo>
                      <a:pt x="1967" y="2306"/>
                    </a:lnTo>
                    <a:lnTo>
                      <a:pt x="1974" y="2312"/>
                    </a:lnTo>
                    <a:lnTo>
                      <a:pt x="1980" y="2315"/>
                    </a:lnTo>
                    <a:lnTo>
                      <a:pt x="1988" y="2319"/>
                    </a:lnTo>
                    <a:lnTo>
                      <a:pt x="1995" y="2321"/>
                    </a:lnTo>
                    <a:lnTo>
                      <a:pt x="2001" y="2323"/>
                    </a:lnTo>
                    <a:lnTo>
                      <a:pt x="2008" y="2324"/>
                    </a:lnTo>
                    <a:lnTo>
                      <a:pt x="2015" y="2325"/>
                    </a:lnTo>
                    <a:lnTo>
                      <a:pt x="2022" y="2326"/>
                    </a:lnTo>
                    <a:lnTo>
                      <a:pt x="2029" y="2328"/>
                    </a:lnTo>
                    <a:lnTo>
                      <a:pt x="2036" y="2329"/>
                    </a:lnTo>
                    <a:lnTo>
                      <a:pt x="2043" y="2330"/>
                    </a:lnTo>
                    <a:lnTo>
                      <a:pt x="2049" y="2330"/>
                    </a:lnTo>
                    <a:lnTo>
                      <a:pt x="2056" y="2331"/>
                    </a:lnTo>
                    <a:lnTo>
                      <a:pt x="2064" y="2332"/>
                    </a:lnTo>
                    <a:lnTo>
                      <a:pt x="2071" y="2332"/>
                    </a:lnTo>
                    <a:lnTo>
                      <a:pt x="2077" y="2332"/>
                    </a:lnTo>
                    <a:lnTo>
                      <a:pt x="2084" y="2333"/>
                    </a:lnTo>
                    <a:lnTo>
                      <a:pt x="2091" y="2333"/>
                    </a:lnTo>
                    <a:lnTo>
                      <a:pt x="2098" y="2333"/>
                    </a:lnTo>
                    <a:lnTo>
                      <a:pt x="2105" y="2334"/>
                    </a:lnTo>
                    <a:lnTo>
                      <a:pt x="2112" y="2334"/>
                    </a:lnTo>
                    <a:lnTo>
                      <a:pt x="2119" y="2334"/>
                    </a:lnTo>
                    <a:lnTo>
                      <a:pt x="2125" y="2335"/>
                    </a:lnTo>
                    <a:lnTo>
                      <a:pt x="2132" y="2335"/>
                    </a:lnTo>
                    <a:lnTo>
                      <a:pt x="2140" y="2335"/>
                    </a:lnTo>
                    <a:lnTo>
                      <a:pt x="2146" y="2335"/>
                    </a:lnTo>
                    <a:lnTo>
                      <a:pt x="2153" y="2335"/>
                    </a:lnTo>
                    <a:lnTo>
                      <a:pt x="2160" y="2335"/>
                    </a:lnTo>
                    <a:lnTo>
                      <a:pt x="2167" y="2336"/>
                    </a:lnTo>
                    <a:lnTo>
                      <a:pt x="2174" y="2336"/>
                    </a:lnTo>
                    <a:lnTo>
                      <a:pt x="2181" y="2336"/>
                    </a:lnTo>
                    <a:lnTo>
                      <a:pt x="2188" y="2336"/>
                    </a:lnTo>
                    <a:lnTo>
                      <a:pt x="2194" y="2336"/>
                    </a:lnTo>
                    <a:lnTo>
                      <a:pt x="2201" y="2336"/>
                    </a:lnTo>
                    <a:lnTo>
                      <a:pt x="2208" y="2336"/>
                    </a:lnTo>
                    <a:lnTo>
                      <a:pt x="2216" y="2336"/>
                    </a:lnTo>
                    <a:lnTo>
                      <a:pt x="2222" y="2336"/>
                    </a:lnTo>
                    <a:lnTo>
                      <a:pt x="2229" y="2336"/>
                    </a:lnTo>
                    <a:lnTo>
                      <a:pt x="2236" y="2336"/>
                    </a:lnTo>
                    <a:lnTo>
                      <a:pt x="2242" y="2336"/>
                    </a:lnTo>
                    <a:lnTo>
                      <a:pt x="2250" y="2336"/>
                    </a:lnTo>
                    <a:lnTo>
                      <a:pt x="2257" y="2336"/>
                    </a:lnTo>
                    <a:lnTo>
                      <a:pt x="2264" y="2336"/>
                    </a:lnTo>
                    <a:lnTo>
                      <a:pt x="2270" y="2336"/>
                    </a:lnTo>
                    <a:lnTo>
                      <a:pt x="2277" y="2336"/>
                    </a:lnTo>
                    <a:lnTo>
                      <a:pt x="2285" y="2336"/>
                    </a:lnTo>
                    <a:lnTo>
                      <a:pt x="2291" y="2336"/>
                    </a:lnTo>
                    <a:lnTo>
                      <a:pt x="2298" y="2336"/>
                    </a:lnTo>
                    <a:lnTo>
                      <a:pt x="2305" y="2336"/>
                    </a:lnTo>
                    <a:lnTo>
                      <a:pt x="2312" y="2336"/>
                    </a:lnTo>
                    <a:lnTo>
                      <a:pt x="2318" y="2336"/>
                    </a:lnTo>
                    <a:lnTo>
                      <a:pt x="2326" y="2336"/>
                    </a:lnTo>
                    <a:lnTo>
                      <a:pt x="2333" y="2336"/>
                    </a:lnTo>
                    <a:lnTo>
                      <a:pt x="2339" y="2336"/>
                    </a:lnTo>
                    <a:lnTo>
                      <a:pt x="2346" y="2336"/>
                    </a:lnTo>
                    <a:lnTo>
                      <a:pt x="2353" y="2336"/>
                    </a:lnTo>
                    <a:lnTo>
                      <a:pt x="2361" y="2336"/>
                    </a:lnTo>
                    <a:lnTo>
                      <a:pt x="2367" y="2335"/>
                    </a:lnTo>
                    <a:lnTo>
                      <a:pt x="2374" y="2335"/>
                    </a:lnTo>
                    <a:lnTo>
                      <a:pt x="2381" y="2335"/>
                    </a:lnTo>
                    <a:lnTo>
                      <a:pt x="2387" y="2335"/>
                    </a:lnTo>
                    <a:lnTo>
                      <a:pt x="2395" y="2335"/>
                    </a:lnTo>
                    <a:lnTo>
                      <a:pt x="2402" y="2334"/>
                    </a:lnTo>
                    <a:lnTo>
                      <a:pt x="2409" y="2334"/>
                    </a:lnTo>
                    <a:lnTo>
                      <a:pt x="2415" y="2334"/>
                    </a:lnTo>
                    <a:lnTo>
                      <a:pt x="2422" y="2333"/>
                    </a:lnTo>
                    <a:lnTo>
                      <a:pt x="2429" y="2333"/>
                    </a:lnTo>
                    <a:lnTo>
                      <a:pt x="2436" y="2332"/>
                    </a:lnTo>
                    <a:lnTo>
                      <a:pt x="2443" y="2332"/>
                    </a:lnTo>
                    <a:lnTo>
                      <a:pt x="2450" y="2331"/>
                    </a:lnTo>
                    <a:lnTo>
                      <a:pt x="2457" y="2331"/>
                    </a:lnTo>
                    <a:lnTo>
                      <a:pt x="2463" y="2330"/>
                    </a:lnTo>
                    <a:lnTo>
                      <a:pt x="2471" y="2329"/>
                    </a:lnTo>
                    <a:lnTo>
                      <a:pt x="2478" y="2328"/>
                    </a:lnTo>
                    <a:lnTo>
                      <a:pt x="2484" y="2326"/>
                    </a:lnTo>
                    <a:lnTo>
                      <a:pt x="2491" y="2325"/>
                    </a:lnTo>
                    <a:lnTo>
                      <a:pt x="2498" y="2323"/>
                    </a:lnTo>
                    <a:lnTo>
                      <a:pt x="2505" y="2321"/>
                    </a:lnTo>
                    <a:lnTo>
                      <a:pt x="2512" y="2318"/>
                    </a:lnTo>
                    <a:lnTo>
                      <a:pt x="2519" y="2314"/>
                    </a:lnTo>
                    <a:lnTo>
                      <a:pt x="2526" y="2309"/>
                    </a:lnTo>
                    <a:lnTo>
                      <a:pt x="2532" y="2301"/>
                    </a:lnTo>
                    <a:lnTo>
                      <a:pt x="2539" y="2289"/>
                    </a:lnTo>
                    <a:lnTo>
                      <a:pt x="2547" y="2267"/>
                    </a:lnTo>
                    <a:lnTo>
                      <a:pt x="2554" y="2217"/>
                    </a:lnTo>
                    <a:lnTo>
                      <a:pt x="2560" y="1975"/>
                    </a:lnTo>
                    <a:lnTo>
                      <a:pt x="2567" y="1945"/>
                    </a:lnTo>
                    <a:lnTo>
                      <a:pt x="2574" y="2214"/>
                    </a:lnTo>
                    <a:lnTo>
                      <a:pt x="2582" y="2265"/>
                    </a:lnTo>
                    <a:lnTo>
                      <a:pt x="2588" y="2287"/>
                    </a:lnTo>
                    <a:lnTo>
                      <a:pt x="2595" y="2300"/>
                    </a:lnTo>
                    <a:lnTo>
                      <a:pt x="2602" y="2307"/>
                    </a:lnTo>
                    <a:lnTo>
                      <a:pt x="2608" y="2313"/>
                    </a:lnTo>
                    <a:lnTo>
                      <a:pt x="2615" y="2316"/>
                    </a:lnTo>
                    <a:lnTo>
                      <a:pt x="2623" y="2320"/>
                    </a:lnTo>
                    <a:lnTo>
                      <a:pt x="2629" y="2322"/>
                    </a:lnTo>
                    <a:lnTo>
                      <a:pt x="2636" y="2324"/>
                    </a:lnTo>
                    <a:lnTo>
                      <a:pt x="2643" y="2325"/>
                    </a:lnTo>
                    <a:lnTo>
                      <a:pt x="2650" y="2328"/>
                    </a:lnTo>
                    <a:lnTo>
                      <a:pt x="2657" y="2329"/>
                    </a:lnTo>
                    <a:lnTo>
                      <a:pt x="2664" y="2329"/>
                    </a:lnTo>
                    <a:lnTo>
                      <a:pt x="2671" y="2330"/>
                    </a:lnTo>
                    <a:lnTo>
                      <a:pt x="2677" y="2331"/>
                    </a:lnTo>
                    <a:lnTo>
                      <a:pt x="2684" y="2331"/>
                    </a:lnTo>
                    <a:lnTo>
                      <a:pt x="2691" y="2332"/>
                    </a:lnTo>
                    <a:lnTo>
                      <a:pt x="2699" y="2332"/>
                    </a:lnTo>
                    <a:lnTo>
                      <a:pt x="2705" y="2333"/>
                    </a:lnTo>
                    <a:lnTo>
                      <a:pt x="2712" y="2333"/>
                    </a:lnTo>
                    <a:lnTo>
                      <a:pt x="2719" y="2334"/>
                    </a:lnTo>
                    <a:lnTo>
                      <a:pt x="2725" y="2334"/>
                    </a:lnTo>
                    <a:lnTo>
                      <a:pt x="2733" y="2334"/>
                    </a:lnTo>
                    <a:lnTo>
                      <a:pt x="2740" y="2335"/>
                    </a:lnTo>
                    <a:lnTo>
                      <a:pt x="2747" y="2335"/>
                    </a:lnTo>
                    <a:lnTo>
                      <a:pt x="2753" y="2335"/>
                    </a:lnTo>
                    <a:lnTo>
                      <a:pt x="2760" y="2335"/>
                    </a:lnTo>
                    <a:lnTo>
                      <a:pt x="2768" y="2335"/>
                    </a:lnTo>
                    <a:lnTo>
                      <a:pt x="2775" y="2336"/>
                    </a:lnTo>
                    <a:lnTo>
                      <a:pt x="2781" y="2336"/>
                    </a:lnTo>
                    <a:lnTo>
                      <a:pt x="2788" y="2336"/>
                    </a:lnTo>
                    <a:lnTo>
                      <a:pt x="2795" y="2336"/>
                    </a:lnTo>
                    <a:lnTo>
                      <a:pt x="2801" y="2336"/>
                    </a:lnTo>
                    <a:lnTo>
                      <a:pt x="2809" y="2336"/>
                    </a:lnTo>
                    <a:lnTo>
                      <a:pt x="2816" y="2336"/>
                    </a:lnTo>
                    <a:lnTo>
                      <a:pt x="2822" y="2338"/>
                    </a:lnTo>
                    <a:lnTo>
                      <a:pt x="2829" y="2338"/>
                    </a:lnTo>
                    <a:lnTo>
                      <a:pt x="2836" y="2338"/>
                    </a:lnTo>
                    <a:lnTo>
                      <a:pt x="2844" y="2338"/>
                    </a:lnTo>
                    <a:lnTo>
                      <a:pt x="2850" y="2338"/>
                    </a:lnTo>
                    <a:lnTo>
                      <a:pt x="2857" y="2338"/>
                    </a:lnTo>
                    <a:lnTo>
                      <a:pt x="2864" y="2338"/>
                    </a:lnTo>
                    <a:lnTo>
                      <a:pt x="2870" y="2338"/>
                    </a:lnTo>
                    <a:lnTo>
                      <a:pt x="2877" y="2338"/>
                    </a:lnTo>
                    <a:lnTo>
                      <a:pt x="2885" y="2338"/>
                    </a:lnTo>
                    <a:lnTo>
                      <a:pt x="2892" y="2338"/>
                    </a:lnTo>
                    <a:lnTo>
                      <a:pt x="2898" y="2338"/>
                    </a:lnTo>
                    <a:lnTo>
                      <a:pt x="2905" y="2338"/>
                    </a:lnTo>
                    <a:lnTo>
                      <a:pt x="2912" y="2339"/>
                    </a:lnTo>
                    <a:lnTo>
                      <a:pt x="2920" y="2339"/>
                    </a:lnTo>
                    <a:lnTo>
                      <a:pt x="2926" y="2339"/>
                    </a:lnTo>
                    <a:lnTo>
                      <a:pt x="2933" y="2339"/>
                    </a:lnTo>
                    <a:lnTo>
                      <a:pt x="2940" y="2339"/>
                    </a:lnTo>
                    <a:lnTo>
                      <a:pt x="2946" y="2339"/>
                    </a:lnTo>
                    <a:lnTo>
                      <a:pt x="2954" y="2339"/>
                    </a:lnTo>
                    <a:lnTo>
                      <a:pt x="2961" y="2339"/>
                    </a:lnTo>
                    <a:lnTo>
                      <a:pt x="2968" y="2339"/>
                    </a:lnTo>
                    <a:lnTo>
                      <a:pt x="2974" y="2339"/>
                    </a:lnTo>
                    <a:lnTo>
                      <a:pt x="2981" y="2338"/>
                    </a:lnTo>
                    <a:lnTo>
                      <a:pt x="2988" y="2338"/>
                    </a:lnTo>
                    <a:lnTo>
                      <a:pt x="2995" y="2338"/>
                    </a:lnTo>
                    <a:lnTo>
                      <a:pt x="3002" y="2338"/>
                    </a:lnTo>
                    <a:lnTo>
                      <a:pt x="3009" y="2338"/>
                    </a:lnTo>
                    <a:lnTo>
                      <a:pt x="3015" y="2338"/>
                    </a:lnTo>
                    <a:lnTo>
                      <a:pt x="3022" y="2338"/>
                    </a:lnTo>
                    <a:lnTo>
                      <a:pt x="3030" y="2338"/>
                    </a:lnTo>
                    <a:lnTo>
                      <a:pt x="3037" y="2338"/>
                    </a:lnTo>
                    <a:lnTo>
                      <a:pt x="3043" y="2338"/>
                    </a:lnTo>
                    <a:lnTo>
                      <a:pt x="3050" y="2336"/>
                    </a:lnTo>
                    <a:lnTo>
                      <a:pt x="3057" y="2336"/>
                    </a:lnTo>
                    <a:lnTo>
                      <a:pt x="3065" y="2336"/>
                    </a:lnTo>
                    <a:lnTo>
                      <a:pt x="3071" y="2336"/>
                    </a:lnTo>
                    <a:lnTo>
                      <a:pt x="3078" y="2335"/>
                    </a:lnTo>
                    <a:lnTo>
                      <a:pt x="3085" y="2335"/>
                    </a:lnTo>
                    <a:lnTo>
                      <a:pt x="3091" y="2334"/>
                    </a:lnTo>
                    <a:lnTo>
                      <a:pt x="3098" y="2334"/>
                    </a:lnTo>
                    <a:lnTo>
                      <a:pt x="3106" y="2333"/>
                    </a:lnTo>
                    <a:lnTo>
                      <a:pt x="3113" y="2333"/>
                    </a:lnTo>
                    <a:lnTo>
                      <a:pt x="3119" y="2332"/>
                    </a:lnTo>
                    <a:lnTo>
                      <a:pt x="3126" y="2331"/>
                    </a:lnTo>
                    <a:lnTo>
                      <a:pt x="3133" y="2330"/>
                    </a:lnTo>
                    <a:lnTo>
                      <a:pt x="3140" y="2329"/>
                    </a:lnTo>
                    <a:lnTo>
                      <a:pt x="3147" y="2326"/>
                    </a:lnTo>
                    <a:lnTo>
                      <a:pt x="3154" y="2324"/>
                    </a:lnTo>
                    <a:lnTo>
                      <a:pt x="3160" y="2321"/>
                    </a:lnTo>
                    <a:lnTo>
                      <a:pt x="3167" y="2318"/>
                    </a:lnTo>
                    <a:lnTo>
                      <a:pt x="3174" y="2311"/>
                    </a:lnTo>
                    <a:lnTo>
                      <a:pt x="3182" y="2301"/>
                    </a:lnTo>
                    <a:lnTo>
                      <a:pt x="3188" y="2283"/>
                    </a:lnTo>
                    <a:lnTo>
                      <a:pt x="3195" y="2241"/>
                    </a:lnTo>
                    <a:lnTo>
                      <a:pt x="3202" y="1980"/>
                    </a:lnTo>
                    <a:lnTo>
                      <a:pt x="3208" y="2099"/>
                    </a:lnTo>
                    <a:lnTo>
                      <a:pt x="3216" y="2251"/>
                    </a:lnTo>
                    <a:lnTo>
                      <a:pt x="3223" y="2285"/>
                    </a:lnTo>
                    <a:lnTo>
                      <a:pt x="3230" y="2301"/>
                    </a:lnTo>
                    <a:lnTo>
                      <a:pt x="3236" y="2310"/>
                    </a:lnTo>
                    <a:lnTo>
                      <a:pt x="3243" y="2315"/>
                    </a:lnTo>
                    <a:lnTo>
                      <a:pt x="3251" y="2320"/>
                    </a:lnTo>
                    <a:lnTo>
                      <a:pt x="3258" y="2322"/>
                    </a:lnTo>
                    <a:lnTo>
                      <a:pt x="3264" y="2324"/>
                    </a:lnTo>
                    <a:lnTo>
                      <a:pt x="3271" y="2326"/>
                    </a:lnTo>
                    <a:lnTo>
                      <a:pt x="3278" y="2328"/>
                    </a:lnTo>
                    <a:lnTo>
                      <a:pt x="3284" y="2329"/>
                    </a:lnTo>
                    <a:lnTo>
                      <a:pt x="3292" y="2330"/>
                    </a:lnTo>
                    <a:lnTo>
                      <a:pt x="3299" y="2331"/>
                    </a:lnTo>
                    <a:lnTo>
                      <a:pt x="3306" y="2331"/>
                    </a:lnTo>
                    <a:lnTo>
                      <a:pt x="3312" y="2332"/>
                    </a:lnTo>
                    <a:lnTo>
                      <a:pt x="3319" y="2332"/>
                    </a:lnTo>
                    <a:lnTo>
                      <a:pt x="3327" y="2333"/>
                    </a:lnTo>
                    <a:lnTo>
                      <a:pt x="3333" y="2333"/>
                    </a:lnTo>
                    <a:lnTo>
                      <a:pt x="3340" y="2334"/>
                    </a:lnTo>
                    <a:lnTo>
                      <a:pt x="3347" y="2334"/>
                    </a:lnTo>
                    <a:lnTo>
                      <a:pt x="3353" y="2334"/>
                    </a:lnTo>
                    <a:lnTo>
                      <a:pt x="3360" y="2335"/>
                    </a:lnTo>
                    <a:lnTo>
                      <a:pt x="3368" y="2335"/>
                    </a:lnTo>
                    <a:lnTo>
                      <a:pt x="3375" y="2335"/>
                    </a:lnTo>
                    <a:lnTo>
                      <a:pt x="3381" y="2335"/>
                    </a:lnTo>
                    <a:lnTo>
                      <a:pt x="3388" y="2335"/>
                    </a:lnTo>
                    <a:lnTo>
                      <a:pt x="3395" y="2336"/>
                    </a:lnTo>
                    <a:lnTo>
                      <a:pt x="3403" y="2336"/>
                    </a:lnTo>
                    <a:lnTo>
                      <a:pt x="3409" y="2336"/>
                    </a:lnTo>
                    <a:lnTo>
                      <a:pt x="3416" y="2336"/>
                    </a:lnTo>
                    <a:lnTo>
                      <a:pt x="3423" y="2336"/>
                    </a:lnTo>
                    <a:lnTo>
                      <a:pt x="3429" y="2336"/>
                    </a:lnTo>
                    <a:lnTo>
                      <a:pt x="3437" y="2336"/>
                    </a:lnTo>
                    <a:lnTo>
                      <a:pt x="3444" y="2338"/>
                    </a:lnTo>
                    <a:lnTo>
                      <a:pt x="3451" y="2338"/>
                    </a:lnTo>
                    <a:lnTo>
                      <a:pt x="3457" y="2338"/>
                    </a:lnTo>
                    <a:lnTo>
                      <a:pt x="3464" y="2338"/>
                    </a:lnTo>
                    <a:lnTo>
                      <a:pt x="3471" y="2338"/>
                    </a:lnTo>
                    <a:lnTo>
                      <a:pt x="3478" y="2338"/>
                    </a:lnTo>
                    <a:lnTo>
                      <a:pt x="3485" y="2338"/>
                    </a:lnTo>
                    <a:lnTo>
                      <a:pt x="3492" y="2338"/>
                    </a:lnTo>
                    <a:lnTo>
                      <a:pt x="3499" y="2338"/>
                    </a:lnTo>
                    <a:lnTo>
                      <a:pt x="3505" y="2338"/>
                    </a:lnTo>
                    <a:lnTo>
                      <a:pt x="3513" y="2338"/>
                    </a:lnTo>
                    <a:lnTo>
                      <a:pt x="3520" y="2339"/>
                    </a:lnTo>
                    <a:lnTo>
                      <a:pt x="3526" y="2339"/>
                    </a:lnTo>
                    <a:lnTo>
                      <a:pt x="3533" y="2339"/>
                    </a:lnTo>
                    <a:lnTo>
                      <a:pt x="3540" y="2339"/>
                    </a:lnTo>
                    <a:lnTo>
                      <a:pt x="3546" y="2339"/>
                    </a:lnTo>
                    <a:lnTo>
                      <a:pt x="3554" y="2339"/>
                    </a:lnTo>
                    <a:lnTo>
                      <a:pt x="3561" y="2339"/>
                    </a:lnTo>
                    <a:lnTo>
                      <a:pt x="3568" y="2339"/>
                    </a:lnTo>
                    <a:lnTo>
                      <a:pt x="3574" y="2339"/>
                    </a:lnTo>
                    <a:lnTo>
                      <a:pt x="3581" y="2339"/>
                    </a:lnTo>
                    <a:lnTo>
                      <a:pt x="3589" y="2339"/>
                    </a:lnTo>
                    <a:lnTo>
                      <a:pt x="3596" y="2339"/>
                    </a:lnTo>
                    <a:lnTo>
                      <a:pt x="3602" y="2339"/>
                    </a:lnTo>
                    <a:lnTo>
                      <a:pt x="3609" y="2339"/>
                    </a:lnTo>
                    <a:lnTo>
                      <a:pt x="3616" y="2339"/>
                    </a:lnTo>
                    <a:lnTo>
                      <a:pt x="3623" y="2339"/>
                    </a:lnTo>
                    <a:lnTo>
                      <a:pt x="3630" y="2339"/>
                    </a:lnTo>
                    <a:lnTo>
                      <a:pt x="3637" y="2339"/>
                    </a:lnTo>
                    <a:lnTo>
                      <a:pt x="3644" y="2339"/>
                    </a:lnTo>
                    <a:lnTo>
                      <a:pt x="3650" y="2339"/>
                    </a:lnTo>
                    <a:lnTo>
                      <a:pt x="3657" y="2339"/>
                    </a:lnTo>
                    <a:lnTo>
                      <a:pt x="3665" y="2339"/>
                    </a:lnTo>
                    <a:lnTo>
                      <a:pt x="3671" y="2340"/>
                    </a:lnTo>
                    <a:lnTo>
                      <a:pt x="3678" y="2340"/>
                    </a:lnTo>
                    <a:lnTo>
                      <a:pt x="3685" y="2340"/>
                    </a:lnTo>
                    <a:lnTo>
                      <a:pt x="3692" y="2340"/>
                    </a:lnTo>
                    <a:lnTo>
                      <a:pt x="3699" y="2340"/>
                    </a:lnTo>
                    <a:lnTo>
                      <a:pt x="3706" y="2340"/>
                    </a:lnTo>
                    <a:lnTo>
                      <a:pt x="3713" y="2340"/>
                    </a:lnTo>
                    <a:lnTo>
                      <a:pt x="3719" y="2340"/>
                    </a:lnTo>
                    <a:lnTo>
                      <a:pt x="3726" y="2340"/>
                    </a:lnTo>
                    <a:lnTo>
                      <a:pt x="3734" y="2340"/>
                    </a:lnTo>
                    <a:lnTo>
                      <a:pt x="3741" y="2340"/>
                    </a:lnTo>
                    <a:lnTo>
                      <a:pt x="3747" y="2340"/>
                    </a:lnTo>
                    <a:lnTo>
                      <a:pt x="3754" y="2340"/>
                    </a:lnTo>
                    <a:lnTo>
                      <a:pt x="3761" y="2340"/>
                    </a:lnTo>
                    <a:lnTo>
                      <a:pt x="3767" y="2340"/>
                    </a:lnTo>
                    <a:lnTo>
                      <a:pt x="3775" y="2340"/>
                    </a:lnTo>
                    <a:lnTo>
                      <a:pt x="3782" y="2340"/>
                    </a:lnTo>
                    <a:lnTo>
                      <a:pt x="3789" y="2340"/>
                    </a:lnTo>
                    <a:lnTo>
                      <a:pt x="3795" y="2340"/>
                    </a:lnTo>
                    <a:lnTo>
                      <a:pt x="3802" y="2340"/>
                    </a:lnTo>
                    <a:lnTo>
                      <a:pt x="3810" y="2340"/>
                    </a:lnTo>
                    <a:lnTo>
                      <a:pt x="3816" y="2340"/>
                    </a:lnTo>
                    <a:lnTo>
                      <a:pt x="3823" y="2340"/>
                    </a:lnTo>
                    <a:lnTo>
                      <a:pt x="3830" y="2340"/>
                    </a:lnTo>
                    <a:lnTo>
                      <a:pt x="3837" y="2340"/>
                    </a:lnTo>
                    <a:lnTo>
                      <a:pt x="3843" y="2340"/>
                    </a:lnTo>
                    <a:lnTo>
                      <a:pt x="3851" y="2340"/>
                    </a:lnTo>
                    <a:lnTo>
                      <a:pt x="3858" y="2340"/>
                    </a:lnTo>
                    <a:lnTo>
                      <a:pt x="3864" y="2340"/>
                    </a:lnTo>
                    <a:lnTo>
                      <a:pt x="3871" y="2340"/>
                    </a:lnTo>
                    <a:lnTo>
                      <a:pt x="3878" y="2340"/>
                    </a:lnTo>
                    <a:lnTo>
                      <a:pt x="3886" y="2340"/>
                    </a:lnTo>
                    <a:lnTo>
                      <a:pt x="3892" y="2340"/>
                    </a:lnTo>
                    <a:lnTo>
                      <a:pt x="3899" y="2340"/>
                    </a:lnTo>
                    <a:lnTo>
                      <a:pt x="3906" y="2340"/>
                    </a:lnTo>
                    <a:lnTo>
                      <a:pt x="3912" y="2340"/>
                    </a:lnTo>
                    <a:lnTo>
                      <a:pt x="3920" y="2340"/>
                    </a:lnTo>
                    <a:lnTo>
                      <a:pt x="3927" y="2340"/>
                    </a:lnTo>
                    <a:lnTo>
                      <a:pt x="3934" y="2340"/>
                    </a:lnTo>
                    <a:lnTo>
                      <a:pt x="3940" y="2340"/>
                    </a:lnTo>
                    <a:lnTo>
                      <a:pt x="3947" y="2340"/>
                    </a:lnTo>
                    <a:lnTo>
                      <a:pt x="3954" y="2340"/>
                    </a:lnTo>
                    <a:lnTo>
                      <a:pt x="3961" y="2340"/>
                    </a:lnTo>
                    <a:lnTo>
                      <a:pt x="3968" y="2340"/>
                    </a:lnTo>
                    <a:lnTo>
                      <a:pt x="3975" y="2340"/>
                    </a:lnTo>
                    <a:lnTo>
                      <a:pt x="3982" y="2340"/>
                    </a:lnTo>
                    <a:lnTo>
                      <a:pt x="3988" y="2340"/>
                    </a:lnTo>
                    <a:lnTo>
                      <a:pt x="3996" y="2340"/>
                    </a:lnTo>
                    <a:lnTo>
                      <a:pt x="4003" y="2340"/>
                    </a:lnTo>
                    <a:lnTo>
                      <a:pt x="4009" y="2340"/>
                    </a:lnTo>
                    <a:lnTo>
                      <a:pt x="4016" y="2340"/>
                    </a:lnTo>
                    <a:lnTo>
                      <a:pt x="4023" y="2340"/>
                    </a:lnTo>
                    <a:lnTo>
                      <a:pt x="4030" y="2340"/>
                    </a:lnTo>
                    <a:lnTo>
                      <a:pt x="4037" y="2341"/>
                    </a:lnTo>
                    <a:lnTo>
                      <a:pt x="4044" y="2341"/>
                    </a:lnTo>
                    <a:lnTo>
                      <a:pt x="4051" y="2341"/>
                    </a:lnTo>
                    <a:lnTo>
                      <a:pt x="4057" y="2341"/>
                    </a:lnTo>
                    <a:lnTo>
                      <a:pt x="4064" y="2341"/>
                    </a:lnTo>
                    <a:lnTo>
                      <a:pt x="4072" y="2341"/>
                    </a:lnTo>
                    <a:lnTo>
                      <a:pt x="4079" y="2341"/>
                    </a:lnTo>
                    <a:lnTo>
                      <a:pt x="4085" y="2341"/>
                    </a:lnTo>
                    <a:lnTo>
                      <a:pt x="4092" y="2341"/>
                    </a:lnTo>
                    <a:lnTo>
                      <a:pt x="4099" y="2341"/>
                    </a:lnTo>
                    <a:lnTo>
                      <a:pt x="4106" y="2341"/>
                    </a:lnTo>
                    <a:lnTo>
                      <a:pt x="4113" y="2341"/>
                    </a:lnTo>
                    <a:lnTo>
                      <a:pt x="4120" y="2341"/>
                    </a:lnTo>
                    <a:lnTo>
                      <a:pt x="4127" y="2341"/>
                    </a:lnTo>
                    <a:lnTo>
                      <a:pt x="4133" y="2341"/>
                    </a:lnTo>
                    <a:lnTo>
                      <a:pt x="4140" y="2341"/>
                    </a:lnTo>
                    <a:lnTo>
                      <a:pt x="4148" y="2341"/>
                    </a:lnTo>
                    <a:lnTo>
                      <a:pt x="4154" y="2341"/>
                    </a:lnTo>
                    <a:lnTo>
                      <a:pt x="4161" y="2341"/>
                    </a:lnTo>
                    <a:lnTo>
                      <a:pt x="4168" y="2341"/>
                    </a:lnTo>
                    <a:lnTo>
                      <a:pt x="4175" y="2341"/>
                    </a:lnTo>
                    <a:lnTo>
                      <a:pt x="4182" y="2341"/>
                    </a:lnTo>
                    <a:lnTo>
                      <a:pt x="4189" y="2341"/>
                    </a:lnTo>
                    <a:lnTo>
                      <a:pt x="4196" y="2341"/>
                    </a:lnTo>
                    <a:lnTo>
                      <a:pt x="4202" y="2341"/>
                    </a:lnTo>
                    <a:lnTo>
                      <a:pt x="4209" y="2341"/>
                    </a:lnTo>
                    <a:lnTo>
                      <a:pt x="4216" y="2341"/>
                    </a:lnTo>
                    <a:lnTo>
                      <a:pt x="4224" y="2341"/>
                    </a:lnTo>
                    <a:lnTo>
                      <a:pt x="4230" y="2341"/>
                    </a:lnTo>
                    <a:lnTo>
                      <a:pt x="4237" y="2341"/>
                    </a:lnTo>
                    <a:lnTo>
                      <a:pt x="4244" y="2341"/>
                    </a:lnTo>
                    <a:lnTo>
                      <a:pt x="4250" y="2341"/>
                    </a:lnTo>
                    <a:lnTo>
                      <a:pt x="4258" y="2341"/>
                    </a:lnTo>
                    <a:lnTo>
                      <a:pt x="4265" y="2341"/>
                    </a:lnTo>
                    <a:lnTo>
                      <a:pt x="4272" y="2341"/>
                    </a:lnTo>
                    <a:lnTo>
                      <a:pt x="4278" y="2341"/>
                    </a:lnTo>
                    <a:lnTo>
                      <a:pt x="4285" y="2341"/>
                    </a:lnTo>
                    <a:lnTo>
                      <a:pt x="4293" y="2341"/>
                    </a:lnTo>
                    <a:lnTo>
                      <a:pt x="4299" y="2341"/>
                    </a:lnTo>
                    <a:lnTo>
                      <a:pt x="4306" y="2341"/>
                    </a:lnTo>
                    <a:lnTo>
                      <a:pt x="4313" y="2341"/>
                    </a:lnTo>
                    <a:lnTo>
                      <a:pt x="4320" y="2341"/>
                    </a:lnTo>
                    <a:lnTo>
                      <a:pt x="4326" y="2341"/>
                    </a:lnTo>
                    <a:lnTo>
                      <a:pt x="4334" y="2341"/>
                    </a:lnTo>
                    <a:lnTo>
                      <a:pt x="4341" y="2341"/>
                    </a:lnTo>
                    <a:lnTo>
                      <a:pt x="4347" y="2341"/>
                    </a:lnTo>
                    <a:lnTo>
                      <a:pt x="4354" y="2341"/>
                    </a:lnTo>
                    <a:lnTo>
                      <a:pt x="4361" y="2341"/>
                    </a:lnTo>
                    <a:lnTo>
                      <a:pt x="4369" y="2341"/>
                    </a:lnTo>
                    <a:lnTo>
                      <a:pt x="4375" y="2341"/>
                    </a:lnTo>
                    <a:lnTo>
                      <a:pt x="4382" y="2341"/>
                    </a:lnTo>
                    <a:lnTo>
                      <a:pt x="4389" y="2341"/>
                    </a:lnTo>
                    <a:lnTo>
                      <a:pt x="4395" y="2341"/>
                    </a:lnTo>
                    <a:lnTo>
                      <a:pt x="4403" y="2341"/>
                    </a:lnTo>
                    <a:lnTo>
                      <a:pt x="4410" y="2341"/>
                    </a:lnTo>
                    <a:lnTo>
                      <a:pt x="4417" y="2341"/>
                    </a:lnTo>
                    <a:lnTo>
                      <a:pt x="4423" y="2341"/>
                    </a:lnTo>
                    <a:lnTo>
                      <a:pt x="4430" y="2341"/>
                    </a:lnTo>
                    <a:lnTo>
                      <a:pt x="4437" y="2341"/>
                    </a:lnTo>
                    <a:lnTo>
                      <a:pt x="4445" y="2341"/>
                    </a:lnTo>
                    <a:lnTo>
                      <a:pt x="4451" y="2341"/>
                    </a:lnTo>
                    <a:lnTo>
                      <a:pt x="4458" y="2341"/>
                    </a:lnTo>
                    <a:lnTo>
                      <a:pt x="4465" y="2341"/>
                    </a:lnTo>
                    <a:lnTo>
                      <a:pt x="4471" y="2341"/>
                    </a:lnTo>
                    <a:lnTo>
                      <a:pt x="4479" y="2341"/>
                    </a:lnTo>
                    <a:lnTo>
                      <a:pt x="4486" y="2341"/>
                    </a:lnTo>
                    <a:lnTo>
                      <a:pt x="4492" y="2341"/>
                    </a:lnTo>
                    <a:lnTo>
                      <a:pt x="4499" y="2341"/>
                    </a:lnTo>
                    <a:lnTo>
                      <a:pt x="4506" y="2341"/>
                    </a:lnTo>
                    <a:lnTo>
                      <a:pt x="4513" y="2341"/>
                    </a:lnTo>
                    <a:lnTo>
                      <a:pt x="4520" y="2341"/>
                    </a:lnTo>
                    <a:lnTo>
                      <a:pt x="4527" y="2341"/>
                    </a:lnTo>
                    <a:lnTo>
                      <a:pt x="4534" y="2341"/>
                    </a:lnTo>
                    <a:lnTo>
                      <a:pt x="4540" y="2341"/>
                    </a:lnTo>
                    <a:lnTo>
                      <a:pt x="4547" y="2341"/>
                    </a:lnTo>
                    <a:lnTo>
                      <a:pt x="4555" y="2341"/>
                    </a:lnTo>
                    <a:lnTo>
                      <a:pt x="4562" y="2341"/>
                    </a:lnTo>
                    <a:lnTo>
                      <a:pt x="4568" y="2341"/>
                    </a:lnTo>
                    <a:lnTo>
                      <a:pt x="4575" y="2341"/>
                    </a:lnTo>
                    <a:lnTo>
                      <a:pt x="4582" y="2341"/>
                    </a:lnTo>
                    <a:lnTo>
                      <a:pt x="4590" y="2341"/>
                    </a:lnTo>
                    <a:lnTo>
                      <a:pt x="4596" y="2341"/>
                    </a:lnTo>
                    <a:lnTo>
                      <a:pt x="4603" y="2341"/>
                    </a:lnTo>
                    <a:lnTo>
                      <a:pt x="4610" y="2341"/>
                    </a:lnTo>
                    <a:lnTo>
                      <a:pt x="4616" y="2341"/>
                    </a:lnTo>
                    <a:lnTo>
                      <a:pt x="4623" y="2341"/>
                    </a:lnTo>
                    <a:lnTo>
                      <a:pt x="4631" y="2341"/>
                    </a:lnTo>
                    <a:lnTo>
                      <a:pt x="4637" y="2341"/>
                    </a:lnTo>
                    <a:lnTo>
                      <a:pt x="4644" y="2341"/>
                    </a:lnTo>
                    <a:lnTo>
                      <a:pt x="4651" y="2341"/>
                    </a:lnTo>
                    <a:lnTo>
                      <a:pt x="4658" y="2341"/>
                    </a:lnTo>
                    <a:lnTo>
                      <a:pt x="4665" y="2341"/>
                    </a:lnTo>
                    <a:lnTo>
                      <a:pt x="4672" y="2341"/>
                    </a:lnTo>
                    <a:lnTo>
                      <a:pt x="4679" y="2341"/>
                    </a:lnTo>
                    <a:lnTo>
                      <a:pt x="4685" y="2341"/>
                    </a:lnTo>
                    <a:lnTo>
                      <a:pt x="4692" y="2341"/>
                    </a:lnTo>
                    <a:lnTo>
                      <a:pt x="4699" y="2341"/>
                    </a:lnTo>
                    <a:lnTo>
                      <a:pt x="4707" y="2341"/>
                    </a:lnTo>
                    <a:lnTo>
                      <a:pt x="4713" y="2341"/>
                    </a:lnTo>
                    <a:lnTo>
                      <a:pt x="4720" y="2341"/>
                    </a:lnTo>
                    <a:lnTo>
                      <a:pt x="4727" y="2341"/>
                    </a:lnTo>
                    <a:lnTo>
                      <a:pt x="4733" y="2341"/>
                    </a:lnTo>
                    <a:lnTo>
                      <a:pt x="4741" y="2341"/>
                    </a:lnTo>
                    <a:lnTo>
                      <a:pt x="4748" y="2341"/>
                    </a:lnTo>
                    <a:lnTo>
                      <a:pt x="4755" y="2341"/>
                    </a:lnTo>
                    <a:lnTo>
                      <a:pt x="4761" y="2341"/>
                    </a:lnTo>
                    <a:lnTo>
                      <a:pt x="4768" y="2341"/>
                    </a:lnTo>
                    <a:lnTo>
                      <a:pt x="4776" y="2341"/>
                    </a:lnTo>
                    <a:lnTo>
                      <a:pt x="4783" y="2341"/>
                    </a:lnTo>
                    <a:lnTo>
                      <a:pt x="4789" y="2341"/>
                    </a:lnTo>
                    <a:lnTo>
                      <a:pt x="4796" y="2341"/>
                    </a:lnTo>
                    <a:lnTo>
                      <a:pt x="4803" y="2341"/>
                    </a:lnTo>
                    <a:lnTo>
                      <a:pt x="4809" y="2341"/>
                    </a:lnTo>
                    <a:lnTo>
                      <a:pt x="4817" y="2341"/>
                    </a:lnTo>
                    <a:lnTo>
                      <a:pt x="4824" y="2341"/>
                    </a:lnTo>
                    <a:lnTo>
                      <a:pt x="4830" y="2341"/>
                    </a:lnTo>
                    <a:lnTo>
                      <a:pt x="4837" y="2341"/>
                    </a:lnTo>
                    <a:lnTo>
                      <a:pt x="4844" y="2341"/>
                    </a:lnTo>
                    <a:lnTo>
                      <a:pt x="4852" y="2341"/>
                    </a:lnTo>
                    <a:lnTo>
                      <a:pt x="4858" y="2341"/>
                    </a:lnTo>
                    <a:lnTo>
                      <a:pt x="4865" y="2341"/>
                    </a:lnTo>
                    <a:lnTo>
                      <a:pt x="4872" y="2341"/>
                    </a:lnTo>
                    <a:lnTo>
                      <a:pt x="4878" y="2341"/>
                    </a:lnTo>
                    <a:lnTo>
                      <a:pt x="4885" y="2341"/>
                    </a:lnTo>
                    <a:lnTo>
                      <a:pt x="4893" y="2341"/>
                    </a:lnTo>
                    <a:lnTo>
                      <a:pt x="4900" y="2341"/>
                    </a:lnTo>
                    <a:lnTo>
                      <a:pt x="4906" y="2341"/>
                    </a:lnTo>
                    <a:lnTo>
                      <a:pt x="4913" y="2341"/>
                    </a:lnTo>
                    <a:lnTo>
                      <a:pt x="4920" y="2341"/>
                    </a:lnTo>
                    <a:lnTo>
                      <a:pt x="4928" y="2341"/>
                    </a:lnTo>
                    <a:lnTo>
                      <a:pt x="4934" y="2341"/>
                    </a:lnTo>
                    <a:lnTo>
                      <a:pt x="4941" y="2341"/>
                    </a:lnTo>
                    <a:lnTo>
                      <a:pt x="4948" y="2341"/>
                    </a:lnTo>
                    <a:lnTo>
                      <a:pt x="4954" y="2341"/>
                    </a:lnTo>
                    <a:lnTo>
                      <a:pt x="4962" y="2341"/>
                    </a:lnTo>
                    <a:lnTo>
                      <a:pt x="4969" y="2341"/>
                    </a:lnTo>
                    <a:lnTo>
                      <a:pt x="4976" y="2341"/>
                    </a:lnTo>
                    <a:lnTo>
                      <a:pt x="4982" y="2341"/>
                    </a:lnTo>
                    <a:lnTo>
                      <a:pt x="4989" y="2341"/>
                    </a:lnTo>
                    <a:lnTo>
                      <a:pt x="4996" y="2341"/>
                    </a:lnTo>
                    <a:lnTo>
                      <a:pt x="5003" y="2341"/>
                    </a:lnTo>
                    <a:lnTo>
                      <a:pt x="5010" y="2341"/>
                    </a:lnTo>
                    <a:lnTo>
                      <a:pt x="5017" y="2341"/>
                    </a:lnTo>
                    <a:lnTo>
                      <a:pt x="5023" y="2341"/>
                    </a:lnTo>
                    <a:lnTo>
                      <a:pt x="5030" y="2341"/>
                    </a:lnTo>
                    <a:lnTo>
                      <a:pt x="5038" y="2341"/>
                    </a:lnTo>
                    <a:lnTo>
                      <a:pt x="5045" y="2341"/>
                    </a:lnTo>
                    <a:lnTo>
                      <a:pt x="5051" y="2341"/>
                    </a:lnTo>
                    <a:lnTo>
                      <a:pt x="5058" y="2341"/>
                    </a:lnTo>
                    <a:lnTo>
                      <a:pt x="5065" y="2341"/>
                    </a:lnTo>
                    <a:lnTo>
                      <a:pt x="5071" y="2341"/>
                    </a:lnTo>
                    <a:lnTo>
                      <a:pt x="5079" y="2341"/>
                    </a:lnTo>
                    <a:lnTo>
                      <a:pt x="5086" y="2341"/>
                    </a:lnTo>
                    <a:lnTo>
                      <a:pt x="5093" y="2341"/>
                    </a:lnTo>
                    <a:lnTo>
                      <a:pt x="5099" y="2341"/>
                    </a:lnTo>
                    <a:lnTo>
                      <a:pt x="5106" y="2341"/>
                    </a:lnTo>
                    <a:lnTo>
                      <a:pt x="5114" y="2341"/>
                    </a:lnTo>
                    <a:lnTo>
                      <a:pt x="5121" y="2341"/>
                    </a:lnTo>
                    <a:lnTo>
                      <a:pt x="5127" y="2341"/>
                    </a:lnTo>
                    <a:lnTo>
                      <a:pt x="5134" y="2341"/>
                    </a:lnTo>
                    <a:lnTo>
                      <a:pt x="5141" y="2341"/>
                    </a:lnTo>
                    <a:lnTo>
                      <a:pt x="5148" y="2341"/>
                    </a:lnTo>
                    <a:lnTo>
                      <a:pt x="5155" y="2341"/>
                    </a:lnTo>
                    <a:lnTo>
                      <a:pt x="5162" y="2341"/>
                    </a:lnTo>
                    <a:lnTo>
                      <a:pt x="5168" y="2341"/>
                    </a:lnTo>
                    <a:lnTo>
                      <a:pt x="5175" y="2341"/>
                    </a:lnTo>
                    <a:lnTo>
                      <a:pt x="5182" y="2341"/>
                    </a:lnTo>
                    <a:lnTo>
                      <a:pt x="5190" y="2341"/>
                    </a:lnTo>
                    <a:lnTo>
                      <a:pt x="5196" y="2341"/>
                    </a:lnTo>
                    <a:lnTo>
                      <a:pt x="5203" y="2341"/>
                    </a:lnTo>
                    <a:lnTo>
                      <a:pt x="5210" y="2341"/>
                    </a:lnTo>
                    <a:lnTo>
                      <a:pt x="5216" y="2341"/>
                    </a:lnTo>
                    <a:lnTo>
                      <a:pt x="5224" y="2341"/>
                    </a:lnTo>
                    <a:lnTo>
                      <a:pt x="5231" y="2341"/>
                    </a:lnTo>
                    <a:lnTo>
                      <a:pt x="5238" y="2341"/>
                    </a:lnTo>
                    <a:lnTo>
                      <a:pt x="5244" y="2341"/>
                    </a:lnTo>
                    <a:lnTo>
                      <a:pt x="5251" y="2341"/>
                    </a:lnTo>
                    <a:lnTo>
                      <a:pt x="5259" y="2341"/>
                    </a:lnTo>
                    <a:lnTo>
                      <a:pt x="5266" y="2341"/>
                    </a:lnTo>
                    <a:lnTo>
                      <a:pt x="5272" y="2341"/>
                    </a:lnTo>
                    <a:lnTo>
                      <a:pt x="5279" y="2341"/>
                    </a:lnTo>
                    <a:lnTo>
                      <a:pt x="5286" y="2341"/>
                    </a:lnTo>
                    <a:lnTo>
                      <a:pt x="5292" y="2341"/>
                    </a:lnTo>
                    <a:lnTo>
                      <a:pt x="5300" y="2341"/>
                    </a:lnTo>
                    <a:lnTo>
                      <a:pt x="5307" y="2342"/>
                    </a:lnTo>
                    <a:lnTo>
                      <a:pt x="5314" y="2342"/>
                    </a:lnTo>
                    <a:lnTo>
                      <a:pt x="5320" y="2342"/>
                    </a:lnTo>
                    <a:lnTo>
                      <a:pt x="5327" y="2342"/>
                    </a:lnTo>
                    <a:lnTo>
                      <a:pt x="5335" y="2342"/>
                    </a:lnTo>
                    <a:lnTo>
                      <a:pt x="5341" y="2342"/>
                    </a:lnTo>
                    <a:lnTo>
                      <a:pt x="5348" y="2342"/>
                    </a:lnTo>
                    <a:lnTo>
                      <a:pt x="5355" y="2342"/>
                    </a:lnTo>
                    <a:lnTo>
                      <a:pt x="5361" y="2342"/>
                    </a:lnTo>
                    <a:lnTo>
                      <a:pt x="5368" y="2342"/>
                    </a:lnTo>
                    <a:lnTo>
                      <a:pt x="5376" y="2342"/>
                    </a:lnTo>
                    <a:lnTo>
                      <a:pt x="5383" y="2342"/>
                    </a:lnTo>
                    <a:lnTo>
                      <a:pt x="5389" y="2342"/>
                    </a:lnTo>
                    <a:lnTo>
                      <a:pt x="5396" y="2342"/>
                    </a:lnTo>
                    <a:lnTo>
                      <a:pt x="5403" y="2342"/>
                    </a:lnTo>
                    <a:lnTo>
                      <a:pt x="5411" y="2342"/>
                    </a:lnTo>
                    <a:lnTo>
                      <a:pt x="5417" y="2342"/>
                    </a:lnTo>
                    <a:lnTo>
                      <a:pt x="5424" y="2342"/>
                    </a:lnTo>
                    <a:lnTo>
                      <a:pt x="5431" y="2342"/>
                    </a:lnTo>
                    <a:lnTo>
                      <a:pt x="5437" y="2342"/>
                    </a:lnTo>
                    <a:lnTo>
                      <a:pt x="5445" y="2342"/>
                    </a:lnTo>
                    <a:lnTo>
                      <a:pt x="5452" y="2342"/>
                    </a:lnTo>
                    <a:lnTo>
                      <a:pt x="5459" y="2342"/>
                    </a:lnTo>
                    <a:lnTo>
                      <a:pt x="5465" y="2342"/>
                    </a:lnTo>
                    <a:lnTo>
                      <a:pt x="5472" y="2342"/>
                    </a:lnTo>
                    <a:lnTo>
                      <a:pt x="5479" y="2342"/>
                    </a:lnTo>
                    <a:lnTo>
                      <a:pt x="5486" y="2342"/>
                    </a:lnTo>
                    <a:lnTo>
                      <a:pt x="5493" y="2342"/>
                    </a:lnTo>
                    <a:lnTo>
                      <a:pt x="5500" y="2342"/>
                    </a:lnTo>
                    <a:lnTo>
                      <a:pt x="5507" y="2342"/>
                    </a:lnTo>
                    <a:lnTo>
                      <a:pt x="5513" y="2342"/>
                    </a:lnTo>
                    <a:lnTo>
                      <a:pt x="5521" y="2342"/>
                    </a:lnTo>
                    <a:lnTo>
                      <a:pt x="5528" y="2342"/>
                    </a:lnTo>
                    <a:lnTo>
                      <a:pt x="5534" y="2342"/>
                    </a:lnTo>
                    <a:lnTo>
                      <a:pt x="5541" y="2342"/>
                    </a:lnTo>
                    <a:lnTo>
                      <a:pt x="5548" y="2342"/>
                    </a:lnTo>
                    <a:lnTo>
                      <a:pt x="5554" y="2342"/>
                    </a:lnTo>
                    <a:lnTo>
                      <a:pt x="5562" y="2342"/>
                    </a:lnTo>
                    <a:lnTo>
                      <a:pt x="5569" y="2342"/>
                    </a:lnTo>
                    <a:lnTo>
                      <a:pt x="5576" y="2342"/>
                    </a:lnTo>
                    <a:lnTo>
                      <a:pt x="5582" y="2342"/>
                    </a:lnTo>
                    <a:lnTo>
                      <a:pt x="5589" y="2342"/>
                    </a:lnTo>
                    <a:lnTo>
                      <a:pt x="5597" y="2342"/>
                    </a:lnTo>
                    <a:lnTo>
                      <a:pt x="5604" y="2342"/>
                    </a:lnTo>
                    <a:lnTo>
                      <a:pt x="5610" y="2342"/>
                    </a:lnTo>
                    <a:lnTo>
                      <a:pt x="5617" y="2342"/>
                    </a:lnTo>
                    <a:lnTo>
                      <a:pt x="5624" y="2342"/>
                    </a:lnTo>
                    <a:lnTo>
                      <a:pt x="5631" y="2342"/>
                    </a:lnTo>
                    <a:lnTo>
                      <a:pt x="5638" y="2342"/>
                    </a:lnTo>
                    <a:lnTo>
                      <a:pt x="5645" y="2342"/>
                    </a:lnTo>
                    <a:lnTo>
                      <a:pt x="5652" y="2342"/>
                    </a:lnTo>
                    <a:lnTo>
                      <a:pt x="5658" y="2342"/>
                    </a:lnTo>
                    <a:lnTo>
                      <a:pt x="5665" y="2342"/>
                    </a:lnTo>
                    <a:lnTo>
                      <a:pt x="5673" y="2342"/>
                    </a:lnTo>
                    <a:lnTo>
                      <a:pt x="5679" y="2342"/>
                    </a:lnTo>
                    <a:lnTo>
                      <a:pt x="5686" y="2342"/>
                    </a:lnTo>
                    <a:lnTo>
                      <a:pt x="5693" y="2342"/>
                    </a:lnTo>
                    <a:lnTo>
                      <a:pt x="5700" y="2342"/>
                    </a:lnTo>
                    <a:lnTo>
                      <a:pt x="5707" y="2342"/>
                    </a:lnTo>
                    <a:lnTo>
                      <a:pt x="5714" y="2342"/>
                    </a:lnTo>
                    <a:lnTo>
                      <a:pt x="5721" y="2342"/>
                    </a:lnTo>
                    <a:lnTo>
                      <a:pt x="5727" y="2342"/>
                    </a:lnTo>
                    <a:lnTo>
                      <a:pt x="5734" y="2342"/>
                    </a:lnTo>
                    <a:lnTo>
                      <a:pt x="5741" y="2342"/>
                    </a:lnTo>
                    <a:lnTo>
                      <a:pt x="5749" y="2342"/>
                    </a:lnTo>
                    <a:lnTo>
                      <a:pt x="5755" y="2342"/>
                    </a:lnTo>
                    <a:lnTo>
                      <a:pt x="5762" y="2342"/>
                    </a:lnTo>
                    <a:lnTo>
                      <a:pt x="5769" y="2342"/>
                    </a:lnTo>
                    <a:lnTo>
                      <a:pt x="5775" y="2342"/>
                    </a:lnTo>
                    <a:lnTo>
                      <a:pt x="5783" y="2342"/>
                    </a:lnTo>
                    <a:lnTo>
                      <a:pt x="5790" y="2342"/>
                    </a:lnTo>
                    <a:lnTo>
                      <a:pt x="5797" y="2342"/>
                    </a:lnTo>
                    <a:lnTo>
                      <a:pt x="5803" y="2342"/>
                    </a:lnTo>
                    <a:lnTo>
                      <a:pt x="5810" y="2342"/>
                    </a:lnTo>
                    <a:lnTo>
                      <a:pt x="5818" y="2342"/>
                    </a:lnTo>
                    <a:lnTo>
                      <a:pt x="5824" y="2342"/>
                    </a:lnTo>
                    <a:lnTo>
                      <a:pt x="5831" y="2342"/>
                    </a:lnTo>
                    <a:lnTo>
                      <a:pt x="5838" y="2342"/>
                    </a:lnTo>
                    <a:lnTo>
                      <a:pt x="5845" y="2342"/>
                    </a:lnTo>
                    <a:lnTo>
                      <a:pt x="5851" y="2342"/>
                    </a:lnTo>
                    <a:lnTo>
                      <a:pt x="5859" y="2342"/>
                    </a:lnTo>
                    <a:lnTo>
                      <a:pt x="5866" y="2342"/>
                    </a:lnTo>
                    <a:lnTo>
                      <a:pt x="5872" y="2342"/>
                    </a:lnTo>
                    <a:lnTo>
                      <a:pt x="5879" y="2342"/>
                    </a:lnTo>
                    <a:lnTo>
                      <a:pt x="5886" y="2342"/>
                    </a:lnTo>
                    <a:lnTo>
                      <a:pt x="5894" y="2342"/>
                    </a:lnTo>
                    <a:lnTo>
                      <a:pt x="5900" y="2342"/>
                    </a:lnTo>
                    <a:lnTo>
                      <a:pt x="5907" y="2342"/>
                    </a:lnTo>
                    <a:lnTo>
                      <a:pt x="5914" y="2342"/>
                    </a:lnTo>
                    <a:lnTo>
                      <a:pt x="5920" y="2342"/>
                    </a:lnTo>
                    <a:lnTo>
                      <a:pt x="5928" y="2342"/>
                    </a:lnTo>
                    <a:lnTo>
                      <a:pt x="5935" y="2342"/>
                    </a:lnTo>
                    <a:lnTo>
                      <a:pt x="5942" y="2342"/>
                    </a:lnTo>
                    <a:lnTo>
                      <a:pt x="5948" y="2342"/>
                    </a:lnTo>
                    <a:lnTo>
                      <a:pt x="5955" y="2342"/>
                    </a:lnTo>
                    <a:lnTo>
                      <a:pt x="5962" y="2342"/>
                    </a:lnTo>
                    <a:lnTo>
                      <a:pt x="5969" y="2342"/>
                    </a:lnTo>
                    <a:lnTo>
                      <a:pt x="5976" y="2342"/>
                    </a:lnTo>
                    <a:lnTo>
                      <a:pt x="5983" y="2342"/>
                    </a:lnTo>
                    <a:lnTo>
                      <a:pt x="5990" y="2342"/>
                    </a:lnTo>
                    <a:lnTo>
                      <a:pt x="5996" y="2342"/>
                    </a:lnTo>
                    <a:lnTo>
                      <a:pt x="6004" y="2342"/>
                    </a:lnTo>
                    <a:lnTo>
                      <a:pt x="6011" y="2342"/>
                    </a:lnTo>
                    <a:lnTo>
                      <a:pt x="6017" y="2342"/>
                    </a:lnTo>
                    <a:lnTo>
                      <a:pt x="6024" y="2342"/>
                    </a:lnTo>
                    <a:lnTo>
                      <a:pt x="6031" y="2342"/>
                    </a:lnTo>
                    <a:lnTo>
                      <a:pt x="6038" y="2342"/>
                    </a:lnTo>
                    <a:lnTo>
                      <a:pt x="6045" y="2342"/>
                    </a:lnTo>
                    <a:lnTo>
                      <a:pt x="6052" y="2342"/>
                    </a:lnTo>
                    <a:lnTo>
                      <a:pt x="6059" y="2342"/>
                    </a:lnTo>
                    <a:lnTo>
                      <a:pt x="6065" y="2342"/>
                    </a:lnTo>
                    <a:lnTo>
                      <a:pt x="6072" y="2342"/>
                    </a:lnTo>
                    <a:lnTo>
                      <a:pt x="6080" y="2342"/>
                    </a:lnTo>
                    <a:lnTo>
                      <a:pt x="6087" y="2342"/>
                    </a:lnTo>
                    <a:lnTo>
                      <a:pt x="6093" y="2342"/>
                    </a:lnTo>
                    <a:lnTo>
                      <a:pt x="6100" y="2342"/>
                    </a:lnTo>
                    <a:lnTo>
                      <a:pt x="6107" y="2342"/>
                    </a:lnTo>
                    <a:lnTo>
                      <a:pt x="6114" y="2342"/>
                    </a:lnTo>
                    <a:lnTo>
                      <a:pt x="6121" y="2342"/>
                    </a:lnTo>
                    <a:lnTo>
                      <a:pt x="6128" y="2342"/>
                    </a:lnTo>
                    <a:lnTo>
                      <a:pt x="6135" y="2342"/>
                    </a:lnTo>
                    <a:lnTo>
                      <a:pt x="6141" y="2342"/>
                    </a:lnTo>
                    <a:lnTo>
                      <a:pt x="6148" y="2342"/>
                    </a:lnTo>
                    <a:lnTo>
                      <a:pt x="6156" y="2342"/>
                    </a:lnTo>
                    <a:lnTo>
                      <a:pt x="6162" y="2342"/>
                    </a:lnTo>
                    <a:lnTo>
                      <a:pt x="6169" y="2342"/>
                    </a:lnTo>
                    <a:lnTo>
                      <a:pt x="6176" y="2342"/>
                    </a:lnTo>
                    <a:lnTo>
                      <a:pt x="6183" y="2342"/>
                    </a:lnTo>
                    <a:lnTo>
                      <a:pt x="6190" y="2342"/>
                    </a:lnTo>
                    <a:lnTo>
                      <a:pt x="6197" y="2342"/>
                    </a:lnTo>
                    <a:lnTo>
                      <a:pt x="6204" y="2342"/>
                    </a:lnTo>
                    <a:lnTo>
                      <a:pt x="6210" y="2342"/>
                    </a:lnTo>
                    <a:lnTo>
                      <a:pt x="6217" y="2342"/>
                    </a:lnTo>
                    <a:lnTo>
                      <a:pt x="6224" y="2342"/>
                    </a:lnTo>
                    <a:lnTo>
                      <a:pt x="6232" y="2342"/>
                    </a:lnTo>
                    <a:lnTo>
                      <a:pt x="6238" y="2342"/>
                    </a:lnTo>
                    <a:lnTo>
                      <a:pt x="6245" y="2342"/>
                    </a:lnTo>
                    <a:lnTo>
                      <a:pt x="6252" y="2342"/>
                    </a:lnTo>
                    <a:lnTo>
                      <a:pt x="6258" y="2342"/>
                    </a:lnTo>
                    <a:lnTo>
                      <a:pt x="6266" y="2342"/>
                    </a:lnTo>
                    <a:lnTo>
                      <a:pt x="6273" y="2342"/>
                    </a:lnTo>
                    <a:lnTo>
                      <a:pt x="6280" y="2342"/>
                    </a:lnTo>
                    <a:lnTo>
                      <a:pt x="6286" y="2342"/>
                    </a:lnTo>
                    <a:lnTo>
                      <a:pt x="6293" y="2342"/>
                    </a:lnTo>
                    <a:lnTo>
                      <a:pt x="6301" y="2342"/>
                    </a:lnTo>
                    <a:lnTo>
                      <a:pt x="6307" y="2342"/>
                    </a:lnTo>
                    <a:lnTo>
                      <a:pt x="6314" y="2342"/>
                    </a:lnTo>
                    <a:lnTo>
                      <a:pt x="6321" y="2342"/>
                    </a:lnTo>
                    <a:lnTo>
                      <a:pt x="6328" y="2342"/>
                    </a:lnTo>
                    <a:lnTo>
                      <a:pt x="6334" y="2342"/>
                    </a:lnTo>
                    <a:lnTo>
                      <a:pt x="6342" y="2342"/>
                    </a:lnTo>
                    <a:lnTo>
                      <a:pt x="6349" y="2342"/>
                    </a:lnTo>
                    <a:lnTo>
                      <a:pt x="6355" y="2342"/>
                    </a:lnTo>
                    <a:lnTo>
                      <a:pt x="6362" y="2342"/>
                    </a:lnTo>
                    <a:lnTo>
                      <a:pt x="6369" y="2342"/>
                    </a:lnTo>
                    <a:lnTo>
                      <a:pt x="6377" y="2342"/>
                    </a:lnTo>
                    <a:lnTo>
                      <a:pt x="6380" y="23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031040" y="3486600"/>
                <a:ext cx="7292160" cy="1476000"/>
              </a:xfrm>
              <a:custGeom>
                <a:avLst/>
                <a:gdLst/>
                <a:ahLst/>
                <a:rect l="l" t="t" r="r" b="b"/>
                <a:pathLst>
                  <a:path w="6380" h="2403">
                    <a:moveTo>
                      <a:pt x="0" y="240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380" y="0"/>
                    </a:lnTo>
                    <a:lnTo>
                      <a:pt x="6380" y="2403"/>
                    </a:lnTo>
                    <a:lnTo>
                      <a:pt x="6380" y="2403"/>
                    </a:lnTo>
                    <a:lnTo>
                      <a:pt x="0" y="24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061160" y="5247000"/>
                <a:ext cx="980280" cy="18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7003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  (Hz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3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CE5-CA50-4CA3-8CA2-E85E31CD7236}" type="slidenum">
              <a:t>67</a:t>
            </a:fld>
          </a:p>
        </p:txBody>
      </p:sp>
    </p:spTree>
  </p:cSld>
  <p:transition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Sonidos inarmó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116-D34C-4007-997E-507C56B3693E}" type="slidenum">
              <a:t>68</a:t>
            </a:fld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754200" y="7246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sonid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armónic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tienen una cantidad de frecuenci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rbitrar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lamad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ar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1484280" y="3852720"/>
                <a:ext cx="61786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áx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48" name=""/>
          <p:cNvSpPr/>
          <p:nvPr/>
        </p:nvSpPr>
        <p:spPr>
          <a:xfrm flipV="1">
            <a:off x="5830920" y="4992120"/>
            <a:ext cx="434880" cy="639720"/>
          </a:xfrm>
          <a:custGeom>
            <a:avLst/>
            <a:gdLst/>
            <a:ahLst/>
            <a:rect l="l" t="t" r="r" b="b"/>
            <a:pathLst>
              <a:path w="274" h="283">
                <a:moveTo>
                  <a:pt x="0" y="283"/>
                </a:moveTo>
                <a:lnTo>
                  <a:pt x="0" y="0"/>
                </a:lnTo>
                <a:lnTo>
                  <a:pt x="274" y="0"/>
                </a:ln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6254640" y="54100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Parcial </a:t>
            </a:r>
            <a:r>
              <a:rPr b="1" i="1" lang="es-ES_tradnl" sz="1800" spc="-1" strike="noStrike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256-22FA-4F33-9B8E-A214B07D121E}" type="slidenum">
              <a:t>69</a:t>
            </a:fld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0600" y="538200"/>
            <a:ext cx="6562800" cy="57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43C-9682-4361-AC23-DD6EFA533EF9}" type="slidenum">
              <a:t>7</a:t>
            </a:fld>
          </a:p>
        </p:txBody>
      </p:sp>
    </p:spTree>
  </p:cSld>
  <p:transition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973080" y="504720"/>
            <a:ext cx="7197480" cy="5854320"/>
            <a:chOff x="973080" y="504720"/>
            <a:chExt cx="7197480" cy="5854320"/>
          </a:xfrm>
        </p:grpSpPr>
        <p:grpSp>
          <p:nvGrpSpPr>
            <p:cNvPr id="1853" name=""/>
            <p:cNvGrpSpPr/>
            <p:nvPr/>
          </p:nvGrpSpPr>
          <p:grpSpPr>
            <a:xfrm>
              <a:off x="1017000" y="504720"/>
              <a:ext cx="6995880" cy="2844000"/>
              <a:chOff x="1017000" y="504720"/>
              <a:chExt cx="6995880" cy="2844000"/>
            </a:xfrm>
          </p:grpSpPr>
          <p:sp>
            <p:nvSpPr>
              <p:cNvPr id="1854" name=""/>
              <p:cNvSpPr/>
              <p:nvPr/>
            </p:nvSpPr>
            <p:spPr>
              <a:xfrm>
                <a:off x="1368360" y="2894400"/>
                <a:ext cx="9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663880" y="2894400"/>
                <a:ext cx="3330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469680" y="2894400"/>
                <a:ext cx="3330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318760" y="28944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520520" y="28944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723000" y="2894400"/>
                <a:ext cx="428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42524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52648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62772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2716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82948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930000" y="2768760"/>
                <a:ext cx="0" cy="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4252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644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8651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085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3068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2526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7468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9664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1867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4074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6277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8473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0676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2872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5075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7271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9496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1692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3895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60916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829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0490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2704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49008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7104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300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1503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37100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59132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811640" y="276876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188000" y="1583280"/>
                <a:ext cx="9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017000" y="2662200"/>
                <a:ext cx="300600" cy="3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0.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017000" y="2302560"/>
                <a:ext cx="30060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017000" y="1942920"/>
                <a:ext cx="300600" cy="37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-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058040" y="1222920"/>
                <a:ext cx="23832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058040" y="864000"/>
                <a:ext cx="238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058040" y="504720"/>
                <a:ext cx="238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1337400" y="276876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1337400" y="240804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1337400" y="204948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1337400" y="168984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1337400" y="132912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1337400" y="96948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1337400" y="609840"/>
                <a:ext cx="8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1382400" y="258948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1382400" y="240804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1382400" y="222984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1382400" y="204948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1382400" y="186912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1382400" y="168984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1382400" y="150948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>
                <a:off x="1382400" y="132912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1382400" y="114876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1382400" y="96948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1382400" y="79020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1382400" y="60984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425240" y="626760"/>
                <a:ext cx="6587640" cy="2108160"/>
              </a:xfrm>
              <a:custGeom>
                <a:avLst/>
                <a:gdLst/>
                <a:ahLst/>
                <a:rect l="l" t="t" r="r" b="b"/>
                <a:pathLst>
                  <a:path w="6380" h="2347">
                    <a:moveTo>
                      <a:pt x="0" y="1183"/>
                    </a:moveTo>
                    <a:lnTo>
                      <a:pt x="5" y="952"/>
                    </a:lnTo>
                    <a:lnTo>
                      <a:pt x="10" y="734"/>
                    </a:lnTo>
                    <a:lnTo>
                      <a:pt x="15" y="535"/>
                    </a:lnTo>
                    <a:lnTo>
                      <a:pt x="19" y="365"/>
                    </a:lnTo>
                    <a:lnTo>
                      <a:pt x="25" y="233"/>
                    </a:lnTo>
                    <a:lnTo>
                      <a:pt x="29" y="140"/>
                    </a:lnTo>
                    <a:lnTo>
                      <a:pt x="34" y="90"/>
                    </a:lnTo>
                    <a:lnTo>
                      <a:pt x="39" y="83"/>
                    </a:lnTo>
                    <a:lnTo>
                      <a:pt x="44" y="118"/>
                    </a:lnTo>
                    <a:lnTo>
                      <a:pt x="48" y="187"/>
                    </a:lnTo>
                    <a:lnTo>
                      <a:pt x="54" y="287"/>
                    </a:lnTo>
                    <a:lnTo>
                      <a:pt x="58" y="411"/>
                    </a:lnTo>
                    <a:lnTo>
                      <a:pt x="63" y="550"/>
                    </a:lnTo>
                    <a:lnTo>
                      <a:pt x="68" y="700"/>
                    </a:lnTo>
                    <a:lnTo>
                      <a:pt x="73" y="851"/>
                    </a:lnTo>
                    <a:lnTo>
                      <a:pt x="77" y="1000"/>
                    </a:lnTo>
                    <a:lnTo>
                      <a:pt x="83" y="1142"/>
                    </a:lnTo>
                    <a:lnTo>
                      <a:pt x="87" y="1272"/>
                    </a:lnTo>
                    <a:lnTo>
                      <a:pt x="92" y="1391"/>
                    </a:lnTo>
                    <a:lnTo>
                      <a:pt x="97" y="1496"/>
                    </a:lnTo>
                    <a:lnTo>
                      <a:pt x="102" y="1588"/>
                    </a:lnTo>
                    <a:lnTo>
                      <a:pt x="106" y="1664"/>
                    </a:lnTo>
                    <a:lnTo>
                      <a:pt x="112" y="1729"/>
                    </a:lnTo>
                    <a:lnTo>
                      <a:pt x="116" y="1781"/>
                    </a:lnTo>
                    <a:lnTo>
                      <a:pt x="121" y="1820"/>
                    </a:lnTo>
                    <a:lnTo>
                      <a:pt x="126" y="1848"/>
                    </a:lnTo>
                    <a:lnTo>
                      <a:pt x="131" y="1863"/>
                    </a:lnTo>
                    <a:lnTo>
                      <a:pt x="135" y="1863"/>
                    </a:lnTo>
                    <a:lnTo>
                      <a:pt x="141" y="1848"/>
                    </a:lnTo>
                    <a:lnTo>
                      <a:pt x="145" y="1819"/>
                    </a:lnTo>
                    <a:lnTo>
                      <a:pt x="150" y="1775"/>
                    </a:lnTo>
                    <a:lnTo>
                      <a:pt x="155" y="1715"/>
                    </a:lnTo>
                    <a:lnTo>
                      <a:pt x="160" y="1639"/>
                    </a:lnTo>
                    <a:lnTo>
                      <a:pt x="165" y="1550"/>
                    </a:lnTo>
                    <a:lnTo>
                      <a:pt x="170" y="1450"/>
                    </a:lnTo>
                    <a:lnTo>
                      <a:pt x="174" y="1345"/>
                    </a:lnTo>
                    <a:lnTo>
                      <a:pt x="180" y="1234"/>
                    </a:lnTo>
                    <a:lnTo>
                      <a:pt x="184" y="1125"/>
                    </a:lnTo>
                    <a:lnTo>
                      <a:pt x="189" y="1020"/>
                    </a:lnTo>
                    <a:lnTo>
                      <a:pt x="194" y="926"/>
                    </a:lnTo>
                    <a:lnTo>
                      <a:pt x="199" y="843"/>
                    </a:lnTo>
                    <a:lnTo>
                      <a:pt x="203" y="776"/>
                    </a:lnTo>
                    <a:lnTo>
                      <a:pt x="209" y="725"/>
                    </a:lnTo>
                    <a:lnTo>
                      <a:pt x="213" y="693"/>
                    </a:lnTo>
                    <a:lnTo>
                      <a:pt x="218" y="676"/>
                    </a:lnTo>
                    <a:lnTo>
                      <a:pt x="223" y="676"/>
                    </a:lnTo>
                    <a:lnTo>
                      <a:pt x="228" y="687"/>
                    </a:lnTo>
                    <a:lnTo>
                      <a:pt x="232" y="711"/>
                    </a:lnTo>
                    <a:lnTo>
                      <a:pt x="238" y="741"/>
                    </a:lnTo>
                    <a:lnTo>
                      <a:pt x="242" y="775"/>
                    </a:lnTo>
                    <a:lnTo>
                      <a:pt x="247" y="813"/>
                    </a:lnTo>
                    <a:lnTo>
                      <a:pt x="252" y="852"/>
                    </a:lnTo>
                    <a:lnTo>
                      <a:pt x="257" y="892"/>
                    </a:lnTo>
                    <a:lnTo>
                      <a:pt x="261" y="934"/>
                    </a:lnTo>
                    <a:lnTo>
                      <a:pt x="267" y="976"/>
                    </a:lnTo>
                    <a:lnTo>
                      <a:pt x="271" y="1022"/>
                    </a:lnTo>
                    <a:lnTo>
                      <a:pt x="276" y="1072"/>
                    </a:lnTo>
                    <a:lnTo>
                      <a:pt x="281" y="1128"/>
                    </a:lnTo>
                    <a:lnTo>
                      <a:pt x="286" y="1193"/>
                    </a:lnTo>
                    <a:lnTo>
                      <a:pt x="290" y="1263"/>
                    </a:lnTo>
                    <a:lnTo>
                      <a:pt x="296" y="1341"/>
                    </a:lnTo>
                    <a:lnTo>
                      <a:pt x="300" y="1423"/>
                    </a:lnTo>
                    <a:lnTo>
                      <a:pt x="305" y="1505"/>
                    </a:lnTo>
                    <a:lnTo>
                      <a:pt x="310" y="1584"/>
                    </a:lnTo>
                    <a:lnTo>
                      <a:pt x="315" y="1655"/>
                    </a:lnTo>
                    <a:lnTo>
                      <a:pt x="319" y="1712"/>
                    </a:lnTo>
                    <a:lnTo>
                      <a:pt x="325" y="1752"/>
                    </a:lnTo>
                    <a:lnTo>
                      <a:pt x="329" y="1769"/>
                    </a:lnTo>
                    <a:lnTo>
                      <a:pt x="334" y="1759"/>
                    </a:lnTo>
                    <a:lnTo>
                      <a:pt x="339" y="1721"/>
                    </a:lnTo>
                    <a:lnTo>
                      <a:pt x="344" y="1655"/>
                    </a:lnTo>
                    <a:lnTo>
                      <a:pt x="348" y="1563"/>
                    </a:lnTo>
                    <a:lnTo>
                      <a:pt x="354" y="1449"/>
                    </a:lnTo>
                    <a:lnTo>
                      <a:pt x="358" y="1319"/>
                    </a:lnTo>
                    <a:lnTo>
                      <a:pt x="363" y="1179"/>
                    </a:lnTo>
                    <a:lnTo>
                      <a:pt x="368" y="1037"/>
                    </a:lnTo>
                    <a:lnTo>
                      <a:pt x="373" y="903"/>
                    </a:lnTo>
                    <a:lnTo>
                      <a:pt x="377" y="784"/>
                    </a:lnTo>
                    <a:lnTo>
                      <a:pt x="383" y="687"/>
                    </a:lnTo>
                    <a:lnTo>
                      <a:pt x="387" y="619"/>
                    </a:lnTo>
                    <a:lnTo>
                      <a:pt x="392" y="584"/>
                    </a:lnTo>
                    <a:lnTo>
                      <a:pt x="397" y="581"/>
                    </a:lnTo>
                    <a:lnTo>
                      <a:pt x="402" y="614"/>
                    </a:lnTo>
                    <a:lnTo>
                      <a:pt x="406" y="678"/>
                    </a:lnTo>
                    <a:lnTo>
                      <a:pt x="412" y="769"/>
                    </a:lnTo>
                    <a:lnTo>
                      <a:pt x="416" y="879"/>
                    </a:lnTo>
                    <a:lnTo>
                      <a:pt x="421" y="1003"/>
                    </a:lnTo>
                    <a:lnTo>
                      <a:pt x="426" y="1133"/>
                    </a:lnTo>
                    <a:lnTo>
                      <a:pt x="431" y="1260"/>
                    </a:lnTo>
                    <a:lnTo>
                      <a:pt x="435" y="1379"/>
                    </a:lnTo>
                    <a:lnTo>
                      <a:pt x="441" y="1482"/>
                    </a:lnTo>
                    <a:lnTo>
                      <a:pt x="445" y="1565"/>
                    </a:lnTo>
                    <a:lnTo>
                      <a:pt x="450" y="1624"/>
                    </a:lnTo>
                    <a:lnTo>
                      <a:pt x="455" y="1660"/>
                    </a:lnTo>
                    <a:lnTo>
                      <a:pt x="460" y="1671"/>
                    </a:lnTo>
                    <a:lnTo>
                      <a:pt x="464" y="1658"/>
                    </a:lnTo>
                    <a:lnTo>
                      <a:pt x="470" y="1624"/>
                    </a:lnTo>
                    <a:lnTo>
                      <a:pt x="474" y="1574"/>
                    </a:lnTo>
                    <a:lnTo>
                      <a:pt x="479" y="1510"/>
                    </a:lnTo>
                    <a:lnTo>
                      <a:pt x="484" y="1434"/>
                    </a:lnTo>
                    <a:lnTo>
                      <a:pt x="489" y="1352"/>
                    </a:lnTo>
                    <a:lnTo>
                      <a:pt x="493" y="1268"/>
                    </a:lnTo>
                    <a:lnTo>
                      <a:pt x="499" y="1181"/>
                    </a:lnTo>
                    <a:lnTo>
                      <a:pt x="503" y="1096"/>
                    </a:lnTo>
                    <a:lnTo>
                      <a:pt x="508" y="1015"/>
                    </a:lnTo>
                    <a:lnTo>
                      <a:pt x="513" y="938"/>
                    </a:lnTo>
                    <a:lnTo>
                      <a:pt x="518" y="867"/>
                    </a:lnTo>
                    <a:lnTo>
                      <a:pt x="522" y="803"/>
                    </a:lnTo>
                    <a:lnTo>
                      <a:pt x="528" y="750"/>
                    </a:lnTo>
                    <a:lnTo>
                      <a:pt x="532" y="706"/>
                    </a:lnTo>
                    <a:lnTo>
                      <a:pt x="537" y="676"/>
                    </a:lnTo>
                    <a:lnTo>
                      <a:pt x="542" y="661"/>
                    </a:lnTo>
                    <a:lnTo>
                      <a:pt x="547" y="663"/>
                    </a:lnTo>
                    <a:lnTo>
                      <a:pt x="551" y="683"/>
                    </a:lnTo>
                    <a:lnTo>
                      <a:pt x="557" y="722"/>
                    </a:lnTo>
                    <a:lnTo>
                      <a:pt x="561" y="782"/>
                    </a:lnTo>
                    <a:lnTo>
                      <a:pt x="566" y="860"/>
                    </a:lnTo>
                    <a:lnTo>
                      <a:pt x="571" y="956"/>
                    </a:lnTo>
                    <a:lnTo>
                      <a:pt x="576" y="1065"/>
                    </a:lnTo>
                    <a:lnTo>
                      <a:pt x="580" y="1185"/>
                    </a:lnTo>
                    <a:lnTo>
                      <a:pt x="586" y="1309"/>
                    </a:lnTo>
                    <a:lnTo>
                      <a:pt x="590" y="1433"/>
                    </a:lnTo>
                    <a:lnTo>
                      <a:pt x="595" y="1549"/>
                    </a:lnTo>
                    <a:lnTo>
                      <a:pt x="600" y="1652"/>
                    </a:lnTo>
                    <a:lnTo>
                      <a:pt x="605" y="1738"/>
                    </a:lnTo>
                    <a:lnTo>
                      <a:pt x="609" y="1800"/>
                    </a:lnTo>
                    <a:lnTo>
                      <a:pt x="615" y="1838"/>
                    </a:lnTo>
                    <a:lnTo>
                      <a:pt x="619" y="1848"/>
                    </a:lnTo>
                    <a:lnTo>
                      <a:pt x="624" y="1831"/>
                    </a:lnTo>
                    <a:lnTo>
                      <a:pt x="629" y="1790"/>
                    </a:lnTo>
                    <a:lnTo>
                      <a:pt x="634" y="1728"/>
                    </a:lnTo>
                    <a:lnTo>
                      <a:pt x="638" y="1648"/>
                    </a:lnTo>
                    <a:lnTo>
                      <a:pt x="644" y="1556"/>
                    </a:lnTo>
                    <a:lnTo>
                      <a:pt x="648" y="1459"/>
                    </a:lnTo>
                    <a:lnTo>
                      <a:pt x="653" y="1361"/>
                    </a:lnTo>
                    <a:lnTo>
                      <a:pt x="658" y="1267"/>
                    </a:lnTo>
                    <a:lnTo>
                      <a:pt x="663" y="1181"/>
                    </a:lnTo>
                    <a:lnTo>
                      <a:pt x="667" y="1105"/>
                    </a:lnTo>
                    <a:lnTo>
                      <a:pt x="673" y="1039"/>
                    </a:lnTo>
                    <a:lnTo>
                      <a:pt x="677" y="986"/>
                    </a:lnTo>
                    <a:lnTo>
                      <a:pt x="682" y="941"/>
                    </a:lnTo>
                    <a:lnTo>
                      <a:pt x="687" y="905"/>
                    </a:lnTo>
                    <a:lnTo>
                      <a:pt x="692" y="872"/>
                    </a:lnTo>
                    <a:lnTo>
                      <a:pt x="696" y="841"/>
                    </a:lnTo>
                    <a:lnTo>
                      <a:pt x="702" y="809"/>
                    </a:lnTo>
                    <a:lnTo>
                      <a:pt x="706" y="774"/>
                    </a:lnTo>
                    <a:lnTo>
                      <a:pt x="711" y="736"/>
                    </a:lnTo>
                    <a:lnTo>
                      <a:pt x="716" y="696"/>
                    </a:lnTo>
                    <a:lnTo>
                      <a:pt x="721" y="656"/>
                    </a:lnTo>
                    <a:lnTo>
                      <a:pt x="725" y="619"/>
                    </a:lnTo>
                    <a:lnTo>
                      <a:pt x="731" y="589"/>
                    </a:lnTo>
                    <a:lnTo>
                      <a:pt x="735" y="570"/>
                    </a:lnTo>
                    <a:lnTo>
                      <a:pt x="740" y="569"/>
                    </a:lnTo>
                    <a:lnTo>
                      <a:pt x="745" y="588"/>
                    </a:lnTo>
                    <a:lnTo>
                      <a:pt x="750" y="632"/>
                    </a:lnTo>
                    <a:lnTo>
                      <a:pt x="754" y="702"/>
                    </a:lnTo>
                    <a:lnTo>
                      <a:pt x="760" y="798"/>
                    </a:lnTo>
                    <a:lnTo>
                      <a:pt x="764" y="920"/>
                    </a:lnTo>
                    <a:lnTo>
                      <a:pt x="769" y="1063"/>
                    </a:lnTo>
                    <a:lnTo>
                      <a:pt x="774" y="1223"/>
                    </a:lnTo>
                    <a:lnTo>
                      <a:pt x="779" y="1394"/>
                    </a:lnTo>
                    <a:lnTo>
                      <a:pt x="783" y="1565"/>
                    </a:lnTo>
                    <a:lnTo>
                      <a:pt x="789" y="1731"/>
                    </a:lnTo>
                    <a:lnTo>
                      <a:pt x="793" y="1884"/>
                    </a:lnTo>
                    <a:lnTo>
                      <a:pt x="798" y="2014"/>
                    </a:lnTo>
                    <a:lnTo>
                      <a:pt x="803" y="2116"/>
                    </a:lnTo>
                    <a:lnTo>
                      <a:pt x="808" y="2185"/>
                    </a:lnTo>
                    <a:lnTo>
                      <a:pt x="812" y="2217"/>
                    </a:lnTo>
                    <a:lnTo>
                      <a:pt x="818" y="2213"/>
                    </a:lnTo>
                    <a:lnTo>
                      <a:pt x="822" y="2170"/>
                    </a:lnTo>
                    <a:lnTo>
                      <a:pt x="827" y="2093"/>
                    </a:lnTo>
                    <a:lnTo>
                      <a:pt x="832" y="1986"/>
                    </a:lnTo>
                    <a:lnTo>
                      <a:pt x="837" y="1854"/>
                    </a:lnTo>
                    <a:lnTo>
                      <a:pt x="841" y="1700"/>
                    </a:lnTo>
                    <a:lnTo>
                      <a:pt x="847" y="1534"/>
                    </a:lnTo>
                    <a:lnTo>
                      <a:pt x="851" y="1359"/>
                    </a:lnTo>
                    <a:lnTo>
                      <a:pt x="856" y="1183"/>
                    </a:lnTo>
                    <a:lnTo>
                      <a:pt x="861" y="1012"/>
                    </a:lnTo>
                    <a:lnTo>
                      <a:pt x="866" y="847"/>
                    </a:lnTo>
                    <a:lnTo>
                      <a:pt x="870" y="694"/>
                    </a:lnTo>
                    <a:lnTo>
                      <a:pt x="876" y="557"/>
                    </a:lnTo>
                    <a:lnTo>
                      <a:pt x="880" y="438"/>
                    </a:lnTo>
                    <a:lnTo>
                      <a:pt x="885" y="340"/>
                    </a:lnTo>
                    <a:lnTo>
                      <a:pt x="890" y="263"/>
                    </a:lnTo>
                    <a:lnTo>
                      <a:pt x="895" y="210"/>
                    </a:lnTo>
                    <a:lnTo>
                      <a:pt x="899" y="183"/>
                    </a:lnTo>
                    <a:lnTo>
                      <a:pt x="905" y="182"/>
                    </a:lnTo>
                    <a:lnTo>
                      <a:pt x="909" y="208"/>
                    </a:lnTo>
                    <a:lnTo>
                      <a:pt x="914" y="263"/>
                    </a:lnTo>
                    <a:lnTo>
                      <a:pt x="919" y="345"/>
                    </a:lnTo>
                    <a:lnTo>
                      <a:pt x="924" y="453"/>
                    </a:lnTo>
                    <a:lnTo>
                      <a:pt x="928" y="587"/>
                    </a:lnTo>
                    <a:lnTo>
                      <a:pt x="934" y="742"/>
                    </a:lnTo>
                    <a:lnTo>
                      <a:pt x="938" y="913"/>
                    </a:lnTo>
                    <a:lnTo>
                      <a:pt x="943" y="1097"/>
                    </a:lnTo>
                    <a:lnTo>
                      <a:pt x="948" y="1284"/>
                    </a:lnTo>
                    <a:lnTo>
                      <a:pt x="953" y="1471"/>
                    </a:lnTo>
                    <a:lnTo>
                      <a:pt x="957" y="1647"/>
                    </a:lnTo>
                    <a:lnTo>
                      <a:pt x="963" y="1805"/>
                    </a:lnTo>
                    <a:lnTo>
                      <a:pt x="967" y="1937"/>
                    </a:lnTo>
                    <a:lnTo>
                      <a:pt x="972" y="2041"/>
                    </a:lnTo>
                    <a:lnTo>
                      <a:pt x="977" y="2110"/>
                    </a:lnTo>
                    <a:lnTo>
                      <a:pt x="982" y="2140"/>
                    </a:lnTo>
                    <a:lnTo>
                      <a:pt x="986" y="2133"/>
                    </a:lnTo>
                    <a:lnTo>
                      <a:pt x="992" y="2091"/>
                    </a:lnTo>
                    <a:lnTo>
                      <a:pt x="996" y="2015"/>
                    </a:lnTo>
                    <a:lnTo>
                      <a:pt x="1001" y="1912"/>
                    </a:lnTo>
                    <a:lnTo>
                      <a:pt x="1006" y="1788"/>
                    </a:lnTo>
                    <a:lnTo>
                      <a:pt x="1011" y="1650"/>
                    </a:lnTo>
                    <a:lnTo>
                      <a:pt x="1015" y="1507"/>
                    </a:lnTo>
                    <a:lnTo>
                      <a:pt x="1021" y="1367"/>
                    </a:lnTo>
                    <a:lnTo>
                      <a:pt x="1025" y="1234"/>
                    </a:lnTo>
                    <a:lnTo>
                      <a:pt x="1030" y="1116"/>
                    </a:lnTo>
                    <a:lnTo>
                      <a:pt x="1035" y="1016"/>
                    </a:lnTo>
                    <a:lnTo>
                      <a:pt x="1040" y="935"/>
                    </a:lnTo>
                    <a:lnTo>
                      <a:pt x="1044" y="874"/>
                    </a:lnTo>
                    <a:lnTo>
                      <a:pt x="1050" y="833"/>
                    </a:lnTo>
                    <a:lnTo>
                      <a:pt x="1054" y="808"/>
                    </a:lnTo>
                    <a:lnTo>
                      <a:pt x="1059" y="795"/>
                    </a:lnTo>
                    <a:lnTo>
                      <a:pt x="1064" y="792"/>
                    </a:lnTo>
                    <a:lnTo>
                      <a:pt x="1069" y="792"/>
                    </a:lnTo>
                    <a:lnTo>
                      <a:pt x="1073" y="794"/>
                    </a:lnTo>
                    <a:lnTo>
                      <a:pt x="1079" y="796"/>
                    </a:lnTo>
                    <a:lnTo>
                      <a:pt x="1083" y="795"/>
                    </a:lnTo>
                    <a:lnTo>
                      <a:pt x="1088" y="792"/>
                    </a:lnTo>
                    <a:lnTo>
                      <a:pt x="1093" y="788"/>
                    </a:lnTo>
                    <a:lnTo>
                      <a:pt x="1098" y="784"/>
                    </a:lnTo>
                    <a:lnTo>
                      <a:pt x="1102" y="784"/>
                    </a:lnTo>
                    <a:lnTo>
                      <a:pt x="1108" y="792"/>
                    </a:lnTo>
                    <a:lnTo>
                      <a:pt x="1112" y="811"/>
                    </a:lnTo>
                    <a:lnTo>
                      <a:pt x="1117" y="843"/>
                    </a:lnTo>
                    <a:lnTo>
                      <a:pt x="1122" y="890"/>
                    </a:lnTo>
                    <a:lnTo>
                      <a:pt x="1127" y="954"/>
                    </a:lnTo>
                    <a:lnTo>
                      <a:pt x="1131" y="1032"/>
                    </a:lnTo>
                    <a:lnTo>
                      <a:pt x="1137" y="1122"/>
                    </a:lnTo>
                    <a:lnTo>
                      <a:pt x="1141" y="1221"/>
                    </a:lnTo>
                    <a:lnTo>
                      <a:pt x="1146" y="1326"/>
                    </a:lnTo>
                    <a:lnTo>
                      <a:pt x="1151" y="1428"/>
                    </a:lnTo>
                    <a:lnTo>
                      <a:pt x="1156" y="1525"/>
                    </a:lnTo>
                    <a:lnTo>
                      <a:pt x="1160" y="1610"/>
                    </a:lnTo>
                    <a:lnTo>
                      <a:pt x="1166" y="1678"/>
                    </a:lnTo>
                    <a:lnTo>
                      <a:pt x="1170" y="1725"/>
                    </a:lnTo>
                    <a:lnTo>
                      <a:pt x="1175" y="1748"/>
                    </a:lnTo>
                    <a:lnTo>
                      <a:pt x="1180" y="1747"/>
                    </a:lnTo>
                    <a:lnTo>
                      <a:pt x="1185" y="1722"/>
                    </a:lnTo>
                    <a:lnTo>
                      <a:pt x="1189" y="1676"/>
                    </a:lnTo>
                    <a:lnTo>
                      <a:pt x="1195" y="1609"/>
                    </a:lnTo>
                    <a:lnTo>
                      <a:pt x="1199" y="1527"/>
                    </a:lnTo>
                    <a:lnTo>
                      <a:pt x="1204" y="1436"/>
                    </a:lnTo>
                    <a:lnTo>
                      <a:pt x="1209" y="1340"/>
                    </a:lnTo>
                    <a:lnTo>
                      <a:pt x="1214" y="1242"/>
                    </a:lnTo>
                    <a:lnTo>
                      <a:pt x="1218" y="1149"/>
                    </a:lnTo>
                    <a:lnTo>
                      <a:pt x="1224" y="1062"/>
                    </a:lnTo>
                    <a:lnTo>
                      <a:pt x="1228" y="985"/>
                    </a:lnTo>
                    <a:lnTo>
                      <a:pt x="1233" y="920"/>
                    </a:lnTo>
                    <a:lnTo>
                      <a:pt x="1238" y="868"/>
                    </a:lnTo>
                    <a:lnTo>
                      <a:pt x="1243" y="829"/>
                    </a:lnTo>
                    <a:lnTo>
                      <a:pt x="1247" y="802"/>
                    </a:lnTo>
                    <a:lnTo>
                      <a:pt x="1253" y="790"/>
                    </a:lnTo>
                    <a:lnTo>
                      <a:pt x="1257" y="789"/>
                    </a:lnTo>
                    <a:lnTo>
                      <a:pt x="1262" y="799"/>
                    </a:lnTo>
                    <a:lnTo>
                      <a:pt x="1267" y="821"/>
                    </a:lnTo>
                    <a:lnTo>
                      <a:pt x="1272" y="854"/>
                    </a:lnTo>
                    <a:lnTo>
                      <a:pt x="1276" y="898"/>
                    </a:lnTo>
                    <a:lnTo>
                      <a:pt x="1282" y="952"/>
                    </a:lnTo>
                    <a:lnTo>
                      <a:pt x="1286" y="1018"/>
                    </a:lnTo>
                    <a:lnTo>
                      <a:pt x="1291" y="1092"/>
                    </a:lnTo>
                    <a:lnTo>
                      <a:pt x="1296" y="1174"/>
                    </a:lnTo>
                    <a:lnTo>
                      <a:pt x="1301" y="1261"/>
                    </a:lnTo>
                    <a:lnTo>
                      <a:pt x="1305" y="1351"/>
                    </a:lnTo>
                    <a:lnTo>
                      <a:pt x="1311" y="1439"/>
                    </a:lnTo>
                    <a:lnTo>
                      <a:pt x="1315" y="1521"/>
                    </a:lnTo>
                    <a:lnTo>
                      <a:pt x="1320" y="1592"/>
                    </a:lnTo>
                    <a:lnTo>
                      <a:pt x="1325" y="1647"/>
                    </a:lnTo>
                    <a:lnTo>
                      <a:pt x="1330" y="1681"/>
                    </a:lnTo>
                    <a:lnTo>
                      <a:pt x="1334" y="1690"/>
                    </a:lnTo>
                    <a:lnTo>
                      <a:pt x="1340" y="1672"/>
                    </a:lnTo>
                    <a:lnTo>
                      <a:pt x="1344" y="1627"/>
                    </a:lnTo>
                    <a:lnTo>
                      <a:pt x="1349" y="1552"/>
                    </a:lnTo>
                    <a:lnTo>
                      <a:pt x="1354" y="1453"/>
                    </a:lnTo>
                    <a:lnTo>
                      <a:pt x="1359" y="1331"/>
                    </a:lnTo>
                    <a:lnTo>
                      <a:pt x="1363" y="1196"/>
                    </a:lnTo>
                    <a:lnTo>
                      <a:pt x="1369" y="1053"/>
                    </a:lnTo>
                    <a:lnTo>
                      <a:pt x="1373" y="910"/>
                    </a:lnTo>
                    <a:lnTo>
                      <a:pt x="1378" y="776"/>
                    </a:lnTo>
                    <a:lnTo>
                      <a:pt x="1383" y="661"/>
                    </a:lnTo>
                    <a:lnTo>
                      <a:pt x="1388" y="569"/>
                    </a:lnTo>
                    <a:lnTo>
                      <a:pt x="1392" y="509"/>
                    </a:lnTo>
                    <a:lnTo>
                      <a:pt x="1398" y="482"/>
                    </a:lnTo>
                    <a:lnTo>
                      <a:pt x="1402" y="493"/>
                    </a:lnTo>
                    <a:lnTo>
                      <a:pt x="1407" y="539"/>
                    </a:lnTo>
                    <a:lnTo>
                      <a:pt x="1412" y="618"/>
                    </a:lnTo>
                    <a:lnTo>
                      <a:pt x="1417" y="725"/>
                    </a:lnTo>
                    <a:lnTo>
                      <a:pt x="1421" y="853"/>
                    </a:lnTo>
                    <a:lnTo>
                      <a:pt x="1427" y="995"/>
                    </a:lnTo>
                    <a:lnTo>
                      <a:pt x="1431" y="1143"/>
                    </a:lnTo>
                    <a:lnTo>
                      <a:pt x="1436" y="1288"/>
                    </a:lnTo>
                    <a:lnTo>
                      <a:pt x="1441" y="1423"/>
                    </a:lnTo>
                    <a:lnTo>
                      <a:pt x="1446" y="1542"/>
                    </a:lnTo>
                    <a:lnTo>
                      <a:pt x="1450" y="1640"/>
                    </a:lnTo>
                    <a:lnTo>
                      <a:pt x="1456" y="1715"/>
                    </a:lnTo>
                    <a:lnTo>
                      <a:pt x="1460" y="1764"/>
                    </a:lnTo>
                    <a:lnTo>
                      <a:pt x="1466" y="1788"/>
                    </a:lnTo>
                    <a:lnTo>
                      <a:pt x="1470" y="1789"/>
                    </a:lnTo>
                    <a:lnTo>
                      <a:pt x="1475" y="1771"/>
                    </a:lnTo>
                    <a:lnTo>
                      <a:pt x="1480" y="1738"/>
                    </a:lnTo>
                    <a:lnTo>
                      <a:pt x="1485" y="1692"/>
                    </a:lnTo>
                    <a:lnTo>
                      <a:pt x="1489" y="1638"/>
                    </a:lnTo>
                    <a:lnTo>
                      <a:pt x="1495" y="1579"/>
                    </a:lnTo>
                    <a:lnTo>
                      <a:pt x="1499" y="1516"/>
                    </a:lnTo>
                    <a:lnTo>
                      <a:pt x="1504" y="1454"/>
                    </a:lnTo>
                    <a:lnTo>
                      <a:pt x="1509" y="1390"/>
                    </a:lnTo>
                    <a:lnTo>
                      <a:pt x="1514" y="1327"/>
                    </a:lnTo>
                    <a:lnTo>
                      <a:pt x="1518" y="1262"/>
                    </a:lnTo>
                    <a:lnTo>
                      <a:pt x="1524" y="1196"/>
                    </a:lnTo>
                    <a:lnTo>
                      <a:pt x="1528" y="1128"/>
                    </a:lnTo>
                    <a:lnTo>
                      <a:pt x="1533" y="1056"/>
                    </a:lnTo>
                    <a:lnTo>
                      <a:pt x="1538" y="983"/>
                    </a:lnTo>
                    <a:lnTo>
                      <a:pt x="1543" y="906"/>
                    </a:lnTo>
                    <a:lnTo>
                      <a:pt x="1547" y="829"/>
                    </a:lnTo>
                    <a:lnTo>
                      <a:pt x="1553" y="754"/>
                    </a:lnTo>
                    <a:lnTo>
                      <a:pt x="1557" y="685"/>
                    </a:lnTo>
                    <a:lnTo>
                      <a:pt x="1562" y="624"/>
                    </a:lnTo>
                    <a:lnTo>
                      <a:pt x="1567" y="575"/>
                    </a:lnTo>
                    <a:lnTo>
                      <a:pt x="1572" y="541"/>
                    </a:lnTo>
                    <a:lnTo>
                      <a:pt x="1576" y="527"/>
                    </a:lnTo>
                    <a:lnTo>
                      <a:pt x="1582" y="531"/>
                    </a:lnTo>
                    <a:lnTo>
                      <a:pt x="1586" y="556"/>
                    </a:lnTo>
                    <a:lnTo>
                      <a:pt x="1591" y="603"/>
                    </a:lnTo>
                    <a:lnTo>
                      <a:pt x="1596" y="667"/>
                    </a:lnTo>
                    <a:lnTo>
                      <a:pt x="1601" y="750"/>
                    </a:lnTo>
                    <a:lnTo>
                      <a:pt x="1605" y="846"/>
                    </a:lnTo>
                    <a:lnTo>
                      <a:pt x="1611" y="950"/>
                    </a:lnTo>
                    <a:lnTo>
                      <a:pt x="1615" y="1063"/>
                    </a:lnTo>
                    <a:lnTo>
                      <a:pt x="1620" y="1176"/>
                    </a:lnTo>
                    <a:lnTo>
                      <a:pt x="1625" y="1288"/>
                    </a:lnTo>
                    <a:lnTo>
                      <a:pt x="1630" y="1396"/>
                    </a:lnTo>
                    <a:lnTo>
                      <a:pt x="1634" y="1496"/>
                    </a:lnTo>
                    <a:lnTo>
                      <a:pt x="1640" y="1589"/>
                    </a:lnTo>
                    <a:lnTo>
                      <a:pt x="1644" y="1671"/>
                    </a:lnTo>
                    <a:lnTo>
                      <a:pt x="1649" y="1745"/>
                    </a:lnTo>
                    <a:lnTo>
                      <a:pt x="1654" y="1807"/>
                    </a:lnTo>
                    <a:lnTo>
                      <a:pt x="1659" y="1858"/>
                    </a:lnTo>
                    <a:lnTo>
                      <a:pt x="1663" y="1901"/>
                    </a:lnTo>
                    <a:lnTo>
                      <a:pt x="1669" y="1931"/>
                    </a:lnTo>
                    <a:lnTo>
                      <a:pt x="1673" y="1947"/>
                    </a:lnTo>
                    <a:lnTo>
                      <a:pt x="1678" y="1952"/>
                    </a:lnTo>
                    <a:lnTo>
                      <a:pt x="1683" y="1938"/>
                    </a:lnTo>
                    <a:lnTo>
                      <a:pt x="1688" y="1907"/>
                    </a:lnTo>
                    <a:lnTo>
                      <a:pt x="1692" y="1855"/>
                    </a:lnTo>
                    <a:lnTo>
                      <a:pt x="1698" y="1781"/>
                    </a:lnTo>
                    <a:lnTo>
                      <a:pt x="1702" y="1682"/>
                    </a:lnTo>
                    <a:lnTo>
                      <a:pt x="1707" y="1561"/>
                    </a:lnTo>
                    <a:lnTo>
                      <a:pt x="1713" y="1416"/>
                    </a:lnTo>
                    <a:lnTo>
                      <a:pt x="1717" y="1252"/>
                    </a:lnTo>
                    <a:lnTo>
                      <a:pt x="1721" y="1073"/>
                    </a:lnTo>
                    <a:lnTo>
                      <a:pt x="1727" y="885"/>
                    </a:lnTo>
                    <a:lnTo>
                      <a:pt x="1731" y="696"/>
                    </a:lnTo>
                    <a:lnTo>
                      <a:pt x="1736" y="514"/>
                    </a:lnTo>
                    <a:lnTo>
                      <a:pt x="1742" y="348"/>
                    </a:lnTo>
                    <a:lnTo>
                      <a:pt x="1746" y="205"/>
                    </a:lnTo>
                    <a:lnTo>
                      <a:pt x="1750" y="96"/>
                    </a:lnTo>
                    <a:lnTo>
                      <a:pt x="1756" y="26"/>
                    </a:lnTo>
                    <a:lnTo>
                      <a:pt x="1760" y="0"/>
                    </a:lnTo>
                    <a:lnTo>
                      <a:pt x="1765" y="21"/>
                    </a:lnTo>
                    <a:lnTo>
                      <a:pt x="1771" y="88"/>
                    </a:lnTo>
                    <a:lnTo>
                      <a:pt x="1775" y="199"/>
                    </a:lnTo>
                    <a:lnTo>
                      <a:pt x="1779" y="350"/>
                    </a:lnTo>
                    <a:lnTo>
                      <a:pt x="1785" y="532"/>
                    </a:lnTo>
                    <a:lnTo>
                      <a:pt x="1789" y="737"/>
                    </a:lnTo>
                    <a:lnTo>
                      <a:pt x="1794" y="956"/>
                    </a:lnTo>
                    <a:lnTo>
                      <a:pt x="1800" y="1178"/>
                    </a:lnTo>
                    <a:lnTo>
                      <a:pt x="1804" y="1391"/>
                    </a:lnTo>
                    <a:lnTo>
                      <a:pt x="1808" y="1589"/>
                    </a:lnTo>
                    <a:lnTo>
                      <a:pt x="1814" y="1761"/>
                    </a:lnTo>
                    <a:lnTo>
                      <a:pt x="1818" y="1904"/>
                    </a:lnTo>
                    <a:lnTo>
                      <a:pt x="1823" y="2012"/>
                    </a:lnTo>
                    <a:lnTo>
                      <a:pt x="1829" y="2084"/>
                    </a:lnTo>
                    <a:lnTo>
                      <a:pt x="1833" y="2120"/>
                    </a:lnTo>
                    <a:lnTo>
                      <a:pt x="1837" y="2122"/>
                    </a:lnTo>
                    <a:lnTo>
                      <a:pt x="1843" y="2094"/>
                    </a:lnTo>
                    <a:lnTo>
                      <a:pt x="1847" y="2041"/>
                    </a:lnTo>
                    <a:lnTo>
                      <a:pt x="1852" y="1966"/>
                    </a:lnTo>
                    <a:lnTo>
                      <a:pt x="1858" y="1876"/>
                    </a:lnTo>
                    <a:lnTo>
                      <a:pt x="1862" y="1775"/>
                    </a:lnTo>
                    <a:lnTo>
                      <a:pt x="1866" y="1668"/>
                    </a:lnTo>
                    <a:lnTo>
                      <a:pt x="1872" y="1557"/>
                    </a:lnTo>
                    <a:lnTo>
                      <a:pt x="1876" y="1446"/>
                    </a:lnTo>
                    <a:lnTo>
                      <a:pt x="1881" y="1338"/>
                    </a:lnTo>
                    <a:lnTo>
                      <a:pt x="1887" y="1232"/>
                    </a:lnTo>
                    <a:lnTo>
                      <a:pt x="1891" y="1131"/>
                    </a:lnTo>
                    <a:lnTo>
                      <a:pt x="1895" y="1034"/>
                    </a:lnTo>
                    <a:lnTo>
                      <a:pt x="1901" y="942"/>
                    </a:lnTo>
                    <a:lnTo>
                      <a:pt x="1905" y="857"/>
                    </a:lnTo>
                    <a:lnTo>
                      <a:pt x="1910" y="779"/>
                    </a:lnTo>
                    <a:lnTo>
                      <a:pt x="1916" y="711"/>
                    </a:lnTo>
                    <a:lnTo>
                      <a:pt x="1920" y="653"/>
                    </a:lnTo>
                    <a:lnTo>
                      <a:pt x="1924" y="608"/>
                    </a:lnTo>
                    <a:lnTo>
                      <a:pt x="1930" y="578"/>
                    </a:lnTo>
                    <a:lnTo>
                      <a:pt x="1934" y="565"/>
                    </a:lnTo>
                    <a:lnTo>
                      <a:pt x="1939" y="569"/>
                    </a:lnTo>
                    <a:lnTo>
                      <a:pt x="1945" y="593"/>
                    </a:lnTo>
                    <a:lnTo>
                      <a:pt x="1949" y="635"/>
                    </a:lnTo>
                    <a:lnTo>
                      <a:pt x="1953" y="693"/>
                    </a:lnTo>
                    <a:lnTo>
                      <a:pt x="1959" y="765"/>
                    </a:lnTo>
                    <a:lnTo>
                      <a:pt x="1964" y="849"/>
                    </a:lnTo>
                    <a:lnTo>
                      <a:pt x="1968" y="939"/>
                    </a:lnTo>
                    <a:lnTo>
                      <a:pt x="1974" y="1033"/>
                    </a:lnTo>
                    <a:lnTo>
                      <a:pt x="1978" y="1125"/>
                    </a:lnTo>
                    <a:lnTo>
                      <a:pt x="1982" y="1212"/>
                    </a:lnTo>
                    <a:lnTo>
                      <a:pt x="1988" y="1291"/>
                    </a:lnTo>
                    <a:lnTo>
                      <a:pt x="1993" y="1358"/>
                    </a:lnTo>
                    <a:lnTo>
                      <a:pt x="1997" y="1413"/>
                    </a:lnTo>
                    <a:lnTo>
                      <a:pt x="2003" y="1455"/>
                    </a:lnTo>
                    <a:lnTo>
                      <a:pt x="2007" y="1484"/>
                    </a:lnTo>
                    <a:lnTo>
                      <a:pt x="2011" y="1502"/>
                    </a:lnTo>
                    <a:lnTo>
                      <a:pt x="2017" y="1511"/>
                    </a:lnTo>
                    <a:lnTo>
                      <a:pt x="2022" y="1513"/>
                    </a:lnTo>
                    <a:lnTo>
                      <a:pt x="2026" y="1512"/>
                    </a:lnTo>
                    <a:lnTo>
                      <a:pt x="2032" y="1508"/>
                    </a:lnTo>
                    <a:lnTo>
                      <a:pt x="2036" y="1505"/>
                    </a:lnTo>
                    <a:lnTo>
                      <a:pt x="2040" y="1502"/>
                    </a:lnTo>
                    <a:lnTo>
                      <a:pt x="2046" y="1497"/>
                    </a:lnTo>
                    <a:lnTo>
                      <a:pt x="2051" y="1492"/>
                    </a:lnTo>
                    <a:lnTo>
                      <a:pt x="2055" y="1482"/>
                    </a:lnTo>
                    <a:lnTo>
                      <a:pt x="2061" y="1467"/>
                    </a:lnTo>
                    <a:lnTo>
                      <a:pt x="2065" y="1443"/>
                    </a:lnTo>
                    <a:lnTo>
                      <a:pt x="2069" y="1408"/>
                    </a:lnTo>
                    <a:lnTo>
                      <a:pt x="2075" y="1360"/>
                    </a:lnTo>
                    <a:lnTo>
                      <a:pt x="2080" y="1300"/>
                    </a:lnTo>
                    <a:lnTo>
                      <a:pt x="2084" y="1227"/>
                    </a:lnTo>
                    <a:lnTo>
                      <a:pt x="2090" y="1143"/>
                    </a:lnTo>
                    <a:lnTo>
                      <a:pt x="2094" y="1053"/>
                    </a:lnTo>
                    <a:lnTo>
                      <a:pt x="2098" y="959"/>
                    </a:lnTo>
                    <a:lnTo>
                      <a:pt x="2104" y="868"/>
                    </a:lnTo>
                    <a:lnTo>
                      <a:pt x="2109" y="786"/>
                    </a:lnTo>
                    <a:lnTo>
                      <a:pt x="2113" y="720"/>
                    </a:lnTo>
                    <a:lnTo>
                      <a:pt x="2119" y="674"/>
                    </a:lnTo>
                    <a:lnTo>
                      <a:pt x="2123" y="654"/>
                    </a:lnTo>
                    <a:lnTo>
                      <a:pt x="2127" y="662"/>
                    </a:lnTo>
                    <a:lnTo>
                      <a:pt x="2133" y="698"/>
                    </a:lnTo>
                    <a:lnTo>
                      <a:pt x="2138" y="764"/>
                    </a:lnTo>
                    <a:lnTo>
                      <a:pt x="2142" y="856"/>
                    </a:lnTo>
                    <a:lnTo>
                      <a:pt x="2148" y="968"/>
                    </a:lnTo>
                    <a:lnTo>
                      <a:pt x="2152" y="1094"/>
                    </a:lnTo>
                    <a:lnTo>
                      <a:pt x="2156" y="1228"/>
                    </a:lnTo>
                    <a:lnTo>
                      <a:pt x="2162" y="1359"/>
                    </a:lnTo>
                    <a:lnTo>
                      <a:pt x="2167" y="1481"/>
                    </a:lnTo>
                    <a:lnTo>
                      <a:pt x="2171" y="1585"/>
                    </a:lnTo>
                    <a:lnTo>
                      <a:pt x="2177" y="1665"/>
                    </a:lnTo>
                    <a:lnTo>
                      <a:pt x="2181" y="1717"/>
                    </a:lnTo>
                    <a:lnTo>
                      <a:pt x="2185" y="1737"/>
                    </a:lnTo>
                    <a:lnTo>
                      <a:pt x="2191" y="1725"/>
                    </a:lnTo>
                    <a:lnTo>
                      <a:pt x="2196" y="1681"/>
                    </a:lnTo>
                    <a:lnTo>
                      <a:pt x="2200" y="1610"/>
                    </a:lnTo>
                    <a:lnTo>
                      <a:pt x="2206" y="1516"/>
                    </a:lnTo>
                    <a:lnTo>
                      <a:pt x="2210" y="1407"/>
                    </a:lnTo>
                    <a:lnTo>
                      <a:pt x="2215" y="1287"/>
                    </a:lnTo>
                    <a:lnTo>
                      <a:pt x="2220" y="1164"/>
                    </a:lnTo>
                    <a:lnTo>
                      <a:pt x="2225" y="1045"/>
                    </a:lnTo>
                    <a:lnTo>
                      <a:pt x="2229" y="935"/>
                    </a:lnTo>
                    <a:lnTo>
                      <a:pt x="2235" y="840"/>
                    </a:lnTo>
                    <a:lnTo>
                      <a:pt x="2239" y="763"/>
                    </a:lnTo>
                    <a:lnTo>
                      <a:pt x="2244" y="706"/>
                    </a:lnTo>
                    <a:lnTo>
                      <a:pt x="2249" y="671"/>
                    </a:lnTo>
                    <a:lnTo>
                      <a:pt x="2254" y="656"/>
                    </a:lnTo>
                    <a:lnTo>
                      <a:pt x="2258" y="662"/>
                    </a:lnTo>
                    <a:lnTo>
                      <a:pt x="2264" y="686"/>
                    </a:lnTo>
                    <a:lnTo>
                      <a:pt x="2268" y="727"/>
                    </a:lnTo>
                    <a:lnTo>
                      <a:pt x="2273" y="782"/>
                    </a:lnTo>
                    <a:lnTo>
                      <a:pt x="2278" y="849"/>
                    </a:lnTo>
                    <a:lnTo>
                      <a:pt x="2283" y="927"/>
                    </a:lnTo>
                    <a:lnTo>
                      <a:pt x="2287" y="1013"/>
                    </a:lnTo>
                    <a:lnTo>
                      <a:pt x="2293" y="1104"/>
                    </a:lnTo>
                    <a:lnTo>
                      <a:pt x="2297" y="1201"/>
                    </a:lnTo>
                    <a:lnTo>
                      <a:pt x="2302" y="1300"/>
                    </a:lnTo>
                    <a:lnTo>
                      <a:pt x="2307" y="1400"/>
                    </a:lnTo>
                    <a:lnTo>
                      <a:pt x="2312" y="1498"/>
                    </a:lnTo>
                    <a:lnTo>
                      <a:pt x="2316" y="1592"/>
                    </a:lnTo>
                    <a:lnTo>
                      <a:pt x="2322" y="1678"/>
                    </a:lnTo>
                    <a:lnTo>
                      <a:pt x="2326" y="1751"/>
                    </a:lnTo>
                    <a:lnTo>
                      <a:pt x="2331" y="1809"/>
                    </a:lnTo>
                    <a:lnTo>
                      <a:pt x="2336" y="1848"/>
                    </a:lnTo>
                    <a:lnTo>
                      <a:pt x="2341" y="1865"/>
                    </a:lnTo>
                    <a:lnTo>
                      <a:pt x="2345" y="1856"/>
                    </a:lnTo>
                    <a:lnTo>
                      <a:pt x="2351" y="1821"/>
                    </a:lnTo>
                    <a:lnTo>
                      <a:pt x="2355" y="1760"/>
                    </a:lnTo>
                    <a:lnTo>
                      <a:pt x="2360" y="1674"/>
                    </a:lnTo>
                    <a:lnTo>
                      <a:pt x="2365" y="1566"/>
                    </a:lnTo>
                    <a:lnTo>
                      <a:pt x="2370" y="1440"/>
                    </a:lnTo>
                    <a:lnTo>
                      <a:pt x="2374" y="1301"/>
                    </a:lnTo>
                    <a:lnTo>
                      <a:pt x="2380" y="1156"/>
                    </a:lnTo>
                    <a:lnTo>
                      <a:pt x="2384" y="1013"/>
                    </a:lnTo>
                    <a:lnTo>
                      <a:pt x="2389" y="877"/>
                    </a:lnTo>
                    <a:lnTo>
                      <a:pt x="2394" y="754"/>
                    </a:lnTo>
                    <a:lnTo>
                      <a:pt x="2399" y="651"/>
                    </a:lnTo>
                    <a:lnTo>
                      <a:pt x="2403" y="571"/>
                    </a:lnTo>
                    <a:lnTo>
                      <a:pt x="2409" y="518"/>
                    </a:lnTo>
                    <a:lnTo>
                      <a:pt x="2413" y="492"/>
                    </a:lnTo>
                    <a:lnTo>
                      <a:pt x="2418" y="492"/>
                    </a:lnTo>
                    <a:lnTo>
                      <a:pt x="2423" y="516"/>
                    </a:lnTo>
                    <a:lnTo>
                      <a:pt x="2428" y="559"/>
                    </a:lnTo>
                    <a:lnTo>
                      <a:pt x="2432" y="617"/>
                    </a:lnTo>
                    <a:lnTo>
                      <a:pt x="2438" y="686"/>
                    </a:lnTo>
                    <a:lnTo>
                      <a:pt x="2442" y="761"/>
                    </a:lnTo>
                    <a:lnTo>
                      <a:pt x="2447" y="837"/>
                    </a:lnTo>
                    <a:lnTo>
                      <a:pt x="2452" y="909"/>
                    </a:lnTo>
                    <a:lnTo>
                      <a:pt x="2457" y="978"/>
                    </a:lnTo>
                    <a:lnTo>
                      <a:pt x="2461" y="1042"/>
                    </a:lnTo>
                    <a:lnTo>
                      <a:pt x="2467" y="1100"/>
                    </a:lnTo>
                    <a:lnTo>
                      <a:pt x="2471" y="1154"/>
                    </a:lnTo>
                    <a:lnTo>
                      <a:pt x="2476" y="1206"/>
                    </a:lnTo>
                    <a:lnTo>
                      <a:pt x="2481" y="1260"/>
                    </a:lnTo>
                    <a:lnTo>
                      <a:pt x="2486" y="1318"/>
                    </a:lnTo>
                    <a:lnTo>
                      <a:pt x="2490" y="1381"/>
                    </a:lnTo>
                    <a:lnTo>
                      <a:pt x="2496" y="1452"/>
                    </a:lnTo>
                    <a:lnTo>
                      <a:pt x="2500" y="1528"/>
                    </a:lnTo>
                    <a:lnTo>
                      <a:pt x="2505" y="1612"/>
                    </a:lnTo>
                    <a:lnTo>
                      <a:pt x="2510" y="1697"/>
                    </a:lnTo>
                    <a:lnTo>
                      <a:pt x="2515" y="1781"/>
                    </a:lnTo>
                    <a:lnTo>
                      <a:pt x="2519" y="1859"/>
                    </a:lnTo>
                    <a:lnTo>
                      <a:pt x="2525" y="1925"/>
                    </a:lnTo>
                    <a:lnTo>
                      <a:pt x="2529" y="1973"/>
                    </a:lnTo>
                    <a:lnTo>
                      <a:pt x="2534" y="1997"/>
                    </a:lnTo>
                    <a:lnTo>
                      <a:pt x="2539" y="1995"/>
                    </a:lnTo>
                    <a:lnTo>
                      <a:pt x="2544" y="1961"/>
                    </a:lnTo>
                    <a:lnTo>
                      <a:pt x="2548" y="1895"/>
                    </a:lnTo>
                    <a:lnTo>
                      <a:pt x="2554" y="1796"/>
                    </a:lnTo>
                    <a:lnTo>
                      <a:pt x="2558" y="1669"/>
                    </a:lnTo>
                    <a:lnTo>
                      <a:pt x="2563" y="1516"/>
                    </a:lnTo>
                    <a:lnTo>
                      <a:pt x="2568" y="1345"/>
                    </a:lnTo>
                    <a:lnTo>
                      <a:pt x="2573" y="1161"/>
                    </a:lnTo>
                    <a:lnTo>
                      <a:pt x="2577" y="973"/>
                    </a:lnTo>
                    <a:lnTo>
                      <a:pt x="2583" y="790"/>
                    </a:lnTo>
                    <a:lnTo>
                      <a:pt x="2587" y="618"/>
                    </a:lnTo>
                    <a:lnTo>
                      <a:pt x="2592" y="467"/>
                    </a:lnTo>
                    <a:lnTo>
                      <a:pt x="2597" y="341"/>
                    </a:lnTo>
                    <a:lnTo>
                      <a:pt x="2602" y="244"/>
                    </a:lnTo>
                    <a:lnTo>
                      <a:pt x="2606" y="179"/>
                    </a:lnTo>
                    <a:lnTo>
                      <a:pt x="2612" y="150"/>
                    </a:lnTo>
                    <a:lnTo>
                      <a:pt x="2616" y="154"/>
                    </a:lnTo>
                    <a:lnTo>
                      <a:pt x="2621" y="190"/>
                    </a:lnTo>
                    <a:lnTo>
                      <a:pt x="2626" y="255"/>
                    </a:lnTo>
                    <a:lnTo>
                      <a:pt x="2631" y="348"/>
                    </a:lnTo>
                    <a:lnTo>
                      <a:pt x="2635" y="461"/>
                    </a:lnTo>
                    <a:lnTo>
                      <a:pt x="2641" y="593"/>
                    </a:lnTo>
                    <a:lnTo>
                      <a:pt x="2645" y="737"/>
                    </a:lnTo>
                    <a:lnTo>
                      <a:pt x="2650" y="892"/>
                    </a:lnTo>
                    <a:lnTo>
                      <a:pt x="2655" y="1054"/>
                    </a:lnTo>
                    <a:lnTo>
                      <a:pt x="2660" y="1217"/>
                    </a:lnTo>
                    <a:lnTo>
                      <a:pt x="2664" y="1378"/>
                    </a:lnTo>
                    <a:lnTo>
                      <a:pt x="2670" y="1535"/>
                    </a:lnTo>
                    <a:lnTo>
                      <a:pt x="2674" y="1683"/>
                    </a:lnTo>
                    <a:lnTo>
                      <a:pt x="2679" y="1820"/>
                    </a:lnTo>
                    <a:lnTo>
                      <a:pt x="2684" y="1941"/>
                    </a:lnTo>
                    <a:lnTo>
                      <a:pt x="2689" y="2042"/>
                    </a:lnTo>
                    <a:lnTo>
                      <a:pt x="2693" y="2120"/>
                    </a:lnTo>
                    <a:lnTo>
                      <a:pt x="2699" y="2171"/>
                    </a:lnTo>
                    <a:lnTo>
                      <a:pt x="2703" y="2192"/>
                    </a:lnTo>
                    <a:lnTo>
                      <a:pt x="2708" y="2181"/>
                    </a:lnTo>
                    <a:lnTo>
                      <a:pt x="2713" y="2137"/>
                    </a:lnTo>
                    <a:lnTo>
                      <a:pt x="2718" y="2059"/>
                    </a:lnTo>
                    <a:lnTo>
                      <a:pt x="2722" y="1951"/>
                    </a:lnTo>
                    <a:lnTo>
                      <a:pt x="2728" y="1814"/>
                    </a:lnTo>
                    <a:lnTo>
                      <a:pt x="2732" y="1653"/>
                    </a:lnTo>
                    <a:lnTo>
                      <a:pt x="2737" y="1476"/>
                    </a:lnTo>
                    <a:lnTo>
                      <a:pt x="2742" y="1291"/>
                    </a:lnTo>
                    <a:lnTo>
                      <a:pt x="2747" y="1104"/>
                    </a:lnTo>
                    <a:lnTo>
                      <a:pt x="2752" y="925"/>
                    </a:lnTo>
                    <a:lnTo>
                      <a:pt x="2757" y="761"/>
                    </a:lnTo>
                    <a:lnTo>
                      <a:pt x="2761" y="619"/>
                    </a:lnTo>
                    <a:lnTo>
                      <a:pt x="2767" y="507"/>
                    </a:lnTo>
                    <a:lnTo>
                      <a:pt x="2771" y="428"/>
                    </a:lnTo>
                    <a:lnTo>
                      <a:pt x="2776" y="384"/>
                    </a:lnTo>
                    <a:lnTo>
                      <a:pt x="2781" y="375"/>
                    </a:lnTo>
                    <a:lnTo>
                      <a:pt x="2786" y="399"/>
                    </a:lnTo>
                    <a:lnTo>
                      <a:pt x="2790" y="452"/>
                    </a:lnTo>
                    <a:lnTo>
                      <a:pt x="2796" y="528"/>
                    </a:lnTo>
                    <a:lnTo>
                      <a:pt x="2800" y="622"/>
                    </a:lnTo>
                    <a:lnTo>
                      <a:pt x="2805" y="725"/>
                    </a:lnTo>
                    <a:lnTo>
                      <a:pt x="2810" y="832"/>
                    </a:lnTo>
                    <a:lnTo>
                      <a:pt x="2815" y="936"/>
                    </a:lnTo>
                    <a:lnTo>
                      <a:pt x="2819" y="1032"/>
                    </a:lnTo>
                    <a:lnTo>
                      <a:pt x="2825" y="1115"/>
                    </a:lnTo>
                    <a:lnTo>
                      <a:pt x="2829" y="1184"/>
                    </a:lnTo>
                    <a:lnTo>
                      <a:pt x="2834" y="1240"/>
                    </a:lnTo>
                    <a:lnTo>
                      <a:pt x="2839" y="1281"/>
                    </a:lnTo>
                    <a:lnTo>
                      <a:pt x="2844" y="1312"/>
                    </a:lnTo>
                    <a:lnTo>
                      <a:pt x="2848" y="1335"/>
                    </a:lnTo>
                    <a:lnTo>
                      <a:pt x="2854" y="1352"/>
                    </a:lnTo>
                    <a:lnTo>
                      <a:pt x="2858" y="1370"/>
                    </a:lnTo>
                    <a:lnTo>
                      <a:pt x="2863" y="1388"/>
                    </a:lnTo>
                    <a:lnTo>
                      <a:pt x="2868" y="1410"/>
                    </a:lnTo>
                    <a:lnTo>
                      <a:pt x="2873" y="1437"/>
                    </a:lnTo>
                    <a:lnTo>
                      <a:pt x="2877" y="1468"/>
                    </a:lnTo>
                    <a:lnTo>
                      <a:pt x="2883" y="1501"/>
                    </a:lnTo>
                    <a:lnTo>
                      <a:pt x="2887" y="1533"/>
                    </a:lnTo>
                    <a:lnTo>
                      <a:pt x="2892" y="1562"/>
                    </a:lnTo>
                    <a:lnTo>
                      <a:pt x="2897" y="1583"/>
                    </a:lnTo>
                    <a:lnTo>
                      <a:pt x="2902" y="1592"/>
                    </a:lnTo>
                    <a:lnTo>
                      <a:pt x="2906" y="1588"/>
                    </a:lnTo>
                    <a:lnTo>
                      <a:pt x="2912" y="1566"/>
                    </a:lnTo>
                    <a:lnTo>
                      <a:pt x="2916" y="1527"/>
                    </a:lnTo>
                    <a:lnTo>
                      <a:pt x="2921" y="1471"/>
                    </a:lnTo>
                    <a:lnTo>
                      <a:pt x="2926" y="1399"/>
                    </a:lnTo>
                    <a:lnTo>
                      <a:pt x="2931" y="1315"/>
                    </a:lnTo>
                    <a:lnTo>
                      <a:pt x="2935" y="1221"/>
                    </a:lnTo>
                    <a:lnTo>
                      <a:pt x="2941" y="1125"/>
                    </a:lnTo>
                    <a:lnTo>
                      <a:pt x="2945" y="1030"/>
                    </a:lnTo>
                    <a:lnTo>
                      <a:pt x="2950" y="944"/>
                    </a:lnTo>
                    <a:lnTo>
                      <a:pt x="2955" y="869"/>
                    </a:lnTo>
                    <a:lnTo>
                      <a:pt x="2960" y="810"/>
                    </a:lnTo>
                    <a:lnTo>
                      <a:pt x="2964" y="769"/>
                    </a:lnTo>
                    <a:lnTo>
                      <a:pt x="2970" y="747"/>
                    </a:lnTo>
                    <a:lnTo>
                      <a:pt x="2974" y="747"/>
                    </a:lnTo>
                    <a:lnTo>
                      <a:pt x="2979" y="766"/>
                    </a:lnTo>
                    <a:lnTo>
                      <a:pt x="2984" y="803"/>
                    </a:lnTo>
                    <a:lnTo>
                      <a:pt x="2989" y="853"/>
                    </a:lnTo>
                    <a:lnTo>
                      <a:pt x="2993" y="915"/>
                    </a:lnTo>
                    <a:lnTo>
                      <a:pt x="2999" y="983"/>
                    </a:lnTo>
                    <a:lnTo>
                      <a:pt x="3003" y="1054"/>
                    </a:lnTo>
                    <a:lnTo>
                      <a:pt x="3008" y="1126"/>
                    </a:lnTo>
                    <a:lnTo>
                      <a:pt x="3013" y="1195"/>
                    </a:lnTo>
                    <a:lnTo>
                      <a:pt x="3018" y="1261"/>
                    </a:lnTo>
                    <a:lnTo>
                      <a:pt x="3022" y="1320"/>
                    </a:lnTo>
                    <a:lnTo>
                      <a:pt x="3028" y="1374"/>
                    </a:lnTo>
                    <a:lnTo>
                      <a:pt x="3032" y="1419"/>
                    </a:lnTo>
                    <a:lnTo>
                      <a:pt x="3037" y="1457"/>
                    </a:lnTo>
                    <a:lnTo>
                      <a:pt x="3042" y="1486"/>
                    </a:lnTo>
                    <a:lnTo>
                      <a:pt x="3047" y="1506"/>
                    </a:lnTo>
                    <a:lnTo>
                      <a:pt x="3051" y="1517"/>
                    </a:lnTo>
                    <a:lnTo>
                      <a:pt x="3057" y="1518"/>
                    </a:lnTo>
                    <a:lnTo>
                      <a:pt x="3061" y="1507"/>
                    </a:lnTo>
                    <a:lnTo>
                      <a:pt x="3066" y="1483"/>
                    </a:lnTo>
                    <a:lnTo>
                      <a:pt x="3071" y="1445"/>
                    </a:lnTo>
                    <a:lnTo>
                      <a:pt x="3076" y="1393"/>
                    </a:lnTo>
                    <a:lnTo>
                      <a:pt x="3080" y="1326"/>
                    </a:lnTo>
                    <a:lnTo>
                      <a:pt x="3086" y="1244"/>
                    </a:lnTo>
                    <a:lnTo>
                      <a:pt x="3090" y="1153"/>
                    </a:lnTo>
                    <a:lnTo>
                      <a:pt x="3095" y="1055"/>
                    </a:lnTo>
                    <a:lnTo>
                      <a:pt x="3100" y="951"/>
                    </a:lnTo>
                    <a:lnTo>
                      <a:pt x="3105" y="851"/>
                    </a:lnTo>
                    <a:lnTo>
                      <a:pt x="3109" y="759"/>
                    </a:lnTo>
                    <a:lnTo>
                      <a:pt x="3115" y="681"/>
                    </a:lnTo>
                    <a:lnTo>
                      <a:pt x="3119" y="623"/>
                    </a:lnTo>
                    <a:lnTo>
                      <a:pt x="3124" y="590"/>
                    </a:lnTo>
                    <a:lnTo>
                      <a:pt x="3129" y="587"/>
                    </a:lnTo>
                    <a:lnTo>
                      <a:pt x="3134" y="617"/>
                    </a:lnTo>
                    <a:lnTo>
                      <a:pt x="3138" y="680"/>
                    </a:lnTo>
                    <a:lnTo>
                      <a:pt x="3144" y="773"/>
                    </a:lnTo>
                    <a:lnTo>
                      <a:pt x="3148" y="893"/>
                    </a:lnTo>
                    <a:lnTo>
                      <a:pt x="3153" y="1036"/>
                    </a:lnTo>
                    <a:lnTo>
                      <a:pt x="3158" y="1193"/>
                    </a:lnTo>
                    <a:lnTo>
                      <a:pt x="3163" y="1356"/>
                    </a:lnTo>
                    <a:lnTo>
                      <a:pt x="3167" y="1516"/>
                    </a:lnTo>
                    <a:lnTo>
                      <a:pt x="3173" y="1663"/>
                    </a:lnTo>
                    <a:lnTo>
                      <a:pt x="3177" y="1789"/>
                    </a:lnTo>
                    <a:lnTo>
                      <a:pt x="3182" y="1888"/>
                    </a:lnTo>
                    <a:lnTo>
                      <a:pt x="3187" y="1954"/>
                    </a:lnTo>
                    <a:lnTo>
                      <a:pt x="3192" y="1983"/>
                    </a:lnTo>
                    <a:lnTo>
                      <a:pt x="3196" y="1974"/>
                    </a:lnTo>
                    <a:lnTo>
                      <a:pt x="3202" y="1930"/>
                    </a:lnTo>
                    <a:lnTo>
                      <a:pt x="3206" y="1853"/>
                    </a:lnTo>
                    <a:lnTo>
                      <a:pt x="3211" y="1748"/>
                    </a:lnTo>
                    <a:lnTo>
                      <a:pt x="3216" y="1623"/>
                    </a:lnTo>
                    <a:lnTo>
                      <a:pt x="3221" y="1485"/>
                    </a:lnTo>
                    <a:lnTo>
                      <a:pt x="3225" y="1340"/>
                    </a:lnTo>
                    <a:lnTo>
                      <a:pt x="3231" y="1198"/>
                    </a:lnTo>
                    <a:lnTo>
                      <a:pt x="3235" y="1062"/>
                    </a:lnTo>
                    <a:lnTo>
                      <a:pt x="3240" y="940"/>
                    </a:lnTo>
                    <a:lnTo>
                      <a:pt x="3245" y="834"/>
                    </a:lnTo>
                    <a:lnTo>
                      <a:pt x="3250" y="746"/>
                    </a:lnTo>
                    <a:lnTo>
                      <a:pt x="3254" y="680"/>
                    </a:lnTo>
                    <a:lnTo>
                      <a:pt x="3260" y="630"/>
                    </a:lnTo>
                    <a:lnTo>
                      <a:pt x="3264" y="598"/>
                    </a:lnTo>
                    <a:lnTo>
                      <a:pt x="3269" y="583"/>
                    </a:lnTo>
                    <a:lnTo>
                      <a:pt x="3274" y="579"/>
                    </a:lnTo>
                    <a:lnTo>
                      <a:pt x="3279" y="587"/>
                    </a:lnTo>
                    <a:lnTo>
                      <a:pt x="3283" y="605"/>
                    </a:lnTo>
                    <a:lnTo>
                      <a:pt x="3289" y="629"/>
                    </a:lnTo>
                    <a:lnTo>
                      <a:pt x="3293" y="661"/>
                    </a:lnTo>
                    <a:lnTo>
                      <a:pt x="3298" y="701"/>
                    </a:lnTo>
                    <a:lnTo>
                      <a:pt x="3303" y="747"/>
                    </a:lnTo>
                    <a:lnTo>
                      <a:pt x="3308" y="803"/>
                    </a:lnTo>
                    <a:lnTo>
                      <a:pt x="3312" y="868"/>
                    </a:lnTo>
                    <a:lnTo>
                      <a:pt x="3318" y="942"/>
                    </a:lnTo>
                    <a:lnTo>
                      <a:pt x="3322" y="1028"/>
                    </a:lnTo>
                    <a:lnTo>
                      <a:pt x="3327" y="1122"/>
                    </a:lnTo>
                    <a:lnTo>
                      <a:pt x="3332" y="1223"/>
                    </a:lnTo>
                    <a:lnTo>
                      <a:pt x="3337" y="1330"/>
                    </a:lnTo>
                    <a:lnTo>
                      <a:pt x="3341" y="1438"/>
                    </a:lnTo>
                    <a:lnTo>
                      <a:pt x="3347" y="1545"/>
                    </a:lnTo>
                    <a:lnTo>
                      <a:pt x="3351" y="1645"/>
                    </a:lnTo>
                    <a:lnTo>
                      <a:pt x="3356" y="1736"/>
                    </a:lnTo>
                    <a:lnTo>
                      <a:pt x="3361" y="1810"/>
                    </a:lnTo>
                    <a:lnTo>
                      <a:pt x="3366" y="1868"/>
                    </a:lnTo>
                    <a:lnTo>
                      <a:pt x="3370" y="1905"/>
                    </a:lnTo>
                    <a:lnTo>
                      <a:pt x="3376" y="1922"/>
                    </a:lnTo>
                    <a:lnTo>
                      <a:pt x="3380" y="1915"/>
                    </a:lnTo>
                    <a:lnTo>
                      <a:pt x="3385" y="1888"/>
                    </a:lnTo>
                    <a:lnTo>
                      <a:pt x="3390" y="1842"/>
                    </a:lnTo>
                    <a:lnTo>
                      <a:pt x="3395" y="1778"/>
                    </a:lnTo>
                    <a:lnTo>
                      <a:pt x="3399" y="1700"/>
                    </a:lnTo>
                    <a:lnTo>
                      <a:pt x="3405" y="1612"/>
                    </a:lnTo>
                    <a:lnTo>
                      <a:pt x="3409" y="1516"/>
                    </a:lnTo>
                    <a:lnTo>
                      <a:pt x="3414" y="1415"/>
                    </a:lnTo>
                    <a:lnTo>
                      <a:pt x="3419" y="1311"/>
                    </a:lnTo>
                    <a:lnTo>
                      <a:pt x="3424" y="1208"/>
                    </a:lnTo>
                    <a:lnTo>
                      <a:pt x="3428" y="1103"/>
                    </a:lnTo>
                    <a:lnTo>
                      <a:pt x="3434" y="999"/>
                    </a:lnTo>
                    <a:lnTo>
                      <a:pt x="3438" y="898"/>
                    </a:lnTo>
                    <a:lnTo>
                      <a:pt x="3443" y="798"/>
                    </a:lnTo>
                    <a:lnTo>
                      <a:pt x="3448" y="700"/>
                    </a:lnTo>
                    <a:lnTo>
                      <a:pt x="3453" y="605"/>
                    </a:lnTo>
                    <a:lnTo>
                      <a:pt x="3457" y="516"/>
                    </a:lnTo>
                    <a:lnTo>
                      <a:pt x="3463" y="434"/>
                    </a:lnTo>
                    <a:lnTo>
                      <a:pt x="3467" y="365"/>
                    </a:lnTo>
                    <a:lnTo>
                      <a:pt x="3472" y="311"/>
                    </a:lnTo>
                    <a:lnTo>
                      <a:pt x="3477" y="276"/>
                    </a:lnTo>
                    <a:lnTo>
                      <a:pt x="3482" y="265"/>
                    </a:lnTo>
                    <a:lnTo>
                      <a:pt x="3486" y="283"/>
                    </a:lnTo>
                    <a:lnTo>
                      <a:pt x="3492" y="331"/>
                    </a:lnTo>
                    <a:lnTo>
                      <a:pt x="3496" y="412"/>
                    </a:lnTo>
                    <a:lnTo>
                      <a:pt x="3501" y="527"/>
                    </a:lnTo>
                    <a:lnTo>
                      <a:pt x="3506" y="673"/>
                    </a:lnTo>
                    <a:lnTo>
                      <a:pt x="3511" y="846"/>
                    </a:lnTo>
                    <a:lnTo>
                      <a:pt x="3515" y="1040"/>
                    </a:lnTo>
                    <a:lnTo>
                      <a:pt x="3521" y="1250"/>
                    </a:lnTo>
                    <a:lnTo>
                      <a:pt x="3525" y="1464"/>
                    </a:lnTo>
                    <a:lnTo>
                      <a:pt x="3530" y="1674"/>
                    </a:lnTo>
                    <a:lnTo>
                      <a:pt x="3535" y="1870"/>
                    </a:lnTo>
                    <a:lnTo>
                      <a:pt x="3540" y="2043"/>
                    </a:lnTo>
                    <a:lnTo>
                      <a:pt x="3544" y="2182"/>
                    </a:lnTo>
                    <a:lnTo>
                      <a:pt x="3550" y="2283"/>
                    </a:lnTo>
                    <a:lnTo>
                      <a:pt x="3554" y="2338"/>
                    </a:lnTo>
                    <a:lnTo>
                      <a:pt x="3559" y="2347"/>
                    </a:lnTo>
                    <a:lnTo>
                      <a:pt x="3564" y="2309"/>
                    </a:lnTo>
                    <a:lnTo>
                      <a:pt x="3569" y="2228"/>
                    </a:lnTo>
                    <a:lnTo>
                      <a:pt x="3573" y="2109"/>
                    </a:lnTo>
                    <a:lnTo>
                      <a:pt x="3579" y="1957"/>
                    </a:lnTo>
                    <a:lnTo>
                      <a:pt x="3583" y="1781"/>
                    </a:lnTo>
                    <a:lnTo>
                      <a:pt x="3588" y="1592"/>
                    </a:lnTo>
                    <a:lnTo>
                      <a:pt x="3593" y="1398"/>
                    </a:lnTo>
                    <a:lnTo>
                      <a:pt x="3598" y="1206"/>
                    </a:lnTo>
                    <a:lnTo>
                      <a:pt x="3602" y="1027"/>
                    </a:lnTo>
                    <a:lnTo>
                      <a:pt x="3608" y="867"/>
                    </a:lnTo>
                    <a:lnTo>
                      <a:pt x="3612" y="727"/>
                    </a:lnTo>
                    <a:lnTo>
                      <a:pt x="3617" y="615"/>
                    </a:lnTo>
                    <a:lnTo>
                      <a:pt x="3622" y="530"/>
                    </a:lnTo>
                    <a:lnTo>
                      <a:pt x="3627" y="472"/>
                    </a:lnTo>
                    <a:lnTo>
                      <a:pt x="3631" y="440"/>
                    </a:lnTo>
                    <a:lnTo>
                      <a:pt x="3637" y="430"/>
                    </a:lnTo>
                    <a:lnTo>
                      <a:pt x="3641" y="441"/>
                    </a:lnTo>
                    <a:lnTo>
                      <a:pt x="3646" y="470"/>
                    </a:lnTo>
                    <a:lnTo>
                      <a:pt x="3651" y="512"/>
                    </a:lnTo>
                    <a:lnTo>
                      <a:pt x="3656" y="567"/>
                    </a:lnTo>
                    <a:lnTo>
                      <a:pt x="3660" y="630"/>
                    </a:lnTo>
                    <a:lnTo>
                      <a:pt x="3666" y="702"/>
                    </a:lnTo>
                    <a:lnTo>
                      <a:pt x="3670" y="780"/>
                    </a:lnTo>
                    <a:lnTo>
                      <a:pt x="3675" y="863"/>
                    </a:lnTo>
                    <a:lnTo>
                      <a:pt x="3680" y="951"/>
                    </a:lnTo>
                    <a:lnTo>
                      <a:pt x="3685" y="1044"/>
                    </a:lnTo>
                    <a:lnTo>
                      <a:pt x="3689" y="1137"/>
                    </a:lnTo>
                    <a:lnTo>
                      <a:pt x="3695" y="1232"/>
                    </a:lnTo>
                    <a:lnTo>
                      <a:pt x="3699" y="1325"/>
                    </a:lnTo>
                    <a:lnTo>
                      <a:pt x="3704" y="1414"/>
                    </a:lnTo>
                    <a:lnTo>
                      <a:pt x="3709" y="1495"/>
                    </a:lnTo>
                    <a:lnTo>
                      <a:pt x="3714" y="1566"/>
                    </a:lnTo>
                    <a:lnTo>
                      <a:pt x="3718" y="1624"/>
                    </a:lnTo>
                    <a:lnTo>
                      <a:pt x="3724" y="1667"/>
                    </a:lnTo>
                    <a:lnTo>
                      <a:pt x="3728" y="1691"/>
                    </a:lnTo>
                    <a:lnTo>
                      <a:pt x="3733" y="1698"/>
                    </a:lnTo>
                    <a:lnTo>
                      <a:pt x="3738" y="1686"/>
                    </a:lnTo>
                    <a:lnTo>
                      <a:pt x="3743" y="1655"/>
                    </a:lnTo>
                    <a:lnTo>
                      <a:pt x="3747" y="1610"/>
                    </a:lnTo>
                    <a:lnTo>
                      <a:pt x="3753" y="1552"/>
                    </a:lnTo>
                    <a:lnTo>
                      <a:pt x="3757" y="1486"/>
                    </a:lnTo>
                    <a:lnTo>
                      <a:pt x="3762" y="1416"/>
                    </a:lnTo>
                    <a:lnTo>
                      <a:pt x="3767" y="1345"/>
                    </a:lnTo>
                    <a:lnTo>
                      <a:pt x="3772" y="1278"/>
                    </a:lnTo>
                    <a:lnTo>
                      <a:pt x="3776" y="1217"/>
                    </a:lnTo>
                    <a:lnTo>
                      <a:pt x="3782" y="1164"/>
                    </a:lnTo>
                    <a:lnTo>
                      <a:pt x="3786" y="1122"/>
                    </a:lnTo>
                    <a:lnTo>
                      <a:pt x="3791" y="1090"/>
                    </a:lnTo>
                    <a:lnTo>
                      <a:pt x="3796" y="1065"/>
                    </a:lnTo>
                    <a:lnTo>
                      <a:pt x="3801" y="1048"/>
                    </a:lnTo>
                    <a:lnTo>
                      <a:pt x="3805" y="1036"/>
                    </a:lnTo>
                    <a:lnTo>
                      <a:pt x="3811" y="1026"/>
                    </a:lnTo>
                    <a:lnTo>
                      <a:pt x="3815" y="1016"/>
                    </a:lnTo>
                    <a:lnTo>
                      <a:pt x="3820" y="1003"/>
                    </a:lnTo>
                    <a:lnTo>
                      <a:pt x="3825" y="987"/>
                    </a:lnTo>
                    <a:lnTo>
                      <a:pt x="3830" y="968"/>
                    </a:lnTo>
                    <a:lnTo>
                      <a:pt x="3834" y="946"/>
                    </a:lnTo>
                    <a:lnTo>
                      <a:pt x="3840" y="925"/>
                    </a:lnTo>
                    <a:lnTo>
                      <a:pt x="3844" y="906"/>
                    </a:lnTo>
                    <a:lnTo>
                      <a:pt x="3849" y="892"/>
                    </a:lnTo>
                    <a:lnTo>
                      <a:pt x="3854" y="889"/>
                    </a:lnTo>
                    <a:lnTo>
                      <a:pt x="3859" y="899"/>
                    </a:lnTo>
                    <a:lnTo>
                      <a:pt x="3863" y="925"/>
                    </a:lnTo>
                    <a:lnTo>
                      <a:pt x="3869" y="967"/>
                    </a:lnTo>
                    <a:lnTo>
                      <a:pt x="3873" y="1025"/>
                    </a:lnTo>
                    <a:lnTo>
                      <a:pt x="3878" y="1100"/>
                    </a:lnTo>
                    <a:lnTo>
                      <a:pt x="3883" y="1186"/>
                    </a:lnTo>
                    <a:lnTo>
                      <a:pt x="3888" y="1280"/>
                    </a:lnTo>
                    <a:lnTo>
                      <a:pt x="3892" y="1376"/>
                    </a:lnTo>
                    <a:lnTo>
                      <a:pt x="3898" y="1466"/>
                    </a:lnTo>
                    <a:lnTo>
                      <a:pt x="3902" y="1545"/>
                    </a:lnTo>
                    <a:lnTo>
                      <a:pt x="3907" y="1608"/>
                    </a:lnTo>
                    <a:lnTo>
                      <a:pt x="3912" y="1647"/>
                    </a:lnTo>
                    <a:lnTo>
                      <a:pt x="3917" y="1658"/>
                    </a:lnTo>
                    <a:lnTo>
                      <a:pt x="3921" y="1640"/>
                    </a:lnTo>
                    <a:lnTo>
                      <a:pt x="3927" y="1593"/>
                    </a:lnTo>
                    <a:lnTo>
                      <a:pt x="3931" y="1518"/>
                    </a:lnTo>
                    <a:lnTo>
                      <a:pt x="3936" y="1420"/>
                    </a:lnTo>
                    <a:lnTo>
                      <a:pt x="3941" y="1305"/>
                    </a:lnTo>
                    <a:lnTo>
                      <a:pt x="3946" y="1178"/>
                    </a:lnTo>
                    <a:lnTo>
                      <a:pt x="3950" y="1048"/>
                    </a:lnTo>
                    <a:lnTo>
                      <a:pt x="3956" y="925"/>
                    </a:lnTo>
                    <a:lnTo>
                      <a:pt x="3960" y="814"/>
                    </a:lnTo>
                    <a:lnTo>
                      <a:pt x="3965" y="723"/>
                    </a:lnTo>
                    <a:lnTo>
                      <a:pt x="3970" y="657"/>
                    </a:lnTo>
                    <a:lnTo>
                      <a:pt x="3975" y="620"/>
                    </a:lnTo>
                    <a:lnTo>
                      <a:pt x="3979" y="614"/>
                    </a:lnTo>
                    <a:lnTo>
                      <a:pt x="3985" y="637"/>
                    </a:lnTo>
                    <a:lnTo>
                      <a:pt x="3989" y="690"/>
                    </a:lnTo>
                    <a:lnTo>
                      <a:pt x="3994" y="766"/>
                    </a:lnTo>
                    <a:lnTo>
                      <a:pt x="3999" y="862"/>
                    </a:lnTo>
                    <a:lnTo>
                      <a:pt x="4004" y="974"/>
                    </a:lnTo>
                    <a:lnTo>
                      <a:pt x="4008" y="1092"/>
                    </a:lnTo>
                    <a:lnTo>
                      <a:pt x="4014" y="1213"/>
                    </a:lnTo>
                    <a:lnTo>
                      <a:pt x="4018" y="1331"/>
                    </a:lnTo>
                    <a:lnTo>
                      <a:pt x="4023" y="1442"/>
                    </a:lnTo>
                    <a:lnTo>
                      <a:pt x="4028" y="1541"/>
                    </a:lnTo>
                    <a:lnTo>
                      <a:pt x="4033" y="1624"/>
                    </a:lnTo>
                    <a:lnTo>
                      <a:pt x="4037" y="1692"/>
                    </a:lnTo>
                    <a:lnTo>
                      <a:pt x="4043" y="1743"/>
                    </a:lnTo>
                    <a:lnTo>
                      <a:pt x="4047" y="1776"/>
                    </a:lnTo>
                    <a:lnTo>
                      <a:pt x="4053" y="1790"/>
                    </a:lnTo>
                    <a:lnTo>
                      <a:pt x="4057" y="1786"/>
                    </a:lnTo>
                    <a:lnTo>
                      <a:pt x="4062" y="1766"/>
                    </a:lnTo>
                    <a:lnTo>
                      <a:pt x="4067" y="1728"/>
                    </a:lnTo>
                    <a:lnTo>
                      <a:pt x="4072" y="1673"/>
                    </a:lnTo>
                    <a:lnTo>
                      <a:pt x="4076" y="1603"/>
                    </a:lnTo>
                    <a:lnTo>
                      <a:pt x="4082" y="1518"/>
                    </a:lnTo>
                    <a:lnTo>
                      <a:pt x="4086" y="1419"/>
                    </a:lnTo>
                    <a:lnTo>
                      <a:pt x="4091" y="1307"/>
                    </a:lnTo>
                    <a:lnTo>
                      <a:pt x="4096" y="1186"/>
                    </a:lnTo>
                    <a:lnTo>
                      <a:pt x="4101" y="1058"/>
                    </a:lnTo>
                    <a:lnTo>
                      <a:pt x="4105" y="927"/>
                    </a:lnTo>
                    <a:lnTo>
                      <a:pt x="4111" y="799"/>
                    </a:lnTo>
                    <a:lnTo>
                      <a:pt x="4115" y="676"/>
                    </a:lnTo>
                    <a:lnTo>
                      <a:pt x="4120" y="568"/>
                    </a:lnTo>
                    <a:lnTo>
                      <a:pt x="4125" y="477"/>
                    </a:lnTo>
                    <a:lnTo>
                      <a:pt x="4130" y="409"/>
                    </a:lnTo>
                    <a:lnTo>
                      <a:pt x="4134" y="368"/>
                    </a:lnTo>
                    <a:lnTo>
                      <a:pt x="4140" y="358"/>
                    </a:lnTo>
                    <a:lnTo>
                      <a:pt x="4144" y="379"/>
                    </a:lnTo>
                    <a:lnTo>
                      <a:pt x="4149" y="432"/>
                    </a:lnTo>
                    <a:lnTo>
                      <a:pt x="4154" y="515"/>
                    </a:lnTo>
                    <a:lnTo>
                      <a:pt x="4159" y="624"/>
                    </a:lnTo>
                    <a:lnTo>
                      <a:pt x="4163" y="753"/>
                    </a:lnTo>
                    <a:lnTo>
                      <a:pt x="4169" y="898"/>
                    </a:lnTo>
                    <a:lnTo>
                      <a:pt x="4173" y="1049"/>
                    </a:lnTo>
                    <a:lnTo>
                      <a:pt x="4178" y="1201"/>
                    </a:lnTo>
                    <a:lnTo>
                      <a:pt x="4183" y="1346"/>
                    </a:lnTo>
                    <a:lnTo>
                      <a:pt x="4188" y="1477"/>
                    </a:lnTo>
                    <a:lnTo>
                      <a:pt x="4192" y="1591"/>
                    </a:lnTo>
                    <a:lnTo>
                      <a:pt x="4198" y="1682"/>
                    </a:lnTo>
                    <a:lnTo>
                      <a:pt x="4202" y="1750"/>
                    </a:lnTo>
                    <a:lnTo>
                      <a:pt x="4207" y="1796"/>
                    </a:lnTo>
                    <a:lnTo>
                      <a:pt x="4212" y="1818"/>
                    </a:lnTo>
                    <a:lnTo>
                      <a:pt x="4217" y="1821"/>
                    </a:lnTo>
                    <a:lnTo>
                      <a:pt x="4221" y="1809"/>
                    </a:lnTo>
                    <a:lnTo>
                      <a:pt x="4227" y="1785"/>
                    </a:lnTo>
                    <a:lnTo>
                      <a:pt x="4231" y="1752"/>
                    </a:lnTo>
                    <a:lnTo>
                      <a:pt x="4236" y="1717"/>
                    </a:lnTo>
                    <a:lnTo>
                      <a:pt x="4241" y="1679"/>
                    </a:lnTo>
                    <a:lnTo>
                      <a:pt x="4246" y="1641"/>
                    </a:lnTo>
                    <a:lnTo>
                      <a:pt x="4250" y="1604"/>
                    </a:lnTo>
                    <a:lnTo>
                      <a:pt x="4256" y="1566"/>
                    </a:lnTo>
                    <a:lnTo>
                      <a:pt x="4260" y="1526"/>
                    </a:lnTo>
                    <a:lnTo>
                      <a:pt x="4265" y="1481"/>
                    </a:lnTo>
                    <a:lnTo>
                      <a:pt x="4270" y="1428"/>
                    </a:lnTo>
                    <a:lnTo>
                      <a:pt x="4275" y="1365"/>
                    </a:lnTo>
                    <a:lnTo>
                      <a:pt x="4279" y="1289"/>
                    </a:lnTo>
                    <a:lnTo>
                      <a:pt x="4285" y="1199"/>
                    </a:lnTo>
                    <a:lnTo>
                      <a:pt x="4289" y="1095"/>
                    </a:lnTo>
                    <a:lnTo>
                      <a:pt x="4294" y="980"/>
                    </a:lnTo>
                    <a:lnTo>
                      <a:pt x="4299" y="857"/>
                    </a:lnTo>
                    <a:lnTo>
                      <a:pt x="4304" y="729"/>
                    </a:lnTo>
                    <a:lnTo>
                      <a:pt x="4308" y="603"/>
                    </a:lnTo>
                    <a:lnTo>
                      <a:pt x="4314" y="486"/>
                    </a:lnTo>
                    <a:lnTo>
                      <a:pt x="4318" y="383"/>
                    </a:lnTo>
                    <a:lnTo>
                      <a:pt x="4323" y="303"/>
                    </a:lnTo>
                    <a:lnTo>
                      <a:pt x="4328" y="251"/>
                    </a:lnTo>
                    <a:lnTo>
                      <a:pt x="4333" y="228"/>
                    </a:lnTo>
                    <a:lnTo>
                      <a:pt x="4337" y="243"/>
                    </a:lnTo>
                    <a:lnTo>
                      <a:pt x="4343" y="292"/>
                    </a:lnTo>
                    <a:lnTo>
                      <a:pt x="4347" y="375"/>
                    </a:lnTo>
                    <a:lnTo>
                      <a:pt x="4352" y="491"/>
                    </a:lnTo>
                    <a:lnTo>
                      <a:pt x="4357" y="634"/>
                    </a:lnTo>
                    <a:lnTo>
                      <a:pt x="4362" y="798"/>
                    </a:lnTo>
                    <a:lnTo>
                      <a:pt x="4366" y="976"/>
                    </a:lnTo>
                    <a:lnTo>
                      <a:pt x="4372" y="1161"/>
                    </a:lnTo>
                    <a:lnTo>
                      <a:pt x="4376" y="1345"/>
                    </a:lnTo>
                    <a:lnTo>
                      <a:pt x="4381" y="1522"/>
                    </a:lnTo>
                    <a:lnTo>
                      <a:pt x="4386" y="1684"/>
                    </a:lnTo>
                    <a:lnTo>
                      <a:pt x="4391" y="1828"/>
                    </a:lnTo>
                    <a:lnTo>
                      <a:pt x="4395" y="1948"/>
                    </a:lnTo>
                    <a:lnTo>
                      <a:pt x="4401" y="2043"/>
                    </a:lnTo>
                    <a:lnTo>
                      <a:pt x="4405" y="2111"/>
                    </a:lnTo>
                    <a:lnTo>
                      <a:pt x="4410" y="2150"/>
                    </a:lnTo>
                    <a:lnTo>
                      <a:pt x="4415" y="2161"/>
                    </a:lnTo>
                    <a:lnTo>
                      <a:pt x="4420" y="2147"/>
                    </a:lnTo>
                    <a:lnTo>
                      <a:pt x="4424" y="2107"/>
                    </a:lnTo>
                    <a:lnTo>
                      <a:pt x="4430" y="2042"/>
                    </a:lnTo>
                    <a:lnTo>
                      <a:pt x="4434" y="1956"/>
                    </a:lnTo>
                    <a:lnTo>
                      <a:pt x="4439" y="1850"/>
                    </a:lnTo>
                    <a:lnTo>
                      <a:pt x="4445" y="1728"/>
                    </a:lnTo>
                    <a:lnTo>
                      <a:pt x="4449" y="1590"/>
                    </a:lnTo>
                    <a:lnTo>
                      <a:pt x="4453" y="1438"/>
                    </a:lnTo>
                    <a:lnTo>
                      <a:pt x="4459" y="1278"/>
                    </a:lnTo>
                    <a:lnTo>
                      <a:pt x="4463" y="1113"/>
                    </a:lnTo>
                    <a:lnTo>
                      <a:pt x="4468" y="946"/>
                    </a:lnTo>
                    <a:lnTo>
                      <a:pt x="4474" y="784"/>
                    </a:lnTo>
                    <a:lnTo>
                      <a:pt x="4478" y="632"/>
                    </a:lnTo>
                    <a:lnTo>
                      <a:pt x="4482" y="493"/>
                    </a:lnTo>
                    <a:lnTo>
                      <a:pt x="4488" y="378"/>
                    </a:lnTo>
                    <a:lnTo>
                      <a:pt x="4492" y="288"/>
                    </a:lnTo>
                    <a:lnTo>
                      <a:pt x="4497" y="231"/>
                    </a:lnTo>
                    <a:lnTo>
                      <a:pt x="4503" y="206"/>
                    </a:lnTo>
                    <a:lnTo>
                      <a:pt x="4507" y="219"/>
                    </a:lnTo>
                    <a:lnTo>
                      <a:pt x="4511" y="268"/>
                    </a:lnTo>
                    <a:lnTo>
                      <a:pt x="4517" y="353"/>
                    </a:lnTo>
                    <a:lnTo>
                      <a:pt x="4521" y="469"/>
                    </a:lnTo>
                    <a:lnTo>
                      <a:pt x="4526" y="609"/>
                    </a:lnTo>
                    <a:lnTo>
                      <a:pt x="4532" y="770"/>
                    </a:lnTo>
                    <a:lnTo>
                      <a:pt x="4536" y="940"/>
                    </a:lnTo>
                    <a:lnTo>
                      <a:pt x="4540" y="1113"/>
                    </a:lnTo>
                    <a:lnTo>
                      <a:pt x="4546" y="1280"/>
                    </a:lnTo>
                    <a:lnTo>
                      <a:pt x="4550" y="1432"/>
                    </a:lnTo>
                    <a:lnTo>
                      <a:pt x="4555" y="1562"/>
                    </a:lnTo>
                    <a:lnTo>
                      <a:pt x="4561" y="1665"/>
                    </a:lnTo>
                    <a:lnTo>
                      <a:pt x="4565" y="1740"/>
                    </a:lnTo>
                    <a:lnTo>
                      <a:pt x="4569" y="1784"/>
                    </a:lnTo>
                    <a:lnTo>
                      <a:pt x="4575" y="1796"/>
                    </a:lnTo>
                    <a:lnTo>
                      <a:pt x="4579" y="1781"/>
                    </a:lnTo>
                    <a:lnTo>
                      <a:pt x="4584" y="1745"/>
                    </a:lnTo>
                    <a:lnTo>
                      <a:pt x="4590" y="1690"/>
                    </a:lnTo>
                    <a:lnTo>
                      <a:pt x="4594" y="1623"/>
                    </a:lnTo>
                    <a:lnTo>
                      <a:pt x="4598" y="1552"/>
                    </a:lnTo>
                    <a:lnTo>
                      <a:pt x="4604" y="1481"/>
                    </a:lnTo>
                    <a:lnTo>
                      <a:pt x="4608" y="1415"/>
                    </a:lnTo>
                    <a:lnTo>
                      <a:pt x="4613" y="1357"/>
                    </a:lnTo>
                    <a:lnTo>
                      <a:pt x="4619" y="1309"/>
                    </a:lnTo>
                    <a:lnTo>
                      <a:pt x="4623" y="1271"/>
                    </a:lnTo>
                    <a:lnTo>
                      <a:pt x="4627" y="1243"/>
                    </a:lnTo>
                    <a:lnTo>
                      <a:pt x="4633" y="1222"/>
                    </a:lnTo>
                    <a:lnTo>
                      <a:pt x="4637" y="1205"/>
                    </a:lnTo>
                    <a:lnTo>
                      <a:pt x="4642" y="1191"/>
                    </a:lnTo>
                    <a:lnTo>
                      <a:pt x="4648" y="1173"/>
                    </a:lnTo>
                    <a:lnTo>
                      <a:pt x="4652" y="1151"/>
                    </a:lnTo>
                    <a:lnTo>
                      <a:pt x="4656" y="1122"/>
                    </a:lnTo>
                    <a:lnTo>
                      <a:pt x="4662" y="1087"/>
                    </a:lnTo>
                    <a:lnTo>
                      <a:pt x="4666" y="1045"/>
                    </a:lnTo>
                    <a:lnTo>
                      <a:pt x="4671" y="999"/>
                    </a:lnTo>
                    <a:lnTo>
                      <a:pt x="4677" y="952"/>
                    </a:lnTo>
                    <a:lnTo>
                      <a:pt x="4681" y="907"/>
                    </a:lnTo>
                    <a:lnTo>
                      <a:pt x="4685" y="868"/>
                    </a:lnTo>
                    <a:lnTo>
                      <a:pt x="4691" y="839"/>
                    </a:lnTo>
                    <a:lnTo>
                      <a:pt x="4696" y="823"/>
                    </a:lnTo>
                    <a:lnTo>
                      <a:pt x="4700" y="823"/>
                    </a:lnTo>
                    <a:lnTo>
                      <a:pt x="4706" y="840"/>
                    </a:lnTo>
                    <a:lnTo>
                      <a:pt x="4710" y="874"/>
                    </a:lnTo>
                    <a:lnTo>
                      <a:pt x="4714" y="925"/>
                    </a:lnTo>
                    <a:lnTo>
                      <a:pt x="4720" y="989"/>
                    </a:lnTo>
                    <a:lnTo>
                      <a:pt x="4725" y="1063"/>
                    </a:lnTo>
                    <a:lnTo>
                      <a:pt x="4729" y="1142"/>
                    </a:lnTo>
                    <a:lnTo>
                      <a:pt x="4735" y="1222"/>
                    </a:lnTo>
                    <a:lnTo>
                      <a:pt x="4739" y="1298"/>
                    </a:lnTo>
                    <a:lnTo>
                      <a:pt x="4743" y="1367"/>
                    </a:lnTo>
                    <a:lnTo>
                      <a:pt x="4749" y="1423"/>
                    </a:lnTo>
                    <a:lnTo>
                      <a:pt x="4754" y="1466"/>
                    </a:lnTo>
                    <a:lnTo>
                      <a:pt x="4758" y="1493"/>
                    </a:lnTo>
                    <a:lnTo>
                      <a:pt x="4764" y="1503"/>
                    </a:lnTo>
                    <a:lnTo>
                      <a:pt x="4768" y="1498"/>
                    </a:lnTo>
                    <a:lnTo>
                      <a:pt x="4772" y="1479"/>
                    </a:lnTo>
                    <a:lnTo>
                      <a:pt x="4778" y="1449"/>
                    </a:lnTo>
                    <a:lnTo>
                      <a:pt x="4783" y="1408"/>
                    </a:lnTo>
                    <a:lnTo>
                      <a:pt x="4787" y="1361"/>
                    </a:lnTo>
                    <a:lnTo>
                      <a:pt x="4793" y="1310"/>
                    </a:lnTo>
                    <a:lnTo>
                      <a:pt x="4797" y="1257"/>
                    </a:lnTo>
                    <a:lnTo>
                      <a:pt x="4801" y="1201"/>
                    </a:lnTo>
                    <a:lnTo>
                      <a:pt x="4807" y="1147"/>
                    </a:lnTo>
                    <a:lnTo>
                      <a:pt x="4812" y="1094"/>
                    </a:lnTo>
                    <a:lnTo>
                      <a:pt x="4816" y="1043"/>
                    </a:lnTo>
                    <a:lnTo>
                      <a:pt x="4822" y="995"/>
                    </a:lnTo>
                    <a:lnTo>
                      <a:pt x="4826" y="949"/>
                    </a:lnTo>
                    <a:lnTo>
                      <a:pt x="4830" y="908"/>
                    </a:lnTo>
                    <a:lnTo>
                      <a:pt x="4836" y="872"/>
                    </a:lnTo>
                    <a:lnTo>
                      <a:pt x="4841" y="844"/>
                    </a:lnTo>
                    <a:lnTo>
                      <a:pt x="4845" y="825"/>
                    </a:lnTo>
                    <a:lnTo>
                      <a:pt x="4851" y="819"/>
                    </a:lnTo>
                    <a:lnTo>
                      <a:pt x="4855" y="828"/>
                    </a:lnTo>
                    <a:lnTo>
                      <a:pt x="4859" y="852"/>
                    </a:lnTo>
                    <a:lnTo>
                      <a:pt x="4865" y="896"/>
                    </a:lnTo>
                    <a:lnTo>
                      <a:pt x="4870" y="959"/>
                    </a:lnTo>
                    <a:lnTo>
                      <a:pt x="4874" y="1040"/>
                    </a:lnTo>
                    <a:lnTo>
                      <a:pt x="4880" y="1140"/>
                    </a:lnTo>
                    <a:lnTo>
                      <a:pt x="4884" y="1252"/>
                    </a:lnTo>
                    <a:lnTo>
                      <a:pt x="4888" y="1374"/>
                    </a:lnTo>
                    <a:lnTo>
                      <a:pt x="4894" y="1498"/>
                    </a:lnTo>
                    <a:lnTo>
                      <a:pt x="4899" y="1620"/>
                    </a:lnTo>
                    <a:lnTo>
                      <a:pt x="4903" y="1729"/>
                    </a:lnTo>
                    <a:lnTo>
                      <a:pt x="4909" y="1819"/>
                    </a:lnTo>
                    <a:lnTo>
                      <a:pt x="4913" y="1885"/>
                    </a:lnTo>
                    <a:lnTo>
                      <a:pt x="4917" y="1918"/>
                    </a:lnTo>
                    <a:lnTo>
                      <a:pt x="4923" y="1917"/>
                    </a:lnTo>
                    <a:lnTo>
                      <a:pt x="4928" y="1878"/>
                    </a:lnTo>
                    <a:lnTo>
                      <a:pt x="4932" y="1804"/>
                    </a:lnTo>
                    <a:lnTo>
                      <a:pt x="4938" y="1693"/>
                    </a:lnTo>
                    <a:lnTo>
                      <a:pt x="4942" y="1554"/>
                    </a:lnTo>
                    <a:lnTo>
                      <a:pt x="4947" y="1393"/>
                    </a:lnTo>
                    <a:lnTo>
                      <a:pt x="4952" y="1218"/>
                    </a:lnTo>
                    <a:lnTo>
                      <a:pt x="4957" y="1037"/>
                    </a:lnTo>
                    <a:lnTo>
                      <a:pt x="4961" y="861"/>
                    </a:lnTo>
                    <a:lnTo>
                      <a:pt x="4967" y="698"/>
                    </a:lnTo>
                    <a:lnTo>
                      <a:pt x="4971" y="558"/>
                    </a:lnTo>
                    <a:lnTo>
                      <a:pt x="4976" y="447"/>
                    </a:lnTo>
                    <a:lnTo>
                      <a:pt x="4981" y="369"/>
                    </a:lnTo>
                    <a:lnTo>
                      <a:pt x="4986" y="326"/>
                    </a:lnTo>
                    <a:lnTo>
                      <a:pt x="4990" y="321"/>
                    </a:lnTo>
                    <a:lnTo>
                      <a:pt x="4996" y="349"/>
                    </a:lnTo>
                    <a:lnTo>
                      <a:pt x="5000" y="409"/>
                    </a:lnTo>
                    <a:lnTo>
                      <a:pt x="5005" y="495"/>
                    </a:lnTo>
                    <a:lnTo>
                      <a:pt x="5010" y="600"/>
                    </a:lnTo>
                    <a:lnTo>
                      <a:pt x="5015" y="720"/>
                    </a:lnTo>
                    <a:lnTo>
                      <a:pt x="5019" y="848"/>
                    </a:lnTo>
                    <a:lnTo>
                      <a:pt x="5025" y="976"/>
                    </a:lnTo>
                    <a:lnTo>
                      <a:pt x="5029" y="1103"/>
                    </a:lnTo>
                    <a:lnTo>
                      <a:pt x="5034" y="1222"/>
                    </a:lnTo>
                    <a:lnTo>
                      <a:pt x="5039" y="1332"/>
                    </a:lnTo>
                    <a:lnTo>
                      <a:pt x="5044" y="1432"/>
                    </a:lnTo>
                    <a:lnTo>
                      <a:pt x="5048" y="1520"/>
                    </a:lnTo>
                    <a:lnTo>
                      <a:pt x="5054" y="1595"/>
                    </a:lnTo>
                    <a:lnTo>
                      <a:pt x="5058" y="1662"/>
                    </a:lnTo>
                    <a:lnTo>
                      <a:pt x="5063" y="1718"/>
                    </a:lnTo>
                    <a:lnTo>
                      <a:pt x="5068" y="1765"/>
                    </a:lnTo>
                    <a:lnTo>
                      <a:pt x="5073" y="1801"/>
                    </a:lnTo>
                    <a:lnTo>
                      <a:pt x="5077" y="1829"/>
                    </a:lnTo>
                    <a:lnTo>
                      <a:pt x="5083" y="1847"/>
                    </a:lnTo>
                    <a:lnTo>
                      <a:pt x="5087" y="1853"/>
                    </a:lnTo>
                    <a:lnTo>
                      <a:pt x="5092" y="1845"/>
                    </a:lnTo>
                    <a:lnTo>
                      <a:pt x="5097" y="1821"/>
                    </a:lnTo>
                    <a:lnTo>
                      <a:pt x="5102" y="1782"/>
                    </a:lnTo>
                    <a:lnTo>
                      <a:pt x="5106" y="1727"/>
                    </a:lnTo>
                    <a:lnTo>
                      <a:pt x="5112" y="1654"/>
                    </a:lnTo>
                    <a:lnTo>
                      <a:pt x="5116" y="1565"/>
                    </a:lnTo>
                    <a:lnTo>
                      <a:pt x="5121" y="1460"/>
                    </a:lnTo>
                    <a:lnTo>
                      <a:pt x="5126" y="1346"/>
                    </a:lnTo>
                    <a:lnTo>
                      <a:pt x="5131" y="1222"/>
                    </a:lnTo>
                    <a:lnTo>
                      <a:pt x="5135" y="1095"/>
                    </a:lnTo>
                    <a:lnTo>
                      <a:pt x="5141" y="969"/>
                    </a:lnTo>
                    <a:lnTo>
                      <a:pt x="5145" y="850"/>
                    </a:lnTo>
                    <a:lnTo>
                      <a:pt x="5150" y="740"/>
                    </a:lnTo>
                    <a:lnTo>
                      <a:pt x="5155" y="643"/>
                    </a:lnTo>
                    <a:lnTo>
                      <a:pt x="5160" y="564"/>
                    </a:lnTo>
                    <a:lnTo>
                      <a:pt x="5164" y="503"/>
                    </a:lnTo>
                    <a:lnTo>
                      <a:pt x="5170" y="462"/>
                    </a:lnTo>
                    <a:lnTo>
                      <a:pt x="5174" y="441"/>
                    </a:lnTo>
                    <a:lnTo>
                      <a:pt x="5179" y="439"/>
                    </a:lnTo>
                    <a:lnTo>
                      <a:pt x="5184" y="453"/>
                    </a:lnTo>
                    <a:lnTo>
                      <a:pt x="5189" y="482"/>
                    </a:lnTo>
                    <a:lnTo>
                      <a:pt x="5193" y="525"/>
                    </a:lnTo>
                    <a:lnTo>
                      <a:pt x="5199" y="578"/>
                    </a:lnTo>
                    <a:lnTo>
                      <a:pt x="5203" y="641"/>
                    </a:lnTo>
                    <a:lnTo>
                      <a:pt x="5208" y="712"/>
                    </a:lnTo>
                    <a:lnTo>
                      <a:pt x="5213" y="792"/>
                    </a:lnTo>
                    <a:lnTo>
                      <a:pt x="5218" y="880"/>
                    </a:lnTo>
                    <a:lnTo>
                      <a:pt x="5222" y="976"/>
                    </a:lnTo>
                    <a:lnTo>
                      <a:pt x="5228" y="1081"/>
                    </a:lnTo>
                    <a:lnTo>
                      <a:pt x="5232" y="1194"/>
                    </a:lnTo>
                    <a:lnTo>
                      <a:pt x="5237" y="1316"/>
                    </a:lnTo>
                    <a:lnTo>
                      <a:pt x="5242" y="1445"/>
                    </a:lnTo>
                    <a:lnTo>
                      <a:pt x="5247" y="1577"/>
                    </a:lnTo>
                    <a:lnTo>
                      <a:pt x="5251" y="1711"/>
                    </a:lnTo>
                    <a:lnTo>
                      <a:pt x="5257" y="1840"/>
                    </a:lnTo>
                    <a:lnTo>
                      <a:pt x="5261" y="1961"/>
                    </a:lnTo>
                    <a:lnTo>
                      <a:pt x="5266" y="2065"/>
                    </a:lnTo>
                    <a:lnTo>
                      <a:pt x="5271" y="2148"/>
                    </a:lnTo>
                    <a:lnTo>
                      <a:pt x="5276" y="2202"/>
                    </a:lnTo>
                    <a:lnTo>
                      <a:pt x="5280" y="2224"/>
                    </a:lnTo>
                    <a:lnTo>
                      <a:pt x="5286" y="2207"/>
                    </a:lnTo>
                    <a:lnTo>
                      <a:pt x="5290" y="2150"/>
                    </a:lnTo>
                    <a:lnTo>
                      <a:pt x="5295" y="2053"/>
                    </a:lnTo>
                    <a:lnTo>
                      <a:pt x="5300" y="1920"/>
                    </a:lnTo>
                    <a:lnTo>
                      <a:pt x="5305" y="1752"/>
                    </a:lnTo>
                    <a:lnTo>
                      <a:pt x="5309" y="1559"/>
                    </a:lnTo>
                    <a:lnTo>
                      <a:pt x="5315" y="1346"/>
                    </a:lnTo>
                    <a:lnTo>
                      <a:pt x="5319" y="1125"/>
                    </a:lnTo>
                    <a:lnTo>
                      <a:pt x="5324" y="906"/>
                    </a:lnTo>
                    <a:lnTo>
                      <a:pt x="5329" y="698"/>
                    </a:lnTo>
                    <a:lnTo>
                      <a:pt x="5334" y="512"/>
                    </a:lnTo>
                    <a:lnTo>
                      <a:pt x="5338" y="356"/>
                    </a:lnTo>
                    <a:lnTo>
                      <a:pt x="5344" y="238"/>
                    </a:lnTo>
                    <a:lnTo>
                      <a:pt x="5348" y="160"/>
                    </a:lnTo>
                    <a:lnTo>
                      <a:pt x="5354" y="126"/>
                    </a:lnTo>
                    <a:lnTo>
                      <a:pt x="5358" y="135"/>
                    </a:lnTo>
                    <a:lnTo>
                      <a:pt x="5363" y="183"/>
                    </a:lnTo>
                    <a:lnTo>
                      <a:pt x="5368" y="266"/>
                    </a:lnTo>
                    <a:lnTo>
                      <a:pt x="5373" y="380"/>
                    </a:lnTo>
                    <a:lnTo>
                      <a:pt x="5377" y="515"/>
                    </a:lnTo>
                    <a:lnTo>
                      <a:pt x="5383" y="664"/>
                    </a:lnTo>
                    <a:lnTo>
                      <a:pt x="5387" y="820"/>
                    </a:lnTo>
                    <a:lnTo>
                      <a:pt x="5392" y="975"/>
                    </a:lnTo>
                    <a:lnTo>
                      <a:pt x="5397" y="1124"/>
                    </a:lnTo>
                    <a:lnTo>
                      <a:pt x="5402" y="1262"/>
                    </a:lnTo>
                    <a:lnTo>
                      <a:pt x="5406" y="1386"/>
                    </a:lnTo>
                    <a:lnTo>
                      <a:pt x="5412" y="1492"/>
                    </a:lnTo>
                    <a:lnTo>
                      <a:pt x="5416" y="1581"/>
                    </a:lnTo>
                    <a:lnTo>
                      <a:pt x="5421" y="1651"/>
                    </a:lnTo>
                    <a:lnTo>
                      <a:pt x="5426" y="1704"/>
                    </a:lnTo>
                    <a:lnTo>
                      <a:pt x="5431" y="1741"/>
                    </a:lnTo>
                    <a:lnTo>
                      <a:pt x="5435" y="1764"/>
                    </a:lnTo>
                    <a:lnTo>
                      <a:pt x="5441" y="1771"/>
                    </a:lnTo>
                    <a:lnTo>
                      <a:pt x="5445" y="1767"/>
                    </a:lnTo>
                    <a:lnTo>
                      <a:pt x="5450" y="1750"/>
                    </a:lnTo>
                    <a:lnTo>
                      <a:pt x="5455" y="1721"/>
                    </a:lnTo>
                    <a:lnTo>
                      <a:pt x="5460" y="1681"/>
                    </a:lnTo>
                    <a:lnTo>
                      <a:pt x="5464" y="1630"/>
                    </a:lnTo>
                    <a:lnTo>
                      <a:pt x="5470" y="1567"/>
                    </a:lnTo>
                    <a:lnTo>
                      <a:pt x="5474" y="1495"/>
                    </a:lnTo>
                    <a:lnTo>
                      <a:pt x="5479" y="1415"/>
                    </a:lnTo>
                    <a:lnTo>
                      <a:pt x="5484" y="1329"/>
                    </a:lnTo>
                    <a:lnTo>
                      <a:pt x="5489" y="1239"/>
                    </a:lnTo>
                    <a:lnTo>
                      <a:pt x="5493" y="1149"/>
                    </a:lnTo>
                    <a:lnTo>
                      <a:pt x="5499" y="1063"/>
                    </a:lnTo>
                    <a:lnTo>
                      <a:pt x="5503" y="983"/>
                    </a:lnTo>
                    <a:lnTo>
                      <a:pt x="5508" y="915"/>
                    </a:lnTo>
                    <a:lnTo>
                      <a:pt x="5513" y="860"/>
                    </a:lnTo>
                    <a:lnTo>
                      <a:pt x="5518" y="821"/>
                    </a:lnTo>
                    <a:lnTo>
                      <a:pt x="5522" y="800"/>
                    </a:lnTo>
                    <a:lnTo>
                      <a:pt x="5528" y="796"/>
                    </a:lnTo>
                    <a:lnTo>
                      <a:pt x="5532" y="811"/>
                    </a:lnTo>
                    <a:lnTo>
                      <a:pt x="5537" y="839"/>
                    </a:lnTo>
                    <a:lnTo>
                      <a:pt x="5542" y="879"/>
                    </a:lnTo>
                    <a:lnTo>
                      <a:pt x="5547" y="927"/>
                    </a:lnTo>
                    <a:lnTo>
                      <a:pt x="5551" y="978"/>
                    </a:lnTo>
                    <a:lnTo>
                      <a:pt x="5557" y="1030"/>
                    </a:lnTo>
                    <a:lnTo>
                      <a:pt x="5561" y="1078"/>
                    </a:lnTo>
                    <a:lnTo>
                      <a:pt x="5566" y="1120"/>
                    </a:lnTo>
                    <a:lnTo>
                      <a:pt x="5571" y="1153"/>
                    </a:lnTo>
                    <a:lnTo>
                      <a:pt x="5576" y="1178"/>
                    </a:lnTo>
                    <a:lnTo>
                      <a:pt x="5580" y="1193"/>
                    </a:lnTo>
                    <a:lnTo>
                      <a:pt x="5586" y="1202"/>
                    </a:lnTo>
                    <a:lnTo>
                      <a:pt x="5590" y="1206"/>
                    </a:lnTo>
                    <a:lnTo>
                      <a:pt x="5595" y="1209"/>
                    </a:lnTo>
                    <a:lnTo>
                      <a:pt x="5600" y="1212"/>
                    </a:lnTo>
                    <a:lnTo>
                      <a:pt x="5605" y="1220"/>
                    </a:lnTo>
                    <a:lnTo>
                      <a:pt x="5609" y="1233"/>
                    </a:lnTo>
                    <a:lnTo>
                      <a:pt x="5615" y="1253"/>
                    </a:lnTo>
                    <a:lnTo>
                      <a:pt x="5619" y="1281"/>
                    </a:lnTo>
                    <a:lnTo>
                      <a:pt x="5624" y="1313"/>
                    </a:lnTo>
                    <a:lnTo>
                      <a:pt x="5629" y="1349"/>
                    </a:lnTo>
                    <a:lnTo>
                      <a:pt x="5634" y="1384"/>
                    </a:lnTo>
                    <a:lnTo>
                      <a:pt x="5638" y="1415"/>
                    </a:lnTo>
                    <a:lnTo>
                      <a:pt x="5644" y="1436"/>
                    </a:lnTo>
                    <a:lnTo>
                      <a:pt x="5648" y="1444"/>
                    </a:lnTo>
                    <a:lnTo>
                      <a:pt x="5653" y="1436"/>
                    </a:lnTo>
                    <a:lnTo>
                      <a:pt x="5658" y="1409"/>
                    </a:lnTo>
                    <a:lnTo>
                      <a:pt x="5663" y="1364"/>
                    </a:lnTo>
                    <a:lnTo>
                      <a:pt x="5667" y="1300"/>
                    </a:lnTo>
                    <a:lnTo>
                      <a:pt x="5673" y="1222"/>
                    </a:lnTo>
                    <a:lnTo>
                      <a:pt x="5677" y="1132"/>
                    </a:lnTo>
                    <a:lnTo>
                      <a:pt x="5682" y="1037"/>
                    </a:lnTo>
                    <a:lnTo>
                      <a:pt x="5687" y="944"/>
                    </a:lnTo>
                    <a:lnTo>
                      <a:pt x="5692" y="859"/>
                    </a:lnTo>
                    <a:lnTo>
                      <a:pt x="5696" y="789"/>
                    </a:lnTo>
                    <a:lnTo>
                      <a:pt x="5702" y="740"/>
                    </a:lnTo>
                    <a:lnTo>
                      <a:pt x="5706" y="716"/>
                    </a:lnTo>
                    <a:lnTo>
                      <a:pt x="5711" y="722"/>
                    </a:lnTo>
                    <a:lnTo>
                      <a:pt x="5716" y="756"/>
                    </a:lnTo>
                    <a:lnTo>
                      <a:pt x="5721" y="821"/>
                    </a:lnTo>
                    <a:lnTo>
                      <a:pt x="5725" y="910"/>
                    </a:lnTo>
                    <a:lnTo>
                      <a:pt x="5731" y="1020"/>
                    </a:lnTo>
                    <a:lnTo>
                      <a:pt x="5735" y="1145"/>
                    </a:lnTo>
                    <a:lnTo>
                      <a:pt x="5740" y="1277"/>
                    </a:lnTo>
                    <a:lnTo>
                      <a:pt x="5745" y="1407"/>
                    </a:lnTo>
                    <a:lnTo>
                      <a:pt x="5750" y="1530"/>
                    </a:lnTo>
                    <a:lnTo>
                      <a:pt x="5754" y="1635"/>
                    </a:lnTo>
                    <a:lnTo>
                      <a:pt x="5760" y="1721"/>
                    </a:lnTo>
                    <a:lnTo>
                      <a:pt x="5764" y="1781"/>
                    </a:lnTo>
                    <a:lnTo>
                      <a:pt x="5769" y="1813"/>
                    </a:lnTo>
                    <a:lnTo>
                      <a:pt x="5774" y="1816"/>
                    </a:lnTo>
                    <a:lnTo>
                      <a:pt x="5779" y="1790"/>
                    </a:lnTo>
                    <a:lnTo>
                      <a:pt x="5783" y="1738"/>
                    </a:lnTo>
                    <a:lnTo>
                      <a:pt x="5789" y="1664"/>
                    </a:lnTo>
                    <a:lnTo>
                      <a:pt x="5793" y="1571"/>
                    </a:lnTo>
                    <a:lnTo>
                      <a:pt x="5798" y="1464"/>
                    </a:lnTo>
                    <a:lnTo>
                      <a:pt x="5803" y="1348"/>
                    </a:lnTo>
                    <a:lnTo>
                      <a:pt x="5808" y="1227"/>
                    </a:lnTo>
                    <a:lnTo>
                      <a:pt x="5812" y="1105"/>
                    </a:lnTo>
                    <a:lnTo>
                      <a:pt x="5818" y="987"/>
                    </a:lnTo>
                    <a:lnTo>
                      <a:pt x="5822" y="874"/>
                    </a:lnTo>
                    <a:lnTo>
                      <a:pt x="5827" y="772"/>
                    </a:lnTo>
                    <a:lnTo>
                      <a:pt x="5832" y="680"/>
                    </a:lnTo>
                    <a:lnTo>
                      <a:pt x="5837" y="602"/>
                    </a:lnTo>
                    <a:lnTo>
                      <a:pt x="5841" y="537"/>
                    </a:lnTo>
                    <a:lnTo>
                      <a:pt x="5847" y="489"/>
                    </a:lnTo>
                    <a:lnTo>
                      <a:pt x="5851" y="459"/>
                    </a:lnTo>
                    <a:lnTo>
                      <a:pt x="5856" y="449"/>
                    </a:lnTo>
                    <a:lnTo>
                      <a:pt x="5861" y="460"/>
                    </a:lnTo>
                    <a:lnTo>
                      <a:pt x="5866" y="492"/>
                    </a:lnTo>
                    <a:lnTo>
                      <a:pt x="5870" y="549"/>
                    </a:lnTo>
                    <a:lnTo>
                      <a:pt x="5876" y="628"/>
                    </a:lnTo>
                    <a:lnTo>
                      <a:pt x="5880" y="731"/>
                    </a:lnTo>
                    <a:lnTo>
                      <a:pt x="5885" y="853"/>
                    </a:lnTo>
                    <a:lnTo>
                      <a:pt x="5890" y="993"/>
                    </a:lnTo>
                    <a:lnTo>
                      <a:pt x="5895" y="1145"/>
                    </a:lnTo>
                    <a:lnTo>
                      <a:pt x="5899" y="1306"/>
                    </a:lnTo>
                    <a:lnTo>
                      <a:pt x="5905" y="1467"/>
                    </a:lnTo>
                    <a:lnTo>
                      <a:pt x="5909" y="1622"/>
                    </a:lnTo>
                    <a:lnTo>
                      <a:pt x="5914" y="1766"/>
                    </a:lnTo>
                    <a:lnTo>
                      <a:pt x="5919" y="1888"/>
                    </a:lnTo>
                    <a:lnTo>
                      <a:pt x="5924" y="1986"/>
                    </a:lnTo>
                    <a:lnTo>
                      <a:pt x="5928" y="2054"/>
                    </a:lnTo>
                    <a:lnTo>
                      <a:pt x="5934" y="2088"/>
                    </a:lnTo>
                    <a:lnTo>
                      <a:pt x="5938" y="2087"/>
                    </a:lnTo>
                    <a:lnTo>
                      <a:pt x="5943" y="2051"/>
                    </a:lnTo>
                    <a:lnTo>
                      <a:pt x="5948" y="1984"/>
                    </a:lnTo>
                    <a:lnTo>
                      <a:pt x="5953" y="1889"/>
                    </a:lnTo>
                    <a:lnTo>
                      <a:pt x="5957" y="1772"/>
                    </a:lnTo>
                    <a:lnTo>
                      <a:pt x="5963" y="1641"/>
                    </a:lnTo>
                    <a:lnTo>
                      <a:pt x="5967" y="1501"/>
                    </a:lnTo>
                    <a:lnTo>
                      <a:pt x="5972" y="1359"/>
                    </a:lnTo>
                    <a:lnTo>
                      <a:pt x="5977" y="1222"/>
                    </a:lnTo>
                    <a:lnTo>
                      <a:pt x="5982" y="1096"/>
                    </a:lnTo>
                    <a:lnTo>
                      <a:pt x="5986" y="984"/>
                    </a:lnTo>
                    <a:lnTo>
                      <a:pt x="5992" y="889"/>
                    </a:lnTo>
                    <a:lnTo>
                      <a:pt x="5996" y="811"/>
                    </a:lnTo>
                    <a:lnTo>
                      <a:pt x="6001" y="751"/>
                    </a:lnTo>
                    <a:lnTo>
                      <a:pt x="6006" y="705"/>
                    </a:lnTo>
                    <a:lnTo>
                      <a:pt x="6011" y="672"/>
                    </a:lnTo>
                    <a:lnTo>
                      <a:pt x="6015" y="648"/>
                    </a:lnTo>
                    <a:lnTo>
                      <a:pt x="6021" y="630"/>
                    </a:lnTo>
                    <a:lnTo>
                      <a:pt x="6025" y="617"/>
                    </a:lnTo>
                    <a:lnTo>
                      <a:pt x="6030" y="606"/>
                    </a:lnTo>
                    <a:lnTo>
                      <a:pt x="6035" y="596"/>
                    </a:lnTo>
                    <a:lnTo>
                      <a:pt x="6040" y="588"/>
                    </a:lnTo>
                    <a:lnTo>
                      <a:pt x="6044" y="584"/>
                    </a:lnTo>
                    <a:lnTo>
                      <a:pt x="6050" y="586"/>
                    </a:lnTo>
                    <a:lnTo>
                      <a:pt x="6054" y="598"/>
                    </a:lnTo>
                    <a:lnTo>
                      <a:pt x="6059" y="624"/>
                    </a:lnTo>
                    <a:lnTo>
                      <a:pt x="6064" y="667"/>
                    </a:lnTo>
                    <a:lnTo>
                      <a:pt x="6069" y="729"/>
                    </a:lnTo>
                    <a:lnTo>
                      <a:pt x="6073" y="812"/>
                    </a:lnTo>
                    <a:lnTo>
                      <a:pt x="6079" y="917"/>
                    </a:lnTo>
                    <a:lnTo>
                      <a:pt x="6083" y="1040"/>
                    </a:lnTo>
                    <a:lnTo>
                      <a:pt x="6088" y="1181"/>
                    </a:lnTo>
                    <a:lnTo>
                      <a:pt x="6093" y="1332"/>
                    </a:lnTo>
                    <a:lnTo>
                      <a:pt x="6098" y="1491"/>
                    </a:lnTo>
                    <a:lnTo>
                      <a:pt x="6102" y="1648"/>
                    </a:lnTo>
                    <a:lnTo>
                      <a:pt x="6108" y="1795"/>
                    </a:lnTo>
                    <a:lnTo>
                      <a:pt x="6112" y="1927"/>
                    </a:lnTo>
                    <a:lnTo>
                      <a:pt x="6117" y="2038"/>
                    </a:lnTo>
                    <a:lnTo>
                      <a:pt x="6122" y="2119"/>
                    </a:lnTo>
                    <a:lnTo>
                      <a:pt x="6127" y="2168"/>
                    </a:lnTo>
                    <a:lnTo>
                      <a:pt x="6131" y="2182"/>
                    </a:lnTo>
                    <a:lnTo>
                      <a:pt x="6137" y="2161"/>
                    </a:lnTo>
                    <a:lnTo>
                      <a:pt x="6141" y="2106"/>
                    </a:lnTo>
                    <a:lnTo>
                      <a:pt x="6146" y="2018"/>
                    </a:lnTo>
                    <a:lnTo>
                      <a:pt x="6151" y="1903"/>
                    </a:lnTo>
                    <a:lnTo>
                      <a:pt x="6156" y="1766"/>
                    </a:lnTo>
                    <a:lnTo>
                      <a:pt x="6160" y="1612"/>
                    </a:lnTo>
                    <a:lnTo>
                      <a:pt x="6166" y="1448"/>
                    </a:lnTo>
                    <a:lnTo>
                      <a:pt x="6170" y="1280"/>
                    </a:lnTo>
                    <a:lnTo>
                      <a:pt x="6175" y="1114"/>
                    </a:lnTo>
                    <a:lnTo>
                      <a:pt x="6180" y="954"/>
                    </a:lnTo>
                    <a:lnTo>
                      <a:pt x="6185" y="803"/>
                    </a:lnTo>
                    <a:lnTo>
                      <a:pt x="6189" y="666"/>
                    </a:lnTo>
                    <a:lnTo>
                      <a:pt x="6195" y="547"/>
                    </a:lnTo>
                    <a:lnTo>
                      <a:pt x="6199" y="447"/>
                    </a:lnTo>
                    <a:lnTo>
                      <a:pt x="6204" y="365"/>
                    </a:lnTo>
                    <a:lnTo>
                      <a:pt x="6209" y="307"/>
                    </a:lnTo>
                    <a:lnTo>
                      <a:pt x="6214" y="272"/>
                    </a:lnTo>
                    <a:lnTo>
                      <a:pt x="6218" y="259"/>
                    </a:lnTo>
                    <a:lnTo>
                      <a:pt x="6224" y="272"/>
                    </a:lnTo>
                    <a:lnTo>
                      <a:pt x="6228" y="309"/>
                    </a:lnTo>
                    <a:lnTo>
                      <a:pt x="6233" y="371"/>
                    </a:lnTo>
                    <a:lnTo>
                      <a:pt x="6238" y="458"/>
                    </a:lnTo>
                    <a:lnTo>
                      <a:pt x="6243" y="569"/>
                    </a:lnTo>
                    <a:lnTo>
                      <a:pt x="6247" y="701"/>
                    </a:lnTo>
                    <a:lnTo>
                      <a:pt x="6253" y="850"/>
                    </a:lnTo>
                    <a:lnTo>
                      <a:pt x="6257" y="1014"/>
                    </a:lnTo>
                    <a:lnTo>
                      <a:pt x="6262" y="1185"/>
                    </a:lnTo>
                    <a:lnTo>
                      <a:pt x="6267" y="1359"/>
                    </a:lnTo>
                    <a:lnTo>
                      <a:pt x="6272" y="1527"/>
                    </a:lnTo>
                    <a:lnTo>
                      <a:pt x="6276" y="1684"/>
                    </a:lnTo>
                    <a:lnTo>
                      <a:pt x="6282" y="1821"/>
                    </a:lnTo>
                    <a:lnTo>
                      <a:pt x="6286" y="1933"/>
                    </a:lnTo>
                    <a:lnTo>
                      <a:pt x="6291" y="2012"/>
                    </a:lnTo>
                    <a:lnTo>
                      <a:pt x="6296" y="2057"/>
                    </a:lnTo>
                    <a:lnTo>
                      <a:pt x="6301" y="2064"/>
                    </a:lnTo>
                    <a:lnTo>
                      <a:pt x="6305" y="2034"/>
                    </a:lnTo>
                    <a:lnTo>
                      <a:pt x="6311" y="1969"/>
                    </a:lnTo>
                    <a:lnTo>
                      <a:pt x="6315" y="1873"/>
                    </a:lnTo>
                    <a:lnTo>
                      <a:pt x="6320" y="1751"/>
                    </a:lnTo>
                    <a:lnTo>
                      <a:pt x="6325" y="1613"/>
                    </a:lnTo>
                    <a:lnTo>
                      <a:pt x="6330" y="1465"/>
                    </a:lnTo>
                    <a:lnTo>
                      <a:pt x="6334" y="1317"/>
                    </a:lnTo>
                    <a:lnTo>
                      <a:pt x="6340" y="1175"/>
                    </a:lnTo>
                    <a:lnTo>
                      <a:pt x="6344" y="1047"/>
                    </a:lnTo>
                    <a:lnTo>
                      <a:pt x="6349" y="940"/>
                    </a:lnTo>
                    <a:lnTo>
                      <a:pt x="6354" y="858"/>
                    </a:lnTo>
                    <a:lnTo>
                      <a:pt x="6359" y="800"/>
                    </a:lnTo>
                    <a:lnTo>
                      <a:pt x="6363" y="769"/>
                    </a:lnTo>
                    <a:lnTo>
                      <a:pt x="6369" y="762"/>
                    </a:lnTo>
                    <a:lnTo>
                      <a:pt x="6373" y="775"/>
                    </a:lnTo>
                    <a:lnTo>
                      <a:pt x="6378" y="805"/>
                    </a:lnTo>
                    <a:lnTo>
                      <a:pt x="6380" y="81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425240" y="609840"/>
                <a:ext cx="6587640" cy="2158560"/>
              </a:xfrm>
              <a:custGeom>
                <a:avLst/>
                <a:gdLst/>
                <a:ahLst/>
                <a:rect l="l" t="t" r="r" b="b"/>
                <a:pathLst>
                  <a:path w="6380" h="2403">
                    <a:moveTo>
                      <a:pt x="0" y="240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380" y="0"/>
                    </a:lnTo>
                    <a:lnTo>
                      <a:pt x="6380" y="2403"/>
                    </a:lnTo>
                    <a:lnTo>
                      <a:pt x="6380" y="2403"/>
                    </a:lnTo>
                    <a:lnTo>
                      <a:pt x="0" y="24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424160" y="1684440"/>
                <a:ext cx="65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521240" y="3131640"/>
                <a:ext cx="39564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   (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973080" y="3594960"/>
              <a:ext cx="7197480" cy="2764080"/>
              <a:chOff x="973080" y="3594960"/>
              <a:chExt cx="7197480" cy="2764080"/>
            </a:xfrm>
          </p:grpSpPr>
          <p:sp>
            <p:nvSpPr>
              <p:cNvPr id="1927" name=""/>
              <p:cNvSpPr/>
              <p:nvPr/>
            </p:nvSpPr>
            <p:spPr>
              <a:xfrm>
                <a:off x="1425600" y="3594960"/>
                <a:ext cx="6588000" cy="360"/>
              </a:xfrm>
              <a:custGeom>
                <a:avLst/>
                <a:gdLst/>
                <a:ahLst/>
                <a:rect l="l" t="t" r="r" b="b"/>
                <a:pathLst>
                  <a:path w="6380" h="0">
                    <a:moveTo>
                      <a:pt x="6380" y="0"/>
                    </a:moveTo>
                    <a:lnTo>
                      <a:pt x="0" y="0"/>
                    </a:lnTo>
                    <a:lnTo>
                      <a:pt x="63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425600" y="3594960"/>
                <a:ext cx="6588000" cy="360"/>
              </a:xfrm>
              <a:custGeom>
                <a:avLst/>
                <a:gdLst/>
                <a:ahLst/>
                <a:rect l="l" t="t" r="r" b="b"/>
                <a:pathLst>
                  <a:path w="6380" h="0">
                    <a:moveTo>
                      <a:pt x="0" y="0"/>
                    </a:moveTo>
                    <a:lnTo>
                      <a:pt x="0" y="0"/>
                    </a:lnTo>
                    <a:lnTo>
                      <a:pt x="63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368720" y="5880600"/>
                <a:ext cx="9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56848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38976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74252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 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369520" y="5880600"/>
                <a:ext cx="2858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47660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 5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657120" y="5880600"/>
                <a:ext cx="428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 5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42560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51316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59964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68756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77404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86160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950600" y="5753880"/>
                <a:ext cx="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425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4268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8612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0775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2946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5131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730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9487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16512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3825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5996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8181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03452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25268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4712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6875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9046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12208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340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5580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7740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9922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2100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4281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645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861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07904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29756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150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73208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950600" y="5753880"/>
                <a:ext cx="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189080" y="5648400"/>
                <a:ext cx="95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058400" y="3849120"/>
                <a:ext cx="23832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074240" y="4748760"/>
                <a:ext cx="238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973080" y="5199120"/>
                <a:ext cx="3330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973080" y="4299480"/>
                <a:ext cx="3330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.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1338840" y="575388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1338840" y="530460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>
                <a:off x="1338840" y="485532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1338840" y="440496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1338840" y="395532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425600" y="3606480"/>
                <a:ext cx="6588000" cy="2143800"/>
              </a:xfrm>
              <a:custGeom>
                <a:avLst/>
                <a:gdLst/>
                <a:ahLst/>
                <a:rect l="l" t="t" r="r" b="b"/>
                <a:pathLst>
                  <a:path w="6380" h="2387">
                    <a:moveTo>
                      <a:pt x="0" y="2374"/>
                    </a:moveTo>
                    <a:lnTo>
                      <a:pt x="22" y="2374"/>
                    </a:lnTo>
                    <a:lnTo>
                      <a:pt x="46" y="2374"/>
                    </a:lnTo>
                    <a:lnTo>
                      <a:pt x="68" y="2374"/>
                    </a:lnTo>
                    <a:lnTo>
                      <a:pt x="90" y="2374"/>
                    </a:lnTo>
                    <a:lnTo>
                      <a:pt x="114" y="2374"/>
                    </a:lnTo>
                    <a:lnTo>
                      <a:pt x="136" y="2374"/>
                    </a:lnTo>
                    <a:lnTo>
                      <a:pt x="159" y="2374"/>
                    </a:lnTo>
                    <a:lnTo>
                      <a:pt x="182" y="2374"/>
                    </a:lnTo>
                    <a:lnTo>
                      <a:pt x="204" y="2374"/>
                    </a:lnTo>
                    <a:lnTo>
                      <a:pt x="227" y="2374"/>
                    </a:lnTo>
                    <a:lnTo>
                      <a:pt x="250" y="2374"/>
                    </a:lnTo>
                    <a:lnTo>
                      <a:pt x="272" y="2374"/>
                    </a:lnTo>
                    <a:lnTo>
                      <a:pt x="295" y="2374"/>
                    </a:lnTo>
                    <a:lnTo>
                      <a:pt x="318" y="2374"/>
                    </a:lnTo>
                    <a:lnTo>
                      <a:pt x="340" y="2374"/>
                    </a:lnTo>
                    <a:lnTo>
                      <a:pt x="363" y="2374"/>
                    </a:lnTo>
                    <a:lnTo>
                      <a:pt x="386" y="2374"/>
                    </a:lnTo>
                    <a:lnTo>
                      <a:pt x="408" y="2374"/>
                    </a:lnTo>
                    <a:lnTo>
                      <a:pt x="431" y="2374"/>
                    </a:lnTo>
                    <a:lnTo>
                      <a:pt x="454" y="2374"/>
                    </a:lnTo>
                    <a:lnTo>
                      <a:pt x="476" y="2374"/>
                    </a:lnTo>
                    <a:lnTo>
                      <a:pt x="499" y="2374"/>
                    </a:lnTo>
                    <a:lnTo>
                      <a:pt x="522" y="2374"/>
                    </a:lnTo>
                    <a:lnTo>
                      <a:pt x="545" y="2374"/>
                    </a:lnTo>
                    <a:lnTo>
                      <a:pt x="567" y="2373"/>
                    </a:lnTo>
                    <a:lnTo>
                      <a:pt x="590" y="2373"/>
                    </a:lnTo>
                    <a:lnTo>
                      <a:pt x="613" y="2373"/>
                    </a:lnTo>
                    <a:lnTo>
                      <a:pt x="635" y="2373"/>
                    </a:lnTo>
                    <a:lnTo>
                      <a:pt x="658" y="2373"/>
                    </a:lnTo>
                    <a:lnTo>
                      <a:pt x="681" y="2373"/>
                    </a:lnTo>
                    <a:lnTo>
                      <a:pt x="703" y="2373"/>
                    </a:lnTo>
                    <a:lnTo>
                      <a:pt x="725" y="2373"/>
                    </a:lnTo>
                    <a:lnTo>
                      <a:pt x="749" y="2373"/>
                    </a:lnTo>
                    <a:lnTo>
                      <a:pt x="771" y="2373"/>
                    </a:lnTo>
                    <a:lnTo>
                      <a:pt x="793" y="2373"/>
                    </a:lnTo>
                    <a:lnTo>
                      <a:pt x="817" y="2372"/>
                    </a:lnTo>
                    <a:lnTo>
                      <a:pt x="839" y="2372"/>
                    </a:lnTo>
                    <a:lnTo>
                      <a:pt x="861" y="2372"/>
                    </a:lnTo>
                    <a:lnTo>
                      <a:pt x="885" y="2372"/>
                    </a:lnTo>
                    <a:lnTo>
                      <a:pt x="907" y="2372"/>
                    </a:lnTo>
                    <a:lnTo>
                      <a:pt x="929" y="2372"/>
                    </a:lnTo>
                    <a:lnTo>
                      <a:pt x="953" y="2372"/>
                    </a:lnTo>
                    <a:lnTo>
                      <a:pt x="975" y="2371"/>
                    </a:lnTo>
                    <a:lnTo>
                      <a:pt x="997" y="2371"/>
                    </a:lnTo>
                    <a:lnTo>
                      <a:pt x="1021" y="2371"/>
                    </a:lnTo>
                    <a:lnTo>
                      <a:pt x="1043" y="2371"/>
                    </a:lnTo>
                    <a:lnTo>
                      <a:pt x="1065" y="2371"/>
                    </a:lnTo>
                    <a:lnTo>
                      <a:pt x="1089" y="2371"/>
                    </a:lnTo>
                    <a:lnTo>
                      <a:pt x="1111" y="2370"/>
                    </a:lnTo>
                    <a:lnTo>
                      <a:pt x="1134" y="2370"/>
                    </a:lnTo>
                    <a:lnTo>
                      <a:pt x="1157" y="2370"/>
                    </a:lnTo>
                    <a:lnTo>
                      <a:pt x="1179" y="2370"/>
                    </a:lnTo>
                    <a:lnTo>
                      <a:pt x="1202" y="2369"/>
                    </a:lnTo>
                    <a:lnTo>
                      <a:pt x="1225" y="2369"/>
                    </a:lnTo>
                    <a:lnTo>
                      <a:pt x="1247" y="2369"/>
                    </a:lnTo>
                    <a:lnTo>
                      <a:pt x="1270" y="2369"/>
                    </a:lnTo>
                    <a:lnTo>
                      <a:pt x="1293" y="2368"/>
                    </a:lnTo>
                    <a:lnTo>
                      <a:pt x="1315" y="2368"/>
                    </a:lnTo>
                    <a:lnTo>
                      <a:pt x="1338" y="2368"/>
                    </a:lnTo>
                    <a:lnTo>
                      <a:pt x="1361" y="2368"/>
                    </a:lnTo>
                    <a:lnTo>
                      <a:pt x="1383" y="2367"/>
                    </a:lnTo>
                    <a:lnTo>
                      <a:pt x="1406" y="2367"/>
                    </a:lnTo>
                    <a:lnTo>
                      <a:pt x="1429" y="2366"/>
                    </a:lnTo>
                    <a:lnTo>
                      <a:pt x="1451" y="2366"/>
                    </a:lnTo>
                    <a:lnTo>
                      <a:pt x="1474" y="2366"/>
                    </a:lnTo>
                    <a:lnTo>
                      <a:pt x="1497" y="2364"/>
                    </a:lnTo>
                    <a:lnTo>
                      <a:pt x="1520" y="2364"/>
                    </a:lnTo>
                    <a:lnTo>
                      <a:pt x="1542" y="2363"/>
                    </a:lnTo>
                    <a:lnTo>
                      <a:pt x="1564" y="2363"/>
                    </a:lnTo>
                    <a:lnTo>
                      <a:pt x="1588" y="2362"/>
                    </a:lnTo>
                    <a:lnTo>
                      <a:pt x="1610" y="2362"/>
                    </a:lnTo>
                    <a:lnTo>
                      <a:pt x="1632" y="2361"/>
                    </a:lnTo>
                    <a:lnTo>
                      <a:pt x="1656" y="2360"/>
                    </a:lnTo>
                    <a:lnTo>
                      <a:pt x="1678" y="2359"/>
                    </a:lnTo>
                    <a:lnTo>
                      <a:pt x="1700" y="2359"/>
                    </a:lnTo>
                    <a:lnTo>
                      <a:pt x="1724" y="2358"/>
                    </a:lnTo>
                    <a:lnTo>
                      <a:pt x="1746" y="2357"/>
                    </a:lnTo>
                    <a:lnTo>
                      <a:pt x="1768" y="2355"/>
                    </a:lnTo>
                    <a:lnTo>
                      <a:pt x="1792" y="2354"/>
                    </a:lnTo>
                    <a:lnTo>
                      <a:pt x="1814" y="2352"/>
                    </a:lnTo>
                    <a:lnTo>
                      <a:pt x="1836" y="2351"/>
                    </a:lnTo>
                    <a:lnTo>
                      <a:pt x="1860" y="2349"/>
                    </a:lnTo>
                    <a:lnTo>
                      <a:pt x="1882" y="2347"/>
                    </a:lnTo>
                    <a:lnTo>
                      <a:pt x="1904" y="2344"/>
                    </a:lnTo>
                    <a:lnTo>
                      <a:pt x="1928" y="2341"/>
                    </a:lnTo>
                    <a:lnTo>
                      <a:pt x="1950" y="2338"/>
                    </a:lnTo>
                    <a:lnTo>
                      <a:pt x="1972" y="2333"/>
                    </a:lnTo>
                    <a:lnTo>
                      <a:pt x="1996" y="2327"/>
                    </a:lnTo>
                    <a:lnTo>
                      <a:pt x="2018" y="2317"/>
                    </a:lnTo>
                    <a:lnTo>
                      <a:pt x="2040" y="2301"/>
                    </a:lnTo>
                    <a:lnTo>
                      <a:pt x="2064" y="2269"/>
                    </a:lnTo>
                    <a:lnTo>
                      <a:pt x="2086" y="2163"/>
                    </a:lnTo>
                    <a:lnTo>
                      <a:pt x="2109" y="952"/>
                    </a:lnTo>
                    <a:lnTo>
                      <a:pt x="2132" y="2257"/>
                    </a:lnTo>
                    <a:lnTo>
                      <a:pt x="2154" y="2327"/>
                    </a:lnTo>
                    <a:lnTo>
                      <a:pt x="2177" y="2347"/>
                    </a:lnTo>
                    <a:lnTo>
                      <a:pt x="2200" y="2351"/>
                    </a:lnTo>
                    <a:lnTo>
                      <a:pt x="2222" y="2351"/>
                    </a:lnTo>
                    <a:lnTo>
                      <a:pt x="2245" y="2348"/>
                    </a:lnTo>
                    <a:lnTo>
                      <a:pt x="2268" y="2344"/>
                    </a:lnTo>
                    <a:lnTo>
                      <a:pt x="2290" y="2340"/>
                    </a:lnTo>
                    <a:lnTo>
                      <a:pt x="2313" y="2334"/>
                    </a:lnTo>
                    <a:lnTo>
                      <a:pt x="2335" y="2329"/>
                    </a:lnTo>
                    <a:lnTo>
                      <a:pt x="2358" y="2322"/>
                    </a:lnTo>
                    <a:lnTo>
                      <a:pt x="2381" y="2314"/>
                    </a:lnTo>
                    <a:lnTo>
                      <a:pt x="2403" y="2305"/>
                    </a:lnTo>
                    <a:lnTo>
                      <a:pt x="2426" y="2294"/>
                    </a:lnTo>
                    <a:lnTo>
                      <a:pt x="2449" y="2281"/>
                    </a:lnTo>
                    <a:lnTo>
                      <a:pt x="2471" y="2263"/>
                    </a:lnTo>
                    <a:lnTo>
                      <a:pt x="2495" y="2240"/>
                    </a:lnTo>
                    <a:lnTo>
                      <a:pt x="2517" y="2206"/>
                    </a:lnTo>
                    <a:lnTo>
                      <a:pt x="2539" y="2154"/>
                    </a:lnTo>
                    <a:lnTo>
                      <a:pt x="2563" y="2064"/>
                    </a:lnTo>
                    <a:lnTo>
                      <a:pt x="2585" y="1861"/>
                    </a:lnTo>
                    <a:lnTo>
                      <a:pt x="2607" y="1023"/>
                    </a:lnTo>
                    <a:lnTo>
                      <a:pt x="2631" y="0"/>
                    </a:lnTo>
                    <a:lnTo>
                      <a:pt x="2653" y="1751"/>
                    </a:lnTo>
                    <a:lnTo>
                      <a:pt x="2675" y="2020"/>
                    </a:lnTo>
                    <a:lnTo>
                      <a:pt x="2699" y="2130"/>
                    </a:lnTo>
                    <a:lnTo>
                      <a:pt x="2721" y="2189"/>
                    </a:lnTo>
                    <a:lnTo>
                      <a:pt x="2743" y="2227"/>
                    </a:lnTo>
                    <a:lnTo>
                      <a:pt x="2767" y="2253"/>
                    </a:lnTo>
                    <a:lnTo>
                      <a:pt x="2789" y="2271"/>
                    </a:lnTo>
                    <a:lnTo>
                      <a:pt x="2811" y="2285"/>
                    </a:lnTo>
                    <a:lnTo>
                      <a:pt x="2835" y="2296"/>
                    </a:lnTo>
                    <a:lnTo>
                      <a:pt x="2857" y="2305"/>
                    </a:lnTo>
                    <a:lnTo>
                      <a:pt x="2879" y="2313"/>
                    </a:lnTo>
                    <a:lnTo>
                      <a:pt x="2903" y="2320"/>
                    </a:lnTo>
                    <a:lnTo>
                      <a:pt x="2925" y="2324"/>
                    </a:lnTo>
                    <a:lnTo>
                      <a:pt x="2947" y="2329"/>
                    </a:lnTo>
                    <a:lnTo>
                      <a:pt x="2971" y="2333"/>
                    </a:lnTo>
                    <a:lnTo>
                      <a:pt x="2993" y="2337"/>
                    </a:lnTo>
                    <a:lnTo>
                      <a:pt x="3015" y="2340"/>
                    </a:lnTo>
                    <a:lnTo>
                      <a:pt x="3039" y="2343"/>
                    </a:lnTo>
                    <a:lnTo>
                      <a:pt x="3061" y="2345"/>
                    </a:lnTo>
                    <a:lnTo>
                      <a:pt x="3084" y="2348"/>
                    </a:lnTo>
                    <a:lnTo>
                      <a:pt x="3107" y="2350"/>
                    </a:lnTo>
                    <a:lnTo>
                      <a:pt x="3129" y="2351"/>
                    </a:lnTo>
                    <a:lnTo>
                      <a:pt x="3152" y="2353"/>
                    </a:lnTo>
                    <a:lnTo>
                      <a:pt x="3174" y="2354"/>
                    </a:lnTo>
                    <a:lnTo>
                      <a:pt x="3197" y="2355"/>
                    </a:lnTo>
                    <a:lnTo>
                      <a:pt x="3220" y="2358"/>
                    </a:lnTo>
                    <a:lnTo>
                      <a:pt x="3242" y="2359"/>
                    </a:lnTo>
                    <a:lnTo>
                      <a:pt x="3265" y="2360"/>
                    </a:lnTo>
                    <a:lnTo>
                      <a:pt x="3288" y="2361"/>
                    </a:lnTo>
                    <a:lnTo>
                      <a:pt x="3310" y="2362"/>
                    </a:lnTo>
                    <a:lnTo>
                      <a:pt x="3333" y="2362"/>
                    </a:lnTo>
                    <a:lnTo>
                      <a:pt x="3356" y="2363"/>
                    </a:lnTo>
                    <a:lnTo>
                      <a:pt x="3378" y="2364"/>
                    </a:lnTo>
                    <a:lnTo>
                      <a:pt x="3401" y="2364"/>
                    </a:lnTo>
                    <a:lnTo>
                      <a:pt x="3424" y="2366"/>
                    </a:lnTo>
                    <a:lnTo>
                      <a:pt x="3446" y="2367"/>
                    </a:lnTo>
                    <a:lnTo>
                      <a:pt x="3470" y="2367"/>
                    </a:lnTo>
                    <a:lnTo>
                      <a:pt x="3492" y="2367"/>
                    </a:lnTo>
                    <a:lnTo>
                      <a:pt x="3514" y="2368"/>
                    </a:lnTo>
                    <a:lnTo>
                      <a:pt x="3538" y="2368"/>
                    </a:lnTo>
                    <a:lnTo>
                      <a:pt x="3560" y="2368"/>
                    </a:lnTo>
                    <a:lnTo>
                      <a:pt x="3582" y="2367"/>
                    </a:lnTo>
                    <a:lnTo>
                      <a:pt x="3606" y="2361"/>
                    </a:lnTo>
                    <a:lnTo>
                      <a:pt x="3628" y="1378"/>
                    </a:lnTo>
                    <a:lnTo>
                      <a:pt x="3650" y="2376"/>
                    </a:lnTo>
                    <a:lnTo>
                      <a:pt x="3674" y="2376"/>
                    </a:lnTo>
                    <a:lnTo>
                      <a:pt x="3696" y="2376"/>
                    </a:lnTo>
                    <a:lnTo>
                      <a:pt x="3718" y="2376"/>
                    </a:lnTo>
                    <a:lnTo>
                      <a:pt x="3742" y="2376"/>
                    </a:lnTo>
                    <a:lnTo>
                      <a:pt x="3764" y="2376"/>
                    </a:lnTo>
                    <a:lnTo>
                      <a:pt x="3786" y="2376"/>
                    </a:lnTo>
                    <a:lnTo>
                      <a:pt x="3810" y="2376"/>
                    </a:lnTo>
                    <a:lnTo>
                      <a:pt x="3832" y="2376"/>
                    </a:lnTo>
                    <a:lnTo>
                      <a:pt x="3854" y="2377"/>
                    </a:lnTo>
                    <a:lnTo>
                      <a:pt x="3878" y="2377"/>
                    </a:lnTo>
                    <a:lnTo>
                      <a:pt x="3900" y="2377"/>
                    </a:lnTo>
                    <a:lnTo>
                      <a:pt x="3922" y="2377"/>
                    </a:lnTo>
                    <a:lnTo>
                      <a:pt x="3945" y="2378"/>
                    </a:lnTo>
                    <a:lnTo>
                      <a:pt x="3968" y="2378"/>
                    </a:lnTo>
                    <a:lnTo>
                      <a:pt x="3990" y="2378"/>
                    </a:lnTo>
                    <a:lnTo>
                      <a:pt x="4013" y="2378"/>
                    </a:lnTo>
                    <a:lnTo>
                      <a:pt x="4036" y="2378"/>
                    </a:lnTo>
                    <a:lnTo>
                      <a:pt x="4059" y="2379"/>
                    </a:lnTo>
                    <a:lnTo>
                      <a:pt x="4081" y="2379"/>
                    </a:lnTo>
                    <a:lnTo>
                      <a:pt x="4104" y="2379"/>
                    </a:lnTo>
                    <a:lnTo>
                      <a:pt x="4127" y="2379"/>
                    </a:lnTo>
                    <a:lnTo>
                      <a:pt x="4149" y="2379"/>
                    </a:lnTo>
                    <a:lnTo>
                      <a:pt x="4172" y="2379"/>
                    </a:lnTo>
                    <a:lnTo>
                      <a:pt x="4195" y="2380"/>
                    </a:lnTo>
                    <a:lnTo>
                      <a:pt x="4217" y="2380"/>
                    </a:lnTo>
                    <a:lnTo>
                      <a:pt x="4240" y="2380"/>
                    </a:lnTo>
                    <a:lnTo>
                      <a:pt x="4263" y="2380"/>
                    </a:lnTo>
                    <a:lnTo>
                      <a:pt x="4285" y="2380"/>
                    </a:lnTo>
                    <a:lnTo>
                      <a:pt x="4308" y="2381"/>
                    </a:lnTo>
                    <a:lnTo>
                      <a:pt x="4331" y="2381"/>
                    </a:lnTo>
                    <a:lnTo>
                      <a:pt x="4353" y="2381"/>
                    </a:lnTo>
                    <a:lnTo>
                      <a:pt x="4376" y="2381"/>
                    </a:lnTo>
                    <a:lnTo>
                      <a:pt x="4399" y="2381"/>
                    </a:lnTo>
                    <a:lnTo>
                      <a:pt x="4421" y="2381"/>
                    </a:lnTo>
                    <a:lnTo>
                      <a:pt x="4445" y="2382"/>
                    </a:lnTo>
                    <a:lnTo>
                      <a:pt x="4467" y="2382"/>
                    </a:lnTo>
                    <a:lnTo>
                      <a:pt x="4489" y="2382"/>
                    </a:lnTo>
                    <a:lnTo>
                      <a:pt x="4513" y="2382"/>
                    </a:lnTo>
                    <a:lnTo>
                      <a:pt x="4535" y="2382"/>
                    </a:lnTo>
                    <a:lnTo>
                      <a:pt x="4557" y="2382"/>
                    </a:lnTo>
                    <a:lnTo>
                      <a:pt x="4581" y="2383"/>
                    </a:lnTo>
                    <a:lnTo>
                      <a:pt x="4603" y="2383"/>
                    </a:lnTo>
                    <a:lnTo>
                      <a:pt x="4625" y="2383"/>
                    </a:lnTo>
                    <a:lnTo>
                      <a:pt x="4649" y="2383"/>
                    </a:lnTo>
                    <a:lnTo>
                      <a:pt x="4671" y="2384"/>
                    </a:lnTo>
                    <a:lnTo>
                      <a:pt x="4693" y="2384"/>
                    </a:lnTo>
                    <a:lnTo>
                      <a:pt x="4717" y="2384"/>
                    </a:lnTo>
                    <a:lnTo>
                      <a:pt x="4739" y="2386"/>
                    </a:lnTo>
                    <a:lnTo>
                      <a:pt x="4761" y="2386"/>
                    </a:lnTo>
                    <a:lnTo>
                      <a:pt x="4784" y="2386"/>
                    </a:lnTo>
                    <a:lnTo>
                      <a:pt x="4807" y="2387"/>
                    </a:lnTo>
                    <a:lnTo>
                      <a:pt x="4829" y="2387"/>
                    </a:lnTo>
                    <a:lnTo>
                      <a:pt x="4852" y="2383"/>
                    </a:lnTo>
                    <a:lnTo>
                      <a:pt x="4875" y="2369"/>
                    </a:lnTo>
                    <a:lnTo>
                      <a:pt x="4897" y="1885"/>
                    </a:lnTo>
                    <a:lnTo>
                      <a:pt x="4920" y="2358"/>
                    </a:lnTo>
                    <a:lnTo>
                      <a:pt x="4943" y="2370"/>
                    </a:lnTo>
                    <a:lnTo>
                      <a:pt x="4965" y="2374"/>
                    </a:lnTo>
                    <a:lnTo>
                      <a:pt x="4988" y="2377"/>
                    </a:lnTo>
                    <a:lnTo>
                      <a:pt x="5011" y="2378"/>
                    </a:lnTo>
                    <a:lnTo>
                      <a:pt x="5034" y="2379"/>
                    </a:lnTo>
                    <a:lnTo>
                      <a:pt x="5056" y="2380"/>
                    </a:lnTo>
                    <a:lnTo>
                      <a:pt x="5079" y="2380"/>
                    </a:lnTo>
                    <a:lnTo>
                      <a:pt x="5102" y="2381"/>
                    </a:lnTo>
                    <a:lnTo>
                      <a:pt x="5124" y="2381"/>
                    </a:lnTo>
                    <a:lnTo>
                      <a:pt x="5147" y="2381"/>
                    </a:lnTo>
                    <a:lnTo>
                      <a:pt x="5170" y="2381"/>
                    </a:lnTo>
                    <a:lnTo>
                      <a:pt x="5192" y="2382"/>
                    </a:lnTo>
                    <a:lnTo>
                      <a:pt x="5215" y="2382"/>
                    </a:lnTo>
                    <a:lnTo>
                      <a:pt x="5238" y="2382"/>
                    </a:lnTo>
                    <a:lnTo>
                      <a:pt x="5260" y="2382"/>
                    </a:lnTo>
                    <a:lnTo>
                      <a:pt x="5283" y="2382"/>
                    </a:lnTo>
                    <a:lnTo>
                      <a:pt x="5306" y="2382"/>
                    </a:lnTo>
                    <a:lnTo>
                      <a:pt x="5328" y="2382"/>
                    </a:lnTo>
                    <a:lnTo>
                      <a:pt x="5351" y="2383"/>
                    </a:lnTo>
                    <a:lnTo>
                      <a:pt x="5374" y="2383"/>
                    </a:lnTo>
                    <a:lnTo>
                      <a:pt x="5396" y="2383"/>
                    </a:lnTo>
                    <a:lnTo>
                      <a:pt x="5419" y="2383"/>
                    </a:lnTo>
                    <a:lnTo>
                      <a:pt x="5442" y="2383"/>
                    </a:lnTo>
                    <a:lnTo>
                      <a:pt x="5464" y="2383"/>
                    </a:lnTo>
                    <a:lnTo>
                      <a:pt x="5488" y="2383"/>
                    </a:lnTo>
                    <a:lnTo>
                      <a:pt x="5510" y="2383"/>
                    </a:lnTo>
                    <a:lnTo>
                      <a:pt x="5532" y="2383"/>
                    </a:lnTo>
                    <a:lnTo>
                      <a:pt x="5554" y="2383"/>
                    </a:lnTo>
                    <a:lnTo>
                      <a:pt x="5578" y="2383"/>
                    </a:lnTo>
                    <a:lnTo>
                      <a:pt x="5600" y="2383"/>
                    </a:lnTo>
                    <a:lnTo>
                      <a:pt x="5623" y="2384"/>
                    </a:lnTo>
                    <a:lnTo>
                      <a:pt x="5646" y="2384"/>
                    </a:lnTo>
                    <a:lnTo>
                      <a:pt x="5668" y="2384"/>
                    </a:lnTo>
                    <a:lnTo>
                      <a:pt x="5691" y="2384"/>
                    </a:lnTo>
                    <a:lnTo>
                      <a:pt x="5714" y="2384"/>
                    </a:lnTo>
                    <a:lnTo>
                      <a:pt x="5736" y="2384"/>
                    </a:lnTo>
                    <a:lnTo>
                      <a:pt x="5759" y="2384"/>
                    </a:lnTo>
                    <a:lnTo>
                      <a:pt x="5782" y="2384"/>
                    </a:lnTo>
                    <a:lnTo>
                      <a:pt x="5804" y="2384"/>
                    </a:lnTo>
                    <a:lnTo>
                      <a:pt x="5827" y="2384"/>
                    </a:lnTo>
                    <a:lnTo>
                      <a:pt x="5850" y="2384"/>
                    </a:lnTo>
                    <a:lnTo>
                      <a:pt x="5872" y="2384"/>
                    </a:lnTo>
                    <a:lnTo>
                      <a:pt x="5895" y="2384"/>
                    </a:lnTo>
                    <a:lnTo>
                      <a:pt x="5918" y="2384"/>
                    </a:lnTo>
                    <a:lnTo>
                      <a:pt x="5940" y="2384"/>
                    </a:lnTo>
                    <a:lnTo>
                      <a:pt x="5963" y="2384"/>
                    </a:lnTo>
                    <a:lnTo>
                      <a:pt x="5986" y="2384"/>
                    </a:lnTo>
                    <a:lnTo>
                      <a:pt x="6009" y="2384"/>
                    </a:lnTo>
                    <a:lnTo>
                      <a:pt x="6031" y="2384"/>
                    </a:lnTo>
                    <a:lnTo>
                      <a:pt x="6054" y="2384"/>
                    </a:lnTo>
                    <a:lnTo>
                      <a:pt x="6077" y="2386"/>
                    </a:lnTo>
                    <a:lnTo>
                      <a:pt x="6099" y="2386"/>
                    </a:lnTo>
                    <a:lnTo>
                      <a:pt x="6122" y="2386"/>
                    </a:lnTo>
                    <a:lnTo>
                      <a:pt x="6145" y="2386"/>
                    </a:lnTo>
                    <a:lnTo>
                      <a:pt x="6167" y="2386"/>
                    </a:lnTo>
                    <a:lnTo>
                      <a:pt x="6190" y="2386"/>
                    </a:lnTo>
                    <a:lnTo>
                      <a:pt x="6213" y="2386"/>
                    </a:lnTo>
                    <a:lnTo>
                      <a:pt x="6235" y="2386"/>
                    </a:lnTo>
                    <a:lnTo>
                      <a:pt x="6258" y="2386"/>
                    </a:lnTo>
                    <a:lnTo>
                      <a:pt x="6281" y="2386"/>
                    </a:lnTo>
                    <a:lnTo>
                      <a:pt x="6303" y="2386"/>
                    </a:lnTo>
                    <a:lnTo>
                      <a:pt x="6326" y="2386"/>
                    </a:lnTo>
                    <a:lnTo>
                      <a:pt x="6349" y="2386"/>
                    </a:lnTo>
                    <a:lnTo>
                      <a:pt x="6371" y="2386"/>
                    </a:lnTo>
                    <a:lnTo>
                      <a:pt x="6380" y="238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425600" y="3594960"/>
                <a:ext cx="6588000" cy="2158920"/>
              </a:xfrm>
              <a:custGeom>
                <a:avLst/>
                <a:gdLst/>
                <a:ahLst/>
                <a:rect l="l" t="t" r="r" b="b"/>
                <a:pathLst>
                  <a:path w="6380" h="2403">
                    <a:moveTo>
                      <a:pt x="0" y="240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380" y="0"/>
                    </a:lnTo>
                    <a:lnTo>
                      <a:pt x="6380" y="2403"/>
                    </a:lnTo>
                    <a:lnTo>
                      <a:pt x="6380" y="2403"/>
                    </a:lnTo>
                    <a:lnTo>
                      <a:pt x="0" y="240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1425600" y="3594960"/>
                <a:ext cx="65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6080" y="6108120"/>
                <a:ext cx="88596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   (Hz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883-AA4C-4272-BAFE-E4D1BCEF360B}" type="slidenum">
              <a:t>70</a:t>
            </a:fld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Ru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339-CFF6-46B2-A15E-FDE935D208EC}" type="slidenum">
              <a:t>71</a:t>
            </a:fld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/>
          <p:nvPr/>
        </p:nvSpPr>
        <p:spPr>
          <a:xfrm>
            <a:off x="754200" y="1861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a importante familia de señales son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 señales fuerte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armón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uyo espectro es contin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E4B-0C68-4A19-ACA6-2911E4B0880A}" type="slidenum">
              <a:t>72</a:t>
            </a:fld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754200" y="94716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ejemplo más conocido es el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blanco gaussia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aracterizado por tener espectro pla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3211560" y="3975120"/>
                <a:ext cx="2720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8CD-0B3E-4DBD-9B13-BC478B279558}" type="slidenum">
              <a:t>73</a:t>
            </a:fld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5" name=""/>
          <p:cNvGrpSpPr/>
          <p:nvPr/>
        </p:nvGrpSpPr>
        <p:grpSpPr>
          <a:xfrm>
            <a:off x="1293840" y="892080"/>
            <a:ext cx="6640560" cy="2401920"/>
            <a:chOff x="1293840" y="892080"/>
            <a:chExt cx="6640560" cy="2401920"/>
          </a:xfrm>
        </p:grpSpPr>
        <p:sp>
          <p:nvSpPr>
            <p:cNvPr id="1996" name=""/>
            <p:cNvSpPr/>
            <p:nvPr/>
          </p:nvSpPr>
          <p:spPr>
            <a:xfrm>
              <a:off x="1890720" y="2833560"/>
              <a:ext cx="856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962760" y="2833560"/>
              <a:ext cx="2113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1772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4336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869000" y="2833560"/>
              <a:ext cx="296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89284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31300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330720" y="2833560"/>
              <a:ext cx="296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35600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380200" y="2833560"/>
              <a:ext cx="2966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40548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35800" y="2833560"/>
              <a:ext cx="2970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94328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45592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96712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47976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9240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50540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01660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52924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04044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55308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06608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578720" y="272736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1985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4559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7115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9671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2416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47976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7368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924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2480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5054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7610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01660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7364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52924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7862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04044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2974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5530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8104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06608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3231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5787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834320" y="272736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28720" y="1728720"/>
              <a:ext cx="842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703520" y="2554200"/>
              <a:ext cx="141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744560" y="895320"/>
              <a:ext cx="85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571760" y="2146320"/>
              <a:ext cx="268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611360" y="1311120"/>
              <a:ext cx="2109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1863360" y="26463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1863360" y="22287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1863360" y="18129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>
              <a:off x="1863360" y="139392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1863360" y="9777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943280" y="1038240"/>
              <a:ext cx="5991120" cy="1590840"/>
            </a:xfrm>
            <a:custGeom>
              <a:avLst/>
              <a:gdLst/>
              <a:ahLst/>
              <a:rect l="l" t="t" r="r" b="b"/>
              <a:pathLst>
                <a:path w="6380" h="2083">
                  <a:moveTo>
                    <a:pt x="0" y="1104"/>
                  </a:moveTo>
                  <a:lnTo>
                    <a:pt x="1" y="1352"/>
                  </a:lnTo>
                  <a:lnTo>
                    <a:pt x="2" y="917"/>
                  </a:lnTo>
                  <a:lnTo>
                    <a:pt x="3" y="655"/>
                  </a:lnTo>
                  <a:lnTo>
                    <a:pt x="6" y="1021"/>
                  </a:lnTo>
                  <a:lnTo>
                    <a:pt x="7" y="1480"/>
                  </a:lnTo>
                  <a:lnTo>
                    <a:pt x="8" y="1454"/>
                  </a:lnTo>
                  <a:lnTo>
                    <a:pt x="9" y="789"/>
                  </a:lnTo>
                  <a:lnTo>
                    <a:pt x="10" y="1246"/>
                  </a:lnTo>
                  <a:lnTo>
                    <a:pt x="11" y="1236"/>
                  </a:lnTo>
                  <a:lnTo>
                    <a:pt x="12" y="1063"/>
                  </a:lnTo>
                  <a:lnTo>
                    <a:pt x="14" y="846"/>
                  </a:lnTo>
                  <a:lnTo>
                    <a:pt x="15" y="796"/>
                  </a:lnTo>
                  <a:lnTo>
                    <a:pt x="17" y="1039"/>
                  </a:lnTo>
                  <a:lnTo>
                    <a:pt x="18" y="936"/>
                  </a:lnTo>
                  <a:lnTo>
                    <a:pt x="19" y="594"/>
                  </a:lnTo>
                  <a:lnTo>
                    <a:pt x="20" y="641"/>
                  </a:lnTo>
                  <a:lnTo>
                    <a:pt x="21" y="948"/>
                  </a:lnTo>
                  <a:lnTo>
                    <a:pt x="22" y="823"/>
                  </a:lnTo>
                  <a:lnTo>
                    <a:pt x="24" y="983"/>
                  </a:lnTo>
                  <a:lnTo>
                    <a:pt x="25" y="1038"/>
                  </a:lnTo>
                  <a:lnTo>
                    <a:pt x="26" y="794"/>
                  </a:lnTo>
                  <a:lnTo>
                    <a:pt x="28" y="1117"/>
                  </a:lnTo>
                  <a:lnTo>
                    <a:pt x="29" y="606"/>
                  </a:lnTo>
                  <a:lnTo>
                    <a:pt x="30" y="874"/>
                  </a:lnTo>
                  <a:lnTo>
                    <a:pt x="31" y="769"/>
                  </a:lnTo>
                  <a:lnTo>
                    <a:pt x="32" y="1615"/>
                  </a:lnTo>
                  <a:lnTo>
                    <a:pt x="34" y="843"/>
                  </a:lnTo>
                  <a:lnTo>
                    <a:pt x="35" y="954"/>
                  </a:lnTo>
                  <a:lnTo>
                    <a:pt x="36" y="752"/>
                  </a:lnTo>
                  <a:lnTo>
                    <a:pt x="37" y="512"/>
                  </a:lnTo>
                  <a:lnTo>
                    <a:pt x="39" y="374"/>
                  </a:lnTo>
                  <a:lnTo>
                    <a:pt x="40" y="1316"/>
                  </a:lnTo>
                  <a:lnTo>
                    <a:pt x="41" y="1111"/>
                  </a:lnTo>
                  <a:lnTo>
                    <a:pt x="43" y="690"/>
                  </a:lnTo>
                  <a:lnTo>
                    <a:pt x="44" y="1114"/>
                  </a:lnTo>
                  <a:lnTo>
                    <a:pt x="45" y="887"/>
                  </a:lnTo>
                  <a:lnTo>
                    <a:pt x="46" y="926"/>
                  </a:lnTo>
                  <a:lnTo>
                    <a:pt x="47" y="1279"/>
                  </a:lnTo>
                  <a:lnTo>
                    <a:pt x="48" y="963"/>
                  </a:lnTo>
                  <a:lnTo>
                    <a:pt x="49" y="541"/>
                  </a:lnTo>
                  <a:lnTo>
                    <a:pt x="51" y="1266"/>
                  </a:lnTo>
                  <a:lnTo>
                    <a:pt x="53" y="1526"/>
                  </a:lnTo>
                  <a:lnTo>
                    <a:pt x="54" y="1093"/>
                  </a:lnTo>
                  <a:lnTo>
                    <a:pt x="55" y="878"/>
                  </a:lnTo>
                  <a:lnTo>
                    <a:pt x="56" y="1489"/>
                  </a:lnTo>
                  <a:lnTo>
                    <a:pt x="57" y="630"/>
                  </a:lnTo>
                  <a:lnTo>
                    <a:pt x="58" y="677"/>
                  </a:lnTo>
                  <a:lnTo>
                    <a:pt x="59" y="1107"/>
                  </a:lnTo>
                  <a:lnTo>
                    <a:pt x="60" y="1158"/>
                  </a:lnTo>
                  <a:lnTo>
                    <a:pt x="63" y="883"/>
                  </a:lnTo>
                  <a:lnTo>
                    <a:pt x="64" y="1346"/>
                  </a:lnTo>
                  <a:lnTo>
                    <a:pt x="65" y="679"/>
                  </a:lnTo>
                  <a:lnTo>
                    <a:pt x="66" y="1151"/>
                  </a:lnTo>
                  <a:lnTo>
                    <a:pt x="67" y="626"/>
                  </a:lnTo>
                  <a:lnTo>
                    <a:pt x="68" y="1028"/>
                  </a:lnTo>
                  <a:lnTo>
                    <a:pt x="69" y="1226"/>
                  </a:lnTo>
                  <a:lnTo>
                    <a:pt x="70" y="1381"/>
                  </a:lnTo>
                  <a:lnTo>
                    <a:pt x="72" y="771"/>
                  </a:lnTo>
                  <a:lnTo>
                    <a:pt x="74" y="1145"/>
                  </a:lnTo>
                  <a:lnTo>
                    <a:pt x="75" y="728"/>
                  </a:lnTo>
                  <a:lnTo>
                    <a:pt x="76" y="563"/>
                  </a:lnTo>
                  <a:lnTo>
                    <a:pt x="77" y="770"/>
                  </a:lnTo>
                  <a:lnTo>
                    <a:pt x="78" y="1609"/>
                  </a:lnTo>
                  <a:lnTo>
                    <a:pt x="79" y="1104"/>
                  </a:lnTo>
                  <a:lnTo>
                    <a:pt x="80" y="1143"/>
                  </a:lnTo>
                  <a:lnTo>
                    <a:pt x="82" y="794"/>
                  </a:lnTo>
                  <a:lnTo>
                    <a:pt x="83" y="1283"/>
                  </a:lnTo>
                  <a:lnTo>
                    <a:pt x="85" y="683"/>
                  </a:lnTo>
                  <a:lnTo>
                    <a:pt x="86" y="791"/>
                  </a:lnTo>
                  <a:lnTo>
                    <a:pt x="87" y="1142"/>
                  </a:lnTo>
                  <a:lnTo>
                    <a:pt x="88" y="1108"/>
                  </a:lnTo>
                  <a:lnTo>
                    <a:pt x="89" y="1285"/>
                  </a:lnTo>
                  <a:lnTo>
                    <a:pt x="90" y="889"/>
                  </a:lnTo>
                  <a:lnTo>
                    <a:pt x="92" y="977"/>
                  </a:lnTo>
                  <a:lnTo>
                    <a:pt x="93" y="875"/>
                  </a:lnTo>
                  <a:lnTo>
                    <a:pt x="94" y="1219"/>
                  </a:lnTo>
                  <a:lnTo>
                    <a:pt x="96" y="884"/>
                  </a:lnTo>
                  <a:lnTo>
                    <a:pt x="97" y="1077"/>
                  </a:lnTo>
                  <a:lnTo>
                    <a:pt x="98" y="940"/>
                  </a:lnTo>
                  <a:lnTo>
                    <a:pt x="99" y="806"/>
                  </a:lnTo>
                  <a:lnTo>
                    <a:pt x="101" y="1221"/>
                  </a:lnTo>
                  <a:lnTo>
                    <a:pt x="102" y="1628"/>
                  </a:lnTo>
                  <a:lnTo>
                    <a:pt x="103" y="1436"/>
                  </a:lnTo>
                  <a:lnTo>
                    <a:pt x="104" y="1659"/>
                  </a:lnTo>
                  <a:lnTo>
                    <a:pt x="105" y="1145"/>
                  </a:lnTo>
                  <a:lnTo>
                    <a:pt x="106" y="855"/>
                  </a:lnTo>
                  <a:lnTo>
                    <a:pt x="108" y="1586"/>
                  </a:lnTo>
                  <a:lnTo>
                    <a:pt x="109" y="626"/>
                  </a:lnTo>
                  <a:lnTo>
                    <a:pt x="111" y="830"/>
                  </a:lnTo>
                  <a:lnTo>
                    <a:pt x="112" y="1220"/>
                  </a:lnTo>
                  <a:lnTo>
                    <a:pt x="113" y="929"/>
                  </a:lnTo>
                  <a:lnTo>
                    <a:pt x="114" y="1189"/>
                  </a:lnTo>
                  <a:lnTo>
                    <a:pt x="115" y="1147"/>
                  </a:lnTo>
                  <a:lnTo>
                    <a:pt x="116" y="1507"/>
                  </a:lnTo>
                  <a:lnTo>
                    <a:pt x="117" y="1029"/>
                  </a:lnTo>
                  <a:lnTo>
                    <a:pt x="119" y="1045"/>
                  </a:lnTo>
                  <a:lnTo>
                    <a:pt x="121" y="845"/>
                  </a:lnTo>
                  <a:lnTo>
                    <a:pt x="122" y="390"/>
                  </a:lnTo>
                  <a:lnTo>
                    <a:pt x="123" y="838"/>
                  </a:lnTo>
                  <a:lnTo>
                    <a:pt x="124" y="663"/>
                  </a:lnTo>
                  <a:lnTo>
                    <a:pt x="125" y="1205"/>
                  </a:lnTo>
                  <a:lnTo>
                    <a:pt x="126" y="925"/>
                  </a:lnTo>
                  <a:lnTo>
                    <a:pt x="127" y="769"/>
                  </a:lnTo>
                  <a:lnTo>
                    <a:pt x="128" y="901"/>
                  </a:lnTo>
                  <a:lnTo>
                    <a:pt x="131" y="1358"/>
                  </a:lnTo>
                  <a:lnTo>
                    <a:pt x="132" y="946"/>
                  </a:lnTo>
                  <a:lnTo>
                    <a:pt x="133" y="697"/>
                  </a:lnTo>
                  <a:lnTo>
                    <a:pt x="134" y="1238"/>
                  </a:lnTo>
                  <a:lnTo>
                    <a:pt x="135" y="865"/>
                  </a:lnTo>
                  <a:lnTo>
                    <a:pt x="136" y="811"/>
                  </a:lnTo>
                  <a:lnTo>
                    <a:pt x="137" y="1012"/>
                  </a:lnTo>
                  <a:lnTo>
                    <a:pt x="138" y="718"/>
                  </a:lnTo>
                  <a:lnTo>
                    <a:pt x="140" y="690"/>
                  </a:lnTo>
                  <a:lnTo>
                    <a:pt x="142" y="1415"/>
                  </a:lnTo>
                  <a:lnTo>
                    <a:pt x="143" y="1004"/>
                  </a:lnTo>
                  <a:lnTo>
                    <a:pt x="144" y="1001"/>
                  </a:lnTo>
                  <a:lnTo>
                    <a:pt x="145" y="1354"/>
                  </a:lnTo>
                  <a:lnTo>
                    <a:pt x="146" y="1074"/>
                  </a:lnTo>
                  <a:lnTo>
                    <a:pt x="147" y="1169"/>
                  </a:lnTo>
                  <a:lnTo>
                    <a:pt x="148" y="816"/>
                  </a:lnTo>
                  <a:lnTo>
                    <a:pt x="150" y="1253"/>
                  </a:lnTo>
                  <a:lnTo>
                    <a:pt x="151" y="831"/>
                  </a:lnTo>
                  <a:lnTo>
                    <a:pt x="153" y="1240"/>
                  </a:lnTo>
                  <a:lnTo>
                    <a:pt x="154" y="1035"/>
                  </a:lnTo>
                  <a:lnTo>
                    <a:pt x="155" y="1163"/>
                  </a:lnTo>
                  <a:lnTo>
                    <a:pt x="156" y="503"/>
                  </a:lnTo>
                  <a:lnTo>
                    <a:pt x="157" y="806"/>
                  </a:lnTo>
                  <a:lnTo>
                    <a:pt x="159" y="1071"/>
                  </a:lnTo>
                  <a:lnTo>
                    <a:pt x="160" y="821"/>
                  </a:lnTo>
                  <a:lnTo>
                    <a:pt x="161" y="1091"/>
                  </a:lnTo>
                  <a:lnTo>
                    <a:pt x="162" y="1365"/>
                  </a:lnTo>
                  <a:lnTo>
                    <a:pt x="164" y="1000"/>
                  </a:lnTo>
                  <a:lnTo>
                    <a:pt x="165" y="1283"/>
                  </a:lnTo>
                  <a:lnTo>
                    <a:pt x="166" y="941"/>
                  </a:lnTo>
                  <a:lnTo>
                    <a:pt x="167" y="458"/>
                  </a:lnTo>
                  <a:lnTo>
                    <a:pt x="169" y="1181"/>
                  </a:lnTo>
                  <a:lnTo>
                    <a:pt x="170" y="755"/>
                  </a:lnTo>
                  <a:lnTo>
                    <a:pt x="171" y="600"/>
                  </a:lnTo>
                  <a:lnTo>
                    <a:pt x="172" y="968"/>
                  </a:lnTo>
                  <a:lnTo>
                    <a:pt x="173" y="1220"/>
                  </a:lnTo>
                  <a:lnTo>
                    <a:pt x="174" y="1095"/>
                  </a:lnTo>
                  <a:lnTo>
                    <a:pt x="176" y="1113"/>
                  </a:lnTo>
                  <a:lnTo>
                    <a:pt x="177" y="1136"/>
                  </a:lnTo>
                  <a:lnTo>
                    <a:pt x="179" y="844"/>
                  </a:lnTo>
                  <a:lnTo>
                    <a:pt x="180" y="1305"/>
                  </a:lnTo>
                  <a:lnTo>
                    <a:pt x="181" y="1231"/>
                  </a:lnTo>
                  <a:lnTo>
                    <a:pt x="182" y="1116"/>
                  </a:lnTo>
                  <a:lnTo>
                    <a:pt x="183" y="1019"/>
                  </a:lnTo>
                  <a:lnTo>
                    <a:pt x="184" y="624"/>
                  </a:lnTo>
                  <a:lnTo>
                    <a:pt x="185" y="766"/>
                  </a:lnTo>
                  <a:lnTo>
                    <a:pt x="188" y="768"/>
                  </a:lnTo>
                  <a:lnTo>
                    <a:pt x="189" y="1734"/>
                  </a:lnTo>
                  <a:lnTo>
                    <a:pt x="190" y="1243"/>
                  </a:lnTo>
                  <a:lnTo>
                    <a:pt x="191" y="1002"/>
                  </a:lnTo>
                  <a:lnTo>
                    <a:pt x="192" y="1084"/>
                  </a:lnTo>
                  <a:lnTo>
                    <a:pt x="193" y="700"/>
                  </a:lnTo>
                  <a:lnTo>
                    <a:pt x="194" y="928"/>
                  </a:lnTo>
                  <a:lnTo>
                    <a:pt x="195" y="1040"/>
                  </a:lnTo>
                  <a:lnTo>
                    <a:pt x="196" y="843"/>
                  </a:lnTo>
                  <a:lnTo>
                    <a:pt x="199" y="716"/>
                  </a:lnTo>
                  <a:lnTo>
                    <a:pt x="200" y="1413"/>
                  </a:lnTo>
                  <a:lnTo>
                    <a:pt x="201" y="923"/>
                  </a:lnTo>
                  <a:lnTo>
                    <a:pt x="202" y="979"/>
                  </a:lnTo>
                  <a:lnTo>
                    <a:pt x="203" y="1120"/>
                  </a:lnTo>
                  <a:lnTo>
                    <a:pt x="204" y="823"/>
                  </a:lnTo>
                  <a:lnTo>
                    <a:pt x="205" y="840"/>
                  </a:lnTo>
                  <a:lnTo>
                    <a:pt x="207" y="1160"/>
                  </a:lnTo>
                  <a:lnTo>
                    <a:pt x="208" y="694"/>
                  </a:lnTo>
                  <a:lnTo>
                    <a:pt x="210" y="1208"/>
                  </a:lnTo>
                  <a:lnTo>
                    <a:pt x="211" y="1261"/>
                  </a:lnTo>
                  <a:lnTo>
                    <a:pt x="212" y="807"/>
                  </a:lnTo>
                  <a:lnTo>
                    <a:pt x="213" y="569"/>
                  </a:lnTo>
                  <a:lnTo>
                    <a:pt x="214" y="1219"/>
                  </a:lnTo>
                  <a:lnTo>
                    <a:pt x="215" y="681"/>
                  </a:lnTo>
                  <a:lnTo>
                    <a:pt x="217" y="993"/>
                  </a:lnTo>
                  <a:lnTo>
                    <a:pt x="218" y="1270"/>
                  </a:lnTo>
                  <a:lnTo>
                    <a:pt x="219" y="1214"/>
                  </a:lnTo>
                  <a:lnTo>
                    <a:pt x="221" y="1219"/>
                  </a:lnTo>
                  <a:lnTo>
                    <a:pt x="222" y="1391"/>
                  </a:lnTo>
                  <a:lnTo>
                    <a:pt x="223" y="1036"/>
                  </a:lnTo>
                  <a:lnTo>
                    <a:pt x="224" y="518"/>
                  </a:lnTo>
                  <a:lnTo>
                    <a:pt x="225" y="606"/>
                  </a:lnTo>
                  <a:lnTo>
                    <a:pt x="227" y="1055"/>
                  </a:lnTo>
                  <a:lnTo>
                    <a:pt x="228" y="940"/>
                  </a:lnTo>
                  <a:lnTo>
                    <a:pt x="229" y="925"/>
                  </a:lnTo>
                  <a:lnTo>
                    <a:pt x="230" y="1322"/>
                  </a:lnTo>
                  <a:lnTo>
                    <a:pt x="231" y="1397"/>
                  </a:lnTo>
                  <a:lnTo>
                    <a:pt x="233" y="1118"/>
                  </a:lnTo>
                  <a:lnTo>
                    <a:pt x="234" y="929"/>
                  </a:lnTo>
                  <a:lnTo>
                    <a:pt x="236" y="1083"/>
                  </a:lnTo>
                  <a:lnTo>
                    <a:pt x="237" y="894"/>
                  </a:lnTo>
                  <a:lnTo>
                    <a:pt x="238" y="840"/>
                  </a:lnTo>
                  <a:lnTo>
                    <a:pt x="239" y="719"/>
                  </a:lnTo>
                  <a:lnTo>
                    <a:pt x="240" y="841"/>
                  </a:lnTo>
                  <a:lnTo>
                    <a:pt x="241" y="926"/>
                  </a:lnTo>
                  <a:lnTo>
                    <a:pt x="242" y="1409"/>
                  </a:lnTo>
                  <a:lnTo>
                    <a:pt x="244" y="722"/>
                  </a:lnTo>
                  <a:lnTo>
                    <a:pt x="246" y="1205"/>
                  </a:lnTo>
                  <a:lnTo>
                    <a:pt x="247" y="1227"/>
                  </a:lnTo>
                  <a:lnTo>
                    <a:pt x="248" y="387"/>
                  </a:lnTo>
                  <a:lnTo>
                    <a:pt x="249" y="1016"/>
                  </a:lnTo>
                  <a:lnTo>
                    <a:pt x="250" y="1394"/>
                  </a:lnTo>
                  <a:lnTo>
                    <a:pt x="251" y="806"/>
                  </a:lnTo>
                  <a:lnTo>
                    <a:pt x="252" y="1158"/>
                  </a:lnTo>
                  <a:lnTo>
                    <a:pt x="253" y="1032"/>
                  </a:lnTo>
                  <a:lnTo>
                    <a:pt x="256" y="1257"/>
                  </a:lnTo>
                  <a:lnTo>
                    <a:pt x="257" y="827"/>
                  </a:lnTo>
                  <a:lnTo>
                    <a:pt x="258" y="717"/>
                  </a:lnTo>
                  <a:lnTo>
                    <a:pt x="259" y="882"/>
                  </a:lnTo>
                  <a:lnTo>
                    <a:pt x="260" y="1231"/>
                  </a:lnTo>
                  <a:lnTo>
                    <a:pt x="261" y="756"/>
                  </a:lnTo>
                  <a:lnTo>
                    <a:pt x="262" y="1272"/>
                  </a:lnTo>
                  <a:lnTo>
                    <a:pt x="263" y="1179"/>
                  </a:lnTo>
                  <a:lnTo>
                    <a:pt x="265" y="877"/>
                  </a:lnTo>
                  <a:lnTo>
                    <a:pt x="267" y="862"/>
                  </a:lnTo>
                  <a:lnTo>
                    <a:pt x="268" y="1516"/>
                  </a:lnTo>
                  <a:lnTo>
                    <a:pt x="269" y="1017"/>
                  </a:lnTo>
                  <a:lnTo>
                    <a:pt x="270" y="962"/>
                  </a:lnTo>
                  <a:lnTo>
                    <a:pt x="271" y="956"/>
                  </a:lnTo>
                  <a:lnTo>
                    <a:pt x="272" y="801"/>
                  </a:lnTo>
                  <a:lnTo>
                    <a:pt x="273" y="829"/>
                  </a:lnTo>
                  <a:lnTo>
                    <a:pt x="275" y="1045"/>
                  </a:lnTo>
                  <a:lnTo>
                    <a:pt x="276" y="1247"/>
                  </a:lnTo>
                  <a:lnTo>
                    <a:pt x="278" y="1049"/>
                  </a:lnTo>
                  <a:lnTo>
                    <a:pt x="279" y="1103"/>
                  </a:lnTo>
                  <a:lnTo>
                    <a:pt x="280" y="879"/>
                  </a:lnTo>
                  <a:lnTo>
                    <a:pt x="281" y="1188"/>
                  </a:lnTo>
                  <a:lnTo>
                    <a:pt x="282" y="1231"/>
                  </a:lnTo>
                  <a:lnTo>
                    <a:pt x="283" y="1111"/>
                  </a:lnTo>
                  <a:lnTo>
                    <a:pt x="285" y="1324"/>
                  </a:lnTo>
                  <a:lnTo>
                    <a:pt x="286" y="1377"/>
                  </a:lnTo>
                  <a:lnTo>
                    <a:pt x="287" y="643"/>
                  </a:lnTo>
                  <a:lnTo>
                    <a:pt x="289" y="1102"/>
                  </a:lnTo>
                  <a:lnTo>
                    <a:pt x="290" y="756"/>
                  </a:lnTo>
                  <a:lnTo>
                    <a:pt x="291" y="534"/>
                  </a:lnTo>
                  <a:lnTo>
                    <a:pt x="292" y="499"/>
                  </a:lnTo>
                  <a:lnTo>
                    <a:pt x="294" y="1111"/>
                  </a:lnTo>
                  <a:lnTo>
                    <a:pt x="295" y="1172"/>
                  </a:lnTo>
                  <a:lnTo>
                    <a:pt x="296" y="968"/>
                  </a:lnTo>
                  <a:lnTo>
                    <a:pt x="297" y="1152"/>
                  </a:lnTo>
                  <a:lnTo>
                    <a:pt x="298" y="1020"/>
                  </a:lnTo>
                  <a:lnTo>
                    <a:pt x="299" y="907"/>
                  </a:lnTo>
                  <a:lnTo>
                    <a:pt x="301" y="1355"/>
                  </a:lnTo>
                  <a:lnTo>
                    <a:pt x="302" y="953"/>
                  </a:lnTo>
                  <a:lnTo>
                    <a:pt x="304" y="685"/>
                  </a:lnTo>
                  <a:lnTo>
                    <a:pt x="305" y="1161"/>
                  </a:lnTo>
                  <a:lnTo>
                    <a:pt x="306" y="893"/>
                  </a:lnTo>
                  <a:lnTo>
                    <a:pt x="307" y="941"/>
                  </a:lnTo>
                  <a:lnTo>
                    <a:pt x="308" y="797"/>
                  </a:lnTo>
                  <a:lnTo>
                    <a:pt x="309" y="834"/>
                  </a:lnTo>
                  <a:lnTo>
                    <a:pt x="310" y="609"/>
                  </a:lnTo>
                  <a:lnTo>
                    <a:pt x="312" y="1284"/>
                  </a:lnTo>
                  <a:lnTo>
                    <a:pt x="314" y="507"/>
                  </a:lnTo>
                  <a:lnTo>
                    <a:pt x="315" y="1238"/>
                  </a:lnTo>
                  <a:lnTo>
                    <a:pt x="316" y="884"/>
                  </a:lnTo>
                  <a:lnTo>
                    <a:pt x="317" y="768"/>
                  </a:lnTo>
                  <a:lnTo>
                    <a:pt x="318" y="1323"/>
                  </a:lnTo>
                  <a:lnTo>
                    <a:pt x="319" y="1299"/>
                  </a:lnTo>
                  <a:lnTo>
                    <a:pt x="320" y="466"/>
                  </a:lnTo>
                  <a:lnTo>
                    <a:pt x="321" y="1029"/>
                  </a:lnTo>
                  <a:lnTo>
                    <a:pt x="324" y="895"/>
                  </a:lnTo>
                  <a:lnTo>
                    <a:pt x="325" y="1067"/>
                  </a:lnTo>
                  <a:lnTo>
                    <a:pt x="326" y="688"/>
                  </a:lnTo>
                  <a:lnTo>
                    <a:pt x="327" y="1255"/>
                  </a:lnTo>
                  <a:lnTo>
                    <a:pt x="328" y="1237"/>
                  </a:lnTo>
                  <a:lnTo>
                    <a:pt x="329" y="867"/>
                  </a:lnTo>
                  <a:lnTo>
                    <a:pt x="330" y="997"/>
                  </a:lnTo>
                  <a:lnTo>
                    <a:pt x="331" y="1287"/>
                  </a:lnTo>
                  <a:lnTo>
                    <a:pt x="333" y="973"/>
                  </a:lnTo>
                  <a:lnTo>
                    <a:pt x="335" y="556"/>
                  </a:lnTo>
                  <a:lnTo>
                    <a:pt x="336" y="801"/>
                  </a:lnTo>
                  <a:lnTo>
                    <a:pt x="337" y="1124"/>
                  </a:lnTo>
                  <a:lnTo>
                    <a:pt x="338" y="784"/>
                  </a:lnTo>
                  <a:lnTo>
                    <a:pt x="339" y="1355"/>
                  </a:lnTo>
                  <a:lnTo>
                    <a:pt x="340" y="972"/>
                  </a:lnTo>
                  <a:lnTo>
                    <a:pt x="341" y="1042"/>
                  </a:lnTo>
                  <a:lnTo>
                    <a:pt x="343" y="1157"/>
                  </a:lnTo>
                  <a:lnTo>
                    <a:pt x="344" y="1229"/>
                  </a:lnTo>
                  <a:lnTo>
                    <a:pt x="346" y="963"/>
                  </a:lnTo>
                  <a:lnTo>
                    <a:pt x="347" y="1016"/>
                  </a:lnTo>
                  <a:lnTo>
                    <a:pt x="348" y="1080"/>
                  </a:lnTo>
                  <a:lnTo>
                    <a:pt x="349" y="1112"/>
                  </a:lnTo>
                  <a:lnTo>
                    <a:pt x="350" y="907"/>
                  </a:lnTo>
                  <a:lnTo>
                    <a:pt x="352" y="979"/>
                  </a:lnTo>
                  <a:lnTo>
                    <a:pt x="353" y="1355"/>
                  </a:lnTo>
                  <a:lnTo>
                    <a:pt x="354" y="1147"/>
                  </a:lnTo>
                  <a:lnTo>
                    <a:pt x="355" y="716"/>
                  </a:lnTo>
                  <a:lnTo>
                    <a:pt x="356" y="1072"/>
                  </a:lnTo>
                  <a:lnTo>
                    <a:pt x="358" y="1621"/>
                  </a:lnTo>
                  <a:lnTo>
                    <a:pt x="359" y="868"/>
                  </a:lnTo>
                  <a:lnTo>
                    <a:pt x="360" y="966"/>
                  </a:lnTo>
                  <a:lnTo>
                    <a:pt x="362" y="1307"/>
                  </a:lnTo>
                  <a:lnTo>
                    <a:pt x="363" y="1276"/>
                  </a:lnTo>
                  <a:lnTo>
                    <a:pt x="364" y="800"/>
                  </a:lnTo>
                  <a:lnTo>
                    <a:pt x="365" y="996"/>
                  </a:lnTo>
                  <a:lnTo>
                    <a:pt x="366" y="1127"/>
                  </a:lnTo>
                  <a:lnTo>
                    <a:pt x="367" y="805"/>
                  </a:lnTo>
                  <a:lnTo>
                    <a:pt x="369" y="297"/>
                  </a:lnTo>
                  <a:lnTo>
                    <a:pt x="370" y="657"/>
                  </a:lnTo>
                  <a:lnTo>
                    <a:pt x="372" y="1156"/>
                  </a:lnTo>
                  <a:lnTo>
                    <a:pt x="373" y="741"/>
                  </a:lnTo>
                  <a:lnTo>
                    <a:pt x="374" y="775"/>
                  </a:lnTo>
                  <a:lnTo>
                    <a:pt x="375" y="876"/>
                  </a:lnTo>
                  <a:lnTo>
                    <a:pt x="376" y="922"/>
                  </a:lnTo>
                  <a:lnTo>
                    <a:pt x="377" y="1121"/>
                  </a:lnTo>
                  <a:lnTo>
                    <a:pt x="378" y="995"/>
                  </a:lnTo>
                  <a:lnTo>
                    <a:pt x="381" y="757"/>
                  </a:lnTo>
                  <a:lnTo>
                    <a:pt x="382" y="1001"/>
                  </a:lnTo>
                  <a:lnTo>
                    <a:pt x="383" y="970"/>
                  </a:lnTo>
                  <a:lnTo>
                    <a:pt x="384" y="1097"/>
                  </a:lnTo>
                  <a:lnTo>
                    <a:pt x="385" y="644"/>
                  </a:lnTo>
                  <a:lnTo>
                    <a:pt x="386" y="726"/>
                  </a:lnTo>
                  <a:lnTo>
                    <a:pt x="387" y="670"/>
                  </a:lnTo>
                  <a:lnTo>
                    <a:pt x="388" y="897"/>
                  </a:lnTo>
                  <a:lnTo>
                    <a:pt x="389" y="1060"/>
                  </a:lnTo>
                  <a:lnTo>
                    <a:pt x="392" y="798"/>
                  </a:lnTo>
                  <a:lnTo>
                    <a:pt x="393" y="970"/>
                  </a:lnTo>
                  <a:lnTo>
                    <a:pt x="394" y="972"/>
                  </a:lnTo>
                  <a:lnTo>
                    <a:pt x="395" y="697"/>
                  </a:lnTo>
                  <a:lnTo>
                    <a:pt x="396" y="788"/>
                  </a:lnTo>
                  <a:lnTo>
                    <a:pt x="397" y="1274"/>
                  </a:lnTo>
                  <a:lnTo>
                    <a:pt x="398" y="1263"/>
                  </a:lnTo>
                  <a:lnTo>
                    <a:pt x="399" y="533"/>
                  </a:lnTo>
                  <a:lnTo>
                    <a:pt x="401" y="609"/>
                  </a:lnTo>
                  <a:lnTo>
                    <a:pt x="403" y="1227"/>
                  </a:lnTo>
                  <a:lnTo>
                    <a:pt x="404" y="963"/>
                  </a:lnTo>
                  <a:lnTo>
                    <a:pt x="405" y="1391"/>
                  </a:lnTo>
                  <a:lnTo>
                    <a:pt x="406" y="1312"/>
                  </a:lnTo>
                  <a:lnTo>
                    <a:pt x="407" y="1131"/>
                  </a:lnTo>
                  <a:lnTo>
                    <a:pt x="408" y="1364"/>
                  </a:lnTo>
                  <a:lnTo>
                    <a:pt x="410" y="992"/>
                  </a:lnTo>
                  <a:lnTo>
                    <a:pt x="411" y="975"/>
                  </a:lnTo>
                  <a:lnTo>
                    <a:pt x="412" y="1147"/>
                  </a:lnTo>
                  <a:lnTo>
                    <a:pt x="414" y="1106"/>
                  </a:lnTo>
                  <a:lnTo>
                    <a:pt x="415" y="1131"/>
                  </a:lnTo>
                  <a:lnTo>
                    <a:pt x="416" y="1030"/>
                  </a:lnTo>
                  <a:lnTo>
                    <a:pt x="417" y="821"/>
                  </a:lnTo>
                  <a:lnTo>
                    <a:pt x="418" y="775"/>
                  </a:lnTo>
                  <a:lnTo>
                    <a:pt x="420" y="1861"/>
                  </a:lnTo>
                  <a:lnTo>
                    <a:pt x="421" y="1170"/>
                  </a:lnTo>
                  <a:lnTo>
                    <a:pt x="422" y="1097"/>
                  </a:lnTo>
                  <a:lnTo>
                    <a:pt x="423" y="1081"/>
                  </a:lnTo>
                  <a:lnTo>
                    <a:pt x="424" y="668"/>
                  </a:lnTo>
                  <a:lnTo>
                    <a:pt x="426" y="1133"/>
                  </a:lnTo>
                  <a:lnTo>
                    <a:pt x="427" y="1250"/>
                  </a:lnTo>
                  <a:lnTo>
                    <a:pt x="428" y="304"/>
                  </a:lnTo>
                  <a:lnTo>
                    <a:pt x="430" y="592"/>
                  </a:lnTo>
                  <a:lnTo>
                    <a:pt x="431" y="814"/>
                  </a:lnTo>
                  <a:lnTo>
                    <a:pt x="432" y="1714"/>
                  </a:lnTo>
                  <a:lnTo>
                    <a:pt x="433" y="1142"/>
                  </a:lnTo>
                  <a:lnTo>
                    <a:pt x="434" y="1143"/>
                  </a:lnTo>
                  <a:lnTo>
                    <a:pt x="435" y="1324"/>
                  </a:lnTo>
                  <a:lnTo>
                    <a:pt x="437" y="1391"/>
                  </a:lnTo>
                  <a:lnTo>
                    <a:pt x="439" y="1055"/>
                  </a:lnTo>
                  <a:lnTo>
                    <a:pt x="440" y="1139"/>
                  </a:lnTo>
                  <a:lnTo>
                    <a:pt x="441" y="979"/>
                  </a:lnTo>
                  <a:lnTo>
                    <a:pt x="442" y="724"/>
                  </a:lnTo>
                  <a:lnTo>
                    <a:pt x="443" y="967"/>
                  </a:lnTo>
                  <a:lnTo>
                    <a:pt x="444" y="906"/>
                  </a:lnTo>
                  <a:lnTo>
                    <a:pt x="445" y="1108"/>
                  </a:lnTo>
                  <a:lnTo>
                    <a:pt x="446" y="1228"/>
                  </a:lnTo>
                  <a:lnTo>
                    <a:pt x="449" y="854"/>
                  </a:lnTo>
                  <a:lnTo>
                    <a:pt x="450" y="711"/>
                  </a:lnTo>
                  <a:lnTo>
                    <a:pt x="451" y="1454"/>
                  </a:lnTo>
                  <a:lnTo>
                    <a:pt x="452" y="745"/>
                  </a:lnTo>
                  <a:lnTo>
                    <a:pt x="453" y="395"/>
                  </a:lnTo>
                  <a:lnTo>
                    <a:pt x="454" y="923"/>
                  </a:lnTo>
                  <a:lnTo>
                    <a:pt x="455" y="1458"/>
                  </a:lnTo>
                  <a:lnTo>
                    <a:pt x="456" y="979"/>
                  </a:lnTo>
                  <a:lnTo>
                    <a:pt x="458" y="679"/>
                  </a:lnTo>
                  <a:lnTo>
                    <a:pt x="460" y="1347"/>
                  </a:lnTo>
                  <a:lnTo>
                    <a:pt x="461" y="1116"/>
                  </a:lnTo>
                  <a:lnTo>
                    <a:pt x="462" y="653"/>
                  </a:lnTo>
                  <a:lnTo>
                    <a:pt x="463" y="816"/>
                  </a:lnTo>
                  <a:lnTo>
                    <a:pt x="464" y="1112"/>
                  </a:lnTo>
                  <a:lnTo>
                    <a:pt x="465" y="915"/>
                  </a:lnTo>
                  <a:lnTo>
                    <a:pt x="466" y="700"/>
                  </a:lnTo>
                  <a:lnTo>
                    <a:pt x="468" y="769"/>
                  </a:lnTo>
                  <a:lnTo>
                    <a:pt x="469" y="1255"/>
                  </a:lnTo>
                  <a:lnTo>
                    <a:pt x="471" y="494"/>
                  </a:lnTo>
                  <a:lnTo>
                    <a:pt x="472" y="1465"/>
                  </a:lnTo>
                  <a:lnTo>
                    <a:pt x="473" y="915"/>
                  </a:lnTo>
                  <a:lnTo>
                    <a:pt x="474" y="1775"/>
                  </a:lnTo>
                  <a:lnTo>
                    <a:pt x="475" y="815"/>
                  </a:lnTo>
                  <a:lnTo>
                    <a:pt x="476" y="1366"/>
                  </a:lnTo>
                  <a:lnTo>
                    <a:pt x="478" y="1150"/>
                  </a:lnTo>
                  <a:lnTo>
                    <a:pt x="479" y="493"/>
                  </a:lnTo>
                  <a:lnTo>
                    <a:pt x="480" y="1216"/>
                  </a:lnTo>
                  <a:lnTo>
                    <a:pt x="481" y="1181"/>
                  </a:lnTo>
                  <a:lnTo>
                    <a:pt x="483" y="945"/>
                  </a:lnTo>
                  <a:lnTo>
                    <a:pt x="484" y="678"/>
                  </a:lnTo>
                  <a:lnTo>
                    <a:pt x="485" y="1253"/>
                  </a:lnTo>
                  <a:lnTo>
                    <a:pt x="487" y="757"/>
                  </a:lnTo>
                  <a:lnTo>
                    <a:pt x="488" y="1085"/>
                  </a:lnTo>
                  <a:lnTo>
                    <a:pt x="489" y="713"/>
                  </a:lnTo>
                  <a:lnTo>
                    <a:pt x="490" y="814"/>
                  </a:lnTo>
                  <a:lnTo>
                    <a:pt x="491" y="668"/>
                  </a:lnTo>
                  <a:lnTo>
                    <a:pt x="492" y="1080"/>
                  </a:lnTo>
                  <a:lnTo>
                    <a:pt x="494" y="1009"/>
                  </a:lnTo>
                  <a:lnTo>
                    <a:pt x="495" y="1075"/>
                  </a:lnTo>
                  <a:lnTo>
                    <a:pt x="497" y="449"/>
                  </a:lnTo>
                  <a:lnTo>
                    <a:pt x="498" y="938"/>
                  </a:lnTo>
                  <a:lnTo>
                    <a:pt x="499" y="893"/>
                  </a:lnTo>
                  <a:lnTo>
                    <a:pt x="500" y="1472"/>
                  </a:lnTo>
                  <a:lnTo>
                    <a:pt x="501" y="956"/>
                  </a:lnTo>
                  <a:lnTo>
                    <a:pt x="502" y="1031"/>
                  </a:lnTo>
                  <a:lnTo>
                    <a:pt x="503" y="672"/>
                  </a:lnTo>
                  <a:lnTo>
                    <a:pt x="505" y="895"/>
                  </a:lnTo>
                  <a:lnTo>
                    <a:pt x="507" y="1142"/>
                  </a:lnTo>
                  <a:lnTo>
                    <a:pt x="508" y="1284"/>
                  </a:lnTo>
                  <a:lnTo>
                    <a:pt x="509" y="1234"/>
                  </a:lnTo>
                  <a:lnTo>
                    <a:pt x="510" y="1062"/>
                  </a:lnTo>
                  <a:lnTo>
                    <a:pt x="511" y="905"/>
                  </a:lnTo>
                  <a:lnTo>
                    <a:pt x="512" y="1005"/>
                  </a:lnTo>
                  <a:lnTo>
                    <a:pt x="513" y="1104"/>
                  </a:lnTo>
                  <a:lnTo>
                    <a:pt x="514" y="1093"/>
                  </a:lnTo>
                  <a:lnTo>
                    <a:pt x="517" y="1117"/>
                  </a:lnTo>
                  <a:lnTo>
                    <a:pt x="518" y="948"/>
                  </a:lnTo>
                  <a:lnTo>
                    <a:pt x="519" y="771"/>
                  </a:lnTo>
                  <a:lnTo>
                    <a:pt x="520" y="1124"/>
                  </a:lnTo>
                  <a:lnTo>
                    <a:pt x="521" y="1046"/>
                  </a:lnTo>
                  <a:lnTo>
                    <a:pt x="522" y="957"/>
                  </a:lnTo>
                  <a:lnTo>
                    <a:pt x="523" y="942"/>
                  </a:lnTo>
                  <a:lnTo>
                    <a:pt x="524" y="1179"/>
                  </a:lnTo>
                  <a:lnTo>
                    <a:pt x="526" y="952"/>
                  </a:lnTo>
                  <a:lnTo>
                    <a:pt x="528" y="447"/>
                  </a:lnTo>
                  <a:lnTo>
                    <a:pt x="529" y="1093"/>
                  </a:lnTo>
                  <a:lnTo>
                    <a:pt x="530" y="1110"/>
                  </a:lnTo>
                  <a:lnTo>
                    <a:pt x="531" y="1296"/>
                  </a:lnTo>
                  <a:lnTo>
                    <a:pt x="532" y="397"/>
                  </a:lnTo>
                  <a:lnTo>
                    <a:pt x="533" y="1571"/>
                  </a:lnTo>
                  <a:lnTo>
                    <a:pt x="534" y="924"/>
                  </a:lnTo>
                  <a:lnTo>
                    <a:pt x="536" y="1074"/>
                  </a:lnTo>
                  <a:lnTo>
                    <a:pt x="537" y="727"/>
                  </a:lnTo>
                  <a:lnTo>
                    <a:pt x="539" y="816"/>
                  </a:lnTo>
                  <a:lnTo>
                    <a:pt x="540" y="799"/>
                  </a:lnTo>
                  <a:lnTo>
                    <a:pt x="541" y="801"/>
                  </a:lnTo>
                  <a:lnTo>
                    <a:pt x="542" y="925"/>
                  </a:lnTo>
                  <a:lnTo>
                    <a:pt x="543" y="1219"/>
                  </a:lnTo>
                  <a:lnTo>
                    <a:pt x="545" y="964"/>
                  </a:lnTo>
                  <a:lnTo>
                    <a:pt x="546" y="1333"/>
                  </a:lnTo>
                  <a:lnTo>
                    <a:pt x="547" y="1221"/>
                  </a:lnTo>
                  <a:lnTo>
                    <a:pt x="548" y="1126"/>
                  </a:lnTo>
                  <a:lnTo>
                    <a:pt x="549" y="1017"/>
                  </a:lnTo>
                  <a:lnTo>
                    <a:pt x="551" y="1219"/>
                  </a:lnTo>
                  <a:lnTo>
                    <a:pt x="552" y="932"/>
                  </a:lnTo>
                  <a:lnTo>
                    <a:pt x="553" y="1491"/>
                  </a:lnTo>
                  <a:lnTo>
                    <a:pt x="555" y="1075"/>
                  </a:lnTo>
                  <a:lnTo>
                    <a:pt x="556" y="889"/>
                  </a:lnTo>
                  <a:lnTo>
                    <a:pt x="557" y="1245"/>
                  </a:lnTo>
                  <a:lnTo>
                    <a:pt x="558" y="1308"/>
                  </a:lnTo>
                  <a:lnTo>
                    <a:pt x="559" y="913"/>
                  </a:lnTo>
                  <a:lnTo>
                    <a:pt x="560" y="1141"/>
                  </a:lnTo>
                  <a:lnTo>
                    <a:pt x="562" y="684"/>
                  </a:lnTo>
                  <a:lnTo>
                    <a:pt x="563" y="837"/>
                  </a:lnTo>
                  <a:lnTo>
                    <a:pt x="565" y="1595"/>
                  </a:lnTo>
                  <a:lnTo>
                    <a:pt x="566" y="1259"/>
                  </a:lnTo>
                  <a:lnTo>
                    <a:pt x="567" y="919"/>
                  </a:lnTo>
                  <a:lnTo>
                    <a:pt x="568" y="935"/>
                  </a:lnTo>
                  <a:lnTo>
                    <a:pt x="569" y="1234"/>
                  </a:lnTo>
                  <a:lnTo>
                    <a:pt x="570" y="1136"/>
                  </a:lnTo>
                  <a:lnTo>
                    <a:pt x="571" y="820"/>
                  </a:lnTo>
                  <a:lnTo>
                    <a:pt x="574" y="1006"/>
                  </a:lnTo>
                  <a:lnTo>
                    <a:pt x="575" y="1200"/>
                  </a:lnTo>
                  <a:lnTo>
                    <a:pt x="576" y="1191"/>
                  </a:lnTo>
                  <a:lnTo>
                    <a:pt x="577" y="1116"/>
                  </a:lnTo>
                  <a:lnTo>
                    <a:pt x="578" y="675"/>
                  </a:lnTo>
                  <a:lnTo>
                    <a:pt x="579" y="516"/>
                  </a:lnTo>
                  <a:lnTo>
                    <a:pt x="580" y="906"/>
                  </a:lnTo>
                  <a:lnTo>
                    <a:pt x="581" y="1117"/>
                  </a:lnTo>
                  <a:lnTo>
                    <a:pt x="582" y="1108"/>
                  </a:lnTo>
                  <a:lnTo>
                    <a:pt x="585" y="742"/>
                  </a:lnTo>
                  <a:lnTo>
                    <a:pt x="586" y="405"/>
                  </a:lnTo>
                  <a:lnTo>
                    <a:pt x="587" y="1248"/>
                  </a:lnTo>
                  <a:lnTo>
                    <a:pt x="588" y="1788"/>
                  </a:lnTo>
                  <a:lnTo>
                    <a:pt x="589" y="1263"/>
                  </a:lnTo>
                  <a:lnTo>
                    <a:pt x="590" y="1073"/>
                  </a:lnTo>
                  <a:lnTo>
                    <a:pt x="591" y="1317"/>
                  </a:lnTo>
                  <a:lnTo>
                    <a:pt x="592" y="1045"/>
                  </a:lnTo>
                  <a:lnTo>
                    <a:pt x="594" y="1127"/>
                  </a:lnTo>
                  <a:lnTo>
                    <a:pt x="596" y="1228"/>
                  </a:lnTo>
                  <a:lnTo>
                    <a:pt x="597" y="1222"/>
                  </a:lnTo>
                  <a:lnTo>
                    <a:pt x="598" y="991"/>
                  </a:lnTo>
                  <a:lnTo>
                    <a:pt x="599" y="484"/>
                  </a:lnTo>
                  <a:lnTo>
                    <a:pt x="600" y="964"/>
                  </a:lnTo>
                  <a:lnTo>
                    <a:pt x="601" y="458"/>
                  </a:lnTo>
                  <a:lnTo>
                    <a:pt x="603" y="885"/>
                  </a:lnTo>
                  <a:lnTo>
                    <a:pt x="604" y="766"/>
                  </a:lnTo>
                  <a:lnTo>
                    <a:pt x="605" y="1190"/>
                  </a:lnTo>
                  <a:lnTo>
                    <a:pt x="606" y="1298"/>
                  </a:lnTo>
                  <a:lnTo>
                    <a:pt x="608" y="941"/>
                  </a:lnTo>
                  <a:lnTo>
                    <a:pt x="609" y="1237"/>
                  </a:lnTo>
                  <a:lnTo>
                    <a:pt x="610" y="927"/>
                  </a:lnTo>
                  <a:lnTo>
                    <a:pt x="611" y="835"/>
                  </a:lnTo>
                  <a:lnTo>
                    <a:pt x="613" y="1396"/>
                  </a:lnTo>
                  <a:lnTo>
                    <a:pt x="614" y="992"/>
                  </a:lnTo>
                  <a:lnTo>
                    <a:pt x="615" y="1046"/>
                  </a:lnTo>
                  <a:lnTo>
                    <a:pt x="616" y="642"/>
                  </a:lnTo>
                  <a:lnTo>
                    <a:pt x="617" y="707"/>
                  </a:lnTo>
                  <a:lnTo>
                    <a:pt x="619" y="1425"/>
                  </a:lnTo>
                  <a:lnTo>
                    <a:pt x="620" y="1487"/>
                  </a:lnTo>
                  <a:lnTo>
                    <a:pt x="621" y="1255"/>
                  </a:lnTo>
                  <a:lnTo>
                    <a:pt x="623" y="894"/>
                  </a:lnTo>
                  <a:lnTo>
                    <a:pt x="624" y="865"/>
                  </a:lnTo>
                  <a:lnTo>
                    <a:pt x="625" y="964"/>
                  </a:lnTo>
                  <a:lnTo>
                    <a:pt x="626" y="472"/>
                  </a:lnTo>
                  <a:lnTo>
                    <a:pt x="627" y="1285"/>
                  </a:lnTo>
                  <a:lnTo>
                    <a:pt x="628" y="1033"/>
                  </a:lnTo>
                  <a:lnTo>
                    <a:pt x="630" y="924"/>
                  </a:lnTo>
                  <a:lnTo>
                    <a:pt x="632" y="1058"/>
                  </a:lnTo>
                  <a:lnTo>
                    <a:pt x="633" y="1265"/>
                  </a:lnTo>
                  <a:lnTo>
                    <a:pt x="634" y="1130"/>
                  </a:lnTo>
                  <a:lnTo>
                    <a:pt x="635" y="1388"/>
                  </a:lnTo>
                  <a:lnTo>
                    <a:pt x="636" y="763"/>
                  </a:lnTo>
                  <a:lnTo>
                    <a:pt x="637" y="1563"/>
                  </a:lnTo>
                  <a:lnTo>
                    <a:pt x="638" y="925"/>
                  </a:lnTo>
                  <a:lnTo>
                    <a:pt x="639" y="1622"/>
                  </a:lnTo>
                  <a:lnTo>
                    <a:pt x="642" y="882"/>
                  </a:lnTo>
                  <a:lnTo>
                    <a:pt x="643" y="1091"/>
                  </a:lnTo>
                  <a:lnTo>
                    <a:pt x="644" y="973"/>
                  </a:lnTo>
                  <a:lnTo>
                    <a:pt x="645" y="821"/>
                  </a:lnTo>
                  <a:lnTo>
                    <a:pt x="646" y="1113"/>
                  </a:lnTo>
                  <a:lnTo>
                    <a:pt x="647" y="1294"/>
                  </a:lnTo>
                  <a:lnTo>
                    <a:pt x="648" y="955"/>
                  </a:lnTo>
                  <a:lnTo>
                    <a:pt x="649" y="1065"/>
                  </a:lnTo>
                  <a:lnTo>
                    <a:pt x="650" y="859"/>
                  </a:lnTo>
                  <a:lnTo>
                    <a:pt x="653" y="688"/>
                  </a:lnTo>
                  <a:lnTo>
                    <a:pt x="654" y="1015"/>
                  </a:lnTo>
                  <a:lnTo>
                    <a:pt x="655" y="1068"/>
                  </a:lnTo>
                  <a:lnTo>
                    <a:pt x="656" y="1345"/>
                  </a:lnTo>
                  <a:lnTo>
                    <a:pt x="657" y="778"/>
                  </a:lnTo>
                  <a:lnTo>
                    <a:pt x="658" y="915"/>
                  </a:lnTo>
                  <a:lnTo>
                    <a:pt x="659" y="787"/>
                  </a:lnTo>
                  <a:lnTo>
                    <a:pt x="661" y="1023"/>
                  </a:lnTo>
                  <a:lnTo>
                    <a:pt x="662" y="1339"/>
                  </a:lnTo>
                  <a:lnTo>
                    <a:pt x="664" y="1612"/>
                  </a:lnTo>
                  <a:lnTo>
                    <a:pt x="665" y="1343"/>
                  </a:lnTo>
                  <a:lnTo>
                    <a:pt x="666" y="1121"/>
                  </a:lnTo>
                  <a:lnTo>
                    <a:pt x="667" y="626"/>
                  </a:lnTo>
                  <a:lnTo>
                    <a:pt x="668" y="1588"/>
                  </a:lnTo>
                  <a:lnTo>
                    <a:pt x="669" y="614"/>
                  </a:lnTo>
                  <a:lnTo>
                    <a:pt x="671" y="1133"/>
                  </a:lnTo>
                  <a:lnTo>
                    <a:pt x="672" y="1512"/>
                  </a:lnTo>
                  <a:lnTo>
                    <a:pt x="673" y="574"/>
                  </a:lnTo>
                  <a:lnTo>
                    <a:pt x="674" y="965"/>
                  </a:lnTo>
                  <a:lnTo>
                    <a:pt x="676" y="1472"/>
                  </a:lnTo>
                  <a:lnTo>
                    <a:pt x="677" y="864"/>
                  </a:lnTo>
                  <a:lnTo>
                    <a:pt x="678" y="1117"/>
                  </a:lnTo>
                  <a:lnTo>
                    <a:pt x="679" y="1031"/>
                  </a:lnTo>
                  <a:lnTo>
                    <a:pt x="681" y="839"/>
                  </a:lnTo>
                  <a:lnTo>
                    <a:pt x="682" y="1456"/>
                  </a:lnTo>
                  <a:lnTo>
                    <a:pt x="683" y="962"/>
                  </a:lnTo>
                  <a:lnTo>
                    <a:pt x="684" y="918"/>
                  </a:lnTo>
                  <a:lnTo>
                    <a:pt x="685" y="1182"/>
                  </a:lnTo>
                  <a:lnTo>
                    <a:pt x="687" y="1029"/>
                  </a:lnTo>
                  <a:lnTo>
                    <a:pt x="688" y="1127"/>
                  </a:lnTo>
                  <a:lnTo>
                    <a:pt x="690" y="1173"/>
                  </a:lnTo>
                  <a:lnTo>
                    <a:pt x="691" y="892"/>
                  </a:lnTo>
                  <a:lnTo>
                    <a:pt x="692" y="641"/>
                  </a:lnTo>
                  <a:lnTo>
                    <a:pt x="693" y="919"/>
                  </a:lnTo>
                  <a:lnTo>
                    <a:pt x="694" y="1353"/>
                  </a:lnTo>
                  <a:lnTo>
                    <a:pt x="695" y="1069"/>
                  </a:lnTo>
                  <a:lnTo>
                    <a:pt x="696" y="1208"/>
                  </a:lnTo>
                  <a:lnTo>
                    <a:pt x="698" y="857"/>
                  </a:lnTo>
                  <a:lnTo>
                    <a:pt x="700" y="911"/>
                  </a:lnTo>
                  <a:lnTo>
                    <a:pt x="701" y="830"/>
                  </a:lnTo>
                  <a:lnTo>
                    <a:pt x="702" y="1266"/>
                  </a:lnTo>
                  <a:lnTo>
                    <a:pt x="703" y="831"/>
                  </a:lnTo>
                  <a:lnTo>
                    <a:pt x="704" y="967"/>
                  </a:lnTo>
                  <a:lnTo>
                    <a:pt x="705" y="1253"/>
                  </a:lnTo>
                  <a:lnTo>
                    <a:pt x="706" y="1224"/>
                  </a:lnTo>
                  <a:lnTo>
                    <a:pt x="707" y="982"/>
                  </a:lnTo>
                  <a:lnTo>
                    <a:pt x="710" y="1167"/>
                  </a:lnTo>
                  <a:lnTo>
                    <a:pt x="711" y="1424"/>
                  </a:lnTo>
                  <a:lnTo>
                    <a:pt x="712" y="1394"/>
                  </a:lnTo>
                  <a:lnTo>
                    <a:pt x="713" y="904"/>
                  </a:lnTo>
                  <a:lnTo>
                    <a:pt x="714" y="1395"/>
                  </a:lnTo>
                  <a:lnTo>
                    <a:pt x="715" y="807"/>
                  </a:lnTo>
                  <a:lnTo>
                    <a:pt x="716" y="1231"/>
                  </a:lnTo>
                  <a:lnTo>
                    <a:pt x="717" y="1187"/>
                  </a:lnTo>
                  <a:lnTo>
                    <a:pt x="719" y="1347"/>
                  </a:lnTo>
                  <a:lnTo>
                    <a:pt x="721" y="853"/>
                  </a:lnTo>
                  <a:lnTo>
                    <a:pt x="722" y="908"/>
                  </a:lnTo>
                  <a:lnTo>
                    <a:pt x="723" y="981"/>
                  </a:lnTo>
                  <a:lnTo>
                    <a:pt x="724" y="663"/>
                  </a:lnTo>
                  <a:lnTo>
                    <a:pt x="725" y="1054"/>
                  </a:lnTo>
                  <a:lnTo>
                    <a:pt x="726" y="982"/>
                  </a:lnTo>
                  <a:lnTo>
                    <a:pt x="727" y="811"/>
                  </a:lnTo>
                  <a:lnTo>
                    <a:pt x="729" y="582"/>
                  </a:lnTo>
                  <a:lnTo>
                    <a:pt x="730" y="1160"/>
                  </a:lnTo>
                  <a:lnTo>
                    <a:pt x="731" y="1040"/>
                  </a:lnTo>
                  <a:lnTo>
                    <a:pt x="733" y="1322"/>
                  </a:lnTo>
                  <a:lnTo>
                    <a:pt x="734" y="1375"/>
                  </a:lnTo>
                  <a:lnTo>
                    <a:pt x="735" y="1287"/>
                  </a:lnTo>
                  <a:lnTo>
                    <a:pt x="736" y="769"/>
                  </a:lnTo>
                  <a:lnTo>
                    <a:pt x="738" y="1137"/>
                  </a:lnTo>
                  <a:lnTo>
                    <a:pt x="739" y="1178"/>
                  </a:lnTo>
                  <a:lnTo>
                    <a:pt x="740" y="1051"/>
                  </a:lnTo>
                  <a:lnTo>
                    <a:pt x="741" y="1106"/>
                  </a:lnTo>
                  <a:lnTo>
                    <a:pt x="742" y="1466"/>
                  </a:lnTo>
                  <a:lnTo>
                    <a:pt x="744" y="713"/>
                  </a:lnTo>
                  <a:lnTo>
                    <a:pt x="745" y="887"/>
                  </a:lnTo>
                  <a:lnTo>
                    <a:pt x="746" y="957"/>
                  </a:lnTo>
                  <a:lnTo>
                    <a:pt x="748" y="1145"/>
                  </a:lnTo>
                  <a:lnTo>
                    <a:pt x="749" y="997"/>
                  </a:lnTo>
                  <a:lnTo>
                    <a:pt x="750" y="1117"/>
                  </a:lnTo>
                  <a:lnTo>
                    <a:pt x="751" y="1140"/>
                  </a:lnTo>
                  <a:lnTo>
                    <a:pt x="752" y="1481"/>
                  </a:lnTo>
                  <a:lnTo>
                    <a:pt x="753" y="983"/>
                  </a:lnTo>
                  <a:lnTo>
                    <a:pt x="755" y="794"/>
                  </a:lnTo>
                  <a:lnTo>
                    <a:pt x="756" y="1166"/>
                  </a:lnTo>
                  <a:lnTo>
                    <a:pt x="758" y="810"/>
                  </a:lnTo>
                  <a:lnTo>
                    <a:pt x="759" y="1226"/>
                  </a:lnTo>
                  <a:lnTo>
                    <a:pt x="760" y="893"/>
                  </a:lnTo>
                  <a:lnTo>
                    <a:pt x="761" y="807"/>
                  </a:lnTo>
                  <a:lnTo>
                    <a:pt x="762" y="723"/>
                  </a:lnTo>
                  <a:lnTo>
                    <a:pt x="763" y="1175"/>
                  </a:lnTo>
                  <a:lnTo>
                    <a:pt x="764" y="753"/>
                  </a:lnTo>
                  <a:lnTo>
                    <a:pt x="767" y="936"/>
                  </a:lnTo>
                  <a:lnTo>
                    <a:pt x="768" y="249"/>
                  </a:lnTo>
                  <a:lnTo>
                    <a:pt x="769" y="1235"/>
                  </a:lnTo>
                  <a:lnTo>
                    <a:pt x="770" y="1245"/>
                  </a:lnTo>
                  <a:lnTo>
                    <a:pt x="771" y="1610"/>
                  </a:lnTo>
                  <a:lnTo>
                    <a:pt x="772" y="1021"/>
                  </a:lnTo>
                  <a:lnTo>
                    <a:pt x="773" y="220"/>
                  </a:lnTo>
                  <a:lnTo>
                    <a:pt x="774" y="761"/>
                  </a:lnTo>
                  <a:lnTo>
                    <a:pt x="775" y="1240"/>
                  </a:lnTo>
                  <a:lnTo>
                    <a:pt x="778" y="1527"/>
                  </a:lnTo>
                  <a:lnTo>
                    <a:pt x="779" y="948"/>
                  </a:lnTo>
                  <a:lnTo>
                    <a:pt x="780" y="1386"/>
                  </a:lnTo>
                  <a:lnTo>
                    <a:pt x="781" y="625"/>
                  </a:lnTo>
                  <a:lnTo>
                    <a:pt x="782" y="1142"/>
                  </a:lnTo>
                  <a:lnTo>
                    <a:pt x="783" y="1016"/>
                  </a:lnTo>
                  <a:lnTo>
                    <a:pt x="784" y="1102"/>
                  </a:lnTo>
                  <a:lnTo>
                    <a:pt x="785" y="921"/>
                  </a:lnTo>
                  <a:lnTo>
                    <a:pt x="787" y="1038"/>
                  </a:lnTo>
                  <a:lnTo>
                    <a:pt x="789" y="659"/>
                  </a:lnTo>
                  <a:lnTo>
                    <a:pt x="790" y="1129"/>
                  </a:lnTo>
                  <a:lnTo>
                    <a:pt x="791" y="1218"/>
                  </a:lnTo>
                  <a:lnTo>
                    <a:pt x="792" y="599"/>
                  </a:lnTo>
                  <a:lnTo>
                    <a:pt x="793" y="905"/>
                  </a:lnTo>
                  <a:lnTo>
                    <a:pt x="794" y="410"/>
                  </a:lnTo>
                  <a:lnTo>
                    <a:pt x="796" y="1273"/>
                  </a:lnTo>
                  <a:lnTo>
                    <a:pt x="797" y="1169"/>
                  </a:lnTo>
                  <a:lnTo>
                    <a:pt x="798" y="553"/>
                  </a:lnTo>
                  <a:lnTo>
                    <a:pt x="799" y="1016"/>
                  </a:lnTo>
                  <a:lnTo>
                    <a:pt x="801" y="1134"/>
                  </a:lnTo>
                  <a:lnTo>
                    <a:pt x="802" y="994"/>
                  </a:lnTo>
                  <a:lnTo>
                    <a:pt x="803" y="772"/>
                  </a:lnTo>
                  <a:lnTo>
                    <a:pt x="804" y="1073"/>
                  </a:lnTo>
                  <a:lnTo>
                    <a:pt x="806" y="1452"/>
                  </a:lnTo>
                  <a:lnTo>
                    <a:pt x="807" y="640"/>
                  </a:lnTo>
                  <a:lnTo>
                    <a:pt x="808" y="1001"/>
                  </a:lnTo>
                  <a:lnTo>
                    <a:pt x="809" y="1114"/>
                  </a:lnTo>
                  <a:lnTo>
                    <a:pt x="810" y="1239"/>
                  </a:lnTo>
                  <a:lnTo>
                    <a:pt x="812" y="728"/>
                  </a:lnTo>
                  <a:lnTo>
                    <a:pt x="813" y="973"/>
                  </a:lnTo>
                  <a:lnTo>
                    <a:pt x="814" y="1014"/>
                  </a:lnTo>
                  <a:lnTo>
                    <a:pt x="816" y="1220"/>
                  </a:lnTo>
                  <a:lnTo>
                    <a:pt x="817" y="781"/>
                  </a:lnTo>
                  <a:lnTo>
                    <a:pt x="818" y="1317"/>
                  </a:lnTo>
                  <a:lnTo>
                    <a:pt x="819" y="1196"/>
                  </a:lnTo>
                  <a:lnTo>
                    <a:pt x="820" y="1000"/>
                  </a:lnTo>
                  <a:lnTo>
                    <a:pt x="821" y="989"/>
                  </a:lnTo>
                  <a:lnTo>
                    <a:pt x="823" y="1299"/>
                  </a:lnTo>
                  <a:lnTo>
                    <a:pt x="825" y="1049"/>
                  </a:lnTo>
                  <a:lnTo>
                    <a:pt x="826" y="888"/>
                  </a:lnTo>
                  <a:lnTo>
                    <a:pt x="827" y="944"/>
                  </a:lnTo>
                  <a:lnTo>
                    <a:pt x="828" y="737"/>
                  </a:lnTo>
                  <a:lnTo>
                    <a:pt x="829" y="1080"/>
                  </a:lnTo>
                  <a:lnTo>
                    <a:pt x="830" y="1118"/>
                  </a:lnTo>
                  <a:lnTo>
                    <a:pt x="831" y="740"/>
                  </a:lnTo>
                  <a:lnTo>
                    <a:pt x="832" y="644"/>
                  </a:lnTo>
                  <a:lnTo>
                    <a:pt x="835" y="649"/>
                  </a:lnTo>
                  <a:lnTo>
                    <a:pt x="836" y="879"/>
                  </a:lnTo>
                  <a:lnTo>
                    <a:pt x="837" y="1035"/>
                  </a:lnTo>
                  <a:lnTo>
                    <a:pt x="838" y="1126"/>
                  </a:lnTo>
                  <a:lnTo>
                    <a:pt x="839" y="603"/>
                  </a:lnTo>
                  <a:lnTo>
                    <a:pt x="840" y="1240"/>
                  </a:lnTo>
                  <a:lnTo>
                    <a:pt x="841" y="860"/>
                  </a:lnTo>
                  <a:lnTo>
                    <a:pt x="842" y="970"/>
                  </a:lnTo>
                  <a:lnTo>
                    <a:pt x="843" y="963"/>
                  </a:lnTo>
                  <a:lnTo>
                    <a:pt x="846" y="986"/>
                  </a:lnTo>
                  <a:lnTo>
                    <a:pt x="847" y="1222"/>
                  </a:lnTo>
                  <a:lnTo>
                    <a:pt x="848" y="1390"/>
                  </a:lnTo>
                  <a:lnTo>
                    <a:pt x="849" y="1060"/>
                  </a:lnTo>
                  <a:lnTo>
                    <a:pt x="850" y="867"/>
                  </a:lnTo>
                  <a:lnTo>
                    <a:pt x="851" y="1338"/>
                  </a:lnTo>
                  <a:lnTo>
                    <a:pt x="852" y="710"/>
                  </a:lnTo>
                  <a:lnTo>
                    <a:pt x="854" y="1371"/>
                  </a:lnTo>
                  <a:lnTo>
                    <a:pt x="855" y="923"/>
                  </a:lnTo>
                  <a:lnTo>
                    <a:pt x="856" y="1227"/>
                  </a:lnTo>
                  <a:lnTo>
                    <a:pt x="858" y="981"/>
                  </a:lnTo>
                  <a:lnTo>
                    <a:pt x="859" y="987"/>
                  </a:lnTo>
                  <a:lnTo>
                    <a:pt x="860" y="960"/>
                  </a:lnTo>
                  <a:lnTo>
                    <a:pt x="861" y="633"/>
                  </a:lnTo>
                  <a:lnTo>
                    <a:pt x="862" y="1102"/>
                  </a:lnTo>
                  <a:lnTo>
                    <a:pt x="864" y="1045"/>
                  </a:lnTo>
                  <a:lnTo>
                    <a:pt x="865" y="1107"/>
                  </a:lnTo>
                  <a:lnTo>
                    <a:pt x="866" y="1041"/>
                  </a:lnTo>
                  <a:lnTo>
                    <a:pt x="867" y="823"/>
                  </a:lnTo>
                  <a:lnTo>
                    <a:pt x="869" y="1234"/>
                  </a:lnTo>
                  <a:lnTo>
                    <a:pt x="870" y="862"/>
                  </a:lnTo>
                  <a:lnTo>
                    <a:pt x="871" y="1309"/>
                  </a:lnTo>
                  <a:lnTo>
                    <a:pt x="872" y="692"/>
                  </a:lnTo>
                  <a:lnTo>
                    <a:pt x="874" y="1122"/>
                  </a:lnTo>
                  <a:lnTo>
                    <a:pt x="875" y="1177"/>
                  </a:lnTo>
                  <a:lnTo>
                    <a:pt x="876" y="975"/>
                  </a:lnTo>
                  <a:lnTo>
                    <a:pt x="877" y="1258"/>
                  </a:lnTo>
                  <a:lnTo>
                    <a:pt x="878" y="514"/>
                  </a:lnTo>
                  <a:lnTo>
                    <a:pt x="880" y="1024"/>
                  </a:lnTo>
                  <a:lnTo>
                    <a:pt x="881" y="1469"/>
                  </a:lnTo>
                  <a:lnTo>
                    <a:pt x="883" y="914"/>
                  </a:lnTo>
                  <a:lnTo>
                    <a:pt x="884" y="1202"/>
                  </a:lnTo>
                  <a:lnTo>
                    <a:pt x="885" y="797"/>
                  </a:lnTo>
                  <a:lnTo>
                    <a:pt x="886" y="1081"/>
                  </a:lnTo>
                  <a:lnTo>
                    <a:pt x="887" y="1112"/>
                  </a:lnTo>
                  <a:lnTo>
                    <a:pt x="888" y="846"/>
                  </a:lnTo>
                  <a:lnTo>
                    <a:pt x="889" y="497"/>
                  </a:lnTo>
                  <a:lnTo>
                    <a:pt x="891" y="1227"/>
                  </a:lnTo>
                  <a:lnTo>
                    <a:pt x="893" y="1116"/>
                  </a:lnTo>
                  <a:lnTo>
                    <a:pt x="894" y="1111"/>
                  </a:lnTo>
                  <a:lnTo>
                    <a:pt x="895" y="1009"/>
                  </a:lnTo>
                  <a:lnTo>
                    <a:pt x="896" y="680"/>
                  </a:lnTo>
                  <a:lnTo>
                    <a:pt x="897" y="1479"/>
                  </a:lnTo>
                  <a:lnTo>
                    <a:pt x="898" y="880"/>
                  </a:lnTo>
                  <a:lnTo>
                    <a:pt x="899" y="761"/>
                  </a:lnTo>
                  <a:lnTo>
                    <a:pt x="900" y="1456"/>
                  </a:lnTo>
                  <a:lnTo>
                    <a:pt x="903" y="718"/>
                  </a:lnTo>
                  <a:lnTo>
                    <a:pt x="904" y="1244"/>
                  </a:lnTo>
                  <a:lnTo>
                    <a:pt x="905" y="1500"/>
                  </a:lnTo>
                  <a:lnTo>
                    <a:pt x="906" y="811"/>
                  </a:lnTo>
                  <a:lnTo>
                    <a:pt x="907" y="495"/>
                  </a:lnTo>
                  <a:lnTo>
                    <a:pt x="908" y="1046"/>
                  </a:lnTo>
                  <a:lnTo>
                    <a:pt x="909" y="1373"/>
                  </a:lnTo>
                  <a:lnTo>
                    <a:pt x="910" y="1329"/>
                  </a:lnTo>
                  <a:lnTo>
                    <a:pt x="912" y="762"/>
                  </a:lnTo>
                  <a:lnTo>
                    <a:pt x="914" y="761"/>
                  </a:lnTo>
                  <a:lnTo>
                    <a:pt x="915" y="972"/>
                  </a:lnTo>
                  <a:lnTo>
                    <a:pt x="916" y="1005"/>
                  </a:lnTo>
                  <a:lnTo>
                    <a:pt x="917" y="1275"/>
                  </a:lnTo>
                  <a:lnTo>
                    <a:pt x="918" y="674"/>
                  </a:lnTo>
                  <a:lnTo>
                    <a:pt x="919" y="1224"/>
                  </a:lnTo>
                  <a:lnTo>
                    <a:pt x="920" y="1263"/>
                  </a:lnTo>
                  <a:lnTo>
                    <a:pt x="922" y="857"/>
                  </a:lnTo>
                  <a:lnTo>
                    <a:pt x="923" y="1095"/>
                  </a:lnTo>
                  <a:lnTo>
                    <a:pt x="924" y="1121"/>
                  </a:lnTo>
                  <a:lnTo>
                    <a:pt x="926" y="1099"/>
                  </a:lnTo>
                  <a:lnTo>
                    <a:pt x="927" y="1190"/>
                  </a:lnTo>
                  <a:lnTo>
                    <a:pt x="928" y="1781"/>
                  </a:lnTo>
                  <a:lnTo>
                    <a:pt x="929" y="1121"/>
                  </a:lnTo>
                  <a:lnTo>
                    <a:pt x="930" y="883"/>
                  </a:lnTo>
                  <a:lnTo>
                    <a:pt x="932" y="974"/>
                  </a:lnTo>
                  <a:lnTo>
                    <a:pt x="933" y="1480"/>
                  </a:lnTo>
                  <a:lnTo>
                    <a:pt x="934" y="683"/>
                  </a:lnTo>
                  <a:lnTo>
                    <a:pt x="935" y="1162"/>
                  </a:lnTo>
                  <a:lnTo>
                    <a:pt x="937" y="902"/>
                  </a:lnTo>
                  <a:lnTo>
                    <a:pt x="938" y="1274"/>
                  </a:lnTo>
                  <a:lnTo>
                    <a:pt x="939" y="1266"/>
                  </a:lnTo>
                  <a:lnTo>
                    <a:pt x="941" y="1380"/>
                  </a:lnTo>
                  <a:lnTo>
                    <a:pt x="942" y="870"/>
                  </a:lnTo>
                  <a:lnTo>
                    <a:pt x="943" y="437"/>
                  </a:lnTo>
                  <a:lnTo>
                    <a:pt x="944" y="482"/>
                  </a:lnTo>
                  <a:lnTo>
                    <a:pt x="945" y="809"/>
                  </a:lnTo>
                  <a:lnTo>
                    <a:pt x="946" y="922"/>
                  </a:lnTo>
                  <a:lnTo>
                    <a:pt x="948" y="1042"/>
                  </a:lnTo>
                  <a:lnTo>
                    <a:pt x="949" y="1133"/>
                  </a:lnTo>
                  <a:lnTo>
                    <a:pt x="951" y="907"/>
                  </a:lnTo>
                  <a:lnTo>
                    <a:pt x="952" y="1183"/>
                  </a:lnTo>
                  <a:lnTo>
                    <a:pt x="953" y="809"/>
                  </a:lnTo>
                  <a:lnTo>
                    <a:pt x="954" y="931"/>
                  </a:lnTo>
                  <a:lnTo>
                    <a:pt x="955" y="1214"/>
                  </a:lnTo>
                  <a:lnTo>
                    <a:pt x="956" y="1133"/>
                  </a:lnTo>
                  <a:lnTo>
                    <a:pt x="957" y="991"/>
                  </a:lnTo>
                  <a:lnTo>
                    <a:pt x="960" y="1400"/>
                  </a:lnTo>
                  <a:lnTo>
                    <a:pt x="961" y="1557"/>
                  </a:lnTo>
                  <a:lnTo>
                    <a:pt x="962" y="658"/>
                  </a:lnTo>
                  <a:lnTo>
                    <a:pt x="963" y="1141"/>
                  </a:lnTo>
                  <a:lnTo>
                    <a:pt x="964" y="1148"/>
                  </a:lnTo>
                  <a:lnTo>
                    <a:pt x="965" y="1161"/>
                  </a:lnTo>
                  <a:lnTo>
                    <a:pt x="966" y="886"/>
                  </a:lnTo>
                  <a:lnTo>
                    <a:pt x="967" y="1071"/>
                  </a:lnTo>
                  <a:lnTo>
                    <a:pt x="968" y="992"/>
                  </a:lnTo>
                  <a:lnTo>
                    <a:pt x="971" y="1241"/>
                  </a:lnTo>
                  <a:lnTo>
                    <a:pt x="972" y="1089"/>
                  </a:lnTo>
                  <a:lnTo>
                    <a:pt x="973" y="377"/>
                  </a:lnTo>
                  <a:lnTo>
                    <a:pt x="974" y="1549"/>
                  </a:lnTo>
                  <a:lnTo>
                    <a:pt x="975" y="795"/>
                  </a:lnTo>
                  <a:lnTo>
                    <a:pt x="976" y="699"/>
                  </a:lnTo>
                  <a:lnTo>
                    <a:pt x="977" y="873"/>
                  </a:lnTo>
                  <a:lnTo>
                    <a:pt x="978" y="1160"/>
                  </a:lnTo>
                  <a:lnTo>
                    <a:pt x="980" y="615"/>
                  </a:lnTo>
                  <a:lnTo>
                    <a:pt x="981" y="1165"/>
                  </a:lnTo>
                  <a:lnTo>
                    <a:pt x="983" y="464"/>
                  </a:lnTo>
                  <a:lnTo>
                    <a:pt x="984" y="1391"/>
                  </a:lnTo>
                  <a:lnTo>
                    <a:pt x="985" y="1020"/>
                  </a:lnTo>
                  <a:lnTo>
                    <a:pt x="986" y="717"/>
                  </a:lnTo>
                  <a:lnTo>
                    <a:pt x="987" y="526"/>
                  </a:lnTo>
                  <a:lnTo>
                    <a:pt x="989" y="1237"/>
                  </a:lnTo>
                  <a:lnTo>
                    <a:pt x="990" y="742"/>
                  </a:lnTo>
                  <a:lnTo>
                    <a:pt x="991" y="1183"/>
                  </a:lnTo>
                  <a:lnTo>
                    <a:pt x="992" y="1325"/>
                  </a:lnTo>
                  <a:lnTo>
                    <a:pt x="994" y="1258"/>
                  </a:lnTo>
                  <a:lnTo>
                    <a:pt x="995" y="1411"/>
                  </a:lnTo>
                  <a:lnTo>
                    <a:pt x="996" y="870"/>
                  </a:lnTo>
                  <a:lnTo>
                    <a:pt x="997" y="1089"/>
                  </a:lnTo>
                  <a:lnTo>
                    <a:pt x="999" y="810"/>
                  </a:lnTo>
                  <a:lnTo>
                    <a:pt x="1000" y="908"/>
                  </a:lnTo>
                  <a:lnTo>
                    <a:pt x="1001" y="1294"/>
                  </a:lnTo>
                  <a:lnTo>
                    <a:pt x="1002" y="735"/>
                  </a:lnTo>
                  <a:lnTo>
                    <a:pt x="1003" y="1183"/>
                  </a:lnTo>
                  <a:lnTo>
                    <a:pt x="1005" y="1249"/>
                  </a:lnTo>
                  <a:lnTo>
                    <a:pt x="1006" y="1001"/>
                  </a:lnTo>
                  <a:lnTo>
                    <a:pt x="1007" y="989"/>
                  </a:lnTo>
                  <a:lnTo>
                    <a:pt x="1009" y="620"/>
                  </a:lnTo>
                  <a:lnTo>
                    <a:pt x="1010" y="662"/>
                  </a:lnTo>
                  <a:lnTo>
                    <a:pt x="1011" y="1534"/>
                  </a:lnTo>
                  <a:lnTo>
                    <a:pt x="1012" y="845"/>
                  </a:lnTo>
                  <a:lnTo>
                    <a:pt x="1013" y="1059"/>
                  </a:lnTo>
                  <a:lnTo>
                    <a:pt x="1014" y="1098"/>
                  </a:lnTo>
                  <a:lnTo>
                    <a:pt x="1016" y="914"/>
                  </a:lnTo>
                  <a:lnTo>
                    <a:pt x="1018" y="926"/>
                  </a:lnTo>
                  <a:lnTo>
                    <a:pt x="1019" y="1412"/>
                  </a:lnTo>
                  <a:lnTo>
                    <a:pt x="1020" y="1246"/>
                  </a:lnTo>
                  <a:lnTo>
                    <a:pt x="1021" y="1140"/>
                  </a:lnTo>
                  <a:lnTo>
                    <a:pt x="1022" y="947"/>
                  </a:lnTo>
                  <a:lnTo>
                    <a:pt x="1023" y="626"/>
                  </a:lnTo>
                  <a:lnTo>
                    <a:pt x="1024" y="1493"/>
                  </a:lnTo>
                  <a:lnTo>
                    <a:pt x="1025" y="1341"/>
                  </a:lnTo>
                  <a:lnTo>
                    <a:pt x="1028" y="1255"/>
                  </a:lnTo>
                  <a:lnTo>
                    <a:pt x="1029" y="1145"/>
                  </a:lnTo>
                  <a:lnTo>
                    <a:pt x="1030" y="1289"/>
                  </a:lnTo>
                  <a:lnTo>
                    <a:pt x="1031" y="1179"/>
                  </a:lnTo>
                  <a:lnTo>
                    <a:pt x="1032" y="886"/>
                  </a:lnTo>
                  <a:lnTo>
                    <a:pt x="1033" y="644"/>
                  </a:lnTo>
                  <a:lnTo>
                    <a:pt x="1034" y="1085"/>
                  </a:lnTo>
                  <a:lnTo>
                    <a:pt x="1035" y="957"/>
                  </a:lnTo>
                  <a:lnTo>
                    <a:pt x="1036" y="1267"/>
                  </a:lnTo>
                  <a:lnTo>
                    <a:pt x="1039" y="875"/>
                  </a:lnTo>
                  <a:lnTo>
                    <a:pt x="1040" y="1231"/>
                  </a:lnTo>
                  <a:lnTo>
                    <a:pt x="1041" y="997"/>
                  </a:lnTo>
                  <a:lnTo>
                    <a:pt x="1042" y="1026"/>
                  </a:lnTo>
                  <a:lnTo>
                    <a:pt x="1043" y="808"/>
                  </a:lnTo>
                  <a:lnTo>
                    <a:pt x="1044" y="790"/>
                  </a:lnTo>
                  <a:lnTo>
                    <a:pt x="1045" y="524"/>
                  </a:lnTo>
                  <a:lnTo>
                    <a:pt x="1047" y="1499"/>
                  </a:lnTo>
                  <a:lnTo>
                    <a:pt x="1048" y="1246"/>
                  </a:lnTo>
                  <a:lnTo>
                    <a:pt x="1049" y="921"/>
                  </a:lnTo>
                  <a:lnTo>
                    <a:pt x="1051" y="761"/>
                  </a:lnTo>
                  <a:lnTo>
                    <a:pt x="1052" y="1220"/>
                  </a:lnTo>
                  <a:lnTo>
                    <a:pt x="1053" y="161"/>
                  </a:lnTo>
                  <a:lnTo>
                    <a:pt x="1054" y="639"/>
                  </a:lnTo>
                  <a:lnTo>
                    <a:pt x="1055" y="592"/>
                  </a:lnTo>
                  <a:lnTo>
                    <a:pt x="1057" y="1072"/>
                  </a:lnTo>
                  <a:lnTo>
                    <a:pt x="1058" y="1030"/>
                  </a:lnTo>
                  <a:lnTo>
                    <a:pt x="1059" y="1353"/>
                  </a:lnTo>
                  <a:lnTo>
                    <a:pt x="1060" y="739"/>
                  </a:lnTo>
                  <a:lnTo>
                    <a:pt x="1062" y="1031"/>
                  </a:lnTo>
                  <a:lnTo>
                    <a:pt x="1063" y="534"/>
                  </a:lnTo>
                  <a:lnTo>
                    <a:pt x="1064" y="977"/>
                  </a:lnTo>
                  <a:lnTo>
                    <a:pt x="1065" y="1000"/>
                  </a:lnTo>
                  <a:lnTo>
                    <a:pt x="1067" y="1251"/>
                  </a:lnTo>
                  <a:lnTo>
                    <a:pt x="1068" y="951"/>
                  </a:lnTo>
                  <a:lnTo>
                    <a:pt x="1069" y="584"/>
                  </a:lnTo>
                  <a:lnTo>
                    <a:pt x="1070" y="641"/>
                  </a:lnTo>
                  <a:lnTo>
                    <a:pt x="1071" y="1321"/>
                  </a:lnTo>
                  <a:lnTo>
                    <a:pt x="1073" y="478"/>
                  </a:lnTo>
                  <a:lnTo>
                    <a:pt x="1074" y="1042"/>
                  </a:lnTo>
                  <a:lnTo>
                    <a:pt x="1076" y="1198"/>
                  </a:lnTo>
                  <a:lnTo>
                    <a:pt x="1077" y="740"/>
                  </a:lnTo>
                  <a:lnTo>
                    <a:pt x="1078" y="1143"/>
                  </a:lnTo>
                  <a:lnTo>
                    <a:pt x="1079" y="983"/>
                  </a:lnTo>
                  <a:lnTo>
                    <a:pt x="1080" y="1034"/>
                  </a:lnTo>
                  <a:lnTo>
                    <a:pt x="1081" y="632"/>
                  </a:lnTo>
                  <a:lnTo>
                    <a:pt x="1082" y="1194"/>
                  </a:lnTo>
                  <a:lnTo>
                    <a:pt x="1084" y="877"/>
                  </a:lnTo>
                  <a:lnTo>
                    <a:pt x="1086" y="449"/>
                  </a:lnTo>
                  <a:lnTo>
                    <a:pt x="1087" y="1219"/>
                  </a:lnTo>
                  <a:lnTo>
                    <a:pt x="1088" y="1458"/>
                  </a:lnTo>
                  <a:lnTo>
                    <a:pt x="1089" y="972"/>
                  </a:lnTo>
                  <a:lnTo>
                    <a:pt x="1090" y="968"/>
                  </a:lnTo>
                  <a:lnTo>
                    <a:pt x="1091" y="1109"/>
                  </a:lnTo>
                  <a:lnTo>
                    <a:pt x="1092" y="899"/>
                  </a:lnTo>
                  <a:lnTo>
                    <a:pt x="1093" y="957"/>
                  </a:lnTo>
                  <a:lnTo>
                    <a:pt x="1096" y="1093"/>
                  </a:lnTo>
                  <a:lnTo>
                    <a:pt x="1097" y="1095"/>
                  </a:lnTo>
                  <a:lnTo>
                    <a:pt x="1098" y="1056"/>
                  </a:lnTo>
                  <a:lnTo>
                    <a:pt x="1099" y="769"/>
                  </a:lnTo>
                  <a:lnTo>
                    <a:pt x="1100" y="1011"/>
                  </a:lnTo>
                  <a:lnTo>
                    <a:pt x="1101" y="1391"/>
                  </a:lnTo>
                  <a:lnTo>
                    <a:pt x="1102" y="1029"/>
                  </a:lnTo>
                  <a:lnTo>
                    <a:pt x="1103" y="953"/>
                  </a:lnTo>
                  <a:lnTo>
                    <a:pt x="1105" y="1427"/>
                  </a:lnTo>
                  <a:lnTo>
                    <a:pt x="1107" y="944"/>
                  </a:lnTo>
                  <a:lnTo>
                    <a:pt x="1108" y="1209"/>
                  </a:lnTo>
                  <a:lnTo>
                    <a:pt x="1109" y="445"/>
                  </a:lnTo>
                  <a:lnTo>
                    <a:pt x="1110" y="1065"/>
                  </a:lnTo>
                  <a:lnTo>
                    <a:pt x="1111" y="867"/>
                  </a:lnTo>
                  <a:lnTo>
                    <a:pt x="1112" y="1509"/>
                  </a:lnTo>
                  <a:lnTo>
                    <a:pt x="1113" y="985"/>
                  </a:lnTo>
                  <a:lnTo>
                    <a:pt x="1115" y="922"/>
                  </a:lnTo>
                  <a:lnTo>
                    <a:pt x="1116" y="692"/>
                  </a:lnTo>
                  <a:lnTo>
                    <a:pt x="1117" y="1169"/>
                  </a:lnTo>
                  <a:lnTo>
                    <a:pt x="1119" y="810"/>
                  </a:lnTo>
                  <a:lnTo>
                    <a:pt x="1120" y="1295"/>
                  </a:lnTo>
                  <a:lnTo>
                    <a:pt x="1121" y="1612"/>
                  </a:lnTo>
                  <a:lnTo>
                    <a:pt x="1122" y="1024"/>
                  </a:lnTo>
                  <a:lnTo>
                    <a:pt x="1123" y="1119"/>
                  </a:lnTo>
                  <a:lnTo>
                    <a:pt x="1125" y="990"/>
                  </a:lnTo>
                  <a:lnTo>
                    <a:pt x="1126" y="704"/>
                  </a:lnTo>
                  <a:lnTo>
                    <a:pt x="1127" y="1043"/>
                  </a:lnTo>
                  <a:lnTo>
                    <a:pt x="1128" y="1483"/>
                  </a:lnTo>
                  <a:lnTo>
                    <a:pt x="1130" y="859"/>
                  </a:lnTo>
                  <a:lnTo>
                    <a:pt x="1131" y="886"/>
                  </a:lnTo>
                  <a:lnTo>
                    <a:pt x="1132" y="893"/>
                  </a:lnTo>
                  <a:lnTo>
                    <a:pt x="1134" y="703"/>
                  </a:lnTo>
                  <a:lnTo>
                    <a:pt x="1135" y="1069"/>
                  </a:lnTo>
                  <a:lnTo>
                    <a:pt x="1136" y="1140"/>
                  </a:lnTo>
                  <a:lnTo>
                    <a:pt x="1137" y="1676"/>
                  </a:lnTo>
                  <a:lnTo>
                    <a:pt x="1138" y="634"/>
                  </a:lnTo>
                  <a:lnTo>
                    <a:pt x="1139" y="1435"/>
                  </a:lnTo>
                  <a:lnTo>
                    <a:pt x="1141" y="801"/>
                  </a:lnTo>
                  <a:lnTo>
                    <a:pt x="1142" y="933"/>
                  </a:lnTo>
                  <a:lnTo>
                    <a:pt x="1144" y="903"/>
                  </a:lnTo>
                  <a:lnTo>
                    <a:pt x="1145" y="743"/>
                  </a:lnTo>
                  <a:lnTo>
                    <a:pt x="1146" y="982"/>
                  </a:lnTo>
                  <a:lnTo>
                    <a:pt x="1147" y="1238"/>
                  </a:lnTo>
                  <a:lnTo>
                    <a:pt x="1148" y="1063"/>
                  </a:lnTo>
                  <a:lnTo>
                    <a:pt x="1149" y="1068"/>
                  </a:lnTo>
                  <a:lnTo>
                    <a:pt x="1150" y="714"/>
                  </a:lnTo>
                  <a:lnTo>
                    <a:pt x="1152" y="668"/>
                  </a:lnTo>
                  <a:lnTo>
                    <a:pt x="1154" y="1163"/>
                  </a:lnTo>
                  <a:lnTo>
                    <a:pt x="1155" y="1380"/>
                  </a:lnTo>
                  <a:lnTo>
                    <a:pt x="1156" y="1153"/>
                  </a:lnTo>
                  <a:lnTo>
                    <a:pt x="1157" y="935"/>
                  </a:lnTo>
                  <a:lnTo>
                    <a:pt x="1158" y="1197"/>
                  </a:lnTo>
                  <a:lnTo>
                    <a:pt x="1159" y="1705"/>
                  </a:lnTo>
                  <a:lnTo>
                    <a:pt x="1160" y="1205"/>
                  </a:lnTo>
                  <a:lnTo>
                    <a:pt x="1161" y="1345"/>
                  </a:lnTo>
                  <a:lnTo>
                    <a:pt x="1164" y="971"/>
                  </a:lnTo>
                  <a:lnTo>
                    <a:pt x="1165" y="1207"/>
                  </a:lnTo>
                  <a:lnTo>
                    <a:pt x="1166" y="1401"/>
                  </a:lnTo>
                  <a:lnTo>
                    <a:pt x="1167" y="462"/>
                  </a:lnTo>
                  <a:lnTo>
                    <a:pt x="1168" y="1054"/>
                  </a:lnTo>
                  <a:lnTo>
                    <a:pt x="1169" y="1097"/>
                  </a:lnTo>
                  <a:lnTo>
                    <a:pt x="1170" y="719"/>
                  </a:lnTo>
                  <a:lnTo>
                    <a:pt x="1171" y="1172"/>
                  </a:lnTo>
                  <a:lnTo>
                    <a:pt x="1173" y="856"/>
                  </a:lnTo>
                  <a:lnTo>
                    <a:pt x="1174" y="1160"/>
                  </a:lnTo>
                  <a:lnTo>
                    <a:pt x="1176" y="836"/>
                  </a:lnTo>
                  <a:lnTo>
                    <a:pt x="1177" y="968"/>
                  </a:lnTo>
                  <a:lnTo>
                    <a:pt x="1178" y="950"/>
                  </a:lnTo>
                  <a:lnTo>
                    <a:pt x="1179" y="838"/>
                  </a:lnTo>
                  <a:lnTo>
                    <a:pt x="1180" y="721"/>
                  </a:lnTo>
                  <a:lnTo>
                    <a:pt x="1181" y="1433"/>
                  </a:lnTo>
                  <a:lnTo>
                    <a:pt x="1183" y="1717"/>
                  </a:lnTo>
                  <a:lnTo>
                    <a:pt x="1184" y="690"/>
                  </a:lnTo>
                  <a:lnTo>
                    <a:pt x="1185" y="991"/>
                  </a:lnTo>
                  <a:lnTo>
                    <a:pt x="1187" y="844"/>
                  </a:lnTo>
                  <a:lnTo>
                    <a:pt x="1188" y="1145"/>
                  </a:lnTo>
                  <a:lnTo>
                    <a:pt x="1189" y="1201"/>
                  </a:lnTo>
                  <a:lnTo>
                    <a:pt x="1190" y="1068"/>
                  </a:lnTo>
                  <a:lnTo>
                    <a:pt x="1192" y="1407"/>
                  </a:lnTo>
                  <a:lnTo>
                    <a:pt x="1193" y="1003"/>
                  </a:lnTo>
                  <a:lnTo>
                    <a:pt x="1194" y="674"/>
                  </a:lnTo>
                  <a:lnTo>
                    <a:pt x="1195" y="1220"/>
                  </a:lnTo>
                  <a:lnTo>
                    <a:pt x="1196" y="1318"/>
                  </a:lnTo>
                  <a:lnTo>
                    <a:pt x="1198" y="1092"/>
                  </a:lnTo>
                  <a:lnTo>
                    <a:pt x="1199" y="704"/>
                  </a:lnTo>
                  <a:lnTo>
                    <a:pt x="1200" y="1156"/>
                  </a:lnTo>
                  <a:lnTo>
                    <a:pt x="1202" y="636"/>
                  </a:lnTo>
                  <a:lnTo>
                    <a:pt x="1203" y="352"/>
                  </a:lnTo>
                  <a:lnTo>
                    <a:pt x="1204" y="944"/>
                  </a:lnTo>
                  <a:lnTo>
                    <a:pt x="1205" y="1455"/>
                  </a:lnTo>
                  <a:lnTo>
                    <a:pt x="1206" y="777"/>
                  </a:lnTo>
                  <a:lnTo>
                    <a:pt x="1207" y="1195"/>
                  </a:lnTo>
                  <a:lnTo>
                    <a:pt x="1209" y="817"/>
                  </a:lnTo>
                  <a:lnTo>
                    <a:pt x="1211" y="1157"/>
                  </a:lnTo>
                  <a:lnTo>
                    <a:pt x="1212" y="1031"/>
                  </a:lnTo>
                  <a:lnTo>
                    <a:pt x="1213" y="1216"/>
                  </a:lnTo>
                  <a:lnTo>
                    <a:pt x="1214" y="904"/>
                  </a:lnTo>
                  <a:lnTo>
                    <a:pt x="1215" y="661"/>
                  </a:lnTo>
                  <a:lnTo>
                    <a:pt x="1216" y="1273"/>
                  </a:lnTo>
                  <a:lnTo>
                    <a:pt x="1217" y="697"/>
                  </a:lnTo>
                  <a:lnTo>
                    <a:pt x="1218" y="1216"/>
                  </a:lnTo>
                  <a:lnTo>
                    <a:pt x="1221" y="1072"/>
                  </a:lnTo>
                  <a:lnTo>
                    <a:pt x="1222" y="1299"/>
                  </a:lnTo>
                  <a:lnTo>
                    <a:pt x="1223" y="862"/>
                  </a:lnTo>
                  <a:lnTo>
                    <a:pt x="1224" y="1148"/>
                  </a:lnTo>
                  <a:lnTo>
                    <a:pt x="1225" y="834"/>
                  </a:lnTo>
                  <a:lnTo>
                    <a:pt x="1226" y="973"/>
                  </a:lnTo>
                  <a:lnTo>
                    <a:pt x="1227" y="1083"/>
                  </a:lnTo>
                  <a:lnTo>
                    <a:pt x="1228" y="907"/>
                  </a:lnTo>
                  <a:lnTo>
                    <a:pt x="1229" y="1099"/>
                  </a:lnTo>
                  <a:lnTo>
                    <a:pt x="1232" y="785"/>
                  </a:lnTo>
                  <a:lnTo>
                    <a:pt x="1233" y="997"/>
                  </a:lnTo>
                  <a:lnTo>
                    <a:pt x="1234" y="1123"/>
                  </a:lnTo>
                  <a:lnTo>
                    <a:pt x="1235" y="886"/>
                  </a:lnTo>
                  <a:lnTo>
                    <a:pt x="1236" y="801"/>
                  </a:lnTo>
                  <a:lnTo>
                    <a:pt x="1237" y="1547"/>
                  </a:lnTo>
                  <a:lnTo>
                    <a:pt x="1238" y="1265"/>
                  </a:lnTo>
                  <a:lnTo>
                    <a:pt x="1240" y="1069"/>
                  </a:lnTo>
                  <a:lnTo>
                    <a:pt x="1241" y="794"/>
                  </a:lnTo>
                  <a:lnTo>
                    <a:pt x="1242" y="333"/>
                  </a:lnTo>
                  <a:lnTo>
                    <a:pt x="1244" y="1029"/>
                  </a:lnTo>
                  <a:lnTo>
                    <a:pt x="1245" y="810"/>
                  </a:lnTo>
                  <a:lnTo>
                    <a:pt x="1246" y="820"/>
                  </a:lnTo>
                  <a:lnTo>
                    <a:pt x="1247" y="1473"/>
                  </a:lnTo>
                  <a:lnTo>
                    <a:pt x="1248" y="1347"/>
                  </a:lnTo>
                  <a:lnTo>
                    <a:pt x="1250" y="1326"/>
                  </a:lnTo>
                  <a:lnTo>
                    <a:pt x="1251" y="550"/>
                  </a:lnTo>
                  <a:lnTo>
                    <a:pt x="1252" y="886"/>
                  </a:lnTo>
                  <a:lnTo>
                    <a:pt x="1253" y="1044"/>
                  </a:lnTo>
                  <a:lnTo>
                    <a:pt x="1255" y="914"/>
                  </a:lnTo>
                  <a:lnTo>
                    <a:pt x="1256" y="982"/>
                  </a:lnTo>
                  <a:lnTo>
                    <a:pt x="1257" y="899"/>
                  </a:lnTo>
                  <a:lnTo>
                    <a:pt x="1258" y="979"/>
                  </a:lnTo>
                  <a:lnTo>
                    <a:pt x="1260" y="779"/>
                  </a:lnTo>
                  <a:lnTo>
                    <a:pt x="1261" y="1462"/>
                  </a:lnTo>
                  <a:lnTo>
                    <a:pt x="1262" y="1394"/>
                  </a:lnTo>
                  <a:lnTo>
                    <a:pt x="1263" y="927"/>
                  </a:lnTo>
                  <a:lnTo>
                    <a:pt x="1264" y="1405"/>
                  </a:lnTo>
                  <a:lnTo>
                    <a:pt x="1266" y="888"/>
                  </a:lnTo>
                  <a:lnTo>
                    <a:pt x="1267" y="1328"/>
                  </a:lnTo>
                  <a:lnTo>
                    <a:pt x="1269" y="917"/>
                  </a:lnTo>
                  <a:lnTo>
                    <a:pt x="1270" y="1005"/>
                  </a:lnTo>
                  <a:lnTo>
                    <a:pt x="1271" y="1108"/>
                  </a:lnTo>
                  <a:lnTo>
                    <a:pt x="1272" y="1230"/>
                  </a:lnTo>
                  <a:lnTo>
                    <a:pt x="1273" y="855"/>
                  </a:lnTo>
                  <a:lnTo>
                    <a:pt x="1274" y="1328"/>
                  </a:lnTo>
                  <a:lnTo>
                    <a:pt x="1275" y="1150"/>
                  </a:lnTo>
                  <a:lnTo>
                    <a:pt x="1277" y="654"/>
                  </a:lnTo>
                  <a:lnTo>
                    <a:pt x="1279" y="986"/>
                  </a:lnTo>
                  <a:lnTo>
                    <a:pt x="1280" y="1387"/>
                  </a:lnTo>
                  <a:lnTo>
                    <a:pt x="1281" y="1542"/>
                  </a:lnTo>
                  <a:lnTo>
                    <a:pt x="1282" y="1327"/>
                  </a:lnTo>
                  <a:lnTo>
                    <a:pt x="1283" y="610"/>
                  </a:lnTo>
                  <a:lnTo>
                    <a:pt x="1284" y="1031"/>
                  </a:lnTo>
                  <a:lnTo>
                    <a:pt x="1285" y="907"/>
                  </a:lnTo>
                  <a:lnTo>
                    <a:pt x="1286" y="565"/>
                  </a:lnTo>
                  <a:lnTo>
                    <a:pt x="1289" y="561"/>
                  </a:lnTo>
                  <a:lnTo>
                    <a:pt x="1290" y="886"/>
                  </a:lnTo>
                  <a:lnTo>
                    <a:pt x="1291" y="894"/>
                  </a:lnTo>
                  <a:lnTo>
                    <a:pt x="1292" y="815"/>
                  </a:lnTo>
                  <a:lnTo>
                    <a:pt x="1293" y="1297"/>
                  </a:lnTo>
                  <a:lnTo>
                    <a:pt x="1294" y="1272"/>
                  </a:lnTo>
                  <a:lnTo>
                    <a:pt x="1295" y="819"/>
                  </a:lnTo>
                  <a:lnTo>
                    <a:pt x="1296" y="1007"/>
                  </a:lnTo>
                  <a:lnTo>
                    <a:pt x="1298" y="857"/>
                  </a:lnTo>
                  <a:lnTo>
                    <a:pt x="1299" y="1288"/>
                  </a:lnTo>
                  <a:lnTo>
                    <a:pt x="1301" y="1459"/>
                  </a:lnTo>
                  <a:lnTo>
                    <a:pt x="1302" y="845"/>
                  </a:lnTo>
                  <a:lnTo>
                    <a:pt x="1303" y="1140"/>
                  </a:lnTo>
                  <a:lnTo>
                    <a:pt x="1304" y="1390"/>
                  </a:lnTo>
                  <a:lnTo>
                    <a:pt x="1305" y="1441"/>
                  </a:lnTo>
                  <a:lnTo>
                    <a:pt x="1306" y="985"/>
                  </a:lnTo>
                  <a:lnTo>
                    <a:pt x="1308" y="991"/>
                  </a:lnTo>
                  <a:lnTo>
                    <a:pt x="1309" y="1091"/>
                  </a:lnTo>
                  <a:lnTo>
                    <a:pt x="1310" y="987"/>
                  </a:lnTo>
                  <a:lnTo>
                    <a:pt x="1312" y="921"/>
                  </a:lnTo>
                  <a:lnTo>
                    <a:pt x="1313" y="1004"/>
                  </a:lnTo>
                  <a:lnTo>
                    <a:pt x="1314" y="1192"/>
                  </a:lnTo>
                  <a:lnTo>
                    <a:pt x="1315" y="716"/>
                  </a:lnTo>
                  <a:lnTo>
                    <a:pt x="1316" y="1251"/>
                  </a:lnTo>
                  <a:lnTo>
                    <a:pt x="1318" y="743"/>
                  </a:lnTo>
                  <a:lnTo>
                    <a:pt x="1319" y="1005"/>
                  </a:lnTo>
                  <a:lnTo>
                    <a:pt x="1320" y="436"/>
                  </a:lnTo>
                  <a:lnTo>
                    <a:pt x="1321" y="1158"/>
                  </a:lnTo>
                  <a:lnTo>
                    <a:pt x="1323" y="857"/>
                  </a:lnTo>
                  <a:lnTo>
                    <a:pt x="1324" y="789"/>
                  </a:lnTo>
                  <a:lnTo>
                    <a:pt x="1325" y="476"/>
                  </a:lnTo>
                  <a:lnTo>
                    <a:pt x="1327" y="853"/>
                  </a:lnTo>
                  <a:lnTo>
                    <a:pt x="1328" y="1219"/>
                  </a:lnTo>
                  <a:lnTo>
                    <a:pt x="1329" y="1357"/>
                  </a:lnTo>
                  <a:lnTo>
                    <a:pt x="1330" y="648"/>
                  </a:lnTo>
                  <a:lnTo>
                    <a:pt x="1331" y="1583"/>
                  </a:lnTo>
                  <a:lnTo>
                    <a:pt x="1332" y="786"/>
                  </a:lnTo>
                  <a:lnTo>
                    <a:pt x="1334" y="615"/>
                  </a:lnTo>
                  <a:lnTo>
                    <a:pt x="1335" y="685"/>
                  </a:lnTo>
                  <a:lnTo>
                    <a:pt x="1337" y="1378"/>
                  </a:lnTo>
                  <a:lnTo>
                    <a:pt x="1338" y="1132"/>
                  </a:lnTo>
                  <a:lnTo>
                    <a:pt x="1339" y="1237"/>
                  </a:lnTo>
                  <a:lnTo>
                    <a:pt x="1340" y="1024"/>
                  </a:lnTo>
                  <a:lnTo>
                    <a:pt x="1341" y="765"/>
                  </a:lnTo>
                  <a:lnTo>
                    <a:pt x="1342" y="1013"/>
                  </a:lnTo>
                  <a:lnTo>
                    <a:pt x="1343" y="759"/>
                  </a:lnTo>
                  <a:lnTo>
                    <a:pt x="1345" y="1221"/>
                  </a:lnTo>
                  <a:lnTo>
                    <a:pt x="1347" y="1196"/>
                  </a:lnTo>
                  <a:lnTo>
                    <a:pt x="1348" y="1121"/>
                  </a:lnTo>
                  <a:lnTo>
                    <a:pt x="1349" y="892"/>
                  </a:lnTo>
                  <a:lnTo>
                    <a:pt x="1350" y="1091"/>
                  </a:lnTo>
                  <a:lnTo>
                    <a:pt x="1351" y="990"/>
                  </a:lnTo>
                  <a:lnTo>
                    <a:pt x="1352" y="1215"/>
                  </a:lnTo>
                  <a:lnTo>
                    <a:pt x="1353" y="654"/>
                  </a:lnTo>
                  <a:lnTo>
                    <a:pt x="1354" y="1021"/>
                  </a:lnTo>
                  <a:lnTo>
                    <a:pt x="1357" y="1177"/>
                  </a:lnTo>
                  <a:lnTo>
                    <a:pt x="1358" y="629"/>
                  </a:lnTo>
                  <a:lnTo>
                    <a:pt x="1359" y="1062"/>
                  </a:lnTo>
                  <a:lnTo>
                    <a:pt x="1360" y="697"/>
                  </a:lnTo>
                  <a:lnTo>
                    <a:pt x="1361" y="536"/>
                  </a:lnTo>
                  <a:lnTo>
                    <a:pt x="1362" y="1775"/>
                  </a:lnTo>
                  <a:lnTo>
                    <a:pt x="1363" y="581"/>
                  </a:lnTo>
                  <a:lnTo>
                    <a:pt x="1364" y="1390"/>
                  </a:lnTo>
                  <a:lnTo>
                    <a:pt x="1366" y="1149"/>
                  </a:lnTo>
                  <a:lnTo>
                    <a:pt x="1367" y="720"/>
                  </a:lnTo>
                  <a:lnTo>
                    <a:pt x="1369" y="983"/>
                  </a:lnTo>
                  <a:lnTo>
                    <a:pt x="1370" y="1172"/>
                  </a:lnTo>
                  <a:lnTo>
                    <a:pt x="1371" y="1113"/>
                  </a:lnTo>
                  <a:lnTo>
                    <a:pt x="1372" y="1265"/>
                  </a:lnTo>
                  <a:lnTo>
                    <a:pt x="1373" y="927"/>
                  </a:lnTo>
                  <a:lnTo>
                    <a:pt x="1374" y="808"/>
                  </a:lnTo>
                  <a:lnTo>
                    <a:pt x="1376" y="903"/>
                  </a:lnTo>
                  <a:lnTo>
                    <a:pt x="1377" y="370"/>
                  </a:lnTo>
                  <a:lnTo>
                    <a:pt x="1378" y="841"/>
                  </a:lnTo>
                  <a:lnTo>
                    <a:pt x="1380" y="968"/>
                  </a:lnTo>
                  <a:lnTo>
                    <a:pt x="1381" y="403"/>
                  </a:lnTo>
                  <a:lnTo>
                    <a:pt x="1382" y="1089"/>
                  </a:lnTo>
                  <a:lnTo>
                    <a:pt x="1383" y="1137"/>
                  </a:lnTo>
                  <a:lnTo>
                    <a:pt x="1385" y="1039"/>
                  </a:lnTo>
                  <a:lnTo>
                    <a:pt x="1386" y="870"/>
                  </a:lnTo>
                  <a:lnTo>
                    <a:pt x="1387" y="899"/>
                  </a:lnTo>
                  <a:lnTo>
                    <a:pt x="1388" y="1286"/>
                  </a:lnTo>
                  <a:lnTo>
                    <a:pt x="1389" y="551"/>
                  </a:lnTo>
                  <a:lnTo>
                    <a:pt x="1391" y="925"/>
                  </a:lnTo>
                  <a:lnTo>
                    <a:pt x="1392" y="1431"/>
                  </a:lnTo>
                  <a:lnTo>
                    <a:pt x="1393" y="1329"/>
                  </a:lnTo>
                  <a:lnTo>
                    <a:pt x="1395" y="894"/>
                  </a:lnTo>
                  <a:lnTo>
                    <a:pt x="1396" y="1470"/>
                  </a:lnTo>
                  <a:lnTo>
                    <a:pt x="1397" y="582"/>
                  </a:lnTo>
                  <a:lnTo>
                    <a:pt x="1398" y="1130"/>
                  </a:lnTo>
                  <a:lnTo>
                    <a:pt x="1399" y="945"/>
                  </a:lnTo>
                  <a:lnTo>
                    <a:pt x="1400" y="1251"/>
                  </a:lnTo>
                  <a:lnTo>
                    <a:pt x="1402" y="1816"/>
                  </a:lnTo>
                  <a:lnTo>
                    <a:pt x="1403" y="634"/>
                  </a:lnTo>
                  <a:lnTo>
                    <a:pt x="1405" y="1531"/>
                  </a:lnTo>
                  <a:lnTo>
                    <a:pt x="1406" y="683"/>
                  </a:lnTo>
                  <a:lnTo>
                    <a:pt x="1407" y="1210"/>
                  </a:lnTo>
                  <a:lnTo>
                    <a:pt x="1408" y="1128"/>
                  </a:lnTo>
                  <a:lnTo>
                    <a:pt x="1409" y="394"/>
                  </a:lnTo>
                  <a:lnTo>
                    <a:pt x="1410" y="1350"/>
                  </a:lnTo>
                  <a:lnTo>
                    <a:pt x="1411" y="987"/>
                  </a:lnTo>
                  <a:lnTo>
                    <a:pt x="1414" y="1000"/>
                  </a:lnTo>
                  <a:lnTo>
                    <a:pt x="1415" y="1082"/>
                  </a:lnTo>
                  <a:lnTo>
                    <a:pt x="1416" y="845"/>
                  </a:lnTo>
                  <a:lnTo>
                    <a:pt x="1417" y="1061"/>
                  </a:lnTo>
                  <a:lnTo>
                    <a:pt x="1418" y="1219"/>
                  </a:lnTo>
                  <a:lnTo>
                    <a:pt x="1419" y="1422"/>
                  </a:lnTo>
                  <a:lnTo>
                    <a:pt x="1420" y="473"/>
                  </a:lnTo>
                  <a:lnTo>
                    <a:pt x="1421" y="791"/>
                  </a:lnTo>
                  <a:lnTo>
                    <a:pt x="1422" y="1317"/>
                  </a:lnTo>
                  <a:lnTo>
                    <a:pt x="1424" y="751"/>
                  </a:lnTo>
                  <a:lnTo>
                    <a:pt x="1426" y="1093"/>
                  </a:lnTo>
                  <a:lnTo>
                    <a:pt x="1427" y="817"/>
                  </a:lnTo>
                  <a:lnTo>
                    <a:pt x="1428" y="1249"/>
                  </a:lnTo>
                  <a:lnTo>
                    <a:pt x="1429" y="1088"/>
                  </a:lnTo>
                  <a:lnTo>
                    <a:pt x="1430" y="912"/>
                  </a:lnTo>
                  <a:lnTo>
                    <a:pt x="1431" y="699"/>
                  </a:lnTo>
                  <a:lnTo>
                    <a:pt x="1432" y="1063"/>
                  </a:lnTo>
                  <a:lnTo>
                    <a:pt x="1434" y="745"/>
                  </a:lnTo>
                  <a:lnTo>
                    <a:pt x="1435" y="682"/>
                  </a:lnTo>
                  <a:lnTo>
                    <a:pt x="1437" y="1131"/>
                  </a:lnTo>
                  <a:lnTo>
                    <a:pt x="1438" y="931"/>
                  </a:lnTo>
                  <a:lnTo>
                    <a:pt x="1439" y="68"/>
                  </a:lnTo>
                  <a:lnTo>
                    <a:pt x="1440" y="649"/>
                  </a:lnTo>
                  <a:lnTo>
                    <a:pt x="1441" y="835"/>
                  </a:lnTo>
                  <a:lnTo>
                    <a:pt x="1443" y="766"/>
                  </a:lnTo>
                  <a:lnTo>
                    <a:pt x="1444" y="1456"/>
                  </a:lnTo>
                  <a:lnTo>
                    <a:pt x="1445" y="835"/>
                  </a:lnTo>
                  <a:lnTo>
                    <a:pt x="1446" y="1224"/>
                  </a:lnTo>
                  <a:lnTo>
                    <a:pt x="1448" y="1119"/>
                  </a:lnTo>
                  <a:lnTo>
                    <a:pt x="1449" y="899"/>
                  </a:lnTo>
                  <a:lnTo>
                    <a:pt x="1450" y="1005"/>
                  </a:lnTo>
                  <a:lnTo>
                    <a:pt x="1451" y="1292"/>
                  </a:lnTo>
                  <a:lnTo>
                    <a:pt x="1453" y="1100"/>
                  </a:lnTo>
                  <a:lnTo>
                    <a:pt x="1454" y="1118"/>
                  </a:lnTo>
                  <a:lnTo>
                    <a:pt x="1455" y="1128"/>
                  </a:lnTo>
                  <a:lnTo>
                    <a:pt x="1456" y="670"/>
                  </a:lnTo>
                  <a:lnTo>
                    <a:pt x="1457" y="1471"/>
                  </a:lnTo>
                  <a:lnTo>
                    <a:pt x="1459" y="1411"/>
                  </a:lnTo>
                  <a:lnTo>
                    <a:pt x="1460" y="1150"/>
                  </a:lnTo>
                  <a:lnTo>
                    <a:pt x="1462" y="951"/>
                  </a:lnTo>
                  <a:lnTo>
                    <a:pt x="1463" y="1007"/>
                  </a:lnTo>
                  <a:lnTo>
                    <a:pt x="1464" y="916"/>
                  </a:lnTo>
                  <a:lnTo>
                    <a:pt x="1465" y="1285"/>
                  </a:lnTo>
                  <a:lnTo>
                    <a:pt x="1466" y="728"/>
                  </a:lnTo>
                  <a:lnTo>
                    <a:pt x="1467" y="267"/>
                  </a:lnTo>
                  <a:lnTo>
                    <a:pt x="1468" y="1609"/>
                  </a:lnTo>
                  <a:lnTo>
                    <a:pt x="1470" y="1011"/>
                  </a:lnTo>
                  <a:lnTo>
                    <a:pt x="1472" y="1067"/>
                  </a:lnTo>
                  <a:lnTo>
                    <a:pt x="1473" y="811"/>
                  </a:lnTo>
                  <a:lnTo>
                    <a:pt x="1474" y="1304"/>
                  </a:lnTo>
                  <a:lnTo>
                    <a:pt x="1475" y="1264"/>
                  </a:lnTo>
                  <a:lnTo>
                    <a:pt x="1476" y="621"/>
                  </a:lnTo>
                  <a:lnTo>
                    <a:pt x="1477" y="1387"/>
                  </a:lnTo>
                  <a:lnTo>
                    <a:pt x="1478" y="1113"/>
                  </a:lnTo>
                  <a:lnTo>
                    <a:pt x="1479" y="1157"/>
                  </a:lnTo>
                  <a:lnTo>
                    <a:pt x="1482" y="606"/>
                  </a:lnTo>
                  <a:lnTo>
                    <a:pt x="1483" y="860"/>
                  </a:lnTo>
                  <a:lnTo>
                    <a:pt x="1484" y="1517"/>
                  </a:lnTo>
                  <a:lnTo>
                    <a:pt x="1485" y="1140"/>
                  </a:lnTo>
                  <a:lnTo>
                    <a:pt x="1486" y="873"/>
                  </a:lnTo>
                  <a:lnTo>
                    <a:pt x="1487" y="916"/>
                  </a:lnTo>
                  <a:lnTo>
                    <a:pt x="1488" y="774"/>
                  </a:lnTo>
                  <a:lnTo>
                    <a:pt x="1489" y="1409"/>
                  </a:lnTo>
                  <a:lnTo>
                    <a:pt x="1491" y="951"/>
                  </a:lnTo>
                  <a:lnTo>
                    <a:pt x="1492" y="1024"/>
                  </a:lnTo>
                  <a:lnTo>
                    <a:pt x="1494" y="1378"/>
                  </a:lnTo>
                  <a:lnTo>
                    <a:pt x="1495" y="864"/>
                  </a:lnTo>
                  <a:lnTo>
                    <a:pt x="1496" y="937"/>
                  </a:lnTo>
                  <a:lnTo>
                    <a:pt x="1497" y="605"/>
                  </a:lnTo>
                  <a:lnTo>
                    <a:pt x="1498" y="867"/>
                  </a:lnTo>
                  <a:lnTo>
                    <a:pt x="1499" y="685"/>
                  </a:lnTo>
                  <a:lnTo>
                    <a:pt x="1501" y="1103"/>
                  </a:lnTo>
                  <a:lnTo>
                    <a:pt x="1502" y="1270"/>
                  </a:lnTo>
                  <a:lnTo>
                    <a:pt x="1503" y="916"/>
                  </a:lnTo>
                  <a:lnTo>
                    <a:pt x="1505" y="780"/>
                  </a:lnTo>
                  <a:lnTo>
                    <a:pt x="1506" y="747"/>
                  </a:lnTo>
                  <a:lnTo>
                    <a:pt x="1507" y="1009"/>
                  </a:lnTo>
                  <a:lnTo>
                    <a:pt x="1508" y="1137"/>
                  </a:lnTo>
                  <a:lnTo>
                    <a:pt x="1509" y="1077"/>
                  </a:lnTo>
                  <a:lnTo>
                    <a:pt x="1511" y="645"/>
                  </a:lnTo>
                  <a:lnTo>
                    <a:pt x="1512" y="781"/>
                  </a:lnTo>
                  <a:lnTo>
                    <a:pt x="1513" y="1187"/>
                  </a:lnTo>
                  <a:lnTo>
                    <a:pt x="1514" y="1010"/>
                  </a:lnTo>
                  <a:lnTo>
                    <a:pt x="1516" y="1306"/>
                  </a:lnTo>
                  <a:lnTo>
                    <a:pt x="1517" y="1385"/>
                  </a:lnTo>
                  <a:lnTo>
                    <a:pt x="1518" y="1005"/>
                  </a:lnTo>
                  <a:lnTo>
                    <a:pt x="1520" y="875"/>
                  </a:lnTo>
                  <a:lnTo>
                    <a:pt x="1521" y="1033"/>
                  </a:lnTo>
                  <a:lnTo>
                    <a:pt x="1522" y="759"/>
                  </a:lnTo>
                  <a:lnTo>
                    <a:pt x="1523" y="1521"/>
                  </a:lnTo>
                  <a:lnTo>
                    <a:pt x="1524" y="813"/>
                  </a:lnTo>
                  <a:lnTo>
                    <a:pt x="1525" y="844"/>
                  </a:lnTo>
                  <a:lnTo>
                    <a:pt x="1527" y="1084"/>
                  </a:lnTo>
                  <a:lnTo>
                    <a:pt x="1528" y="1275"/>
                  </a:lnTo>
                  <a:lnTo>
                    <a:pt x="1530" y="750"/>
                  </a:lnTo>
                  <a:lnTo>
                    <a:pt x="1531" y="977"/>
                  </a:lnTo>
                  <a:lnTo>
                    <a:pt x="1532" y="811"/>
                  </a:lnTo>
                  <a:lnTo>
                    <a:pt x="1533" y="899"/>
                  </a:lnTo>
                  <a:lnTo>
                    <a:pt x="1534" y="993"/>
                  </a:lnTo>
                  <a:lnTo>
                    <a:pt x="1535" y="971"/>
                  </a:lnTo>
                  <a:lnTo>
                    <a:pt x="1536" y="1090"/>
                  </a:lnTo>
                  <a:lnTo>
                    <a:pt x="1538" y="839"/>
                  </a:lnTo>
                  <a:lnTo>
                    <a:pt x="1540" y="888"/>
                  </a:lnTo>
                  <a:lnTo>
                    <a:pt x="1541" y="585"/>
                  </a:lnTo>
                  <a:lnTo>
                    <a:pt x="1542" y="1528"/>
                  </a:lnTo>
                  <a:lnTo>
                    <a:pt x="1543" y="931"/>
                  </a:lnTo>
                  <a:lnTo>
                    <a:pt x="1544" y="1300"/>
                  </a:lnTo>
                  <a:lnTo>
                    <a:pt x="1545" y="1306"/>
                  </a:lnTo>
                  <a:lnTo>
                    <a:pt x="1546" y="641"/>
                  </a:lnTo>
                  <a:lnTo>
                    <a:pt x="1547" y="1391"/>
                  </a:lnTo>
                  <a:lnTo>
                    <a:pt x="1549" y="1058"/>
                  </a:lnTo>
                  <a:lnTo>
                    <a:pt x="1551" y="876"/>
                  </a:lnTo>
                  <a:lnTo>
                    <a:pt x="1552" y="1346"/>
                  </a:lnTo>
                  <a:lnTo>
                    <a:pt x="1553" y="1000"/>
                  </a:lnTo>
                  <a:lnTo>
                    <a:pt x="1554" y="424"/>
                  </a:lnTo>
                  <a:lnTo>
                    <a:pt x="1555" y="660"/>
                  </a:lnTo>
                  <a:lnTo>
                    <a:pt x="1556" y="1005"/>
                  </a:lnTo>
                  <a:lnTo>
                    <a:pt x="1557" y="610"/>
                  </a:lnTo>
                  <a:lnTo>
                    <a:pt x="1559" y="265"/>
                  </a:lnTo>
                  <a:lnTo>
                    <a:pt x="1560" y="782"/>
                  </a:lnTo>
                  <a:lnTo>
                    <a:pt x="1562" y="1267"/>
                  </a:lnTo>
                  <a:lnTo>
                    <a:pt x="1563" y="1548"/>
                  </a:lnTo>
                  <a:lnTo>
                    <a:pt x="1564" y="927"/>
                  </a:lnTo>
                  <a:lnTo>
                    <a:pt x="1565" y="985"/>
                  </a:lnTo>
                  <a:lnTo>
                    <a:pt x="1566" y="1169"/>
                  </a:lnTo>
                  <a:lnTo>
                    <a:pt x="1567" y="828"/>
                  </a:lnTo>
                  <a:lnTo>
                    <a:pt x="1569" y="563"/>
                  </a:lnTo>
                  <a:lnTo>
                    <a:pt x="1570" y="1067"/>
                  </a:lnTo>
                  <a:lnTo>
                    <a:pt x="1571" y="960"/>
                  </a:lnTo>
                  <a:lnTo>
                    <a:pt x="1573" y="848"/>
                  </a:lnTo>
                  <a:lnTo>
                    <a:pt x="1574" y="1094"/>
                  </a:lnTo>
                  <a:lnTo>
                    <a:pt x="1575" y="514"/>
                  </a:lnTo>
                  <a:lnTo>
                    <a:pt x="1576" y="1221"/>
                  </a:lnTo>
                  <a:lnTo>
                    <a:pt x="1578" y="983"/>
                  </a:lnTo>
                  <a:lnTo>
                    <a:pt x="1579" y="563"/>
                  </a:lnTo>
                  <a:lnTo>
                    <a:pt x="1580" y="1392"/>
                  </a:lnTo>
                  <a:lnTo>
                    <a:pt x="1581" y="1214"/>
                  </a:lnTo>
                  <a:lnTo>
                    <a:pt x="1582" y="1339"/>
                  </a:lnTo>
                  <a:lnTo>
                    <a:pt x="1584" y="1220"/>
                  </a:lnTo>
                  <a:lnTo>
                    <a:pt x="1585" y="986"/>
                  </a:lnTo>
                  <a:lnTo>
                    <a:pt x="1586" y="790"/>
                  </a:lnTo>
                  <a:lnTo>
                    <a:pt x="1588" y="1162"/>
                  </a:lnTo>
                  <a:lnTo>
                    <a:pt x="1589" y="1098"/>
                  </a:lnTo>
                  <a:lnTo>
                    <a:pt x="1590" y="1532"/>
                  </a:lnTo>
                  <a:lnTo>
                    <a:pt x="1591" y="1087"/>
                  </a:lnTo>
                  <a:lnTo>
                    <a:pt x="1592" y="1091"/>
                  </a:lnTo>
                  <a:lnTo>
                    <a:pt x="1593" y="1319"/>
                  </a:lnTo>
                  <a:lnTo>
                    <a:pt x="1595" y="710"/>
                  </a:lnTo>
                  <a:lnTo>
                    <a:pt x="1596" y="874"/>
                  </a:lnTo>
                  <a:lnTo>
                    <a:pt x="1598" y="882"/>
                  </a:lnTo>
                  <a:lnTo>
                    <a:pt x="1599" y="1696"/>
                  </a:lnTo>
                  <a:lnTo>
                    <a:pt x="1600" y="820"/>
                  </a:lnTo>
                  <a:lnTo>
                    <a:pt x="1601" y="965"/>
                  </a:lnTo>
                  <a:lnTo>
                    <a:pt x="1602" y="877"/>
                  </a:lnTo>
                  <a:lnTo>
                    <a:pt x="1603" y="1373"/>
                  </a:lnTo>
                  <a:lnTo>
                    <a:pt x="1604" y="833"/>
                  </a:lnTo>
                  <a:lnTo>
                    <a:pt x="1607" y="888"/>
                  </a:lnTo>
                  <a:lnTo>
                    <a:pt x="1608" y="1136"/>
                  </a:lnTo>
                  <a:lnTo>
                    <a:pt x="1609" y="1019"/>
                  </a:lnTo>
                  <a:lnTo>
                    <a:pt x="1610" y="943"/>
                  </a:lnTo>
                  <a:lnTo>
                    <a:pt x="1611" y="1132"/>
                  </a:lnTo>
                  <a:lnTo>
                    <a:pt x="1612" y="799"/>
                  </a:lnTo>
                  <a:lnTo>
                    <a:pt x="1613" y="376"/>
                  </a:lnTo>
                  <a:lnTo>
                    <a:pt x="1614" y="338"/>
                  </a:lnTo>
                  <a:lnTo>
                    <a:pt x="1615" y="951"/>
                  </a:lnTo>
                  <a:lnTo>
                    <a:pt x="1617" y="979"/>
                  </a:lnTo>
                  <a:lnTo>
                    <a:pt x="1619" y="961"/>
                  </a:lnTo>
                  <a:lnTo>
                    <a:pt x="1620" y="1151"/>
                  </a:lnTo>
                  <a:lnTo>
                    <a:pt x="1621" y="1215"/>
                  </a:lnTo>
                  <a:lnTo>
                    <a:pt x="1622" y="1146"/>
                  </a:lnTo>
                  <a:lnTo>
                    <a:pt x="1623" y="602"/>
                  </a:lnTo>
                  <a:lnTo>
                    <a:pt x="1624" y="952"/>
                  </a:lnTo>
                  <a:lnTo>
                    <a:pt x="1625" y="1127"/>
                  </a:lnTo>
                  <a:lnTo>
                    <a:pt x="1627" y="1186"/>
                  </a:lnTo>
                  <a:lnTo>
                    <a:pt x="1628" y="915"/>
                  </a:lnTo>
                  <a:lnTo>
                    <a:pt x="1630" y="1093"/>
                  </a:lnTo>
                  <a:lnTo>
                    <a:pt x="1631" y="1250"/>
                  </a:lnTo>
                  <a:lnTo>
                    <a:pt x="1632" y="631"/>
                  </a:lnTo>
                  <a:lnTo>
                    <a:pt x="1633" y="1168"/>
                  </a:lnTo>
                  <a:lnTo>
                    <a:pt x="1634" y="1061"/>
                  </a:lnTo>
                  <a:lnTo>
                    <a:pt x="1636" y="1007"/>
                  </a:lnTo>
                  <a:lnTo>
                    <a:pt x="1637" y="941"/>
                  </a:lnTo>
                  <a:lnTo>
                    <a:pt x="1638" y="1005"/>
                  </a:lnTo>
                  <a:lnTo>
                    <a:pt x="1639" y="892"/>
                  </a:lnTo>
                  <a:lnTo>
                    <a:pt x="1641" y="1265"/>
                  </a:lnTo>
                  <a:lnTo>
                    <a:pt x="1642" y="1007"/>
                  </a:lnTo>
                  <a:lnTo>
                    <a:pt x="1643" y="1109"/>
                  </a:lnTo>
                  <a:lnTo>
                    <a:pt x="1644" y="1577"/>
                  </a:lnTo>
                  <a:lnTo>
                    <a:pt x="1646" y="841"/>
                  </a:lnTo>
                  <a:lnTo>
                    <a:pt x="1647" y="983"/>
                  </a:lnTo>
                  <a:lnTo>
                    <a:pt x="1648" y="1147"/>
                  </a:lnTo>
                  <a:lnTo>
                    <a:pt x="1649" y="991"/>
                  </a:lnTo>
                  <a:lnTo>
                    <a:pt x="1650" y="694"/>
                  </a:lnTo>
                  <a:lnTo>
                    <a:pt x="1652" y="929"/>
                  </a:lnTo>
                  <a:lnTo>
                    <a:pt x="1653" y="527"/>
                  </a:lnTo>
                  <a:lnTo>
                    <a:pt x="1654" y="623"/>
                  </a:lnTo>
                  <a:lnTo>
                    <a:pt x="1656" y="1169"/>
                  </a:lnTo>
                  <a:lnTo>
                    <a:pt x="1657" y="1269"/>
                  </a:lnTo>
                  <a:lnTo>
                    <a:pt x="1658" y="869"/>
                  </a:lnTo>
                  <a:lnTo>
                    <a:pt x="1659" y="781"/>
                  </a:lnTo>
                  <a:lnTo>
                    <a:pt x="1660" y="984"/>
                  </a:lnTo>
                  <a:lnTo>
                    <a:pt x="1661" y="1140"/>
                  </a:lnTo>
                  <a:lnTo>
                    <a:pt x="1663" y="1120"/>
                  </a:lnTo>
                  <a:lnTo>
                    <a:pt x="1665" y="1259"/>
                  </a:lnTo>
                  <a:lnTo>
                    <a:pt x="1666" y="1293"/>
                  </a:lnTo>
                  <a:lnTo>
                    <a:pt x="1667" y="1073"/>
                  </a:lnTo>
                  <a:lnTo>
                    <a:pt x="1668" y="1050"/>
                  </a:lnTo>
                  <a:lnTo>
                    <a:pt x="1669" y="1546"/>
                  </a:lnTo>
                  <a:lnTo>
                    <a:pt x="1670" y="1532"/>
                  </a:lnTo>
                  <a:lnTo>
                    <a:pt x="1671" y="419"/>
                  </a:lnTo>
                  <a:lnTo>
                    <a:pt x="1672" y="813"/>
                  </a:lnTo>
                  <a:lnTo>
                    <a:pt x="1673" y="1336"/>
                  </a:lnTo>
                  <a:lnTo>
                    <a:pt x="1676" y="1610"/>
                  </a:lnTo>
                  <a:lnTo>
                    <a:pt x="1677" y="740"/>
                  </a:lnTo>
                  <a:lnTo>
                    <a:pt x="1678" y="740"/>
                  </a:lnTo>
                  <a:lnTo>
                    <a:pt x="1679" y="1209"/>
                  </a:lnTo>
                  <a:lnTo>
                    <a:pt x="1680" y="1216"/>
                  </a:lnTo>
                  <a:lnTo>
                    <a:pt x="1681" y="748"/>
                  </a:lnTo>
                  <a:lnTo>
                    <a:pt x="1682" y="799"/>
                  </a:lnTo>
                  <a:lnTo>
                    <a:pt x="1683" y="1360"/>
                  </a:lnTo>
                  <a:lnTo>
                    <a:pt x="1685" y="1295"/>
                  </a:lnTo>
                  <a:lnTo>
                    <a:pt x="1687" y="787"/>
                  </a:lnTo>
                  <a:lnTo>
                    <a:pt x="1688" y="1168"/>
                  </a:lnTo>
                  <a:lnTo>
                    <a:pt x="1689" y="985"/>
                  </a:lnTo>
                  <a:lnTo>
                    <a:pt x="1690" y="1659"/>
                  </a:lnTo>
                  <a:lnTo>
                    <a:pt x="1691" y="1509"/>
                  </a:lnTo>
                  <a:lnTo>
                    <a:pt x="1692" y="798"/>
                  </a:lnTo>
                  <a:lnTo>
                    <a:pt x="1694" y="1192"/>
                  </a:lnTo>
                  <a:lnTo>
                    <a:pt x="1695" y="830"/>
                  </a:lnTo>
                  <a:lnTo>
                    <a:pt x="1696" y="1179"/>
                  </a:lnTo>
                  <a:lnTo>
                    <a:pt x="1698" y="384"/>
                  </a:lnTo>
                  <a:lnTo>
                    <a:pt x="1699" y="1171"/>
                  </a:lnTo>
                  <a:lnTo>
                    <a:pt x="1700" y="1293"/>
                  </a:lnTo>
                  <a:lnTo>
                    <a:pt x="1701" y="845"/>
                  </a:lnTo>
                  <a:lnTo>
                    <a:pt x="1702" y="1423"/>
                  </a:lnTo>
                  <a:lnTo>
                    <a:pt x="1704" y="821"/>
                  </a:lnTo>
                  <a:lnTo>
                    <a:pt x="1705" y="975"/>
                  </a:lnTo>
                  <a:lnTo>
                    <a:pt x="1706" y="630"/>
                  </a:lnTo>
                  <a:lnTo>
                    <a:pt x="1707" y="1305"/>
                  </a:lnTo>
                  <a:lnTo>
                    <a:pt x="1709" y="931"/>
                  </a:lnTo>
                  <a:lnTo>
                    <a:pt x="1710" y="1133"/>
                  </a:lnTo>
                  <a:lnTo>
                    <a:pt x="1711" y="742"/>
                  </a:lnTo>
                  <a:lnTo>
                    <a:pt x="1713" y="707"/>
                  </a:lnTo>
                  <a:lnTo>
                    <a:pt x="1714" y="677"/>
                  </a:lnTo>
                  <a:lnTo>
                    <a:pt x="1715" y="966"/>
                  </a:lnTo>
                  <a:lnTo>
                    <a:pt x="1716" y="1081"/>
                  </a:lnTo>
                  <a:lnTo>
                    <a:pt x="1717" y="1343"/>
                  </a:lnTo>
                  <a:lnTo>
                    <a:pt x="1718" y="1155"/>
                  </a:lnTo>
                  <a:lnTo>
                    <a:pt x="1720" y="924"/>
                  </a:lnTo>
                  <a:lnTo>
                    <a:pt x="1721" y="1035"/>
                  </a:lnTo>
                  <a:lnTo>
                    <a:pt x="1723" y="625"/>
                  </a:lnTo>
                  <a:lnTo>
                    <a:pt x="1724" y="1396"/>
                  </a:lnTo>
                  <a:lnTo>
                    <a:pt x="1725" y="1075"/>
                  </a:lnTo>
                  <a:lnTo>
                    <a:pt x="1726" y="1430"/>
                  </a:lnTo>
                  <a:lnTo>
                    <a:pt x="1727" y="1261"/>
                  </a:lnTo>
                  <a:lnTo>
                    <a:pt x="1728" y="1357"/>
                  </a:lnTo>
                  <a:lnTo>
                    <a:pt x="1729" y="1375"/>
                  </a:lnTo>
                  <a:lnTo>
                    <a:pt x="1731" y="840"/>
                  </a:lnTo>
                  <a:lnTo>
                    <a:pt x="1733" y="964"/>
                  </a:lnTo>
                  <a:lnTo>
                    <a:pt x="1734" y="1032"/>
                  </a:lnTo>
                  <a:lnTo>
                    <a:pt x="1735" y="1019"/>
                  </a:lnTo>
                  <a:lnTo>
                    <a:pt x="1736" y="1011"/>
                  </a:lnTo>
                  <a:lnTo>
                    <a:pt x="1737" y="1041"/>
                  </a:lnTo>
                  <a:lnTo>
                    <a:pt x="1738" y="752"/>
                  </a:lnTo>
                  <a:lnTo>
                    <a:pt x="1739" y="1137"/>
                  </a:lnTo>
                  <a:lnTo>
                    <a:pt x="1740" y="1374"/>
                  </a:lnTo>
                  <a:lnTo>
                    <a:pt x="1742" y="1074"/>
                  </a:lnTo>
                  <a:lnTo>
                    <a:pt x="1744" y="537"/>
                  </a:lnTo>
                  <a:lnTo>
                    <a:pt x="1745" y="1016"/>
                  </a:lnTo>
                  <a:lnTo>
                    <a:pt x="1746" y="1095"/>
                  </a:lnTo>
                  <a:lnTo>
                    <a:pt x="1747" y="595"/>
                  </a:lnTo>
                  <a:lnTo>
                    <a:pt x="1748" y="1308"/>
                  </a:lnTo>
                  <a:lnTo>
                    <a:pt x="1749" y="1306"/>
                  </a:lnTo>
                  <a:lnTo>
                    <a:pt x="1750" y="1239"/>
                  </a:lnTo>
                  <a:lnTo>
                    <a:pt x="1752" y="645"/>
                  </a:lnTo>
                  <a:lnTo>
                    <a:pt x="1753" y="1247"/>
                  </a:lnTo>
                  <a:lnTo>
                    <a:pt x="1755" y="1246"/>
                  </a:lnTo>
                  <a:lnTo>
                    <a:pt x="1756" y="913"/>
                  </a:lnTo>
                  <a:lnTo>
                    <a:pt x="1757" y="1072"/>
                  </a:lnTo>
                  <a:lnTo>
                    <a:pt x="1758" y="941"/>
                  </a:lnTo>
                  <a:lnTo>
                    <a:pt x="1759" y="1241"/>
                  </a:lnTo>
                  <a:lnTo>
                    <a:pt x="1760" y="1101"/>
                  </a:lnTo>
                  <a:lnTo>
                    <a:pt x="1762" y="952"/>
                  </a:lnTo>
                  <a:lnTo>
                    <a:pt x="1763" y="596"/>
                  </a:lnTo>
                  <a:lnTo>
                    <a:pt x="1764" y="1029"/>
                  </a:lnTo>
                  <a:lnTo>
                    <a:pt x="1766" y="1445"/>
                  </a:lnTo>
                  <a:lnTo>
                    <a:pt x="1767" y="810"/>
                  </a:lnTo>
                  <a:lnTo>
                    <a:pt x="1768" y="498"/>
                  </a:lnTo>
                  <a:lnTo>
                    <a:pt x="1769" y="1532"/>
                  </a:lnTo>
                  <a:lnTo>
                    <a:pt x="1771" y="534"/>
                  </a:lnTo>
                  <a:lnTo>
                    <a:pt x="1772" y="1121"/>
                  </a:lnTo>
                  <a:lnTo>
                    <a:pt x="1773" y="935"/>
                  </a:lnTo>
                  <a:lnTo>
                    <a:pt x="1774" y="480"/>
                  </a:lnTo>
                  <a:lnTo>
                    <a:pt x="1775" y="963"/>
                  </a:lnTo>
                  <a:lnTo>
                    <a:pt x="1777" y="710"/>
                  </a:lnTo>
                  <a:lnTo>
                    <a:pt x="1778" y="879"/>
                  </a:lnTo>
                  <a:lnTo>
                    <a:pt x="1779" y="1120"/>
                  </a:lnTo>
                  <a:lnTo>
                    <a:pt x="1781" y="1103"/>
                  </a:lnTo>
                  <a:lnTo>
                    <a:pt x="1782" y="813"/>
                  </a:lnTo>
                  <a:lnTo>
                    <a:pt x="1783" y="889"/>
                  </a:lnTo>
                  <a:lnTo>
                    <a:pt x="1784" y="924"/>
                  </a:lnTo>
                  <a:lnTo>
                    <a:pt x="1785" y="1162"/>
                  </a:lnTo>
                  <a:lnTo>
                    <a:pt x="1786" y="670"/>
                  </a:lnTo>
                  <a:lnTo>
                    <a:pt x="1788" y="860"/>
                  </a:lnTo>
                  <a:lnTo>
                    <a:pt x="1789" y="680"/>
                  </a:lnTo>
                  <a:lnTo>
                    <a:pt x="1791" y="846"/>
                  </a:lnTo>
                  <a:lnTo>
                    <a:pt x="1792" y="955"/>
                  </a:lnTo>
                  <a:lnTo>
                    <a:pt x="1793" y="1088"/>
                  </a:lnTo>
                  <a:lnTo>
                    <a:pt x="1794" y="1220"/>
                  </a:lnTo>
                  <a:lnTo>
                    <a:pt x="1795" y="1675"/>
                  </a:lnTo>
                  <a:lnTo>
                    <a:pt x="1796" y="678"/>
                  </a:lnTo>
                  <a:lnTo>
                    <a:pt x="1797" y="610"/>
                  </a:lnTo>
                  <a:lnTo>
                    <a:pt x="1798" y="835"/>
                  </a:lnTo>
                  <a:lnTo>
                    <a:pt x="1801" y="885"/>
                  </a:lnTo>
                  <a:lnTo>
                    <a:pt x="1802" y="1436"/>
                  </a:lnTo>
                  <a:lnTo>
                    <a:pt x="1803" y="1425"/>
                  </a:lnTo>
                  <a:lnTo>
                    <a:pt x="1804" y="1149"/>
                  </a:lnTo>
                  <a:lnTo>
                    <a:pt x="1805" y="1557"/>
                  </a:lnTo>
                  <a:lnTo>
                    <a:pt x="1806" y="1220"/>
                  </a:lnTo>
                  <a:lnTo>
                    <a:pt x="1807" y="790"/>
                  </a:lnTo>
                  <a:lnTo>
                    <a:pt x="1808" y="1022"/>
                  </a:lnTo>
                  <a:lnTo>
                    <a:pt x="1810" y="1504"/>
                  </a:lnTo>
                  <a:lnTo>
                    <a:pt x="1812" y="589"/>
                  </a:lnTo>
                  <a:lnTo>
                    <a:pt x="1813" y="887"/>
                  </a:lnTo>
                  <a:lnTo>
                    <a:pt x="1814" y="1266"/>
                  </a:lnTo>
                  <a:lnTo>
                    <a:pt x="1815" y="1587"/>
                  </a:lnTo>
                  <a:lnTo>
                    <a:pt x="1816" y="934"/>
                  </a:lnTo>
                  <a:lnTo>
                    <a:pt x="1817" y="1537"/>
                  </a:lnTo>
                  <a:lnTo>
                    <a:pt x="1818" y="1150"/>
                  </a:lnTo>
                  <a:lnTo>
                    <a:pt x="1820" y="554"/>
                  </a:lnTo>
                  <a:lnTo>
                    <a:pt x="1821" y="476"/>
                  </a:lnTo>
                  <a:lnTo>
                    <a:pt x="1823" y="984"/>
                  </a:lnTo>
                  <a:lnTo>
                    <a:pt x="1824" y="1396"/>
                  </a:lnTo>
                  <a:lnTo>
                    <a:pt x="1825" y="967"/>
                  </a:lnTo>
                  <a:lnTo>
                    <a:pt x="1826" y="836"/>
                  </a:lnTo>
                  <a:lnTo>
                    <a:pt x="1827" y="905"/>
                  </a:lnTo>
                  <a:lnTo>
                    <a:pt x="1829" y="1566"/>
                  </a:lnTo>
                  <a:lnTo>
                    <a:pt x="1830" y="582"/>
                  </a:lnTo>
                  <a:lnTo>
                    <a:pt x="1831" y="1126"/>
                  </a:lnTo>
                  <a:lnTo>
                    <a:pt x="1832" y="1082"/>
                  </a:lnTo>
                  <a:lnTo>
                    <a:pt x="1834" y="777"/>
                  </a:lnTo>
                  <a:lnTo>
                    <a:pt x="1835" y="755"/>
                  </a:lnTo>
                  <a:lnTo>
                    <a:pt x="1836" y="1095"/>
                  </a:lnTo>
                  <a:lnTo>
                    <a:pt x="1837" y="819"/>
                  </a:lnTo>
                  <a:lnTo>
                    <a:pt x="1839" y="1126"/>
                  </a:lnTo>
                  <a:lnTo>
                    <a:pt x="1840" y="986"/>
                  </a:lnTo>
                  <a:lnTo>
                    <a:pt x="1841" y="1235"/>
                  </a:lnTo>
                  <a:lnTo>
                    <a:pt x="1842" y="718"/>
                  </a:lnTo>
                  <a:lnTo>
                    <a:pt x="1843" y="1088"/>
                  </a:lnTo>
                  <a:lnTo>
                    <a:pt x="1845" y="1202"/>
                  </a:lnTo>
                  <a:lnTo>
                    <a:pt x="1846" y="1463"/>
                  </a:lnTo>
                  <a:lnTo>
                    <a:pt x="1847" y="1414"/>
                  </a:lnTo>
                  <a:lnTo>
                    <a:pt x="1849" y="682"/>
                  </a:lnTo>
                  <a:lnTo>
                    <a:pt x="1850" y="1364"/>
                  </a:lnTo>
                  <a:lnTo>
                    <a:pt x="1851" y="1094"/>
                  </a:lnTo>
                  <a:lnTo>
                    <a:pt x="1852" y="987"/>
                  </a:lnTo>
                  <a:lnTo>
                    <a:pt x="1853" y="1011"/>
                  </a:lnTo>
                  <a:lnTo>
                    <a:pt x="1854" y="869"/>
                  </a:lnTo>
                  <a:lnTo>
                    <a:pt x="1856" y="1069"/>
                  </a:lnTo>
                  <a:lnTo>
                    <a:pt x="1858" y="1235"/>
                  </a:lnTo>
                  <a:lnTo>
                    <a:pt x="1859" y="530"/>
                  </a:lnTo>
                  <a:lnTo>
                    <a:pt x="1860" y="1017"/>
                  </a:lnTo>
                  <a:lnTo>
                    <a:pt x="1861" y="1132"/>
                  </a:lnTo>
                  <a:lnTo>
                    <a:pt x="1862" y="770"/>
                  </a:lnTo>
                  <a:lnTo>
                    <a:pt x="1863" y="1010"/>
                  </a:lnTo>
                  <a:lnTo>
                    <a:pt x="1864" y="1010"/>
                  </a:lnTo>
                  <a:lnTo>
                    <a:pt x="1865" y="618"/>
                  </a:lnTo>
                  <a:lnTo>
                    <a:pt x="1866" y="281"/>
                  </a:lnTo>
                  <a:lnTo>
                    <a:pt x="1869" y="760"/>
                  </a:lnTo>
                  <a:lnTo>
                    <a:pt x="1870" y="1064"/>
                  </a:lnTo>
                  <a:lnTo>
                    <a:pt x="1871" y="1089"/>
                  </a:lnTo>
                  <a:lnTo>
                    <a:pt x="1872" y="1621"/>
                  </a:lnTo>
                  <a:lnTo>
                    <a:pt x="1873" y="1222"/>
                  </a:lnTo>
                  <a:lnTo>
                    <a:pt x="1874" y="827"/>
                  </a:lnTo>
                  <a:lnTo>
                    <a:pt x="1875" y="958"/>
                  </a:lnTo>
                  <a:lnTo>
                    <a:pt x="1876" y="1000"/>
                  </a:lnTo>
                  <a:lnTo>
                    <a:pt x="1878" y="1194"/>
                  </a:lnTo>
                  <a:lnTo>
                    <a:pt x="1880" y="413"/>
                  </a:lnTo>
                  <a:lnTo>
                    <a:pt x="1881" y="919"/>
                  </a:lnTo>
                  <a:lnTo>
                    <a:pt x="1882" y="820"/>
                  </a:lnTo>
                  <a:lnTo>
                    <a:pt x="1883" y="875"/>
                  </a:lnTo>
                  <a:lnTo>
                    <a:pt x="1884" y="828"/>
                  </a:lnTo>
                  <a:lnTo>
                    <a:pt x="1885" y="827"/>
                  </a:lnTo>
                  <a:lnTo>
                    <a:pt x="1887" y="830"/>
                  </a:lnTo>
                  <a:lnTo>
                    <a:pt x="1888" y="1259"/>
                  </a:lnTo>
                  <a:lnTo>
                    <a:pt x="1889" y="990"/>
                  </a:lnTo>
                  <a:lnTo>
                    <a:pt x="1891" y="1183"/>
                  </a:lnTo>
                  <a:lnTo>
                    <a:pt x="1892" y="1228"/>
                  </a:lnTo>
                  <a:lnTo>
                    <a:pt x="1893" y="1171"/>
                  </a:lnTo>
                  <a:lnTo>
                    <a:pt x="1894" y="1142"/>
                  </a:lnTo>
                  <a:lnTo>
                    <a:pt x="1895" y="1166"/>
                  </a:lnTo>
                  <a:lnTo>
                    <a:pt x="1897" y="999"/>
                  </a:lnTo>
                  <a:lnTo>
                    <a:pt x="1898" y="986"/>
                  </a:lnTo>
                  <a:lnTo>
                    <a:pt x="1899" y="1017"/>
                  </a:lnTo>
                  <a:lnTo>
                    <a:pt x="1900" y="1482"/>
                  </a:lnTo>
                  <a:lnTo>
                    <a:pt x="1902" y="1065"/>
                  </a:lnTo>
                  <a:lnTo>
                    <a:pt x="1903" y="416"/>
                  </a:lnTo>
                  <a:lnTo>
                    <a:pt x="1904" y="1390"/>
                  </a:lnTo>
                  <a:lnTo>
                    <a:pt x="1905" y="1155"/>
                  </a:lnTo>
                  <a:lnTo>
                    <a:pt x="1907" y="1302"/>
                  </a:lnTo>
                  <a:lnTo>
                    <a:pt x="1908" y="1044"/>
                  </a:lnTo>
                  <a:lnTo>
                    <a:pt x="1909" y="1393"/>
                  </a:lnTo>
                  <a:lnTo>
                    <a:pt x="1910" y="1215"/>
                  </a:lnTo>
                  <a:lnTo>
                    <a:pt x="1911" y="674"/>
                  </a:lnTo>
                  <a:lnTo>
                    <a:pt x="1913" y="1227"/>
                  </a:lnTo>
                  <a:lnTo>
                    <a:pt x="1914" y="946"/>
                  </a:lnTo>
                  <a:lnTo>
                    <a:pt x="1916" y="1268"/>
                  </a:lnTo>
                  <a:lnTo>
                    <a:pt x="1917" y="321"/>
                  </a:lnTo>
                  <a:lnTo>
                    <a:pt x="1918" y="1245"/>
                  </a:lnTo>
                  <a:lnTo>
                    <a:pt x="1919" y="1274"/>
                  </a:lnTo>
                  <a:lnTo>
                    <a:pt x="1920" y="1198"/>
                  </a:lnTo>
                  <a:lnTo>
                    <a:pt x="1921" y="753"/>
                  </a:lnTo>
                  <a:lnTo>
                    <a:pt x="1922" y="866"/>
                  </a:lnTo>
                  <a:lnTo>
                    <a:pt x="1923" y="319"/>
                  </a:lnTo>
                  <a:lnTo>
                    <a:pt x="1926" y="902"/>
                  </a:lnTo>
                  <a:lnTo>
                    <a:pt x="1927" y="1274"/>
                  </a:lnTo>
                  <a:lnTo>
                    <a:pt x="1928" y="1084"/>
                  </a:lnTo>
                  <a:lnTo>
                    <a:pt x="1929" y="1189"/>
                  </a:lnTo>
                  <a:lnTo>
                    <a:pt x="1930" y="1138"/>
                  </a:lnTo>
                  <a:lnTo>
                    <a:pt x="1931" y="836"/>
                  </a:lnTo>
                  <a:lnTo>
                    <a:pt x="1932" y="723"/>
                  </a:lnTo>
                  <a:lnTo>
                    <a:pt x="1933" y="789"/>
                  </a:lnTo>
                  <a:lnTo>
                    <a:pt x="1934" y="767"/>
                  </a:lnTo>
                  <a:lnTo>
                    <a:pt x="1937" y="887"/>
                  </a:lnTo>
                  <a:lnTo>
                    <a:pt x="1938" y="786"/>
                  </a:lnTo>
                  <a:lnTo>
                    <a:pt x="1939" y="735"/>
                  </a:lnTo>
                  <a:lnTo>
                    <a:pt x="1940" y="582"/>
                  </a:lnTo>
                  <a:lnTo>
                    <a:pt x="1941" y="941"/>
                  </a:lnTo>
                  <a:lnTo>
                    <a:pt x="1942" y="1083"/>
                  </a:lnTo>
                  <a:lnTo>
                    <a:pt x="1943" y="1134"/>
                  </a:lnTo>
                  <a:lnTo>
                    <a:pt x="1945" y="856"/>
                  </a:lnTo>
                  <a:lnTo>
                    <a:pt x="1946" y="1273"/>
                  </a:lnTo>
                  <a:lnTo>
                    <a:pt x="1948" y="1315"/>
                  </a:lnTo>
                  <a:lnTo>
                    <a:pt x="1949" y="761"/>
                  </a:lnTo>
                  <a:lnTo>
                    <a:pt x="1950" y="848"/>
                  </a:lnTo>
                  <a:lnTo>
                    <a:pt x="1951" y="1197"/>
                  </a:lnTo>
                  <a:lnTo>
                    <a:pt x="1952" y="968"/>
                  </a:lnTo>
                  <a:lnTo>
                    <a:pt x="1953" y="1078"/>
                  </a:lnTo>
                  <a:lnTo>
                    <a:pt x="1955" y="1445"/>
                  </a:lnTo>
                  <a:lnTo>
                    <a:pt x="1956" y="1296"/>
                  </a:lnTo>
                  <a:lnTo>
                    <a:pt x="1957" y="1416"/>
                  </a:lnTo>
                  <a:lnTo>
                    <a:pt x="1959" y="621"/>
                  </a:lnTo>
                  <a:lnTo>
                    <a:pt x="1960" y="1012"/>
                  </a:lnTo>
                  <a:lnTo>
                    <a:pt x="1961" y="1243"/>
                  </a:lnTo>
                  <a:lnTo>
                    <a:pt x="1962" y="870"/>
                  </a:lnTo>
                  <a:lnTo>
                    <a:pt x="1964" y="693"/>
                  </a:lnTo>
                  <a:lnTo>
                    <a:pt x="1965" y="984"/>
                  </a:lnTo>
                  <a:lnTo>
                    <a:pt x="1966" y="932"/>
                  </a:lnTo>
                  <a:lnTo>
                    <a:pt x="1967" y="654"/>
                  </a:lnTo>
                  <a:lnTo>
                    <a:pt x="1968" y="909"/>
                  </a:lnTo>
                  <a:lnTo>
                    <a:pt x="1970" y="794"/>
                  </a:lnTo>
                  <a:lnTo>
                    <a:pt x="1971" y="1360"/>
                  </a:lnTo>
                  <a:lnTo>
                    <a:pt x="1972" y="859"/>
                  </a:lnTo>
                  <a:lnTo>
                    <a:pt x="1974" y="1114"/>
                  </a:lnTo>
                  <a:lnTo>
                    <a:pt x="1975" y="381"/>
                  </a:lnTo>
                  <a:lnTo>
                    <a:pt x="1976" y="1000"/>
                  </a:lnTo>
                  <a:lnTo>
                    <a:pt x="1977" y="778"/>
                  </a:lnTo>
                  <a:lnTo>
                    <a:pt x="1978" y="1093"/>
                  </a:lnTo>
                  <a:lnTo>
                    <a:pt x="1979" y="982"/>
                  </a:lnTo>
                  <a:lnTo>
                    <a:pt x="1981" y="1636"/>
                  </a:lnTo>
                  <a:lnTo>
                    <a:pt x="1982" y="757"/>
                  </a:lnTo>
                  <a:lnTo>
                    <a:pt x="1984" y="919"/>
                  </a:lnTo>
                  <a:lnTo>
                    <a:pt x="1985" y="1201"/>
                  </a:lnTo>
                  <a:lnTo>
                    <a:pt x="1986" y="709"/>
                  </a:lnTo>
                  <a:lnTo>
                    <a:pt x="1987" y="1200"/>
                  </a:lnTo>
                  <a:lnTo>
                    <a:pt x="1988" y="1042"/>
                  </a:lnTo>
                  <a:lnTo>
                    <a:pt x="1989" y="898"/>
                  </a:lnTo>
                  <a:lnTo>
                    <a:pt x="1990" y="873"/>
                  </a:lnTo>
                  <a:lnTo>
                    <a:pt x="1991" y="546"/>
                  </a:lnTo>
                  <a:lnTo>
                    <a:pt x="1994" y="1038"/>
                  </a:lnTo>
                  <a:lnTo>
                    <a:pt x="1995" y="931"/>
                  </a:lnTo>
                  <a:lnTo>
                    <a:pt x="1996" y="1073"/>
                  </a:lnTo>
                  <a:lnTo>
                    <a:pt x="1997" y="753"/>
                  </a:lnTo>
                  <a:lnTo>
                    <a:pt x="1998" y="1010"/>
                  </a:lnTo>
                  <a:lnTo>
                    <a:pt x="1999" y="1179"/>
                  </a:lnTo>
                  <a:lnTo>
                    <a:pt x="2000" y="927"/>
                  </a:lnTo>
                  <a:lnTo>
                    <a:pt x="2001" y="736"/>
                  </a:lnTo>
                  <a:lnTo>
                    <a:pt x="2003" y="453"/>
                  </a:lnTo>
                  <a:lnTo>
                    <a:pt x="2005" y="1278"/>
                  </a:lnTo>
                  <a:lnTo>
                    <a:pt x="2006" y="1297"/>
                  </a:lnTo>
                  <a:lnTo>
                    <a:pt x="2007" y="1200"/>
                  </a:lnTo>
                  <a:lnTo>
                    <a:pt x="2008" y="1120"/>
                  </a:lnTo>
                  <a:lnTo>
                    <a:pt x="2009" y="1127"/>
                  </a:lnTo>
                  <a:lnTo>
                    <a:pt x="2010" y="1094"/>
                  </a:lnTo>
                  <a:lnTo>
                    <a:pt x="2011" y="887"/>
                  </a:lnTo>
                  <a:lnTo>
                    <a:pt x="2013" y="902"/>
                  </a:lnTo>
                  <a:lnTo>
                    <a:pt x="2014" y="1117"/>
                  </a:lnTo>
                  <a:lnTo>
                    <a:pt x="2016" y="1272"/>
                  </a:lnTo>
                  <a:lnTo>
                    <a:pt x="2017" y="980"/>
                  </a:lnTo>
                  <a:lnTo>
                    <a:pt x="2018" y="1425"/>
                  </a:lnTo>
                  <a:lnTo>
                    <a:pt x="2019" y="915"/>
                  </a:lnTo>
                  <a:lnTo>
                    <a:pt x="2020" y="729"/>
                  </a:lnTo>
                  <a:lnTo>
                    <a:pt x="2022" y="523"/>
                  </a:lnTo>
                  <a:lnTo>
                    <a:pt x="2023" y="1132"/>
                  </a:lnTo>
                  <a:lnTo>
                    <a:pt x="2024" y="1542"/>
                  </a:lnTo>
                  <a:lnTo>
                    <a:pt x="2025" y="996"/>
                  </a:lnTo>
                  <a:lnTo>
                    <a:pt x="2027" y="669"/>
                  </a:lnTo>
                  <a:lnTo>
                    <a:pt x="2028" y="1195"/>
                  </a:lnTo>
                  <a:lnTo>
                    <a:pt x="2029" y="702"/>
                  </a:lnTo>
                  <a:lnTo>
                    <a:pt x="2030" y="1251"/>
                  </a:lnTo>
                  <a:lnTo>
                    <a:pt x="2032" y="1348"/>
                  </a:lnTo>
                  <a:lnTo>
                    <a:pt x="2033" y="498"/>
                  </a:lnTo>
                  <a:lnTo>
                    <a:pt x="2034" y="912"/>
                  </a:lnTo>
                  <a:lnTo>
                    <a:pt x="2035" y="543"/>
                  </a:lnTo>
                  <a:lnTo>
                    <a:pt x="2036" y="946"/>
                  </a:lnTo>
                  <a:lnTo>
                    <a:pt x="2038" y="758"/>
                  </a:lnTo>
                  <a:lnTo>
                    <a:pt x="2039" y="403"/>
                  </a:lnTo>
                  <a:lnTo>
                    <a:pt x="2040" y="669"/>
                  </a:lnTo>
                  <a:lnTo>
                    <a:pt x="2042" y="502"/>
                  </a:lnTo>
                  <a:lnTo>
                    <a:pt x="2043" y="1221"/>
                  </a:lnTo>
                  <a:lnTo>
                    <a:pt x="2044" y="856"/>
                  </a:lnTo>
                  <a:lnTo>
                    <a:pt x="2045" y="597"/>
                  </a:lnTo>
                  <a:lnTo>
                    <a:pt x="2046" y="489"/>
                  </a:lnTo>
                  <a:lnTo>
                    <a:pt x="2047" y="894"/>
                  </a:lnTo>
                  <a:lnTo>
                    <a:pt x="2048" y="895"/>
                  </a:lnTo>
                  <a:lnTo>
                    <a:pt x="2051" y="1329"/>
                  </a:lnTo>
                  <a:lnTo>
                    <a:pt x="2052" y="931"/>
                  </a:lnTo>
                  <a:lnTo>
                    <a:pt x="2053" y="934"/>
                  </a:lnTo>
                  <a:lnTo>
                    <a:pt x="2054" y="870"/>
                  </a:lnTo>
                  <a:lnTo>
                    <a:pt x="2055" y="811"/>
                  </a:lnTo>
                  <a:lnTo>
                    <a:pt x="2056" y="596"/>
                  </a:lnTo>
                  <a:lnTo>
                    <a:pt x="2057" y="1256"/>
                  </a:lnTo>
                  <a:lnTo>
                    <a:pt x="2058" y="622"/>
                  </a:lnTo>
                  <a:lnTo>
                    <a:pt x="2059" y="1089"/>
                  </a:lnTo>
                  <a:lnTo>
                    <a:pt x="2062" y="957"/>
                  </a:lnTo>
                  <a:lnTo>
                    <a:pt x="2063" y="820"/>
                  </a:lnTo>
                  <a:lnTo>
                    <a:pt x="2064" y="1026"/>
                  </a:lnTo>
                  <a:lnTo>
                    <a:pt x="2065" y="1343"/>
                  </a:lnTo>
                  <a:lnTo>
                    <a:pt x="2066" y="1338"/>
                  </a:lnTo>
                  <a:lnTo>
                    <a:pt x="2067" y="805"/>
                  </a:lnTo>
                  <a:lnTo>
                    <a:pt x="2068" y="856"/>
                  </a:lnTo>
                  <a:lnTo>
                    <a:pt x="2069" y="1358"/>
                  </a:lnTo>
                  <a:lnTo>
                    <a:pt x="2071" y="1061"/>
                  </a:lnTo>
                  <a:lnTo>
                    <a:pt x="2073" y="1152"/>
                  </a:lnTo>
                  <a:lnTo>
                    <a:pt x="2074" y="661"/>
                  </a:lnTo>
                  <a:lnTo>
                    <a:pt x="2075" y="660"/>
                  </a:lnTo>
                  <a:lnTo>
                    <a:pt x="2076" y="1120"/>
                  </a:lnTo>
                  <a:lnTo>
                    <a:pt x="2077" y="1542"/>
                  </a:lnTo>
                  <a:lnTo>
                    <a:pt x="2078" y="771"/>
                  </a:lnTo>
                  <a:lnTo>
                    <a:pt x="2080" y="848"/>
                  </a:lnTo>
                  <a:lnTo>
                    <a:pt x="2081" y="948"/>
                  </a:lnTo>
                  <a:lnTo>
                    <a:pt x="2082" y="901"/>
                  </a:lnTo>
                  <a:lnTo>
                    <a:pt x="2084" y="1502"/>
                  </a:lnTo>
                  <a:lnTo>
                    <a:pt x="2085" y="1178"/>
                  </a:lnTo>
                  <a:lnTo>
                    <a:pt x="2086" y="1127"/>
                  </a:lnTo>
                  <a:lnTo>
                    <a:pt x="2087" y="1367"/>
                  </a:lnTo>
                  <a:lnTo>
                    <a:pt x="2088" y="1091"/>
                  </a:lnTo>
                  <a:lnTo>
                    <a:pt x="2090" y="356"/>
                  </a:lnTo>
                  <a:lnTo>
                    <a:pt x="2091" y="997"/>
                  </a:lnTo>
                  <a:lnTo>
                    <a:pt x="2092" y="756"/>
                  </a:lnTo>
                  <a:lnTo>
                    <a:pt x="2093" y="1106"/>
                  </a:lnTo>
                  <a:lnTo>
                    <a:pt x="2095" y="1005"/>
                  </a:lnTo>
                  <a:lnTo>
                    <a:pt x="2096" y="1714"/>
                  </a:lnTo>
                  <a:lnTo>
                    <a:pt x="2097" y="847"/>
                  </a:lnTo>
                  <a:lnTo>
                    <a:pt x="2098" y="944"/>
                  </a:lnTo>
                  <a:lnTo>
                    <a:pt x="2100" y="847"/>
                  </a:lnTo>
                  <a:lnTo>
                    <a:pt x="2101" y="1332"/>
                  </a:lnTo>
                  <a:lnTo>
                    <a:pt x="2102" y="1511"/>
                  </a:lnTo>
                  <a:lnTo>
                    <a:pt x="2103" y="1270"/>
                  </a:lnTo>
                  <a:lnTo>
                    <a:pt x="2104" y="1002"/>
                  </a:lnTo>
                  <a:lnTo>
                    <a:pt x="2106" y="987"/>
                  </a:lnTo>
                  <a:lnTo>
                    <a:pt x="2107" y="628"/>
                  </a:lnTo>
                  <a:lnTo>
                    <a:pt x="2109" y="689"/>
                  </a:lnTo>
                  <a:lnTo>
                    <a:pt x="2110" y="1526"/>
                  </a:lnTo>
                  <a:lnTo>
                    <a:pt x="2111" y="1285"/>
                  </a:lnTo>
                  <a:lnTo>
                    <a:pt x="2112" y="1328"/>
                  </a:lnTo>
                  <a:lnTo>
                    <a:pt x="2113" y="1513"/>
                  </a:lnTo>
                  <a:lnTo>
                    <a:pt x="2114" y="804"/>
                  </a:lnTo>
                  <a:lnTo>
                    <a:pt x="2115" y="1140"/>
                  </a:lnTo>
                  <a:lnTo>
                    <a:pt x="2116" y="995"/>
                  </a:lnTo>
                  <a:lnTo>
                    <a:pt x="2119" y="1194"/>
                  </a:lnTo>
                  <a:lnTo>
                    <a:pt x="2120" y="987"/>
                  </a:lnTo>
                  <a:lnTo>
                    <a:pt x="2121" y="877"/>
                  </a:lnTo>
                  <a:lnTo>
                    <a:pt x="2122" y="1194"/>
                  </a:lnTo>
                  <a:lnTo>
                    <a:pt x="2123" y="1095"/>
                  </a:lnTo>
                  <a:lnTo>
                    <a:pt x="2124" y="1049"/>
                  </a:lnTo>
                  <a:lnTo>
                    <a:pt x="2125" y="1386"/>
                  </a:lnTo>
                  <a:lnTo>
                    <a:pt x="2126" y="1100"/>
                  </a:lnTo>
                  <a:lnTo>
                    <a:pt x="2127" y="853"/>
                  </a:lnTo>
                  <a:lnTo>
                    <a:pt x="2130" y="732"/>
                  </a:lnTo>
                  <a:lnTo>
                    <a:pt x="2131" y="327"/>
                  </a:lnTo>
                  <a:lnTo>
                    <a:pt x="2132" y="961"/>
                  </a:lnTo>
                  <a:lnTo>
                    <a:pt x="2133" y="924"/>
                  </a:lnTo>
                  <a:lnTo>
                    <a:pt x="2134" y="573"/>
                  </a:lnTo>
                  <a:lnTo>
                    <a:pt x="2135" y="809"/>
                  </a:lnTo>
                  <a:lnTo>
                    <a:pt x="2136" y="950"/>
                  </a:lnTo>
                  <a:lnTo>
                    <a:pt x="2138" y="1422"/>
                  </a:lnTo>
                  <a:lnTo>
                    <a:pt x="2139" y="1191"/>
                  </a:lnTo>
                  <a:lnTo>
                    <a:pt x="2141" y="1117"/>
                  </a:lnTo>
                  <a:lnTo>
                    <a:pt x="2142" y="1853"/>
                  </a:lnTo>
                  <a:lnTo>
                    <a:pt x="2143" y="1218"/>
                  </a:lnTo>
                  <a:lnTo>
                    <a:pt x="2144" y="1230"/>
                  </a:lnTo>
                  <a:lnTo>
                    <a:pt x="2145" y="853"/>
                  </a:lnTo>
                  <a:lnTo>
                    <a:pt x="2146" y="1011"/>
                  </a:lnTo>
                  <a:lnTo>
                    <a:pt x="2148" y="731"/>
                  </a:lnTo>
                  <a:lnTo>
                    <a:pt x="2149" y="527"/>
                  </a:lnTo>
                  <a:lnTo>
                    <a:pt x="2150" y="1292"/>
                  </a:lnTo>
                  <a:lnTo>
                    <a:pt x="2152" y="622"/>
                  </a:lnTo>
                  <a:lnTo>
                    <a:pt x="2153" y="915"/>
                  </a:lnTo>
                  <a:lnTo>
                    <a:pt x="2154" y="660"/>
                  </a:lnTo>
                  <a:lnTo>
                    <a:pt x="2155" y="765"/>
                  </a:lnTo>
                  <a:lnTo>
                    <a:pt x="2156" y="1127"/>
                  </a:lnTo>
                  <a:lnTo>
                    <a:pt x="2158" y="870"/>
                  </a:lnTo>
                  <a:lnTo>
                    <a:pt x="2159" y="1092"/>
                  </a:lnTo>
                  <a:lnTo>
                    <a:pt x="2160" y="1384"/>
                  </a:lnTo>
                  <a:lnTo>
                    <a:pt x="2161" y="1158"/>
                  </a:lnTo>
                  <a:lnTo>
                    <a:pt x="2163" y="1228"/>
                  </a:lnTo>
                  <a:lnTo>
                    <a:pt x="2164" y="677"/>
                  </a:lnTo>
                  <a:lnTo>
                    <a:pt x="2165" y="1067"/>
                  </a:lnTo>
                  <a:lnTo>
                    <a:pt x="2167" y="1187"/>
                  </a:lnTo>
                  <a:lnTo>
                    <a:pt x="2168" y="993"/>
                  </a:lnTo>
                  <a:lnTo>
                    <a:pt x="2169" y="838"/>
                  </a:lnTo>
                  <a:lnTo>
                    <a:pt x="2170" y="1153"/>
                  </a:lnTo>
                  <a:lnTo>
                    <a:pt x="2171" y="1182"/>
                  </a:lnTo>
                  <a:lnTo>
                    <a:pt x="2172" y="1267"/>
                  </a:lnTo>
                  <a:lnTo>
                    <a:pt x="2173" y="938"/>
                  </a:lnTo>
                  <a:lnTo>
                    <a:pt x="2175" y="1277"/>
                  </a:lnTo>
                  <a:lnTo>
                    <a:pt x="2177" y="1200"/>
                  </a:lnTo>
                  <a:lnTo>
                    <a:pt x="2178" y="799"/>
                  </a:lnTo>
                  <a:lnTo>
                    <a:pt x="2179" y="1741"/>
                  </a:lnTo>
                  <a:lnTo>
                    <a:pt x="2180" y="971"/>
                  </a:lnTo>
                  <a:lnTo>
                    <a:pt x="2181" y="1240"/>
                  </a:lnTo>
                  <a:lnTo>
                    <a:pt x="2182" y="874"/>
                  </a:lnTo>
                  <a:lnTo>
                    <a:pt x="2183" y="934"/>
                  </a:lnTo>
                  <a:lnTo>
                    <a:pt x="2184" y="933"/>
                  </a:lnTo>
                  <a:lnTo>
                    <a:pt x="2187" y="1071"/>
                  </a:lnTo>
                  <a:lnTo>
                    <a:pt x="2188" y="1676"/>
                  </a:lnTo>
                  <a:lnTo>
                    <a:pt x="2189" y="750"/>
                  </a:lnTo>
                  <a:lnTo>
                    <a:pt x="2190" y="745"/>
                  </a:lnTo>
                  <a:lnTo>
                    <a:pt x="2191" y="950"/>
                  </a:lnTo>
                  <a:lnTo>
                    <a:pt x="2192" y="1246"/>
                  </a:lnTo>
                  <a:lnTo>
                    <a:pt x="2193" y="1034"/>
                  </a:lnTo>
                  <a:lnTo>
                    <a:pt x="2194" y="804"/>
                  </a:lnTo>
                  <a:lnTo>
                    <a:pt x="2196" y="931"/>
                  </a:lnTo>
                  <a:lnTo>
                    <a:pt x="2198" y="1180"/>
                  </a:lnTo>
                  <a:lnTo>
                    <a:pt x="2199" y="1536"/>
                  </a:lnTo>
                  <a:lnTo>
                    <a:pt x="2200" y="1007"/>
                  </a:lnTo>
                  <a:lnTo>
                    <a:pt x="2201" y="1390"/>
                  </a:lnTo>
                  <a:lnTo>
                    <a:pt x="2202" y="1272"/>
                  </a:lnTo>
                  <a:lnTo>
                    <a:pt x="2203" y="733"/>
                  </a:lnTo>
                  <a:lnTo>
                    <a:pt x="2204" y="1044"/>
                  </a:lnTo>
                  <a:lnTo>
                    <a:pt x="2206" y="1551"/>
                  </a:lnTo>
                  <a:lnTo>
                    <a:pt x="2207" y="1091"/>
                  </a:lnTo>
                  <a:lnTo>
                    <a:pt x="2209" y="1557"/>
                  </a:lnTo>
                  <a:lnTo>
                    <a:pt x="2210" y="1367"/>
                  </a:lnTo>
                  <a:lnTo>
                    <a:pt x="2211" y="1274"/>
                  </a:lnTo>
                  <a:lnTo>
                    <a:pt x="2212" y="1592"/>
                  </a:lnTo>
                  <a:lnTo>
                    <a:pt x="2213" y="401"/>
                  </a:lnTo>
                  <a:lnTo>
                    <a:pt x="2215" y="763"/>
                  </a:lnTo>
                  <a:lnTo>
                    <a:pt x="2216" y="1163"/>
                  </a:lnTo>
                  <a:lnTo>
                    <a:pt x="2217" y="1309"/>
                  </a:lnTo>
                  <a:lnTo>
                    <a:pt x="2218" y="1054"/>
                  </a:lnTo>
                  <a:lnTo>
                    <a:pt x="2220" y="1075"/>
                  </a:lnTo>
                  <a:lnTo>
                    <a:pt x="2221" y="814"/>
                  </a:lnTo>
                  <a:lnTo>
                    <a:pt x="2222" y="368"/>
                  </a:lnTo>
                  <a:lnTo>
                    <a:pt x="2223" y="1110"/>
                  </a:lnTo>
                  <a:lnTo>
                    <a:pt x="2225" y="989"/>
                  </a:lnTo>
                  <a:lnTo>
                    <a:pt x="2226" y="701"/>
                  </a:lnTo>
                  <a:lnTo>
                    <a:pt x="2227" y="1197"/>
                  </a:lnTo>
                  <a:lnTo>
                    <a:pt x="2228" y="1283"/>
                  </a:lnTo>
                  <a:lnTo>
                    <a:pt x="2229" y="1548"/>
                  </a:lnTo>
                  <a:lnTo>
                    <a:pt x="2231" y="735"/>
                  </a:lnTo>
                  <a:lnTo>
                    <a:pt x="2232" y="1107"/>
                  </a:lnTo>
                  <a:lnTo>
                    <a:pt x="2233" y="813"/>
                  </a:lnTo>
                  <a:lnTo>
                    <a:pt x="2235" y="1529"/>
                  </a:lnTo>
                  <a:lnTo>
                    <a:pt x="2236" y="1081"/>
                  </a:lnTo>
                  <a:lnTo>
                    <a:pt x="2237" y="1033"/>
                  </a:lnTo>
                  <a:lnTo>
                    <a:pt x="2238" y="1010"/>
                  </a:lnTo>
                  <a:lnTo>
                    <a:pt x="2239" y="1396"/>
                  </a:lnTo>
                  <a:lnTo>
                    <a:pt x="2240" y="1285"/>
                  </a:lnTo>
                  <a:lnTo>
                    <a:pt x="2241" y="1235"/>
                  </a:lnTo>
                  <a:lnTo>
                    <a:pt x="2244" y="1017"/>
                  </a:lnTo>
                  <a:lnTo>
                    <a:pt x="2245" y="877"/>
                  </a:lnTo>
                  <a:lnTo>
                    <a:pt x="2246" y="1471"/>
                  </a:lnTo>
                  <a:lnTo>
                    <a:pt x="2247" y="1155"/>
                  </a:lnTo>
                  <a:lnTo>
                    <a:pt x="2248" y="1159"/>
                  </a:lnTo>
                  <a:lnTo>
                    <a:pt x="2249" y="1029"/>
                  </a:lnTo>
                  <a:lnTo>
                    <a:pt x="2250" y="649"/>
                  </a:lnTo>
                  <a:lnTo>
                    <a:pt x="2251" y="869"/>
                  </a:lnTo>
                  <a:lnTo>
                    <a:pt x="2252" y="759"/>
                  </a:lnTo>
                  <a:lnTo>
                    <a:pt x="2255" y="1126"/>
                  </a:lnTo>
                  <a:lnTo>
                    <a:pt x="2256" y="980"/>
                  </a:lnTo>
                  <a:lnTo>
                    <a:pt x="2257" y="982"/>
                  </a:lnTo>
                  <a:lnTo>
                    <a:pt x="2258" y="938"/>
                  </a:lnTo>
                  <a:lnTo>
                    <a:pt x="2259" y="907"/>
                  </a:lnTo>
                  <a:lnTo>
                    <a:pt x="2260" y="877"/>
                  </a:lnTo>
                  <a:lnTo>
                    <a:pt x="2261" y="1314"/>
                  </a:lnTo>
                  <a:lnTo>
                    <a:pt x="2262" y="807"/>
                  </a:lnTo>
                  <a:lnTo>
                    <a:pt x="2264" y="1030"/>
                  </a:lnTo>
                  <a:lnTo>
                    <a:pt x="2266" y="1173"/>
                  </a:lnTo>
                  <a:lnTo>
                    <a:pt x="2267" y="876"/>
                  </a:lnTo>
                  <a:lnTo>
                    <a:pt x="2268" y="1442"/>
                  </a:lnTo>
                  <a:lnTo>
                    <a:pt x="2269" y="1442"/>
                  </a:lnTo>
                  <a:lnTo>
                    <a:pt x="2270" y="830"/>
                  </a:lnTo>
                  <a:lnTo>
                    <a:pt x="2271" y="713"/>
                  </a:lnTo>
                  <a:lnTo>
                    <a:pt x="2273" y="1111"/>
                  </a:lnTo>
                  <a:lnTo>
                    <a:pt x="2274" y="1442"/>
                  </a:lnTo>
                  <a:lnTo>
                    <a:pt x="2275" y="768"/>
                  </a:lnTo>
                  <a:lnTo>
                    <a:pt x="2277" y="1463"/>
                  </a:lnTo>
                  <a:lnTo>
                    <a:pt x="2278" y="551"/>
                  </a:lnTo>
                  <a:lnTo>
                    <a:pt x="2279" y="1039"/>
                  </a:lnTo>
                  <a:lnTo>
                    <a:pt x="2280" y="1082"/>
                  </a:lnTo>
                  <a:lnTo>
                    <a:pt x="2281" y="1370"/>
                  </a:lnTo>
                  <a:lnTo>
                    <a:pt x="2283" y="905"/>
                  </a:lnTo>
                  <a:lnTo>
                    <a:pt x="2284" y="1267"/>
                  </a:lnTo>
                  <a:lnTo>
                    <a:pt x="2285" y="1088"/>
                  </a:lnTo>
                  <a:lnTo>
                    <a:pt x="2286" y="913"/>
                  </a:lnTo>
                  <a:lnTo>
                    <a:pt x="2288" y="1342"/>
                  </a:lnTo>
                  <a:lnTo>
                    <a:pt x="2289" y="811"/>
                  </a:lnTo>
                  <a:lnTo>
                    <a:pt x="2290" y="1049"/>
                  </a:lnTo>
                  <a:lnTo>
                    <a:pt x="2291" y="717"/>
                  </a:lnTo>
                  <a:lnTo>
                    <a:pt x="2293" y="1402"/>
                  </a:lnTo>
                  <a:lnTo>
                    <a:pt x="2294" y="1044"/>
                  </a:lnTo>
                  <a:lnTo>
                    <a:pt x="2295" y="882"/>
                  </a:lnTo>
                  <a:lnTo>
                    <a:pt x="2296" y="1394"/>
                  </a:lnTo>
                  <a:lnTo>
                    <a:pt x="2297" y="501"/>
                  </a:lnTo>
                  <a:lnTo>
                    <a:pt x="2298" y="645"/>
                  </a:lnTo>
                  <a:lnTo>
                    <a:pt x="2300" y="1214"/>
                  </a:lnTo>
                  <a:lnTo>
                    <a:pt x="2302" y="1356"/>
                  </a:lnTo>
                  <a:lnTo>
                    <a:pt x="2303" y="703"/>
                  </a:lnTo>
                  <a:lnTo>
                    <a:pt x="2304" y="600"/>
                  </a:lnTo>
                  <a:lnTo>
                    <a:pt x="2305" y="1064"/>
                  </a:lnTo>
                  <a:lnTo>
                    <a:pt x="2306" y="1237"/>
                  </a:lnTo>
                  <a:lnTo>
                    <a:pt x="2307" y="788"/>
                  </a:lnTo>
                  <a:lnTo>
                    <a:pt x="2308" y="1314"/>
                  </a:lnTo>
                  <a:lnTo>
                    <a:pt x="2309" y="1204"/>
                  </a:lnTo>
                  <a:lnTo>
                    <a:pt x="2312" y="1311"/>
                  </a:lnTo>
                  <a:lnTo>
                    <a:pt x="2313" y="896"/>
                  </a:lnTo>
                  <a:lnTo>
                    <a:pt x="2314" y="719"/>
                  </a:lnTo>
                  <a:lnTo>
                    <a:pt x="2315" y="913"/>
                  </a:lnTo>
                  <a:lnTo>
                    <a:pt x="2316" y="944"/>
                  </a:lnTo>
                  <a:lnTo>
                    <a:pt x="2317" y="1278"/>
                  </a:lnTo>
                  <a:lnTo>
                    <a:pt x="2318" y="1264"/>
                  </a:lnTo>
                  <a:lnTo>
                    <a:pt x="2319" y="1288"/>
                  </a:lnTo>
                  <a:lnTo>
                    <a:pt x="2320" y="958"/>
                  </a:lnTo>
                  <a:lnTo>
                    <a:pt x="2323" y="841"/>
                  </a:lnTo>
                  <a:lnTo>
                    <a:pt x="2324" y="1017"/>
                  </a:lnTo>
                  <a:lnTo>
                    <a:pt x="2325" y="751"/>
                  </a:lnTo>
                  <a:lnTo>
                    <a:pt x="2326" y="1004"/>
                  </a:lnTo>
                  <a:lnTo>
                    <a:pt x="2327" y="883"/>
                  </a:lnTo>
                  <a:lnTo>
                    <a:pt x="2328" y="862"/>
                  </a:lnTo>
                  <a:lnTo>
                    <a:pt x="2329" y="640"/>
                  </a:lnTo>
                  <a:lnTo>
                    <a:pt x="2331" y="579"/>
                  </a:lnTo>
                  <a:lnTo>
                    <a:pt x="2332" y="1069"/>
                  </a:lnTo>
                  <a:lnTo>
                    <a:pt x="2334" y="1091"/>
                  </a:lnTo>
                  <a:lnTo>
                    <a:pt x="2335" y="1003"/>
                  </a:lnTo>
                  <a:lnTo>
                    <a:pt x="2336" y="1590"/>
                  </a:lnTo>
                  <a:lnTo>
                    <a:pt x="2337" y="952"/>
                  </a:lnTo>
                  <a:lnTo>
                    <a:pt x="2338" y="815"/>
                  </a:lnTo>
                  <a:lnTo>
                    <a:pt x="2339" y="1083"/>
                  </a:lnTo>
                  <a:lnTo>
                    <a:pt x="2341" y="921"/>
                  </a:lnTo>
                  <a:lnTo>
                    <a:pt x="2342" y="1245"/>
                  </a:lnTo>
                  <a:lnTo>
                    <a:pt x="2343" y="1095"/>
                  </a:lnTo>
                  <a:lnTo>
                    <a:pt x="2345" y="1354"/>
                  </a:lnTo>
                  <a:lnTo>
                    <a:pt x="2346" y="1051"/>
                  </a:lnTo>
                  <a:lnTo>
                    <a:pt x="2347" y="945"/>
                  </a:lnTo>
                  <a:lnTo>
                    <a:pt x="2348" y="960"/>
                  </a:lnTo>
                  <a:lnTo>
                    <a:pt x="2349" y="752"/>
                  </a:lnTo>
                  <a:lnTo>
                    <a:pt x="2351" y="905"/>
                  </a:lnTo>
                  <a:lnTo>
                    <a:pt x="2352" y="816"/>
                  </a:lnTo>
                  <a:lnTo>
                    <a:pt x="2353" y="1230"/>
                  </a:lnTo>
                  <a:lnTo>
                    <a:pt x="2354" y="1147"/>
                  </a:lnTo>
                  <a:lnTo>
                    <a:pt x="2356" y="1089"/>
                  </a:lnTo>
                  <a:lnTo>
                    <a:pt x="2357" y="802"/>
                  </a:lnTo>
                  <a:lnTo>
                    <a:pt x="2358" y="1266"/>
                  </a:lnTo>
                  <a:lnTo>
                    <a:pt x="2360" y="1024"/>
                  </a:lnTo>
                  <a:lnTo>
                    <a:pt x="2361" y="833"/>
                  </a:lnTo>
                  <a:lnTo>
                    <a:pt x="2362" y="873"/>
                  </a:lnTo>
                  <a:lnTo>
                    <a:pt x="2363" y="757"/>
                  </a:lnTo>
                  <a:lnTo>
                    <a:pt x="2364" y="1399"/>
                  </a:lnTo>
                  <a:lnTo>
                    <a:pt x="2365" y="981"/>
                  </a:lnTo>
                  <a:lnTo>
                    <a:pt x="2366" y="1468"/>
                  </a:lnTo>
                  <a:lnTo>
                    <a:pt x="2368" y="661"/>
                  </a:lnTo>
                  <a:lnTo>
                    <a:pt x="2370" y="797"/>
                  </a:lnTo>
                  <a:lnTo>
                    <a:pt x="2371" y="526"/>
                  </a:lnTo>
                  <a:lnTo>
                    <a:pt x="2372" y="724"/>
                  </a:lnTo>
                  <a:lnTo>
                    <a:pt x="2373" y="731"/>
                  </a:lnTo>
                  <a:lnTo>
                    <a:pt x="2374" y="912"/>
                  </a:lnTo>
                  <a:lnTo>
                    <a:pt x="2375" y="981"/>
                  </a:lnTo>
                  <a:lnTo>
                    <a:pt x="2376" y="742"/>
                  </a:lnTo>
                  <a:lnTo>
                    <a:pt x="2377" y="611"/>
                  </a:lnTo>
                  <a:lnTo>
                    <a:pt x="2380" y="780"/>
                  </a:lnTo>
                  <a:lnTo>
                    <a:pt x="2381" y="1221"/>
                  </a:lnTo>
                  <a:lnTo>
                    <a:pt x="2382" y="312"/>
                  </a:lnTo>
                  <a:lnTo>
                    <a:pt x="2383" y="909"/>
                  </a:lnTo>
                  <a:lnTo>
                    <a:pt x="2384" y="1095"/>
                  </a:lnTo>
                  <a:lnTo>
                    <a:pt x="2385" y="856"/>
                  </a:lnTo>
                  <a:lnTo>
                    <a:pt x="2386" y="582"/>
                  </a:lnTo>
                  <a:lnTo>
                    <a:pt x="2387" y="1044"/>
                  </a:lnTo>
                  <a:lnTo>
                    <a:pt x="2389" y="1065"/>
                  </a:lnTo>
                  <a:lnTo>
                    <a:pt x="2391" y="1048"/>
                  </a:lnTo>
                  <a:lnTo>
                    <a:pt x="2392" y="1829"/>
                  </a:lnTo>
                  <a:lnTo>
                    <a:pt x="2393" y="846"/>
                  </a:lnTo>
                  <a:lnTo>
                    <a:pt x="2394" y="1010"/>
                  </a:lnTo>
                  <a:lnTo>
                    <a:pt x="2395" y="769"/>
                  </a:lnTo>
                  <a:lnTo>
                    <a:pt x="2396" y="602"/>
                  </a:lnTo>
                  <a:lnTo>
                    <a:pt x="2397" y="628"/>
                  </a:lnTo>
                  <a:lnTo>
                    <a:pt x="2399" y="1097"/>
                  </a:lnTo>
                  <a:lnTo>
                    <a:pt x="2400" y="1081"/>
                  </a:lnTo>
                  <a:lnTo>
                    <a:pt x="2402" y="679"/>
                  </a:lnTo>
                  <a:lnTo>
                    <a:pt x="2403" y="737"/>
                  </a:lnTo>
                  <a:lnTo>
                    <a:pt x="2404" y="1130"/>
                  </a:lnTo>
                  <a:lnTo>
                    <a:pt x="2405" y="760"/>
                  </a:lnTo>
                  <a:lnTo>
                    <a:pt x="2406" y="854"/>
                  </a:lnTo>
                  <a:lnTo>
                    <a:pt x="2407" y="1029"/>
                  </a:lnTo>
                  <a:lnTo>
                    <a:pt x="2409" y="1316"/>
                  </a:lnTo>
                  <a:lnTo>
                    <a:pt x="2410" y="810"/>
                  </a:lnTo>
                  <a:lnTo>
                    <a:pt x="2411" y="799"/>
                  </a:lnTo>
                  <a:lnTo>
                    <a:pt x="2413" y="1463"/>
                  </a:lnTo>
                  <a:lnTo>
                    <a:pt x="2414" y="472"/>
                  </a:lnTo>
                  <a:lnTo>
                    <a:pt x="2415" y="863"/>
                  </a:lnTo>
                  <a:lnTo>
                    <a:pt x="2416" y="1237"/>
                  </a:lnTo>
                  <a:lnTo>
                    <a:pt x="2418" y="1085"/>
                  </a:lnTo>
                  <a:lnTo>
                    <a:pt x="2419" y="982"/>
                  </a:lnTo>
                  <a:lnTo>
                    <a:pt x="2420" y="936"/>
                  </a:lnTo>
                  <a:lnTo>
                    <a:pt x="2421" y="965"/>
                  </a:lnTo>
                  <a:lnTo>
                    <a:pt x="2422" y="1228"/>
                  </a:lnTo>
                  <a:lnTo>
                    <a:pt x="2423" y="1209"/>
                  </a:lnTo>
                  <a:lnTo>
                    <a:pt x="2425" y="1122"/>
                  </a:lnTo>
                  <a:lnTo>
                    <a:pt x="2426" y="1042"/>
                  </a:lnTo>
                  <a:lnTo>
                    <a:pt x="2428" y="1345"/>
                  </a:lnTo>
                  <a:lnTo>
                    <a:pt x="2429" y="966"/>
                  </a:lnTo>
                  <a:lnTo>
                    <a:pt x="2430" y="1748"/>
                  </a:lnTo>
                  <a:lnTo>
                    <a:pt x="2431" y="750"/>
                  </a:lnTo>
                  <a:lnTo>
                    <a:pt x="2432" y="1051"/>
                  </a:lnTo>
                  <a:lnTo>
                    <a:pt x="2433" y="1108"/>
                  </a:lnTo>
                  <a:lnTo>
                    <a:pt x="2434" y="611"/>
                  </a:lnTo>
                  <a:lnTo>
                    <a:pt x="2436" y="1011"/>
                  </a:lnTo>
                  <a:lnTo>
                    <a:pt x="2438" y="1122"/>
                  </a:lnTo>
                  <a:lnTo>
                    <a:pt x="2439" y="840"/>
                  </a:lnTo>
                  <a:lnTo>
                    <a:pt x="2440" y="503"/>
                  </a:lnTo>
                  <a:lnTo>
                    <a:pt x="2441" y="826"/>
                  </a:lnTo>
                  <a:lnTo>
                    <a:pt x="2442" y="980"/>
                  </a:lnTo>
                  <a:lnTo>
                    <a:pt x="2443" y="657"/>
                  </a:lnTo>
                  <a:lnTo>
                    <a:pt x="2444" y="1327"/>
                  </a:lnTo>
                  <a:lnTo>
                    <a:pt x="2445" y="1041"/>
                  </a:lnTo>
                  <a:lnTo>
                    <a:pt x="2448" y="987"/>
                  </a:lnTo>
                  <a:lnTo>
                    <a:pt x="2449" y="704"/>
                  </a:lnTo>
                  <a:lnTo>
                    <a:pt x="2450" y="873"/>
                  </a:lnTo>
                  <a:lnTo>
                    <a:pt x="2451" y="594"/>
                  </a:lnTo>
                  <a:lnTo>
                    <a:pt x="2452" y="830"/>
                  </a:lnTo>
                  <a:lnTo>
                    <a:pt x="2453" y="1049"/>
                  </a:lnTo>
                  <a:lnTo>
                    <a:pt x="2454" y="1044"/>
                  </a:lnTo>
                  <a:lnTo>
                    <a:pt x="2455" y="1722"/>
                  </a:lnTo>
                  <a:lnTo>
                    <a:pt x="2457" y="1199"/>
                  </a:lnTo>
                  <a:lnTo>
                    <a:pt x="2459" y="1530"/>
                  </a:lnTo>
                  <a:lnTo>
                    <a:pt x="2460" y="1263"/>
                  </a:lnTo>
                  <a:lnTo>
                    <a:pt x="2461" y="1053"/>
                  </a:lnTo>
                  <a:lnTo>
                    <a:pt x="2462" y="1420"/>
                  </a:lnTo>
                  <a:lnTo>
                    <a:pt x="2463" y="1402"/>
                  </a:lnTo>
                  <a:lnTo>
                    <a:pt x="2464" y="1058"/>
                  </a:lnTo>
                  <a:lnTo>
                    <a:pt x="2466" y="815"/>
                  </a:lnTo>
                  <a:lnTo>
                    <a:pt x="2467" y="989"/>
                  </a:lnTo>
                  <a:lnTo>
                    <a:pt x="2468" y="1040"/>
                  </a:lnTo>
                  <a:lnTo>
                    <a:pt x="2470" y="1138"/>
                  </a:lnTo>
                  <a:lnTo>
                    <a:pt x="2471" y="1064"/>
                  </a:lnTo>
                  <a:lnTo>
                    <a:pt x="2472" y="884"/>
                  </a:lnTo>
                  <a:lnTo>
                    <a:pt x="2473" y="1005"/>
                  </a:lnTo>
                  <a:lnTo>
                    <a:pt x="2474" y="813"/>
                  </a:lnTo>
                  <a:lnTo>
                    <a:pt x="2476" y="1290"/>
                  </a:lnTo>
                  <a:lnTo>
                    <a:pt x="2477" y="909"/>
                  </a:lnTo>
                  <a:lnTo>
                    <a:pt x="2478" y="1092"/>
                  </a:lnTo>
                  <a:lnTo>
                    <a:pt x="2479" y="907"/>
                  </a:lnTo>
                  <a:lnTo>
                    <a:pt x="2481" y="1229"/>
                  </a:lnTo>
                  <a:lnTo>
                    <a:pt x="2482" y="904"/>
                  </a:lnTo>
                  <a:lnTo>
                    <a:pt x="2483" y="936"/>
                  </a:lnTo>
                  <a:lnTo>
                    <a:pt x="2484" y="858"/>
                  </a:lnTo>
                  <a:lnTo>
                    <a:pt x="2486" y="909"/>
                  </a:lnTo>
                  <a:lnTo>
                    <a:pt x="2487" y="859"/>
                  </a:lnTo>
                  <a:lnTo>
                    <a:pt x="2488" y="927"/>
                  </a:lnTo>
                  <a:lnTo>
                    <a:pt x="2489" y="535"/>
                  </a:lnTo>
                  <a:lnTo>
                    <a:pt x="2490" y="790"/>
                  </a:lnTo>
                  <a:lnTo>
                    <a:pt x="2491" y="933"/>
                  </a:lnTo>
                  <a:lnTo>
                    <a:pt x="2493" y="808"/>
                  </a:lnTo>
                  <a:lnTo>
                    <a:pt x="2495" y="1306"/>
                  </a:lnTo>
                  <a:lnTo>
                    <a:pt x="2496" y="619"/>
                  </a:lnTo>
                  <a:lnTo>
                    <a:pt x="2497" y="866"/>
                  </a:lnTo>
                  <a:lnTo>
                    <a:pt x="2498" y="1226"/>
                  </a:lnTo>
                  <a:lnTo>
                    <a:pt x="2499" y="689"/>
                  </a:lnTo>
                  <a:lnTo>
                    <a:pt x="2500" y="1134"/>
                  </a:lnTo>
                  <a:lnTo>
                    <a:pt x="2501" y="928"/>
                  </a:lnTo>
                  <a:lnTo>
                    <a:pt x="2502" y="431"/>
                  </a:lnTo>
                  <a:lnTo>
                    <a:pt x="2505" y="1282"/>
                  </a:lnTo>
                  <a:lnTo>
                    <a:pt x="2506" y="1089"/>
                  </a:lnTo>
                  <a:lnTo>
                    <a:pt x="2507" y="690"/>
                  </a:lnTo>
                  <a:lnTo>
                    <a:pt x="2508" y="563"/>
                  </a:lnTo>
                  <a:lnTo>
                    <a:pt x="2509" y="1005"/>
                  </a:lnTo>
                  <a:lnTo>
                    <a:pt x="2510" y="1225"/>
                  </a:lnTo>
                  <a:lnTo>
                    <a:pt x="2511" y="1039"/>
                  </a:lnTo>
                  <a:lnTo>
                    <a:pt x="2512" y="924"/>
                  </a:lnTo>
                  <a:lnTo>
                    <a:pt x="2513" y="1032"/>
                  </a:lnTo>
                  <a:lnTo>
                    <a:pt x="2516" y="964"/>
                  </a:lnTo>
                  <a:lnTo>
                    <a:pt x="2517" y="876"/>
                  </a:lnTo>
                  <a:lnTo>
                    <a:pt x="2518" y="1534"/>
                  </a:lnTo>
                  <a:lnTo>
                    <a:pt x="2519" y="443"/>
                  </a:lnTo>
                  <a:lnTo>
                    <a:pt x="2520" y="1081"/>
                  </a:lnTo>
                  <a:lnTo>
                    <a:pt x="2521" y="1663"/>
                  </a:lnTo>
                  <a:lnTo>
                    <a:pt x="2522" y="1124"/>
                  </a:lnTo>
                  <a:lnTo>
                    <a:pt x="2524" y="571"/>
                  </a:lnTo>
                  <a:lnTo>
                    <a:pt x="2525" y="1241"/>
                  </a:lnTo>
                  <a:lnTo>
                    <a:pt x="2527" y="915"/>
                  </a:lnTo>
                  <a:lnTo>
                    <a:pt x="2528" y="414"/>
                  </a:lnTo>
                  <a:lnTo>
                    <a:pt x="2529" y="664"/>
                  </a:lnTo>
                  <a:lnTo>
                    <a:pt x="2530" y="648"/>
                  </a:lnTo>
                  <a:lnTo>
                    <a:pt x="2531" y="1334"/>
                  </a:lnTo>
                  <a:lnTo>
                    <a:pt x="2532" y="1332"/>
                  </a:lnTo>
                  <a:lnTo>
                    <a:pt x="2534" y="1209"/>
                  </a:lnTo>
                  <a:lnTo>
                    <a:pt x="2535" y="952"/>
                  </a:lnTo>
                  <a:lnTo>
                    <a:pt x="2536" y="1345"/>
                  </a:lnTo>
                  <a:lnTo>
                    <a:pt x="2538" y="456"/>
                  </a:lnTo>
                  <a:lnTo>
                    <a:pt x="2539" y="769"/>
                  </a:lnTo>
                  <a:lnTo>
                    <a:pt x="2540" y="580"/>
                  </a:lnTo>
                  <a:lnTo>
                    <a:pt x="2541" y="883"/>
                  </a:lnTo>
                  <a:lnTo>
                    <a:pt x="2542" y="1264"/>
                  </a:lnTo>
                  <a:lnTo>
                    <a:pt x="2544" y="1207"/>
                  </a:lnTo>
                  <a:lnTo>
                    <a:pt x="2545" y="724"/>
                  </a:lnTo>
                  <a:lnTo>
                    <a:pt x="2546" y="1671"/>
                  </a:lnTo>
                  <a:lnTo>
                    <a:pt x="2547" y="455"/>
                  </a:lnTo>
                  <a:lnTo>
                    <a:pt x="2548" y="1360"/>
                  </a:lnTo>
                  <a:lnTo>
                    <a:pt x="2550" y="1041"/>
                  </a:lnTo>
                  <a:lnTo>
                    <a:pt x="2551" y="662"/>
                  </a:lnTo>
                  <a:lnTo>
                    <a:pt x="2553" y="508"/>
                  </a:lnTo>
                  <a:lnTo>
                    <a:pt x="2554" y="1487"/>
                  </a:lnTo>
                  <a:lnTo>
                    <a:pt x="2555" y="622"/>
                  </a:lnTo>
                  <a:lnTo>
                    <a:pt x="2556" y="769"/>
                  </a:lnTo>
                  <a:lnTo>
                    <a:pt x="2557" y="702"/>
                  </a:lnTo>
                  <a:lnTo>
                    <a:pt x="2558" y="1229"/>
                  </a:lnTo>
                  <a:lnTo>
                    <a:pt x="2559" y="974"/>
                  </a:lnTo>
                  <a:lnTo>
                    <a:pt x="2561" y="584"/>
                  </a:lnTo>
                  <a:lnTo>
                    <a:pt x="2563" y="1054"/>
                  </a:lnTo>
                  <a:lnTo>
                    <a:pt x="2564" y="614"/>
                  </a:lnTo>
                  <a:lnTo>
                    <a:pt x="2565" y="1731"/>
                  </a:lnTo>
                  <a:lnTo>
                    <a:pt x="2566" y="1292"/>
                  </a:lnTo>
                  <a:lnTo>
                    <a:pt x="2567" y="1093"/>
                  </a:lnTo>
                  <a:lnTo>
                    <a:pt x="2568" y="1009"/>
                  </a:lnTo>
                  <a:lnTo>
                    <a:pt x="2569" y="699"/>
                  </a:lnTo>
                  <a:lnTo>
                    <a:pt x="2570" y="1189"/>
                  </a:lnTo>
                  <a:lnTo>
                    <a:pt x="2573" y="953"/>
                  </a:lnTo>
                  <a:lnTo>
                    <a:pt x="2574" y="1199"/>
                  </a:lnTo>
                  <a:lnTo>
                    <a:pt x="2575" y="1091"/>
                  </a:lnTo>
                  <a:lnTo>
                    <a:pt x="2576" y="1606"/>
                  </a:lnTo>
                  <a:lnTo>
                    <a:pt x="2577" y="1114"/>
                  </a:lnTo>
                  <a:lnTo>
                    <a:pt x="2578" y="902"/>
                  </a:lnTo>
                  <a:lnTo>
                    <a:pt x="2579" y="899"/>
                  </a:lnTo>
                  <a:lnTo>
                    <a:pt x="2580" y="887"/>
                  </a:lnTo>
                  <a:lnTo>
                    <a:pt x="2582" y="777"/>
                  </a:lnTo>
                  <a:lnTo>
                    <a:pt x="2584" y="718"/>
                  </a:lnTo>
                  <a:lnTo>
                    <a:pt x="2585" y="1235"/>
                  </a:lnTo>
                  <a:lnTo>
                    <a:pt x="2586" y="1062"/>
                  </a:lnTo>
                  <a:lnTo>
                    <a:pt x="2587" y="640"/>
                  </a:lnTo>
                  <a:lnTo>
                    <a:pt x="2588" y="921"/>
                  </a:lnTo>
                  <a:lnTo>
                    <a:pt x="2589" y="926"/>
                  </a:lnTo>
                  <a:lnTo>
                    <a:pt x="2590" y="1436"/>
                  </a:lnTo>
                  <a:lnTo>
                    <a:pt x="2592" y="1323"/>
                  </a:lnTo>
                  <a:lnTo>
                    <a:pt x="2593" y="901"/>
                  </a:lnTo>
                  <a:lnTo>
                    <a:pt x="2595" y="885"/>
                  </a:lnTo>
                  <a:lnTo>
                    <a:pt x="2596" y="1560"/>
                  </a:lnTo>
                  <a:lnTo>
                    <a:pt x="2597" y="1172"/>
                  </a:lnTo>
                  <a:lnTo>
                    <a:pt x="2598" y="1440"/>
                  </a:lnTo>
                  <a:lnTo>
                    <a:pt x="2599" y="844"/>
                  </a:lnTo>
                  <a:lnTo>
                    <a:pt x="2600" y="1305"/>
                  </a:lnTo>
                  <a:lnTo>
                    <a:pt x="2602" y="1131"/>
                  </a:lnTo>
                  <a:lnTo>
                    <a:pt x="2603" y="857"/>
                  </a:lnTo>
                  <a:lnTo>
                    <a:pt x="2604" y="886"/>
                  </a:lnTo>
                  <a:lnTo>
                    <a:pt x="2606" y="834"/>
                  </a:lnTo>
                  <a:lnTo>
                    <a:pt x="2607" y="807"/>
                  </a:lnTo>
                  <a:lnTo>
                    <a:pt x="2608" y="1151"/>
                  </a:lnTo>
                  <a:lnTo>
                    <a:pt x="2609" y="1188"/>
                  </a:lnTo>
                  <a:lnTo>
                    <a:pt x="2611" y="821"/>
                  </a:lnTo>
                  <a:lnTo>
                    <a:pt x="2612" y="1473"/>
                  </a:lnTo>
                  <a:lnTo>
                    <a:pt x="2613" y="443"/>
                  </a:lnTo>
                  <a:lnTo>
                    <a:pt x="2614" y="994"/>
                  </a:lnTo>
                  <a:lnTo>
                    <a:pt x="2615" y="1046"/>
                  </a:lnTo>
                  <a:lnTo>
                    <a:pt x="2616" y="1079"/>
                  </a:lnTo>
                  <a:lnTo>
                    <a:pt x="2618" y="1300"/>
                  </a:lnTo>
                  <a:lnTo>
                    <a:pt x="2619" y="901"/>
                  </a:lnTo>
                  <a:lnTo>
                    <a:pt x="2621" y="1194"/>
                  </a:lnTo>
                  <a:lnTo>
                    <a:pt x="2622" y="746"/>
                  </a:lnTo>
                  <a:lnTo>
                    <a:pt x="2623" y="830"/>
                  </a:lnTo>
                  <a:lnTo>
                    <a:pt x="2624" y="1493"/>
                  </a:lnTo>
                  <a:lnTo>
                    <a:pt x="2625" y="1309"/>
                  </a:lnTo>
                  <a:lnTo>
                    <a:pt x="2626" y="979"/>
                  </a:lnTo>
                  <a:lnTo>
                    <a:pt x="2627" y="772"/>
                  </a:lnTo>
                  <a:lnTo>
                    <a:pt x="2629" y="761"/>
                  </a:lnTo>
                  <a:lnTo>
                    <a:pt x="2631" y="1201"/>
                  </a:lnTo>
                  <a:lnTo>
                    <a:pt x="2632" y="1161"/>
                  </a:lnTo>
                  <a:lnTo>
                    <a:pt x="2633" y="1326"/>
                  </a:lnTo>
                  <a:lnTo>
                    <a:pt x="2634" y="1113"/>
                  </a:lnTo>
                  <a:lnTo>
                    <a:pt x="2635" y="1134"/>
                  </a:lnTo>
                  <a:lnTo>
                    <a:pt x="2636" y="862"/>
                  </a:lnTo>
                  <a:lnTo>
                    <a:pt x="2637" y="502"/>
                  </a:lnTo>
                  <a:lnTo>
                    <a:pt x="2638" y="516"/>
                  </a:lnTo>
                  <a:lnTo>
                    <a:pt x="2641" y="927"/>
                  </a:lnTo>
                  <a:lnTo>
                    <a:pt x="2642" y="1103"/>
                  </a:lnTo>
                  <a:lnTo>
                    <a:pt x="2643" y="975"/>
                  </a:lnTo>
                  <a:lnTo>
                    <a:pt x="2644" y="1219"/>
                  </a:lnTo>
                  <a:lnTo>
                    <a:pt x="2645" y="967"/>
                  </a:lnTo>
                  <a:lnTo>
                    <a:pt x="2646" y="1161"/>
                  </a:lnTo>
                  <a:lnTo>
                    <a:pt x="2647" y="1360"/>
                  </a:lnTo>
                  <a:lnTo>
                    <a:pt x="2648" y="1177"/>
                  </a:lnTo>
                  <a:lnTo>
                    <a:pt x="2650" y="1344"/>
                  </a:lnTo>
                  <a:lnTo>
                    <a:pt x="2652" y="1035"/>
                  </a:lnTo>
                  <a:lnTo>
                    <a:pt x="2653" y="921"/>
                  </a:lnTo>
                  <a:lnTo>
                    <a:pt x="2654" y="498"/>
                  </a:lnTo>
                  <a:lnTo>
                    <a:pt x="2655" y="867"/>
                  </a:lnTo>
                  <a:lnTo>
                    <a:pt x="2656" y="802"/>
                  </a:lnTo>
                  <a:lnTo>
                    <a:pt x="2657" y="1509"/>
                  </a:lnTo>
                  <a:lnTo>
                    <a:pt x="2658" y="887"/>
                  </a:lnTo>
                  <a:lnTo>
                    <a:pt x="2660" y="1108"/>
                  </a:lnTo>
                  <a:lnTo>
                    <a:pt x="2661" y="1131"/>
                  </a:lnTo>
                  <a:lnTo>
                    <a:pt x="2663" y="964"/>
                  </a:lnTo>
                  <a:lnTo>
                    <a:pt x="2664" y="758"/>
                  </a:lnTo>
                  <a:lnTo>
                    <a:pt x="2665" y="733"/>
                  </a:lnTo>
                  <a:lnTo>
                    <a:pt x="2666" y="780"/>
                  </a:lnTo>
                  <a:lnTo>
                    <a:pt x="2667" y="844"/>
                  </a:lnTo>
                  <a:lnTo>
                    <a:pt x="2669" y="844"/>
                  </a:lnTo>
                  <a:lnTo>
                    <a:pt x="2670" y="1260"/>
                  </a:lnTo>
                  <a:lnTo>
                    <a:pt x="2671" y="945"/>
                  </a:lnTo>
                  <a:lnTo>
                    <a:pt x="2672" y="1199"/>
                  </a:lnTo>
                  <a:lnTo>
                    <a:pt x="2673" y="470"/>
                  </a:lnTo>
                  <a:lnTo>
                    <a:pt x="2675" y="1056"/>
                  </a:lnTo>
                  <a:lnTo>
                    <a:pt x="2676" y="1397"/>
                  </a:lnTo>
                  <a:lnTo>
                    <a:pt x="2677" y="1465"/>
                  </a:lnTo>
                  <a:lnTo>
                    <a:pt x="2679" y="1495"/>
                  </a:lnTo>
                  <a:lnTo>
                    <a:pt x="2680" y="931"/>
                  </a:lnTo>
                  <a:lnTo>
                    <a:pt x="2681" y="1166"/>
                  </a:lnTo>
                  <a:lnTo>
                    <a:pt x="2682" y="1043"/>
                  </a:lnTo>
                  <a:lnTo>
                    <a:pt x="2683" y="985"/>
                  </a:lnTo>
                  <a:lnTo>
                    <a:pt x="2684" y="1121"/>
                  </a:lnTo>
                  <a:lnTo>
                    <a:pt x="2686" y="1247"/>
                  </a:lnTo>
                  <a:lnTo>
                    <a:pt x="2687" y="1278"/>
                  </a:lnTo>
                  <a:lnTo>
                    <a:pt x="2689" y="664"/>
                  </a:lnTo>
                  <a:lnTo>
                    <a:pt x="2690" y="1176"/>
                  </a:lnTo>
                  <a:lnTo>
                    <a:pt x="2691" y="742"/>
                  </a:lnTo>
                  <a:lnTo>
                    <a:pt x="2692" y="1117"/>
                  </a:lnTo>
                  <a:lnTo>
                    <a:pt x="2693" y="1101"/>
                  </a:lnTo>
                  <a:lnTo>
                    <a:pt x="2694" y="1696"/>
                  </a:lnTo>
                  <a:lnTo>
                    <a:pt x="2695" y="1033"/>
                  </a:lnTo>
                  <a:lnTo>
                    <a:pt x="2698" y="581"/>
                  </a:lnTo>
                  <a:lnTo>
                    <a:pt x="2699" y="1531"/>
                  </a:lnTo>
                  <a:lnTo>
                    <a:pt x="2700" y="1149"/>
                  </a:lnTo>
                  <a:lnTo>
                    <a:pt x="2701" y="855"/>
                  </a:lnTo>
                  <a:lnTo>
                    <a:pt x="2702" y="2083"/>
                  </a:lnTo>
                  <a:lnTo>
                    <a:pt x="2703" y="714"/>
                  </a:lnTo>
                  <a:lnTo>
                    <a:pt x="2704" y="1251"/>
                  </a:lnTo>
                  <a:lnTo>
                    <a:pt x="2705" y="1606"/>
                  </a:lnTo>
                  <a:lnTo>
                    <a:pt x="2706" y="792"/>
                  </a:lnTo>
                  <a:lnTo>
                    <a:pt x="2709" y="636"/>
                  </a:lnTo>
                  <a:lnTo>
                    <a:pt x="2710" y="1152"/>
                  </a:lnTo>
                  <a:lnTo>
                    <a:pt x="2711" y="1247"/>
                  </a:lnTo>
                  <a:lnTo>
                    <a:pt x="2712" y="974"/>
                  </a:lnTo>
                  <a:lnTo>
                    <a:pt x="2713" y="473"/>
                  </a:lnTo>
                  <a:lnTo>
                    <a:pt x="2714" y="688"/>
                  </a:lnTo>
                  <a:lnTo>
                    <a:pt x="2715" y="789"/>
                  </a:lnTo>
                  <a:lnTo>
                    <a:pt x="2717" y="1078"/>
                  </a:lnTo>
                  <a:lnTo>
                    <a:pt x="2718" y="1183"/>
                  </a:lnTo>
                  <a:lnTo>
                    <a:pt x="2720" y="770"/>
                  </a:lnTo>
                  <a:lnTo>
                    <a:pt x="2721" y="870"/>
                  </a:lnTo>
                  <a:lnTo>
                    <a:pt x="2722" y="1387"/>
                  </a:lnTo>
                  <a:lnTo>
                    <a:pt x="2723" y="1147"/>
                  </a:lnTo>
                  <a:lnTo>
                    <a:pt x="2724" y="1141"/>
                  </a:lnTo>
                  <a:lnTo>
                    <a:pt x="2725" y="1229"/>
                  </a:lnTo>
                  <a:lnTo>
                    <a:pt x="2727" y="1026"/>
                  </a:lnTo>
                  <a:lnTo>
                    <a:pt x="2728" y="1092"/>
                  </a:lnTo>
                  <a:lnTo>
                    <a:pt x="2729" y="623"/>
                  </a:lnTo>
                  <a:lnTo>
                    <a:pt x="2731" y="668"/>
                  </a:lnTo>
                  <a:lnTo>
                    <a:pt x="2732" y="1137"/>
                  </a:lnTo>
                  <a:lnTo>
                    <a:pt x="2733" y="1617"/>
                  </a:lnTo>
                  <a:lnTo>
                    <a:pt x="2734" y="785"/>
                  </a:lnTo>
                  <a:lnTo>
                    <a:pt x="2735" y="1006"/>
                  </a:lnTo>
                  <a:lnTo>
                    <a:pt x="2737" y="398"/>
                  </a:lnTo>
                  <a:lnTo>
                    <a:pt x="2738" y="1093"/>
                  </a:lnTo>
                  <a:lnTo>
                    <a:pt x="2739" y="1023"/>
                  </a:lnTo>
                  <a:lnTo>
                    <a:pt x="2740" y="976"/>
                  </a:lnTo>
                  <a:lnTo>
                    <a:pt x="2741" y="553"/>
                  </a:lnTo>
                  <a:lnTo>
                    <a:pt x="2743" y="1058"/>
                  </a:lnTo>
                  <a:lnTo>
                    <a:pt x="2744" y="1208"/>
                  </a:lnTo>
                  <a:lnTo>
                    <a:pt x="2746" y="1415"/>
                  </a:lnTo>
                  <a:lnTo>
                    <a:pt x="2747" y="1795"/>
                  </a:lnTo>
                  <a:lnTo>
                    <a:pt x="2748" y="1043"/>
                  </a:lnTo>
                  <a:lnTo>
                    <a:pt x="2749" y="1258"/>
                  </a:lnTo>
                  <a:lnTo>
                    <a:pt x="2750" y="876"/>
                  </a:lnTo>
                  <a:lnTo>
                    <a:pt x="2751" y="733"/>
                  </a:lnTo>
                  <a:lnTo>
                    <a:pt x="2752" y="951"/>
                  </a:lnTo>
                  <a:lnTo>
                    <a:pt x="2754" y="917"/>
                  </a:lnTo>
                  <a:lnTo>
                    <a:pt x="2756" y="1002"/>
                  </a:lnTo>
                  <a:lnTo>
                    <a:pt x="2757" y="724"/>
                  </a:lnTo>
                  <a:lnTo>
                    <a:pt x="2758" y="1231"/>
                  </a:lnTo>
                  <a:lnTo>
                    <a:pt x="2759" y="1334"/>
                  </a:lnTo>
                  <a:lnTo>
                    <a:pt x="2760" y="924"/>
                  </a:lnTo>
                  <a:lnTo>
                    <a:pt x="2761" y="616"/>
                  </a:lnTo>
                  <a:lnTo>
                    <a:pt x="2762" y="960"/>
                  </a:lnTo>
                  <a:lnTo>
                    <a:pt x="2763" y="1044"/>
                  </a:lnTo>
                  <a:lnTo>
                    <a:pt x="2766" y="893"/>
                  </a:lnTo>
                  <a:lnTo>
                    <a:pt x="2767" y="1540"/>
                  </a:lnTo>
                  <a:lnTo>
                    <a:pt x="2768" y="1459"/>
                  </a:lnTo>
                  <a:lnTo>
                    <a:pt x="2769" y="719"/>
                  </a:lnTo>
                  <a:lnTo>
                    <a:pt x="2770" y="992"/>
                  </a:lnTo>
                  <a:lnTo>
                    <a:pt x="2771" y="1099"/>
                  </a:lnTo>
                  <a:lnTo>
                    <a:pt x="2772" y="1227"/>
                  </a:lnTo>
                  <a:lnTo>
                    <a:pt x="2773" y="1201"/>
                  </a:lnTo>
                  <a:lnTo>
                    <a:pt x="2775" y="536"/>
                  </a:lnTo>
                  <a:lnTo>
                    <a:pt x="2777" y="963"/>
                  </a:lnTo>
                  <a:lnTo>
                    <a:pt x="2778" y="1079"/>
                  </a:lnTo>
                  <a:lnTo>
                    <a:pt x="2779" y="132"/>
                  </a:lnTo>
                  <a:lnTo>
                    <a:pt x="2780" y="1038"/>
                  </a:lnTo>
                  <a:lnTo>
                    <a:pt x="2781" y="936"/>
                  </a:lnTo>
                  <a:lnTo>
                    <a:pt x="2782" y="942"/>
                  </a:lnTo>
                  <a:lnTo>
                    <a:pt x="2783" y="781"/>
                  </a:lnTo>
                  <a:lnTo>
                    <a:pt x="2785" y="1325"/>
                  </a:lnTo>
                  <a:lnTo>
                    <a:pt x="2786" y="1351"/>
                  </a:lnTo>
                  <a:lnTo>
                    <a:pt x="2788" y="1207"/>
                  </a:lnTo>
                  <a:lnTo>
                    <a:pt x="2789" y="872"/>
                  </a:lnTo>
                  <a:lnTo>
                    <a:pt x="2790" y="801"/>
                  </a:lnTo>
                  <a:lnTo>
                    <a:pt x="2791" y="801"/>
                  </a:lnTo>
                  <a:lnTo>
                    <a:pt x="2792" y="1698"/>
                  </a:lnTo>
                  <a:lnTo>
                    <a:pt x="2793" y="691"/>
                  </a:lnTo>
                  <a:lnTo>
                    <a:pt x="2795" y="933"/>
                  </a:lnTo>
                  <a:lnTo>
                    <a:pt x="2796" y="1004"/>
                  </a:lnTo>
                  <a:lnTo>
                    <a:pt x="2797" y="983"/>
                  </a:lnTo>
                  <a:lnTo>
                    <a:pt x="2799" y="1459"/>
                  </a:lnTo>
                  <a:lnTo>
                    <a:pt x="2800" y="902"/>
                  </a:lnTo>
                  <a:lnTo>
                    <a:pt x="2801" y="1172"/>
                  </a:lnTo>
                  <a:lnTo>
                    <a:pt x="2802" y="1521"/>
                  </a:lnTo>
                  <a:lnTo>
                    <a:pt x="2804" y="1072"/>
                  </a:lnTo>
                  <a:lnTo>
                    <a:pt x="2805" y="1082"/>
                  </a:lnTo>
                  <a:lnTo>
                    <a:pt x="2806" y="899"/>
                  </a:lnTo>
                  <a:lnTo>
                    <a:pt x="2807" y="878"/>
                  </a:lnTo>
                  <a:lnTo>
                    <a:pt x="2808" y="1316"/>
                  </a:lnTo>
                  <a:lnTo>
                    <a:pt x="2809" y="1134"/>
                  </a:lnTo>
                  <a:lnTo>
                    <a:pt x="2811" y="1289"/>
                  </a:lnTo>
                  <a:lnTo>
                    <a:pt x="2812" y="1108"/>
                  </a:lnTo>
                  <a:lnTo>
                    <a:pt x="2814" y="672"/>
                  </a:lnTo>
                  <a:lnTo>
                    <a:pt x="2815" y="1119"/>
                  </a:lnTo>
                  <a:lnTo>
                    <a:pt x="2816" y="476"/>
                  </a:lnTo>
                  <a:lnTo>
                    <a:pt x="2817" y="801"/>
                  </a:lnTo>
                  <a:lnTo>
                    <a:pt x="2818" y="1462"/>
                  </a:lnTo>
                  <a:lnTo>
                    <a:pt x="2819" y="713"/>
                  </a:lnTo>
                  <a:lnTo>
                    <a:pt x="2820" y="1219"/>
                  </a:lnTo>
                  <a:lnTo>
                    <a:pt x="2822" y="1263"/>
                  </a:lnTo>
                  <a:lnTo>
                    <a:pt x="2824" y="532"/>
                  </a:lnTo>
                  <a:lnTo>
                    <a:pt x="2825" y="807"/>
                  </a:lnTo>
                  <a:lnTo>
                    <a:pt x="2826" y="1081"/>
                  </a:lnTo>
                  <a:lnTo>
                    <a:pt x="2827" y="1217"/>
                  </a:lnTo>
                  <a:lnTo>
                    <a:pt x="2828" y="1469"/>
                  </a:lnTo>
                  <a:lnTo>
                    <a:pt x="2829" y="1367"/>
                  </a:lnTo>
                  <a:lnTo>
                    <a:pt x="2830" y="1440"/>
                  </a:lnTo>
                  <a:lnTo>
                    <a:pt x="2831" y="1274"/>
                  </a:lnTo>
                  <a:lnTo>
                    <a:pt x="2834" y="1014"/>
                  </a:lnTo>
                  <a:lnTo>
                    <a:pt x="2835" y="1386"/>
                  </a:lnTo>
                  <a:lnTo>
                    <a:pt x="2836" y="864"/>
                  </a:lnTo>
                  <a:lnTo>
                    <a:pt x="2837" y="701"/>
                  </a:lnTo>
                  <a:lnTo>
                    <a:pt x="2838" y="811"/>
                  </a:lnTo>
                  <a:lnTo>
                    <a:pt x="2839" y="902"/>
                  </a:lnTo>
                  <a:lnTo>
                    <a:pt x="2840" y="703"/>
                  </a:lnTo>
                  <a:lnTo>
                    <a:pt x="2841" y="999"/>
                  </a:lnTo>
                  <a:lnTo>
                    <a:pt x="2843" y="1365"/>
                  </a:lnTo>
                  <a:lnTo>
                    <a:pt x="2845" y="1559"/>
                  </a:lnTo>
                  <a:lnTo>
                    <a:pt x="2846" y="1175"/>
                  </a:lnTo>
                  <a:lnTo>
                    <a:pt x="2847" y="743"/>
                  </a:lnTo>
                  <a:lnTo>
                    <a:pt x="2848" y="1012"/>
                  </a:lnTo>
                  <a:lnTo>
                    <a:pt x="2849" y="937"/>
                  </a:lnTo>
                  <a:lnTo>
                    <a:pt x="2850" y="962"/>
                  </a:lnTo>
                  <a:lnTo>
                    <a:pt x="2851" y="740"/>
                  </a:lnTo>
                  <a:lnTo>
                    <a:pt x="2853" y="466"/>
                  </a:lnTo>
                  <a:lnTo>
                    <a:pt x="2854" y="1217"/>
                  </a:lnTo>
                  <a:lnTo>
                    <a:pt x="2856" y="1302"/>
                  </a:lnTo>
                  <a:lnTo>
                    <a:pt x="2857" y="982"/>
                  </a:lnTo>
                  <a:lnTo>
                    <a:pt x="2858" y="897"/>
                  </a:lnTo>
                  <a:lnTo>
                    <a:pt x="2859" y="1285"/>
                  </a:lnTo>
                  <a:lnTo>
                    <a:pt x="2860" y="644"/>
                  </a:lnTo>
                  <a:lnTo>
                    <a:pt x="2862" y="1009"/>
                  </a:lnTo>
                  <a:lnTo>
                    <a:pt x="2863" y="1182"/>
                  </a:lnTo>
                  <a:lnTo>
                    <a:pt x="2864" y="882"/>
                  </a:lnTo>
                  <a:lnTo>
                    <a:pt x="2865" y="1473"/>
                  </a:lnTo>
                  <a:lnTo>
                    <a:pt x="2866" y="1211"/>
                  </a:lnTo>
                  <a:lnTo>
                    <a:pt x="2868" y="1475"/>
                  </a:lnTo>
                  <a:lnTo>
                    <a:pt x="2869" y="1277"/>
                  </a:lnTo>
                  <a:lnTo>
                    <a:pt x="2870" y="1095"/>
                  </a:lnTo>
                  <a:lnTo>
                    <a:pt x="2872" y="655"/>
                  </a:lnTo>
                  <a:lnTo>
                    <a:pt x="2873" y="1161"/>
                  </a:lnTo>
                  <a:lnTo>
                    <a:pt x="2874" y="992"/>
                  </a:lnTo>
                  <a:lnTo>
                    <a:pt x="2875" y="1234"/>
                  </a:lnTo>
                  <a:lnTo>
                    <a:pt x="2876" y="825"/>
                  </a:lnTo>
                  <a:lnTo>
                    <a:pt x="2877" y="1094"/>
                  </a:lnTo>
                  <a:lnTo>
                    <a:pt x="2879" y="785"/>
                  </a:lnTo>
                  <a:lnTo>
                    <a:pt x="2880" y="1041"/>
                  </a:lnTo>
                  <a:lnTo>
                    <a:pt x="2882" y="1178"/>
                  </a:lnTo>
                  <a:lnTo>
                    <a:pt x="2883" y="669"/>
                  </a:lnTo>
                  <a:lnTo>
                    <a:pt x="2884" y="1118"/>
                  </a:lnTo>
                  <a:lnTo>
                    <a:pt x="2885" y="1637"/>
                  </a:lnTo>
                  <a:lnTo>
                    <a:pt x="2886" y="915"/>
                  </a:lnTo>
                  <a:lnTo>
                    <a:pt x="2887" y="885"/>
                  </a:lnTo>
                  <a:lnTo>
                    <a:pt x="2888" y="1025"/>
                  </a:lnTo>
                  <a:lnTo>
                    <a:pt x="2891" y="1297"/>
                  </a:lnTo>
                  <a:lnTo>
                    <a:pt x="2892" y="982"/>
                  </a:lnTo>
                  <a:lnTo>
                    <a:pt x="2893" y="1247"/>
                  </a:lnTo>
                  <a:lnTo>
                    <a:pt x="2894" y="1265"/>
                  </a:lnTo>
                  <a:lnTo>
                    <a:pt x="2895" y="1433"/>
                  </a:lnTo>
                  <a:lnTo>
                    <a:pt x="2896" y="954"/>
                  </a:lnTo>
                  <a:lnTo>
                    <a:pt x="2897" y="1333"/>
                  </a:lnTo>
                  <a:lnTo>
                    <a:pt x="2898" y="634"/>
                  </a:lnTo>
                  <a:lnTo>
                    <a:pt x="2899" y="1384"/>
                  </a:lnTo>
                  <a:lnTo>
                    <a:pt x="2902" y="1358"/>
                  </a:lnTo>
                  <a:lnTo>
                    <a:pt x="2903" y="516"/>
                  </a:lnTo>
                  <a:lnTo>
                    <a:pt x="2904" y="1157"/>
                  </a:lnTo>
                  <a:lnTo>
                    <a:pt x="2905" y="1436"/>
                  </a:lnTo>
                  <a:lnTo>
                    <a:pt x="2906" y="462"/>
                  </a:lnTo>
                  <a:lnTo>
                    <a:pt x="2907" y="816"/>
                  </a:lnTo>
                  <a:lnTo>
                    <a:pt x="2908" y="1108"/>
                  </a:lnTo>
                  <a:lnTo>
                    <a:pt x="2909" y="786"/>
                  </a:lnTo>
                  <a:lnTo>
                    <a:pt x="2911" y="1075"/>
                  </a:lnTo>
                  <a:lnTo>
                    <a:pt x="2913" y="1433"/>
                  </a:lnTo>
                  <a:lnTo>
                    <a:pt x="2914" y="890"/>
                  </a:lnTo>
                  <a:lnTo>
                    <a:pt x="2915" y="1322"/>
                  </a:lnTo>
                  <a:lnTo>
                    <a:pt x="2916" y="986"/>
                  </a:lnTo>
                  <a:lnTo>
                    <a:pt x="2917" y="1063"/>
                  </a:lnTo>
                  <a:lnTo>
                    <a:pt x="2918" y="1368"/>
                  </a:lnTo>
                  <a:lnTo>
                    <a:pt x="2920" y="1273"/>
                  </a:lnTo>
                  <a:lnTo>
                    <a:pt x="2921" y="1300"/>
                  </a:lnTo>
                  <a:lnTo>
                    <a:pt x="2922" y="985"/>
                  </a:lnTo>
                  <a:lnTo>
                    <a:pt x="2924" y="1087"/>
                  </a:lnTo>
                  <a:lnTo>
                    <a:pt x="2925" y="1000"/>
                  </a:lnTo>
                  <a:lnTo>
                    <a:pt x="2926" y="880"/>
                  </a:lnTo>
                  <a:lnTo>
                    <a:pt x="2927" y="659"/>
                  </a:lnTo>
                  <a:lnTo>
                    <a:pt x="2928" y="599"/>
                  </a:lnTo>
                  <a:lnTo>
                    <a:pt x="2930" y="1049"/>
                  </a:lnTo>
                  <a:lnTo>
                    <a:pt x="2931" y="899"/>
                  </a:lnTo>
                  <a:lnTo>
                    <a:pt x="2932" y="814"/>
                  </a:lnTo>
                  <a:lnTo>
                    <a:pt x="2933" y="901"/>
                  </a:lnTo>
                  <a:lnTo>
                    <a:pt x="2934" y="1295"/>
                  </a:lnTo>
                  <a:lnTo>
                    <a:pt x="2936" y="982"/>
                  </a:lnTo>
                  <a:lnTo>
                    <a:pt x="2937" y="1483"/>
                  </a:lnTo>
                  <a:lnTo>
                    <a:pt x="2938" y="721"/>
                  </a:lnTo>
                  <a:lnTo>
                    <a:pt x="2940" y="774"/>
                  </a:lnTo>
                  <a:lnTo>
                    <a:pt x="2941" y="1449"/>
                  </a:lnTo>
                  <a:lnTo>
                    <a:pt x="2942" y="742"/>
                  </a:lnTo>
                  <a:lnTo>
                    <a:pt x="2943" y="1050"/>
                  </a:lnTo>
                  <a:lnTo>
                    <a:pt x="2944" y="942"/>
                  </a:lnTo>
                  <a:lnTo>
                    <a:pt x="2945" y="1094"/>
                  </a:lnTo>
                  <a:lnTo>
                    <a:pt x="2947" y="728"/>
                  </a:lnTo>
                  <a:lnTo>
                    <a:pt x="2949" y="1039"/>
                  </a:lnTo>
                  <a:lnTo>
                    <a:pt x="2950" y="771"/>
                  </a:lnTo>
                  <a:lnTo>
                    <a:pt x="2951" y="582"/>
                  </a:lnTo>
                  <a:lnTo>
                    <a:pt x="2952" y="1130"/>
                  </a:lnTo>
                  <a:lnTo>
                    <a:pt x="2953" y="937"/>
                  </a:lnTo>
                  <a:lnTo>
                    <a:pt x="2954" y="1120"/>
                  </a:lnTo>
                  <a:lnTo>
                    <a:pt x="2955" y="1124"/>
                  </a:lnTo>
                  <a:lnTo>
                    <a:pt x="2956" y="1020"/>
                  </a:lnTo>
                  <a:lnTo>
                    <a:pt x="2959" y="1108"/>
                  </a:lnTo>
                  <a:lnTo>
                    <a:pt x="2960" y="1280"/>
                  </a:lnTo>
                  <a:lnTo>
                    <a:pt x="2961" y="653"/>
                  </a:lnTo>
                  <a:lnTo>
                    <a:pt x="2962" y="958"/>
                  </a:lnTo>
                  <a:lnTo>
                    <a:pt x="2963" y="406"/>
                  </a:lnTo>
                  <a:lnTo>
                    <a:pt x="2964" y="1399"/>
                  </a:lnTo>
                  <a:lnTo>
                    <a:pt x="2965" y="1256"/>
                  </a:lnTo>
                  <a:lnTo>
                    <a:pt x="2966" y="1196"/>
                  </a:lnTo>
                  <a:lnTo>
                    <a:pt x="2968" y="1300"/>
                  </a:lnTo>
                  <a:lnTo>
                    <a:pt x="2970" y="697"/>
                  </a:lnTo>
                  <a:lnTo>
                    <a:pt x="2971" y="1020"/>
                  </a:lnTo>
                  <a:lnTo>
                    <a:pt x="2972" y="706"/>
                  </a:lnTo>
                  <a:lnTo>
                    <a:pt x="2973" y="726"/>
                  </a:lnTo>
                  <a:lnTo>
                    <a:pt x="2974" y="1077"/>
                  </a:lnTo>
                  <a:lnTo>
                    <a:pt x="2975" y="909"/>
                  </a:lnTo>
                  <a:lnTo>
                    <a:pt x="2976" y="859"/>
                  </a:lnTo>
                  <a:lnTo>
                    <a:pt x="2978" y="1020"/>
                  </a:lnTo>
                  <a:lnTo>
                    <a:pt x="2979" y="1187"/>
                  </a:lnTo>
                  <a:lnTo>
                    <a:pt x="2981" y="1093"/>
                  </a:lnTo>
                  <a:lnTo>
                    <a:pt x="2982" y="1116"/>
                  </a:lnTo>
                  <a:lnTo>
                    <a:pt x="2983" y="1168"/>
                  </a:lnTo>
                  <a:lnTo>
                    <a:pt x="2984" y="706"/>
                  </a:lnTo>
                  <a:lnTo>
                    <a:pt x="2985" y="923"/>
                  </a:lnTo>
                  <a:lnTo>
                    <a:pt x="2986" y="1016"/>
                  </a:lnTo>
                  <a:lnTo>
                    <a:pt x="2988" y="601"/>
                  </a:lnTo>
                  <a:lnTo>
                    <a:pt x="2989" y="1302"/>
                  </a:lnTo>
                  <a:lnTo>
                    <a:pt x="2990" y="919"/>
                  </a:lnTo>
                  <a:lnTo>
                    <a:pt x="2991" y="1199"/>
                  </a:lnTo>
                  <a:lnTo>
                    <a:pt x="2993" y="810"/>
                  </a:lnTo>
                  <a:lnTo>
                    <a:pt x="2994" y="972"/>
                  </a:lnTo>
                  <a:lnTo>
                    <a:pt x="2995" y="1766"/>
                  </a:lnTo>
                  <a:lnTo>
                    <a:pt x="2997" y="1052"/>
                  </a:lnTo>
                  <a:lnTo>
                    <a:pt x="2998" y="1014"/>
                  </a:lnTo>
                  <a:lnTo>
                    <a:pt x="2999" y="1241"/>
                  </a:lnTo>
                  <a:lnTo>
                    <a:pt x="3000" y="1050"/>
                  </a:lnTo>
                  <a:lnTo>
                    <a:pt x="3001" y="1233"/>
                  </a:lnTo>
                  <a:lnTo>
                    <a:pt x="3002" y="1176"/>
                  </a:lnTo>
                  <a:lnTo>
                    <a:pt x="3004" y="1257"/>
                  </a:lnTo>
                  <a:lnTo>
                    <a:pt x="3005" y="1032"/>
                  </a:lnTo>
                  <a:lnTo>
                    <a:pt x="3007" y="1159"/>
                  </a:lnTo>
                  <a:lnTo>
                    <a:pt x="3008" y="1140"/>
                  </a:lnTo>
                  <a:lnTo>
                    <a:pt x="3009" y="672"/>
                  </a:lnTo>
                  <a:lnTo>
                    <a:pt x="3010" y="1342"/>
                  </a:lnTo>
                  <a:lnTo>
                    <a:pt x="3011" y="690"/>
                  </a:lnTo>
                  <a:lnTo>
                    <a:pt x="3012" y="1439"/>
                  </a:lnTo>
                  <a:lnTo>
                    <a:pt x="3013" y="1010"/>
                  </a:lnTo>
                  <a:lnTo>
                    <a:pt x="3015" y="1090"/>
                  </a:lnTo>
                  <a:lnTo>
                    <a:pt x="3017" y="1229"/>
                  </a:lnTo>
                  <a:lnTo>
                    <a:pt x="3018" y="1342"/>
                  </a:lnTo>
                  <a:lnTo>
                    <a:pt x="3019" y="1426"/>
                  </a:lnTo>
                  <a:lnTo>
                    <a:pt x="3020" y="846"/>
                  </a:lnTo>
                  <a:lnTo>
                    <a:pt x="3021" y="1293"/>
                  </a:lnTo>
                  <a:lnTo>
                    <a:pt x="3022" y="1348"/>
                  </a:lnTo>
                  <a:lnTo>
                    <a:pt x="3023" y="1052"/>
                  </a:lnTo>
                  <a:lnTo>
                    <a:pt x="3024" y="714"/>
                  </a:lnTo>
                  <a:lnTo>
                    <a:pt x="3027" y="1212"/>
                  </a:lnTo>
                  <a:lnTo>
                    <a:pt x="3028" y="421"/>
                  </a:lnTo>
                  <a:lnTo>
                    <a:pt x="3029" y="1414"/>
                  </a:lnTo>
                  <a:lnTo>
                    <a:pt x="3030" y="1352"/>
                  </a:lnTo>
                  <a:lnTo>
                    <a:pt x="3031" y="1453"/>
                  </a:lnTo>
                  <a:lnTo>
                    <a:pt x="3032" y="1220"/>
                  </a:lnTo>
                  <a:lnTo>
                    <a:pt x="3033" y="1055"/>
                  </a:lnTo>
                  <a:lnTo>
                    <a:pt x="3034" y="892"/>
                  </a:lnTo>
                  <a:lnTo>
                    <a:pt x="3036" y="1302"/>
                  </a:lnTo>
                  <a:lnTo>
                    <a:pt x="3038" y="972"/>
                  </a:lnTo>
                  <a:lnTo>
                    <a:pt x="3039" y="1167"/>
                  </a:lnTo>
                  <a:lnTo>
                    <a:pt x="3040" y="1606"/>
                  </a:lnTo>
                  <a:lnTo>
                    <a:pt x="3041" y="875"/>
                  </a:lnTo>
                  <a:lnTo>
                    <a:pt x="3042" y="1285"/>
                  </a:lnTo>
                  <a:lnTo>
                    <a:pt x="3043" y="1367"/>
                  </a:lnTo>
                  <a:lnTo>
                    <a:pt x="3044" y="1048"/>
                  </a:lnTo>
                  <a:lnTo>
                    <a:pt x="3046" y="1152"/>
                  </a:lnTo>
                  <a:lnTo>
                    <a:pt x="3047" y="1290"/>
                  </a:lnTo>
                  <a:lnTo>
                    <a:pt x="3049" y="831"/>
                  </a:lnTo>
                  <a:lnTo>
                    <a:pt x="3050" y="1074"/>
                  </a:lnTo>
                  <a:lnTo>
                    <a:pt x="3051" y="724"/>
                  </a:lnTo>
                  <a:lnTo>
                    <a:pt x="3052" y="1079"/>
                  </a:lnTo>
                  <a:lnTo>
                    <a:pt x="3053" y="1224"/>
                  </a:lnTo>
                  <a:lnTo>
                    <a:pt x="3055" y="1307"/>
                  </a:lnTo>
                  <a:lnTo>
                    <a:pt x="3056" y="1732"/>
                  </a:lnTo>
                  <a:lnTo>
                    <a:pt x="3057" y="995"/>
                  </a:lnTo>
                  <a:lnTo>
                    <a:pt x="3058" y="961"/>
                  </a:lnTo>
                  <a:lnTo>
                    <a:pt x="3059" y="1182"/>
                  </a:lnTo>
                  <a:lnTo>
                    <a:pt x="3061" y="1091"/>
                  </a:lnTo>
                  <a:lnTo>
                    <a:pt x="3062" y="960"/>
                  </a:lnTo>
                  <a:lnTo>
                    <a:pt x="3063" y="851"/>
                  </a:lnTo>
                  <a:lnTo>
                    <a:pt x="3065" y="877"/>
                  </a:lnTo>
                  <a:lnTo>
                    <a:pt x="3066" y="1070"/>
                  </a:lnTo>
                  <a:lnTo>
                    <a:pt x="3067" y="1365"/>
                  </a:lnTo>
                  <a:lnTo>
                    <a:pt x="3068" y="714"/>
                  </a:lnTo>
                  <a:lnTo>
                    <a:pt x="3069" y="1179"/>
                  </a:lnTo>
                  <a:lnTo>
                    <a:pt x="3070" y="721"/>
                  </a:lnTo>
                  <a:lnTo>
                    <a:pt x="3072" y="1207"/>
                  </a:lnTo>
                  <a:lnTo>
                    <a:pt x="3073" y="723"/>
                  </a:lnTo>
                  <a:lnTo>
                    <a:pt x="3075" y="550"/>
                  </a:lnTo>
                  <a:lnTo>
                    <a:pt x="3076" y="922"/>
                  </a:lnTo>
                  <a:lnTo>
                    <a:pt x="3077" y="1064"/>
                  </a:lnTo>
                  <a:lnTo>
                    <a:pt x="3078" y="1165"/>
                  </a:lnTo>
                  <a:lnTo>
                    <a:pt x="3079" y="446"/>
                  </a:lnTo>
                  <a:lnTo>
                    <a:pt x="3080" y="899"/>
                  </a:lnTo>
                  <a:lnTo>
                    <a:pt x="3081" y="800"/>
                  </a:lnTo>
                  <a:lnTo>
                    <a:pt x="3084" y="536"/>
                  </a:lnTo>
                  <a:lnTo>
                    <a:pt x="3085" y="1298"/>
                  </a:lnTo>
                  <a:lnTo>
                    <a:pt x="3086" y="1404"/>
                  </a:lnTo>
                  <a:lnTo>
                    <a:pt x="3087" y="1131"/>
                  </a:lnTo>
                  <a:lnTo>
                    <a:pt x="3088" y="0"/>
                  </a:lnTo>
                  <a:lnTo>
                    <a:pt x="3089" y="1410"/>
                  </a:lnTo>
                  <a:lnTo>
                    <a:pt x="3090" y="1041"/>
                  </a:lnTo>
                  <a:lnTo>
                    <a:pt x="3091" y="886"/>
                  </a:lnTo>
                  <a:lnTo>
                    <a:pt x="3092" y="955"/>
                  </a:lnTo>
                  <a:lnTo>
                    <a:pt x="3095" y="1179"/>
                  </a:lnTo>
                  <a:lnTo>
                    <a:pt x="3096" y="1267"/>
                  </a:lnTo>
                  <a:lnTo>
                    <a:pt x="3097" y="307"/>
                  </a:lnTo>
                  <a:lnTo>
                    <a:pt x="3098" y="736"/>
                  </a:lnTo>
                  <a:lnTo>
                    <a:pt x="3099" y="733"/>
                  </a:lnTo>
                  <a:lnTo>
                    <a:pt x="3100" y="1108"/>
                  </a:lnTo>
                  <a:lnTo>
                    <a:pt x="3101" y="997"/>
                  </a:lnTo>
                  <a:lnTo>
                    <a:pt x="3102" y="860"/>
                  </a:lnTo>
                  <a:lnTo>
                    <a:pt x="3104" y="982"/>
                  </a:lnTo>
                  <a:lnTo>
                    <a:pt x="3106" y="1210"/>
                  </a:lnTo>
                  <a:lnTo>
                    <a:pt x="3107" y="1474"/>
                  </a:lnTo>
                  <a:lnTo>
                    <a:pt x="3108" y="1099"/>
                  </a:lnTo>
                  <a:lnTo>
                    <a:pt x="3109" y="640"/>
                  </a:lnTo>
                  <a:lnTo>
                    <a:pt x="3110" y="1001"/>
                  </a:lnTo>
                  <a:lnTo>
                    <a:pt x="3111" y="805"/>
                  </a:lnTo>
                  <a:lnTo>
                    <a:pt x="3113" y="622"/>
                  </a:lnTo>
                  <a:lnTo>
                    <a:pt x="3114" y="1366"/>
                  </a:lnTo>
                  <a:lnTo>
                    <a:pt x="3115" y="1064"/>
                  </a:lnTo>
                  <a:lnTo>
                    <a:pt x="3116" y="620"/>
                  </a:lnTo>
                  <a:lnTo>
                    <a:pt x="3118" y="1182"/>
                  </a:lnTo>
                  <a:lnTo>
                    <a:pt x="3119" y="541"/>
                  </a:lnTo>
                  <a:lnTo>
                    <a:pt x="3120" y="1003"/>
                  </a:lnTo>
                  <a:lnTo>
                    <a:pt x="3121" y="903"/>
                  </a:lnTo>
                  <a:lnTo>
                    <a:pt x="3123" y="911"/>
                  </a:lnTo>
                  <a:lnTo>
                    <a:pt x="3124" y="1536"/>
                  </a:lnTo>
                  <a:lnTo>
                    <a:pt x="3125" y="745"/>
                  </a:lnTo>
                  <a:lnTo>
                    <a:pt x="3126" y="660"/>
                  </a:lnTo>
                  <a:lnTo>
                    <a:pt x="3127" y="1343"/>
                  </a:lnTo>
                  <a:lnTo>
                    <a:pt x="3129" y="717"/>
                  </a:lnTo>
                  <a:lnTo>
                    <a:pt x="3130" y="943"/>
                  </a:lnTo>
                  <a:lnTo>
                    <a:pt x="3131" y="1283"/>
                  </a:lnTo>
                  <a:lnTo>
                    <a:pt x="3133" y="1119"/>
                  </a:lnTo>
                  <a:lnTo>
                    <a:pt x="3134" y="1365"/>
                  </a:lnTo>
                  <a:lnTo>
                    <a:pt x="3135" y="1198"/>
                  </a:lnTo>
                  <a:lnTo>
                    <a:pt x="3136" y="1401"/>
                  </a:lnTo>
                  <a:lnTo>
                    <a:pt x="3137" y="980"/>
                  </a:lnTo>
                  <a:lnTo>
                    <a:pt x="3138" y="1092"/>
                  </a:lnTo>
                  <a:lnTo>
                    <a:pt x="3140" y="1541"/>
                  </a:lnTo>
                  <a:lnTo>
                    <a:pt x="3142" y="662"/>
                  </a:lnTo>
                  <a:lnTo>
                    <a:pt x="3143" y="1306"/>
                  </a:lnTo>
                  <a:lnTo>
                    <a:pt x="3144" y="1370"/>
                  </a:lnTo>
                  <a:lnTo>
                    <a:pt x="3145" y="788"/>
                  </a:lnTo>
                  <a:lnTo>
                    <a:pt x="3146" y="542"/>
                  </a:lnTo>
                  <a:lnTo>
                    <a:pt x="3147" y="835"/>
                  </a:lnTo>
                  <a:lnTo>
                    <a:pt x="3148" y="903"/>
                  </a:lnTo>
                  <a:lnTo>
                    <a:pt x="3149" y="1110"/>
                  </a:lnTo>
                  <a:lnTo>
                    <a:pt x="3152" y="577"/>
                  </a:lnTo>
                  <a:lnTo>
                    <a:pt x="3153" y="1131"/>
                  </a:lnTo>
                  <a:lnTo>
                    <a:pt x="3154" y="1423"/>
                  </a:lnTo>
                  <a:lnTo>
                    <a:pt x="3155" y="1352"/>
                  </a:lnTo>
                  <a:lnTo>
                    <a:pt x="3156" y="1462"/>
                  </a:lnTo>
                  <a:lnTo>
                    <a:pt x="3157" y="1386"/>
                  </a:lnTo>
                  <a:lnTo>
                    <a:pt x="3158" y="581"/>
                  </a:lnTo>
                  <a:lnTo>
                    <a:pt x="3159" y="1556"/>
                  </a:lnTo>
                  <a:lnTo>
                    <a:pt x="3160" y="885"/>
                  </a:lnTo>
                  <a:lnTo>
                    <a:pt x="3163" y="1078"/>
                  </a:lnTo>
                  <a:lnTo>
                    <a:pt x="3164" y="731"/>
                  </a:lnTo>
                  <a:lnTo>
                    <a:pt x="3165" y="1190"/>
                  </a:lnTo>
                  <a:lnTo>
                    <a:pt x="3166" y="589"/>
                  </a:lnTo>
                  <a:lnTo>
                    <a:pt x="3167" y="1106"/>
                  </a:lnTo>
                  <a:lnTo>
                    <a:pt x="3168" y="1013"/>
                  </a:lnTo>
                  <a:lnTo>
                    <a:pt x="3169" y="1277"/>
                  </a:lnTo>
                  <a:lnTo>
                    <a:pt x="3171" y="858"/>
                  </a:lnTo>
                  <a:lnTo>
                    <a:pt x="3172" y="827"/>
                  </a:lnTo>
                  <a:lnTo>
                    <a:pt x="3174" y="1151"/>
                  </a:lnTo>
                  <a:lnTo>
                    <a:pt x="3175" y="915"/>
                  </a:lnTo>
                  <a:lnTo>
                    <a:pt x="3176" y="1117"/>
                  </a:lnTo>
                  <a:lnTo>
                    <a:pt x="3177" y="1022"/>
                  </a:lnTo>
                  <a:lnTo>
                    <a:pt x="3178" y="892"/>
                  </a:lnTo>
                  <a:lnTo>
                    <a:pt x="3179" y="1150"/>
                  </a:lnTo>
                  <a:lnTo>
                    <a:pt x="3181" y="894"/>
                  </a:lnTo>
                  <a:lnTo>
                    <a:pt x="3182" y="423"/>
                  </a:lnTo>
                  <a:lnTo>
                    <a:pt x="3183" y="1419"/>
                  </a:lnTo>
                  <a:lnTo>
                    <a:pt x="3184" y="1860"/>
                  </a:lnTo>
                  <a:lnTo>
                    <a:pt x="3186" y="931"/>
                  </a:lnTo>
                  <a:lnTo>
                    <a:pt x="3187" y="679"/>
                  </a:lnTo>
                  <a:lnTo>
                    <a:pt x="3188" y="1318"/>
                  </a:lnTo>
                  <a:lnTo>
                    <a:pt x="3190" y="991"/>
                  </a:lnTo>
                  <a:lnTo>
                    <a:pt x="3191" y="735"/>
                  </a:lnTo>
                  <a:lnTo>
                    <a:pt x="3192" y="1295"/>
                  </a:lnTo>
                  <a:lnTo>
                    <a:pt x="3193" y="941"/>
                  </a:lnTo>
                  <a:lnTo>
                    <a:pt x="3194" y="753"/>
                  </a:lnTo>
                  <a:lnTo>
                    <a:pt x="3195" y="1162"/>
                  </a:lnTo>
                  <a:lnTo>
                    <a:pt x="3197" y="1263"/>
                  </a:lnTo>
                  <a:lnTo>
                    <a:pt x="3198" y="1179"/>
                  </a:lnTo>
                  <a:lnTo>
                    <a:pt x="3200" y="984"/>
                  </a:lnTo>
                  <a:lnTo>
                    <a:pt x="3201" y="780"/>
                  </a:lnTo>
                  <a:lnTo>
                    <a:pt x="3202" y="818"/>
                  </a:lnTo>
                  <a:lnTo>
                    <a:pt x="3203" y="982"/>
                  </a:lnTo>
                  <a:lnTo>
                    <a:pt x="3204" y="865"/>
                  </a:lnTo>
                  <a:lnTo>
                    <a:pt x="3205" y="1493"/>
                  </a:lnTo>
                  <a:lnTo>
                    <a:pt x="3206" y="1396"/>
                  </a:lnTo>
                  <a:lnTo>
                    <a:pt x="3208" y="1323"/>
                  </a:lnTo>
                  <a:lnTo>
                    <a:pt x="3210" y="1053"/>
                  </a:lnTo>
                  <a:lnTo>
                    <a:pt x="3211" y="1107"/>
                  </a:lnTo>
                  <a:lnTo>
                    <a:pt x="3212" y="986"/>
                  </a:lnTo>
                  <a:lnTo>
                    <a:pt x="3213" y="991"/>
                  </a:lnTo>
                  <a:lnTo>
                    <a:pt x="3214" y="1325"/>
                  </a:lnTo>
                  <a:lnTo>
                    <a:pt x="3215" y="1264"/>
                  </a:lnTo>
                  <a:lnTo>
                    <a:pt x="3216" y="576"/>
                  </a:lnTo>
                  <a:lnTo>
                    <a:pt x="3217" y="1511"/>
                  </a:lnTo>
                  <a:lnTo>
                    <a:pt x="3220" y="889"/>
                  </a:lnTo>
                  <a:lnTo>
                    <a:pt x="3221" y="1285"/>
                  </a:lnTo>
                  <a:lnTo>
                    <a:pt x="3222" y="877"/>
                  </a:lnTo>
                  <a:lnTo>
                    <a:pt x="3223" y="469"/>
                  </a:lnTo>
                  <a:lnTo>
                    <a:pt x="3224" y="944"/>
                  </a:lnTo>
                  <a:lnTo>
                    <a:pt x="3225" y="1472"/>
                  </a:lnTo>
                  <a:lnTo>
                    <a:pt x="3226" y="658"/>
                  </a:lnTo>
                  <a:lnTo>
                    <a:pt x="3227" y="659"/>
                  </a:lnTo>
                  <a:lnTo>
                    <a:pt x="3229" y="878"/>
                  </a:lnTo>
                  <a:lnTo>
                    <a:pt x="3231" y="594"/>
                  </a:lnTo>
                  <a:lnTo>
                    <a:pt x="3232" y="720"/>
                  </a:lnTo>
                  <a:lnTo>
                    <a:pt x="3233" y="995"/>
                  </a:lnTo>
                  <a:lnTo>
                    <a:pt x="3234" y="1426"/>
                  </a:lnTo>
                  <a:lnTo>
                    <a:pt x="3235" y="1255"/>
                  </a:lnTo>
                  <a:lnTo>
                    <a:pt x="3236" y="1157"/>
                  </a:lnTo>
                  <a:lnTo>
                    <a:pt x="3237" y="862"/>
                  </a:lnTo>
                  <a:lnTo>
                    <a:pt x="3239" y="800"/>
                  </a:lnTo>
                  <a:lnTo>
                    <a:pt x="3240" y="550"/>
                  </a:lnTo>
                  <a:lnTo>
                    <a:pt x="3241" y="1106"/>
                  </a:lnTo>
                  <a:lnTo>
                    <a:pt x="3243" y="810"/>
                  </a:lnTo>
                  <a:lnTo>
                    <a:pt x="3244" y="813"/>
                  </a:lnTo>
                  <a:lnTo>
                    <a:pt x="3245" y="1712"/>
                  </a:lnTo>
                  <a:lnTo>
                    <a:pt x="3246" y="1295"/>
                  </a:lnTo>
                  <a:lnTo>
                    <a:pt x="3248" y="1187"/>
                  </a:lnTo>
                  <a:lnTo>
                    <a:pt x="3249" y="1202"/>
                  </a:lnTo>
                  <a:lnTo>
                    <a:pt x="3250" y="960"/>
                  </a:lnTo>
                  <a:lnTo>
                    <a:pt x="3251" y="771"/>
                  </a:lnTo>
                  <a:lnTo>
                    <a:pt x="3252" y="1725"/>
                  </a:lnTo>
                  <a:lnTo>
                    <a:pt x="3254" y="805"/>
                  </a:lnTo>
                  <a:lnTo>
                    <a:pt x="3255" y="572"/>
                  </a:lnTo>
                  <a:lnTo>
                    <a:pt x="3256" y="886"/>
                  </a:lnTo>
                  <a:lnTo>
                    <a:pt x="3258" y="835"/>
                  </a:lnTo>
                  <a:lnTo>
                    <a:pt x="3259" y="1111"/>
                  </a:lnTo>
                  <a:lnTo>
                    <a:pt x="3260" y="898"/>
                  </a:lnTo>
                  <a:lnTo>
                    <a:pt x="3261" y="1003"/>
                  </a:lnTo>
                  <a:lnTo>
                    <a:pt x="3262" y="794"/>
                  </a:lnTo>
                  <a:lnTo>
                    <a:pt x="3263" y="708"/>
                  </a:lnTo>
                  <a:lnTo>
                    <a:pt x="3265" y="934"/>
                  </a:lnTo>
                  <a:lnTo>
                    <a:pt x="3266" y="1376"/>
                  </a:lnTo>
                  <a:lnTo>
                    <a:pt x="3268" y="1505"/>
                  </a:lnTo>
                  <a:lnTo>
                    <a:pt x="3269" y="763"/>
                  </a:lnTo>
                  <a:lnTo>
                    <a:pt x="3270" y="883"/>
                  </a:lnTo>
                  <a:lnTo>
                    <a:pt x="3271" y="1089"/>
                  </a:lnTo>
                  <a:lnTo>
                    <a:pt x="3272" y="962"/>
                  </a:lnTo>
                  <a:lnTo>
                    <a:pt x="3273" y="1141"/>
                  </a:lnTo>
                  <a:lnTo>
                    <a:pt x="3274" y="1239"/>
                  </a:lnTo>
                  <a:lnTo>
                    <a:pt x="3277" y="1141"/>
                  </a:lnTo>
                  <a:lnTo>
                    <a:pt x="3278" y="1041"/>
                  </a:lnTo>
                  <a:lnTo>
                    <a:pt x="3279" y="820"/>
                  </a:lnTo>
                  <a:lnTo>
                    <a:pt x="3280" y="1382"/>
                  </a:lnTo>
                  <a:lnTo>
                    <a:pt x="3281" y="966"/>
                  </a:lnTo>
                  <a:lnTo>
                    <a:pt x="3282" y="839"/>
                  </a:lnTo>
                  <a:lnTo>
                    <a:pt x="3283" y="563"/>
                  </a:lnTo>
                  <a:lnTo>
                    <a:pt x="3284" y="466"/>
                  </a:lnTo>
                  <a:lnTo>
                    <a:pt x="3285" y="950"/>
                  </a:lnTo>
                  <a:lnTo>
                    <a:pt x="3288" y="1523"/>
                  </a:lnTo>
                  <a:lnTo>
                    <a:pt x="3289" y="1067"/>
                  </a:lnTo>
                  <a:lnTo>
                    <a:pt x="3290" y="417"/>
                  </a:lnTo>
                  <a:lnTo>
                    <a:pt x="3291" y="1236"/>
                  </a:lnTo>
                  <a:lnTo>
                    <a:pt x="3292" y="1201"/>
                  </a:lnTo>
                  <a:lnTo>
                    <a:pt x="3293" y="534"/>
                  </a:lnTo>
                  <a:lnTo>
                    <a:pt x="3294" y="703"/>
                  </a:lnTo>
                  <a:lnTo>
                    <a:pt x="3295" y="1268"/>
                  </a:lnTo>
                  <a:lnTo>
                    <a:pt x="3297" y="1116"/>
                  </a:lnTo>
                  <a:lnTo>
                    <a:pt x="3299" y="1002"/>
                  </a:lnTo>
                  <a:lnTo>
                    <a:pt x="3300" y="1227"/>
                  </a:lnTo>
                  <a:lnTo>
                    <a:pt x="3301" y="1185"/>
                  </a:lnTo>
                  <a:lnTo>
                    <a:pt x="3302" y="1219"/>
                  </a:lnTo>
                  <a:lnTo>
                    <a:pt x="3303" y="799"/>
                  </a:lnTo>
                  <a:lnTo>
                    <a:pt x="3304" y="800"/>
                  </a:lnTo>
                  <a:lnTo>
                    <a:pt x="3306" y="950"/>
                  </a:lnTo>
                  <a:lnTo>
                    <a:pt x="3307" y="1170"/>
                  </a:lnTo>
                  <a:lnTo>
                    <a:pt x="3308" y="843"/>
                  </a:lnTo>
                  <a:lnTo>
                    <a:pt x="3309" y="1182"/>
                  </a:lnTo>
                  <a:lnTo>
                    <a:pt x="3311" y="433"/>
                  </a:lnTo>
                  <a:lnTo>
                    <a:pt x="3312" y="1302"/>
                  </a:lnTo>
                  <a:lnTo>
                    <a:pt x="3313" y="1647"/>
                  </a:lnTo>
                  <a:lnTo>
                    <a:pt x="3314" y="1151"/>
                  </a:lnTo>
                  <a:lnTo>
                    <a:pt x="3316" y="1206"/>
                  </a:lnTo>
                  <a:lnTo>
                    <a:pt x="3317" y="962"/>
                  </a:lnTo>
                  <a:lnTo>
                    <a:pt x="3318" y="1110"/>
                  </a:lnTo>
                  <a:lnTo>
                    <a:pt x="3319" y="1776"/>
                  </a:lnTo>
                  <a:lnTo>
                    <a:pt x="3320" y="1099"/>
                  </a:lnTo>
                  <a:lnTo>
                    <a:pt x="3322" y="827"/>
                  </a:lnTo>
                  <a:lnTo>
                    <a:pt x="3323" y="714"/>
                  </a:lnTo>
                  <a:lnTo>
                    <a:pt x="3324" y="896"/>
                  </a:lnTo>
                  <a:lnTo>
                    <a:pt x="3326" y="982"/>
                  </a:lnTo>
                  <a:lnTo>
                    <a:pt x="3327" y="879"/>
                  </a:lnTo>
                  <a:lnTo>
                    <a:pt x="3328" y="509"/>
                  </a:lnTo>
                  <a:lnTo>
                    <a:pt x="3329" y="1331"/>
                  </a:lnTo>
                  <a:lnTo>
                    <a:pt x="3330" y="1061"/>
                  </a:lnTo>
                  <a:lnTo>
                    <a:pt x="3331" y="573"/>
                  </a:lnTo>
                  <a:lnTo>
                    <a:pt x="3333" y="953"/>
                  </a:lnTo>
                  <a:lnTo>
                    <a:pt x="3335" y="1186"/>
                  </a:lnTo>
                  <a:lnTo>
                    <a:pt x="3336" y="1195"/>
                  </a:lnTo>
                  <a:lnTo>
                    <a:pt x="3337" y="1278"/>
                  </a:lnTo>
                  <a:lnTo>
                    <a:pt x="3338" y="1194"/>
                  </a:lnTo>
                  <a:lnTo>
                    <a:pt x="3339" y="820"/>
                  </a:lnTo>
                  <a:lnTo>
                    <a:pt x="3340" y="1243"/>
                  </a:lnTo>
                  <a:lnTo>
                    <a:pt x="3341" y="1312"/>
                  </a:lnTo>
                  <a:lnTo>
                    <a:pt x="3342" y="1127"/>
                  </a:lnTo>
                  <a:lnTo>
                    <a:pt x="3345" y="1548"/>
                  </a:lnTo>
                  <a:lnTo>
                    <a:pt x="3346" y="1088"/>
                  </a:lnTo>
                  <a:lnTo>
                    <a:pt x="3347" y="975"/>
                  </a:lnTo>
                  <a:lnTo>
                    <a:pt x="3348" y="684"/>
                  </a:lnTo>
                  <a:lnTo>
                    <a:pt x="3349" y="963"/>
                  </a:lnTo>
                  <a:lnTo>
                    <a:pt x="3350" y="884"/>
                  </a:lnTo>
                  <a:lnTo>
                    <a:pt x="3351" y="1130"/>
                  </a:lnTo>
                  <a:lnTo>
                    <a:pt x="3352" y="1248"/>
                  </a:lnTo>
                  <a:lnTo>
                    <a:pt x="3353" y="290"/>
                  </a:lnTo>
                  <a:lnTo>
                    <a:pt x="3356" y="258"/>
                  </a:lnTo>
                  <a:lnTo>
                    <a:pt x="3357" y="867"/>
                  </a:lnTo>
                  <a:lnTo>
                    <a:pt x="3358" y="1197"/>
                  </a:lnTo>
                  <a:lnTo>
                    <a:pt x="3359" y="912"/>
                  </a:lnTo>
                  <a:lnTo>
                    <a:pt x="3360" y="942"/>
                  </a:lnTo>
                  <a:lnTo>
                    <a:pt x="3361" y="1070"/>
                  </a:lnTo>
                  <a:lnTo>
                    <a:pt x="3362" y="1509"/>
                  </a:lnTo>
                  <a:lnTo>
                    <a:pt x="3364" y="1088"/>
                  </a:lnTo>
                  <a:lnTo>
                    <a:pt x="3365" y="606"/>
                  </a:lnTo>
                  <a:lnTo>
                    <a:pt x="3366" y="1480"/>
                  </a:lnTo>
                  <a:lnTo>
                    <a:pt x="3368" y="1413"/>
                  </a:lnTo>
                  <a:lnTo>
                    <a:pt x="3369" y="1453"/>
                  </a:lnTo>
                  <a:lnTo>
                    <a:pt x="3370" y="740"/>
                  </a:lnTo>
                  <a:lnTo>
                    <a:pt x="3371" y="759"/>
                  </a:lnTo>
                  <a:lnTo>
                    <a:pt x="3372" y="1218"/>
                  </a:lnTo>
                  <a:lnTo>
                    <a:pt x="3374" y="1254"/>
                  </a:lnTo>
                  <a:lnTo>
                    <a:pt x="3375" y="415"/>
                  </a:lnTo>
                  <a:lnTo>
                    <a:pt x="3376" y="1146"/>
                  </a:lnTo>
                  <a:lnTo>
                    <a:pt x="3377" y="892"/>
                  </a:lnTo>
                  <a:lnTo>
                    <a:pt x="3379" y="774"/>
                  </a:lnTo>
                  <a:lnTo>
                    <a:pt x="3380" y="1304"/>
                  </a:lnTo>
                  <a:lnTo>
                    <a:pt x="3381" y="1081"/>
                  </a:lnTo>
                  <a:lnTo>
                    <a:pt x="3382" y="1423"/>
                  </a:lnTo>
                  <a:lnTo>
                    <a:pt x="3384" y="1041"/>
                  </a:lnTo>
                  <a:lnTo>
                    <a:pt x="3385" y="1101"/>
                  </a:lnTo>
                  <a:lnTo>
                    <a:pt x="3386" y="1112"/>
                  </a:lnTo>
                  <a:lnTo>
                    <a:pt x="3387" y="927"/>
                  </a:lnTo>
                  <a:lnTo>
                    <a:pt x="3388" y="1602"/>
                  </a:lnTo>
                  <a:lnTo>
                    <a:pt x="3390" y="657"/>
                  </a:lnTo>
                  <a:lnTo>
                    <a:pt x="3391" y="862"/>
                  </a:lnTo>
                  <a:lnTo>
                    <a:pt x="3393" y="909"/>
                  </a:lnTo>
                  <a:lnTo>
                    <a:pt x="3394" y="1175"/>
                  </a:lnTo>
                  <a:lnTo>
                    <a:pt x="3395" y="788"/>
                  </a:lnTo>
                  <a:lnTo>
                    <a:pt x="3396" y="1201"/>
                  </a:lnTo>
                  <a:lnTo>
                    <a:pt x="3397" y="1136"/>
                  </a:lnTo>
                  <a:lnTo>
                    <a:pt x="3398" y="1052"/>
                  </a:lnTo>
                  <a:lnTo>
                    <a:pt x="3399" y="836"/>
                  </a:lnTo>
                  <a:lnTo>
                    <a:pt x="3401" y="1162"/>
                  </a:lnTo>
                  <a:lnTo>
                    <a:pt x="3403" y="809"/>
                  </a:lnTo>
                  <a:lnTo>
                    <a:pt x="3404" y="537"/>
                  </a:lnTo>
                  <a:lnTo>
                    <a:pt x="3405" y="718"/>
                  </a:lnTo>
                  <a:lnTo>
                    <a:pt x="3406" y="1289"/>
                  </a:lnTo>
                  <a:lnTo>
                    <a:pt x="3407" y="1206"/>
                  </a:lnTo>
                  <a:lnTo>
                    <a:pt x="3408" y="1059"/>
                  </a:lnTo>
                  <a:lnTo>
                    <a:pt x="3409" y="902"/>
                  </a:lnTo>
                  <a:lnTo>
                    <a:pt x="3410" y="1224"/>
                  </a:lnTo>
                  <a:lnTo>
                    <a:pt x="3413" y="465"/>
                  </a:lnTo>
                  <a:lnTo>
                    <a:pt x="3414" y="1431"/>
                  </a:lnTo>
                  <a:lnTo>
                    <a:pt x="3415" y="1064"/>
                  </a:lnTo>
                  <a:lnTo>
                    <a:pt x="3416" y="847"/>
                  </a:lnTo>
                  <a:lnTo>
                    <a:pt x="3417" y="1127"/>
                  </a:lnTo>
                  <a:lnTo>
                    <a:pt x="3418" y="962"/>
                  </a:lnTo>
                  <a:lnTo>
                    <a:pt x="3419" y="405"/>
                  </a:lnTo>
                  <a:lnTo>
                    <a:pt x="3420" y="1443"/>
                  </a:lnTo>
                  <a:lnTo>
                    <a:pt x="3422" y="308"/>
                  </a:lnTo>
                  <a:lnTo>
                    <a:pt x="3424" y="513"/>
                  </a:lnTo>
                  <a:lnTo>
                    <a:pt x="3425" y="1100"/>
                  </a:lnTo>
                  <a:lnTo>
                    <a:pt x="3426" y="797"/>
                  </a:lnTo>
                  <a:lnTo>
                    <a:pt x="3427" y="790"/>
                  </a:lnTo>
                  <a:lnTo>
                    <a:pt x="3428" y="1163"/>
                  </a:lnTo>
                  <a:lnTo>
                    <a:pt x="3429" y="1269"/>
                  </a:lnTo>
                  <a:lnTo>
                    <a:pt x="3430" y="1172"/>
                  </a:lnTo>
                  <a:lnTo>
                    <a:pt x="3432" y="1169"/>
                  </a:lnTo>
                  <a:lnTo>
                    <a:pt x="3433" y="368"/>
                  </a:lnTo>
                  <a:lnTo>
                    <a:pt x="3434" y="1317"/>
                  </a:lnTo>
                  <a:lnTo>
                    <a:pt x="3436" y="1000"/>
                  </a:lnTo>
                  <a:lnTo>
                    <a:pt x="3437" y="547"/>
                  </a:lnTo>
                  <a:lnTo>
                    <a:pt x="3438" y="594"/>
                  </a:lnTo>
                  <a:lnTo>
                    <a:pt x="3439" y="1088"/>
                  </a:lnTo>
                  <a:lnTo>
                    <a:pt x="3441" y="799"/>
                  </a:lnTo>
                  <a:lnTo>
                    <a:pt x="3442" y="1155"/>
                  </a:lnTo>
                  <a:lnTo>
                    <a:pt x="3443" y="1108"/>
                  </a:lnTo>
                  <a:lnTo>
                    <a:pt x="3444" y="742"/>
                  </a:lnTo>
                  <a:lnTo>
                    <a:pt x="3445" y="1197"/>
                  </a:lnTo>
                  <a:lnTo>
                    <a:pt x="3447" y="1579"/>
                  </a:lnTo>
                  <a:lnTo>
                    <a:pt x="3448" y="785"/>
                  </a:lnTo>
                  <a:lnTo>
                    <a:pt x="3449" y="977"/>
                  </a:lnTo>
                  <a:lnTo>
                    <a:pt x="3451" y="1088"/>
                  </a:lnTo>
                  <a:lnTo>
                    <a:pt x="3452" y="711"/>
                  </a:lnTo>
                  <a:lnTo>
                    <a:pt x="3453" y="838"/>
                  </a:lnTo>
                  <a:lnTo>
                    <a:pt x="3454" y="1534"/>
                  </a:lnTo>
                  <a:lnTo>
                    <a:pt x="3455" y="1469"/>
                  </a:lnTo>
                  <a:lnTo>
                    <a:pt x="3456" y="967"/>
                  </a:lnTo>
                  <a:lnTo>
                    <a:pt x="3458" y="869"/>
                  </a:lnTo>
                  <a:lnTo>
                    <a:pt x="3459" y="1226"/>
                  </a:lnTo>
                  <a:lnTo>
                    <a:pt x="3461" y="1405"/>
                  </a:lnTo>
                  <a:lnTo>
                    <a:pt x="3462" y="1197"/>
                  </a:lnTo>
                  <a:lnTo>
                    <a:pt x="3463" y="1180"/>
                  </a:lnTo>
                  <a:lnTo>
                    <a:pt x="3464" y="1012"/>
                  </a:lnTo>
                  <a:lnTo>
                    <a:pt x="3465" y="1005"/>
                  </a:lnTo>
                  <a:lnTo>
                    <a:pt x="3466" y="632"/>
                  </a:lnTo>
                  <a:lnTo>
                    <a:pt x="3467" y="726"/>
                  </a:lnTo>
                  <a:lnTo>
                    <a:pt x="3470" y="739"/>
                  </a:lnTo>
                  <a:lnTo>
                    <a:pt x="3471" y="870"/>
                  </a:lnTo>
                  <a:lnTo>
                    <a:pt x="3472" y="733"/>
                  </a:lnTo>
                  <a:lnTo>
                    <a:pt x="3473" y="743"/>
                  </a:lnTo>
                  <a:lnTo>
                    <a:pt x="3474" y="960"/>
                  </a:lnTo>
                  <a:lnTo>
                    <a:pt x="3475" y="847"/>
                  </a:lnTo>
                  <a:lnTo>
                    <a:pt x="3476" y="1189"/>
                  </a:lnTo>
                  <a:lnTo>
                    <a:pt x="3477" y="1145"/>
                  </a:lnTo>
                  <a:lnTo>
                    <a:pt x="3478" y="697"/>
                  </a:lnTo>
                  <a:lnTo>
                    <a:pt x="3481" y="621"/>
                  </a:lnTo>
                  <a:lnTo>
                    <a:pt x="3482" y="479"/>
                  </a:lnTo>
                  <a:lnTo>
                    <a:pt x="3483" y="1185"/>
                  </a:lnTo>
                  <a:lnTo>
                    <a:pt x="3484" y="709"/>
                  </a:lnTo>
                  <a:lnTo>
                    <a:pt x="3485" y="1426"/>
                  </a:lnTo>
                  <a:lnTo>
                    <a:pt x="3486" y="662"/>
                  </a:lnTo>
                  <a:lnTo>
                    <a:pt x="3487" y="817"/>
                  </a:lnTo>
                  <a:lnTo>
                    <a:pt x="3488" y="1475"/>
                  </a:lnTo>
                  <a:lnTo>
                    <a:pt x="3490" y="1426"/>
                  </a:lnTo>
                  <a:lnTo>
                    <a:pt x="3491" y="1028"/>
                  </a:lnTo>
                  <a:lnTo>
                    <a:pt x="3493" y="604"/>
                  </a:lnTo>
                  <a:lnTo>
                    <a:pt x="3494" y="887"/>
                  </a:lnTo>
                  <a:lnTo>
                    <a:pt x="3495" y="1117"/>
                  </a:lnTo>
                  <a:lnTo>
                    <a:pt x="3496" y="775"/>
                  </a:lnTo>
                  <a:lnTo>
                    <a:pt x="3497" y="805"/>
                  </a:lnTo>
                  <a:lnTo>
                    <a:pt x="3499" y="1275"/>
                  </a:lnTo>
                  <a:lnTo>
                    <a:pt x="3500" y="680"/>
                  </a:lnTo>
                  <a:lnTo>
                    <a:pt x="3501" y="729"/>
                  </a:lnTo>
                  <a:lnTo>
                    <a:pt x="3502" y="1058"/>
                  </a:lnTo>
                  <a:lnTo>
                    <a:pt x="3504" y="897"/>
                  </a:lnTo>
                  <a:lnTo>
                    <a:pt x="3505" y="1152"/>
                  </a:lnTo>
                  <a:lnTo>
                    <a:pt x="3506" y="1269"/>
                  </a:lnTo>
                  <a:lnTo>
                    <a:pt x="3507" y="631"/>
                  </a:lnTo>
                  <a:lnTo>
                    <a:pt x="3509" y="372"/>
                  </a:lnTo>
                  <a:lnTo>
                    <a:pt x="3510" y="736"/>
                  </a:lnTo>
                  <a:lnTo>
                    <a:pt x="3511" y="1305"/>
                  </a:lnTo>
                  <a:lnTo>
                    <a:pt x="3512" y="775"/>
                  </a:lnTo>
                  <a:lnTo>
                    <a:pt x="3513" y="894"/>
                  </a:lnTo>
                  <a:lnTo>
                    <a:pt x="3515" y="908"/>
                  </a:lnTo>
                  <a:lnTo>
                    <a:pt x="3516" y="856"/>
                  </a:lnTo>
                  <a:lnTo>
                    <a:pt x="3517" y="1111"/>
                  </a:lnTo>
                  <a:lnTo>
                    <a:pt x="3519" y="772"/>
                  </a:lnTo>
                  <a:lnTo>
                    <a:pt x="3520" y="1298"/>
                  </a:lnTo>
                  <a:lnTo>
                    <a:pt x="3521" y="657"/>
                  </a:lnTo>
                  <a:lnTo>
                    <a:pt x="3522" y="1091"/>
                  </a:lnTo>
                  <a:lnTo>
                    <a:pt x="3523" y="1446"/>
                  </a:lnTo>
                  <a:lnTo>
                    <a:pt x="3524" y="886"/>
                  </a:lnTo>
                  <a:lnTo>
                    <a:pt x="3526" y="596"/>
                  </a:lnTo>
                  <a:lnTo>
                    <a:pt x="3528" y="837"/>
                  </a:lnTo>
                  <a:lnTo>
                    <a:pt x="3529" y="751"/>
                  </a:lnTo>
                  <a:lnTo>
                    <a:pt x="3530" y="1059"/>
                  </a:lnTo>
                  <a:lnTo>
                    <a:pt x="3531" y="1236"/>
                  </a:lnTo>
                  <a:lnTo>
                    <a:pt x="3532" y="928"/>
                  </a:lnTo>
                  <a:lnTo>
                    <a:pt x="3533" y="1182"/>
                  </a:lnTo>
                  <a:lnTo>
                    <a:pt x="3534" y="1319"/>
                  </a:lnTo>
                  <a:lnTo>
                    <a:pt x="3535" y="752"/>
                  </a:lnTo>
                  <a:lnTo>
                    <a:pt x="3538" y="811"/>
                  </a:lnTo>
                  <a:lnTo>
                    <a:pt x="3539" y="612"/>
                  </a:lnTo>
                  <a:lnTo>
                    <a:pt x="3540" y="831"/>
                  </a:lnTo>
                  <a:lnTo>
                    <a:pt x="3541" y="1113"/>
                  </a:lnTo>
                  <a:lnTo>
                    <a:pt x="3542" y="982"/>
                  </a:lnTo>
                  <a:lnTo>
                    <a:pt x="3543" y="1056"/>
                  </a:lnTo>
                  <a:lnTo>
                    <a:pt x="3544" y="1145"/>
                  </a:lnTo>
                  <a:lnTo>
                    <a:pt x="3545" y="1269"/>
                  </a:lnTo>
                  <a:lnTo>
                    <a:pt x="3546" y="964"/>
                  </a:lnTo>
                  <a:lnTo>
                    <a:pt x="3549" y="1111"/>
                  </a:lnTo>
                  <a:lnTo>
                    <a:pt x="3550" y="329"/>
                  </a:lnTo>
                  <a:lnTo>
                    <a:pt x="3551" y="421"/>
                  </a:lnTo>
                  <a:lnTo>
                    <a:pt x="3552" y="648"/>
                  </a:lnTo>
                  <a:lnTo>
                    <a:pt x="3553" y="1235"/>
                  </a:lnTo>
                  <a:lnTo>
                    <a:pt x="3554" y="1108"/>
                  </a:lnTo>
                  <a:lnTo>
                    <a:pt x="3555" y="863"/>
                  </a:lnTo>
                  <a:lnTo>
                    <a:pt x="3557" y="967"/>
                  </a:lnTo>
                  <a:lnTo>
                    <a:pt x="3558" y="674"/>
                  </a:lnTo>
                  <a:lnTo>
                    <a:pt x="3559" y="848"/>
                  </a:lnTo>
                  <a:lnTo>
                    <a:pt x="3561" y="1548"/>
                  </a:lnTo>
                  <a:lnTo>
                    <a:pt x="3562" y="1226"/>
                  </a:lnTo>
                  <a:lnTo>
                    <a:pt x="3563" y="1617"/>
                  </a:lnTo>
                  <a:lnTo>
                    <a:pt x="3564" y="1003"/>
                  </a:lnTo>
                  <a:lnTo>
                    <a:pt x="3565" y="942"/>
                  </a:lnTo>
                  <a:lnTo>
                    <a:pt x="3567" y="646"/>
                  </a:lnTo>
                  <a:lnTo>
                    <a:pt x="3568" y="1072"/>
                  </a:lnTo>
                  <a:lnTo>
                    <a:pt x="3569" y="931"/>
                  </a:lnTo>
                  <a:lnTo>
                    <a:pt x="3570" y="1444"/>
                  </a:lnTo>
                  <a:lnTo>
                    <a:pt x="3572" y="885"/>
                  </a:lnTo>
                  <a:lnTo>
                    <a:pt x="3573" y="1183"/>
                  </a:lnTo>
                  <a:lnTo>
                    <a:pt x="3574" y="915"/>
                  </a:lnTo>
                  <a:lnTo>
                    <a:pt x="3575" y="1190"/>
                  </a:lnTo>
                  <a:lnTo>
                    <a:pt x="3577" y="1787"/>
                  </a:lnTo>
                  <a:lnTo>
                    <a:pt x="3578" y="1915"/>
                  </a:lnTo>
                  <a:lnTo>
                    <a:pt x="3579" y="1376"/>
                  </a:lnTo>
                  <a:lnTo>
                    <a:pt x="3580" y="730"/>
                  </a:lnTo>
                  <a:lnTo>
                    <a:pt x="3581" y="1099"/>
                  </a:lnTo>
                  <a:lnTo>
                    <a:pt x="3583" y="829"/>
                  </a:lnTo>
                  <a:lnTo>
                    <a:pt x="3584" y="1297"/>
                  </a:lnTo>
                  <a:lnTo>
                    <a:pt x="3586" y="612"/>
                  </a:lnTo>
                  <a:lnTo>
                    <a:pt x="3587" y="785"/>
                  </a:lnTo>
                  <a:lnTo>
                    <a:pt x="3588" y="1474"/>
                  </a:lnTo>
                  <a:lnTo>
                    <a:pt x="3589" y="757"/>
                  </a:lnTo>
                  <a:lnTo>
                    <a:pt x="3590" y="1276"/>
                  </a:lnTo>
                  <a:lnTo>
                    <a:pt x="3591" y="1259"/>
                  </a:lnTo>
                  <a:lnTo>
                    <a:pt x="3592" y="845"/>
                  </a:lnTo>
                  <a:lnTo>
                    <a:pt x="3594" y="1005"/>
                  </a:lnTo>
                  <a:lnTo>
                    <a:pt x="3596" y="906"/>
                  </a:lnTo>
                  <a:lnTo>
                    <a:pt x="3597" y="690"/>
                  </a:lnTo>
                  <a:lnTo>
                    <a:pt x="3598" y="985"/>
                  </a:lnTo>
                  <a:lnTo>
                    <a:pt x="3599" y="1147"/>
                  </a:lnTo>
                  <a:lnTo>
                    <a:pt x="3600" y="1336"/>
                  </a:lnTo>
                  <a:lnTo>
                    <a:pt x="3601" y="883"/>
                  </a:lnTo>
                  <a:lnTo>
                    <a:pt x="3602" y="769"/>
                  </a:lnTo>
                  <a:lnTo>
                    <a:pt x="3603" y="633"/>
                  </a:lnTo>
                  <a:lnTo>
                    <a:pt x="3606" y="993"/>
                  </a:lnTo>
                  <a:lnTo>
                    <a:pt x="3607" y="1345"/>
                  </a:lnTo>
                  <a:lnTo>
                    <a:pt x="3608" y="1107"/>
                  </a:lnTo>
                  <a:lnTo>
                    <a:pt x="3609" y="1068"/>
                  </a:lnTo>
                  <a:lnTo>
                    <a:pt x="3610" y="1163"/>
                  </a:lnTo>
                  <a:lnTo>
                    <a:pt x="3611" y="1166"/>
                  </a:lnTo>
                  <a:lnTo>
                    <a:pt x="3612" y="1051"/>
                  </a:lnTo>
                  <a:lnTo>
                    <a:pt x="3613" y="689"/>
                  </a:lnTo>
                  <a:lnTo>
                    <a:pt x="3615" y="1179"/>
                  </a:lnTo>
                  <a:lnTo>
                    <a:pt x="3616" y="1060"/>
                  </a:lnTo>
                  <a:lnTo>
                    <a:pt x="3618" y="1523"/>
                  </a:lnTo>
                  <a:lnTo>
                    <a:pt x="3619" y="961"/>
                  </a:lnTo>
                  <a:lnTo>
                    <a:pt x="3620" y="826"/>
                  </a:lnTo>
                  <a:lnTo>
                    <a:pt x="3621" y="1034"/>
                  </a:lnTo>
                  <a:lnTo>
                    <a:pt x="3622" y="755"/>
                  </a:lnTo>
                  <a:lnTo>
                    <a:pt x="3623" y="1523"/>
                  </a:lnTo>
                  <a:lnTo>
                    <a:pt x="3625" y="1300"/>
                  </a:lnTo>
                  <a:lnTo>
                    <a:pt x="3626" y="1120"/>
                  </a:lnTo>
                  <a:lnTo>
                    <a:pt x="3627" y="1220"/>
                  </a:lnTo>
                  <a:lnTo>
                    <a:pt x="3629" y="448"/>
                  </a:lnTo>
                  <a:lnTo>
                    <a:pt x="3630" y="1137"/>
                  </a:lnTo>
                  <a:lnTo>
                    <a:pt x="3631" y="555"/>
                  </a:lnTo>
                  <a:lnTo>
                    <a:pt x="3632" y="1178"/>
                  </a:lnTo>
                  <a:lnTo>
                    <a:pt x="3633" y="817"/>
                  </a:lnTo>
                  <a:lnTo>
                    <a:pt x="3635" y="1093"/>
                  </a:lnTo>
                  <a:lnTo>
                    <a:pt x="3636" y="967"/>
                  </a:lnTo>
                  <a:lnTo>
                    <a:pt x="3637" y="1220"/>
                  </a:lnTo>
                  <a:lnTo>
                    <a:pt x="3638" y="1246"/>
                  </a:lnTo>
                  <a:lnTo>
                    <a:pt x="3640" y="830"/>
                  </a:lnTo>
                  <a:lnTo>
                    <a:pt x="3641" y="1070"/>
                  </a:lnTo>
                  <a:lnTo>
                    <a:pt x="3642" y="1257"/>
                  </a:lnTo>
                  <a:lnTo>
                    <a:pt x="3644" y="849"/>
                  </a:lnTo>
                  <a:lnTo>
                    <a:pt x="3645" y="1148"/>
                  </a:lnTo>
                  <a:lnTo>
                    <a:pt x="3646" y="1332"/>
                  </a:lnTo>
                  <a:lnTo>
                    <a:pt x="3647" y="1005"/>
                  </a:lnTo>
                  <a:lnTo>
                    <a:pt x="3648" y="771"/>
                  </a:lnTo>
                  <a:lnTo>
                    <a:pt x="3649" y="444"/>
                  </a:lnTo>
                  <a:lnTo>
                    <a:pt x="3651" y="1250"/>
                  </a:lnTo>
                  <a:lnTo>
                    <a:pt x="3652" y="1358"/>
                  </a:lnTo>
                  <a:lnTo>
                    <a:pt x="3654" y="718"/>
                  </a:lnTo>
                  <a:lnTo>
                    <a:pt x="3655" y="1080"/>
                  </a:lnTo>
                  <a:lnTo>
                    <a:pt x="3656" y="502"/>
                  </a:lnTo>
                  <a:lnTo>
                    <a:pt x="3657" y="486"/>
                  </a:lnTo>
                  <a:lnTo>
                    <a:pt x="3658" y="753"/>
                  </a:lnTo>
                  <a:lnTo>
                    <a:pt x="3659" y="817"/>
                  </a:lnTo>
                  <a:lnTo>
                    <a:pt x="3660" y="1277"/>
                  </a:lnTo>
                  <a:lnTo>
                    <a:pt x="3662" y="1518"/>
                  </a:lnTo>
                  <a:lnTo>
                    <a:pt x="3664" y="955"/>
                  </a:lnTo>
                  <a:lnTo>
                    <a:pt x="3665" y="847"/>
                  </a:lnTo>
                  <a:lnTo>
                    <a:pt x="3666" y="987"/>
                  </a:lnTo>
                  <a:lnTo>
                    <a:pt x="3667" y="1360"/>
                  </a:lnTo>
                  <a:lnTo>
                    <a:pt x="3668" y="847"/>
                  </a:lnTo>
                  <a:lnTo>
                    <a:pt x="3669" y="1326"/>
                  </a:lnTo>
                  <a:lnTo>
                    <a:pt x="3670" y="1298"/>
                  </a:lnTo>
                  <a:lnTo>
                    <a:pt x="3671" y="1060"/>
                  </a:lnTo>
                  <a:lnTo>
                    <a:pt x="3674" y="1189"/>
                  </a:lnTo>
                  <a:lnTo>
                    <a:pt x="3675" y="717"/>
                  </a:lnTo>
                  <a:lnTo>
                    <a:pt x="3676" y="1250"/>
                  </a:lnTo>
                  <a:lnTo>
                    <a:pt x="3677" y="1195"/>
                  </a:lnTo>
                  <a:lnTo>
                    <a:pt x="3678" y="914"/>
                  </a:lnTo>
                  <a:lnTo>
                    <a:pt x="3679" y="1182"/>
                  </a:lnTo>
                  <a:lnTo>
                    <a:pt x="3680" y="943"/>
                  </a:lnTo>
                  <a:lnTo>
                    <a:pt x="3681" y="701"/>
                  </a:lnTo>
                  <a:lnTo>
                    <a:pt x="3683" y="1122"/>
                  </a:lnTo>
                  <a:lnTo>
                    <a:pt x="3684" y="759"/>
                  </a:lnTo>
                  <a:lnTo>
                    <a:pt x="3686" y="1400"/>
                  </a:lnTo>
                  <a:lnTo>
                    <a:pt x="3687" y="1087"/>
                  </a:lnTo>
                  <a:lnTo>
                    <a:pt x="3688" y="1148"/>
                  </a:lnTo>
                  <a:lnTo>
                    <a:pt x="3689" y="1058"/>
                  </a:lnTo>
                  <a:lnTo>
                    <a:pt x="3690" y="1020"/>
                  </a:lnTo>
                  <a:lnTo>
                    <a:pt x="3692" y="826"/>
                  </a:lnTo>
                  <a:lnTo>
                    <a:pt x="3693" y="1015"/>
                  </a:lnTo>
                  <a:lnTo>
                    <a:pt x="3694" y="482"/>
                  </a:lnTo>
                  <a:lnTo>
                    <a:pt x="3695" y="679"/>
                  </a:lnTo>
                  <a:lnTo>
                    <a:pt x="3697" y="1020"/>
                  </a:lnTo>
                  <a:lnTo>
                    <a:pt x="3698" y="1381"/>
                  </a:lnTo>
                  <a:lnTo>
                    <a:pt x="3699" y="739"/>
                  </a:lnTo>
                  <a:lnTo>
                    <a:pt x="3700" y="507"/>
                  </a:lnTo>
                  <a:lnTo>
                    <a:pt x="3702" y="449"/>
                  </a:lnTo>
                  <a:lnTo>
                    <a:pt x="3703" y="895"/>
                  </a:lnTo>
                  <a:lnTo>
                    <a:pt x="3704" y="1288"/>
                  </a:lnTo>
                  <a:lnTo>
                    <a:pt x="3705" y="1069"/>
                  </a:lnTo>
                  <a:lnTo>
                    <a:pt x="3706" y="1104"/>
                  </a:lnTo>
                  <a:lnTo>
                    <a:pt x="3708" y="772"/>
                  </a:lnTo>
                  <a:lnTo>
                    <a:pt x="3709" y="1053"/>
                  </a:lnTo>
                  <a:lnTo>
                    <a:pt x="3710" y="265"/>
                  </a:lnTo>
                  <a:lnTo>
                    <a:pt x="3712" y="1303"/>
                  </a:lnTo>
                  <a:lnTo>
                    <a:pt x="3713" y="190"/>
                  </a:lnTo>
                  <a:lnTo>
                    <a:pt x="3714" y="846"/>
                  </a:lnTo>
                  <a:lnTo>
                    <a:pt x="3715" y="667"/>
                  </a:lnTo>
                  <a:lnTo>
                    <a:pt x="3716" y="1237"/>
                  </a:lnTo>
                  <a:lnTo>
                    <a:pt x="3717" y="1080"/>
                  </a:lnTo>
                  <a:lnTo>
                    <a:pt x="3719" y="1289"/>
                  </a:lnTo>
                  <a:lnTo>
                    <a:pt x="3721" y="312"/>
                  </a:lnTo>
                  <a:lnTo>
                    <a:pt x="3722" y="929"/>
                  </a:lnTo>
                  <a:lnTo>
                    <a:pt x="3723" y="1295"/>
                  </a:lnTo>
                  <a:lnTo>
                    <a:pt x="3724" y="1044"/>
                  </a:lnTo>
                  <a:lnTo>
                    <a:pt x="3725" y="1237"/>
                  </a:lnTo>
                  <a:lnTo>
                    <a:pt x="3726" y="932"/>
                  </a:lnTo>
                  <a:lnTo>
                    <a:pt x="3727" y="1407"/>
                  </a:lnTo>
                  <a:lnTo>
                    <a:pt x="3728" y="1141"/>
                  </a:lnTo>
                  <a:lnTo>
                    <a:pt x="3731" y="1091"/>
                  </a:lnTo>
                  <a:lnTo>
                    <a:pt x="3732" y="967"/>
                  </a:lnTo>
                  <a:lnTo>
                    <a:pt x="3733" y="968"/>
                  </a:lnTo>
                  <a:lnTo>
                    <a:pt x="3734" y="1000"/>
                  </a:lnTo>
                  <a:lnTo>
                    <a:pt x="3735" y="591"/>
                  </a:lnTo>
                  <a:lnTo>
                    <a:pt x="3736" y="974"/>
                  </a:lnTo>
                  <a:lnTo>
                    <a:pt x="3737" y="1120"/>
                  </a:lnTo>
                  <a:lnTo>
                    <a:pt x="3738" y="964"/>
                  </a:lnTo>
                  <a:lnTo>
                    <a:pt x="3739" y="982"/>
                  </a:lnTo>
                  <a:lnTo>
                    <a:pt x="3741" y="1101"/>
                  </a:lnTo>
                  <a:lnTo>
                    <a:pt x="3743" y="631"/>
                  </a:lnTo>
                  <a:lnTo>
                    <a:pt x="3744" y="857"/>
                  </a:lnTo>
                  <a:lnTo>
                    <a:pt x="3745" y="660"/>
                  </a:lnTo>
                  <a:lnTo>
                    <a:pt x="3746" y="1357"/>
                  </a:lnTo>
                  <a:lnTo>
                    <a:pt x="3747" y="942"/>
                  </a:lnTo>
                  <a:lnTo>
                    <a:pt x="3748" y="1188"/>
                  </a:lnTo>
                  <a:lnTo>
                    <a:pt x="3750" y="831"/>
                  </a:lnTo>
                  <a:lnTo>
                    <a:pt x="3751" y="1150"/>
                  </a:lnTo>
                  <a:lnTo>
                    <a:pt x="3752" y="845"/>
                  </a:lnTo>
                  <a:lnTo>
                    <a:pt x="3754" y="1094"/>
                  </a:lnTo>
                  <a:lnTo>
                    <a:pt x="3755" y="1140"/>
                  </a:lnTo>
                  <a:lnTo>
                    <a:pt x="3756" y="1001"/>
                  </a:lnTo>
                  <a:lnTo>
                    <a:pt x="3757" y="1245"/>
                  </a:lnTo>
                  <a:lnTo>
                    <a:pt x="3758" y="841"/>
                  </a:lnTo>
                  <a:lnTo>
                    <a:pt x="3760" y="721"/>
                  </a:lnTo>
                  <a:lnTo>
                    <a:pt x="3761" y="952"/>
                  </a:lnTo>
                  <a:lnTo>
                    <a:pt x="3762" y="922"/>
                  </a:lnTo>
                  <a:lnTo>
                    <a:pt x="3763" y="1230"/>
                  </a:lnTo>
                  <a:lnTo>
                    <a:pt x="3765" y="839"/>
                  </a:lnTo>
                  <a:lnTo>
                    <a:pt x="3766" y="1058"/>
                  </a:lnTo>
                  <a:lnTo>
                    <a:pt x="3767" y="767"/>
                  </a:lnTo>
                  <a:lnTo>
                    <a:pt x="3768" y="1093"/>
                  </a:lnTo>
                  <a:lnTo>
                    <a:pt x="3770" y="1054"/>
                  </a:lnTo>
                  <a:lnTo>
                    <a:pt x="3771" y="895"/>
                  </a:lnTo>
                  <a:lnTo>
                    <a:pt x="3772" y="1181"/>
                  </a:lnTo>
                  <a:lnTo>
                    <a:pt x="3773" y="1380"/>
                  </a:lnTo>
                  <a:lnTo>
                    <a:pt x="3774" y="1036"/>
                  </a:lnTo>
                  <a:lnTo>
                    <a:pt x="3776" y="1058"/>
                  </a:lnTo>
                  <a:lnTo>
                    <a:pt x="3777" y="1129"/>
                  </a:lnTo>
                  <a:lnTo>
                    <a:pt x="3779" y="1342"/>
                  </a:lnTo>
                  <a:lnTo>
                    <a:pt x="3780" y="858"/>
                  </a:lnTo>
                  <a:lnTo>
                    <a:pt x="3781" y="975"/>
                  </a:lnTo>
                  <a:lnTo>
                    <a:pt x="3782" y="748"/>
                  </a:lnTo>
                  <a:lnTo>
                    <a:pt x="3783" y="456"/>
                  </a:lnTo>
                  <a:lnTo>
                    <a:pt x="3784" y="528"/>
                  </a:lnTo>
                  <a:lnTo>
                    <a:pt x="3785" y="829"/>
                  </a:lnTo>
                  <a:lnTo>
                    <a:pt x="3787" y="943"/>
                  </a:lnTo>
                  <a:lnTo>
                    <a:pt x="3789" y="1412"/>
                  </a:lnTo>
                  <a:lnTo>
                    <a:pt x="3790" y="837"/>
                  </a:lnTo>
                  <a:lnTo>
                    <a:pt x="3791" y="815"/>
                  </a:lnTo>
                  <a:lnTo>
                    <a:pt x="3792" y="792"/>
                  </a:lnTo>
                  <a:lnTo>
                    <a:pt x="3793" y="776"/>
                  </a:lnTo>
                  <a:lnTo>
                    <a:pt x="3794" y="756"/>
                  </a:lnTo>
                  <a:lnTo>
                    <a:pt x="3795" y="547"/>
                  </a:lnTo>
                  <a:lnTo>
                    <a:pt x="3796" y="711"/>
                  </a:lnTo>
                  <a:lnTo>
                    <a:pt x="3799" y="1005"/>
                  </a:lnTo>
                  <a:lnTo>
                    <a:pt x="3800" y="869"/>
                  </a:lnTo>
                  <a:lnTo>
                    <a:pt x="3801" y="1275"/>
                  </a:lnTo>
                  <a:lnTo>
                    <a:pt x="3802" y="1227"/>
                  </a:lnTo>
                  <a:lnTo>
                    <a:pt x="3803" y="762"/>
                  </a:lnTo>
                  <a:lnTo>
                    <a:pt x="3804" y="1180"/>
                  </a:lnTo>
                  <a:lnTo>
                    <a:pt x="3805" y="1333"/>
                  </a:lnTo>
                  <a:lnTo>
                    <a:pt x="3806" y="1117"/>
                  </a:lnTo>
                  <a:lnTo>
                    <a:pt x="3808" y="958"/>
                  </a:lnTo>
                  <a:lnTo>
                    <a:pt x="3809" y="847"/>
                  </a:lnTo>
                  <a:lnTo>
                    <a:pt x="3811" y="1064"/>
                  </a:lnTo>
                  <a:lnTo>
                    <a:pt x="3812" y="1505"/>
                  </a:lnTo>
                  <a:lnTo>
                    <a:pt x="3813" y="506"/>
                  </a:lnTo>
                  <a:lnTo>
                    <a:pt x="3814" y="595"/>
                  </a:lnTo>
                  <a:lnTo>
                    <a:pt x="3815" y="1229"/>
                  </a:lnTo>
                  <a:lnTo>
                    <a:pt x="3816" y="1172"/>
                  </a:lnTo>
                  <a:lnTo>
                    <a:pt x="3818" y="1277"/>
                  </a:lnTo>
                  <a:lnTo>
                    <a:pt x="3819" y="1314"/>
                  </a:lnTo>
                  <a:lnTo>
                    <a:pt x="3820" y="716"/>
                  </a:lnTo>
                  <a:lnTo>
                    <a:pt x="3822" y="1003"/>
                  </a:lnTo>
                  <a:lnTo>
                    <a:pt x="3823" y="300"/>
                  </a:lnTo>
                  <a:lnTo>
                    <a:pt x="3824" y="1360"/>
                  </a:lnTo>
                  <a:lnTo>
                    <a:pt x="3825" y="1010"/>
                  </a:lnTo>
                  <a:lnTo>
                    <a:pt x="3826" y="985"/>
                  </a:lnTo>
                  <a:lnTo>
                    <a:pt x="3828" y="735"/>
                  </a:lnTo>
                  <a:lnTo>
                    <a:pt x="3829" y="720"/>
                  </a:lnTo>
                  <a:lnTo>
                    <a:pt x="3830" y="1152"/>
                  </a:lnTo>
                  <a:lnTo>
                    <a:pt x="3831" y="691"/>
                  </a:lnTo>
                  <a:lnTo>
                    <a:pt x="3833" y="718"/>
                  </a:lnTo>
                  <a:lnTo>
                    <a:pt x="3834" y="566"/>
                  </a:lnTo>
                  <a:lnTo>
                    <a:pt x="3835" y="1304"/>
                  </a:lnTo>
                  <a:lnTo>
                    <a:pt x="3837" y="1000"/>
                  </a:lnTo>
                  <a:lnTo>
                    <a:pt x="3838" y="1176"/>
                  </a:lnTo>
                  <a:lnTo>
                    <a:pt x="3839" y="1190"/>
                  </a:lnTo>
                  <a:lnTo>
                    <a:pt x="3840" y="697"/>
                  </a:lnTo>
                  <a:lnTo>
                    <a:pt x="3841" y="815"/>
                  </a:lnTo>
                  <a:lnTo>
                    <a:pt x="3842" y="1530"/>
                  </a:lnTo>
                  <a:lnTo>
                    <a:pt x="3844" y="602"/>
                  </a:lnTo>
                  <a:lnTo>
                    <a:pt x="3845" y="677"/>
                  </a:lnTo>
                  <a:lnTo>
                    <a:pt x="3847" y="1145"/>
                  </a:lnTo>
                  <a:lnTo>
                    <a:pt x="3848" y="1016"/>
                  </a:lnTo>
                  <a:lnTo>
                    <a:pt x="3849" y="1007"/>
                  </a:lnTo>
                  <a:lnTo>
                    <a:pt x="3850" y="1411"/>
                  </a:lnTo>
                  <a:lnTo>
                    <a:pt x="3851" y="1333"/>
                  </a:lnTo>
                  <a:lnTo>
                    <a:pt x="3852" y="1200"/>
                  </a:lnTo>
                  <a:lnTo>
                    <a:pt x="3853" y="1228"/>
                  </a:lnTo>
                  <a:lnTo>
                    <a:pt x="3855" y="940"/>
                  </a:lnTo>
                  <a:lnTo>
                    <a:pt x="3857" y="1064"/>
                  </a:lnTo>
                  <a:lnTo>
                    <a:pt x="3858" y="1244"/>
                  </a:lnTo>
                  <a:lnTo>
                    <a:pt x="3859" y="1148"/>
                  </a:lnTo>
                  <a:lnTo>
                    <a:pt x="3860" y="436"/>
                  </a:lnTo>
                  <a:lnTo>
                    <a:pt x="3861" y="1278"/>
                  </a:lnTo>
                  <a:lnTo>
                    <a:pt x="3862" y="643"/>
                  </a:lnTo>
                  <a:lnTo>
                    <a:pt x="3863" y="781"/>
                  </a:lnTo>
                  <a:lnTo>
                    <a:pt x="3864" y="1099"/>
                  </a:lnTo>
                  <a:lnTo>
                    <a:pt x="3866" y="973"/>
                  </a:lnTo>
                  <a:lnTo>
                    <a:pt x="3868" y="1427"/>
                  </a:lnTo>
                  <a:lnTo>
                    <a:pt x="3869" y="1436"/>
                  </a:lnTo>
                  <a:lnTo>
                    <a:pt x="3870" y="758"/>
                  </a:lnTo>
                  <a:lnTo>
                    <a:pt x="3871" y="1432"/>
                  </a:lnTo>
                  <a:lnTo>
                    <a:pt x="3872" y="659"/>
                  </a:lnTo>
                  <a:lnTo>
                    <a:pt x="3873" y="1202"/>
                  </a:lnTo>
                  <a:lnTo>
                    <a:pt x="3874" y="1098"/>
                  </a:lnTo>
                  <a:lnTo>
                    <a:pt x="3876" y="858"/>
                  </a:lnTo>
                  <a:lnTo>
                    <a:pt x="3877" y="642"/>
                  </a:lnTo>
                  <a:lnTo>
                    <a:pt x="3879" y="1255"/>
                  </a:lnTo>
                  <a:lnTo>
                    <a:pt x="3880" y="792"/>
                  </a:lnTo>
                  <a:lnTo>
                    <a:pt x="3881" y="1162"/>
                  </a:lnTo>
                  <a:lnTo>
                    <a:pt x="3882" y="1134"/>
                  </a:lnTo>
                  <a:lnTo>
                    <a:pt x="3883" y="902"/>
                  </a:lnTo>
                  <a:lnTo>
                    <a:pt x="3884" y="1288"/>
                  </a:lnTo>
                  <a:lnTo>
                    <a:pt x="3886" y="1215"/>
                  </a:lnTo>
                  <a:lnTo>
                    <a:pt x="3887" y="1043"/>
                  </a:lnTo>
                  <a:lnTo>
                    <a:pt x="3888" y="1061"/>
                  </a:lnTo>
                  <a:lnTo>
                    <a:pt x="3890" y="947"/>
                  </a:lnTo>
                  <a:lnTo>
                    <a:pt x="3891" y="924"/>
                  </a:lnTo>
                  <a:lnTo>
                    <a:pt x="3892" y="1053"/>
                  </a:lnTo>
                  <a:lnTo>
                    <a:pt x="3893" y="765"/>
                  </a:lnTo>
                  <a:lnTo>
                    <a:pt x="3895" y="757"/>
                  </a:lnTo>
                  <a:lnTo>
                    <a:pt x="3896" y="963"/>
                  </a:lnTo>
                  <a:lnTo>
                    <a:pt x="3897" y="1312"/>
                  </a:lnTo>
                  <a:lnTo>
                    <a:pt x="3898" y="741"/>
                  </a:lnTo>
                  <a:lnTo>
                    <a:pt x="3899" y="1147"/>
                  </a:lnTo>
                  <a:lnTo>
                    <a:pt x="3901" y="1363"/>
                  </a:lnTo>
                  <a:lnTo>
                    <a:pt x="3902" y="1002"/>
                  </a:lnTo>
                  <a:lnTo>
                    <a:pt x="3903" y="514"/>
                  </a:lnTo>
                  <a:lnTo>
                    <a:pt x="3905" y="835"/>
                  </a:lnTo>
                  <a:lnTo>
                    <a:pt x="3906" y="662"/>
                  </a:lnTo>
                  <a:lnTo>
                    <a:pt x="3907" y="630"/>
                  </a:lnTo>
                  <a:lnTo>
                    <a:pt x="3908" y="1401"/>
                  </a:lnTo>
                  <a:lnTo>
                    <a:pt x="3909" y="739"/>
                  </a:lnTo>
                  <a:lnTo>
                    <a:pt x="3910" y="1390"/>
                  </a:lnTo>
                  <a:lnTo>
                    <a:pt x="3912" y="1111"/>
                  </a:lnTo>
                  <a:lnTo>
                    <a:pt x="3913" y="1107"/>
                  </a:lnTo>
                  <a:lnTo>
                    <a:pt x="3915" y="1114"/>
                  </a:lnTo>
                  <a:lnTo>
                    <a:pt x="3916" y="916"/>
                  </a:lnTo>
                  <a:lnTo>
                    <a:pt x="3917" y="1350"/>
                  </a:lnTo>
                  <a:lnTo>
                    <a:pt x="3918" y="1165"/>
                  </a:lnTo>
                  <a:lnTo>
                    <a:pt x="3919" y="1247"/>
                  </a:lnTo>
                  <a:lnTo>
                    <a:pt x="3920" y="835"/>
                  </a:lnTo>
                  <a:lnTo>
                    <a:pt x="3921" y="805"/>
                  </a:lnTo>
                  <a:lnTo>
                    <a:pt x="3924" y="1197"/>
                  </a:lnTo>
                  <a:lnTo>
                    <a:pt x="3925" y="968"/>
                  </a:lnTo>
                  <a:lnTo>
                    <a:pt x="3926" y="986"/>
                  </a:lnTo>
                  <a:lnTo>
                    <a:pt x="3927" y="1440"/>
                  </a:lnTo>
                  <a:lnTo>
                    <a:pt x="3928" y="327"/>
                  </a:lnTo>
                  <a:lnTo>
                    <a:pt x="3929" y="648"/>
                  </a:lnTo>
                  <a:lnTo>
                    <a:pt x="3930" y="1622"/>
                  </a:lnTo>
                  <a:lnTo>
                    <a:pt x="3931" y="1354"/>
                  </a:lnTo>
                  <a:lnTo>
                    <a:pt x="3932" y="893"/>
                  </a:lnTo>
                  <a:lnTo>
                    <a:pt x="3934" y="1020"/>
                  </a:lnTo>
                  <a:lnTo>
                    <a:pt x="3936" y="926"/>
                  </a:lnTo>
                  <a:lnTo>
                    <a:pt x="3937" y="660"/>
                  </a:lnTo>
                  <a:lnTo>
                    <a:pt x="3938" y="1233"/>
                  </a:lnTo>
                  <a:lnTo>
                    <a:pt x="3939" y="1219"/>
                  </a:lnTo>
                  <a:lnTo>
                    <a:pt x="3940" y="249"/>
                  </a:lnTo>
                  <a:lnTo>
                    <a:pt x="3941" y="902"/>
                  </a:lnTo>
                  <a:lnTo>
                    <a:pt x="3943" y="993"/>
                  </a:lnTo>
                  <a:lnTo>
                    <a:pt x="3944" y="975"/>
                  </a:lnTo>
                  <a:lnTo>
                    <a:pt x="3945" y="848"/>
                  </a:lnTo>
                  <a:lnTo>
                    <a:pt x="3947" y="958"/>
                  </a:lnTo>
                  <a:lnTo>
                    <a:pt x="3948" y="1049"/>
                  </a:lnTo>
                  <a:lnTo>
                    <a:pt x="3949" y="1592"/>
                  </a:lnTo>
                  <a:lnTo>
                    <a:pt x="3950" y="1344"/>
                  </a:lnTo>
                  <a:lnTo>
                    <a:pt x="3951" y="1033"/>
                  </a:lnTo>
                  <a:lnTo>
                    <a:pt x="3953" y="1136"/>
                  </a:lnTo>
                  <a:lnTo>
                    <a:pt x="3954" y="875"/>
                  </a:lnTo>
                  <a:lnTo>
                    <a:pt x="3955" y="1110"/>
                  </a:lnTo>
                  <a:lnTo>
                    <a:pt x="3956" y="938"/>
                  </a:lnTo>
                  <a:lnTo>
                    <a:pt x="3958" y="928"/>
                  </a:lnTo>
                  <a:lnTo>
                    <a:pt x="3959" y="1197"/>
                  </a:lnTo>
                  <a:lnTo>
                    <a:pt x="3960" y="1429"/>
                  </a:lnTo>
                  <a:lnTo>
                    <a:pt x="3961" y="703"/>
                  </a:lnTo>
                  <a:lnTo>
                    <a:pt x="3963" y="709"/>
                  </a:lnTo>
                  <a:lnTo>
                    <a:pt x="3964" y="902"/>
                  </a:lnTo>
                  <a:lnTo>
                    <a:pt x="3965" y="740"/>
                  </a:lnTo>
                  <a:lnTo>
                    <a:pt x="3966" y="1435"/>
                  </a:lnTo>
                  <a:lnTo>
                    <a:pt x="3967" y="965"/>
                  </a:lnTo>
                  <a:lnTo>
                    <a:pt x="3969" y="1005"/>
                  </a:lnTo>
                  <a:lnTo>
                    <a:pt x="3970" y="638"/>
                  </a:lnTo>
                  <a:lnTo>
                    <a:pt x="3972" y="1169"/>
                  </a:lnTo>
                  <a:lnTo>
                    <a:pt x="3973" y="719"/>
                  </a:lnTo>
                  <a:lnTo>
                    <a:pt x="3974" y="226"/>
                  </a:lnTo>
                  <a:lnTo>
                    <a:pt x="3975" y="979"/>
                  </a:lnTo>
                  <a:lnTo>
                    <a:pt x="3976" y="595"/>
                  </a:lnTo>
                  <a:lnTo>
                    <a:pt x="3977" y="761"/>
                  </a:lnTo>
                  <a:lnTo>
                    <a:pt x="3978" y="994"/>
                  </a:lnTo>
                  <a:lnTo>
                    <a:pt x="3980" y="1522"/>
                  </a:lnTo>
                  <a:lnTo>
                    <a:pt x="3982" y="896"/>
                  </a:lnTo>
                  <a:lnTo>
                    <a:pt x="3983" y="870"/>
                  </a:lnTo>
                  <a:lnTo>
                    <a:pt x="3984" y="1274"/>
                  </a:lnTo>
                  <a:lnTo>
                    <a:pt x="3985" y="1040"/>
                  </a:lnTo>
                  <a:lnTo>
                    <a:pt x="3986" y="1148"/>
                  </a:lnTo>
                  <a:lnTo>
                    <a:pt x="3987" y="857"/>
                  </a:lnTo>
                  <a:lnTo>
                    <a:pt x="3988" y="1094"/>
                  </a:lnTo>
                  <a:lnTo>
                    <a:pt x="3989" y="1212"/>
                  </a:lnTo>
                  <a:lnTo>
                    <a:pt x="3990" y="1015"/>
                  </a:lnTo>
                  <a:lnTo>
                    <a:pt x="3993" y="509"/>
                  </a:lnTo>
                  <a:lnTo>
                    <a:pt x="3994" y="755"/>
                  </a:lnTo>
                  <a:lnTo>
                    <a:pt x="3995" y="758"/>
                  </a:lnTo>
                  <a:lnTo>
                    <a:pt x="3996" y="1350"/>
                  </a:lnTo>
                  <a:lnTo>
                    <a:pt x="3997" y="954"/>
                  </a:lnTo>
                  <a:lnTo>
                    <a:pt x="3998" y="612"/>
                  </a:lnTo>
                  <a:lnTo>
                    <a:pt x="3999" y="979"/>
                  </a:lnTo>
                  <a:lnTo>
                    <a:pt x="4001" y="1235"/>
                  </a:lnTo>
                  <a:lnTo>
                    <a:pt x="4002" y="1169"/>
                  </a:lnTo>
                  <a:lnTo>
                    <a:pt x="4004" y="429"/>
                  </a:lnTo>
                  <a:lnTo>
                    <a:pt x="4005" y="1111"/>
                  </a:lnTo>
                  <a:lnTo>
                    <a:pt x="4006" y="827"/>
                  </a:lnTo>
                  <a:lnTo>
                    <a:pt x="4007" y="1218"/>
                  </a:lnTo>
                  <a:lnTo>
                    <a:pt x="4008" y="619"/>
                  </a:lnTo>
                  <a:lnTo>
                    <a:pt x="4009" y="1201"/>
                  </a:lnTo>
                  <a:lnTo>
                    <a:pt x="4011" y="1762"/>
                  </a:lnTo>
                  <a:lnTo>
                    <a:pt x="4012" y="1051"/>
                  </a:lnTo>
                  <a:lnTo>
                    <a:pt x="4013" y="1328"/>
                  </a:lnTo>
                  <a:lnTo>
                    <a:pt x="4015" y="905"/>
                  </a:lnTo>
                  <a:lnTo>
                    <a:pt x="4016" y="1145"/>
                  </a:lnTo>
                  <a:lnTo>
                    <a:pt x="4017" y="1327"/>
                  </a:lnTo>
                  <a:lnTo>
                    <a:pt x="4018" y="1459"/>
                  </a:lnTo>
                  <a:lnTo>
                    <a:pt x="4019" y="1039"/>
                  </a:lnTo>
                  <a:lnTo>
                    <a:pt x="4021" y="863"/>
                  </a:lnTo>
                  <a:lnTo>
                    <a:pt x="4022" y="1148"/>
                  </a:lnTo>
                  <a:lnTo>
                    <a:pt x="4023" y="738"/>
                  </a:lnTo>
                  <a:lnTo>
                    <a:pt x="4024" y="1058"/>
                  </a:lnTo>
                  <a:lnTo>
                    <a:pt x="4026" y="724"/>
                  </a:lnTo>
                  <a:lnTo>
                    <a:pt x="4027" y="1130"/>
                  </a:lnTo>
                  <a:lnTo>
                    <a:pt x="4028" y="1323"/>
                  </a:lnTo>
                  <a:lnTo>
                    <a:pt x="4030" y="850"/>
                  </a:lnTo>
                  <a:lnTo>
                    <a:pt x="4031" y="1172"/>
                  </a:lnTo>
                  <a:lnTo>
                    <a:pt x="4032" y="1419"/>
                  </a:lnTo>
                  <a:lnTo>
                    <a:pt x="4033" y="1308"/>
                  </a:lnTo>
                  <a:lnTo>
                    <a:pt x="4034" y="818"/>
                  </a:lnTo>
                  <a:lnTo>
                    <a:pt x="4035" y="909"/>
                  </a:lnTo>
                  <a:lnTo>
                    <a:pt x="4037" y="727"/>
                  </a:lnTo>
                  <a:lnTo>
                    <a:pt x="4038" y="1053"/>
                  </a:lnTo>
                  <a:lnTo>
                    <a:pt x="4040" y="895"/>
                  </a:lnTo>
                  <a:lnTo>
                    <a:pt x="4041" y="962"/>
                  </a:lnTo>
                  <a:lnTo>
                    <a:pt x="4042" y="1267"/>
                  </a:lnTo>
                  <a:lnTo>
                    <a:pt x="4043" y="1059"/>
                  </a:lnTo>
                  <a:lnTo>
                    <a:pt x="4044" y="1423"/>
                  </a:lnTo>
                  <a:lnTo>
                    <a:pt x="4045" y="339"/>
                  </a:lnTo>
                  <a:lnTo>
                    <a:pt x="4046" y="1119"/>
                  </a:lnTo>
                  <a:lnTo>
                    <a:pt x="4048" y="846"/>
                  </a:lnTo>
                  <a:lnTo>
                    <a:pt x="4050" y="1110"/>
                  </a:lnTo>
                  <a:lnTo>
                    <a:pt x="4051" y="1256"/>
                  </a:lnTo>
                  <a:lnTo>
                    <a:pt x="4052" y="477"/>
                  </a:lnTo>
                  <a:lnTo>
                    <a:pt x="4053" y="945"/>
                  </a:lnTo>
                  <a:lnTo>
                    <a:pt x="4054" y="1238"/>
                  </a:lnTo>
                  <a:lnTo>
                    <a:pt x="4055" y="1300"/>
                  </a:lnTo>
                  <a:lnTo>
                    <a:pt x="4056" y="742"/>
                  </a:lnTo>
                  <a:lnTo>
                    <a:pt x="4057" y="859"/>
                  </a:lnTo>
                  <a:lnTo>
                    <a:pt x="4059" y="1333"/>
                  </a:lnTo>
                  <a:lnTo>
                    <a:pt x="4061" y="805"/>
                  </a:lnTo>
                  <a:lnTo>
                    <a:pt x="4062" y="1456"/>
                  </a:lnTo>
                  <a:lnTo>
                    <a:pt x="4063" y="1625"/>
                  </a:lnTo>
                  <a:lnTo>
                    <a:pt x="4064" y="906"/>
                  </a:lnTo>
                  <a:lnTo>
                    <a:pt x="4065" y="538"/>
                  </a:lnTo>
                  <a:lnTo>
                    <a:pt x="4066" y="1329"/>
                  </a:lnTo>
                  <a:lnTo>
                    <a:pt x="4067" y="846"/>
                  </a:lnTo>
                  <a:lnTo>
                    <a:pt x="4069" y="1053"/>
                  </a:lnTo>
                  <a:lnTo>
                    <a:pt x="4070" y="834"/>
                  </a:lnTo>
                  <a:lnTo>
                    <a:pt x="4072" y="787"/>
                  </a:lnTo>
                  <a:lnTo>
                    <a:pt x="4073" y="787"/>
                  </a:lnTo>
                  <a:lnTo>
                    <a:pt x="4074" y="810"/>
                  </a:lnTo>
                  <a:lnTo>
                    <a:pt x="4075" y="1015"/>
                  </a:lnTo>
                  <a:lnTo>
                    <a:pt x="4076" y="516"/>
                  </a:lnTo>
                  <a:lnTo>
                    <a:pt x="4077" y="1097"/>
                  </a:lnTo>
                  <a:lnTo>
                    <a:pt x="4079" y="1050"/>
                  </a:lnTo>
                  <a:lnTo>
                    <a:pt x="4080" y="952"/>
                  </a:lnTo>
                  <a:lnTo>
                    <a:pt x="4081" y="1107"/>
                  </a:lnTo>
                  <a:lnTo>
                    <a:pt x="4083" y="499"/>
                  </a:lnTo>
                  <a:lnTo>
                    <a:pt x="4084" y="672"/>
                  </a:lnTo>
                  <a:lnTo>
                    <a:pt x="4085" y="851"/>
                  </a:lnTo>
                  <a:lnTo>
                    <a:pt x="4086" y="1339"/>
                  </a:lnTo>
                  <a:lnTo>
                    <a:pt x="4088" y="790"/>
                  </a:lnTo>
                  <a:lnTo>
                    <a:pt x="4089" y="739"/>
                  </a:lnTo>
                  <a:lnTo>
                    <a:pt x="4090" y="1101"/>
                  </a:lnTo>
                  <a:lnTo>
                    <a:pt x="4091" y="265"/>
                  </a:lnTo>
                  <a:lnTo>
                    <a:pt x="4092" y="1207"/>
                  </a:lnTo>
                  <a:lnTo>
                    <a:pt x="4094" y="1026"/>
                  </a:lnTo>
                  <a:lnTo>
                    <a:pt x="4095" y="1077"/>
                  </a:lnTo>
                  <a:lnTo>
                    <a:pt x="4096" y="1098"/>
                  </a:lnTo>
                  <a:lnTo>
                    <a:pt x="4098" y="873"/>
                  </a:lnTo>
                  <a:lnTo>
                    <a:pt x="4099" y="950"/>
                  </a:lnTo>
                  <a:lnTo>
                    <a:pt x="4100" y="1005"/>
                  </a:lnTo>
                  <a:lnTo>
                    <a:pt x="4101" y="1198"/>
                  </a:lnTo>
                  <a:lnTo>
                    <a:pt x="4102" y="1131"/>
                  </a:lnTo>
                  <a:lnTo>
                    <a:pt x="4103" y="1043"/>
                  </a:lnTo>
                  <a:lnTo>
                    <a:pt x="4105" y="1286"/>
                  </a:lnTo>
                  <a:lnTo>
                    <a:pt x="4106" y="1082"/>
                  </a:lnTo>
                  <a:lnTo>
                    <a:pt x="4108" y="961"/>
                  </a:lnTo>
                  <a:lnTo>
                    <a:pt x="4109" y="767"/>
                  </a:lnTo>
                  <a:lnTo>
                    <a:pt x="4110" y="1158"/>
                  </a:lnTo>
                  <a:lnTo>
                    <a:pt x="4111" y="741"/>
                  </a:lnTo>
                  <a:lnTo>
                    <a:pt x="4112" y="609"/>
                  </a:lnTo>
                  <a:lnTo>
                    <a:pt x="4113" y="1024"/>
                  </a:lnTo>
                  <a:lnTo>
                    <a:pt x="4114" y="944"/>
                  </a:lnTo>
                  <a:lnTo>
                    <a:pt x="4117" y="1529"/>
                  </a:lnTo>
                  <a:lnTo>
                    <a:pt x="4118" y="1019"/>
                  </a:lnTo>
                  <a:lnTo>
                    <a:pt x="4119" y="948"/>
                  </a:lnTo>
                  <a:lnTo>
                    <a:pt x="4120" y="817"/>
                  </a:lnTo>
                  <a:lnTo>
                    <a:pt x="4121" y="997"/>
                  </a:lnTo>
                  <a:lnTo>
                    <a:pt x="4122" y="1009"/>
                  </a:lnTo>
                  <a:lnTo>
                    <a:pt x="4123" y="1102"/>
                  </a:lnTo>
                  <a:lnTo>
                    <a:pt x="4124" y="934"/>
                  </a:lnTo>
                  <a:lnTo>
                    <a:pt x="4125" y="1165"/>
                  </a:lnTo>
                  <a:lnTo>
                    <a:pt x="4127" y="1373"/>
                  </a:lnTo>
                  <a:lnTo>
                    <a:pt x="4129" y="782"/>
                  </a:lnTo>
                  <a:lnTo>
                    <a:pt x="4130" y="954"/>
                  </a:lnTo>
                  <a:lnTo>
                    <a:pt x="4131" y="819"/>
                  </a:lnTo>
                  <a:lnTo>
                    <a:pt x="4132" y="1202"/>
                  </a:lnTo>
                  <a:lnTo>
                    <a:pt x="4133" y="1183"/>
                  </a:lnTo>
                  <a:lnTo>
                    <a:pt x="4134" y="858"/>
                  </a:lnTo>
                  <a:lnTo>
                    <a:pt x="4135" y="590"/>
                  </a:lnTo>
                  <a:lnTo>
                    <a:pt x="4137" y="1381"/>
                  </a:lnTo>
                  <a:lnTo>
                    <a:pt x="4138" y="693"/>
                  </a:lnTo>
                  <a:lnTo>
                    <a:pt x="4140" y="1483"/>
                  </a:lnTo>
                  <a:lnTo>
                    <a:pt x="4141" y="1474"/>
                  </a:lnTo>
                  <a:lnTo>
                    <a:pt x="4142" y="485"/>
                  </a:lnTo>
                  <a:lnTo>
                    <a:pt x="4143" y="1081"/>
                  </a:lnTo>
                  <a:lnTo>
                    <a:pt x="4144" y="1055"/>
                  </a:lnTo>
                  <a:lnTo>
                    <a:pt x="4146" y="768"/>
                  </a:lnTo>
                  <a:lnTo>
                    <a:pt x="4147" y="1697"/>
                  </a:lnTo>
                  <a:lnTo>
                    <a:pt x="4148" y="1518"/>
                  </a:lnTo>
                  <a:lnTo>
                    <a:pt x="4149" y="820"/>
                  </a:lnTo>
                  <a:lnTo>
                    <a:pt x="4151" y="1342"/>
                  </a:lnTo>
                  <a:lnTo>
                    <a:pt x="4152" y="1216"/>
                  </a:lnTo>
                  <a:lnTo>
                    <a:pt x="4153" y="1478"/>
                  </a:lnTo>
                  <a:lnTo>
                    <a:pt x="4154" y="940"/>
                  </a:lnTo>
                  <a:lnTo>
                    <a:pt x="4156" y="961"/>
                  </a:lnTo>
                  <a:lnTo>
                    <a:pt x="4157" y="748"/>
                  </a:lnTo>
                  <a:lnTo>
                    <a:pt x="4158" y="1064"/>
                  </a:lnTo>
                  <a:lnTo>
                    <a:pt x="4159" y="1172"/>
                  </a:lnTo>
                  <a:lnTo>
                    <a:pt x="4160" y="1424"/>
                  </a:lnTo>
                  <a:lnTo>
                    <a:pt x="4162" y="430"/>
                  </a:lnTo>
                  <a:lnTo>
                    <a:pt x="4163" y="960"/>
                  </a:lnTo>
                  <a:lnTo>
                    <a:pt x="4164" y="993"/>
                  </a:lnTo>
                  <a:lnTo>
                    <a:pt x="4166" y="1445"/>
                  </a:lnTo>
                  <a:lnTo>
                    <a:pt x="4167" y="798"/>
                  </a:lnTo>
                  <a:lnTo>
                    <a:pt x="4168" y="809"/>
                  </a:lnTo>
                  <a:lnTo>
                    <a:pt x="4169" y="1685"/>
                  </a:lnTo>
                  <a:lnTo>
                    <a:pt x="4170" y="1107"/>
                  </a:lnTo>
                  <a:lnTo>
                    <a:pt x="4171" y="984"/>
                  </a:lnTo>
                  <a:lnTo>
                    <a:pt x="4173" y="1365"/>
                  </a:lnTo>
                  <a:lnTo>
                    <a:pt x="4175" y="841"/>
                  </a:lnTo>
                  <a:lnTo>
                    <a:pt x="4176" y="1282"/>
                  </a:lnTo>
                  <a:lnTo>
                    <a:pt x="4177" y="376"/>
                  </a:lnTo>
                  <a:lnTo>
                    <a:pt x="4178" y="1112"/>
                  </a:lnTo>
                  <a:lnTo>
                    <a:pt x="4179" y="844"/>
                  </a:lnTo>
                  <a:lnTo>
                    <a:pt x="4180" y="950"/>
                  </a:lnTo>
                  <a:lnTo>
                    <a:pt x="4181" y="1147"/>
                  </a:lnTo>
                  <a:lnTo>
                    <a:pt x="4182" y="1280"/>
                  </a:lnTo>
                  <a:lnTo>
                    <a:pt x="4183" y="733"/>
                  </a:lnTo>
                  <a:lnTo>
                    <a:pt x="4186" y="868"/>
                  </a:lnTo>
                  <a:lnTo>
                    <a:pt x="4187" y="618"/>
                  </a:lnTo>
                  <a:lnTo>
                    <a:pt x="4188" y="1280"/>
                  </a:lnTo>
                  <a:lnTo>
                    <a:pt x="4189" y="429"/>
                  </a:lnTo>
                  <a:lnTo>
                    <a:pt x="4190" y="367"/>
                  </a:lnTo>
                  <a:lnTo>
                    <a:pt x="4191" y="1211"/>
                  </a:lnTo>
                  <a:lnTo>
                    <a:pt x="4192" y="653"/>
                  </a:lnTo>
                  <a:lnTo>
                    <a:pt x="4194" y="1221"/>
                  </a:lnTo>
                  <a:lnTo>
                    <a:pt x="4195" y="1226"/>
                  </a:lnTo>
                  <a:lnTo>
                    <a:pt x="4197" y="1063"/>
                  </a:lnTo>
                  <a:lnTo>
                    <a:pt x="4198" y="911"/>
                  </a:lnTo>
                  <a:lnTo>
                    <a:pt x="4199" y="829"/>
                  </a:lnTo>
                  <a:lnTo>
                    <a:pt x="4200" y="866"/>
                  </a:lnTo>
                  <a:lnTo>
                    <a:pt x="4201" y="1046"/>
                  </a:lnTo>
                  <a:lnTo>
                    <a:pt x="4202" y="1436"/>
                  </a:lnTo>
                  <a:lnTo>
                    <a:pt x="4204" y="767"/>
                  </a:lnTo>
                  <a:lnTo>
                    <a:pt x="4205" y="1321"/>
                  </a:lnTo>
                  <a:lnTo>
                    <a:pt x="4206" y="1160"/>
                  </a:lnTo>
                  <a:lnTo>
                    <a:pt x="4208" y="456"/>
                  </a:lnTo>
                  <a:lnTo>
                    <a:pt x="4209" y="1109"/>
                  </a:lnTo>
                  <a:lnTo>
                    <a:pt x="4210" y="1080"/>
                  </a:lnTo>
                  <a:lnTo>
                    <a:pt x="4211" y="1283"/>
                  </a:lnTo>
                  <a:lnTo>
                    <a:pt x="4212" y="1166"/>
                  </a:lnTo>
                  <a:lnTo>
                    <a:pt x="4214" y="724"/>
                  </a:lnTo>
                  <a:lnTo>
                    <a:pt x="4215" y="1440"/>
                  </a:lnTo>
                  <a:lnTo>
                    <a:pt x="4216" y="838"/>
                  </a:lnTo>
                  <a:lnTo>
                    <a:pt x="4217" y="642"/>
                  </a:lnTo>
                  <a:lnTo>
                    <a:pt x="4219" y="527"/>
                  </a:lnTo>
                  <a:lnTo>
                    <a:pt x="4220" y="818"/>
                  </a:lnTo>
                  <a:lnTo>
                    <a:pt x="4221" y="1382"/>
                  </a:lnTo>
                  <a:lnTo>
                    <a:pt x="4223" y="963"/>
                  </a:lnTo>
                  <a:lnTo>
                    <a:pt x="4224" y="1141"/>
                  </a:lnTo>
                  <a:lnTo>
                    <a:pt x="4225" y="560"/>
                  </a:lnTo>
                  <a:lnTo>
                    <a:pt x="4226" y="1231"/>
                  </a:lnTo>
                  <a:lnTo>
                    <a:pt x="4227" y="741"/>
                  </a:lnTo>
                  <a:lnTo>
                    <a:pt x="4228" y="892"/>
                  </a:lnTo>
                  <a:lnTo>
                    <a:pt x="4230" y="1067"/>
                  </a:lnTo>
                  <a:lnTo>
                    <a:pt x="4231" y="1121"/>
                  </a:lnTo>
                  <a:lnTo>
                    <a:pt x="4233" y="899"/>
                  </a:lnTo>
                  <a:lnTo>
                    <a:pt x="4234" y="726"/>
                  </a:lnTo>
                  <a:lnTo>
                    <a:pt x="4235" y="887"/>
                  </a:lnTo>
                  <a:lnTo>
                    <a:pt x="4236" y="932"/>
                  </a:lnTo>
                  <a:lnTo>
                    <a:pt x="4237" y="942"/>
                  </a:lnTo>
                  <a:lnTo>
                    <a:pt x="4238" y="1170"/>
                  </a:lnTo>
                  <a:lnTo>
                    <a:pt x="4239" y="999"/>
                  </a:lnTo>
                  <a:lnTo>
                    <a:pt x="4241" y="1100"/>
                  </a:lnTo>
                  <a:lnTo>
                    <a:pt x="4243" y="1185"/>
                  </a:lnTo>
                  <a:lnTo>
                    <a:pt x="4244" y="1534"/>
                  </a:lnTo>
                  <a:lnTo>
                    <a:pt x="4245" y="1091"/>
                  </a:lnTo>
                  <a:lnTo>
                    <a:pt x="4246" y="1123"/>
                  </a:lnTo>
                  <a:lnTo>
                    <a:pt x="4247" y="934"/>
                  </a:lnTo>
                  <a:lnTo>
                    <a:pt x="4248" y="831"/>
                  </a:lnTo>
                  <a:lnTo>
                    <a:pt x="4249" y="1498"/>
                  </a:lnTo>
                  <a:lnTo>
                    <a:pt x="4250" y="1106"/>
                  </a:lnTo>
                  <a:lnTo>
                    <a:pt x="4252" y="795"/>
                  </a:lnTo>
                  <a:lnTo>
                    <a:pt x="4254" y="953"/>
                  </a:lnTo>
                  <a:lnTo>
                    <a:pt x="4255" y="781"/>
                  </a:lnTo>
                  <a:lnTo>
                    <a:pt x="4256" y="542"/>
                  </a:lnTo>
                  <a:lnTo>
                    <a:pt x="4257" y="898"/>
                  </a:lnTo>
                  <a:lnTo>
                    <a:pt x="4258" y="1327"/>
                  </a:lnTo>
                  <a:lnTo>
                    <a:pt x="4259" y="1032"/>
                  </a:lnTo>
                  <a:lnTo>
                    <a:pt x="4260" y="710"/>
                  </a:lnTo>
                  <a:lnTo>
                    <a:pt x="4262" y="1728"/>
                  </a:lnTo>
                  <a:lnTo>
                    <a:pt x="4263" y="737"/>
                  </a:lnTo>
                  <a:lnTo>
                    <a:pt x="4265" y="966"/>
                  </a:lnTo>
                  <a:lnTo>
                    <a:pt x="4266" y="979"/>
                  </a:lnTo>
                  <a:lnTo>
                    <a:pt x="4267" y="1103"/>
                  </a:lnTo>
                  <a:lnTo>
                    <a:pt x="4268" y="1245"/>
                  </a:lnTo>
                  <a:lnTo>
                    <a:pt x="4269" y="1303"/>
                  </a:lnTo>
                  <a:lnTo>
                    <a:pt x="4270" y="916"/>
                  </a:lnTo>
                  <a:lnTo>
                    <a:pt x="4272" y="864"/>
                  </a:lnTo>
                  <a:lnTo>
                    <a:pt x="4273" y="618"/>
                  </a:lnTo>
                  <a:lnTo>
                    <a:pt x="4274" y="1169"/>
                  </a:lnTo>
                  <a:lnTo>
                    <a:pt x="4276" y="1055"/>
                  </a:lnTo>
                  <a:lnTo>
                    <a:pt x="4277" y="1394"/>
                  </a:lnTo>
                  <a:lnTo>
                    <a:pt x="4278" y="1431"/>
                  </a:lnTo>
                  <a:lnTo>
                    <a:pt x="4279" y="1393"/>
                  </a:lnTo>
                  <a:lnTo>
                    <a:pt x="4281" y="1572"/>
                  </a:lnTo>
                  <a:lnTo>
                    <a:pt x="4282" y="742"/>
                  </a:lnTo>
                  <a:lnTo>
                    <a:pt x="4283" y="968"/>
                  </a:lnTo>
                  <a:lnTo>
                    <a:pt x="4284" y="1088"/>
                  </a:lnTo>
                  <a:lnTo>
                    <a:pt x="4285" y="624"/>
                  </a:lnTo>
                  <a:lnTo>
                    <a:pt x="4287" y="1553"/>
                  </a:lnTo>
                  <a:lnTo>
                    <a:pt x="4288" y="942"/>
                  </a:lnTo>
                  <a:lnTo>
                    <a:pt x="4289" y="700"/>
                  </a:lnTo>
                  <a:lnTo>
                    <a:pt x="4291" y="582"/>
                  </a:lnTo>
                  <a:lnTo>
                    <a:pt x="4292" y="1042"/>
                  </a:lnTo>
                  <a:lnTo>
                    <a:pt x="4293" y="819"/>
                  </a:lnTo>
                  <a:lnTo>
                    <a:pt x="4294" y="941"/>
                  </a:lnTo>
                  <a:lnTo>
                    <a:pt x="4295" y="892"/>
                  </a:lnTo>
                  <a:lnTo>
                    <a:pt x="4296" y="878"/>
                  </a:lnTo>
                  <a:lnTo>
                    <a:pt x="4298" y="1261"/>
                  </a:lnTo>
                  <a:lnTo>
                    <a:pt x="4299" y="1046"/>
                  </a:lnTo>
                  <a:lnTo>
                    <a:pt x="4301" y="1054"/>
                  </a:lnTo>
                  <a:lnTo>
                    <a:pt x="4302" y="1031"/>
                  </a:lnTo>
                  <a:lnTo>
                    <a:pt x="4303" y="1409"/>
                  </a:lnTo>
                  <a:lnTo>
                    <a:pt x="4304" y="1159"/>
                  </a:lnTo>
                  <a:lnTo>
                    <a:pt x="4305" y="827"/>
                  </a:lnTo>
                  <a:lnTo>
                    <a:pt x="4306" y="1005"/>
                  </a:lnTo>
                  <a:lnTo>
                    <a:pt x="4307" y="720"/>
                  </a:lnTo>
                  <a:lnTo>
                    <a:pt x="4308" y="775"/>
                  </a:lnTo>
                  <a:lnTo>
                    <a:pt x="4311" y="1137"/>
                  </a:lnTo>
                  <a:lnTo>
                    <a:pt x="4312" y="1083"/>
                  </a:lnTo>
                  <a:lnTo>
                    <a:pt x="4313" y="1094"/>
                  </a:lnTo>
                  <a:lnTo>
                    <a:pt x="4314" y="970"/>
                  </a:lnTo>
                  <a:lnTo>
                    <a:pt x="4315" y="1295"/>
                  </a:lnTo>
                  <a:lnTo>
                    <a:pt x="4316" y="1241"/>
                  </a:lnTo>
                  <a:lnTo>
                    <a:pt x="4317" y="984"/>
                  </a:lnTo>
                  <a:lnTo>
                    <a:pt x="4318" y="1063"/>
                  </a:lnTo>
                  <a:lnTo>
                    <a:pt x="4320" y="937"/>
                  </a:lnTo>
                  <a:lnTo>
                    <a:pt x="4322" y="570"/>
                  </a:lnTo>
                  <a:lnTo>
                    <a:pt x="4323" y="661"/>
                  </a:lnTo>
                  <a:lnTo>
                    <a:pt x="4324" y="1165"/>
                  </a:lnTo>
                  <a:lnTo>
                    <a:pt x="4325" y="1023"/>
                  </a:lnTo>
                  <a:lnTo>
                    <a:pt x="4326" y="762"/>
                  </a:lnTo>
                  <a:lnTo>
                    <a:pt x="4327" y="736"/>
                  </a:lnTo>
                  <a:lnTo>
                    <a:pt x="4328" y="1108"/>
                  </a:lnTo>
                  <a:lnTo>
                    <a:pt x="4330" y="828"/>
                  </a:lnTo>
                  <a:lnTo>
                    <a:pt x="4331" y="964"/>
                  </a:lnTo>
                  <a:lnTo>
                    <a:pt x="4333" y="1314"/>
                  </a:lnTo>
                  <a:lnTo>
                    <a:pt x="4334" y="1028"/>
                  </a:lnTo>
                  <a:lnTo>
                    <a:pt x="4335" y="837"/>
                  </a:lnTo>
                  <a:lnTo>
                    <a:pt x="4336" y="1041"/>
                  </a:lnTo>
                  <a:lnTo>
                    <a:pt x="4337" y="1108"/>
                  </a:lnTo>
                  <a:lnTo>
                    <a:pt x="4339" y="1227"/>
                  </a:lnTo>
                  <a:lnTo>
                    <a:pt x="4340" y="1080"/>
                  </a:lnTo>
                  <a:lnTo>
                    <a:pt x="4341" y="937"/>
                  </a:lnTo>
                  <a:lnTo>
                    <a:pt x="4342" y="1224"/>
                  </a:lnTo>
                  <a:lnTo>
                    <a:pt x="4344" y="1083"/>
                  </a:lnTo>
                  <a:lnTo>
                    <a:pt x="4345" y="770"/>
                  </a:lnTo>
                  <a:lnTo>
                    <a:pt x="4346" y="1160"/>
                  </a:lnTo>
                  <a:lnTo>
                    <a:pt x="4347" y="560"/>
                  </a:lnTo>
                  <a:lnTo>
                    <a:pt x="4349" y="1179"/>
                  </a:lnTo>
                  <a:lnTo>
                    <a:pt x="4350" y="1264"/>
                  </a:lnTo>
                  <a:lnTo>
                    <a:pt x="4351" y="928"/>
                  </a:lnTo>
                  <a:lnTo>
                    <a:pt x="4352" y="796"/>
                  </a:lnTo>
                  <a:lnTo>
                    <a:pt x="4353" y="976"/>
                  </a:lnTo>
                  <a:lnTo>
                    <a:pt x="4355" y="954"/>
                  </a:lnTo>
                  <a:lnTo>
                    <a:pt x="4356" y="729"/>
                  </a:lnTo>
                  <a:lnTo>
                    <a:pt x="4357" y="1235"/>
                  </a:lnTo>
                  <a:lnTo>
                    <a:pt x="4359" y="1034"/>
                  </a:lnTo>
                  <a:lnTo>
                    <a:pt x="4360" y="870"/>
                  </a:lnTo>
                  <a:lnTo>
                    <a:pt x="4361" y="1355"/>
                  </a:lnTo>
                  <a:lnTo>
                    <a:pt x="4362" y="1029"/>
                  </a:lnTo>
                  <a:lnTo>
                    <a:pt x="4363" y="1251"/>
                  </a:lnTo>
                  <a:lnTo>
                    <a:pt x="4364" y="1265"/>
                  </a:lnTo>
                  <a:lnTo>
                    <a:pt x="4366" y="1130"/>
                  </a:lnTo>
                  <a:lnTo>
                    <a:pt x="4368" y="645"/>
                  </a:lnTo>
                  <a:lnTo>
                    <a:pt x="4369" y="1080"/>
                  </a:lnTo>
                  <a:lnTo>
                    <a:pt x="4370" y="1081"/>
                  </a:lnTo>
                  <a:lnTo>
                    <a:pt x="4371" y="541"/>
                  </a:lnTo>
                  <a:lnTo>
                    <a:pt x="4372" y="944"/>
                  </a:lnTo>
                  <a:lnTo>
                    <a:pt x="4373" y="1063"/>
                  </a:lnTo>
                  <a:lnTo>
                    <a:pt x="4374" y="1189"/>
                  </a:lnTo>
                  <a:lnTo>
                    <a:pt x="4375" y="873"/>
                  </a:lnTo>
                  <a:lnTo>
                    <a:pt x="4376" y="667"/>
                  </a:lnTo>
                  <a:lnTo>
                    <a:pt x="4379" y="1216"/>
                  </a:lnTo>
                  <a:lnTo>
                    <a:pt x="4380" y="1032"/>
                  </a:lnTo>
                  <a:lnTo>
                    <a:pt x="4381" y="1139"/>
                  </a:lnTo>
                  <a:lnTo>
                    <a:pt x="4382" y="1332"/>
                  </a:lnTo>
                  <a:lnTo>
                    <a:pt x="4383" y="928"/>
                  </a:lnTo>
                  <a:lnTo>
                    <a:pt x="4384" y="1277"/>
                  </a:lnTo>
                  <a:lnTo>
                    <a:pt x="4385" y="1197"/>
                  </a:lnTo>
                  <a:lnTo>
                    <a:pt x="4386" y="1243"/>
                  </a:lnTo>
                  <a:lnTo>
                    <a:pt x="4388" y="1013"/>
                  </a:lnTo>
                  <a:lnTo>
                    <a:pt x="4390" y="777"/>
                  </a:lnTo>
                  <a:lnTo>
                    <a:pt x="4391" y="436"/>
                  </a:lnTo>
                  <a:lnTo>
                    <a:pt x="4392" y="1226"/>
                  </a:lnTo>
                  <a:lnTo>
                    <a:pt x="4393" y="1304"/>
                  </a:lnTo>
                  <a:lnTo>
                    <a:pt x="4394" y="948"/>
                  </a:lnTo>
                  <a:lnTo>
                    <a:pt x="4395" y="925"/>
                  </a:lnTo>
                  <a:lnTo>
                    <a:pt x="4397" y="1150"/>
                  </a:lnTo>
                  <a:lnTo>
                    <a:pt x="4398" y="1082"/>
                  </a:lnTo>
                  <a:lnTo>
                    <a:pt x="4399" y="661"/>
                  </a:lnTo>
                  <a:lnTo>
                    <a:pt x="4401" y="712"/>
                  </a:lnTo>
                  <a:lnTo>
                    <a:pt x="4402" y="1109"/>
                  </a:lnTo>
                  <a:lnTo>
                    <a:pt x="4403" y="1277"/>
                  </a:lnTo>
                  <a:lnTo>
                    <a:pt x="4404" y="672"/>
                  </a:lnTo>
                  <a:lnTo>
                    <a:pt x="4405" y="1212"/>
                  </a:lnTo>
                  <a:lnTo>
                    <a:pt x="4407" y="727"/>
                  </a:lnTo>
                  <a:lnTo>
                    <a:pt x="4408" y="1156"/>
                  </a:lnTo>
                  <a:lnTo>
                    <a:pt x="4409" y="775"/>
                  </a:lnTo>
                  <a:lnTo>
                    <a:pt x="4410" y="642"/>
                  </a:lnTo>
                  <a:lnTo>
                    <a:pt x="4412" y="800"/>
                  </a:lnTo>
                  <a:lnTo>
                    <a:pt x="4413" y="936"/>
                  </a:lnTo>
                  <a:lnTo>
                    <a:pt x="4414" y="1559"/>
                  </a:lnTo>
                  <a:lnTo>
                    <a:pt x="4415" y="883"/>
                  </a:lnTo>
                  <a:lnTo>
                    <a:pt x="4417" y="1188"/>
                  </a:lnTo>
                  <a:lnTo>
                    <a:pt x="4418" y="933"/>
                  </a:lnTo>
                  <a:lnTo>
                    <a:pt x="4419" y="1280"/>
                  </a:lnTo>
                  <a:lnTo>
                    <a:pt x="4420" y="1247"/>
                  </a:lnTo>
                  <a:lnTo>
                    <a:pt x="4421" y="1430"/>
                  </a:lnTo>
                  <a:lnTo>
                    <a:pt x="4423" y="864"/>
                  </a:lnTo>
                  <a:lnTo>
                    <a:pt x="4424" y="1064"/>
                  </a:lnTo>
                  <a:lnTo>
                    <a:pt x="4426" y="1473"/>
                  </a:lnTo>
                  <a:lnTo>
                    <a:pt x="4427" y="1462"/>
                  </a:lnTo>
                  <a:lnTo>
                    <a:pt x="4428" y="673"/>
                  </a:lnTo>
                  <a:lnTo>
                    <a:pt x="4429" y="1485"/>
                  </a:lnTo>
                  <a:lnTo>
                    <a:pt x="4430" y="1647"/>
                  </a:lnTo>
                  <a:lnTo>
                    <a:pt x="4431" y="535"/>
                  </a:lnTo>
                  <a:lnTo>
                    <a:pt x="4432" y="868"/>
                  </a:lnTo>
                  <a:lnTo>
                    <a:pt x="4433" y="561"/>
                  </a:lnTo>
                  <a:lnTo>
                    <a:pt x="4436" y="796"/>
                  </a:lnTo>
                  <a:lnTo>
                    <a:pt x="4437" y="595"/>
                  </a:lnTo>
                  <a:lnTo>
                    <a:pt x="4438" y="698"/>
                  </a:lnTo>
                  <a:lnTo>
                    <a:pt x="4439" y="1243"/>
                  </a:lnTo>
                  <a:lnTo>
                    <a:pt x="4440" y="1177"/>
                  </a:lnTo>
                  <a:lnTo>
                    <a:pt x="4441" y="979"/>
                  </a:lnTo>
                  <a:lnTo>
                    <a:pt x="4442" y="743"/>
                  </a:lnTo>
                  <a:lnTo>
                    <a:pt x="4443" y="592"/>
                  </a:lnTo>
                  <a:lnTo>
                    <a:pt x="4445" y="1205"/>
                  </a:lnTo>
                  <a:lnTo>
                    <a:pt x="4447" y="1331"/>
                  </a:lnTo>
                  <a:lnTo>
                    <a:pt x="4448" y="1011"/>
                  </a:lnTo>
                  <a:lnTo>
                    <a:pt x="4449" y="825"/>
                  </a:lnTo>
                  <a:lnTo>
                    <a:pt x="4450" y="887"/>
                  </a:lnTo>
                  <a:lnTo>
                    <a:pt x="4451" y="528"/>
                  </a:lnTo>
                  <a:lnTo>
                    <a:pt x="4452" y="1290"/>
                  </a:lnTo>
                  <a:lnTo>
                    <a:pt x="4453" y="960"/>
                  </a:lnTo>
                  <a:lnTo>
                    <a:pt x="4455" y="843"/>
                  </a:lnTo>
                  <a:lnTo>
                    <a:pt x="4456" y="863"/>
                  </a:lnTo>
                  <a:lnTo>
                    <a:pt x="4458" y="782"/>
                  </a:lnTo>
                  <a:lnTo>
                    <a:pt x="4459" y="638"/>
                  </a:lnTo>
                  <a:lnTo>
                    <a:pt x="4460" y="1248"/>
                  </a:lnTo>
                  <a:lnTo>
                    <a:pt x="4461" y="971"/>
                  </a:lnTo>
                  <a:lnTo>
                    <a:pt x="4462" y="1210"/>
                  </a:lnTo>
                  <a:lnTo>
                    <a:pt x="4463" y="848"/>
                  </a:lnTo>
                  <a:lnTo>
                    <a:pt x="4465" y="824"/>
                  </a:lnTo>
                  <a:lnTo>
                    <a:pt x="4466" y="1119"/>
                  </a:lnTo>
                  <a:lnTo>
                    <a:pt x="4467" y="923"/>
                  </a:lnTo>
                  <a:lnTo>
                    <a:pt x="4469" y="1034"/>
                  </a:lnTo>
                  <a:lnTo>
                    <a:pt x="4470" y="1064"/>
                  </a:lnTo>
                  <a:lnTo>
                    <a:pt x="4471" y="1146"/>
                  </a:lnTo>
                  <a:lnTo>
                    <a:pt x="4472" y="1140"/>
                  </a:lnTo>
                  <a:lnTo>
                    <a:pt x="4474" y="834"/>
                  </a:lnTo>
                  <a:lnTo>
                    <a:pt x="4475" y="860"/>
                  </a:lnTo>
                  <a:lnTo>
                    <a:pt x="4476" y="761"/>
                  </a:lnTo>
                  <a:lnTo>
                    <a:pt x="4477" y="902"/>
                  </a:lnTo>
                  <a:lnTo>
                    <a:pt x="4478" y="903"/>
                  </a:lnTo>
                  <a:lnTo>
                    <a:pt x="4480" y="855"/>
                  </a:lnTo>
                  <a:lnTo>
                    <a:pt x="4481" y="799"/>
                  </a:lnTo>
                  <a:lnTo>
                    <a:pt x="4482" y="816"/>
                  </a:lnTo>
                  <a:lnTo>
                    <a:pt x="4484" y="1194"/>
                  </a:lnTo>
                  <a:lnTo>
                    <a:pt x="4485" y="733"/>
                  </a:lnTo>
                  <a:lnTo>
                    <a:pt x="4486" y="489"/>
                  </a:lnTo>
                  <a:lnTo>
                    <a:pt x="4487" y="856"/>
                  </a:lnTo>
                  <a:lnTo>
                    <a:pt x="4488" y="1075"/>
                  </a:lnTo>
                  <a:lnTo>
                    <a:pt x="4489" y="1013"/>
                  </a:lnTo>
                  <a:lnTo>
                    <a:pt x="4491" y="960"/>
                  </a:lnTo>
                  <a:lnTo>
                    <a:pt x="4492" y="938"/>
                  </a:lnTo>
                  <a:lnTo>
                    <a:pt x="4494" y="1092"/>
                  </a:lnTo>
                  <a:lnTo>
                    <a:pt x="4495" y="836"/>
                  </a:lnTo>
                  <a:lnTo>
                    <a:pt x="4496" y="776"/>
                  </a:lnTo>
                  <a:lnTo>
                    <a:pt x="4497" y="1400"/>
                  </a:lnTo>
                  <a:lnTo>
                    <a:pt x="4498" y="906"/>
                  </a:lnTo>
                  <a:lnTo>
                    <a:pt x="4499" y="618"/>
                  </a:lnTo>
                  <a:lnTo>
                    <a:pt x="4500" y="345"/>
                  </a:lnTo>
                  <a:lnTo>
                    <a:pt x="4501" y="1138"/>
                  </a:lnTo>
                  <a:lnTo>
                    <a:pt x="4504" y="1152"/>
                  </a:lnTo>
                  <a:lnTo>
                    <a:pt x="4505" y="698"/>
                  </a:lnTo>
                  <a:lnTo>
                    <a:pt x="4506" y="804"/>
                  </a:lnTo>
                  <a:lnTo>
                    <a:pt x="4507" y="1197"/>
                  </a:lnTo>
                  <a:lnTo>
                    <a:pt x="4508" y="659"/>
                  </a:lnTo>
                  <a:lnTo>
                    <a:pt x="4509" y="936"/>
                  </a:lnTo>
                  <a:lnTo>
                    <a:pt x="4510" y="1153"/>
                  </a:lnTo>
                  <a:lnTo>
                    <a:pt x="4511" y="851"/>
                  </a:lnTo>
                  <a:lnTo>
                    <a:pt x="4513" y="799"/>
                  </a:lnTo>
                  <a:lnTo>
                    <a:pt x="4515" y="1128"/>
                  </a:lnTo>
                  <a:lnTo>
                    <a:pt x="4516" y="751"/>
                  </a:lnTo>
                  <a:lnTo>
                    <a:pt x="4517" y="966"/>
                  </a:lnTo>
                  <a:lnTo>
                    <a:pt x="4518" y="1214"/>
                  </a:lnTo>
                  <a:lnTo>
                    <a:pt x="4519" y="1517"/>
                  </a:lnTo>
                  <a:lnTo>
                    <a:pt x="4520" y="698"/>
                  </a:lnTo>
                  <a:lnTo>
                    <a:pt x="4521" y="212"/>
                  </a:lnTo>
                  <a:lnTo>
                    <a:pt x="4523" y="938"/>
                  </a:lnTo>
                  <a:lnTo>
                    <a:pt x="4524" y="1080"/>
                  </a:lnTo>
                  <a:lnTo>
                    <a:pt x="4526" y="933"/>
                  </a:lnTo>
                  <a:lnTo>
                    <a:pt x="4527" y="1214"/>
                  </a:lnTo>
                  <a:lnTo>
                    <a:pt x="4528" y="1277"/>
                  </a:lnTo>
                  <a:lnTo>
                    <a:pt x="4529" y="1044"/>
                  </a:lnTo>
                  <a:lnTo>
                    <a:pt x="4530" y="884"/>
                  </a:lnTo>
                  <a:lnTo>
                    <a:pt x="4532" y="601"/>
                  </a:lnTo>
                  <a:lnTo>
                    <a:pt x="4533" y="582"/>
                  </a:lnTo>
                  <a:lnTo>
                    <a:pt x="4534" y="1225"/>
                  </a:lnTo>
                  <a:lnTo>
                    <a:pt x="4535" y="797"/>
                  </a:lnTo>
                  <a:lnTo>
                    <a:pt x="4537" y="1605"/>
                  </a:lnTo>
                  <a:lnTo>
                    <a:pt x="4538" y="1026"/>
                  </a:lnTo>
                  <a:lnTo>
                    <a:pt x="4539" y="1450"/>
                  </a:lnTo>
                  <a:lnTo>
                    <a:pt x="4540" y="964"/>
                  </a:lnTo>
                  <a:lnTo>
                    <a:pt x="4542" y="1051"/>
                  </a:lnTo>
                  <a:lnTo>
                    <a:pt x="4543" y="1132"/>
                  </a:lnTo>
                  <a:lnTo>
                    <a:pt x="4544" y="1011"/>
                  </a:lnTo>
                  <a:lnTo>
                    <a:pt x="4545" y="737"/>
                  </a:lnTo>
                  <a:lnTo>
                    <a:pt x="4546" y="653"/>
                  </a:lnTo>
                  <a:lnTo>
                    <a:pt x="4548" y="1132"/>
                  </a:lnTo>
                  <a:lnTo>
                    <a:pt x="4549" y="478"/>
                  </a:lnTo>
                  <a:lnTo>
                    <a:pt x="4550" y="753"/>
                  </a:lnTo>
                  <a:lnTo>
                    <a:pt x="4552" y="795"/>
                  </a:lnTo>
                  <a:lnTo>
                    <a:pt x="4553" y="1133"/>
                  </a:lnTo>
                  <a:lnTo>
                    <a:pt x="4554" y="923"/>
                  </a:lnTo>
                  <a:lnTo>
                    <a:pt x="4555" y="864"/>
                  </a:lnTo>
                  <a:lnTo>
                    <a:pt x="4556" y="1231"/>
                  </a:lnTo>
                  <a:lnTo>
                    <a:pt x="4557" y="971"/>
                  </a:lnTo>
                  <a:lnTo>
                    <a:pt x="4558" y="1202"/>
                  </a:lnTo>
                  <a:lnTo>
                    <a:pt x="4561" y="1113"/>
                  </a:lnTo>
                  <a:lnTo>
                    <a:pt x="4562" y="663"/>
                  </a:lnTo>
                  <a:lnTo>
                    <a:pt x="4563" y="807"/>
                  </a:lnTo>
                  <a:lnTo>
                    <a:pt x="4564" y="1267"/>
                  </a:lnTo>
                  <a:lnTo>
                    <a:pt x="4565" y="1149"/>
                  </a:lnTo>
                  <a:lnTo>
                    <a:pt x="4566" y="1181"/>
                  </a:lnTo>
                  <a:lnTo>
                    <a:pt x="4567" y="1434"/>
                  </a:lnTo>
                  <a:lnTo>
                    <a:pt x="4568" y="671"/>
                  </a:lnTo>
                  <a:lnTo>
                    <a:pt x="4569" y="1139"/>
                  </a:lnTo>
                  <a:lnTo>
                    <a:pt x="4572" y="469"/>
                  </a:lnTo>
                  <a:lnTo>
                    <a:pt x="4573" y="1233"/>
                  </a:lnTo>
                  <a:lnTo>
                    <a:pt x="4574" y="1110"/>
                  </a:lnTo>
                  <a:lnTo>
                    <a:pt x="4575" y="1049"/>
                  </a:lnTo>
                  <a:lnTo>
                    <a:pt x="4576" y="1629"/>
                  </a:lnTo>
                  <a:lnTo>
                    <a:pt x="4577" y="940"/>
                  </a:lnTo>
                  <a:lnTo>
                    <a:pt x="4578" y="817"/>
                  </a:lnTo>
                  <a:lnTo>
                    <a:pt x="4579" y="1133"/>
                  </a:lnTo>
                  <a:lnTo>
                    <a:pt x="4581" y="835"/>
                  </a:lnTo>
                  <a:lnTo>
                    <a:pt x="4583" y="1071"/>
                  </a:lnTo>
                  <a:lnTo>
                    <a:pt x="4584" y="965"/>
                  </a:lnTo>
                  <a:lnTo>
                    <a:pt x="4585" y="1210"/>
                  </a:lnTo>
                  <a:lnTo>
                    <a:pt x="4586" y="872"/>
                  </a:lnTo>
                  <a:lnTo>
                    <a:pt x="4587" y="409"/>
                  </a:lnTo>
                  <a:lnTo>
                    <a:pt x="4588" y="1022"/>
                  </a:lnTo>
                  <a:lnTo>
                    <a:pt x="4590" y="2011"/>
                  </a:lnTo>
                  <a:lnTo>
                    <a:pt x="4591" y="1142"/>
                  </a:lnTo>
                  <a:lnTo>
                    <a:pt x="4592" y="1278"/>
                  </a:lnTo>
                  <a:lnTo>
                    <a:pt x="4594" y="1182"/>
                  </a:lnTo>
                  <a:lnTo>
                    <a:pt x="4595" y="1272"/>
                  </a:lnTo>
                  <a:lnTo>
                    <a:pt x="4596" y="919"/>
                  </a:lnTo>
                  <a:lnTo>
                    <a:pt x="4597" y="1238"/>
                  </a:lnTo>
                  <a:lnTo>
                    <a:pt x="4598" y="474"/>
                  </a:lnTo>
                  <a:lnTo>
                    <a:pt x="4600" y="496"/>
                  </a:lnTo>
                  <a:lnTo>
                    <a:pt x="4601" y="1138"/>
                  </a:lnTo>
                  <a:lnTo>
                    <a:pt x="4602" y="1334"/>
                  </a:lnTo>
                  <a:lnTo>
                    <a:pt x="4603" y="512"/>
                  </a:lnTo>
                  <a:lnTo>
                    <a:pt x="4605" y="1335"/>
                  </a:lnTo>
                  <a:lnTo>
                    <a:pt x="4606" y="804"/>
                  </a:lnTo>
                  <a:lnTo>
                    <a:pt x="4607" y="1136"/>
                  </a:lnTo>
                  <a:lnTo>
                    <a:pt x="4608" y="905"/>
                  </a:lnTo>
                  <a:lnTo>
                    <a:pt x="4610" y="1145"/>
                  </a:lnTo>
                  <a:lnTo>
                    <a:pt x="4611" y="778"/>
                  </a:lnTo>
                  <a:lnTo>
                    <a:pt x="4612" y="913"/>
                  </a:lnTo>
                  <a:lnTo>
                    <a:pt x="4613" y="1022"/>
                  </a:lnTo>
                  <a:lnTo>
                    <a:pt x="4614" y="936"/>
                  </a:lnTo>
                  <a:lnTo>
                    <a:pt x="4616" y="710"/>
                  </a:lnTo>
                  <a:lnTo>
                    <a:pt x="4617" y="1122"/>
                  </a:lnTo>
                  <a:lnTo>
                    <a:pt x="4619" y="1061"/>
                  </a:lnTo>
                  <a:lnTo>
                    <a:pt x="4620" y="1106"/>
                  </a:lnTo>
                  <a:lnTo>
                    <a:pt x="4621" y="941"/>
                  </a:lnTo>
                  <a:lnTo>
                    <a:pt x="4622" y="608"/>
                  </a:lnTo>
                  <a:lnTo>
                    <a:pt x="4623" y="805"/>
                  </a:lnTo>
                  <a:lnTo>
                    <a:pt x="4624" y="815"/>
                  </a:lnTo>
                  <a:lnTo>
                    <a:pt x="4625" y="1370"/>
                  </a:lnTo>
                  <a:lnTo>
                    <a:pt x="4626" y="1275"/>
                  </a:lnTo>
                  <a:lnTo>
                    <a:pt x="4629" y="768"/>
                  </a:lnTo>
                  <a:lnTo>
                    <a:pt x="4630" y="777"/>
                  </a:lnTo>
                  <a:lnTo>
                    <a:pt x="4631" y="931"/>
                  </a:lnTo>
                  <a:lnTo>
                    <a:pt x="4632" y="1234"/>
                  </a:lnTo>
                  <a:lnTo>
                    <a:pt x="4633" y="797"/>
                  </a:lnTo>
                  <a:lnTo>
                    <a:pt x="4634" y="893"/>
                  </a:lnTo>
                  <a:lnTo>
                    <a:pt x="4635" y="943"/>
                  </a:lnTo>
                  <a:lnTo>
                    <a:pt x="4636" y="774"/>
                  </a:lnTo>
                  <a:lnTo>
                    <a:pt x="4637" y="940"/>
                  </a:lnTo>
                  <a:lnTo>
                    <a:pt x="4640" y="1227"/>
                  </a:lnTo>
                  <a:lnTo>
                    <a:pt x="4641" y="1168"/>
                  </a:lnTo>
                  <a:lnTo>
                    <a:pt x="4642" y="1357"/>
                  </a:lnTo>
                  <a:lnTo>
                    <a:pt x="4643" y="1360"/>
                  </a:lnTo>
                  <a:lnTo>
                    <a:pt x="4644" y="1468"/>
                  </a:lnTo>
                  <a:lnTo>
                    <a:pt x="4645" y="1267"/>
                  </a:lnTo>
                  <a:lnTo>
                    <a:pt x="4646" y="1395"/>
                  </a:lnTo>
                  <a:lnTo>
                    <a:pt x="4648" y="830"/>
                  </a:lnTo>
                  <a:lnTo>
                    <a:pt x="4649" y="935"/>
                  </a:lnTo>
                  <a:lnTo>
                    <a:pt x="4651" y="897"/>
                  </a:lnTo>
                  <a:lnTo>
                    <a:pt x="4652" y="934"/>
                  </a:lnTo>
                  <a:lnTo>
                    <a:pt x="4653" y="870"/>
                  </a:lnTo>
                  <a:lnTo>
                    <a:pt x="4654" y="1172"/>
                  </a:lnTo>
                  <a:lnTo>
                    <a:pt x="4655" y="1200"/>
                  </a:lnTo>
                  <a:lnTo>
                    <a:pt x="4656" y="1019"/>
                  </a:lnTo>
                  <a:lnTo>
                    <a:pt x="4658" y="684"/>
                  </a:lnTo>
                  <a:lnTo>
                    <a:pt x="4659" y="426"/>
                  </a:lnTo>
                  <a:lnTo>
                    <a:pt x="4660" y="1075"/>
                  </a:lnTo>
                  <a:lnTo>
                    <a:pt x="4662" y="1449"/>
                  </a:lnTo>
                  <a:lnTo>
                    <a:pt x="4663" y="1168"/>
                  </a:lnTo>
                  <a:lnTo>
                    <a:pt x="4664" y="1258"/>
                  </a:lnTo>
                  <a:lnTo>
                    <a:pt x="4665" y="1129"/>
                  </a:lnTo>
                  <a:lnTo>
                    <a:pt x="4666" y="936"/>
                  </a:lnTo>
                  <a:lnTo>
                    <a:pt x="4668" y="1051"/>
                  </a:lnTo>
                  <a:lnTo>
                    <a:pt x="4669" y="361"/>
                  </a:lnTo>
                  <a:lnTo>
                    <a:pt x="4670" y="1198"/>
                  </a:lnTo>
                  <a:lnTo>
                    <a:pt x="4671" y="1315"/>
                  </a:lnTo>
                  <a:lnTo>
                    <a:pt x="4673" y="1019"/>
                  </a:lnTo>
                  <a:lnTo>
                    <a:pt x="4674" y="1327"/>
                  </a:lnTo>
                  <a:lnTo>
                    <a:pt x="4675" y="1026"/>
                  </a:lnTo>
                  <a:lnTo>
                    <a:pt x="4677" y="880"/>
                  </a:lnTo>
                  <a:lnTo>
                    <a:pt x="4678" y="1321"/>
                  </a:lnTo>
                  <a:lnTo>
                    <a:pt x="4679" y="935"/>
                  </a:lnTo>
                  <a:lnTo>
                    <a:pt x="4680" y="691"/>
                  </a:lnTo>
                  <a:lnTo>
                    <a:pt x="4681" y="1024"/>
                  </a:lnTo>
                  <a:lnTo>
                    <a:pt x="4682" y="1181"/>
                  </a:lnTo>
                  <a:lnTo>
                    <a:pt x="4683" y="936"/>
                  </a:lnTo>
                  <a:lnTo>
                    <a:pt x="4685" y="890"/>
                  </a:lnTo>
                  <a:lnTo>
                    <a:pt x="4687" y="843"/>
                  </a:lnTo>
                  <a:lnTo>
                    <a:pt x="4688" y="646"/>
                  </a:lnTo>
                  <a:lnTo>
                    <a:pt x="4689" y="723"/>
                  </a:lnTo>
                  <a:lnTo>
                    <a:pt x="4690" y="1246"/>
                  </a:lnTo>
                  <a:lnTo>
                    <a:pt x="4691" y="633"/>
                  </a:lnTo>
                  <a:lnTo>
                    <a:pt x="4692" y="1169"/>
                  </a:lnTo>
                  <a:lnTo>
                    <a:pt x="4693" y="1112"/>
                  </a:lnTo>
                  <a:lnTo>
                    <a:pt x="4694" y="1332"/>
                  </a:lnTo>
                  <a:lnTo>
                    <a:pt x="4697" y="1049"/>
                  </a:lnTo>
                  <a:lnTo>
                    <a:pt x="4698" y="1334"/>
                  </a:lnTo>
                  <a:lnTo>
                    <a:pt x="4699" y="1426"/>
                  </a:lnTo>
                  <a:lnTo>
                    <a:pt x="4700" y="1229"/>
                  </a:lnTo>
                  <a:lnTo>
                    <a:pt x="4701" y="896"/>
                  </a:lnTo>
                  <a:lnTo>
                    <a:pt x="4702" y="1182"/>
                  </a:lnTo>
                  <a:lnTo>
                    <a:pt x="4703" y="1146"/>
                  </a:lnTo>
                  <a:lnTo>
                    <a:pt x="4704" y="1279"/>
                  </a:lnTo>
                  <a:lnTo>
                    <a:pt x="4706" y="917"/>
                  </a:lnTo>
                  <a:lnTo>
                    <a:pt x="4708" y="694"/>
                  </a:lnTo>
                  <a:lnTo>
                    <a:pt x="4709" y="782"/>
                  </a:lnTo>
                  <a:lnTo>
                    <a:pt x="4710" y="857"/>
                  </a:lnTo>
                  <a:lnTo>
                    <a:pt x="4711" y="702"/>
                  </a:lnTo>
                  <a:lnTo>
                    <a:pt x="4712" y="527"/>
                  </a:lnTo>
                  <a:lnTo>
                    <a:pt x="4713" y="1087"/>
                  </a:lnTo>
                  <a:lnTo>
                    <a:pt x="4714" y="586"/>
                  </a:lnTo>
                  <a:lnTo>
                    <a:pt x="4716" y="1139"/>
                  </a:lnTo>
                  <a:lnTo>
                    <a:pt x="4717" y="1372"/>
                  </a:lnTo>
                  <a:lnTo>
                    <a:pt x="4719" y="1368"/>
                  </a:lnTo>
                  <a:lnTo>
                    <a:pt x="4720" y="1024"/>
                  </a:lnTo>
                  <a:lnTo>
                    <a:pt x="4721" y="677"/>
                  </a:lnTo>
                  <a:lnTo>
                    <a:pt x="4722" y="525"/>
                  </a:lnTo>
                  <a:lnTo>
                    <a:pt x="4723" y="1046"/>
                  </a:lnTo>
                  <a:lnTo>
                    <a:pt x="4725" y="365"/>
                  </a:lnTo>
                  <a:lnTo>
                    <a:pt x="4726" y="973"/>
                  </a:lnTo>
                  <a:lnTo>
                    <a:pt x="4727" y="716"/>
                  </a:lnTo>
                  <a:lnTo>
                    <a:pt x="4728" y="1195"/>
                  </a:lnTo>
                  <a:lnTo>
                    <a:pt x="4730" y="1056"/>
                  </a:lnTo>
                  <a:lnTo>
                    <a:pt x="4731" y="1236"/>
                  </a:lnTo>
                  <a:lnTo>
                    <a:pt x="4732" y="877"/>
                  </a:lnTo>
                  <a:lnTo>
                    <a:pt x="4733" y="914"/>
                  </a:lnTo>
                  <a:lnTo>
                    <a:pt x="4735" y="1253"/>
                  </a:lnTo>
                  <a:lnTo>
                    <a:pt x="4736" y="994"/>
                  </a:lnTo>
                  <a:lnTo>
                    <a:pt x="4737" y="1227"/>
                  </a:lnTo>
                  <a:lnTo>
                    <a:pt x="4738" y="512"/>
                  </a:lnTo>
                  <a:lnTo>
                    <a:pt x="4739" y="919"/>
                  </a:lnTo>
                  <a:lnTo>
                    <a:pt x="4741" y="584"/>
                  </a:lnTo>
                  <a:lnTo>
                    <a:pt x="4742" y="1010"/>
                  </a:lnTo>
                  <a:lnTo>
                    <a:pt x="4743" y="1059"/>
                  </a:lnTo>
                  <a:lnTo>
                    <a:pt x="4745" y="1233"/>
                  </a:lnTo>
                  <a:lnTo>
                    <a:pt x="4746" y="369"/>
                  </a:lnTo>
                  <a:lnTo>
                    <a:pt x="4747" y="1402"/>
                  </a:lnTo>
                  <a:lnTo>
                    <a:pt x="4748" y="1717"/>
                  </a:lnTo>
                  <a:lnTo>
                    <a:pt x="4749" y="791"/>
                  </a:lnTo>
                  <a:lnTo>
                    <a:pt x="4750" y="562"/>
                  </a:lnTo>
                  <a:lnTo>
                    <a:pt x="4751" y="865"/>
                  </a:lnTo>
                  <a:lnTo>
                    <a:pt x="4754" y="788"/>
                  </a:lnTo>
                  <a:lnTo>
                    <a:pt x="4755" y="1510"/>
                  </a:lnTo>
                  <a:lnTo>
                    <a:pt x="4756" y="1206"/>
                  </a:lnTo>
                  <a:lnTo>
                    <a:pt x="4757" y="1145"/>
                  </a:lnTo>
                  <a:lnTo>
                    <a:pt x="4758" y="674"/>
                  </a:lnTo>
                  <a:lnTo>
                    <a:pt x="4759" y="1036"/>
                  </a:lnTo>
                  <a:lnTo>
                    <a:pt x="4760" y="1172"/>
                  </a:lnTo>
                  <a:lnTo>
                    <a:pt x="4761" y="989"/>
                  </a:lnTo>
                  <a:lnTo>
                    <a:pt x="4762" y="1214"/>
                  </a:lnTo>
                  <a:lnTo>
                    <a:pt x="4765" y="1207"/>
                  </a:lnTo>
                  <a:lnTo>
                    <a:pt x="4766" y="1162"/>
                  </a:lnTo>
                  <a:lnTo>
                    <a:pt x="4767" y="1660"/>
                  </a:lnTo>
                  <a:lnTo>
                    <a:pt x="4768" y="954"/>
                  </a:lnTo>
                  <a:lnTo>
                    <a:pt x="4769" y="1053"/>
                  </a:lnTo>
                  <a:lnTo>
                    <a:pt x="4770" y="980"/>
                  </a:lnTo>
                  <a:lnTo>
                    <a:pt x="4771" y="1206"/>
                  </a:lnTo>
                  <a:lnTo>
                    <a:pt x="4772" y="1071"/>
                  </a:lnTo>
                  <a:lnTo>
                    <a:pt x="4774" y="1277"/>
                  </a:lnTo>
                  <a:lnTo>
                    <a:pt x="4776" y="840"/>
                  </a:lnTo>
                  <a:lnTo>
                    <a:pt x="4777" y="1002"/>
                  </a:lnTo>
                  <a:lnTo>
                    <a:pt x="4778" y="887"/>
                  </a:lnTo>
                  <a:lnTo>
                    <a:pt x="4779" y="960"/>
                  </a:lnTo>
                  <a:lnTo>
                    <a:pt x="4780" y="1254"/>
                  </a:lnTo>
                  <a:lnTo>
                    <a:pt x="4781" y="956"/>
                  </a:lnTo>
                  <a:lnTo>
                    <a:pt x="4783" y="1371"/>
                  </a:lnTo>
                  <a:lnTo>
                    <a:pt x="4784" y="796"/>
                  </a:lnTo>
                  <a:lnTo>
                    <a:pt x="4785" y="1163"/>
                  </a:lnTo>
                  <a:lnTo>
                    <a:pt x="4787" y="813"/>
                  </a:lnTo>
                  <a:lnTo>
                    <a:pt x="4788" y="1499"/>
                  </a:lnTo>
                  <a:lnTo>
                    <a:pt x="4789" y="1505"/>
                  </a:lnTo>
                  <a:lnTo>
                    <a:pt x="4790" y="1035"/>
                  </a:lnTo>
                  <a:lnTo>
                    <a:pt x="4791" y="833"/>
                  </a:lnTo>
                  <a:lnTo>
                    <a:pt x="4793" y="1082"/>
                  </a:lnTo>
                  <a:lnTo>
                    <a:pt x="4794" y="635"/>
                  </a:lnTo>
                  <a:lnTo>
                    <a:pt x="4795" y="1171"/>
                  </a:lnTo>
                  <a:lnTo>
                    <a:pt x="4796" y="863"/>
                  </a:lnTo>
                  <a:lnTo>
                    <a:pt x="4798" y="1228"/>
                  </a:lnTo>
                  <a:lnTo>
                    <a:pt x="4799" y="1124"/>
                  </a:lnTo>
                  <a:lnTo>
                    <a:pt x="4800" y="1000"/>
                  </a:lnTo>
                  <a:lnTo>
                    <a:pt x="4801" y="1445"/>
                  </a:lnTo>
                  <a:lnTo>
                    <a:pt x="4803" y="1025"/>
                  </a:lnTo>
                  <a:lnTo>
                    <a:pt x="4804" y="1169"/>
                  </a:lnTo>
                  <a:lnTo>
                    <a:pt x="4805" y="911"/>
                  </a:lnTo>
                  <a:lnTo>
                    <a:pt x="4806" y="1170"/>
                  </a:lnTo>
                  <a:lnTo>
                    <a:pt x="4807" y="893"/>
                  </a:lnTo>
                  <a:lnTo>
                    <a:pt x="4808" y="912"/>
                  </a:lnTo>
                  <a:lnTo>
                    <a:pt x="4810" y="1329"/>
                  </a:lnTo>
                  <a:lnTo>
                    <a:pt x="4812" y="1244"/>
                  </a:lnTo>
                  <a:lnTo>
                    <a:pt x="4813" y="781"/>
                  </a:lnTo>
                  <a:lnTo>
                    <a:pt x="4814" y="1209"/>
                  </a:lnTo>
                  <a:lnTo>
                    <a:pt x="4815" y="918"/>
                  </a:lnTo>
                  <a:lnTo>
                    <a:pt x="4816" y="1172"/>
                  </a:lnTo>
                  <a:lnTo>
                    <a:pt x="4817" y="1031"/>
                  </a:lnTo>
                  <a:lnTo>
                    <a:pt x="4818" y="873"/>
                  </a:lnTo>
                  <a:lnTo>
                    <a:pt x="4819" y="775"/>
                  </a:lnTo>
                  <a:lnTo>
                    <a:pt x="4822" y="608"/>
                  </a:lnTo>
                  <a:lnTo>
                    <a:pt x="4823" y="1118"/>
                  </a:lnTo>
                  <a:lnTo>
                    <a:pt x="4824" y="427"/>
                  </a:lnTo>
                  <a:lnTo>
                    <a:pt x="4825" y="979"/>
                  </a:lnTo>
                  <a:lnTo>
                    <a:pt x="4826" y="717"/>
                  </a:lnTo>
                  <a:lnTo>
                    <a:pt x="4827" y="1120"/>
                  </a:lnTo>
                  <a:lnTo>
                    <a:pt x="4828" y="981"/>
                  </a:lnTo>
                  <a:lnTo>
                    <a:pt x="4829" y="1364"/>
                  </a:lnTo>
                  <a:lnTo>
                    <a:pt x="4830" y="879"/>
                  </a:lnTo>
                  <a:lnTo>
                    <a:pt x="4833" y="1200"/>
                  </a:lnTo>
                  <a:lnTo>
                    <a:pt x="4834" y="756"/>
                  </a:lnTo>
                  <a:lnTo>
                    <a:pt x="4835" y="1351"/>
                  </a:lnTo>
                  <a:lnTo>
                    <a:pt x="4836" y="1357"/>
                  </a:lnTo>
                  <a:lnTo>
                    <a:pt x="4837" y="843"/>
                  </a:lnTo>
                  <a:lnTo>
                    <a:pt x="4838" y="864"/>
                  </a:lnTo>
                  <a:lnTo>
                    <a:pt x="4839" y="1521"/>
                  </a:lnTo>
                  <a:lnTo>
                    <a:pt x="4841" y="1429"/>
                  </a:lnTo>
                  <a:lnTo>
                    <a:pt x="4842" y="507"/>
                  </a:lnTo>
                  <a:lnTo>
                    <a:pt x="4844" y="747"/>
                  </a:lnTo>
                  <a:lnTo>
                    <a:pt x="4845" y="789"/>
                  </a:lnTo>
                  <a:lnTo>
                    <a:pt x="4846" y="1082"/>
                  </a:lnTo>
                  <a:lnTo>
                    <a:pt x="4847" y="924"/>
                  </a:lnTo>
                  <a:lnTo>
                    <a:pt x="4848" y="902"/>
                  </a:lnTo>
                  <a:lnTo>
                    <a:pt x="4849" y="1188"/>
                  </a:lnTo>
                  <a:lnTo>
                    <a:pt x="4851" y="770"/>
                  </a:lnTo>
                  <a:lnTo>
                    <a:pt x="4852" y="1054"/>
                  </a:lnTo>
                  <a:lnTo>
                    <a:pt x="4853" y="1456"/>
                  </a:lnTo>
                  <a:lnTo>
                    <a:pt x="4855" y="815"/>
                  </a:lnTo>
                  <a:lnTo>
                    <a:pt x="4856" y="1143"/>
                  </a:lnTo>
                  <a:lnTo>
                    <a:pt x="4857" y="1634"/>
                  </a:lnTo>
                  <a:lnTo>
                    <a:pt x="4858" y="1102"/>
                  </a:lnTo>
                  <a:lnTo>
                    <a:pt x="4859" y="1035"/>
                  </a:lnTo>
                  <a:lnTo>
                    <a:pt x="4861" y="1264"/>
                  </a:lnTo>
                  <a:lnTo>
                    <a:pt x="4862" y="1128"/>
                  </a:lnTo>
                  <a:lnTo>
                    <a:pt x="4863" y="797"/>
                  </a:lnTo>
                  <a:lnTo>
                    <a:pt x="4864" y="957"/>
                  </a:lnTo>
                  <a:lnTo>
                    <a:pt x="4866" y="1030"/>
                  </a:lnTo>
                  <a:lnTo>
                    <a:pt x="4867" y="1042"/>
                  </a:lnTo>
                  <a:lnTo>
                    <a:pt x="4868" y="849"/>
                  </a:lnTo>
                  <a:lnTo>
                    <a:pt x="4870" y="984"/>
                  </a:lnTo>
                  <a:lnTo>
                    <a:pt x="4871" y="438"/>
                  </a:lnTo>
                  <a:lnTo>
                    <a:pt x="4872" y="1208"/>
                  </a:lnTo>
                  <a:lnTo>
                    <a:pt x="4873" y="1020"/>
                  </a:lnTo>
                  <a:lnTo>
                    <a:pt x="4874" y="919"/>
                  </a:lnTo>
                  <a:lnTo>
                    <a:pt x="4875" y="526"/>
                  </a:lnTo>
                  <a:lnTo>
                    <a:pt x="4876" y="762"/>
                  </a:lnTo>
                  <a:lnTo>
                    <a:pt x="4878" y="813"/>
                  </a:lnTo>
                  <a:lnTo>
                    <a:pt x="4880" y="1155"/>
                  </a:lnTo>
                  <a:lnTo>
                    <a:pt x="4881" y="1054"/>
                  </a:lnTo>
                  <a:lnTo>
                    <a:pt x="4882" y="1173"/>
                  </a:lnTo>
                  <a:lnTo>
                    <a:pt x="4883" y="1179"/>
                  </a:lnTo>
                  <a:lnTo>
                    <a:pt x="4884" y="907"/>
                  </a:lnTo>
                  <a:lnTo>
                    <a:pt x="4885" y="526"/>
                  </a:lnTo>
                  <a:lnTo>
                    <a:pt x="4886" y="1439"/>
                  </a:lnTo>
                  <a:lnTo>
                    <a:pt x="4887" y="472"/>
                  </a:lnTo>
                  <a:lnTo>
                    <a:pt x="4890" y="1083"/>
                  </a:lnTo>
                  <a:lnTo>
                    <a:pt x="4891" y="1000"/>
                  </a:lnTo>
                  <a:lnTo>
                    <a:pt x="4892" y="1083"/>
                  </a:lnTo>
                  <a:lnTo>
                    <a:pt x="4893" y="747"/>
                  </a:lnTo>
                  <a:lnTo>
                    <a:pt x="4894" y="457"/>
                  </a:lnTo>
                  <a:lnTo>
                    <a:pt x="4895" y="1306"/>
                  </a:lnTo>
                  <a:lnTo>
                    <a:pt x="4896" y="1068"/>
                  </a:lnTo>
                  <a:lnTo>
                    <a:pt x="4897" y="727"/>
                  </a:lnTo>
                  <a:lnTo>
                    <a:pt x="4899" y="1090"/>
                  </a:lnTo>
                  <a:lnTo>
                    <a:pt x="4901" y="903"/>
                  </a:lnTo>
                  <a:lnTo>
                    <a:pt x="4902" y="702"/>
                  </a:lnTo>
                  <a:lnTo>
                    <a:pt x="4903" y="395"/>
                  </a:lnTo>
                  <a:lnTo>
                    <a:pt x="4904" y="1415"/>
                  </a:lnTo>
                  <a:lnTo>
                    <a:pt x="4905" y="1360"/>
                  </a:lnTo>
                  <a:lnTo>
                    <a:pt x="4906" y="1194"/>
                  </a:lnTo>
                  <a:lnTo>
                    <a:pt x="4907" y="899"/>
                  </a:lnTo>
                  <a:lnTo>
                    <a:pt x="4909" y="1230"/>
                  </a:lnTo>
                  <a:lnTo>
                    <a:pt x="4910" y="996"/>
                  </a:lnTo>
                  <a:lnTo>
                    <a:pt x="4912" y="964"/>
                  </a:lnTo>
                  <a:lnTo>
                    <a:pt x="4913" y="517"/>
                  </a:lnTo>
                  <a:lnTo>
                    <a:pt x="4914" y="1399"/>
                  </a:lnTo>
                  <a:lnTo>
                    <a:pt x="4915" y="708"/>
                  </a:lnTo>
                  <a:lnTo>
                    <a:pt x="4916" y="1156"/>
                  </a:lnTo>
                  <a:lnTo>
                    <a:pt x="4917" y="1234"/>
                  </a:lnTo>
                  <a:lnTo>
                    <a:pt x="4919" y="506"/>
                  </a:lnTo>
                  <a:lnTo>
                    <a:pt x="4920" y="542"/>
                  </a:lnTo>
                  <a:lnTo>
                    <a:pt x="4921" y="963"/>
                  </a:lnTo>
                  <a:lnTo>
                    <a:pt x="4923" y="965"/>
                  </a:lnTo>
                  <a:lnTo>
                    <a:pt x="4924" y="835"/>
                  </a:lnTo>
                  <a:lnTo>
                    <a:pt x="4925" y="1028"/>
                  </a:lnTo>
                  <a:lnTo>
                    <a:pt x="4926" y="1077"/>
                  </a:lnTo>
                  <a:lnTo>
                    <a:pt x="4928" y="1020"/>
                  </a:lnTo>
                  <a:lnTo>
                    <a:pt x="4929" y="1052"/>
                  </a:lnTo>
                  <a:lnTo>
                    <a:pt x="4930" y="973"/>
                  </a:lnTo>
                  <a:lnTo>
                    <a:pt x="4931" y="1152"/>
                  </a:lnTo>
                  <a:lnTo>
                    <a:pt x="4932" y="1225"/>
                  </a:lnTo>
                  <a:lnTo>
                    <a:pt x="4933" y="742"/>
                  </a:lnTo>
                  <a:lnTo>
                    <a:pt x="4935" y="1136"/>
                  </a:lnTo>
                  <a:lnTo>
                    <a:pt x="4936" y="1595"/>
                  </a:lnTo>
                  <a:lnTo>
                    <a:pt x="4938" y="943"/>
                  </a:lnTo>
                  <a:lnTo>
                    <a:pt x="4939" y="751"/>
                  </a:lnTo>
                  <a:lnTo>
                    <a:pt x="4940" y="1375"/>
                  </a:lnTo>
                  <a:lnTo>
                    <a:pt x="4941" y="1280"/>
                  </a:lnTo>
                  <a:lnTo>
                    <a:pt x="4942" y="799"/>
                  </a:lnTo>
                  <a:lnTo>
                    <a:pt x="4943" y="908"/>
                  </a:lnTo>
                  <a:lnTo>
                    <a:pt x="4944" y="710"/>
                  </a:lnTo>
                  <a:lnTo>
                    <a:pt x="4947" y="921"/>
                  </a:lnTo>
                  <a:lnTo>
                    <a:pt x="4948" y="849"/>
                  </a:lnTo>
                  <a:lnTo>
                    <a:pt x="4949" y="966"/>
                  </a:lnTo>
                  <a:lnTo>
                    <a:pt x="4950" y="1139"/>
                  </a:lnTo>
                  <a:lnTo>
                    <a:pt x="4951" y="848"/>
                  </a:lnTo>
                  <a:lnTo>
                    <a:pt x="4952" y="1303"/>
                  </a:lnTo>
                  <a:lnTo>
                    <a:pt x="4953" y="958"/>
                  </a:lnTo>
                  <a:lnTo>
                    <a:pt x="4954" y="1228"/>
                  </a:lnTo>
                  <a:lnTo>
                    <a:pt x="4955" y="174"/>
                  </a:lnTo>
                  <a:lnTo>
                    <a:pt x="4958" y="1665"/>
                  </a:lnTo>
                  <a:lnTo>
                    <a:pt x="4959" y="1295"/>
                  </a:lnTo>
                  <a:lnTo>
                    <a:pt x="4960" y="944"/>
                  </a:lnTo>
                  <a:lnTo>
                    <a:pt x="4961" y="864"/>
                  </a:lnTo>
                  <a:lnTo>
                    <a:pt x="4962" y="702"/>
                  </a:lnTo>
                  <a:lnTo>
                    <a:pt x="4963" y="1253"/>
                  </a:lnTo>
                  <a:lnTo>
                    <a:pt x="4964" y="728"/>
                  </a:lnTo>
                  <a:lnTo>
                    <a:pt x="4965" y="1360"/>
                  </a:lnTo>
                  <a:lnTo>
                    <a:pt x="4967" y="1552"/>
                  </a:lnTo>
                  <a:lnTo>
                    <a:pt x="4969" y="1241"/>
                  </a:lnTo>
                  <a:lnTo>
                    <a:pt x="4970" y="502"/>
                  </a:lnTo>
                  <a:lnTo>
                    <a:pt x="4971" y="1094"/>
                  </a:lnTo>
                  <a:lnTo>
                    <a:pt x="4972" y="1239"/>
                  </a:lnTo>
                  <a:lnTo>
                    <a:pt x="4973" y="1229"/>
                  </a:lnTo>
                  <a:lnTo>
                    <a:pt x="4974" y="961"/>
                  </a:lnTo>
                  <a:lnTo>
                    <a:pt x="4976" y="892"/>
                  </a:lnTo>
                  <a:lnTo>
                    <a:pt x="4977" y="1025"/>
                  </a:lnTo>
                  <a:lnTo>
                    <a:pt x="4978" y="1433"/>
                  </a:lnTo>
                  <a:lnTo>
                    <a:pt x="4980" y="963"/>
                  </a:lnTo>
                  <a:lnTo>
                    <a:pt x="4981" y="1215"/>
                  </a:lnTo>
                  <a:lnTo>
                    <a:pt x="4982" y="1464"/>
                  </a:lnTo>
                  <a:lnTo>
                    <a:pt x="4983" y="721"/>
                  </a:lnTo>
                  <a:lnTo>
                    <a:pt x="4984" y="658"/>
                  </a:lnTo>
                  <a:lnTo>
                    <a:pt x="4986" y="1522"/>
                  </a:lnTo>
                  <a:lnTo>
                    <a:pt x="4987" y="1039"/>
                  </a:lnTo>
                  <a:lnTo>
                    <a:pt x="4988" y="970"/>
                  </a:lnTo>
                  <a:lnTo>
                    <a:pt x="4989" y="1460"/>
                  </a:lnTo>
                  <a:lnTo>
                    <a:pt x="4991" y="1365"/>
                  </a:lnTo>
                  <a:lnTo>
                    <a:pt x="4992" y="1081"/>
                  </a:lnTo>
                  <a:lnTo>
                    <a:pt x="4993" y="829"/>
                  </a:lnTo>
                  <a:lnTo>
                    <a:pt x="4994" y="987"/>
                  </a:lnTo>
                  <a:lnTo>
                    <a:pt x="4996" y="1030"/>
                  </a:lnTo>
                  <a:lnTo>
                    <a:pt x="4997" y="811"/>
                  </a:lnTo>
                  <a:lnTo>
                    <a:pt x="4998" y="989"/>
                  </a:lnTo>
                  <a:lnTo>
                    <a:pt x="4999" y="1248"/>
                  </a:lnTo>
                  <a:lnTo>
                    <a:pt x="5000" y="931"/>
                  </a:lnTo>
                  <a:lnTo>
                    <a:pt x="5001" y="817"/>
                  </a:lnTo>
                  <a:lnTo>
                    <a:pt x="5003" y="1284"/>
                  </a:lnTo>
                  <a:lnTo>
                    <a:pt x="5005" y="819"/>
                  </a:lnTo>
                  <a:lnTo>
                    <a:pt x="5006" y="747"/>
                  </a:lnTo>
                  <a:lnTo>
                    <a:pt x="5007" y="961"/>
                  </a:lnTo>
                  <a:lnTo>
                    <a:pt x="5008" y="565"/>
                  </a:lnTo>
                  <a:lnTo>
                    <a:pt x="5009" y="645"/>
                  </a:lnTo>
                  <a:lnTo>
                    <a:pt x="5010" y="706"/>
                  </a:lnTo>
                  <a:lnTo>
                    <a:pt x="5011" y="957"/>
                  </a:lnTo>
                  <a:lnTo>
                    <a:pt x="5012" y="1046"/>
                  </a:lnTo>
                  <a:lnTo>
                    <a:pt x="5015" y="994"/>
                  </a:lnTo>
                  <a:lnTo>
                    <a:pt x="5016" y="727"/>
                  </a:lnTo>
                  <a:lnTo>
                    <a:pt x="5017" y="587"/>
                  </a:lnTo>
                  <a:lnTo>
                    <a:pt x="5018" y="1439"/>
                  </a:lnTo>
                  <a:lnTo>
                    <a:pt x="5019" y="721"/>
                  </a:lnTo>
                  <a:lnTo>
                    <a:pt x="5020" y="496"/>
                  </a:lnTo>
                  <a:lnTo>
                    <a:pt x="5021" y="760"/>
                  </a:lnTo>
                  <a:lnTo>
                    <a:pt x="5022" y="1071"/>
                  </a:lnTo>
                  <a:lnTo>
                    <a:pt x="5023" y="1197"/>
                  </a:lnTo>
                  <a:lnTo>
                    <a:pt x="5026" y="1259"/>
                  </a:lnTo>
                  <a:lnTo>
                    <a:pt x="5027" y="1112"/>
                  </a:lnTo>
                  <a:lnTo>
                    <a:pt x="5028" y="962"/>
                  </a:lnTo>
                  <a:lnTo>
                    <a:pt x="5029" y="875"/>
                  </a:lnTo>
                  <a:lnTo>
                    <a:pt x="5030" y="1208"/>
                  </a:lnTo>
                  <a:lnTo>
                    <a:pt x="5031" y="1004"/>
                  </a:lnTo>
                  <a:lnTo>
                    <a:pt x="5032" y="1153"/>
                  </a:lnTo>
                  <a:lnTo>
                    <a:pt x="5034" y="938"/>
                  </a:lnTo>
                  <a:lnTo>
                    <a:pt x="5035" y="1412"/>
                  </a:lnTo>
                  <a:lnTo>
                    <a:pt x="5037" y="952"/>
                  </a:lnTo>
                  <a:lnTo>
                    <a:pt x="5038" y="985"/>
                  </a:lnTo>
                  <a:lnTo>
                    <a:pt x="5039" y="710"/>
                  </a:lnTo>
                  <a:lnTo>
                    <a:pt x="5040" y="1080"/>
                  </a:lnTo>
                  <a:lnTo>
                    <a:pt x="5041" y="1136"/>
                  </a:lnTo>
                  <a:lnTo>
                    <a:pt x="5042" y="1112"/>
                  </a:lnTo>
                  <a:lnTo>
                    <a:pt x="5044" y="777"/>
                  </a:lnTo>
                  <a:lnTo>
                    <a:pt x="5045" y="502"/>
                  </a:lnTo>
                  <a:lnTo>
                    <a:pt x="5046" y="1465"/>
                  </a:lnTo>
                  <a:lnTo>
                    <a:pt x="5048" y="878"/>
                  </a:lnTo>
                  <a:lnTo>
                    <a:pt x="5049" y="609"/>
                  </a:lnTo>
                  <a:lnTo>
                    <a:pt x="5050" y="1254"/>
                  </a:lnTo>
                  <a:lnTo>
                    <a:pt x="5051" y="329"/>
                  </a:lnTo>
                  <a:lnTo>
                    <a:pt x="5052" y="1097"/>
                  </a:lnTo>
                  <a:lnTo>
                    <a:pt x="5054" y="640"/>
                  </a:lnTo>
                  <a:lnTo>
                    <a:pt x="5055" y="639"/>
                  </a:lnTo>
                  <a:lnTo>
                    <a:pt x="5056" y="1107"/>
                  </a:lnTo>
                  <a:lnTo>
                    <a:pt x="5057" y="1235"/>
                  </a:lnTo>
                  <a:lnTo>
                    <a:pt x="5058" y="563"/>
                  </a:lnTo>
                  <a:lnTo>
                    <a:pt x="5060" y="1365"/>
                  </a:lnTo>
                  <a:lnTo>
                    <a:pt x="5061" y="1089"/>
                  </a:lnTo>
                  <a:lnTo>
                    <a:pt x="5063" y="582"/>
                  </a:lnTo>
                  <a:lnTo>
                    <a:pt x="5064" y="1187"/>
                  </a:lnTo>
                  <a:lnTo>
                    <a:pt x="5065" y="792"/>
                  </a:lnTo>
                  <a:lnTo>
                    <a:pt x="5066" y="858"/>
                  </a:lnTo>
                  <a:lnTo>
                    <a:pt x="5067" y="1393"/>
                  </a:lnTo>
                  <a:lnTo>
                    <a:pt x="5068" y="922"/>
                  </a:lnTo>
                  <a:lnTo>
                    <a:pt x="5069" y="1441"/>
                  </a:lnTo>
                  <a:lnTo>
                    <a:pt x="5071" y="1283"/>
                  </a:lnTo>
                  <a:lnTo>
                    <a:pt x="5073" y="1366"/>
                  </a:lnTo>
                  <a:lnTo>
                    <a:pt x="5074" y="907"/>
                  </a:lnTo>
                  <a:lnTo>
                    <a:pt x="5075" y="928"/>
                  </a:lnTo>
                  <a:lnTo>
                    <a:pt x="5076" y="1097"/>
                  </a:lnTo>
                  <a:lnTo>
                    <a:pt x="5077" y="540"/>
                  </a:lnTo>
                  <a:lnTo>
                    <a:pt x="5078" y="690"/>
                  </a:lnTo>
                  <a:lnTo>
                    <a:pt x="5079" y="1670"/>
                  </a:lnTo>
                  <a:lnTo>
                    <a:pt x="5080" y="632"/>
                  </a:lnTo>
                  <a:lnTo>
                    <a:pt x="5083" y="1516"/>
                  </a:lnTo>
                  <a:lnTo>
                    <a:pt x="5084" y="919"/>
                  </a:lnTo>
                  <a:lnTo>
                    <a:pt x="5085" y="1152"/>
                  </a:lnTo>
                  <a:lnTo>
                    <a:pt x="5086" y="1189"/>
                  </a:lnTo>
                  <a:lnTo>
                    <a:pt x="5087" y="1136"/>
                  </a:lnTo>
                  <a:lnTo>
                    <a:pt x="5088" y="1539"/>
                  </a:lnTo>
                  <a:lnTo>
                    <a:pt x="5089" y="1180"/>
                  </a:lnTo>
                  <a:lnTo>
                    <a:pt x="5090" y="1308"/>
                  </a:lnTo>
                  <a:lnTo>
                    <a:pt x="5092" y="756"/>
                  </a:lnTo>
                  <a:lnTo>
                    <a:pt x="5094" y="1010"/>
                  </a:lnTo>
                  <a:lnTo>
                    <a:pt x="5095" y="1417"/>
                  </a:lnTo>
                  <a:lnTo>
                    <a:pt x="5096" y="914"/>
                  </a:lnTo>
                  <a:lnTo>
                    <a:pt x="5097" y="1196"/>
                  </a:lnTo>
                  <a:lnTo>
                    <a:pt x="5098" y="1225"/>
                  </a:lnTo>
                  <a:lnTo>
                    <a:pt x="5099" y="885"/>
                  </a:lnTo>
                  <a:lnTo>
                    <a:pt x="5100" y="1234"/>
                  </a:lnTo>
                  <a:lnTo>
                    <a:pt x="5102" y="867"/>
                  </a:lnTo>
                  <a:lnTo>
                    <a:pt x="5103" y="846"/>
                  </a:lnTo>
                  <a:lnTo>
                    <a:pt x="5105" y="1234"/>
                  </a:lnTo>
                  <a:lnTo>
                    <a:pt x="5106" y="1209"/>
                  </a:lnTo>
                  <a:lnTo>
                    <a:pt x="5107" y="918"/>
                  </a:lnTo>
                  <a:lnTo>
                    <a:pt x="5108" y="1053"/>
                  </a:lnTo>
                  <a:lnTo>
                    <a:pt x="5109" y="1038"/>
                  </a:lnTo>
                  <a:lnTo>
                    <a:pt x="5110" y="667"/>
                  </a:lnTo>
                  <a:lnTo>
                    <a:pt x="5112" y="1255"/>
                  </a:lnTo>
                  <a:lnTo>
                    <a:pt x="5113" y="1442"/>
                  </a:lnTo>
                  <a:lnTo>
                    <a:pt x="5114" y="971"/>
                  </a:lnTo>
                  <a:lnTo>
                    <a:pt x="5116" y="909"/>
                  </a:lnTo>
                  <a:lnTo>
                    <a:pt x="5117" y="997"/>
                  </a:lnTo>
                  <a:lnTo>
                    <a:pt x="5118" y="650"/>
                  </a:lnTo>
                  <a:lnTo>
                    <a:pt x="5119" y="1429"/>
                  </a:lnTo>
                  <a:lnTo>
                    <a:pt x="5121" y="1117"/>
                  </a:lnTo>
                  <a:lnTo>
                    <a:pt x="5122" y="859"/>
                  </a:lnTo>
                  <a:lnTo>
                    <a:pt x="5123" y="966"/>
                  </a:lnTo>
                  <a:lnTo>
                    <a:pt x="5124" y="859"/>
                  </a:lnTo>
                  <a:lnTo>
                    <a:pt x="5125" y="823"/>
                  </a:lnTo>
                  <a:lnTo>
                    <a:pt x="5126" y="1364"/>
                  </a:lnTo>
                  <a:lnTo>
                    <a:pt x="5128" y="1039"/>
                  </a:lnTo>
                  <a:lnTo>
                    <a:pt x="5129" y="874"/>
                  </a:lnTo>
                  <a:lnTo>
                    <a:pt x="5131" y="848"/>
                  </a:lnTo>
                  <a:lnTo>
                    <a:pt x="5132" y="1069"/>
                  </a:lnTo>
                  <a:lnTo>
                    <a:pt x="5133" y="1269"/>
                  </a:lnTo>
                  <a:lnTo>
                    <a:pt x="5134" y="1094"/>
                  </a:lnTo>
                  <a:lnTo>
                    <a:pt x="5135" y="286"/>
                  </a:lnTo>
                  <a:lnTo>
                    <a:pt x="5136" y="826"/>
                  </a:lnTo>
                  <a:lnTo>
                    <a:pt x="5137" y="749"/>
                  </a:lnTo>
                  <a:lnTo>
                    <a:pt x="5139" y="926"/>
                  </a:lnTo>
                  <a:lnTo>
                    <a:pt x="5141" y="982"/>
                  </a:lnTo>
                  <a:lnTo>
                    <a:pt x="5142" y="1020"/>
                  </a:lnTo>
                  <a:lnTo>
                    <a:pt x="5143" y="886"/>
                  </a:lnTo>
                  <a:lnTo>
                    <a:pt x="5144" y="963"/>
                  </a:lnTo>
                  <a:lnTo>
                    <a:pt x="5145" y="742"/>
                  </a:lnTo>
                  <a:lnTo>
                    <a:pt x="5146" y="555"/>
                  </a:lnTo>
                  <a:lnTo>
                    <a:pt x="5147" y="781"/>
                  </a:lnTo>
                  <a:lnTo>
                    <a:pt x="5148" y="1497"/>
                  </a:lnTo>
                  <a:lnTo>
                    <a:pt x="5151" y="1385"/>
                  </a:lnTo>
                  <a:lnTo>
                    <a:pt x="5152" y="1085"/>
                  </a:lnTo>
                  <a:lnTo>
                    <a:pt x="5153" y="1456"/>
                  </a:lnTo>
                  <a:lnTo>
                    <a:pt x="5154" y="828"/>
                  </a:lnTo>
                  <a:lnTo>
                    <a:pt x="5155" y="945"/>
                  </a:lnTo>
                  <a:lnTo>
                    <a:pt x="5156" y="943"/>
                  </a:lnTo>
                  <a:lnTo>
                    <a:pt x="5157" y="882"/>
                  </a:lnTo>
                  <a:lnTo>
                    <a:pt x="5158" y="928"/>
                  </a:lnTo>
                  <a:lnTo>
                    <a:pt x="5160" y="848"/>
                  </a:lnTo>
                  <a:lnTo>
                    <a:pt x="5162" y="1248"/>
                  </a:lnTo>
                  <a:lnTo>
                    <a:pt x="5163" y="989"/>
                  </a:lnTo>
                  <a:lnTo>
                    <a:pt x="5164" y="887"/>
                  </a:lnTo>
                  <a:lnTo>
                    <a:pt x="5165" y="716"/>
                  </a:lnTo>
                  <a:lnTo>
                    <a:pt x="5166" y="757"/>
                  </a:lnTo>
                  <a:lnTo>
                    <a:pt x="5167" y="872"/>
                  </a:lnTo>
                  <a:lnTo>
                    <a:pt x="5168" y="765"/>
                  </a:lnTo>
                  <a:lnTo>
                    <a:pt x="5170" y="698"/>
                  </a:lnTo>
                  <a:lnTo>
                    <a:pt x="5171" y="1261"/>
                  </a:lnTo>
                  <a:lnTo>
                    <a:pt x="5173" y="1419"/>
                  </a:lnTo>
                  <a:lnTo>
                    <a:pt x="5174" y="1240"/>
                  </a:lnTo>
                  <a:lnTo>
                    <a:pt x="5175" y="918"/>
                  </a:lnTo>
                  <a:lnTo>
                    <a:pt x="5176" y="628"/>
                  </a:lnTo>
                  <a:lnTo>
                    <a:pt x="5177" y="1025"/>
                  </a:lnTo>
                  <a:lnTo>
                    <a:pt x="5179" y="629"/>
                  </a:lnTo>
                  <a:lnTo>
                    <a:pt x="5180" y="1288"/>
                  </a:lnTo>
                  <a:lnTo>
                    <a:pt x="5181" y="999"/>
                  </a:lnTo>
                  <a:lnTo>
                    <a:pt x="5182" y="761"/>
                  </a:lnTo>
                  <a:lnTo>
                    <a:pt x="5183" y="1020"/>
                  </a:lnTo>
                  <a:lnTo>
                    <a:pt x="5185" y="625"/>
                  </a:lnTo>
                  <a:lnTo>
                    <a:pt x="5186" y="1078"/>
                  </a:lnTo>
                  <a:lnTo>
                    <a:pt x="5187" y="1181"/>
                  </a:lnTo>
                  <a:lnTo>
                    <a:pt x="5189" y="1165"/>
                  </a:lnTo>
                  <a:lnTo>
                    <a:pt x="5190" y="1739"/>
                  </a:lnTo>
                  <a:lnTo>
                    <a:pt x="5191" y="1097"/>
                  </a:lnTo>
                  <a:lnTo>
                    <a:pt x="5192" y="1436"/>
                  </a:lnTo>
                  <a:lnTo>
                    <a:pt x="5193" y="1039"/>
                  </a:lnTo>
                  <a:lnTo>
                    <a:pt x="5194" y="1046"/>
                  </a:lnTo>
                  <a:lnTo>
                    <a:pt x="5196" y="592"/>
                  </a:lnTo>
                  <a:lnTo>
                    <a:pt x="5198" y="1347"/>
                  </a:lnTo>
                  <a:lnTo>
                    <a:pt x="5199" y="1085"/>
                  </a:lnTo>
                  <a:lnTo>
                    <a:pt x="5200" y="857"/>
                  </a:lnTo>
                  <a:lnTo>
                    <a:pt x="5201" y="1069"/>
                  </a:lnTo>
                  <a:lnTo>
                    <a:pt x="5202" y="1011"/>
                  </a:lnTo>
                  <a:lnTo>
                    <a:pt x="5203" y="1022"/>
                  </a:lnTo>
                  <a:lnTo>
                    <a:pt x="5204" y="1238"/>
                  </a:lnTo>
                  <a:lnTo>
                    <a:pt x="5205" y="1245"/>
                  </a:lnTo>
                  <a:lnTo>
                    <a:pt x="5208" y="934"/>
                  </a:lnTo>
                  <a:lnTo>
                    <a:pt x="5209" y="814"/>
                  </a:lnTo>
                  <a:lnTo>
                    <a:pt x="5210" y="1010"/>
                  </a:lnTo>
                  <a:lnTo>
                    <a:pt x="5211" y="843"/>
                  </a:lnTo>
                  <a:lnTo>
                    <a:pt x="5212" y="1048"/>
                  </a:lnTo>
                  <a:lnTo>
                    <a:pt x="5213" y="848"/>
                  </a:lnTo>
                  <a:lnTo>
                    <a:pt x="5214" y="716"/>
                  </a:lnTo>
                  <a:lnTo>
                    <a:pt x="5215" y="1073"/>
                  </a:lnTo>
                  <a:lnTo>
                    <a:pt x="5216" y="763"/>
                  </a:lnTo>
                  <a:lnTo>
                    <a:pt x="5219" y="1306"/>
                  </a:lnTo>
                  <a:lnTo>
                    <a:pt x="5220" y="1221"/>
                  </a:lnTo>
                  <a:lnTo>
                    <a:pt x="5221" y="1019"/>
                  </a:lnTo>
                  <a:lnTo>
                    <a:pt x="5222" y="1019"/>
                  </a:lnTo>
                  <a:lnTo>
                    <a:pt x="5223" y="851"/>
                  </a:lnTo>
                  <a:lnTo>
                    <a:pt x="5224" y="858"/>
                  </a:lnTo>
                  <a:lnTo>
                    <a:pt x="5225" y="639"/>
                  </a:lnTo>
                  <a:lnTo>
                    <a:pt x="5227" y="905"/>
                  </a:lnTo>
                  <a:lnTo>
                    <a:pt x="5228" y="778"/>
                  </a:lnTo>
                  <a:lnTo>
                    <a:pt x="5230" y="1198"/>
                  </a:lnTo>
                  <a:lnTo>
                    <a:pt x="5231" y="806"/>
                  </a:lnTo>
                  <a:lnTo>
                    <a:pt x="5232" y="1158"/>
                  </a:lnTo>
                  <a:lnTo>
                    <a:pt x="5233" y="1120"/>
                  </a:lnTo>
                  <a:lnTo>
                    <a:pt x="5234" y="923"/>
                  </a:lnTo>
                  <a:lnTo>
                    <a:pt x="5235" y="1449"/>
                  </a:lnTo>
                  <a:lnTo>
                    <a:pt x="5237" y="1119"/>
                  </a:lnTo>
                  <a:lnTo>
                    <a:pt x="5238" y="1479"/>
                  </a:lnTo>
                  <a:lnTo>
                    <a:pt x="5239" y="1126"/>
                  </a:lnTo>
                  <a:lnTo>
                    <a:pt x="5241" y="1168"/>
                  </a:lnTo>
                  <a:lnTo>
                    <a:pt x="5242" y="768"/>
                  </a:lnTo>
                  <a:lnTo>
                    <a:pt x="5243" y="829"/>
                  </a:lnTo>
                  <a:lnTo>
                    <a:pt x="5244" y="1226"/>
                  </a:lnTo>
                  <a:lnTo>
                    <a:pt x="5245" y="671"/>
                  </a:lnTo>
                  <a:lnTo>
                    <a:pt x="5247" y="1050"/>
                  </a:lnTo>
                  <a:lnTo>
                    <a:pt x="5248" y="646"/>
                  </a:lnTo>
                  <a:lnTo>
                    <a:pt x="5249" y="952"/>
                  </a:lnTo>
                  <a:lnTo>
                    <a:pt x="5250" y="376"/>
                  </a:lnTo>
                  <a:lnTo>
                    <a:pt x="5251" y="1081"/>
                  </a:lnTo>
                  <a:lnTo>
                    <a:pt x="5253" y="1106"/>
                  </a:lnTo>
                  <a:lnTo>
                    <a:pt x="5254" y="1084"/>
                  </a:lnTo>
                  <a:lnTo>
                    <a:pt x="5256" y="767"/>
                  </a:lnTo>
                  <a:lnTo>
                    <a:pt x="5257" y="1273"/>
                  </a:lnTo>
                  <a:lnTo>
                    <a:pt x="5258" y="1371"/>
                  </a:lnTo>
                  <a:lnTo>
                    <a:pt x="5259" y="687"/>
                  </a:lnTo>
                  <a:lnTo>
                    <a:pt x="5260" y="1280"/>
                  </a:lnTo>
                  <a:lnTo>
                    <a:pt x="5261" y="1676"/>
                  </a:lnTo>
                  <a:lnTo>
                    <a:pt x="5262" y="1793"/>
                  </a:lnTo>
                  <a:lnTo>
                    <a:pt x="5264" y="929"/>
                  </a:lnTo>
                  <a:lnTo>
                    <a:pt x="5266" y="872"/>
                  </a:lnTo>
                  <a:lnTo>
                    <a:pt x="5267" y="616"/>
                  </a:lnTo>
                  <a:lnTo>
                    <a:pt x="5268" y="1143"/>
                  </a:lnTo>
                  <a:lnTo>
                    <a:pt x="5269" y="1039"/>
                  </a:lnTo>
                  <a:lnTo>
                    <a:pt x="5270" y="1097"/>
                  </a:lnTo>
                  <a:lnTo>
                    <a:pt x="5271" y="1375"/>
                  </a:lnTo>
                  <a:lnTo>
                    <a:pt x="5272" y="1014"/>
                  </a:lnTo>
                  <a:lnTo>
                    <a:pt x="5273" y="407"/>
                  </a:lnTo>
                  <a:lnTo>
                    <a:pt x="5276" y="833"/>
                  </a:lnTo>
                  <a:lnTo>
                    <a:pt x="5277" y="796"/>
                  </a:lnTo>
                  <a:lnTo>
                    <a:pt x="5278" y="1141"/>
                  </a:lnTo>
                  <a:lnTo>
                    <a:pt x="5279" y="263"/>
                  </a:lnTo>
                  <a:lnTo>
                    <a:pt x="5280" y="820"/>
                  </a:lnTo>
                  <a:lnTo>
                    <a:pt x="5281" y="867"/>
                  </a:lnTo>
                  <a:lnTo>
                    <a:pt x="5282" y="885"/>
                  </a:lnTo>
                  <a:lnTo>
                    <a:pt x="5283" y="1167"/>
                  </a:lnTo>
                  <a:lnTo>
                    <a:pt x="5285" y="830"/>
                  </a:lnTo>
                  <a:lnTo>
                    <a:pt x="5287" y="1058"/>
                  </a:lnTo>
                  <a:lnTo>
                    <a:pt x="5288" y="933"/>
                  </a:lnTo>
                  <a:lnTo>
                    <a:pt x="5289" y="1735"/>
                  </a:lnTo>
                  <a:lnTo>
                    <a:pt x="5290" y="1445"/>
                  </a:lnTo>
                  <a:lnTo>
                    <a:pt x="5291" y="713"/>
                  </a:lnTo>
                  <a:lnTo>
                    <a:pt x="5292" y="992"/>
                  </a:lnTo>
                  <a:lnTo>
                    <a:pt x="5293" y="1137"/>
                  </a:lnTo>
                  <a:lnTo>
                    <a:pt x="5295" y="1160"/>
                  </a:lnTo>
                  <a:lnTo>
                    <a:pt x="5296" y="954"/>
                  </a:lnTo>
                  <a:lnTo>
                    <a:pt x="5298" y="1209"/>
                  </a:lnTo>
                  <a:lnTo>
                    <a:pt x="5299" y="329"/>
                  </a:lnTo>
                  <a:lnTo>
                    <a:pt x="5300" y="1294"/>
                  </a:lnTo>
                  <a:lnTo>
                    <a:pt x="5301" y="851"/>
                  </a:lnTo>
                  <a:lnTo>
                    <a:pt x="5302" y="1059"/>
                  </a:lnTo>
                  <a:lnTo>
                    <a:pt x="5303" y="1049"/>
                  </a:lnTo>
                  <a:lnTo>
                    <a:pt x="5305" y="1431"/>
                  </a:lnTo>
                  <a:lnTo>
                    <a:pt x="5306" y="763"/>
                  </a:lnTo>
                  <a:lnTo>
                    <a:pt x="5307" y="1568"/>
                  </a:lnTo>
                  <a:lnTo>
                    <a:pt x="5308" y="1295"/>
                  </a:lnTo>
                  <a:lnTo>
                    <a:pt x="5310" y="808"/>
                  </a:lnTo>
                  <a:lnTo>
                    <a:pt x="5311" y="1010"/>
                  </a:lnTo>
                  <a:lnTo>
                    <a:pt x="5312" y="1296"/>
                  </a:lnTo>
                  <a:lnTo>
                    <a:pt x="5314" y="1412"/>
                  </a:lnTo>
                  <a:lnTo>
                    <a:pt x="5315" y="1167"/>
                  </a:lnTo>
                  <a:lnTo>
                    <a:pt x="5316" y="772"/>
                  </a:lnTo>
                  <a:lnTo>
                    <a:pt x="5317" y="470"/>
                  </a:lnTo>
                  <a:lnTo>
                    <a:pt x="5318" y="955"/>
                  </a:lnTo>
                  <a:lnTo>
                    <a:pt x="5319" y="1206"/>
                  </a:lnTo>
                  <a:lnTo>
                    <a:pt x="5321" y="1146"/>
                  </a:lnTo>
                  <a:lnTo>
                    <a:pt x="5322" y="1011"/>
                  </a:lnTo>
                  <a:lnTo>
                    <a:pt x="5324" y="1134"/>
                  </a:lnTo>
                  <a:lnTo>
                    <a:pt x="5325" y="680"/>
                  </a:lnTo>
                  <a:lnTo>
                    <a:pt x="5326" y="730"/>
                  </a:lnTo>
                  <a:lnTo>
                    <a:pt x="5327" y="1000"/>
                  </a:lnTo>
                  <a:lnTo>
                    <a:pt x="5328" y="921"/>
                  </a:lnTo>
                  <a:lnTo>
                    <a:pt x="5329" y="1324"/>
                  </a:lnTo>
                  <a:lnTo>
                    <a:pt x="5330" y="1025"/>
                  </a:lnTo>
                  <a:lnTo>
                    <a:pt x="5332" y="994"/>
                  </a:lnTo>
                  <a:lnTo>
                    <a:pt x="5334" y="1151"/>
                  </a:lnTo>
                  <a:lnTo>
                    <a:pt x="5335" y="841"/>
                  </a:lnTo>
                  <a:lnTo>
                    <a:pt x="5336" y="1283"/>
                  </a:lnTo>
                  <a:lnTo>
                    <a:pt x="5337" y="1288"/>
                  </a:lnTo>
                  <a:lnTo>
                    <a:pt x="5338" y="1101"/>
                  </a:lnTo>
                  <a:lnTo>
                    <a:pt x="5339" y="1489"/>
                  </a:lnTo>
                  <a:lnTo>
                    <a:pt x="5340" y="849"/>
                  </a:lnTo>
                  <a:lnTo>
                    <a:pt x="5341" y="1189"/>
                  </a:lnTo>
                  <a:lnTo>
                    <a:pt x="5344" y="719"/>
                  </a:lnTo>
                  <a:lnTo>
                    <a:pt x="5345" y="1159"/>
                  </a:lnTo>
                  <a:lnTo>
                    <a:pt x="5346" y="838"/>
                  </a:lnTo>
                  <a:lnTo>
                    <a:pt x="5347" y="926"/>
                  </a:lnTo>
                  <a:lnTo>
                    <a:pt x="5348" y="992"/>
                  </a:lnTo>
                  <a:lnTo>
                    <a:pt x="5349" y="1168"/>
                  </a:lnTo>
                  <a:lnTo>
                    <a:pt x="5350" y="1100"/>
                  </a:lnTo>
                  <a:lnTo>
                    <a:pt x="5351" y="1041"/>
                  </a:lnTo>
                  <a:lnTo>
                    <a:pt x="5353" y="1494"/>
                  </a:lnTo>
                  <a:lnTo>
                    <a:pt x="5355" y="1329"/>
                  </a:lnTo>
                  <a:lnTo>
                    <a:pt x="5356" y="1191"/>
                  </a:lnTo>
                  <a:lnTo>
                    <a:pt x="5357" y="934"/>
                  </a:lnTo>
                  <a:lnTo>
                    <a:pt x="5358" y="1224"/>
                  </a:lnTo>
                  <a:lnTo>
                    <a:pt x="5359" y="843"/>
                  </a:lnTo>
                  <a:lnTo>
                    <a:pt x="5360" y="1147"/>
                  </a:lnTo>
                  <a:lnTo>
                    <a:pt x="5361" y="1480"/>
                  </a:lnTo>
                  <a:lnTo>
                    <a:pt x="5363" y="960"/>
                  </a:lnTo>
                  <a:lnTo>
                    <a:pt x="5364" y="1015"/>
                  </a:lnTo>
                  <a:lnTo>
                    <a:pt x="5366" y="511"/>
                  </a:lnTo>
                  <a:lnTo>
                    <a:pt x="5367" y="1056"/>
                  </a:lnTo>
                  <a:lnTo>
                    <a:pt x="5368" y="1198"/>
                  </a:lnTo>
                  <a:lnTo>
                    <a:pt x="5369" y="450"/>
                  </a:lnTo>
                  <a:lnTo>
                    <a:pt x="5370" y="1216"/>
                  </a:lnTo>
                  <a:lnTo>
                    <a:pt x="5372" y="1081"/>
                  </a:lnTo>
                  <a:lnTo>
                    <a:pt x="5373" y="982"/>
                  </a:lnTo>
                  <a:lnTo>
                    <a:pt x="5374" y="662"/>
                  </a:lnTo>
                  <a:lnTo>
                    <a:pt x="5375" y="742"/>
                  </a:lnTo>
                  <a:lnTo>
                    <a:pt x="5376" y="599"/>
                  </a:lnTo>
                  <a:lnTo>
                    <a:pt x="5378" y="679"/>
                  </a:lnTo>
                  <a:lnTo>
                    <a:pt x="5379" y="1021"/>
                  </a:lnTo>
                  <a:lnTo>
                    <a:pt x="5380" y="906"/>
                  </a:lnTo>
                  <a:lnTo>
                    <a:pt x="5382" y="1003"/>
                  </a:lnTo>
                  <a:lnTo>
                    <a:pt x="5383" y="665"/>
                  </a:lnTo>
                  <a:lnTo>
                    <a:pt x="5384" y="312"/>
                  </a:lnTo>
                  <a:lnTo>
                    <a:pt x="5385" y="688"/>
                  </a:lnTo>
                  <a:lnTo>
                    <a:pt x="5386" y="394"/>
                  </a:lnTo>
                  <a:lnTo>
                    <a:pt x="5387" y="1309"/>
                  </a:lnTo>
                  <a:lnTo>
                    <a:pt x="5389" y="473"/>
                  </a:lnTo>
                  <a:lnTo>
                    <a:pt x="5390" y="1053"/>
                  </a:lnTo>
                  <a:lnTo>
                    <a:pt x="5392" y="855"/>
                  </a:lnTo>
                  <a:lnTo>
                    <a:pt x="5393" y="1237"/>
                  </a:lnTo>
                  <a:lnTo>
                    <a:pt x="5394" y="1114"/>
                  </a:lnTo>
                  <a:lnTo>
                    <a:pt x="5395" y="816"/>
                  </a:lnTo>
                  <a:lnTo>
                    <a:pt x="5396" y="902"/>
                  </a:lnTo>
                  <a:lnTo>
                    <a:pt x="5397" y="976"/>
                  </a:lnTo>
                  <a:lnTo>
                    <a:pt x="5398" y="1332"/>
                  </a:lnTo>
                  <a:lnTo>
                    <a:pt x="5401" y="788"/>
                  </a:lnTo>
                  <a:lnTo>
                    <a:pt x="5402" y="906"/>
                  </a:lnTo>
                  <a:lnTo>
                    <a:pt x="5403" y="824"/>
                  </a:lnTo>
                  <a:lnTo>
                    <a:pt x="5404" y="1078"/>
                  </a:lnTo>
                  <a:lnTo>
                    <a:pt x="5405" y="1333"/>
                  </a:lnTo>
                  <a:lnTo>
                    <a:pt x="5406" y="982"/>
                  </a:lnTo>
                  <a:lnTo>
                    <a:pt x="5407" y="741"/>
                  </a:lnTo>
                  <a:lnTo>
                    <a:pt x="5408" y="718"/>
                  </a:lnTo>
                  <a:lnTo>
                    <a:pt x="5409" y="382"/>
                  </a:lnTo>
                  <a:lnTo>
                    <a:pt x="5412" y="941"/>
                  </a:lnTo>
                  <a:lnTo>
                    <a:pt x="5413" y="1022"/>
                  </a:lnTo>
                  <a:lnTo>
                    <a:pt x="5414" y="729"/>
                  </a:lnTo>
                  <a:lnTo>
                    <a:pt x="5415" y="1212"/>
                  </a:lnTo>
                  <a:lnTo>
                    <a:pt x="5416" y="1240"/>
                  </a:lnTo>
                  <a:lnTo>
                    <a:pt x="5417" y="929"/>
                  </a:lnTo>
                  <a:lnTo>
                    <a:pt x="5418" y="1007"/>
                  </a:lnTo>
                  <a:lnTo>
                    <a:pt x="5419" y="941"/>
                  </a:lnTo>
                  <a:lnTo>
                    <a:pt x="5421" y="1040"/>
                  </a:lnTo>
                  <a:lnTo>
                    <a:pt x="5423" y="985"/>
                  </a:lnTo>
                  <a:lnTo>
                    <a:pt x="5424" y="1292"/>
                  </a:lnTo>
                  <a:lnTo>
                    <a:pt x="5425" y="843"/>
                  </a:lnTo>
                  <a:lnTo>
                    <a:pt x="5426" y="1019"/>
                  </a:lnTo>
                  <a:lnTo>
                    <a:pt x="5427" y="769"/>
                  </a:lnTo>
                  <a:lnTo>
                    <a:pt x="5428" y="1381"/>
                  </a:lnTo>
                  <a:lnTo>
                    <a:pt x="5430" y="1247"/>
                  </a:lnTo>
                  <a:lnTo>
                    <a:pt x="5431" y="371"/>
                  </a:lnTo>
                  <a:lnTo>
                    <a:pt x="5432" y="919"/>
                  </a:lnTo>
                  <a:lnTo>
                    <a:pt x="5433" y="621"/>
                  </a:lnTo>
                  <a:lnTo>
                    <a:pt x="5435" y="1162"/>
                  </a:lnTo>
                  <a:lnTo>
                    <a:pt x="5436" y="837"/>
                  </a:lnTo>
                  <a:lnTo>
                    <a:pt x="5437" y="940"/>
                  </a:lnTo>
                  <a:lnTo>
                    <a:pt x="5438" y="1039"/>
                  </a:lnTo>
                  <a:lnTo>
                    <a:pt x="5440" y="1044"/>
                  </a:lnTo>
                  <a:lnTo>
                    <a:pt x="5441" y="1165"/>
                  </a:lnTo>
                  <a:lnTo>
                    <a:pt x="5442" y="613"/>
                  </a:lnTo>
                  <a:lnTo>
                    <a:pt x="5443" y="1101"/>
                  </a:lnTo>
                  <a:lnTo>
                    <a:pt x="5444" y="1256"/>
                  </a:lnTo>
                  <a:lnTo>
                    <a:pt x="5446" y="857"/>
                  </a:lnTo>
                  <a:lnTo>
                    <a:pt x="5447" y="1081"/>
                  </a:lnTo>
                  <a:lnTo>
                    <a:pt x="5449" y="1275"/>
                  </a:lnTo>
                  <a:lnTo>
                    <a:pt x="5450" y="1277"/>
                  </a:lnTo>
                  <a:lnTo>
                    <a:pt x="5451" y="819"/>
                  </a:lnTo>
                  <a:lnTo>
                    <a:pt x="5452" y="1003"/>
                  </a:lnTo>
                  <a:lnTo>
                    <a:pt x="5453" y="312"/>
                  </a:lnTo>
                  <a:lnTo>
                    <a:pt x="5454" y="872"/>
                  </a:lnTo>
                  <a:lnTo>
                    <a:pt x="5455" y="1454"/>
                  </a:lnTo>
                  <a:lnTo>
                    <a:pt x="5457" y="579"/>
                  </a:lnTo>
                  <a:lnTo>
                    <a:pt x="5459" y="1305"/>
                  </a:lnTo>
                  <a:lnTo>
                    <a:pt x="5460" y="1419"/>
                  </a:lnTo>
                  <a:lnTo>
                    <a:pt x="5461" y="665"/>
                  </a:lnTo>
                  <a:lnTo>
                    <a:pt x="5462" y="1355"/>
                  </a:lnTo>
                  <a:lnTo>
                    <a:pt x="5463" y="1016"/>
                  </a:lnTo>
                  <a:lnTo>
                    <a:pt x="5464" y="918"/>
                  </a:lnTo>
                  <a:lnTo>
                    <a:pt x="5465" y="876"/>
                  </a:lnTo>
                  <a:lnTo>
                    <a:pt x="5466" y="1234"/>
                  </a:lnTo>
                  <a:lnTo>
                    <a:pt x="5469" y="965"/>
                  </a:lnTo>
                  <a:lnTo>
                    <a:pt x="5470" y="1593"/>
                  </a:lnTo>
                  <a:lnTo>
                    <a:pt x="5471" y="712"/>
                  </a:lnTo>
                  <a:lnTo>
                    <a:pt x="5472" y="1272"/>
                  </a:lnTo>
                  <a:lnTo>
                    <a:pt x="5473" y="1280"/>
                  </a:lnTo>
                  <a:lnTo>
                    <a:pt x="5474" y="1453"/>
                  </a:lnTo>
                  <a:lnTo>
                    <a:pt x="5475" y="721"/>
                  </a:lnTo>
                  <a:lnTo>
                    <a:pt x="5476" y="965"/>
                  </a:lnTo>
                  <a:lnTo>
                    <a:pt x="5478" y="1001"/>
                  </a:lnTo>
                  <a:lnTo>
                    <a:pt x="5480" y="856"/>
                  </a:lnTo>
                  <a:lnTo>
                    <a:pt x="5481" y="1302"/>
                  </a:lnTo>
                  <a:lnTo>
                    <a:pt x="5482" y="1267"/>
                  </a:lnTo>
                  <a:lnTo>
                    <a:pt x="5483" y="854"/>
                  </a:lnTo>
                  <a:lnTo>
                    <a:pt x="5484" y="901"/>
                  </a:lnTo>
                  <a:lnTo>
                    <a:pt x="5485" y="1547"/>
                  </a:lnTo>
                  <a:lnTo>
                    <a:pt x="5486" y="636"/>
                  </a:lnTo>
                  <a:lnTo>
                    <a:pt x="5488" y="894"/>
                  </a:lnTo>
                  <a:lnTo>
                    <a:pt x="5489" y="632"/>
                  </a:lnTo>
                  <a:lnTo>
                    <a:pt x="5491" y="707"/>
                  </a:lnTo>
                  <a:lnTo>
                    <a:pt x="5492" y="731"/>
                  </a:lnTo>
                  <a:lnTo>
                    <a:pt x="5493" y="765"/>
                  </a:lnTo>
                  <a:lnTo>
                    <a:pt x="5494" y="795"/>
                  </a:lnTo>
                  <a:lnTo>
                    <a:pt x="5495" y="916"/>
                  </a:lnTo>
                  <a:lnTo>
                    <a:pt x="5496" y="688"/>
                  </a:lnTo>
                  <a:lnTo>
                    <a:pt x="5498" y="1077"/>
                  </a:lnTo>
                  <a:lnTo>
                    <a:pt x="5499" y="165"/>
                  </a:lnTo>
                  <a:lnTo>
                    <a:pt x="5500" y="742"/>
                  </a:lnTo>
                  <a:lnTo>
                    <a:pt x="5501" y="1050"/>
                  </a:lnTo>
                  <a:lnTo>
                    <a:pt x="5503" y="574"/>
                  </a:lnTo>
                  <a:lnTo>
                    <a:pt x="5504" y="950"/>
                  </a:lnTo>
                  <a:lnTo>
                    <a:pt x="5505" y="1033"/>
                  </a:lnTo>
                  <a:lnTo>
                    <a:pt x="5507" y="1220"/>
                  </a:lnTo>
                  <a:lnTo>
                    <a:pt x="5508" y="561"/>
                  </a:lnTo>
                  <a:lnTo>
                    <a:pt x="5509" y="813"/>
                  </a:lnTo>
                  <a:lnTo>
                    <a:pt x="5510" y="977"/>
                  </a:lnTo>
                  <a:lnTo>
                    <a:pt x="5511" y="1390"/>
                  </a:lnTo>
                  <a:lnTo>
                    <a:pt x="5512" y="1358"/>
                  </a:lnTo>
                  <a:lnTo>
                    <a:pt x="5514" y="829"/>
                  </a:lnTo>
                  <a:lnTo>
                    <a:pt x="5515" y="805"/>
                  </a:lnTo>
                  <a:lnTo>
                    <a:pt x="5517" y="758"/>
                  </a:lnTo>
                  <a:lnTo>
                    <a:pt x="5518" y="493"/>
                  </a:lnTo>
                  <a:lnTo>
                    <a:pt x="5519" y="1404"/>
                  </a:lnTo>
                  <a:lnTo>
                    <a:pt x="5520" y="1119"/>
                  </a:lnTo>
                  <a:lnTo>
                    <a:pt x="5521" y="1074"/>
                  </a:lnTo>
                  <a:lnTo>
                    <a:pt x="5522" y="1210"/>
                  </a:lnTo>
                  <a:lnTo>
                    <a:pt x="5523" y="1355"/>
                  </a:lnTo>
                  <a:lnTo>
                    <a:pt x="5525" y="1041"/>
                  </a:lnTo>
                  <a:lnTo>
                    <a:pt x="5527" y="989"/>
                  </a:lnTo>
                  <a:lnTo>
                    <a:pt x="5528" y="983"/>
                  </a:lnTo>
                  <a:lnTo>
                    <a:pt x="5529" y="990"/>
                  </a:lnTo>
                  <a:lnTo>
                    <a:pt x="5530" y="1335"/>
                  </a:lnTo>
                  <a:lnTo>
                    <a:pt x="5531" y="569"/>
                  </a:lnTo>
                  <a:lnTo>
                    <a:pt x="5532" y="1403"/>
                  </a:lnTo>
                  <a:lnTo>
                    <a:pt x="5533" y="366"/>
                  </a:lnTo>
                  <a:lnTo>
                    <a:pt x="5534" y="882"/>
                  </a:lnTo>
                  <a:lnTo>
                    <a:pt x="5537" y="853"/>
                  </a:lnTo>
                  <a:lnTo>
                    <a:pt x="5538" y="1160"/>
                  </a:lnTo>
                  <a:lnTo>
                    <a:pt x="5539" y="982"/>
                  </a:lnTo>
                  <a:lnTo>
                    <a:pt x="5540" y="1409"/>
                  </a:lnTo>
                  <a:lnTo>
                    <a:pt x="5541" y="1155"/>
                  </a:lnTo>
                  <a:lnTo>
                    <a:pt x="5542" y="1063"/>
                  </a:lnTo>
                  <a:lnTo>
                    <a:pt x="5543" y="892"/>
                  </a:lnTo>
                  <a:lnTo>
                    <a:pt x="5544" y="1333"/>
                  </a:lnTo>
                  <a:lnTo>
                    <a:pt x="5546" y="1308"/>
                  </a:lnTo>
                  <a:lnTo>
                    <a:pt x="5548" y="1109"/>
                  </a:lnTo>
                  <a:lnTo>
                    <a:pt x="5549" y="1069"/>
                  </a:lnTo>
                  <a:lnTo>
                    <a:pt x="5550" y="1403"/>
                  </a:lnTo>
                  <a:lnTo>
                    <a:pt x="5551" y="938"/>
                  </a:lnTo>
                  <a:lnTo>
                    <a:pt x="5552" y="776"/>
                  </a:lnTo>
                  <a:lnTo>
                    <a:pt x="5553" y="1072"/>
                  </a:lnTo>
                  <a:lnTo>
                    <a:pt x="5554" y="586"/>
                  </a:lnTo>
                  <a:lnTo>
                    <a:pt x="5556" y="911"/>
                  </a:lnTo>
                  <a:lnTo>
                    <a:pt x="5557" y="1202"/>
                  </a:lnTo>
                  <a:lnTo>
                    <a:pt x="5558" y="1071"/>
                  </a:lnTo>
                  <a:lnTo>
                    <a:pt x="5560" y="928"/>
                  </a:lnTo>
                  <a:lnTo>
                    <a:pt x="5561" y="1430"/>
                  </a:lnTo>
                  <a:lnTo>
                    <a:pt x="5562" y="955"/>
                  </a:lnTo>
                  <a:lnTo>
                    <a:pt x="5563" y="1137"/>
                  </a:lnTo>
                  <a:lnTo>
                    <a:pt x="5565" y="1498"/>
                  </a:lnTo>
                  <a:lnTo>
                    <a:pt x="5566" y="1155"/>
                  </a:lnTo>
                  <a:lnTo>
                    <a:pt x="5567" y="751"/>
                  </a:lnTo>
                  <a:lnTo>
                    <a:pt x="5568" y="1045"/>
                  </a:lnTo>
                  <a:lnTo>
                    <a:pt x="5569" y="1323"/>
                  </a:lnTo>
                  <a:lnTo>
                    <a:pt x="5571" y="849"/>
                  </a:lnTo>
                  <a:lnTo>
                    <a:pt x="5572" y="1270"/>
                  </a:lnTo>
                  <a:lnTo>
                    <a:pt x="5573" y="923"/>
                  </a:lnTo>
                  <a:lnTo>
                    <a:pt x="5575" y="1635"/>
                  </a:lnTo>
                  <a:lnTo>
                    <a:pt x="5576" y="836"/>
                  </a:lnTo>
                  <a:lnTo>
                    <a:pt x="5577" y="1424"/>
                  </a:lnTo>
                  <a:lnTo>
                    <a:pt x="5578" y="771"/>
                  </a:lnTo>
                  <a:lnTo>
                    <a:pt x="5579" y="1303"/>
                  </a:lnTo>
                  <a:lnTo>
                    <a:pt x="5580" y="929"/>
                  </a:lnTo>
                  <a:lnTo>
                    <a:pt x="5582" y="1571"/>
                  </a:lnTo>
                  <a:lnTo>
                    <a:pt x="5583" y="1319"/>
                  </a:lnTo>
                  <a:lnTo>
                    <a:pt x="5585" y="582"/>
                  </a:lnTo>
                  <a:lnTo>
                    <a:pt x="5586" y="596"/>
                  </a:lnTo>
                  <a:lnTo>
                    <a:pt x="5587" y="1179"/>
                  </a:lnTo>
                  <a:lnTo>
                    <a:pt x="5588" y="780"/>
                  </a:lnTo>
                  <a:lnTo>
                    <a:pt x="5589" y="1099"/>
                  </a:lnTo>
                  <a:lnTo>
                    <a:pt x="5590" y="763"/>
                  </a:lnTo>
                  <a:lnTo>
                    <a:pt x="5591" y="1338"/>
                  </a:lnTo>
                  <a:lnTo>
                    <a:pt x="5594" y="894"/>
                  </a:lnTo>
                  <a:lnTo>
                    <a:pt x="5595" y="976"/>
                  </a:lnTo>
                  <a:lnTo>
                    <a:pt x="5596" y="1777"/>
                  </a:lnTo>
                  <a:lnTo>
                    <a:pt x="5597" y="1292"/>
                  </a:lnTo>
                  <a:lnTo>
                    <a:pt x="5598" y="1097"/>
                  </a:lnTo>
                  <a:lnTo>
                    <a:pt x="5599" y="1378"/>
                  </a:lnTo>
                  <a:lnTo>
                    <a:pt x="5600" y="1285"/>
                  </a:lnTo>
                  <a:lnTo>
                    <a:pt x="5601" y="1085"/>
                  </a:lnTo>
                  <a:lnTo>
                    <a:pt x="5602" y="948"/>
                  </a:lnTo>
                  <a:lnTo>
                    <a:pt x="5605" y="1452"/>
                  </a:lnTo>
                  <a:lnTo>
                    <a:pt x="5606" y="1334"/>
                  </a:lnTo>
                  <a:lnTo>
                    <a:pt x="5607" y="1494"/>
                  </a:lnTo>
                  <a:lnTo>
                    <a:pt x="5608" y="1316"/>
                  </a:lnTo>
                  <a:lnTo>
                    <a:pt x="5609" y="886"/>
                  </a:lnTo>
                  <a:lnTo>
                    <a:pt x="5610" y="933"/>
                  </a:lnTo>
                  <a:lnTo>
                    <a:pt x="5611" y="1239"/>
                  </a:lnTo>
                  <a:lnTo>
                    <a:pt x="5612" y="1016"/>
                  </a:lnTo>
                  <a:lnTo>
                    <a:pt x="5614" y="1153"/>
                  </a:lnTo>
                  <a:lnTo>
                    <a:pt x="5616" y="1303"/>
                  </a:lnTo>
                  <a:lnTo>
                    <a:pt x="5617" y="898"/>
                  </a:lnTo>
                  <a:lnTo>
                    <a:pt x="5618" y="1106"/>
                  </a:lnTo>
                  <a:lnTo>
                    <a:pt x="5619" y="1217"/>
                  </a:lnTo>
                  <a:lnTo>
                    <a:pt x="5620" y="956"/>
                  </a:lnTo>
                  <a:lnTo>
                    <a:pt x="5621" y="957"/>
                  </a:lnTo>
                  <a:lnTo>
                    <a:pt x="5623" y="925"/>
                  </a:lnTo>
                  <a:lnTo>
                    <a:pt x="5624" y="1009"/>
                  </a:lnTo>
                  <a:lnTo>
                    <a:pt x="5625" y="844"/>
                  </a:lnTo>
                  <a:lnTo>
                    <a:pt x="5626" y="878"/>
                  </a:lnTo>
                  <a:lnTo>
                    <a:pt x="5628" y="1172"/>
                  </a:lnTo>
                  <a:lnTo>
                    <a:pt x="5629" y="736"/>
                  </a:lnTo>
                  <a:lnTo>
                    <a:pt x="5630" y="911"/>
                  </a:lnTo>
                  <a:lnTo>
                    <a:pt x="5631" y="1064"/>
                  </a:lnTo>
                  <a:lnTo>
                    <a:pt x="5633" y="985"/>
                  </a:lnTo>
                  <a:lnTo>
                    <a:pt x="5634" y="1134"/>
                  </a:lnTo>
                  <a:lnTo>
                    <a:pt x="5635" y="741"/>
                  </a:lnTo>
                  <a:lnTo>
                    <a:pt x="5636" y="1071"/>
                  </a:lnTo>
                  <a:lnTo>
                    <a:pt x="5637" y="746"/>
                  </a:lnTo>
                  <a:lnTo>
                    <a:pt x="5639" y="572"/>
                  </a:lnTo>
                  <a:lnTo>
                    <a:pt x="5640" y="911"/>
                  </a:lnTo>
                  <a:lnTo>
                    <a:pt x="5641" y="813"/>
                  </a:lnTo>
                  <a:lnTo>
                    <a:pt x="5643" y="1287"/>
                  </a:lnTo>
                  <a:lnTo>
                    <a:pt x="5644" y="1014"/>
                  </a:lnTo>
                  <a:lnTo>
                    <a:pt x="5645" y="625"/>
                  </a:lnTo>
                  <a:lnTo>
                    <a:pt x="5646" y="837"/>
                  </a:lnTo>
                  <a:lnTo>
                    <a:pt x="5647" y="1159"/>
                  </a:lnTo>
                  <a:lnTo>
                    <a:pt x="5648" y="794"/>
                  </a:lnTo>
                  <a:lnTo>
                    <a:pt x="5650" y="918"/>
                  </a:lnTo>
                  <a:lnTo>
                    <a:pt x="5652" y="1189"/>
                  </a:lnTo>
                  <a:lnTo>
                    <a:pt x="5653" y="1300"/>
                  </a:lnTo>
                  <a:lnTo>
                    <a:pt x="5654" y="1202"/>
                  </a:lnTo>
                  <a:lnTo>
                    <a:pt x="5655" y="993"/>
                  </a:lnTo>
                  <a:lnTo>
                    <a:pt x="5656" y="1028"/>
                  </a:lnTo>
                  <a:lnTo>
                    <a:pt x="5657" y="670"/>
                  </a:lnTo>
                  <a:lnTo>
                    <a:pt x="5658" y="1017"/>
                  </a:lnTo>
                  <a:lnTo>
                    <a:pt x="5659" y="1102"/>
                  </a:lnTo>
                  <a:lnTo>
                    <a:pt x="5662" y="824"/>
                  </a:lnTo>
                  <a:lnTo>
                    <a:pt x="5663" y="1371"/>
                  </a:lnTo>
                  <a:lnTo>
                    <a:pt x="5664" y="1148"/>
                  </a:lnTo>
                  <a:lnTo>
                    <a:pt x="5665" y="1385"/>
                  </a:lnTo>
                  <a:lnTo>
                    <a:pt x="5666" y="938"/>
                  </a:lnTo>
                  <a:lnTo>
                    <a:pt x="5667" y="681"/>
                  </a:lnTo>
                  <a:lnTo>
                    <a:pt x="5668" y="1324"/>
                  </a:lnTo>
                  <a:lnTo>
                    <a:pt x="5669" y="784"/>
                  </a:lnTo>
                  <a:lnTo>
                    <a:pt x="5670" y="1001"/>
                  </a:lnTo>
                  <a:lnTo>
                    <a:pt x="5673" y="1263"/>
                  </a:lnTo>
                  <a:lnTo>
                    <a:pt x="5674" y="1005"/>
                  </a:lnTo>
                  <a:lnTo>
                    <a:pt x="5675" y="863"/>
                  </a:lnTo>
                  <a:lnTo>
                    <a:pt x="5676" y="1141"/>
                  </a:lnTo>
                  <a:lnTo>
                    <a:pt x="5677" y="1084"/>
                  </a:lnTo>
                  <a:lnTo>
                    <a:pt x="5678" y="808"/>
                  </a:lnTo>
                  <a:lnTo>
                    <a:pt x="5679" y="1246"/>
                  </a:lnTo>
                  <a:lnTo>
                    <a:pt x="5681" y="635"/>
                  </a:lnTo>
                  <a:lnTo>
                    <a:pt x="5682" y="1021"/>
                  </a:lnTo>
                  <a:lnTo>
                    <a:pt x="5684" y="475"/>
                  </a:lnTo>
                  <a:lnTo>
                    <a:pt x="5685" y="338"/>
                  </a:lnTo>
                  <a:lnTo>
                    <a:pt x="5686" y="1255"/>
                  </a:lnTo>
                  <a:lnTo>
                    <a:pt x="5687" y="1423"/>
                  </a:lnTo>
                  <a:lnTo>
                    <a:pt x="5688" y="1360"/>
                  </a:lnTo>
                  <a:lnTo>
                    <a:pt x="5689" y="1438"/>
                  </a:lnTo>
                  <a:lnTo>
                    <a:pt x="5691" y="362"/>
                  </a:lnTo>
                  <a:lnTo>
                    <a:pt x="5692" y="1206"/>
                  </a:lnTo>
                  <a:lnTo>
                    <a:pt x="5693" y="1399"/>
                  </a:lnTo>
                  <a:lnTo>
                    <a:pt x="5694" y="1034"/>
                  </a:lnTo>
                  <a:lnTo>
                    <a:pt x="5696" y="1113"/>
                  </a:lnTo>
                  <a:lnTo>
                    <a:pt x="5697" y="1000"/>
                  </a:lnTo>
                  <a:lnTo>
                    <a:pt x="5698" y="883"/>
                  </a:lnTo>
                  <a:lnTo>
                    <a:pt x="5700" y="713"/>
                  </a:lnTo>
                  <a:lnTo>
                    <a:pt x="5701" y="834"/>
                  </a:lnTo>
                  <a:lnTo>
                    <a:pt x="5702" y="1199"/>
                  </a:lnTo>
                  <a:lnTo>
                    <a:pt x="5703" y="895"/>
                  </a:lnTo>
                  <a:lnTo>
                    <a:pt x="5704" y="1399"/>
                  </a:lnTo>
                  <a:lnTo>
                    <a:pt x="5705" y="967"/>
                  </a:lnTo>
                  <a:lnTo>
                    <a:pt x="5707" y="671"/>
                  </a:lnTo>
                  <a:lnTo>
                    <a:pt x="5708" y="1026"/>
                  </a:lnTo>
                  <a:lnTo>
                    <a:pt x="5710" y="966"/>
                  </a:lnTo>
                  <a:lnTo>
                    <a:pt x="5711" y="693"/>
                  </a:lnTo>
                  <a:lnTo>
                    <a:pt x="5712" y="691"/>
                  </a:lnTo>
                  <a:lnTo>
                    <a:pt x="5713" y="1235"/>
                  </a:lnTo>
                  <a:lnTo>
                    <a:pt x="5714" y="201"/>
                  </a:lnTo>
                  <a:lnTo>
                    <a:pt x="5715" y="702"/>
                  </a:lnTo>
                  <a:lnTo>
                    <a:pt x="5716" y="1425"/>
                  </a:lnTo>
                  <a:lnTo>
                    <a:pt x="5718" y="907"/>
                  </a:lnTo>
                  <a:lnTo>
                    <a:pt x="5720" y="714"/>
                  </a:lnTo>
                  <a:lnTo>
                    <a:pt x="5721" y="1196"/>
                  </a:lnTo>
                  <a:lnTo>
                    <a:pt x="5722" y="914"/>
                  </a:lnTo>
                  <a:lnTo>
                    <a:pt x="5723" y="843"/>
                  </a:lnTo>
                  <a:lnTo>
                    <a:pt x="5724" y="970"/>
                  </a:lnTo>
                  <a:lnTo>
                    <a:pt x="5725" y="916"/>
                  </a:lnTo>
                  <a:lnTo>
                    <a:pt x="5726" y="778"/>
                  </a:lnTo>
                  <a:lnTo>
                    <a:pt x="5727" y="924"/>
                  </a:lnTo>
                  <a:lnTo>
                    <a:pt x="5730" y="1263"/>
                  </a:lnTo>
                  <a:lnTo>
                    <a:pt x="5731" y="1003"/>
                  </a:lnTo>
                  <a:lnTo>
                    <a:pt x="5732" y="826"/>
                  </a:lnTo>
                  <a:lnTo>
                    <a:pt x="5733" y="886"/>
                  </a:lnTo>
                  <a:lnTo>
                    <a:pt x="5734" y="403"/>
                  </a:lnTo>
                  <a:lnTo>
                    <a:pt x="5735" y="1029"/>
                  </a:lnTo>
                  <a:lnTo>
                    <a:pt x="5736" y="954"/>
                  </a:lnTo>
                  <a:lnTo>
                    <a:pt x="5737" y="982"/>
                  </a:lnTo>
                  <a:lnTo>
                    <a:pt x="5739" y="1160"/>
                  </a:lnTo>
                  <a:lnTo>
                    <a:pt x="5741" y="1397"/>
                  </a:lnTo>
                  <a:lnTo>
                    <a:pt x="5742" y="979"/>
                  </a:lnTo>
                  <a:lnTo>
                    <a:pt x="5743" y="1403"/>
                  </a:lnTo>
                  <a:lnTo>
                    <a:pt x="5744" y="548"/>
                  </a:lnTo>
                  <a:lnTo>
                    <a:pt x="5745" y="714"/>
                  </a:lnTo>
                  <a:lnTo>
                    <a:pt x="5746" y="1074"/>
                  </a:lnTo>
                  <a:lnTo>
                    <a:pt x="5747" y="923"/>
                  </a:lnTo>
                  <a:lnTo>
                    <a:pt x="5749" y="680"/>
                  </a:lnTo>
                  <a:lnTo>
                    <a:pt x="5750" y="1073"/>
                  </a:lnTo>
                  <a:lnTo>
                    <a:pt x="5751" y="819"/>
                  </a:lnTo>
                  <a:lnTo>
                    <a:pt x="5753" y="1056"/>
                  </a:lnTo>
                  <a:lnTo>
                    <a:pt x="5754" y="976"/>
                  </a:lnTo>
                  <a:lnTo>
                    <a:pt x="5755" y="1314"/>
                  </a:lnTo>
                  <a:lnTo>
                    <a:pt x="5756" y="1087"/>
                  </a:lnTo>
                  <a:lnTo>
                    <a:pt x="5758" y="678"/>
                  </a:lnTo>
                  <a:lnTo>
                    <a:pt x="5759" y="899"/>
                  </a:lnTo>
                  <a:lnTo>
                    <a:pt x="5760" y="974"/>
                  </a:lnTo>
                  <a:lnTo>
                    <a:pt x="5761" y="1228"/>
                  </a:lnTo>
                  <a:lnTo>
                    <a:pt x="5762" y="655"/>
                  </a:lnTo>
                  <a:lnTo>
                    <a:pt x="5764" y="1029"/>
                  </a:lnTo>
                  <a:lnTo>
                    <a:pt x="5765" y="950"/>
                  </a:lnTo>
                  <a:lnTo>
                    <a:pt x="5766" y="1089"/>
                  </a:lnTo>
                  <a:lnTo>
                    <a:pt x="5768" y="209"/>
                  </a:lnTo>
                  <a:lnTo>
                    <a:pt x="5769" y="894"/>
                  </a:lnTo>
                  <a:lnTo>
                    <a:pt x="5770" y="1227"/>
                  </a:lnTo>
                  <a:lnTo>
                    <a:pt x="5771" y="1108"/>
                  </a:lnTo>
                  <a:lnTo>
                    <a:pt x="5772" y="317"/>
                  </a:lnTo>
                  <a:lnTo>
                    <a:pt x="5773" y="992"/>
                  </a:lnTo>
                  <a:lnTo>
                    <a:pt x="5775" y="623"/>
                  </a:lnTo>
                  <a:lnTo>
                    <a:pt x="5776" y="1523"/>
                  </a:lnTo>
                  <a:lnTo>
                    <a:pt x="5778" y="474"/>
                  </a:lnTo>
                  <a:lnTo>
                    <a:pt x="5779" y="1298"/>
                  </a:lnTo>
                  <a:lnTo>
                    <a:pt x="5780" y="502"/>
                  </a:lnTo>
                  <a:lnTo>
                    <a:pt x="5781" y="1181"/>
                  </a:lnTo>
                  <a:lnTo>
                    <a:pt x="5782" y="964"/>
                  </a:lnTo>
                  <a:lnTo>
                    <a:pt x="5783" y="698"/>
                  </a:lnTo>
                  <a:lnTo>
                    <a:pt x="5784" y="779"/>
                  </a:lnTo>
                  <a:lnTo>
                    <a:pt x="5787" y="776"/>
                  </a:lnTo>
                  <a:lnTo>
                    <a:pt x="5788" y="1484"/>
                  </a:lnTo>
                  <a:lnTo>
                    <a:pt x="5789" y="706"/>
                  </a:lnTo>
                  <a:lnTo>
                    <a:pt x="5790" y="1130"/>
                  </a:lnTo>
                  <a:lnTo>
                    <a:pt x="5791" y="689"/>
                  </a:lnTo>
                  <a:lnTo>
                    <a:pt x="5792" y="938"/>
                  </a:lnTo>
                  <a:lnTo>
                    <a:pt x="5793" y="521"/>
                  </a:lnTo>
                  <a:lnTo>
                    <a:pt x="5794" y="1172"/>
                  </a:lnTo>
                  <a:lnTo>
                    <a:pt x="5795" y="517"/>
                  </a:lnTo>
                  <a:lnTo>
                    <a:pt x="5798" y="1166"/>
                  </a:lnTo>
                  <a:lnTo>
                    <a:pt x="5799" y="976"/>
                  </a:lnTo>
                  <a:lnTo>
                    <a:pt x="5800" y="897"/>
                  </a:lnTo>
                  <a:lnTo>
                    <a:pt x="5801" y="745"/>
                  </a:lnTo>
                  <a:lnTo>
                    <a:pt x="5802" y="1025"/>
                  </a:lnTo>
                  <a:lnTo>
                    <a:pt x="5803" y="679"/>
                  </a:lnTo>
                  <a:lnTo>
                    <a:pt x="5804" y="1133"/>
                  </a:lnTo>
                  <a:lnTo>
                    <a:pt x="5805" y="984"/>
                  </a:lnTo>
                  <a:lnTo>
                    <a:pt x="5807" y="1263"/>
                  </a:lnTo>
                  <a:lnTo>
                    <a:pt x="5809" y="1260"/>
                  </a:lnTo>
                  <a:lnTo>
                    <a:pt x="5810" y="1151"/>
                  </a:lnTo>
                  <a:lnTo>
                    <a:pt x="5811" y="1192"/>
                  </a:lnTo>
                  <a:lnTo>
                    <a:pt x="5812" y="1687"/>
                  </a:lnTo>
                  <a:lnTo>
                    <a:pt x="5813" y="1087"/>
                  </a:lnTo>
                  <a:lnTo>
                    <a:pt x="5814" y="875"/>
                  </a:lnTo>
                  <a:lnTo>
                    <a:pt x="5816" y="851"/>
                  </a:lnTo>
                  <a:lnTo>
                    <a:pt x="5817" y="898"/>
                  </a:lnTo>
                  <a:lnTo>
                    <a:pt x="5818" y="965"/>
                  </a:lnTo>
                  <a:lnTo>
                    <a:pt x="5819" y="1227"/>
                  </a:lnTo>
                  <a:lnTo>
                    <a:pt x="5821" y="1312"/>
                  </a:lnTo>
                  <a:lnTo>
                    <a:pt x="5822" y="1319"/>
                  </a:lnTo>
                  <a:lnTo>
                    <a:pt x="5823" y="1342"/>
                  </a:lnTo>
                  <a:lnTo>
                    <a:pt x="5824" y="989"/>
                  </a:lnTo>
                  <a:lnTo>
                    <a:pt x="5826" y="1415"/>
                  </a:lnTo>
                  <a:lnTo>
                    <a:pt x="5827" y="846"/>
                  </a:lnTo>
                  <a:lnTo>
                    <a:pt x="5828" y="976"/>
                  </a:lnTo>
                  <a:lnTo>
                    <a:pt x="5829" y="1021"/>
                  </a:lnTo>
                  <a:lnTo>
                    <a:pt x="5830" y="1391"/>
                  </a:lnTo>
                  <a:lnTo>
                    <a:pt x="5832" y="1118"/>
                  </a:lnTo>
                  <a:lnTo>
                    <a:pt x="5833" y="1014"/>
                  </a:lnTo>
                  <a:lnTo>
                    <a:pt x="5834" y="929"/>
                  </a:lnTo>
                  <a:lnTo>
                    <a:pt x="5836" y="967"/>
                  </a:lnTo>
                  <a:lnTo>
                    <a:pt x="5837" y="672"/>
                  </a:lnTo>
                  <a:lnTo>
                    <a:pt x="5838" y="609"/>
                  </a:lnTo>
                  <a:lnTo>
                    <a:pt x="5839" y="1707"/>
                  </a:lnTo>
                  <a:lnTo>
                    <a:pt x="5840" y="1035"/>
                  </a:lnTo>
                  <a:lnTo>
                    <a:pt x="5841" y="1352"/>
                  </a:lnTo>
                  <a:lnTo>
                    <a:pt x="5843" y="889"/>
                  </a:lnTo>
                  <a:lnTo>
                    <a:pt x="5845" y="1456"/>
                  </a:lnTo>
                  <a:lnTo>
                    <a:pt x="5846" y="1162"/>
                  </a:lnTo>
                  <a:lnTo>
                    <a:pt x="5847" y="1366"/>
                  </a:lnTo>
                  <a:lnTo>
                    <a:pt x="5848" y="950"/>
                  </a:lnTo>
                  <a:lnTo>
                    <a:pt x="5849" y="1137"/>
                  </a:lnTo>
                  <a:lnTo>
                    <a:pt x="5850" y="1113"/>
                  </a:lnTo>
                  <a:lnTo>
                    <a:pt x="5851" y="355"/>
                  </a:lnTo>
                  <a:lnTo>
                    <a:pt x="5852" y="927"/>
                  </a:lnTo>
                  <a:lnTo>
                    <a:pt x="5855" y="890"/>
                  </a:lnTo>
                  <a:lnTo>
                    <a:pt x="5856" y="860"/>
                  </a:lnTo>
                  <a:lnTo>
                    <a:pt x="5857" y="1494"/>
                  </a:lnTo>
                  <a:lnTo>
                    <a:pt x="5858" y="879"/>
                  </a:lnTo>
                  <a:lnTo>
                    <a:pt x="5859" y="1106"/>
                  </a:lnTo>
                  <a:lnTo>
                    <a:pt x="5860" y="909"/>
                  </a:lnTo>
                  <a:lnTo>
                    <a:pt x="5861" y="1043"/>
                  </a:lnTo>
                  <a:lnTo>
                    <a:pt x="5862" y="369"/>
                  </a:lnTo>
                  <a:lnTo>
                    <a:pt x="5863" y="1119"/>
                  </a:lnTo>
                  <a:lnTo>
                    <a:pt x="5866" y="1477"/>
                  </a:lnTo>
                  <a:lnTo>
                    <a:pt x="5867" y="830"/>
                  </a:lnTo>
                  <a:lnTo>
                    <a:pt x="5868" y="1287"/>
                  </a:lnTo>
                  <a:lnTo>
                    <a:pt x="5869" y="1273"/>
                  </a:lnTo>
                  <a:lnTo>
                    <a:pt x="5870" y="589"/>
                  </a:lnTo>
                  <a:lnTo>
                    <a:pt x="5871" y="1150"/>
                  </a:lnTo>
                  <a:lnTo>
                    <a:pt x="5872" y="1032"/>
                  </a:lnTo>
                  <a:lnTo>
                    <a:pt x="5874" y="835"/>
                  </a:lnTo>
                  <a:lnTo>
                    <a:pt x="5875" y="938"/>
                  </a:lnTo>
                  <a:lnTo>
                    <a:pt x="5876" y="1327"/>
                  </a:lnTo>
                  <a:lnTo>
                    <a:pt x="5878" y="1254"/>
                  </a:lnTo>
                  <a:lnTo>
                    <a:pt x="5879" y="581"/>
                  </a:lnTo>
                  <a:lnTo>
                    <a:pt x="5880" y="1336"/>
                  </a:lnTo>
                  <a:lnTo>
                    <a:pt x="5881" y="737"/>
                  </a:lnTo>
                  <a:lnTo>
                    <a:pt x="5882" y="1395"/>
                  </a:lnTo>
                  <a:lnTo>
                    <a:pt x="5884" y="1113"/>
                  </a:lnTo>
                  <a:lnTo>
                    <a:pt x="5885" y="1332"/>
                  </a:lnTo>
                  <a:lnTo>
                    <a:pt x="5886" y="990"/>
                  </a:lnTo>
                  <a:lnTo>
                    <a:pt x="5887" y="1772"/>
                  </a:lnTo>
                  <a:lnTo>
                    <a:pt x="5889" y="1067"/>
                  </a:lnTo>
                  <a:lnTo>
                    <a:pt x="5890" y="911"/>
                  </a:lnTo>
                  <a:lnTo>
                    <a:pt x="5891" y="968"/>
                  </a:lnTo>
                  <a:lnTo>
                    <a:pt x="5892" y="975"/>
                  </a:lnTo>
                  <a:lnTo>
                    <a:pt x="5894" y="1001"/>
                  </a:lnTo>
                  <a:lnTo>
                    <a:pt x="5895" y="499"/>
                  </a:lnTo>
                  <a:lnTo>
                    <a:pt x="5896" y="907"/>
                  </a:lnTo>
                  <a:lnTo>
                    <a:pt x="5897" y="1239"/>
                  </a:lnTo>
                  <a:lnTo>
                    <a:pt x="5898" y="636"/>
                  </a:lnTo>
                  <a:lnTo>
                    <a:pt x="5900" y="1060"/>
                  </a:lnTo>
                  <a:lnTo>
                    <a:pt x="5901" y="761"/>
                  </a:lnTo>
                  <a:lnTo>
                    <a:pt x="5903" y="831"/>
                  </a:lnTo>
                  <a:lnTo>
                    <a:pt x="5904" y="1289"/>
                  </a:lnTo>
                  <a:lnTo>
                    <a:pt x="5905" y="430"/>
                  </a:lnTo>
                  <a:lnTo>
                    <a:pt x="5906" y="883"/>
                  </a:lnTo>
                  <a:lnTo>
                    <a:pt x="5907" y="1080"/>
                  </a:lnTo>
                  <a:lnTo>
                    <a:pt x="5908" y="1575"/>
                  </a:lnTo>
                  <a:lnTo>
                    <a:pt x="5909" y="702"/>
                  </a:lnTo>
                  <a:lnTo>
                    <a:pt x="5911" y="449"/>
                  </a:lnTo>
                  <a:lnTo>
                    <a:pt x="5913" y="972"/>
                  </a:lnTo>
                  <a:lnTo>
                    <a:pt x="5914" y="1009"/>
                  </a:lnTo>
                  <a:lnTo>
                    <a:pt x="5915" y="1530"/>
                  </a:lnTo>
                  <a:lnTo>
                    <a:pt x="5916" y="1156"/>
                  </a:lnTo>
                  <a:lnTo>
                    <a:pt x="5917" y="1294"/>
                  </a:lnTo>
                  <a:lnTo>
                    <a:pt x="5918" y="1285"/>
                  </a:lnTo>
                  <a:lnTo>
                    <a:pt x="5919" y="1225"/>
                  </a:lnTo>
                  <a:lnTo>
                    <a:pt x="5920" y="788"/>
                  </a:lnTo>
                  <a:lnTo>
                    <a:pt x="5923" y="1078"/>
                  </a:lnTo>
                  <a:lnTo>
                    <a:pt x="5924" y="717"/>
                  </a:lnTo>
                  <a:lnTo>
                    <a:pt x="5925" y="1092"/>
                  </a:lnTo>
                  <a:lnTo>
                    <a:pt x="5926" y="749"/>
                  </a:lnTo>
                  <a:lnTo>
                    <a:pt x="5927" y="1293"/>
                  </a:lnTo>
                  <a:lnTo>
                    <a:pt x="5928" y="1187"/>
                  </a:lnTo>
                  <a:lnTo>
                    <a:pt x="5929" y="853"/>
                  </a:lnTo>
                  <a:lnTo>
                    <a:pt x="5930" y="935"/>
                  </a:lnTo>
                  <a:lnTo>
                    <a:pt x="5932" y="1146"/>
                  </a:lnTo>
                  <a:lnTo>
                    <a:pt x="5934" y="638"/>
                  </a:lnTo>
                  <a:lnTo>
                    <a:pt x="5935" y="1432"/>
                  </a:lnTo>
                  <a:lnTo>
                    <a:pt x="5936" y="933"/>
                  </a:lnTo>
                  <a:lnTo>
                    <a:pt x="5937" y="569"/>
                  </a:lnTo>
                  <a:lnTo>
                    <a:pt x="5938" y="966"/>
                  </a:lnTo>
                  <a:lnTo>
                    <a:pt x="5939" y="1152"/>
                  </a:lnTo>
                  <a:lnTo>
                    <a:pt x="5940" y="1051"/>
                  </a:lnTo>
                  <a:lnTo>
                    <a:pt x="5942" y="950"/>
                  </a:lnTo>
                  <a:lnTo>
                    <a:pt x="5943" y="1384"/>
                  </a:lnTo>
                  <a:lnTo>
                    <a:pt x="5944" y="1257"/>
                  </a:lnTo>
                  <a:lnTo>
                    <a:pt x="5946" y="1321"/>
                  </a:lnTo>
                  <a:lnTo>
                    <a:pt x="5947" y="893"/>
                  </a:lnTo>
                  <a:lnTo>
                    <a:pt x="5948" y="909"/>
                  </a:lnTo>
                  <a:lnTo>
                    <a:pt x="5949" y="973"/>
                  </a:lnTo>
                  <a:lnTo>
                    <a:pt x="5951" y="1321"/>
                  </a:lnTo>
                  <a:lnTo>
                    <a:pt x="5952" y="616"/>
                  </a:lnTo>
                  <a:lnTo>
                    <a:pt x="5953" y="1143"/>
                  </a:lnTo>
                  <a:lnTo>
                    <a:pt x="5954" y="1221"/>
                  </a:lnTo>
                  <a:lnTo>
                    <a:pt x="5955" y="1180"/>
                  </a:lnTo>
                  <a:lnTo>
                    <a:pt x="5957" y="1014"/>
                  </a:lnTo>
                  <a:lnTo>
                    <a:pt x="5958" y="841"/>
                  </a:lnTo>
                  <a:lnTo>
                    <a:pt x="5959" y="1591"/>
                  </a:lnTo>
                  <a:lnTo>
                    <a:pt x="5961" y="1108"/>
                  </a:lnTo>
                  <a:lnTo>
                    <a:pt x="5962" y="1080"/>
                  </a:lnTo>
                  <a:lnTo>
                    <a:pt x="5963" y="1407"/>
                  </a:lnTo>
                  <a:lnTo>
                    <a:pt x="5964" y="994"/>
                  </a:lnTo>
                  <a:lnTo>
                    <a:pt x="5965" y="1185"/>
                  </a:lnTo>
                  <a:lnTo>
                    <a:pt x="5966" y="955"/>
                  </a:lnTo>
                  <a:lnTo>
                    <a:pt x="5968" y="1163"/>
                  </a:lnTo>
                  <a:lnTo>
                    <a:pt x="5969" y="1145"/>
                  </a:lnTo>
                  <a:lnTo>
                    <a:pt x="5971" y="1303"/>
                  </a:lnTo>
                  <a:lnTo>
                    <a:pt x="5972" y="1013"/>
                  </a:lnTo>
                  <a:lnTo>
                    <a:pt x="5973" y="1305"/>
                  </a:lnTo>
                  <a:lnTo>
                    <a:pt x="5974" y="808"/>
                  </a:lnTo>
                  <a:lnTo>
                    <a:pt x="5975" y="932"/>
                  </a:lnTo>
                  <a:lnTo>
                    <a:pt x="5976" y="1407"/>
                  </a:lnTo>
                  <a:lnTo>
                    <a:pt x="5977" y="901"/>
                  </a:lnTo>
                  <a:lnTo>
                    <a:pt x="5980" y="1128"/>
                  </a:lnTo>
                  <a:lnTo>
                    <a:pt x="5981" y="1179"/>
                  </a:lnTo>
                  <a:lnTo>
                    <a:pt x="5982" y="767"/>
                  </a:lnTo>
                  <a:lnTo>
                    <a:pt x="5983" y="557"/>
                  </a:lnTo>
                  <a:lnTo>
                    <a:pt x="5984" y="935"/>
                  </a:lnTo>
                  <a:lnTo>
                    <a:pt x="5985" y="317"/>
                  </a:lnTo>
                  <a:lnTo>
                    <a:pt x="5986" y="1510"/>
                  </a:lnTo>
                  <a:lnTo>
                    <a:pt x="5987" y="1479"/>
                  </a:lnTo>
                  <a:lnTo>
                    <a:pt x="5988" y="1482"/>
                  </a:lnTo>
                  <a:lnTo>
                    <a:pt x="5991" y="917"/>
                  </a:lnTo>
                  <a:lnTo>
                    <a:pt x="5992" y="1089"/>
                  </a:lnTo>
                  <a:lnTo>
                    <a:pt x="5993" y="1273"/>
                  </a:lnTo>
                  <a:lnTo>
                    <a:pt x="5994" y="874"/>
                  </a:lnTo>
                  <a:lnTo>
                    <a:pt x="5995" y="1055"/>
                  </a:lnTo>
                  <a:lnTo>
                    <a:pt x="5996" y="678"/>
                  </a:lnTo>
                  <a:lnTo>
                    <a:pt x="5997" y="765"/>
                  </a:lnTo>
                  <a:lnTo>
                    <a:pt x="5998" y="1015"/>
                  </a:lnTo>
                  <a:lnTo>
                    <a:pt x="6000" y="747"/>
                  </a:lnTo>
                  <a:lnTo>
                    <a:pt x="6001" y="640"/>
                  </a:lnTo>
                  <a:lnTo>
                    <a:pt x="6003" y="547"/>
                  </a:lnTo>
                  <a:lnTo>
                    <a:pt x="6004" y="843"/>
                  </a:lnTo>
                  <a:lnTo>
                    <a:pt x="6005" y="929"/>
                  </a:lnTo>
                  <a:lnTo>
                    <a:pt x="6006" y="1844"/>
                  </a:lnTo>
                  <a:lnTo>
                    <a:pt x="6007" y="982"/>
                  </a:lnTo>
                  <a:lnTo>
                    <a:pt x="6009" y="955"/>
                  </a:lnTo>
                  <a:lnTo>
                    <a:pt x="6010" y="996"/>
                  </a:lnTo>
                  <a:lnTo>
                    <a:pt x="6011" y="1406"/>
                  </a:lnTo>
                  <a:lnTo>
                    <a:pt x="6012" y="894"/>
                  </a:lnTo>
                  <a:lnTo>
                    <a:pt x="6014" y="396"/>
                  </a:lnTo>
                  <a:lnTo>
                    <a:pt x="6015" y="1706"/>
                  </a:lnTo>
                  <a:lnTo>
                    <a:pt x="6016" y="1161"/>
                  </a:lnTo>
                  <a:lnTo>
                    <a:pt x="6017" y="1143"/>
                  </a:lnTo>
                  <a:lnTo>
                    <a:pt x="6019" y="1069"/>
                  </a:lnTo>
                  <a:lnTo>
                    <a:pt x="6020" y="1199"/>
                  </a:lnTo>
                  <a:lnTo>
                    <a:pt x="6021" y="463"/>
                  </a:lnTo>
                  <a:lnTo>
                    <a:pt x="6022" y="1191"/>
                  </a:lnTo>
                  <a:lnTo>
                    <a:pt x="6023" y="1090"/>
                  </a:lnTo>
                  <a:lnTo>
                    <a:pt x="6025" y="1199"/>
                  </a:lnTo>
                  <a:lnTo>
                    <a:pt x="6026" y="787"/>
                  </a:lnTo>
                  <a:lnTo>
                    <a:pt x="6027" y="1188"/>
                  </a:lnTo>
                  <a:lnTo>
                    <a:pt x="6029" y="1098"/>
                  </a:lnTo>
                  <a:lnTo>
                    <a:pt x="6030" y="1221"/>
                  </a:lnTo>
                  <a:lnTo>
                    <a:pt x="6031" y="826"/>
                  </a:lnTo>
                  <a:lnTo>
                    <a:pt x="6032" y="849"/>
                  </a:lnTo>
                  <a:lnTo>
                    <a:pt x="6033" y="1249"/>
                  </a:lnTo>
                  <a:lnTo>
                    <a:pt x="6034" y="882"/>
                  </a:lnTo>
                  <a:lnTo>
                    <a:pt x="6036" y="1070"/>
                  </a:lnTo>
                  <a:lnTo>
                    <a:pt x="6038" y="888"/>
                  </a:lnTo>
                  <a:lnTo>
                    <a:pt x="6039" y="788"/>
                  </a:lnTo>
                  <a:lnTo>
                    <a:pt x="6040" y="947"/>
                  </a:lnTo>
                  <a:lnTo>
                    <a:pt x="6041" y="1093"/>
                  </a:lnTo>
                  <a:lnTo>
                    <a:pt x="6042" y="1201"/>
                  </a:lnTo>
                  <a:lnTo>
                    <a:pt x="6043" y="1488"/>
                  </a:lnTo>
                  <a:lnTo>
                    <a:pt x="6044" y="913"/>
                  </a:lnTo>
                  <a:lnTo>
                    <a:pt x="6045" y="630"/>
                  </a:lnTo>
                  <a:lnTo>
                    <a:pt x="6048" y="720"/>
                  </a:lnTo>
                  <a:lnTo>
                    <a:pt x="6049" y="1363"/>
                  </a:lnTo>
                  <a:lnTo>
                    <a:pt x="6050" y="1123"/>
                  </a:lnTo>
                  <a:lnTo>
                    <a:pt x="6051" y="1044"/>
                  </a:lnTo>
                  <a:lnTo>
                    <a:pt x="6052" y="1302"/>
                  </a:lnTo>
                  <a:lnTo>
                    <a:pt x="6053" y="912"/>
                  </a:lnTo>
                  <a:lnTo>
                    <a:pt x="6054" y="1140"/>
                  </a:lnTo>
                  <a:lnTo>
                    <a:pt x="6055" y="1560"/>
                  </a:lnTo>
                  <a:lnTo>
                    <a:pt x="6056" y="1532"/>
                  </a:lnTo>
                  <a:lnTo>
                    <a:pt x="6059" y="1274"/>
                  </a:lnTo>
                  <a:lnTo>
                    <a:pt x="6060" y="821"/>
                  </a:lnTo>
                  <a:lnTo>
                    <a:pt x="6061" y="1327"/>
                  </a:lnTo>
                  <a:lnTo>
                    <a:pt x="6062" y="1200"/>
                  </a:lnTo>
                  <a:lnTo>
                    <a:pt x="6063" y="951"/>
                  </a:lnTo>
                  <a:lnTo>
                    <a:pt x="6064" y="1362"/>
                  </a:lnTo>
                  <a:lnTo>
                    <a:pt x="6065" y="722"/>
                  </a:lnTo>
                  <a:lnTo>
                    <a:pt x="6067" y="915"/>
                  </a:lnTo>
                  <a:lnTo>
                    <a:pt x="6068" y="917"/>
                  </a:lnTo>
                  <a:lnTo>
                    <a:pt x="6069" y="993"/>
                  </a:lnTo>
                  <a:lnTo>
                    <a:pt x="6071" y="667"/>
                  </a:lnTo>
                  <a:lnTo>
                    <a:pt x="6072" y="609"/>
                  </a:lnTo>
                  <a:lnTo>
                    <a:pt x="6073" y="1403"/>
                  </a:lnTo>
                  <a:lnTo>
                    <a:pt x="6074" y="955"/>
                  </a:lnTo>
                  <a:lnTo>
                    <a:pt x="6075" y="1094"/>
                  </a:lnTo>
                  <a:lnTo>
                    <a:pt x="6077" y="1159"/>
                  </a:lnTo>
                  <a:lnTo>
                    <a:pt x="6078" y="841"/>
                  </a:lnTo>
                  <a:lnTo>
                    <a:pt x="6079" y="684"/>
                  </a:lnTo>
                  <a:lnTo>
                    <a:pt x="6080" y="435"/>
                  </a:lnTo>
                  <a:lnTo>
                    <a:pt x="6082" y="1245"/>
                  </a:lnTo>
                  <a:lnTo>
                    <a:pt x="6083" y="1485"/>
                  </a:lnTo>
                  <a:lnTo>
                    <a:pt x="6084" y="864"/>
                  </a:lnTo>
                  <a:lnTo>
                    <a:pt x="6085" y="696"/>
                  </a:lnTo>
                  <a:lnTo>
                    <a:pt x="6087" y="1411"/>
                  </a:lnTo>
                  <a:lnTo>
                    <a:pt x="6088" y="1236"/>
                  </a:lnTo>
                  <a:lnTo>
                    <a:pt x="6089" y="1128"/>
                  </a:lnTo>
                  <a:lnTo>
                    <a:pt x="6090" y="420"/>
                  </a:lnTo>
                  <a:lnTo>
                    <a:pt x="6091" y="1247"/>
                  </a:lnTo>
                  <a:lnTo>
                    <a:pt x="6093" y="947"/>
                  </a:lnTo>
                  <a:lnTo>
                    <a:pt x="6094" y="1148"/>
                  </a:lnTo>
                  <a:lnTo>
                    <a:pt x="6096" y="741"/>
                  </a:lnTo>
                  <a:lnTo>
                    <a:pt x="6097" y="1675"/>
                  </a:lnTo>
                  <a:lnTo>
                    <a:pt x="6098" y="1157"/>
                  </a:lnTo>
                  <a:lnTo>
                    <a:pt x="6099" y="935"/>
                  </a:lnTo>
                  <a:lnTo>
                    <a:pt x="6100" y="1502"/>
                  </a:lnTo>
                  <a:lnTo>
                    <a:pt x="6101" y="916"/>
                  </a:lnTo>
                  <a:lnTo>
                    <a:pt x="6102" y="1305"/>
                  </a:lnTo>
                  <a:lnTo>
                    <a:pt x="6104" y="1169"/>
                  </a:lnTo>
                  <a:lnTo>
                    <a:pt x="6106" y="1194"/>
                  </a:lnTo>
                  <a:lnTo>
                    <a:pt x="6107" y="1077"/>
                  </a:lnTo>
                  <a:lnTo>
                    <a:pt x="6108" y="824"/>
                  </a:lnTo>
                  <a:lnTo>
                    <a:pt x="6109" y="1336"/>
                  </a:lnTo>
                  <a:lnTo>
                    <a:pt x="6110" y="1329"/>
                  </a:lnTo>
                  <a:lnTo>
                    <a:pt x="6111" y="1188"/>
                  </a:lnTo>
                  <a:lnTo>
                    <a:pt x="6112" y="1084"/>
                  </a:lnTo>
                  <a:lnTo>
                    <a:pt x="6113" y="1013"/>
                  </a:lnTo>
                  <a:lnTo>
                    <a:pt x="6116" y="759"/>
                  </a:lnTo>
                  <a:lnTo>
                    <a:pt x="6117" y="1305"/>
                  </a:lnTo>
                  <a:lnTo>
                    <a:pt x="6118" y="1141"/>
                  </a:lnTo>
                  <a:lnTo>
                    <a:pt x="6119" y="1028"/>
                  </a:lnTo>
                  <a:lnTo>
                    <a:pt x="6120" y="1133"/>
                  </a:lnTo>
                  <a:lnTo>
                    <a:pt x="6121" y="1176"/>
                  </a:lnTo>
                  <a:lnTo>
                    <a:pt x="6122" y="980"/>
                  </a:lnTo>
                  <a:lnTo>
                    <a:pt x="6123" y="1616"/>
                  </a:lnTo>
                  <a:lnTo>
                    <a:pt x="6125" y="945"/>
                  </a:lnTo>
                  <a:lnTo>
                    <a:pt x="6126" y="1511"/>
                  </a:lnTo>
                  <a:lnTo>
                    <a:pt x="6128" y="771"/>
                  </a:lnTo>
                  <a:lnTo>
                    <a:pt x="6129" y="1324"/>
                  </a:lnTo>
                  <a:lnTo>
                    <a:pt x="6130" y="1377"/>
                  </a:lnTo>
                  <a:lnTo>
                    <a:pt x="6131" y="1025"/>
                  </a:lnTo>
                  <a:lnTo>
                    <a:pt x="6132" y="844"/>
                  </a:lnTo>
                  <a:lnTo>
                    <a:pt x="6133" y="1367"/>
                  </a:lnTo>
                  <a:lnTo>
                    <a:pt x="6135" y="586"/>
                  </a:lnTo>
                  <a:lnTo>
                    <a:pt x="6136" y="912"/>
                  </a:lnTo>
                  <a:lnTo>
                    <a:pt x="6137" y="1393"/>
                  </a:lnTo>
                  <a:lnTo>
                    <a:pt x="6139" y="1122"/>
                  </a:lnTo>
                  <a:lnTo>
                    <a:pt x="6140" y="1598"/>
                  </a:lnTo>
                  <a:lnTo>
                    <a:pt x="6141" y="1211"/>
                  </a:lnTo>
                  <a:lnTo>
                    <a:pt x="6142" y="1155"/>
                  </a:lnTo>
                  <a:lnTo>
                    <a:pt x="6143" y="1177"/>
                  </a:lnTo>
                  <a:lnTo>
                    <a:pt x="6145" y="929"/>
                  </a:lnTo>
                  <a:lnTo>
                    <a:pt x="6146" y="648"/>
                  </a:lnTo>
                  <a:lnTo>
                    <a:pt x="6147" y="1122"/>
                  </a:lnTo>
                  <a:lnTo>
                    <a:pt x="6148" y="1475"/>
                  </a:lnTo>
                  <a:lnTo>
                    <a:pt x="6150" y="846"/>
                  </a:lnTo>
                  <a:lnTo>
                    <a:pt x="6151" y="826"/>
                  </a:lnTo>
                  <a:lnTo>
                    <a:pt x="6152" y="789"/>
                  </a:lnTo>
                  <a:lnTo>
                    <a:pt x="6154" y="1575"/>
                  </a:lnTo>
                  <a:lnTo>
                    <a:pt x="6155" y="1034"/>
                  </a:lnTo>
                  <a:lnTo>
                    <a:pt x="6156" y="1192"/>
                  </a:lnTo>
                  <a:lnTo>
                    <a:pt x="6157" y="1397"/>
                  </a:lnTo>
                  <a:lnTo>
                    <a:pt x="6158" y="980"/>
                  </a:lnTo>
                  <a:lnTo>
                    <a:pt x="6159" y="1274"/>
                  </a:lnTo>
                  <a:lnTo>
                    <a:pt x="6161" y="905"/>
                  </a:lnTo>
                  <a:lnTo>
                    <a:pt x="6162" y="1289"/>
                  </a:lnTo>
                  <a:lnTo>
                    <a:pt x="6164" y="1064"/>
                  </a:lnTo>
                  <a:lnTo>
                    <a:pt x="6165" y="840"/>
                  </a:lnTo>
                  <a:lnTo>
                    <a:pt x="6166" y="778"/>
                  </a:lnTo>
                  <a:lnTo>
                    <a:pt x="6167" y="810"/>
                  </a:lnTo>
                  <a:lnTo>
                    <a:pt x="6168" y="1561"/>
                  </a:lnTo>
                  <a:lnTo>
                    <a:pt x="6169" y="897"/>
                  </a:lnTo>
                  <a:lnTo>
                    <a:pt x="6170" y="1000"/>
                  </a:lnTo>
                  <a:lnTo>
                    <a:pt x="6172" y="1295"/>
                  </a:lnTo>
                  <a:lnTo>
                    <a:pt x="6174" y="977"/>
                  </a:lnTo>
                  <a:lnTo>
                    <a:pt x="6175" y="1118"/>
                  </a:lnTo>
                  <a:lnTo>
                    <a:pt x="6176" y="870"/>
                  </a:lnTo>
                  <a:lnTo>
                    <a:pt x="6177" y="776"/>
                  </a:lnTo>
                  <a:lnTo>
                    <a:pt x="6178" y="850"/>
                  </a:lnTo>
                  <a:lnTo>
                    <a:pt x="6179" y="999"/>
                  </a:lnTo>
                  <a:lnTo>
                    <a:pt x="6180" y="833"/>
                  </a:lnTo>
                  <a:lnTo>
                    <a:pt x="6181" y="1029"/>
                  </a:lnTo>
                  <a:lnTo>
                    <a:pt x="6184" y="1464"/>
                  </a:lnTo>
                  <a:lnTo>
                    <a:pt x="6185" y="1228"/>
                  </a:lnTo>
                  <a:lnTo>
                    <a:pt x="6186" y="1012"/>
                  </a:lnTo>
                  <a:lnTo>
                    <a:pt x="6187" y="895"/>
                  </a:lnTo>
                  <a:lnTo>
                    <a:pt x="6188" y="1230"/>
                  </a:lnTo>
                  <a:lnTo>
                    <a:pt x="6189" y="1080"/>
                  </a:lnTo>
                  <a:lnTo>
                    <a:pt x="6190" y="1054"/>
                  </a:lnTo>
                  <a:lnTo>
                    <a:pt x="6191" y="1250"/>
                  </a:lnTo>
                  <a:lnTo>
                    <a:pt x="6193" y="792"/>
                  </a:lnTo>
                  <a:lnTo>
                    <a:pt x="6194" y="1116"/>
                  </a:lnTo>
                  <a:lnTo>
                    <a:pt x="6196" y="800"/>
                  </a:lnTo>
                  <a:lnTo>
                    <a:pt x="6197" y="655"/>
                  </a:lnTo>
                  <a:lnTo>
                    <a:pt x="6198" y="1034"/>
                  </a:lnTo>
                  <a:lnTo>
                    <a:pt x="6199" y="1093"/>
                  </a:lnTo>
                  <a:lnTo>
                    <a:pt x="6200" y="1009"/>
                  </a:lnTo>
                  <a:lnTo>
                    <a:pt x="6202" y="1273"/>
                  </a:lnTo>
                  <a:lnTo>
                    <a:pt x="6203" y="976"/>
                  </a:lnTo>
                  <a:lnTo>
                    <a:pt x="6204" y="1325"/>
                  </a:lnTo>
                  <a:lnTo>
                    <a:pt x="6205" y="935"/>
                  </a:lnTo>
                  <a:lnTo>
                    <a:pt x="6207" y="839"/>
                  </a:lnTo>
                  <a:lnTo>
                    <a:pt x="6208" y="673"/>
                  </a:lnTo>
                  <a:lnTo>
                    <a:pt x="6209" y="1276"/>
                  </a:lnTo>
                  <a:lnTo>
                    <a:pt x="6210" y="727"/>
                  </a:lnTo>
                  <a:lnTo>
                    <a:pt x="6212" y="713"/>
                  </a:lnTo>
                  <a:lnTo>
                    <a:pt x="6213" y="1218"/>
                  </a:lnTo>
                  <a:lnTo>
                    <a:pt x="6214" y="1166"/>
                  </a:lnTo>
                  <a:lnTo>
                    <a:pt x="6215" y="1197"/>
                  </a:lnTo>
                  <a:lnTo>
                    <a:pt x="6216" y="903"/>
                  </a:lnTo>
                  <a:lnTo>
                    <a:pt x="6218" y="948"/>
                  </a:lnTo>
                  <a:lnTo>
                    <a:pt x="6219" y="665"/>
                  </a:lnTo>
                  <a:lnTo>
                    <a:pt x="6220" y="613"/>
                  </a:lnTo>
                  <a:lnTo>
                    <a:pt x="6222" y="655"/>
                  </a:lnTo>
                  <a:lnTo>
                    <a:pt x="6223" y="948"/>
                  </a:lnTo>
                  <a:lnTo>
                    <a:pt x="6224" y="946"/>
                  </a:lnTo>
                  <a:lnTo>
                    <a:pt x="6225" y="554"/>
                  </a:lnTo>
                  <a:lnTo>
                    <a:pt x="6226" y="1017"/>
                  </a:lnTo>
                  <a:lnTo>
                    <a:pt x="6227" y="739"/>
                  </a:lnTo>
                  <a:lnTo>
                    <a:pt x="6229" y="996"/>
                  </a:lnTo>
                  <a:lnTo>
                    <a:pt x="6231" y="980"/>
                  </a:lnTo>
                  <a:lnTo>
                    <a:pt x="6232" y="1239"/>
                  </a:lnTo>
                  <a:lnTo>
                    <a:pt x="6233" y="976"/>
                  </a:lnTo>
                  <a:lnTo>
                    <a:pt x="6234" y="1159"/>
                  </a:lnTo>
                  <a:lnTo>
                    <a:pt x="6235" y="997"/>
                  </a:lnTo>
                  <a:lnTo>
                    <a:pt x="6236" y="1331"/>
                  </a:lnTo>
                  <a:lnTo>
                    <a:pt x="6237" y="992"/>
                  </a:lnTo>
                  <a:lnTo>
                    <a:pt x="6238" y="1098"/>
                  </a:lnTo>
                  <a:lnTo>
                    <a:pt x="6241" y="843"/>
                  </a:lnTo>
                  <a:lnTo>
                    <a:pt x="6242" y="752"/>
                  </a:lnTo>
                  <a:lnTo>
                    <a:pt x="6243" y="576"/>
                  </a:lnTo>
                  <a:lnTo>
                    <a:pt x="6244" y="1257"/>
                  </a:lnTo>
                  <a:lnTo>
                    <a:pt x="6245" y="840"/>
                  </a:lnTo>
                  <a:lnTo>
                    <a:pt x="6246" y="669"/>
                  </a:lnTo>
                  <a:lnTo>
                    <a:pt x="6247" y="874"/>
                  </a:lnTo>
                  <a:lnTo>
                    <a:pt x="6248" y="1192"/>
                  </a:lnTo>
                  <a:lnTo>
                    <a:pt x="6249" y="895"/>
                  </a:lnTo>
                  <a:lnTo>
                    <a:pt x="6251" y="1403"/>
                  </a:lnTo>
                  <a:lnTo>
                    <a:pt x="6253" y="778"/>
                  </a:lnTo>
                  <a:lnTo>
                    <a:pt x="6254" y="351"/>
                  </a:lnTo>
                  <a:lnTo>
                    <a:pt x="6255" y="1044"/>
                  </a:lnTo>
                  <a:lnTo>
                    <a:pt x="6256" y="826"/>
                  </a:lnTo>
                  <a:lnTo>
                    <a:pt x="6257" y="802"/>
                  </a:lnTo>
                  <a:lnTo>
                    <a:pt x="6258" y="1346"/>
                  </a:lnTo>
                  <a:lnTo>
                    <a:pt x="6260" y="1435"/>
                  </a:lnTo>
                  <a:lnTo>
                    <a:pt x="6261" y="1744"/>
                  </a:lnTo>
                  <a:lnTo>
                    <a:pt x="6262" y="1065"/>
                  </a:lnTo>
                  <a:lnTo>
                    <a:pt x="6264" y="1150"/>
                  </a:lnTo>
                  <a:lnTo>
                    <a:pt x="6265" y="1172"/>
                  </a:lnTo>
                  <a:lnTo>
                    <a:pt x="6266" y="1137"/>
                  </a:lnTo>
                  <a:lnTo>
                    <a:pt x="6267" y="905"/>
                  </a:lnTo>
                  <a:lnTo>
                    <a:pt x="6268" y="1493"/>
                  </a:lnTo>
                  <a:lnTo>
                    <a:pt x="6270" y="859"/>
                  </a:lnTo>
                  <a:lnTo>
                    <a:pt x="6271" y="931"/>
                  </a:lnTo>
                  <a:lnTo>
                    <a:pt x="6272" y="1010"/>
                  </a:lnTo>
                  <a:lnTo>
                    <a:pt x="6273" y="1479"/>
                  </a:lnTo>
                  <a:lnTo>
                    <a:pt x="6275" y="687"/>
                  </a:lnTo>
                  <a:lnTo>
                    <a:pt x="6276" y="1081"/>
                  </a:lnTo>
                  <a:lnTo>
                    <a:pt x="6277" y="1165"/>
                  </a:lnTo>
                  <a:lnTo>
                    <a:pt x="6278" y="1269"/>
                  </a:lnTo>
                  <a:lnTo>
                    <a:pt x="6280" y="1303"/>
                  </a:lnTo>
                  <a:lnTo>
                    <a:pt x="6281" y="979"/>
                  </a:lnTo>
                  <a:lnTo>
                    <a:pt x="6282" y="1129"/>
                  </a:lnTo>
                  <a:lnTo>
                    <a:pt x="6283" y="1383"/>
                  </a:lnTo>
                  <a:lnTo>
                    <a:pt x="6284" y="950"/>
                  </a:lnTo>
                  <a:lnTo>
                    <a:pt x="6286" y="999"/>
                  </a:lnTo>
                  <a:lnTo>
                    <a:pt x="6287" y="1050"/>
                  </a:lnTo>
                  <a:lnTo>
                    <a:pt x="6289" y="1399"/>
                  </a:lnTo>
                  <a:lnTo>
                    <a:pt x="6290" y="1191"/>
                  </a:lnTo>
                  <a:lnTo>
                    <a:pt x="6291" y="1080"/>
                  </a:lnTo>
                  <a:lnTo>
                    <a:pt x="6292" y="785"/>
                  </a:lnTo>
                  <a:lnTo>
                    <a:pt x="6293" y="1333"/>
                  </a:lnTo>
                  <a:lnTo>
                    <a:pt x="6294" y="723"/>
                  </a:lnTo>
                  <a:lnTo>
                    <a:pt x="6295" y="883"/>
                  </a:lnTo>
                  <a:lnTo>
                    <a:pt x="6297" y="1148"/>
                  </a:lnTo>
                  <a:lnTo>
                    <a:pt x="6299" y="720"/>
                  </a:lnTo>
                  <a:lnTo>
                    <a:pt x="6300" y="937"/>
                  </a:lnTo>
                  <a:lnTo>
                    <a:pt x="6301" y="918"/>
                  </a:lnTo>
                  <a:lnTo>
                    <a:pt x="6302" y="964"/>
                  </a:lnTo>
                  <a:lnTo>
                    <a:pt x="6303" y="795"/>
                  </a:lnTo>
                  <a:lnTo>
                    <a:pt x="6304" y="1072"/>
                  </a:lnTo>
                  <a:lnTo>
                    <a:pt x="6305" y="981"/>
                  </a:lnTo>
                  <a:lnTo>
                    <a:pt x="6306" y="819"/>
                  </a:lnTo>
                  <a:lnTo>
                    <a:pt x="6309" y="857"/>
                  </a:lnTo>
                  <a:lnTo>
                    <a:pt x="6310" y="1465"/>
                  </a:lnTo>
                  <a:lnTo>
                    <a:pt x="6311" y="848"/>
                  </a:lnTo>
                  <a:lnTo>
                    <a:pt x="6312" y="1088"/>
                  </a:lnTo>
                  <a:lnTo>
                    <a:pt x="6313" y="1267"/>
                  </a:lnTo>
                  <a:lnTo>
                    <a:pt x="6314" y="1141"/>
                  </a:lnTo>
                  <a:lnTo>
                    <a:pt x="6315" y="1233"/>
                  </a:lnTo>
                  <a:lnTo>
                    <a:pt x="6316" y="1023"/>
                  </a:lnTo>
                  <a:lnTo>
                    <a:pt x="6318" y="1111"/>
                  </a:lnTo>
                  <a:lnTo>
                    <a:pt x="6319" y="1334"/>
                  </a:lnTo>
                  <a:lnTo>
                    <a:pt x="6321" y="916"/>
                  </a:lnTo>
                  <a:lnTo>
                    <a:pt x="6322" y="1146"/>
                  </a:lnTo>
                  <a:lnTo>
                    <a:pt x="6323" y="738"/>
                  </a:lnTo>
                  <a:lnTo>
                    <a:pt x="6324" y="762"/>
                  </a:lnTo>
                  <a:lnTo>
                    <a:pt x="6325" y="774"/>
                  </a:lnTo>
                  <a:lnTo>
                    <a:pt x="6326" y="1360"/>
                  </a:lnTo>
                  <a:lnTo>
                    <a:pt x="6328" y="1204"/>
                  </a:lnTo>
                  <a:lnTo>
                    <a:pt x="6329" y="961"/>
                  </a:lnTo>
                  <a:lnTo>
                    <a:pt x="6330" y="841"/>
                  </a:lnTo>
                  <a:lnTo>
                    <a:pt x="6332" y="1429"/>
                  </a:lnTo>
                  <a:lnTo>
                    <a:pt x="6333" y="586"/>
                  </a:lnTo>
                  <a:lnTo>
                    <a:pt x="6334" y="1146"/>
                  </a:lnTo>
                  <a:lnTo>
                    <a:pt x="6335" y="1503"/>
                  </a:lnTo>
                  <a:lnTo>
                    <a:pt x="6336" y="1120"/>
                  </a:lnTo>
                  <a:lnTo>
                    <a:pt x="6338" y="1219"/>
                  </a:lnTo>
                  <a:lnTo>
                    <a:pt x="6339" y="1826"/>
                  </a:lnTo>
                  <a:lnTo>
                    <a:pt x="6340" y="652"/>
                  </a:lnTo>
                  <a:lnTo>
                    <a:pt x="6341" y="494"/>
                  </a:lnTo>
                  <a:lnTo>
                    <a:pt x="6343" y="704"/>
                  </a:lnTo>
                  <a:lnTo>
                    <a:pt x="6344" y="1158"/>
                  </a:lnTo>
                  <a:lnTo>
                    <a:pt x="6345" y="1316"/>
                  </a:lnTo>
                  <a:lnTo>
                    <a:pt x="6347" y="1060"/>
                  </a:lnTo>
                  <a:lnTo>
                    <a:pt x="6348" y="1354"/>
                  </a:lnTo>
                  <a:lnTo>
                    <a:pt x="6349" y="933"/>
                  </a:lnTo>
                  <a:lnTo>
                    <a:pt x="6350" y="723"/>
                  </a:lnTo>
                  <a:lnTo>
                    <a:pt x="6351" y="594"/>
                  </a:lnTo>
                  <a:lnTo>
                    <a:pt x="6352" y="668"/>
                  </a:lnTo>
                  <a:lnTo>
                    <a:pt x="6354" y="1516"/>
                  </a:lnTo>
                  <a:lnTo>
                    <a:pt x="6355" y="847"/>
                  </a:lnTo>
                  <a:lnTo>
                    <a:pt x="6357" y="892"/>
                  </a:lnTo>
                  <a:lnTo>
                    <a:pt x="6358" y="809"/>
                  </a:lnTo>
                  <a:lnTo>
                    <a:pt x="6359" y="1319"/>
                  </a:lnTo>
                  <a:lnTo>
                    <a:pt x="6360" y="1185"/>
                  </a:lnTo>
                  <a:lnTo>
                    <a:pt x="6361" y="1080"/>
                  </a:lnTo>
                  <a:lnTo>
                    <a:pt x="6362" y="1098"/>
                  </a:lnTo>
                  <a:lnTo>
                    <a:pt x="6363" y="1005"/>
                  </a:lnTo>
                  <a:lnTo>
                    <a:pt x="6365" y="973"/>
                  </a:lnTo>
                  <a:lnTo>
                    <a:pt x="6367" y="1188"/>
                  </a:lnTo>
                  <a:lnTo>
                    <a:pt x="6368" y="845"/>
                  </a:lnTo>
                  <a:lnTo>
                    <a:pt x="6369" y="1609"/>
                  </a:lnTo>
                  <a:lnTo>
                    <a:pt x="6370" y="1331"/>
                  </a:lnTo>
                  <a:lnTo>
                    <a:pt x="6371" y="741"/>
                  </a:lnTo>
                  <a:lnTo>
                    <a:pt x="6372" y="1160"/>
                  </a:lnTo>
                  <a:lnTo>
                    <a:pt x="6373" y="1619"/>
                  </a:lnTo>
                  <a:lnTo>
                    <a:pt x="6374" y="681"/>
                  </a:lnTo>
                  <a:lnTo>
                    <a:pt x="6376" y="826"/>
                  </a:lnTo>
                  <a:lnTo>
                    <a:pt x="6378" y="1207"/>
                  </a:lnTo>
                  <a:lnTo>
                    <a:pt x="6379" y="1146"/>
                  </a:lnTo>
                  <a:lnTo>
                    <a:pt x="6380" y="834"/>
                  </a:lnTo>
                  <a:lnTo>
                    <a:pt x="6380" y="8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943280" y="892080"/>
              <a:ext cx="5991120" cy="1835280"/>
            </a:xfrm>
            <a:custGeom>
              <a:avLst/>
              <a:gdLst/>
              <a:ahLst/>
              <a:rect l="l" t="t" r="r" b="b"/>
              <a:pathLst>
                <a:path w="6380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380" y="0"/>
                  </a:lnTo>
                  <a:lnTo>
                    <a:pt x="6380" y="2403"/>
                  </a:lnTo>
                  <a:lnTo>
                    <a:pt x="6380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762440" y="3100320"/>
              <a:ext cx="3524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  (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 rot="16200000">
              <a:off x="1293480" y="1712880"/>
              <a:ext cx="2541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754200" y="406656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 parece muy “blanco” que digam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CD3-41C1-4310-9C60-116CA78170B9}" type="slidenum">
              <a:t>74</a:t>
            </a:fld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"/>
          <p:cNvSpPr/>
          <p:nvPr/>
        </p:nvSpPr>
        <p:spPr>
          <a:xfrm>
            <a:off x="1943280" y="892080"/>
            <a:ext cx="5991120" cy="1835280"/>
          </a:xfrm>
          <a:custGeom>
            <a:avLst/>
            <a:gdLst/>
            <a:ahLst/>
            <a:rect l="l" t="t" r="r" b="b"/>
            <a:pathLst>
              <a:path w="6380" h="2403">
                <a:moveTo>
                  <a:pt x="0" y="2403"/>
                </a:moveTo>
                <a:lnTo>
                  <a:pt x="0" y="0"/>
                </a:lnTo>
                <a:lnTo>
                  <a:pt x="0" y="0"/>
                </a:lnTo>
                <a:lnTo>
                  <a:pt x="6380" y="0"/>
                </a:lnTo>
                <a:lnTo>
                  <a:pt x="6380" y="2403"/>
                </a:lnTo>
                <a:lnTo>
                  <a:pt x="6380" y="2403"/>
                </a:lnTo>
                <a:lnTo>
                  <a:pt x="0" y="240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90720" y="2833560"/>
            <a:ext cx="85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962760" y="2833560"/>
            <a:ext cx="21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281772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84336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869000" y="2833560"/>
            <a:ext cx="296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89284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231300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330720" y="2833560"/>
            <a:ext cx="296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435600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380200" y="2833560"/>
            <a:ext cx="296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40548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7435800" y="2833560"/>
            <a:ext cx="2970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194328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245592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296712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47976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99240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450540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01660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552924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604044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55308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706608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7578720" y="27273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1985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24559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27115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29671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322416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47976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7368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39924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2480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45054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47610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01660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527364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52924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7862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04044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62974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5530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68104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706608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73231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75787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7834320" y="2727360"/>
            <a:ext cx="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1728720" y="1728720"/>
            <a:ext cx="842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1703520" y="2554200"/>
            <a:ext cx="141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1744560" y="895320"/>
            <a:ext cx="85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1571760" y="2146320"/>
            <a:ext cx="2682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1611360" y="1311120"/>
            <a:ext cx="2109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H="1">
            <a:off x="1863360" y="26463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flipH="1">
            <a:off x="1863360" y="22287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1863360" y="18129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flipH="1">
            <a:off x="1863360" y="139392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flipH="1">
            <a:off x="1863360" y="9777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1943280" y="1038240"/>
            <a:ext cx="5991120" cy="1590840"/>
          </a:xfrm>
          <a:custGeom>
            <a:avLst/>
            <a:gdLst/>
            <a:ahLst/>
            <a:rect l="l" t="t" r="r" b="b"/>
            <a:pathLst>
              <a:path w="6380" h="2083">
                <a:moveTo>
                  <a:pt x="0" y="1104"/>
                </a:moveTo>
                <a:lnTo>
                  <a:pt x="1" y="1352"/>
                </a:lnTo>
                <a:lnTo>
                  <a:pt x="2" y="917"/>
                </a:lnTo>
                <a:lnTo>
                  <a:pt x="3" y="655"/>
                </a:lnTo>
                <a:lnTo>
                  <a:pt x="6" y="1021"/>
                </a:lnTo>
                <a:lnTo>
                  <a:pt x="7" y="1480"/>
                </a:lnTo>
                <a:lnTo>
                  <a:pt x="8" y="1454"/>
                </a:lnTo>
                <a:lnTo>
                  <a:pt x="9" y="789"/>
                </a:lnTo>
                <a:lnTo>
                  <a:pt x="10" y="1246"/>
                </a:lnTo>
                <a:lnTo>
                  <a:pt x="11" y="1236"/>
                </a:lnTo>
                <a:lnTo>
                  <a:pt x="12" y="1063"/>
                </a:lnTo>
                <a:lnTo>
                  <a:pt x="14" y="846"/>
                </a:lnTo>
                <a:lnTo>
                  <a:pt x="15" y="796"/>
                </a:lnTo>
                <a:lnTo>
                  <a:pt x="17" y="1039"/>
                </a:lnTo>
                <a:lnTo>
                  <a:pt x="18" y="936"/>
                </a:lnTo>
                <a:lnTo>
                  <a:pt x="19" y="594"/>
                </a:lnTo>
                <a:lnTo>
                  <a:pt x="20" y="641"/>
                </a:lnTo>
                <a:lnTo>
                  <a:pt x="21" y="948"/>
                </a:lnTo>
                <a:lnTo>
                  <a:pt x="22" y="823"/>
                </a:lnTo>
                <a:lnTo>
                  <a:pt x="24" y="983"/>
                </a:lnTo>
                <a:lnTo>
                  <a:pt x="25" y="1038"/>
                </a:lnTo>
                <a:lnTo>
                  <a:pt x="26" y="794"/>
                </a:lnTo>
                <a:lnTo>
                  <a:pt x="28" y="1117"/>
                </a:lnTo>
                <a:lnTo>
                  <a:pt x="29" y="606"/>
                </a:lnTo>
                <a:lnTo>
                  <a:pt x="30" y="874"/>
                </a:lnTo>
                <a:lnTo>
                  <a:pt x="31" y="769"/>
                </a:lnTo>
                <a:lnTo>
                  <a:pt x="32" y="1615"/>
                </a:lnTo>
                <a:lnTo>
                  <a:pt x="34" y="843"/>
                </a:lnTo>
                <a:lnTo>
                  <a:pt x="35" y="954"/>
                </a:lnTo>
                <a:lnTo>
                  <a:pt x="36" y="752"/>
                </a:lnTo>
                <a:lnTo>
                  <a:pt x="37" y="512"/>
                </a:lnTo>
                <a:lnTo>
                  <a:pt x="39" y="374"/>
                </a:lnTo>
                <a:lnTo>
                  <a:pt x="40" y="1316"/>
                </a:lnTo>
                <a:lnTo>
                  <a:pt x="41" y="1111"/>
                </a:lnTo>
                <a:lnTo>
                  <a:pt x="43" y="690"/>
                </a:lnTo>
                <a:lnTo>
                  <a:pt x="44" y="1114"/>
                </a:lnTo>
                <a:lnTo>
                  <a:pt x="45" y="887"/>
                </a:lnTo>
                <a:lnTo>
                  <a:pt x="46" y="926"/>
                </a:lnTo>
                <a:lnTo>
                  <a:pt x="47" y="1279"/>
                </a:lnTo>
                <a:lnTo>
                  <a:pt x="48" y="963"/>
                </a:lnTo>
                <a:lnTo>
                  <a:pt x="49" y="541"/>
                </a:lnTo>
                <a:lnTo>
                  <a:pt x="51" y="1266"/>
                </a:lnTo>
                <a:lnTo>
                  <a:pt x="53" y="1526"/>
                </a:lnTo>
                <a:lnTo>
                  <a:pt x="54" y="1093"/>
                </a:lnTo>
                <a:lnTo>
                  <a:pt x="55" y="878"/>
                </a:lnTo>
                <a:lnTo>
                  <a:pt x="56" y="1489"/>
                </a:lnTo>
                <a:lnTo>
                  <a:pt x="57" y="630"/>
                </a:lnTo>
                <a:lnTo>
                  <a:pt x="58" y="677"/>
                </a:lnTo>
                <a:lnTo>
                  <a:pt x="59" y="1107"/>
                </a:lnTo>
                <a:lnTo>
                  <a:pt x="60" y="1158"/>
                </a:lnTo>
                <a:lnTo>
                  <a:pt x="63" y="883"/>
                </a:lnTo>
                <a:lnTo>
                  <a:pt x="64" y="1346"/>
                </a:lnTo>
                <a:lnTo>
                  <a:pt x="65" y="679"/>
                </a:lnTo>
                <a:lnTo>
                  <a:pt x="66" y="1151"/>
                </a:lnTo>
                <a:lnTo>
                  <a:pt x="67" y="626"/>
                </a:lnTo>
                <a:lnTo>
                  <a:pt x="68" y="1028"/>
                </a:lnTo>
                <a:lnTo>
                  <a:pt x="69" y="1226"/>
                </a:lnTo>
                <a:lnTo>
                  <a:pt x="70" y="1381"/>
                </a:lnTo>
                <a:lnTo>
                  <a:pt x="72" y="771"/>
                </a:lnTo>
                <a:lnTo>
                  <a:pt x="74" y="1145"/>
                </a:lnTo>
                <a:lnTo>
                  <a:pt x="75" y="728"/>
                </a:lnTo>
                <a:lnTo>
                  <a:pt x="76" y="563"/>
                </a:lnTo>
                <a:lnTo>
                  <a:pt x="77" y="770"/>
                </a:lnTo>
                <a:lnTo>
                  <a:pt x="78" y="1609"/>
                </a:lnTo>
                <a:lnTo>
                  <a:pt x="79" y="1104"/>
                </a:lnTo>
                <a:lnTo>
                  <a:pt x="80" y="1143"/>
                </a:lnTo>
                <a:lnTo>
                  <a:pt x="82" y="794"/>
                </a:lnTo>
                <a:lnTo>
                  <a:pt x="83" y="1283"/>
                </a:lnTo>
                <a:lnTo>
                  <a:pt x="85" y="683"/>
                </a:lnTo>
                <a:lnTo>
                  <a:pt x="86" y="791"/>
                </a:lnTo>
                <a:lnTo>
                  <a:pt x="87" y="1142"/>
                </a:lnTo>
                <a:lnTo>
                  <a:pt x="88" y="1108"/>
                </a:lnTo>
                <a:lnTo>
                  <a:pt x="89" y="1285"/>
                </a:lnTo>
                <a:lnTo>
                  <a:pt x="90" y="889"/>
                </a:lnTo>
                <a:lnTo>
                  <a:pt x="92" y="977"/>
                </a:lnTo>
                <a:lnTo>
                  <a:pt x="93" y="875"/>
                </a:lnTo>
                <a:lnTo>
                  <a:pt x="94" y="1219"/>
                </a:lnTo>
                <a:lnTo>
                  <a:pt x="96" y="884"/>
                </a:lnTo>
                <a:lnTo>
                  <a:pt x="97" y="1077"/>
                </a:lnTo>
                <a:lnTo>
                  <a:pt x="98" y="940"/>
                </a:lnTo>
                <a:lnTo>
                  <a:pt x="99" y="806"/>
                </a:lnTo>
                <a:lnTo>
                  <a:pt x="101" y="1221"/>
                </a:lnTo>
                <a:lnTo>
                  <a:pt x="102" y="1628"/>
                </a:lnTo>
                <a:lnTo>
                  <a:pt x="103" y="1436"/>
                </a:lnTo>
                <a:lnTo>
                  <a:pt x="104" y="1659"/>
                </a:lnTo>
                <a:lnTo>
                  <a:pt x="105" y="1145"/>
                </a:lnTo>
                <a:lnTo>
                  <a:pt x="106" y="855"/>
                </a:lnTo>
                <a:lnTo>
                  <a:pt x="108" y="1586"/>
                </a:lnTo>
                <a:lnTo>
                  <a:pt x="109" y="626"/>
                </a:lnTo>
                <a:lnTo>
                  <a:pt x="111" y="830"/>
                </a:lnTo>
                <a:lnTo>
                  <a:pt x="112" y="1220"/>
                </a:lnTo>
                <a:lnTo>
                  <a:pt x="113" y="929"/>
                </a:lnTo>
                <a:lnTo>
                  <a:pt x="114" y="1189"/>
                </a:lnTo>
                <a:lnTo>
                  <a:pt x="115" y="1147"/>
                </a:lnTo>
                <a:lnTo>
                  <a:pt x="116" y="1507"/>
                </a:lnTo>
                <a:lnTo>
                  <a:pt x="117" y="1029"/>
                </a:lnTo>
                <a:lnTo>
                  <a:pt x="119" y="1045"/>
                </a:lnTo>
                <a:lnTo>
                  <a:pt x="121" y="845"/>
                </a:lnTo>
                <a:lnTo>
                  <a:pt x="122" y="390"/>
                </a:lnTo>
                <a:lnTo>
                  <a:pt x="123" y="838"/>
                </a:lnTo>
                <a:lnTo>
                  <a:pt x="124" y="663"/>
                </a:lnTo>
                <a:lnTo>
                  <a:pt x="125" y="1205"/>
                </a:lnTo>
                <a:lnTo>
                  <a:pt x="126" y="925"/>
                </a:lnTo>
                <a:lnTo>
                  <a:pt x="127" y="769"/>
                </a:lnTo>
                <a:lnTo>
                  <a:pt x="128" y="901"/>
                </a:lnTo>
                <a:lnTo>
                  <a:pt x="131" y="1358"/>
                </a:lnTo>
                <a:lnTo>
                  <a:pt x="132" y="946"/>
                </a:lnTo>
                <a:lnTo>
                  <a:pt x="133" y="697"/>
                </a:lnTo>
                <a:lnTo>
                  <a:pt x="134" y="1238"/>
                </a:lnTo>
                <a:lnTo>
                  <a:pt x="135" y="865"/>
                </a:lnTo>
                <a:lnTo>
                  <a:pt x="136" y="811"/>
                </a:lnTo>
                <a:lnTo>
                  <a:pt x="137" y="1012"/>
                </a:lnTo>
                <a:lnTo>
                  <a:pt x="138" y="718"/>
                </a:lnTo>
                <a:lnTo>
                  <a:pt x="140" y="690"/>
                </a:lnTo>
                <a:lnTo>
                  <a:pt x="142" y="1415"/>
                </a:lnTo>
                <a:lnTo>
                  <a:pt x="143" y="1004"/>
                </a:lnTo>
                <a:lnTo>
                  <a:pt x="144" y="1001"/>
                </a:lnTo>
                <a:lnTo>
                  <a:pt x="145" y="1354"/>
                </a:lnTo>
                <a:lnTo>
                  <a:pt x="146" y="1074"/>
                </a:lnTo>
                <a:lnTo>
                  <a:pt x="147" y="1169"/>
                </a:lnTo>
                <a:lnTo>
                  <a:pt x="148" y="816"/>
                </a:lnTo>
                <a:lnTo>
                  <a:pt x="150" y="1253"/>
                </a:lnTo>
                <a:lnTo>
                  <a:pt x="151" y="831"/>
                </a:lnTo>
                <a:lnTo>
                  <a:pt x="153" y="1240"/>
                </a:lnTo>
                <a:lnTo>
                  <a:pt x="154" y="1035"/>
                </a:lnTo>
                <a:lnTo>
                  <a:pt x="155" y="1163"/>
                </a:lnTo>
                <a:lnTo>
                  <a:pt x="156" y="503"/>
                </a:lnTo>
                <a:lnTo>
                  <a:pt x="157" y="806"/>
                </a:lnTo>
                <a:lnTo>
                  <a:pt x="159" y="1071"/>
                </a:lnTo>
                <a:lnTo>
                  <a:pt x="160" y="821"/>
                </a:lnTo>
                <a:lnTo>
                  <a:pt x="161" y="1091"/>
                </a:lnTo>
                <a:lnTo>
                  <a:pt x="162" y="1365"/>
                </a:lnTo>
                <a:lnTo>
                  <a:pt x="164" y="1000"/>
                </a:lnTo>
                <a:lnTo>
                  <a:pt x="165" y="1283"/>
                </a:lnTo>
                <a:lnTo>
                  <a:pt x="166" y="941"/>
                </a:lnTo>
                <a:lnTo>
                  <a:pt x="167" y="458"/>
                </a:lnTo>
                <a:lnTo>
                  <a:pt x="169" y="1181"/>
                </a:lnTo>
                <a:lnTo>
                  <a:pt x="170" y="755"/>
                </a:lnTo>
                <a:lnTo>
                  <a:pt x="171" y="600"/>
                </a:lnTo>
                <a:lnTo>
                  <a:pt x="172" y="968"/>
                </a:lnTo>
                <a:lnTo>
                  <a:pt x="173" y="1220"/>
                </a:lnTo>
                <a:lnTo>
                  <a:pt x="174" y="1095"/>
                </a:lnTo>
                <a:lnTo>
                  <a:pt x="176" y="1113"/>
                </a:lnTo>
                <a:lnTo>
                  <a:pt x="177" y="1136"/>
                </a:lnTo>
                <a:lnTo>
                  <a:pt x="179" y="844"/>
                </a:lnTo>
                <a:lnTo>
                  <a:pt x="180" y="1305"/>
                </a:lnTo>
                <a:lnTo>
                  <a:pt x="181" y="1231"/>
                </a:lnTo>
                <a:lnTo>
                  <a:pt x="182" y="1116"/>
                </a:lnTo>
                <a:lnTo>
                  <a:pt x="183" y="1019"/>
                </a:lnTo>
                <a:lnTo>
                  <a:pt x="184" y="624"/>
                </a:lnTo>
                <a:lnTo>
                  <a:pt x="185" y="766"/>
                </a:lnTo>
                <a:lnTo>
                  <a:pt x="188" y="768"/>
                </a:lnTo>
                <a:lnTo>
                  <a:pt x="189" y="1734"/>
                </a:lnTo>
                <a:lnTo>
                  <a:pt x="190" y="1243"/>
                </a:lnTo>
                <a:lnTo>
                  <a:pt x="191" y="1002"/>
                </a:lnTo>
                <a:lnTo>
                  <a:pt x="192" y="1084"/>
                </a:lnTo>
                <a:lnTo>
                  <a:pt x="193" y="700"/>
                </a:lnTo>
                <a:lnTo>
                  <a:pt x="194" y="928"/>
                </a:lnTo>
                <a:lnTo>
                  <a:pt x="195" y="1040"/>
                </a:lnTo>
                <a:lnTo>
                  <a:pt x="196" y="843"/>
                </a:lnTo>
                <a:lnTo>
                  <a:pt x="199" y="716"/>
                </a:lnTo>
                <a:lnTo>
                  <a:pt x="200" y="1413"/>
                </a:lnTo>
                <a:lnTo>
                  <a:pt x="201" y="923"/>
                </a:lnTo>
                <a:lnTo>
                  <a:pt x="202" y="979"/>
                </a:lnTo>
                <a:lnTo>
                  <a:pt x="203" y="1120"/>
                </a:lnTo>
                <a:lnTo>
                  <a:pt x="204" y="823"/>
                </a:lnTo>
                <a:lnTo>
                  <a:pt x="205" y="840"/>
                </a:lnTo>
                <a:lnTo>
                  <a:pt x="207" y="1160"/>
                </a:lnTo>
                <a:lnTo>
                  <a:pt x="208" y="694"/>
                </a:lnTo>
                <a:lnTo>
                  <a:pt x="210" y="1208"/>
                </a:lnTo>
                <a:lnTo>
                  <a:pt x="211" y="1261"/>
                </a:lnTo>
                <a:lnTo>
                  <a:pt x="212" y="807"/>
                </a:lnTo>
                <a:lnTo>
                  <a:pt x="213" y="569"/>
                </a:lnTo>
                <a:lnTo>
                  <a:pt x="214" y="1219"/>
                </a:lnTo>
                <a:lnTo>
                  <a:pt x="215" y="681"/>
                </a:lnTo>
                <a:lnTo>
                  <a:pt x="217" y="993"/>
                </a:lnTo>
                <a:lnTo>
                  <a:pt x="218" y="1270"/>
                </a:lnTo>
                <a:lnTo>
                  <a:pt x="219" y="1214"/>
                </a:lnTo>
                <a:lnTo>
                  <a:pt x="221" y="1219"/>
                </a:lnTo>
                <a:lnTo>
                  <a:pt x="222" y="1391"/>
                </a:lnTo>
                <a:lnTo>
                  <a:pt x="223" y="1036"/>
                </a:lnTo>
                <a:lnTo>
                  <a:pt x="224" y="518"/>
                </a:lnTo>
                <a:lnTo>
                  <a:pt x="225" y="606"/>
                </a:lnTo>
                <a:lnTo>
                  <a:pt x="227" y="1055"/>
                </a:lnTo>
                <a:lnTo>
                  <a:pt x="228" y="940"/>
                </a:lnTo>
                <a:lnTo>
                  <a:pt x="229" y="925"/>
                </a:lnTo>
                <a:lnTo>
                  <a:pt x="230" y="1322"/>
                </a:lnTo>
                <a:lnTo>
                  <a:pt x="231" y="1397"/>
                </a:lnTo>
                <a:lnTo>
                  <a:pt x="233" y="1118"/>
                </a:lnTo>
                <a:lnTo>
                  <a:pt x="234" y="929"/>
                </a:lnTo>
                <a:lnTo>
                  <a:pt x="236" y="1083"/>
                </a:lnTo>
                <a:lnTo>
                  <a:pt x="237" y="894"/>
                </a:lnTo>
                <a:lnTo>
                  <a:pt x="238" y="840"/>
                </a:lnTo>
                <a:lnTo>
                  <a:pt x="239" y="719"/>
                </a:lnTo>
                <a:lnTo>
                  <a:pt x="240" y="841"/>
                </a:lnTo>
                <a:lnTo>
                  <a:pt x="241" y="926"/>
                </a:lnTo>
                <a:lnTo>
                  <a:pt x="242" y="1409"/>
                </a:lnTo>
                <a:lnTo>
                  <a:pt x="244" y="722"/>
                </a:lnTo>
                <a:lnTo>
                  <a:pt x="246" y="1205"/>
                </a:lnTo>
                <a:lnTo>
                  <a:pt x="247" y="1227"/>
                </a:lnTo>
                <a:lnTo>
                  <a:pt x="248" y="387"/>
                </a:lnTo>
                <a:lnTo>
                  <a:pt x="249" y="1016"/>
                </a:lnTo>
                <a:lnTo>
                  <a:pt x="250" y="1394"/>
                </a:lnTo>
                <a:lnTo>
                  <a:pt x="251" y="806"/>
                </a:lnTo>
                <a:lnTo>
                  <a:pt x="252" y="1158"/>
                </a:lnTo>
                <a:lnTo>
                  <a:pt x="253" y="1032"/>
                </a:lnTo>
                <a:lnTo>
                  <a:pt x="256" y="1257"/>
                </a:lnTo>
                <a:lnTo>
                  <a:pt x="257" y="827"/>
                </a:lnTo>
                <a:lnTo>
                  <a:pt x="258" y="717"/>
                </a:lnTo>
                <a:lnTo>
                  <a:pt x="259" y="882"/>
                </a:lnTo>
                <a:lnTo>
                  <a:pt x="260" y="1231"/>
                </a:lnTo>
                <a:lnTo>
                  <a:pt x="261" y="756"/>
                </a:lnTo>
                <a:lnTo>
                  <a:pt x="262" y="1272"/>
                </a:lnTo>
                <a:lnTo>
                  <a:pt x="263" y="1179"/>
                </a:lnTo>
                <a:lnTo>
                  <a:pt x="265" y="877"/>
                </a:lnTo>
                <a:lnTo>
                  <a:pt x="267" y="862"/>
                </a:lnTo>
                <a:lnTo>
                  <a:pt x="268" y="1516"/>
                </a:lnTo>
                <a:lnTo>
                  <a:pt x="269" y="1017"/>
                </a:lnTo>
                <a:lnTo>
                  <a:pt x="270" y="962"/>
                </a:lnTo>
                <a:lnTo>
                  <a:pt x="271" y="956"/>
                </a:lnTo>
                <a:lnTo>
                  <a:pt x="272" y="801"/>
                </a:lnTo>
                <a:lnTo>
                  <a:pt x="273" y="829"/>
                </a:lnTo>
                <a:lnTo>
                  <a:pt x="275" y="1045"/>
                </a:lnTo>
                <a:lnTo>
                  <a:pt x="276" y="1247"/>
                </a:lnTo>
                <a:lnTo>
                  <a:pt x="278" y="1049"/>
                </a:lnTo>
                <a:lnTo>
                  <a:pt x="279" y="1103"/>
                </a:lnTo>
                <a:lnTo>
                  <a:pt x="280" y="879"/>
                </a:lnTo>
                <a:lnTo>
                  <a:pt x="281" y="1188"/>
                </a:lnTo>
                <a:lnTo>
                  <a:pt x="282" y="1231"/>
                </a:lnTo>
                <a:lnTo>
                  <a:pt x="283" y="1111"/>
                </a:lnTo>
                <a:lnTo>
                  <a:pt x="285" y="1324"/>
                </a:lnTo>
                <a:lnTo>
                  <a:pt x="286" y="1377"/>
                </a:lnTo>
                <a:lnTo>
                  <a:pt x="287" y="643"/>
                </a:lnTo>
                <a:lnTo>
                  <a:pt x="289" y="1102"/>
                </a:lnTo>
                <a:lnTo>
                  <a:pt x="290" y="756"/>
                </a:lnTo>
                <a:lnTo>
                  <a:pt x="291" y="534"/>
                </a:lnTo>
                <a:lnTo>
                  <a:pt x="292" y="499"/>
                </a:lnTo>
                <a:lnTo>
                  <a:pt x="294" y="1111"/>
                </a:lnTo>
                <a:lnTo>
                  <a:pt x="295" y="1172"/>
                </a:lnTo>
                <a:lnTo>
                  <a:pt x="296" y="968"/>
                </a:lnTo>
                <a:lnTo>
                  <a:pt x="297" y="1152"/>
                </a:lnTo>
                <a:lnTo>
                  <a:pt x="298" y="1020"/>
                </a:lnTo>
                <a:lnTo>
                  <a:pt x="299" y="907"/>
                </a:lnTo>
                <a:lnTo>
                  <a:pt x="301" y="1355"/>
                </a:lnTo>
                <a:lnTo>
                  <a:pt x="302" y="953"/>
                </a:lnTo>
                <a:lnTo>
                  <a:pt x="304" y="685"/>
                </a:lnTo>
                <a:lnTo>
                  <a:pt x="305" y="1161"/>
                </a:lnTo>
                <a:lnTo>
                  <a:pt x="306" y="893"/>
                </a:lnTo>
                <a:lnTo>
                  <a:pt x="307" y="941"/>
                </a:lnTo>
                <a:lnTo>
                  <a:pt x="308" y="797"/>
                </a:lnTo>
                <a:lnTo>
                  <a:pt x="309" y="834"/>
                </a:lnTo>
                <a:lnTo>
                  <a:pt x="310" y="609"/>
                </a:lnTo>
                <a:lnTo>
                  <a:pt x="312" y="1284"/>
                </a:lnTo>
                <a:lnTo>
                  <a:pt x="314" y="507"/>
                </a:lnTo>
                <a:lnTo>
                  <a:pt x="315" y="1238"/>
                </a:lnTo>
                <a:lnTo>
                  <a:pt x="316" y="884"/>
                </a:lnTo>
                <a:lnTo>
                  <a:pt x="317" y="768"/>
                </a:lnTo>
                <a:lnTo>
                  <a:pt x="318" y="1323"/>
                </a:lnTo>
                <a:lnTo>
                  <a:pt x="319" y="1299"/>
                </a:lnTo>
                <a:lnTo>
                  <a:pt x="320" y="466"/>
                </a:lnTo>
                <a:lnTo>
                  <a:pt x="321" y="1029"/>
                </a:lnTo>
                <a:lnTo>
                  <a:pt x="324" y="895"/>
                </a:lnTo>
                <a:lnTo>
                  <a:pt x="325" y="1067"/>
                </a:lnTo>
                <a:lnTo>
                  <a:pt x="326" y="688"/>
                </a:lnTo>
                <a:lnTo>
                  <a:pt x="327" y="1255"/>
                </a:lnTo>
                <a:lnTo>
                  <a:pt x="328" y="1237"/>
                </a:lnTo>
                <a:lnTo>
                  <a:pt x="329" y="867"/>
                </a:lnTo>
                <a:lnTo>
                  <a:pt x="330" y="997"/>
                </a:lnTo>
                <a:lnTo>
                  <a:pt x="331" y="1287"/>
                </a:lnTo>
                <a:lnTo>
                  <a:pt x="333" y="973"/>
                </a:lnTo>
                <a:lnTo>
                  <a:pt x="335" y="556"/>
                </a:lnTo>
                <a:lnTo>
                  <a:pt x="336" y="801"/>
                </a:lnTo>
                <a:lnTo>
                  <a:pt x="337" y="1124"/>
                </a:lnTo>
                <a:lnTo>
                  <a:pt x="338" y="784"/>
                </a:lnTo>
                <a:lnTo>
                  <a:pt x="339" y="1355"/>
                </a:lnTo>
                <a:lnTo>
                  <a:pt x="340" y="972"/>
                </a:lnTo>
                <a:lnTo>
                  <a:pt x="341" y="1042"/>
                </a:lnTo>
                <a:lnTo>
                  <a:pt x="343" y="1157"/>
                </a:lnTo>
                <a:lnTo>
                  <a:pt x="344" y="1229"/>
                </a:lnTo>
                <a:lnTo>
                  <a:pt x="346" y="963"/>
                </a:lnTo>
                <a:lnTo>
                  <a:pt x="347" y="1016"/>
                </a:lnTo>
                <a:lnTo>
                  <a:pt x="348" y="1080"/>
                </a:lnTo>
                <a:lnTo>
                  <a:pt x="349" y="1112"/>
                </a:lnTo>
                <a:lnTo>
                  <a:pt x="350" y="907"/>
                </a:lnTo>
                <a:lnTo>
                  <a:pt x="352" y="979"/>
                </a:lnTo>
                <a:lnTo>
                  <a:pt x="353" y="1355"/>
                </a:lnTo>
                <a:lnTo>
                  <a:pt x="354" y="1147"/>
                </a:lnTo>
                <a:lnTo>
                  <a:pt x="355" y="716"/>
                </a:lnTo>
                <a:lnTo>
                  <a:pt x="356" y="1072"/>
                </a:lnTo>
                <a:lnTo>
                  <a:pt x="358" y="1621"/>
                </a:lnTo>
                <a:lnTo>
                  <a:pt x="359" y="868"/>
                </a:lnTo>
                <a:lnTo>
                  <a:pt x="360" y="966"/>
                </a:lnTo>
                <a:lnTo>
                  <a:pt x="362" y="1307"/>
                </a:lnTo>
                <a:lnTo>
                  <a:pt x="363" y="1276"/>
                </a:lnTo>
                <a:lnTo>
                  <a:pt x="364" y="800"/>
                </a:lnTo>
                <a:lnTo>
                  <a:pt x="365" y="996"/>
                </a:lnTo>
                <a:lnTo>
                  <a:pt x="366" y="1127"/>
                </a:lnTo>
                <a:lnTo>
                  <a:pt x="367" y="805"/>
                </a:lnTo>
                <a:lnTo>
                  <a:pt x="369" y="297"/>
                </a:lnTo>
                <a:lnTo>
                  <a:pt x="370" y="657"/>
                </a:lnTo>
                <a:lnTo>
                  <a:pt x="372" y="1156"/>
                </a:lnTo>
                <a:lnTo>
                  <a:pt x="373" y="741"/>
                </a:lnTo>
                <a:lnTo>
                  <a:pt x="374" y="775"/>
                </a:lnTo>
                <a:lnTo>
                  <a:pt x="375" y="876"/>
                </a:lnTo>
                <a:lnTo>
                  <a:pt x="376" y="922"/>
                </a:lnTo>
                <a:lnTo>
                  <a:pt x="377" y="1121"/>
                </a:lnTo>
                <a:lnTo>
                  <a:pt x="378" y="995"/>
                </a:lnTo>
                <a:lnTo>
                  <a:pt x="381" y="757"/>
                </a:lnTo>
                <a:lnTo>
                  <a:pt x="382" y="1001"/>
                </a:lnTo>
                <a:lnTo>
                  <a:pt x="383" y="970"/>
                </a:lnTo>
                <a:lnTo>
                  <a:pt x="384" y="1097"/>
                </a:lnTo>
                <a:lnTo>
                  <a:pt x="385" y="644"/>
                </a:lnTo>
                <a:lnTo>
                  <a:pt x="386" y="726"/>
                </a:lnTo>
                <a:lnTo>
                  <a:pt x="387" y="670"/>
                </a:lnTo>
                <a:lnTo>
                  <a:pt x="388" y="897"/>
                </a:lnTo>
                <a:lnTo>
                  <a:pt x="389" y="1060"/>
                </a:lnTo>
                <a:lnTo>
                  <a:pt x="392" y="798"/>
                </a:lnTo>
                <a:lnTo>
                  <a:pt x="393" y="970"/>
                </a:lnTo>
                <a:lnTo>
                  <a:pt x="394" y="972"/>
                </a:lnTo>
                <a:lnTo>
                  <a:pt x="395" y="697"/>
                </a:lnTo>
                <a:lnTo>
                  <a:pt x="396" y="788"/>
                </a:lnTo>
                <a:lnTo>
                  <a:pt x="397" y="1274"/>
                </a:lnTo>
                <a:lnTo>
                  <a:pt x="398" y="1263"/>
                </a:lnTo>
                <a:lnTo>
                  <a:pt x="399" y="533"/>
                </a:lnTo>
                <a:lnTo>
                  <a:pt x="401" y="609"/>
                </a:lnTo>
                <a:lnTo>
                  <a:pt x="403" y="1227"/>
                </a:lnTo>
                <a:lnTo>
                  <a:pt x="404" y="963"/>
                </a:lnTo>
                <a:lnTo>
                  <a:pt x="405" y="1391"/>
                </a:lnTo>
                <a:lnTo>
                  <a:pt x="406" y="1312"/>
                </a:lnTo>
                <a:lnTo>
                  <a:pt x="407" y="1131"/>
                </a:lnTo>
                <a:lnTo>
                  <a:pt x="408" y="1364"/>
                </a:lnTo>
                <a:lnTo>
                  <a:pt x="410" y="992"/>
                </a:lnTo>
                <a:lnTo>
                  <a:pt x="411" y="975"/>
                </a:lnTo>
                <a:lnTo>
                  <a:pt x="412" y="1147"/>
                </a:lnTo>
                <a:lnTo>
                  <a:pt x="414" y="1106"/>
                </a:lnTo>
                <a:lnTo>
                  <a:pt x="415" y="1131"/>
                </a:lnTo>
                <a:lnTo>
                  <a:pt x="416" y="1030"/>
                </a:lnTo>
                <a:lnTo>
                  <a:pt x="417" y="821"/>
                </a:lnTo>
                <a:lnTo>
                  <a:pt x="418" y="775"/>
                </a:lnTo>
                <a:lnTo>
                  <a:pt x="420" y="1861"/>
                </a:lnTo>
                <a:lnTo>
                  <a:pt x="421" y="1170"/>
                </a:lnTo>
                <a:lnTo>
                  <a:pt x="422" y="1097"/>
                </a:lnTo>
                <a:lnTo>
                  <a:pt x="423" y="1081"/>
                </a:lnTo>
                <a:lnTo>
                  <a:pt x="424" y="668"/>
                </a:lnTo>
                <a:lnTo>
                  <a:pt x="426" y="1133"/>
                </a:lnTo>
                <a:lnTo>
                  <a:pt x="427" y="1250"/>
                </a:lnTo>
                <a:lnTo>
                  <a:pt x="428" y="304"/>
                </a:lnTo>
                <a:lnTo>
                  <a:pt x="430" y="592"/>
                </a:lnTo>
                <a:lnTo>
                  <a:pt x="431" y="814"/>
                </a:lnTo>
                <a:lnTo>
                  <a:pt x="432" y="1714"/>
                </a:lnTo>
                <a:lnTo>
                  <a:pt x="433" y="1142"/>
                </a:lnTo>
                <a:lnTo>
                  <a:pt x="434" y="1143"/>
                </a:lnTo>
                <a:lnTo>
                  <a:pt x="435" y="1324"/>
                </a:lnTo>
                <a:lnTo>
                  <a:pt x="437" y="1391"/>
                </a:lnTo>
                <a:lnTo>
                  <a:pt x="439" y="1055"/>
                </a:lnTo>
                <a:lnTo>
                  <a:pt x="440" y="1139"/>
                </a:lnTo>
                <a:lnTo>
                  <a:pt x="441" y="979"/>
                </a:lnTo>
                <a:lnTo>
                  <a:pt x="442" y="724"/>
                </a:lnTo>
                <a:lnTo>
                  <a:pt x="443" y="967"/>
                </a:lnTo>
                <a:lnTo>
                  <a:pt x="444" y="906"/>
                </a:lnTo>
                <a:lnTo>
                  <a:pt x="445" y="1108"/>
                </a:lnTo>
                <a:lnTo>
                  <a:pt x="446" y="1228"/>
                </a:lnTo>
                <a:lnTo>
                  <a:pt x="449" y="854"/>
                </a:lnTo>
                <a:lnTo>
                  <a:pt x="450" y="711"/>
                </a:lnTo>
                <a:lnTo>
                  <a:pt x="451" y="1454"/>
                </a:lnTo>
                <a:lnTo>
                  <a:pt x="452" y="745"/>
                </a:lnTo>
                <a:lnTo>
                  <a:pt x="453" y="395"/>
                </a:lnTo>
                <a:lnTo>
                  <a:pt x="454" y="923"/>
                </a:lnTo>
                <a:lnTo>
                  <a:pt x="455" y="1458"/>
                </a:lnTo>
                <a:lnTo>
                  <a:pt x="456" y="979"/>
                </a:lnTo>
                <a:lnTo>
                  <a:pt x="458" y="679"/>
                </a:lnTo>
                <a:lnTo>
                  <a:pt x="460" y="1347"/>
                </a:lnTo>
                <a:lnTo>
                  <a:pt x="461" y="1116"/>
                </a:lnTo>
                <a:lnTo>
                  <a:pt x="462" y="653"/>
                </a:lnTo>
                <a:lnTo>
                  <a:pt x="463" y="816"/>
                </a:lnTo>
                <a:lnTo>
                  <a:pt x="464" y="1112"/>
                </a:lnTo>
                <a:lnTo>
                  <a:pt x="465" y="915"/>
                </a:lnTo>
                <a:lnTo>
                  <a:pt x="466" y="700"/>
                </a:lnTo>
                <a:lnTo>
                  <a:pt x="468" y="769"/>
                </a:lnTo>
                <a:lnTo>
                  <a:pt x="469" y="1255"/>
                </a:lnTo>
                <a:lnTo>
                  <a:pt x="471" y="494"/>
                </a:lnTo>
                <a:lnTo>
                  <a:pt x="472" y="1465"/>
                </a:lnTo>
                <a:lnTo>
                  <a:pt x="473" y="915"/>
                </a:lnTo>
                <a:lnTo>
                  <a:pt x="474" y="1775"/>
                </a:lnTo>
                <a:lnTo>
                  <a:pt x="475" y="815"/>
                </a:lnTo>
                <a:lnTo>
                  <a:pt x="476" y="1366"/>
                </a:lnTo>
                <a:lnTo>
                  <a:pt x="478" y="1150"/>
                </a:lnTo>
                <a:lnTo>
                  <a:pt x="479" y="493"/>
                </a:lnTo>
                <a:lnTo>
                  <a:pt x="480" y="1216"/>
                </a:lnTo>
                <a:lnTo>
                  <a:pt x="481" y="1181"/>
                </a:lnTo>
                <a:lnTo>
                  <a:pt x="483" y="945"/>
                </a:lnTo>
                <a:lnTo>
                  <a:pt x="484" y="678"/>
                </a:lnTo>
                <a:lnTo>
                  <a:pt x="485" y="1253"/>
                </a:lnTo>
                <a:lnTo>
                  <a:pt x="487" y="757"/>
                </a:lnTo>
                <a:lnTo>
                  <a:pt x="488" y="1085"/>
                </a:lnTo>
                <a:lnTo>
                  <a:pt x="489" y="713"/>
                </a:lnTo>
                <a:lnTo>
                  <a:pt x="490" y="814"/>
                </a:lnTo>
                <a:lnTo>
                  <a:pt x="491" y="668"/>
                </a:lnTo>
                <a:lnTo>
                  <a:pt x="492" y="1080"/>
                </a:lnTo>
                <a:lnTo>
                  <a:pt x="494" y="1009"/>
                </a:lnTo>
                <a:lnTo>
                  <a:pt x="495" y="1075"/>
                </a:lnTo>
                <a:lnTo>
                  <a:pt x="497" y="449"/>
                </a:lnTo>
                <a:lnTo>
                  <a:pt x="498" y="938"/>
                </a:lnTo>
                <a:lnTo>
                  <a:pt x="499" y="893"/>
                </a:lnTo>
                <a:lnTo>
                  <a:pt x="500" y="1472"/>
                </a:lnTo>
                <a:lnTo>
                  <a:pt x="501" y="956"/>
                </a:lnTo>
                <a:lnTo>
                  <a:pt x="502" y="1031"/>
                </a:lnTo>
                <a:lnTo>
                  <a:pt x="503" y="672"/>
                </a:lnTo>
                <a:lnTo>
                  <a:pt x="505" y="895"/>
                </a:lnTo>
                <a:lnTo>
                  <a:pt x="507" y="1142"/>
                </a:lnTo>
                <a:lnTo>
                  <a:pt x="508" y="1284"/>
                </a:lnTo>
                <a:lnTo>
                  <a:pt x="509" y="1234"/>
                </a:lnTo>
                <a:lnTo>
                  <a:pt x="510" y="1062"/>
                </a:lnTo>
                <a:lnTo>
                  <a:pt x="511" y="905"/>
                </a:lnTo>
                <a:lnTo>
                  <a:pt x="512" y="1005"/>
                </a:lnTo>
                <a:lnTo>
                  <a:pt x="513" y="1104"/>
                </a:lnTo>
                <a:lnTo>
                  <a:pt x="514" y="1093"/>
                </a:lnTo>
                <a:lnTo>
                  <a:pt x="517" y="1117"/>
                </a:lnTo>
                <a:lnTo>
                  <a:pt x="518" y="948"/>
                </a:lnTo>
                <a:lnTo>
                  <a:pt x="519" y="771"/>
                </a:lnTo>
                <a:lnTo>
                  <a:pt x="520" y="1124"/>
                </a:lnTo>
                <a:lnTo>
                  <a:pt x="521" y="1046"/>
                </a:lnTo>
                <a:lnTo>
                  <a:pt x="522" y="957"/>
                </a:lnTo>
                <a:lnTo>
                  <a:pt x="523" y="942"/>
                </a:lnTo>
                <a:lnTo>
                  <a:pt x="524" y="1179"/>
                </a:lnTo>
                <a:lnTo>
                  <a:pt x="526" y="952"/>
                </a:lnTo>
                <a:lnTo>
                  <a:pt x="528" y="447"/>
                </a:lnTo>
                <a:lnTo>
                  <a:pt x="529" y="1093"/>
                </a:lnTo>
                <a:lnTo>
                  <a:pt x="530" y="1110"/>
                </a:lnTo>
                <a:lnTo>
                  <a:pt x="531" y="1296"/>
                </a:lnTo>
                <a:lnTo>
                  <a:pt x="532" y="397"/>
                </a:lnTo>
                <a:lnTo>
                  <a:pt x="533" y="1571"/>
                </a:lnTo>
                <a:lnTo>
                  <a:pt x="534" y="924"/>
                </a:lnTo>
                <a:lnTo>
                  <a:pt x="536" y="1074"/>
                </a:lnTo>
                <a:lnTo>
                  <a:pt x="537" y="727"/>
                </a:lnTo>
                <a:lnTo>
                  <a:pt x="539" y="816"/>
                </a:lnTo>
                <a:lnTo>
                  <a:pt x="540" y="799"/>
                </a:lnTo>
                <a:lnTo>
                  <a:pt x="541" y="801"/>
                </a:lnTo>
                <a:lnTo>
                  <a:pt x="542" y="925"/>
                </a:lnTo>
                <a:lnTo>
                  <a:pt x="543" y="1219"/>
                </a:lnTo>
                <a:lnTo>
                  <a:pt x="545" y="964"/>
                </a:lnTo>
                <a:lnTo>
                  <a:pt x="546" y="1333"/>
                </a:lnTo>
                <a:lnTo>
                  <a:pt x="547" y="1221"/>
                </a:lnTo>
                <a:lnTo>
                  <a:pt x="548" y="1126"/>
                </a:lnTo>
                <a:lnTo>
                  <a:pt x="549" y="1017"/>
                </a:lnTo>
                <a:lnTo>
                  <a:pt x="551" y="1219"/>
                </a:lnTo>
                <a:lnTo>
                  <a:pt x="552" y="932"/>
                </a:lnTo>
                <a:lnTo>
                  <a:pt x="553" y="1491"/>
                </a:lnTo>
                <a:lnTo>
                  <a:pt x="555" y="1075"/>
                </a:lnTo>
                <a:lnTo>
                  <a:pt x="556" y="889"/>
                </a:lnTo>
                <a:lnTo>
                  <a:pt x="557" y="1245"/>
                </a:lnTo>
                <a:lnTo>
                  <a:pt x="558" y="1308"/>
                </a:lnTo>
                <a:lnTo>
                  <a:pt x="559" y="913"/>
                </a:lnTo>
                <a:lnTo>
                  <a:pt x="560" y="1141"/>
                </a:lnTo>
                <a:lnTo>
                  <a:pt x="562" y="684"/>
                </a:lnTo>
                <a:lnTo>
                  <a:pt x="563" y="837"/>
                </a:lnTo>
                <a:lnTo>
                  <a:pt x="565" y="1595"/>
                </a:lnTo>
                <a:lnTo>
                  <a:pt x="566" y="1259"/>
                </a:lnTo>
                <a:lnTo>
                  <a:pt x="567" y="919"/>
                </a:lnTo>
                <a:lnTo>
                  <a:pt x="568" y="935"/>
                </a:lnTo>
                <a:lnTo>
                  <a:pt x="569" y="1234"/>
                </a:lnTo>
                <a:lnTo>
                  <a:pt x="570" y="1136"/>
                </a:lnTo>
                <a:lnTo>
                  <a:pt x="571" y="820"/>
                </a:lnTo>
                <a:lnTo>
                  <a:pt x="574" y="1006"/>
                </a:lnTo>
                <a:lnTo>
                  <a:pt x="575" y="1200"/>
                </a:lnTo>
                <a:lnTo>
                  <a:pt x="576" y="1191"/>
                </a:lnTo>
                <a:lnTo>
                  <a:pt x="577" y="1116"/>
                </a:lnTo>
                <a:lnTo>
                  <a:pt x="578" y="675"/>
                </a:lnTo>
                <a:lnTo>
                  <a:pt x="579" y="516"/>
                </a:lnTo>
                <a:lnTo>
                  <a:pt x="580" y="906"/>
                </a:lnTo>
                <a:lnTo>
                  <a:pt x="581" y="1117"/>
                </a:lnTo>
                <a:lnTo>
                  <a:pt x="582" y="1108"/>
                </a:lnTo>
                <a:lnTo>
                  <a:pt x="585" y="742"/>
                </a:lnTo>
                <a:lnTo>
                  <a:pt x="586" y="405"/>
                </a:lnTo>
                <a:lnTo>
                  <a:pt x="587" y="1248"/>
                </a:lnTo>
                <a:lnTo>
                  <a:pt x="588" y="1788"/>
                </a:lnTo>
                <a:lnTo>
                  <a:pt x="589" y="1263"/>
                </a:lnTo>
                <a:lnTo>
                  <a:pt x="590" y="1073"/>
                </a:lnTo>
                <a:lnTo>
                  <a:pt x="591" y="1317"/>
                </a:lnTo>
                <a:lnTo>
                  <a:pt x="592" y="1045"/>
                </a:lnTo>
                <a:lnTo>
                  <a:pt x="594" y="1127"/>
                </a:lnTo>
                <a:lnTo>
                  <a:pt x="596" y="1228"/>
                </a:lnTo>
                <a:lnTo>
                  <a:pt x="597" y="1222"/>
                </a:lnTo>
                <a:lnTo>
                  <a:pt x="598" y="991"/>
                </a:lnTo>
                <a:lnTo>
                  <a:pt x="599" y="484"/>
                </a:lnTo>
                <a:lnTo>
                  <a:pt x="600" y="964"/>
                </a:lnTo>
                <a:lnTo>
                  <a:pt x="601" y="458"/>
                </a:lnTo>
                <a:lnTo>
                  <a:pt x="603" y="885"/>
                </a:lnTo>
                <a:lnTo>
                  <a:pt x="604" y="766"/>
                </a:lnTo>
                <a:lnTo>
                  <a:pt x="605" y="1190"/>
                </a:lnTo>
                <a:lnTo>
                  <a:pt x="606" y="1298"/>
                </a:lnTo>
                <a:lnTo>
                  <a:pt x="608" y="941"/>
                </a:lnTo>
                <a:lnTo>
                  <a:pt x="609" y="1237"/>
                </a:lnTo>
                <a:lnTo>
                  <a:pt x="610" y="927"/>
                </a:lnTo>
                <a:lnTo>
                  <a:pt x="611" y="835"/>
                </a:lnTo>
                <a:lnTo>
                  <a:pt x="613" y="1396"/>
                </a:lnTo>
                <a:lnTo>
                  <a:pt x="614" y="992"/>
                </a:lnTo>
                <a:lnTo>
                  <a:pt x="615" y="1046"/>
                </a:lnTo>
                <a:lnTo>
                  <a:pt x="616" y="642"/>
                </a:lnTo>
                <a:lnTo>
                  <a:pt x="617" y="707"/>
                </a:lnTo>
                <a:lnTo>
                  <a:pt x="619" y="1425"/>
                </a:lnTo>
                <a:lnTo>
                  <a:pt x="620" y="1487"/>
                </a:lnTo>
                <a:lnTo>
                  <a:pt x="621" y="1255"/>
                </a:lnTo>
                <a:lnTo>
                  <a:pt x="623" y="894"/>
                </a:lnTo>
                <a:lnTo>
                  <a:pt x="624" y="865"/>
                </a:lnTo>
                <a:lnTo>
                  <a:pt x="625" y="964"/>
                </a:lnTo>
                <a:lnTo>
                  <a:pt x="626" y="472"/>
                </a:lnTo>
                <a:lnTo>
                  <a:pt x="627" y="1285"/>
                </a:lnTo>
                <a:lnTo>
                  <a:pt x="628" y="1033"/>
                </a:lnTo>
                <a:lnTo>
                  <a:pt x="630" y="924"/>
                </a:lnTo>
                <a:lnTo>
                  <a:pt x="632" y="1058"/>
                </a:lnTo>
                <a:lnTo>
                  <a:pt x="633" y="1265"/>
                </a:lnTo>
                <a:lnTo>
                  <a:pt x="634" y="1130"/>
                </a:lnTo>
                <a:lnTo>
                  <a:pt x="635" y="1388"/>
                </a:lnTo>
                <a:lnTo>
                  <a:pt x="636" y="763"/>
                </a:lnTo>
                <a:lnTo>
                  <a:pt x="637" y="1563"/>
                </a:lnTo>
                <a:lnTo>
                  <a:pt x="638" y="925"/>
                </a:lnTo>
                <a:lnTo>
                  <a:pt x="639" y="1622"/>
                </a:lnTo>
                <a:lnTo>
                  <a:pt x="642" y="882"/>
                </a:lnTo>
                <a:lnTo>
                  <a:pt x="643" y="1091"/>
                </a:lnTo>
                <a:lnTo>
                  <a:pt x="644" y="973"/>
                </a:lnTo>
                <a:lnTo>
                  <a:pt x="645" y="821"/>
                </a:lnTo>
                <a:lnTo>
                  <a:pt x="646" y="1113"/>
                </a:lnTo>
                <a:lnTo>
                  <a:pt x="647" y="1294"/>
                </a:lnTo>
                <a:lnTo>
                  <a:pt x="648" y="955"/>
                </a:lnTo>
                <a:lnTo>
                  <a:pt x="649" y="1065"/>
                </a:lnTo>
                <a:lnTo>
                  <a:pt x="650" y="859"/>
                </a:lnTo>
                <a:lnTo>
                  <a:pt x="653" y="688"/>
                </a:lnTo>
                <a:lnTo>
                  <a:pt x="654" y="1015"/>
                </a:lnTo>
                <a:lnTo>
                  <a:pt x="655" y="1068"/>
                </a:lnTo>
                <a:lnTo>
                  <a:pt x="656" y="1345"/>
                </a:lnTo>
                <a:lnTo>
                  <a:pt x="657" y="778"/>
                </a:lnTo>
                <a:lnTo>
                  <a:pt x="658" y="915"/>
                </a:lnTo>
                <a:lnTo>
                  <a:pt x="659" y="787"/>
                </a:lnTo>
                <a:lnTo>
                  <a:pt x="661" y="1023"/>
                </a:lnTo>
                <a:lnTo>
                  <a:pt x="662" y="1339"/>
                </a:lnTo>
                <a:lnTo>
                  <a:pt x="664" y="1612"/>
                </a:lnTo>
                <a:lnTo>
                  <a:pt x="665" y="1343"/>
                </a:lnTo>
                <a:lnTo>
                  <a:pt x="666" y="1121"/>
                </a:lnTo>
                <a:lnTo>
                  <a:pt x="667" y="626"/>
                </a:lnTo>
                <a:lnTo>
                  <a:pt x="668" y="1588"/>
                </a:lnTo>
                <a:lnTo>
                  <a:pt x="669" y="614"/>
                </a:lnTo>
                <a:lnTo>
                  <a:pt x="671" y="1133"/>
                </a:lnTo>
                <a:lnTo>
                  <a:pt x="672" y="1512"/>
                </a:lnTo>
                <a:lnTo>
                  <a:pt x="673" y="574"/>
                </a:lnTo>
                <a:lnTo>
                  <a:pt x="674" y="965"/>
                </a:lnTo>
                <a:lnTo>
                  <a:pt x="676" y="1472"/>
                </a:lnTo>
                <a:lnTo>
                  <a:pt x="677" y="864"/>
                </a:lnTo>
                <a:lnTo>
                  <a:pt x="678" y="1117"/>
                </a:lnTo>
                <a:lnTo>
                  <a:pt x="679" y="1031"/>
                </a:lnTo>
                <a:lnTo>
                  <a:pt x="681" y="839"/>
                </a:lnTo>
                <a:lnTo>
                  <a:pt x="682" y="1456"/>
                </a:lnTo>
                <a:lnTo>
                  <a:pt x="683" y="962"/>
                </a:lnTo>
                <a:lnTo>
                  <a:pt x="684" y="918"/>
                </a:lnTo>
                <a:lnTo>
                  <a:pt x="685" y="1182"/>
                </a:lnTo>
                <a:lnTo>
                  <a:pt x="687" y="1029"/>
                </a:lnTo>
                <a:lnTo>
                  <a:pt x="688" y="1127"/>
                </a:lnTo>
                <a:lnTo>
                  <a:pt x="690" y="1173"/>
                </a:lnTo>
                <a:lnTo>
                  <a:pt x="691" y="892"/>
                </a:lnTo>
                <a:lnTo>
                  <a:pt x="692" y="641"/>
                </a:lnTo>
                <a:lnTo>
                  <a:pt x="693" y="919"/>
                </a:lnTo>
                <a:lnTo>
                  <a:pt x="694" y="1353"/>
                </a:lnTo>
                <a:lnTo>
                  <a:pt x="695" y="1069"/>
                </a:lnTo>
                <a:lnTo>
                  <a:pt x="696" y="1208"/>
                </a:lnTo>
                <a:lnTo>
                  <a:pt x="698" y="857"/>
                </a:lnTo>
                <a:lnTo>
                  <a:pt x="700" y="911"/>
                </a:lnTo>
                <a:lnTo>
                  <a:pt x="701" y="830"/>
                </a:lnTo>
                <a:lnTo>
                  <a:pt x="702" y="1266"/>
                </a:lnTo>
                <a:lnTo>
                  <a:pt x="703" y="831"/>
                </a:lnTo>
                <a:lnTo>
                  <a:pt x="704" y="967"/>
                </a:lnTo>
                <a:lnTo>
                  <a:pt x="705" y="1253"/>
                </a:lnTo>
                <a:lnTo>
                  <a:pt x="706" y="1224"/>
                </a:lnTo>
                <a:lnTo>
                  <a:pt x="707" y="982"/>
                </a:lnTo>
                <a:lnTo>
                  <a:pt x="710" y="1167"/>
                </a:lnTo>
                <a:lnTo>
                  <a:pt x="711" y="1424"/>
                </a:lnTo>
                <a:lnTo>
                  <a:pt x="712" y="1394"/>
                </a:lnTo>
                <a:lnTo>
                  <a:pt x="713" y="904"/>
                </a:lnTo>
                <a:lnTo>
                  <a:pt x="714" y="1395"/>
                </a:lnTo>
                <a:lnTo>
                  <a:pt x="715" y="807"/>
                </a:lnTo>
                <a:lnTo>
                  <a:pt x="716" y="1231"/>
                </a:lnTo>
                <a:lnTo>
                  <a:pt x="717" y="1187"/>
                </a:lnTo>
                <a:lnTo>
                  <a:pt x="719" y="1347"/>
                </a:lnTo>
                <a:lnTo>
                  <a:pt x="721" y="853"/>
                </a:lnTo>
                <a:lnTo>
                  <a:pt x="722" y="908"/>
                </a:lnTo>
                <a:lnTo>
                  <a:pt x="723" y="981"/>
                </a:lnTo>
                <a:lnTo>
                  <a:pt x="724" y="663"/>
                </a:lnTo>
                <a:lnTo>
                  <a:pt x="725" y="1054"/>
                </a:lnTo>
                <a:lnTo>
                  <a:pt x="726" y="982"/>
                </a:lnTo>
                <a:lnTo>
                  <a:pt x="727" y="811"/>
                </a:lnTo>
                <a:lnTo>
                  <a:pt x="729" y="582"/>
                </a:lnTo>
                <a:lnTo>
                  <a:pt x="730" y="1160"/>
                </a:lnTo>
                <a:lnTo>
                  <a:pt x="731" y="1040"/>
                </a:lnTo>
                <a:lnTo>
                  <a:pt x="733" y="1322"/>
                </a:lnTo>
                <a:lnTo>
                  <a:pt x="734" y="1375"/>
                </a:lnTo>
                <a:lnTo>
                  <a:pt x="735" y="1287"/>
                </a:lnTo>
                <a:lnTo>
                  <a:pt x="736" y="769"/>
                </a:lnTo>
                <a:lnTo>
                  <a:pt x="738" y="1137"/>
                </a:lnTo>
                <a:lnTo>
                  <a:pt x="739" y="1178"/>
                </a:lnTo>
                <a:lnTo>
                  <a:pt x="740" y="1051"/>
                </a:lnTo>
                <a:lnTo>
                  <a:pt x="741" y="1106"/>
                </a:lnTo>
                <a:lnTo>
                  <a:pt x="742" y="1466"/>
                </a:lnTo>
                <a:lnTo>
                  <a:pt x="744" y="713"/>
                </a:lnTo>
                <a:lnTo>
                  <a:pt x="745" y="887"/>
                </a:lnTo>
                <a:lnTo>
                  <a:pt x="746" y="957"/>
                </a:lnTo>
                <a:lnTo>
                  <a:pt x="748" y="1145"/>
                </a:lnTo>
                <a:lnTo>
                  <a:pt x="749" y="997"/>
                </a:lnTo>
                <a:lnTo>
                  <a:pt x="750" y="1117"/>
                </a:lnTo>
                <a:lnTo>
                  <a:pt x="751" y="1140"/>
                </a:lnTo>
                <a:lnTo>
                  <a:pt x="752" y="1481"/>
                </a:lnTo>
                <a:lnTo>
                  <a:pt x="753" y="983"/>
                </a:lnTo>
                <a:lnTo>
                  <a:pt x="755" y="794"/>
                </a:lnTo>
                <a:lnTo>
                  <a:pt x="756" y="1166"/>
                </a:lnTo>
                <a:lnTo>
                  <a:pt x="758" y="810"/>
                </a:lnTo>
                <a:lnTo>
                  <a:pt x="759" y="1226"/>
                </a:lnTo>
                <a:lnTo>
                  <a:pt x="760" y="893"/>
                </a:lnTo>
                <a:lnTo>
                  <a:pt x="761" y="807"/>
                </a:lnTo>
                <a:lnTo>
                  <a:pt x="762" y="723"/>
                </a:lnTo>
                <a:lnTo>
                  <a:pt x="763" y="1175"/>
                </a:lnTo>
                <a:lnTo>
                  <a:pt x="764" y="753"/>
                </a:lnTo>
                <a:lnTo>
                  <a:pt x="767" y="936"/>
                </a:lnTo>
                <a:lnTo>
                  <a:pt x="768" y="249"/>
                </a:lnTo>
                <a:lnTo>
                  <a:pt x="769" y="1235"/>
                </a:lnTo>
                <a:lnTo>
                  <a:pt x="770" y="1245"/>
                </a:lnTo>
                <a:lnTo>
                  <a:pt x="771" y="1610"/>
                </a:lnTo>
                <a:lnTo>
                  <a:pt x="772" y="1021"/>
                </a:lnTo>
                <a:lnTo>
                  <a:pt x="773" y="220"/>
                </a:lnTo>
                <a:lnTo>
                  <a:pt x="774" y="761"/>
                </a:lnTo>
                <a:lnTo>
                  <a:pt x="775" y="1240"/>
                </a:lnTo>
                <a:lnTo>
                  <a:pt x="778" y="1527"/>
                </a:lnTo>
                <a:lnTo>
                  <a:pt x="779" y="948"/>
                </a:lnTo>
                <a:lnTo>
                  <a:pt x="780" y="1386"/>
                </a:lnTo>
                <a:lnTo>
                  <a:pt x="781" y="625"/>
                </a:lnTo>
                <a:lnTo>
                  <a:pt x="782" y="1142"/>
                </a:lnTo>
                <a:lnTo>
                  <a:pt x="783" y="1016"/>
                </a:lnTo>
                <a:lnTo>
                  <a:pt x="784" y="1102"/>
                </a:lnTo>
                <a:lnTo>
                  <a:pt x="785" y="921"/>
                </a:lnTo>
                <a:lnTo>
                  <a:pt x="787" y="1038"/>
                </a:lnTo>
                <a:lnTo>
                  <a:pt x="789" y="659"/>
                </a:lnTo>
                <a:lnTo>
                  <a:pt x="790" y="1129"/>
                </a:lnTo>
                <a:lnTo>
                  <a:pt x="791" y="1218"/>
                </a:lnTo>
                <a:lnTo>
                  <a:pt x="792" y="599"/>
                </a:lnTo>
                <a:lnTo>
                  <a:pt x="793" y="905"/>
                </a:lnTo>
                <a:lnTo>
                  <a:pt x="794" y="410"/>
                </a:lnTo>
                <a:lnTo>
                  <a:pt x="796" y="1273"/>
                </a:lnTo>
                <a:lnTo>
                  <a:pt x="797" y="1169"/>
                </a:lnTo>
                <a:lnTo>
                  <a:pt x="798" y="553"/>
                </a:lnTo>
                <a:lnTo>
                  <a:pt x="799" y="1016"/>
                </a:lnTo>
                <a:lnTo>
                  <a:pt x="801" y="1134"/>
                </a:lnTo>
                <a:lnTo>
                  <a:pt x="802" y="994"/>
                </a:lnTo>
                <a:lnTo>
                  <a:pt x="803" y="772"/>
                </a:lnTo>
                <a:lnTo>
                  <a:pt x="804" y="1073"/>
                </a:lnTo>
                <a:lnTo>
                  <a:pt x="806" y="1452"/>
                </a:lnTo>
                <a:lnTo>
                  <a:pt x="807" y="640"/>
                </a:lnTo>
                <a:lnTo>
                  <a:pt x="808" y="1001"/>
                </a:lnTo>
                <a:lnTo>
                  <a:pt x="809" y="1114"/>
                </a:lnTo>
                <a:lnTo>
                  <a:pt x="810" y="1239"/>
                </a:lnTo>
                <a:lnTo>
                  <a:pt x="812" y="728"/>
                </a:lnTo>
                <a:lnTo>
                  <a:pt x="813" y="973"/>
                </a:lnTo>
                <a:lnTo>
                  <a:pt x="814" y="1014"/>
                </a:lnTo>
                <a:lnTo>
                  <a:pt x="816" y="1220"/>
                </a:lnTo>
                <a:lnTo>
                  <a:pt x="817" y="781"/>
                </a:lnTo>
                <a:lnTo>
                  <a:pt x="818" y="1317"/>
                </a:lnTo>
                <a:lnTo>
                  <a:pt x="819" y="1196"/>
                </a:lnTo>
                <a:lnTo>
                  <a:pt x="820" y="1000"/>
                </a:lnTo>
                <a:lnTo>
                  <a:pt x="821" y="989"/>
                </a:lnTo>
                <a:lnTo>
                  <a:pt x="823" y="1299"/>
                </a:lnTo>
                <a:lnTo>
                  <a:pt x="825" y="1049"/>
                </a:lnTo>
                <a:lnTo>
                  <a:pt x="826" y="888"/>
                </a:lnTo>
                <a:lnTo>
                  <a:pt x="827" y="944"/>
                </a:lnTo>
                <a:lnTo>
                  <a:pt x="828" y="737"/>
                </a:lnTo>
                <a:lnTo>
                  <a:pt x="829" y="1080"/>
                </a:lnTo>
                <a:lnTo>
                  <a:pt x="830" y="1118"/>
                </a:lnTo>
                <a:lnTo>
                  <a:pt x="831" y="740"/>
                </a:lnTo>
                <a:lnTo>
                  <a:pt x="832" y="644"/>
                </a:lnTo>
                <a:lnTo>
                  <a:pt x="835" y="649"/>
                </a:lnTo>
                <a:lnTo>
                  <a:pt x="836" y="879"/>
                </a:lnTo>
                <a:lnTo>
                  <a:pt x="837" y="1035"/>
                </a:lnTo>
                <a:lnTo>
                  <a:pt x="838" y="1126"/>
                </a:lnTo>
                <a:lnTo>
                  <a:pt x="839" y="603"/>
                </a:lnTo>
                <a:lnTo>
                  <a:pt x="840" y="1240"/>
                </a:lnTo>
                <a:lnTo>
                  <a:pt x="841" y="860"/>
                </a:lnTo>
                <a:lnTo>
                  <a:pt x="842" y="970"/>
                </a:lnTo>
                <a:lnTo>
                  <a:pt x="843" y="963"/>
                </a:lnTo>
                <a:lnTo>
                  <a:pt x="846" y="986"/>
                </a:lnTo>
                <a:lnTo>
                  <a:pt x="847" y="1222"/>
                </a:lnTo>
                <a:lnTo>
                  <a:pt x="848" y="1390"/>
                </a:lnTo>
                <a:lnTo>
                  <a:pt x="849" y="1060"/>
                </a:lnTo>
                <a:lnTo>
                  <a:pt x="850" y="867"/>
                </a:lnTo>
                <a:lnTo>
                  <a:pt x="851" y="1338"/>
                </a:lnTo>
                <a:lnTo>
                  <a:pt x="852" y="710"/>
                </a:lnTo>
                <a:lnTo>
                  <a:pt x="854" y="1371"/>
                </a:lnTo>
                <a:lnTo>
                  <a:pt x="855" y="923"/>
                </a:lnTo>
                <a:lnTo>
                  <a:pt x="856" y="1227"/>
                </a:lnTo>
                <a:lnTo>
                  <a:pt x="858" y="981"/>
                </a:lnTo>
                <a:lnTo>
                  <a:pt x="859" y="987"/>
                </a:lnTo>
                <a:lnTo>
                  <a:pt x="860" y="960"/>
                </a:lnTo>
                <a:lnTo>
                  <a:pt x="861" y="633"/>
                </a:lnTo>
                <a:lnTo>
                  <a:pt x="862" y="1102"/>
                </a:lnTo>
                <a:lnTo>
                  <a:pt x="864" y="1045"/>
                </a:lnTo>
                <a:lnTo>
                  <a:pt x="865" y="1107"/>
                </a:lnTo>
                <a:lnTo>
                  <a:pt x="866" y="1041"/>
                </a:lnTo>
                <a:lnTo>
                  <a:pt x="867" y="823"/>
                </a:lnTo>
                <a:lnTo>
                  <a:pt x="869" y="1234"/>
                </a:lnTo>
                <a:lnTo>
                  <a:pt x="870" y="862"/>
                </a:lnTo>
                <a:lnTo>
                  <a:pt x="871" y="1309"/>
                </a:lnTo>
                <a:lnTo>
                  <a:pt x="872" y="692"/>
                </a:lnTo>
                <a:lnTo>
                  <a:pt x="874" y="1122"/>
                </a:lnTo>
                <a:lnTo>
                  <a:pt x="875" y="1177"/>
                </a:lnTo>
                <a:lnTo>
                  <a:pt x="876" y="975"/>
                </a:lnTo>
                <a:lnTo>
                  <a:pt x="877" y="1258"/>
                </a:lnTo>
                <a:lnTo>
                  <a:pt x="878" y="514"/>
                </a:lnTo>
                <a:lnTo>
                  <a:pt x="880" y="1024"/>
                </a:lnTo>
                <a:lnTo>
                  <a:pt x="881" y="1469"/>
                </a:lnTo>
                <a:lnTo>
                  <a:pt x="883" y="914"/>
                </a:lnTo>
                <a:lnTo>
                  <a:pt x="884" y="1202"/>
                </a:lnTo>
                <a:lnTo>
                  <a:pt x="885" y="797"/>
                </a:lnTo>
                <a:lnTo>
                  <a:pt x="886" y="1081"/>
                </a:lnTo>
                <a:lnTo>
                  <a:pt x="887" y="1112"/>
                </a:lnTo>
                <a:lnTo>
                  <a:pt x="888" y="846"/>
                </a:lnTo>
                <a:lnTo>
                  <a:pt x="889" y="497"/>
                </a:lnTo>
                <a:lnTo>
                  <a:pt x="891" y="1227"/>
                </a:lnTo>
                <a:lnTo>
                  <a:pt x="893" y="1116"/>
                </a:lnTo>
                <a:lnTo>
                  <a:pt x="894" y="1111"/>
                </a:lnTo>
                <a:lnTo>
                  <a:pt x="895" y="1009"/>
                </a:lnTo>
                <a:lnTo>
                  <a:pt x="896" y="680"/>
                </a:lnTo>
                <a:lnTo>
                  <a:pt x="897" y="1479"/>
                </a:lnTo>
                <a:lnTo>
                  <a:pt x="898" y="880"/>
                </a:lnTo>
                <a:lnTo>
                  <a:pt x="899" y="761"/>
                </a:lnTo>
                <a:lnTo>
                  <a:pt x="900" y="1456"/>
                </a:lnTo>
                <a:lnTo>
                  <a:pt x="903" y="718"/>
                </a:lnTo>
                <a:lnTo>
                  <a:pt x="904" y="1244"/>
                </a:lnTo>
                <a:lnTo>
                  <a:pt x="905" y="1500"/>
                </a:lnTo>
                <a:lnTo>
                  <a:pt x="906" y="811"/>
                </a:lnTo>
                <a:lnTo>
                  <a:pt x="907" y="495"/>
                </a:lnTo>
                <a:lnTo>
                  <a:pt x="908" y="1046"/>
                </a:lnTo>
                <a:lnTo>
                  <a:pt x="909" y="1373"/>
                </a:lnTo>
                <a:lnTo>
                  <a:pt x="910" y="1329"/>
                </a:lnTo>
                <a:lnTo>
                  <a:pt x="912" y="762"/>
                </a:lnTo>
                <a:lnTo>
                  <a:pt x="914" y="761"/>
                </a:lnTo>
                <a:lnTo>
                  <a:pt x="915" y="972"/>
                </a:lnTo>
                <a:lnTo>
                  <a:pt x="916" y="1005"/>
                </a:lnTo>
                <a:lnTo>
                  <a:pt x="917" y="1275"/>
                </a:lnTo>
                <a:lnTo>
                  <a:pt x="918" y="674"/>
                </a:lnTo>
                <a:lnTo>
                  <a:pt x="919" y="1224"/>
                </a:lnTo>
                <a:lnTo>
                  <a:pt x="920" y="1263"/>
                </a:lnTo>
                <a:lnTo>
                  <a:pt x="922" y="857"/>
                </a:lnTo>
                <a:lnTo>
                  <a:pt x="923" y="1095"/>
                </a:lnTo>
                <a:lnTo>
                  <a:pt x="924" y="1121"/>
                </a:lnTo>
                <a:lnTo>
                  <a:pt x="926" y="1099"/>
                </a:lnTo>
                <a:lnTo>
                  <a:pt x="927" y="1190"/>
                </a:lnTo>
                <a:lnTo>
                  <a:pt x="928" y="1781"/>
                </a:lnTo>
                <a:lnTo>
                  <a:pt x="929" y="1121"/>
                </a:lnTo>
                <a:lnTo>
                  <a:pt x="930" y="883"/>
                </a:lnTo>
                <a:lnTo>
                  <a:pt x="932" y="974"/>
                </a:lnTo>
                <a:lnTo>
                  <a:pt x="933" y="1480"/>
                </a:lnTo>
                <a:lnTo>
                  <a:pt x="934" y="683"/>
                </a:lnTo>
                <a:lnTo>
                  <a:pt x="935" y="1162"/>
                </a:lnTo>
                <a:lnTo>
                  <a:pt x="937" y="902"/>
                </a:lnTo>
                <a:lnTo>
                  <a:pt x="938" y="1274"/>
                </a:lnTo>
                <a:lnTo>
                  <a:pt x="939" y="1266"/>
                </a:lnTo>
                <a:lnTo>
                  <a:pt x="941" y="1380"/>
                </a:lnTo>
                <a:lnTo>
                  <a:pt x="942" y="870"/>
                </a:lnTo>
                <a:lnTo>
                  <a:pt x="943" y="437"/>
                </a:lnTo>
                <a:lnTo>
                  <a:pt x="944" y="482"/>
                </a:lnTo>
                <a:lnTo>
                  <a:pt x="945" y="809"/>
                </a:lnTo>
                <a:lnTo>
                  <a:pt x="946" y="922"/>
                </a:lnTo>
                <a:lnTo>
                  <a:pt x="948" y="1042"/>
                </a:lnTo>
                <a:lnTo>
                  <a:pt x="949" y="1133"/>
                </a:lnTo>
                <a:lnTo>
                  <a:pt x="951" y="907"/>
                </a:lnTo>
                <a:lnTo>
                  <a:pt x="952" y="1183"/>
                </a:lnTo>
                <a:lnTo>
                  <a:pt x="953" y="809"/>
                </a:lnTo>
                <a:lnTo>
                  <a:pt x="954" y="931"/>
                </a:lnTo>
                <a:lnTo>
                  <a:pt x="955" y="1214"/>
                </a:lnTo>
                <a:lnTo>
                  <a:pt x="956" y="1133"/>
                </a:lnTo>
                <a:lnTo>
                  <a:pt x="957" y="991"/>
                </a:lnTo>
                <a:lnTo>
                  <a:pt x="960" y="1400"/>
                </a:lnTo>
                <a:lnTo>
                  <a:pt x="961" y="1557"/>
                </a:lnTo>
                <a:lnTo>
                  <a:pt x="962" y="658"/>
                </a:lnTo>
                <a:lnTo>
                  <a:pt x="963" y="1141"/>
                </a:lnTo>
                <a:lnTo>
                  <a:pt x="964" y="1148"/>
                </a:lnTo>
                <a:lnTo>
                  <a:pt x="965" y="1161"/>
                </a:lnTo>
                <a:lnTo>
                  <a:pt x="966" y="886"/>
                </a:lnTo>
                <a:lnTo>
                  <a:pt x="967" y="1071"/>
                </a:lnTo>
                <a:lnTo>
                  <a:pt x="968" y="992"/>
                </a:lnTo>
                <a:lnTo>
                  <a:pt x="971" y="1241"/>
                </a:lnTo>
                <a:lnTo>
                  <a:pt x="972" y="1089"/>
                </a:lnTo>
                <a:lnTo>
                  <a:pt x="973" y="377"/>
                </a:lnTo>
                <a:lnTo>
                  <a:pt x="974" y="1549"/>
                </a:lnTo>
                <a:lnTo>
                  <a:pt x="975" y="795"/>
                </a:lnTo>
                <a:lnTo>
                  <a:pt x="976" y="699"/>
                </a:lnTo>
                <a:lnTo>
                  <a:pt x="977" y="873"/>
                </a:lnTo>
                <a:lnTo>
                  <a:pt x="978" y="1160"/>
                </a:lnTo>
                <a:lnTo>
                  <a:pt x="980" y="615"/>
                </a:lnTo>
                <a:lnTo>
                  <a:pt x="981" y="1165"/>
                </a:lnTo>
                <a:lnTo>
                  <a:pt x="983" y="464"/>
                </a:lnTo>
                <a:lnTo>
                  <a:pt x="984" y="1391"/>
                </a:lnTo>
                <a:lnTo>
                  <a:pt x="985" y="1020"/>
                </a:lnTo>
                <a:lnTo>
                  <a:pt x="986" y="717"/>
                </a:lnTo>
                <a:lnTo>
                  <a:pt x="987" y="526"/>
                </a:lnTo>
                <a:lnTo>
                  <a:pt x="989" y="1237"/>
                </a:lnTo>
                <a:lnTo>
                  <a:pt x="990" y="742"/>
                </a:lnTo>
                <a:lnTo>
                  <a:pt x="991" y="1183"/>
                </a:lnTo>
                <a:lnTo>
                  <a:pt x="992" y="1325"/>
                </a:lnTo>
                <a:lnTo>
                  <a:pt x="994" y="1258"/>
                </a:lnTo>
                <a:lnTo>
                  <a:pt x="995" y="1411"/>
                </a:lnTo>
                <a:lnTo>
                  <a:pt x="996" y="870"/>
                </a:lnTo>
                <a:lnTo>
                  <a:pt x="997" y="1089"/>
                </a:lnTo>
                <a:lnTo>
                  <a:pt x="999" y="810"/>
                </a:lnTo>
                <a:lnTo>
                  <a:pt x="1000" y="908"/>
                </a:lnTo>
                <a:lnTo>
                  <a:pt x="1001" y="1294"/>
                </a:lnTo>
                <a:lnTo>
                  <a:pt x="1002" y="735"/>
                </a:lnTo>
                <a:lnTo>
                  <a:pt x="1003" y="1183"/>
                </a:lnTo>
                <a:lnTo>
                  <a:pt x="1005" y="1249"/>
                </a:lnTo>
                <a:lnTo>
                  <a:pt x="1006" y="1001"/>
                </a:lnTo>
                <a:lnTo>
                  <a:pt x="1007" y="989"/>
                </a:lnTo>
                <a:lnTo>
                  <a:pt x="1009" y="620"/>
                </a:lnTo>
                <a:lnTo>
                  <a:pt x="1010" y="662"/>
                </a:lnTo>
                <a:lnTo>
                  <a:pt x="1011" y="1534"/>
                </a:lnTo>
                <a:lnTo>
                  <a:pt x="1012" y="845"/>
                </a:lnTo>
                <a:lnTo>
                  <a:pt x="1013" y="1059"/>
                </a:lnTo>
                <a:lnTo>
                  <a:pt x="1014" y="1098"/>
                </a:lnTo>
                <a:lnTo>
                  <a:pt x="1016" y="914"/>
                </a:lnTo>
                <a:lnTo>
                  <a:pt x="1018" y="926"/>
                </a:lnTo>
                <a:lnTo>
                  <a:pt x="1019" y="1412"/>
                </a:lnTo>
                <a:lnTo>
                  <a:pt x="1020" y="1246"/>
                </a:lnTo>
                <a:lnTo>
                  <a:pt x="1021" y="1140"/>
                </a:lnTo>
                <a:lnTo>
                  <a:pt x="1022" y="947"/>
                </a:lnTo>
                <a:lnTo>
                  <a:pt x="1023" y="626"/>
                </a:lnTo>
                <a:lnTo>
                  <a:pt x="1024" y="1493"/>
                </a:lnTo>
                <a:lnTo>
                  <a:pt x="1025" y="1341"/>
                </a:lnTo>
                <a:lnTo>
                  <a:pt x="1028" y="1255"/>
                </a:lnTo>
                <a:lnTo>
                  <a:pt x="1029" y="1145"/>
                </a:lnTo>
                <a:lnTo>
                  <a:pt x="1030" y="1289"/>
                </a:lnTo>
                <a:lnTo>
                  <a:pt x="1031" y="1179"/>
                </a:lnTo>
                <a:lnTo>
                  <a:pt x="1032" y="886"/>
                </a:lnTo>
                <a:lnTo>
                  <a:pt x="1033" y="644"/>
                </a:lnTo>
                <a:lnTo>
                  <a:pt x="1034" y="1085"/>
                </a:lnTo>
                <a:lnTo>
                  <a:pt x="1035" y="957"/>
                </a:lnTo>
                <a:lnTo>
                  <a:pt x="1036" y="1267"/>
                </a:lnTo>
                <a:lnTo>
                  <a:pt x="1039" y="875"/>
                </a:lnTo>
                <a:lnTo>
                  <a:pt x="1040" y="1231"/>
                </a:lnTo>
                <a:lnTo>
                  <a:pt x="1041" y="997"/>
                </a:lnTo>
                <a:lnTo>
                  <a:pt x="1042" y="1026"/>
                </a:lnTo>
                <a:lnTo>
                  <a:pt x="1043" y="808"/>
                </a:lnTo>
                <a:lnTo>
                  <a:pt x="1044" y="790"/>
                </a:lnTo>
                <a:lnTo>
                  <a:pt x="1045" y="524"/>
                </a:lnTo>
                <a:lnTo>
                  <a:pt x="1047" y="1499"/>
                </a:lnTo>
                <a:lnTo>
                  <a:pt x="1048" y="1246"/>
                </a:lnTo>
                <a:lnTo>
                  <a:pt x="1049" y="921"/>
                </a:lnTo>
                <a:lnTo>
                  <a:pt x="1051" y="761"/>
                </a:lnTo>
                <a:lnTo>
                  <a:pt x="1052" y="1220"/>
                </a:lnTo>
                <a:lnTo>
                  <a:pt x="1053" y="161"/>
                </a:lnTo>
                <a:lnTo>
                  <a:pt x="1054" y="639"/>
                </a:lnTo>
                <a:lnTo>
                  <a:pt x="1055" y="592"/>
                </a:lnTo>
                <a:lnTo>
                  <a:pt x="1057" y="1072"/>
                </a:lnTo>
                <a:lnTo>
                  <a:pt x="1058" y="1030"/>
                </a:lnTo>
                <a:lnTo>
                  <a:pt x="1059" y="1353"/>
                </a:lnTo>
                <a:lnTo>
                  <a:pt x="1060" y="739"/>
                </a:lnTo>
                <a:lnTo>
                  <a:pt x="1062" y="1031"/>
                </a:lnTo>
                <a:lnTo>
                  <a:pt x="1063" y="534"/>
                </a:lnTo>
                <a:lnTo>
                  <a:pt x="1064" y="977"/>
                </a:lnTo>
                <a:lnTo>
                  <a:pt x="1065" y="1000"/>
                </a:lnTo>
                <a:lnTo>
                  <a:pt x="1067" y="1251"/>
                </a:lnTo>
                <a:lnTo>
                  <a:pt x="1068" y="951"/>
                </a:lnTo>
                <a:lnTo>
                  <a:pt x="1069" y="584"/>
                </a:lnTo>
                <a:lnTo>
                  <a:pt x="1070" y="641"/>
                </a:lnTo>
                <a:lnTo>
                  <a:pt x="1071" y="1321"/>
                </a:lnTo>
                <a:lnTo>
                  <a:pt x="1073" y="478"/>
                </a:lnTo>
                <a:lnTo>
                  <a:pt x="1074" y="1042"/>
                </a:lnTo>
                <a:lnTo>
                  <a:pt x="1076" y="1198"/>
                </a:lnTo>
                <a:lnTo>
                  <a:pt x="1077" y="740"/>
                </a:lnTo>
                <a:lnTo>
                  <a:pt x="1078" y="1143"/>
                </a:lnTo>
                <a:lnTo>
                  <a:pt x="1079" y="983"/>
                </a:lnTo>
                <a:lnTo>
                  <a:pt x="1080" y="1034"/>
                </a:lnTo>
                <a:lnTo>
                  <a:pt x="1081" y="632"/>
                </a:lnTo>
                <a:lnTo>
                  <a:pt x="1082" y="1194"/>
                </a:lnTo>
                <a:lnTo>
                  <a:pt x="1084" y="877"/>
                </a:lnTo>
                <a:lnTo>
                  <a:pt x="1086" y="449"/>
                </a:lnTo>
                <a:lnTo>
                  <a:pt x="1087" y="1219"/>
                </a:lnTo>
                <a:lnTo>
                  <a:pt x="1088" y="1458"/>
                </a:lnTo>
                <a:lnTo>
                  <a:pt x="1089" y="972"/>
                </a:lnTo>
                <a:lnTo>
                  <a:pt x="1090" y="968"/>
                </a:lnTo>
                <a:lnTo>
                  <a:pt x="1091" y="1109"/>
                </a:lnTo>
                <a:lnTo>
                  <a:pt x="1092" y="899"/>
                </a:lnTo>
                <a:lnTo>
                  <a:pt x="1093" y="957"/>
                </a:lnTo>
                <a:lnTo>
                  <a:pt x="1096" y="1093"/>
                </a:lnTo>
                <a:lnTo>
                  <a:pt x="1097" y="1095"/>
                </a:lnTo>
                <a:lnTo>
                  <a:pt x="1098" y="1056"/>
                </a:lnTo>
                <a:lnTo>
                  <a:pt x="1099" y="769"/>
                </a:lnTo>
                <a:lnTo>
                  <a:pt x="1100" y="1011"/>
                </a:lnTo>
                <a:lnTo>
                  <a:pt x="1101" y="1391"/>
                </a:lnTo>
                <a:lnTo>
                  <a:pt x="1102" y="1029"/>
                </a:lnTo>
                <a:lnTo>
                  <a:pt x="1103" y="953"/>
                </a:lnTo>
                <a:lnTo>
                  <a:pt x="1105" y="1427"/>
                </a:lnTo>
                <a:lnTo>
                  <a:pt x="1107" y="944"/>
                </a:lnTo>
                <a:lnTo>
                  <a:pt x="1108" y="1209"/>
                </a:lnTo>
                <a:lnTo>
                  <a:pt x="1109" y="445"/>
                </a:lnTo>
                <a:lnTo>
                  <a:pt x="1110" y="1065"/>
                </a:lnTo>
                <a:lnTo>
                  <a:pt x="1111" y="867"/>
                </a:lnTo>
                <a:lnTo>
                  <a:pt x="1112" y="1509"/>
                </a:lnTo>
                <a:lnTo>
                  <a:pt x="1113" y="985"/>
                </a:lnTo>
                <a:lnTo>
                  <a:pt x="1115" y="922"/>
                </a:lnTo>
                <a:lnTo>
                  <a:pt x="1116" y="692"/>
                </a:lnTo>
                <a:lnTo>
                  <a:pt x="1117" y="1169"/>
                </a:lnTo>
                <a:lnTo>
                  <a:pt x="1119" y="810"/>
                </a:lnTo>
                <a:lnTo>
                  <a:pt x="1120" y="1295"/>
                </a:lnTo>
                <a:lnTo>
                  <a:pt x="1121" y="1612"/>
                </a:lnTo>
                <a:lnTo>
                  <a:pt x="1122" y="1024"/>
                </a:lnTo>
                <a:lnTo>
                  <a:pt x="1123" y="1119"/>
                </a:lnTo>
                <a:lnTo>
                  <a:pt x="1125" y="990"/>
                </a:lnTo>
                <a:lnTo>
                  <a:pt x="1126" y="704"/>
                </a:lnTo>
                <a:lnTo>
                  <a:pt x="1127" y="1043"/>
                </a:lnTo>
                <a:lnTo>
                  <a:pt x="1128" y="1483"/>
                </a:lnTo>
                <a:lnTo>
                  <a:pt x="1130" y="859"/>
                </a:lnTo>
                <a:lnTo>
                  <a:pt x="1131" y="886"/>
                </a:lnTo>
                <a:lnTo>
                  <a:pt x="1132" y="893"/>
                </a:lnTo>
                <a:lnTo>
                  <a:pt x="1134" y="703"/>
                </a:lnTo>
                <a:lnTo>
                  <a:pt x="1135" y="1069"/>
                </a:lnTo>
                <a:lnTo>
                  <a:pt x="1136" y="1140"/>
                </a:lnTo>
                <a:lnTo>
                  <a:pt x="1137" y="1676"/>
                </a:lnTo>
                <a:lnTo>
                  <a:pt x="1138" y="634"/>
                </a:lnTo>
                <a:lnTo>
                  <a:pt x="1139" y="1435"/>
                </a:lnTo>
                <a:lnTo>
                  <a:pt x="1141" y="801"/>
                </a:lnTo>
                <a:lnTo>
                  <a:pt x="1142" y="933"/>
                </a:lnTo>
                <a:lnTo>
                  <a:pt x="1144" y="903"/>
                </a:lnTo>
                <a:lnTo>
                  <a:pt x="1145" y="743"/>
                </a:lnTo>
                <a:lnTo>
                  <a:pt x="1146" y="982"/>
                </a:lnTo>
                <a:lnTo>
                  <a:pt x="1147" y="1238"/>
                </a:lnTo>
                <a:lnTo>
                  <a:pt x="1148" y="1063"/>
                </a:lnTo>
                <a:lnTo>
                  <a:pt x="1149" y="1068"/>
                </a:lnTo>
                <a:lnTo>
                  <a:pt x="1150" y="714"/>
                </a:lnTo>
                <a:lnTo>
                  <a:pt x="1152" y="668"/>
                </a:lnTo>
                <a:lnTo>
                  <a:pt x="1154" y="1163"/>
                </a:lnTo>
                <a:lnTo>
                  <a:pt x="1155" y="1380"/>
                </a:lnTo>
                <a:lnTo>
                  <a:pt x="1156" y="1153"/>
                </a:lnTo>
                <a:lnTo>
                  <a:pt x="1157" y="935"/>
                </a:lnTo>
                <a:lnTo>
                  <a:pt x="1158" y="1197"/>
                </a:lnTo>
                <a:lnTo>
                  <a:pt x="1159" y="1705"/>
                </a:lnTo>
                <a:lnTo>
                  <a:pt x="1160" y="1205"/>
                </a:lnTo>
                <a:lnTo>
                  <a:pt x="1161" y="1345"/>
                </a:lnTo>
                <a:lnTo>
                  <a:pt x="1164" y="971"/>
                </a:lnTo>
                <a:lnTo>
                  <a:pt x="1165" y="1207"/>
                </a:lnTo>
                <a:lnTo>
                  <a:pt x="1166" y="1401"/>
                </a:lnTo>
                <a:lnTo>
                  <a:pt x="1167" y="462"/>
                </a:lnTo>
                <a:lnTo>
                  <a:pt x="1168" y="1054"/>
                </a:lnTo>
                <a:lnTo>
                  <a:pt x="1169" y="1097"/>
                </a:lnTo>
                <a:lnTo>
                  <a:pt x="1170" y="719"/>
                </a:lnTo>
                <a:lnTo>
                  <a:pt x="1171" y="1172"/>
                </a:lnTo>
                <a:lnTo>
                  <a:pt x="1173" y="856"/>
                </a:lnTo>
                <a:lnTo>
                  <a:pt x="1174" y="1160"/>
                </a:lnTo>
                <a:lnTo>
                  <a:pt x="1176" y="836"/>
                </a:lnTo>
                <a:lnTo>
                  <a:pt x="1177" y="968"/>
                </a:lnTo>
                <a:lnTo>
                  <a:pt x="1178" y="950"/>
                </a:lnTo>
                <a:lnTo>
                  <a:pt x="1179" y="838"/>
                </a:lnTo>
                <a:lnTo>
                  <a:pt x="1180" y="721"/>
                </a:lnTo>
                <a:lnTo>
                  <a:pt x="1181" y="1433"/>
                </a:lnTo>
                <a:lnTo>
                  <a:pt x="1183" y="1717"/>
                </a:lnTo>
                <a:lnTo>
                  <a:pt x="1184" y="690"/>
                </a:lnTo>
                <a:lnTo>
                  <a:pt x="1185" y="991"/>
                </a:lnTo>
                <a:lnTo>
                  <a:pt x="1187" y="844"/>
                </a:lnTo>
                <a:lnTo>
                  <a:pt x="1188" y="1145"/>
                </a:lnTo>
                <a:lnTo>
                  <a:pt x="1189" y="1201"/>
                </a:lnTo>
                <a:lnTo>
                  <a:pt x="1190" y="1068"/>
                </a:lnTo>
                <a:lnTo>
                  <a:pt x="1192" y="1407"/>
                </a:lnTo>
                <a:lnTo>
                  <a:pt x="1193" y="1003"/>
                </a:lnTo>
                <a:lnTo>
                  <a:pt x="1194" y="674"/>
                </a:lnTo>
                <a:lnTo>
                  <a:pt x="1195" y="1220"/>
                </a:lnTo>
                <a:lnTo>
                  <a:pt x="1196" y="1318"/>
                </a:lnTo>
                <a:lnTo>
                  <a:pt x="1198" y="1092"/>
                </a:lnTo>
                <a:lnTo>
                  <a:pt x="1199" y="704"/>
                </a:lnTo>
                <a:lnTo>
                  <a:pt x="1200" y="1156"/>
                </a:lnTo>
                <a:lnTo>
                  <a:pt x="1202" y="636"/>
                </a:lnTo>
                <a:lnTo>
                  <a:pt x="1203" y="352"/>
                </a:lnTo>
                <a:lnTo>
                  <a:pt x="1204" y="944"/>
                </a:lnTo>
                <a:lnTo>
                  <a:pt x="1205" y="1455"/>
                </a:lnTo>
                <a:lnTo>
                  <a:pt x="1206" y="777"/>
                </a:lnTo>
                <a:lnTo>
                  <a:pt x="1207" y="1195"/>
                </a:lnTo>
                <a:lnTo>
                  <a:pt x="1209" y="817"/>
                </a:lnTo>
                <a:lnTo>
                  <a:pt x="1211" y="1157"/>
                </a:lnTo>
                <a:lnTo>
                  <a:pt x="1212" y="1031"/>
                </a:lnTo>
                <a:lnTo>
                  <a:pt x="1213" y="1216"/>
                </a:lnTo>
                <a:lnTo>
                  <a:pt x="1214" y="904"/>
                </a:lnTo>
                <a:lnTo>
                  <a:pt x="1215" y="661"/>
                </a:lnTo>
                <a:lnTo>
                  <a:pt x="1216" y="1273"/>
                </a:lnTo>
                <a:lnTo>
                  <a:pt x="1217" y="697"/>
                </a:lnTo>
                <a:lnTo>
                  <a:pt x="1218" y="1216"/>
                </a:lnTo>
                <a:lnTo>
                  <a:pt x="1221" y="1072"/>
                </a:lnTo>
                <a:lnTo>
                  <a:pt x="1222" y="1299"/>
                </a:lnTo>
                <a:lnTo>
                  <a:pt x="1223" y="862"/>
                </a:lnTo>
                <a:lnTo>
                  <a:pt x="1224" y="1148"/>
                </a:lnTo>
                <a:lnTo>
                  <a:pt x="1225" y="834"/>
                </a:lnTo>
                <a:lnTo>
                  <a:pt x="1226" y="973"/>
                </a:lnTo>
                <a:lnTo>
                  <a:pt x="1227" y="1083"/>
                </a:lnTo>
                <a:lnTo>
                  <a:pt x="1228" y="907"/>
                </a:lnTo>
                <a:lnTo>
                  <a:pt x="1229" y="1099"/>
                </a:lnTo>
                <a:lnTo>
                  <a:pt x="1232" y="785"/>
                </a:lnTo>
                <a:lnTo>
                  <a:pt x="1233" y="997"/>
                </a:lnTo>
                <a:lnTo>
                  <a:pt x="1234" y="1123"/>
                </a:lnTo>
                <a:lnTo>
                  <a:pt x="1235" y="886"/>
                </a:lnTo>
                <a:lnTo>
                  <a:pt x="1236" y="801"/>
                </a:lnTo>
                <a:lnTo>
                  <a:pt x="1237" y="1547"/>
                </a:lnTo>
                <a:lnTo>
                  <a:pt x="1238" y="1265"/>
                </a:lnTo>
                <a:lnTo>
                  <a:pt x="1240" y="1069"/>
                </a:lnTo>
                <a:lnTo>
                  <a:pt x="1241" y="794"/>
                </a:lnTo>
                <a:lnTo>
                  <a:pt x="1242" y="333"/>
                </a:lnTo>
                <a:lnTo>
                  <a:pt x="1244" y="1029"/>
                </a:lnTo>
                <a:lnTo>
                  <a:pt x="1245" y="810"/>
                </a:lnTo>
                <a:lnTo>
                  <a:pt x="1246" y="820"/>
                </a:lnTo>
                <a:lnTo>
                  <a:pt x="1247" y="1473"/>
                </a:lnTo>
                <a:lnTo>
                  <a:pt x="1248" y="1347"/>
                </a:lnTo>
                <a:lnTo>
                  <a:pt x="1250" y="1326"/>
                </a:lnTo>
                <a:lnTo>
                  <a:pt x="1251" y="550"/>
                </a:lnTo>
                <a:lnTo>
                  <a:pt x="1252" y="886"/>
                </a:lnTo>
                <a:lnTo>
                  <a:pt x="1253" y="1044"/>
                </a:lnTo>
                <a:lnTo>
                  <a:pt x="1255" y="914"/>
                </a:lnTo>
                <a:lnTo>
                  <a:pt x="1256" y="982"/>
                </a:lnTo>
                <a:lnTo>
                  <a:pt x="1257" y="899"/>
                </a:lnTo>
                <a:lnTo>
                  <a:pt x="1258" y="979"/>
                </a:lnTo>
                <a:lnTo>
                  <a:pt x="1260" y="779"/>
                </a:lnTo>
                <a:lnTo>
                  <a:pt x="1261" y="1462"/>
                </a:lnTo>
                <a:lnTo>
                  <a:pt x="1262" y="1394"/>
                </a:lnTo>
                <a:lnTo>
                  <a:pt x="1263" y="927"/>
                </a:lnTo>
                <a:lnTo>
                  <a:pt x="1264" y="1405"/>
                </a:lnTo>
                <a:lnTo>
                  <a:pt x="1266" y="888"/>
                </a:lnTo>
                <a:lnTo>
                  <a:pt x="1267" y="1328"/>
                </a:lnTo>
                <a:lnTo>
                  <a:pt x="1269" y="917"/>
                </a:lnTo>
                <a:lnTo>
                  <a:pt x="1270" y="1005"/>
                </a:lnTo>
                <a:lnTo>
                  <a:pt x="1271" y="1108"/>
                </a:lnTo>
                <a:lnTo>
                  <a:pt x="1272" y="1230"/>
                </a:lnTo>
                <a:lnTo>
                  <a:pt x="1273" y="855"/>
                </a:lnTo>
                <a:lnTo>
                  <a:pt x="1274" y="1328"/>
                </a:lnTo>
                <a:lnTo>
                  <a:pt x="1275" y="1150"/>
                </a:lnTo>
                <a:lnTo>
                  <a:pt x="1277" y="654"/>
                </a:lnTo>
                <a:lnTo>
                  <a:pt x="1279" y="986"/>
                </a:lnTo>
                <a:lnTo>
                  <a:pt x="1280" y="1387"/>
                </a:lnTo>
                <a:lnTo>
                  <a:pt x="1281" y="1542"/>
                </a:lnTo>
                <a:lnTo>
                  <a:pt x="1282" y="1327"/>
                </a:lnTo>
                <a:lnTo>
                  <a:pt x="1283" y="610"/>
                </a:lnTo>
                <a:lnTo>
                  <a:pt x="1284" y="1031"/>
                </a:lnTo>
                <a:lnTo>
                  <a:pt x="1285" y="907"/>
                </a:lnTo>
                <a:lnTo>
                  <a:pt x="1286" y="565"/>
                </a:lnTo>
                <a:lnTo>
                  <a:pt x="1289" y="561"/>
                </a:lnTo>
                <a:lnTo>
                  <a:pt x="1290" y="886"/>
                </a:lnTo>
                <a:lnTo>
                  <a:pt x="1291" y="894"/>
                </a:lnTo>
                <a:lnTo>
                  <a:pt x="1292" y="815"/>
                </a:lnTo>
                <a:lnTo>
                  <a:pt x="1293" y="1297"/>
                </a:lnTo>
                <a:lnTo>
                  <a:pt x="1294" y="1272"/>
                </a:lnTo>
                <a:lnTo>
                  <a:pt x="1295" y="819"/>
                </a:lnTo>
                <a:lnTo>
                  <a:pt x="1296" y="1007"/>
                </a:lnTo>
                <a:lnTo>
                  <a:pt x="1298" y="857"/>
                </a:lnTo>
                <a:lnTo>
                  <a:pt x="1299" y="1288"/>
                </a:lnTo>
                <a:lnTo>
                  <a:pt x="1301" y="1459"/>
                </a:lnTo>
                <a:lnTo>
                  <a:pt x="1302" y="845"/>
                </a:lnTo>
                <a:lnTo>
                  <a:pt x="1303" y="1140"/>
                </a:lnTo>
                <a:lnTo>
                  <a:pt x="1304" y="1390"/>
                </a:lnTo>
                <a:lnTo>
                  <a:pt x="1305" y="1441"/>
                </a:lnTo>
                <a:lnTo>
                  <a:pt x="1306" y="985"/>
                </a:lnTo>
                <a:lnTo>
                  <a:pt x="1308" y="991"/>
                </a:lnTo>
                <a:lnTo>
                  <a:pt x="1309" y="1091"/>
                </a:lnTo>
                <a:lnTo>
                  <a:pt x="1310" y="987"/>
                </a:lnTo>
                <a:lnTo>
                  <a:pt x="1312" y="921"/>
                </a:lnTo>
                <a:lnTo>
                  <a:pt x="1313" y="1004"/>
                </a:lnTo>
                <a:lnTo>
                  <a:pt x="1314" y="1192"/>
                </a:lnTo>
                <a:lnTo>
                  <a:pt x="1315" y="716"/>
                </a:lnTo>
                <a:lnTo>
                  <a:pt x="1316" y="1251"/>
                </a:lnTo>
                <a:lnTo>
                  <a:pt x="1318" y="743"/>
                </a:lnTo>
                <a:lnTo>
                  <a:pt x="1319" y="1005"/>
                </a:lnTo>
                <a:lnTo>
                  <a:pt x="1320" y="436"/>
                </a:lnTo>
                <a:lnTo>
                  <a:pt x="1321" y="1158"/>
                </a:lnTo>
                <a:lnTo>
                  <a:pt x="1323" y="857"/>
                </a:lnTo>
                <a:lnTo>
                  <a:pt x="1324" y="789"/>
                </a:lnTo>
                <a:lnTo>
                  <a:pt x="1325" y="476"/>
                </a:lnTo>
                <a:lnTo>
                  <a:pt x="1327" y="853"/>
                </a:lnTo>
                <a:lnTo>
                  <a:pt x="1328" y="1219"/>
                </a:lnTo>
                <a:lnTo>
                  <a:pt x="1329" y="1357"/>
                </a:lnTo>
                <a:lnTo>
                  <a:pt x="1330" y="648"/>
                </a:lnTo>
                <a:lnTo>
                  <a:pt x="1331" y="1583"/>
                </a:lnTo>
                <a:lnTo>
                  <a:pt x="1332" y="786"/>
                </a:lnTo>
                <a:lnTo>
                  <a:pt x="1334" y="615"/>
                </a:lnTo>
                <a:lnTo>
                  <a:pt x="1335" y="685"/>
                </a:lnTo>
                <a:lnTo>
                  <a:pt x="1337" y="1378"/>
                </a:lnTo>
                <a:lnTo>
                  <a:pt x="1338" y="1132"/>
                </a:lnTo>
                <a:lnTo>
                  <a:pt x="1339" y="1237"/>
                </a:lnTo>
                <a:lnTo>
                  <a:pt x="1340" y="1024"/>
                </a:lnTo>
                <a:lnTo>
                  <a:pt x="1341" y="765"/>
                </a:lnTo>
                <a:lnTo>
                  <a:pt x="1342" y="1013"/>
                </a:lnTo>
                <a:lnTo>
                  <a:pt x="1343" y="759"/>
                </a:lnTo>
                <a:lnTo>
                  <a:pt x="1345" y="1221"/>
                </a:lnTo>
                <a:lnTo>
                  <a:pt x="1347" y="1196"/>
                </a:lnTo>
                <a:lnTo>
                  <a:pt x="1348" y="1121"/>
                </a:lnTo>
                <a:lnTo>
                  <a:pt x="1349" y="892"/>
                </a:lnTo>
                <a:lnTo>
                  <a:pt x="1350" y="1091"/>
                </a:lnTo>
                <a:lnTo>
                  <a:pt x="1351" y="990"/>
                </a:lnTo>
                <a:lnTo>
                  <a:pt x="1352" y="1215"/>
                </a:lnTo>
                <a:lnTo>
                  <a:pt x="1353" y="654"/>
                </a:lnTo>
                <a:lnTo>
                  <a:pt x="1354" y="1021"/>
                </a:lnTo>
                <a:lnTo>
                  <a:pt x="1357" y="1177"/>
                </a:lnTo>
                <a:lnTo>
                  <a:pt x="1358" y="629"/>
                </a:lnTo>
                <a:lnTo>
                  <a:pt x="1359" y="1062"/>
                </a:lnTo>
                <a:lnTo>
                  <a:pt x="1360" y="697"/>
                </a:lnTo>
                <a:lnTo>
                  <a:pt x="1361" y="536"/>
                </a:lnTo>
                <a:lnTo>
                  <a:pt x="1362" y="1775"/>
                </a:lnTo>
                <a:lnTo>
                  <a:pt x="1363" y="581"/>
                </a:lnTo>
                <a:lnTo>
                  <a:pt x="1364" y="1390"/>
                </a:lnTo>
                <a:lnTo>
                  <a:pt x="1366" y="1149"/>
                </a:lnTo>
                <a:lnTo>
                  <a:pt x="1367" y="720"/>
                </a:lnTo>
                <a:lnTo>
                  <a:pt x="1369" y="983"/>
                </a:lnTo>
                <a:lnTo>
                  <a:pt x="1370" y="1172"/>
                </a:lnTo>
                <a:lnTo>
                  <a:pt x="1371" y="1113"/>
                </a:lnTo>
                <a:lnTo>
                  <a:pt x="1372" y="1265"/>
                </a:lnTo>
                <a:lnTo>
                  <a:pt x="1373" y="927"/>
                </a:lnTo>
                <a:lnTo>
                  <a:pt x="1374" y="808"/>
                </a:lnTo>
                <a:lnTo>
                  <a:pt x="1376" y="903"/>
                </a:lnTo>
                <a:lnTo>
                  <a:pt x="1377" y="370"/>
                </a:lnTo>
                <a:lnTo>
                  <a:pt x="1378" y="841"/>
                </a:lnTo>
                <a:lnTo>
                  <a:pt x="1380" y="968"/>
                </a:lnTo>
                <a:lnTo>
                  <a:pt x="1381" y="403"/>
                </a:lnTo>
                <a:lnTo>
                  <a:pt x="1382" y="1089"/>
                </a:lnTo>
                <a:lnTo>
                  <a:pt x="1383" y="1137"/>
                </a:lnTo>
                <a:lnTo>
                  <a:pt x="1385" y="1039"/>
                </a:lnTo>
                <a:lnTo>
                  <a:pt x="1386" y="870"/>
                </a:lnTo>
                <a:lnTo>
                  <a:pt x="1387" y="899"/>
                </a:lnTo>
                <a:lnTo>
                  <a:pt x="1388" y="1286"/>
                </a:lnTo>
                <a:lnTo>
                  <a:pt x="1389" y="551"/>
                </a:lnTo>
                <a:lnTo>
                  <a:pt x="1391" y="925"/>
                </a:lnTo>
                <a:lnTo>
                  <a:pt x="1392" y="1431"/>
                </a:lnTo>
                <a:lnTo>
                  <a:pt x="1393" y="1329"/>
                </a:lnTo>
                <a:lnTo>
                  <a:pt x="1395" y="894"/>
                </a:lnTo>
                <a:lnTo>
                  <a:pt x="1396" y="1470"/>
                </a:lnTo>
                <a:lnTo>
                  <a:pt x="1397" y="582"/>
                </a:lnTo>
                <a:lnTo>
                  <a:pt x="1398" y="1130"/>
                </a:lnTo>
                <a:lnTo>
                  <a:pt x="1399" y="945"/>
                </a:lnTo>
                <a:lnTo>
                  <a:pt x="1400" y="1251"/>
                </a:lnTo>
                <a:lnTo>
                  <a:pt x="1402" y="1816"/>
                </a:lnTo>
                <a:lnTo>
                  <a:pt x="1403" y="634"/>
                </a:lnTo>
                <a:lnTo>
                  <a:pt x="1405" y="1531"/>
                </a:lnTo>
                <a:lnTo>
                  <a:pt x="1406" y="683"/>
                </a:lnTo>
                <a:lnTo>
                  <a:pt x="1407" y="1210"/>
                </a:lnTo>
                <a:lnTo>
                  <a:pt x="1408" y="1128"/>
                </a:lnTo>
                <a:lnTo>
                  <a:pt x="1409" y="394"/>
                </a:lnTo>
                <a:lnTo>
                  <a:pt x="1410" y="1350"/>
                </a:lnTo>
                <a:lnTo>
                  <a:pt x="1411" y="987"/>
                </a:lnTo>
                <a:lnTo>
                  <a:pt x="1414" y="1000"/>
                </a:lnTo>
                <a:lnTo>
                  <a:pt x="1415" y="1082"/>
                </a:lnTo>
                <a:lnTo>
                  <a:pt x="1416" y="845"/>
                </a:lnTo>
                <a:lnTo>
                  <a:pt x="1417" y="1061"/>
                </a:lnTo>
                <a:lnTo>
                  <a:pt x="1418" y="1219"/>
                </a:lnTo>
                <a:lnTo>
                  <a:pt x="1419" y="1422"/>
                </a:lnTo>
                <a:lnTo>
                  <a:pt x="1420" y="473"/>
                </a:lnTo>
                <a:lnTo>
                  <a:pt x="1421" y="791"/>
                </a:lnTo>
                <a:lnTo>
                  <a:pt x="1422" y="1317"/>
                </a:lnTo>
                <a:lnTo>
                  <a:pt x="1424" y="751"/>
                </a:lnTo>
                <a:lnTo>
                  <a:pt x="1426" y="1093"/>
                </a:lnTo>
                <a:lnTo>
                  <a:pt x="1427" y="817"/>
                </a:lnTo>
                <a:lnTo>
                  <a:pt x="1428" y="1249"/>
                </a:lnTo>
                <a:lnTo>
                  <a:pt x="1429" y="1088"/>
                </a:lnTo>
                <a:lnTo>
                  <a:pt x="1430" y="912"/>
                </a:lnTo>
                <a:lnTo>
                  <a:pt x="1431" y="699"/>
                </a:lnTo>
                <a:lnTo>
                  <a:pt x="1432" y="1063"/>
                </a:lnTo>
                <a:lnTo>
                  <a:pt x="1434" y="745"/>
                </a:lnTo>
                <a:lnTo>
                  <a:pt x="1435" y="682"/>
                </a:lnTo>
                <a:lnTo>
                  <a:pt x="1437" y="1131"/>
                </a:lnTo>
                <a:lnTo>
                  <a:pt x="1438" y="931"/>
                </a:lnTo>
                <a:lnTo>
                  <a:pt x="1439" y="68"/>
                </a:lnTo>
                <a:lnTo>
                  <a:pt x="1440" y="649"/>
                </a:lnTo>
                <a:lnTo>
                  <a:pt x="1441" y="835"/>
                </a:lnTo>
                <a:lnTo>
                  <a:pt x="1443" y="766"/>
                </a:lnTo>
                <a:lnTo>
                  <a:pt x="1444" y="1456"/>
                </a:lnTo>
                <a:lnTo>
                  <a:pt x="1445" y="835"/>
                </a:lnTo>
                <a:lnTo>
                  <a:pt x="1446" y="1224"/>
                </a:lnTo>
                <a:lnTo>
                  <a:pt x="1448" y="1119"/>
                </a:lnTo>
                <a:lnTo>
                  <a:pt x="1449" y="899"/>
                </a:lnTo>
                <a:lnTo>
                  <a:pt x="1450" y="1005"/>
                </a:lnTo>
                <a:lnTo>
                  <a:pt x="1451" y="1292"/>
                </a:lnTo>
                <a:lnTo>
                  <a:pt x="1453" y="1100"/>
                </a:lnTo>
                <a:lnTo>
                  <a:pt x="1454" y="1118"/>
                </a:lnTo>
                <a:lnTo>
                  <a:pt x="1455" y="1128"/>
                </a:lnTo>
                <a:lnTo>
                  <a:pt x="1456" y="670"/>
                </a:lnTo>
                <a:lnTo>
                  <a:pt x="1457" y="1471"/>
                </a:lnTo>
                <a:lnTo>
                  <a:pt x="1459" y="1411"/>
                </a:lnTo>
                <a:lnTo>
                  <a:pt x="1460" y="1150"/>
                </a:lnTo>
                <a:lnTo>
                  <a:pt x="1462" y="951"/>
                </a:lnTo>
                <a:lnTo>
                  <a:pt x="1463" y="1007"/>
                </a:lnTo>
                <a:lnTo>
                  <a:pt x="1464" y="916"/>
                </a:lnTo>
                <a:lnTo>
                  <a:pt x="1465" y="1285"/>
                </a:lnTo>
                <a:lnTo>
                  <a:pt x="1466" y="728"/>
                </a:lnTo>
                <a:lnTo>
                  <a:pt x="1467" y="267"/>
                </a:lnTo>
                <a:lnTo>
                  <a:pt x="1468" y="1609"/>
                </a:lnTo>
                <a:lnTo>
                  <a:pt x="1470" y="1011"/>
                </a:lnTo>
                <a:lnTo>
                  <a:pt x="1472" y="1067"/>
                </a:lnTo>
                <a:lnTo>
                  <a:pt x="1473" y="811"/>
                </a:lnTo>
                <a:lnTo>
                  <a:pt x="1474" y="1304"/>
                </a:lnTo>
                <a:lnTo>
                  <a:pt x="1475" y="1264"/>
                </a:lnTo>
                <a:lnTo>
                  <a:pt x="1476" y="621"/>
                </a:lnTo>
                <a:lnTo>
                  <a:pt x="1477" y="1387"/>
                </a:lnTo>
                <a:lnTo>
                  <a:pt x="1478" y="1113"/>
                </a:lnTo>
                <a:lnTo>
                  <a:pt x="1479" y="1157"/>
                </a:lnTo>
                <a:lnTo>
                  <a:pt x="1482" y="606"/>
                </a:lnTo>
                <a:lnTo>
                  <a:pt x="1483" y="860"/>
                </a:lnTo>
                <a:lnTo>
                  <a:pt x="1484" y="1517"/>
                </a:lnTo>
                <a:lnTo>
                  <a:pt x="1485" y="1140"/>
                </a:lnTo>
                <a:lnTo>
                  <a:pt x="1486" y="873"/>
                </a:lnTo>
                <a:lnTo>
                  <a:pt x="1487" y="916"/>
                </a:lnTo>
                <a:lnTo>
                  <a:pt x="1488" y="774"/>
                </a:lnTo>
                <a:lnTo>
                  <a:pt x="1489" y="1409"/>
                </a:lnTo>
                <a:lnTo>
                  <a:pt x="1491" y="951"/>
                </a:lnTo>
                <a:lnTo>
                  <a:pt x="1492" y="1024"/>
                </a:lnTo>
                <a:lnTo>
                  <a:pt x="1494" y="1378"/>
                </a:lnTo>
                <a:lnTo>
                  <a:pt x="1495" y="864"/>
                </a:lnTo>
                <a:lnTo>
                  <a:pt x="1496" y="937"/>
                </a:lnTo>
                <a:lnTo>
                  <a:pt x="1497" y="605"/>
                </a:lnTo>
                <a:lnTo>
                  <a:pt x="1498" y="867"/>
                </a:lnTo>
                <a:lnTo>
                  <a:pt x="1499" y="685"/>
                </a:lnTo>
                <a:lnTo>
                  <a:pt x="1501" y="1103"/>
                </a:lnTo>
                <a:lnTo>
                  <a:pt x="1502" y="1270"/>
                </a:lnTo>
                <a:lnTo>
                  <a:pt x="1503" y="916"/>
                </a:lnTo>
                <a:lnTo>
                  <a:pt x="1505" y="780"/>
                </a:lnTo>
                <a:lnTo>
                  <a:pt x="1506" y="747"/>
                </a:lnTo>
                <a:lnTo>
                  <a:pt x="1507" y="1009"/>
                </a:lnTo>
                <a:lnTo>
                  <a:pt x="1508" y="1137"/>
                </a:lnTo>
                <a:lnTo>
                  <a:pt x="1509" y="1077"/>
                </a:lnTo>
                <a:lnTo>
                  <a:pt x="1511" y="645"/>
                </a:lnTo>
                <a:lnTo>
                  <a:pt x="1512" y="781"/>
                </a:lnTo>
                <a:lnTo>
                  <a:pt x="1513" y="1187"/>
                </a:lnTo>
                <a:lnTo>
                  <a:pt x="1514" y="1010"/>
                </a:lnTo>
                <a:lnTo>
                  <a:pt x="1516" y="1306"/>
                </a:lnTo>
                <a:lnTo>
                  <a:pt x="1517" y="1385"/>
                </a:lnTo>
                <a:lnTo>
                  <a:pt x="1518" y="1005"/>
                </a:lnTo>
                <a:lnTo>
                  <a:pt x="1520" y="875"/>
                </a:lnTo>
                <a:lnTo>
                  <a:pt x="1521" y="1033"/>
                </a:lnTo>
                <a:lnTo>
                  <a:pt x="1522" y="759"/>
                </a:lnTo>
                <a:lnTo>
                  <a:pt x="1523" y="1521"/>
                </a:lnTo>
                <a:lnTo>
                  <a:pt x="1524" y="813"/>
                </a:lnTo>
                <a:lnTo>
                  <a:pt x="1525" y="844"/>
                </a:lnTo>
                <a:lnTo>
                  <a:pt x="1527" y="1084"/>
                </a:lnTo>
                <a:lnTo>
                  <a:pt x="1528" y="1275"/>
                </a:lnTo>
                <a:lnTo>
                  <a:pt x="1530" y="750"/>
                </a:lnTo>
                <a:lnTo>
                  <a:pt x="1531" y="977"/>
                </a:lnTo>
                <a:lnTo>
                  <a:pt x="1532" y="811"/>
                </a:lnTo>
                <a:lnTo>
                  <a:pt x="1533" y="899"/>
                </a:lnTo>
                <a:lnTo>
                  <a:pt x="1534" y="993"/>
                </a:lnTo>
                <a:lnTo>
                  <a:pt x="1535" y="971"/>
                </a:lnTo>
                <a:lnTo>
                  <a:pt x="1536" y="1090"/>
                </a:lnTo>
                <a:lnTo>
                  <a:pt x="1538" y="839"/>
                </a:lnTo>
                <a:lnTo>
                  <a:pt x="1540" y="888"/>
                </a:lnTo>
                <a:lnTo>
                  <a:pt x="1541" y="585"/>
                </a:lnTo>
                <a:lnTo>
                  <a:pt x="1542" y="1528"/>
                </a:lnTo>
                <a:lnTo>
                  <a:pt x="1543" y="931"/>
                </a:lnTo>
                <a:lnTo>
                  <a:pt x="1544" y="1300"/>
                </a:lnTo>
                <a:lnTo>
                  <a:pt x="1545" y="1306"/>
                </a:lnTo>
                <a:lnTo>
                  <a:pt x="1546" y="641"/>
                </a:lnTo>
                <a:lnTo>
                  <a:pt x="1547" y="1391"/>
                </a:lnTo>
                <a:lnTo>
                  <a:pt x="1549" y="1058"/>
                </a:lnTo>
                <a:lnTo>
                  <a:pt x="1551" y="876"/>
                </a:lnTo>
                <a:lnTo>
                  <a:pt x="1552" y="1346"/>
                </a:lnTo>
                <a:lnTo>
                  <a:pt x="1553" y="1000"/>
                </a:lnTo>
                <a:lnTo>
                  <a:pt x="1554" y="424"/>
                </a:lnTo>
                <a:lnTo>
                  <a:pt x="1555" y="660"/>
                </a:lnTo>
                <a:lnTo>
                  <a:pt x="1556" y="1005"/>
                </a:lnTo>
                <a:lnTo>
                  <a:pt x="1557" y="610"/>
                </a:lnTo>
                <a:lnTo>
                  <a:pt x="1559" y="265"/>
                </a:lnTo>
                <a:lnTo>
                  <a:pt x="1560" y="782"/>
                </a:lnTo>
                <a:lnTo>
                  <a:pt x="1562" y="1267"/>
                </a:lnTo>
                <a:lnTo>
                  <a:pt x="1563" y="1548"/>
                </a:lnTo>
                <a:lnTo>
                  <a:pt x="1564" y="927"/>
                </a:lnTo>
                <a:lnTo>
                  <a:pt x="1565" y="985"/>
                </a:lnTo>
                <a:lnTo>
                  <a:pt x="1566" y="1169"/>
                </a:lnTo>
                <a:lnTo>
                  <a:pt x="1567" y="828"/>
                </a:lnTo>
                <a:lnTo>
                  <a:pt x="1569" y="563"/>
                </a:lnTo>
                <a:lnTo>
                  <a:pt x="1570" y="1067"/>
                </a:lnTo>
                <a:lnTo>
                  <a:pt x="1571" y="960"/>
                </a:lnTo>
                <a:lnTo>
                  <a:pt x="1573" y="848"/>
                </a:lnTo>
                <a:lnTo>
                  <a:pt x="1574" y="1094"/>
                </a:lnTo>
                <a:lnTo>
                  <a:pt x="1575" y="514"/>
                </a:lnTo>
                <a:lnTo>
                  <a:pt x="1576" y="1221"/>
                </a:lnTo>
                <a:lnTo>
                  <a:pt x="1578" y="983"/>
                </a:lnTo>
                <a:lnTo>
                  <a:pt x="1579" y="563"/>
                </a:lnTo>
                <a:lnTo>
                  <a:pt x="1580" y="1392"/>
                </a:lnTo>
                <a:lnTo>
                  <a:pt x="1581" y="1214"/>
                </a:lnTo>
                <a:lnTo>
                  <a:pt x="1582" y="1339"/>
                </a:lnTo>
                <a:lnTo>
                  <a:pt x="1584" y="1220"/>
                </a:lnTo>
                <a:lnTo>
                  <a:pt x="1585" y="986"/>
                </a:lnTo>
                <a:lnTo>
                  <a:pt x="1586" y="790"/>
                </a:lnTo>
                <a:lnTo>
                  <a:pt x="1588" y="1162"/>
                </a:lnTo>
                <a:lnTo>
                  <a:pt x="1589" y="1098"/>
                </a:lnTo>
                <a:lnTo>
                  <a:pt x="1590" y="1532"/>
                </a:lnTo>
                <a:lnTo>
                  <a:pt x="1591" y="1087"/>
                </a:lnTo>
                <a:lnTo>
                  <a:pt x="1592" y="1091"/>
                </a:lnTo>
                <a:lnTo>
                  <a:pt x="1593" y="1319"/>
                </a:lnTo>
                <a:lnTo>
                  <a:pt x="1595" y="710"/>
                </a:lnTo>
                <a:lnTo>
                  <a:pt x="1596" y="874"/>
                </a:lnTo>
                <a:lnTo>
                  <a:pt x="1598" y="882"/>
                </a:lnTo>
                <a:lnTo>
                  <a:pt x="1599" y="1696"/>
                </a:lnTo>
                <a:lnTo>
                  <a:pt x="1600" y="820"/>
                </a:lnTo>
                <a:lnTo>
                  <a:pt x="1601" y="965"/>
                </a:lnTo>
                <a:lnTo>
                  <a:pt x="1602" y="877"/>
                </a:lnTo>
                <a:lnTo>
                  <a:pt x="1603" y="1373"/>
                </a:lnTo>
                <a:lnTo>
                  <a:pt x="1604" y="833"/>
                </a:lnTo>
                <a:lnTo>
                  <a:pt x="1607" y="888"/>
                </a:lnTo>
                <a:lnTo>
                  <a:pt x="1608" y="1136"/>
                </a:lnTo>
                <a:lnTo>
                  <a:pt x="1609" y="1019"/>
                </a:lnTo>
                <a:lnTo>
                  <a:pt x="1610" y="943"/>
                </a:lnTo>
                <a:lnTo>
                  <a:pt x="1611" y="1132"/>
                </a:lnTo>
                <a:lnTo>
                  <a:pt x="1612" y="799"/>
                </a:lnTo>
                <a:lnTo>
                  <a:pt x="1613" y="376"/>
                </a:lnTo>
                <a:lnTo>
                  <a:pt x="1614" y="338"/>
                </a:lnTo>
                <a:lnTo>
                  <a:pt x="1615" y="951"/>
                </a:lnTo>
                <a:lnTo>
                  <a:pt x="1617" y="979"/>
                </a:lnTo>
                <a:lnTo>
                  <a:pt x="1619" y="961"/>
                </a:lnTo>
                <a:lnTo>
                  <a:pt x="1620" y="1151"/>
                </a:lnTo>
                <a:lnTo>
                  <a:pt x="1621" y="1215"/>
                </a:lnTo>
                <a:lnTo>
                  <a:pt x="1622" y="1146"/>
                </a:lnTo>
                <a:lnTo>
                  <a:pt x="1623" y="602"/>
                </a:lnTo>
                <a:lnTo>
                  <a:pt x="1624" y="952"/>
                </a:lnTo>
                <a:lnTo>
                  <a:pt x="1625" y="1127"/>
                </a:lnTo>
                <a:lnTo>
                  <a:pt x="1627" y="1186"/>
                </a:lnTo>
                <a:lnTo>
                  <a:pt x="1628" y="915"/>
                </a:lnTo>
                <a:lnTo>
                  <a:pt x="1630" y="1093"/>
                </a:lnTo>
                <a:lnTo>
                  <a:pt x="1631" y="1250"/>
                </a:lnTo>
                <a:lnTo>
                  <a:pt x="1632" y="631"/>
                </a:lnTo>
                <a:lnTo>
                  <a:pt x="1633" y="1168"/>
                </a:lnTo>
                <a:lnTo>
                  <a:pt x="1634" y="1061"/>
                </a:lnTo>
                <a:lnTo>
                  <a:pt x="1636" y="1007"/>
                </a:lnTo>
                <a:lnTo>
                  <a:pt x="1637" y="941"/>
                </a:lnTo>
                <a:lnTo>
                  <a:pt x="1638" y="1005"/>
                </a:lnTo>
                <a:lnTo>
                  <a:pt x="1639" y="892"/>
                </a:lnTo>
                <a:lnTo>
                  <a:pt x="1641" y="1265"/>
                </a:lnTo>
                <a:lnTo>
                  <a:pt x="1642" y="1007"/>
                </a:lnTo>
                <a:lnTo>
                  <a:pt x="1643" y="1109"/>
                </a:lnTo>
                <a:lnTo>
                  <a:pt x="1644" y="1577"/>
                </a:lnTo>
                <a:lnTo>
                  <a:pt x="1646" y="841"/>
                </a:lnTo>
                <a:lnTo>
                  <a:pt x="1647" y="983"/>
                </a:lnTo>
                <a:lnTo>
                  <a:pt x="1648" y="1147"/>
                </a:lnTo>
                <a:lnTo>
                  <a:pt x="1649" y="991"/>
                </a:lnTo>
                <a:lnTo>
                  <a:pt x="1650" y="694"/>
                </a:lnTo>
                <a:lnTo>
                  <a:pt x="1652" y="929"/>
                </a:lnTo>
                <a:lnTo>
                  <a:pt x="1653" y="527"/>
                </a:lnTo>
                <a:lnTo>
                  <a:pt x="1654" y="623"/>
                </a:lnTo>
                <a:lnTo>
                  <a:pt x="1656" y="1169"/>
                </a:lnTo>
                <a:lnTo>
                  <a:pt x="1657" y="1269"/>
                </a:lnTo>
                <a:lnTo>
                  <a:pt x="1658" y="869"/>
                </a:lnTo>
                <a:lnTo>
                  <a:pt x="1659" y="781"/>
                </a:lnTo>
                <a:lnTo>
                  <a:pt x="1660" y="984"/>
                </a:lnTo>
                <a:lnTo>
                  <a:pt x="1661" y="1140"/>
                </a:lnTo>
                <a:lnTo>
                  <a:pt x="1663" y="1120"/>
                </a:lnTo>
                <a:lnTo>
                  <a:pt x="1665" y="1259"/>
                </a:lnTo>
                <a:lnTo>
                  <a:pt x="1666" y="1293"/>
                </a:lnTo>
                <a:lnTo>
                  <a:pt x="1667" y="1073"/>
                </a:lnTo>
                <a:lnTo>
                  <a:pt x="1668" y="1050"/>
                </a:lnTo>
                <a:lnTo>
                  <a:pt x="1669" y="1546"/>
                </a:lnTo>
                <a:lnTo>
                  <a:pt x="1670" y="1532"/>
                </a:lnTo>
                <a:lnTo>
                  <a:pt x="1671" y="419"/>
                </a:lnTo>
                <a:lnTo>
                  <a:pt x="1672" y="813"/>
                </a:lnTo>
                <a:lnTo>
                  <a:pt x="1673" y="1336"/>
                </a:lnTo>
                <a:lnTo>
                  <a:pt x="1676" y="1610"/>
                </a:lnTo>
                <a:lnTo>
                  <a:pt x="1677" y="740"/>
                </a:lnTo>
                <a:lnTo>
                  <a:pt x="1678" y="740"/>
                </a:lnTo>
                <a:lnTo>
                  <a:pt x="1679" y="1209"/>
                </a:lnTo>
                <a:lnTo>
                  <a:pt x="1680" y="1216"/>
                </a:lnTo>
                <a:lnTo>
                  <a:pt x="1681" y="748"/>
                </a:lnTo>
                <a:lnTo>
                  <a:pt x="1682" y="799"/>
                </a:lnTo>
                <a:lnTo>
                  <a:pt x="1683" y="1360"/>
                </a:lnTo>
                <a:lnTo>
                  <a:pt x="1685" y="1295"/>
                </a:lnTo>
                <a:lnTo>
                  <a:pt x="1687" y="787"/>
                </a:lnTo>
                <a:lnTo>
                  <a:pt x="1688" y="1168"/>
                </a:lnTo>
                <a:lnTo>
                  <a:pt x="1689" y="985"/>
                </a:lnTo>
                <a:lnTo>
                  <a:pt x="1690" y="1659"/>
                </a:lnTo>
                <a:lnTo>
                  <a:pt x="1691" y="1509"/>
                </a:lnTo>
                <a:lnTo>
                  <a:pt x="1692" y="798"/>
                </a:lnTo>
                <a:lnTo>
                  <a:pt x="1694" y="1192"/>
                </a:lnTo>
                <a:lnTo>
                  <a:pt x="1695" y="830"/>
                </a:lnTo>
                <a:lnTo>
                  <a:pt x="1696" y="1179"/>
                </a:lnTo>
                <a:lnTo>
                  <a:pt x="1698" y="384"/>
                </a:lnTo>
                <a:lnTo>
                  <a:pt x="1699" y="1171"/>
                </a:lnTo>
                <a:lnTo>
                  <a:pt x="1700" y="1293"/>
                </a:lnTo>
                <a:lnTo>
                  <a:pt x="1701" y="845"/>
                </a:lnTo>
                <a:lnTo>
                  <a:pt x="1702" y="1423"/>
                </a:lnTo>
                <a:lnTo>
                  <a:pt x="1704" y="821"/>
                </a:lnTo>
                <a:lnTo>
                  <a:pt x="1705" y="975"/>
                </a:lnTo>
                <a:lnTo>
                  <a:pt x="1706" y="630"/>
                </a:lnTo>
                <a:lnTo>
                  <a:pt x="1707" y="1305"/>
                </a:lnTo>
                <a:lnTo>
                  <a:pt x="1709" y="931"/>
                </a:lnTo>
                <a:lnTo>
                  <a:pt x="1710" y="1133"/>
                </a:lnTo>
                <a:lnTo>
                  <a:pt x="1711" y="742"/>
                </a:lnTo>
                <a:lnTo>
                  <a:pt x="1713" y="707"/>
                </a:lnTo>
                <a:lnTo>
                  <a:pt x="1714" y="677"/>
                </a:lnTo>
                <a:lnTo>
                  <a:pt x="1715" y="966"/>
                </a:lnTo>
                <a:lnTo>
                  <a:pt x="1716" y="1081"/>
                </a:lnTo>
                <a:lnTo>
                  <a:pt x="1717" y="1343"/>
                </a:lnTo>
                <a:lnTo>
                  <a:pt x="1718" y="1155"/>
                </a:lnTo>
                <a:lnTo>
                  <a:pt x="1720" y="924"/>
                </a:lnTo>
                <a:lnTo>
                  <a:pt x="1721" y="1035"/>
                </a:lnTo>
                <a:lnTo>
                  <a:pt x="1723" y="625"/>
                </a:lnTo>
                <a:lnTo>
                  <a:pt x="1724" y="1396"/>
                </a:lnTo>
                <a:lnTo>
                  <a:pt x="1725" y="1075"/>
                </a:lnTo>
                <a:lnTo>
                  <a:pt x="1726" y="1430"/>
                </a:lnTo>
                <a:lnTo>
                  <a:pt x="1727" y="1261"/>
                </a:lnTo>
                <a:lnTo>
                  <a:pt x="1728" y="1357"/>
                </a:lnTo>
                <a:lnTo>
                  <a:pt x="1729" y="1375"/>
                </a:lnTo>
                <a:lnTo>
                  <a:pt x="1731" y="840"/>
                </a:lnTo>
                <a:lnTo>
                  <a:pt x="1733" y="964"/>
                </a:lnTo>
                <a:lnTo>
                  <a:pt x="1734" y="1032"/>
                </a:lnTo>
                <a:lnTo>
                  <a:pt x="1735" y="1019"/>
                </a:lnTo>
                <a:lnTo>
                  <a:pt x="1736" y="1011"/>
                </a:lnTo>
                <a:lnTo>
                  <a:pt x="1737" y="1041"/>
                </a:lnTo>
                <a:lnTo>
                  <a:pt x="1738" y="752"/>
                </a:lnTo>
                <a:lnTo>
                  <a:pt x="1739" y="1137"/>
                </a:lnTo>
                <a:lnTo>
                  <a:pt x="1740" y="1374"/>
                </a:lnTo>
                <a:lnTo>
                  <a:pt x="1742" y="1074"/>
                </a:lnTo>
                <a:lnTo>
                  <a:pt x="1744" y="537"/>
                </a:lnTo>
                <a:lnTo>
                  <a:pt x="1745" y="1016"/>
                </a:lnTo>
                <a:lnTo>
                  <a:pt x="1746" y="1095"/>
                </a:lnTo>
                <a:lnTo>
                  <a:pt x="1747" y="595"/>
                </a:lnTo>
                <a:lnTo>
                  <a:pt x="1748" y="1308"/>
                </a:lnTo>
                <a:lnTo>
                  <a:pt x="1749" y="1306"/>
                </a:lnTo>
                <a:lnTo>
                  <a:pt x="1750" y="1239"/>
                </a:lnTo>
                <a:lnTo>
                  <a:pt x="1752" y="645"/>
                </a:lnTo>
                <a:lnTo>
                  <a:pt x="1753" y="1247"/>
                </a:lnTo>
                <a:lnTo>
                  <a:pt x="1755" y="1246"/>
                </a:lnTo>
                <a:lnTo>
                  <a:pt x="1756" y="913"/>
                </a:lnTo>
                <a:lnTo>
                  <a:pt x="1757" y="1072"/>
                </a:lnTo>
                <a:lnTo>
                  <a:pt x="1758" y="941"/>
                </a:lnTo>
                <a:lnTo>
                  <a:pt x="1759" y="1241"/>
                </a:lnTo>
                <a:lnTo>
                  <a:pt x="1760" y="1101"/>
                </a:lnTo>
                <a:lnTo>
                  <a:pt x="1762" y="952"/>
                </a:lnTo>
                <a:lnTo>
                  <a:pt x="1763" y="596"/>
                </a:lnTo>
                <a:lnTo>
                  <a:pt x="1764" y="1029"/>
                </a:lnTo>
                <a:lnTo>
                  <a:pt x="1766" y="1445"/>
                </a:lnTo>
                <a:lnTo>
                  <a:pt x="1767" y="810"/>
                </a:lnTo>
                <a:lnTo>
                  <a:pt x="1768" y="498"/>
                </a:lnTo>
                <a:lnTo>
                  <a:pt x="1769" y="1532"/>
                </a:lnTo>
                <a:lnTo>
                  <a:pt x="1771" y="534"/>
                </a:lnTo>
                <a:lnTo>
                  <a:pt x="1772" y="1121"/>
                </a:lnTo>
                <a:lnTo>
                  <a:pt x="1773" y="935"/>
                </a:lnTo>
                <a:lnTo>
                  <a:pt x="1774" y="480"/>
                </a:lnTo>
                <a:lnTo>
                  <a:pt x="1775" y="963"/>
                </a:lnTo>
                <a:lnTo>
                  <a:pt x="1777" y="710"/>
                </a:lnTo>
                <a:lnTo>
                  <a:pt x="1778" y="879"/>
                </a:lnTo>
                <a:lnTo>
                  <a:pt x="1779" y="1120"/>
                </a:lnTo>
                <a:lnTo>
                  <a:pt x="1781" y="1103"/>
                </a:lnTo>
                <a:lnTo>
                  <a:pt x="1782" y="813"/>
                </a:lnTo>
                <a:lnTo>
                  <a:pt x="1783" y="889"/>
                </a:lnTo>
                <a:lnTo>
                  <a:pt x="1784" y="924"/>
                </a:lnTo>
                <a:lnTo>
                  <a:pt x="1785" y="1162"/>
                </a:lnTo>
                <a:lnTo>
                  <a:pt x="1786" y="670"/>
                </a:lnTo>
                <a:lnTo>
                  <a:pt x="1788" y="860"/>
                </a:lnTo>
                <a:lnTo>
                  <a:pt x="1789" y="680"/>
                </a:lnTo>
                <a:lnTo>
                  <a:pt x="1791" y="846"/>
                </a:lnTo>
                <a:lnTo>
                  <a:pt x="1792" y="955"/>
                </a:lnTo>
                <a:lnTo>
                  <a:pt x="1793" y="1088"/>
                </a:lnTo>
                <a:lnTo>
                  <a:pt x="1794" y="1220"/>
                </a:lnTo>
                <a:lnTo>
                  <a:pt x="1795" y="1675"/>
                </a:lnTo>
                <a:lnTo>
                  <a:pt x="1796" y="678"/>
                </a:lnTo>
                <a:lnTo>
                  <a:pt x="1797" y="610"/>
                </a:lnTo>
                <a:lnTo>
                  <a:pt x="1798" y="835"/>
                </a:lnTo>
                <a:lnTo>
                  <a:pt x="1801" y="885"/>
                </a:lnTo>
                <a:lnTo>
                  <a:pt x="1802" y="1436"/>
                </a:lnTo>
                <a:lnTo>
                  <a:pt x="1803" y="1425"/>
                </a:lnTo>
                <a:lnTo>
                  <a:pt x="1804" y="1149"/>
                </a:lnTo>
                <a:lnTo>
                  <a:pt x="1805" y="1557"/>
                </a:lnTo>
                <a:lnTo>
                  <a:pt x="1806" y="1220"/>
                </a:lnTo>
                <a:lnTo>
                  <a:pt x="1807" y="790"/>
                </a:lnTo>
                <a:lnTo>
                  <a:pt x="1808" y="1022"/>
                </a:lnTo>
                <a:lnTo>
                  <a:pt x="1810" y="1504"/>
                </a:lnTo>
                <a:lnTo>
                  <a:pt x="1812" y="589"/>
                </a:lnTo>
                <a:lnTo>
                  <a:pt x="1813" y="887"/>
                </a:lnTo>
                <a:lnTo>
                  <a:pt x="1814" y="1266"/>
                </a:lnTo>
                <a:lnTo>
                  <a:pt x="1815" y="1587"/>
                </a:lnTo>
                <a:lnTo>
                  <a:pt x="1816" y="934"/>
                </a:lnTo>
                <a:lnTo>
                  <a:pt x="1817" y="1537"/>
                </a:lnTo>
                <a:lnTo>
                  <a:pt x="1818" y="1150"/>
                </a:lnTo>
                <a:lnTo>
                  <a:pt x="1820" y="554"/>
                </a:lnTo>
                <a:lnTo>
                  <a:pt x="1821" y="476"/>
                </a:lnTo>
                <a:lnTo>
                  <a:pt x="1823" y="984"/>
                </a:lnTo>
                <a:lnTo>
                  <a:pt x="1824" y="1396"/>
                </a:lnTo>
                <a:lnTo>
                  <a:pt x="1825" y="967"/>
                </a:lnTo>
                <a:lnTo>
                  <a:pt x="1826" y="836"/>
                </a:lnTo>
                <a:lnTo>
                  <a:pt x="1827" y="905"/>
                </a:lnTo>
                <a:lnTo>
                  <a:pt x="1829" y="1566"/>
                </a:lnTo>
                <a:lnTo>
                  <a:pt x="1830" y="582"/>
                </a:lnTo>
                <a:lnTo>
                  <a:pt x="1831" y="1126"/>
                </a:lnTo>
                <a:lnTo>
                  <a:pt x="1832" y="1082"/>
                </a:lnTo>
                <a:lnTo>
                  <a:pt x="1834" y="777"/>
                </a:lnTo>
                <a:lnTo>
                  <a:pt x="1835" y="755"/>
                </a:lnTo>
                <a:lnTo>
                  <a:pt x="1836" y="1095"/>
                </a:lnTo>
                <a:lnTo>
                  <a:pt x="1837" y="819"/>
                </a:lnTo>
                <a:lnTo>
                  <a:pt x="1839" y="1126"/>
                </a:lnTo>
                <a:lnTo>
                  <a:pt x="1840" y="986"/>
                </a:lnTo>
                <a:lnTo>
                  <a:pt x="1841" y="1235"/>
                </a:lnTo>
                <a:lnTo>
                  <a:pt x="1842" y="718"/>
                </a:lnTo>
                <a:lnTo>
                  <a:pt x="1843" y="1088"/>
                </a:lnTo>
                <a:lnTo>
                  <a:pt x="1845" y="1202"/>
                </a:lnTo>
                <a:lnTo>
                  <a:pt x="1846" y="1463"/>
                </a:lnTo>
                <a:lnTo>
                  <a:pt x="1847" y="1414"/>
                </a:lnTo>
                <a:lnTo>
                  <a:pt x="1849" y="682"/>
                </a:lnTo>
                <a:lnTo>
                  <a:pt x="1850" y="1364"/>
                </a:lnTo>
                <a:lnTo>
                  <a:pt x="1851" y="1094"/>
                </a:lnTo>
                <a:lnTo>
                  <a:pt x="1852" y="987"/>
                </a:lnTo>
                <a:lnTo>
                  <a:pt x="1853" y="1011"/>
                </a:lnTo>
                <a:lnTo>
                  <a:pt x="1854" y="869"/>
                </a:lnTo>
                <a:lnTo>
                  <a:pt x="1856" y="1069"/>
                </a:lnTo>
                <a:lnTo>
                  <a:pt x="1858" y="1235"/>
                </a:lnTo>
                <a:lnTo>
                  <a:pt x="1859" y="530"/>
                </a:lnTo>
                <a:lnTo>
                  <a:pt x="1860" y="1017"/>
                </a:lnTo>
                <a:lnTo>
                  <a:pt x="1861" y="1132"/>
                </a:lnTo>
                <a:lnTo>
                  <a:pt x="1862" y="770"/>
                </a:lnTo>
                <a:lnTo>
                  <a:pt x="1863" y="1010"/>
                </a:lnTo>
                <a:lnTo>
                  <a:pt x="1864" y="1010"/>
                </a:lnTo>
                <a:lnTo>
                  <a:pt x="1865" y="618"/>
                </a:lnTo>
                <a:lnTo>
                  <a:pt x="1866" y="281"/>
                </a:lnTo>
                <a:lnTo>
                  <a:pt x="1869" y="760"/>
                </a:lnTo>
                <a:lnTo>
                  <a:pt x="1870" y="1064"/>
                </a:lnTo>
                <a:lnTo>
                  <a:pt x="1871" y="1089"/>
                </a:lnTo>
                <a:lnTo>
                  <a:pt x="1872" y="1621"/>
                </a:lnTo>
                <a:lnTo>
                  <a:pt x="1873" y="1222"/>
                </a:lnTo>
                <a:lnTo>
                  <a:pt x="1874" y="827"/>
                </a:lnTo>
                <a:lnTo>
                  <a:pt x="1875" y="958"/>
                </a:lnTo>
                <a:lnTo>
                  <a:pt x="1876" y="1000"/>
                </a:lnTo>
                <a:lnTo>
                  <a:pt x="1878" y="1194"/>
                </a:lnTo>
                <a:lnTo>
                  <a:pt x="1880" y="413"/>
                </a:lnTo>
                <a:lnTo>
                  <a:pt x="1881" y="919"/>
                </a:lnTo>
                <a:lnTo>
                  <a:pt x="1882" y="820"/>
                </a:lnTo>
                <a:lnTo>
                  <a:pt x="1883" y="875"/>
                </a:lnTo>
                <a:lnTo>
                  <a:pt x="1884" y="828"/>
                </a:lnTo>
                <a:lnTo>
                  <a:pt x="1885" y="827"/>
                </a:lnTo>
                <a:lnTo>
                  <a:pt x="1887" y="830"/>
                </a:lnTo>
                <a:lnTo>
                  <a:pt x="1888" y="1259"/>
                </a:lnTo>
                <a:lnTo>
                  <a:pt x="1889" y="990"/>
                </a:lnTo>
                <a:lnTo>
                  <a:pt x="1891" y="1183"/>
                </a:lnTo>
                <a:lnTo>
                  <a:pt x="1892" y="1228"/>
                </a:lnTo>
                <a:lnTo>
                  <a:pt x="1893" y="1171"/>
                </a:lnTo>
                <a:lnTo>
                  <a:pt x="1894" y="1142"/>
                </a:lnTo>
                <a:lnTo>
                  <a:pt x="1895" y="1166"/>
                </a:lnTo>
                <a:lnTo>
                  <a:pt x="1897" y="999"/>
                </a:lnTo>
                <a:lnTo>
                  <a:pt x="1898" y="986"/>
                </a:lnTo>
                <a:lnTo>
                  <a:pt x="1899" y="1017"/>
                </a:lnTo>
                <a:lnTo>
                  <a:pt x="1900" y="1482"/>
                </a:lnTo>
                <a:lnTo>
                  <a:pt x="1902" y="1065"/>
                </a:lnTo>
                <a:lnTo>
                  <a:pt x="1903" y="416"/>
                </a:lnTo>
                <a:lnTo>
                  <a:pt x="1904" y="1390"/>
                </a:lnTo>
                <a:lnTo>
                  <a:pt x="1905" y="1155"/>
                </a:lnTo>
                <a:lnTo>
                  <a:pt x="1907" y="1302"/>
                </a:lnTo>
                <a:lnTo>
                  <a:pt x="1908" y="1044"/>
                </a:lnTo>
                <a:lnTo>
                  <a:pt x="1909" y="1393"/>
                </a:lnTo>
                <a:lnTo>
                  <a:pt x="1910" y="1215"/>
                </a:lnTo>
                <a:lnTo>
                  <a:pt x="1911" y="674"/>
                </a:lnTo>
                <a:lnTo>
                  <a:pt x="1913" y="1227"/>
                </a:lnTo>
                <a:lnTo>
                  <a:pt x="1914" y="946"/>
                </a:lnTo>
                <a:lnTo>
                  <a:pt x="1916" y="1268"/>
                </a:lnTo>
                <a:lnTo>
                  <a:pt x="1917" y="321"/>
                </a:lnTo>
                <a:lnTo>
                  <a:pt x="1918" y="1245"/>
                </a:lnTo>
                <a:lnTo>
                  <a:pt x="1919" y="1274"/>
                </a:lnTo>
                <a:lnTo>
                  <a:pt x="1920" y="1198"/>
                </a:lnTo>
                <a:lnTo>
                  <a:pt x="1921" y="753"/>
                </a:lnTo>
                <a:lnTo>
                  <a:pt x="1922" y="866"/>
                </a:lnTo>
                <a:lnTo>
                  <a:pt x="1923" y="319"/>
                </a:lnTo>
                <a:lnTo>
                  <a:pt x="1926" y="902"/>
                </a:lnTo>
                <a:lnTo>
                  <a:pt x="1927" y="1274"/>
                </a:lnTo>
                <a:lnTo>
                  <a:pt x="1928" y="1084"/>
                </a:lnTo>
                <a:lnTo>
                  <a:pt x="1929" y="1189"/>
                </a:lnTo>
                <a:lnTo>
                  <a:pt x="1930" y="1138"/>
                </a:lnTo>
                <a:lnTo>
                  <a:pt x="1931" y="836"/>
                </a:lnTo>
                <a:lnTo>
                  <a:pt x="1932" y="723"/>
                </a:lnTo>
                <a:lnTo>
                  <a:pt x="1933" y="789"/>
                </a:lnTo>
                <a:lnTo>
                  <a:pt x="1934" y="767"/>
                </a:lnTo>
                <a:lnTo>
                  <a:pt x="1937" y="887"/>
                </a:lnTo>
                <a:lnTo>
                  <a:pt x="1938" y="786"/>
                </a:lnTo>
                <a:lnTo>
                  <a:pt x="1939" y="735"/>
                </a:lnTo>
                <a:lnTo>
                  <a:pt x="1940" y="582"/>
                </a:lnTo>
                <a:lnTo>
                  <a:pt x="1941" y="941"/>
                </a:lnTo>
                <a:lnTo>
                  <a:pt x="1942" y="1083"/>
                </a:lnTo>
                <a:lnTo>
                  <a:pt x="1943" y="1134"/>
                </a:lnTo>
                <a:lnTo>
                  <a:pt x="1945" y="856"/>
                </a:lnTo>
                <a:lnTo>
                  <a:pt x="1946" y="1273"/>
                </a:lnTo>
                <a:lnTo>
                  <a:pt x="1948" y="1315"/>
                </a:lnTo>
                <a:lnTo>
                  <a:pt x="1949" y="761"/>
                </a:lnTo>
                <a:lnTo>
                  <a:pt x="1950" y="848"/>
                </a:lnTo>
                <a:lnTo>
                  <a:pt x="1951" y="1197"/>
                </a:lnTo>
                <a:lnTo>
                  <a:pt x="1952" y="968"/>
                </a:lnTo>
                <a:lnTo>
                  <a:pt x="1953" y="1078"/>
                </a:lnTo>
                <a:lnTo>
                  <a:pt x="1955" y="1445"/>
                </a:lnTo>
                <a:lnTo>
                  <a:pt x="1956" y="1296"/>
                </a:lnTo>
                <a:lnTo>
                  <a:pt x="1957" y="1416"/>
                </a:lnTo>
                <a:lnTo>
                  <a:pt x="1959" y="621"/>
                </a:lnTo>
                <a:lnTo>
                  <a:pt x="1960" y="1012"/>
                </a:lnTo>
                <a:lnTo>
                  <a:pt x="1961" y="1243"/>
                </a:lnTo>
                <a:lnTo>
                  <a:pt x="1962" y="870"/>
                </a:lnTo>
                <a:lnTo>
                  <a:pt x="1964" y="693"/>
                </a:lnTo>
                <a:lnTo>
                  <a:pt x="1965" y="984"/>
                </a:lnTo>
                <a:lnTo>
                  <a:pt x="1966" y="932"/>
                </a:lnTo>
                <a:lnTo>
                  <a:pt x="1967" y="654"/>
                </a:lnTo>
                <a:lnTo>
                  <a:pt x="1968" y="909"/>
                </a:lnTo>
                <a:lnTo>
                  <a:pt x="1970" y="794"/>
                </a:lnTo>
                <a:lnTo>
                  <a:pt x="1971" y="1360"/>
                </a:lnTo>
                <a:lnTo>
                  <a:pt x="1972" y="859"/>
                </a:lnTo>
                <a:lnTo>
                  <a:pt x="1974" y="1114"/>
                </a:lnTo>
                <a:lnTo>
                  <a:pt x="1975" y="381"/>
                </a:lnTo>
                <a:lnTo>
                  <a:pt x="1976" y="1000"/>
                </a:lnTo>
                <a:lnTo>
                  <a:pt x="1977" y="778"/>
                </a:lnTo>
                <a:lnTo>
                  <a:pt x="1978" y="1093"/>
                </a:lnTo>
                <a:lnTo>
                  <a:pt x="1979" y="982"/>
                </a:lnTo>
                <a:lnTo>
                  <a:pt x="1981" y="1636"/>
                </a:lnTo>
                <a:lnTo>
                  <a:pt x="1982" y="757"/>
                </a:lnTo>
                <a:lnTo>
                  <a:pt x="1984" y="919"/>
                </a:lnTo>
                <a:lnTo>
                  <a:pt x="1985" y="1201"/>
                </a:lnTo>
                <a:lnTo>
                  <a:pt x="1986" y="709"/>
                </a:lnTo>
                <a:lnTo>
                  <a:pt x="1987" y="1200"/>
                </a:lnTo>
                <a:lnTo>
                  <a:pt x="1988" y="1042"/>
                </a:lnTo>
                <a:lnTo>
                  <a:pt x="1989" y="898"/>
                </a:lnTo>
                <a:lnTo>
                  <a:pt x="1990" y="873"/>
                </a:lnTo>
                <a:lnTo>
                  <a:pt x="1991" y="546"/>
                </a:lnTo>
                <a:lnTo>
                  <a:pt x="1994" y="1038"/>
                </a:lnTo>
                <a:lnTo>
                  <a:pt x="1995" y="931"/>
                </a:lnTo>
                <a:lnTo>
                  <a:pt x="1996" y="1073"/>
                </a:lnTo>
                <a:lnTo>
                  <a:pt x="1997" y="753"/>
                </a:lnTo>
                <a:lnTo>
                  <a:pt x="1998" y="1010"/>
                </a:lnTo>
                <a:lnTo>
                  <a:pt x="1999" y="1179"/>
                </a:lnTo>
                <a:lnTo>
                  <a:pt x="2000" y="927"/>
                </a:lnTo>
                <a:lnTo>
                  <a:pt x="2001" y="736"/>
                </a:lnTo>
                <a:lnTo>
                  <a:pt x="2003" y="453"/>
                </a:lnTo>
                <a:lnTo>
                  <a:pt x="2005" y="1278"/>
                </a:lnTo>
                <a:lnTo>
                  <a:pt x="2006" y="1297"/>
                </a:lnTo>
                <a:lnTo>
                  <a:pt x="2007" y="1200"/>
                </a:lnTo>
                <a:lnTo>
                  <a:pt x="2008" y="1120"/>
                </a:lnTo>
                <a:lnTo>
                  <a:pt x="2009" y="1127"/>
                </a:lnTo>
                <a:lnTo>
                  <a:pt x="2010" y="1094"/>
                </a:lnTo>
                <a:lnTo>
                  <a:pt x="2011" y="887"/>
                </a:lnTo>
                <a:lnTo>
                  <a:pt x="2013" y="902"/>
                </a:lnTo>
                <a:lnTo>
                  <a:pt x="2014" y="1117"/>
                </a:lnTo>
                <a:lnTo>
                  <a:pt x="2016" y="1272"/>
                </a:lnTo>
                <a:lnTo>
                  <a:pt x="2017" y="980"/>
                </a:lnTo>
                <a:lnTo>
                  <a:pt x="2018" y="1425"/>
                </a:lnTo>
                <a:lnTo>
                  <a:pt x="2019" y="915"/>
                </a:lnTo>
                <a:lnTo>
                  <a:pt x="2020" y="729"/>
                </a:lnTo>
                <a:lnTo>
                  <a:pt x="2022" y="523"/>
                </a:lnTo>
                <a:lnTo>
                  <a:pt x="2023" y="1132"/>
                </a:lnTo>
                <a:lnTo>
                  <a:pt x="2024" y="1542"/>
                </a:lnTo>
                <a:lnTo>
                  <a:pt x="2025" y="996"/>
                </a:lnTo>
                <a:lnTo>
                  <a:pt x="2027" y="669"/>
                </a:lnTo>
                <a:lnTo>
                  <a:pt x="2028" y="1195"/>
                </a:lnTo>
                <a:lnTo>
                  <a:pt x="2029" y="702"/>
                </a:lnTo>
                <a:lnTo>
                  <a:pt x="2030" y="1251"/>
                </a:lnTo>
                <a:lnTo>
                  <a:pt x="2032" y="1348"/>
                </a:lnTo>
                <a:lnTo>
                  <a:pt x="2033" y="498"/>
                </a:lnTo>
                <a:lnTo>
                  <a:pt x="2034" y="912"/>
                </a:lnTo>
                <a:lnTo>
                  <a:pt x="2035" y="543"/>
                </a:lnTo>
                <a:lnTo>
                  <a:pt x="2036" y="946"/>
                </a:lnTo>
                <a:lnTo>
                  <a:pt x="2038" y="758"/>
                </a:lnTo>
                <a:lnTo>
                  <a:pt x="2039" y="403"/>
                </a:lnTo>
                <a:lnTo>
                  <a:pt x="2040" y="669"/>
                </a:lnTo>
                <a:lnTo>
                  <a:pt x="2042" y="502"/>
                </a:lnTo>
                <a:lnTo>
                  <a:pt x="2043" y="1221"/>
                </a:lnTo>
                <a:lnTo>
                  <a:pt x="2044" y="856"/>
                </a:lnTo>
                <a:lnTo>
                  <a:pt x="2045" y="597"/>
                </a:lnTo>
                <a:lnTo>
                  <a:pt x="2046" y="489"/>
                </a:lnTo>
                <a:lnTo>
                  <a:pt x="2047" y="894"/>
                </a:lnTo>
                <a:lnTo>
                  <a:pt x="2048" y="895"/>
                </a:lnTo>
                <a:lnTo>
                  <a:pt x="2051" y="1329"/>
                </a:lnTo>
                <a:lnTo>
                  <a:pt x="2052" y="931"/>
                </a:lnTo>
                <a:lnTo>
                  <a:pt x="2053" y="934"/>
                </a:lnTo>
                <a:lnTo>
                  <a:pt x="2054" y="870"/>
                </a:lnTo>
                <a:lnTo>
                  <a:pt x="2055" y="811"/>
                </a:lnTo>
                <a:lnTo>
                  <a:pt x="2056" y="596"/>
                </a:lnTo>
                <a:lnTo>
                  <a:pt x="2057" y="1256"/>
                </a:lnTo>
                <a:lnTo>
                  <a:pt x="2058" y="622"/>
                </a:lnTo>
                <a:lnTo>
                  <a:pt x="2059" y="1089"/>
                </a:lnTo>
                <a:lnTo>
                  <a:pt x="2062" y="957"/>
                </a:lnTo>
                <a:lnTo>
                  <a:pt x="2063" y="820"/>
                </a:lnTo>
                <a:lnTo>
                  <a:pt x="2064" y="1026"/>
                </a:lnTo>
                <a:lnTo>
                  <a:pt x="2065" y="1343"/>
                </a:lnTo>
                <a:lnTo>
                  <a:pt x="2066" y="1338"/>
                </a:lnTo>
                <a:lnTo>
                  <a:pt x="2067" y="805"/>
                </a:lnTo>
                <a:lnTo>
                  <a:pt x="2068" y="856"/>
                </a:lnTo>
                <a:lnTo>
                  <a:pt x="2069" y="1358"/>
                </a:lnTo>
                <a:lnTo>
                  <a:pt x="2071" y="1061"/>
                </a:lnTo>
                <a:lnTo>
                  <a:pt x="2073" y="1152"/>
                </a:lnTo>
                <a:lnTo>
                  <a:pt x="2074" y="661"/>
                </a:lnTo>
                <a:lnTo>
                  <a:pt x="2075" y="660"/>
                </a:lnTo>
                <a:lnTo>
                  <a:pt x="2076" y="1120"/>
                </a:lnTo>
                <a:lnTo>
                  <a:pt x="2077" y="1542"/>
                </a:lnTo>
                <a:lnTo>
                  <a:pt x="2078" y="771"/>
                </a:lnTo>
                <a:lnTo>
                  <a:pt x="2080" y="848"/>
                </a:lnTo>
                <a:lnTo>
                  <a:pt x="2081" y="948"/>
                </a:lnTo>
                <a:lnTo>
                  <a:pt x="2082" y="901"/>
                </a:lnTo>
                <a:lnTo>
                  <a:pt x="2084" y="1502"/>
                </a:lnTo>
                <a:lnTo>
                  <a:pt x="2085" y="1178"/>
                </a:lnTo>
                <a:lnTo>
                  <a:pt x="2086" y="1127"/>
                </a:lnTo>
                <a:lnTo>
                  <a:pt x="2087" y="1367"/>
                </a:lnTo>
                <a:lnTo>
                  <a:pt x="2088" y="1091"/>
                </a:lnTo>
                <a:lnTo>
                  <a:pt x="2090" y="356"/>
                </a:lnTo>
                <a:lnTo>
                  <a:pt x="2091" y="997"/>
                </a:lnTo>
                <a:lnTo>
                  <a:pt x="2092" y="756"/>
                </a:lnTo>
                <a:lnTo>
                  <a:pt x="2093" y="1106"/>
                </a:lnTo>
                <a:lnTo>
                  <a:pt x="2095" y="1005"/>
                </a:lnTo>
                <a:lnTo>
                  <a:pt x="2096" y="1714"/>
                </a:lnTo>
                <a:lnTo>
                  <a:pt x="2097" y="847"/>
                </a:lnTo>
                <a:lnTo>
                  <a:pt x="2098" y="944"/>
                </a:lnTo>
                <a:lnTo>
                  <a:pt x="2100" y="847"/>
                </a:lnTo>
                <a:lnTo>
                  <a:pt x="2101" y="1332"/>
                </a:lnTo>
                <a:lnTo>
                  <a:pt x="2102" y="1511"/>
                </a:lnTo>
                <a:lnTo>
                  <a:pt x="2103" y="1270"/>
                </a:lnTo>
                <a:lnTo>
                  <a:pt x="2104" y="1002"/>
                </a:lnTo>
                <a:lnTo>
                  <a:pt x="2106" y="987"/>
                </a:lnTo>
                <a:lnTo>
                  <a:pt x="2107" y="628"/>
                </a:lnTo>
                <a:lnTo>
                  <a:pt x="2109" y="689"/>
                </a:lnTo>
                <a:lnTo>
                  <a:pt x="2110" y="1526"/>
                </a:lnTo>
                <a:lnTo>
                  <a:pt x="2111" y="1285"/>
                </a:lnTo>
                <a:lnTo>
                  <a:pt x="2112" y="1328"/>
                </a:lnTo>
                <a:lnTo>
                  <a:pt x="2113" y="1513"/>
                </a:lnTo>
                <a:lnTo>
                  <a:pt x="2114" y="804"/>
                </a:lnTo>
                <a:lnTo>
                  <a:pt x="2115" y="1140"/>
                </a:lnTo>
                <a:lnTo>
                  <a:pt x="2116" y="995"/>
                </a:lnTo>
                <a:lnTo>
                  <a:pt x="2119" y="1194"/>
                </a:lnTo>
                <a:lnTo>
                  <a:pt x="2120" y="987"/>
                </a:lnTo>
                <a:lnTo>
                  <a:pt x="2121" y="877"/>
                </a:lnTo>
                <a:lnTo>
                  <a:pt x="2122" y="1194"/>
                </a:lnTo>
                <a:lnTo>
                  <a:pt x="2123" y="1095"/>
                </a:lnTo>
                <a:lnTo>
                  <a:pt x="2124" y="1049"/>
                </a:lnTo>
                <a:lnTo>
                  <a:pt x="2125" y="1386"/>
                </a:lnTo>
                <a:lnTo>
                  <a:pt x="2126" y="1100"/>
                </a:lnTo>
                <a:lnTo>
                  <a:pt x="2127" y="853"/>
                </a:lnTo>
                <a:lnTo>
                  <a:pt x="2130" y="732"/>
                </a:lnTo>
                <a:lnTo>
                  <a:pt x="2131" y="327"/>
                </a:lnTo>
                <a:lnTo>
                  <a:pt x="2132" y="961"/>
                </a:lnTo>
                <a:lnTo>
                  <a:pt x="2133" y="924"/>
                </a:lnTo>
                <a:lnTo>
                  <a:pt x="2134" y="573"/>
                </a:lnTo>
                <a:lnTo>
                  <a:pt x="2135" y="809"/>
                </a:lnTo>
                <a:lnTo>
                  <a:pt x="2136" y="950"/>
                </a:lnTo>
                <a:lnTo>
                  <a:pt x="2138" y="1422"/>
                </a:lnTo>
                <a:lnTo>
                  <a:pt x="2139" y="1191"/>
                </a:lnTo>
                <a:lnTo>
                  <a:pt x="2141" y="1117"/>
                </a:lnTo>
                <a:lnTo>
                  <a:pt x="2142" y="1853"/>
                </a:lnTo>
                <a:lnTo>
                  <a:pt x="2143" y="1218"/>
                </a:lnTo>
                <a:lnTo>
                  <a:pt x="2144" y="1230"/>
                </a:lnTo>
                <a:lnTo>
                  <a:pt x="2145" y="853"/>
                </a:lnTo>
                <a:lnTo>
                  <a:pt x="2146" y="1011"/>
                </a:lnTo>
                <a:lnTo>
                  <a:pt x="2148" y="731"/>
                </a:lnTo>
                <a:lnTo>
                  <a:pt x="2149" y="527"/>
                </a:lnTo>
                <a:lnTo>
                  <a:pt x="2150" y="1292"/>
                </a:lnTo>
                <a:lnTo>
                  <a:pt x="2152" y="622"/>
                </a:lnTo>
                <a:lnTo>
                  <a:pt x="2153" y="915"/>
                </a:lnTo>
                <a:lnTo>
                  <a:pt x="2154" y="660"/>
                </a:lnTo>
                <a:lnTo>
                  <a:pt x="2155" y="765"/>
                </a:lnTo>
                <a:lnTo>
                  <a:pt x="2156" y="1127"/>
                </a:lnTo>
                <a:lnTo>
                  <a:pt x="2158" y="870"/>
                </a:lnTo>
                <a:lnTo>
                  <a:pt x="2159" y="1092"/>
                </a:lnTo>
                <a:lnTo>
                  <a:pt x="2160" y="1384"/>
                </a:lnTo>
                <a:lnTo>
                  <a:pt x="2161" y="1158"/>
                </a:lnTo>
                <a:lnTo>
                  <a:pt x="2163" y="1228"/>
                </a:lnTo>
                <a:lnTo>
                  <a:pt x="2164" y="677"/>
                </a:lnTo>
                <a:lnTo>
                  <a:pt x="2165" y="1067"/>
                </a:lnTo>
                <a:lnTo>
                  <a:pt x="2167" y="1187"/>
                </a:lnTo>
                <a:lnTo>
                  <a:pt x="2168" y="993"/>
                </a:lnTo>
                <a:lnTo>
                  <a:pt x="2169" y="838"/>
                </a:lnTo>
                <a:lnTo>
                  <a:pt x="2170" y="1153"/>
                </a:lnTo>
                <a:lnTo>
                  <a:pt x="2171" y="1182"/>
                </a:lnTo>
                <a:lnTo>
                  <a:pt x="2172" y="1267"/>
                </a:lnTo>
                <a:lnTo>
                  <a:pt x="2173" y="938"/>
                </a:lnTo>
                <a:lnTo>
                  <a:pt x="2175" y="1277"/>
                </a:lnTo>
                <a:lnTo>
                  <a:pt x="2177" y="1200"/>
                </a:lnTo>
                <a:lnTo>
                  <a:pt x="2178" y="799"/>
                </a:lnTo>
                <a:lnTo>
                  <a:pt x="2179" y="1741"/>
                </a:lnTo>
                <a:lnTo>
                  <a:pt x="2180" y="971"/>
                </a:lnTo>
                <a:lnTo>
                  <a:pt x="2181" y="1240"/>
                </a:lnTo>
                <a:lnTo>
                  <a:pt x="2182" y="874"/>
                </a:lnTo>
                <a:lnTo>
                  <a:pt x="2183" y="934"/>
                </a:lnTo>
                <a:lnTo>
                  <a:pt x="2184" y="933"/>
                </a:lnTo>
                <a:lnTo>
                  <a:pt x="2187" y="1071"/>
                </a:lnTo>
                <a:lnTo>
                  <a:pt x="2188" y="1676"/>
                </a:lnTo>
                <a:lnTo>
                  <a:pt x="2189" y="750"/>
                </a:lnTo>
                <a:lnTo>
                  <a:pt x="2190" y="745"/>
                </a:lnTo>
                <a:lnTo>
                  <a:pt x="2191" y="950"/>
                </a:lnTo>
                <a:lnTo>
                  <a:pt x="2192" y="1246"/>
                </a:lnTo>
                <a:lnTo>
                  <a:pt x="2193" y="1034"/>
                </a:lnTo>
                <a:lnTo>
                  <a:pt x="2194" y="804"/>
                </a:lnTo>
                <a:lnTo>
                  <a:pt x="2196" y="931"/>
                </a:lnTo>
                <a:lnTo>
                  <a:pt x="2198" y="1180"/>
                </a:lnTo>
                <a:lnTo>
                  <a:pt x="2199" y="1536"/>
                </a:lnTo>
                <a:lnTo>
                  <a:pt x="2200" y="1007"/>
                </a:lnTo>
                <a:lnTo>
                  <a:pt x="2201" y="1390"/>
                </a:lnTo>
                <a:lnTo>
                  <a:pt x="2202" y="1272"/>
                </a:lnTo>
                <a:lnTo>
                  <a:pt x="2203" y="733"/>
                </a:lnTo>
                <a:lnTo>
                  <a:pt x="2204" y="1044"/>
                </a:lnTo>
                <a:lnTo>
                  <a:pt x="2206" y="1551"/>
                </a:lnTo>
                <a:lnTo>
                  <a:pt x="2207" y="1091"/>
                </a:lnTo>
                <a:lnTo>
                  <a:pt x="2209" y="1557"/>
                </a:lnTo>
                <a:lnTo>
                  <a:pt x="2210" y="1367"/>
                </a:lnTo>
                <a:lnTo>
                  <a:pt x="2211" y="1274"/>
                </a:lnTo>
                <a:lnTo>
                  <a:pt x="2212" y="1592"/>
                </a:lnTo>
                <a:lnTo>
                  <a:pt x="2213" y="401"/>
                </a:lnTo>
                <a:lnTo>
                  <a:pt x="2215" y="763"/>
                </a:lnTo>
                <a:lnTo>
                  <a:pt x="2216" y="1163"/>
                </a:lnTo>
                <a:lnTo>
                  <a:pt x="2217" y="1309"/>
                </a:lnTo>
                <a:lnTo>
                  <a:pt x="2218" y="1054"/>
                </a:lnTo>
                <a:lnTo>
                  <a:pt x="2220" y="1075"/>
                </a:lnTo>
                <a:lnTo>
                  <a:pt x="2221" y="814"/>
                </a:lnTo>
                <a:lnTo>
                  <a:pt x="2222" y="368"/>
                </a:lnTo>
                <a:lnTo>
                  <a:pt x="2223" y="1110"/>
                </a:lnTo>
                <a:lnTo>
                  <a:pt x="2225" y="989"/>
                </a:lnTo>
                <a:lnTo>
                  <a:pt x="2226" y="701"/>
                </a:lnTo>
                <a:lnTo>
                  <a:pt x="2227" y="1197"/>
                </a:lnTo>
                <a:lnTo>
                  <a:pt x="2228" y="1283"/>
                </a:lnTo>
                <a:lnTo>
                  <a:pt x="2229" y="1548"/>
                </a:lnTo>
                <a:lnTo>
                  <a:pt x="2231" y="735"/>
                </a:lnTo>
                <a:lnTo>
                  <a:pt x="2232" y="1107"/>
                </a:lnTo>
                <a:lnTo>
                  <a:pt x="2233" y="813"/>
                </a:lnTo>
                <a:lnTo>
                  <a:pt x="2235" y="1529"/>
                </a:lnTo>
                <a:lnTo>
                  <a:pt x="2236" y="1081"/>
                </a:lnTo>
                <a:lnTo>
                  <a:pt x="2237" y="1033"/>
                </a:lnTo>
                <a:lnTo>
                  <a:pt x="2238" y="1010"/>
                </a:lnTo>
                <a:lnTo>
                  <a:pt x="2239" y="1396"/>
                </a:lnTo>
                <a:lnTo>
                  <a:pt x="2240" y="1285"/>
                </a:lnTo>
                <a:lnTo>
                  <a:pt x="2241" y="1235"/>
                </a:lnTo>
                <a:lnTo>
                  <a:pt x="2244" y="1017"/>
                </a:lnTo>
                <a:lnTo>
                  <a:pt x="2245" y="877"/>
                </a:lnTo>
                <a:lnTo>
                  <a:pt x="2246" y="1471"/>
                </a:lnTo>
                <a:lnTo>
                  <a:pt x="2247" y="1155"/>
                </a:lnTo>
                <a:lnTo>
                  <a:pt x="2248" y="1159"/>
                </a:lnTo>
                <a:lnTo>
                  <a:pt x="2249" y="1029"/>
                </a:lnTo>
                <a:lnTo>
                  <a:pt x="2250" y="649"/>
                </a:lnTo>
                <a:lnTo>
                  <a:pt x="2251" y="869"/>
                </a:lnTo>
                <a:lnTo>
                  <a:pt x="2252" y="759"/>
                </a:lnTo>
                <a:lnTo>
                  <a:pt x="2255" y="1126"/>
                </a:lnTo>
                <a:lnTo>
                  <a:pt x="2256" y="980"/>
                </a:lnTo>
                <a:lnTo>
                  <a:pt x="2257" y="982"/>
                </a:lnTo>
                <a:lnTo>
                  <a:pt x="2258" y="938"/>
                </a:lnTo>
                <a:lnTo>
                  <a:pt x="2259" y="907"/>
                </a:lnTo>
                <a:lnTo>
                  <a:pt x="2260" y="877"/>
                </a:lnTo>
                <a:lnTo>
                  <a:pt x="2261" y="1314"/>
                </a:lnTo>
                <a:lnTo>
                  <a:pt x="2262" y="807"/>
                </a:lnTo>
                <a:lnTo>
                  <a:pt x="2264" y="1030"/>
                </a:lnTo>
                <a:lnTo>
                  <a:pt x="2266" y="1173"/>
                </a:lnTo>
                <a:lnTo>
                  <a:pt x="2267" y="876"/>
                </a:lnTo>
                <a:lnTo>
                  <a:pt x="2268" y="1442"/>
                </a:lnTo>
                <a:lnTo>
                  <a:pt x="2269" y="1442"/>
                </a:lnTo>
                <a:lnTo>
                  <a:pt x="2270" y="830"/>
                </a:lnTo>
                <a:lnTo>
                  <a:pt x="2271" y="713"/>
                </a:lnTo>
                <a:lnTo>
                  <a:pt x="2273" y="1111"/>
                </a:lnTo>
                <a:lnTo>
                  <a:pt x="2274" y="1442"/>
                </a:lnTo>
                <a:lnTo>
                  <a:pt x="2275" y="768"/>
                </a:lnTo>
                <a:lnTo>
                  <a:pt x="2277" y="1463"/>
                </a:lnTo>
                <a:lnTo>
                  <a:pt x="2278" y="551"/>
                </a:lnTo>
                <a:lnTo>
                  <a:pt x="2279" y="1039"/>
                </a:lnTo>
                <a:lnTo>
                  <a:pt x="2280" y="1082"/>
                </a:lnTo>
                <a:lnTo>
                  <a:pt x="2281" y="1370"/>
                </a:lnTo>
                <a:lnTo>
                  <a:pt x="2283" y="905"/>
                </a:lnTo>
                <a:lnTo>
                  <a:pt x="2284" y="1267"/>
                </a:lnTo>
                <a:lnTo>
                  <a:pt x="2285" y="1088"/>
                </a:lnTo>
                <a:lnTo>
                  <a:pt x="2286" y="913"/>
                </a:lnTo>
                <a:lnTo>
                  <a:pt x="2288" y="1342"/>
                </a:lnTo>
                <a:lnTo>
                  <a:pt x="2289" y="811"/>
                </a:lnTo>
                <a:lnTo>
                  <a:pt x="2290" y="1049"/>
                </a:lnTo>
                <a:lnTo>
                  <a:pt x="2291" y="717"/>
                </a:lnTo>
                <a:lnTo>
                  <a:pt x="2293" y="1402"/>
                </a:lnTo>
                <a:lnTo>
                  <a:pt x="2294" y="1044"/>
                </a:lnTo>
                <a:lnTo>
                  <a:pt x="2295" y="882"/>
                </a:lnTo>
                <a:lnTo>
                  <a:pt x="2296" y="1394"/>
                </a:lnTo>
                <a:lnTo>
                  <a:pt x="2297" y="501"/>
                </a:lnTo>
                <a:lnTo>
                  <a:pt x="2298" y="645"/>
                </a:lnTo>
                <a:lnTo>
                  <a:pt x="2300" y="1214"/>
                </a:lnTo>
                <a:lnTo>
                  <a:pt x="2302" y="1356"/>
                </a:lnTo>
                <a:lnTo>
                  <a:pt x="2303" y="703"/>
                </a:lnTo>
                <a:lnTo>
                  <a:pt x="2304" y="600"/>
                </a:lnTo>
                <a:lnTo>
                  <a:pt x="2305" y="1064"/>
                </a:lnTo>
                <a:lnTo>
                  <a:pt x="2306" y="1237"/>
                </a:lnTo>
                <a:lnTo>
                  <a:pt x="2307" y="788"/>
                </a:lnTo>
                <a:lnTo>
                  <a:pt x="2308" y="1314"/>
                </a:lnTo>
                <a:lnTo>
                  <a:pt x="2309" y="1204"/>
                </a:lnTo>
                <a:lnTo>
                  <a:pt x="2312" y="1311"/>
                </a:lnTo>
                <a:lnTo>
                  <a:pt x="2313" y="896"/>
                </a:lnTo>
                <a:lnTo>
                  <a:pt x="2314" y="719"/>
                </a:lnTo>
                <a:lnTo>
                  <a:pt x="2315" y="913"/>
                </a:lnTo>
                <a:lnTo>
                  <a:pt x="2316" y="944"/>
                </a:lnTo>
                <a:lnTo>
                  <a:pt x="2317" y="1278"/>
                </a:lnTo>
                <a:lnTo>
                  <a:pt x="2318" y="1264"/>
                </a:lnTo>
                <a:lnTo>
                  <a:pt x="2319" y="1288"/>
                </a:lnTo>
                <a:lnTo>
                  <a:pt x="2320" y="958"/>
                </a:lnTo>
                <a:lnTo>
                  <a:pt x="2323" y="841"/>
                </a:lnTo>
                <a:lnTo>
                  <a:pt x="2324" y="1017"/>
                </a:lnTo>
                <a:lnTo>
                  <a:pt x="2325" y="751"/>
                </a:lnTo>
                <a:lnTo>
                  <a:pt x="2326" y="1004"/>
                </a:lnTo>
                <a:lnTo>
                  <a:pt x="2327" y="883"/>
                </a:lnTo>
                <a:lnTo>
                  <a:pt x="2328" y="862"/>
                </a:lnTo>
                <a:lnTo>
                  <a:pt x="2329" y="640"/>
                </a:lnTo>
                <a:lnTo>
                  <a:pt x="2331" y="579"/>
                </a:lnTo>
                <a:lnTo>
                  <a:pt x="2332" y="1069"/>
                </a:lnTo>
                <a:lnTo>
                  <a:pt x="2334" y="1091"/>
                </a:lnTo>
                <a:lnTo>
                  <a:pt x="2335" y="1003"/>
                </a:lnTo>
                <a:lnTo>
                  <a:pt x="2336" y="1590"/>
                </a:lnTo>
                <a:lnTo>
                  <a:pt x="2337" y="952"/>
                </a:lnTo>
                <a:lnTo>
                  <a:pt x="2338" y="815"/>
                </a:lnTo>
                <a:lnTo>
                  <a:pt x="2339" y="1083"/>
                </a:lnTo>
                <a:lnTo>
                  <a:pt x="2341" y="921"/>
                </a:lnTo>
                <a:lnTo>
                  <a:pt x="2342" y="1245"/>
                </a:lnTo>
                <a:lnTo>
                  <a:pt x="2343" y="1095"/>
                </a:lnTo>
                <a:lnTo>
                  <a:pt x="2345" y="1354"/>
                </a:lnTo>
                <a:lnTo>
                  <a:pt x="2346" y="1051"/>
                </a:lnTo>
                <a:lnTo>
                  <a:pt x="2347" y="945"/>
                </a:lnTo>
                <a:lnTo>
                  <a:pt x="2348" y="960"/>
                </a:lnTo>
                <a:lnTo>
                  <a:pt x="2349" y="752"/>
                </a:lnTo>
                <a:lnTo>
                  <a:pt x="2351" y="905"/>
                </a:lnTo>
                <a:lnTo>
                  <a:pt x="2352" y="816"/>
                </a:lnTo>
                <a:lnTo>
                  <a:pt x="2353" y="1230"/>
                </a:lnTo>
                <a:lnTo>
                  <a:pt x="2354" y="1147"/>
                </a:lnTo>
                <a:lnTo>
                  <a:pt x="2356" y="1089"/>
                </a:lnTo>
                <a:lnTo>
                  <a:pt x="2357" y="802"/>
                </a:lnTo>
                <a:lnTo>
                  <a:pt x="2358" y="1266"/>
                </a:lnTo>
                <a:lnTo>
                  <a:pt x="2360" y="1024"/>
                </a:lnTo>
                <a:lnTo>
                  <a:pt x="2361" y="833"/>
                </a:lnTo>
                <a:lnTo>
                  <a:pt x="2362" y="873"/>
                </a:lnTo>
                <a:lnTo>
                  <a:pt x="2363" y="757"/>
                </a:lnTo>
                <a:lnTo>
                  <a:pt x="2364" y="1399"/>
                </a:lnTo>
                <a:lnTo>
                  <a:pt x="2365" y="981"/>
                </a:lnTo>
                <a:lnTo>
                  <a:pt x="2366" y="1468"/>
                </a:lnTo>
                <a:lnTo>
                  <a:pt x="2368" y="661"/>
                </a:lnTo>
                <a:lnTo>
                  <a:pt x="2370" y="797"/>
                </a:lnTo>
                <a:lnTo>
                  <a:pt x="2371" y="526"/>
                </a:lnTo>
                <a:lnTo>
                  <a:pt x="2372" y="724"/>
                </a:lnTo>
                <a:lnTo>
                  <a:pt x="2373" y="731"/>
                </a:lnTo>
                <a:lnTo>
                  <a:pt x="2374" y="912"/>
                </a:lnTo>
                <a:lnTo>
                  <a:pt x="2375" y="981"/>
                </a:lnTo>
                <a:lnTo>
                  <a:pt x="2376" y="742"/>
                </a:lnTo>
                <a:lnTo>
                  <a:pt x="2377" y="611"/>
                </a:lnTo>
                <a:lnTo>
                  <a:pt x="2380" y="780"/>
                </a:lnTo>
                <a:lnTo>
                  <a:pt x="2381" y="1221"/>
                </a:lnTo>
                <a:lnTo>
                  <a:pt x="2382" y="312"/>
                </a:lnTo>
                <a:lnTo>
                  <a:pt x="2383" y="909"/>
                </a:lnTo>
                <a:lnTo>
                  <a:pt x="2384" y="1095"/>
                </a:lnTo>
                <a:lnTo>
                  <a:pt x="2385" y="856"/>
                </a:lnTo>
                <a:lnTo>
                  <a:pt x="2386" y="582"/>
                </a:lnTo>
                <a:lnTo>
                  <a:pt x="2387" y="1044"/>
                </a:lnTo>
                <a:lnTo>
                  <a:pt x="2389" y="1065"/>
                </a:lnTo>
                <a:lnTo>
                  <a:pt x="2391" y="1048"/>
                </a:lnTo>
                <a:lnTo>
                  <a:pt x="2392" y="1829"/>
                </a:lnTo>
                <a:lnTo>
                  <a:pt x="2393" y="846"/>
                </a:lnTo>
                <a:lnTo>
                  <a:pt x="2394" y="1010"/>
                </a:lnTo>
                <a:lnTo>
                  <a:pt x="2395" y="769"/>
                </a:lnTo>
                <a:lnTo>
                  <a:pt x="2396" y="602"/>
                </a:lnTo>
                <a:lnTo>
                  <a:pt x="2397" y="628"/>
                </a:lnTo>
                <a:lnTo>
                  <a:pt x="2399" y="1097"/>
                </a:lnTo>
                <a:lnTo>
                  <a:pt x="2400" y="1081"/>
                </a:lnTo>
                <a:lnTo>
                  <a:pt x="2402" y="679"/>
                </a:lnTo>
                <a:lnTo>
                  <a:pt x="2403" y="737"/>
                </a:lnTo>
                <a:lnTo>
                  <a:pt x="2404" y="1130"/>
                </a:lnTo>
                <a:lnTo>
                  <a:pt x="2405" y="760"/>
                </a:lnTo>
                <a:lnTo>
                  <a:pt x="2406" y="854"/>
                </a:lnTo>
                <a:lnTo>
                  <a:pt x="2407" y="1029"/>
                </a:lnTo>
                <a:lnTo>
                  <a:pt x="2409" y="1316"/>
                </a:lnTo>
                <a:lnTo>
                  <a:pt x="2410" y="810"/>
                </a:lnTo>
                <a:lnTo>
                  <a:pt x="2411" y="799"/>
                </a:lnTo>
                <a:lnTo>
                  <a:pt x="2413" y="1463"/>
                </a:lnTo>
                <a:lnTo>
                  <a:pt x="2414" y="472"/>
                </a:lnTo>
                <a:lnTo>
                  <a:pt x="2415" y="863"/>
                </a:lnTo>
                <a:lnTo>
                  <a:pt x="2416" y="1237"/>
                </a:lnTo>
                <a:lnTo>
                  <a:pt x="2418" y="1085"/>
                </a:lnTo>
                <a:lnTo>
                  <a:pt x="2419" y="982"/>
                </a:lnTo>
                <a:lnTo>
                  <a:pt x="2420" y="936"/>
                </a:lnTo>
                <a:lnTo>
                  <a:pt x="2421" y="965"/>
                </a:lnTo>
                <a:lnTo>
                  <a:pt x="2422" y="1228"/>
                </a:lnTo>
                <a:lnTo>
                  <a:pt x="2423" y="1209"/>
                </a:lnTo>
                <a:lnTo>
                  <a:pt x="2425" y="1122"/>
                </a:lnTo>
                <a:lnTo>
                  <a:pt x="2426" y="1042"/>
                </a:lnTo>
                <a:lnTo>
                  <a:pt x="2428" y="1345"/>
                </a:lnTo>
                <a:lnTo>
                  <a:pt x="2429" y="966"/>
                </a:lnTo>
                <a:lnTo>
                  <a:pt x="2430" y="1748"/>
                </a:lnTo>
                <a:lnTo>
                  <a:pt x="2431" y="750"/>
                </a:lnTo>
                <a:lnTo>
                  <a:pt x="2432" y="1051"/>
                </a:lnTo>
                <a:lnTo>
                  <a:pt x="2433" y="1108"/>
                </a:lnTo>
                <a:lnTo>
                  <a:pt x="2434" y="611"/>
                </a:lnTo>
                <a:lnTo>
                  <a:pt x="2436" y="1011"/>
                </a:lnTo>
                <a:lnTo>
                  <a:pt x="2438" y="1122"/>
                </a:lnTo>
                <a:lnTo>
                  <a:pt x="2439" y="840"/>
                </a:lnTo>
                <a:lnTo>
                  <a:pt x="2440" y="503"/>
                </a:lnTo>
                <a:lnTo>
                  <a:pt x="2441" y="826"/>
                </a:lnTo>
                <a:lnTo>
                  <a:pt x="2442" y="980"/>
                </a:lnTo>
                <a:lnTo>
                  <a:pt x="2443" y="657"/>
                </a:lnTo>
                <a:lnTo>
                  <a:pt x="2444" y="1327"/>
                </a:lnTo>
                <a:lnTo>
                  <a:pt x="2445" y="1041"/>
                </a:lnTo>
                <a:lnTo>
                  <a:pt x="2448" y="987"/>
                </a:lnTo>
                <a:lnTo>
                  <a:pt x="2449" y="704"/>
                </a:lnTo>
                <a:lnTo>
                  <a:pt x="2450" y="873"/>
                </a:lnTo>
                <a:lnTo>
                  <a:pt x="2451" y="594"/>
                </a:lnTo>
                <a:lnTo>
                  <a:pt x="2452" y="830"/>
                </a:lnTo>
                <a:lnTo>
                  <a:pt x="2453" y="1049"/>
                </a:lnTo>
                <a:lnTo>
                  <a:pt x="2454" y="1044"/>
                </a:lnTo>
                <a:lnTo>
                  <a:pt x="2455" y="1722"/>
                </a:lnTo>
                <a:lnTo>
                  <a:pt x="2457" y="1199"/>
                </a:lnTo>
                <a:lnTo>
                  <a:pt x="2459" y="1530"/>
                </a:lnTo>
                <a:lnTo>
                  <a:pt x="2460" y="1263"/>
                </a:lnTo>
                <a:lnTo>
                  <a:pt x="2461" y="1053"/>
                </a:lnTo>
                <a:lnTo>
                  <a:pt x="2462" y="1420"/>
                </a:lnTo>
                <a:lnTo>
                  <a:pt x="2463" y="1402"/>
                </a:lnTo>
                <a:lnTo>
                  <a:pt x="2464" y="1058"/>
                </a:lnTo>
                <a:lnTo>
                  <a:pt x="2466" y="815"/>
                </a:lnTo>
                <a:lnTo>
                  <a:pt x="2467" y="989"/>
                </a:lnTo>
                <a:lnTo>
                  <a:pt x="2468" y="1040"/>
                </a:lnTo>
                <a:lnTo>
                  <a:pt x="2470" y="1138"/>
                </a:lnTo>
                <a:lnTo>
                  <a:pt x="2471" y="1064"/>
                </a:lnTo>
                <a:lnTo>
                  <a:pt x="2472" y="884"/>
                </a:lnTo>
                <a:lnTo>
                  <a:pt x="2473" y="1005"/>
                </a:lnTo>
                <a:lnTo>
                  <a:pt x="2474" y="813"/>
                </a:lnTo>
                <a:lnTo>
                  <a:pt x="2476" y="1290"/>
                </a:lnTo>
                <a:lnTo>
                  <a:pt x="2477" y="909"/>
                </a:lnTo>
                <a:lnTo>
                  <a:pt x="2478" y="1092"/>
                </a:lnTo>
                <a:lnTo>
                  <a:pt x="2479" y="907"/>
                </a:lnTo>
                <a:lnTo>
                  <a:pt x="2481" y="1229"/>
                </a:lnTo>
                <a:lnTo>
                  <a:pt x="2482" y="904"/>
                </a:lnTo>
                <a:lnTo>
                  <a:pt x="2483" y="936"/>
                </a:lnTo>
                <a:lnTo>
                  <a:pt x="2484" y="858"/>
                </a:lnTo>
                <a:lnTo>
                  <a:pt x="2486" y="909"/>
                </a:lnTo>
                <a:lnTo>
                  <a:pt x="2487" y="859"/>
                </a:lnTo>
                <a:lnTo>
                  <a:pt x="2488" y="927"/>
                </a:lnTo>
                <a:lnTo>
                  <a:pt x="2489" y="535"/>
                </a:lnTo>
                <a:lnTo>
                  <a:pt x="2490" y="790"/>
                </a:lnTo>
                <a:lnTo>
                  <a:pt x="2491" y="933"/>
                </a:lnTo>
                <a:lnTo>
                  <a:pt x="2493" y="808"/>
                </a:lnTo>
                <a:lnTo>
                  <a:pt x="2495" y="1306"/>
                </a:lnTo>
                <a:lnTo>
                  <a:pt x="2496" y="619"/>
                </a:lnTo>
                <a:lnTo>
                  <a:pt x="2497" y="866"/>
                </a:lnTo>
                <a:lnTo>
                  <a:pt x="2498" y="1226"/>
                </a:lnTo>
                <a:lnTo>
                  <a:pt x="2499" y="689"/>
                </a:lnTo>
                <a:lnTo>
                  <a:pt x="2500" y="1134"/>
                </a:lnTo>
                <a:lnTo>
                  <a:pt x="2501" y="928"/>
                </a:lnTo>
                <a:lnTo>
                  <a:pt x="2502" y="431"/>
                </a:lnTo>
                <a:lnTo>
                  <a:pt x="2505" y="1282"/>
                </a:lnTo>
                <a:lnTo>
                  <a:pt x="2506" y="1089"/>
                </a:lnTo>
                <a:lnTo>
                  <a:pt x="2507" y="690"/>
                </a:lnTo>
                <a:lnTo>
                  <a:pt x="2508" y="563"/>
                </a:lnTo>
                <a:lnTo>
                  <a:pt x="2509" y="1005"/>
                </a:lnTo>
                <a:lnTo>
                  <a:pt x="2510" y="1225"/>
                </a:lnTo>
                <a:lnTo>
                  <a:pt x="2511" y="1039"/>
                </a:lnTo>
                <a:lnTo>
                  <a:pt x="2512" y="924"/>
                </a:lnTo>
                <a:lnTo>
                  <a:pt x="2513" y="1032"/>
                </a:lnTo>
                <a:lnTo>
                  <a:pt x="2516" y="964"/>
                </a:lnTo>
                <a:lnTo>
                  <a:pt x="2517" y="876"/>
                </a:lnTo>
                <a:lnTo>
                  <a:pt x="2518" y="1534"/>
                </a:lnTo>
                <a:lnTo>
                  <a:pt x="2519" y="443"/>
                </a:lnTo>
                <a:lnTo>
                  <a:pt x="2520" y="1081"/>
                </a:lnTo>
                <a:lnTo>
                  <a:pt x="2521" y="1663"/>
                </a:lnTo>
                <a:lnTo>
                  <a:pt x="2522" y="1124"/>
                </a:lnTo>
                <a:lnTo>
                  <a:pt x="2524" y="571"/>
                </a:lnTo>
                <a:lnTo>
                  <a:pt x="2525" y="1241"/>
                </a:lnTo>
                <a:lnTo>
                  <a:pt x="2527" y="915"/>
                </a:lnTo>
                <a:lnTo>
                  <a:pt x="2528" y="414"/>
                </a:lnTo>
                <a:lnTo>
                  <a:pt x="2529" y="664"/>
                </a:lnTo>
                <a:lnTo>
                  <a:pt x="2530" y="648"/>
                </a:lnTo>
                <a:lnTo>
                  <a:pt x="2531" y="1334"/>
                </a:lnTo>
                <a:lnTo>
                  <a:pt x="2532" y="1332"/>
                </a:lnTo>
                <a:lnTo>
                  <a:pt x="2534" y="1209"/>
                </a:lnTo>
                <a:lnTo>
                  <a:pt x="2535" y="952"/>
                </a:lnTo>
                <a:lnTo>
                  <a:pt x="2536" y="1345"/>
                </a:lnTo>
                <a:lnTo>
                  <a:pt x="2538" y="456"/>
                </a:lnTo>
                <a:lnTo>
                  <a:pt x="2539" y="769"/>
                </a:lnTo>
                <a:lnTo>
                  <a:pt x="2540" y="580"/>
                </a:lnTo>
                <a:lnTo>
                  <a:pt x="2541" y="883"/>
                </a:lnTo>
                <a:lnTo>
                  <a:pt x="2542" y="1264"/>
                </a:lnTo>
                <a:lnTo>
                  <a:pt x="2544" y="1207"/>
                </a:lnTo>
                <a:lnTo>
                  <a:pt x="2545" y="724"/>
                </a:lnTo>
                <a:lnTo>
                  <a:pt x="2546" y="1671"/>
                </a:lnTo>
                <a:lnTo>
                  <a:pt x="2547" y="455"/>
                </a:lnTo>
                <a:lnTo>
                  <a:pt x="2548" y="1360"/>
                </a:lnTo>
                <a:lnTo>
                  <a:pt x="2550" y="1041"/>
                </a:lnTo>
                <a:lnTo>
                  <a:pt x="2551" y="662"/>
                </a:lnTo>
                <a:lnTo>
                  <a:pt x="2553" y="508"/>
                </a:lnTo>
                <a:lnTo>
                  <a:pt x="2554" y="1487"/>
                </a:lnTo>
                <a:lnTo>
                  <a:pt x="2555" y="622"/>
                </a:lnTo>
                <a:lnTo>
                  <a:pt x="2556" y="769"/>
                </a:lnTo>
                <a:lnTo>
                  <a:pt x="2557" y="702"/>
                </a:lnTo>
                <a:lnTo>
                  <a:pt x="2558" y="1229"/>
                </a:lnTo>
                <a:lnTo>
                  <a:pt x="2559" y="974"/>
                </a:lnTo>
                <a:lnTo>
                  <a:pt x="2561" y="584"/>
                </a:lnTo>
                <a:lnTo>
                  <a:pt x="2563" y="1054"/>
                </a:lnTo>
                <a:lnTo>
                  <a:pt x="2564" y="614"/>
                </a:lnTo>
                <a:lnTo>
                  <a:pt x="2565" y="1731"/>
                </a:lnTo>
                <a:lnTo>
                  <a:pt x="2566" y="1292"/>
                </a:lnTo>
                <a:lnTo>
                  <a:pt x="2567" y="1093"/>
                </a:lnTo>
                <a:lnTo>
                  <a:pt x="2568" y="1009"/>
                </a:lnTo>
                <a:lnTo>
                  <a:pt x="2569" y="699"/>
                </a:lnTo>
                <a:lnTo>
                  <a:pt x="2570" y="1189"/>
                </a:lnTo>
                <a:lnTo>
                  <a:pt x="2573" y="953"/>
                </a:lnTo>
                <a:lnTo>
                  <a:pt x="2574" y="1199"/>
                </a:lnTo>
                <a:lnTo>
                  <a:pt x="2575" y="1091"/>
                </a:lnTo>
                <a:lnTo>
                  <a:pt x="2576" y="1606"/>
                </a:lnTo>
                <a:lnTo>
                  <a:pt x="2577" y="1114"/>
                </a:lnTo>
                <a:lnTo>
                  <a:pt x="2578" y="902"/>
                </a:lnTo>
                <a:lnTo>
                  <a:pt x="2579" y="899"/>
                </a:lnTo>
                <a:lnTo>
                  <a:pt x="2580" y="887"/>
                </a:lnTo>
                <a:lnTo>
                  <a:pt x="2582" y="777"/>
                </a:lnTo>
                <a:lnTo>
                  <a:pt x="2584" y="718"/>
                </a:lnTo>
                <a:lnTo>
                  <a:pt x="2585" y="1235"/>
                </a:lnTo>
                <a:lnTo>
                  <a:pt x="2586" y="1062"/>
                </a:lnTo>
                <a:lnTo>
                  <a:pt x="2587" y="640"/>
                </a:lnTo>
                <a:lnTo>
                  <a:pt x="2588" y="921"/>
                </a:lnTo>
                <a:lnTo>
                  <a:pt x="2589" y="926"/>
                </a:lnTo>
                <a:lnTo>
                  <a:pt x="2590" y="1436"/>
                </a:lnTo>
                <a:lnTo>
                  <a:pt x="2592" y="1323"/>
                </a:lnTo>
                <a:lnTo>
                  <a:pt x="2593" y="901"/>
                </a:lnTo>
                <a:lnTo>
                  <a:pt x="2595" y="885"/>
                </a:lnTo>
                <a:lnTo>
                  <a:pt x="2596" y="1560"/>
                </a:lnTo>
                <a:lnTo>
                  <a:pt x="2597" y="1172"/>
                </a:lnTo>
                <a:lnTo>
                  <a:pt x="2598" y="1440"/>
                </a:lnTo>
                <a:lnTo>
                  <a:pt x="2599" y="844"/>
                </a:lnTo>
                <a:lnTo>
                  <a:pt x="2600" y="1305"/>
                </a:lnTo>
                <a:lnTo>
                  <a:pt x="2602" y="1131"/>
                </a:lnTo>
                <a:lnTo>
                  <a:pt x="2603" y="857"/>
                </a:lnTo>
                <a:lnTo>
                  <a:pt x="2604" y="886"/>
                </a:lnTo>
                <a:lnTo>
                  <a:pt x="2606" y="834"/>
                </a:lnTo>
                <a:lnTo>
                  <a:pt x="2607" y="807"/>
                </a:lnTo>
                <a:lnTo>
                  <a:pt x="2608" y="1151"/>
                </a:lnTo>
                <a:lnTo>
                  <a:pt x="2609" y="1188"/>
                </a:lnTo>
                <a:lnTo>
                  <a:pt x="2611" y="821"/>
                </a:lnTo>
                <a:lnTo>
                  <a:pt x="2612" y="1473"/>
                </a:lnTo>
                <a:lnTo>
                  <a:pt x="2613" y="443"/>
                </a:lnTo>
                <a:lnTo>
                  <a:pt x="2614" y="994"/>
                </a:lnTo>
                <a:lnTo>
                  <a:pt x="2615" y="1046"/>
                </a:lnTo>
                <a:lnTo>
                  <a:pt x="2616" y="1079"/>
                </a:lnTo>
                <a:lnTo>
                  <a:pt x="2618" y="1300"/>
                </a:lnTo>
                <a:lnTo>
                  <a:pt x="2619" y="901"/>
                </a:lnTo>
                <a:lnTo>
                  <a:pt x="2621" y="1194"/>
                </a:lnTo>
                <a:lnTo>
                  <a:pt x="2622" y="746"/>
                </a:lnTo>
                <a:lnTo>
                  <a:pt x="2623" y="830"/>
                </a:lnTo>
                <a:lnTo>
                  <a:pt x="2624" y="1493"/>
                </a:lnTo>
                <a:lnTo>
                  <a:pt x="2625" y="1309"/>
                </a:lnTo>
                <a:lnTo>
                  <a:pt x="2626" y="979"/>
                </a:lnTo>
                <a:lnTo>
                  <a:pt x="2627" y="772"/>
                </a:lnTo>
                <a:lnTo>
                  <a:pt x="2629" y="761"/>
                </a:lnTo>
                <a:lnTo>
                  <a:pt x="2631" y="1201"/>
                </a:lnTo>
                <a:lnTo>
                  <a:pt x="2632" y="1161"/>
                </a:lnTo>
                <a:lnTo>
                  <a:pt x="2633" y="1326"/>
                </a:lnTo>
                <a:lnTo>
                  <a:pt x="2634" y="1113"/>
                </a:lnTo>
                <a:lnTo>
                  <a:pt x="2635" y="1134"/>
                </a:lnTo>
                <a:lnTo>
                  <a:pt x="2636" y="862"/>
                </a:lnTo>
                <a:lnTo>
                  <a:pt x="2637" y="502"/>
                </a:lnTo>
                <a:lnTo>
                  <a:pt x="2638" y="516"/>
                </a:lnTo>
                <a:lnTo>
                  <a:pt x="2641" y="927"/>
                </a:lnTo>
                <a:lnTo>
                  <a:pt x="2642" y="1103"/>
                </a:lnTo>
                <a:lnTo>
                  <a:pt x="2643" y="975"/>
                </a:lnTo>
                <a:lnTo>
                  <a:pt x="2644" y="1219"/>
                </a:lnTo>
                <a:lnTo>
                  <a:pt x="2645" y="967"/>
                </a:lnTo>
                <a:lnTo>
                  <a:pt x="2646" y="1161"/>
                </a:lnTo>
                <a:lnTo>
                  <a:pt x="2647" y="1360"/>
                </a:lnTo>
                <a:lnTo>
                  <a:pt x="2648" y="1177"/>
                </a:lnTo>
                <a:lnTo>
                  <a:pt x="2650" y="1344"/>
                </a:lnTo>
                <a:lnTo>
                  <a:pt x="2652" y="1035"/>
                </a:lnTo>
                <a:lnTo>
                  <a:pt x="2653" y="921"/>
                </a:lnTo>
                <a:lnTo>
                  <a:pt x="2654" y="498"/>
                </a:lnTo>
                <a:lnTo>
                  <a:pt x="2655" y="867"/>
                </a:lnTo>
                <a:lnTo>
                  <a:pt x="2656" y="802"/>
                </a:lnTo>
                <a:lnTo>
                  <a:pt x="2657" y="1509"/>
                </a:lnTo>
                <a:lnTo>
                  <a:pt x="2658" y="887"/>
                </a:lnTo>
                <a:lnTo>
                  <a:pt x="2660" y="1108"/>
                </a:lnTo>
                <a:lnTo>
                  <a:pt x="2661" y="1131"/>
                </a:lnTo>
                <a:lnTo>
                  <a:pt x="2663" y="964"/>
                </a:lnTo>
                <a:lnTo>
                  <a:pt x="2664" y="758"/>
                </a:lnTo>
                <a:lnTo>
                  <a:pt x="2665" y="733"/>
                </a:lnTo>
                <a:lnTo>
                  <a:pt x="2666" y="780"/>
                </a:lnTo>
                <a:lnTo>
                  <a:pt x="2667" y="844"/>
                </a:lnTo>
                <a:lnTo>
                  <a:pt x="2669" y="844"/>
                </a:lnTo>
                <a:lnTo>
                  <a:pt x="2670" y="1260"/>
                </a:lnTo>
                <a:lnTo>
                  <a:pt x="2671" y="945"/>
                </a:lnTo>
                <a:lnTo>
                  <a:pt x="2672" y="1199"/>
                </a:lnTo>
                <a:lnTo>
                  <a:pt x="2673" y="470"/>
                </a:lnTo>
                <a:lnTo>
                  <a:pt x="2675" y="1056"/>
                </a:lnTo>
                <a:lnTo>
                  <a:pt x="2676" y="1397"/>
                </a:lnTo>
                <a:lnTo>
                  <a:pt x="2677" y="1465"/>
                </a:lnTo>
                <a:lnTo>
                  <a:pt x="2679" y="1495"/>
                </a:lnTo>
                <a:lnTo>
                  <a:pt x="2680" y="931"/>
                </a:lnTo>
                <a:lnTo>
                  <a:pt x="2681" y="1166"/>
                </a:lnTo>
                <a:lnTo>
                  <a:pt x="2682" y="1043"/>
                </a:lnTo>
                <a:lnTo>
                  <a:pt x="2683" y="985"/>
                </a:lnTo>
                <a:lnTo>
                  <a:pt x="2684" y="1121"/>
                </a:lnTo>
                <a:lnTo>
                  <a:pt x="2686" y="1247"/>
                </a:lnTo>
                <a:lnTo>
                  <a:pt x="2687" y="1278"/>
                </a:lnTo>
                <a:lnTo>
                  <a:pt x="2689" y="664"/>
                </a:lnTo>
                <a:lnTo>
                  <a:pt x="2690" y="1176"/>
                </a:lnTo>
                <a:lnTo>
                  <a:pt x="2691" y="742"/>
                </a:lnTo>
                <a:lnTo>
                  <a:pt x="2692" y="1117"/>
                </a:lnTo>
                <a:lnTo>
                  <a:pt x="2693" y="1101"/>
                </a:lnTo>
                <a:lnTo>
                  <a:pt x="2694" y="1696"/>
                </a:lnTo>
                <a:lnTo>
                  <a:pt x="2695" y="1033"/>
                </a:lnTo>
                <a:lnTo>
                  <a:pt x="2698" y="581"/>
                </a:lnTo>
                <a:lnTo>
                  <a:pt x="2699" y="1531"/>
                </a:lnTo>
                <a:lnTo>
                  <a:pt x="2700" y="1149"/>
                </a:lnTo>
                <a:lnTo>
                  <a:pt x="2701" y="855"/>
                </a:lnTo>
                <a:lnTo>
                  <a:pt x="2702" y="2083"/>
                </a:lnTo>
                <a:lnTo>
                  <a:pt x="2703" y="714"/>
                </a:lnTo>
                <a:lnTo>
                  <a:pt x="2704" y="1251"/>
                </a:lnTo>
                <a:lnTo>
                  <a:pt x="2705" y="1606"/>
                </a:lnTo>
                <a:lnTo>
                  <a:pt x="2706" y="792"/>
                </a:lnTo>
                <a:lnTo>
                  <a:pt x="2709" y="636"/>
                </a:lnTo>
                <a:lnTo>
                  <a:pt x="2710" y="1152"/>
                </a:lnTo>
                <a:lnTo>
                  <a:pt x="2711" y="1247"/>
                </a:lnTo>
                <a:lnTo>
                  <a:pt x="2712" y="974"/>
                </a:lnTo>
                <a:lnTo>
                  <a:pt x="2713" y="473"/>
                </a:lnTo>
                <a:lnTo>
                  <a:pt x="2714" y="688"/>
                </a:lnTo>
                <a:lnTo>
                  <a:pt x="2715" y="789"/>
                </a:lnTo>
                <a:lnTo>
                  <a:pt x="2717" y="1078"/>
                </a:lnTo>
                <a:lnTo>
                  <a:pt x="2718" y="1183"/>
                </a:lnTo>
                <a:lnTo>
                  <a:pt x="2720" y="770"/>
                </a:lnTo>
                <a:lnTo>
                  <a:pt x="2721" y="870"/>
                </a:lnTo>
                <a:lnTo>
                  <a:pt x="2722" y="1387"/>
                </a:lnTo>
                <a:lnTo>
                  <a:pt x="2723" y="1147"/>
                </a:lnTo>
                <a:lnTo>
                  <a:pt x="2724" y="1141"/>
                </a:lnTo>
                <a:lnTo>
                  <a:pt x="2725" y="1229"/>
                </a:lnTo>
                <a:lnTo>
                  <a:pt x="2727" y="1026"/>
                </a:lnTo>
                <a:lnTo>
                  <a:pt x="2728" y="1092"/>
                </a:lnTo>
                <a:lnTo>
                  <a:pt x="2729" y="623"/>
                </a:lnTo>
                <a:lnTo>
                  <a:pt x="2731" y="668"/>
                </a:lnTo>
                <a:lnTo>
                  <a:pt x="2732" y="1137"/>
                </a:lnTo>
                <a:lnTo>
                  <a:pt x="2733" y="1617"/>
                </a:lnTo>
                <a:lnTo>
                  <a:pt x="2734" y="785"/>
                </a:lnTo>
                <a:lnTo>
                  <a:pt x="2735" y="1006"/>
                </a:lnTo>
                <a:lnTo>
                  <a:pt x="2737" y="398"/>
                </a:lnTo>
                <a:lnTo>
                  <a:pt x="2738" y="1093"/>
                </a:lnTo>
                <a:lnTo>
                  <a:pt x="2739" y="1023"/>
                </a:lnTo>
                <a:lnTo>
                  <a:pt x="2740" y="976"/>
                </a:lnTo>
                <a:lnTo>
                  <a:pt x="2741" y="553"/>
                </a:lnTo>
                <a:lnTo>
                  <a:pt x="2743" y="1058"/>
                </a:lnTo>
                <a:lnTo>
                  <a:pt x="2744" y="1208"/>
                </a:lnTo>
                <a:lnTo>
                  <a:pt x="2746" y="1415"/>
                </a:lnTo>
                <a:lnTo>
                  <a:pt x="2747" y="1795"/>
                </a:lnTo>
                <a:lnTo>
                  <a:pt x="2748" y="1043"/>
                </a:lnTo>
                <a:lnTo>
                  <a:pt x="2749" y="1258"/>
                </a:lnTo>
                <a:lnTo>
                  <a:pt x="2750" y="876"/>
                </a:lnTo>
                <a:lnTo>
                  <a:pt x="2751" y="733"/>
                </a:lnTo>
                <a:lnTo>
                  <a:pt x="2752" y="951"/>
                </a:lnTo>
                <a:lnTo>
                  <a:pt x="2754" y="917"/>
                </a:lnTo>
                <a:lnTo>
                  <a:pt x="2756" y="1002"/>
                </a:lnTo>
                <a:lnTo>
                  <a:pt x="2757" y="724"/>
                </a:lnTo>
                <a:lnTo>
                  <a:pt x="2758" y="1231"/>
                </a:lnTo>
                <a:lnTo>
                  <a:pt x="2759" y="1334"/>
                </a:lnTo>
                <a:lnTo>
                  <a:pt x="2760" y="924"/>
                </a:lnTo>
                <a:lnTo>
                  <a:pt x="2761" y="616"/>
                </a:lnTo>
                <a:lnTo>
                  <a:pt x="2762" y="960"/>
                </a:lnTo>
                <a:lnTo>
                  <a:pt x="2763" y="1044"/>
                </a:lnTo>
                <a:lnTo>
                  <a:pt x="2766" y="893"/>
                </a:lnTo>
                <a:lnTo>
                  <a:pt x="2767" y="1540"/>
                </a:lnTo>
                <a:lnTo>
                  <a:pt x="2768" y="1459"/>
                </a:lnTo>
                <a:lnTo>
                  <a:pt x="2769" y="719"/>
                </a:lnTo>
                <a:lnTo>
                  <a:pt x="2770" y="992"/>
                </a:lnTo>
                <a:lnTo>
                  <a:pt x="2771" y="1099"/>
                </a:lnTo>
                <a:lnTo>
                  <a:pt x="2772" y="1227"/>
                </a:lnTo>
                <a:lnTo>
                  <a:pt x="2773" y="1201"/>
                </a:lnTo>
                <a:lnTo>
                  <a:pt x="2775" y="536"/>
                </a:lnTo>
                <a:lnTo>
                  <a:pt x="2777" y="963"/>
                </a:lnTo>
                <a:lnTo>
                  <a:pt x="2778" y="1079"/>
                </a:lnTo>
                <a:lnTo>
                  <a:pt x="2779" y="132"/>
                </a:lnTo>
                <a:lnTo>
                  <a:pt x="2780" y="1038"/>
                </a:lnTo>
                <a:lnTo>
                  <a:pt x="2781" y="936"/>
                </a:lnTo>
                <a:lnTo>
                  <a:pt x="2782" y="942"/>
                </a:lnTo>
                <a:lnTo>
                  <a:pt x="2783" y="781"/>
                </a:lnTo>
                <a:lnTo>
                  <a:pt x="2785" y="1325"/>
                </a:lnTo>
                <a:lnTo>
                  <a:pt x="2786" y="1351"/>
                </a:lnTo>
                <a:lnTo>
                  <a:pt x="2788" y="1207"/>
                </a:lnTo>
                <a:lnTo>
                  <a:pt x="2789" y="872"/>
                </a:lnTo>
                <a:lnTo>
                  <a:pt x="2790" y="801"/>
                </a:lnTo>
                <a:lnTo>
                  <a:pt x="2791" y="801"/>
                </a:lnTo>
                <a:lnTo>
                  <a:pt x="2792" y="1698"/>
                </a:lnTo>
                <a:lnTo>
                  <a:pt x="2793" y="691"/>
                </a:lnTo>
                <a:lnTo>
                  <a:pt x="2795" y="933"/>
                </a:lnTo>
                <a:lnTo>
                  <a:pt x="2796" y="1004"/>
                </a:lnTo>
                <a:lnTo>
                  <a:pt x="2797" y="983"/>
                </a:lnTo>
                <a:lnTo>
                  <a:pt x="2799" y="1459"/>
                </a:lnTo>
                <a:lnTo>
                  <a:pt x="2800" y="902"/>
                </a:lnTo>
                <a:lnTo>
                  <a:pt x="2801" y="1172"/>
                </a:lnTo>
                <a:lnTo>
                  <a:pt x="2802" y="1521"/>
                </a:lnTo>
                <a:lnTo>
                  <a:pt x="2804" y="1072"/>
                </a:lnTo>
                <a:lnTo>
                  <a:pt x="2805" y="1082"/>
                </a:lnTo>
                <a:lnTo>
                  <a:pt x="2806" y="899"/>
                </a:lnTo>
                <a:lnTo>
                  <a:pt x="2807" y="878"/>
                </a:lnTo>
                <a:lnTo>
                  <a:pt x="2808" y="1316"/>
                </a:lnTo>
                <a:lnTo>
                  <a:pt x="2809" y="1134"/>
                </a:lnTo>
                <a:lnTo>
                  <a:pt x="2811" y="1289"/>
                </a:lnTo>
                <a:lnTo>
                  <a:pt x="2812" y="1108"/>
                </a:lnTo>
                <a:lnTo>
                  <a:pt x="2814" y="672"/>
                </a:lnTo>
                <a:lnTo>
                  <a:pt x="2815" y="1119"/>
                </a:lnTo>
                <a:lnTo>
                  <a:pt x="2816" y="476"/>
                </a:lnTo>
                <a:lnTo>
                  <a:pt x="2817" y="801"/>
                </a:lnTo>
                <a:lnTo>
                  <a:pt x="2818" y="1462"/>
                </a:lnTo>
                <a:lnTo>
                  <a:pt x="2819" y="713"/>
                </a:lnTo>
                <a:lnTo>
                  <a:pt x="2820" y="1219"/>
                </a:lnTo>
                <a:lnTo>
                  <a:pt x="2822" y="1263"/>
                </a:lnTo>
                <a:lnTo>
                  <a:pt x="2824" y="532"/>
                </a:lnTo>
                <a:lnTo>
                  <a:pt x="2825" y="807"/>
                </a:lnTo>
                <a:lnTo>
                  <a:pt x="2826" y="1081"/>
                </a:lnTo>
                <a:lnTo>
                  <a:pt x="2827" y="1217"/>
                </a:lnTo>
                <a:lnTo>
                  <a:pt x="2828" y="1469"/>
                </a:lnTo>
                <a:lnTo>
                  <a:pt x="2829" y="1367"/>
                </a:lnTo>
                <a:lnTo>
                  <a:pt x="2830" y="1440"/>
                </a:lnTo>
                <a:lnTo>
                  <a:pt x="2831" y="1274"/>
                </a:lnTo>
                <a:lnTo>
                  <a:pt x="2834" y="1014"/>
                </a:lnTo>
                <a:lnTo>
                  <a:pt x="2835" y="1386"/>
                </a:lnTo>
                <a:lnTo>
                  <a:pt x="2836" y="864"/>
                </a:lnTo>
                <a:lnTo>
                  <a:pt x="2837" y="701"/>
                </a:lnTo>
                <a:lnTo>
                  <a:pt x="2838" y="811"/>
                </a:lnTo>
                <a:lnTo>
                  <a:pt x="2839" y="902"/>
                </a:lnTo>
                <a:lnTo>
                  <a:pt x="2840" y="703"/>
                </a:lnTo>
                <a:lnTo>
                  <a:pt x="2841" y="999"/>
                </a:lnTo>
                <a:lnTo>
                  <a:pt x="2843" y="1365"/>
                </a:lnTo>
                <a:lnTo>
                  <a:pt x="2845" y="1559"/>
                </a:lnTo>
                <a:lnTo>
                  <a:pt x="2846" y="1175"/>
                </a:lnTo>
                <a:lnTo>
                  <a:pt x="2847" y="743"/>
                </a:lnTo>
                <a:lnTo>
                  <a:pt x="2848" y="1012"/>
                </a:lnTo>
                <a:lnTo>
                  <a:pt x="2849" y="937"/>
                </a:lnTo>
                <a:lnTo>
                  <a:pt x="2850" y="962"/>
                </a:lnTo>
                <a:lnTo>
                  <a:pt x="2851" y="740"/>
                </a:lnTo>
                <a:lnTo>
                  <a:pt x="2853" y="466"/>
                </a:lnTo>
                <a:lnTo>
                  <a:pt x="2854" y="1217"/>
                </a:lnTo>
                <a:lnTo>
                  <a:pt x="2856" y="1302"/>
                </a:lnTo>
                <a:lnTo>
                  <a:pt x="2857" y="982"/>
                </a:lnTo>
                <a:lnTo>
                  <a:pt x="2858" y="897"/>
                </a:lnTo>
                <a:lnTo>
                  <a:pt x="2859" y="1285"/>
                </a:lnTo>
                <a:lnTo>
                  <a:pt x="2860" y="644"/>
                </a:lnTo>
                <a:lnTo>
                  <a:pt x="2862" y="1009"/>
                </a:lnTo>
                <a:lnTo>
                  <a:pt x="2863" y="1182"/>
                </a:lnTo>
                <a:lnTo>
                  <a:pt x="2864" y="882"/>
                </a:lnTo>
                <a:lnTo>
                  <a:pt x="2865" y="1473"/>
                </a:lnTo>
                <a:lnTo>
                  <a:pt x="2866" y="1211"/>
                </a:lnTo>
                <a:lnTo>
                  <a:pt x="2868" y="1475"/>
                </a:lnTo>
                <a:lnTo>
                  <a:pt x="2869" y="1277"/>
                </a:lnTo>
                <a:lnTo>
                  <a:pt x="2870" y="1095"/>
                </a:lnTo>
                <a:lnTo>
                  <a:pt x="2872" y="655"/>
                </a:lnTo>
                <a:lnTo>
                  <a:pt x="2873" y="1161"/>
                </a:lnTo>
                <a:lnTo>
                  <a:pt x="2874" y="992"/>
                </a:lnTo>
                <a:lnTo>
                  <a:pt x="2875" y="1234"/>
                </a:lnTo>
                <a:lnTo>
                  <a:pt x="2876" y="825"/>
                </a:lnTo>
                <a:lnTo>
                  <a:pt x="2877" y="1094"/>
                </a:lnTo>
                <a:lnTo>
                  <a:pt x="2879" y="785"/>
                </a:lnTo>
                <a:lnTo>
                  <a:pt x="2880" y="1041"/>
                </a:lnTo>
                <a:lnTo>
                  <a:pt x="2882" y="1178"/>
                </a:lnTo>
                <a:lnTo>
                  <a:pt x="2883" y="669"/>
                </a:lnTo>
                <a:lnTo>
                  <a:pt x="2884" y="1118"/>
                </a:lnTo>
                <a:lnTo>
                  <a:pt x="2885" y="1637"/>
                </a:lnTo>
                <a:lnTo>
                  <a:pt x="2886" y="915"/>
                </a:lnTo>
                <a:lnTo>
                  <a:pt x="2887" y="885"/>
                </a:lnTo>
                <a:lnTo>
                  <a:pt x="2888" y="1025"/>
                </a:lnTo>
                <a:lnTo>
                  <a:pt x="2891" y="1297"/>
                </a:lnTo>
                <a:lnTo>
                  <a:pt x="2892" y="982"/>
                </a:lnTo>
                <a:lnTo>
                  <a:pt x="2893" y="1247"/>
                </a:lnTo>
                <a:lnTo>
                  <a:pt x="2894" y="1265"/>
                </a:lnTo>
                <a:lnTo>
                  <a:pt x="2895" y="1433"/>
                </a:lnTo>
                <a:lnTo>
                  <a:pt x="2896" y="954"/>
                </a:lnTo>
                <a:lnTo>
                  <a:pt x="2897" y="1333"/>
                </a:lnTo>
                <a:lnTo>
                  <a:pt x="2898" y="634"/>
                </a:lnTo>
                <a:lnTo>
                  <a:pt x="2899" y="1384"/>
                </a:lnTo>
                <a:lnTo>
                  <a:pt x="2902" y="1358"/>
                </a:lnTo>
                <a:lnTo>
                  <a:pt x="2903" y="516"/>
                </a:lnTo>
                <a:lnTo>
                  <a:pt x="2904" y="1157"/>
                </a:lnTo>
                <a:lnTo>
                  <a:pt x="2905" y="1436"/>
                </a:lnTo>
                <a:lnTo>
                  <a:pt x="2906" y="462"/>
                </a:lnTo>
                <a:lnTo>
                  <a:pt x="2907" y="816"/>
                </a:lnTo>
                <a:lnTo>
                  <a:pt x="2908" y="1108"/>
                </a:lnTo>
                <a:lnTo>
                  <a:pt x="2909" y="786"/>
                </a:lnTo>
                <a:lnTo>
                  <a:pt x="2911" y="1075"/>
                </a:lnTo>
                <a:lnTo>
                  <a:pt x="2913" y="1433"/>
                </a:lnTo>
                <a:lnTo>
                  <a:pt x="2914" y="890"/>
                </a:lnTo>
                <a:lnTo>
                  <a:pt x="2915" y="1322"/>
                </a:lnTo>
                <a:lnTo>
                  <a:pt x="2916" y="986"/>
                </a:lnTo>
                <a:lnTo>
                  <a:pt x="2917" y="1063"/>
                </a:lnTo>
                <a:lnTo>
                  <a:pt x="2918" y="1368"/>
                </a:lnTo>
                <a:lnTo>
                  <a:pt x="2920" y="1273"/>
                </a:lnTo>
                <a:lnTo>
                  <a:pt x="2921" y="1300"/>
                </a:lnTo>
                <a:lnTo>
                  <a:pt x="2922" y="985"/>
                </a:lnTo>
                <a:lnTo>
                  <a:pt x="2924" y="1087"/>
                </a:lnTo>
                <a:lnTo>
                  <a:pt x="2925" y="1000"/>
                </a:lnTo>
                <a:lnTo>
                  <a:pt x="2926" y="880"/>
                </a:lnTo>
                <a:lnTo>
                  <a:pt x="2927" y="659"/>
                </a:lnTo>
                <a:lnTo>
                  <a:pt x="2928" y="599"/>
                </a:lnTo>
                <a:lnTo>
                  <a:pt x="2930" y="1049"/>
                </a:lnTo>
                <a:lnTo>
                  <a:pt x="2931" y="899"/>
                </a:lnTo>
                <a:lnTo>
                  <a:pt x="2932" y="814"/>
                </a:lnTo>
                <a:lnTo>
                  <a:pt x="2933" y="901"/>
                </a:lnTo>
                <a:lnTo>
                  <a:pt x="2934" y="1295"/>
                </a:lnTo>
                <a:lnTo>
                  <a:pt x="2936" y="982"/>
                </a:lnTo>
                <a:lnTo>
                  <a:pt x="2937" y="1483"/>
                </a:lnTo>
                <a:lnTo>
                  <a:pt x="2938" y="721"/>
                </a:lnTo>
                <a:lnTo>
                  <a:pt x="2940" y="774"/>
                </a:lnTo>
                <a:lnTo>
                  <a:pt x="2941" y="1449"/>
                </a:lnTo>
                <a:lnTo>
                  <a:pt x="2942" y="742"/>
                </a:lnTo>
                <a:lnTo>
                  <a:pt x="2943" y="1050"/>
                </a:lnTo>
                <a:lnTo>
                  <a:pt x="2944" y="942"/>
                </a:lnTo>
                <a:lnTo>
                  <a:pt x="2945" y="1094"/>
                </a:lnTo>
                <a:lnTo>
                  <a:pt x="2947" y="728"/>
                </a:lnTo>
                <a:lnTo>
                  <a:pt x="2949" y="1039"/>
                </a:lnTo>
                <a:lnTo>
                  <a:pt x="2950" y="771"/>
                </a:lnTo>
                <a:lnTo>
                  <a:pt x="2951" y="582"/>
                </a:lnTo>
                <a:lnTo>
                  <a:pt x="2952" y="1130"/>
                </a:lnTo>
                <a:lnTo>
                  <a:pt x="2953" y="937"/>
                </a:lnTo>
                <a:lnTo>
                  <a:pt x="2954" y="1120"/>
                </a:lnTo>
                <a:lnTo>
                  <a:pt x="2955" y="1124"/>
                </a:lnTo>
                <a:lnTo>
                  <a:pt x="2956" y="1020"/>
                </a:lnTo>
                <a:lnTo>
                  <a:pt x="2959" y="1108"/>
                </a:lnTo>
                <a:lnTo>
                  <a:pt x="2960" y="1280"/>
                </a:lnTo>
                <a:lnTo>
                  <a:pt x="2961" y="653"/>
                </a:lnTo>
                <a:lnTo>
                  <a:pt x="2962" y="958"/>
                </a:lnTo>
                <a:lnTo>
                  <a:pt x="2963" y="406"/>
                </a:lnTo>
                <a:lnTo>
                  <a:pt x="2964" y="1399"/>
                </a:lnTo>
                <a:lnTo>
                  <a:pt x="2965" y="1256"/>
                </a:lnTo>
                <a:lnTo>
                  <a:pt x="2966" y="1196"/>
                </a:lnTo>
                <a:lnTo>
                  <a:pt x="2968" y="1300"/>
                </a:lnTo>
                <a:lnTo>
                  <a:pt x="2970" y="697"/>
                </a:lnTo>
                <a:lnTo>
                  <a:pt x="2971" y="1020"/>
                </a:lnTo>
                <a:lnTo>
                  <a:pt x="2972" y="706"/>
                </a:lnTo>
                <a:lnTo>
                  <a:pt x="2973" y="726"/>
                </a:lnTo>
                <a:lnTo>
                  <a:pt x="2974" y="1077"/>
                </a:lnTo>
                <a:lnTo>
                  <a:pt x="2975" y="909"/>
                </a:lnTo>
                <a:lnTo>
                  <a:pt x="2976" y="859"/>
                </a:lnTo>
                <a:lnTo>
                  <a:pt x="2978" y="1020"/>
                </a:lnTo>
                <a:lnTo>
                  <a:pt x="2979" y="1187"/>
                </a:lnTo>
                <a:lnTo>
                  <a:pt x="2981" y="1093"/>
                </a:lnTo>
                <a:lnTo>
                  <a:pt x="2982" y="1116"/>
                </a:lnTo>
                <a:lnTo>
                  <a:pt x="2983" y="1168"/>
                </a:lnTo>
                <a:lnTo>
                  <a:pt x="2984" y="706"/>
                </a:lnTo>
                <a:lnTo>
                  <a:pt x="2985" y="923"/>
                </a:lnTo>
                <a:lnTo>
                  <a:pt x="2986" y="1016"/>
                </a:lnTo>
                <a:lnTo>
                  <a:pt x="2988" y="601"/>
                </a:lnTo>
                <a:lnTo>
                  <a:pt x="2989" y="1302"/>
                </a:lnTo>
                <a:lnTo>
                  <a:pt x="2990" y="919"/>
                </a:lnTo>
                <a:lnTo>
                  <a:pt x="2991" y="1199"/>
                </a:lnTo>
                <a:lnTo>
                  <a:pt x="2993" y="810"/>
                </a:lnTo>
                <a:lnTo>
                  <a:pt x="2994" y="972"/>
                </a:lnTo>
                <a:lnTo>
                  <a:pt x="2995" y="1766"/>
                </a:lnTo>
                <a:lnTo>
                  <a:pt x="2997" y="1052"/>
                </a:lnTo>
                <a:lnTo>
                  <a:pt x="2998" y="1014"/>
                </a:lnTo>
                <a:lnTo>
                  <a:pt x="2999" y="1241"/>
                </a:lnTo>
                <a:lnTo>
                  <a:pt x="3000" y="1050"/>
                </a:lnTo>
                <a:lnTo>
                  <a:pt x="3001" y="1233"/>
                </a:lnTo>
                <a:lnTo>
                  <a:pt x="3002" y="1176"/>
                </a:lnTo>
                <a:lnTo>
                  <a:pt x="3004" y="1257"/>
                </a:lnTo>
                <a:lnTo>
                  <a:pt x="3005" y="1032"/>
                </a:lnTo>
                <a:lnTo>
                  <a:pt x="3007" y="1159"/>
                </a:lnTo>
                <a:lnTo>
                  <a:pt x="3008" y="1140"/>
                </a:lnTo>
                <a:lnTo>
                  <a:pt x="3009" y="672"/>
                </a:lnTo>
                <a:lnTo>
                  <a:pt x="3010" y="1342"/>
                </a:lnTo>
                <a:lnTo>
                  <a:pt x="3011" y="690"/>
                </a:lnTo>
                <a:lnTo>
                  <a:pt x="3012" y="1439"/>
                </a:lnTo>
                <a:lnTo>
                  <a:pt x="3013" y="1010"/>
                </a:lnTo>
                <a:lnTo>
                  <a:pt x="3015" y="1090"/>
                </a:lnTo>
                <a:lnTo>
                  <a:pt x="3017" y="1229"/>
                </a:lnTo>
                <a:lnTo>
                  <a:pt x="3018" y="1342"/>
                </a:lnTo>
                <a:lnTo>
                  <a:pt x="3019" y="1426"/>
                </a:lnTo>
                <a:lnTo>
                  <a:pt x="3020" y="846"/>
                </a:lnTo>
                <a:lnTo>
                  <a:pt x="3021" y="1293"/>
                </a:lnTo>
                <a:lnTo>
                  <a:pt x="3022" y="1348"/>
                </a:lnTo>
                <a:lnTo>
                  <a:pt x="3023" y="1052"/>
                </a:lnTo>
                <a:lnTo>
                  <a:pt x="3024" y="714"/>
                </a:lnTo>
                <a:lnTo>
                  <a:pt x="3027" y="1212"/>
                </a:lnTo>
                <a:lnTo>
                  <a:pt x="3028" y="421"/>
                </a:lnTo>
                <a:lnTo>
                  <a:pt x="3029" y="1414"/>
                </a:lnTo>
                <a:lnTo>
                  <a:pt x="3030" y="1352"/>
                </a:lnTo>
                <a:lnTo>
                  <a:pt x="3031" y="1453"/>
                </a:lnTo>
                <a:lnTo>
                  <a:pt x="3032" y="1220"/>
                </a:lnTo>
                <a:lnTo>
                  <a:pt x="3033" y="1055"/>
                </a:lnTo>
                <a:lnTo>
                  <a:pt x="3034" y="892"/>
                </a:lnTo>
                <a:lnTo>
                  <a:pt x="3036" y="1302"/>
                </a:lnTo>
                <a:lnTo>
                  <a:pt x="3038" y="972"/>
                </a:lnTo>
                <a:lnTo>
                  <a:pt x="3039" y="1167"/>
                </a:lnTo>
                <a:lnTo>
                  <a:pt x="3040" y="1606"/>
                </a:lnTo>
                <a:lnTo>
                  <a:pt x="3041" y="875"/>
                </a:lnTo>
                <a:lnTo>
                  <a:pt x="3042" y="1285"/>
                </a:lnTo>
                <a:lnTo>
                  <a:pt x="3043" y="1367"/>
                </a:lnTo>
                <a:lnTo>
                  <a:pt x="3044" y="1048"/>
                </a:lnTo>
                <a:lnTo>
                  <a:pt x="3046" y="1152"/>
                </a:lnTo>
                <a:lnTo>
                  <a:pt x="3047" y="1290"/>
                </a:lnTo>
                <a:lnTo>
                  <a:pt x="3049" y="831"/>
                </a:lnTo>
                <a:lnTo>
                  <a:pt x="3050" y="1074"/>
                </a:lnTo>
                <a:lnTo>
                  <a:pt x="3051" y="724"/>
                </a:lnTo>
                <a:lnTo>
                  <a:pt x="3052" y="1079"/>
                </a:lnTo>
                <a:lnTo>
                  <a:pt x="3053" y="1224"/>
                </a:lnTo>
                <a:lnTo>
                  <a:pt x="3055" y="1307"/>
                </a:lnTo>
                <a:lnTo>
                  <a:pt x="3056" y="1732"/>
                </a:lnTo>
                <a:lnTo>
                  <a:pt x="3057" y="995"/>
                </a:lnTo>
                <a:lnTo>
                  <a:pt x="3058" y="961"/>
                </a:lnTo>
                <a:lnTo>
                  <a:pt x="3059" y="1182"/>
                </a:lnTo>
                <a:lnTo>
                  <a:pt x="3061" y="1091"/>
                </a:lnTo>
                <a:lnTo>
                  <a:pt x="3062" y="960"/>
                </a:lnTo>
                <a:lnTo>
                  <a:pt x="3063" y="851"/>
                </a:lnTo>
                <a:lnTo>
                  <a:pt x="3065" y="877"/>
                </a:lnTo>
                <a:lnTo>
                  <a:pt x="3066" y="1070"/>
                </a:lnTo>
                <a:lnTo>
                  <a:pt x="3067" y="1365"/>
                </a:lnTo>
                <a:lnTo>
                  <a:pt x="3068" y="714"/>
                </a:lnTo>
                <a:lnTo>
                  <a:pt x="3069" y="1179"/>
                </a:lnTo>
                <a:lnTo>
                  <a:pt x="3070" y="721"/>
                </a:lnTo>
                <a:lnTo>
                  <a:pt x="3072" y="1207"/>
                </a:lnTo>
                <a:lnTo>
                  <a:pt x="3073" y="723"/>
                </a:lnTo>
                <a:lnTo>
                  <a:pt x="3075" y="550"/>
                </a:lnTo>
                <a:lnTo>
                  <a:pt x="3076" y="922"/>
                </a:lnTo>
                <a:lnTo>
                  <a:pt x="3077" y="1064"/>
                </a:lnTo>
                <a:lnTo>
                  <a:pt x="3078" y="1165"/>
                </a:lnTo>
                <a:lnTo>
                  <a:pt x="3079" y="446"/>
                </a:lnTo>
                <a:lnTo>
                  <a:pt x="3080" y="899"/>
                </a:lnTo>
                <a:lnTo>
                  <a:pt x="3081" y="800"/>
                </a:lnTo>
                <a:lnTo>
                  <a:pt x="3084" y="536"/>
                </a:lnTo>
                <a:lnTo>
                  <a:pt x="3085" y="1298"/>
                </a:lnTo>
                <a:lnTo>
                  <a:pt x="3086" y="1404"/>
                </a:lnTo>
                <a:lnTo>
                  <a:pt x="3087" y="1131"/>
                </a:lnTo>
                <a:lnTo>
                  <a:pt x="3088" y="0"/>
                </a:lnTo>
                <a:lnTo>
                  <a:pt x="3089" y="1410"/>
                </a:lnTo>
                <a:lnTo>
                  <a:pt x="3090" y="1041"/>
                </a:lnTo>
                <a:lnTo>
                  <a:pt x="3091" y="886"/>
                </a:lnTo>
                <a:lnTo>
                  <a:pt x="3092" y="955"/>
                </a:lnTo>
                <a:lnTo>
                  <a:pt x="3095" y="1179"/>
                </a:lnTo>
                <a:lnTo>
                  <a:pt x="3096" y="1267"/>
                </a:lnTo>
                <a:lnTo>
                  <a:pt x="3097" y="307"/>
                </a:lnTo>
                <a:lnTo>
                  <a:pt x="3098" y="736"/>
                </a:lnTo>
                <a:lnTo>
                  <a:pt x="3099" y="733"/>
                </a:lnTo>
                <a:lnTo>
                  <a:pt x="3100" y="1108"/>
                </a:lnTo>
                <a:lnTo>
                  <a:pt x="3101" y="997"/>
                </a:lnTo>
                <a:lnTo>
                  <a:pt x="3102" y="860"/>
                </a:lnTo>
                <a:lnTo>
                  <a:pt x="3104" y="982"/>
                </a:lnTo>
                <a:lnTo>
                  <a:pt x="3106" y="1210"/>
                </a:lnTo>
                <a:lnTo>
                  <a:pt x="3107" y="1474"/>
                </a:lnTo>
                <a:lnTo>
                  <a:pt x="3108" y="1099"/>
                </a:lnTo>
                <a:lnTo>
                  <a:pt x="3109" y="640"/>
                </a:lnTo>
                <a:lnTo>
                  <a:pt x="3110" y="1001"/>
                </a:lnTo>
                <a:lnTo>
                  <a:pt x="3111" y="805"/>
                </a:lnTo>
                <a:lnTo>
                  <a:pt x="3113" y="622"/>
                </a:lnTo>
                <a:lnTo>
                  <a:pt x="3114" y="1366"/>
                </a:lnTo>
                <a:lnTo>
                  <a:pt x="3115" y="1064"/>
                </a:lnTo>
                <a:lnTo>
                  <a:pt x="3116" y="620"/>
                </a:lnTo>
                <a:lnTo>
                  <a:pt x="3118" y="1182"/>
                </a:lnTo>
                <a:lnTo>
                  <a:pt x="3119" y="541"/>
                </a:lnTo>
                <a:lnTo>
                  <a:pt x="3120" y="1003"/>
                </a:lnTo>
                <a:lnTo>
                  <a:pt x="3121" y="903"/>
                </a:lnTo>
                <a:lnTo>
                  <a:pt x="3123" y="911"/>
                </a:lnTo>
                <a:lnTo>
                  <a:pt x="3124" y="1536"/>
                </a:lnTo>
                <a:lnTo>
                  <a:pt x="3125" y="745"/>
                </a:lnTo>
                <a:lnTo>
                  <a:pt x="3126" y="660"/>
                </a:lnTo>
                <a:lnTo>
                  <a:pt x="3127" y="1343"/>
                </a:lnTo>
                <a:lnTo>
                  <a:pt x="3129" y="717"/>
                </a:lnTo>
                <a:lnTo>
                  <a:pt x="3130" y="943"/>
                </a:lnTo>
                <a:lnTo>
                  <a:pt x="3131" y="1283"/>
                </a:lnTo>
                <a:lnTo>
                  <a:pt x="3133" y="1119"/>
                </a:lnTo>
                <a:lnTo>
                  <a:pt x="3134" y="1365"/>
                </a:lnTo>
                <a:lnTo>
                  <a:pt x="3135" y="1198"/>
                </a:lnTo>
                <a:lnTo>
                  <a:pt x="3136" y="1401"/>
                </a:lnTo>
                <a:lnTo>
                  <a:pt x="3137" y="980"/>
                </a:lnTo>
                <a:lnTo>
                  <a:pt x="3138" y="1092"/>
                </a:lnTo>
                <a:lnTo>
                  <a:pt x="3140" y="1541"/>
                </a:lnTo>
                <a:lnTo>
                  <a:pt x="3142" y="662"/>
                </a:lnTo>
                <a:lnTo>
                  <a:pt x="3143" y="1306"/>
                </a:lnTo>
                <a:lnTo>
                  <a:pt x="3144" y="1370"/>
                </a:lnTo>
                <a:lnTo>
                  <a:pt x="3145" y="788"/>
                </a:lnTo>
                <a:lnTo>
                  <a:pt x="3146" y="542"/>
                </a:lnTo>
                <a:lnTo>
                  <a:pt x="3147" y="835"/>
                </a:lnTo>
                <a:lnTo>
                  <a:pt x="3148" y="903"/>
                </a:lnTo>
                <a:lnTo>
                  <a:pt x="3149" y="1110"/>
                </a:lnTo>
                <a:lnTo>
                  <a:pt x="3152" y="577"/>
                </a:lnTo>
                <a:lnTo>
                  <a:pt x="3153" y="1131"/>
                </a:lnTo>
                <a:lnTo>
                  <a:pt x="3154" y="1423"/>
                </a:lnTo>
                <a:lnTo>
                  <a:pt x="3155" y="1352"/>
                </a:lnTo>
                <a:lnTo>
                  <a:pt x="3156" y="1462"/>
                </a:lnTo>
                <a:lnTo>
                  <a:pt x="3157" y="1386"/>
                </a:lnTo>
                <a:lnTo>
                  <a:pt x="3158" y="581"/>
                </a:lnTo>
                <a:lnTo>
                  <a:pt x="3159" y="1556"/>
                </a:lnTo>
                <a:lnTo>
                  <a:pt x="3160" y="885"/>
                </a:lnTo>
                <a:lnTo>
                  <a:pt x="3163" y="1078"/>
                </a:lnTo>
                <a:lnTo>
                  <a:pt x="3164" y="731"/>
                </a:lnTo>
                <a:lnTo>
                  <a:pt x="3165" y="1190"/>
                </a:lnTo>
                <a:lnTo>
                  <a:pt x="3166" y="589"/>
                </a:lnTo>
                <a:lnTo>
                  <a:pt x="3167" y="1106"/>
                </a:lnTo>
                <a:lnTo>
                  <a:pt x="3168" y="1013"/>
                </a:lnTo>
                <a:lnTo>
                  <a:pt x="3169" y="1277"/>
                </a:lnTo>
                <a:lnTo>
                  <a:pt x="3171" y="858"/>
                </a:lnTo>
                <a:lnTo>
                  <a:pt x="3172" y="827"/>
                </a:lnTo>
                <a:lnTo>
                  <a:pt x="3174" y="1151"/>
                </a:lnTo>
                <a:lnTo>
                  <a:pt x="3175" y="915"/>
                </a:lnTo>
                <a:lnTo>
                  <a:pt x="3176" y="1117"/>
                </a:lnTo>
                <a:lnTo>
                  <a:pt x="3177" y="1022"/>
                </a:lnTo>
                <a:lnTo>
                  <a:pt x="3178" y="892"/>
                </a:lnTo>
                <a:lnTo>
                  <a:pt x="3179" y="1150"/>
                </a:lnTo>
                <a:lnTo>
                  <a:pt x="3181" y="894"/>
                </a:lnTo>
                <a:lnTo>
                  <a:pt x="3182" y="423"/>
                </a:lnTo>
                <a:lnTo>
                  <a:pt x="3183" y="1419"/>
                </a:lnTo>
                <a:lnTo>
                  <a:pt x="3184" y="1860"/>
                </a:lnTo>
                <a:lnTo>
                  <a:pt x="3186" y="931"/>
                </a:lnTo>
                <a:lnTo>
                  <a:pt x="3187" y="679"/>
                </a:lnTo>
                <a:lnTo>
                  <a:pt x="3188" y="1318"/>
                </a:lnTo>
                <a:lnTo>
                  <a:pt x="3190" y="991"/>
                </a:lnTo>
                <a:lnTo>
                  <a:pt x="3191" y="735"/>
                </a:lnTo>
                <a:lnTo>
                  <a:pt x="3192" y="1295"/>
                </a:lnTo>
                <a:lnTo>
                  <a:pt x="3193" y="941"/>
                </a:lnTo>
                <a:lnTo>
                  <a:pt x="3194" y="753"/>
                </a:lnTo>
                <a:lnTo>
                  <a:pt x="3195" y="1162"/>
                </a:lnTo>
                <a:lnTo>
                  <a:pt x="3197" y="1263"/>
                </a:lnTo>
                <a:lnTo>
                  <a:pt x="3198" y="1179"/>
                </a:lnTo>
                <a:lnTo>
                  <a:pt x="3200" y="984"/>
                </a:lnTo>
                <a:lnTo>
                  <a:pt x="3201" y="780"/>
                </a:lnTo>
                <a:lnTo>
                  <a:pt x="3202" y="818"/>
                </a:lnTo>
                <a:lnTo>
                  <a:pt x="3203" y="982"/>
                </a:lnTo>
                <a:lnTo>
                  <a:pt x="3204" y="865"/>
                </a:lnTo>
                <a:lnTo>
                  <a:pt x="3205" y="1493"/>
                </a:lnTo>
                <a:lnTo>
                  <a:pt x="3206" y="1396"/>
                </a:lnTo>
                <a:lnTo>
                  <a:pt x="3208" y="1323"/>
                </a:lnTo>
                <a:lnTo>
                  <a:pt x="3210" y="1053"/>
                </a:lnTo>
                <a:lnTo>
                  <a:pt x="3211" y="1107"/>
                </a:lnTo>
                <a:lnTo>
                  <a:pt x="3212" y="986"/>
                </a:lnTo>
                <a:lnTo>
                  <a:pt x="3213" y="991"/>
                </a:lnTo>
                <a:lnTo>
                  <a:pt x="3214" y="1325"/>
                </a:lnTo>
                <a:lnTo>
                  <a:pt x="3215" y="1264"/>
                </a:lnTo>
                <a:lnTo>
                  <a:pt x="3216" y="576"/>
                </a:lnTo>
                <a:lnTo>
                  <a:pt x="3217" y="1511"/>
                </a:lnTo>
                <a:lnTo>
                  <a:pt x="3220" y="889"/>
                </a:lnTo>
                <a:lnTo>
                  <a:pt x="3221" y="1285"/>
                </a:lnTo>
                <a:lnTo>
                  <a:pt x="3222" y="877"/>
                </a:lnTo>
                <a:lnTo>
                  <a:pt x="3223" y="469"/>
                </a:lnTo>
                <a:lnTo>
                  <a:pt x="3224" y="944"/>
                </a:lnTo>
                <a:lnTo>
                  <a:pt x="3225" y="1472"/>
                </a:lnTo>
                <a:lnTo>
                  <a:pt x="3226" y="658"/>
                </a:lnTo>
                <a:lnTo>
                  <a:pt x="3227" y="659"/>
                </a:lnTo>
                <a:lnTo>
                  <a:pt x="3229" y="878"/>
                </a:lnTo>
                <a:lnTo>
                  <a:pt x="3231" y="594"/>
                </a:lnTo>
                <a:lnTo>
                  <a:pt x="3232" y="720"/>
                </a:lnTo>
                <a:lnTo>
                  <a:pt x="3233" y="995"/>
                </a:lnTo>
                <a:lnTo>
                  <a:pt x="3234" y="1426"/>
                </a:lnTo>
                <a:lnTo>
                  <a:pt x="3235" y="1255"/>
                </a:lnTo>
                <a:lnTo>
                  <a:pt x="3236" y="1157"/>
                </a:lnTo>
                <a:lnTo>
                  <a:pt x="3237" y="862"/>
                </a:lnTo>
                <a:lnTo>
                  <a:pt x="3239" y="800"/>
                </a:lnTo>
                <a:lnTo>
                  <a:pt x="3240" y="550"/>
                </a:lnTo>
                <a:lnTo>
                  <a:pt x="3241" y="1106"/>
                </a:lnTo>
                <a:lnTo>
                  <a:pt x="3243" y="810"/>
                </a:lnTo>
                <a:lnTo>
                  <a:pt x="3244" y="813"/>
                </a:lnTo>
                <a:lnTo>
                  <a:pt x="3245" y="1712"/>
                </a:lnTo>
                <a:lnTo>
                  <a:pt x="3246" y="1295"/>
                </a:lnTo>
                <a:lnTo>
                  <a:pt x="3248" y="1187"/>
                </a:lnTo>
                <a:lnTo>
                  <a:pt x="3249" y="1202"/>
                </a:lnTo>
                <a:lnTo>
                  <a:pt x="3250" y="960"/>
                </a:lnTo>
                <a:lnTo>
                  <a:pt x="3251" y="771"/>
                </a:lnTo>
                <a:lnTo>
                  <a:pt x="3252" y="1725"/>
                </a:lnTo>
                <a:lnTo>
                  <a:pt x="3254" y="805"/>
                </a:lnTo>
                <a:lnTo>
                  <a:pt x="3255" y="572"/>
                </a:lnTo>
                <a:lnTo>
                  <a:pt x="3256" y="886"/>
                </a:lnTo>
                <a:lnTo>
                  <a:pt x="3258" y="835"/>
                </a:lnTo>
                <a:lnTo>
                  <a:pt x="3259" y="1111"/>
                </a:lnTo>
                <a:lnTo>
                  <a:pt x="3260" y="898"/>
                </a:lnTo>
                <a:lnTo>
                  <a:pt x="3261" y="1003"/>
                </a:lnTo>
                <a:lnTo>
                  <a:pt x="3262" y="794"/>
                </a:lnTo>
                <a:lnTo>
                  <a:pt x="3263" y="708"/>
                </a:lnTo>
                <a:lnTo>
                  <a:pt x="3265" y="934"/>
                </a:lnTo>
                <a:lnTo>
                  <a:pt x="3266" y="1376"/>
                </a:lnTo>
                <a:lnTo>
                  <a:pt x="3268" y="1505"/>
                </a:lnTo>
                <a:lnTo>
                  <a:pt x="3269" y="763"/>
                </a:lnTo>
                <a:lnTo>
                  <a:pt x="3270" y="883"/>
                </a:lnTo>
                <a:lnTo>
                  <a:pt x="3271" y="1089"/>
                </a:lnTo>
                <a:lnTo>
                  <a:pt x="3272" y="962"/>
                </a:lnTo>
                <a:lnTo>
                  <a:pt x="3273" y="1141"/>
                </a:lnTo>
                <a:lnTo>
                  <a:pt x="3274" y="1239"/>
                </a:lnTo>
                <a:lnTo>
                  <a:pt x="3277" y="1141"/>
                </a:lnTo>
                <a:lnTo>
                  <a:pt x="3278" y="1041"/>
                </a:lnTo>
                <a:lnTo>
                  <a:pt x="3279" y="820"/>
                </a:lnTo>
                <a:lnTo>
                  <a:pt x="3280" y="1382"/>
                </a:lnTo>
                <a:lnTo>
                  <a:pt x="3281" y="966"/>
                </a:lnTo>
                <a:lnTo>
                  <a:pt x="3282" y="839"/>
                </a:lnTo>
                <a:lnTo>
                  <a:pt x="3283" y="563"/>
                </a:lnTo>
                <a:lnTo>
                  <a:pt x="3284" y="466"/>
                </a:lnTo>
                <a:lnTo>
                  <a:pt x="3285" y="950"/>
                </a:lnTo>
                <a:lnTo>
                  <a:pt x="3288" y="1523"/>
                </a:lnTo>
                <a:lnTo>
                  <a:pt x="3289" y="1067"/>
                </a:lnTo>
                <a:lnTo>
                  <a:pt x="3290" y="417"/>
                </a:lnTo>
                <a:lnTo>
                  <a:pt x="3291" y="1236"/>
                </a:lnTo>
                <a:lnTo>
                  <a:pt x="3292" y="1201"/>
                </a:lnTo>
                <a:lnTo>
                  <a:pt x="3293" y="534"/>
                </a:lnTo>
                <a:lnTo>
                  <a:pt x="3294" y="703"/>
                </a:lnTo>
                <a:lnTo>
                  <a:pt x="3295" y="1268"/>
                </a:lnTo>
                <a:lnTo>
                  <a:pt x="3297" y="1116"/>
                </a:lnTo>
                <a:lnTo>
                  <a:pt x="3299" y="1002"/>
                </a:lnTo>
                <a:lnTo>
                  <a:pt x="3300" y="1227"/>
                </a:lnTo>
                <a:lnTo>
                  <a:pt x="3301" y="1185"/>
                </a:lnTo>
                <a:lnTo>
                  <a:pt x="3302" y="1219"/>
                </a:lnTo>
                <a:lnTo>
                  <a:pt x="3303" y="799"/>
                </a:lnTo>
                <a:lnTo>
                  <a:pt x="3304" y="800"/>
                </a:lnTo>
                <a:lnTo>
                  <a:pt x="3306" y="950"/>
                </a:lnTo>
                <a:lnTo>
                  <a:pt x="3307" y="1170"/>
                </a:lnTo>
                <a:lnTo>
                  <a:pt x="3308" y="843"/>
                </a:lnTo>
                <a:lnTo>
                  <a:pt x="3309" y="1182"/>
                </a:lnTo>
                <a:lnTo>
                  <a:pt x="3311" y="433"/>
                </a:lnTo>
                <a:lnTo>
                  <a:pt x="3312" y="1302"/>
                </a:lnTo>
                <a:lnTo>
                  <a:pt x="3313" y="1647"/>
                </a:lnTo>
                <a:lnTo>
                  <a:pt x="3314" y="1151"/>
                </a:lnTo>
                <a:lnTo>
                  <a:pt x="3316" y="1206"/>
                </a:lnTo>
                <a:lnTo>
                  <a:pt x="3317" y="962"/>
                </a:lnTo>
                <a:lnTo>
                  <a:pt x="3318" y="1110"/>
                </a:lnTo>
                <a:lnTo>
                  <a:pt x="3319" y="1776"/>
                </a:lnTo>
                <a:lnTo>
                  <a:pt x="3320" y="1099"/>
                </a:lnTo>
                <a:lnTo>
                  <a:pt x="3322" y="827"/>
                </a:lnTo>
                <a:lnTo>
                  <a:pt x="3323" y="714"/>
                </a:lnTo>
                <a:lnTo>
                  <a:pt x="3324" y="896"/>
                </a:lnTo>
                <a:lnTo>
                  <a:pt x="3326" y="982"/>
                </a:lnTo>
                <a:lnTo>
                  <a:pt x="3327" y="879"/>
                </a:lnTo>
                <a:lnTo>
                  <a:pt x="3328" y="509"/>
                </a:lnTo>
                <a:lnTo>
                  <a:pt x="3329" y="1331"/>
                </a:lnTo>
                <a:lnTo>
                  <a:pt x="3330" y="1061"/>
                </a:lnTo>
                <a:lnTo>
                  <a:pt x="3331" y="573"/>
                </a:lnTo>
                <a:lnTo>
                  <a:pt x="3333" y="953"/>
                </a:lnTo>
                <a:lnTo>
                  <a:pt x="3335" y="1186"/>
                </a:lnTo>
                <a:lnTo>
                  <a:pt x="3336" y="1195"/>
                </a:lnTo>
                <a:lnTo>
                  <a:pt x="3337" y="1278"/>
                </a:lnTo>
                <a:lnTo>
                  <a:pt x="3338" y="1194"/>
                </a:lnTo>
                <a:lnTo>
                  <a:pt x="3339" y="820"/>
                </a:lnTo>
                <a:lnTo>
                  <a:pt x="3340" y="1243"/>
                </a:lnTo>
                <a:lnTo>
                  <a:pt x="3341" y="1312"/>
                </a:lnTo>
                <a:lnTo>
                  <a:pt x="3342" y="1127"/>
                </a:lnTo>
                <a:lnTo>
                  <a:pt x="3345" y="1548"/>
                </a:lnTo>
                <a:lnTo>
                  <a:pt x="3346" y="1088"/>
                </a:lnTo>
                <a:lnTo>
                  <a:pt x="3347" y="975"/>
                </a:lnTo>
                <a:lnTo>
                  <a:pt x="3348" y="684"/>
                </a:lnTo>
                <a:lnTo>
                  <a:pt x="3349" y="963"/>
                </a:lnTo>
                <a:lnTo>
                  <a:pt x="3350" y="884"/>
                </a:lnTo>
                <a:lnTo>
                  <a:pt x="3351" y="1130"/>
                </a:lnTo>
                <a:lnTo>
                  <a:pt x="3352" y="1248"/>
                </a:lnTo>
                <a:lnTo>
                  <a:pt x="3353" y="290"/>
                </a:lnTo>
                <a:lnTo>
                  <a:pt x="3356" y="258"/>
                </a:lnTo>
                <a:lnTo>
                  <a:pt x="3357" y="867"/>
                </a:lnTo>
                <a:lnTo>
                  <a:pt x="3358" y="1197"/>
                </a:lnTo>
                <a:lnTo>
                  <a:pt x="3359" y="912"/>
                </a:lnTo>
                <a:lnTo>
                  <a:pt x="3360" y="942"/>
                </a:lnTo>
                <a:lnTo>
                  <a:pt x="3361" y="1070"/>
                </a:lnTo>
                <a:lnTo>
                  <a:pt x="3362" y="1509"/>
                </a:lnTo>
                <a:lnTo>
                  <a:pt x="3364" y="1088"/>
                </a:lnTo>
                <a:lnTo>
                  <a:pt x="3365" y="606"/>
                </a:lnTo>
                <a:lnTo>
                  <a:pt x="3366" y="1480"/>
                </a:lnTo>
                <a:lnTo>
                  <a:pt x="3368" y="1413"/>
                </a:lnTo>
                <a:lnTo>
                  <a:pt x="3369" y="1453"/>
                </a:lnTo>
                <a:lnTo>
                  <a:pt x="3370" y="740"/>
                </a:lnTo>
                <a:lnTo>
                  <a:pt x="3371" y="759"/>
                </a:lnTo>
                <a:lnTo>
                  <a:pt x="3372" y="1218"/>
                </a:lnTo>
                <a:lnTo>
                  <a:pt x="3374" y="1254"/>
                </a:lnTo>
                <a:lnTo>
                  <a:pt x="3375" y="415"/>
                </a:lnTo>
                <a:lnTo>
                  <a:pt x="3376" y="1146"/>
                </a:lnTo>
                <a:lnTo>
                  <a:pt x="3377" y="892"/>
                </a:lnTo>
                <a:lnTo>
                  <a:pt x="3379" y="774"/>
                </a:lnTo>
                <a:lnTo>
                  <a:pt x="3380" y="1304"/>
                </a:lnTo>
                <a:lnTo>
                  <a:pt x="3381" y="1081"/>
                </a:lnTo>
                <a:lnTo>
                  <a:pt x="3382" y="1423"/>
                </a:lnTo>
                <a:lnTo>
                  <a:pt x="3384" y="1041"/>
                </a:lnTo>
                <a:lnTo>
                  <a:pt x="3385" y="1101"/>
                </a:lnTo>
                <a:lnTo>
                  <a:pt x="3386" y="1112"/>
                </a:lnTo>
                <a:lnTo>
                  <a:pt x="3387" y="927"/>
                </a:lnTo>
                <a:lnTo>
                  <a:pt x="3388" y="1602"/>
                </a:lnTo>
                <a:lnTo>
                  <a:pt x="3390" y="657"/>
                </a:lnTo>
                <a:lnTo>
                  <a:pt x="3391" y="862"/>
                </a:lnTo>
                <a:lnTo>
                  <a:pt x="3393" y="909"/>
                </a:lnTo>
                <a:lnTo>
                  <a:pt x="3394" y="1175"/>
                </a:lnTo>
                <a:lnTo>
                  <a:pt x="3395" y="788"/>
                </a:lnTo>
                <a:lnTo>
                  <a:pt x="3396" y="1201"/>
                </a:lnTo>
                <a:lnTo>
                  <a:pt x="3397" y="1136"/>
                </a:lnTo>
                <a:lnTo>
                  <a:pt x="3398" y="1052"/>
                </a:lnTo>
                <a:lnTo>
                  <a:pt x="3399" y="836"/>
                </a:lnTo>
                <a:lnTo>
                  <a:pt x="3401" y="1162"/>
                </a:lnTo>
                <a:lnTo>
                  <a:pt x="3403" y="809"/>
                </a:lnTo>
                <a:lnTo>
                  <a:pt x="3404" y="537"/>
                </a:lnTo>
                <a:lnTo>
                  <a:pt x="3405" y="718"/>
                </a:lnTo>
                <a:lnTo>
                  <a:pt x="3406" y="1289"/>
                </a:lnTo>
                <a:lnTo>
                  <a:pt x="3407" y="1206"/>
                </a:lnTo>
                <a:lnTo>
                  <a:pt x="3408" y="1059"/>
                </a:lnTo>
                <a:lnTo>
                  <a:pt x="3409" y="902"/>
                </a:lnTo>
                <a:lnTo>
                  <a:pt x="3410" y="1224"/>
                </a:lnTo>
                <a:lnTo>
                  <a:pt x="3413" y="465"/>
                </a:lnTo>
                <a:lnTo>
                  <a:pt x="3414" y="1431"/>
                </a:lnTo>
                <a:lnTo>
                  <a:pt x="3415" y="1064"/>
                </a:lnTo>
                <a:lnTo>
                  <a:pt x="3416" y="847"/>
                </a:lnTo>
                <a:lnTo>
                  <a:pt x="3417" y="1127"/>
                </a:lnTo>
                <a:lnTo>
                  <a:pt x="3418" y="962"/>
                </a:lnTo>
                <a:lnTo>
                  <a:pt x="3419" y="405"/>
                </a:lnTo>
                <a:lnTo>
                  <a:pt x="3420" y="1443"/>
                </a:lnTo>
                <a:lnTo>
                  <a:pt x="3422" y="308"/>
                </a:lnTo>
                <a:lnTo>
                  <a:pt x="3424" y="513"/>
                </a:lnTo>
                <a:lnTo>
                  <a:pt x="3425" y="1100"/>
                </a:lnTo>
                <a:lnTo>
                  <a:pt x="3426" y="797"/>
                </a:lnTo>
                <a:lnTo>
                  <a:pt x="3427" y="790"/>
                </a:lnTo>
                <a:lnTo>
                  <a:pt x="3428" y="1163"/>
                </a:lnTo>
                <a:lnTo>
                  <a:pt x="3429" y="1269"/>
                </a:lnTo>
                <a:lnTo>
                  <a:pt x="3430" y="1172"/>
                </a:lnTo>
                <a:lnTo>
                  <a:pt x="3432" y="1169"/>
                </a:lnTo>
                <a:lnTo>
                  <a:pt x="3433" y="368"/>
                </a:lnTo>
                <a:lnTo>
                  <a:pt x="3434" y="1317"/>
                </a:lnTo>
                <a:lnTo>
                  <a:pt x="3436" y="1000"/>
                </a:lnTo>
                <a:lnTo>
                  <a:pt x="3437" y="547"/>
                </a:lnTo>
                <a:lnTo>
                  <a:pt x="3438" y="594"/>
                </a:lnTo>
                <a:lnTo>
                  <a:pt x="3439" y="1088"/>
                </a:lnTo>
                <a:lnTo>
                  <a:pt x="3441" y="799"/>
                </a:lnTo>
                <a:lnTo>
                  <a:pt x="3442" y="1155"/>
                </a:lnTo>
                <a:lnTo>
                  <a:pt x="3443" y="1108"/>
                </a:lnTo>
                <a:lnTo>
                  <a:pt x="3444" y="742"/>
                </a:lnTo>
                <a:lnTo>
                  <a:pt x="3445" y="1197"/>
                </a:lnTo>
                <a:lnTo>
                  <a:pt x="3447" y="1579"/>
                </a:lnTo>
                <a:lnTo>
                  <a:pt x="3448" y="785"/>
                </a:lnTo>
                <a:lnTo>
                  <a:pt x="3449" y="977"/>
                </a:lnTo>
                <a:lnTo>
                  <a:pt x="3451" y="1088"/>
                </a:lnTo>
                <a:lnTo>
                  <a:pt x="3452" y="711"/>
                </a:lnTo>
                <a:lnTo>
                  <a:pt x="3453" y="838"/>
                </a:lnTo>
                <a:lnTo>
                  <a:pt x="3454" y="1534"/>
                </a:lnTo>
                <a:lnTo>
                  <a:pt x="3455" y="1469"/>
                </a:lnTo>
                <a:lnTo>
                  <a:pt x="3456" y="967"/>
                </a:lnTo>
                <a:lnTo>
                  <a:pt x="3458" y="869"/>
                </a:lnTo>
                <a:lnTo>
                  <a:pt x="3459" y="1226"/>
                </a:lnTo>
                <a:lnTo>
                  <a:pt x="3461" y="1405"/>
                </a:lnTo>
                <a:lnTo>
                  <a:pt x="3462" y="1197"/>
                </a:lnTo>
                <a:lnTo>
                  <a:pt x="3463" y="1180"/>
                </a:lnTo>
                <a:lnTo>
                  <a:pt x="3464" y="1012"/>
                </a:lnTo>
                <a:lnTo>
                  <a:pt x="3465" y="1005"/>
                </a:lnTo>
                <a:lnTo>
                  <a:pt x="3466" y="632"/>
                </a:lnTo>
                <a:lnTo>
                  <a:pt x="3467" y="726"/>
                </a:lnTo>
                <a:lnTo>
                  <a:pt x="3470" y="739"/>
                </a:lnTo>
                <a:lnTo>
                  <a:pt x="3471" y="870"/>
                </a:lnTo>
                <a:lnTo>
                  <a:pt x="3472" y="733"/>
                </a:lnTo>
                <a:lnTo>
                  <a:pt x="3473" y="743"/>
                </a:lnTo>
                <a:lnTo>
                  <a:pt x="3474" y="960"/>
                </a:lnTo>
                <a:lnTo>
                  <a:pt x="3475" y="847"/>
                </a:lnTo>
                <a:lnTo>
                  <a:pt x="3476" y="1189"/>
                </a:lnTo>
                <a:lnTo>
                  <a:pt x="3477" y="1145"/>
                </a:lnTo>
                <a:lnTo>
                  <a:pt x="3478" y="697"/>
                </a:lnTo>
                <a:lnTo>
                  <a:pt x="3481" y="621"/>
                </a:lnTo>
                <a:lnTo>
                  <a:pt x="3482" y="479"/>
                </a:lnTo>
                <a:lnTo>
                  <a:pt x="3483" y="1185"/>
                </a:lnTo>
                <a:lnTo>
                  <a:pt x="3484" y="709"/>
                </a:lnTo>
                <a:lnTo>
                  <a:pt x="3485" y="1426"/>
                </a:lnTo>
                <a:lnTo>
                  <a:pt x="3486" y="662"/>
                </a:lnTo>
                <a:lnTo>
                  <a:pt x="3487" y="817"/>
                </a:lnTo>
                <a:lnTo>
                  <a:pt x="3488" y="1475"/>
                </a:lnTo>
                <a:lnTo>
                  <a:pt x="3490" y="1426"/>
                </a:lnTo>
                <a:lnTo>
                  <a:pt x="3491" y="1028"/>
                </a:lnTo>
                <a:lnTo>
                  <a:pt x="3493" y="604"/>
                </a:lnTo>
                <a:lnTo>
                  <a:pt x="3494" y="887"/>
                </a:lnTo>
                <a:lnTo>
                  <a:pt x="3495" y="1117"/>
                </a:lnTo>
                <a:lnTo>
                  <a:pt x="3496" y="775"/>
                </a:lnTo>
                <a:lnTo>
                  <a:pt x="3497" y="805"/>
                </a:lnTo>
                <a:lnTo>
                  <a:pt x="3499" y="1275"/>
                </a:lnTo>
                <a:lnTo>
                  <a:pt x="3500" y="680"/>
                </a:lnTo>
                <a:lnTo>
                  <a:pt x="3501" y="729"/>
                </a:lnTo>
                <a:lnTo>
                  <a:pt x="3502" y="1058"/>
                </a:lnTo>
                <a:lnTo>
                  <a:pt x="3504" y="897"/>
                </a:lnTo>
                <a:lnTo>
                  <a:pt x="3505" y="1152"/>
                </a:lnTo>
                <a:lnTo>
                  <a:pt x="3506" y="1269"/>
                </a:lnTo>
                <a:lnTo>
                  <a:pt x="3507" y="631"/>
                </a:lnTo>
                <a:lnTo>
                  <a:pt x="3509" y="372"/>
                </a:lnTo>
                <a:lnTo>
                  <a:pt x="3510" y="736"/>
                </a:lnTo>
                <a:lnTo>
                  <a:pt x="3511" y="1305"/>
                </a:lnTo>
                <a:lnTo>
                  <a:pt x="3512" y="775"/>
                </a:lnTo>
                <a:lnTo>
                  <a:pt x="3513" y="894"/>
                </a:lnTo>
                <a:lnTo>
                  <a:pt x="3515" y="908"/>
                </a:lnTo>
                <a:lnTo>
                  <a:pt x="3516" y="856"/>
                </a:lnTo>
                <a:lnTo>
                  <a:pt x="3517" y="1111"/>
                </a:lnTo>
                <a:lnTo>
                  <a:pt x="3519" y="772"/>
                </a:lnTo>
                <a:lnTo>
                  <a:pt x="3520" y="1298"/>
                </a:lnTo>
                <a:lnTo>
                  <a:pt x="3521" y="657"/>
                </a:lnTo>
                <a:lnTo>
                  <a:pt x="3522" y="1091"/>
                </a:lnTo>
                <a:lnTo>
                  <a:pt x="3523" y="1446"/>
                </a:lnTo>
                <a:lnTo>
                  <a:pt x="3524" y="886"/>
                </a:lnTo>
                <a:lnTo>
                  <a:pt x="3526" y="596"/>
                </a:lnTo>
                <a:lnTo>
                  <a:pt x="3528" y="837"/>
                </a:lnTo>
                <a:lnTo>
                  <a:pt x="3529" y="751"/>
                </a:lnTo>
                <a:lnTo>
                  <a:pt x="3530" y="1059"/>
                </a:lnTo>
                <a:lnTo>
                  <a:pt x="3531" y="1236"/>
                </a:lnTo>
                <a:lnTo>
                  <a:pt x="3532" y="928"/>
                </a:lnTo>
                <a:lnTo>
                  <a:pt x="3533" y="1182"/>
                </a:lnTo>
                <a:lnTo>
                  <a:pt x="3534" y="1319"/>
                </a:lnTo>
                <a:lnTo>
                  <a:pt x="3535" y="752"/>
                </a:lnTo>
                <a:lnTo>
                  <a:pt x="3538" y="811"/>
                </a:lnTo>
                <a:lnTo>
                  <a:pt x="3539" y="612"/>
                </a:lnTo>
                <a:lnTo>
                  <a:pt x="3540" y="831"/>
                </a:lnTo>
                <a:lnTo>
                  <a:pt x="3541" y="1113"/>
                </a:lnTo>
                <a:lnTo>
                  <a:pt x="3542" y="982"/>
                </a:lnTo>
                <a:lnTo>
                  <a:pt x="3543" y="1056"/>
                </a:lnTo>
                <a:lnTo>
                  <a:pt x="3544" y="1145"/>
                </a:lnTo>
                <a:lnTo>
                  <a:pt x="3545" y="1269"/>
                </a:lnTo>
                <a:lnTo>
                  <a:pt x="3546" y="964"/>
                </a:lnTo>
                <a:lnTo>
                  <a:pt x="3549" y="1111"/>
                </a:lnTo>
                <a:lnTo>
                  <a:pt x="3550" y="329"/>
                </a:lnTo>
                <a:lnTo>
                  <a:pt x="3551" y="421"/>
                </a:lnTo>
                <a:lnTo>
                  <a:pt x="3552" y="648"/>
                </a:lnTo>
                <a:lnTo>
                  <a:pt x="3553" y="1235"/>
                </a:lnTo>
                <a:lnTo>
                  <a:pt x="3554" y="1108"/>
                </a:lnTo>
                <a:lnTo>
                  <a:pt x="3555" y="863"/>
                </a:lnTo>
                <a:lnTo>
                  <a:pt x="3557" y="967"/>
                </a:lnTo>
                <a:lnTo>
                  <a:pt x="3558" y="674"/>
                </a:lnTo>
                <a:lnTo>
                  <a:pt x="3559" y="848"/>
                </a:lnTo>
                <a:lnTo>
                  <a:pt x="3561" y="1548"/>
                </a:lnTo>
                <a:lnTo>
                  <a:pt x="3562" y="1226"/>
                </a:lnTo>
                <a:lnTo>
                  <a:pt x="3563" y="1617"/>
                </a:lnTo>
                <a:lnTo>
                  <a:pt x="3564" y="1003"/>
                </a:lnTo>
                <a:lnTo>
                  <a:pt x="3565" y="942"/>
                </a:lnTo>
                <a:lnTo>
                  <a:pt x="3567" y="646"/>
                </a:lnTo>
                <a:lnTo>
                  <a:pt x="3568" y="1072"/>
                </a:lnTo>
                <a:lnTo>
                  <a:pt x="3569" y="931"/>
                </a:lnTo>
                <a:lnTo>
                  <a:pt x="3570" y="1444"/>
                </a:lnTo>
                <a:lnTo>
                  <a:pt x="3572" y="885"/>
                </a:lnTo>
                <a:lnTo>
                  <a:pt x="3573" y="1183"/>
                </a:lnTo>
                <a:lnTo>
                  <a:pt x="3574" y="915"/>
                </a:lnTo>
                <a:lnTo>
                  <a:pt x="3575" y="1190"/>
                </a:lnTo>
                <a:lnTo>
                  <a:pt x="3577" y="1787"/>
                </a:lnTo>
                <a:lnTo>
                  <a:pt x="3578" y="1915"/>
                </a:lnTo>
                <a:lnTo>
                  <a:pt x="3579" y="1376"/>
                </a:lnTo>
                <a:lnTo>
                  <a:pt x="3580" y="730"/>
                </a:lnTo>
                <a:lnTo>
                  <a:pt x="3581" y="1099"/>
                </a:lnTo>
                <a:lnTo>
                  <a:pt x="3583" y="829"/>
                </a:lnTo>
                <a:lnTo>
                  <a:pt x="3584" y="1297"/>
                </a:lnTo>
                <a:lnTo>
                  <a:pt x="3586" y="612"/>
                </a:lnTo>
                <a:lnTo>
                  <a:pt x="3587" y="785"/>
                </a:lnTo>
                <a:lnTo>
                  <a:pt x="3588" y="1474"/>
                </a:lnTo>
                <a:lnTo>
                  <a:pt x="3589" y="757"/>
                </a:lnTo>
                <a:lnTo>
                  <a:pt x="3590" y="1276"/>
                </a:lnTo>
                <a:lnTo>
                  <a:pt x="3591" y="1259"/>
                </a:lnTo>
                <a:lnTo>
                  <a:pt x="3592" y="845"/>
                </a:lnTo>
                <a:lnTo>
                  <a:pt x="3594" y="1005"/>
                </a:lnTo>
                <a:lnTo>
                  <a:pt x="3596" y="906"/>
                </a:lnTo>
                <a:lnTo>
                  <a:pt x="3597" y="690"/>
                </a:lnTo>
                <a:lnTo>
                  <a:pt x="3598" y="985"/>
                </a:lnTo>
                <a:lnTo>
                  <a:pt x="3599" y="1147"/>
                </a:lnTo>
                <a:lnTo>
                  <a:pt x="3600" y="1336"/>
                </a:lnTo>
                <a:lnTo>
                  <a:pt x="3601" y="883"/>
                </a:lnTo>
                <a:lnTo>
                  <a:pt x="3602" y="769"/>
                </a:lnTo>
                <a:lnTo>
                  <a:pt x="3603" y="633"/>
                </a:lnTo>
                <a:lnTo>
                  <a:pt x="3606" y="993"/>
                </a:lnTo>
                <a:lnTo>
                  <a:pt x="3607" y="1345"/>
                </a:lnTo>
                <a:lnTo>
                  <a:pt x="3608" y="1107"/>
                </a:lnTo>
                <a:lnTo>
                  <a:pt x="3609" y="1068"/>
                </a:lnTo>
                <a:lnTo>
                  <a:pt x="3610" y="1163"/>
                </a:lnTo>
                <a:lnTo>
                  <a:pt x="3611" y="1166"/>
                </a:lnTo>
                <a:lnTo>
                  <a:pt x="3612" y="1051"/>
                </a:lnTo>
                <a:lnTo>
                  <a:pt x="3613" y="689"/>
                </a:lnTo>
                <a:lnTo>
                  <a:pt x="3615" y="1179"/>
                </a:lnTo>
                <a:lnTo>
                  <a:pt x="3616" y="1060"/>
                </a:lnTo>
                <a:lnTo>
                  <a:pt x="3618" y="1523"/>
                </a:lnTo>
                <a:lnTo>
                  <a:pt x="3619" y="961"/>
                </a:lnTo>
                <a:lnTo>
                  <a:pt x="3620" y="826"/>
                </a:lnTo>
                <a:lnTo>
                  <a:pt x="3621" y="1034"/>
                </a:lnTo>
                <a:lnTo>
                  <a:pt x="3622" y="755"/>
                </a:lnTo>
                <a:lnTo>
                  <a:pt x="3623" y="1523"/>
                </a:lnTo>
                <a:lnTo>
                  <a:pt x="3625" y="1300"/>
                </a:lnTo>
                <a:lnTo>
                  <a:pt x="3626" y="1120"/>
                </a:lnTo>
                <a:lnTo>
                  <a:pt x="3627" y="1220"/>
                </a:lnTo>
                <a:lnTo>
                  <a:pt x="3629" y="448"/>
                </a:lnTo>
                <a:lnTo>
                  <a:pt x="3630" y="1137"/>
                </a:lnTo>
                <a:lnTo>
                  <a:pt x="3631" y="555"/>
                </a:lnTo>
                <a:lnTo>
                  <a:pt x="3632" y="1178"/>
                </a:lnTo>
                <a:lnTo>
                  <a:pt x="3633" y="817"/>
                </a:lnTo>
                <a:lnTo>
                  <a:pt x="3635" y="1093"/>
                </a:lnTo>
                <a:lnTo>
                  <a:pt x="3636" y="967"/>
                </a:lnTo>
                <a:lnTo>
                  <a:pt x="3637" y="1220"/>
                </a:lnTo>
                <a:lnTo>
                  <a:pt x="3638" y="1246"/>
                </a:lnTo>
                <a:lnTo>
                  <a:pt x="3640" y="830"/>
                </a:lnTo>
                <a:lnTo>
                  <a:pt x="3641" y="1070"/>
                </a:lnTo>
                <a:lnTo>
                  <a:pt x="3642" y="1257"/>
                </a:lnTo>
                <a:lnTo>
                  <a:pt x="3644" y="849"/>
                </a:lnTo>
                <a:lnTo>
                  <a:pt x="3645" y="1148"/>
                </a:lnTo>
                <a:lnTo>
                  <a:pt x="3646" y="1332"/>
                </a:lnTo>
                <a:lnTo>
                  <a:pt x="3647" y="1005"/>
                </a:lnTo>
                <a:lnTo>
                  <a:pt x="3648" y="771"/>
                </a:lnTo>
                <a:lnTo>
                  <a:pt x="3649" y="444"/>
                </a:lnTo>
                <a:lnTo>
                  <a:pt x="3651" y="1250"/>
                </a:lnTo>
                <a:lnTo>
                  <a:pt x="3652" y="1358"/>
                </a:lnTo>
                <a:lnTo>
                  <a:pt x="3654" y="718"/>
                </a:lnTo>
                <a:lnTo>
                  <a:pt x="3655" y="1080"/>
                </a:lnTo>
                <a:lnTo>
                  <a:pt x="3656" y="502"/>
                </a:lnTo>
                <a:lnTo>
                  <a:pt x="3657" y="486"/>
                </a:lnTo>
                <a:lnTo>
                  <a:pt x="3658" y="753"/>
                </a:lnTo>
                <a:lnTo>
                  <a:pt x="3659" y="817"/>
                </a:lnTo>
                <a:lnTo>
                  <a:pt x="3660" y="1277"/>
                </a:lnTo>
                <a:lnTo>
                  <a:pt x="3662" y="1518"/>
                </a:lnTo>
                <a:lnTo>
                  <a:pt x="3664" y="955"/>
                </a:lnTo>
                <a:lnTo>
                  <a:pt x="3665" y="847"/>
                </a:lnTo>
                <a:lnTo>
                  <a:pt x="3666" y="987"/>
                </a:lnTo>
                <a:lnTo>
                  <a:pt x="3667" y="1360"/>
                </a:lnTo>
                <a:lnTo>
                  <a:pt x="3668" y="847"/>
                </a:lnTo>
                <a:lnTo>
                  <a:pt x="3669" y="1326"/>
                </a:lnTo>
                <a:lnTo>
                  <a:pt x="3670" y="1298"/>
                </a:lnTo>
                <a:lnTo>
                  <a:pt x="3671" y="1060"/>
                </a:lnTo>
                <a:lnTo>
                  <a:pt x="3674" y="1189"/>
                </a:lnTo>
                <a:lnTo>
                  <a:pt x="3675" y="717"/>
                </a:lnTo>
                <a:lnTo>
                  <a:pt x="3676" y="1250"/>
                </a:lnTo>
                <a:lnTo>
                  <a:pt x="3677" y="1195"/>
                </a:lnTo>
                <a:lnTo>
                  <a:pt x="3678" y="914"/>
                </a:lnTo>
                <a:lnTo>
                  <a:pt x="3679" y="1182"/>
                </a:lnTo>
                <a:lnTo>
                  <a:pt x="3680" y="943"/>
                </a:lnTo>
                <a:lnTo>
                  <a:pt x="3681" y="701"/>
                </a:lnTo>
                <a:lnTo>
                  <a:pt x="3683" y="1122"/>
                </a:lnTo>
                <a:lnTo>
                  <a:pt x="3684" y="759"/>
                </a:lnTo>
                <a:lnTo>
                  <a:pt x="3686" y="1400"/>
                </a:lnTo>
                <a:lnTo>
                  <a:pt x="3687" y="1087"/>
                </a:lnTo>
                <a:lnTo>
                  <a:pt x="3688" y="1148"/>
                </a:lnTo>
                <a:lnTo>
                  <a:pt x="3689" y="1058"/>
                </a:lnTo>
                <a:lnTo>
                  <a:pt x="3690" y="1020"/>
                </a:lnTo>
                <a:lnTo>
                  <a:pt x="3692" y="826"/>
                </a:lnTo>
                <a:lnTo>
                  <a:pt x="3693" y="1015"/>
                </a:lnTo>
                <a:lnTo>
                  <a:pt x="3694" y="482"/>
                </a:lnTo>
                <a:lnTo>
                  <a:pt x="3695" y="679"/>
                </a:lnTo>
                <a:lnTo>
                  <a:pt x="3697" y="1020"/>
                </a:lnTo>
                <a:lnTo>
                  <a:pt x="3698" y="1381"/>
                </a:lnTo>
                <a:lnTo>
                  <a:pt x="3699" y="739"/>
                </a:lnTo>
                <a:lnTo>
                  <a:pt x="3700" y="507"/>
                </a:lnTo>
                <a:lnTo>
                  <a:pt x="3702" y="449"/>
                </a:lnTo>
                <a:lnTo>
                  <a:pt x="3703" y="895"/>
                </a:lnTo>
                <a:lnTo>
                  <a:pt x="3704" y="1288"/>
                </a:lnTo>
                <a:lnTo>
                  <a:pt x="3705" y="1069"/>
                </a:lnTo>
                <a:lnTo>
                  <a:pt x="3706" y="1104"/>
                </a:lnTo>
                <a:lnTo>
                  <a:pt x="3708" y="772"/>
                </a:lnTo>
                <a:lnTo>
                  <a:pt x="3709" y="1053"/>
                </a:lnTo>
                <a:lnTo>
                  <a:pt x="3710" y="265"/>
                </a:lnTo>
                <a:lnTo>
                  <a:pt x="3712" y="1303"/>
                </a:lnTo>
                <a:lnTo>
                  <a:pt x="3713" y="190"/>
                </a:lnTo>
                <a:lnTo>
                  <a:pt x="3714" y="846"/>
                </a:lnTo>
                <a:lnTo>
                  <a:pt x="3715" y="667"/>
                </a:lnTo>
                <a:lnTo>
                  <a:pt x="3716" y="1237"/>
                </a:lnTo>
                <a:lnTo>
                  <a:pt x="3717" y="1080"/>
                </a:lnTo>
                <a:lnTo>
                  <a:pt x="3719" y="1289"/>
                </a:lnTo>
                <a:lnTo>
                  <a:pt x="3721" y="312"/>
                </a:lnTo>
                <a:lnTo>
                  <a:pt x="3722" y="929"/>
                </a:lnTo>
                <a:lnTo>
                  <a:pt x="3723" y="1295"/>
                </a:lnTo>
                <a:lnTo>
                  <a:pt x="3724" y="1044"/>
                </a:lnTo>
                <a:lnTo>
                  <a:pt x="3725" y="1237"/>
                </a:lnTo>
                <a:lnTo>
                  <a:pt x="3726" y="932"/>
                </a:lnTo>
                <a:lnTo>
                  <a:pt x="3727" y="1407"/>
                </a:lnTo>
                <a:lnTo>
                  <a:pt x="3728" y="1141"/>
                </a:lnTo>
                <a:lnTo>
                  <a:pt x="3731" y="1091"/>
                </a:lnTo>
                <a:lnTo>
                  <a:pt x="3732" y="967"/>
                </a:lnTo>
                <a:lnTo>
                  <a:pt x="3733" y="968"/>
                </a:lnTo>
                <a:lnTo>
                  <a:pt x="3734" y="1000"/>
                </a:lnTo>
                <a:lnTo>
                  <a:pt x="3735" y="591"/>
                </a:lnTo>
                <a:lnTo>
                  <a:pt x="3736" y="974"/>
                </a:lnTo>
                <a:lnTo>
                  <a:pt x="3737" y="1120"/>
                </a:lnTo>
                <a:lnTo>
                  <a:pt x="3738" y="964"/>
                </a:lnTo>
                <a:lnTo>
                  <a:pt x="3739" y="982"/>
                </a:lnTo>
                <a:lnTo>
                  <a:pt x="3741" y="1101"/>
                </a:lnTo>
                <a:lnTo>
                  <a:pt x="3743" y="631"/>
                </a:lnTo>
                <a:lnTo>
                  <a:pt x="3744" y="857"/>
                </a:lnTo>
                <a:lnTo>
                  <a:pt x="3745" y="660"/>
                </a:lnTo>
                <a:lnTo>
                  <a:pt x="3746" y="1357"/>
                </a:lnTo>
                <a:lnTo>
                  <a:pt x="3747" y="942"/>
                </a:lnTo>
                <a:lnTo>
                  <a:pt x="3748" y="1188"/>
                </a:lnTo>
                <a:lnTo>
                  <a:pt x="3750" y="831"/>
                </a:lnTo>
                <a:lnTo>
                  <a:pt x="3751" y="1150"/>
                </a:lnTo>
                <a:lnTo>
                  <a:pt x="3752" y="845"/>
                </a:lnTo>
                <a:lnTo>
                  <a:pt x="3754" y="1094"/>
                </a:lnTo>
                <a:lnTo>
                  <a:pt x="3755" y="1140"/>
                </a:lnTo>
                <a:lnTo>
                  <a:pt x="3756" y="1001"/>
                </a:lnTo>
                <a:lnTo>
                  <a:pt x="3757" y="1245"/>
                </a:lnTo>
                <a:lnTo>
                  <a:pt x="3758" y="841"/>
                </a:lnTo>
                <a:lnTo>
                  <a:pt x="3760" y="721"/>
                </a:lnTo>
                <a:lnTo>
                  <a:pt x="3761" y="952"/>
                </a:lnTo>
                <a:lnTo>
                  <a:pt x="3762" y="922"/>
                </a:lnTo>
                <a:lnTo>
                  <a:pt x="3763" y="1230"/>
                </a:lnTo>
                <a:lnTo>
                  <a:pt x="3765" y="839"/>
                </a:lnTo>
                <a:lnTo>
                  <a:pt x="3766" y="1058"/>
                </a:lnTo>
                <a:lnTo>
                  <a:pt x="3767" y="767"/>
                </a:lnTo>
                <a:lnTo>
                  <a:pt x="3768" y="1093"/>
                </a:lnTo>
                <a:lnTo>
                  <a:pt x="3770" y="1054"/>
                </a:lnTo>
                <a:lnTo>
                  <a:pt x="3771" y="895"/>
                </a:lnTo>
                <a:lnTo>
                  <a:pt x="3772" y="1181"/>
                </a:lnTo>
                <a:lnTo>
                  <a:pt x="3773" y="1380"/>
                </a:lnTo>
                <a:lnTo>
                  <a:pt x="3774" y="1036"/>
                </a:lnTo>
                <a:lnTo>
                  <a:pt x="3776" y="1058"/>
                </a:lnTo>
                <a:lnTo>
                  <a:pt x="3777" y="1129"/>
                </a:lnTo>
                <a:lnTo>
                  <a:pt x="3779" y="1342"/>
                </a:lnTo>
                <a:lnTo>
                  <a:pt x="3780" y="858"/>
                </a:lnTo>
                <a:lnTo>
                  <a:pt x="3781" y="975"/>
                </a:lnTo>
                <a:lnTo>
                  <a:pt x="3782" y="748"/>
                </a:lnTo>
                <a:lnTo>
                  <a:pt x="3783" y="456"/>
                </a:lnTo>
                <a:lnTo>
                  <a:pt x="3784" y="528"/>
                </a:lnTo>
                <a:lnTo>
                  <a:pt x="3785" y="829"/>
                </a:lnTo>
                <a:lnTo>
                  <a:pt x="3787" y="943"/>
                </a:lnTo>
                <a:lnTo>
                  <a:pt x="3789" y="1412"/>
                </a:lnTo>
                <a:lnTo>
                  <a:pt x="3790" y="837"/>
                </a:lnTo>
                <a:lnTo>
                  <a:pt x="3791" y="815"/>
                </a:lnTo>
                <a:lnTo>
                  <a:pt x="3792" y="792"/>
                </a:lnTo>
                <a:lnTo>
                  <a:pt x="3793" y="776"/>
                </a:lnTo>
                <a:lnTo>
                  <a:pt x="3794" y="756"/>
                </a:lnTo>
                <a:lnTo>
                  <a:pt x="3795" y="547"/>
                </a:lnTo>
                <a:lnTo>
                  <a:pt x="3796" y="711"/>
                </a:lnTo>
                <a:lnTo>
                  <a:pt x="3799" y="1005"/>
                </a:lnTo>
                <a:lnTo>
                  <a:pt x="3800" y="869"/>
                </a:lnTo>
                <a:lnTo>
                  <a:pt x="3801" y="1275"/>
                </a:lnTo>
                <a:lnTo>
                  <a:pt x="3802" y="1227"/>
                </a:lnTo>
                <a:lnTo>
                  <a:pt x="3803" y="762"/>
                </a:lnTo>
                <a:lnTo>
                  <a:pt x="3804" y="1180"/>
                </a:lnTo>
                <a:lnTo>
                  <a:pt x="3805" y="1333"/>
                </a:lnTo>
                <a:lnTo>
                  <a:pt x="3806" y="1117"/>
                </a:lnTo>
                <a:lnTo>
                  <a:pt x="3808" y="958"/>
                </a:lnTo>
                <a:lnTo>
                  <a:pt x="3809" y="847"/>
                </a:lnTo>
                <a:lnTo>
                  <a:pt x="3811" y="1064"/>
                </a:lnTo>
                <a:lnTo>
                  <a:pt x="3812" y="1505"/>
                </a:lnTo>
                <a:lnTo>
                  <a:pt x="3813" y="506"/>
                </a:lnTo>
                <a:lnTo>
                  <a:pt x="3814" y="595"/>
                </a:lnTo>
                <a:lnTo>
                  <a:pt x="3815" y="1229"/>
                </a:lnTo>
                <a:lnTo>
                  <a:pt x="3816" y="1172"/>
                </a:lnTo>
                <a:lnTo>
                  <a:pt x="3818" y="1277"/>
                </a:lnTo>
                <a:lnTo>
                  <a:pt x="3819" y="1314"/>
                </a:lnTo>
                <a:lnTo>
                  <a:pt x="3820" y="716"/>
                </a:lnTo>
                <a:lnTo>
                  <a:pt x="3822" y="1003"/>
                </a:lnTo>
                <a:lnTo>
                  <a:pt x="3823" y="300"/>
                </a:lnTo>
                <a:lnTo>
                  <a:pt x="3824" y="1360"/>
                </a:lnTo>
                <a:lnTo>
                  <a:pt x="3825" y="1010"/>
                </a:lnTo>
                <a:lnTo>
                  <a:pt x="3826" y="985"/>
                </a:lnTo>
                <a:lnTo>
                  <a:pt x="3828" y="735"/>
                </a:lnTo>
                <a:lnTo>
                  <a:pt x="3829" y="720"/>
                </a:lnTo>
                <a:lnTo>
                  <a:pt x="3830" y="1152"/>
                </a:lnTo>
                <a:lnTo>
                  <a:pt x="3831" y="691"/>
                </a:lnTo>
                <a:lnTo>
                  <a:pt x="3833" y="718"/>
                </a:lnTo>
                <a:lnTo>
                  <a:pt x="3834" y="566"/>
                </a:lnTo>
                <a:lnTo>
                  <a:pt x="3835" y="1304"/>
                </a:lnTo>
                <a:lnTo>
                  <a:pt x="3837" y="1000"/>
                </a:lnTo>
                <a:lnTo>
                  <a:pt x="3838" y="1176"/>
                </a:lnTo>
                <a:lnTo>
                  <a:pt x="3839" y="1190"/>
                </a:lnTo>
                <a:lnTo>
                  <a:pt x="3840" y="697"/>
                </a:lnTo>
                <a:lnTo>
                  <a:pt x="3841" y="815"/>
                </a:lnTo>
                <a:lnTo>
                  <a:pt x="3842" y="1530"/>
                </a:lnTo>
                <a:lnTo>
                  <a:pt x="3844" y="602"/>
                </a:lnTo>
                <a:lnTo>
                  <a:pt x="3845" y="677"/>
                </a:lnTo>
                <a:lnTo>
                  <a:pt x="3847" y="1145"/>
                </a:lnTo>
                <a:lnTo>
                  <a:pt x="3848" y="1016"/>
                </a:lnTo>
                <a:lnTo>
                  <a:pt x="3849" y="1007"/>
                </a:lnTo>
                <a:lnTo>
                  <a:pt x="3850" y="1411"/>
                </a:lnTo>
                <a:lnTo>
                  <a:pt x="3851" y="1333"/>
                </a:lnTo>
                <a:lnTo>
                  <a:pt x="3852" y="1200"/>
                </a:lnTo>
                <a:lnTo>
                  <a:pt x="3853" y="1228"/>
                </a:lnTo>
                <a:lnTo>
                  <a:pt x="3855" y="940"/>
                </a:lnTo>
                <a:lnTo>
                  <a:pt x="3857" y="1064"/>
                </a:lnTo>
                <a:lnTo>
                  <a:pt x="3858" y="1244"/>
                </a:lnTo>
                <a:lnTo>
                  <a:pt x="3859" y="1148"/>
                </a:lnTo>
                <a:lnTo>
                  <a:pt x="3860" y="436"/>
                </a:lnTo>
                <a:lnTo>
                  <a:pt x="3861" y="1278"/>
                </a:lnTo>
                <a:lnTo>
                  <a:pt x="3862" y="643"/>
                </a:lnTo>
                <a:lnTo>
                  <a:pt x="3863" y="781"/>
                </a:lnTo>
                <a:lnTo>
                  <a:pt x="3864" y="1099"/>
                </a:lnTo>
                <a:lnTo>
                  <a:pt x="3866" y="973"/>
                </a:lnTo>
                <a:lnTo>
                  <a:pt x="3868" y="1427"/>
                </a:lnTo>
                <a:lnTo>
                  <a:pt x="3869" y="1436"/>
                </a:lnTo>
                <a:lnTo>
                  <a:pt x="3870" y="758"/>
                </a:lnTo>
                <a:lnTo>
                  <a:pt x="3871" y="1432"/>
                </a:lnTo>
                <a:lnTo>
                  <a:pt x="3872" y="659"/>
                </a:lnTo>
                <a:lnTo>
                  <a:pt x="3873" y="1202"/>
                </a:lnTo>
                <a:lnTo>
                  <a:pt x="3874" y="1098"/>
                </a:lnTo>
                <a:lnTo>
                  <a:pt x="3876" y="858"/>
                </a:lnTo>
                <a:lnTo>
                  <a:pt x="3877" y="642"/>
                </a:lnTo>
                <a:lnTo>
                  <a:pt x="3879" y="1255"/>
                </a:lnTo>
                <a:lnTo>
                  <a:pt x="3880" y="792"/>
                </a:lnTo>
                <a:lnTo>
                  <a:pt x="3881" y="1162"/>
                </a:lnTo>
                <a:lnTo>
                  <a:pt x="3882" y="1134"/>
                </a:lnTo>
                <a:lnTo>
                  <a:pt x="3883" y="902"/>
                </a:lnTo>
                <a:lnTo>
                  <a:pt x="3884" y="1288"/>
                </a:lnTo>
                <a:lnTo>
                  <a:pt x="3886" y="1215"/>
                </a:lnTo>
                <a:lnTo>
                  <a:pt x="3887" y="1043"/>
                </a:lnTo>
                <a:lnTo>
                  <a:pt x="3888" y="1061"/>
                </a:lnTo>
                <a:lnTo>
                  <a:pt x="3890" y="947"/>
                </a:lnTo>
                <a:lnTo>
                  <a:pt x="3891" y="924"/>
                </a:lnTo>
                <a:lnTo>
                  <a:pt x="3892" y="1053"/>
                </a:lnTo>
                <a:lnTo>
                  <a:pt x="3893" y="765"/>
                </a:lnTo>
                <a:lnTo>
                  <a:pt x="3895" y="757"/>
                </a:lnTo>
                <a:lnTo>
                  <a:pt x="3896" y="963"/>
                </a:lnTo>
                <a:lnTo>
                  <a:pt x="3897" y="1312"/>
                </a:lnTo>
                <a:lnTo>
                  <a:pt x="3898" y="741"/>
                </a:lnTo>
                <a:lnTo>
                  <a:pt x="3899" y="1147"/>
                </a:lnTo>
                <a:lnTo>
                  <a:pt x="3901" y="1363"/>
                </a:lnTo>
                <a:lnTo>
                  <a:pt x="3902" y="1002"/>
                </a:lnTo>
                <a:lnTo>
                  <a:pt x="3903" y="514"/>
                </a:lnTo>
                <a:lnTo>
                  <a:pt x="3905" y="835"/>
                </a:lnTo>
                <a:lnTo>
                  <a:pt x="3906" y="662"/>
                </a:lnTo>
                <a:lnTo>
                  <a:pt x="3907" y="630"/>
                </a:lnTo>
                <a:lnTo>
                  <a:pt x="3908" y="1401"/>
                </a:lnTo>
                <a:lnTo>
                  <a:pt x="3909" y="739"/>
                </a:lnTo>
                <a:lnTo>
                  <a:pt x="3910" y="1390"/>
                </a:lnTo>
                <a:lnTo>
                  <a:pt x="3912" y="1111"/>
                </a:lnTo>
                <a:lnTo>
                  <a:pt x="3913" y="1107"/>
                </a:lnTo>
                <a:lnTo>
                  <a:pt x="3915" y="1114"/>
                </a:lnTo>
                <a:lnTo>
                  <a:pt x="3916" y="916"/>
                </a:lnTo>
                <a:lnTo>
                  <a:pt x="3917" y="1350"/>
                </a:lnTo>
                <a:lnTo>
                  <a:pt x="3918" y="1165"/>
                </a:lnTo>
                <a:lnTo>
                  <a:pt x="3919" y="1247"/>
                </a:lnTo>
                <a:lnTo>
                  <a:pt x="3920" y="835"/>
                </a:lnTo>
                <a:lnTo>
                  <a:pt x="3921" y="805"/>
                </a:lnTo>
                <a:lnTo>
                  <a:pt x="3924" y="1197"/>
                </a:lnTo>
                <a:lnTo>
                  <a:pt x="3925" y="968"/>
                </a:lnTo>
                <a:lnTo>
                  <a:pt x="3926" y="986"/>
                </a:lnTo>
                <a:lnTo>
                  <a:pt x="3927" y="1440"/>
                </a:lnTo>
                <a:lnTo>
                  <a:pt x="3928" y="327"/>
                </a:lnTo>
                <a:lnTo>
                  <a:pt x="3929" y="648"/>
                </a:lnTo>
                <a:lnTo>
                  <a:pt x="3930" y="1622"/>
                </a:lnTo>
                <a:lnTo>
                  <a:pt x="3931" y="1354"/>
                </a:lnTo>
                <a:lnTo>
                  <a:pt x="3932" y="893"/>
                </a:lnTo>
                <a:lnTo>
                  <a:pt x="3934" y="1020"/>
                </a:lnTo>
                <a:lnTo>
                  <a:pt x="3936" y="926"/>
                </a:lnTo>
                <a:lnTo>
                  <a:pt x="3937" y="660"/>
                </a:lnTo>
                <a:lnTo>
                  <a:pt x="3938" y="1233"/>
                </a:lnTo>
                <a:lnTo>
                  <a:pt x="3939" y="1219"/>
                </a:lnTo>
                <a:lnTo>
                  <a:pt x="3940" y="249"/>
                </a:lnTo>
                <a:lnTo>
                  <a:pt x="3941" y="902"/>
                </a:lnTo>
                <a:lnTo>
                  <a:pt x="3943" y="993"/>
                </a:lnTo>
                <a:lnTo>
                  <a:pt x="3944" y="975"/>
                </a:lnTo>
                <a:lnTo>
                  <a:pt x="3945" y="848"/>
                </a:lnTo>
                <a:lnTo>
                  <a:pt x="3947" y="958"/>
                </a:lnTo>
                <a:lnTo>
                  <a:pt x="3948" y="1049"/>
                </a:lnTo>
                <a:lnTo>
                  <a:pt x="3949" y="1592"/>
                </a:lnTo>
                <a:lnTo>
                  <a:pt x="3950" y="1344"/>
                </a:lnTo>
                <a:lnTo>
                  <a:pt x="3951" y="1033"/>
                </a:lnTo>
                <a:lnTo>
                  <a:pt x="3953" y="1136"/>
                </a:lnTo>
                <a:lnTo>
                  <a:pt x="3954" y="875"/>
                </a:lnTo>
                <a:lnTo>
                  <a:pt x="3955" y="1110"/>
                </a:lnTo>
                <a:lnTo>
                  <a:pt x="3956" y="938"/>
                </a:lnTo>
                <a:lnTo>
                  <a:pt x="3958" y="928"/>
                </a:lnTo>
                <a:lnTo>
                  <a:pt x="3959" y="1197"/>
                </a:lnTo>
                <a:lnTo>
                  <a:pt x="3960" y="1429"/>
                </a:lnTo>
                <a:lnTo>
                  <a:pt x="3961" y="703"/>
                </a:lnTo>
                <a:lnTo>
                  <a:pt x="3963" y="709"/>
                </a:lnTo>
                <a:lnTo>
                  <a:pt x="3964" y="902"/>
                </a:lnTo>
                <a:lnTo>
                  <a:pt x="3965" y="740"/>
                </a:lnTo>
                <a:lnTo>
                  <a:pt x="3966" y="1435"/>
                </a:lnTo>
                <a:lnTo>
                  <a:pt x="3967" y="965"/>
                </a:lnTo>
                <a:lnTo>
                  <a:pt x="3969" y="1005"/>
                </a:lnTo>
                <a:lnTo>
                  <a:pt x="3970" y="638"/>
                </a:lnTo>
                <a:lnTo>
                  <a:pt x="3972" y="1169"/>
                </a:lnTo>
                <a:lnTo>
                  <a:pt x="3973" y="719"/>
                </a:lnTo>
                <a:lnTo>
                  <a:pt x="3974" y="226"/>
                </a:lnTo>
                <a:lnTo>
                  <a:pt x="3975" y="979"/>
                </a:lnTo>
                <a:lnTo>
                  <a:pt x="3976" y="595"/>
                </a:lnTo>
                <a:lnTo>
                  <a:pt x="3977" y="761"/>
                </a:lnTo>
                <a:lnTo>
                  <a:pt x="3978" y="994"/>
                </a:lnTo>
                <a:lnTo>
                  <a:pt x="3980" y="1522"/>
                </a:lnTo>
                <a:lnTo>
                  <a:pt x="3982" y="896"/>
                </a:lnTo>
                <a:lnTo>
                  <a:pt x="3983" y="870"/>
                </a:lnTo>
                <a:lnTo>
                  <a:pt x="3984" y="1274"/>
                </a:lnTo>
                <a:lnTo>
                  <a:pt x="3985" y="1040"/>
                </a:lnTo>
                <a:lnTo>
                  <a:pt x="3986" y="1148"/>
                </a:lnTo>
                <a:lnTo>
                  <a:pt x="3987" y="857"/>
                </a:lnTo>
                <a:lnTo>
                  <a:pt x="3988" y="1094"/>
                </a:lnTo>
                <a:lnTo>
                  <a:pt x="3989" y="1212"/>
                </a:lnTo>
                <a:lnTo>
                  <a:pt x="3990" y="1015"/>
                </a:lnTo>
                <a:lnTo>
                  <a:pt x="3993" y="509"/>
                </a:lnTo>
                <a:lnTo>
                  <a:pt x="3994" y="755"/>
                </a:lnTo>
                <a:lnTo>
                  <a:pt x="3995" y="758"/>
                </a:lnTo>
                <a:lnTo>
                  <a:pt x="3996" y="1350"/>
                </a:lnTo>
                <a:lnTo>
                  <a:pt x="3997" y="954"/>
                </a:lnTo>
                <a:lnTo>
                  <a:pt x="3998" y="612"/>
                </a:lnTo>
                <a:lnTo>
                  <a:pt x="3999" y="979"/>
                </a:lnTo>
                <a:lnTo>
                  <a:pt x="4001" y="1235"/>
                </a:lnTo>
                <a:lnTo>
                  <a:pt x="4002" y="1169"/>
                </a:lnTo>
                <a:lnTo>
                  <a:pt x="4004" y="429"/>
                </a:lnTo>
                <a:lnTo>
                  <a:pt x="4005" y="1111"/>
                </a:lnTo>
                <a:lnTo>
                  <a:pt x="4006" y="827"/>
                </a:lnTo>
                <a:lnTo>
                  <a:pt x="4007" y="1218"/>
                </a:lnTo>
                <a:lnTo>
                  <a:pt x="4008" y="619"/>
                </a:lnTo>
                <a:lnTo>
                  <a:pt x="4009" y="1201"/>
                </a:lnTo>
                <a:lnTo>
                  <a:pt x="4011" y="1762"/>
                </a:lnTo>
                <a:lnTo>
                  <a:pt x="4012" y="1051"/>
                </a:lnTo>
                <a:lnTo>
                  <a:pt x="4013" y="1328"/>
                </a:lnTo>
                <a:lnTo>
                  <a:pt x="4015" y="905"/>
                </a:lnTo>
                <a:lnTo>
                  <a:pt x="4016" y="1145"/>
                </a:lnTo>
                <a:lnTo>
                  <a:pt x="4017" y="1327"/>
                </a:lnTo>
                <a:lnTo>
                  <a:pt x="4018" y="1459"/>
                </a:lnTo>
                <a:lnTo>
                  <a:pt x="4019" y="1039"/>
                </a:lnTo>
                <a:lnTo>
                  <a:pt x="4021" y="863"/>
                </a:lnTo>
                <a:lnTo>
                  <a:pt x="4022" y="1148"/>
                </a:lnTo>
                <a:lnTo>
                  <a:pt x="4023" y="738"/>
                </a:lnTo>
                <a:lnTo>
                  <a:pt x="4024" y="1058"/>
                </a:lnTo>
                <a:lnTo>
                  <a:pt x="4026" y="724"/>
                </a:lnTo>
                <a:lnTo>
                  <a:pt x="4027" y="1130"/>
                </a:lnTo>
                <a:lnTo>
                  <a:pt x="4028" y="1323"/>
                </a:lnTo>
                <a:lnTo>
                  <a:pt x="4030" y="850"/>
                </a:lnTo>
                <a:lnTo>
                  <a:pt x="4031" y="1172"/>
                </a:lnTo>
                <a:lnTo>
                  <a:pt x="4032" y="1419"/>
                </a:lnTo>
                <a:lnTo>
                  <a:pt x="4033" y="1308"/>
                </a:lnTo>
                <a:lnTo>
                  <a:pt x="4034" y="818"/>
                </a:lnTo>
                <a:lnTo>
                  <a:pt x="4035" y="909"/>
                </a:lnTo>
                <a:lnTo>
                  <a:pt x="4037" y="727"/>
                </a:lnTo>
                <a:lnTo>
                  <a:pt x="4038" y="1053"/>
                </a:lnTo>
                <a:lnTo>
                  <a:pt x="4040" y="895"/>
                </a:lnTo>
                <a:lnTo>
                  <a:pt x="4041" y="962"/>
                </a:lnTo>
                <a:lnTo>
                  <a:pt x="4042" y="1267"/>
                </a:lnTo>
                <a:lnTo>
                  <a:pt x="4043" y="1059"/>
                </a:lnTo>
                <a:lnTo>
                  <a:pt x="4044" y="1423"/>
                </a:lnTo>
                <a:lnTo>
                  <a:pt x="4045" y="339"/>
                </a:lnTo>
                <a:lnTo>
                  <a:pt x="4046" y="1119"/>
                </a:lnTo>
                <a:lnTo>
                  <a:pt x="4048" y="846"/>
                </a:lnTo>
                <a:lnTo>
                  <a:pt x="4050" y="1110"/>
                </a:lnTo>
                <a:lnTo>
                  <a:pt x="4051" y="1256"/>
                </a:lnTo>
                <a:lnTo>
                  <a:pt x="4052" y="477"/>
                </a:lnTo>
                <a:lnTo>
                  <a:pt x="4053" y="945"/>
                </a:lnTo>
                <a:lnTo>
                  <a:pt x="4054" y="1238"/>
                </a:lnTo>
                <a:lnTo>
                  <a:pt x="4055" y="1300"/>
                </a:lnTo>
                <a:lnTo>
                  <a:pt x="4056" y="742"/>
                </a:lnTo>
                <a:lnTo>
                  <a:pt x="4057" y="859"/>
                </a:lnTo>
                <a:lnTo>
                  <a:pt x="4059" y="1333"/>
                </a:lnTo>
                <a:lnTo>
                  <a:pt x="4061" y="805"/>
                </a:lnTo>
                <a:lnTo>
                  <a:pt x="4062" y="1456"/>
                </a:lnTo>
                <a:lnTo>
                  <a:pt x="4063" y="1625"/>
                </a:lnTo>
                <a:lnTo>
                  <a:pt x="4064" y="906"/>
                </a:lnTo>
                <a:lnTo>
                  <a:pt x="4065" y="538"/>
                </a:lnTo>
                <a:lnTo>
                  <a:pt x="4066" y="1329"/>
                </a:lnTo>
                <a:lnTo>
                  <a:pt x="4067" y="846"/>
                </a:lnTo>
                <a:lnTo>
                  <a:pt x="4069" y="1053"/>
                </a:lnTo>
                <a:lnTo>
                  <a:pt x="4070" y="834"/>
                </a:lnTo>
                <a:lnTo>
                  <a:pt x="4072" y="787"/>
                </a:lnTo>
                <a:lnTo>
                  <a:pt x="4073" y="787"/>
                </a:lnTo>
                <a:lnTo>
                  <a:pt x="4074" y="810"/>
                </a:lnTo>
                <a:lnTo>
                  <a:pt x="4075" y="1015"/>
                </a:lnTo>
                <a:lnTo>
                  <a:pt x="4076" y="516"/>
                </a:lnTo>
                <a:lnTo>
                  <a:pt x="4077" y="1097"/>
                </a:lnTo>
                <a:lnTo>
                  <a:pt x="4079" y="1050"/>
                </a:lnTo>
                <a:lnTo>
                  <a:pt x="4080" y="952"/>
                </a:lnTo>
                <a:lnTo>
                  <a:pt x="4081" y="1107"/>
                </a:lnTo>
                <a:lnTo>
                  <a:pt x="4083" y="499"/>
                </a:lnTo>
                <a:lnTo>
                  <a:pt x="4084" y="672"/>
                </a:lnTo>
                <a:lnTo>
                  <a:pt x="4085" y="851"/>
                </a:lnTo>
                <a:lnTo>
                  <a:pt x="4086" y="1339"/>
                </a:lnTo>
                <a:lnTo>
                  <a:pt x="4088" y="790"/>
                </a:lnTo>
                <a:lnTo>
                  <a:pt x="4089" y="739"/>
                </a:lnTo>
                <a:lnTo>
                  <a:pt x="4090" y="1101"/>
                </a:lnTo>
                <a:lnTo>
                  <a:pt x="4091" y="265"/>
                </a:lnTo>
                <a:lnTo>
                  <a:pt x="4092" y="1207"/>
                </a:lnTo>
                <a:lnTo>
                  <a:pt x="4094" y="1026"/>
                </a:lnTo>
                <a:lnTo>
                  <a:pt x="4095" y="1077"/>
                </a:lnTo>
                <a:lnTo>
                  <a:pt x="4096" y="1098"/>
                </a:lnTo>
                <a:lnTo>
                  <a:pt x="4098" y="873"/>
                </a:lnTo>
                <a:lnTo>
                  <a:pt x="4099" y="950"/>
                </a:lnTo>
                <a:lnTo>
                  <a:pt x="4100" y="1005"/>
                </a:lnTo>
                <a:lnTo>
                  <a:pt x="4101" y="1198"/>
                </a:lnTo>
                <a:lnTo>
                  <a:pt x="4102" y="1131"/>
                </a:lnTo>
                <a:lnTo>
                  <a:pt x="4103" y="1043"/>
                </a:lnTo>
                <a:lnTo>
                  <a:pt x="4105" y="1286"/>
                </a:lnTo>
                <a:lnTo>
                  <a:pt x="4106" y="1082"/>
                </a:lnTo>
                <a:lnTo>
                  <a:pt x="4108" y="961"/>
                </a:lnTo>
                <a:lnTo>
                  <a:pt x="4109" y="767"/>
                </a:lnTo>
                <a:lnTo>
                  <a:pt x="4110" y="1158"/>
                </a:lnTo>
                <a:lnTo>
                  <a:pt x="4111" y="741"/>
                </a:lnTo>
                <a:lnTo>
                  <a:pt x="4112" y="609"/>
                </a:lnTo>
                <a:lnTo>
                  <a:pt x="4113" y="1024"/>
                </a:lnTo>
                <a:lnTo>
                  <a:pt x="4114" y="944"/>
                </a:lnTo>
                <a:lnTo>
                  <a:pt x="4117" y="1529"/>
                </a:lnTo>
                <a:lnTo>
                  <a:pt x="4118" y="1019"/>
                </a:lnTo>
                <a:lnTo>
                  <a:pt x="4119" y="948"/>
                </a:lnTo>
                <a:lnTo>
                  <a:pt x="4120" y="817"/>
                </a:lnTo>
                <a:lnTo>
                  <a:pt x="4121" y="997"/>
                </a:lnTo>
                <a:lnTo>
                  <a:pt x="4122" y="1009"/>
                </a:lnTo>
                <a:lnTo>
                  <a:pt x="4123" y="1102"/>
                </a:lnTo>
                <a:lnTo>
                  <a:pt x="4124" y="934"/>
                </a:lnTo>
                <a:lnTo>
                  <a:pt x="4125" y="1165"/>
                </a:lnTo>
                <a:lnTo>
                  <a:pt x="4127" y="1373"/>
                </a:lnTo>
                <a:lnTo>
                  <a:pt x="4129" y="782"/>
                </a:lnTo>
                <a:lnTo>
                  <a:pt x="4130" y="954"/>
                </a:lnTo>
                <a:lnTo>
                  <a:pt x="4131" y="819"/>
                </a:lnTo>
                <a:lnTo>
                  <a:pt x="4132" y="1202"/>
                </a:lnTo>
                <a:lnTo>
                  <a:pt x="4133" y="1183"/>
                </a:lnTo>
                <a:lnTo>
                  <a:pt x="4134" y="858"/>
                </a:lnTo>
                <a:lnTo>
                  <a:pt x="4135" y="590"/>
                </a:lnTo>
                <a:lnTo>
                  <a:pt x="4137" y="1381"/>
                </a:lnTo>
                <a:lnTo>
                  <a:pt x="4138" y="693"/>
                </a:lnTo>
                <a:lnTo>
                  <a:pt x="4140" y="1483"/>
                </a:lnTo>
                <a:lnTo>
                  <a:pt x="4141" y="1474"/>
                </a:lnTo>
                <a:lnTo>
                  <a:pt x="4142" y="485"/>
                </a:lnTo>
                <a:lnTo>
                  <a:pt x="4143" y="1081"/>
                </a:lnTo>
                <a:lnTo>
                  <a:pt x="4144" y="1055"/>
                </a:lnTo>
                <a:lnTo>
                  <a:pt x="4146" y="768"/>
                </a:lnTo>
                <a:lnTo>
                  <a:pt x="4147" y="1697"/>
                </a:lnTo>
                <a:lnTo>
                  <a:pt x="4148" y="1518"/>
                </a:lnTo>
                <a:lnTo>
                  <a:pt x="4149" y="820"/>
                </a:lnTo>
                <a:lnTo>
                  <a:pt x="4151" y="1342"/>
                </a:lnTo>
                <a:lnTo>
                  <a:pt x="4152" y="1216"/>
                </a:lnTo>
                <a:lnTo>
                  <a:pt x="4153" y="1478"/>
                </a:lnTo>
                <a:lnTo>
                  <a:pt x="4154" y="940"/>
                </a:lnTo>
                <a:lnTo>
                  <a:pt x="4156" y="961"/>
                </a:lnTo>
                <a:lnTo>
                  <a:pt x="4157" y="748"/>
                </a:lnTo>
                <a:lnTo>
                  <a:pt x="4158" y="1064"/>
                </a:lnTo>
                <a:lnTo>
                  <a:pt x="4159" y="1172"/>
                </a:lnTo>
                <a:lnTo>
                  <a:pt x="4160" y="1424"/>
                </a:lnTo>
                <a:lnTo>
                  <a:pt x="4162" y="430"/>
                </a:lnTo>
                <a:lnTo>
                  <a:pt x="4163" y="960"/>
                </a:lnTo>
                <a:lnTo>
                  <a:pt x="4164" y="993"/>
                </a:lnTo>
                <a:lnTo>
                  <a:pt x="4166" y="1445"/>
                </a:lnTo>
                <a:lnTo>
                  <a:pt x="4167" y="798"/>
                </a:lnTo>
                <a:lnTo>
                  <a:pt x="4168" y="809"/>
                </a:lnTo>
                <a:lnTo>
                  <a:pt x="4169" y="1685"/>
                </a:lnTo>
                <a:lnTo>
                  <a:pt x="4170" y="1107"/>
                </a:lnTo>
                <a:lnTo>
                  <a:pt x="4171" y="984"/>
                </a:lnTo>
                <a:lnTo>
                  <a:pt x="4173" y="1365"/>
                </a:lnTo>
                <a:lnTo>
                  <a:pt x="4175" y="841"/>
                </a:lnTo>
                <a:lnTo>
                  <a:pt x="4176" y="1282"/>
                </a:lnTo>
                <a:lnTo>
                  <a:pt x="4177" y="376"/>
                </a:lnTo>
                <a:lnTo>
                  <a:pt x="4178" y="1112"/>
                </a:lnTo>
                <a:lnTo>
                  <a:pt x="4179" y="844"/>
                </a:lnTo>
                <a:lnTo>
                  <a:pt x="4180" y="950"/>
                </a:lnTo>
                <a:lnTo>
                  <a:pt x="4181" y="1147"/>
                </a:lnTo>
                <a:lnTo>
                  <a:pt x="4182" y="1280"/>
                </a:lnTo>
                <a:lnTo>
                  <a:pt x="4183" y="733"/>
                </a:lnTo>
                <a:lnTo>
                  <a:pt x="4186" y="868"/>
                </a:lnTo>
                <a:lnTo>
                  <a:pt x="4187" y="618"/>
                </a:lnTo>
                <a:lnTo>
                  <a:pt x="4188" y="1280"/>
                </a:lnTo>
                <a:lnTo>
                  <a:pt x="4189" y="429"/>
                </a:lnTo>
                <a:lnTo>
                  <a:pt x="4190" y="367"/>
                </a:lnTo>
                <a:lnTo>
                  <a:pt x="4191" y="1211"/>
                </a:lnTo>
                <a:lnTo>
                  <a:pt x="4192" y="653"/>
                </a:lnTo>
                <a:lnTo>
                  <a:pt x="4194" y="1221"/>
                </a:lnTo>
                <a:lnTo>
                  <a:pt x="4195" y="1226"/>
                </a:lnTo>
                <a:lnTo>
                  <a:pt x="4197" y="1063"/>
                </a:lnTo>
                <a:lnTo>
                  <a:pt x="4198" y="911"/>
                </a:lnTo>
                <a:lnTo>
                  <a:pt x="4199" y="829"/>
                </a:lnTo>
                <a:lnTo>
                  <a:pt x="4200" y="866"/>
                </a:lnTo>
                <a:lnTo>
                  <a:pt x="4201" y="1046"/>
                </a:lnTo>
                <a:lnTo>
                  <a:pt x="4202" y="1436"/>
                </a:lnTo>
                <a:lnTo>
                  <a:pt x="4204" y="767"/>
                </a:lnTo>
                <a:lnTo>
                  <a:pt x="4205" y="1321"/>
                </a:lnTo>
                <a:lnTo>
                  <a:pt x="4206" y="1160"/>
                </a:lnTo>
                <a:lnTo>
                  <a:pt x="4208" y="456"/>
                </a:lnTo>
                <a:lnTo>
                  <a:pt x="4209" y="1109"/>
                </a:lnTo>
                <a:lnTo>
                  <a:pt x="4210" y="1080"/>
                </a:lnTo>
                <a:lnTo>
                  <a:pt x="4211" y="1283"/>
                </a:lnTo>
                <a:lnTo>
                  <a:pt x="4212" y="1166"/>
                </a:lnTo>
                <a:lnTo>
                  <a:pt x="4214" y="724"/>
                </a:lnTo>
                <a:lnTo>
                  <a:pt x="4215" y="1440"/>
                </a:lnTo>
                <a:lnTo>
                  <a:pt x="4216" y="838"/>
                </a:lnTo>
                <a:lnTo>
                  <a:pt x="4217" y="642"/>
                </a:lnTo>
                <a:lnTo>
                  <a:pt x="4219" y="527"/>
                </a:lnTo>
                <a:lnTo>
                  <a:pt x="4220" y="818"/>
                </a:lnTo>
                <a:lnTo>
                  <a:pt x="4221" y="1382"/>
                </a:lnTo>
                <a:lnTo>
                  <a:pt x="4223" y="963"/>
                </a:lnTo>
                <a:lnTo>
                  <a:pt x="4224" y="1141"/>
                </a:lnTo>
                <a:lnTo>
                  <a:pt x="4225" y="560"/>
                </a:lnTo>
                <a:lnTo>
                  <a:pt x="4226" y="1231"/>
                </a:lnTo>
                <a:lnTo>
                  <a:pt x="4227" y="741"/>
                </a:lnTo>
                <a:lnTo>
                  <a:pt x="4228" y="892"/>
                </a:lnTo>
                <a:lnTo>
                  <a:pt x="4230" y="1067"/>
                </a:lnTo>
                <a:lnTo>
                  <a:pt x="4231" y="1121"/>
                </a:lnTo>
                <a:lnTo>
                  <a:pt x="4233" y="899"/>
                </a:lnTo>
                <a:lnTo>
                  <a:pt x="4234" y="726"/>
                </a:lnTo>
                <a:lnTo>
                  <a:pt x="4235" y="887"/>
                </a:lnTo>
                <a:lnTo>
                  <a:pt x="4236" y="932"/>
                </a:lnTo>
                <a:lnTo>
                  <a:pt x="4237" y="942"/>
                </a:lnTo>
                <a:lnTo>
                  <a:pt x="4238" y="1170"/>
                </a:lnTo>
                <a:lnTo>
                  <a:pt x="4239" y="999"/>
                </a:lnTo>
                <a:lnTo>
                  <a:pt x="4241" y="1100"/>
                </a:lnTo>
                <a:lnTo>
                  <a:pt x="4243" y="1185"/>
                </a:lnTo>
                <a:lnTo>
                  <a:pt x="4244" y="1534"/>
                </a:lnTo>
                <a:lnTo>
                  <a:pt x="4245" y="1091"/>
                </a:lnTo>
                <a:lnTo>
                  <a:pt x="4246" y="1123"/>
                </a:lnTo>
                <a:lnTo>
                  <a:pt x="4247" y="934"/>
                </a:lnTo>
                <a:lnTo>
                  <a:pt x="4248" y="831"/>
                </a:lnTo>
                <a:lnTo>
                  <a:pt x="4249" y="1498"/>
                </a:lnTo>
                <a:lnTo>
                  <a:pt x="4250" y="1106"/>
                </a:lnTo>
                <a:lnTo>
                  <a:pt x="4252" y="795"/>
                </a:lnTo>
                <a:lnTo>
                  <a:pt x="4254" y="953"/>
                </a:lnTo>
                <a:lnTo>
                  <a:pt x="4255" y="781"/>
                </a:lnTo>
                <a:lnTo>
                  <a:pt x="4256" y="542"/>
                </a:lnTo>
                <a:lnTo>
                  <a:pt x="4257" y="898"/>
                </a:lnTo>
                <a:lnTo>
                  <a:pt x="4258" y="1327"/>
                </a:lnTo>
                <a:lnTo>
                  <a:pt x="4259" y="1032"/>
                </a:lnTo>
                <a:lnTo>
                  <a:pt x="4260" y="710"/>
                </a:lnTo>
                <a:lnTo>
                  <a:pt x="4262" y="1728"/>
                </a:lnTo>
                <a:lnTo>
                  <a:pt x="4263" y="737"/>
                </a:lnTo>
                <a:lnTo>
                  <a:pt x="4265" y="966"/>
                </a:lnTo>
                <a:lnTo>
                  <a:pt x="4266" y="979"/>
                </a:lnTo>
                <a:lnTo>
                  <a:pt x="4267" y="1103"/>
                </a:lnTo>
                <a:lnTo>
                  <a:pt x="4268" y="1245"/>
                </a:lnTo>
                <a:lnTo>
                  <a:pt x="4269" y="1303"/>
                </a:lnTo>
                <a:lnTo>
                  <a:pt x="4270" y="916"/>
                </a:lnTo>
                <a:lnTo>
                  <a:pt x="4272" y="864"/>
                </a:lnTo>
                <a:lnTo>
                  <a:pt x="4273" y="618"/>
                </a:lnTo>
                <a:lnTo>
                  <a:pt x="4274" y="1169"/>
                </a:lnTo>
                <a:lnTo>
                  <a:pt x="4276" y="1055"/>
                </a:lnTo>
                <a:lnTo>
                  <a:pt x="4277" y="1394"/>
                </a:lnTo>
                <a:lnTo>
                  <a:pt x="4278" y="1431"/>
                </a:lnTo>
                <a:lnTo>
                  <a:pt x="4279" y="1393"/>
                </a:lnTo>
                <a:lnTo>
                  <a:pt x="4281" y="1572"/>
                </a:lnTo>
                <a:lnTo>
                  <a:pt x="4282" y="742"/>
                </a:lnTo>
                <a:lnTo>
                  <a:pt x="4283" y="968"/>
                </a:lnTo>
                <a:lnTo>
                  <a:pt x="4284" y="1088"/>
                </a:lnTo>
                <a:lnTo>
                  <a:pt x="4285" y="624"/>
                </a:lnTo>
                <a:lnTo>
                  <a:pt x="4287" y="1553"/>
                </a:lnTo>
                <a:lnTo>
                  <a:pt x="4288" y="942"/>
                </a:lnTo>
                <a:lnTo>
                  <a:pt x="4289" y="700"/>
                </a:lnTo>
                <a:lnTo>
                  <a:pt x="4291" y="582"/>
                </a:lnTo>
                <a:lnTo>
                  <a:pt x="4292" y="1042"/>
                </a:lnTo>
                <a:lnTo>
                  <a:pt x="4293" y="819"/>
                </a:lnTo>
                <a:lnTo>
                  <a:pt x="4294" y="941"/>
                </a:lnTo>
                <a:lnTo>
                  <a:pt x="4295" y="892"/>
                </a:lnTo>
                <a:lnTo>
                  <a:pt x="4296" y="878"/>
                </a:lnTo>
                <a:lnTo>
                  <a:pt x="4298" y="1261"/>
                </a:lnTo>
                <a:lnTo>
                  <a:pt x="4299" y="1046"/>
                </a:lnTo>
                <a:lnTo>
                  <a:pt x="4301" y="1054"/>
                </a:lnTo>
                <a:lnTo>
                  <a:pt x="4302" y="1031"/>
                </a:lnTo>
                <a:lnTo>
                  <a:pt x="4303" y="1409"/>
                </a:lnTo>
                <a:lnTo>
                  <a:pt x="4304" y="1159"/>
                </a:lnTo>
                <a:lnTo>
                  <a:pt x="4305" y="827"/>
                </a:lnTo>
                <a:lnTo>
                  <a:pt x="4306" y="1005"/>
                </a:lnTo>
                <a:lnTo>
                  <a:pt x="4307" y="720"/>
                </a:lnTo>
                <a:lnTo>
                  <a:pt x="4308" y="775"/>
                </a:lnTo>
                <a:lnTo>
                  <a:pt x="4311" y="1137"/>
                </a:lnTo>
                <a:lnTo>
                  <a:pt x="4312" y="1083"/>
                </a:lnTo>
                <a:lnTo>
                  <a:pt x="4313" y="1094"/>
                </a:lnTo>
                <a:lnTo>
                  <a:pt x="4314" y="970"/>
                </a:lnTo>
                <a:lnTo>
                  <a:pt x="4315" y="1295"/>
                </a:lnTo>
                <a:lnTo>
                  <a:pt x="4316" y="1241"/>
                </a:lnTo>
                <a:lnTo>
                  <a:pt x="4317" y="984"/>
                </a:lnTo>
                <a:lnTo>
                  <a:pt x="4318" y="1063"/>
                </a:lnTo>
                <a:lnTo>
                  <a:pt x="4320" y="937"/>
                </a:lnTo>
                <a:lnTo>
                  <a:pt x="4322" y="570"/>
                </a:lnTo>
                <a:lnTo>
                  <a:pt x="4323" y="661"/>
                </a:lnTo>
                <a:lnTo>
                  <a:pt x="4324" y="1165"/>
                </a:lnTo>
                <a:lnTo>
                  <a:pt x="4325" y="1023"/>
                </a:lnTo>
                <a:lnTo>
                  <a:pt x="4326" y="762"/>
                </a:lnTo>
                <a:lnTo>
                  <a:pt x="4327" y="736"/>
                </a:lnTo>
                <a:lnTo>
                  <a:pt x="4328" y="1108"/>
                </a:lnTo>
                <a:lnTo>
                  <a:pt x="4330" y="828"/>
                </a:lnTo>
                <a:lnTo>
                  <a:pt x="4331" y="964"/>
                </a:lnTo>
                <a:lnTo>
                  <a:pt x="4333" y="1314"/>
                </a:lnTo>
                <a:lnTo>
                  <a:pt x="4334" y="1028"/>
                </a:lnTo>
                <a:lnTo>
                  <a:pt x="4335" y="837"/>
                </a:lnTo>
                <a:lnTo>
                  <a:pt x="4336" y="1041"/>
                </a:lnTo>
                <a:lnTo>
                  <a:pt x="4337" y="1108"/>
                </a:lnTo>
                <a:lnTo>
                  <a:pt x="4339" y="1227"/>
                </a:lnTo>
                <a:lnTo>
                  <a:pt x="4340" y="1080"/>
                </a:lnTo>
                <a:lnTo>
                  <a:pt x="4341" y="937"/>
                </a:lnTo>
                <a:lnTo>
                  <a:pt x="4342" y="1224"/>
                </a:lnTo>
                <a:lnTo>
                  <a:pt x="4344" y="1083"/>
                </a:lnTo>
                <a:lnTo>
                  <a:pt x="4345" y="770"/>
                </a:lnTo>
                <a:lnTo>
                  <a:pt x="4346" y="1160"/>
                </a:lnTo>
                <a:lnTo>
                  <a:pt x="4347" y="560"/>
                </a:lnTo>
                <a:lnTo>
                  <a:pt x="4349" y="1179"/>
                </a:lnTo>
                <a:lnTo>
                  <a:pt x="4350" y="1264"/>
                </a:lnTo>
                <a:lnTo>
                  <a:pt x="4351" y="928"/>
                </a:lnTo>
                <a:lnTo>
                  <a:pt x="4352" y="796"/>
                </a:lnTo>
                <a:lnTo>
                  <a:pt x="4353" y="976"/>
                </a:lnTo>
                <a:lnTo>
                  <a:pt x="4355" y="954"/>
                </a:lnTo>
                <a:lnTo>
                  <a:pt x="4356" y="729"/>
                </a:lnTo>
                <a:lnTo>
                  <a:pt x="4357" y="1235"/>
                </a:lnTo>
                <a:lnTo>
                  <a:pt x="4359" y="1034"/>
                </a:lnTo>
                <a:lnTo>
                  <a:pt x="4360" y="870"/>
                </a:lnTo>
                <a:lnTo>
                  <a:pt x="4361" y="1355"/>
                </a:lnTo>
                <a:lnTo>
                  <a:pt x="4362" y="1029"/>
                </a:lnTo>
                <a:lnTo>
                  <a:pt x="4363" y="1251"/>
                </a:lnTo>
                <a:lnTo>
                  <a:pt x="4364" y="1265"/>
                </a:lnTo>
                <a:lnTo>
                  <a:pt x="4366" y="1130"/>
                </a:lnTo>
                <a:lnTo>
                  <a:pt x="4368" y="645"/>
                </a:lnTo>
                <a:lnTo>
                  <a:pt x="4369" y="1080"/>
                </a:lnTo>
                <a:lnTo>
                  <a:pt x="4370" y="1081"/>
                </a:lnTo>
                <a:lnTo>
                  <a:pt x="4371" y="541"/>
                </a:lnTo>
                <a:lnTo>
                  <a:pt x="4372" y="944"/>
                </a:lnTo>
                <a:lnTo>
                  <a:pt x="4373" y="1063"/>
                </a:lnTo>
                <a:lnTo>
                  <a:pt x="4374" y="1189"/>
                </a:lnTo>
                <a:lnTo>
                  <a:pt x="4375" y="873"/>
                </a:lnTo>
                <a:lnTo>
                  <a:pt x="4376" y="667"/>
                </a:lnTo>
                <a:lnTo>
                  <a:pt x="4379" y="1216"/>
                </a:lnTo>
                <a:lnTo>
                  <a:pt x="4380" y="1032"/>
                </a:lnTo>
                <a:lnTo>
                  <a:pt x="4381" y="1139"/>
                </a:lnTo>
                <a:lnTo>
                  <a:pt x="4382" y="1332"/>
                </a:lnTo>
                <a:lnTo>
                  <a:pt x="4383" y="928"/>
                </a:lnTo>
                <a:lnTo>
                  <a:pt x="4384" y="1277"/>
                </a:lnTo>
                <a:lnTo>
                  <a:pt x="4385" y="1197"/>
                </a:lnTo>
                <a:lnTo>
                  <a:pt x="4386" y="1243"/>
                </a:lnTo>
                <a:lnTo>
                  <a:pt x="4388" y="1013"/>
                </a:lnTo>
                <a:lnTo>
                  <a:pt x="4390" y="777"/>
                </a:lnTo>
                <a:lnTo>
                  <a:pt x="4391" y="436"/>
                </a:lnTo>
                <a:lnTo>
                  <a:pt x="4392" y="1226"/>
                </a:lnTo>
                <a:lnTo>
                  <a:pt x="4393" y="1304"/>
                </a:lnTo>
                <a:lnTo>
                  <a:pt x="4394" y="948"/>
                </a:lnTo>
                <a:lnTo>
                  <a:pt x="4395" y="925"/>
                </a:lnTo>
                <a:lnTo>
                  <a:pt x="4397" y="1150"/>
                </a:lnTo>
                <a:lnTo>
                  <a:pt x="4398" y="1082"/>
                </a:lnTo>
                <a:lnTo>
                  <a:pt x="4399" y="661"/>
                </a:lnTo>
                <a:lnTo>
                  <a:pt x="4401" y="712"/>
                </a:lnTo>
                <a:lnTo>
                  <a:pt x="4402" y="1109"/>
                </a:lnTo>
                <a:lnTo>
                  <a:pt x="4403" y="1277"/>
                </a:lnTo>
                <a:lnTo>
                  <a:pt x="4404" y="672"/>
                </a:lnTo>
                <a:lnTo>
                  <a:pt x="4405" y="1212"/>
                </a:lnTo>
                <a:lnTo>
                  <a:pt x="4407" y="727"/>
                </a:lnTo>
                <a:lnTo>
                  <a:pt x="4408" y="1156"/>
                </a:lnTo>
                <a:lnTo>
                  <a:pt x="4409" y="775"/>
                </a:lnTo>
                <a:lnTo>
                  <a:pt x="4410" y="642"/>
                </a:lnTo>
                <a:lnTo>
                  <a:pt x="4412" y="800"/>
                </a:lnTo>
                <a:lnTo>
                  <a:pt x="4413" y="936"/>
                </a:lnTo>
                <a:lnTo>
                  <a:pt x="4414" y="1559"/>
                </a:lnTo>
                <a:lnTo>
                  <a:pt x="4415" y="883"/>
                </a:lnTo>
                <a:lnTo>
                  <a:pt x="4417" y="1188"/>
                </a:lnTo>
                <a:lnTo>
                  <a:pt x="4418" y="933"/>
                </a:lnTo>
                <a:lnTo>
                  <a:pt x="4419" y="1280"/>
                </a:lnTo>
                <a:lnTo>
                  <a:pt x="4420" y="1247"/>
                </a:lnTo>
                <a:lnTo>
                  <a:pt x="4421" y="1430"/>
                </a:lnTo>
                <a:lnTo>
                  <a:pt x="4423" y="864"/>
                </a:lnTo>
                <a:lnTo>
                  <a:pt x="4424" y="1064"/>
                </a:lnTo>
                <a:lnTo>
                  <a:pt x="4426" y="1473"/>
                </a:lnTo>
                <a:lnTo>
                  <a:pt x="4427" y="1462"/>
                </a:lnTo>
                <a:lnTo>
                  <a:pt x="4428" y="673"/>
                </a:lnTo>
                <a:lnTo>
                  <a:pt x="4429" y="1485"/>
                </a:lnTo>
                <a:lnTo>
                  <a:pt x="4430" y="1647"/>
                </a:lnTo>
                <a:lnTo>
                  <a:pt x="4431" y="535"/>
                </a:lnTo>
                <a:lnTo>
                  <a:pt x="4432" y="868"/>
                </a:lnTo>
                <a:lnTo>
                  <a:pt x="4433" y="561"/>
                </a:lnTo>
                <a:lnTo>
                  <a:pt x="4436" y="796"/>
                </a:lnTo>
                <a:lnTo>
                  <a:pt x="4437" y="595"/>
                </a:lnTo>
                <a:lnTo>
                  <a:pt x="4438" y="698"/>
                </a:lnTo>
                <a:lnTo>
                  <a:pt x="4439" y="1243"/>
                </a:lnTo>
                <a:lnTo>
                  <a:pt x="4440" y="1177"/>
                </a:lnTo>
                <a:lnTo>
                  <a:pt x="4441" y="979"/>
                </a:lnTo>
                <a:lnTo>
                  <a:pt x="4442" y="743"/>
                </a:lnTo>
                <a:lnTo>
                  <a:pt x="4443" y="592"/>
                </a:lnTo>
                <a:lnTo>
                  <a:pt x="4445" y="1205"/>
                </a:lnTo>
                <a:lnTo>
                  <a:pt x="4447" y="1331"/>
                </a:lnTo>
                <a:lnTo>
                  <a:pt x="4448" y="1011"/>
                </a:lnTo>
                <a:lnTo>
                  <a:pt x="4449" y="825"/>
                </a:lnTo>
                <a:lnTo>
                  <a:pt x="4450" y="887"/>
                </a:lnTo>
                <a:lnTo>
                  <a:pt x="4451" y="528"/>
                </a:lnTo>
                <a:lnTo>
                  <a:pt x="4452" y="1290"/>
                </a:lnTo>
                <a:lnTo>
                  <a:pt x="4453" y="960"/>
                </a:lnTo>
                <a:lnTo>
                  <a:pt x="4455" y="843"/>
                </a:lnTo>
                <a:lnTo>
                  <a:pt x="4456" y="863"/>
                </a:lnTo>
                <a:lnTo>
                  <a:pt x="4458" y="782"/>
                </a:lnTo>
                <a:lnTo>
                  <a:pt x="4459" y="638"/>
                </a:lnTo>
                <a:lnTo>
                  <a:pt x="4460" y="1248"/>
                </a:lnTo>
                <a:lnTo>
                  <a:pt x="4461" y="971"/>
                </a:lnTo>
                <a:lnTo>
                  <a:pt x="4462" y="1210"/>
                </a:lnTo>
                <a:lnTo>
                  <a:pt x="4463" y="848"/>
                </a:lnTo>
                <a:lnTo>
                  <a:pt x="4465" y="824"/>
                </a:lnTo>
                <a:lnTo>
                  <a:pt x="4466" y="1119"/>
                </a:lnTo>
                <a:lnTo>
                  <a:pt x="4467" y="923"/>
                </a:lnTo>
                <a:lnTo>
                  <a:pt x="4469" y="1034"/>
                </a:lnTo>
                <a:lnTo>
                  <a:pt x="4470" y="1064"/>
                </a:lnTo>
                <a:lnTo>
                  <a:pt x="4471" y="1146"/>
                </a:lnTo>
                <a:lnTo>
                  <a:pt x="4472" y="1140"/>
                </a:lnTo>
                <a:lnTo>
                  <a:pt x="4474" y="834"/>
                </a:lnTo>
                <a:lnTo>
                  <a:pt x="4475" y="860"/>
                </a:lnTo>
                <a:lnTo>
                  <a:pt x="4476" y="761"/>
                </a:lnTo>
                <a:lnTo>
                  <a:pt x="4477" y="902"/>
                </a:lnTo>
                <a:lnTo>
                  <a:pt x="4478" y="903"/>
                </a:lnTo>
                <a:lnTo>
                  <a:pt x="4480" y="855"/>
                </a:lnTo>
                <a:lnTo>
                  <a:pt x="4481" y="799"/>
                </a:lnTo>
                <a:lnTo>
                  <a:pt x="4482" y="816"/>
                </a:lnTo>
                <a:lnTo>
                  <a:pt x="4484" y="1194"/>
                </a:lnTo>
                <a:lnTo>
                  <a:pt x="4485" y="733"/>
                </a:lnTo>
                <a:lnTo>
                  <a:pt x="4486" y="489"/>
                </a:lnTo>
                <a:lnTo>
                  <a:pt x="4487" y="856"/>
                </a:lnTo>
                <a:lnTo>
                  <a:pt x="4488" y="1075"/>
                </a:lnTo>
                <a:lnTo>
                  <a:pt x="4489" y="1013"/>
                </a:lnTo>
                <a:lnTo>
                  <a:pt x="4491" y="960"/>
                </a:lnTo>
                <a:lnTo>
                  <a:pt x="4492" y="938"/>
                </a:lnTo>
                <a:lnTo>
                  <a:pt x="4494" y="1092"/>
                </a:lnTo>
                <a:lnTo>
                  <a:pt x="4495" y="836"/>
                </a:lnTo>
                <a:lnTo>
                  <a:pt x="4496" y="776"/>
                </a:lnTo>
                <a:lnTo>
                  <a:pt x="4497" y="1400"/>
                </a:lnTo>
                <a:lnTo>
                  <a:pt x="4498" y="906"/>
                </a:lnTo>
                <a:lnTo>
                  <a:pt x="4499" y="618"/>
                </a:lnTo>
                <a:lnTo>
                  <a:pt x="4500" y="345"/>
                </a:lnTo>
                <a:lnTo>
                  <a:pt x="4501" y="1138"/>
                </a:lnTo>
                <a:lnTo>
                  <a:pt x="4504" y="1152"/>
                </a:lnTo>
                <a:lnTo>
                  <a:pt x="4505" y="698"/>
                </a:lnTo>
                <a:lnTo>
                  <a:pt x="4506" y="804"/>
                </a:lnTo>
                <a:lnTo>
                  <a:pt x="4507" y="1197"/>
                </a:lnTo>
                <a:lnTo>
                  <a:pt x="4508" y="659"/>
                </a:lnTo>
                <a:lnTo>
                  <a:pt x="4509" y="936"/>
                </a:lnTo>
                <a:lnTo>
                  <a:pt x="4510" y="1153"/>
                </a:lnTo>
                <a:lnTo>
                  <a:pt x="4511" y="851"/>
                </a:lnTo>
                <a:lnTo>
                  <a:pt x="4513" y="799"/>
                </a:lnTo>
                <a:lnTo>
                  <a:pt x="4515" y="1128"/>
                </a:lnTo>
                <a:lnTo>
                  <a:pt x="4516" y="751"/>
                </a:lnTo>
                <a:lnTo>
                  <a:pt x="4517" y="966"/>
                </a:lnTo>
                <a:lnTo>
                  <a:pt x="4518" y="1214"/>
                </a:lnTo>
                <a:lnTo>
                  <a:pt x="4519" y="1517"/>
                </a:lnTo>
                <a:lnTo>
                  <a:pt x="4520" y="698"/>
                </a:lnTo>
                <a:lnTo>
                  <a:pt x="4521" y="212"/>
                </a:lnTo>
                <a:lnTo>
                  <a:pt x="4523" y="938"/>
                </a:lnTo>
                <a:lnTo>
                  <a:pt x="4524" y="1080"/>
                </a:lnTo>
                <a:lnTo>
                  <a:pt x="4526" y="933"/>
                </a:lnTo>
                <a:lnTo>
                  <a:pt x="4527" y="1214"/>
                </a:lnTo>
                <a:lnTo>
                  <a:pt x="4528" y="1277"/>
                </a:lnTo>
                <a:lnTo>
                  <a:pt x="4529" y="1044"/>
                </a:lnTo>
                <a:lnTo>
                  <a:pt x="4530" y="884"/>
                </a:lnTo>
                <a:lnTo>
                  <a:pt x="4532" y="601"/>
                </a:lnTo>
                <a:lnTo>
                  <a:pt x="4533" y="582"/>
                </a:lnTo>
                <a:lnTo>
                  <a:pt x="4534" y="1225"/>
                </a:lnTo>
                <a:lnTo>
                  <a:pt x="4535" y="797"/>
                </a:lnTo>
                <a:lnTo>
                  <a:pt x="4537" y="1605"/>
                </a:lnTo>
                <a:lnTo>
                  <a:pt x="4538" y="1026"/>
                </a:lnTo>
                <a:lnTo>
                  <a:pt x="4539" y="1450"/>
                </a:lnTo>
                <a:lnTo>
                  <a:pt x="4540" y="964"/>
                </a:lnTo>
                <a:lnTo>
                  <a:pt x="4542" y="1051"/>
                </a:lnTo>
                <a:lnTo>
                  <a:pt x="4543" y="1132"/>
                </a:lnTo>
                <a:lnTo>
                  <a:pt x="4544" y="1011"/>
                </a:lnTo>
                <a:lnTo>
                  <a:pt x="4545" y="737"/>
                </a:lnTo>
                <a:lnTo>
                  <a:pt x="4546" y="653"/>
                </a:lnTo>
                <a:lnTo>
                  <a:pt x="4548" y="1132"/>
                </a:lnTo>
                <a:lnTo>
                  <a:pt x="4549" y="478"/>
                </a:lnTo>
                <a:lnTo>
                  <a:pt x="4550" y="753"/>
                </a:lnTo>
                <a:lnTo>
                  <a:pt x="4552" y="795"/>
                </a:lnTo>
                <a:lnTo>
                  <a:pt x="4553" y="1133"/>
                </a:lnTo>
                <a:lnTo>
                  <a:pt x="4554" y="923"/>
                </a:lnTo>
                <a:lnTo>
                  <a:pt x="4555" y="864"/>
                </a:lnTo>
                <a:lnTo>
                  <a:pt x="4556" y="1231"/>
                </a:lnTo>
                <a:lnTo>
                  <a:pt x="4557" y="971"/>
                </a:lnTo>
                <a:lnTo>
                  <a:pt x="4558" y="1202"/>
                </a:lnTo>
                <a:lnTo>
                  <a:pt x="4561" y="1113"/>
                </a:lnTo>
                <a:lnTo>
                  <a:pt x="4562" y="663"/>
                </a:lnTo>
                <a:lnTo>
                  <a:pt x="4563" y="807"/>
                </a:lnTo>
                <a:lnTo>
                  <a:pt x="4564" y="1267"/>
                </a:lnTo>
                <a:lnTo>
                  <a:pt x="4565" y="1149"/>
                </a:lnTo>
                <a:lnTo>
                  <a:pt x="4566" y="1181"/>
                </a:lnTo>
                <a:lnTo>
                  <a:pt x="4567" y="1434"/>
                </a:lnTo>
                <a:lnTo>
                  <a:pt x="4568" y="671"/>
                </a:lnTo>
                <a:lnTo>
                  <a:pt x="4569" y="1139"/>
                </a:lnTo>
                <a:lnTo>
                  <a:pt x="4572" y="469"/>
                </a:lnTo>
                <a:lnTo>
                  <a:pt x="4573" y="1233"/>
                </a:lnTo>
                <a:lnTo>
                  <a:pt x="4574" y="1110"/>
                </a:lnTo>
                <a:lnTo>
                  <a:pt x="4575" y="1049"/>
                </a:lnTo>
                <a:lnTo>
                  <a:pt x="4576" y="1629"/>
                </a:lnTo>
                <a:lnTo>
                  <a:pt x="4577" y="940"/>
                </a:lnTo>
                <a:lnTo>
                  <a:pt x="4578" y="817"/>
                </a:lnTo>
                <a:lnTo>
                  <a:pt x="4579" y="1133"/>
                </a:lnTo>
                <a:lnTo>
                  <a:pt x="4581" y="835"/>
                </a:lnTo>
                <a:lnTo>
                  <a:pt x="4583" y="1071"/>
                </a:lnTo>
                <a:lnTo>
                  <a:pt x="4584" y="965"/>
                </a:lnTo>
                <a:lnTo>
                  <a:pt x="4585" y="1210"/>
                </a:lnTo>
                <a:lnTo>
                  <a:pt x="4586" y="872"/>
                </a:lnTo>
                <a:lnTo>
                  <a:pt x="4587" y="409"/>
                </a:lnTo>
                <a:lnTo>
                  <a:pt x="4588" y="1022"/>
                </a:lnTo>
                <a:lnTo>
                  <a:pt x="4590" y="2011"/>
                </a:lnTo>
                <a:lnTo>
                  <a:pt x="4591" y="1142"/>
                </a:lnTo>
                <a:lnTo>
                  <a:pt x="4592" y="1278"/>
                </a:lnTo>
                <a:lnTo>
                  <a:pt x="4594" y="1182"/>
                </a:lnTo>
                <a:lnTo>
                  <a:pt x="4595" y="1272"/>
                </a:lnTo>
                <a:lnTo>
                  <a:pt x="4596" y="919"/>
                </a:lnTo>
                <a:lnTo>
                  <a:pt x="4597" y="1238"/>
                </a:lnTo>
                <a:lnTo>
                  <a:pt x="4598" y="474"/>
                </a:lnTo>
                <a:lnTo>
                  <a:pt x="4600" y="496"/>
                </a:lnTo>
                <a:lnTo>
                  <a:pt x="4601" y="1138"/>
                </a:lnTo>
                <a:lnTo>
                  <a:pt x="4602" y="1334"/>
                </a:lnTo>
                <a:lnTo>
                  <a:pt x="4603" y="512"/>
                </a:lnTo>
                <a:lnTo>
                  <a:pt x="4605" y="1335"/>
                </a:lnTo>
                <a:lnTo>
                  <a:pt x="4606" y="804"/>
                </a:lnTo>
                <a:lnTo>
                  <a:pt x="4607" y="1136"/>
                </a:lnTo>
                <a:lnTo>
                  <a:pt x="4608" y="905"/>
                </a:lnTo>
                <a:lnTo>
                  <a:pt x="4610" y="1145"/>
                </a:lnTo>
                <a:lnTo>
                  <a:pt x="4611" y="778"/>
                </a:lnTo>
                <a:lnTo>
                  <a:pt x="4612" y="913"/>
                </a:lnTo>
                <a:lnTo>
                  <a:pt x="4613" y="1022"/>
                </a:lnTo>
                <a:lnTo>
                  <a:pt x="4614" y="936"/>
                </a:lnTo>
                <a:lnTo>
                  <a:pt x="4616" y="710"/>
                </a:lnTo>
                <a:lnTo>
                  <a:pt x="4617" y="1122"/>
                </a:lnTo>
                <a:lnTo>
                  <a:pt x="4619" y="1061"/>
                </a:lnTo>
                <a:lnTo>
                  <a:pt x="4620" y="1106"/>
                </a:lnTo>
                <a:lnTo>
                  <a:pt x="4621" y="941"/>
                </a:lnTo>
                <a:lnTo>
                  <a:pt x="4622" y="608"/>
                </a:lnTo>
                <a:lnTo>
                  <a:pt x="4623" y="805"/>
                </a:lnTo>
                <a:lnTo>
                  <a:pt x="4624" y="815"/>
                </a:lnTo>
                <a:lnTo>
                  <a:pt x="4625" y="1370"/>
                </a:lnTo>
                <a:lnTo>
                  <a:pt x="4626" y="1275"/>
                </a:lnTo>
                <a:lnTo>
                  <a:pt x="4629" y="768"/>
                </a:lnTo>
                <a:lnTo>
                  <a:pt x="4630" y="777"/>
                </a:lnTo>
                <a:lnTo>
                  <a:pt x="4631" y="931"/>
                </a:lnTo>
                <a:lnTo>
                  <a:pt x="4632" y="1234"/>
                </a:lnTo>
                <a:lnTo>
                  <a:pt x="4633" y="797"/>
                </a:lnTo>
                <a:lnTo>
                  <a:pt x="4634" y="893"/>
                </a:lnTo>
                <a:lnTo>
                  <a:pt x="4635" y="943"/>
                </a:lnTo>
                <a:lnTo>
                  <a:pt x="4636" y="774"/>
                </a:lnTo>
                <a:lnTo>
                  <a:pt x="4637" y="940"/>
                </a:lnTo>
                <a:lnTo>
                  <a:pt x="4640" y="1227"/>
                </a:lnTo>
                <a:lnTo>
                  <a:pt x="4641" y="1168"/>
                </a:lnTo>
                <a:lnTo>
                  <a:pt x="4642" y="1357"/>
                </a:lnTo>
                <a:lnTo>
                  <a:pt x="4643" y="1360"/>
                </a:lnTo>
                <a:lnTo>
                  <a:pt x="4644" y="1468"/>
                </a:lnTo>
                <a:lnTo>
                  <a:pt x="4645" y="1267"/>
                </a:lnTo>
                <a:lnTo>
                  <a:pt x="4646" y="1395"/>
                </a:lnTo>
                <a:lnTo>
                  <a:pt x="4648" y="830"/>
                </a:lnTo>
                <a:lnTo>
                  <a:pt x="4649" y="935"/>
                </a:lnTo>
                <a:lnTo>
                  <a:pt x="4651" y="897"/>
                </a:lnTo>
                <a:lnTo>
                  <a:pt x="4652" y="934"/>
                </a:lnTo>
                <a:lnTo>
                  <a:pt x="4653" y="870"/>
                </a:lnTo>
                <a:lnTo>
                  <a:pt x="4654" y="1172"/>
                </a:lnTo>
                <a:lnTo>
                  <a:pt x="4655" y="1200"/>
                </a:lnTo>
                <a:lnTo>
                  <a:pt x="4656" y="1019"/>
                </a:lnTo>
                <a:lnTo>
                  <a:pt x="4658" y="684"/>
                </a:lnTo>
                <a:lnTo>
                  <a:pt x="4659" y="426"/>
                </a:lnTo>
                <a:lnTo>
                  <a:pt x="4660" y="1075"/>
                </a:lnTo>
                <a:lnTo>
                  <a:pt x="4662" y="1449"/>
                </a:lnTo>
                <a:lnTo>
                  <a:pt x="4663" y="1168"/>
                </a:lnTo>
                <a:lnTo>
                  <a:pt x="4664" y="1258"/>
                </a:lnTo>
                <a:lnTo>
                  <a:pt x="4665" y="1129"/>
                </a:lnTo>
                <a:lnTo>
                  <a:pt x="4666" y="936"/>
                </a:lnTo>
                <a:lnTo>
                  <a:pt x="4668" y="1051"/>
                </a:lnTo>
                <a:lnTo>
                  <a:pt x="4669" y="361"/>
                </a:lnTo>
                <a:lnTo>
                  <a:pt x="4670" y="1198"/>
                </a:lnTo>
                <a:lnTo>
                  <a:pt x="4671" y="1315"/>
                </a:lnTo>
                <a:lnTo>
                  <a:pt x="4673" y="1019"/>
                </a:lnTo>
                <a:lnTo>
                  <a:pt x="4674" y="1327"/>
                </a:lnTo>
                <a:lnTo>
                  <a:pt x="4675" y="1026"/>
                </a:lnTo>
                <a:lnTo>
                  <a:pt x="4677" y="880"/>
                </a:lnTo>
                <a:lnTo>
                  <a:pt x="4678" y="1321"/>
                </a:lnTo>
                <a:lnTo>
                  <a:pt x="4679" y="935"/>
                </a:lnTo>
                <a:lnTo>
                  <a:pt x="4680" y="691"/>
                </a:lnTo>
                <a:lnTo>
                  <a:pt x="4681" y="1024"/>
                </a:lnTo>
                <a:lnTo>
                  <a:pt x="4682" y="1181"/>
                </a:lnTo>
                <a:lnTo>
                  <a:pt x="4683" y="936"/>
                </a:lnTo>
                <a:lnTo>
                  <a:pt x="4685" y="890"/>
                </a:lnTo>
                <a:lnTo>
                  <a:pt x="4687" y="843"/>
                </a:lnTo>
                <a:lnTo>
                  <a:pt x="4688" y="646"/>
                </a:lnTo>
                <a:lnTo>
                  <a:pt x="4689" y="723"/>
                </a:lnTo>
                <a:lnTo>
                  <a:pt x="4690" y="1246"/>
                </a:lnTo>
                <a:lnTo>
                  <a:pt x="4691" y="633"/>
                </a:lnTo>
                <a:lnTo>
                  <a:pt x="4692" y="1169"/>
                </a:lnTo>
                <a:lnTo>
                  <a:pt x="4693" y="1112"/>
                </a:lnTo>
                <a:lnTo>
                  <a:pt x="4694" y="1332"/>
                </a:lnTo>
                <a:lnTo>
                  <a:pt x="4697" y="1049"/>
                </a:lnTo>
                <a:lnTo>
                  <a:pt x="4698" y="1334"/>
                </a:lnTo>
                <a:lnTo>
                  <a:pt x="4699" y="1426"/>
                </a:lnTo>
                <a:lnTo>
                  <a:pt x="4700" y="1229"/>
                </a:lnTo>
                <a:lnTo>
                  <a:pt x="4701" y="896"/>
                </a:lnTo>
                <a:lnTo>
                  <a:pt x="4702" y="1182"/>
                </a:lnTo>
                <a:lnTo>
                  <a:pt x="4703" y="1146"/>
                </a:lnTo>
                <a:lnTo>
                  <a:pt x="4704" y="1279"/>
                </a:lnTo>
                <a:lnTo>
                  <a:pt x="4706" y="917"/>
                </a:lnTo>
                <a:lnTo>
                  <a:pt x="4708" y="694"/>
                </a:lnTo>
                <a:lnTo>
                  <a:pt x="4709" y="782"/>
                </a:lnTo>
                <a:lnTo>
                  <a:pt x="4710" y="857"/>
                </a:lnTo>
                <a:lnTo>
                  <a:pt x="4711" y="702"/>
                </a:lnTo>
                <a:lnTo>
                  <a:pt x="4712" y="527"/>
                </a:lnTo>
                <a:lnTo>
                  <a:pt x="4713" y="1087"/>
                </a:lnTo>
                <a:lnTo>
                  <a:pt x="4714" y="586"/>
                </a:lnTo>
                <a:lnTo>
                  <a:pt x="4716" y="1139"/>
                </a:lnTo>
                <a:lnTo>
                  <a:pt x="4717" y="1372"/>
                </a:lnTo>
                <a:lnTo>
                  <a:pt x="4719" y="1368"/>
                </a:lnTo>
                <a:lnTo>
                  <a:pt x="4720" y="1024"/>
                </a:lnTo>
                <a:lnTo>
                  <a:pt x="4721" y="677"/>
                </a:lnTo>
                <a:lnTo>
                  <a:pt x="4722" y="525"/>
                </a:lnTo>
                <a:lnTo>
                  <a:pt x="4723" y="1046"/>
                </a:lnTo>
                <a:lnTo>
                  <a:pt x="4725" y="365"/>
                </a:lnTo>
                <a:lnTo>
                  <a:pt x="4726" y="973"/>
                </a:lnTo>
                <a:lnTo>
                  <a:pt x="4727" y="716"/>
                </a:lnTo>
                <a:lnTo>
                  <a:pt x="4728" y="1195"/>
                </a:lnTo>
                <a:lnTo>
                  <a:pt x="4730" y="1056"/>
                </a:lnTo>
                <a:lnTo>
                  <a:pt x="4731" y="1236"/>
                </a:lnTo>
                <a:lnTo>
                  <a:pt x="4732" y="877"/>
                </a:lnTo>
                <a:lnTo>
                  <a:pt x="4733" y="914"/>
                </a:lnTo>
                <a:lnTo>
                  <a:pt x="4735" y="1253"/>
                </a:lnTo>
                <a:lnTo>
                  <a:pt x="4736" y="994"/>
                </a:lnTo>
                <a:lnTo>
                  <a:pt x="4737" y="1227"/>
                </a:lnTo>
                <a:lnTo>
                  <a:pt x="4738" y="512"/>
                </a:lnTo>
                <a:lnTo>
                  <a:pt x="4739" y="919"/>
                </a:lnTo>
                <a:lnTo>
                  <a:pt x="4741" y="584"/>
                </a:lnTo>
                <a:lnTo>
                  <a:pt x="4742" y="1010"/>
                </a:lnTo>
                <a:lnTo>
                  <a:pt x="4743" y="1059"/>
                </a:lnTo>
                <a:lnTo>
                  <a:pt x="4745" y="1233"/>
                </a:lnTo>
                <a:lnTo>
                  <a:pt x="4746" y="369"/>
                </a:lnTo>
                <a:lnTo>
                  <a:pt x="4747" y="1402"/>
                </a:lnTo>
                <a:lnTo>
                  <a:pt x="4748" y="1717"/>
                </a:lnTo>
                <a:lnTo>
                  <a:pt x="4749" y="791"/>
                </a:lnTo>
                <a:lnTo>
                  <a:pt x="4750" y="562"/>
                </a:lnTo>
                <a:lnTo>
                  <a:pt x="4751" y="865"/>
                </a:lnTo>
                <a:lnTo>
                  <a:pt x="4754" y="788"/>
                </a:lnTo>
                <a:lnTo>
                  <a:pt x="4755" y="1510"/>
                </a:lnTo>
                <a:lnTo>
                  <a:pt x="4756" y="1206"/>
                </a:lnTo>
                <a:lnTo>
                  <a:pt x="4757" y="1145"/>
                </a:lnTo>
                <a:lnTo>
                  <a:pt x="4758" y="674"/>
                </a:lnTo>
                <a:lnTo>
                  <a:pt x="4759" y="1036"/>
                </a:lnTo>
                <a:lnTo>
                  <a:pt x="4760" y="1172"/>
                </a:lnTo>
                <a:lnTo>
                  <a:pt x="4761" y="989"/>
                </a:lnTo>
                <a:lnTo>
                  <a:pt x="4762" y="1214"/>
                </a:lnTo>
                <a:lnTo>
                  <a:pt x="4765" y="1207"/>
                </a:lnTo>
                <a:lnTo>
                  <a:pt x="4766" y="1162"/>
                </a:lnTo>
                <a:lnTo>
                  <a:pt x="4767" y="1660"/>
                </a:lnTo>
                <a:lnTo>
                  <a:pt x="4768" y="954"/>
                </a:lnTo>
                <a:lnTo>
                  <a:pt x="4769" y="1053"/>
                </a:lnTo>
                <a:lnTo>
                  <a:pt x="4770" y="980"/>
                </a:lnTo>
                <a:lnTo>
                  <a:pt x="4771" y="1206"/>
                </a:lnTo>
                <a:lnTo>
                  <a:pt x="4772" y="1071"/>
                </a:lnTo>
                <a:lnTo>
                  <a:pt x="4774" y="1277"/>
                </a:lnTo>
                <a:lnTo>
                  <a:pt x="4776" y="840"/>
                </a:lnTo>
                <a:lnTo>
                  <a:pt x="4777" y="1002"/>
                </a:lnTo>
                <a:lnTo>
                  <a:pt x="4778" y="887"/>
                </a:lnTo>
                <a:lnTo>
                  <a:pt x="4779" y="960"/>
                </a:lnTo>
                <a:lnTo>
                  <a:pt x="4780" y="1254"/>
                </a:lnTo>
                <a:lnTo>
                  <a:pt x="4781" y="956"/>
                </a:lnTo>
                <a:lnTo>
                  <a:pt x="4783" y="1371"/>
                </a:lnTo>
                <a:lnTo>
                  <a:pt x="4784" y="796"/>
                </a:lnTo>
                <a:lnTo>
                  <a:pt x="4785" y="1163"/>
                </a:lnTo>
                <a:lnTo>
                  <a:pt x="4787" y="813"/>
                </a:lnTo>
                <a:lnTo>
                  <a:pt x="4788" y="1499"/>
                </a:lnTo>
                <a:lnTo>
                  <a:pt x="4789" y="1505"/>
                </a:lnTo>
                <a:lnTo>
                  <a:pt x="4790" y="1035"/>
                </a:lnTo>
                <a:lnTo>
                  <a:pt x="4791" y="833"/>
                </a:lnTo>
                <a:lnTo>
                  <a:pt x="4793" y="1082"/>
                </a:lnTo>
                <a:lnTo>
                  <a:pt x="4794" y="635"/>
                </a:lnTo>
                <a:lnTo>
                  <a:pt x="4795" y="1171"/>
                </a:lnTo>
                <a:lnTo>
                  <a:pt x="4796" y="863"/>
                </a:lnTo>
                <a:lnTo>
                  <a:pt x="4798" y="1228"/>
                </a:lnTo>
                <a:lnTo>
                  <a:pt x="4799" y="1124"/>
                </a:lnTo>
                <a:lnTo>
                  <a:pt x="4800" y="1000"/>
                </a:lnTo>
                <a:lnTo>
                  <a:pt x="4801" y="1445"/>
                </a:lnTo>
                <a:lnTo>
                  <a:pt x="4803" y="1025"/>
                </a:lnTo>
                <a:lnTo>
                  <a:pt x="4804" y="1169"/>
                </a:lnTo>
                <a:lnTo>
                  <a:pt x="4805" y="911"/>
                </a:lnTo>
                <a:lnTo>
                  <a:pt x="4806" y="1170"/>
                </a:lnTo>
                <a:lnTo>
                  <a:pt x="4807" y="893"/>
                </a:lnTo>
                <a:lnTo>
                  <a:pt x="4808" y="912"/>
                </a:lnTo>
                <a:lnTo>
                  <a:pt x="4810" y="1329"/>
                </a:lnTo>
                <a:lnTo>
                  <a:pt x="4812" y="1244"/>
                </a:lnTo>
                <a:lnTo>
                  <a:pt x="4813" y="781"/>
                </a:lnTo>
                <a:lnTo>
                  <a:pt x="4814" y="1209"/>
                </a:lnTo>
                <a:lnTo>
                  <a:pt x="4815" y="918"/>
                </a:lnTo>
                <a:lnTo>
                  <a:pt x="4816" y="1172"/>
                </a:lnTo>
                <a:lnTo>
                  <a:pt x="4817" y="1031"/>
                </a:lnTo>
                <a:lnTo>
                  <a:pt x="4818" y="873"/>
                </a:lnTo>
                <a:lnTo>
                  <a:pt x="4819" y="775"/>
                </a:lnTo>
                <a:lnTo>
                  <a:pt x="4822" y="608"/>
                </a:lnTo>
                <a:lnTo>
                  <a:pt x="4823" y="1118"/>
                </a:lnTo>
                <a:lnTo>
                  <a:pt x="4824" y="427"/>
                </a:lnTo>
                <a:lnTo>
                  <a:pt x="4825" y="979"/>
                </a:lnTo>
                <a:lnTo>
                  <a:pt x="4826" y="717"/>
                </a:lnTo>
                <a:lnTo>
                  <a:pt x="4827" y="1120"/>
                </a:lnTo>
                <a:lnTo>
                  <a:pt x="4828" y="981"/>
                </a:lnTo>
                <a:lnTo>
                  <a:pt x="4829" y="1364"/>
                </a:lnTo>
                <a:lnTo>
                  <a:pt x="4830" y="879"/>
                </a:lnTo>
                <a:lnTo>
                  <a:pt x="4833" y="1200"/>
                </a:lnTo>
                <a:lnTo>
                  <a:pt x="4834" y="756"/>
                </a:lnTo>
                <a:lnTo>
                  <a:pt x="4835" y="1351"/>
                </a:lnTo>
                <a:lnTo>
                  <a:pt x="4836" y="1357"/>
                </a:lnTo>
                <a:lnTo>
                  <a:pt x="4837" y="843"/>
                </a:lnTo>
                <a:lnTo>
                  <a:pt x="4838" y="864"/>
                </a:lnTo>
                <a:lnTo>
                  <a:pt x="4839" y="1521"/>
                </a:lnTo>
                <a:lnTo>
                  <a:pt x="4841" y="1429"/>
                </a:lnTo>
                <a:lnTo>
                  <a:pt x="4842" y="507"/>
                </a:lnTo>
                <a:lnTo>
                  <a:pt x="4844" y="747"/>
                </a:lnTo>
                <a:lnTo>
                  <a:pt x="4845" y="789"/>
                </a:lnTo>
                <a:lnTo>
                  <a:pt x="4846" y="1082"/>
                </a:lnTo>
                <a:lnTo>
                  <a:pt x="4847" y="924"/>
                </a:lnTo>
                <a:lnTo>
                  <a:pt x="4848" y="902"/>
                </a:lnTo>
                <a:lnTo>
                  <a:pt x="4849" y="1188"/>
                </a:lnTo>
                <a:lnTo>
                  <a:pt x="4851" y="770"/>
                </a:lnTo>
                <a:lnTo>
                  <a:pt x="4852" y="1054"/>
                </a:lnTo>
                <a:lnTo>
                  <a:pt x="4853" y="1456"/>
                </a:lnTo>
                <a:lnTo>
                  <a:pt x="4855" y="815"/>
                </a:lnTo>
                <a:lnTo>
                  <a:pt x="4856" y="1143"/>
                </a:lnTo>
                <a:lnTo>
                  <a:pt x="4857" y="1634"/>
                </a:lnTo>
                <a:lnTo>
                  <a:pt x="4858" y="1102"/>
                </a:lnTo>
                <a:lnTo>
                  <a:pt x="4859" y="1035"/>
                </a:lnTo>
                <a:lnTo>
                  <a:pt x="4861" y="1264"/>
                </a:lnTo>
                <a:lnTo>
                  <a:pt x="4862" y="1128"/>
                </a:lnTo>
                <a:lnTo>
                  <a:pt x="4863" y="797"/>
                </a:lnTo>
                <a:lnTo>
                  <a:pt x="4864" y="957"/>
                </a:lnTo>
                <a:lnTo>
                  <a:pt x="4866" y="1030"/>
                </a:lnTo>
                <a:lnTo>
                  <a:pt x="4867" y="1042"/>
                </a:lnTo>
                <a:lnTo>
                  <a:pt x="4868" y="849"/>
                </a:lnTo>
                <a:lnTo>
                  <a:pt x="4870" y="984"/>
                </a:lnTo>
                <a:lnTo>
                  <a:pt x="4871" y="438"/>
                </a:lnTo>
                <a:lnTo>
                  <a:pt x="4872" y="1208"/>
                </a:lnTo>
                <a:lnTo>
                  <a:pt x="4873" y="1020"/>
                </a:lnTo>
                <a:lnTo>
                  <a:pt x="4874" y="919"/>
                </a:lnTo>
                <a:lnTo>
                  <a:pt x="4875" y="526"/>
                </a:lnTo>
                <a:lnTo>
                  <a:pt x="4876" y="762"/>
                </a:lnTo>
                <a:lnTo>
                  <a:pt x="4878" y="813"/>
                </a:lnTo>
                <a:lnTo>
                  <a:pt x="4880" y="1155"/>
                </a:lnTo>
                <a:lnTo>
                  <a:pt x="4881" y="1054"/>
                </a:lnTo>
                <a:lnTo>
                  <a:pt x="4882" y="1173"/>
                </a:lnTo>
                <a:lnTo>
                  <a:pt x="4883" y="1179"/>
                </a:lnTo>
                <a:lnTo>
                  <a:pt x="4884" y="907"/>
                </a:lnTo>
                <a:lnTo>
                  <a:pt x="4885" y="526"/>
                </a:lnTo>
                <a:lnTo>
                  <a:pt x="4886" y="1439"/>
                </a:lnTo>
                <a:lnTo>
                  <a:pt x="4887" y="472"/>
                </a:lnTo>
                <a:lnTo>
                  <a:pt x="4890" y="1083"/>
                </a:lnTo>
                <a:lnTo>
                  <a:pt x="4891" y="1000"/>
                </a:lnTo>
                <a:lnTo>
                  <a:pt x="4892" y="1083"/>
                </a:lnTo>
                <a:lnTo>
                  <a:pt x="4893" y="747"/>
                </a:lnTo>
                <a:lnTo>
                  <a:pt x="4894" y="457"/>
                </a:lnTo>
                <a:lnTo>
                  <a:pt x="4895" y="1306"/>
                </a:lnTo>
                <a:lnTo>
                  <a:pt x="4896" y="1068"/>
                </a:lnTo>
                <a:lnTo>
                  <a:pt x="4897" y="727"/>
                </a:lnTo>
                <a:lnTo>
                  <a:pt x="4899" y="1090"/>
                </a:lnTo>
                <a:lnTo>
                  <a:pt x="4901" y="903"/>
                </a:lnTo>
                <a:lnTo>
                  <a:pt x="4902" y="702"/>
                </a:lnTo>
                <a:lnTo>
                  <a:pt x="4903" y="395"/>
                </a:lnTo>
                <a:lnTo>
                  <a:pt x="4904" y="1415"/>
                </a:lnTo>
                <a:lnTo>
                  <a:pt x="4905" y="1360"/>
                </a:lnTo>
                <a:lnTo>
                  <a:pt x="4906" y="1194"/>
                </a:lnTo>
                <a:lnTo>
                  <a:pt x="4907" y="899"/>
                </a:lnTo>
                <a:lnTo>
                  <a:pt x="4909" y="1230"/>
                </a:lnTo>
                <a:lnTo>
                  <a:pt x="4910" y="996"/>
                </a:lnTo>
                <a:lnTo>
                  <a:pt x="4912" y="964"/>
                </a:lnTo>
                <a:lnTo>
                  <a:pt x="4913" y="517"/>
                </a:lnTo>
                <a:lnTo>
                  <a:pt x="4914" y="1399"/>
                </a:lnTo>
                <a:lnTo>
                  <a:pt x="4915" y="708"/>
                </a:lnTo>
                <a:lnTo>
                  <a:pt x="4916" y="1156"/>
                </a:lnTo>
                <a:lnTo>
                  <a:pt x="4917" y="1234"/>
                </a:lnTo>
                <a:lnTo>
                  <a:pt x="4919" y="506"/>
                </a:lnTo>
                <a:lnTo>
                  <a:pt x="4920" y="542"/>
                </a:lnTo>
                <a:lnTo>
                  <a:pt x="4921" y="963"/>
                </a:lnTo>
                <a:lnTo>
                  <a:pt x="4923" y="965"/>
                </a:lnTo>
                <a:lnTo>
                  <a:pt x="4924" y="835"/>
                </a:lnTo>
                <a:lnTo>
                  <a:pt x="4925" y="1028"/>
                </a:lnTo>
                <a:lnTo>
                  <a:pt x="4926" y="1077"/>
                </a:lnTo>
                <a:lnTo>
                  <a:pt x="4928" y="1020"/>
                </a:lnTo>
                <a:lnTo>
                  <a:pt x="4929" y="1052"/>
                </a:lnTo>
                <a:lnTo>
                  <a:pt x="4930" y="973"/>
                </a:lnTo>
                <a:lnTo>
                  <a:pt x="4931" y="1152"/>
                </a:lnTo>
                <a:lnTo>
                  <a:pt x="4932" y="1225"/>
                </a:lnTo>
                <a:lnTo>
                  <a:pt x="4933" y="742"/>
                </a:lnTo>
                <a:lnTo>
                  <a:pt x="4935" y="1136"/>
                </a:lnTo>
                <a:lnTo>
                  <a:pt x="4936" y="1595"/>
                </a:lnTo>
                <a:lnTo>
                  <a:pt x="4938" y="943"/>
                </a:lnTo>
                <a:lnTo>
                  <a:pt x="4939" y="751"/>
                </a:lnTo>
                <a:lnTo>
                  <a:pt x="4940" y="1375"/>
                </a:lnTo>
                <a:lnTo>
                  <a:pt x="4941" y="1280"/>
                </a:lnTo>
                <a:lnTo>
                  <a:pt x="4942" y="799"/>
                </a:lnTo>
                <a:lnTo>
                  <a:pt x="4943" y="908"/>
                </a:lnTo>
                <a:lnTo>
                  <a:pt x="4944" y="710"/>
                </a:lnTo>
                <a:lnTo>
                  <a:pt x="4947" y="921"/>
                </a:lnTo>
                <a:lnTo>
                  <a:pt x="4948" y="849"/>
                </a:lnTo>
                <a:lnTo>
                  <a:pt x="4949" y="966"/>
                </a:lnTo>
                <a:lnTo>
                  <a:pt x="4950" y="1139"/>
                </a:lnTo>
                <a:lnTo>
                  <a:pt x="4951" y="848"/>
                </a:lnTo>
                <a:lnTo>
                  <a:pt x="4952" y="1303"/>
                </a:lnTo>
                <a:lnTo>
                  <a:pt x="4953" y="958"/>
                </a:lnTo>
                <a:lnTo>
                  <a:pt x="4954" y="1228"/>
                </a:lnTo>
                <a:lnTo>
                  <a:pt x="4955" y="174"/>
                </a:lnTo>
                <a:lnTo>
                  <a:pt x="4958" y="1665"/>
                </a:lnTo>
                <a:lnTo>
                  <a:pt x="4959" y="1295"/>
                </a:lnTo>
                <a:lnTo>
                  <a:pt x="4960" y="944"/>
                </a:lnTo>
                <a:lnTo>
                  <a:pt x="4961" y="864"/>
                </a:lnTo>
                <a:lnTo>
                  <a:pt x="4962" y="702"/>
                </a:lnTo>
                <a:lnTo>
                  <a:pt x="4963" y="1253"/>
                </a:lnTo>
                <a:lnTo>
                  <a:pt x="4964" y="728"/>
                </a:lnTo>
                <a:lnTo>
                  <a:pt x="4965" y="1360"/>
                </a:lnTo>
                <a:lnTo>
                  <a:pt x="4967" y="1552"/>
                </a:lnTo>
                <a:lnTo>
                  <a:pt x="4969" y="1241"/>
                </a:lnTo>
                <a:lnTo>
                  <a:pt x="4970" y="502"/>
                </a:lnTo>
                <a:lnTo>
                  <a:pt x="4971" y="1094"/>
                </a:lnTo>
                <a:lnTo>
                  <a:pt x="4972" y="1239"/>
                </a:lnTo>
                <a:lnTo>
                  <a:pt x="4973" y="1229"/>
                </a:lnTo>
                <a:lnTo>
                  <a:pt x="4974" y="961"/>
                </a:lnTo>
                <a:lnTo>
                  <a:pt x="4976" y="892"/>
                </a:lnTo>
                <a:lnTo>
                  <a:pt x="4977" y="1025"/>
                </a:lnTo>
                <a:lnTo>
                  <a:pt x="4978" y="1433"/>
                </a:lnTo>
                <a:lnTo>
                  <a:pt x="4980" y="963"/>
                </a:lnTo>
                <a:lnTo>
                  <a:pt x="4981" y="1215"/>
                </a:lnTo>
                <a:lnTo>
                  <a:pt x="4982" y="1464"/>
                </a:lnTo>
                <a:lnTo>
                  <a:pt x="4983" y="721"/>
                </a:lnTo>
                <a:lnTo>
                  <a:pt x="4984" y="658"/>
                </a:lnTo>
                <a:lnTo>
                  <a:pt x="4986" y="1522"/>
                </a:lnTo>
                <a:lnTo>
                  <a:pt x="4987" y="1039"/>
                </a:lnTo>
                <a:lnTo>
                  <a:pt x="4988" y="970"/>
                </a:lnTo>
                <a:lnTo>
                  <a:pt x="4989" y="1460"/>
                </a:lnTo>
                <a:lnTo>
                  <a:pt x="4991" y="1365"/>
                </a:lnTo>
                <a:lnTo>
                  <a:pt x="4992" y="1081"/>
                </a:lnTo>
                <a:lnTo>
                  <a:pt x="4993" y="829"/>
                </a:lnTo>
                <a:lnTo>
                  <a:pt x="4994" y="987"/>
                </a:lnTo>
                <a:lnTo>
                  <a:pt x="4996" y="1030"/>
                </a:lnTo>
                <a:lnTo>
                  <a:pt x="4997" y="811"/>
                </a:lnTo>
                <a:lnTo>
                  <a:pt x="4998" y="989"/>
                </a:lnTo>
                <a:lnTo>
                  <a:pt x="4999" y="1248"/>
                </a:lnTo>
                <a:lnTo>
                  <a:pt x="5000" y="931"/>
                </a:lnTo>
                <a:lnTo>
                  <a:pt x="5001" y="817"/>
                </a:lnTo>
                <a:lnTo>
                  <a:pt x="5003" y="1284"/>
                </a:lnTo>
                <a:lnTo>
                  <a:pt x="5005" y="819"/>
                </a:lnTo>
                <a:lnTo>
                  <a:pt x="5006" y="747"/>
                </a:lnTo>
                <a:lnTo>
                  <a:pt x="5007" y="961"/>
                </a:lnTo>
                <a:lnTo>
                  <a:pt x="5008" y="565"/>
                </a:lnTo>
                <a:lnTo>
                  <a:pt x="5009" y="645"/>
                </a:lnTo>
                <a:lnTo>
                  <a:pt x="5010" y="706"/>
                </a:lnTo>
                <a:lnTo>
                  <a:pt x="5011" y="957"/>
                </a:lnTo>
                <a:lnTo>
                  <a:pt x="5012" y="1046"/>
                </a:lnTo>
                <a:lnTo>
                  <a:pt x="5015" y="994"/>
                </a:lnTo>
                <a:lnTo>
                  <a:pt x="5016" y="727"/>
                </a:lnTo>
                <a:lnTo>
                  <a:pt x="5017" y="587"/>
                </a:lnTo>
                <a:lnTo>
                  <a:pt x="5018" y="1439"/>
                </a:lnTo>
                <a:lnTo>
                  <a:pt x="5019" y="721"/>
                </a:lnTo>
                <a:lnTo>
                  <a:pt x="5020" y="496"/>
                </a:lnTo>
                <a:lnTo>
                  <a:pt x="5021" y="760"/>
                </a:lnTo>
                <a:lnTo>
                  <a:pt x="5022" y="1071"/>
                </a:lnTo>
                <a:lnTo>
                  <a:pt x="5023" y="1197"/>
                </a:lnTo>
                <a:lnTo>
                  <a:pt x="5026" y="1259"/>
                </a:lnTo>
                <a:lnTo>
                  <a:pt x="5027" y="1112"/>
                </a:lnTo>
                <a:lnTo>
                  <a:pt x="5028" y="962"/>
                </a:lnTo>
                <a:lnTo>
                  <a:pt x="5029" y="875"/>
                </a:lnTo>
                <a:lnTo>
                  <a:pt x="5030" y="1208"/>
                </a:lnTo>
                <a:lnTo>
                  <a:pt x="5031" y="1004"/>
                </a:lnTo>
                <a:lnTo>
                  <a:pt x="5032" y="1153"/>
                </a:lnTo>
                <a:lnTo>
                  <a:pt x="5034" y="938"/>
                </a:lnTo>
                <a:lnTo>
                  <a:pt x="5035" y="1412"/>
                </a:lnTo>
                <a:lnTo>
                  <a:pt x="5037" y="952"/>
                </a:lnTo>
                <a:lnTo>
                  <a:pt x="5038" y="985"/>
                </a:lnTo>
                <a:lnTo>
                  <a:pt x="5039" y="710"/>
                </a:lnTo>
                <a:lnTo>
                  <a:pt x="5040" y="1080"/>
                </a:lnTo>
                <a:lnTo>
                  <a:pt x="5041" y="1136"/>
                </a:lnTo>
                <a:lnTo>
                  <a:pt x="5042" y="1112"/>
                </a:lnTo>
                <a:lnTo>
                  <a:pt x="5044" y="777"/>
                </a:lnTo>
                <a:lnTo>
                  <a:pt x="5045" y="502"/>
                </a:lnTo>
                <a:lnTo>
                  <a:pt x="5046" y="1465"/>
                </a:lnTo>
                <a:lnTo>
                  <a:pt x="5048" y="878"/>
                </a:lnTo>
                <a:lnTo>
                  <a:pt x="5049" y="609"/>
                </a:lnTo>
                <a:lnTo>
                  <a:pt x="5050" y="1254"/>
                </a:lnTo>
                <a:lnTo>
                  <a:pt x="5051" y="329"/>
                </a:lnTo>
                <a:lnTo>
                  <a:pt x="5052" y="1097"/>
                </a:lnTo>
                <a:lnTo>
                  <a:pt x="5054" y="640"/>
                </a:lnTo>
                <a:lnTo>
                  <a:pt x="5055" y="639"/>
                </a:lnTo>
                <a:lnTo>
                  <a:pt x="5056" y="1107"/>
                </a:lnTo>
                <a:lnTo>
                  <a:pt x="5057" y="1235"/>
                </a:lnTo>
                <a:lnTo>
                  <a:pt x="5058" y="563"/>
                </a:lnTo>
                <a:lnTo>
                  <a:pt x="5060" y="1365"/>
                </a:lnTo>
                <a:lnTo>
                  <a:pt x="5061" y="1089"/>
                </a:lnTo>
                <a:lnTo>
                  <a:pt x="5063" y="582"/>
                </a:lnTo>
                <a:lnTo>
                  <a:pt x="5064" y="1187"/>
                </a:lnTo>
                <a:lnTo>
                  <a:pt x="5065" y="792"/>
                </a:lnTo>
                <a:lnTo>
                  <a:pt x="5066" y="858"/>
                </a:lnTo>
                <a:lnTo>
                  <a:pt x="5067" y="1393"/>
                </a:lnTo>
                <a:lnTo>
                  <a:pt x="5068" y="922"/>
                </a:lnTo>
                <a:lnTo>
                  <a:pt x="5069" y="1441"/>
                </a:lnTo>
                <a:lnTo>
                  <a:pt x="5071" y="1283"/>
                </a:lnTo>
                <a:lnTo>
                  <a:pt x="5073" y="1366"/>
                </a:lnTo>
                <a:lnTo>
                  <a:pt x="5074" y="907"/>
                </a:lnTo>
                <a:lnTo>
                  <a:pt x="5075" y="928"/>
                </a:lnTo>
                <a:lnTo>
                  <a:pt x="5076" y="1097"/>
                </a:lnTo>
                <a:lnTo>
                  <a:pt x="5077" y="540"/>
                </a:lnTo>
                <a:lnTo>
                  <a:pt x="5078" y="690"/>
                </a:lnTo>
                <a:lnTo>
                  <a:pt x="5079" y="1670"/>
                </a:lnTo>
                <a:lnTo>
                  <a:pt x="5080" y="632"/>
                </a:lnTo>
                <a:lnTo>
                  <a:pt x="5083" y="1516"/>
                </a:lnTo>
                <a:lnTo>
                  <a:pt x="5084" y="919"/>
                </a:lnTo>
                <a:lnTo>
                  <a:pt x="5085" y="1152"/>
                </a:lnTo>
                <a:lnTo>
                  <a:pt x="5086" y="1189"/>
                </a:lnTo>
                <a:lnTo>
                  <a:pt x="5087" y="1136"/>
                </a:lnTo>
                <a:lnTo>
                  <a:pt x="5088" y="1539"/>
                </a:lnTo>
                <a:lnTo>
                  <a:pt x="5089" y="1180"/>
                </a:lnTo>
                <a:lnTo>
                  <a:pt x="5090" y="1308"/>
                </a:lnTo>
                <a:lnTo>
                  <a:pt x="5092" y="756"/>
                </a:lnTo>
                <a:lnTo>
                  <a:pt x="5094" y="1010"/>
                </a:lnTo>
                <a:lnTo>
                  <a:pt x="5095" y="1417"/>
                </a:lnTo>
                <a:lnTo>
                  <a:pt x="5096" y="914"/>
                </a:lnTo>
                <a:lnTo>
                  <a:pt x="5097" y="1196"/>
                </a:lnTo>
                <a:lnTo>
                  <a:pt x="5098" y="1225"/>
                </a:lnTo>
                <a:lnTo>
                  <a:pt x="5099" y="885"/>
                </a:lnTo>
                <a:lnTo>
                  <a:pt x="5100" y="1234"/>
                </a:lnTo>
                <a:lnTo>
                  <a:pt x="5102" y="867"/>
                </a:lnTo>
                <a:lnTo>
                  <a:pt x="5103" y="846"/>
                </a:lnTo>
                <a:lnTo>
                  <a:pt x="5105" y="1234"/>
                </a:lnTo>
                <a:lnTo>
                  <a:pt x="5106" y="1209"/>
                </a:lnTo>
                <a:lnTo>
                  <a:pt x="5107" y="918"/>
                </a:lnTo>
                <a:lnTo>
                  <a:pt x="5108" y="1053"/>
                </a:lnTo>
                <a:lnTo>
                  <a:pt x="5109" y="1038"/>
                </a:lnTo>
                <a:lnTo>
                  <a:pt x="5110" y="667"/>
                </a:lnTo>
                <a:lnTo>
                  <a:pt x="5112" y="1255"/>
                </a:lnTo>
                <a:lnTo>
                  <a:pt x="5113" y="1442"/>
                </a:lnTo>
                <a:lnTo>
                  <a:pt x="5114" y="971"/>
                </a:lnTo>
                <a:lnTo>
                  <a:pt x="5116" y="909"/>
                </a:lnTo>
                <a:lnTo>
                  <a:pt x="5117" y="997"/>
                </a:lnTo>
                <a:lnTo>
                  <a:pt x="5118" y="650"/>
                </a:lnTo>
                <a:lnTo>
                  <a:pt x="5119" y="1429"/>
                </a:lnTo>
                <a:lnTo>
                  <a:pt x="5121" y="1117"/>
                </a:lnTo>
                <a:lnTo>
                  <a:pt x="5122" y="859"/>
                </a:lnTo>
                <a:lnTo>
                  <a:pt x="5123" y="966"/>
                </a:lnTo>
                <a:lnTo>
                  <a:pt x="5124" y="859"/>
                </a:lnTo>
                <a:lnTo>
                  <a:pt x="5125" y="823"/>
                </a:lnTo>
                <a:lnTo>
                  <a:pt x="5126" y="1364"/>
                </a:lnTo>
                <a:lnTo>
                  <a:pt x="5128" y="1039"/>
                </a:lnTo>
                <a:lnTo>
                  <a:pt x="5129" y="874"/>
                </a:lnTo>
                <a:lnTo>
                  <a:pt x="5131" y="848"/>
                </a:lnTo>
                <a:lnTo>
                  <a:pt x="5132" y="1069"/>
                </a:lnTo>
                <a:lnTo>
                  <a:pt x="5133" y="1269"/>
                </a:lnTo>
                <a:lnTo>
                  <a:pt x="5134" y="1094"/>
                </a:lnTo>
                <a:lnTo>
                  <a:pt x="5135" y="286"/>
                </a:lnTo>
                <a:lnTo>
                  <a:pt x="5136" y="826"/>
                </a:lnTo>
                <a:lnTo>
                  <a:pt x="5137" y="749"/>
                </a:lnTo>
                <a:lnTo>
                  <a:pt x="5139" y="926"/>
                </a:lnTo>
                <a:lnTo>
                  <a:pt x="5141" y="982"/>
                </a:lnTo>
                <a:lnTo>
                  <a:pt x="5142" y="1020"/>
                </a:lnTo>
                <a:lnTo>
                  <a:pt x="5143" y="886"/>
                </a:lnTo>
                <a:lnTo>
                  <a:pt x="5144" y="963"/>
                </a:lnTo>
                <a:lnTo>
                  <a:pt x="5145" y="742"/>
                </a:lnTo>
                <a:lnTo>
                  <a:pt x="5146" y="555"/>
                </a:lnTo>
                <a:lnTo>
                  <a:pt x="5147" y="781"/>
                </a:lnTo>
                <a:lnTo>
                  <a:pt x="5148" y="1497"/>
                </a:lnTo>
                <a:lnTo>
                  <a:pt x="5151" y="1385"/>
                </a:lnTo>
                <a:lnTo>
                  <a:pt x="5152" y="1085"/>
                </a:lnTo>
                <a:lnTo>
                  <a:pt x="5153" y="1456"/>
                </a:lnTo>
                <a:lnTo>
                  <a:pt x="5154" y="828"/>
                </a:lnTo>
                <a:lnTo>
                  <a:pt x="5155" y="945"/>
                </a:lnTo>
                <a:lnTo>
                  <a:pt x="5156" y="943"/>
                </a:lnTo>
                <a:lnTo>
                  <a:pt x="5157" y="882"/>
                </a:lnTo>
                <a:lnTo>
                  <a:pt x="5158" y="928"/>
                </a:lnTo>
                <a:lnTo>
                  <a:pt x="5160" y="848"/>
                </a:lnTo>
                <a:lnTo>
                  <a:pt x="5162" y="1248"/>
                </a:lnTo>
                <a:lnTo>
                  <a:pt x="5163" y="989"/>
                </a:lnTo>
                <a:lnTo>
                  <a:pt x="5164" y="887"/>
                </a:lnTo>
                <a:lnTo>
                  <a:pt x="5165" y="716"/>
                </a:lnTo>
                <a:lnTo>
                  <a:pt x="5166" y="757"/>
                </a:lnTo>
                <a:lnTo>
                  <a:pt x="5167" y="872"/>
                </a:lnTo>
                <a:lnTo>
                  <a:pt x="5168" y="765"/>
                </a:lnTo>
                <a:lnTo>
                  <a:pt x="5170" y="698"/>
                </a:lnTo>
                <a:lnTo>
                  <a:pt x="5171" y="1261"/>
                </a:lnTo>
                <a:lnTo>
                  <a:pt x="5173" y="1419"/>
                </a:lnTo>
                <a:lnTo>
                  <a:pt x="5174" y="1240"/>
                </a:lnTo>
                <a:lnTo>
                  <a:pt x="5175" y="918"/>
                </a:lnTo>
                <a:lnTo>
                  <a:pt x="5176" y="628"/>
                </a:lnTo>
                <a:lnTo>
                  <a:pt x="5177" y="1025"/>
                </a:lnTo>
                <a:lnTo>
                  <a:pt x="5179" y="629"/>
                </a:lnTo>
                <a:lnTo>
                  <a:pt x="5180" y="1288"/>
                </a:lnTo>
                <a:lnTo>
                  <a:pt x="5181" y="999"/>
                </a:lnTo>
                <a:lnTo>
                  <a:pt x="5182" y="761"/>
                </a:lnTo>
                <a:lnTo>
                  <a:pt x="5183" y="1020"/>
                </a:lnTo>
                <a:lnTo>
                  <a:pt x="5185" y="625"/>
                </a:lnTo>
                <a:lnTo>
                  <a:pt x="5186" y="1078"/>
                </a:lnTo>
                <a:lnTo>
                  <a:pt x="5187" y="1181"/>
                </a:lnTo>
                <a:lnTo>
                  <a:pt x="5189" y="1165"/>
                </a:lnTo>
                <a:lnTo>
                  <a:pt x="5190" y="1739"/>
                </a:lnTo>
                <a:lnTo>
                  <a:pt x="5191" y="1097"/>
                </a:lnTo>
                <a:lnTo>
                  <a:pt x="5192" y="1436"/>
                </a:lnTo>
                <a:lnTo>
                  <a:pt x="5193" y="1039"/>
                </a:lnTo>
                <a:lnTo>
                  <a:pt x="5194" y="1046"/>
                </a:lnTo>
                <a:lnTo>
                  <a:pt x="5196" y="592"/>
                </a:lnTo>
                <a:lnTo>
                  <a:pt x="5198" y="1347"/>
                </a:lnTo>
                <a:lnTo>
                  <a:pt x="5199" y="1085"/>
                </a:lnTo>
                <a:lnTo>
                  <a:pt x="5200" y="857"/>
                </a:lnTo>
                <a:lnTo>
                  <a:pt x="5201" y="1069"/>
                </a:lnTo>
                <a:lnTo>
                  <a:pt x="5202" y="1011"/>
                </a:lnTo>
                <a:lnTo>
                  <a:pt x="5203" y="1022"/>
                </a:lnTo>
                <a:lnTo>
                  <a:pt x="5204" y="1238"/>
                </a:lnTo>
                <a:lnTo>
                  <a:pt x="5205" y="1245"/>
                </a:lnTo>
                <a:lnTo>
                  <a:pt x="5208" y="934"/>
                </a:lnTo>
                <a:lnTo>
                  <a:pt x="5209" y="814"/>
                </a:lnTo>
                <a:lnTo>
                  <a:pt x="5210" y="1010"/>
                </a:lnTo>
                <a:lnTo>
                  <a:pt x="5211" y="843"/>
                </a:lnTo>
                <a:lnTo>
                  <a:pt x="5212" y="1048"/>
                </a:lnTo>
                <a:lnTo>
                  <a:pt x="5213" y="848"/>
                </a:lnTo>
                <a:lnTo>
                  <a:pt x="5214" y="716"/>
                </a:lnTo>
                <a:lnTo>
                  <a:pt x="5215" y="1073"/>
                </a:lnTo>
                <a:lnTo>
                  <a:pt x="5216" y="763"/>
                </a:lnTo>
                <a:lnTo>
                  <a:pt x="5219" y="1306"/>
                </a:lnTo>
                <a:lnTo>
                  <a:pt x="5220" y="1221"/>
                </a:lnTo>
                <a:lnTo>
                  <a:pt x="5221" y="1019"/>
                </a:lnTo>
                <a:lnTo>
                  <a:pt x="5222" y="1019"/>
                </a:lnTo>
                <a:lnTo>
                  <a:pt x="5223" y="851"/>
                </a:lnTo>
                <a:lnTo>
                  <a:pt x="5224" y="858"/>
                </a:lnTo>
                <a:lnTo>
                  <a:pt x="5225" y="639"/>
                </a:lnTo>
                <a:lnTo>
                  <a:pt x="5227" y="905"/>
                </a:lnTo>
                <a:lnTo>
                  <a:pt x="5228" y="778"/>
                </a:lnTo>
                <a:lnTo>
                  <a:pt x="5230" y="1198"/>
                </a:lnTo>
                <a:lnTo>
                  <a:pt x="5231" y="806"/>
                </a:lnTo>
                <a:lnTo>
                  <a:pt x="5232" y="1158"/>
                </a:lnTo>
                <a:lnTo>
                  <a:pt x="5233" y="1120"/>
                </a:lnTo>
                <a:lnTo>
                  <a:pt x="5234" y="923"/>
                </a:lnTo>
                <a:lnTo>
                  <a:pt x="5235" y="1449"/>
                </a:lnTo>
                <a:lnTo>
                  <a:pt x="5237" y="1119"/>
                </a:lnTo>
                <a:lnTo>
                  <a:pt x="5238" y="1479"/>
                </a:lnTo>
                <a:lnTo>
                  <a:pt x="5239" y="1126"/>
                </a:lnTo>
                <a:lnTo>
                  <a:pt x="5241" y="1168"/>
                </a:lnTo>
                <a:lnTo>
                  <a:pt x="5242" y="768"/>
                </a:lnTo>
                <a:lnTo>
                  <a:pt x="5243" y="829"/>
                </a:lnTo>
                <a:lnTo>
                  <a:pt x="5244" y="1226"/>
                </a:lnTo>
                <a:lnTo>
                  <a:pt x="5245" y="671"/>
                </a:lnTo>
                <a:lnTo>
                  <a:pt x="5247" y="1050"/>
                </a:lnTo>
                <a:lnTo>
                  <a:pt x="5248" y="646"/>
                </a:lnTo>
                <a:lnTo>
                  <a:pt x="5249" y="952"/>
                </a:lnTo>
                <a:lnTo>
                  <a:pt x="5250" y="376"/>
                </a:lnTo>
                <a:lnTo>
                  <a:pt x="5251" y="1081"/>
                </a:lnTo>
                <a:lnTo>
                  <a:pt x="5253" y="1106"/>
                </a:lnTo>
                <a:lnTo>
                  <a:pt x="5254" y="1084"/>
                </a:lnTo>
                <a:lnTo>
                  <a:pt x="5256" y="767"/>
                </a:lnTo>
                <a:lnTo>
                  <a:pt x="5257" y="1273"/>
                </a:lnTo>
                <a:lnTo>
                  <a:pt x="5258" y="1371"/>
                </a:lnTo>
                <a:lnTo>
                  <a:pt x="5259" y="687"/>
                </a:lnTo>
                <a:lnTo>
                  <a:pt x="5260" y="1280"/>
                </a:lnTo>
                <a:lnTo>
                  <a:pt x="5261" y="1676"/>
                </a:lnTo>
                <a:lnTo>
                  <a:pt x="5262" y="1793"/>
                </a:lnTo>
                <a:lnTo>
                  <a:pt x="5264" y="929"/>
                </a:lnTo>
                <a:lnTo>
                  <a:pt x="5266" y="872"/>
                </a:lnTo>
                <a:lnTo>
                  <a:pt x="5267" y="616"/>
                </a:lnTo>
                <a:lnTo>
                  <a:pt x="5268" y="1143"/>
                </a:lnTo>
                <a:lnTo>
                  <a:pt x="5269" y="1039"/>
                </a:lnTo>
                <a:lnTo>
                  <a:pt x="5270" y="1097"/>
                </a:lnTo>
                <a:lnTo>
                  <a:pt x="5271" y="1375"/>
                </a:lnTo>
                <a:lnTo>
                  <a:pt x="5272" y="1014"/>
                </a:lnTo>
                <a:lnTo>
                  <a:pt x="5273" y="407"/>
                </a:lnTo>
                <a:lnTo>
                  <a:pt x="5276" y="833"/>
                </a:lnTo>
                <a:lnTo>
                  <a:pt x="5277" y="796"/>
                </a:lnTo>
                <a:lnTo>
                  <a:pt x="5278" y="1141"/>
                </a:lnTo>
                <a:lnTo>
                  <a:pt x="5279" y="263"/>
                </a:lnTo>
                <a:lnTo>
                  <a:pt x="5280" y="820"/>
                </a:lnTo>
                <a:lnTo>
                  <a:pt x="5281" y="867"/>
                </a:lnTo>
                <a:lnTo>
                  <a:pt x="5282" y="885"/>
                </a:lnTo>
                <a:lnTo>
                  <a:pt x="5283" y="1167"/>
                </a:lnTo>
                <a:lnTo>
                  <a:pt x="5285" y="830"/>
                </a:lnTo>
                <a:lnTo>
                  <a:pt x="5287" y="1058"/>
                </a:lnTo>
                <a:lnTo>
                  <a:pt x="5288" y="933"/>
                </a:lnTo>
                <a:lnTo>
                  <a:pt x="5289" y="1735"/>
                </a:lnTo>
                <a:lnTo>
                  <a:pt x="5290" y="1445"/>
                </a:lnTo>
                <a:lnTo>
                  <a:pt x="5291" y="713"/>
                </a:lnTo>
                <a:lnTo>
                  <a:pt x="5292" y="992"/>
                </a:lnTo>
                <a:lnTo>
                  <a:pt x="5293" y="1137"/>
                </a:lnTo>
                <a:lnTo>
                  <a:pt x="5295" y="1160"/>
                </a:lnTo>
                <a:lnTo>
                  <a:pt x="5296" y="954"/>
                </a:lnTo>
                <a:lnTo>
                  <a:pt x="5298" y="1209"/>
                </a:lnTo>
                <a:lnTo>
                  <a:pt x="5299" y="329"/>
                </a:lnTo>
                <a:lnTo>
                  <a:pt x="5300" y="1294"/>
                </a:lnTo>
                <a:lnTo>
                  <a:pt x="5301" y="851"/>
                </a:lnTo>
                <a:lnTo>
                  <a:pt x="5302" y="1059"/>
                </a:lnTo>
                <a:lnTo>
                  <a:pt x="5303" y="1049"/>
                </a:lnTo>
                <a:lnTo>
                  <a:pt x="5305" y="1431"/>
                </a:lnTo>
                <a:lnTo>
                  <a:pt x="5306" y="763"/>
                </a:lnTo>
                <a:lnTo>
                  <a:pt x="5307" y="1568"/>
                </a:lnTo>
                <a:lnTo>
                  <a:pt x="5308" y="1295"/>
                </a:lnTo>
                <a:lnTo>
                  <a:pt x="5310" y="808"/>
                </a:lnTo>
                <a:lnTo>
                  <a:pt x="5311" y="1010"/>
                </a:lnTo>
                <a:lnTo>
                  <a:pt x="5312" y="1296"/>
                </a:lnTo>
                <a:lnTo>
                  <a:pt x="5314" y="1412"/>
                </a:lnTo>
                <a:lnTo>
                  <a:pt x="5315" y="1167"/>
                </a:lnTo>
                <a:lnTo>
                  <a:pt x="5316" y="772"/>
                </a:lnTo>
                <a:lnTo>
                  <a:pt x="5317" y="470"/>
                </a:lnTo>
                <a:lnTo>
                  <a:pt x="5318" y="955"/>
                </a:lnTo>
                <a:lnTo>
                  <a:pt x="5319" y="1206"/>
                </a:lnTo>
                <a:lnTo>
                  <a:pt x="5321" y="1146"/>
                </a:lnTo>
                <a:lnTo>
                  <a:pt x="5322" y="1011"/>
                </a:lnTo>
                <a:lnTo>
                  <a:pt x="5324" y="1134"/>
                </a:lnTo>
                <a:lnTo>
                  <a:pt x="5325" y="680"/>
                </a:lnTo>
                <a:lnTo>
                  <a:pt x="5326" y="730"/>
                </a:lnTo>
                <a:lnTo>
                  <a:pt x="5327" y="1000"/>
                </a:lnTo>
                <a:lnTo>
                  <a:pt x="5328" y="921"/>
                </a:lnTo>
                <a:lnTo>
                  <a:pt x="5329" y="1324"/>
                </a:lnTo>
                <a:lnTo>
                  <a:pt x="5330" y="1025"/>
                </a:lnTo>
                <a:lnTo>
                  <a:pt x="5332" y="994"/>
                </a:lnTo>
                <a:lnTo>
                  <a:pt x="5334" y="1151"/>
                </a:lnTo>
                <a:lnTo>
                  <a:pt x="5335" y="841"/>
                </a:lnTo>
                <a:lnTo>
                  <a:pt x="5336" y="1283"/>
                </a:lnTo>
                <a:lnTo>
                  <a:pt x="5337" y="1288"/>
                </a:lnTo>
                <a:lnTo>
                  <a:pt x="5338" y="1101"/>
                </a:lnTo>
                <a:lnTo>
                  <a:pt x="5339" y="1489"/>
                </a:lnTo>
                <a:lnTo>
                  <a:pt x="5340" y="849"/>
                </a:lnTo>
                <a:lnTo>
                  <a:pt x="5341" y="1189"/>
                </a:lnTo>
                <a:lnTo>
                  <a:pt x="5344" y="719"/>
                </a:lnTo>
                <a:lnTo>
                  <a:pt x="5345" y="1159"/>
                </a:lnTo>
                <a:lnTo>
                  <a:pt x="5346" y="838"/>
                </a:lnTo>
                <a:lnTo>
                  <a:pt x="5347" y="926"/>
                </a:lnTo>
                <a:lnTo>
                  <a:pt x="5348" y="992"/>
                </a:lnTo>
                <a:lnTo>
                  <a:pt x="5349" y="1168"/>
                </a:lnTo>
                <a:lnTo>
                  <a:pt x="5350" y="1100"/>
                </a:lnTo>
                <a:lnTo>
                  <a:pt x="5351" y="1041"/>
                </a:lnTo>
                <a:lnTo>
                  <a:pt x="5353" y="1494"/>
                </a:lnTo>
                <a:lnTo>
                  <a:pt x="5355" y="1329"/>
                </a:lnTo>
                <a:lnTo>
                  <a:pt x="5356" y="1191"/>
                </a:lnTo>
                <a:lnTo>
                  <a:pt x="5357" y="934"/>
                </a:lnTo>
                <a:lnTo>
                  <a:pt x="5358" y="1224"/>
                </a:lnTo>
                <a:lnTo>
                  <a:pt x="5359" y="843"/>
                </a:lnTo>
                <a:lnTo>
                  <a:pt x="5360" y="1147"/>
                </a:lnTo>
                <a:lnTo>
                  <a:pt x="5361" y="1480"/>
                </a:lnTo>
                <a:lnTo>
                  <a:pt x="5363" y="960"/>
                </a:lnTo>
                <a:lnTo>
                  <a:pt x="5364" y="1015"/>
                </a:lnTo>
                <a:lnTo>
                  <a:pt x="5366" y="511"/>
                </a:lnTo>
                <a:lnTo>
                  <a:pt x="5367" y="1056"/>
                </a:lnTo>
                <a:lnTo>
                  <a:pt x="5368" y="1198"/>
                </a:lnTo>
                <a:lnTo>
                  <a:pt x="5369" y="450"/>
                </a:lnTo>
                <a:lnTo>
                  <a:pt x="5370" y="1216"/>
                </a:lnTo>
                <a:lnTo>
                  <a:pt x="5372" y="1081"/>
                </a:lnTo>
                <a:lnTo>
                  <a:pt x="5373" y="982"/>
                </a:lnTo>
                <a:lnTo>
                  <a:pt x="5374" y="662"/>
                </a:lnTo>
                <a:lnTo>
                  <a:pt x="5375" y="742"/>
                </a:lnTo>
                <a:lnTo>
                  <a:pt x="5376" y="599"/>
                </a:lnTo>
                <a:lnTo>
                  <a:pt x="5378" y="679"/>
                </a:lnTo>
                <a:lnTo>
                  <a:pt x="5379" y="1021"/>
                </a:lnTo>
                <a:lnTo>
                  <a:pt x="5380" y="906"/>
                </a:lnTo>
                <a:lnTo>
                  <a:pt x="5382" y="1003"/>
                </a:lnTo>
                <a:lnTo>
                  <a:pt x="5383" y="665"/>
                </a:lnTo>
                <a:lnTo>
                  <a:pt x="5384" y="312"/>
                </a:lnTo>
                <a:lnTo>
                  <a:pt x="5385" y="688"/>
                </a:lnTo>
                <a:lnTo>
                  <a:pt x="5386" y="394"/>
                </a:lnTo>
                <a:lnTo>
                  <a:pt x="5387" y="1309"/>
                </a:lnTo>
                <a:lnTo>
                  <a:pt x="5389" y="473"/>
                </a:lnTo>
                <a:lnTo>
                  <a:pt x="5390" y="1053"/>
                </a:lnTo>
                <a:lnTo>
                  <a:pt x="5392" y="855"/>
                </a:lnTo>
                <a:lnTo>
                  <a:pt x="5393" y="1237"/>
                </a:lnTo>
                <a:lnTo>
                  <a:pt x="5394" y="1114"/>
                </a:lnTo>
                <a:lnTo>
                  <a:pt x="5395" y="816"/>
                </a:lnTo>
                <a:lnTo>
                  <a:pt x="5396" y="902"/>
                </a:lnTo>
                <a:lnTo>
                  <a:pt x="5397" y="976"/>
                </a:lnTo>
                <a:lnTo>
                  <a:pt x="5398" y="1332"/>
                </a:lnTo>
                <a:lnTo>
                  <a:pt x="5401" y="788"/>
                </a:lnTo>
                <a:lnTo>
                  <a:pt x="5402" y="906"/>
                </a:lnTo>
                <a:lnTo>
                  <a:pt x="5403" y="824"/>
                </a:lnTo>
                <a:lnTo>
                  <a:pt x="5404" y="1078"/>
                </a:lnTo>
                <a:lnTo>
                  <a:pt x="5405" y="1333"/>
                </a:lnTo>
                <a:lnTo>
                  <a:pt x="5406" y="982"/>
                </a:lnTo>
                <a:lnTo>
                  <a:pt x="5407" y="741"/>
                </a:lnTo>
                <a:lnTo>
                  <a:pt x="5408" y="718"/>
                </a:lnTo>
                <a:lnTo>
                  <a:pt x="5409" y="382"/>
                </a:lnTo>
                <a:lnTo>
                  <a:pt x="5412" y="941"/>
                </a:lnTo>
                <a:lnTo>
                  <a:pt x="5413" y="1022"/>
                </a:lnTo>
                <a:lnTo>
                  <a:pt x="5414" y="729"/>
                </a:lnTo>
                <a:lnTo>
                  <a:pt x="5415" y="1212"/>
                </a:lnTo>
                <a:lnTo>
                  <a:pt x="5416" y="1240"/>
                </a:lnTo>
                <a:lnTo>
                  <a:pt x="5417" y="929"/>
                </a:lnTo>
                <a:lnTo>
                  <a:pt x="5418" y="1007"/>
                </a:lnTo>
                <a:lnTo>
                  <a:pt x="5419" y="941"/>
                </a:lnTo>
                <a:lnTo>
                  <a:pt x="5421" y="1040"/>
                </a:lnTo>
                <a:lnTo>
                  <a:pt x="5423" y="985"/>
                </a:lnTo>
                <a:lnTo>
                  <a:pt x="5424" y="1292"/>
                </a:lnTo>
                <a:lnTo>
                  <a:pt x="5425" y="843"/>
                </a:lnTo>
                <a:lnTo>
                  <a:pt x="5426" y="1019"/>
                </a:lnTo>
                <a:lnTo>
                  <a:pt x="5427" y="769"/>
                </a:lnTo>
                <a:lnTo>
                  <a:pt x="5428" y="1381"/>
                </a:lnTo>
                <a:lnTo>
                  <a:pt x="5430" y="1247"/>
                </a:lnTo>
                <a:lnTo>
                  <a:pt x="5431" y="371"/>
                </a:lnTo>
                <a:lnTo>
                  <a:pt x="5432" y="919"/>
                </a:lnTo>
                <a:lnTo>
                  <a:pt x="5433" y="621"/>
                </a:lnTo>
                <a:lnTo>
                  <a:pt x="5435" y="1162"/>
                </a:lnTo>
                <a:lnTo>
                  <a:pt x="5436" y="837"/>
                </a:lnTo>
                <a:lnTo>
                  <a:pt x="5437" y="940"/>
                </a:lnTo>
                <a:lnTo>
                  <a:pt x="5438" y="1039"/>
                </a:lnTo>
                <a:lnTo>
                  <a:pt x="5440" y="1044"/>
                </a:lnTo>
                <a:lnTo>
                  <a:pt x="5441" y="1165"/>
                </a:lnTo>
                <a:lnTo>
                  <a:pt x="5442" y="613"/>
                </a:lnTo>
                <a:lnTo>
                  <a:pt x="5443" y="1101"/>
                </a:lnTo>
                <a:lnTo>
                  <a:pt x="5444" y="1256"/>
                </a:lnTo>
                <a:lnTo>
                  <a:pt x="5446" y="857"/>
                </a:lnTo>
                <a:lnTo>
                  <a:pt x="5447" y="1081"/>
                </a:lnTo>
                <a:lnTo>
                  <a:pt x="5449" y="1275"/>
                </a:lnTo>
                <a:lnTo>
                  <a:pt x="5450" y="1277"/>
                </a:lnTo>
                <a:lnTo>
                  <a:pt x="5451" y="819"/>
                </a:lnTo>
                <a:lnTo>
                  <a:pt x="5452" y="1003"/>
                </a:lnTo>
                <a:lnTo>
                  <a:pt x="5453" y="312"/>
                </a:lnTo>
                <a:lnTo>
                  <a:pt x="5454" y="872"/>
                </a:lnTo>
                <a:lnTo>
                  <a:pt x="5455" y="1454"/>
                </a:lnTo>
                <a:lnTo>
                  <a:pt x="5457" y="579"/>
                </a:lnTo>
                <a:lnTo>
                  <a:pt x="5459" y="1305"/>
                </a:lnTo>
                <a:lnTo>
                  <a:pt x="5460" y="1419"/>
                </a:lnTo>
                <a:lnTo>
                  <a:pt x="5461" y="665"/>
                </a:lnTo>
                <a:lnTo>
                  <a:pt x="5462" y="1355"/>
                </a:lnTo>
                <a:lnTo>
                  <a:pt x="5463" y="1016"/>
                </a:lnTo>
                <a:lnTo>
                  <a:pt x="5464" y="918"/>
                </a:lnTo>
                <a:lnTo>
                  <a:pt x="5465" y="876"/>
                </a:lnTo>
                <a:lnTo>
                  <a:pt x="5466" y="1234"/>
                </a:lnTo>
                <a:lnTo>
                  <a:pt x="5469" y="965"/>
                </a:lnTo>
                <a:lnTo>
                  <a:pt x="5470" y="1593"/>
                </a:lnTo>
                <a:lnTo>
                  <a:pt x="5471" y="712"/>
                </a:lnTo>
                <a:lnTo>
                  <a:pt x="5472" y="1272"/>
                </a:lnTo>
                <a:lnTo>
                  <a:pt x="5473" y="1280"/>
                </a:lnTo>
                <a:lnTo>
                  <a:pt x="5474" y="1453"/>
                </a:lnTo>
                <a:lnTo>
                  <a:pt x="5475" y="721"/>
                </a:lnTo>
                <a:lnTo>
                  <a:pt x="5476" y="965"/>
                </a:lnTo>
                <a:lnTo>
                  <a:pt x="5478" y="1001"/>
                </a:lnTo>
                <a:lnTo>
                  <a:pt x="5480" y="856"/>
                </a:lnTo>
                <a:lnTo>
                  <a:pt x="5481" y="1302"/>
                </a:lnTo>
                <a:lnTo>
                  <a:pt x="5482" y="1267"/>
                </a:lnTo>
                <a:lnTo>
                  <a:pt x="5483" y="854"/>
                </a:lnTo>
                <a:lnTo>
                  <a:pt x="5484" y="901"/>
                </a:lnTo>
                <a:lnTo>
                  <a:pt x="5485" y="1547"/>
                </a:lnTo>
                <a:lnTo>
                  <a:pt x="5486" y="636"/>
                </a:lnTo>
                <a:lnTo>
                  <a:pt x="5488" y="894"/>
                </a:lnTo>
                <a:lnTo>
                  <a:pt x="5489" y="632"/>
                </a:lnTo>
                <a:lnTo>
                  <a:pt x="5491" y="707"/>
                </a:lnTo>
                <a:lnTo>
                  <a:pt x="5492" y="731"/>
                </a:lnTo>
                <a:lnTo>
                  <a:pt x="5493" y="765"/>
                </a:lnTo>
                <a:lnTo>
                  <a:pt x="5494" y="795"/>
                </a:lnTo>
                <a:lnTo>
                  <a:pt x="5495" y="916"/>
                </a:lnTo>
                <a:lnTo>
                  <a:pt x="5496" y="688"/>
                </a:lnTo>
                <a:lnTo>
                  <a:pt x="5498" y="1077"/>
                </a:lnTo>
                <a:lnTo>
                  <a:pt x="5499" y="165"/>
                </a:lnTo>
                <a:lnTo>
                  <a:pt x="5500" y="742"/>
                </a:lnTo>
                <a:lnTo>
                  <a:pt x="5501" y="1050"/>
                </a:lnTo>
                <a:lnTo>
                  <a:pt x="5503" y="574"/>
                </a:lnTo>
                <a:lnTo>
                  <a:pt x="5504" y="950"/>
                </a:lnTo>
                <a:lnTo>
                  <a:pt x="5505" y="1033"/>
                </a:lnTo>
                <a:lnTo>
                  <a:pt x="5507" y="1220"/>
                </a:lnTo>
                <a:lnTo>
                  <a:pt x="5508" y="561"/>
                </a:lnTo>
                <a:lnTo>
                  <a:pt x="5509" y="813"/>
                </a:lnTo>
                <a:lnTo>
                  <a:pt x="5510" y="977"/>
                </a:lnTo>
                <a:lnTo>
                  <a:pt x="5511" y="1390"/>
                </a:lnTo>
                <a:lnTo>
                  <a:pt x="5512" y="1358"/>
                </a:lnTo>
                <a:lnTo>
                  <a:pt x="5514" y="829"/>
                </a:lnTo>
                <a:lnTo>
                  <a:pt x="5515" y="805"/>
                </a:lnTo>
                <a:lnTo>
                  <a:pt x="5517" y="758"/>
                </a:lnTo>
                <a:lnTo>
                  <a:pt x="5518" y="493"/>
                </a:lnTo>
                <a:lnTo>
                  <a:pt x="5519" y="1404"/>
                </a:lnTo>
                <a:lnTo>
                  <a:pt x="5520" y="1119"/>
                </a:lnTo>
                <a:lnTo>
                  <a:pt x="5521" y="1074"/>
                </a:lnTo>
                <a:lnTo>
                  <a:pt x="5522" y="1210"/>
                </a:lnTo>
                <a:lnTo>
                  <a:pt x="5523" y="1355"/>
                </a:lnTo>
                <a:lnTo>
                  <a:pt x="5525" y="1041"/>
                </a:lnTo>
                <a:lnTo>
                  <a:pt x="5527" y="989"/>
                </a:lnTo>
                <a:lnTo>
                  <a:pt x="5528" y="983"/>
                </a:lnTo>
                <a:lnTo>
                  <a:pt x="5529" y="990"/>
                </a:lnTo>
                <a:lnTo>
                  <a:pt x="5530" y="1335"/>
                </a:lnTo>
                <a:lnTo>
                  <a:pt x="5531" y="569"/>
                </a:lnTo>
                <a:lnTo>
                  <a:pt x="5532" y="1403"/>
                </a:lnTo>
                <a:lnTo>
                  <a:pt x="5533" y="366"/>
                </a:lnTo>
                <a:lnTo>
                  <a:pt x="5534" y="882"/>
                </a:lnTo>
                <a:lnTo>
                  <a:pt x="5537" y="853"/>
                </a:lnTo>
                <a:lnTo>
                  <a:pt x="5538" y="1160"/>
                </a:lnTo>
                <a:lnTo>
                  <a:pt x="5539" y="982"/>
                </a:lnTo>
                <a:lnTo>
                  <a:pt x="5540" y="1409"/>
                </a:lnTo>
                <a:lnTo>
                  <a:pt x="5541" y="1155"/>
                </a:lnTo>
                <a:lnTo>
                  <a:pt x="5542" y="1063"/>
                </a:lnTo>
                <a:lnTo>
                  <a:pt x="5543" y="892"/>
                </a:lnTo>
                <a:lnTo>
                  <a:pt x="5544" y="1333"/>
                </a:lnTo>
                <a:lnTo>
                  <a:pt x="5546" y="1308"/>
                </a:lnTo>
                <a:lnTo>
                  <a:pt x="5548" y="1109"/>
                </a:lnTo>
                <a:lnTo>
                  <a:pt x="5549" y="1069"/>
                </a:lnTo>
                <a:lnTo>
                  <a:pt x="5550" y="1403"/>
                </a:lnTo>
                <a:lnTo>
                  <a:pt x="5551" y="938"/>
                </a:lnTo>
                <a:lnTo>
                  <a:pt x="5552" y="776"/>
                </a:lnTo>
                <a:lnTo>
                  <a:pt x="5553" y="1072"/>
                </a:lnTo>
                <a:lnTo>
                  <a:pt x="5554" y="586"/>
                </a:lnTo>
                <a:lnTo>
                  <a:pt x="5556" y="911"/>
                </a:lnTo>
                <a:lnTo>
                  <a:pt x="5557" y="1202"/>
                </a:lnTo>
                <a:lnTo>
                  <a:pt x="5558" y="1071"/>
                </a:lnTo>
                <a:lnTo>
                  <a:pt x="5560" y="928"/>
                </a:lnTo>
                <a:lnTo>
                  <a:pt x="5561" y="1430"/>
                </a:lnTo>
                <a:lnTo>
                  <a:pt x="5562" y="955"/>
                </a:lnTo>
                <a:lnTo>
                  <a:pt x="5563" y="1137"/>
                </a:lnTo>
                <a:lnTo>
                  <a:pt x="5565" y="1498"/>
                </a:lnTo>
                <a:lnTo>
                  <a:pt x="5566" y="1155"/>
                </a:lnTo>
                <a:lnTo>
                  <a:pt x="5567" y="751"/>
                </a:lnTo>
                <a:lnTo>
                  <a:pt x="5568" y="1045"/>
                </a:lnTo>
                <a:lnTo>
                  <a:pt x="5569" y="1323"/>
                </a:lnTo>
                <a:lnTo>
                  <a:pt x="5571" y="849"/>
                </a:lnTo>
                <a:lnTo>
                  <a:pt x="5572" y="1270"/>
                </a:lnTo>
                <a:lnTo>
                  <a:pt x="5573" y="923"/>
                </a:lnTo>
                <a:lnTo>
                  <a:pt x="5575" y="1635"/>
                </a:lnTo>
                <a:lnTo>
                  <a:pt x="5576" y="836"/>
                </a:lnTo>
                <a:lnTo>
                  <a:pt x="5577" y="1424"/>
                </a:lnTo>
                <a:lnTo>
                  <a:pt x="5578" y="771"/>
                </a:lnTo>
                <a:lnTo>
                  <a:pt x="5579" y="1303"/>
                </a:lnTo>
                <a:lnTo>
                  <a:pt x="5580" y="929"/>
                </a:lnTo>
                <a:lnTo>
                  <a:pt x="5582" y="1571"/>
                </a:lnTo>
                <a:lnTo>
                  <a:pt x="5583" y="1319"/>
                </a:lnTo>
                <a:lnTo>
                  <a:pt x="5585" y="582"/>
                </a:lnTo>
                <a:lnTo>
                  <a:pt x="5586" y="596"/>
                </a:lnTo>
                <a:lnTo>
                  <a:pt x="5587" y="1179"/>
                </a:lnTo>
                <a:lnTo>
                  <a:pt x="5588" y="780"/>
                </a:lnTo>
                <a:lnTo>
                  <a:pt x="5589" y="1099"/>
                </a:lnTo>
                <a:lnTo>
                  <a:pt x="5590" y="763"/>
                </a:lnTo>
                <a:lnTo>
                  <a:pt x="5591" y="1338"/>
                </a:lnTo>
                <a:lnTo>
                  <a:pt x="5594" y="894"/>
                </a:lnTo>
                <a:lnTo>
                  <a:pt x="5595" y="976"/>
                </a:lnTo>
                <a:lnTo>
                  <a:pt x="5596" y="1777"/>
                </a:lnTo>
                <a:lnTo>
                  <a:pt x="5597" y="1292"/>
                </a:lnTo>
                <a:lnTo>
                  <a:pt x="5598" y="1097"/>
                </a:lnTo>
                <a:lnTo>
                  <a:pt x="5599" y="1378"/>
                </a:lnTo>
                <a:lnTo>
                  <a:pt x="5600" y="1285"/>
                </a:lnTo>
                <a:lnTo>
                  <a:pt x="5601" y="1085"/>
                </a:lnTo>
                <a:lnTo>
                  <a:pt x="5602" y="948"/>
                </a:lnTo>
                <a:lnTo>
                  <a:pt x="5605" y="1452"/>
                </a:lnTo>
                <a:lnTo>
                  <a:pt x="5606" y="1334"/>
                </a:lnTo>
                <a:lnTo>
                  <a:pt x="5607" y="1494"/>
                </a:lnTo>
                <a:lnTo>
                  <a:pt x="5608" y="1316"/>
                </a:lnTo>
                <a:lnTo>
                  <a:pt x="5609" y="886"/>
                </a:lnTo>
                <a:lnTo>
                  <a:pt x="5610" y="933"/>
                </a:lnTo>
                <a:lnTo>
                  <a:pt x="5611" y="1239"/>
                </a:lnTo>
                <a:lnTo>
                  <a:pt x="5612" y="1016"/>
                </a:lnTo>
                <a:lnTo>
                  <a:pt x="5614" y="1153"/>
                </a:lnTo>
                <a:lnTo>
                  <a:pt x="5616" y="1303"/>
                </a:lnTo>
                <a:lnTo>
                  <a:pt x="5617" y="898"/>
                </a:lnTo>
                <a:lnTo>
                  <a:pt x="5618" y="1106"/>
                </a:lnTo>
                <a:lnTo>
                  <a:pt x="5619" y="1217"/>
                </a:lnTo>
                <a:lnTo>
                  <a:pt x="5620" y="956"/>
                </a:lnTo>
                <a:lnTo>
                  <a:pt x="5621" y="957"/>
                </a:lnTo>
                <a:lnTo>
                  <a:pt x="5623" y="925"/>
                </a:lnTo>
                <a:lnTo>
                  <a:pt x="5624" y="1009"/>
                </a:lnTo>
                <a:lnTo>
                  <a:pt x="5625" y="844"/>
                </a:lnTo>
                <a:lnTo>
                  <a:pt x="5626" y="878"/>
                </a:lnTo>
                <a:lnTo>
                  <a:pt x="5628" y="1172"/>
                </a:lnTo>
                <a:lnTo>
                  <a:pt x="5629" y="736"/>
                </a:lnTo>
                <a:lnTo>
                  <a:pt x="5630" y="911"/>
                </a:lnTo>
                <a:lnTo>
                  <a:pt x="5631" y="1064"/>
                </a:lnTo>
                <a:lnTo>
                  <a:pt x="5633" y="985"/>
                </a:lnTo>
                <a:lnTo>
                  <a:pt x="5634" y="1134"/>
                </a:lnTo>
                <a:lnTo>
                  <a:pt x="5635" y="741"/>
                </a:lnTo>
                <a:lnTo>
                  <a:pt x="5636" y="1071"/>
                </a:lnTo>
                <a:lnTo>
                  <a:pt x="5637" y="746"/>
                </a:lnTo>
                <a:lnTo>
                  <a:pt x="5639" y="572"/>
                </a:lnTo>
                <a:lnTo>
                  <a:pt x="5640" y="911"/>
                </a:lnTo>
                <a:lnTo>
                  <a:pt x="5641" y="813"/>
                </a:lnTo>
                <a:lnTo>
                  <a:pt x="5643" y="1287"/>
                </a:lnTo>
                <a:lnTo>
                  <a:pt x="5644" y="1014"/>
                </a:lnTo>
                <a:lnTo>
                  <a:pt x="5645" y="625"/>
                </a:lnTo>
                <a:lnTo>
                  <a:pt x="5646" y="837"/>
                </a:lnTo>
                <a:lnTo>
                  <a:pt x="5647" y="1159"/>
                </a:lnTo>
                <a:lnTo>
                  <a:pt x="5648" y="794"/>
                </a:lnTo>
                <a:lnTo>
                  <a:pt x="5650" y="918"/>
                </a:lnTo>
                <a:lnTo>
                  <a:pt x="5652" y="1189"/>
                </a:lnTo>
                <a:lnTo>
                  <a:pt x="5653" y="1300"/>
                </a:lnTo>
                <a:lnTo>
                  <a:pt x="5654" y="1202"/>
                </a:lnTo>
                <a:lnTo>
                  <a:pt x="5655" y="993"/>
                </a:lnTo>
                <a:lnTo>
                  <a:pt x="5656" y="1028"/>
                </a:lnTo>
                <a:lnTo>
                  <a:pt x="5657" y="670"/>
                </a:lnTo>
                <a:lnTo>
                  <a:pt x="5658" y="1017"/>
                </a:lnTo>
                <a:lnTo>
                  <a:pt x="5659" y="1102"/>
                </a:lnTo>
                <a:lnTo>
                  <a:pt x="5662" y="824"/>
                </a:lnTo>
                <a:lnTo>
                  <a:pt x="5663" y="1371"/>
                </a:lnTo>
                <a:lnTo>
                  <a:pt x="5664" y="1148"/>
                </a:lnTo>
                <a:lnTo>
                  <a:pt x="5665" y="1385"/>
                </a:lnTo>
                <a:lnTo>
                  <a:pt x="5666" y="938"/>
                </a:lnTo>
                <a:lnTo>
                  <a:pt x="5667" y="681"/>
                </a:lnTo>
                <a:lnTo>
                  <a:pt x="5668" y="1324"/>
                </a:lnTo>
                <a:lnTo>
                  <a:pt x="5669" y="784"/>
                </a:lnTo>
                <a:lnTo>
                  <a:pt x="5670" y="1001"/>
                </a:lnTo>
                <a:lnTo>
                  <a:pt x="5673" y="1263"/>
                </a:lnTo>
                <a:lnTo>
                  <a:pt x="5674" y="1005"/>
                </a:lnTo>
                <a:lnTo>
                  <a:pt x="5675" y="863"/>
                </a:lnTo>
                <a:lnTo>
                  <a:pt x="5676" y="1141"/>
                </a:lnTo>
                <a:lnTo>
                  <a:pt x="5677" y="1084"/>
                </a:lnTo>
                <a:lnTo>
                  <a:pt x="5678" y="808"/>
                </a:lnTo>
                <a:lnTo>
                  <a:pt x="5679" y="1246"/>
                </a:lnTo>
                <a:lnTo>
                  <a:pt x="5681" y="635"/>
                </a:lnTo>
                <a:lnTo>
                  <a:pt x="5682" y="1021"/>
                </a:lnTo>
                <a:lnTo>
                  <a:pt x="5684" y="475"/>
                </a:lnTo>
                <a:lnTo>
                  <a:pt x="5685" y="338"/>
                </a:lnTo>
                <a:lnTo>
                  <a:pt x="5686" y="1255"/>
                </a:lnTo>
                <a:lnTo>
                  <a:pt x="5687" y="1423"/>
                </a:lnTo>
                <a:lnTo>
                  <a:pt x="5688" y="1360"/>
                </a:lnTo>
                <a:lnTo>
                  <a:pt x="5689" y="1438"/>
                </a:lnTo>
                <a:lnTo>
                  <a:pt x="5691" y="362"/>
                </a:lnTo>
                <a:lnTo>
                  <a:pt x="5692" y="1206"/>
                </a:lnTo>
                <a:lnTo>
                  <a:pt x="5693" y="1399"/>
                </a:lnTo>
                <a:lnTo>
                  <a:pt x="5694" y="1034"/>
                </a:lnTo>
                <a:lnTo>
                  <a:pt x="5696" y="1113"/>
                </a:lnTo>
                <a:lnTo>
                  <a:pt x="5697" y="1000"/>
                </a:lnTo>
                <a:lnTo>
                  <a:pt x="5698" y="883"/>
                </a:lnTo>
                <a:lnTo>
                  <a:pt x="5700" y="713"/>
                </a:lnTo>
                <a:lnTo>
                  <a:pt x="5701" y="834"/>
                </a:lnTo>
                <a:lnTo>
                  <a:pt x="5702" y="1199"/>
                </a:lnTo>
                <a:lnTo>
                  <a:pt x="5703" y="895"/>
                </a:lnTo>
                <a:lnTo>
                  <a:pt x="5704" y="1399"/>
                </a:lnTo>
                <a:lnTo>
                  <a:pt x="5705" y="967"/>
                </a:lnTo>
                <a:lnTo>
                  <a:pt x="5707" y="671"/>
                </a:lnTo>
                <a:lnTo>
                  <a:pt x="5708" y="1026"/>
                </a:lnTo>
                <a:lnTo>
                  <a:pt x="5710" y="966"/>
                </a:lnTo>
                <a:lnTo>
                  <a:pt x="5711" y="693"/>
                </a:lnTo>
                <a:lnTo>
                  <a:pt x="5712" y="691"/>
                </a:lnTo>
                <a:lnTo>
                  <a:pt x="5713" y="1235"/>
                </a:lnTo>
                <a:lnTo>
                  <a:pt x="5714" y="201"/>
                </a:lnTo>
                <a:lnTo>
                  <a:pt x="5715" y="702"/>
                </a:lnTo>
                <a:lnTo>
                  <a:pt x="5716" y="1425"/>
                </a:lnTo>
                <a:lnTo>
                  <a:pt x="5718" y="907"/>
                </a:lnTo>
                <a:lnTo>
                  <a:pt x="5720" y="714"/>
                </a:lnTo>
                <a:lnTo>
                  <a:pt x="5721" y="1196"/>
                </a:lnTo>
                <a:lnTo>
                  <a:pt x="5722" y="914"/>
                </a:lnTo>
                <a:lnTo>
                  <a:pt x="5723" y="843"/>
                </a:lnTo>
                <a:lnTo>
                  <a:pt x="5724" y="970"/>
                </a:lnTo>
                <a:lnTo>
                  <a:pt x="5725" y="916"/>
                </a:lnTo>
                <a:lnTo>
                  <a:pt x="5726" y="778"/>
                </a:lnTo>
                <a:lnTo>
                  <a:pt x="5727" y="924"/>
                </a:lnTo>
                <a:lnTo>
                  <a:pt x="5730" y="1263"/>
                </a:lnTo>
                <a:lnTo>
                  <a:pt x="5731" y="1003"/>
                </a:lnTo>
                <a:lnTo>
                  <a:pt x="5732" y="826"/>
                </a:lnTo>
                <a:lnTo>
                  <a:pt x="5733" y="886"/>
                </a:lnTo>
                <a:lnTo>
                  <a:pt x="5734" y="403"/>
                </a:lnTo>
                <a:lnTo>
                  <a:pt x="5735" y="1029"/>
                </a:lnTo>
                <a:lnTo>
                  <a:pt x="5736" y="954"/>
                </a:lnTo>
                <a:lnTo>
                  <a:pt x="5737" y="982"/>
                </a:lnTo>
                <a:lnTo>
                  <a:pt x="5739" y="1160"/>
                </a:lnTo>
                <a:lnTo>
                  <a:pt x="5741" y="1397"/>
                </a:lnTo>
                <a:lnTo>
                  <a:pt x="5742" y="979"/>
                </a:lnTo>
                <a:lnTo>
                  <a:pt x="5743" y="1403"/>
                </a:lnTo>
                <a:lnTo>
                  <a:pt x="5744" y="548"/>
                </a:lnTo>
                <a:lnTo>
                  <a:pt x="5745" y="714"/>
                </a:lnTo>
                <a:lnTo>
                  <a:pt x="5746" y="1074"/>
                </a:lnTo>
                <a:lnTo>
                  <a:pt x="5747" y="923"/>
                </a:lnTo>
                <a:lnTo>
                  <a:pt x="5749" y="680"/>
                </a:lnTo>
                <a:lnTo>
                  <a:pt x="5750" y="1073"/>
                </a:lnTo>
                <a:lnTo>
                  <a:pt x="5751" y="819"/>
                </a:lnTo>
                <a:lnTo>
                  <a:pt x="5753" y="1056"/>
                </a:lnTo>
                <a:lnTo>
                  <a:pt x="5754" y="976"/>
                </a:lnTo>
                <a:lnTo>
                  <a:pt x="5755" y="1314"/>
                </a:lnTo>
                <a:lnTo>
                  <a:pt x="5756" y="1087"/>
                </a:lnTo>
                <a:lnTo>
                  <a:pt x="5758" y="678"/>
                </a:lnTo>
                <a:lnTo>
                  <a:pt x="5759" y="899"/>
                </a:lnTo>
                <a:lnTo>
                  <a:pt x="5760" y="974"/>
                </a:lnTo>
                <a:lnTo>
                  <a:pt x="5761" y="1228"/>
                </a:lnTo>
                <a:lnTo>
                  <a:pt x="5762" y="655"/>
                </a:lnTo>
                <a:lnTo>
                  <a:pt x="5764" y="1029"/>
                </a:lnTo>
                <a:lnTo>
                  <a:pt x="5765" y="950"/>
                </a:lnTo>
                <a:lnTo>
                  <a:pt x="5766" y="1089"/>
                </a:lnTo>
                <a:lnTo>
                  <a:pt x="5768" y="209"/>
                </a:lnTo>
                <a:lnTo>
                  <a:pt x="5769" y="894"/>
                </a:lnTo>
                <a:lnTo>
                  <a:pt x="5770" y="1227"/>
                </a:lnTo>
                <a:lnTo>
                  <a:pt x="5771" y="1108"/>
                </a:lnTo>
                <a:lnTo>
                  <a:pt x="5772" y="317"/>
                </a:lnTo>
                <a:lnTo>
                  <a:pt x="5773" y="992"/>
                </a:lnTo>
                <a:lnTo>
                  <a:pt x="5775" y="623"/>
                </a:lnTo>
                <a:lnTo>
                  <a:pt x="5776" y="1523"/>
                </a:lnTo>
                <a:lnTo>
                  <a:pt x="5778" y="474"/>
                </a:lnTo>
                <a:lnTo>
                  <a:pt x="5779" y="1298"/>
                </a:lnTo>
                <a:lnTo>
                  <a:pt x="5780" y="502"/>
                </a:lnTo>
                <a:lnTo>
                  <a:pt x="5781" y="1181"/>
                </a:lnTo>
                <a:lnTo>
                  <a:pt x="5782" y="964"/>
                </a:lnTo>
                <a:lnTo>
                  <a:pt x="5783" y="698"/>
                </a:lnTo>
                <a:lnTo>
                  <a:pt x="5784" y="779"/>
                </a:lnTo>
                <a:lnTo>
                  <a:pt x="5787" y="776"/>
                </a:lnTo>
                <a:lnTo>
                  <a:pt x="5788" y="1484"/>
                </a:lnTo>
                <a:lnTo>
                  <a:pt x="5789" y="706"/>
                </a:lnTo>
                <a:lnTo>
                  <a:pt x="5790" y="1130"/>
                </a:lnTo>
                <a:lnTo>
                  <a:pt x="5791" y="689"/>
                </a:lnTo>
                <a:lnTo>
                  <a:pt x="5792" y="938"/>
                </a:lnTo>
                <a:lnTo>
                  <a:pt x="5793" y="521"/>
                </a:lnTo>
                <a:lnTo>
                  <a:pt x="5794" y="1172"/>
                </a:lnTo>
                <a:lnTo>
                  <a:pt x="5795" y="517"/>
                </a:lnTo>
                <a:lnTo>
                  <a:pt x="5798" y="1166"/>
                </a:lnTo>
                <a:lnTo>
                  <a:pt x="5799" y="976"/>
                </a:lnTo>
                <a:lnTo>
                  <a:pt x="5800" y="897"/>
                </a:lnTo>
                <a:lnTo>
                  <a:pt x="5801" y="745"/>
                </a:lnTo>
                <a:lnTo>
                  <a:pt x="5802" y="1025"/>
                </a:lnTo>
                <a:lnTo>
                  <a:pt x="5803" y="679"/>
                </a:lnTo>
                <a:lnTo>
                  <a:pt x="5804" y="1133"/>
                </a:lnTo>
                <a:lnTo>
                  <a:pt x="5805" y="984"/>
                </a:lnTo>
                <a:lnTo>
                  <a:pt x="5807" y="1263"/>
                </a:lnTo>
                <a:lnTo>
                  <a:pt x="5809" y="1260"/>
                </a:lnTo>
                <a:lnTo>
                  <a:pt x="5810" y="1151"/>
                </a:lnTo>
                <a:lnTo>
                  <a:pt x="5811" y="1192"/>
                </a:lnTo>
                <a:lnTo>
                  <a:pt x="5812" y="1687"/>
                </a:lnTo>
                <a:lnTo>
                  <a:pt x="5813" y="1087"/>
                </a:lnTo>
                <a:lnTo>
                  <a:pt x="5814" y="875"/>
                </a:lnTo>
                <a:lnTo>
                  <a:pt x="5816" y="851"/>
                </a:lnTo>
                <a:lnTo>
                  <a:pt x="5817" y="898"/>
                </a:lnTo>
                <a:lnTo>
                  <a:pt x="5818" y="965"/>
                </a:lnTo>
                <a:lnTo>
                  <a:pt x="5819" y="1227"/>
                </a:lnTo>
                <a:lnTo>
                  <a:pt x="5821" y="1312"/>
                </a:lnTo>
                <a:lnTo>
                  <a:pt x="5822" y="1319"/>
                </a:lnTo>
                <a:lnTo>
                  <a:pt x="5823" y="1342"/>
                </a:lnTo>
                <a:lnTo>
                  <a:pt x="5824" y="989"/>
                </a:lnTo>
                <a:lnTo>
                  <a:pt x="5826" y="1415"/>
                </a:lnTo>
                <a:lnTo>
                  <a:pt x="5827" y="846"/>
                </a:lnTo>
                <a:lnTo>
                  <a:pt x="5828" y="976"/>
                </a:lnTo>
                <a:lnTo>
                  <a:pt x="5829" y="1021"/>
                </a:lnTo>
                <a:lnTo>
                  <a:pt x="5830" y="1391"/>
                </a:lnTo>
                <a:lnTo>
                  <a:pt x="5832" y="1118"/>
                </a:lnTo>
                <a:lnTo>
                  <a:pt x="5833" y="1014"/>
                </a:lnTo>
                <a:lnTo>
                  <a:pt x="5834" y="929"/>
                </a:lnTo>
                <a:lnTo>
                  <a:pt x="5836" y="967"/>
                </a:lnTo>
                <a:lnTo>
                  <a:pt x="5837" y="672"/>
                </a:lnTo>
                <a:lnTo>
                  <a:pt x="5838" y="609"/>
                </a:lnTo>
                <a:lnTo>
                  <a:pt x="5839" y="1707"/>
                </a:lnTo>
                <a:lnTo>
                  <a:pt x="5840" y="1035"/>
                </a:lnTo>
                <a:lnTo>
                  <a:pt x="5841" y="1352"/>
                </a:lnTo>
                <a:lnTo>
                  <a:pt x="5843" y="889"/>
                </a:lnTo>
                <a:lnTo>
                  <a:pt x="5845" y="1456"/>
                </a:lnTo>
                <a:lnTo>
                  <a:pt x="5846" y="1162"/>
                </a:lnTo>
                <a:lnTo>
                  <a:pt x="5847" y="1366"/>
                </a:lnTo>
                <a:lnTo>
                  <a:pt x="5848" y="950"/>
                </a:lnTo>
                <a:lnTo>
                  <a:pt x="5849" y="1137"/>
                </a:lnTo>
                <a:lnTo>
                  <a:pt x="5850" y="1113"/>
                </a:lnTo>
                <a:lnTo>
                  <a:pt x="5851" y="355"/>
                </a:lnTo>
                <a:lnTo>
                  <a:pt x="5852" y="927"/>
                </a:lnTo>
                <a:lnTo>
                  <a:pt x="5855" y="890"/>
                </a:lnTo>
                <a:lnTo>
                  <a:pt x="5856" y="860"/>
                </a:lnTo>
                <a:lnTo>
                  <a:pt x="5857" y="1494"/>
                </a:lnTo>
                <a:lnTo>
                  <a:pt x="5858" y="879"/>
                </a:lnTo>
                <a:lnTo>
                  <a:pt x="5859" y="1106"/>
                </a:lnTo>
                <a:lnTo>
                  <a:pt x="5860" y="909"/>
                </a:lnTo>
                <a:lnTo>
                  <a:pt x="5861" y="1043"/>
                </a:lnTo>
                <a:lnTo>
                  <a:pt x="5862" y="369"/>
                </a:lnTo>
                <a:lnTo>
                  <a:pt x="5863" y="1119"/>
                </a:lnTo>
                <a:lnTo>
                  <a:pt x="5866" y="1477"/>
                </a:lnTo>
                <a:lnTo>
                  <a:pt x="5867" y="830"/>
                </a:lnTo>
                <a:lnTo>
                  <a:pt x="5868" y="1287"/>
                </a:lnTo>
                <a:lnTo>
                  <a:pt x="5869" y="1273"/>
                </a:lnTo>
                <a:lnTo>
                  <a:pt x="5870" y="589"/>
                </a:lnTo>
                <a:lnTo>
                  <a:pt x="5871" y="1150"/>
                </a:lnTo>
                <a:lnTo>
                  <a:pt x="5872" y="1032"/>
                </a:lnTo>
                <a:lnTo>
                  <a:pt x="5874" y="835"/>
                </a:lnTo>
                <a:lnTo>
                  <a:pt x="5875" y="938"/>
                </a:lnTo>
                <a:lnTo>
                  <a:pt x="5876" y="1327"/>
                </a:lnTo>
                <a:lnTo>
                  <a:pt x="5878" y="1254"/>
                </a:lnTo>
                <a:lnTo>
                  <a:pt x="5879" y="581"/>
                </a:lnTo>
                <a:lnTo>
                  <a:pt x="5880" y="1336"/>
                </a:lnTo>
                <a:lnTo>
                  <a:pt x="5881" y="737"/>
                </a:lnTo>
                <a:lnTo>
                  <a:pt x="5882" y="1395"/>
                </a:lnTo>
                <a:lnTo>
                  <a:pt x="5884" y="1113"/>
                </a:lnTo>
                <a:lnTo>
                  <a:pt x="5885" y="1332"/>
                </a:lnTo>
                <a:lnTo>
                  <a:pt x="5886" y="990"/>
                </a:lnTo>
                <a:lnTo>
                  <a:pt x="5887" y="1772"/>
                </a:lnTo>
                <a:lnTo>
                  <a:pt x="5889" y="1067"/>
                </a:lnTo>
                <a:lnTo>
                  <a:pt x="5890" y="911"/>
                </a:lnTo>
                <a:lnTo>
                  <a:pt x="5891" y="968"/>
                </a:lnTo>
                <a:lnTo>
                  <a:pt x="5892" y="975"/>
                </a:lnTo>
                <a:lnTo>
                  <a:pt x="5894" y="1001"/>
                </a:lnTo>
                <a:lnTo>
                  <a:pt x="5895" y="499"/>
                </a:lnTo>
                <a:lnTo>
                  <a:pt x="5896" y="907"/>
                </a:lnTo>
                <a:lnTo>
                  <a:pt x="5897" y="1239"/>
                </a:lnTo>
                <a:lnTo>
                  <a:pt x="5898" y="636"/>
                </a:lnTo>
                <a:lnTo>
                  <a:pt x="5900" y="1060"/>
                </a:lnTo>
                <a:lnTo>
                  <a:pt x="5901" y="761"/>
                </a:lnTo>
                <a:lnTo>
                  <a:pt x="5903" y="831"/>
                </a:lnTo>
                <a:lnTo>
                  <a:pt x="5904" y="1289"/>
                </a:lnTo>
                <a:lnTo>
                  <a:pt x="5905" y="430"/>
                </a:lnTo>
                <a:lnTo>
                  <a:pt x="5906" y="883"/>
                </a:lnTo>
                <a:lnTo>
                  <a:pt x="5907" y="1080"/>
                </a:lnTo>
                <a:lnTo>
                  <a:pt x="5908" y="1575"/>
                </a:lnTo>
                <a:lnTo>
                  <a:pt x="5909" y="702"/>
                </a:lnTo>
                <a:lnTo>
                  <a:pt x="5911" y="449"/>
                </a:lnTo>
                <a:lnTo>
                  <a:pt x="5913" y="972"/>
                </a:lnTo>
                <a:lnTo>
                  <a:pt x="5914" y="1009"/>
                </a:lnTo>
                <a:lnTo>
                  <a:pt x="5915" y="1530"/>
                </a:lnTo>
                <a:lnTo>
                  <a:pt x="5916" y="1156"/>
                </a:lnTo>
                <a:lnTo>
                  <a:pt x="5917" y="1294"/>
                </a:lnTo>
                <a:lnTo>
                  <a:pt x="5918" y="1285"/>
                </a:lnTo>
                <a:lnTo>
                  <a:pt x="5919" y="1225"/>
                </a:lnTo>
                <a:lnTo>
                  <a:pt x="5920" y="788"/>
                </a:lnTo>
                <a:lnTo>
                  <a:pt x="5923" y="1078"/>
                </a:lnTo>
                <a:lnTo>
                  <a:pt x="5924" y="717"/>
                </a:lnTo>
                <a:lnTo>
                  <a:pt x="5925" y="1092"/>
                </a:lnTo>
                <a:lnTo>
                  <a:pt x="5926" y="749"/>
                </a:lnTo>
                <a:lnTo>
                  <a:pt x="5927" y="1293"/>
                </a:lnTo>
                <a:lnTo>
                  <a:pt x="5928" y="1187"/>
                </a:lnTo>
                <a:lnTo>
                  <a:pt x="5929" y="853"/>
                </a:lnTo>
                <a:lnTo>
                  <a:pt x="5930" y="935"/>
                </a:lnTo>
                <a:lnTo>
                  <a:pt x="5932" y="1146"/>
                </a:lnTo>
                <a:lnTo>
                  <a:pt x="5934" y="638"/>
                </a:lnTo>
                <a:lnTo>
                  <a:pt x="5935" y="1432"/>
                </a:lnTo>
                <a:lnTo>
                  <a:pt x="5936" y="933"/>
                </a:lnTo>
                <a:lnTo>
                  <a:pt x="5937" y="569"/>
                </a:lnTo>
                <a:lnTo>
                  <a:pt x="5938" y="966"/>
                </a:lnTo>
                <a:lnTo>
                  <a:pt x="5939" y="1152"/>
                </a:lnTo>
                <a:lnTo>
                  <a:pt x="5940" y="1051"/>
                </a:lnTo>
                <a:lnTo>
                  <a:pt x="5942" y="950"/>
                </a:lnTo>
                <a:lnTo>
                  <a:pt x="5943" y="1384"/>
                </a:lnTo>
                <a:lnTo>
                  <a:pt x="5944" y="1257"/>
                </a:lnTo>
                <a:lnTo>
                  <a:pt x="5946" y="1321"/>
                </a:lnTo>
                <a:lnTo>
                  <a:pt x="5947" y="893"/>
                </a:lnTo>
                <a:lnTo>
                  <a:pt x="5948" y="909"/>
                </a:lnTo>
                <a:lnTo>
                  <a:pt x="5949" y="973"/>
                </a:lnTo>
                <a:lnTo>
                  <a:pt x="5951" y="1321"/>
                </a:lnTo>
                <a:lnTo>
                  <a:pt x="5952" y="616"/>
                </a:lnTo>
                <a:lnTo>
                  <a:pt x="5953" y="1143"/>
                </a:lnTo>
                <a:lnTo>
                  <a:pt x="5954" y="1221"/>
                </a:lnTo>
                <a:lnTo>
                  <a:pt x="5955" y="1180"/>
                </a:lnTo>
                <a:lnTo>
                  <a:pt x="5957" y="1014"/>
                </a:lnTo>
                <a:lnTo>
                  <a:pt x="5958" y="841"/>
                </a:lnTo>
                <a:lnTo>
                  <a:pt x="5959" y="1591"/>
                </a:lnTo>
                <a:lnTo>
                  <a:pt x="5961" y="1108"/>
                </a:lnTo>
                <a:lnTo>
                  <a:pt x="5962" y="1080"/>
                </a:lnTo>
                <a:lnTo>
                  <a:pt x="5963" y="1407"/>
                </a:lnTo>
                <a:lnTo>
                  <a:pt x="5964" y="994"/>
                </a:lnTo>
                <a:lnTo>
                  <a:pt x="5965" y="1185"/>
                </a:lnTo>
                <a:lnTo>
                  <a:pt x="5966" y="955"/>
                </a:lnTo>
                <a:lnTo>
                  <a:pt x="5968" y="1163"/>
                </a:lnTo>
                <a:lnTo>
                  <a:pt x="5969" y="1145"/>
                </a:lnTo>
                <a:lnTo>
                  <a:pt x="5971" y="1303"/>
                </a:lnTo>
                <a:lnTo>
                  <a:pt x="5972" y="1013"/>
                </a:lnTo>
                <a:lnTo>
                  <a:pt x="5973" y="1305"/>
                </a:lnTo>
                <a:lnTo>
                  <a:pt x="5974" y="808"/>
                </a:lnTo>
                <a:lnTo>
                  <a:pt x="5975" y="932"/>
                </a:lnTo>
                <a:lnTo>
                  <a:pt x="5976" y="1407"/>
                </a:lnTo>
                <a:lnTo>
                  <a:pt x="5977" y="901"/>
                </a:lnTo>
                <a:lnTo>
                  <a:pt x="5980" y="1128"/>
                </a:lnTo>
                <a:lnTo>
                  <a:pt x="5981" y="1179"/>
                </a:lnTo>
                <a:lnTo>
                  <a:pt x="5982" y="767"/>
                </a:lnTo>
                <a:lnTo>
                  <a:pt x="5983" y="557"/>
                </a:lnTo>
                <a:lnTo>
                  <a:pt x="5984" y="935"/>
                </a:lnTo>
                <a:lnTo>
                  <a:pt x="5985" y="317"/>
                </a:lnTo>
                <a:lnTo>
                  <a:pt x="5986" y="1510"/>
                </a:lnTo>
                <a:lnTo>
                  <a:pt x="5987" y="1479"/>
                </a:lnTo>
                <a:lnTo>
                  <a:pt x="5988" y="1482"/>
                </a:lnTo>
                <a:lnTo>
                  <a:pt x="5991" y="917"/>
                </a:lnTo>
                <a:lnTo>
                  <a:pt x="5992" y="1089"/>
                </a:lnTo>
                <a:lnTo>
                  <a:pt x="5993" y="1273"/>
                </a:lnTo>
                <a:lnTo>
                  <a:pt x="5994" y="874"/>
                </a:lnTo>
                <a:lnTo>
                  <a:pt x="5995" y="1055"/>
                </a:lnTo>
                <a:lnTo>
                  <a:pt x="5996" y="678"/>
                </a:lnTo>
                <a:lnTo>
                  <a:pt x="5997" y="765"/>
                </a:lnTo>
                <a:lnTo>
                  <a:pt x="5998" y="1015"/>
                </a:lnTo>
                <a:lnTo>
                  <a:pt x="6000" y="747"/>
                </a:lnTo>
                <a:lnTo>
                  <a:pt x="6001" y="640"/>
                </a:lnTo>
                <a:lnTo>
                  <a:pt x="6003" y="547"/>
                </a:lnTo>
                <a:lnTo>
                  <a:pt x="6004" y="843"/>
                </a:lnTo>
                <a:lnTo>
                  <a:pt x="6005" y="929"/>
                </a:lnTo>
                <a:lnTo>
                  <a:pt x="6006" y="1844"/>
                </a:lnTo>
                <a:lnTo>
                  <a:pt x="6007" y="982"/>
                </a:lnTo>
                <a:lnTo>
                  <a:pt x="6009" y="955"/>
                </a:lnTo>
                <a:lnTo>
                  <a:pt x="6010" y="996"/>
                </a:lnTo>
                <a:lnTo>
                  <a:pt x="6011" y="1406"/>
                </a:lnTo>
                <a:lnTo>
                  <a:pt x="6012" y="894"/>
                </a:lnTo>
                <a:lnTo>
                  <a:pt x="6014" y="396"/>
                </a:lnTo>
                <a:lnTo>
                  <a:pt x="6015" y="1706"/>
                </a:lnTo>
                <a:lnTo>
                  <a:pt x="6016" y="1161"/>
                </a:lnTo>
                <a:lnTo>
                  <a:pt x="6017" y="1143"/>
                </a:lnTo>
                <a:lnTo>
                  <a:pt x="6019" y="1069"/>
                </a:lnTo>
                <a:lnTo>
                  <a:pt x="6020" y="1199"/>
                </a:lnTo>
                <a:lnTo>
                  <a:pt x="6021" y="463"/>
                </a:lnTo>
                <a:lnTo>
                  <a:pt x="6022" y="1191"/>
                </a:lnTo>
                <a:lnTo>
                  <a:pt x="6023" y="1090"/>
                </a:lnTo>
                <a:lnTo>
                  <a:pt x="6025" y="1199"/>
                </a:lnTo>
                <a:lnTo>
                  <a:pt x="6026" y="787"/>
                </a:lnTo>
                <a:lnTo>
                  <a:pt x="6027" y="1188"/>
                </a:lnTo>
                <a:lnTo>
                  <a:pt x="6029" y="1098"/>
                </a:lnTo>
                <a:lnTo>
                  <a:pt x="6030" y="1221"/>
                </a:lnTo>
                <a:lnTo>
                  <a:pt x="6031" y="826"/>
                </a:lnTo>
                <a:lnTo>
                  <a:pt x="6032" y="849"/>
                </a:lnTo>
                <a:lnTo>
                  <a:pt x="6033" y="1249"/>
                </a:lnTo>
                <a:lnTo>
                  <a:pt x="6034" y="882"/>
                </a:lnTo>
                <a:lnTo>
                  <a:pt x="6036" y="1070"/>
                </a:lnTo>
                <a:lnTo>
                  <a:pt x="6038" y="888"/>
                </a:lnTo>
                <a:lnTo>
                  <a:pt x="6039" y="788"/>
                </a:lnTo>
                <a:lnTo>
                  <a:pt x="6040" y="947"/>
                </a:lnTo>
                <a:lnTo>
                  <a:pt x="6041" y="1093"/>
                </a:lnTo>
                <a:lnTo>
                  <a:pt x="6042" y="1201"/>
                </a:lnTo>
                <a:lnTo>
                  <a:pt x="6043" y="1488"/>
                </a:lnTo>
                <a:lnTo>
                  <a:pt x="6044" y="913"/>
                </a:lnTo>
                <a:lnTo>
                  <a:pt x="6045" y="630"/>
                </a:lnTo>
                <a:lnTo>
                  <a:pt x="6048" y="720"/>
                </a:lnTo>
                <a:lnTo>
                  <a:pt x="6049" y="1363"/>
                </a:lnTo>
                <a:lnTo>
                  <a:pt x="6050" y="1123"/>
                </a:lnTo>
                <a:lnTo>
                  <a:pt x="6051" y="1044"/>
                </a:lnTo>
                <a:lnTo>
                  <a:pt x="6052" y="1302"/>
                </a:lnTo>
                <a:lnTo>
                  <a:pt x="6053" y="912"/>
                </a:lnTo>
                <a:lnTo>
                  <a:pt x="6054" y="1140"/>
                </a:lnTo>
                <a:lnTo>
                  <a:pt x="6055" y="1560"/>
                </a:lnTo>
                <a:lnTo>
                  <a:pt x="6056" y="1532"/>
                </a:lnTo>
                <a:lnTo>
                  <a:pt x="6059" y="1274"/>
                </a:lnTo>
                <a:lnTo>
                  <a:pt x="6060" y="821"/>
                </a:lnTo>
                <a:lnTo>
                  <a:pt x="6061" y="1327"/>
                </a:lnTo>
                <a:lnTo>
                  <a:pt x="6062" y="1200"/>
                </a:lnTo>
                <a:lnTo>
                  <a:pt x="6063" y="951"/>
                </a:lnTo>
                <a:lnTo>
                  <a:pt x="6064" y="1362"/>
                </a:lnTo>
                <a:lnTo>
                  <a:pt x="6065" y="722"/>
                </a:lnTo>
                <a:lnTo>
                  <a:pt x="6067" y="915"/>
                </a:lnTo>
                <a:lnTo>
                  <a:pt x="6068" y="917"/>
                </a:lnTo>
                <a:lnTo>
                  <a:pt x="6069" y="993"/>
                </a:lnTo>
                <a:lnTo>
                  <a:pt x="6071" y="667"/>
                </a:lnTo>
                <a:lnTo>
                  <a:pt x="6072" y="609"/>
                </a:lnTo>
                <a:lnTo>
                  <a:pt x="6073" y="1403"/>
                </a:lnTo>
                <a:lnTo>
                  <a:pt x="6074" y="955"/>
                </a:lnTo>
                <a:lnTo>
                  <a:pt x="6075" y="1094"/>
                </a:lnTo>
                <a:lnTo>
                  <a:pt x="6077" y="1159"/>
                </a:lnTo>
                <a:lnTo>
                  <a:pt x="6078" y="841"/>
                </a:lnTo>
                <a:lnTo>
                  <a:pt x="6079" y="684"/>
                </a:lnTo>
                <a:lnTo>
                  <a:pt x="6080" y="435"/>
                </a:lnTo>
                <a:lnTo>
                  <a:pt x="6082" y="1245"/>
                </a:lnTo>
                <a:lnTo>
                  <a:pt x="6083" y="1485"/>
                </a:lnTo>
                <a:lnTo>
                  <a:pt x="6084" y="864"/>
                </a:lnTo>
                <a:lnTo>
                  <a:pt x="6085" y="696"/>
                </a:lnTo>
                <a:lnTo>
                  <a:pt x="6087" y="1411"/>
                </a:lnTo>
                <a:lnTo>
                  <a:pt x="6088" y="1236"/>
                </a:lnTo>
                <a:lnTo>
                  <a:pt x="6089" y="1128"/>
                </a:lnTo>
                <a:lnTo>
                  <a:pt x="6090" y="420"/>
                </a:lnTo>
                <a:lnTo>
                  <a:pt x="6091" y="1247"/>
                </a:lnTo>
                <a:lnTo>
                  <a:pt x="6093" y="947"/>
                </a:lnTo>
                <a:lnTo>
                  <a:pt x="6094" y="1148"/>
                </a:lnTo>
                <a:lnTo>
                  <a:pt x="6096" y="741"/>
                </a:lnTo>
                <a:lnTo>
                  <a:pt x="6097" y="1675"/>
                </a:lnTo>
                <a:lnTo>
                  <a:pt x="6098" y="1157"/>
                </a:lnTo>
                <a:lnTo>
                  <a:pt x="6099" y="935"/>
                </a:lnTo>
                <a:lnTo>
                  <a:pt x="6100" y="1502"/>
                </a:lnTo>
                <a:lnTo>
                  <a:pt x="6101" y="916"/>
                </a:lnTo>
                <a:lnTo>
                  <a:pt x="6102" y="1305"/>
                </a:lnTo>
                <a:lnTo>
                  <a:pt x="6104" y="1169"/>
                </a:lnTo>
                <a:lnTo>
                  <a:pt x="6106" y="1194"/>
                </a:lnTo>
                <a:lnTo>
                  <a:pt x="6107" y="1077"/>
                </a:lnTo>
                <a:lnTo>
                  <a:pt x="6108" y="824"/>
                </a:lnTo>
                <a:lnTo>
                  <a:pt x="6109" y="1336"/>
                </a:lnTo>
                <a:lnTo>
                  <a:pt x="6110" y="1329"/>
                </a:lnTo>
                <a:lnTo>
                  <a:pt x="6111" y="1188"/>
                </a:lnTo>
                <a:lnTo>
                  <a:pt x="6112" y="1084"/>
                </a:lnTo>
                <a:lnTo>
                  <a:pt x="6113" y="1013"/>
                </a:lnTo>
                <a:lnTo>
                  <a:pt x="6116" y="759"/>
                </a:lnTo>
                <a:lnTo>
                  <a:pt x="6117" y="1305"/>
                </a:lnTo>
                <a:lnTo>
                  <a:pt x="6118" y="1141"/>
                </a:lnTo>
                <a:lnTo>
                  <a:pt x="6119" y="1028"/>
                </a:lnTo>
                <a:lnTo>
                  <a:pt x="6120" y="1133"/>
                </a:lnTo>
                <a:lnTo>
                  <a:pt x="6121" y="1176"/>
                </a:lnTo>
                <a:lnTo>
                  <a:pt x="6122" y="980"/>
                </a:lnTo>
                <a:lnTo>
                  <a:pt x="6123" y="1616"/>
                </a:lnTo>
                <a:lnTo>
                  <a:pt x="6125" y="945"/>
                </a:lnTo>
                <a:lnTo>
                  <a:pt x="6126" y="1511"/>
                </a:lnTo>
                <a:lnTo>
                  <a:pt x="6128" y="771"/>
                </a:lnTo>
                <a:lnTo>
                  <a:pt x="6129" y="1324"/>
                </a:lnTo>
                <a:lnTo>
                  <a:pt x="6130" y="1377"/>
                </a:lnTo>
                <a:lnTo>
                  <a:pt x="6131" y="1025"/>
                </a:lnTo>
                <a:lnTo>
                  <a:pt x="6132" y="844"/>
                </a:lnTo>
                <a:lnTo>
                  <a:pt x="6133" y="1367"/>
                </a:lnTo>
                <a:lnTo>
                  <a:pt x="6135" y="586"/>
                </a:lnTo>
                <a:lnTo>
                  <a:pt x="6136" y="912"/>
                </a:lnTo>
                <a:lnTo>
                  <a:pt x="6137" y="1393"/>
                </a:lnTo>
                <a:lnTo>
                  <a:pt x="6139" y="1122"/>
                </a:lnTo>
                <a:lnTo>
                  <a:pt x="6140" y="1598"/>
                </a:lnTo>
                <a:lnTo>
                  <a:pt x="6141" y="1211"/>
                </a:lnTo>
                <a:lnTo>
                  <a:pt x="6142" y="1155"/>
                </a:lnTo>
                <a:lnTo>
                  <a:pt x="6143" y="1177"/>
                </a:lnTo>
                <a:lnTo>
                  <a:pt x="6145" y="929"/>
                </a:lnTo>
                <a:lnTo>
                  <a:pt x="6146" y="648"/>
                </a:lnTo>
                <a:lnTo>
                  <a:pt x="6147" y="1122"/>
                </a:lnTo>
                <a:lnTo>
                  <a:pt x="6148" y="1475"/>
                </a:lnTo>
                <a:lnTo>
                  <a:pt x="6150" y="846"/>
                </a:lnTo>
                <a:lnTo>
                  <a:pt x="6151" y="826"/>
                </a:lnTo>
                <a:lnTo>
                  <a:pt x="6152" y="789"/>
                </a:lnTo>
                <a:lnTo>
                  <a:pt x="6154" y="1575"/>
                </a:lnTo>
                <a:lnTo>
                  <a:pt x="6155" y="1034"/>
                </a:lnTo>
                <a:lnTo>
                  <a:pt x="6156" y="1192"/>
                </a:lnTo>
                <a:lnTo>
                  <a:pt x="6157" y="1397"/>
                </a:lnTo>
                <a:lnTo>
                  <a:pt x="6158" y="980"/>
                </a:lnTo>
                <a:lnTo>
                  <a:pt x="6159" y="1274"/>
                </a:lnTo>
                <a:lnTo>
                  <a:pt x="6161" y="905"/>
                </a:lnTo>
                <a:lnTo>
                  <a:pt x="6162" y="1289"/>
                </a:lnTo>
                <a:lnTo>
                  <a:pt x="6164" y="1064"/>
                </a:lnTo>
                <a:lnTo>
                  <a:pt x="6165" y="840"/>
                </a:lnTo>
                <a:lnTo>
                  <a:pt x="6166" y="778"/>
                </a:lnTo>
                <a:lnTo>
                  <a:pt x="6167" y="810"/>
                </a:lnTo>
                <a:lnTo>
                  <a:pt x="6168" y="1561"/>
                </a:lnTo>
                <a:lnTo>
                  <a:pt x="6169" y="897"/>
                </a:lnTo>
                <a:lnTo>
                  <a:pt x="6170" y="1000"/>
                </a:lnTo>
                <a:lnTo>
                  <a:pt x="6172" y="1295"/>
                </a:lnTo>
                <a:lnTo>
                  <a:pt x="6174" y="977"/>
                </a:lnTo>
                <a:lnTo>
                  <a:pt x="6175" y="1118"/>
                </a:lnTo>
                <a:lnTo>
                  <a:pt x="6176" y="870"/>
                </a:lnTo>
                <a:lnTo>
                  <a:pt x="6177" y="776"/>
                </a:lnTo>
                <a:lnTo>
                  <a:pt x="6178" y="850"/>
                </a:lnTo>
                <a:lnTo>
                  <a:pt x="6179" y="999"/>
                </a:lnTo>
                <a:lnTo>
                  <a:pt x="6180" y="833"/>
                </a:lnTo>
                <a:lnTo>
                  <a:pt x="6181" y="1029"/>
                </a:lnTo>
                <a:lnTo>
                  <a:pt x="6184" y="1464"/>
                </a:lnTo>
                <a:lnTo>
                  <a:pt x="6185" y="1228"/>
                </a:lnTo>
                <a:lnTo>
                  <a:pt x="6186" y="1012"/>
                </a:lnTo>
                <a:lnTo>
                  <a:pt x="6187" y="895"/>
                </a:lnTo>
                <a:lnTo>
                  <a:pt x="6188" y="1230"/>
                </a:lnTo>
                <a:lnTo>
                  <a:pt x="6189" y="1080"/>
                </a:lnTo>
                <a:lnTo>
                  <a:pt x="6190" y="1054"/>
                </a:lnTo>
                <a:lnTo>
                  <a:pt x="6191" y="1250"/>
                </a:lnTo>
                <a:lnTo>
                  <a:pt x="6193" y="792"/>
                </a:lnTo>
                <a:lnTo>
                  <a:pt x="6194" y="1116"/>
                </a:lnTo>
                <a:lnTo>
                  <a:pt x="6196" y="800"/>
                </a:lnTo>
                <a:lnTo>
                  <a:pt x="6197" y="655"/>
                </a:lnTo>
                <a:lnTo>
                  <a:pt x="6198" y="1034"/>
                </a:lnTo>
                <a:lnTo>
                  <a:pt x="6199" y="1093"/>
                </a:lnTo>
                <a:lnTo>
                  <a:pt x="6200" y="1009"/>
                </a:lnTo>
                <a:lnTo>
                  <a:pt x="6202" y="1273"/>
                </a:lnTo>
                <a:lnTo>
                  <a:pt x="6203" y="976"/>
                </a:lnTo>
                <a:lnTo>
                  <a:pt x="6204" y="1325"/>
                </a:lnTo>
                <a:lnTo>
                  <a:pt x="6205" y="935"/>
                </a:lnTo>
                <a:lnTo>
                  <a:pt x="6207" y="839"/>
                </a:lnTo>
                <a:lnTo>
                  <a:pt x="6208" y="673"/>
                </a:lnTo>
                <a:lnTo>
                  <a:pt x="6209" y="1276"/>
                </a:lnTo>
                <a:lnTo>
                  <a:pt x="6210" y="727"/>
                </a:lnTo>
                <a:lnTo>
                  <a:pt x="6212" y="713"/>
                </a:lnTo>
                <a:lnTo>
                  <a:pt x="6213" y="1218"/>
                </a:lnTo>
                <a:lnTo>
                  <a:pt x="6214" y="1166"/>
                </a:lnTo>
                <a:lnTo>
                  <a:pt x="6215" y="1197"/>
                </a:lnTo>
                <a:lnTo>
                  <a:pt x="6216" y="903"/>
                </a:lnTo>
                <a:lnTo>
                  <a:pt x="6218" y="948"/>
                </a:lnTo>
                <a:lnTo>
                  <a:pt x="6219" y="665"/>
                </a:lnTo>
                <a:lnTo>
                  <a:pt x="6220" y="613"/>
                </a:lnTo>
                <a:lnTo>
                  <a:pt x="6222" y="655"/>
                </a:lnTo>
                <a:lnTo>
                  <a:pt x="6223" y="948"/>
                </a:lnTo>
                <a:lnTo>
                  <a:pt x="6224" y="946"/>
                </a:lnTo>
                <a:lnTo>
                  <a:pt x="6225" y="554"/>
                </a:lnTo>
                <a:lnTo>
                  <a:pt x="6226" y="1017"/>
                </a:lnTo>
                <a:lnTo>
                  <a:pt x="6227" y="739"/>
                </a:lnTo>
                <a:lnTo>
                  <a:pt x="6229" y="996"/>
                </a:lnTo>
                <a:lnTo>
                  <a:pt x="6231" y="980"/>
                </a:lnTo>
                <a:lnTo>
                  <a:pt x="6232" y="1239"/>
                </a:lnTo>
                <a:lnTo>
                  <a:pt x="6233" y="976"/>
                </a:lnTo>
                <a:lnTo>
                  <a:pt x="6234" y="1159"/>
                </a:lnTo>
                <a:lnTo>
                  <a:pt x="6235" y="997"/>
                </a:lnTo>
                <a:lnTo>
                  <a:pt x="6236" y="1331"/>
                </a:lnTo>
                <a:lnTo>
                  <a:pt x="6237" y="992"/>
                </a:lnTo>
                <a:lnTo>
                  <a:pt x="6238" y="1098"/>
                </a:lnTo>
                <a:lnTo>
                  <a:pt x="6241" y="843"/>
                </a:lnTo>
                <a:lnTo>
                  <a:pt x="6242" y="752"/>
                </a:lnTo>
                <a:lnTo>
                  <a:pt x="6243" y="576"/>
                </a:lnTo>
                <a:lnTo>
                  <a:pt x="6244" y="1257"/>
                </a:lnTo>
                <a:lnTo>
                  <a:pt x="6245" y="840"/>
                </a:lnTo>
                <a:lnTo>
                  <a:pt x="6246" y="669"/>
                </a:lnTo>
                <a:lnTo>
                  <a:pt x="6247" y="874"/>
                </a:lnTo>
                <a:lnTo>
                  <a:pt x="6248" y="1192"/>
                </a:lnTo>
                <a:lnTo>
                  <a:pt x="6249" y="895"/>
                </a:lnTo>
                <a:lnTo>
                  <a:pt x="6251" y="1403"/>
                </a:lnTo>
                <a:lnTo>
                  <a:pt x="6253" y="778"/>
                </a:lnTo>
                <a:lnTo>
                  <a:pt x="6254" y="351"/>
                </a:lnTo>
                <a:lnTo>
                  <a:pt x="6255" y="1044"/>
                </a:lnTo>
                <a:lnTo>
                  <a:pt x="6256" y="826"/>
                </a:lnTo>
                <a:lnTo>
                  <a:pt x="6257" y="802"/>
                </a:lnTo>
                <a:lnTo>
                  <a:pt x="6258" y="1346"/>
                </a:lnTo>
                <a:lnTo>
                  <a:pt x="6260" y="1435"/>
                </a:lnTo>
                <a:lnTo>
                  <a:pt x="6261" y="1744"/>
                </a:lnTo>
                <a:lnTo>
                  <a:pt x="6262" y="1065"/>
                </a:lnTo>
                <a:lnTo>
                  <a:pt x="6264" y="1150"/>
                </a:lnTo>
                <a:lnTo>
                  <a:pt x="6265" y="1172"/>
                </a:lnTo>
                <a:lnTo>
                  <a:pt x="6266" y="1137"/>
                </a:lnTo>
                <a:lnTo>
                  <a:pt x="6267" y="905"/>
                </a:lnTo>
                <a:lnTo>
                  <a:pt x="6268" y="1493"/>
                </a:lnTo>
                <a:lnTo>
                  <a:pt x="6270" y="859"/>
                </a:lnTo>
                <a:lnTo>
                  <a:pt x="6271" y="931"/>
                </a:lnTo>
                <a:lnTo>
                  <a:pt x="6272" y="1010"/>
                </a:lnTo>
                <a:lnTo>
                  <a:pt x="6273" y="1479"/>
                </a:lnTo>
                <a:lnTo>
                  <a:pt x="6275" y="687"/>
                </a:lnTo>
                <a:lnTo>
                  <a:pt x="6276" y="1081"/>
                </a:lnTo>
                <a:lnTo>
                  <a:pt x="6277" y="1165"/>
                </a:lnTo>
                <a:lnTo>
                  <a:pt x="6278" y="1269"/>
                </a:lnTo>
                <a:lnTo>
                  <a:pt x="6280" y="1303"/>
                </a:lnTo>
                <a:lnTo>
                  <a:pt x="6281" y="979"/>
                </a:lnTo>
                <a:lnTo>
                  <a:pt x="6282" y="1129"/>
                </a:lnTo>
                <a:lnTo>
                  <a:pt x="6283" y="1383"/>
                </a:lnTo>
                <a:lnTo>
                  <a:pt x="6284" y="950"/>
                </a:lnTo>
                <a:lnTo>
                  <a:pt x="6286" y="999"/>
                </a:lnTo>
                <a:lnTo>
                  <a:pt x="6287" y="1050"/>
                </a:lnTo>
                <a:lnTo>
                  <a:pt x="6289" y="1399"/>
                </a:lnTo>
                <a:lnTo>
                  <a:pt x="6290" y="1191"/>
                </a:lnTo>
                <a:lnTo>
                  <a:pt x="6291" y="1080"/>
                </a:lnTo>
                <a:lnTo>
                  <a:pt x="6292" y="785"/>
                </a:lnTo>
                <a:lnTo>
                  <a:pt x="6293" y="1333"/>
                </a:lnTo>
                <a:lnTo>
                  <a:pt x="6294" y="723"/>
                </a:lnTo>
                <a:lnTo>
                  <a:pt x="6295" y="883"/>
                </a:lnTo>
                <a:lnTo>
                  <a:pt x="6297" y="1148"/>
                </a:lnTo>
                <a:lnTo>
                  <a:pt x="6299" y="720"/>
                </a:lnTo>
                <a:lnTo>
                  <a:pt x="6300" y="937"/>
                </a:lnTo>
                <a:lnTo>
                  <a:pt x="6301" y="918"/>
                </a:lnTo>
                <a:lnTo>
                  <a:pt x="6302" y="964"/>
                </a:lnTo>
                <a:lnTo>
                  <a:pt x="6303" y="795"/>
                </a:lnTo>
                <a:lnTo>
                  <a:pt x="6304" y="1072"/>
                </a:lnTo>
                <a:lnTo>
                  <a:pt x="6305" y="981"/>
                </a:lnTo>
                <a:lnTo>
                  <a:pt x="6306" y="819"/>
                </a:lnTo>
                <a:lnTo>
                  <a:pt x="6309" y="857"/>
                </a:lnTo>
                <a:lnTo>
                  <a:pt x="6310" y="1465"/>
                </a:lnTo>
                <a:lnTo>
                  <a:pt x="6311" y="848"/>
                </a:lnTo>
                <a:lnTo>
                  <a:pt x="6312" y="1088"/>
                </a:lnTo>
                <a:lnTo>
                  <a:pt x="6313" y="1267"/>
                </a:lnTo>
                <a:lnTo>
                  <a:pt x="6314" y="1141"/>
                </a:lnTo>
                <a:lnTo>
                  <a:pt x="6315" y="1233"/>
                </a:lnTo>
                <a:lnTo>
                  <a:pt x="6316" y="1023"/>
                </a:lnTo>
                <a:lnTo>
                  <a:pt x="6318" y="1111"/>
                </a:lnTo>
                <a:lnTo>
                  <a:pt x="6319" y="1334"/>
                </a:lnTo>
                <a:lnTo>
                  <a:pt x="6321" y="916"/>
                </a:lnTo>
                <a:lnTo>
                  <a:pt x="6322" y="1146"/>
                </a:lnTo>
                <a:lnTo>
                  <a:pt x="6323" y="738"/>
                </a:lnTo>
                <a:lnTo>
                  <a:pt x="6324" y="762"/>
                </a:lnTo>
                <a:lnTo>
                  <a:pt x="6325" y="774"/>
                </a:lnTo>
                <a:lnTo>
                  <a:pt x="6326" y="1360"/>
                </a:lnTo>
                <a:lnTo>
                  <a:pt x="6328" y="1204"/>
                </a:lnTo>
                <a:lnTo>
                  <a:pt x="6329" y="961"/>
                </a:lnTo>
                <a:lnTo>
                  <a:pt x="6330" y="841"/>
                </a:lnTo>
                <a:lnTo>
                  <a:pt x="6332" y="1429"/>
                </a:lnTo>
                <a:lnTo>
                  <a:pt x="6333" y="586"/>
                </a:lnTo>
                <a:lnTo>
                  <a:pt x="6334" y="1146"/>
                </a:lnTo>
                <a:lnTo>
                  <a:pt x="6335" y="1503"/>
                </a:lnTo>
                <a:lnTo>
                  <a:pt x="6336" y="1120"/>
                </a:lnTo>
                <a:lnTo>
                  <a:pt x="6338" y="1219"/>
                </a:lnTo>
                <a:lnTo>
                  <a:pt x="6339" y="1826"/>
                </a:lnTo>
                <a:lnTo>
                  <a:pt x="6340" y="652"/>
                </a:lnTo>
                <a:lnTo>
                  <a:pt x="6341" y="494"/>
                </a:lnTo>
                <a:lnTo>
                  <a:pt x="6343" y="704"/>
                </a:lnTo>
                <a:lnTo>
                  <a:pt x="6344" y="1158"/>
                </a:lnTo>
                <a:lnTo>
                  <a:pt x="6345" y="1316"/>
                </a:lnTo>
                <a:lnTo>
                  <a:pt x="6347" y="1060"/>
                </a:lnTo>
                <a:lnTo>
                  <a:pt x="6348" y="1354"/>
                </a:lnTo>
                <a:lnTo>
                  <a:pt x="6349" y="933"/>
                </a:lnTo>
                <a:lnTo>
                  <a:pt x="6350" y="723"/>
                </a:lnTo>
                <a:lnTo>
                  <a:pt x="6351" y="594"/>
                </a:lnTo>
                <a:lnTo>
                  <a:pt x="6352" y="668"/>
                </a:lnTo>
                <a:lnTo>
                  <a:pt x="6354" y="1516"/>
                </a:lnTo>
                <a:lnTo>
                  <a:pt x="6355" y="847"/>
                </a:lnTo>
                <a:lnTo>
                  <a:pt x="6357" y="892"/>
                </a:lnTo>
                <a:lnTo>
                  <a:pt x="6358" y="809"/>
                </a:lnTo>
                <a:lnTo>
                  <a:pt x="6359" y="1319"/>
                </a:lnTo>
                <a:lnTo>
                  <a:pt x="6360" y="1185"/>
                </a:lnTo>
                <a:lnTo>
                  <a:pt x="6361" y="1080"/>
                </a:lnTo>
                <a:lnTo>
                  <a:pt x="6362" y="1098"/>
                </a:lnTo>
                <a:lnTo>
                  <a:pt x="6363" y="1005"/>
                </a:lnTo>
                <a:lnTo>
                  <a:pt x="6365" y="973"/>
                </a:lnTo>
                <a:lnTo>
                  <a:pt x="6367" y="1188"/>
                </a:lnTo>
                <a:lnTo>
                  <a:pt x="6368" y="845"/>
                </a:lnTo>
                <a:lnTo>
                  <a:pt x="6369" y="1609"/>
                </a:lnTo>
                <a:lnTo>
                  <a:pt x="6370" y="1331"/>
                </a:lnTo>
                <a:lnTo>
                  <a:pt x="6371" y="741"/>
                </a:lnTo>
                <a:lnTo>
                  <a:pt x="6372" y="1160"/>
                </a:lnTo>
                <a:lnTo>
                  <a:pt x="6373" y="1619"/>
                </a:lnTo>
                <a:lnTo>
                  <a:pt x="6374" y="681"/>
                </a:lnTo>
                <a:lnTo>
                  <a:pt x="6376" y="826"/>
                </a:lnTo>
                <a:lnTo>
                  <a:pt x="6378" y="1207"/>
                </a:lnTo>
                <a:lnTo>
                  <a:pt x="6379" y="1146"/>
                </a:lnTo>
                <a:lnTo>
                  <a:pt x="6380" y="834"/>
                </a:lnTo>
                <a:lnTo>
                  <a:pt x="6380" y="857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4762440" y="3100320"/>
            <a:ext cx="3524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rot="16200000">
            <a:off x="1293480" y="1712880"/>
            <a:ext cx="254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-54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754200" y="4371120"/>
            <a:ext cx="763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¿Mej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7C3-CED3-4E65-96BE-3C503047A5FA}" type="slidenum">
              <a:t>75</a:t>
            </a:fld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0" name=""/>
          <p:cNvGrpSpPr/>
          <p:nvPr/>
        </p:nvGrpSpPr>
        <p:grpSpPr>
          <a:xfrm>
            <a:off x="1209600" y="3335400"/>
            <a:ext cx="6724800" cy="2423520"/>
            <a:chOff x="1209600" y="3335400"/>
            <a:chExt cx="6724800" cy="2423520"/>
          </a:xfrm>
        </p:grpSpPr>
        <p:sp>
          <p:nvSpPr>
            <p:cNvPr id="2121" name=""/>
            <p:cNvSpPr/>
            <p:nvPr/>
          </p:nvSpPr>
          <p:spPr>
            <a:xfrm>
              <a:off x="1890720" y="5276520"/>
              <a:ext cx="856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710400" y="5276520"/>
              <a:ext cx="4651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208400" y="5276520"/>
              <a:ext cx="4669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003480" y="5276520"/>
              <a:ext cx="3812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457960" y="5276520"/>
              <a:ext cx="4651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94328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19248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43880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68656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935760" y="5170320"/>
              <a:ext cx="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9432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19240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4433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69244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9415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1924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4401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6910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94020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1911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43880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6893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9402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1879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4388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6865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9371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18660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4357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68484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9357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18488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43436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684920" y="517032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728720" y="5084640"/>
              <a:ext cx="84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446120" y="3417480"/>
              <a:ext cx="4129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446120" y="4251240"/>
              <a:ext cx="4129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461960" y="4668480"/>
              <a:ext cx="381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461960" y="3835080"/>
              <a:ext cx="3812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1863360" y="517032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1863360" y="47541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1863360" y="433512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1863360" y="391788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1863360" y="350172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43280" y="3485880"/>
              <a:ext cx="5502240" cy="1668240"/>
            </a:xfrm>
            <a:custGeom>
              <a:avLst/>
              <a:gdLst/>
              <a:ahLst/>
              <a:rect l="l" t="t" r="r" b="b"/>
              <a:pathLst>
                <a:path w="5859" h="2184">
                  <a:moveTo>
                    <a:pt x="0" y="1142"/>
                  </a:moveTo>
                  <a:lnTo>
                    <a:pt x="3" y="1371"/>
                  </a:lnTo>
                  <a:lnTo>
                    <a:pt x="6" y="1306"/>
                  </a:lnTo>
                  <a:lnTo>
                    <a:pt x="9" y="1347"/>
                  </a:lnTo>
                  <a:lnTo>
                    <a:pt x="11" y="1428"/>
                  </a:lnTo>
                  <a:lnTo>
                    <a:pt x="15" y="1421"/>
                  </a:lnTo>
                  <a:lnTo>
                    <a:pt x="18" y="1550"/>
                  </a:lnTo>
                  <a:lnTo>
                    <a:pt x="20" y="1735"/>
                  </a:lnTo>
                  <a:lnTo>
                    <a:pt x="24" y="1464"/>
                  </a:lnTo>
                  <a:lnTo>
                    <a:pt x="26" y="1634"/>
                  </a:lnTo>
                  <a:lnTo>
                    <a:pt x="29" y="452"/>
                  </a:lnTo>
                  <a:lnTo>
                    <a:pt x="31" y="1764"/>
                  </a:lnTo>
                  <a:lnTo>
                    <a:pt x="35" y="1229"/>
                  </a:lnTo>
                  <a:lnTo>
                    <a:pt x="37" y="1729"/>
                  </a:lnTo>
                  <a:lnTo>
                    <a:pt x="40" y="1514"/>
                  </a:lnTo>
                  <a:lnTo>
                    <a:pt x="44" y="1185"/>
                  </a:lnTo>
                  <a:lnTo>
                    <a:pt x="46" y="2108"/>
                  </a:lnTo>
                  <a:lnTo>
                    <a:pt x="49" y="1466"/>
                  </a:lnTo>
                  <a:lnTo>
                    <a:pt x="51" y="1811"/>
                  </a:lnTo>
                  <a:lnTo>
                    <a:pt x="55" y="1007"/>
                  </a:lnTo>
                  <a:lnTo>
                    <a:pt x="57" y="1712"/>
                  </a:lnTo>
                  <a:lnTo>
                    <a:pt x="60" y="1093"/>
                  </a:lnTo>
                  <a:lnTo>
                    <a:pt x="64" y="1908"/>
                  </a:lnTo>
                  <a:lnTo>
                    <a:pt x="66" y="1993"/>
                  </a:lnTo>
                  <a:lnTo>
                    <a:pt x="69" y="2007"/>
                  </a:lnTo>
                  <a:lnTo>
                    <a:pt x="72" y="1625"/>
                  </a:lnTo>
                  <a:lnTo>
                    <a:pt x="75" y="634"/>
                  </a:lnTo>
                  <a:lnTo>
                    <a:pt x="77" y="1680"/>
                  </a:lnTo>
                  <a:lnTo>
                    <a:pt x="80" y="1274"/>
                  </a:lnTo>
                  <a:lnTo>
                    <a:pt x="84" y="1178"/>
                  </a:lnTo>
                  <a:lnTo>
                    <a:pt x="86" y="1926"/>
                  </a:lnTo>
                  <a:lnTo>
                    <a:pt x="89" y="1767"/>
                  </a:lnTo>
                  <a:lnTo>
                    <a:pt x="92" y="1571"/>
                  </a:lnTo>
                  <a:lnTo>
                    <a:pt x="95" y="1419"/>
                  </a:lnTo>
                  <a:lnTo>
                    <a:pt x="97" y="1634"/>
                  </a:lnTo>
                  <a:lnTo>
                    <a:pt x="101" y="911"/>
                  </a:lnTo>
                  <a:lnTo>
                    <a:pt x="103" y="1309"/>
                  </a:lnTo>
                  <a:lnTo>
                    <a:pt x="106" y="714"/>
                  </a:lnTo>
                  <a:lnTo>
                    <a:pt x="109" y="2037"/>
                  </a:lnTo>
                  <a:lnTo>
                    <a:pt x="112" y="1233"/>
                  </a:lnTo>
                  <a:lnTo>
                    <a:pt x="115" y="1830"/>
                  </a:lnTo>
                  <a:lnTo>
                    <a:pt x="117" y="1503"/>
                  </a:lnTo>
                  <a:lnTo>
                    <a:pt x="121" y="1219"/>
                  </a:lnTo>
                  <a:lnTo>
                    <a:pt x="123" y="1177"/>
                  </a:lnTo>
                  <a:lnTo>
                    <a:pt x="126" y="1477"/>
                  </a:lnTo>
                  <a:lnTo>
                    <a:pt x="130" y="1098"/>
                  </a:lnTo>
                  <a:lnTo>
                    <a:pt x="132" y="1407"/>
                  </a:lnTo>
                  <a:lnTo>
                    <a:pt x="135" y="1913"/>
                  </a:lnTo>
                  <a:lnTo>
                    <a:pt x="137" y="1562"/>
                  </a:lnTo>
                  <a:lnTo>
                    <a:pt x="141" y="1052"/>
                  </a:lnTo>
                  <a:lnTo>
                    <a:pt x="143" y="1137"/>
                  </a:lnTo>
                  <a:lnTo>
                    <a:pt x="146" y="1630"/>
                  </a:lnTo>
                  <a:lnTo>
                    <a:pt x="150" y="1432"/>
                  </a:lnTo>
                  <a:lnTo>
                    <a:pt x="152" y="1894"/>
                  </a:lnTo>
                  <a:lnTo>
                    <a:pt x="155" y="1404"/>
                  </a:lnTo>
                  <a:lnTo>
                    <a:pt x="157" y="766"/>
                  </a:lnTo>
                  <a:lnTo>
                    <a:pt x="161" y="2048"/>
                  </a:lnTo>
                  <a:lnTo>
                    <a:pt x="163" y="1558"/>
                  </a:lnTo>
                  <a:lnTo>
                    <a:pt x="166" y="905"/>
                  </a:lnTo>
                  <a:lnTo>
                    <a:pt x="169" y="1882"/>
                  </a:lnTo>
                  <a:lnTo>
                    <a:pt x="172" y="1772"/>
                  </a:lnTo>
                  <a:lnTo>
                    <a:pt x="175" y="1410"/>
                  </a:lnTo>
                  <a:lnTo>
                    <a:pt x="177" y="1479"/>
                  </a:lnTo>
                  <a:lnTo>
                    <a:pt x="181" y="1973"/>
                  </a:lnTo>
                  <a:lnTo>
                    <a:pt x="183" y="1958"/>
                  </a:lnTo>
                  <a:lnTo>
                    <a:pt x="186" y="1337"/>
                  </a:lnTo>
                  <a:lnTo>
                    <a:pt x="189" y="1844"/>
                  </a:lnTo>
                  <a:lnTo>
                    <a:pt x="192" y="1555"/>
                  </a:lnTo>
                  <a:lnTo>
                    <a:pt x="195" y="1855"/>
                  </a:lnTo>
                  <a:lnTo>
                    <a:pt x="198" y="1332"/>
                  </a:lnTo>
                  <a:lnTo>
                    <a:pt x="201" y="1444"/>
                  </a:lnTo>
                  <a:lnTo>
                    <a:pt x="203" y="1832"/>
                  </a:lnTo>
                  <a:lnTo>
                    <a:pt x="207" y="1220"/>
                  </a:lnTo>
                  <a:lnTo>
                    <a:pt x="209" y="1077"/>
                  </a:lnTo>
                  <a:lnTo>
                    <a:pt x="212" y="1739"/>
                  </a:lnTo>
                  <a:lnTo>
                    <a:pt x="215" y="1923"/>
                  </a:lnTo>
                  <a:lnTo>
                    <a:pt x="218" y="1591"/>
                  </a:lnTo>
                  <a:lnTo>
                    <a:pt x="221" y="1298"/>
                  </a:lnTo>
                  <a:lnTo>
                    <a:pt x="223" y="1848"/>
                  </a:lnTo>
                  <a:lnTo>
                    <a:pt x="227" y="1458"/>
                  </a:lnTo>
                  <a:lnTo>
                    <a:pt x="229" y="1514"/>
                  </a:lnTo>
                  <a:lnTo>
                    <a:pt x="232" y="1522"/>
                  </a:lnTo>
                  <a:lnTo>
                    <a:pt x="234" y="857"/>
                  </a:lnTo>
                  <a:lnTo>
                    <a:pt x="238" y="1793"/>
                  </a:lnTo>
                  <a:lnTo>
                    <a:pt x="241" y="1723"/>
                  </a:lnTo>
                  <a:lnTo>
                    <a:pt x="243" y="1553"/>
                  </a:lnTo>
                  <a:lnTo>
                    <a:pt x="247" y="1297"/>
                  </a:lnTo>
                  <a:lnTo>
                    <a:pt x="249" y="1733"/>
                  </a:lnTo>
                  <a:lnTo>
                    <a:pt x="252" y="1293"/>
                  </a:lnTo>
                  <a:lnTo>
                    <a:pt x="254" y="1380"/>
                  </a:lnTo>
                  <a:lnTo>
                    <a:pt x="258" y="1795"/>
                  </a:lnTo>
                  <a:lnTo>
                    <a:pt x="261" y="499"/>
                  </a:lnTo>
                  <a:lnTo>
                    <a:pt x="263" y="1333"/>
                  </a:lnTo>
                  <a:lnTo>
                    <a:pt x="267" y="1368"/>
                  </a:lnTo>
                  <a:lnTo>
                    <a:pt x="269" y="1099"/>
                  </a:lnTo>
                  <a:lnTo>
                    <a:pt x="272" y="1762"/>
                  </a:lnTo>
                  <a:lnTo>
                    <a:pt x="275" y="1187"/>
                  </a:lnTo>
                  <a:lnTo>
                    <a:pt x="278" y="1577"/>
                  </a:lnTo>
                  <a:lnTo>
                    <a:pt x="281" y="1295"/>
                  </a:lnTo>
                  <a:lnTo>
                    <a:pt x="283" y="1879"/>
                  </a:lnTo>
                  <a:lnTo>
                    <a:pt x="287" y="1777"/>
                  </a:lnTo>
                  <a:lnTo>
                    <a:pt x="289" y="1003"/>
                  </a:lnTo>
                  <a:lnTo>
                    <a:pt x="292" y="1614"/>
                  </a:lnTo>
                  <a:lnTo>
                    <a:pt x="295" y="1844"/>
                  </a:lnTo>
                  <a:lnTo>
                    <a:pt x="298" y="1534"/>
                  </a:lnTo>
                  <a:lnTo>
                    <a:pt x="301" y="1080"/>
                  </a:lnTo>
                  <a:lnTo>
                    <a:pt x="304" y="1845"/>
                  </a:lnTo>
                  <a:lnTo>
                    <a:pt x="307" y="1361"/>
                  </a:lnTo>
                  <a:lnTo>
                    <a:pt x="309" y="1627"/>
                  </a:lnTo>
                  <a:lnTo>
                    <a:pt x="312" y="468"/>
                  </a:lnTo>
                  <a:lnTo>
                    <a:pt x="315" y="1714"/>
                  </a:lnTo>
                  <a:lnTo>
                    <a:pt x="318" y="1829"/>
                  </a:lnTo>
                  <a:lnTo>
                    <a:pt x="320" y="1445"/>
                  </a:lnTo>
                  <a:lnTo>
                    <a:pt x="324" y="1152"/>
                  </a:lnTo>
                  <a:lnTo>
                    <a:pt x="327" y="1151"/>
                  </a:lnTo>
                  <a:lnTo>
                    <a:pt x="329" y="1009"/>
                  </a:lnTo>
                  <a:lnTo>
                    <a:pt x="333" y="1199"/>
                  </a:lnTo>
                  <a:lnTo>
                    <a:pt x="335" y="1822"/>
                  </a:lnTo>
                  <a:lnTo>
                    <a:pt x="338" y="1571"/>
                  </a:lnTo>
                  <a:lnTo>
                    <a:pt x="340" y="1671"/>
                  </a:lnTo>
                  <a:lnTo>
                    <a:pt x="344" y="1814"/>
                  </a:lnTo>
                  <a:lnTo>
                    <a:pt x="347" y="1666"/>
                  </a:lnTo>
                  <a:lnTo>
                    <a:pt x="349" y="1531"/>
                  </a:lnTo>
                  <a:lnTo>
                    <a:pt x="353" y="1833"/>
                  </a:lnTo>
                  <a:lnTo>
                    <a:pt x="355" y="1454"/>
                  </a:lnTo>
                  <a:lnTo>
                    <a:pt x="358" y="1710"/>
                  </a:lnTo>
                  <a:lnTo>
                    <a:pt x="360" y="1274"/>
                  </a:lnTo>
                  <a:lnTo>
                    <a:pt x="364" y="1585"/>
                  </a:lnTo>
                  <a:lnTo>
                    <a:pt x="367" y="1565"/>
                  </a:lnTo>
                  <a:lnTo>
                    <a:pt x="369" y="1472"/>
                  </a:lnTo>
                  <a:lnTo>
                    <a:pt x="373" y="1742"/>
                  </a:lnTo>
                  <a:lnTo>
                    <a:pt x="375" y="1532"/>
                  </a:lnTo>
                  <a:lnTo>
                    <a:pt x="378" y="1177"/>
                  </a:lnTo>
                  <a:lnTo>
                    <a:pt x="381" y="1891"/>
                  </a:lnTo>
                  <a:lnTo>
                    <a:pt x="384" y="1579"/>
                  </a:lnTo>
                  <a:lnTo>
                    <a:pt x="386" y="1054"/>
                  </a:lnTo>
                  <a:lnTo>
                    <a:pt x="389" y="472"/>
                  </a:lnTo>
                  <a:lnTo>
                    <a:pt x="393" y="1246"/>
                  </a:lnTo>
                  <a:lnTo>
                    <a:pt x="395" y="852"/>
                  </a:lnTo>
                  <a:lnTo>
                    <a:pt x="398" y="990"/>
                  </a:lnTo>
                  <a:lnTo>
                    <a:pt x="401" y="1075"/>
                  </a:lnTo>
                  <a:lnTo>
                    <a:pt x="404" y="1131"/>
                  </a:lnTo>
                  <a:lnTo>
                    <a:pt x="406" y="322"/>
                  </a:lnTo>
                  <a:lnTo>
                    <a:pt x="410" y="1821"/>
                  </a:lnTo>
                  <a:lnTo>
                    <a:pt x="413" y="1380"/>
                  </a:lnTo>
                  <a:lnTo>
                    <a:pt x="415" y="1275"/>
                  </a:lnTo>
                  <a:lnTo>
                    <a:pt x="418" y="1599"/>
                  </a:lnTo>
                  <a:lnTo>
                    <a:pt x="421" y="1705"/>
                  </a:lnTo>
                  <a:lnTo>
                    <a:pt x="424" y="1901"/>
                  </a:lnTo>
                  <a:lnTo>
                    <a:pt x="426" y="700"/>
                  </a:lnTo>
                  <a:lnTo>
                    <a:pt x="430" y="1637"/>
                  </a:lnTo>
                  <a:lnTo>
                    <a:pt x="433" y="1797"/>
                  </a:lnTo>
                  <a:lnTo>
                    <a:pt x="435" y="1706"/>
                  </a:lnTo>
                  <a:lnTo>
                    <a:pt x="439" y="1726"/>
                  </a:lnTo>
                  <a:lnTo>
                    <a:pt x="441" y="1745"/>
                  </a:lnTo>
                  <a:lnTo>
                    <a:pt x="444" y="1070"/>
                  </a:lnTo>
                  <a:lnTo>
                    <a:pt x="446" y="1192"/>
                  </a:lnTo>
                  <a:lnTo>
                    <a:pt x="450" y="1650"/>
                  </a:lnTo>
                  <a:lnTo>
                    <a:pt x="452" y="1858"/>
                  </a:lnTo>
                  <a:lnTo>
                    <a:pt x="455" y="1537"/>
                  </a:lnTo>
                  <a:lnTo>
                    <a:pt x="459" y="1215"/>
                  </a:lnTo>
                  <a:lnTo>
                    <a:pt x="461" y="1676"/>
                  </a:lnTo>
                  <a:lnTo>
                    <a:pt x="464" y="1007"/>
                  </a:lnTo>
                  <a:lnTo>
                    <a:pt x="466" y="1240"/>
                  </a:lnTo>
                  <a:lnTo>
                    <a:pt x="470" y="1204"/>
                  </a:lnTo>
                  <a:lnTo>
                    <a:pt x="472" y="1793"/>
                  </a:lnTo>
                  <a:lnTo>
                    <a:pt x="475" y="1431"/>
                  </a:lnTo>
                  <a:lnTo>
                    <a:pt x="479" y="849"/>
                  </a:lnTo>
                  <a:lnTo>
                    <a:pt x="481" y="2030"/>
                  </a:lnTo>
                  <a:lnTo>
                    <a:pt x="484" y="833"/>
                  </a:lnTo>
                  <a:lnTo>
                    <a:pt x="487" y="896"/>
                  </a:lnTo>
                  <a:lnTo>
                    <a:pt x="490" y="2102"/>
                  </a:lnTo>
                  <a:lnTo>
                    <a:pt x="492" y="1329"/>
                  </a:lnTo>
                  <a:lnTo>
                    <a:pt x="495" y="864"/>
                  </a:lnTo>
                  <a:lnTo>
                    <a:pt x="499" y="1706"/>
                  </a:lnTo>
                  <a:lnTo>
                    <a:pt x="501" y="1656"/>
                  </a:lnTo>
                  <a:lnTo>
                    <a:pt x="504" y="718"/>
                  </a:lnTo>
                  <a:lnTo>
                    <a:pt x="507" y="1864"/>
                  </a:lnTo>
                  <a:lnTo>
                    <a:pt x="510" y="2120"/>
                  </a:lnTo>
                  <a:lnTo>
                    <a:pt x="512" y="1303"/>
                  </a:lnTo>
                  <a:lnTo>
                    <a:pt x="516" y="1152"/>
                  </a:lnTo>
                  <a:lnTo>
                    <a:pt x="518" y="1377"/>
                  </a:lnTo>
                  <a:lnTo>
                    <a:pt x="521" y="1606"/>
                  </a:lnTo>
                  <a:lnTo>
                    <a:pt x="524" y="1077"/>
                  </a:lnTo>
                  <a:lnTo>
                    <a:pt x="527" y="1811"/>
                  </a:lnTo>
                  <a:lnTo>
                    <a:pt x="530" y="1367"/>
                  </a:lnTo>
                  <a:lnTo>
                    <a:pt x="532" y="1416"/>
                  </a:lnTo>
                  <a:lnTo>
                    <a:pt x="536" y="1811"/>
                  </a:lnTo>
                  <a:lnTo>
                    <a:pt x="538" y="1165"/>
                  </a:lnTo>
                  <a:lnTo>
                    <a:pt x="541" y="1344"/>
                  </a:lnTo>
                  <a:lnTo>
                    <a:pt x="545" y="1121"/>
                  </a:lnTo>
                  <a:lnTo>
                    <a:pt x="547" y="1118"/>
                  </a:lnTo>
                  <a:lnTo>
                    <a:pt x="550" y="974"/>
                  </a:lnTo>
                  <a:lnTo>
                    <a:pt x="552" y="1595"/>
                  </a:lnTo>
                  <a:lnTo>
                    <a:pt x="556" y="1432"/>
                  </a:lnTo>
                  <a:lnTo>
                    <a:pt x="558" y="1699"/>
                  </a:lnTo>
                  <a:lnTo>
                    <a:pt x="561" y="1670"/>
                  </a:lnTo>
                  <a:lnTo>
                    <a:pt x="565" y="418"/>
                  </a:lnTo>
                  <a:lnTo>
                    <a:pt x="567" y="1221"/>
                  </a:lnTo>
                  <a:lnTo>
                    <a:pt x="570" y="1495"/>
                  </a:lnTo>
                  <a:lnTo>
                    <a:pt x="572" y="1715"/>
                  </a:lnTo>
                  <a:lnTo>
                    <a:pt x="576" y="1841"/>
                  </a:lnTo>
                  <a:lnTo>
                    <a:pt x="578" y="1733"/>
                  </a:lnTo>
                  <a:lnTo>
                    <a:pt x="581" y="1581"/>
                  </a:lnTo>
                  <a:lnTo>
                    <a:pt x="584" y="1624"/>
                  </a:lnTo>
                  <a:lnTo>
                    <a:pt x="587" y="1831"/>
                  </a:lnTo>
                  <a:lnTo>
                    <a:pt x="590" y="1257"/>
                  </a:lnTo>
                  <a:lnTo>
                    <a:pt x="592" y="1230"/>
                  </a:lnTo>
                  <a:lnTo>
                    <a:pt x="596" y="1848"/>
                  </a:lnTo>
                  <a:lnTo>
                    <a:pt x="598" y="795"/>
                  </a:lnTo>
                  <a:lnTo>
                    <a:pt x="601" y="2147"/>
                  </a:lnTo>
                  <a:lnTo>
                    <a:pt x="604" y="569"/>
                  </a:lnTo>
                  <a:lnTo>
                    <a:pt x="607" y="1126"/>
                  </a:lnTo>
                  <a:lnTo>
                    <a:pt x="610" y="1908"/>
                  </a:lnTo>
                  <a:lnTo>
                    <a:pt x="613" y="645"/>
                  </a:lnTo>
                  <a:lnTo>
                    <a:pt x="616" y="1394"/>
                  </a:lnTo>
                  <a:lnTo>
                    <a:pt x="618" y="1448"/>
                  </a:lnTo>
                  <a:lnTo>
                    <a:pt x="621" y="1655"/>
                  </a:lnTo>
                  <a:lnTo>
                    <a:pt x="624" y="1383"/>
                  </a:lnTo>
                  <a:lnTo>
                    <a:pt x="627" y="1393"/>
                  </a:lnTo>
                  <a:lnTo>
                    <a:pt x="630" y="954"/>
                  </a:lnTo>
                  <a:lnTo>
                    <a:pt x="633" y="686"/>
                  </a:lnTo>
                  <a:lnTo>
                    <a:pt x="636" y="1619"/>
                  </a:lnTo>
                  <a:lnTo>
                    <a:pt x="638" y="918"/>
                  </a:lnTo>
                  <a:lnTo>
                    <a:pt x="642" y="867"/>
                  </a:lnTo>
                  <a:lnTo>
                    <a:pt x="644" y="1650"/>
                  </a:lnTo>
                  <a:lnTo>
                    <a:pt x="647" y="1171"/>
                  </a:lnTo>
                  <a:lnTo>
                    <a:pt x="649" y="1591"/>
                  </a:lnTo>
                  <a:lnTo>
                    <a:pt x="653" y="1285"/>
                  </a:lnTo>
                  <a:lnTo>
                    <a:pt x="656" y="1380"/>
                  </a:lnTo>
                  <a:lnTo>
                    <a:pt x="658" y="1892"/>
                  </a:lnTo>
                  <a:lnTo>
                    <a:pt x="662" y="1606"/>
                  </a:lnTo>
                  <a:lnTo>
                    <a:pt x="664" y="1345"/>
                  </a:lnTo>
                  <a:lnTo>
                    <a:pt x="667" y="1910"/>
                  </a:lnTo>
                  <a:lnTo>
                    <a:pt x="669" y="1713"/>
                  </a:lnTo>
                  <a:lnTo>
                    <a:pt x="673" y="731"/>
                  </a:lnTo>
                  <a:lnTo>
                    <a:pt x="676" y="1373"/>
                  </a:lnTo>
                  <a:lnTo>
                    <a:pt x="678" y="1423"/>
                  </a:lnTo>
                  <a:lnTo>
                    <a:pt x="682" y="1292"/>
                  </a:lnTo>
                  <a:lnTo>
                    <a:pt x="684" y="1179"/>
                  </a:lnTo>
                  <a:lnTo>
                    <a:pt x="687" y="1897"/>
                  </a:lnTo>
                  <a:lnTo>
                    <a:pt x="690" y="1825"/>
                  </a:lnTo>
                  <a:lnTo>
                    <a:pt x="693" y="1191"/>
                  </a:lnTo>
                  <a:lnTo>
                    <a:pt x="696" y="1356"/>
                  </a:lnTo>
                  <a:lnTo>
                    <a:pt x="698" y="1136"/>
                  </a:lnTo>
                  <a:lnTo>
                    <a:pt x="702" y="1657"/>
                  </a:lnTo>
                  <a:lnTo>
                    <a:pt x="704" y="1761"/>
                  </a:lnTo>
                  <a:lnTo>
                    <a:pt x="707" y="1589"/>
                  </a:lnTo>
                  <a:lnTo>
                    <a:pt x="710" y="1263"/>
                  </a:lnTo>
                  <a:lnTo>
                    <a:pt x="713" y="1337"/>
                  </a:lnTo>
                  <a:lnTo>
                    <a:pt x="715" y="1648"/>
                  </a:lnTo>
                  <a:lnTo>
                    <a:pt x="719" y="1651"/>
                  </a:lnTo>
                  <a:lnTo>
                    <a:pt x="722" y="1726"/>
                  </a:lnTo>
                  <a:lnTo>
                    <a:pt x="724" y="1666"/>
                  </a:lnTo>
                  <a:lnTo>
                    <a:pt x="727" y="1321"/>
                  </a:lnTo>
                  <a:lnTo>
                    <a:pt x="730" y="1881"/>
                  </a:lnTo>
                  <a:lnTo>
                    <a:pt x="733" y="1204"/>
                  </a:lnTo>
                  <a:lnTo>
                    <a:pt x="735" y="1451"/>
                  </a:lnTo>
                  <a:lnTo>
                    <a:pt x="739" y="1522"/>
                  </a:lnTo>
                  <a:lnTo>
                    <a:pt x="742" y="1452"/>
                  </a:lnTo>
                  <a:lnTo>
                    <a:pt x="744" y="2155"/>
                  </a:lnTo>
                  <a:lnTo>
                    <a:pt x="748" y="376"/>
                  </a:lnTo>
                  <a:lnTo>
                    <a:pt x="750" y="1580"/>
                  </a:lnTo>
                  <a:lnTo>
                    <a:pt x="753" y="1746"/>
                  </a:lnTo>
                  <a:lnTo>
                    <a:pt x="755" y="1657"/>
                  </a:lnTo>
                  <a:lnTo>
                    <a:pt x="759" y="775"/>
                  </a:lnTo>
                  <a:lnTo>
                    <a:pt x="762" y="1905"/>
                  </a:lnTo>
                  <a:lnTo>
                    <a:pt x="764" y="1416"/>
                  </a:lnTo>
                  <a:lnTo>
                    <a:pt x="768" y="1629"/>
                  </a:lnTo>
                  <a:lnTo>
                    <a:pt x="770" y="1765"/>
                  </a:lnTo>
                  <a:lnTo>
                    <a:pt x="773" y="1832"/>
                  </a:lnTo>
                  <a:lnTo>
                    <a:pt x="775" y="1559"/>
                  </a:lnTo>
                  <a:lnTo>
                    <a:pt x="779" y="2096"/>
                  </a:lnTo>
                  <a:lnTo>
                    <a:pt x="782" y="1206"/>
                  </a:lnTo>
                  <a:lnTo>
                    <a:pt x="784" y="1319"/>
                  </a:lnTo>
                  <a:lnTo>
                    <a:pt x="788" y="2107"/>
                  </a:lnTo>
                  <a:lnTo>
                    <a:pt x="790" y="1230"/>
                  </a:lnTo>
                  <a:lnTo>
                    <a:pt x="793" y="1573"/>
                  </a:lnTo>
                  <a:lnTo>
                    <a:pt x="796" y="1949"/>
                  </a:lnTo>
                  <a:lnTo>
                    <a:pt x="799" y="928"/>
                  </a:lnTo>
                  <a:lnTo>
                    <a:pt x="801" y="1124"/>
                  </a:lnTo>
                  <a:lnTo>
                    <a:pt x="804" y="1383"/>
                  </a:lnTo>
                  <a:lnTo>
                    <a:pt x="808" y="1263"/>
                  </a:lnTo>
                  <a:lnTo>
                    <a:pt x="810" y="1141"/>
                  </a:lnTo>
                  <a:lnTo>
                    <a:pt x="813" y="1419"/>
                  </a:lnTo>
                  <a:lnTo>
                    <a:pt x="816" y="1395"/>
                  </a:lnTo>
                  <a:lnTo>
                    <a:pt x="819" y="1804"/>
                  </a:lnTo>
                  <a:lnTo>
                    <a:pt x="821" y="1766"/>
                  </a:lnTo>
                  <a:lnTo>
                    <a:pt x="825" y="1800"/>
                  </a:lnTo>
                  <a:lnTo>
                    <a:pt x="828" y="751"/>
                  </a:lnTo>
                  <a:lnTo>
                    <a:pt x="830" y="1187"/>
                  </a:lnTo>
                  <a:lnTo>
                    <a:pt x="833" y="1541"/>
                  </a:lnTo>
                  <a:lnTo>
                    <a:pt x="836" y="1706"/>
                  </a:lnTo>
                  <a:lnTo>
                    <a:pt x="839" y="1111"/>
                  </a:lnTo>
                  <a:lnTo>
                    <a:pt x="841" y="1224"/>
                  </a:lnTo>
                  <a:lnTo>
                    <a:pt x="845" y="1521"/>
                  </a:lnTo>
                  <a:lnTo>
                    <a:pt x="848" y="1319"/>
                  </a:lnTo>
                  <a:lnTo>
                    <a:pt x="850" y="1459"/>
                  </a:lnTo>
                  <a:lnTo>
                    <a:pt x="854" y="1677"/>
                  </a:lnTo>
                  <a:lnTo>
                    <a:pt x="856" y="1732"/>
                  </a:lnTo>
                  <a:lnTo>
                    <a:pt x="859" y="997"/>
                  </a:lnTo>
                  <a:lnTo>
                    <a:pt x="861" y="1805"/>
                  </a:lnTo>
                  <a:lnTo>
                    <a:pt x="865" y="1540"/>
                  </a:lnTo>
                  <a:lnTo>
                    <a:pt x="867" y="1516"/>
                  </a:lnTo>
                  <a:lnTo>
                    <a:pt x="870" y="1129"/>
                  </a:lnTo>
                  <a:lnTo>
                    <a:pt x="874" y="1741"/>
                  </a:lnTo>
                  <a:lnTo>
                    <a:pt x="876" y="1478"/>
                  </a:lnTo>
                  <a:lnTo>
                    <a:pt x="879" y="2080"/>
                  </a:lnTo>
                  <a:lnTo>
                    <a:pt x="881" y="1327"/>
                  </a:lnTo>
                  <a:lnTo>
                    <a:pt x="885" y="836"/>
                  </a:lnTo>
                  <a:lnTo>
                    <a:pt x="887" y="758"/>
                  </a:lnTo>
                  <a:lnTo>
                    <a:pt x="890" y="1044"/>
                  </a:lnTo>
                  <a:lnTo>
                    <a:pt x="894" y="583"/>
                  </a:lnTo>
                  <a:lnTo>
                    <a:pt x="896" y="2037"/>
                  </a:lnTo>
                  <a:lnTo>
                    <a:pt x="899" y="895"/>
                  </a:lnTo>
                  <a:lnTo>
                    <a:pt x="901" y="986"/>
                  </a:lnTo>
                  <a:lnTo>
                    <a:pt x="905" y="1686"/>
                  </a:lnTo>
                  <a:lnTo>
                    <a:pt x="907" y="1659"/>
                  </a:lnTo>
                  <a:lnTo>
                    <a:pt x="910" y="1512"/>
                  </a:lnTo>
                  <a:lnTo>
                    <a:pt x="914" y="1458"/>
                  </a:lnTo>
                  <a:lnTo>
                    <a:pt x="916" y="1803"/>
                  </a:lnTo>
                  <a:lnTo>
                    <a:pt x="919" y="1420"/>
                  </a:lnTo>
                  <a:lnTo>
                    <a:pt x="922" y="1864"/>
                  </a:lnTo>
                  <a:lnTo>
                    <a:pt x="925" y="1143"/>
                  </a:lnTo>
                  <a:lnTo>
                    <a:pt x="927" y="1667"/>
                  </a:lnTo>
                  <a:lnTo>
                    <a:pt x="930" y="1366"/>
                  </a:lnTo>
                  <a:lnTo>
                    <a:pt x="933" y="1519"/>
                  </a:lnTo>
                  <a:lnTo>
                    <a:pt x="936" y="1813"/>
                  </a:lnTo>
                  <a:lnTo>
                    <a:pt x="939" y="1464"/>
                  </a:lnTo>
                  <a:lnTo>
                    <a:pt x="942" y="1247"/>
                  </a:lnTo>
                  <a:lnTo>
                    <a:pt x="945" y="1009"/>
                  </a:lnTo>
                  <a:lnTo>
                    <a:pt x="947" y="1413"/>
                  </a:lnTo>
                  <a:lnTo>
                    <a:pt x="951" y="960"/>
                  </a:lnTo>
                  <a:lnTo>
                    <a:pt x="953" y="1649"/>
                  </a:lnTo>
                  <a:lnTo>
                    <a:pt x="956" y="1337"/>
                  </a:lnTo>
                  <a:lnTo>
                    <a:pt x="960" y="866"/>
                  </a:lnTo>
                  <a:lnTo>
                    <a:pt x="962" y="2030"/>
                  </a:lnTo>
                  <a:lnTo>
                    <a:pt x="965" y="1621"/>
                  </a:lnTo>
                  <a:lnTo>
                    <a:pt x="967" y="1021"/>
                  </a:lnTo>
                  <a:lnTo>
                    <a:pt x="971" y="1181"/>
                  </a:lnTo>
                  <a:lnTo>
                    <a:pt x="973" y="1247"/>
                  </a:lnTo>
                  <a:lnTo>
                    <a:pt x="976" y="1721"/>
                  </a:lnTo>
                  <a:lnTo>
                    <a:pt x="980" y="1423"/>
                  </a:lnTo>
                  <a:lnTo>
                    <a:pt x="982" y="1230"/>
                  </a:lnTo>
                  <a:lnTo>
                    <a:pt x="985" y="1524"/>
                  </a:lnTo>
                  <a:lnTo>
                    <a:pt x="987" y="1413"/>
                  </a:lnTo>
                  <a:lnTo>
                    <a:pt x="991" y="1537"/>
                  </a:lnTo>
                  <a:lnTo>
                    <a:pt x="993" y="1581"/>
                  </a:lnTo>
                  <a:lnTo>
                    <a:pt x="996" y="1732"/>
                  </a:lnTo>
                  <a:lnTo>
                    <a:pt x="999" y="1846"/>
                  </a:lnTo>
                  <a:lnTo>
                    <a:pt x="1002" y="778"/>
                  </a:lnTo>
                  <a:lnTo>
                    <a:pt x="1005" y="1981"/>
                  </a:lnTo>
                  <a:lnTo>
                    <a:pt x="1007" y="1929"/>
                  </a:lnTo>
                  <a:lnTo>
                    <a:pt x="1011" y="1054"/>
                  </a:lnTo>
                  <a:lnTo>
                    <a:pt x="1013" y="2007"/>
                  </a:lnTo>
                  <a:lnTo>
                    <a:pt x="1016" y="347"/>
                  </a:lnTo>
                  <a:lnTo>
                    <a:pt x="1019" y="2046"/>
                  </a:lnTo>
                  <a:lnTo>
                    <a:pt x="1022" y="1702"/>
                  </a:lnTo>
                  <a:lnTo>
                    <a:pt x="1025" y="1439"/>
                  </a:lnTo>
                  <a:lnTo>
                    <a:pt x="1028" y="1020"/>
                  </a:lnTo>
                  <a:lnTo>
                    <a:pt x="1031" y="758"/>
                  </a:lnTo>
                  <a:lnTo>
                    <a:pt x="1033" y="1494"/>
                  </a:lnTo>
                  <a:lnTo>
                    <a:pt x="1036" y="1357"/>
                  </a:lnTo>
                  <a:lnTo>
                    <a:pt x="1039" y="1764"/>
                  </a:lnTo>
                  <a:lnTo>
                    <a:pt x="1042" y="1996"/>
                  </a:lnTo>
                  <a:lnTo>
                    <a:pt x="1045" y="1591"/>
                  </a:lnTo>
                  <a:lnTo>
                    <a:pt x="1048" y="1499"/>
                  </a:lnTo>
                  <a:lnTo>
                    <a:pt x="1051" y="1266"/>
                  </a:lnTo>
                  <a:lnTo>
                    <a:pt x="1053" y="1626"/>
                  </a:lnTo>
                  <a:lnTo>
                    <a:pt x="1057" y="1568"/>
                  </a:lnTo>
                  <a:lnTo>
                    <a:pt x="1059" y="951"/>
                  </a:lnTo>
                  <a:lnTo>
                    <a:pt x="1062" y="1999"/>
                  </a:lnTo>
                  <a:lnTo>
                    <a:pt x="1064" y="1973"/>
                  </a:lnTo>
                  <a:lnTo>
                    <a:pt x="1068" y="670"/>
                  </a:lnTo>
                  <a:lnTo>
                    <a:pt x="1071" y="1965"/>
                  </a:lnTo>
                  <a:lnTo>
                    <a:pt x="1073" y="1732"/>
                  </a:lnTo>
                  <a:lnTo>
                    <a:pt x="1077" y="1005"/>
                  </a:lnTo>
                  <a:lnTo>
                    <a:pt x="1079" y="1949"/>
                  </a:lnTo>
                  <a:lnTo>
                    <a:pt x="1082" y="1420"/>
                  </a:lnTo>
                  <a:lnTo>
                    <a:pt x="1084" y="1852"/>
                  </a:lnTo>
                  <a:lnTo>
                    <a:pt x="1088" y="1313"/>
                  </a:lnTo>
                  <a:lnTo>
                    <a:pt x="1091" y="1484"/>
                  </a:lnTo>
                  <a:lnTo>
                    <a:pt x="1093" y="1549"/>
                  </a:lnTo>
                  <a:lnTo>
                    <a:pt x="1097" y="1400"/>
                  </a:lnTo>
                  <a:lnTo>
                    <a:pt x="1099" y="1433"/>
                  </a:lnTo>
                  <a:lnTo>
                    <a:pt x="1102" y="1326"/>
                  </a:lnTo>
                  <a:lnTo>
                    <a:pt x="1105" y="1820"/>
                  </a:lnTo>
                  <a:lnTo>
                    <a:pt x="1108" y="1614"/>
                  </a:lnTo>
                  <a:lnTo>
                    <a:pt x="1111" y="1840"/>
                  </a:lnTo>
                  <a:lnTo>
                    <a:pt x="1113" y="1682"/>
                  </a:lnTo>
                  <a:lnTo>
                    <a:pt x="1117" y="1670"/>
                  </a:lnTo>
                  <a:lnTo>
                    <a:pt x="1119" y="1848"/>
                  </a:lnTo>
                  <a:lnTo>
                    <a:pt x="1122" y="1696"/>
                  </a:lnTo>
                  <a:lnTo>
                    <a:pt x="1125" y="1226"/>
                  </a:lnTo>
                  <a:lnTo>
                    <a:pt x="1128" y="1897"/>
                  </a:lnTo>
                  <a:lnTo>
                    <a:pt x="1130" y="2161"/>
                  </a:lnTo>
                  <a:lnTo>
                    <a:pt x="1134" y="815"/>
                  </a:lnTo>
                  <a:lnTo>
                    <a:pt x="1137" y="2060"/>
                  </a:lnTo>
                  <a:lnTo>
                    <a:pt x="1139" y="947"/>
                  </a:lnTo>
                  <a:lnTo>
                    <a:pt x="1142" y="1597"/>
                  </a:lnTo>
                  <a:lnTo>
                    <a:pt x="1145" y="1397"/>
                  </a:lnTo>
                  <a:lnTo>
                    <a:pt x="1148" y="1772"/>
                  </a:lnTo>
                  <a:lnTo>
                    <a:pt x="1150" y="1200"/>
                  </a:lnTo>
                  <a:lnTo>
                    <a:pt x="1154" y="626"/>
                  </a:lnTo>
                  <a:lnTo>
                    <a:pt x="1157" y="1149"/>
                  </a:lnTo>
                  <a:lnTo>
                    <a:pt x="1159" y="1695"/>
                  </a:lnTo>
                  <a:lnTo>
                    <a:pt x="1163" y="755"/>
                  </a:lnTo>
                  <a:lnTo>
                    <a:pt x="1165" y="1433"/>
                  </a:lnTo>
                  <a:lnTo>
                    <a:pt x="1168" y="1389"/>
                  </a:lnTo>
                  <a:lnTo>
                    <a:pt x="1170" y="795"/>
                  </a:lnTo>
                  <a:lnTo>
                    <a:pt x="1174" y="1630"/>
                  </a:lnTo>
                  <a:lnTo>
                    <a:pt x="1177" y="1604"/>
                  </a:lnTo>
                  <a:lnTo>
                    <a:pt x="1179" y="1243"/>
                  </a:lnTo>
                  <a:lnTo>
                    <a:pt x="1183" y="1319"/>
                  </a:lnTo>
                  <a:lnTo>
                    <a:pt x="1185" y="1079"/>
                  </a:lnTo>
                  <a:lnTo>
                    <a:pt x="1188" y="1549"/>
                  </a:lnTo>
                  <a:lnTo>
                    <a:pt x="1190" y="1757"/>
                  </a:lnTo>
                  <a:lnTo>
                    <a:pt x="1194" y="1823"/>
                  </a:lnTo>
                  <a:lnTo>
                    <a:pt x="1196" y="1315"/>
                  </a:lnTo>
                  <a:lnTo>
                    <a:pt x="1199" y="1694"/>
                  </a:lnTo>
                  <a:lnTo>
                    <a:pt x="1203" y="1374"/>
                  </a:lnTo>
                  <a:lnTo>
                    <a:pt x="1205" y="1372"/>
                  </a:lnTo>
                  <a:lnTo>
                    <a:pt x="1208" y="1809"/>
                  </a:lnTo>
                  <a:lnTo>
                    <a:pt x="1211" y="1112"/>
                  </a:lnTo>
                  <a:lnTo>
                    <a:pt x="1214" y="1889"/>
                  </a:lnTo>
                  <a:lnTo>
                    <a:pt x="1216" y="2147"/>
                  </a:lnTo>
                  <a:lnTo>
                    <a:pt x="1219" y="545"/>
                  </a:lnTo>
                  <a:lnTo>
                    <a:pt x="1223" y="960"/>
                  </a:lnTo>
                  <a:lnTo>
                    <a:pt x="1225" y="2054"/>
                  </a:lnTo>
                  <a:lnTo>
                    <a:pt x="1228" y="1899"/>
                  </a:lnTo>
                  <a:lnTo>
                    <a:pt x="1231" y="2116"/>
                  </a:lnTo>
                  <a:lnTo>
                    <a:pt x="1234" y="1788"/>
                  </a:lnTo>
                  <a:lnTo>
                    <a:pt x="1236" y="2146"/>
                  </a:lnTo>
                  <a:lnTo>
                    <a:pt x="1240" y="1805"/>
                  </a:lnTo>
                  <a:lnTo>
                    <a:pt x="1243" y="1588"/>
                  </a:lnTo>
                  <a:lnTo>
                    <a:pt x="1245" y="811"/>
                  </a:lnTo>
                  <a:lnTo>
                    <a:pt x="1248" y="1586"/>
                  </a:lnTo>
                  <a:lnTo>
                    <a:pt x="1251" y="1552"/>
                  </a:lnTo>
                  <a:lnTo>
                    <a:pt x="1254" y="1770"/>
                  </a:lnTo>
                  <a:lnTo>
                    <a:pt x="1256" y="852"/>
                  </a:lnTo>
                  <a:lnTo>
                    <a:pt x="1260" y="1098"/>
                  </a:lnTo>
                  <a:lnTo>
                    <a:pt x="1263" y="1800"/>
                  </a:lnTo>
                  <a:lnTo>
                    <a:pt x="1265" y="1619"/>
                  </a:lnTo>
                  <a:lnTo>
                    <a:pt x="1269" y="1307"/>
                  </a:lnTo>
                  <a:lnTo>
                    <a:pt x="1271" y="1595"/>
                  </a:lnTo>
                  <a:lnTo>
                    <a:pt x="1274" y="1313"/>
                  </a:lnTo>
                  <a:lnTo>
                    <a:pt x="1276" y="2178"/>
                  </a:lnTo>
                  <a:lnTo>
                    <a:pt x="1280" y="2102"/>
                  </a:lnTo>
                  <a:lnTo>
                    <a:pt x="1282" y="1332"/>
                  </a:lnTo>
                  <a:lnTo>
                    <a:pt x="1285" y="2173"/>
                  </a:lnTo>
                  <a:lnTo>
                    <a:pt x="1289" y="1124"/>
                  </a:lnTo>
                  <a:lnTo>
                    <a:pt x="1291" y="1251"/>
                  </a:lnTo>
                  <a:lnTo>
                    <a:pt x="1294" y="1479"/>
                  </a:lnTo>
                  <a:lnTo>
                    <a:pt x="1296" y="981"/>
                  </a:lnTo>
                  <a:lnTo>
                    <a:pt x="1300" y="327"/>
                  </a:lnTo>
                  <a:lnTo>
                    <a:pt x="1302" y="1137"/>
                  </a:lnTo>
                  <a:lnTo>
                    <a:pt x="1305" y="2053"/>
                  </a:lnTo>
                  <a:lnTo>
                    <a:pt x="1309" y="612"/>
                  </a:lnTo>
                  <a:lnTo>
                    <a:pt x="1311" y="123"/>
                  </a:lnTo>
                  <a:lnTo>
                    <a:pt x="1314" y="1441"/>
                  </a:lnTo>
                  <a:lnTo>
                    <a:pt x="1316" y="1158"/>
                  </a:lnTo>
                  <a:lnTo>
                    <a:pt x="1320" y="1679"/>
                  </a:lnTo>
                  <a:lnTo>
                    <a:pt x="1322" y="1988"/>
                  </a:lnTo>
                  <a:lnTo>
                    <a:pt x="1325" y="1763"/>
                  </a:lnTo>
                  <a:lnTo>
                    <a:pt x="1329" y="1654"/>
                  </a:lnTo>
                  <a:lnTo>
                    <a:pt x="1331" y="1358"/>
                  </a:lnTo>
                  <a:lnTo>
                    <a:pt x="1334" y="1400"/>
                  </a:lnTo>
                  <a:lnTo>
                    <a:pt x="1337" y="876"/>
                  </a:lnTo>
                  <a:lnTo>
                    <a:pt x="1340" y="1988"/>
                  </a:lnTo>
                  <a:lnTo>
                    <a:pt x="1342" y="1384"/>
                  </a:lnTo>
                  <a:lnTo>
                    <a:pt x="1345" y="1656"/>
                  </a:lnTo>
                  <a:lnTo>
                    <a:pt x="1348" y="633"/>
                  </a:lnTo>
                  <a:lnTo>
                    <a:pt x="1351" y="1293"/>
                  </a:lnTo>
                  <a:lnTo>
                    <a:pt x="1354" y="1878"/>
                  </a:lnTo>
                  <a:lnTo>
                    <a:pt x="1357" y="1005"/>
                  </a:lnTo>
                  <a:lnTo>
                    <a:pt x="1360" y="1126"/>
                  </a:lnTo>
                  <a:lnTo>
                    <a:pt x="1362" y="1065"/>
                  </a:lnTo>
                  <a:lnTo>
                    <a:pt x="1366" y="942"/>
                  </a:lnTo>
                  <a:lnTo>
                    <a:pt x="1368" y="1809"/>
                  </a:lnTo>
                  <a:lnTo>
                    <a:pt x="1371" y="1596"/>
                  </a:lnTo>
                  <a:lnTo>
                    <a:pt x="1374" y="902"/>
                  </a:lnTo>
                  <a:lnTo>
                    <a:pt x="1377" y="1576"/>
                  </a:lnTo>
                  <a:lnTo>
                    <a:pt x="1380" y="1954"/>
                  </a:lnTo>
                  <a:lnTo>
                    <a:pt x="1382" y="1676"/>
                  </a:lnTo>
                  <a:lnTo>
                    <a:pt x="1386" y="1333"/>
                  </a:lnTo>
                  <a:lnTo>
                    <a:pt x="1388" y="1859"/>
                  </a:lnTo>
                  <a:lnTo>
                    <a:pt x="1391" y="2092"/>
                  </a:lnTo>
                  <a:lnTo>
                    <a:pt x="1395" y="1256"/>
                  </a:lnTo>
                  <a:lnTo>
                    <a:pt x="1397" y="2034"/>
                  </a:lnTo>
                  <a:lnTo>
                    <a:pt x="1400" y="1550"/>
                  </a:lnTo>
                  <a:lnTo>
                    <a:pt x="1402" y="1489"/>
                  </a:lnTo>
                  <a:lnTo>
                    <a:pt x="1406" y="1530"/>
                  </a:lnTo>
                  <a:lnTo>
                    <a:pt x="1408" y="1834"/>
                  </a:lnTo>
                  <a:lnTo>
                    <a:pt x="1411" y="1597"/>
                  </a:lnTo>
                  <a:lnTo>
                    <a:pt x="1414" y="2018"/>
                  </a:lnTo>
                  <a:lnTo>
                    <a:pt x="1417" y="1670"/>
                  </a:lnTo>
                  <a:lnTo>
                    <a:pt x="1420" y="1677"/>
                  </a:lnTo>
                  <a:lnTo>
                    <a:pt x="1422" y="807"/>
                  </a:lnTo>
                  <a:lnTo>
                    <a:pt x="1426" y="1266"/>
                  </a:lnTo>
                  <a:lnTo>
                    <a:pt x="1428" y="1585"/>
                  </a:lnTo>
                  <a:lnTo>
                    <a:pt x="1431" y="1756"/>
                  </a:lnTo>
                  <a:lnTo>
                    <a:pt x="1434" y="1745"/>
                  </a:lnTo>
                  <a:lnTo>
                    <a:pt x="1437" y="1332"/>
                  </a:lnTo>
                  <a:lnTo>
                    <a:pt x="1440" y="339"/>
                  </a:lnTo>
                  <a:lnTo>
                    <a:pt x="1443" y="1458"/>
                  </a:lnTo>
                  <a:lnTo>
                    <a:pt x="1446" y="1221"/>
                  </a:lnTo>
                  <a:lnTo>
                    <a:pt x="1448" y="1243"/>
                  </a:lnTo>
                  <a:lnTo>
                    <a:pt x="1451" y="1216"/>
                  </a:lnTo>
                  <a:lnTo>
                    <a:pt x="1454" y="1519"/>
                  </a:lnTo>
                  <a:lnTo>
                    <a:pt x="1457" y="1804"/>
                  </a:lnTo>
                  <a:lnTo>
                    <a:pt x="1460" y="1640"/>
                  </a:lnTo>
                  <a:lnTo>
                    <a:pt x="1463" y="1888"/>
                  </a:lnTo>
                  <a:lnTo>
                    <a:pt x="1466" y="1634"/>
                  </a:lnTo>
                  <a:lnTo>
                    <a:pt x="1468" y="1695"/>
                  </a:lnTo>
                  <a:lnTo>
                    <a:pt x="1472" y="1141"/>
                  </a:lnTo>
                  <a:lnTo>
                    <a:pt x="1474" y="1693"/>
                  </a:lnTo>
                  <a:lnTo>
                    <a:pt x="1477" y="1481"/>
                  </a:lnTo>
                  <a:lnTo>
                    <a:pt x="1479" y="1710"/>
                  </a:lnTo>
                  <a:lnTo>
                    <a:pt x="1483" y="1509"/>
                  </a:lnTo>
                  <a:lnTo>
                    <a:pt x="1486" y="1794"/>
                  </a:lnTo>
                  <a:lnTo>
                    <a:pt x="1488" y="1640"/>
                  </a:lnTo>
                  <a:lnTo>
                    <a:pt x="1492" y="1211"/>
                  </a:lnTo>
                  <a:lnTo>
                    <a:pt x="1494" y="1521"/>
                  </a:lnTo>
                  <a:lnTo>
                    <a:pt x="1497" y="2069"/>
                  </a:lnTo>
                  <a:lnTo>
                    <a:pt x="1499" y="726"/>
                  </a:lnTo>
                  <a:lnTo>
                    <a:pt x="1503" y="1537"/>
                  </a:lnTo>
                  <a:lnTo>
                    <a:pt x="1506" y="1287"/>
                  </a:lnTo>
                  <a:lnTo>
                    <a:pt x="1508" y="1426"/>
                  </a:lnTo>
                  <a:lnTo>
                    <a:pt x="1512" y="918"/>
                  </a:lnTo>
                  <a:lnTo>
                    <a:pt x="1514" y="1188"/>
                  </a:lnTo>
                  <a:lnTo>
                    <a:pt x="1517" y="1460"/>
                  </a:lnTo>
                  <a:lnTo>
                    <a:pt x="1520" y="1309"/>
                  </a:lnTo>
                  <a:lnTo>
                    <a:pt x="1523" y="1423"/>
                  </a:lnTo>
                  <a:lnTo>
                    <a:pt x="1526" y="1433"/>
                  </a:lnTo>
                  <a:lnTo>
                    <a:pt x="1528" y="1099"/>
                  </a:lnTo>
                  <a:lnTo>
                    <a:pt x="1532" y="1747"/>
                  </a:lnTo>
                  <a:lnTo>
                    <a:pt x="1534" y="1639"/>
                  </a:lnTo>
                  <a:lnTo>
                    <a:pt x="1537" y="1803"/>
                  </a:lnTo>
                  <a:lnTo>
                    <a:pt x="1540" y="1723"/>
                  </a:lnTo>
                  <a:lnTo>
                    <a:pt x="1543" y="1580"/>
                  </a:lnTo>
                  <a:lnTo>
                    <a:pt x="1545" y="1751"/>
                  </a:lnTo>
                  <a:lnTo>
                    <a:pt x="1549" y="1696"/>
                  </a:lnTo>
                  <a:lnTo>
                    <a:pt x="1552" y="1531"/>
                  </a:lnTo>
                  <a:lnTo>
                    <a:pt x="1554" y="71"/>
                  </a:lnTo>
                  <a:lnTo>
                    <a:pt x="1557" y="1207"/>
                  </a:lnTo>
                  <a:lnTo>
                    <a:pt x="1560" y="1482"/>
                  </a:lnTo>
                  <a:lnTo>
                    <a:pt x="1563" y="1195"/>
                  </a:lnTo>
                  <a:lnTo>
                    <a:pt x="1565" y="1055"/>
                  </a:lnTo>
                  <a:lnTo>
                    <a:pt x="1569" y="1397"/>
                  </a:lnTo>
                  <a:lnTo>
                    <a:pt x="1572" y="1090"/>
                  </a:lnTo>
                  <a:lnTo>
                    <a:pt x="1574" y="1436"/>
                  </a:lnTo>
                  <a:lnTo>
                    <a:pt x="1578" y="1596"/>
                  </a:lnTo>
                  <a:lnTo>
                    <a:pt x="1580" y="1337"/>
                  </a:lnTo>
                  <a:lnTo>
                    <a:pt x="1583" y="723"/>
                  </a:lnTo>
                  <a:lnTo>
                    <a:pt x="1585" y="1009"/>
                  </a:lnTo>
                  <a:lnTo>
                    <a:pt x="1589" y="982"/>
                  </a:lnTo>
                  <a:lnTo>
                    <a:pt x="1592" y="654"/>
                  </a:lnTo>
                  <a:lnTo>
                    <a:pt x="1594" y="1601"/>
                  </a:lnTo>
                  <a:lnTo>
                    <a:pt x="1598" y="873"/>
                  </a:lnTo>
                  <a:lnTo>
                    <a:pt x="1600" y="825"/>
                  </a:lnTo>
                  <a:lnTo>
                    <a:pt x="1603" y="0"/>
                  </a:lnTo>
                  <a:lnTo>
                    <a:pt x="1605" y="953"/>
                  </a:lnTo>
                  <a:lnTo>
                    <a:pt x="1609" y="528"/>
                  </a:lnTo>
                  <a:lnTo>
                    <a:pt x="1611" y="1861"/>
                  </a:lnTo>
                  <a:lnTo>
                    <a:pt x="1614" y="931"/>
                  </a:lnTo>
                  <a:lnTo>
                    <a:pt x="1618" y="1253"/>
                  </a:lnTo>
                  <a:lnTo>
                    <a:pt x="1620" y="364"/>
                  </a:lnTo>
                  <a:lnTo>
                    <a:pt x="1623" y="1413"/>
                  </a:lnTo>
                  <a:lnTo>
                    <a:pt x="1625" y="1383"/>
                  </a:lnTo>
                  <a:lnTo>
                    <a:pt x="1629" y="1466"/>
                  </a:lnTo>
                  <a:lnTo>
                    <a:pt x="1631" y="1353"/>
                  </a:lnTo>
                  <a:lnTo>
                    <a:pt x="1634" y="2133"/>
                  </a:lnTo>
                  <a:lnTo>
                    <a:pt x="1638" y="1854"/>
                  </a:lnTo>
                  <a:lnTo>
                    <a:pt x="1640" y="927"/>
                  </a:lnTo>
                  <a:lnTo>
                    <a:pt x="1643" y="1753"/>
                  </a:lnTo>
                  <a:lnTo>
                    <a:pt x="1646" y="1883"/>
                  </a:lnTo>
                  <a:lnTo>
                    <a:pt x="1649" y="1638"/>
                  </a:lnTo>
                  <a:lnTo>
                    <a:pt x="1651" y="1612"/>
                  </a:lnTo>
                  <a:lnTo>
                    <a:pt x="1654" y="1006"/>
                  </a:lnTo>
                  <a:lnTo>
                    <a:pt x="1658" y="1122"/>
                  </a:lnTo>
                  <a:lnTo>
                    <a:pt x="1660" y="1667"/>
                  </a:lnTo>
                  <a:lnTo>
                    <a:pt x="1663" y="1572"/>
                  </a:lnTo>
                  <a:lnTo>
                    <a:pt x="1666" y="833"/>
                  </a:lnTo>
                  <a:lnTo>
                    <a:pt x="1669" y="1907"/>
                  </a:lnTo>
                  <a:lnTo>
                    <a:pt x="1671" y="2018"/>
                  </a:lnTo>
                  <a:lnTo>
                    <a:pt x="1675" y="1963"/>
                  </a:lnTo>
                  <a:lnTo>
                    <a:pt x="1677" y="1542"/>
                  </a:lnTo>
                  <a:lnTo>
                    <a:pt x="1680" y="1071"/>
                  </a:lnTo>
                  <a:lnTo>
                    <a:pt x="1683" y="1370"/>
                  </a:lnTo>
                  <a:lnTo>
                    <a:pt x="1686" y="1050"/>
                  </a:lnTo>
                  <a:lnTo>
                    <a:pt x="1689" y="1983"/>
                  </a:lnTo>
                  <a:lnTo>
                    <a:pt x="1691" y="1422"/>
                  </a:lnTo>
                  <a:lnTo>
                    <a:pt x="1695" y="1029"/>
                  </a:lnTo>
                  <a:lnTo>
                    <a:pt x="1697" y="1675"/>
                  </a:lnTo>
                  <a:lnTo>
                    <a:pt x="1700" y="843"/>
                  </a:lnTo>
                  <a:lnTo>
                    <a:pt x="1704" y="2158"/>
                  </a:lnTo>
                  <a:lnTo>
                    <a:pt x="1706" y="1443"/>
                  </a:lnTo>
                  <a:lnTo>
                    <a:pt x="1709" y="1123"/>
                  </a:lnTo>
                  <a:lnTo>
                    <a:pt x="1711" y="1578"/>
                  </a:lnTo>
                  <a:lnTo>
                    <a:pt x="1715" y="990"/>
                  </a:lnTo>
                  <a:lnTo>
                    <a:pt x="1717" y="981"/>
                  </a:lnTo>
                  <a:lnTo>
                    <a:pt x="1720" y="1932"/>
                  </a:lnTo>
                  <a:lnTo>
                    <a:pt x="1724" y="936"/>
                  </a:lnTo>
                  <a:lnTo>
                    <a:pt x="1726" y="1938"/>
                  </a:lnTo>
                  <a:lnTo>
                    <a:pt x="1729" y="1231"/>
                  </a:lnTo>
                  <a:lnTo>
                    <a:pt x="1731" y="1766"/>
                  </a:lnTo>
                  <a:lnTo>
                    <a:pt x="1735" y="1690"/>
                  </a:lnTo>
                  <a:lnTo>
                    <a:pt x="1737" y="780"/>
                  </a:lnTo>
                  <a:lnTo>
                    <a:pt x="1740" y="1787"/>
                  </a:lnTo>
                  <a:lnTo>
                    <a:pt x="1744" y="823"/>
                  </a:lnTo>
                  <a:lnTo>
                    <a:pt x="1746" y="963"/>
                  </a:lnTo>
                  <a:lnTo>
                    <a:pt x="1749" y="1820"/>
                  </a:lnTo>
                  <a:lnTo>
                    <a:pt x="1752" y="2011"/>
                  </a:lnTo>
                  <a:lnTo>
                    <a:pt x="1755" y="1424"/>
                  </a:lnTo>
                  <a:lnTo>
                    <a:pt x="1757" y="1781"/>
                  </a:lnTo>
                  <a:lnTo>
                    <a:pt x="1760" y="597"/>
                  </a:lnTo>
                  <a:lnTo>
                    <a:pt x="1763" y="817"/>
                  </a:lnTo>
                  <a:lnTo>
                    <a:pt x="1766" y="719"/>
                  </a:lnTo>
                  <a:lnTo>
                    <a:pt x="1769" y="2097"/>
                  </a:lnTo>
                  <a:lnTo>
                    <a:pt x="1772" y="1729"/>
                  </a:lnTo>
                  <a:lnTo>
                    <a:pt x="1775" y="1834"/>
                  </a:lnTo>
                  <a:lnTo>
                    <a:pt x="1777" y="1719"/>
                  </a:lnTo>
                  <a:lnTo>
                    <a:pt x="1781" y="1605"/>
                  </a:lnTo>
                  <a:lnTo>
                    <a:pt x="1783" y="1464"/>
                  </a:lnTo>
                  <a:lnTo>
                    <a:pt x="1786" y="1185"/>
                  </a:lnTo>
                  <a:lnTo>
                    <a:pt x="1789" y="2032"/>
                  </a:lnTo>
                  <a:lnTo>
                    <a:pt x="1792" y="1456"/>
                  </a:lnTo>
                  <a:lnTo>
                    <a:pt x="1795" y="1610"/>
                  </a:lnTo>
                  <a:lnTo>
                    <a:pt x="1797" y="1279"/>
                  </a:lnTo>
                  <a:lnTo>
                    <a:pt x="1801" y="327"/>
                  </a:lnTo>
                  <a:lnTo>
                    <a:pt x="1803" y="1640"/>
                  </a:lnTo>
                  <a:lnTo>
                    <a:pt x="1806" y="492"/>
                  </a:lnTo>
                  <a:lnTo>
                    <a:pt x="1810" y="1797"/>
                  </a:lnTo>
                  <a:lnTo>
                    <a:pt x="1812" y="1243"/>
                  </a:lnTo>
                  <a:lnTo>
                    <a:pt x="1815" y="1553"/>
                  </a:lnTo>
                  <a:lnTo>
                    <a:pt x="1817" y="1527"/>
                  </a:lnTo>
                  <a:lnTo>
                    <a:pt x="1821" y="1081"/>
                  </a:lnTo>
                  <a:lnTo>
                    <a:pt x="1823" y="1837"/>
                  </a:lnTo>
                  <a:lnTo>
                    <a:pt x="1826" y="1130"/>
                  </a:lnTo>
                  <a:lnTo>
                    <a:pt x="1829" y="1979"/>
                  </a:lnTo>
                  <a:lnTo>
                    <a:pt x="1832" y="1949"/>
                  </a:lnTo>
                  <a:lnTo>
                    <a:pt x="1835" y="1397"/>
                  </a:lnTo>
                  <a:lnTo>
                    <a:pt x="1837" y="1458"/>
                  </a:lnTo>
                  <a:lnTo>
                    <a:pt x="1841" y="1948"/>
                  </a:lnTo>
                  <a:lnTo>
                    <a:pt x="1843" y="1531"/>
                  </a:lnTo>
                  <a:lnTo>
                    <a:pt x="1846" y="1716"/>
                  </a:lnTo>
                  <a:lnTo>
                    <a:pt x="1849" y="1585"/>
                  </a:lnTo>
                  <a:lnTo>
                    <a:pt x="1852" y="830"/>
                  </a:lnTo>
                  <a:lnTo>
                    <a:pt x="1855" y="1216"/>
                  </a:lnTo>
                  <a:lnTo>
                    <a:pt x="1858" y="780"/>
                  </a:lnTo>
                  <a:lnTo>
                    <a:pt x="1861" y="880"/>
                  </a:lnTo>
                  <a:lnTo>
                    <a:pt x="1863" y="1466"/>
                  </a:lnTo>
                  <a:lnTo>
                    <a:pt x="1866" y="1181"/>
                  </a:lnTo>
                  <a:lnTo>
                    <a:pt x="1869" y="1028"/>
                  </a:lnTo>
                  <a:lnTo>
                    <a:pt x="1872" y="982"/>
                  </a:lnTo>
                  <a:lnTo>
                    <a:pt x="1875" y="2028"/>
                  </a:lnTo>
                  <a:lnTo>
                    <a:pt x="1878" y="170"/>
                  </a:lnTo>
                  <a:lnTo>
                    <a:pt x="1881" y="1303"/>
                  </a:lnTo>
                  <a:lnTo>
                    <a:pt x="1883" y="1757"/>
                  </a:lnTo>
                  <a:lnTo>
                    <a:pt x="1887" y="1284"/>
                  </a:lnTo>
                  <a:lnTo>
                    <a:pt x="1889" y="1201"/>
                  </a:lnTo>
                  <a:lnTo>
                    <a:pt x="1892" y="1788"/>
                  </a:lnTo>
                  <a:lnTo>
                    <a:pt x="1894" y="1619"/>
                  </a:lnTo>
                  <a:lnTo>
                    <a:pt x="1898" y="1663"/>
                  </a:lnTo>
                  <a:lnTo>
                    <a:pt x="1901" y="1630"/>
                  </a:lnTo>
                  <a:lnTo>
                    <a:pt x="1903" y="1787"/>
                  </a:lnTo>
                  <a:lnTo>
                    <a:pt x="1907" y="1051"/>
                  </a:lnTo>
                  <a:lnTo>
                    <a:pt x="1909" y="1821"/>
                  </a:lnTo>
                  <a:lnTo>
                    <a:pt x="1912" y="1083"/>
                  </a:lnTo>
                  <a:lnTo>
                    <a:pt x="1914" y="1442"/>
                  </a:lnTo>
                  <a:lnTo>
                    <a:pt x="1918" y="763"/>
                  </a:lnTo>
                  <a:lnTo>
                    <a:pt x="1921" y="862"/>
                  </a:lnTo>
                  <a:lnTo>
                    <a:pt x="1923" y="1632"/>
                  </a:lnTo>
                  <a:lnTo>
                    <a:pt x="1927" y="1988"/>
                  </a:lnTo>
                  <a:lnTo>
                    <a:pt x="1929" y="530"/>
                  </a:lnTo>
                  <a:lnTo>
                    <a:pt x="1932" y="1840"/>
                  </a:lnTo>
                  <a:lnTo>
                    <a:pt x="1934" y="1575"/>
                  </a:lnTo>
                  <a:lnTo>
                    <a:pt x="1938" y="1147"/>
                  </a:lnTo>
                  <a:lnTo>
                    <a:pt x="1941" y="1350"/>
                  </a:lnTo>
                  <a:lnTo>
                    <a:pt x="1943" y="1901"/>
                  </a:lnTo>
                  <a:lnTo>
                    <a:pt x="1947" y="1095"/>
                  </a:lnTo>
                  <a:lnTo>
                    <a:pt x="1949" y="1749"/>
                  </a:lnTo>
                  <a:lnTo>
                    <a:pt x="1952" y="965"/>
                  </a:lnTo>
                  <a:lnTo>
                    <a:pt x="1955" y="1586"/>
                  </a:lnTo>
                  <a:lnTo>
                    <a:pt x="1958" y="1500"/>
                  </a:lnTo>
                  <a:lnTo>
                    <a:pt x="1960" y="1723"/>
                  </a:lnTo>
                  <a:lnTo>
                    <a:pt x="1964" y="1966"/>
                  </a:lnTo>
                  <a:lnTo>
                    <a:pt x="1967" y="1202"/>
                  </a:lnTo>
                  <a:lnTo>
                    <a:pt x="1969" y="935"/>
                  </a:lnTo>
                  <a:lnTo>
                    <a:pt x="1972" y="1917"/>
                  </a:lnTo>
                  <a:lnTo>
                    <a:pt x="1975" y="1448"/>
                  </a:lnTo>
                  <a:lnTo>
                    <a:pt x="1978" y="1471"/>
                  </a:lnTo>
                  <a:lnTo>
                    <a:pt x="1980" y="1815"/>
                  </a:lnTo>
                  <a:lnTo>
                    <a:pt x="1984" y="794"/>
                  </a:lnTo>
                  <a:lnTo>
                    <a:pt x="1987" y="1726"/>
                  </a:lnTo>
                  <a:lnTo>
                    <a:pt x="1989" y="1873"/>
                  </a:lnTo>
                  <a:lnTo>
                    <a:pt x="1993" y="1710"/>
                  </a:lnTo>
                  <a:lnTo>
                    <a:pt x="1995" y="1462"/>
                  </a:lnTo>
                  <a:lnTo>
                    <a:pt x="1998" y="2016"/>
                  </a:lnTo>
                  <a:lnTo>
                    <a:pt x="2000" y="891"/>
                  </a:lnTo>
                  <a:lnTo>
                    <a:pt x="2004" y="1166"/>
                  </a:lnTo>
                  <a:lnTo>
                    <a:pt x="2007" y="1562"/>
                  </a:lnTo>
                  <a:lnTo>
                    <a:pt x="2009" y="1628"/>
                  </a:lnTo>
                  <a:lnTo>
                    <a:pt x="2013" y="2108"/>
                  </a:lnTo>
                  <a:lnTo>
                    <a:pt x="2015" y="1768"/>
                  </a:lnTo>
                  <a:lnTo>
                    <a:pt x="2018" y="1693"/>
                  </a:lnTo>
                  <a:lnTo>
                    <a:pt x="2020" y="2010"/>
                  </a:lnTo>
                  <a:lnTo>
                    <a:pt x="2024" y="860"/>
                  </a:lnTo>
                  <a:lnTo>
                    <a:pt x="2026" y="1078"/>
                  </a:lnTo>
                  <a:lnTo>
                    <a:pt x="2029" y="1638"/>
                  </a:lnTo>
                  <a:lnTo>
                    <a:pt x="2033" y="1284"/>
                  </a:lnTo>
                  <a:lnTo>
                    <a:pt x="2035" y="1207"/>
                  </a:lnTo>
                  <a:lnTo>
                    <a:pt x="2038" y="2045"/>
                  </a:lnTo>
                  <a:lnTo>
                    <a:pt x="2040" y="1101"/>
                  </a:lnTo>
                  <a:lnTo>
                    <a:pt x="2044" y="1432"/>
                  </a:lnTo>
                  <a:lnTo>
                    <a:pt x="2046" y="693"/>
                  </a:lnTo>
                  <a:lnTo>
                    <a:pt x="2049" y="1732"/>
                  </a:lnTo>
                  <a:lnTo>
                    <a:pt x="2053" y="2007"/>
                  </a:lnTo>
                  <a:lnTo>
                    <a:pt x="2055" y="1587"/>
                  </a:lnTo>
                  <a:lnTo>
                    <a:pt x="2058" y="1480"/>
                  </a:lnTo>
                  <a:lnTo>
                    <a:pt x="2061" y="844"/>
                  </a:lnTo>
                  <a:lnTo>
                    <a:pt x="2064" y="1825"/>
                  </a:lnTo>
                  <a:lnTo>
                    <a:pt x="2066" y="863"/>
                  </a:lnTo>
                  <a:lnTo>
                    <a:pt x="2069" y="2180"/>
                  </a:lnTo>
                  <a:lnTo>
                    <a:pt x="2073" y="2034"/>
                  </a:lnTo>
                  <a:lnTo>
                    <a:pt x="2075" y="1216"/>
                  </a:lnTo>
                  <a:lnTo>
                    <a:pt x="2078" y="971"/>
                  </a:lnTo>
                  <a:lnTo>
                    <a:pt x="2081" y="1251"/>
                  </a:lnTo>
                  <a:lnTo>
                    <a:pt x="2084" y="2112"/>
                  </a:lnTo>
                  <a:lnTo>
                    <a:pt x="2086" y="950"/>
                  </a:lnTo>
                  <a:lnTo>
                    <a:pt x="2090" y="1318"/>
                  </a:lnTo>
                  <a:lnTo>
                    <a:pt x="2092" y="1718"/>
                  </a:lnTo>
                  <a:lnTo>
                    <a:pt x="2095" y="1468"/>
                  </a:lnTo>
                  <a:lnTo>
                    <a:pt x="2098" y="1702"/>
                  </a:lnTo>
                  <a:lnTo>
                    <a:pt x="2101" y="1680"/>
                  </a:lnTo>
                  <a:lnTo>
                    <a:pt x="2104" y="1977"/>
                  </a:lnTo>
                  <a:lnTo>
                    <a:pt x="2106" y="1249"/>
                  </a:lnTo>
                  <a:lnTo>
                    <a:pt x="2110" y="994"/>
                  </a:lnTo>
                  <a:lnTo>
                    <a:pt x="2112" y="1998"/>
                  </a:lnTo>
                  <a:lnTo>
                    <a:pt x="2115" y="2030"/>
                  </a:lnTo>
                  <a:lnTo>
                    <a:pt x="2119" y="1887"/>
                  </a:lnTo>
                  <a:lnTo>
                    <a:pt x="2121" y="1410"/>
                  </a:lnTo>
                  <a:lnTo>
                    <a:pt x="2124" y="809"/>
                  </a:lnTo>
                  <a:lnTo>
                    <a:pt x="2126" y="1770"/>
                  </a:lnTo>
                  <a:lnTo>
                    <a:pt x="2130" y="1606"/>
                  </a:lnTo>
                  <a:lnTo>
                    <a:pt x="2132" y="1937"/>
                  </a:lnTo>
                  <a:lnTo>
                    <a:pt x="2135" y="923"/>
                  </a:lnTo>
                  <a:lnTo>
                    <a:pt x="2139" y="1620"/>
                  </a:lnTo>
                  <a:lnTo>
                    <a:pt x="2141" y="1915"/>
                  </a:lnTo>
                  <a:lnTo>
                    <a:pt x="2144" y="369"/>
                  </a:lnTo>
                  <a:lnTo>
                    <a:pt x="2146" y="2095"/>
                  </a:lnTo>
                  <a:lnTo>
                    <a:pt x="2150" y="149"/>
                  </a:lnTo>
                  <a:lnTo>
                    <a:pt x="2152" y="1923"/>
                  </a:lnTo>
                  <a:lnTo>
                    <a:pt x="2155" y="1443"/>
                  </a:lnTo>
                  <a:lnTo>
                    <a:pt x="2158" y="1425"/>
                  </a:lnTo>
                  <a:lnTo>
                    <a:pt x="2161" y="802"/>
                  </a:lnTo>
                  <a:lnTo>
                    <a:pt x="2164" y="1972"/>
                  </a:lnTo>
                  <a:lnTo>
                    <a:pt x="2167" y="1600"/>
                  </a:lnTo>
                  <a:lnTo>
                    <a:pt x="2170" y="1675"/>
                  </a:lnTo>
                  <a:lnTo>
                    <a:pt x="2172" y="1163"/>
                  </a:lnTo>
                  <a:lnTo>
                    <a:pt x="2175" y="1723"/>
                  </a:lnTo>
                  <a:lnTo>
                    <a:pt x="2178" y="1976"/>
                  </a:lnTo>
                  <a:lnTo>
                    <a:pt x="2181" y="1547"/>
                  </a:lnTo>
                  <a:lnTo>
                    <a:pt x="2184" y="2028"/>
                  </a:lnTo>
                  <a:lnTo>
                    <a:pt x="2187" y="1590"/>
                  </a:lnTo>
                  <a:lnTo>
                    <a:pt x="2190" y="1314"/>
                  </a:lnTo>
                  <a:lnTo>
                    <a:pt x="2192" y="1834"/>
                  </a:lnTo>
                  <a:lnTo>
                    <a:pt x="2196" y="1223"/>
                  </a:lnTo>
                  <a:lnTo>
                    <a:pt x="2198" y="1042"/>
                  </a:lnTo>
                  <a:lnTo>
                    <a:pt x="2201" y="1876"/>
                  </a:lnTo>
                  <a:lnTo>
                    <a:pt x="2204" y="1216"/>
                  </a:lnTo>
                  <a:lnTo>
                    <a:pt x="2207" y="1600"/>
                  </a:lnTo>
                  <a:lnTo>
                    <a:pt x="2210" y="1257"/>
                  </a:lnTo>
                  <a:lnTo>
                    <a:pt x="2212" y="1606"/>
                  </a:lnTo>
                  <a:lnTo>
                    <a:pt x="2216" y="1726"/>
                  </a:lnTo>
                  <a:lnTo>
                    <a:pt x="2218" y="1610"/>
                  </a:lnTo>
                  <a:lnTo>
                    <a:pt x="2221" y="730"/>
                  </a:lnTo>
                  <a:lnTo>
                    <a:pt x="2225" y="1577"/>
                  </a:lnTo>
                  <a:lnTo>
                    <a:pt x="2227" y="1860"/>
                  </a:lnTo>
                  <a:lnTo>
                    <a:pt x="2230" y="1300"/>
                  </a:lnTo>
                  <a:lnTo>
                    <a:pt x="2232" y="1833"/>
                  </a:lnTo>
                  <a:lnTo>
                    <a:pt x="2236" y="1328"/>
                  </a:lnTo>
                  <a:lnTo>
                    <a:pt x="2238" y="1207"/>
                  </a:lnTo>
                  <a:lnTo>
                    <a:pt x="2241" y="2067"/>
                  </a:lnTo>
                  <a:lnTo>
                    <a:pt x="2244" y="1392"/>
                  </a:lnTo>
                  <a:lnTo>
                    <a:pt x="2247" y="1246"/>
                  </a:lnTo>
                  <a:lnTo>
                    <a:pt x="2250" y="1138"/>
                  </a:lnTo>
                  <a:lnTo>
                    <a:pt x="2252" y="947"/>
                  </a:lnTo>
                  <a:lnTo>
                    <a:pt x="2256" y="1048"/>
                  </a:lnTo>
                  <a:lnTo>
                    <a:pt x="2258" y="1100"/>
                  </a:lnTo>
                  <a:lnTo>
                    <a:pt x="2261" y="1018"/>
                  </a:lnTo>
                  <a:lnTo>
                    <a:pt x="2264" y="1257"/>
                  </a:lnTo>
                  <a:lnTo>
                    <a:pt x="2267" y="1814"/>
                  </a:lnTo>
                  <a:lnTo>
                    <a:pt x="2270" y="1887"/>
                  </a:lnTo>
                  <a:lnTo>
                    <a:pt x="2273" y="1675"/>
                  </a:lnTo>
                  <a:lnTo>
                    <a:pt x="2276" y="1663"/>
                  </a:lnTo>
                  <a:lnTo>
                    <a:pt x="2278" y="1147"/>
                  </a:lnTo>
                  <a:lnTo>
                    <a:pt x="2281" y="1389"/>
                  </a:lnTo>
                  <a:lnTo>
                    <a:pt x="2284" y="1875"/>
                  </a:lnTo>
                  <a:lnTo>
                    <a:pt x="2287" y="2014"/>
                  </a:lnTo>
                  <a:lnTo>
                    <a:pt x="2290" y="1472"/>
                  </a:lnTo>
                  <a:lnTo>
                    <a:pt x="2293" y="1597"/>
                  </a:lnTo>
                  <a:lnTo>
                    <a:pt x="2296" y="1637"/>
                  </a:lnTo>
                  <a:lnTo>
                    <a:pt x="2298" y="926"/>
                  </a:lnTo>
                  <a:lnTo>
                    <a:pt x="2302" y="1810"/>
                  </a:lnTo>
                  <a:lnTo>
                    <a:pt x="2304" y="915"/>
                  </a:lnTo>
                  <a:lnTo>
                    <a:pt x="2307" y="2007"/>
                  </a:lnTo>
                  <a:lnTo>
                    <a:pt x="2309" y="845"/>
                  </a:lnTo>
                  <a:lnTo>
                    <a:pt x="2313" y="876"/>
                  </a:lnTo>
                  <a:lnTo>
                    <a:pt x="2316" y="1411"/>
                  </a:lnTo>
                  <a:lnTo>
                    <a:pt x="2318" y="1080"/>
                  </a:lnTo>
                  <a:lnTo>
                    <a:pt x="2322" y="624"/>
                  </a:lnTo>
                  <a:lnTo>
                    <a:pt x="2324" y="1846"/>
                  </a:lnTo>
                  <a:lnTo>
                    <a:pt x="2327" y="1622"/>
                  </a:lnTo>
                  <a:lnTo>
                    <a:pt x="2329" y="1488"/>
                  </a:lnTo>
                  <a:lnTo>
                    <a:pt x="2333" y="1487"/>
                  </a:lnTo>
                  <a:lnTo>
                    <a:pt x="2336" y="1958"/>
                  </a:lnTo>
                  <a:lnTo>
                    <a:pt x="2338" y="1373"/>
                  </a:lnTo>
                  <a:lnTo>
                    <a:pt x="2342" y="1743"/>
                  </a:lnTo>
                  <a:lnTo>
                    <a:pt x="2344" y="1648"/>
                  </a:lnTo>
                  <a:lnTo>
                    <a:pt x="2347" y="2005"/>
                  </a:lnTo>
                  <a:lnTo>
                    <a:pt x="2349" y="1694"/>
                  </a:lnTo>
                  <a:lnTo>
                    <a:pt x="2353" y="710"/>
                  </a:lnTo>
                  <a:lnTo>
                    <a:pt x="2356" y="2018"/>
                  </a:lnTo>
                  <a:lnTo>
                    <a:pt x="2358" y="1276"/>
                  </a:lnTo>
                  <a:lnTo>
                    <a:pt x="2362" y="1787"/>
                  </a:lnTo>
                  <a:lnTo>
                    <a:pt x="2364" y="1323"/>
                  </a:lnTo>
                  <a:lnTo>
                    <a:pt x="2367" y="1526"/>
                  </a:lnTo>
                  <a:lnTo>
                    <a:pt x="2370" y="1218"/>
                  </a:lnTo>
                  <a:lnTo>
                    <a:pt x="2373" y="1384"/>
                  </a:lnTo>
                  <a:lnTo>
                    <a:pt x="2375" y="2090"/>
                  </a:lnTo>
                  <a:lnTo>
                    <a:pt x="2378" y="1777"/>
                  </a:lnTo>
                  <a:lnTo>
                    <a:pt x="2382" y="1454"/>
                  </a:lnTo>
                  <a:lnTo>
                    <a:pt x="2384" y="1006"/>
                  </a:lnTo>
                  <a:lnTo>
                    <a:pt x="2387" y="1719"/>
                  </a:lnTo>
                  <a:lnTo>
                    <a:pt x="2390" y="1449"/>
                  </a:lnTo>
                  <a:lnTo>
                    <a:pt x="2393" y="1104"/>
                  </a:lnTo>
                  <a:lnTo>
                    <a:pt x="2395" y="1605"/>
                  </a:lnTo>
                  <a:lnTo>
                    <a:pt x="2399" y="839"/>
                  </a:lnTo>
                  <a:lnTo>
                    <a:pt x="2402" y="1302"/>
                  </a:lnTo>
                  <a:lnTo>
                    <a:pt x="2404" y="2148"/>
                  </a:lnTo>
                  <a:lnTo>
                    <a:pt x="2407" y="798"/>
                  </a:lnTo>
                  <a:lnTo>
                    <a:pt x="2410" y="2078"/>
                  </a:lnTo>
                  <a:lnTo>
                    <a:pt x="2413" y="816"/>
                  </a:lnTo>
                  <a:lnTo>
                    <a:pt x="2415" y="1592"/>
                  </a:lnTo>
                  <a:lnTo>
                    <a:pt x="2419" y="925"/>
                  </a:lnTo>
                  <a:lnTo>
                    <a:pt x="2422" y="1831"/>
                  </a:lnTo>
                  <a:lnTo>
                    <a:pt x="2424" y="1088"/>
                  </a:lnTo>
                  <a:lnTo>
                    <a:pt x="2428" y="1322"/>
                  </a:lnTo>
                  <a:lnTo>
                    <a:pt x="2430" y="770"/>
                  </a:lnTo>
                  <a:lnTo>
                    <a:pt x="2433" y="1552"/>
                  </a:lnTo>
                  <a:lnTo>
                    <a:pt x="2435" y="829"/>
                  </a:lnTo>
                  <a:lnTo>
                    <a:pt x="2439" y="1326"/>
                  </a:lnTo>
                  <a:lnTo>
                    <a:pt x="2441" y="1118"/>
                  </a:lnTo>
                  <a:lnTo>
                    <a:pt x="2444" y="1407"/>
                  </a:lnTo>
                  <a:lnTo>
                    <a:pt x="2448" y="1619"/>
                  </a:lnTo>
                  <a:lnTo>
                    <a:pt x="2450" y="895"/>
                  </a:lnTo>
                  <a:lnTo>
                    <a:pt x="2453" y="1741"/>
                  </a:lnTo>
                  <a:lnTo>
                    <a:pt x="2455" y="2069"/>
                  </a:lnTo>
                  <a:lnTo>
                    <a:pt x="2459" y="1735"/>
                  </a:lnTo>
                  <a:lnTo>
                    <a:pt x="2461" y="2116"/>
                  </a:lnTo>
                  <a:lnTo>
                    <a:pt x="2464" y="273"/>
                  </a:lnTo>
                  <a:lnTo>
                    <a:pt x="2468" y="1754"/>
                  </a:lnTo>
                  <a:lnTo>
                    <a:pt x="2470" y="1699"/>
                  </a:lnTo>
                  <a:lnTo>
                    <a:pt x="2473" y="1854"/>
                  </a:lnTo>
                  <a:lnTo>
                    <a:pt x="2476" y="29"/>
                  </a:lnTo>
                  <a:lnTo>
                    <a:pt x="2479" y="1645"/>
                  </a:lnTo>
                  <a:lnTo>
                    <a:pt x="2481" y="1537"/>
                  </a:lnTo>
                  <a:lnTo>
                    <a:pt x="2484" y="1840"/>
                  </a:lnTo>
                  <a:lnTo>
                    <a:pt x="2488" y="691"/>
                  </a:lnTo>
                  <a:lnTo>
                    <a:pt x="2490" y="995"/>
                  </a:lnTo>
                  <a:lnTo>
                    <a:pt x="2493" y="1258"/>
                  </a:lnTo>
                  <a:lnTo>
                    <a:pt x="2496" y="970"/>
                  </a:lnTo>
                  <a:lnTo>
                    <a:pt x="2499" y="1734"/>
                  </a:lnTo>
                  <a:lnTo>
                    <a:pt x="2501" y="1605"/>
                  </a:lnTo>
                  <a:lnTo>
                    <a:pt x="2505" y="1322"/>
                  </a:lnTo>
                  <a:lnTo>
                    <a:pt x="2507" y="1724"/>
                  </a:lnTo>
                  <a:lnTo>
                    <a:pt x="2510" y="1155"/>
                  </a:lnTo>
                  <a:lnTo>
                    <a:pt x="2513" y="336"/>
                  </a:lnTo>
                  <a:lnTo>
                    <a:pt x="2516" y="1606"/>
                  </a:lnTo>
                  <a:lnTo>
                    <a:pt x="2519" y="1288"/>
                  </a:lnTo>
                  <a:lnTo>
                    <a:pt x="2521" y="1362"/>
                  </a:lnTo>
                  <a:lnTo>
                    <a:pt x="2525" y="1400"/>
                  </a:lnTo>
                  <a:lnTo>
                    <a:pt x="2527" y="1180"/>
                  </a:lnTo>
                  <a:lnTo>
                    <a:pt x="2530" y="1807"/>
                  </a:lnTo>
                  <a:lnTo>
                    <a:pt x="2534" y="1304"/>
                  </a:lnTo>
                  <a:lnTo>
                    <a:pt x="2536" y="1795"/>
                  </a:lnTo>
                  <a:lnTo>
                    <a:pt x="2539" y="1869"/>
                  </a:lnTo>
                  <a:lnTo>
                    <a:pt x="2541" y="1971"/>
                  </a:lnTo>
                  <a:lnTo>
                    <a:pt x="2545" y="1095"/>
                  </a:lnTo>
                  <a:lnTo>
                    <a:pt x="2547" y="1741"/>
                  </a:lnTo>
                  <a:lnTo>
                    <a:pt x="2550" y="1171"/>
                  </a:lnTo>
                  <a:lnTo>
                    <a:pt x="2554" y="1380"/>
                  </a:lnTo>
                  <a:lnTo>
                    <a:pt x="2556" y="1536"/>
                  </a:lnTo>
                  <a:lnTo>
                    <a:pt x="2559" y="2060"/>
                  </a:lnTo>
                  <a:lnTo>
                    <a:pt x="2561" y="1297"/>
                  </a:lnTo>
                  <a:lnTo>
                    <a:pt x="2565" y="1334"/>
                  </a:lnTo>
                  <a:lnTo>
                    <a:pt x="2567" y="1843"/>
                  </a:lnTo>
                  <a:lnTo>
                    <a:pt x="2570" y="1524"/>
                  </a:lnTo>
                  <a:lnTo>
                    <a:pt x="2573" y="1982"/>
                  </a:lnTo>
                  <a:lnTo>
                    <a:pt x="2576" y="1511"/>
                  </a:lnTo>
                  <a:lnTo>
                    <a:pt x="2579" y="1131"/>
                  </a:lnTo>
                  <a:lnTo>
                    <a:pt x="2582" y="1611"/>
                  </a:lnTo>
                  <a:lnTo>
                    <a:pt x="2585" y="1683"/>
                  </a:lnTo>
                  <a:lnTo>
                    <a:pt x="2587" y="1438"/>
                  </a:lnTo>
                  <a:lnTo>
                    <a:pt x="2590" y="1064"/>
                  </a:lnTo>
                  <a:lnTo>
                    <a:pt x="2593" y="938"/>
                  </a:lnTo>
                  <a:lnTo>
                    <a:pt x="2596" y="1669"/>
                  </a:lnTo>
                  <a:lnTo>
                    <a:pt x="2599" y="1949"/>
                  </a:lnTo>
                  <a:lnTo>
                    <a:pt x="2602" y="964"/>
                  </a:lnTo>
                  <a:lnTo>
                    <a:pt x="2605" y="2001"/>
                  </a:lnTo>
                  <a:lnTo>
                    <a:pt x="2607" y="1188"/>
                  </a:lnTo>
                  <a:lnTo>
                    <a:pt x="2611" y="1803"/>
                  </a:lnTo>
                  <a:lnTo>
                    <a:pt x="2613" y="1977"/>
                  </a:lnTo>
                  <a:lnTo>
                    <a:pt x="2616" y="2097"/>
                  </a:lnTo>
                  <a:lnTo>
                    <a:pt x="2619" y="289"/>
                  </a:lnTo>
                  <a:lnTo>
                    <a:pt x="2622" y="1215"/>
                  </a:lnTo>
                  <a:lnTo>
                    <a:pt x="2625" y="1890"/>
                  </a:lnTo>
                  <a:lnTo>
                    <a:pt x="2627" y="1469"/>
                  </a:lnTo>
                  <a:lnTo>
                    <a:pt x="2631" y="1253"/>
                  </a:lnTo>
                  <a:lnTo>
                    <a:pt x="2633" y="1513"/>
                  </a:lnTo>
                  <a:lnTo>
                    <a:pt x="2636" y="497"/>
                  </a:lnTo>
                  <a:lnTo>
                    <a:pt x="2638" y="1410"/>
                  </a:lnTo>
                  <a:lnTo>
                    <a:pt x="2642" y="1741"/>
                  </a:lnTo>
                  <a:lnTo>
                    <a:pt x="2645" y="1541"/>
                  </a:lnTo>
                  <a:lnTo>
                    <a:pt x="2647" y="522"/>
                  </a:lnTo>
                  <a:lnTo>
                    <a:pt x="2651" y="1687"/>
                  </a:lnTo>
                  <a:lnTo>
                    <a:pt x="2653" y="1313"/>
                  </a:lnTo>
                  <a:lnTo>
                    <a:pt x="2656" y="1321"/>
                  </a:lnTo>
                  <a:lnTo>
                    <a:pt x="2658" y="1406"/>
                  </a:lnTo>
                  <a:lnTo>
                    <a:pt x="2662" y="1514"/>
                  </a:lnTo>
                  <a:lnTo>
                    <a:pt x="2665" y="1910"/>
                  </a:lnTo>
                  <a:lnTo>
                    <a:pt x="2667" y="1959"/>
                  </a:lnTo>
                  <a:lnTo>
                    <a:pt x="2671" y="1465"/>
                  </a:lnTo>
                  <a:lnTo>
                    <a:pt x="2673" y="1505"/>
                  </a:lnTo>
                  <a:lnTo>
                    <a:pt x="2676" y="622"/>
                  </a:lnTo>
                  <a:lnTo>
                    <a:pt x="2679" y="1733"/>
                  </a:lnTo>
                  <a:lnTo>
                    <a:pt x="2682" y="1713"/>
                  </a:lnTo>
                  <a:lnTo>
                    <a:pt x="2685" y="1169"/>
                  </a:lnTo>
                  <a:lnTo>
                    <a:pt x="2687" y="1339"/>
                  </a:lnTo>
                  <a:lnTo>
                    <a:pt x="2691" y="852"/>
                  </a:lnTo>
                  <a:lnTo>
                    <a:pt x="2693" y="1971"/>
                  </a:lnTo>
                  <a:lnTo>
                    <a:pt x="2696" y="1416"/>
                  </a:lnTo>
                  <a:lnTo>
                    <a:pt x="2699" y="1641"/>
                  </a:lnTo>
                  <a:lnTo>
                    <a:pt x="2702" y="2126"/>
                  </a:lnTo>
                  <a:lnTo>
                    <a:pt x="2705" y="1260"/>
                  </a:lnTo>
                  <a:lnTo>
                    <a:pt x="2708" y="1528"/>
                  </a:lnTo>
                  <a:lnTo>
                    <a:pt x="2711" y="1274"/>
                  </a:lnTo>
                  <a:lnTo>
                    <a:pt x="2713" y="1843"/>
                  </a:lnTo>
                  <a:lnTo>
                    <a:pt x="2717" y="1050"/>
                  </a:lnTo>
                  <a:lnTo>
                    <a:pt x="2719" y="1567"/>
                  </a:lnTo>
                  <a:lnTo>
                    <a:pt x="2722" y="1609"/>
                  </a:lnTo>
                  <a:lnTo>
                    <a:pt x="2724" y="1010"/>
                  </a:lnTo>
                  <a:lnTo>
                    <a:pt x="2728" y="1556"/>
                  </a:lnTo>
                  <a:lnTo>
                    <a:pt x="2731" y="1963"/>
                  </a:lnTo>
                  <a:lnTo>
                    <a:pt x="2733" y="1971"/>
                  </a:lnTo>
                  <a:lnTo>
                    <a:pt x="2737" y="1894"/>
                  </a:lnTo>
                  <a:lnTo>
                    <a:pt x="2739" y="1569"/>
                  </a:lnTo>
                  <a:lnTo>
                    <a:pt x="2742" y="1414"/>
                  </a:lnTo>
                  <a:lnTo>
                    <a:pt x="2744" y="117"/>
                  </a:lnTo>
                  <a:lnTo>
                    <a:pt x="2748" y="1481"/>
                  </a:lnTo>
                  <a:lnTo>
                    <a:pt x="2751" y="1825"/>
                  </a:lnTo>
                  <a:lnTo>
                    <a:pt x="2753" y="1575"/>
                  </a:lnTo>
                  <a:lnTo>
                    <a:pt x="2757" y="1445"/>
                  </a:lnTo>
                  <a:lnTo>
                    <a:pt x="2759" y="1710"/>
                  </a:lnTo>
                  <a:lnTo>
                    <a:pt x="2762" y="1840"/>
                  </a:lnTo>
                  <a:lnTo>
                    <a:pt x="2764" y="769"/>
                  </a:lnTo>
                  <a:lnTo>
                    <a:pt x="2768" y="1809"/>
                  </a:lnTo>
                  <a:lnTo>
                    <a:pt x="2771" y="1520"/>
                  </a:lnTo>
                  <a:lnTo>
                    <a:pt x="2773" y="554"/>
                  </a:lnTo>
                  <a:lnTo>
                    <a:pt x="2777" y="1930"/>
                  </a:lnTo>
                  <a:lnTo>
                    <a:pt x="2779" y="1731"/>
                  </a:lnTo>
                  <a:lnTo>
                    <a:pt x="2782" y="901"/>
                  </a:lnTo>
                  <a:lnTo>
                    <a:pt x="2785" y="1669"/>
                  </a:lnTo>
                  <a:lnTo>
                    <a:pt x="2788" y="1689"/>
                  </a:lnTo>
                  <a:lnTo>
                    <a:pt x="2790" y="2085"/>
                  </a:lnTo>
                  <a:lnTo>
                    <a:pt x="2793" y="1864"/>
                  </a:lnTo>
                  <a:lnTo>
                    <a:pt x="2797" y="1674"/>
                  </a:lnTo>
                  <a:lnTo>
                    <a:pt x="2799" y="1899"/>
                  </a:lnTo>
                  <a:lnTo>
                    <a:pt x="2802" y="1621"/>
                  </a:lnTo>
                  <a:lnTo>
                    <a:pt x="2805" y="1556"/>
                  </a:lnTo>
                  <a:lnTo>
                    <a:pt x="2808" y="986"/>
                  </a:lnTo>
                  <a:lnTo>
                    <a:pt x="2810" y="1622"/>
                  </a:lnTo>
                  <a:lnTo>
                    <a:pt x="2814" y="1719"/>
                  </a:lnTo>
                  <a:lnTo>
                    <a:pt x="2817" y="925"/>
                  </a:lnTo>
                  <a:lnTo>
                    <a:pt x="2819" y="1498"/>
                  </a:lnTo>
                  <a:lnTo>
                    <a:pt x="2822" y="1602"/>
                  </a:lnTo>
                  <a:lnTo>
                    <a:pt x="2825" y="616"/>
                  </a:lnTo>
                  <a:lnTo>
                    <a:pt x="2828" y="1452"/>
                  </a:lnTo>
                  <a:lnTo>
                    <a:pt x="2830" y="1328"/>
                  </a:lnTo>
                  <a:lnTo>
                    <a:pt x="2834" y="2050"/>
                  </a:lnTo>
                  <a:lnTo>
                    <a:pt x="2837" y="1434"/>
                  </a:lnTo>
                  <a:lnTo>
                    <a:pt x="2839" y="1268"/>
                  </a:lnTo>
                  <a:lnTo>
                    <a:pt x="2843" y="1423"/>
                  </a:lnTo>
                  <a:lnTo>
                    <a:pt x="2845" y="1120"/>
                  </a:lnTo>
                  <a:lnTo>
                    <a:pt x="2848" y="454"/>
                  </a:lnTo>
                  <a:lnTo>
                    <a:pt x="2850" y="1606"/>
                  </a:lnTo>
                  <a:lnTo>
                    <a:pt x="2854" y="966"/>
                  </a:lnTo>
                  <a:lnTo>
                    <a:pt x="2856" y="782"/>
                  </a:lnTo>
                  <a:lnTo>
                    <a:pt x="2859" y="1788"/>
                  </a:lnTo>
                  <a:lnTo>
                    <a:pt x="2863" y="1417"/>
                  </a:lnTo>
                  <a:lnTo>
                    <a:pt x="2865" y="2035"/>
                  </a:lnTo>
                  <a:lnTo>
                    <a:pt x="2868" y="1532"/>
                  </a:lnTo>
                  <a:lnTo>
                    <a:pt x="2870" y="1688"/>
                  </a:lnTo>
                  <a:lnTo>
                    <a:pt x="2874" y="1322"/>
                  </a:lnTo>
                  <a:lnTo>
                    <a:pt x="2876" y="1129"/>
                  </a:lnTo>
                  <a:lnTo>
                    <a:pt x="2879" y="1216"/>
                  </a:lnTo>
                  <a:lnTo>
                    <a:pt x="2883" y="1250"/>
                  </a:lnTo>
                  <a:lnTo>
                    <a:pt x="2885" y="1122"/>
                  </a:lnTo>
                  <a:lnTo>
                    <a:pt x="2888" y="1231"/>
                  </a:lnTo>
                  <a:lnTo>
                    <a:pt x="2891" y="1220"/>
                  </a:lnTo>
                  <a:lnTo>
                    <a:pt x="2894" y="2090"/>
                  </a:lnTo>
                  <a:lnTo>
                    <a:pt x="2896" y="1625"/>
                  </a:lnTo>
                  <a:lnTo>
                    <a:pt x="2899" y="943"/>
                  </a:lnTo>
                  <a:lnTo>
                    <a:pt x="2903" y="1586"/>
                  </a:lnTo>
                  <a:lnTo>
                    <a:pt x="2905" y="2068"/>
                  </a:lnTo>
                  <a:lnTo>
                    <a:pt x="2908" y="1664"/>
                  </a:lnTo>
                  <a:lnTo>
                    <a:pt x="2911" y="1541"/>
                  </a:lnTo>
                  <a:lnTo>
                    <a:pt x="2914" y="911"/>
                  </a:lnTo>
                  <a:lnTo>
                    <a:pt x="2916" y="2103"/>
                  </a:lnTo>
                  <a:lnTo>
                    <a:pt x="2920" y="1560"/>
                  </a:lnTo>
                  <a:lnTo>
                    <a:pt x="2922" y="1766"/>
                  </a:lnTo>
                  <a:lnTo>
                    <a:pt x="2925" y="1140"/>
                  </a:lnTo>
                  <a:lnTo>
                    <a:pt x="2928" y="1616"/>
                  </a:lnTo>
                  <a:lnTo>
                    <a:pt x="2931" y="1960"/>
                  </a:lnTo>
                  <a:lnTo>
                    <a:pt x="2934" y="831"/>
                  </a:lnTo>
                  <a:lnTo>
                    <a:pt x="2936" y="1555"/>
                  </a:lnTo>
                  <a:lnTo>
                    <a:pt x="2940" y="692"/>
                  </a:lnTo>
                  <a:lnTo>
                    <a:pt x="2942" y="1624"/>
                  </a:lnTo>
                  <a:lnTo>
                    <a:pt x="2945" y="2014"/>
                  </a:lnTo>
                  <a:lnTo>
                    <a:pt x="2949" y="1103"/>
                  </a:lnTo>
                  <a:lnTo>
                    <a:pt x="2951" y="481"/>
                  </a:lnTo>
                  <a:lnTo>
                    <a:pt x="2954" y="1764"/>
                  </a:lnTo>
                  <a:lnTo>
                    <a:pt x="2956" y="1937"/>
                  </a:lnTo>
                  <a:lnTo>
                    <a:pt x="2960" y="1057"/>
                  </a:lnTo>
                  <a:lnTo>
                    <a:pt x="2962" y="1175"/>
                  </a:lnTo>
                  <a:lnTo>
                    <a:pt x="2965" y="1977"/>
                  </a:lnTo>
                  <a:lnTo>
                    <a:pt x="2969" y="1611"/>
                  </a:lnTo>
                  <a:lnTo>
                    <a:pt x="2971" y="1792"/>
                  </a:lnTo>
                  <a:lnTo>
                    <a:pt x="2974" y="1126"/>
                  </a:lnTo>
                  <a:lnTo>
                    <a:pt x="2976" y="726"/>
                  </a:lnTo>
                  <a:lnTo>
                    <a:pt x="2980" y="1443"/>
                  </a:lnTo>
                  <a:lnTo>
                    <a:pt x="2982" y="1044"/>
                  </a:lnTo>
                  <a:lnTo>
                    <a:pt x="2985" y="1313"/>
                  </a:lnTo>
                  <a:lnTo>
                    <a:pt x="2988" y="1140"/>
                  </a:lnTo>
                  <a:lnTo>
                    <a:pt x="2991" y="1442"/>
                  </a:lnTo>
                  <a:lnTo>
                    <a:pt x="2994" y="1519"/>
                  </a:lnTo>
                  <a:lnTo>
                    <a:pt x="2997" y="1967"/>
                  </a:lnTo>
                  <a:lnTo>
                    <a:pt x="3000" y="1926"/>
                  </a:lnTo>
                  <a:lnTo>
                    <a:pt x="3002" y="1908"/>
                  </a:lnTo>
                  <a:lnTo>
                    <a:pt x="3005" y="1963"/>
                  </a:lnTo>
                  <a:lnTo>
                    <a:pt x="3008" y="2066"/>
                  </a:lnTo>
                  <a:lnTo>
                    <a:pt x="3011" y="1831"/>
                  </a:lnTo>
                  <a:lnTo>
                    <a:pt x="3014" y="2037"/>
                  </a:lnTo>
                  <a:lnTo>
                    <a:pt x="3017" y="1503"/>
                  </a:lnTo>
                  <a:lnTo>
                    <a:pt x="3020" y="960"/>
                  </a:lnTo>
                  <a:lnTo>
                    <a:pt x="3022" y="1556"/>
                  </a:lnTo>
                  <a:lnTo>
                    <a:pt x="3026" y="926"/>
                  </a:lnTo>
                  <a:lnTo>
                    <a:pt x="3028" y="1399"/>
                  </a:lnTo>
                  <a:lnTo>
                    <a:pt x="3031" y="1040"/>
                  </a:lnTo>
                  <a:lnTo>
                    <a:pt x="3034" y="960"/>
                  </a:lnTo>
                  <a:lnTo>
                    <a:pt x="3037" y="1220"/>
                  </a:lnTo>
                  <a:lnTo>
                    <a:pt x="3040" y="1645"/>
                  </a:lnTo>
                  <a:lnTo>
                    <a:pt x="3042" y="556"/>
                  </a:lnTo>
                  <a:lnTo>
                    <a:pt x="3046" y="1664"/>
                  </a:lnTo>
                  <a:lnTo>
                    <a:pt x="3048" y="1609"/>
                  </a:lnTo>
                  <a:lnTo>
                    <a:pt x="3051" y="1444"/>
                  </a:lnTo>
                  <a:lnTo>
                    <a:pt x="3053" y="1167"/>
                  </a:lnTo>
                  <a:lnTo>
                    <a:pt x="3057" y="1480"/>
                  </a:lnTo>
                  <a:lnTo>
                    <a:pt x="3060" y="1738"/>
                  </a:lnTo>
                  <a:lnTo>
                    <a:pt x="3062" y="1712"/>
                  </a:lnTo>
                  <a:lnTo>
                    <a:pt x="3066" y="1524"/>
                  </a:lnTo>
                  <a:lnTo>
                    <a:pt x="3068" y="1616"/>
                  </a:lnTo>
                  <a:lnTo>
                    <a:pt x="3071" y="1260"/>
                  </a:lnTo>
                  <a:lnTo>
                    <a:pt x="3073" y="763"/>
                  </a:lnTo>
                  <a:lnTo>
                    <a:pt x="3077" y="970"/>
                  </a:lnTo>
                  <a:lnTo>
                    <a:pt x="3080" y="1170"/>
                  </a:lnTo>
                  <a:lnTo>
                    <a:pt x="3082" y="1299"/>
                  </a:lnTo>
                  <a:lnTo>
                    <a:pt x="3086" y="1503"/>
                  </a:lnTo>
                  <a:lnTo>
                    <a:pt x="3088" y="567"/>
                  </a:lnTo>
                  <a:lnTo>
                    <a:pt x="3091" y="1972"/>
                  </a:lnTo>
                  <a:lnTo>
                    <a:pt x="3094" y="1238"/>
                  </a:lnTo>
                  <a:lnTo>
                    <a:pt x="3097" y="1741"/>
                  </a:lnTo>
                  <a:lnTo>
                    <a:pt x="3100" y="1500"/>
                  </a:lnTo>
                  <a:lnTo>
                    <a:pt x="3102" y="1194"/>
                  </a:lnTo>
                  <a:lnTo>
                    <a:pt x="3106" y="1472"/>
                  </a:lnTo>
                  <a:lnTo>
                    <a:pt x="3108" y="805"/>
                  </a:lnTo>
                  <a:lnTo>
                    <a:pt x="3111" y="1192"/>
                  </a:lnTo>
                  <a:lnTo>
                    <a:pt x="3114" y="1989"/>
                  </a:lnTo>
                  <a:lnTo>
                    <a:pt x="3117" y="1324"/>
                  </a:lnTo>
                  <a:lnTo>
                    <a:pt x="3119" y="1444"/>
                  </a:lnTo>
                  <a:lnTo>
                    <a:pt x="3123" y="1718"/>
                  </a:lnTo>
                  <a:lnTo>
                    <a:pt x="3126" y="1089"/>
                  </a:lnTo>
                  <a:lnTo>
                    <a:pt x="3128" y="1245"/>
                  </a:lnTo>
                  <a:lnTo>
                    <a:pt x="3131" y="1153"/>
                  </a:lnTo>
                  <a:lnTo>
                    <a:pt x="3134" y="1858"/>
                  </a:lnTo>
                  <a:lnTo>
                    <a:pt x="3137" y="2050"/>
                  </a:lnTo>
                  <a:lnTo>
                    <a:pt x="3139" y="1721"/>
                  </a:lnTo>
                  <a:lnTo>
                    <a:pt x="3143" y="1485"/>
                  </a:lnTo>
                  <a:lnTo>
                    <a:pt x="3146" y="513"/>
                  </a:lnTo>
                  <a:lnTo>
                    <a:pt x="3148" y="1910"/>
                  </a:lnTo>
                  <a:lnTo>
                    <a:pt x="3152" y="1569"/>
                  </a:lnTo>
                  <a:lnTo>
                    <a:pt x="3154" y="1220"/>
                  </a:lnTo>
                  <a:lnTo>
                    <a:pt x="3157" y="1754"/>
                  </a:lnTo>
                  <a:lnTo>
                    <a:pt x="3159" y="782"/>
                  </a:lnTo>
                  <a:lnTo>
                    <a:pt x="3163" y="670"/>
                  </a:lnTo>
                  <a:lnTo>
                    <a:pt x="3166" y="1200"/>
                  </a:lnTo>
                  <a:lnTo>
                    <a:pt x="3168" y="1733"/>
                  </a:lnTo>
                  <a:lnTo>
                    <a:pt x="3172" y="628"/>
                  </a:lnTo>
                  <a:lnTo>
                    <a:pt x="3174" y="1859"/>
                  </a:lnTo>
                  <a:lnTo>
                    <a:pt x="3177" y="170"/>
                  </a:lnTo>
                  <a:lnTo>
                    <a:pt x="3179" y="1788"/>
                  </a:lnTo>
                  <a:lnTo>
                    <a:pt x="3183" y="1550"/>
                  </a:lnTo>
                  <a:lnTo>
                    <a:pt x="3186" y="915"/>
                  </a:lnTo>
                  <a:lnTo>
                    <a:pt x="3188" y="922"/>
                  </a:lnTo>
                  <a:lnTo>
                    <a:pt x="3192" y="1002"/>
                  </a:lnTo>
                  <a:lnTo>
                    <a:pt x="3194" y="819"/>
                  </a:lnTo>
                  <a:lnTo>
                    <a:pt x="3197" y="841"/>
                  </a:lnTo>
                  <a:lnTo>
                    <a:pt x="3200" y="1606"/>
                  </a:lnTo>
                  <a:lnTo>
                    <a:pt x="3203" y="845"/>
                  </a:lnTo>
                  <a:lnTo>
                    <a:pt x="3205" y="1319"/>
                  </a:lnTo>
                  <a:lnTo>
                    <a:pt x="3208" y="2050"/>
                  </a:lnTo>
                  <a:lnTo>
                    <a:pt x="3212" y="1809"/>
                  </a:lnTo>
                  <a:lnTo>
                    <a:pt x="3214" y="1811"/>
                  </a:lnTo>
                  <a:lnTo>
                    <a:pt x="3217" y="1055"/>
                  </a:lnTo>
                  <a:lnTo>
                    <a:pt x="3220" y="1421"/>
                  </a:lnTo>
                  <a:lnTo>
                    <a:pt x="3223" y="1521"/>
                  </a:lnTo>
                  <a:lnTo>
                    <a:pt x="3225" y="1395"/>
                  </a:lnTo>
                  <a:lnTo>
                    <a:pt x="3229" y="1225"/>
                  </a:lnTo>
                  <a:lnTo>
                    <a:pt x="3232" y="2001"/>
                  </a:lnTo>
                  <a:lnTo>
                    <a:pt x="3234" y="1167"/>
                  </a:lnTo>
                  <a:lnTo>
                    <a:pt x="3237" y="146"/>
                  </a:lnTo>
                  <a:lnTo>
                    <a:pt x="3240" y="1805"/>
                  </a:lnTo>
                  <a:lnTo>
                    <a:pt x="3243" y="1762"/>
                  </a:lnTo>
                  <a:lnTo>
                    <a:pt x="3245" y="732"/>
                  </a:lnTo>
                  <a:lnTo>
                    <a:pt x="3249" y="1827"/>
                  </a:lnTo>
                  <a:lnTo>
                    <a:pt x="3252" y="1386"/>
                  </a:lnTo>
                  <a:lnTo>
                    <a:pt x="3254" y="1690"/>
                  </a:lnTo>
                  <a:lnTo>
                    <a:pt x="3258" y="2038"/>
                  </a:lnTo>
                  <a:lnTo>
                    <a:pt x="3260" y="1538"/>
                  </a:lnTo>
                  <a:lnTo>
                    <a:pt x="3263" y="1181"/>
                  </a:lnTo>
                  <a:lnTo>
                    <a:pt x="3265" y="1999"/>
                  </a:lnTo>
                  <a:lnTo>
                    <a:pt x="3269" y="674"/>
                  </a:lnTo>
                  <a:lnTo>
                    <a:pt x="3271" y="365"/>
                  </a:lnTo>
                  <a:lnTo>
                    <a:pt x="3274" y="1194"/>
                  </a:lnTo>
                  <a:lnTo>
                    <a:pt x="3278" y="1822"/>
                  </a:lnTo>
                  <a:lnTo>
                    <a:pt x="3280" y="1321"/>
                  </a:lnTo>
                  <a:lnTo>
                    <a:pt x="3283" y="775"/>
                  </a:lnTo>
                  <a:lnTo>
                    <a:pt x="3285" y="1814"/>
                  </a:lnTo>
                  <a:lnTo>
                    <a:pt x="3289" y="955"/>
                  </a:lnTo>
                  <a:lnTo>
                    <a:pt x="3291" y="1221"/>
                  </a:lnTo>
                  <a:lnTo>
                    <a:pt x="3294" y="1679"/>
                  </a:lnTo>
                  <a:lnTo>
                    <a:pt x="3298" y="1097"/>
                  </a:lnTo>
                  <a:lnTo>
                    <a:pt x="3300" y="1908"/>
                  </a:lnTo>
                  <a:lnTo>
                    <a:pt x="3303" y="1284"/>
                  </a:lnTo>
                  <a:lnTo>
                    <a:pt x="3306" y="1527"/>
                  </a:lnTo>
                  <a:lnTo>
                    <a:pt x="3309" y="1657"/>
                  </a:lnTo>
                  <a:lnTo>
                    <a:pt x="3311" y="864"/>
                  </a:lnTo>
                  <a:lnTo>
                    <a:pt x="3314" y="1780"/>
                  </a:lnTo>
                  <a:lnTo>
                    <a:pt x="3318" y="1220"/>
                  </a:lnTo>
                  <a:lnTo>
                    <a:pt x="3320" y="1015"/>
                  </a:lnTo>
                  <a:lnTo>
                    <a:pt x="3323" y="1733"/>
                  </a:lnTo>
                  <a:lnTo>
                    <a:pt x="3326" y="2067"/>
                  </a:lnTo>
                  <a:lnTo>
                    <a:pt x="3329" y="1559"/>
                  </a:lnTo>
                  <a:lnTo>
                    <a:pt x="3331" y="1415"/>
                  </a:lnTo>
                  <a:lnTo>
                    <a:pt x="3335" y="1326"/>
                  </a:lnTo>
                  <a:lnTo>
                    <a:pt x="3337" y="1395"/>
                  </a:lnTo>
                  <a:lnTo>
                    <a:pt x="3340" y="887"/>
                  </a:lnTo>
                  <a:lnTo>
                    <a:pt x="3343" y="1521"/>
                  </a:lnTo>
                  <a:lnTo>
                    <a:pt x="3346" y="2070"/>
                  </a:lnTo>
                  <a:lnTo>
                    <a:pt x="3349" y="2061"/>
                  </a:lnTo>
                  <a:lnTo>
                    <a:pt x="3351" y="1537"/>
                  </a:lnTo>
                  <a:lnTo>
                    <a:pt x="3355" y="1640"/>
                  </a:lnTo>
                  <a:lnTo>
                    <a:pt x="3357" y="1810"/>
                  </a:lnTo>
                  <a:lnTo>
                    <a:pt x="3360" y="1915"/>
                  </a:lnTo>
                  <a:lnTo>
                    <a:pt x="3364" y="1870"/>
                  </a:lnTo>
                  <a:lnTo>
                    <a:pt x="3366" y="846"/>
                  </a:lnTo>
                  <a:lnTo>
                    <a:pt x="3369" y="1851"/>
                  </a:lnTo>
                  <a:lnTo>
                    <a:pt x="3371" y="1210"/>
                  </a:lnTo>
                  <a:lnTo>
                    <a:pt x="3375" y="1053"/>
                  </a:lnTo>
                  <a:lnTo>
                    <a:pt x="3377" y="1157"/>
                  </a:lnTo>
                  <a:lnTo>
                    <a:pt x="3380" y="1377"/>
                  </a:lnTo>
                  <a:lnTo>
                    <a:pt x="3384" y="1956"/>
                  </a:lnTo>
                  <a:lnTo>
                    <a:pt x="3386" y="1168"/>
                  </a:lnTo>
                  <a:lnTo>
                    <a:pt x="3389" y="1391"/>
                  </a:lnTo>
                  <a:lnTo>
                    <a:pt x="3391" y="1559"/>
                  </a:lnTo>
                  <a:lnTo>
                    <a:pt x="3395" y="1365"/>
                  </a:lnTo>
                  <a:lnTo>
                    <a:pt x="3397" y="1391"/>
                  </a:lnTo>
                  <a:lnTo>
                    <a:pt x="3400" y="1367"/>
                  </a:lnTo>
                  <a:lnTo>
                    <a:pt x="3403" y="1534"/>
                  </a:lnTo>
                  <a:lnTo>
                    <a:pt x="3406" y="2174"/>
                  </a:lnTo>
                  <a:lnTo>
                    <a:pt x="3409" y="1533"/>
                  </a:lnTo>
                  <a:lnTo>
                    <a:pt x="3411" y="1845"/>
                  </a:lnTo>
                  <a:lnTo>
                    <a:pt x="3415" y="1069"/>
                  </a:lnTo>
                  <a:lnTo>
                    <a:pt x="3417" y="1472"/>
                  </a:lnTo>
                  <a:lnTo>
                    <a:pt x="3420" y="1908"/>
                  </a:lnTo>
                  <a:lnTo>
                    <a:pt x="3423" y="1141"/>
                  </a:lnTo>
                  <a:lnTo>
                    <a:pt x="3426" y="1053"/>
                  </a:lnTo>
                  <a:lnTo>
                    <a:pt x="3429" y="1106"/>
                  </a:lnTo>
                  <a:lnTo>
                    <a:pt x="3432" y="1334"/>
                  </a:lnTo>
                  <a:lnTo>
                    <a:pt x="3435" y="968"/>
                  </a:lnTo>
                  <a:lnTo>
                    <a:pt x="3437" y="1797"/>
                  </a:lnTo>
                  <a:lnTo>
                    <a:pt x="3441" y="1606"/>
                  </a:lnTo>
                  <a:lnTo>
                    <a:pt x="3443" y="808"/>
                  </a:lnTo>
                  <a:lnTo>
                    <a:pt x="3446" y="2131"/>
                  </a:lnTo>
                  <a:lnTo>
                    <a:pt x="3449" y="1244"/>
                  </a:lnTo>
                  <a:lnTo>
                    <a:pt x="3452" y="1054"/>
                  </a:lnTo>
                  <a:lnTo>
                    <a:pt x="3455" y="824"/>
                  </a:lnTo>
                  <a:lnTo>
                    <a:pt x="3457" y="652"/>
                  </a:lnTo>
                  <a:lnTo>
                    <a:pt x="3461" y="1578"/>
                  </a:lnTo>
                  <a:lnTo>
                    <a:pt x="3463" y="1676"/>
                  </a:lnTo>
                  <a:lnTo>
                    <a:pt x="3466" y="1438"/>
                  </a:lnTo>
                  <a:lnTo>
                    <a:pt x="3468" y="1839"/>
                  </a:lnTo>
                  <a:lnTo>
                    <a:pt x="3472" y="953"/>
                  </a:lnTo>
                  <a:lnTo>
                    <a:pt x="3475" y="2005"/>
                  </a:lnTo>
                  <a:lnTo>
                    <a:pt x="3477" y="1109"/>
                  </a:lnTo>
                  <a:lnTo>
                    <a:pt x="3481" y="1224"/>
                  </a:lnTo>
                  <a:lnTo>
                    <a:pt x="3483" y="1840"/>
                  </a:lnTo>
                  <a:lnTo>
                    <a:pt x="3486" y="1292"/>
                  </a:lnTo>
                  <a:lnTo>
                    <a:pt x="3488" y="1054"/>
                  </a:lnTo>
                  <a:lnTo>
                    <a:pt x="3492" y="525"/>
                  </a:lnTo>
                  <a:lnTo>
                    <a:pt x="3495" y="1151"/>
                  </a:lnTo>
                  <a:lnTo>
                    <a:pt x="3497" y="1333"/>
                  </a:lnTo>
                  <a:lnTo>
                    <a:pt x="3501" y="1755"/>
                  </a:lnTo>
                  <a:lnTo>
                    <a:pt x="3503" y="1265"/>
                  </a:lnTo>
                  <a:lnTo>
                    <a:pt x="3506" y="1893"/>
                  </a:lnTo>
                  <a:lnTo>
                    <a:pt x="3509" y="2138"/>
                  </a:lnTo>
                  <a:lnTo>
                    <a:pt x="3512" y="1082"/>
                  </a:lnTo>
                  <a:lnTo>
                    <a:pt x="3515" y="1313"/>
                  </a:lnTo>
                  <a:lnTo>
                    <a:pt x="3517" y="561"/>
                  </a:lnTo>
                  <a:lnTo>
                    <a:pt x="3521" y="1210"/>
                  </a:lnTo>
                  <a:lnTo>
                    <a:pt x="3523" y="1205"/>
                  </a:lnTo>
                  <a:lnTo>
                    <a:pt x="3526" y="1622"/>
                  </a:lnTo>
                  <a:lnTo>
                    <a:pt x="3529" y="1145"/>
                  </a:lnTo>
                  <a:lnTo>
                    <a:pt x="3532" y="1329"/>
                  </a:lnTo>
                  <a:lnTo>
                    <a:pt x="3534" y="758"/>
                  </a:lnTo>
                  <a:lnTo>
                    <a:pt x="3538" y="1339"/>
                  </a:lnTo>
                  <a:lnTo>
                    <a:pt x="3541" y="1668"/>
                  </a:lnTo>
                  <a:lnTo>
                    <a:pt x="3543" y="872"/>
                  </a:lnTo>
                  <a:lnTo>
                    <a:pt x="3546" y="1551"/>
                  </a:lnTo>
                  <a:lnTo>
                    <a:pt x="3549" y="743"/>
                  </a:lnTo>
                  <a:lnTo>
                    <a:pt x="3552" y="904"/>
                  </a:lnTo>
                  <a:lnTo>
                    <a:pt x="3554" y="877"/>
                  </a:lnTo>
                  <a:lnTo>
                    <a:pt x="3558" y="1033"/>
                  </a:lnTo>
                  <a:lnTo>
                    <a:pt x="3561" y="1788"/>
                  </a:lnTo>
                  <a:lnTo>
                    <a:pt x="3563" y="1537"/>
                  </a:lnTo>
                  <a:lnTo>
                    <a:pt x="3567" y="915"/>
                  </a:lnTo>
                  <a:lnTo>
                    <a:pt x="3569" y="2042"/>
                  </a:lnTo>
                  <a:lnTo>
                    <a:pt x="3572" y="1800"/>
                  </a:lnTo>
                  <a:lnTo>
                    <a:pt x="3574" y="664"/>
                  </a:lnTo>
                  <a:lnTo>
                    <a:pt x="3578" y="1727"/>
                  </a:lnTo>
                  <a:lnTo>
                    <a:pt x="3581" y="1839"/>
                  </a:lnTo>
                  <a:lnTo>
                    <a:pt x="3583" y="1565"/>
                  </a:lnTo>
                  <a:lnTo>
                    <a:pt x="3587" y="1583"/>
                  </a:lnTo>
                  <a:lnTo>
                    <a:pt x="3589" y="580"/>
                  </a:lnTo>
                  <a:lnTo>
                    <a:pt x="3592" y="1880"/>
                  </a:lnTo>
                  <a:lnTo>
                    <a:pt x="3594" y="1235"/>
                  </a:lnTo>
                  <a:lnTo>
                    <a:pt x="3598" y="1364"/>
                  </a:lnTo>
                  <a:lnTo>
                    <a:pt x="3600" y="1721"/>
                  </a:lnTo>
                  <a:lnTo>
                    <a:pt x="3603" y="1478"/>
                  </a:lnTo>
                  <a:lnTo>
                    <a:pt x="3607" y="1558"/>
                  </a:lnTo>
                  <a:lnTo>
                    <a:pt x="3609" y="1251"/>
                  </a:lnTo>
                  <a:lnTo>
                    <a:pt x="3612" y="1162"/>
                  </a:lnTo>
                  <a:lnTo>
                    <a:pt x="3615" y="2104"/>
                  </a:lnTo>
                  <a:lnTo>
                    <a:pt x="3618" y="1843"/>
                  </a:lnTo>
                  <a:lnTo>
                    <a:pt x="3620" y="1580"/>
                  </a:lnTo>
                  <a:lnTo>
                    <a:pt x="3623" y="531"/>
                  </a:lnTo>
                  <a:lnTo>
                    <a:pt x="3627" y="1956"/>
                  </a:lnTo>
                  <a:lnTo>
                    <a:pt x="3629" y="1461"/>
                  </a:lnTo>
                  <a:lnTo>
                    <a:pt x="3632" y="1595"/>
                  </a:lnTo>
                  <a:lnTo>
                    <a:pt x="3635" y="1864"/>
                  </a:lnTo>
                  <a:lnTo>
                    <a:pt x="3638" y="1308"/>
                  </a:lnTo>
                  <a:lnTo>
                    <a:pt x="3640" y="1939"/>
                  </a:lnTo>
                  <a:lnTo>
                    <a:pt x="3644" y="1735"/>
                  </a:lnTo>
                  <a:lnTo>
                    <a:pt x="3647" y="1801"/>
                  </a:lnTo>
                  <a:lnTo>
                    <a:pt x="3649" y="2075"/>
                  </a:lnTo>
                  <a:lnTo>
                    <a:pt x="3652" y="1967"/>
                  </a:lnTo>
                  <a:lnTo>
                    <a:pt x="3655" y="1602"/>
                  </a:lnTo>
                  <a:lnTo>
                    <a:pt x="3658" y="1819"/>
                  </a:lnTo>
                  <a:lnTo>
                    <a:pt x="3660" y="1829"/>
                  </a:lnTo>
                  <a:lnTo>
                    <a:pt x="3664" y="2038"/>
                  </a:lnTo>
                  <a:lnTo>
                    <a:pt x="3667" y="1097"/>
                  </a:lnTo>
                  <a:lnTo>
                    <a:pt x="3669" y="743"/>
                  </a:lnTo>
                  <a:lnTo>
                    <a:pt x="3673" y="1199"/>
                  </a:lnTo>
                  <a:lnTo>
                    <a:pt x="3675" y="1229"/>
                  </a:lnTo>
                  <a:lnTo>
                    <a:pt x="3678" y="1551"/>
                  </a:lnTo>
                  <a:lnTo>
                    <a:pt x="3680" y="1322"/>
                  </a:lnTo>
                  <a:lnTo>
                    <a:pt x="3684" y="1278"/>
                  </a:lnTo>
                  <a:lnTo>
                    <a:pt x="3686" y="1612"/>
                  </a:lnTo>
                  <a:lnTo>
                    <a:pt x="3689" y="1952"/>
                  </a:lnTo>
                  <a:lnTo>
                    <a:pt x="3693" y="1930"/>
                  </a:lnTo>
                  <a:lnTo>
                    <a:pt x="3695" y="1712"/>
                  </a:lnTo>
                  <a:lnTo>
                    <a:pt x="3698" y="1335"/>
                  </a:lnTo>
                  <a:lnTo>
                    <a:pt x="3700" y="1319"/>
                  </a:lnTo>
                  <a:lnTo>
                    <a:pt x="3704" y="1270"/>
                  </a:lnTo>
                  <a:lnTo>
                    <a:pt x="3706" y="1238"/>
                  </a:lnTo>
                  <a:lnTo>
                    <a:pt x="3709" y="1835"/>
                  </a:lnTo>
                  <a:lnTo>
                    <a:pt x="3713" y="1433"/>
                  </a:lnTo>
                  <a:lnTo>
                    <a:pt x="3715" y="1299"/>
                  </a:lnTo>
                  <a:lnTo>
                    <a:pt x="3718" y="1697"/>
                  </a:lnTo>
                  <a:lnTo>
                    <a:pt x="3721" y="522"/>
                  </a:lnTo>
                  <a:lnTo>
                    <a:pt x="3724" y="972"/>
                  </a:lnTo>
                  <a:lnTo>
                    <a:pt x="3726" y="1336"/>
                  </a:lnTo>
                  <a:lnTo>
                    <a:pt x="3729" y="1796"/>
                  </a:lnTo>
                  <a:lnTo>
                    <a:pt x="3733" y="1951"/>
                  </a:lnTo>
                  <a:lnTo>
                    <a:pt x="3735" y="1948"/>
                  </a:lnTo>
                  <a:lnTo>
                    <a:pt x="3738" y="1410"/>
                  </a:lnTo>
                  <a:lnTo>
                    <a:pt x="3741" y="1391"/>
                  </a:lnTo>
                  <a:lnTo>
                    <a:pt x="3744" y="918"/>
                  </a:lnTo>
                  <a:lnTo>
                    <a:pt x="3746" y="525"/>
                  </a:lnTo>
                  <a:lnTo>
                    <a:pt x="3750" y="1637"/>
                  </a:lnTo>
                  <a:lnTo>
                    <a:pt x="3752" y="1111"/>
                  </a:lnTo>
                  <a:lnTo>
                    <a:pt x="3755" y="1688"/>
                  </a:lnTo>
                  <a:lnTo>
                    <a:pt x="3758" y="2074"/>
                  </a:lnTo>
                  <a:lnTo>
                    <a:pt x="3761" y="820"/>
                  </a:lnTo>
                  <a:lnTo>
                    <a:pt x="3764" y="951"/>
                  </a:lnTo>
                  <a:lnTo>
                    <a:pt x="3766" y="1178"/>
                  </a:lnTo>
                  <a:lnTo>
                    <a:pt x="3770" y="2169"/>
                  </a:lnTo>
                  <a:lnTo>
                    <a:pt x="3772" y="1547"/>
                  </a:lnTo>
                  <a:lnTo>
                    <a:pt x="3775" y="1802"/>
                  </a:lnTo>
                  <a:lnTo>
                    <a:pt x="3779" y="1373"/>
                  </a:lnTo>
                  <a:lnTo>
                    <a:pt x="3781" y="1484"/>
                  </a:lnTo>
                  <a:lnTo>
                    <a:pt x="3784" y="1678"/>
                  </a:lnTo>
                  <a:lnTo>
                    <a:pt x="3786" y="993"/>
                  </a:lnTo>
                  <a:lnTo>
                    <a:pt x="3790" y="1532"/>
                  </a:lnTo>
                  <a:lnTo>
                    <a:pt x="3792" y="1588"/>
                  </a:lnTo>
                  <a:lnTo>
                    <a:pt x="3795" y="1296"/>
                  </a:lnTo>
                  <a:lnTo>
                    <a:pt x="3799" y="1505"/>
                  </a:lnTo>
                  <a:lnTo>
                    <a:pt x="3801" y="1302"/>
                  </a:lnTo>
                  <a:lnTo>
                    <a:pt x="3804" y="2073"/>
                  </a:lnTo>
                  <a:lnTo>
                    <a:pt x="3806" y="1708"/>
                  </a:lnTo>
                  <a:lnTo>
                    <a:pt x="3810" y="322"/>
                  </a:lnTo>
                  <a:lnTo>
                    <a:pt x="3812" y="1745"/>
                  </a:lnTo>
                  <a:lnTo>
                    <a:pt x="3815" y="1576"/>
                  </a:lnTo>
                  <a:lnTo>
                    <a:pt x="3818" y="160"/>
                  </a:lnTo>
                  <a:lnTo>
                    <a:pt x="3821" y="2009"/>
                  </a:lnTo>
                  <a:lnTo>
                    <a:pt x="3824" y="613"/>
                  </a:lnTo>
                  <a:lnTo>
                    <a:pt x="3826" y="2092"/>
                  </a:lnTo>
                  <a:lnTo>
                    <a:pt x="3830" y="1499"/>
                  </a:lnTo>
                  <a:lnTo>
                    <a:pt x="3832" y="1499"/>
                  </a:lnTo>
                  <a:lnTo>
                    <a:pt x="3835" y="1082"/>
                  </a:lnTo>
                  <a:lnTo>
                    <a:pt x="3838" y="1259"/>
                  </a:lnTo>
                  <a:lnTo>
                    <a:pt x="3841" y="1524"/>
                  </a:lnTo>
                  <a:lnTo>
                    <a:pt x="3844" y="1236"/>
                  </a:lnTo>
                  <a:lnTo>
                    <a:pt x="3847" y="1296"/>
                  </a:lnTo>
                  <a:lnTo>
                    <a:pt x="3850" y="1143"/>
                  </a:lnTo>
                  <a:lnTo>
                    <a:pt x="3852" y="605"/>
                  </a:lnTo>
                  <a:lnTo>
                    <a:pt x="3855" y="620"/>
                  </a:lnTo>
                  <a:lnTo>
                    <a:pt x="3858" y="2173"/>
                  </a:lnTo>
                  <a:lnTo>
                    <a:pt x="3861" y="1790"/>
                  </a:lnTo>
                  <a:lnTo>
                    <a:pt x="3864" y="1934"/>
                  </a:lnTo>
                  <a:lnTo>
                    <a:pt x="3867" y="1371"/>
                  </a:lnTo>
                  <a:lnTo>
                    <a:pt x="3870" y="1234"/>
                  </a:lnTo>
                  <a:lnTo>
                    <a:pt x="3872" y="1697"/>
                  </a:lnTo>
                  <a:lnTo>
                    <a:pt x="3876" y="1889"/>
                  </a:lnTo>
                  <a:lnTo>
                    <a:pt x="3878" y="1456"/>
                  </a:lnTo>
                  <a:lnTo>
                    <a:pt x="3881" y="1039"/>
                  </a:lnTo>
                  <a:lnTo>
                    <a:pt x="3883" y="926"/>
                  </a:lnTo>
                  <a:lnTo>
                    <a:pt x="3887" y="1675"/>
                  </a:lnTo>
                  <a:lnTo>
                    <a:pt x="3890" y="1748"/>
                  </a:lnTo>
                  <a:lnTo>
                    <a:pt x="3892" y="2036"/>
                  </a:lnTo>
                  <a:lnTo>
                    <a:pt x="3896" y="683"/>
                  </a:lnTo>
                  <a:lnTo>
                    <a:pt x="3898" y="1640"/>
                  </a:lnTo>
                  <a:lnTo>
                    <a:pt x="3901" y="1754"/>
                  </a:lnTo>
                  <a:lnTo>
                    <a:pt x="3903" y="1836"/>
                  </a:lnTo>
                  <a:lnTo>
                    <a:pt x="3907" y="1201"/>
                  </a:lnTo>
                  <a:lnTo>
                    <a:pt x="3910" y="1458"/>
                  </a:lnTo>
                  <a:lnTo>
                    <a:pt x="3912" y="1196"/>
                  </a:lnTo>
                  <a:lnTo>
                    <a:pt x="3916" y="1417"/>
                  </a:lnTo>
                  <a:lnTo>
                    <a:pt x="3918" y="1348"/>
                  </a:lnTo>
                  <a:lnTo>
                    <a:pt x="3921" y="1719"/>
                  </a:lnTo>
                  <a:lnTo>
                    <a:pt x="3924" y="1080"/>
                  </a:lnTo>
                  <a:lnTo>
                    <a:pt x="3927" y="1123"/>
                  </a:lnTo>
                  <a:lnTo>
                    <a:pt x="3930" y="1454"/>
                  </a:lnTo>
                  <a:lnTo>
                    <a:pt x="3932" y="1664"/>
                  </a:lnTo>
                  <a:lnTo>
                    <a:pt x="3936" y="823"/>
                  </a:lnTo>
                  <a:lnTo>
                    <a:pt x="3938" y="994"/>
                  </a:lnTo>
                  <a:lnTo>
                    <a:pt x="3941" y="1423"/>
                  </a:lnTo>
                  <a:lnTo>
                    <a:pt x="3944" y="1158"/>
                  </a:lnTo>
                  <a:lnTo>
                    <a:pt x="3947" y="1542"/>
                  </a:lnTo>
                  <a:lnTo>
                    <a:pt x="3949" y="1845"/>
                  </a:lnTo>
                  <a:lnTo>
                    <a:pt x="3953" y="544"/>
                  </a:lnTo>
                  <a:lnTo>
                    <a:pt x="3956" y="1178"/>
                  </a:lnTo>
                  <a:lnTo>
                    <a:pt x="3958" y="758"/>
                  </a:lnTo>
                  <a:lnTo>
                    <a:pt x="3961" y="1264"/>
                  </a:lnTo>
                  <a:lnTo>
                    <a:pt x="3964" y="1382"/>
                  </a:lnTo>
                  <a:lnTo>
                    <a:pt x="3967" y="1005"/>
                  </a:lnTo>
                  <a:lnTo>
                    <a:pt x="3969" y="1902"/>
                  </a:lnTo>
                  <a:lnTo>
                    <a:pt x="3973" y="1774"/>
                  </a:lnTo>
                  <a:lnTo>
                    <a:pt x="3976" y="1629"/>
                  </a:lnTo>
                  <a:lnTo>
                    <a:pt x="3978" y="1484"/>
                  </a:lnTo>
                  <a:lnTo>
                    <a:pt x="3982" y="1570"/>
                  </a:lnTo>
                  <a:lnTo>
                    <a:pt x="3984" y="1226"/>
                  </a:lnTo>
                  <a:lnTo>
                    <a:pt x="3987" y="1552"/>
                  </a:lnTo>
                  <a:lnTo>
                    <a:pt x="3989" y="1390"/>
                  </a:lnTo>
                  <a:lnTo>
                    <a:pt x="3993" y="1641"/>
                  </a:lnTo>
                  <a:lnTo>
                    <a:pt x="3996" y="731"/>
                  </a:lnTo>
                  <a:lnTo>
                    <a:pt x="3998" y="1145"/>
                  </a:lnTo>
                  <a:lnTo>
                    <a:pt x="4002" y="2184"/>
                  </a:lnTo>
                  <a:lnTo>
                    <a:pt x="4004" y="958"/>
                  </a:lnTo>
                  <a:lnTo>
                    <a:pt x="4007" y="1421"/>
                  </a:lnTo>
                  <a:lnTo>
                    <a:pt x="4009" y="1227"/>
                  </a:lnTo>
                  <a:lnTo>
                    <a:pt x="4013" y="1035"/>
                  </a:lnTo>
                  <a:lnTo>
                    <a:pt x="4015" y="1181"/>
                  </a:lnTo>
                  <a:lnTo>
                    <a:pt x="4018" y="1452"/>
                  </a:lnTo>
                  <a:lnTo>
                    <a:pt x="4022" y="708"/>
                  </a:lnTo>
                  <a:lnTo>
                    <a:pt x="4024" y="1386"/>
                  </a:lnTo>
                  <a:lnTo>
                    <a:pt x="4027" y="1638"/>
                  </a:lnTo>
                  <a:lnTo>
                    <a:pt x="4030" y="1134"/>
                  </a:lnTo>
                  <a:lnTo>
                    <a:pt x="4033" y="1264"/>
                  </a:lnTo>
                  <a:lnTo>
                    <a:pt x="4035" y="1791"/>
                  </a:lnTo>
                  <a:lnTo>
                    <a:pt x="4038" y="1082"/>
                  </a:lnTo>
                  <a:lnTo>
                    <a:pt x="4042" y="1060"/>
                  </a:lnTo>
                  <a:lnTo>
                    <a:pt x="4044" y="1596"/>
                  </a:lnTo>
                  <a:lnTo>
                    <a:pt x="4047" y="1707"/>
                  </a:lnTo>
                  <a:lnTo>
                    <a:pt x="4050" y="921"/>
                  </a:lnTo>
                  <a:lnTo>
                    <a:pt x="4053" y="2034"/>
                  </a:lnTo>
                  <a:lnTo>
                    <a:pt x="4055" y="1594"/>
                  </a:lnTo>
                  <a:lnTo>
                    <a:pt x="4059" y="467"/>
                  </a:lnTo>
                  <a:lnTo>
                    <a:pt x="4062" y="1450"/>
                  </a:lnTo>
                  <a:lnTo>
                    <a:pt x="4064" y="1807"/>
                  </a:lnTo>
                  <a:lnTo>
                    <a:pt x="4067" y="1074"/>
                  </a:lnTo>
                  <a:lnTo>
                    <a:pt x="4070" y="1448"/>
                  </a:lnTo>
                  <a:lnTo>
                    <a:pt x="4073" y="1683"/>
                  </a:lnTo>
                  <a:lnTo>
                    <a:pt x="4075" y="955"/>
                  </a:lnTo>
                  <a:lnTo>
                    <a:pt x="4079" y="1936"/>
                  </a:lnTo>
                  <a:lnTo>
                    <a:pt x="4081" y="1499"/>
                  </a:lnTo>
                  <a:lnTo>
                    <a:pt x="4084" y="460"/>
                  </a:lnTo>
                  <a:lnTo>
                    <a:pt x="4088" y="1894"/>
                  </a:lnTo>
                  <a:lnTo>
                    <a:pt x="4090" y="1520"/>
                  </a:lnTo>
                  <a:lnTo>
                    <a:pt x="4093" y="1089"/>
                  </a:lnTo>
                  <a:lnTo>
                    <a:pt x="4095" y="1073"/>
                  </a:lnTo>
                  <a:lnTo>
                    <a:pt x="4099" y="768"/>
                  </a:lnTo>
                  <a:lnTo>
                    <a:pt x="4101" y="1605"/>
                  </a:lnTo>
                  <a:lnTo>
                    <a:pt x="4104" y="2041"/>
                  </a:lnTo>
                  <a:lnTo>
                    <a:pt x="4108" y="990"/>
                  </a:lnTo>
                  <a:lnTo>
                    <a:pt x="4110" y="1036"/>
                  </a:lnTo>
                  <a:lnTo>
                    <a:pt x="4113" y="1783"/>
                  </a:lnTo>
                  <a:lnTo>
                    <a:pt x="4115" y="1160"/>
                  </a:lnTo>
                  <a:lnTo>
                    <a:pt x="4119" y="1561"/>
                  </a:lnTo>
                  <a:lnTo>
                    <a:pt x="4121" y="1905"/>
                  </a:lnTo>
                  <a:lnTo>
                    <a:pt x="4124" y="1338"/>
                  </a:lnTo>
                  <a:lnTo>
                    <a:pt x="4128" y="1404"/>
                  </a:lnTo>
                  <a:lnTo>
                    <a:pt x="4130" y="772"/>
                  </a:lnTo>
                  <a:lnTo>
                    <a:pt x="4133" y="2175"/>
                  </a:lnTo>
                  <a:lnTo>
                    <a:pt x="4135" y="1472"/>
                  </a:lnTo>
                  <a:lnTo>
                    <a:pt x="4139" y="1215"/>
                  </a:lnTo>
                  <a:lnTo>
                    <a:pt x="4141" y="612"/>
                  </a:lnTo>
                  <a:lnTo>
                    <a:pt x="4144" y="1551"/>
                  </a:lnTo>
                  <a:lnTo>
                    <a:pt x="4148" y="1138"/>
                  </a:lnTo>
                  <a:lnTo>
                    <a:pt x="4150" y="1449"/>
                  </a:lnTo>
                  <a:lnTo>
                    <a:pt x="4153" y="1358"/>
                  </a:lnTo>
                  <a:lnTo>
                    <a:pt x="4156" y="859"/>
                  </a:lnTo>
                  <a:lnTo>
                    <a:pt x="4159" y="1331"/>
                  </a:lnTo>
                  <a:lnTo>
                    <a:pt x="4161" y="1843"/>
                  </a:lnTo>
                  <a:lnTo>
                    <a:pt x="4164" y="1952"/>
                  </a:lnTo>
                  <a:lnTo>
                    <a:pt x="4167" y="1900"/>
                  </a:lnTo>
                  <a:lnTo>
                    <a:pt x="4170" y="1571"/>
                  </a:lnTo>
                  <a:lnTo>
                    <a:pt x="4173" y="1988"/>
                  </a:lnTo>
                  <a:lnTo>
                    <a:pt x="4176" y="1741"/>
                  </a:lnTo>
                  <a:lnTo>
                    <a:pt x="4179" y="1509"/>
                  </a:lnTo>
                  <a:lnTo>
                    <a:pt x="4181" y="1201"/>
                  </a:lnTo>
                  <a:lnTo>
                    <a:pt x="4185" y="1149"/>
                  </a:lnTo>
                  <a:lnTo>
                    <a:pt x="4187" y="870"/>
                  </a:lnTo>
                  <a:lnTo>
                    <a:pt x="4190" y="1434"/>
                  </a:lnTo>
                  <a:lnTo>
                    <a:pt x="4194" y="1869"/>
                  </a:lnTo>
                  <a:lnTo>
                    <a:pt x="4196" y="1870"/>
                  </a:lnTo>
                  <a:lnTo>
                    <a:pt x="4199" y="1179"/>
                  </a:lnTo>
                  <a:lnTo>
                    <a:pt x="4201" y="1407"/>
                  </a:lnTo>
                  <a:lnTo>
                    <a:pt x="4205" y="1277"/>
                  </a:lnTo>
                  <a:lnTo>
                    <a:pt x="4207" y="1586"/>
                  </a:lnTo>
                  <a:lnTo>
                    <a:pt x="4210" y="1147"/>
                  </a:lnTo>
                  <a:lnTo>
                    <a:pt x="4214" y="927"/>
                  </a:lnTo>
                  <a:lnTo>
                    <a:pt x="4216" y="1553"/>
                  </a:lnTo>
                  <a:lnTo>
                    <a:pt x="4219" y="1705"/>
                  </a:lnTo>
                  <a:lnTo>
                    <a:pt x="4221" y="1801"/>
                  </a:lnTo>
                  <a:lnTo>
                    <a:pt x="4225" y="1582"/>
                  </a:lnTo>
                  <a:lnTo>
                    <a:pt x="4227" y="1567"/>
                  </a:lnTo>
                  <a:lnTo>
                    <a:pt x="4230" y="1108"/>
                  </a:lnTo>
                  <a:lnTo>
                    <a:pt x="4233" y="1675"/>
                  </a:lnTo>
                  <a:lnTo>
                    <a:pt x="4236" y="1084"/>
                  </a:lnTo>
                  <a:lnTo>
                    <a:pt x="4239" y="1858"/>
                  </a:lnTo>
                  <a:lnTo>
                    <a:pt x="4241" y="1565"/>
                  </a:lnTo>
                  <a:lnTo>
                    <a:pt x="4245" y="1223"/>
                  </a:lnTo>
                  <a:lnTo>
                    <a:pt x="4247" y="1732"/>
                  </a:lnTo>
                  <a:lnTo>
                    <a:pt x="4250" y="1384"/>
                  </a:lnTo>
                  <a:lnTo>
                    <a:pt x="4253" y="1057"/>
                  </a:lnTo>
                  <a:lnTo>
                    <a:pt x="4256" y="391"/>
                  </a:lnTo>
                  <a:lnTo>
                    <a:pt x="4259" y="1601"/>
                  </a:lnTo>
                  <a:lnTo>
                    <a:pt x="4262" y="1997"/>
                  </a:lnTo>
                  <a:lnTo>
                    <a:pt x="4265" y="1421"/>
                  </a:lnTo>
                  <a:lnTo>
                    <a:pt x="4267" y="1981"/>
                  </a:lnTo>
                  <a:lnTo>
                    <a:pt x="4270" y="1969"/>
                  </a:lnTo>
                  <a:lnTo>
                    <a:pt x="4273" y="1607"/>
                  </a:lnTo>
                  <a:lnTo>
                    <a:pt x="4276" y="154"/>
                  </a:lnTo>
                  <a:lnTo>
                    <a:pt x="4279" y="1373"/>
                  </a:lnTo>
                  <a:lnTo>
                    <a:pt x="4282" y="1599"/>
                  </a:lnTo>
                  <a:lnTo>
                    <a:pt x="4285" y="1577"/>
                  </a:lnTo>
                  <a:lnTo>
                    <a:pt x="4287" y="1246"/>
                  </a:lnTo>
                  <a:lnTo>
                    <a:pt x="4291" y="1357"/>
                  </a:lnTo>
                  <a:lnTo>
                    <a:pt x="4293" y="1165"/>
                  </a:lnTo>
                  <a:lnTo>
                    <a:pt x="4296" y="2152"/>
                  </a:lnTo>
                  <a:lnTo>
                    <a:pt x="4298" y="1028"/>
                  </a:lnTo>
                  <a:lnTo>
                    <a:pt x="4302" y="1714"/>
                  </a:lnTo>
                  <a:lnTo>
                    <a:pt x="4305" y="971"/>
                  </a:lnTo>
                  <a:lnTo>
                    <a:pt x="4307" y="1341"/>
                  </a:lnTo>
                  <a:lnTo>
                    <a:pt x="4311" y="789"/>
                  </a:lnTo>
                  <a:lnTo>
                    <a:pt x="4313" y="903"/>
                  </a:lnTo>
                  <a:lnTo>
                    <a:pt x="4316" y="1529"/>
                  </a:lnTo>
                  <a:lnTo>
                    <a:pt x="4318" y="1000"/>
                  </a:lnTo>
                  <a:lnTo>
                    <a:pt x="4322" y="859"/>
                  </a:lnTo>
                  <a:lnTo>
                    <a:pt x="4325" y="1607"/>
                  </a:lnTo>
                  <a:lnTo>
                    <a:pt x="4327" y="1763"/>
                  </a:lnTo>
                  <a:lnTo>
                    <a:pt x="4331" y="1685"/>
                  </a:lnTo>
                  <a:lnTo>
                    <a:pt x="4333" y="1049"/>
                  </a:lnTo>
                  <a:lnTo>
                    <a:pt x="4336" y="1327"/>
                  </a:lnTo>
                  <a:lnTo>
                    <a:pt x="4339" y="800"/>
                  </a:lnTo>
                  <a:lnTo>
                    <a:pt x="4342" y="1205"/>
                  </a:lnTo>
                  <a:lnTo>
                    <a:pt x="4345" y="1661"/>
                  </a:lnTo>
                  <a:lnTo>
                    <a:pt x="4347" y="954"/>
                  </a:lnTo>
                  <a:lnTo>
                    <a:pt x="4351" y="1932"/>
                  </a:lnTo>
                  <a:lnTo>
                    <a:pt x="4353" y="1543"/>
                  </a:lnTo>
                  <a:lnTo>
                    <a:pt x="4356" y="1045"/>
                  </a:lnTo>
                  <a:lnTo>
                    <a:pt x="4359" y="1778"/>
                  </a:lnTo>
                  <a:lnTo>
                    <a:pt x="4362" y="1792"/>
                  </a:lnTo>
                  <a:lnTo>
                    <a:pt x="4364" y="1236"/>
                  </a:lnTo>
                  <a:lnTo>
                    <a:pt x="4368" y="1428"/>
                  </a:lnTo>
                  <a:lnTo>
                    <a:pt x="4371" y="1870"/>
                  </a:lnTo>
                  <a:lnTo>
                    <a:pt x="4373" y="1902"/>
                  </a:lnTo>
                  <a:lnTo>
                    <a:pt x="4376" y="1687"/>
                  </a:lnTo>
                  <a:lnTo>
                    <a:pt x="4379" y="608"/>
                  </a:lnTo>
                  <a:lnTo>
                    <a:pt x="4382" y="1093"/>
                  </a:lnTo>
                  <a:lnTo>
                    <a:pt x="4384" y="1801"/>
                  </a:lnTo>
                  <a:lnTo>
                    <a:pt x="4388" y="1091"/>
                  </a:lnTo>
                  <a:lnTo>
                    <a:pt x="4391" y="1819"/>
                  </a:lnTo>
                  <a:lnTo>
                    <a:pt x="4393" y="1407"/>
                  </a:lnTo>
                  <a:lnTo>
                    <a:pt x="4397" y="1648"/>
                  </a:lnTo>
                  <a:lnTo>
                    <a:pt x="4399" y="1272"/>
                  </a:lnTo>
                  <a:lnTo>
                    <a:pt x="4402" y="1966"/>
                  </a:lnTo>
                  <a:lnTo>
                    <a:pt x="4404" y="1640"/>
                  </a:lnTo>
                  <a:lnTo>
                    <a:pt x="4408" y="1933"/>
                  </a:lnTo>
                  <a:lnTo>
                    <a:pt x="4411" y="2038"/>
                  </a:lnTo>
                  <a:lnTo>
                    <a:pt x="4413" y="1073"/>
                  </a:lnTo>
                  <a:lnTo>
                    <a:pt x="4417" y="1653"/>
                  </a:lnTo>
                  <a:lnTo>
                    <a:pt x="4419" y="1605"/>
                  </a:lnTo>
                  <a:lnTo>
                    <a:pt x="4422" y="834"/>
                  </a:lnTo>
                  <a:lnTo>
                    <a:pt x="4424" y="1469"/>
                  </a:lnTo>
                  <a:lnTo>
                    <a:pt x="4428" y="484"/>
                  </a:lnTo>
                  <a:lnTo>
                    <a:pt x="4430" y="1265"/>
                  </a:lnTo>
                  <a:lnTo>
                    <a:pt x="4433" y="1863"/>
                  </a:lnTo>
                  <a:lnTo>
                    <a:pt x="4437" y="1157"/>
                  </a:lnTo>
                  <a:lnTo>
                    <a:pt x="4439" y="2016"/>
                  </a:lnTo>
                  <a:lnTo>
                    <a:pt x="4442" y="1246"/>
                  </a:lnTo>
                  <a:lnTo>
                    <a:pt x="4445" y="1050"/>
                  </a:lnTo>
                  <a:lnTo>
                    <a:pt x="4448" y="1900"/>
                  </a:lnTo>
                  <a:lnTo>
                    <a:pt x="4450" y="2055"/>
                  </a:lnTo>
                  <a:lnTo>
                    <a:pt x="4453" y="1303"/>
                  </a:lnTo>
                  <a:lnTo>
                    <a:pt x="4457" y="1732"/>
                  </a:lnTo>
                  <a:lnTo>
                    <a:pt x="4459" y="1333"/>
                  </a:lnTo>
                  <a:lnTo>
                    <a:pt x="4462" y="1249"/>
                  </a:lnTo>
                  <a:lnTo>
                    <a:pt x="4465" y="594"/>
                  </a:lnTo>
                  <a:lnTo>
                    <a:pt x="4468" y="1509"/>
                  </a:lnTo>
                  <a:lnTo>
                    <a:pt x="4470" y="1465"/>
                  </a:lnTo>
                  <a:lnTo>
                    <a:pt x="4474" y="807"/>
                  </a:lnTo>
                  <a:lnTo>
                    <a:pt x="4477" y="1006"/>
                  </a:lnTo>
                  <a:lnTo>
                    <a:pt x="4479" y="1826"/>
                  </a:lnTo>
                  <a:lnTo>
                    <a:pt x="4482" y="1810"/>
                  </a:lnTo>
                  <a:lnTo>
                    <a:pt x="4485" y="1200"/>
                  </a:lnTo>
                  <a:lnTo>
                    <a:pt x="4488" y="1194"/>
                  </a:lnTo>
                  <a:lnTo>
                    <a:pt x="4490" y="1908"/>
                  </a:lnTo>
                  <a:lnTo>
                    <a:pt x="4494" y="977"/>
                  </a:lnTo>
                  <a:lnTo>
                    <a:pt x="4496" y="801"/>
                  </a:lnTo>
                  <a:lnTo>
                    <a:pt x="4499" y="1007"/>
                  </a:lnTo>
                  <a:lnTo>
                    <a:pt x="4503" y="1517"/>
                  </a:lnTo>
                  <a:lnTo>
                    <a:pt x="4505" y="1814"/>
                  </a:lnTo>
                  <a:lnTo>
                    <a:pt x="4508" y="1892"/>
                  </a:lnTo>
                  <a:lnTo>
                    <a:pt x="4510" y="1186"/>
                  </a:lnTo>
                  <a:lnTo>
                    <a:pt x="4514" y="1714"/>
                  </a:lnTo>
                  <a:lnTo>
                    <a:pt x="4516" y="1706"/>
                  </a:lnTo>
                  <a:lnTo>
                    <a:pt x="4519" y="1487"/>
                  </a:lnTo>
                  <a:lnTo>
                    <a:pt x="4523" y="1318"/>
                  </a:lnTo>
                  <a:lnTo>
                    <a:pt x="4525" y="1615"/>
                  </a:lnTo>
                  <a:lnTo>
                    <a:pt x="4528" y="1973"/>
                  </a:lnTo>
                  <a:lnTo>
                    <a:pt x="4530" y="1377"/>
                  </a:lnTo>
                  <a:lnTo>
                    <a:pt x="4534" y="1694"/>
                  </a:lnTo>
                  <a:lnTo>
                    <a:pt x="4536" y="1034"/>
                  </a:lnTo>
                  <a:lnTo>
                    <a:pt x="4539" y="704"/>
                  </a:lnTo>
                  <a:lnTo>
                    <a:pt x="4543" y="1240"/>
                  </a:lnTo>
                  <a:lnTo>
                    <a:pt x="4545" y="1957"/>
                  </a:lnTo>
                  <a:lnTo>
                    <a:pt x="4548" y="1742"/>
                  </a:lnTo>
                  <a:lnTo>
                    <a:pt x="4550" y="1530"/>
                  </a:lnTo>
                  <a:lnTo>
                    <a:pt x="4554" y="1202"/>
                  </a:lnTo>
                  <a:lnTo>
                    <a:pt x="4556" y="1890"/>
                  </a:lnTo>
                  <a:lnTo>
                    <a:pt x="4559" y="1764"/>
                  </a:lnTo>
                  <a:lnTo>
                    <a:pt x="4562" y="864"/>
                  </a:lnTo>
                  <a:lnTo>
                    <a:pt x="4565" y="1477"/>
                  </a:lnTo>
                  <a:lnTo>
                    <a:pt x="4568" y="1240"/>
                  </a:lnTo>
                  <a:lnTo>
                    <a:pt x="4571" y="1493"/>
                  </a:lnTo>
                  <a:lnTo>
                    <a:pt x="4574" y="1658"/>
                  </a:lnTo>
                  <a:lnTo>
                    <a:pt x="4576" y="1757"/>
                  </a:lnTo>
                  <a:lnTo>
                    <a:pt x="4579" y="1479"/>
                  </a:lnTo>
                  <a:lnTo>
                    <a:pt x="4582" y="1128"/>
                  </a:lnTo>
                  <a:lnTo>
                    <a:pt x="4585" y="1527"/>
                  </a:lnTo>
                  <a:lnTo>
                    <a:pt x="4588" y="2012"/>
                  </a:lnTo>
                  <a:lnTo>
                    <a:pt x="4591" y="1217"/>
                  </a:lnTo>
                  <a:lnTo>
                    <a:pt x="4594" y="1790"/>
                  </a:lnTo>
                  <a:lnTo>
                    <a:pt x="4596" y="1850"/>
                  </a:lnTo>
                  <a:lnTo>
                    <a:pt x="4600" y="2109"/>
                  </a:lnTo>
                  <a:lnTo>
                    <a:pt x="4602" y="1234"/>
                  </a:lnTo>
                  <a:lnTo>
                    <a:pt x="4605" y="1236"/>
                  </a:lnTo>
                  <a:lnTo>
                    <a:pt x="4608" y="1656"/>
                  </a:lnTo>
                  <a:lnTo>
                    <a:pt x="4611" y="1678"/>
                  </a:lnTo>
                  <a:lnTo>
                    <a:pt x="4614" y="1508"/>
                  </a:lnTo>
                  <a:lnTo>
                    <a:pt x="4616" y="1926"/>
                  </a:lnTo>
                  <a:lnTo>
                    <a:pt x="4620" y="1544"/>
                  </a:lnTo>
                  <a:lnTo>
                    <a:pt x="4622" y="1934"/>
                  </a:lnTo>
                  <a:lnTo>
                    <a:pt x="4625" y="1399"/>
                  </a:lnTo>
                  <a:lnTo>
                    <a:pt x="4629" y="574"/>
                  </a:lnTo>
                  <a:lnTo>
                    <a:pt x="4631" y="2045"/>
                  </a:lnTo>
                  <a:lnTo>
                    <a:pt x="4634" y="1753"/>
                  </a:lnTo>
                  <a:lnTo>
                    <a:pt x="4636" y="1258"/>
                  </a:lnTo>
                  <a:lnTo>
                    <a:pt x="4640" y="2018"/>
                  </a:lnTo>
                  <a:lnTo>
                    <a:pt x="4642" y="785"/>
                  </a:lnTo>
                  <a:lnTo>
                    <a:pt x="4645" y="1794"/>
                  </a:lnTo>
                  <a:lnTo>
                    <a:pt x="4648" y="1136"/>
                  </a:lnTo>
                  <a:lnTo>
                    <a:pt x="4651" y="1383"/>
                  </a:lnTo>
                  <a:lnTo>
                    <a:pt x="4654" y="1160"/>
                  </a:lnTo>
                  <a:lnTo>
                    <a:pt x="4656" y="1567"/>
                  </a:lnTo>
                  <a:lnTo>
                    <a:pt x="4660" y="1284"/>
                  </a:lnTo>
                  <a:lnTo>
                    <a:pt x="4662" y="1853"/>
                  </a:lnTo>
                  <a:lnTo>
                    <a:pt x="4665" y="1149"/>
                  </a:lnTo>
                  <a:lnTo>
                    <a:pt x="4668" y="1786"/>
                  </a:lnTo>
                  <a:lnTo>
                    <a:pt x="4671" y="1809"/>
                  </a:lnTo>
                  <a:lnTo>
                    <a:pt x="4674" y="1736"/>
                  </a:lnTo>
                  <a:lnTo>
                    <a:pt x="4677" y="1462"/>
                  </a:lnTo>
                  <a:lnTo>
                    <a:pt x="4680" y="1513"/>
                  </a:lnTo>
                  <a:lnTo>
                    <a:pt x="4682" y="1919"/>
                  </a:lnTo>
                  <a:lnTo>
                    <a:pt x="4685" y="1197"/>
                  </a:lnTo>
                  <a:lnTo>
                    <a:pt x="4688" y="1727"/>
                  </a:lnTo>
                  <a:lnTo>
                    <a:pt x="4691" y="1382"/>
                  </a:lnTo>
                  <a:lnTo>
                    <a:pt x="4694" y="1722"/>
                  </a:lnTo>
                  <a:lnTo>
                    <a:pt x="4697" y="1507"/>
                  </a:lnTo>
                  <a:lnTo>
                    <a:pt x="4700" y="1998"/>
                  </a:lnTo>
                  <a:lnTo>
                    <a:pt x="4702" y="1344"/>
                  </a:lnTo>
                  <a:lnTo>
                    <a:pt x="4706" y="1012"/>
                  </a:lnTo>
                  <a:lnTo>
                    <a:pt x="4708" y="1175"/>
                  </a:lnTo>
                  <a:lnTo>
                    <a:pt x="4711" y="1552"/>
                  </a:lnTo>
                  <a:lnTo>
                    <a:pt x="4713" y="1182"/>
                  </a:lnTo>
                  <a:lnTo>
                    <a:pt x="4717" y="1722"/>
                  </a:lnTo>
                  <a:lnTo>
                    <a:pt x="4720" y="1673"/>
                  </a:lnTo>
                  <a:lnTo>
                    <a:pt x="4722" y="583"/>
                  </a:lnTo>
                  <a:lnTo>
                    <a:pt x="4726" y="1500"/>
                  </a:lnTo>
                  <a:lnTo>
                    <a:pt x="4728" y="1909"/>
                  </a:lnTo>
                  <a:lnTo>
                    <a:pt x="4731" y="668"/>
                  </a:lnTo>
                  <a:lnTo>
                    <a:pt x="4733" y="1579"/>
                  </a:lnTo>
                  <a:lnTo>
                    <a:pt x="4737" y="1450"/>
                  </a:lnTo>
                  <a:lnTo>
                    <a:pt x="4740" y="2041"/>
                  </a:lnTo>
                  <a:lnTo>
                    <a:pt x="4742" y="980"/>
                  </a:lnTo>
                  <a:lnTo>
                    <a:pt x="4746" y="1478"/>
                  </a:lnTo>
                  <a:lnTo>
                    <a:pt x="4748" y="1528"/>
                  </a:lnTo>
                  <a:lnTo>
                    <a:pt x="4751" y="1107"/>
                  </a:lnTo>
                  <a:lnTo>
                    <a:pt x="4754" y="790"/>
                  </a:lnTo>
                  <a:lnTo>
                    <a:pt x="4757" y="1533"/>
                  </a:lnTo>
                  <a:lnTo>
                    <a:pt x="4760" y="1651"/>
                  </a:lnTo>
                  <a:lnTo>
                    <a:pt x="4762" y="1055"/>
                  </a:lnTo>
                  <a:lnTo>
                    <a:pt x="4766" y="1219"/>
                  </a:lnTo>
                  <a:lnTo>
                    <a:pt x="4768" y="1100"/>
                  </a:lnTo>
                  <a:lnTo>
                    <a:pt x="4771" y="1768"/>
                  </a:lnTo>
                  <a:lnTo>
                    <a:pt x="4774" y="1361"/>
                  </a:lnTo>
                  <a:lnTo>
                    <a:pt x="4777" y="953"/>
                  </a:lnTo>
                  <a:lnTo>
                    <a:pt x="4779" y="1073"/>
                  </a:lnTo>
                  <a:lnTo>
                    <a:pt x="4783" y="1241"/>
                  </a:lnTo>
                  <a:lnTo>
                    <a:pt x="4786" y="1082"/>
                  </a:lnTo>
                  <a:lnTo>
                    <a:pt x="4788" y="1420"/>
                  </a:lnTo>
                  <a:lnTo>
                    <a:pt x="4791" y="1526"/>
                  </a:lnTo>
                  <a:lnTo>
                    <a:pt x="4794" y="577"/>
                  </a:lnTo>
                  <a:lnTo>
                    <a:pt x="4797" y="1915"/>
                  </a:lnTo>
                  <a:lnTo>
                    <a:pt x="4799" y="1420"/>
                  </a:lnTo>
                  <a:lnTo>
                    <a:pt x="4803" y="1743"/>
                  </a:lnTo>
                  <a:lnTo>
                    <a:pt x="4806" y="1660"/>
                  </a:lnTo>
                  <a:lnTo>
                    <a:pt x="4808" y="1362"/>
                  </a:lnTo>
                  <a:lnTo>
                    <a:pt x="4812" y="1513"/>
                  </a:lnTo>
                  <a:lnTo>
                    <a:pt x="4814" y="1654"/>
                  </a:lnTo>
                  <a:lnTo>
                    <a:pt x="4817" y="1002"/>
                  </a:lnTo>
                  <a:lnTo>
                    <a:pt x="4819" y="1217"/>
                  </a:lnTo>
                  <a:lnTo>
                    <a:pt x="4823" y="1628"/>
                  </a:lnTo>
                  <a:lnTo>
                    <a:pt x="4826" y="1248"/>
                  </a:lnTo>
                  <a:lnTo>
                    <a:pt x="4828" y="1210"/>
                  </a:lnTo>
                  <a:lnTo>
                    <a:pt x="4832" y="1151"/>
                  </a:lnTo>
                  <a:lnTo>
                    <a:pt x="4834" y="1861"/>
                  </a:lnTo>
                  <a:lnTo>
                    <a:pt x="4837" y="1938"/>
                  </a:lnTo>
                  <a:lnTo>
                    <a:pt x="4839" y="1578"/>
                  </a:lnTo>
                  <a:lnTo>
                    <a:pt x="4843" y="1189"/>
                  </a:lnTo>
                  <a:lnTo>
                    <a:pt x="4845" y="1749"/>
                  </a:lnTo>
                  <a:lnTo>
                    <a:pt x="4848" y="1508"/>
                  </a:lnTo>
                  <a:lnTo>
                    <a:pt x="4852" y="942"/>
                  </a:lnTo>
                  <a:lnTo>
                    <a:pt x="4854" y="1625"/>
                  </a:lnTo>
                  <a:lnTo>
                    <a:pt x="4857" y="1767"/>
                  </a:lnTo>
                  <a:lnTo>
                    <a:pt x="4859" y="1087"/>
                  </a:lnTo>
                  <a:lnTo>
                    <a:pt x="4863" y="710"/>
                  </a:lnTo>
                  <a:lnTo>
                    <a:pt x="4865" y="1963"/>
                  </a:lnTo>
                  <a:lnTo>
                    <a:pt x="4868" y="1799"/>
                  </a:lnTo>
                  <a:lnTo>
                    <a:pt x="4872" y="1839"/>
                  </a:lnTo>
                  <a:lnTo>
                    <a:pt x="4874" y="1913"/>
                  </a:lnTo>
                  <a:lnTo>
                    <a:pt x="4877" y="1285"/>
                  </a:lnTo>
                  <a:lnTo>
                    <a:pt x="4880" y="1433"/>
                  </a:lnTo>
                  <a:lnTo>
                    <a:pt x="4883" y="1307"/>
                  </a:lnTo>
                  <a:lnTo>
                    <a:pt x="4885" y="2068"/>
                  </a:lnTo>
                  <a:lnTo>
                    <a:pt x="4888" y="1503"/>
                  </a:lnTo>
                  <a:lnTo>
                    <a:pt x="4892" y="1561"/>
                  </a:lnTo>
                  <a:lnTo>
                    <a:pt x="4894" y="1939"/>
                  </a:lnTo>
                  <a:lnTo>
                    <a:pt x="4897" y="1761"/>
                  </a:lnTo>
                  <a:lnTo>
                    <a:pt x="4900" y="992"/>
                  </a:lnTo>
                  <a:lnTo>
                    <a:pt x="4903" y="1355"/>
                  </a:lnTo>
                  <a:lnTo>
                    <a:pt x="4905" y="1687"/>
                  </a:lnTo>
                  <a:lnTo>
                    <a:pt x="4909" y="1729"/>
                  </a:lnTo>
                  <a:lnTo>
                    <a:pt x="4911" y="1509"/>
                  </a:lnTo>
                  <a:lnTo>
                    <a:pt x="4914" y="1502"/>
                  </a:lnTo>
                  <a:lnTo>
                    <a:pt x="4917" y="1567"/>
                  </a:lnTo>
                  <a:lnTo>
                    <a:pt x="4920" y="1865"/>
                  </a:lnTo>
                  <a:lnTo>
                    <a:pt x="4923" y="1454"/>
                  </a:lnTo>
                  <a:lnTo>
                    <a:pt x="4925" y="980"/>
                  </a:lnTo>
                  <a:lnTo>
                    <a:pt x="4929" y="1914"/>
                  </a:lnTo>
                  <a:lnTo>
                    <a:pt x="4931" y="1912"/>
                  </a:lnTo>
                  <a:lnTo>
                    <a:pt x="4934" y="1381"/>
                  </a:lnTo>
                  <a:lnTo>
                    <a:pt x="4938" y="1902"/>
                  </a:lnTo>
                  <a:lnTo>
                    <a:pt x="4940" y="1923"/>
                  </a:lnTo>
                  <a:lnTo>
                    <a:pt x="4943" y="1536"/>
                  </a:lnTo>
                  <a:lnTo>
                    <a:pt x="4945" y="1225"/>
                  </a:lnTo>
                  <a:lnTo>
                    <a:pt x="4949" y="1597"/>
                  </a:lnTo>
                  <a:lnTo>
                    <a:pt x="4951" y="1579"/>
                  </a:lnTo>
                  <a:lnTo>
                    <a:pt x="4954" y="1782"/>
                  </a:lnTo>
                  <a:lnTo>
                    <a:pt x="4958" y="1481"/>
                  </a:lnTo>
                  <a:lnTo>
                    <a:pt x="4960" y="1578"/>
                  </a:lnTo>
                  <a:lnTo>
                    <a:pt x="4963" y="1470"/>
                  </a:lnTo>
                  <a:lnTo>
                    <a:pt x="4965" y="1186"/>
                  </a:lnTo>
                  <a:lnTo>
                    <a:pt x="4969" y="2067"/>
                  </a:lnTo>
                  <a:lnTo>
                    <a:pt x="4971" y="2067"/>
                  </a:lnTo>
                  <a:lnTo>
                    <a:pt x="4974" y="452"/>
                  </a:lnTo>
                  <a:lnTo>
                    <a:pt x="4977" y="1456"/>
                  </a:lnTo>
                  <a:lnTo>
                    <a:pt x="4980" y="1387"/>
                  </a:lnTo>
                  <a:lnTo>
                    <a:pt x="4983" y="2008"/>
                  </a:lnTo>
                  <a:lnTo>
                    <a:pt x="4986" y="2032"/>
                  </a:lnTo>
                  <a:lnTo>
                    <a:pt x="4989" y="1528"/>
                  </a:lnTo>
                  <a:lnTo>
                    <a:pt x="4991" y="1399"/>
                  </a:lnTo>
                  <a:lnTo>
                    <a:pt x="4994" y="1715"/>
                  </a:lnTo>
                  <a:lnTo>
                    <a:pt x="4997" y="1881"/>
                  </a:lnTo>
                  <a:lnTo>
                    <a:pt x="5000" y="1558"/>
                  </a:lnTo>
                  <a:lnTo>
                    <a:pt x="5003" y="1043"/>
                  </a:lnTo>
                  <a:lnTo>
                    <a:pt x="5006" y="1435"/>
                  </a:lnTo>
                  <a:lnTo>
                    <a:pt x="5009" y="1704"/>
                  </a:lnTo>
                  <a:lnTo>
                    <a:pt x="5011" y="2017"/>
                  </a:lnTo>
                  <a:lnTo>
                    <a:pt x="5015" y="1119"/>
                  </a:lnTo>
                  <a:lnTo>
                    <a:pt x="5017" y="1743"/>
                  </a:lnTo>
                  <a:lnTo>
                    <a:pt x="5020" y="1868"/>
                  </a:lnTo>
                  <a:lnTo>
                    <a:pt x="5023" y="1288"/>
                  </a:lnTo>
                  <a:lnTo>
                    <a:pt x="5026" y="1129"/>
                  </a:lnTo>
                  <a:lnTo>
                    <a:pt x="5029" y="887"/>
                  </a:lnTo>
                  <a:lnTo>
                    <a:pt x="5031" y="1865"/>
                  </a:lnTo>
                  <a:lnTo>
                    <a:pt x="5035" y="1335"/>
                  </a:lnTo>
                  <a:lnTo>
                    <a:pt x="5037" y="2110"/>
                  </a:lnTo>
                  <a:lnTo>
                    <a:pt x="5040" y="1577"/>
                  </a:lnTo>
                  <a:lnTo>
                    <a:pt x="5044" y="2018"/>
                  </a:lnTo>
                  <a:lnTo>
                    <a:pt x="5046" y="1717"/>
                  </a:lnTo>
                  <a:lnTo>
                    <a:pt x="5049" y="1947"/>
                  </a:lnTo>
                  <a:lnTo>
                    <a:pt x="5051" y="1591"/>
                  </a:lnTo>
                  <a:lnTo>
                    <a:pt x="5055" y="1256"/>
                  </a:lnTo>
                  <a:lnTo>
                    <a:pt x="5057" y="1147"/>
                  </a:lnTo>
                  <a:lnTo>
                    <a:pt x="5060" y="1235"/>
                  </a:lnTo>
                  <a:lnTo>
                    <a:pt x="5063" y="1520"/>
                  </a:lnTo>
                  <a:lnTo>
                    <a:pt x="5066" y="1582"/>
                  </a:lnTo>
                  <a:lnTo>
                    <a:pt x="5069" y="1748"/>
                  </a:lnTo>
                  <a:lnTo>
                    <a:pt x="5071" y="1405"/>
                  </a:lnTo>
                  <a:lnTo>
                    <a:pt x="5075" y="1390"/>
                  </a:lnTo>
                  <a:lnTo>
                    <a:pt x="5077" y="649"/>
                  </a:lnTo>
                  <a:lnTo>
                    <a:pt x="5080" y="845"/>
                  </a:lnTo>
                  <a:lnTo>
                    <a:pt x="5083" y="1067"/>
                  </a:lnTo>
                  <a:lnTo>
                    <a:pt x="5086" y="1466"/>
                  </a:lnTo>
                  <a:lnTo>
                    <a:pt x="5089" y="1220"/>
                  </a:lnTo>
                  <a:lnTo>
                    <a:pt x="5092" y="1756"/>
                  </a:lnTo>
                  <a:lnTo>
                    <a:pt x="5095" y="918"/>
                  </a:lnTo>
                  <a:lnTo>
                    <a:pt x="5097" y="1487"/>
                  </a:lnTo>
                  <a:lnTo>
                    <a:pt x="5100" y="1559"/>
                  </a:lnTo>
                  <a:lnTo>
                    <a:pt x="5103" y="1775"/>
                  </a:lnTo>
                  <a:lnTo>
                    <a:pt x="5106" y="1396"/>
                  </a:lnTo>
                  <a:lnTo>
                    <a:pt x="5109" y="1771"/>
                  </a:lnTo>
                  <a:lnTo>
                    <a:pt x="5112" y="1688"/>
                  </a:lnTo>
                  <a:lnTo>
                    <a:pt x="5115" y="1497"/>
                  </a:lnTo>
                  <a:lnTo>
                    <a:pt x="5117" y="1932"/>
                  </a:lnTo>
                  <a:lnTo>
                    <a:pt x="5121" y="1110"/>
                  </a:lnTo>
                  <a:lnTo>
                    <a:pt x="5123" y="1268"/>
                  </a:lnTo>
                  <a:lnTo>
                    <a:pt x="5126" y="1792"/>
                  </a:lnTo>
                  <a:lnTo>
                    <a:pt x="5128" y="935"/>
                  </a:lnTo>
                  <a:lnTo>
                    <a:pt x="5132" y="1735"/>
                  </a:lnTo>
                  <a:lnTo>
                    <a:pt x="5135" y="1202"/>
                  </a:lnTo>
                  <a:lnTo>
                    <a:pt x="5137" y="1072"/>
                  </a:lnTo>
                  <a:lnTo>
                    <a:pt x="5141" y="1403"/>
                  </a:lnTo>
                  <a:lnTo>
                    <a:pt x="5143" y="1524"/>
                  </a:lnTo>
                  <a:lnTo>
                    <a:pt x="5146" y="1090"/>
                  </a:lnTo>
                  <a:lnTo>
                    <a:pt x="5148" y="1162"/>
                  </a:lnTo>
                  <a:lnTo>
                    <a:pt x="5152" y="1308"/>
                  </a:lnTo>
                  <a:lnTo>
                    <a:pt x="5155" y="1773"/>
                  </a:lnTo>
                  <a:lnTo>
                    <a:pt x="5157" y="665"/>
                  </a:lnTo>
                  <a:lnTo>
                    <a:pt x="5161" y="1879"/>
                  </a:lnTo>
                  <a:lnTo>
                    <a:pt x="5163" y="1511"/>
                  </a:lnTo>
                  <a:lnTo>
                    <a:pt x="5166" y="1542"/>
                  </a:lnTo>
                  <a:lnTo>
                    <a:pt x="5168" y="1565"/>
                  </a:lnTo>
                  <a:lnTo>
                    <a:pt x="5172" y="782"/>
                  </a:lnTo>
                  <a:lnTo>
                    <a:pt x="5175" y="1142"/>
                  </a:lnTo>
                  <a:lnTo>
                    <a:pt x="5177" y="679"/>
                  </a:lnTo>
                  <a:lnTo>
                    <a:pt x="5181" y="965"/>
                  </a:lnTo>
                  <a:lnTo>
                    <a:pt x="5183" y="976"/>
                  </a:lnTo>
                  <a:lnTo>
                    <a:pt x="5186" y="2181"/>
                  </a:lnTo>
                  <a:lnTo>
                    <a:pt x="5189" y="1894"/>
                  </a:lnTo>
                  <a:lnTo>
                    <a:pt x="5192" y="1338"/>
                  </a:lnTo>
                  <a:lnTo>
                    <a:pt x="5194" y="1156"/>
                  </a:lnTo>
                  <a:lnTo>
                    <a:pt x="5198" y="2102"/>
                  </a:lnTo>
                  <a:lnTo>
                    <a:pt x="5201" y="1727"/>
                  </a:lnTo>
                  <a:lnTo>
                    <a:pt x="5203" y="1664"/>
                  </a:lnTo>
                  <a:lnTo>
                    <a:pt x="5206" y="1526"/>
                  </a:lnTo>
                  <a:lnTo>
                    <a:pt x="5209" y="1124"/>
                  </a:lnTo>
                  <a:lnTo>
                    <a:pt x="5212" y="1350"/>
                  </a:lnTo>
                  <a:lnTo>
                    <a:pt x="5214" y="1233"/>
                  </a:lnTo>
                  <a:lnTo>
                    <a:pt x="5218" y="1123"/>
                  </a:lnTo>
                  <a:lnTo>
                    <a:pt x="5221" y="1671"/>
                  </a:lnTo>
                  <a:lnTo>
                    <a:pt x="5223" y="522"/>
                  </a:lnTo>
                  <a:lnTo>
                    <a:pt x="5227" y="1022"/>
                  </a:lnTo>
                  <a:lnTo>
                    <a:pt x="5229" y="1882"/>
                  </a:lnTo>
                  <a:lnTo>
                    <a:pt x="5232" y="1792"/>
                  </a:lnTo>
                  <a:lnTo>
                    <a:pt x="5234" y="1855"/>
                  </a:lnTo>
                  <a:lnTo>
                    <a:pt x="5238" y="1186"/>
                  </a:lnTo>
                  <a:lnTo>
                    <a:pt x="5241" y="1210"/>
                  </a:lnTo>
                  <a:lnTo>
                    <a:pt x="5243" y="833"/>
                  </a:lnTo>
                  <a:lnTo>
                    <a:pt x="5247" y="1675"/>
                  </a:lnTo>
                  <a:lnTo>
                    <a:pt x="5249" y="1316"/>
                  </a:lnTo>
                  <a:lnTo>
                    <a:pt x="5252" y="1826"/>
                  </a:lnTo>
                  <a:lnTo>
                    <a:pt x="5254" y="1483"/>
                  </a:lnTo>
                  <a:lnTo>
                    <a:pt x="5258" y="1621"/>
                  </a:lnTo>
                  <a:lnTo>
                    <a:pt x="5260" y="1884"/>
                  </a:lnTo>
                  <a:lnTo>
                    <a:pt x="5263" y="1263"/>
                  </a:lnTo>
                  <a:lnTo>
                    <a:pt x="5267" y="1114"/>
                  </a:lnTo>
                  <a:lnTo>
                    <a:pt x="5269" y="1778"/>
                  </a:lnTo>
                  <a:lnTo>
                    <a:pt x="5272" y="1005"/>
                  </a:lnTo>
                  <a:lnTo>
                    <a:pt x="5274" y="1481"/>
                  </a:lnTo>
                  <a:lnTo>
                    <a:pt x="5278" y="1338"/>
                  </a:lnTo>
                  <a:lnTo>
                    <a:pt x="5280" y="1724"/>
                  </a:lnTo>
                  <a:lnTo>
                    <a:pt x="5283" y="1665"/>
                  </a:lnTo>
                  <a:lnTo>
                    <a:pt x="5287" y="1875"/>
                  </a:lnTo>
                  <a:lnTo>
                    <a:pt x="5289" y="378"/>
                  </a:lnTo>
                  <a:lnTo>
                    <a:pt x="5292" y="2068"/>
                  </a:lnTo>
                  <a:lnTo>
                    <a:pt x="5295" y="2053"/>
                  </a:lnTo>
                  <a:lnTo>
                    <a:pt x="5298" y="1902"/>
                  </a:lnTo>
                  <a:lnTo>
                    <a:pt x="5300" y="1560"/>
                  </a:lnTo>
                  <a:lnTo>
                    <a:pt x="5303" y="1746"/>
                  </a:lnTo>
                  <a:lnTo>
                    <a:pt x="5307" y="1290"/>
                  </a:lnTo>
                  <a:lnTo>
                    <a:pt x="5309" y="2006"/>
                  </a:lnTo>
                  <a:lnTo>
                    <a:pt x="5312" y="1169"/>
                  </a:lnTo>
                  <a:lnTo>
                    <a:pt x="5315" y="1368"/>
                  </a:lnTo>
                  <a:lnTo>
                    <a:pt x="5318" y="916"/>
                  </a:lnTo>
                  <a:lnTo>
                    <a:pt x="5320" y="1480"/>
                  </a:lnTo>
                  <a:lnTo>
                    <a:pt x="5324" y="1710"/>
                  </a:lnTo>
                  <a:lnTo>
                    <a:pt x="5326" y="1732"/>
                  </a:lnTo>
                  <a:lnTo>
                    <a:pt x="5329" y="1695"/>
                  </a:lnTo>
                  <a:lnTo>
                    <a:pt x="5332" y="669"/>
                  </a:lnTo>
                  <a:lnTo>
                    <a:pt x="5335" y="2038"/>
                  </a:lnTo>
                  <a:lnTo>
                    <a:pt x="5338" y="1952"/>
                  </a:lnTo>
                  <a:lnTo>
                    <a:pt x="5340" y="404"/>
                  </a:lnTo>
                  <a:lnTo>
                    <a:pt x="5344" y="1868"/>
                  </a:lnTo>
                  <a:lnTo>
                    <a:pt x="5346" y="1704"/>
                  </a:lnTo>
                  <a:lnTo>
                    <a:pt x="5349" y="1526"/>
                  </a:lnTo>
                  <a:lnTo>
                    <a:pt x="5353" y="1543"/>
                  </a:lnTo>
                  <a:lnTo>
                    <a:pt x="5355" y="1845"/>
                  </a:lnTo>
                  <a:lnTo>
                    <a:pt x="5358" y="1534"/>
                  </a:lnTo>
                  <a:lnTo>
                    <a:pt x="5360" y="1927"/>
                  </a:lnTo>
                  <a:lnTo>
                    <a:pt x="5364" y="1140"/>
                  </a:lnTo>
                  <a:lnTo>
                    <a:pt x="5366" y="1650"/>
                  </a:lnTo>
                  <a:lnTo>
                    <a:pt x="5369" y="1725"/>
                  </a:lnTo>
                  <a:lnTo>
                    <a:pt x="5373" y="1323"/>
                  </a:lnTo>
                  <a:lnTo>
                    <a:pt x="5375" y="897"/>
                  </a:lnTo>
                  <a:lnTo>
                    <a:pt x="5378" y="1377"/>
                  </a:lnTo>
                  <a:lnTo>
                    <a:pt x="5380" y="1016"/>
                  </a:lnTo>
                  <a:lnTo>
                    <a:pt x="5384" y="1571"/>
                  </a:lnTo>
                  <a:lnTo>
                    <a:pt x="5386" y="849"/>
                  </a:lnTo>
                  <a:lnTo>
                    <a:pt x="5389" y="1718"/>
                  </a:lnTo>
                  <a:lnTo>
                    <a:pt x="5392" y="794"/>
                  </a:lnTo>
                  <a:lnTo>
                    <a:pt x="5395" y="1940"/>
                  </a:lnTo>
                  <a:lnTo>
                    <a:pt x="5398" y="1942"/>
                  </a:lnTo>
                  <a:lnTo>
                    <a:pt x="5401" y="1778"/>
                  </a:lnTo>
                  <a:lnTo>
                    <a:pt x="5404" y="1839"/>
                  </a:lnTo>
                  <a:lnTo>
                    <a:pt x="5406" y="1351"/>
                  </a:lnTo>
                  <a:lnTo>
                    <a:pt x="5409" y="1049"/>
                  </a:lnTo>
                  <a:lnTo>
                    <a:pt x="5412" y="774"/>
                  </a:lnTo>
                  <a:lnTo>
                    <a:pt x="5415" y="1741"/>
                  </a:lnTo>
                  <a:lnTo>
                    <a:pt x="5418" y="2045"/>
                  </a:lnTo>
                  <a:lnTo>
                    <a:pt x="5421" y="1922"/>
                  </a:lnTo>
                  <a:lnTo>
                    <a:pt x="5424" y="1737"/>
                  </a:lnTo>
                  <a:lnTo>
                    <a:pt x="5426" y="995"/>
                  </a:lnTo>
                  <a:lnTo>
                    <a:pt x="5430" y="1444"/>
                  </a:lnTo>
                  <a:lnTo>
                    <a:pt x="5432" y="1274"/>
                  </a:lnTo>
                  <a:lnTo>
                    <a:pt x="5435" y="883"/>
                  </a:lnTo>
                  <a:lnTo>
                    <a:pt x="5438" y="1485"/>
                  </a:lnTo>
                  <a:lnTo>
                    <a:pt x="5441" y="1124"/>
                  </a:lnTo>
                  <a:lnTo>
                    <a:pt x="5444" y="1300"/>
                  </a:lnTo>
                  <a:lnTo>
                    <a:pt x="5446" y="1746"/>
                  </a:lnTo>
                  <a:lnTo>
                    <a:pt x="5450" y="1316"/>
                  </a:lnTo>
                  <a:lnTo>
                    <a:pt x="5452" y="1980"/>
                  </a:lnTo>
                  <a:lnTo>
                    <a:pt x="5455" y="1016"/>
                  </a:lnTo>
                  <a:lnTo>
                    <a:pt x="5457" y="1429"/>
                  </a:lnTo>
                  <a:lnTo>
                    <a:pt x="5461" y="1274"/>
                  </a:lnTo>
                  <a:lnTo>
                    <a:pt x="5464" y="1402"/>
                  </a:lnTo>
                  <a:lnTo>
                    <a:pt x="5466" y="1532"/>
                  </a:lnTo>
                  <a:lnTo>
                    <a:pt x="5470" y="1600"/>
                  </a:lnTo>
                  <a:lnTo>
                    <a:pt x="5472" y="1962"/>
                  </a:lnTo>
                  <a:lnTo>
                    <a:pt x="5475" y="1136"/>
                  </a:lnTo>
                  <a:lnTo>
                    <a:pt x="5478" y="1438"/>
                  </a:lnTo>
                  <a:lnTo>
                    <a:pt x="5481" y="1274"/>
                  </a:lnTo>
                  <a:lnTo>
                    <a:pt x="5484" y="1634"/>
                  </a:lnTo>
                  <a:lnTo>
                    <a:pt x="5486" y="1208"/>
                  </a:lnTo>
                  <a:lnTo>
                    <a:pt x="5490" y="1177"/>
                  </a:lnTo>
                  <a:lnTo>
                    <a:pt x="5492" y="1152"/>
                  </a:lnTo>
                  <a:lnTo>
                    <a:pt x="5495" y="1147"/>
                  </a:lnTo>
                  <a:lnTo>
                    <a:pt x="5498" y="1162"/>
                  </a:lnTo>
                  <a:lnTo>
                    <a:pt x="5501" y="1068"/>
                  </a:lnTo>
                  <a:lnTo>
                    <a:pt x="5504" y="1804"/>
                  </a:lnTo>
                  <a:lnTo>
                    <a:pt x="5507" y="1307"/>
                  </a:lnTo>
                  <a:lnTo>
                    <a:pt x="5510" y="1777"/>
                  </a:lnTo>
                  <a:lnTo>
                    <a:pt x="5512" y="1876"/>
                  </a:lnTo>
                  <a:lnTo>
                    <a:pt x="5515" y="772"/>
                  </a:lnTo>
                  <a:lnTo>
                    <a:pt x="5518" y="1812"/>
                  </a:lnTo>
                  <a:lnTo>
                    <a:pt x="5521" y="1399"/>
                  </a:lnTo>
                  <a:lnTo>
                    <a:pt x="5524" y="1211"/>
                  </a:lnTo>
                  <a:lnTo>
                    <a:pt x="5527" y="2095"/>
                  </a:lnTo>
                  <a:lnTo>
                    <a:pt x="5530" y="1303"/>
                  </a:lnTo>
                  <a:lnTo>
                    <a:pt x="5532" y="2118"/>
                  </a:lnTo>
                  <a:lnTo>
                    <a:pt x="5536" y="1878"/>
                  </a:lnTo>
                  <a:lnTo>
                    <a:pt x="5538" y="806"/>
                  </a:lnTo>
                  <a:lnTo>
                    <a:pt x="5541" y="1648"/>
                  </a:lnTo>
                  <a:lnTo>
                    <a:pt x="5543" y="1324"/>
                  </a:lnTo>
                  <a:lnTo>
                    <a:pt x="5547" y="1596"/>
                  </a:lnTo>
                  <a:lnTo>
                    <a:pt x="5550" y="1032"/>
                  </a:lnTo>
                  <a:lnTo>
                    <a:pt x="5552" y="1770"/>
                  </a:lnTo>
                  <a:lnTo>
                    <a:pt x="5556" y="1898"/>
                  </a:lnTo>
                  <a:lnTo>
                    <a:pt x="5558" y="2003"/>
                  </a:lnTo>
                  <a:lnTo>
                    <a:pt x="5561" y="1483"/>
                  </a:lnTo>
                  <a:lnTo>
                    <a:pt x="5563" y="1677"/>
                  </a:lnTo>
                  <a:lnTo>
                    <a:pt x="5567" y="1043"/>
                  </a:lnTo>
                  <a:lnTo>
                    <a:pt x="5570" y="1719"/>
                  </a:lnTo>
                  <a:lnTo>
                    <a:pt x="5572" y="1790"/>
                  </a:lnTo>
                  <a:lnTo>
                    <a:pt x="5576" y="1814"/>
                  </a:lnTo>
                  <a:lnTo>
                    <a:pt x="5578" y="1975"/>
                  </a:lnTo>
                  <a:lnTo>
                    <a:pt x="5581" y="1869"/>
                  </a:lnTo>
                  <a:lnTo>
                    <a:pt x="5583" y="1931"/>
                  </a:lnTo>
                  <a:lnTo>
                    <a:pt x="5587" y="1370"/>
                  </a:lnTo>
                  <a:lnTo>
                    <a:pt x="5590" y="860"/>
                  </a:lnTo>
                  <a:lnTo>
                    <a:pt x="5592" y="2039"/>
                  </a:lnTo>
                  <a:lnTo>
                    <a:pt x="5596" y="984"/>
                  </a:lnTo>
                  <a:lnTo>
                    <a:pt x="5598" y="1111"/>
                  </a:lnTo>
                  <a:lnTo>
                    <a:pt x="5601" y="613"/>
                  </a:lnTo>
                  <a:lnTo>
                    <a:pt x="5604" y="2065"/>
                  </a:lnTo>
                  <a:lnTo>
                    <a:pt x="5607" y="1376"/>
                  </a:lnTo>
                  <a:lnTo>
                    <a:pt x="5609" y="672"/>
                  </a:lnTo>
                  <a:lnTo>
                    <a:pt x="5612" y="1812"/>
                  </a:lnTo>
                  <a:lnTo>
                    <a:pt x="5616" y="1130"/>
                  </a:lnTo>
                  <a:lnTo>
                    <a:pt x="5618" y="1118"/>
                  </a:lnTo>
                  <a:lnTo>
                    <a:pt x="5621" y="1596"/>
                  </a:lnTo>
                  <a:lnTo>
                    <a:pt x="5624" y="1836"/>
                  </a:lnTo>
                  <a:lnTo>
                    <a:pt x="5627" y="1908"/>
                  </a:lnTo>
                  <a:lnTo>
                    <a:pt x="5629" y="1859"/>
                  </a:lnTo>
                  <a:lnTo>
                    <a:pt x="5633" y="1558"/>
                  </a:lnTo>
                  <a:lnTo>
                    <a:pt x="5636" y="947"/>
                  </a:lnTo>
                  <a:lnTo>
                    <a:pt x="5638" y="2021"/>
                  </a:lnTo>
                  <a:lnTo>
                    <a:pt x="5641" y="1850"/>
                  </a:lnTo>
                  <a:lnTo>
                    <a:pt x="5644" y="1073"/>
                  </a:lnTo>
                  <a:lnTo>
                    <a:pt x="5647" y="172"/>
                  </a:lnTo>
                  <a:lnTo>
                    <a:pt x="5649" y="1142"/>
                  </a:lnTo>
                  <a:lnTo>
                    <a:pt x="5653" y="1211"/>
                  </a:lnTo>
                  <a:lnTo>
                    <a:pt x="5656" y="1841"/>
                  </a:lnTo>
                  <a:lnTo>
                    <a:pt x="5658" y="1604"/>
                  </a:lnTo>
                  <a:lnTo>
                    <a:pt x="5662" y="1325"/>
                  </a:lnTo>
                  <a:lnTo>
                    <a:pt x="5664" y="1612"/>
                  </a:lnTo>
                  <a:lnTo>
                    <a:pt x="5667" y="1466"/>
                  </a:lnTo>
                  <a:lnTo>
                    <a:pt x="5669" y="1306"/>
                  </a:lnTo>
                  <a:lnTo>
                    <a:pt x="5673" y="1290"/>
                  </a:lnTo>
                  <a:lnTo>
                    <a:pt x="5675" y="1778"/>
                  </a:lnTo>
                  <a:lnTo>
                    <a:pt x="5678" y="1287"/>
                  </a:lnTo>
                  <a:lnTo>
                    <a:pt x="5682" y="1763"/>
                  </a:lnTo>
                  <a:lnTo>
                    <a:pt x="5684" y="1998"/>
                  </a:lnTo>
                  <a:lnTo>
                    <a:pt x="5687" y="1295"/>
                  </a:lnTo>
                  <a:lnTo>
                    <a:pt x="5689" y="857"/>
                  </a:lnTo>
                  <a:lnTo>
                    <a:pt x="5693" y="1840"/>
                  </a:lnTo>
                  <a:lnTo>
                    <a:pt x="5695" y="1731"/>
                  </a:lnTo>
                  <a:lnTo>
                    <a:pt x="5698" y="1283"/>
                  </a:lnTo>
                  <a:lnTo>
                    <a:pt x="5702" y="1586"/>
                  </a:lnTo>
                  <a:lnTo>
                    <a:pt x="5704" y="1158"/>
                  </a:lnTo>
                  <a:lnTo>
                    <a:pt x="5707" y="1399"/>
                  </a:lnTo>
                  <a:lnTo>
                    <a:pt x="5710" y="376"/>
                  </a:lnTo>
                  <a:lnTo>
                    <a:pt x="5713" y="1413"/>
                  </a:lnTo>
                  <a:lnTo>
                    <a:pt x="5715" y="1328"/>
                  </a:lnTo>
                  <a:lnTo>
                    <a:pt x="5718" y="2120"/>
                  </a:lnTo>
                  <a:lnTo>
                    <a:pt x="5722" y="1473"/>
                  </a:lnTo>
                  <a:lnTo>
                    <a:pt x="5724" y="1845"/>
                  </a:lnTo>
                  <a:lnTo>
                    <a:pt x="5727" y="1918"/>
                  </a:lnTo>
                  <a:lnTo>
                    <a:pt x="5730" y="1569"/>
                  </a:lnTo>
                  <a:lnTo>
                    <a:pt x="5733" y="1655"/>
                  </a:lnTo>
                  <a:lnTo>
                    <a:pt x="5735" y="1345"/>
                  </a:lnTo>
                  <a:lnTo>
                    <a:pt x="5739" y="1259"/>
                  </a:lnTo>
                  <a:lnTo>
                    <a:pt x="5741" y="1209"/>
                  </a:lnTo>
                  <a:lnTo>
                    <a:pt x="5744" y="1783"/>
                  </a:lnTo>
                  <a:lnTo>
                    <a:pt x="5747" y="1477"/>
                  </a:lnTo>
                  <a:lnTo>
                    <a:pt x="5750" y="2065"/>
                  </a:lnTo>
                  <a:lnTo>
                    <a:pt x="5753" y="1054"/>
                  </a:lnTo>
                  <a:lnTo>
                    <a:pt x="5755" y="1025"/>
                  </a:lnTo>
                  <a:lnTo>
                    <a:pt x="5759" y="1224"/>
                  </a:lnTo>
                  <a:lnTo>
                    <a:pt x="5761" y="1962"/>
                  </a:lnTo>
                  <a:lnTo>
                    <a:pt x="5764" y="1036"/>
                  </a:lnTo>
                  <a:lnTo>
                    <a:pt x="5768" y="951"/>
                  </a:lnTo>
                  <a:lnTo>
                    <a:pt x="5770" y="1022"/>
                  </a:lnTo>
                  <a:lnTo>
                    <a:pt x="5773" y="1788"/>
                  </a:lnTo>
                  <a:lnTo>
                    <a:pt x="5775" y="1136"/>
                  </a:lnTo>
                  <a:lnTo>
                    <a:pt x="5779" y="1580"/>
                  </a:lnTo>
                  <a:lnTo>
                    <a:pt x="5781" y="1207"/>
                  </a:lnTo>
                  <a:lnTo>
                    <a:pt x="5784" y="1455"/>
                  </a:lnTo>
                  <a:lnTo>
                    <a:pt x="5788" y="1433"/>
                  </a:lnTo>
                  <a:lnTo>
                    <a:pt x="5790" y="1342"/>
                  </a:lnTo>
                  <a:lnTo>
                    <a:pt x="5793" y="775"/>
                  </a:lnTo>
                  <a:lnTo>
                    <a:pt x="5795" y="1499"/>
                  </a:lnTo>
                  <a:lnTo>
                    <a:pt x="5799" y="1766"/>
                  </a:lnTo>
                  <a:lnTo>
                    <a:pt x="5801" y="1259"/>
                  </a:lnTo>
                  <a:lnTo>
                    <a:pt x="5804" y="1562"/>
                  </a:lnTo>
                  <a:lnTo>
                    <a:pt x="5807" y="1168"/>
                  </a:lnTo>
                  <a:lnTo>
                    <a:pt x="5810" y="1546"/>
                  </a:lnTo>
                  <a:lnTo>
                    <a:pt x="5813" y="1462"/>
                  </a:lnTo>
                  <a:lnTo>
                    <a:pt x="5816" y="1541"/>
                  </a:lnTo>
                  <a:lnTo>
                    <a:pt x="5819" y="963"/>
                  </a:lnTo>
                  <a:lnTo>
                    <a:pt x="5821" y="1774"/>
                  </a:lnTo>
                  <a:lnTo>
                    <a:pt x="5824" y="1547"/>
                  </a:lnTo>
                  <a:lnTo>
                    <a:pt x="5827" y="2044"/>
                  </a:lnTo>
                  <a:lnTo>
                    <a:pt x="5830" y="576"/>
                  </a:lnTo>
                  <a:lnTo>
                    <a:pt x="5833" y="2116"/>
                  </a:lnTo>
                  <a:lnTo>
                    <a:pt x="5836" y="1337"/>
                  </a:lnTo>
                  <a:lnTo>
                    <a:pt x="5839" y="1414"/>
                  </a:lnTo>
                  <a:lnTo>
                    <a:pt x="5841" y="1536"/>
                  </a:lnTo>
                  <a:lnTo>
                    <a:pt x="5845" y="1618"/>
                  </a:lnTo>
                  <a:lnTo>
                    <a:pt x="5847" y="1433"/>
                  </a:lnTo>
                  <a:lnTo>
                    <a:pt x="5850" y="776"/>
                  </a:lnTo>
                  <a:lnTo>
                    <a:pt x="5853" y="1749"/>
                  </a:lnTo>
                  <a:lnTo>
                    <a:pt x="5856" y="1513"/>
                  </a:lnTo>
                  <a:lnTo>
                    <a:pt x="5859" y="17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943280" y="3335400"/>
              <a:ext cx="5991120" cy="1834920"/>
            </a:xfrm>
            <a:custGeom>
              <a:avLst/>
              <a:gdLst/>
              <a:ahLst/>
              <a:rect l="l" t="t" r="r" b="b"/>
              <a:pathLst>
                <a:path w="6380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380" y="0"/>
                  </a:lnTo>
                  <a:lnTo>
                    <a:pt x="6380" y="2403"/>
                  </a:lnTo>
                  <a:lnTo>
                    <a:pt x="6380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535640" y="5535360"/>
              <a:ext cx="8064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  (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rot="16200000">
              <a:off x="1209600" y="4110840"/>
              <a:ext cx="2808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9" name=""/>
          <p:cNvSpPr/>
          <p:nvPr/>
        </p:nvSpPr>
        <p:spPr>
          <a:xfrm>
            <a:off x="754200" y="104688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btenido p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resul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D3F-2C02-466C-81A5-D201B57D7615}" type="slidenum">
              <a:t>76</a:t>
            </a:fld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"/>
          <p:cNvSpPr/>
          <p:nvPr/>
        </p:nvSpPr>
        <p:spPr>
          <a:xfrm>
            <a:off x="754200" y="164412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e espectro, tal como se lo muestra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ta basta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se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la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La razón es que, por definición, el ruido blanco tiene espectro plano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medi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argo plaz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BA9-991E-4B6E-8347-7B0079A84248}" type="slidenum">
              <a:t>77</a:t>
            </a:fld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"/>
          <p:cNvSpPr/>
          <p:nvPr/>
        </p:nvSpPr>
        <p:spPr>
          <a:xfrm>
            <a:off x="1770120" y="5273640"/>
            <a:ext cx="856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597720" y="5273640"/>
            <a:ext cx="46836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 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4092480" y="5273640"/>
            <a:ext cx="4651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 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2884320" y="5273640"/>
            <a:ext cx="3812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 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343480" y="5273640"/>
            <a:ext cx="46692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 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82088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07512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32288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57388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6824520" y="516744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07324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3223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25732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28224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07512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32424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5733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82284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0734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43228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45720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8243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50734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53244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5738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58230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607212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63244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65739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682452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707400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732312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757548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7824960" y="5167440"/>
            <a:ext cx="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1820880" y="3333600"/>
            <a:ext cx="6004080" cy="1833840"/>
          </a:xfrm>
          <a:custGeom>
            <a:avLst/>
            <a:gdLst/>
            <a:ahLst/>
            <a:rect l="l" t="t" r="r" b="b"/>
            <a:pathLst>
              <a:path w="6380" h="2403">
                <a:moveTo>
                  <a:pt x="0" y="2403"/>
                </a:moveTo>
                <a:lnTo>
                  <a:pt x="0" y="0"/>
                </a:lnTo>
                <a:lnTo>
                  <a:pt x="0" y="0"/>
                </a:lnTo>
                <a:lnTo>
                  <a:pt x="6380" y="0"/>
                </a:lnTo>
                <a:lnTo>
                  <a:pt x="6380" y="2403"/>
                </a:lnTo>
                <a:lnTo>
                  <a:pt x="6380" y="2403"/>
                </a:lnTo>
                <a:lnTo>
                  <a:pt x="0" y="24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4419720" y="5524560"/>
            <a:ext cx="8064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  (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1604880" y="5079960"/>
            <a:ext cx="87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1320840" y="340848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320840" y="4246560"/>
            <a:ext cx="38088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317600" y="4664160"/>
            <a:ext cx="38412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320840" y="382752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flipH="1">
            <a:off x="1740960" y="516564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1740960" y="474984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>
            <a:off x="1740960" y="433080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H="1">
            <a:off x="1740960" y="39117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1740960" y="3494160"/>
            <a:ext cx="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820880" y="4429080"/>
            <a:ext cx="5514840" cy="162000"/>
          </a:xfrm>
          <a:custGeom>
            <a:avLst/>
            <a:gdLst/>
            <a:ahLst/>
            <a:rect l="l" t="t" r="r" b="b"/>
            <a:pathLst>
              <a:path w="5859" h="521">
                <a:moveTo>
                  <a:pt x="0" y="211"/>
                </a:moveTo>
                <a:lnTo>
                  <a:pt x="3" y="272"/>
                </a:lnTo>
                <a:lnTo>
                  <a:pt x="6" y="325"/>
                </a:lnTo>
                <a:lnTo>
                  <a:pt x="9" y="177"/>
                </a:lnTo>
                <a:lnTo>
                  <a:pt x="11" y="308"/>
                </a:lnTo>
                <a:lnTo>
                  <a:pt x="15" y="447"/>
                </a:lnTo>
                <a:lnTo>
                  <a:pt x="18" y="247"/>
                </a:lnTo>
                <a:lnTo>
                  <a:pt x="20" y="417"/>
                </a:lnTo>
                <a:lnTo>
                  <a:pt x="24" y="279"/>
                </a:lnTo>
                <a:lnTo>
                  <a:pt x="26" y="188"/>
                </a:lnTo>
                <a:lnTo>
                  <a:pt x="29" y="243"/>
                </a:lnTo>
                <a:lnTo>
                  <a:pt x="31" y="314"/>
                </a:lnTo>
                <a:lnTo>
                  <a:pt x="35" y="328"/>
                </a:lnTo>
                <a:lnTo>
                  <a:pt x="37" y="363"/>
                </a:lnTo>
                <a:lnTo>
                  <a:pt x="40" y="267"/>
                </a:lnTo>
                <a:lnTo>
                  <a:pt x="44" y="284"/>
                </a:lnTo>
                <a:lnTo>
                  <a:pt x="46" y="237"/>
                </a:lnTo>
                <a:lnTo>
                  <a:pt x="49" y="269"/>
                </a:lnTo>
                <a:lnTo>
                  <a:pt x="51" y="168"/>
                </a:lnTo>
                <a:lnTo>
                  <a:pt x="55" y="280"/>
                </a:lnTo>
                <a:lnTo>
                  <a:pt x="57" y="420"/>
                </a:lnTo>
                <a:lnTo>
                  <a:pt x="60" y="323"/>
                </a:lnTo>
                <a:lnTo>
                  <a:pt x="64" y="323"/>
                </a:lnTo>
                <a:lnTo>
                  <a:pt x="66" y="422"/>
                </a:lnTo>
                <a:lnTo>
                  <a:pt x="69" y="231"/>
                </a:lnTo>
                <a:lnTo>
                  <a:pt x="72" y="290"/>
                </a:lnTo>
                <a:lnTo>
                  <a:pt x="75" y="183"/>
                </a:lnTo>
                <a:lnTo>
                  <a:pt x="77" y="257"/>
                </a:lnTo>
                <a:lnTo>
                  <a:pt x="80" y="282"/>
                </a:lnTo>
                <a:lnTo>
                  <a:pt x="84" y="116"/>
                </a:lnTo>
                <a:lnTo>
                  <a:pt x="86" y="241"/>
                </a:lnTo>
                <a:lnTo>
                  <a:pt x="89" y="247"/>
                </a:lnTo>
                <a:lnTo>
                  <a:pt x="92" y="310"/>
                </a:lnTo>
                <a:lnTo>
                  <a:pt x="95" y="237"/>
                </a:lnTo>
                <a:lnTo>
                  <a:pt x="97" y="169"/>
                </a:lnTo>
                <a:lnTo>
                  <a:pt x="101" y="218"/>
                </a:lnTo>
                <a:lnTo>
                  <a:pt x="103" y="199"/>
                </a:lnTo>
                <a:lnTo>
                  <a:pt x="106" y="282"/>
                </a:lnTo>
                <a:lnTo>
                  <a:pt x="109" y="363"/>
                </a:lnTo>
                <a:lnTo>
                  <a:pt x="112" y="318"/>
                </a:lnTo>
                <a:lnTo>
                  <a:pt x="115" y="306"/>
                </a:lnTo>
                <a:lnTo>
                  <a:pt x="117" y="242"/>
                </a:lnTo>
                <a:lnTo>
                  <a:pt x="121" y="223"/>
                </a:lnTo>
                <a:lnTo>
                  <a:pt x="123" y="315"/>
                </a:lnTo>
                <a:lnTo>
                  <a:pt x="126" y="209"/>
                </a:lnTo>
                <a:lnTo>
                  <a:pt x="130" y="347"/>
                </a:lnTo>
                <a:lnTo>
                  <a:pt x="132" y="259"/>
                </a:lnTo>
                <a:lnTo>
                  <a:pt x="135" y="286"/>
                </a:lnTo>
                <a:lnTo>
                  <a:pt x="137" y="306"/>
                </a:lnTo>
                <a:lnTo>
                  <a:pt x="141" y="221"/>
                </a:lnTo>
                <a:lnTo>
                  <a:pt x="143" y="354"/>
                </a:lnTo>
                <a:lnTo>
                  <a:pt x="146" y="418"/>
                </a:lnTo>
                <a:lnTo>
                  <a:pt x="150" y="183"/>
                </a:lnTo>
                <a:lnTo>
                  <a:pt x="152" y="280"/>
                </a:lnTo>
                <a:lnTo>
                  <a:pt x="155" y="353"/>
                </a:lnTo>
                <a:lnTo>
                  <a:pt x="157" y="305"/>
                </a:lnTo>
                <a:lnTo>
                  <a:pt x="161" y="347"/>
                </a:lnTo>
                <a:lnTo>
                  <a:pt x="163" y="324"/>
                </a:lnTo>
                <a:lnTo>
                  <a:pt x="166" y="248"/>
                </a:lnTo>
                <a:lnTo>
                  <a:pt x="169" y="294"/>
                </a:lnTo>
                <a:lnTo>
                  <a:pt x="172" y="362"/>
                </a:lnTo>
                <a:lnTo>
                  <a:pt x="175" y="257"/>
                </a:lnTo>
                <a:lnTo>
                  <a:pt x="177" y="265"/>
                </a:lnTo>
                <a:lnTo>
                  <a:pt x="181" y="388"/>
                </a:lnTo>
                <a:lnTo>
                  <a:pt x="183" y="236"/>
                </a:lnTo>
                <a:lnTo>
                  <a:pt x="186" y="340"/>
                </a:lnTo>
                <a:lnTo>
                  <a:pt x="189" y="337"/>
                </a:lnTo>
                <a:lnTo>
                  <a:pt x="192" y="271"/>
                </a:lnTo>
                <a:lnTo>
                  <a:pt x="195" y="289"/>
                </a:lnTo>
                <a:lnTo>
                  <a:pt x="198" y="206"/>
                </a:lnTo>
                <a:lnTo>
                  <a:pt x="201" y="282"/>
                </a:lnTo>
                <a:lnTo>
                  <a:pt x="203" y="128"/>
                </a:lnTo>
                <a:lnTo>
                  <a:pt x="207" y="124"/>
                </a:lnTo>
                <a:lnTo>
                  <a:pt x="209" y="242"/>
                </a:lnTo>
                <a:lnTo>
                  <a:pt x="212" y="381"/>
                </a:lnTo>
                <a:lnTo>
                  <a:pt x="215" y="203"/>
                </a:lnTo>
                <a:lnTo>
                  <a:pt x="218" y="262"/>
                </a:lnTo>
                <a:lnTo>
                  <a:pt x="221" y="301"/>
                </a:lnTo>
                <a:lnTo>
                  <a:pt x="223" y="254"/>
                </a:lnTo>
                <a:lnTo>
                  <a:pt x="227" y="209"/>
                </a:lnTo>
                <a:lnTo>
                  <a:pt x="229" y="216"/>
                </a:lnTo>
                <a:lnTo>
                  <a:pt x="232" y="283"/>
                </a:lnTo>
                <a:lnTo>
                  <a:pt x="234" y="401"/>
                </a:lnTo>
                <a:lnTo>
                  <a:pt x="238" y="304"/>
                </a:lnTo>
                <a:lnTo>
                  <a:pt x="241" y="293"/>
                </a:lnTo>
                <a:lnTo>
                  <a:pt x="243" y="286"/>
                </a:lnTo>
                <a:lnTo>
                  <a:pt x="247" y="321"/>
                </a:lnTo>
                <a:lnTo>
                  <a:pt x="249" y="275"/>
                </a:lnTo>
                <a:lnTo>
                  <a:pt x="252" y="178"/>
                </a:lnTo>
                <a:lnTo>
                  <a:pt x="254" y="282"/>
                </a:lnTo>
                <a:lnTo>
                  <a:pt x="258" y="315"/>
                </a:lnTo>
                <a:lnTo>
                  <a:pt x="261" y="192"/>
                </a:lnTo>
                <a:lnTo>
                  <a:pt x="263" y="369"/>
                </a:lnTo>
                <a:lnTo>
                  <a:pt x="267" y="277"/>
                </a:lnTo>
                <a:lnTo>
                  <a:pt x="269" y="149"/>
                </a:lnTo>
                <a:lnTo>
                  <a:pt x="272" y="304"/>
                </a:lnTo>
                <a:lnTo>
                  <a:pt x="275" y="284"/>
                </a:lnTo>
                <a:lnTo>
                  <a:pt x="278" y="207"/>
                </a:lnTo>
                <a:lnTo>
                  <a:pt x="281" y="295"/>
                </a:lnTo>
                <a:lnTo>
                  <a:pt x="283" y="320"/>
                </a:lnTo>
                <a:lnTo>
                  <a:pt x="287" y="283"/>
                </a:lnTo>
                <a:lnTo>
                  <a:pt x="289" y="188"/>
                </a:lnTo>
                <a:lnTo>
                  <a:pt x="292" y="224"/>
                </a:lnTo>
                <a:lnTo>
                  <a:pt x="295" y="358"/>
                </a:lnTo>
                <a:lnTo>
                  <a:pt x="298" y="230"/>
                </a:lnTo>
                <a:lnTo>
                  <a:pt x="301" y="332"/>
                </a:lnTo>
                <a:lnTo>
                  <a:pt x="304" y="169"/>
                </a:lnTo>
                <a:lnTo>
                  <a:pt x="307" y="214"/>
                </a:lnTo>
                <a:lnTo>
                  <a:pt x="309" y="223"/>
                </a:lnTo>
                <a:lnTo>
                  <a:pt x="312" y="287"/>
                </a:lnTo>
                <a:lnTo>
                  <a:pt x="315" y="192"/>
                </a:lnTo>
                <a:lnTo>
                  <a:pt x="318" y="361"/>
                </a:lnTo>
                <a:lnTo>
                  <a:pt x="320" y="306"/>
                </a:lnTo>
                <a:lnTo>
                  <a:pt x="324" y="234"/>
                </a:lnTo>
                <a:lnTo>
                  <a:pt x="327" y="332"/>
                </a:lnTo>
                <a:lnTo>
                  <a:pt x="329" y="384"/>
                </a:lnTo>
                <a:lnTo>
                  <a:pt x="333" y="322"/>
                </a:lnTo>
                <a:lnTo>
                  <a:pt x="335" y="197"/>
                </a:lnTo>
                <a:lnTo>
                  <a:pt x="338" y="274"/>
                </a:lnTo>
                <a:lnTo>
                  <a:pt x="340" y="425"/>
                </a:lnTo>
                <a:lnTo>
                  <a:pt x="344" y="284"/>
                </a:lnTo>
                <a:lnTo>
                  <a:pt x="347" y="283"/>
                </a:lnTo>
                <a:lnTo>
                  <a:pt x="349" y="351"/>
                </a:lnTo>
                <a:lnTo>
                  <a:pt x="353" y="245"/>
                </a:lnTo>
                <a:lnTo>
                  <a:pt x="355" y="218"/>
                </a:lnTo>
                <a:lnTo>
                  <a:pt x="358" y="160"/>
                </a:lnTo>
                <a:lnTo>
                  <a:pt x="360" y="276"/>
                </a:lnTo>
                <a:lnTo>
                  <a:pt x="364" y="253"/>
                </a:lnTo>
                <a:lnTo>
                  <a:pt x="367" y="378"/>
                </a:lnTo>
                <a:lnTo>
                  <a:pt x="369" y="137"/>
                </a:lnTo>
                <a:lnTo>
                  <a:pt x="373" y="206"/>
                </a:lnTo>
                <a:lnTo>
                  <a:pt x="375" y="220"/>
                </a:lnTo>
                <a:lnTo>
                  <a:pt x="378" y="201"/>
                </a:lnTo>
                <a:lnTo>
                  <a:pt x="381" y="139"/>
                </a:lnTo>
                <a:lnTo>
                  <a:pt x="384" y="271"/>
                </a:lnTo>
                <a:lnTo>
                  <a:pt x="386" y="267"/>
                </a:lnTo>
                <a:lnTo>
                  <a:pt x="389" y="275"/>
                </a:lnTo>
                <a:lnTo>
                  <a:pt x="393" y="217"/>
                </a:lnTo>
                <a:lnTo>
                  <a:pt x="395" y="359"/>
                </a:lnTo>
                <a:lnTo>
                  <a:pt x="398" y="390"/>
                </a:lnTo>
                <a:lnTo>
                  <a:pt x="401" y="309"/>
                </a:lnTo>
                <a:lnTo>
                  <a:pt x="404" y="291"/>
                </a:lnTo>
                <a:lnTo>
                  <a:pt x="406" y="302"/>
                </a:lnTo>
                <a:lnTo>
                  <a:pt x="410" y="266"/>
                </a:lnTo>
                <a:lnTo>
                  <a:pt x="413" y="181"/>
                </a:lnTo>
                <a:lnTo>
                  <a:pt x="415" y="196"/>
                </a:lnTo>
                <a:lnTo>
                  <a:pt x="418" y="380"/>
                </a:lnTo>
                <a:lnTo>
                  <a:pt x="421" y="374"/>
                </a:lnTo>
                <a:lnTo>
                  <a:pt x="424" y="247"/>
                </a:lnTo>
                <a:lnTo>
                  <a:pt x="426" y="251"/>
                </a:lnTo>
                <a:lnTo>
                  <a:pt x="430" y="167"/>
                </a:lnTo>
                <a:lnTo>
                  <a:pt x="433" y="290"/>
                </a:lnTo>
                <a:lnTo>
                  <a:pt x="435" y="296"/>
                </a:lnTo>
                <a:lnTo>
                  <a:pt x="439" y="303"/>
                </a:lnTo>
                <a:lnTo>
                  <a:pt x="441" y="262"/>
                </a:lnTo>
                <a:lnTo>
                  <a:pt x="444" y="286"/>
                </a:lnTo>
                <a:lnTo>
                  <a:pt x="446" y="306"/>
                </a:lnTo>
                <a:lnTo>
                  <a:pt x="450" y="271"/>
                </a:lnTo>
                <a:lnTo>
                  <a:pt x="452" y="266"/>
                </a:lnTo>
                <a:lnTo>
                  <a:pt x="455" y="228"/>
                </a:lnTo>
                <a:lnTo>
                  <a:pt x="459" y="243"/>
                </a:lnTo>
                <a:lnTo>
                  <a:pt x="461" y="345"/>
                </a:lnTo>
                <a:lnTo>
                  <a:pt x="464" y="270"/>
                </a:lnTo>
                <a:lnTo>
                  <a:pt x="466" y="177"/>
                </a:lnTo>
                <a:lnTo>
                  <a:pt x="470" y="276"/>
                </a:lnTo>
                <a:lnTo>
                  <a:pt x="472" y="326"/>
                </a:lnTo>
                <a:lnTo>
                  <a:pt x="475" y="380"/>
                </a:lnTo>
                <a:lnTo>
                  <a:pt x="479" y="354"/>
                </a:lnTo>
                <a:lnTo>
                  <a:pt x="481" y="245"/>
                </a:lnTo>
                <a:lnTo>
                  <a:pt x="484" y="312"/>
                </a:lnTo>
                <a:lnTo>
                  <a:pt x="487" y="320"/>
                </a:lnTo>
                <a:lnTo>
                  <a:pt x="490" y="284"/>
                </a:lnTo>
                <a:lnTo>
                  <a:pt x="492" y="289"/>
                </a:lnTo>
                <a:lnTo>
                  <a:pt x="495" y="332"/>
                </a:lnTo>
                <a:lnTo>
                  <a:pt x="499" y="295"/>
                </a:lnTo>
                <a:lnTo>
                  <a:pt x="501" y="211"/>
                </a:lnTo>
                <a:lnTo>
                  <a:pt x="504" y="198"/>
                </a:lnTo>
                <a:lnTo>
                  <a:pt x="507" y="248"/>
                </a:lnTo>
                <a:lnTo>
                  <a:pt x="510" y="306"/>
                </a:lnTo>
                <a:lnTo>
                  <a:pt x="512" y="276"/>
                </a:lnTo>
                <a:lnTo>
                  <a:pt x="516" y="383"/>
                </a:lnTo>
                <a:lnTo>
                  <a:pt x="518" y="140"/>
                </a:lnTo>
                <a:lnTo>
                  <a:pt x="521" y="238"/>
                </a:lnTo>
                <a:lnTo>
                  <a:pt x="524" y="182"/>
                </a:lnTo>
                <a:lnTo>
                  <a:pt x="527" y="185"/>
                </a:lnTo>
                <a:lnTo>
                  <a:pt x="530" y="236"/>
                </a:lnTo>
                <a:lnTo>
                  <a:pt x="532" y="325"/>
                </a:lnTo>
                <a:lnTo>
                  <a:pt x="536" y="340"/>
                </a:lnTo>
                <a:lnTo>
                  <a:pt x="538" y="136"/>
                </a:lnTo>
                <a:lnTo>
                  <a:pt x="541" y="266"/>
                </a:lnTo>
                <a:lnTo>
                  <a:pt x="545" y="237"/>
                </a:lnTo>
                <a:lnTo>
                  <a:pt x="547" y="250"/>
                </a:lnTo>
                <a:lnTo>
                  <a:pt x="550" y="353"/>
                </a:lnTo>
                <a:lnTo>
                  <a:pt x="552" y="265"/>
                </a:lnTo>
                <a:lnTo>
                  <a:pt x="556" y="357"/>
                </a:lnTo>
                <a:lnTo>
                  <a:pt x="558" y="315"/>
                </a:lnTo>
                <a:lnTo>
                  <a:pt x="561" y="289"/>
                </a:lnTo>
                <a:lnTo>
                  <a:pt x="565" y="241"/>
                </a:lnTo>
                <a:lnTo>
                  <a:pt x="567" y="323"/>
                </a:lnTo>
                <a:lnTo>
                  <a:pt x="570" y="187"/>
                </a:lnTo>
                <a:lnTo>
                  <a:pt x="572" y="298"/>
                </a:lnTo>
                <a:lnTo>
                  <a:pt x="576" y="329"/>
                </a:lnTo>
                <a:lnTo>
                  <a:pt x="578" y="90"/>
                </a:lnTo>
                <a:lnTo>
                  <a:pt x="581" y="87"/>
                </a:lnTo>
                <a:lnTo>
                  <a:pt x="584" y="270"/>
                </a:lnTo>
                <a:lnTo>
                  <a:pt x="587" y="266"/>
                </a:lnTo>
                <a:lnTo>
                  <a:pt x="590" y="312"/>
                </a:lnTo>
                <a:lnTo>
                  <a:pt x="592" y="333"/>
                </a:lnTo>
                <a:lnTo>
                  <a:pt x="596" y="244"/>
                </a:lnTo>
                <a:lnTo>
                  <a:pt x="598" y="267"/>
                </a:lnTo>
                <a:lnTo>
                  <a:pt x="601" y="279"/>
                </a:lnTo>
                <a:lnTo>
                  <a:pt x="604" y="267"/>
                </a:lnTo>
                <a:lnTo>
                  <a:pt x="607" y="374"/>
                </a:lnTo>
                <a:lnTo>
                  <a:pt x="610" y="310"/>
                </a:lnTo>
                <a:lnTo>
                  <a:pt x="613" y="276"/>
                </a:lnTo>
                <a:lnTo>
                  <a:pt x="616" y="298"/>
                </a:lnTo>
                <a:lnTo>
                  <a:pt x="618" y="312"/>
                </a:lnTo>
                <a:lnTo>
                  <a:pt x="621" y="363"/>
                </a:lnTo>
                <a:lnTo>
                  <a:pt x="624" y="172"/>
                </a:lnTo>
                <a:lnTo>
                  <a:pt x="627" y="348"/>
                </a:lnTo>
                <a:lnTo>
                  <a:pt x="630" y="318"/>
                </a:lnTo>
                <a:lnTo>
                  <a:pt x="633" y="285"/>
                </a:lnTo>
                <a:lnTo>
                  <a:pt x="636" y="189"/>
                </a:lnTo>
                <a:lnTo>
                  <a:pt x="638" y="257"/>
                </a:lnTo>
                <a:lnTo>
                  <a:pt x="642" y="148"/>
                </a:lnTo>
                <a:lnTo>
                  <a:pt x="644" y="281"/>
                </a:lnTo>
                <a:lnTo>
                  <a:pt x="647" y="162"/>
                </a:lnTo>
                <a:lnTo>
                  <a:pt x="649" y="248"/>
                </a:lnTo>
                <a:lnTo>
                  <a:pt x="653" y="133"/>
                </a:lnTo>
                <a:lnTo>
                  <a:pt x="656" y="286"/>
                </a:lnTo>
                <a:lnTo>
                  <a:pt x="658" y="246"/>
                </a:lnTo>
                <a:lnTo>
                  <a:pt x="662" y="332"/>
                </a:lnTo>
                <a:lnTo>
                  <a:pt x="664" y="169"/>
                </a:lnTo>
                <a:lnTo>
                  <a:pt x="667" y="109"/>
                </a:lnTo>
                <a:lnTo>
                  <a:pt x="669" y="286"/>
                </a:lnTo>
                <a:lnTo>
                  <a:pt x="673" y="299"/>
                </a:lnTo>
                <a:lnTo>
                  <a:pt x="676" y="343"/>
                </a:lnTo>
                <a:lnTo>
                  <a:pt x="678" y="201"/>
                </a:lnTo>
                <a:lnTo>
                  <a:pt x="682" y="289"/>
                </a:lnTo>
                <a:lnTo>
                  <a:pt x="684" y="289"/>
                </a:lnTo>
                <a:lnTo>
                  <a:pt x="687" y="328"/>
                </a:lnTo>
                <a:lnTo>
                  <a:pt x="690" y="61"/>
                </a:lnTo>
                <a:lnTo>
                  <a:pt x="693" y="216"/>
                </a:lnTo>
                <a:lnTo>
                  <a:pt x="696" y="224"/>
                </a:lnTo>
                <a:lnTo>
                  <a:pt x="698" y="212"/>
                </a:lnTo>
                <a:lnTo>
                  <a:pt x="702" y="339"/>
                </a:lnTo>
                <a:lnTo>
                  <a:pt x="704" y="393"/>
                </a:lnTo>
                <a:lnTo>
                  <a:pt x="707" y="214"/>
                </a:lnTo>
                <a:lnTo>
                  <a:pt x="710" y="225"/>
                </a:lnTo>
                <a:lnTo>
                  <a:pt x="713" y="230"/>
                </a:lnTo>
                <a:lnTo>
                  <a:pt x="715" y="173"/>
                </a:lnTo>
                <a:lnTo>
                  <a:pt x="719" y="238"/>
                </a:lnTo>
                <a:lnTo>
                  <a:pt x="722" y="326"/>
                </a:lnTo>
                <a:lnTo>
                  <a:pt x="724" y="363"/>
                </a:lnTo>
                <a:lnTo>
                  <a:pt x="727" y="251"/>
                </a:lnTo>
                <a:lnTo>
                  <a:pt x="730" y="146"/>
                </a:lnTo>
                <a:lnTo>
                  <a:pt x="733" y="291"/>
                </a:lnTo>
                <a:lnTo>
                  <a:pt x="735" y="232"/>
                </a:lnTo>
                <a:lnTo>
                  <a:pt x="739" y="275"/>
                </a:lnTo>
                <a:lnTo>
                  <a:pt x="742" y="321"/>
                </a:lnTo>
                <a:lnTo>
                  <a:pt x="744" y="148"/>
                </a:lnTo>
                <a:lnTo>
                  <a:pt x="748" y="303"/>
                </a:lnTo>
                <a:lnTo>
                  <a:pt x="750" y="295"/>
                </a:lnTo>
                <a:lnTo>
                  <a:pt x="753" y="350"/>
                </a:lnTo>
                <a:lnTo>
                  <a:pt x="755" y="236"/>
                </a:lnTo>
                <a:lnTo>
                  <a:pt x="759" y="226"/>
                </a:lnTo>
                <a:lnTo>
                  <a:pt x="762" y="254"/>
                </a:lnTo>
                <a:lnTo>
                  <a:pt x="764" y="244"/>
                </a:lnTo>
                <a:lnTo>
                  <a:pt x="768" y="177"/>
                </a:lnTo>
                <a:lnTo>
                  <a:pt x="770" y="264"/>
                </a:lnTo>
                <a:lnTo>
                  <a:pt x="773" y="301"/>
                </a:lnTo>
                <a:lnTo>
                  <a:pt x="775" y="275"/>
                </a:lnTo>
                <a:lnTo>
                  <a:pt x="779" y="312"/>
                </a:lnTo>
                <a:lnTo>
                  <a:pt x="782" y="374"/>
                </a:lnTo>
                <a:lnTo>
                  <a:pt x="784" y="163"/>
                </a:lnTo>
                <a:lnTo>
                  <a:pt x="788" y="299"/>
                </a:lnTo>
                <a:lnTo>
                  <a:pt x="790" y="233"/>
                </a:lnTo>
                <a:lnTo>
                  <a:pt x="793" y="285"/>
                </a:lnTo>
                <a:lnTo>
                  <a:pt x="796" y="390"/>
                </a:lnTo>
                <a:lnTo>
                  <a:pt x="799" y="302"/>
                </a:lnTo>
                <a:lnTo>
                  <a:pt x="801" y="209"/>
                </a:lnTo>
                <a:lnTo>
                  <a:pt x="804" y="285"/>
                </a:lnTo>
                <a:lnTo>
                  <a:pt x="808" y="155"/>
                </a:lnTo>
                <a:lnTo>
                  <a:pt x="810" y="360"/>
                </a:lnTo>
                <a:lnTo>
                  <a:pt x="813" y="299"/>
                </a:lnTo>
                <a:lnTo>
                  <a:pt x="816" y="304"/>
                </a:lnTo>
                <a:lnTo>
                  <a:pt x="819" y="302"/>
                </a:lnTo>
                <a:lnTo>
                  <a:pt x="821" y="217"/>
                </a:lnTo>
                <a:lnTo>
                  <a:pt x="825" y="270"/>
                </a:lnTo>
                <a:lnTo>
                  <a:pt x="828" y="181"/>
                </a:lnTo>
                <a:lnTo>
                  <a:pt x="830" y="206"/>
                </a:lnTo>
                <a:lnTo>
                  <a:pt x="833" y="272"/>
                </a:lnTo>
                <a:lnTo>
                  <a:pt x="836" y="245"/>
                </a:lnTo>
                <a:lnTo>
                  <a:pt x="839" y="326"/>
                </a:lnTo>
                <a:lnTo>
                  <a:pt x="841" y="295"/>
                </a:lnTo>
                <a:lnTo>
                  <a:pt x="845" y="315"/>
                </a:lnTo>
                <a:lnTo>
                  <a:pt x="848" y="293"/>
                </a:lnTo>
                <a:lnTo>
                  <a:pt x="850" y="271"/>
                </a:lnTo>
                <a:lnTo>
                  <a:pt x="854" y="156"/>
                </a:lnTo>
                <a:lnTo>
                  <a:pt x="856" y="233"/>
                </a:lnTo>
                <a:lnTo>
                  <a:pt x="859" y="260"/>
                </a:lnTo>
                <a:lnTo>
                  <a:pt x="861" y="225"/>
                </a:lnTo>
                <a:lnTo>
                  <a:pt x="865" y="344"/>
                </a:lnTo>
                <a:lnTo>
                  <a:pt x="867" y="308"/>
                </a:lnTo>
                <a:lnTo>
                  <a:pt x="870" y="274"/>
                </a:lnTo>
                <a:lnTo>
                  <a:pt x="874" y="301"/>
                </a:lnTo>
                <a:lnTo>
                  <a:pt x="876" y="337"/>
                </a:lnTo>
                <a:lnTo>
                  <a:pt x="879" y="270"/>
                </a:lnTo>
                <a:lnTo>
                  <a:pt x="881" y="347"/>
                </a:lnTo>
                <a:lnTo>
                  <a:pt x="885" y="248"/>
                </a:lnTo>
                <a:lnTo>
                  <a:pt x="887" y="226"/>
                </a:lnTo>
                <a:lnTo>
                  <a:pt x="890" y="195"/>
                </a:lnTo>
                <a:lnTo>
                  <a:pt x="894" y="360"/>
                </a:lnTo>
                <a:lnTo>
                  <a:pt x="896" y="340"/>
                </a:lnTo>
                <a:lnTo>
                  <a:pt x="899" y="283"/>
                </a:lnTo>
                <a:lnTo>
                  <a:pt x="901" y="173"/>
                </a:lnTo>
                <a:lnTo>
                  <a:pt x="905" y="241"/>
                </a:lnTo>
                <a:lnTo>
                  <a:pt x="907" y="203"/>
                </a:lnTo>
                <a:lnTo>
                  <a:pt x="910" y="201"/>
                </a:lnTo>
                <a:lnTo>
                  <a:pt x="914" y="273"/>
                </a:lnTo>
                <a:lnTo>
                  <a:pt x="916" y="344"/>
                </a:lnTo>
                <a:lnTo>
                  <a:pt x="919" y="217"/>
                </a:lnTo>
                <a:lnTo>
                  <a:pt x="922" y="139"/>
                </a:lnTo>
                <a:lnTo>
                  <a:pt x="925" y="283"/>
                </a:lnTo>
                <a:lnTo>
                  <a:pt x="927" y="269"/>
                </a:lnTo>
                <a:lnTo>
                  <a:pt x="930" y="295"/>
                </a:lnTo>
                <a:lnTo>
                  <a:pt x="933" y="294"/>
                </a:lnTo>
                <a:lnTo>
                  <a:pt x="936" y="189"/>
                </a:lnTo>
                <a:lnTo>
                  <a:pt x="939" y="355"/>
                </a:lnTo>
                <a:lnTo>
                  <a:pt x="942" y="254"/>
                </a:lnTo>
                <a:lnTo>
                  <a:pt x="945" y="354"/>
                </a:lnTo>
                <a:lnTo>
                  <a:pt x="947" y="209"/>
                </a:lnTo>
                <a:lnTo>
                  <a:pt x="951" y="292"/>
                </a:lnTo>
                <a:lnTo>
                  <a:pt x="953" y="142"/>
                </a:lnTo>
                <a:lnTo>
                  <a:pt x="956" y="360"/>
                </a:lnTo>
                <a:lnTo>
                  <a:pt x="960" y="125"/>
                </a:lnTo>
                <a:lnTo>
                  <a:pt x="962" y="146"/>
                </a:lnTo>
                <a:lnTo>
                  <a:pt x="965" y="312"/>
                </a:lnTo>
                <a:lnTo>
                  <a:pt x="967" y="331"/>
                </a:lnTo>
                <a:lnTo>
                  <a:pt x="971" y="272"/>
                </a:lnTo>
                <a:lnTo>
                  <a:pt x="973" y="168"/>
                </a:lnTo>
                <a:lnTo>
                  <a:pt x="976" y="241"/>
                </a:lnTo>
                <a:lnTo>
                  <a:pt x="980" y="193"/>
                </a:lnTo>
                <a:lnTo>
                  <a:pt x="982" y="259"/>
                </a:lnTo>
                <a:lnTo>
                  <a:pt x="985" y="294"/>
                </a:lnTo>
                <a:lnTo>
                  <a:pt x="987" y="298"/>
                </a:lnTo>
                <a:lnTo>
                  <a:pt x="991" y="264"/>
                </a:lnTo>
                <a:lnTo>
                  <a:pt x="993" y="302"/>
                </a:lnTo>
                <a:lnTo>
                  <a:pt x="996" y="279"/>
                </a:lnTo>
                <a:lnTo>
                  <a:pt x="999" y="201"/>
                </a:lnTo>
                <a:lnTo>
                  <a:pt x="1002" y="211"/>
                </a:lnTo>
                <a:lnTo>
                  <a:pt x="1005" y="407"/>
                </a:lnTo>
                <a:lnTo>
                  <a:pt x="1007" y="195"/>
                </a:lnTo>
                <a:lnTo>
                  <a:pt x="1011" y="357"/>
                </a:lnTo>
                <a:lnTo>
                  <a:pt x="1013" y="333"/>
                </a:lnTo>
                <a:lnTo>
                  <a:pt x="1016" y="286"/>
                </a:lnTo>
                <a:lnTo>
                  <a:pt x="1019" y="275"/>
                </a:lnTo>
                <a:lnTo>
                  <a:pt x="1022" y="386"/>
                </a:lnTo>
                <a:lnTo>
                  <a:pt x="1025" y="330"/>
                </a:lnTo>
                <a:lnTo>
                  <a:pt x="1028" y="375"/>
                </a:lnTo>
                <a:lnTo>
                  <a:pt x="1031" y="226"/>
                </a:lnTo>
                <a:lnTo>
                  <a:pt x="1033" y="290"/>
                </a:lnTo>
                <a:lnTo>
                  <a:pt x="1036" y="198"/>
                </a:lnTo>
                <a:lnTo>
                  <a:pt x="1039" y="348"/>
                </a:lnTo>
                <a:lnTo>
                  <a:pt x="1042" y="227"/>
                </a:lnTo>
                <a:lnTo>
                  <a:pt x="1045" y="294"/>
                </a:lnTo>
                <a:lnTo>
                  <a:pt x="1048" y="250"/>
                </a:lnTo>
                <a:lnTo>
                  <a:pt x="1051" y="319"/>
                </a:lnTo>
                <a:lnTo>
                  <a:pt x="1053" y="347"/>
                </a:lnTo>
                <a:lnTo>
                  <a:pt x="1057" y="305"/>
                </a:lnTo>
                <a:lnTo>
                  <a:pt x="1059" y="195"/>
                </a:lnTo>
                <a:lnTo>
                  <a:pt x="1062" y="155"/>
                </a:lnTo>
                <a:lnTo>
                  <a:pt x="1064" y="345"/>
                </a:lnTo>
                <a:lnTo>
                  <a:pt x="1068" y="137"/>
                </a:lnTo>
                <a:lnTo>
                  <a:pt x="1071" y="209"/>
                </a:lnTo>
                <a:lnTo>
                  <a:pt x="1073" y="234"/>
                </a:lnTo>
                <a:lnTo>
                  <a:pt x="1077" y="300"/>
                </a:lnTo>
                <a:lnTo>
                  <a:pt x="1079" y="360"/>
                </a:lnTo>
                <a:lnTo>
                  <a:pt x="1082" y="260"/>
                </a:lnTo>
                <a:lnTo>
                  <a:pt x="1084" y="384"/>
                </a:lnTo>
                <a:lnTo>
                  <a:pt x="1088" y="305"/>
                </a:lnTo>
                <a:lnTo>
                  <a:pt x="1091" y="212"/>
                </a:lnTo>
                <a:lnTo>
                  <a:pt x="1093" y="272"/>
                </a:lnTo>
                <a:lnTo>
                  <a:pt x="1097" y="169"/>
                </a:lnTo>
                <a:lnTo>
                  <a:pt x="1099" y="316"/>
                </a:lnTo>
                <a:lnTo>
                  <a:pt x="1102" y="246"/>
                </a:lnTo>
                <a:lnTo>
                  <a:pt x="1105" y="272"/>
                </a:lnTo>
                <a:lnTo>
                  <a:pt x="1108" y="256"/>
                </a:lnTo>
                <a:lnTo>
                  <a:pt x="1111" y="404"/>
                </a:lnTo>
                <a:lnTo>
                  <a:pt x="1113" y="212"/>
                </a:lnTo>
                <a:lnTo>
                  <a:pt x="1117" y="261"/>
                </a:lnTo>
                <a:lnTo>
                  <a:pt x="1119" y="261"/>
                </a:lnTo>
                <a:lnTo>
                  <a:pt x="1122" y="284"/>
                </a:lnTo>
                <a:lnTo>
                  <a:pt x="1125" y="361"/>
                </a:lnTo>
                <a:lnTo>
                  <a:pt x="1128" y="325"/>
                </a:lnTo>
                <a:lnTo>
                  <a:pt x="1130" y="332"/>
                </a:lnTo>
                <a:lnTo>
                  <a:pt x="1134" y="244"/>
                </a:lnTo>
                <a:lnTo>
                  <a:pt x="1137" y="245"/>
                </a:lnTo>
                <a:lnTo>
                  <a:pt x="1139" y="323"/>
                </a:lnTo>
                <a:lnTo>
                  <a:pt x="1142" y="308"/>
                </a:lnTo>
                <a:lnTo>
                  <a:pt x="1145" y="240"/>
                </a:lnTo>
                <a:lnTo>
                  <a:pt x="1148" y="277"/>
                </a:lnTo>
                <a:lnTo>
                  <a:pt x="1150" y="213"/>
                </a:lnTo>
                <a:lnTo>
                  <a:pt x="1154" y="287"/>
                </a:lnTo>
                <a:lnTo>
                  <a:pt x="1157" y="246"/>
                </a:lnTo>
                <a:lnTo>
                  <a:pt x="1159" y="252"/>
                </a:lnTo>
                <a:lnTo>
                  <a:pt x="1163" y="197"/>
                </a:lnTo>
                <a:lnTo>
                  <a:pt x="1165" y="290"/>
                </a:lnTo>
                <a:lnTo>
                  <a:pt x="1168" y="265"/>
                </a:lnTo>
                <a:lnTo>
                  <a:pt x="1170" y="196"/>
                </a:lnTo>
                <a:lnTo>
                  <a:pt x="1174" y="160"/>
                </a:lnTo>
                <a:lnTo>
                  <a:pt x="1177" y="306"/>
                </a:lnTo>
                <a:lnTo>
                  <a:pt x="1179" y="387"/>
                </a:lnTo>
                <a:lnTo>
                  <a:pt x="1183" y="228"/>
                </a:lnTo>
                <a:lnTo>
                  <a:pt x="1185" y="304"/>
                </a:lnTo>
                <a:lnTo>
                  <a:pt x="1188" y="313"/>
                </a:lnTo>
                <a:lnTo>
                  <a:pt x="1190" y="197"/>
                </a:lnTo>
                <a:lnTo>
                  <a:pt x="1194" y="240"/>
                </a:lnTo>
                <a:lnTo>
                  <a:pt x="1196" y="281"/>
                </a:lnTo>
                <a:lnTo>
                  <a:pt x="1199" y="293"/>
                </a:lnTo>
                <a:lnTo>
                  <a:pt x="1203" y="265"/>
                </a:lnTo>
                <a:lnTo>
                  <a:pt x="1205" y="304"/>
                </a:lnTo>
                <a:lnTo>
                  <a:pt x="1208" y="194"/>
                </a:lnTo>
                <a:lnTo>
                  <a:pt x="1211" y="223"/>
                </a:lnTo>
                <a:lnTo>
                  <a:pt x="1214" y="328"/>
                </a:lnTo>
                <a:lnTo>
                  <a:pt x="1216" y="247"/>
                </a:lnTo>
                <a:lnTo>
                  <a:pt x="1219" y="386"/>
                </a:lnTo>
                <a:lnTo>
                  <a:pt x="1223" y="345"/>
                </a:lnTo>
                <a:lnTo>
                  <a:pt x="1225" y="283"/>
                </a:lnTo>
                <a:lnTo>
                  <a:pt x="1228" y="300"/>
                </a:lnTo>
                <a:lnTo>
                  <a:pt x="1231" y="240"/>
                </a:lnTo>
                <a:lnTo>
                  <a:pt x="1234" y="322"/>
                </a:lnTo>
                <a:lnTo>
                  <a:pt x="1236" y="208"/>
                </a:lnTo>
                <a:lnTo>
                  <a:pt x="1240" y="342"/>
                </a:lnTo>
                <a:lnTo>
                  <a:pt x="1243" y="283"/>
                </a:lnTo>
                <a:lnTo>
                  <a:pt x="1245" y="312"/>
                </a:lnTo>
                <a:lnTo>
                  <a:pt x="1248" y="349"/>
                </a:lnTo>
                <a:lnTo>
                  <a:pt x="1251" y="96"/>
                </a:lnTo>
                <a:lnTo>
                  <a:pt x="1254" y="339"/>
                </a:lnTo>
                <a:lnTo>
                  <a:pt x="1256" y="171"/>
                </a:lnTo>
                <a:lnTo>
                  <a:pt x="1260" y="332"/>
                </a:lnTo>
                <a:lnTo>
                  <a:pt x="1263" y="369"/>
                </a:lnTo>
                <a:lnTo>
                  <a:pt x="1265" y="328"/>
                </a:lnTo>
                <a:lnTo>
                  <a:pt x="1269" y="296"/>
                </a:lnTo>
                <a:lnTo>
                  <a:pt x="1271" y="205"/>
                </a:lnTo>
                <a:lnTo>
                  <a:pt x="1274" y="354"/>
                </a:lnTo>
                <a:lnTo>
                  <a:pt x="1276" y="192"/>
                </a:lnTo>
                <a:lnTo>
                  <a:pt x="1280" y="148"/>
                </a:lnTo>
                <a:lnTo>
                  <a:pt x="1282" y="293"/>
                </a:lnTo>
                <a:lnTo>
                  <a:pt x="1285" y="287"/>
                </a:lnTo>
                <a:lnTo>
                  <a:pt x="1289" y="234"/>
                </a:lnTo>
                <a:lnTo>
                  <a:pt x="1291" y="251"/>
                </a:lnTo>
                <a:lnTo>
                  <a:pt x="1294" y="171"/>
                </a:lnTo>
                <a:lnTo>
                  <a:pt x="1296" y="273"/>
                </a:lnTo>
                <a:lnTo>
                  <a:pt x="1300" y="338"/>
                </a:lnTo>
                <a:lnTo>
                  <a:pt x="1302" y="427"/>
                </a:lnTo>
                <a:lnTo>
                  <a:pt x="1305" y="192"/>
                </a:lnTo>
                <a:lnTo>
                  <a:pt x="1309" y="306"/>
                </a:lnTo>
                <a:lnTo>
                  <a:pt x="1311" y="279"/>
                </a:lnTo>
                <a:lnTo>
                  <a:pt x="1314" y="248"/>
                </a:lnTo>
                <a:lnTo>
                  <a:pt x="1316" y="238"/>
                </a:lnTo>
                <a:lnTo>
                  <a:pt x="1320" y="237"/>
                </a:lnTo>
                <a:lnTo>
                  <a:pt x="1322" y="233"/>
                </a:lnTo>
                <a:lnTo>
                  <a:pt x="1325" y="299"/>
                </a:lnTo>
                <a:lnTo>
                  <a:pt x="1329" y="153"/>
                </a:lnTo>
                <a:lnTo>
                  <a:pt x="1331" y="314"/>
                </a:lnTo>
                <a:lnTo>
                  <a:pt x="1334" y="290"/>
                </a:lnTo>
                <a:lnTo>
                  <a:pt x="1337" y="108"/>
                </a:lnTo>
                <a:lnTo>
                  <a:pt x="1340" y="220"/>
                </a:lnTo>
                <a:lnTo>
                  <a:pt x="1342" y="375"/>
                </a:lnTo>
                <a:lnTo>
                  <a:pt x="1345" y="279"/>
                </a:lnTo>
                <a:lnTo>
                  <a:pt x="1348" y="337"/>
                </a:lnTo>
                <a:lnTo>
                  <a:pt x="1351" y="168"/>
                </a:lnTo>
                <a:lnTo>
                  <a:pt x="1354" y="228"/>
                </a:lnTo>
                <a:lnTo>
                  <a:pt x="1357" y="292"/>
                </a:lnTo>
                <a:lnTo>
                  <a:pt x="1360" y="349"/>
                </a:lnTo>
                <a:lnTo>
                  <a:pt x="1362" y="262"/>
                </a:lnTo>
                <a:lnTo>
                  <a:pt x="1366" y="123"/>
                </a:lnTo>
                <a:lnTo>
                  <a:pt x="1368" y="263"/>
                </a:lnTo>
                <a:lnTo>
                  <a:pt x="1371" y="194"/>
                </a:lnTo>
                <a:lnTo>
                  <a:pt x="1374" y="19"/>
                </a:lnTo>
                <a:lnTo>
                  <a:pt x="1377" y="188"/>
                </a:lnTo>
                <a:lnTo>
                  <a:pt x="1380" y="381"/>
                </a:lnTo>
                <a:lnTo>
                  <a:pt x="1382" y="348"/>
                </a:lnTo>
                <a:lnTo>
                  <a:pt x="1386" y="274"/>
                </a:lnTo>
                <a:lnTo>
                  <a:pt x="1388" y="280"/>
                </a:lnTo>
                <a:lnTo>
                  <a:pt x="1391" y="172"/>
                </a:lnTo>
                <a:lnTo>
                  <a:pt x="1395" y="263"/>
                </a:lnTo>
                <a:lnTo>
                  <a:pt x="1397" y="254"/>
                </a:lnTo>
                <a:lnTo>
                  <a:pt x="1400" y="192"/>
                </a:lnTo>
                <a:lnTo>
                  <a:pt x="1402" y="256"/>
                </a:lnTo>
                <a:lnTo>
                  <a:pt x="1406" y="273"/>
                </a:lnTo>
                <a:lnTo>
                  <a:pt x="1408" y="177"/>
                </a:lnTo>
                <a:lnTo>
                  <a:pt x="1411" y="295"/>
                </a:lnTo>
                <a:lnTo>
                  <a:pt x="1414" y="351"/>
                </a:lnTo>
                <a:lnTo>
                  <a:pt x="1417" y="357"/>
                </a:lnTo>
                <a:lnTo>
                  <a:pt x="1420" y="144"/>
                </a:lnTo>
                <a:lnTo>
                  <a:pt x="1422" y="220"/>
                </a:lnTo>
                <a:lnTo>
                  <a:pt x="1426" y="132"/>
                </a:lnTo>
                <a:lnTo>
                  <a:pt x="1428" y="214"/>
                </a:lnTo>
                <a:lnTo>
                  <a:pt x="1431" y="271"/>
                </a:lnTo>
                <a:lnTo>
                  <a:pt x="1434" y="284"/>
                </a:lnTo>
                <a:lnTo>
                  <a:pt x="1437" y="261"/>
                </a:lnTo>
                <a:lnTo>
                  <a:pt x="1440" y="204"/>
                </a:lnTo>
                <a:lnTo>
                  <a:pt x="1443" y="148"/>
                </a:lnTo>
                <a:lnTo>
                  <a:pt x="1446" y="208"/>
                </a:lnTo>
                <a:lnTo>
                  <a:pt x="1448" y="361"/>
                </a:lnTo>
                <a:lnTo>
                  <a:pt x="1451" y="213"/>
                </a:lnTo>
                <a:lnTo>
                  <a:pt x="1454" y="305"/>
                </a:lnTo>
                <a:lnTo>
                  <a:pt x="1457" y="147"/>
                </a:lnTo>
                <a:lnTo>
                  <a:pt x="1460" y="172"/>
                </a:lnTo>
                <a:lnTo>
                  <a:pt x="1463" y="304"/>
                </a:lnTo>
                <a:lnTo>
                  <a:pt x="1466" y="187"/>
                </a:lnTo>
                <a:lnTo>
                  <a:pt x="1468" y="324"/>
                </a:lnTo>
                <a:lnTo>
                  <a:pt x="1472" y="392"/>
                </a:lnTo>
                <a:lnTo>
                  <a:pt x="1474" y="283"/>
                </a:lnTo>
                <a:lnTo>
                  <a:pt x="1477" y="334"/>
                </a:lnTo>
                <a:lnTo>
                  <a:pt x="1479" y="324"/>
                </a:lnTo>
                <a:lnTo>
                  <a:pt x="1483" y="191"/>
                </a:lnTo>
                <a:lnTo>
                  <a:pt x="1486" y="234"/>
                </a:lnTo>
                <a:lnTo>
                  <a:pt x="1488" y="321"/>
                </a:lnTo>
                <a:lnTo>
                  <a:pt x="1492" y="275"/>
                </a:lnTo>
                <a:lnTo>
                  <a:pt x="1494" y="314"/>
                </a:lnTo>
                <a:lnTo>
                  <a:pt x="1497" y="300"/>
                </a:lnTo>
                <a:lnTo>
                  <a:pt x="1499" y="242"/>
                </a:lnTo>
                <a:lnTo>
                  <a:pt x="1503" y="359"/>
                </a:lnTo>
                <a:lnTo>
                  <a:pt x="1506" y="178"/>
                </a:lnTo>
                <a:lnTo>
                  <a:pt x="1508" y="256"/>
                </a:lnTo>
                <a:lnTo>
                  <a:pt x="1512" y="232"/>
                </a:lnTo>
                <a:lnTo>
                  <a:pt x="1514" y="305"/>
                </a:lnTo>
                <a:lnTo>
                  <a:pt x="1517" y="233"/>
                </a:lnTo>
                <a:lnTo>
                  <a:pt x="1520" y="222"/>
                </a:lnTo>
                <a:lnTo>
                  <a:pt x="1523" y="362"/>
                </a:lnTo>
                <a:lnTo>
                  <a:pt x="1526" y="270"/>
                </a:lnTo>
                <a:lnTo>
                  <a:pt x="1528" y="380"/>
                </a:lnTo>
                <a:lnTo>
                  <a:pt x="1532" y="228"/>
                </a:lnTo>
                <a:lnTo>
                  <a:pt x="1534" y="313"/>
                </a:lnTo>
                <a:lnTo>
                  <a:pt x="1537" y="234"/>
                </a:lnTo>
                <a:lnTo>
                  <a:pt x="1540" y="265"/>
                </a:lnTo>
                <a:lnTo>
                  <a:pt x="1543" y="269"/>
                </a:lnTo>
                <a:lnTo>
                  <a:pt x="1545" y="218"/>
                </a:lnTo>
                <a:lnTo>
                  <a:pt x="1549" y="187"/>
                </a:lnTo>
                <a:lnTo>
                  <a:pt x="1552" y="272"/>
                </a:lnTo>
                <a:lnTo>
                  <a:pt x="1554" y="220"/>
                </a:lnTo>
                <a:lnTo>
                  <a:pt x="1557" y="207"/>
                </a:lnTo>
                <a:lnTo>
                  <a:pt x="1560" y="344"/>
                </a:lnTo>
                <a:lnTo>
                  <a:pt x="1563" y="271"/>
                </a:lnTo>
                <a:lnTo>
                  <a:pt x="1565" y="143"/>
                </a:lnTo>
                <a:lnTo>
                  <a:pt x="1569" y="304"/>
                </a:lnTo>
                <a:lnTo>
                  <a:pt x="1572" y="104"/>
                </a:lnTo>
                <a:lnTo>
                  <a:pt x="1574" y="267"/>
                </a:lnTo>
                <a:lnTo>
                  <a:pt x="1578" y="311"/>
                </a:lnTo>
                <a:lnTo>
                  <a:pt x="1580" y="234"/>
                </a:lnTo>
                <a:lnTo>
                  <a:pt x="1583" y="271"/>
                </a:lnTo>
                <a:lnTo>
                  <a:pt x="1585" y="281"/>
                </a:lnTo>
                <a:lnTo>
                  <a:pt x="1589" y="254"/>
                </a:lnTo>
                <a:lnTo>
                  <a:pt x="1592" y="243"/>
                </a:lnTo>
                <a:lnTo>
                  <a:pt x="1594" y="331"/>
                </a:lnTo>
                <a:lnTo>
                  <a:pt x="1598" y="340"/>
                </a:lnTo>
                <a:lnTo>
                  <a:pt x="1600" y="193"/>
                </a:lnTo>
                <a:lnTo>
                  <a:pt x="1603" y="330"/>
                </a:lnTo>
                <a:lnTo>
                  <a:pt x="1605" y="228"/>
                </a:lnTo>
                <a:lnTo>
                  <a:pt x="1609" y="259"/>
                </a:lnTo>
                <a:lnTo>
                  <a:pt x="1611" y="264"/>
                </a:lnTo>
                <a:lnTo>
                  <a:pt x="1614" y="225"/>
                </a:lnTo>
                <a:lnTo>
                  <a:pt x="1618" y="304"/>
                </a:lnTo>
                <a:lnTo>
                  <a:pt x="1620" y="277"/>
                </a:lnTo>
                <a:lnTo>
                  <a:pt x="1623" y="310"/>
                </a:lnTo>
                <a:lnTo>
                  <a:pt x="1625" y="230"/>
                </a:lnTo>
                <a:lnTo>
                  <a:pt x="1629" y="242"/>
                </a:lnTo>
                <a:lnTo>
                  <a:pt x="1631" y="218"/>
                </a:lnTo>
                <a:lnTo>
                  <a:pt x="1634" y="331"/>
                </a:lnTo>
                <a:lnTo>
                  <a:pt x="1638" y="331"/>
                </a:lnTo>
                <a:lnTo>
                  <a:pt x="1640" y="233"/>
                </a:lnTo>
                <a:lnTo>
                  <a:pt x="1643" y="205"/>
                </a:lnTo>
                <a:lnTo>
                  <a:pt x="1646" y="328"/>
                </a:lnTo>
                <a:lnTo>
                  <a:pt x="1649" y="194"/>
                </a:lnTo>
                <a:lnTo>
                  <a:pt x="1651" y="303"/>
                </a:lnTo>
                <a:lnTo>
                  <a:pt x="1654" y="283"/>
                </a:lnTo>
                <a:lnTo>
                  <a:pt x="1658" y="145"/>
                </a:lnTo>
                <a:lnTo>
                  <a:pt x="1660" y="171"/>
                </a:lnTo>
                <a:lnTo>
                  <a:pt x="1663" y="299"/>
                </a:lnTo>
                <a:lnTo>
                  <a:pt x="1666" y="225"/>
                </a:lnTo>
                <a:lnTo>
                  <a:pt x="1669" y="374"/>
                </a:lnTo>
                <a:lnTo>
                  <a:pt x="1671" y="326"/>
                </a:lnTo>
                <a:lnTo>
                  <a:pt x="1675" y="253"/>
                </a:lnTo>
                <a:lnTo>
                  <a:pt x="1677" y="261"/>
                </a:lnTo>
                <a:lnTo>
                  <a:pt x="1680" y="282"/>
                </a:lnTo>
                <a:lnTo>
                  <a:pt x="1683" y="259"/>
                </a:lnTo>
                <a:lnTo>
                  <a:pt x="1686" y="183"/>
                </a:lnTo>
                <a:lnTo>
                  <a:pt x="1689" y="237"/>
                </a:lnTo>
                <a:lnTo>
                  <a:pt x="1691" y="206"/>
                </a:lnTo>
                <a:lnTo>
                  <a:pt x="1695" y="281"/>
                </a:lnTo>
                <a:lnTo>
                  <a:pt x="1697" y="264"/>
                </a:lnTo>
                <a:lnTo>
                  <a:pt x="1700" y="381"/>
                </a:lnTo>
                <a:lnTo>
                  <a:pt x="1704" y="280"/>
                </a:lnTo>
                <a:lnTo>
                  <a:pt x="1706" y="270"/>
                </a:lnTo>
                <a:lnTo>
                  <a:pt x="1709" y="228"/>
                </a:lnTo>
                <a:lnTo>
                  <a:pt x="1711" y="318"/>
                </a:lnTo>
                <a:lnTo>
                  <a:pt x="1715" y="389"/>
                </a:lnTo>
                <a:lnTo>
                  <a:pt x="1717" y="241"/>
                </a:lnTo>
                <a:lnTo>
                  <a:pt x="1720" y="256"/>
                </a:lnTo>
                <a:lnTo>
                  <a:pt x="1724" y="226"/>
                </a:lnTo>
                <a:lnTo>
                  <a:pt x="1726" y="296"/>
                </a:lnTo>
                <a:lnTo>
                  <a:pt x="1729" y="266"/>
                </a:lnTo>
                <a:lnTo>
                  <a:pt x="1731" y="309"/>
                </a:lnTo>
                <a:lnTo>
                  <a:pt x="1735" y="279"/>
                </a:lnTo>
                <a:lnTo>
                  <a:pt x="1737" y="202"/>
                </a:lnTo>
                <a:lnTo>
                  <a:pt x="1740" y="167"/>
                </a:lnTo>
                <a:lnTo>
                  <a:pt x="1744" y="189"/>
                </a:lnTo>
                <a:lnTo>
                  <a:pt x="1746" y="338"/>
                </a:lnTo>
                <a:lnTo>
                  <a:pt x="1749" y="274"/>
                </a:lnTo>
                <a:lnTo>
                  <a:pt x="1752" y="233"/>
                </a:lnTo>
                <a:lnTo>
                  <a:pt x="1755" y="195"/>
                </a:lnTo>
                <a:lnTo>
                  <a:pt x="1757" y="379"/>
                </a:lnTo>
                <a:lnTo>
                  <a:pt x="1760" y="220"/>
                </a:lnTo>
                <a:lnTo>
                  <a:pt x="1763" y="202"/>
                </a:lnTo>
                <a:lnTo>
                  <a:pt x="1766" y="367"/>
                </a:lnTo>
                <a:lnTo>
                  <a:pt x="1769" y="184"/>
                </a:lnTo>
                <a:lnTo>
                  <a:pt x="1772" y="117"/>
                </a:lnTo>
                <a:lnTo>
                  <a:pt x="1775" y="159"/>
                </a:lnTo>
                <a:lnTo>
                  <a:pt x="1777" y="183"/>
                </a:lnTo>
                <a:lnTo>
                  <a:pt x="1781" y="354"/>
                </a:lnTo>
                <a:lnTo>
                  <a:pt x="1783" y="352"/>
                </a:lnTo>
                <a:lnTo>
                  <a:pt x="1786" y="194"/>
                </a:lnTo>
                <a:lnTo>
                  <a:pt x="1789" y="343"/>
                </a:lnTo>
                <a:lnTo>
                  <a:pt x="1792" y="364"/>
                </a:lnTo>
                <a:lnTo>
                  <a:pt x="1795" y="363"/>
                </a:lnTo>
                <a:lnTo>
                  <a:pt x="1797" y="145"/>
                </a:lnTo>
                <a:lnTo>
                  <a:pt x="1801" y="235"/>
                </a:lnTo>
                <a:lnTo>
                  <a:pt x="1803" y="241"/>
                </a:lnTo>
                <a:lnTo>
                  <a:pt x="1806" y="262"/>
                </a:lnTo>
                <a:lnTo>
                  <a:pt x="1810" y="163"/>
                </a:lnTo>
                <a:lnTo>
                  <a:pt x="1812" y="191"/>
                </a:lnTo>
                <a:lnTo>
                  <a:pt x="1815" y="380"/>
                </a:lnTo>
                <a:lnTo>
                  <a:pt x="1817" y="260"/>
                </a:lnTo>
                <a:lnTo>
                  <a:pt x="1821" y="260"/>
                </a:lnTo>
                <a:lnTo>
                  <a:pt x="1823" y="186"/>
                </a:lnTo>
                <a:lnTo>
                  <a:pt x="1826" y="325"/>
                </a:lnTo>
                <a:lnTo>
                  <a:pt x="1829" y="298"/>
                </a:lnTo>
                <a:lnTo>
                  <a:pt x="1832" y="250"/>
                </a:lnTo>
                <a:lnTo>
                  <a:pt x="1835" y="213"/>
                </a:lnTo>
                <a:lnTo>
                  <a:pt x="1837" y="235"/>
                </a:lnTo>
                <a:lnTo>
                  <a:pt x="1841" y="265"/>
                </a:lnTo>
                <a:lnTo>
                  <a:pt x="1843" y="351"/>
                </a:lnTo>
                <a:lnTo>
                  <a:pt x="1846" y="195"/>
                </a:lnTo>
                <a:lnTo>
                  <a:pt x="1849" y="269"/>
                </a:lnTo>
                <a:lnTo>
                  <a:pt x="1852" y="321"/>
                </a:lnTo>
                <a:lnTo>
                  <a:pt x="1855" y="172"/>
                </a:lnTo>
                <a:lnTo>
                  <a:pt x="1858" y="250"/>
                </a:lnTo>
                <a:lnTo>
                  <a:pt x="1861" y="231"/>
                </a:lnTo>
                <a:lnTo>
                  <a:pt x="1863" y="244"/>
                </a:lnTo>
                <a:lnTo>
                  <a:pt x="1866" y="367"/>
                </a:lnTo>
                <a:lnTo>
                  <a:pt x="1869" y="320"/>
                </a:lnTo>
                <a:lnTo>
                  <a:pt x="1872" y="291"/>
                </a:lnTo>
                <a:lnTo>
                  <a:pt x="1875" y="166"/>
                </a:lnTo>
                <a:lnTo>
                  <a:pt x="1878" y="172"/>
                </a:lnTo>
                <a:lnTo>
                  <a:pt x="1881" y="206"/>
                </a:lnTo>
                <a:lnTo>
                  <a:pt x="1883" y="292"/>
                </a:lnTo>
                <a:lnTo>
                  <a:pt x="1887" y="188"/>
                </a:lnTo>
                <a:lnTo>
                  <a:pt x="1889" y="347"/>
                </a:lnTo>
                <a:lnTo>
                  <a:pt x="1892" y="250"/>
                </a:lnTo>
                <a:lnTo>
                  <a:pt x="1894" y="179"/>
                </a:lnTo>
                <a:lnTo>
                  <a:pt x="1898" y="187"/>
                </a:lnTo>
                <a:lnTo>
                  <a:pt x="1901" y="182"/>
                </a:lnTo>
                <a:lnTo>
                  <a:pt x="1903" y="428"/>
                </a:lnTo>
                <a:lnTo>
                  <a:pt x="1907" y="192"/>
                </a:lnTo>
                <a:lnTo>
                  <a:pt x="1909" y="345"/>
                </a:lnTo>
                <a:lnTo>
                  <a:pt x="1912" y="251"/>
                </a:lnTo>
                <a:lnTo>
                  <a:pt x="1914" y="361"/>
                </a:lnTo>
                <a:lnTo>
                  <a:pt x="1918" y="206"/>
                </a:lnTo>
                <a:lnTo>
                  <a:pt x="1921" y="241"/>
                </a:lnTo>
                <a:lnTo>
                  <a:pt x="1923" y="342"/>
                </a:lnTo>
                <a:lnTo>
                  <a:pt x="1927" y="326"/>
                </a:lnTo>
                <a:lnTo>
                  <a:pt x="1929" y="295"/>
                </a:lnTo>
                <a:lnTo>
                  <a:pt x="1932" y="281"/>
                </a:lnTo>
                <a:lnTo>
                  <a:pt x="1934" y="354"/>
                </a:lnTo>
                <a:lnTo>
                  <a:pt x="1938" y="281"/>
                </a:lnTo>
                <a:lnTo>
                  <a:pt x="1941" y="159"/>
                </a:lnTo>
                <a:lnTo>
                  <a:pt x="1943" y="259"/>
                </a:lnTo>
                <a:lnTo>
                  <a:pt x="1947" y="245"/>
                </a:lnTo>
                <a:lnTo>
                  <a:pt x="1949" y="393"/>
                </a:lnTo>
                <a:lnTo>
                  <a:pt x="1952" y="149"/>
                </a:lnTo>
                <a:lnTo>
                  <a:pt x="1955" y="380"/>
                </a:lnTo>
                <a:lnTo>
                  <a:pt x="1958" y="263"/>
                </a:lnTo>
                <a:lnTo>
                  <a:pt x="1960" y="273"/>
                </a:lnTo>
                <a:lnTo>
                  <a:pt x="1964" y="326"/>
                </a:lnTo>
                <a:lnTo>
                  <a:pt x="1967" y="195"/>
                </a:lnTo>
                <a:lnTo>
                  <a:pt x="1969" y="264"/>
                </a:lnTo>
                <a:lnTo>
                  <a:pt x="1972" y="409"/>
                </a:lnTo>
                <a:lnTo>
                  <a:pt x="1975" y="285"/>
                </a:lnTo>
                <a:lnTo>
                  <a:pt x="1978" y="165"/>
                </a:lnTo>
                <a:lnTo>
                  <a:pt x="1980" y="234"/>
                </a:lnTo>
                <a:lnTo>
                  <a:pt x="1984" y="238"/>
                </a:lnTo>
                <a:lnTo>
                  <a:pt x="1987" y="394"/>
                </a:lnTo>
                <a:lnTo>
                  <a:pt x="1989" y="232"/>
                </a:lnTo>
                <a:lnTo>
                  <a:pt x="1993" y="310"/>
                </a:lnTo>
                <a:lnTo>
                  <a:pt x="1995" y="119"/>
                </a:lnTo>
                <a:lnTo>
                  <a:pt x="1998" y="275"/>
                </a:lnTo>
                <a:lnTo>
                  <a:pt x="2000" y="232"/>
                </a:lnTo>
                <a:lnTo>
                  <a:pt x="2004" y="304"/>
                </a:lnTo>
                <a:lnTo>
                  <a:pt x="2007" y="137"/>
                </a:lnTo>
                <a:lnTo>
                  <a:pt x="2009" y="207"/>
                </a:lnTo>
                <a:lnTo>
                  <a:pt x="2013" y="203"/>
                </a:lnTo>
                <a:lnTo>
                  <a:pt x="2015" y="163"/>
                </a:lnTo>
                <a:lnTo>
                  <a:pt x="2018" y="303"/>
                </a:lnTo>
                <a:lnTo>
                  <a:pt x="2020" y="348"/>
                </a:lnTo>
                <a:lnTo>
                  <a:pt x="2024" y="303"/>
                </a:lnTo>
                <a:lnTo>
                  <a:pt x="2026" y="283"/>
                </a:lnTo>
                <a:lnTo>
                  <a:pt x="2029" y="248"/>
                </a:lnTo>
                <a:lnTo>
                  <a:pt x="2033" y="265"/>
                </a:lnTo>
                <a:lnTo>
                  <a:pt x="2035" y="427"/>
                </a:lnTo>
                <a:lnTo>
                  <a:pt x="2038" y="231"/>
                </a:lnTo>
                <a:lnTo>
                  <a:pt x="2040" y="394"/>
                </a:lnTo>
                <a:lnTo>
                  <a:pt x="2044" y="133"/>
                </a:lnTo>
                <a:lnTo>
                  <a:pt x="2046" y="337"/>
                </a:lnTo>
                <a:lnTo>
                  <a:pt x="2049" y="337"/>
                </a:lnTo>
                <a:lnTo>
                  <a:pt x="2053" y="293"/>
                </a:lnTo>
                <a:lnTo>
                  <a:pt x="2055" y="380"/>
                </a:lnTo>
                <a:lnTo>
                  <a:pt x="2058" y="290"/>
                </a:lnTo>
                <a:lnTo>
                  <a:pt x="2061" y="364"/>
                </a:lnTo>
                <a:lnTo>
                  <a:pt x="2064" y="304"/>
                </a:lnTo>
                <a:lnTo>
                  <a:pt x="2066" y="270"/>
                </a:lnTo>
                <a:lnTo>
                  <a:pt x="2069" y="250"/>
                </a:lnTo>
                <a:lnTo>
                  <a:pt x="2073" y="343"/>
                </a:lnTo>
                <a:lnTo>
                  <a:pt x="2075" y="252"/>
                </a:lnTo>
                <a:lnTo>
                  <a:pt x="2078" y="313"/>
                </a:lnTo>
                <a:lnTo>
                  <a:pt x="2081" y="319"/>
                </a:lnTo>
                <a:lnTo>
                  <a:pt x="2084" y="220"/>
                </a:lnTo>
                <a:lnTo>
                  <a:pt x="2086" y="166"/>
                </a:lnTo>
                <a:lnTo>
                  <a:pt x="2090" y="299"/>
                </a:lnTo>
                <a:lnTo>
                  <a:pt x="2092" y="400"/>
                </a:lnTo>
                <a:lnTo>
                  <a:pt x="2095" y="275"/>
                </a:lnTo>
                <a:lnTo>
                  <a:pt x="2098" y="359"/>
                </a:lnTo>
                <a:lnTo>
                  <a:pt x="2101" y="311"/>
                </a:lnTo>
                <a:lnTo>
                  <a:pt x="2104" y="350"/>
                </a:lnTo>
                <a:lnTo>
                  <a:pt x="2106" y="226"/>
                </a:lnTo>
                <a:lnTo>
                  <a:pt x="2110" y="382"/>
                </a:lnTo>
                <a:lnTo>
                  <a:pt x="2112" y="372"/>
                </a:lnTo>
                <a:lnTo>
                  <a:pt x="2115" y="388"/>
                </a:lnTo>
                <a:lnTo>
                  <a:pt x="2119" y="286"/>
                </a:lnTo>
                <a:lnTo>
                  <a:pt x="2121" y="263"/>
                </a:lnTo>
                <a:lnTo>
                  <a:pt x="2124" y="225"/>
                </a:lnTo>
                <a:lnTo>
                  <a:pt x="2126" y="267"/>
                </a:lnTo>
                <a:lnTo>
                  <a:pt x="2130" y="449"/>
                </a:lnTo>
                <a:lnTo>
                  <a:pt x="2132" y="139"/>
                </a:lnTo>
                <a:lnTo>
                  <a:pt x="2135" y="362"/>
                </a:lnTo>
                <a:lnTo>
                  <a:pt x="2139" y="403"/>
                </a:lnTo>
                <a:lnTo>
                  <a:pt x="2141" y="206"/>
                </a:lnTo>
                <a:lnTo>
                  <a:pt x="2144" y="329"/>
                </a:lnTo>
                <a:lnTo>
                  <a:pt x="2146" y="227"/>
                </a:lnTo>
                <a:lnTo>
                  <a:pt x="2150" y="296"/>
                </a:lnTo>
                <a:lnTo>
                  <a:pt x="2152" y="338"/>
                </a:lnTo>
                <a:lnTo>
                  <a:pt x="2155" y="205"/>
                </a:lnTo>
                <a:lnTo>
                  <a:pt x="2158" y="187"/>
                </a:lnTo>
                <a:lnTo>
                  <a:pt x="2161" y="282"/>
                </a:lnTo>
                <a:lnTo>
                  <a:pt x="2164" y="521"/>
                </a:lnTo>
                <a:lnTo>
                  <a:pt x="2167" y="0"/>
                </a:lnTo>
                <a:lnTo>
                  <a:pt x="2170" y="284"/>
                </a:lnTo>
                <a:lnTo>
                  <a:pt x="2172" y="289"/>
                </a:lnTo>
                <a:lnTo>
                  <a:pt x="2175" y="142"/>
                </a:lnTo>
                <a:lnTo>
                  <a:pt x="2178" y="217"/>
                </a:lnTo>
                <a:lnTo>
                  <a:pt x="2181" y="225"/>
                </a:lnTo>
                <a:lnTo>
                  <a:pt x="2184" y="147"/>
                </a:lnTo>
                <a:lnTo>
                  <a:pt x="2187" y="378"/>
                </a:lnTo>
                <a:lnTo>
                  <a:pt x="2190" y="260"/>
                </a:lnTo>
                <a:lnTo>
                  <a:pt x="2192" y="372"/>
                </a:lnTo>
                <a:lnTo>
                  <a:pt x="2196" y="294"/>
                </a:lnTo>
                <a:lnTo>
                  <a:pt x="2198" y="333"/>
                </a:lnTo>
                <a:lnTo>
                  <a:pt x="2201" y="217"/>
                </a:lnTo>
                <a:lnTo>
                  <a:pt x="2204" y="230"/>
                </a:lnTo>
                <a:lnTo>
                  <a:pt x="2207" y="368"/>
                </a:lnTo>
                <a:lnTo>
                  <a:pt x="2210" y="443"/>
                </a:lnTo>
                <a:lnTo>
                  <a:pt x="2212" y="228"/>
                </a:lnTo>
                <a:lnTo>
                  <a:pt x="2216" y="328"/>
                </a:lnTo>
                <a:lnTo>
                  <a:pt x="2218" y="227"/>
                </a:lnTo>
                <a:lnTo>
                  <a:pt x="2221" y="360"/>
                </a:lnTo>
                <a:lnTo>
                  <a:pt x="2225" y="218"/>
                </a:lnTo>
                <a:lnTo>
                  <a:pt x="2227" y="262"/>
                </a:lnTo>
                <a:lnTo>
                  <a:pt x="2230" y="275"/>
                </a:lnTo>
                <a:lnTo>
                  <a:pt x="2232" y="242"/>
                </a:lnTo>
                <a:lnTo>
                  <a:pt x="2236" y="354"/>
                </a:lnTo>
                <a:lnTo>
                  <a:pt x="2238" y="205"/>
                </a:lnTo>
                <a:lnTo>
                  <a:pt x="2241" y="293"/>
                </a:lnTo>
                <a:lnTo>
                  <a:pt x="2244" y="276"/>
                </a:lnTo>
                <a:lnTo>
                  <a:pt x="2247" y="347"/>
                </a:lnTo>
                <a:lnTo>
                  <a:pt x="2250" y="218"/>
                </a:lnTo>
                <a:lnTo>
                  <a:pt x="2252" y="198"/>
                </a:lnTo>
                <a:lnTo>
                  <a:pt x="2256" y="305"/>
                </a:lnTo>
                <a:lnTo>
                  <a:pt x="2258" y="198"/>
                </a:lnTo>
                <a:lnTo>
                  <a:pt x="2261" y="351"/>
                </a:lnTo>
                <a:lnTo>
                  <a:pt x="2264" y="457"/>
                </a:lnTo>
                <a:lnTo>
                  <a:pt x="2267" y="212"/>
                </a:lnTo>
                <a:lnTo>
                  <a:pt x="2270" y="351"/>
                </a:lnTo>
                <a:lnTo>
                  <a:pt x="2273" y="412"/>
                </a:lnTo>
                <a:lnTo>
                  <a:pt x="2276" y="242"/>
                </a:lnTo>
                <a:lnTo>
                  <a:pt x="2278" y="342"/>
                </a:lnTo>
                <a:lnTo>
                  <a:pt x="2281" y="311"/>
                </a:lnTo>
                <a:lnTo>
                  <a:pt x="2284" y="368"/>
                </a:lnTo>
                <a:lnTo>
                  <a:pt x="2287" y="191"/>
                </a:lnTo>
                <a:lnTo>
                  <a:pt x="2290" y="272"/>
                </a:lnTo>
                <a:lnTo>
                  <a:pt x="2293" y="301"/>
                </a:lnTo>
                <a:lnTo>
                  <a:pt x="2296" y="153"/>
                </a:lnTo>
                <a:lnTo>
                  <a:pt x="2298" y="179"/>
                </a:lnTo>
                <a:lnTo>
                  <a:pt x="2302" y="308"/>
                </a:lnTo>
                <a:lnTo>
                  <a:pt x="2304" y="160"/>
                </a:lnTo>
                <a:lnTo>
                  <a:pt x="2307" y="247"/>
                </a:lnTo>
                <a:lnTo>
                  <a:pt x="2309" y="357"/>
                </a:lnTo>
                <a:lnTo>
                  <a:pt x="2313" y="216"/>
                </a:lnTo>
                <a:lnTo>
                  <a:pt x="2316" y="182"/>
                </a:lnTo>
                <a:lnTo>
                  <a:pt x="2318" y="421"/>
                </a:lnTo>
                <a:lnTo>
                  <a:pt x="2322" y="410"/>
                </a:lnTo>
                <a:lnTo>
                  <a:pt x="2324" y="196"/>
                </a:lnTo>
                <a:lnTo>
                  <a:pt x="2327" y="279"/>
                </a:lnTo>
                <a:lnTo>
                  <a:pt x="2329" y="294"/>
                </a:lnTo>
                <a:lnTo>
                  <a:pt x="2333" y="202"/>
                </a:lnTo>
                <a:lnTo>
                  <a:pt x="2336" y="335"/>
                </a:lnTo>
                <a:lnTo>
                  <a:pt x="2338" y="254"/>
                </a:lnTo>
                <a:lnTo>
                  <a:pt x="2342" y="314"/>
                </a:lnTo>
                <a:lnTo>
                  <a:pt x="2344" y="291"/>
                </a:lnTo>
                <a:lnTo>
                  <a:pt x="2347" y="300"/>
                </a:lnTo>
                <a:lnTo>
                  <a:pt x="2349" y="404"/>
                </a:lnTo>
                <a:lnTo>
                  <a:pt x="2353" y="326"/>
                </a:lnTo>
                <a:lnTo>
                  <a:pt x="2356" y="295"/>
                </a:lnTo>
                <a:lnTo>
                  <a:pt x="2358" y="381"/>
                </a:lnTo>
                <a:lnTo>
                  <a:pt x="2362" y="321"/>
                </a:lnTo>
                <a:lnTo>
                  <a:pt x="2364" y="326"/>
                </a:lnTo>
                <a:lnTo>
                  <a:pt x="2367" y="149"/>
                </a:lnTo>
                <a:lnTo>
                  <a:pt x="2370" y="332"/>
                </a:lnTo>
                <a:lnTo>
                  <a:pt x="2373" y="314"/>
                </a:lnTo>
                <a:lnTo>
                  <a:pt x="2375" y="284"/>
                </a:lnTo>
                <a:lnTo>
                  <a:pt x="2378" y="296"/>
                </a:lnTo>
                <a:lnTo>
                  <a:pt x="2382" y="169"/>
                </a:lnTo>
                <a:lnTo>
                  <a:pt x="2384" y="404"/>
                </a:lnTo>
                <a:lnTo>
                  <a:pt x="2387" y="275"/>
                </a:lnTo>
                <a:lnTo>
                  <a:pt x="2390" y="264"/>
                </a:lnTo>
                <a:lnTo>
                  <a:pt x="2393" y="333"/>
                </a:lnTo>
                <a:lnTo>
                  <a:pt x="2395" y="217"/>
                </a:lnTo>
                <a:lnTo>
                  <a:pt x="2399" y="238"/>
                </a:lnTo>
                <a:lnTo>
                  <a:pt x="2402" y="387"/>
                </a:lnTo>
                <a:lnTo>
                  <a:pt x="2404" y="187"/>
                </a:lnTo>
                <a:lnTo>
                  <a:pt x="2407" y="220"/>
                </a:lnTo>
                <a:lnTo>
                  <a:pt x="2410" y="233"/>
                </a:lnTo>
                <a:lnTo>
                  <a:pt x="2413" y="237"/>
                </a:lnTo>
                <a:lnTo>
                  <a:pt x="2415" y="242"/>
                </a:lnTo>
                <a:lnTo>
                  <a:pt x="2419" y="159"/>
                </a:lnTo>
                <a:lnTo>
                  <a:pt x="2422" y="101"/>
                </a:lnTo>
                <a:lnTo>
                  <a:pt x="2424" y="246"/>
                </a:lnTo>
                <a:lnTo>
                  <a:pt x="2428" y="127"/>
                </a:lnTo>
                <a:lnTo>
                  <a:pt x="2430" y="222"/>
                </a:lnTo>
                <a:lnTo>
                  <a:pt x="2433" y="359"/>
                </a:lnTo>
                <a:lnTo>
                  <a:pt x="2435" y="217"/>
                </a:lnTo>
                <a:lnTo>
                  <a:pt x="2439" y="246"/>
                </a:lnTo>
                <a:lnTo>
                  <a:pt x="2441" y="173"/>
                </a:lnTo>
                <a:lnTo>
                  <a:pt x="2444" y="292"/>
                </a:lnTo>
                <a:lnTo>
                  <a:pt x="2448" y="332"/>
                </a:lnTo>
                <a:lnTo>
                  <a:pt x="2450" y="391"/>
                </a:lnTo>
                <a:lnTo>
                  <a:pt x="2453" y="179"/>
                </a:lnTo>
                <a:lnTo>
                  <a:pt x="2455" y="335"/>
                </a:lnTo>
                <a:lnTo>
                  <a:pt x="2459" y="349"/>
                </a:lnTo>
                <a:lnTo>
                  <a:pt x="2461" y="295"/>
                </a:lnTo>
                <a:lnTo>
                  <a:pt x="2464" y="351"/>
                </a:lnTo>
                <a:lnTo>
                  <a:pt x="2468" y="282"/>
                </a:lnTo>
                <a:lnTo>
                  <a:pt x="2470" y="270"/>
                </a:lnTo>
                <a:lnTo>
                  <a:pt x="2473" y="364"/>
                </a:lnTo>
                <a:lnTo>
                  <a:pt x="2476" y="359"/>
                </a:lnTo>
                <a:lnTo>
                  <a:pt x="2479" y="267"/>
                </a:lnTo>
                <a:lnTo>
                  <a:pt x="2481" y="299"/>
                </a:lnTo>
                <a:lnTo>
                  <a:pt x="2484" y="349"/>
                </a:lnTo>
                <a:lnTo>
                  <a:pt x="2488" y="261"/>
                </a:lnTo>
                <a:lnTo>
                  <a:pt x="2490" y="242"/>
                </a:lnTo>
                <a:lnTo>
                  <a:pt x="2493" y="320"/>
                </a:lnTo>
                <a:lnTo>
                  <a:pt x="2496" y="197"/>
                </a:lnTo>
                <a:lnTo>
                  <a:pt x="2499" y="335"/>
                </a:lnTo>
                <a:lnTo>
                  <a:pt x="2501" y="265"/>
                </a:lnTo>
                <a:lnTo>
                  <a:pt x="2505" y="283"/>
                </a:lnTo>
                <a:lnTo>
                  <a:pt x="2507" y="329"/>
                </a:lnTo>
                <a:lnTo>
                  <a:pt x="2510" y="316"/>
                </a:lnTo>
                <a:lnTo>
                  <a:pt x="2513" y="250"/>
                </a:lnTo>
                <a:lnTo>
                  <a:pt x="2516" y="109"/>
                </a:lnTo>
                <a:lnTo>
                  <a:pt x="2519" y="159"/>
                </a:lnTo>
                <a:lnTo>
                  <a:pt x="2521" y="277"/>
                </a:lnTo>
                <a:lnTo>
                  <a:pt x="2525" y="311"/>
                </a:lnTo>
                <a:lnTo>
                  <a:pt x="2527" y="252"/>
                </a:lnTo>
                <a:lnTo>
                  <a:pt x="2530" y="349"/>
                </a:lnTo>
                <a:lnTo>
                  <a:pt x="2534" y="174"/>
                </a:lnTo>
                <a:lnTo>
                  <a:pt x="2536" y="350"/>
                </a:lnTo>
                <a:lnTo>
                  <a:pt x="2539" y="283"/>
                </a:lnTo>
                <a:lnTo>
                  <a:pt x="2541" y="397"/>
                </a:lnTo>
                <a:lnTo>
                  <a:pt x="2545" y="233"/>
                </a:lnTo>
                <a:lnTo>
                  <a:pt x="2547" y="320"/>
                </a:lnTo>
                <a:lnTo>
                  <a:pt x="2550" y="238"/>
                </a:lnTo>
                <a:lnTo>
                  <a:pt x="2554" y="195"/>
                </a:lnTo>
                <a:lnTo>
                  <a:pt x="2556" y="402"/>
                </a:lnTo>
                <a:lnTo>
                  <a:pt x="2559" y="126"/>
                </a:lnTo>
                <a:lnTo>
                  <a:pt x="2561" y="427"/>
                </a:lnTo>
                <a:lnTo>
                  <a:pt x="2565" y="260"/>
                </a:lnTo>
                <a:lnTo>
                  <a:pt x="2567" y="284"/>
                </a:lnTo>
                <a:lnTo>
                  <a:pt x="2570" y="266"/>
                </a:lnTo>
                <a:lnTo>
                  <a:pt x="2573" y="295"/>
                </a:lnTo>
                <a:lnTo>
                  <a:pt x="2576" y="321"/>
                </a:lnTo>
                <a:lnTo>
                  <a:pt x="2579" y="205"/>
                </a:lnTo>
                <a:lnTo>
                  <a:pt x="2582" y="315"/>
                </a:lnTo>
                <a:lnTo>
                  <a:pt x="2585" y="291"/>
                </a:lnTo>
                <a:lnTo>
                  <a:pt x="2587" y="309"/>
                </a:lnTo>
                <a:lnTo>
                  <a:pt x="2590" y="182"/>
                </a:lnTo>
                <a:lnTo>
                  <a:pt x="2593" y="301"/>
                </a:lnTo>
                <a:lnTo>
                  <a:pt x="2596" y="322"/>
                </a:lnTo>
                <a:lnTo>
                  <a:pt x="2599" y="204"/>
                </a:lnTo>
                <a:lnTo>
                  <a:pt x="2602" y="319"/>
                </a:lnTo>
                <a:lnTo>
                  <a:pt x="2605" y="309"/>
                </a:lnTo>
                <a:lnTo>
                  <a:pt x="2607" y="379"/>
                </a:lnTo>
                <a:lnTo>
                  <a:pt x="2611" y="308"/>
                </a:lnTo>
                <a:lnTo>
                  <a:pt x="2613" y="255"/>
                </a:lnTo>
                <a:lnTo>
                  <a:pt x="2616" y="217"/>
                </a:lnTo>
                <a:lnTo>
                  <a:pt x="2619" y="166"/>
                </a:lnTo>
                <a:lnTo>
                  <a:pt x="2622" y="162"/>
                </a:lnTo>
                <a:lnTo>
                  <a:pt x="2625" y="282"/>
                </a:lnTo>
                <a:lnTo>
                  <a:pt x="2627" y="386"/>
                </a:lnTo>
                <a:lnTo>
                  <a:pt x="2631" y="240"/>
                </a:lnTo>
                <a:lnTo>
                  <a:pt x="2633" y="243"/>
                </a:lnTo>
                <a:lnTo>
                  <a:pt x="2636" y="149"/>
                </a:lnTo>
                <a:lnTo>
                  <a:pt x="2638" y="211"/>
                </a:lnTo>
                <a:lnTo>
                  <a:pt x="2642" y="220"/>
                </a:lnTo>
                <a:lnTo>
                  <a:pt x="2645" y="311"/>
                </a:lnTo>
                <a:lnTo>
                  <a:pt x="2647" y="271"/>
                </a:lnTo>
                <a:lnTo>
                  <a:pt x="2651" y="298"/>
                </a:lnTo>
                <a:lnTo>
                  <a:pt x="2653" y="301"/>
                </a:lnTo>
                <a:lnTo>
                  <a:pt x="2656" y="325"/>
                </a:lnTo>
                <a:lnTo>
                  <a:pt x="2658" y="134"/>
                </a:lnTo>
                <a:lnTo>
                  <a:pt x="2662" y="269"/>
                </a:lnTo>
                <a:lnTo>
                  <a:pt x="2665" y="222"/>
                </a:lnTo>
                <a:lnTo>
                  <a:pt x="2667" y="279"/>
                </a:lnTo>
                <a:lnTo>
                  <a:pt x="2671" y="255"/>
                </a:lnTo>
                <a:lnTo>
                  <a:pt x="2673" y="246"/>
                </a:lnTo>
                <a:lnTo>
                  <a:pt x="2676" y="264"/>
                </a:lnTo>
                <a:lnTo>
                  <a:pt x="2679" y="203"/>
                </a:lnTo>
                <a:lnTo>
                  <a:pt x="2682" y="227"/>
                </a:lnTo>
                <a:lnTo>
                  <a:pt x="2685" y="335"/>
                </a:lnTo>
                <a:lnTo>
                  <a:pt x="2687" y="251"/>
                </a:lnTo>
                <a:lnTo>
                  <a:pt x="2691" y="296"/>
                </a:lnTo>
                <a:lnTo>
                  <a:pt x="2693" y="372"/>
                </a:lnTo>
                <a:lnTo>
                  <a:pt x="2696" y="248"/>
                </a:lnTo>
                <a:lnTo>
                  <a:pt x="2699" y="237"/>
                </a:lnTo>
                <a:lnTo>
                  <a:pt x="2702" y="328"/>
                </a:lnTo>
                <a:lnTo>
                  <a:pt x="2705" y="370"/>
                </a:lnTo>
                <a:lnTo>
                  <a:pt x="2708" y="196"/>
                </a:lnTo>
                <a:lnTo>
                  <a:pt x="2711" y="211"/>
                </a:lnTo>
                <a:lnTo>
                  <a:pt x="2713" y="250"/>
                </a:lnTo>
                <a:lnTo>
                  <a:pt x="2717" y="217"/>
                </a:lnTo>
                <a:lnTo>
                  <a:pt x="2719" y="187"/>
                </a:lnTo>
                <a:lnTo>
                  <a:pt x="2722" y="176"/>
                </a:lnTo>
                <a:lnTo>
                  <a:pt x="2724" y="302"/>
                </a:lnTo>
                <a:lnTo>
                  <a:pt x="2728" y="156"/>
                </a:lnTo>
                <a:lnTo>
                  <a:pt x="2731" y="250"/>
                </a:lnTo>
                <a:lnTo>
                  <a:pt x="2733" y="125"/>
                </a:lnTo>
                <a:lnTo>
                  <a:pt x="2737" y="303"/>
                </a:lnTo>
                <a:lnTo>
                  <a:pt x="2739" y="299"/>
                </a:lnTo>
                <a:lnTo>
                  <a:pt x="2742" y="340"/>
                </a:lnTo>
                <a:lnTo>
                  <a:pt x="2744" y="349"/>
                </a:lnTo>
                <a:lnTo>
                  <a:pt x="2748" y="303"/>
                </a:lnTo>
                <a:lnTo>
                  <a:pt x="2751" y="318"/>
                </a:lnTo>
                <a:lnTo>
                  <a:pt x="2753" y="223"/>
                </a:lnTo>
                <a:lnTo>
                  <a:pt x="2757" y="355"/>
                </a:lnTo>
                <a:lnTo>
                  <a:pt x="2759" y="236"/>
                </a:lnTo>
                <a:lnTo>
                  <a:pt x="2762" y="196"/>
                </a:lnTo>
                <a:lnTo>
                  <a:pt x="2764" y="228"/>
                </a:lnTo>
                <a:lnTo>
                  <a:pt x="2768" y="350"/>
                </a:lnTo>
                <a:lnTo>
                  <a:pt x="2771" y="247"/>
                </a:lnTo>
                <a:lnTo>
                  <a:pt x="2773" y="311"/>
                </a:lnTo>
                <a:lnTo>
                  <a:pt x="2777" y="408"/>
                </a:lnTo>
                <a:lnTo>
                  <a:pt x="2779" y="341"/>
                </a:lnTo>
                <a:lnTo>
                  <a:pt x="2782" y="176"/>
                </a:lnTo>
                <a:lnTo>
                  <a:pt x="2785" y="321"/>
                </a:lnTo>
                <a:lnTo>
                  <a:pt x="2788" y="361"/>
                </a:lnTo>
                <a:lnTo>
                  <a:pt x="2790" y="304"/>
                </a:lnTo>
                <a:lnTo>
                  <a:pt x="2793" y="261"/>
                </a:lnTo>
                <a:lnTo>
                  <a:pt x="2797" y="416"/>
                </a:lnTo>
                <a:lnTo>
                  <a:pt x="2799" y="315"/>
                </a:lnTo>
                <a:lnTo>
                  <a:pt x="2802" y="354"/>
                </a:lnTo>
                <a:lnTo>
                  <a:pt x="2805" y="169"/>
                </a:lnTo>
                <a:lnTo>
                  <a:pt x="2808" y="284"/>
                </a:lnTo>
                <a:lnTo>
                  <a:pt x="2810" y="403"/>
                </a:lnTo>
                <a:lnTo>
                  <a:pt x="2814" y="294"/>
                </a:lnTo>
                <a:lnTo>
                  <a:pt x="2817" y="205"/>
                </a:lnTo>
                <a:lnTo>
                  <a:pt x="2819" y="172"/>
                </a:lnTo>
                <a:lnTo>
                  <a:pt x="2822" y="262"/>
                </a:lnTo>
                <a:lnTo>
                  <a:pt x="2825" y="199"/>
                </a:lnTo>
                <a:lnTo>
                  <a:pt x="2828" y="275"/>
                </a:lnTo>
                <a:lnTo>
                  <a:pt x="2830" y="430"/>
                </a:lnTo>
                <a:lnTo>
                  <a:pt x="2834" y="345"/>
                </a:lnTo>
                <a:lnTo>
                  <a:pt x="2837" y="362"/>
                </a:lnTo>
                <a:lnTo>
                  <a:pt x="2839" y="171"/>
                </a:lnTo>
                <a:lnTo>
                  <a:pt x="2843" y="221"/>
                </a:lnTo>
                <a:lnTo>
                  <a:pt x="2845" y="285"/>
                </a:lnTo>
                <a:lnTo>
                  <a:pt x="2848" y="340"/>
                </a:lnTo>
                <a:lnTo>
                  <a:pt x="2850" y="242"/>
                </a:lnTo>
                <a:lnTo>
                  <a:pt x="2854" y="247"/>
                </a:lnTo>
                <a:lnTo>
                  <a:pt x="2856" y="203"/>
                </a:lnTo>
                <a:lnTo>
                  <a:pt x="2859" y="276"/>
                </a:lnTo>
                <a:lnTo>
                  <a:pt x="2863" y="264"/>
                </a:lnTo>
                <a:lnTo>
                  <a:pt x="2865" y="143"/>
                </a:lnTo>
                <a:lnTo>
                  <a:pt x="2868" y="252"/>
                </a:lnTo>
                <a:lnTo>
                  <a:pt x="2870" y="240"/>
                </a:lnTo>
                <a:lnTo>
                  <a:pt x="2874" y="291"/>
                </a:lnTo>
                <a:lnTo>
                  <a:pt x="2876" y="218"/>
                </a:lnTo>
                <a:lnTo>
                  <a:pt x="2879" y="220"/>
                </a:lnTo>
                <a:lnTo>
                  <a:pt x="2883" y="244"/>
                </a:lnTo>
                <a:lnTo>
                  <a:pt x="2885" y="266"/>
                </a:lnTo>
                <a:lnTo>
                  <a:pt x="2888" y="250"/>
                </a:lnTo>
                <a:lnTo>
                  <a:pt x="2891" y="292"/>
                </a:lnTo>
                <a:lnTo>
                  <a:pt x="2894" y="381"/>
                </a:lnTo>
                <a:lnTo>
                  <a:pt x="2896" y="234"/>
                </a:lnTo>
                <a:lnTo>
                  <a:pt x="2899" y="252"/>
                </a:lnTo>
                <a:lnTo>
                  <a:pt x="2903" y="290"/>
                </a:lnTo>
                <a:lnTo>
                  <a:pt x="2905" y="300"/>
                </a:lnTo>
                <a:lnTo>
                  <a:pt x="2908" y="204"/>
                </a:lnTo>
                <a:lnTo>
                  <a:pt x="2911" y="209"/>
                </a:lnTo>
                <a:lnTo>
                  <a:pt x="2914" y="275"/>
                </a:lnTo>
                <a:lnTo>
                  <a:pt x="2916" y="241"/>
                </a:lnTo>
                <a:lnTo>
                  <a:pt x="2920" y="266"/>
                </a:lnTo>
                <a:lnTo>
                  <a:pt x="2922" y="335"/>
                </a:lnTo>
                <a:lnTo>
                  <a:pt x="2925" y="390"/>
                </a:lnTo>
                <a:lnTo>
                  <a:pt x="2928" y="312"/>
                </a:lnTo>
                <a:lnTo>
                  <a:pt x="2931" y="189"/>
                </a:lnTo>
                <a:lnTo>
                  <a:pt x="2934" y="274"/>
                </a:lnTo>
                <a:lnTo>
                  <a:pt x="2936" y="269"/>
                </a:lnTo>
                <a:lnTo>
                  <a:pt x="2940" y="271"/>
                </a:lnTo>
                <a:lnTo>
                  <a:pt x="2942" y="284"/>
                </a:lnTo>
                <a:lnTo>
                  <a:pt x="2945" y="295"/>
                </a:lnTo>
                <a:lnTo>
                  <a:pt x="2949" y="334"/>
                </a:lnTo>
                <a:lnTo>
                  <a:pt x="2951" y="320"/>
                </a:lnTo>
                <a:lnTo>
                  <a:pt x="2954" y="204"/>
                </a:lnTo>
                <a:lnTo>
                  <a:pt x="2956" y="363"/>
                </a:lnTo>
                <a:lnTo>
                  <a:pt x="2960" y="343"/>
                </a:lnTo>
                <a:lnTo>
                  <a:pt x="2962" y="318"/>
                </a:lnTo>
                <a:lnTo>
                  <a:pt x="2965" y="233"/>
                </a:lnTo>
                <a:lnTo>
                  <a:pt x="2969" y="389"/>
                </a:lnTo>
                <a:lnTo>
                  <a:pt x="2971" y="153"/>
                </a:lnTo>
                <a:lnTo>
                  <a:pt x="2974" y="178"/>
                </a:lnTo>
                <a:lnTo>
                  <a:pt x="2976" y="319"/>
                </a:lnTo>
                <a:lnTo>
                  <a:pt x="2980" y="354"/>
                </a:lnTo>
                <a:lnTo>
                  <a:pt x="2982" y="283"/>
                </a:lnTo>
                <a:lnTo>
                  <a:pt x="2985" y="389"/>
                </a:lnTo>
                <a:lnTo>
                  <a:pt x="2988" y="202"/>
                </a:lnTo>
                <a:lnTo>
                  <a:pt x="2991" y="189"/>
                </a:lnTo>
                <a:lnTo>
                  <a:pt x="2994" y="310"/>
                </a:lnTo>
                <a:lnTo>
                  <a:pt x="2997" y="159"/>
                </a:lnTo>
                <a:lnTo>
                  <a:pt x="3000" y="360"/>
                </a:lnTo>
                <a:lnTo>
                  <a:pt x="3002" y="252"/>
                </a:lnTo>
                <a:lnTo>
                  <a:pt x="3005" y="377"/>
                </a:lnTo>
                <a:lnTo>
                  <a:pt x="3008" y="272"/>
                </a:lnTo>
                <a:lnTo>
                  <a:pt x="3011" y="236"/>
                </a:lnTo>
                <a:lnTo>
                  <a:pt x="3014" y="273"/>
                </a:lnTo>
                <a:lnTo>
                  <a:pt x="3017" y="244"/>
                </a:lnTo>
                <a:lnTo>
                  <a:pt x="3020" y="189"/>
                </a:lnTo>
                <a:lnTo>
                  <a:pt x="3022" y="221"/>
                </a:lnTo>
                <a:lnTo>
                  <a:pt x="3026" y="188"/>
                </a:lnTo>
                <a:lnTo>
                  <a:pt x="3028" y="323"/>
                </a:lnTo>
                <a:lnTo>
                  <a:pt x="3031" y="158"/>
                </a:lnTo>
                <a:lnTo>
                  <a:pt x="3034" y="298"/>
                </a:lnTo>
                <a:lnTo>
                  <a:pt x="3037" y="178"/>
                </a:lnTo>
                <a:lnTo>
                  <a:pt x="3040" y="139"/>
                </a:lnTo>
                <a:lnTo>
                  <a:pt x="3042" y="218"/>
                </a:lnTo>
                <a:lnTo>
                  <a:pt x="3046" y="171"/>
                </a:lnTo>
                <a:lnTo>
                  <a:pt x="3048" y="207"/>
                </a:lnTo>
                <a:lnTo>
                  <a:pt x="3051" y="302"/>
                </a:lnTo>
                <a:lnTo>
                  <a:pt x="3053" y="264"/>
                </a:lnTo>
                <a:lnTo>
                  <a:pt x="3057" y="279"/>
                </a:lnTo>
                <a:lnTo>
                  <a:pt x="3060" y="379"/>
                </a:lnTo>
                <a:lnTo>
                  <a:pt x="3062" y="215"/>
                </a:lnTo>
                <a:lnTo>
                  <a:pt x="3066" y="298"/>
                </a:lnTo>
                <a:lnTo>
                  <a:pt x="3068" y="350"/>
                </a:lnTo>
                <a:lnTo>
                  <a:pt x="3071" y="323"/>
                </a:lnTo>
                <a:lnTo>
                  <a:pt x="3073" y="267"/>
                </a:lnTo>
                <a:lnTo>
                  <a:pt x="3077" y="245"/>
                </a:lnTo>
                <a:lnTo>
                  <a:pt x="3080" y="242"/>
                </a:lnTo>
                <a:lnTo>
                  <a:pt x="3082" y="251"/>
                </a:lnTo>
                <a:lnTo>
                  <a:pt x="3086" y="245"/>
                </a:lnTo>
                <a:lnTo>
                  <a:pt x="3088" y="276"/>
                </a:lnTo>
                <a:lnTo>
                  <a:pt x="3091" y="253"/>
                </a:lnTo>
                <a:lnTo>
                  <a:pt x="3094" y="162"/>
                </a:lnTo>
                <a:lnTo>
                  <a:pt x="3097" y="299"/>
                </a:lnTo>
                <a:lnTo>
                  <a:pt x="3100" y="377"/>
                </a:lnTo>
                <a:lnTo>
                  <a:pt x="3102" y="289"/>
                </a:lnTo>
                <a:lnTo>
                  <a:pt x="3106" y="216"/>
                </a:lnTo>
                <a:lnTo>
                  <a:pt x="3108" y="202"/>
                </a:lnTo>
                <a:lnTo>
                  <a:pt x="3111" y="263"/>
                </a:lnTo>
                <a:lnTo>
                  <a:pt x="3114" y="270"/>
                </a:lnTo>
                <a:lnTo>
                  <a:pt x="3117" y="235"/>
                </a:lnTo>
                <a:lnTo>
                  <a:pt x="3119" y="367"/>
                </a:lnTo>
                <a:lnTo>
                  <a:pt x="3123" y="282"/>
                </a:lnTo>
                <a:lnTo>
                  <a:pt x="3126" y="221"/>
                </a:lnTo>
                <a:lnTo>
                  <a:pt x="3128" y="404"/>
                </a:lnTo>
                <a:lnTo>
                  <a:pt x="3131" y="353"/>
                </a:lnTo>
                <a:lnTo>
                  <a:pt x="3134" y="78"/>
                </a:lnTo>
                <a:lnTo>
                  <a:pt x="3137" y="188"/>
                </a:lnTo>
                <a:lnTo>
                  <a:pt x="3139" y="365"/>
                </a:lnTo>
                <a:lnTo>
                  <a:pt x="3143" y="269"/>
                </a:lnTo>
                <a:lnTo>
                  <a:pt x="3146" y="255"/>
                </a:lnTo>
                <a:lnTo>
                  <a:pt x="3148" y="358"/>
                </a:lnTo>
                <a:lnTo>
                  <a:pt x="3152" y="244"/>
                </a:lnTo>
                <a:lnTo>
                  <a:pt x="3154" y="261"/>
                </a:lnTo>
                <a:lnTo>
                  <a:pt x="3157" y="281"/>
                </a:lnTo>
                <a:lnTo>
                  <a:pt x="3159" y="362"/>
                </a:lnTo>
                <a:lnTo>
                  <a:pt x="3163" y="364"/>
                </a:lnTo>
                <a:lnTo>
                  <a:pt x="3166" y="201"/>
                </a:lnTo>
                <a:lnTo>
                  <a:pt x="3168" y="240"/>
                </a:lnTo>
                <a:lnTo>
                  <a:pt x="3172" y="309"/>
                </a:lnTo>
                <a:lnTo>
                  <a:pt x="3174" y="176"/>
                </a:lnTo>
                <a:lnTo>
                  <a:pt x="3177" y="322"/>
                </a:lnTo>
                <a:lnTo>
                  <a:pt x="3179" y="269"/>
                </a:lnTo>
                <a:lnTo>
                  <a:pt x="3183" y="276"/>
                </a:lnTo>
                <a:lnTo>
                  <a:pt x="3186" y="357"/>
                </a:lnTo>
                <a:lnTo>
                  <a:pt x="3188" y="169"/>
                </a:lnTo>
                <a:lnTo>
                  <a:pt x="3192" y="246"/>
                </a:lnTo>
                <a:lnTo>
                  <a:pt x="3194" y="325"/>
                </a:lnTo>
                <a:lnTo>
                  <a:pt x="3197" y="313"/>
                </a:lnTo>
                <a:lnTo>
                  <a:pt x="3200" y="226"/>
                </a:lnTo>
                <a:lnTo>
                  <a:pt x="3203" y="247"/>
                </a:lnTo>
                <a:lnTo>
                  <a:pt x="3205" y="403"/>
                </a:lnTo>
                <a:lnTo>
                  <a:pt x="3208" y="343"/>
                </a:lnTo>
                <a:lnTo>
                  <a:pt x="3212" y="189"/>
                </a:lnTo>
                <a:lnTo>
                  <a:pt x="3214" y="242"/>
                </a:lnTo>
                <a:lnTo>
                  <a:pt x="3217" y="265"/>
                </a:lnTo>
                <a:lnTo>
                  <a:pt x="3220" y="232"/>
                </a:lnTo>
                <a:lnTo>
                  <a:pt x="3223" y="256"/>
                </a:lnTo>
                <a:lnTo>
                  <a:pt x="3225" y="205"/>
                </a:lnTo>
                <a:lnTo>
                  <a:pt x="3229" y="204"/>
                </a:lnTo>
                <a:lnTo>
                  <a:pt x="3232" y="337"/>
                </a:lnTo>
                <a:lnTo>
                  <a:pt x="3234" y="277"/>
                </a:lnTo>
                <a:lnTo>
                  <a:pt x="3237" y="202"/>
                </a:lnTo>
                <a:lnTo>
                  <a:pt x="3240" y="159"/>
                </a:lnTo>
                <a:lnTo>
                  <a:pt x="3243" y="209"/>
                </a:lnTo>
                <a:lnTo>
                  <a:pt x="3245" y="159"/>
                </a:lnTo>
                <a:lnTo>
                  <a:pt x="3249" y="351"/>
                </a:lnTo>
                <a:lnTo>
                  <a:pt x="3252" y="111"/>
                </a:lnTo>
                <a:lnTo>
                  <a:pt x="3254" y="213"/>
                </a:lnTo>
                <a:lnTo>
                  <a:pt x="3258" y="230"/>
                </a:lnTo>
                <a:lnTo>
                  <a:pt x="3260" y="419"/>
                </a:lnTo>
                <a:lnTo>
                  <a:pt x="3263" y="233"/>
                </a:lnTo>
                <a:lnTo>
                  <a:pt x="3265" y="298"/>
                </a:lnTo>
                <a:lnTo>
                  <a:pt x="3269" y="234"/>
                </a:lnTo>
                <a:lnTo>
                  <a:pt x="3271" y="279"/>
                </a:lnTo>
                <a:lnTo>
                  <a:pt x="3274" y="273"/>
                </a:lnTo>
                <a:lnTo>
                  <a:pt x="3278" y="175"/>
                </a:lnTo>
                <a:lnTo>
                  <a:pt x="3280" y="387"/>
                </a:lnTo>
                <a:lnTo>
                  <a:pt x="3283" y="321"/>
                </a:lnTo>
                <a:lnTo>
                  <a:pt x="3285" y="282"/>
                </a:lnTo>
                <a:lnTo>
                  <a:pt x="3289" y="390"/>
                </a:lnTo>
                <a:lnTo>
                  <a:pt x="3291" y="391"/>
                </a:lnTo>
                <a:lnTo>
                  <a:pt x="3294" y="191"/>
                </a:lnTo>
                <a:lnTo>
                  <a:pt x="3298" y="228"/>
                </a:lnTo>
                <a:lnTo>
                  <a:pt x="3300" y="319"/>
                </a:lnTo>
                <a:lnTo>
                  <a:pt x="3303" y="311"/>
                </a:lnTo>
                <a:lnTo>
                  <a:pt x="3306" y="277"/>
                </a:lnTo>
                <a:lnTo>
                  <a:pt x="3309" y="260"/>
                </a:lnTo>
                <a:lnTo>
                  <a:pt x="3311" y="129"/>
                </a:lnTo>
                <a:lnTo>
                  <a:pt x="3314" y="435"/>
                </a:lnTo>
                <a:lnTo>
                  <a:pt x="3318" y="256"/>
                </a:lnTo>
                <a:lnTo>
                  <a:pt x="3320" y="323"/>
                </a:lnTo>
                <a:lnTo>
                  <a:pt x="3323" y="323"/>
                </a:lnTo>
                <a:lnTo>
                  <a:pt x="3326" y="202"/>
                </a:lnTo>
                <a:lnTo>
                  <a:pt x="3329" y="263"/>
                </a:lnTo>
                <a:lnTo>
                  <a:pt x="3331" y="271"/>
                </a:lnTo>
                <a:lnTo>
                  <a:pt x="3335" y="254"/>
                </a:lnTo>
                <a:lnTo>
                  <a:pt x="3337" y="310"/>
                </a:lnTo>
                <a:lnTo>
                  <a:pt x="3340" y="270"/>
                </a:lnTo>
                <a:lnTo>
                  <a:pt x="3343" y="279"/>
                </a:lnTo>
                <a:lnTo>
                  <a:pt x="3346" y="69"/>
                </a:lnTo>
                <a:lnTo>
                  <a:pt x="3349" y="221"/>
                </a:lnTo>
                <a:lnTo>
                  <a:pt x="3351" y="216"/>
                </a:lnTo>
                <a:lnTo>
                  <a:pt x="3355" y="224"/>
                </a:lnTo>
                <a:lnTo>
                  <a:pt x="3357" y="269"/>
                </a:lnTo>
                <a:lnTo>
                  <a:pt x="3360" y="205"/>
                </a:lnTo>
                <a:lnTo>
                  <a:pt x="3364" y="202"/>
                </a:lnTo>
                <a:lnTo>
                  <a:pt x="3366" y="299"/>
                </a:lnTo>
                <a:lnTo>
                  <a:pt x="3369" y="244"/>
                </a:lnTo>
                <a:lnTo>
                  <a:pt x="3371" y="238"/>
                </a:lnTo>
                <a:lnTo>
                  <a:pt x="3375" y="213"/>
                </a:lnTo>
                <a:lnTo>
                  <a:pt x="3377" y="347"/>
                </a:lnTo>
                <a:lnTo>
                  <a:pt x="3380" y="333"/>
                </a:lnTo>
                <a:lnTo>
                  <a:pt x="3384" y="312"/>
                </a:lnTo>
                <a:lnTo>
                  <a:pt x="3386" y="139"/>
                </a:lnTo>
                <a:lnTo>
                  <a:pt x="3389" y="164"/>
                </a:lnTo>
                <a:lnTo>
                  <a:pt x="3391" y="284"/>
                </a:lnTo>
                <a:lnTo>
                  <a:pt x="3395" y="267"/>
                </a:lnTo>
                <a:lnTo>
                  <a:pt x="3397" y="208"/>
                </a:lnTo>
                <a:lnTo>
                  <a:pt x="3400" y="234"/>
                </a:lnTo>
                <a:lnTo>
                  <a:pt x="3403" y="244"/>
                </a:lnTo>
                <a:lnTo>
                  <a:pt x="3406" y="255"/>
                </a:lnTo>
                <a:lnTo>
                  <a:pt x="3409" y="169"/>
                </a:lnTo>
                <a:lnTo>
                  <a:pt x="3411" y="318"/>
                </a:lnTo>
                <a:lnTo>
                  <a:pt x="3415" y="203"/>
                </a:lnTo>
                <a:lnTo>
                  <a:pt x="3417" y="256"/>
                </a:lnTo>
                <a:lnTo>
                  <a:pt x="3420" y="348"/>
                </a:lnTo>
                <a:lnTo>
                  <a:pt x="3423" y="267"/>
                </a:lnTo>
                <a:lnTo>
                  <a:pt x="3426" y="387"/>
                </a:lnTo>
                <a:lnTo>
                  <a:pt x="3429" y="250"/>
                </a:lnTo>
                <a:lnTo>
                  <a:pt x="3432" y="236"/>
                </a:lnTo>
                <a:lnTo>
                  <a:pt x="3435" y="323"/>
                </a:lnTo>
                <a:lnTo>
                  <a:pt x="3437" y="214"/>
                </a:lnTo>
                <a:lnTo>
                  <a:pt x="3441" y="370"/>
                </a:lnTo>
                <a:lnTo>
                  <a:pt x="3443" y="289"/>
                </a:lnTo>
                <a:lnTo>
                  <a:pt x="3446" y="343"/>
                </a:lnTo>
                <a:lnTo>
                  <a:pt x="3449" y="295"/>
                </a:lnTo>
                <a:lnTo>
                  <a:pt x="3452" y="314"/>
                </a:lnTo>
                <a:lnTo>
                  <a:pt x="3455" y="216"/>
                </a:lnTo>
                <a:lnTo>
                  <a:pt x="3457" y="175"/>
                </a:lnTo>
                <a:lnTo>
                  <a:pt x="3461" y="354"/>
                </a:lnTo>
                <a:lnTo>
                  <a:pt x="3463" y="217"/>
                </a:lnTo>
                <a:lnTo>
                  <a:pt x="3466" y="292"/>
                </a:lnTo>
                <a:lnTo>
                  <a:pt x="3468" y="207"/>
                </a:lnTo>
                <a:lnTo>
                  <a:pt x="3472" y="253"/>
                </a:lnTo>
                <a:lnTo>
                  <a:pt x="3475" y="330"/>
                </a:lnTo>
                <a:lnTo>
                  <a:pt x="3477" y="223"/>
                </a:lnTo>
                <a:lnTo>
                  <a:pt x="3481" y="367"/>
                </a:lnTo>
                <a:lnTo>
                  <a:pt x="3483" y="105"/>
                </a:lnTo>
                <a:lnTo>
                  <a:pt x="3486" y="261"/>
                </a:lnTo>
                <a:lnTo>
                  <a:pt x="3488" y="383"/>
                </a:lnTo>
                <a:lnTo>
                  <a:pt x="3492" y="139"/>
                </a:lnTo>
                <a:lnTo>
                  <a:pt x="3495" y="299"/>
                </a:lnTo>
                <a:lnTo>
                  <a:pt x="3497" y="332"/>
                </a:lnTo>
                <a:lnTo>
                  <a:pt x="3501" y="204"/>
                </a:lnTo>
                <a:lnTo>
                  <a:pt x="3503" y="319"/>
                </a:lnTo>
                <a:lnTo>
                  <a:pt x="3506" y="193"/>
                </a:lnTo>
                <a:lnTo>
                  <a:pt x="3509" y="165"/>
                </a:lnTo>
                <a:lnTo>
                  <a:pt x="3512" y="396"/>
                </a:lnTo>
                <a:lnTo>
                  <a:pt x="3515" y="265"/>
                </a:lnTo>
                <a:lnTo>
                  <a:pt x="3517" y="254"/>
                </a:lnTo>
                <a:lnTo>
                  <a:pt x="3521" y="263"/>
                </a:lnTo>
                <a:lnTo>
                  <a:pt x="3523" y="160"/>
                </a:lnTo>
                <a:lnTo>
                  <a:pt x="3526" y="232"/>
                </a:lnTo>
                <a:lnTo>
                  <a:pt x="3529" y="264"/>
                </a:lnTo>
                <a:lnTo>
                  <a:pt x="3532" y="330"/>
                </a:lnTo>
                <a:lnTo>
                  <a:pt x="3534" y="262"/>
                </a:lnTo>
                <a:lnTo>
                  <a:pt x="3538" y="276"/>
                </a:lnTo>
                <a:lnTo>
                  <a:pt x="3541" y="225"/>
                </a:lnTo>
                <a:lnTo>
                  <a:pt x="3543" y="305"/>
                </a:lnTo>
                <a:lnTo>
                  <a:pt x="3546" y="295"/>
                </a:lnTo>
                <a:lnTo>
                  <a:pt x="3549" y="213"/>
                </a:lnTo>
                <a:lnTo>
                  <a:pt x="3552" y="302"/>
                </a:lnTo>
                <a:lnTo>
                  <a:pt x="3554" y="378"/>
                </a:lnTo>
                <a:lnTo>
                  <a:pt x="3558" y="284"/>
                </a:lnTo>
                <a:lnTo>
                  <a:pt x="3561" y="250"/>
                </a:lnTo>
                <a:lnTo>
                  <a:pt x="3563" y="241"/>
                </a:lnTo>
                <a:lnTo>
                  <a:pt x="3567" y="325"/>
                </a:lnTo>
                <a:lnTo>
                  <a:pt x="3569" y="252"/>
                </a:lnTo>
                <a:lnTo>
                  <a:pt x="3572" y="234"/>
                </a:lnTo>
                <a:lnTo>
                  <a:pt x="3574" y="392"/>
                </a:lnTo>
                <a:lnTo>
                  <a:pt x="3578" y="237"/>
                </a:lnTo>
                <a:lnTo>
                  <a:pt x="3581" y="321"/>
                </a:lnTo>
                <a:lnTo>
                  <a:pt x="3583" y="432"/>
                </a:lnTo>
                <a:lnTo>
                  <a:pt x="3587" y="248"/>
                </a:lnTo>
                <a:lnTo>
                  <a:pt x="3589" y="328"/>
                </a:lnTo>
                <a:lnTo>
                  <a:pt x="3592" y="320"/>
                </a:lnTo>
                <a:lnTo>
                  <a:pt x="3594" y="201"/>
                </a:lnTo>
                <a:lnTo>
                  <a:pt x="3598" y="262"/>
                </a:lnTo>
                <a:lnTo>
                  <a:pt x="3600" y="299"/>
                </a:lnTo>
                <a:lnTo>
                  <a:pt x="3603" y="285"/>
                </a:lnTo>
                <a:lnTo>
                  <a:pt x="3607" y="104"/>
                </a:lnTo>
                <a:lnTo>
                  <a:pt x="3609" y="289"/>
                </a:lnTo>
                <a:lnTo>
                  <a:pt x="3612" y="334"/>
                </a:lnTo>
                <a:lnTo>
                  <a:pt x="3615" y="234"/>
                </a:lnTo>
                <a:lnTo>
                  <a:pt x="3618" y="294"/>
                </a:lnTo>
                <a:lnTo>
                  <a:pt x="3620" y="294"/>
                </a:lnTo>
                <a:lnTo>
                  <a:pt x="3623" y="316"/>
                </a:lnTo>
                <a:lnTo>
                  <a:pt x="3627" y="198"/>
                </a:lnTo>
                <a:lnTo>
                  <a:pt x="3629" y="294"/>
                </a:lnTo>
                <a:lnTo>
                  <a:pt x="3632" y="218"/>
                </a:lnTo>
                <a:lnTo>
                  <a:pt x="3635" y="357"/>
                </a:lnTo>
                <a:lnTo>
                  <a:pt x="3638" y="201"/>
                </a:lnTo>
                <a:lnTo>
                  <a:pt x="3640" y="373"/>
                </a:lnTo>
                <a:lnTo>
                  <a:pt x="3644" y="246"/>
                </a:lnTo>
                <a:lnTo>
                  <a:pt x="3647" y="280"/>
                </a:lnTo>
                <a:lnTo>
                  <a:pt x="3649" y="274"/>
                </a:lnTo>
                <a:lnTo>
                  <a:pt x="3652" y="304"/>
                </a:lnTo>
                <a:lnTo>
                  <a:pt x="3655" y="298"/>
                </a:lnTo>
                <a:lnTo>
                  <a:pt x="3658" y="257"/>
                </a:lnTo>
                <a:lnTo>
                  <a:pt x="3660" y="266"/>
                </a:lnTo>
                <a:lnTo>
                  <a:pt x="3664" y="228"/>
                </a:lnTo>
                <a:lnTo>
                  <a:pt x="3667" y="199"/>
                </a:lnTo>
                <a:lnTo>
                  <a:pt x="3669" y="315"/>
                </a:lnTo>
                <a:lnTo>
                  <a:pt x="3673" y="413"/>
                </a:lnTo>
                <a:lnTo>
                  <a:pt x="3675" y="270"/>
                </a:lnTo>
                <a:lnTo>
                  <a:pt x="3678" y="431"/>
                </a:lnTo>
                <a:lnTo>
                  <a:pt x="3680" y="299"/>
                </a:lnTo>
                <a:lnTo>
                  <a:pt x="3684" y="217"/>
                </a:lnTo>
                <a:lnTo>
                  <a:pt x="3686" y="154"/>
                </a:lnTo>
                <a:lnTo>
                  <a:pt x="3689" y="223"/>
                </a:lnTo>
                <a:lnTo>
                  <a:pt x="3693" y="266"/>
                </a:lnTo>
                <a:lnTo>
                  <a:pt x="3695" y="277"/>
                </a:lnTo>
                <a:lnTo>
                  <a:pt x="3698" y="174"/>
                </a:lnTo>
                <a:lnTo>
                  <a:pt x="3700" y="309"/>
                </a:lnTo>
                <a:lnTo>
                  <a:pt x="3704" y="231"/>
                </a:lnTo>
                <a:lnTo>
                  <a:pt x="3706" y="254"/>
                </a:lnTo>
                <a:lnTo>
                  <a:pt x="3709" y="241"/>
                </a:lnTo>
                <a:lnTo>
                  <a:pt x="3713" y="231"/>
                </a:lnTo>
                <a:lnTo>
                  <a:pt x="3715" y="311"/>
                </a:lnTo>
                <a:lnTo>
                  <a:pt x="3718" y="312"/>
                </a:lnTo>
                <a:lnTo>
                  <a:pt x="3721" y="255"/>
                </a:lnTo>
                <a:lnTo>
                  <a:pt x="3724" y="242"/>
                </a:lnTo>
                <a:lnTo>
                  <a:pt x="3726" y="220"/>
                </a:lnTo>
                <a:lnTo>
                  <a:pt x="3729" y="265"/>
                </a:lnTo>
                <a:lnTo>
                  <a:pt x="3733" y="276"/>
                </a:lnTo>
                <a:lnTo>
                  <a:pt x="3735" y="127"/>
                </a:lnTo>
                <a:lnTo>
                  <a:pt x="3738" y="264"/>
                </a:lnTo>
                <a:lnTo>
                  <a:pt x="3741" y="202"/>
                </a:lnTo>
                <a:lnTo>
                  <a:pt x="3744" y="305"/>
                </a:lnTo>
                <a:lnTo>
                  <a:pt x="3746" y="295"/>
                </a:lnTo>
                <a:lnTo>
                  <a:pt x="3750" y="248"/>
                </a:lnTo>
                <a:lnTo>
                  <a:pt x="3752" y="320"/>
                </a:lnTo>
                <a:lnTo>
                  <a:pt x="3755" y="313"/>
                </a:lnTo>
                <a:lnTo>
                  <a:pt x="3758" y="306"/>
                </a:lnTo>
                <a:lnTo>
                  <a:pt x="3761" y="277"/>
                </a:lnTo>
                <a:lnTo>
                  <a:pt x="3764" y="197"/>
                </a:lnTo>
                <a:lnTo>
                  <a:pt x="3766" y="250"/>
                </a:lnTo>
                <a:lnTo>
                  <a:pt x="3770" y="211"/>
                </a:lnTo>
                <a:lnTo>
                  <a:pt x="3772" y="379"/>
                </a:lnTo>
                <a:lnTo>
                  <a:pt x="3775" y="322"/>
                </a:lnTo>
                <a:lnTo>
                  <a:pt x="3779" y="226"/>
                </a:lnTo>
                <a:lnTo>
                  <a:pt x="3781" y="371"/>
                </a:lnTo>
                <a:lnTo>
                  <a:pt x="3784" y="281"/>
                </a:lnTo>
                <a:lnTo>
                  <a:pt x="3786" y="286"/>
                </a:lnTo>
                <a:lnTo>
                  <a:pt x="3790" y="332"/>
                </a:lnTo>
                <a:lnTo>
                  <a:pt x="3792" y="319"/>
                </a:lnTo>
                <a:lnTo>
                  <a:pt x="3795" y="246"/>
                </a:lnTo>
                <a:lnTo>
                  <a:pt x="3799" y="347"/>
                </a:lnTo>
                <a:lnTo>
                  <a:pt x="3801" y="378"/>
                </a:lnTo>
                <a:lnTo>
                  <a:pt x="3804" y="263"/>
                </a:lnTo>
                <a:lnTo>
                  <a:pt x="3806" y="155"/>
                </a:lnTo>
                <a:lnTo>
                  <a:pt x="3810" y="400"/>
                </a:lnTo>
                <a:lnTo>
                  <a:pt x="3812" y="267"/>
                </a:lnTo>
                <a:lnTo>
                  <a:pt x="3815" y="257"/>
                </a:lnTo>
                <a:lnTo>
                  <a:pt x="3818" y="296"/>
                </a:lnTo>
                <a:lnTo>
                  <a:pt x="3821" y="335"/>
                </a:lnTo>
                <a:lnTo>
                  <a:pt x="3824" y="247"/>
                </a:lnTo>
                <a:lnTo>
                  <a:pt x="3826" y="211"/>
                </a:lnTo>
                <a:lnTo>
                  <a:pt x="3830" y="277"/>
                </a:lnTo>
                <a:lnTo>
                  <a:pt x="3832" y="402"/>
                </a:lnTo>
                <a:lnTo>
                  <a:pt x="3835" y="203"/>
                </a:lnTo>
                <a:lnTo>
                  <a:pt x="3838" y="255"/>
                </a:lnTo>
                <a:lnTo>
                  <a:pt x="3841" y="282"/>
                </a:lnTo>
                <a:lnTo>
                  <a:pt x="3844" y="315"/>
                </a:lnTo>
                <a:lnTo>
                  <a:pt x="3847" y="285"/>
                </a:lnTo>
                <a:lnTo>
                  <a:pt x="3850" y="221"/>
                </a:lnTo>
                <a:lnTo>
                  <a:pt x="3852" y="263"/>
                </a:lnTo>
                <a:lnTo>
                  <a:pt x="3855" y="370"/>
                </a:lnTo>
                <a:lnTo>
                  <a:pt x="3858" y="324"/>
                </a:lnTo>
                <a:lnTo>
                  <a:pt x="3861" y="275"/>
                </a:lnTo>
                <a:lnTo>
                  <a:pt x="3864" y="255"/>
                </a:lnTo>
                <a:lnTo>
                  <a:pt x="3867" y="281"/>
                </a:lnTo>
                <a:lnTo>
                  <a:pt x="3870" y="216"/>
                </a:lnTo>
                <a:lnTo>
                  <a:pt x="3872" y="150"/>
                </a:lnTo>
                <a:lnTo>
                  <a:pt x="3876" y="187"/>
                </a:lnTo>
                <a:lnTo>
                  <a:pt x="3878" y="380"/>
                </a:lnTo>
                <a:lnTo>
                  <a:pt x="3881" y="191"/>
                </a:lnTo>
                <a:lnTo>
                  <a:pt x="3883" y="277"/>
                </a:lnTo>
                <a:lnTo>
                  <a:pt x="3887" y="318"/>
                </a:lnTo>
                <a:lnTo>
                  <a:pt x="3890" y="334"/>
                </a:lnTo>
                <a:lnTo>
                  <a:pt x="3892" y="209"/>
                </a:lnTo>
                <a:lnTo>
                  <a:pt x="3896" y="214"/>
                </a:lnTo>
                <a:lnTo>
                  <a:pt x="3898" y="232"/>
                </a:lnTo>
                <a:lnTo>
                  <a:pt x="3901" y="312"/>
                </a:lnTo>
                <a:lnTo>
                  <a:pt x="3903" y="255"/>
                </a:lnTo>
                <a:lnTo>
                  <a:pt x="3907" y="343"/>
                </a:lnTo>
                <a:lnTo>
                  <a:pt x="3910" y="265"/>
                </a:lnTo>
                <a:lnTo>
                  <a:pt x="3912" y="206"/>
                </a:lnTo>
                <a:lnTo>
                  <a:pt x="3916" y="407"/>
                </a:lnTo>
                <a:lnTo>
                  <a:pt x="3918" y="248"/>
                </a:lnTo>
                <a:lnTo>
                  <a:pt x="3921" y="198"/>
                </a:lnTo>
                <a:lnTo>
                  <a:pt x="3924" y="228"/>
                </a:lnTo>
                <a:lnTo>
                  <a:pt x="3927" y="213"/>
                </a:lnTo>
                <a:lnTo>
                  <a:pt x="3930" y="215"/>
                </a:lnTo>
                <a:lnTo>
                  <a:pt x="3932" y="181"/>
                </a:lnTo>
                <a:lnTo>
                  <a:pt x="3936" y="222"/>
                </a:lnTo>
                <a:lnTo>
                  <a:pt x="3938" y="202"/>
                </a:lnTo>
                <a:lnTo>
                  <a:pt x="3941" y="204"/>
                </a:lnTo>
                <a:lnTo>
                  <a:pt x="3944" y="162"/>
                </a:lnTo>
                <a:lnTo>
                  <a:pt x="3947" y="330"/>
                </a:lnTo>
                <a:lnTo>
                  <a:pt x="3949" y="284"/>
                </a:lnTo>
                <a:lnTo>
                  <a:pt x="3953" y="343"/>
                </a:lnTo>
                <a:lnTo>
                  <a:pt x="3956" y="215"/>
                </a:lnTo>
                <a:lnTo>
                  <a:pt x="3958" y="156"/>
                </a:lnTo>
                <a:lnTo>
                  <a:pt x="3961" y="299"/>
                </a:lnTo>
                <a:lnTo>
                  <a:pt x="3964" y="290"/>
                </a:lnTo>
                <a:lnTo>
                  <a:pt x="3967" y="402"/>
                </a:lnTo>
                <a:lnTo>
                  <a:pt x="3969" y="204"/>
                </a:lnTo>
                <a:lnTo>
                  <a:pt x="3973" y="211"/>
                </a:lnTo>
                <a:lnTo>
                  <a:pt x="3976" y="348"/>
                </a:lnTo>
                <a:lnTo>
                  <a:pt x="3978" y="312"/>
                </a:lnTo>
                <a:lnTo>
                  <a:pt x="3982" y="290"/>
                </a:lnTo>
                <a:lnTo>
                  <a:pt x="3984" y="402"/>
                </a:lnTo>
                <a:lnTo>
                  <a:pt x="3987" y="212"/>
                </a:lnTo>
                <a:lnTo>
                  <a:pt x="3989" y="205"/>
                </a:lnTo>
                <a:lnTo>
                  <a:pt x="3993" y="250"/>
                </a:lnTo>
                <a:lnTo>
                  <a:pt x="3996" y="207"/>
                </a:lnTo>
                <a:lnTo>
                  <a:pt x="3998" y="205"/>
                </a:lnTo>
                <a:lnTo>
                  <a:pt x="4002" y="211"/>
                </a:lnTo>
                <a:lnTo>
                  <a:pt x="4004" y="234"/>
                </a:lnTo>
                <a:lnTo>
                  <a:pt x="4007" y="252"/>
                </a:lnTo>
                <a:lnTo>
                  <a:pt x="4009" y="242"/>
                </a:lnTo>
                <a:lnTo>
                  <a:pt x="4013" y="347"/>
                </a:lnTo>
                <a:lnTo>
                  <a:pt x="4015" y="208"/>
                </a:lnTo>
                <a:lnTo>
                  <a:pt x="4018" y="294"/>
                </a:lnTo>
                <a:lnTo>
                  <a:pt x="4022" y="282"/>
                </a:lnTo>
                <a:lnTo>
                  <a:pt x="4024" y="216"/>
                </a:lnTo>
                <a:lnTo>
                  <a:pt x="4027" y="103"/>
                </a:lnTo>
                <a:lnTo>
                  <a:pt x="4030" y="226"/>
                </a:lnTo>
                <a:lnTo>
                  <a:pt x="4033" y="311"/>
                </a:lnTo>
                <a:lnTo>
                  <a:pt x="4035" y="163"/>
                </a:lnTo>
                <a:lnTo>
                  <a:pt x="4038" y="280"/>
                </a:lnTo>
                <a:lnTo>
                  <a:pt x="4042" y="271"/>
                </a:lnTo>
                <a:lnTo>
                  <a:pt x="4044" y="273"/>
                </a:lnTo>
                <a:lnTo>
                  <a:pt x="4047" y="250"/>
                </a:lnTo>
                <a:lnTo>
                  <a:pt x="4050" y="260"/>
                </a:lnTo>
                <a:lnTo>
                  <a:pt x="4053" y="332"/>
                </a:lnTo>
                <a:lnTo>
                  <a:pt x="4055" y="236"/>
                </a:lnTo>
                <a:lnTo>
                  <a:pt x="4059" y="316"/>
                </a:lnTo>
                <a:lnTo>
                  <a:pt x="4062" y="231"/>
                </a:lnTo>
                <a:lnTo>
                  <a:pt x="4064" y="245"/>
                </a:lnTo>
                <a:lnTo>
                  <a:pt x="4067" y="240"/>
                </a:lnTo>
                <a:lnTo>
                  <a:pt x="4070" y="275"/>
                </a:lnTo>
                <a:lnTo>
                  <a:pt x="4073" y="136"/>
                </a:lnTo>
                <a:lnTo>
                  <a:pt x="4075" y="350"/>
                </a:lnTo>
                <a:lnTo>
                  <a:pt x="4079" y="291"/>
                </a:lnTo>
                <a:lnTo>
                  <a:pt x="4081" y="256"/>
                </a:lnTo>
                <a:lnTo>
                  <a:pt x="4084" y="282"/>
                </a:lnTo>
                <a:lnTo>
                  <a:pt x="4088" y="259"/>
                </a:lnTo>
                <a:lnTo>
                  <a:pt x="4090" y="283"/>
                </a:lnTo>
                <a:lnTo>
                  <a:pt x="4093" y="321"/>
                </a:lnTo>
                <a:lnTo>
                  <a:pt x="4095" y="212"/>
                </a:lnTo>
                <a:lnTo>
                  <a:pt x="4099" y="411"/>
                </a:lnTo>
                <a:lnTo>
                  <a:pt x="4101" y="279"/>
                </a:lnTo>
                <a:lnTo>
                  <a:pt x="4104" y="209"/>
                </a:lnTo>
                <a:lnTo>
                  <a:pt x="4108" y="367"/>
                </a:lnTo>
                <a:lnTo>
                  <a:pt x="4110" y="324"/>
                </a:lnTo>
                <a:lnTo>
                  <a:pt x="4113" y="355"/>
                </a:lnTo>
                <a:lnTo>
                  <a:pt x="4115" y="174"/>
                </a:lnTo>
                <a:lnTo>
                  <a:pt x="4119" y="296"/>
                </a:lnTo>
                <a:lnTo>
                  <a:pt x="4121" y="285"/>
                </a:lnTo>
                <a:lnTo>
                  <a:pt x="4124" y="314"/>
                </a:lnTo>
                <a:lnTo>
                  <a:pt x="4128" y="237"/>
                </a:lnTo>
                <a:lnTo>
                  <a:pt x="4130" y="328"/>
                </a:lnTo>
                <a:lnTo>
                  <a:pt x="4133" y="207"/>
                </a:lnTo>
                <a:lnTo>
                  <a:pt x="4135" y="320"/>
                </a:lnTo>
                <a:lnTo>
                  <a:pt x="4139" y="318"/>
                </a:lnTo>
                <a:lnTo>
                  <a:pt x="4141" y="293"/>
                </a:lnTo>
                <a:lnTo>
                  <a:pt x="4144" y="253"/>
                </a:lnTo>
                <a:lnTo>
                  <a:pt x="4148" y="380"/>
                </a:lnTo>
                <a:lnTo>
                  <a:pt x="4150" y="175"/>
                </a:lnTo>
                <a:lnTo>
                  <a:pt x="4153" y="321"/>
                </a:lnTo>
                <a:lnTo>
                  <a:pt x="4156" y="353"/>
                </a:lnTo>
                <a:lnTo>
                  <a:pt x="4159" y="292"/>
                </a:lnTo>
                <a:lnTo>
                  <a:pt x="4161" y="286"/>
                </a:lnTo>
                <a:lnTo>
                  <a:pt x="4164" y="214"/>
                </a:lnTo>
                <a:lnTo>
                  <a:pt x="4167" y="243"/>
                </a:lnTo>
                <a:lnTo>
                  <a:pt x="4170" y="380"/>
                </a:lnTo>
                <a:lnTo>
                  <a:pt x="4173" y="178"/>
                </a:lnTo>
                <a:lnTo>
                  <a:pt x="4176" y="284"/>
                </a:lnTo>
                <a:lnTo>
                  <a:pt x="4179" y="267"/>
                </a:lnTo>
                <a:lnTo>
                  <a:pt x="4181" y="323"/>
                </a:lnTo>
                <a:lnTo>
                  <a:pt x="4185" y="185"/>
                </a:lnTo>
                <a:lnTo>
                  <a:pt x="4187" y="244"/>
                </a:lnTo>
                <a:lnTo>
                  <a:pt x="4190" y="197"/>
                </a:lnTo>
                <a:lnTo>
                  <a:pt x="4194" y="359"/>
                </a:lnTo>
                <a:lnTo>
                  <a:pt x="4196" y="397"/>
                </a:lnTo>
                <a:lnTo>
                  <a:pt x="4199" y="298"/>
                </a:lnTo>
                <a:lnTo>
                  <a:pt x="4201" y="280"/>
                </a:lnTo>
                <a:lnTo>
                  <a:pt x="4205" y="392"/>
                </a:lnTo>
                <a:lnTo>
                  <a:pt x="4207" y="312"/>
                </a:lnTo>
                <a:lnTo>
                  <a:pt x="4210" y="176"/>
                </a:lnTo>
                <a:lnTo>
                  <a:pt x="4214" y="311"/>
                </a:lnTo>
                <a:lnTo>
                  <a:pt x="4216" y="279"/>
                </a:lnTo>
                <a:lnTo>
                  <a:pt x="4219" y="242"/>
                </a:lnTo>
                <a:lnTo>
                  <a:pt x="4221" y="176"/>
                </a:lnTo>
                <a:lnTo>
                  <a:pt x="4225" y="244"/>
                </a:lnTo>
                <a:lnTo>
                  <a:pt x="4227" y="312"/>
                </a:lnTo>
                <a:lnTo>
                  <a:pt x="4230" y="373"/>
                </a:lnTo>
                <a:lnTo>
                  <a:pt x="4233" y="189"/>
                </a:lnTo>
                <a:lnTo>
                  <a:pt x="4236" y="318"/>
                </a:lnTo>
                <a:lnTo>
                  <a:pt x="4239" y="173"/>
                </a:lnTo>
                <a:lnTo>
                  <a:pt x="4241" y="281"/>
                </a:lnTo>
                <a:lnTo>
                  <a:pt x="4245" y="286"/>
                </a:lnTo>
                <a:lnTo>
                  <a:pt x="4247" y="313"/>
                </a:lnTo>
                <a:lnTo>
                  <a:pt x="4250" y="217"/>
                </a:lnTo>
                <a:lnTo>
                  <a:pt x="4253" y="341"/>
                </a:lnTo>
                <a:lnTo>
                  <a:pt x="4256" y="118"/>
                </a:lnTo>
                <a:lnTo>
                  <a:pt x="4259" y="358"/>
                </a:lnTo>
                <a:lnTo>
                  <a:pt x="4262" y="275"/>
                </a:lnTo>
                <a:lnTo>
                  <a:pt x="4265" y="344"/>
                </a:lnTo>
                <a:lnTo>
                  <a:pt x="4267" y="207"/>
                </a:lnTo>
                <a:lnTo>
                  <a:pt x="4270" y="248"/>
                </a:lnTo>
                <a:lnTo>
                  <a:pt x="4273" y="296"/>
                </a:lnTo>
                <a:lnTo>
                  <a:pt x="4276" y="331"/>
                </a:lnTo>
                <a:lnTo>
                  <a:pt x="4279" y="246"/>
                </a:lnTo>
                <a:lnTo>
                  <a:pt x="4282" y="279"/>
                </a:lnTo>
                <a:lnTo>
                  <a:pt x="4285" y="253"/>
                </a:lnTo>
                <a:lnTo>
                  <a:pt x="4287" y="319"/>
                </a:lnTo>
                <a:lnTo>
                  <a:pt x="4291" y="350"/>
                </a:lnTo>
                <a:lnTo>
                  <a:pt x="4293" y="287"/>
                </a:lnTo>
                <a:lnTo>
                  <a:pt x="4296" y="323"/>
                </a:lnTo>
                <a:lnTo>
                  <a:pt x="4298" y="253"/>
                </a:lnTo>
                <a:lnTo>
                  <a:pt x="4302" y="169"/>
                </a:lnTo>
                <a:lnTo>
                  <a:pt x="4305" y="302"/>
                </a:lnTo>
                <a:lnTo>
                  <a:pt x="4307" y="300"/>
                </a:lnTo>
                <a:lnTo>
                  <a:pt x="4311" y="272"/>
                </a:lnTo>
                <a:lnTo>
                  <a:pt x="4313" y="230"/>
                </a:lnTo>
                <a:lnTo>
                  <a:pt x="4316" y="412"/>
                </a:lnTo>
                <a:lnTo>
                  <a:pt x="4318" y="280"/>
                </a:lnTo>
                <a:lnTo>
                  <a:pt x="4322" y="284"/>
                </a:lnTo>
                <a:lnTo>
                  <a:pt x="4325" y="312"/>
                </a:lnTo>
                <a:lnTo>
                  <a:pt x="4327" y="375"/>
                </a:lnTo>
                <a:lnTo>
                  <a:pt x="4331" y="169"/>
                </a:lnTo>
                <a:lnTo>
                  <a:pt x="4333" y="211"/>
                </a:lnTo>
                <a:lnTo>
                  <a:pt x="4336" y="178"/>
                </a:lnTo>
                <a:lnTo>
                  <a:pt x="4339" y="285"/>
                </a:lnTo>
                <a:lnTo>
                  <a:pt x="4342" y="331"/>
                </a:lnTo>
                <a:lnTo>
                  <a:pt x="4345" y="326"/>
                </a:lnTo>
                <a:lnTo>
                  <a:pt x="4347" y="303"/>
                </a:lnTo>
                <a:lnTo>
                  <a:pt x="4351" y="304"/>
                </a:lnTo>
                <a:lnTo>
                  <a:pt x="4353" y="315"/>
                </a:lnTo>
                <a:lnTo>
                  <a:pt x="4356" y="394"/>
                </a:lnTo>
                <a:lnTo>
                  <a:pt x="4359" y="164"/>
                </a:lnTo>
                <a:lnTo>
                  <a:pt x="4362" y="265"/>
                </a:lnTo>
                <a:lnTo>
                  <a:pt x="4364" y="343"/>
                </a:lnTo>
                <a:lnTo>
                  <a:pt x="4368" y="396"/>
                </a:lnTo>
                <a:lnTo>
                  <a:pt x="4371" y="305"/>
                </a:lnTo>
                <a:lnTo>
                  <a:pt x="4373" y="275"/>
                </a:lnTo>
                <a:lnTo>
                  <a:pt x="4376" y="250"/>
                </a:lnTo>
                <a:lnTo>
                  <a:pt x="4379" y="186"/>
                </a:lnTo>
                <a:lnTo>
                  <a:pt x="4382" y="329"/>
                </a:lnTo>
                <a:lnTo>
                  <a:pt x="4384" y="276"/>
                </a:lnTo>
                <a:lnTo>
                  <a:pt x="4388" y="348"/>
                </a:lnTo>
                <a:lnTo>
                  <a:pt x="4391" y="223"/>
                </a:lnTo>
                <a:lnTo>
                  <a:pt x="4393" y="342"/>
                </a:lnTo>
                <a:lnTo>
                  <a:pt x="4397" y="98"/>
                </a:lnTo>
                <a:lnTo>
                  <a:pt x="4399" y="173"/>
                </a:lnTo>
                <a:lnTo>
                  <a:pt x="4402" y="220"/>
                </a:lnTo>
                <a:lnTo>
                  <a:pt x="4404" y="244"/>
                </a:lnTo>
                <a:lnTo>
                  <a:pt x="4408" y="316"/>
                </a:lnTo>
                <a:lnTo>
                  <a:pt x="4411" y="316"/>
                </a:lnTo>
                <a:lnTo>
                  <a:pt x="4413" y="287"/>
                </a:lnTo>
                <a:lnTo>
                  <a:pt x="4417" y="215"/>
                </a:lnTo>
                <a:lnTo>
                  <a:pt x="4419" y="265"/>
                </a:lnTo>
                <a:lnTo>
                  <a:pt x="4422" y="333"/>
                </a:lnTo>
                <a:lnTo>
                  <a:pt x="4424" y="70"/>
                </a:lnTo>
                <a:lnTo>
                  <a:pt x="4428" y="342"/>
                </a:lnTo>
                <a:lnTo>
                  <a:pt x="4430" y="348"/>
                </a:lnTo>
                <a:lnTo>
                  <a:pt x="4433" y="193"/>
                </a:lnTo>
                <a:lnTo>
                  <a:pt x="4437" y="225"/>
                </a:lnTo>
                <a:lnTo>
                  <a:pt x="4439" y="214"/>
                </a:lnTo>
                <a:lnTo>
                  <a:pt x="4442" y="338"/>
                </a:lnTo>
                <a:lnTo>
                  <a:pt x="4445" y="362"/>
                </a:lnTo>
                <a:lnTo>
                  <a:pt x="4448" y="242"/>
                </a:lnTo>
                <a:lnTo>
                  <a:pt x="4450" y="186"/>
                </a:lnTo>
                <a:lnTo>
                  <a:pt x="4453" y="212"/>
                </a:lnTo>
                <a:lnTo>
                  <a:pt x="4457" y="195"/>
                </a:lnTo>
                <a:lnTo>
                  <a:pt x="4459" y="294"/>
                </a:lnTo>
                <a:lnTo>
                  <a:pt x="4462" y="357"/>
                </a:lnTo>
                <a:lnTo>
                  <a:pt x="4465" y="114"/>
                </a:lnTo>
                <a:lnTo>
                  <a:pt x="4468" y="260"/>
                </a:lnTo>
                <a:lnTo>
                  <a:pt x="4470" y="216"/>
                </a:lnTo>
                <a:lnTo>
                  <a:pt x="4474" y="417"/>
                </a:lnTo>
                <a:lnTo>
                  <a:pt x="4477" y="318"/>
                </a:lnTo>
                <a:lnTo>
                  <a:pt x="4479" y="267"/>
                </a:lnTo>
                <a:lnTo>
                  <a:pt x="4482" y="392"/>
                </a:lnTo>
                <a:lnTo>
                  <a:pt x="4485" y="260"/>
                </a:lnTo>
                <a:lnTo>
                  <a:pt x="4488" y="416"/>
                </a:lnTo>
                <a:lnTo>
                  <a:pt x="4490" y="134"/>
                </a:lnTo>
                <a:lnTo>
                  <a:pt x="4494" y="328"/>
                </a:lnTo>
                <a:lnTo>
                  <a:pt x="4496" y="277"/>
                </a:lnTo>
                <a:lnTo>
                  <a:pt x="4499" y="140"/>
                </a:lnTo>
                <a:lnTo>
                  <a:pt x="4503" y="326"/>
                </a:lnTo>
                <a:lnTo>
                  <a:pt x="4505" y="323"/>
                </a:lnTo>
                <a:lnTo>
                  <a:pt x="4508" y="331"/>
                </a:lnTo>
                <a:lnTo>
                  <a:pt x="4510" y="388"/>
                </a:lnTo>
                <a:lnTo>
                  <a:pt x="4514" y="293"/>
                </a:lnTo>
                <a:lnTo>
                  <a:pt x="4516" y="274"/>
                </a:lnTo>
                <a:lnTo>
                  <a:pt x="4519" y="158"/>
                </a:lnTo>
                <a:lnTo>
                  <a:pt x="4523" y="367"/>
                </a:lnTo>
                <a:lnTo>
                  <a:pt x="4525" y="368"/>
                </a:lnTo>
                <a:lnTo>
                  <a:pt x="4528" y="143"/>
                </a:lnTo>
                <a:lnTo>
                  <a:pt x="4530" y="160"/>
                </a:lnTo>
                <a:lnTo>
                  <a:pt x="4534" y="214"/>
                </a:lnTo>
                <a:lnTo>
                  <a:pt x="4536" y="233"/>
                </a:lnTo>
                <a:lnTo>
                  <a:pt x="4539" y="378"/>
                </a:lnTo>
                <a:lnTo>
                  <a:pt x="4543" y="330"/>
                </a:lnTo>
                <a:lnTo>
                  <a:pt x="4545" y="335"/>
                </a:lnTo>
                <a:lnTo>
                  <a:pt x="4548" y="230"/>
                </a:lnTo>
                <a:lnTo>
                  <a:pt x="4550" y="253"/>
                </a:lnTo>
                <a:lnTo>
                  <a:pt x="4554" y="176"/>
                </a:lnTo>
                <a:lnTo>
                  <a:pt x="4556" y="266"/>
                </a:lnTo>
                <a:lnTo>
                  <a:pt x="4559" y="304"/>
                </a:lnTo>
                <a:lnTo>
                  <a:pt x="4562" y="311"/>
                </a:lnTo>
                <a:lnTo>
                  <a:pt x="4565" y="265"/>
                </a:lnTo>
                <a:lnTo>
                  <a:pt x="4568" y="326"/>
                </a:lnTo>
                <a:lnTo>
                  <a:pt x="4571" y="209"/>
                </a:lnTo>
                <a:lnTo>
                  <a:pt x="4574" y="295"/>
                </a:lnTo>
                <a:lnTo>
                  <a:pt x="4576" y="167"/>
                </a:lnTo>
                <a:lnTo>
                  <a:pt x="4579" y="295"/>
                </a:lnTo>
                <a:lnTo>
                  <a:pt x="4582" y="279"/>
                </a:lnTo>
                <a:lnTo>
                  <a:pt x="4585" y="302"/>
                </a:lnTo>
                <a:lnTo>
                  <a:pt x="4588" y="216"/>
                </a:lnTo>
                <a:lnTo>
                  <a:pt x="4591" y="292"/>
                </a:lnTo>
                <a:lnTo>
                  <a:pt x="4594" y="248"/>
                </a:lnTo>
                <a:lnTo>
                  <a:pt x="4596" y="320"/>
                </a:lnTo>
                <a:lnTo>
                  <a:pt x="4600" y="360"/>
                </a:lnTo>
                <a:lnTo>
                  <a:pt x="4602" y="216"/>
                </a:lnTo>
                <a:lnTo>
                  <a:pt x="4605" y="253"/>
                </a:lnTo>
                <a:lnTo>
                  <a:pt x="4608" y="184"/>
                </a:lnTo>
                <a:lnTo>
                  <a:pt x="4611" y="320"/>
                </a:lnTo>
                <a:lnTo>
                  <a:pt x="4614" y="316"/>
                </a:lnTo>
                <a:lnTo>
                  <a:pt x="4616" y="155"/>
                </a:lnTo>
                <a:lnTo>
                  <a:pt x="4620" y="352"/>
                </a:lnTo>
                <a:lnTo>
                  <a:pt x="4622" y="398"/>
                </a:lnTo>
                <a:lnTo>
                  <a:pt x="4625" y="235"/>
                </a:lnTo>
                <a:lnTo>
                  <a:pt x="4629" y="298"/>
                </a:lnTo>
                <a:lnTo>
                  <a:pt x="4631" y="244"/>
                </a:lnTo>
                <a:lnTo>
                  <a:pt x="4634" y="256"/>
                </a:lnTo>
                <a:lnTo>
                  <a:pt x="4636" y="177"/>
                </a:lnTo>
                <a:lnTo>
                  <a:pt x="4640" y="361"/>
                </a:lnTo>
                <a:lnTo>
                  <a:pt x="4642" y="289"/>
                </a:lnTo>
                <a:lnTo>
                  <a:pt x="4645" y="300"/>
                </a:lnTo>
                <a:lnTo>
                  <a:pt x="4648" y="293"/>
                </a:lnTo>
                <a:lnTo>
                  <a:pt x="4651" y="312"/>
                </a:lnTo>
                <a:lnTo>
                  <a:pt x="4654" y="419"/>
                </a:lnTo>
                <a:lnTo>
                  <a:pt x="4656" y="264"/>
                </a:lnTo>
                <a:lnTo>
                  <a:pt x="4660" y="394"/>
                </a:lnTo>
                <a:lnTo>
                  <a:pt x="4662" y="174"/>
                </a:lnTo>
                <a:lnTo>
                  <a:pt x="4665" y="287"/>
                </a:lnTo>
                <a:lnTo>
                  <a:pt x="4668" y="212"/>
                </a:lnTo>
                <a:lnTo>
                  <a:pt x="4671" y="209"/>
                </a:lnTo>
                <a:lnTo>
                  <a:pt x="4674" y="298"/>
                </a:lnTo>
                <a:lnTo>
                  <a:pt x="4677" y="217"/>
                </a:lnTo>
                <a:lnTo>
                  <a:pt x="4680" y="325"/>
                </a:lnTo>
                <a:lnTo>
                  <a:pt x="4682" y="271"/>
                </a:lnTo>
                <a:lnTo>
                  <a:pt x="4685" y="237"/>
                </a:lnTo>
                <a:lnTo>
                  <a:pt x="4688" y="330"/>
                </a:lnTo>
                <a:lnTo>
                  <a:pt x="4691" y="224"/>
                </a:lnTo>
                <a:lnTo>
                  <a:pt x="4694" y="231"/>
                </a:lnTo>
                <a:lnTo>
                  <a:pt x="4697" y="378"/>
                </a:lnTo>
                <a:lnTo>
                  <a:pt x="4700" y="310"/>
                </a:lnTo>
                <a:lnTo>
                  <a:pt x="4702" y="374"/>
                </a:lnTo>
                <a:lnTo>
                  <a:pt x="4706" y="251"/>
                </a:lnTo>
                <a:lnTo>
                  <a:pt x="4708" y="280"/>
                </a:lnTo>
                <a:lnTo>
                  <a:pt x="4711" y="292"/>
                </a:lnTo>
                <a:lnTo>
                  <a:pt x="4713" y="222"/>
                </a:lnTo>
                <a:lnTo>
                  <a:pt x="4717" y="322"/>
                </a:lnTo>
                <a:lnTo>
                  <a:pt x="4720" y="270"/>
                </a:lnTo>
                <a:lnTo>
                  <a:pt x="4722" y="207"/>
                </a:lnTo>
                <a:lnTo>
                  <a:pt x="4726" y="379"/>
                </a:lnTo>
                <a:lnTo>
                  <a:pt x="4728" y="183"/>
                </a:lnTo>
                <a:lnTo>
                  <a:pt x="4731" y="318"/>
                </a:lnTo>
                <a:lnTo>
                  <a:pt x="4733" y="217"/>
                </a:lnTo>
                <a:lnTo>
                  <a:pt x="4737" y="153"/>
                </a:lnTo>
                <a:lnTo>
                  <a:pt x="4740" y="191"/>
                </a:lnTo>
                <a:lnTo>
                  <a:pt x="4742" y="226"/>
                </a:lnTo>
                <a:lnTo>
                  <a:pt x="4746" y="313"/>
                </a:lnTo>
                <a:lnTo>
                  <a:pt x="4748" y="218"/>
                </a:lnTo>
                <a:lnTo>
                  <a:pt x="4751" y="199"/>
                </a:lnTo>
                <a:lnTo>
                  <a:pt x="4754" y="62"/>
                </a:lnTo>
                <a:lnTo>
                  <a:pt x="4757" y="252"/>
                </a:lnTo>
                <a:lnTo>
                  <a:pt x="4760" y="195"/>
                </a:lnTo>
                <a:lnTo>
                  <a:pt x="4762" y="323"/>
                </a:lnTo>
                <a:lnTo>
                  <a:pt x="4766" y="340"/>
                </a:lnTo>
                <a:lnTo>
                  <a:pt x="4768" y="314"/>
                </a:lnTo>
                <a:lnTo>
                  <a:pt x="4771" y="272"/>
                </a:lnTo>
                <a:lnTo>
                  <a:pt x="4774" y="289"/>
                </a:lnTo>
                <a:lnTo>
                  <a:pt x="4777" y="308"/>
                </a:lnTo>
                <a:lnTo>
                  <a:pt x="4779" y="198"/>
                </a:lnTo>
                <a:lnTo>
                  <a:pt x="4783" y="348"/>
                </a:lnTo>
                <a:lnTo>
                  <a:pt x="4786" y="378"/>
                </a:lnTo>
                <a:lnTo>
                  <a:pt x="4788" y="269"/>
                </a:lnTo>
                <a:lnTo>
                  <a:pt x="4791" y="285"/>
                </a:lnTo>
                <a:lnTo>
                  <a:pt x="4794" y="293"/>
                </a:lnTo>
                <a:lnTo>
                  <a:pt x="4797" y="292"/>
                </a:lnTo>
                <a:lnTo>
                  <a:pt x="4799" y="230"/>
                </a:lnTo>
                <a:lnTo>
                  <a:pt x="4803" y="287"/>
                </a:lnTo>
                <a:lnTo>
                  <a:pt x="4806" y="217"/>
                </a:lnTo>
                <a:lnTo>
                  <a:pt x="4808" y="320"/>
                </a:lnTo>
                <a:lnTo>
                  <a:pt x="4812" y="369"/>
                </a:lnTo>
                <a:lnTo>
                  <a:pt x="4814" y="225"/>
                </a:lnTo>
                <a:lnTo>
                  <a:pt x="4817" y="289"/>
                </a:lnTo>
                <a:lnTo>
                  <a:pt x="4819" y="172"/>
                </a:lnTo>
                <a:lnTo>
                  <a:pt x="4823" y="287"/>
                </a:lnTo>
                <a:lnTo>
                  <a:pt x="4826" y="306"/>
                </a:lnTo>
                <a:lnTo>
                  <a:pt x="4828" y="226"/>
                </a:lnTo>
                <a:lnTo>
                  <a:pt x="4832" y="253"/>
                </a:lnTo>
                <a:lnTo>
                  <a:pt x="4834" y="403"/>
                </a:lnTo>
                <a:lnTo>
                  <a:pt x="4837" y="289"/>
                </a:lnTo>
                <a:lnTo>
                  <a:pt x="4839" y="283"/>
                </a:lnTo>
                <a:lnTo>
                  <a:pt x="4843" y="401"/>
                </a:lnTo>
                <a:lnTo>
                  <a:pt x="4845" y="158"/>
                </a:lnTo>
                <a:lnTo>
                  <a:pt x="4848" y="207"/>
                </a:lnTo>
                <a:lnTo>
                  <a:pt x="4852" y="296"/>
                </a:lnTo>
                <a:lnTo>
                  <a:pt x="4854" y="373"/>
                </a:lnTo>
                <a:lnTo>
                  <a:pt x="4857" y="217"/>
                </a:lnTo>
                <a:lnTo>
                  <a:pt x="4859" y="186"/>
                </a:lnTo>
                <a:lnTo>
                  <a:pt x="4863" y="236"/>
                </a:lnTo>
                <a:lnTo>
                  <a:pt x="4865" y="392"/>
                </a:lnTo>
                <a:lnTo>
                  <a:pt x="4868" y="292"/>
                </a:lnTo>
                <a:lnTo>
                  <a:pt x="4872" y="296"/>
                </a:lnTo>
                <a:lnTo>
                  <a:pt x="4874" y="235"/>
                </a:lnTo>
                <a:lnTo>
                  <a:pt x="4877" y="372"/>
                </a:lnTo>
                <a:lnTo>
                  <a:pt x="4880" y="164"/>
                </a:lnTo>
                <a:lnTo>
                  <a:pt x="4883" y="282"/>
                </a:lnTo>
                <a:lnTo>
                  <a:pt x="4885" y="242"/>
                </a:lnTo>
                <a:lnTo>
                  <a:pt x="4888" y="202"/>
                </a:lnTo>
                <a:lnTo>
                  <a:pt x="4892" y="362"/>
                </a:lnTo>
                <a:lnTo>
                  <a:pt x="4894" y="251"/>
                </a:lnTo>
                <a:lnTo>
                  <a:pt x="4897" y="310"/>
                </a:lnTo>
                <a:lnTo>
                  <a:pt x="4900" y="173"/>
                </a:lnTo>
                <a:lnTo>
                  <a:pt x="4903" y="233"/>
                </a:lnTo>
                <a:lnTo>
                  <a:pt x="4905" y="357"/>
                </a:lnTo>
                <a:lnTo>
                  <a:pt x="4909" y="410"/>
                </a:lnTo>
                <a:lnTo>
                  <a:pt x="4911" y="410"/>
                </a:lnTo>
                <a:lnTo>
                  <a:pt x="4914" y="184"/>
                </a:lnTo>
                <a:lnTo>
                  <a:pt x="4917" y="209"/>
                </a:lnTo>
                <a:lnTo>
                  <a:pt x="4920" y="321"/>
                </a:lnTo>
                <a:lnTo>
                  <a:pt x="4923" y="226"/>
                </a:lnTo>
                <a:lnTo>
                  <a:pt x="4925" y="427"/>
                </a:lnTo>
                <a:lnTo>
                  <a:pt x="4929" y="244"/>
                </a:lnTo>
                <a:lnTo>
                  <a:pt x="4931" y="290"/>
                </a:lnTo>
                <a:lnTo>
                  <a:pt x="4934" y="233"/>
                </a:lnTo>
                <a:lnTo>
                  <a:pt x="4938" y="248"/>
                </a:lnTo>
                <a:lnTo>
                  <a:pt x="4940" y="156"/>
                </a:lnTo>
                <a:lnTo>
                  <a:pt x="4943" y="345"/>
                </a:lnTo>
                <a:lnTo>
                  <a:pt x="4945" y="264"/>
                </a:lnTo>
                <a:lnTo>
                  <a:pt x="4949" y="232"/>
                </a:lnTo>
                <a:lnTo>
                  <a:pt x="4951" y="196"/>
                </a:lnTo>
                <a:lnTo>
                  <a:pt x="4954" y="187"/>
                </a:lnTo>
                <a:lnTo>
                  <a:pt x="4958" y="202"/>
                </a:lnTo>
                <a:lnTo>
                  <a:pt x="4960" y="225"/>
                </a:lnTo>
                <a:lnTo>
                  <a:pt x="4963" y="314"/>
                </a:lnTo>
                <a:lnTo>
                  <a:pt x="4965" y="328"/>
                </a:lnTo>
                <a:lnTo>
                  <a:pt x="4969" y="289"/>
                </a:lnTo>
                <a:lnTo>
                  <a:pt x="4971" y="351"/>
                </a:lnTo>
                <a:lnTo>
                  <a:pt x="4974" y="308"/>
                </a:lnTo>
                <a:lnTo>
                  <a:pt x="4977" y="283"/>
                </a:lnTo>
                <a:lnTo>
                  <a:pt x="4980" y="312"/>
                </a:lnTo>
                <a:lnTo>
                  <a:pt x="4983" y="294"/>
                </a:lnTo>
                <a:lnTo>
                  <a:pt x="4986" y="285"/>
                </a:lnTo>
                <a:lnTo>
                  <a:pt x="4989" y="216"/>
                </a:lnTo>
                <a:lnTo>
                  <a:pt x="4991" y="270"/>
                </a:lnTo>
                <a:lnTo>
                  <a:pt x="4994" y="296"/>
                </a:lnTo>
                <a:lnTo>
                  <a:pt x="4997" y="296"/>
                </a:lnTo>
                <a:lnTo>
                  <a:pt x="5000" y="277"/>
                </a:lnTo>
                <a:lnTo>
                  <a:pt x="5003" y="87"/>
                </a:lnTo>
                <a:lnTo>
                  <a:pt x="5006" y="316"/>
                </a:lnTo>
                <a:lnTo>
                  <a:pt x="5009" y="257"/>
                </a:lnTo>
                <a:lnTo>
                  <a:pt x="5011" y="323"/>
                </a:lnTo>
                <a:lnTo>
                  <a:pt x="5015" y="331"/>
                </a:lnTo>
                <a:lnTo>
                  <a:pt x="5017" y="228"/>
                </a:lnTo>
                <a:lnTo>
                  <a:pt x="5020" y="300"/>
                </a:lnTo>
                <a:lnTo>
                  <a:pt x="5023" y="309"/>
                </a:lnTo>
                <a:lnTo>
                  <a:pt x="5026" y="173"/>
                </a:lnTo>
                <a:lnTo>
                  <a:pt x="5029" y="260"/>
                </a:lnTo>
                <a:lnTo>
                  <a:pt x="5031" y="252"/>
                </a:lnTo>
                <a:lnTo>
                  <a:pt x="5035" y="272"/>
                </a:lnTo>
                <a:lnTo>
                  <a:pt x="5037" y="285"/>
                </a:lnTo>
                <a:lnTo>
                  <a:pt x="5040" y="305"/>
                </a:lnTo>
                <a:lnTo>
                  <a:pt x="5044" y="282"/>
                </a:lnTo>
                <a:lnTo>
                  <a:pt x="5046" y="341"/>
                </a:lnTo>
                <a:lnTo>
                  <a:pt x="5049" y="295"/>
                </a:lnTo>
                <a:lnTo>
                  <a:pt x="5051" y="177"/>
                </a:lnTo>
                <a:lnTo>
                  <a:pt x="5055" y="296"/>
                </a:lnTo>
                <a:lnTo>
                  <a:pt x="5057" y="289"/>
                </a:lnTo>
                <a:lnTo>
                  <a:pt x="5060" y="208"/>
                </a:lnTo>
                <a:lnTo>
                  <a:pt x="5063" y="469"/>
                </a:lnTo>
                <a:lnTo>
                  <a:pt x="5066" y="257"/>
                </a:lnTo>
                <a:lnTo>
                  <a:pt x="5069" y="458"/>
                </a:lnTo>
                <a:lnTo>
                  <a:pt x="5071" y="348"/>
                </a:lnTo>
                <a:lnTo>
                  <a:pt x="5075" y="391"/>
                </a:lnTo>
                <a:lnTo>
                  <a:pt x="5077" y="208"/>
                </a:lnTo>
                <a:lnTo>
                  <a:pt x="5080" y="331"/>
                </a:lnTo>
                <a:lnTo>
                  <a:pt x="5083" y="216"/>
                </a:lnTo>
                <a:lnTo>
                  <a:pt x="5086" y="90"/>
                </a:lnTo>
                <a:lnTo>
                  <a:pt x="5089" y="270"/>
                </a:lnTo>
                <a:lnTo>
                  <a:pt x="5092" y="322"/>
                </a:lnTo>
                <a:lnTo>
                  <a:pt x="5095" y="211"/>
                </a:lnTo>
                <a:lnTo>
                  <a:pt x="5097" y="280"/>
                </a:lnTo>
                <a:lnTo>
                  <a:pt x="5100" y="221"/>
                </a:lnTo>
                <a:lnTo>
                  <a:pt x="5103" y="272"/>
                </a:lnTo>
                <a:lnTo>
                  <a:pt x="5106" y="396"/>
                </a:lnTo>
                <a:lnTo>
                  <a:pt x="5109" y="300"/>
                </a:lnTo>
                <a:lnTo>
                  <a:pt x="5112" y="302"/>
                </a:lnTo>
                <a:lnTo>
                  <a:pt x="5115" y="167"/>
                </a:lnTo>
                <a:lnTo>
                  <a:pt x="5117" y="293"/>
                </a:lnTo>
                <a:lnTo>
                  <a:pt x="5121" y="257"/>
                </a:lnTo>
                <a:lnTo>
                  <a:pt x="5123" y="289"/>
                </a:lnTo>
                <a:lnTo>
                  <a:pt x="5126" y="237"/>
                </a:lnTo>
                <a:lnTo>
                  <a:pt x="5128" y="204"/>
                </a:lnTo>
                <a:lnTo>
                  <a:pt x="5132" y="134"/>
                </a:lnTo>
                <a:lnTo>
                  <a:pt x="5135" y="348"/>
                </a:lnTo>
                <a:lnTo>
                  <a:pt x="5137" y="169"/>
                </a:lnTo>
                <a:lnTo>
                  <a:pt x="5141" y="391"/>
                </a:lnTo>
                <a:lnTo>
                  <a:pt x="5143" y="225"/>
                </a:lnTo>
                <a:lnTo>
                  <a:pt x="5146" y="392"/>
                </a:lnTo>
                <a:lnTo>
                  <a:pt x="5148" y="204"/>
                </a:lnTo>
                <a:lnTo>
                  <a:pt x="5152" y="188"/>
                </a:lnTo>
                <a:lnTo>
                  <a:pt x="5155" y="133"/>
                </a:lnTo>
                <a:lnTo>
                  <a:pt x="5157" y="269"/>
                </a:lnTo>
                <a:lnTo>
                  <a:pt x="5161" y="313"/>
                </a:lnTo>
                <a:lnTo>
                  <a:pt x="5163" y="273"/>
                </a:lnTo>
                <a:lnTo>
                  <a:pt x="5166" y="254"/>
                </a:lnTo>
                <a:lnTo>
                  <a:pt x="5168" y="334"/>
                </a:lnTo>
                <a:lnTo>
                  <a:pt x="5172" y="382"/>
                </a:lnTo>
                <a:lnTo>
                  <a:pt x="5175" y="293"/>
                </a:lnTo>
                <a:lnTo>
                  <a:pt x="5177" y="330"/>
                </a:lnTo>
                <a:lnTo>
                  <a:pt x="5181" y="274"/>
                </a:lnTo>
                <a:lnTo>
                  <a:pt x="5183" y="245"/>
                </a:lnTo>
                <a:lnTo>
                  <a:pt x="5186" y="281"/>
                </a:lnTo>
                <a:lnTo>
                  <a:pt x="5189" y="215"/>
                </a:lnTo>
                <a:lnTo>
                  <a:pt x="5192" y="224"/>
                </a:lnTo>
                <a:lnTo>
                  <a:pt x="5194" y="270"/>
                </a:lnTo>
                <a:lnTo>
                  <a:pt x="5198" y="341"/>
                </a:lnTo>
                <a:lnTo>
                  <a:pt x="5201" y="201"/>
                </a:lnTo>
                <a:lnTo>
                  <a:pt x="5203" y="196"/>
                </a:lnTo>
                <a:lnTo>
                  <a:pt x="5206" y="255"/>
                </a:lnTo>
                <a:lnTo>
                  <a:pt x="5209" y="325"/>
                </a:lnTo>
                <a:lnTo>
                  <a:pt x="5212" y="257"/>
                </a:lnTo>
                <a:lnTo>
                  <a:pt x="5214" y="259"/>
                </a:lnTo>
                <a:lnTo>
                  <a:pt x="5218" y="347"/>
                </a:lnTo>
                <a:lnTo>
                  <a:pt x="5221" y="228"/>
                </a:lnTo>
                <a:lnTo>
                  <a:pt x="5223" y="309"/>
                </a:lnTo>
                <a:lnTo>
                  <a:pt x="5227" y="185"/>
                </a:lnTo>
                <a:lnTo>
                  <a:pt x="5229" y="271"/>
                </a:lnTo>
                <a:lnTo>
                  <a:pt x="5232" y="309"/>
                </a:lnTo>
                <a:lnTo>
                  <a:pt x="5234" y="274"/>
                </a:lnTo>
                <a:lnTo>
                  <a:pt x="5238" y="407"/>
                </a:lnTo>
                <a:lnTo>
                  <a:pt x="5241" y="248"/>
                </a:lnTo>
                <a:lnTo>
                  <a:pt x="5243" y="368"/>
                </a:lnTo>
                <a:lnTo>
                  <a:pt x="5247" y="273"/>
                </a:lnTo>
                <a:lnTo>
                  <a:pt x="5249" y="212"/>
                </a:lnTo>
                <a:lnTo>
                  <a:pt x="5252" y="177"/>
                </a:lnTo>
                <a:lnTo>
                  <a:pt x="5254" y="298"/>
                </a:lnTo>
                <a:lnTo>
                  <a:pt x="5258" y="223"/>
                </a:lnTo>
                <a:lnTo>
                  <a:pt x="5260" y="255"/>
                </a:lnTo>
                <a:lnTo>
                  <a:pt x="5263" y="199"/>
                </a:lnTo>
                <a:lnTo>
                  <a:pt x="5267" y="316"/>
                </a:lnTo>
                <a:lnTo>
                  <a:pt x="5269" y="283"/>
                </a:lnTo>
                <a:lnTo>
                  <a:pt x="5272" y="378"/>
                </a:lnTo>
                <a:lnTo>
                  <a:pt x="5274" y="240"/>
                </a:lnTo>
                <a:lnTo>
                  <a:pt x="5278" y="245"/>
                </a:lnTo>
                <a:lnTo>
                  <a:pt x="5280" y="247"/>
                </a:lnTo>
                <a:lnTo>
                  <a:pt x="5283" y="329"/>
                </a:lnTo>
                <a:lnTo>
                  <a:pt x="5287" y="263"/>
                </a:lnTo>
                <a:lnTo>
                  <a:pt x="5289" y="358"/>
                </a:lnTo>
                <a:lnTo>
                  <a:pt x="5292" y="225"/>
                </a:lnTo>
                <a:lnTo>
                  <a:pt x="5295" y="240"/>
                </a:lnTo>
                <a:lnTo>
                  <a:pt x="5298" y="270"/>
                </a:lnTo>
                <a:lnTo>
                  <a:pt x="5300" y="206"/>
                </a:lnTo>
                <a:lnTo>
                  <a:pt x="5303" y="363"/>
                </a:lnTo>
                <a:lnTo>
                  <a:pt x="5307" y="142"/>
                </a:lnTo>
                <a:lnTo>
                  <a:pt x="5309" y="262"/>
                </a:lnTo>
                <a:lnTo>
                  <a:pt x="5312" y="250"/>
                </a:lnTo>
                <a:lnTo>
                  <a:pt x="5315" y="133"/>
                </a:lnTo>
                <a:lnTo>
                  <a:pt x="5318" y="167"/>
                </a:lnTo>
                <a:lnTo>
                  <a:pt x="5320" y="276"/>
                </a:lnTo>
                <a:lnTo>
                  <a:pt x="5324" y="262"/>
                </a:lnTo>
                <a:lnTo>
                  <a:pt x="5326" y="244"/>
                </a:lnTo>
                <a:lnTo>
                  <a:pt x="5329" y="265"/>
                </a:lnTo>
                <a:lnTo>
                  <a:pt x="5332" y="277"/>
                </a:lnTo>
                <a:lnTo>
                  <a:pt x="5335" y="214"/>
                </a:lnTo>
                <a:lnTo>
                  <a:pt x="5338" y="206"/>
                </a:lnTo>
                <a:lnTo>
                  <a:pt x="5340" y="289"/>
                </a:lnTo>
                <a:lnTo>
                  <a:pt x="5344" y="380"/>
                </a:lnTo>
                <a:lnTo>
                  <a:pt x="5346" y="129"/>
                </a:lnTo>
                <a:lnTo>
                  <a:pt x="5349" y="313"/>
                </a:lnTo>
                <a:lnTo>
                  <a:pt x="5353" y="292"/>
                </a:lnTo>
                <a:lnTo>
                  <a:pt x="5355" y="262"/>
                </a:lnTo>
                <a:lnTo>
                  <a:pt x="5358" y="164"/>
                </a:lnTo>
                <a:lnTo>
                  <a:pt x="5360" y="390"/>
                </a:lnTo>
                <a:lnTo>
                  <a:pt x="5364" y="187"/>
                </a:lnTo>
                <a:lnTo>
                  <a:pt x="5366" y="452"/>
                </a:lnTo>
                <a:lnTo>
                  <a:pt x="5369" y="245"/>
                </a:lnTo>
                <a:lnTo>
                  <a:pt x="5373" y="192"/>
                </a:lnTo>
                <a:lnTo>
                  <a:pt x="5375" y="300"/>
                </a:lnTo>
                <a:lnTo>
                  <a:pt x="5378" y="247"/>
                </a:lnTo>
                <a:lnTo>
                  <a:pt x="5380" y="257"/>
                </a:lnTo>
                <a:lnTo>
                  <a:pt x="5384" y="314"/>
                </a:lnTo>
                <a:lnTo>
                  <a:pt x="5386" y="292"/>
                </a:lnTo>
                <a:lnTo>
                  <a:pt x="5389" y="263"/>
                </a:lnTo>
                <a:lnTo>
                  <a:pt x="5392" y="359"/>
                </a:lnTo>
                <a:lnTo>
                  <a:pt x="5395" y="280"/>
                </a:lnTo>
                <a:lnTo>
                  <a:pt x="5398" y="345"/>
                </a:lnTo>
                <a:lnTo>
                  <a:pt x="5401" y="303"/>
                </a:lnTo>
                <a:lnTo>
                  <a:pt x="5404" y="332"/>
                </a:lnTo>
                <a:lnTo>
                  <a:pt x="5406" y="227"/>
                </a:lnTo>
                <a:lnTo>
                  <a:pt x="5409" y="399"/>
                </a:lnTo>
                <a:lnTo>
                  <a:pt x="5412" y="235"/>
                </a:lnTo>
                <a:lnTo>
                  <a:pt x="5415" y="243"/>
                </a:lnTo>
                <a:lnTo>
                  <a:pt x="5418" y="234"/>
                </a:lnTo>
                <a:lnTo>
                  <a:pt x="5421" y="301"/>
                </a:lnTo>
                <a:lnTo>
                  <a:pt x="5424" y="445"/>
                </a:lnTo>
                <a:lnTo>
                  <a:pt x="5426" y="365"/>
                </a:lnTo>
                <a:lnTo>
                  <a:pt x="5430" y="223"/>
                </a:lnTo>
                <a:lnTo>
                  <a:pt x="5432" y="194"/>
                </a:lnTo>
                <a:lnTo>
                  <a:pt x="5435" y="183"/>
                </a:lnTo>
                <a:lnTo>
                  <a:pt x="5438" y="260"/>
                </a:lnTo>
                <a:lnTo>
                  <a:pt x="5441" y="227"/>
                </a:lnTo>
                <a:lnTo>
                  <a:pt x="5444" y="311"/>
                </a:lnTo>
                <a:lnTo>
                  <a:pt x="5446" y="220"/>
                </a:lnTo>
                <a:lnTo>
                  <a:pt x="5450" y="267"/>
                </a:lnTo>
                <a:lnTo>
                  <a:pt x="5452" y="372"/>
                </a:lnTo>
                <a:lnTo>
                  <a:pt x="5455" y="274"/>
                </a:lnTo>
                <a:lnTo>
                  <a:pt x="5457" y="285"/>
                </a:lnTo>
                <a:lnTo>
                  <a:pt x="5461" y="243"/>
                </a:lnTo>
                <a:lnTo>
                  <a:pt x="5464" y="238"/>
                </a:lnTo>
                <a:lnTo>
                  <a:pt x="5466" y="213"/>
                </a:lnTo>
                <a:lnTo>
                  <a:pt x="5470" y="349"/>
                </a:lnTo>
                <a:lnTo>
                  <a:pt x="5472" y="174"/>
                </a:lnTo>
                <a:lnTo>
                  <a:pt x="5475" y="271"/>
                </a:lnTo>
                <a:lnTo>
                  <a:pt x="5478" y="394"/>
                </a:lnTo>
                <a:lnTo>
                  <a:pt x="5481" y="319"/>
                </a:lnTo>
                <a:lnTo>
                  <a:pt x="5484" y="347"/>
                </a:lnTo>
                <a:lnTo>
                  <a:pt x="5486" y="234"/>
                </a:lnTo>
                <a:lnTo>
                  <a:pt x="5490" y="383"/>
                </a:lnTo>
                <a:lnTo>
                  <a:pt x="5492" y="279"/>
                </a:lnTo>
                <a:lnTo>
                  <a:pt x="5495" y="315"/>
                </a:lnTo>
                <a:lnTo>
                  <a:pt x="5498" y="227"/>
                </a:lnTo>
                <a:lnTo>
                  <a:pt x="5501" y="367"/>
                </a:lnTo>
                <a:lnTo>
                  <a:pt x="5504" y="154"/>
                </a:lnTo>
                <a:lnTo>
                  <a:pt x="5507" y="261"/>
                </a:lnTo>
                <a:lnTo>
                  <a:pt x="5510" y="342"/>
                </a:lnTo>
                <a:lnTo>
                  <a:pt x="5512" y="305"/>
                </a:lnTo>
                <a:lnTo>
                  <a:pt x="5515" y="337"/>
                </a:lnTo>
                <a:lnTo>
                  <a:pt x="5518" y="324"/>
                </a:lnTo>
                <a:lnTo>
                  <a:pt x="5521" y="232"/>
                </a:lnTo>
                <a:lnTo>
                  <a:pt x="5524" y="179"/>
                </a:lnTo>
                <a:lnTo>
                  <a:pt x="5527" y="323"/>
                </a:lnTo>
                <a:lnTo>
                  <a:pt x="5530" y="187"/>
                </a:lnTo>
                <a:lnTo>
                  <a:pt x="5532" y="364"/>
                </a:lnTo>
                <a:lnTo>
                  <a:pt x="5536" y="272"/>
                </a:lnTo>
                <a:lnTo>
                  <a:pt x="5538" y="245"/>
                </a:lnTo>
                <a:lnTo>
                  <a:pt x="5541" y="191"/>
                </a:lnTo>
                <a:lnTo>
                  <a:pt x="5543" y="261"/>
                </a:lnTo>
                <a:lnTo>
                  <a:pt x="5547" y="264"/>
                </a:lnTo>
                <a:lnTo>
                  <a:pt x="5550" y="367"/>
                </a:lnTo>
                <a:lnTo>
                  <a:pt x="5552" y="364"/>
                </a:lnTo>
                <a:lnTo>
                  <a:pt x="5556" y="286"/>
                </a:lnTo>
                <a:lnTo>
                  <a:pt x="5558" y="224"/>
                </a:lnTo>
                <a:lnTo>
                  <a:pt x="5561" y="57"/>
                </a:lnTo>
                <a:lnTo>
                  <a:pt x="5563" y="222"/>
                </a:lnTo>
                <a:lnTo>
                  <a:pt x="5567" y="311"/>
                </a:lnTo>
                <a:lnTo>
                  <a:pt x="5570" y="236"/>
                </a:lnTo>
                <a:lnTo>
                  <a:pt x="5572" y="222"/>
                </a:lnTo>
                <a:lnTo>
                  <a:pt x="5576" y="206"/>
                </a:lnTo>
                <a:lnTo>
                  <a:pt x="5578" y="222"/>
                </a:lnTo>
                <a:lnTo>
                  <a:pt x="5581" y="305"/>
                </a:lnTo>
                <a:lnTo>
                  <a:pt x="5583" y="375"/>
                </a:lnTo>
                <a:lnTo>
                  <a:pt x="5587" y="403"/>
                </a:lnTo>
                <a:lnTo>
                  <a:pt x="5590" y="142"/>
                </a:lnTo>
                <a:lnTo>
                  <a:pt x="5592" y="261"/>
                </a:lnTo>
                <a:lnTo>
                  <a:pt x="5596" y="437"/>
                </a:lnTo>
                <a:lnTo>
                  <a:pt x="5598" y="211"/>
                </a:lnTo>
                <a:lnTo>
                  <a:pt x="5601" y="276"/>
                </a:lnTo>
                <a:lnTo>
                  <a:pt x="5604" y="248"/>
                </a:lnTo>
                <a:lnTo>
                  <a:pt x="5607" y="343"/>
                </a:lnTo>
                <a:lnTo>
                  <a:pt x="5609" y="266"/>
                </a:lnTo>
                <a:lnTo>
                  <a:pt x="5612" y="247"/>
                </a:lnTo>
                <a:lnTo>
                  <a:pt x="5616" y="137"/>
                </a:lnTo>
                <a:lnTo>
                  <a:pt x="5618" y="224"/>
                </a:lnTo>
                <a:lnTo>
                  <a:pt x="5621" y="252"/>
                </a:lnTo>
                <a:lnTo>
                  <a:pt x="5624" y="398"/>
                </a:lnTo>
                <a:lnTo>
                  <a:pt x="5627" y="283"/>
                </a:lnTo>
                <a:lnTo>
                  <a:pt x="5629" y="231"/>
                </a:lnTo>
                <a:lnTo>
                  <a:pt x="5633" y="241"/>
                </a:lnTo>
                <a:lnTo>
                  <a:pt x="5636" y="233"/>
                </a:lnTo>
                <a:lnTo>
                  <a:pt x="5638" y="217"/>
                </a:lnTo>
                <a:lnTo>
                  <a:pt x="5641" y="248"/>
                </a:lnTo>
                <a:lnTo>
                  <a:pt x="5644" y="362"/>
                </a:lnTo>
                <a:lnTo>
                  <a:pt x="5647" y="188"/>
                </a:lnTo>
                <a:lnTo>
                  <a:pt x="5649" y="294"/>
                </a:lnTo>
                <a:lnTo>
                  <a:pt x="5653" y="309"/>
                </a:lnTo>
                <a:lnTo>
                  <a:pt x="5656" y="199"/>
                </a:lnTo>
                <a:lnTo>
                  <a:pt x="5658" y="208"/>
                </a:lnTo>
                <a:lnTo>
                  <a:pt x="5662" y="309"/>
                </a:lnTo>
                <a:lnTo>
                  <a:pt x="5664" y="185"/>
                </a:lnTo>
                <a:lnTo>
                  <a:pt x="5667" y="368"/>
                </a:lnTo>
                <a:lnTo>
                  <a:pt x="5669" y="259"/>
                </a:lnTo>
                <a:lnTo>
                  <a:pt x="5673" y="204"/>
                </a:lnTo>
                <a:lnTo>
                  <a:pt x="5675" y="379"/>
                </a:lnTo>
                <a:lnTo>
                  <a:pt x="5678" y="350"/>
                </a:lnTo>
                <a:lnTo>
                  <a:pt x="5682" y="220"/>
                </a:lnTo>
                <a:lnTo>
                  <a:pt x="5684" y="285"/>
                </a:lnTo>
                <a:lnTo>
                  <a:pt x="5687" y="313"/>
                </a:lnTo>
                <a:lnTo>
                  <a:pt x="5689" y="208"/>
                </a:lnTo>
                <a:lnTo>
                  <a:pt x="5693" y="156"/>
                </a:lnTo>
                <a:lnTo>
                  <a:pt x="5695" y="168"/>
                </a:lnTo>
                <a:lnTo>
                  <a:pt x="5698" y="341"/>
                </a:lnTo>
                <a:lnTo>
                  <a:pt x="5702" y="284"/>
                </a:lnTo>
                <a:lnTo>
                  <a:pt x="5704" y="329"/>
                </a:lnTo>
                <a:lnTo>
                  <a:pt x="5707" y="123"/>
                </a:lnTo>
                <a:lnTo>
                  <a:pt x="5710" y="321"/>
                </a:lnTo>
                <a:lnTo>
                  <a:pt x="5713" y="191"/>
                </a:lnTo>
                <a:lnTo>
                  <a:pt x="5715" y="309"/>
                </a:lnTo>
                <a:lnTo>
                  <a:pt x="5718" y="256"/>
                </a:lnTo>
                <a:lnTo>
                  <a:pt x="5722" y="166"/>
                </a:lnTo>
                <a:lnTo>
                  <a:pt x="5724" y="370"/>
                </a:lnTo>
                <a:lnTo>
                  <a:pt x="5727" y="355"/>
                </a:lnTo>
                <a:lnTo>
                  <a:pt x="5730" y="203"/>
                </a:lnTo>
                <a:lnTo>
                  <a:pt x="5733" y="308"/>
                </a:lnTo>
                <a:lnTo>
                  <a:pt x="5735" y="274"/>
                </a:lnTo>
                <a:lnTo>
                  <a:pt x="5739" y="283"/>
                </a:lnTo>
                <a:lnTo>
                  <a:pt x="5741" y="253"/>
                </a:lnTo>
                <a:lnTo>
                  <a:pt x="5744" y="186"/>
                </a:lnTo>
                <a:lnTo>
                  <a:pt x="5747" y="238"/>
                </a:lnTo>
                <a:lnTo>
                  <a:pt x="5750" y="248"/>
                </a:lnTo>
                <a:lnTo>
                  <a:pt x="5753" y="248"/>
                </a:lnTo>
                <a:lnTo>
                  <a:pt x="5755" y="196"/>
                </a:lnTo>
                <a:lnTo>
                  <a:pt x="5759" y="272"/>
                </a:lnTo>
                <a:lnTo>
                  <a:pt x="5761" y="235"/>
                </a:lnTo>
                <a:lnTo>
                  <a:pt x="5764" y="282"/>
                </a:lnTo>
                <a:lnTo>
                  <a:pt x="5768" y="314"/>
                </a:lnTo>
                <a:lnTo>
                  <a:pt x="5770" y="220"/>
                </a:lnTo>
                <a:lnTo>
                  <a:pt x="5773" y="232"/>
                </a:lnTo>
                <a:lnTo>
                  <a:pt x="5775" y="335"/>
                </a:lnTo>
                <a:lnTo>
                  <a:pt x="5779" y="182"/>
                </a:lnTo>
                <a:lnTo>
                  <a:pt x="5781" y="262"/>
                </a:lnTo>
                <a:lnTo>
                  <a:pt x="5784" y="334"/>
                </a:lnTo>
                <a:lnTo>
                  <a:pt x="5788" y="315"/>
                </a:lnTo>
                <a:lnTo>
                  <a:pt x="5790" y="235"/>
                </a:lnTo>
                <a:lnTo>
                  <a:pt x="5793" y="209"/>
                </a:lnTo>
                <a:lnTo>
                  <a:pt x="5795" y="270"/>
                </a:lnTo>
                <a:lnTo>
                  <a:pt x="5799" y="264"/>
                </a:lnTo>
                <a:lnTo>
                  <a:pt x="5801" y="349"/>
                </a:lnTo>
                <a:lnTo>
                  <a:pt x="5804" y="221"/>
                </a:lnTo>
                <a:lnTo>
                  <a:pt x="5807" y="306"/>
                </a:lnTo>
                <a:lnTo>
                  <a:pt x="5810" y="293"/>
                </a:lnTo>
                <a:lnTo>
                  <a:pt x="5813" y="224"/>
                </a:lnTo>
                <a:lnTo>
                  <a:pt x="5816" y="240"/>
                </a:lnTo>
                <a:lnTo>
                  <a:pt x="5819" y="232"/>
                </a:lnTo>
                <a:lnTo>
                  <a:pt x="5821" y="270"/>
                </a:lnTo>
                <a:lnTo>
                  <a:pt x="5824" y="305"/>
                </a:lnTo>
                <a:lnTo>
                  <a:pt x="5827" y="270"/>
                </a:lnTo>
                <a:lnTo>
                  <a:pt x="5830" y="276"/>
                </a:lnTo>
                <a:lnTo>
                  <a:pt x="5833" y="153"/>
                </a:lnTo>
                <a:lnTo>
                  <a:pt x="5836" y="191"/>
                </a:lnTo>
                <a:lnTo>
                  <a:pt x="5839" y="279"/>
                </a:lnTo>
                <a:lnTo>
                  <a:pt x="5841" y="269"/>
                </a:lnTo>
                <a:lnTo>
                  <a:pt x="5845" y="304"/>
                </a:lnTo>
                <a:lnTo>
                  <a:pt x="5847" y="247"/>
                </a:lnTo>
                <a:lnTo>
                  <a:pt x="5850" y="223"/>
                </a:lnTo>
                <a:lnTo>
                  <a:pt x="5853" y="429"/>
                </a:lnTo>
                <a:lnTo>
                  <a:pt x="5856" y="362"/>
                </a:lnTo>
                <a:lnTo>
                  <a:pt x="5859" y="3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rot="16200000">
            <a:off x="1086480" y="4110480"/>
            <a:ext cx="282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-54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723960" y="743760"/>
            <a:ext cx="763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romediando, por ejemplo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215 espect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e obtiene la siguiente gráfic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ED7-E0D4-4906-92E5-FC336E0D3193}" type="slidenum">
              <a:t>78</a:t>
            </a:fld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723960" y="743760"/>
            <a:ext cx="7635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romediando hipotética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finitos espect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obtendríamos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3" name=""/>
          <p:cNvGrpSpPr/>
          <p:nvPr/>
        </p:nvGrpSpPr>
        <p:grpSpPr>
          <a:xfrm>
            <a:off x="1087560" y="3333600"/>
            <a:ext cx="6737400" cy="2414880"/>
            <a:chOff x="1087560" y="3333600"/>
            <a:chExt cx="6737400" cy="2414880"/>
          </a:xfrm>
        </p:grpSpPr>
        <p:sp>
          <p:nvSpPr>
            <p:cNvPr id="2224" name=""/>
            <p:cNvSpPr/>
            <p:nvPr/>
          </p:nvSpPr>
          <p:spPr>
            <a:xfrm>
              <a:off x="1770120" y="5273640"/>
              <a:ext cx="85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597720" y="5273640"/>
              <a:ext cx="4683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2480" y="5273640"/>
              <a:ext cx="4651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884320" y="5273640"/>
              <a:ext cx="3812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343480" y="5273640"/>
              <a:ext cx="4669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82088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07512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32288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7388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824520" y="5167440"/>
              <a:ext cx="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7324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3223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5732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224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07512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32424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5733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82284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0734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3228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5720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243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0734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3244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5738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8230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07212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3244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5739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82452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07400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32312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57548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824960" y="5167440"/>
              <a:ext cx="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820880" y="3333600"/>
              <a:ext cx="6004080" cy="1833840"/>
            </a:xfrm>
            <a:custGeom>
              <a:avLst/>
              <a:gdLst/>
              <a:ahLst/>
              <a:rect l="l" t="t" r="r" b="b"/>
              <a:pathLst>
                <a:path w="6380" h="2403">
                  <a:moveTo>
                    <a:pt x="0" y="240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380" y="0"/>
                  </a:lnTo>
                  <a:lnTo>
                    <a:pt x="6380" y="2403"/>
                  </a:lnTo>
                  <a:lnTo>
                    <a:pt x="6380" y="2403"/>
                  </a:lnTo>
                  <a:lnTo>
                    <a:pt x="0" y="24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419720" y="5524560"/>
              <a:ext cx="8064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  (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604880" y="5079960"/>
              <a:ext cx="874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320840" y="3408480"/>
              <a:ext cx="3808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320840" y="4246560"/>
              <a:ext cx="3808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317600" y="4664160"/>
              <a:ext cx="38412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320840" y="3827520"/>
              <a:ext cx="3808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>
              <a:off x="1740960" y="516564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1740960" y="474984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1740960" y="433080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1740960" y="39117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1740960" y="3494160"/>
              <a:ext cx="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rot="16200000">
              <a:off x="1086480" y="4110480"/>
              <a:ext cx="2826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814400" y="4508640"/>
              <a:ext cx="551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A87-25D2-4A6F-B0CB-440782AB5782}" type="slidenum">
              <a:t>79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4200" y="233604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ueden clasificarse en señale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inu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cre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184-1811-4A4E-AEAD-FD775A06EA4A}" type="slidenum">
              <a:t>8</a:t>
            </a:fld>
          </a:p>
        </p:txBody>
      </p:sp>
    </p:spTree>
  </p:cSld>
  <p:transition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"/>
          <p:cNvSpPr/>
          <p:nvPr/>
        </p:nvSpPr>
        <p:spPr>
          <a:xfrm>
            <a:off x="1014480" y="747000"/>
            <a:ext cx="7115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ruido blanco anterior tiene, además, distribución estadística de amplitud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gaussi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1887480" y="3247920"/>
                <a:ext cx="536904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6E8-D01B-4F8B-B1DE-A640F0B820A6}" type="slidenum">
              <a:t>80</a:t>
            </a:fld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7" name=""/>
          <p:cNvGrpSpPr/>
          <p:nvPr/>
        </p:nvGrpSpPr>
        <p:grpSpPr>
          <a:xfrm>
            <a:off x="1166760" y="1957320"/>
            <a:ext cx="6810120" cy="2949120"/>
            <a:chOff x="1166760" y="1957320"/>
            <a:chExt cx="6810120" cy="2949120"/>
          </a:xfrm>
        </p:grpSpPr>
        <p:sp>
          <p:nvSpPr>
            <p:cNvPr id="2278" name=""/>
            <p:cNvSpPr/>
            <p:nvPr/>
          </p:nvSpPr>
          <p:spPr>
            <a:xfrm>
              <a:off x="1166760" y="4495680"/>
              <a:ext cx="65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9" name=""/>
            <p:cNvGrpSpPr/>
            <p:nvPr/>
          </p:nvGrpSpPr>
          <p:grpSpPr>
            <a:xfrm>
              <a:off x="1726200" y="2803320"/>
              <a:ext cx="5446440" cy="1692360"/>
              <a:chOff x="1726200" y="2803320"/>
              <a:chExt cx="5446440" cy="1692360"/>
            </a:xfrm>
          </p:grpSpPr>
          <p:sp>
            <p:nvSpPr>
              <p:cNvPr id="2280" name=""/>
              <p:cNvSpPr/>
              <p:nvPr/>
            </p:nvSpPr>
            <p:spPr>
              <a:xfrm>
                <a:off x="1726200" y="2803320"/>
                <a:ext cx="2721960" cy="1692360"/>
              </a:xfrm>
              <a:custGeom>
                <a:avLst/>
                <a:gdLst/>
                <a:ahLst/>
                <a:rect l="l" t="t" r="r" b="b"/>
                <a:pathLst>
                  <a:path w="2151" h="1338">
                    <a:moveTo>
                      <a:pt x="0" y="1338"/>
                    </a:moveTo>
                    <a:lnTo>
                      <a:pt x="312" y="1338"/>
                    </a:lnTo>
                    <a:lnTo>
                      <a:pt x="449" y="1335"/>
                    </a:lnTo>
                    <a:lnTo>
                      <a:pt x="556" y="1329"/>
                    </a:lnTo>
                    <a:lnTo>
                      <a:pt x="701" y="1320"/>
                    </a:lnTo>
                    <a:lnTo>
                      <a:pt x="842" y="1302"/>
                    </a:lnTo>
                    <a:lnTo>
                      <a:pt x="966" y="1272"/>
                    </a:lnTo>
                    <a:lnTo>
                      <a:pt x="1039" y="1245"/>
                    </a:lnTo>
                    <a:lnTo>
                      <a:pt x="1108" y="1212"/>
                    </a:lnTo>
                    <a:lnTo>
                      <a:pt x="1176" y="1167"/>
                    </a:lnTo>
                    <a:lnTo>
                      <a:pt x="1244" y="1116"/>
                    </a:lnTo>
                    <a:lnTo>
                      <a:pt x="1330" y="1038"/>
                    </a:lnTo>
                    <a:lnTo>
                      <a:pt x="1394" y="963"/>
                    </a:lnTo>
                    <a:lnTo>
                      <a:pt x="1475" y="849"/>
                    </a:lnTo>
                    <a:lnTo>
                      <a:pt x="1552" y="735"/>
                    </a:lnTo>
                    <a:lnTo>
                      <a:pt x="1621" y="627"/>
                    </a:lnTo>
                    <a:lnTo>
                      <a:pt x="1693" y="504"/>
                    </a:lnTo>
                    <a:lnTo>
                      <a:pt x="1758" y="396"/>
                    </a:lnTo>
                    <a:lnTo>
                      <a:pt x="1813" y="306"/>
                    </a:lnTo>
                    <a:lnTo>
                      <a:pt x="1862" y="234"/>
                    </a:lnTo>
                    <a:lnTo>
                      <a:pt x="1912" y="165"/>
                    </a:lnTo>
                    <a:lnTo>
                      <a:pt x="1967" y="102"/>
                    </a:lnTo>
                    <a:lnTo>
                      <a:pt x="2018" y="54"/>
                    </a:lnTo>
                    <a:lnTo>
                      <a:pt x="2061" y="24"/>
                    </a:lnTo>
                    <a:lnTo>
                      <a:pt x="2117" y="3"/>
                    </a:lnTo>
                    <a:lnTo>
                      <a:pt x="2151" y="0"/>
                    </a:ln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450680" y="2803320"/>
                <a:ext cx="2721960" cy="1692360"/>
              </a:xfrm>
              <a:custGeom>
                <a:avLst/>
                <a:gdLst/>
                <a:ahLst/>
                <a:rect l="l" t="t" r="r" b="b"/>
                <a:pathLst>
                  <a:path w="1509" h="1338">
                    <a:moveTo>
                      <a:pt x="1509" y="1338"/>
                    </a:moveTo>
                    <a:lnTo>
                      <a:pt x="1290" y="1338"/>
                    </a:lnTo>
                    <a:lnTo>
                      <a:pt x="1194" y="1335"/>
                    </a:lnTo>
                    <a:lnTo>
                      <a:pt x="1119" y="1329"/>
                    </a:lnTo>
                    <a:lnTo>
                      <a:pt x="1017" y="1320"/>
                    </a:lnTo>
                    <a:lnTo>
                      <a:pt x="918" y="1302"/>
                    </a:lnTo>
                    <a:lnTo>
                      <a:pt x="831" y="1272"/>
                    </a:lnTo>
                    <a:lnTo>
                      <a:pt x="780" y="1245"/>
                    </a:lnTo>
                    <a:lnTo>
                      <a:pt x="732" y="1212"/>
                    </a:lnTo>
                    <a:lnTo>
                      <a:pt x="684" y="1167"/>
                    </a:lnTo>
                    <a:lnTo>
                      <a:pt x="636" y="1116"/>
                    </a:lnTo>
                    <a:lnTo>
                      <a:pt x="576" y="1038"/>
                    </a:lnTo>
                    <a:lnTo>
                      <a:pt x="531" y="963"/>
                    </a:lnTo>
                    <a:lnTo>
                      <a:pt x="474" y="849"/>
                    </a:lnTo>
                    <a:lnTo>
                      <a:pt x="420" y="735"/>
                    </a:lnTo>
                    <a:lnTo>
                      <a:pt x="372" y="627"/>
                    </a:lnTo>
                    <a:lnTo>
                      <a:pt x="323" y="507"/>
                    </a:lnTo>
                    <a:lnTo>
                      <a:pt x="276" y="396"/>
                    </a:lnTo>
                    <a:lnTo>
                      <a:pt x="237" y="306"/>
                    </a:lnTo>
                    <a:lnTo>
                      <a:pt x="204" y="234"/>
                    </a:lnTo>
                    <a:lnTo>
                      <a:pt x="168" y="165"/>
                    </a:lnTo>
                    <a:lnTo>
                      <a:pt x="129" y="102"/>
                    </a:lnTo>
                    <a:lnTo>
                      <a:pt x="93" y="54"/>
                    </a:lnTo>
                    <a:lnTo>
                      <a:pt x="63" y="24"/>
                    </a:lnTo>
                    <a:lnTo>
                      <a:pt x="24" y="3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 flipV="1">
              <a:off x="4446360" y="2261160"/>
              <a:ext cx="0" cy="23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212000" y="1957320"/>
              <a:ext cx="4928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57200" y="4365720"/>
              <a:ext cx="31968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837600" y="3509640"/>
              <a:ext cx="122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812840" y="4489200"/>
              <a:ext cx="49284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547800" y="4484520"/>
              <a:ext cx="494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480920" y="2559960"/>
              <a:ext cx="8373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0,399/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191560" y="3380760"/>
              <a:ext cx="8060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0,242/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600" spc="-1" strike="noStrike" baseline="-25000">
                  <a:solidFill>
                    <a:srgbClr val="000000"/>
                  </a:solidFill>
                  <a:latin typeface="Times New Roman"/>
                </a:rPr>
                <a:t>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V="1">
              <a:off x="5062680" y="3507120"/>
              <a:ext cx="0" cy="9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3833280" y="3507120"/>
              <a:ext cx="0" cy="98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399-6B29-4D9D-8E0F-2901E582B04C}" type="slidenum">
              <a:t>81</a:t>
            </a:fld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2" name="" descr=""/>
          <p:cNvPicPr/>
          <p:nvPr/>
        </p:nvPicPr>
        <p:blipFill>
          <a:blip r:embed="rId2"/>
          <a:srcRect l="0" t="0" r="0" b="48929"/>
          <a:stretch/>
        </p:blipFill>
        <p:spPr>
          <a:xfrm>
            <a:off x="387360" y="2395440"/>
            <a:ext cx="8367840" cy="3765600"/>
          </a:xfrm>
          <a:prstGeom prst="rect">
            <a:avLst/>
          </a:prstGeom>
          <a:ln w="0">
            <a:noFill/>
          </a:ln>
        </p:spPr>
      </p:pic>
      <p:sp>
        <p:nvSpPr>
          <p:cNvPr id="2293" name=""/>
          <p:cNvSpPr/>
          <p:nvPr/>
        </p:nvSpPr>
        <p:spPr>
          <a:xfrm>
            <a:off x="1014480" y="645480"/>
            <a:ext cx="71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interpretación es la siguien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4179960" y="4135320"/>
            <a:ext cx="363600" cy="725760"/>
          </a:xfrm>
          <a:custGeom>
            <a:avLst/>
            <a:gdLst/>
            <a:ahLst/>
            <a:rect l="l" t="t" r="r" b="b"/>
            <a:pathLst>
              <a:path w="183" h="457">
                <a:moveTo>
                  <a:pt x="0" y="0"/>
                </a:moveTo>
                <a:lnTo>
                  <a:pt x="183" y="0"/>
                </a:lnTo>
                <a:lnTo>
                  <a:pt x="183" y="457"/>
                </a:ln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4017960" y="4822920"/>
            <a:ext cx="103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Arial"/>
              </a:rPr>
              <a:t>Valores muy prob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4179960" y="2785320"/>
            <a:ext cx="363600" cy="420840"/>
          </a:xfrm>
          <a:custGeom>
            <a:avLst/>
            <a:gdLst/>
            <a:ahLst/>
            <a:rect l="l" t="t" r="r" b="b"/>
            <a:pathLst>
              <a:path w="183" h="457">
                <a:moveTo>
                  <a:pt x="0" y="0"/>
                </a:moveTo>
                <a:lnTo>
                  <a:pt x="183" y="0"/>
                </a:lnTo>
                <a:lnTo>
                  <a:pt x="183" y="457"/>
                </a:ln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3713040" y="2298960"/>
            <a:ext cx="164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99"/>
                </a:solidFill>
                <a:latin typeface="Arial"/>
              </a:rPr>
              <a:t>Valores muy poco prob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262-E78A-4C22-961A-806B9764D8EF}" type="slidenum">
              <a:t>82</a:t>
            </a:fld>
          </a:p>
        </p:txBody>
      </p:sp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/>
          <p:nvPr/>
        </p:nvSpPr>
        <p:spPr>
          <a:xfrm>
            <a:off x="754200" y="125172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tro ruido muy famoso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ros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aracterizado por tener espectro 1/</a:t>
            </a:r>
            <a:r>
              <a:rPr b="1" i="1" lang="es-ES_tradnl" sz="4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3230640" y="3784680"/>
                <a:ext cx="2682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555-48E4-46D6-A1FC-3DF05E70BE25}" type="slidenum">
              <a:t>83</a:t>
            </a:fld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utiliza mucho porque tien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 valor efica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todas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de octav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o de tercio de octav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E41-484A-4B99-AD6D-FA37E87B5FB8}" type="slidenum">
              <a:t>84</a:t>
            </a:fld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5" name=""/>
          <p:cNvGrpSpPr/>
          <p:nvPr/>
        </p:nvGrpSpPr>
        <p:grpSpPr>
          <a:xfrm>
            <a:off x="1320840" y="777960"/>
            <a:ext cx="4664520" cy="5291280"/>
            <a:chOff x="1320840" y="777960"/>
            <a:chExt cx="4664520" cy="5291280"/>
          </a:xfrm>
        </p:grpSpPr>
        <p:sp>
          <p:nvSpPr>
            <p:cNvPr id="2306" name=""/>
            <p:cNvSpPr/>
            <p:nvPr/>
          </p:nvSpPr>
          <p:spPr>
            <a:xfrm>
              <a:off x="1712520" y="2146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705280" y="21463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43180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24288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5252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86216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03004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83644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4788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45752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266800" y="21463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75428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16072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56536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97036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37644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78144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18608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9108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99572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40072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07160" y="208908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75428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9573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1607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3623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5653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7669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9703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17340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37644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57840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78144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98304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8608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38768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59108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7941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9957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1991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40072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6037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807160" y="208908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552680" y="19987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580760" y="7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567240" y="2313000"/>
              <a:ext cx="39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[s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758960" y="857160"/>
              <a:ext cx="4051440" cy="122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57932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554120" y="16794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579320" y="1069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1703160" y="208440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1703160" y="177804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1703160" y="147168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1703160" y="116532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703160" y="858960"/>
              <a:ext cx="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1730520" y="208440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1730520" y="193212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>
              <a:off x="1730520" y="177804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1730520" y="162576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1730520" y="147168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1730520" y="131904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>
              <a:off x="1730520" y="116532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1730520" y="101268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1730520" y="85896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 rot="16200000">
              <a:off x="1346040" y="1277280"/>
              <a:ext cx="249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55720" y="1006560"/>
              <a:ext cx="4052880" cy="919080"/>
            </a:xfrm>
            <a:custGeom>
              <a:avLst/>
              <a:gdLst/>
              <a:ahLst/>
              <a:rect l="l" t="t" r="r" b="b"/>
              <a:pathLst>
                <a:path w="6380" h="1281">
                  <a:moveTo>
                    <a:pt x="0" y="658"/>
                  </a:moveTo>
                  <a:lnTo>
                    <a:pt x="1" y="615"/>
                  </a:lnTo>
                  <a:lnTo>
                    <a:pt x="3" y="715"/>
                  </a:lnTo>
                  <a:lnTo>
                    <a:pt x="5" y="822"/>
                  </a:lnTo>
                  <a:lnTo>
                    <a:pt x="6" y="875"/>
                  </a:lnTo>
                  <a:lnTo>
                    <a:pt x="8" y="848"/>
                  </a:lnTo>
                  <a:lnTo>
                    <a:pt x="9" y="826"/>
                  </a:lnTo>
                  <a:lnTo>
                    <a:pt x="10" y="764"/>
                  </a:lnTo>
                  <a:lnTo>
                    <a:pt x="11" y="903"/>
                  </a:lnTo>
                  <a:lnTo>
                    <a:pt x="14" y="863"/>
                  </a:lnTo>
                  <a:lnTo>
                    <a:pt x="15" y="592"/>
                  </a:lnTo>
                  <a:lnTo>
                    <a:pt x="16" y="708"/>
                  </a:lnTo>
                  <a:lnTo>
                    <a:pt x="18" y="724"/>
                  </a:lnTo>
                  <a:lnTo>
                    <a:pt x="19" y="658"/>
                  </a:lnTo>
                  <a:lnTo>
                    <a:pt x="20" y="640"/>
                  </a:lnTo>
                  <a:lnTo>
                    <a:pt x="22" y="824"/>
                  </a:lnTo>
                  <a:lnTo>
                    <a:pt x="24" y="716"/>
                  </a:lnTo>
                  <a:lnTo>
                    <a:pt x="25" y="805"/>
                  </a:lnTo>
                  <a:lnTo>
                    <a:pt x="26" y="872"/>
                  </a:lnTo>
                  <a:lnTo>
                    <a:pt x="28" y="749"/>
                  </a:lnTo>
                  <a:lnTo>
                    <a:pt x="29" y="737"/>
                  </a:lnTo>
                  <a:lnTo>
                    <a:pt x="30" y="958"/>
                  </a:lnTo>
                  <a:lnTo>
                    <a:pt x="32" y="988"/>
                  </a:lnTo>
                  <a:lnTo>
                    <a:pt x="34" y="965"/>
                  </a:lnTo>
                  <a:lnTo>
                    <a:pt x="35" y="880"/>
                  </a:lnTo>
                  <a:lnTo>
                    <a:pt x="37" y="985"/>
                  </a:lnTo>
                  <a:lnTo>
                    <a:pt x="38" y="1053"/>
                  </a:lnTo>
                  <a:lnTo>
                    <a:pt x="39" y="921"/>
                  </a:lnTo>
                  <a:lnTo>
                    <a:pt x="40" y="864"/>
                  </a:lnTo>
                  <a:lnTo>
                    <a:pt x="43" y="813"/>
                  </a:lnTo>
                  <a:lnTo>
                    <a:pt x="44" y="678"/>
                  </a:lnTo>
                  <a:lnTo>
                    <a:pt x="45" y="561"/>
                  </a:lnTo>
                  <a:lnTo>
                    <a:pt x="47" y="578"/>
                  </a:lnTo>
                  <a:lnTo>
                    <a:pt x="48" y="579"/>
                  </a:lnTo>
                  <a:lnTo>
                    <a:pt x="49" y="566"/>
                  </a:lnTo>
                  <a:lnTo>
                    <a:pt x="51" y="823"/>
                  </a:lnTo>
                  <a:lnTo>
                    <a:pt x="53" y="1008"/>
                  </a:lnTo>
                  <a:lnTo>
                    <a:pt x="54" y="822"/>
                  </a:lnTo>
                  <a:lnTo>
                    <a:pt x="55" y="574"/>
                  </a:lnTo>
                  <a:lnTo>
                    <a:pt x="57" y="660"/>
                  </a:lnTo>
                  <a:lnTo>
                    <a:pt x="58" y="776"/>
                  </a:lnTo>
                  <a:lnTo>
                    <a:pt x="59" y="703"/>
                  </a:lnTo>
                  <a:lnTo>
                    <a:pt x="61" y="695"/>
                  </a:lnTo>
                  <a:lnTo>
                    <a:pt x="63" y="641"/>
                  </a:lnTo>
                  <a:lnTo>
                    <a:pt x="64" y="715"/>
                  </a:lnTo>
                  <a:lnTo>
                    <a:pt x="65" y="661"/>
                  </a:lnTo>
                  <a:lnTo>
                    <a:pt x="67" y="723"/>
                  </a:lnTo>
                  <a:lnTo>
                    <a:pt x="68" y="690"/>
                  </a:lnTo>
                  <a:lnTo>
                    <a:pt x="69" y="580"/>
                  </a:lnTo>
                  <a:lnTo>
                    <a:pt x="72" y="959"/>
                  </a:lnTo>
                  <a:lnTo>
                    <a:pt x="73" y="880"/>
                  </a:lnTo>
                  <a:lnTo>
                    <a:pt x="74" y="722"/>
                  </a:lnTo>
                  <a:lnTo>
                    <a:pt x="76" y="640"/>
                  </a:lnTo>
                  <a:lnTo>
                    <a:pt x="77" y="707"/>
                  </a:lnTo>
                  <a:lnTo>
                    <a:pt x="78" y="648"/>
                  </a:lnTo>
                  <a:lnTo>
                    <a:pt x="79" y="793"/>
                  </a:lnTo>
                  <a:lnTo>
                    <a:pt x="82" y="668"/>
                  </a:lnTo>
                  <a:lnTo>
                    <a:pt x="83" y="626"/>
                  </a:lnTo>
                  <a:lnTo>
                    <a:pt x="84" y="577"/>
                  </a:lnTo>
                  <a:lnTo>
                    <a:pt x="86" y="674"/>
                  </a:lnTo>
                  <a:lnTo>
                    <a:pt x="87" y="463"/>
                  </a:lnTo>
                  <a:lnTo>
                    <a:pt x="88" y="663"/>
                  </a:lnTo>
                  <a:lnTo>
                    <a:pt x="90" y="758"/>
                  </a:lnTo>
                  <a:lnTo>
                    <a:pt x="92" y="671"/>
                  </a:lnTo>
                  <a:lnTo>
                    <a:pt x="93" y="676"/>
                  </a:lnTo>
                  <a:lnTo>
                    <a:pt x="94" y="476"/>
                  </a:lnTo>
                  <a:lnTo>
                    <a:pt x="96" y="765"/>
                  </a:lnTo>
                  <a:lnTo>
                    <a:pt x="97" y="612"/>
                  </a:lnTo>
                  <a:lnTo>
                    <a:pt x="98" y="641"/>
                  </a:lnTo>
                  <a:lnTo>
                    <a:pt x="101" y="588"/>
                  </a:lnTo>
                  <a:lnTo>
                    <a:pt x="102" y="616"/>
                  </a:lnTo>
                  <a:lnTo>
                    <a:pt x="103" y="509"/>
                  </a:lnTo>
                  <a:lnTo>
                    <a:pt x="104" y="476"/>
                  </a:lnTo>
                  <a:lnTo>
                    <a:pt x="106" y="364"/>
                  </a:lnTo>
                  <a:lnTo>
                    <a:pt x="107" y="583"/>
                  </a:lnTo>
                  <a:lnTo>
                    <a:pt x="108" y="383"/>
                  </a:lnTo>
                  <a:lnTo>
                    <a:pt x="111" y="544"/>
                  </a:lnTo>
                  <a:lnTo>
                    <a:pt x="112" y="532"/>
                  </a:lnTo>
                  <a:lnTo>
                    <a:pt x="113" y="560"/>
                  </a:lnTo>
                  <a:lnTo>
                    <a:pt x="115" y="564"/>
                  </a:lnTo>
                  <a:lnTo>
                    <a:pt x="116" y="722"/>
                  </a:lnTo>
                  <a:lnTo>
                    <a:pt x="117" y="737"/>
                  </a:lnTo>
                  <a:lnTo>
                    <a:pt x="118" y="749"/>
                  </a:lnTo>
                  <a:lnTo>
                    <a:pt x="121" y="781"/>
                  </a:lnTo>
                  <a:lnTo>
                    <a:pt x="122" y="590"/>
                  </a:lnTo>
                  <a:lnTo>
                    <a:pt x="123" y="485"/>
                  </a:lnTo>
                  <a:lnTo>
                    <a:pt x="125" y="422"/>
                  </a:lnTo>
                  <a:lnTo>
                    <a:pt x="126" y="461"/>
                  </a:lnTo>
                  <a:lnTo>
                    <a:pt x="127" y="499"/>
                  </a:lnTo>
                  <a:lnTo>
                    <a:pt x="130" y="632"/>
                  </a:lnTo>
                  <a:lnTo>
                    <a:pt x="131" y="630"/>
                  </a:lnTo>
                  <a:lnTo>
                    <a:pt x="132" y="875"/>
                  </a:lnTo>
                  <a:lnTo>
                    <a:pt x="133" y="726"/>
                  </a:lnTo>
                  <a:lnTo>
                    <a:pt x="135" y="629"/>
                  </a:lnTo>
                  <a:lnTo>
                    <a:pt x="136" y="735"/>
                  </a:lnTo>
                  <a:lnTo>
                    <a:pt x="137" y="846"/>
                  </a:lnTo>
                  <a:lnTo>
                    <a:pt x="140" y="761"/>
                  </a:lnTo>
                  <a:lnTo>
                    <a:pt x="141" y="736"/>
                  </a:lnTo>
                  <a:lnTo>
                    <a:pt x="142" y="862"/>
                  </a:lnTo>
                  <a:lnTo>
                    <a:pt x="144" y="938"/>
                  </a:lnTo>
                  <a:lnTo>
                    <a:pt x="145" y="888"/>
                  </a:lnTo>
                  <a:lnTo>
                    <a:pt x="146" y="897"/>
                  </a:lnTo>
                  <a:lnTo>
                    <a:pt x="147" y="848"/>
                  </a:lnTo>
                  <a:lnTo>
                    <a:pt x="150" y="777"/>
                  </a:lnTo>
                  <a:lnTo>
                    <a:pt x="151" y="765"/>
                  </a:lnTo>
                  <a:lnTo>
                    <a:pt x="152" y="669"/>
                  </a:lnTo>
                  <a:lnTo>
                    <a:pt x="154" y="645"/>
                  </a:lnTo>
                  <a:lnTo>
                    <a:pt x="155" y="679"/>
                  </a:lnTo>
                  <a:lnTo>
                    <a:pt x="156" y="717"/>
                  </a:lnTo>
                  <a:lnTo>
                    <a:pt x="157" y="752"/>
                  </a:lnTo>
                  <a:lnTo>
                    <a:pt x="160" y="758"/>
                  </a:lnTo>
                  <a:lnTo>
                    <a:pt x="161" y="621"/>
                  </a:lnTo>
                  <a:lnTo>
                    <a:pt x="162" y="712"/>
                  </a:lnTo>
                  <a:lnTo>
                    <a:pt x="164" y="561"/>
                  </a:lnTo>
                  <a:lnTo>
                    <a:pt x="165" y="438"/>
                  </a:lnTo>
                  <a:lnTo>
                    <a:pt x="166" y="601"/>
                  </a:lnTo>
                  <a:lnTo>
                    <a:pt x="169" y="673"/>
                  </a:lnTo>
                  <a:lnTo>
                    <a:pt x="170" y="728"/>
                  </a:lnTo>
                  <a:lnTo>
                    <a:pt x="171" y="728"/>
                  </a:lnTo>
                  <a:lnTo>
                    <a:pt x="172" y="782"/>
                  </a:lnTo>
                  <a:lnTo>
                    <a:pt x="174" y="703"/>
                  </a:lnTo>
                  <a:lnTo>
                    <a:pt x="175" y="557"/>
                  </a:lnTo>
                  <a:lnTo>
                    <a:pt x="176" y="733"/>
                  </a:lnTo>
                  <a:lnTo>
                    <a:pt x="179" y="775"/>
                  </a:lnTo>
                  <a:lnTo>
                    <a:pt x="180" y="698"/>
                  </a:lnTo>
                  <a:lnTo>
                    <a:pt x="181" y="586"/>
                  </a:lnTo>
                  <a:lnTo>
                    <a:pt x="183" y="578"/>
                  </a:lnTo>
                  <a:lnTo>
                    <a:pt x="184" y="389"/>
                  </a:lnTo>
                  <a:lnTo>
                    <a:pt x="185" y="578"/>
                  </a:lnTo>
                  <a:lnTo>
                    <a:pt x="186" y="602"/>
                  </a:lnTo>
                  <a:lnTo>
                    <a:pt x="189" y="763"/>
                  </a:lnTo>
                  <a:lnTo>
                    <a:pt x="190" y="766"/>
                  </a:lnTo>
                  <a:lnTo>
                    <a:pt x="191" y="680"/>
                  </a:lnTo>
                  <a:lnTo>
                    <a:pt x="193" y="629"/>
                  </a:lnTo>
                  <a:lnTo>
                    <a:pt x="194" y="638"/>
                  </a:lnTo>
                  <a:lnTo>
                    <a:pt x="195" y="644"/>
                  </a:lnTo>
                  <a:lnTo>
                    <a:pt x="196" y="532"/>
                  </a:lnTo>
                  <a:lnTo>
                    <a:pt x="199" y="460"/>
                  </a:lnTo>
                  <a:lnTo>
                    <a:pt x="200" y="404"/>
                  </a:lnTo>
                  <a:lnTo>
                    <a:pt x="201" y="376"/>
                  </a:lnTo>
                  <a:lnTo>
                    <a:pt x="203" y="344"/>
                  </a:lnTo>
                  <a:lnTo>
                    <a:pt x="204" y="500"/>
                  </a:lnTo>
                  <a:lnTo>
                    <a:pt x="205" y="373"/>
                  </a:lnTo>
                  <a:lnTo>
                    <a:pt x="208" y="444"/>
                  </a:lnTo>
                  <a:lnTo>
                    <a:pt x="209" y="618"/>
                  </a:lnTo>
                  <a:lnTo>
                    <a:pt x="210" y="373"/>
                  </a:lnTo>
                  <a:lnTo>
                    <a:pt x="211" y="689"/>
                  </a:lnTo>
                  <a:lnTo>
                    <a:pt x="213" y="780"/>
                  </a:lnTo>
                  <a:lnTo>
                    <a:pt x="214" y="520"/>
                  </a:lnTo>
                  <a:lnTo>
                    <a:pt x="215" y="515"/>
                  </a:lnTo>
                  <a:lnTo>
                    <a:pt x="218" y="599"/>
                  </a:lnTo>
                  <a:lnTo>
                    <a:pt x="219" y="490"/>
                  </a:lnTo>
                  <a:lnTo>
                    <a:pt x="220" y="455"/>
                  </a:lnTo>
                  <a:lnTo>
                    <a:pt x="222" y="454"/>
                  </a:lnTo>
                  <a:lnTo>
                    <a:pt x="223" y="645"/>
                  </a:lnTo>
                  <a:lnTo>
                    <a:pt x="224" y="389"/>
                  </a:lnTo>
                  <a:lnTo>
                    <a:pt x="225" y="317"/>
                  </a:lnTo>
                  <a:lnTo>
                    <a:pt x="228" y="451"/>
                  </a:lnTo>
                  <a:lnTo>
                    <a:pt x="229" y="440"/>
                  </a:lnTo>
                  <a:lnTo>
                    <a:pt x="230" y="440"/>
                  </a:lnTo>
                  <a:lnTo>
                    <a:pt x="232" y="443"/>
                  </a:lnTo>
                  <a:lnTo>
                    <a:pt x="233" y="545"/>
                  </a:lnTo>
                  <a:lnTo>
                    <a:pt x="234" y="477"/>
                  </a:lnTo>
                  <a:lnTo>
                    <a:pt x="236" y="456"/>
                  </a:lnTo>
                  <a:lnTo>
                    <a:pt x="238" y="469"/>
                  </a:lnTo>
                  <a:lnTo>
                    <a:pt x="239" y="588"/>
                  </a:lnTo>
                  <a:lnTo>
                    <a:pt x="240" y="625"/>
                  </a:lnTo>
                  <a:lnTo>
                    <a:pt x="242" y="603"/>
                  </a:lnTo>
                  <a:lnTo>
                    <a:pt x="243" y="548"/>
                  </a:lnTo>
                  <a:lnTo>
                    <a:pt x="244" y="529"/>
                  </a:lnTo>
                  <a:lnTo>
                    <a:pt x="247" y="763"/>
                  </a:lnTo>
                  <a:lnTo>
                    <a:pt x="248" y="681"/>
                  </a:lnTo>
                  <a:lnTo>
                    <a:pt x="249" y="562"/>
                  </a:lnTo>
                  <a:lnTo>
                    <a:pt x="250" y="557"/>
                  </a:lnTo>
                  <a:lnTo>
                    <a:pt x="252" y="486"/>
                  </a:lnTo>
                  <a:lnTo>
                    <a:pt x="253" y="409"/>
                  </a:lnTo>
                  <a:lnTo>
                    <a:pt x="254" y="521"/>
                  </a:lnTo>
                  <a:lnTo>
                    <a:pt x="257" y="563"/>
                  </a:lnTo>
                  <a:lnTo>
                    <a:pt x="258" y="624"/>
                  </a:lnTo>
                  <a:lnTo>
                    <a:pt x="259" y="567"/>
                  </a:lnTo>
                  <a:lnTo>
                    <a:pt x="261" y="547"/>
                  </a:lnTo>
                  <a:lnTo>
                    <a:pt x="262" y="370"/>
                  </a:lnTo>
                  <a:lnTo>
                    <a:pt x="263" y="494"/>
                  </a:lnTo>
                  <a:lnTo>
                    <a:pt x="265" y="674"/>
                  </a:lnTo>
                  <a:lnTo>
                    <a:pt x="267" y="627"/>
                  </a:lnTo>
                  <a:lnTo>
                    <a:pt x="268" y="646"/>
                  </a:lnTo>
                  <a:lnTo>
                    <a:pt x="269" y="771"/>
                  </a:lnTo>
                  <a:lnTo>
                    <a:pt x="271" y="700"/>
                  </a:lnTo>
                  <a:lnTo>
                    <a:pt x="272" y="678"/>
                  </a:lnTo>
                  <a:lnTo>
                    <a:pt x="273" y="686"/>
                  </a:lnTo>
                  <a:lnTo>
                    <a:pt x="276" y="829"/>
                  </a:lnTo>
                  <a:lnTo>
                    <a:pt x="277" y="698"/>
                  </a:lnTo>
                  <a:lnTo>
                    <a:pt x="278" y="829"/>
                  </a:lnTo>
                  <a:lnTo>
                    <a:pt x="279" y="693"/>
                  </a:lnTo>
                  <a:lnTo>
                    <a:pt x="281" y="764"/>
                  </a:lnTo>
                  <a:lnTo>
                    <a:pt x="282" y="581"/>
                  </a:lnTo>
                  <a:lnTo>
                    <a:pt x="283" y="729"/>
                  </a:lnTo>
                  <a:lnTo>
                    <a:pt x="286" y="685"/>
                  </a:lnTo>
                  <a:lnTo>
                    <a:pt x="287" y="644"/>
                  </a:lnTo>
                  <a:lnTo>
                    <a:pt x="288" y="664"/>
                  </a:lnTo>
                  <a:lnTo>
                    <a:pt x="289" y="640"/>
                  </a:lnTo>
                  <a:lnTo>
                    <a:pt x="291" y="579"/>
                  </a:lnTo>
                  <a:lnTo>
                    <a:pt x="292" y="558"/>
                  </a:lnTo>
                  <a:lnTo>
                    <a:pt x="294" y="685"/>
                  </a:lnTo>
                  <a:lnTo>
                    <a:pt x="296" y="534"/>
                  </a:lnTo>
                  <a:lnTo>
                    <a:pt x="297" y="527"/>
                  </a:lnTo>
                  <a:lnTo>
                    <a:pt x="298" y="428"/>
                  </a:lnTo>
                  <a:lnTo>
                    <a:pt x="300" y="473"/>
                  </a:lnTo>
                  <a:lnTo>
                    <a:pt x="301" y="260"/>
                  </a:lnTo>
                  <a:lnTo>
                    <a:pt x="302" y="310"/>
                  </a:lnTo>
                  <a:lnTo>
                    <a:pt x="304" y="488"/>
                  </a:lnTo>
                  <a:lnTo>
                    <a:pt x="306" y="314"/>
                  </a:lnTo>
                  <a:lnTo>
                    <a:pt x="307" y="435"/>
                  </a:lnTo>
                  <a:lnTo>
                    <a:pt x="308" y="421"/>
                  </a:lnTo>
                  <a:lnTo>
                    <a:pt x="310" y="356"/>
                  </a:lnTo>
                  <a:lnTo>
                    <a:pt x="311" y="426"/>
                  </a:lnTo>
                  <a:lnTo>
                    <a:pt x="312" y="238"/>
                  </a:lnTo>
                  <a:lnTo>
                    <a:pt x="315" y="203"/>
                  </a:lnTo>
                  <a:lnTo>
                    <a:pt x="316" y="178"/>
                  </a:lnTo>
                  <a:lnTo>
                    <a:pt x="317" y="284"/>
                  </a:lnTo>
                  <a:lnTo>
                    <a:pt x="318" y="473"/>
                  </a:lnTo>
                  <a:lnTo>
                    <a:pt x="320" y="550"/>
                  </a:lnTo>
                  <a:lnTo>
                    <a:pt x="321" y="387"/>
                  </a:lnTo>
                  <a:lnTo>
                    <a:pt x="323" y="433"/>
                  </a:lnTo>
                  <a:lnTo>
                    <a:pt x="325" y="335"/>
                  </a:lnTo>
                  <a:lnTo>
                    <a:pt x="326" y="314"/>
                  </a:lnTo>
                  <a:lnTo>
                    <a:pt x="327" y="540"/>
                  </a:lnTo>
                  <a:lnTo>
                    <a:pt x="328" y="550"/>
                  </a:lnTo>
                  <a:lnTo>
                    <a:pt x="330" y="325"/>
                  </a:lnTo>
                  <a:lnTo>
                    <a:pt x="331" y="502"/>
                  </a:lnTo>
                  <a:lnTo>
                    <a:pt x="333" y="406"/>
                  </a:lnTo>
                  <a:lnTo>
                    <a:pt x="335" y="509"/>
                  </a:lnTo>
                  <a:lnTo>
                    <a:pt x="336" y="346"/>
                  </a:lnTo>
                  <a:lnTo>
                    <a:pt x="337" y="446"/>
                  </a:lnTo>
                  <a:lnTo>
                    <a:pt x="339" y="315"/>
                  </a:lnTo>
                  <a:lnTo>
                    <a:pt x="340" y="389"/>
                  </a:lnTo>
                  <a:lnTo>
                    <a:pt x="341" y="545"/>
                  </a:lnTo>
                  <a:lnTo>
                    <a:pt x="343" y="545"/>
                  </a:lnTo>
                  <a:lnTo>
                    <a:pt x="345" y="354"/>
                  </a:lnTo>
                  <a:lnTo>
                    <a:pt x="346" y="295"/>
                  </a:lnTo>
                  <a:lnTo>
                    <a:pt x="347" y="249"/>
                  </a:lnTo>
                  <a:lnTo>
                    <a:pt x="349" y="392"/>
                  </a:lnTo>
                  <a:lnTo>
                    <a:pt x="350" y="553"/>
                  </a:lnTo>
                  <a:lnTo>
                    <a:pt x="352" y="479"/>
                  </a:lnTo>
                  <a:lnTo>
                    <a:pt x="354" y="482"/>
                  </a:lnTo>
                  <a:lnTo>
                    <a:pt x="355" y="687"/>
                  </a:lnTo>
                  <a:lnTo>
                    <a:pt x="356" y="476"/>
                  </a:lnTo>
                  <a:lnTo>
                    <a:pt x="357" y="543"/>
                  </a:lnTo>
                  <a:lnTo>
                    <a:pt x="359" y="564"/>
                  </a:lnTo>
                  <a:lnTo>
                    <a:pt x="360" y="640"/>
                  </a:lnTo>
                  <a:lnTo>
                    <a:pt x="362" y="484"/>
                  </a:lnTo>
                  <a:lnTo>
                    <a:pt x="364" y="567"/>
                  </a:lnTo>
                  <a:lnTo>
                    <a:pt x="365" y="696"/>
                  </a:lnTo>
                  <a:lnTo>
                    <a:pt x="366" y="794"/>
                  </a:lnTo>
                  <a:lnTo>
                    <a:pt x="368" y="680"/>
                  </a:lnTo>
                  <a:lnTo>
                    <a:pt x="369" y="543"/>
                  </a:lnTo>
                  <a:lnTo>
                    <a:pt x="370" y="503"/>
                  </a:lnTo>
                  <a:lnTo>
                    <a:pt x="372" y="570"/>
                  </a:lnTo>
                  <a:lnTo>
                    <a:pt x="374" y="823"/>
                  </a:lnTo>
                  <a:lnTo>
                    <a:pt x="375" y="803"/>
                  </a:lnTo>
                  <a:lnTo>
                    <a:pt x="376" y="566"/>
                  </a:lnTo>
                  <a:lnTo>
                    <a:pt x="378" y="573"/>
                  </a:lnTo>
                  <a:lnTo>
                    <a:pt x="379" y="520"/>
                  </a:lnTo>
                  <a:lnTo>
                    <a:pt x="381" y="466"/>
                  </a:lnTo>
                  <a:lnTo>
                    <a:pt x="382" y="462"/>
                  </a:lnTo>
                  <a:lnTo>
                    <a:pt x="384" y="491"/>
                  </a:lnTo>
                  <a:lnTo>
                    <a:pt x="385" y="570"/>
                  </a:lnTo>
                  <a:lnTo>
                    <a:pt x="386" y="557"/>
                  </a:lnTo>
                  <a:lnTo>
                    <a:pt x="388" y="385"/>
                  </a:lnTo>
                  <a:lnTo>
                    <a:pt x="389" y="292"/>
                  </a:lnTo>
                  <a:lnTo>
                    <a:pt x="391" y="472"/>
                  </a:lnTo>
                  <a:lnTo>
                    <a:pt x="393" y="354"/>
                  </a:lnTo>
                  <a:lnTo>
                    <a:pt x="394" y="249"/>
                  </a:lnTo>
                  <a:lnTo>
                    <a:pt x="395" y="266"/>
                  </a:lnTo>
                  <a:lnTo>
                    <a:pt x="396" y="375"/>
                  </a:lnTo>
                  <a:lnTo>
                    <a:pt x="398" y="421"/>
                  </a:lnTo>
                  <a:lnTo>
                    <a:pt x="399" y="444"/>
                  </a:lnTo>
                  <a:lnTo>
                    <a:pt x="401" y="595"/>
                  </a:lnTo>
                  <a:lnTo>
                    <a:pt x="403" y="499"/>
                  </a:lnTo>
                  <a:lnTo>
                    <a:pt x="404" y="355"/>
                  </a:lnTo>
                  <a:lnTo>
                    <a:pt x="405" y="321"/>
                  </a:lnTo>
                  <a:lnTo>
                    <a:pt x="407" y="292"/>
                  </a:lnTo>
                  <a:lnTo>
                    <a:pt x="408" y="357"/>
                  </a:lnTo>
                  <a:lnTo>
                    <a:pt x="410" y="485"/>
                  </a:lnTo>
                  <a:lnTo>
                    <a:pt x="411" y="470"/>
                  </a:lnTo>
                  <a:lnTo>
                    <a:pt x="413" y="471"/>
                  </a:lnTo>
                  <a:lnTo>
                    <a:pt x="414" y="543"/>
                  </a:lnTo>
                  <a:lnTo>
                    <a:pt x="415" y="490"/>
                  </a:lnTo>
                  <a:lnTo>
                    <a:pt x="417" y="455"/>
                  </a:lnTo>
                  <a:lnTo>
                    <a:pt x="418" y="510"/>
                  </a:lnTo>
                  <a:lnTo>
                    <a:pt x="420" y="500"/>
                  </a:lnTo>
                  <a:lnTo>
                    <a:pt x="421" y="343"/>
                  </a:lnTo>
                  <a:lnTo>
                    <a:pt x="423" y="549"/>
                  </a:lnTo>
                  <a:lnTo>
                    <a:pt x="424" y="450"/>
                  </a:lnTo>
                  <a:lnTo>
                    <a:pt x="425" y="551"/>
                  </a:lnTo>
                  <a:lnTo>
                    <a:pt x="427" y="498"/>
                  </a:lnTo>
                  <a:lnTo>
                    <a:pt x="428" y="490"/>
                  </a:lnTo>
                  <a:lnTo>
                    <a:pt x="430" y="471"/>
                  </a:lnTo>
                  <a:lnTo>
                    <a:pt x="432" y="640"/>
                  </a:lnTo>
                  <a:lnTo>
                    <a:pt x="433" y="427"/>
                  </a:lnTo>
                  <a:lnTo>
                    <a:pt x="434" y="474"/>
                  </a:lnTo>
                  <a:lnTo>
                    <a:pt x="435" y="340"/>
                  </a:lnTo>
                  <a:lnTo>
                    <a:pt x="437" y="459"/>
                  </a:lnTo>
                  <a:lnTo>
                    <a:pt x="439" y="407"/>
                  </a:lnTo>
                  <a:lnTo>
                    <a:pt x="440" y="387"/>
                  </a:lnTo>
                  <a:lnTo>
                    <a:pt x="442" y="248"/>
                  </a:lnTo>
                  <a:lnTo>
                    <a:pt x="443" y="356"/>
                  </a:lnTo>
                  <a:lnTo>
                    <a:pt x="444" y="471"/>
                  </a:lnTo>
                  <a:lnTo>
                    <a:pt x="446" y="234"/>
                  </a:lnTo>
                  <a:lnTo>
                    <a:pt x="447" y="475"/>
                  </a:lnTo>
                  <a:lnTo>
                    <a:pt x="449" y="392"/>
                  </a:lnTo>
                  <a:lnTo>
                    <a:pt x="450" y="489"/>
                  </a:lnTo>
                  <a:lnTo>
                    <a:pt x="452" y="586"/>
                  </a:lnTo>
                  <a:lnTo>
                    <a:pt x="453" y="572"/>
                  </a:lnTo>
                  <a:lnTo>
                    <a:pt x="454" y="294"/>
                  </a:lnTo>
                  <a:lnTo>
                    <a:pt x="456" y="375"/>
                  </a:lnTo>
                  <a:lnTo>
                    <a:pt x="458" y="210"/>
                  </a:lnTo>
                  <a:lnTo>
                    <a:pt x="459" y="265"/>
                  </a:lnTo>
                  <a:lnTo>
                    <a:pt x="460" y="362"/>
                  </a:lnTo>
                  <a:lnTo>
                    <a:pt x="462" y="349"/>
                  </a:lnTo>
                  <a:lnTo>
                    <a:pt x="463" y="680"/>
                  </a:lnTo>
                  <a:lnTo>
                    <a:pt x="464" y="676"/>
                  </a:lnTo>
                  <a:lnTo>
                    <a:pt x="466" y="795"/>
                  </a:lnTo>
                  <a:lnTo>
                    <a:pt x="468" y="613"/>
                  </a:lnTo>
                  <a:lnTo>
                    <a:pt x="469" y="742"/>
                  </a:lnTo>
                  <a:lnTo>
                    <a:pt x="471" y="704"/>
                  </a:lnTo>
                  <a:lnTo>
                    <a:pt x="472" y="632"/>
                  </a:lnTo>
                  <a:lnTo>
                    <a:pt x="473" y="621"/>
                  </a:lnTo>
                  <a:lnTo>
                    <a:pt x="474" y="583"/>
                  </a:lnTo>
                  <a:lnTo>
                    <a:pt x="476" y="548"/>
                  </a:lnTo>
                  <a:lnTo>
                    <a:pt x="478" y="598"/>
                  </a:lnTo>
                  <a:lnTo>
                    <a:pt x="479" y="495"/>
                  </a:lnTo>
                  <a:lnTo>
                    <a:pt x="481" y="606"/>
                  </a:lnTo>
                  <a:lnTo>
                    <a:pt x="482" y="812"/>
                  </a:lnTo>
                  <a:lnTo>
                    <a:pt x="483" y="783"/>
                  </a:lnTo>
                  <a:lnTo>
                    <a:pt x="485" y="638"/>
                  </a:lnTo>
                  <a:lnTo>
                    <a:pt x="487" y="751"/>
                  </a:lnTo>
                  <a:lnTo>
                    <a:pt x="488" y="687"/>
                  </a:lnTo>
                  <a:lnTo>
                    <a:pt x="489" y="790"/>
                  </a:lnTo>
                  <a:lnTo>
                    <a:pt x="491" y="887"/>
                  </a:lnTo>
                  <a:lnTo>
                    <a:pt x="492" y="1173"/>
                  </a:lnTo>
                  <a:lnTo>
                    <a:pt x="493" y="840"/>
                  </a:lnTo>
                  <a:lnTo>
                    <a:pt x="495" y="899"/>
                  </a:lnTo>
                  <a:lnTo>
                    <a:pt x="497" y="846"/>
                  </a:lnTo>
                  <a:lnTo>
                    <a:pt x="498" y="929"/>
                  </a:lnTo>
                  <a:lnTo>
                    <a:pt x="500" y="1087"/>
                  </a:lnTo>
                  <a:lnTo>
                    <a:pt x="501" y="812"/>
                  </a:lnTo>
                  <a:lnTo>
                    <a:pt x="502" y="801"/>
                  </a:lnTo>
                  <a:lnTo>
                    <a:pt x="503" y="865"/>
                  </a:lnTo>
                  <a:lnTo>
                    <a:pt x="505" y="699"/>
                  </a:lnTo>
                  <a:lnTo>
                    <a:pt x="507" y="937"/>
                  </a:lnTo>
                  <a:lnTo>
                    <a:pt x="508" y="852"/>
                  </a:lnTo>
                  <a:lnTo>
                    <a:pt x="510" y="803"/>
                  </a:lnTo>
                  <a:lnTo>
                    <a:pt x="511" y="921"/>
                  </a:lnTo>
                  <a:lnTo>
                    <a:pt x="512" y="942"/>
                  </a:lnTo>
                  <a:lnTo>
                    <a:pt x="513" y="775"/>
                  </a:lnTo>
                  <a:lnTo>
                    <a:pt x="516" y="758"/>
                  </a:lnTo>
                  <a:lnTo>
                    <a:pt x="517" y="817"/>
                  </a:lnTo>
                  <a:lnTo>
                    <a:pt x="518" y="690"/>
                  </a:lnTo>
                  <a:lnTo>
                    <a:pt x="520" y="735"/>
                  </a:lnTo>
                  <a:lnTo>
                    <a:pt x="521" y="1024"/>
                  </a:lnTo>
                  <a:lnTo>
                    <a:pt x="522" y="945"/>
                  </a:lnTo>
                  <a:lnTo>
                    <a:pt x="524" y="812"/>
                  </a:lnTo>
                  <a:lnTo>
                    <a:pt x="526" y="987"/>
                  </a:lnTo>
                  <a:lnTo>
                    <a:pt x="527" y="830"/>
                  </a:lnTo>
                  <a:lnTo>
                    <a:pt x="528" y="807"/>
                  </a:lnTo>
                  <a:lnTo>
                    <a:pt x="530" y="825"/>
                  </a:lnTo>
                  <a:lnTo>
                    <a:pt x="531" y="933"/>
                  </a:lnTo>
                  <a:lnTo>
                    <a:pt x="532" y="882"/>
                  </a:lnTo>
                  <a:lnTo>
                    <a:pt x="534" y="649"/>
                  </a:lnTo>
                  <a:lnTo>
                    <a:pt x="536" y="903"/>
                  </a:lnTo>
                  <a:lnTo>
                    <a:pt x="537" y="751"/>
                  </a:lnTo>
                  <a:lnTo>
                    <a:pt x="539" y="850"/>
                  </a:lnTo>
                  <a:lnTo>
                    <a:pt x="540" y="1007"/>
                  </a:lnTo>
                  <a:lnTo>
                    <a:pt x="541" y="689"/>
                  </a:lnTo>
                  <a:lnTo>
                    <a:pt x="542" y="801"/>
                  </a:lnTo>
                  <a:lnTo>
                    <a:pt x="545" y="708"/>
                  </a:lnTo>
                  <a:lnTo>
                    <a:pt x="546" y="689"/>
                  </a:lnTo>
                  <a:lnTo>
                    <a:pt x="547" y="670"/>
                  </a:lnTo>
                  <a:lnTo>
                    <a:pt x="549" y="852"/>
                  </a:lnTo>
                  <a:lnTo>
                    <a:pt x="550" y="772"/>
                  </a:lnTo>
                  <a:lnTo>
                    <a:pt x="551" y="399"/>
                  </a:lnTo>
                  <a:lnTo>
                    <a:pt x="552" y="637"/>
                  </a:lnTo>
                  <a:lnTo>
                    <a:pt x="555" y="840"/>
                  </a:lnTo>
                  <a:lnTo>
                    <a:pt x="556" y="489"/>
                  </a:lnTo>
                  <a:lnTo>
                    <a:pt x="557" y="580"/>
                  </a:lnTo>
                  <a:lnTo>
                    <a:pt x="559" y="616"/>
                  </a:lnTo>
                  <a:lnTo>
                    <a:pt x="560" y="715"/>
                  </a:lnTo>
                  <a:lnTo>
                    <a:pt x="561" y="916"/>
                  </a:lnTo>
                  <a:lnTo>
                    <a:pt x="563" y="796"/>
                  </a:lnTo>
                  <a:lnTo>
                    <a:pt x="565" y="890"/>
                  </a:lnTo>
                  <a:lnTo>
                    <a:pt x="566" y="961"/>
                  </a:lnTo>
                  <a:lnTo>
                    <a:pt x="567" y="830"/>
                  </a:lnTo>
                  <a:lnTo>
                    <a:pt x="569" y="846"/>
                  </a:lnTo>
                  <a:lnTo>
                    <a:pt x="570" y="953"/>
                  </a:lnTo>
                  <a:lnTo>
                    <a:pt x="571" y="863"/>
                  </a:lnTo>
                  <a:lnTo>
                    <a:pt x="574" y="829"/>
                  </a:lnTo>
                  <a:lnTo>
                    <a:pt x="575" y="951"/>
                  </a:lnTo>
                  <a:lnTo>
                    <a:pt x="576" y="904"/>
                  </a:lnTo>
                  <a:lnTo>
                    <a:pt x="578" y="819"/>
                  </a:lnTo>
                  <a:lnTo>
                    <a:pt x="579" y="926"/>
                  </a:lnTo>
                  <a:lnTo>
                    <a:pt x="580" y="1007"/>
                  </a:lnTo>
                  <a:lnTo>
                    <a:pt x="581" y="959"/>
                  </a:lnTo>
                  <a:lnTo>
                    <a:pt x="584" y="965"/>
                  </a:lnTo>
                  <a:lnTo>
                    <a:pt x="585" y="907"/>
                  </a:lnTo>
                  <a:lnTo>
                    <a:pt x="586" y="997"/>
                  </a:lnTo>
                  <a:lnTo>
                    <a:pt x="588" y="1038"/>
                  </a:lnTo>
                  <a:lnTo>
                    <a:pt x="589" y="1087"/>
                  </a:lnTo>
                  <a:lnTo>
                    <a:pt x="590" y="1045"/>
                  </a:lnTo>
                  <a:lnTo>
                    <a:pt x="592" y="801"/>
                  </a:lnTo>
                  <a:lnTo>
                    <a:pt x="594" y="843"/>
                  </a:lnTo>
                  <a:lnTo>
                    <a:pt x="595" y="518"/>
                  </a:lnTo>
                  <a:lnTo>
                    <a:pt x="596" y="499"/>
                  </a:lnTo>
                  <a:lnTo>
                    <a:pt x="598" y="735"/>
                  </a:lnTo>
                  <a:lnTo>
                    <a:pt x="599" y="707"/>
                  </a:lnTo>
                  <a:lnTo>
                    <a:pt x="600" y="748"/>
                  </a:lnTo>
                  <a:lnTo>
                    <a:pt x="603" y="801"/>
                  </a:lnTo>
                  <a:lnTo>
                    <a:pt x="604" y="871"/>
                  </a:lnTo>
                  <a:lnTo>
                    <a:pt x="605" y="747"/>
                  </a:lnTo>
                  <a:lnTo>
                    <a:pt x="606" y="739"/>
                  </a:lnTo>
                  <a:lnTo>
                    <a:pt x="608" y="855"/>
                  </a:lnTo>
                  <a:lnTo>
                    <a:pt x="609" y="836"/>
                  </a:lnTo>
                  <a:lnTo>
                    <a:pt x="610" y="985"/>
                  </a:lnTo>
                  <a:lnTo>
                    <a:pt x="613" y="867"/>
                  </a:lnTo>
                  <a:lnTo>
                    <a:pt x="614" y="632"/>
                  </a:lnTo>
                  <a:lnTo>
                    <a:pt x="615" y="831"/>
                  </a:lnTo>
                  <a:lnTo>
                    <a:pt x="617" y="754"/>
                  </a:lnTo>
                  <a:lnTo>
                    <a:pt x="618" y="571"/>
                  </a:lnTo>
                  <a:lnTo>
                    <a:pt x="619" y="780"/>
                  </a:lnTo>
                  <a:lnTo>
                    <a:pt x="620" y="801"/>
                  </a:lnTo>
                  <a:lnTo>
                    <a:pt x="623" y="823"/>
                  </a:lnTo>
                  <a:lnTo>
                    <a:pt x="624" y="628"/>
                  </a:lnTo>
                  <a:lnTo>
                    <a:pt x="625" y="862"/>
                  </a:lnTo>
                  <a:lnTo>
                    <a:pt x="627" y="1029"/>
                  </a:lnTo>
                  <a:lnTo>
                    <a:pt x="628" y="982"/>
                  </a:lnTo>
                  <a:lnTo>
                    <a:pt x="629" y="1065"/>
                  </a:lnTo>
                  <a:lnTo>
                    <a:pt x="632" y="1046"/>
                  </a:lnTo>
                  <a:lnTo>
                    <a:pt x="633" y="916"/>
                  </a:lnTo>
                  <a:lnTo>
                    <a:pt x="634" y="609"/>
                  </a:lnTo>
                  <a:lnTo>
                    <a:pt x="635" y="587"/>
                  </a:lnTo>
                  <a:lnTo>
                    <a:pt x="637" y="765"/>
                  </a:lnTo>
                  <a:lnTo>
                    <a:pt x="638" y="599"/>
                  </a:lnTo>
                  <a:lnTo>
                    <a:pt x="639" y="562"/>
                  </a:lnTo>
                  <a:lnTo>
                    <a:pt x="642" y="568"/>
                  </a:lnTo>
                  <a:lnTo>
                    <a:pt x="643" y="603"/>
                  </a:lnTo>
                  <a:lnTo>
                    <a:pt x="644" y="868"/>
                  </a:lnTo>
                  <a:lnTo>
                    <a:pt x="645" y="799"/>
                  </a:lnTo>
                  <a:lnTo>
                    <a:pt x="647" y="899"/>
                  </a:lnTo>
                  <a:lnTo>
                    <a:pt x="648" y="1227"/>
                  </a:lnTo>
                  <a:lnTo>
                    <a:pt x="649" y="909"/>
                  </a:lnTo>
                  <a:lnTo>
                    <a:pt x="652" y="739"/>
                  </a:lnTo>
                  <a:lnTo>
                    <a:pt x="653" y="1103"/>
                  </a:lnTo>
                  <a:lnTo>
                    <a:pt x="654" y="950"/>
                  </a:lnTo>
                  <a:lnTo>
                    <a:pt x="656" y="945"/>
                  </a:lnTo>
                  <a:lnTo>
                    <a:pt x="657" y="965"/>
                  </a:lnTo>
                  <a:lnTo>
                    <a:pt x="658" y="1156"/>
                  </a:lnTo>
                  <a:lnTo>
                    <a:pt x="659" y="1230"/>
                  </a:lnTo>
                  <a:lnTo>
                    <a:pt x="662" y="1281"/>
                  </a:lnTo>
                  <a:lnTo>
                    <a:pt x="663" y="1072"/>
                  </a:lnTo>
                  <a:lnTo>
                    <a:pt x="664" y="1112"/>
                  </a:lnTo>
                  <a:lnTo>
                    <a:pt x="666" y="1173"/>
                  </a:lnTo>
                  <a:lnTo>
                    <a:pt x="667" y="1195"/>
                  </a:lnTo>
                  <a:lnTo>
                    <a:pt x="668" y="1105"/>
                  </a:lnTo>
                  <a:lnTo>
                    <a:pt x="671" y="923"/>
                  </a:lnTo>
                  <a:lnTo>
                    <a:pt x="672" y="865"/>
                  </a:lnTo>
                  <a:lnTo>
                    <a:pt x="673" y="833"/>
                  </a:lnTo>
                  <a:lnTo>
                    <a:pt x="674" y="793"/>
                  </a:lnTo>
                  <a:lnTo>
                    <a:pt x="676" y="1024"/>
                  </a:lnTo>
                  <a:lnTo>
                    <a:pt x="677" y="897"/>
                  </a:lnTo>
                  <a:lnTo>
                    <a:pt x="678" y="1036"/>
                  </a:lnTo>
                  <a:lnTo>
                    <a:pt x="681" y="965"/>
                  </a:lnTo>
                  <a:lnTo>
                    <a:pt x="682" y="696"/>
                  </a:lnTo>
                  <a:lnTo>
                    <a:pt x="683" y="637"/>
                  </a:lnTo>
                  <a:lnTo>
                    <a:pt x="684" y="889"/>
                  </a:lnTo>
                  <a:lnTo>
                    <a:pt x="686" y="952"/>
                  </a:lnTo>
                  <a:lnTo>
                    <a:pt x="687" y="844"/>
                  </a:lnTo>
                  <a:lnTo>
                    <a:pt x="688" y="710"/>
                  </a:lnTo>
                  <a:lnTo>
                    <a:pt x="691" y="589"/>
                  </a:lnTo>
                  <a:lnTo>
                    <a:pt x="692" y="674"/>
                  </a:lnTo>
                  <a:lnTo>
                    <a:pt x="693" y="762"/>
                  </a:lnTo>
                  <a:lnTo>
                    <a:pt x="695" y="715"/>
                  </a:lnTo>
                  <a:lnTo>
                    <a:pt x="696" y="844"/>
                  </a:lnTo>
                  <a:lnTo>
                    <a:pt x="697" y="817"/>
                  </a:lnTo>
                  <a:lnTo>
                    <a:pt x="698" y="668"/>
                  </a:lnTo>
                  <a:lnTo>
                    <a:pt x="701" y="737"/>
                  </a:lnTo>
                  <a:lnTo>
                    <a:pt x="702" y="660"/>
                  </a:lnTo>
                  <a:lnTo>
                    <a:pt x="703" y="649"/>
                  </a:lnTo>
                  <a:lnTo>
                    <a:pt x="705" y="732"/>
                  </a:lnTo>
                  <a:lnTo>
                    <a:pt x="706" y="758"/>
                  </a:lnTo>
                  <a:lnTo>
                    <a:pt x="707" y="681"/>
                  </a:lnTo>
                  <a:lnTo>
                    <a:pt x="710" y="902"/>
                  </a:lnTo>
                  <a:lnTo>
                    <a:pt x="711" y="823"/>
                  </a:lnTo>
                  <a:lnTo>
                    <a:pt x="712" y="885"/>
                  </a:lnTo>
                  <a:lnTo>
                    <a:pt x="713" y="851"/>
                  </a:lnTo>
                  <a:lnTo>
                    <a:pt x="715" y="920"/>
                  </a:lnTo>
                  <a:lnTo>
                    <a:pt x="716" y="677"/>
                  </a:lnTo>
                  <a:lnTo>
                    <a:pt x="717" y="814"/>
                  </a:lnTo>
                  <a:lnTo>
                    <a:pt x="720" y="561"/>
                  </a:lnTo>
                  <a:lnTo>
                    <a:pt x="721" y="819"/>
                  </a:lnTo>
                  <a:lnTo>
                    <a:pt x="722" y="894"/>
                  </a:lnTo>
                  <a:lnTo>
                    <a:pt x="724" y="947"/>
                  </a:lnTo>
                  <a:lnTo>
                    <a:pt x="725" y="994"/>
                  </a:lnTo>
                  <a:lnTo>
                    <a:pt x="726" y="953"/>
                  </a:lnTo>
                  <a:lnTo>
                    <a:pt x="727" y="884"/>
                  </a:lnTo>
                  <a:lnTo>
                    <a:pt x="730" y="723"/>
                  </a:lnTo>
                  <a:lnTo>
                    <a:pt x="731" y="562"/>
                  </a:lnTo>
                  <a:lnTo>
                    <a:pt x="732" y="494"/>
                  </a:lnTo>
                  <a:lnTo>
                    <a:pt x="734" y="1008"/>
                  </a:lnTo>
                  <a:lnTo>
                    <a:pt x="735" y="894"/>
                  </a:lnTo>
                  <a:lnTo>
                    <a:pt x="736" y="1044"/>
                  </a:lnTo>
                  <a:lnTo>
                    <a:pt x="738" y="928"/>
                  </a:lnTo>
                  <a:lnTo>
                    <a:pt x="740" y="855"/>
                  </a:lnTo>
                  <a:lnTo>
                    <a:pt x="741" y="741"/>
                  </a:lnTo>
                  <a:lnTo>
                    <a:pt x="742" y="647"/>
                  </a:lnTo>
                  <a:lnTo>
                    <a:pt x="744" y="510"/>
                  </a:lnTo>
                  <a:lnTo>
                    <a:pt x="745" y="512"/>
                  </a:lnTo>
                  <a:lnTo>
                    <a:pt x="746" y="515"/>
                  </a:lnTo>
                  <a:lnTo>
                    <a:pt x="749" y="285"/>
                  </a:lnTo>
                  <a:lnTo>
                    <a:pt x="750" y="413"/>
                  </a:lnTo>
                  <a:lnTo>
                    <a:pt x="751" y="369"/>
                  </a:lnTo>
                  <a:lnTo>
                    <a:pt x="752" y="515"/>
                  </a:lnTo>
                  <a:lnTo>
                    <a:pt x="754" y="663"/>
                  </a:lnTo>
                  <a:lnTo>
                    <a:pt x="755" y="542"/>
                  </a:lnTo>
                  <a:lnTo>
                    <a:pt x="756" y="483"/>
                  </a:lnTo>
                  <a:lnTo>
                    <a:pt x="759" y="530"/>
                  </a:lnTo>
                  <a:lnTo>
                    <a:pt x="760" y="519"/>
                  </a:lnTo>
                  <a:lnTo>
                    <a:pt x="761" y="427"/>
                  </a:lnTo>
                  <a:lnTo>
                    <a:pt x="763" y="459"/>
                  </a:lnTo>
                  <a:lnTo>
                    <a:pt x="764" y="638"/>
                  </a:lnTo>
                  <a:lnTo>
                    <a:pt x="765" y="960"/>
                  </a:lnTo>
                  <a:lnTo>
                    <a:pt x="767" y="784"/>
                  </a:lnTo>
                  <a:lnTo>
                    <a:pt x="769" y="889"/>
                  </a:lnTo>
                  <a:lnTo>
                    <a:pt x="770" y="1017"/>
                  </a:lnTo>
                  <a:lnTo>
                    <a:pt x="771" y="725"/>
                  </a:lnTo>
                  <a:lnTo>
                    <a:pt x="773" y="668"/>
                  </a:lnTo>
                  <a:lnTo>
                    <a:pt x="774" y="626"/>
                  </a:lnTo>
                  <a:lnTo>
                    <a:pt x="775" y="513"/>
                  </a:lnTo>
                  <a:lnTo>
                    <a:pt x="777" y="640"/>
                  </a:lnTo>
                  <a:lnTo>
                    <a:pt x="779" y="457"/>
                  </a:lnTo>
                  <a:lnTo>
                    <a:pt x="780" y="500"/>
                  </a:lnTo>
                  <a:lnTo>
                    <a:pt x="781" y="705"/>
                  </a:lnTo>
                  <a:lnTo>
                    <a:pt x="783" y="581"/>
                  </a:lnTo>
                  <a:lnTo>
                    <a:pt x="784" y="489"/>
                  </a:lnTo>
                  <a:lnTo>
                    <a:pt x="785" y="541"/>
                  </a:lnTo>
                  <a:lnTo>
                    <a:pt x="788" y="577"/>
                  </a:lnTo>
                  <a:lnTo>
                    <a:pt x="789" y="641"/>
                  </a:lnTo>
                  <a:lnTo>
                    <a:pt x="790" y="556"/>
                  </a:lnTo>
                  <a:lnTo>
                    <a:pt x="791" y="815"/>
                  </a:lnTo>
                  <a:lnTo>
                    <a:pt x="793" y="864"/>
                  </a:lnTo>
                  <a:lnTo>
                    <a:pt x="794" y="995"/>
                  </a:lnTo>
                  <a:lnTo>
                    <a:pt x="796" y="981"/>
                  </a:lnTo>
                  <a:lnTo>
                    <a:pt x="798" y="800"/>
                  </a:lnTo>
                  <a:lnTo>
                    <a:pt x="799" y="592"/>
                  </a:lnTo>
                  <a:lnTo>
                    <a:pt x="800" y="742"/>
                  </a:lnTo>
                  <a:lnTo>
                    <a:pt x="802" y="912"/>
                  </a:lnTo>
                  <a:lnTo>
                    <a:pt x="803" y="1025"/>
                  </a:lnTo>
                  <a:lnTo>
                    <a:pt x="804" y="891"/>
                  </a:lnTo>
                  <a:lnTo>
                    <a:pt x="806" y="972"/>
                  </a:lnTo>
                  <a:lnTo>
                    <a:pt x="808" y="717"/>
                  </a:lnTo>
                  <a:lnTo>
                    <a:pt x="809" y="757"/>
                  </a:lnTo>
                  <a:lnTo>
                    <a:pt x="810" y="891"/>
                  </a:lnTo>
                  <a:lnTo>
                    <a:pt x="812" y="1007"/>
                  </a:lnTo>
                  <a:lnTo>
                    <a:pt x="813" y="1004"/>
                  </a:lnTo>
                  <a:lnTo>
                    <a:pt x="814" y="850"/>
                  </a:lnTo>
                  <a:lnTo>
                    <a:pt x="817" y="864"/>
                  </a:lnTo>
                  <a:lnTo>
                    <a:pt x="818" y="709"/>
                  </a:lnTo>
                  <a:lnTo>
                    <a:pt x="819" y="978"/>
                  </a:lnTo>
                  <a:lnTo>
                    <a:pt x="820" y="755"/>
                  </a:lnTo>
                  <a:lnTo>
                    <a:pt x="822" y="788"/>
                  </a:lnTo>
                  <a:lnTo>
                    <a:pt x="823" y="726"/>
                  </a:lnTo>
                  <a:lnTo>
                    <a:pt x="825" y="694"/>
                  </a:lnTo>
                  <a:lnTo>
                    <a:pt x="827" y="651"/>
                  </a:lnTo>
                  <a:lnTo>
                    <a:pt x="828" y="838"/>
                  </a:lnTo>
                  <a:lnTo>
                    <a:pt x="829" y="640"/>
                  </a:lnTo>
                  <a:lnTo>
                    <a:pt x="830" y="619"/>
                  </a:lnTo>
                  <a:lnTo>
                    <a:pt x="832" y="481"/>
                  </a:lnTo>
                  <a:lnTo>
                    <a:pt x="833" y="659"/>
                  </a:lnTo>
                  <a:lnTo>
                    <a:pt x="835" y="636"/>
                  </a:lnTo>
                  <a:lnTo>
                    <a:pt x="837" y="405"/>
                  </a:lnTo>
                  <a:lnTo>
                    <a:pt x="838" y="537"/>
                  </a:lnTo>
                  <a:lnTo>
                    <a:pt x="839" y="796"/>
                  </a:lnTo>
                  <a:lnTo>
                    <a:pt x="841" y="807"/>
                  </a:lnTo>
                  <a:lnTo>
                    <a:pt x="842" y="780"/>
                  </a:lnTo>
                  <a:lnTo>
                    <a:pt x="843" y="763"/>
                  </a:lnTo>
                  <a:lnTo>
                    <a:pt x="845" y="744"/>
                  </a:lnTo>
                  <a:lnTo>
                    <a:pt x="847" y="910"/>
                  </a:lnTo>
                  <a:lnTo>
                    <a:pt x="848" y="680"/>
                  </a:lnTo>
                  <a:lnTo>
                    <a:pt x="849" y="776"/>
                  </a:lnTo>
                  <a:lnTo>
                    <a:pt x="851" y="673"/>
                  </a:lnTo>
                  <a:lnTo>
                    <a:pt x="852" y="624"/>
                  </a:lnTo>
                  <a:lnTo>
                    <a:pt x="854" y="680"/>
                  </a:lnTo>
                  <a:lnTo>
                    <a:pt x="856" y="784"/>
                  </a:lnTo>
                  <a:lnTo>
                    <a:pt x="857" y="615"/>
                  </a:lnTo>
                  <a:lnTo>
                    <a:pt x="858" y="638"/>
                  </a:lnTo>
                  <a:lnTo>
                    <a:pt x="859" y="771"/>
                  </a:lnTo>
                  <a:lnTo>
                    <a:pt x="861" y="716"/>
                  </a:lnTo>
                  <a:lnTo>
                    <a:pt x="862" y="576"/>
                  </a:lnTo>
                  <a:lnTo>
                    <a:pt x="864" y="548"/>
                  </a:lnTo>
                  <a:lnTo>
                    <a:pt x="866" y="314"/>
                  </a:lnTo>
                  <a:lnTo>
                    <a:pt x="867" y="364"/>
                  </a:lnTo>
                  <a:lnTo>
                    <a:pt x="868" y="373"/>
                  </a:lnTo>
                  <a:lnTo>
                    <a:pt x="869" y="386"/>
                  </a:lnTo>
                  <a:lnTo>
                    <a:pt x="871" y="483"/>
                  </a:lnTo>
                  <a:lnTo>
                    <a:pt x="872" y="430"/>
                  </a:lnTo>
                  <a:lnTo>
                    <a:pt x="874" y="567"/>
                  </a:lnTo>
                  <a:lnTo>
                    <a:pt x="876" y="589"/>
                  </a:lnTo>
                  <a:lnTo>
                    <a:pt x="877" y="358"/>
                  </a:lnTo>
                  <a:lnTo>
                    <a:pt x="878" y="210"/>
                  </a:lnTo>
                  <a:lnTo>
                    <a:pt x="880" y="253"/>
                  </a:lnTo>
                  <a:lnTo>
                    <a:pt x="881" y="350"/>
                  </a:lnTo>
                  <a:lnTo>
                    <a:pt x="883" y="374"/>
                  </a:lnTo>
                  <a:lnTo>
                    <a:pt x="884" y="397"/>
                  </a:lnTo>
                  <a:lnTo>
                    <a:pt x="886" y="474"/>
                  </a:lnTo>
                  <a:lnTo>
                    <a:pt x="887" y="630"/>
                  </a:lnTo>
                  <a:lnTo>
                    <a:pt x="888" y="670"/>
                  </a:lnTo>
                  <a:lnTo>
                    <a:pt x="890" y="496"/>
                  </a:lnTo>
                  <a:lnTo>
                    <a:pt x="891" y="441"/>
                  </a:lnTo>
                  <a:lnTo>
                    <a:pt x="893" y="377"/>
                  </a:lnTo>
                  <a:lnTo>
                    <a:pt x="895" y="483"/>
                  </a:lnTo>
                  <a:lnTo>
                    <a:pt x="896" y="519"/>
                  </a:lnTo>
                  <a:lnTo>
                    <a:pt x="897" y="388"/>
                  </a:lnTo>
                  <a:lnTo>
                    <a:pt x="898" y="376"/>
                  </a:lnTo>
                  <a:lnTo>
                    <a:pt x="900" y="703"/>
                  </a:lnTo>
                  <a:lnTo>
                    <a:pt x="901" y="578"/>
                  </a:lnTo>
                  <a:lnTo>
                    <a:pt x="903" y="443"/>
                  </a:lnTo>
                  <a:lnTo>
                    <a:pt x="905" y="681"/>
                  </a:lnTo>
                  <a:lnTo>
                    <a:pt x="906" y="541"/>
                  </a:lnTo>
                  <a:lnTo>
                    <a:pt x="907" y="352"/>
                  </a:lnTo>
                  <a:lnTo>
                    <a:pt x="908" y="397"/>
                  </a:lnTo>
                  <a:lnTo>
                    <a:pt x="910" y="480"/>
                  </a:lnTo>
                  <a:lnTo>
                    <a:pt x="912" y="660"/>
                  </a:lnTo>
                  <a:lnTo>
                    <a:pt x="913" y="459"/>
                  </a:lnTo>
                  <a:lnTo>
                    <a:pt x="915" y="462"/>
                  </a:lnTo>
                  <a:lnTo>
                    <a:pt x="916" y="421"/>
                  </a:lnTo>
                  <a:lnTo>
                    <a:pt x="917" y="492"/>
                  </a:lnTo>
                  <a:lnTo>
                    <a:pt x="919" y="433"/>
                  </a:lnTo>
                  <a:lnTo>
                    <a:pt x="920" y="644"/>
                  </a:lnTo>
                  <a:lnTo>
                    <a:pt x="922" y="488"/>
                  </a:lnTo>
                  <a:lnTo>
                    <a:pt x="923" y="636"/>
                  </a:lnTo>
                  <a:lnTo>
                    <a:pt x="925" y="554"/>
                  </a:lnTo>
                  <a:lnTo>
                    <a:pt x="926" y="491"/>
                  </a:lnTo>
                  <a:lnTo>
                    <a:pt x="927" y="540"/>
                  </a:lnTo>
                  <a:lnTo>
                    <a:pt x="929" y="467"/>
                  </a:lnTo>
                  <a:lnTo>
                    <a:pt x="930" y="483"/>
                  </a:lnTo>
                  <a:lnTo>
                    <a:pt x="932" y="617"/>
                  </a:lnTo>
                  <a:lnTo>
                    <a:pt x="934" y="698"/>
                  </a:lnTo>
                  <a:lnTo>
                    <a:pt x="935" y="605"/>
                  </a:lnTo>
                  <a:lnTo>
                    <a:pt x="936" y="629"/>
                  </a:lnTo>
                  <a:lnTo>
                    <a:pt x="937" y="680"/>
                  </a:lnTo>
                  <a:lnTo>
                    <a:pt x="939" y="593"/>
                  </a:lnTo>
                  <a:lnTo>
                    <a:pt x="941" y="583"/>
                  </a:lnTo>
                  <a:lnTo>
                    <a:pt x="942" y="518"/>
                  </a:lnTo>
                  <a:lnTo>
                    <a:pt x="944" y="441"/>
                  </a:lnTo>
                  <a:lnTo>
                    <a:pt x="945" y="654"/>
                  </a:lnTo>
                  <a:lnTo>
                    <a:pt x="946" y="669"/>
                  </a:lnTo>
                  <a:lnTo>
                    <a:pt x="948" y="716"/>
                  </a:lnTo>
                  <a:lnTo>
                    <a:pt x="949" y="652"/>
                  </a:lnTo>
                  <a:lnTo>
                    <a:pt x="951" y="538"/>
                  </a:lnTo>
                  <a:lnTo>
                    <a:pt x="952" y="500"/>
                  </a:lnTo>
                  <a:lnTo>
                    <a:pt x="954" y="576"/>
                  </a:lnTo>
                  <a:lnTo>
                    <a:pt x="955" y="595"/>
                  </a:lnTo>
                  <a:lnTo>
                    <a:pt x="956" y="656"/>
                  </a:lnTo>
                  <a:lnTo>
                    <a:pt x="958" y="901"/>
                  </a:lnTo>
                  <a:lnTo>
                    <a:pt x="960" y="513"/>
                  </a:lnTo>
                  <a:lnTo>
                    <a:pt x="961" y="473"/>
                  </a:lnTo>
                  <a:lnTo>
                    <a:pt x="962" y="569"/>
                  </a:lnTo>
                  <a:lnTo>
                    <a:pt x="964" y="408"/>
                  </a:lnTo>
                  <a:lnTo>
                    <a:pt x="965" y="485"/>
                  </a:lnTo>
                  <a:lnTo>
                    <a:pt x="966" y="610"/>
                  </a:lnTo>
                  <a:lnTo>
                    <a:pt x="968" y="466"/>
                  </a:lnTo>
                  <a:lnTo>
                    <a:pt x="970" y="389"/>
                  </a:lnTo>
                  <a:lnTo>
                    <a:pt x="971" y="550"/>
                  </a:lnTo>
                  <a:lnTo>
                    <a:pt x="973" y="767"/>
                  </a:lnTo>
                  <a:lnTo>
                    <a:pt x="974" y="729"/>
                  </a:lnTo>
                  <a:lnTo>
                    <a:pt x="975" y="776"/>
                  </a:lnTo>
                  <a:lnTo>
                    <a:pt x="976" y="799"/>
                  </a:lnTo>
                  <a:lnTo>
                    <a:pt x="978" y="723"/>
                  </a:lnTo>
                  <a:lnTo>
                    <a:pt x="980" y="747"/>
                  </a:lnTo>
                  <a:lnTo>
                    <a:pt x="981" y="552"/>
                  </a:lnTo>
                  <a:lnTo>
                    <a:pt x="983" y="678"/>
                  </a:lnTo>
                  <a:lnTo>
                    <a:pt x="984" y="816"/>
                  </a:lnTo>
                  <a:lnTo>
                    <a:pt x="985" y="528"/>
                  </a:lnTo>
                  <a:lnTo>
                    <a:pt x="987" y="601"/>
                  </a:lnTo>
                  <a:lnTo>
                    <a:pt x="989" y="506"/>
                  </a:lnTo>
                  <a:lnTo>
                    <a:pt x="990" y="652"/>
                  </a:lnTo>
                  <a:lnTo>
                    <a:pt x="991" y="609"/>
                  </a:lnTo>
                  <a:lnTo>
                    <a:pt x="993" y="533"/>
                  </a:lnTo>
                  <a:lnTo>
                    <a:pt x="994" y="483"/>
                  </a:lnTo>
                  <a:lnTo>
                    <a:pt x="995" y="539"/>
                  </a:lnTo>
                  <a:lnTo>
                    <a:pt x="997" y="516"/>
                  </a:lnTo>
                  <a:lnTo>
                    <a:pt x="999" y="568"/>
                  </a:lnTo>
                  <a:lnTo>
                    <a:pt x="1000" y="588"/>
                  </a:lnTo>
                  <a:lnTo>
                    <a:pt x="1001" y="570"/>
                  </a:lnTo>
                  <a:lnTo>
                    <a:pt x="1003" y="459"/>
                  </a:lnTo>
                  <a:lnTo>
                    <a:pt x="1004" y="465"/>
                  </a:lnTo>
                  <a:lnTo>
                    <a:pt x="1005" y="367"/>
                  </a:lnTo>
                  <a:lnTo>
                    <a:pt x="1007" y="404"/>
                  </a:lnTo>
                  <a:lnTo>
                    <a:pt x="1009" y="679"/>
                  </a:lnTo>
                  <a:lnTo>
                    <a:pt x="1010" y="489"/>
                  </a:lnTo>
                  <a:lnTo>
                    <a:pt x="1012" y="559"/>
                  </a:lnTo>
                  <a:lnTo>
                    <a:pt x="1013" y="609"/>
                  </a:lnTo>
                  <a:lnTo>
                    <a:pt x="1014" y="783"/>
                  </a:lnTo>
                  <a:lnTo>
                    <a:pt x="1015" y="627"/>
                  </a:lnTo>
                  <a:lnTo>
                    <a:pt x="1018" y="611"/>
                  </a:lnTo>
                  <a:lnTo>
                    <a:pt x="1019" y="663"/>
                  </a:lnTo>
                  <a:lnTo>
                    <a:pt x="1020" y="695"/>
                  </a:lnTo>
                  <a:lnTo>
                    <a:pt x="1022" y="707"/>
                  </a:lnTo>
                  <a:lnTo>
                    <a:pt x="1023" y="613"/>
                  </a:lnTo>
                  <a:lnTo>
                    <a:pt x="1024" y="647"/>
                  </a:lnTo>
                  <a:lnTo>
                    <a:pt x="1026" y="588"/>
                  </a:lnTo>
                  <a:lnTo>
                    <a:pt x="1028" y="652"/>
                  </a:lnTo>
                  <a:lnTo>
                    <a:pt x="1029" y="480"/>
                  </a:lnTo>
                  <a:lnTo>
                    <a:pt x="1030" y="650"/>
                  </a:lnTo>
                  <a:lnTo>
                    <a:pt x="1032" y="476"/>
                  </a:lnTo>
                  <a:lnTo>
                    <a:pt x="1033" y="632"/>
                  </a:lnTo>
                  <a:lnTo>
                    <a:pt x="1034" y="686"/>
                  </a:lnTo>
                  <a:lnTo>
                    <a:pt x="1036" y="529"/>
                  </a:lnTo>
                  <a:lnTo>
                    <a:pt x="1038" y="422"/>
                  </a:lnTo>
                  <a:lnTo>
                    <a:pt x="1039" y="530"/>
                  </a:lnTo>
                  <a:lnTo>
                    <a:pt x="1041" y="459"/>
                  </a:lnTo>
                  <a:lnTo>
                    <a:pt x="1042" y="554"/>
                  </a:lnTo>
                  <a:lnTo>
                    <a:pt x="1043" y="503"/>
                  </a:lnTo>
                  <a:lnTo>
                    <a:pt x="1044" y="523"/>
                  </a:lnTo>
                  <a:lnTo>
                    <a:pt x="1047" y="647"/>
                  </a:lnTo>
                  <a:lnTo>
                    <a:pt x="1048" y="675"/>
                  </a:lnTo>
                  <a:lnTo>
                    <a:pt x="1049" y="606"/>
                  </a:lnTo>
                  <a:lnTo>
                    <a:pt x="1051" y="519"/>
                  </a:lnTo>
                  <a:lnTo>
                    <a:pt x="1052" y="689"/>
                  </a:lnTo>
                  <a:lnTo>
                    <a:pt x="1053" y="647"/>
                  </a:lnTo>
                  <a:lnTo>
                    <a:pt x="1054" y="760"/>
                  </a:lnTo>
                  <a:lnTo>
                    <a:pt x="1057" y="636"/>
                  </a:lnTo>
                  <a:lnTo>
                    <a:pt x="1058" y="726"/>
                  </a:lnTo>
                  <a:lnTo>
                    <a:pt x="1059" y="783"/>
                  </a:lnTo>
                  <a:lnTo>
                    <a:pt x="1061" y="756"/>
                  </a:lnTo>
                  <a:lnTo>
                    <a:pt x="1062" y="706"/>
                  </a:lnTo>
                  <a:lnTo>
                    <a:pt x="1063" y="671"/>
                  </a:lnTo>
                  <a:lnTo>
                    <a:pt x="1065" y="774"/>
                  </a:lnTo>
                  <a:lnTo>
                    <a:pt x="1067" y="695"/>
                  </a:lnTo>
                  <a:lnTo>
                    <a:pt x="1068" y="627"/>
                  </a:lnTo>
                  <a:lnTo>
                    <a:pt x="1069" y="690"/>
                  </a:lnTo>
                  <a:lnTo>
                    <a:pt x="1071" y="872"/>
                  </a:lnTo>
                  <a:lnTo>
                    <a:pt x="1072" y="838"/>
                  </a:lnTo>
                  <a:lnTo>
                    <a:pt x="1073" y="850"/>
                  </a:lnTo>
                  <a:lnTo>
                    <a:pt x="1076" y="787"/>
                  </a:lnTo>
                  <a:lnTo>
                    <a:pt x="1077" y="674"/>
                  </a:lnTo>
                  <a:lnTo>
                    <a:pt x="1078" y="795"/>
                  </a:lnTo>
                  <a:lnTo>
                    <a:pt x="1080" y="758"/>
                  </a:lnTo>
                  <a:lnTo>
                    <a:pt x="1081" y="812"/>
                  </a:lnTo>
                  <a:lnTo>
                    <a:pt x="1082" y="900"/>
                  </a:lnTo>
                  <a:lnTo>
                    <a:pt x="1083" y="776"/>
                  </a:lnTo>
                  <a:lnTo>
                    <a:pt x="1086" y="518"/>
                  </a:lnTo>
                  <a:lnTo>
                    <a:pt x="1087" y="600"/>
                  </a:lnTo>
                  <a:lnTo>
                    <a:pt x="1088" y="722"/>
                  </a:lnTo>
                  <a:lnTo>
                    <a:pt x="1090" y="595"/>
                  </a:lnTo>
                  <a:lnTo>
                    <a:pt x="1091" y="588"/>
                  </a:lnTo>
                  <a:lnTo>
                    <a:pt x="1092" y="673"/>
                  </a:lnTo>
                  <a:lnTo>
                    <a:pt x="1093" y="707"/>
                  </a:lnTo>
                  <a:lnTo>
                    <a:pt x="1096" y="743"/>
                  </a:lnTo>
                  <a:lnTo>
                    <a:pt x="1097" y="657"/>
                  </a:lnTo>
                  <a:lnTo>
                    <a:pt x="1098" y="675"/>
                  </a:lnTo>
                  <a:lnTo>
                    <a:pt x="1100" y="939"/>
                  </a:lnTo>
                  <a:lnTo>
                    <a:pt x="1101" y="781"/>
                  </a:lnTo>
                  <a:lnTo>
                    <a:pt x="1102" y="763"/>
                  </a:lnTo>
                  <a:lnTo>
                    <a:pt x="1105" y="820"/>
                  </a:lnTo>
                  <a:lnTo>
                    <a:pt x="1106" y="762"/>
                  </a:lnTo>
                  <a:lnTo>
                    <a:pt x="1107" y="663"/>
                  </a:lnTo>
                  <a:lnTo>
                    <a:pt x="1108" y="831"/>
                  </a:lnTo>
                  <a:lnTo>
                    <a:pt x="1110" y="821"/>
                  </a:lnTo>
                  <a:lnTo>
                    <a:pt x="1111" y="631"/>
                  </a:lnTo>
                  <a:lnTo>
                    <a:pt x="1112" y="715"/>
                  </a:lnTo>
                  <a:lnTo>
                    <a:pt x="1115" y="729"/>
                  </a:lnTo>
                  <a:lnTo>
                    <a:pt x="1116" y="697"/>
                  </a:lnTo>
                  <a:lnTo>
                    <a:pt x="1117" y="780"/>
                  </a:lnTo>
                  <a:lnTo>
                    <a:pt x="1119" y="572"/>
                  </a:lnTo>
                  <a:lnTo>
                    <a:pt x="1120" y="567"/>
                  </a:lnTo>
                  <a:lnTo>
                    <a:pt x="1121" y="609"/>
                  </a:lnTo>
                  <a:lnTo>
                    <a:pt x="1122" y="743"/>
                  </a:lnTo>
                  <a:lnTo>
                    <a:pt x="1125" y="639"/>
                  </a:lnTo>
                  <a:lnTo>
                    <a:pt x="1126" y="844"/>
                  </a:lnTo>
                  <a:lnTo>
                    <a:pt x="1127" y="845"/>
                  </a:lnTo>
                  <a:lnTo>
                    <a:pt x="1129" y="1010"/>
                  </a:lnTo>
                  <a:lnTo>
                    <a:pt x="1130" y="1076"/>
                  </a:lnTo>
                  <a:lnTo>
                    <a:pt x="1131" y="941"/>
                  </a:lnTo>
                  <a:lnTo>
                    <a:pt x="1132" y="933"/>
                  </a:lnTo>
                  <a:lnTo>
                    <a:pt x="1135" y="608"/>
                  </a:lnTo>
                  <a:lnTo>
                    <a:pt x="1136" y="755"/>
                  </a:lnTo>
                  <a:lnTo>
                    <a:pt x="1137" y="688"/>
                  </a:lnTo>
                  <a:lnTo>
                    <a:pt x="1139" y="534"/>
                  </a:lnTo>
                  <a:lnTo>
                    <a:pt x="1140" y="629"/>
                  </a:lnTo>
                  <a:lnTo>
                    <a:pt x="1141" y="718"/>
                  </a:lnTo>
                  <a:lnTo>
                    <a:pt x="1144" y="669"/>
                  </a:lnTo>
                  <a:lnTo>
                    <a:pt x="1145" y="475"/>
                  </a:lnTo>
                  <a:lnTo>
                    <a:pt x="1146" y="384"/>
                  </a:lnTo>
                  <a:lnTo>
                    <a:pt x="1147" y="785"/>
                  </a:lnTo>
                  <a:lnTo>
                    <a:pt x="1149" y="733"/>
                  </a:lnTo>
                  <a:lnTo>
                    <a:pt x="1150" y="654"/>
                  </a:lnTo>
                  <a:lnTo>
                    <a:pt x="1151" y="610"/>
                  </a:lnTo>
                  <a:lnTo>
                    <a:pt x="1154" y="530"/>
                  </a:lnTo>
                  <a:lnTo>
                    <a:pt x="1155" y="524"/>
                  </a:lnTo>
                  <a:lnTo>
                    <a:pt x="1156" y="423"/>
                  </a:lnTo>
                  <a:lnTo>
                    <a:pt x="1158" y="543"/>
                  </a:lnTo>
                  <a:lnTo>
                    <a:pt x="1159" y="580"/>
                  </a:lnTo>
                  <a:lnTo>
                    <a:pt x="1160" y="489"/>
                  </a:lnTo>
                  <a:lnTo>
                    <a:pt x="1161" y="518"/>
                  </a:lnTo>
                  <a:lnTo>
                    <a:pt x="1164" y="596"/>
                  </a:lnTo>
                  <a:lnTo>
                    <a:pt x="1165" y="637"/>
                  </a:lnTo>
                  <a:lnTo>
                    <a:pt x="1166" y="502"/>
                  </a:lnTo>
                  <a:lnTo>
                    <a:pt x="1168" y="534"/>
                  </a:lnTo>
                  <a:lnTo>
                    <a:pt x="1169" y="481"/>
                  </a:lnTo>
                  <a:lnTo>
                    <a:pt x="1170" y="569"/>
                  </a:lnTo>
                  <a:lnTo>
                    <a:pt x="1173" y="482"/>
                  </a:lnTo>
                  <a:lnTo>
                    <a:pt x="1174" y="573"/>
                  </a:lnTo>
                  <a:lnTo>
                    <a:pt x="1175" y="502"/>
                  </a:lnTo>
                  <a:lnTo>
                    <a:pt x="1176" y="462"/>
                  </a:lnTo>
                  <a:lnTo>
                    <a:pt x="1178" y="234"/>
                  </a:lnTo>
                  <a:lnTo>
                    <a:pt x="1179" y="475"/>
                  </a:lnTo>
                  <a:lnTo>
                    <a:pt x="1180" y="545"/>
                  </a:lnTo>
                  <a:lnTo>
                    <a:pt x="1183" y="556"/>
                  </a:lnTo>
                  <a:lnTo>
                    <a:pt x="1184" y="584"/>
                  </a:lnTo>
                  <a:lnTo>
                    <a:pt x="1185" y="664"/>
                  </a:lnTo>
                  <a:lnTo>
                    <a:pt x="1186" y="767"/>
                  </a:lnTo>
                  <a:lnTo>
                    <a:pt x="1188" y="588"/>
                  </a:lnTo>
                  <a:lnTo>
                    <a:pt x="1189" y="541"/>
                  </a:lnTo>
                  <a:lnTo>
                    <a:pt x="1190" y="646"/>
                  </a:lnTo>
                  <a:lnTo>
                    <a:pt x="1193" y="519"/>
                  </a:lnTo>
                  <a:lnTo>
                    <a:pt x="1194" y="635"/>
                  </a:lnTo>
                  <a:lnTo>
                    <a:pt x="1195" y="578"/>
                  </a:lnTo>
                  <a:lnTo>
                    <a:pt x="1197" y="787"/>
                  </a:lnTo>
                  <a:lnTo>
                    <a:pt x="1198" y="512"/>
                  </a:lnTo>
                  <a:lnTo>
                    <a:pt x="1199" y="768"/>
                  </a:lnTo>
                  <a:lnTo>
                    <a:pt x="1200" y="610"/>
                  </a:lnTo>
                  <a:lnTo>
                    <a:pt x="1203" y="447"/>
                  </a:lnTo>
                  <a:lnTo>
                    <a:pt x="1204" y="453"/>
                  </a:lnTo>
                  <a:lnTo>
                    <a:pt x="1205" y="561"/>
                  </a:lnTo>
                  <a:lnTo>
                    <a:pt x="1207" y="481"/>
                  </a:lnTo>
                  <a:lnTo>
                    <a:pt x="1208" y="484"/>
                  </a:lnTo>
                  <a:lnTo>
                    <a:pt x="1209" y="321"/>
                  </a:lnTo>
                  <a:lnTo>
                    <a:pt x="1212" y="310"/>
                  </a:lnTo>
                  <a:lnTo>
                    <a:pt x="1213" y="369"/>
                  </a:lnTo>
                  <a:lnTo>
                    <a:pt x="1214" y="438"/>
                  </a:lnTo>
                  <a:lnTo>
                    <a:pt x="1215" y="320"/>
                  </a:lnTo>
                  <a:lnTo>
                    <a:pt x="1217" y="261"/>
                  </a:lnTo>
                  <a:lnTo>
                    <a:pt x="1218" y="239"/>
                  </a:lnTo>
                  <a:lnTo>
                    <a:pt x="1219" y="228"/>
                  </a:lnTo>
                  <a:lnTo>
                    <a:pt x="1222" y="121"/>
                  </a:lnTo>
                  <a:lnTo>
                    <a:pt x="1223" y="135"/>
                  </a:lnTo>
                  <a:lnTo>
                    <a:pt x="1224" y="492"/>
                  </a:lnTo>
                  <a:lnTo>
                    <a:pt x="1225" y="412"/>
                  </a:lnTo>
                  <a:lnTo>
                    <a:pt x="1227" y="339"/>
                  </a:lnTo>
                  <a:lnTo>
                    <a:pt x="1228" y="389"/>
                  </a:lnTo>
                  <a:lnTo>
                    <a:pt x="1229" y="534"/>
                  </a:lnTo>
                  <a:lnTo>
                    <a:pt x="1232" y="474"/>
                  </a:lnTo>
                  <a:lnTo>
                    <a:pt x="1233" y="388"/>
                  </a:lnTo>
                  <a:lnTo>
                    <a:pt x="1234" y="313"/>
                  </a:lnTo>
                  <a:lnTo>
                    <a:pt x="1236" y="415"/>
                  </a:lnTo>
                  <a:lnTo>
                    <a:pt x="1237" y="344"/>
                  </a:lnTo>
                  <a:lnTo>
                    <a:pt x="1238" y="550"/>
                  </a:lnTo>
                  <a:lnTo>
                    <a:pt x="1240" y="473"/>
                  </a:lnTo>
                  <a:lnTo>
                    <a:pt x="1242" y="464"/>
                  </a:lnTo>
                  <a:lnTo>
                    <a:pt x="1243" y="401"/>
                  </a:lnTo>
                  <a:lnTo>
                    <a:pt x="1244" y="383"/>
                  </a:lnTo>
                  <a:lnTo>
                    <a:pt x="1246" y="416"/>
                  </a:lnTo>
                  <a:lnTo>
                    <a:pt x="1247" y="488"/>
                  </a:lnTo>
                  <a:lnTo>
                    <a:pt x="1248" y="634"/>
                  </a:lnTo>
                  <a:lnTo>
                    <a:pt x="1251" y="618"/>
                  </a:lnTo>
                  <a:lnTo>
                    <a:pt x="1252" y="656"/>
                  </a:lnTo>
                  <a:lnTo>
                    <a:pt x="1253" y="862"/>
                  </a:lnTo>
                  <a:lnTo>
                    <a:pt x="1254" y="678"/>
                  </a:lnTo>
                  <a:lnTo>
                    <a:pt x="1256" y="609"/>
                  </a:lnTo>
                  <a:lnTo>
                    <a:pt x="1257" y="710"/>
                  </a:lnTo>
                  <a:lnTo>
                    <a:pt x="1258" y="766"/>
                  </a:lnTo>
                  <a:lnTo>
                    <a:pt x="1261" y="494"/>
                  </a:lnTo>
                  <a:lnTo>
                    <a:pt x="1262" y="405"/>
                  </a:lnTo>
                  <a:lnTo>
                    <a:pt x="1263" y="529"/>
                  </a:lnTo>
                  <a:lnTo>
                    <a:pt x="1265" y="547"/>
                  </a:lnTo>
                  <a:lnTo>
                    <a:pt x="1266" y="384"/>
                  </a:lnTo>
                  <a:lnTo>
                    <a:pt x="1267" y="385"/>
                  </a:lnTo>
                  <a:lnTo>
                    <a:pt x="1269" y="408"/>
                  </a:lnTo>
                  <a:lnTo>
                    <a:pt x="1271" y="677"/>
                  </a:lnTo>
                  <a:lnTo>
                    <a:pt x="1272" y="696"/>
                  </a:lnTo>
                  <a:lnTo>
                    <a:pt x="1273" y="620"/>
                  </a:lnTo>
                  <a:lnTo>
                    <a:pt x="1275" y="522"/>
                  </a:lnTo>
                  <a:lnTo>
                    <a:pt x="1276" y="777"/>
                  </a:lnTo>
                  <a:lnTo>
                    <a:pt x="1277" y="502"/>
                  </a:lnTo>
                  <a:lnTo>
                    <a:pt x="1279" y="620"/>
                  </a:lnTo>
                  <a:lnTo>
                    <a:pt x="1281" y="660"/>
                  </a:lnTo>
                  <a:lnTo>
                    <a:pt x="1282" y="550"/>
                  </a:lnTo>
                  <a:lnTo>
                    <a:pt x="1283" y="641"/>
                  </a:lnTo>
                  <a:lnTo>
                    <a:pt x="1285" y="739"/>
                  </a:lnTo>
                  <a:lnTo>
                    <a:pt x="1286" y="795"/>
                  </a:lnTo>
                  <a:lnTo>
                    <a:pt x="1287" y="836"/>
                  </a:lnTo>
                  <a:lnTo>
                    <a:pt x="1290" y="666"/>
                  </a:lnTo>
                  <a:lnTo>
                    <a:pt x="1291" y="510"/>
                  </a:lnTo>
                  <a:lnTo>
                    <a:pt x="1292" y="567"/>
                  </a:lnTo>
                  <a:lnTo>
                    <a:pt x="1293" y="608"/>
                  </a:lnTo>
                  <a:lnTo>
                    <a:pt x="1295" y="483"/>
                  </a:lnTo>
                  <a:lnTo>
                    <a:pt x="1296" y="445"/>
                  </a:lnTo>
                  <a:lnTo>
                    <a:pt x="1298" y="377"/>
                  </a:lnTo>
                  <a:lnTo>
                    <a:pt x="1300" y="418"/>
                  </a:lnTo>
                  <a:lnTo>
                    <a:pt x="1301" y="421"/>
                  </a:lnTo>
                  <a:lnTo>
                    <a:pt x="1302" y="632"/>
                  </a:lnTo>
                  <a:lnTo>
                    <a:pt x="1304" y="479"/>
                  </a:lnTo>
                  <a:lnTo>
                    <a:pt x="1305" y="447"/>
                  </a:lnTo>
                  <a:lnTo>
                    <a:pt x="1306" y="581"/>
                  </a:lnTo>
                  <a:lnTo>
                    <a:pt x="1308" y="631"/>
                  </a:lnTo>
                  <a:lnTo>
                    <a:pt x="1310" y="603"/>
                  </a:lnTo>
                  <a:lnTo>
                    <a:pt x="1311" y="698"/>
                  </a:lnTo>
                  <a:lnTo>
                    <a:pt x="1312" y="708"/>
                  </a:lnTo>
                  <a:lnTo>
                    <a:pt x="1314" y="550"/>
                  </a:lnTo>
                  <a:lnTo>
                    <a:pt x="1315" y="655"/>
                  </a:lnTo>
                  <a:lnTo>
                    <a:pt x="1316" y="897"/>
                  </a:lnTo>
                  <a:lnTo>
                    <a:pt x="1318" y="607"/>
                  </a:lnTo>
                  <a:lnTo>
                    <a:pt x="1320" y="313"/>
                  </a:lnTo>
                  <a:lnTo>
                    <a:pt x="1321" y="372"/>
                  </a:lnTo>
                  <a:lnTo>
                    <a:pt x="1322" y="620"/>
                  </a:lnTo>
                  <a:lnTo>
                    <a:pt x="1324" y="703"/>
                  </a:lnTo>
                  <a:lnTo>
                    <a:pt x="1325" y="509"/>
                  </a:lnTo>
                  <a:lnTo>
                    <a:pt x="1327" y="445"/>
                  </a:lnTo>
                  <a:lnTo>
                    <a:pt x="1329" y="524"/>
                  </a:lnTo>
                  <a:lnTo>
                    <a:pt x="1330" y="753"/>
                  </a:lnTo>
                  <a:lnTo>
                    <a:pt x="1331" y="729"/>
                  </a:lnTo>
                  <a:lnTo>
                    <a:pt x="1332" y="899"/>
                  </a:lnTo>
                  <a:lnTo>
                    <a:pt x="1334" y="626"/>
                  </a:lnTo>
                  <a:lnTo>
                    <a:pt x="1335" y="659"/>
                  </a:lnTo>
                  <a:lnTo>
                    <a:pt x="1337" y="563"/>
                  </a:lnTo>
                  <a:lnTo>
                    <a:pt x="1339" y="528"/>
                  </a:lnTo>
                  <a:lnTo>
                    <a:pt x="1340" y="619"/>
                  </a:lnTo>
                  <a:lnTo>
                    <a:pt x="1341" y="543"/>
                  </a:lnTo>
                  <a:lnTo>
                    <a:pt x="1343" y="731"/>
                  </a:lnTo>
                  <a:lnTo>
                    <a:pt x="1344" y="606"/>
                  </a:lnTo>
                  <a:lnTo>
                    <a:pt x="1345" y="504"/>
                  </a:lnTo>
                  <a:lnTo>
                    <a:pt x="1347" y="715"/>
                  </a:lnTo>
                  <a:lnTo>
                    <a:pt x="1349" y="569"/>
                  </a:lnTo>
                  <a:lnTo>
                    <a:pt x="1350" y="581"/>
                  </a:lnTo>
                  <a:lnTo>
                    <a:pt x="1351" y="579"/>
                  </a:lnTo>
                  <a:lnTo>
                    <a:pt x="1353" y="646"/>
                  </a:lnTo>
                  <a:lnTo>
                    <a:pt x="1354" y="531"/>
                  </a:lnTo>
                  <a:lnTo>
                    <a:pt x="1356" y="488"/>
                  </a:lnTo>
                  <a:lnTo>
                    <a:pt x="1357" y="863"/>
                  </a:lnTo>
                  <a:lnTo>
                    <a:pt x="1359" y="893"/>
                  </a:lnTo>
                  <a:lnTo>
                    <a:pt x="1360" y="862"/>
                  </a:lnTo>
                  <a:lnTo>
                    <a:pt x="1361" y="788"/>
                  </a:lnTo>
                  <a:lnTo>
                    <a:pt x="1363" y="664"/>
                  </a:lnTo>
                  <a:lnTo>
                    <a:pt x="1364" y="739"/>
                  </a:lnTo>
                  <a:lnTo>
                    <a:pt x="1366" y="854"/>
                  </a:lnTo>
                  <a:lnTo>
                    <a:pt x="1368" y="636"/>
                  </a:lnTo>
                  <a:lnTo>
                    <a:pt x="1369" y="710"/>
                  </a:lnTo>
                  <a:lnTo>
                    <a:pt x="1370" y="620"/>
                  </a:lnTo>
                  <a:lnTo>
                    <a:pt x="1371" y="559"/>
                  </a:lnTo>
                  <a:lnTo>
                    <a:pt x="1373" y="693"/>
                  </a:lnTo>
                  <a:lnTo>
                    <a:pt x="1374" y="632"/>
                  </a:lnTo>
                  <a:lnTo>
                    <a:pt x="1376" y="717"/>
                  </a:lnTo>
                  <a:lnTo>
                    <a:pt x="1378" y="745"/>
                  </a:lnTo>
                  <a:lnTo>
                    <a:pt x="1379" y="784"/>
                  </a:lnTo>
                  <a:lnTo>
                    <a:pt x="1380" y="697"/>
                  </a:lnTo>
                  <a:lnTo>
                    <a:pt x="1382" y="486"/>
                  </a:lnTo>
                  <a:lnTo>
                    <a:pt x="1383" y="702"/>
                  </a:lnTo>
                  <a:lnTo>
                    <a:pt x="1385" y="891"/>
                  </a:lnTo>
                  <a:lnTo>
                    <a:pt x="1386" y="727"/>
                  </a:lnTo>
                  <a:lnTo>
                    <a:pt x="1388" y="609"/>
                  </a:lnTo>
                  <a:lnTo>
                    <a:pt x="1389" y="647"/>
                  </a:lnTo>
                  <a:lnTo>
                    <a:pt x="1390" y="635"/>
                  </a:lnTo>
                  <a:lnTo>
                    <a:pt x="1392" y="492"/>
                  </a:lnTo>
                  <a:lnTo>
                    <a:pt x="1393" y="600"/>
                  </a:lnTo>
                  <a:lnTo>
                    <a:pt x="1395" y="558"/>
                  </a:lnTo>
                  <a:lnTo>
                    <a:pt x="1397" y="358"/>
                  </a:lnTo>
                  <a:lnTo>
                    <a:pt x="1398" y="411"/>
                  </a:lnTo>
                  <a:lnTo>
                    <a:pt x="1399" y="645"/>
                  </a:lnTo>
                  <a:lnTo>
                    <a:pt x="1400" y="693"/>
                  </a:lnTo>
                  <a:lnTo>
                    <a:pt x="1402" y="749"/>
                  </a:lnTo>
                  <a:lnTo>
                    <a:pt x="1403" y="550"/>
                  </a:lnTo>
                  <a:lnTo>
                    <a:pt x="1405" y="626"/>
                  </a:lnTo>
                  <a:lnTo>
                    <a:pt x="1407" y="663"/>
                  </a:lnTo>
                  <a:lnTo>
                    <a:pt x="1408" y="729"/>
                  </a:lnTo>
                  <a:lnTo>
                    <a:pt x="1409" y="830"/>
                  </a:lnTo>
                  <a:lnTo>
                    <a:pt x="1410" y="527"/>
                  </a:lnTo>
                  <a:lnTo>
                    <a:pt x="1412" y="524"/>
                  </a:lnTo>
                  <a:lnTo>
                    <a:pt x="1414" y="523"/>
                  </a:lnTo>
                  <a:lnTo>
                    <a:pt x="1415" y="401"/>
                  </a:lnTo>
                  <a:lnTo>
                    <a:pt x="1417" y="398"/>
                  </a:lnTo>
                  <a:lnTo>
                    <a:pt x="1418" y="384"/>
                  </a:lnTo>
                  <a:lnTo>
                    <a:pt x="1419" y="17"/>
                  </a:lnTo>
                  <a:lnTo>
                    <a:pt x="1421" y="502"/>
                  </a:lnTo>
                  <a:lnTo>
                    <a:pt x="1422" y="450"/>
                  </a:lnTo>
                  <a:lnTo>
                    <a:pt x="1424" y="681"/>
                  </a:lnTo>
                  <a:lnTo>
                    <a:pt x="1425" y="671"/>
                  </a:lnTo>
                  <a:lnTo>
                    <a:pt x="1427" y="562"/>
                  </a:lnTo>
                  <a:lnTo>
                    <a:pt x="1428" y="764"/>
                  </a:lnTo>
                  <a:lnTo>
                    <a:pt x="1429" y="480"/>
                  </a:lnTo>
                  <a:lnTo>
                    <a:pt x="1431" y="370"/>
                  </a:lnTo>
                  <a:lnTo>
                    <a:pt x="1432" y="436"/>
                  </a:lnTo>
                  <a:lnTo>
                    <a:pt x="1434" y="499"/>
                  </a:lnTo>
                  <a:lnTo>
                    <a:pt x="1436" y="551"/>
                  </a:lnTo>
                  <a:lnTo>
                    <a:pt x="1437" y="544"/>
                  </a:lnTo>
                  <a:lnTo>
                    <a:pt x="1438" y="618"/>
                  </a:lnTo>
                  <a:lnTo>
                    <a:pt x="1439" y="722"/>
                  </a:lnTo>
                  <a:lnTo>
                    <a:pt x="1441" y="683"/>
                  </a:lnTo>
                  <a:lnTo>
                    <a:pt x="1443" y="640"/>
                  </a:lnTo>
                  <a:lnTo>
                    <a:pt x="1444" y="534"/>
                  </a:lnTo>
                  <a:lnTo>
                    <a:pt x="1446" y="521"/>
                  </a:lnTo>
                  <a:lnTo>
                    <a:pt x="1447" y="580"/>
                  </a:lnTo>
                  <a:lnTo>
                    <a:pt x="1448" y="738"/>
                  </a:lnTo>
                  <a:lnTo>
                    <a:pt x="1449" y="678"/>
                  </a:lnTo>
                  <a:lnTo>
                    <a:pt x="1451" y="509"/>
                  </a:lnTo>
                  <a:lnTo>
                    <a:pt x="1453" y="456"/>
                  </a:lnTo>
                  <a:lnTo>
                    <a:pt x="1454" y="537"/>
                  </a:lnTo>
                  <a:lnTo>
                    <a:pt x="1456" y="294"/>
                  </a:lnTo>
                  <a:lnTo>
                    <a:pt x="1457" y="374"/>
                  </a:lnTo>
                  <a:lnTo>
                    <a:pt x="1458" y="548"/>
                  </a:lnTo>
                  <a:lnTo>
                    <a:pt x="1460" y="697"/>
                  </a:lnTo>
                  <a:lnTo>
                    <a:pt x="1462" y="752"/>
                  </a:lnTo>
                  <a:lnTo>
                    <a:pt x="1463" y="553"/>
                  </a:lnTo>
                  <a:lnTo>
                    <a:pt x="1464" y="499"/>
                  </a:lnTo>
                  <a:lnTo>
                    <a:pt x="1466" y="608"/>
                  </a:lnTo>
                  <a:lnTo>
                    <a:pt x="1467" y="425"/>
                  </a:lnTo>
                  <a:lnTo>
                    <a:pt x="1468" y="534"/>
                  </a:lnTo>
                  <a:lnTo>
                    <a:pt x="1470" y="481"/>
                  </a:lnTo>
                  <a:lnTo>
                    <a:pt x="1472" y="629"/>
                  </a:lnTo>
                  <a:lnTo>
                    <a:pt x="1473" y="715"/>
                  </a:lnTo>
                  <a:lnTo>
                    <a:pt x="1475" y="532"/>
                  </a:lnTo>
                  <a:lnTo>
                    <a:pt x="1476" y="506"/>
                  </a:lnTo>
                  <a:lnTo>
                    <a:pt x="1477" y="460"/>
                  </a:lnTo>
                  <a:lnTo>
                    <a:pt x="1478" y="471"/>
                  </a:lnTo>
                  <a:lnTo>
                    <a:pt x="1480" y="553"/>
                  </a:lnTo>
                  <a:lnTo>
                    <a:pt x="1482" y="515"/>
                  </a:lnTo>
                  <a:lnTo>
                    <a:pt x="1483" y="502"/>
                  </a:lnTo>
                  <a:lnTo>
                    <a:pt x="1485" y="464"/>
                  </a:lnTo>
                  <a:lnTo>
                    <a:pt x="1486" y="352"/>
                  </a:lnTo>
                  <a:lnTo>
                    <a:pt x="1487" y="344"/>
                  </a:lnTo>
                  <a:lnTo>
                    <a:pt x="1489" y="667"/>
                  </a:lnTo>
                  <a:lnTo>
                    <a:pt x="1491" y="722"/>
                  </a:lnTo>
                  <a:lnTo>
                    <a:pt x="1492" y="651"/>
                  </a:lnTo>
                  <a:lnTo>
                    <a:pt x="1493" y="505"/>
                  </a:lnTo>
                  <a:lnTo>
                    <a:pt x="1495" y="649"/>
                  </a:lnTo>
                  <a:lnTo>
                    <a:pt x="1496" y="615"/>
                  </a:lnTo>
                  <a:lnTo>
                    <a:pt x="1497" y="482"/>
                  </a:lnTo>
                  <a:lnTo>
                    <a:pt x="1499" y="423"/>
                  </a:lnTo>
                  <a:lnTo>
                    <a:pt x="1501" y="404"/>
                  </a:lnTo>
                  <a:lnTo>
                    <a:pt x="1502" y="474"/>
                  </a:lnTo>
                  <a:lnTo>
                    <a:pt x="1503" y="422"/>
                  </a:lnTo>
                  <a:lnTo>
                    <a:pt x="1505" y="378"/>
                  </a:lnTo>
                  <a:lnTo>
                    <a:pt x="1506" y="252"/>
                  </a:lnTo>
                  <a:lnTo>
                    <a:pt x="1507" y="313"/>
                  </a:lnTo>
                  <a:lnTo>
                    <a:pt x="1509" y="270"/>
                  </a:lnTo>
                  <a:lnTo>
                    <a:pt x="1511" y="383"/>
                  </a:lnTo>
                  <a:lnTo>
                    <a:pt x="1512" y="395"/>
                  </a:lnTo>
                  <a:lnTo>
                    <a:pt x="1514" y="306"/>
                  </a:lnTo>
                  <a:lnTo>
                    <a:pt x="1515" y="544"/>
                  </a:lnTo>
                  <a:lnTo>
                    <a:pt x="1516" y="545"/>
                  </a:lnTo>
                  <a:lnTo>
                    <a:pt x="1517" y="635"/>
                  </a:lnTo>
                  <a:lnTo>
                    <a:pt x="1520" y="520"/>
                  </a:lnTo>
                  <a:lnTo>
                    <a:pt x="1521" y="428"/>
                  </a:lnTo>
                  <a:lnTo>
                    <a:pt x="1522" y="508"/>
                  </a:lnTo>
                  <a:lnTo>
                    <a:pt x="1524" y="570"/>
                  </a:lnTo>
                  <a:lnTo>
                    <a:pt x="1525" y="434"/>
                  </a:lnTo>
                  <a:lnTo>
                    <a:pt x="1526" y="346"/>
                  </a:lnTo>
                  <a:lnTo>
                    <a:pt x="1528" y="250"/>
                  </a:lnTo>
                  <a:lnTo>
                    <a:pt x="1530" y="459"/>
                  </a:lnTo>
                  <a:lnTo>
                    <a:pt x="1531" y="333"/>
                  </a:lnTo>
                  <a:lnTo>
                    <a:pt x="1532" y="326"/>
                  </a:lnTo>
                  <a:lnTo>
                    <a:pt x="1534" y="352"/>
                  </a:lnTo>
                  <a:lnTo>
                    <a:pt x="1535" y="311"/>
                  </a:lnTo>
                  <a:lnTo>
                    <a:pt x="1536" y="237"/>
                  </a:lnTo>
                  <a:lnTo>
                    <a:pt x="1538" y="493"/>
                  </a:lnTo>
                  <a:lnTo>
                    <a:pt x="1540" y="432"/>
                  </a:lnTo>
                  <a:lnTo>
                    <a:pt x="1541" y="508"/>
                  </a:lnTo>
                  <a:lnTo>
                    <a:pt x="1542" y="452"/>
                  </a:lnTo>
                  <a:lnTo>
                    <a:pt x="1544" y="338"/>
                  </a:lnTo>
                  <a:lnTo>
                    <a:pt x="1545" y="407"/>
                  </a:lnTo>
                  <a:lnTo>
                    <a:pt x="1546" y="315"/>
                  </a:lnTo>
                  <a:lnTo>
                    <a:pt x="1549" y="417"/>
                  </a:lnTo>
                  <a:lnTo>
                    <a:pt x="1550" y="511"/>
                  </a:lnTo>
                  <a:lnTo>
                    <a:pt x="1551" y="354"/>
                  </a:lnTo>
                  <a:lnTo>
                    <a:pt x="1553" y="489"/>
                  </a:lnTo>
                  <a:lnTo>
                    <a:pt x="1554" y="491"/>
                  </a:lnTo>
                  <a:lnTo>
                    <a:pt x="1555" y="539"/>
                  </a:lnTo>
                  <a:lnTo>
                    <a:pt x="1556" y="315"/>
                  </a:lnTo>
                  <a:lnTo>
                    <a:pt x="1559" y="262"/>
                  </a:lnTo>
                  <a:lnTo>
                    <a:pt x="1560" y="424"/>
                  </a:lnTo>
                  <a:lnTo>
                    <a:pt x="1561" y="319"/>
                  </a:lnTo>
                  <a:lnTo>
                    <a:pt x="1563" y="255"/>
                  </a:lnTo>
                  <a:lnTo>
                    <a:pt x="1564" y="529"/>
                  </a:lnTo>
                  <a:lnTo>
                    <a:pt x="1565" y="634"/>
                  </a:lnTo>
                  <a:lnTo>
                    <a:pt x="1567" y="367"/>
                  </a:lnTo>
                  <a:lnTo>
                    <a:pt x="1569" y="432"/>
                  </a:lnTo>
                  <a:lnTo>
                    <a:pt x="1570" y="423"/>
                  </a:lnTo>
                  <a:lnTo>
                    <a:pt x="1571" y="300"/>
                  </a:lnTo>
                  <a:lnTo>
                    <a:pt x="1573" y="315"/>
                  </a:lnTo>
                  <a:lnTo>
                    <a:pt x="1574" y="326"/>
                  </a:lnTo>
                  <a:lnTo>
                    <a:pt x="1575" y="578"/>
                  </a:lnTo>
                  <a:lnTo>
                    <a:pt x="1578" y="477"/>
                  </a:lnTo>
                  <a:lnTo>
                    <a:pt x="1579" y="330"/>
                  </a:lnTo>
                  <a:lnTo>
                    <a:pt x="1580" y="259"/>
                  </a:lnTo>
                  <a:lnTo>
                    <a:pt x="1581" y="474"/>
                  </a:lnTo>
                  <a:lnTo>
                    <a:pt x="1583" y="223"/>
                  </a:lnTo>
                  <a:lnTo>
                    <a:pt x="1584" y="74"/>
                  </a:lnTo>
                  <a:lnTo>
                    <a:pt x="1585" y="338"/>
                  </a:lnTo>
                  <a:lnTo>
                    <a:pt x="1588" y="346"/>
                  </a:lnTo>
                  <a:lnTo>
                    <a:pt x="1589" y="450"/>
                  </a:lnTo>
                  <a:lnTo>
                    <a:pt x="1590" y="490"/>
                  </a:lnTo>
                  <a:lnTo>
                    <a:pt x="1592" y="473"/>
                  </a:lnTo>
                  <a:lnTo>
                    <a:pt x="1593" y="618"/>
                  </a:lnTo>
                  <a:lnTo>
                    <a:pt x="1594" y="525"/>
                  </a:lnTo>
                  <a:lnTo>
                    <a:pt x="1595" y="509"/>
                  </a:lnTo>
                  <a:lnTo>
                    <a:pt x="1598" y="337"/>
                  </a:lnTo>
                  <a:lnTo>
                    <a:pt x="1599" y="383"/>
                  </a:lnTo>
                  <a:lnTo>
                    <a:pt x="1600" y="267"/>
                  </a:lnTo>
                  <a:lnTo>
                    <a:pt x="1602" y="185"/>
                  </a:lnTo>
                  <a:lnTo>
                    <a:pt x="1603" y="256"/>
                  </a:lnTo>
                  <a:lnTo>
                    <a:pt x="1604" y="166"/>
                  </a:lnTo>
                  <a:lnTo>
                    <a:pt x="1607" y="305"/>
                  </a:lnTo>
                  <a:lnTo>
                    <a:pt x="1608" y="273"/>
                  </a:lnTo>
                  <a:lnTo>
                    <a:pt x="1609" y="232"/>
                  </a:lnTo>
                  <a:lnTo>
                    <a:pt x="1610" y="436"/>
                  </a:lnTo>
                  <a:lnTo>
                    <a:pt x="1612" y="336"/>
                  </a:lnTo>
                  <a:lnTo>
                    <a:pt x="1613" y="409"/>
                  </a:lnTo>
                  <a:lnTo>
                    <a:pt x="1614" y="368"/>
                  </a:lnTo>
                  <a:lnTo>
                    <a:pt x="1617" y="531"/>
                  </a:lnTo>
                  <a:lnTo>
                    <a:pt x="1618" y="471"/>
                  </a:lnTo>
                  <a:lnTo>
                    <a:pt x="1619" y="432"/>
                  </a:lnTo>
                  <a:lnTo>
                    <a:pt x="1621" y="481"/>
                  </a:lnTo>
                  <a:lnTo>
                    <a:pt x="1622" y="695"/>
                  </a:lnTo>
                  <a:lnTo>
                    <a:pt x="1623" y="482"/>
                  </a:lnTo>
                  <a:lnTo>
                    <a:pt x="1624" y="368"/>
                  </a:lnTo>
                  <a:lnTo>
                    <a:pt x="1627" y="538"/>
                  </a:lnTo>
                  <a:lnTo>
                    <a:pt x="1628" y="446"/>
                  </a:lnTo>
                  <a:lnTo>
                    <a:pt x="1629" y="51"/>
                  </a:lnTo>
                  <a:lnTo>
                    <a:pt x="1631" y="383"/>
                  </a:lnTo>
                  <a:lnTo>
                    <a:pt x="1632" y="413"/>
                  </a:lnTo>
                  <a:lnTo>
                    <a:pt x="1633" y="685"/>
                  </a:lnTo>
                  <a:lnTo>
                    <a:pt x="1634" y="535"/>
                  </a:lnTo>
                  <a:lnTo>
                    <a:pt x="1637" y="581"/>
                  </a:lnTo>
                  <a:lnTo>
                    <a:pt x="1638" y="605"/>
                  </a:lnTo>
                  <a:lnTo>
                    <a:pt x="1639" y="616"/>
                  </a:lnTo>
                  <a:lnTo>
                    <a:pt x="1641" y="670"/>
                  </a:lnTo>
                  <a:lnTo>
                    <a:pt x="1642" y="621"/>
                  </a:lnTo>
                  <a:lnTo>
                    <a:pt x="1643" y="570"/>
                  </a:lnTo>
                  <a:lnTo>
                    <a:pt x="1646" y="851"/>
                  </a:lnTo>
                  <a:lnTo>
                    <a:pt x="1647" y="595"/>
                  </a:lnTo>
                  <a:lnTo>
                    <a:pt x="1648" y="484"/>
                  </a:lnTo>
                  <a:lnTo>
                    <a:pt x="1649" y="606"/>
                  </a:lnTo>
                  <a:lnTo>
                    <a:pt x="1651" y="384"/>
                  </a:lnTo>
                  <a:lnTo>
                    <a:pt x="1652" y="300"/>
                  </a:lnTo>
                  <a:lnTo>
                    <a:pt x="1653" y="331"/>
                  </a:lnTo>
                  <a:lnTo>
                    <a:pt x="1656" y="276"/>
                  </a:lnTo>
                  <a:lnTo>
                    <a:pt x="1657" y="321"/>
                  </a:lnTo>
                  <a:lnTo>
                    <a:pt x="1658" y="423"/>
                  </a:lnTo>
                  <a:lnTo>
                    <a:pt x="1660" y="480"/>
                  </a:lnTo>
                  <a:lnTo>
                    <a:pt x="1661" y="364"/>
                  </a:lnTo>
                  <a:lnTo>
                    <a:pt x="1662" y="418"/>
                  </a:lnTo>
                  <a:lnTo>
                    <a:pt x="1663" y="502"/>
                  </a:lnTo>
                  <a:lnTo>
                    <a:pt x="1666" y="408"/>
                  </a:lnTo>
                  <a:lnTo>
                    <a:pt x="1667" y="446"/>
                  </a:lnTo>
                  <a:lnTo>
                    <a:pt x="1668" y="142"/>
                  </a:lnTo>
                  <a:lnTo>
                    <a:pt x="1670" y="300"/>
                  </a:lnTo>
                  <a:lnTo>
                    <a:pt x="1671" y="208"/>
                  </a:lnTo>
                  <a:lnTo>
                    <a:pt x="1672" y="252"/>
                  </a:lnTo>
                  <a:lnTo>
                    <a:pt x="1673" y="200"/>
                  </a:lnTo>
                  <a:lnTo>
                    <a:pt x="1676" y="275"/>
                  </a:lnTo>
                  <a:lnTo>
                    <a:pt x="1677" y="323"/>
                  </a:lnTo>
                  <a:lnTo>
                    <a:pt x="1678" y="228"/>
                  </a:lnTo>
                  <a:lnTo>
                    <a:pt x="1680" y="434"/>
                  </a:lnTo>
                  <a:lnTo>
                    <a:pt x="1681" y="454"/>
                  </a:lnTo>
                  <a:lnTo>
                    <a:pt x="1682" y="494"/>
                  </a:lnTo>
                  <a:lnTo>
                    <a:pt x="1685" y="382"/>
                  </a:lnTo>
                  <a:lnTo>
                    <a:pt x="1686" y="658"/>
                  </a:lnTo>
                  <a:lnTo>
                    <a:pt x="1687" y="415"/>
                  </a:lnTo>
                  <a:lnTo>
                    <a:pt x="1688" y="462"/>
                  </a:lnTo>
                  <a:lnTo>
                    <a:pt x="1690" y="563"/>
                  </a:lnTo>
                  <a:lnTo>
                    <a:pt x="1691" y="421"/>
                  </a:lnTo>
                  <a:lnTo>
                    <a:pt x="1692" y="456"/>
                  </a:lnTo>
                  <a:lnTo>
                    <a:pt x="1695" y="581"/>
                  </a:lnTo>
                  <a:lnTo>
                    <a:pt x="1696" y="601"/>
                  </a:lnTo>
                  <a:lnTo>
                    <a:pt x="1697" y="524"/>
                  </a:lnTo>
                  <a:lnTo>
                    <a:pt x="1699" y="504"/>
                  </a:lnTo>
                  <a:lnTo>
                    <a:pt x="1700" y="483"/>
                  </a:lnTo>
                  <a:lnTo>
                    <a:pt x="1701" y="447"/>
                  </a:lnTo>
                  <a:lnTo>
                    <a:pt x="1702" y="399"/>
                  </a:lnTo>
                  <a:lnTo>
                    <a:pt x="1705" y="417"/>
                  </a:lnTo>
                  <a:lnTo>
                    <a:pt x="1706" y="482"/>
                  </a:lnTo>
                  <a:lnTo>
                    <a:pt x="1707" y="650"/>
                  </a:lnTo>
                  <a:lnTo>
                    <a:pt x="1709" y="425"/>
                  </a:lnTo>
                  <a:lnTo>
                    <a:pt x="1710" y="508"/>
                  </a:lnTo>
                  <a:lnTo>
                    <a:pt x="1711" y="356"/>
                  </a:lnTo>
                  <a:lnTo>
                    <a:pt x="1713" y="158"/>
                  </a:lnTo>
                  <a:lnTo>
                    <a:pt x="1715" y="189"/>
                  </a:lnTo>
                  <a:lnTo>
                    <a:pt x="1716" y="301"/>
                  </a:lnTo>
                  <a:lnTo>
                    <a:pt x="1717" y="423"/>
                  </a:lnTo>
                  <a:lnTo>
                    <a:pt x="1719" y="444"/>
                  </a:lnTo>
                  <a:lnTo>
                    <a:pt x="1720" y="378"/>
                  </a:lnTo>
                  <a:lnTo>
                    <a:pt x="1721" y="203"/>
                  </a:lnTo>
                  <a:lnTo>
                    <a:pt x="1724" y="269"/>
                  </a:lnTo>
                  <a:lnTo>
                    <a:pt x="1725" y="365"/>
                  </a:lnTo>
                  <a:lnTo>
                    <a:pt x="1726" y="314"/>
                  </a:lnTo>
                  <a:lnTo>
                    <a:pt x="1727" y="363"/>
                  </a:lnTo>
                  <a:lnTo>
                    <a:pt x="1729" y="193"/>
                  </a:lnTo>
                  <a:lnTo>
                    <a:pt x="1730" y="146"/>
                  </a:lnTo>
                  <a:lnTo>
                    <a:pt x="1731" y="275"/>
                  </a:lnTo>
                  <a:lnTo>
                    <a:pt x="1734" y="394"/>
                  </a:lnTo>
                  <a:lnTo>
                    <a:pt x="1735" y="221"/>
                  </a:lnTo>
                  <a:lnTo>
                    <a:pt x="1736" y="445"/>
                  </a:lnTo>
                  <a:lnTo>
                    <a:pt x="1738" y="205"/>
                  </a:lnTo>
                  <a:lnTo>
                    <a:pt x="1739" y="216"/>
                  </a:lnTo>
                  <a:lnTo>
                    <a:pt x="1740" y="316"/>
                  </a:lnTo>
                  <a:lnTo>
                    <a:pt x="1742" y="534"/>
                  </a:lnTo>
                  <a:lnTo>
                    <a:pt x="1744" y="581"/>
                  </a:lnTo>
                  <a:lnTo>
                    <a:pt x="1745" y="418"/>
                  </a:lnTo>
                  <a:lnTo>
                    <a:pt x="1746" y="532"/>
                  </a:lnTo>
                  <a:lnTo>
                    <a:pt x="1748" y="595"/>
                  </a:lnTo>
                  <a:lnTo>
                    <a:pt x="1749" y="534"/>
                  </a:lnTo>
                  <a:lnTo>
                    <a:pt x="1750" y="392"/>
                  </a:lnTo>
                  <a:lnTo>
                    <a:pt x="1753" y="323"/>
                  </a:lnTo>
                  <a:lnTo>
                    <a:pt x="1754" y="175"/>
                  </a:lnTo>
                  <a:lnTo>
                    <a:pt x="1755" y="387"/>
                  </a:lnTo>
                  <a:lnTo>
                    <a:pt x="1756" y="214"/>
                  </a:lnTo>
                  <a:lnTo>
                    <a:pt x="1758" y="127"/>
                  </a:lnTo>
                  <a:lnTo>
                    <a:pt x="1759" y="175"/>
                  </a:lnTo>
                  <a:lnTo>
                    <a:pt x="1760" y="224"/>
                  </a:lnTo>
                  <a:lnTo>
                    <a:pt x="1763" y="355"/>
                  </a:lnTo>
                  <a:lnTo>
                    <a:pt x="1764" y="267"/>
                  </a:lnTo>
                  <a:lnTo>
                    <a:pt x="1765" y="333"/>
                  </a:lnTo>
                  <a:lnTo>
                    <a:pt x="1766" y="226"/>
                  </a:lnTo>
                  <a:lnTo>
                    <a:pt x="1768" y="137"/>
                  </a:lnTo>
                  <a:lnTo>
                    <a:pt x="1769" y="173"/>
                  </a:lnTo>
                  <a:lnTo>
                    <a:pt x="1771" y="209"/>
                  </a:lnTo>
                  <a:lnTo>
                    <a:pt x="1773" y="224"/>
                  </a:lnTo>
                  <a:lnTo>
                    <a:pt x="1774" y="422"/>
                  </a:lnTo>
                  <a:lnTo>
                    <a:pt x="1775" y="528"/>
                  </a:lnTo>
                  <a:lnTo>
                    <a:pt x="1777" y="572"/>
                  </a:lnTo>
                  <a:lnTo>
                    <a:pt x="1778" y="520"/>
                  </a:lnTo>
                  <a:lnTo>
                    <a:pt x="1779" y="375"/>
                  </a:lnTo>
                  <a:lnTo>
                    <a:pt x="1781" y="551"/>
                  </a:lnTo>
                  <a:lnTo>
                    <a:pt x="1783" y="519"/>
                  </a:lnTo>
                  <a:lnTo>
                    <a:pt x="1784" y="359"/>
                  </a:lnTo>
                  <a:lnTo>
                    <a:pt x="1785" y="220"/>
                  </a:lnTo>
                  <a:lnTo>
                    <a:pt x="1787" y="150"/>
                  </a:lnTo>
                  <a:lnTo>
                    <a:pt x="1788" y="105"/>
                  </a:lnTo>
                  <a:lnTo>
                    <a:pt x="1789" y="456"/>
                  </a:lnTo>
                  <a:lnTo>
                    <a:pt x="1792" y="453"/>
                  </a:lnTo>
                  <a:lnTo>
                    <a:pt x="1793" y="567"/>
                  </a:lnTo>
                  <a:lnTo>
                    <a:pt x="1794" y="719"/>
                  </a:lnTo>
                  <a:lnTo>
                    <a:pt x="1795" y="639"/>
                  </a:lnTo>
                  <a:lnTo>
                    <a:pt x="1797" y="608"/>
                  </a:lnTo>
                  <a:lnTo>
                    <a:pt x="1798" y="580"/>
                  </a:lnTo>
                  <a:lnTo>
                    <a:pt x="1800" y="727"/>
                  </a:lnTo>
                  <a:lnTo>
                    <a:pt x="1802" y="807"/>
                  </a:lnTo>
                  <a:lnTo>
                    <a:pt x="1803" y="504"/>
                  </a:lnTo>
                  <a:lnTo>
                    <a:pt x="1804" y="480"/>
                  </a:lnTo>
                  <a:lnTo>
                    <a:pt x="1805" y="534"/>
                  </a:lnTo>
                  <a:lnTo>
                    <a:pt x="1807" y="502"/>
                  </a:lnTo>
                  <a:lnTo>
                    <a:pt x="1808" y="336"/>
                  </a:lnTo>
                  <a:lnTo>
                    <a:pt x="1810" y="260"/>
                  </a:lnTo>
                  <a:lnTo>
                    <a:pt x="1812" y="273"/>
                  </a:lnTo>
                  <a:lnTo>
                    <a:pt x="1813" y="599"/>
                  </a:lnTo>
                  <a:lnTo>
                    <a:pt x="1814" y="742"/>
                  </a:lnTo>
                  <a:lnTo>
                    <a:pt x="1816" y="657"/>
                  </a:lnTo>
                  <a:lnTo>
                    <a:pt x="1817" y="661"/>
                  </a:lnTo>
                  <a:lnTo>
                    <a:pt x="1818" y="596"/>
                  </a:lnTo>
                  <a:lnTo>
                    <a:pt x="1820" y="501"/>
                  </a:lnTo>
                  <a:lnTo>
                    <a:pt x="1822" y="644"/>
                  </a:lnTo>
                  <a:lnTo>
                    <a:pt x="1823" y="545"/>
                  </a:lnTo>
                  <a:lnTo>
                    <a:pt x="1824" y="508"/>
                  </a:lnTo>
                  <a:lnTo>
                    <a:pt x="1826" y="488"/>
                  </a:lnTo>
                  <a:lnTo>
                    <a:pt x="1827" y="432"/>
                  </a:lnTo>
                  <a:lnTo>
                    <a:pt x="1829" y="527"/>
                  </a:lnTo>
                  <a:lnTo>
                    <a:pt x="1831" y="742"/>
                  </a:lnTo>
                  <a:lnTo>
                    <a:pt x="1832" y="615"/>
                  </a:lnTo>
                  <a:lnTo>
                    <a:pt x="1833" y="438"/>
                  </a:lnTo>
                  <a:lnTo>
                    <a:pt x="1834" y="415"/>
                  </a:lnTo>
                  <a:lnTo>
                    <a:pt x="1836" y="362"/>
                  </a:lnTo>
                  <a:lnTo>
                    <a:pt x="1837" y="578"/>
                  </a:lnTo>
                  <a:lnTo>
                    <a:pt x="1839" y="525"/>
                  </a:lnTo>
                  <a:lnTo>
                    <a:pt x="1841" y="394"/>
                  </a:lnTo>
                  <a:lnTo>
                    <a:pt x="1842" y="171"/>
                  </a:lnTo>
                  <a:lnTo>
                    <a:pt x="1843" y="223"/>
                  </a:lnTo>
                  <a:lnTo>
                    <a:pt x="1845" y="19"/>
                  </a:lnTo>
                  <a:lnTo>
                    <a:pt x="1846" y="47"/>
                  </a:lnTo>
                  <a:lnTo>
                    <a:pt x="1847" y="291"/>
                  </a:lnTo>
                  <a:lnTo>
                    <a:pt x="1849" y="479"/>
                  </a:lnTo>
                  <a:lnTo>
                    <a:pt x="1851" y="541"/>
                  </a:lnTo>
                  <a:lnTo>
                    <a:pt x="1852" y="564"/>
                  </a:lnTo>
                  <a:lnTo>
                    <a:pt x="1853" y="476"/>
                  </a:lnTo>
                  <a:lnTo>
                    <a:pt x="1855" y="386"/>
                  </a:lnTo>
                  <a:lnTo>
                    <a:pt x="1856" y="479"/>
                  </a:lnTo>
                  <a:lnTo>
                    <a:pt x="1858" y="554"/>
                  </a:lnTo>
                  <a:lnTo>
                    <a:pt x="1859" y="347"/>
                  </a:lnTo>
                  <a:lnTo>
                    <a:pt x="1861" y="425"/>
                  </a:lnTo>
                  <a:lnTo>
                    <a:pt x="1862" y="349"/>
                  </a:lnTo>
                  <a:lnTo>
                    <a:pt x="1863" y="223"/>
                  </a:lnTo>
                  <a:lnTo>
                    <a:pt x="1865" y="315"/>
                  </a:lnTo>
                  <a:lnTo>
                    <a:pt x="1866" y="296"/>
                  </a:lnTo>
                  <a:lnTo>
                    <a:pt x="1868" y="514"/>
                  </a:lnTo>
                  <a:lnTo>
                    <a:pt x="1870" y="477"/>
                  </a:lnTo>
                  <a:lnTo>
                    <a:pt x="1871" y="636"/>
                  </a:lnTo>
                  <a:lnTo>
                    <a:pt x="1872" y="598"/>
                  </a:lnTo>
                  <a:lnTo>
                    <a:pt x="1873" y="595"/>
                  </a:lnTo>
                  <a:lnTo>
                    <a:pt x="1875" y="472"/>
                  </a:lnTo>
                  <a:lnTo>
                    <a:pt x="1876" y="549"/>
                  </a:lnTo>
                  <a:lnTo>
                    <a:pt x="1878" y="280"/>
                  </a:lnTo>
                  <a:lnTo>
                    <a:pt x="1880" y="289"/>
                  </a:lnTo>
                  <a:lnTo>
                    <a:pt x="1881" y="135"/>
                  </a:lnTo>
                  <a:lnTo>
                    <a:pt x="1882" y="279"/>
                  </a:lnTo>
                  <a:lnTo>
                    <a:pt x="1884" y="272"/>
                  </a:lnTo>
                  <a:lnTo>
                    <a:pt x="1885" y="467"/>
                  </a:lnTo>
                  <a:lnTo>
                    <a:pt x="1887" y="386"/>
                  </a:lnTo>
                  <a:lnTo>
                    <a:pt x="1888" y="477"/>
                  </a:lnTo>
                  <a:lnTo>
                    <a:pt x="1890" y="666"/>
                  </a:lnTo>
                  <a:lnTo>
                    <a:pt x="1891" y="434"/>
                  </a:lnTo>
                  <a:lnTo>
                    <a:pt x="1892" y="421"/>
                  </a:lnTo>
                  <a:lnTo>
                    <a:pt x="1894" y="403"/>
                  </a:lnTo>
                  <a:lnTo>
                    <a:pt x="1895" y="233"/>
                  </a:lnTo>
                  <a:lnTo>
                    <a:pt x="1897" y="423"/>
                  </a:lnTo>
                  <a:lnTo>
                    <a:pt x="1898" y="306"/>
                  </a:lnTo>
                  <a:lnTo>
                    <a:pt x="1900" y="360"/>
                  </a:lnTo>
                  <a:lnTo>
                    <a:pt x="1901" y="141"/>
                  </a:lnTo>
                  <a:lnTo>
                    <a:pt x="1902" y="251"/>
                  </a:lnTo>
                  <a:lnTo>
                    <a:pt x="1904" y="302"/>
                  </a:lnTo>
                  <a:lnTo>
                    <a:pt x="1905" y="474"/>
                  </a:lnTo>
                  <a:lnTo>
                    <a:pt x="1907" y="384"/>
                  </a:lnTo>
                  <a:lnTo>
                    <a:pt x="1909" y="378"/>
                  </a:lnTo>
                  <a:lnTo>
                    <a:pt x="1910" y="435"/>
                  </a:lnTo>
                  <a:lnTo>
                    <a:pt x="1911" y="576"/>
                  </a:lnTo>
                  <a:lnTo>
                    <a:pt x="1912" y="436"/>
                  </a:lnTo>
                  <a:lnTo>
                    <a:pt x="1914" y="355"/>
                  </a:lnTo>
                  <a:lnTo>
                    <a:pt x="1916" y="477"/>
                  </a:lnTo>
                  <a:lnTo>
                    <a:pt x="1917" y="434"/>
                  </a:lnTo>
                  <a:lnTo>
                    <a:pt x="1919" y="463"/>
                  </a:lnTo>
                  <a:lnTo>
                    <a:pt x="1920" y="284"/>
                  </a:lnTo>
                  <a:lnTo>
                    <a:pt x="1921" y="452"/>
                  </a:lnTo>
                  <a:lnTo>
                    <a:pt x="1923" y="374"/>
                  </a:lnTo>
                  <a:lnTo>
                    <a:pt x="1924" y="213"/>
                  </a:lnTo>
                  <a:lnTo>
                    <a:pt x="1926" y="572"/>
                  </a:lnTo>
                  <a:lnTo>
                    <a:pt x="1927" y="554"/>
                  </a:lnTo>
                  <a:lnTo>
                    <a:pt x="1929" y="491"/>
                  </a:lnTo>
                  <a:lnTo>
                    <a:pt x="1930" y="471"/>
                  </a:lnTo>
                  <a:lnTo>
                    <a:pt x="1931" y="563"/>
                  </a:lnTo>
                  <a:lnTo>
                    <a:pt x="1933" y="569"/>
                  </a:lnTo>
                  <a:lnTo>
                    <a:pt x="1934" y="456"/>
                  </a:lnTo>
                  <a:lnTo>
                    <a:pt x="1936" y="270"/>
                  </a:lnTo>
                  <a:lnTo>
                    <a:pt x="1937" y="347"/>
                  </a:lnTo>
                  <a:lnTo>
                    <a:pt x="1939" y="214"/>
                  </a:lnTo>
                  <a:lnTo>
                    <a:pt x="1940" y="392"/>
                  </a:lnTo>
                  <a:lnTo>
                    <a:pt x="1941" y="347"/>
                  </a:lnTo>
                  <a:lnTo>
                    <a:pt x="1943" y="269"/>
                  </a:lnTo>
                  <a:lnTo>
                    <a:pt x="1945" y="384"/>
                  </a:lnTo>
                  <a:lnTo>
                    <a:pt x="1946" y="231"/>
                  </a:lnTo>
                  <a:lnTo>
                    <a:pt x="1948" y="489"/>
                  </a:lnTo>
                  <a:lnTo>
                    <a:pt x="1949" y="379"/>
                  </a:lnTo>
                  <a:lnTo>
                    <a:pt x="1950" y="489"/>
                  </a:lnTo>
                  <a:lnTo>
                    <a:pt x="1951" y="516"/>
                  </a:lnTo>
                  <a:lnTo>
                    <a:pt x="1953" y="595"/>
                  </a:lnTo>
                  <a:lnTo>
                    <a:pt x="1955" y="639"/>
                  </a:lnTo>
                  <a:lnTo>
                    <a:pt x="1956" y="787"/>
                  </a:lnTo>
                  <a:lnTo>
                    <a:pt x="1958" y="582"/>
                  </a:lnTo>
                  <a:lnTo>
                    <a:pt x="1959" y="807"/>
                  </a:lnTo>
                  <a:lnTo>
                    <a:pt x="1960" y="648"/>
                  </a:lnTo>
                  <a:lnTo>
                    <a:pt x="1962" y="717"/>
                  </a:lnTo>
                  <a:lnTo>
                    <a:pt x="1964" y="572"/>
                  </a:lnTo>
                  <a:lnTo>
                    <a:pt x="1965" y="301"/>
                  </a:lnTo>
                  <a:lnTo>
                    <a:pt x="1966" y="319"/>
                  </a:lnTo>
                  <a:lnTo>
                    <a:pt x="1968" y="454"/>
                  </a:lnTo>
                  <a:lnTo>
                    <a:pt x="1969" y="668"/>
                  </a:lnTo>
                  <a:lnTo>
                    <a:pt x="1970" y="763"/>
                  </a:lnTo>
                  <a:lnTo>
                    <a:pt x="1972" y="678"/>
                  </a:lnTo>
                  <a:lnTo>
                    <a:pt x="1974" y="705"/>
                  </a:lnTo>
                  <a:lnTo>
                    <a:pt x="1975" y="683"/>
                  </a:lnTo>
                  <a:lnTo>
                    <a:pt x="1977" y="705"/>
                  </a:lnTo>
                  <a:lnTo>
                    <a:pt x="1978" y="735"/>
                  </a:lnTo>
                  <a:lnTo>
                    <a:pt x="1979" y="514"/>
                  </a:lnTo>
                  <a:lnTo>
                    <a:pt x="1980" y="809"/>
                  </a:lnTo>
                  <a:lnTo>
                    <a:pt x="1982" y="764"/>
                  </a:lnTo>
                  <a:lnTo>
                    <a:pt x="1984" y="669"/>
                  </a:lnTo>
                  <a:lnTo>
                    <a:pt x="1985" y="693"/>
                  </a:lnTo>
                  <a:lnTo>
                    <a:pt x="1987" y="574"/>
                  </a:lnTo>
                  <a:lnTo>
                    <a:pt x="1988" y="551"/>
                  </a:lnTo>
                  <a:lnTo>
                    <a:pt x="1989" y="738"/>
                  </a:lnTo>
                  <a:lnTo>
                    <a:pt x="1990" y="712"/>
                  </a:lnTo>
                  <a:lnTo>
                    <a:pt x="1993" y="647"/>
                  </a:lnTo>
                  <a:lnTo>
                    <a:pt x="1994" y="739"/>
                  </a:lnTo>
                  <a:lnTo>
                    <a:pt x="1995" y="491"/>
                  </a:lnTo>
                  <a:lnTo>
                    <a:pt x="1997" y="923"/>
                  </a:lnTo>
                  <a:lnTo>
                    <a:pt x="1998" y="746"/>
                  </a:lnTo>
                  <a:lnTo>
                    <a:pt x="1999" y="471"/>
                  </a:lnTo>
                  <a:lnTo>
                    <a:pt x="2001" y="513"/>
                  </a:lnTo>
                  <a:lnTo>
                    <a:pt x="2003" y="374"/>
                  </a:lnTo>
                  <a:lnTo>
                    <a:pt x="2004" y="430"/>
                  </a:lnTo>
                  <a:lnTo>
                    <a:pt x="2005" y="627"/>
                  </a:lnTo>
                  <a:lnTo>
                    <a:pt x="2007" y="532"/>
                  </a:lnTo>
                  <a:lnTo>
                    <a:pt x="2008" y="494"/>
                  </a:lnTo>
                  <a:lnTo>
                    <a:pt x="2009" y="304"/>
                  </a:lnTo>
                  <a:lnTo>
                    <a:pt x="2011" y="308"/>
                  </a:lnTo>
                  <a:lnTo>
                    <a:pt x="2013" y="313"/>
                  </a:lnTo>
                  <a:lnTo>
                    <a:pt x="2014" y="305"/>
                  </a:lnTo>
                  <a:lnTo>
                    <a:pt x="2016" y="193"/>
                  </a:lnTo>
                  <a:lnTo>
                    <a:pt x="2017" y="162"/>
                  </a:lnTo>
                  <a:lnTo>
                    <a:pt x="2018" y="318"/>
                  </a:lnTo>
                  <a:lnTo>
                    <a:pt x="2019" y="272"/>
                  </a:lnTo>
                  <a:lnTo>
                    <a:pt x="2022" y="420"/>
                  </a:lnTo>
                  <a:lnTo>
                    <a:pt x="2023" y="407"/>
                  </a:lnTo>
                  <a:lnTo>
                    <a:pt x="2024" y="383"/>
                  </a:lnTo>
                  <a:lnTo>
                    <a:pt x="2026" y="382"/>
                  </a:lnTo>
                  <a:lnTo>
                    <a:pt x="2027" y="417"/>
                  </a:lnTo>
                  <a:lnTo>
                    <a:pt x="2028" y="399"/>
                  </a:lnTo>
                  <a:lnTo>
                    <a:pt x="2029" y="486"/>
                  </a:lnTo>
                  <a:lnTo>
                    <a:pt x="2032" y="399"/>
                  </a:lnTo>
                  <a:lnTo>
                    <a:pt x="2033" y="386"/>
                  </a:lnTo>
                  <a:lnTo>
                    <a:pt x="2034" y="356"/>
                  </a:lnTo>
                  <a:lnTo>
                    <a:pt x="2036" y="423"/>
                  </a:lnTo>
                  <a:lnTo>
                    <a:pt x="2037" y="476"/>
                  </a:lnTo>
                  <a:lnTo>
                    <a:pt x="2038" y="541"/>
                  </a:lnTo>
                  <a:lnTo>
                    <a:pt x="2040" y="773"/>
                  </a:lnTo>
                  <a:lnTo>
                    <a:pt x="2042" y="706"/>
                  </a:lnTo>
                  <a:lnTo>
                    <a:pt x="2043" y="584"/>
                  </a:lnTo>
                  <a:lnTo>
                    <a:pt x="2044" y="608"/>
                  </a:lnTo>
                  <a:lnTo>
                    <a:pt x="2046" y="591"/>
                  </a:lnTo>
                  <a:lnTo>
                    <a:pt x="2047" y="547"/>
                  </a:lnTo>
                  <a:lnTo>
                    <a:pt x="2048" y="427"/>
                  </a:lnTo>
                  <a:lnTo>
                    <a:pt x="2051" y="414"/>
                  </a:lnTo>
                  <a:lnTo>
                    <a:pt x="2052" y="554"/>
                  </a:lnTo>
                  <a:lnTo>
                    <a:pt x="2053" y="333"/>
                  </a:lnTo>
                  <a:lnTo>
                    <a:pt x="2055" y="450"/>
                  </a:lnTo>
                  <a:lnTo>
                    <a:pt x="2056" y="534"/>
                  </a:lnTo>
                  <a:lnTo>
                    <a:pt x="2057" y="571"/>
                  </a:lnTo>
                  <a:lnTo>
                    <a:pt x="2058" y="725"/>
                  </a:lnTo>
                  <a:lnTo>
                    <a:pt x="2061" y="783"/>
                  </a:lnTo>
                  <a:lnTo>
                    <a:pt x="2062" y="835"/>
                  </a:lnTo>
                  <a:lnTo>
                    <a:pt x="2063" y="792"/>
                  </a:lnTo>
                  <a:lnTo>
                    <a:pt x="2065" y="824"/>
                  </a:lnTo>
                  <a:lnTo>
                    <a:pt x="2066" y="597"/>
                  </a:lnTo>
                  <a:lnTo>
                    <a:pt x="2067" y="770"/>
                  </a:lnTo>
                  <a:lnTo>
                    <a:pt x="2069" y="766"/>
                  </a:lnTo>
                  <a:lnTo>
                    <a:pt x="2071" y="650"/>
                  </a:lnTo>
                  <a:lnTo>
                    <a:pt x="2072" y="639"/>
                  </a:lnTo>
                  <a:lnTo>
                    <a:pt x="2073" y="603"/>
                  </a:lnTo>
                  <a:lnTo>
                    <a:pt x="2075" y="408"/>
                  </a:lnTo>
                  <a:lnTo>
                    <a:pt x="2076" y="466"/>
                  </a:lnTo>
                  <a:lnTo>
                    <a:pt x="2077" y="718"/>
                  </a:lnTo>
                  <a:lnTo>
                    <a:pt x="2080" y="494"/>
                  </a:lnTo>
                  <a:lnTo>
                    <a:pt x="2081" y="552"/>
                  </a:lnTo>
                  <a:lnTo>
                    <a:pt x="2082" y="394"/>
                  </a:lnTo>
                  <a:lnTo>
                    <a:pt x="2083" y="349"/>
                  </a:lnTo>
                  <a:lnTo>
                    <a:pt x="2085" y="364"/>
                  </a:lnTo>
                  <a:lnTo>
                    <a:pt x="2086" y="358"/>
                  </a:lnTo>
                  <a:lnTo>
                    <a:pt x="2087" y="474"/>
                  </a:lnTo>
                  <a:lnTo>
                    <a:pt x="2090" y="598"/>
                  </a:lnTo>
                  <a:lnTo>
                    <a:pt x="2091" y="343"/>
                  </a:lnTo>
                  <a:lnTo>
                    <a:pt x="2092" y="295"/>
                  </a:lnTo>
                  <a:lnTo>
                    <a:pt x="2094" y="584"/>
                  </a:lnTo>
                  <a:lnTo>
                    <a:pt x="2095" y="615"/>
                  </a:lnTo>
                  <a:lnTo>
                    <a:pt x="2096" y="610"/>
                  </a:lnTo>
                  <a:lnTo>
                    <a:pt x="2097" y="698"/>
                  </a:lnTo>
                  <a:lnTo>
                    <a:pt x="2100" y="520"/>
                  </a:lnTo>
                  <a:lnTo>
                    <a:pt x="2101" y="785"/>
                  </a:lnTo>
                  <a:lnTo>
                    <a:pt x="2102" y="714"/>
                  </a:lnTo>
                  <a:lnTo>
                    <a:pt x="2104" y="758"/>
                  </a:lnTo>
                  <a:lnTo>
                    <a:pt x="2105" y="883"/>
                  </a:lnTo>
                  <a:lnTo>
                    <a:pt x="2106" y="758"/>
                  </a:lnTo>
                  <a:lnTo>
                    <a:pt x="2109" y="904"/>
                  </a:lnTo>
                  <a:lnTo>
                    <a:pt x="2110" y="729"/>
                  </a:lnTo>
                  <a:lnTo>
                    <a:pt x="2111" y="935"/>
                  </a:lnTo>
                  <a:lnTo>
                    <a:pt x="2112" y="811"/>
                  </a:lnTo>
                  <a:lnTo>
                    <a:pt x="2114" y="784"/>
                  </a:lnTo>
                  <a:lnTo>
                    <a:pt x="2115" y="755"/>
                  </a:lnTo>
                  <a:lnTo>
                    <a:pt x="2116" y="728"/>
                  </a:lnTo>
                  <a:lnTo>
                    <a:pt x="2119" y="773"/>
                  </a:lnTo>
                  <a:lnTo>
                    <a:pt x="2120" y="830"/>
                  </a:lnTo>
                  <a:lnTo>
                    <a:pt x="2121" y="786"/>
                  </a:lnTo>
                  <a:lnTo>
                    <a:pt x="2122" y="1046"/>
                  </a:lnTo>
                  <a:lnTo>
                    <a:pt x="2124" y="815"/>
                  </a:lnTo>
                  <a:lnTo>
                    <a:pt x="2125" y="714"/>
                  </a:lnTo>
                  <a:lnTo>
                    <a:pt x="2126" y="839"/>
                  </a:lnTo>
                  <a:lnTo>
                    <a:pt x="2129" y="586"/>
                  </a:lnTo>
                  <a:lnTo>
                    <a:pt x="2130" y="558"/>
                  </a:lnTo>
                  <a:lnTo>
                    <a:pt x="2131" y="792"/>
                  </a:lnTo>
                  <a:lnTo>
                    <a:pt x="2133" y="908"/>
                  </a:lnTo>
                  <a:lnTo>
                    <a:pt x="2134" y="715"/>
                  </a:lnTo>
                  <a:lnTo>
                    <a:pt x="2135" y="958"/>
                  </a:lnTo>
                  <a:lnTo>
                    <a:pt x="2136" y="1047"/>
                  </a:lnTo>
                  <a:lnTo>
                    <a:pt x="2139" y="825"/>
                  </a:lnTo>
                  <a:lnTo>
                    <a:pt x="2140" y="901"/>
                  </a:lnTo>
                  <a:lnTo>
                    <a:pt x="2141" y="1015"/>
                  </a:lnTo>
                  <a:lnTo>
                    <a:pt x="2143" y="801"/>
                  </a:lnTo>
                  <a:lnTo>
                    <a:pt x="2144" y="887"/>
                  </a:lnTo>
                  <a:lnTo>
                    <a:pt x="2145" y="948"/>
                  </a:lnTo>
                  <a:lnTo>
                    <a:pt x="2148" y="902"/>
                  </a:lnTo>
                  <a:lnTo>
                    <a:pt x="2149" y="742"/>
                  </a:lnTo>
                  <a:lnTo>
                    <a:pt x="2150" y="775"/>
                  </a:lnTo>
                  <a:lnTo>
                    <a:pt x="2151" y="853"/>
                  </a:lnTo>
                  <a:lnTo>
                    <a:pt x="2153" y="997"/>
                  </a:lnTo>
                  <a:lnTo>
                    <a:pt x="2154" y="985"/>
                  </a:lnTo>
                  <a:lnTo>
                    <a:pt x="2155" y="959"/>
                  </a:lnTo>
                  <a:lnTo>
                    <a:pt x="2158" y="1110"/>
                  </a:lnTo>
                  <a:lnTo>
                    <a:pt x="2159" y="992"/>
                  </a:lnTo>
                  <a:lnTo>
                    <a:pt x="2160" y="996"/>
                  </a:lnTo>
                  <a:lnTo>
                    <a:pt x="2161" y="961"/>
                  </a:lnTo>
                  <a:lnTo>
                    <a:pt x="2163" y="940"/>
                  </a:lnTo>
                  <a:lnTo>
                    <a:pt x="2164" y="955"/>
                  </a:lnTo>
                  <a:lnTo>
                    <a:pt x="2165" y="1015"/>
                  </a:lnTo>
                  <a:lnTo>
                    <a:pt x="2168" y="756"/>
                  </a:lnTo>
                  <a:lnTo>
                    <a:pt x="2169" y="824"/>
                  </a:lnTo>
                  <a:lnTo>
                    <a:pt x="2170" y="884"/>
                  </a:lnTo>
                  <a:lnTo>
                    <a:pt x="2172" y="760"/>
                  </a:lnTo>
                  <a:lnTo>
                    <a:pt x="2173" y="522"/>
                  </a:lnTo>
                  <a:lnTo>
                    <a:pt x="2174" y="734"/>
                  </a:lnTo>
                  <a:lnTo>
                    <a:pt x="2175" y="741"/>
                  </a:lnTo>
                  <a:lnTo>
                    <a:pt x="2178" y="695"/>
                  </a:lnTo>
                  <a:lnTo>
                    <a:pt x="2179" y="609"/>
                  </a:lnTo>
                  <a:lnTo>
                    <a:pt x="2180" y="801"/>
                  </a:lnTo>
                  <a:lnTo>
                    <a:pt x="2182" y="566"/>
                  </a:lnTo>
                  <a:lnTo>
                    <a:pt x="2183" y="676"/>
                  </a:lnTo>
                  <a:lnTo>
                    <a:pt x="2184" y="800"/>
                  </a:lnTo>
                  <a:lnTo>
                    <a:pt x="2187" y="645"/>
                  </a:lnTo>
                  <a:lnTo>
                    <a:pt x="2188" y="495"/>
                  </a:lnTo>
                  <a:lnTo>
                    <a:pt x="2189" y="535"/>
                  </a:lnTo>
                  <a:lnTo>
                    <a:pt x="2190" y="618"/>
                  </a:lnTo>
                  <a:lnTo>
                    <a:pt x="2192" y="528"/>
                  </a:lnTo>
                  <a:lnTo>
                    <a:pt x="2193" y="574"/>
                  </a:lnTo>
                  <a:lnTo>
                    <a:pt x="2194" y="494"/>
                  </a:lnTo>
                  <a:lnTo>
                    <a:pt x="2197" y="634"/>
                  </a:lnTo>
                  <a:lnTo>
                    <a:pt x="2198" y="476"/>
                  </a:lnTo>
                  <a:lnTo>
                    <a:pt x="2199" y="700"/>
                  </a:lnTo>
                  <a:lnTo>
                    <a:pt x="2201" y="528"/>
                  </a:lnTo>
                  <a:lnTo>
                    <a:pt x="2202" y="720"/>
                  </a:lnTo>
                  <a:lnTo>
                    <a:pt x="2203" y="803"/>
                  </a:lnTo>
                  <a:lnTo>
                    <a:pt x="2204" y="552"/>
                  </a:lnTo>
                  <a:lnTo>
                    <a:pt x="2207" y="737"/>
                  </a:lnTo>
                  <a:lnTo>
                    <a:pt x="2208" y="634"/>
                  </a:lnTo>
                  <a:lnTo>
                    <a:pt x="2209" y="752"/>
                  </a:lnTo>
                  <a:lnTo>
                    <a:pt x="2211" y="571"/>
                  </a:lnTo>
                  <a:lnTo>
                    <a:pt x="2212" y="729"/>
                  </a:lnTo>
                  <a:lnTo>
                    <a:pt x="2213" y="812"/>
                  </a:lnTo>
                  <a:lnTo>
                    <a:pt x="2215" y="615"/>
                  </a:lnTo>
                  <a:lnTo>
                    <a:pt x="2217" y="658"/>
                  </a:lnTo>
                  <a:lnTo>
                    <a:pt x="2218" y="815"/>
                  </a:lnTo>
                  <a:lnTo>
                    <a:pt x="2219" y="970"/>
                  </a:lnTo>
                  <a:lnTo>
                    <a:pt x="2221" y="882"/>
                  </a:lnTo>
                  <a:lnTo>
                    <a:pt x="2222" y="739"/>
                  </a:lnTo>
                  <a:lnTo>
                    <a:pt x="2223" y="762"/>
                  </a:lnTo>
                  <a:lnTo>
                    <a:pt x="2226" y="698"/>
                  </a:lnTo>
                  <a:lnTo>
                    <a:pt x="2227" y="671"/>
                  </a:lnTo>
                  <a:lnTo>
                    <a:pt x="2228" y="729"/>
                  </a:lnTo>
                  <a:lnTo>
                    <a:pt x="2229" y="774"/>
                  </a:lnTo>
                  <a:lnTo>
                    <a:pt x="2231" y="742"/>
                  </a:lnTo>
                  <a:lnTo>
                    <a:pt x="2232" y="814"/>
                  </a:lnTo>
                  <a:lnTo>
                    <a:pt x="2233" y="826"/>
                  </a:lnTo>
                  <a:lnTo>
                    <a:pt x="2236" y="453"/>
                  </a:lnTo>
                  <a:lnTo>
                    <a:pt x="2237" y="316"/>
                  </a:lnTo>
                  <a:lnTo>
                    <a:pt x="2238" y="590"/>
                  </a:lnTo>
                  <a:lnTo>
                    <a:pt x="2240" y="757"/>
                  </a:lnTo>
                  <a:lnTo>
                    <a:pt x="2241" y="541"/>
                  </a:lnTo>
                  <a:lnTo>
                    <a:pt x="2242" y="552"/>
                  </a:lnTo>
                  <a:lnTo>
                    <a:pt x="2244" y="529"/>
                  </a:lnTo>
                  <a:lnTo>
                    <a:pt x="2246" y="552"/>
                  </a:lnTo>
                  <a:lnTo>
                    <a:pt x="2247" y="592"/>
                  </a:lnTo>
                  <a:lnTo>
                    <a:pt x="2248" y="382"/>
                  </a:lnTo>
                  <a:lnTo>
                    <a:pt x="2250" y="689"/>
                  </a:lnTo>
                  <a:lnTo>
                    <a:pt x="2251" y="720"/>
                  </a:lnTo>
                  <a:lnTo>
                    <a:pt x="2252" y="707"/>
                  </a:lnTo>
                  <a:lnTo>
                    <a:pt x="2254" y="765"/>
                  </a:lnTo>
                  <a:lnTo>
                    <a:pt x="2256" y="651"/>
                  </a:lnTo>
                  <a:lnTo>
                    <a:pt x="2257" y="656"/>
                  </a:lnTo>
                  <a:lnTo>
                    <a:pt x="2258" y="804"/>
                  </a:lnTo>
                  <a:lnTo>
                    <a:pt x="2260" y="719"/>
                  </a:lnTo>
                  <a:lnTo>
                    <a:pt x="2261" y="558"/>
                  </a:lnTo>
                  <a:lnTo>
                    <a:pt x="2262" y="719"/>
                  </a:lnTo>
                  <a:lnTo>
                    <a:pt x="2265" y="609"/>
                  </a:lnTo>
                  <a:lnTo>
                    <a:pt x="2266" y="725"/>
                  </a:lnTo>
                  <a:lnTo>
                    <a:pt x="2267" y="616"/>
                  </a:lnTo>
                  <a:lnTo>
                    <a:pt x="2268" y="636"/>
                  </a:lnTo>
                  <a:lnTo>
                    <a:pt x="2270" y="732"/>
                  </a:lnTo>
                  <a:lnTo>
                    <a:pt x="2271" y="520"/>
                  </a:lnTo>
                  <a:lnTo>
                    <a:pt x="2273" y="571"/>
                  </a:lnTo>
                  <a:lnTo>
                    <a:pt x="2275" y="989"/>
                  </a:lnTo>
                  <a:lnTo>
                    <a:pt x="2276" y="719"/>
                  </a:lnTo>
                  <a:lnTo>
                    <a:pt x="2277" y="859"/>
                  </a:lnTo>
                  <a:lnTo>
                    <a:pt x="2279" y="714"/>
                  </a:lnTo>
                  <a:lnTo>
                    <a:pt x="2280" y="668"/>
                  </a:lnTo>
                  <a:lnTo>
                    <a:pt x="2281" y="668"/>
                  </a:lnTo>
                  <a:lnTo>
                    <a:pt x="2283" y="717"/>
                  </a:lnTo>
                  <a:lnTo>
                    <a:pt x="2285" y="540"/>
                  </a:lnTo>
                  <a:lnTo>
                    <a:pt x="2286" y="644"/>
                  </a:lnTo>
                  <a:lnTo>
                    <a:pt x="2287" y="703"/>
                  </a:lnTo>
                  <a:lnTo>
                    <a:pt x="2289" y="829"/>
                  </a:lnTo>
                  <a:lnTo>
                    <a:pt x="2290" y="681"/>
                  </a:lnTo>
                  <a:lnTo>
                    <a:pt x="2291" y="882"/>
                  </a:lnTo>
                  <a:lnTo>
                    <a:pt x="2294" y="813"/>
                  </a:lnTo>
                  <a:lnTo>
                    <a:pt x="2295" y="794"/>
                  </a:lnTo>
                  <a:lnTo>
                    <a:pt x="2296" y="748"/>
                  </a:lnTo>
                  <a:lnTo>
                    <a:pt x="2297" y="684"/>
                  </a:lnTo>
                  <a:lnTo>
                    <a:pt x="2299" y="493"/>
                  </a:lnTo>
                  <a:lnTo>
                    <a:pt x="2300" y="453"/>
                  </a:lnTo>
                  <a:lnTo>
                    <a:pt x="2302" y="479"/>
                  </a:lnTo>
                  <a:lnTo>
                    <a:pt x="2304" y="645"/>
                  </a:lnTo>
                  <a:lnTo>
                    <a:pt x="2305" y="704"/>
                  </a:lnTo>
                  <a:lnTo>
                    <a:pt x="2306" y="474"/>
                  </a:lnTo>
                  <a:lnTo>
                    <a:pt x="2307" y="654"/>
                  </a:lnTo>
                  <a:lnTo>
                    <a:pt x="2309" y="735"/>
                  </a:lnTo>
                  <a:lnTo>
                    <a:pt x="2310" y="712"/>
                  </a:lnTo>
                  <a:lnTo>
                    <a:pt x="2312" y="617"/>
                  </a:lnTo>
                  <a:lnTo>
                    <a:pt x="2314" y="702"/>
                  </a:lnTo>
                  <a:lnTo>
                    <a:pt x="2315" y="677"/>
                  </a:lnTo>
                  <a:lnTo>
                    <a:pt x="2316" y="630"/>
                  </a:lnTo>
                  <a:lnTo>
                    <a:pt x="2318" y="660"/>
                  </a:lnTo>
                  <a:lnTo>
                    <a:pt x="2319" y="848"/>
                  </a:lnTo>
                  <a:lnTo>
                    <a:pt x="2320" y="822"/>
                  </a:lnTo>
                  <a:lnTo>
                    <a:pt x="2322" y="606"/>
                  </a:lnTo>
                  <a:lnTo>
                    <a:pt x="2324" y="668"/>
                  </a:lnTo>
                  <a:lnTo>
                    <a:pt x="2325" y="869"/>
                  </a:lnTo>
                  <a:lnTo>
                    <a:pt x="2326" y="634"/>
                  </a:lnTo>
                  <a:lnTo>
                    <a:pt x="2328" y="822"/>
                  </a:lnTo>
                  <a:lnTo>
                    <a:pt x="2329" y="824"/>
                  </a:lnTo>
                  <a:lnTo>
                    <a:pt x="2331" y="568"/>
                  </a:lnTo>
                  <a:lnTo>
                    <a:pt x="2333" y="622"/>
                  </a:lnTo>
                  <a:lnTo>
                    <a:pt x="2334" y="620"/>
                  </a:lnTo>
                  <a:lnTo>
                    <a:pt x="2335" y="687"/>
                  </a:lnTo>
                  <a:lnTo>
                    <a:pt x="2336" y="903"/>
                  </a:lnTo>
                  <a:lnTo>
                    <a:pt x="2338" y="1105"/>
                  </a:lnTo>
                  <a:lnTo>
                    <a:pt x="2339" y="1000"/>
                  </a:lnTo>
                  <a:lnTo>
                    <a:pt x="2341" y="794"/>
                  </a:lnTo>
                  <a:lnTo>
                    <a:pt x="2343" y="685"/>
                  </a:lnTo>
                  <a:lnTo>
                    <a:pt x="2344" y="864"/>
                  </a:lnTo>
                  <a:lnTo>
                    <a:pt x="2345" y="664"/>
                  </a:lnTo>
                  <a:lnTo>
                    <a:pt x="2346" y="648"/>
                  </a:lnTo>
                  <a:lnTo>
                    <a:pt x="2348" y="306"/>
                  </a:lnTo>
                  <a:lnTo>
                    <a:pt x="2349" y="498"/>
                  </a:lnTo>
                  <a:lnTo>
                    <a:pt x="2351" y="635"/>
                  </a:lnTo>
                  <a:lnTo>
                    <a:pt x="2353" y="713"/>
                  </a:lnTo>
                  <a:lnTo>
                    <a:pt x="2354" y="668"/>
                  </a:lnTo>
                  <a:lnTo>
                    <a:pt x="2355" y="539"/>
                  </a:lnTo>
                  <a:lnTo>
                    <a:pt x="2357" y="694"/>
                  </a:lnTo>
                  <a:lnTo>
                    <a:pt x="2358" y="734"/>
                  </a:lnTo>
                  <a:lnTo>
                    <a:pt x="2360" y="712"/>
                  </a:lnTo>
                  <a:lnTo>
                    <a:pt x="2361" y="894"/>
                  </a:lnTo>
                  <a:lnTo>
                    <a:pt x="2363" y="971"/>
                  </a:lnTo>
                  <a:lnTo>
                    <a:pt x="2364" y="778"/>
                  </a:lnTo>
                  <a:lnTo>
                    <a:pt x="2365" y="728"/>
                  </a:lnTo>
                  <a:lnTo>
                    <a:pt x="2367" y="859"/>
                  </a:lnTo>
                  <a:lnTo>
                    <a:pt x="2368" y="500"/>
                  </a:lnTo>
                  <a:lnTo>
                    <a:pt x="2370" y="499"/>
                  </a:lnTo>
                  <a:lnTo>
                    <a:pt x="2372" y="563"/>
                  </a:lnTo>
                  <a:lnTo>
                    <a:pt x="2373" y="735"/>
                  </a:lnTo>
                  <a:lnTo>
                    <a:pt x="2374" y="579"/>
                  </a:lnTo>
                  <a:lnTo>
                    <a:pt x="2375" y="707"/>
                  </a:lnTo>
                  <a:lnTo>
                    <a:pt x="2377" y="844"/>
                  </a:lnTo>
                  <a:lnTo>
                    <a:pt x="2378" y="939"/>
                  </a:lnTo>
                  <a:lnTo>
                    <a:pt x="2380" y="583"/>
                  </a:lnTo>
                  <a:lnTo>
                    <a:pt x="2382" y="450"/>
                  </a:lnTo>
                  <a:lnTo>
                    <a:pt x="2383" y="543"/>
                  </a:lnTo>
                  <a:lnTo>
                    <a:pt x="2384" y="472"/>
                  </a:lnTo>
                  <a:lnTo>
                    <a:pt x="2385" y="269"/>
                  </a:lnTo>
                  <a:lnTo>
                    <a:pt x="2387" y="336"/>
                  </a:lnTo>
                  <a:lnTo>
                    <a:pt x="2389" y="415"/>
                  </a:lnTo>
                  <a:lnTo>
                    <a:pt x="2390" y="464"/>
                  </a:lnTo>
                  <a:lnTo>
                    <a:pt x="2392" y="451"/>
                  </a:lnTo>
                  <a:lnTo>
                    <a:pt x="2393" y="611"/>
                  </a:lnTo>
                  <a:lnTo>
                    <a:pt x="2394" y="488"/>
                  </a:lnTo>
                  <a:lnTo>
                    <a:pt x="2396" y="587"/>
                  </a:lnTo>
                  <a:lnTo>
                    <a:pt x="2397" y="490"/>
                  </a:lnTo>
                  <a:lnTo>
                    <a:pt x="2399" y="620"/>
                  </a:lnTo>
                  <a:lnTo>
                    <a:pt x="2400" y="628"/>
                  </a:lnTo>
                  <a:lnTo>
                    <a:pt x="2402" y="582"/>
                  </a:lnTo>
                  <a:lnTo>
                    <a:pt x="2403" y="554"/>
                  </a:lnTo>
                  <a:lnTo>
                    <a:pt x="2404" y="481"/>
                  </a:lnTo>
                  <a:lnTo>
                    <a:pt x="2406" y="592"/>
                  </a:lnTo>
                  <a:lnTo>
                    <a:pt x="2407" y="464"/>
                  </a:lnTo>
                  <a:lnTo>
                    <a:pt x="2409" y="442"/>
                  </a:lnTo>
                  <a:lnTo>
                    <a:pt x="2411" y="441"/>
                  </a:lnTo>
                  <a:lnTo>
                    <a:pt x="2412" y="440"/>
                  </a:lnTo>
                  <a:lnTo>
                    <a:pt x="2413" y="456"/>
                  </a:lnTo>
                  <a:lnTo>
                    <a:pt x="2414" y="291"/>
                  </a:lnTo>
                  <a:lnTo>
                    <a:pt x="2416" y="365"/>
                  </a:lnTo>
                  <a:lnTo>
                    <a:pt x="2418" y="545"/>
                  </a:lnTo>
                  <a:lnTo>
                    <a:pt x="2419" y="522"/>
                  </a:lnTo>
                  <a:lnTo>
                    <a:pt x="2421" y="658"/>
                  </a:lnTo>
                  <a:lnTo>
                    <a:pt x="2422" y="663"/>
                  </a:lnTo>
                  <a:lnTo>
                    <a:pt x="2423" y="584"/>
                  </a:lnTo>
                  <a:lnTo>
                    <a:pt x="2425" y="515"/>
                  </a:lnTo>
                  <a:lnTo>
                    <a:pt x="2426" y="459"/>
                  </a:lnTo>
                  <a:lnTo>
                    <a:pt x="2428" y="715"/>
                  </a:lnTo>
                  <a:lnTo>
                    <a:pt x="2429" y="451"/>
                  </a:lnTo>
                  <a:lnTo>
                    <a:pt x="2431" y="460"/>
                  </a:lnTo>
                  <a:lnTo>
                    <a:pt x="2432" y="477"/>
                  </a:lnTo>
                  <a:lnTo>
                    <a:pt x="2433" y="494"/>
                  </a:lnTo>
                  <a:lnTo>
                    <a:pt x="2435" y="538"/>
                  </a:lnTo>
                  <a:lnTo>
                    <a:pt x="2436" y="379"/>
                  </a:lnTo>
                  <a:lnTo>
                    <a:pt x="2438" y="302"/>
                  </a:lnTo>
                  <a:lnTo>
                    <a:pt x="2439" y="381"/>
                  </a:lnTo>
                  <a:lnTo>
                    <a:pt x="2441" y="405"/>
                  </a:lnTo>
                  <a:lnTo>
                    <a:pt x="2442" y="482"/>
                  </a:lnTo>
                  <a:lnTo>
                    <a:pt x="2443" y="395"/>
                  </a:lnTo>
                  <a:lnTo>
                    <a:pt x="2445" y="485"/>
                  </a:lnTo>
                  <a:lnTo>
                    <a:pt x="2447" y="529"/>
                  </a:lnTo>
                  <a:lnTo>
                    <a:pt x="2448" y="504"/>
                  </a:lnTo>
                  <a:lnTo>
                    <a:pt x="2450" y="596"/>
                  </a:lnTo>
                  <a:lnTo>
                    <a:pt x="2451" y="461"/>
                  </a:lnTo>
                  <a:lnTo>
                    <a:pt x="2452" y="535"/>
                  </a:lnTo>
                  <a:lnTo>
                    <a:pt x="2453" y="566"/>
                  </a:lnTo>
                  <a:lnTo>
                    <a:pt x="2455" y="394"/>
                  </a:lnTo>
                  <a:lnTo>
                    <a:pt x="2457" y="714"/>
                  </a:lnTo>
                  <a:lnTo>
                    <a:pt x="2458" y="663"/>
                  </a:lnTo>
                  <a:lnTo>
                    <a:pt x="2460" y="481"/>
                  </a:lnTo>
                  <a:lnTo>
                    <a:pt x="2461" y="595"/>
                  </a:lnTo>
                  <a:lnTo>
                    <a:pt x="2462" y="544"/>
                  </a:lnTo>
                  <a:lnTo>
                    <a:pt x="2464" y="328"/>
                  </a:lnTo>
                  <a:lnTo>
                    <a:pt x="2466" y="376"/>
                  </a:lnTo>
                  <a:lnTo>
                    <a:pt x="2467" y="386"/>
                  </a:lnTo>
                  <a:lnTo>
                    <a:pt x="2468" y="569"/>
                  </a:lnTo>
                  <a:lnTo>
                    <a:pt x="2470" y="671"/>
                  </a:lnTo>
                  <a:lnTo>
                    <a:pt x="2471" y="489"/>
                  </a:lnTo>
                  <a:lnTo>
                    <a:pt x="2472" y="519"/>
                  </a:lnTo>
                  <a:lnTo>
                    <a:pt x="2474" y="489"/>
                  </a:lnTo>
                  <a:lnTo>
                    <a:pt x="2476" y="618"/>
                  </a:lnTo>
                  <a:lnTo>
                    <a:pt x="2477" y="627"/>
                  </a:lnTo>
                  <a:lnTo>
                    <a:pt x="2478" y="454"/>
                  </a:lnTo>
                  <a:lnTo>
                    <a:pt x="2480" y="661"/>
                  </a:lnTo>
                  <a:lnTo>
                    <a:pt x="2481" y="641"/>
                  </a:lnTo>
                  <a:lnTo>
                    <a:pt x="2482" y="722"/>
                  </a:lnTo>
                  <a:lnTo>
                    <a:pt x="2484" y="506"/>
                  </a:lnTo>
                  <a:lnTo>
                    <a:pt x="2486" y="562"/>
                  </a:lnTo>
                  <a:lnTo>
                    <a:pt x="2487" y="573"/>
                  </a:lnTo>
                  <a:lnTo>
                    <a:pt x="2489" y="671"/>
                  </a:lnTo>
                  <a:lnTo>
                    <a:pt x="2490" y="832"/>
                  </a:lnTo>
                  <a:lnTo>
                    <a:pt x="2491" y="548"/>
                  </a:lnTo>
                  <a:lnTo>
                    <a:pt x="2492" y="616"/>
                  </a:lnTo>
                  <a:lnTo>
                    <a:pt x="2495" y="700"/>
                  </a:lnTo>
                  <a:lnTo>
                    <a:pt x="2496" y="586"/>
                  </a:lnTo>
                  <a:lnTo>
                    <a:pt x="2497" y="518"/>
                  </a:lnTo>
                  <a:lnTo>
                    <a:pt x="2499" y="685"/>
                  </a:lnTo>
                  <a:lnTo>
                    <a:pt x="2500" y="720"/>
                  </a:lnTo>
                  <a:lnTo>
                    <a:pt x="2501" y="731"/>
                  </a:lnTo>
                  <a:lnTo>
                    <a:pt x="2503" y="712"/>
                  </a:lnTo>
                  <a:lnTo>
                    <a:pt x="2505" y="828"/>
                  </a:lnTo>
                  <a:lnTo>
                    <a:pt x="2506" y="638"/>
                  </a:lnTo>
                  <a:lnTo>
                    <a:pt x="2507" y="593"/>
                  </a:lnTo>
                  <a:lnTo>
                    <a:pt x="2509" y="568"/>
                  </a:lnTo>
                  <a:lnTo>
                    <a:pt x="2510" y="632"/>
                  </a:lnTo>
                  <a:lnTo>
                    <a:pt x="2511" y="745"/>
                  </a:lnTo>
                  <a:lnTo>
                    <a:pt x="2513" y="574"/>
                  </a:lnTo>
                  <a:lnTo>
                    <a:pt x="2515" y="435"/>
                  </a:lnTo>
                  <a:lnTo>
                    <a:pt x="2516" y="719"/>
                  </a:lnTo>
                  <a:lnTo>
                    <a:pt x="2518" y="632"/>
                  </a:lnTo>
                  <a:lnTo>
                    <a:pt x="2519" y="620"/>
                  </a:lnTo>
                  <a:lnTo>
                    <a:pt x="2520" y="896"/>
                  </a:lnTo>
                  <a:lnTo>
                    <a:pt x="2521" y="666"/>
                  </a:lnTo>
                  <a:lnTo>
                    <a:pt x="2524" y="654"/>
                  </a:lnTo>
                  <a:lnTo>
                    <a:pt x="2525" y="736"/>
                  </a:lnTo>
                  <a:lnTo>
                    <a:pt x="2526" y="705"/>
                  </a:lnTo>
                  <a:lnTo>
                    <a:pt x="2528" y="615"/>
                  </a:lnTo>
                  <a:lnTo>
                    <a:pt x="2529" y="503"/>
                  </a:lnTo>
                  <a:lnTo>
                    <a:pt x="2530" y="634"/>
                  </a:lnTo>
                  <a:lnTo>
                    <a:pt x="2531" y="554"/>
                  </a:lnTo>
                  <a:lnTo>
                    <a:pt x="2534" y="558"/>
                  </a:lnTo>
                  <a:lnTo>
                    <a:pt x="2535" y="549"/>
                  </a:lnTo>
                  <a:lnTo>
                    <a:pt x="2536" y="325"/>
                  </a:lnTo>
                  <a:lnTo>
                    <a:pt x="2538" y="506"/>
                  </a:lnTo>
                  <a:lnTo>
                    <a:pt x="2539" y="665"/>
                  </a:lnTo>
                  <a:lnTo>
                    <a:pt x="2540" y="698"/>
                  </a:lnTo>
                  <a:lnTo>
                    <a:pt x="2542" y="620"/>
                  </a:lnTo>
                  <a:lnTo>
                    <a:pt x="2544" y="504"/>
                  </a:lnTo>
                  <a:lnTo>
                    <a:pt x="2545" y="590"/>
                  </a:lnTo>
                  <a:lnTo>
                    <a:pt x="2546" y="812"/>
                  </a:lnTo>
                  <a:lnTo>
                    <a:pt x="2548" y="804"/>
                  </a:lnTo>
                  <a:lnTo>
                    <a:pt x="2549" y="688"/>
                  </a:lnTo>
                  <a:lnTo>
                    <a:pt x="2550" y="724"/>
                  </a:lnTo>
                  <a:lnTo>
                    <a:pt x="2553" y="657"/>
                  </a:lnTo>
                  <a:lnTo>
                    <a:pt x="2554" y="599"/>
                  </a:lnTo>
                  <a:lnTo>
                    <a:pt x="2555" y="807"/>
                  </a:lnTo>
                  <a:lnTo>
                    <a:pt x="2557" y="902"/>
                  </a:lnTo>
                  <a:lnTo>
                    <a:pt x="2558" y="801"/>
                  </a:lnTo>
                  <a:lnTo>
                    <a:pt x="2559" y="675"/>
                  </a:lnTo>
                  <a:lnTo>
                    <a:pt x="2560" y="732"/>
                  </a:lnTo>
                  <a:lnTo>
                    <a:pt x="2563" y="751"/>
                  </a:lnTo>
                  <a:lnTo>
                    <a:pt x="2564" y="724"/>
                  </a:lnTo>
                  <a:lnTo>
                    <a:pt x="2565" y="482"/>
                  </a:lnTo>
                  <a:lnTo>
                    <a:pt x="2567" y="558"/>
                  </a:lnTo>
                  <a:lnTo>
                    <a:pt x="2568" y="793"/>
                  </a:lnTo>
                  <a:lnTo>
                    <a:pt x="2569" y="751"/>
                  </a:lnTo>
                  <a:lnTo>
                    <a:pt x="2570" y="960"/>
                  </a:lnTo>
                  <a:lnTo>
                    <a:pt x="2573" y="725"/>
                  </a:lnTo>
                  <a:lnTo>
                    <a:pt x="2574" y="757"/>
                  </a:lnTo>
                  <a:lnTo>
                    <a:pt x="2575" y="528"/>
                  </a:lnTo>
                  <a:lnTo>
                    <a:pt x="2577" y="490"/>
                  </a:lnTo>
                  <a:lnTo>
                    <a:pt x="2578" y="501"/>
                  </a:lnTo>
                  <a:lnTo>
                    <a:pt x="2579" y="728"/>
                  </a:lnTo>
                  <a:lnTo>
                    <a:pt x="2582" y="572"/>
                  </a:lnTo>
                  <a:lnTo>
                    <a:pt x="2583" y="706"/>
                  </a:lnTo>
                  <a:lnTo>
                    <a:pt x="2584" y="683"/>
                  </a:lnTo>
                  <a:lnTo>
                    <a:pt x="2585" y="748"/>
                  </a:lnTo>
                  <a:lnTo>
                    <a:pt x="2587" y="617"/>
                  </a:lnTo>
                  <a:lnTo>
                    <a:pt x="2588" y="549"/>
                  </a:lnTo>
                  <a:lnTo>
                    <a:pt x="2589" y="493"/>
                  </a:lnTo>
                  <a:lnTo>
                    <a:pt x="2592" y="396"/>
                  </a:lnTo>
                  <a:lnTo>
                    <a:pt x="2593" y="341"/>
                  </a:lnTo>
                  <a:lnTo>
                    <a:pt x="2594" y="314"/>
                  </a:lnTo>
                  <a:lnTo>
                    <a:pt x="2596" y="276"/>
                  </a:lnTo>
                  <a:lnTo>
                    <a:pt x="2597" y="486"/>
                  </a:lnTo>
                  <a:lnTo>
                    <a:pt x="2598" y="375"/>
                  </a:lnTo>
                  <a:lnTo>
                    <a:pt x="2599" y="428"/>
                  </a:lnTo>
                  <a:lnTo>
                    <a:pt x="2602" y="619"/>
                  </a:lnTo>
                  <a:lnTo>
                    <a:pt x="2603" y="430"/>
                  </a:lnTo>
                  <a:lnTo>
                    <a:pt x="2604" y="387"/>
                  </a:lnTo>
                  <a:lnTo>
                    <a:pt x="2606" y="456"/>
                  </a:lnTo>
                  <a:lnTo>
                    <a:pt x="2607" y="443"/>
                  </a:lnTo>
                  <a:lnTo>
                    <a:pt x="2608" y="258"/>
                  </a:lnTo>
                  <a:lnTo>
                    <a:pt x="2609" y="556"/>
                  </a:lnTo>
                  <a:lnTo>
                    <a:pt x="2612" y="420"/>
                  </a:lnTo>
                  <a:lnTo>
                    <a:pt x="2613" y="670"/>
                  </a:lnTo>
                  <a:lnTo>
                    <a:pt x="2614" y="683"/>
                  </a:lnTo>
                  <a:lnTo>
                    <a:pt x="2616" y="694"/>
                  </a:lnTo>
                  <a:lnTo>
                    <a:pt x="2617" y="630"/>
                  </a:lnTo>
                  <a:lnTo>
                    <a:pt x="2618" y="561"/>
                  </a:lnTo>
                  <a:lnTo>
                    <a:pt x="2621" y="705"/>
                  </a:lnTo>
                  <a:lnTo>
                    <a:pt x="2622" y="755"/>
                  </a:lnTo>
                  <a:lnTo>
                    <a:pt x="2623" y="493"/>
                  </a:lnTo>
                  <a:lnTo>
                    <a:pt x="2624" y="353"/>
                  </a:lnTo>
                  <a:lnTo>
                    <a:pt x="2626" y="463"/>
                  </a:lnTo>
                  <a:lnTo>
                    <a:pt x="2627" y="531"/>
                  </a:lnTo>
                  <a:lnTo>
                    <a:pt x="2628" y="673"/>
                  </a:lnTo>
                  <a:lnTo>
                    <a:pt x="2631" y="432"/>
                  </a:lnTo>
                  <a:lnTo>
                    <a:pt x="2632" y="503"/>
                  </a:lnTo>
                  <a:lnTo>
                    <a:pt x="2633" y="582"/>
                  </a:lnTo>
                  <a:lnTo>
                    <a:pt x="2635" y="514"/>
                  </a:lnTo>
                  <a:lnTo>
                    <a:pt x="2636" y="605"/>
                  </a:lnTo>
                  <a:lnTo>
                    <a:pt x="2637" y="544"/>
                  </a:lnTo>
                  <a:lnTo>
                    <a:pt x="2638" y="556"/>
                  </a:lnTo>
                  <a:lnTo>
                    <a:pt x="2641" y="503"/>
                  </a:lnTo>
                  <a:lnTo>
                    <a:pt x="2642" y="519"/>
                  </a:lnTo>
                  <a:lnTo>
                    <a:pt x="2643" y="574"/>
                  </a:lnTo>
                  <a:lnTo>
                    <a:pt x="2645" y="593"/>
                  </a:lnTo>
                  <a:lnTo>
                    <a:pt x="2646" y="695"/>
                  </a:lnTo>
                  <a:lnTo>
                    <a:pt x="2647" y="673"/>
                  </a:lnTo>
                  <a:lnTo>
                    <a:pt x="2650" y="784"/>
                  </a:lnTo>
                  <a:lnTo>
                    <a:pt x="2651" y="651"/>
                  </a:lnTo>
                  <a:lnTo>
                    <a:pt x="2652" y="652"/>
                  </a:lnTo>
                  <a:lnTo>
                    <a:pt x="2653" y="745"/>
                  </a:lnTo>
                  <a:lnTo>
                    <a:pt x="2655" y="607"/>
                  </a:lnTo>
                  <a:lnTo>
                    <a:pt x="2656" y="838"/>
                  </a:lnTo>
                  <a:lnTo>
                    <a:pt x="2657" y="867"/>
                  </a:lnTo>
                  <a:lnTo>
                    <a:pt x="2660" y="673"/>
                  </a:lnTo>
                  <a:lnTo>
                    <a:pt x="2661" y="661"/>
                  </a:lnTo>
                  <a:lnTo>
                    <a:pt x="2662" y="529"/>
                  </a:lnTo>
                  <a:lnTo>
                    <a:pt x="2663" y="654"/>
                  </a:lnTo>
                  <a:lnTo>
                    <a:pt x="2665" y="638"/>
                  </a:lnTo>
                  <a:lnTo>
                    <a:pt x="2666" y="681"/>
                  </a:lnTo>
                  <a:lnTo>
                    <a:pt x="2667" y="695"/>
                  </a:lnTo>
                  <a:lnTo>
                    <a:pt x="2670" y="510"/>
                  </a:lnTo>
                  <a:lnTo>
                    <a:pt x="2671" y="511"/>
                  </a:lnTo>
                  <a:lnTo>
                    <a:pt x="2672" y="491"/>
                  </a:lnTo>
                  <a:lnTo>
                    <a:pt x="2674" y="690"/>
                  </a:lnTo>
                  <a:lnTo>
                    <a:pt x="2675" y="503"/>
                  </a:lnTo>
                  <a:lnTo>
                    <a:pt x="2676" y="354"/>
                  </a:lnTo>
                  <a:lnTo>
                    <a:pt x="2677" y="285"/>
                  </a:lnTo>
                  <a:lnTo>
                    <a:pt x="2680" y="134"/>
                  </a:lnTo>
                  <a:lnTo>
                    <a:pt x="2681" y="280"/>
                  </a:lnTo>
                  <a:lnTo>
                    <a:pt x="2682" y="313"/>
                  </a:lnTo>
                  <a:lnTo>
                    <a:pt x="2684" y="337"/>
                  </a:lnTo>
                  <a:lnTo>
                    <a:pt x="2685" y="199"/>
                  </a:lnTo>
                  <a:lnTo>
                    <a:pt x="2686" y="260"/>
                  </a:lnTo>
                  <a:lnTo>
                    <a:pt x="2689" y="256"/>
                  </a:lnTo>
                  <a:lnTo>
                    <a:pt x="2690" y="0"/>
                  </a:lnTo>
                  <a:lnTo>
                    <a:pt x="2691" y="133"/>
                  </a:lnTo>
                  <a:lnTo>
                    <a:pt x="2692" y="246"/>
                  </a:lnTo>
                  <a:lnTo>
                    <a:pt x="2694" y="270"/>
                  </a:lnTo>
                  <a:lnTo>
                    <a:pt x="2695" y="279"/>
                  </a:lnTo>
                  <a:lnTo>
                    <a:pt x="2696" y="242"/>
                  </a:lnTo>
                  <a:lnTo>
                    <a:pt x="2699" y="308"/>
                  </a:lnTo>
                  <a:lnTo>
                    <a:pt x="2700" y="500"/>
                  </a:lnTo>
                  <a:lnTo>
                    <a:pt x="2701" y="542"/>
                  </a:lnTo>
                  <a:lnTo>
                    <a:pt x="2702" y="397"/>
                  </a:lnTo>
                  <a:lnTo>
                    <a:pt x="2704" y="160"/>
                  </a:lnTo>
                  <a:lnTo>
                    <a:pt x="2705" y="265"/>
                  </a:lnTo>
                  <a:lnTo>
                    <a:pt x="2706" y="372"/>
                  </a:lnTo>
                  <a:lnTo>
                    <a:pt x="2709" y="387"/>
                  </a:lnTo>
                  <a:lnTo>
                    <a:pt x="2710" y="567"/>
                  </a:lnTo>
                  <a:lnTo>
                    <a:pt x="2711" y="503"/>
                  </a:lnTo>
                  <a:lnTo>
                    <a:pt x="2713" y="403"/>
                  </a:lnTo>
                  <a:lnTo>
                    <a:pt x="2714" y="408"/>
                  </a:lnTo>
                  <a:lnTo>
                    <a:pt x="2715" y="402"/>
                  </a:lnTo>
                  <a:lnTo>
                    <a:pt x="2717" y="309"/>
                  </a:lnTo>
                  <a:lnTo>
                    <a:pt x="2719" y="542"/>
                  </a:lnTo>
                  <a:lnTo>
                    <a:pt x="2720" y="620"/>
                  </a:lnTo>
                  <a:lnTo>
                    <a:pt x="2721" y="527"/>
                  </a:lnTo>
                  <a:lnTo>
                    <a:pt x="2723" y="590"/>
                  </a:lnTo>
                  <a:lnTo>
                    <a:pt x="2724" y="365"/>
                  </a:lnTo>
                  <a:lnTo>
                    <a:pt x="2725" y="504"/>
                  </a:lnTo>
                  <a:lnTo>
                    <a:pt x="2728" y="573"/>
                  </a:lnTo>
                  <a:lnTo>
                    <a:pt x="2729" y="499"/>
                  </a:lnTo>
                  <a:lnTo>
                    <a:pt x="2730" y="631"/>
                  </a:lnTo>
                  <a:lnTo>
                    <a:pt x="2731" y="470"/>
                  </a:lnTo>
                  <a:lnTo>
                    <a:pt x="2733" y="734"/>
                  </a:lnTo>
                  <a:lnTo>
                    <a:pt x="2734" y="574"/>
                  </a:lnTo>
                  <a:lnTo>
                    <a:pt x="2735" y="578"/>
                  </a:lnTo>
                  <a:lnTo>
                    <a:pt x="2738" y="677"/>
                  </a:lnTo>
                  <a:lnTo>
                    <a:pt x="2739" y="564"/>
                  </a:lnTo>
                  <a:lnTo>
                    <a:pt x="2740" y="524"/>
                  </a:lnTo>
                  <a:lnTo>
                    <a:pt x="2742" y="505"/>
                  </a:lnTo>
                  <a:lnTo>
                    <a:pt x="2743" y="527"/>
                  </a:lnTo>
                  <a:lnTo>
                    <a:pt x="2744" y="441"/>
                  </a:lnTo>
                  <a:lnTo>
                    <a:pt x="2746" y="560"/>
                  </a:lnTo>
                  <a:lnTo>
                    <a:pt x="2748" y="528"/>
                  </a:lnTo>
                  <a:lnTo>
                    <a:pt x="2749" y="484"/>
                  </a:lnTo>
                  <a:lnTo>
                    <a:pt x="2750" y="720"/>
                  </a:lnTo>
                  <a:lnTo>
                    <a:pt x="2752" y="732"/>
                  </a:lnTo>
                  <a:lnTo>
                    <a:pt x="2753" y="834"/>
                  </a:lnTo>
                  <a:lnTo>
                    <a:pt x="2754" y="809"/>
                  </a:lnTo>
                  <a:lnTo>
                    <a:pt x="2756" y="823"/>
                  </a:lnTo>
                  <a:lnTo>
                    <a:pt x="2758" y="994"/>
                  </a:lnTo>
                  <a:lnTo>
                    <a:pt x="2759" y="631"/>
                  </a:lnTo>
                  <a:lnTo>
                    <a:pt x="2760" y="543"/>
                  </a:lnTo>
                  <a:lnTo>
                    <a:pt x="2762" y="459"/>
                  </a:lnTo>
                  <a:lnTo>
                    <a:pt x="2763" y="584"/>
                  </a:lnTo>
                  <a:lnTo>
                    <a:pt x="2764" y="531"/>
                  </a:lnTo>
                  <a:lnTo>
                    <a:pt x="2767" y="347"/>
                  </a:lnTo>
                  <a:lnTo>
                    <a:pt x="2768" y="316"/>
                  </a:lnTo>
                  <a:lnTo>
                    <a:pt x="2769" y="476"/>
                  </a:lnTo>
                  <a:lnTo>
                    <a:pt x="2770" y="667"/>
                  </a:lnTo>
                  <a:lnTo>
                    <a:pt x="2772" y="488"/>
                  </a:lnTo>
                  <a:lnTo>
                    <a:pt x="2773" y="189"/>
                  </a:lnTo>
                  <a:lnTo>
                    <a:pt x="2775" y="310"/>
                  </a:lnTo>
                  <a:lnTo>
                    <a:pt x="2777" y="345"/>
                  </a:lnTo>
                  <a:lnTo>
                    <a:pt x="2778" y="349"/>
                  </a:lnTo>
                  <a:lnTo>
                    <a:pt x="2779" y="527"/>
                  </a:lnTo>
                  <a:lnTo>
                    <a:pt x="2781" y="442"/>
                  </a:lnTo>
                  <a:lnTo>
                    <a:pt x="2782" y="408"/>
                  </a:lnTo>
                  <a:lnTo>
                    <a:pt x="2783" y="333"/>
                  </a:lnTo>
                  <a:lnTo>
                    <a:pt x="2785" y="463"/>
                  </a:lnTo>
                  <a:lnTo>
                    <a:pt x="2787" y="630"/>
                  </a:lnTo>
                  <a:lnTo>
                    <a:pt x="2788" y="570"/>
                  </a:lnTo>
                  <a:lnTo>
                    <a:pt x="2789" y="578"/>
                  </a:lnTo>
                  <a:lnTo>
                    <a:pt x="2791" y="473"/>
                  </a:lnTo>
                  <a:lnTo>
                    <a:pt x="2792" y="498"/>
                  </a:lnTo>
                  <a:lnTo>
                    <a:pt x="2793" y="404"/>
                  </a:lnTo>
                  <a:lnTo>
                    <a:pt x="2795" y="459"/>
                  </a:lnTo>
                  <a:lnTo>
                    <a:pt x="2797" y="385"/>
                  </a:lnTo>
                  <a:lnTo>
                    <a:pt x="2798" y="230"/>
                  </a:lnTo>
                  <a:lnTo>
                    <a:pt x="2799" y="291"/>
                  </a:lnTo>
                  <a:lnTo>
                    <a:pt x="2801" y="367"/>
                  </a:lnTo>
                  <a:lnTo>
                    <a:pt x="2802" y="485"/>
                  </a:lnTo>
                  <a:lnTo>
                    <a:pt x="2804" y="414"/>
                  </a:lnTo>
                  <a:lnTo>
                    <a:pt x="2806" y="382"/>
                  </a:lnTo>
                  <a:lnTo>
                    <a:pt x="2807" y="466"/>
                  </a:lnTo>
                  <a:lnTo>
                    <a:pt x="2808" y="331"/>
                  </a:lnTo>
                  <a:lnTo>
                    <a:pt x="2809" y="391"/>
                  </a:lnTo>
                  <a:lnTo>
                    <a:pt x="2811" y="483"/>
                  </a:lnTo>
                  <a:lnTo>
                    <a:pt x="2812" y="578"/>
                  </a:lnTo>
                  <a:lnTo>
                    <a:pt x="2814" y="386"/>
                  </a:lnTo>
                  <a:lnTo>
                    <a:pt x="2816" y="650"/>
                  </a:lnTo>
                  <a:lnTo>
                    <a:pt x="2817" y="508"/>
                  </a:lnTo>
                  <a:lnTo>
                    <a:pt x="2818" y="512"/>
                  </a:lnTo>
                  <a:lnTo>
                    <a:pt x="2820" y="577"/>
                  </a:lnTo>
                  <a:lnTo>
                    <a:pt x="2821" y="566"/>
                  </a:lnTo>
                  <a:lnTo>
                    <a:pt x="2822" y="494"/>
                  </a:lnTo>
                  <a:lnTo>
                    <a:pt x="2824" y="529"/>
                  </a:lnTo>
                  <a:lnTo>
                    <a:pt x="2826" y="444"/>
                  </a:lnTo>
                  <a:lnTo>
                    <a:pt x="2827" y="440"/>
                  </a:lnTo>
                  <a:lnTo>
                    <a:pt x="2828" y="601"/>
                  </a:lnTo>
                  <a:lnTo>
                    <a:pt x="2830" y="516"/>
                  </a:lnTo>
                  <a:lnTo>
                    <a:pt x="2831" y="382"/>
                  </a:lnTo>
                  <a:lnTo>
                    <a:pt x="2833" y="485"/>
                  </a:lnTo>
                  <a:lnTo>
                    <a:pt x="2834" y="566"/>
                  </a:lnTo>
                  <a:lnTo>
                    <a:pt x="2836" y="491"/>
                  </a:lnTo>
                  <a:lnTo>
                    <a:pt x="2837" y="521"/>
                  </a:lnTo>
                  <a:lnTo>
                    <a:pt x="2838" y="431"/>
                  </a:lnTo>
                  <a:lnTo>
                    <a:pt x="2840" y="383"/>
                  </a:lnTo>
                  <a:lnTo>
                    <a:pt x="2841" y="340"/>
                  </a:lnTo>
                  <a:lnTo>
                    <a:pt x="2843" y="625"/>
                  </a:lnTo>
                  <a:lnTo>
                    <a:pt x="2845" y="657"/>
                  </a:lnTo>
                  <a:lnTo>
                    <a:pt x="2846" y="569"/>
                  </a:lnTo>
                  <a:lnTo>
                    <a:pt x="2847" y="577"/>
                  </a:lnTo>
                  <a:lnTo>
                    <a:pt x="2848" y="491"/>
                  </a:lnTo>
                  <a:lnTo>
                    <a:pt x="2850" y="492"/>
                  </a:lnTo>
                  <a:lnTo>
                    <a:pt x="2851" y="592"/>
                  </a:lnTo>
                  <a:lnTo>
                    <a:pt x="2853" y="562"/>
                  </a:lnTo>
                  <a:lnTo>
                    <a:pt x="2855" y="639"/>
                  </a:lnTo>
                  <a:lnTo>
                    <a:pt x="2856" y="601"/>
                  </a:lnTo>
                  <a:lnTo>
                    <a:pt x="2857" y="638"/>
                  </a:lnTo>
                  <a:lnTo>
                    <a:pt x="2859" y="668"/>
                  </a:lnTo>
                  <a:lnTo>
                    <a:pt x="2860" y="670"/>
                  </a:lnTo>
                  <a:lnTo>
                    <a:pt x="2862" y="634"/>
                  </a:lnTo>
                  <a:lnTo>
                    <a:pt x="2863" y="669"/>
                  </a:lnTo>
                  <a:lnTo>
                    <a:pt x="2865" y="735"/>
                  </a:lnTo>
                  <a:lnTo>
                    <a:pt x="2866" y="778"/>
                  </a:lnTo>
                  <a:lnTo>
                    <a:pt x="2867" y="611"/>
                  </a:lnTo>
                  <a:lnTo>
                    <a:pt x="2869" y="751"/>
                  </a:lnTo>
                  <a:lnTo>
                    <a:pt x="2870" y="668"/>
                  </a:lnTo>
                  <a:lnTo>
                    <a:pt x="2872" y="348"/>
                  </a:lnTo>
                  <a:lnTo>
                    <a:pt x="2874" y="463"/>
                  </a:lnTo>
                  <a:lnTo>
                    <a:pt x="2875" y="339"/>
                  </a:lnTo>
                  <a:lnTo>
                    <a:pt x="2876" y="550"/>
                  </a:lnTo>
                  <a:lnTo>
                    <a:pt x="2877" y="418"/>
                  </a:lnTo>
                  <a:lnTo>
                    <a:pt x="2879" y="318"/>
                  </a:lnTo>
                  <a:lnTo>
                    <a:pt x="2880" y="559"/>
                  </a:lnTo>
                  <a:lnTo>
                    <a:pt x="2882" y="535"/>
                  </a:lnTo>
                  <a:lnTo>
                    <a:pt x="2884" y="528"/>
                  </a:lnTo>
                  <a:lnTo>
                    <a:pt x="2885" y="506"/>
                  </a:lnTo>
                  <a:lnTo>
                    <a:pt x="2886" y="499"/>
                  </a:lnTo>
                  <a:lnTo>
                    <a:pt x="2887" y="588"/>
                  </a:lnTo>
                  <a:lnTo>
                    <a:pt x="2889" y="525"/>
                  </a:lnTo>
                  <a:lnTo>
                    <a:pt x="2891" y="605"/>
                  </a:lnTo>
                  <a:lnTo>
                    <a:pt x="2892" y="567"/>
                  </a:lnTo>
                  <a:lnTo>
                    <a:pt x="2894" y="587"/>
                  </a:lnTo>
                  <a:lnTo>
                    <a:pt x="2895" y="534"/>
                  </a:lnTo>
                  <a:lnTo>
                    <a:pt x="2896" y="524"/>
                  </a:lnTo>
                  <a:lnTo>
                    <a:pt x="2898" y="566"/>
                  </a:lnTo>
                  <a:lnTo>
                    <a:pt x="2899" y="493"/>
                  </a:lnTo>
                  <a:lnTo>
                    <a:pt x="2901" y="656"/>
                  </a:lnTo>
                  <a:lnTo>
                    <a:pt x="2902" y="543"/>
                  </a:lnTo>
                  <a:lnTo>
                    <a:pt x="2904" y="627"/>
                  </a:lnTo>
                  <a:lnTo>
                    <a:pt x="2905" y="799"/>
                  </a:lnTo>
                  <a:lnTo>
                    <a:pt x="2906" y="757"/>
                  </a:lnTo>
                  <a:lnTo>
                    <a:pt x="2908" y="625"/>
                  </a:lnTo>
                  <a:lnTo>
                    <a:pt x="2909" y="780"/>
                  </a:lnTo>
                  <a:lnTo>
                    <a:pt x="2911" y="807"/>
                  </a:lnTo>
                  <a:lnTo>
                    <a:pt x="2913" y="806"/>
                  </a:lnTo>
                  <a:lnTo>
                    <a:pt x="2914" y="748"/>
                  </a:lnTo>
                  <a:lnTo>
                    <a:pt x="2915" y="702"/>
                  </a:lnTo>
                  <a:lnTo>
                    <a:pt x="2916" y="678"/>
                  </a:lnTo>
                  <a:lnTo>
                    <a:pt x="2918" y="669"/>
                  </a:lnTo>
                  <a:lnTo>
                    <a:pt x="2920" y="814"/>
                  </a:lnTo>
                  <a:lnTo>
                    <a:pt x="2921" y="688"/>
                  </a:lnTo>
                  <a:lnTo>
                    <a:pt x="2923" y="720"/>
                  </a:lnTo>
                  <a:lnTo>
                    <a:pt x="2924" y="850"/>
                  </a:lnTo>
                  <a:lnTo>
                    <a:pt x="2925" y="765"/>
                  </a:lnTo>
                  <a:lnTo>
                    <a:pt x="2926" y="957"/>
                  </a:lnTo>
                  <a:lnTo>
                    <a:pt x="2928" y="583"/>
                  </a:lnTo>
                  <a:lnTo>
                    <a:pt x="2930" y="603"/>
                  </a:lnTo>
                  <a:lnTo>
                    <a:pt x="2931" y="676"/>
                  </a:lnTo>
                  <a:lnTo>
                    <a:pt x="2933" y="945"/>
                  </a:lnTo>
                  <a:lnTo>
                    <a:pt x="2934" y="880"/>
                  </a:lnTo>
                  <a:lnTo>
                    <a:pt x="2935" y="726"/>
                  </a:lnTo>
                  <a:lnTo>
                    <a:pt x="2937" y="765"/>
                  </a:lnTo>
                  <a:lnTo>
                    <a:pt x="2938" y="832"/>
                  </a:lnTo>
                  <a:lnTo>
                    <a:pt x="2940" y="987"/>
                  </a:lnTo>
                  <a:lnTo>
                    <a:pt x="2941" y="1021"/>
                  </a:lnTo>
                  <a:lnTo>
                    <a:pt x="2943" y="900"/>
                  </a:lnTo>
                  <a:lnTo>
                    <a:pt x="2944" y="872"/>
                  </a:lnTo>
                  <a:lnTo>
                    <a:pt x="2945" y="677"/>
                  </a:lnTo>
                  <a:lnTo>
                    <a:pt x="2947" y="1017"/>
                  </a:lnTo>
                  <a:lnTo>
                    <a:pt x="2949" y="1264"/>
                  </a:lnTo>
                  <a:lnTo>
                    <a:pt x="2950" y="1202"/>
                  </a:lnTo>
                  <a:lnTo>
                    <a:pt x="2952" y="940"/>
                  </a:lnTo>
                  <a:lnTo>
                    <a:pt x="2953" y="918"/>
                  </a:lnTo>
                  <a:lnTo>
                    <a:pt x="2954" y="867"/>
                  </a:lnTo>
                  <a:lnTo>
                    <a:pt x="2955" y="542"/>
                  </a:lnTo>
                  <a:lnTo>
                    <a:pt x="2957" y="638"/>
                  </a:lnTo>
                  <a:lnTo>
                    <a:pt x="2959" y="731"/>
                  </a:lnTo>
                  <a:lnTo>
                    <a:pt x="2960" y="708"/>
                  </a:lnTo>
                  <a:lnTo>
                    <a:pt x="2962" y="762"/>
                  </a:lnTo>
                  <a:lnTo>
                    <a:pt x="2963" y="838"/>
                  </a:lnTo>
                  <a:lnTo>
                    <a:pt x="2964" y="810"/>
                  </a:lnTo>
                  <a:lnTo>
                    <a:pt x="2966" y="763"/>
                  </a:lnTo>
                  <a:lnTo>
                    <a:pt x="2968" y="563"/>
                  </a:lnTo>
                  <a:lnTo>
                    <a:pt x="2969" y="628"/>
                  </a:lnTo>
                  <a:lnTo>
                    <a:pt x="2970" y="719"/>
                  </a:lnTo>
                  <a:lnTo>
                    <a:pt x="2972" y="859"/>
                  </a:lnTo>
                  <a:lnTo>
                    <a:pt x="2973" y="780"/>
                  </a:lnTo>
                  <a:lnTo>
                    <a:pt x="2974" y="929"/>
                  </a:lnTo>
                  <a:lnTo>
                    <a:pt x="2976" y="773"/>
                  </a:lnTo>
                  <a:lnTo>
                    <a:pt x="2978" y="639"/>
                  </a:lnTo>
                  <a:lnTo>
                    <a:pt x="2979" y="752"/>
                  </a:lnTo>
                  <a:lnTo>
                    <a:pt x="2980" y="835"/>
                  </a:lnTo>
                  <a:lnTo>
                    <a:pt x="2982" y="717"/>
                  </a:lnTo>
                  <a:lnTo>
                    <a:pt x="2983" y="610"/>
                  </a:lnTo>
                  <a:lnTo>
                    <a:pt x="2984" y="638"/>
                  </a:lnTo>
                  <a:lnTo>
                    <a:pt x="2986" y="773"/>
                  </a:lnTo>
                  <a:lnTo>
                    <a:pt x="2988" y="731"/>
                  </a:lnTo>
                  <a:lnTo>
                    <a:pt x="2989" y="704"/>
                  </a:lnTo>
                  <a:lnTo>
                    <a:pt x="2991" y="703"/>
                  </a:lnTo>
                  <a:lnTo>
                    <a:pt x="2992" y="582"/>
                  </a:lnTo>
                  <a:lnTo>
                    <a:pt x="2993" y="755"/>
                  </a:lnTo>
                  <a:lnTo>
                    <a:pt x="2994" y="853"/>
                  </a:lnTo>
                  <a:lnTo>
                    <a:pt x="2997" y="840"/>
                  </a:lnTo>
                  <a:lnTo>
                    <a:pt x="2998" y="787"/>
                  </a:lnTo>
                  <a:lnTo>
                    <a:pt x="2999" y="599"/>
                  </a:lnTo>
                  <a:lnTo>
                    <a:pt x="3001" y="642"/>
                  </a:lnTo>
                  <a:lnTo>
                    <a:pt x="3002" y="564"/>
                  </a:lnTo>
                  <a:lnTo>
                    <a:pt x="3003" y="702"/>
                  </a:lnTo>
                  <a:lnTo>
                    <a:pt x="3005" y="658"/>
                  </a:lnTo>
                  <a:lnTo>
                    <a:pt x="3007" y="720"/>
                  </a:lnTo>
                  <a:lnTo>
                    <a:pt x="3008" y="622"/>
                  </a:lnTo>
                  <a:lnTo>
                    <a:pt x="3009" y="520"/>
                  </a:lnTo>
                  <a:lnTo>
                    <a:pt x="3011" y="456"/>
                  </a:lnTo>
                  <a:lnTo>
                    <a:pt x="3012" y="525"/>
                  </a:lnTo>
                  <a:lnTo>
                    <a:pt x="3013" y="518"/>
                  </a:lnTo>
                  <a:lnTo>
                    <a:pt x="3015" y="602"/>
                  </a:lnTo>
                  <a:lnTo>
                    <a:pt x="3017" y="607"/>
                  </a:lnTo>
                  <a:lnTo>
                    <a:pt x="3018" y="543"/>
                  </a:lnTo>
                  <a:lnTo>
                    <a:pt x="3019" y="716"/>
                  </a:lnTo>
                  <a:lnTo>
                    <a:pt x="3021" y="646"/>
                  </a:lnTo>
                  <a:lnTo>
                    <a:pt x="3022" y="884"/>
                  </a:lnTo>
                  <a:lnTo>
                    <a:pt x="3023" y="735"/>
                  </a:lnTo>
                  <a:lnTo>
                    <a:pt x="3026" y="616"/>
                  </a:lnTo>
                  <a:lnTo>
                    <a:pt x="3027" y="511"/>
                  </a:lnTo>
                  <a:lnTo>
                    <a:pt x="3028" y="562"/>
                  </a:lnTo>
                  <a:lnTo>
                    <a:pt x="3030" y="578"/>
                  </a:lnTo>
                  <a:lnTo>
                    <a:pt x="3031" y="563"/>
                  </a:lnTo>
                  <a:lnTo>
                    <a:pt x="3032" y="627"/>
                  </a:lnTo>
                  <a:lnTo>
                    <a:pt x="3033" y="620"/>
                  </a:lnTo>
                  <a:lnTo>
                    <a:pt x="3036" y="770"/>
                  </a:lnTo>
                  <a:lnTo>
                    <a:pt x="3037" y="549"/>
                  </a:lnTo>
                  <a:lnTo>
                    <a:pt x="3038" y="603"/>
                  </a:lnTo>
                  <a:lnTo>
                    <a:pt x="3040" y="656"/>
                  </a:lnTo>
                  <a:lnTo>
                    <a:pt x="3041" y="602"/>
                  </a:lnTo>
                  <a:lnTo>
                    <a:pt x="3042" y="491"/>
                  </a:lnTo>
                  <a:lnTo>
                    <a:pt x="3044" y="411"/>
                  </a:lnTo>
                  <a:lnTo>
                    <a:pt x="3046" y="571"/>
                  </a:lnTo>
                  <a:lnTo>
                    <a:pt x="3047" y="650"/>
                  </a:lnTo>
                  <a:lnTo>
                    <a:pt x="3048" y="600"/>
                  </a:lnTo>
                  <a:lnTo>
                    <a:pt x="3050" y="490"/>
                  </a:lnTo>
                  <a:lnTo>
                    <a:pt x="3051" y="549"/>
                  </a:lnTo>
                  <a:lnTo>
                    <a:pt x="3052" y="522"/>
                  </a:lnTo>
                  <a:lnTo>
                    <a:pt x="3055" y="352"/>
                  </a:lnTo>
                  <a:lnTo>
                    <a:pt x="3056" y="591"/>
                  </a:lnTo>
                  <a:lnTo>
                    <a:pt x="3057" y="375"/>
                  </a:lnTo>
                  <a:lnTo>
                    <a:pt x="3058" y="674"/>
                  </a:lnTo>
                  <a:lnTo>
                    <a:pt x="3060" y="681"/>
                  </a:lnTo>
                  <a:lnTo>
                    <a:pt x="3061" y="768"/>
                  </a:lnTo>
                  <a:lnTo>
                    <a:pt x="3062" y="714"/>
                  </a:lnTo>
                  <a:lnTo>
                    <a:pt x="3065" y="516"/>
                  </a:lnTo>
                  <a:lnTo>
                    <a:pt x="3066" y="589"/>
                  </a:lnTo>
                  <a:lnTo>
                    <a:pt x="3067" y="579"/>
                  </a:lnTo>
                  <a:lnTo>
                    <a:pt x="3069" y="611"/>
                  </a:lnTo>
                  <a:lnTo>
                    <a:pt x="3070" y="549"/>
                  </a:lnTo>
                  <a:lnTo>
                    <a:pt x="3071" y="479"/>
                  </a:lnTo>
                  <a:lnTo>
                    <a:pt x="3072" y="618"/>
                  </a:lnTo>
                  <a:lnTo>
                    <a:pt x="3075" y="530"/>
                  </a:lnTo>
                  <a:lnTo>
                    <a:pt x="3076" y="596"/>
                  </a:lnTo>
                  <a:lnTo>
                    <a:pt x="3077" y="632"/>
                  </a:lnTo>
                  <a:lnTo>
                    <a:pt x="3079" y="421"/>
                  </a:lnTo>
                  <a:lnTo>
                    <a:pt x="3080" y="668"/>
                  </a:lnTo>
                  <a:lnTo>
                    <a:pt x="3081" y="729"/>
                  </a:lnTo>
                  <a:lnTo>
                    <a:pt x="3084" y="617"/>
                  </a:lnTo>
                  <a:lnTo>
                    <a:pt x="3085" y="466"/>
                  </a:lnTo>
                  <a:lnTo>
                    <a:pt x="3086" y="668"/>
                  </a:lnTo>
                  <a:lnTo>
                    <a:pt x="3087" y="532"/>
                  </a:lnTo>
                  <a:lnTo>
                    <a:pt x="3089" y="467"/>
                  </a:lnTo>
                  <a:lnTo>
                    <a:pt x="3090" y="774"/>
                  </a:lnTo>
                  <a:lnTo>
                    <a:pt x="3091" y="717"/>
                  </a:lnTo>
                  <a:lnTo>
                    <a:pt x="3094" y="668"/>
                  </a:lnTo>
                  <a:lnTo>
                    <a:pt x="3095" y="698"/>
                  </a:lnTo>
                  <a:lnTo>
                    <a:pt x="3096" y="715"/>
                  </a:lnTo>
                  <a:lnTo>
                    <a:pt x="3098" y="625"/>
                  </a:lnTo>
                  <a:lnTo>
                    <a:pt x="3099" y="523"/>
                  </a:lnTo>
                  <a:lnTo>
                    <a:pt x="3100" y="488"/>
                  </a:lnTo>
                  <a:lnTo>
                    <a:pt x="3101" y="363"/>
                  </a:lnTo>
                  <a:lnTo>
                    <a:pt x="3104" y="488"/>
                  </a:lnTo>
                  <a:lnTo>
                    <a:pt x="3105" y="720"/>
                  </a:lnTo>
                  <a:lnTo>
                    <a:pt x="3106" y="554"/>
                  </a:lnTo>
                  <a:lnTo>
                    <a:pt x="3108" y="499"/>
                  </a:lnTo>
                  <a:lnTo>
                    <a:pt x="3109" y="716"/>
                  </a:lnTo>
                  <a:lnTo>
                    <a:pt x="3110" y="880"/>
                  </a:lnTo>
                  <a:lnTo>
                    <a:pt x="3111" y="943"/>
                  </a:lnTo>
                  <a:lnTo>
                    <a:pt x="3114" y="680"/>
                  </a:lnTo>
                  <a:lnTo>
                    <a:pt x="3115" y="455"/>
                  </a:lnTo>
                  <a:lnTo>
                    <a:pt x="3116" y="504"/>
                  </a:lnTo>
                  <a:lnTo>
                    <a:pt x="3118" y="688"/>
                  </a:lnTo>
                  <a:lnTo>
                    <a:pt x="3119" y="607"/>
                  </a:lnTo>
                  <a:lnTo>
                    <a:pt x="3120" y="674"/>
                  </a:lnTo>
                  <a:lnTo>
                    <a:pt x="3123" y="401"/>
                  </a:lnTo>
                  <a:lnTo>
                    <a:pt x="3124" y="669"/>
                  </a:lnTo>
                  <a:lnTo>
                    <a:pt x="3125" y="873"/>
                  </a:lnTo>
                  <a:lnTo>
                    <a:pt x="3126" y="787"/>
                  </a:lnTo>
                  <a:lnTo>
                    <a:pt x="3128" y="833"/>
                  </a:lnTo>
                  <a:lnTo>
                    <a:pt x="3129" y="790"/>
                  </a:lnTo>
                  <a:lnTo>
                    <a:pt x="3130" y="724"/>
                  </a:lnTo>
                  <a:lnTo>
                    <a:pt x="3133" y="937"/>
                  </a:lnTo>
                  <a:lnTo>
                    <a:pt x="3134" y="1174"/>
                  </a:lnTo>
                  <a:lnTo>
                    <a:pt x="3135" y="966"/>
                  </a:lnTo>
                  <a:lnTo>
                    <a:pt x="3137" y="763"/>
                  </a:lnTo>
                  <a:lnTo>
                    <a:pt x="3138" y="762"/>
                  </a:lnTo>
                  <a:lnTo>
                    <a:pt x="3139" y="637"/>
                  </a:lnTo>
                  <a:lnTo>
                    <a:pt x="3140" y="652"/>
                  </a:lnTo>
                  <a:lnTo>
                    <a:pt x="3143" y="561"/>
                  </a:lnTo>
                  <a:lnTo>
                    <a:pt x="3144" y="337"/>
                  </a:lnTo>
                  <a:lnTo>
                    <a:pt x="3145" y="505"/>
                  </a:lnTo>
                  <a:lnTo>
                    <a:pt x="3147" y="462"/>
                  </a:lnTo>
                  <a:lnTo>
                    <a:pt x="3148" y="295"/>
                  </a:lnTo>
                  <a:lnTo>
                    <a:pt x="3149" y="511"/>
                  </a:lnTo>
                  <a:lnTo>
                    <a:pt x="3150" y="502"/>
                  </a:lnTo>
                  <a:lnTo>
                    <a:pt x="3153" y="635"/>
                  </a:lnTo>
                  <a:lnTo>
                    <a:pt x="3154" y="484"/>
                  </a:lnTo>
                  <a:lnTo>
                    <a:pt x="3155" y="557"/>
                  </a:lnTo>
                  <a:lnTo>
                    <a:pt x="3157" y="506"/>
                  </a:lnTo>
                  <a:lnTo>
                    <a:pt x="3158" y="782"/>
                  </a:lnTo>
                  <a:lnTo>
                    <a:pt x="3159" y="588"/>
                  </a:lnTo>
                  <a:lnTo>
                    <a:pt x="3162" y="610"/>
                  </a:lnTo>
                  <a:lnTo>
                    <a:pt x="3163" y="582"/>
                  </a:lnTo>
                  <a:lnTo>
                    <a:pt x="3164" y="586"/>
                  </a:lnTo>
                  <a:lnTo>
                    <a:pt x="3165" y="345"/>
                  </a:lnTo>
                  <a:lnTo>
                    <a:pt x="3167" y="442"/>
                  </a:lnTo>
                  <a:lnTo>
                    <a:pt x="3168" y="479"/>
                  </a:lnTo>
                  <a:lnTo>
                    <a:pt x="3169" y="472"/>
                  </a:lnTo>
                  <a:lnTo>
                    <a:pt x="3172" y="616"/>
                  </a:lnTo>
                  <a:lnTo>
                    <a:pt x="3173" y="490"/>
                  </a:lnTo>
                  <a:lnTo>
                    <a:pt x="3174" y="501"/>
                  </a:lnTo>
                  <a:lnTo>
                    <a:pt x="3176" y="336"/>
                  </a:lnTo>
                  <a:lnTo>
                    <a:pt x="3177" y="323"/>
                  </a:lnTo>
                  <a:lnTo>
                    <a:pt x="3178" y="412"/>
                  </a:lnTo>
                  <a:lnTo>
                    <a:pt x="3179" y="456"/>
                  </a:lnTo>
                  <a:lnTo>
                    <a:pt x="3182" y="465"/>
                  </a:lnTo>
                  <a:lnTo>
                    <a:pt x="3183" y="386"/>
                  </a:lnTo>
                  <a:lnTo>
                    <a:pt x="3184" y="467"/>
                  </a:lnTo>
                  <a:lnTo>
                    <a:pt x="3186" y="343"/>
                  </a:lnTo>
                  <a:lnTo>
                    <a:pt x="3187" y="509"/>
                  </a:lnTo>
                  <a:lnTo>
                    <a:pt x="3188" y="481"/>
                  </a:lnTo>
                  <a:lnTo>
                    <a:pt x="3191" y="302"/>
                  </a:lnTo>
                  <a:lnTo>
                    <a:pt x="3192" y="376"/>
                  </a:lnTo>
                  <a:lnTo>
                    <a:pt x="3193" y="389"/>
                  </a:lnTo>
                  <a:lnTo>
                    <a:pt x="3194" y="173"/>
                  </a:lnTo>
                  <a:lnTo>
                    <a:pt x="3196" y="305"/>
                  </a:lnTo>
                  <a:lnTo>
                    <a:pt x="3197" y="352"/>
                  </a:lnTo>
                  <a:lnTo>
                    <a:pt x="3198" y="423"/>
                  </a:lnTo>
                  <a:lnTo>
                    <a:pt x="3201" y="382"/>
                  </a:lnTo>
                  <a:lnTo>
                    <a:pt x="3202" y="430"/>
                  </a:lnTo>
                  <a:lnTo>
                    <a:pt x="3203" y="404"/>
                  </a:lnTo>
                  <a:lnTo>
                    <a:pt x="3204" y="348"/>
                  </a:lnTo>
                  <a:lnTo>
                    <a:pt x="3206" y="304"/>
                  </a:lnTo>
                  <a:lnTo>
                    <a:pt x="3207" y="100"/>
                  </a:lnTo>
                  <a:lnTo>
                    <a:pt x="3208" y="228"/>
                  </a:lnTo>
                  <a:lnTo>
                    <a:pt x="3211" y="251"/>
                  </a:lnTo>
                  <a:lnTo>
                    <a:pt x="3212" y="343"/>
                  </a:lnTo>
                  <a:lnTo>
                    <a:pt x="3213" y="349"/>
                  </a:lnTo>
                  <a:lnTo>
                    <a:pt x="3215" y="445"/>
                  </a:lnTo>
                  <a:lnTo>
                    <a:pt x="3216" y="343"/>
                  </a:lnTo>
                  <a:lnTo>
                    <a:pt x="3217" y="362"/>
                  </a:lnTo>
                  <a:lnTo>
                    <a:pt x="3219" y="563"/>
                  </a:lnTo>
                  <a:lnTo>
                    <a:pt x="3221" y="607"/>
                  </a:lnTo>
                  <a:lnTo>
                    <a:pt x="3222" y="612"/>
                  </a:lnTo>
                  <a:lnTo>
                    <a:pt x="3223" y="480"/>
                  </a:lnTo>
                  <a:lnTo>
                    <a:pt x="3225" y="348"/>
                  </a:lnTo>
                  <a:lnTo>
                    <a:pt x="3226" y="365"/>
                  </a:lnTo>
                  <a:lnTo>
                    <a:pt x="3227" y="291"/>
                  </a:lnTo>
                  <a:lnTo>
                    <a:pt x="3230" y="201"/>
                  </a:lnTo>
                  <a:lnTo>
                    <a:pt x="3231" y="241"/>
                  </a:lnTo>
                  <a:lnTo>
                    <a:pt x="3232" y="251"/>
                  </a:lnTo>
                  <a:lnTo>
                    <a:pt x="3233" y="169"/>
                  </a:lnTo>
                  <a:lnTo>
                    <a:pt x="3235" y="150"/>
                  </a:lnTo>
                  <a:lnTo>
                    <a:pt x="3236" y="304"/>
                  </a:lnTo>
                  <a:lnTo>
                    <a:pt x="3237" y="444"/>
                  </a:lnTo>
                  <a:lnTo>
                    <a:pt x="3240" y="348"/>
                  </a:lnTo>
                  <a:lnTo>
                    <a:pt x="3241" y="399"/>
                  </a:lnTo>
                  <a:lnTo>
                    <a:pt x="3242" y="566"/>
                  </a:lnTo>
                  <a:lnTo>
                    <a:pt x="3243" y="692"/>
                  </a:lnTo>
                  <a:lnTo>
                    <a:pt x="3245" y="501"/>
                  </a:lnTo>
                  <a:lnTo>
                    <a:pt x="3246" y="539"/>
                  </a:lnTo>
                  <a:lnTo>
                    <a:pt x="3248" y="543"/>
                  </a:lnTo>
                  <a:lnTo>
                    <a:pt x="3250" y="443"/>
                  </a:lnTo>
                  <a:lnTo>
                    <a:pt x="3251" y="369"/>
                  </a:lnTo>
                  <a:lnTo>
                    <a:pt x="3252" y="438"/>
                  </a:lnTo>
                  <a:lnTo>
                    <a:pt x="3254" y="479"/>
                  </a:lnTo>
                  <a:lnTo>
                    <a:pt x="3255" y="467"/>
                  </a:lnTo>
                  <a:lnTo>
                    <a:pt x="3256" y="647"/>
                  </a:lnTo>
                  <a:lnTo>
                    <a:pt x="3258" y="405"/>
                  </a:lnTo>
                  <a:lnTo>
                    <a:pt x="3260" y="464"/>
                  </a:lnTo>
                  <a:lnTo>
                    <a:pt x="3261" y="432"/>
                  </a:lnTo>
                  <a:lnTo>
                    <a:pt x="3262" y="453"/>
                  </a:lnTo>
                  <a:lnTo>
                    <a:pt x="3264" y="276"/>
                  </a:lnTo>
                  <a:lnTo>
                    <a:pt x="3265" y="518"/>
                  </a:lnTo>
                  <a:lnTo>
                    <a:pt x="3266" y="499"/>
                  </a:lnTo>
                  <a:lnTo>
                    <a:pt x="3269" y="456"/>
                  </a:lnTo>
                  <a:lnTo>
                    <a:pt x="3270" y="369"/>
                  </a:lnTo>
                  <a:lnTo>
                    <a:pt x="3271" y="408"/>
                  </a:lnTo>
                  <a:lnTo>
                    <a:pt x="3272" y="364"/>
                  </a:lnTo>
                  <a:lnTo>
                    <a:pt x="3274" y="335"/>
                  </a:lnTo>
                  <a:lnTo>
                    <a:pt x="3275" y="328"/>
                  </a:lnTo>
                  <a:lnTo>
                    <a:pt x="3277" y="474"/>
                  </a:lnTo>
                  <a:lnTo>
                    <a:pt x="3279" y="407"/>
                  </a:lnTo>
                  <a:lnTo>
                    <a:pt x="3280" y="330"/>
                  </a:lnTo>
                  <a:lnTo>
                    <a:pt x="3281" y="366"/>
                  </a:lnTo>
                  <a:lnTo>
                    <a:pt x="3282" y="337"/>
                  </a:lnTo>
                  <a:lnTo>
                    <a:pt x="3284" y="374"/>
                  </a:lnTo>
                  <a:lnTo>
                    <a:pt x="3285" y="319"/>
                  </a:lnTo>
                  <a:lnTo>
                    <a:pt x="3287" y="502"/>
                  </a:lnTo>
                  <a:lnTo>
                    <a:pt x="3289" y="346"/>
                  </a:lnTo>
                  <a:lnTo>
                    <a:pt x="3290" y="445"/>
                  </a:lnTo>
                  <a:lnTo>
                    <a:pt x="3291" y="431"/>
                  </a:lnTo>
                  <a:lnTo>
                    <a:pt x="3293" y="534"/>
                  </a:lnTo>
                  <a:lnTo>
                    <a:pt x="3294" y="700"/>
                  </a:lnTo>
                  <a:lnTo>
                    <a:pt x="3295" y="588"/>
                  </a:lnTo>
                  <a:lnTo>
                    <a:pt x="3297" y="674"/>
                  </a:lnTo>
                  <a:lnTo>
                    <a:pt x="3299" y="814"/>
                  </a:lnTo>
                  <a:lnTo>
                    <a:pt x="3300" y="720"/>
                  </a:lnTo>
                  <a:lnTo>
                    <a:pt x="3301" y="755"/>
                  </a:lnTo>
                  <a:lnTo>
                    <a:pt x="3303" y="796"/>
                  </a:lnTo>
                  <a:lnTo>
                    <a:pt x="3304" y="814"/>
                  </a:lnTo>
                  <a:lnTo>
                    <a:pt x="3306" y="1013"/>
                  </a:lnTo>
                  <a:lnTo>
                    <a:pt x="3308" y="935"/>
                  </a:lnTo>
                  <a:lnTo>
                    <a:pt x="3309" y="700"/>
                  </a:lnTo>
                  <a:lnTo>
                    <a:pt x="3310" y="710"/>
                  </a:lnTo>
                  <a:lnTo>
                    <a:pt x="3311" y="567"/>
                  </a:lnTo>
                  <a:lnTo>
                    <a:pt x="3313" y="743"/>
                  </a:lnTo>
                  <a:lnTo>
                    <a:pt x="3314" y="863"/>
                  </a:lnTo>
                  <a:lnTo>
                    <a:pt x="3316" y="999"/>
                  </a:lnTo>
                  <a:lnTo>
                    <a:pt x="3318" y="996"/>
                  </a:lnTo>
                  <a:lnTo>
                    <a:pt x="3319" y="846"/>
                  </a:lnTo>
                  <a:lnTo>
                    <a:pt x="3320" y="669"/>
                  </a:lnTo>
                  <a:lnTo>
                    <a:pt x="3322" y="689"/>
                  </a:lnTo>
                  <a:lnTo>
                    <a:pt x="3323" y="713"/>
                  </a:lnTo>
                  <a:lnTo>
                    <a:pt x="3324" y="622"/>
                  </a:lnTo>
                  <a:lnTo>
                    <a:pt x="3326" y="813"/>
                  </a:lnTo>
                  <a:lnTo>
                    <a:pt x="3328" y="595"/>
                  </a:lnTo>
                  <a:lnTo>
                    <a:pt x="3329" y="568"/>
                  </a:lnTo>
                  <a:lnTo>
                    <a:pt x="3330" y="700"/>
                  </a:lnTo>
                  <a:lnTo>
                    <a:pt x="3332" y="644"/>
                  </a:lnTo>
                  <a:lnTo>
                    <a:pt x="3333" y="638"/>
                  </a:lnTo>
                  <a:lnTo>
                    <a:pt x="3335" y="587"/>
                  </a:lnTo>
                  <a:lnTo>
                    <a:pt x="3336" y="833"/>
                  </a:lnTo>
                  <a:lnTo>
                    <a:pt x="3338" y="813"/>
                  </a:lnTo>
                  <a:lnTo>
                    <a:pt x="3339" y="814"/>
                  </a:lnTo>
                  <a:lnTo>
                    <a:pt x="3340" y="694"/>
                  </a:lnTo>
                  <a:lnTo>
                    <a:pt x="3342" y="752"/>
                  </a:lnTo>
                  <a:lnTo>
                    <a:pt x="3343" y="872"/>
                  </a:lnTo>
                  <a:lnTo>
                    <a:pt x="3345" y="941"/>
                  </a:lnTo>
                  <a:lnTo>
                    <a:pt x="3347" y="758"/>
                  </a:lnTo>
                  <a:lnTo>
                    <a:pt x="3348" y="726"/>
                  </a:lnTo>
                  <a:lnTo>
                    <a:pt x="3349" y="650"/>
                  </a:lnTo>
                  <a:lnTo>
                    <a:pt x="3350" y="664"/>
                  </a:lnTo>
                  <a:lnTo>
                    <a:pt x="3352" y="693"/>
                  </a:lnTo>
                  <a:lnTo>
                    <a:pt x="3353" y="764"/>
                  </a:lnTo>
                  <a:lnTo>
                    <a:pt x="3355" y="890"/>
                  </a:lnTo>
                  <a:lnTo>
                    <a:pt x="3357" y="819"/>
                  </a:lnTo>
                  <a:lnTo>
                    <a:pt x="3358" y="880"/>
                  </a:lnTo>
                  <a:lnTo>
                    <a:pt x="3359" y="872"/>
                  </a:lnTo>
                  <a:lnTo>
                    <a:pt x="3361" y="736"/>
                  </a:lnTo>
                  <a:lnTo>
                    <a:pt x="3362" y="754"/>
                  </a:lnTo>
                  <a:lnTo>
                    <a:pt x="3364" y="552"/>
                  </a:lnTo>
                  <a:lnTo>
                    <a:pt x="3365" y="838"/>
                  </a:lnTo>
                  <a:lnTo>
                    <a:pt x="3367" y="775"/>
                  </a:lnTo>
                  <a:lnTo>
                    <a:pt x="3368" y="768"/>
                  </a:lnTo>
                  <a:lnTo>
                    <a:pt x="3369" y="768"/>
                  </a:lnTo>
                  <a:lnTo>
                    <a:pt x="3371" y="702"/>
                  </a:lnTo>
                  <a:lnTo>
                    <a:pt x="3372" y="816"/>
                  </a:lnTo>
                  <a:lnTo>
                    <a:pt x="3374" y="586"/>
                  </a:lnTo>
                  <a:lnTo>
                    <a:pt x="3375" y="664"/>
                  </a:lnTo>
                  <a:lnTo>
                    <a:pt x="3377" y="611"/>
                  </a:lnTo>
                  <a:lnTo>
                    <a:pt x="3378" y="634"/>
                  </a:lnTo>
                  <a:lnTo>
                    <a:pt x="3379" y="772"/>
                  </a:lnTo>
                  <a:lnTo>
                    <a:pt x="3381" y="630"/>
                  </a:lnTo>
                  <a:lnTo>
                    <a:pt x="3382" y="620"/>
                  </a:lnTo>
                  <a:lnTo>
                    <a:pt x="3384" y="690"/>
                  </a:lnTo>
                  <a:lnTo>
                    <a:pt x="3386" y="451"/>
                  </a:lnTo>
                  <a:lnTo>
                    <a:pt x="3387" y="453"/>
                  </a:lnTo>
                  <a:lnTo>
                    <a:pt x="3388" y="625"/>
                  </a:lnTo>
                  <a:lnTo>
                    <a:pt x="3389" y="714"/>
                  </a:lnTo>
                  <a:lnTo>
                    <a:pt x="3391" y="820"/>
                  </a:lnTo>
                  <a:lnTo>
                    <a:pt x="3393" y="678"/>
                  </a:lnTo>
                  <a:lnTo>
                    <a:pt x="3394" y="744"/>
                  </a:lnTo>
                  <a:lnTo>
                    <a:pt x="3396" y="428"/>
                  </a:lnTo>
                  <a:lnTo>
                    <a:pt x="3397" y="474"/>
                  </a:lnTo>
                  <a:lnTo>
                    <a:pt x="3398" y="712"/>
                  </a:lnTo>
                  <a:lnTo>
                    <a:pt x="3400" y="589"/>
                  </a:lnTo>
                  <a:lnTo>
                    <a:pt x="3401" y="599"/>
                  </a:lnTo>
                  <a:lnTo>
                    <a:pt x="3403" y="666"/>
                  </a:lnTo>
                  <a:lnTo>
                    <a:pt x="3404" y="433"/>
                  </a:lnTo>
                  <a:lnTo>
                    <a:pt x="3406" y="525"/>
                  </a:lnTo>
                  <a:lnTo>
                    <a:pt x="3407" y="341"/>
                  </a:lnTo>
                  <a:lnTo>
                    <a:pt x="3408" y="319"/>
                  </a:lnTo>
                  <a:lnTo>
                    <a:pt x="3410" y="353"/>
                  </a:lnTo>
                  <a:lnTo>
                    <a:pt x="3411" y="492"/>
                  </a:lnTo>
                  <a:lnTo>
                    <a:pt x="3413" y="444"/>
                  </a:lnTo>
                  <a:lnTo>
                    <a:pt x="3414" y="336"/>
                  </a:lnTo>
                  <a:lnTo>
                    <a:pt x="3416" y="532"/>
                  </a:lnTo>
                  <a:lnTo>
                    <a:pt x="3417" y="578"/>
                  </a:lnTo>
                  <a:lnTo>
                    <a:pt x="3418" y="256"/>
                  </a:lnTo>
                  <a:lnTo>
                    <a:pt x="3420" y="484"/>
                  </a:lnTo>
                  <a:lnTo>
                    <a:pt x="3422" y="582"/>
                  </a:lnTo>
                  <a:lnTo>
                    <a:pt x="3423" y="457"/>
                  </a:lnTo>
                  <a:lnTo>
                    <a:pt x="3425" y="447"/>
                  </a:lnTo>
                  <a:lnTo>
                    <a:pt x="3426" y="375"/>
                  </a:lnTo>
                  <a:lnTo>
                    <a:pt x="3427" y="567"/>
                  </a:lnTo>
                  <a:lnTo>
                    <a:pt x="3428" y="652"/>
                  </a:lnTo>
                  <a:lnTo>
                    <a:pt x="3430" y="554"/>
                  </a:lnTo>
                  <a:lnTo>
                    <a:pt x="3432" y="645"/>
                  </a:lnTo>
                  <a:lnTo>
                    <a:pt x="3433" y="434"/>
                  </a:lnTo>
                  <a:lnTo>
                    <a:pt x="3435" y="318"/>
                  </a:lnTo>
                  <a:lnTo>
                    <a:pt x="3436" y="214"/>
                  </a:lnTo>
                  <a:lnTo>
                    <a:pt x="3437" y="298"/>
                  </a:lnTo>
                  <a:lnTo>
                    <a:pt x="3439" y="428"/>
                  </a:lnTo>
                  <a:lnTo>
                    <a:pt x="3441" y="245"/>
                  </a:lnTo>
                  <a:lnTo>
                    <a:pt x="3442" y="447"/>
                  </a:lnTo>
                  <a:lnTo>
                    <a:pt x="3443" y="401"/>
                  </a:lnTo>
                  <a:lnTo>
                    <a:pt x="3445" y="398"/>
                  </a:lnTo>
                  <a:lnTo>
                    <a:pt x="3446" y="363"/>
                  </a:lnTo>
                  <a:lnTo>
                    <a:pt x="3447" y="533"/>
                  </a:lnTo>
                  <a:lnTo>
                    <a:pt x="3449" y="495"/>
                  </a:lnTo>
                  <a:lnTo>
                    <a:pt x="3451" y="669"/>
                  </a:lnTo>
                  <a:lnTo>
                    <a:pt x="3452" y="654"/>
                  </a:lnTo>
                  <a:lnTo>
                    <a:pt x="3454" y="702"/>
                  </a:lnTo>
                  <a:lnTo>
                    <a:pt x="3455" y="700"/>
                  </a:lnTo>
                  <a:lnTo>
                    <a:pt x="3456" y="638"/>
                  </a:lnTo>
                  <a:lnTo>
                    <a:pt x="3457" y="518"/>
                  </a:lnTo>
                  <a:lnTo>
                    <a:pt x="3459" y="608"/>
                  </a:lnTo>
                  <a:lnTo>
                    <a:pt x="3461" y="558"/>
                  </a:lnTo>
                  <a:lnTo>
                    <a:pt x="3462" y="377"/>
                  </a:lnTo>
                  <a:lnTo>
                    <a:pt x="3464" y="372"/>
                  </a:lnTo>
                  <a:lnTo>
                    <a:pt x="3465" y="441"/>
                  </a:lnTo>
                  <a:lnTo>
                    <a:pt x="3466" y="527"/>
                  </a:lnTo>
                  <a:lnTo>
                    <a:pt x="3467" y="309"/>
                  </a:lnTo>
                  <a:lnTo>
                    <a:pt x="3470" y="393"/>
                  </a:lnTo>
                  <a:lnTo>
                    <a:pt x="3471" y="554"/>
                  </a:lnTo>
                  <a:lnTo>
                    <a:pt x="3472" y="435"/>
                  </a:lnTo>
                  <a:lnTo>
                    <a:pt x="3474" y="652"/>
                  </a:lnTo>
                  <a:lnTo>
                    <a:pt x="3475" y="533"/>
                  </a:lnTo>
                  <a:lnTo>
                    <a:pt x="3476" y="664"/>
                  </a:lnTo>
                  <a:lnTo>
                    <a:pt x="3478" y="741"/>
                  </a:lnTo>
                  <a:lnTo>
                    <a:pt x="3480" y="580"/>
                  </a:lnTo>
                  <a:lnTo>
                    <a:pt x="3481" y="511"/>
                  </a:lnTo>
                  <a:lnTo>
                    <a:pt x="3482" y="278"/>
                  </a:lnTo>
                  <a:lnTo>
                    <a:pt x="3484" y="385"/>
                  </a:lnTo>
                  <a:lnTo>
                    <a:pt x="3485" y="512"/>
                  </a:lnTo>
                  <a:lnTo>
                    <a:pt x="3486" y="669"/>
                  </a:lnTo>
                  <a:lnTo>
                    <a:pt x="3488" y="539"/>
                  </a:lnTo>
                  <a:lnTo>
                    <a:pt x="3490" y="424"/>
                  </a:lnTo>
                  <a:lnTo>
                    <a:pt x="3491" y="331"/>
                  </a:lnTo>
                  <a:lnTo>
                    <a:pt x="3493" y="212"/>
                  </a:lnTo>
                  <a:lnTo>
                    <a:pt x="3494" y="541"/>
                  </a:lnTo>
                  <a:lnTo>
                    <a:pt x="3495" y="590"/>
                  </a:lnTo>
                  <a:lnTo>
                    <a:pt x="3496" y="488"/>
                  </a:lnTo>
                  <a:lnTo>
                    <a:pt x="3499" y="438"/>
                  </a:lnTo>
                  <a:lnTo>
                    <a:pt x="3500" y="609"/>
                  </a:lnTo>
                  <a:lnTo>
                    <a:pt x="3501" y="554"/>
                  </a:lnTo>
                  <a:lnTo>
                    <a:pt x="3503" y="231"/>
                  </a:lnTo>
                  <a:lnTo>
                    <a:pt x="3504" y="437"/>
                  </a:lnTo>
                  <a:lnTo>
                    <a:pt x="3505" y="445"/>
                  </a:lnTo>
                  <a:lnTo>
                    <a:pt x="3506" y="520"/>
                  </a:lnTo>
                  <a:lnTo>
                    <a:pt x="3509" y="350"/>
                  </a:lnTo>
                  <a:lnTo>
                    <a:pt x="3510" y="463"/>
                  </a:lnTo>
                  <a:lnTo>
                    <a:pt x="3511" y="479"/>
                  </a:lnTo>
                  <a:lnTo>
                    <a:pt x="3513" y="665"/>
                  </a:lnTo>
                  <a:lnTo>
                    <a:pt x="3514" y="577"/>
                  </a:lnTo>
                  <a:lnTo>
                    <a:pt x="3515" y="618"/>
                  </a:lnTo>
                  <a:lnTo>
                    <a:pt x="3517" y="610"/>
                  </a:lnTo>
                  <a:lnTo>
                    <a:pt x="3519" y="578"/>
                  </a:lnTo>
                  <a:lnTo>
                    <a:pt x="3520" y="582"/>
                  </a:lnTo>
                  <a:lnTo>
                    <a:pt x="3521" y="360"/>
                  </a:lnTo>
                  <a:lnTo>
                    <a:pt x="3523" y="571"/>
                  </a:lnTo>
                  <a:lnTo>
                    <a:pt x="3524" y="796"/>
                  </a:lnTo>
                  <a:lnTo>
                    <a:pt x="3525" y="812"/>
                  </a:lnTo>
                  <a:lnTo>
                    <a:pt x="3528" y="572"/>
                  </a:lnTo>
                  <a:lnTo>
                    <a:pt x="3529" y="675"/>
                  </a:lnTo>
                  <a:lnTo>
                    <a:pt x="3530" y="826"/>
                  </a:lnTo>
                  <a:lnTo>
                    <a:pt x="3532" y="896"/>
                  </a:lnTo>
                  <a:lnTo>
                    <a:pt x="3533" y="520"/>
                  </a:lnTo>
                  <a:lnTo>
                    <a:pt x="3534" y="464"/>
                  </a:lnTo>
                  <a:lnTo>
                    <a:pt x="3535" y="479"/>
                  </a:lnTo>
                  <a:lnTo>
                    <a:pt x="3538" y="550"/>
                  </a:lnTo>
                  <a:lnTo>
                    <a:pt x="3539" y="378"/>
                  </a:lnTo>
                  <a:lnTo>
                    <a:pt x="3540" y="583"/>
                  </a:lnTo>
                  <a:lnTo>
                    <a:pt x="3542" y="693"/>
                  </a:lnTo>
                  <a:lnTo>
                    <a:pt x="3543" y="712"/>
                  </a:lnTo>
                  <a:lnTo>
                    <a:pt x="3544" y="811"/>
                  </a:lnTo>
                  <a:lnTo>
                    <a:pt x="3546" y="644"/>
                  </a:lnTo>
                  <a:lnTo>
                    <a:pt x="3548" y="602"/>
                  </a:lnTo>
                  <a:lnTo>
                    <a:pt x="3549" y="660"/>
                  </a:lnTo>
                  <a:lnTo>
                    <a:pt x="3550" y="679"/>
                  </a:lnTo>
                  <a:lnTo>
                    <a:pt x="3552" y="581"/>
                  </a:lnTo>
                  <a:lnTo>
                    <a:pt x="3553" y="424"/>
                  </a:lnTo>
                  <a:lnTo>
                    <a:pt x="3554" y="650"/>
                  </a:lnTo>
                  <a:lnTo>
                    <a:pt x="3557" y="465"/>
                  </a:lnTo>
                  <a:lnTo>
                    <a:pt x="3558" y="541"/>
                  </a:lnTo>
                  <a:lnTo>
                    <a:pt x="3559" y="506"/>
                  </a:lnTo>
                  <a:lnTo>
                    <a:pt x="3560" y="775"/>
                  </a:lnTo>
                  <a:lnTo>
                    <a:pt x="3562" y="442"/>
                  </a:lnTo>
                  <a:lnTo>
                    <a:pt x="3563" y="445"/>
                  </a:lnTo>
                  <a:lnTo>
                    <a:pt x="3564" y="440"/>
                  </a:lnTo>
                  <a:lnTo>
                    <a:pt x="3567" y="737"/>
                  </a:lnTo>
                  <a:lnTo>
                    <a:pt x="3568" y="810"/>
                  </a:lnTo>
                  <a:lnTo>
                    <a:pt x="3569" y="495"/>
                  </a:lnTo>
                  <a:lnTo>
                    <a:pt x="3571" y="557"/>
                  </a:lnTo>
                  <a:lnTo>
                    <a:pt x="3572" y="570"/>
                  </a:lnTo>
                  <a:lnTo>
                    <a:pt x="3573" y="661"/>
                  </a:lnTo>
                  <a:lnTo>
                    <a:pt x="3574" y="805"/>
                  </a:lnTo>
                  <a:lnTo>
                    <a:pt x="3577" y="859"/>
                  </a:lnTo>
                  <a:lnTo>
                    <a:pt x="3578" y="810"/>
                  </a:lnTo>
                  <a:lnTo>
                    <a:pt x="3579" y="981"/>
                  </a:lnTo>
                  <a:lnTo>
                    <a:pt x="3581" y="699"/>
                  </a:lnTo>
                  <a:lnTo>
                    <a:pt x="3582" y="803"/>
                  </a:lnTo>
                  <a:lnTo>
                    <a:pt x="3583" y="864"/>
                  </a:lnTo>
                  <a:lnTo>
                    <a:pt x="3586" y="751"/>
                  </a:lnTo>
                  <a:lnTo>
                    <a:pt x="3587" y="844"/>
                  </a:lnTo>
                  <a:lnTo>
                    <a:pt x="3588" y="829"/>
                  </a:lnTo>
                  <a:lnTo>
                    <a:pt x="3589" y="807"/>
                  </a:lnTo>
                  <a:lnTo>
                    <a:pt x="3591" y="705"/>
                  </a:lnTo>
                  <a:lnTo>
                    <a:pt x="3592" y="809"/>
                  </a:lnTo>
                  <a:lnTo>
                    <a:pt x="3593" y="696"/>
                  </a:lnTo>
                  <a:lnTo>
                    <a:pt x="3596" y="757"/>
                  </a:lnTo>
                  <a:lnTo>
                    <a:pt x="3597" y="731"/>
                  </a:lnTo>
                  <a:lnTo>
                    <a:pt x="3598" y="716"/>
                  </a:lnTo>
                  <a:lnTo>
                    <a:pt x="3599" y="475"/>
                  </a:lnTo>
                  <a:lnTo>
                    <a:pt x="3601" y="455"/>
                  </a:lnTo>
                  <a:lnTo>
                    <a:pt x="3602" y="340"/>
                  </a:lnTo>
                  <a:lnTo>
                    <a:pt x="3603" y="479"/>
                  </a:lnTo>
                  <a:lnTo>
                    <a:pt x="3606" y="602"/>
                  </a:lnTo>
                  <a:lnTo>
                    <a:pt x="3607" y="583"/>
                  </a:lnTo>
                  <a:lnTo>
                    <a:pt x="3608" y="433"/>
                  </a:lnTo>
                  <a:lnTo>
                    <a:pt x="3610" y="280"/>
                  </a:lnTo>
                  <a:lnTo>
                    <a:pt x="3611" y="288"/>
                  </a:lnTo>
                  <a:lnTo>
                    <a:pt x="3612" y="407"/>
                  </a:lnTo>
                  <a:lnTo>
                    <a:pt x="3613" y="572"/>
                  </a:lnTo>
                  <a:lnTo>
                    <a:pt x="3616" y="581"/>
                  </a:lnTo>
                  <a:lnTo>
                    <a:pt x="3617" y="560"/>
                  </a:lnTo>
                  <a:lnTo>
                    <a:pt x="3618" y="679"/>
                  </a:lnTo>
                  <a:lnTo>
                    <a:pt x="3620" y="725"/>
                  </a:lnTo>
                  <a:lnTo>
                    <a:pt x="3621" y="810"/>
                  </a:lnTo>
                  <a:lnTo>
                    <a:pt x="3622" y="597"/>
                  </a:lnTo>
                  <a:lnTo>
                    <a:pt x="3625" y="515"/>
                  </a:lnTo>
                  <a:lnTo>
                    <a:pt x="3626" y="415"/>
                  </a:lnTo>
                  <a:lnTo>
                    <a:pt x="3627" y="362"/>
                  </a:lnTo>
                  <a:lnTo>
                    <a:pt x="3628" y="586"/>
                  </a:lnTo>
                  <a:lnTo>
                    <a:pt x="3630" y="523"/>
                  </a:lnTo>
                  <a:lnTo>
                    <a:pt x="3631" y="558"/>
                  </a:lnTo>
                  <a:lnTo>
                    <a:pt x="3632" y="591"/>
                  </a:lnTo>
                  <a:lnTo>
                    <a:pt x="3635" y="576"/>
                  </a:lnTo>
                  <a:lnTo>
                    <a:pt x="3636" y="747"/>
                  </a:lnTo>
                  <a:lnTo>
                    <a:pt x="3637" y="834"/>
                  </a:lnTo>
                  <a:lnTo>
                    <a:pt x="3638" y="495"/>
                  </a:lnTo>
                  <a:lnTo>
                    <a:pt x="3640" y="460"/>
                  </a:lnTo>
                  <a:lnTo>
                    <a:pt x="3641" y="629"/>
                  </a:lnTo>
                  <a:lnTo>
                    <a:pt x="3642" y="627"/>
                  </a:lnTo>
                  <a:lnTo>
                    <a:pt x="3645" y="692"/>
                  </a:lnTo>
                  <a:lnTo>
                    <a:pt x="3646" y="603"/>
                  </a:lnTo>
                  <a:lnTo>
                    <a:pt x="3647" y="435"/>
                  </a:lnTo>
                  <a:lnTo>
                    <a:pt x="3649" y="422"/>
                  </a:lnTo>
                  <a:lnTo>
                    <a:pt x="3650" y="392"/>
                  </a:lnTo>
                  <a:lnTo>
                    <a:pt x="3651" y="454"/>
                  </a:lnTo>
                  <a:lnTo>
                    <a:pt x="3652" y="399"/>
                  </a:lnTo>
                  <a:lnTo>
                    <a:pt x="3655" y="603"/>
                  </a:lnTo>
                  <a:lnTo>
                    <a:pt x="3656" y="628"/>
                  </a:lnTo>
                  <a:lnTo>
                    <a:pt x="3657" y="334"/>
                  </a:lnTo>
                  <a:lnTo>
                    <a:pt x="3659" y="582"/>
                  </a:lnTo>
                  <a:lnTo>
                    <a:pt x="3660" y="748"/>
                  </a:lnTo>
                  <a:lnTo>
                    <a:pt x="3661" y="629"/>
                  </a:lnTo>
                  <a:lnTo>
                    <a:pt x="3664" y="637"/>
                  </a:lnTo>
                  <a:lnTo>
                    <a:pt x="3665" y="280"/>
                  </a:lnTo>
                  <a:lnTo>
                    <a:pt x="3666" y="392"/>
                  </a:lnTo>
                  <a:lnTo>
                    <a:pt x="3667" y="568"/>
                  </a:lnTo>
                  <a:lnTo>
                    <a:pt x="3669" y="540"/>
                  </a:lnTo>
                  <a:lnTo>
                    <a:pt x="3670" y="418"/>
                  </a:lnTo>
                  <a:lnTo>
                    <a:pt x="3671" y="557"/>
                  </a:lnTo>
                  <a:lnTo>
                    <a:pt x="3674" y="531"/>
                  </a:lnTo>
                  <a:lnTo>
                    <a:pt x="3675" y="650"/>
                  </a:lnTo>
                  <a:lnTo>
                    <a:pt x="3676" y="569"/>
                  </a:lnTo>
                  <a:lnTo>
                    <a:pt x="3678" y="488"/>
                  </a:lnTo>
                  <a:lnTo>
                    <a:pt x="3679" y="504"/>
                  </a:lnTo>
                  <a:lnTo>
                    <a:pt x="3680" y="542"/>
                  </a:lnTo>
                  <a:lnTo>
                    <a:pt x="3681" y="418"/>
                  </a:lnTo>
                  <a:lnTo>
                    <a:pt x="3684" y="525"/>
                  </a:lnTo>
                  <a:lnTo>
                    <a:pt x="3685" y="368"/>
                  </a:lnTo>
                  <a:lnTo>
                    <a:pt x="3686" y="479"/>
                  </a:lnTo>
                  <a:lnTo>
                    <a:pt x="3688" y="583"/>
                  </a:lnTo>
                  <a:lnTo>
                    <a:pt x="3689" y="553"/>
                  </a:lnTo>
                  <a:lnTo>
                    <a:pt x="3690" y="589"/>
                  </a:lnTo>
                  <a:lnTo>
                    <a:pt x="3692" y="741"/>
                  </a:lnTo>
                  <a:lnTo>
                    <a:pt x="3694" y="428"/>
                  </a:lnTo>
                  <a:lnTo>
                    <a:pt x="3695" y="450"/>
                  </a:lnTo>
                  <a:lnTo>
                    <a:pt x="3696" y="563"/>
                  </a:lnTo>
                  <a:lnTo>
                    <a:pt x="3698" y="569"/>
                  </a:lnTo>
                  <a:lnTo>
                    <a:pt x="3699" y="584"/>
                  </a:lnTo>
                  <a:lnTo>
                    <a:pt x="3700" y="660"/>
                  </a:lnTo>
                  <a:lnTo>
                    <a:pt x="3703" y="412"/>
                  </a:lnTo>
                  <a:lnTo>
                    <a:pt x="3704" y="579"/>
                  </a:lnTo>
                  <a:lnTo>
                    <a:pt x="3705" y="668"/>
                  </a:lnTo>
                  <a:lnTo>
                    <a:pt x="3706" y="703"/>
                  </a:lnTo>
                  <a:lnTo>
                    <a:pt x="3708" y="902"/>
                  </a:lnTo>
                  <a:lnTo>
                    <a:pt x="3709" y="445"/>
                  </a:lnTo>
                  <a:lnTo>
                    <a:pt x="3710" y="425"/>
                  </a:lnTo>
                  <a:lnTo>
                    <a:pt x="3713" y="545"/>
                  </a:lnTo>
                  <a:lnTo>
                    <a:pt x="3714" y="722"/>
                  </a:lnTo>
                  <a:lnTo>
                    <a:pt x="3715" y="543"/>
                  </a:lnTo>
                  <a:lnTo>
                    <a:pt x="3717" y="720"/>
                  </a:lnTo>
                  <a:lnTo>
                    <a:pt x="3718" y="608"/>
                  </a:lnTo>
                  <a:lnTo>
                    <a:pt x="3719" y="644"/>
                  </a:lnTo>
                  <a:lnTo>
                    <a:pt x="3721" y="878"/>
                  </a:lnTo>
                  <a:lnTo>
                    <a:pt x="3723" y="892"/>
                  </a:lnTo>
                  <a:lnTo>
                    <a:pt x="3724" y="667"/>
                  </a:lnTo>
                  <a:lnTo>
                    <a:pt x="3725" y="911"/>
                  </a:lnTo>
                  <a:lnTo>
                    <a:pt x="3727" y="896"/>
                  </a:lnTo>
                  <a:lnTo>
                    <a:pt x="3728" y="734"/>
                  </a:lnTo>
                  <a:lnTo>
                    <a:pt x="3729" y="734"/>
                  </a:lnTo>
                  <a:lnTo>
                    <a:pt x="3731" y="775"/>
                  </a:lnTo>
                  <a:lnTo>
                    <a:pt x="3733" y="743"/>
                  </a:lnTo>
                  <a:lnTo>
                    <a:pt x="3734" y="684"/>
                  </a:lnTo>
                  <a:lnTo>
                    <a:pt x="3735" y="736"/>
                  </a:lnTo>
                  <a:lnTo>
                    <a:pt x="3737" y="652"/>
                  </a:lnTo>
                  <a:lnTo>
                    <a:pt x="3738" y="685"/>
                  </a:lnTo>
                  <a:lnTo>
                    <a:pt x="3739" y="473"/>
                  </a:lnTo>
                  <a:lnTo>
                    <a:pt x="3742" y="542"/>
                  </a:lnTo>
                  <a:lnTo>
                    <a:pt x="3743" y="556"/>
                  </a:lnTo>
                  <a:lnTo>
                    <a:pt x="3744" y="266"/>
                  </a:lnTo>
                  <a:lnTo>
                    <a:pt x="3745" y="505"/>
                  </a:lnTo>
                  <a:lnTo>
                    <a:pt x="3747" y="356"/>
                  </a:lnTo>
                  <a:lnTo>
                    <a:pt x="3748" y="578"/>
                  </a:lnTo>
                  <a:lnTo>
                    <a:pt x="3750" y="503"/>
                  </a:lnTo>
                  <a:lnTo>
                    <a:pt x="3752" y="494"/>
                  </a:lnTo>
                  <a:lnTo>
                    <a:pt x="3753" y="667"/>
                  </a:lnTo>
                  <a:lnTo>
                    <a:pt x="3754" y="542"/>
                  </a:lnTo>
                  <a:lnTo>
                    <a:pt x="3756" y="323"/>
                  </a:lnTo>
                  <a:lnTo>
                    <a:pt x="3757" y="305"/>
                  </a:lnTo>
                  <a:lnTo>
                    <a:pt x="3758" y="477"/>
                  </a:lnTo>
                  <a:lnTo>
                    <a:pt x="3760" y="518"/>
                  </a:lnTo>
                  <a:lnTo>
                    <a:pt x="3762" y="534"/>
                  </a:lnTo>
                  <a:lnTo>
                    <a:pt x="3763" y="677"/>
                  </a:lnTo>
                  <a:lnTo>
                    <a:pt x="3764" y="733"/>
                  </a:lnTo>
                  <a:lnTo>
                    <a:pt x="3766" y="675"/>
                  </a:lnTo>
                  <a:lnTo>
                    <a:pt x="3767" y="609"/>
                  </a:lnTo>
                  <a:lnTo>
                    <a:pt x="3768" y="628"/>
                  </a:lnTo>
                  <a:lnTo>
                    <a:pt x="3771" y="743"/>
                  </a:lnTo>
                  <a:lnTo>
                    <a:pt x="3772" y="493"/>
                  </a:lnTo>
                  <a:lnTo>
                    <a:pt x="3773" y="635"/>
                  </a:lnTo>
                  <a:lnTo>
                    <a:pt x="3774" y="666"/>
                  </a:lnTo>
                  <a:lnTo>
                    <a:pt x="3776" y="673"/>
                  </a:lnTo>
                  <a:lnTo>
                    <a:pt x="3777" y="792"/>
                  </a:lnTo>
                  <a:lnTo>
                    <a:pt x="3779" y="816"/>
                  </a:lnTo>
                  <a:lnTo>
                    <a:pt x="3781" y="583"/>
                  </a:lnTo>
                  <a:lnTo>
                    <a:pt x="3782" y="620"/>
                  </a:lnTo>
                  <a:lnTo>
                    <a:pt x="3783" y="651"/>
                  </a:lnTo>
                  <a:lnTo>
                    <a:pt x="3784" y="707"/>
                  </a:lnTo>
                  <a:lnTo>
                    <a:pt x="3786" y="554"/>
                  </a:lnTo>
                  <a:lnTo>
                    <a:pt x="3787" y="736"/>
                  </a:lnTo>
                  <a:lnTo>
                    <a:pt x="3789" y="702"/>
                  </a:lnTo>
                  <a:lnTo>
                    <a:pt x="3791" y="579"/>
                  </a:lnTo>
                  <a:lnTo>
                    <a:pt x="3792" y="325"/>
                  </a:lnTo>
                  <a:lnTo>
                    <a:pt x="3793" y="544"/>
                  </a:lnTo>
                  <a:lnTo>
                    <a:pt x="3795" y="418"/>
                  </a:lnTo>
                  <a:lnTo>
                    <a:pt x="3796" y="437"/>
                  </a:lnTo>
                  <a:lnTo>
                    <a:pt x="3797" y="572"/>
                  </a:lnTo>
                  <a:lnTo>
                    <a:pt x="3799" y="935"/>
                  </a:lnTo>
                  <a:lnTo>
                    <a:pt x="3801" y="640"/>
                  </a:lnTo>
                  <a:lnTo>
                    <a:pt x="3802" y="589"/>
                  </a:lnTo>
                  <a:lnTo>
                    <a:pt x="3803" y="436"/>
                  </a:lnTo>
                  <a:lnTo>
                    <a:pt x="3805" y="659"/>
                  </a:lnTo>
                  <a:lnTo>
                    <a:pt x="3806" y="752"/>
                  </a:lnTo>
                  <a:lnTo>
                    <a:pt x="3808" y="676"/>
                  </a:lnTo>
                  <a:lnTo>
                    <a:pt x="3810" y="665"/>
                  </a:lnTo>
                  <a:lnTo>
                    <a:pt x="3811" y="545"/>
                  </a:lnTo>
                  <a:lnTo>
                    <a:pt x="3812" y="591"/>
                  </a:lnTo>
                  <a:lnTo>
                    <a:pt x="3813" y="508"/>
                  </a:lnTo>
                  <a:lnTo>
                    <a:pt x="3815" y="506"/>
                  </a:lnTo>
                  <a:lnTo>
                    <a:pt x="3816" y="542"/>
                  </a:lnTo>
                  <a:lnTo>
                    <a:pt x="3818" y="605"/>
                  </a:lnTo>
                  <a:lnTo>
                    <a:pt x="3820" y="528"/>
                  </a:lnTo>
                  <a:lnTo>
                    <a:pt x="3821" y="448"/>
                  </a:lnTo>
                  <a:lnTo>
                    <a:pt x="3822" y="416"/>
                  </a:lnTo>
                  <a:lnTo>
                    <a:pt x="3823" y="567"/>
                  </a:lnTo>
                  <a:lnTo>
                    <a:pt x="3825" y="493"/>
                  </a:lnTo>
                  <a:lnTo>
                    <a:pt x="3826" y="479"/>
                  </a:lnTo>
                  <a:lnTo>
                    <a:pt x="3828" y="494"/>
                  </a:lnTo>
                  <a:lnTo>
                    <a:pt x="3830" y="445"/>
                  </a:lnTo>
                  <a:lnTo>
                    <a:pt x="3831" y="310"/>
                  </a:lnTo>
                  <a:lnTo>
                    <a:pt x="3832" y="411"/>
                  </a:lnTo>
                  <a:lnTo>
                    <a:pt x="3834" y="549"/>
                  </a:lnTo>
                  <a:lnTo>
                    <a:pt x="3835" y="755"/>
                  </a:lnTo>
                  <a:lnTo>
                    <a:pt x="3837" y="559"/>
                  </a:lnTo>
                  <a:lnTo>
                    <a:pt x="3838" y="558"/>
                  </a:lnTo>
                  <a:lnTo>
                    <a:pt x="3840" y="628"/>
                  </a:lnTo>
                  <a:lnTo>
                    <a:pt x="3841" y="586"/>
                  </a:lnTo>
                  <a:lnTo>
                    <a:pt x="3842" y="545"/>
                  </a:lnTo>
                  <a:lnTo>
                    <a:pt x="3844" y="492"/>
                  </a:lnTo>
                  <a:lnTo>
                    <a:pt x="3845" y="814"/>
                  </a:lnTo>
                  <a:lnTo>
                    <a:pt x="3847" y="853"/>
                  </a:lnTo>
                  <a:lnTo>
                    <a:pt x="3849" y="645"/>
                  </a:lnTo>
                  <a:lnTo>
                    <a:pt x="3850" y="612"/>
                  </a:lnTo>
                  <a:lnTo>
                    <a:pt x="3851" y="473"/>
                  </a:lnTo>
                  <a:lnTo>
                    <a:pt x="3852" y="520"/>
                  </a:lnTo>
                  <a:lnTo>
                    <a:pt x="3854" y="503"/>
                  </a:lnTo>
                  <a:lnTo>
                    <a:pt x="3855" y="584"/>
                  </a:lnTo>
                  <a:lnTo>
                    <a:pt x="3857" y="786"/>
                  </a:lnTo>
                  <a:lnTo>
                    <a:pt x="3859" y="728"/>
                  </a:lnTo>
                  <a:lnTo>
                    <a:pt x="3860" y="695"/>
                  </a:lnTo>
                  <a:lnTo>
                    <a:pt x="3861" y="612"/>
                  </a:lnTo>
                  <a:lnTo>
                    <a:pt x="3862" y="561"/>
                  </a:lnTo>
                  <a:lnTo>
                    <a:pt x="3864" y="306"/>
                  </a:lnTo>
                  <a:lnTo>
                    <a:pt x="3866" y="569"/>
                  </a:lnTo>
                  <a:lnTo>
                    <a:pt x="3867" y="593"/>
                  </a:lnTo>
                  <a:lnTo>
                    <a:pt x="3869" y="576"/>
                  </a:lnTo>
                  <a:lnTo>
                    <a:pt x="3870" y="609"/>
                  </a:lnTo>
                  <a:lnTo>
                    <a:pt x="3871" y="569"/>
                  </a:lnTo>
                  <a:lnTo>
                    <a:pt x="3873" y="761"/>
                  </a:lnTo>
                  <a:lnTo>
                    <a:pt x="3874" y="869"/>
                  </a:lnTo>
                  <a:lnTo>
                    <a:pt x="3876" y="649"/>
                  </a:lnTo>
                  <a:lnTo>
                    <a:pt x="3877" y="797"/>
                  </a:lnTo>
                  <a:lnTo>
                    <a:pt x="3879" y="910"/>
                  </a:lnTo>
                  <a:lnTo>
                    <a:pt x="3880" y="600"/>
                  </a:lnTo>
                  <a:lnTo>
                    <a:pt x="3881" y="661"/>
                  </a:lnTo>
                  <a:lnTo>
                    <a:pt x="3883" y="738"/>
                  </a:lnTo>
                  <a:lnTo>
                    <a:pt x="3884" y="591"/>
                  </a:lnTo>
                  <a:lnTo>
                    <a:pt x="3886" y="574"/>
                  </a:lnTo>
                  <a:lnTo>
                    <a:pt x="3888" y="646"/>
                  </a:lnTo>
                  <a:lnTo>
                    <a:pt x="3889" y="598"/>
                  </a:lnTo>
                  <a:lnTo>
                    <a:pt x="3890" y="687"/>
                  </a:lnTo>
                  <a:lnTo>
                    <a:pt x="3891" y="745"/>
                  </a:lnTo>
                  <a:lnTo>
                    <a:pt x="3893" y="714"/>
                  </a:lnTo>
                  <a:lnTo>
                    <a:pt x="3895" y="910"/>
                  </a:lnTo>
                  <a:lnTo>
                    <a:pt x="3896" y="947"/>
                  </a:lnTo>
                  <a:lnTo>
                    <a:pt x="3898" y="720"/>
                  </a:lnTo>
                  <a:lnTo>
                    <a:pt x="3899" y="340"/>
                  </a:lnTo>
                  <a:lnTo>
                    <a:pt x="3900" y="441"/>
                  </a:lnTo>
                  <a:lnTo>
                    <a:pt x="3902" y="513"/>
                  </a:lnTo>
                  <a:lnTo>
                    <a:pt x="3903" y="450"/>
                  </a:lnTo>
                  <a:lnTo>
                    <a:pt x="3905" y="510"/>
                  </a:lnTo>
                  <a:lnTo>
                    <a:pt x="3906" y="530"/>
                  </a:lnTo>
                  <a:lnTo>
                    <a:pt x="3908" y="532"/>
                  </a:lnTo>
                  <a:lnTo>
                    <a:pt x="3909" y="620"/>
                  </a:lnTo>
                  <a:lnTo>
                    <a:pt x="3910" y="628"/>
                  </a:lnTo>
                  <a:lnTo>
                    <a:pt x="3912" y="645"/>
                  </a:lnTo>
                  <a:lnTo>
                    <a:pt x="3913" y="794"/>
                  </a:lnTo>
                  <a:lnTo>
                    <a:pt x="3915" y="709"/>
                  </a:lnTo>
                  <a:lnTo>
                    <a:pt x="3916" y="979"/>
                  </a:lnTo>
                  <a:lnTo>
                    <a:pt x="3918" y="897"/>
                  </a:lnTo>
                  <a:lnTo>
                    <a:pt x="3919" y="960"/>
                  </a:lnTo>
                  <a:lnTo>
                    <a:pt x="3920" y="810"/>
                  </a:lnTo>
                  <a:lnTo>
                    <a:pt x="3922" y="673"/>
                  </a:lnTo>
                  <a:lnTo>
                    <a:pt x="3924" y="617"/>
                  </a:lnTo>
                  <a:lnTo>
                    <a:pt x="3925" y="552"/>
                  </a:lnTo>
                  <a:lnTo>
                    <a:pt x="3927" y="878"/>
                  </a:lnTo>
                  <a:lnTo>
                    <a:pt x="3928" y="717"/>
                  </a:lnTo>
                  <a:lnTo>
                    <a:pt x="3929" y="731"/>
                  </a:lnTo>
                  <a:lnTo>
                    <a:pt x="3930" y="464"/>
                  </a:lnTo>
                  <a:lnTo>
                    <a:pt x="3932" y="747"/>
                  </a:lnTo>
                  <a:lnTo>
                    <a:pt x="3934" y="598"/>
                  </a:lnTo>
                  <a:lnTo>
                    <a:pt x="3935" y="627"/>
                  </a:lnTo>
                  <a:lnTo>
                    <a:pt x="3937" y="489"/>
                  </a:lnTo>
                  <a:lnTo>
                    <a:pt x="3938" y="541"/>
                  </a:lnTo>
                  <a:lnTo>
                    <a:pt x="3939" y="597"/>
                  </a:lnTo>
                  <a:lnTo>
                    <a:pt x="3941" y="743"/>
                  </a:lnTo>
                  <a:lnTo>
                    <a:pt x="3943" y="640"/>
                  </a:lnTo>
                  <a:lnTo>
                    <a:pt x="3944" y="531"/>
                  </a:lnTo>
                  <a:lnTo>
                    <a:pt x="3945" y="512"/>
                  </a:lnTo>
                  <a:lnTo>
                    <a:pt x="3947" y="665"/>
                  </a:lnTo>
                  <a:lnTo>
                    <a:pt x="3948" y="607"/>
                  </a:lnTo>
                  <a:lnTo>
                    <a:pt x="3949" y="632"/>
                  </a:lnTo>
                  <a:lnTo>
                    <a:pt x="3951" y="770"/>
                  </a:lnTo>
                  <a:lnTo>
                    <a:pt x="3953" y="754"/>
                  </a:lnTo>
                  <a:lnTo>
                    <a:pt x="3954" y="712"/>
                  </a:lnTo>
                  <a:lnTo>
                    <a:pt x="3955" y="739"/>
                  </a:lnTo>
                  <a:lnTo>
                    <a:pt x="3957" y="766"/>
                  </a:lnTo>
                  <a:lnTo>
                    <a:pt x="3958" y="708"/>
                  </a:lnTo>
                  <a:lnTo>
                    <a:pt x="3959" y="684"/>
                  </a:lnTo>
                  <a:lnTo>
                    <a:pt x="3961" y="659"/>
                  </a:lnTo>
                  <a:lnTo>
                    <a:pt x="3963" y="767"/>
                  </a:lnTo>
                  <a:lnTo>
                    <a:pt x="3964" y="530"/>
                  </a:lnTo>
                  <a:lnTo>
                    <a:pt x="3966" y="817"/>
                  </a:lnTo>
                  <a:lnTo>
                    <a:pt x="3967" y="862"/>
                  </a:lnTo>
                  <a:lnTo>
                    <a:pt x="3968" y="801"/>
                  </a:lnTo>
                  <a:lnTo>
                    <a:pt x="3969" y="824"/>
                  </a:lnTo>
                  <a:lnTo>
                    <a:pt x="3972" y="747"/>
                  </a:lnTo>
                  <a:lnTo>
                    <a:pt x="3973" y="627"/>
                  </a:lnTo>
                  <a:lnTo>
                    <a:pt x="3974" y="692"/>
                  </a:lnTo>
                  <a:lnTo>
                    <a:pt x="3976" y="699"/>
                  </a:lnTo>
                  <a:lnTo>
                    <a:pt x="3977" y="628"/>
                  </a:lnTo>
                  <a:lnTo>
                    <a:pt x="3978" y="576"/>
                  </a:lnTo>
                  <a:lnTo>
                    <a:pt x="3980" y="731"/>
                  </a:lnTo>
                  <a:lnTo>
                    <a:pt x="3982" y="821"/>
                  </a:lnTo>
                  <a:lnTo>
                    <a:pt x="3983" y="860"/>
                  </a:lnTo>
                  <a:lnTo>
                    <a:pt x="3984" y="820"/>
                  </a:lnTo>
                  <a:lnTo>
                    <a:pt x="3986" y="714"/>
                  </a:lnTo>
                  <a:lnTo>
                    <a:pt x="3987" y="542"/>
                  </a:lnTo>
                  <a:lnTo>
                    <a:pt x="3988" y="544"/>
                  </a:lnTo>
                  <a:lnTo>
                    <a:pt x="3990" y="667"/>
                  </a:lnTo>
                  <a:lnTo>
                    <a:pt x="3992" y="501"/>
                  </a:lnTo>
                  <a:lnTo>
                    <a:pt x="3993" y="589"/>
                  </a:lnTo>
                  <a:lnTo>
                    <a:pt x="3995" y="716"/>
                  </a:lnTo>
                  <a:lnTo>
                    <a:pt x="3996" y="637"/>
                  </a:lnTo>
                  <a:lnTo>
                    <a:pt x="3997" y="671"/>
                  </a:lnTo>
                  <a:lnTo>
                    <a:pt x="3998" y="603"/>
                  </a:lnTo>
                  <a:lnTo>
                    <a:pt x="4001" y="715"/>
                  </a:lnTo>
                  <a:lnTo>
                    <a:pt x="4002" y="788"/>
                  </a:lnTo>
                  <a:lnTo>
                    <a:pt x="4003" y="679"/>
                  </a:lnTo>
                  <a:lnTo>
                    <a:pt x="4005" y="669"/>
                  </a:lnTo>
                  <a:lnTo>
                    <a:pt x="4006" y="675"/>
                  </a:lnTo>
                  <a:lnTo>
                    <a:pt x="4007" y="637"/>
                  </a:lnTo>
                  <a:lnTo>
                    <a:pt x="4008" y="540"/>
                  </a:lnTo>
                  <a:lnTo>
                    <a:pt x="4011" y="592"/>
                  </a:lnTo>
                  <a:lnTo>
                    <a:pt x="4012" y="774"/>
                  </a:lnTo>
                  <a:lnTo>
                    <a:pt x="4013" y="945"/>
                  </a:lnTo>
                  <a:lnTo>
                    <a:pt x="4015" y="920"/>
                  </a:lnTo>
                  <a:lnTo>
                    <a:pt x="4016" y="1004"/>
                  </a:lnTo>
                  <a:lnTo>
                    <a:pt x="4017" y="982"/>
                  </a:lnTo>
                  <a:lnTo>
                    <a:pt x="4019" y="939"/>
                  </a:lnTo>
                  <a:lnTo>
                    <a:pt x="4021" y="861"/>
                  </a:lnTo>
                  <a:lnTo>
                    <a:pt x="4022" y="950"/>
                  </a:lnTo>
                  <a:lnTo>
                    <a:pt x="4023" y="776"/>
                  </a:lnTo>
                  <a:lnTo>
                    <a:pt x="4025" y="937"/>
                  </a:lnTo>
                  <a:lnTo>
                    <a:pt x="4026" y="745"/>
                  </a:lnTo>
                  <a:lnTo>
                    <a:pt x="4027" y="553"/>
                  </a:lnTo>
                  <a:lnTo>
                    <a:pt x="4030" y="839"/>
                  </a:lnTo>
                  <a:lnTo>
                    <a:pt x="4031" y="794"/>
                  </a:lnTo>
                  <a:lnTo>
                    <a:pt x="4032" y="782"/>
                  </a:lnTo>
                  <a:lnTo>
                    <a:pt x="4034" y="1036"/>
                  </a:lnTo>
                  <a:lnTo>
                    <a:pt x="4035" y="887"/>
                  </a:lnTo>
                  <a:lnTo>
                    <a:pt x="4036" y="1083"/>
                  </a:lnTo>
                  <a:lnTo>
                    <a:pt x="4037" y="1153"/>
                  </a:lnTo>
                  <a:lnTo>
                    <a:pt x="4040" y="871"/>
                  </a:lnTo>
                  <a:lnTo>
                    <a:pt x="4041" y="868"/>
                  </a:lnTo>
                  <a:lnTo>
                    <a:pt x="4042" y="835"/>
                  </a:lnTo>
                  <a:lnTo>
                    <a:pt x="4044" y="851"/>
                  </a:lnTo>
                  <a:lnTo>
                    <a:pt x="4045" y="791"/>
                  </a:lnTo>
                  <a:lnTo>
                    <a:pt x="4046" y="568"/>
                  </a:lnTo>
                  <a:lnTo>
                    <a:pt x="4047" y="851"/>
                  </a:lnTo>
                  <a:lnTo>
                    <a:pt x="4050" y="985"/>
                  </a:lnTo>
                  <a:lnTo>
                    <a:pt x="4051" y="820"/>
                  </a:lnTo>
                  <a:lnTo>
                    <a:pt x="4052" y="588"/>
                  </a:lnTo>
                  <a:lnTo>
                    <a:pt x="4054" y="611"/>
                  </a:lnTo>
                  <a:lnTo>
                    <a:pt x="4055" y="694"/>
                  </a:lnTo>
                  <a:lnTo>
                    <a:pt x="4056" y="618"/>
                  </a:lnTo>
                  <a:lnTo>
                    <a:pt x="4059" y="512"/>
                  </a:lnTo>
                  <a:lnTo>
                    <a:pt x="4060" y="706"/>
                  </a:lnTo>
                  <a:lnTo>
                    <a:pt x="4061" y="676"/>
                  </a:lnTo>
                  <a:lnTo>
                    <a:pt x="4062" y="869"/>
                  </a:lnTo>
                  <a:lnTo>
                    <a:pt x="4064" y="810"/>
                  </a:lnTo>
                  <a:lnTo>
                    <a:pt x="4065" y="899"/>
                  </a:lnTo>
                  <a:lnTo>
                    <a:pt x="4066" y="858"/>
                  </a:lnTo>
                  <a:lnTo>
                    <a:pt x="4069" y="910"/>
                  </a:lnTo>
                  <a:lnTo>
                    <a:pt x="4070" y="806"/>
                  </a:lnTo>
                  <a:lnTo>
                    <a:pt x="4071" y="860"/>
                  </a:lnTo>
                  <a:lnTo>
                    <a:pt x="4073" y="907"/>
                  </a:lnTo>
                  <a:lnTo>
                    <a:pt x="4074" y="1001"/>
                  </a:lnTo>
                  <a:lnTo>
                    <a:pt x="4075" y="744"/>
                  </a:lnTo>
                  <a:lnTo>
                    <a:pt x="4076" y="615"/>
                  </a:lnTo>
                  <a:lnTo>
                    <a:pt x="4079" y="928"/>
                  </a:lnTo>
                  <a:lnTo>
                    <a:pt x="4080" y="921"/>
                  </a:lnTo>
                  <a:lnTo>
                    <a:pt x="4081" y="860"/>
                  </a:lnTo>
                  <a:lnTo>
                    <a:pt x="4083" y="828"/>
                  </a:lnTo>
                  <a:lnTo>
                    <a:pt x="4084" y="669"/>
                  </a:lnTo>
                  <a:lnTo>
                    <a:pt x="4085" y="608"/>
                  </a:lnTo>
                  <a:lnTo>
                    <a:pt x="4086" y="745"/>
                  </a:lnTo>
                  <a:lnTo>
                    <a:pt x="4089" y="736"/>
                  </a:lnTo>
                  <a:lnTo>
                    <a:pt x="4090" y="945"/>
                  </a:lnTo>
                  <a:lnTo>
                    <a:pt x="4091" y="955"/>
                  </a:lnTo>
                  <a:lnTo>
                    <a:pt x="4093" y="861"/>
                  </a:lnTo>
                  <a:lnTo>
                    <a:pt x="4094" y="639"/>
                  </a:lnTo>
                  <a:lnTo>
                    <a:pt x="4095" y="686"/>
                  </a:lnTo>
                  <a:lnTo>
                    <a:pt x="4098" y="854"/>
                  </a:lnTo>
                  <a:lnTo>
                    <a:pt x="4099" y="658"/>
                  </a:lnTo>
                  <a:lnTo>
                    <a:pt x="4100" y="668"/>
                  </a:lnTo>
                  <a:lnTo>
                    <a:pt x="4101" y="781"/>
                  </a:lnTo>
                  <a:lnTo>
                    <a:pt x="4103" y="736"/>
                  </a:lnTo>
                  <a:lnTo>
                    <a:pt x="4104" y="714"/>
                  </a:lnTo>
                  <a:lnTo>
                    <a:pt x="4105" y="859"/>
                  </a:lnTo>
                  <a:lnTo>
                    <a:pt x="4108" y="920"/>
                  </a:lnTo>
                  <a:lnTo>
                    <a:pt x="4109" y="922"/>
                  </a:lnTo>
                  <a:lnTo>
                    <a:pt x="4110" y="761"/>
                  </a:lnTo>
                  <a:lnTo>
                    <a:pt x="4112" y="828"/>
                  </a:lnTo>
                  <a:lnTo>
                    <a:pt x="4113" y="873"/>
                  </a:lnTo>
                  <a:lnTo>
                    <a:pt x="4114" y="708"/>
                  </a:lnTo>
                  <a:lnTo>
                    <a:pt x="4115" y="904"/>
                  </a:lnTo>
                  <a:lnTo>
                    <a:pt x="4118" y="821"/>
                  </a:lnTo>
                  <a:lnTo>
                    <a:pt x="4119" y="689"/>
                  </a:lnTo>
                  <a:lnTo>
                    <a:pt x="4120" y="641"/>
                  </a:lnTo>
                  <a:lnTo>
                    <a:pt x="4122" y="766"/>
                  </a:lnTo>
                  <a:lnTo>
                    <a:pt x="4123" y="767"/>
                  </a:lnTo>
                  <a:lnTo>
                    <a:pt x="4124" y="685"/>
                  </a:lnTo>
                  <a:lnTo>
                    <a:pt x="4127" y="621"/>
                  </a:lnTo>
                  <a:lnTo>
                    <a:pt x="4128" y="522"/>
                  </a:lnTo>
                  <a:lnTo>
                    <a:pt x="4129" y="572"/>
                  </a:lnTo>
                  <a:lnTo>
                    <a:pt x="4130" y="534"/>
                  </a:lnTo>
                  <a:lnTo>
                    <a:pt x="4132" y="506"/>
                  </a:lnTo>
                  <a:lnTo>
                    <a:pt x="4133" y="589"/>
                  </a:lnTo>
                  <a:lnTo>
                    <a:pt x="4134" y="533"/>
                  </a:lnTo>
                  <a:lnTo>
                    <a:pt x="4137" y="877"/>
                  </a:lnTo>
                  <a:lnTo>
                    <a:pt x="4138" y="914"/>
                  </a:lnTo>
                  <a:lnTo>
                    <a:pt x="4139" y="1034"/>
                  </a:lnTo>
                  <a:lnTo>
                    <a:pt x="4140" y="860"/>
                  </a:lnTo>
                  <a:lnTo>
                    <a:pt x="4142" y="679"/>
                  </a:lnTo>
                  <a:lnTo>
                    <a:pt x="4143" y="840"/>
                  </a:lnTo>
                  <a:lnTo>
                    <a:pt x="4144" y="620"/>
                  </a:lnTo>
                  <a:lnTo>
                    <a:pt x="4147" y="683"/>
                  </a:lnTo>
                  <a:lnTo>
                    <a:pt x="4148" y="656"/>
                  </a:lnTo>
                  <a:lnTo>
                    <a:pt x="4149" y="524"/>
                  </a:lnTo>
                  <a:lnTo>
                    <a:pt x="4151" y="276"/>
                  </a:lnTo>
                  <a:lnTo>
                    <a:pt x="4152" y="285"/>
                  </a:lnTo>
                  <a:lnTo>
                    <a:pt x="4153" y="420"/>
                  </a:lnTo>
                  <a:lnTo>
                    <a:pt x="4154" y="335"/>
                  </a:lnTo>
                  <a:lnTo>
                    <a:pt x="4157" y="394"/>
                  </a:lnTo>
                  <a:lnTo>
                    <a:pt x="4158" y="564"/>
                  </a:lnTo>
                  <a:lnTo>
                    <a:pt x="4159" y="349"/>
                  </a:lnTo>
                  <a:lnTo>
                    <a:pt x="4161" y="543"/>
                  </a:lnTo>
                  <a:lnTo>
                    <a:pt x="4162" y="297"/>
                  </a:lnTo>
                  <a:lnTo>
                    <a:pt x="4163" y="325"/>
                  </a:lnTo>
                  <a:lnTo>
                    <a:pt x="4166" y="409"/>
                  </a:lnTo>
                  <a:lnTo>
                    <a:pt x="4167" y="402"/>
                  </a:lnTo>
                  <a:lnTo>
                    <a:pt x="4168" y="311"/>
                  </a:lnTo>
                  <a:lnTo>
                    <a:pt x="4169" y="457"/>
                  </a:lnTo>
                  <a:lnTo>
                    <a:pt x="4171" y="519"/>
                  </a:lnTo>
                  <a:lnTo>
                    <a:pt x="4172" y="470"/>
                  </a:lnTo>
                  <a:lnTo>
                    <a:pt x="4173" y="645"/>
                  </a:lnTo>
                  <a:lnTo>
                    <a:pt x="4176" y="712"/>
                  </a:lnTo>
                  <a:lnTo>
                    <a:pt x="4177" y="757"/>
                  </a:lnTo>
                  <a:lnTo>
                    <a:pt x="4178" y="1014"/>
                  </a:lnTo>
                  <a:lnTo>
                    <a:pt x="4179" y="981"/>
                  </a:lnTo>
                  <a:lnTo>
                    <a:pt x="4181" y="1033"/>
                  </a:lnTo>
                  <a:lnTo>
                    <a:pt x="4182" y="880"/>
                  </a:lnTo>
                  <a:lnTo>
                    <a:pt x="4183" y="849"/>
                  </a:lnTo>
                  <a:lnTo>
                    <a:pt x="4186" y="922"/>
                  </a:lnTo>
                  <a:lnTo>
                    <a:pt x="4187" y="898"/>
                  </a:lnTo>
                  <a:lnTo>
                    <a:pt x="4188" y="892"/>
                  </a:lnTo>
                  <a:lnTo>
                    <a:pt x="4190" y="772"/>
                  </a:lnTo>
                  <a:lnTo>
                    <a:pt x="4191" y="762"/>
                  </a:lnTo>
                  <a:lnTo>
                    <a:pt x="4192" y="1186"/>
                  </a:lnTo>
                  <a:lnTo>
                    <a:pt x="4194" y="917"/>
                  </a:lnTo>
                  <a:lnTo>
                    <a:pt x="4196" y="889"/>
                  </a:lnTo>
                  <a:lnTo>
                    <a:pt x="4197" y="778"/>
                  </a:lnTo>
                  <a:lnTo>
                    <a:pt x="4198" y="739"/>
                  </a:lnTo>
                  <a:lnTo>
                    <a:pt x="4200" y="527"/>
                  </a:lnTo>
                  <a:lnTo>
                    <a:pt x="4201" y="577"/>
                  </a:lnTo>
                  <a:lnTo>
                    <a:pt x="4202" y="636"/>
                  </a:lnTo>
                  <a:lnTo>
                    <a:pt x="4205" y="580"/>
                  </a:lnTo>
                  <a:lnTo>
                    <a:pt x="4206" y="676"/>
                  </a:lnTo>
                  <a:lnTo>
                    <a:pt x="4207" y="563"/>
                  </a:lnTo>
                  <a:lnTo>
                    <a:pt x="4208" y="710"/>
                  </a:lnTo>
                  <a:lnTo>
                    <a:pt x="4210" y="757"/>
                  </a:lnTo>
                  <a:lnTo>
                    <a:pt x="4211" y="821"/>
                  </a:lnTo>
                  <a:lnTo>
                    <a:pt x="4212" y="788"/>
                  </a:lnTo>
                  <a:lnTo>
                    <a:pt x="4215" y="801"/>
                  </a:lnTo>
                  <a:lnTo>
                    <a:pt x="4216" y="768"/>
                  </a:lnTo>
                  <a:lnTo>
                    <a:pt x="4217" y="655"/>
                  </a:lnTo>
                  <a:lnTo>
                    <a:pt x="4219" y="538"/>
                  </a:lnTo>
                  <a:lnTo>
                    <a:pt x="4220" y="516"/>
                  </a:lnTo>
                  <a:lnTo>
                    <a:pt x="4221" y="620"/>
                  </a:lnTo>
                  <a:lnTo>
                    <a:pt x="4223" y="793"/>
                  </a:lnTo>
                  <a:lnTo>
                    <a:pt x="4225" y="834"/>
                  </a:lnTo>
                  <a:lnTo>
                    <a:pt x="4226" y="799"/>
                  </a:lnTo>
                  <a:lnTo>
                    <a:pt x="4227" y="644"/>
                  </a:lnTo>
                  <a:lnTo>
                    <a:pt x="4229" y="667"/>
                  </a:lnTo>
                  <a:lnTo>
                    <a:pt x="4230" y="613"/>
                  </a:lnTo>
                  <a:lnTo>
                    <a:pt x="4231" y="579"/>
                  </a:lnTo>
                  <a:lnTo>
                    <a:pt x="4233" y="734"/>
                  </a:lnTo>
                  <a:lnTo>
                    <a:pt x="4235" y="504"/>
                  </a:lnTo>
                  <a:lnTo>
                    <a:pt x="4236" y="762"/>
                  </a:lnTo>
                  <a:lnTo>
                    <a:pt x="4237" y="816"/>
                  </a:lnTo>
                  <a:lnTo>
                    <a:pt x="4239" y="678"/>
                  </a:lnTo>
                  <a:lnTo>
                    <a:pt x="4240" y="763"/>
                  </a:lnTo>
                  <a:lnTo>
                    <a:pt x="4241" y="710"/>
                  </a:lnTo>
                  <a:lnTo>
                    <a:pt x="4244" y="631"/>
                  </a:lnTo>
                  <a:lnTo>
                    <a:pt x="4245" y="469"/>
                  </a:lnTo>
                  <a:lnTo>
                    <a:pt x="4246" y="495"/>
                  </a:lnTo>
                  <a:lnTo>
                    <a:pt x="4247" y="504"/>
                  </a:lnTo>
                  <a:lnTo>
                    <a:pt x="4249" y="506"/>
                  </a:lnTo>
                  <a:lnTo>
                    <a:pt x="4250" y="523"/>
                  </a:lnTo>
                  <a:lnTo>
                    <a:pt x="4252" y="918"/>
                  </a:lnTo>
                  <a:lnTo>
                    <a:pt x="4254" y="874"/>
                  </a:lnTo>
                  <a:lnTo>
                    <a:pt x="4255" y="896"/>
                  </a:lnTo>
                  <a:lnTo>
                    <a:pt x="4256" y="773"/>
                  </a:lnTo>
                  <a:lnTo>
                    <a:pt x="4258" y="715"/>
                  </a:lnTo>
                  <a:lnTo>
                    <a:pt x="4259" y="803"/>
                  </a:lnTo>
                  <a:lnTo>
                    <a:pt x="4260" y="843"/>
                  </a:lnTo>
                  <a:lnTo>
                    <a:pt x="4262" y="820"/>
                  </a:lnTo>
                  <a:lnTo>
                    <a:pt x="4264" y="813"/>
                  </a:lnTo>
                  <a:lnTo>
                    <a:pt x="4265" y="790"/>
                  </a:lnTo>
                  <a:lnTo>
                    <a:pt x="4266" y="867"/>
                  </a:lnTo>
                  <a:lnTo>
                    <a:pt x="4268" y="962"/>
                  </a:lnTo>
                  <a:lnTo>
                    <a:pt x="4269" y="724"/>
                  </a:lnTo>
                  <a:lnTo>
                    <a:pt x="4270" y="686"/>
                  </a:lnTo>
                  <a:lnTo>
                    <a:pt x="4272" y="761"/>
                  </a:lnTo>
                  <a:lnTo>
                    <a:pt x="4274" y="739"/>
                  </a:lnTo>
                  <a:lnTo>
                    <a:pt x="4275" y="625"/>
                  </a:lnTo>
                  <a:lnTo>
                    <a:pt x="4276" y="696"/>
                  </a:lnTo>
                  <a:lnTo>
                    <a:pt x="4278" y="531"/>
                  </a:lnTo>
                  <a:lnTo>
                    <a:pt x="4279" y="457"/>
                  </a:lnTo>
                  <a:lnTo>
                    <a:pt x="4281" y="460"/>
                  </a:lnTo>
                  <a:lnTo>
                    <a:pt x="4283" y="706"/>
                  </a:lnTo>
                  <a:lnTo>
                    <a:pt x="4284" y="751"/>
                  </a:lnTo>
                  <a:lnTo>
                    <a:pt x="4285" y="520"/>
                  </a:lnTo>
                  <a:lnTo>
                    <a:pt x="4286" y="532"/>
                  </a:lnTo>
                  <a:lnTo>
                    <a:pt x="4288" y="734"/>
                  </a:lnTo>
                  <a:lnTo>
                    <a:pt x="4289" y="588"/>
                  </a:lnTo>
                  <a:lnTo>
                    <a:pt x="4291" y="613"/>
                  </a:lnTo>
                  <a:lnTo>
                    <a:pt x="4293" y="693"/>
                  </a:lnTo>
                  <a:lnTo>
                    <a:pt x="4294" y="833"/>
                  </a:lnTo>
                  <a:lnTo>
                    <a:pt x="4295" y="767"/>
                  </a:lnTo>
                  <a:lnTo>
                    <a:pt x="4297" y="632"/>
                  </a:lnTo>
                  <a:lnTo>
                    <a:pt x="4298" y="339"/>
                  </a:lnTo>
                  <a:lnTo>
                    <a:pt x="4299" y="482"/>
                  </a:lnTo>
                  <a:lnTo>
                    <a:pt x="4301" y="709"/>
                  </a:lnTo>
                  <a:lnTo>
                    <a:pt x="4303" y="605"/>
                  </a:lnTo>
                  <a:lnTo>
                    <a:pt x="4304" y="732"/>
                  </a:lnTo>
                  <a:lnTo>
                    <a:pt x="4305" y="327"/>
                  </a:lnTo>
                  <a:lnTo>
                    <a:pt x="4307" y="345"/>
                  </a:lnTo>
                  <a:lnTo>
                    <a:pt x="4308" y="591"/>
                  </a:lnTo>
                  <a:lnTo>
                    <a:pt x="4310" y="437"/>
                  </a:lnTo>
                  <a:lnTo>
                    <a:pt x="4311" y="591"/>
                  </a:lnTo>
                  <a:lnTo>
                    <a:pt x="4313" y="658"/>
                  </a:lnTo>
                  <a:lnTo>
                    <a:pt x="4314" y="723"/>
                  </a:lnTo>
                  <a:lnTo>
                    <a:pt x="4315" y="717"/>
                  </a:lnTo>
                  <a:lnTo>
                    <a:pt x="4317" y="746"/>
                  </a:lnTo>
                  <a:lnTo>
                    <a:pt x="4318" y="885"/>
                  </a:lnTo>
                  <a:lnTo>
                    <a:pt x="4320" y="986"/>
                  </a:lnTo>
                  <a:lnTo>
                    <a:pt x="4322" y="1009"/>
                  </a:lnTo>
                  <a:lnTo>
                    <a:pt x="4323" y="675"/>
                  </a:lnTo>
                  <a:lnTo>
                    <a:pt x="4324" y="821"/>
                  </a:lnTo>
                  <a:lnTo>
                    <a:pt x="4325" y="1055"/>
                  </a:lnTo>
                  <a:lnTo>
                    <a:pt x="4327" y="943"/>
                  </a:lnTo>
                  <a:lnTo>
                    <a:pt x="4328" y="942"/>
                  </a:lnTo>
                  <a:lnTo>
                    <a:pt x="4330" y="929"/>
                  </a:lnTo>
                  <a:lnTo>
                    <a:pt x="4332" y="804"/>
                  </a:lnTo>
                  <a:lnTo>
                    <a:pt x="4333" y="819"/>
                  </a:lnTo>
                  <a:lnTo>
                    <a:pt x="4334" y="868"/>
                  </a:lnTo>
                  <a:lnTo>
                    <a:pt x="4336" y="807"/>
                  </a:lnTo>
                  <a:lnTo>
                    <a:pt x="4337" y="1058"/>
                  </a:lnTo>
                  <a:lnTo>
                    <a:pt x="4339" y="890"/>
                  </a:lnTo>
                  <a:lnTo>
                    <a:pt x="4340" y="833"/>
                  </a:lnTo>
                  <a:lnTo>
                    <a:pt x="4342" y="685"/>
                  </a:lnTo>
                  <a:lnTo>
                    <a:pt x="4343" y="686"/>
                  </a:lnTo>
                  <a:lnTo>
                    <a:pt x="4344" y="746"/>
                  </a:lnTo>
                  <a:lnTo>
                    <a:pt x="4346" y="505"/>
                  </a:lnTo>
                  <a:lnTo>
                    <a:pt x="4347" y="531"/>
                  </a:lnTo>
                  <a:lnTo>
                    <a:pt x="4349" y="551"/>
                  </a:lnTo>
                  <a:lnTo>
                    <a:pt x="4351" y="762"/>
                  </a:lnTo>
                  <a:lnTo>
                    <a:pt x="4352" y="556"/>
                  </a:lnTo>
                  <a:lnTo>
                    <a:pt x="4353" y="574"/>
                  </a:lnTo>
                  <a:lnTo>
                    <a:pt x="4354" y="771"/>
                  </a:lnTo>
                  <a:lnTo>
                    <a:pt x="4356" y="882"/>
                  </a:lnTo>
                  <a:lnTo>
                    <a:pt x="4357" y="729"/>
                  </a:lnTo>
                  <a:lnTo>
                    <a:pt x="4359" y="625"/>
                  </a:lnTo>
                  <a:lnTo>
                    <a:pt x="4361" y="601"/>
                  </a:lnTo>
                  <a:lnTo>
                    <a:pt x="4362" y="444"/>
                  </a:lnTo>
                  <a:lnTo>
                    <a:pt x="4363" y="548"/>
                  </a:lnTo>
                  <a:lnTo>
                    <a:pt x="4364" y="548"/>
                  </a:lnTo>
                  <a:lnTo>
                    <a:pt x="4366" y="652"/>
                  </a:lnTo>
                  <a:lnTo>
                    <a:pt x="4368" y="738"/>
                  </a:lnTo>
                  <a:lnTo>
                    <a:pt x="4369" y="694"/>
                  </a:lnTo>
                  <a:lnTo>
                    <a:pt x="4371" y="707"/>
                  </a:lnTo>
                  <a:lnTo>
                    <a:pt x="4372" y="703"/>
                  </a:lnTo>
                  <a:lnTo>
                    <a:pt x="4373" y="829"/>
                  </a:lnTo>
                  <a:lnTo>
                    <a:pt x="4375" y="892"/>
                  </a:lnTo>
                  <a:lnTo>
                    <a:pt x="4376" y="890"/>
                  </a:lnTo>
                  <a:lnTo>
                    <a:pt x="4378" y="891"/>
                  </a:lnTo>
                  <a:lnTo>
                    <a:pt x="4379" y="739"/>
                  </a:lnTo>
                  <a:lnTo>
                    <a:pt x="4381" y="923"/>
                  </a:lnTo>
                  <a:lnTo>
                    <a:pt x="4382" y="889"/>
                  </a:lnTo>
                  <a:lnTo>
                    <a:pt x="4383" y="606"/>
                  </a:lnTo>
                  <a:lnTo>
                    <a:pt x="4385" y="676"/>
                  </a:lnTo>
                  <a:lnTo>
                    <a:pt x="4386" y="603"/>
                  </a:lnTo>
                  <a:lnTo>
                    <a:pt x="4388" y="683"/>
                  </a:lnTo>
                  <a:lnTo>
                    <a:pt x="4390" y="590"/>
                  </a:lnTo>
                  <a:lnTo>
                    <a:pt x="4391" y="677"/>
                  </a:lnTo>
                  <a:lnTo>
                    <a:pt x="4392" y="581"/>
                  </a:lnTo>
                  <a:lnTo>
                    <a:pt x="4393" y="660"/>
                  </a:lnTo>
                  <a:lnTo>
                    <a:pt x="4395" y="558"/>
                  </a:lnTo>
                  <a:lnTo>
                    <a:pt x="4397" y="562"/>
                  </a:lnTo>
                  <a:lnTo>
                    <a:pt x="4398" y="597"/>
                  </a:lnTo>
                  <a:lnTo>
                    <a:pt x="4400" y="687"/>
                  </a:lnTo>
                  <a:lnTo>
                    <a:pt x="4401" y="1016"/>
                  </a:lnTo>
                  <a:lnTo>
                    <a:pt x="4402" y="880"/>
                  </a:lnTo>
                  <a:lnTo>
                    <a:pt x="4403" y="761"/>
                  </a:lnTo>
                  <a:lnTo>
                    <a:pt x="4405" y="765"/>
                  </a:lnTo>
                  <a:lnTo>
                    <a:pt x="4407" y="839"/>
                  </a:lnTo>
                  <a:lnTo>
                    <a:pt x="4408" y="492"/>
                  </a:lnTo>
                  <a:lnTo>
                    <a:pt x="4410" y="727"/>
                  </a:lnTo>
                  <a:lnTo>
                    <a:pt x="4411" y="625"/>
                  </a:lnTo>
                  <a:lnTo>
                    <a:pt x="4412" y="618"/>
                  </a:lnTo>
                  <a:lnTo>
                    <a:pt x="4414" y="530"/>
                  </a:lnTo>
                  <a:lnTo>
                    <a:pt x="4415" y="706"/>
                  </a:lnTo>
                  <a:lnTo>
                    <a:pt x="4417" y="715"/>
                  </a:lnTo>
                  <a:lnTo>
                    <a:pt x="4418" y="684"/>
                  </a:lnTo>
                  <a:lnTo>
                    <a:pt x="4420" y="537"/>
                  </a:lnTo>
                  <a:lnTo>
                    <a:pt x="4421" y="520"/>
                  </a:lnTo>
                  <a:lnTo>
                    <a:pt x="4422" y="560"/>
                  </a:lnTo>
                  <a:lnTo>
                    <a:pt x="4424" y="451"/>
                  </a:lnTo>
                  <a:lnTo>
                    <a:pt x="4426" y="414"/>
                  </a:lnTo>
                  <a:lnTo>
                    <a:pt x="4427" y="438"/>
                  </a:lnTo>
                  <a:lnTo>
                    <a:pt x="4429" y="554"/>
                  </a:lnTo>
                  <a:lnTo>
                    <a:pt x="4430" y="668"/>
                  </a:lnTo>
                  <a:lnTo>
                    <a:pt x="4431" y="677"/>
                  </a:lnTo>
                  <a:lnTo>
                    <a:pt x="4432" y="393"/>
                  </a:lnTo>
                  <a:lnTo>
                    <a:pt x="4434" y="583"/>
                  </a:lnTo>
                  <a:lnTo>
                    <a:pt x="4436" y="501"/>
                  </a:lnTo>
                  <a:lnTo>
                    <a:pt x="4437" y="277"/>
                  </a:lnTo>
                  <a:lnTo>
                    <a:pt x="4439" y="404"/>
                  </a:lnTo>
                  <a:lnTo>
                    <a:pt x="4440" y="525"/>
                  </a:lnTo>
                  <a:lnTo>
                    <a:pt x="4441" y="237"/>
                  </a:lnTo>
                  <a:lnTo>
                    <a:pt x="4443" y="454"/>
                  </a:lnTo>
                  <a:lnTo>
                    <a:pt x="4445" y="544"/>
                  </a:lnTo>
                  <a:lnTo>
                    <a:pt x="4446" y="524"/>
                  </a:lnTo>
                  <a:lnTo>
                    <a:pt x="4447" y="484"/>
                  </a:lnTo>
                  <a:lnTo>
                    <a:pt x="4449" y="315"/>
                  </a:lnTo>
                  <a:lnTo>
                    <a:pt x="4450" y="358"/>
                  </a:lnTo>
                  <a:lnTo>
                    <a:pt x="4451" y="269"/>
                  </a:lnTo>
                  <a:lnTo>
                    <a:pt x="4453" y="389"/>
                  </a:lnTo>
                  <a:lnTo>
                    <a:pt x="4455" y="210"/>
                  </a:lnTo>
                  <a:lnTo>
                    <a:pt x="4456" y="136"/>
                  </a:lnTo>
                  <a:lnTo>
                    <a:pt x="4457" y="360"/>
                  </a:lnTo>
                  <a:lnTo>
                    <a:pt x="4459" y="374"/>
                  </a:lnTo>
                  <a:lnTo>
                    <a:pt x="4460" y="514"/>
                  </a:lnTo>
                  <a:lnTo>
                    <a:pt x="4461" y="456"/>
                  </a:lnTo>
                  <a:lnTo>
                    <a:pt x="4463" y="598"/>
                  </a:lnTo>
                  <a:lnTo>
                    <a:pt x="4465" y="471"/>
                  </a:lnTo>
                  <a:lnTo>
                    <a:pt x="4466" y="813"/>
                  </a:lnTo>
                  <a:lnTo>
                    <a:pt x="4468" y="782"/>
                  </a:lnTo>
                  <a:lnTo>
                    <a:pt x="4469" y="689"/>
                  </a:lnTo>
                  <a:lnTo>
                    <a:pt x="4470" y="510"/>
                  </a:lnTo>
                  <a:lnTo>
                    <a:pt x="4471" y="491"/>
                  </a:lnTo>
                  <a:lnTo>
                    <a:pt x="4474" y="340"/>
                  </a:lnTo>
                  <a:lnTo>
                    <a:pt x="4475" y="742"/>
                  </a:lnTo>
                  <a:lnTo>
                    <a:pt x="4476" y="600"/>
                  </a:lnTo>
                  <a:lnTo>
                    <a:pt x="4478" y="413"/>
                  </a:lnTo>
                  <a:lnTo>
                    <a:pt x="4479" y="522"/>
                  </a:lnTo>
                  <a:lnTo>
                    <a:pt x="4480" y="411"/>
                  </a:lnTo>
                  <a:lnTo>
                    <a:pt x="4482" y="590"/>
                  </a:lnTo>
                  <a:lnTo>
                    <a:pt x="4484" y="612"/>
                  </a:lnTo>
                  <a:lnTo>
                    <a:pt x="4485" y="370"/>
                  </a:lnTo>
                  <a:lnTo>
                    <a:pt x="4486" y="437"/>
                  </a:lnTo>
                  <a:lnTo>
                    <a:pt x="4488" y="506"/>
                  </a:lnTo>
                  <a:lnTo>
                    <a:pt x="4489" y="669"/>
                  </a:lnTo>
                  <a:lnTo>
                    <a:pt x="4490" y="442"/>
                  </a:lnTo>
                  <a:lnTo>
                    <a:pt x="4492" y="413"/>
                  </a:lnTo>
                  <a:lnTo>
                    <a:pt x="4494" y="355"/>
                  </a:lnTo>
                  <a:lnTo>
                    <a:pt x="4495" y="451"/>
                  </a:lnTo>
                  <a:lnTo>
                    <a:pt x="4496" y="664"/>
                  </a:lnTo>
                  <a:lnTo>
                    <a:pt x="4498" y="728"/>
                  </a:lnTo>
                  <a:lnTo>
                    <a:pt x="4499" y="577"/>
                  </a:lnTo>
                  <a:lnTo>
                    <a:pt x="4500" y="372"/>
                  </a:lnTo>
                  <a:lnTo>
                    <a:pt x="4503" y="522"/>
                  </a:lnTo>
                  <a:lnTo>
                    <a:pt x="4504" y="451"/>
                  </a:lnTo>
                  <a:lnTo>
                    <a:pt x="4505" y="430"/>
                  </a:lnTo>
                  <a:lnTo>
                    <a:pt x="4507" y="523"/>
                  </a:lnTo>
                  <a:lnTo>
                    <a:pt x="4508" y="349"/>
                  </a:lnTo>
                  <a:lnTo>
                    <a:pt x="4509" y="333"/>
                  </a:lnTo>
                  <a:lnTo>
                    <a:pt x="4510" y="355"/>
                  </a:lnTo>
                  <a:lnTo>
                    <a:pt x="4513" y="607"/>
                  </a:lnTo>
                  <a:lnTo>
                    <a:pt x="4514" y="627"/>
                  </a:lnTo>
                  <a:lnTo>
                    <a:pt x="4515" y="669"/>
                  </a:lnTo>
                  <a:lnTo>
                    <a:pt x="4517" y="622"/>
                  </a:lnTo>
                  <a:lnTo>
                    <a:pt x="4518" y="709"/>
                  </a:lnTo>
                  <a:lnTo>
                    <a:pt x="4519" y="622"/>
                  </a:lnTo>
                  <a:lnTo>
                    <a:pt x="4521" y="586"/>
                  </a:lnTo>
                  <a:lnTo>
                    <a:pt x="4523" y="552"/>
                  </a:lnTo>
                  <a:lnTo>
                    <a:pt x="4524" y="739"/>
                  </a:lnTo>
                  <a:lnTo>
                    <a:pt x="4525" y="739"/>
                  </a:lnTo>
                  <a:lnTo>
                    <a:pt x="4527" y="666"/>
                  </a:lnTo>
                  <a:lnTo>
                    <a:pt x="4528" y="652"/>
                  </a:lnTo>
                  <a:lnTo>
                    <a:pt x="4529" y="784"/>
                  </a:lnTo>
                  <a:lnTo>
                    <a:pt x="4532" y="806"/>
                  </a:lnTo>
                  <a:lnTo>
                    <a:pt x="4533" y="829"/>
                  </a:lnTo>
                  <a:lnTo>
                    <a:pt x="4534" y="854"/>
                  </a:lnTo>
                  <a:lnTo>
                    <a:pt x="4535" y="629"/>
                  </a:lnTo>
                  <a:lnTo>
                    <a:pt x="4537" y="686"/>
                  </a:lnTo>
                  <a:lnTo>
                    <a:pt x="4538" y="739"/>
                  </a:lnTo>
                  <a:lnTo>
                    <a:pt x="4539" y="931"/>
                  </a:lnTo>
                  <a:lnTo>
                    <a:pt x="4542" y="806"/>
                  </a:lnTo>
                  <a:lnTo>
                    <a:pt x="4543" y="784"/>
                  </a:lnTo>
                  <a:lnTo>
                    <a:pt x="4544" y="716"/>
                  </a:lnTo>
                  <a:lnTo>
                    <a:pt x="4546" y="806"/>
                  </a:lnTo>
                  <a:lnTo>
                    <a:pt x="4547" y="499"/>
                  </a:lnTo>
                  <a:lnTo>
                    <a:pt x="4548" y="465"/>
                  </a:lnTo>
                  <a:lnTo>
                    <a:pt x="4549" y="724"/>
                  </a:lnTo>
                  <a:lnTo>
                    <a:pt x="4552" y="803"/>
                  </a:lnTo>
                  <a:lnTo>
                    <a:pt x="4553" y="745"/>
                  </a:lnTo>
                  <a:lnTo>
                    <a:pt x="4554" y="801"/>
                  </a:lnTo>
                  <a:lnTo>
                    <a:pt x="4556" y="1042"/>
                  </a:lnTo>
                  <a:lnTo>
                    <a:pt x="4557" y="1000"/>
                  </a:lnTo>
                  <a:lnTo>
                    <a:pt x="4558" y="947"/>
                  </a:lnTo>
                  <a:lnTo>
                    <a:pt x="4561" y="1105"/>
                  </a:lnTo>
                  <a:lnTo>
                    <a:pt x="4562" y="989"/>
                  </a:lnTo>
                  <a:lnTo>
                    <a:pt x="4563" y="872"/>
                  </a:lnTo>
                  <a:lnTo>
                    <a:pt x="4564" y="883"/>
                  </a:lnTo>
                  <a:lnTo>
                    <a:pt x="4566" y="743"/>
                  </a:lnTo>
                  <a:lnTo>
                    <a:pt x="4567" y="832"/>
                  </a:lnTo>
                  <a:lnTo>
                    <a:pt x="4568" y="991"/>
                  </a:lnTo>
                  <a:lnTo>
                    <a:pt x="4571" y="790"/>
                  </a:lnTo>
                  <a:lnTo>
                    <a:pt x="4572" y="800"/>
                  </a:lnTo>
                  <a:lnTo>
                    <a:pt x="4573" y="797"/>
                  </a:lnTo>
                  <a:lnTo>
                    <a:pt x="4575" y="812"/>
                  </a:lnTo>
                  <a:lnTo>
                    <a:pt x="4576" y="784"/>
                  </a:lnTo>
                  <a:lnTo>
                    <a:pt x="4577" y="765"/>
                  </a:lnTo>
                  <a:lnTo>
                    <a:pt x="4578" y="854"/>
                  </a:lnTo>
                  <a:lnTo>
                    <a:pt x="4581" y="708"/>
                  </a:lnTo>
                  <a:lnTo>
                    <a:pt x="4582" y="599"/>
                  </a:lnTo>
                  <a:lnTo>
                    <a:pt x="4583" y="544"/>
                  </a:lnTo>
                  <a:lnTo>
                    <a:pt x="4585" y="628"/>
                  </a:lnTo>
                  <a:lnTo>
                    <a:pt x="4586" y="619"/>
                  </a:lnTo>
                  <a:lnTo>
                    <a:pt x="4587" y="619"/>
                  </a:lnTo>
                  <a:lnTo>
                    <a:pt x="4588" y="698"/>
                  </a:lnTo>
                  <a:lnTo>
                    <a:pt x="4591" y="796"/>
                  </a:lnTo>
                  <a:lnTo>
                    <a:pt x="4592" y="723"/>
                  </a:lnTo>
                  <a:lnTo>
                    <a:pt x="4593" y="656"/>
                  </a:lnTo>
                  <a:lnTo>
                    <a:pt x="4595" y="664"/>
                  </a:lnTo>
                  <a:lnTo>
                    <a:pt x="4596" y="668"/>
                  </a:lnTo>
                  <a:lnTo>
                    <a:pt x="4597" y="722"/>
                  </a:lnTo>
                  <a:lnTo>
                    <a:pt x="4600" y="828"/>
                  </a:lnTo>
                  <a:lnTo>
                    <a:pt x="4601" y="984"/>
                  </a:lnTo>
                  <a:lnTo>
                    <a:pt x="4602" y="1010"/>
                  </a:lnTo>
                  <a:lnTo>
                    <a:pt x="4603" y="1011"/>
                  </a:lnTo>
                  <a:lnTo>
                    <a:pt x="4605" y="1068"/>
                  </a:lnTo>
                  <a:lnTo>
                    <a:pt x="4606" y="987"/>
                  </a:lnTo>
                  <a:lnTo>
                    <a:pt x="4607" y="980"/>
                  </a:lnTo>
                  <a:lnTo>
                    <a:pt x="4610" y="1162"/>
                  </a:lnTo>
                  <a:lnTo>
                    <a:pt x="4611" y="1025"/>
                  </a:lnTo>
                  <a:lnTo>
                    <a:pt x="4612" y="1071"/>
                  </a:lnTo>
                  <a:lnTo>
                    <a:pt x="4614" y="860"/>
                  </a:lnTo>
                  <a:lnTo>
                    <a:pt x="4615" y="888"/>
                  </a:lnTo>
                  <a:lnTo>
                    <a:pt x="4616" y="852"/>
                  </a:lnTo>
                  <a:lnTo>
                    <a:pt x="4617" y="957"/>
                  </a:lnTo>
                  <a:lnTo>
                    <a:pt x="4620" y="900"/>
                  </a:lnTo>
                  <a:lnTo>
                    <a:pt x="4621" y="917"/>
                  </a:lnTo>
                  <a:lnTo>
                    <a:pt x="4622" y="875"/>
                  </a:lnTo>
                  <a:lnTo>
                    <a:pt x="4624" y="932"/>
                  </a:lnTo>
                  <a:lnTo>
                    <a:pt x="4625" y="756"/>
                  </a:lnTo>
                  <a:lnTo>
                    <a:pt x="4626" y="625"/>
                  </a:lnTo>
                  <a:lnTo>
                    <a:pt x="4627" y="755"/>
                  </a:lnTo>
                  <a:lnTo>
                    <a:pt x="4630" y="557"/>
                  </a:lnTo>
                  <a:lnTo>
                    <a:pt x="4631" y="508"/>
                  </a:lnTo>
                  <a:lnTo>
                    <a:pt x="4632" y="741"/>
                  </a:lnTo>
                  <a:lnTo>
                    <a:pt x="4634" y="509"/>
                  </a:lnTo>
                  <a:lnTo>
                    <a:pt x="4635" y="367"/>
                  </a:lnTo>
                  <a:lnTo>
                    <a:pt x="4636" y="619"/>
                  </a:lnTo>
                  <a:lnTo>
                    <a:pt x="4639" y="586"/>
                  </a:lnTo>
                  <a:lnTo>
                    <a:pt x="4640" y="539"/>
                  </a:lnTo>
                  <a:lnTo>
                    <a:pt x="4641" y="572"/>
                  </a:lnTo>
                  <a:lnTo>
                    <a:pt x="4642" y="422"/>
                  </a:lnTo>
                  <a:lnTo>
                    <a:pt x="4644" y="535"/>
                  </a:lnTo>
                  <a:lnTo>
                    <a:pt x="4645" y="532"/>
                  </a:lnTo>
                  <a:lnTo>
                    <a:pt x="4646" y="642"/>
                  </a:lnTo>
                  <a:lnTo>
                    <a:pt x="4649" y="795"/>
                  </a:lnTo>
                  <a:lnTo>
                    <a:pt x="4650" y="605"/>
                  </a:lnTo>
                  <a:lnTo>
                    <a:pt x="4651" y="467"/>
                  </a:lnTo>
                  <a:lnTo>
                    <a:pt x="4653" y="447"/>
                  </a:lnTo>
                  <a:lnTo>
                    <a:pt x="4654" y="632"/>
                  </a:lnTo>
                  <a:lnTo>
                    <a:pt x="4655" y="687"/>
                  </a:lnTo>
                  <a:lnTo>
                    <a:pt x="4656" y="651"/>
                  </a:lnTo>
                  <a:lnTo>
                    <a:pt x="4659" y="567"/>
                  </a:lnTo>
                  <a:lnTo>
                    <a:pt x="4660" y="557"/>
                  </a:lnTo>
                  <a:lnTo>
                    <a:pt x="4661" y="552"/>
                  </a:lnTo>
                  <a:lnTo>
                    <a:pt x="4663" y="564"/>
                  </a:lnTo>
                  <a:lnTo>
                    <a:pt x="4664" y="516"/>
                  </a:lnTo>
                  <a:lnTo>
                    <a:pt x="4665" y="550"/>
                  </a:lnTo>
                  <a:lnTo>
                    <a:pt x="4668" y="677"/>
                  </a:lnTo>
                  <a:lnTo>
                    <a:pt x="4669" y="516"/>
                  </a:lnTo>
                  <a:lnTo>
                    <a:pt x="4670" y="482"/>
                  </a:lnTo>
                  <a:lnTo>
                    <a:pt x="4671" y="471"/>
                  </a:lnTo>
                  <a:lnTo>
                    <a:pt x="4673" y="446"/>
                  </a:lnTo>
                  <a:lnTo>
                    <a:pt x="4674" y="404"/>
                  </a:lnTo>
                  <a:lnTo>
                    <a:pt x="4675" y="389"/>
                  </a:lnTo>
                  <a:lnTo>
                    <a:pt x="4678" y="494"/>
                  </a:lnTo>
                  <a:lnTo>
                    <a:pt x="4679" y="538"/>
                  </a:lnTo>
                  <a:lnTo>
                    <a:pt x="4680" y="431"/>
                  </a:lnTo>
                  <a:lnTo>
                    <a:pt x="4681" y="450"/>
                  </a:lnTo>
                  <a:lnTo>
                    <a:pt x="4683" y="583"/>
                  </a:lnTo>
                  <a:lnTo>
                    <a:pt x="4684" y="600"/>
                  </a:lnTo>
                  <a:lnTo>
                    <a:pt x="4685" y="472"/>
                  </a:lnTo>
                  <a:lnTo>
                    <a:pt x="4688" y="432"/>
                  </a:lnTo>
                  <a:lnTo>
                    <a:pt x="4689" y="444"/>
                  </a:lnTo>
                  <a:lnTo>
                    <a:pt x="4690" y="379"/>
                  </a:lnTo>
                  <a:lnTo>
                    <a:pt x="4692" y="447"/>
                  </a:lnTo>
                  <a:lnTo>
                    <a:pt x="4693" y="597"/>
                  </a:lnTo>
                  <a:lnTo>
                    <a:pt x="4694" y="654"/>
                  </a:lnTo>
                  <a:lnTo>
                    <a:pt x="4696" y="433"/>
                  </a:lnTo>
                  <a:lnTo>
                    <a:pt x="4698" y="485"/>
                  </a:lnTo>
                  <a:lnTo>
                    <a:pt x="4699" y="625"/>
                  </a:lnTo>
                  <a:lnTo>
                    <a:pt x="4700" y="617"/>
                  </a:lnTo>
                  <a:lnTo>
                    <a:pt x="4702" y="608"/>
                  </a:lnTo>
                  <a:lnTo>
                    <a:pt x="4703" y="475"/>
                  </a:lnTo>
                  <a:lnTo>
                    <a:pt x="4704" y="632"/>
                  </a:lnTo>
                  <a:lnTo>
                    <a:pt x="4707" y="405"/>
                  </a:lnTo>
                  <a:lnTo>
                    <a:pt x="4708" y="462"/>
                  </a:lnTo>
                  <a:lnTo>
                    <a:pt x="4709" y="354"/>
                  </a:lnTo>
                  <a:lnTo>
                    <a:pt x="4710" y="297"/>
                  </a:lnTo>
                  <a:lnTo>
                    <a:pt x="4712" y="319"/>
                  </a:lnTo>
                  <a:lnTo>
                    <a:pt x="4713" y="442"/>
                  </a:lnTo>
                  <a:lnTo>
                    <a:pt x="4714" y="447"/>
                  </a:lnTo>
                  <a:lnTo>
                    <a:pt x="4717" y="434"/>
                  </a:lnTo>
                  <a:lnTo>
                    <a:pt x="4718" y="471"/>
                  </a:lnTo>
                  <a:lnTo>
                    <a:pt x="4719" y="607"/>
                  </a:lnTo>
                  <a:lnTo>
                    <a:pt x="4720" y="412"/>
                  </a:lnTo>
                  <a:lnTo>
                    <a:pt x="4722" y="319"/>
                  </a:lnTo>
                  <a:lnTo>
                    <a:pt x="4723" y="397"/>
                  </a:lnTo>
                  <a:lnTo>
                    <a:pt x="4725" y="408"/>
                  </a:lnTo>
                  <a:lnTo>
                    <a:pt x="4727" y="321"/>
                  </a:lnTo>
                  <a:lnTo>
                    <a:pt x="4728" y="355"/>
                  </a:lnTo>
                  <a:lnTo>
                    <a:pt x="4729" y="349"/>
                  </a:lnTo>
                  <a:lnTo>
                    <a:pt x="4731" y="191"/>
                  </a:lnTo>
                  <a:lnTo>
                    <a:pt x="4732" y="436"/>
                  </a:lnTo>
                  <a:lnTo>
                    <a:pt x="4733" y="591"/>
                  </a:lnTo>
                  <a:lnTo>
                    <a:pt x="4735" y="515"/>
                  </a:lnTo>
                  <a:lnTo>
                    <a:pt x="4737" y="336"/>
                  </a:lnTo>
                  <a:lnTo>
                    <a:pt x="4738" y="500"/>
                  </a:lnTo>
                  <a:lnTo>
                    <a:pt x="4739" y="667"/>
                  </a:lnTo>
                  <a:lnTo>
                    <a:pt x="4741" y="926"/>
                  </a:lnTo>
                  <a:lnTo>
                    <a:pt x="4742" y="427"/>
                  </a:lnTo>
                  <a:lnTo>
                    <a:pt x="4743" y="366"/>
                  </a:lnTo>
                  <a:lnTo>
                    <a:pt x="4746" y="348"/>
                  </a:lnTo>
                  <a:lnTo>
                    <a:pt x="4747" y="376"/>
                  </a:lnTo>
                  <a:lnTo>
                    <a:pt x="4748" y="302"/>
                  </a:lnTo>
                  <a:lnTo>
                    <a:pt x="4749" y="475"/>
                  </a:lnTo>
                  <a:lnTo>
                    <a:pt x="4751" y="184"/>
                  </a:lnTo>
                  <a:lnTo>
                    <a:pt x="4752" y="263"/>
                  </a:lnTo>
                  <a:lnTo>
                    <a:pt x="4754" y="239"/>
                  </a:lnTo>
                  <a:lnTo>
                    <a:pt x="4756" y="469"/>
                  </a:lnTo>
                  <a:lnTo>
                    <a:pt x="4757" y="739"/>
                  </a:lnTo>
                  <a:lnTo>
                    <a:pt x="4758" y="501"/>
                  </a:lnTo>
                  <a:lnTo>
                    <a:pt x="4759" y="343"/>
                  </a:lnTo>
                  <a:lnTo>
                    <a:pt x="4761" y="448"/>
                  </a:lnTo>
                  <a:lnTo>
                    <a:pt x="4762" y="566"/>
                  </a:lnTo>
                  <a:lnTo>
                    <a:pt x="4764" y="541"/>
                  </a:lnTo>
                  <a:lnTo>
                    <a:pt x="4766" y="657"/>
                  </a:lnTo>
                  <a:lnTo>
                    <a:pt x="4767" y="463"/>
                  </a:lnTo>
                  <a:lnTo>
                    <a:pt x="4768" y="354"/>
                  </a:lnTo>
                  <a:lnTo>
                    <a:pt x="4770" y="376"/>
                  </a:lnTo>
                  <a:lnTo>
                    <a:pt x="4771" y="512"/>
                  </a:lnTo>
                  <a:lnTo>
                    <a:pt x="4772" y="509"/>
                  </a:lnTo>
                  <a:lnTo>
                    <a:pt x="4774" y="509"/>
                  </a:lnTo>
                  <a:lnTo>
                    <a:pt x="4776" y="822"/>
                  </a:lnTo>
                  <a:lnTo>
                    <a:pt x="4777" y="683"/>
                  </a:lnTo>
                  <a:lnTo>
                    <a:pt x="4778" y="537"/>
                  </a:lnTo>
                  <a:lnTo>
                    <a:pt x="4780" y="454"/>
                  </a:lnTo>
                  <a:lnTo>
                    <a:pt x="4781" y="461"/>
                  </a:lnTo>
                  <a:lnTo>
                    <a:pt x="4783" y="586"/>
                  </a:lnTo>
                  <a:lnTo>
                    <a:pt x="4785" y="518"/>
                  </a:lnTo>
                  <a:lnTo>
                    <a:pt x="4786" y="494"/>
                  </a:lnTo>
                  <a:lnTo>
                    <a:pt x="4787" y="572"/>
                  </a:lnTo>
                  <a:lnTo>
                    <a:pt x="4788" y="591"/>
                  </a:lnTo>
                  <a:lnTo>
                    <a:pt x="4790" y="666"/>
                  </a:lnTo>
                  <a:lnTo>
                    <a:pt x="4791" y="628"/>
                  </a:lnTo>
                  <a:lnTo>
                    <a:pt x="4793" y="425"/>
                  </a:lnTo>
                  <a:lnTo>
                    <a:pt x="4795" y="496"/>
                  </a:lnTo>
                  <a:lnTo>
                    <a:pt x="4796" y="525"/>
                  </a:lnTo>
                  <a:lnTo>
                    <a:pt x="4797" y="638"/>
                  </a:lnTo>
                  <a:lnTo>
                    <a:pt x="4799" y="421"/>
                  </a:lnTo>
                  <a:lnTo>
                    <a:pt x="4800" y="639"/>
                  </a:lnTo>
                  <a:lnTo>
                    <a:pt x="4801" y="809"/>
                  </a:lnTo>
                  <a:lnTo>
                    <a:pt x="4803" y="916"/>
                  </a:lnTo>
                  <a:lnTo>
                    <a:pt x="4805" y="773"/>
                  </a:lnTo>
                  <a:lnTo>
                    <a:pt x="4806" y="771"/>
                  </a:lnTo>
                  <a:lnTo>
                    <a:pt x="4807" y="717"/>
                  </a:lnTo>
                  <a:lnTo>
                    <a:pt x="4809" y="714"/>
                  </a:lnTo>
                  <a:lnTo>
                    <a:pt x="4810" y="669"/>
                  </a:lnTo>
                  <a:lnTo>
                    <a:pt x="4812" y="842"/>
                  </a:lnTo>
                  <a:lnTo>
                    <a:pt x="4813" y="877"/>
                  </a:lnTo>
                  <a:lnTo>
                    <a:pt x="4815" y="560"/>
                  </a:lnTo>
                  <a:lnTo>
                    <a:pt x="4816" y="566"/>
                  </a:lnTo>
                  <a:lnTo>
                    <a:pt x="4817" y="617"/>
                  </a:lnTo>
                  <a:lnTo>
                    <a:pt x="4819" y="631"/>
                  </a:lnTo>
                  <a:lnTo>
                    <a:pt x="4820" y="534"/>
                  </a:lnTo>
                  <a:lnTo>
                    <a:pt x="4822" y="801"/>
                  </a:lnTo>
                  <a:lnTo>
                    <a:pt x="4824" y="535"/>
                  </a:lnTo>
                  <a:lnTo>
                    <a:pt x="4825" y="669"/>
                  </a:lnTo>
                  <a:lnTo>
                    <a:pt x="4826" y="561"/>
                  </a:lnTo>
                  <a:lnTo>
                    <a:pt x="4827" y="522"/>
                  </a:lnTo>
                  <a:lnTo>
                    <a:pt x="4829" y="486"/>
                  </a:lnTo>
                  <a:lnTo>
                    <a:pt x="4830" y="472"/>
                  </a:lnTo>
                  <a:lnTo>
                    <a:pt x="4832" y="626"/>
                  </a:lnTo>
                  <a:lnTo>
                    <a:pt x="4834" y="862"/>
                  </a:lnTo>
                  <a:lnTo>
                    <a:pt x="4835" y="878"/>
                  </a:lnTo>
                  <a:lnTo>
                    <a:pt x="4836" y="786"/>
                  </a:lnTo>
                  <a:lnTo>
                    <a:pt x="4838" y="666"/>
                  </a:lnTo>
                  <a:lnTo>
                    <a:pt x="4839" y="519"/>
                  </a:lnTo>
                  <a:lnTo>
                    <a:pt x="4841" y="637"/>
                  </a:lnTo>
                  <a:lnTo>
                    <a:pt x="4842" y="616"/>
                  </a:lnTo>
                  <a:lnTo>
                    <a:pt x="4844" y="803"/>
                  </a:lnTo>
                  <a:lnTo>
                    <a:pt x="4845" y="752"/>
                  </a:lnTo>
                  <a:lnTo>
                    <a:pt x="4846" y="787"/>
                  </a:lnTo>
                  <a:lnTo>
                    <a:pt x="4848" y="641"/>
                  </a:lnTo>
                  <a:lnTo>
                    <a:pt x="4849" y="878"/>
                  </a:lnTo>
                  <a:lnTo>
                    <a:pt x="4851" y="698"/>
                  </a:lnTo>
                  <a:lnTo>
                    <a:pt x="4852" y="833"/>
                  </a:lnTo>
                  <a:lnTo>
                    <a:pt x="4854" y="879"/>
                  </a:lnTo>
                  <a:lnTo>
                    <a:pt x="4855" y="898"/>
                  </a:lnTo>
                  <a:lnTo>
                    <a:pt x="4856" y="891"/>
                  </a:lnTo>
                  <a:lnTo>
                    <a:pt x="4858" y="739"/>
                  </a:lnTo>
                  <a:lnTo>
                    <a:pt x="4859" y="982"/>
                  </a:lnTo>
                  <a:lnTo>
                    <a:pt x="4861" y="813"/>
                  </a:lnTo>
                  <a:lnTo>
                    <a:pt x="4863" y="673"/>
                  </a:lnTo>
                  <a:lnTo>
                    <a:pt x="4864" y="778"/>
                  </a:lnTo>
                  <a:lnTo>
                    <a:pt x="4865" y="810"/>
                  </a:lnTo>
                  <a:lnTo>
                    <a:pt x="4866" y="758"/>
                  </a:lnTo>
                  <a:lnTo>
                    <a:pt x="4868" y="786"/>
                  </a:lnTo>
                  <a:lnTo>
                    <a:pt x="4870" y="584"/>
                  </a:lnTo>
                  <a:lnTo>
                    <a:pt x="4871" y="709"/>
                  </a:lnTo>
                  <a:lnTo>
                    <a:pt x="4873" y="683"/>
                  </a:lnTo>
                  <a:lnTo>
                    <a:pt x="4874" y="748"/>
                  </a:lnTo>
                  <a:lnTo>
                    <a:pt x="4875" y="870"/>
                  </a:lnTo>
                  <a:lnTo>
                    <a:pt x="4877" y="728"/>
                  </a:lnTo>
                  <a:lnTo>
                    <a:pt x="4878" y="734"/>
                  </a:lnTo>
                  <a:lnTo>
                    <a:pt x="4880" y="802"/>
                  </a:lnTo>
                  <a:lnTo>
                    <a:pt x="4881" y="850"/>
                  </a:lnTo>
                  <a:lnTo>
                    <a:pt x="4883" y="856"/>
                  </a:lnTo>
                  <a:lnTo>
                    <a:pt x="4884" y="872"/>
                  </a:lnTo>
                  <a:lnTo>
                    <a:pt x="4885" y="858"/>
                  </a:lnTo>
                  <a:lnTo>
                    <a:pt x="4887" y="910"/>
                  </a:lnTo>
                  <a:lnTo>
                    <a:pt x="4888" y="872"/>
                  </a:lnTo>
                  <a:lnTo>
                    <a:pt x="4890" y="919"/>
                  </a:lnTo>
                  <a:lnTo>
                    <a:pt x="4892" y="916"/>
                  </a:lnTo>
                  <a:lnTo>
                    <a:pt x="4893" y="891"/>
                  </a:lnTo>
                  <a:lnTo>
                    <a:pt x="4894" y="888"/>
                  </a:lnTo>
                  <a:lnTo>
                    <a:pt x="4895" y="956"/>
                  </a:lnTo>
                  <a:lnTo>
                    <a:pt x="4897" y="952"/>
                  </a:lnTo>
                  <a:lnTo>
                    <a:pt x="4899" y="809"/>
                  </a:lnTo>
                  <a:lnTo>
                    <a:pt x="4900" y="858"/>
                  </a:lnTo>
                  <a:lnTo>
                    <a:pt x="4902" y="674"/>
                  </a:lnTo>
                  <a:lnTo>
                    <a:pt x="4903" y="709"/>
                  </a:lnTo>
                  <a:lnTo>
                    <a:pt x="4904" y="612"/>
                  </a:lnTo>
                  <a:lnTo>
                    <a:pt x="4905" y="401"/>
                  </a:lnTo>
                  <a:lnTo>
                    <a:pt x="4907" y="482"/>
                  </a:lnTo>
                  <a:lnTo>
                    <a:pt x="4909" y="616"/>
                  </a:lnTo>
                  <a:lnTo>
                    <a:pt x="4910" y="723"/>
                  </a:lnTo>
                  <a:lnTo>
                    <a:pt x="4912" y="714"/>
                  </a:lnTo>
                  <a:lnTo>
                    <a:pt x="4913" y="695"/>
                  </a:lnTo>
                  <a:lnTo>
                    <a:pt x="4914" y="435"/>
                  </a:lnTo>
                  <a:lnTo>
                    <a:pt x="4916" y="451"/>
                  </a:lnTo>
                  <a:lnTo>
                    <a:pt x="4917" y="819"/>
                  </a:lnTo>
                  <a:lnTo>
                    <a:pt x="4919" y="648"/>
                  </a:lnTo>
                  <a:lnTo>
                    <a:pt x="4920" y="636"/>
                  </a:lnTo>
                  <a:lnTo>
                    <a:pt x="4922" y="738"/>
                  </a:lnTo>
                  <a:lnTo>
                    <a:pt x="4923" y="751"/>
                  </a:lnTo>
                  <a:lnTo>
                    <a:pt x="4924" y="765"/>
                  </a:lnTo>
                  <a:lnTo>
                    <a:pt x="4926" y="626"/>
                  </a:lnTo>
                  <a:lnTo>
                    <a:pt x="4928" y="648"/>
                  </a:lnTo>
                  <a:lnTo>
                    <a:pt x="4929" y="784"/>
                  </a:lnTo>
                  <a:lnTo>
                    <a:pt x="4931" y="792"/>
                  </a:lnTo>
                  <a:lnTo>
                    <a:pt x="4932" y="824"/>
                  </a:lnTo>
                  <a:lnTo>
                    <a:pt x="4933" y="873"/>
                  </a:lnTo>
                  <a:lnTo>
                    <a:pt x="4934" y="977"/>
                  </a:lnTo>
                  <a:lnTo>
                    <a:pt x="4936" y="1112"/>
                  </a:lnTo>
                  <a:lnTo>
                    <a:pt x="4938" y="887"/>
                  </a:lnTo>
                  <a:lnTo>
                    <a:pt x="4939" y="937"/>
                  </a:lnTo>
                  <a:lnTo>
                    <a:pt x="4941" y="930"/>
                  </a:lnTo>
                  <a:lnTo>
                    <a:pt x="4942" y="873"/>
                  </a:lnTo>
                  <a:lnTo>
                    <a:pt x="4943" y="783"/>
                  </a:lnTo>
                  <a:lnTo>
                    <a:pt x="4944" y="939"/>
                  </a:lnTo>
                  <a:lnTo>
                    <a:pt x="4947" y="917"/>
                  </a:lnTo>
                  <a:lnTo>
                    <a:pt x="4948" y="679"/>
                  </a:lnTo>
                  <a:lnTo>
                    <a:pt x="4949" y="820"/>
                  </a:lnTo>
                  <a:lnTo>
                    <a:pt x="4951" y="782"/>
                  </a:lnTo>
                  <a:lnTo>
                    <a:pt x="4952" y="660"/>
                  </a:lnTo>
                  <a:lnTo>
                    <a:pt x="4953" y="651"/>
                  </a:lnTo>
                  <a:lnTo>
                    <a:pt x="4955" y="521"/>
                  </a:lnTo>
                  <a:lnTo>
                    <a:pt x="4957" y="659"/>
                  </a:lnTo>
                  <a:lnTo>
                    <a:pt x="4958" y="530"/>
                  </a:lnTo>
                  <a:lnTo>
                    <a:pt x="4959" y="634"/>
                  </a:lnTo>
                  <a:lnTo>
                    <a:pt x="4961" y="704"/>
                  </a:lnTo>
                  <a:lnTo>
                    <a:pt x="4962" y="467"/>
                  </a:lnTo>
                  <a:lnTo>
                    <a:pt x="4963" y="720"/>
                  </a:lnTo>
                  <a:lnTo>
                    <a:pt x="4965" y="548"/>
                  </a:lnTo>
                  <a:lnTo>
                    <a:pt x="4967" y="598"/>
                  </a:lnTo>
                  <a:lnTo>
                    <a:pt x="4968" y="782"/>
                  </a:lnTo>
                  <a:lnTo>
                    <a:pt x="4970" y="732"/>
                  </a:lnTo>
                  <a:lnTo>
                    <a:pt x="4971" y="527"/>
                  </a:lnTo>
                  <a:lnTo>
                    <a:pt x="4972" y="642"/>
                  </a:lnTo>
                  <a:lnTo>
                    <a:pt x="4973" y="603"/>
                  </a:lnTo>
                  <a:lnTo>
                    <a:pt x="4976" y="618"/>
                  </a:lnTo>
                  <a:lnTo>
                    <a:pt x="4977" y="533"/>
                  </a:lnTo>
                  <a:lnTo>
                    <a:pt x="4978" y="521"/>
                  </a:lnTo>
                  <a:lnTo>
                    <a:pt x="4980" y="513"/>
                  </a:lnTo>
                  <a:lnTo>
                    <a:pt x="4981" y="505"/>
                  </a:lnTo>
                  <a:lnTo>
                    <a:pt x="4982" y="320"/>
                  </a:lnTo>
                  <a:lnTo>
                    <a:pt x="4983" y="471"/>
                  </a:lnTo>
                  <a:lnTo>
                    <a:pt x="4986" y="393"/>
                  </a:lnTo>
                  <a:lnTo>
                    <a:pt x="4987" y="518"/>
                  </a:lnTo>
                  <a:lnTo>
                    <a:pt x="4988" y="571"/>
                  </a:lnTo>
                  <a:lnTo>
                    <a:pt x="4990" y="405"/>
                  </a:lnTo>
                  <a:lnTo>
                    <a:pt x="4991" y="579"/>
                  </a:lnTo>
                  <a:lnTo>
                    <a:pt x="4992" y="504"/>
                  </a:lnTo>
                  <a:lnTo>
                    <a:pt x="4994" y="702"/>
                  </a:lnTo>
                  <a:lnTo>
                    <a:pt x="4996" y="354"/>
                  </a:lnTo>
                  <a:lnTo>
                    <a:pt x="4997" y="757"/>
                  </a:lnTo>
                  <a:lnTo>
                    <a:pt x="4998" y="782"/>
                  </a:lnTo>
                  <a:lnTo>
                    <a:pt x="5000" y="882"/>
                  </a:lnTo>
                  <a:lnTo>
                    <a:pt x="5001" y="720"/>
                  </a:lnTo>
                  <a:lnTo>
                    <a:pt x="5002" y="544"/>
                  </a:lnTo>
                  <a:lnTo>
                    <a:pt x="5005" y="661"/>
                  </a:lnTo>
                  <a:lnTo>
                    <a:pt x="5006" y="500"/>
                  </a:lnTo>
                  <a:lnTo>
                    <a:pt x="5007" y="360"/>
                  </a:lnTo>
                  <a:lnTo>
                    <a:pt x="5009" y="408"/>
                  </a:lnTo>
                  <a:lnTo>
                    <a:pt x="5010" y="548"/>
                  </a:lnTo>
                  <a:lnTo>
                    <a:pt x="5011" y="551"/>
                  </a:lnTo>
                  <a:lnTo>
                    <a:pt x="5012" y="635"/>
                  </a:lnTo>
                  <a:lnTo>
                    <a:pt x="5015" y="583"/>
                  </a:lnTo>
                  <a:lnTo>
                    <a:pt x="5016" y="344"/>
                  </a:lnTo>
                  <a:lnTo>
                    <a:pt x="5017" y="345"/>
                  </a:lnTo>
                  <a:lnTo>
                    <a:pt x="5019" y="352"/>
                  </a:lnTo>
                  <a:lnTo>
                    <a:pt x="5020" y="340"/>
                  </a:lnTo>
                  <a:lnTo>
                    <a:pt x="5021" y="131"/>
                  </a:lnTo>
                  <a:lnTo>
                    <a:pt x="5023" y="211"/>
                  </a:lnTo>
                  <a:lnTo>
                    <a:pt x="5025" y="243"/>
                  </a:lnTo>
                  <a:lnTo>
                    <a:pt x="5026" y="431"/>
                  </a:lnTo>
                  <a:lnTo>
                    <a:pt x="5027" y="346"/>
                  </a:lnTo>
                  <a:lnTo>
                    <a:pt x="5029" y="327"/>
                  </a:lnTo>
                  <a:lnTo>
                    <a:pt x="5030" y="385"/>
                  </a:lnTo>
                  <a:lnTo>
                    <a:pt x="5031" y="401"/>
                  </a:lnTo>
                  <a:lnTo>
                    <a:pt x="5034" y="369"/>
                  </a:lnTo>
                  <a:lnTo>
                    <a:pt x="5035" y="483"/>
                  </a:lnTo>
                  <a:lnTo>
                    <a:pt x="5036" y="616"/>
                  </a:lnTo>
                  <a:lnTo>
                    <a:pt x="5037" y="678"/>
                  </a:lnTo>
                  <a:lnTo>
                    <a:pt x="5039" y="577"/>
                  </a:lnTo>
                  <a:lnTo>
                    <a:pt x="5040" y="678"/>
                  </a:lnTo>
                  <a:lnTo>
                    <a:pt x="5041" y="703"/>
                  </a:lnTo>
                  <a:lnTo>
                    <a:pt x="5044" y="549"/>
                  </a:lnTo>
                  <a:lnTo>
                    <a:pt x="5045" y="607"/>
                  </a:lnTo>
                  <a:lnTo>
                    <a:pt x="5046" y="566"/>
                  </a:lnTo>
                  <a:lnTo>
                    <a:pt x="5048" y="490"/>
                  </a:lnTo>
                  <a:lnTo>
                    <a:pt x="5049" y="593"/>
                  </a:lnTo>
                  <a:lnTo>
                    <a:pt x="5050" y="459"/>
                  </a:lnTo>
                  <a:lnTo>
                    <a:pt x="5051" y="634"/>
                  </a:lnTo>
                  <a:lnTo>
                    <a:pt x="5054" y="693"/>
                  </a:lnTo>
                  <a:lnTo>
                    <a:pt x="5055" y="831"/>
                  </a:lnTo>
                  <a:lnTo>
                    <a:pt x="5056" y="970"/>
                  </a:lnTo>
                  <a:lnTo>
                    <a:pt x="5058" y="974"/>
                  </a:lnTo>
                  <a:lnTo>
                    <a:pt x="5059" y="735"/>
                  </a:lnTo>
                  <a:lnTo>
                    <a:pt x="5060" y="687"/>
                  </a:lnTo>
                  <a:lnTo>
                    <a:pt x="5063" y="668"/>
                  </a:lnTo>
                  <a:lnTo>
                    <a:pt x="5064" y="603"/>
                  </a:lnTo>
                  <a:lnTo>
                    <a:pt x="5065" y="463"/>
                  </a:lnTo>
                  <a:lnTo>
                    <a:pt x="5066" y="509"/>
                  </a:lnTo>
                  <a:lnTo>
                    <a:pt x="5068" y="531"/>
                  </a:lnTo>
                  <a:lnTo>
                    <a:pt x="5069" y="649"/>
                  </a:lnTo>
                  <a:lnTo>
                    <a:pt x="5070" y="493"/>
                  </a:lnTo>
                  <a:lnTo>
                    <a:pt x="5073" y="606"/>
                  </a:lnTo>
                  <a:lnTo>
                    <a:pt x="5074" y="571"/>
                  </a:lnTo>
                  <a:lnTo>
                    <a:pt x="5075" y="735"/>
                  </a:lnTo>
                  <a:lnTo>
                    <a:pt x="5076" y="628"/>
                  </a:lnTo>
                  <a:lnTo>
                    <a:pt x="5078" y="804"/>
                  </a:lnTo>
                  <a:lnTo>
                    <a:pt x="5079" y="712"/>
                  </a:lnTo>
                  <a:lnTo>
                    <a:pt x="5080" y="685"/>
                  </a:lnTo>
                  <a:lnTo>
                    <a:pt x="5083" y="718"/>
                  </a:lnTo>
                  <a:lnTo>
                    <a:pt x="5084" y="794"/>
                  </a:lnTo>
                  <a:lnTo>
                    <a:pt x="5085" y="641"/>
                  </a:lnTo>
                  <a:lnTo>
                    <a:pt x="5087" y="687"/>
                  </a:lnTo>
                  <a:lnTo>
                    <a:pt x="5088" y="807"/>
                  </a:lnTo>
                  <a:lnTo>
                    <a:pt x="5089" y="775"/>
                  </a:lnTo>
                  <a:lnTo>
                    <a:pt x="5090" y="778"/>
                  </a:lnTo>
                  <a:lnTo>
                    <a:pt x="5093" y="829"/>
                  </a:lnTo>
                  <a:lnTo>
                    <a:pt x="5094" y="744"/>
                  </a:lnTo>
                  <a:lnTo>
                    <a:pt x="5095" y="879"/>
                  </a:lnTo>
                  <a:lnTo>
                    <a:pt x="5097" y="806"/>
                  </a:lnTo>
                  <a:lnTo>
                    <a:pt x="5098" y="767"/>
                  </a:lnTo>
                  <a:lnTo>
                    <a:pt x="5099" y="624"/>
                  </a:lnTo>
                  <a:lnTo>
                    <a:pt x="5102" y="718"/>
                  </a:lnTo>
                  <a:lnTo>
                    <a:pt x="5103" y="705"/>
                  </a:lnTo>
                  <a:lnTo>
                    <a:pt x="5104" y="785"/>
                  </a:lnTo>
                  <a:lnTo>
                    <a:pt x="5105" y="637"/>
                  </a:lnTo>
                  <a:lnTo>
                    <a:pt x="5107" y="703"/>
                  </a:lnTo>
                  <a:lnTo>
                    <a:pt x="5108" y="627"/>
                  </a:lnTo>
                  <a:lnTo>
                    <a:pt x="5109" y="416"/>
                  </a:lnTo>
                  <a:lnTo>
                    <a:pt x="5112" y="498"/>
                  </a:lnTo>
                  <a:lnTo>
                    <a:pt x="5113" y="444"/>
                  </a:lnTo>
                  <a:lnTo>
                    <a:pt x="5114" y="347"/>
                  </a:lnTo>
                  <a:lnTo>
                    <a:pt x="5115" y="558"/>
                  </a:lnTo>
                  <a:lnTo>
                    <a:pt x="5117" y="542"/>
                  </a:lnTo>
                  <a:lnTo>
                    <a:pt x="5118" y="680"/>
                  </a:lnTo>
                  <a:lnTo>
                    <a:pt x="5119" y="586"/>
                  </a:lnTo>
                  <a:lnTo>
                    <a:pt x="5122" y="563"/>
                  </a:lnTo>
                  <a:lnTo>
                    <a:pt x="5123" y="588"/>
                  </a:lnTo>
                  <a:lnTo>
                    <a:pt x="5124" y="619"/>
                  </a:lnTo>
                  <a:lnTo>
                    <a:pt x="5126" y="923"/>
                  </a:lnTo>
                  <a:lnTo>
                    <a:pt x="5127" y="595"/>
                  </a:lnTo>
                  <a:lnTo>
                    <a:pt x="5128" y="612"/>
                  </a:lnTo>
                  <a:lnTo>
                    <a:pt x="5129" y="524"/>
                  </a:lnTo>
                  <a:lnTo>
                    <a:pt x="5132" y="587"/>
                  </a:lnTo>
                  <a:lnTo>
                    <a:pt x="5133" y="763"/>
                  </a:lnTo>
                  <a:lnTo>
                    <a:pt x="5134" y="665"/>
                  </a:lnTo>
                  <a:lnTo>
                    <a:pt x="5136" y="794"/>
                  </a:lnTo>
                  <a:lnTo>
                    <a:pt x="5137" y="807"/>
                  </a:lnTo>
                  <a:lnTo>
                    <a:pt x="5138" y="698"/>
                  </a:lnTo>
                  <a:lnTo>
                    <a:pt x="5141" y="685"/>
                  </a:lnTo>
                  <a:lnTo>
                    <a:pt x="5142" y="829"/>
                  </a:lnTo>
                  <a:lnTo>
                    <a:pt x="5143" y="894"/>
                  </a:lnTo>
                  <a:lnTo>
                    <a:pt x="5144" y="690"/>
                  </a:lnTo>
                  <a:lnTo>
                    <a:pt x="5146" y="801"/>
                  </a:lnTo>
                  <a:lnTo>
                    <a:pt x="5147" y="824"/>
                  </a:lnTo>
                  <a:lnTo>
                    <a:pt x="5148" y="696"/>
                  </a:lnTo>
                  <a:lnTo>
                    <a:pt x="5151" y="638"/>
                  </a:lnTo>
                  <a:lnTo>
                    <a:pt x="5152" y="726"/>
                  </a:lnTo>
                  <a:lnTo>
                    <a:pt x="5153" y="775"/>
                  </a:lnTo>
                  <a:lnTo>
                    <a:pt x="5155" y="700"/>
                  </a:lnTo>
                  <a:lnTo>
                    <a:pt x="5156" y="781"/>
                  </a:lnTo>
                  <a:lnTo>
                    <a:pt x="5157" y="558"/>
                  </a:lnTo>
                  <a:lnTo>
                    <a:pt x="5158" y="720"/>
                  </a:lnTo>
                  <a:lnTo>
                    <a:pt x="5161" y="572"/>
                  </a:lnTo>
                  <a:lnTo>
                    <a:pt x="5162" y="914"/>
                  </a:lnTo>
                  <a:lnTo>
                    <a:pt x="5163" y="821"/>
                  </a:lnTo>
                  <a:lnTo>
                    <a:pt x="5165" y="638"/>
                  </a:lnTo>
                  <a:lnTo>
                    <a:pt x="5166" y="712"/>
                  </a:lnTo>
                  <a:lnTo>
                    <a:pt x="5167" y="835"/>
                  </a:lnTo>
                  <a:lnTo>
                    <a:pt x="5168" y="809"/>
                  </a:lnTo>
                  <a:lnTo>
                    <a:pt x="5171" y="851"/>
                  </a:lnTo>
                  <a:lnTo>
                    <a:pt x="5172" y="732"/>
                  </a:lnTo>
                  <a:lnTo>
                    <a:pt x="5173" y="749"/>
                  </a:lnTo>
                  <a:lnTo>
                    <a:pt x="5175" y="774"/>
                  </a:lnTo>
                  <a:lnTo>
                    <a:pt x="5176" y="853"/>
                  </a:lnTo>
                  <a:lnTo>
                    <a:pt x="5177" y="1048"/>
                  </a:lnTo>
                  <a:lnTo>
                    <a:pt x="5180" y="755"/>
                  </a:lnTo>
                  <a:lnTo>
                    <a:pt x="5181" y="865"/>
                  </a:lnTo>
                  <a:lnTo>
                    <a:pt x="5182" y="864"/>
                  </a:lnTo>
                  <a:lnTo>
                    <a:pt x="5183" y="879"/>
                  </a:lnTo>
                  <a:lnTo>
                    <a:pt x="5185" y="953"/>
                  </a:lnTo>
                  <a:lnTo>
                    <a:pt x="5186" y="998"/>
                  </a:lnTo>
                  <a:lnTo>
                    <a:pt x="5187" y="843"/>
                  </a:lnTo>
                  <a:lnTo>
                    <a:pt x="5190" y="1008"/>
                  </a:lnTo>
                  <a:lnTo>
                    <a:pt x="5191" y="877"/>
                  </a:lnTo>
                  <a:lnTo>
                    <a:pt x="5192" y="862"/>
                  </a:lnTo>
                  <a:lnTo>
                    <a:pt x="5194" y="900"/>
                  </a:lnTo>
                  <a:lnTo>
                    <a:pt x="5195" y="964"/>
                  </a:lnTo>
                  <a:lnTo>
                    <a:pt x="5196" y="768"/>
                  </a:lnTo>
                  <a:lnTo>
                    <a:pt x="5198" y="879"/>
                  </a:lnTo>
                  <a:lnTo>
                    <a:pt x="5200" y="799"/>
                  </a:lnTo>
                  <a:lnTo>
                    <a:pt x="5201" y="906"/>
                  </a:lnTo>
                  <a:lnTo>
                    <a:pt x="5202" y="807"/>
                  </a:lnTo>
                  <a:lnTo>
                    <a:pt x="5204" y="675"/>
                  </a:lnTo>
                  <a:lnTo>
                    <a:pt x="5205" y="665"/>
                  </a:lnTo>
                  <a:lnTo>
                    <a:pt x="5206" y="493"/>
                  </a:lnTo>
                  <a:lnTo>
                    <a:pt x="5208" y="655"/>
                  </a:lnTo>
                  <a:lnTo>
                    <a:pt x="5210" y="753"/>
                  </a:lnTo>
                  <a:lnTo>
                    <a:pt x="5211" y="592"/>
                  </a:lnTo>
                  <a:lnTo>
                    <a:pt x="5212" y="551"/>
                  </a:lnTo>
                  <a:lnTo>
                    <a:pt x="5214" y="527"/>
                  </a:lnTo>
                  <a:lnTo>
                    <a:pt x="5215" y="549"/>
                  </a:lnTo>
                  <a:lnTo>
                    <a:pt x="5216" y="595"/>
                  </a:lnTo>
                  <a:lnTo>
                    <a:pt x="5219" y="678"/>
                  </a:lnTo>
                  <a:lnTo>
                    <a:pt x="5220" y="608"/>
                  </a:lnTo>
                  <a:lnTo>
                    <a:pt x="5221" y="695"/>
                  </a:lnTo>
                  <a:lnTo>
                    <a:pt x="5222" y="708"/>
                  </a:lnTo>
                  <a:lnTo>
                    <a:pt x="5224" y="677"/>
                  </a:lnTo>
                  <a:lnTo>
                    <a:pt x="5225" y="782"/>
                  </a:lnTo>
                  <a:lnTo>
                    <a:pt x="5227" y="903"/>
                  </a:lnTo>
                  <a:lnTo>
                    <a:pt x="5229" y="734"/>
                  </a:lnTo>
                  <a:lnTo>
                    <a:pt x="5230" y="754"/>
                  </a:lnTo>
                  <a:lnTo>
                    <a:pt x="5231" y="918"/>
                  </a:lnTo>
                  <a:lnTo>
                    <a:pt x="5233" y="900"/>
                  </a:lnTo>
                  <a:lnTo>
                    <a:pt x="5234" y="864"/>
                  </a:lnTo>
                  <a:lnTo>
                    <a:pt x="5235" y="766"/>
                  </a:lnTo>
                  <a:lnTo>
                    <a:pt x="5237" y="762"/>
                  </a:lnTo>
                  <a:lnTo>
                    <a:pt x="5239" y="752"/>
                  </a:lnTo>
                  <a:lnTo>
                    <a:pt x="5240" y="743"/>
                  </a:lnTo>
                  <a:lnTo>
                    <a:pt x="5241" y="938"/>
                  </a:lnTo>
                  <a:lnTo>
                    <a:pt x="5243" y="809"/>
                  </a:lnTo>
                  <a:lnTo>
                    <a:pt x="5244" y="776"/>
                  </a:lnTo>
                  <a:lnTo>
                    <a:pt x="5245" y="674"/>
                  </a:lnTo>
                  <a:lnTo>
                    <a:pt x="5248" y="541"/>
                  </a:lnTo>
                  <a:lnTo>
                    <a:pt x="5249" y="820"/>
                  </a:lnTo>
                  <a:lnTo>
                    <a:pt x="5250" y="902"/>
                  </a:lnTo>
                  <a:lnTo>
                    <a:pt x="5251" y="621"/>
                  </a:lnTo>
                  <a:lnTo>
                    <a:pt x="5253" y="428"/>
                  </a:lnTo>
                  <a:lnTo>
                    <a:pt x="5254" y="457"/>
                  </a:lnTo>
                  <a:lnTo>
                    <a:pt x="5256" y="528"/>
                  </a:lnTo>
                  <a:lnTo>
                    <a:pt x="5258" y="650"/>
                  </a:lnTo>
                  <a:lnTo>
                    <a:pt x="5259" y="659"/>
                  </a:lnTo>
                  <a:lnTo>
                    <a:pt x="5260" y="718"/>
                  </a:lnTo>
                  <a:lnTo>
                    <a:pt x="5261" y="932"/>
                  </a:lnTo>
                  <a:lnTo>
                    <a:pt x="5263" y="677"/>
                  </a:lnTo>
                  <a:lnTo>
                    <a:pt x="5264" y="561"/>
                  </a:lnTo>
                  <a:lnTo>
                    <a:pt x="5266" y="600"/>
                  </a:lnTo>
                  <a:lnTo>
                    <a:pt x="5268" y="483"/>
                  </a:lnTo>
                  <a:lnTo>
                    <a:pt x="5269" y="491"/>
                  </a:lnTo>
                  <a:lnTo>
                    <a:pt x="5270" y="595"/>
                  </a:lnTo>
                  <a:lnTo>
                    <a:pt x="5272" y="654"/>
                  </a:lnTo>
                  <a:lnTo>
                    <a:pt x="5273" y="493"/>
                  </a:lnTo>
                  <a:lnTo>
                    <a:pt x="5274" y="524"/>
                  </a:lnTo>
                  <a:lnTo>
                    <a:pt x="5276" y="299"/>
                  </a:lnTo>
                  <a:lnTo>
                    <a:pt x="5278" y="638"/>
                  </a:lnTo>
                  <a:lnTo>
                    <a:pt x="5279" y="761"/>
                  </a:lnTo>
                  <a:lnTo>
                    <a:pt x="5280" y="515"/>
                  </a:lnTo>
                  <a:lnTo>
                    <a:pt x="5282" y="557"/>
                  </a:lnTo>
                  <a:lnTo>
                    <a:pt x="5283" y="544"/>
                  </a:lnTo>
                  <a:lnTo>
                    <a:pt x="5285" y="654"/>
                  </a:lnTo>
                  <a:lnTo>
                    <a:pt x="5287" y="388"/>
                  </a:lnTo>
                  <a:lnTo>
                    <a:pt x="5288" y="448"/>
                  </a:lnTo>
                  <a:lnTo>
                    <a:pt x="5289" y="596"/>
                  </a:lnTo>
                  <a:lnTo>
                    <a:pt x="5290" y="675"/>
                  </a:lnTo>
                  <a:lnTo>
                    <a:pt x="5292" y="628"/>
                  </a:lnTo>
                  <a:lnTo>
                    <a:pt x="5293" y="636"/>
                  </a:lnTo>
                  <a:lnTo>
                    <a:pt x="5295" y="796"/>
                  </a:lnTo>
                  <a:lnTo>
                    <a:pt x="5297" y="788"/>
                  </a:lnTo>
                  <a:lnTo>
                    <a:pt x="5298" y="787"/>
                  </a:lnTo>
                  <a:lnTo>
                    <a:pt x="5299" y="645"/>
                  </a:lnTo>
                  <a:lnTo>
                    <a:pt x="5300" y="615"/>
                  </a:lnTo>
                  <a:lnTo>
                    <a:pt x="5302" y="561"/>
                  </a:lnTo>
                  <a:lnTo>
                    <a:pt x="5303" y="561"/>
                  </a:lnTo>
                  <a:lnTo>
                    <a:pt x="5305" y="513"/>
                  </a:lnTo>
                  <a:lnTo>
                    <a:pt x="5307" y="340"/>
                  </a:lnTo>
                  <a:lnTo>
                    <a:pt x="5308" y="460"/>
                  </a:lnTo>
                  <a:lnTo>
                    <a:pt x="5309" y="574"/>
                  </a:lnTo>
                  <a:lnTo>
                    <a:pt x="5311" y="628"/>
                  </a:lnTo>
                  <a:lnTo>
                    <a:pt x="5312" y="580"/>
                  </a:lnTo>
                  <a:lnTo>
                    <a:pt x="5314" y="668"/>
                  </a:lnTo>
                  <a:lnTo>
                    <a:pt x="5315" y="485"/>
                  </a:lnTo>
                  <a:lnTo>
                    <a:pt x="5317" y="606"/>
                  </a:lnTo>
                  <a:lnTo>
                    <a:pt x="5318" y="832"/>
                  </a:lnTo>
                  <a:lnTo>
                    <a:pt x="5319" y="872"/>
                  </a:lnTo>
                  <a:lnTo>
                    <a:pt x="5321" y="432"/>
                  </a:lnTo>
                  <a:lnTo>
                    <a:pt x="5322" y="518"/>
                  </a:lnTo>
                  <a:lnTo>
                    <a:pt x="5324" y="821"/>
                  </a:lnTo>
                  <a:lnTo>
                    <a:pt x="5326" y="647"/>
                  </a:lnTo>
                  <a:lnTo>
                    <a:pt x="5327" y="580"/>
                  </a:lnTo>
                  <a:lnTo>
                    <a:pt x="5328" y="913"/>
                  </a:lnTo>
                  <a:lnTo>
                    <a:pt x="5329" y="902"/>
                  </a:lnTo>
                  <a:lnTo>
                    <a:pt x="5331" y="776"/>
                  </a:lnTo>
                  <a:lnTo>
                    <a:pt x="5332" y="737"/>
                  </a:lnTo>
                  <a:lnTo>
                    <a:pt x="5334" y="603"/>
                  </a:lnTo>
                  <a:lnTo>
                    <a:pt x="5336" y="549"/>
                  </a:lnTo>
                  <a:lnTo>
                    <a:pt x="5337" y="532"/>
                  </a:lnTo>
                  <a:lnTo>
                    <a:pt x="5338" y="566"/>
                  </a:lnTo>
                  <a:lnTo>
                    <a:pt x="5339" y="636"/>
                  </a:lnTo>
                  <a:lnTo>
                    <a:pt x="5341" y="676"/>
                  </a:lnTo>
                  <a:lnTo>
                    <a:pt x="5343" y="697"/>
                  </a:lnTo>
                  <a:lnTo>
                    <a:pt x="5344" y="595"/>
                  </a:lnTo>
                  <a:lnTo>
                    <a:pt x="5346" y="538"/>
                  </a:lnTo>
                  <a:lnTo>
                    <a:pt x="5347" y="479"/>
                  </a:lnTo>
                  <a:lnTo>
                    <a:pt x="5348" y="732"/>
                  </a:lnTo>
                  <a:lnTo>
                    <a:pt x="5350" y="776"/>
                  </a:lnTo>
                  <a:lnTo>
                    <a:pt x="5351" y="724"/>
                  </a:lnTo>
                  <a:lnTo>
                    <a:pt x="5353" y="860"/>
                  </a:lnTo>
                  <a:lnTo>
                    <a:pt x="5354" y="422"/>
                  </a:lnTo>
                  <a:lnTo>
                    <a:pt x="5356" y="541"/>
                  </a:lnTo>
                  <a:lnTo>
                    <a:pt x="5357" y="703"/>
                  </a:lnTo>
                  <a:lnTo>
                    <a:pt x="5358" y="637"/>
                  </a:lnTo>
                  <a:lnTo>
                    <a:pt x="5360" y="441"/>
                  </a:lnTo>
                  <a:lnTo>
                    <a:pt x="5361" y="673"/>
                  </a:lnTo>
                  <a:lnTo>
                    <a:pt x="5363" y="676"/>
                  </a:lnTo>
                  <a:lnTo>
                    <a:pt x="5365" y="810"/>
                  </a:lnTo>
                  <a:lnTo>
                    <a:pt x="5366" y="885"/>
                  </a:lnTo>
                  <a:lnTo>
                    <a:pt x="5367" y="888"/>
                  </a:lnTo>
                  <a:lnTo>
                    <a:pt x="5368" y="952"/>
                  </a:lnTo>
                  <a:lnTo>
                    <a:pt x="5370" y="767"/>
                  </a:lnTo>
                  <a:lnTo>
                    <a:pt x="5372" y="848"/>
                  </a:lnTo>
                  <a:lnTo>
                    <a:pt x="5373" y="858"/>
                  </a:lnTo>
                  <a:lnTo>
                    <a:pt x="5375" y="568"/>
                  </a:lnTo>
                  <a:lnTo>
                    <a:pt x="5376" y="697"/>
                  </a:lnTo>
                  <a:lnTo>
                    <a:pt x="5377" y="668"/>
                  </a:lnTo>
                  <a:lnTo>
                    <a:pt x="5379" y="694"/>
                  </a:lnTo>
                  <a:lnTo>
                    <a:pt x="5380" y="621"/>
                  </a:lnTo>
                  <a:lnTo>
                    <a:pt x="5382" y="772"/>
                  </a:lnTo>
                  <a:lnTo>
                    <a:pt x="5383" y="971"/>
                  </a:lnTo>
                  <a:lnTo>
                    <a:pt x="5385" y="700"/>
                  </a:lnTo>
                  <a:lnTo>
                    <a:pt x="5386" y="630"/>
                  </a:lnTo>
                  <a:lnTo>
                    <a:pt x="5387" y="576"/>
                  </a:lnTo>
                  <a:lnTo>
                    <a:pt x="5389" y="719"/>
                  </a:lnTo>
                  <a:lnTo>
                    <a:pt x="5390" y="867"/>
                  </a:lnTo>
                  <a:lnTo>
                    <a:pt x="5392" y="851"/>
                  </a:lnTo>
                  <a:lnTo>
                    <a:pt x="5393" y="685"/>
                  </a:lnTo>
                  <a:lnTo>
                    <a:pt x="5395" y="531"/>
                  </a:lnTo>
                  <a:lnTo>
                    <a:pt x="5396" y="706"/>
                  </a:lnTo>
                  <a:lnTo>
                    <a:pt x="5397" y="533"/>
                  </a:lnTo>
                  <a:lnTo>
                    <a:pt x="5399" y="498"/>
                  </a:lnTo>
                  <a:lnTo>
                    <a:pt x="5401" y="443"/>
                  </a:lnTo>
                  <a:lnTo>
                    <a:pt x="5402" y="384"/>
                  </a:lnTo>
                  <a:lnTo>
                    <a:pt x="5404" y="425"/>
                  </a:lnTo>
                  <a:lnTo>
                    <a:pt x="5405" y="592"/>
                  </a:lnTo>
                  <a:lnTo>
                    <a:pt x="5406" y="525"/>
                  </a:lnTo>
                  <a:lnTo>
                    <a:pt x="5407" y="537"/>
                  </a:lnTo>
                  <a:lnTo>
                    <a:pt x="5409" y="442"/>
                  </a:lnTo>
                  <a:lnTo>
                    <a:pt x="5411" y="510"/>
                  </a:lnTo>
                  <a:lnTo>
                    <a:pt x="5412" y="407"/>
                  </a:lnTo>
                  <a:lnTo>
                    <a:pt x="5414" y="413"/>
                  </a:lnTo>
                  <a:lnTo>
                    <a:pt x="5415" y="414"/>
                  </a:lnTo>
                  <a:lnTo>
                    <a:pt x="5416" y="506"/>
                  </a:lnTo>
                  <a:lnTo>
                    <a:pt x="5418" y="374"/>
                  </a:lnTo>
                  <a:lnTo>
                    <a:pt x="5419" y="572"/>
                  </a:lnTo>
                  <a:lnTo>
                    <a:pt x="5421" y="319"/>
                  </a:lnTo>
                  <a:lnTo>
                    <a:pt x="5422" y="229"/>
                  </a:lnTo>
                  <a:lnTo>
                    <a:pt x="5424" y="363"/>
                  </a:lnTo>
                  <a:lnTo>
                    <a:pt x="5425" y="368"/>
                  </a:lnTo>
                  <a:lnTo>
                    <a:pt x="5426" y="426"/>
                  </a:lnTo>
                  <a:lnTo>
                    <a:pt x="5428" y="344"/>
                  </a:lnTo>
                  <a:lnTo>
                    <a:pt x="5430" y="481"/>
                  </a:lnTo>
                  <a:lnTo>
                    <a:pt x="5431" y="700"/>
                  </a:lnTo>
                  <a:lnTo>
                    <a:pt x="5432" y="714"/>
                  </a:lnTo>
                  <a:lnTo>
                    <a:pt x="5434" y="481"/>
                  </a:lnTo>
                  <a:lnTo>
                    <a:pt x="5435" y="775"/>
                  </a:lnTo>
                  <a:lnTo>
                    <a:pt x="5436" y="500"/>
                  </a:lnTo>
                  <a:lnTo>
                    <a:pt x="5438" y="488"/>
                  </a:lnTo>
                  <a:lnTo>
                    <a:pt x="5440" y="694"/>
                  </a:lnTo>
                  <a:lnTo>
                    <a:pt x="5441" y="739"/>
                  </a:lnTo>
                  <a:lnTo>
                    <a:pt x="5443" y="644"/>
                  </a:lnTo>
                  <a:lnTo>
                    <a:pt x="5444" y="987"/>
                  </a:lnTo>
                  <a:lnTo>
                    <a:pt x="5445" y="936"/>
                  </a:lnTo>
                  <a:lnTo>
                    <a:pt x="5446" y="939"/>
                  </a:lnTo>
                  <a:lnTo>
                    <a:pt x="5449" y="656"/>
                  </a:lnTo>
                  <a:lnTo>
                    <a:pt x="5450" y="726"/>
                  </a:lnTo>
                  <a:lnTo>
                    <a:pt x="5451" y="657"/>
                  </a:lnTo>
                  <a:lnTo>
                    <a:pt x="5453" y="761"/>
                  </a:lnTo>
                  <a:lnTo>
                    <a:pt x="5454" y="661"/>
                  </a:lnTo>
                  <a:lnTo>
                    <a:pt x="5455" y="786"/>
                  </a:lnTo>
                  <a:lnTo>
                    <a:pt x="5457" y="793"/>
                  </a:lnTo>
                  <a:lnTo>
                    <a:pt x="5459" y="621"/>
                  </a:lnTo>
                  <a:lnTo>
                    <a:pt x="5460" y="804"/>
                  </a:lnTo>
                  <a:lnTo>
                    <a:pt x="5461" y="1001"/>
                  </a:lnTo>
                  <a:lnTo>
                    <a:pt x="5463" y="919"/>
                  </a:lnTo>
                  <a:lnTo>
                    <a:pt x="5464" y="781"/>
                  </a:lnTo>
                  <a:lnTo>
                    <a:pt x="5465" y="702"/>
                  </a:lnTo>
                  <a:lnTo>
                    <a:pt x="5467" y="626"/>
                  </a:lnTo>
                  <a:lnTo>
                    <a:pt x="5469" y="859"/>
                  </a:lnTo>
                  <a:lnTo>
                    <a:pt x="5470" y="820"/>
                  </a:lnTo>
                  <a:lnTo>
                    <a:pt x="5472" y="674"/>
                  </a:lnTo>
                  <a:lnTo>
                    <a:pt x="5473" y="803"/>
                  </a:lnTo>
                  <a:lnTo>
                    <a:pt x="5474" y="844"/>
                  </a:lnTo>
                  <a:lnTo>
                    <a:pt x="5475" y="722"/>
                  </a:lnTo>
                  <a:lnTo>
                    <a:pt x="5478" y="671"/>
                  </a:lnTo>
                  <a:lnTo>
                    <a:pt x="5479" y="854"/>
                  </a:lnTo>
                  <a:lnTo>
                    <a:pt x="5480" y="571"/>
                  </a:lnTo>
                  <a:lnTo>
                    <a:pt x="5482" y="706"/>
                  </a:lnTo>
                  <a:lnTo>
                    <a:pt x="5483" y="527"/>
                  </a:lnTo>
                  <a:lnTo>
                    <a:pt x="5484" y="630"/>
                  </a:lnTo>
                  <a:lnTo>
                    <a:pt x="5485" y="814"/>
                  </a:lnTo>
                  <a:lnTo>
                    <a:pt x="5488" y="782"/>
                  </a:lnTo>
                  <a:lnTo>
                    <a:pt x="5489" y="686"/>
                  </a:lnTo>
                  <a:lnTo>
                    <a:pt x="5490" y="624"/>
                  </a:lnTo>
                  <a:lnTo>
                    <a:pt x="5492" y="683"/>
                  </a:lnTo>
                  <a:lnTo>
                    <a:pt x="5493" y="606"/>
                  </a:lnTo>
                  <a:lnTo>
                    <a:pt x="5494" y="593"/>
                  </a:lnTo>
                  <a:lnTo>
                    <a:pt x="5496" y="552"/>
                  </a:lnTo>
                  <a:lnTo>
                    <a:pt x="5498" y="605"/>
                  </a:lnTo>
                  <a:lnTo>
                    <a:pt x="5499" y="508"/>
                  </a:lnTo>
                  <a:lnTo>
                    <a:pt x="5500" y="819"/>
                  </a:lnTo>
                  <a:lnTo>
                    <a:pt x="5502" y="890"/>
                  </a:lnTo>
                  <a:lnTo>
                    <a:pt x="5503" y="784"/>
                  </a:lnTo>
                  <a:lnTo>
                    <a:pt x="5504" y="791"/>
                  </a:lnTo>
                  <a:lnTo>
                    <a:pt x="5507" y="907"/>
                  </a:lnTo>
                  <a:lnTo>
                    <a:pt x="5508" y="862"/>
                  </a:lnTo>
                  <a:lnTo>
                    <a:pt x="5509" y="715"/>
                  </a:lnTo>
                  <a:lnTo>
                    <a:pt x="5511" y="756"/>
                  </a:lnTo>
                  <a:lnTo>
                    <a:pt x="5512" y="485"/>
                  </a:lnTo>
                  <a:lnTo>
                    <a:pt x="5513" y="443"/>
                  </a:lnTo>
                  <a:lnTo>
                    <a:pt x="5514" y="422"/>
                  </a:lnTo>
                  <a:lnTo>
                    <a:pt x="5517" y="559"/>
                  </a:lnTo>
                  <a:lnTo>
                    <a:pt x="5518" y="531"/>
                  </a:lnTo>
                  <a:lnTo>
                    <a:pt x="5519" y="560"/>
                  </a:lnTo>
                  <a:lnTo>
                    <a:pt x="5521" y="799"/>
                  </a:lnTo>
                  <a:lnTo>
                    <a:pt x="5522" y="598"/>
                  </a:lnTo>
                  <a:lnTo>
                    <a:pt x="5523" y="607"/>
                  </a:lnTo>
                  <a:lnTo>
                    <a:pt x="5524" y="762"/>
                  </a:lnTo>
                  <a:lnTo>
                    <a:pt x="5527" y="420"/>
                  </a:lnTo>
                  <a:lnTo>
                    <a:pt x="5528" y="448"/>
                  </a:lnTo>
                  <a:lnTo>
                    <a:pt x="5529" y="369"/>
                  </a:lnTo>
                  <a:lnTo>
                    <a:pt x="5531" y="441"/>
                  </a:lnTo>
                  <a:lnTo>
                    <a:pt x="5532" y="427"/>
                  </a:lnTo>
                  <a:lnTo>
                    <a:pt x="5533" y="580"/>
                  </a:lnTo>
                  <a:lnTo>
                    <a:pt x="5536" y="710"/>
                  </a:lnTo>
                  <a:lnTo>
                    <a:pt x="5537" y="593"/>
                  </a:lnTo>
                  <a:lnTo>
                    <a:pt x="5538" y="700"/>
                  </a:lnTo>
                  <a:lnTo>
                    <a:pt x="5539" y="826"/>
                  </a:lnTo>
                  <a:lnTo>
                    <a:pt x="5541" y="949"/>
                  </a:lnTo>
                  <a:lnTo>
                    <a:pt x="5542" y="807"/>
                  </a:lnTo>
                  <a:lnTo>
                    <a:pt x="5543" y="782"/>
                  </a:lnTo>
                  <a:lnTo>
                    <a:pt x="5546" y="923"/>
                  </a:lnTo>
                  <a:lnTo>
                    <a:pt x="5547" y="859"/>
                  </a:lnTo>
                  <a:lnTo>
                    <a:pt x="5548" y="764"/>
                  </a:lnTo>
                  <a:lnTo>
                    <a:pt x="5550" y="807"/>
                  </a:lnTo>
                  <a:lnTo>
                    <a:pt x="5551" y="796"/>
                  </a:lnTo>
                  <a:lnTo>
                    <a:pt x="5552" y="796"/>
                  </a:lnTo>
                  <a:lnTo>
                    <a:pt x="5553" y="980"/>
                  </a:lnTo>
                  <a:lnTo>
                    <a:pt x="5556" y="862"/>
                  </a:lnTo>
                  <a:lnTo>
                    <a:pt x="5557" y="948"/>
                  </a:lnTo>
                  <a:lnTo>
                    <a:pt x="5558" y="762"/>
                  </a:lnTo>
                  <a:lnTo>
                    <a:pt x="5560" y="725"/>
                  </a:lnTo>
                  <a:lnTo>
                    <a:pt x="5561" y="981"/>
                  </a:lnTo>
                  <a:lnTo>
                    <a:pt x="5562" y="756"/>
                  </a:lnTo>
                  <a:lnTo>
                    <a:pt x="5563" y="942"/>
                  </a:lnTo>
                  <a:lnTo>
                    <a:pt x="5566" y="994"/>
                  </a:lnTo>
                  <a:lnTo>
                    <a:pt x="5567" y="843"/>
                  </a:lnTo>
                  <a:lnTo>
                    <a:pt x="5568" y="714"/>
                  </a:lnTo>
                  <a:lnTo>
                    <a:pt x="5570" y="709"/>
                  </a:lnTo>
                  <a:lnTo>
                    <a:pt x="5571" y="889"/>
                  </a:lnTo>
                  <a:lnTo>
                    <a:pt x="5572" y="943"/>
                  </a:lnTo>
                  <a:lnTo>
                    <a:pt x="5575" y="927"/>
                  </a:lnTo>
                  <a:lnTo>
                    <a:pt x="5576" y="862"/>
                  </a:lnTo>
                  <a:lnTo>
                    <a:pt x="5577" y="850"/>
                  </a:lnTo>
                  <a:lnTo>
                    <a:pt x="5578" y="1021"/>
                  </a:lnTo>
                  <a:lnTo>
                    <a:pt x="5580" y="1027"/>
                  </a:lnTo>
                  <a:lnTo>
                    <a:pt x="5581" y="864"/>
                  </a:lnTo>
                  <a:lnTo>
                    <a:pt x="5582" y="642"/>
                  </a:lnTo>
                  <a:lnTo>
                    <a:pt x="5585" y="835"/>
                  </a:lnTo>
                  <a:lnTo>
                    <a:pt x="5586" y="720"/>
                  </a:lnTo>
                  <a:lnTo>
                    <a:pt x="5587" y="939"/>
                  </a:lnTo>
                  <a:lnTo>
                    <a:pt x="5589" y="892"/>
                  </a:lnTo>
                  <a:lnTo>
                    <a:pt x="5590" y="1036"/>
                  </a:lnTo>
                  <a:lnTo>
                    <a:pt x="5591" y="920"/>
                  </a:lnTo>
                  <a:lnTo>
                    <a:pt x="5592" y="919"/>
                  </a:lnTo>
                  <a:lnTo>
                    <a:pt x="5595" y="801"/>
                  </a:lnTo>
                  <a:lnTo>
                    <a:pt x="5596" y="899"/>
                  </a:lnTo>
                  <a:lnTo>
                    <a:pt x="5597" y="1092"/>
                  </a:lnTo>
                  <a:lnTo>
                    <a:pt x="5599" y="985"/>
                  </a:lnTo>
                  <a:lnTo>
                    <a:pt x="5600" y="1032"/>
                  </a:lnTo>
                  <a:lnTo>
                    <a:pt x="5601" y="980"/>
                  </a:lnTo>
                  <a:lnTo>
                    <a:pt x="5604" y="997"/>
                  </a:lnTo>
                  <a:lnTo>
                    <a:pt x="5605" y="948"/>
                  </a:lnTo>
                  <a:lnTo>
                    <a:pt x="5606" y="1110"/>
                  </a:lnTo>
                  <a:lnTo>
                    <a:pt x="5607" y="960"/>
                  </a:lnTo>
                  <a:lnTo>
                    <a:pt x="5609" y="826"/>
                  </a:lnTo>
                  <a:lnTo>
                    <a:pt x="5610" y="714"/>
                  </a:lnTo>
                  <a:lnTo>
                    <a:pt x="5611" y="684"/>
                  </a:lnTo>
                  <a:lnTo>
                    <a:pt x="5614" y="597"/>
                  </a:lnTo>
                  <a:lnTo>
                    <a:pt x="5615" y="505"/>
                  </a:lnTo>
                  <a:lnTo>
                    <a:pt x="5616" y="459"/>
                  </a:lnTo>
                  <a:lnTo>
                    <a:pt x="5617" y="630"/>
                  </a:lnTo>
                  <a:lnTo>
                    <a:pt x="5619" y="788"/>
                  </a:lnTo>
                  <a:lnTo>
                    <a:pt x="5620" y="760"/>
                  </a:lnTo>
                  <a:lnTo>
                    <a:pt x="5621" y="724"/>
                  </a:lnTo>
                  <a:lnTo>
                    <a:pt x="5624" y="897"/>
                  </a:lnTo>
                  <a:lnTo>
                    <a:pt x="5625" y="784"/>
                  </a:lnTo>
                  <a:lnTo>
                    <a:pt x="5626" y="709"/>
                  </a:lnTo>
                  <a:lnTo>
                    <a:pt x="5628" y="535"/>
                  </a:lnTo>
                  <a:lnTo>
                    <a:pt x="5629" y="558"/>
                  </a:lnTo>
                  <a:lnTo>
                    <a:pt x="5630" y="556"/>
                  </a:lnTo>
                  <a:lnTo>
                    <a:pt x="5631" y="649"/>
                  </a:lnTo>
                  <a:lnTo>
                    <a:pt x="5634" y="463"/>
                  </a:lnTo>
                  <a:lnTo>
                    <a:pt x="5635" y="650"/>
                  </a:lnTo>
                  <a:lnTo>
                    <a:pt x="5636" y="712"/>
                  </a:lnTo>
                  <a:lnTo>
                    <a:pt x="5638" y="728"/>
                  </a:lnTo>
                  <a:lnTo>
                    <a:pt x="5639" y="608"/>
                  </a:lnTo>
                  <a:lnTo>
                    <a:pt x="5640" y="647"/>
                  </a:lnTo>
                  <a:lnTo>
                    <a:pt x="5643" y="548"/>
                  </a:lnTo>
                  <a:lnTo>
                    <a:pt x="5644" y="705"/>
                  </a:lnTo>
                  <a:lnTo>
                    <a:pt x="5645" y="521"/>
                  </a:lnTo>
                  <a:lnTo>
                    <a:pt x="5646" y="599"/>
                  </a:lnTo>
                  <a:lnTo>
                    <a:pt x="5648" y="710"/>
                  </a:lnTo>
                  <a:lnTo>
                    <a:pt x="5649" y="685"/>
                  </a:lnTo>
                  <a:lnTo>
                    <a:pt x="5650" y="506"/>
                  </a:lnTo>
                  <a:lnTo>
                    <a:pt x="5653" y="455"/>
                  </a:lnTo>
                  <a:lnTo>
                    <a:pt x="5654" y="552"/>
                  </a:lnTo>
                  <a:lnTo>
                    <a:pt x="5655" y="717"/>
                  </a:lnTo>
                  <a:lnTo>
                    <a:pt x="5656" y="788"/>
                  </a:lnTo>
                  <a:lnTo>
                    <a:pt x="5658" y="903"/>
                  </a:lnTo>
                  <a:lnTo>
                    <a:pt x="5659" y="874"/>
                  </a:lnTo>
                  <a:lnTo>
                    <a:pt x="5660" y="742"/>
                  </a:lnTo>
                  <a:lnTo>
                    <a:pt x="5663" y="702"/>
                  </a:lnTo>
                  <a:lnTo>
                    <a:pt x="5664" y="563"/>
                  </a:lnTo>
                  <a:lnTo>
                    <a:pt x="5665" y="553"/>
                  </a:lnTo>
                  <a:lnTo>
                    <a:pt x="5667" y="408"/>
                  </a:lnTo>
                  <a:lnTo>
                    <a:pt x="5668" y="466"/>
                  </a:lnTo>
                  <a:lnTo>
                    <a:pt x="5669" y="515"/>
                  </a:lnTo>
                  <a:lnTo>
                    <a:pt x="5670" y="590"/>
                  </a:lnTo>
                  <a:lnTo>
                    <a:pt x="5673" y="657"/>
                  </a:lnTo>
                  <a:lnTo>
                    <a:pt x="5674" y="754"/>
                  </a:lnTo>
                  <a:lnTo>
                    <a:pt x="5675" y="573"/>
                  </a:lnTo>
                  <a:lnTo>
                    <a:pt x="5677" y="413"/>
                  </a:lnTo>
                  <a:lnTo>
                    <a:pt x="5678" y="426"/>
                  </a:lnTo>
                  <a:lnTo>
                    <a:pt x="5679" y="483"/>
                  </a:lnTo>
                  <a:lnTo>
                    <a:pt x="5682" y="566"/>
                  </a:lnTo>
                  <a:lnTo>
                    <a:pt x="5683" y="576"/>
                  </a:lnTo>
                  <a:lnTo>
                    <a:pt x="5684" y="630"/>
                  </a:lnTo>
                  <a:lnTo>
                    <a:pt x="5685" y="561"/>
                  </a:lnTo>
                  <a:lnTo>
                    <a:pt x="5687" y="471"/>
                  </a:lnTo>
                  <a:lnTo>
                    <a:pt x="5688" y="481"/>
                  </a:lnTo>
                  <a:lnTo>
                    <a:pt x="5689" y="547"/>
                  </a:lnTo>
                  <a:lnTo>
                    <a:pt x="5692" y="539"/>
                  </a:lnTo>
                  <a:lnTo>
                    <a:pt x="5693" y="409"/>
                  </a:lnTo>
                  <a:lnTo>
                    <a:pt x="5694" y="654"/>
                  </a:lnTo>
                  <a:lnTo>
                    <a:pt x="5696" y="736"/>
                  </a:lnTo>
                  <a:lnTo>
                    <a:pt x="5697" y="726"/>
                  </a:lnTo>
                  <a:lnTo>
                    <a:pt x="5698" y="807"/>
                  </a:lnTo>
                  <a:lnTo>
                    <a:pt x="5700" y="752"/>
                  </a:lnTo>
                  <a:lnTo>
                    <a:pt x="5702" y="885"/>
                  </a:lnTo>
                  <a:lnTo>
                    <a:pt x="5703" y="819"/>
                  </a:lnTo>
                  <a:lnTo>
                    <a:pt x="5704" y="734"/>
                  </a:lnTo>
                  <a:lnTo>
                    <a:pt x="5706" y="629"/>
                  </a:lnTo>
                  <a:lnTo>
                    <a:pt x="5707" y="639"/>
                  </a:lnTo>
                  <a:lnTo>
                    <a:pt x="5708" y="441"/>
                  </a:lnTo>
                  <a:lnTo>
                    <a:pt x="5710" y="658"/>
                  </a:lnTo>
                  <a:lnTo>
                    <a:pt x="5712" y="658"/>
                  </a:lnTo>
                  <a:lnTo>
                    <a:pt x="5713" y="718"/>
                  </a:lnTo>
                  <a:lnTo>
                    <a:pt x="5714" y="630"/>
                  </a:lnTo>
                  <a:lnTo>
                    <a:pt x="5716" y="459"/>
                  </a:lnTo>
                  <a:lnTo>
                    <a:pt x="5717" y="484"/>
                  </a:lnTo>
                  <a:lnTo>
                    <a:pt x="5718" y="556"/>
                  </a:lnTo>
                  <a:lnTo>
                    <a:pt x="5721" y="441"/>
                  </a:lnTo>
                  <a:lnTo>
                    <a:pt x="5722" y="569"/>
                  </a:lnTo>
                  <a:lnTo>
                    <a:pt x="5723" y="621"/>
                  </a:lnTo>
                  <a:lnTo>
                    <a:pt x="5724" y="754"/>
                  </a:lnTo>
                  <a:lnTo>
                    <a:pt x="5726" y="723"/>
                  </a:lnTo>
                  <a:lnTo>
                    <a:pt x="5727" y="892"/>
                  </a:lnTo>
                  <a:lnTo>
                    <a:pt x="5729" y="799"/>
                  </a:lnTo>
                  <a:lnTo>
                    <a:pt x="5731" y="680"/>
                  </a:lnTo>
                  <a:lnTo>
                    <a:pt x="5732" y="947"/>
                  </a:lnTo>
                  <a:lnTo>
                    <a:pt x="5733" y="834"/>
                  </a:lnTo>
                  <a:lnTo>
                    <a:pt x="5735" y="477"/>
                  </a:lnTo>
                  <a:lnTo>
                    <a:pt x="5736" y="640"/>
                  </a:lnTo>
                  <a:lnTo>
                    <a:pt x="5737" y="685"/>
                  </a:lnTo>
                  <a:lnTo>
                    <a:pt x="5739" y="587"/>
                  </a:lnTo>
                  <a:lnTo>
                    <a:pt x="5741" y="611"/>
                  </a:lnTo>
                  <a:lnTo>
                    <a:pt x="5742" y="700"/>
                  </a:lnTo>
                  <a:lnTo>
                    <a:pt x="5743" y="763"/>
                  </a:lnTo>
                  <a:lnTo>
                    <a:pt x="5745" y="545"/>
                  </a:lnTo>
                  <a:lnTo>
                    <a:pt x="5746" y="589"/>
                  </a:lnTo>
                  <a:lnTo>
                    <a:pt x="5747" y="627"/>
                  </a:lnTo>
                  <a:lnTo>
                    <a:pt x="5749" y="586"/>
                  </a:lnTo>
                  <a:lnTo>
                    <a:pt x="5751" y="598"/>
                  </a:lnTo>
                  <a:lnTo>
                    <a:pt x="5752" y="667"/>
                  </a:lnTo>
                  <a:lnTo>
                    <a:pt x="5753" y="451"/>
                  </a:lnTo>
                  <a:lnTo>
                    <a:pt x="5755" y="379"/>
                  </a:lnTo>
                  <a:lnTo>
                    <a:pt x="5756" y="640"/>
                  </a:lnTo>
                  <a:lnTo>
                    <a:pt x="5758" y="602"/>
                  </a:lnTo>
                  <a:lnTo>
                    <a:pt x="5760" y="566"/>
                  </a:lnTo>
                  <a:lnTo>
                    <a:pt x="5761" y="668"/>
                  </a:lnTo>
                  <a:lnTo>
                    <a:pt x="5762" y="518"/>
                  </a:lnTo>
                  <a:lnTo>
                    <a:pt x="5763" y="600"/>
                  </a:lnTo>
                  <a:lnTo>
                    <a:pt x="5765" y="793"/>
                  </a:lnTo>
                  <a:lnTo>
                    <a:pt x="5766" y="597"/>
                  </a:lnTo>
                  <a:lnTo>
                    <a:pt x="5768" y="407"/>
                  </a:lnTo>
                  <a:lnTo>
                    <a:pt x="5770" y="414"/>
                  </a:lnTo>
                  <a:lnTo>
                    <a:pt x="5771" y="456"/>
                  </a:lnTo>
                  <a:lnTo>
                    <a:pt x="5772" y="433"/>
                  </a:lnTo>
                  <a:lnTo>
                    <a:pt x="5774" y="388"/>
                  </a:lnTo>
                  <a:lnTo>
                    <a:pt x="5775" y="511"/>
                  </a:lnTo>
                  <a:lnTo>
                    <a:pt x="5776" y="580"/>
                  </a:lnTo>
                  <a:lnTo>
                    <a:pt x="5778" y="246"/>
                  </a:lnTo>
                  <a:lnTo>
                    <a:pt x="5780" y="424"/>
                  </a:lnTo>
                  <a:lnTo>
                    <a:pt x="5781" y="337"/>
                  </a:lnTo>
                  <a:lnTo>
                    <a:pt x="5782" y="305"/>
                  </a:lnTo>
                  <a:lnTo>
                    <a:pt x="5784" y="538"/>
                  </a:lnTo>
                  <a:lnTo>
                    <a:pt x="5785" y="523"/>
                  </a:lnTo>
                  <a:lnTo>
                    <a:pt x="5787" y="569"/>
                  </a:lnTo>
                  <a:lnTo>
                    <a:pt x="5788" y="405"/>
                  </a:lnTo>
                  <a:lnTo>
                    <a:pt x="5790" y="481"/>
                  </a:lnTo>
                  <a:lnTo>
                    <a:pt x="5791" y="310"/>
                  </a:lnTo>
                  <a:lnTo>
                    <a:pt x="5792" y="547"/>
                  </a:lnTo>
                  <a:lnTo>
                    <a:pt x="5794" y="486"/>
                  </a:lnTo>
                  <a:lnTo>
                    <a:pt x="5795" y="362"/>
                  </a:lnTo>
                  <a:lnTo>
                    <a:pt x="5797" y="522"/>
                  </a:lnTo>
                  <a:lnTo>
                    <a:pt x="5799" y="348"/>
                  </a:lnTo>
                  <a:lnTo>
                    <a:pt x="5800" y="520"/>
                  </a:lnTo>
                  <a:lnTo>
                    <a:pt x="5801" y="533"/>
                  </a:lnTo>
                  <a:lnTo>
                    <a:pt x="5802" y="391"/>
                  </a:lnTo>
                  <a:lnTo>
                    <a:pt x="5804" y="648"/>
                  </a:lnTo>
                  <a:lnTo>
                    <a:pt x="5805" y="471"/>
                  </a:lnTo>
                  <a:lnTo>
                    <a:pt x="5807" y="494"/>
                  </a:lnTo>
                  <a:lnTo>
                    <a:pt x="5809" y="626"/>
                  </a:lnTo>
                  <a:lnTo>
                    <a:pt x="5810" y="649"/>
                  </a:lnTo>
                  <a:lnTo>
                    <a:pt x="5811" y="749"/>
                  </a:lnTo>
                  <a:lnTo>
                    <a:pt x="5813" y="676"/>
                  </a:lnTo>
                  <a:lnTo>
                    <a:pt x="5814" y="638"/>
                  </a:lnTo>
                  <a:lnTo>
                    <a:pt x="5816" y="504"/>
                  </a:lnTo>
                  <a:lnTo>
                    <a:pt x="5817" y="589"/>
                  </a:lnTo>
                  <a:lnTo>
                    <a:pt x="5819" y="493"/>
                  </a:lnTo>
                  <a:lnTo>
                    <a:pt x="5820" y="725"/>
                  </a:lnTo>
                  <a:lnTo>
                    <a:pt x="5821" y="741"/>
                  </a:lnTo>
                  <a:lnTo>
                    <a:pt x="5823" y="437"/>
                  </a:lnTo>
                  <a:lnTo>
                    <a:pt x="5824" y="642"/>
                  </a:lnTo>
                  <a:lnTo>
                    <a:pt x="5826" y="666"/>
                  </a:lnTo>
                  <a:lnTo>
                    <a:pt x="5828" y="902"/>
                  </a:lnTo>
                  <a:lnTo>
                    <a:pt x="5829" y="1023"/>
                  </a:lnTo>
                  <a:lnTo>
                    <a:pt x="5830" y="776"/>
                  </a:lnTo>
                  <a:lnTo>
                    <a:pt x="5831" y="742"/>
                  </a:lnTo>
                  <a:lnTo>
                    <a:pt x="5833" y="870"/>
                  </a:lnTo>
                  <a:lnTo>
                    <a:pt x="5834" y="733"/>
                  </a:lnTo>
                  <a:lnTo>
                    <a:pt x="5836" y="739"/>
                  </a:lnTo>
                  <a:lnTo>
                    <a:pt x="5838" y="722"/>
                  </a:lnTo>
                  <a:lnTo>
                    <a:pt x="5839" y="725"/>
                  </a:lnTo>
                  <a:lnTo>
                    <a:pt x="5840" y="651"/>
                  </a:lnTo>
                  <a:lnTo>
                    <a:pt x="5841" y="602"/>
                  </a:lnTo>
                  <a:lnTo>
                    <a:pt x="5843" y="595"/>
                  </a:lnTo>
                  <a:lnTo>
                    <a:pt x="5845" y="799"/>
                  </a:lnTo>
                  <a:lnTo>
                    <a:pt x="5846" y="767"/>
                  </a:lnTo>
                  <a:lnTo>
                    <a:pt x="5848" y="670"/>
                  </a:lnTo>
                  <a:lnTo>
                    <a:pt x="5849" y="647"/>
                  </a:lnTo>
                  <a:lnTo>
                    <a:pt x="5850" y="548"/>
                  </a:lnTo>
                  <a:lnTo>
                    <a:pt x="5852" y="723"/>
                  </a:lnTo>
                  <a:lnTo>
                    <a:pt x="5853" y="666"/>
                  </a:lnTo>
                  <a:lnTo>
                    <a:pt x="5855" y="852"/>
                  </a:lnTo>
                  <a:lnTo>
                    <a:pt x="5856" y="692"/>
                  </a:lnTo>
                  <a:lnTo>
                    <a:pt x="5858" y="950"/>
                  </a:lnTo>
                  <a:lnTo>
                    <a:pt x="5859" y="793"/>
                  </a:lnTo>
                  <a:lnTo>
                    <a:pt x="5860" y="577"/>
                  </a:lnTo>
                  <a:lnTo>
                    <a:pt x="5862" y="540"/>
                  </a:lnTo>
                  <a:lnTo>
                    <a:pt x="5863" y="506"/>
                  </a:lnTo>
                  <a:lnTo>
                    <a:pt x="5865" y="725"/>
                  </a:lnTo>
                  <a:lnTo>
                    <a:pt x="5867" y="665"/>
                  </a:lnTo>
                  <a:lnTo>
                    <a:pt x="5868" y="489"/>
                  </a:lnTo>
                  <a:lnTo>
                    <a:pt x="5869" y="506"/>
                  </a:lnTo>
                  <a:lnTo>
                    <a:pt x="5870" y="687"/>
                  </a:lnTo>
                  <a:lnTo>
                    <a:pt x="5872" y="531"/>
                  </a:lnTo>
                  <a:lnTo>
                    <a:pt x="5874" y="425"/>
                  </a:lnTo>
                  <a:lnTo>
                    <a:pt x="5875" y="688"/>
                  </a:lnTo>
                  <a:lnTo>
                    <a:pt x="5877" y="634"/>
                  </a:lnTo>
                  <a:lnTo>
                    <a:pt x="5878" y="683"/>
                  </a:lnTo>
                  <a:lnTo>
                    <a:pt x="5879" y="593"/>
                  </a:lnTo>
                  <a:lnTo>
                    <a:pt x="5880" y="720"/>
                  </a:lnTo>
                  <a:lnTo>
                    <a:pt x="5882" y="437"/>
                  </a:lnTo>
                  <a:lnTo>
                    <a:pt x="5884" y="728"/>
                  </a:lnTo>
                  <a:lnTo>
                    <a:pt x="5885" y="531"/>
                  </a:lnTo>
                  <a:lnTo>
                    <a:pt x="5887" y="412"/>
                  </a:lnTo>
                  <a:lnTo>
                    <a:pt x="5888" y="336"/>
                  </a:lnTo>
                  <a:lnTo>
                    <a:pt x="5889" y="530"/>
                  </a:lnTo>
                  <a:lnTo>
                    <a:pt x="5891" y="636"/>
                  </a:lnTo>
                  <a:lnTo>
                    <a:pt x="5892" y="602"/>
                  </a:lnTo>
                  <a:lnTo>
                    <a:pt x="5894" y="447"/>
                  </a:lnTo>
                  <a:lnTo>
                    <a:pt x="5895" y="658"/>
                  </a:lnTo>
                  <a:lnTo>
                    <a:pt x="5897" y="525"/>
                  </a:lnTo>
                  <a:lnTo>
                    <a:pt x="5898" y="476"/>
                  </a:lnTo>
                  <a:lnTo>
                    <a:pt x="5899" y="448"/>
                  </a:lnTo>
                  <a:lnTo>
                    <a:pt x="5901" y="666"/>
                  </a:lnTo>
                  <a:lnTo>
                    <a:pt x="5903" y="513"/>
                  </a:lnTo>
                  <a:lnTo>
                    <a:pt x="5904" y="724"/>
                  </a:lnTo>
                  <a:lnTo>
                    <a:pt x="5906" y="729"/>
                  </a:lnTo>
                  <a:lnTo>
                    <a:pt x="5907" y="548"/>
                  </a:lnTo>
                  <a:lnTo>
                    <a:pt x="5908" y="473"/>
                  </a:lnTo>
                  <a:lnTo>
                    <a:pt x="5909" y="494"/>
                  </a:lnTo>
                  <a:lnTo>
                    <a:pt x="5911" y="503"/>
                  </a:lnTo>
                  <a:lnTo>
                    <a:pt x="5913" y="587"/>
                  </a:lnTo>
                  <a:lnTo>
                    <a:pt x="5914" y="768"/>
                  </a:lnTo>
                  <a:lnTo>
                    <a:pt x="5916" y="931"/>
                  </a:lnTo>
                  <a:lnTo>
                    <a:pt x="5917" y="839"/>
                  </a:lnTo>
                  <a:lnTo>
                    <a:pt x="5918" y="739"/>
                  </a:lnTo>
                  <a:lnTo>
                    <a:pt x="5920" y="761"/>
                  </a:lnTo>
                  <a:lnTo>
                    <a:pt x="5921" y="645"/>
                  </a:lnTo>
                  <a:lnTo>
                    <a:pt x="5923" y="533"/>
                  </a:lnTo>
                  <a:lnTo>
                    <a:pt x="5924" y="433"/>
                  </a:lnTo>
                  <a:lnTo>
                    <a:pt x="5926" y="504"/>
                  </a:lnTo>
                  <a:lnTo>
                    <a:pt x="5927" y="583"/>
                  </a:lnTo>
                  <a:lnTo>
                    <a:pt x="5928" y="758"/>
                  </a:lnTo>
                  <a:lnTo>
                    <a:pt x="5930" y="621"/>
                  </a:lnTo>
                  <a:lnTo>
                    <a:pt x="5932" y="628"/>
                  </a:lnTo>
                  <a:lnTo>
                    <a:pt x="5933" y="618"/>
                  </a:lnTo>
                  <a:lnTo>
                    <a:pt x="5934" y="830"/>
                  </a:lnTo>
                  <a:lnTo>
                    <a:pt x="5936" y="694"/>
                  </a:lnTo>
                  <a:lnTo>
                    <a:pt x="5937" y="684"/>
                  </a:lnTo>
                  <a:lnTo>
                    <a:pt x="5938" y="571"/>
                  </a:lnTo>
                  <a:lnTo>
                    <a:pt x="5940" y="553"/>
                  </a:lnTo>
                  <a:lnTo>
                    <a:pt x="5942" y="694"/>
                  </a:lnTo>
                  <a:lnTo>
                    <a:pt x="5943" y="588"/>
                  </a:lnTo>
                  <a:lnTo>
                    <a:pt x="5945" y="625"/>
                  </a:lnTo>
                  <a:lnTo>
                    <a:pt x="5946" y="670"/>
                  </a:lnTo>
                  <a:lnTo>
                    <a:pt x="5947" y="505"/>
                  </a:lnTo>
                  <a:lnTo>
                    <a:pt x="5948" y="652"/>
                  </a:lnTo>
                  <a:lnTo>
                    <a:pt x="5951" y="669"/>
                  </a:lnTo>
                  <a:lnTo>
                    <a:pt x="5952" y="795"/>
                  </a:lnTo>
                  <a:lnTo>
                    <a:pt x="5953" y="488"/>
                  </a:lnTo>
                  <a:lnTo>
                    <a:pt x="5955" y="528"/>
                  </a:lnTo>
                  <a:lnTo>
                    <a:pt x="5956" y="605"/>
                  </a:lnTo>
                  <a:lnTo>
                    <a:pt x="5957" y="596"/>
                  </a:lnTo>
                  <a:lnTo>
                    <a:pt x="5959" y="651"/>
                  </a:lnTo>
                  <a:lnTo>
                    <a:pt x="5961" y="609"/>
                  </a:lnTo>
                  <a:lnTo>
                    <a:pt x="5962" y="501"/>
                  </a:lnTo>
                  <a:lnTo>
                    <a:pt x="5963" y="615"/>
                  </a:lnTo>
                  <a:lnTo>
                    <a:pt x="5965" y="648"/>
                  </a:lnTo>
                  <a:lnTo>
                    <a:pt x="5966" y="913"/>
                  </a:lnTo>
                  <a:lnTo>
                    <a:pt x="5967" y="626"/>
                  </a:lnTo>
                  <a:lnTo>
                    <a:pt x="5969" y="781"/>
                  </a:lnTo>
                  <a:lnTo>
                    <a:pt x="5971" y="563"/>
                  </a:lnTo>
                  <a:lnTo>
                    <a:pt x="5972" y="685"/>
                  </a:lnTo>
                  <a:lnTo>
                    <a:pt x="5973" y="515"/>
                  </a:lnTo>
                  <a:lnTo>
                    <a:pt x="5975" y="477"/>
                  </a:lnTo>
                  <a:lnTo>
                    <a:pt x="5976" y="505"/>
                  </a:lnTo>
                  <a:lnTo>
                    <a:pt x="5977" y="467"/>
                  </a:lnTo>
                  <a:lnTo>
                    <a:pt x="5980" y="726"/>
                  </a:lnTo>
                  <a:lnTo>
                    <a:pt x="5981" y="774"/>
                  </a:lnTo>
                  <a:lnTo>
                    <a:pt x="5982" y="793"/>
                  </a:lnTo>
                  <a:lnTo>
                    <a:pt x="5984" y="778"/>
                  </a:lnTo>
                  <a:lnTo>
                    <a:pt x="5985" y="579"/>
                  </a:lnTo>
                  <a:lnTo>
                    <a:pt x="5986" y="571"/>
                  </a:lnTo>
                  <a:lnTo>
                    <a:pt x="5987" y="648"/>
                  </a:lnTo>
                  <a:lnTo>
                    <a:pt x="5990" y="812"/>
                  </a:lnTo>
                  <a:lnTo>
                    <a:pt x="5991" y="811"/>
                  </a:lnTo>
                  <a:lnTo>
                    <a:pt x="5992" y="804"/>
                  </a:lnTo>
                  <a:lnTo>
                    <a:pt x="5994" y="795"/>
                  </a:lnTo>
                  <a:lnTo>
                    <a:pt x="5995" y="930"/>
                  </a:lnTo>
                  <a:lnTo>
                    <a:pt x="5996" y="829"/>
                  </a:lnTo>
                  <a:lnTo>
                    <a:pt x="5998" y="865"/>
                  </a:lnTo>
                  <a:lnTo>
                    <a:pt x="6000" y="805"/>
                  </a:lnTo>
                  <a:lnTo>
                    <a:pt x="6001" y="637"/>
                  </a:lnTo>
                  <a:lnTo>
                    <a:pt x="6002" y="573"/>
                  </a:lnTo>
                  <a:lnTo>
                    <a:pt x="6004" y="700"/>
                  </a:lnTo>
                  <a:lnTo>
                    <a:pt x="6005" y="667"/>
                  </a:lnTo>
                  <a:lnTo>
                    <a:pt x="6006" y="678"/>
                  </a:lnTo>
                  <a:lnTo>
                    <a:pt x="6009" y="878"/>
                  </a:lnTo>
                  <a:lnTo>
                    <a:pt x="6010" y="735"/>
                  </a:lnTo>
                  <a:lnTo>
                    <a:pt x="6011" y="752"/>
                  </a:lnTo>
                  <a:lnTo>
                    <a:pt x="6012" y="717"/>
                  </a:lnTo>
                  <a:lnTo>
                    <a:pt x="6014" y="663"/>
                  </a:lnTo>
                  <a:lnTo>
                    <a:pt x="6015" y="845"/>
                  </a:lnTo>
                  <a:lnTo>
                    <a:pt x="6016" y="869"/>
                  </a:lnTo>
                  <a:lnTo>
                    <a:pt x="6019" y="845"/>
                  </a:lnTo>
                  <a:lnTo>
                    <a:pt x="6020" y="923"/>
                  </a:lnTo>
                  <a:lnTo>
                    <a:pt x="6021" y="702"/>
                  </a:lnTo>
                  <a:lnTo>
                    <a:pt x="6023" y="561"/>
                  </a:lnTo>
                  <a:lnTo>
                    <a:pt x="6024" y="669"/>
                  </a:lnTo>
                  <a:lnTo>
                    <a:pt x="6025" y="663"/>
                  </a:lnTo>
                  <a:lnTo>
                    <a:pt x="6026" y="685"/>
                  </a:lnTo>
                  <a:lnTo>
                    <a:pt x="6029" y="578"/>
                  </a:lnTo>
                  <a:lnTo>
                    <a:pt x="6030" y="678"/>
                  </a:lnTo>
                  <a:lnTo>
                    <a:pt x="6031" y="795"/>
                  </a:lnTo>
                  <a:lnTo>
                    <a:pt x="6033" y="639"/>
                  </a:lnTo>
                  <a:lnTo>
                    <a:pt x="6034" y="732"/>
                  </a:lnTo>
                  <a:lnTo>
                    <a:pt x="6035" y="698"/>
                  </a:lnTo>
                  <a:lnTo>
                    <a:pt x="6038" y="651"/>
                  </a:lnTo>
                  <a:lnTo>
                    <a:pt x="6039" y="719"/>
                  </a:lnTo>
                  <a:lnTo>
                    <a:pt x="6040" y="628"/>
                  </a:lnTo>
                  <a:lnTo>
                    <a:pt x="6041" y="706"/>
                  </a:lnTo>
                  <a:lnTo>
                    <a:pt x="6043" y="693"/>
                  </a:lnTo>
                  <a:lnTo>
                    <a:pt x="6044" y="592"/>
                  </a:lnTo>
                  <a:lnTo>
                    <a:pt x="6045" y="689"/>
                  </a:lnTo>
                  <a:lnTo>
                    <a:pt x="6048" y="513"/>
                  </a:lnTo>
                  <a:lnTo>
                    <a:pt x="6049" y="619"/>
                  </a:lnTo>
                  <a:lnTo>
                    <a:pt x="6050" y="405"/>
                  </a:lnTo>
                  <a:lnTo>
                    <a:pt x="6052" y="363"/>
                  </a:lnTo>
                  <a:lnTo>
                    <a:pt x="6053" y="394"/>
                  </a:lnTo>
                  <a:lnTo>
                    <a:pt x="6054" y="422"/>
                  </a:lnTo>
                  <a:lnTo>
                    <a:pt x="6055" y="508"/>
                  </a:lnTo>
                  <a:lnTo>
                    <a:pt x="6058" y="657"/>
                  </a:lnTo>
                  <a:lnTo>
                    <a:pt x="6059" y="844"/>
                  </a:lnTo>
                  <a:lnTo>
                    <a:pt x="6060" y="630"/>
                  </a:lnTo>
                  <a:lnTo>
                    <a:pt x="6062" y="620"/>
                  </a:lnTo>
                  <a:lnTo>
                    <a:pt x="6063" y="671"/>
                  </a:lnTo>
                  <a:lnTo>
                    <a:pt x="6064" y="616"/>
                  </a:lnTo>
                  <a:lnTo>
                    <a:pt x="6065" y="545"/>
                  </a:lnTo>
                  <a:lnTo>
                    <a:pt x="6068" y="550"/>
                  </a:lnTo>
                  <a:lnTo>
                    <a:pt x="6069" y="616"/>
                  </a:lnTo>
                  <a:lnTo>
                    <a:pt x="6070" y="704"/>
                  </a:lnTo>
                  <a:lnTo>
                    <a:pt x="6072" y="500"/>
                  </a:lnTo>
                  <a:lnTo>
                    <a:pt x="6073" y="777"/>
                  </a:lnTo>
                  <a:lnTo>
                    <a:pt x="6074" y="627"/>
                  </a:lnTo>
                  <a:lnTo>
                    <a:pt x="6077" y="605"/>
                  </a:lnTo>
                  <a:lnTo>
                    <a:pt x="6078" y="615"/>
                  </a:lnTo>
                  <a:lnTo>
                    <a:pt x="6079" y="803"/>
                  </a:lnTo>
                  <a:lnTo>
                    <a:pt x="6080" y="940"/>
                  </a:lnTo>
                  <a:lnTo>
                    <a:pt x="6082" y="805"/>
                  </a:lnTo>
                  <a:lnTo>
                    <a:pt x="6083" y="867"/>
                  </a:lnTo>
                  <a:lnTo>
                    <a:pt x="6084" y="822"/>
                  </a:lnTo>
                  <a:lnTo>
                    <a:pt x="6087" y="799"/>
                  </a:lnTo>
                  <a:lnTo>
                    <a:pt x="6088" y="668"/>
                  </a:lnTo>
                  <a:lnTo>
                    <a:pt x="6089" y="677"/>
                  </a:lnTo>
                  <a:lnTo>
                    <a:pt x="6091" y="601"/>
                  </a:lnTo>
                  <a:lnTo>
                    <a:pt x="6092" y="586"/>
                  </a:lnTo>
                  <a:lnTo>
                    <a:pt x="6093" y="661"/>
                  </a:lnTo>
                  <a:lnTo>
                    <a:pt x="6094" y="629"/>
                  </a:lnTo>
                  <a:lnTo>
                    <a:pt x="6097" y="608"/>
                  </a:lnTo>
                  <a:lnTo>
                    <a:pt x="6098" y="557"/>
                  </a:lnTo>
                  <a:lnTo>
                    <a:pt x="6099" y="641"/>
                  </a:lnTo>
                  <a:lnTo>
                    <a:pt x="6101" y="529"/>
                  </a:lnTo>
                  <a:lnTo>
                    <a:pt x="6102" y="241"/>
                  </a:lnTo>
                  <a:lnTo>
                    <a:pt x="6103" y="562"/>
                  </a:lnTo>
                  <a:lnTo>
                    <a:pt x="6104" y="396"/>
                  </a:lnTo>
                  <a:lnTo>
                    <a:pt x="6107" y="357"/>
                  </a:lnTo>
                  <a:lnTo>
                    <a:pt x="6108" y="474"/>
                  </a:lnTo>
                  <a:lnTo>
                    <a:pt x="6109" y="564"/>
                  </a:lnTo>
                  <a:lnTo>
                    <a:pt x="6111" y="413"/>
                  </a:lnTo>
                  <a:lnTo>
                    <a:pt x="6112" y="431"/>
                  </a:lnTo>
                  <a:lnTo>
                    <a:pt x="6113" y="260"/>
                  </a:lnTo>
                  <a:lnTo>
                    <a:pt x="6116" y="159"/>
                  </a:lnTo>
                  <a:lnTo>
                    <a:pt x="6117" y="117"/>
                  </a:lnTo>
                  <a:lnTo>
                    <a:pt x="6118" y="241"/>
                  </a:lnTo>
                  <a:lnTo>
                    <a:pt x="6119" y="365"/>
                  </a:lnTo>
                  <a:lnTo>
                    <a:pt x="6121" y="203"/>
                  </a:lnTo>
                  <a:lnTo>
                    <a:pt x="6122" y="258"/>
                  </a:lnTo>
                  <a:lnTo>
                    <a:pt x="6123" y="287"/>
                  </a:lnTo>
                  <a:lnTo>
                    <a:pt x="6126" y="504"/>
                  </a:lnTo>
                  <a:lnTo>
                    <a:pt x="6127" y="593"/>
                  </a:lnTo>
                  <a:lnTo>
                    <a:pt x="6128" y="377"/>
                  </a:lnTo>
                  <a:lnTo>
                    <a:pt x="6130" y="424"/>
                  </a:lnTo>
                  <a:lnTo>
                    <a:pt x="6131" y="612"/>
                  </a:lnTo>
                  <a:lnTo>
                    <a:pt x="6132" y="567"/>
                  </a:lnTo>
                  <a:lnTo>
                    <a:pt x="6133" y="417"/>
                  </a:lnTo>
                  <a:lnTo>
                    <a:pt x="6136" y="444"/>
                  </a:lnTo>
                  <a:lnTo>
                    <a:pt x="6137" y="554"/>
                  </a:lnTo>
                  <a:lnTo>
                    <a:pt x="6138" y="744"/>
                  </a:lnTo>
                  <a:lnTo>
                    <a:pt x="6140" y="756"/>
                  </a:lnTo>
                  <a:lnTo>
                    <a:pt x="6141" y="781"/>
                  </a:lnTo>
                  <a:lnTo>
                    <a:pt x="6142" y="830"/>
                  </a:lnTo>
                  <a:lnTo>
                    <a:pt x="6145" y="757"/>
                  </a:lnTo>
                  <a:lnTo>
                    <a:pt x="6146" y="573"/>
                  </a:lnTo>
                  <a:lnTo>
                    <a:pt x="6147" y="586"/>
                  </a:lnTo>
                  <a:lnTo>
                    <a:pt x="6148" y="467"/>
                  </a:lnTo>
                  <a:lnTo>
                    <a:pt x="6150" y="681"/>
                  </a:lnTo>
                  <a:lnTo>
                    <a:pt x="6151" y="719"/>
                  </a:lnTo>
                  <a:lnTo>
                    <a:pt x="6152" y="832"/>
                  </a:lnTo>
                  <a:lnTo>
                    <a:pt x="6155" y="881"/>
                  </a:lnTo>
                  <a:lnTo>
                    <a:pt x="6156" y="724"/>
                  </a:lnTo>
                  <a:lnTo>
                    <a:pt x="6157" y="709"/>
                  </a:lnTo>
                  <a:lnTo>
                    <a:pt x="6158" y="780"/>
                  </a:lnTo>
                  <a:lnTo>
                    <a:pt x="6160" y="669"/>
                  </a:lnTo>
                  <a:lnTo>
                    <a:pt x="6161" y="853"/>
                  </a:lnTo>
                  <a:lnTo>
                    <a:pt x="6162" y="826"/>
                  </a:lnTo>
                  <a:lnTo>
                    <a:pt x="6165" y="870"/>
                  </a:lnTo>
                  <a:lnTo>
                    <a:pt x="6166" y="885"/>
                  </a:lnTo>
                  <a:lnTo>
                    <a:pt x="6167" y="1011"/>
                  </a:lnTo>
                  <a:lnTo>
                    <a:pt x="6169" y="787"/>
                  </a:lnTo>
                  <a:lnTo>
                    <a:pt x="6170" y="727"/>
                  </a:lnTo>
                  <a:lnTo>
                    <a:pt x="6171" y="825"/>
                  </a:lnTo>
                  <a:lnTo>
                    <a:pt x="6172" y="810"/>
                  </a:lnTo>
                  <a:lnTo>
                    <a:pt x="6175" y="894"/>
                  </a:lnTo>
                  <a:lnTo>
                    <a:pt x="6176" y="720"/>
                  </a:lnTo>
                  <a:lnTo>
                    <a:pt x="6177" y="702"/>
                  </a:lnTo>
                  <a:lnTo>
                    <a:pt x="6179" y="812"/>
                  </a:lnTo>
                  <a:lnTo>
                    <a:pt x="6180" y="1082"/>
                  </a:lnTo>
                  <a:lnTo>
                    <a:pt x="6181" y="815"/>
                  </a:lnTo>
                  <a:lnTo>
                    <a:pt x="6184" y="712"/>
                  </a:lnTo>
                  <a:lnTo>
                    <a:pt x="6185" y="722"/>
                  </a:lnTo>
                  <a:lnTo>
                    <a:pt x="6186" y="689"/>
                  </a:lnTo>
                  <a:lnTo>
                    <a:pt x="6187" y="753"/>
                  </a:lnTo>
                  <a:lnTo>
                    <a:pt x="6189" y="903"/>
                  </a:lnTo>
                  <a:lnTo>
                    <a:pt x="6190" y="961"/>
                  </a:lnTo>
                  <a:lnTo>
                    <a:pt x="6191" y="749"/>
                  </a:lnTo>
                  <a:lnTo>
                    <a:pt x="6194" y="794"/>
                  </a:lnTo>
                  <a:lnTo>
                    <a:pt x="6195" y="706"/>
                  </a:lnTo>
                  <a:lnTo>
                    <a:pt x="6196" y="771"/>
                  </a:lnTo>
                  <a:lnTo>
                    <a:pt x="6197" y="645"/>
                  </a:lnTo>
                  <a:lnTo>
                    <a:pt x="6199" y="695"/>
                  </a:lnTo>
                  <a:lnTo>
                    <a:pt x="6200" y="860"/>
                  </a:lnTo>
                  <a:lnTo>
                    <a:pt x="6202" y="858"/>
                  </a:lnTo>
                  <a:lnTo>
                    <a:pt x="6204" y="658"/>
                  </a:lnTo>
                  <a:lnTo>
                    <a:pt x="6205" y="752"/>
                  </a:lnTo>
                  <a:lnTo>
                    <a:pt x="6206" y="801"/>
                  </a:lnTo>
                  <a:lnTo>
                    <a:pt x="6208" y="768"/>
                  </a:lnTo>
                  <a:lnTo>
                    <a:pt x="6209" y="749"/>
                  </a:lnTo>
                  <a:lnTo>
                    <a:pt x="6210" y="752"/>
                  </a:lnTo>
                  <a:lnTo>
                    <a:pt x="6212" y="792"/>
                  </a:lnTo>
                  <a:lnTo>
                    <a:pt x="6214" y="706"/>
                  </a:lnTo>
                  <a:lnTo>
                    <a:pt x="6215" y="778"/>
                  </a:lnTo>
                  <a:lnTo>
                    <a:pt x="6216" y="649"/>
                  </a:lnTo>
                  <a:lnTo>
                    <a:pt x="6218" y="729"/>
                  </a:lnTo>
                  <a:lnTo>
                    <a:pt x="6219" y="830"/>
                  </a:lnTo>
                  <a:lnTo>
                    <a:pt x="6220" y="943"/>
                  </a:lnTo>
                  <a:lnTo>
                    <a:pt x="6223" y="1108"/>
                  </a:lnTo>
                  <a:lnTo>
                    <a:pt x="6224" y="1116"/>
                  </a:lnTo>
                  <a:lnTo>
                    <a:pt x="6225" y="981"/>
                  </a:lnTo>
                  <a:lnTo>
                    <a:pt x="6226" y="940"/>
                  </a:lnTo>
                  <a:lnTo>
                    <a:pt x="6228" y="987"/>
                  </a:lnTo>
                  <a:lnTo>
                    <a:pt x="6229" y="1005"/>
                  </a:lnTo>
                  <a:lnTo>
                    <a:pt x="6231" y="1047"/>
                  </a:lnTo>
                  <a:lnTo>
                    <a:pt x="6233" y="994"/>
                  </a:lnTo>
                  <a:lnTo>
                    <a:pt x="6234" y="960"/>
                  </a:lnTo>
                  <a:lnTo>
                    <a:pt x="6235" y="966"/>
                  </a:lnTo>
                  <a:lnTo>
                    <a:pt x="6236" y="781"/>
                  </a:lnTo>
                  <a:lnTo>
                    <a:pt x="6238" y="853"/>
                  </a:lnTo>
                  <a:lnTo>
                    <a:pt x="6239" y="872"/>
                  </a:lnTo>
                  <a:lnTo>
                    <a:pt x="6241" y="787"/>
                  </a:lnTo>
                  <a:lnTo>
                    <a:pt x="6243" y="612"/>
                  </a:lnTo>
                  <a:lnTo>
                    <a:pt x="6244" y="776"/>
                  </a:lnTo>
                  <a:lnTo>
                    <a:pt x="6245" y="1132"/>
                  </a:lnTo>
                  <a:lnTo>
                    <a:pt x="6247" y="1163"/>
                  </a:lnTo>
                  <a:lnTo>
                    <a:pt x="6248" y="1146"/>
                  </a:lnTo>
                  <a:lnTo>
                    <a:pt x="6249" y="903"/>
                  </a:lnTo>
                  <a:lnTo>
                    <a:pt x="6251" y="805"/>
                  </a:lnTo>
                  <a:lnTo>
                    <a:pt x="6253" y="1006"/>
                  </a:lnTo>
                  <a:lnTo>
                    <a:pt x="6254" y="770"/>
                  </a:lnTo>
                  <a:lnTo>
                    <a:pt x="6255" y="504"/>
                  </a:lnTo>
                  <a:lnTo>
                    <a:pt x="6257" y="669"/>
                  </a:lnTo>
                  <a:lnTo>
                    <a:pt x="6258" y="920"/>
                  </a:lnTo>
                  <a:lnTo>
                    <a:pt x="6260" y="800"/>
                  </a:lnTo>
                  <a:lnTo>
                    <a:pt x="6262" y="762"/>
                  </a:lnTo>
                  <a:lnTo>
                    <a:pt x="6263" y="811"/>
                  </a:lnTo>
                  <a:lnTo>
                    <a:pt x="6264" y="813"/>
                  </a:lnTo>
                  <a:lnTo>
                    <a:pt x="6265" y="941"/>
                  </a:lnTo>
                  <a:lnTo>
                    <a:pt x="6267" y="972"/>
                  </a:lnTo>
                  <a:lnTo>
                    <a:pt x="6268" y="882"/>
                  </a:lnTo>
                  <a:lnTo>
                    <a:pt x="6270" y="756"/>
                  </a:lnTo>
                  <a:lnTo>
                    <a:pt x="6272" y="729"/>
                  </a:lnTo>
                  <a:lnTo>
                    <a:pt x="6273" y="782"/>
                  </a:lnTo>
                  <a:lnTo>
                    <a:pt x="6274" y="719"/>
                  </a:lnTo>
                  <a:lnTo>
                    <a:pt x="6276" y="891"/>
                  </a:lnTo>
                  <a:lnTo>
                    <a:pt x="6277" y="820"/>
                  </a:lnTo>
                  <a:lnTo>
                    <a:pt x="6278" y="893"/>
                  </a:lnTo>
                  <a:lnTo>
                    <a:pt x="6280" y="823"/>
                  </a:lnTo>
                  <a:lnTo>
                    <a:pt x="6282" y="908"/>
                  </a:lnTo>
                  <a:lnTo>
                    <a:pt x="6283" y="828"/>
                  </a:lnTo>
                  <a:lnTo>
                    <a:pt x="6284" y="587"/>
                  </a:lnTo>
                  <a:lnTo>
                    <a:pt x="6286" y="785"/>
                  </a:lnTo>
                  <a:lnTo>
                    <a:pt x="6287" y="891"/>
                  </a:lnTo>
                  <a:lnTo>
                    <a:pt x="6289" y="932"/>
                  </a:lnTo>
                  <a:lnTo>
                    <a:pt x="6290" y="724"/>
                  </a:lnTo>
                  <a:lnTo>
                    <a:pt x="6292" y="753"/>
                  </a:lnTo>
                  <a:lnTo>
                    <a:pt x="6293" y="488"/>
                  </a:lnTo>
                  <a:lnTo>
                    <a:pt x="6294" y="702"/>
                  </a:lnTo>
                  <a:lnTo>
                    <a:pt x="6296" y="464"/>
                  </a:lnTo>
                  <a:lnTo>
                    <a:pt x="6297" y="525"/>
                  </a:lnTo>
                  <a:lnTo>
                    <a:pt x="6299" y="785"/>
                  </a:lnTo>
                  <a:lnTo>
                    <a:pt x="6301" y="620"/>
                  </a:lnTo>
                  <a:lnTo>
                    <a:pt x="6302" y="752"/>
                  </a:lnTo>
                  <a:lnTo>
                    <a:pt x="6303" y="867"/>
                  </a:lnTo>
                  <a:lnTo>
                    <a:pt x="6304" y="748"/>
                  </a:lnTo>
                  <a:lnTo>
                    <a:pt x="6306" y="626"/>
                  </a:lnTo>
                  <a:lnTo>
                    <a:pt x="6307" y="432"/>
                  </a:lnTo>
                  <a:lnTo>
                    <a:pt x="6309" y="608"/>
                  </a:lnTo>
                  <a:lnTo>
                    <a:pt x="6311" y="810"/>
                  </a:lnTo>
                  <a:lnTo>
                    <a:pt x="6312" y="871"/>
                  </a:lnTo>
                  <a:lnTo>
                    <a:pt x="6313" y="836"/>
                  </a:lnTo>
                  <a:lnTo>
                    <a:pt x="6315" y="825"/>
                  </a:lnTo>
                  <a:lnTo>
                    <a:pt x="6316" y="928"/>
                  </a:lnTo>
                  <a:lnTo>
                    <a:pt x="6318" y="807"/>
                  </a:lnTo>
                  <a:lnTo>
                    <a:pt x="6319" y="878"/>
                  </a:lnTo>
                  <a:lnTo>
                    <a:pt x="6321" y="821"/>
                  </a:lnTo>
                  <a:lnTo>
                    <a:pt x="6322" y="877"/>
                  </a:lnTo>
                  <a:lnTo>
                    <a:pt x="6323" y="860"/>
                  </a:lnTo>
                  <a:lnTo>
                    <a:pt x="6325" y="932"/>
                  </a:lnTo>
                  <a:lnTo>
                    <a:pt x="6326" y="840"/>
                  </a:lnTo>
                  <a:lnTo>
                    <a:pt x="6328" y="705"/>
                  </a:lnTo>
                  <a:lnTo>
                    <a:pt x="6329" y="734"/>
                  </a:lnTo>
                  <a:lnTo>
                    <a:pt x="6331" y="738"/>
                  </a:lnTo>
                  <a:lnTo>
                    <a:pt x="6332" y="917"/>
                  </a:lnTo>
                  <a:lnTo>
                    <a:pt x="6333" y="898"/>
                  </a:lnTo>
                  <a:lnTo>
                    <a:pt x="6335" y="1044"/>
                  </a:lnTo>
                  <a:lnTo>
                    <a:pt x="6336" y="872"/>
                  </a:lnTo>
                  <a:lnTo>
                    <a:pt x="6338" y="920"/>
                  </a:lnTo>
                  <a:lnTo>
                    <a:pt x="6340" y="893"/>
                  </a:lnTo>
                  <a:lnTo>
                    <a:pt x="6341" y="713"/>
                  </a:lnTo>
                  <a:lnTo>
                    <a:pt x="6342" y="697"/>
                  </a:lnTo>
                  <a:lnTo>
                    <a:pt x="6343" y="788"/>
                  </a:lnTo>
                  <a:lnTo>
                    <a:pt x="6345" y="863"/>
                  </a:lnTo>
                  <a:lnTo>
                    <a:pt x="6347" y="938"/>
                  </a:lnTo>
                  <a:lnTo>
                    <a:pt x="6348" y="914"/>
                  </a:lnTo>
                  <a:lnTo>
                    <a:pt x="6350" y="693"/>
                  </a:lnTo>
                  <a:lnTo>
                    <a:pt x="6351" y="663"/>
                  </a:lnTo>
                  <a:lnTo>
                    <a:pt x="6352" y="686"/>
                  </a:lnTo>
                  <a:lnTo>
                    <a:pt x="6354" y="906"/>
                  </a:lnTo>
                  <a:lnTo>
                    <a:pt x="6355" y="762"/>
                  </a:lnTo>
                  <a:lnTo>
                    <a:pt x="6357" y="760"/>
                  </a:lnTo>
                  <a:lnTo>
                    <a:pt x="6358" y="1048"/>
                  </a:lnTo>
                  <a:lnTo>
                    <a:pt x="6360" y="850"/>
                  </a:lnTo>
                  <a:lnTo>
                    <a:pt x="6361" y="813"/>
                  </a:lnTo>
                  <a:lnTo>
                    <a:pt x="6362" y="753"/>
                  </a:lnTo>
                  <a:lnTo>
                    <a:pt x="6364" y="938"/>
                  </a:lnTo>
                  <a:lnTo>
                    <a:pt x="6365" y="871"/>
                  </a:lnTo>
                  <a:lnTo>
                    <a:pt x="6367" y="823"/>
                  </a:lnTo>
                  <a:lnTo>
                    <a:pt x="6368" y="775"/>
                  </a:lnTo>
                  <a:lnTo>
                    <a:pt x="6370" y="713"/>
                  </a:lnTo>
                  <a:lnTo>
                    <a:pt x="6371" y="1042"/>
                  </a:lnTo>
                  <a:lnTo>
                    <a:pt x="6372" y="775"/>
                  </a:lnTo>
                  <a:lnTo>
                    <a:pt x="6374" y="768"/>
                  </a:lnTo>
                  <a:lnTo>
                    <a:pt x="6376" y="666"/>
                  </a:lnTo>
                  <a:lnTo>
                    <a:pt x="6377" y="903"/>
                  </a:lnTo>
                  <a:lnTo>
                    <a:pt x="6379" y="948"/>
                  </a:lnTo>
                  <a:lnTo>
                    <a:pt x="6380" y="787"/>
                  </a:lnTo>
                  <a:lnTo>
                    <a:pt x="6380" y="7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757520" y="2644920"/>
              <a:ext cx="4051080" cy="122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496880" y="296388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06240" y="33685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1701720" y="386388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1701720" y="345744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701720" y="305280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701720" y="264780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1728360" y="386388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1728360" y="366084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1728360" y="345744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1728360" y="325584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1728360" y="30528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1728360" y="28494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1728360" y="26478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rot="16200000">
              <a:off x="1262520" y="30657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 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706040" y="3932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60316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61764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62888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64156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09340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0788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12092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133600" y="393228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75428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26224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76696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27492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78144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8796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79412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0064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807160" y="387504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00808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26224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51460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76696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2112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7492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52728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78144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03380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28796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54032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79412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04684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30064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55300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807160" y="3875040"/>
              <a:ext cx="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576080" y="379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496880" y="254808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459240" y="4100400"/>
              <a:ext cx="66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[Hz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754280" y="2817720"/>
              <a:ext cx="4052880" cy="1042920"/>
            </a:xfrm>
            <a:custGeom>
              <a:avLst/>
              <a:gdLst/>
              <a:ahLst/>
              <a:rect l="l" t="t" r="r" b="b"/>
              <a:pathLst>
                <a:path w="6380" h="1643">
                  <a:moveTo>
                    <a:pt x="0" y="705"/>
                  </a:moveTo>
                  <a:lnTo>
                    <a:pt x="9" y="0"/>
                  </a:lnTo>
                  <a:lnTo>
                    <a:pt x="18" y="1162"/>
                  </a:lnTo>
                  <a:lnTo>
                    <a:pt x="26" y="638"/>
                  </a:lnTo>
                  <a:lnTo>
                    <a:pt x="35" y="125"/>
                  </a:lnTo>
                  <a:lnTo>
                    <a:pt x="44" y="893"/>
                  </a:lnTo>
                  <a:lnTo>
                    <a:pt x="51" y="1006"/>
                  </a:lnTo>
                  <a:lnTo>
                    <a:pt x="60" y="526"/>
                  </a:lnTo>
                  <a:lnTo>
                    <a:pt x="69" y="545"/>
                  </a:lnTo>
                  <a:lnTo>
                    <a:pt x="77" y="1105"/>
                  </a:lnTo>
                  <a:lnTo>
                    <a:pt x="86" y="928"/>
                  </a:lnTo>
                  <a:lnTo>
                    <a:pt x="95" y="973"/>
                  </a:lnTo>
                  <a:lnTo>
                    <a:pt x="103" y="569"/>
                  </a:lnTo>
                  <a:lnTo>
                    <a:pt x="112" y="1109"/>
                  </a:lnTo>
                  <a:lnTo>
                    <a:pt x="121" y="1074"/>
                  </a:lnTo>
                  <a:lnTo>
                    <a:pt x="130" y="734"/>
                  </a:lnTo>
                  <a:lnTo>
                    <a:pt x="137" y="856"/>
                  </a:lnTo>
                  <a:lnTo>
                    <a:pt x="146" y="1256"/>
                  </a:lnTo>
                  <a:lnTo>
                    <a:pt x="155" y="852"/>
                  </a:lnTo>
                  <a:lnTo>
                    <a:pt x="163" y="759"/>
                  </a:lnTo>
                  <a:lnTo>
                    <a:pt x="172" y="892"/>
                  </a:lnTo>
                  <a:lnTo>
                    <a:pt x="181" y="1350"/>
                  </a:lnTo>
                  <a:lnTo>
                    <a:pt x="189" y="744"/>
                  </a:lnTo>
                  <a:lnTo>
                    <a:pt x="198" y="939"/>
                  </a:lnTo>
                  <a:lnTo>
                    <a:pt x="207" y="790"/>
                  </a:lnTo>
                  <a:lnTo>
                    <a:pt x="215" y="1482"/>
                  </a:lnTo>
                  <a:lnTo>
                    <a:pt x="223" y="1533"/>
                  </a:lnTo>
                  <a:lnTo>
                    <a:pt x="232" y="1337"/>
                  </a:lnTo>
                  <a:lnTo>
                    <a:pt x="241" y="1340"/>
                  </a:lnTo>
                  <a:lnTo>
                    <a:pt x="249" y="712"/>
                  </a:lnTo>
                  <a:lnTo>
                    <a:pt x="258" y="1094"/>
                  </a:lnTo>
                  <a:lnTo>
                    <a:pt x="267" y="1240"/>
                  </a:lnTo>
                  <a:lnTo>
                    <a:pt x="275" y="1104"/>
                  </a:lnTo>
                  <a:lnTo>
                    <a:pt x="283" y="1548"/>
                  </a:lnTo>
                  <a:lnTo>
                    <a:pt x="292" y="1283"/>
                  </a:lnTo>
                  <a:lnTo>
                    <a:pt x="301" y="1049"/>
                  </a:lnTo>
                  <a:lnTo>
                    <a:pt x="309" y="1019"/>
                  </a:lnTo>
                  <a:lnTo>
                    <a:pt x="318" y="1104"/>
                  </a:lnTo>
                  <a:lnTo>
                    <a:pt x="327" y="1441"/>
                  </a:lnTo>
                  <a:lnTo>
                    <a:pt x="335" y="1430"/>
                  </a:lnTo>
                  <a:lnTo>
                    <a:pt x="344" y="1224"/>
                  </a:lnTo>
                  <a:lnTo>
                    <a:pt x="353" y="1371"/>
                  </a:lnTo>
                  <a:lnTo>
                    <a:pt x="360" y="1124"/>
                  </a:lnTo>
                  <a:lnTo>
                    <a:pt x="369" y="1507"/>
                  </a:lnTo>
                  <a:lnTo>
                    <a:pt x="378" y="1482"/>
                  </a:lnTo>
                  <a:lnTo>
                    <a:pt x="386" y="1371"/>
                  </a:lnTo>
                  <a:lnTo>
                    <a:pt x="395" y="1153"/>
                  </a:lnTo>
                  <a:lnTo>
                    <a:pt x="404" y="1208"/>
                  </a:lnTo>
                  <a:lnTo>
                    <a:pt x="413" y="978"/>
                  </a:lnTo>
                  <a:lnTo>
                    <a:pt x="421" y="1405"/>
                  </a:lnTo>
                  <a:lnTo>
                    <a:pt x="430" y="1117"/>
                  </a:lnTo>
                  <a:lnTo>
                    <a:pt x="439" y="1409"/>
                  </a:lnTo>
                  <a:lnTo>
                    <a:pt x="446" y="1124"/>
                  </a:lnTo>
                  <a:lnTo>
                    <a:pt x="455" y="1291"/>
                  </a:lnTo>
                  <a:lnTo>
                    <a:pt x="464" y="1397"/>
                  </a:lnTo>
                  <a:lnTo>
                    <a:pt x="472" y="1547"/>
                  </a:lnTo>
                  <a:lnTo>
                    <a:pt x="481" y="1342"/>
                  </a:lnTo>
                  <a:lnTo>
                    <a:pt x="490" y="1269"/>
                  </a:lnTo>
                  <a:lnTo>
                    <a:pt x="499" y="1480"/>
                  </a:lnTo>
                  <a:lnTo>
                    <a:pt x="507" y="1318"/>
                  </a:lnTo>
                  <a:lnTo>
                    <a:pt x="516" y="1383"/>
                  </a:lnTo>
                  <a:lnTo>
                    <a:pt x="524" y="1027"/>
                  </a:lnTo>
                  <a:lnTo>
                    <a:pt x="532" y="1435"/>
                  </a:lnTo>
                  <a:lnTo>
                    <a:pt x="541" y="1290"/>
                  </a:lnTo>
                  <a:lnTo>
                    <a:pt x="550" y="1426"/>
                  </a:lnTo>
                  <a:lnTo>
                    <a:pt x="558" y="1366"/>
                  </a:lnTo>
                  <a:lnTo>
                    <a:pt x="567" y="1499"/>
                  </a:lnTo>
                  <a:lnTo>
                    <a:pt x="576" y="1370"/>
                  </a:lnTo>
                  <a:lnTo>
                    <a:pt x="584" y="1309"/>
                  </a:lnTo>
                  <a:lnTo>
                    <a:pt x="592" y="1134"/>
                  </a:lnTo>
                  <a:lnTo>
                    <a:pt x="601" y="1469"/>
                  </a:lnTo>
                  <a:lnTo>
                    <a:pt x="610" y="1419"/>
                  </a:lnTo>
                  <a:lnTo>
                    <a:pt x="618" y="1253"/>
                  </a:lnTo>
                  <a:lnTo>
                    <a:pt x="627" y="1593"/>
                  </a:lnTo>
                  <a:lnTo>
                    <a:pt x="636" y="1416"/>
                  </a:lnTo>
                  <a:lnTo>
                    <a:pt x="644" y="1576"/>
                  </a:lnTo>
                  <a:lnTo>
                    <a:pt x="653" y="1365"/>
                  </a:lnTo>
                  <a:lnTo>
                    <a:pt x="662" y="1398"/>
                  </a:lnTo>
                  <a:lnTo>
                    <a:pt x="669" y="1176"/>
                  </a:lnTo>
                  <a:lnTo>
                    <a:pt x="678" y="1176"/>
                  </a:lnTo>
                  <a:lnTo>
                    <a:pt x="687" y="1263"/>
                  </a:lnTo>
                  <a:lnTo>
                    <a:pt x="696" y="1253"/>
                  </a:lnTo>
                  <a:lnTo>
                    <a:pt x="704" y="1412"/>
                  </a:lnTo>
                  <a:lnTo>
                    <a:pt x="713" y="1547"/>
                  </a:lnTo>
                  <a:lnTo>
                    <a:pt x="722" y="1297"/>
                  </a:lnTo>
                  <a:lnTo>
                    <a:pt x="730" y="1219"/>
                  </a:lnTo>
                  <a:lnTo>
                    <a:pt x="739" y="1436"/>
                  </a:lnTo>
                  <a:lnTo>
                    <a:pt x="748" y="1301"/>
                  </a:lnTo>
                  <a:lnTo>
                    <a:pt x="755" y="1385"/>
                  </a:lnTo>
                  <a:lnTo>
                    <a:pt x="764" y="1246"/>
                  </a:lnTo>
                  <a:lnTo>
                    <a:pt x="773" y="1536"/>
                  </a:lnTo>
                  <a:lnTo>
                    <a:pt x="782" y="1535"/>
                  </a:lnTo>
                  <a:lnTo>
                    <a:pt x="790" y="1226"/>
                  </a:lnTo>
                  <a:lnTo>
                    <a:pt x="799" y="1417"/>
                  </a:lnTo>
                  <a:lnTo>
                    <a:pt x="808" y="1513"/>
                  </a:lnTo>
                  <a:lnTo>
                    <a:pt x="816" y="1488"/>
                  </a:lnTo>
                  <a:lnTo>
                    <a:pt x="825" y="1467"/>
                  </a:lnTo>
                  <a:lnTo>
                    <a:pt x="833" y="1347"/>
                  </a:lnTo>
                  <a:lnTo>
                    <a:pt x="841" y="1444"/>
                  </a:lnTo>
                  <a:lnTo>
                    <a:pt x="850" y="1250"/>
                  </a:lnTo>
                  <a:lnTo>
                    <a:pt x="859" y="1501"/>
                  </a:lnTo>
                  <a:lnTo>
                    <a:pt x="867" y="1486"/>
                  </a:lnTo>
                  <a:lnTo>
                    <a:pt x="876" y="1372"/>
                  </a:lnTo>
                  <a:lnTo>
                    <a:pt x="885" y="1388"/>
                  </a:lnTo>
                  <a:lnTo>
                    <a:pt x="894" y="1245"/>
                  </a:lnTo>
                  <a:lnTo>
                    <a:pt x="901" y="1383"/>
                  </a:lnTo>
                  <a:lnTo>
                    <a:pt x="910" y="1457"/>
                  </a:lnTo>
                  <a:lnTo>
                    <a:pt x="919" y="1561"/>
                  </a:lnTo>
                  <a:lnTo>
                    <a:pt x="927" y="1459"/>
                  </a:lnTo>
                  <a:lnTo>
                    <a:pt x="936" y="1319"/>
                  </a:lnTo>
                  <a:lnTo>
                    <a:pt x="945" y="1570"/>
                  </a:lnTo>
                  <a:lnTo>
                    <a:pt x="953" y="1564"/>
                  </a:lnTo>
                  <a:lnTo>
                    <a:pt x="962" y="1513"/>
                  </a:lnTo>
                  <a:lnTo>
                    <a:pt x="971" y="1541"/>
                  </a:lnTo>
                  <a:lnTo>
                    <a:pt x="980" y="1399"/>
                  </a:lnTo>
                  <a:lnTo>
                    <a:pt x="987" y="1424"/>
                  </a:lnTo>
                  <a:lnTo>
                    <a:pt x="996" y="1595"/>
                  </a:lnTo>
                  <a:lnTo>
                    <a:pt x="1005" y="1065"/>
                  </a:lnTo>
                  <a:lnTo>
                    <a:pt x="1013" y="1433"/>
                  </a:lnTo>
                  <a:lnTo>
                    <a:pt x="1022" y="1435"/>
                  </a:lnTo>
                  <a:lnTo>
                    <a:pt x="1031" y="1509"/>
                  </a:lnTo>
                  <a:lnTo>
                    <a:pt x="1039" y="1398"/>
                  </a:lnTo>
                  <a:lnTo>
                    <a:pt x="1048" y="1054"/>
                  </a:lnTo>
                  <a:lnTo>
                    <a:pt x="1057" y="1323"/>
                  </a:lnTo>
                  <a:lnTo>
                    <a:pt x="1064" y="1483"/>
                  </a:lnTo>
                  <a:lnTo>
                    <a:pt x="1073" y="1416"/>
                  </a:lnTo>
                  <a:lnTo>
                    <a:pt x="1082" y="1221"/>
                  </a:lnTo>
                  <a:lnTo>
                    <a:pt x="1091" y="1241"/>
                  </a:lnTo>
                  <a:lnTo>
                    <a:pt x="1099" y="1339"/>
                  </a:lnTo>
                  <a:lnTo>
                    <a:pt x="1108" y="1336"/>
                  </a:lnTo>
                  <a:lnTo>
                    <a:pt x="1117" y="1497"/>
                  </a:lnTo>
                  <a:lnTo>
                    <a:pt x="1125" y="1477"/>
                  </a:lnTo>
                  <a:lnTo>
                    <a:pt x="1134" y="1358"/>
                  </a:lnTo>
                  <a:lnTo>
                    <a:pt x="1142" y="1458"/>
                  </a:lnTo>
                  <a:lnTo>
                    <a:pt x="1150" y="1485"/>
                  </a:lnTo>
                  <a:lnTo>
                    <a:pt x="1159" y="1368"/>
                  </a:lnTo>
                  <a:lnTo>
                    <a:pt x="1168" y="1571"/>
                  </a:lnTo>
                  <a:lnTo>
                    <a:pt x="1177" y="1454"/>
                  </a:lnTo>
                  <a:lnTo>
                    <a:pt x="1185" y="1415"/>
                  </a:lnTo>
                  <a:lnTo>
                    <a:pt x="1194" y="1612"/>
                  </a:lnTo>
                  <a:lnTo>
                    <a:pt x="1203" y="1376"/>
                  </a:lnTo>
                  <a:lnTo>
                    <a:pt x="1211" y="1273"/>
                  </a:lnTo>
                  <a:lnTo>
                    <a:pt x="1219" y="1537"/>
                  </a:lnTo>
                  <a:lnTo>
                    <a:pt x="1228" y="1399"/>
                  </a:lnTo>
                  <a:lnTo>
                    <a:pt x="1236" y="1497"/>
                  </a:lnTo>
                  <a:lnTo>
                    <a:pt x="1245" y="1439"/>
                  </a:lnTo>
                  <a:lnTo>
                    <a:pt x="1254" y="1547"/>
                  </a:lnTo>
                  <a:lnTo>
                    <a:pt x="1263" y="1420"/>
                  </a:lnTo>
                  <a:lnTo>
                    <a:pt x="1271" y="1365"/>
                  </a:lnTo>
                  <a:lnTo>
                    <a:pt x="1280" y="1444"/>
                  </a:lnTo>
                  <a:lnTo>
                    <a:pt x="1289" y="1341"/>
                  </a:lnTo>
                  <a:lnTo>
                    <a:pt x="1296" y="1303"/>
                  </a:lnTo>
                  <a:lnTo>
                    <a:pt x="1305" y="1598"/>
                  </a:lnTo>
                  <a:lnTo>
                    <a:pt x="1314" y="1304"/>
                  </a:lnTo>
                  <a:lnTo>
                    <a:pt x="1322" y="1540"/>
                  </a:lnTo>
                  <a:lnTo>
                    <a:pt x="1331" y="1616"/>
                  </a:lnTo>
                  <a:lnTo>
                    <a:pt x="1340" y="1469"/>
                  </a:lnTo>
                  <a:lnTo>
                    <a:pt x="1348" y="1317"/>
                  </a:lnTo>
                  <a:lnTo>
                    <a:pt x="1357" y="1320"/>
                  </a:lnTo>
                  <a:lnTo>
                    <a:pt x="1366" y="1545"/>
                  </a:lnTo>
                  <a:lnTo>
                    <a:pt x="1374" y="1195"/>
                  </a:lnTo>
                  <a:lnTo>
                    <a:pt x="1382" y="1482"/>
                  </a:lnTo>
                  <a:lnTo>
                    <a:pt x="1391" y="1548"/>
                  </a:lnTo>
                  <a:lnTo>
                    <a:pt x="1400" y="1326"/>
                  </a:lnTo>
                  <a:lnTo>
                    <a:pt x="1408" y="1478"/>
                  </a:lnTo>
                  <a:lnTo>
                    <a:pt x="1417" y="1531"/>
                  </a:lnTo>
                  <a:lnTo>
                    <a:pt x="1426" y="1604"/>
                  </a:lnTo>
                  <a:lnTo>
                    <a:pt x="1434" y="1601"/>
                  </a:lnTo>
                  <a:lnTo>
                    <a:pt x="1443" y="1509"/>
                  </a:lnTo>
                  <a:lnTo>
                    <a:pt x="1451" y="1515"/>
                  </a:lnTo>
                  <a:lnTo>
                    <a:pt x="1460" y="1357"/>
                  </a:lnTo>
                  <a:lnTo>
                    <a:pt x="1468" y="1556"/>
                  </a:lnTo>
                  <a:lnTo>
                    <a:pt x="1477" y="1628"/>
                  </a:lnTo>
                  <a:lnTo>
                    <a:pt x="1486" y="1465"/>
                  </a:lnTo>
                  <a:lnTo>
                    <a:pt x="1494" y="1589"/>
                  </a:lnTo>
                  <a:lnTo>
                    <a:pt x="1503" y="1590"/>
                  </a:lnTo>
                  <a:lnTo>
                    <a:pt x="1512" y="1577"/>
                  </a:lnTo>
                  <a:lnTo>
                    <a:pt x="1520" y="1453"/>
                  </a:lnTo>
                  <a:lnTo>
                    <a:pt x="1528" y="1506"/>
                  </a:lnTo>
                  <a:lnTo>
                    <a:pt x="1537" y="1295"/>
                  </a:lnTo>
                  <a:lnTo>
                    <a:pt x="1545" y="1448"/>
                  </a:lnTo>
                  <a:lnTo>
                    <a:pt x="1554" y="1587"/>
                  </a:lnTo>
                  <a:lnTo>
                    <a:pt x="1563" y="1483"/>
                  </a:lnTo>
                  <a:lnTo>
                    <a:pt x="1572" y="1534"/>
                  </a:lnTo>
                  <a:lnTo>
                    <a:pt x="1580" y="1551"/>
                  </a:lnTo>
                  <a:lnTo>
                    <a:pt x="1589" y="1606"/>
                  </a:lnTo>
                  <a:lnTo>
                    <a:pt x="1598" y="1515"/>
                  </a:lnTo>
                  <a:lnTo>
                    <a:pt x="1605" y="1412"/>
                  </a:lnTo>
                  <a:lnTo>
                    <a:pt x="1614" y="1528"/>
                  </a:lnTo>
                  <a:lnTo>
                    <a:pt x="1623" y="1528"/>
                  </a:lnTo>
                  <a:lnTo>
                    <a:pt x="1631" y="1516"/>
                  </a:lnTo>
                  <a:lnTo>
                    <a:pt x="1640" y="1608"/>
                  </a:lnTo>
                  <a:lnTo>
                    <a:pt x="1649" y="1593"/>
                  </a:lnTo>
                  <a:lnTo>
                    <a:pt x="1658" y="1424"/>
                  </a:lnTo>
                  <a:lnTo>
                    <a:pt x="1666" y="1439"/>
                  </a:lnTo>
                  <a:lnTo>
                    <a:pt x="1675" y="1371"/>
                  </a:lnTo>
                  <a:lnTo>
                    <a:pt x="1683" y="1332"/>
                  </a:lnTo>
                  <a:lnTo>
                    <a:pt x="1691" y="1362"/>
                  </a:lnTo>
                  <a:lnTo>
                    <a:pt x="1700" y="1455"/>
                  </a:lnTo>
                  <a:lnTo>
                    <a:pt x="1709" y="1458"/>
                  </a:lnTo>
                  <a:lnTo>
                    <a:pt x="1717" y="1489"/>
                  </a:lnTo>
                  <a:lnTo>
                    <a:pt x="1726" y="1487"/>
                  </a:lnTo>
                  <a:lnTo>
                    <a:pt x="1735" y="1542"/>
                  </a:lnTo>
                  <a:lnTo>
                    <a:pt x="1744" y="1445"/>
                  </a:lnTo>
                  <a:lnTo>
                    <a:pt x="1752" y="1533"/>
                  </a:lnTo>
                  <a:lnTo>
                    <a:pt x="1760" y="1446"/>
                  </a:lnTo>
                  <a:lnTo>
                    <a:pt x="1769" y="1635"/>
                  </a:lnTo>
                  <a:lnTo>
                    <a:pt x="1777" y="1566"/>
                  </a:lnTo>
                  <a:lnTo>
                    <a:pt x="1786" y="1535"/>
                  </a:lnTo>
                  <a:lnTo>
                    <a:pt x="1795" y="1423"/>
                  </a:lnTo>
                  <a:lnTo>
                    <a:pt x="1803" y="1406"/>
                  </a:lnTo>
                  <a:lnTo>
                    <a:pt x="1812" y="1590"/>
                  </a:lnTo>
                  <a:lnTo>
                    <a:pt x="1821" y="1443"/>
                  </a:lnTo>
                  <a:lnTo>
                    <a:pt x="1829" y="1557"/>
                  </a:lnTo>
                  <a:lnTo>
                    <a:pt x="1837" y="1550"/>
                  </a:lnTo>
                  <a:lnTo>
                    <a:pt x="1846" y="1478"/>
                  </a:lnTo>
                  <a:lnTo>
                    <a:pt x="1855" y="1555"/>
                  </a:lnTo>
                  <a:lnTo>
                    <a:pt x="1863" y="1460"/>
                  </a:lnTo>
                  <a:lnTo>
                    <a:pt x="1872" y="1332"/>
                  </a:lnTo>
                  <a:lnTo>
                    <a:pt x="1881" y="1572"/>
                  </a:lnTo>
                  <a:lnTo>
                    <a:pt x="1889" y="1465"/>
                  </a:lnTo>
                  <a:lnTo>
                    <a:pt x="1898" y="1616"/>
                  </a:lnTo>
                  <a:lnTo>
                    <a:pt x="1907" y="1491"/>
                  </a:lnTo>
                  <a:lnTo>
                    <a:pt x="1914" y="1489"/>
                  </a:lnTo>
                  <a:lnTo>
                    <a:pt x="1923" y="1544"/>
                  </a:lnTo>
                  <a:lnTo>
                    <a:pt x="1932" y="1641"/>
                  </a:lnTo>
                  <a:lnTo>
                    <a:pt x="1941" y="1512"/>
                  </a:lnTo>
                  <a:lnTo>
                    <a:pt x="1949" y="1524"/>
                  </a:lnTo>
                  <a:lnTo>
                    <a:pt x="1958" y="1263"/>
                  </a:lnTo>
                  <a:lnTo>
                    <a:pt x="1967" y="1279"/>
                  </a:lnTo>
                  <a:lnTo>
                    <a:pt x="1975" y="1377"/>
                  </a:lnTo>
                  <a:lnTo>
                    <a:pt x="1984" y="1454"/>
                  </a:lnTo>
                  <a:lnTo>
                    <a:pt x="1993" y="1376"/>
                  </a:lnTo>
                  <a:lnTo>
                    <a:pt x="2000" y="1465"/>
                  </a:lnTo>
                  <a:lnTo>
                    <a:pt x="2009" y="1631"/>
                  </a:lnTo>
                  <a:lnTo>
                    <a:pt x="2018" y="1601"/>
                  </a:lnTo>
                  <a:lnTo>
                    <a:pt x="2026" y="1624"/>
                  </a:lnTo>
                  <a:lnTo>
                    <a:pt x="2035" y="1569"/>
                  </a:lnTo>
                  <a:lnTo>
                    <a:pt x="2044" y="1526"/>
                  </a:lnTo>
                  <a:lnTo>
                    <a:pt x="2053" y="1560"/>
                  </a:lnTo>
                  <a:lnTo>
                    <a:pt x="2061" y="1483"/>
                  </a:lnTo>
                  <a:lnTo>
                    <a:pt x="2069" y="1605"/>
                  </a:lnTo>
                  <a:lnTo>
                    <a:pt x="2078" y="1410"/>
                  </a:lnTo>
                  <a:lnTo>
                    <a:pt x="2086" y="1567"/>
                  </a:lnTo>
                  <a:lnTo>
                    <a:pt x="2095" y="1611"/>
                  </a:lnTo>
                  <a:lnTo>
                    <a:pt x="2104" y="1541"/>
                  </a:lnTo>
                  <a:lnTo>
                    <a:pt x="2112" y="1517"/>
                  </a:lnTo>
                  <a:lnTo>
                    <a:pt x="2121" y="1542"/>
                  </a:lnTo>
                  <a:lnTo>
                    <a:pt x="2130" y="1570"/>
                  </a:lnTo>
                  <a:lnTo>
                    <a:pt x="2139" y="1457"/>
                  </a:lnTo>
                  <a:lnTo>
                    <a:pt x="2146" y="1487"/>
                  </a:lnTo>
                  <a:lnTo>
                    <a:pt x="2155" y="1519"/>
                  </a:lnTo>
                  <a:lnTo>
                    <a:pt x="2164" y="1514"/>
                  </a:lnTo>
                  <a:lnTo>
                    <a:pt x="2172" y="1501"/>
                  </a:lnTo>
                  <a:lnTo>
                    <a:pt x="2181" y="1308"/>
                  </a:lnTo>
                  <a:lnTo>
                    <a:pt x="2190" y="1616"/>
                  </a:lnTo>
                  <a:lnTo>
                    <a:pt x="2198" y="1538"/>
                  </a:lnTo>
                  <a:lnTo>
                    <a:pt x="2207" y="1536"/>
                  </a:lnTo>
                  <a:lnTo>
                    <a:pt x="2216" y="1338"/>
                  </a:lnTo>
                  <a:lnTo>
                    <a:pt x="2225" y="1542"/>
                  </a:lnTo>
                  <a:lnTo>
                    <a:pt x="2232" y="1346"/>
                  </a:lnTo>
                  <a:lnTo>
                    <a:pt x="2241" y="1380"/>
                  </a:lnTo>
                  <a:lnTo>
                    <a:pt x="2250" y="1356"/>
                  </a:lnTo>
                  <a:lnTo>
                    <a:pt x="2258" y="1627"/>
                  </a:lnTo>
                  <a:lnTo>
                    <a:pt x="2267" y="1408"/>
                  </a:lnTo>
                  <a:lnTo>
                    <a:pt x="2276" y="1509"/>
                  </a:lnTo>
                  <a:lnTo>
                    <a:pt x="2284" y="1430"/>
                  </a:lnTo>
                  <a:lnTo>
                    <a:pt x="2293" y="1528"/>
                  </a:lnTo>
                  <a:lnTo>
                    <a:pt x="2302" y="1513"/>
                  </a:lnTo>
                  <a:lnTo>
                    <a:pt x="2309" y="1564"/>
                  </a:lnTo>
                  <a:lnTo>
                    <a:pt x="2318" y="1397"/>
                  </a:lnTo>
                  <a:lnTo>
                    <a:pt x="2327" y="1538"/>
                  </a:lnTo>
                  <a:lnTo>
                    <a:pt x="2336" y="1517"/>
                  </a:lnTo>
                  <a:lnTo>
                    <a:pt x="2344" y="1505"/>
                  </a:lnTo>
                  <a:lnTo>
                    <a:pt x="2353" y="1526"/>
                  </a:lnTo>
                  <a:lnTo>
                    <a:pt x="2362" y="1589"/>
                  </a:lnTo>
                  <a:lnTo>
                    <a:pt x="2370" y="1540"/>
                  </a:lnTo>
                  <a:lnTo>
                    <a:pt x="2378" y="1466"/>
                  </a:lnTo>
                  <a:lnTo>
                    <a:pt x="2387" y="1431"/>
                  </a:lnTo>
                  <a:lnTo>
                    <a:pt x="2395" y="1544"/>
                  </a:lnTo>
                  <a:lnTo>
                    <a:pt x="2404" y="1536"/>
                  </a:lnTo>
                  <a:lnTo>
                    <a:pt x="2413" y="1260"/>
                  </a:lnTo>
                  <a:lnTo>
                    <a:pt x="2422" y="1533"/>
                  </a:lnTo>
                  <a:lnTo>
                    <a:pt x="2430" y="1429"/>
                  </a:lnTo>
                  <a:lnTo>
                    <a:pt x="2439" y="1516"/>
                  </a:lnTo>
                  <a:lnTo>
                    <a:pt x="2448" y="1494"/>
                  </a:lnTo>
                  <a:lnTo>
                    <a:pt x="2455" y="1457"/>
                  </a:lnTo>
                  <a:lnTo>
                    <a:pt x="2464" y="1555"/>
                  </a:lnTo>
                  <a:lnTo>
                    <a:pt x="2473" y="1535"/>
                  </a:lnTo>
                  <a:lnTo>
                    <a:pt x="2481" y="1561"/>
                  </a:lnTo>
                  <a:lnTo>
                    <a:pt x="2490" y="1476"/>
                  </a:lnTo>
                  <a:lnTo>
                    <a:pt x="2499" y="1557"/>
                  </a:lnTo>
                  <a:lnTo>
                    <a:pt x="2507" y="1580"/>
                  </a:lnTo>
                  <a:lnTo>
                    <a:pt x="2516" y="1576"/>
                  </a:lnTo>
                  <a:lnTo>
                    <a:pt x="2525" y="1417"/>
                  </a:lnTo>
                  <a:lnTo>
                    <a:pt x="2534" y="1552"/>
                  </a:lnTo>
                  <a:lnTo>
                    <a:pt x="2541" y="1281"/>
                  </a:lnTo>
                  <a:lnTo>
                    <a:pt x="2550" y="1438"/>
                  </a:lnTo>
                  <a:lnTo>
                    <a:pt x="2559" y="1557"/>
                  </a:lnTo>
                  <a:lnTo>
                    <a:pt x="2567" y="1477"/>
                  </a:lnTo>
                  <a:lnTo>
                    <a:pt x="2576" y="1562"/>
                  </a:lnTo>
                  <a:lnTo>
                    <a:pt x="2585" y="1426"/>
                  </a:lnTo>
                  <a:lnTo>
                    <a:pt x="2593" y="1469"/>
                  </a:lnTo>
                  <a:lnTo>
                    <a:pt x="2602" y="1465"/>
                  </a:lnTo>
                  <a:lnTo>
                    <a:pt x="2611" y="1333"/>
                  </a:lnTo>
                  <a:lnTo>
                    <a:pt x="2619" y="1483"/>
                  </a:lnTo>
                  <a:lnTo>
                    <a:pt x="2627" y="1567"/>
                  </a:lnTo>
                  <a:lnTo>
                    <a:pt x="2636" y="1586"/>
                  </a:lnTo>
                  <a:lnTo>
                    <a:pt x="2645" y="1475"/>
                  </a:lnTo>
                  <a:lnTo>
                    <a:pt x="2653" y="1556"/>
                  </a:lnTo>
                  <a:lnTo>
                    <a:pt x="2662" y="1425"/>
                  </a:lnTo>
                  <a:lnTo>
                    <a:pt x="2671" y="1564"/>
                  </a:lnTo>
                  <a:lnTo>
                    <a:pt x="2679" y="1376"/>
                  </a:lnTo>
                  <a:lnTo>
                    <a:pt x="2687" y="1527"/>
                  </a:lnTo>
                  <a:lnTo>
                    <a:pt x="2696" y="1611"/>
                  </a:lnTo>
                  <a:lnTo>
                    <a:pt x="2705" y="1453"/>
                  </a:lnTo>
                  <a:lnTo>
                    <a:pt x="2713" y="1385"/>
                  </a:lnTo>
                  <a:lnTo>
                    <a:pt x="2722" y="1302"/>
                  </a:lnTo>
                  <a:lnTo>
                    <a:pt x="2731" y="1379"/>
                  </a:lnTo>
                  <a:lnTo>
                    <a:pt x="2739" y="1536"/>
                  </a:lnTo>
                  <a:lnTo>
                    <a:pt x="2748" y="1538"/>
                  </a:lnTo>
                  <a:lnTo>
                    <a:pt x="2757" y="1544"/>
                  </a:lnTo>
                  <a:lnTo>
                    <a:pt x="2764" y="1515"/>
                  </a:lnTo>
                  <a:lnTo>
                    <a:pt x="2773" y="1552"/>
                  </a:lnTo>
                  <a:lnTo>
                    <a:pt x="2782" y="1570"/>
                  </a:lnTo>
                  <a:lnTo>
                    <a:pt x="2790" y="1456"/>
                  </a:lnTo>
                  <a:lnTo>
                    <a:pt x="2799" y="1633"/>
                  </a:lnTo>
                  <a:lnTo>
                    <a:pt x="2808" y="1525"/>
                  </a:lnTo>
                  <a:lnTo>
                    <a:pt x="2817" y="1489"/>
                  </a:lnTo>
                  <a:lnTo>
                    <a:pt x="2825" y="1302"/>
                  </a:lnTo>
                  <a:lnTo>
                    <a:pt x="2834" y="1554"/>
                  </a:lnTo>
                  <a:lnTo>
                    <a:pt x="2843" y="1525"/>
                  </a:lnTo>
                  <a:lnTo>
                    <a:pt x="2850" y="1479"/>
                  </a:lnTo>
                  <a:lnTo>
                    <a:pt x="2859" y="1531"/>
                  </a:lnTo>
                  <a:lnTo>
                    <a:pt x="2868" y="1458"/>
                  </a:lnTo>
                  <a:lnTo>
                    <a:pt x="2876" y="1559"/>
                  </a:lnTo>
                  <a:lnTo>
                    <a:pt x="2885" y="1512"/>
                  </a:lnTo>
                  <a:lnTo>
                    <a:pt x="2894" y="1505"/>
                  </a:lnTo>
                  <a:lnTo>
                    <a:pt x="2903" y="1571"/>
                  </a:lnTo>
                  <a:lnTo>
                    <a:pt x="2911" y="1300"/>
                  </a:lnTo>
                  <a:lnTo>
                    <a:pt x="2920" y="1641"/>
                  </a:lnTo>
                  <a:lnTo>
                    <a:pt x="2928" y="1610"/>
                  </a:lnTo>
                  <a:lnTo>
                    <a:pt x="2936" y="1508"/>
                  </a:lnTo>
                  <a:lnTo>
                    <a:pt x="2945" y="1323"/>
                  </a:lnTo>
                  <a:lnTo>
                    <a:pt x="2954" y="1527"/>
                  </a:lnTo>
                  <a:lnTo>
                    <a:pt x="2962" y="1608"/>
                  </a:lnTo>
                  <a:lnTo>
                    <a:pt x="2971" y="1556"/>
                  </a:lnTo>
                  <a:lnTo>
                    <a:pt x="2980" y="1333"/>
                  </a:lnTo>
                  <a:lnTo>
                    <a:pt x="2988" y="1572"/>
                  </a:lnTo>
                  <a:lnTo>
                    <a:pt x="2997" y="1524"/>
                  </a:lnTo>
                  <a:lnTo>
                    <a:pt x="3005" y="1546"/>
                  </a:lnTo>
                  <a:lnTo>
                    <a:pt x="3014" y="1616"/>
                  </a:lnTo>
                  <a:lnTo>
                    <a:pt x="3022" y="1584"/>
                  </a:lnTo>
                  <a:lnTo>
                    <a:pt x="3031" y="1580"/>
                  </a:lnTo>
                  <a:lnTo>
                    <a:pt x="3040" y="1575"/>
                  </a:lnTo>
                  <a:lnTo>
                    <a:pt x="3048" y="1576"/>
                  </a:lnTo>
                  <a:lnTo>
                    <a:pt x="3057" y="1527"/>
                  </a:lnTo>
                  <a:lnTo>
                    <a:pt x="3066" y="1515"/>
                  </a:lnTo>
                  <a:lnTo>
                    <a:pt x="3073" y="1511"/>
                  </a:lnTo>
                  <a:lnTo>
                    <a:pt x="3082" y="1507"/>
                  </a:lnTo>
                  <a:lnTo>
                    <a:pt x="3091" y="1601"/>
                  </a:lnTo>
                  <a:lnTo>
                    <a:pt x="3100" y="1530"/>
                  </a:lnTo>
                  <a:lnTo>
                    <a:pt x="3108" y="1591"/>
                  </a:lnTo>
                  <a:lnTo>
                    <a:pt x="3117" y="1477"/>
                  </a:lnTo>
                  <a:lnTo>
                    <a:pt x="3126" y="1557"/>
                  </a:lnTo>
                  <a:lnTo>
                    <a:pt x="3134" y="1562"/>
                  </a:lnTo>
                  <a:lnTo>
                    <a:pt x="3143" y="1400"/>
                  </a:lnTo>
                  <a:lnTo>
                    <a:pt x="3152" y="1571"/>
                  </a:lnTo>
                  <a:lnTo>
                    <a:pt x="3159" y="1455"/>
                  </a:lnTo>
                  <a:lnTo>
                    <a:pt x="3168" y="1398"/>
                  </a:lnTo>
                  <a:lnTo>
                    <a:pt x="3177" y="1575"/>
                  </a:lnTo>
                  <a:lnTo>
                    <a:pt x="3186" y="1498"/>
                  </a:lnTo>
                  <a:lnTo>
                    <a:pt x="3194" y="1483"/>
                  </a:lnTo>
                  <a:lnTo>
                    <a:pt x="3203" y="1591"/>
                  </a:lnTo>
                  <a:lnTo>
                    <a:pt x="3212" y="1591"/>
                  </a:lnTo>
                  <a:lnTo>
                    <a:pt x="3220" y="1366"/>
                  </a:lnTo>
                  <a:lnTo>
                    <a:pt x="3229" y="1627"/>
                  </a:lnTo>
                  <a:lnTo>
                    <a:pt x="3237" y="1511"/>
                  </a:lnTo>
                  <a:lnTo>
                    <a:pt x="3245" y="1536"/>
                  </a:lnTo>
                  <a:lnTo>
                    <a:pt x="3254" y="1519"/>
                  </a:lnTo>
                  <a:lnTo>
                    <a:pt x="3263" y="1458"/>
                  </a:lnTo>
                  <a:lnTo>
                    <a:pt x="3271" y="1508"/>
                  </a:lnTo>
                  <a:lnTo>
                    <a:pt x="3280" y="1462"/>
                  </a:lnTo>
                  <a:lnTo>
                    <a:pt x="3289" y="1603"/>
                  </a:lnTo>
                  <a:lnTo>
                    <a:pt x="3298" y="1503"/>
                  </a:lnTo>
                  <a:lnTo>
                    <a:pt x="3306" y="1541"/>
                  </a:lnTo>
                  <a:lnTo>
                    <a:pt x="3314" y="1577"/>
                  </a:lnTo>
                  <a:lnTo>
                    <a:pt x="3323" y="1570"/>
                  </a:lnTo>
                  <a:lnTo>
                    <a:pt x="3331" y="1379"/>
                  </a:lnTo>
                  <a:lnTo>
                    <a:pt x="3340" y="1368"/>
                  </a:lnTo>
                  <a:lnTo>
                    <a:pt x="3349" y="1579"/>
                  </a:lnTo>
                  <a:lnTo>
                    <a:pt x="3357" y="1540"/>
                  </a:lnTo>
                  <a:lnTo>
                    <a:pt x="3366" y="1509"/>
                  </a:lnTo>
                  <a:lnTo>
                    <a:pt x="3375" y="1562"/>
                  </a:lnTo>
                  <a:lnTo>
                    <a:pt x="3384" y="1559"/>
                  </a:lnTo>
                  <a:lnTo>
                    <a:pt x="3391" y="1609"/>
                  </a:lnTo>
                  <a:lnTo>
                    <a:pt x="3400" y="1538"/>
                  </a:lnTo>
                  <a:lnTo>
                    <a:pt x="3409" y="1561"/>
                  </a:lnTo>
                  <a:lnTo>
                    <a:pt x="3417" y="1366"/>
                  </a:lnTo>
                  <a:lnTo>
                    <a:pt x="3426" y="1358"/>
                  </a:lnTo>
                  <a:lnTo>
                    <a:pt x="3435" y="1616"/>
                  </a:lnTo>
                  <a:lnTo>
                    <a:pt x="3443" y="1534"/>
                  </a:lnTo>
                  <a:lnTo>
                    <a:pt x="3452" y="1582"/>
                  </a:lnTo>
                  <a:lnTo>
                    <a:pt x="3461" y="1514"/>
                  </a:lnTo>
                  <a:lnTo>
                    <a:pt x="3468" y="1621"/>
                  </a:lnTo>
                  <a:lnTo>
                    <a:pt x="3477" y="1453"/>
                  </a:lnTo>
                  <a:lnTo>
                    <a:pt x="3486" y="1552"/>
                  </a:lnTo>
                  <a:lnTo>
                    <a:pt x="3495" y="1476"/>
                  </a:lnTo>
                  <a:lnTo>
                    <a:pt x="3503" y="1416"/>
                  </a:lnTo>
                  <a:lnTo>
                    <a:pt x="3512" y="1511"/>
                  </a:lnTo>
                  <a:lnTo>
                    <a:pt x="3521" y="1457"/>
                  </a:lnTo>
                  <a:lnTo>
                    <a:pt x="3529" y="1534"/>
                  </a:lnTo>
                  <a:lnTo>
                    <a:pt x="3538" y="1463"/>
                  </a:lnTo>
                  <a:lnTo>
                    <a:pt x="3546" y="1574"/>
                  </a:lnTo>
                  <a:lnTo>
                    <a:pt x="3554" y="1638"/>
                  </a:lnTo>
                  <a:lnTo>
                    <a:pt x="3563" y="1544"/>
                  </a:lnTo>
                  <a:lnTo>
                    <a:pt x="3572" y="1623"/>
                  </a:lnTo>
                  <a:lnTo>
                    <a:pt x="3581" y="1563"/>
                  </a:lnTo>
                  <a:lnTo>
                    <a:pt x="3589" y="1594"/>
                  </a:lnTo>
                  <a:lnTo>
                    <a:pt x="3598" y="1592"/>
                  </a:lnTo>
                  <a:lnTo>
                    <a:pt x="3607" y="1468"/>
                  </a:lnTo>
                  <a:lnTo>
                    <a:pt x="3615" y="1552"/>
                  </a:lnTo>
                  <a:lnTo>
                    <a:pt x="3623" y="1468"/>
                  </a:lnTo>
                  <a:lnTo>
                    <a:pt x="3632" y="1420"/>
                  </a:lnTo>
                  <a:lnTo>
                    <a:pt x="3640" y="1415"/>
                  </a:lnTo>
                  <a:lnTo>
                    <a:pt x="3649" y="1533"/>
                  </a:lnTo>
                  <a:lnTo>
                    <a:pt x="3658" y="1585"/>
                  </a:lnTo>
                  <a:lnTo>
                    <a:pt x="3667" y="1608"/>
                  </a:lnTo>
                  <a:lnTo>
                    <a:pt x="3675" y="1635"/>
                  </a:lnTo>
                  <a:lnTo>
                    <a:pt x="3684" y="1536"/>
                  </a:lnTo>
                  <a:lnTo>
                    <a:pt x="3693" y="1438"/>
                  </a:lnTo>
                  <a:lnTo>
                    <a:pt x="3700" y="1571"/>
                  </a:lnTo>
                  <a:lnTo>
                    <a:pt x="3709" y="1608"/>
                  </a:lnTo>
                  <a:lnTo>
                    <a:pt x="3718" y="1521"/>
                  </a:lnTo>
                  <a:lnTo>
                    <a:pt x="3726" y="1538"/>
                  </a:lnTo>
                  <a:lnTo>
                    <a:pt x="3735" y="1566"/>
                  </a:lnTo>
                  <a:lnTo>
                    <a:pt x="3744" y="1561"/>
                  </a:lnTo>
                  <a:lnTo>
                    <a:pt x="3752" y="1478"/>
                  </a:lnTo>
                  <a:lnTo>
                    <a:pt x="3761" y="1407"/>
                  </a:lnTo>
                  <a:lnTo>
                    <a:pt x="3770" y="1554"/>
                  </a:lnTo>
                  <a:lnTo>
                    <a:pt x="3779" y="1534"/>
                  </a:lnTo>
                  <a:lnTo>
                    <a:pt x="3786" y="1596"/>
                  </a:lnTo>
                  <a:lnTo>
                    <a:pt x="3795" y="1431"/>
                  </a:lnTo>
                  <a:lnTo>
                    <a:pt x="3804" y="1604"/>
                  </a:lnTo>
                  <a:lnTo>
                    <a:pt x="3812" y="1521"/>
                  </a:lnTo>
                  <a:lnTo>
                    <a:pt x="3821" y="1582"/>
                  </a:lnTo>
                  <a:lnTo>
                    <a:pt x="3830" y="1574"/>
                  </a:lnTo>
                  <a:lnTo>
                    <a:pt x="3838" y="1611"/>
                  </a:lnTo>
                  <a:lnTo>
                    <a:pt x="3847" y="1531"/>
                  </a:lnTo>
                  <a:lnTo>
                    <a:pt x="3855" y="1557"/>
                  </a:lnTo>
                  <a:lnTo>
                    <a:pt x="3864" y="1503"/>
                  </a:lnTo>
                  <a:lnTo>
                    <a:pt x="3872" y="1451"/>
                  </a:lnTo>
                  <a:lnTo>
                    <a:pt x="3881" y="1507"/>
                  </a:lnTo>
                  <a:lnTo>
                    <a:pt x="3890" y="1458"/>
                  </a:lnTo>
                  <a:lnTo>
                    <a:pt x="3898" y="1526"/>
                  </a:lnTo>
                  <a:lnTo>
                    <a:pt x="3907" y="1606"/>
                  </a:lnTo>
                  <a:lnTo>
                    <a:pt x="3916" y="1579"/>
                  </a:lnTo>
                  <a:lnTo>
                    <a:pt x="3924" y="1545"/>
                  </a:lnTo>
                  <a:lnTo>
                    <a:pt x="3932" y="1637"/>
                  </a:lnTo>
                  <a:lnTo>
                    <a:pt x="3941" y="1455"/>
                  </a:lnTo>
                  <a:lnTo>
                    <a:pt x="3949" y="1579"/>
                  </a:lnTo>
                  <a:lnTo>
                    <a:pt x="3958" y="1584"/>
                  </a:lnTo>
                  <a:lnTo>
                    <a:pt x="3967" y="1512"/>
                  </a:lnTo>
                  <a:lnTo>
                    <a:pt x="3976" y="1536"/>
                  </a:lnTo>
                  <a:lnTo>
                    <a:pt x="3984" y="1540"/>
                  </a:lnTo>
                  <a:lnTo>
                    <a:pt x="3993" y="1533"/>
                  </a:lnTo>
                  <a:lnTo>
                    <a:pt x="4002" y="1486"/>
                  </a:lnTo>
                  <a:lnTo>
                    <a:pt x="4009" y="1455"/>
                  </a:lnTo>
                  <a:lnTo>
                    <a:pt x="4018" y="1507"/>
                  </a:lnTo>
                  <a:lnTo>
                    <a:pt x="4027" y="1587"/>
                  </a:lnTo>
                  <a:lnTo>
                    <a:pt x="4035" y="1583"/>
                  </a:lnTo>
                  <a:lnTo>
                    <a:pt x="4044" y="1567"/>
                  </a:lnTo>
                  <a:lnTo>
                    <a:pt x="4053" y="1535"/>
                  </a:lnTo>
                  <a:lnTo>
                    <a:pt x="4062" y="1608"/>
                  </a:lnTo>
                  <a:lnTo>
                    <a:pt x="4070" y="1627"/>
                  </a:lnTo>
                  <a:lnTo>
                    <a:pt x="4079" y="1509"/>
                  </a:lnTo>
                  <a:lnTo>
                    <a:pt x="4088" y="1534"/>
                  </a:lnTo>
                  <a:lnTo>
                    <a:pt x="4095" y="1491"/>
                  </a:lnTo>
                  <a:lnTo>
                    <a:pt x="4104" y="1614"/>
                  </a:lnTo>
                  <a:lnTo>
                    <a:pt x="4113" y="1590"/>
                  </a:lnTo>
                  <a:lnTo>
                    <a:pt x="4121" y="1466"/>
                  </a:lnTo>
                  <a:lnTo>
                    <a:pt x="4130" y="1589"/>
                  </a:lnTo>
                  <a:lnTo>
                    <a:pt x="4139" y="1600"/>
                  </a:lnTo>
                  <a:lnTo>
                    <a:pt x="4148" y="1538"/>
                  </a:lnTo>
                  <a:lnTo>
                    <a:pt x="4156" y="1468"/>
                  </a:lnTo>
                  <a:lnTo>
                    <a:pt x="4164" y="1489"/>
                  </a:lnTo>
                  <a:lnTo>
                    <a:pt x="4173" y="1536"/>
                  </a:lnTo>
                  <a:lnTo>
                    <a:pt x="4181" y="1530"/>
                  </a:lnTo>
                  <a:lnTo>
                    <a:pt x="4190" y="1545"/>
                  </a:lnTo>
                  <a:lnTo>
                    <a:pt x="4199" y="1552"/>
                  </a:lnTo>
                  <a:lnTo>
                    <a:pt x="4207" y="1438"/>
                  </a:lnTo>
                  <a:lnTo>
                    <a:pt x="4216" y="1550"/>
                  </a:lnTo>
                  <a:lnTo>
                    <a:pt x="4225" y="1577"/>
                  </a:lnTo>
                  <a:lnTo>
                    <a:pt x="4233" y="1556"/>
                  </a:lnTo>
                  <a:lnTo>
                    <a:pt x="4241" y="1631"/>
                  </a:lnTo>
                  <a:lnTo>
                    <a:pt x="4250" y="1406"/>
                  </a:lnTo>
                  <a:lnTo>
                    <a:pt x="4259" y="1477"/>
                  </a:lnTo>
                  <a:lnTo>
                    <a:pt x="4267" y="1474"/>
                  </a:lnTo>
                  <a:lnTo>
                    <a:pt x="4276" y="1507"/>
                  </a:lnTo>
                  <a:lnTo>
                    <a:pt x="4285" y="1458"/>
                  </a:lnTo>
                  <a:lnTo>
                    <a:pt x="4293" y="1531"/>
                  </a:lnTo>
                  <a:lnTo>
                    <a:pt x="4302" y="1571"/>
                  </a:lnTo>
                  <a:lnTo>
                    <a:pt x="4311" y="1555"/>
                  </a:lnTo>
                  <a:lnTo>
                    <a:pt x="4318" y="1526"/>
                  </a:lnTo>
                  <a:lnTo>
                    <a:pt x="4327" y="1399"/>
                  </a:lnTo>
                  <a:lnTo>
                    <a:pt x="4336" y="1518"/>
                  </a:lnTo>
                  <a:lnTo>
                    <a:pt x="4345" y="1603"/>
                  </a:lnTo>
                  <a:lnTo>
                    <a:pt x="4353" y="1538"/>
                  </a:lnTo>
                  <a:lnTo>
                    <a:pt x="4362" y="1569"/>
                  </a:lnTo>
                  <a:lnTo>
                    <a:pt x="4371" y="1472"/>
                  </a:lnTo>
                  <a:lnTo>
                    <a:pt x="4379" y="1511"/>
                  </a:lnTo>
                  <a:lnTo>
                    <a:pt x="4388" y="1609"/>
                  </a:lnTo>
                  <a:lnTo>
                    <a:pt x="4397" y="1484"/>
                  </a:lnTo>
                  <a:lnTo>
                    <a:pt x="4404" y="1562"/>
                  </a:lnTo>
                  <a:lnTo>
                    <a:pt x="4413" y="1530"/>
                  </a:lnTo>
                  <a:lnTo>
                    <a:pt x="4422" y="1562"/>
                  </a:lnTo>
                  <a:lnTo>
                    <a:pt x="4430" y="1467"/>
                  </a:lnTo>
                  <a:lnTo>
                    <a:pt x="4439" y="1498"/>
                  </a:lnTo>
                  <a:lnTo>
                    <a:pt x="4448" y="1485"/>
                  </a:lnTo>
                  <a:lnTo>
                    <a:pt x="4457" y="1612"/>
                  </a:lnTo>
                  <a:lnTo>
                    <a:pt x="4465" y="1517"/>
                  </a:lnTo>
                  <a:lnTo>
                    <a:pt x="4474" y="1612"/>
                  </a:lnTo>
                  <a:lnTo>
                    <a:pt x="4482" y="1602"/>
                  </a:lnTo>
                  <a:lnTo>
                    <a:pt x="4490" y="1553"/>
                  </a:lnTo>
                  <a:lnTo>
                    <a:pt x="4499" y="1582"/>
                  </a:lnTo>
                  <a:lnTo>
                    <a:pt x="4508" y="1586"/>
                  </a:lnTo>
                  <a:lnTo>
                    <a:pt x="4516" y="1485"/>
                  </a:lnTo>
                  <a:lnTo>
                    <a:pt x="4525" y="1595"/>
                  </a:lnTo>
                  <a:lnTo>
                    <a:pt x="4534" y="1482"/>
                  </a:lnTo>
                  <a:lnTo>
                    <a:pt x="4543" y="1548"/>
                  </a:lnTo>
                  <a:lnTo>
                    <a:pt x="4550" y="1526"/>
                  </a:lnTo>
                  <a:lnTo>
                    <a:pt x="4559" y="1528"/>
                  </a:lnTo>
                  <a:lnTo>
                    <a:pt x="4568" y="1583"/>
                  </a:lnTo>
                  <a:lnTo>
                    <a:pt x="4576" y="1589"/>
                  </a:lnTo>
                  <a:lnTo>
                    <a:pt x="4585" y="1537"/>
                  </a:lnTo>
                  <a:lnTo>
                    <a:pt x="4594" y="1602"/>
                  </a:lnTo>
                  <a:lnTo>
                    <a:pt x="4602" y="1508"/>
                  </a:lnTo>
                  <a:lnTo>
                    <a:pt x="4611" y="1502"/>
                  </a:lnTo>
                  <a:lnTo>
                    <a:pt x="4620" y="1557"/>
                  </a:lnTo>
                  <a:lnTo>
                    <a:pt x="4629" y="1576"/>
                  </a:lnTo>
                  <a:lnTo>
                    <a:pt x="4636" y="1541"/>
                  </a:lnTo>
                  <a:lnTo>
                    <a:pt x="4645" y="1555"/>
                  </a:lnTo>
                  <a:lnTo>
                    <a:pt x="4654" y="1467"/>
                  </a:lnTo>
                  <a:lnTo>
                    <a:pt x="4662" y="1503"/>
                  </a:lnTo>
                  <a:lnTo>
                    <a:pt x="4671" y="1511"/>
                  </a:lnTo>
                  <a:lnTo>
                    <a:pt x="4680" y="1601"/>
                  </a:lnTo>
                  <a:lnTo>
                    <a:pt x="4688" y="1601"/>
                  </a:lnTo>
                  <a:lnTo>
                    <a:pt x="4697" y="1609"/>
                  </a:lnTo>
                  <a:lnTo>
                    <a:pt x="4706" y="1622"/>
                  </a:lnTo>
                  <a:lnTo>
                    <a:pt x="4713" y="1557"/>
                  </a:lnTo>
                  <a:lnTo>
                    <a:pt x="4722" y="1540"/>
                  </a:lnTo>
                  <a:lnTo>
                    <a:pt x="4731" y="1569"/>
                  </a:lnTo>
                  <a:lnTo>
                    <a:pt x="4740" y="1493"/>
                  </a:lnTo>
                  <a:lnTo>
                    <a:pt x="4748" y="1584"/>
                  </a:lnTo>
                  <a:lnTo>
                    <a:pt x="4757" y="1604"/>
                  </a:lnTo>
                  <a:lnTo>
                    <a:pt x="4766" y="1543"/>
                  </a:lnTo>
                  <a:lnTo>
                    <a:pt x="4774" y="1477"/>
                  </a:lnTo>
                  <a:lnTo>
                    <a:pt x="4783" y="1571"/>
                  </a:lnTo>
                  <a:lnTo>
                    <a:pt x="4791" y="1552"/>
                  </a:lnTo>
                  <a:lnTo>
                    <a:pt x="4799" y="1612"/>
                  </a:lnTo>
                  <a:lnTo>
                    <a:pt x="4808" y="1580"/>
                  </a:lnTo>
                  <a:lnTo>
                    <a:pt x="4817" y="1628"/>
                  </a:lnTo>
                  <a:lnTo>
                    <a:pt x="4826" y="1580"/>
                  </a:lnTo>
                  <a:lnTo>
                    <a:pt x="4834" y="1592"/>
                  </a:lnTo>
                  <a:lnTo>
                    <a:pt x="4843" y="1509"/>
                  </a:lnTo>
                  <a:lnTo>
                    <a:pt x="4852" y="1596"/>
                  </a:lnTo>
                  <a:lnTo>
                    <a:pt x="4859" y="1589"/>
                  </a:lnTo>
                  <a:lnTo>
                    <a:pt x="4868" y="1548"/>
                  </a:lnTo>
                  <a:lnTo>
                    <a:pt x="4877" y="1540"/>
                  </a:lnTo>
                  <a:lnTo>
                    <a:pt x="4885" y="1560"/>
                  </a:lnTo>
                  <a:lnTo>
                    <a:pt x="4894" y="1577"/>
                  </a:lnTo>
                  <a:lnTo>
                    <a:pt x="4903" y="1531"/>
                  </a:lnTo>
                  <a:lnTo>
                    <a:pt x="4911" y="1596"/>
                  </a:lnTo>
                  <a:lnTo>
                    <a:pt x="4920" y="1627"/>
                  </a:lnTo>
                  <a:lnTo>
                    <a:pt x="4929" y="1525"/>
                  </a:lnTo>
                  <a:lnTo>
                    <a:pt x="4938" y="1621"/>
                  </a:lnTo>
                  <a:lnTo>
                    <a:pt x="4945" y="1546"/>
                  </a:lnTo>
                  <a:lnTo>
                    <a:pt x="4954" y="1527"/>
                  </a:lnTo>
                  <a:lnTo>
                    <a:pt x="4963" y="1608"/>
                  </a:lnTo>
                  <a:lnTo>
                    <a:pt x="4971" y="1624"/>
                  </a:lnTo>
                  <a:lnTo>
                    <a:pt x="4980" y="1584"/>
                  </a:lnTo>
                  <a:lnTo>
                    <a:pt x="4989" y="1531"/>
                  </a:lnTo>
                  <a:lnTo>
                    <a:pt x="4997" y="1562"/>
                  </a:lnTo>
                  <a:lnTo>
                    <a:pt x="5006" y="1571"/>
                  </a:lnTo>
                  <a:lnTo>
                    <a:pt x="5015" y="1530"/>
                  </a:lnTo>
                  <a:lnTo>
                    <a:pt x="5023" y="1586"/>
                  </a:lnTo>
                  <a:lnTo>
                    <a:pt x="5031" y="1605"/>
                  </a:lnTo>
                  <a:lnTo>
                    <a:pt x="5040" y="1584"/>
                  </a:lnTo>
                  <a:lnTo>
                    <a:pt x="5049" y="1499"/>
                  </a:lnTo>
                  <a:lnTo>
                    <a:pt x="5057" y="1581"/>
                  </a:lnTo>
                  <a:lnTo>
                    <a:pt x="5066" y="1498"/>
                  </a:lnTo>
                  <a:lnTo>
                    <a:pt x="5075" y="1608"/>
                  </a:lnTo>
                  <a:lnTo>
                    <a:pt x="5083" y="1593"/>
                  </a:lnTo>
                  <a:lnTo>
                    <a:pt x="5092" y="1537"/>
                  </a:lnTo>
                  <a:lnTo>
                    <a:pt x="5100" y="1567"/>
                  </a:lnTo>
                  <a:lnTo>
                    <a:pt x="5109" y="1541"/>
                  </a:lnTo>
                  <a:lnTo>
                    <a:pt x="5117" y="1554"/>
                  </a:lnTo>
                  <a:lnTo>
                    <a:pt x="5126" y="1598"/>
                  </a:lnTo>
                  <a:lnTo>
                    <a:pt x="5135" y="1508"/>
                  </a:lnTo>
                  <a:lnTo>
                    <a:pt x="5143" y="1612"/>
                  </a:lnTo>
                  <a:lnTo>
                    <a:pt x="5152" y="1615"/>
                  </a:lnTo>
                  <a:lnTo>
                    <a:pt x="5161" y="1594"/>
                  </a:lnTo>
                  <a:lnTo>
                    <a:pt x="5168" y="1514"/>
                  </a:lnTo>
                  <a:lnTo>
                    <a:pt x="5177" y="1640"/>
                  </a:lnTo>
                  <a:lnTo>
                    <a:pt x="5186" y="1544"/>
                  </a:lnTo>
                  <a:lnTo>
                    <a:pt x="5194" y="1475"/>
                  </a:lnTo>
                  <a:lnTo>
                    <a:pt x="5203" y="1404"/>
                  </a:lnTo>
                  <a:lnTo>
                    <a:pt x="5212" y="1574"/>
                  </a:lnTo>
                  <a:lnTo>
                    <a:pt x="5221" y="1605"/>
                  </a:lnTo>
                  <a:lnTo>
                    <a:pt x="5229" y="1517"/>
                  </a:lnTo>
                  <a:lnTo>
                    <a:pt x="5238" y="1528"/>
                  </a:lnTo>
                  <a:lnTo>
                    <a:pt x="5247" y="1451"/>
                  </a:lnTo>
                  <a:lnTo>
                    <a:pt x="5254" y="1483"/>
                  </a:lnTo>
                  <a:lnTo>
                    <a:pt x="5263" y="1378"/>
                  </a:lnTo>
                  <a:lnTo>
                    <a:pt x="5272" y="1593"/>
                  </a:lnTo>
                  <a:lnTo>
                    <a:pt x="5280" y="1504"/>
                  </a:lnTo>
                  <a:lnTo>
                    <a:pt x="5289" y="1641"/>
                  </a:lnTo>
                  <a:lnTo>
                    <a:pt x="5298" y="1564"/>
                  </a:lnTo>
                  <a:lnTo>
                    <a:pt x="5307" y="1415"/>
                  </a:lnTo>
                  <a:lnTo>
                    <a:pt x="5315" y="1598"/>
                  </a:lnTo>
                  <a:lnTo>
                    <a:pt x="5324" y="1582"/>
                  </a:lnTo>
                  <a:lnTo>
                    <a:pt x="5332" y="1634"/>
                  </a:lnTo>
                  <a:lnTo>
                    <a:pt x="5340" y="1594"/>
                  </a:lnTo>
                  <a:lnTo>
                    <a:pt x="5349" y="1537"/>
                  </a:lnTo>
                  <a:lnTo>
                    <a:pt x="5358" y="1566"/>
                  </a:lnTo>
                  <a:lnTo>
                    <a:pt x="5366" y="1604"/>
                  </a:lnTo>
                  <a:lnTo>
                    <a:pt x="5375" y="1503"/>
                  </a:lnTo>
                  <a:lnTo>
                    <a:pt x="5384" y="1458"/>
                  </a:lnTo>
                  <a:lnTo>
                    <a:pt x="5392" y="1528"/>
                  </a:lnTo>
                  <a:lnTo>
                    <a:pt x="5401" y="1557"/>
                  </a:lnTo>
                  <a:lnTo>
                    <a:pt x="5409" y="1622"/>
                  </a:lnTo>
                  <a:lnTo>
                    <a:pt x="5418" y="1542"/>
                  </a:lnTo>
                  <a:lnTo>
                    <a:pt x="5426" y="1559"/>
                  </a:lnTo>
                  <a:lnTo>
                    <a:pt x="5435" y="1517"/>
                  </a:lnTo>
                  <a:lnTo>
                    <a:pt x="5444" y="1591"/>
                  </a:lnTo>
                  <a:lnTo>
                    <a:pt x="5452" y="1618"/>
                  </a:lnTo>
                  <a:lnTo>
                    <a:pt x="5461" y="1603"/>
                  </a:lnTo>
                  <a:lnTo>
                    <a:pt x="5470" y="1530"/>
                  </a:lnTo>
                  <a:lnTo>
                    <a:pt x="5478" y="1550"/>
                  </a:lnTo>
                  <a:lnTo>
                    <a:pt x="5486" y="1546"/>
                  </a:lnTo>
                  <a:lnTo>
                    <a:pt x="5495" y="1515"/>
                  </a:lnTo>
                  <a:lnTo>
                    <a:pt x="5504" y="1535"/>
                  </a:lnTo>
                  <a:lnTo>
                    <a:pt x="5512" y="1572"/>
                  </a:lnTo>
                  <a:lnTo>
                    <a:pt x="5521" y="1598"/>
                  </a:lnTo>
                  <a:lnTo>
                    <a:pt x="5530" y="1479"/>
                  </a:lnTo>
                  <a:lnTo>
                    <a:pt x="5538" y="1563"/>
                  </a:lnTo>
                  <a:lnTo>
                    <a:pt x="5547" y="1572"/>
                  </a:lnTo>
                  <a:lnTo>
                    <a:pt x="5556" y="1533"/>
                  </a:lnTo>
                  <a:lnTo>
                    <a:pt x="5563" y="1486"/>
                  </a:lnTo>
                  <a:lnTo>
                    <a:pt x="5572" y="1526"/>
                  </a:lnTo>
                  <a:lnTo>
                    <a:pt x="5581" y="1637"/>
                  </a:lnTo>
                  <a:lnTo>
                    <a:pt x="5590" y="1547"/>
                  </a:lnTo>
                  <a:lnTo>
                    <a:pt x="5598" y="1531"/>
                  </a:lnTo>
                  <a:lnTo>
                    <a:pt x="5607" y="1567"/>
                  </a:lnTo>
                  <a:lnTo>
                    <a:pt x="5616" y="1600"/>
                  </a:lnTo>
                  <a:lnTo>
                    <a:pt x="5624" y="1462"/>
                  </a:lnTo>
                  <a:lnTo>
                    <a:pt x="5633" y="1631"/>
                  </a:lnTo>
                  <a:lnTo>
                    <a:pt x="5641" y="1541"/>
                  </a:lnTo>
                  <a:lnTo>
                    <a:pt x="5649" y="1622"/>
                  </a:lnTo>
                  <a:lnTo>
                    <a:pt x="5658" y="1533"/>
                  </a:lnTo>
                  <a:lnTo>
                    <a:pt x="5667" y="1577"/>
                  </a:lnTo>
                  <a:lnTo>
                    <a:pt x="5675" y="1531"/>
                  </a:lnTo>
                  <a:lnTo>
                    <a:pt x="5684" y="1552"/>
                  </a:lnTo>
                  <a:lnTo>
                    <a:pt x="5693" y="1513"/>
                  </a:lnTo>
                  <a:lnTo>
                    <a:pt x="5702" y="1532"/>
                  </a:lnTo>
                  <a:lnTo>
                    <a:pt x="5710" y="1453"/>
                  </a:lnTo>
                  <a:lnTo>
                    <a:pt x="5718" y="1573"/>
                  </a:lnTo>
                  <a:lnTo>
                    <a:pt x="5727" y="1515"/>
                  </a:lnTo>
                  <a:lnTo>
                    <a:pt x="5735" y="1528"/>
                  </a:lnTo>
                  <a:lnTo>
                    <a:pt x="5744" y="1473"/>
                  </a:lnTo>
                  <a:lnTo>
                    <a:pt x="5753" y="1551"/>
                  </a:lnTo>
                  <a:lnTo>
                    <a:pt x="5761" y="1574"/>
                  </a:lnTo>
                  <a:lnTo>
                    <a:pt x="5770" y="1632"/>
                  </a:lnTo>
                  <a:lnTo>
                    <a:pt x="5779" y="1605"/>
                  </a:lnTo>
                  <a:lnTo>
                    <a:pt x="5788" y="1599"/>
                  </a:lnTo>
                  <a:lnTo>
                    <a:pt x="5795" y="1602"/>
                  </a:lnTo>
                  <a:lnTo>
                    <a:pt x="5804" y="1519"/>
                  </a:lnTo>
                  <a:lnTo>
                    <a:pt x="5813" y="1621"/>
                  </a:lnTo>
                  <a:lnTo>
                    <a:pt x="5821" y="1593"/>
                  </a:lnTo>
                  <a:lnTo>
                    <a:pt x="5830" y="1556"/>
                  </a:lnTo>
                  <a:lnTo>
                    <a:pt x="5839" y="1575"/>
                  </a:lnTo>
                  <a:lnTo>
                    <a:pt x="5847" y="1639"/>
                  </a:lnTo>
                  <a:lnTo>
                    <a:pt x="5856" y="1577"/>
                  </a:lnTo>
                  <a:lnTo>
                    <a:pt x="5865" y="1521"/>
                  </a:lnTo>
                  <a:lnTo>
                    <a:pt x="5872" y="1532"/>
                  </a:lnTo>
                  <a:lnTo>
                    <a:pt x="5881" y="1610"/>
                  </a:lnTo>
                  <a:lnTo>
                    <a:pt x="5890" y="1565"/>
                  </a:lnTo>
                  <a:lnTo>
                    <a:pt x="5899" y="1632"/>
                  </a:lnTo>
                  <a:lnTo>
                    <a:pt x="5907" y="1594"/>
                  </a:lnTo>
                  <a:lnTo>
                    <a:pt x="5916" y="1541"/>
                  </a:lnTo>
                  <a:lnTo>
                    <a:pt x="5925" y="1610"/>
                  </a:lnTo>
                  <a:lnTo>
                    <a:pt x="5933" y="1483"/>
                  </a:lnTo>
                  <a:lnTo>
                    <a:pt x="5942" y="1527"/>
                  </a:lnTo>
                  <a:lnTo>
                    <a:pt x="5951" y="1632"/>
                  </a:lnTo>
                  <a:lnTo>
                    <a:pt x="5958" y="1538"/>
                  </a:lnTo>
                  <a:lnTo>
                    <a:pt x="5967" y="1591"/>
                  </a:lnTo>
                  <a:lnTo>
                    <a:pt x="5976" y="1478"/>
                  </a:lnTo>
                  <a:lnTo>
                    <a:pt x="5985" y="1564"/>
                  </a:lnTo>
                  <a:lnTo>
                    <a:pt x="5993" y="1570"/>
                  </a:lnTo>
                  <a:lnTo>
                    <a:pt x="6002" y="1559"/>
                  </a:lnTo>
                  <a:lnTo>
                    <a:pt x="6011" y="1576"/>
                  </a:lnTo>
                  <a:lnTo>
                    <a:pt x="6019" y="1583"/>
                  </a:lnTo>
                  <a:lnTo>
                    <a:pt x="6027" y="1610"/>
                  </a:lnTo>
                  <a:lnTo>
                    <a:pt x="6036" y="1544"/>
                  </a:lnTo>
                  <a:lnTo>
                    <a:pt x="6044" y="1562"/>
                  </a:lnTo>
                  <a:lnTo>
                    <a:pt x="6053" y="1609"/>
                  </a:lnTo>
                  <a:lnTo>
                    <a:pt x="6062" y="1545"/>
                  </a:lnTo>
                  <a:lnTo>
                    <a:pt x="6071" y="1534"/>
                  </a:lnTo>
                  <a:lnTo>
                    <a:pt x="6079" y="1598"/>
                  </a:lnTo>
                  <a:lnTo>
                    <a:pt x="6088" y="1483"/>
                  </a:lnTo>
                  <a:lnTo>
                    <a:pt x="6097" y="1643"/>
                  </a:lnTo>
                  <a:lnTo>
                    <a:pt x="6104" y="1575"/>
                  </a:lnTo>
                  <a:lnTo>
                    <a:pt x="6113" y="1570"/>
                  </a:lnTo>
                  <a:lnTo>
                    <a:pt x="6122" y="1562"/>
                  </a:lnTo>
                  <a:lnTo>
                    <a:pt x="6130" y="1513"/>
                  </a:lnTo>
                  <a:lnTo>
                    <a:pt x="6139" y="1573"/>
                  </a:lnTo>
                  <a:lnTo>
                    <a:pt x="6148" y="1572"/>
                  </a:lnTo>
                  <a:lnTo>
                    <a:pt x="6156" y="1574"/>
                  </a:lnTo>
                  <a:lnTo>
                    <a:pt x="6165" y="1566"/>
                  </a:lnTo>
                  <a:lnTo>
                    <a:pt x="6174" y="1487"/>
                  </a:lnTo>
                  <a:lnTo>
                    <a:pt x="6183" y="1555"/>
                  </a:lnTo>
                  <a:lnTo>
                    <a:pt x="6190" y="1540"/>
                  </a:lnTo>
                  <a:lnTo>
                    <a:pt x="6199" y="1620"/>
                  </a:lnTo>
                  <a:lnTo>
                    <a:pt x="6208" y="1438"/>
                  </a:lnTo>
                  <a:lnTo>
                    <a:pt x="6216" y="1571"/>
                  </a:lnTo>
                  <a:lnTo>
                    <a:pt x="6225" y="1590"/>
                  </a:lnTo>
                  <a:lnTo>
                    <a:pt x="6234" y="1545"/>
                  </a:lnTo>
                  <a:lnTo>
                    <a:pt x="6242" y="1496"/>
                  </a:lnTo>
                  <a:lnTo>
                    <a:pt x="6251" y="1503"/>
                  </a:lnTo>
                  <a:lnTo>
                    <a:pt x="6260" y="1540"/>
                  </a:lnTo>
                  <a:lnTo>
                    <a:pt x="6268" y="1628"/>
                  </a:lnTo>
                  <a:lnTo>
                    <a:pt x="6276" y="1525"/>
                  </a:lnTo>
                  <a:lnTo>
                    <a:pt x="6285" y="1604"/>
                  </a:lnTo>
                  <a:lnTo>
                    <a:pt x="6294" y="1634"/>
                  </a:lnTo>
                  <a:lnTo>
                    <a:pt x="6302" y="1516"/>
                  </a:lnTo>
                  <a:lnTo>
                    <a:pt x="6311" y="1534"/>
                  </a:lnTo>
                  <a:lnTo>
                    <a:pt x="6320" y="1577"/>
                  </a:lnTo>
                  <a:lnTo>
                    <a:pt x="6328" y="1502"/>
                  </a:lnTo>
                  <a:lnTo>
                    <a:pt x="6336" y="1451"/>
                  </a:lnTo>
                  <a:lnTo>
                    <a:pt x="6345" y="1577"/>
                  </a:lnTo>
                  <a:lnTo>
                    <a:pt x="6353" y="1610"/>
                  </a:lnTo>
                  <a:lnTo>
                    <a:pt x="6362" y="1521"/>
                  </a:lnTo>
                  <a:lnTo>
                    <a:pt x="6371" y="1584"/>
                  </a:lnTo>
                  <a:lnTo>
                    <a:pt x="6380" y="1595"/>
                  </a:lnTo>
                  <a:lnTo>
                    <a:pt x="6380" y="15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706040" y="5718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0316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61764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62888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4156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09340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10788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12092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133600" y="5718240"/>
              <a:ext cx="34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 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75428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26224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76696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27492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78144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28796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79412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30064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807160" y="5661000"/>
              <a:ext cx="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75428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00808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26224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1460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276696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02112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27492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52728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78144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03380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28796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54032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79412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04684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30064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5300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7160" y="566100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577520" y="557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96880" y="43434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459240" y="5886360"/>
              <a:ext cx="663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[Hz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757520" y="4430880"/>
              <a:ext cx="4051080" cy="122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496880" y="47545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506240" y="516240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1701720" y="565776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1701720" y="525132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>
              <a:off x="1701720" y="484488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1701720" y="443700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1728360" y="565776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1728360" y="545472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1728360" y="525132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1728360" y="504828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1728360" y="484488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1728360" y="46404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1728360" y="4437000"/>
              <a:ext cx="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16200000">
              <a:off x="1195560" y="4810680"/>
              <a:ext cx="457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med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 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766880" y="4437000"/>
              <a:ext cx="4040280" cy="1160640"/>
            </a:xfrm>
            <a:custGeom>
              <a:avLst/>
              <a:gdLst/>
              <a:ahLst/>
              <a:rect l="l" t="t" r="r" b="b"/>
              <a:pathLst>
                <a:path w="6360" h="1670">
                  <a:moveTo>
                    <a:pt x="0" y="0"/>
                  </a:moveTo>
                  <a:lnTo>
                    <a:pt x="6" y="243"/>
                  </a:lnTo>
                  <a:lnTo>
                    <a:pt x="15" y="325"/>
                  </a:lnTo>
                  <a:lnTo>
                    <a:pt x="24" y="353"/>
                  </a:lnTo>
                  <a:lnTo>
                    <a:pt x="31" y="625"/>
                  </a:lnTo>
                  <a:lnTo>
                    <a:pt x="40" y="630"/>
                  </a:lnTo>
                  <a:lnTo>
                    <a:pt x="49" y="794"/>
                  </a:lnTo>
                  <a:lnTo>
                    <a:pt x="57" y="911"/>
                  </a:lnTo>
                  <a:lnTo>
                    <a:pt x="66" y="929"/>
                  </a:lnTo>
                  <a:lnTo>
                    <a:pt x="75" y="877"/>
                  </a:lnTo>
                  <a:lnTo>
                    <a:pt x="83" y="982"/>
                  </a:lnTo>
                  <a:lnTo>
                    <a:pt x="92" y="982"/>
                  </a:lnTo>
                  <a:lnTo>
                    <a:pt x="101" y="1013"/>
                  </a:lnTo>
                  <a:lnTo>
                    <a:pt x="110" y="979"/>
                  </a:lnTo>
                  <a:lnTo>
                    <a:pt x="117" y="1083"/>
                  </a:lnTo>
                  <a:lnTo>
                    <a:pt x="126" y="1033"/>
                  </a:lnTo>
                  <a:lnTo>
                    <a:pt x="135" y="1103"/>
                  </a:lnTo>
                  <a:lnTo>
                    <a:pt x="143" y="1095"/>
                  </a:lnTo>
                  <a:lnTo>
                    <a:pt x="152" y="1130"/>
                  </a:lnTo>
                  <a:lnTo>
                    <a:pt x="161" y="1169"/>
                  </a:lnTo>
                  <a:lnTo>
                    <a:pt x="169" y="1116"/>
                  </a:lnTo>
                  <a:lnTo>
                    <a:pt x="178" y="1198"/>
                  </a:lnTo>
                  <a:lnTo>
                    <a:pt x="187" y="1235"/>
                  </a:lnTo>
                  <a:lnTo>
                    <a:pt x="195" y="1193"/>
                  </a:lnTo>
                  <a:lnTo>
                    <a:pt x="203" y="1201"/>
                  </a:lnTo>
                  <a:lnTo>
                    <a:pt x="212" y="1221"/>
                  </a:lnTo>
                  <a:lnTo>
                    <a:pt x="221" y="1203"/>
                  </a:lnTo>
                  <a:lnTo>
                    <a:pt x="229" y="1201"/>
                  </a:lnTo>
                  <a:lnTo>
                    <a:pt x="238" y="1287"/>
                  </a:lnTo>
                  <a:lnTo>
                    <a:pt x="247" y="1266"/>
                  </a:lnTo>
                  <a:lnTo>
                    <a:pt x="255" y="1263"/>
                  </a:lnTo>
                  <a:lnTo>
                    <a:pt x="263" y="1213"/>
                  </a:lnTo>
                  <a:lnTo>
                    <a:pt x="272" y="1341"/>
                  </a:lnTo>
                  <a:lnTo>
                    <a:pt x="281" y="1253"/>
                  </a:lnTo>
                  <a:lnTo>
                    <a:pt x="289" y="1244"/>
                  </a:lnTo>
                  <a:lnTo>
                    <a:pt x="298" y="1242"/>
                  </a:lnTo>
                  <a:lnTo>
                    <a:pt x="307" y="1360"/>
                  </a:lnTo>
                  <a:lnTo>
                    <a:pt x="315" y="1322"/>
                  </a:lnTo>
                  <a:lnTo>
                    <a:pt x="324" y="1326"/>
                  </a:lnTo>
                  <a:lnTo>
                    <a:pt x="333" y="1326"/>
                  </a:lnTo>
                  <a:lnTo>
                    <a:pt x="340" y="1335"/>
                  </a:lnTo>
                  <a:lnTo>
                    <a:pt x="349" y="1324"/>
                  </a:lnTo>
                  <a:lnTo>
                    <a:pt x="358" y="1301"/>
                  </a:lnTo>
                  <a:lnTo>
                    <a:pt x="366" y="1395"/>
                  </a:lnTo>
                  <a:lnTo>
                    <a:pt x="375" y="1328"/>
                  </a:lnTo>
                  <a:lnTo>
                    <a:pt x="384" y="1395"/>
                  </a:lnTo>
                  <a:lnTo>
                    <a:pt x="393" y="1325"/>
                  </a:lnTo>
                  <a:lnTo>
                    <a:pt x="401" y="1365"/>
                  </a:lnTo>
                  <a:lnTo>
                    <a:pt x="410" y="1394"/>
                  </a:lnTo>
                  <a:lnTo>
                    <a:pt x="419" y="1370"/>
                  </a:lnTo>
                  <a:lnTo>
                    <a:pt x="426" y="1376"/>
                  </a:lnTo>
                  <a:lnTo>
                    <a:pt x="435" y="1374"/>
                  </a:lnTo>
                  <a:lnTo>
                    <a:pt x="444" y="1335"/>
                  </a:lnTo>
                  <a:lnTo>
                    <a:pt x="452" y="1347"/>
                  </a:lnTo>
                  <a:lnTo>
                    <a:pt x="461" y="1379"/>
                  </a:lnTo>
                  <a:lnTo>
                    <a:pt x="470" y="1383"/>
                  </a:lnTo>
                  <a:lnTo>
                    <a:pt x="479" y="1412"/>
                  </a:lnTo>
                  <a:lnTo>
                    <a:pt x="487" y="1387"/>
                  </a:lnTo>
                  <a:lnTo>
                    <a:pt x="496" y="1378"/>
                  </a:lnTo>
                  <a:lnTo>
                    <a:pt x="504" y="1379"/>
                  </a:lnTo>
                  <a:lnTo>
                    <a:pt x="512" y="1394"/>
                  </a:lnTo>
                  <a:lnTo>
                    <a:pt x="521" y="1357"/>
                  </a:lnTo>
                  <a:lnTo>
                    <a:pt x="530" y="1467"/>
                  </a:lnTo>
                  <a:lnTo>
                    <a:pt x="538" y="1422"/>
                  </a:lnTo>
                  <a:lnTo>
                    <a:pt x="547" y="1378"/>
                  </a:lnTo>
                  <a:lnTo>
                    <a:pt x="556" y="1383"/>
                  </a:lnTo>
                  <a:lnTo>
                    <a:pt x="564" y="1437"/>
                  </a:lnTo>
                  <a:lnTo>
                    <a:pt x="572" y="1390"/>
                  </a:lnTo>
                  <a:lnTo>
                    <a:pt x="581" y="1439"/>
                  </a:lnTo>
                  <a:lnTo>
                    <a:pt x="590" y="1418"/>
                  </a:lnTo>
                  <a:lnTo>
                    <a:pt x="598" y="1442"/>
                  </a:lnTo>
                  <a:lnTo>
                    <a:pt x="607" y="1429"/>
                  </a:lnTo>
                  <a:lnTo>
                    <a:pt x="616" y="1428"/>
                  </a:lnTo>
                  <a:lnTo>
                    <a:pt x="624" y="1442"/>
                  </a:lnTo>
                  <a:lnTo>
                    <a:pt x="633" y="1443"/>
                  </a:lnTo>
                  <a:lnTo>
                    <a:pt x="642" y="1463"/>
                  </a:lnTo>
                  <a:lnTo>
                    <a:pt x="649" y="1408"/>
                  </a:lnTo>
                  <a:lnTo>
                    <a:pt x="658" y="1447"/>
                  </a:lnTo>
                  <a:lnTo>
                    <a:pt x="667" y="1470"/>
                  </a:lnTo>
                  <a:lnTo>
                    <a:pt x="676" y="1405"/>
                  </a:lnTo>
                  <a:lnTo>
                    <a:pt x="684" y="1470"/>
                  </a:lnTo>
                  <a:lnTo>
                    <a:pt x="693" y="1431"/>
                  </a:lnTo>
                  <a:lnTo>
                    <a:pt x="702" y="1409"/>
                  </a:lnTo>
                  <a:lnTo>
                    <a:pt x="710" y="1420"/>
                  </a:lnTo>
                  <a:lnTo>
                    <a:pt x="719" y="1453"/>
                  </a:lnTo>
                  <a:lnTo>
                    <a:pt x="728" y="1457"/>
                  </a:lnTo>
                  <a:lnTo>
                    <a:pt x="735" y="1453"/>
                  </a:lnTo>
                  <a:lnTo>
                    <a:pt x="744" y="1476"/>
                  </a:lnTo>
                  <a:lnTo>
                    <a:pt x="753" y="1443"/>
                  </a:lnTo>
                  <a:lnTo>
                    <a:pt x="762" y="1452"/>
                  </a:lnTo>
                  <a:lnTo>
                    <a:pt x="770" y="1455"/>
                  </a:lnTo>
                  <a:lnTo>
                    <a:pt x="779" y="1436"/>
                  </a:lnTo>
                  <a:lnTo>
                    <a:pt x="788" y="1503"/>
                  </a:lnTo>
                  <a:lnTo>
                    <a:pt x="796" y="1470"/>
                  </a:lnTo>
                  <a:lnTo>
                    <a:pt x="805" y="1484"/>
                  </a:lnTo>
                  <a:lnTo>
                    <a:pt x="813" y="1472"/>
                  </a:lnTo>
                  <a:lnTo>
                    <a:pt x="821" y="1470"/>
                  </a:lnTo>
                  <a:lnTo>
                    <a:pt x="830" y="1481"/>
                  </a:lnTo>
                  <a:lnTo>
                    <a:pt x="839" y="1483"/>
                  </a:lnTo>
                  <a:lnTo>
                    <a:pt x="847" y="1490"/>
                  </a:lnTo>
                  <a:lnTo>
                    <a:pt x="856" y="1494"/>
                  </a:lnTo>
                  <a:lnTo>
                    <a:pt x="865" y="1487"/>
                  </a:lnTo>
                  <a:lnTo>
                    <a:pt x="874" y="1505"/>
                  </a:lnTo>
                  <a:lnTo>
                    <a:pt x="881" y="1481"/>
                  </a:lnTo>
                  <a:lnTo>
                    <a:pt x="890" y="1473"/>
                  </a:lnTo>
                  <a:lnTo>
                    <a:pt x="899" y="1494"/>
                  </a:lnTo>
                  <a:lnTo>
                    <a:pt x="907" y="1473"/>
                  </a:lnTo>
                  <a:lnTo>
                    <a:pt x="916" y="1477"/>
                  </a:lnTo>
                  <a:lnTo>
                    <a:pt x="925" y="1503"/>
                  </a:lnTo>
                  <a:lnTo>
                    <a:pt x="933" y="1483"/>
                  </a:lnTo>
                  <a:lnTo>
                    <a:pt x="942" y="1488"/>
                  </a:lnTo>
                  <a:lnTo>
                    <a:pt x="951" y="1515"/>
                  </a:lnTo>
                  <a:lnTo>
                    <a:pt x="960" y="1514"/>
                  </a:lnTo>
                  <a:lnTo>
                    <a:pt x="967" y="1499"/>
                  </a:lnTo>
                  <a:lnTo>
                    <a:pt x="976" y="1496"/>
                  </a:lnTo>
                  <a:lnTo>
                    <a:pt x="985" y="1499"/>
                  </a:lnTo>
                  <a:lnTo>
                    <a:pt x="993" y="1523"/>
                  </a:lnTo>
                  <a:lnTo>
                    <a:pt x="1002" y="1525"/>
                  </a:lnTo>
                  <a:lnTo>
                    <a:pt x="1011" y="1519"/>
                  </a:lnTo>
                  <a:lnTo>
                    <a:pt x="1019" y="1514"/>
                  </a:lnTo>
                  <a:lnTo>
                    <a:pt x="1028" y="1495"/>
                  </a:lnTo>
                  <a:lnTo>
                    <a:pt x="1037" y="1510"/>
                  </a:lnTo>
                  <a:lnTo>
                    <a:pt x="1044" y="1510"/>
                  </a:lnTo>
                  <a:lnTo>
                    <a:pt x="1053" y="1496"/>
                  </a:lnTo>
                  <a:lnTo>
                    <a:pt x="1062" y="1496"/>
                  </a:lnTo>
                  <a:lnTo>
                    <a:pt x="1071" y="1525"/>
                  </a:lnTo>
                  <a:lnTo>
                    <a:pt x="1079" y="1505"/>
                  </a:lnTo>
                  <a:lnTo>
                    <a:pt x="1088" y="1514"/>
                  </a:lnTo>
                  <a:lnTo>
                    <a:pt x="1097" y="1492"/>
                  </a:lnTo>
                  <a:lnTo>
                    <a:pt x="1105" y="1535"/>
                  </a:lnTo>
                  <a:lnTo>
                    <a:pt x="1114" y="1513"/>
                  </a:lnTo>
                  <a:lnTo>
                    <a:pt x="1122" y="1515"/>
                  </a:lnTo>
                  <a:lnTo>
                    <a:pt x="1130" y="1493"/>
                  </a:lnTo>
                  <a:lnTo>
                    <a:pt x="1139" y="1488"/>
                  </a:lnTo>
                  <a:lnTo>
                    <a:pt x="1148" y="1550"/>
                  </a:lnTo>
                  <a:lnTo>
                    <a:pt x="1157" y="1476"/>
                  </a:lnTo>
                  <a:lnTo>
                    <a:pt x="1165" y="1534"/>
                  </a:lnTo>
                  <a:lnTo>
                    <a:pt x="1174" y="1522"/>
                  </a:lnTo>
                  <a:lnTo>
                    <a:pt x="1183" y="1507"/>
                  </a:lnTo>
                  <a:lnTo>
                    <a:pt x="1191" y="1516"/>
                  </a:lnTo>
                  <a:lnTo>
                    <a:pt x="1199" y="1541"/>
                  </a:lnTo>
                  <a:lnTo>
                    <a:pt x="1208" y="1528"/>
                  </a:lnTo>
                  <a:lnTo>
                    <a:pt x="1216" y="1526"/>
                  </a:lnTo>
                  <a:lnTo>
                    <a:pt x="1225" y="1531"/>
                  </a:lnTo>
                  <a:lnTo>
                    <a:pt x="1234" y="1540"/>
                  </a:lnTo>
                  <a:lnTo>
                    <a:pt x="1243" y="1536"/>
                  </a:lnTo>
                  <a:lnTo>
                    <a:pt x="1251" y="1529"/>
                  </a:lnTo>
                  <a:lnTo>
                    <a:pt x="1260" y="1515"/>
                  </a:lnTo>
                  <a:lnTo>
                    <a:pt x="1269" y="1533"/>
                  </a:lnTo>
                  <a:lnTo>
                    <a:pt x="1276" y="1550"/>
                  </a:lnTo>
                  <a:lnTo>
                    <a:pt x="1285" y="1553"/>
                  </a:lnTo>
                  <a:lnTo>
                    <a:pt x="1294" y="1540"/>
                  </a:lnTo>
                  <a:lnTo>
                    <a:pt x="1302" y="1535"/>
                  </a:lnTo>
                  <a:lnTo>
                    <a:pt x="1311" y="1520"/>
                  </a:lnTo>
                  <a:lnTo>
                    <a:pt x="1320" y="1529"/>
                  </a:lnTo>
                  <a:lnTo>
                    <a:pt x="1328" y="1538"/>
                  </a:lnTo>
                  <a:lnTo>
                    <a:pt x="1337" y="1545"/>
                  </a:lnTo>
                  <a:lnTo>
                    <a:pt x="1346" y="1548"/>
                  </a:lnTo>
                  <a:lnTo>
                    <a:pt x="1354" y="1541"/>
                  </a:lnTo>
                  <a:lnTo>
                    <a:pt x="1362" y="1565"/>
                  </a:lnTo>
                  <a:lnTo>
                    <a:pt x="1371" y="1520"/>
                  </a:lnTo>
                  <a:lnTo>
                    <a:pt x="1380" y="1531"/>
                  </a:lnTo>
                  <a:lnTo>
                    <a:pt x="1388" y="1535"/>
                  </a:lnTo>
                  <a:lnTo>
                    <a:pt x="1397" y="1549"/>
                  </a:lnTo>
                  <a:lnTo>
                    <a:pt x="1406" y="1533"/>
                  </a:lnTo>
                  <a:lnTo>
                    <a:pt x="1414" y="1565"/>
                  </a:lnTo>
                  <a:lnTo>
                    <a:pt x="1423" y="1539"/>
                  </a:lnTo>
                  <a:lnTo>
                    <a:pt x="1431" y="1556"/>
                  </a:lnTo>
                  <a:lnTo>
                    <a:pt x="1440" y="1553"/>
                  </a:lnTo>
                  <a:lnTo>
                    <a:pt x="1448" y="1559"/>
                  </a:lnTo>
                  <a:lnTo>
                    <a:pt x="1457" y="1545"/>
                  </a:lnTo>
                  <a:lnTo>
                    <a:pt x="1466" y="1560"/>
                  </a:lnTo>
                  <a:lnTo>
                    <a:pt x="1474" y="1542"/>
                  </a:lnTo>
                  <a:lnTo>
                    <a:pt x="1483" y="1541"/>
                  </a:lnTo>
                  <a:lnTo>
                    <a:pt x="1492" y="1549"/>
                  </a:lnTo>
                  <a:lnTo>
                    <a:pt x="1500" y="1540"/>
                  </a:lnTo>
                  <a:lnTo>
                    <a:pt x="1508" y="1577"/>
                  </a:lnTo>
                  <a:lnTo>
                    <a:pt x="1517" y="1570"/>
                  </a:lnTo>
                  <a:lnTo>
                    <a:pt x="1525" y="1531"/>
                  </a:lnTo>
                  <a:lnTo>
                    <a:pt x="1534" y="1553"/>
                  </a:lnTo>
                  <a:lnTo>
                    <a:pt x="1543" y="1565"/>
                  </a:lnTo>
                  <a:lnTo>
                    <a:pt x="1552" y="1546"/>
                  </a:lnTo>
                  <a:lnTo>
                    <a:pt x="1560" y="1549"/>
                  </a:lnTo>
                  <a:lnTo>
                    <a:pt x="1569" y="1582"/>
                  </a:lnTo>
                  <a:lnTo>
                    <a:pt x="1578" y="1540"/>
                  </a:lnTo>
                  <a:lnTo>
                    <a:pt x="1585" y="1560"/>
                  </a:lnTo>
                  <a:lnTo>
                    <a:pt x="1594" y="1539"/>
                  </a:lnTo>
                  <a:lnTo>
                    <a:pt x="1603" y="1571"/>
                  </a:lnTo>
                  <a:lnTo>
                    <a:pt x="1611" y="1551"/>
                  </a:lnTo>
                  <a:lnTo>
                    <a:pt x="1620" y="1561"/>
                  </a:lnTo>
                  <a:lnTo>
                    <a:pt x="1629" y="1544"/>
                  </a:lnTo>
                  <a:lnTo>
                    <a:pt x="1638" y="1575"/>
                  </a:lnTo>
                  <a:lnTo>
                    <a:pt x="1646" y="1535"/>
                  </a:lnTo>
                  <a:lnTo>
                    <a:pt x="1655" y="1564"/>
                  </a:lnTo>
                  <a:lnTo>
                    <a:pt x="1663" y="1524"/>
                  </a:lnTo>
                  <a:lnTo>
                    <a:pt x="1671" y="1543"/>
                  </a:lnTo>
                  <a:lnTo>
                    <a:pt x="1680" y="1573"/>
                  </a:lnTo>
                  <a:lnTo>
                    <a:pt x="1689" y="1550"/>
                  </a:lnTo>
                  <a:lnTo>
                    <a:pt x="1697" y="1554"/>
                  </a:lnTo>
                  <a:lnTo>
                    <a:pt x="1706" y="1543"/>
                  </a:lnTo>
                  <a:lnTo>
                    <a:pt x="1715" y="1552"/>
                  </a:lnTo>
                  <a:lnTo>
                    <a:pt x="1724" y="1571"/>
                  </a:lnTo>
                  <a:lnTo>
                    <a:pt x="1732" y="1564"/>
                  </a:lnTo>
                  <a:lnTo>
                    <a:pt x="1740" y="1562"/>
                  </a:lnTo>
                  <a:lnTo>
                    <a:pt x="1749" y="1544"/>
                  </a:lnTo>
                  <a:lnTo>
                    <a:pt x="1757" y="1558"/>
                  </a:lnTo>
                  <a:lnTo>
                    <a:pt x="1766" y="1560"/>
                  </a:lnTo>
                  <a:lnTo>
                    <a:pt x="1775" y="1575"/>
                  </a:lnTo>
                  <a:lnTo>
                    <a:pt x="1783" y="1573"/>
                  </a:lnTo>
                  <a:lnTo>
                    <a:pt x="1792" y="1572"/>
                  </a:lnTo>
                  <a:lnTo>
                    <a:pt x="1801" y="1553"/>
                  </a:lnTo>
                  <a:lnTo>
                    <a:pt x="1809" y="1585"/>
                  </a:lnTo>
                  <a:lnTo>
                    <a:pt x="1817" y="1577"/>
                  </a:lnTo>
                  <a:lnTo>
                    <a:pt x="1826" y="1548"/>
                  </a:lnTo>
                  <a:lnTo>
                    <a:pt x="1835" y="1580"/>
                  </a:lnTo>
                  <a:lnTo>
                    <a:pt x="1843" y="1561"/>
                  </a:lnTo>
                  <a:lnTo>
                    <a:pt x="1852" y="1567"/>
                  </a:lnTo>
                  <a:lnTo>
                    <a:pt x="1861" y="1583"/>
                  </a:lnTo>
                  <a:lnTo>
                    <a:pt x="1869" y="1570"/>
                  </a:lnTo>
                  <a:lnTo>
                    <a:pt x="1878" y="1577"/>
                  </a:lnTo>
                  <a:lnTo>
                    <a:pt x="1887" y="1583"/>
                  </a:lnTo>
                  <a:lnTo>
                    <a:pt x="1894" y="1560"/>
                  </a:lnTo>
                  <a:lnTo>
                    <a:pt x="1903" y="1565"/>
                  </a:lnTo>
                  <a:lnTo>
                    <a:pt x="1912" y="1578"/>
                  </a:lnTo>
                  <a:lnTo>
                    <a:pt x="1921" y="1571"/>
                  </a:lnTo>
                  <a:lnTo>
                    <a:pt x="1929" y="1572"/>
                  </a:lnTo>
                  <a:lnTo>
                    <a:pt x="1938" y="1555"/>
                  </a:lnTo>
                  <a:lnTo>
                    <a:pt x="1947" y="1564"/>
                  </a:lnTo>
                  <a:lnTo>
                    <a:pt x="1955" y="1534"/>
                  </a:lnTo>
                  <a:lnTo>
                    <a:pt x="1964" y="1553"/>
                  </a:lnTo>
                  <a:lnTo>
                    <a:pt x="1973" y="1567"/>
                  </a:lnTo>
                  <a:lnTo>
                    <a:pt x="1980" y="1574"/>
                  </a:lnTo>
                  <a:lnTo>
                    <a:pt x="1989" y="1565"/>
                  </a:lnTo>
                  <a:lnTo>
                    <a:pt x="1998" y="1579"/>
                  </a:lnTo>
                  <a:lnTo>
                    <a:pt x="2006" y="1585"/>
                  </a:lnTo>
                  <a:lnTo>
                    <a:pt x="2015" y="1583"/>
                  </a:lnTo>
                  <a:lnTo>
                    <a:pt x="2024" y="1575"/>
                  </a:lnTo>
                  <a:lnTo>
                    <a:pt x="2033" y="1564"/>
                  </a:lnTo>
                  <a:lnTo>
                    <a:pt x="2041" y="1584"/>
                  </a:lnTo>
                  <a:lnTo>
                    <a:pt x="2049" y="1590"/>
                  </a:lnTo>
                  <a:lnTo>
                    <a:pt x="2058" y="1575"/>
                  </a:lnTo>
                  <a:lnTo>
                    <a:pt x="2066" y="1553"/>
                  </a:lnTo>
                  <a:lnTo>
                    <a:pt x="2075" y="1591"/>
                  </a:lnTo>
                  <a:lnTo>
                    <a:pt x="2084" y="1572"/>
                  </a:lnTo>
                  <a:lnTo>
                    <a:pt x="2092" y="1596"/>
                  </a:lnTo>
                  <a:lnTo>
                    <a:pt x="2101" y="1571"/>
                  </a:lnTo>
                  <a:lnTo>
                    <a:pt x="2110" y="1597"/>
                  </a:lnTo>
                  <a:lnTo>
                    <a:pt x="2119" y="1577"/>
                  </a:lnTo>
                  <a:lnTo>
                    <a:pt x="2126" y="1565"/>
                  </a:lnTo>
                  <a:lnTo>
                    <a:pt x="2135" y="1596"/>
                  </a:lnTo>
                  <a:lnTo>
                    <a:pt x="2144" y="1585"/>
                  </a:lnTo>
                  <a:lnTo>
                    <a:pt x="2152" y="1583"/>
                  </a:lnTo>
                  <a:lnTo>
                    <a:pt x="2161" y="1574"/>
                  </a:lnTo>
                  <a:lnTo>
                    <a:pt x="2170" y="1578"/>
                  </a:lnTo>
                  <a:lnTo>
                    <a:pt x="2178" y="1603"/>
                  </a:lnTo>
                  <a:lnTo>
                    <a:pt x="2187" y="1607"/>
                  </a:lnTo>
                  <a:lnTo>
                    <a:pt x="2196" y="1594"/>
                  </a:lnTo>
                  <a:lnTo>
                    <a:pt x="2205" y="1572"/>
                  </a:lnTo>
                  <a:lnTo>
                    <a:pt x="2212" y="1579"/>
                  </a:lnTo>
                  <a:lnTo>
                    <a:pt x="2221" y="1590"/>
                  </a:lnTo>
                  <a:lnTo>
                    <a:pt x="2230" y="1583"/>
                  </a:lnTo>
                  <a:lnTo>
                    <a:pt x="2238" y="1564"/>
                  </a:lnTo>
                  <a:lnTo>
                    <a:pt x="2247" y="1572"/>
                  </a:lnTo>
                  <a:lnTo>
                    <a:pt x="2256" y="1580"/>
                  </a:lnTo>
                  <a:lnTo>
                    <a:pt x="2264" y="1587"/>
                  </a:lnTo>
                  <a:lnTo>
                    <a:pt x="2273" y="1578"/>
                  </a:lnTo>
                  <a:lnTo>
                    <a:pt x="2282" y="1589"/>
                  </a:lnTo>
                  <a:lnTo>
                    <a:pt x="2289" y="1575"/>
                  </a:lnTo>
                  <a:lnTo>
                    <a:pt x="2298" y="1596"/>
                  </a:lnTo>
                  <a:lnTo>
                    <a:pt x="2307" y="1591"/>
                  </a:lnTo>
                  <a:lnTo>
                    <a:pt x="2316" y="1599"/>
                  </a:lnTo>
                  <a:lnTo>
                    <a:pt x="2324" y="1584"/>
                  </a:lnTo>
                  <a:lnTo>
                    <a:pt x="2333" y="1589"/>
                  </a:lnTo>
                  <a:lnTo>
                    <a:pt x="2342" y="1592"/>
                  </a:lnTo>
                  <a:lnTo>
                    <a:pt x="2350" y="1572"/>
                  </a:lnTo>
                  <a:lnTo>
                    <a:pt x="2358" y="1598"/>
                  </a:lnTo>
                  <a:lnTo>
                    <a:pt x="2367" y="1584"/>
                  </a:lnTo>
                  <a:lnTo>
                    <a:pt x="2375" y="1593"/>
                  </a:lnTo>
                  <a:lnTo>
                    <a:pt x="2384" y="1578"/>
                  </a:lnTo>
                  <a:lnTo>
                    <a:pt x="2393" y="1594"/>
                  </a:lnTo>
                  <a:lnTo>
                    <a:pt x="2402" y="1589"/>
                  </a:lnTo>
                  <a:lnTo>
                    <a:pt x="2410" y="1583"/>
                  </a:lnTo>
                  <a:lnTo>
                    <a:pt x="2419" y="1596"/>
                  </a:lnTo>
                  <a:lnTo>
                    <a:pt x="2428" y="1594"/>
                  </a:lnTo>
                  <a:lnTo>
                    <a:pt x="2435" y="1580"/>
                  </a:lnTo>
                  <a:lnTo>
                    <a:pt x="2444" y="1577"/>
                  </a:lnTo>
                  <a:lnTo>
                    <a:pt x="2453" y="1594"/>
                  </a:lnTo>
                  <a:lnTo>
                    <a:pt x="2461" y="1579"/>
                  </a:lnTo>
                  <a:lnTo>
                    <a:pt x="2470" y="1575"/>
                  </a:lnTo>
                  <a:lnTo>
                    <a:pt x="2479" y="1591"/>
                  </a:lnTo>
                  <a:lnTo>
                    <a:pt x="2487" y="1599"/>
                  </a:lnTo>
                  <a:lnTo>
                    <a:pt x="2496" y="1581"/>
                  </a:lnTo>
                  <a:lnTo>
                    <a:pt x="2505" y="1583"/>
                  </a:lnTo>
                  <a:lnTo>
                    <a:pt x="2514" y="1587"/>
                  </a:lnTo>
                  <a:lnTo>
                    <a:pt x="2521" y="1582"/>
                  </a:lnTo>
                  <a:lnTo>
                    <a:pt x="2530" y="1591"/>
                  </a:lnTo>
                  <a:lnTo>
                    <a:pt x="2539" y="1607"/>
                  </a:lnTo>
                  <a:lnTo>
                    <a:pt x="2547" y="1592"/>
                  </a:lnTo>
                  <a:lnTo>
                    <a:pt x="2556" y="1607"/>
                  </a:lnTo>
                  <a:lnTo>
                    <a:pt x="2565" y="1599"/>
                  </a:lnTo>
                  <a:lnTo>
                    <a:pt x="2573" y="1601"/>
                  </a:lnTo>
                  <a:lnTo>
                    <a:pt x="2582" y="1579"/>
                  </a:lnTo>
                  <a:lnTo>
                    <a:pt x="2591" y="1597"/>
                  </a:lnTo>
                  <a:lnTo>
                    <a:pt x="2599" y="1611"/>
                  </a:lnTo>
                  <a:lnTo>
                    <a:pt x="2607" y="1609"/>
                  </a:lnTo>
                  <a:lnTo>
                    <a:pt x="2616" y="1593"/>
                  </a:lnTo>
                  <a:lnTo>
                    <a:pt x="2625" y="1611"/>
                  </a:lnTo>
                  <a:lnTo>
                    <a:pt x="2633" y="1610"/>
                  </a:lnTo>
                  <a:lnTo>
                    <a:pt x="2642" y="1580"/>
                  </a:lnTo>
                  <a:lnTo>
                    <a:pt x="2651" y="1596"/>
                  </a:lnTo>
                  <a:lnTo>
                    <a:pt x="2659" y="1604"/>
                  </a:lnTo>
                  <a:lnTo>
                    <a:pt x="2667" y="1616"/>
                  </a:lnTo>
                  <a:lnTo>
                    <a:pt x="2676" y="1603"/>
                  </a:lnTo>
                  <a:lnTo>
                    <a:pt x="2685" y="1611"/>
                  </a:lnTo>
                  <a:lnTo>
                    <a:pt x="2693" y="1590"/>
                  </a:lnTo>
                  <a:lnTo>
                    <a:pt x="2702" y="1594"/>
                  </a:lnTo>
                  <a:lnTo>
                    <a:pt x="2711" y="1613"/>
                  </a:lnTo>
                  <a:lnTo>
                    <a:pt x="2719" y="1604"/>
                  </a:lnTo>
                  <a:lnTo>
                    <a:pt x="2728" y="1610"/>
                  </a:lnTo>
                  <a:lnTo>
                    <a:pt x="2737" y="1559"/>
                  </a:lnTo>
                  <a:lnTo>
                    <a:pt x="2744" y="1590"/>
                  </a:lnTo>
                  <a:lnTo>
                    <a:pt x="2753" y="1600"/>
                  </a:lnTo>
                  <a:lnTo>
                    <a:pt x="2762" y="1597"/>
                  </a:lnTo>
                  <a:lnTo>
                    <a:pt x="2770" y="1597"/>
                  </a:lnTo>
                  <a:lnTo>
                    <a:pt x="2779" y="1610"/>
                  </a:lnTo>
                  <a:lnTo>
                    <a:pt x="2788" y="1589"/>
                  </a:lnTo>
                  <a:lnTo>
                    <a:pt x="2797" y="1612"/>
                  </a:lnTo>
                  <a:lnTo>
                    <a:pt x="2805" y="1602"/>
                  </a:lnTo>
                  <a:lnTo>
                    <a:pt x="2814" y="1600"/>
                  </a:lnTo>
                  <a:lnTo>
                    <a:pt x="2823" y="1602"/>
                  </a:lnTo>
                  <a:lnTo>
                    <a:pt x="2830" y="1607"/>
                  </a:lnTo>
                  <a:lnTo>
                    <a:pt x="2839" y="1620"/>
                  </a:lnTo>
                  <a:lnTo>
                    <a:pt x="2848" y="1607"/>
                  </a:lnTo>
                  <a:lnTo>
                    <a:pt x="2856" y="1610"/>
                  </a:lnTo>
                  <a:lnTo>
                    <a:pt x="2865" y="1607"/>
                  </a:lnTo>
                  <a:lnTo>
                    <a:pt x="2874" y="1619"/>
                  </a:lnTo>
                  <a:lnTo>
                    <a:pt x="2883" y="1604"/>
                  </a:lnTo>
                  <a:lnTo>
                    <a:pt x="2891" y="1592"/>
                  </a:lnTo>
                  <a:lnTo>
                    <a:pt x="2900" y="1619"/>
                  </a:lnTo>
                  <a:lnTo>
                    <a:pt x="2908" y="1610"/>
                  </a:lnTo>
                  <a:lnTo>
                    <a:pt x="2916" y="1593"/>
                  </a:lnTo>
                  <a:lnTo>
                    <a:pt x="2925" y="1607"/>
                  </a:lnTo>
                  <a:lnTo>
                    <a:pt x="2934" y="1613"/>
                  </a:lnTo>
                  <a:lnTo>
                    <a:pt x="2942" y="1624"/>
                  </a:lnTo>
                  <a:lnTo>
                    <a:pt x="2951" y="1609"/>
                  </a:lnTo>
                  <a:lnTo>
                    <a:pt x="2960" y="1601"/>
                  </a:lnTo>
                  <a:lnTo>
                    <a:pt x="2968" y="1612"/>
                  </a:lnTo>
                  <a:lnTo>
                    <a:pt x="2977" y="1611"/>
                  </a:lnTo>
                  <a:lnTo>
                    <a:pt x="2985" y="1611"/>
                  </a:lnTo>
                  <a:lnTo>
                    <a:pt x="2994" y="1617"/>
                  </a:lnTo>
                  <a:lnTo>
                    <a:pt x="3002" y="1610"/>
                  </a:lnTo>
                  <a:lnTo>
                    <a:pt x="3011" y="1611"/>
                  </a:lnTo>
                  <a:lnTo>
                    <a:pt x="3020" y="1612"/>
                  </a:lnTo>
                  <a:lnTo>
                    <a:pt x="3028" y="1616"/>
                  </a:lnTo>
                  <a:lnTo>
                    <a:pt x="3037" y="1610"/>
                  </a:lnTo>
                  <a:lnTo>
                    <a:pt x="3046" y="1612"/>
                  </a:lnTo>
                  <a:lnTo>
                    <a:pt x="3053" y="1613"/>
                  </a:lnTo>
                  <a:lnTo>
                    <a:pt x="3062" y="1603"/>
                  </a:lnTo>
                  <a:lnTo>
                    <a:pt x="3071" y="1602"/>
                  </a:lnTo>
                  <a:lnTo>
                    <a:pt x="3080" y="1621"/>
                  </a:lnTo>
                  <a:lnTo>
                    <a:pt x="3088" y="1610"/>
                  </a:lnTo>
                  <a:lnTo>
                    <a:pt x="3097" y="1604"/>
                  </a:lnTo>
                  <a:lnTo>
                    <a:pt x="3106" y="1618"/>
                  </a:lnTo>
                  <a:lnTo>
                    <a:pt x="3114" y="1591"/>
                  </a:lnTo>
                  <a:lnTo>
                    <a:pt x="3123" y="1612"/>
                  </a:lnTo>
                  <a:lnTo>
                    <a:pt x="3132" y="1600"/>
                  </a:lnTo>
                  <a:lnTo>
                    <a:pt x="3139" y="1617"/>
                  </a:lnTo>
                  <a:lnTo>
                    <a:pt x="3148" y="1613"/>
                  </a:lnTo>
                  <a:lnTo>
                    <a:pt x="3157" y="1611"/>
                  </a:lnTo>
                  <a:lnTo>
                    <a:pt x="3166" y="1616"/>
                  </a:lnTo>
                  <a:lnTo>
                    <a:pt x="3174" y="1611"/>
                  </a:lnTo>
                  <a:lnTo>
                    <a:pt x="3183" y="1606"/>
                  </a:lnTo>
                  <a:lnTo>
                    <a:pt x="3192" y="1603"/>
                  </a:lnTo>
                  <a:lnTo>
                    <a:pt x="3200" y="1604"/>
                  </a:lnTo>
                  <a:lnTo>
                    <a:pt x="3209" y="1616"/>
                  </a:lnTo>
                  <a:lnTo>
                    <a:pt x="3217" y="1633"/>
                  </a:lnTo>
                  <a:lnTo>
                    <a:pt x="3225" y="1619"/>
                  </a:lnTo>
                  <a:lnTo>
                    <a:pt x="3234" y="1621"/>
                  </a:lnTo>
                  <a:lnTo>
                    <a:pt x="3243" y="1621"/>
                  </a:lnTo>
                  <a:lnTo>
                    <a:pt x="3251" y="1604"/>
                  </a:lnTo>
                  <a:lnTo>
                    <a:pt x="3260" y="1618"/>
                  </a:lnTo>
                  <a:lnTo>
                    <a:pt x="3269" y="1628"/>
                  </a:lnTo>
                  <a:lnTo>
                    <a:pt x="3278" y="1626"/>
                  </a:lnTo>
                  <a:lnTo>
                    <a:pt x="3286" y="1606"/>
                  </a:lnTo>
                  <a:lnTo>
                    <a:pt x="3294" y="1608"/>
                  </a:lnTo>
                  <a:lnTo>
                    <a:pt x="3303" y="1636"/>
                  </a:lnTo>
                  <a:lnTo>
                    <a:pt x="3311" y="1616"/>
                  </a:lnTo>
                  <a:lnTo>
                    <a:pt x="3320" y="1604"/>
                  </a:lnTo>
                  <a:lnTo>
                    <a:pt x="3329" y="1622"/>
                  </a:lnTo>
                  <a:lnTo>
                    <a:pt x="3337" y="1616"/>
                  </a:lnTo>
                  <a:lnTo>
                    <a:pt x="3346" y="1631"/>
                  </a:lnTo>
                  <a:lnTo>
                    <a:pt x="3355" y="1613"/>
                  </a:lnTo>
                  <a:lnTo>
                    <a:pt x="3364" y="1635"/>
                  </a:lnTo>
                  <a:lnTo>
                    <a:pt x="3371" y="1624"/>
                  </a:lnTo>
                  <a:lnTo>
                    <a:pt x="3380" y="1600"/>
                  </a:lnTo>
                  <a:lnTo>
                    <a:pt x="3389" y="1620"/>
                  </a:lnTo>
                  <a:lnTo>
                    <a:pt x="3397" y="1613"/>
                  </a:lnTo>
                  <a:lnTo>
                    <a:pt x="3406" y="1609"/>
                  </a:lnTo>
                  <a:lnTo>
                    <a:pt x="3415" y="1616"/>
                  </a:lnTo>
                  <a:lnTo>
                    <a:pt x="3423" y="1620"/>
                  </a:lnTo>
                  <a:lnTo>
                    <a:pt x="3432" y="1616"/>
                  </a:lnTo>
                  <a:lnTo>
                    <a:pt x="3441" y="1616"/>
                  </a:lnTo>
                  <a:lnTo>
                    <a:pt x="3448" y="1621"/>
                  </a:lnTo>
                  <a:lnTo>
                    <a:pt x="3457" y="1628"/>
                  </a:lnTo>
                  <a:lnTo>
                    <a:pt x="3466" y="1620"/>
                  </a:lnTo>
                  <a:lnTo>
                    <a:pt x="3475" y="1614"/>
                  </a:lnTo>
                  <a:lnTo>
                    <a:pt x="3483" y="1626"/>
                  </a:lnTo>
                  <a:lnTo>
                    <a:pt x="3492" y="1622"/>
                  </a:lnTo>
                  <a:lnTo>
                    <a:pt x="3501" y="1613"/>
                  </a:lnTo>
                  <a:lnTo>
                    <a:pt x="3509" y="1601"/>
                  </a:lnTo>
                  <a:lnTo>
                    <a:pt x="3518" y="1617"/>
                  </a:lnTo>
                  <a:lnTo>
                    <a:pt x="3526" y="1622"/>
                  </a:lnTo>
                  <a:lnTo>
                    <a:pt x="3534" y="1627"/>
                  </a:lnTo>
                  <a:lnTo>
                    <a:pt x="3543" y="1619"/>
                  </a:lnTo>
                  <a:lnTo>
                    <a:pt x="3552" y="1602"/>
                  </a:lnTo>
                  <a:lnTo>
                    <a:pt x="3561" y="1621"/>
                  </a:lnTo>
                  <a:lnTo>
                    <a:pt x="3569" y="1613"/>
                  </a:lnTo>
                  <a:lnTo>
                    <a:pt x="3578" y="1612"/>
                  </a:lnTo>
                  <a:lnTo>
                    <a:pt x="3587" y="1612"/>
                  </a:lnTo>
                  <a:lnTo>
                    <a:pt x="3595" y="1601"/>
                  </a:lnTo>
                  <a:lnTo>
                    <a:pt x="3603" y="1633"/>
                  </a:lnTo>
                  <a:lnTo>
                    <a:pt x="3612" y="1622"/>
                  </a:lnTo>
                  <a:lnTo>
                    <a:pt x="3620" y="1621"/>
                  </a:lnTo>
                  <a:lnTo>
                    <a:pt x="3629" y="1616"/>
                  </a:lnTo>
                  <a:lnTo>
                    <a:pt x="3638" y="1628"/>
                  </a:lnTo>
                  <a:lnTo>
                    <a:pt x="3647" y="1630"/>
                  </a:lnTo>
                  <a:lnTo>
                    <a:pt x="3655" y="1619"/>
                  </a:lnTo>
                  <a:lnTo>
                    <a:pt x="3664" y="1631"/>
                  </a:lnTo>
                  <a:lnTo>
                    <a:pt x="3673" y="1621"/>
                  </a:lnTo>
                  <a:lnTo>
                    <a:pt x="3680" y="1613"/>
                  </a:lnTo>
                  <a:lnTo>
                    <a:pt x="3689" y="1616"/>
                  </a:lnTo>
                  <a:lnTo>
                    <a:pt x="3698" y="1632"/>
                  </a:lnTo>
                  <a:lnTo>
                    <a:pt x="3706" y="1613"/>
                  </a:lnTo>
                  <a:lnTo>
                    <a:pt x="3715" y="1613"/>
                  </a:lnTo>
                  <a:lnTo>
                    <a:pt x="3724" y="1617"/>
                  </a:lnTo>
                  <a:lnTo>
                    <a:pt x="3732" y="1618"/>
                  </a:lnTo>
                  <a:lnTo>
                    <a:pt x="3741" y="1616"/>
                  </a:lnTo>
                  <a:lnTo>
                    <a:pt x="3750" y="1627"/>
                  </a:lnTo>
                  <a:lnTo>
                    <a:pt x="3759" y="1621"/>
                  </a:lnTo>
                  <a:lnTo>
                    <a:pt x="3766" y="1621"/>
                  </a:lnTo>
                  <a:lnTo>
                    <a:pt x="3775" y="1616"/>
                  </a:lnTo>
                  <a:lnTo>
                    <a:pt x="3784" y="1610"/>
                  </a:lnTo>
                  <a:lnTo>
                    <a:pt x="3792" y="1640"/>
                  </a:lnTo>
                  <a:lnTo>
                    <a:pt x="3801" y="1624"/>
                  </a:lnTo>
                  <a:lnTo>
                    <a:pt x="3810" y="1617"/>
                  </a:lnTo>
                  <a:lnTo>
                    <a:pt x="3818" y="1635"/>
                  </a:lnTo>
                  <a:lnTo>
                    <a:pt x="3827" y="1618"/>
                  </a:lnTo>
                  <a:lnTo>
                    <a:pt x="3835" y="1618"/>
                  </a:lnTo>
                  <a:lnTo>
                    <a:pt x="3844" y="1627"/>
                  </a:lnTo>
                  <a:lnTo>
                    <a:pt x="3852" y="1617"/>
                  </a:lnTo>
                  <a:lnTo>
                    <a:pt x="3861" y="1614"/>
                  </a:lnTo>
                  <a:lnTo>
                    <a:pt x="3870" y="1626"/>
                  </a:lnTo>
                  <a:lnTo>
                    <a:pt x="3878" y="1627"/>
                  </a:lnTo>
                  <a:lnTo>
                    <a:pt x="3887" y="1627"/>
                  </a:lnTo>
                  <a:lnTo>
                    <a:pt x="3896" y="1639"/>
                  </a:lnTo>
                  <a:lnTo>
                    <a:pt x="3904" y="1635"/>
                  </a:lnTo>
                  <a:lnTo>
                    <a:pt x="3912" y="1627"/>
                  </a:lnTo>
                  <a:lnTo>
                    <a:pt x="3921" y="1614"/>
                  </a:lnTo>
                  <a:lnTo>
                    <a:pt x="3929" y="1635"/>
                  </a:lnTo>
                  <a:lnTo>
                    <a:pt x="3938" y="1641"/>
                  </a:lnTo>
                  <a:lnTo>
                    <a:pt x="3947" y="1619"/>
                  </a:lnTo>
                  <a:lnTo>
                    <a:pt x="3956" y="1639"/>
                  </a:lnTo>
                  <a:lnTo>
                    <a:pt x="3964" y="1635"/>
                  </a:lnTo>
                  <a:lnTo>
                    <a:pt x="3973" y="1633"/>
                  </a:lnTo>
                  <a:lnTo>
                    <a:pt x="3982" y="1635"/>
                  </a:lnTo>
                  <a:lnTo>
                    <a:pt x="3989" y="1641"/>
                  </a:lnTo>
                  <a:lnTo>
                    <a:pt x="3998" y="1630"/>
                  </a:lnTo>
                  <a:lnTo>
                    <a:pt x="4007" y="1632"/>
                  </a:lnTo>
                  <a:lnTo>
                    <a:pt x="4015" y="1622"/>
                  </a:lnTo>
                  <a:lnTo>
                    <a:pt x="4024" y="1621"/>
                  </a:lnTo>
                  <a:lnTo>
                    <a:pt x="4033" y="1628"/>
                  </a:lnTo>
                  <a:lnTo>
                    <a:pt x="4042" y="1608"/>
                  </a:lnTo>
                  <a:lnTo>
                    <a:pt x="4050" y="1633"/>
                  </a:lnTo>
                  <a:lnTo>
                    <a:pt x="4059" y="1626"/>
                  </a:lnTo>
                  <a:lnTo>
                    <a:pt x="4068" y="1635"/>
                  </a:lnTo>
                  <a:lnTo>
                    <a:pt x="4075" y="1632"/>
                  </a:lnTo>
                  <a:lnTo>
                    <a:pt x="4084" y="1635"/>
                  </a:lnTo>
                  <a:lnTo>
                    <a:pt x="4093" y="1632"/>
                  </a:lnTo>
                  <a:lnTo>
                    <a:pt x="4101" y="1622"/>
                  </a:lnTo>
                  <a:lnTo>
                    <a:pt x="4110" y="1612"/>
                  </a:lnTo>
                  <a:lnTo>
                    <a:pt x="4119" y="1638"/>
                  </a:lnTo>
                  <a:lnTo>
                    <a:pt x="4128" y="1622"/>
                  </a:lnTo>
                  <a:lnTo>
                    <a:pt x="4136" y="1618"/>
                  </a:lnTo>
                  <a:lnTo>
                    <a:pt x="4144" y="1630"/>
                  </a:lnTo>
                  <a:lnTo>
                    <a:pt x="4153" y="1629"/>
                  </a:lnTo>
                  <a:lnTo>
                    <a:pt x="4161" y="1621"/>
                  </a:lnTo>
                  <a:lnTo>
                    <a:pt x="4170" y="1638"/>
                  </a:lnTo>
                  <a:lnTo>
                    <a:pt x="4179" y="1638"/>
                  </a:lnTo>
                  <a:lnTo>
                    <a:pt x="4187" y="1649"/>
                  </a:lnTo>
                  <a:lnTo>
                    <a:pt x="4196" y="1621"/>
                  </a:lnTo>
                  <a:lnTo>
                    <a:pt x="4205" y="1613"/>
                  </a:lnTo>
                  <a:lnTo>
                    <a:pt x="4213" y="1630"/>
                  </a:lnTo>
                  <a:lnTo>
                    <a:pt x="4221" y="1639"/>
                  </a:lnTo>
                  <a:lnTo>
                    <a:pt x="4230" y="1612"/>
                  </a:lnTo>
                  <a:lnTo>
                    <a:pt x="4239" y="1613"/>
                  </a:lnTo>
                  <a:lnTo>
                    <a:pt x="4247" y="1638"/>
                  </a:lnTo>
                  <a:lnTo>
                    <a:pt x="4256" y="1629"/>
                  </a:lnTo>
                  <a:lnTo>
                    <a:pt x="4265" y="1624"/>
                  </a:lnTo>
                  <a:lnTo>
                    <a:pt x="4273" y="1619"/>
                  </a:lnTo>
                  <a:lnTo>
                    <a:pt x="4282" y="1622"/>
                  </a:lnTo>
                  <a:lnTo>
                    <a:pt x="4291" y="1622"/>
                  </a:lnTo>
                  <a:lnTo>
                    <a:pt x="4298" y="1623"/>
                  </a:lnTo>
                  <a:lnTo>
                    <a:pt x="4307" y="1636"/>
                  </a:lnTo>
                  <a:lnTo>
                    <a:pt x="4316" y="1639"/>
                  </a:lnTo>
                  <a:lnTo>
                    <a:pt x="4325" y="1638"/>
                  </a:lnTo>
                  <a:lnTo>
                    <a:pt x="4333" y="1637"/>
                  </a:lnTo>
                  <a:lnTo>
                    <a:pt x="4342" y="1637"/>
                  </a:lnTo>
                  <a:lnTo>
                    <a:pt x="4351" y="1618"/>
                  </a:lnTo>
                  <a:lnTo>
                    <a:pt x="4359" y="1637"/>
                  </a:lnTo>
                  <a:lnTo>
                    <a:pt x="4368" y="1624"/>
                  </a:lnTo>
                  <a:lnTo>
                    <a:pt x="4377" y="1637"/>
                  </a:lnTo>
                  <a:lnTo>
                    <a:pt x="4384" y="1651"/>
                  </a:lnTo>
                  <a:lnTo>
                    <a:pt x="4393" y="1641"/>
                  </a:lnTo>
                  <a:lnTo>
                    <a:pt x="4402" y="1621"/>
                  </a:lnTo>
                  <a:lnTo>
                    <a:pt x="4410" y="1623"/>
                  </a:lnTo>
                  <a:lnTo>
                    <a:pt x="4419" y="1630"/>
                  </a:lnTo>
                  <a:lnTo>
                    <a:pt x="4428" y="1610"/>
                  </a:lnTo>
                  <a:lnTo>
                    <a:pt x="4437" y="1622"/>
                  </a:lnTo>
                  <a:lnTo>
                    <a:pt x="4445" y="1623"/>
                  </a:lnTo>
                  <a:lnTo>
                    <a:pt x="4454" y="1631"/>
                  </a:lnTo>
                  <a:lnTo>
                    <a:pt x="4462" y="1645"/>
                  </a:lnTo>
                  <a:lnTo>
                    <a:pt x="4470" y="1641"/>
                  </a:lnTo>
                  <a:lnTo>
                    <a:pt x="4479" y="1640"/>
                  </a:lnTo>
                  <a:lnTo>
                    <a:pt x="4488" y="1620"/>
                  </a:lnTo>
                  <a:lnTo>
                    <a:pt x="4496" y="1638"/>
                  </a:lnTo>
                  <a:lnTo>
                    <a:pt x="4505" y="1637"/>
                  </a:lnTo>
                  <a:lnTo>
                    <a:pt x="4514" y="1638"/>
                  </a:lnTo>
                  <a:lnTo>
                    <a:pt x="4523" y="1637"/>
                  </a:lnTo>
                  <a:lnTo>
                    <a:pt x="4530" y="1631"/>
                  </a:lnTo>
                  <a:lnTo>
                    <a:pt x="4539" y="1652"/>
                  </a:lnTo>
                  <a:lnTo>
                    <a:pt x="4548" y="1622"/>
                  </a:lnTo>
                  <a:lnTo>
                    <a:pt x="4556" y="1631"/>
                  </a:lnTo>
                  <a:lnTo>
                    <a:pt x="4565" y="1635"/>
                  </a:lnTo>
                  <a:lnTo>
                    <a:pt x="4574" y="1638"/>
                  </a:lnTo>
                  <a:lnTo>
                    <a:pt x="4582" y="1635"/>
                  </a:lnTo>
                  <a:lnTo>
                    <a:pt x="4591" y="1633"/>
                  </a:lnTo>
                  <a:lnTo>
                    <a:pt x="4600" y="1645"/>
                  </a:lnTo>
                  <a:lnTo>
                    <a:pt x="4609" y="1651"/>
                  </a:lnTo>
                  <a:lnTo>
                    <a:pt x="4616" y="1635"/>
                  </a:lnTo>
                  <a:lnTo>
                    <a:pt x="4625" y="1637"/>
                  </a:lnTo>
                  <a:lnTo>
                    <a:pt x="4634" y="1629"/>
                  </a:lnTo>
                  <a:lnTo>
                    <a:pt x="4642" y="1624"/>
                  </a:lnTo>
                  <a:lnTo>
                    <a:pt x="4651" y="1640"/>
                  </a:lnTo>
                  <a:lnTo>
                    <a:pt x="4660" y="1652"/>
                  </a:lnTo>
                  <a:lnTo>
                    <a:pt x="4668" y="1648"/>
                  </a:lnTo>
                  <a:lnTo>
                    <a:pt x="4677" y="1646"/>
                  </a:lnTo>
                  <a:lnTo>
                    <a:pt x="4686" y="1635"/>
                  </a:lnTo>
                  <a:lnTo>
                    <a:pt x="4693" y="1639"/>
                  </a:lnTo>
                  <a:lnTo>
                    <a:pt x="4702" y="1628"/>
                  </a:lnTo>
                  <a:lnTo>
                    <a:pt x="4711" y="1646"/>
                  </a:lnTo>
                  <a:lnTo>
                    <a:pt x="4720" y="1635"/>
                  </a:lnTo>
                  <a:lnTo>
                    <a:pt x="4728" y="1646"/>
                  </a:lnTo>
                  <a:lnTo>
                    <a:pt x="4737" y="1649"/>
                  </a:lnTo>
                  <a:lnTo>
                    <a:pt x="4746" y="1626"/>
                  </a:lnTo>
                  <a:lnTo>
                    <a:pt x="4754" y="1636"/>
                  </a:lnTo>
                  <a:lnTo>
                    <a:pt x="4763" y="1639"/>
                  </a:lnTo>
                  <a:lnTo>
                    <a:pt x="4771" y="1636"/>
                  </a:lnTo>
                  <a:lnTo>
                    <a:pt x="4779" y="1635"/>
                  </a:lnTo>
                  <a:lnTo>
                    <a:pt x="4788" y="1649"/>
                  </a:lnTo>
                  <a:lnTo>
                    <a:pt x="4797" y="1641"/>
                  </a:lnTo>
                  <a:lnTo>
                    <a:pt x="4806" y="1631"/>
                  </a:lnTo>
                  <a:lnTo>
                    <a:pt x="4814" y="1649"/>
                  </a:lnTo>
                  <a:lnTo>
                    <a:pt x="4823" y="1627"/>
                  </a:lnTo>
                  <a:lnTo>
                    <a:pt x="4832" y="1638"/>
                  </a:lnTo>
                  <a:lnTo>
                    <a:pt x="4839" y="1643"/>
                  </a:lnTo>
                  <a:lnTo>
                    <a:pt x="4848" y="1639"/>
                  </a:lnTo>
                  <a:lnTo>
                    <a:pt x="4857" y="1641"/>
                  </a:lnTo>
                  <a:lnTo>
                    <a:pt x="4865" y="1639"/>
                  </a:lnTo>
                  <a:lnTo>
                    <a:pt x="4874" y="1641"/>
                  </a:lnTo>
                  <a:lnTo>
                    <a:pt x="4883" y="1642"/>
                  </a:lnTo>
                  <a:lnTo>
                    <a:pt x="4891" y="1641"/>
                  </a:lnTo>
                  <a:lnTo>
                    <a:pt x="4900" y="1640"/>
                  </a:lnTo>
                  <a:lnTo>
                    <a:pt x="4909" y="1640"/>
                  </a:lnTo>
                  <a:lnTo>
                    <a:pt x="4918" y="1656"/>
                  </a:lnTo>
                  <a:lnTo>
                    <a:pt x="4925" y="1640"/>
                  </a:lnTo>
                  <a:lnTo>
                    <a:pt x="4934" y="1648"/>
                  </a:lnTo>
                  <a:lnTo>
                    <a:pt x="4943" y="1650"/>
                  </a:lnTo>
                  <a:lnTo>
                    <a:pt x="4951" y="1631"/>
                  </a:lnTo>
                  <a:lnTo>
                    <a:pt x="4960" y="1633"/>
                  </a:lnTo>
                  <a:lnTo>
                    <a:pt x="4969" y="1649"/>
                  </a:lnTo>
                  <a:lnTo>
                    <a:pt x="4977" y="1643"/>
                  </a:lnTo>
                  <a:lnTo>
                    <a:pt x="4986" y="1647"/>
                  </a:lnTo>
                  <a:lnTo>
                    <a:pt x="4995" y="1655"/>
                  </a:lnTo>
                  <a:lnTo>
                    <a:pt x="5003" y="1624"/>
                  </a:lnTo>
                  <a:lnTo>
                    <a:pt x="5011" y="1656"/>
                  </a:lnTo>
                  <a:lnTo>
                    <a:pt x="5020" y="1630"/>
                  </a:lnTo>
                  <a:lnTo>
                    <a:pt x="5029" y="1645"/>
                  </a:lnTo>
                  <a:lnTo>
                    <a:pt x="5037" y="1636"/>
                  </a:lnTo>
                  <a:lnTo>
                    <a:pt x="5046" y="1622"/>
                  </a:lnTo>
                  <a:lnTo>
                    <a:pt x="5055" y="1643"/>
                  </a:lnTo>
                  <a:lnTo>
                    <a:pt x="5063" y="1645"/>
                  </a:lnTo>
                  <a:lnTo>
                    <a:pt x="5072" y="1650"/>
                  </a:lnTo>
                  <a:lnTo>
                    <a:pt x="5080" y="1640"/>
                  </a:lnTo>
                  <a:lnTo>
                    <a:pt x="5089" y="1635"/>
                  </a:lnTo>
                  <a:lnTo>
                    <a:pt x="5097" y="1656"/>
                  </a:lnTo>
                  <a:lnTo>
                    <a:pt x="5106" y="1643"/>
                  </a:lnTo>
                  <a:lnTo>
                    <a:pt x="5115" y="1637"/>
                  </a:lnTo>
                  <a:lnTo>
                    <a:pt x="5123" y="1642"/>
                  </a:lnTo>
                  <a:lnTo>
                    <a:pt x="5132" y="1636"/>
                  </a:lnTo>
                  <a:lnTo>
                    <a:pt x="5141" y="1650"/>
                  </a:lnTo>
                  <a:lnTo>
                    <a:pt x="5148" y="1646"/>
                  </a:lnTo>
                  <a:lnTo>
                    <a:pt x="5157" y="1646"/>
                  </a:lnTo>
                  <a:lnTo>
                    <a:pt x="5166" y="1653"/>
                  </a:lnTo>
                  <a:lnTo>
                    <a:pt x="5174" y="1646"/>
                  </a:lnTo>
                  <a:lnTo>
                    <a:pt x="5183" y="1637"/>
                  </a:lnTo>
                  <a:lnTo>
                    <a:pt x="5192" y="1650"/>
                  </a:lnTo>
                  <a:lnTo>
                    <a:pt x="5201" y="1635"/>
                  </a:lnTo>
                  <a:lnTo>
                    <a:pt x="5209" y="1650"/>
                  </a:lnTo>
                  <a:lnTo>
                    <a:pt x="5218" y="1648"/>
                  </a:lnTo>
                  <a:lnTo>
                    <a:pt x="5227" y="1639"/>
                  </a:lnTo>
                  <a:lnTo>
                    <a:pt x="5234" y="1640"/>
                  </a:lnTo>
                  <a:lnTo>
                    <a:pt x="5243" y="1631"/>
                  </a:lnTo>
                  <a:lnTo>
                    <a:pt x="5252" y="1655"/>
                  </a:lnTo>
                  <a:lnTo>
                    <a:pt x="5260" y="1635"/>
                  </a:lnTo>
                  <a:lnTo>
                    <a:pt x="5269" y="1658"/>
                  </a:lnTo>
                  <a:lnTo>
                    <a:pt x="5278" y="1641"/>
                  </a:lnTo>
                  <a:lnTo>
                    <a:pt x="5287" y="1637"/>
                  </a:lnTo>
                  <a:lnTo>
                    <a:pt x="5295" y="1645"/>
                  </a:lnTo>
                  <a:lnTo>
                    <a:pt x="5304" y="1659"/>
                  </a:lnTo>
                  <a:lnTo>
                    <a:pt x="5312" y="1647"/>
                  </a:lnTo>
                  <a:lnTo>
                    <a:pt x="5320" y="1650"/>
                  </a:lnTo>
                  <a:lnTo>
                    <a:pt x="5329" y="1645"/>
                  </a:lnTo>
                  <a:lnTo>
                    <a:pt x="5338" y="1653"/>
                  </a:lnTo>
                  <a:lnTo>
                    <a:pt x="5346" y="1645"/>
                  </a:lnTo>
                  <a:lnTo>
                    <a:pt x="5355" y="1624"/>
                  </a:lnTo>
                  <a:lnTo>
                    <a:pt x="5364" y="1642"/>
                  </a:lnTo>
                  <a:lnTo>
                    <a:pt x="5372" y="1643"/>
                  </a:lnTo>
                  <a:lnTo>
                    <a:pt x="5381" y="1647"/>
                  </a:lnTo>
                  <a:lnTo>
                    <a:pt x="5389" y="1650"/>
                  </a:lnTo>
                  <a:lnTo>
                    <a:pt x="5398" y="1659"/>
                  </a:lnTo>
                  <a:lnTo>
                    <a:pt x="5406" y="1646"/>
                  </a:lnTo>
                  <a:lnTo>
                    <a:pt x="5415" y="1642"/>
                  </a:lnTo>
                  <a:lnTo>
                    <a:pt x="5424" y="1648"/>
                  </a:lnTo>
                  <a:lnTo>
                    <a:pt x="5432" y="1642"/>
                  </a:lnTo>
                  <a:lnTo>
                    <a:pt x="5441" y="1647"/>
                  </a:lnTo>
                  <a:lnTo>
                    <a:pt x="5450" y="1638"/>
                  </a:lnTo>
                  <a:lnTo>
                    <a:pt x="5458" y="1643"/>
                  </a:lnTo>
                  <a:lnTo>
                    <a:pt x="5466" y="1646"/>
                  </a:lnTo>
                  <a:lnTo>
                    <a:pt x="5475" y="1657"/>
                  </a:lnTo>
                  <a:lnTo>
                    <a:pt x="5484" y="1648"/>
                  </a:lnTo>
                  <a:lnTo>
                    <a:pt x="5492" y="1650"/>
                  </a:lnTo>
                  <a:lnTo>
                    <a:pt x="5501" y="1642"/>
                  </a:lnTo>
                  <a:lnTo>
                    <a:pt x="5510" y="1656"/>
                  </a:lnTo>
                  <a:lnTo>
                    <a:pt x="5518" y="1649"/>
                  </a:lnTo>
                  <a:lnTo>
                    <a:pt x="5527" y="1635"/>
                  </a:lnTo>
                  <a:lnTo>
                    <a:pt x="5536" y="1645"/>
                  </a:lnTo>
                  <a:lnTo>
                    <a:pt x="5543" y="1655"/>
                  </a:lnTo>
                  <a:lnTo>
                    <a:pt x="5552" y="1648"/>
                  </a:lnTo>
                  <a:lnTo>
                    <a:pt x="5561" y="1647"/>
                  </a:lnTo>
                  <a:lnTo>
                    <a:pt x="5570" y="1653"/>
                  </a:lnTo>
                  <a:lnTo>
                    <a:pt x="5578" y="1650"/>
                  </a:lnTo>
                  <a:lnTo>
                    <a:pt x="5587" y="1636"/>
                  </a:lnTo>
                  <a:lnTo>
                    <a:pt x="5596" y="1643"/>
                  </a:lnTo>
                  <a:lnTo>
                    <a:pt x="5604" y="1641"/>
                  </a:lnTo>
                  <a:lnTo>
                    <a:pt x="5613" y="1657"/>
                  </a:lnTo>
                  <a:lnTo>
                    <a:pt x="5621" y="1642"/>
                  </a:lnTo>
                  <a:lnTo>
                    <a:pt x="5629" y="1645"/>
                  </a:lnTo>
                  <a:lnTo>
                    <a:pt x="5638" y="1651"/>
                  </a:lnTo>
                  <a:lnTo>
                    <a:pt x="5647" y="1650"/>
                  </a:lnTo>
                  <a:lnTo>
                    <a:pt x="5655" y="1646"/>
                  </a:lnTo>
                  <a:lnTo>
                    <a:pt x="5664" y="1660"/>
                  </a:lnTo>
                  <a:lnTo>
                    <a:pt x="5673" y="1647"/>
                  </a:lnTo>
                  <a:lnTo>
                    <a:pt x="5682" y="1657"/>
                  </a:lnTo>
                  <a:lnTo>
                    <a:pt x="5690" y="1650"/>
                  </a:lnTo>
                  <a:lnTo>
                    <a:pt x="5698" y="1648"/>
                  </a:lnTo>
                  <a:lnTo>
                    <a:pt x="5707" y="1661"/>
                  </a:lnTo>
                  <a:lnTo>
                    <a:pt x="5715" y="1645"/>
                  </a:lnTo>
                  <a:lnTo>
                    <a:pt x="5724" y="1661"/>
                  </a:lnTo>
                  <a:lnTo>
                    <a:pt x="5733" y="1656"/>
                  </a:lnTo>
                  <a:lnTo>
                    <a:pt x="5741" y="1637"/>
                  </a:lnTo>
                  <a:lnTo>
                    <a:pt x="5750" y="1656"/>
                  </a:lnTo>
                  <a:lnTo>
                    <a:pt x="5759" y="1662"/>
                  </a:lnTo>
                  <a:lnTo>
                    <a:pt x="5768" y="1645"/>
                  </a:lnTo>
                  <a:lnTo>
                    <a:pt x="5775" y="1657"/>
                  </a:lnTo>
                  <a:lnTo>
                    <a:pt x="5784" y="1656"/>
                  </a:lnTo>
                  <a:lnTo>
                    <a:pt x="5793" y="1648"/>
                  </a:lnTo>
                  <a:lnTo>
                    <a:pt x="5801" y="1645"/>
                  </a:lnTo>
                  <a:lnTo>
                    <a:pt x="5810" y="1647"/>
                  </a:lnTo>
                  <a:lnTo>
                    <a:pt x="5819" y="1630"/>
                  </a:lnTo>
                  <a:lnTo>
                    <a:pt x="5827" y="1646"/>
                  </a:lnTo>
                  <a:lnTo>
                    <a:pt x="5836" y="1642"/>
                  </a:lnTo>
                  <a:lnTo>
                    <a:pt x="5845" y="1656"/>
                  </a:lnTo>
                  <a:lnTo>
                    <a:pt x="5852" y="1650"/>
                  </a:lnTo>
                  <a:lnTo>
                    <a:pt x="5861" y="1633"/>
                  </a:lnTo>
                  <a:lnTo>
                    <a:pt x="5870" y="1662"/>
                  </a:lnTo>
                  <a:lnTo>
                    <a:pt x="5879" y="1655"/>
                  </a:lnTo>
                  <a:lnTo>
                    <a:pt x="5887" y="1643"/>
                  </a:lnTo>
                  <a:lnTo>
                    <a:pt x="5896" y="1650"/>
                  </a:lnTo>
                  <a:lnTo>
                    <a:pt x="5905" y="1651"/>
                  </a:lnTo>
                  <a:lnTo>
                    <a:pt x="5913" y="1662"/>
                  </a:lnTo>
                  <a:lnTo>
                    <a:pt x="5922" y="1645"/>
                  </a:lnTo>
                  <a:lnTo>
                    <a:pt x="5931" y="1651"/>
                  </a:lnTo>
                  <a:lnTo>
                    <a:pt x="5938" y="1646"/>
                  </a:lnTo>
                  <a:lnTo>
                    <a:pt x="5947" y="1667"/>
                  </a:lnTo>
                  <a:lnTo>
                    <a:pt x="5956" y="1648"/>
                  </a:lnTo>
                  <a:lnTo>
                    <a:pt x="5965" y="1658"/>
                  </a:lnTo>
                  <a:lnTo>
                    <a:pt x="5973" y="1664"/>
                  </a:lnTo>
                  <a:lnTo>
                    <a:pt x="5982" y="1655"/>
                  </a:lnTo>
                  <a:lnTo>
                    <a:pt x="5991" y="1645"/>
                  </a:lnTo>
                  <a:lnTo>
                    <a:pt x="5999" y="1660"/>
                  </a:lnTo>
                  <a:lnTo>
                    <a:pt x="6007" y="1661"/>
                  </a:lnTo>
                  <a:lnTo>
                    <a:pt x="6016" y="1650"/>
                  </a:lnTo>
                  <a:lnTo>
                    <a:pt x="6024" y="1652"/>
                  </a:lnTo>
                  <a:lnTo>
                    <a:pt x="6033" y="1661"/>
                  </a:lnTo>
                  <a:lnTo>
                    <a:pt x="6042" y="1661"/>
                  </a:lnTo>
                  <a:lnTo>
                    <a:pt x="6051" y="1666"/>
                  </a:lnTo>
                  <a:lnTo>
                    <a:pt x="6059" y="1662"/>
                  </a:lnTo>
                  <a:lnTo>
                    <a:pt x="6068" y="1656"/>
                  </a:lnTo>
                  <a:lnTo>
                    <a:pt x="6077" y="1646"/>
                  </a:lnTo>
                  <a:lnTo>
                    <a:pt x="6084" y="1651"/>
                  </a:lnTo>
                  <a:lnTo>
                    <a:pt x="6093" y="1664"/>
                  </a:lnTo>
                  <a:lnTo>
                    <a:pt x="6102" y="1649"/>
                  </a:lnTo>
                  <a:lnTo>
                    <a:pt x="6110" y="1656"/>
                  </a:lnTo>
                  <a:lnTo>
                    <a:pt x="6119" y="1652"/>
                  </a:lnTo>
                  <a:lnTo>
                    <a:pt x="6128" y="1647"/>
                  </a:lnTo>
                  <a:lnTo>
                    <a:pt x="6136" y="1650"/>
                  </a:lnTo>
                  <a:lnTo>
                    <a:pt x="6145" y="1630"/>
                  </a:lnTo>
                  <a:lnTo>
                    <a:pt x="6154" y="1643"/>
                  </a:lnTo>
                  <a:lnTo>
                    <a:pt x="6163" y="1656"/>
                  </a:lnTo>
                  <a:lnTo>
                    <a:pt x="6170" y="1645"/>
                  </a:lnTo>
                  <a:lnTo>
                    <a:pt x="6179" y="1647"/>
                  </a:lnTo>
                  <a:lnTo>
                    <a:pt x="6188" y="1656"/>
                  </a:lnTo>
                  <a:lnTo>
                    <a:pt x="6196" y="1662"/>
                  </a:lnTo>
                  <a:lnTo>
                    <a:pt x="6205" y="1662"/>
                  </a:lnTo>
                  <a:lnTo>
                    <a:pt x="6214" y="1657"/>
                  </a:lnTo>
                  <a:lnTo>
                    <a:pt x="6222" y="1666"/>
                  </a:lnTo>
                  <a:lnTo>
                    <a:pt x="6231" y="1651"/>
                  </a:lnTo>
                  <a:lnTo>
                    <a:pt x="6240" y="1651"/>
                  </a:lnTo>
                  <a:lnTo>
                    <a:pt x="6248" y="1670"/>
                  </a:lnTo>
                  <a:lnTo>
                    <a:pt x="6256" y="1653"/>
                  </a:lnTo>
                  <a:lnTo>
                    <a:pt x="6265" y="1651"/>
                  </a:lnTo>
                  <a:lnTo>
                    <a:pt x="6274" y="1649"/>
                  </a:lnTo>
                  <a:lnTo>
                    <a:pt x="6282" y="1648"/>
                  </a:lnTo>
                  <a:lnTo>
                    <a:pt x="6291" y="1646"/>
                  </a:lnTo>
                  <a:lnTo>
                    <a:pt x="6300" y="1633"/>
                  </a:lnTo>
                  <a:lnTo>
                    <a:pt x="6308" y="1660"/>
                  </a:lnTo>
                  <a:lnTo>
                    <a:pt x="6316" y="1643"/>
                  </a:lnTo>
                  <a:lnTo>
                    <a:pt x="6325" y="1653"/>
                  </a:lnTo>
                  <a:lnTo>
                    <a:pt x="6333" y="1657"/>
                  </a:lnTo>
                  <a:lnTo>
                    <a:pt x="6342" y="1653"/>
                  </a:lnTo>
                  <a:lnTo>
                    <a:pt x="6351" y="1657"/>
                  </a:lnTo>
                  <a:lnTo>
                    <a:pt x="6360" y="1636"/>
                  </a:lnTo>
                  <a:lnTo>
                    <a:pt x="6360" y="163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9" name=""/>
          <p:cNvSpPr/>
          <p:nvPr/>
        </p:nvSpPr>
        <p:spPr>
          <a:xfrm>
            <a:off x="6443640" y="4791240"/>
            <a:ext cx="19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54 espectros promed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6443640" y="30924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1 espec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3BD-5E32-4A0F-BFBE-07F7E74E932F}" type="slidenum">
              <a:t>85</a:t>
            </a:fld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Bandas de ru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77B-B2F4-4B90-AE08-65F843BDCE07}" type="slidenum">
              <a:t>86</a:t>
            </a:fld>
          </a:p>
        </p:txBody>
      </p:sp>
    </p:spTree>
  </p:cSld>
  <p:transition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/>
          <p:nvPr/>
        </p:nvSpPr>
        <p:spPr>
          <a:xfrm>
            <a:off x="754200" y="1294920"/>
            <a:ext cx="7635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s de ru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on señales de especial interés en psicoacústica porque permiten investigar regiones específicas del campo audi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A94-D6CD-400E-A101-3E5F47B6F280}" type="slidenum">
              <a:t>87</a:t>
            </a:fld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"/>
          <p:cNvSpPr/>
          <p:nvPr/>
        </p:nvSpPr>
        <p:spPr>
          <a:xfrm>
            <a:off x="754200" y="2208960"/>
            <a:ext cx="763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obtienen filtran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blan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iltros pasaban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diferentes anchos de b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7C3-218A-44FE-BCCA-7B138900CAD0}" type="slidenum">
              <a:t>88</a:t>
            </a:fld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/>
          <p:nvPr/>
        </p:nvSpPr>
        <p:spPr>
          <a:xfrm>
            <a:off x="865080" y="41353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Ruido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9" name=""/>
          <p:cNvGrpSpPr/>
          <p:nvPr/>
        </p:nvGrpSpPr>
        <p:grpSpPr>
          <a:xfrm>
            <a:off x="2762280" y="2336760"/>
            <a:ext cx="3620880" cy="1641600"/>
            <a:chOff x="2762280" y="2336760"/>
            <a:chExt cx="3620880" cy="1641600"/>
          </a:xfrm>
        </p:grpSpPr>
        <p:sp>
          <p:nvSpPr>
            <p:cNvPr id="2490" name=""/>
            <p:cNvSpPr/>
            <p:nvPr/>
          </p:nvSpPr>
          <p:spPr>
            <a:xfrm>
              <a:off x="3332160" y="2336760"/>
              <a:ext cx="2481120" cy="16416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3605040" y="2534760"/>
              <a:ext cx="0" cy="9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517920" y="346392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11520" y="2838600"/>
              <a:ext cx="1685880" cy="625320"/>
            </a:xfrm>
            <a:custGeom>
              <a:avLst/>
              <a:gdLst/>
              <a:ahLst/>
              <a:rect l="l" t="t" r="r" b="b"/>
              <a:pathLst>
                <a:path w="1062" h="394">
                  <a:moveTo>
                    <a:pt x="0" y="394"/>
                  </a:moveTo>
                  <a:lnTo>
                    <a:pt x="328" y="393"/>
                  </a:lnTo>
                  <a:lnTo>
                    <a:pt x="328" y="0"/>
                  </a:lnTo>
                  <a:lnTo>
                    <a:pt x="726" y="0"/>
                  </a:lnTo>
                  <a:lnTo>
                    <a:pt x="726" y="393"/>
                  </a:lnTo>
                  <a:lnTo>
                    <a:pt x="1062" y="393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221000" y="342576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105080" y="2433600"/>
              <a:ext cx="6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153040" y="3236760"/>
              <a:ext cx="4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762280" y="3157560"/>
              <a:ext cx="568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15080" y="3157560"/>
              <a:ext cx="568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9" name=""/>
          <p:cNvSpPr/>
          <p:nvPr/>
        </p:nvSpPr>
        <p:spPr>
          <a:xfrm>
            <a:off x="6657840" y="2624040"/>
            <a:ext cx="1440000" cy="1098720"/>
          </a:xfrm>
          <a:custGeom>
            <a:avLst/>
            <a:gdLst/>
            <a:ahLst/>
            <a:rect l="l" t="t" r="r" b="b"/>
            <a:pathLst>
              <a:path w="5107" h="1619">
                <a:moveTo>
                  <a:pt x="0" y="1013"/>
                </a:moveTo>
                <a:lnTo>
                  <a:pt x="3" y="1025"/>
                </a:lnTo>
                <a:lnTo>
                  <a:pt x="6" y="1031"/>
                </a:lnTo>
                <a:lnTo>
                  <a:pt x="9" y="1035"/>
                </a:lnTo>
                <a:lnTo>
                  <a:pt x="11" y="1035"/>
                </a:lnTo>
                <a:lnTo>
                  <a:pt x="15" y="1030"/>
                </a:lnTo>
                <a:lnTo>
                  <a:pt x="18" y="1021"/>
                </a:lnTo>
                <a:lnTo>
                  <a:pt x="20" y="1009"/>
                </a:lnTo>
                <a:lnTo>
                  <a:pt x="24" y="992"/>
                </a:lnTo>
                <a:lnTo>
                  <a:pt x="26" y="973"/>
                </a:lnTo>
                <a:lnTo>
                  <a:pt x="29" y="950"/>
                </a:lnTo>
                <a:lnTo>
                  <a:pt x="32" y="924"/>
                </a:lnTo>
                <a:lnTo>
                  <a:pt x="35" y="896"/>
                </a:lnTo>
                <a:lnTo>
                  <a:pt x="38" y="865"/>
                </a:lnTo>
                <a:lnTo>
                  <a:pt x="40" y="834"/>
                </a:lnTo>
                <a:lnTo>
                  <a:pt x="44" y="802"/>
                </a:lnTo>
                <a:lnTo>
                  <a:pt x="47" y="768"/>
                </a:lnTo>
                <a:lnTo>
                  <a:pt x="49" y="736"/>
                </a:lnTo>
                <a:lnTo>
                  <a:pt x="53" y="704"/>
                </a:lnTo>
                <a:lnTo>
                  <a:pt x="55" y="673"/>
                </a:lnTo>
                <a:lnTo>
                  <a:pt x="58" y="645"/>
                </a:lnTo>
                <a:lnTo>
                  <a:pt x="61" y="618"/>
                </a:lnTo>
                <a:lnTo>
                  <a:pt x="64" y="595"/>
                </a:lnTo>
                <a:lnTo>
                  <a:pt x="67" y="575"/>
                </a:lnTo>
                <a:lnTo>
                  <a:pt x="69" y="558"/>
                </a:lnTo>
                <a:lnTo>
                  <a:pt x="73" y="547"/>
                </a:lnTo>
                <a:lnTo>
                  <a:pt x="76" y="539"/>
                </a:lnTo>
                <a:lnTo>
                  <a:pt x="78" y="536"/>
                </a:lnTo>
                <a:lnTo>
                  <a:pt x="82" y="537"/>
                </a:lnTo>
                <a:lnTo>
                  <a:pt x="84" y="543"/>
                </a:lnTo>
                <a:lnTo>
                  <a:pt x="87" y="553"/>
                </a:lnTo>
                <a:lnTo>
                  <a:pt x="90" y="569"/>
                </a:lnTo>
                <a:lnTo>
                  <a:pt x="93" y="589"/>
                </a:lnTo>
                <a:lnTo>
                  <a:pt x="96" y="612"/>
                </a:lnTo>
                <a:lnTo>
                  <a:pt x="98" y="639"/>
                </a:lnTo>
                <a:lnTo>
                  <a:pt x="102" y="669"/>
                </a:lnTo>
                <a:lnTo>
                  <a:pt x="104" y="702"/>
                </a:lnTo>
                <a:lnTo>
                  <a:pt x="107" y="736"/>
                </a:lnTo>
                <a:lnTo>
                  <a:pt x="111" y="772"/>
                </a:lnTo>
                <a:lnTo>
                  <a:pt x="113" y="807"/>
                </a:lnTo>
                <a:lnTo>
                  <a:pt x="116" y="844"/>
                </a:lnTo>
                <a:lnTo>
                  <a:pt x="118" y="880"/>
                </a:lnTo>
                <a:lnTo>
                  <a:pt x="122" y="914"/>
                </a:lnTo>
                <a:lnTo>
                  <a:pt x="125" y="947"/>
                </a:lnTo>
                <a:lnTo>
                  <a:pt x="127" y="977"/>
                </a:lnTo>
                <a:lnTo>
                  <a:pt x="131" y="1003"/>
                </a:lnTo>
                <a:lnTo>
                  <a:pt x="133" y="1027"/>
                </a:lnTo>
                <a:lnTo>
                  <a:pt x="136" y="1046"/>
                </a:lnTo>
                <a:lnTo>
                  <a:pt x="140" y="1060"/>
                </a:lnTo>
                <a:lnTo>
                  <a:pt x="142" y="1070"/>
                </a:lnTo>
                <a:lnTo>
                  <a:pt x="145" y="1075"/>
                </a:lnTo>
                <a:lnTo>
                  <a:pt x="147" y="1075"/>
                </a:lnTo>
                <a:lnTo>
                  <a:pt x="151" y="1069"/>
                </a:lnTo>
                <a:lnTo>
                  <a:pt x="154" y="1058"/>
                </a:lnTo>
                <a:lnTo>
                  <a:pt x="156" y="1043"/>
                </a:lnTo>
                <a:lnTo>
                  <a:pt x="160" y="1023"/>
                </a:lnTo>
                <a:lnTo>
                  <a:pt x="162" y="999"/>
                </a:lnTo>
                <a:lnTo>
                  <a:pt x="165" y="971"/>
                </a:lnTo>
                <a:lnTo>
                  <a:pt x="169" y="940"/>
                </a:lnTo>
                <a:lnTo>
                  <a:pt x="171" y="906"/>
                </a:lnTo>
                <a:lnTo>
                  <a:pt x="174" y="871"/>
                </a:lnTo>
                <a:lnTo>
                  <a:pt x="176" y="834"/>
                </a:lnTo>
                <a:lnTo>
                  <a:pt x="180" y="796"/>
                </a:lnTo>
                <a:lnTo>
                  <a:pt x="183" y="758"/>
                </a:lnTo>
                <a:lnTo>
                  <a:pt x="185" y="722"/>
                </a:lnTo>
                <a:lnTo>
                  <a:pt x="189" y="686"/>
                </a:lnTo>
                <a:lnTo>
                  <a:pt x="191" y="653"/>
                </a:lnTo>
                <a:lnTo>
                  <a:pt x="194" y="622"/>
                </a:lnTo>
                <a:lnTo>
                  <a:pt x="196" y="595"/>
                </a:lnTo>
                <a:lnTo>
                  <a:pt x="200" y="571"/>
                </a:lnTo>
                <a:lnTo>
                  <a:pt x="203" y="552"/>
                </a:lnTo>
                <a:lnTo>
                  <a:pt x="205" y="538"/>
                </a:lnTo>
                <a:lnTo>
                  <a:pt x="209" y="529"/>
                </a:lnTo>
                <a:lnTo>
                  <a:pt x="211" y="524"/>
                </a:lnTo>
                <a:lnTo>
                  <a:pt x="214" y="526"/>
                </a:lnTo>
                <a:lnTo>
                  <a:pt x="218" y="531"/>
                </a:lnTo>
                <a:lnTo>
                  <a:pt x="220" y="542"/>
                </a:lnTo>
                <a:lnTo>
                  <a:pt x="223" y="558"/>
                </a:lnTo>
                <a:lnTo>
                  <a:pt x="225" y="578"/>
                </a:lnTo>
                <a:lnTo>
                  <a:pt x="229" y="602"/>
                </a:lnTo>
                <a:lnTo>
                  <a:pt x="232" y="629"/>
                </a:lnTo>
                <a:lnTo>
                  <a:pt x="234" y="660"/>
                </a:lnTo>
                <a:lnTo>
                  <a:pt x="238" y="694"/>
                </a:lnTo>
                <a:lnTo>
                  <a:pt x="240" y="728"/>
                </a:lnTo>
                <a:lnTo>
                  <a:pt x="243" y="764"/>
                </a:lnTo>
                <a:lnTo>
                  <a:pt x="247" y="801"/>
                </a:lnTo>
                <a:lnTo>
                  <a:pt x="249" y="836"/>
                </a:lnTo>
                <a:lnTo>
                  <a:pt x="252" y="871"/>
                </a:lnTo>
                <a:lnTo>
                  <a:pt x="254" y="904"/>
                </a:lnTo>
                <a:lnTo>
                  <a:pt x="258" y="935"/>
                </a:lnTo>
                <a:lnTo>
                  <a:pt x="261" y="963"/>
                </a:lnTo>
                <a:lnTo>
                  <a:pt x="263" y="988"/>
                </a:lnTo>
                <a:lnTo>
                  <a:pt x="267" y="1009"/>
                </a:lnTo>
                <a:lnTo>
                  <a:pt x="269" y="1025"/>
                </a:lnTo>
                <a:lnTo>
                  <a:pt x="272" y="1037"/>
                </a:lnTo>
                <a:lnTo>
                  <a:pt x="276" y="1045"/>
                </a:lnTo>
                <a:lnTo>
                  <a:pt x="278" y="1047"/>
                </a:lnTo>
                <a:lnTo>
                  <a:pt x="281" y="1045"/>
                </a:lnTo>
                <a:lnTo>
                  <a:pt x="283" y="1038"/>
                </a:lnTo>
                <a:lnTo>
                  <a:pt x="287" y="1027"/>
                </a:lnTo>
                <a:lnTo>
                  <a:pt x="289" y="1011"/>
                </a:lnTo>
                <a:lnTo>
                  <a:pt x="292" y="991"/>
                </a:lnTo>
                <a:lnTo>
                  <a:pt x="296" y="969"/>
                </a:lnTo>
                <a:lnTo>
                  <a:pt x="298" y="943"/>
                </a:lnTo>
                <a:lnTo>
                  <a:pt x="301" y="914"/>
                </a:lnTo>
                <a:lnTo>
                  <a:pt x="304" y="884"/>
                </a:lnTo>
                <a:lnTo>
                  <a:pt x="307" y="853"/>
                </a:lnTo>
                <a:lnTo>
                  <a:pt x="310" y="822"/>
                </a:lnTo>
                <a:lnTo>
                  <a:pt x="312" y="791"/>
                </a:lnTo>
                <a:lnTo>
                  <a:pt x="316" y="759"/>
                </a:lnTo>
                <a:lnTo>
                  <a:pt x="318" y="729"/>
                </a:lnTo>
                <a:lnTo>
                  <a:pt x="321" y="703"/>
                </a:lnTo>
                <a:lnTo>
                  <a:pt x="325" y="677"/>
                </a:lnTo>
                <a:lnTo>
                  <a:pt x="327" y="655"/>
                </a:lnTo>
                <a:lnTo>
                  <a:pt x="330" y="635"/>
                </a:lnTo>
                <a:lnTo>
                  <a:pt x="333" y="619"/>
                </a:lnTo>
                <a:lnTo>
                  <a:pt x="336" y="607"/>
                </a:lnTo>
                <a:lnTo>
                  <a:pt x="339" y="599"/>
                </a:lnTo>
                <a:lnTo>
                  <a:pt x="341" y="596"/>
                </a:lnTo>
                <a:lnTo>
                  <a:pt x="345" y="595"/>
                </a:lnTo>
                <a:lnTo>
                  <a:pt x="347" y="599"/>
                </a:lnTo>
                <a:lnTo>
                  <a:pt x="350" y="607"/>
                </a:lnTo>
                <a:lnTo>
                  <a:pt x="354" y="618"/>
                </a:lnTo>
                <a:lnTo>
                  <a:pt x="356" y="632"/>
                </a:lnTo>
                <a:lnTo>
                  <a:pt x="359" y="649"/>
                </a:lnTo>
                <a:lnTo>
                  <a:pt x="362" y="669"/>
                </a:lnTo>
                <a:lnTo>
                  <a:pt x="365" y="690"/>
                </a:lnTo>
                <a:lnTo>
                  <a:pt x="368" y="714"/>
                </a:lnTo>
                <a:lnTo>
                  <a:pt x="370" y="737"/>
                </a:lnTo>
                <a:lnTo>
                  <a:pt x="374" y="762"/>
                </a:lnTo>
                <a:lnTo>
                  <a:pt x="376" y="786"/>
                </a:lnTo>
                <a:lnTo>
                  <a:pt x="379" y="811"/>
                </a:lnTo>
                <a:lnTo>
                  <a:pt x="382" y="833"/>
                </a:lnTo>
                <a:lnTo>
                  <a:pt x="385" y="855"/>
                </a:lnTo>
                <a:lnTo>
                  <a:pt x="388" y="874"/>
                </a:lnTo>
                <a:lnTo>
                  <a:pt x="391" y="892"/>
                </a:lnTo>
                <a:lnTo>
                  <a:pt x="394" y="906"/>
                </a:lnTo>
                <a:lnTo>
                  <a:pt x="396" y="919"/>
                </a:lnTo>
                <a:lnTo>
                  <a:pt x="399" y="928"/>
                </a:lnTo>
                <a:lnTo>
                  <a:pt x="403" y="934"/>
                </a:lnTo>
                <a:lnTo>
                  <a:pt x="405" y="938"/>
                </a:lnTo>
                <a:lnTo>
                  <a:pt x="408" y="939"/>
                </a:lnTo>
                <a:lnTo>
                  <a:pt x="411" y="935"/>
                </a:lnTo>
                <a:lnTo>
                  <a:pt x="414" y="931"/>
                </a:lnTo>
                <a:lnTo>
                  <a:pt x="417" y="923"/>
                </a:lnTo>
                <a:lnTo>
                  <a:pt x="420" y="913"/>
                </a:lnTo>
                <a:lnTo>
                  <a:pt x="423" y="902"/>
                </a:lnTo>
                <a:lnTo>
                  <a:pt x="425" y="889"/>
                </a:lnTo>
                <a:lnTo>
                  <a:pt x="428" y="874"/>
                </a:lnTo>
                <a:lnTo>
                  <a:pt x="432" y="860"/>
                </a:lnTo>
                <a:lnTo>
                  <a:pt x="434" y="844"/>
                </a:lnTo>
                <a:lnTo>
                  <a:pt x="437" y="827"/>
                </a:lnTo>
                <a:lnTo>
                  <a:pt x="440" y="813"/>
                </a:lnTo>
                <a:lnTo>
                  <a:pt x="443" y="797"/>
                </a:lnTo>
                <a:lnTo>
                  <a:pt x="446" y="784"/>
                </a:lnTo>
                <a:lnTo>
                  <a:pt x="449" y="771"/>
                </a:lnTo>
                <a:lnTo>
                  <a:pt x="452" y="759"/>
                </a:lnTo>
                <a:lnTo>
                  <a:pt x="454" y="751"/>
                </a:lnTo>
                <a:lnTo>
                  <a:pt x="458" y="743"/>
                </a:lnTo>
                <a:lnTo>
                  <a:pt x="460" y="736"/>
                </a:lnTo>
                <a:lnTo>
                  <a:pt x="463" y="732"/>
                </a:lnTo>
                <a:lnTo>
                  <a:pt x="466" y="729"/>
                </a:lnTo>
                <a:lnTo>
                  <a:pt x="469" y="729"/>
                </a:lnTo>
                <a:lnTo>
                  <a:pt x="472" y="730"/>
                </a:lnTo>
                <a:lnTo>
                  <a:pt x="474" y="734"/>
                </a:lnTo>
                <a:lnTo>
                  <a:pt x="478" y="737"/>
                </a:lnTo>
                <a:lnTo>
                  <a:pt x="481" y="743"/>
                </a:lnTo>
                <a:lnTo>
                  <a:pt x="483" y="749"/>
                </a:lnTo>
                <a:lnTo>
                  <a:pt x="487" y="756"/>
                </a:lnTo>
                <a:lnTo>
                  <a:pt x="489" y="764"/>
                </a:lnTo>
                <a:lnTo>
                  <a:pt x="492" y="771"/>
                </a:lnTo>
                <a:lnTo>
                  <a:pt x="495" y="778"/>
                </a:lnTo>
                <a:lnTo>
                  <a:pt x="498" y="785"/>
                </a:lnTo>
                <a:lnTo>
                  <a:pt x="501" y="792"/>
                </a:lnTo>
                <a:lnTo>
                  <a:pt x="503" y="797"/>
                </a:lnTo>
                <a:lnTo>
                  <a:pt x="507" y="802"/>
                </a:lnTo>
                <a:lnTo>
                  <a:pt x="510" y="806"/>
                </a:lnTo>
                <a:lnTo>
                  <a:pt x="512" y="808"/>
                </a:lnTo>
                <a:lnTo>
                  <a:pt x="516" y="810"/>
                </a:lnTo>
                <a:lnTo>
                  <a:pt x="518" y="810"/>
                </a:lnTo>
                <a:lnTo>
                  <a:pt x="521" y="808"/>
                </a:lnTo>
                <a:lnTo>
                  <a:pt x="524" y="807"/>
                </a:lnTo>
                <a:lnTo>
                  <a:pt x="527" y="804"/>
                </a:lnTo>
                <a:lnTo>
                  <a:pt x="530" y="800"/>
                </a:lnTo>
                <a:lnTo>
                  <a:pt x="532" y="795"/>
                </a:lnTo>
                <a:lnTo>
                  <a:pt x="536" y="791"/>
                </a:lnTo>
                <a:lnTo>
                  <a:pt x="539" y="785"/>
                </a:lnTo>
                <a:lnTo>
                  <a:pt x="541" y="779"/>
                </a:lnTo>
                <a:lnTo>
                  <a:pt x="545" y="775"/>
                </a:lnTo>
                <a:lnTo>
                  <a:pt x="547" y="769"/>
                </a:lnTo>
                <a:lnTo>
                  <a:pt x="550" y="766"/>
                </a:lnTo>
                <a:lnTo>
                  <a:pt x="552" y="763"/>
                </a:lnTo>
                <a:lnTo>
                  <a:pt x="556" y="762"/>
                </a:lnTo>
                <a:lnTo>
                  <a:pt x="559" y="761"/>
                </a:lnTo>
                <a:lnTo>
                  <a:pt x="561" y="761"/>
                </a:lnTo>
                <a:lnTo>
                  <a:pt x="565" y="763"/>
                </a:lnTo>
                <a:lnTo>
                  <a:pt x="567" y="767"/>
                </a:lnTo>
                <a:lnTo>
                  <a:pt x="570" y="772"/>
                </a:lnTo>
                <a:lnTo>
                  <a:pt x="574" y="778"/>
                </a:lnTo>
                <a:lnTo>
                  <a:pt x="576" y="786"/>
                </a:lnTo>
                <a:lnTo>
                  <a:pt x="579" y="795"/>
                </a:lnTo>
                <a:lnTo>
                  <a:pt x="581" y="805"/>
                </a:lnTo>
                <a:lnTo>
                  <a:pt x="585" y="816"/>
                </a:lnTo>
                <a:lnTo>
                  <a:pt x="588" y="827"/>
                </a:lnTo>
                <a:lnTo>
                  <a:pt x="590" y="840"/>
                </a:lnTo>
                <a:lnTo>
                  <a:pt x="594" y="851"/>
                </a:lnTo>
                <a:lnTo>
                  <a:pt x="596" y="862"/>
                </a:lnTo>
                <a:lnTo>
                  <a:pt x="599" y="873"/>
                </a:lnTo>
                <a:lnTo>
                  <a:pt x="603" y="883"/>
                </a:lnTo>
                <a:lnTo>
                  <a:pt x="605" y="891"/>
                </a:lnTo>
                <a:lnTo>
                  <a:pt x="608" y="899"/>
                </a:lnTo>
                <a:lnTo>
                  <a:pt x="610" y="903"/>
                </a:lnTo>
                <a:lnTo>
                  <a:pt x="614" y="906"/>
                </a:lnTo>
                <a:lnTo>
                  <a:pt x="617" y="908"/>
                </a:lnTo>
                <a:lnTo>
                  <a:pt x="619" y="906"/>
                </a:lnTo>
                <a:lnTo>
                  <a:pt x="623" y="903"/>
                </a:lnTo>
                <a:lnTo>
                  <a:pt x="625" y="896"/>
                </a:lnTo>
                <a:lnTo>
                  <a:pt x="628" y="888"/>
                </a:lnTo>
                <a:lnTo>
                  <a:pt x="632" y="876"/>
                </a:lnTo>
                <a:lnTo>
                  <a:pt x="634" y="863"/>
                </a:lnTo>
                <a:lnTo>
                  <a:pt x="637" y="847"/>
                </a:lnTo>
                <a:lnTo>
                  <a:pt x="639" y="831"/>
                </a:lnTo>
                <a:lnTo>
                  <a:pt x="643" y="812"/>
                </a:lnTo>
                <a:lnTo>
                  <a:pt x="645" y="792"/>
                </a:lnTo>
                <a:lnTo>
                  <a:pt x="648" y="771"/>
                </a:lnTo>
                <a:lnTo>
                  <a:pt x="652" y="749"/>
                </a:lnTo>
                <a:lnTo>
                  <a:pt x="654" y="729"/>
                </a:lnTo>
                <a:lnTo>
                  <a:pt x="657" y="708"/>
                </a:lnTo>
                <a:lnTo>
                  <a:pt x="659" y="689"/>
                </a:lnTo>
                <a:lnTo>
                  <a:pt x="663" y="671"/>
                </a:lnTo>
                <a:lnTo>
                  <a:pt x="666" y="655"/>
                </a:lnTo>
                <a:lnTo>
                  <a:pt x="668" y="641"/>
                </a:lnTo>
                <a:lnTo>
                  <a:pt x="672" y="630"/>
                </a:lnTo>
                <a:lnTo>
                  <a:pt x="674" y="621"/>
                </a:lnTo>
                <a:lnTo>
                  <a:pt x="677" y="617"/>
                </a:lnTo>
                <a:lnTo>
                  <a:pt x="681" y="615"/>
                </a:lnTo>
                <a:lnTo>
                  <a:pt x="683" y="617"/>
                </a:lnTo>
                <a:lnTo>
                  <a:pt x="686" y="622"/>
                </a:lnTo>
                <a:lnTo>
                  <a:pt x="688" y="631"/>
                </a:lnTo>
                <a:lnTo>
                  <a:pt x="692" y="644"/>
                </a:lnTo>
                <a:lnTo>
                  <a:pt x="695" y="660"/>
                </a:lnTo>
                <a:lnTo>
                  <a:pt x="697" y="679"/>
                </a:lnTo>
                <a:lnTo>
                  <a:pt x="701" y="702"/>
                </a:lnTo>
                <a:lnTo>
                  <a:pt x="703" y="726"/>
                </a:lnTo>
                <a:lnTo>
                  <a:pt x="706" y="753"/>
                </a:lnTo>
                <a:lnTo>
                  <a:pt x="710" y="781"/>
                </a:lnTo>
                <a:lnTo>
                  <a:pt x="712" y="811"/>
                </a:lnTo>
                <a:lnTo>
                  <a:pt x="715" y="841"/>
                </a:lnTo>
                <a:lnTo>
                  <a:pt x="717" y="871"/>
                </a:lnTo>
                <a:lnTo>
                  <a:pt x="721" y="900"/>
                </a:lnTo>
                <a:lnTo>
                  <a:pt x="724" y="928"/>
                </a:lnTo>
                <a:lnTo>
                  <a:pt x="726" y="953"/>
                </a:lnTo>
                <a:lnTo>
                  <a:pt x="730" y="978"/>
                </a:lnTo>
                <a:lnTo>
                  <a:pt x="732" y="999"/>
                </a:lnTo>
                <a:lnTo>
                  <a:pt x="735" y="1017"/>
                </a:lnTo>
                <a:lnTo>
                  <a:pt x="738" y="1030"/>
                </a:lnTo>
                <a:lnTo>
                  <a:pt x="741" y="1040"/>
                </a:lnTo>
                <a:lnTo>
                  <a:pt x="744" y="1045"/>
                </a:lnTo>
                <a:lnTo>
                  <a:pt x="746" y="1046"/>
                </a:lnTo>
                <a:lnTo>
                  <a:pt x="750" y="1042"/>
                </a:lnTo>
                <a:lnTo>
                  <a:pt x="752" y="1033"/>
                </a:lnTo>
                <a:lnTo>
                  <a:pt x="755" y="1020"/>
                </a:lnTo>
                <a:lnTo>
                  <a:pt x="759" y="1002"/>
                </a:lnTo>
                <a:lnTo>
                  <a:pt x="761" y="980"/>
                </a:lnTo>
                <a:lnTo>
                  <a:pt x="764" y="954"/>
                </a:lnTo>
                <a:lnTo>
                  <a:pt x="767" y="925"/>
                </a:lnTo>
                <a:lnTo>
                  <a:pt x="770" y="893"/>
                </a:lnTo>
                <a:lnTo>
                  <a:pt x="773" y="859"/>
                </a:lnTo>
                <a:lnTo>
                  <a:pt x="775" y="823"/>
                </a:lnTo>
                <a:lnTo>
                  <a:pt x="779" y="785"/>
                </a:lnTo>
                <a:lnTo>
                  <a:pt x="781" y="747"/>
                </a:lnTo>
                <a:lnTo>
                  <a:pt x="784" y="710"/>
                </a:lnTo>
                <a:lnTo>
                  <a:pt x="788" y="674"/>
                </a:lnTo>
                <a:lnTo>
                  <a:pt x="790" y="639"/>
                </a:lnTo>
                <a:lnTo>
                  <a:pt x="793" y="607"/>
                </a:lnTo>
                <a:lnTo>
                  <a:pt x="796" y="578"/>
                </a:lnTo>
                <a:lnTo>
                  <a:pt x="799" y="552"/>
                </a:lnTo>
                <a:lnTo>
                  <a:pt x="802" y="531"/>
                </a:lnTo>
                <a:lnTo>
                  <a:pt x="804" y="513"/>
                </a:lnTo>
                <a:lnTo>
                  <a:pt x="808" y="502"/>
                </a:lnTo>
                <a:lnTo>
                  <a:pt x="810" y="495"/>
                </a:lnTo>
                <a:lnTo>
                  <a:pt x="813" y="494"/>
                </a:lnTo>
                <a:lnTo>
                  <a:pt x="817" y="500"/>
                </a:lnTo>
                <a:lnTo>
                  <a:pt x="819" y="510"/>
                </a:lnTo>
                <a:lnTo>
                  <a:pt x="822" y="526"/>
                </a:lnTo>
                <a:lnTo>
                  <a:pt x="825" y="547"/>
                </a:lnTo>
                <a:lnTo>
                  <a:pt x="828" y="572"/>
                </a:lnTo>
                <a:lnTo>
                  <a:pt x="830" y="602"/>
                </a:lnTo>
                <a:lnTo>
                  <a:pt x="833" y="637"/>
                </a:lnTo>
                <a:lnTo>
                  <a:pt x="837" y="675"/>
                </a:lnTo>
                <a:lnTo>
                  <a:pt x="839" y="715"/>
                </a:lnTo>
                <a:lnTo>
                  <a:pt x="842" y="758"/>
                </a:lnTo>
                <a:lnTo>
                  <a:pt x="845" y="802"/>
                </a:lnTo>
                <a:lnTo>
                  <a:pt x="848" y="846"/>
                </a:lnTo>
                <a:lnTo>
                  <a:pt x="851" y="890"/>
                </a:lnTo>
                <a:lnTo>
                  <a:pt x="854" y="932"/>
                </a:lnTo>
                <a:lnTo>
                  <a:pt x="857" y="973"/>
                </a:lnTo>
                <a:lnTo>
                  <a:pt x="859" y="1011"/>
                </a:lnTo>
                <a:lnTo>
                  <a:pt x="862" y="1046"/>
                </a:lnTo>
                <a:lnTo>
                  <a:pt x="866" y="1077"/>
                </a:lnTo>
                <a:lnTo>
                  <a:pt x="868" y="1103"/>
                </a:lnTo>
                <a:lnTo>
                  <a:pt x="871" y="1123"/>
                </a:lnTo>
                <a:lnTo>
                  <a:pt x="874" y="1137"/>
                </a:lnTo>
                <a:lnTo>
                  <a:pt x="877" y="1146"/>
                </a:lnTo>
                <a:lnTo>
                  <a:pt x="880" y="1148"/>
                </a:lnTo>
                <a:lnTo>
                  <a:pt x="883" y="1144"/>
                </a:lnTo>
                <a:lnTo>
                  <a:pt x="886" y="1134"/>
                </a:lnTo>
                <a:lnTo>
                  <a:pt x="888" y="1117"/>
                </a:lnTo>
                <a:lnTo>
                  <a:pt x="891" y="1095"/>
                </a:lnTo>
                <a:lnTo>
                  <a:pt x="895" y="1067"/>
                </a:lnTo>
                <a:lnTo>
                  <a:pt x="897" y="1033"/>
                </a:lnTo>
                <a:lnTo>
                  <a:pt x="900" y="996"/>
                </a:lnTo>
                <a:lnTo>
                  <a:pt x="903" y="953"/>
                </a:lnTo>
                <a:lnTo>
                  <a:pt x="906" y="908"/>
                </a:lnTo>
                <a:lnTo>
                  <a:pt x="908" y="861"/>
                </a:lnTo>
                <a:lnTo>
                  <a:pt x="912" y="811"/>
                </a:lnTo>
                <a:lnTo>
                  <a:pt x="915" y="762"/>
                </a:lnTo>
                <a:lnTo>
                  <a:pt x="917" y="712"/>
                </a:lnTo>
                <a:lnTo>
                  <a:pt x="920" y="663"/>
                </a:lnTo>
                <a:lnTo>
                  <a:pt x="923" y="617"/>
                </a:lnTo>
                <a:lnTo>
                  <a:pt x="926" y="572"/>
                </a:lnTo>
                <a:lnTo>
                  <a:pt x="929" y="532"/>
                </a:lnTo>
                <a:lnTo>
                  <a:pt x="932" y="497"/>
                </a:lnTo>
                <a:lnTo>
                  <a:pt x="935" y="466"/>
                </a:lnTo>
                <a:lnTo>
                  <a:pt x="937" y="442"/>
                </a:lnTo>
                <a:lnTo>
                  <a:pt x="941" y="423"/>
                </a:lnTo>
                <a:lnTo>
                  <a:pt x="944" y="412"/>
                </a:lnTo>
                <a:lnTo>
                  <a:pt x="946" y="406"/>
                </a:lnTo>
                <a:lnTo>
                  <a:pt x="949" y="409"/>
                </a:lnTo>
                <a:lnTo>
                  <a:pt x="952" y="419"/>
                </a:lnTo>
                <a:lnTo>
                  <a:pt x="955" y="434"/>
                </a:lnTo>
                <a:lnTo>
                  <a:pt x="958" y="458"/>
                </a:lnTo>
                <a:lnTo>
                  <a:pt x="961" y="487"/>
                </a:lnTo>
                <a:lnTo>
                  <a:pt x="964" y="522"/>
                </a:lnTo>
                <a:lnTo>
                  <a:pt x="966" y="562"/>
                </a:lnTo>
                <a:lnTo>
                  <a:pt x="970" y="607"/>
                </a:lnTo>
                <a:lnTo>
                  <a:pt x="973" y="656"/>
                </a:lnTo>
                <a:lnTo>
                  <a:pt x="975" y="708"/>
                </a:lnTo>
                <a:lnTo>
                  <a:pt x="978" y="762"/>
                </a:lnTo>
                <a:lnTo>
                  <a:pt x="981" y="817"/>
                </a:lnTo>
                <a:lnTo>
                  <a:pt x="984" y="872"/>
                </a:lnTo>
                <a:lnTo>
                  <a:pt x="987" y="927"/>
                </a:lnTo>
                <a:lnTo>
                  <a:pt x="990" y="979"/>
                </a:lnTo>
                <a:lnTo>
                  <a:pt x="993" y="1028"/>
                </a:lnTo>
                <a:lnTo>
                  <a:pt x="995" y="1074"/>
                </a:lnTo>
                <a:lnTo>
                  <a:pt x="999" y="1115"/>
                </a:lnTo>
                <a:lnTo>
                  <a:pt x="1001" y="1149"/>
                </a:lnTo>
                <a:lnTo>
                  <a:pt x="1004" y="1179"/>
                </a:lnTo>
                <a:lnTo>
                  <a:pt x="1007" y="1202"/>
                </a:lnTo>
                <a:lnTo>
                  <a:pt x="1010" y="1217"/>
                </a:lnTo>
                <a:lnTo>
                  <a:pt x="1013" y="1225"/>
                </a:lnTo>
                <a:lnTo>
                  <a:pt x="1015" y="1225"/>
                </a:lnTo>
                <a:lnTo>
                  <a:pt x="1019" y="1217"/>
                </a:lnTo>
                <a:lnTo>
                  <a:pt x="1022" y="1203"/>
                </a:lnTo>
                <a:lnTo>
                  <a:pt x="1024" y="1179"/>
                </a:lnTo>
                <a:lnTo>
                  <a:pt x="1028" y="1149"/>
                </a:lnTo>
                <a:lnTo>
                  <a:pt x="1030" y="1114"/>
                </a:lnTo>
                <a:lnTo>
                  <a:pt x="1033" y="1070"/>
                </a:lnTo>
                <a:lnTo>
                  <a:pt x="1036" y="1023"/>
                </a:lnTo>
                <a:lnTo>
                  <a:pt x="1039" y="971"/>
                </a:lnTo>
                <a:lnTo>
                  <a:pt x="1042" y="915"/>
                </a:lnTo>
                <a:lnTo>
                  <a:pt x="1044" y="856"/>
                </a:lnTo>
                <a:lnTo>
                  <a:pt x="1048" y="797"/>
                </a:lnTo>
                <a:lnTo>
                  <a:pt x="1051" y="737"/>
                </a:lnTo>
                <a:lnTo>
                  <a:pt x="1053" y="678"/>
                </a:lnTo>
                <a:lnTo>
                  <a:pt x="1057" y="620"/>
                </a:lnTo>
                <a:lnTo>
                  <a:pt x="1059" y="566"/>
                </a:lnTo>
                <a:lnTo>
                  <a:pt x="1062" y="514"/>
                </a:lnTo>
                <a:lnTo>
                  <a:pt x="1065" y="469"/>
                </a:lnTo>
                <a:lnTo>
                  <a:pt x="1068" y="429"/>
                </a:lnTo>
                <a:lnTo>
                  <a:pt x="1071" y="395"/>
                </a:lnTo>
                <a:lnTo>
                  <a:pt x="1073" y="368"/>
                </a:lnTo>
                <a:lnTo>
                  <a:pt x="1077" y="351"/>
                </a:lnTo>
                <a:lnTo>
                  <a:pt x="1080" y="340"/>
                </a:lnTo>
                <a:lnTo>
                  <a:pt x="1082" y="337"/>
                </a:lnTo>
                <a:lnTo>
                  <a:pt x="1086" y="344"/>
                </a:lnTo>
                <a:lnTo>
                  <a:pt x="1088" y="358"/>
                </a:lnTo>
                <a:lnTo>
                  <a:pt x="1091" y="382"/>
                </a:lnTo>
                <a:lnTo>
                  <a:pt x="1093" y="412"/>
                </a:lnTo>
                <a:lnTo>
                  <a:pt x="1097" y="450"/>
                </a:lnTo>
                <a:lnTo>
                  <a:pt x="1100" y="494"/>
                </a:lnTo>
                <a:lnTo>
                  <a:pt x="1102" y="544"/>
                </a:lnTo>
                <a:lnTo>
                  <a:pt x="1106" y="600"/>
                </a:lnTo>
                <a:lnTo>
                  <a:pt x="1108" y="659"/>
                </a:lnTo>
                <a:lnTo>
                  <a:pt x="1111" y="722"/>
                </a:lnTo>
                <a:lnTo>
                  <a:pt x="1115" y="785"/>
                </a:lnTo>
                <a:lnTo>
                  <a:pt x="1117" y="850"/>
                </a:lnTo>
                <a:lnTo>
                  <a:pt x="1120" y="913"/>
                </a:lnTo>
                <a:lnTo>
                  <a:pt x="1122" y="974"/>
                </a:lnTo>
                <a:lnTo>
                  <a:pt x="1126" y="1033"/>
                </a:lnTo>
                <a:lnTo>
                  <a:pt x="1129" y="1088"/>
                </a:lnTo>
                <a:lnTo>
                  <a:pt x="1131" y="1138"/>
                </a:lnTo>
                <a:lnTo>
                  <a:pt x="1135" y="1182"/>
                </a:lnTo>
                <a:lnTo>
                  <a:pt x="1137" y="1217"/>
                </a:lnTo>
                <a:lnTo>
                  <a:pt x="1140" y="1246"/>
                </a:lnTo>
                <a:lnTo>
                  <a:pt x="1144" y="1267"/>
                </a:lnTo>
                <a:lnTo>
                  <a:pt x="1146" y="1279"/>
                </a:lnTo>
                <a:lnTo>
                  <a:pt x="1149" y="1282"/>
                </a:lnTo>
                <a:lnTo>
                  <a:pt x="1151" y="1276"/>
                </a:lnTo>
                <a:lnTo>
                  <a:pt x="1155" y="1261"/>
                </a:lnTo>
                <a:lnTo>
                  <a:pt x="1158" y="1237"/>
                </a:lnTo>
                <a:lnTo>
                  <a:pt x="1160" y="1206"/>
                </a:lnTo>
                <a:lnTo>
                  <a:pt x="1164" y="1166"/>
                </a:lnTo>
                <a:lnTo>
                  <a:pt x="1166" y="1119"/>
                </a:lnTo>
                <a:lnTo>
                  <a:pt x="1169" y="1067"/>
                </a:lnTo>
                <a:lnTo>
                  <a:pt x="1173" y="1009"/>
                </a:lnTo>
                <a:lnTo>
                  <a:pt x="1175" y="947"/>
                </a:lnTo>
                <a:lnTo>
                  <a:pt x="1178" y="882"/>
                </a:lnTo>
                <a:lnTo>
                  <a:pt x="1180" y="815"/>
                </a:lnTo>
                <a:lnTo>
                  <a:pt x="1184" y="748"/>
                </a:lnTo>
                <a:lnTo>
                  <a:pt x="1186" y="683"/>
                </a:lnTo>
                <a:lnTo>
                  <a:pt x="1189" y="618"/>
                </a:lnTo>
                <a:lnTo>
                  <a:pt x="1193" y="557"/>
                </a:lnTo>
                <a:lnTo>
                  <a:pt x="1195" y="500"/>
                </a:lnTo>
                <a:lnTo>
                  <a:pt x="1198" y="450"/>
                </a:lnTo>
                <a:lnTo>
                  <a:pt x="1200" y="405"/>
                </a:lnTo>
                <a:lnTo>
                  <a:pt x="1204" y="367"/>
                </a:lnTo>
                <a:lnTo>
                  <a:pt x="1207" y="338"/>
                </a:lnTo>
                <a:lnTo>
                  <a:pt x="1209" y="318"/>
                </a:lnTo>
                <a:lnTo>
                  <a:pt x="1213" y="306"/>
                </a:lnTo>
                <a:lnTo>
                  <a:pt x="1215" y="304"/>
                </a:lnTo>
                <a:lnTo>
                  <a:pt x="1218" y="312"/>
                </a:lnTo>
                <a:lnTo>
                  <a:pt x="1222" y="327"/>
                </a:lnTo>
                <a:lnTo>
                  <a:pt x="1224" y="353"/>
                </a:lnTo>
                <a:lnTo>
                  <a:pt x="1227" y="386"/>
                </a:lnTo>
                <a:lnTo>
                  <a:pt x="1229" y="428"/>
                </a:lnTo>
                <a:lnTo>
                  <a:pt x="1233" y="477"/>
                </a:lnTo>
                <a:lnTo>
                  <a:pt x="1236" y="531"/>
                </a:lnTo>
                <a:lnTo>
                  <a:pt x="1238" y="590"/>
                </a:lnTo>
                <a:lnTo>
                  <a:pt x="1242" y="654"/>
                </a:lnTo>
                <a:lnTo>
                  <a:pt x="1244" y="719"/>
                </a:lnTo>
                <a:lnTo>
                  <a:pt x="1247" y="787"/>
                </a:lnTo>
                <a:lnTo>
                  <a:pt x="1251" y="854"/>
                </a:lnTo>
                <a:lnTo>
                  <a:pt x="1253" y="921"/>
                </a:lnTo>
                <a:lnTo>
                  <a:pt x="1256" y="984"/>
                </a:lnTo>
                <a:lnTo>
                  <a:pt x="1258" y="1045"/>
                </a:lnTo>
                <a:lnTo>
                  <a:pt x="1262" y="1100"/>
                </a:lnTo>
                <a:lnTo>
                  <a:pt x="1265" y="1150"/>
                </a:lnTo>
                <a:lnTo>
                  <a:pt x="1267" y="1193"/>
                </a:lnTo>
                <a:lnTo>
                  <a:pt x="1271" y="1228"/>
                </a:lnTo>
                <a:lnTo>
                  <a:pt x="1273" y="1255"/>
                </a:lnTo>
                <a:lnTo>
                  <a:pt x="1276" y="1273"/>
                </a:lnTo>
                <a:lnTo>
                  <a:pt x="1279" y="1282"/>
                </a:lnTo>
                <a:lnTo>
                  <a:pt x="1282" y="1282"/>
                </a:lnTo>
                <a:lnTo>
                  <a:pt x="1285" y="1272"/>
                </a:lnTo>
                <a:lnTo>
                  <a:pt x="1287" y="1253"/>
                </a:lnTo>
                <a:lnTo>
                  <a:pt x="1291" y="1226"/>
                </a:lnTo>
                <a:lnTo>
                  <a:pt x="1293" y="1191"/>
                </a:lnTo>
                <a:lnTo>
                  <a:pt x="1296" y="1148"/>
                </a:lnTo>
                <a:lnTo>
                  <a:pt x="1300" y="1099"/>
                </a:lnTo>
                <a:lnTo>
                  <a:pt x="1302" y="1045"/>
                </a:lnTo>
                <a:lnTo>
                  <a:pt x="1305" y="984"/>
                </a:lnTo>
                <a:lnTo>
                  <a:pt x="1308" y="922"/>
                </a:lnTo>
                <a:lnTo>
                  <a:pt x="1311" y="857"/>
                </a:lnTo>
                <a:lnTo>
                  <a:pt x="1314" y="793"/>
                </a:lnTo>
                <a:lnTo>
                  <a:pt x="1316" y="727"/>
                </a:lnTo>
                <a:lnTo>
                  <a:pt x="1320" y="665"/>
                </a:lnTo>
                <a:lnTo>
                  <a:pt x="1322" y="605"/>
                </a:lnTo>
                <a:lnTo>
                  <a:pt x="1325" y="548"/>
                </a:lnTo>
                <a:lnTo>
                  <a:pt x="1329" y="497"/>
                </a:lnTo>
                <a:lnTo>
                  <a:pt x="1331" y="452"/>
                </a:lnTo>
                <a:lnTo>
                  <a:pt x="1334" y="414"/>
                </a:lnTo>
                <a:lnTo>
                  <a:pt x="1337" y="384"/>
                </a:lnTo>
                <a:lnTo>
                  <a:pt x="1340" y="362"/>
                </a:lnTo>
                <a:lnTo>
                  <a:pt x="1343" y="348"/>
                </a:lnTo>
                <a:lnTo>
                  <a:pt x="1345" y="344"/>
                </a:lnTo>
                <a:lnTo>
                  <a:pt x="1349" y="347"/>
                </a:lnTo>
                <a:lnTo>
                  <a:pt x="1351" y="361"/>
                </a:lnTo>
                <a:lnTo>
                  <a:pt x="1354" y="382"/>
                </a:lnTo>
                <a:lnTo>
                  <a:pt x="1357" y="411"/>
                </a:lnTo>
                <a:lnTo>
                  <a:pt x="1360" y="446"/>
                </a:lnTo>
                <a:lnTo>
                  <a:pt x="1363" y="490"/>
                </a:lnTo>
                <a:lnTo>
                  <a:pt x="1366" y="538"/>
                </a:lnTo>
                <a:lnTo>
                  <a:pt x="1369" y="590"/>
                </a:lnTo>
                <a:lnTo>
                  <a:pt x="1371" y="647"/>
                </a:lnTo>
                <a:lnTo>
                  <a:pt x="1374" y="705"/>
                </a:lnTo>
                <a:lnTo>
                  <a:pt x="1378" y="765"/>
                </a:lnTo>
                <a:lnTo>
                  <a:pt x="1380" y="825"/>
                </a:lnTo>
                <a:lnTo>
                  <a:pt x="1383" y="883"/>
                </a:lnTo>
                <a:lnTo>
                  <a:pt x="1386" y="940"/>
                </a:lnTo>
                <a:lnTo>
                  <a:pt x="1389" y="992"/>
                </a:lnTo>
                <a:lnTo>
                  <a:pt x="1392" y="1041"/>
                </a:lnTo>
                <a:lnTo>
                  <a:pt x="1395" y="1085"/>
                </a:lnTo>
                <a:lnTo>
                  <a:pt x="1398" y="1121"/>
                </a:lnTo>
                <a:lnTo>
                  <a:pt x="1400" y="1152"/>
                </a:lnTo>
                <a:lnTo>
                  <a:pt x="1403" y="1175"/>
                </a:lnTo>
                <a:lnTo>
                  <a:pt x="1407" y="1191"/>
                </a:lnTo>
                <a:lnTo>
                  <a:pt x="1409" y="1198"/>
                </a:lnTo>
                <a:lnTo>
                  <a:pt x="1412" y="1198"/>
                </a:lnTo>
                <a:lnTo>
                  <a:pt x="1415" y="1189"/>
                </a:lnTo>
                <a:lnTo>
                  <a:pt x="1418" y="1174"/>
                </a:lnTo>
                <a:lnTo>
                  <a:pt x="1421" y="1152"/>
                </a:lnTo>
                <a:lnTo>
                  <a:pt x="1424" y="1123"/>
                </a:lnTo>
                <a:lnTo>
                  <a:pt x="1427" y="1087"/>
                </a:lnTo>
                <a:lnTo>
                  <a:pt x="1429" y="1047"/>
                </a:lnTo>
                <a:lnTo>
                  <a:pt x="1432" y="1002"/>
                </a:lnTo>
                <a:lnTo>
                  <a:pt x="1436" y="954"/>
                </a:lnTo>
                <a:lnTo>
                  <a:pt x="1438" y="904"/>
                </a:lnTo>
                <a:lnTo>
                  <a:pt x="1441" y="853"/>
                </a:lnTo>
                <a:lnTo>
                  <a:pt x="1444" y="802"/>
                </a:lnTo>
                <a:lnTo>
                  <a:pt x="1447" y="752"/>
                </a:lnTo>
                <a:lnTo>
                  <a:pt x="1449" y="703"/>
                </a:lnTo>
                <a:lnTo>
                  <a:pt x="1453" y="657"/>
                </a:lnTo>
                <a:lnTo>
                  <a:pt x="1456" y="615"/>
                </a:lnTo>
                <a:lnTo>
                  <a:pt x="1458" y="576"/>
                </a:lnTo>
                <a:lnTo>
                  <a:pt x="1462" y="543"/>
                </a:lnTo>
                <a:lnTo>
                  <a:pt x="1464" y="516"/>
                </a:lnTo>
                <a:lnTo>
                  <a:pt x="1467" y="494"/>
                </a:lnTo>
                <a:lnTo>
                  <a:pt x="1470" y="480"/>
                </a:lnTo>
                <a:lnTo>
                  <a:pt x="1473" y="471"/>
                </a:lnTo>
                <a:lnTo>
                  <a:pt x="1476" y="470"/>
                </a:lnTo>
                <a:lnTo>
                  <a:pt x="1478" y="474"/>
                </a:lnTo>
                <a:lnTo>
                  <a:pt x="1482" y="485"/>
                </a:lnTo>
                <a:lnTo>
                  <a:pt x="1485" y="502"/>
                </a:lnTo>
                <a:lnTo>
                  <a:pt x="1487" y="524"/>
                </a:lnTo>
                <a:lnTo>
                  <a:pt x="1491" y="552"/>
                </a:lnTo>
                <a:lnTo>
                  <a:pt x="1493" y="583"/>
                </a:lnTo>
                <a:lnTo>
                  <a:pt x="1496" y="618"/>
                </a:lnTo>
                <a:lnTo>
                  <a:pt x="1499" y="656"/>
                </a:lnTo>
                <a:lnTo>
                  <a:pt x="1502" y="695"/>
                </a:lnTo>
                <a:lnTo>
                  <a:pt x="1505" y="735"/>
                </a:lnTo>
                <a:lnTo>
                  <a:pt x="1507" y="776"/>
                </a:lnTo>
                <a:lnTo>
                  <a:pt x="1511" y="816"/>
                </a:lnTo>
                <a:lnTo>
                  <a:pt x="1514" y="854"/>
                </a:lnTo>
                <a:lnTo>
                  <a:pt x="1516" y="890"/>
                </a:lnTo>
                <a:lnTo>
                  <a:pt x="1520" y="923"/>
                </a:lnTo>
                <a:lnTo>
                  <a:pt x="1522" y="953"/>
                </a:lnTo>
                <a:lnTo>
                  <a:pt x="1525" y="979"/>
                </a:lnTo>
                <a:lnTo>
                  <a:pt x="1528" y="1001"/>
                </a:lnTo>
                <a:lnTo>
                  <a:pt x="1531" y="1018"/>
                </a:lnTo>
                <a:lnTo>
                  <a:pt x="1534" y="1030"/>
                </a:lnTo>
                <a:lnTo>
                  <a:pt x="1536" y="1037"/>
                </a:lnTo>
                <a:lnTo>
                  <a:pt x="1540" y="1039"/>
                </a:lnTo>
                <a:lnTo>
                  <a:pt x="1542" y="1036"/>
                </a:lnTo>
                <a:lnTo>
                  <a:pt x="1545" y="1028"/>
                </a:lnTo>
                <a:lnTo>
                  <a:pt x="1549" y="1017"/>
                </a:lnTo>
                <a:lnTo>
                  <a:pt x="1551" y="1001"/>
                </a:lnTo>
                <a:lnTo>
                  <a:pt x="1554" y="981"/>
                </a:lnTo>
                <a:lnTo>
                  <a:pt x="1556" y="960"/>
                </a:lnTo>
                <a:lnTo>
                  <a:pt x="1560" y="935"/>
                </a:lnTo>
                <a:lnTo>
                  <a:pt x="1563" y="909"/>
                </a:lnTo>
                <a:lnTo>
                  <a:pt x="1565" y="881"/>
                </a:lnTo>
                <a:lnTo>
                  <a:pt x="1569" y="853"/>
                </a:lnTo>
                <a:lnTo>
                  <a:pt x="1571" y="825"/>
                </a:lnTo>
                <a:lnTo>
                  <a:pt x="1574" y="798"/>
                </a:lnTo>
                <a:lnTo>
                  <a:pt x="1578" y="773"/>
                </a:lnTo>
                <a:lnTo>
                  <a:pt x="1580" y="748"/>
                </a:lnTo>
                <a:lnTo>
                  <a:pt x="1583" y="726"/>
                </a:lnTo>
                <a:lnTo>
                  <a:pt x="1585" y="706"/>
                </a:lnTo>
                <a:lnTo>
                  <a:pt x="1589" y="689"/>
                </a:lnTo>
                <a:lnTo>
                  <a:pt x="1592" y="676"/>
                </a:lnTo>
                <a:lnTo>
                  <a:pt x="1594" y="665"/>
                </a:lnTo>
                <a:lnTo>
                  <a:pt x="1598" y="657"/>
                </a:lnTo>
                <a:lnTo>
                  <a:pt x="1600" y="654"/>
                </a:lnTo>
                <a:lnTo>
                  <a:pt x="1603" y="653"/>
                </a:lnTo>
                <a:lnTo>
                  <a:pt x="1607" y="655"/>
                </a:lnTo>
                <a:lnTo>
                  <a:pt x="1609" y="659"/>
                </a:lnTo>
                <a:lnTo>
                  <a:pt x="1612" y="667"/>
                </a:lnTo>
                <a:lnTo>
                  <a:pt x="1614" y="676"/>
                </a:lnTo>
                <a:lnTo>
                  <a:pt x="1618" y="687"/>
                </a:lnTo>
                <a:lnTo>
                  <a:pt x="1621" y="700"/>
                </a:lnTo>
                <a:lnTo>
                  <a:pt x="1623" y="715"/>
                </a:lnTo>
                <a:lnTo>
                  <a:pt x="1627" y="729"/>
                </a:lnTo>
                <a:lnTo>
                  <a:pt x="1629" y="744"/>
                </a:lnTo>
                <a:lnTo>
                  <a:pt x="1632" y="759"/>
                </a:lnTo>
                <a:lnTo>
                  <a:pt x="1634" y="774"/>
                </a:lnTo>
                <a:lnTo>
                  <a:pt x="1638" y="787"/>
                </a:lnTo>
                <a:lnTo>
                  <a:pt x="1641" y="801"/>
                </a:lnTo>
                <a:lnTo>
                  <a:pt x="1643" y="812"/>
                </a:lnTo>
                <a:lnTo>
                  <a:pt x="1647" y="822"/>
                </a:lnTo>
                <a:lnTo>
                  <a:pt x="1649" y="831"/>
                </a:lnTo>
                <a:lnTo>
                  <a:pt x="1652" y="837"/>
                </a:lnTo>
                <a:lnTo>
                  <a:pt x="1656" y="843"/>
                </a:lnTo>
                <a:lnTo>
                  <a:pt x="1658" y="846"/>
                </a:lnTo>
                <a:lnTo>
                  <a:pt x="1661" y="849"/>
                </a:lnTo>
                <a:lnTo>
                  <a:pt x="1663" y="850"/>
                </a:lnTo>
                <a:lnTo>
                  <a:pt x="1667" y="849"/>
                </a:lnTo>
                <a:lnTo>
                  <a:pt x="1670" y="847"/>
                </a:lnTo>
                <a:lnTo>
                  <a:pt x="1672" y="844"/>
                </a:lnTo>
                <a:lnTo>
                  <a:pt x="1676" y="841"/>
                </a:lnTo>
                <a:lnTo>
                  <a:pt x="1678" y="836"/>
                </a:lnTo>
                <a:lnTo>
                  <a:pt x="1681" y="833"/>
                </a:lnTo>
                <a:lnTo>
                  <a:pt x="1685" y="829"/>
                </a:lnTo>
                <a:lnTo>
                  <a:pt x="1687" y="824"/>
                </a:lnTo>
                <a:lnTo>
                  <a:pt x="1690" y="821"/>
                </a:lnTo>
                <a:lnTo>
                  <a:pt x="1692" y="817"/>
                </a:lnTo>
                <a:lnTo>
                  <a:pt x="1696" y="815"/>
                </a:lnTo>
                <a:lnTo>
                  <a:pt x="1699" y="814"/>
                </a:lnTo>
                <a:lnTo>
                  <a:pt x="1701" y="813"/>
                </a:lnTo>
                <a:lnTo>
                  <a:pt x="1705" y="813"/>
                </a:lnTo>
                <a:lnTo>
                  <a:pt x="1707" y="813"/>
                </a:lnTo>
                <a:lnTo>
                  <a:pt x="1710" y="815"/>
                </a:lnTo>
                <a:lnTo>
                  <a:pt x="1713" y="816"/>
                </a:lnTo>
                <a:lnTo>
                  <a:pt x="1716" y="820"/>
                </a:lnTo>
                <a:lnTo>
                  <a:pt x="1719" y="822"/>
                </a:lnTo>
                <a:lnTo>
                  <a:pt x="1721" y="825"/>
                </a:lnTo>
                <a:lnTo>
                  <a:pt x="1725" y="829"/>
                </a:lnTo>
                <a:lnTo>
                  <a:pt x="1727" y="831"/>
                </a:lnTo>
                <a:lnTo>
                  <a:pt x="1730" y="833"/>
                </a:lnTo>
                <a:lnTo>
                  <a:pt x="1734" y="835"/>
                </a:lnTo>
                <a:lnTo>
                  <a:pt x="1736" y="836"/>
                </a:lnTo>
                <a:lnTo>
                  <a:pt x="1739" y="836"/>
                </a:lnTo>
                <a:lnTo>
                  <a:pt x="1742" y="834"/>
                </a:lnTo>
                <a:lnTo>
                  <a:pt x="1745" y="832"/>
                </a:lnTo>
                <a:lnTo>
                  <a:pt x="1748" y="829"/>
                </a:lnTo>
                <a:lnTo>
                  <a:pt x="1750" y="823"/>
                </a:lnTo>
                <a:lnTo>
                  <a:pt x="1754" y="817"/>
                </a:lnTo>
                <a:lnTo>
                  <a:pt x="1756" y="810"/>
                </a:lnTo>
                <a:lnTo>
                  <a:pt x="1759" y="801"/>
                </a:lnTo>
                <a:lnTo>
                  <a:pt x="1763" y="791"/>
                </a:lnTo>
                <a:lnTo>
                  <a:pt x="1765" y="781"/>
                </a:lnTo>
                <a:lnTo>
                  <a:pt x="1768" y="769"/>
                </a:lnTo>
                <a:lnTo>
                  <a:pt x="1771" y="757"/>
                </a:lnTo>
                <a:lnTo>
                  <a:pt x="1774" y="746"/>
                </a:lnTo>
                <a:lnTo>
                  <a:pt x="1777" y="735"/>
                </a:lnTo>
                <a:lnTo>
                  <a:pt x="1779" y="725"/>
                </a:lnTo>
                <a:lnTo>
                  <a:pt x="1783" y="715"/>
                </a:lnTo>
                <a:lnTo>
                  <a:pt x="1785" y="707"/>
                </a:lnTo>
                <a:lnTo>
                  <a:pt x="1788" y="699"/>
                </a:lnTo>
                <a:lnTo>
                  <a:pt x="1792" y="695"/>
                </a:lnTo>
                <a:lnTo>
                  <a:pt x="1794" y="692"/>
                </a:lnTo>
                <a:lnTo>
                  <a:pt x="1797" y="690"/>
                </a:lnTo>
                <a:lnTo>
                  <a:pt x="1800" y="692"/>
                </a:lnTo>
                <a:lnTo>
                  <a:pt x="1803" y="695"/>
                </a:lnTo>
                <a:lnTo>
                  <a:pt x="1805" y="702"/>
                </a:lnTo>
                <a:lnTo>
                  <a:pt x="1808" y="709"/>
                </a:lnTo>
                <a:lnTo>
                  <a:pt x="1812" y="720"/>
                </a:lnTo>
                <a:lnTo>
                  <a:pt x="1814" y="733"/>
                </a:lnTo>
                <a:lnTo>
                  <a:pt x="1817" y="748"/>
                </a:lnTo>
                <a:lnTo>
                  <a:pt x="1820" y="764"/>
                </a:lnTo>
                <a:lnTo>
                  <a:pt x="1823" y="782"/>
                </a:lnTo>
                <a:lnTo>
                  <a:pt x="1826" y="801"/>
                </a:lnTo>
                <a:lnTo>
                  <a:pt x="1829" y="821"/>
                </a:lnTo>
                <a:lnTo>
                  <a:pt x="1832" y="840"/>
                </a:lnTo>
                <a:lnTo>
                  <a:pt x="1834" y="860"/>
                </a:lnTo>
                <a:lnTo>
                  <a:pt x="1837" y="879"/>
                </a:lnTo>
                <a:lnTo>
                  <a:pt x="1841" y="896"/>
                </a:lnTo>
                <a:lnTo>
                  <a:pt x="1843" y="912"/>
                </a:lnTo>
                <a:lnTo>
                  <a:pt x="1846" y="925"/>
                </a:lnTo>
                <a:lnTo>
                  <a:pt x="1849" y="938"/>
                </a:lnTo>
                <a:lnTo>
                  <a:pt x="1852" y="947"/>
                </a:lnTo>
                <a:lnTo>
                  <a:pt x="1855" y="952"/>
                </a:lnTo>
                <a:lnTo>
                  <a:pt x="1858" y="955"/>
                </a:lnTo>
                <a:lnTo>
                  <a:pt x="1861" y="955"/>
                </a:lnTo>
                <a:lnTo>
                  <a:pt x="1863" y="951"/>
                </a:lnTo>
                <a:lnTo>
                  <a:pt x="1866" y="944"/>
                </a:lnTo>
                <a:lnTo>
                  <a:pt x="1870" y="933"/>
                </a:lnTo>
                <a:lnTo>
                  <a:pt x="1872" y="920"/>
                </a:lnTo>
                <a:lnTo>
                  <a:pt x="1875" y="903"/>
                </a:lnTo>
                <a:lnTo>
                  <a:pt x="1878" y="884"/>
                </a:lnTo>
                <a:lnTo>
                  <a:pt x="1881" y="863"/>
                </a:lnTo>
                <a:lnTo>
                  <a:pt x="1884" y="840"/>
                </a:lnTo>
                <a:lnTo>
                  <a:pt x="1887" y="815"/>
                </a:lnTo>
                <a:lnTo>
                  <a:pt x="1890" y="791"/>
                </a:lnTo>
                <a:lnTo>
                  <a:pt x="1892" y="765"/>
                </a:lnTo>
                <a:lnTo>
                  <a:pt x="1895" y="741"/>
                </a:lnTo>
                <a:lnTo>
                  <a:pt x="1898" y="716"/>
                </a:lnTo>
                <a:lnTo>
                  <a:pt x="1901" y="694"/>
                </a:lnTo>
                <a:lnTo>
                  <a:pt x="1904" y="673"/>
                </a:lnTo>
                <a:lnTo>
                  <a:pt x="1907" y="655"/>
                </a:lnTo>
                <a:lnTo>
                  <a:pt x="1910" y="639"/>
                </a:lnTo>
                <a:lnTo>
                  <a:pt x="1912" y="627"/>
                </a:lnTo>
                <a:lnTo>
                  <a:pt x="1916" y="618"/>
                </a:lnTo>
                <a:lnTo>
                  <a:pt x="1919" y="614"/>
                </a:lnTo>
                <a:lnTo>
                  <a:pt x="1921" y="612"/>
                </a:lnTo>
                <a:lnTo>
                  <a:pt x="1924" y="616"/>
                </a:lnTo>
                <a:lnTo>
                  <a:pt x="1927" y="624"/>
                </a:lnTo>
                <a:lnTo>
                  <a:pt x="1930" y="634"/>
                </a:lnTo>
                <a:lnTo>
                  <a:pt x="1933" y="649"/>
                </a:lnTo>
                <a:lnTo>
                  <a:pt x="1936" y="667"/>
                </a:lnTo>
                <a:lnTo>
                  <a:pt x="1939" y="688"/>
                </a:lnTo>
                <a:lnTo>
                  <a:pt x="1941" y="712"/>
                </a:lnTo>
                <a:lnTo>
                  <a:pt x="1945" y="737"/>
                </a:lnTo>
                <a:lnTo>
                  <a:pt x="1948" y="764"/>
                </a:lnTo>
                <a:lnTo>
                  <a:pt x="1950" y="792"/>
                </a:lnTo>
                <a:lnTo>
                  <a:pt x="1953" y="820"/>
                </a:lnTo>
                <a:lnTo>
                  <a:pt x="1956" y="847"/>
                </a:lnTo>
                <a:lnTo>
                  <a:pt x="1959" y="874"/>
                </a:lnTo>
                <a:lnTo>
                  <a:pt x="1962" y="899"/>
                </a:lnTo>
                <a:lnTo>
                  <a:pt x="1965" y="922"/>
                </a:lnTo>
                <a:lnTo>
                  <a:pt x="1968" y="942"/>
                </a:lnTo>
                <a:lnTo>
                  <a:pt x="1970" y="960"/>
                </a:lnTo>
                <a:lnTo>
                  <a:pt x="1974" y="973"/>
                </a:lnTo>
                <a:lnTo>
                  <a:pt x="1977" y="982"/>
                </a:lnTo>
                <a:lnTo>
                  <a:pt x="1979" y="988"/>
                </a:lnTo>
                <a:lnTo>
                  <a:pt x="1982" y="990"/>
                </a:lnTo>
                <a:lnTo>
                  <a:pt x="1985" y="987"/>
                </a:lnTo>
                <a:lnTo>
                  <a:pt x="1988" y="980"/>
                </a:lnTo>
                <a:lnTo>
                  <a:pt x="1990" y="968"/>
                </a:lnTo>
                <a:lnTo>
                  <a:pt x="1994" y="953"/>
                </a:lnTo>
                <a:lnTo>
                  <a:pt x="1997" y="934"/>
                </a:lnTo>
                <a:lnTo>
                  <a:pt x="1999" y="913"/>
                </a:lnTo>
                <a:lnTo>
                  <a:pt x="2003" y="889"/>
                </a:lnTo>
                <a:lnTo>
                  <a:pt x="2005" y="863"/>
                </a:lnTo>
                <a:lnTo>
                  <a:pt x="2008" y="835"/>
                </a:lnTo>
                <a:lnTo>
                  <a:pt x="2011" y="807"/>
                </a:lnTo>
                <a:lnTo>
                  <a:pt x="2014" y="779"/>
                </a:lnTo>
                <a:lnTo>
                  <a:pt x="2017" y="752"/>
                </a:lnTo>
                <a:lnTo>
                  <a:pt x="2019" y="725"/>
                </a:lnTo>
                <a:lnTo>
                  <a:pt x="2023" y="700"/>
                </a:lnTo>
                <a:lnTo>
                  <a:pt x="2026" y="677"/>
                </a:lnTo>
                <a:lnTo>
                  <a:pt x="2028" y="658"/>
                </a:lnTo>
                <a:lnTo>
                  <a:pt x="2032" y="641"/>
                </a:lnTo>
                <a:lnTo>
                  <a:pt x="2034" y="629"/>
                </a:lnTo>
                <a:lnTo>
                  <a:pt x="2037" y="620"/>
                </a:lnTo>
                <a:lnTo>
                  <a:pt x="2040" y="616"/>
                </a:lnTo>
                <a:lnTo>
                  <a:pt x="2043" y="616"/>
                </a:lnTo>
                <a:lnTo>
                  <a:pt x="2046" y="620"/>
                </a:lnTo>
                <a:lnTo>
                  <a:pt x="2048" y="628"/>
                </a:lnTo>
                <a:lnTo>
                  <a:pt x="2052" y="640"/>
                </a:lnTo>
                <a:lnTo>
                  <a:pt x="2055" y="656"/>
                </a:lnTo>
                <a:lnTo>
                  <a:pt x="2057" y="675"/>
                </a:lnTo>
                <a:lnTo>
                  <a:pt x="2061" y="697"/>
                </a:lnTo>
                <a:lnTo>
                  <a:pt x="2063" y="720"/>
                </a:lnTo>
                <a:lnTo>
                  <a:pt x="2066" y="746"/>
                </a:lnTo>
                <a:lnTo>
                  <a:pt x="2069" y="773"/>
                </a:lnTo>
                <a:lnTo>
                  <a:pt x="2072" y="801"/>
                </a:lnTo>
                <a:lnTo>
                  <a:pt x="2075" y="827"/>
                </a:lnTo>
                <a:lnTo>
                  <a:pt x="2077" y="853"/>
                </a:lnTo>
                <a:lnTo>
                  <a:pt x="2081" y="878"/>
                </a:lnTo>
                <a:lnTo>
                  <a:pt x="2083" y="900"/>
                </a:lnTo>
                <a:lnTo>
                  <a:pt x="2086" y="920"/>
                </a:lnTo>
                <a:lnTo>
                  <a:pt x="2090" y="937"/>
                </a:lnTo>
                <a:lnTo>
                  <a:pt x="2092" y="949"/>
                </a:lnTo>
                <a:lnTo>
                  <a:pt x="2095" y="959"/>
                </a:lnTo>
                <a:lnTo>
                  <a:pt x="2097" y="963"/>
                </a:lnTo>
                <a:lnTo>
                  <a:pt x="2101" y="964"/>
                </a:lnTo>
                <a:lnTo>
                  <a:pt x="2104" y="962"/>
                </a:lnTo>
                <a:lnTo>
                  <a:pt x="2106" y="954"/>
                </a:lnTo>
                <a:lnTo>
                  <a:pt x="2110" y="943"/>
                </a:lnTo>
                <a:lnTo>
                  <a:pt x="2112" y="929"/>
                </a:lnTo>
                <a:lnTo>
                  <a:pt x="2115" y="911"/>
                </a:lnTo>
                <a:lnTo>
                  <a:pt x="2119" y="891"/>
                </a:lnTo>
                <a:lnTo>
                  <a:pt x="2121" y="869"/>
                </a:lnTo>
                <a:lnTo>
                  <a:pt x="2124" y="844"/>
                </a:lnTo>
                <a:lnTo>
                  <a:pt x="2126" y="818"/>
                </a:lnTo>
                <a:lnTo>
                  <a:pt x="2130" y="793"/>
                </a:lnTo>
                <a:lnTo>
                  <a:pt x="2133" y="767"/>
                </a:lnTo>
                <a:lnTo>
                  <a:pt x="2135" y="743"/>
                </a:lnTo>
                <a:lnTo>
                  <a:pt x="2139" y="719"/>
                </a:lnTo>
                <a:lnTo>
                  <a:pt x="2141" y="698"/>
                </a:lnTo>
                <a:lnTo>
                  <a:pt x="2144" y="680"/>
                </a:lnTo>
                <a:lnTo>
                  <a:pt x="2148" y="665"/>
                </a:lnTo>
                <a:lnTo>
                  <a:pt x="2150" y="654"/>
                </a:lnTo>
                <a:lnTo>
                  <a:pt x="2153" y="645"/>
                </a:lnTo>
                <a:lnTo>
                  <a:pt x="2155" y="641"/>
                </a:lnTo>
                <a:lnTo>
                  <a:pt x="2159" y="641"/>
                </a:lnTo>
                <a:lnTo>
                  <a:pt x="2161" y="645"/>
                </a:lnTo>
                <a:lnTo>
                  <a:pt x="2164" y="654"/>
                </a:lnTo>
                <a:lnTo>
                  <a:pt x="2168" y="665"/>
                </a:lnTo>
                <a:lnTo>
                  <a:pt x="2170" y="680"/>
                </a:lnTo>
                <a:lnTo>
                  <a:pt x="2173" y="699"/>
                </a:lnTo>
                <a:lnTo>
                  <a:pt x="2175" y="720"/>
                </a:lnTo>
                <a:lnTo>
                  <a:pt x="2179" y="743"/>
                </a:lnTo>
                <a:lnTo>
                  <a:pt x="2182" y="768"/>
                </a:lnTo>
                <a:lnTo>
                  <a:pt x="2184" y="793"/>
                </a:lnTo>
                <a:lnTo>
                  <a:pt x="2188" y="820"/>
                </a:lnTo>
                <a:lnTo>
                  <a:pt x="2190" y="844"/>
                </a:lnTo>
                <a:lnTo>
                  <a:pt x="2193" y="869"/>
                </a:lnTo>
                <a:lnTo>
                  <a:pt x="2197" y="891"/>
                </a:lnTo>
                <a:lnTo>
                  <a:pt x="2199" y="912"/>
                </a:lnTo>
                <a:lnTo>
                  <a:pt x="2202" y="929"/>
                </a:lnTo>
                <a:lnTo>
                  <a:pt x="2204" y="943"/>
                </a:lnTo>
                <a:lnTo>
                  <a:pt x="2208" y="953"/>
                </a:lnTo>
                <a:lnTo>
                  <a:pt x="2211" y="960"/>
                </a:lnTo>
                <a:lnTo>
                  <a:pt x="2213" y="962"/>
                </a:lnTo>
                <a:lnTo>
                  <a:pt x="2217" y="960"/>
                </a:lnTo>
                <a:lnTo>
                  <a:pt x="2219" y="953"/>
                </a:lnTo>
                <a:lnTo>
                  <a:pt x="2222" y="943"/>
                </a:lnTo>
                <a:lnTo>
                  <a:pt x="2226" y="929"/>
                </a:lnTo>
                <a:lnTo>
                  <a:pt x="2228" y="911"/>
                </a:lnTo>
                <a:lnTo>
                  <a:pt x="2231" y="890"/>
                </a:lnTo>
                <a:lnTo>
                  <a:pt x="2233" y="866"/>
                </a:lnTo>
                <a:lnTo>
                  <a:pt x="2237" y="841"/>
                </a:lnTo>
                <a:lnTo>
                  <a:pt x="2240" y="813"/>
                </a:lnTo>
                <a:lnTo>
                  <a:pt x="2242" y="785"/>
                </a:lnTo>
                <a:lnTo>
                  <a:pt x="2246" y="757"/>
                </a:lnTo>
                <a:lnTo>
                  <a:pt x="2248" y="730"/>
                </a:lnTo>
                <a:lnTo>
                  <a:pt x="2251" y="705"/>
                </a:lnTo>
                <a:lnTo>
                  <a:pt x="2254" y="680"/>
                </a:lnTo>
                <a:lnTo>
                  <a:pt x="2257" y="659"/>
                </a:lnTo>
                <a:lnTo>
                  <a:pt x="2260" y="641"/>
                </a:lnTo>
                <a:lnTo>
                  <a:pt x="2262" y="628"/>
                </a:lnTo>
                <a:lnTo>
                  <a:pt x="2266" y="617"/>
                </a:lnTo>
                <a:lnTo>
                  <a:pt x="2268" y="611"/>
                </a:lnTo>
                <a:lnTo>
                  <a:pt x="2271" y="610"/>
                </a:lnTo>
                <a:lnTo>
                  <a:pt x="2275" y="615"/>
                </a:lnTo>
                <a:lnTo>
                  <a:pt x="2277" y="622"/>
                </a:lnTo>
                <a:lnTo>
                  <a:pt x="2280" y="636"/>
                </a:lnTo>
                <a:lnTo>
                  <a:pt x="2283" y="653"/>
                </a:lnTo>
                <a:lnTo>
                  <a:pt x="2286" y="674"/>
                </a:lnTo>
                <a:lnTo>
                  <a:pt x="2289" y="698"/>
                </a:lnTo>
                <a:lnTo>
                  <a:pt x="2291" y="725"/>
                </a:lnTo>
                <a:lnTo>
                  <a:pt x="2295" y="755"/>
                </a:lnTo>
                <a:lnTo>
                  <a:pt x="2297" y="785"/>
                </a:lnTo>
                <a:lnTo>
                  <a:pt x="2300" y="817"/>
                </a:lnTo>
                <a:lnTo>
                  <a:pt x="2304" y="849"/>
                </a:lnTo>
                <a:lnTo>
                  <a:pt x="2306" y="880"/>
                </a:lnTo>
                <a:lnTo>
                  <a:pt x="2309" y="909"/>
                </a:lnTo>
                <a:lnTo>
                  <a:pt x="2312" y="937"/>
                </a:lnTo>
                <a:lnTo>
                  <a:pt x="2315" y="960"/>
                </a:lnTo>
                <a:lnTo>
                  <a:pt x="2318" y="981"/>
                </a:lnTo>
                <a:lnTo>
                  <a:pt x="2320" y="998"/>
                </a:lnTo>
                <a:lnTo>
                  <a:pt x="2324" y="1009"/>
                </a:lnTo>
                <a:lnTo>
                  <a:pt x="2326" y="1017"/>
                </a:lnTo>
                <a:lnTo>
                  <a:pt x="2329" y="1018"/>
                </a:lnTo>
                <a:lnTo>
                  <a:pt x="2333" y="1015"/>
                </a:lnTo>
                <a:lnTo>
                  <a:pt x="2335" y="1006"/>
                </a:lnTo>
                <a:lnTo>
                  <a:pt x="2338" y="992"/>
                </a:lnTo>
                <a:lnTo>
                  <a:pt x="2341" y="973"/>
                </a:lnTo>
                <a:lnTo>
                  <a:pt x="2344" y="950"/>
                </a:lnTo>
                <a:lnTo>
                  <a:pt x="2346" y="923"/>
                </a:lnTo>
                <a:lnTo>
                  <a:pt x="2349" y="893"/>
                </a:lnTo>
                <a:lnTo>
                  <a:pt x="2353" y="860"/>
                </a:lnTo>
                <a:lnTo>
                  <a:pt x="2355" y="825"/>
                </a:lnTo>
                <a:lnTo>
                  <a:pt x="2358" y="788"/>
                </a:lnTo>
                <a:lnTo>
                  <a:pt x="2361" y="753"/>
                </a:lnTo>
                <a:lnTo>
                  <a:pt x="2364" y="717"/>
                </a:lnTo>
                <a:lnTo>
                  <a:pt x="2367" y="683"/>
                </a:lnTo>
                <a:lnTo>
                  <a:pt x="2370" y="651"/>
                </a:lnTo>
                <a:lnTo>
                  <a:pt x="2373" y="622"/>
                </a:lnTo>
                <a:lnTo>
                  <a:pt x="2375" y="597"/>
                </a:lnTo>
                <a:lnTo>
                  <a:pt x="2378" y="577"/>
                </a:lnTo>
                <a:lnTo>
                  <a:pt x="2382" y="561"/>
                </a:lnTo>
                <a:lnTo>
                  <a:pt x="2384" y="550"/>
                </a:lnTo>
                <a:lnTo>
                  <a:pt x="2387" y="546"/>
                </a:lnTo>
                <a:lnTo>
                  <a:pt x="2390" y="547"/>
                </a:lnTo>
                <a:lnTo>
                  <a:pt x="2393" y="553"/>
                </a:lnTo>
                <a:lnTo>
                  <a:pt x="2396" y="567"/>
                </a:lnTo>
                <a:lnTo>
                  <a:pt x="2399" y="585"/>
                </a:lnTo>
                <a:lnTo>
                  <a:pt x="2402" y="608"/>
                </a:lnTo>
                <a:lnTo>
                  <a:pt x="2404" y="636"/>
                </a:lnTo>
                <a:lnTo>
                  <a:pt x="2407" y="668"/>
                </a:lnTo>
                <a:lnTo>
                  <a:pt x="2411" y="704"/>
                </a:lnTo>
                <a:lnTo>
                  <a:pt x="2413" y="741"/>
                </a:lnTo>
                <a:lnTo>
                  <a:pt x="2416" y="781"/>
                </a:lnTo>
                <a:lnTo>
                  <a:pt x="2419" y="821"/>
                </a:lnTo>
                <a:lnTo>
                  <a:pt x="2422" y="861"/>
                </a:lnTo>
                <a:lnTo>
                  <a:pt x="2425" y="900"/>
                </a:lnTo>
                <a:lnTo>
                  <a:pt x="2428" y="937"/>
                </a:lnTo>
                <a:lnTo>
                  <a:pt x="2431" y="970"/>
                </a:lnTo>
                <a:lnTo>
                  <a:pt x="2433" y="1001"/>
                </a:lnTo>
                <a:lnTo>
                  <a:pt x="2436" y="1027"/>
                </a:lnTo>
                <a:lnTo>
                  <a:pt x="2439" y="1048"/>
                </a:lnTo>
                <a:lnTo>
                  <a:pt x="2442" y="1062"/>
                </a:lnTo>
                <a:lnTo>
                  <a:pt x="2445" y="1072"/>
                </a:lnTo>
                <a:lnTo>
                  <a:pt x="2448" y="1075"/>
                </a:lnTo>
                <a:lnTo>
                  <a:pt x="2451" y="1072"/>
                </a:lnTo>
                <a:lnTo>
                  <a:pt x="2453" y="1062"/>
                </a:lnTo>
                <a:lnTo>
                  <a:pt x="2457" y="1047"/>
                </a:lnTo>
                <a:lnTo>
                  <a:pt x="2460" y="1026"/>
                </a:lnTo>
                <a:lnTo>
                  <a:pt x="2462" y="999"/>
                </a:lnTo>
                <a:lnTo>
                  <a:pt x="2466" y="968"/>
                </a:lnTo>
                <a:lnTo>
                  <a:pt x="2468" y="932"/>
                </a:lnTo>
                <a:lnTo>
                  <a:pt x="2471" y="893"/>
                </a:lnTo>
                <a:lnTo>
                  <a:pt x="2474" y="852"/>
                </a:lnTo>
                <a:lnTo>
                  <a:pt x="2477" y="810"/>
                </a:lnTo>
                <a:lnTo>
                  <a:pt x="2480" y="766"/>
                </a:lnTo>
                <a:lnTo>
                  <a:pt x="2482" y="724"/>
                </a:lnTo>
                <a:lnTo>
                  <a:pt x="2486" y="684"/>
                </a:lnTo>
                <a:lnTo>
                  <a:pt x="2489" y="645"/>
                </a:lnTo>
                <a:lnTo>
                  <a:pt x="2491" y="609"/>
                </a:lnTo>
                <a:lnTo>
                  <a:pt x="2495" y="579"/>
                </a:lnTo>
                <a:lnTo>
                  <a:pt x="2497" y="552"/>
                </a:lnTo>
                <a:lnTo>
                  <a:pt x="2500" y="532"/>
                </a:lnTo>
                <a:lnTo>
                  <a:pt x="2503" y="517"/>
                </a:lnTo>
                <a:lnTo>
                  <a:pt x="2506" y="509"/>
                </a:lnTo>
                <a:lnTo>
                  <a:pt x="2509" y="507"/>
                </a:lnTo>
                <a:lnTo>
                  <a:pt x="2511" y="512"/>
                </a:lnTo>
                <a:lnTo>
                  <a:pt x="2515" y="523"/>
                </a:lnTo>
                <a:lnTo>
                  <a:pt x="2518" y="541"/>
                </a:lnTo>
                <a:lnTo>
                  <a:pt x="2520" y="565"/>
                </a:lnTo>
                <a:lnTo>
                  <a:pt x="2524" y="593"/>
                </a:lnTo>
                <a:lnTo>
                  <a:pt x="2526" y="627"/>
                </a:lnTo>
                <a:lnTo>
                  <a:pt x="2529" y="665"/>
                </a:lnTo>
                <a:lnTo>
                  <a:pt x="2531" y="705"/>
                </a:lnTo>
                <a:lnTo>
                  <a:pt x="2535" y="748"/>
                </a:lnTo>
                <a:lnTo>
                  <a:pt x="2538" y="792"/>
                </a:lnTo>
                <a:lnTo>
                  <a:pt x="2540" y="836"/>
                </a:lnTo>
                <a:lnTo>
                  <a:pt x="2544" y="880"/>
                </a:lnTo>
                <a:lnTo>
                  <a:pt x="2546" y="921"/>
                </a:lnTo>
                <a:lnTo>
                  <a:pt x="2549" y="960"/>
                </a:lnTo>
                <a:lnTo>
                  <a:pt x="2553" y="994"/>
                </a:lnTo>
                <a:lnTo>
                  <a:pt x="2555" y="1026"/>
                </a:lnTo>
                <a:lnTo>
                  <a:pt x="2558" y="1050"/>
                </a:lnTo>
                <a:lnTo>
                  <a:pt x="2560" y="1070"/>
                </a:lnTo>
                <a:lnTo>
                  <a:pt x="2564" y="1084"/>
                </a:lnTo>
                <a:lnTo>
                  <a:pt x="2567" y="1090"/>
                </a:lnTo>
                <a:lnTo>
                  <a:pt x="2569" y="1090"/>
                </a:lnTo>
                <a:lnTo>
                  <a:pt x="2573" y="1084"/>
                </a:lnTo>
                <a:lnTo>
                  <a:pt x="2575" y="1071"/>
                </a:lnTo>
                <a:lnTo>
                  <a:pt x="2578" y="1051"/>
                </a:lnTo>
                <a:lnTo>
                  <a:pt x="2582" y="1027"/>
                </a:lnTo>
                <a:lnTo>
                  <a:pt x="2584" y="997"/>
                </a:lnTo>
                <a:lnTo>
                  <a:pt x="2587" y="961"/>
                </a:lnTo>
                <a:lnTo>
                  <a:pt x="2589" y="923"/>
                </a:lnTo>
                <a:lnTo>
                  <a:pt x="2593" y="882"/>
                </a:lnTo>
                <a:lnTo>
                  <a:pt x="2596" y="839"/>
                </a:lnTo>
                <a:lnTo>
                  <a:pt x="2598" y="795"/>
                </a:lnTo>
                <a:lnTo>
                  <a:pt x="2602" y="751"/>
                </a:lnTo>
                <a:lnTo>
                  <a:pt x="2604" y="708"/>
                </a:lnTo>
                <a:lnTo>
                  <a:pt x="2607" y="667"/>
                </a:lnTo>
                <a:lnTo>
                  <a:pt x="2609" y="630"/>
                </a:lnTo>
                <a:lnTo>
                  <a:pt x="2613" y="597"/>
                </a:lnTo>
                <a:lnTo>
                  <a:pt x="2616" y="568"/>
                </a:lnTo>
                <a:lnTo>
                  <a:pt x="2618" y="544"/>
                </a:lnTo>
                <a:lnTo>
                  <a:pt x="2622" y="527"/>
                </a:lnTo>
                <a:lnTo>
                  <a:pt x="2624" y="516"/>
                </a:lnTo>
                <a:lnTo>
                  <a:pt x="2627" y="511"/>
                </a:lnTo>
                <a:lnTo>
                  <a:pt x="2631" y="512"/>
                </a:lnTo>
                <a:lnTo>
                  <a:pt x="2633" y="521"/>
                </a:lnTo>
                <a:lnTo>
                  <a:pt x="2636" y="536"/>
                </a:lnTo>
                <a:lnTo>
                  <a:pt x="2638" y="557"/>
                </a:lnTo>
                <a:lnTo>
                  <a:pt x="2642" y="582"/>
                </a:lnTo>
                <a:lnTo>
                  <a:pt x="2645" y="614"/>
                </a:lnTo>
                <a:lnTo>
                  <a:pt x="2647" y="649"/>
                </a:lnTo>
                <a:lnTo>
                  <a:pt x="2651" y="688"/>
                </a:lnTo>
                <a:lnTo>
                  <a:pt x="2653" y="729"/>
                </a:lnTo>
                <a:lnTo>
                  <a:pt x="2656" y="772"/>
                </a:lnTo>
                <a:lnTo>
                  <a:pt x="2660" y="814"/>
                </a:lnTo>
                <a:lnTo>
                  <a:pt x="2662" y="857"/>
                </a:lnTo>
                <a:lnTo>
                  <a:pt x="2665" y="898"/>
                </a:lnTo>
                <a:lnTo>
                  <a:pt x="2667" y="937"/>
                </a:lnTo>
                <a:lnTo>
                  <a:pt x="2671" y="971"/>
                </a:lnTo>
                <a:lnTo>
                  <a:pt x="2674" y="1002"/>
                </a:lnTo>
                <a:lnTo>
                  <a:pt x="2676" y="1028"/>
                </a:lnTo>
                <a:lnTo>
                  <a:pt x="2680" y="1049"/>
                </a:lnTo>
                <a:lnTo>
                  <a:pt x="2682" y="1064"/>
                </a:lnTo>
                <a:lnTo>
                  <a:pt x="2685" y="1072"/>
                </a:lnTo>
                <a:lnTo>
                  <a:pt x="2689" y="1075"/>
                </a:lnTo>
                <a:lnTo>
                  <a:pt x="2691" y="1070"/>
                </a:lnTo>
                <a:lnTo>
                  <a:pt x="2694" y="1059"/>
                </a:lnTo>
                <a:lnTo>
                  <a:pt x="2696" y="1042"/>
                </a:lnTo>
                <a:lnTo>
                  <a:pt x="2700" y="1020"/>
                </a:lnTo>
                <a:lnTo>
                  <a:pt x="2702" y="992"/>
                </a:lnTo>
                <a:lnTo>
                  <a:pt x="2705" y="961"/>
                </a:lnTo>
                <a:lnTo>
                  <a:pt x="2709" y="925"/>
                </a:lnTo>
                <a:lnTo>
                  <a:pt x="2711" y="888"/>
                </a:lnTo>
                <a:lnTo>
                  <a:pt x="2714" y="847"/>
                </a:lnTo>
                <a:lnTo>
                  <a:pt x="2717" y="806"/>
                </a:lnTo>
                <a:lnTo>
                  <a:pt x="2720" y="765"/>
                </a:lnTo>
                <a:lnTo>
                  <a:pt x="2723" y="725"/>
                </a:lnTo>
                <a:lnTo>
                  <a:pt x="2725" y="686"/>
                </a:lnTo>
                <a:lnTo>
                  <a:pt x="2729" y="650"/>
                </a:lnTo>
                <a:lnTo>
                  <a:pt x="2731" y="619"/>
                </a:lnTo>
                <a:lnTo>
                  <a:pt x="2734" y="591"/>
                </a:lnTo>
                <a:lnTo>
                  <a:pt x="2738" y="569"/>
                </a:lnTo>
                <a:lnTo>
                  <a:pt x="2740" y="551"/>
                </a:lnTo>
                <a:lnTo>
                  <a:pt x="2743" y="540"/>
                </a:lnTo>
                <a:lnTo>
                  <a:pt x="2746" y="534"/>
                </a:lnTo>
                <a:lnTo>
                  <a:pt x="2749" y="536"/>
                </a:lnTo>
                <a:lnTo>
                  <a:pt x="2752" y="542"/>
                </a:lnTo>
                <a:lnTo>
                  <a:pt x="2754" y="556"/>
                </a:lnTo>
                <a:lnTo>
                  <a:pt x="2758" y="575"/>
                </a:lnTo>
                <a:lnTo>
                  <a:pt x="2760" y="598"/>
                </a:lnTo>
                <a:lnTo>
                  <a:pt x="2763" y="626"/>
                </a:lnTo>
                <a:lnTo>
                  <a:pt x="2767" y="658"/>
                </a:lnTo>
                <a:lnTo>
                  <a:pt x="2769" y="693"/>
                </a:lnTo>
                <a:lnTo>
                  <a:pt x="2772" y="730"/>
                </a:lnTo>
                <a:lnTo>
                  <a:pt x="2775" y="769"/>
                </a:lnTo>
                <a:lnTo>
                  <a:pt x="2778" y="808"/>
                </a:lnTo>
                <a:lnTo>
                  <a:pt x="2781" y="847"/>
                </a:lnTo>
                <a:lnTo>
                  <a:pt x="2783" y="885"/>
                </a:lnTo>
                <a:lnTo>
                  <a:pt x="2787" y="920"/>
                </a:lnTo>
                <a:lnTo>
                  <a:pt x="2789" y="952"/>
                </a:lnTo>
                <a:lnTo>
                  <a:pt x="2792" y="981"/>
                </a:lnTo>
                <a:lnTo>
                  <a:pt x="2795" y="1004"/>
                </a:lnTo>
                <a:lnTo>
                  <a:pt x="2798" y="1023"/>
                </a:lnTo>
                <a:lnTo>
                  <a:pt x="2801" y="1037"/>
                </a:lnTo>
                <a:lnTo>
                  <a:pt x="2804" y="1046"/>
                </a:lnTo>
                <a:lnTo>
                  <a:pt x="2807" y="1048"/>
                </a:lnTo>
                <a:lnTo>
                  <a:pt x="2809" y="1043"/>
                </a:lnTo>
                <a:lnTo>
                  <a:pt x="2812" y="1035"/>
                </a:lnTo>
                <a:lnTo>
                  <a:pt x="2816" y="1020"/>
                </a:lnTo>
                <a:lnTo>
                  <a:pt x="2818" y="1000"/>
                </a:lnTo>
                <a:lnTo>
                  <a:pt x="2821" y="976"/>
                </a:lnTo>
                <a:lnTo>
                  <a:pt x="2824" y="947"/>
                </a:lnTo>
                <a:lnTo>
                  <a:pt x="2827" y="915"/>
                </a:lnTo>
                <a:lnTo>
                  <a:pt x="2830" y="881"/>
                </a:lnTo>
                <a:lnTo>
                  <a:pt x="2833" y="845"/>
                </a:lnTo>
                <a:lnTo>
                  <a:pt x="2836" y="808"/>
                </a:lnTo>
                <a:lnTo>
                  <a:pt x="2838" y="772"/>
                </a:lnTo>
                <a:lnTo>
                  <a:pt x="2841" y="736"/>
                </a:lnTo>
                <a:lnTo>
                  <a:pt x="2845" y="702"/>
                </a:lnTo>
                <a:lnTo>
                  <a:pt x="2847" y="669"/>
                </a:lnTo>
                <a:lnTo>
                  <a:pt x="2850" y="641"/>
                </a:lnTo>
                <a:lnTo>
                  <a:pt x="2853" y="617"/>
                </a:lnTo>
                <a:lnTo>
                  <a:pt x="2856" y="596"/>
                </a:lnTo>
                <a:lnTo>
                  <a:pt x="2859" y="581"/>
                </a:lnTo>
                <a:lnTo>
                  <a:pt x="2862" y="570"/>
                </a:lnTo>
                <a:lnTo>
                  <a:pt x="2865" y="566"/>
                </a:lnTo>
                <a:lnTo>
                  <a:pt x="2867" y="566"/>
                </a:lnTo>
                <a:lnTo>
                  <a:pt x="2870" y="571"/>
                </a:lnTo>
                <a:lnTo>
                  <a:pt x="2874" y="582"/>
                </a:lnTo>
                <a:lnTo>
                  <a:pt x="2876" y="599"/>
                </a:lnTo>
                <a:lnTo>
                  <a:pt x="2879" y="619"/>
                </a:lnTo>
                <a:lnTo>
                  <a:pt x="2882" y="644"/>
                </a:lnTo>
                <a:lnTo>
                  <a:pt x="2885" y="671"/>
                </a:lnTo>
                <a:lnTo>
                  <a:pt x="2887" y="702"/>
                </a:lnTo>
                <a:lnTo>
                  <a:pt x="2891" y="734"/>
                </a:lnTo>
                <a:lnTo>
                  <a:pt x="2894" y="767"/>
                </a:lnTo>
                <a:lnTo>
                  <a:pt x="2896" y="801"/>
                </a:lnTo>
                <a:lnTo>
                  <a:pt x="2899" y="834"/>
                </a:lnTo>
                <a:lnTo>
                  <a:pt x="2902" y="866"/>
                </a:lnTo>
                <a:lnTo>
                  <a:pt x="2905" y="896"/>
                </a:lnTo>
                <a:lnTo>
                  <a:pt x="2908" y="924"/>
                </a:lnTo>
                <a:lnTo>
                  <a:pt x="2911" y="949"/>
                </a:lnTo>
                <a:lnTo>
                  <a:pt x="2914" y="969"/>
                </a:lnTo>
                <a:lnTo>
                  <a:pt x="2916" y="986"/>
                </a:lnTo>
                <a:lnTo>
                  <a:pt x="2920" y="998"/>
                </a:lnTo>
                <a:lnTo>
                  <a:pt x="2923" y="1004"/>
                </a:lnTo>
                <a:lnTo>
                  <a:pt x="2925" y="1008"/>
                </a:lnTo>
                <a:lnTo>
                  <a:pt x="2928" y="1004"/>
                </a:lnTo>
                <a:lnTo>
                  <a:pt x="2931" y="998"/>
                </a:lnTo>
                <a:lnTo>
                  <a:pt x="2934" y="986"/>
                </a:lnTo>
                <a:lnTo>
                  <a:pt x="2937" y="970"/>
                </a:lnTo>
                <a:lnTo>
                  <a:pt x="2940" y="951"/>
                </a:lnTo>
                <a:lnTo>
                  <a:pt x="2943" y="928"/>
                </a:lnTo>
                <a:lnTo>
                  <a:pt x="2945" y="902"/>
                </a:lnTo>
                <a:lnTo>
                  <a:pt x="2949" y="875"/>
                </a:lnTo>
                <a:lnTo>
                  <a:pt x="2952" y="846"/>
                </a:lnTo>
                <a:lnTo>
                  <a:pt x="2954" y="816"/>
                </a:lnTo>
                <a:lnTo>
                  <a:pt x="2957" y="787"/>
                </a:lnTo>
                <a:lnTo>
                  <a:pt x="2960" y="758"/>
                </a:lnTo>
                <a:lnTo>
                  <a:pt x="2963" y="732"/>
                </a:lnTo>
                <a:lnTo>
                  <a:pt x="2966" y="706"/>
                </a:lnTo>
                <a:lnTo>
                  <a:pt x="2969" y="684"/>
                </a:lnTo>
                <a:lnTo>
                  <a:pt x="2972" y="664"/>
                </a:lnTo>
                <a:lnTo>
                  <a:pt x="2974" y="648"/>
                </a:lnTo>
                <a:lnTo>
                  <a:pt x="2978" y="636"/>
                </a:lnTo>
                <a:lnTo>
                  <a:pt x="2980" y="627"/>
                </a:lnTo>
                <a:lnTo>
                  <a:pt x="2983" y="622"/>
                </a:lnTo>
                <a:lnTo>
                  <a:pt x="2986" y="622"/>
                </a:lnTo>
                <a:lnTo>
                  <a:pt x="2989" y="627"/>
                </a:lnTo>
                <a:lnTo>
                  <a:pt x="2992" y="635"/>
                </a:lnTo>
                <a:lnTo>
                  <a:pt x="2994" y="646"/>
                </a:lnTo>
                <a:lnTo>
                  <a:pt x="2998" y="660"/>
                </a:lnTo>
                <a:lnTo>
                  <a:pt x="3001" y="678"/>
                </a:lnTo>
                <a:lnTo>
                  <a:pt x="3003" y="698"/>
                </a:lnTo>
                <a:lnTo>
                  <a:pt x="3007" y="720"/>
                </a:lnTo>
                <a:lnTo>
                  <a:pt x="3009" y="743"/>
                </a:lnTo>
                <a:lnTo>
                  <a:pt x="3012" y="766"/>
                </a:lnTo>
                <a:lnTo>
                  <a:pt x="3015" y="791"/>
                </a:lnTo>
                <a:lnTo>
                  <a:pt x="3018" y="814"/>
                </a:lnTo>
                <a:lnTo>
                  <a:pt x="3021" y="836"/>
                </a:lnTo>
                <a:lnTo>
                  <a:pt x="3023" y="856"/>
                </a:lnTo>
                <a:lnTo>
                  <a:pt x="3027" y="875"/>
                </a:lnTo>
                <a:lnTo>
                  <a:pt x="3030" y="892"/>
                </a:lnTo>
                <a:lnTo>
                  <a:pt x="3032" y="905"/>
                </a:lnTo>
                <a:lnTo>
                  <a:pt x="3036" y="915"/>
                </a:lnTo>
                <a:lnTo>
                  <a:pt x="3038" y="923"/>
                </a:lnTo>
                <a:lnTo>
                  <a:pt x="3041" y="927"/>
                </a:lnTo>
                <a:lnTo>
                  <a:pt x="3044" y="928"/>
                </a:lnTo>
                <a:lnTo>
                  <a:pt x="3047" y="925"/>
                </a:lnTo>
                <a:lnTo>
                  <a:pt x="3050" y="920"/>
                </a:lnTo>
                <a:lnTo>
                  <a:pt x="3052" y="912"/>
                </a:lnTo>
                <a:lnTo>
                  <a:pt x="3056" y="901"/>
                </a:lnTo>
                <a:lnTo>
                  <a:pt x="3058" y="889"/>
                </a:lnTo>
                <a:lnTo>
                  <a:pt x="3061" y="874"/>
                </a:lnTo>
                <a:lnTo>
                  <a:pt x="3065" y="857"/>
                </a:lnTo>
                <a:lnTo>
                  <a:pt x="3067" y="841"/>
                </a:lnTo>
                <a:lnTo>
                  <a:pt x="3070" y="824"/>
                </a:lnTo>
                <a:lnTo>
                  <a:pt x="3072" y="807"/>
                </a:lnTo>
                <a:lnTo>
                  <a:pt x="3076" y="791"/>
                </a:lnTo>
                <a:lnTo>
                  <a:pt x="3079" y="775"/>
                </a:lnTo>
                <a:lnTo>
                  <a:pt x="3081" y="762"/>
                </a:lnTo>
                <a:lnTo>
                  <a:pt x="3085" y="749"/>
                </a:lnTo>
                <a:lnTo>
                  <a:pt x="3087" y="738"/>
                </a:lnTo>
                <a:lnTo>
                  <a:pt x="3090" y="730"/>
                </a:lnTo>
                <a:lnTo>
                  <a:pt x="3094" y="724"/>
                </a:lnTo>
                <a:lnTo>
                  <a:pt x="3096" y="720"/>
                </a:lnTo>
                <a:lnTo>
                  <a:pt x="3099" y="719"/>
                </a:lnTo>
                <a:lnTo>
                  <a:pt x="3101" y="720"/>
                </a:lnTo>
                <a:lnTo>
                  <a:pt x="3105" y="725"/>
                </a:lnTo>
                <a:lnTo>
                  <a:pt x="3108" y="730"/>
                </a:lnTo>
                <a:lnTo>
                  <a:pt x="3110" y="737"/>
                </a:lnTo>
                <a:lnTo>
                  <a:pt x="3114" y="746"/>
                </a:lnTo>
                <a:lnTo>
                  <a:pt x="3116" y="756"/>
                </a:lnTo>
                <a:lnTo>
                  <a:pt x="3119" y="767"/>
                </a:lnTo>
                <a:lnTo>
                  <a:pt x="3123" y="778"/>
                </a:lnTo>
                <a:lnTo>
                  <a:pt x="3125" y="790"/>
                </a:lnTo>
                <a:lnTo>
                  <a:pt x="3128" y="801"/>
                </a:lnTo>
                <a:lnTo>
                  <a:pt x="3130" y="811"/>
                </a:lnTo>
                <a:lnTo>
                  <a:pt x="3134" y="820"/>
                </a:lnTo>
                <a:lnTo>
                  <a:pt x="3137" y="827"/>
                </a:lnTo>
                <a:lnTo>
                  <a:pt x="3139" y="834"/>
                </a:lnTo>
                <a:lnTo>
                  <a:pt x="3143" y="839"/>
                </a:lnTo>
                <a:lnTo>
                  <a:pt x="3145" y="841"/>
                </a:lnTo>
                <a:lnTo>
                  <a:pt x="3148" y="842"/>
                </a:lnTo>
                <a:lnTo>
                  <a:pt x="3150" y="841"/>
                </a:lnTo>
                <a:lnTo>
                  <a:pt x="3154" y="837"/>
                </a:lnTo>
                <a:lnTo>
                  <a:pt x="3157" y="832"/>
                </a:lnTo>
                <a:lnTo>
                  <a:pt x="3159" y="825"/>
                </a:lnTo>
                <a:lnTo>
                  <a:pt x="3163" y="817"/>
                </a:lnTo>
                <a:lnTo>
                  <a:pt x="3165" y="808"/>
                </a:lnTo>
                <a:lnTo>
                  <a:pt x="3168" y="798"/>
                </a:lnTo>
                <a:lnTo>
                  <a:pt x="3172" y="787"/>
                </a:lnTo>
                <a:lnTo>
                  <a:pt x="3174" y="777"/>
                </a:lnTo>
                <a:lnTo>
                  <a:pt x="3177" y="767"/>
                </a:lnTo>
                <a:lnTo>
                  <a:pt x="3179" y="758"/>
                </a:lnTo>
                <a:lnTo>
                  <a:pt x="3183" y="749"/>
                </a:lnTo>
                <a:lnTo>
                  <a:pt x="3186" y="743"/>
                </a:lnTo>
                <a:lnTo>
                  <a:pt x="3188" y="737"/>
                </a:lnTo>
                <a:lnTo>
                  <a:pt x="3192" y="734"/>
                </a:lnTo>
                <a:lnTo>
                  <a:pt x="3194" y="733"/>
                </a:lnTo>
                <a:lnTo>
                  <a:pt x="3197" y="734"/>
                </a:lnTo>
                <a:lnTo>
                  <a:pt x="3201" y="737"/>
                </a:lnTo>
                <a:lnTo>
                  <a:pt x="3203" y="744"/>
                </a:lnTo>
                <a:lnTo>
                  <a:pt x="3206" y="752"/>
                </a:lnTo>
                <a:lnTo>
                  <a:pt x="3208" y="762"/>
                </a:lnTo>
                <a:lnTo>
                  <a:pt x="3212" y="774"/>
                </a:lnTo>
                <a:lnTo>
                  <a:pt x="3215" y="787"/>
                </a:lnTo>
                <a:lnTo>
                  <a:pt x="3217" y="802"/>
                </a:lnTo>
                <a:lnTo>
                  <a:pt x="3221" y="817"/>
                </a:lnTo>
                <a:lnTo>
                  <a:pt x="3223" y="834"/>
                </a:lnTo>
                <a:lnTo>
                  <a:pt x="3226" y="850"/>
                </a:lnTo>
                <a:lnTo>
                  <a:pt x="3230" y="865"/>
                </a:lnTo>
                <a:lnTo>
                  <a:pt x="3232" y="881"/>
                </a:lnTo>
                <a:lnTo>
                  <a:pt x="3235" y="894"/>
                </a:lnTo>
                <a:lnTo>
                  <a:pt x="3237" y="905"/>
                </a:lnTo>
                <a:lnTo>
                  <a:pt x="3241" y="914"/>
                </a:lnTo>
                <a:lnTo>
                  <a:pt x="3243" y="921"/>
                </a:lnTo>
                <a:lnTo>
                  <a:pt x="3246" y="924"/>
                </a:lnTo>
                <a:lnTo>
                  <a:pt x="3250" y="925"/>
                </a:lnTo>
                <a:lnTo>
                  <a:pt x="3252" y="922"/>
                </a:lnTo>
                <a:lnTo>
                  <a:pt x="3255" y="917"/>
                </a:lnTo>
                <a:lnTo>
                  <a:pt x="3258" y="908"/>
                </a:lnTo>
                <a:lnTo>
                  <a:pt x="3261" y="894"/>
                </a:lnTo>
                <a:lnTo>
                  <a:pt x="3264" y="879"/>
                </a:lnTo>
                <a:lnTo>
                  <a:pt x="3266" y="861"/>
                </a:lnTo>
                <a:lnTo>
                  <a:pt x="3270" y="840"/>
                </a:lnTo>
                <a:lnTo>
                  <a:pt x="3272" y="817"/>
                </a:lnTo>
                <a:lnTo>
                  <a:pt x="3275" y="793"/>
                </a:lnTo>
                <a:lnTo>
                  <a:pt x="3279" y="767"/>
                </a:lnTo>
                <a:lnTo>
                  <a:pt x="3281" y="742"/>
                </a:lnTo>
                <a:lnTo>
                  <a:pt x="3284" y="717"/>
                </a:lnTo>
                <a:lnTo>
                  <a:pt x="3287" y="693"/>
                </a:lnTo>
                <a:lnTo>
                  <a:pt x="3290" y="670"/>
                </a:lnTo>
                <a:lnTo>
                  <a:pt x="3293" y="650"/>
                </a:lnTo>
                <a:lnTo>
                  <a:pt x="3295" y="632"/>
                </a:lnTo>
                <a:lnTo>
                  <a:pt x="3299" y="618"/>
                </a:lnTo>
                <a:lnTo>
                  <a:pt x="3301" y="607"/>
                </a:lnTo>
                <a:lnTo>
                  <a:pt x="3304" y="601"/>
                </a:lnTo>
                <a:lnTo>
                  <a:pt x="3308" y="599"/>
                </a:lnTo>
                <a:lnTo>
                  <a:pt x="3310" y="601"/>
                </a:lnTo>
                <a:lnTo>
                  <a:pt x="3313" y="608"/>
                </a:lnTo>
                <a:lnTo>
                  <a:pt x="3316" y="619"/>
                </a:lnTo>
                <a:lnTo>
                  <a:pt x="3319" y="636"/>
                </a:lnTo>
                <a:lnTo>
                  <a:pt x="3322" y="656"/>
                </a:lnTo>
                <a:lnTo>
                  <a:pt x="3324" y="679"/>
                </a:lnTo>
                <a:lnTo>
                  <a:pt x="3328" y="707"/>
                </a:lnTo>
                <a:lnTo>
                  <a:pt x="3330" y="737"/>
                </a:lnTo>
                <a:lnTo>
                  <a:pt x="3333" y="769"/>
                </a:lnTo>
                <a:lnTo>
                  <a:pt x="3336" y="803"/>
                </a:lnTo>
                <a:lnTo>
                  <a:pt x="3339" y="839"/>
                </a:lnTo>
                <a:lnTo>
                  <a:pt x="3342" y="873"/>
                </a:lnTo>
                <a:lnTo>
                  <a:pt x="3345" y="906"/>
                </a:lnTo>
                <a:lnTo>
                  <a:pt x="3348" y="939"/>
                </a:lnTo>
                <a:lnTo>
                  <a:pt x="3350" y="968"/>
                </a:lnTo>
                <a:lnTo>
                  <a:pt x="3353" y="994"/>
                </a:lnTo>
                <a:lnTo>
                  <a:pt x="3357" y="1018"/>
                </a:lnTo>
                <a:lnTo>
                  <a:pt x="3359" y="1036"/>
                </a:lnTo>
                <a:lnTo>
                  <a:pt x="3362" y="1049"/>
                </a:lnTo>
                <a:lnTo>
                  <a:pt x="3365" y="1058"/>
                </a:lnTo>
                <a:lnTo>
                  <a:pt x="3368" y="1060"/>
                </a:lnTo>
                <a:lnTo>
                  <a:pt x="3371" y="1057"/>
                </a:lnTo>
                <a:lnTo>
                  <a:pt x="3374" y="1048"/>
                </a:lnTo>
                <a:lnTo>
                  <a:pt x="3377" y="1033"/>
                </a:lnTo>
                <a:lnTo>
                  <a:pt x="3379" y="1013"/>
                </a:lnTo>
                <a:lnTo>
                  <a:pt x="3382" y="989"/>
                </a:lnTo>
                <a:lnTo>
                  <a:pt x="3386" y="959"/>
                </a:lnTo>
                <a:lnTo>
                  <a:pt x="3388" y="925"/>
                </a:lnTo>
                <a:lnTo>
                  <a:pt x="3391" y="888"/>
                </a:lnTo>
                <a:lnTo>
                  <a:pt x="3394" y="849"/>
                </a:lnTo>
                <a:lnTo>
                  <a:pt x="3397" y="807"/>
                </a:lnTo>
                <a:lnTo>
                  <a:pt x="3400" y="765"/>
                </a:lnTo>
                <a:lnTo>
                  <a:pt x="3403" y="723"/>
                </a:lnTo>
                <a:lnTo>
                  <a:pt x="3406" y="683"/>
                </a:lnTo>
                <a:lnTo>
                  <a:pt x="3408" y="644"/>
                </a:lnTo>
                <a:lnTo>
                  <a:pt x="3411" y="607"/>
                </a:lnTo>
                <a:lnTo>
                  <a:pt x="3414" y="575"/>
                </a:lnTo>
                <a:lnTo>
                  <a:pt x="3417" y="547"/>
                </a:lnTo>
                <a:lnTo>
                  <a:pt x="3420" y="524"/>
                </a:lnTo>
                <a:lnTo>
                  <a:pt x="3423" y="508"/>
                </a:lnTo>
                <a:lnTo>
                  <a:pt x="3426" y="497"/>
                </a:lnTo>
                <a:lnTo>
                  <a:pt x="3428" y="492"/>
                </a:lnTo>
                <a:lnTo>
                  <a:pt x="3432" y="494"/>
                </a:lnTo>
                <a:lnTo>
                  <a:pt x="3435" y="503"/>
                </a:lnTo>
                <a:lnTo>
                  <a:pt x="3437" y="518"/>
                </a:lnTo>
                <a:lnTo>
                  <a:pt x="3441" y="540"/>
                </a:lnTo>
                <a:lnTo>
                  <a:pt x="3443" y="567"/>
                </a:lnTo>
                <a:lnTo>
                  <a:pt x="3446" y="599"/>
                </a:lnTo>
                <a:lnTo>
                  <a:pt x="3449" y="636"/>
                </a:lnTo>
                <a:lnTo>
                  <a:pt x="3452" y="676"/>
                </a:lnTo>
                <a:lnTo>
                  <a:pt x="3455" y="719"/>
                </a:lnTo>
                <a:lnTo>
                  <a:pt x="3457" y="765"/>
                </a:lnTo>
                <a:lnTo>
                  <a:pt x="3461" y="812"/>
                </a:lnTo>
                <a:lnTo>
                  <a:pt x="3464" y="857"/>
                </a:lnTo>
                <a:lnTo>
                  <a:pt x="3466" y="903"/>
                </a:lnTo>
                <a:lnTo>
                  <a:pt x="3470" y="945"/>
                </a:lnTo>
                <a:lnTo>
                  <a:pt x="3472" y="986"/>
                </a:lnTo>
                <a:lnTo>
                  <a:pt x="3475" y="1021"/>
                </a:lnTo>
                <a:lnTo>
                  <a:pt x="3478" y="1052"/>
                </a:lnTo>
                <a:lnTo>
                  <a:pt x="3481" y="1078"/>
                </a:lnTo>
                <a:lnTo>
                  <a:pt x="3484" y="1098"/>
                </a:lnTo>
                <a:lnTo>
                  <a:pt x="3486" y="1111"/>
                </a:lnTo>
                <a:lnTo>
                  <a:pt x="3490" y="1118"/>
                </a:lnTo>
                <a:lnTo>
                  <a:pt x="3493" y="1118"/>
                </a:lnTo>
                <a:lnTo>
                  <a:pt x="3495" y="1110"/>
                </a:lnTo>
                <a:lnTo>
                  <a:pt x="3499" y="1097"/>
                </a:lnTo>
                <a:lnTo>
                  <a:pt x="3501" y="1077"/>
                </a:lnTo>
                <a:lnTo>
                  <a:pt x="3504" y="1050"/>
                </a:lnTo>
                <a:lnTo>
                  <a:pt x="3506" y="1018"/>
                </a:lnTo>
                <a:lnTo>
                  <a:pt x="3510" y="982"/>
                </a:lnTo>
                <a:lnTo>
                  <a:pt x="3513" y="942"/>
                </a:lnTo>
                <a:lnTo>
                  <a:pt x="3515" y="899"/>
                </a:lnTo>
                <a:lnTo>
                  <a:pt x="3519" y="853"/>
                </a:lnTo>
                <a:lnTo>
                  <a:pt x="3521" y="807"/>
                </a:lnTo>
                <a:lnTo>
                  <a:pt x="3524" y="761"/>
                </a:lnTo>
                <a:lnTo>
                  <a:pt x="3528" y="716"/>
                </a:lnTo>
                <a:lnTo>
                  <a:pt x="3530" y="673"/>
                </a:lnTo>
                <a:lnTo>
                  <a:pt x="3533" y="632"/>
                </a:lnTo>
                <a:lnTo>
                  <a:pt x="3535" y="596"/>
                </a:lnTo>
                <a:lnTo>
                  <a:pt x="3539" y="565"/>
                </a:lnTo>
                <a:lnTo>
                  <a:pt x="3542" y="538"/>
                </a:lnTo>
                <a:lnTo>
                  <a:pt x="3544" y="518"/>
                </a:lnTo>
                <a:lnTo>
                  <a:pt x="3548" y="503"/>
                </a:lnTo>
                <a:lnTo>
                  <a:pt x="3550" y="495"/>
                </a:lnTo>
                <a:lnTo>
                  <a:pt x="3553" y="494"/>
                </a:lnTo>
                <a:lnTo>
                  <a:pt x="3557" y="500"/>
                </a:lnTo>
                <a:lnTo>
                  <a:pt x="3559" y="512"/>
                </a:lnTo>
                <a:lnTo>
                  <a:pt x="3562" y="530"/>
                </a:lnTo>
                <a:lnTo>
                  <a:pt x="3564" y="554"/>
                </a:lnTo>
                <a:lnTo>
                  <a:pt x="3568" y="583"/>
                </a:lnTo>
                <a:lnTo>
                  <a:pt x="3571" y="616"/>
                </a:lnTo>
                <a:lnTo>
                  <a:pt x="3573" y="653"/>
                </a:lnTo>
                <a:lnTo>
                  <a:pt x="3577" y="693"/>
                </a:lnTo>
                <a:lnTo>
                  <a:pt x="3579" y="734"/>
                </a:lnTo>
                <a:lnTo>
                  <a:pt x="3582" y="775"/>
                </a:lnTo>
                <a:lnTo>
                  <a:pt x="3586" y="817"/>
                </a:lnTo>
                <a:lnTo>
                  <a:pt x="3588" y="857"/>
                </a:lnTo>
                <a:lnTo>
                  <a:pt x="3591" y="896"/>
                </a:lnTo>
                <a:lnTo>
                  <a:pt x="3593" y="932"/>
                </a:lnTo>
                <a:lnTo>
                  <a:pt x="3597" y="964"/>
                </a:lnTo>
                <a:lnTo>
                  <a:pt x="3599" y="992"/>
                </a:lnTo>
                <a:lnTo>
                  <a:pt x="3602" y="1015"/>
                </a:lnTo>
                <a:lnTo>
                  <a:pt x="3606" y="1032"/>
                </a:lnTo>
                <a:lnTo>
                  <a:pt x="3608" y="1045"/>
                </a:lnTo>
                <a:lnTo>
                  <a:pt x="3611" y="1050"/>
                </a:lnTo>
                <a:lnTo>
                  <a:pt x="3613" y="1051"/>
                </a:lnTo>
                <a:lnTo>
                  <a:pt x="3617" y="1046"/>
                </a:lnTo>
                <a:lnTo>
                  <a:pt x="3620" y="1035"/>
                </a:lnTo>
                <a:lnTo>
                  <a:pt x="3622" y="1018"/>
                </a:lnTo>
                <a:lnTo>
                  <a:pt x="3626" y="997"/>
                </a:lnTo>
                <a:lnTo>
                  <a:pt x="3628" y="972"/>
                </a:lnTo>
                <a:lnTo>
                  <a:pt x="3631" y="944"/>
                </a:lnTo>
                <a:lnTo>
                  <a:pt x="3635" y="913"/>
                </a:lnTo>
                <a:lnTo>
                  <a:pt x="3637" y="880"/>
                </a:lnTo>
                <a:lnTo>
                  <a:pt x="3640" y="846"/>
                </a:lnTo>
                <a:lnTo>
                  <a:pt x="3642" y="812"/>
                </a:lnTo>
                <a:lnTo>
                  <a:pt x="3646" y="778"/>
                </a:lnTo>
                <a:lnTo>
                  <a:pt x="3649" y="747"/>
                </a:lnTo>
                <a:lnTo>
                  <a:pt x="3651" y="717"/>
                </a:lnTo>
                <a:lnTo>
                  <a:pt x="3655" y="690"/>
                </a:lnTo>
                <a:lnTo>
                  <a:pt x="3657" y="668"/>
                </a:lnTo>
                <a:lnTo>
                  <a:pt x="3660" y="648"/>
                </a:lnTo>
                <a:lnTo>
                  <a:pt x="3664" y="634"/>
                </a:lnTo>
                <a:lnTo>
                  <a:pt x="3666" y="624"/>
                </a:lnTo>
                <a:lnTo>
                  <a:pt x="3669" y="618"/>
                </a:lnTo>
                <a:lnTo>
                  <a:pt x="3671" y="618"/>
                </a:lnTo>
                <a:lnTo>
                  <a:pt x="3675" y="622"/>
                </a:lnTo>
                <a:lnTo>
                  <a:pt x="3678" y="630"/>
                </a:lnTo>
                <a:lnTo>
                  <a:pt x="3680" y="644"/>
                </a:lnTo>
                <a:lnTo>
                  <a:pt x="3684" y="659"/>
                </a:lnTo>
                <a:lnTo>
                  <a:pt x="3686" y="679"/>
                </a:lnTo>
                <a:lnTo>
                  <a:pt x="3689" y="702"/>
                </a:lnTo>
                <a:lnTo>
                  <a:pt x="3692" y="725"/>
                </a:lnTo>
                <a:lnTo>
                  <a:pt x="3695" y="749"/>
                </a:lnTo>
                <a:lnTo>
                  <a:pt x="3698" y="775"/>
                </a:lnTo>
                <a:lnTo>
                  <a:pt x="3700" y="800"/>
                </a:lnTo>
                <a:lnTo>
                  <a:pt x="3704" y="824"/>
                </a:lnTo>
                <a:lnTo>
                  <a:pt x="3706" y="846"/>
                </a:lnTo>
                <a:lnTo>
                  <a:pt x="3709" y="865"/>
                </a:lnTo>
                <a:lnTo>
                  <a:pt x="3713" y="882"/>
                </a:lnTo>
                <a:lnTo>
                  <a:pt x="3715" y="896"/>
                </a:lnTo>
                <a:lnTo>
                  <a:pt x="3718" y="905"/>
                </a:lnTo>
                <a:lnTo>
                  <a:pt x="3721" y="912"/>
                </a:lnTo>
                <a:lnTo>
                  <a:pt x="3724" y="913"/>
                </a:lnTo>
                <a:lnTo>
                  <a:pt x="3727" y="912"/>
                </a:lnTo>
                <a:lnTo>
                  <a:pt x="3729" y="905"/>
                </a:lnTo>
                <a:lnTo>
                  <a:pt x="3733" y="895"/>
                </a:lnTo>
                <a:lnTo>
                  <a:pt x="3735" y="883"/>
                </a:lnTo>
                <a:lnTo>
                  <a:pt x="3738" y="866"/>
                </a:lnTo>
                <a:lnTo>
                  <a:pt x="3742" y="849"/>
                </a:lnTo>
                <a:lnTo>
                  <a:pt x="3744" y="829"/>
                </a:lnTo>
                <a:lnTo>
                  <a:pt x="3747" y="807"/>
                </a:lnTo>
                <a:lnTo>
                  <a:pt x="3750" y="785"/>
                </a:lnTo>
                <a:lnTo>
                  <a:pt x="3753" y="764"/>
                </a:lnTo>
                <a:lnTo>
                  <a:pt x="3756" y="744"/>
                </a:lnTo>
                <a:lnTo>
                  <a:pt x="3758" y="725"/>
                </a:lnTo>
                <a:lnTo>
                  <a:pt x="3762" y="708"/>
                </a:lnTo>
                <a:lnTo>
                  <a:pt x="3764" y="695"/>
                </a:lnTo>
                <a:lnTo>
                  <a:pt x="3767" y="685"/>
                </a:lnTo>
                <a:lnTo>
                  <a:pt x="3771" y="678"/>
                </a:lnTo>
                <a:lnTo>
                  <a:pt x="3773" y="676"/>
                </a:lnTo>
                <a:lnTo>
                  <a:pt x="3776" y="678"/>
                </a:lnTo>
                <a:lnTo>
                  <a:pt x="3779" y="685"/>
                </a:lnTo>
                <a:lnTo>
                  <a:pt x="3782" y="696"/>
                </a:lnTo>
                <a:lnTo>
                  <a:pt x="3784" y="710"/>
                </a:lnTo>
                <a:lnTo>
                  <a:pt x="3787" y="728"/>
                </a:lnTo>
                <a:lnTo>
                  <a:pt x="3791" y="751"/>
                </a:lnTo>
                <a:lnTo>
                  <a:pt x="3793" y="775"/>
                </a:lnTo>
                <a:lnTo>
                  <a:pt x="3796" y="802"/>
                </a:lnTo>
                <a:lnTo>
                  <a:pt x="3799" y="830"/>
                </a:lnTo>
                <a:lnTo>
                  <a:pt x="3802" y="859"/>
                </a:lnTo>
                <a:lnTo>
                  <a:pt x="3805" y="886"/>
                </a:lnTo>
                <a:lnTo>
                  <a:pt x="3808" y="914"/>
                </a:lnTo>
                <a:lnTo>
                  <a:pt x="3811" y="940"/>
                </a:lnTo>
                <a:lnTo>
                  <a:pt x="3813" y="962"/>
                </a:lnTo>
                <a:lnTo>
                  <a:pt x="3816" y="982"/>
                </a:lnTo>
                <a:lnTo>
                  <a:pt x="3820" y="997"/>
                </a:lnTo>
                <a:lnTo>
                  <a:pt x="3822" y="1007"/>
                </a:lnTo>
                <a:lnTo>
                  <a:pt x="3825" y="1012"/>
                </a:lnTo>
                <a:lnTo>
                  <a:pt x="3828" y="1012"/>
                </a:lnTo>
                <a:lnTo>
                  <a:pt x="3831" y="1006"/>
                </a:lnTo>
                <a:lnTo>
                  <a:pt x="3834" y="993"/>
                </a:lnTo>
                <a:lnTo>
                  <a:pt x="3837" y="976"/>
                </a:lnTo>
                <a:lnTo>
                  <a:pt x="3840" y="952"/>
                </a:lnTo>
                <a:lnTo>
                  <a:pt x="3842" y="923"/>
                </a:lnTo>
                <a:lnTo>
                  <a:pt x="3845" y="890"/>
                </a:lnTo>
                <a:lnTo>
                  <a:pt x="3849" y="852"/>
                </a:lnTo>
                <a:lnTo>
                  <a:pt x="3851" y="812"/>
                </a:lnTo>
                <a:lnTo>
                  <a:pt x="3854" y="769"/>
                </a:lnTo>
                <a:lnTo>
                  <a:pt x="3857" y="725"/>
                </a:lnTo>
                <a:lnTo>
                  <a:pt x="3860" y="681"/>
                </a:lnTo>
                <a:lnTo>
                  <a:pt x="3862" y="638"/>
                </a:lnTo>
                <a:lnTo>
                  <a:pt x="3866" y="597"/>
                </a:lnTo>
                <a:lnTo>
                  <a:pt x="3869" y="558"/>
                </a:lnTo>
                <a:lnTo>
                  <a:pt x="3871" y="524"/>
                </a:lnTo>
                <a:lnTo>
                  <a:pt x="3874" y="495"/>
                </a:lnTo>
                <a:lnTo>
                  <a:pt x="3877" y="473"/>
                </a:lnTo>
                <a:lnTo>
                  <a:pt x="3880" y="456"/>
                </a:lnTo>
                <a:lnTo>
                  <a:pt x="3883" y="448"/>
                </a:lnTo>
                <a:lnTo>
                  <a:pt x="3886" y="448"/>
                </a:lnTo>
                <a:lnTo>
                  <a:pt x="3889" y="455"/>
                </a:lnTo>
                <a:lnTo>
                  <a:pt x="3891" y="471"/>
                </a:lnTo>
                <a:lnTo>
                  <a:pt x="3895" y="494"/>
                </a:lnTo>
                <a:lnTo>
                  <a:pt x="3898" y="527"/>
                </a:lnTo>
                <a:lnTo>
                  <a:pt x="3900" y="566"/>
                </a:lnTo>
                <a:lnTo>
                  <a:pt x="3903" y="611"/>
                </a:lnTo>
                <a:lnTo>
                  <a:pt x="3906" y="663"/>
                </a:lnTo>
                <a:lnTo>
                  <a:pt x="3909" y="719"/>
                </a:lnTo>
                <a:lnTo>
                  <a:pt x="3912" y="779"/>
                </a:lnTo>
                <a:lnTo>
                  <a:pt x="3915" y="842"/>
                </a:lnTo>
                <a:lnTo>
                  <a:pt x="3918" y="905"/>
                </a:lnTo>
                <a:lnTo>
                  <a:pt x="3920" y="968"/>
                </a:lnTo>
                <a:lnTo>
                  <a:pt x="3924" y="1029"/>
                </a:lnTo>
                <a:lnTo>
                  <a:pt x="3927" y="1087"/>
                </a:lnTo>
                <a:lnTo>
                  <a:pt x="3929" y="1139"/>
                </a:lnTo>
                <a:lnTo>
                  <a:pt x="3932" y="1186"/>
                </a:lnTo>
                <a:lnTo>
                  <a:pt x="3935" y="1226"/>
                </a:lnTo>
                <a:lnTo>
                  <a:pt x="3938" y="1257"/>
                </a:lnTo>
                <a:lnTo>
                  <a:pt x="3941" y="1280"/>
                </a:lnTo>
                <a:lnTo>
                  <a:pt x="3944" y="1292"/>
                </a:lnTo>
                <a:lnTo>
                  <a:pt x="3947" y="1293"/>
                </a:lnTo>
                <a:lnTo>
                  <a:pt x="3949" y="1283"/>
                </a:lnTo>
                <a:lnTo>
                  <a:pt x="3953" y="1263"/>
                </a:lnTo>
                <a:lnTo>
                  <a:pt x="3955" y="1232"/>
                </a:lnTo>
                <a:lnTo>
                  <a:pt x="3958" y="1191"/>
                </a:lnTo>
                <a:lnTo>
                  <a:pt x="3961" y="1140"/>
                </a:lnTo>
                <a:lnTo>
                  <a:pt x="3964" y="1081"/>
                </a:lnTo>
                <a:lnTo>
                  <a:pt x="3967" y="1015"/>
                </a:lnTo>
                <a:lnTo>
                  <a:pt x="3969" y="941"/>
                </a:lnTo>
                <a:lnTo>
                  <a:pt x="3973" y="863"/>
                </a:lnTo>
                <a:lnTo>
                  <a:pt x="3976" y="782"/>
                </a:lnTo>
                <a:lnTo>
                  <a:pt x="3978" y="699"/>
                </a:lnTo>
                <a:lnTo>
                  <a:pt x="3982" y="618"/>
                </a:lnTo>
                <a:lnTo>
                  <a:pt x="3984" y="538"/>
                </a:lnTo>
                <a:lnTo>
                  <a:pt x="3987" y="462"/>
                </a:lnTo>
                <a:lnTo>
                  <a:pt x="3990" y="392"/>
                </a:lnTo>
                <a:lnTo>
                  <a:pt x="3993" y="328"/>
                </a:lnTo>
                <a:lnTo>
                  <a:pt x="3996" y="275"/>
                </a:lnTo>
                <a:lnTo>
                  <a:pt x="3998" y="230"/>
                </a:lnTo>
                <a:lnTo>
                  <a:pt x="4002" y="198"/>
                </a:lnTo>
                <a:lnTo>
                  <a:pt x="4005" y="178"/>
                </a:lnTo>
                <a:lnTo>
                  <a:pt x="4007" y="170"/>
                </a:lnTo>
                <a:lnTo>
                  <a:pt x="4011" y="176"/>
                </a:lnTo>
                <a:lnTo>
                  <a:pt x="4013" y="195"/>
                </a:lnTo>
                <a:lnTo>
                  <a:pt x="4016" y="227"/>
                </a:lnTo>
                <a:lnTo>
                  <a:pt x="4019" y="272"/>
                </a:lnTo>
                <a:lnTo>
                  <a:pt x="4022" y="328"/>
                </a:lnTo>
                <a:lnTo>
                  <a:pt x="4025" y="395"/>
                </a:lnTo>
                <a:lnTo>
                  <a:pt x="4027" y="472"/>
                </a:lnTo>
                <a:lnTo>
                  <a:pt x="4031" y="558"/>
                </a:lnTo>
                <a:lnTo>
                  <a:pt x="4034" y="649"/>
                </a:lnTo>
                <a:lnTo>
                  <a:pt x="4036" y="745"/>
                </a:lnTo>
                <a:lnTo>
                  <a:pt x="4040" y="843"/>
                </a:lnTo>
                <a:lnTo>
                  <a:pt x="4042" y="942"/>
                </a:lnTo>
                <a:lnTo>
                  <a:pt x="4045" y="1039"/>
                </a:lnTo>
                <a:lnTo>
                  <a:pt x="4047" y="1133"/>
                </a:lnTo>
                <a:lnTo>
                  <a:pt x="4051" y="1219"/>
                </a:lnTo>
                <a:lnTo>
                  <a:pt x="4054" y="1300"/>
                </a:lnTo>
                <a:lnTo>
                  <a:pt x="4056" y="1370"/>
                </a:lnTo>
                <a:lnTo>
                  <a:pt x="4060" y="1429"/>
                </a:lnTo>
                <a:lnTo>
                  <a:pt x="4062" y="1476"/>
                </a:lnTo>
                <a:lnTo>
                  <a:pt x="4065" y="1508"/>
                </a:lnTo>
                <a:lnTo>
                  <a:pt x="4069" y="1527"/>
                </a:lnTo>
                <a:lnTo>
                  <a:pt x="4071" y="1530"/>
                </a:lnTo>
                <a:lnTo>
                  <a:pt x="4074" y="1518"/>
                </a:lnTo>
                <a:lnTo>
                  <a:pt x="4076" y="1491"/>
                </a:lnTo>
                <a:lnTo>
                  <a:pt x="4080" y="1449"/>
                </a:lnTo>
                <a:lnTo>
                  <a:pt x="4083" y="1393"/>
                </a:lnTo>
                <a:lnTo>
                  <a:pt x="4085" y="1325"/>
                </a:lnTo>
                <a:lnTo>
                  <a:pt x="4089" y="1245"/>
                </a:lnTo>
                <a:lnTo>
                  <a:pt x="4091" y="1155"/>
                </a:lnTo>
                <a:lnTo>
                  <a:pt x="4094" y="1056"/>
                </a:lnTo>
                <a:lnTo>
                  <a:pt x="4098" y="951"/>
                </a:lnTo>
                <a:lnTo>
                  <a:pt x="4100" y="842"/>
                </a:lnTo>
                <a:lnTo>
                  <a:pt x="4103" y="732"/>
                </a:lnTo>
                <a:lnTo>
                  <a:pt x="4105" y="621"/>
                </a:lnTo>
                <a:lnTo>
                  <a:pt x="4109" y="514"/>
                </a:lnTo>
                <a:lnTo>
                  <a:pt x="4112" y="412"/>
                </a:lnTo>
                <a:lnTo>
                  <a:pt x="4114" y="317"/>
                </a:lnTo>
                <a:lnTo>
                  <a:pt x="4118" y="231"/>
                </a:lnTo>
                <a:lnTo>
                  <a:pt x="4120" y="157"/>
                </a:lnTo>
                <a:lnTo>
                  <a:pt x="4123" y="96"/>
                </a:lnTo>
                <a:lnTo>
                  <a:pt x="4127" y="49"/>
                </a:lnTo>
                <a:lnTo>
                  <a:pt x="4129" y="16"/>
                </a:lnTo>
                <a:lnTo>
                  <a:pt x="4132" y="0"/>
                </a:lnTo>
                <a:lnTo>
                  <a:pt x="4134" y="0"/>
                </a:lnTo>
                <a:lnTo>
                  <a:pt x="4138" y="16"/>
                </a:lnTo>
                <a:lnTo>
                  <a:pt x="4140" y="50"/>
                </a:lnTo>
                <a:lnTo>
                  <a:pt x="4143" y="98"/>
                </a:lnTo>
                <a:lnTo>
                  <a:pt x="4147" y="161"/>
                </a:lnTo>
                <a:lnTo>
                  <a:pt x="4149" y="238"/>
                </a:lnTo>
                <a:lnTo>
                  <a:pt x="4152" y="326"/>
                </a:lnTo>
                <a:lnTo>
                  <a:pt x="4154" y="424"/>
                </a:lnTo>
                <a:lnTo>
                  <a:pt x="4158" y="531"/>
                </a:lnTo>
                <a:lnTo>
                  <a:pt x="4161" y="642"/>
                </a:lnTo>
                <a:lnTo>
                  <a:pt x="4163" y="758"/>
                </a:lnTo>
                <a:lnTo>
                  <a:pt x="4167" y="875"/>
                </a:lnTo>
                <a:lnTo>
                  <a:pt x="4169" y="991"/>
                </a:lnTo>
                <a:lnTo>
                  <a:pt x="4172" y="1103"/>
                </a:lnTo>
                <a:lnTo>
                  <a:pt x="4176" y="1208"/>
                </a:lnTo>
                <a:lnTo>
                  <a:pt x="4178" y="1305"/>
                </a:lnTo>
                <a:lnTo>
                  <a:pt x="4181" y="1393"/>
                </a:lnTo>
                <a:lnTo>
                  <a:pt x="4183" y="1468"/>
                </a:lnTo>
                <a:lnTo>
                  <a:pt x="4187" y="1529"/>
                </a:lnTo>
                <a:lnTo>
                  <a:pt x="4190" y="1575"/>
                </a:lnTo>
                <a:lnTo>
                  <a:pt x="4192" y="1606"/>
                </a:lnTo>
                <a:lnTo>
                  <a:pt x="4196" y="1619"/>
                </a:lnTo>
                <a:lnTo>
                  <a:pt x="4198" y="1617"/>
                </a:lnTo>
                <a:lnTo>
                  <a:pt x="4201" y="1597"/>
                </a:lnTo>
                <a:lnTo>
                  <a:pt x="4205" y="1561"/>
                </a:lnTo>
                <a:lnTo>
                  <a:pt x="4207" y="1509"/>
                </a:lnTo>
                <a:lnTo>
                  <a:pt x="4210" y="1443"/>
                </a:lnTo>
                <a:lnTo>
                  <a:pt x="4212" y="1364"/>
                </a:lnTo>
                <a:lnTo>
                  <a:pt x="4216" y="1273"/>
                </a:lnTo>
                <a:lnTo>
                  <a:pt x="4219" y="1173"/>
                </a:lnTo>
                <a:lnTo>
                  <a:pt x="4221" y="1065"/>
                </a:lnTo>
                <a:lnTo>
                  <a:pt x="4225" y="952"/>
                </a:lnTo>
                <a:lnTo>
                  <a:pt x="4227" y="836"/>
                </a:lnTo>
                <a:lnTo>
                  <a:pt x="4230" y="720"/>
                </a:lnTo>
                <a:lnTo>
                  <a:pt x="4233" y="606"/>
                </a:lnTo>
                <a:lnTo>
                  <a:pt x="4236" y="495"/>
                </a:lnTo>
                <a:lnTo>
                  <a:pt x="4239" y="392"/>
                </a:lnTo>
                <a:lnTo>
                  <a:pt x="4241" y="297"/>
                </a:lnTo>
                <a:lnTo>
                  <a:pt x="4245" y="213"/>
                </a:lnTo>
                <a:lnTo>
                  <a:pt x="4247" y="141"/>
                </a:lnTo>
                <a:lnTo>
                  <a:pt x="4250" y="82"/>
                </a:lnTo>
                <a:lnTo>
                  <a:pt x="4254" y="39"/>
                </a:lnTo>
                <a:lnTo>
                  <a:pt x="4256" y="11"/>
                </a:lnTo>
                <a:lnTo>
                  <a:pt x="4259" y="0"/>
                </a:lnTo>
                <a:lnTo>
                  <a:pt x="4262" y="4"/>
                </a:lnTo>
                <a:lnTo>
                  <a:pt x="4265" y="25"/>
                </a:lnTo>
                <a:lnTo>
                  <a:pt x="4268" y="61"/>
                </a:lnTo>
                <a:lnTo>
                  <a:pt x="4270" y="112"/>
                </a:lnTo>
                <a:lnTo>
                  <a:pt x="4274" y="177"/>
                </a:lnTo>
                <a:lnTo>
                  <a:pt x="4276" y="254"/>
                </a:lnTo>
                <a:lnTo>
                  <a:pt x="4279" y="342"/>
                </a:lnTo>
                <a:lnTo>
                  <a:pt x="4283" y="438"/>
                </a:lnTo>
                <a:lnTo>
                  <a:pt x="4285" y="540"/>
                </a:lnTo>
                <a:lnTo>
                  <a:pt x="4288" y="647"/>
                </a:lnTo>
                <a:lnTo>
                  <a:pt x="4291" y="756"/>
                </a:lnTo>
                <a:lnTo>
                  <a:pt x="4294" y="865"/>
                </a:lnTo>
                <a:lnTo>
                  <a:pt x="4297" y="972"/>
                </a:lnTo>
                <a:lnTo>
                  <a:pt x="4299" y="1075"/>
                </a:lnTo>
                <a:lnTo>
                  <a:pt x="4303" y="1172"/>
                </a:lnTo>
                <a:lnTo>
                  <a:pt x="4305" y="1258"/>
                </a:lnTo>
                <a:lnTo>
                  <a:pt x="4308" y="1335"/>
                </a:lnTo>
                <a:lnTo>
                  <a:pt x="4311" y="1401"/>
                </a:lnTo>
                <a:lnTo>
                  <a:pt x="4314" y="1455"/>
                </a:lnTo>
                <a:lnTo>
                  <a:pt x="4317" y="1493"/>
                </a:lnTo>
                <a:lnTo>
                  <a:pt x="4320" y="1518"/>
                </a:lnTo>
                <a:lnTo>
                  <a:pt x="4323" y="1527"/>
                </a:lnTo>
                <a:lnTo>
                  <a:pt x="4325" y="1522"/>
                </a:lnTo>
                <a:lnTo>
                  <a:pt x="4328" y="1502"/>
                </a:lnTo>
                <a:lnTo>
                  <a:pt x="4332" y="1469"/>
                </a:lnTo>
                <a:lnTo>
                  <a:pt x="4334" y="1422"/>
                </a:lnTo>
                <a:lnTo>
                  <a:pt x="4337" y="1363"/>
                </a:lnTo>
                <a:lnTo>
                  <a:pt x="4340" y="1293"/>
                </a:lnTo>
                <a:lnTo>
                  <a:pt x="4343" y="1215"/>
                </a:lnTo>
                <a:lnTo>
                  <a:pt x="4346" y="1128"/>
                </a:lnTo>
                <a:lnTo>
                  <a:pt x="4349" y="1037"/>
                </a:lnTo>
                <a:lnTo>
                  <a:pt x="4352" y="942"/>
                </a:lnTo>
                <a:lnTo>
                  <a:pt x="4354" y="845"/>
                </a:lnTo>
                <a:lnTo>
                  <a:pt x="4357" y="749"/>
                </a:lnTo>
                <a:lnTo>
                  <a:pt x="4361" y="655"/>
                </a:lnTo>
                <a:lnTo>
                  <a:pt x="4363" y="566"/>
                </a:lnTo>
                <a:lnTo>
                  <a:pt x="4366" y="482"/>
                </a:lnTo>
                <a:lnTo>
                  <a:pt x="4369" y="406"/>
                </a:lnTo>
                <a:lnTo>
                  <a:pt x="4372" y="340"/>
                </a:lnTo>
                <a:lnTo>
                  <a:pt x="4375" y="283"/>
                </a:lnTo>
                <a:lnTo>
                  <a:pt x="4378" y="237"/>
                </a:lnTo>
                <a:lnTo>
                  <a:pt x="4381" y="205"/>
                </a:lnTo>
                <a:lnTo>
                  <a:pt x="4383" y="184"/>
                </a:lnTo>
                <a:lnTo>
                  <a:pt x="4386" y="176"/>
                </a:lnTo>
                <a:lnTo>
                  <a:pt x="4390" y="180"/>
                </a:lnTo>
                <a:lnTo>
                  <a:pt x="4392" y="197"/>
                </a:lnTo>
                <a:lnTo>
                  <a:pt x="4395" y="226"/>
                </a:lnTo>
                <a:lnTo>
                  <a:pt x="4398" y="265"/>
                </a:lnTo>
                <a:lnTo>
                  <a:pt x="4401" y="315"/>
                </a:lnTo>
                <a:lnTo>
                  <a:pt x="4403" y="373"/>
                </a:lnTo>
                <a:lnTo>
                  <a:pt x="4407" y="439"/>
                </a:lnTo>
                <a:lnTo>
                  <a:pt x="4410" y="510"/>
                </a:lnTo>
                <a:lnTo>
                  <a:pt x="4412" y="586"/>
                </a:lnTo>
                <a:lnTo>
                  <a:pt x="4415" y="664"/>
                </a:lnTo>
                <a:lnTo>
                  <a:pt x="4418" y="743"/>
                </a:lnTo>
                <a:lnTo>
                  <a:pt x="4421" y="821"/>
                </a:lnTo>
                <a:lnTo>
                  <a:pt x="4424" y="898"/>
                </a:lnTo>
                <a:lnTo>
                  <a:pt x="4427" y="970"/>
                </a:lnTo>
                <a:lnTo>
                  <a:pt x="4430" y="1038"/>
                </a:lnTo>
                <a:lnTo>
                  <a:pt x="4432" y="1099"/>
                </a:lnTo>
                <a:lnTo>
                  <a:pt x="4436" y="1153"/>
                </a:lnTo>
                <a:lnTo>
                  <a:pt x="4439" y="1197"/>
                </a:lnTo>
                <a:lnTo>
                  <a:pt x="4441" y="1234"/>
                </a:lnTo>
                <a:lnTo>
                  <a:pt x="4445" y="1261"/>
                </a:lnTo>
                <a:lnTo>
                  <a:pt x="4447" y="1277"/>
                </a:lnTo>
                <a:lnTo>
                  <a:pt x="4450" y="1284"/>
                </a:lnTo>
                <a:lnTo>
                  <a:pt x="4453" y="1281"/>
                </a:lnTo>
                <a:lnTo>
                  <a:pt x="4456" y="1268"/>
                </a:lnTo>
                <a:lnTo>
                  <a:pt x="4459" y="1247"/>
                </a:lnTo>
                <a:lnTo>
                  <a:pt x="4461" y="1217"/>
                </a:lnTo>
                <a:lnTo>
                  <a:pt x="4465" y="1180"/>
                </a:lnTo>
                <a:lnTo>
                  <a:pt x="4468" y="1137"/>
                </a:lnTo>
                <a:lnTo>
                  <a:pt x="4470" y="1088"/>
                </a:lnTo>
                <a:lnTo>
                  <a:pt x="4474" y="1035"/>
                </a:lnTo>
                <a:lnTo>
                  <a:pt x="4476" y="979"/>
                </a:lnTo>
                <a:lnTo>
                  <a:pt x="4479" y="921"/>
                </a:lnTo>
                <a:lnTo>
                  <a:pt x="4482" y="862"/>
                </a:lnTo>
                <a:lnTo>
                  <a:pt x="4485" y="805"/>
                </a:lnTo>
                <a:lnTo>
                  <a:pt x="4488" y="748"/>
                </a:lnTo>
                <a:lnTo>
                  <a:pt x="4490" y="696"/>
                </a:lnTo>
                <a:lnTo>
                  <a:pt x="4494" y="646"/>
                </a:lnTo>
                <a:lnTo>
                  <a:pt x="4496" y="602"/>
                </a:lnTo>
                <a:lnTo>
                  <a:pt x="4499" y="562"/>
                </a:lnTo>
                <a:lnTo>
                  <a:pt x="4503" y="530"/>
                </a:lnTo>
                <a:lnTo>
                  <a:pt x="4505" y="503"/>
                </a:lnTo>
                <a:lnTo>
                  <a:pt x="4508" y="483"/>
                </a:lnTo>
                <a:lnTo>
                  <a:pt x="4510" y="470"/>
                </a:lnTo>
                <a:lnTo>
                  <a:pt x="4514" y="464"/>
                </a:lnTo>
                <a:lnTo>
                  <a:pt x="4517" y="464"/>
                </a:lnTo>
                <a:lnTo>
                  <a:pt x="4519" y="472"/>
                </a:lnTo>
                <a:lnTo>
                  <a:pt x="4523" y="484"/>
                </a:lnTo>
                <a:lnTo>
                  <a:pt x="4525" y="503"/>
                </a:lnTo>
                <a:lnTo>
                  <a:pt x="4528" y="526"/>
                </a:lnTo>
                <a:lnTo>
                  <a:pt x="4532" y="553"/>
                </a:lnTo>
                <a:lnTo>
                  <a:pt x="4534" y="583"/>
                </a:lnTo>
                <a:lnTo>
                  <a:pt x="4537" y="617"/>
                </a:lnTo>
                <a:lnTo>
                  <a:pt x="4539" y="651"/>
                </a:lnTo>
                <a:lnTo>
                  <a:pt x="4543" y="688"/>
                </a:lnTo>
                <a:lnTo>
                  <a:pt x="4546" y="724"/>
                </a:lnTo>
                <a:lnTo>
                  <a:pt x="4548" y="759"/>
                </a:lnTo>
                <a:lnTo>
                  <a:pt x="4552" y="794"/>
                </a:lnTo>
                <a:lnTo>
                  <a:pt x="4554" y="826"/>
                </a:lnTo>
                <a:lnTo>
                  <a:pt x="4557" y="856"/>
                </a:lnTo>
                <a:lnTo>
                  <a:pt x="4561" y="884"/>
                </a:lnTo>
                <a:lnTo>
                  <a:pt x="4563" y="909"/>
                </a:lnTo>
                <a:lnTo>
                  <a:pt x="4566" y="929"/>
                </a:lnTo>
                <a:lnTo>
                  <a:pt x="4568" y="947"/>
                </a:lnTo>
                <a:lnTo>
                  <a:pt x="4572" y="960"/>
                </a:lnTo>
                <a:lnTo>
                  <a:pt x="4575" y="970"/>
                </a:lnTo>
                <a:lnTo>
                  <a:pt x="4577" y="976"/>
                </a:lnTo>
                <a:lnTo>
                  <a:pt x="4581" y="978"/>
                </a:lnTo>
                <a:lnTo>
                  <a:pt x="4583" y="978"/>
                </a:lnTo>
                <a:lnTo>
                  <a:pt x="4586" y="973"/>
                </a:lnTo>
                <a:lnTo>
                  <a:pt x="4588" y="968"/>
                </a:lnTo>
                <a:lnTo>
                  <a:pt x="4592" y="959"/>
                </a:lnTo>
                <a:lnTo>
                  <a:pt x="4595" y="949"/>
                </a:lnTo>
                <a:lnTo>
                  <a:pt x="4597" y="937"/>
                </a:lnTo>
                <a:lnTo>
                  <a:pt x="4601" y="923"/>
                </a:lnTo>
                <a:lnTo>
                  <a:pt x="4603" y="910"/>
                </a:lnTo>
                <a:lnTo>
                  <a:pt x="4606" y="895"/>
                </a:lnTo>
                <a:lnTo>
                  <a:pt x="4610" y="882"/>
                </a:lnTo>
                <a:lnTo>
                  <a:pt x="4612" y="867"/>
                </a:lnTo>
                <a:lnTo>
                  <a:pt x="4615" y="854"/>
                </a:lnTo>
                <a:lnTo>
                  <a:pt x="4617" y="841"/>
                </a:lnTo>
                <a:lnTo>
                  <a:pt x="4621" y="829"/>
                </a:lnTo>
                <a:lnTo>
                  <a:pt x="4624" y="817"/>
                </a:lnTo>
                <a:lnTo>
                  <a:pt x="4626" y="807"/>
                </a:lnTo>
                <a:lnTo>
                  <a:pt x="4630" y="797"/>
                </a:lnTo>
                <a:lnTo>
                  <a:pt x="4632" y="788"/>
                </a:lnTo>
                <a:lnTo>
                  <a:pt x="4635" y="781"/>
                </a:lnTo>
                <a:lnTo>
                  <a:pt x="4639" y="774"/>
                </a:lnTo>
                <a:lnTo>
                  <a:pt x="4641" y="767"/>
                </a:lnTo>
                <a:lnTo>
                  <a:pt x="4644" y="761"/>
                </a:lnTo>
                <a:lnTo>
                  <a:pt x="4646" y="755"/>
                </a:lnTo>
                <a:lnTo>
                  <a:pt x="4650" y="749"/>
                </a:lnTo>
                <a:lnTo>
                  <a:pt x="4653" y="744"/>
                </a:lnTo>
                <a:lnTo>
                  <a:pt x="4655" y="739"/>
                </a:lnTo>
                <a:lnTo>
                  <a:pt x="4659" y="734"/>
                </a:lnTo>
                <a:lnTo>
                  <a:pt x="4661" y="728"/>
                </a:lnTo>
                <a:lnTo>
                  <a:pt x="4664" y="723"/>
                </a:lnTo>
                <a:lnTo>
                  <a:pt x="4668" y="717"/>
                </a:lnTo>
                <a:lnTo>
                  <a:pt x="4670" y="710"/>
                </a:lnTo>
                <a:lnTo>
                  <a:pt x="4673" y="705"/>
                </a:lnTo>
                <a:lnTo>
                  <a:pt x="4675" y="700"/>
                </a:lnTo>
                <a:lnTo>
                  <a:pt x="4679" y="695"/>
                </a:lnTo>
                <a:lnTo>
                  <a:pt x="4681" y="690"/>
                </a:lnTo>
                <a:lnTo>
                  <a:pt x="4684" y="687"/>
                </a:lnTo>
                <a:lnTo>
                  <a:pt x="4688" y="685"/>
                </a:lnTo>
                <a:lnTo>
                  <a:pt x="4690" y="684"/>
                </a:lnTo>
                <a:lnTo>
                  <a:pt x="4693" y="684"/>
                </a:lnTo>
                <a:lnTo>
                  <a:pt x="4696" y="685"/>
                </a:lnTo>
                <a:lnTo>
                  <a:pt x="4699" y="689"/>
                </a:lnTo>
                <a:lnTo>
                  <a:pt x="4702" y="695"/>
                </a:lnTo>
                <a:lnTo>
                  <a:pt x="4704" y="702"/>
                </a:lnTo>
                <a:lnTo>
                  <a:pt x="4708" y="712"/>
                </a:lnTo>
                <a:lnTo>
                  <a:pt x="4710" y="724"/>
                </a:lnTo>
                <a:lnTo>
                  <a:pt x="4713" y="737"/>
                </a:lnTo>
                <a:lnTo>
                  <a:pt x="4717" y="754"/>
                </a:lnTo>
                <a:lnTo>
                  <a:pt x="4719" y="772"/>
                </a:lnTo>
                <a:lnTo>
                  <a:pt x="4722" y="791"/>
                </a:lnTo>
                <a:lnTo>
                  <a:pt x="4725" y="811"/>
                </a:lnTo>
                <a:lnTo>
                  <a:pt x="4728" y="833"/>
                </a:lnTo>
                <a:lnTo>
                  <a:pt x="4731" y="854"/>
                </a:lnTo>
                <a:lnTo>
                  <a:pt x="4733" y="876"/>
                </a:lnTo>
                <a:lnTo>
                  <a:pt x="4737" y="899"/>
                </a:lnTo>
                <a:lnTo>
                  <a:pt x="4739" y="920"/>
                </a:lnTo>
                <a:lnTo>
                  <a:pt x="4742" y="940"/>
                </a:lnTo>
                <a:lnTo>
                  <a:pt x="4746" y="958"/>
                </a:lnTo>
                <a:lnTo>
                  <a:pt x="4748" y="973"/>
                </a:lnTo>
                <a:lnTo>
                  <a:pt x="4751" y="987"/>
                </a:lnTo>
                <a:lnTo>
                  <a:pt x="4754" y="997"/>
                </a:lnTo>
                <a:lnTo>
                  <a:pt x="4757" y="1003"/>
                </a:lnTo>
                <a:lnTo>
                  <a:pt x="4759" y="1007"/>
                </a:lnTo>
                <a:lnTo>
                  <a:pt x="4762" y="1006"/>
                </a:lnTo>
                <a:lnTo>
                  <a:pt x="4766" y="1001"/>
                </a:lnTo>
                <a:lnTo>
                  <a:pt x="4768" y="991"/>
                </a:lnTo>
                <a:lnTo>
                  <a:pt x="4771" y="979"/>
                </a:lnTo>
                <a:lnTo>
                  <a:pt x="4774" y="961"/>
                </a:lnTo>
                <a:lnTo>
                  <a:pt x="4777" y="940"/>
                </a:lnTo>
                <a:lnTo>
                  <a:pt x="4780" y="915"/>
                </a:lnTo>
                <a:lnTo>
                  <a:pt x="4783" y="888"/>
                </a:lnTo>
                <a:lnTo>
                  <a:pt x="4786" y="857"/>
                </a:lnTo>
                <a:lnTo>
                  <a:pt x="4788" y="826"/>
                </a:lnTo>
                <a:lnTo>
                  <a:pt x="4791" y="792"/>
                </a:lnTo>
                <a:lnTo>
                  <a:pt x="4795" y="758"/>
                </a:lnTo>
                <a:lnTo>
                  <a:pt x="4797" y="724"/>
                </a:lnTo>
                <a:lnTo>
                  <a:pt x="4800" y="689"/>
                </a:lnTo>
                <a:lnTo>
                  <a:pt x="4803" y="657"/>
                </a:lnTo>
                <a:lnTo>
                  <a:pt x="4806" y="627"/>
                </a:lnTo>
                <a:lnTo>
                  <a:pt x="4809" y="599"/>
                </a:lnTo>
                <a:lnTo>
                  <a:pt x="4812" y="576"/>
                </a:lnTo>
                <a:lnTo>
                  <a:pt x="4815" y="556"/>
                </a:lnTo>
                <a:lnTo>
                  <a:pt x="4817" y="539"/>
                </a:lnTo>
                <a:lnTo>
                  <a:pt x="4820" y="529"/>
                </a:lnTo>
                <a:lnTo>
                  <a:pt x="4824" y="523"/>
                </a:lnTo>
                <a:lnTo>
                  <a:pt x="4826" y="523"/>
                </a:lnTo>
                <a:lnTo>
                  <a:pt x="4829" y="529"/>
                </a:lnTo>
                <a:lnTo>
                  <a:pt x="4832" y="540"/>
                </a:lnTo>
                <a:lnTo>
                  <a:pt x="4835" y="556"/>
                </a:lnTo>
                <a:lnTo>
                  <a:pt x="4838" y="578"/>
                </a:lnTo>
                <a:lnTo>
                  <a:pt x="4841" y="605"/>
                </a:lnTo>
                <a:lnTo>
                  <a:pt x="4844" y="635"/>
                </a:lnTo>
                <a:lnTo>
                  <a:pt x="4846" y="669"/>
                </a:lnTo>
                <a:lnTo>
                  <a:pt x="4849" y="707"/>
                </a:lnTo>
                <a:lnTo>
                  <a:pt x="4852" y="746"/>
                </a:lnTo>
                <a:lnTo>
                  <a:pt x="4855" y="787"/>
                </a:lnTo>
                <a:lnTo>
                  <a:pt x="4858" y="830"/>
                </a:lnTo>
                <a:lnTo>
                  <a:pt x="4861" y="872"/>
                </a:lnTo>
                <a:lnTo>
                  <a:pt x="4864" y="912"/>
                </a:lnTo>
                <a:lnTo>
                  <a:pt x="4866" y="951"/>
                </a:lnTo>
                <a:lnTo>
                  <a:pt x="4870" y="987"/>
                </a:lnTo>
                <a:lnTo>
                  <a:pt x="4873" y="1019"/>
                </a:lnTo>
                <a:lnTo>
                  <a:pt x="4875" y="1048"/>
                </a:lnTo>
                <a:lnTo>
                  <a:pt x="4878" y="1070"/>
                </a:lnTo>
                <a:lnTo>
                  <a:pt x="4881" y="1088"/>
                </a:lnTo>
                <a:lnTo>
                  <a:pt x="4884" y="1100"/>
                </a:lnTo>
                <a:lnTo>
                  <a:pt x="4887" y="1106"/>
                </a:lnTo>
                <a:lnTo>
                  <a:pt x="4890" y="1106"/>
                </a:lnTo>
                <a:lnTo>
                  <a:pt x="4893" y="1099"/>
                </a:lnTo>
                <a:lnTo>
                  <a:pt x="4895" y="1086"/>
                </a:lnTo>
                <a:lnTo>
                  <a:pt x="4899" y="1067"/>
                </a:lnTo>
                <a:lnTo>
                  <a:pt x="4902" y="1042"/>
                </a:lnTo>
                <a:lnTo>
                  <a:pt x="4904" y="1012"/>
                </a:lnTo>
                <a:lnTo>
                  <a:pt x="4907" y="978"/>
                </a:lnTo>
                <a:lnTo>
                  <a:pt x="4910" y="940"/>
                </a:lnTo>
                <a:lnTo>
                  <a:pt x="4913" y="899"/>
                </a:lnTo>
                <a:lnTo>
                  <a:pt x="4916" y="855"/>
                </a:lnTo>
                <a:lnTo>
                  <a:pt x="4919" y="811"/>
                </a:lnTo>
                <a:lnTo>
                  <a:pt x="4922" y="766"/>
                </a:lnTo>
                <a:lnTo>
                  <a:pt x="4924" y="722"/>
                </a:lnTo>
                <a:lnTo>
                  <a:pt x="4928" y="679"/>
                </a:lnTo>
                <a:lnTo>
                  <a:pt x="4931" y="639"/>
                </a:lnTo>
                <a:lnTo>
                  <a:pt x="4933" y="602"/>
                </a:lnTo>
                <a:lnTo>
                  <a:pt x="4936" y="569"/>
                </a:lnTo>
                <a:lnTo>
                  <a:pt x="4939" y="541"/>
                </a:lnTo>
                <a:lnTo>
                  <a:pt x="4942" y="519"/>
                </a:lnTo>
                <a:lnTo>
                  <a:pt x="4944" y="501"/>
                </a:lnTo>
                <a:lnTo>
                  <a:pt x="4948" y="491"/>
                </a:lnTo>
                <a:lnTo>
                  <a:pt x="4951" y="487"/>
                </a:lnTo>
                <a:lnTo>
                  <a:pt x="4953" y="489"/>
                </a:lnTo>
                <a:lnTo>
                  <a:pt x="4957" y="498"/>
                </a:lnTo>
                <a:lnTo>
                  <a:pt x="4959" y="512"/>
                </a:lnTo>
                <a:lnTo>
                  <a:pt x="4962" y="533"/>
                </a:lnTo>
                <a:lnTo>
                  <a:pt x="4965" y="559"/>
                </a:lnTo>
                <a:lnTo>
                  <a:pt x="4968" y="590"/>
                </a:lnTo>
                <a:lnTo>
                  <a:pt x="4971" y="626"/>
                </a:lnTo>
                <a:lnTo>
                  <a:pt x="4973" y="664"/>
                </a:lnTo>
                <a:lnTo>
                  <a:pt x="4977" y="705"/>
                </a:lnTo>
                <a:lnTo>
                  <a:pt x="4980" y="748"/>
                </a:lnTo>
                <a:lnTo>
                  <a:pt x="4982" y="792"/>
                </a:lnTo>
                <a:lnTo>
                  <a:pt x="4986" y="835"/>
                </a:lnTo>
                <a:lnTo>
                  <a:pt x="4988" y="878"/>
                </a:lnTo>
                <a:lnTo>
                  <a:pt x="4991" y="918"/>
                </a:lnTo>
                <a:lnTo>
                  <a:pt x="4994" y="955"/>
                </a:lnTo>
                <a:lnTo>
                  <a:pt x="4997" y="989"/>
                </a:lnTo>
                <a:lnTo>
                  <a:pt x="5000" y="1019"/>
                </a:lnTo>
                <a:lnTo>
                  <a:pt x="5002" y="1043"/>
                </a:lnTo>
                <a:lnTo>
                  <a:pt x="5006" y="1062"/>
                </a:lnTo>
                <a:lnTo>
                  <a:pt x="5009" y="1077"/>
                </a:lnTo>
                <a:lnTo>
                  <a:pt x="5011" y="1085"/>
                </a:lnTo>
                <a:lnTo>
                  <a:pt x="5015" y="1086"/>
                </a:lnTo>
                <a:lnTo>
                  <a:pt x="5017" y="1081"/>
                </a:lnTo>
                <a:lnTo>
                  <a:pt x="5020" y="1070"/>
                </a:lnTo>
                <a:lnTo>
                  <a:pt x="5023" y="1055"/>
                </a:lnTo>
                <a:lnTo>
                  <a:pt x="5026" y="1033"/>
                </a:lnTo>
                <a:lnTo>
                  <a:pt x="5029" y="1007"/>
                </a:lnTo>
                <a:lnTo>
                  <a:pt x="5031" y="977"/>
                </a:lnTo>
                <a:lnTo>
                  <a:pt x="5035" y="943"/>
                </a:lnTo>
                <a:lnTo>
                  <a:pt x="5037" y="908"/>
                </a:lnTo>
                <a:lnTo>
                  <a:pt x="5040" y="870"/>
                </a:lnTo>
                <a:lnTo>
                  <a:pt x="5044" y="831"/>
                </a:lnTo>
                <a:lnTo>
                  <a:pt x="5046" y="791"/>
                </a:lnTo>
                <a:lnTo>
                  <a:pt x="5049" y="753"/>
                </a:lnTo>
                <a:lnTo>
                  <a:pt x="5051" y="716"/>
                </a:lnTo>
                <a:lnTo>
                  <a:pt x="5055" y="681"/>
                </a:lnTo>
                <a:lnTo>
                  <a:pt x="5058" y="649"/>
                </a:lnTo>
                <a:lnTo>
                  <a:pt x="5060" y="621"/>
                </a:lnTo>
                <a:lnTo>
                  <a:pt x="5064" y="598"/>
                </a:lnTo>
                <a:lnTo>
                  <a:pt x="5066" y="579"/>
                </a:lnTo>
                <a:lnTo>
                  <a:pt x="5069" y="565"/>
                </a:lnTo>
                <a:lnTo>
                  <a:pt x="5073" y="556"/>
                </a:lnTo>
                <a:lnTo>
                  <a:pt x="5075" y="552"/>
                </a:lnTo>
                <a:lnTo>
                  <a:pt x="5078" y="553"/>
                </a:lnTo>
                <a:lnTo>
                  <a:pt x="5080" y="560"/>
                </a:lnTo>
                <a:lnTo>
                  <a:pt x="5084" y="572"/>
                </a:lnTo>
                <a:lnTo>
                  <a:pt x="5087" y="589"/>
                </a:lnTo>
                <a:lnTo>
                  <a:pt x="5089" y="609"/>
                </a:lnTo>
                <a:lnTo>
                  <a:pt x="5093" y="634"/>
                </a:lnTo>
                <a:lnTo>
                  <a:pt x="5095" y="661"/>
                </a:lnTo>
                <a:lnTo>
                  <a:pt x="5098" y="690"/>
                </a:lnTo>
                <a:lnTo>
                  <a:pt x="5102" y="722"/>
                </a:lnTo>
                <a:lnTo>
                  <a:pt x="5104" y="754"/>
                </a:lnTo>
                <a:lnTo>
                  <a:pt x="5107" y="7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998640" y="2619360"/>
            <a:ext cx="1439640" cy="1076400"/>
          </a:xfrm>
          <a:custGeom>
            <a:avLst/>
            <a:gdLst/>
            <a:ahLst/>
            <a:rect l="l" t="t" r="r" b="b"/>
            <a:pathLst>
              <a:path w="6380" h="2083">
                <a:moveTo>
                  <a:pt x="0" y="1104"/>
                </a:moveTo>
                <a:lnTo>
                  <a:pt x="1" y="1352"/>
                </a:lnTo>
                <a:lnTo>
                  <a:pt x="2" y="917"/>
                </a:lnTo>
                <a:lnTo>
                  <a:pt x="3" y="655"/>
                </a:lnTo>
                <a:lnTo>
                  <a:pt x="6" y="1021"/>
                </a:lnTo>
                <a:lnTo>
                  <a:pt x="7" y="1480"/>
                </a:lnTo>
                <a:lnTo>
                  <a:pt x="8" y="1454"/>
                </a:lnTo>
                <a:lnTo>
                  <a:pt x="9" y="789"/>
                </a:lnTo>
                <a:lnTo>
                  <a:pt x="10" y="1246"/>
                </a:lnTo>
                <a:lnTo>
                  <a:pt x="11" y="1236"/>
                </a:lnTo>
                <a:lnTo>
                  <a:pt x="12" y="1063"/>
                </a:lnTo>
                <a:lnTo>
                  <a:pt x="14" y="846"/>
                </a:lnTo>
                <a:lnTo>
                  <a:pt x="15" y="796"/>
                </a:lnTo>
                <a:lnTo>
                  <a:pt x="17" y="1039"/>
                </a:lnTo>
                <a:lnTo>
                  <a:pt x="18" y="936"/>
                </a:lnTo>
                <a:lnTo>
                  <a:pt x="19" y="594"/>
                </a:lnTo>
                <a:lnTo>
                  <a:pt x="20" y="641"/>
                </a:lnTo>
                <a:lnTo>
                  <a:pt x="21" y="948"/>
                </a:lnTo>
                <a:lnTo>
                  <a:pt x="22" y="823"/>
                </a:lnTo>
                <a:lnTo>
                  <a:pt x="24" y="983"/>
                </a:lnTo>
                <a:lnTo>
                  <a:pt x="25" y="1038"/>
                </a:lnTo>
                <a:lnTo>
                  <a:pt x="26" y="794"/>
                </a:lnTo>
                <a:lnTo>
                  <a:pt x="28" y="1117"/>
                </a:lnTo>
                <a:lnTo>
                  <a:pt x="29" y="606"/>
                </a:lnTo>
                <a:lnTo>
                  <a:pt x="30" y="874"/>
                </a:lnTo>
                <a:lnTo>
                  <a:pt x="31" y="769"/>
                </a:lnTo>
                <a:lnTo>
                  <a:pt x="32" y="1615"/>
                </a:lnTo>
                <a:lnTo>
                  <a:pt x="34" y="843"/>
                </a:lnTo>
                <a:lnTo>
                  <a:pt x="35" y="954"/>
                </a:lnTo>
                <a:lnTo>
                  <a:pt x="36" y="752"/>
                </a:lnTo>
                <a:lnTo>
                  <a:pt x="37" y="512"/>
                </a:lnTo>
                <a:lnTo>
                  <a:pt x="39" y="374"/>
                </a:lnTo>
                <a:lnTo>
                  <a:pt x="40" y="1316"/>
                </a:lnTo>
                <a:lnTo>
                  <a:pt x="41" y="1111"/>
                </a:lnTo>
                <a:lnTo>
                  <a:pt x="43" y="690"/>
                </a:lnTo>
                <a:lnTo>
                  <a:pt x="44" y="1114"/>
                </a:lnTo>
                <a:lnTo>
                  <a:pt x="45" y="887"/>
                </a:lnTo>
                <a:lnTo>
                  <a:pt x="46" y="926"/>
                </a:lnTo>
                <a:lnTo>
                  <a:pt x="47" y="1279"/>
                </a:lnTo>
                <a:lnTo>
                  <a:pt x="48" y="963"/>
                </a:lnTo>
                <a:lnTo>
                  <a:pt x="49" y="541"/>
                </a:lnTo>
                <a:lnTo>
                  <a:pt x="51" y="1266"/>
                </a:lnTo>
                <a:lnTo>
                  <a:pt x="53" y="1526"/>
                </a:lnTo>
                <a:lnTo>
                  <a:pt x="54" y="1093"/>
                </a:lnTo>
                <a:lnTo>
                  <a:pt x="55" y="878"/>
                </a:lnTo>
                <a:lnTo>
                  <a:pt x="56" y="1489"/>
                </a:lnTo>
                <a:lnTo>
                  <a:pt x="57" y="630"/>
                </a:lnTo>
                <a:lnTo>
                  <a:pt x="58" y="677"/>
                </a:lnTo>
                <a:lnTo>
                  <a:pt x="59" y="1107"/>
                </a:lnTo>
                <a:lnTo>
                  <a:pt x="60" y="1158"/>
                </a:lnTo>
                <a:lnTo>
                  <a:pt x="63" y="883"/>
                </a:lnTo>
                <a:lnTo>
                  <a:pt x="64" y="1346"/>
                </a:lnTo>
                <a:lnTo>
                  <a:pt x="65" y="679"/>
                </a:lnTo>
                <a:lnTo>
                  <a:pt x="66" y="1151"/>
                </a:lnTo>
                <a:lnTo>
                  <a:pt x="67" y="626"/>
                </a:lnTo>
                <a:lnTo>
                  <a:pt x="68" y="1028"/>
                </a:lnTo>
                <a:lnTo>
                  <a:pt x="69" y="1226"/>
                </a:lnTo>
                <a:lnTo>
                  <a:pt x="70" y="1381"/>
                </a:lnTo>
                <a:lnTo>
                  <a:pt x="72" y="771"/>
                </a:lnTo>
                <a:lnTo>
                  <a:pt x="74" y="1145"/>
                </a:lnTo>
                <a:lnTo>
                  <a:pt x="75" y="728"/>
                </a:lnTo>
                <a:lnTo>
                  <a:pt x="76" y="563"/>
                </a:lnTo>
                <a:lnTo>
                  <a:pt x="77" y="770"/>
                </a:lnTo>
                <a:lnTo>
                  <a:pt x="78" y="1609"/>
                </a:lnTo>
                <a:lnTo>
                  <a:pt x="79" y="1104"/>
                </a:lnTo>
                <a:lnTo>
                  <a:pt x="80" y="1143"/>
                </a:lnTo>
                <a:lnTo>
                  <a:pt x="82" y="794"/>
                </a:lnTo>
                <a:lnTo>
                  <a:pt x="83" y="1283"/>
                </a:lnTo>
                <a:lnTo>
                  <a:pt x="85" y="683"/>
                </a:lnTo>
                <a:lnTo>
                  <a:pt x="86" y="791"/>
                </a:lnTo>
                <a:lnTo>
                  <a:pt x="87" y="1142"/>
                </a:lnTo>
                <a:lnTo>
                  <a:pt x="88" y="1108"/>
                </a:lnTo>
                <a:lnTo>
                  <a:pt x="89" y="1285"/>
                </a:lnTo>
                <a:lnTo>
                  <a:pt x="90" y="889"/>
                </a:lnTo>
                <a:lnTo>
                  <a:pt x="92" y="977"/>
                </a:lnTo>
                <a:lnTo>
                  <a:pt x="93" y="875"/>
                </a:lnTo>
                <a:lnTo>
                  <a:pt x="94" y="1219"/>
                </a:lnTo>
                <a:lnTo>
                  <a:pt x="96" y="884"/>
                </a:lnTo>
                <a:lnTo>
                  <a:pt x="97" y="1077"/>
                </a:lnTo>
                <a:lnTo>
                  <a:pt x="98" y="940"/>
                </a:lnTo>
                <a:lnTo>
                  <a:pt x="99" y="806"/>
                </a:lnTo>
                <a:lnTo>
                  <a:pt x="101" y="1221"/>
                </a:lnTo>
                <a:lnTo>
                  <a:pt x="102" y="1628"/>
                </a:lnTo>
                <a:lnTo>
                  <a:pt x="103" y="1436"/>
                </a:lnTo>
                <a:lnTo>
                  <a:pt x="104" y="1659"/>
                </a:lnTo>
                <a:lnTo>
                  <a:pt x="105" y="1145"/>
                </a:lnTo>
                <a:lnTo>
                  <a:pt x="106" y="855"/>
                </a:lnTo>
                <a:lnTo>
                  <a:pt x="108" y="1586"/>
                </a:lnTo>
                <a:lnTo>
                  <a:pt x="109" y="626"/>
                </a:lnTo>
                <a:lnTo>
                  <a:pt x="111" y="830"/>
                </a:lnTo>
                <a:lnTo>
                  <a:pt x="112" y="1220"/>
                </a:lnTo>
                <a:lnTo>
                  <a:pt x="113" y="929"/>
                </a:lnTo>
                <a:lnTo>
                  <a:pt x="114" y="1189"/>
                </a:lnTo>
                <a:lnTo>
                  <a:pt x="115" y="1147"/>
                </a:lnTo>
                <a:lnTo>
                  <a:pt x="116" y="1507"/>
                </a:lnTo>
                <a:lnTo>
                  <a:pt x="117" y="1029"/>
                </a:lnTo>
                <a:lnTo>
                  <a:pt x="119" y="1045"/>
                </a:lnTo>
                <a:lnTo>
                  <a:pt x="121" y="845"/>
                </a:lnTo>
                <a:lnTo>
                  <a:pt x="122" y="390"/>
                </a:lnTo>
                <a:lnTo>
                  <a:pt x="123" y="838"/>
                </a:lnTo>
                <a:lnTo>
                  <a:pt x="124" y="663"/>
                </a:lnTo>
                <a:lnTo>
                  <a:pt x="125" y="1205"/>
                </a:lnTo>
                <a:lnTo>
                  <a:pt x="126" y="925"/>
                </a:lnTo>
                <a:lnTo>
                  <a:pt x="127" y="769"/>
                </a:lnTo>
                <a:lnTo>
                  <a:pt x="128" y="901"/>
                </a:lnTo>
                <a:lnTo>
                  <a:pt x="131" y="1358"/>
                </a:lnTo>
                <a:lnTo>
                  <a:pt x="132" y="946"/>
                </a:lnTo>
                <a:lnTo>
                  <a:pt x="133" y="697"/>
                </a:lnTo>
                <a:lnTo>
                  <a:pt x="134" y="1238"/>
                </a:lnTo>
                <a:lnTo>
                  <a:pt x="135" y="865"/>
                </a:lnTo>
                <a:lnTo>
                  <a:pt x="136" y="811"/>
                </a:lnTo>
                <a:lnTo>
                  <a:pt x="137" y="1012"/>
                </a:lnTo>
                <a:lnTo>
                  <a:pt x="138" y="718"/>
                </a:lnTo>
                <a:lnTo>
                  <a:pt x="140" y="690"/>
                </a:lnTo>
                <a:lnTo>
                  <a:pt x="142" y="1415"/>
                </a:lnTo>
                <a:lnTo>
                  <a:pt x="143" y="1004"/>
                </a:lnTo>
                <a:lnTo>
                  <a:pt x="144" y="1001"/>
                </a:lnTo>
                <a:lnTo>
                  <a:pt x="145" y="1354"/>
                </a:lnTo>
                <a:lnTo>
                  <a:pt x="146" y="1074"/>
                </a:lnTo>
                <a:lnTo>
                  <a:pt x="147" y="1169"/>
                </a:lnTo>
                <a:lnTo>
                  <a:pt x="148" y="816"/>
                </a:lnTo>
                <a:lnTo>
                  <a:pt x="150" y="1253"/>
                </a:lnTo>
                <a:lnTo>
                  <a:pt x="151" y="831"/>
                </a:lnTo>
                <a:lnTo>
                  <a:pt x="153" y="1240"/>
                </a:lnTo>
                <a:lnTo>
                  <a:pt x="154" y="1035"/>
                </a:lnTo>
                <a:lnTo>
                  <a:pt x="155" y="1163"/>
                </a:lnTo>
                <a:lnTo>
                  <a:pt x="156" y="503"/>
                </a:lnTo>
                <a:lnTo>
                  <a:pt x="157" y="806"/>
                </a:lnTo>
                <a:lnTo>
                  <a:pt x="159" y="1071"/>
                </a:lnTo>
                <a:lnTo>
                  <a:pt x="160" y="821"/>
                </a:lnTo>
                <a:lnTo>
                  <a:pt x="161" y="1091"/>
                </a:lnTo>
                <a:lnTo>
                  <a:pt x="162" y="1365"/>
                </a:lnTo>
                <a:lnTo>
                  <a:pt x="164" y="1000"/>
                </a:lnTo>
                <a:lnTo>
                  <a:pt x="165" y="1283"/>
                </a:lnTo>
                <a:lnTo>
                  <a:pt x="166" y="941"/>
                </a:lnTo>
                <a:lnTo>
                  <a:pt x="167" y="458"/>
                </a:lnTo>
                <a:lnTo>
                  <a:pt x="169" y="1181"/>
                </a:lnTo>
                <a:lnTo>
                  <a:pt x="170" y="755"/>
                </a:lnTo>
                <a:lnTo>
                  <a:pt x="171" y="600"/>
                </a:lnTo>
                <a:lnTo>
                  <a:pt x="172" y="968"/>
                </a:lnTo>
                <a:lnTo>
                  <a:pt x="173" y="1220"/>
                </a:lnTo>
                <a:lnTo>
                  <a:pt x="174" y="1095"/>
                </a:lnTo>
                <a:lnTo>
                  <a:pt x="176" y="1113"/>
                </a:lnTo>
                <a:lnTo>
                  <a:pt x="177" y="1136"/>
                </a:lnTo>
                <a:lnTo>
                  <a:pt x="179" y="844"/>
                </a:lnTo>
                <a:lnTo>
                  <a:pt x="180" y="1305"/>
                </a:lnTo>
                <a:lnTo>
                  <a:pt x="181" y="1231"/>
                </a:lnTo>
                <a:lnTo>
                  <a:pt x="182" y="1116"/>
                </a:lnTo>
                <a:lnTo>
                  <a:pt x="183" y="1019"/>
                </a:lnTo>
                <a:lnTo>
                  <a:pt x="184" y="624"/>
                </a:lnTo>
                <a:lnTo>
                  <a:pt x="185" y="766"/>
                </a:lnTo>
                <a:lnTo>
                  <a:pt x="188" y="768"/>
                </a:lnTo>
                <a:lnTo>
                  <a:pt x="189" y="1734"/>
                </a:lnTo>
                <a:lnTo>
                  <a:pt x="190" y="1243"/>
                </a:lnTo>
                <a:lnTo>
                  <a:pt x="191" y="1002"/>
                </a:lnTo>
                <a:lnTo>
                  <a:pt x="192" y="1084"/>
                </a:lnTo>
                <a:lnTo>
                  <a:pt x="193" y="700"/>
                </a:lnTo>
                <a:lnTo>
                  <a:pt x="194" y="928"/>
                </a:lnTo>
                <a:lnTo>
                  <a:pt x="195" y="1040"/>
                </a:lnTo>
                <a:lnTo>
                  <a:pt x="196" y="843"/>
                </a:lnTo>
                <a:lnTo>
                  <a:pt x="199" y="716"/>
                </a:lnTo>
                <a:lnTo>
                  <a:pt x="200" y="1413"/>
                </a:lnTo>
                <a:lnTo>
                  <a:pt x="201" y="923"/>
                </a:lnTo>
                <a:lnTo>
                  <a:pt x="202" y="979"/>
                </a:lnTo>
                <a:lnTo>
                  <a:pt x="203" y="1120"/>
                </a:lnTo>
                <a:lnTo>
                  <a:pt x="204" y="823"/>
                </a:lnTo>
                <a:lnTo>
                  <a:pt x="205" y="840"/>
                </a:lnTo>
                <a:lnTo>
                  <a:pt x="207" y="1160"/>
                </a:lnTo>
                <a:lnTo>
                  <a:pt x="208" y="694"/>
                </a:lnTo>
                <a:lnTo>
                  <a:pt x="210" y="1208"/>
                </a:lnTo>
                <a:lnTo>
                  <a:pt x="211" y="1261"/>
                </a:lnTo>
                <a:lnTo>
                  <a:pt x="212" y="807"/>
                </a:lnTo>
                <a:lnTo>
                  <a:pt x="213" y="569"/>
                </a:lnTo>
                <a:lnTo>
                  <a:pt x="214" y="1219"/>
                </a:lnTo>
                <a:lnTo>
                  <a:pt x="215" y="681"/>
                </a:lnTo>
                <a:lnTo>
                  <a:pt x="217" y="993"/>
                </a:lnTo>
                <a:lnTo>
                  <a:pt x="218" y="1270"/>
                </a:lnTo>
                <a:lnTo>
                  <a:pt x="219" y="1214"/>
                </a:lnTo>
                <a:lnTo>
                  <a:pt x="221" y="1219"/>
                </a:lnTo>
                <a:lnTo>
                  <a:pt x="222" y="1391"/>
                </a:lnTo>
                <a:lnTo>
                  <a:pt x="223" y="1036"/>
                </a:lnTo>
                <a:lnTo>
                  <a:pt x="224" y="518"/>
                </a:lnTo>
                <a:lnTo>
                  <a:pt x="225" y="606"/>
                </a:lnTo>
                <a:lnTo>
                  <a:pt x="227" y="1055"/>
                </a:lnTo>
                <a:lnTo>
                  <a:pt x="228" y="940"/>
                </a:lnTo>
                <a:lnTo>
                  <a:pt x="229" y="925"/>
                </a:lnTo>
                <a:lnTo>
                  <a:pt x="230" y="1322"/>
                </a:lnTo>
                <a:lnTo>
                  <a:pt x="231" y="1397"/>
                </a:lnTo>
                <a:lnTo>
                  <a:pt x="233" y="1118"/>
                </a:lnTo>
                <a:lnTo>
                  <a:pt x="234" y="929"/>
                </a:lnTo>
                <a:lnTo>
                  <a:pt x="236" y="1083"/>
                </a:lnTo>
                <a:lnTo>
                  <a:pt x="237" y="894"/>
                </a:lnTo>
                <a:lnTo>
                  <a:pt x="238" y="840"/>
                </a:lnTo>
                <a:lnTo>
                  <a:pt x="239" y="719"/>
                </a:lnTo>
                <a:lnTo>
                  <a:pt x="240" y="841"/>
                </a:lnTo>
                <a:lnTo>
                  <a:pt x="241" y="926"/>
                </a:lnTo>
                <a:lnTo>
                  <a:pt x="242" y="1409"/>
                </a:lnTo>
                <a:lnTo>
                  <a:pt x="244" y="722"/>
                </a:lnTo>
                <a:lnTo>
                  <a:pt x="246" y="1205"/>
                </a:lnTo>
                <a:lnTo>
                  <a:pt x="247" y="1227"/>
                </a:lnTo>
                <a:lnTo>
                  <a:pt x="248" y="387"/>
                </a:lnTo>
                <a:lnTo>
                  <a:pt x="249" y="1016"/>
                </a:lnTo>
                <a:lnTo>
                  <a:pt x="250" y="1394"/>
                </a:lnTo>
                <a:lnTo>
                  <a:pt x="251" y="806"/>
                </a:lnTo>
                <a:lnTo>
                  <a:pt x="252" y="1158"/>
                </a:lnTo>
                <a:lnTo>
                  <a:pt x="253" y="1032"/>
                </a:lnTo>
                <a:lnTo>
                  <a:pt x="256" y="1257"/>
                </a:lnTo>
                <a:lnTo>
                  <a:pt x="257" y="827"/>
                </a:lnTo>
                <a:lnTo>
                  <a:pt x="258" y="717"/>
                </a:lnTo>
                <a:lnTo>
                  <a:pt x="259" y="882"/>
                </a:lnTo>
                <a:lnTo>
                  <a:pt x="260" y="1231"/>
                </a:lnTo>
                <a:lnTo>
                  <a:pt x="261" y="756"/>
                </a:lnTo>
                <a:lnTo>
                  <a:pt x="262" y="1272"/>
                </a:lnTo>
                <a:lnTo>
                  <a:pt x="263" y="1179"/>
                </a:lnTo>
                <a:lnTo>
                  <a:pt x="265" y="877"/>
                </a:lnTo>
                <a:lnTo>
                  <a:pt x="267" y="862"/>
                </a:lnTo>
                <a:lnTo>
                  <a:pt x="268" y="1516"/>
                </a:lnTo>
                <a:lnTo>
                  <a:pt x="269" y="1017"/>
                </a:lnTo>
                <a:lnTo>
                  <a:pt x="270" y="962"/>
                </a:lnTo>
                <a:lnTo>
                  <a:pt x="271" y="956"/>
                </a:lnTo>
                <a:lnTo>
                  <a:pt x="272" y="801"/>
                </a:lnTo>
                <a:lnTo>
                  <a:pt x="273" y="829"/>
                </a:lnTo>
                <a:lnTo>
                  <a:pt x="275" y="1045"/>
                </a:lnTo>
                <a:lnTo>
                  <a:pt x="276" y="1247"/>
                </a:lnTo>
                <a:lnTo>
                  <a:pt x="278" y="1049"/>
                </a:lnTo>
                <a:lnTo>
                  <a:pt x="279" y="1103"/>
                </a:lnTo>
                <a:lnTo>
                  <a:pt x="280" y="879"/>
                </a:lnTo>
                <a:lnTo>
                  <a:pt x="281" y="1188"/>
                </a:lnTo>
                <a:lnTo>
                  <a:pt x="282" y="1231"/>
                </a:lnTo>
                <a:lnTo>
                  <a:pt x="283" y="1111"/>
                </a:lnTo>
                <a:lnTo>
                  <a:pt x="285" y="1324"/>
                </a:lnTo>
                <a:lnTo>
                  <a:pt x="286" y="1377"/>
                </a:lnTo>
                <a:lnTo>
                  <a:pt x="287" y="643"/>
                </a:lnTo>
                <a:lnTo>
                  <a:pt x="289" y="1102"/>
                </a:lnTo>
                <a:lnTo>
                  <a:pt x="290" y="756"/>
                </a:lnTo>
                <a:lnTo>
                  <a:pt x="291" y="534"/>
                </a:lnTo>
                <a:lnTo>
                  <a:pt x="292" y="499"/>
                </a:lnTo>
                <a:lnTo>
                  <a:pt x="294" y="1111"/>
                </a:lnTo>
                <a:lnTo>
                  <a:pt x="295" y="1172"/>
                </a:lnTo>
                <a:lnTo>
                  <a:pt x="296" y="968"/>
                </a:lnTo>
                <a:lnTo>
                  <a:pt x="297" y="1152"/>
                </a:lnTo>
                <a:lnTo>
                  <a:pt x="298" y="1020"/>
                </a:lnTo>
                <a:lnTo>
                  <a:pt x="299" y="907"/>
                </a:lnTo>
                <a:lnTo>
                  <a:pt x="301" y="1355"/>
                </a:lnTo>
                <a:lnTo>
                  <a:pt x="302" y="953"/>
                </a:lnTo>
                <a:lnTo>
                  <a:pt x="304" y="685"/>
                </a:lnTo>
                <a:lnTo>
                  <a:pt x="305" y="1161"/>
                </a:lnTo>
                <a:lnTo>
                  <a:pt x="306" y="893"/>
                </a:lnTo>
                <a:lnTo>
                  <a:pt x="307" y="941"/>
                </a:lnTo>
                <a:lnTo>
                  <a:pt x="308" y="797"/>
                </a:lnTo>
                <a:lnTo>
                  <a:pt x="309" y="834"/>
                </a:lnTo>
                <a:lnTo>
                  <a:pt x="310" y="609"/>
                </a:lnTo>
                <a:lnTo>
                  <a:pt x="312" y="1284"/>
                </a:lnTo>
                <a:lnTo>
                  <a:pt x="314" y="507"/>
                </a:lnTo>
                <a:lnTo>
                  <a:pt x="315" y="1238"/>
                </a:lnTo>
                <a:lnTo>
                  <a:pt x="316" y="884"/>
                </a:lnTo>
                <a:lnTo>
                  <a:pt x="317" y="768"/>
                </a:lnTo>
                <a:lnTo>
                  <a:pt x="318" y="1323"/>
                </a:lnTo>
                <a:lnTo>
                  <a:pt x="319" y="1299"/>
                </a:lnTo>
                <a:lnTo>
                  <a:pt x="320" y="466"/>
                </a:lnTo>
                <a:lnTo>
                  <a:pt x="321" y="1029"/>
                </a:lnTo>
                <a:lnTo>
                  <a:pt x="324" y="895"/>
                </a:lnTo>
                <a:lnTo>
                  <a:pt x="325" y="1067"/>
                </a:lnTo>
                <a:lnTo>
                  <a:pt x="326" y="688"/>
                </a:lnTo>
                <a:lnTo>
                  <a:pt x="327" y="1255"/>
                </a:lnTo>
                <a:lnTo>
                  <a:pt x="328" y="1237"/>
                </a:lnTo>
                <a:lnTo>
                  <a:pt x="329" y="867"/>
                </a:lnTo>
                <a:lnTo>
                  <a:pt x="330" y="997"/>
                </a:lnTo>
                <a:lnTo>
                  <a:pt x="331" y="1287"/>
                </a:lnTo>
                <a:lnTo>
                  <a:pt x="333" y="973"/>
                </a:lnTo>
                <a:lnTo>
                  <a:pt x="335" y="556"/>
                </a:lnTo>
                <a:lnTo>
                  <a:pt x="336" y="801"/>
                </a:lnTo>
                <a:lnTo>
                  <a:pt x="337" y="1124"/>
                </a:lnTo>
                <a:lnTo>
                  <a:pt x="338" y="784"/>
                </a:lnTo>
                <a:lnTo>
                  <a:pt x="339" y="1355"/>
                </a:lnTo>
                <a:lnTo>
                  <a:pt x="340" y="972"/>
                </a:lnTo>
                <a:lnTo>
                  <a:pt x="341" y="1042"/>
                </a:lnTo>
                <a:lnTo>
                  <a:pt x="343" y="1157"/>
                </a:lnTo>
                <a:lnTo>
                  <a:pt x="344" y="1229"/>
                </a:lnTo>
                <a:lnTo>
                  <a:pt x="346" y="963"/>
                </a:lnTo>
                <a:lnTo>
                  <a:pt x="347" y="1016"/>
                </a:lnTo>
                <a:lnTo>
                  <a:pt x="348" y="1080"/>
                </a:lnTo>
                <a:lnTo>
                  <a:pt x="349" y="1112"/>
                </a:lnTo>
                <a:lnTo>
                  <a:pt x="350" y="907"/>
                </a:lnTo>
                <a:lnTo>
                  <a:pt x="352" y="979"/>
                </a:lnTo>
                <a:lnTo>
                  <a:pt x="353" y="1355"/>
                </a:lnTo>
                <a:lnTo>
                  <a:pt x="354" y="1147"/>
                </a:lnTo>
                <a:lnTo>
                  <a:pt x="355" y="716"/>
                </a:lnTo>
                <a:lnTo>
                  <a:pt x="356" y="1072"/>
                </a:lnTo>
                <a:lnTo>
                  <a:pt x="358" y="1621"/>
                </a:lnTo>
                <a:lnTo>
                  <a:pt x="359" y="868"/>
                </a:lnTo>
                <a:lnTo>
                  <a:pt x="360" y="966"/>
                </a:lnTo>
                <a:lnTo>
                  <a:pt x="362" y="1307"/>
                </a:lnTo>
                <a:lnTo>
                  <a:pt x="363" y="1276"/>
                </a:lnTo>
                <a:lnTo>
                  <a:pt x="364" y="800"/>
                </a:lnTo>
                <a:lnTo>
                  <a:pt x="365" y="996"/>
                </a:lnTo>
                <a:lnTo>
                  <a:pt x="366" y="1127"/>
                </a:lnTo>
                <a:lnTo>
                  <a:pt x="367" y="805"/>
                </a:lnTo>
                <a:lnTo>
                  <a:pt x="369" y="297"/>
                </a:lnTo>
                <a:lnTo>
                  <a:pt x="370" y="657"/>
                </a:lnTo>
                <a:lnTo>
                  <a:pt x="372" y="1156"/>
                </a:lnTo>
                <a:lnTo>
                  <a:pt x="373" y="741"/>
                </a:lnTo>
                <a:lnTo>
                  <a:pt x="374" y="775"/>
                </a:lnTo>
                <a:lnTo>
                  <a:pt x="375" y="876"/>
                </a:lnTo>
                <a:lnTo>
                  <a:pt x="376" y="922"/>
                </a:lnTo>
                <a:lnTo>
                  <a:pt x="377" y="1121"/>
                </a:lnTo>
                <a:lnTo>
                  <a:pt x="378" y="995"/>
                </a:lnTo>
                <a:lnTo>
                  <a:pt x="381" y="757"/>
                </a:lnTo>
                <a:lnTo>
                  <a:pt x="382" y="1001"/>
                </a:lnTo>
                <a:lnTo>
                  <a:pt x="383" y="970"/>
                </a:lnTo>
                <a:lnTo>
                  <a:pt x="384" y="1097"/>
                </a:lnTo>
                <a:lnTo>
                  <a:pt x="385" y="644"/>
                </a:lnTo>
                <a:lnTo>
                  <a:pt x="386" y="726"/>
                </a:lnTo>
                <a:lnTo>
                  <a:pt x="387" y="670"/>
                </a:lnTo>
                <a:lnTo>
                  <a:pt x="388" y="897"/>
                </a:lnTo>
                <a:lnTo>
                  <a:pt x="389" y="1060"/>
                </a:lnTo>
                <a:lnTo>
                  <a:pt x="392" y="798"/>
                </a:lnTo>
                <a:lnTo>
                  <a:pt x="393" y="970"/>
                </a:lnTo>
                <a:lnTo>
                  <a:pt x="394" y="972"/>
                </a:lnTo>
                <a:lnTo>
                  <a:pt x="395" y="697"/>
                </a:lnTo>
                <a:lnTo>
                  <a:pt x="396" y="788"/>
                </a:lnTo>
                <a:lnTo>
                  <a:pt x="397" y="1274"/>
                </a:lnTo>
                <a:lnTo>
                  <a:pt x="398" y="1263"/>
                </a:lnTo>
                <a:lnTo>
                  <a:pt x="399" y="533"/>
                </a:lnTo>
                <a:lnTo>
                  <a:pt x="401" y="609"/>
                </a:lnTo>
                <a:lnTo>
                  <a:pt x="403" y="1227"/>
                </a:lnTo>
                <a:lnTo>
                  <a:pt x="404" y="963"/>
                </a:lnTo>
                <a:lnTo>
                  <a:pt x="405" y="1391"/>
                </a:lnTo>
                <a:lnTo>
                  <a:pt x="406" y="1312"/>
                </a:lnTo>
                <a:lnTo>
                  <a:pt x="407" y="1131"/>
                </a:lnTo>
                <a:lnTo>
                  <a:pt x="408" y="1364"/>
                </a:lnTo>
                <a:lnTo>
                  <a:pt x="410" y="992"/>
                </a:lnTo>
                <a:lnTo>
                  <a:pt x="411" y="975"/>
                </a:lnTo>
                <a:lnTo>
                  <a:pt x="412" y="1147"/>
                </a:lnTo>
                <a:lnTo>
                  <a:pt x="414" y="1106"/>
                </a:lnTo>
                <a:lnTo>
                  <a:pt x="415" y="1131"/>
                </a:lnTo>
                <a:lnTo>
                  <a:pt x="416" y="1030"/>
                </a:lnTo>
                <a:lnTo>
                  <a:pt x="417" y="821"/>
                </a:lnTo>
                <a:lnTo>
                  <a:pt x="418" y="775"/>
                </a:lnTo>
                <a:lnTo>
                  <a:pt x="420" y="1861"/>
                </a:lnTo>
                <a:lnTo>
                  <a:pt x="421" y="1170"/>
                </a:lnTo>
                <a:lnTo>
                  <a:pt x="422" y="1097"/>
                </a:lnTo>
                <a:lnTo>
                  <a:pt x="423" y="1081"/>
                </a:lnTo>
                <a:lnTo>
                  <a:pt x="424" y="668"/>
                </a:lnTo>
                <a:lnTo>
                  <a:pt x="426" y="1133"/>
                </a:lnTo>
                <a:lnTo>
                  <a:pt x="427" y="1250"/>
                </a:lnTo>
                <a:lnTo>
                  <a:pt x="428" y="304"/>
                </a:lnTo>
                <a:lnTo>
                  <a:pt x="430" y="592"/>
                </a:lnTo>
                <a:lnTo>
                  <a:pt x="431" y="814"/>
                </a:lnTo>
                <a:lnTo>
                  <a:pt x="432" y="1714"/>
                </a:lnTo>
                <a:lnTo>
                  <a:pt x="433" y="1142"/>
                </a:lnTo>
                <a:lnTo>
                  <a:pt x="434" y="1143"/>
                </a:lnTo>
                <a:lnTo>
                  <a:pt x="435" y="1324"/>
                </a:lnTo>
                <a:lnTo>
                  <a:pt x="437" y="1391"/>
                </a:lnTo>
                <a:lnTo>
                  <a:pt x="439" y="1055"/>
                </a:lnTo>
                <a:lnTo>
                  <a:pt x="440" y="1139"/>
                </a:lnTo>
                <a:lnTo>
                  <a:pt x="441" y="979"/>
                </a:lnTo>
                <a:lnTo>
                  <a:pt x="442" y="724"/>
                </a:lnTo>
                <a:lnTo>
                  <a:pt x="443" y="967"/>
                </a:lnTo>
                <a:lnTo>
                  <a:pt x="444" y="906"/>
                </a:lnTo>
                <a:lnTo>
                  <a:pt x="445" y="1108"/>
                </a:lnTo>
                <a:lnTo>
                  <a:pt x="446" y="1228"/>
                </a:lnTo>
                <a:lnTo>
                  <a:pt x="449" y="854"/>
                </a:lnTo>
                <a:lnTo>
                  <a:pt x="450" y="711"/>
                </a:lnTo>
                <a:lnTo>
                  <a:pt x="451" y="1454"/>
                </a:lnTo>
                <a:lnTo>
                  <a:pt x="452" y="745"/>
                </a:lnTo>
                <a:lnTo>
                  <a:pt x="453" y="395"/>
                </a:lnTo>
                <a:lnTo>
                  <a:pt x="454" y="923"/>
                </a:lnTo>
                <a:lnTo>
                  <a:pt x="455" y="1458"/>
                </a:lnTo>
                <a:lnTo>
                  <a:pt x="456" y="979"/>
                </a:lnTo>
                <a:lnTo>
                  <a:pt x="458" y="679"/>
                </a:lnTo>
                <a:lnTo>
                  <a:pt x="460" y="1347"/>
                </a:lnTo>
                <a:lnTo>
                  <a:pt x="461" y="1116"/>
                </a:lnTo>
                <a:lnTo>
                  <a:pt x="462" y="653"/>
                </a:lnTo>
                <a:lnTo>
                  <a:pt x="463" y="816"/>
                </a:lnTo>
                <a:lnTo>
                  <a:pt x="464" y="1112"/>
                </a:lnTo>
                <a:lnTo>
                  <a:pt x="465" y="915"/>
                </a:lnTo>
                <a:lnTo>
                  <a:pt x="466" y="700"/>
                </a:lnTo>
                <a:lnTo>
                  <a:pt x="468" y="769"/>
                </a:lnTo>
                <a:lnTo>
                  <a:pt x="469" y="1255"/>
                </a:lnTo>
                <a:lnTo>
                  <a:pt x="471" y="494"/>
                </a:lnTo>
                <a:lnTo>
                  <a:pt x="472" y="1465"/>
                </a:lnTo>
                <a:lnTo>
                  <a:pt x="473" y="915"/>
                </a:lnTo>
                <a:lnTo>
                  <a:pt x="474" y="1775"/>
                </a:lnTo>
                <a:lnTo>
                  <a:pt x="475" y="815"/>
                </a:lnTo>
                <a:lnTo>
                  <a:pt x="476" y="1366"/>
                </a:lnTo>
                <a:lnTo>
                  <a:pt x="478" y="1150"/>
                </a:lnTo>
                <a:lnTo>
                  <a:pt x="479" y="493"/>
                </a:lnTo>
                <a:lnTo>
                  <a:pt x="480" y="1216"/>
                </a:lnTo>
                <a:lnTo>
                  <a:pt x="481" y="1181"/>
                </a:lnTo>
                <a:lnTo>
                  <a:pt x="483" y="945"/>
                </a:lnTo>
                <a:lnTo>
                  <a:pt x="484" y="678"/>
                </a:lnTo>
                <a:lnTo>
                  <a:pt x="485" y="1253"/>
                </a:lnTo>
                <a:lnTo>
                  <a:pt x="487" y="757"/>
                </a:lnTo>
                <a:lnTo>
                  <a:pt x="488" y="1085"/>
                </a:lnTo>
                <a:lnTo>
                  <a:pt x="489" y="713"/>
                </a:lnTo>
                <a:lnTo>
                  <a:pt x="490" y="814"/>
                </a:lnTo>
                <a:lnTo>
                  <a:pt x="491" y="668"/>
                </a:lnTo>
                <a:lnTo>
                  <a:pt x="492" y="1080"/>
                </a:lnTo>
                <a:lnTo>
                  <a:pt x="494" y="1009"/>
                </a:lnTo>
                <a:lnTo>
                  <a:pt x="495" y="1075"/>
                </a:lnTo>
                <a:lnTo>
                  <a:pt x="497" y="449"/>
                </a:lnTo>
                <a:lnTo>
                  <a:pt x="498" y="938"/>
                </a:lnTo>
                <a:lnTo>
                  <a:pt x="499" y="893"/>
                </a:lnTo>
                <a:lnTo>
                  <a:pt x="500" y="1472"/>
                </a:lnTo>
                <a:lnTo>
                  <a:pt x="501" y="956"/>
                </a:lnTo>
                <a:lnTo>
                  <a:pt x="502" y="1031"/>
                </a:lnTo>
                <a:lnTo>
                  <a:pt x="503" y="672"/>
                </a:lnTo>
                <a:lnTo>
                  <a:pt x="505" y="895"/>
                </a:lnTo>
                <a:lnTo>
                  <a:pt x="507" y="1142"/>
                </a:lnTo>
                <a:lnTo>
                  <a:pt x="508" y="1284"/>
                </a:lnTo>
                <a:lnTo>
                  <a:pt x="509" y="1234"/>
                </a:lnTo>
                <a:lnTo>
                  <a:pt x="510" y="1062"/>
                </a:lnTo>
                <a:lnTo>
                  <a:pt x="511" y="905"/>
                </a:lnTo>
                <a:lnTo>
                  <a:pt x="512" y="1005"/>
                </a:lnTo>
                <a:lnTo>
                  <a:pt x="513" y="1104"/>
                </a:lnTo>
                <a:lnTo>
                  <a:pt x="514" y="1093"/>
                </a:lnTo>
                <a:lnTo>
                  <a:pt x="517" y="1117"/>
                </a:lnTo>
                <a:lnTo>
                  <a:pt x="518" y="948"/>
                </a:lnTo>
                <a:lnTo>
                  <a:pt x="519" y="771"/>
                </a:lnTo>
                <a:lnTo>
                  <a:pt x="520" y="1124"/>
                </a:lnTo>
                <a:lnTo>
                  <a:pt x="521" y="1046"/>
                </a:lnTo>
                <a:lnTo>
                  <a:pt x="522" y="957"/>
                </a:lnTo>
                <a:lnTo>
                  <a:pt x="523" y="942"/>
                </a:lnTo>
                <a:lnTo>
                  <a:pt x="524" y="1179"/>
                </a:lnTo>
                <a:lnTo>
                  <a:pt x="526" y="952"/>
                </a:lnTo>
                <a:lnTo>
                  <a:pt x="528" y="447"/>
                </a:lnTo>
                <a:lnTo>
                  <a:pt x="529" y="1093"/>
                </a:lnTo>
                <a:lnTo>
                  <a:pt x="530" y="1110"/>
                </a:lnTo>
                <a:lnTo>
                  <a:pt x="531" y="1296"/>
                </a:lnTo>
                <a:lnTo>
                  <a:pt x="532" y="397"/>
                </a:lnTo>
                <a:lnTo>
                  <a:pt x="533" y="1571"/>
                </a:lnTo>
                <a:lnTo>
                  <a:pt x="534" y="924"/>
                </a:lnTo>
                <a:lnTo>
                  <a:pt x="536" y="1074"/>
                </a:lnTo>
                <a:lnTo>
                  <a:pt x="537" y="727"/>
                </a:lnTo>
                <a:lnTo>
                  <a:pt x="539" y="816"/>
                </a:lnTo>
                <a:lnTo>
                  <a:pt x="540" y="799"/>
                </a:lnTo>
                <a:lnTo>
                  <a:pt x="541" y="801"/>
                </a:lnTo>
                <a:lnTo>
                  <a:pt x="542" y="925"/>
                </a:lnTo>
                <a:lnTo>
                  <a:pt x="543" y="1219"/>
                </a:lnTo>
                <a:lnTo>
                  <a:pt x="545" y="964"/>
                </a:lnTo>
                <a:lnTo>
                  <a:pt x="546" y="1333"/>
                </a:lnTo>
                <a:lnTo>
                  <a:pt x="547" y="1221"/>
                </a:lnTo>
                <a:lnTo>
                  <a:pt x="548" y="1126"/>
                </a:lnTo>
                <a:lnTo>
                  <a:pt x="549" y="1017"/>
                </a:lnTo>
                <a:lnTo>
                  <a:pt x="551" y="1219"/>
                </a:lnTo>
                <a:lnTo>
                  <a:pt x="552" y="932"/>
                </a:lnTo>
                <a:lnTo>
                  <a:pt x="553" y="1491"/>
                </a:lnTo>
                <a:lnTo>
                  <a:pt x="555" y="1075"/>
                </a:lnTo>
                <a:lnTo>
                  <a:pt x="556" y="889"/>
                </a:lnTo>
                <a:lnTo>
                  <a:pt x="557" y="1245"/>
                </a:lnTo>
                <a:lnTo>
                  <a:pt x="558" y="1308"/>
                </a:lnTo>
                <a:lnTo>
                  <a:pt x="559" y="913"/>
                </a:lnTo>
                <a:lnTo>
                  <a:pt x="560" y="1141"/>
                </a:lnTo>
                <a:lnTo>
                  <a:pt x="562" y="684"/>
                </a:lnTo>
                <a:lnTo>
                  <a:pt x="563" y="837"/>
                </a:lnTo>
                <a:lnTo>
                  <a:pt x="565" y="1595"/>
                </a:lnTo>
                <a:lnTo>
                  <a:pt x="566" y="1259"/>
                </a:lnTo>
                <a:lnTo>
                  <a:pt x="567" y="919"/>
                </a:lnTo>
                <a:lnTo>
                  <a:pt x="568" y="935"/>
                </a:lnTo>
                <a:lnTo>
                  <a:pt x="569" y="1234"/>
                </a:lnTo>
                <a:lnTo>
                  <a:pt x="570" y="1136"/>
                </a:lnTo>
                <a:lnTo>
                  <a:pt x="571" y="820"/>
                </a:lnTo>
                <a:lnTo>
                  <a:pt x="574" y="1006"/>
                </a:lnTo>
                <a:lnTo>
                  <a:pt x="575" y="1200"/>
                </a:lnTo>
                <a:lnTo>
                  <a:pt x="576" y="1191"/>
                </a:lnTo>
                <a:lnTo>
                  <a:pt x="577" y="1116"/>
                </a:lnTo>
                <a:lnTo>
                  <a:pt x="578" y="675"/>
                </a:lnTo>
                <a:lnTo>
                  <a:pt x="579" y="516"/>
                </a:lnTo>
                <a:lnTo>
                  <a:pt x="580" y="906"/>
                </a:lnTo>
                <a:lnTo>
                  <a:pt x="581" y="1117"/>
                </a:lnTo>
                <a:lnTo>
                  <a:pt x="582" y="1108"/>
                </a:lnTo>
                <a:lnTo>
                  <a:pt x="585" y="742"/>
                </a:lnTo>
                <a:lnTo>
                  <a:pt x="586" y="405"/>
                </a:lnTo>
                <a:lnTo>
                  <a:pt x="587" y="1248"/>
                </a:lnTo>
                <a:lnTo>
                  <a:pt x="588" y="1788"/>
                </a:lnTo>
                <a:lnTo>
                  <a:pt x="589" y="1263"/>
                </a:lnTo>
                <a:lnTo>
                  <a:pt x="590" y="1073"/>
                </a:lnTo>
                <a:lnTo>
                  <a:pt x="591" y="1317"/>
                </a:lnTo>
                <a:lnTo>
                  <a:pt x="592" y="1045"/>
                </a:lnTo>
                <a:lnTo>
                  <a:pt x="594" y="1127"/>
                </a:lnTo>
                <a:lnTo>
                  <a:pt x="596" y="1228"/>
                </a:lnTo>
                <a:lnTo>
                  <a:pt x="597" y="1222"/>
                </a:lnTo>
                <a:lnTo>
                  <a:pt x="598" y="991"/>
                </a:lnTo>
                <a:lnTo>
                  <a:pt x="599" y="484"/>
                </a:lnTo>
                <a:lnTo>
                  <a:pt x="600" y="964"/>
                </a:lnTo>
                <a:lnTo>
                  <a:pt x="601" y="458"/>
                </a:lnTo>
                <a:lnTo>
                  <a:pt x="603" y="885"/>
                </a:lnTo>
                <a:lnTo>
                  <a:pt x="604" y="766"/>
                </a:lnTo>
                <a:lnTo>
                  <a:pt x="605" y="1190"/>
                </a:lnTo>
                <a:lnTo>
                  <a:pt x="606" y="1298"/>
                </a:lnTo>
                <a:lnTo>
                  <a:pt x="608" y="941"/>
                </a:lnTo>
                <a:lnTo>
                  <a:pt x="609" y="1237"/>
                </a:lnTo>
                <a:lnTo>
                  <a:pt x="610" y="927"/>
                </a:lnTo>
                <a:lnTo>
                  <a:pt x="611" y="835"/>
                </a:lnTo>
                <a:lnTo>
                  <a:pt x="613" y="1396"/>
                </a:lnTo>
                <a:lnTo>
                  <a:pt x="614" y="992"/>
                </a:lnTo>
                <a:lnTo>
                  <a:pt x="615" y="1046"/>
                </a:lnTo>
                <a:lnTo>
                  <a:pt x="616" y="642"/>
                </a:lnTo>
                <a:lnTo>
                  <a:pt x="617" y="707"/>
                </a:lnTo>
                <a:lnTo>
                  <a:pt x="619" y="1425"/>
                </a:lnTo>
                <a:lnTo>
                  <a:pt x="620" y="1487"/>
                </a:lnTo>
                <a:lnTo>
                  <a:pt x="621" y="1255"/>
                </a:lnTo>
                <a:lnTo>
                  <a:pt x="623" y="894"/>
                </a:lnTo>
                <a:lnTo>
                  <a:pt x="624" y="865"/>
                </a:lnTo>
                <a:lnTo>
                  <a:pt x="625" y="964"/>
                </a:lnTo>
                <a:lnTo>
                  <a:pt x="626" y="472"/>
                </a:lnTo>
                <a:lnTo>
                  <a:pt x="627" y="1285"/>
                </a:lnTo>
                <a:lnTo>
                  <a:pt x="628" y="1033"/>
                </a:lnTo>
                <a:lnTo>
                  <a:pt x="630" y="924"/>
                </a:lnTo>
                <a:lnTo>
                  <a:pt x="632" y="1058"/>
                </a:lnTo>
                <a:lnTo>
                  <a:pt x="633" y="1265"/>
                </a:lnTo>
                <a:lnTo>
                  <a:pt x="634" y="1130"/>
                </a:lnTo>
                <a:lnTo>
                  <a:pt x="635" y="1388"/>
                </a:lnTo>
                <a:lnTo>
                  <a:pt x="636" y="763"/>
                </a:lnTo>
                <a:lnTo>
                  <a:pt x="637" y="1563"/>
                </a:lnTo>
                <a:lnTo>
                  <a:pt x="638" y="925"/>
                </a:lnTo>
                <a:lnTo>
                  <a:pt x="639" y="1622"/>
                </a:lnTo>
                <a:lnTo>
                  <a:pt x="642" y="882"/>
                </a:lnTo>
                <a:lnTo>
                  <a:pt x="643" y="1091"/>
                </a:lnTo>
                <a:lnTo>
                  <a:pt x="644" y="973"/>
                </a:lnTo>
                <a:lnTo>
                  <a:pt x="645" y="821"/>
                </a:lnTo>
                <a:lnTo>
                  <a:pt x="646" y="1113"/>
                </a:lnTo>
                <a:lnTo>
                  <a:pt x="647" y="1294"/>
                </a:lnTo>
                <a:lnTo>
                  <a:pt x="648" y="955"/>
                </a:lnTo>
                <a:lnTo>
                  <a:pt x="649" y="1065"/>
                </a:lnTo>
                <a:lnTo>
                  <a:pt x="650" y="859"/>
                </a:lnTo>
                <a:lnTo>
                  <a:pt x="653" y="688"/>
                </a:lnTo>
                <a:lnTo>
                  <a:pt x="654" y="1015"/>
                </a:lnTo>
                <a:lnTo>
                  <a:pt x="655" y="1068"/>
                </a:lnTo>
                <a:lnTo>
                  <a:pt x="656" y="1345"/>
                </a:lnTo>
                <a:lnTo>
                  <a:pt x="657" y="778"/>
                </a:lnTo>
                <a:lnTo>
                  <a:pt x="658" y="915"/>
                </a:lnTo>
                <a:lnTo>
                  <a:pt x="659" y="787"/>
                </a:lnTo>
                <a:lnTo>
                  <a:pt x="661" y="1023"/>
                </a:lnTo>
                <a:lnTo>
                  <a:pt x="662" y="1339"/>
                </a:lnTo>
                <a:lnTo>
                  <a:pt x="664" y="1612"/>
                </a:lnTo>
                <a:lnTo>
                  <a:pt x="665" y="1343"/>
                </a:lnTo>
                <a:lnTo>
                  <a:pt x="666" y="1121"/>
                </a:lnTo>
                <a:lnTo>
                  <a:pt x="667" y="626"/>
                </a:lnTo>
                <a:lnTo>
                  <a:pt x="668" y="1588"/>
                </a:lnTo>
                <a:lnTo>
                  <a:pt x="669" y="614"/>
                </a:lnTo>
                <a:lnTo>
                  <a:pt x="671" y="1133"/>
                </a:lnTo>
                <a:lnTo>
                  <a:pt x="672" y="1512"/>
                </a:lnTo>
                <a:lnTo>
                  <a:pt x="673" y="574"/>
                </a:lnTo>
                <a:lnTo>
                  <a:pt x="674" y="965"/>
                </a:lnTo>
                <a:lnTo>
                  <a:pt x="676" y="1472"/>
                </a:lnTo>
                <a:lnTo>
                  <a:pt x="677" y="864"/>
                </a:lnTo>
                <a:lnTo>
                  <a:pt x="678" y="1117"/>
                </a:lnTo>
                <a:lnTo>
                  <a:pt x="679" y="1031"/>
                </a:lnTo>
                <a:lnTo>
                  <a:pt x="681" y="839"/>
                </a:lnTo>
                <a:lnTo>
                  <a:pt x="682" y="1456"/>
                </a:lnTo>
                <a:lnTo>
                  <a:pt x="683" y="962"/>
                </a:lnTo>
                <a:lnTo>
                  <a:pt x="684" y="918"/>
                </a:lnTo>
                <a:lnTo>
                  <a:pt x="685" y="1182"/>
                </a:lnTo>
                <a:lnTo>
                  <a:pt x="687" y="1029"/>
                </a:lnTo>
                <a:lnTo>
                  <a:pt x="688" y="1127"/>
                </a:lnTo>
                <a:lnTo>
                  <a:pt x="690" y="1173"/>
                </a:lnTo>
                <a:lnTo>
                  <a:pt x="691" y="892"/>
                </a:lnTo>
                <a:lnTo>
                  <a:pt x="692" y="641"/>
                </a:lnTo>
                <a:lnTo>
                  <a:pt x="693" y="919"/>
                </a:lnTo>
                <a:lnTo>
                  <a:pt x="694" y="1353"/>
                </a:lnTo>
                <a:lnTo>
                  <a:pt x="695" y="1069"/>
                </a:lnTo>
                <a:lnTo>
                  <a:pt x="696" y="1208"/>
                </a:lnTo>
                <a:lnTo>
                  <a:pt x="698" y="857"/>
                </a:lnTo>
                <a:lnTo>
                  <a:pt x="700" y="911"/>
                </a:lnTo>
                <a:lnTo>
                  <a:pt x="701" y="830"/>
                </a:lnTo>
                <a:lnTo>
                  <a:pt x="702" y="1266"/>
                </a:lnTo>
                <a:lnTo>
                  <a:pt x="703" y="831"/>
                </a:lnTo>
                <a:lnTo>
                  <a:pt x="704" y="967"/>
                </a:lnTo>
                <a:lnTo>
                  <a:pt x="705" y="1253"/>
                </a:lnTo>
                <a:lnTo>
                  <a:pt x="706" y="1224"/>
                </a:lnTo>
                <a:lnTo>
                  <a:pt x="707" y="982"/>
                </a:lnTo>
                <a:lnTo>
                  <a:pt x="710" y="1167"/>
                </a:lnTo>
                <a:lnTo>
                  <a:pt x="711" y="1424"/>
                </a:lnTo>
                <a:lnTo>
                  <a:pt x="712" y="1394"/>
                </a:lnTo>
                <a:lnTo>
                  <a:pt x="713" y="904"/>
                </a:lnTo>
                <a:lnTo>
                  <a:pt x="714" y="1395"/>
                </a:lnTo>
                <a:lnTo>
                  <a:pt x="715" y="807"/>
                </a:lnTo>
                <a:lnTo>
                  <a:pt x="716" y="1231"/>
                </a:lnTo>
                <a:lnTo>
                  <a:pt x="717" y="1187"/>
                </a:lnTo>
                <a:lnTo>
                  <a:pt x="719" y="1347"/>
                </a:lnTo>
                <a:lnTo>
                  <a:pt x="721" y="853"/>
                </a:lnTo>
                <a:lnTo>
                  <a:pt x="722" y="908"/>
                </a:lnTo>
                <a:lnTo>
                  <a:pt x="723" y="981"/>
                </a:lnTo>
                <a:lnTo>
                  <a:pt x="724" y="663"/>
                </a:lnTo>
                <a:lnTo>
                  <a:pt x="725" y="1054"/>
                </a:lnTo>
                <a:lnTo>
                  <a:pt x="726" y="982"/>
                </a:lnTo>
                <a:lnTo>
                  <a:pt x="727" y="811"/>
                </a:lnTo>
                <a:lnTo>
                  <a:pt x="729" y="582"/>
                </a:lnTo>
                <a:lnTo>
                  <a:pt x="730" y="1160"/>
                </a:lnTo>
                <a:lnTo>
                  <a:pt x="731" y="1040"/>
                </a:lnTo>
                <a:lnTo>
                  <a:pt x="733" y="1322"/>
                </a:lnTo>
                <a:lnTo>
                  <a:pt x="734" y="1375"/>
                </a:lnTo>
                <a:lnTo>
                  <a:pt x="735" y="1287"/>
                </a:lnTo>
                <a:lnTo>
                  <a:pt x="736" y="769"/>
                </a:lnTo>
                <a:lnTo>
                  <a:pt x="738" y="1137"/>
                </a:lnTo>
                <a:lnTo>
                  <a:pt x="739" y="1178"/>
                </a:lnTo>
                <a:lnTo>
                  <a:pt x="740" y="1051"/>
                </a:lnTo>
                <a:lnTo>
                  <a:pt x="741" y="1106"/>
                </a:lnTo>
                <a:lnTo>
                  <a:pt x="742" y="1466"/>
                </a:lnTo>
                <a:lnTo>
                  <a:pt x="744" y="713"/>
                </a:lnTo>
                <a:lnTo>
                  <a:pt x="745" y="887"/>
                </a:lnTo>
                <a:lnTo>
                  <a:pt x="746" y="957"/>
                </a:lnTo>
                <a:lnTo>
                  <a:pt x="748" y="1145"/>
                </a:lnTo>
                <a:lnTo>
                  <a:pt x="749" y="997"/>
                </a:lnTo>
                <a:lnTo>
                  <a:pt x="750" y="1117"/>
                </a:lnTo>
                <a:lnTo>
                  <a:pt x="751" y="1140"/>
                </a:lnTo>
                <a:lnTo>
                  <a:pt x="752" y="1481"/>
                </a:lnTo>
                <a:lnTo>
                  <a:pt x="753" y="983"/>
                </a:lnTo>
                <a:lnTo>
                  <a:pt x="755" y="794"/>
                </a:lnTo>
                <a:lnTo>
                  <a:pt x="756" y="1166"/>
                </a:lnTo>
                <a:lnTo>
                  <a:pt x="758" y="810"/>
                </a:lnTo>
                <a:lnTo>
                  <a:pt x="759" y="1226"/>
                </a:lnTo>
                <a:lnTo>
                  <a:pt x="760" y="893"/>
                </a:lnTo>
                <a:lnTo>
                  <a:pt x="761" y="807"/>
                </a:lnTo>
                <a:lnTo>
                  <a:pt x="762" y="723"/>
                </a:lnTo>
                <a:lnTo>
                  <a:pt x="763" y="1175"/>
                </a:lnTo>
                <a:lnTo>
                  <a:pt x="764" y="753"/>
                </a:lnTo>
                <a:lnTo>
                  <a:pt x="767" y="936"/>
                </a:lnTo>
                <a:lnTo>
                  <a:pt x="768" y="249"/>
                </a:lnTo>
                <a:lnTo>
                  <a:pt x="769" y="1235"/>
                </a:lnTo>
                <a:lnTo>
                  <a:pt x="770" y="1245"/>
                </a:lnTo>
                <a:lnTo>
                  <a:pt x="771" y="1610"/>
                </a:lnTo>
                <a:lnTo>
                  <a:pt x="772" y="1021"/>
                </a:lnTo>
                <a:lnTo>
                  <a:pt x="773" y="220"/>
                </a:lnTo>
                <a:lnTo>
                  <a:pt x="774" y="761"/>
                </a:lnTo>
                <a:lnTo>
                  <a:pt x="775" y="1240"/>
                </a:lnTo>
                <a:lnTo>
                  <a:pt x="778" y="1527"/>
                </a:lnTo>
                <a:lnTo>
                  <a:pt x="779" y="948"/>
                </a:lnTo>
                <a:lnTo>
                  <a:pt x="780" y="1386"/>
                </a:lnTo>
                <a:lnTo>
                  <a:pt x="781" y="625"/>
                </a:lnTo>
                <a:lnTo>
                  <a:pt x="782" y="1142"/>
                </a:lnTo>
                <a:lnTo>
                  <a:pt x="783" y="1016"/>
                </a:lnTo>
                <a:lnTo>
                  <a:pt x="784" y="1102"/>
                </a:lnTo>
                <a:lnTo>
                  <a:pt x="785" y="921"/>
                </a:lnTo>
                <a:lnTo>
                  <a:pt x="787" y="1038"/>
                </a:lnTo>
                <a:lnTo>
                  <a:pt x="789" y="659"/>
                </a:lnTo>
                <a:lnTo>
                  <a:pt x="790" y="1129"/>
                </a:lnTo>
                <a:lnTo>
                  <a:pt x="791" y="1218"/>
                </a:lnTo>
                <a:lnTo>
                  <a:pt x="792" y="599"/>
                </a:lnTo>
                <a:lnTo>
                  <a:pt x="793" y="905"/>
                </a:lnTo>
                <a:lnTo>
                  <a:pt x="794" y="410"/>
                </a:lnTo>
                <a:lnTo>
                  <a:pt x="796" y="1273"/>
                </a:lnTo>
                <a:lnTo>
                  <a:pt x="797" y="1169"/>
                </a:lnTo>
                <a:lnTo>
                  <a:pt x="798" y="553"/>
                </a:lnTo>
                <a:lnTo>
                  <a:pt x="799" y="1016"/>
                </a:lnTo>
                <a:lnTo>
                  <a:pt x="801" y="1134"/>
                </a:lnTo>
                <a:lnTo>
                  <a:pt x="802" y="994"/>
                </a:lnTo>
                <a:lnTo>
                  <a:pt x="803" y="772"/>
                </a:lnTo>
                <a:lnTo>
                  <a:pt x="804" y="1073"/>
                </a:lnTo>
                <a:lnTo>
                  <a:pt x="806" y="1452"/>
                </a:lnTo>
                <a:lnTo>
                  <a:pt x="807" y="640"/>
                </a:lnTo>
                <a:lnTo>
                  <a:pt x="808" y="1001"/>
                </a:lnTo>
                <a:lnTo>
                  <a:pt x="809" y="1114"/>
                </a:lnTo>
                <a:lnTo>
                  <a:pt x="810" y="1239"/>
                </a:lnTo>
                <a:lnTo>
                  <a:pt x="812" y="728"/>
                </a:lnTo>
                <a:lnTo>
                  <a:pt x="813" y="973"/>
                </a:lnTo>
                <a:lnTo>
                  <a:pt x="814" y="1014"/>
                </a:lnTo>
                <a:lnTo>
                  <a:pt x="816" y="1220"/>
                </a:lnTo>
                <a:lnTo>
                  <a:pt x="817" y="781"/>
                </a:lnTo>
                <a:lnTo>
                  <a:pt x="818" y="1317"/>
                </a:lnTo>
                <a:lnTo>
                  <a:pt x="819" y="1196"/>
                </a:lnTo>
                <a:lnTo>
                  <a:pt x="820" y="1000"/>
                </a:lnTo>
                <a:lnTo>
                  <a:pt x="821" y="989"/>
                </a:lnTo>
                <a:lnTo>
                  <a:pt x="823" y="1299"/>
                </a:lnTo>
                <a:lnTo>
                  <a:pt x="825" y="1049"/>
                </a:lnTo>
                <a:lnTo>
                  <a:pt x="826" y="888"/>
                </a:lnTo>
                <a:lnTo>
                  <a:pt x="827" y="944"/>
                </a:lnTo>
                <a:lnTo>
                  <a:pt x="828" y="737"/>
                </a:lnTo>
                <a:lnTo>
                  <a:pt x="829" y="1080"/>
                </a:lnTo>
                <a:lnTo>
                  <a:pt x="830" y="1118"/>
                </a:lnTo>
                <a:lnTo>
                  <a:pt x="831" y="740"/>
                </a:lnTo>
                <a:lnTo>
                  <a:pt x="832" y="644"/>
                </a:lnTo>
                <a:lnTo>
                  <a:pt x="835" y="649"/>
                </a:lnTo>
                <a:lnTo>
                  <a:pt x="836" y="879"/>
                </a:lnTo>
                <a:lnTo>
                  <a:pt x="837" y="1035"/>
                </a:lnTo>
                <a:lnTo>
                  <a:pt x="838" y="1126"/>
                </a:lnTo>
                <a:lnTo>
                  <a:pt x="839" y="603"/>
                </a:lnTo>
                <a:lnTo>
                  <a:pt x="840" y="1240"/>
                </a:lnTo>
                <a:lnTo>
                  <a:pt x="841" y="860"/>
                </a:lnTo>
                <a:lnTo>
                  <a:pt x="842" y="970"/>
                </a:lnTo>
                <a:lnTo>
                  <a:pt x="843" y="963"/>
                </a:lnTo>
                <a:lnTo>
                  <a:pt x="846" y="986"/>
                </a:lnTo>
                <a:lnTo>
                  <a:pt x="847" y="1222"/>
                </a:lnTo>
                <a:lnTo>
                  <a:pt x="848" y="1390"/>
                </a:lnTo>
                <a:lnTo>
                  <a:pt x="849" y="1060"/>
                </a:lnTo>
                <a:lnTo>
                  <a:pt x="850" y="867"/>
                </a:lnTo>
                <a:lnTo>
                  <a:pt x="851" y="1338"/>
                </a:lnTo>
                <a:lnTo>
                  <a:pt x="852" y="710"/>
                </a:lnTo>
                <a:lnTo>
                  <a:pt x="854" y="1371"/>
                </a:lnTo>
                <a:lnTo>
                  <a:pt x="855" y="923"/>
                </a:lnTo>
                <a:lnTo>
                  <a:pt x="856" y="1227"/>
                </a:lnTo>
                <a:lnTo>
                  <a:pt x="858" y="981"/>
                </a:lnTo>
                <a:lnTo>
                  <a:pt x="859" y="987"/>
                </a:lnTo>
                <a:lnTo>
                  <a:pt x="860" y="960"/>
                </a:lnTo>
                <a:lnTo>
                  <a:pt x="861" y="633"/>
                </a:lnTo>
                <a:lnTo>
                  <a:pt x="862" y="1102"/>
                </a:lnTo>
                <a:lnTo>
                  <a:pt x="864" y="1045"/>
                </a:lnTo>
                <a:lnTo>
                  <a:pt x="865" y="1107"/>
                </a:lnTo>
                <a:lnTo>
                  <a:pt x="866" y="1041"/>
                </a:lnTo>
                <a:lnTo>
                  <a:pt x="867" y="823"/>
                </a:lnTo>
                <a:lnTo>
                  <a:pt x="869" y="1234"/>
                </a:lnTo>
                <a:lnTo>
                  <a:pt x="870" y="862"/>
                </a:lnTo>
                <a:lnTo>
                  <a:pt x="871" y="1309"/>
                </a:lnTo>
                <a:lnTo>
                  <a:pt x="872" y="692"/>
                </a:lnTo>
                <a:lnTo>
                  <a:pt x="874" y="1122"/>
                </a:lnTo>
                <a:lnTo>
                  <a:pt x="875" y="1177"/>
                </a:lnTo>
                <a:lnTo>
                  <a:pt x="876" y="975"/>
                </a:lnTo>
                <a:lnTo>
                  <a:pt x="877" y="1258"/>
                </a:lnTo>
                <a:lnTo>
                  <a:pt x="878" y="514"/>
                </a:lnTo>
                <a:lnTo>
                  <a:pt x="880" y="1024"/>
                </a:lnTo>
                <a:lnTo>
                  <a:pt x="881" y="1469"/>
                </a:lnTo>
                <a:lnTo>
                  <a:pt x="883" y="914"/>
                </a:lnTo>
                <a:lnTo>
                  <a:pt x="884" y="1202"/>
                </a:lnTo>
                <a:lnTo>
                  <a:pt x="885" y="797"/>
                </a:lnTo>
                <a:lnTo>
                  <a:pt x="886" y="1081"/>
                </a:lnTo>
                <a:lnTo>
                  <a:pt x="887" y="1112"/>
                </a:lnTo>
                <a:lnTo>
                  <a:pt x="888" y="846"/>
                </a:lnTo>
                <a:lnTo>
                  <a:pt x="889" y="497"/>
                </a:lnTo>
                <a:lnTo>
                  <a:pt x="891" y="1227"/>
                </a:lnTo>
                <a:lnTo>
                  <a:pt x="893" y="1116"/>
                </a:lnTo>
                <a:lnTo>
                  <a:pt x="894" y="1111"/>
                </a:lnTo>
                <a:lnTo>
                  <a:pt x="895" y="1009"/>
                </a:lnTo>
                <a:lnTo>
                  <a:pt x="896" y="680"/>
                </a:lnTo>
                <a:lnTo>
                  <a:pt x="897" y="1479"/>
                </a:lnTo>
                <a:lnTo>
                  <a:pt x="898" y="880"/>
                </a:lnTo>
                <a:lnTo>
                  <a:pt x="899" y="761"/>
                </a:lnTo>
                <a:lnTo>
                  <a:pt x="900" y="1456"/>
                </a:lnTo>
                <a:lnTo>
                  <a:pt x="903" y="718"/>
                </a:lnTo>
                <a:lnTo>
                  <a:pt x="904" y="1244"/>
                </a:lnTo>
                <a:lnTo>
                  <a:pt x="905" y="1500"/>
                </a:lnTo>
                <a:lnTo>
                  <a:pt x="906" y="811"/>
                </a:lnTo>
                <a:lnTo>
                  <a:pt x="907" y="495"/>
                </a:lnTo>
                <a:lnTo>
                  <a:pt x="908" y="1046"/>
                </a:lnTo>
                <a:lnTo>
                  <a:pt x="909" y="1373"/>
                </a:lnTo>
                <a:lnTo>
                  <a:pt x="910" y="1329"/>
                </a:lnTo>
                <a:lnTo>
                  <a:pt x="912" y="762"/>
                </a:lnTo>
                <a:lnTo>
                  <a:pt x="914" y="761"/>
                </a:lnTo>
                <a:lnTo>
                  <a:pt x="915" y="972"/>
                </a:lnTo>
                <a:lnTo>
                  <a:pt x="916" y="1005"/>
                </a:lnTo>
                <a:lnTo>
                  <a:pt x="917" y="1275"/>
                </a:lnTo>
                <a:lnTo>
                  <a:pt x="918" y="674"/>
                </a:lnTo>
                <a:lnTo>
                  <a:pt x="919" y="1224"/>
                </a:lnTo>
                <a:lnTo>
                  <a:pt x="920" y="1263"/>
                </a:lnTo>
                <a:lnTo>
                  <a:pt x="922" y="857"/>
                </a:lnTo>
                <a:lnTo>
                  <a:pt x="923" y="1095"/>
                </a:lnTo>
                <a:lnTo>
                  <a:pt x="924" y="1121"/>
                </a:lnTo>
                <a:lnTo>
                  <a:pt x="926" y="1099"/>
                </a:lnTo>
                <a:lnTo>
                  <a:pt x="927" y="1190"/>
                </a:lnTo>
                <a:lnTo>
                  <a:pt x="928" y="1781"/>
                </a:lnTo>
                <a:lnTo>
                  <a:pt x="929" y="1121"/>
                </a:lnTo>
                <a:lnTo>
                  <a:pt x="930" y="883"/>
                </a:lnTo>
                <a:lnTo>
                  <a:pt x="932" y="974"/>
                </a:lnTo>
                <a:lnTo>
                  <a:pt x="933" y="1480"/>
                </a:lnTo>
                <a:lnTo>
                  <a:pt x="934" y="683"/>
                </a:lnTo>
                <a:lnTo>
                  <a:pt x="935" y="1162"/>
                </a:lnTo>
                <a:lnTo>
                  <a:pt x="937" y="902"/>
                </a:lnTo>
                <a:lnTo>
                  <a:pt x="938" y="1274"/>
                </a:lnTo>
                <a:lnTo>
                  <a:pt x="939" y="1266"/>
                </a:lnTo>
                <a:lnTo>
                  <a:pt x="941" y="1380"/>
                </a:lnTo>
                <a:lnTo>
                  <a:pt x="942" y="870"/>
                </a:lnTo>
                <a:lnTo>
                  <a:pt x="943" y="437"/>
                </a:lnTo>
                <a:lnTo>
                  <a:pt x="944" y="482"/>
                </a:lnTo>
                <a:lnTo>
                  <a:pt x="945" y="809"/>
                </a:lnTo>
                <a:lnTo>
                  <a:pt x="946" y="922"/>
                </a:lnTo>
                <a:lnTo>
                  <a:pt x="948" y="1042"/>
                </a:lnTo>
                <a:lnTo>
                  <a:pt x="949" y="1133"/>
                </a:lnTo>
                <a:lnTo>
                  <a:pt x="951" y="907"/>
                </a:lnTo>
                <a:lnTo>
                  <a:pt x="952" y="1183"/>
                </a:lnTo>
                <a:lnTo>
                  <a:pt x="953" y="809"/>
                </a:lnTo>
                <a:lnTo>
                  <a:pt x="954" y="931"/>
                </a:lnTo>
                <a:lnTo>
                  <a:pt x="955" y="1214"/>
                </a:lnTo>
                <a:lnTo>
                  <a:pt x="956" y="1133"/>
                </a:lnTo>
                <a:lnTo>
                  <a:pt x="957" y="991"/>
                </a:lnTo>
                <a:lnTo>
                  <a:pt x="960" y="1400"/>
                </a:lnTo>
                <a:lnTo>
                  <a:pt x="961" y="1557"/>
                </a:lnTo>
                <a:lnTo>
                  <a:pt x="962" y="658"/>
                </a:lnTo>
                <a:lnTo>
                  <a:pt x="963" y="1141"/>
                </a:lnTo>
                <a:lnTo>
                  <a:pt x="964" y="1148"/>
                </a:lnTo>
                <a:lnTo>
                  <a:pt x="965" y="1161"/>
                </a:lnTo>
                <a:lnTo>
                  <a:pt x="966" y="886"/>
                </a:lnTo>
                <a:lnTo>
                  <a:pt x="967" y="1071"/>
                </a:lnTo>
                <a:lnTo>
                  <a:pt x="968" y="992"/>
                </a:lnTo>
                <a:lnTo>
                  <a:pt x="971" y="1241"/>
                </a:lnTo>
                <a:lnTo>
                  <a:pt x="972" y="1089"/>
                </a:lnTo>
                <a:lnTo>
                  <a:pt x="973" y="377"/>
                </a:lnTo>
                <a:lnTo>
                  <a:pt x="974" y="1549"/>
                </a:lnTo>
                <a:lnTo>
                  <a:pt x="975" y="795"/>
                </a:lnTo>
                <a:lnTo>
                  <a:pt x="976" y="699"/>
                </a:lnTo>
                <a:lnTo>
                  <a:pt x="977" y="873"/>
                </a:lnTo>
                <a:lnTo>
                  <a:pt x="978" y="1160"/>
                </a:lnTo>
                <a:lnTo>
                  <a:pt x="980" y="615"/>
                </a:lnTo>
                <a:lnTo>
                  <a:pt x="981" y="1165"/>
                </a:lnTo>
                <a:lnTo>
                  <a:pt x="983" y="464"/>
                </a:lnTo>
                <a:lnTo>
                  <a:pt x="984" y="1391"/>
                </a:lnTo>
                <a:lnTo>
                  <a:pt x="985" y="1020"/>
                </a:lnTo>
                <a:lnTo>
                  <a:pt x="986" y="717"/>
                </a:lnTo>
                <a:lnTo>
                  <a:pt x="987" y="526"/>
                </a:lnTo>
                <a:lnTo>
                  <a:pt x="989" y="1237"/>
                </a:lnTo>
                <a:lnTo>
                  <a:pt x="990" y="742"/>
                </a:lnTo>
                <a:lnTo>
                  <a:pt x="991" y="1183"/>
                </a:lnTo>
                <a:lnTo>
                  <a:pt x="992" y="1325"/>
                </a:lnTo>
                <a:lnTo>
                  <a:pt x="994" y="1258"/>
                </a:lnTo>
                <a:lnTo>
                  <a:pt x="995" y="1411"/>
                </a:lnTo>
                <a:lnTo>
                  <a:pt x="996" y="870"/>
                </a:lnTo>
                <a:lnTo>
                  <a:pt x="997" y="1089"/>
                </a:lnTo>
                <a:lnTo>
                  <a:pt x="999" y="810"/>
                </a:lnTo>
                <a:lnTo>
                  <a:pt x="1000" y="908"/>
                </a:lnTo>
                <a:lnTo>
                  <a:pt x="1001" y="1294"/>
                </a:lnTo>
                <a:lnTo>
                  <a:pt x="1002" y="735"/>
                </a:lnTo>
                <a:lnTo>
                  <a:pt x="1003" y="1183"/>
                </a:lnTo>
                <a:lnTo>
                  <a:pt x="1005" y="1249"/>
                </a:lnTo>
                <a:lnTo>
                  <a:pt x="1006" y="1001"/>
                </a:lnTo>
                <a:lnTo>
                  <a:pt x="1007" y="989"/>
                </a:lnTo>
                <a:lnTo>
                  <a:pt x="1009" y="620"/>
                </a:lnTo>
                <a:lnTo>
                  <a:pt x="1010" y="662"/>
                </a:lnTo>
                <a:lnTo>
                  <a:pt x="1011" y="1534"/>
                </a:lnTo>
                <a:lnTo>
                  <a:pt x="1012" y="845"/>
                </a:lnTo>
                <a:lnTo>
                  <a:pt x="1013" y="1059"/>
                </a:lnTo>
                <a:lnTo>
                  <a:pt x="1014" y="1098"/>
                </a:lnTo>
                <a:lnTo>
                  <a:pt x="1016" y="914"/>
                </a:lnTo>
                <a:lnTo>
                  <a:pt x="1018" y="926"/>
                </a:lnTo>
                <a:lnTo>
                  <a:pt x="1019" y="1412"/>
                </a:lnTo>
                <a:lnTo>
                  <a:pt x="1020" y="1246"/>
                </a:lnTo>
                <a:lnTo>
                  <a:pt x="1021" y="1140"/>
                </a:lnTo>
                <a:lnTo>
                  <a:pt x="1022" y="947"/>
                </a:lnTo>
                <a:lnTo>
                  <a:pt x="1023" y="626"/>
                </a:lnTo>
                <a:lnTo>
                  <a:pt x="1024" y="1493"/>
                </a:lnTo>
                <a:lnTo>
                  <a:pt x="1025" y="1341"/>
                </a:lnTo>
                <a:lnTo>
                  <a:pt x="1028" y="1255"/>
                </a:lnTo>
                <a:lnTo>
                  <a:pt x="1029" y="1145"/>
                </a:lnTo>
                <a:lnTo>
                  <a:pt x="1030" y="1289"/>
                </a:lnTo>
                <a:lnTo>
                  <a:pt x="1031" y="1179"/>
                </a:lnTo>
                <a:lnTo>
                  <a:pt x="1032" y="886"/>
                </a:lnTo>
                <a:lnTo>
                  <a:pt x="1033" y="644"/>
                </a:lnTo>
                <a:lnTo>
                  <a:pt x="1034" y="1085"/>
                </a:lnTo>
                <a:lnTo>
                  <a:pt x="1035" y="957"/>
                </a:lnTo>
                <a:lnTo>
                  <a:pt x="1036" y="1267"/>
                </a:lnTo>
                <a:lnTo>
                  <a:pt x="1039" y="875"/>
                </a:lnTo>
                <a:lnTo>
                  <a:pt x="1040" y="1231"/>
                </a:lnTo>
                <a:lnTo>
                  <a:pt x="1041" y="997"/>
                </a:lnTo>
                <a:lnTo>
                  <a:pt x="1042" y="1026"/>
                </a:lnTo>
                <a:lnTo>
                  <a:pt x="1043" y="808"/>
                </a:lnTo>
                <a:lnTo>
                  <a:pt x="1044" y="790"/>
                </a:lnTo>
                <a:lnTo>
                  <a:pt x="1045" y="524"/>
                </a:lnTo>
                <a:lnTo>
                  <a:pt x="1047" y="1499"/>
                </a:lnTo>
                <a:lnTo>
                  <a:pt x="1048" y="1246"/>
                </a:lnTo>
                <a:lnTo>
                  <a:pt x="1049" y="921"/>
                </a:lnTo>
                <a:lnTo>
                  <a:pt x="1051" y="761"/>
                </a:lnTo>
                <a:lnTo>
                  <a:pt x="1052" y="1220"/>
                </a:lnTo>
                <a:lnTo>
                  <a:pt x="1053" y="161"/>
                </a:lnTo>
                <a:lnTo>
                  <a:pt x="1054" y="639"/>
                </a:lnTo>
                <a:lnTo>
                  <a:pt x="1055" y="592"/>
                </a:lnTo>
                <a:lnTo>
                  <a:pt x="1057" y="1072"/>
                </a:lnTo>
                <a:lnTo>
                  <a:pt x="1058" y="1030"/>
                </a:lnTo>
                <a:lnTo>
                  <a:pt x="1059" y="1353"/>
                </a:lnTo>
                <a:lnTo>
                  <a:pt x="1060" y="739"/>
                </a:lnTo>
                <a:lnTo>
                  <a:pt x="1062" y="1031"/>
                </a:lnTo>
                <a:lnTo>
                  <a:pt x="1063" y="534"/>
                </a:lnTo>
                <a:lnTo>
                  <a:pt x="1064" y="977"/>
                </a:lnTo>
                <a:lnTo>
                  <a:pt x="1065" y="1000"/>
                </a:lnTo>
                <a:lnTo>
                  <a:pt x="1067" y="1251"/>
                </a:lnTo>
                <a:lnTo>
                  <a:pt x="1068" y="951"/>
                </a:lnTo>
                <a:lnTo>
                  <a:pt x="1069" y="584"/>
                </a:lnTo>
                <a:lnTo>
                  <a:pt x="1070" y="641"/>
                </a:lnTo>
                <a:lnTo>
                  <a:pt x="1071" y="1321"/>
                </a:lnTo>
                <a:lnTo>
                  <a:pt x="1073" y="478"/>
                </a:lnTo>
                <a:lnTo>
                  <a:pt x="1074" y="1042"/>
                </a:lnTo>
                <a:lnTo>
                  <a:pt x="1076" y="1198"/>
                </a:lnTo>
                <a:lnTo>
                  <a:pt x="1077" y="740"/>
                </a:lnTo>
                <a:lnTo>
                  <a:pt x="1078" y="1143"/>
                </a:lnTo>
                <a:lnTo>
                  <a:pt x="1079" y="983"/>
                </a:lnTo>
                <a:lnTo>
                  <a:pt x="1080" y="1034"/>
                </a:lnTo>
                <a:lnTo>
                  <a:pt x="1081" y="632"/>
                </a:lnTo>
                <a:lnTo>
                  <a:pt x="1082" y="1194"/>
                </a:lnTo>
                <a:lnTo>
                  <a:pt x="1084" y="877"/>
                </a:lnTo>
                <a:lnTo>
                  <a:pt x="1086" y="449"/>
                </a:lnTo>
                <a:lnTo>
                  <a:pt x="1087" y="1219"/>
                </a:lnTo>
                <a:lnTo>
                  <a:pt x="1088" y="1458"/>
                </a:lnTo>
                <a:lnTo>
                  <a:pt x="1089" y="972"/>
                </a:lnTo>
                <a:lnTo>
                  <a:pt x="1090" y="968"/>
                </a:lnTo>
                <a:lnTo>
                  <a:pt x="1091" y="1109"/>
                </a:lnTo>
                <a:lnTo>
                  <a:pt x="1092" y="899"/>
                </a:lnTo>
                <a:lnTo>
                  <a:pt x="1093" y="957"/>
                </a:lnTo>
                <a:lnTo>
                  <a:pt x="1096" y="1093"/>
                </a:lnTo>
                <a:lnTo>
                  <a:pt x="1097" y="1095"/>
                </a:lnTo>
                <a:lnTo>
                  <a:pt x="1098" y="1056"/>
                </a:lnTo>
                <a:lnTo>
                  <a:pt x="1099" y="769"/>
                </a:lnTo>
                <a:lnTo>
                  <a:pt x="1100" y="1011"/>
                </a:lnTo>
                <a:lnTo>
                  <a:pt x="1101" y="1391"/>
                </a:lnTo>
                <a:lnTo>
                  <a:pt x="1102" y="1029"/>
                </a:lnTo>
                <a:lnTo>
                  <a:pt x="1103" y="953"/>
                </a:lnTo>
                <a:lnTo>
                  <a:pt x="1105" y="1427"/>
                </a:lnTo>
                <a:lnTo>
                  <a:pt x="1107" y="944"/>
                </a:lnTo>
                <a:lnTo>
                  <a:pt x="1108" y="1209"/>
                </a:lnTo>
                <a:lnTo>
                  <a:pt x="1109" y="445"/>
                </a:lnTo>
                <a:lnTo>
                  <a:pt x="1110" y="1065"/>
                </a:lnTo>
                <a:lnTo>
                  <a:pt x="1111" y="867"/>
                </a:lnTo>
                <a:lnTo>
                  <a:pt x="1112" y="1509"/>
                </a:lnTo>
                <a:lnTo>
                  <a:pt x="1113" y="985"/>
                </a:lnTo>
                <a:lnTo>
                  <a:pt x="1115" y="922"/>
                </a:lnTo>
                <a:lnTo>
                  <a:pt x="1116" y="692"/>
                </a:lnTo>
                <a:lnTo>
                  <a:pt x="1117" y="1169"/>
                </a:lnTo>
                <a:lnTo>
                  <a:pt x="1119" y="810"/>
                </a:lnTo>
                <a:lnTo>
                  <a:pt x="1120" y="1295"/>
                </a:lnTo>
                <a:lnTo>
                  <a:pt x="1121" y="1612"/>
                </a:lnTo>
                <a:lnTo>
                  <a:pt x="1122" y="1024"/>
                </a:lnTo>
                <a:lnTo>
                  <a:pt x="1123" y="1119"/>
                </a:lnTo>
                <a:lnTo>
                  <a:pt x="1125" y="990"/>
                </a:lnTo>
                <a:lnTo>
                  <a:pt x="1126" y="704"/>
                </a:lnTo>
                <a:lnTo>
                  <a:pt x="1127" y="1043"/>
                </a:lnTo>
                <a:lnTo>
                  <a:pt x="1128" y="1483"/>
                </a:lnTo>
                <a:lnTo>
                  <a:pt x="1130" y="859"/>
                </a:lnTo>
                <a:lnTo>
                  <a:pt x="1131" y="886"/>
                </a:lnTo>
                <a:lnTo>
                  <a:pt x="1132" y="893"/>
                </a:lnTo>
                <a:lnTo>
                  <a:pt x="1134" y="703"/>
                </a:lnTo>
                <a:lnTo>
                  <a:pt x="1135" y="1069"/>
                </a:lnTo>
                <a:lnTo>
                  <a:pt x="1136" y="1140"/>
                </a:lnTo>
                <a:lnTo>
                  <a:pt x="1137" y="1676"/>
                </a:lnTo>
                <a:lnTo>
                  <a:pt x="1138" y="634"/>
                </a:lnTo>
                <a:lnTo>
                  <a:pt x="1139" y="1435"/>
                </a:lnTo>
                <a:lnTo>
                  <a:pt x="1141" y="801"/>
                </a:lnTo>
                <a:lnTo>
                  <a:pt x="1142" y="933"/>
                </a:lnTo>
                <a:lnTo>
                  <a:pt x="1144" y="903"/>
                </a:lnTo>
                <a:lnTo>
                  <a:pt x="1145" y="743"/>
                </a:lnTo>
                <a:lnTo>
                  <a:pt x="1146" y="982"/>
                </a:lnTo>
                <a:lnTo>
                  <a:pt x="1147" y="1238"/>
                </a:lnTo>
                <a:lnTo>
                  <a:pt x="1148" y="1063"/>
                </a:lnTo>
                <a:lnTo>
                  <a:pt x="1149" y="1068"/>
                </a:lnTo>
                <a:lnTo>
                  <a:pt x="1150" y="714"/>
                </a:lnTo>
                <a:lnTo>
                  <a:pt x="1152" y="668"/>
                </a:lnTo>
                <a:lnTo>
                  <a:pt x="1154" y="1163"/>
                </a:lnTo>
                <a:lnTo>
                  <a:pt x="1155" y="1380"/>
                </a:lnTo>
                <a:lnTo>
                  <a:pt x="1156" y="1153"/>
                </a:lnTo>
                <a:lnTo>
                  <a:pt x="1157" y="935"/>
                </a:lnTo>
                <a:lnTo>
                  <a:pt x="1158" y="1197"/>
                </a:lnTo>
                <a:lnTo>
                  <a:pt x="1159" y="1705"/>
                </a:lnTo>
                <a:lnTo>
                  <a:pt x="1160" y="1205"/>
                </a:lnTo>
                <a:lnTo>
                  <a:pt x="1161" y="1345"/>
                </a:lnTo>
                <a:lnTo>
                  <a:pt x="1164" y="971"/>
                </a:lnTo>
                <a:lnTo>
                  <a:pt x="1165" y="1207"/>
                </a:lnTo>
                <a:lnTo>
                  <a:pt x="1166" y="1401"/>
                </a:lnTo>
                <a:lnTo>
                  <a:pt x="1167" y="462"/>
                </a:lnTo>
                <a:lnTo>
                  <a:pt x="1168" y="1054"/>
                </a:lnTo>
                <a:lnTo>
                  <a:pt x="1169" y="1097"/>
                </a:lnTo>
                <a:lnTo>
                  <a:pt x="1170" y="719"/>
                </a:lnTo>
                <a:lnTo>
                  <a:pt x="1171" y="1172"/>
                </a:lnTo>
                <a:lnTo>
                  <a:pt x="1173" y="856"/>
                </a:lnTo>
                <a:lnTo>
                  <a:pt x="1174" y="1160"/>
                </a:lnTo>
                <a:lnTo>
                  <a:pt x="1176" y="836"/>
                </a:lnTo>
                <a:lnTo>
                  <a:pt x="1177" y="968"/>
                </a:lnTo>
                <a:lnTo>
                  <a:pt x="1178" y="950"/>
                </a:lnTo>
                <a:lnTo>
                  <a:pt x="1179" y="838"/>
                </a:lnTo>
                <a:lnTo>
                  <a:pt x="1180" y="721"/>
                </a:lnTo>
                <a:lnTo>
                  <a:pt x="1181" y="1433"/>
                </a:lnTo>
                <a:lnTo>
                  <a:pt x="1183" y="1717"/>
                </a:lnTo>
                <a:lnTo>
                  <a:pt x="1184" y="690"/>
                </a:lnTo>
                <a:lnTo>
                  <a:pt x="1185" y="991"/>
                </a:lnTo>
                <a:lnTo>
                  <a:pt x="1187" y="844"/>
                </a:lnTo>
                <a:lnTo>
                  <a:pt x="1188" y="1145"/>
                </a:lnTo>
                <a:lnTo>
                  <a:pt x="1189" y="1201"/>
                </a:lnTo>
                <a:lnTo>
                  <a:pt x="1190" y="1068"/>
                </a:lnTo>
                <a:lnTo>
                  <a:pt x="1192" y="1407"/>
                </a:lnTo>
                <a:lnTo>
                  <a:pt x="1193" y="1003"/>
                </a:lnTo>
                <a:lnTo>
                  <a:pt x="1194" y="674"/>
                </a:lnTo>
                <a:lnTo>
                  <a:pt x="1195" y="1220"/>
                </a:lnTo>
                <a:lnTo>
                  <a:pt x="1196" y="1318"/>
                </a:lnTo>
                <a:lnTo>
                  <a:pt x="1198" y="1092"/>
                </a:lnTo>
                <a:lnTo>
                  <a:pt x="1199" y="704"/>
                </a:lnTo>
                <a:lnTo>
                  <a:pt x="1200" y="1156"/>
                </a:lnTo>
                <a:lnTo>
                  <a:pt x="1202" y="636"/>
                </a:lnTo>
                <a:lnTo>
                  <a:pt x="1203" y="352"/>
                </a:lnTo>
                <a:lnTo>
                  <a:pt x="1204" y="944"/>
                </a:lnTo>
                <a:lnTo>
                  <a:pt x="1205" y="1455"/>
                </a:lnTo>
                <a:lnTo>
                  <a:pt x="1206" y="777"/>
                </a:lnTo>
                <a:lnTo>
                  <a:pt x="1207" y="1195"/>
                </a:lnTo>
                <a:lnTo>
                  <a:pt x="1209" y="817"/>
                </a:lnTo>
                <a:lnTo>
                  <a:pt x="1211" y="1157"/>
                </a:lnTo>
                <a:lnTo>
                  <a:pt x="1212" y="1031"/>
                </a:lnTo>
                <a:lnTo>
                  <a:pt x="1213" y="1216"/>
                </a:lnTo>
                <a:lnTo>
                  <a:pt x="1214" y="904"/>
                </a:lnTo>
                <a:lnTo>
                  <a:pt x="1215" y="661"/>
                </a:lnTo>
                <a:lnTo>
                  <a:pt x="1216" y="1273"/>
                </a:lnTo>
                <a:lnTo>
                  <a:pt x="1217" y="697"/>
                </a:lnTo>
                <a:lnTo>
                  <a:pt x="1218" y="1216"/>
                </a:lnTo>
                <a:lnTo>
                  <a:pt x="1221" y="1072"/>
                </a:lnTo>
                <a:lnTo>
                  <a:pt x="1222" y="1299"/>
                </a:lnTo>
                <a:lnTo>
                  <a:pt x="1223" y="862"/>
                </a:lnTo>
                <a:lnTo>
                  <a:pt x="1224" y="1148"/>
                </a:lnTo>
                <a:lnTo>
                  <a:pt x="1225" y="834"/>
                </a:lnTo>
                <a:lnTo>
                  <a:pt x="1226" y="973"/>
                </a:lnTo>
                <a:lnTo>
                  <a:pt x="1227" y="1083"/>
                </a:lnTo>
                <a:lnTo>
                  <a:pt x="1228" y="907"/>
                </a:lnTo>
                <a:lnTo>
                  <a:pt x="1229" y="1099"/>
                </a:lnTo>
                <a:lnTo>
                  <a:pt x="1232" y="785"/>
                </a:lnTo>
                <a:lnTo>
                  <a:pt x="1233" y="997"/>
                </a:lnTo>
                <a:lnTo>
                  <a:pt x="1234" y="1123"/>
                </a:lnTo>
                <a:lnTo>
                  <a:pt x="1235" y="886"/>
                </a:lnTo>
                <a:lnTo>
                  <a:pt x="1236" y="801"/>
                </a:lnTo>
                <a:lnTo>
                  <a:pt x="1237" y="1547"/>
                </a:lnTo>
                <a:lnTo>
                  <a:pt x="1238" y="1265"/>
                </a:lnTo>
                <a:lnTo>
                  <a:pt x="1240" y="1069"/>
                </a:lnTo>
                <a:lnTo>
                  <a:pt x="1241" y="794"/>
                </a:lnTo>
                <a:lnTo>
                  <a:pt x="1242" y="333"/>
                </a:lnTo>
                <a:lnTo>
                  <a:pt x="1244" y="1029"/>
                </a:lnTo>
                <a:lnTo>
                  <a:pt x="1245" y="810"/>
                </a:lnTo>
                <a:lnTo>
                  <a:pt x="1246" y="820"/>
                </a:lnTo>
                <a:lnTo>
                  <a:pt x="1247" y="1473"/>
                </a:lnTo>
                <a:lnTo>
                  <a:pt x="1248" y="1347"/>
                </a:lnTo>
                <a:lnTo>
                  <a:pt x="1250" y="1326"/>
                </a:lnTo>
                <a:lnTo>
                  <a:pt x="1251" y="550"/>
                </a:lnTo>
                <a:lnTo>
                  <a:pt x="1252" y="886"/>
                </a:lnTo>
                <a:lnTo>
                  <a:pt x="1253" y="1044"/>
                </a:lnTo>
                <a:lnTo>
                  <a:pt x="1255" y="914"/>
                </a:lnTo>
                <a:lnTo>
                  <a:pt x="1256" y="982"/>
                </a:lnTo>
                <a:lnTo>
                  <a:pt x="1257" y="899"/>
                </a:lnTo>
                <a:lnTo>
                  <a:pt x="1258" y="979"/>
                </a:lnTo>
                <a:lnTo>
                  <a:pt x="1260" y="779"/>
                </a:lnTo>
                <a:lnTo>
                  <a:pt x="1261" y="1462"/>
                </a:lnTo>
                <a:lnTo>
                  <a:pt x="1262" y="1394"/>
                </a:lnTo>
                <a:lnTo>
                  <a:pt x="1263" y="927"/>
                </a:lnTo>
                <a:lnTo>
                  <a:pt x="1264" y="1405"/>
                </a:lnTo>
                <a:lnTo>
                  <a:pt x="1266" y="888"/>
                </a:lnTo>
                <a:lnTo>
                  <a:pt x="1267" y="1328"/>
                </a:lnTo>
                <a:lnTo>
                  <a:pt x="1269" y="917"/>
                </a:lnTo>
                <a:lnTo>
                  <a:pt x="1270" y="1005"/>
                </a:lnTo>
                <a:lnTo>
                  <a:pt x="1271" y="1108"/>
                </a:lnTo>
                <a:lnTo>
                  <a:pt x="1272" y="1230"/>
                </a:lnTo>
                <a:lnTo>
                  <a:pt x="1273" y="855"/>
                </a:lnTo>
                <a:lnTo>
                  <a:pt x="1274" y="1328"/>
                </a:lnTo>
                <a:lnTo>
                  <a:pt x="1275" y="1150"/>
                </a:lnTo>
                <a:lnTo>
                  <a:pt x="1277" y="654"/>
                </a:lnTo>
                <a:lnTo>
                  <a:pt x="1279" y="986"/>
                </a:lnTo>
                <a:lnTo>
                  <a:pt x="1280" y="1387"/>
                </a:lnTo>
                <a:lnTo>
                  <a:pt x="1281" y="1542"/>
                </a:lnTo>
                <a:lnTo>
                  <a:pt x="1282" y="1327"/>
                </a:lnTo>
                <a:lnTo>
                  <a:pt x="1283" y="610"/>
                </a:lnTo>
                <a:lnTo>
                  <a:pt x="1284" y="1031"/>
                </a:lnTo>
                <a:lnTo>
                  <a:pt x="1285" y="907"/>
                </a:lnTo>
                <a:lnTo>
                  <a:pt x="1286" y="565"/>
                </a:lnTo>
                <a:lnTo>
                  <a:pt x="1289" y="561"/>
                </a:lnTo>
                <a:lnTo>
                  <a:pt x="1290" y="886"/>
                </a:lnTo>
                <a:lnTo>
                  <a:pt x="1291" y="894"/>
                </a:lnTo>
                <a:lnTo>
                  <a:pt x="1292" y="815"/>
                </a:lnTo>
                <a:lnTo>
                  <a:pt x="1293" y="1297"/>
                </a:lnTo>
                <a:lnTo>
                  <a:pt x="1294" y="1272"/>
                </a:lnTo>
                <a:lnTo>
                  <a:pt x="1295" y="819"/>
                </a:lnTo>
                <a:lnTo>
                  <a:pt x="1296" y="1007"/>
                </a:lnTo>
                <a:lnTo>
                  <a:pt x="1298" y="857"/>
                </a:lnTo>
                <a:lnTo>
                  <a:pt x="1299" y="1288"/>
                </a:lnTo>
                <a:lnTo>
                  <a:pt x="1301" y="1459"/>
                </a:lnTo>
                <a:lnTo>
                  <a:pt x="1302" y="845"/>
                </a:lnTo>
                <a:lnTo>
                  <a:pt x="1303" y="1140"/>
                </a:lnTo>
                <a:lnTo>
                  <a:pt x="1304" y="1390"/>
                </a:lnTo>
                <a:lnTo>
                  <a:pt x="1305" y="1441"/>
                </a:lnTo>
                <a:lnTo>
                  <a:pt x="1306" y="985"/>
                </a:lnTo>
                <a:lnTo>
                  <a:pt x="1308" y="991"/>
                </a:lnTo>
                <a:lnTo>
                  <a:pt x="1309" y="1091"/>
                </a:lnTo>
                <a:lnTo>
                  <a:pt x="1310" y="987"/>
                </a:lnTo>
                <a:lnTo>
                  <a:pt x="1312" y="921"/>
                </a:lnTo>
                <a:lnTo>
                  <a:pt x="1313" y="1004"/>
                </a:lnTo>
                <a:lnTo>
                  <a:pt x="1314" y="1192"/>
                </a:lnTo>
                <a:lnTo>
                  <a:pt x="1315" y="716"/>
                </a:lnTo>
                <a:lnTo>
                  <a:pt x="1316" y="1251"/>
                </a:lnTo>
                <a:lnTo>
                  <a:pt x="1318" y="743"/>
                </a:lnTo>
                <a:lnTo>
                  <a:pt x="1319" y="1005"/>
                </a:lnTo>
                <a:lnTo>
                  <a:pt x="1320" y="436"/>
                </a:lnTo>
                <a:lnTo>
                  <a:pt x="1321" y="1158"/>
                </a:lnTo>
                <a:lnTo>
                  <a:pt x="1323" y="857"/>
                </a:lnTo>
                <a:lnTo>
                  <a:pt x="1324" y="789"/>
                </a:lnTo>
                <a:lnTo>
                  <a:pt x="1325" y="476"/>
                </a:lnTo>
                <a:lnTo>
                  <a:pt x="1327" y="853"/>
                </a:lnTo>
                <a:lnTo>
                  <a:pt x="1328" y="1219"/>
                </a:lnTo>
                <a:lnTo>
                  <a:pt x="1329" y="1357"/>
                </a:lnTo>
                <a:lnTo>
                  <a:pt x="1330" y="648"/>
                </a:lnTo>
                <a:lnTo>
                  <a:pt x="1331" y="1583"/>
                </a:lnTo>
                <a:lnTo>
                  <a:pt x="1332" y="786"/>
                </a:lnTo>
                <a:lnTo>
                  <a:pt x="1334" y="615"/>
                </a:lnTo>
                <a:lnTo>
                  <a:pt x="1335" y="685"/>
                </a:lnTo>
                <a:lnTo>
                  <a:pt x="1337" y="1378"/>
                </a:lnTo>
                <a:lnTo>
                  <a:pt x="1338" y="1132"/>
                </a:lnTo>
                <a:lnTo>
                  <a:pt x="1339" y="1237"/>
                </a:lnTo>
                <a:lnTo>
                  <a:pt x="1340" y="1024"/>
                </a:lnTo>
                <a:lnTo>
                  <a:pt x="1341" y="765"/>
                </a:lnTo>
                <a:lnTo>
                  <a:pt x="1342" y="1013"/>
                </a:lnTo>
                <a:lnTo>
                  <a:pt x="1343" y="759"/>
                </a:lnTo>
                <a:lnTo>
                  <a:pt x="1345" y="1221"/>
                </a:lnTo>
                <a:lnTo>
                  <a:pt x="1347" y="1196"/>
                </a:lnTo>
                <a:lnTo>
                  <a:pt x="1348" y="1121"/>
                </a:lnTo>
                <a:lnTo>
                  <a:pt x="1349" y="892"/>
                </a:lnTo>
                <a:lnTo>
                  <a:pt x="1350" y="1091"/>
                </a:lnTo>
                <a:lnTo>
                  <a:pt x="1351" y="990"/>
                </a:lnTo>
                <a:lnTo>
                  <a:pt x="1352" y="1215"/>
                </a:lnTo>
                <a:lnTo>
                  <a:pt x="1353" y="654"/>
                </a:lnTo>
                <a:lnTo>
                  <a:pt x="1354" y="1021"/>
                </a:lnTo>
                <a:lnTo>
                  <a:pt x="1357" y="1177"/>
                </a:lnTo>
                <a:lnTo>
                  <a:pt x="1358" y="629"/>
                </a:lnTo>
                <a:lnTo>
                  <a:pt x="1359" y="1062"/>
                </a:lnTo>
                <a:lnTo>
                  <a:pt x="1360" y="697"/>
                </a:lnTo>
                <a:lnTo>
                  <a:pt x="1361" y="536"/>
                </a:lnTo>
                <a:lnTo>
                  <a:pt x="1362" y="1775"/>
                </a:lnTo>
                <a:lnTo>
                  <a:pt x="1363" y="581"/>
                </a:lnTo>
                <a:lnTo>
                  <a:pt x="1364" y="1390"/>
                </a:lnTo>
                <a:lnTo>
                  <a:pt x="1366" y="1149"/>
                </a:lnTo>
                <a:lnTo>
                  <a:pt x="1367" y="720"/>
                </a:lnTo>
                <a:lnTo>
                  <a:pt x="1369" y="983"/>
                </a:lnTo>
                <a:lnTo>
                  <a:pt x="1370" y="1172"/>
                </a:lnTo>
                <a:lnTo>
                  <a:pt x="1371" y="1113"/>
                </a:lnTo>
                <a:lnTo>
                  <a:pt x="1372" y="1265"/>
                </a:lnTo>
                <a:lnTo>
                  <a:pt x="1373" y="927"/>
                </a:lnTo>
                <a:lnTo>
                  <a:pt x="1374" y="808"/>
                </a:lnTo>
                <a:lnTo>
                  <a:pt x="1376" y="903"/>
                </a:lnTo>
                <a:lnTo>
                  <a:pt x="1377" y="370"/>
                </a:lnTo>
                <a:lnTo>
                  <a:pt x="1378" y="841"/>
                </a:lnTo>
                <a:lnTo>
                  <a:pt x="1380" y="968"/>
                </a:lnTo>
                <a:lnTo>
                  <a:pt x="1381" y="403"/>
                </a:lnTo>
                <a:lnTo>
                  <a:pt x="1382" y="1089"/>
                </a:lnTo>
                <a:lnTo>
                  <a:pt x="1383" y="1137"/>
                </a:lnTo>
                <a:lnTo>
                  <a:pt x="1385" y="1039"/>
                </a:lnTo>
                <a:lnTo>
                  <a:pt x="1386" y="870"/>
                </a:lnTo>
                <a:lnTo>
                  <a:pt x="1387" y="899"/>
                </a:lnTo>
                <a:lnTo>
                  <a:pt x="1388" y="1286"/>
                </a:lnTo>
                <a:lnTo>
                  <a:pt x="1389" y="551"/>
                </a:lnTo>
                <a:lnTo>
                  <a:pt x="1391" y="925"/>
                </a:lnTo>
                <a:lnTo>
                  <a:pt x="1392" y="1431"/>
                </a:lnTo>
                <a:lnTo>
                  <a:pt x="1393" y="1329"/>
                </a:lnTo>
                <a:lnTo>
                  <a:pt x="1395" y="894"/>
                </a:lnTo>
                <a:lnTo>
                  <a:pt x="1396" y="1470"/>
                </a:lnTo>
                <a:lnTo>
                  <a:pt x="1397" y="582"/>
                </a:lnTo>
                <a:lnTo>
                  <a:pt x="1398" y="1130"/>
                </a:lnTo>
                <a:lnTo>
                  <a:pt x="1399" y="945"/>
                </a:lnTo>
                <a:lnTo>
                  <a:pt x="1400" y="1251"/>
                </a:lnTo>
                <a:lnTo>
                  <a:pt x="1402" y="1816"/>
                </a:lnTo>
                <a:lnTo>
                  <a:pt x="1403" y="634"/>
                </a:lnTo>
                <a:lnTo>
                  <a:pt x="1405" y="1531"/>
                </a:lnTo>
                <a:lnTo>
                  <a:pt x="1406" y="683"/>
                </a:lnTo>
                <a:lnTo>
                  <a:pt x="1407" y="1210"/>
                </a:lnTo>
                <a:lnTo>
                  <a:pt x="1408" y="1128"/>
                </a:lnTo>
                <a:lnTo>
                  <a:pt x="1409" y="394"/>
                </a:lnTo>
                <a:lnTo>
                  <a:pt x="1410" y="1350"/>
                </a:lnTo>
                <a:lnTo>
                  <a:pt x="1411" y="987"/>
                </a:lnTo>
                <a:lnTo>
                  <a:pt x="1414" y="1000"/>
                </a:lnTo>
                <a:lnTo>
                  <a:pt x="1415" y="1082"/>
                </a:lnTo>
                <a:lnTo>
                  <a:pt x="1416" y="845"/>
                </a:lnTo>
                <a:lnTo>
                  <a:pt x="1417" y="1061"/>
                </a:lnTo>
                <a:lnTo>
                  <a:pt x="1418" y="1219"/>
                </a:lnTo>
                <a:lnTo>
                  <a:pt x="1419" y="1422"/>
                </a:lnTo>
                <a:lnTo>
                  <a:pt x="1420" y="473"/>
                </a:lnTo>
                <a:lnTo>
                  <a:pt x="1421" y="791"/>
                </a:lnTo>
                <a:lnTo>
                  <a:pt x="1422" y="1317"/>
                </a:lnTo>
                <a:lnTo>
                  <a:pt x="1424" y="751"/>
                </a:lnTo>
                <a:lnTo>
                  <a:pt x="1426" y="1093"/>
                </a:lnTo>
                <a:lnTo>
                  <a:pt x="1427" y="817"/>
                </a:lnTo>
                <a:lnTo>
                  <a:pt x="1428" y="1249"/>
                </a:lnTo>
                <a:lnTo>
                  <a:pt x="1429" y="1088"/>
                </a:lnTo>
                <a:lnTo>
                  <a:pt x="1430" y="912"/>
                </a:lnTo>
                <a:lnTo>
                  <a:pt x="1431" y="699"/>
                </a:lnTo>
                <a:lnTo>
                  <a:pt x="1432" y="1063"/>
                </a:lnTo>
                <a:lnTo>
                  <a:pt x="1434" y="745"/>
                </a:lnTo>
                <a:lnTo>
                  <a:pt x="1435" y="682"/>
                </a:lnTo>
                <a:lnTo>
                  <a:pt x="1437" y="1131"/>
                </a:lnTo>
                <a:lnTo>
                  <a:pt x="1438" y="931"/>
                </a:lnTo>
                <a:lnTo>
                  <a:pt x="1439" y="68"/>
                </a:lnTo>
                <a:lnTo>
                  <a:pt x="1440" y="649"/>
                </a:lnTo>
                <a:lnTo>
                  <a:pt x="1441" y="835"/>
                </a:lnTo>
                <a:lnTo>
                  <a:pt x="1443" y="766"/>
                </a:lnTo>
                <a:lnTo>
                  <a:pt x="1444" y="1456"/>
                </a:lnTo>
                <a:lnTo>
                  <a:pt x="1445" y="835"/>
                </a:lnTo>
                <a:lnTo>
                  <a:pt x="1446" y="1224"/>
                </a:lnTo>
                <a:lnTo>
                  <a:pt x="1448" y="1119"/>
                </a:lnTo>
                <a:lnTo>
                  <a:pt x="1449" y="899"/>
                </a:lnTo>
                <a:lnTo>
                  <a:pt x="1450" y="1005"/>
                </a:lnTo>
                <a:lnTo>
                  <a:pt x="1451" y="1292"/>
                </a:lnTo>
                <a:lnTo>
                  <a:pt x="1453" y="1100"/>
                </a:lnTo>
                <a:lnTo>
                  <a:pt x="1454" y="1118"/>
                </a:lnTo>
                <a:lnTo>
                  <a:pt x="1455" y="1128"/>
                </a:lnTo>
                <a:lnTo>
                  <a:pt x="1456" y="670"/>
                </a:lnTo>
                <a:lnTo>
                  <a:pt x="1457" y="1471"/>
                </a:lnTo>
                <a:lnTo>
                  <a:pt x="1459" y="1411"/>
                </a:lnTo>
                <a:lnTo>
                  <a:pt x="1460" y="1150"/>
                </a:lnTo>
                <a:lnTo>
                  <a:pt x="1462" y="951"/>
                </a:lnTo>
                <a:lnTo>
                  <a:pt x="1463" y="1007"/>
                </a:lnTo>
                <a:lnTo>
                  <a:pt x="1464" y="916"/>
                </a:lnTo>
                <a:lnTo>
                  <a:pt x="1465" y="1285"/>
                </a:lnTo>
                <a:lnTo>
                  <a:pt x="1466" y="728"/>
                </a:lnTo>
                <a:lnTo>
                  <a:pt x="1467" y="267"/>
                </a:lnTo>
                <a:lnTo>
                  <a:pt x="1468" y="1609"/>
                </a:lnTo>
                <a:lnTo>
                  <a:pt x="1470" y="1011"/>
                </a:lnTo>
                <a:lnTo>
                  <a:pt x="1472" y="1067"/>
                </a:lnTo>
                <a:lnTo>
                  <a:pt x="1473" y="811"/>
                </a:lnTo>
                <a:lnTo>
                  <a:pt x="1474" y="1304"/>
                </a:lnTo>
                <a:lnTo>
                  <a:pt x="1475" y="1264"/>
                </a:lnTo>
                <a:lnTo>
                  <a:pt x="1476" y="621"/>
                </a:lnTo>
                <a:lnTo>
                  <a:pt x="1477" y="1387"/>
                </a:lnTo>
                <a:lnTo>
                  <a:pt x="1478" y="1113"/>
                </a:lnTo>
                <a:lnTo>
                  <a:pt x="1479" y="1157"/>
                </a:lnTo>
                <a:lnTo>
                  <a:pt x="1482" y="606"/>
                </a:lnTo>
                <a:lnTo>
                  <a:pt x="1483" y="860"/>
                </a:lnTo>
                <a:lnTo>
                  <a:pt x="1484" y="1517"/>
                </a:lnTo>
                <a:lnTo>
                  <a:pt x="1485" y="1140"/>
                </a:lnTo>
                <a:lnTo>
                  <a:pt x="1486" y="873"/>
                </a:lnTo>
                <a:lnTo>
                  <a:pt x="1487" y="916"/>
                </a:lnTo>
                <a:lnTo>
                  <a:pt x="1488" y="774"/>
                </a:lnTo>
                <a:lnTo>
                  <a:pt x="1489" y="1409"/>
                </a:lnTo>
                <a:lnTo>
                  <a:pt x="1491" y="951"/>
                </a:lnTo>
                <a:lnTo>
                  <a:pt x="1492" y="1024"/>
                </a:lnTo>
                <a:lnTo>
                  <a:pt x="1494" y="1378"/>
                </a:lnTo>
                <a:lnTo>
                  <a:pt x="1495" y="864"/>
                </a:lnTo>
                <a:lnTo>
                  <a:pt x="1496" y="937"/>
                </a:lnTo>
                <a:lnTo>
                  <a:pt x="1497" y="605"/>
                </a:lnTo>
                <a:lnTo>
                  <a:pt x="1498" y="867"/>
                </a:lnTo>
                <a:lnTo>
                  <a:pt x="1499" y="685"/>
                </a:lnTo>
                <a:lnTo>
                  <a:pt x="1501" y="1103"/>
                </a:lnTo>
                <a:lnTo>
                  <a:pt x="1502" y="1270"/>
                </a:lnTo>
                <a:lnTo>
                  <a:pt x="1503" y="916"/>
                </a:lnTo>
                <a:lnTo>
                  <a:pt x="1505" y="780"/>
                </a:lnTo>
                <a:lnTo>
                  <a:pt x="1506" y="747"/>
                </a:lnTo>
                <a:lnTo>
                  <a:pt x="1507" y="1009"/>
                </a:lnTo>
                <a:lnTo>
                  <a:pt x="1508" y="1137"/>
                </a:lnTo>
                <a:lnTo>
                  <a:pt x="1509" y="1077"/>
                </a:lnTo>
                <a:lnTo>
                  <a:pt x="1511" y="645"/>
                </a:lnTo>
                <a:lnTo>
                  <a:pt x="1512" y="781"/>
                </a:lnTo>
                <a:lnTo>
                  <a:pt x="1513" y="1187"/>
                </a:lnTo>
                <a:lnTo>
                  <a:pt x="1514" y="1010"/>
                </a:lnTo>
                <a:lnTo>
                  <a:pt x="1516" y="1306"/>
                </a:lnTo>
                <a:lnTo>
                  <a:pt x="1517" y="1385"/>
                </a:lnTo>
                <a:lnTo>
                  <a:pt x="1518" y="1005"/>
                </a:lnTo>
                <a:lnTo>
                  <a:pt x="1520" y="875"/>
                </a:lnTo>
                <a:lnTo>
                  <a:pt x="1521" y="1033"/>
                </a:lnTo>
                <a:lnTo>
                  <a:pt x="1522" y="759"/>
                </a:lnTo>
                <a:lnTo>
                  <a:pt x="1523" y="1521"/>
                </a:lnTo>
                <a:lnTo>
                  <a:pt x="1524" y="813"/>
                </a:lnTo>
                <a:lnTo>
                  <a:pt x="1525" y="844"/>
                </a:lnTo>
                <a:lnTo>
                  <a:pt x="1527" y="1084"/>
                </a:lnTo>
                <a:lnTo>
                  <a:pt x="1528" y="1275"/>
                </a:lnTo>
                <a:lnTo>
                  <a:pt x="1530" y="750"/>
                </a:lnTo>
                <a:lnTo>
                  <a:pt x="1531" y="977"/>
                </a:lnTo>
                <a:lnTo>
                  <a:pt x="1532" y="811"/>
                </a:lnTo>
                <a:lnTo>
                  <a:pt x="1533" y="899"/>
                </a:lnTo>
                <a:lnTo>
                  <a:pt x="1534" y="993"/>
                </a:lnTo>
                <a:lnTo>
                  <a:pt x="1535" y="971"/>
                </a:lnTo>
                <a:lnTo>
                  <a:pt x="1536" y="1090"/>
                </a:lnTo>
                <a:lnTo>
                  <a:pt x="1538" y="839"/>
                </a:lnTo>
                <a:lnTo>
                  <a:pt x="1540" y="888"/>
                </a:lnTo>
                <a:lnTo>
                  <a:pt x="1541" y="585"/>
                </a:lnTo>
                <a:lnTo>
                  <a:pt x="1542" y="1528"/>
                </a:lnTo>
                <a:lnTo>
                  <a:pt x="1543" y="931"/>
                </a:lnTo>
                <a:lnTo>
                  <a:pt x="1544" y="1300"/>
                </a:lnTo>
                <a:lnTo>
                  <a:pt x="1545" y="1306"/>
                </a:lnTo>
                <a:lnTo>
                  <a:pt x="1546" y="641"/>
                </a:lnTo>
                <a:lnTo>
                  <a:pt x="1547" y="1391"/>
                </a:lnTo>
                <a:lnTo>
                  <a:pt x="1549" y="1058"/>
                </a:lnTo>
                <a:lnTo>
                  <a:pt x="1551" y="876"/>
                </a:lnTo>
                <a:lnTo>
                  <a:pt x="1552" y="1346"/>
                </a:lnTo>
                <a:lnTo>
                  <a:pt x="1553" y="1000"/>
                </a:lnTo>
                <a:lnTo>
                  <a:pt x="1554" y="424"/>
                </a:lnTo>
                <a:lnTo>
                  <a:pt x="1555" y="660"/>
                </a:lnTo>
                <a:lnTo>
                  <a:pt x="1556" y="1005"/>
                </a:lnTo>
                <a:lnTo>
                  <a:pt x="1557" y="610"/>
                </a:lnTo>
                <a:lnTo>
                  <a:pt x="1559" y="265"/>
                </a:lnTo>
                <a:lnTo>
                  <a:pt x="1560" y="782"/>
                </a:lnTo>
                <a:lnTo>
                  <a:pt x="1562" y="1267"/>
                </a:lnTo>
                <a:lnTo>
                  <a:pt x="1563" y="1548"/>
                </a:lnTo>
                <a:lnTo>
                  <a:pt x="1564" y="927"/>
                </a:lnTo>
                <a:lnTo>
                  <a:pt x="1565" y="985"/>
                </a:lnTo>
                <a:lnTo>
                  <a:pt x="1566" y="1169"/>
                </a:lnTo>
                <a:lnTo>
                  <a:pt x="1567" y="828"/>
                </a:lnTo>
                <a:lnTo>
                  <a:pt x="1569" y="563"/>
                </a:lnTo>
                <a:lnTo>
                  <a:pt x="1570" y="1067"/>
                </a:lnTo>
                <a:lnTo>
                  <a:pt x="1571" y="960"/>
                </a:lnTo>
                <a:lnTo>
                  <a:pt x="1573" y="848"/>
                </a:lnTo>
                <a:lnTo>
                  <a:pt x="1574" y="1094"/>
                </a:lnTo>
                <a:lnTo>
                  <a:pt x="1575" y="514"/>
                </a:lnTo>
                <a:lnTo>
                  <a:pt x="1576" y="1221"/>
                </a:lnTo>
                <a:lnTo>
                  <a:pt x="1578" y="983"/>
                </a:lnTo>
                <a:lnTo>
                  <a:pt x="1579" y="563"/>
                </a:lnTo>
                <a:lnTo>
                  <a:pt x="1580" y="1392"/>
                </a:lnTo>
                <a:lnTo>
                  <a:pt x="1581" y="1214"/>
                </a:lnTo>
                <a:lnTo>
                  <a:pt x="1582" y="1339"/>
                </a:lnTo>
                <a:lnTo>
                  <a:pt x="1584" y="1220"/>
                </a:lnTo>
                <a:lnTo>
                  <a:pt x="1585" y="986"/>
                </a:lnTo>
                <a:lnTo>
                  <a:pt x="1586" y="790"/>
                </a:lnTo>
                <a:lnTo>
                  <a:pt x="1588" y="1162"/>
                </a:lnTo>
                <a:lnTo>
                  <a:pt x="1589" y="1098"/>
                </a:lnTo>
                <a:lnTo>
                  <a:pt x="1590" y="1532"/>
                </a:lnTo>
                <a:lnTo>
                  <a:pt x="1591" y="1087"/>
                </a:lnTo>
                <a:lnTo>
                  <a:pt x="1592" y="1091"/>
                </a:lnTo>
                <a:lnTo>
                  <a:pt x="1593" y="1319"/>
                </a:lnTo>
                <a:lnTo>
                  <a:pt x="1595" y="710"/>
                </a:lnTo>
                <a:lnTo>
                  <a:pt x="1596" y="874"/>
                </a:lnTo>
                <a:lnTo>
                  <a:pt x="1598" y="882"/>
                </a:lnTo>
                <a:lnTo>
                  <a:pt x="1599" y="1696"/>
                </a:lnTo>
                <a:lnTo>
                  <a:pt x="1600" y="820"/>
                </a:lnTo>
                <a:lnTo>
                  <a:pt x="1601" y="965"/>
                </a:lnTo>
                <a:lnTo>
                  <a:pt x="1602" y="877"/>
                </a:lnTo>
                <a:lnTo>
                  <a:pt x="1603" y="1373"/>
                </a:lnTo>
                <a:lnTo>
                  <a:pt x="1604" y="833"/>
                </a:lnTo>
                <a:lnTo>
                  <a:pt x="1607" y="888"/>
                </a:lnTo>
                <a:lnTo>
                  <a:pt x="1608" y="1136"/>
                </a:lnTo>
                <a:lnTo>
                  <a:pt x="1609" y="1019"/>
                </a:lnTo>
                <a:lnTo>
                  <a:pt x="1610" y="943"/>
                </a:lnTo>
                <a:lnTo>
                  <a:pt x="1611" y="1132"/>
                </a:lnTo>
                <a:lnTo>
                  <a:pt x="1612" y="799"/>
                </a:lnTo>
                <a:lnTo>
                  <a:pt x="1613" y="376"/>
                </a:lnTo>
                <a:lnTo>
                  <a:pt x="1614" y="338"/>
                </a:lnTo>
                <a:lnTo>
                  <a:pt x="1615" y="951"/>
                </a:lnTo>
                <a:lnTo>
                  <a:pt x="1617" y="979"/>
                </a:lnTo>
                <a:lnTo>
                  <a:pt x="1619" y="961"/>
                </a:lnTo>
                <a:lnTo>
                  <a:pt x="1620" y="1151"/>
                </a:lnTo>
                <a:lnTo>
                  <a:pt x="1621" y="1215"/>
                </a:lnTo>
                <a:lnTo>
                  <a:pt x="1622" y="1146"/>
                </a:lnTo>
                <a:lnTo>
                  <a:pt x="1623" y="602"/>
                </a:lnTo>
                <a:lnTo>
                  <a:pt x="1624" y="952"/>
                </a:lnTo>
                <a:lnTo>
                  <a:pt x="1625" y="1127"/>
                </a:lnTo>
                <a:lnTo>
                  <a:pt x="1627" y="1186"/>
                </a:lnTo>
                <a:lnTo>
                  <a:pt x="1628" y="915"/>
                </a:lnTo>
                <a:lnTo>
                  <a:pt x="1630" y="1093"/>
                </a:lnTo>
                <a:lnTo>
                  <a:pt x="1631" y="1250"/>
                </a:lnTo>
                <a:lnTo>
                  <a:pt x="1632" y="631"/>
                </a:lnTo>
                <a:lnTo>
                  <a:pt x="1633" y="1168"/>
                </a:lnTo>
                <a:lnTo>
                  <a:pt x="1634" y="1061"/>
                </a:lnTo>
                <a:lnTo>
                  <a:pt x="1636" y="1007"/>
                </a:lnTo>
                <a:lnTo>
                  <a:pt x="1637" y="941"/>
                </a:lnTo>
                <a:lnTo>
                  <a:pt x="1638" y="1005"/>
                </a:lnTo>
                <a:lnTo>
                  <a:pt x="1639" y="892"/>
                </a:lnTo>
                <a:lnTo>
                  <a:pt x="1641" y="1265"/>
                </a:lnTo>
                <a:lnTo>
                  <a:pt x="1642" y="1007"/>
                </a:lnTo>
                <a:lnTo>
                  <a:pt x="1643" y="1109"/>
                </a:lnTo>
                <a:lnTo>
                  <a:pt x="1644" y="1577"/>
                </a:lnTo>
                <a:lnTo>
                  <a:pt x="1646" y="841"/>
                </a:lnTo>
                <a:lnTo>
                  <a:pt x="1647" y="983"/>
                </a:lnTo>
                <a:lnTo>
                  <a:pt x="1648" y="1147"/>
                </a:lnTo>
                <a:lnTo>
                  <a:pt x="1649" y="991"/>
                </a:lnTo>
                <a:lnTo>
                  <a:pt x="1650" y="694"/>
                </a:lnTo>
                <a:lnTo>
                  <a:pt x="1652" y="929"/>
                </a:lnTo>
                <a:lnTo>
                  <a:pt x="1653" y="527"/>
                </a:lnTo>
                <a:lnTo>
                  <a:pt x="1654" y="623"/>
                </a:lnTo>
                <a:lnTo>
                  <a:pt x="1656" y="1169"/>
                </a:lnTo>
                <a:lnTo>
                  <a:pt x="1657" y="1269"/>
                </a:lnTo>
                <a:lnTo>
                  <a:pt x="1658" y="869"/>
                </a:lnTo>
                <a:lnTo>
                  <a:pt x="1659" y="781"/>
                </a:lnTo>
                <a:lnTo>
                  <a:pt x="1660" y="984"/>
                </a:lnTo>
                <a:lnTo>
                  <a:pt x="1661" y="1140"/>
                </a:lnTo>
                <a:lnTo>
                  <a:pt x="1663" y="1120"/>
                </a:lnTo>
                <a:lnTo>
                  <a:pt x="1665" y="1259"/>
                </a:lnTo>
                <a:lnTo>
                  <a:pt x="1666" y="1293"/>
                </a:lnTo>
                <a:lnTo>
                  <a:pt x="1667" y="1073"/>
                </a:lnTo>
                <a:lnTo>
                  <a:pt x="1668" y="1050"/>
                </a:lnTo>
                <a:lnTo>
                  <a:pt x="1669" y="1546"/>
                </a:lnTo>
                <a:lnTo>
                  <a:pt x="1670" y="1532"/>
                </a:lnTo>
                <a:lnTo>
                  <a:pt x="1671" y="419"/>
                </a:lnTo>
                <a:lnTo>
                  <a:pt x="1672" y="813"/>
                </a:lnTo>
                <a:lnTo>
                  <a:pt x="1673" y="1336"/>
                </a:lnTo>
                <a:lnTo>
                  <a:pt x="1676" y="1610"/>
                </a:lnTo>
                <a:lnTo>
                  <a:pt x="1677" y="740"/>
                </a:lnTo>
                <a:lnTo>
                  <a:pt x="1678" y="740"/>
                </a:lnTo>
                <a:lnTo>
                  <a:pt x="1679" y="1209"/>
                </a:lnTo>
                <a:lnTo>
                  <a:pt x="1680" y="1216"/>
                </a:lnTo>
                <a:lnTo>
                  <a:pt x="1681" y="748"/>
                </a:lnTo>
                <a:lnTo>
                  <a:pt x="1682" y="799"/>
                </a:lnTo>
                <a:lnTo>
                  <a:pt x="1683" y="1360"/>
                </a:lnTo>
                <a:lnTo>
                  <a:pt x="1685" y="1295"/>
                </a:lnTo>
                <a:lnTo>
                  <a:pt x="1687" y="787"/>
                </a:lnTo>
                <a:lnTo>
                  <a:pt x="1688" y="1168"/>
                </a:lnTo>
                <a:lnTo>
                  <a:pt x="1689" y="985"/>
                </a:lnTo>
                <a:lnTo>
                  <a:pt x="1690" y="1659"/>
                </a:lnTo>
                <a:lnTo>
                  <a:pt x="1691" y="1509"/>
                </a:lnTo>
                <a:lnTo>
                  <a:pt x="1692" y="798"/>
                </a:lnTo>
                <a:lnTo>
                  <a:pt x="1694" y="1192"/>
                </a:lnTo>
                <a:lnTo>
                  <a:pt x="1695" y="830"/>
                </a:lnTo>
                <a:lnTo>
                  <a:pt x="1696" y="1179"/>
                </a:lnTo>
                <a:lnTo>
                  <a:pt x="1698" y="384"/>
                </a:lnTo>
                <a:lnTo>
                  <a:pt x="1699" y="1171"/>
                </a:lnTo>
                <a:lnTo>
                  <a:pt x="1700" y="1293"/>
                </a:lnTo>
                <a:lnTo>
                  <a:pt x="1701" y="845"/>
                </a:lnTo>
                <a:lnTo>
                  <a:pt x="1702" y="1423"/>
                </a:lnTo>
                <a:lnTo>
                  <a:pt x="1704" y="821"/>
                </a:lnTo>
                <a:lnTo>
                  <a:pt x="1705" y="975"/>
                </a:lnTo>
                <a:lnTo>
                  <a:pt x="1706" y="630"/>
                </a:lnTo>
                <a:lnTo>
                  <a:pt x="1707" y="1305"/>
                </a:lnTo>
                <a:lnTo>
                  <a:pt x="1709" y="931"/>
                </a:lnTo>
                <a:lnTo>
                  <a:pt x="1710" y="1133"/>
                </a:lnTo>
                <a:lnTo>
                  <a:pt x="1711" y="742"/>
                </a:lnTo>
                <a:lnTo>
                  <a:pt x="1713" y="707"/>
                </a:lnTo>
                <a:lnTo>
                  <a:pt x="1714" y="677"/>
                </a:lnTo>
                <a:lnTo>
                  <a:pt x="1715" y="966"/>
                </a:lnTo>
                <a:lnTo>
                  <a:pt x="1716" y="1081"/>
                </a:lnTo>
                <a:lnTo>
                  <a:pt x="1717" y="1343"/>
                </a:lnTo>
                <a:lnTo>
                  <a:pt x="1718" y="1155"/>
                </a:lnTo>
                <a:lnTo>
                  <a:pt x="1720" y="924"/>
                </a:lnTo>
                <a:lnTo>
                  <a:pt x="1721" y="1035"/>
                </a:lnTo>
                <a:lnTo>
                  <a:pt x="1723" y="625"/>
                </a:lnTo>
                <a:lnTo>
                  <a:pt x="1724" y="1396"/>
                </a:lnTo>
                <a:lnTo>
                  <a:pt x="1725" y="1075"/>
                </a:lnTo>
                <a:lnTo>
                  <a:pt x="1726" y="1430"/>
                </a:lnTo>
                <a:lnTo>
                  <a:pt x="1727" y="1261"/>
                </a:lnTo>
                <a:lnTo>
                  <a:pt x="1728" y="1357"/>
                </a:lnTo>
                <a:lnTo>
                  <a:pt x="1729" y="1375"/>
                </a:lnTo>
                <a:lnTo>
                  <a:pt x="1731" y="840"/>
                </a:lnTo>
                <a:lnTo>
                  <a:pt x="1733" y="964"/>
                </a:lnTo>
                <a:lnTo>
                  <a:pt x="1734" y="1032"/>
                </a:lnTo>
                <a:lnTo>
                  <a:pt x="1735" y="1019"/>
                </a:lnTo>
                <a:lnTo>
                  <a:pt x="1736" y="1011"/>
                </a:lnTo>
                <a:lnTo>
                  <a:pt x="1737" y="1041"/>
                </a:lnTo>
                <a:lnTo>
                  <a:pt x="1738" y="752"/>
                </a:lnTo>
                <a:lnTo>
                  <a:pt x="1739" y="1137"/>
                </a:lnTo>
                <a:lnTo>
                  <a:pt x="1740" y="1374"/>
                </a:lnTo>
                <a:lnTo>
                  <a:pt x="1742" y="1074"/>
                </a:lnTo>
                <a:lnTo>
                  <a:pt x="1744" y="537"/>
                </a:lnTo>
                <a:lnTo>
                  <a:pt x="1745" y="1016"/>
                </a:lnTo>
                <a:lnTo>
                  <a:pt x="1746" y="1095"/>
                </a:lnTo>
                <a:lnTo>
                  <a:pt x="1747" y="595"/>
                </a:lnTo>
                <a:lnTo>
                  <a:pt x="1748" y="1308"/>
                </a:lnTo>
                <a:lnTo>
                  <a:pt x="1749" y="1306"/>
                </a:lnTo>
                <a:lnTo>
                  <a:pt x="1750" y="1239"/>
                </a:lnTo>
                <a:lnTo>
                  <a:pt x="1752" y="645"/>
                </a:lnTo>
                <a:lnTo>
                  <a:pt x="1753" y="1247"/>
                </a:lnTo>
                <a:lnTo>
                  <a:pt x="1755" y="1246"/>
                </a:lnTo>
                <a:lnTo>
                  <a:pt x="1756" y="913"/>
                </a:lnTo>
                <a:lnTo>
                  <a:pt x="1757" y="1072"/>
                </a:lnTo>
                <a:lnTo>
                  <a:pt x="1758" y="941"/>
                </a:lnTo>
                <a:lnTo>
                  <a:pt x="1759" y="1241"/>
                </a:lnTo>
                <a:lnTo>
                  <a:pt x="1760" y="1101"/>
                </a:lnTo>
                <a:lnTo>
                  <a:pt x="1762" y="952"/>
                </a:lnTo>
                <a:lnTo>
                  <a:pt x="1763" y="596"/>
                </a:lnTo>
                <a:lnTo>
                  <a:pt x="1764" y="1029"/>
                </a:lnTo>
                <a:lnTo>
                  <a:pt x="1766" y="1445"/>
                </a:lnTo>
                <a:lnTo>
                  <a:pt x="1767" y="810"/>
                </a:lnTo>
                <a:lnTo>
                  <a:pt x="1768" y="498"/>
                </a:lnTo>
                <a:lnTo>
                  <a:pt x="1769" y="1532"/>
                </a:lnTo>
                <a:lnTo>
                  <a:pt x="1771" y="534"/>
                </a:lnTo>
                <a:lnTo>
                  <a:pt x="1772" y="1121"/>
                </a:lnTo>
                <a:lnTo>
                  <a:pt x="1773" y="935"/>
                </a:lnTo>
                <a:lnTo>
                  <a:pt x="1774" y="480"/>
                </a:lnTo>
                <a:lnTo>
                  <a:pt x="1775" y="963"/>
                </a:lnTo>
                <a:lnTo>
                  <a:pt x="1777" y="710"/>
                </a:lnTo>
                <a:lnTo>
                  <a:pt x="1778" y="879"/>
                </a:lnTo>
                <a:lnTo>
                  <a:pt x="1779" y="1120"/>
                </a:lnTo>
                <a:lnTo>
                  <a:pt x="1781" y="1103"/>
                </a:lnTo>
                <a:lnTo>
                  <a:pt x="1782" y="813"/>
                </a:lnTo>
                <a:lnTo>
                  <a:pt x="1783" y="889"/>
                </a:lnTo>
                <a:lnTo>
                  <a:pt x="1784" y="924"/>
                </a:lnTo>
                <a:lnTo>
                  <a:pt x="1785" y="1162"/>
                </a:lnTo>
                <a:lnTo>
                  <a:pt x="1786" y="670"/>
                </a:lnTo>
                <a:lnTo>
                  <a:pt x="1788" y="860"/>
                </a:lnTo>
                <a:lnTo>
                  <a:pt x="1789" y="680"/>
                </a:lnTo>
                <a:lnTo>
                  <a:pt x="1791" y="846"/>
                </a:lnTo>
                <a:lnTo>
                  <a:pt x="1792" y="955"/>
                </a:lnTo>
                <a:lnTo>
                  <a:pt x="1793" y="1088"/>
                </a:lnTo>
                <a:lnTo>
                  <a:pt x="1794" y="1220"/>
                </a:lnTo>
                <a:lnTo>
                  <a:pt x="1795" y="1675"/>
                </a:lnTo>
                <a:lnTo>
                  <a:pt x="1796" y="678"/>
                </a:lnTo>
                <a:lnTo>
                  <a:pt x="1797" y="610"/>
                </a:lnTo>
                <a:lnTo>
                  <a:pt x="1798" y="835"/>
                </a:lnTo>
                <a:lnTo>
                  <a:pt x="1801" y="885"/>
                </a:lnTo>
                <a:lnTo>
                  <a:pt x="1802" y="1436"/>
                </a:lnTo>
                <a:lnTo>
                  <a:pt x="1803" y="1425"/>
                </a:lnTo>
                <a:lnTo>
                  <a:pt x="1804" y="1149"/>
                </a:lnTo>
                <a:lnTo>
                  <a:pt x="1805" y="1557"/>
                </a:lnTo>
                <a:lnTo>
                  <a:pt x="1806" y="1220"/>
                </a:lnTo>
                <a:lnTo>
                  <a:pt x="1807" y="790"/>
                </a:lnTo>
                <a:lnTo>
                  <a:pt x="1808" y="1022"/>
                </a:lnTo>
                <a:lnTo>
                  <a:pt x="1810" y="1504"/>
                </a:lnTo>
                <a:lnTo>
                  <a:pt x="1812" y="589"/>
                </a:lnTo>
                <a:lnTo>
                  <a:pt x="1813" y="887"/>
                </a:lnTo>
                <a:lnTo>
                  <a:pt x="1814" y="1266"/>
                </a:lnTo>
                <a:lnTo>
                  <a:pt x="1815" y="1587"/>
                </a:lnTo>
                <a:lnTo>
                  <a:pt x="1816" y="934"/>
                </a:lnTo>
                <a:lnTo>
                  <a:pt x="1817" y="1537"/>
                </a:lnTo>
                <a:lnTo>
                  <a:pt x="1818" y="1150"/>
                </a:lnTo>
                <a:lnTo>
                  <a:pt x="1820" y="554"/>
                </a:lnTo>
                <a:lnTo>
                  <a:pt x="1821" y="476"/>
                </a:lnTo>
                <a:lnTo>
                  <a:pt x="1823" y="984"/>
                </a:lnTo>
                <a:lnTo>
                  <a:pt x="1824" y="1396"/>
                </a:lnTo>
                <a:lnTo>
                  <a:pt x="1825" y="967"/>
                </a:lnTo>
                <a:lnTo>
                  <a:pt x="1826" y="836"/>
                </a:lnTo>
                <a:lnTo>
                  <a:pt x="1827" y="905"/>
                </a:lnTo>
                <a:lnTo>
                  <a:pt x="1829" y="1566"/>
                </a:lnTo>
                <a:lnTo>
                  <a:pt x="1830" y="582"/>
                </a:lnTo>
                <a:lnTo>
                  <a:pt x="1831" y="1126"/>
                </a:lnTo>
                <a:lnTo>
                  <a:pt x="1832" y="1082"/>
                </a:lnTo>
                <a:lnTo>
                  <a:pt x="1834" y="777"/>
                </a:lnTo>
                <a:lnTo>
                  <a:pt x="1835" y="755"/>
                </a:lnTo>
                <a:lnTo>
                  <a:pt x="1836" y="1095"/>
                </a:lnTo>
                <a:lnTo>
                  <a:pt x="1837" y="819"/>
                </a:lnTo>
                <a:lnTo>
                  <a:pt x="1839" y="1126"/>
                </a:lnTo>
                <a:lnTo>
                  <a:pt x="1840" y="986"/>
                </a:lnTo>
                <a:lnTo>
                  <a:pt x="1841" y="1235"/>
                </a:lnTo>
                <a:lnTo>
                  <a:pt x="1842" y="718"/>
                </a:lnTo>
                <a:lnTo>
                  <a:pt x="1843" y="1088"/>
                </a:lnTo>
                <a:lnTo>
                  <a:pt x="1845" y="1202"/>
                </a:lnTo>
                <a:lnTo>
                  <a:pt x="1846" y="1463"/>
                </a:lnTo>
                <a:lnTo>
                  <a:pt x="1847" y="1414"/>
                </a:lnTo>
                <a:lnTo>
                  <a:pt x="1849" y="682"/>
                </a:lnTo>
                <a:lnTo>
                  <a:pt x="1850" y="1364"/>
                </a:lnTo>
                <a:lnTo>
                  <a:pt x="1851" y="1094"/>
                </a:lnTo>
                <a:lnTo>
                  <a:pt x="1852" y="987"/>
                </a:lnTo>
                <a:lnTo>
                  <a:pt x="1853" y="1011"/>
                </a:lnTo>
                <a:lnTo>
                  <a:pt x="1854" y="869"/>
                </a:lnTo>
                <a:lnTo>
                  <a:pt x="1856" y="1069"/>
                </a:lnTo>
                <a:lnTo>
                  <a:pt x="1858" y="1235"/>
                </a:lnTo>
                <a:lnTo>
                  <a:pt x="1859" y="530"/>
                </a:lnTo>
                <a:lnTo>
                  <a:pt x="1860" y="1017"/>
                </a:lnTo>
                <a:lnTo>
                  <a:pt x="1861" y="1132"/>
                </a:lnTo>
                <a:lnTo>
                  <a:pt x="1862" y="770"/>
                </a:lnTo>
                <a:lnTo>
                  <a:pt x="1863" y="1010"/>
                </a:lnTo>
                <a:lnTo>
                  <a:pt x="1864" y="1010"/>
                </a:lnTo>
                <a:lnTo>
                  <a:pt x="1865" y="618"/>
                </a:lnTo>
                <a:lnTo>
                  <a:pt x="1866" y="281"/>
                </a:lnTo>
                <a:lnTo>
                  <a:pt x="1869" y="760"/>
                </a:lnTo>
                <a:lnTo>
                  <a:pt x="1870" y="1064"/>
                </a:lnTo>
                <a:lnTo>
                  <a:pt x="1871" y="1089"/>
                </a:lnTo>
                <a:lnTo>
                  <a:pt x="1872" y="1621"/>
                </a:lnTo>
                <a:lnTo>
                  <a:pt x="1873" y="1222"/>
                </a:lnTo>
                <a:lnTo>
                  <a:pt x="1874" y="827"/>
                </a:lnTo>
                <a:lnTo>
                  <a:pt x="1875" y="958"/>
                </a:lnTo>
                <a:lnTo>
                  <a:pt x="1876" y="1000"/>
                </a:lnTo>
                <a:lnTo>
                  <a:pt x="1878" y="1194"/>
                </a:lnTo>
                <a:lnTo>
                  <a:pt x="1880" y="413"/>
                </a:lnTo>
                <a:lnTo>
                  <a:pt x="1881" y="919"/>
                </a:lnTo>
                <a:lnTo>
                  <a:pt x="1882" y="820"/>
                </a:lnTo>
                <a:lnTo>
                  <a:pt x="1883" y="875"/>
                </a:lnTo>
                <a:lnTo>
                  <a:pt x="1884" y="828"/>
                </a:lnTo>
                <a:lnTo>
                  <a:pt x="1885" y="827"/>
                </a:lnTo>
                <a:lnTo>
                  <a:pt x="1887" y="830"/>
                </a:lnTo>
                <a:lnTo>
                  <a:pt x="1888" y="1259"/>
                </a:lnTo>
                <a:lnTo>
                  <a:pt x="1889" y="990"/>
                </a:lnTo>
                <a:lnTo>
                  <a:pt x="1891" y="1183"/>
                </a:lnTo>
                <a:lnTo>
                  <a:pt x="1892" y="1228"/>
                </a:lnTo>
                <a:lnTo>
                  <a:pt x="1893" y="1171"/>
                </a:lnTo>
                <a:lnTo>
                  <a:pt x="1894" y="1142"/>
                </a:lnTo>
                <a:lnTo>
                  <a:pt x="1895" y="1166"/>
                </a:lnTo>
                <a:lnTo>
                  <a:pt x="1897" y="999"/>
                </a:lnTo>
                <a:lnTo>
                  <a:pt x="1898" y="986"/>
                </a:lnTo>
                <a:lnTo>
                  <a:pt x="1899" y="1017"/>
                </a:lnTo>
                <a:lnTo>
                  <a:pt x="1900" y="1482"/>
                </a:lnTo>
                <a:lnTo>
                  <a:pt x="1902" y="1065"/>
                </a:lnTo>
                <a:lnTo>
                  <a:pt x="1903" y="416"/>
                </a:lnTo>
                <a:lnTo>
                  <a:pt x="1904" y="1390"/>
                </a:lnTo>
                <a:lnTo>
                  <a:pt x="1905" y="1155"/>
                </a:lnTo>
                <a:lnTo>
                  <a:pt x="1907" y="1302"/>
                </a:lnTo>
                <a:lnTo>
                  <a:pt x="1908" y="1044"/>
                </a:lnTo>
                <a:lnTo>
                  <a:pt x="1909" y="1393"/>
                </a:lnTo>
                <a:lnTo>
                  <a:pt x="1910" y="1215"/>
                </a:lnTo>
                <a:lnTo>
                  <a:pt x="1911" y="674"/>
                </a:lnTo>
                <a:lnTo>
                  <a:pt x="1913" y="1227"/>
                </a:lnTo>
                <a:lnTo>
                  <a:pt x="1914" y="946"/>
                </a:lnTo>
                <a:lnTo>
                  <a:pt x="1916" y="1268"/>
                </a:lnTo>
                <a:lnTo>
                  <a:pt x="1917" y="321"/>
                </a:lnTo>
                <a:lnTo>
                  <a:pt x="1918" y="1245"/>
                </a:lnTo>
                <a:lnTo>
                  <a:pt x="1919" y="1274"/>
                </a:lnTo>
                <a:lnTo>
                  <a:pt x="1920" y="1198"/>
                </a:lnTo>
                <a:lnTo>
                  <a:pt x="1921" y="753"/>
                </a:lnTo>
                <a:lnTo>
                  <a:pt x="1922" y="866"/>
                </a:lnTo>
                <a:lnTo>
                  <a:pt x="1923" y="319"/>
                </a:lnTo>
                <a:lnTo>
                  <a:pt x="1926" y="902"/>
                </a:lnTo>
                <a:lnTo>
                  <a:pt x="1927" y="1274"/>
                </a:lnTo>
                <a:lnTo>
                  <a:pt x="1928" y="1084"/>
                </a:lnTo>
                <a:lnTo>
                  <a:pt x="1929" y="1189"/>
                </a:lnTo>
                <a:lnTo>
                  <a:pt x="1930" y="1138"/>
                </a:lnTo>
                <a:lnTo>
                  <a:pt x="1931" y="836"/>
                </a:lnTo>
                <a:lnTo>
                  <a:pt x="1932" y="723"/>
                </a:lnTo>
                <a:lnTo>
                  <a:pt x="1933" y="789"/>
                </a:lnTo>
                <a:lnTo>
                  <a:pt x="1934" y="767"/>
                </a:lnTo>
                <a:lnTo>
                  <a:pt x="1937" y="887"/>
                </a:lnTo>
                <a:lnTo>
                  <a:pt x="1938" y="786"/>
                </a:lnTo>
                <a:lnTo>
                  <a:pt x="1939" y="735"/>
                </a:lnTo>
                <a:lnTo>
                  <a:pt x="1940" y="582"/>
                </a:lnTo>
                <a:lnTo>
                  <a:pt x="1941" y="941"/>
                </a:lnTo>
                <a:lnTo>
                  <a:pt x="1942" y="1083"/>
                </a:lnTo>
                <a:lnTo>
                  <a:pt x="1943" y="1134"/>
                </a:lnTo>
                <a:lnTo>
                  <a:pt x="1945" y="856"/>
                </a:lnTo>
                <a:lnTo>
                  <a:pt x="1946" y="1273"/>
                </a:lnTo>
                <a:lnTo>
                  <a:pt x="1948" y="1315"/>
                </a:lnTo>
                <a:lnTo>
                  <a:pt x="1949" y="761"/>
                </a:lnTo>
                <a:lnTo>
                  <a:pt x="1950" y="848"/>
                </a:lnTo>
                <a:lnTo>
                  <a:pt x="1951" y="1197"/>
                </a:lnTo>
                <a:lnTo>
                  <a:pt x="1952" y="968"/>
                </a:lnTo>
                <a:lnTo>
                  <a:pt x="1953" y="1078"/>
                </a:lnTo>
                <a:lnTo>
                  <a:pt x="1955" y="1445"/>
                </a:lnTo>
                <a:lnTo>
                  <a:pt x="1956" y="1296"/>
                </a:lnTo>
                <a:lnTo>
                  <a:pt x="1957" y="1416"/>
                </a:lnTo>
                <a:lnTo>
                  <a:pt x="1959" y="621"/>
                </a:lnTo>
                <a:lnTo>
                  <a:pt x="1960" y="1012"/>
                </a:lnTo>
                <a:lnTo>
                  <a:pt x="1961" y="1243"/>
                </a:lnTo>
                <a:lnTo>
                  <a:pt x="1962" y="870"/>
                </a:lnTo>
                <a:lnTo>
                  <a:pt x="1964" y="693"/>
                </a:lnTo>
                <a:lnTo>
                  <a:pt x="1965" y="984"/>
                </a:lnTo>
                <a:lnTo>
                  <a:pt x="1966" y="932"/>
                </a:lnTo>
                <a:lnTo>
                  <a:pt x="1967" y="654"/>
                </a:lnTo>
                <a:lnTo>
                  <a:pt x="1968" y="909"/>
                </a:lnTo>
                <a:lnTo>
                  <a:pt x="1970" y="794"/>
                </a:lnTo>
                <a:lnTo>
                  <a:pt x="1971" y="1360"/>
                </a:lnTo>
                <a:lnTo>
                  <a:pt x="1972" y="859"/>
                </a:lnTo>
                <a:lnTo>
                  <a:pt x="1974" y="1114"/>
                </a:lnTo>
                <a:lnTo>
                  <a:pt x="1975" y="381"/>
                </a:lnTo>
                <a:lnTo>
                  <a:pt x="1976" y="1000"/>
                </a:lnTo>
                <a:lnTo>
                  <a:pt x="1977" y="778"/>
                </a:lnTo>
                <a:lnTo>
                  <a:pt x="1978" y="1093"/>
                </a:lnTo>
                <a:lnTo>
                  <a:pt x="1979" y="982"/>
                </a:lnTo>
                <a:lnTo>
                  <a:pt x="1981" y="1636"/>
                </a:lnTo>
                <a:lnTo>
                  <a:pt x="1982" y="757"/>
                </a:lnTo>
                <a:lnTo>
                  <a:pt x="1984" y="919"/>
                </a:lnTo>
                <a:lnTo>
                  <a:pt x="1985" y="1201"/>
                </a:lnTo>
                <a:lnTo>
                  <a:pt x="1986" y="709"/>
                </a:lnTo>
                <a:lnTo>
                  <a:pt x="1987" y="1200"/>
                </a:lnTo>
                <a:lnTo>
                  <a:pt x="1988" y="1042"/>
                </a:lnTo>
                <a:lnTo>
                  <a:pt x="1989" y="898"/>
                </a:lnTo>
                <a:lnTo>
                  <a:pt x="1990" y="873"/>
                </a:lnTo>
                <a:lnTo>
                  <a:pt x="1991" y="546"/>
                </a:lnTo>
                <a:lnTo>
                  <a:pt x="1994" y="1038"/>
                </a:lnTo>
                <a:lnTo>
                  <a:pt x="1995" y="931"/>
                </a:lnTo>
                <a:lnTo>
                  <a:pt x="1996" y="1073"/>
                </a:lnTo>
                <a:lnTo>
                  <a:pt x="1997" y="753"/>
                </a:lnTo>
                <a:lnTo>
                  <a:pt x="1998" y="1010"/>
                </a:lnTo>
                <a:lnTo>
                  <a:pt x="1999" y="1179"/>
                </a:lnTo>
                <a:lnTo>
                  <a:pt x="2000" y="927"/>
                </a:lnTo>
                <a:lnTo>
                  <a:pt x="2001" y="736"/>
                </a:lnTo>
                <a:lnTo>
                  <a:pt x="2003" y="453"/>
                </a:lnTo>
                <a:lnTo>
                  <a:pt x="2005" y="1278"/>
                </a:lnTo>
                <a:lnTo>
                  <a:pt x="2006" y="1297"/>
                </a:lnTo>
                <a:lnTo>
                  <a:pt x="2007" y="1200"/>
                </a:lnTo>
                <a:lnTo>
                  <a:pt x="2008" y="1120"/>
                </a:lnTo>
                <a:lnTo>
                  <a:pt x="2009" y="1127"/>
                </a:lnTo>
                <a:lnTo>
                  <a:pt x="2010" y="1094"/>
                </a:lnTo>
                <a:lnTo>
                  <a:pt x="2011" y="887"/>
                </a:lnTo>
                <a:lnTo>
                  <a:pt x="2013" y="902"/>
                </a:lnTo>
                <a:lnTo>
                  <a:pt x="2014" y="1117"/>
                </a:lnTo>
                <a:lnTo>
                  <a:pt x="2016" y="1272"/>
                </a:lnTo>
                <a:lnTo>
                  <a:pt x="2017" y="980"/>
                </a:lnTo>
                <a:lnTo>
                  <a:pt x="2018" y="1425"/>
                </a:lnTo>
                <a:lnTo>
                  <a:pt x="2019" y="915"/>
                </a:lnTo>
                <a:lnTo>
                  <a:pt x="2020" y="729"/>
                </a:lnTo>
                <a:lnTo>
                  <a:pt x="2022" y="523"/>
                </a:lnTo>
                <a:lnTo>
                  <a:pt x="2023" y="1132"/>
                </a:lnTo>
                <a:lnTo>
                  <a:pt x="2024" y="1542"/>
                </a:lnTo>
                <a:lnTo>
                  <a:pt x="2025" y="996"/>
                </a:lnTo>
                <a:lnTo>
                  <a:pt x="2027" y="669"/>
                </a:lnTo>
                <a:lnTo>
                  <a:pt x="2028" y="1195"/>
                </a:lnTo>
                <a:lnTo>
                  <a:pt x="2029" y="702"/>
                </a:lnTo>
                <a:lnTo>
                  <a:pt x="2030" y="1251"/>
                </a:lnTo>
                <a:lnTo>
                  <a:pt x="2032" y="1348"/>
                </a:lnTo>
                <a:lnTo>
                  <a:pt x="2033" y="498"/>
                </a:lnTo>
                <a:lnTo>
                  <a:pt x="2034" y="912"/>
                </a:lnTo>
                <a:lnTo>
                  <a:pt x="2035" y="543"/>
                </a:lnTo>
                <a:lnTo>
                  <a:pt x="2036" y="946"/>
                </a:lnTo>
                <a:lnTo>
                  <a:pt x="2038" y="758"/>
                </a:lnTo>
                <a:lnTo>
                  <a:pt x="2039" y="403"/>
                </a:lnTo>
                <a:lnTo>
                  <a:pt x="2040" y="669"/>
                </a:lnTo>
                <a:lnTo>
                  <a:pt x="2042" y="502"/>
                </a:lnTo>
                <a:lnTo>
                  <a:pt x="2043" y="1221"/>
                </a:lnTo>
                <a:lnTo>
                  <a:pt x="2044" y="856"/>
                </a:lnTo>
                <a:lnTo>
                  <a:pt x="2045" y="597"/>
                </a:lnTo>
                <a:lnTo>
                  <a:pt x="2046" y="489"/>
                </a:lnTo>
                <a:lnTo>
                  <a:pt x="2047" y="894"/>
                </a:lnTo>
                <a:lnTo>
                  <a:pt x="2048" y="895"/>
                </a:lnTo>
                <a:lnTo>
                  <a:pt x="2051" y="1329"/>
                </a:lnTo>
                <a:lnTo>
                  <a:pt x="2052" y="931"/>
                </a:lnTo>
                <a:lnTo>
                  <a:pt x="2053" y="934"/>
                </a:lnTo>
                <a:lnTo>
                  <a:pt x="2054" y="870"/>
                </a:lnTo>
                <a:lnTo>
                  <a:pt x="2055" y="811"/>
                </a:lnTo>
                <a:lnTo>
                  <a:pt x="2056" y="596"/>
                </a:lnTo>
                <a:lnTo>
                  <a:pt x="2057" y="1256"/>
                </a:lnTo>
                <a:lnTo>
                  <a:pt x="2058" y="622"/>
                </a:lnTo>
                <a:lnTo>
                  <a:pt x="2059" y="1089"/>
                </a:lnTo>
                <a:lnTo>
                  <a:pt x="2062" y="957"/>
                </a:lnTo>
                <a:lnTo>
                  <a:pt x="2063" y="820"/>
                </a:lnTo>
                <a:lnTo>
                  <a:pt x="2064" y="1026"/>
                </a:lnTo>
                <a:lnTo>
                  <a:pt x="2065" y="1343"/>
                </a:lnTo>
                <a:lnTo>
                  <a:pt x="2066" y="1338"/>
                </a:lnTo>
                <a:lnTo>
                  <a:pt x="2067" y="805"/>
                </a:lnTo>
                <a:lnTo>
                  <a:pt x="2068" y="856"/>
                </a:lnTo>
                <a:lnTo>
                  <a:pt x="2069" y="1358"/>
                </a:lnTo>
                <a:lnTo>
                  <a:pt x="2071" y="1061"/>
                </a:lnTo>
                <a:lnTo>
                  <a:pt x="2073" y="1152"/>
                </a:lnTo>
                <a:lnTo>
                  <a:pt x="2074" y="661"/>
                </a:lnTo>
                <a:lnTo>
                  <a:pt x="2075" y="660"/>
                </a:lnTo>
                <a:lnTo>
                  <a:pt x="2076" y="1120"/>
                </a:lnTo>
                <a:lnTo>
                  <a:pt x="2077" y="1542"/>
                </a:lnTo>
                <a:lnTo>
                  <a:pt x="2078" y="771"/>
                </a:lnTo>
                <a:lnTo>
                  <a:pt x="2080" y="848"/>
                </a:lnTo>
                <a:lnTo>
                  <a:pt x="2081" y="948"/>
                </a:lnTo>
                <a:lnTo>
                  <a:pt x="2082" y="901"/>
                </a:lnTo>
                <a:lnTo>
                  <a:pt x="2084" y="1502"/>
                </a:lnTo>
                <a:lnTo>
                  <a:pt x="2085" y="1178"/>
                </a:lnTo>
                <a:lnTo>
                  <a:pt x="2086" y="1127"/>
                </a:lnTo>
                <a:lnTo>
                  <a:pt x="2087" y="1367"/>
                </a:lnTo>
                <a:lnTo>
                  <a:pt x="2088" y="1091"/>
                </a:lnTo>
                <a:lnTo>
                  <a:pt x="2090" y="356"/>
                </a:lnTo>
                <a:lnTo>
                  <a:pt x="2091" y="997"/>
                </a:lnTo>
                <a:lnTo>
                  <a:pt x="2092" y="756"/>
                </a:lnTo>
                <a:lnTo>
                  <a:pt x="2093" y="1106"/>
                </a:lnTo>
                <a:lnTo>
                  <a:pt x="2095" y="1005"/>
                </a:lnTo>
                <a:lnTo>
                  <a:pt x="2096" y="1714"/>
                </a:lnTo>
                <a:lnTo>
                  <a:pt x="2097" y="847"/>
                </a:lnTo>
                <a:lnTo>
                  <a:pt x="2098" y="944"/>
                </a:lnTo>
                <a:lnTo>
                  <a:pt x="2100" y="847"/>
                </a:lnTo>
                <a:lnTo>
                  <a:pt x="2101" y="1332"/>
                </a:lnTo>
                <a:lnTo>
                  <a:pt x="2102" y="1511"/>
                </a:lnTo>
                <a:lnTo>
                  <a:pt x="2103" y="1270"/>
                </a:lnTo>
                <a:lnTo>
                  <a:pt x="2104" y="1002"/>
                </a:lnTo>
                <a:lnTo>
                  <a:pt x="2106" y="987"/>
                </a:lnTo>
                <a:lnTo>
                  <a:pt x="2107" y="628"/>
                </a:lnTo>
                <a:lnTo>
                  <a:pt x="2109" y="689"/>
                </a:lnTo>
                <a:lnTo>
                  <a:pt x="2110" y="1526"/>
                </a:lnTo>
                <a:lnTo>
                  <a:pt x="2111" y="1285"/>
                </a:lnTo>
                <a:lnTo>
                  <a:pt x="2112" y="1328"/>
                </a:lnTo>
                <a:lnTo>
                  <a:pt x="2113" y="1513"/>
                </a:lnTo>
                <a:lnTo>
                  <a:pt x="2114" y="804"/>
                </a:lnTo>
                <a:lnTo>
                  <a:pt x="2115" y="1140"/>
                </a:lnTo>
                <a:lnTo>
                  <a:pt x="2116" y="995"/>
                </a:lnTo>
                <a:lnTo>
                  <a:pt x="2119" y="1194"/>
                </a:lnTo>
                <a:lnTo>
                  <a:pt x="2120" y="987"/>
                </a:lnTo>
                <a:lnTo>
                  <a:pt x="2121" y="877"/>
                </a:lnTo>
                <a:lnTo>
                  <a:pt x="2122" y="1194"/>
                </a:lnTo>
                <a:lnTo>
                  <a:pt x="2123" y="1095"/>
                </a:lnTo>
                <a:lnTo>
                  <a:pt x="2124" y="1049"/>
                </a:lnTo>
                <a:lnTo>
                  <a:pt x="2125" y="1386"/>
                </a:lnTo>
                <a:lnTo>
                  <a:pt x="2126" y="1100"/>
                </a:lnTo>
                <a:lnTo>
                  <a:pt x="2127" y="853"/>
                </a:lnTo>
                <a:lnTo>
                  <a:pt x="2130" y="732"/>
                </a:lnTo>
                <a:lnTo>
                  <a:pt x="2131" y="327"/>
                </a:lnTo>
                <a:lnTo>
                  <a:pt x="2132" y="961"/>
                </a:lnTo>
                <a:lnTo>
                  <a:pt x="2133" y="924"/>
                </a:lnTo>
                <a:lnTo>
                  <a:pt x="2134" y="573"/>
                </a:lnTo>
                <a:lnTo>
                  <a:pt x="2135" y="809"/>
                </a:lnTo>
                <a:lnTo>
                  <a:pt x="2136" y="950"/>
                </a:lnTo>
                <a:lnTo>
                  <a:pt x="2138" y="1422"/>
                </a:lnTo>
                <a:lnTo>
                  <a:pt x="2139" y="1191"/>
                </a:lnTo>
                <a:lnTo>
                  <a:pt x="2141" y="1117"/>
                </a:lnTo>
                <a:lnTo>
                  <a:pt x="2142" y="1853"/>
                </a:lnTo>
                <a:lnTo>
                  <a:pt x="2143" y="1218"/>
                </a:lnTo>
                <a:lnTo>
                  <a:pt x="2144" y="1230"/>
                </a:lnTo>
                <a:lnTo>
                  <a:pt x="2145" y="853"/>
                </a:lnTo>
                <a:lnTo>
                  <a:pt x="2146" y="1011"/>
                </a:lnTo>
                <a:lnTo>
                  <a:pt x="2148" y="731"/>
                </a:lnTo>
                <a:lnTo>
                  <a:pt x="2149" y="527"/>
                </a:lnTo>
                <a:lnTo>
                  <a:pt x="2150" y="1292"/>
                </a:lnTo>
                <a:lnTo>
                  <a:pt x="2152" y="622"/>
                </a:lnTo>
                <a:lnTo>
                  <a:pt x="2153" y="915"/>
                </a:lnTo>
                <a:lnTo>
                  <a:pt x="2154" y="660"/>
                </a:lnTo>
                <a:lnTo>
                  <a:pt x="2155" y="765"/>
                </a:lnTo>
                <a:lnTo>
                  <a:pt x="2156" y="1127"/>
                </a:lnTo>
                <a:lnTo>
                  <a:pt x="2158" y="870"/>
                </a:lnTo>
                <a:lnTo>
                  <a:pt x="2159" y="1092"/>
                </a:lnTo>
                <a:lnTo>
                  <a:pt x="2160" y="1384"/>
                </a:lnTo>
                <a:lnTo>
                  <a:pt x="2161" y="1158"/>
                </a:lnTo>
                <a:lnTo>
                  <a:pt x="2163" y="1228"/>
                </a:lnTo>
                <a:lnTo>
                  <a:pt x="2164" y="677"/>
                </a:lnTo>
                <a:lnTo>
                  <a:pt x="2165" y="1067"/>
                </a:lnTo>
                <a:lnTo>
                  <a:pt x="2167" y="1187"/>
                </a:lnTo>
                <a:lnTo>
                  <a:pt x="2168" y="993"/>
                </a:lnTo>
                <a:lnTo>
                  <a:pt x="2169" y="838"/>
                </a:lnTo>
                <a:lnTo>
                  <a:pt x="2170" y="1153"/>
                </a:lnTo>
                <a:lnTo>
                  <a:pt x="2171" y="1182"/>
                </a:lnTo>
                <a:lnTo>
                  <a:pt x="2172" y="1267"/>
                </a:lnTo>
                <a:lnTo>
                  <a:pt x="2173" y="938"/>
                </a:lnTo>
                <a:lnTo>
                  <a:pt x="2175" y="1277"/>
                </a:lnTo>
                <a:lnTo>
                  <a:pt x="2177" y="1200"/>
                </a:lnTo>
                <a:lnTo>
                  <a:pt x="2178" y="799"/>
                </a:lnTo>
                <a:lnTo>
                  <a:pt x="2179" y="1741"/>
                </a:lnTo>
                <a:lnTo>
                  <a:pt x="2180" y="971"/>
                </a:lnTo>
                <a:lnTo>
                  <a:pt x="2181" y="1240"/>
                </a:lnTo>
                <a:lnTo>
                  <a:pt x="2182" y="874"/>
                </a:lnTo>
                <a:lnTo>
                  <a:pt x="2183" y="934"/>
                </a:lnTo>
                <a:lnTo>
                  <a:pt x="2184" y="933"/>
                </a:lnTo>
                <a:lnTo>
                  <a:pt x="2187" y="1071"/>
                </a:lnTo>
                <a:lnTo>
                  <a:pt x="2188" y="1676"/>
                </a:lnTo>
                <a:lnTo>
                  <a:pt x="2189" y="750"/>
                </a:lnTo>
                <a:lnTo>
                  <a:pt x="2190" y="745"/>
                </a:lnTo>
                <a:lnTo>
                  <a:pt x="2191" y="950"/>
                </a:lnTo>
                <a:lnTo>
                  <a:pt x="2192" y="1246"/>
                </a:lnTo>
                <a:lnTo>
                  <a:pt x="2193" y="1034"/>
                </a:lnTo>
                <a:lnTo>
                  <a:pt x="2194" y="804"/>
                </a:lnTo>
                <a:lnTo>
                  <a:pt x="2196" y="931"/>
                </a:lnTo>
                <a:lnTo>
                  <a:pt x="2198" y="1180"/>
                </a:lnTo>
                <a:lnTo>
                  <a:pt x="2199" y="1536"/>
                </a:lnTo>
                <a:lnTo>
                  <a:pt x="2200" y="1007"/>
                </a:lnTo>
                <a:lnTo>
                  <a:pt x="2201" y="1390"/>
                </a:lnTo>
                <a:lnTo>
                  <a:pt x="2202" y="1272"/>
                </a:lnTo>
                <a:lnTo>
                  <a:pt x="2203" y="733"/>
                </a:lnTo>
                <a:lnTo>
                  <a:pt x="2204" y="1044"/>
                </a:lnTo>
                <a:lnTo>
                  <a:pt x="2206" y="1551"/>
                </a:lnTo>
                <a:lnTo>
                  <a:pt x="2207" y="1091"/>
                </a:lnTo>
                <a:lnTo>
                  <a:pt x="2209" y="1557"/>
                </a:lnTo>
                <a:lnTo>
                  <a:pt x="2210" y="1367"/>
                </a:lnTo>
                <a:lnTo>
                  <a:pt x="2211" y="1274"/>
                </a:lnTo>
                <a:lnTo>
                  <a:pt x="2212" y="1592"/>
                </a:lnTo>
                <a:lnTo>
                  <a:pt x="2213" y="401"/>
                </a:lnTo>
                <a:lnTo>
                  <a:pt x="2215" y="763"/>
                </a:lnTo>
                <a:lnTo>
                  <a:pt x="2216" y="1163"/>
                </a:lnTo>
                <a:lnTo>
                  <a:pt x="2217" y="1309"/>
                </a:lnTo>
                <a:lnTo>
                  <a:pt x="2218" y="1054"/>
                </a:lnTo>
                <a:lnTo>
                  <a:pt x="2220" y="1075"/>
                </a:lnTo>
                <a:lnTo>
                  <a:pt x="2221" y="814"/>
                </a:lnTo>
                <a:lnTo>
                  <a:pt x="2222" y="368"/>
                </a:lnTo>
                <a:lnTo>
                  <a:pt x="2223" y="1110"/>
                </a:lnTo>
                <a:lnTo>
                  <a:pt x="2225" y="989"/>
                </a:lnTo>
                <a:lnTo>
                  <a:pt x="2226" y="701"/>
                </a:lnTo>
                <a:lnTo>
                  <a:pt x="2227" y="1197"/>
                </a:lnTo>
                <a:lnTo>
                  <a:pt x="2228" y="1283"/>
                </a:lnTo>
                <a:lnTo>
                  <a:pt x="2229" y="1548"/>
                </a:lnTo>
                <a:lnTo>
                  <a:pt x="2231" y="735"/>
                </a:lnTo>
                <a:lnTo>
                  <a:pt x="2232" y="1107"/>
                </a:lnTo>
                <a:lnTo>
                  <a:pt x="2233" y="813"/>
                </a:lnTo>
                <a:lnTo>
                  <a:pt x="2235" y="1529"/>
                </a:lnTo>
                <a:lnTo>
                  <a:pt x="2236" y="1081"/>
                </a:lnTo>
                <a:lnTo>
                  <a:pt x="2237" y="1033"/>
                </a:lnTo>
                <a:lnTo>
                  <a:pt x="2238" y="1010"/>
                </a:lnTo>
                <a:lnTo>
                  <a:pt x="2239" y="1396"/>
                </a:lnTo>
                <a:lnTo>
                  <a:pt x="2240" y="1285"/>
                </a:lnTo>
                <a:lnTo>
                  <a:pt x="2241" y="1235"/>
                </a:lnTo>
                <a:lnTo>
                  <a:pt x="2244" y="1017"/>
                </a:lnTo>
                <a:lnTo>
                  <a:pt x="2245" y="877"/>
                </a:lnTo>
                <a:lnTo>
                  <a:pt x="2246" y="1471"/>
                </a:lnTo>
                <a:lnTo>
                  <a:pt x="2247" y="1155"/>
                </a:lnTo>
                <a:lnTo>
                  <a:pt x="2248" y="1159"/>
                </a:lnTo>
                <a:lnTo>
                  <a:pt x="2249" y="1029"/>
                </a:lnTo>
                <a:lnTo>
                  <a:pt x="2250" y="649"/>
                </a:lnTo>
                <a:lnTo>
                  <a:pt x="2251" y="869"/>
                </a:lnTo>
                <a:lnTo>
                  <a:pt x="2252" y="759"/>
                </a:lnTo>
                <a:lnTo>
                  <a:pt x="2255" y="1126"/>
                </a:lnTo>
                <a:lnTo>
                  <a:pt x="2256" y="980"/>
                </a:lnTo>
                <a:lnTo>
                  <a:pt x="2257" y="982"/>
                </a:lnTo>
                <a:lnTo>
                  <a:pt x="2258" y="938"/>
                </a:lnTo>
                <a:lnTo>
                  <a:pt x="2259" y="907"/>
                </a:lnTo>
                <a:lnTo>
                  <a:pt x="2260" y="877"/>
                </a:lnTo>
                <a:lnTo>
                  <a:pt x="2261" y="1314"/>
                </a:lnTo>
                <a:lnTo>
                  <a:pt x="2262" y="807"/>
                </a:lnTo>
                <a:lnTo>
                  <a:pt x="2264" y="1030"/>
                </a:lnTo>
                <a:lnTo>
                  <a:pt x="2266" y="1173"/>
                </a:lnTo>
                <a:lnTo>
                  <a:pt x="2267" y="876"/>
                </a:lnTo>
                <a:lnTo>
                  <a:pt x="2268" y="1442"/>
                </a:lnTo>
                <a:lnTo>
                  <a:pt x="2269" y="1442"/>
                </a:lnTo>
                <a:lnTo>
                  <a:pt x="2270" y="830"/>
                </a:lnTo>
                <a:lnTo>
                  <a:pt x="2271" y="713"/>
                </a:lnTo>
                <a:lnTo>
                  <a:pt x="2273" y="1111"/>
                </a:lnTo>
                <a:lnTo>
                  <a:pt x="2274" y="1442"/>
                </a:lnTo>
                <a:lnTo>
                  <a:pt x="2275" y="768"/>
                </a:lnTo>
                <a:lnTo>
                  <a:pt x="2277" y="1463"/>
                </a:lnTo>
                <a:lnTo>
                  <a:pt x="2278" y="551"/>
                </a:lnTo>
                <a:lnTo>
                  <a:pt x="2279" y="1039"/>
                </a:lnTo>
                <a:lnTo>
                  <a:pt x="2280" y="1082"/>
                </a:lnTo>
                <a:lnTo>
                  <a:pt x="2281" y="1370"/>
                </a:lnTo>
                <a:lnTo>
                  <a:pt x="2283" y="905"/>
                </a:lnTo>
                <a:lnTo>
                  <a:pt x="2284" y="1267"/>
                </a:lnTo>
                <a:lnTo>
                  <a:pt x="2285" y="1088"/>
                </a:lnTo>
                <a:lnTo>
                  <a:pt x="2286" y="913"/>
                </a:lnTo>
                <a:lnTo>
                  <a:pt x="2288" y="1342"/>
                </a:lnTo>
                <a:lnTo>
                  <a:pt x="2289" y="811"/>
                </a:lnTo>
                <a:lnTo>
                  <a:pt x="2290" y="1049"/>
                </a:lnTo>
                <a:lnTo>
                  <a:pt x="2291" y="717"/>
                </a:lnTo>
                <a:lnTo>
                  <a:pt x="2293" y="1402"/>
                </a:lnTo>
                <a:lnTo>
                  <a:pt x="2294" y="1044"/>
                </a:lnTo>
                <a:lnTo>
                  <a:pt x="2295" y="882"/>
                </a:lnTo>
                <a:lnTo>
                  <a:pt x="2296" y="1394"/>
                </a:lnTo>
                <a:lnTo>
                  <a:pt x="2297" y="501"/>
                </a:lnTo>
                <a:lnTo>
                  <a:pt x="2298" y="645"/>
                </a:lnTo>
                <a:lnTo>
                  <a:pt x="2300" y="1214"/>
                </a:lnTo>
                <a:lnTo>
                  <a:pt x="2302" y="1356"/>
                </a:lnTo>
                <a:lnTo>
                  <a:pt x="2303" y="703"/>
                </a:lnTo>
                <a:lnTo>
                  <a:pt x="2304" y="600"/>
                </a:lnTo>
                <a:lnTo>
                  <a:pt x="2305" y="1064"/>
                </a:lnTo>
                <a:lnTo>
                  <a:pt x="2306" y="1237"/>
                </a:lnTo>
                <a:lnTo>
                  <a:pt x="2307" y="788"/>
                </a:lnTo>
                <a:lnTo>
                  <a:pt x="2308" y="1314"/>
                </a:lnTo>
                <a:lnTo>
                  <a:pt x="2309" y="1204"/>
                </a:lnTo>
                <a:lnTo>
                  <a:pt x="2312" y="1311"/>
                </a:lnTo>
                <a:lnTo>
                  <a:pt x="2313" y="896"/>
                </a:lnTo>
                <a:lnTo>
                  <a:pt x="2314" y="719"/>
                </a:lnTo>
                <a:lnTo>
                  <a:pt x="2315" y="913"/>
                </a:lnTo>
                <a:lnTo>
                  <a:pt x="2316" y="944"/>
                </a:lnTo>
                <a:lnTo>
                  <a:pt x="2317" y="1278"/>
                </a:lnTo>
                <a:lnTo>
                  <a:pt x="2318" y="1264"/>
                </a:lnTo>
                <a:lnTo>
                  <a:pt x="2319" y="1288"/>
                </a:lnTo>
                <a:lnTo>
                  <a:pt x="2320" y="958"/>
                </a:lnTo>
                <a:lnTo>
                  <a:pt x="2323" y="841"/>
                </a:lnTo>
                <a:lnTo>
                  <a:pt x="2324" y="1017"/>
                </a:lnTo>
                <a:lnTo>
                  <a:pt x="2325" y="751"/>
                </a:lnTo>
                <a:lnTo>
                  <a:pt x="2326" y="1004"/>
                </a:lnTo>
                <a:lnTo>
                  <a:pt x="2327" y="883"/>
                </a:lnTo>
                <a:lnTo>
                  <a:pt x="2328" y="862"/>
                </a:lnTo>
                <a:lnTo>
                  <a:pt x="2329" y="640"/>
                </a:lnTo>
                <a:lnTo>
                  <a:pt x="2331" y="579"/>
                </a:lnTo>
                <a:lnTo>
                  <a:pt x="2332" y="1069"/>
                </a:lnTo>
                <a:lnTo>
                  <a:pt x="2334" y="1091"/>
                </a:lnTo>
                <a:lnTo>
                  <a:pt x="2335" y="1003"/>
                </a:lnTo>
                <a:lnTo>
                  <a:pt x="2336" y="1590"/>
                </a:lnTo>
                <a:lnTo>
                  <a:pt x="2337" y="952"/>
                </a:lnTo>
                <a:lnTo>
                  <a:pt x="2338" y="815"/>
                </a:lnTo>
                <a:lnTo>
                  <a:pt x="2339" y="1083"/>
                </a:lnTo>
                <a:lnTo>
                  <a:pt x="2341" y="921"/>
                </a:lnTo>
                <a:lnTo>
                  <a:pt x="2342" y="1245"/>
                </a:lnTo>
                <a:lnTo>
                  <a:pt x="2343" y="1095"/>
                </a:lnTo>
                <a:lnTo>
                  <a:pt x="2345" y="1354"/>
                </a:lnTo>
                <a:lnTo>
                  <a:pt x="2346" y="1051"/>
                </a:lnTo>
                <a:lnTo>
                  <a:pt x="2347" y="945"/>
                </a:lnTo>
                <a:lnTo>
                  <a:pt x="2348" y="960"/>
                </a:lnTo>
                <a:lnTo>
                  <a:pt x="2349" y="752"/>
                </a:lnTo>
                <a:lnTo>
                  <a:pt x="2351" y="905"/>
                </a:lnTo>
                <a:lnTo>
                  <a:pt x="2352" y="816"/>
                </a:lnTo>
                <a:lnTo>
                  <a:pt x="2353" y="1230"/>
                </a:lnTo>
                <a:lnTo>
                  <a:pt x="2354" y="1147"/>
                </a:lnTo>
                <a:lnTo>
                  <a:pt x="2356" y="1089"/>
                </a:lnTo>
                <a:lnTo>
                  <a:pt x="2357" y="802"/>
                </a:lnTo>
                <a:lnTo>
                  <a:pt x="2358" y="1266"/>
                </a:lnTo>
                <a:lnTo>
                  <a:pt x="2360" y="1024"/>
                </a:lnTo>
                <a:lnTo>
                  <a:pt x="2361" y="833"/>
                </a:lnTo>
                <a:lnTo>
                  <a:pt x="2362" y="873"/>
                </a:lnTo>
                <a:lnTo>
                  <a:pt x="2363" y="757"/>
                </a:lnTo>
                <a:lnTo>
                  <a:pt x="2364" y="1399"/>
                </a:lnTo>
                <a:lnTo>
                  <a:pt x="2365" y="981"/>
                </a:lnTo>
                <a:lnTo>
                  <a:pt x="2366" y="1468"/>
                </a:lnTo>
                <a:lnTo>
                  <a:pt x="2368" y="661"/>
                </a:lnTo>
                <a:lnTo>
                  <a:pt x="2370" y="797"/>
                </a:lnTo>
                <a:lnTo>
                  <a:pt x="2371" y="526"/>
                </a:lnTo>
                <a:lnTo>
                  <a:pt x="2372" y="724"/>
                </a:lnTo>
                <a:lnTo>
                  <a:pt x="2373" y="731"/>
                </a:lnTo>
                <a:lnTo>
                  <a:pt x="2374" y="912"/>
                </a:lnTo>
                <a:lnTo>
                  <a:pt x="2375" y="981"/>
                </a:lnTo>
                <a:lnTo>
                  <a:pt x="2376" y="742"/>
                </a:lnTo>
                <a:lnTo>
                  <a:pt x="2377" y="611"/>
                </a:lnTo>
                <a:lnTo>
                  <a:pt x="2380" y="780"/>
                </a:lnTo>
                <a:lnTo>
                  <a:pt x="2381" y="1221"/>
                </a:lnTo>
                <a:lnTo>
                  <a:pt x="2382" y="312"/>
                </a:lnTo>
                <a:lnTo>
                  <a:pt x="2383" y="909"/>
                </a:lnTo>
                <a:lnTo>
                  <a:pt x="2384" y="1095"/>
                </a:lnTo>
                <a:lnTo>
                  <a:pt x="2385" y="856"/>
                </a:lnTo>
                <a:lnTo>
                  <a:pt x="2386" y="582"/>
                </a:lnTo>
                <a:lnTo>
                  <a:pt x="2387" y="1044"/>
                </a:lnTo>
                <a:lnTo>
                  <a:pt x="2389" y="1065"/>
                </a:lnTo>
                <a:lnTo>
                  <a:pt x="2391" y="1048"/>
                </a:lnTo>
                <a:lnTo>
                  <a:pt x="2392" y="1829"/>
                </a:lnTo>
                <a:lnTo>
                  <a:pt x="2393" y="846"/>
                </a:lnTo>
                <a:lnTo>
                  <a:pt x="2394" y="1010"/>
                </a:lnTo>
                <a:lnTo>
                  <a:pt x="2395" y="769"/>
                </a:lnTo>
                <a:lnTo>
                  <a:pt x="2396" y="602"/>
                </a:lnTo>
                <a:lnTo>
                  <a:pt x="2397" y="628"/>
                </a:lnTo>
                <a:lnTo>
                  <a:pt x="2399" y="1097"/>
                </a:lnTo>
                <a:lnTo>
                  <a:pt x="2400" y="1081"/>
                </a:lnTo>
                <a:lnTo>
                  <a:pt x="2402" y="679"/>
                </a:lnTo>
                <a:lnTo>
                  <a:pt x="2403" y="737"/>
                </a:lnTo>
                <a:lnTo>
                  <a:pt x="2404" y="1130"/>
                </a:lnTo>
                <a:lnTo>
                  <a:pt x="2405" y="760"/>
                </a:lnTo>
                <a:lnTo>
                  <a:pt x="2406" y="854"/>
                </a:lnTo>
                <a:lnTo>
                  <a:pt x="2407" y="1029"/>
                </a:lnTo>
                <a:lnTo>
                  <a:pt x="2409" y="1316"/>
                </a:lnTo>
                <a:lnTo>
                  <a:pt x="2410" y="810"/>
                </a:lnTo>
                <a:lnTo>
                  <a:pt x="2411" y="799"/>
                </a:lnTo>
                <a:lnTo>
                  <a:pt x="2413" y="1463"/>
                </a:lnTo>
                <a:lnTo>
                  <a:pt x="2414" y="472"/>
                </a:lnTo>
                <a:lnTo>
                  <a:pt x="2415" y="863"/>
                </a:lnTo>
                <a:lnTo>
                  <a:pt x="2416" y="1237"/>
                </a:lnTo>
                <a:lnTo>
                  <a:pt x="2418" y="1085"/>
                </a:lnTo>
                <a:lnTo>
                  <a:pt x="2419" y="982"/>
                </a:lnTo>
                <a:lnTo>
                  <a:pt x="2420" y="936"/>
                </a:lnTo>
                <a:lnTo>
                  <a:pt x="2421" y="965"/>
                </a:lnTo>
                <a:lnTo>
                  <a:pt x="2422" y="1228"/>
                </a:lnTo>
                <a:lnTo>
                  <a:pt x="2423" y="1209"/>
                </a:lnTo>
                <a:lnTo>
                  <a:pt x="2425" y="1122"/>
                </a:lnTo>
                <a:lnTo>
                  <a:pt x="2426" y="1042"/>
                </a:lnTo>
                <a:lnTo>
                  <a:pt x="2428" y="1345"/>
                </a:lnTo>
                <a:lnTo>
                  <a:pt x="2429" y="966"/>
                </a:lnTo>
                <a:lnTo>
                  <a:pt x="2430" y="1748"/>
                </a:lnTo>
                <a:lnTo>
                  <a:pt x="2431" y="750"/>
                </a:lnTo>
                <a:lnTo>
                  <a:pt x="2432" y="1051"/>
                </a:lnTo>
                <a:lnTo>
                  <a:pt x="2433" y="1108"/>
                </a:lnTo>
                <a:lnTo>
                  <a:pt x="2434" y="611"/>
                </a:lnTo>
                <a:lnTo>
                  <a:pt x="2436" y="1011"/>
                </a:lnTo>
                <a:lnTo>
                  <a:pt x="2438" y="1122"/>
                </a:lnTo>
                <a:lnTo>
                  <a:pt x="2439" y="840"/>
                </a:lnTo>
                <a:lnTo>
                  <a:pt x="2440" y="503"/>
                </a:lnTo>
                <a:lnTo>
                  <a:pt x="2441" y="826"/>
                </a:lnTo>
                <a:lnTo>
                  <a:pt x="2442" y="980"/>
                </a:lnTo>
                <a:lnTo>
                  <a:pt x="2443" y="657"/>
                </a:lnTo>
                <a:lnTo>
                  <a:pt x="2444" y="1327"/>
                </a:lnTo>
                <a:lnTo>
                  <a:pt x="2445" y="1041"/>
                </a:lnTo>
                <a:lnTo>
                  <a:pt x="2448" y="987"/>
                </a:lnTo>
                <a:lnTo>
                  <a:pt x="2449" y="704"/>
                </a:lnTo>
                <a:lnTo>
                  <a:pt x="2450" y="873"/>
                </a:lnTo>
                <a:lnTo>
                  <a:pt x="2451" y="594"/>
                </a:lnTo>
                <a:lnTo>
                  <a:pt x="2452" y="830"/>
                </a:lnTo>
                <a:lnTo>
                  <a:pt x="2453" y="1049"/>
                </a:lnTo>
                <a:lnTo>
                  <a:pt x="2454" y="1044"/>
                </a:lnTo>
                <a:lnTo>
                  <a:pt x="2455" y="1722"/>
                </a:lnTo>
                <a:lnTo>
                  <a:pt x="2457" y="1199"/>
                </a:lnTo>
                <a:lnTo>
                  <a:pt x="2459" y="1530"/>
                </a:lnTo>
                <a:lnTo>
                  <a:pt x="2460" y="1263"/>
                </a:lnTo>
                <a:lnTo>
                  <a:pt x="2461" y="1053"/>
                </a:lnTo>
                <a:lnTo>
                  <a:pt x="2462" y="1420"/>
                </a:lnTo>
                <a:lnTo>
                  <a:pt x="2463" y="1402"/>
                </a:lnTo>
                <a:lnTo>
                  <a:pt x="2464" y="1058"/>
                </a:lnTo>
                <a:lnTo>
                  <a:pt x="2466" y="815"/>
                </a:lnTo>
                <a:lnTo>
                  <a:pt x="2467" y="989"/>
                </a:lnTo>
                <a:lnTo>
                  <a:pt x="2468" y="1040"/>
                </a:lnTo>
                <a:lnTo>
                  <a:pt x="2470" y="1138"/>
                </a:lnTo>
                <a:lnTo>
                  <a:pt x="2471" y="1064"/>
                </a:lnTo>
                <a:lnTo>
                  <a:pt x="2472" y="884"/>
                </a:lnTo>
                <a:lnTo>
                  <a:pt x="2473" y="1005"/>
                </a:lnTo>
                <a:lnTo>
                  <a:pt x="2474" y="813"/>
                </a:lnTo>
                <a:lnTo>
                  <a:pt x="2476" y="1290"/>
                </a:lnTo>
                <a:lnTo>
                  <a:pt x="2477" y="909"/>
                </a:lnTo>
                <a:lnTo>
                  <a:pt x="2478" y="1092"/>
                </a:lnTo>
                <a:lnTo>
                  <a:pt x="2479" y="907"/>
                </a:lnTo>
                <a:lnTo>
                  <a:pt x="2481" y="1229"/>
                </a:lnTo>
                <a:lnTo>
                  <a:pt x="2482" y="904"/>
                </a:lnTo>
                <a:lnTo>
                  <a:pt x="2483" y="936"/>
                </a:lnTo>
                <a:lnTo>
                  <a:pt x="2484" y="858"/>
                </a:lnTo>
                <a:lnTo>
                  <a:pt x="2486" y="909"/>
                </a:lnTo>
                <a:lnTo>
                  <a:pt x="2487" y="859"/>
                </a:lnTo>
                <a:lnTo>
                  <a:pt x="2488" y="927"/>
                </a:lnTo>
                <a:lnTo>
                  <a:pt x="2489" y="535"/>
                </a:lnTo>
                <a:lnTo>
                  <a:pt x="2490" y="790"/>
                </a:lnTo>
                <a:lnTo>
                  <a:pt x="2491" y="933"/>
                </a:lnTo>
                <a:lnTo>
                  <a:pt x="2493" y="808"/>
                </a:lnTo>
                <a:lnTo>
                  <a:pt x="2495" y="1306"/>
                </a:lnTo>
                <a:lnTo>
                  <a:pt x="2496" y="619"/>
                </a:lnTo>
                <a:lnTo>
                  <a:pt x="2497" y="866"/>
                </a:lnTo>
                <a:lnTo>
                  <a:pt x="2498" y="1226"/>
                </a:lnTo>
                <a:lnTo>
                  <a:pt x="2499" y="689"/>
                </a:lnTo>
                <a:lnTo>
                  <a:pt x="2500" y="1134"/>
                </a:lnTo>
                <a:lnTo>
                  <a:pt x="2501" y="928"/>
                </a:lnTo>
                <a:lnTo>
                  <a:pt x="2502" y="431"/>
                </a:lnTo>
                <a:lnTo>
                  <a:pt x="2505" y="1282"/>
                </a:lnTo>
                <a:lnTo>
                  <a:pt x="2506" y="1089"/>
                </a:lnTo>
                <a:lnTo>
                  <a:pt x="2507" y="690"/>
                </a:lnTo>
                <a:lnTo>
                  <a:pt x="2508" y="563"/>
                </a:lnTo>
                <a:lnTo>
                  <a:pt x="2509" y="1005"/>
                </a:lnTo>
                <a:lnTo>
                  <a:pt x="2510" y="1225"/>
                </a:lnTo>
                <a:lnTo>
                  <a:pt x="2511" y="1039"/>
                </a:lnTo>
                <a:lnTo>
                  <a:pt x="2512" y="924"/>
                </a:lnTo>
                <a:lnTo>
                  <a:pt x="2513" y="1032"/>
                </a:lnTo>
                <a:lnTo>
                  <a:pt x="2516" y="964"/>
                </a:lnTo>
                <a:lnTo>
                  <a:pt x="2517" y="876"/>
                </a:lnTo>
                <a:lnTo>
                  <a:pt x="2518" y="1534"/>
                </a:lnTo>
                <a:lnTo>
                  <a:pt x="2519" y="443"/>
                </a:lnTo>
                <a:lnTo>
                  <a:pt x="2520" y="1081"/>
                </a:lnTo>
                <a:lnTo>
                  <a:pt x="2521" y="1663"/>
                </a:lnTo>
                <a:lnTo>
                  <a:pt x="2522" y="1124"/>
                </a:lnTo>
                <a:lnTo>
                  <a:pt x="2524" y="571"/>
                </a:lnTo>
                <a:lnTo>
                  <a:pt x="2525" y="1241"/>
                </a:lnTo>
                <a:lnTo>
                  <a:pt x="2527" y="915"/>
                </a:lnTo>
                <a:lnTo>
                  <a:pt x="2528" y="414"/>
                </a:lnTo>
                <a:lnTo>
                  <a:pt x="2529" y="664"/>
                </a:lnTo>
                <a:lnTo>
                  <a:pt x="2530" y="648"/>
                </a:lnTo>
                <a:lnTo>
                  <a:pt x="2531" y="1334"/>
                </a:lnTo>
                <a:lnTo>
                  <a:pt x="2532" y="1332"/>
                </a:lnTo>
                <a:lnTo>
                  <a:pt x="2534" y="1209"/>
                </a:lnTo>
                <a:lnTo>
                  <a:pt x="2535" y="952"/>
                </a:lnTo>
                <a:lnTo>
                  <a:pt x="2536" y="1345"/>
                </a:lnTo>
                <a:lnTo>
                  <a:pt x="2538" y="456"/>
                </a:lnTo>
                <a:lnTo>
                  <a:pt x="2539" y="769"/>
                </a:lnTo>
                <a:lnTo>
                  <a:pt x="2540" y="580"/>
                </a:lnTo>
                <a:lnTo>
                  <a:pt x="2541" y="883"/>
                </a:lnTo>
                <a:lnTo>
                  <a:pt x="2542" y="1264"/>
                </a:lnTo>
                <a:lnTo>
                  <a:pt x="2544" y="1207"/>
                </a:lnTo>
                <a:lnTo>
                  <a:pt x="2545" y="724"/>
                </a:lnTo>
                <a:lnTo>
                  <a:pt x="2546" y="1671"/>
                </a:lnTo>
                <a:lnTo>
                  <a:pt x="2547" y="455"/>
                </a:lnTo>
                <a:lnTo>
                  <a:pt x="2548" y="1360"/>
                </a:lnTo>
                <a:lnTo>
                  <a:pt x="2550" y="1041"/>
                </a:lnTo>
                <a:lnTo>
                  <a:pt x="2551" y="662"/>
                </a:lnTo>
                <a:lnTo>
                  <a:pt x="2553" y="508"/>
                </a:lnTo>
                <a:lnTo>
                  <a:pt x="2554" y="1487"/>
                </a:lnTo>
                <a:lnTo>
                  <a:pt x="2555" y="622"/>
                </a:lnTo>
                <a:lnTo>
                  <a:pt x="2556" y="769"/>
                </a:lnTo>
                <a:lnTo>
                  <a:pt x="2557" y="702"/>
                </a:lnTo>
                <a:lnTo>
                  <a:pt x="2558" y="1229"/>
                </a:lnTo>
                <a:lnTo>
                  <a:pt x="2559" y="974"/>
                </a:lnTo>
                <a:lnTo>
                  <a:pt x="2561" y="584"/>
                </a:lnTo>
                <a:lnTo>
                  <a:pt x="2563" y="1054"/>
                </a:lnTo>
                <a:lnTo>
                  <a:pt x="2564" y="614"/>
                </a:lnTo>
                <a:lnTo>
                  <a:pt x="2565" y="1731"/>
                </a:lnTo>
                <a:lnTo>
                  <a:pt x="2566" y="1292"/>
                </a:lnTo>
                <a:lnTo>
                  <a:pt x="2567" y="1093"/>
                </a:lnTo>
                <a:lnTo>
                  <a:pt x="2568" y="1009"/>
                </a:lnTo>
                <a:lnTo>
                  <a:pt x="2569" y="699"/>
                </a:lnTo>
                <a:lnTo>
                  <a:pt x="2570" y="1189"/>
                </a:lnTo>
                <a:lnTo>
                  <a:pt x="2573" y="953"/>
                </a:lnTo>
                <a:lnTo>
                  <a:pt x="2574" y="1199"/>
                </a:lnTo>
                <a:lnTo>
                  <a:pt x="2575" y="1091"/>
                </a:lnTo>
                <a:lnTo>
                  <a:pt x="2576" y="1606"/>
                </a:lnTo>
                <a:lnTo>
                  <a:pt x="2577" y="1114"/>
                </a:lnTo>
                <a:lnTo>
                  <a:pt x="2578" y="902"/>
                </a:lnTo>
                <a:lnTo>
                  <a:pt x="2579" y="899"/>
                </a:lnTo>
                <a:lnTo>
                  <a:pt x="2580" y="887"/>
                </a:lnTo>
                <a:lnTo>
                  <a:pt x="2582" y="777"/>
                </a:lnTo>
                <a:lnTo>
                  <a:pt x="2584" y="718"/>
                </a:lnTo>
                <a:lnTo>
                  <a:pt x="2585" y="1235"/>
                </a:lnTo>
                <a:lnTo>
                  <a:pt x="2586" y="1062"/>
                </a:lnTo>
                <a:lnTo>
                  <a:pt x="2587" y="640"/>
                </a:lnTo>
                <a:lnTo>
                  <a:pt x="2588" y="921"/>
                </a:lnTo>
                <a:lnTo>
                  <a:pt x="2589" y="926"/>
                </a:lnTo>
                <a:lnTo>
                  <a:pt x="2590" y="1436"/>
                </a:lnTo>
                <a:lnTo>
                  <a:pt x="2592" y="1323"/>
                </a:lnTo>
                <a:lnTo>
                  <a:pt x="2593" y="901"/>
                </a:lnTo>
                <a:lnTo>
                  <a:pt x="2595" y="885"/>
                </a:lnTo>
                <a:lnTo>
                  <a:pt x="2596" y="1560"/>
                </a:lnTo>
                <a:lnTo>
                  <a:pt x="2597" y="1172"/>
                </a:lnTo>
                <a:lnTo>
                  <a:pt x="2598" y="1440"/>
                </a:lnTo>
                <a:lnTo>
                  <a:pt x="2599" y="844"/>
                </a:lnTo>
                <a:lnTo>
                  <a:pt x="2600" y="1305"/>
                </a:lnTo>
                <a:lnTo>
                  <a:pt x="2602" y="1131"/>
                </a:lnTo>
                <a:lnTo>
                  <a:pt x="2603" y="857"/>
                </a:lnTo>
                <a:lnTo>
                  <a:pt x="2604" y="886"/>
                </a:lnTo>
                <a:lnTo>
                  <a:pt x="2606" y="834"/>
                </a:lnTo>
                <a:lnTo>
                  <a:pt x="2607" y="807"/>
                </a:lnTo>
                <a:lnTo>
                  <a:pt x="2608" y="1151"/>
                </a:lnTo>
                <a:lnTo>
                  <a:pt x="2609" y="1188"/>
                </a:lnTo>
                <a:lnTo>
                  <a:pt x="2611" y="821"/>
                </a:lnTo>
                <a:lnTo>
                  <a:pt x="2612" y="1473"/>
                </a:lnTo>
                <a:lnTo>
                  <a:pt x="2613" y="443"/>
                </a:lnTo>
                <a:lnTo>
                  <a:pt x="2614" y="994"/>
                </a:lnTo>
                <a:lnTo>
                  <a:pt x="2615" y="1046"/>
                </a:lnTo>
                <a:lnTo>
                  <a:pt x="2616" y="1079"/>
                </a:lnTo>
                <a:lnTo>
                  <a:pt x="2618" y="1300"/>
                </a:lnTo>
                <a:lnTo>
                  <a:pt x="2619" y="901"/>
                </a:lnTo>
                <a:lnTo>
                  <a:pt x="2621" y="1194"/>
                </a:lnTo>
                <a:lnTo>
                  <a:pt x="2622" y="746"/>
                </a:lnTo>
                <a:lnTo>
                  <a:pt x="2623" y="830"/>
                </a:lnTo>
                <a:lnTo>
                  <a:pt x="2624" y="1493"/>
                </a:lnTo>
                <a:lnTo>
                  <a:pt x="2625" y="1309"/>
                </a:lnTo>
                <a:lnTo>
                  <a:pt x="2626" y="979"/>
                </a:lnTo>
                <a:lnTo>
                  <a:pt x="2627" y="772"/>
                </a:lnTo>
                <a:lnTo>
                  <a:pt x="2629" y="761"/>
                </a:lnTo>
                <a:lnTo>
                  <a:pt x="2631" y="1201"/>
                </a:lnTo>
                <a:lnTo>
                  <a:pt x="2632" y="1161"/>
                </a:lnTo>
                <a:lnTo>
                  <a:pt x="2633" y="1326"/>
                </a:lnTo>
                <a:lnTo>
                  <a:pt x="2634" y="1113"/>
                </a:lnTo>
                <a:lnTo>
                  <a:pt x="2635" y="1134"/>
                </a:lnTo>
                <a:lnTo>
                  <a:pt x="2636" y="862"/>
                </a:lnTo>
                <a:lnTo>
                  <a:pt x="2637" y="502"/>
                </a:lnTo>
                <a:lnTo>
                  <a:pt x="2638" y="516"/>
                </a:lnTo>
                <a:lnTo>
                  <a:pt x="2641" y="927"/>
                </a:lnTo>
                <a:lnTo>
                  <a:pt x="2642" y="1103"/>
                </a:lnTo>
                <a:lnTo>
                  <a:pt x="2643" y="975"/>
                </a:lnTo>
                <a:lnTo>
                  <a:pt x="2644" y="1219"/>
                </a:lnTo>
                <a:lnTo>
                  <a:pt x="2645" y="967"/>
                </a:lnTo>
                <a:lnTo>
                  <a:pt x="2646" y="1161"/>
                </a:lnTo>
                <a:lnTo>
                  <a:pt x="2647" y="1360"/>
                </a:lnTo>
                <a:lnTo>
                  <a:pt x="2648" y="1177"/>
                </a:lnTo>
                <a:lnTo>
                  <a:pt x="2650" y="1344"/>
                </a:lnTo>
                <a:lnTo>
                  <a:pt x="2652" y="1035"/>
                </a:lnTo>
                <a:lnTo>
                  <a:pt x="2653" y="921"/>
                </a:lnTo>
                <a:lnTo>
                  <a:pt x="2654" y="498"/>
                </a:lnTo>
                <a:lnTo>
                  <a:pt x="2655" y="867"/>
                </a:lnTo>
                <a:lnTo>
                  <a:pt x="2656" y="802"/>
                </a:lnTo>
                <a:lnTo>
                  <a:pt x="2657" y="1509"/>
                </a:lnTo>
                <a:lnTo>
                  <a:pt x="2658" y="887"/>
                </a:lnTo>
                <a:lnTo>
                  <a:pt x="2660" y="1108"/>
                </a:lnTo>
                <a:lnTo>
                  <a:pt x="2661" y="1131"/>
                </a:lnTo>
                <a:lnTo>
                  <a:pt x="2663" y="964"/>
                </a:lnTo>
                <a:lnTo>
                  <a:pt x="2664" y="758"/>
                </a:lnTo>
                <a:lnTo>
                  <a:pt x="2665" y="733"/>
                </a:lnTo>
                <a:lnTo>
                  <a:pt x="2666" y="780"/>
                </a:lnTo>
                <a:lnTo>
                  <a:pt x="2667" y="844"/>
                </a:lnTo>
                <a:lnTo>
                  <a:pt x="2669" y="844"/>
                </a:lnTo>
                <a:lnTo>
                  <a:pt x="2670" y="1260"/>
                </a:lnTo>
                <a:lnTo>
                  <a:pt x="2671" y="945"/>
                </a:lnTo>
                <a:lnTo>
                  <a:pt x="2672" y="1199"/>
                </a:lnTo>
                <a:lnTo>
                  <a:pt x="2673" y="470"/>
                </a:lnTo>
                <a:lnTo>
                  <a:pt x="2675" y="1056"/>
                </a:lnTo>
                <a:lnTo>
                  <a:pt x="2676" y="1397"/>
                </a:lnTo>
                <a:lnTo>
                  <a:pt x="2677" y="1465"/>
                </a:lnTo>
                <a:lnTo>
                  <a:pt x="2679" y="1495"/>
                </a:lnTo>
                <a:lnTo>
                  <a:pt x="2680" y="931"/>
                </a:lnTo>
                <a:lnTo>
                  <a:pt x="2681" y="1166"/>
                </a:lnTo>
                <a:lnTo>
                  <a:pt x="2682" y="1043"/>
                </a:lnTo>
                <a:lnTo>
                  <a:pt x="2683" y="985"/>
                </a:lnTo>
                <a:lnTo>
                  <a:pt x="2684" y="1121"/>
                </a:lnTo>
                <a:lnTo>
                  <a:pt x="2686" y="1247"/>
                </a:lnTo>
                <a:lnTo>
                  <a:pt x="2687" y="1278"/>
                </a:lnTo>
                <a:lnTo>
                  <a:pt x="2689" y="664"/>
                </a:lnTo>
                <a:lnTo>
                  <a:pt x="2690" y="1176"/>
                </a:lnTo>
                <a:lnTo>
                  <a:pt x="2691" y="742"/>
                </a:lnTo>
                <a:lnTo>
                  <a:pt x="2692" y="1117"/>
                </a:lnTo>
                <a:lnTo>
                  <a:pt x="2693" y="1101"/>
                </a:lnTo>
                <a:lnTo>
                  <a:pt x="2694" y="1696"/>
                </a:lnTo>
                <a:lnTo>
                  <a:pt x="2695" y="1033"/>
                </a:lnTo>
                <a:lnTo>
                  <a:pt x="2698" y="581"/>
                </a:lnTo>
                <a:lnTo>
                  <a:pt x="2699" y="1531"/>
                </a:lnTo>
                <a:lnTo>
                  <a:pt x="2700" y="1149"/>
                </a:lnTo>
                <a:lnTo>
                  <a:pt x="2701" y="855"/>
                </a:lnTo>
                <a:lnTo>
                  <a:pt x="2702" y="2083"/>
                </a:lnTo>
                <a:lnTo>
                  <a:pt x="2703" y="714"/>
                </a:lnTo>
                <a:lnTo>
                  <a:pt x="2704" y="1251"/>
                </a:lnTo>
                <a:lnTo>
                  <a:pt x="2705" y="1606"/>
                </a:lnTo>
                <a:lnTo>
                  <a:pt x="2706" y="792"/>
                </a:lnTo>
                <a:lnTo>
                  <a:pt x="2709" y="636"/>
                </a:lnTo>
                <a:lnTo>
                  <a:pt x="2710" y="1152"/>
                </a:lnTo>
                <a:lnTo>
                  <a:pt x="2711" y="1247"/>
                </a:lnTo>
                <a:lnTo>
                  <a:pt x="2712" y="974"/>
                </a:lnTo>
                <a:lnTo>
                  <a:pt x="2713" y="473"/>
                </a:lnTo>
                <a:lnTo>
                  <a:pt x="2714" y="688"/>
                </a:lnTo>
                <a:lnTo>
                  <a:pt x="2715" y="789"/>
                </a:lnTo>
                <a:lnTo>
                  <a:pt x="2717" y="1078"/>
                </a:lnTo>
                <a:lnTo>
                  <a:pt x="2718" y="1183"/>
                </a:lnTo>
                <a:lnTo>
                  <a:pt x="2720" y="770"/>
                </a:lnTo>
                <a:lnTo>
                  <a:pt x="2721" y="870"/>
                </a:lnTo>
                <a:lnTo>
                  <a:pt x="2722" y="1387"/>
                </a:lnTo>
                <a:lnTo>
                  <a:pt x="2723" y="1147"/>
                </a:lnTo>
                <a:lnTo>
                  <a:pt x="2724" y="1141"/>
                </a:lnTo>
                <a:lnTo>
                  <a:pt x="2725" y="1229"/>
                </a:lnTo>
                <a:lnTo>
                  <a:pt x="2727" y="1026"/>
                </a:lnTo>
                <a:lnTo>
                  <a:pt x="2728" y="1092"/>
                </a:lnTo>
                <a:lnTo>
                  <a:pt x="2729" y="623"/>
                </a:lnTo>
                <a:lnTo>
                  <a:pt x="2731" y="668"/>
                </a:lnTo>
                <a:lnTo>
                  <a:pt x="2732" y="1137"/>
                </a:lnTo>
                <a:lnTo>
                  <a:pt x="2733" y="1617"/>
                </a:lnTo>
                <a:lnTo>
                  <a:pt x="2734" y="785"/>
                </a:lnTo>
                <a:lnTo>
                  <a:pt x="2735" y="1006"/>
                </a:lnTo>
                <a:lnTo>
                  <a:pt x="2737" y="398"/>
                </a:lnTo>
                <a:lnTo>
                  <a:pt x="2738" y="1093"/>
                </a:lnTo>
                <a:lnTo>
                  <a:pt x="2739" y="1023"/>
                </a:lnTo>
                <a:lnTo>
                  <a:pt x="2740" y="976"/>
                </a:lnTo>
                <a:lnTo>
                  <a:pt x="2741" y="553"/>
                </a:lnTo>
                <a:lnTo>
                  <a:pt x="2743" y="1058"/>
                </a:lnTo>
                <a:lnTo>
                  <a:pt x="2744" y="1208"/>
                </a:lnTo>
                <a:lnTo>
                  <a:pt x="2746" y="1415"/>
                </a:lnTo>
                <a:lnTo>
                  <a:pt x="2747" y="1795"/>
                </a:lnTo>
                <a:lnTo>
                  <a:pt x="2748" y="1043"/>
                </a:lnTo>
                <a:lnTo>
                  <a:pt x="2749" y="1258"/>
                </a:lnTo>
                <a:lnTo>
                  <a:pt x="2750" y="876"/>
                </a:lnTo>
                <a:lnTo>
                  <a:pt x="2751" y="733"/>
                </a:lnTo>
                <a:lnTo>
                  <a:pt x="2752" y="951"/>
                </a:lnTo>
                <a:lnTo>
                  <a:pt x="2754" y="917"/>
                </a:lnTo>
                <a:lnTo>
                  <a:pt x="2756" y="1002"/>
                </a:lnTo>
                <a:lnTo>
                  <a:pt x="2757" y="724"/>
                </a:lnTo>
                <a:lnTo>
                  <a:pt x="2758" y="1231"/>
                </a:lnTo>
                <a:lnTo>
                  <a:pt x="2759" y="1334"/>
                </a:lnTo>
                <a:lnTo>
                  <a:pt x="2760" y="924"/>
                </a:lnTo>
                <a:lnTo>
                  <a:pt x="2761" y="616"/>
                </a:lnTo>
                <a:lnTo>
                  <a:pt x="2762" y="960"/>
                </a:lnTo>
                <a:lnTo>
                  <a:pt x="2763" y="1044"/>
                </a:lnTo>
                <a:lnTo>
                  <a:pt x="2766" y="893"/>
                </a:lnTo>
                <a:lnTo>
                  <a:pt x="2767" y="1540"/>
                </a:lnTo>
                <a:lnTo>
                  <a:pt x="2768" y="1459"/>
                </a:lnTo>
                <a:lnTo>
                  <a:pt x="2769" y="719"/>
                </a:lnTo>
                <a:lnTo>
                  <a:pt x="2770" y="992"/>
                </a:lnTo>
                <a:lnTo>
                  <a:pt x="2771" y="1099"/>
                </a:lnTo>
                <a:lnTo>
                  <a:pt x="2772" y="1227"/>
                </a:lnTo>
                <a:lnTo>
                  <a:pt x="2773" y="1201"/>
                </a:lnTo>
                <a:lnTo>
                  <a:pt x="2775" y="536"/>
                </a:lnTo>
                <a:lnTo>
                  <a:pt x="2777" y="963"/>
                </a:lnTo>
                <a:lnTo>
                  <a:pt x="2778" y="1079"/>
                </a:lnTo>
                <a:lnTo>
                  <a:pt x="2779" y="132"/>
                </a:lnTo>
                <a:lnTo>
                  <a:pt x="2780" y="1038"/>
                </a:lnTo>
                <a:lnTo>
                  <a:pt x="2781" y="936"/>
                </a:lnTo>
                <a:lnTo>
                  <a:pt x="2782" y="942"/>
                </a:lnTo>
                <a:lnTo>
                  <a:pt x="2783" y="781"/>
                </a:lnTo>
                <a:lnTo>
                  <a:pt x="2785" y="1325"/>
                </a:lnTo>
                <a:lnTo>
                  <a:pt x="2786" y="1351"/>
                </a:lnTo>
                <a:lnTo>
                  <a:pt x="2788" y="1207"/>
                </a:lnTo>
                <a:lnTo>
                  <a:pt x="2789" y="872"/>
                </a:lnTo>
                <a:lnTo>
                  <a:pt x="2790" y="801"/>
                </a:lnTo>
                <a:lnTo>
                  <a:pt x="2791" y="801"/>
                </a:lnTo>
                <a:lnTo>
                  <a:pt x="2792" y="1698"/>
                </a:lnTo>
                <a:lnTo>
                  <a:pt x="2793" y="691"/>
                </a:lnTo>
                <a:lnTo>
                  <a:pt x="2795" y="933"/>
                </a:lnTo>
                <a:lnTo>
                  <a:pt x="2796" y="1004"/>
                </a:lnTo>
                <a:lnTo>
                  <a:pt x="2797" y="983"/>
                </a:lnTo>
                <a:lnTo>
                  <a:pt x="2799" y="1459"/>
                </a:lnTo>
                <a:lnTo>
                  <a:pt x="2800" y="902"/>
                </a:lnTo>
                <a:lnTo>
                  <a:pt x="2801" y="1172"/>
                </a:lnTo>
                <a:lnTo>
                  <a:pt x="2802" y="1521"/>
                </a:lnTo>
                <a:lnTo>
                  <a:pt x="2804" y="1072"/>
                </a:lnTo>
                <a:lnTo>
                  <a:pt x="2805" y="1082"/>
                </a:lnTo>
                <a:lnTo>
                  <a:pt x="2806" y="899"/>
                </a:lnTo>
                <a:lnTo>
                  <a:pt x="2807" y="878"/>
                </a:lnTo>
                <a:lnTo>
                  <a:pt x="2808" y="1316"/>
                </a:lnTo>
                <a:lnTo>
                  <a:pt x="2809" y="1134"/>
                </a:lnTo>
                <a:lnTo>
                  <a:pt x="2811" y="1289"/>
                </a:lnTo>
                <a:lnTo>
                  <a:pt x="2812" y="1108"/>
                </a:lnTo>
                <a:lnTo>
                  <a:pt x="2814" y="672"/>
                </a:lnTo>
                <a:lnTo>
                  <a:pt x="2815" y="1119"/>
                </a:lnTo>
                <a:lnTo>
                  <a:pt x="2816" y="476"/>
                </a:lnTo>
                <a:lnTo>
                  <a:pt x="2817" y="801"/>
                </a:lnTo>
                <a:lnTo>
                  <a:pt x="2818" y="1462"/>
                </a:lnTo>
                <a:lnTo>
                  <a:pt x="2819" y="713"/>
                </a:lnTo>
                <a:lnTo>
                  <a:pt x="2820" y="1219"/>
                </a:lnTo>
                <a:lnTo>
                  <a:pt x="2822" y="1263"/>
                </a:lnTo>
                <a:lnTo>
                  <a:pt x="2824" y="532"/>
                </a:lnTo>
                <a:lnTo>
                  <a:pt x="2825" y="807"/>
                </a:lnTo>
                <a:lnTo>
                  <a:pt x="2826" y="1081"/>
                </a:lnTo>
                <a:lnTo>
                  <a:pt x="2827" y="1217"/>
                </a:lnTo>
                <a:lnTo>
                  <a:pt x="2828" y="1469"/>
                </a:lnTo>
                <a:lnTo>
                  <a:pt x="2829" y="1367"/>
                </a:lnTo>
                <a:lnTo>
                  <a:pt x="2830" y="1440"/>
                </a:lnTo>
                <a:lnTo>
                  <a:pt x="2831" y="1274"/>
                </a:lnTo>
                <a:lnTo>
                  <a:pt x="2834" y="1014"/>
                </a:lnTo>
                <a:lnTo>
                  <a:pt x="2835" y="1386"/>
                </a:lnTo>
                <a:lnTo>
                  <a:pt x="2836" y="864"/>
                </a:lnTo>
                <a:lnTo>
                  <a:pt x="2837" y="701"/>
                </a:lnTo>
                <a:lnTo>
                  <a:pt x="2838" y="811"/>
                </a:lnTo>
                <a:lnTo>
                  <a:pt x="2839" y="902"/>
                </a:lnTo>
                <a:lnTo>
                  <a:pt x="2840" y="703"/>
                </a:lnTo>
                <a:lnTo>
                  <a:pt x="2841" y="999"/>
                </a:lnTo>
                <a:lnTo>
                  <a:pt x="2843" y="1365"/>
                </a:lnTo>
                <a:lnTo>
                  <a:pt x="2845" y="1559"/>
                </a:lnTo>
                <a:lnTo>
                  <a:pt x="2846" y="1175"/>
                </a:lnTo>
                <a:lnTo>
                  <a:pt x="2847" y="743"/>
                </a:lnTo>
                <a:lnTo>
                  <a:pt x="2848" y="1012"/>
                </a:lnTo>
                <a:lnTo>
                  <a:pt x="2849" y="937"/>
                </a:lnTo>
                <a:lnTo>
                  <a:pt x="2850" y="962"/>
                </a:lnTo>
                <a:lnTo>
                  <a:pt x="2851" y="740"/>
                </a:lnTo>
                <a:lnTo>
                  <a:pt x="2853" y="466"/>
                </a:lnTo>
                <a:lnTo>
                  <a:pt x="2854" y="1217"/>
                </a:lnTo>
                <a:lnTo>
                  <a:pt x="2856" y="1302"/>
                </a:lnTo>
                <a:lnTo>
                  <a:pt x="2857" y="982"/>
                </a:lnTo>
                <a:lnTo>
                  <a:pt x="2858" y="897"/>
                </a:lnTo>
                <a:lnTo>
                  <a:pt x="2859" y="1285"/>
                </a:lnTo>
                <a:lnTo>
                  <a:pt x="2860" y="644"/>
                </a:lnTo>
                <a:lnTo>
                  <a:pt x="2862" y="1009"/>
                </a:lnTo>
                <a:lnTo>
                  <a:pt x="2863" y="1182"/>
                </a:lnTo>
                <a:lnTo>
                  <a:pt x="2864" y="882"/>
                </a:lnTo>
                <a:lnTo>
                  <a:pt x="2865" y="1473"/>
                </a:lnTo>
                <a:lnTo>
                  <a:pt x="2866" y="1211"/>
                </a:lnTo>
                <a:lnTo>
                  <a:pt x="2868" y="1475"/>
                </a:lnTo>
                <a:lnTo>
                  <a:pt x="2869" y="1277"/>
                </a:lnTo>
                <a:lnTo>
                  <a:pt x="2870" y="1095"/>
                </a:lnTo>
                <a:lnTo>
                  <a:pt x="2872" y="655"/>
                </a:lnTo>
                <a:lnTo>
                  <a:pt x="2873" y="1161"/>
                </a:lnTo>
                <a:lnTo>
                  <a:pt x="2874" y="992"/>
                </a:lnTo>
                <a:lnTo>
                  <a:pt x="2875" y="1234"/>
                </a:lnTo>
                <a:lnTo>
                  <a:pt x="2876" y="825"/>
                </a:lnTo>
                <a:lnTo>
                  <a:pt x="2877" y="1094"/>
                </a:lnTo>
                <a:lnTo>
                  <a:pt x="2879" y="785"/>
                </a:lnTo>
                <a:lnTo>
                  <a:pt x="2880" y="1041"/>
                </a:lnTo>
                <a:lnTo>
                  <a:pt x="2882" y="1178"/>
                </a:lnTo>
                <a:lnTo>
                  <a:pt x="2883" y="669"/>
                </a:lnTo>
                <a:lnTo>
                  <a:pt x="2884" y="1118"/>
                </a:lnTo>
                <a:lnTo>
                  <a:pt x="2885" y="1637"/>
                </a:lnTo>
                <a:lnTo>
                  <a:pt x="2886" y="915"/>
                </a:lnTo>
                <a:lnTo>
                  <a:pt x="2887" y="885"/>
                </a:lnTo>
                <a:lnTo>
                  <a:pt x="2888" y="1025"/>
                </a:lnTo>
                <a:lnTo>
                  <a:pt x="2891" y="1297"/>
                </a:lnTo>
                <a:lnTo>
                  <a:pt x="2892" y="982"/>
                </a:lnTo>
                <a:lnTo>
                  <a:pt x="2893" y="1247"/>
                </a:lnTo>
                <a:lnTo>
                  <a:pt x="2894" y="1265"/>
                </a:lnTo>
                <a:lnTo>
                  <a:pt x="2895" y="1433"/>
                </a:lnTo>
                <a:lnTo>
                  <a:pt x="2896" y="954"/>
                </a:lnTo>
                <a:lnTo>
                  <a:pt x="2897" y="1333"/>
                </a:lnTo>
                <a:lnTo>
                  <a:pt x="2898" y="634"/>
                </a:lnTo>
                <a:lnTo>
                  <a:pt x="2899" y="1384"/>
                </a:lnTo>
                <a:lnTo>
                  <a:pt x="2902" y="1358"/>
                </a:lnTo>
                <a:lnTo>
                  <a:pt x="2903" y="516"/>
                </a:lnTo>
                <a:lnTo>
                  <a:pt x="2904" y="1157"/>
                </a:lnTo>
                <a:lnTo>
                  <a:pt x="2905" y="1436"/>
                </a:lnTo>
                <a:lnTo>
                  <a:pt x="2906" y="462"/>
                </a:lnTo>
                <a:lnTo>
                  <a:pt x="2907" y="816"/>
                </a:lnTo>
                <a:lnTo>
                  <a:pt x="2908" y="1108"/>
                </a:lnTo>
                <a:lnTo>
                  <a:pt x="2909" y="786"/>
                </a:lnTo>
                <a:lnTo>
                  <a:pt x="2911" y="1075"/>
                </a:lnTo>
                <a:lnTo>
                  <a:pt x="2913" y="1433"/>
                </a:lnTo>
                <a:lnTo>
                  <a:pt x="2914" y="890"/>
                </a:lnTo>
                <a:lnTo>
                  <a:pt x="2915" y="1322"/>
                </a:lnTo>
                <a:lnTo>
                  <a:pt x="2916" y="986"/>
                </a:lnTo>
                <a:lnTo>
                  <a:pt x="2917" y="1063"/>
                </a:lnTo>
                <a:lnTo>
                  <a:pt x="2918" y="1368"/>
                </a:lnTo>
                <a:lnTo>
                  <a:pt x="2920" y="1273"/>
                </a:lnTo>
                <a:lnTo>
                  <a:pt x="2921" y="1300"/>
                </a:lnTo>
                <a:lnTo>
                  <a:pt x="2922" y="985"/>
                </a:lnTo>
                <a:lnTo>
                  <a:pt x="2924" y="1087"/>
                </a:lnTo>
                <a:lnTo>
                  <a:pt x="2925" y="1000"/>
                </a:lnTo>
                <a:lnTo>
                  <a:pt x="2926" y="880"/>
                </a:lnTo>
                <a:lnTo>
                  <a:pt x="2927" y="659"/>
                </a:lnTo>
                <a:lnTo>
                  <a:pt x="2928" y="599"/>
                </a:lnTo>
                <a:lnTo>
                  <a:pt x="2930" y="1049"/>
                </a:lnTo>
                <a:lnTo>
                  <a:pt x="2931" y="899"/>
                </a:lnTo>
                <a:lnTo>
                  <a:pt x="2932" y="814"/>
                </a:lnTo>
                <a:lnTo>
                  <a:pt x="2933" y="901"/>
                </a:lnTo>
                <a:lnTo>
                  <a:pt x="2934" y="1295"/>
                </a:lnTo>
                <a:lnTo>
                  <a:pt x="2936" y="982"/>
                </a:lnTo>
                <a:lnTo>
                  <a:pt x="2937" y="1483"/>
                </a:lnTo>
                <a:lnTo>
                  <a:pt x="2938" y="721"/>
                </a:lnTo>
                <a:lnTo>
                  <a:pt x="2940" y="774"/>
                </a:lnTo>
                <a:lnTo>
                  <a:pt x="2941" y="1449"/>
                </a:lnTo>
                <a:lnTo>
                  <a:pt x="2942" y="742"/>
                </a:lnTo>
                <a:lnTo>
                  <a:pt x="2943" y="1050"/>
                </a:lnTo>
                <a:lnTo>
                  <a:pt x="2944" y="942"/>
                </a:lnTo>
                <a:lnTo>
                  <a:pt x="2945" y="1094"/>
                </a:lnTo>
                <a:lnTo>
                  <a:pt x="2947" y="728"/>
                </a:lnTo>
                <a:lnTo>
                  <a:pt x="2949" y="1039"/>
                </a:lnTo>
                <a:lnTo>
                  <a:pt x="2950" y="771"/>
                </a:lnTo>
                <a:lnTo>
                  <a:pt x="2951" y="582"/>
                </a:lnTo>
                <a:lnTo>
                  <a:pt x="2952" y="1130"/>
                </a:lnTo>
                <a:lnTo>
                  <a:pt x="2953" y="937"/>
                </a:lnTo>
                <a:lnTo>
                  <a:pt x="2954" y="1120"/>
                </a:lnTo>
                <a:lnTo>
                  <a:pt x="2955" y="1124"/>
                </a:lnTo>
                <a:lnTo>
                  <a:pt x="2956" y="1020"/>
                </a:lnTo>
                <a:lnTo>
                  <a:pt x="2959" y="1108"/>
                </a:lnTo>
                <a:lnTo>
                  <a:pt x="2960" y="1280"/>
                </a:lnTo>
                <a:lnTo>
                  <a:pt x="2961" y="653"/>
                </a:lnTo>
                <a:lnTo>
                  <a:pt x="2962" y="958"/>
                </a:lnTo>
                <a:lnTo>
                  <a:pt x="2963" y="406"/>
                </a:lnTo>
                <a:lnTo>
                  <a:pt x="2964" y="1399"/>
                </a:lnTo>
                <a:lnTo>
                  <a:pt x="2965" y="1256"/>
                </a:lnTo>
                <a:lnTo>
                  <a:pt x="2966" y="1196"/>
                </a:lnTo>
                <a:lnTo>
                  <a:pt x="2968" y="1300"/>
                </a:lnTo>
                <a:lnTo>
                  <a:pt x="2970" y="697"/>
                </a:lnTo>
                <a:lnTo>
                  <a:pt x="2971" y="1020"/>
                </a:lnTo>
                <a:lnTo>
                  <a:pt x="2972" y="706"/>
                </a:lnTo>
                <a:lnTo>
                  <a:pt x="2973" y="726"/>
                </a:lnTo>
                <a:lnTo>
                  <a:pt x="2974" y="1077"/>
                </a:lnTo>
                <a:lnTo>
                  <a:pt x="2975" y="909"/>
                </a:lnTo>
                <a:lnTo>
                  <a:pt x="2976" y="859"/>
                </a:lnTo>
                <a:lnTo>
                  <a:pt x="2978" y="1020"/>
                </a:lnTo>
                <a:lnTo>
                  <a:pt x="2979" y="1187"/>
                </a:lnTo>
                <a:lnTo>
                  <a:pt x="2981" y="1093"/>
                </a:lnTo>
                <a:lnTo>
                  <a:pt x="2982" y="1116"/>
                </a:lnTo>
                <a:lnTo>
                  <a:pt x="2983" y="1168"/>
                </a:lnTo>
                <a:lnTo>
                  <a:pt x="2984" y="706"/>
                </a:lnTo>
                <a:lnTo>
                  <a:pt x="2985" y="923"/>
                </a:lnTo>
                <a:lnTo>
                  <a:pt x="2986" y="1016"/>
                </a:lnTo>
                <a:lnTo>
                  <a:pt x="2988" y="601"/>
                </a:lnTo>
                <a:lnTo>
                  <a:pt x="2989" y="1302"/>
                </a:lnTo>
                <a:lnTo>
                  <a:pt x="2990" y="919"/>
                </a:lnTo>
                <a:lnTo>
                  <a:pt x="2991" y="1199"/>
                </a:lnTo>
                <a:lnTo>
                  <a:pt x="2993" y="810"/>
                </a:lnTo>
                <a:lnTo>
                  <a:pt x="2994" y="972"/>
                </a:lnTo>
                <a:lnTo>
                  <a:pt x="2995" y="1766"/>
                </a:lnTo>
                <a:lnTo>
                  <a:pt x="2997" y="1052"/>
                </a:lnTo>
                <a:lnTo>
                  <a:pt x="2998" y="1014"/>
                </a:lnTo>
                <a:lnTo>
                  <a:pt x="2999" y="1241"/>
                </a:lnTo>
                <a:lnTo>
                  <a:pt x="3000" y="1050"/>
                </a:lnTo>
                <a:lnTo>
                  <a:pt x="3001" y="1233"/>
                </a:lnTo>
                <a:lnTo>
                  <a:pt x="3002" y="1176"/>
                </a:lnTo>
                <a:lnTo>
                  <a:pt x="3004" y="1257"/>
                </a:lnTo>
                <a:lnTo>
                  <a:pt x="3005" y="1032"/>
                </a:lnTo>
                <a:lnTo>
                  <a:pt x="3007" y="1159"/>
                </a:lnTo>
                <a:lnTo>
                  <a:pt x="3008" y="1140"/>
                </a:lnTo>
                <a:lnTo>
                  <a:pt x="3009" y="672"/>
                </a:lnTo>
                <a:lnTo>
                  <a:pt x="3010" y="1342"/>
                </a:lnTo>
                <a:lnTo>
                  <a:pt x="3011" y="690"/>
                </a:lnTo>
                <a:lnTo>
                  <a:pt x="3012" y="1439"/>
                </a:lnTo>
                <a:lnTo>
                  <a:pt x="3013" y="1010"/>
                </a:lnTo>
                <a:lnTo>
                  <a:pt x="3015" y="1090"/>
                </a:lnTo>
                <a:lnTo>
                  <a:pt x="3017" y="1229"/>
                </a:lnTo>
                <a:lnTo>
                  <a:pt x="3018" y="1342"/>
                </a:lnTo>
                <a:lnTo>
                  <a:pt x="3019" y="1426"/>
                </a:lnTo>
                <a:lnTo>
                  <a:pt x="3020" y="846"/>
                </a:lnTo>
                <a:lnTo>
                  <a:pt x="3021" y="1293"/>
                </a:lnTo>
                <a:lnTo>
                  <a:pt x="3022" y="1348"/>
                </a:lnTo>
                <a:lnTo>
                  <a:pt x="3023" y="1052"/>
                </a:lnTo>
                <a:lnTo>
                  <a:pt x="3024" y="714"/>
                </a:lnTo>
                <a:lnTo>
                  <a:pt x="3027" y="1212"/>
                </a:lnTo>
                <a:lnTo>
                  <a:pt x="3028" y="421"/>
                </a:lnTo>
                <a:lnTo>
                  <a:pt x="3029" y="1414"/>
                </a:lnTo>
                <a:lnTo>
                  <a:pt x="3030" y="1352"/>
                </a:lnTo>
                <a:lnTo>
                  <a:pt x="3031" y="1453"/>
                </a:lnTo>
                <a:lnTo>
                  <a:pt x="3032" y="1220"/>
                </a:lnTo>
                <a:lnTo>
                  <a:pt x="3033" y="1055"/>
                </a:lnTo>
                <a:lnTo>
                  <a:pt x="3034" y="892"/>
                </a:lnTo>
                <a:lnTo>
                  <a:pt x="3036" y="1302"/>
                </a:lnTo>
                <a:lnTo>
                  <a:pt x="3038" y="972"/>
                </a:lnTo>
                <a:lnTo>
                  <a:pt x="3039" y="1167"/>
                </a:lnTo>
                <a:lnTo>
                  <a:pt x="3040" y="1606"/>
                </a:lnTo>
                <a:lnTo>
                  <a:pt x="3041" y="875"/>
                </a:lnTo>
                <a:lnTo>
                  <a:pt x="3042" y="1285"/>
                </a:lnTo>
                <a:lnTo>
                  <a:pt x="3043" y="1367"/>
                </a:lnTo>
                <a:lnTo>
                  <a:pt x="3044" y="1048"/>
                </a:lnTo>
                <a:lnTo>
                  <a:pt x="3046" y="1152"/>
                </a:lnTo>
                <a:lnTo>
                  <a:pt x="3047" y="1290"/>
                </a:lnTo>
                <a:lnTo>
                  <a:pt x="3049" y="831"/>
                </a:lnTo>
                <a:lnTo>
                  <a:pt x="3050" y="1074"/>
                </a:lnTo>
                <a:lnTo>
                  <a:pt x="3051" y="724"/>
                </a:lnTo>
                <a:lnTo>
                  <a:pt x="3052" y="1079"/>
                </a:lnTo>
                <a:lnTo>
                  <a:pt x="3053" y="1224"/>
                </a:lnTo>
                <a:lnTo>
                  <a:pt x="3055" y="1307"/>
                </a:lnTo>
                <a:lnTo>
                  <a:pt x="3056" y="1732"/>
                </a:lnTo>
                <a:lnTo>
                  <a:pt x="3057" y="995"/>
                </a:lnTo>
                <a:lnTo>
                  <a:pt x="3058" y="961"/>
                </a:lnTo>
                <a:lnTo>
                  <a:pt x="3059" y="1182"/>
                </a:lnTo>
                <a:lnTo>
                  <a:pt x="3061" y="1091"/>
                </a:lnTo>
                <a:lnTo>
                  <a:pt x="3062" y="960"/>
                </a:lnTo>
                <a:lnTo>
                  <a:pt x="3063" y="851"/>
                </a:lnTo>
                <a:lnTo>
                  <a:pt x="3065" y="877"/>
                </a:lnTo>
                <a:lnTo>
                  <a:pt x="3066" y="1070"/>
                </a:lnTo>
                <a:lnTo>
                  <a:pt x="3067" y="1365"/>
                </a:lnTo>
                <a:lnTo>
                  <a:pt x="3068" y="714"/>
                </a:lnTo>
                <a:lnTo>
                  <a:pt x="3069" y="1179"/>
                </a:lnTo>
                <a:lnTo>
                  <a:pt x="3070" y="721"/>
                </a:lnTo>
                <a:lnTo>
                  <a:pt x="3072" y="1207"/>
                </a:lnTo>
                <a:lnTo>
                  <a:pt x="3073" y="723"/>
                </a:lnTo>
                <a:lnTo>
                  <a:pt x="3075" y="550"/>
                </a:lnTo>
                <a:lnTo>
                  <a:pt x="3076" y="922"/>
                </a:lnTo>
                <a:lnTo>
                  <a:pt x="3077" y="1064"/>
                </a:lnTo>
                <a:lnTo>
                  <a:pt x="3078" y="1165"/>
                </a:lnTo>
                <a:lnTo>
                  <a:pt x="3079" y="446"/>
                </a:lnTo>
                <a:lnTo>
                  <a:pt x="3080" y="899"/>
                </a:lnTo>
                <a:lnTo>
                  <a:pt x="3081" y="800"/>
                </a:lnTo>
                <a:lnTo>
                  <a:pt x="3084" y="536"/>
                </a:lnTo>
                <a:lnTo>
                  <a:pt x="3085" y="1298"/>
                </a:lnTo>
                <a:lnTo>
                  <a:pt x="3086" y="1404"/>
                </a:lnTo>
                <a:lnTo>
                  <a:pt x="3087" y="1131"/>
                </a:lnTo>
                <a:lnTo>
                  <a:pt x="3088" y="0"/>
                </a:lnTo>
                <a:lnTo>
                  <a:pt x="3089" y="1410"/>
                </a:lnTo>
                <a:lnTo>
                  <a:pt x="3090" y="1041"/>
                </a:lnTo>
                <a:lnTo>
                  <a:pt x="3091" y="886"/>
                </a:lnTo>
                <a:lnTo>
                  <a:pt x="3092" y="955"/>
                </a:lnTo>
                <a:lnTo>
                  <a:pt x="3095" y="1179"/>
                </a:lnTo>
                <a:lnTo>
                  <a:pt x="3096" y="1267"/>
                </a:lnTo>
                <a:lnTo>
                  <a:pt x="3097" y="307"/>
                </a:lnTo>
                <a:lnTo>
                  <a:pt x="3098" y="736"/>
                </a:lnTo>
                <a:lnTo>
                  <a:pt x="3099" y="733"/>
                </a:lnTo>
                <a:lnTo>
                  <a:pt x="3100" y="1108"/>
                </a:lnTo>
                <a:lnTo>
                  <a:pt x="3101" y="997"/>
                </a:lnTo>
                <a:lnTo>
                  <a:pt x="3102" y="860"/>
                </a:lnTo>
                <a:lnTo>
                  <a:pt x="3104" y="982"/>
                </a:lnTo>
                <a:lnTo>
                  <a:pt x="3106" y="1210"/>
                </a:lnTo>
                <a:lnTo>
                  <a:pt x="3107" y="1474"/>
                </a:lnTo>
                <a:lnTo>
                  <a:pt x="3108" y="1099"/>
                </a:lnTo>
                <a:lnTo>
                  <a:pt x="3109" y="640"/>
                </a:lnTo>
                <a:lnTo>
                  <a:pt x="3110" y="1001"/>
                </a:lnTo>
                <a:lnTo>
                  <a:pt x="3111" y="805"/>
                </a:lnTo>
                <a:lnTo>
                  <a:pt x="3113" y="622"/>
                </a:lnTo>
                <a:lnTo>
                  <a:pt x="3114" y="1366"/>
                </a:lnTo>
                <a:lnTo>
                  <a:pt x="3115" y="1064"/>
                </a:lnTo>
                <a:lnTo>
                  <a:pt x="3116" y="620"/>
                </a:lnTo>
                <a:lnTo>
                  <a:pt x="3118" y="1182"/>
                </a:lnTo>
                <a:lnTo>
                  <a:pt x="3119" y="541"/>
                </a:lnTo>
                <a:lnTo>
                  <a:pt x="3120" y="1003"/>
                </a:lnTo>
                <a:lnTo>
                  <a:pt x="3121" y="903"/>
                </a:lnTo>
                <a:lnTo>
                  <a:pt x="3123" y="911"/>
                </a:lnTo>
                <a:lnTo>
                  <a:pt x="3124" y="1536"/>
                </a:lnTo>
                <a:lnTo>
                  <a:pt x="3125" y="745"/>
                </a:lnTo>
                <a:lnTo>
                  <a:pt x="3126" y="660"/>
                </a:lnTo>
                <a:lnTo>
                  <a:pt x="3127" y="1343"/>
                </a:lnTo>
                <a:lnTo>
                  <a:pt x="3129" y="717"/>
                </a:lnTo>
                <a:lnTo>
                  <a:pt x="3130" y="943"/>
                </a:lnTo>
                <a:lnTo>
                  <a:pt x="3131" y="1283"/>
                </a:lnTo>
                <a:lnTo>
                  <a:pt x="3133" y="1119"/>
                </a:lnTo>
                <a:lnTo>
                  <a:pt x="3134" y="1365"/>
                </a:lnTo>
                <a:lnTo>
                  <a:pt x="3135" y="1198"/>
                </a:lnTo>
                <a:lnTo>
                  <a:pt x="3136" y="1401"/>
                </a:lnTo>
                <a:lnTo>
                  <a:pt x="3137" y="980"/>
                </a:lnTo>
                <a:lnTo>
                  <a:pt x="3138" y="1092"/>
                </a:lnTo>
                <a:lnTo>
                  <a:pt x="3140" y="1541"/>
                </a:lnTo>
                <a:lnTo>
                  <a:pt x="3142" y="662"/>
                </a:lnTo>
                <a:lnTo>
                  <a:pt x="3143" y="1306"/>
                </a:lnTo>
                <a:lnTo>
                  <a:pt x="3144" y="1370"/>
                </a:lnTo>
                <a:lnTo>
                  <a:pt x="3145" y="788"/>
                </a:lnTo>
                <a:lnTo>
                  <a:pt x="3146" y="542"/>
                </a:lnTo>
                <a:lnTo>
                  <a:pt x="3147" y="835"/>
                </a:lnTo>
                <a:lnTo>
                  <a:pt x="3148" y="903"/>
                </a:lnTo>
                <a:lnTo>
                  <a:pt x="3149" y="1110"/>
                </a:lnTo>
                <a:lnTo>
                  <a:pt x="3152" y="577"/>
                </a:lnTo>
                <a:lnTo>
                  <a:pt x="3153" y="1131"/>
                </a:lnTo>
                <a:lnTo>
                  <a:pt x="3154" y="1423"/>
                </a:lnTo>
                <a:lnTo>
                  <a:pt x="3155" y="1352"/>
                </a:lnTo>
                <a:lnTo>
                  <a:pt x="3156" y="1462"/>
                </a:lnTo>
                <a:lnTo>
                  <a:pt x="3157" y="1386"/>
                </a:lnTo>
                <a:lnTo>
                  <a:pt x="3158" y="581"/>
                </a:lnTo>
                <a:lnTo>
                  <a:pt x="3159" y="1556"/>
                </a:lnTo>
                <a:lnTo>
                  <a:pt x="3160" y="885"/>
                </a:lnTo>
                <a:lnTo>
                  <a:pt x="3163" y="1078"/>
                </a:lnTo>
                <a:lnTo>
                  <a:pt x="3164" y="731"/>
                </a:lnTo>
                <a:lnTo>
                  <a:pt x="3165" y="1190"/>
                </a:lnTo>
                <a:lnTo>
                  <a:pt x="3166" y="589"/>
                </a:lnTo>
                <a:lnTo>
                  <a:pt x="3167" y="1106"/>
                </a:lnTo>
                <a:lnTo>
                  <a:pt x="3168" y="1013"/>
                </a:lnTo>
                <a:lnTo>
                  <a:pt x="3169" y="1277"/>
                </a:lnTo>
                <a:lnTo>
                  <a:pt x="3171" y="858"/>
                </a:lnTo>
                <a:lnTo>
                  <a:pt x="3172" y="827"/>
                </a:lnTo>
                <a:lnTo>
                  <a:pt x="3174" y="1151"/>
                </a:lnTo>
                <a:lnTo>
                  <a:pt x="3175" y="915"/>
                </a:lnTo>
                <a:lnTo>
                  <a:pt x="3176" y="1117"/>
                </a:lnTo>
                <a:lnTo>
                  <a:pt x="3177" y="1022"/>
                </a:lnTo>
                <a:lnTo>
                  <a:pt x="3178" y="892"/>
                </a:lnTo>
                <a:lnTo>
                  <a:pt x="3179" y="1150"/>
                </a:lnTo>
                <a:lnTo>
                  <a:pt x="3181" y="894"/>
                </a:lnTo>
                <a:lnTo>
                  <a:pt x="3182" y="423"/>
                </a:lnTo>
                <a:lnTo>
                  <a:pt x="3183" y="1419"/>
                </a:lnTo>
                <a:lnTo>
                  <a:pt x="3184" y="1860"/>
                </a:lnTo>
                <a:lnTo>
                  <a:pt x="3186" y="931"/>
                </a:lnTo>
                <a:lnTo>
                  <a:pt x="3187" y="679"/>
                </a:lnTo>
                <a:lnTo>
                  <a:pt x="3188" y="1318"/>
                </a:lnTo>
                <a:lnTo>
                  <a:pt x="3190" y="991"/>
                </a:lnTo>
                <a:lnTo>
                  <a:pt x="3191" y="735"/>
                </a:lnTo>
                <a:lnTo>
                  <a:pt x="3192" y="1295"/>
                </a:lnTo>
                <a:lnTo>
                  <a:pt x="3193" y="941"/>
                </a:lnTo>
                <a:lnTo>
                  <a:pt x="3194" y="753"/>
                </a:lnTo>
                <a:lnTo>
                  <a:pt x="3195" y="1162"/>
                </a:lnTo>
                <a:lnTo>
                  <a:pt x="3197" y="1263"/>
                </a:lnTo>
                <a:lnTo>
                  <a:pt x="3198" y="1179"/>
                </a:lnTo>
                <a:lnTo>
                  <a:pt x="3200" y="984"/>
                </a:lnTo>
                <a:lnTo>
                  <a:pt x="3201" y="780"/>
                </a:lnTo>
                <a:lnTo>
                  <a:pt x="3202" y="818"/>
                </a:lnTo>
                <a:lnTo>
                  <a:pt x="3203" y="982"/>
                </a:lnTo>
                <a:lnTo>
                  <a:pt x="3204" y="865"/>
                </a:lnTo>
                <a:lnTo>
                  <a:pt x="3205" y="1493"/>
                </a:lnTo>
                <a:lnTo>
                  <a:pt x="3206" y="1396"/>
                </a:lnTo>
                <a:lnTo>
                  <a:pt x="3208" y="1323"/>
                </a:lnTo>
                <a:lnTo>
                  <a:pt x="3210" y="1053"/>
                </a:lnTo>
                <a:lnTo>
                  <a:pt x="3211" y="1107"/>
                </a:lnTo>
                <a:lnTo>
                  <a:pt x="3212" y="986"/>
                </a:lnTo>
                <a:lnTo>
                  <a:pt x="3213" y="991"/>
                </a:lnTo>
                <a:lnTo>
                  <a:pt x="3214" y="1325"/>
                </a:lnTo>
                <a:lnTo>
                  <a:pt x="3215" y="1264"/>
                </a:lnTo>
                <a:lnTo>
                  <a:pt x="3216" y="576"/>
                </a:lnTo>
                <a:lnTo>
                  <a:pt x="3217" y="1511"/>
                </a:lnTo>
                <a:lnTo>
                  <a:pt x="3220" y="889"/>
                </a:lnTo>
                <a:lnTo>
                  <a:pt x="3221" y="1285"/>
                </a:lnTo>
                <a:lnTo>
                  <a:pt x="3222" y="877"/>
                </a:lnTo>
                <a:lnTo>
                  <a:pt x="3223" y="469"/>
                </a:lnTo>
                <a:lnTo>
                  <a:pt x="3224" y="944"/>
                </a:lnTo>
                <a:lnTo>
                  <a:pt x="3225" y="1472"/>
                </a:lnTo>
                <a:lnTo>
                  <a:pt x="3226" y="658"/>
                </a:lnTo>
                <a:lnTo>
                  <a:pt x="3227" y="659"/>
                </a:lnTo>
                <a:lnTo>
                  <a:pt x="3229" y="878"/>
                </a:lnTo>
                <a:lnTo>
                  <a:pt x="3231" y="594"/>
                </a:lnTo>
                <a:lnTo>
                  <a:pt x="3232" y="720"/>
                </a:lnTo>
                <a:lnTo>
                  <a:pt x="3233" y="995"/>
                </a:lnTo>
                <a:lnTo>
                  <a:pt x="3234" y="1426"/>
                </a:lnTo>
                <a:lnTo>
                  <a:pt x="3235" y="1255"/>
                </a:lnTo>
                <a:lnTo>
                  <a:pt x="3236" y="1157"/>
                </a:lnTo>
                <a:lnTo>
                  <a:pt x="3237" y="862"/>
                </a:lnTo>
                <a:lnTo>
                  <a:pt x="3239" y="800"/>
                </a:lnTo>
                <a:lnTo>
                  <a:pt x="3240" y="550"/>
                </a:lnTo>
                <a:lnTo>
                  <a:pt x="3241" y="1106"/>
                </a:lnTo>
                <a:lnTo>
                  <a:pt x="3243" y="810"/>
                </a:lnTo>
                <a:lnTo>
                  <a:pt x="3244" y="813"/>
                </a:lnTo>
                <a:lnTo>
                  <a:pt x="3245" y="1712"/>
                </a:lnTo>
                <a:lnTo>
                  <a:pt x="3246" y="1295"/>
                </a:lnTo>
                <a:lnTo>
                  <a:pt x="3248" y="1187"/>
                </a:lnTo>
                <a:lnTo>
                  <a:pt x="3249" y="1202"/>
                </a:lnTo>
                <a:lnTo>
                  <a:pt x="3250" y="960"/>
                </a:lnTo>
                <a:lnTo>
                  <a:pt x="3251" y="771"/>
                </a:lnTo>
                <a:lnTo>
                  <a:pt x="3252" y="1725"/>
                </a:lnTo>
                <a:lnTo>
                  <a:pt x="3254" y="805"/>
                </a:lnTo>
                <a:lnTo>
                  <a:pt x="3255" y="572"/>
                </a:lnTo>
                <a:lnTo>
                  <a:pt x="3256" y="886"/>
                </a:lnTo>
                <a:lnTo>
                  <a:pt x="3258" y="835"/>
                </a:lnTo>
                <a:lnTo>
                  <a:pt x="3259" y="1111"/>
                </a:lnTo>
                <a:lnTo>
                  <a:pt x="3260" y="898"/>
                </a:lnTo>
                <a:lnTo>
                  <a:pt x="3261" y="1003"/>
                </a:lnTo>
                <a:lnTo>
                  <a:pt x="3262" y="794"/>
                </a:lnTo>
                <a:lnTo>
                  <a:pt x="3263" y="708"/>
                </a:lnTo>
                <a:lnTo>
                  <a:pt x="3265" y="934"/>
                </a:lnTo>
                <a:lnTo>
                  <a:pt x="3266" y="1376"/>
                </a:lnTo>
                <a:lnTo>
                  <a:pt x="3268" y="1505"/>
                </a:lnTo>
                <a:lnTo>
                  <a:pt x="3269" y="763"/>
                </a:lnTo>
                <a:lnTo>
                  <a:pt x="3270" y="883"/>
                </a:lnTo>
                <a:lnTo>
                  <a:pt x="3271" y="1089"/>
                </a:lnTo>
                <a:lnTo>
                  <a:pt x="3272" y="962"/>
                </a:lnTo>
                <a:lnTo>
                  <a:pt x="3273" y="1141"/>
                </a:lnTo>
                <a:lnTo>
                  <a:pt x="3274" y="1239"/>
                </a:lnTo>
                <a:lnTo>
                  <a:pt x="3277" y="1141"/>
                </a:lnTo>
                <a:lnTo>
                  <a:pt x="3278" y="1041"/>
                </a:lnTo>
                <a:lnTo>
                  <a:pt x="3279" y="820"/>
                </a:lnTo>
                <a:lnTo>
                  <a:pt x="3280" y="1382"/>
                </a:lnTo>
                <a:lnTo>
                  <a:pt x="3281" y="966"/>
                </a:lnTo>
                <a:lnTo>
                  <a:pt x="3282" y="839"/>
                </a:lnTo>
                <a:lnTo>
                  <a:pt x="3283" y="563"/>
                </a:lnTo>
                <a:lnTo>
                  <a:pt x="3284" y="466"/>
                </a:lnTo>
                <a:lnTo>
                  <a:pt x="3285" y="950"/>
                </a:lnTo>
                <a:lnTo>
                  <a:pt x="3288" y="1523"/>
                </a:lnTo>
                <a:lnTo>
                  <a:pt x="3289" y="1067"/>
                </a:lnTo>
                <a:lnTo>
                  <a:pt x="3290" y="417"/>
                </a:lnTo>
                <a:lnTo>
                  <a:pt x="3291" y="1236"/>
                </a:lnTo>
                <a:lnTo>
                  <a:pt x="3292" y="1201"/>
                </a:lnTo>
                <a:lnTo>
                  <a:pt x="3293" y="534"/>
                </a:lnTo>
                <a:lnTo>
                  <a:pt x="3294" y="703"/>
                </a:lnTo>
                <a:lnTo>
                  <a:pt x="3295" y="1268"/>
                </a:lnTo>
                <a:lnTo>
                  <a:pt x="3297" y="1116"/>
                </a:lnTo>
                <a:lnTo>
                  <a:pt x="3299" y="1002"/>
                </a:lnTo>
                <a:lnTo>
                  <a:pt x="3300" y="1227"/>
                </a:lnTo>
                <a:lnTo>
                  <a:pt x="3301" y="1185"/>
                </a:lnTo>
                <a:lnTo>
                  <a:pt x="3302" y="1219"/>
                </a:lnTo>
                <a:lnTo>
                  <a:pt x="3303" y="799"/>
                </a:lnTo>
                <a:lnTo>
                  <a:pt x="3304" y="800"/>
                </a:lnTo>
                <a:lnTo>
                  <a:pt x="3306" y="950"/>
                </a:lnTo>
                <a:lnTo>
                  <a:pt x="3307" y="1170"/>
                </a:lnTo>
                <a:lnTo>
                  <a:pt x="3308" y="843"/>
                </a:lnTo>
                <a:lnTo>
                  <a:pt x="3309" y="1182"/>
                </a:lnTo>
                <a:lnTo>
                  <a:pt x="3311" y="433"/>
                </a:lnTo>
                <a:lnTo>
                  <a:pt x="3312" y="1302"/>
                </a:lnTo>
                <a:lnTo>
                  <a:pt x="3313" y="1647"/>
                </a:lnTo>
                <a:lnTo>
                  <a:pt x="3314" y="1151"/>
                </a:lnTo>
                <a:lnTo>
                  <a:pt x="3316" y="1206"/>
                </a:lnTo>
                <a:lnTo>
                  <a:pt x="3317" y="962"/>
                </a:lnTo>
                <a:lnTo>
                  <a:pt x="3318" y="1110"/>
                </a:lnTo>
                <a:lnTo>
                  <a:pt x="3319" y="1776"/>
                </a:lnTo>
                <a:lnTo>
                  <a:pt x="3320" y="1099"/>
                </a:lnTo>
                <a:lnTo>
                  <a:pt x="3322" y="827"/>
                </a:lnTo>
                <a:lnTo>
                  <a:pt x="3323" y="714"/>
                </a:lnTo>
                <a:lnTo>
                  <a:pt x="3324" y="896"/>
                </a:lnTo>
                <a:lnTo>
                  <a:pt x="3326" y="982"/>
                </a:lnTo>
                <a:lnTo>
                  <a:pt x="3327" y="879"/>
                </a:lnTo>
                <a:lnTo>
                  <a:pt x="3328" y="509"/>
                </a:lnTo>
                <a:lnTo>
                  <a:pt x="3329" y="1331"/>
                </a:lnTo>
                <a:lnTo>
                  <a:pt x="3330" y="1061"/>
                </a:lnTo>
                <a:lnTo>
                  <a:pt x="3331" y="573"/>
                </a:lnTo>
                <a:lnTo>
                  <a:pt x="3333" y="953"/>
                </a:lnTo>
                <a:lnTo>
                  <a:pt x="3335" y="1186"/>
                </a:lnTo>
                <a:lnTo>
                  <a:pt x="3336" y="1195"/>
                </a:lnTo>
                <a:lnTo>
                  <a:pt x="3337" y="1278"/>
                </a:lnTo>
                <a:lnTo>
                  <a:pt x="3338" y="1194"/>
                </a:lnTo>
                <a:lnTo>
                  <a:pt x="3339" y="820"/>
                </a:lnTo>
                <a:lnTo>
                  <a:pt x="3340" y="1243"/>
                </a:lnTo>
                <a:lnTo>
                  <a:pt x="3341" y="1312"/>
                </a:lnTo>
                <a:lnTo>
                  <a:pt x="3342" y="1127"/>
                </a:lnTo>
                <a:lnTo>
                  <a:pt x="3345" y="1548"/>
                </a:lnTo>
                <a:lnTo>
                  <a:pt x="3346" y="1088"/>
                </a:lnTo>
                <a:lnTo>
                  <a:pt x="3347" y="975"/>
                </a:lnTo>
                <a:lnTo>
                  <a:pt x="3348" y="684"/>
                </a:lnTo>
                <a:lnTo>
                  <a:pt x="3349" y="963"/>
                </a:lnTo>
                <a:lnTo>
                  <a:pt x="3350" y="884"/>
                </a:lnTo>
                <a:lnTo>
                  <a:pt x="3351" y="1130"/>
                </a:lnTo>
                <a:lnTo>
                  <a:pt x="3352" y="1248"/>
                </a:lnTo>
                <a:lnTo>
                  <a:pt x="3353" y="290"/>
                </a:lnTo>
                <a:lnTo>
                  <a:pt x="3356" y="258"/>
                </a:lnTo>
                <a:lnTo>
                  <a:pt x="3357" y="867"/>
                </a:lnTo>
                <a:lnTo>
                  <a:pt x="3358" y="1197"/>
                </a:lnTo>
                <a:lnTo>
                  <a:pt x="3359" y="912"/>
                </a:lnTo>
                <a:lnTo>
                  <a:pt x="3360" y="942"/>
                </a:lnTo>
                <a:lnTo>
                  <a:pt x="3361" y="1070"/>
                </a:lnTo>
                <a:lnTo>
                  <a:pt x="3362" y="1509"/>
                </a:lnTo>
                <a:lnTo>
                  <a:pt x="3364" y="1088"/>
                </a:lnTo>
                <a:lnTo>
                  <a:pt x="3365" y="606"/>
                </a:lnTo>
                <a:lnTo>
                  <a:pt x="3366" y="1480"/>
                </a:lnTo>
                <a:lnTo>
                  <a:pt x="3368" y="1413"/>
                </a:lnTo>
                <a:lnTo>
                  <a:pt x="3369" y="1453"/>
                </a:lnTo>
                <a:lnTo>
                  <a:pt x="3370" y="740"/>
                </a:lnTo>
                <a:lnTo>
                  <a:pt x="3371" y="759"/>
                </a:lnTo>
                <a:lnTo>
                  <a:pt x="3372" y="1218"/>
                </a:lnTo>
                <a:lnTo>
                  <a:pt x="3374" y="1254"/>
                </a:lnTo>
                <a:lnTo>
                  <a:pt x="3375" y="415"/>
                </a:lnTo>
                <a:lnTo>
                  <a:pt x="3376" y="1146"/>
                </a:lnTo>
                <a:lnTo>
                  <a:pt x="3377" y="892"/>
                </a:lnTo>
                <a:lnTo>
                  <a:pt x="3379" y="774"/>
                </a:lnTo>
                <a:lnTo>
                  <a:pt x="3380" y="1304"/>
                </a:lnTo>
                <a:lnTo>
                  <a:pt x="3381" y="1081"/>
                </a:lnTo>
                <a:lnTo>
                  <a:pt x="3382" y="1423"/>
                </a:lnTo>
                <a:lnTo>
                  <a:pt x="3384" y="1041"/>
                </a:lnTo>
                <a:lnTo>
                  <a:pt x="3385" y="1101"/>
                </a:lnTo>
                <a:lnTo>
                  <a:pt x="3386" y="1112"/>
                </a:lnTo>
                <a:lnTo>
                  <a:pt x="3387" y="927"/>
                </a:lnTo>
                <a:lnTo>
                  <a:pt x="3388" y="1602"/>
                </a:lnTo>
                <a:lnTo>
                  <a:pt x="3390" y="657"/>
                </a:lnTo>
                <a:lnTo>
                  <a:pt x="3391" y="862"/>
                </a:lnTo>
                <a:lnTo>
                  <a:pt x="3393" y="909"/>
                </a:lnTo>
                <a:lnTo>
                  <a:pt x="3394" y="1175"/>
                </a:lnTo>
                <a:lnTo>
                  <a:pt x="3395" y="788"/>
                </a:lnTo>
                <a:lnTo>
                  <a:pt x="3396" y="1201"/>
                </a:lnTo>
                <a:lnTo>
                  <a:pt x="3397" y="1136"/>
                </a:lnTo>
                <a:lnTo>
                  <a:pt x="3398" y="1052"/>
                </a:lnTo>
                <a:lnTo>
                  <a:pt x="3399" y="836"/>
                </a:lnTo>
                <a:lnTo>
                  <a:pt x="3401" y="1162"/>
                </a:lnTo>
                <a:lnTo>
                  <a:pt x="3403" y="809"/>
                </a:lnTo>
                <a:lnTo>
                  <a:pt x="3404" y="537"/>
                </a:lnTo>
                <a:lnTo>
                  <a:pt x="3405" y="718"/>
                </a:lnTo>
                <a:lnTo>
                  <a:pt x="3406" y="1289"/>
                </a:lnTo>
                <a:lnTo>
                  <a:pt x="3407" y="1206"/>
                </a:lnTo>
                <a:lnTo>
                  <a:pt x="3408" y="1059"/>
                </a:lnTo>
                <a:lnTo>
                  <a:pt x="3409" y="902"/>
                </a:lnTo>
                <a:lnTo>
                  <a:pt x="3410" y="1224"/>
                </a:lnTo>
                <a:lnTo>
                  <a:pt x="3413" y="465"/>
                </a:lnTo>
                <a:lnTo>
                  <a:pt x="3414" y="1431"/>
                </a:lnTo>
                <a:lnTo>
                  <a:pt x="3415" y="1064"/>
                </a:lnTo>
                <a:lnTo>
                  <a:pt x="3416" y="847"/>
                </a:lnTo>
                <a:lnTo>
                  <a:pt x="3417" y="1127"/>
                </a:lnTo>
                <a:lnTo>
                  <a:pt x="3418" y="962"/>
                </a:lnTo>
                <a:lnTo>
                  <a:pt x="3419" y="405"/>
                </a:lnTo>
                <a:lnTo>
                  <a:pt x="3420" y="1443"/>
                </a:lnTo>
                <a:lnTo>
                  <a:pt x="3422" y="308"/>
                </a:lnTo>
                <a:lnTo>
                  <a:pt x="3424" y="513"/>
                </a:lnTo>
                <a:lnTo>
                  <a:pt x="3425" y="1100"/>
                </a:lnTo>
                <a:lnTo>
                  <a:pt x="3426" y="797"/>
                </a:lnTo>
                <a:lnTo>
                  <a:pt x="3427" y="790"/>
                </a:lnTo>
                <a:lnTo>
                  <a:pt x="3428" y="1163"/>
                </a:lnTo>
                <a:lnTo>
                  <a:pt x="3429" y="1269"/>
                </a:lnTo>
                <a:lnTo>
                  <a:pt x="3430" y="1172"/>
                </a:lnTo>
                <a:lnTo>
                  <a:pt x="3432" y="1169"/>
                </a:lnTo>
                <a:lnTo>
                  <a:pt x="3433" y="368"/>
                </a:lnTo>
                <a:lnTo>
                  <a:pt x="3434" y="1317"/>
                </a:lnTo>
                <a:lnTo>
                  <a:pt x="3436" y="1000"/>
                </a:lnTo>
                <a:lnTo>
                  <a:pt x="3437" y="547"/>
                </a:lnTo>
                <a:lnTo>
                  <a:pt x="3438" y="594"/>
                </a:lnTo>
                <a:lnTo>
                  <a:pt x="3439" y="1088"/>
                </a:lnTo>
                <a:lnTo>
                  <a:pt x="3441" y="799"/>
                </a:lnTo>
                <a:lnTo>
                  <a:pt x="3442" y="1155"/>
                </a:lnTo>
                <a:lnTo>
                  <a:pt x="3443" y="1108"/>
                </a:lnTo>
                <a:lnTo>
                  <a:pt x="3444" y="742"/>
                </a:lnTo>
                <a:lnTo>
                  <a:pt x="3445" y="1197"/>
                </a:lnTo>
                <a:lnTo>
                  <a:pt x="3447" y="1579"/>
                </a:lnTo>
                <a:lnTo>
                  <a:pt x="3448" y="785"/>
                </a:lnTo>
                <a:lnTo>
                  <a:pt x="3449" y="977"/>
                </a:lnTo>
                <a:lnTo>
                  <a:pt x="3451" y="1088"/>
                </a:lnTo>
                <a:lnTo>
                  <a:pt x="3452" y="711"/>
                </a:lnTo>
                <a:lnTo>
                  <a:pt x="3453" y="838"/>
                </a:lnTo>
                <a:lnTo>
                  <a:pt x="3454" y="1534"/>
                </a:lnTo>
                <a:lnTo>
                  <a:pt x="3455" y="1469"/>
                </a:lnTo>
                <a:lnTo>
                  <a:pt x="3456" y="967"/>
                </a:lnTo>
                <a:lnTo>
                  <a:pt x="3458" y="869"/>
                </a:lnTo>
                <a:lnTo>
                  <a:pt x="3459" y="1226"/>
                </a:lnTo>
                <a:lnTo>
                  <a:pt x="3461" y="1405"/>
                </a:lnTo>
                <a:lnTo>
                  <a:pt x="3462" y="1197"/>
                </a:lnTo>
                <a:lnTo>
                  <a:pt x="3463" y="1180"/>
                </a:lnTo>
                <a:lnTo>
                  <a:pt x="3464" y="1012"/>
                </a:lnTo>
                <a:lnTo>
                  <a:pt x="3465" y="1005"/>
                </a:lnTo>
                <a:lnTo>
                  <a:pt x="3466" y="632"/>
                </a:lnTo>
                <a:lnTo>
                  <a:pt x="3467" y="726"/>
                </a:lnTo>
                <a:lnTo>
                  <a:pt x="3470" y="739"/>
                </a:lnTo>
                <a:lnTo>
                  <a:pt x="3471" y="870"/>
                </a:lnTo>
                <a:lnTo>
                  <a:pt x="3472" y="733"/>
                </a:lnTo>
                <a:lnTo>
                  <a:pt x="3473" y="743"/>
                </a:lnTo>
                <a:lnTo>
                  <a:pt x="3474" y="960"/>
                </a:lnTo>
                <a:lnTo>
                  <a:pt x="3475" y="847"/>
                </a:lnTo>
                <a:lnTo>
                  <a:pt x="3476" y="1189"/>
                </a:lnTo>
                <a:lnTo>
                  <a:pt x="3477" y="1145"/>
                </a:lnTo>
                <a:lnTo>
                  <a:pt x="3478" y="697"/>
                </a:lnTo>
                <a:lnTo>
                  <a:pt x="3481" y="621"/>
                </a:lnTo>
                <a:lnTo>
                  <a:pt x="3482" y="479"/>
                </a:lnTo>
                <a:lnTo>
                  <a:pt x="3483" y="1185"/>
                </a:lnTo>
                <a:lnTo>
                  <a:pt x="3484" y="709"/>
                </a:lnTo>
                <a:lnTo>
                  <a:pt x="3485" y="1426"/>
                </a:lnTo>
                <a:lnTo>
                  <a:pt x="3486" y="662"/>
                </a:lnTo>
                <a:lnTo>
                  <a:pt x="3487" y="817"/>
                </a:lnTo>
                <a:lnTo>
                  <a:pt x="3488" y="1475"/>
                </a:lnTo>
                <a:lnTo>
                  <a:pt x="3490" y="1426"/>
                </a:lnTo>
                <a:lnTo>
                  <a:pt x="3491" y="1028"/>
                </a:lnTo>
                <a:lnTo>
                  <a:pt x="3493" y="604"/>
                </a:lnTo>
                <a:lnTo>
                  <a:pt x="3494" y="887"/>
                </a:lnTo>
                <a:lnTo>
                  <a:pt x="3495" y="1117"/>
                </a:lnTo>
                <a:lnTo>
                  <a:pt x="3496" y="775"/>
                </a:lnTo>
                <a:lnTo>
                  <a:pt x="3497" y="805"/>
                </a:lnTo>
                <a:lnTo>
                  <a:pt x="3499" y="1275"/>
                </a:lnTo>
                <a:lnTo>
                  <a:pt x="3500" y="680"/>
                </a:lnTo>
                <a:lnTo>
                  <a:pt x="3501" y="729"/>
                </a:lnTo>
                <a:lnTo>
                  <a:pt x="3502" y="1058"/>
                </a:lnTo>
                <a:lnTo>
                  <a:pt x="3504" y="897"/>
                </a:lnTo>
                <a:lnTo>
                  <a:pt x="3505" y="1152"/>
                </a:lnTo>
                <a:lnTo>
                  <a:pt x="3506" y="1269"/>
                </a:lnTo>
                <a:lnTo>
                  <a:pt x="3507" y="631"/>
                </a:lnTo>
                <a:lnTo>
                  <a:pt x="3509" y="372"/>
                </a:lnTo>
                <a:lnTo>
                  <a:pt x="3510" y="736"/>
                </a:lnTo>
                <a:lnTo>
                  <a:pt x="3511" y="1305"/>
                </a:lnTo>
                <a:lnTo>
                  <a:pt x="3512" y="775"/>
                </a:lnTo>
                <a:lnTo>
                  <a:pt x="3513" y="894"/>
                </a:lnTo>
                <a:lnTo>
                  <a:pt x="3515" y="908"/>
                </a:lnTo>
                <a:lnTo>
                  <a:pt x="3516" y="856"/>
                </a:lnTo>
                <a:lnTo>
                  <a:pt x="3517" y="1111"/>
                </a:lnTo>
                <a:lnTo>
                  <a:pt x="3519" y="772"/>
                </a:lnTo>
                <a:lnTo>
                  <a:pt x="3520" y="1298"/>
                </a:lnTo>
                <a:lnTo>
                  <a:pt x="3521" y="657"/>
                </a:lnTo>
                <a:lnTo>
                  <a:pt x="3522" y="1091"/>
                </a:lnTo>
                <a:lnTo>
                  <a:pt x="3523" y="1446"/>
                </a:lnTo>
                <a:lnTo>
                  <a:pt x="3524" y="886"/>
                </a:lnTo>
                <a:lnTo>
                  <a:pt x="3526" y="596"/>
                </a:lnTo>
                <a:lnTo>
                  <a:pt x="3528" y="837"/>
                </a:lnTo>
                <a:lnTo>
                  <a:pt x="3529" y="751"/>
                </a:lnTo>
                <a:lnTo>
                  <a:pt x="3530" y="1059"/>
                </a:lnTo>
                <a:lnTo>
                  <a:pt x="3531" y="1236"/>
                </a:lnTo>
                <a:lnTo>
                  <a:pt x="3532" y="928"/>
                </a:lnTo>
                <a:lnTo>
                  <a:pt x="3533" y="1182"/>
                </a:lnTo>
                <a:lnTo>
                  <a:pt x="3534" y="1319"/>
                </a:lnTo>
                <a:lnTo>
                  <a:pt x="3535" y="752"/>
                </a:lnTo>
                <a:lnTo>
                  <a:pt x="3538" y="811"/>
                </a:lnTo>
                <a:lnTo>
                  <a:pt x="3539" y="612"/>
                </a:lnTo>
                <a:lnTo>
                  <a:pt x="3540" y="831"/>
                </a:lnTo>
                <a:lnTo>
                  <a:pt x="3541" y="1113"/>
                </a:lnTo>
                <a:lnTo>
                  <a:pt x="3542" y="982"/>
                </a:lnTo>
                <a:lnTo>
                  <a:pt x="3543" y="1056"/>
                </a:lnTo>
                <a:lnTo>
                  <a:pt x="3544" y="1145"/>
                </a:lnTo>
                <a:lnTo>
                  <a:pt x="3545" y="1269"/>
                </a:lnTo>
                <a:lnTo>
                  <a:pt x="3546" y="964"/>
                </a:lnTo>
                <a:lnTo>
                  <a:pt x="3549" y="1111"/>
                </a:lnTo>
                <a:lnTo>
                  <a:pt x="3550" y="329"/>
                </a:lnTo>
                <a:lnTo>
                  <a:pt x="3551" y="421"/>
                </a:lnTo>
                <a:lnTo>
                  <a:pt x="3552" y="648"/>
                </a:lnTo>
                <a:lnTo>
                  <a:pt x="3553" y="1235"/>
                </a:lnTo>
                <a:lnTo>
                  <a:pt x="3554" y="1108"/>
                </a:lnTo>
                <a:lnTo>
                  <a:pt x="3555" y="863"/>
                </a:lnTo>
                <a:lnTo>
                  <a:pt x="3557" y="967"/>
                </a:lnTo>
                <a:lnTo>
                  <a:pt x="3558" y="674"/>
                </a:lnTo>
                <a:lnTo>
                  <a:pt x="3559" y="848"/>
                </a:lnTo>
                <a:lnTo>
                  <a:pt x="3561" y="1548"/>
                </a:lnTo>
                <a:lnTo>
                  <a:pt x="3562" y="1226"/>
                </a:lnTo>
                <a:lnTo>
                  <a:pt x="3563" y="1617"/>
                </a:lnTo>
                <a:lnTo>
                  <a:pt x="3564" y="1003"/>
                </a:lnTo>
                <a:lnTo>
                  <a:pt x="3565" y="942"/>
                </a:lnTo>
                <a:lnTo>
                  <a:pt x="3567" y="646"/>
                </a:lnTo>
                <a:lnTo>
                  <a:pt x="3568" y="1072"/>
                </a:lnTo>
                <a:lnTo>
                  <a:pt x="3569" y="931"/>
                </a:lnTo>
                <a:lnTo>
                  <a:pt x="3570" y="1444"/>
                </a:lnTo>
                <a:lnTo>
                  <a:pt x="3572" y="885"/>
                </a:lnTo>
                <a:lnTo>
                  <a:pt x="3573" y="1183"/>
                </a:lnTo>
                <a:lnTo>
                  <a:pt x="3574" y="915"/>
                </a:lnTo>
                <a:lnTo>
                  <a:pt x="3575" y="1190"/>
                </a:lnTo>
                <a:lnTo>
                  <a:pt x="3577" y="1787"/>
                </a:lnTo>
                <a:lnTo>
                  <a:pt x="3578" y="1915"/>
                </a:lnTo>
                <a:lnTo>
                  <a:pt x="3579" y="1376"/>
                </a:lnTo>
                <a:lnTo>
                  <a:pt x="3580" y="730"/>
                </a:lnTo>
                <a:lnTo>
                  <a:pt x="3581" y="1099"/>
                </a:lnTo>
                <a:lnTo>
                  <a:pt x="3583" y="829"/>
                </a:lnTo>
                <a:lnTo>
                  <a:pt x="3584" y="1297"/>
                </a:lnTo>
                <a:lnTo>
                  <a:pt x="3586" y="612"/>
                </a:lnTo>
                <a:lnTo>
                  <a:pt x="3587" y="785"/>
                </a:lnTo>
                <a:lnTo>
                  <a:pt x="3588" y="1474"/>
                </a:lnTo>
                <a:lnTo>
                  <a:pt x="3589" y="757"/>
                </a:lnTo>
                <a:lnTo>
                  <a:pt x="3590" y="1276"/>
                </a:lnTo>
                <a:lnTo>
                  <a:pt x="3591" y="1259"/>
                </a:lnTo>
                <a:lnTo>
                  <a:pt x="3592" y="845"/>
                </a:lnTo>
                <a:lnTo>
                  <a:pt x="3594" y="1005"/>
                </a:lnTo>
                <a:lnTo>
                  <a:pt x="3596" y="906"/>
                </a:lnTo>
                <a:lnTo>
                  <a:pt x="3597" y="690"/>
                </a:lnTo>
                <a:lnTo>
                  <a:pt x="3598" y="985"/>
                </a:lnTo>
                <a:lnTo>
                  <a:pt x="3599" y="1147"/>
                </a:lnTo>
                <a:lnTo>
                  <a:pt x="3600" y="1336"/>
                </a:lnTo>
                <a:lnTo>
                  <a:pt x="3601" y="883"/>
                </a:lnTo>
                <a:lnTo>
                  <a:pt x="3602" y="769"/>
                </a:lnTo>
                <a:lnTo>
                  <a:pt x="3603" y="633"/>
                </a:lnTo>
                <a:lnTo>
                  <a:pt x="3606" y="993"/>
                </a:lnTo>
                <a:lnTo>
                  <a:pt x="3607" y="1345"/>
                </a:lnTo>
                <a:lnTo>
                  <a:pt x="3608" y="1107"/>
                </a:lnTo>
                <a:lnTo>
                  <a:pt x="3609" y="1068"/>
                </a:lnTo>
                <a:lnTo>
                  <a:pt x="3610" y="1163"/>
                </a:lnTo>
                <a:lnTo>
                  <a:pt x="3611" y="1166"/>
                </a:lnTo>
                <a:lnTo>
                  <a:pt x="3612" y="1051"/>
                </a:lnTo>
                <a:lnTo>
                  <a:pt x="3613" y="689"/>
                </a:lnTo>
                <a:lnTo>
                  <a:pt x="3615" y="1179"/>
                </a:lnTo>
                <a:lnTo>
                  <a:pt x="3616" y="1060"/>
                </a:lnTo>
                <a:lnTo>
                  <a:pt x="3618" y="1523"/>
                </a:lnTo>
                <a:lnTo>
                  <a:pt x="3619" y="961"/>
                </a:lnTo>
                <a:lnTo>
                  <a:pt x="3620" y="826"/>
                </a:lnTo>
                <a:lnTo>
                  <a:pt x="3621" y="1034"/>
                </a:lnTo>
                <a:lnTo>
                  <a:pt x="3622" y="755"/>
                </a:lnTo>
                <a:lnTo>
                  <a:pt x="3623" y="1523"/>
                </a:lnTo>
                <a:lnTo>
                  <a:pt x="3625" y="1300"/>
                </a:lnTo>
                <a:lnTo>
                  <a:pt x="3626" y="1120"/>
                </a:lnTo>
                <a:lnTo>
                  <a:pt x="3627" y="1220"/>
                </a:lnTo>
                <a:lnTo>
                  <a:pt x="3629" y="448"/>
                </a:lnTo>
                <a:lnTo>
                  <a:pt x="3630" y="1137"/>
                </a:lnTo>
                <a:lnTo>
                  <a:pt x="3631" y="555"/>
                </a:lnTo>
                <a:lnTo>
                  <a:pt x="3632" y="1178"/>
                </a:lnTo>
                <a:lnTo>
                  <a:pt x="3633" y="817"/>
                </a:lnTo>
                <a:lnTo>
                  <a:pt x="3635" y="1093"/>
                </a:lnTo>
                <a:lnTo>
                  <a:pt x="3636" y="967"/>
                </a:lnTo>
                <a:lnTo>
                  <a:pt x="3637" y="1220"/>
                </a:lnTo>
                <a:lnTo>
                  <a:pt x="3638" y="1246"/>
                </a:lnTo>
                <a:lnTo>
                  <a:pt x="3640" y="830"/>
                </a:lnTo>
                <a:lnTo>
                  <a:pt x="3641" y="1070"/>
                </a:lnTo>
                <a:lnTo>
                  <a:pt x="3642" y="1257"/>
                </a:lnTo>
                <a:lnTo>
                  <a:pt x="3644" y="849"/>
                </a:lnTo>
                <a:lnTo>
                  <a:pt x="3645" y="1148"/>
                </a:lnTo>
                <a:lnTo>
                  <a:pt x="3646" y="1332"/>
                </a:lnTo>
                <a:lnTo>
                  <a:pt x="3647" y="1005"/>
                </a:lnTo>
                <a:lnTo>
                  <a:pt x="3648" y="771"/>
                </a:lnTo>
                <a:lnTo>
                  <a:pt x="3649" y="444"/>
                </a:lnTo>
                <a:lnTo>
                  <a:pt x="3651" y="1250"/>
                </a:lnTo>
                <a:lnTo>
                  <a:pt x="3652" y="1358"/>
                </a:lnTo>
                <a:lnTo>
                  <a:pt x="3654" y="718"/>
                </a:lnTo>
                <a:lnTo>
                  <a:pt x="3655" y="1080"/>
                </a:lnTo>
                <a:lnTo>
                  <a:pt x="3656" y="502"/>
                </a:lnTo>
                <a:lnTo>
                  <a:pt x="3657" y="486"/>
                </a:lnTo>
                <a:lnTo>
                  <a:pt x="3658" y="753"/>
                </a:lnTo>
                <a:lnTo>
                  <a:pt x="3659" y="817"/>
                </a:lnTo>
                <a:lnTo>
                  <a:pt x="3660" y="1277"/>
                </a:lnTo>
                <a:lnTo>
                  <a:pt x="3662" y="1518"/>
                </a:lnTo>
                <a:lnTo>
                  <a:pt x="3664" y="955"/>
                </a:lnTo>
                <a:lnTo>
                  <a:pt x="3665" y="847"/>
                </a:lnTo>
                <a:lnTo>
                  <a:pt x="3666" y="987"/>
                </a:lnTo>
                <a:lnTo>
                  <a:pt x="3667" y="1360"/>
                </a:lnTo>
                <a:lnTo>
                  <a:pt x="3668" y="847"/>
                </a:lnTo>
                <a:lnTo>
                  <a:pt x="3669" y="1326"/>
                </a:lnTo>
                <a:lnTo>
                  <a:pt x="3670" y="1298"/>
                </a:lnTo>
                <a:lnTo>
                  <a:pt x="3671" y="1060"/>
                </a:lnTo>
                <a:lnTo>
                  <a:pt x="3674" y="1189"/>
                </a:lnTo>
                <a:lnTo>
                  <a:pt x="3675" y="717"/>
                </a:lnTo>
                <a:lnTo>
                  <a:pt x="3676" y="1250"/>
                </a:lnTo>
                <a:lnTo>
                  <a:pt x="3677" y="1195"/>
                </a:lnTo>
                <a:lnTo>
                  <a:pt x="3678" y="914"/>
                </a:lnTo>
                <a:lnTo>
                  <a:pt x="3679" y="1182"/>
                </a:lnTo>
                <a:lnTo>
                  <a:pt x="3680" y="943"/>
                </a:lnTo>
                <a:lnTo>
                  <a:pt x="3681" y="701"/>
                </a:lnTo>
                <a:lnTo>
                  <a:pt x="3683" y="1122"/>
                </a:lnTo>
                <a:lnTo>
                  <a:pt x="3684" y="759"/>
                </a:lnTo>
                <a:lnTo>
                  <a:pt x="3686" y="1400"/>
                </a:lnTo>
                <a:lnTo>
                  <a:pt x="3687" y="1087"/>
                </a:lnTo>
                <a:lnTo>
                  <a:pt x="3688" y="1148"/>
                </a:lnTo>
                <a:lnTo>
                  <a:pt x="3689" y="1058"/>
                </a:lnTo>
                <a:lnTo>
                  <a:pt x="3690" y="1020"/>
                </a:lnTo>
                <a:lnTo>
                  <a:pt x="3692" y="826"/>
                </a:lnTo>
                <a:lnTo>
                  <a:pt x="3693" y="1015"/>
                </a:lnTo>
                <a:lnTo>
                  <a:pt x="3694" y="482"/>
                </a:lnTo>
                <a:lnTo>
                  <a:pt x="3695" y="679"/>
                </a:lnTo>
                <a:lnTo>
                  <a:pt x="3697" y="1020"/>
                </a:lnTo>
                <a:lnTo>
                  <a:pt x="3698" y="1381"/>
                </a:lnTo>
                <a:lnTo>
                  <a:pt x="3699" y="739"/>
                </a:lnTo>
                <a:lnTo>
                  <a:pt x="3700" y="507"/>
                </a:lnTo>
                <a:lnTo>
                  <a:pt x="3702" y="449"/>
                </a:lnTo>
                <a:lnTo>
                  <a:pt x="3703" y="895"/>
                </a:lnTo>
                <a:lnTo>
                  <a:pt x="3704" y="1288"/>
                </a:lnTo>
                <a:lnTo>
                  <a:pt x="3705" y="1069"/>
                </a:lnTo>
                <a:lnTo>
                  <a:pt x="3706" y="1104"/>
                </a:lnTo>
                <a:lnTo>
                  <a:pt x="3708" y="772"/>
                </a:lnTo>
                <a:lnTo>
                  <a:pt x="3709" y="1053"/>
                </a:lnTo>
                <a:lnTo>
                  <a:pt x="3710" y="265"/>
                </a:lnTo>
                <a:lnTo>
                  <a:pt x="3712" y="1303"/>
                </a:lnTo>
                <a:lnTo>
                  <a:pt x="3713" y="190"/>
                </a:lnTo>
                <a:lnTo>
                  <a:pt x="3714" y="846"/>
                </a:lnTo>
                <a:lnTo>
                  <a:pt x="3715" y="667"/>
                </a:lnTo>
                <a:lnTo>
                  <a:pt x="3716" y="1237"/>
                </a:lnTo>
                <a:lnTo>
                  <a:pt x="3717" y="1080"/>
                </a:lnTo>
                <a:lnTo>
                  <a:pt x="3719" y="1289"/>
                </a:lnTo>
                <a:lnTo>
                  <a:pt x="3721" y="312"/>
                </a:lnTo>
                <a:lnTo>
                  <a:pt x="3722" y="929"/>
                </a:lnTo>
                <a:lnTo>
                  <a:pt x="3723" y="1295"/>
                </a:lnTo>
                <a:lnTo>
                  <a:pt x="3724" y="1044"/>
                </a:lnTo>
                <a:lnTo>
                  <a:pt x="3725" y="1237"/>
                </a:lnTo>
                <a:lnTo>
                  <a:pt x="3726" y="932"/>
                </a:lnTo>
                <a:lnTo>
                  <a:pt x="3727" y="1407"/>
                </a:lnTo>
                <a:lnTo>
                  <a:pt x="3728" y="1141"/>
                </a:lnTo>
                <a:lnTo>
                  <a:pt x="3731" y="1091"/>
                </a:lnTo>
                <a:lnTo>
                  <a:pt x="3732" y="967"/>
                </a:lnTo>
                <a:lnTo>
                  <a:pt x="3733" y="968"/>
                </a:lnTo>
                <a:lnTo>
                  <a:pt x="3734" y="1000"/>
                </a:lnTo>
                <a:lnTo>
                  <a:pt x="3735" y="591"/>
                </a:lnTo>
                <a:lnTo>
                  <a:pt x="3736" y="974"/>
                </a:lnTo>
                <a:lnTo>
                  <a:pt x="3737" y="1120"/>
                </a:lnTo>
                <a:lnTo>
                  <a:pt x="3738" y="964"/>
                </a:lnTo>
                <a:lnTo>
                  <a:pt x="3739" y="982"/>
                </a:lnTo>
                <a:lnTo>
                  <a:pt x="3741" y="1101"/>
                </a:lnTo>
                <a:lnTo>
                  <a:pt x="3743" y="631"/>
                </a:lnTo>
                <a:lnTo>
                  <a:pt x="3744" y="857"/>
                </a:lnTo>
                <a:lnTo>
                  <a:pt x="3745" y="660"/>
                </a:lnTo>
                <a:lnTo>
                  <a:pt x="3746" y="1357"/>
                </a:lnTo>
                <a:lnTo>
                  <a:pt x="3747" y="942"/>
                </a:lnTo>
                <a:lnTo>
                  <a:pt x="3748" y="1188"/>
                </a:lnTo>
                <a:lnTo>
                  <a:pt x="3750" y="831"/>
                </a:lnTo>
                <a:lnTo>
                  <a:pt x="3751" y="1150"/>
                </a:lnTo>
                <a:lnTo>
                  <a:pt x="3752" y="845"/>
                </a:lnTo>
                <a:lnTo>
                  <a:pt x="3754" y="1094"/>
                </a:lnTo>
                <a:lnTo>
                  <a:pt x="3755" y="1140"/>
                </a:lnTo>
                <a:lnTo>
                  <a:pt x="3756" y="1001"/>
                </a:lnTo>
                <a:lnTo>
                  <a:pt x="3757" y="1245"/>
                </a:lnTo>
                <a:lnTo>
                  <a:pt x="3758" y="841"/>
                </a:lnTo>
                <a:lnTo>
                  <a:pt x="3760" y="721"/>
                </a:lnTo>
                <a:lnTo>
                  <a:pt x="3761" y="952"/>
                </a:lnTo>
                <a:lnTo>
                  <a:pt x="3762" y="922"/>
                </a:lnTo>
                <a:lnTo>
                  <a:pt x="3763" y="1230"/>
                </a:lnTo>
                <a:lnTo>
                  <a:pt x="3765" y="839"/>
                </a:lnTo>
                <a:lnTo>
                  <a:pt x="3766" y="1058"/>
                </a:lnTo>
                <a:lnTo>
                  <a:pt x="3767" y="767"/>
                </a:lnTo>
                <a:lnTo>
                  <a:pt x="3768" y="1093"/>
                </a:lnTo>
                <a:lnTo>
                  <a:pt x="3770" y="1054"/>
                </a:lnTo>
                <a:lnTo>
                  <a:pt x="3771" y="895"/>
                </a:lnTo>
                <a:lnTo>
                  <a:pt x="3772" y="1181"/>
                </a:lnTo>
                <a:lnTo>
                  <a:pt x="3773" y="1380"/>
                </a:lnTo>
                <a:lnTo>
                  <a:pt x="3774" y="1036"/>
                </a:lnTo>
                <a:lnTo>
                  <a:pt x="3776" y="1058"/>
                </a:lnTo>
                <a:lnTo>
                  <a:pt x="3777" y="1129"/>
                </a:lnTo>
                <a:lnTo>
                  <a:pt x="3779" y="1342"/>
                </a:lnTo>
                <a:lnTo>
                  <a:pt x="3780" y="858"/>
                </a:lnTo>
                <a:lnTo>
                  <a:pt x="3781" y="975"/>
                </a:lnTo>
                <a:lnTo>
                  <a:pt x="3782" y="748"/>
                </a:lnTo>
                <a:lnTo>
                  <a:pt x="3783" y="456"/>
                </a:lnTo>
                <a:lnTo>
                  <a:pt x="3784" y="528"/>
                </a:lnTo>
                <a:lnTo>
                  <a:pt x="3785" y="829"/>
                </a:lnTo>
                <a:lnTo>
                  <a:pt x="3787" y="943"/>
                </a:lnTo>
                <a:lnTo>
                  <a:pt x="3789" y="1412"/>
                </a:lnTo>
                <a:lnTo>
                  <a:pt x="3790" y="837"/>
                </a:lnTo>
                <a:lnTo>
                  <a:pt x="3791" y="815"/>
                </a:lnTo>
                <a:lnTo>
                  <a:pt x="3792" y="792"/>
                </a:lnTo>
                <a:lnTo>
                  <a:pt x="3793" y="776"/>
                </a:lnTo>
                <a:lnTo>
                  <a:pt x="3794" y="756"/>
                </a:lnTo>
                <a:lnTo>
                  <a:pt x="3795" y="547"/>
                </a:lnTo>
                <a:lnTo>
                  <a:pt x="3796" y="711"/>
                </a:lnTo>
                <a:lnTo>
                  <a:pt x="3799" y="1005"/>
                </a:lnTo>
                <a:lnTo>
                  <a:pt x="3800" y="869"/>
                </a:lnTo>
                <a:lnTo>
                  <a:pt x="3801" y="1275"/>
                </a:lnTo>
                <a:lnTo>
                  <a:pt x="3802" y="1227"/>
                </a:lnTo>
                <a:lnTo>
                  <a:pt x="3803" y="762"/>
                </a:lnTo>
                <a:lnTo>
                  <a:pt x="3804" y="1180"/>
                </a:lnTo>
                <a:lnTo>
                  <a:pt x="3805" y="1333"/>
                </a:lnTo>
                <a:lnTo>
                  <a:pt x="3806" y="1117"/>
                </a:lnTo>
                <a:lnTo>
                  <a:pt x="3808" y="958"/>
                </a:lnTo>
                <a:lnTo>
                  <a:pt x="3809" y="847"/>
                </a:lnTo>
                <a:lnTo>
                  <a:pt x="3811" y="1064"/>
                </a:lnTo>
                <a:lnTo>
                  <a:pt x="3812" y="1505"/>
                </a:lnTo>
                <a:lnTo>
                  <a:pt x="3813" y="506"/>
                </a:lnTo>
                <a:lnTo>
                  <a:pt x="3814" y="595"/>
                </a:lnTo>
                <a:lnTo>
                  <a:pt x="3815" y="1229"/>
                </a:lnTo>
                <a:lnTo>
                  <a:pt x="3816" y="1172"/>
                </a:lnTo>
                <a:lnTo>
                  <a:pt x="3818" y="1277"/>
                </a:lnTo>
                <a:lnTo>
                  <a:pt x="3819" y="1314"/>
                </a:lnTo>
                <a:lnTo>
                  <a:pt x="3820" y="716"/>
                </a:lnTo>
                <a:lnTo>
                  <a:pt x="3822" y="1003"/>
                </a:lnTo>
                <a:lnTo>
                  <a:pt x="3823" y="300"/>
                </a:lnTo>
                <a:lnTo>
                  <a:pt x="3824" y="1360"/>
                </a:lnTo>
                <a:lnTo>
                  <a:pt x="3825" y="1010"/>
                </a:lnTo>
                <a:lnTo>
                  <a:pt x="3826" y="985"/>
                </a:lnTo>
                <a:lnTo>
                  <a:pt x="3828" y="735"/>
                </a:lnTo>
                <a:lnTo>
                  <a:pt x="3829" y="720"/>
                </a:lnTo>
                <a:lnTo>
                  <a:pt x="3830" y="1152"/>
                </a:lnTo>
                <a:lnTo>
                  <a:pt x="3831" y="691"/>
                </a:lnTo>
                <a:lnTo>
                  <a:pt x="3833" y="718"/>
                </a:lnTo>
                <a:lnTo>
                  <a:pt x="3834" y="566"/>
                </a:lnTo>
                <a:lnTo>
                  <a:pt x="3835" y="1304"/>
                </a:lnTo>
                <a:lnTo>
                  <a:pt x="3837" y="1000"/>
                </a:lnTo>
                <a:lnTo>
                  <a:pt x="3838" y="1176"/>
                </a:lnTo>
                <a:lnTo>
                  <a:pt x="3839" y="1190"/>
                </a:lnTo>
                <a:lnTo>
                  <a:pt x="3840" y="697"/>
                </a:lnTo>
                <a:lnTo>
                  <a:pt x="3841" y="815"/>
                </a:lnTo>
                <a:lnTo>
                  <a:pt x="3842" y="1530"/>
                </a:lnTo>
                <a:lnTo>
                  <a:pt x="3844" y="602"/>
                </a:lnTo>
                <a:lnTo>
                  <a:pt x="3845" y="677"/>
                </a:lnTo>
                <a:lnTo>
                  <a:pt x="3847" y="1145"/>
                </a:lnTo>
                <a:lnTo>
                  <a:pt x="3848" y="1016"/>
                </a:lnTo>
                <a:lnTo>
                  <a:pt x="3849" y="1007"/>
                </a:lnTo>
                <a:lnTo>
                  <a:pt x="3850" y="1411"/>
                </a:lnTo>
                <a:lnTo>
                  <a:pt x="3851" y="1333"/>
                </a:lnTo>
                <a:lnTo>
                  <a:pt x="3852" y="1200"/>
                </a:lnTo>
                <a:lnTo>
                  <a:pt x="3853" y="1228"/>
                </a:lnTo>
                <a:lnTo>
                  <a:pt x="3855" y="940"/>
                </a:lnTo>
                <a:lnTo>
                  <a:pt x="3857" y="1064"/>
                </a:lnTo>
                <a:lnTo>
                  <a:pt x="3858" y="1244"/>
                </a:lnTo>
                <a:lnTo>
                  <a:pt x="3859" y="1148"/>
                </a:lnTo>
                <a:lnTo>
                  <a:pt x="3860" y="436"/>
                </a:lnTo>
                <a:lnTo>
                  <a:pt x="3861" y="1278"/>
                </a:lnTo>
                <a:lnTo>
                  <a:pt x="3862" y="643"/>
                </a:lnTo>
                <a:lnTo>
                  <a:pt x="3863" y="781"/>
                </a:lnTo>
                <a:lnTo>
                  <a:pt x="3864" y="1099"/>
                </a:lnTo>
                <a:lnTo>
                  <a:pt x="3866" y="973"/>
                </a:lnTo>
                <a:lnTo>
                  <a:pt x="3868" y="1427"/>
                </a:lnTo>
                <a:lnTo>
                  <a:pt x="3869" y="1436"/>
                </a:lnTo>
                <a:lnTo>
                  <a:pt x="3870" y="758"/>
                </a:lnTo>
                <a:lnTo>
                  <a:pt x="3871" y="1432"/>
                </a:lnTo>
                <a:lnTo>
                  <a:pt x="3872" y="659"/>
                </a:lnTo>
                <a:lnTo>
                  <a:pt x="3873" y="1202"/>
                </a:lnTo>
                <a:lnTo>
                  <a:pt x="3874" y="1098"/>
                </a:lnTo>
                <a:lnTo>
                  <a:pt x="3876" y="858"/>
                </a:lnTo>
                <a:lnTo>
                  <a:pt x="3877" y="642"/>
                </a:lnTo>
                <a:lnTo>
                  <a:pt x="3879" y="1255"/>
                </a:lnTo>
                <a:lnTo>
                  <a:pt x="3880" y="792"/>
                </a:lnTo>
                <a:lnTo>
                  <a:pt x="3881" y="1162"/>
                </a:lnTo>
                <a:lnTo>
                  <a:pt x="3882" y="1134"/>
                </a:lnTo>
                <a:lnTo>
                  <a:pt x="3883" y="902"/>
                </a:lnTo>
                <a:lnTo>
                  <a:pt x="3884" y="1288"/>
                </a:lnTo>
                <a:lnTo>
                  <a:pt x="3886" y="1215"/>
                </a:lnTo>
                <a:lnTo>
                  <a:pt x="3887" y="1043"/>
                </a:lnTo>
                <a:lnTo>
                  <a:pt x="3888" y="1061"/>
                </a:lnTo>
                <a:lnTo>
                  <a:pt x="3890" y="947"/>
                </a:lnTo>
                <a:lnTo>
                  <a:pt x="3891" y="924"/>
                </a:lnTo>
                <a:lnTo>
                  <a:pt x="3892" y="1053"/>
                </a:lnTo>
                <a:lnTo>
                  <a:pt x="3893" y="765"/>
                </a:lnTo>
                <a:lnTo>
                  <a:pt x="3895" y="757"/>
                </a:lnTo>
                <a:lnTo>
                  <a:pt x="3896" y="963"/>
                </a:lnTo>
                <a:lnTo>
                  <a:pt x="3897" y="1312"/>
                </a:lnTo>
                <a:lnTo>
                  <a:pt x="3898" y="741"/>
                </a:lnTo>
                <a:lnTo>
                  <a:pt x="3899" y="1147"/>
                </a:lnTo>
                <a:lnTo>
                  <a:pt x="3901" y="1363"/>
                </a:lnTo>
                <a:lnTo>
                  <a:pt x="3902" y="1002"/>
                </a:lnTo>
                <a:lnTo>
                  <a:pt x="3903" y="514"/>
                </a:lnTo>
                <a:lnTo>
                  <a:pt x="3905" y="835"/>
                </a:lnTo>
                <a:lnTo>
                  <a:pt x="3906" y="662"/>
                </a:lnTo>
                <a:lnTo>
                  <a:pt x="3907" y="630"/>
                </a:lnTo>
                <a:lnTo>
                  <a:pt x="3908" y="1401"/>
                </a:lnTo>
                <a:lnTo>
                  <a:pt x="3909" y="739"/>
                </a:lnTo>
                <a:lnTo>
                  <a:pt x="3910" y="1390"/>
                </a:lnTo>
                <a:lnTo>
                  <a:pt x="3912" y="1111"/>
                </a:lnTo>
                <a:lnTo>
                  <a:pt x="3913" y="1107"/>
                </a:lnTo>
                <a:lnTo>
                  <a:pt x="3915" y="1114"/>
                </a:lnTo>
                <a:lnTo>
                  <a:pt x="3916" y="916"/>
                </a:lnTo>
                <a:lnTo>
                  <a:pt x="3917" y="1350"/>
                </a:lnTo>
                <a:lnTo>
                  <a:pt x="3918" y="1165"/>
                </a:lnTo>
                <a:lnTo>
                  <a:pt x="3919" y="1247"/>
                </a:lnTo>
                <a:lnTo>
                  <a:pt x="3920" y="835"/>
                </a:lnTo>
                <a:lnTo>
                  <a:pt x="3921" y="805"/>
                </a:lnTo>
                <a:lnTo>
                  <a:pt x="3924" y="1197"/>
                </a:lnTo>
                <a:lnTo>
                  <a:pt x="3925" y="968"/>
                </a:lnTo>
                <a:lnTo>
                  <a:pt x="3926" y="986"/>
                </a:lnTo>
                <a:lnTo>
                  <a:pt x="3927" y="1440"/>
                </a:lnTo>
                <a:lnTo>
                  <a:pt x="3928" y="327"/>
                </a:lnTo>
                <a:lnTo>
                  <a:pt x="3929" y="648"/>
                </a:lnTo>
                <a:lnTo>
                  <a:pt x="3930" y="1622"/>
                </a:lnTo>
                <a:lnTo>
                  <a:pt x="3931" y="1354"/>
                </a:lnTo>
                <a:lnTo>
                  <a:pt x="3932" y="893"/>
                </a:lnTo>
                <a:lnTo>
                  <a:pt x="3934" y="1020"/>
                </a:lnTo>
                <a:lnTo>
                  <a:pt x="3936" y="926"/>
                </a:lnTo>
                <a:lnTo>
                  <a:pt x="3937" y="660"/>
                </a:lnTo>
                <a:lnTo>
                  <a:pt x="3938" y="1233"/>
                </a:lnTo>
                <a:lnTo>
                  <a:pt x="3939" y="1219"/>
                </a:lnTo>
                <a:lnTo>
                  <a:pt x="3940" y="249"/>
                </a:lnTo>
                <a:lnTo>
                  <a:pt x="3941" y="902"/>
                </a:lnTo>
                <a:lnTo>
                  <a:pt x="3943" y="993"/>
                </a:lnTo>
                <a:lnTo>
                  <a:pt x="3944" y="975"/>
                </a:lnTo>
                <a:lnTo>
                  <a:pt x="3945" y="848"/>
                </a:lnTo>
                <a:lnTo>
                  <a:pt x="3947" y="958"/>
                </a:lnTo>
                <a:lnTo>
                  <a:pt x="3948" y="1049"/>
                </a:lnTo>
                <a:lnTo>
                  <a:pt x="3949" y="1592"/>
                </a:lnTo>
                <a:lnTo>
                  <a:pt x="3950" y="1344"/>
                </a:lnTo>
                <a:lnTo>
                  <a:pt x="3951" y="1033"/>
                </a:lnTo>
                <a:lnTo>
                  <a:pt x="3953" y="1136"/>
                </a:lnTo>
                <a:lnTo>
                  <a:pt x="3954" y="875"/>
                </a:lnTo>
                <a:lnTo>
                  <a:pt x="3955" y="1110"/>
                </a:lnTo>
                <a:lnTo>
                  <a:pt x="3956" y="938"/>
                </a:lnTo>
                <a:lnTo>
                  <a:pt x="3958" y="928"/>
                </a:lnTo>
                <a:lnTo>
                  <a:pt x="3959" y="1197"/>
                </a:lnTo>
                <a:lnTo>
                  <a:pt x="3960" y="1429"/>
                </a:lnTo>
                <a:lnTo>
                  <a:pt x="3961" y="703"/>
                </a:lnTo>
                <a:lnTo>
                  <a:pt x="3963" y="709"/>
                </a:lnTo>
                <a:lnTo>
                  <a:pt x="3964" y="902"/>
                </a:lnTo>
                <a:lnTo>
                  <a:pt x="3965" y="740"/>
                </a:lnTo>
                <a:lnTo>
                  <a:pt x="3966" y="1435"/>
                </a:lnTo>
                <a:lnTo>
                  <a:pt x="3967" y="965"/>
                </a:lnTo>
                <a:lnTo>
                  <a:pt x="3969" y="1005"/>
                </a:lnTo>
                <a:lnTo>
                  <a:pt x="3970" y="638"/>
                </a:lnTo>
                <a:lnTo>
                  <a:pt x="3972" y="1169"/>
                </a:lnTo>
                <a:lnTo>
                  <a:pt x="3973" y="719"/>
                </a:lnTo>
                <a:lnTo>
                  <a:pt x="3974" y="226"/>
                </a:lnTo>
                <a:lnTo>
                  <a:pt x="3975" y="979"/>
                </a:lnTo>
                <a:lnTo>
                  <a:pt x="3976" y="595"/>
                </a:lnTo>
                <a:lnTo>
                  <a:pt x="3977" y="761"/>
                </a:lnTo>
                <a:lnTo>
                  <a:pt x="3978" y="994"/>
                </a:lnTo>
                <a:lnTo>
                  <a:pt x="3980" y="1522"/>
                </a:lnTo>
                <a:lnTo>
                  <a:pt x="3982" y="896"/>
                </a:lnTo>
                <a:lnTo>
                  <a:pt x="3983" y="870"/>
                </a:lnTo>
                <a:lnTo>
                  <a:pt x="3984" y="1274"/>
                </a:lnTo>
                <a:lnTo>
                  <a:pt x="3985" y="1040"/>
                </a:lnTo>
                <a:lnTo>
                  <a:pt x="3986" y="1148"/>
                </a:lnTo>
                <a:lnTo>
                  <a:pt x="3987" y="857"/>
                </a:lnTo>
                <a:lnTo>
                  <a:pt x="3988" y="1094"/>
                </a:lnTo>
                <a:lnTo>
                  <a:pt x="3989" y="1212"/>
                </a:lnTo>
                <a:lnTo>
                  <a:pt x="3990" y="1015"/>
                </a:lnTo>
                <a:lnTo>
                  <a:pt x="3993" y="509"/>
                </a:lnTo>
                <a:lnTo>
                  <a:pt x="3994" y="755"/>
                </a:lnTo>
                <a:lnTo>
                  <a:pt x="3995" y="758"/>
                </a:lnTo>
                <a:lnTo>
                  <a:pt x="3996" y="1350"/>
                </a:lnTo>
                <a:lnTo>
                  <a:pt x="3997" y="954"/>
                </a:lnTo>
                <a:lnTo>
                  <a:pt x="3998" y="612"/>
                </a:lnTo>
                <a:lnTo>
                  <a:pt x="3999" y="979"/>
                </a:lnTo>
                <a:lnTo>
                  <a:pt x="4001" y="1235"/>
                </a:lnTo>
                <a:lnTo>
                  <a:pt x="4002" y="1169"/>
                </a:lnTo>
                <a:lnTo>
                  <a:pt x="4004" y="429"/>
                </a:lnTo>
                <a:lnTo>
                  <a:pt x="4005" y="1111"/>
                </a:lnTo>
                <a:lnTo>
                  <a:pt x="4006" y="827"/>
                </a:lnTo>
                <a:lnTo>
                  <a:pt x="4007" y="1218"/>
                </a:lnTo>
                <a:lnTo>
                  <a:pt x="4008" y="619"/>
                </a:lnTo>
                <a:lnTo>
                  <a:pt x="4009" y="1201"/>
                </a:lnTo>
                <a:lnTo>
                  <a:pt x="4011" y="1762"/>
                </a:lnTo>
                <a:lnTo>
                  <a:pt x="4012" y="1051"/>
                </a:lnTo>
                <a:lnTo>
                  <a:pt x="4013" y="1328"/>
                </a:lnTo>
                <a:lnTo>
                  <a:pt x="4015" y="905"/>
                </a:lnTo>
                <a:lnTo>
                  <a:pt x="4016" y="1145"/>
                </a:lnTo>
                <a:lnTo>
                  <a:pt x="4017" y="1327"/>
                </a:lnTo>
                <a:lnTo>
                  <a:pt x="4018" y="1459"/>
                </a:lnTo>
                <a:lnTo>
                  <a:pt x="4019" y="1039"/>
                </a:lnTo>
                <a:lnTo>
                  <a:pt x="4021" y="863"/>
                </a:lnTo>
                <a:lnTo>
                  <a:pt x="4022" y="1148"/>
                </a:lnTo>
                <a:lnTo>
                  <a:pt x="4023" y="738"/>
                </a:lnTo>
                <a:lnTo>
                  <a:pt x="4024" y="1058"/>
                </a:lnTo>
                <a:lnTo>
                  <a:pt x="4026" y="724"/>
                </a:lnTo>
                <a:lnTo>
                  <a:pt x="4027" y="1130"/>
                </a:lnTo>
                <a:lnTo>
                  <a:pt x="4028" y="1323"/>
                </a:lnTo>
                <a:lnTo>
                  <a:pt x="4030" y="850"/>
                </a:lnTo>
                <a:lnTo>
                  <a:pt x="4031" y="1172"/>
                </a:lnTo>
                <a:lnTo>
                  <a:pt x="4032" y="1419"/>
                </a:lnTo>
                <a:lnTo>
                  <a:pt x="4033" y="1308"/>
                </a:lnTo>
                <a:lnTo>
                  <a:pt x="4034" y="818"/>
                </a:lnTo>
                <a:lnTo>
                  <a:pt x="4035" y="909"/>
                </a:lnTo>
                <a:lnTo>
                  <a:pt x="4037" y="727"/>
                </a:lnTo>
                <a:lnTo>
                  <a:pt x="4038" y="1053"/>
                </a:lnTo>
                <a:lnTo>
                  <a:pt x="4040" y="895"/>
                </a:lnTo>
                <a:lnTo>
                  <a:pt x="4041" y="962"/>
                </a:lnTo>
                <a:lnTo>
                  <a:pt x="4042" y="1267"/>
                </a:lnTo>
                <a:lnTo>
                  <a:pt x="4043" y="1059"/>
                </a:lnTo>
                <a:lnTo>
                  <a:pt x="4044" y="1423"/>
                </a:lnTo>
                <a:lnTo>
                  <a:pt x="4045" y="339"/>
                </a:lnTo>
                <a:lnTo>
                  <a:pt x="4046" y="1119"/>
                </a:lnTo>
                <a:lnTo>
                  <a:pt x="4048" y="846"/>
                </a:lnTo>
                <a:lnTo>
                  <a:pt x="4050" y="1110"/>
                </a:lnTo>
                <a:lnTo>
                  <a:pt x="4051" y="1256"/>
                </a:lnTo>
                <a:lnTo>
                  <a:pt x="4052" y="477"/>
                </a:lnTo>
                <a:lnTo>
                  <a:pt x="4053" y="945"/>
                </a:lnTo>
                <a:lnTo>
                  <a:pt x="4054" y="1238"/>
                </a:lnTo>
                <a:lnTo>
                  <a:pt x="4055" y="1300"/>
                </a:lnTo>
                <a:lnTo>
                  <a:pt x="4056" y="742"/>
                </a:lnTo>
                <a:lnTo>
                  <a:pt x="4057" y="859"/>
                </a:lnTo>
                <a:lnTo>
                  <a:pt x="4059" y="1333"/>
                </a:lnTo>
                <a:lnTo>
                  <a:pt x="4061" y="805"/>
                </a:lnTo>
                <a:lnTo>
                  <a:pt x="4062" y="1456"/>
                </a:lnTo>
                <a:lnTo>
                  <a:pt x="4063" y="1625"/>
                </a:lnTo>
                <a:lnTo>
                  <a:pt x="4064" y="906"/>
                </a:lnTo>
                <a:lnTo>
                  <a:pt x="4065" y="538"/>
                </a:lnTo>
                <a:lnTo>
                  <a:pt x="4066" y="1329"/>
                </a:lnTo>
                <a:lnTo>
                  <a:pt x="4067" y="846"/>
                </a:lnTo>
                <a:lnTo>
                  <a:pt x="4069" y="1053"/>
                </a:lnTo>
                <a:lnTo>
                  <a:pt x="4070" y="834"/>
                </a:lnTo>
                <a:lnTo>
                  <a:pt x="4072" y="787"/>
                </a:lnTo>
                <a:lnTo>
                  <a:pt x="4073" y="787"/>
                </a:lnTo>
                <a:lnTo>
                  <a:pt x="4074" y="810"/>
                </a:lnTo>
                <a:lnTo>
                  <a:pt x="4075" y="1015"/>
                </a:lnTo>
                <a:lnTo>
                  <a:pt x="4076" y="516"/>
                </a:lnTo>
                <a:lnTo>
                  <a:pt x="4077" y="1097"/>
                </a:lnTo>
                <a:lnTo>
                  <a:pt x="4079" y="1050"/>
                </a:lnTo>
                <a:lnTo>
                  <a:pt x="4080" y="952"/>
                </a:lnTo>
                <a:lnTo>
                  <a:pt x="4081" y="1107"/>
                </a:lnTo>
                <a:lnTo>
                  <a:pt x="4083" y="499"/>
                </a:lnTo>
                <a:lnTo>
                  <a:pt x="4084" y="672"/>
                </a:lnTo>
                <a:lnTo>
                  <a:pt x="4085" y="851"/>
                </a:lnTo>
                <a:lnTo>
                  <a:pt x="4086" y="1339"/>
                </a:lnTo>
                <a:lnTo>
                  <a:pt x="4088" y="790"/>
                </a:lnTo>
                <a:lnTo>
                  <a:pt x="4089" y="739"/>
                </a:lnTo>
                <a:lnTo>
                  <a:pt x="4090" y="1101"/>
                </a:lnTo>
                <a:lnTo>
                  <a:pt x="4091" y="265"/>
                </a:lnTo>
                <a:lnTo>
                  <a:pt x="4092" y="1207"/>
                </a:lnTo>
                <a:lnTo>
                  <a:pt x="4094" y="1026"/>
                </a:lnTo>
                <a:lnTo>
                  <a:pt x="4095" y="1077"/>
                </a:lnTo>
                <a:lnTo>
                  <a:pt x="4096" y="1098"/>
                </a:lnTo>
                <a:lnTo>
                  <a:pt x="4098" y="873"/>
                </a:lnTo>
                <a:lnTo>
                  <a:pt x="4099" y="950"/>
                </a:lnTo>
                <a:lnTo>
                  <a:pt x="4100" y="1005"/>
                </a:lnTo>
                <a:lnTo>
                  <a:pt x="4101" y="1198"/>
                </a:lnTo>
                <a:lnTo>
                  <a:pt x="4102" y="1131"/>
                </a:lnTo>
                <a:lnTo>
                  <a:pt x="4103" y="1043"/>
                </a:lnTo>
                <a:lnTo>
                  <a:pt x="4105" y="1286"/>
                </a:lnTo>
                <a:lnTo>
                  <a:pt x="4106" y="1082"/>
                </a:lnTo>
                <a:lnTo>
                  <a:pt x="4108" y="961"/>
                </a:lnTo>
                <a:lnTo>
                  <a:pt x="4109" y="767"/>
                </a:lnTo>
                <a:lnTo>
                  <a:pt x="4110" y="1158"/>
                </a:lnTo>
                <a:lnTo>
                  <a:pt x="4111" y="741"/>
                </a:lnTo>
                <a:lnTo>
                  <a:pt x="4112" y="609"/>
                </a:lnTo>
                <a:lnTo>
                  <a:pt x="4113" y="1024"/>
                </a:lnTo>
                <a:lnTo>
                  <a:pt x="4114" y="944"/>
                </a:lnTo>
                <a:lnTo>
                  <a:pt x="4117" y="1529"/>
                </a:lnTo>
                <a:lnTo>
                  <a:pt x="4118" y="1019"/>
                </a:lnTo>
                <a:lnTo>
                  <a:pt x="4119" y="948"/>
                </a:lnTo>
                <a:lnTo>
                  <a:pt x="4120" y="817"/>
                </a:lnTo>
                <a:lnTo>
                  <a:pt x="4121" y="997"/>
                </a:lnTo>
                <a:lnTo>
                  <a:pt x="4122" y="1009"/>
                </a:lnTo>
                <a:lnTo>
                  <a:pt x="4123" y="1102"/>
                </a:lnTo>
                <a:lnTo>
                  <a:pt x="4124" y="934"/>
                </a:lnTo>
                <a:lnTo>
                  <a:pt x="4125" y="1165"/>
                </a:lnTo>
                <a:lnTo>
                  <a:pt x="4127" y="1373"/>
                </a:lnTo>
                <a:lnTo>
                  <a:pt x="4129" y="782"/>
                </a:lnTo>
                <a:lnTo>
                  <a:pt x="4130" y="954"/>
                </a:lnTo>
                <a:lnTo>
                  <a:pt x="4131" y="819"/>
                </a:lnTo>
                <a:lnTo>
                  <a:pt x="4132" y="1202"/>
                </a:lnTo>
                <a:lnTo>
                  <a:pt x="4133" y="1183"/>
                </a:lnTo>
                <a:lnTo>
                  <a:pt x="4134" y="858"/>
                </a:lnTo>
                <a:lnTo>
                  <a:pt x="4135" y="590"/>
                </a:lnTo>
                <a:lnTo>
                  <a:pt x="4137" y="1381"/>
                </a:lnTo>
                <a:lnTo>
                  <a:pt x="4138" y="693"/>
                </a:lnTo>
                <a:lnTo>
                  <a:pt x="4140" y="1483"/>
                </a:lnTo>
                <a:lnTo>
                  <a:pt x="4141" y="1474"/>
                </a:lnTo>
                <a:lnTo>
                  <a:pt x="4142" y="485"/>
                </a:lnTo>
                <a:lnTo>
                  <a:pt x="4143" y="1081"/>
                </a:lnTo>
                <a:lnTo>
                  <a:pt x="4144" y="1055"/>
                </a:lnTo>
                <a:lnTo>
                  <a:pt x="4146" y="768"/>
                </a:lnTo>
                <a:lnTo>
                  <a:pt x="4147" y="1697"/>
                </a:lnTo>
                <a:lnTo>
                  <a:pt x="4148" y="1518"/>
                </a:lnTo>
                <a:lnTo>
                  <a:pt x="4149" y="820"/>
                </a:lnTo>
                <a:lnTo>
                  <a:pt x="4151" y="1342"/>
                </a:lnTo>
                <a:lnTo>
                  <a:pt x="4152" y="1216"/>
                </a:lnTo>
                <a:lnTo>
                  <a:pt x="4153" y="1478"/>
                </a:lnTo>
                <a:lnTo>
                  <a:pt x="4154" y="940"/>
                </a:lnTo>
                <a:lnTo>
                  <a:pt x="4156" y="961"/>
                </a:lnTo>
                <a:lnTo>
                  <a:pt x="4157" y="748"/>
                </a:lnTo>
                <a:lnTo>
                  <a:pt x="4158" y="1064"/>
                </a:lnTo>
                <a:lnTo>
                  <a:pt x="4159" y="1172"/>
                </a:lnTo>
                <a:lnTo>
                  <a:pt x="4160" y="1424"/>
                </a:lnTo>
                <a:lnTo>
                  <a:pt x="4162" y="430"/>
                </a:lnTo>
                <a:lnTo>
                  <a:pt x="4163" y="960"/>
                </a:lnTo>
                <a:lnTo>
                  <a:pt x="4164" y="993"/>
                </a:lnTo>
                <a:lnTo>
                  <a:pt x="4166" y="1445"/>
                </a:lnTo>
                <a:lnTo>
                  <a:pt x="4167" y="798"/>
                </a:lnTo>
                <a:lnTo>
                  <a:pt x="4168" y="809"/>
                </a:lnTo>
                <a:lnTo>
                  <a:pt x="4169" y="1685"/>
                </a:lnTo>
                <a:lnTo>
                  <a:pt x="4170" y="1107"/>
                </a:lnTo>
                <a:lnTo>
                  <a:pt x="4171" y="984"/>
                </a:lnTo>
                <a:lnTo>
                  <a:pt x="4173" y="1365"/>
                </a:lnTo>
                <a:lnTo>
                  <a:pt x="4175" y="841"/>
                </a:lnTo>
                <a:lnTo>
                  <a:pt x="4176" y="1282"/>
                </a:lnTo>
                <a:lnTo>
                  <a:pt x="4177" y="376"/>
                </a:lnTo>
                <a:lnTo>
                  <a:pt x="4178" y="1112"/>
                </a:lnTo>
                <a:lnTo>
                  <a:pt x="4179" y="844"/>
                </a:lnTo>
                <a:lnTo>
                  <a:pt x="4180" y="950"/>
                </a:lnTo>
                <a:lnTo>
                  <a:pt x="4181" y="1147"/>
                </a:lnTo>
                <a:lnTo>
                  <a:pt x="4182" y="1280"/>
                </a:lnTo>
                <a:lnTo>
                  <a:pt x="4183" y="733"/>
                </a:lnTo>
                <a:lnTo>
                  <a:pt x="4186" y="868"/>
                </a:lnTo>
                <a:lnTo>
                  <a:pt x="4187" y="618"/>
                </a:lnTo>
                <a:lnTo>
                  <a:pt x="4188" y="1280"/>
                </a:lnTo>
                <a:lnTo>
                  <a:pt x="4189" y="429"/>
                </a:lnTo>
                <a:lnTo>
                  <a:pt x="4190" y="367"/>
                </a:lnTo>
                <a:lnTo>
                  <a:pt x="4191" y="1211"/>
                </a:lnTo>
                <a:lnTo>
                  <a:pt x="4192" y="653"/>
                </a:lnTo>
                <a:lnTo>
                  <a:pt x="4194" y="1221"/>
                </a:lnTo>
                <a:lnTo>
                  <a:pt x="4195" y="1226"/>
                </a:lnTo>
                <a:lnTo>
                  <a:pt x="4197" y="1063"/>
                </a:lnTo>
                <a:lnTo>
                  <a:pt x="4198" y="911"/>
                </a:lnTo>
                <a:lnTo>
                  <a:pt x="4199" y="829"/>
                </a:lnTo>
                <a:lnTo>
                  <a:pt x="4200" y="866"/>
                </a:lnTo>
                <a:lnTo>
                  <a:pt x="4201" y="1046"/>
                </a:lnTo>
                <a:lnTo>
                  <a:pt x="4202" y="1436"/>
                </a:lnTo>
                <a:lnTo>
                  <a:pt x="4204" y="767"/>
                </a:lnTo>
                <a:lnTo>
                  <a:pt x="4205" y="1321"/>
                </a:lnTo>
                <a:lnTo>
                  <a:pt x="4206" y="1160"/>
                </a:lnTo>
                <a:lnTo>
                  <a:pt x="4208" y="456"/>
                </a:lnTo>
                <a:lnTo>
                  <a:pt x="4209" y="1109"/>
                </a:lnTo>
                <a:lnTo>
                  <a:pt x="4210" y="1080"/>
                </a:lnTo>
                <a:lnTo>
                  <a:pt x="4211" y="1283"/>
                </a:lnTo>
                <a:lnTo>
                  <a:pt x="4212" y="1166"/>
                </a:lnTo>
                <a:lnTo>
                  <a:pt x="4214" y="724"/>
                </a:lnTo>
                <a:lnTo>
                  <a:pt x="4215" y="1440"/>
                </a:lnTo>
                <a:lnTo>
                  <a:pt x="4216" y="838"/>
                </a:lnTo>
                <a:lnTo>
                  <a:pt x="4217" y="642"/>
                </a:lnTo>
                <a:lnTo>
                  <a:pt x="4219" y="527"/>
                </a:lnTo>
                <a:lnTo>
                  <a:pt x="4220" y="818"/>
                </a:lnTo>
                <a:lnTo>
                  <a:pt x="4221" y="1382"/>
                </a:lnTo>
                <a:lnTo>
                  <a:pt x="4223" y="963"/>
                </a:lnTo>
                <a:lnTo>
                  <a:pt x="4224" y="1141"/>
                </a:lnTo>
                <a:lnTo>
                  <a:pt x="4225" y="560"/>
                </a:lnTo>
                <a:lnTo>
                  <a:pt x="4226" y="1231"/>
                </a:lnTo>
                <a:lnTo>
                  <a:pt x="4227" y="741"/>
                </a:lnTo>
                <a:lnTo>
                  <a:pt x="4228" y="892"/>
                </a:lnTo>
                <a:lnTo>
                  <a:pt x="4230" y="1067"/>
                </a:lnTo>
                <a:lnTo>
                  <a:pt x="4231" y="1121"/>
                </a:lnTo>
                <a:lnTo>
                  <a:pt x="4233" y="899"/>
                </a:lnTo>
                <a:lnTo>
                  <a:pt x="4234" y="726"/>
                </a:lnTo>
                <a:lnTo>
                  <a:pt x="4235" y="887"/>
                </a:lnTo>
                <a:lnTo>
                  <a:pt x="4236" y="932"/>
                </a:lnTo>
                <a:lnTo>
                  <a:pt x="4237" y="942"/>
                </a:lnTo>
                <a:lnTo>
                  <a:pt x="4238" y="1170"/>
                </a:lnTo>
                <a:lnTo>
                  <a:pt x="4239" y="999"/>
                </a:lnTo>
                <a:lnTo>
                  <a:pt x="4241" y="1100"/>
                </a:lnTo>
                <a:lnTo>
                  <a:pt x="4243" y="1185"/>
                </a:lnTo>
                <a:lnTo>
                  <a:pt x="4244" y="1534"/>
                </a:lnTo>
                <a:lnTo>
                  <a:pt x="4245" y="1091"/>
                </a:lnTo>
                <a:lnTo>
                  <a:pt x="4246" y="1123"/>
                </a:lnTo>
                <a:lnTo>
                  <a:pt x="4247" y="934"/>
                </a:lnTo>
                <a:lnTo>
                  <a:pt x="4248" y="831"/>
                </a:lnTo>
                <a:lnTo>
                  <a:pt x="4249" y="1498"/>
                </a:lnTo>
                <a:lnTo>
                  <a:pt x="4250" y="1106"/>
                </a:lnTo>
                <a:lnTo>
                  <a:pt x="4252" y="795"/>
                </a:lnTo>
                <a:lnTo>
                  <a:pt x="4254" y="953"/>
                </a:lnTo>
                <a:lnTo>
                  <a:pt x="4255" y="781"/>
                </a:lnTo>
                <a:lnTo>
                  <a:pt x="4256" y="542"/>
                </a:lnTo>
                <a:lnTo>
                  <a:pt x="4257" y="898"/>
                </a:lnTo>
                <a:lnTo>
                  <a:pt x="4258" y="1327"/>
                </a:lnTo>
                <a:lnTo>
                  <a:pt x="4259" y="1032"/>
                </a:lnTo>
                <a:lnTo>
                  <a:pt x="4260" y="710"/>
                </a:lnTo>
                <a:lnTo>
                  <a:pt x="4262" y="1728"/>
                </a:lnTo>
                <a:lnTo>
                  <a:pt x="4263" y="737"/>
                </a:lnTo>
                <a:lnTo>
                  <a:pt x="4265" y="966"/>
                </a:lnTo>
                <a:lnTo>
                  <a:pt x="4266" y="979"/>
                </a:lnTo>
                <a:lnTo>
                  <a:pt x="4267" y="1103"/>
                </a:lnTo>
                <a:lnTo>
                  <a:pt x="4268" y="1245"/>
                </a:lnTo>
                <a:lnTo>
                  <a:pt x="4269" y="1303"/>
                </a:lnTo>
                <a:lnTo>
                  <a:pt x="4270" y="916"/>
                </a:lnTo>
                <a:lnTo>
                  <a:pt x="4272" y="864"/>
                </a:lnTo>
                <a:lnTo>
                  <a:pt x="4273" y="618"/>
                </a:lnTo>
                <a:lnTo>
                  <a:pt x="4274" y="1169"/>
                </a:lnTo>
                <a:lnTo>
                  <a:pt x="4276" y="1055"/>
                </a:lnTo>
                <a:lnTo>
                  <a:pt x="4277" y="1394"/>
                </a:lnTo>
                <a:lnTo>
                  <a:pt x="4278" y="1431"/>
                </a:lnTo>
                <a:lnTo>
                  <a:pt x="4279" y="1393"/>
                </a:lnTo>
                <a:lnTo>
                  <a:pt x="4281" y="1572"/>
                </a:lnTo>
                <a:lnTo>
                  <a:pt x="4282" y="742"/>
                </a:lnTo>
                <a:lnTo>
                  <a:pt x="4283" y="968"/>
                </a:lnTo>
                <a:lnTo>
                  <a:pt x="4284" y="1088"/>
                </a:lnTo>
                <a:lnTo>
                  <a:pt x="4285" y="624"/>
                </a:lnTo>
                <a:lnTo>
                  <a:pt x="4287" y="1553"/>
                </a:lnTo>
                <a:lnTo>
                  <a:pt x="4288" y="942"/>
                </a:lnTo>
                <a:lnTo>
                  <a:pt x="4289" y="700"/>
                </a:lnTo>
                <a:lnTo>
                  <a:pt x="4291" y="582"/>
                </a:lnTo>
                <a:lnTo>
                  <a:pt x="4292" y="1042"/>
                </a:lnTo>
                <a:lnTo>
                  <a:pt x="4293" y="819"/>
                </a:lnTo>
                <a:lnTo>
                  <a:pt x="4294" y="941"/>
                </a:lnTo>
                <a:lnTo>
                  <a:pt x="4295" y="892"/>
                </a:lnTo>
                <a:lnTo>
                  <a:pt x="4296" y="878"/>
                </a:lnTo>
                <a:lnTo>
                  <a:pt x="4298" y="1261"/>
                </a:lnTo>
                <a:lnTo>
                  <a:pt x="4299" y="1046"/>
                </a:lnTo>
                <a:lnTo>
                  <a:pt x="4301" y="1054"/>
                </a:lnTo>
                <a:lnTo>
                  <a:pt x="4302" y="1031"/>
                </a:lnTo>
                <a:lnTo>
                  <a:pt x="4303" y="1409"/>
                </a:lnTo>
                <a:lnTo>
                  <a:pt x="4304" y="1159"/>
                </a:lnTo>
                <a:lnTo>
                  <a:pt x="4305" y="827"/>
                </a:lnTo>
                <a:lnTo>
                  <a:pt x="4306" y="1005"/>
                </a:lnTo>
                <a:lnTo>
                  <a:pt x="4307" y="720"/>
                </a:lnTo>
                <a:lnTo>
                  <a:pt x="4308" y="775"/>
                </a:lnTo>
                <a:lnTo>
                  <a:pt x="4311" y="1137"/>
                </a:lnTo>
                <a:lnTo>
                  <a:pt x="4312" y="1083"/>
                </a:lnTo>
                <a:lnTo>
                  <a:pt x="4313" y="1094"/>
                </a:lnTo>
                <a:lnTo>
                  <a:pt x="4314" y="970"/>
                </a:lnTo>
                <a:lnTo>
                  <a:pt x="4315" y="1295"/>
                </a:lnTo>
                <a:lnTo>
                  <a:pt x="4316" y="1241"/>
                </a:lnTo>
                <a:lnTo>
                  <a:pt x="4317" y="984"/>
                </a:lnTo>
                <a:lnTo>
                  <a:pt x="4318" y="1063"/>
                </a:lnTo>
                <a:lnTo>
                  <a:pt x="4320" y="937"/>
                </a:lnTo>
                <a:lnTo>
                  <a:pt x="4322" y="570"/>
                </a:lnTo>
                <a:lnTo>
                  <a:pt x="4323" y="661"/>
                </a:lnTo>
                <a:lnTo>
                  <a:pt x="4324" y="1165"/>
                </a:lnTo>
                <a:lnTo>
                  <a:pt x="4325" y="1023"/>
                </a:lnTo>
                <a:lnTo>
                  <a:pt x="4326" y="762"/>
                </a:lnTo>
                <a:lnTo>
                  <a:pt x="4327" y="736"/>
                </a:lnTo>
                <a:lnTo>
                  <a:pt x="4328" y="1108"/>
                </a:lnTo>
                <a:lnTo>
                  <a:pt x="4330" y="828"/>
                </a:lnTo>
                <a:lnTo>
                  <a:pt x="4331" y="964"/>
                </a:lnTo>
                <a:lnTo>
                  <a:pt x="4333" y="1314"/>
                </a:lnTo>
                <a:lnTo>
                  <a:pt x="4334" y="1028"/>
                </a:lnTo>
                <a:lnTo>
                  <a:pt x="4335" y="837"/>
                </a:lnTo>
                <a:lnTo>
                  <a:pt x="4336" y="1041"/>
                </a:lnTo>
                <a:lnTo>
                  <a:pt x="4337" y="1108"/>
                </a:lnTo>
                <a:lnTo>
                  <a:pt x="4339" y="1227"/>
                </a:lnTo>
                <a:lnTo>
                  <a:pt x="4340" y="1080"/>
                </a:lnTo>
                <a:lnTo>
                  <a:pt x="4341" y="937"/>
                </a:lnTo>
                <a:lnTo>
                  <a:pt x="4342" y="1224"/>
                </a:lnTo>
                <a:lnTo>
                  <a:pt x="4344" y="1083"/>
                </a:lnTo>
                <a:lnTo>
                  <a:pt x="4345" y="770"/>
                </a:lnTo>
                <a:lnTo>
                  <a:pt x="4346" y="1160"/>
                </a:lnTo>
                <a:lnTo>
                  <a:pt x="4347" y="560"/>
                </a:lnTo>
                <a:lnTo>
                  <a:pt x="4349" y="1179"/>
                </a:lnTo>
                <a:lnTo>
                  <a:pt x="4350" y="1264"/>
                </a:lnTo>
                <a:lnTo>
                  <a:pt x="4351" y="928"/>
                </a:lnTo>
                <a:lnTo>
                  <a:pt x="4352" y="796"/>
                </a:lnTo>
                <a:lnTo>
                  <a:pt x="4353" y="976"/>
                </a:lnTo>
                <a:lnTo>
                  <a:pt x="4355" y="954"/>
                </a:lnTo>
                <a:lnTo>
                  <a:pt x="4356" y="729"/>
                </a:lnTo>
                <a:lnTo>
                  <a:pt x="4357" y="1235"/>
                </a:lnTo>
                <a:lnTo>
                  <a:pt x="4359" y="1034"/>
                </a:lnTo>
                <a:lnTo>
                  <a:pt x="4360" y="870"/>
                </a:lnTo>
                <a:lnTo>
                  <a:pt x="4361" y="1355"/>
                </a:lnTo>
                <a:lnTo>
                  <a:pt x="4362" y="1029"/>
                </a:lnTo>
                <a:lnTo>
                  <a:pt x="4363" y="1251"/>
                </a:lnTo>
                <a:lnTo>
                  <a:pt x="4364" y="1265"/>
                </a:lnTo>
                <a:lnTo>
                  <a:pt x="4366" y="1130"/>
                </a:lnTo>
                <a:lnTo>
                  <a:pt x="4368" y="645"/>
                </a:lnTo>
                <a:lnTo>
                  <a:pt x="4369" y="1080"/>
                </a:lnTo>
                <a:lnTo>
                  <a:pt x="4370" y="1081"/>
                </a:lnTo>
                <a:lnTo>
                  <a:pt x="4371" y="541"/>
                </a:lnTo>
                <a:lnTo>
                  <a:pt x="4372" y="944"/>
                </a:lnTo>
                <a:lnTo>
                  <a:pt x="4373" y="1063"/>
                </a:lnTo>
                <a:lnTo>
                  <a:pt x="4374" y="1189"/>
                </a:lnTo>
                <a:lnTo>
                  <a:pt x="4375" y="873"/>
                </a:lnTo>
                <a:lnTo>
                  <a:pt x="4376" y="667"/>
                </a:lnTo>
                <a:lnTo>
                  <a:pt x="4379" y="1216"/>
                </a:lnTo>
                <a:lnTo>
                  <a:pt x="4380" y="1032"/>
                </a:lnTo>
                <a:lnTo>
                  <a:pt x="4381" y="1139"/>
                </a:lnTo>
                <a:lnTo>
                  <a:pt x="4382" y="1332"/>
                </a:lnTo>
                <a:lnTo>
                  <a:pt x="4383" y="928"/>
                </a:lnTo>
                <a:lnTo>
                  <a:pt x="4384" y="1277"/>
                </a:lnTo>
                <a:lnTo>
                  <a:pt x="4385" y="1197"/>
                </a:lnTo>
                <a:lnTo>
                  <a:pt x="4386" y="1243"/>
                </a:lnTo>
                <a:lnTo>
                  <a:pt x="4388" y="1013"/>
                </a:lnTo>
                <a:lnTo>
                  <a:pt x="4390" y="777"/>
                </a:lnTo>
                <a:lnTo>
                  <a:pt x="4391" y="436"/>
                </a:lnTo>
                <a:lnTo>
                  <a:pt x="4392" y="1226"/>
                </a:lnTo>
                <a:lnTo>
                  <a:pt x="4393" y="1304"/>
                </a:lnTo>
                <a:lnTo>
                  <a:pt x="4394" y="948"/>
                </a:lnTo>
                <a:lnTo>
                  <a:pt x="4395" y="925"/>
                </a:lnTo>
                <a:lnTo>
                  <a:pt x="4397" y="1150"/>
                </a:lnTo>
                <a:lnTo>
                  <a:pt x="4398" y="1082"/>
                </a:lnTo>
                <a:lnTo>
                  <a:pt x="4399" y="661"/>
                </a:lnTo>
                <a:lnTo>
                  <a:pt x="4401" y="712"/>
                </a:lnTo>
                <a:lnTo>
                  <a:pt x="4402" y="1109"/>
                </a:lnTo>
                <a:lnTo>
                  <a:pt x="4403" y="1277"/>
                </a:lnTo>
                <a:lnTo>
                  <a:pt x="4404" y="672"/>
                </a:lnTo>
                <a:lnTo>
                  <a:pt x="4405" y="1212"/>
                </a:lnTo>
                <a:lnTo>
                  <a:pt x="4407" y="727"/>
                </a:lnTo>
                <a:lnTo>
                  <a:pt x="4408" y="1156"/>
                </a:lnTo>
                <a:lnTo>
                  <a:pt x="4409" y="775"/>
                </a:lnTo>
                <a:lnTo>
                  <a:pt x="4410" y="642"/>
                </a:lnTo>
                <a:lnTo>
                  <a:pt x="4412" y="800"/>
                </a:lnTo>
                <a:lnTo>
                  <a:pt x="4413" y="936"/>
                </a:lnTo>
                <a:lnTo>
                  <a:pt x="4414" y="1559"/>
                </a:lnTo>
                <a:lnTo>
                  <a:pt x="4415" y="883"/>
                </a:lnTo>
                <a:lnTo>
                  <a:pt x="4417" y="1188"/>
                </a:lnTo>
                <a:lnTo>
                  <a:pt x="4418" y="933"/>
                </a:lnTo>
                <a:lnTo>
                  <a:pt x="4419" y="1280"/>
                </a:lnTo>
                <a:lnTo>
                  <a:pt x="4420" y="1247"/>
                </a:lnTo>
                <a:lnTo>
                  <a:pt x="4421" y="1430"/>
                </a:lnTo>
                <a:lnTo>
                  <a:pt x="4423" y="864"/>
                </a:lnTo>
                <a:lnTo>
                  <a:pt x="4424" y="1064"/>
                </a:lnTo>
                <a:lnTo>
                  <a:pt x="4426" y="1473"/>
                </a:lnTo>
                <a:lnTo>
                  <a:pt x="4427" y="1462"/>
                </a:lnTo>
                <a:lnTo>
                  <a:pt x="4428" y="673"/>
                </a:lnTo>
                <a:lnTo>
                  <a:pt x="4429" y="1485"/>
                </a:lnTo>
                <a:lnTo>
                  <a:pt x="4430" y="1647"/>
                </a:lnTo>
                <a:lnTo>
                  <a:pt x="4431" y="535"/>
                </a:lnTo>
                <a:lnTo>
                  <a:pt x="4432" y="868"/>
                </a:lnTo>
                <a:lnTo>
                  <a:pt x="4433" y="561"/>
                </a:lnTo>
                <a:lnTo>
                  <a:pt x="4436" y="796"/>
                </a:lnTo>
                <a:lnTo>
                  <a:pt x="4437" y="595"/>
                </a:lnTo>
                <a:lnTo>
                  <a:pt x="4438" y="698"/>
                </a:lnTo>
                <a:lnTo>
                  <a:pt x="4439" y="1243"/>
                </a:lnTo>
                <a:lnTo>
                  <a:pt x="4440" y="1177"/>
                </a:lnTo>
                <a:lnTo>
                  <a:pt x="4441" y="979"/>
                </a:lnTo>
                <a:lnTo>
                  <a:pt x="4442" y="743"/>
                </a:lnTo>
                <a:lnTo>
                  <a:pt x="4443" y="592"/>
                </a:lnTo>
                <a:lnTo>
                  <a:pt x="4445" y="1205"/>
                </a:lnTo>
                <a:lnTo>
                  <a:pt x="4447" y="1331"/>
                </a:lnTo>
                <a:lnTo>
                  <a:pt x="4448" y="1011"/>
                </a:lnTo>
                <a:lnTo>
                  <a:pt x="4449" y="825"/>
                </a:lnTo>
                <a:lnTo>
                  <a:pt x="4450" y="887"/>
                </a:lnTo>
                <a:lnTo>
                  <a:pt x="4451" y="528"/>
                </a:lnTo>
                <a:lnTo>
                  <a:pt x="4452" y="1290"/>
                </a:lnTo>
                <a:lnTo>
                  <a:pt x="4453" y="960"/>
                </a:lnTo>
                <a:lnTo>
                  <a:pt x="4455" y="843"/>
                </a:lnTo>
                <a:lnTo>
                  <a:pt x="4456" y="863"/>
                </a:lnTo>
                <a:lnTo>
                  <a:pt x="4458" y="782"/>
                </a:lnTo>
                <a:lnTo>
                  <a:pt x="4459" y="638"/>
                </a:lnTo>
                <a:lnTo>
                  <a:pt x="4460" y="1248"/>
                </a:lnTo>
                <a:lnTo>
                  <a:pt x="4461" y="971"/>
                </a:lnTo>
                <a:lnTo>
                  <a:pt x="4462" y="1210"/>
                </a:lnTo>
                <a:lnTo>
                  <a:pt x="4463" y="848"/>
                </a:lnTo>
                <a:lnTo>
                  <a:pt x="4465" y="824"/>
                </a:lnTo>
                <a:lnTo>
                  <a:pt x="4466" y="1119"/>
                </a:lnTo>
                <a:lnTo>
                  <a:pt x="4467" y="923"/>
                </a:lnTo>
                <a:lnTo>
                  <a:pt x="4469" y="1034"/>
                </a:lnTo>
                <a:lnTo>
                  <a:pt x="4470" y="1064"/>
                </a:lnTo>
                <a:lnTo>
                  <a:pt x="4471" y="1146"/>
                </a:lnTo>
                <a:lnTo>
                  <a:pt x="4472" y="1140"/>
                </a:lnTo>
                <a:lnTo>
                  <a:pt x="4474" y="834"/>
                </a:lnTo>
                <a:lnTo>
                  <a:pt x="4475" y="860"/>
                </a:lnTo>
                <a:lnTo>
                  <a:pt x="4476" y="761"/>
                </a:lnTo>
                <a:lnTo>
                  <a:pt x="4477" y="902"/>
                </a:lnTo>
                <a:lnTo>
                  <a:pt x="4478" y="903"/>
                </a:lnTo>
                <a:lnTo>
                  <a:pt x="4480" y="855"/>
                </a:lnTo>
                <a:lnTo>
                  <a:pt x="4481" y="799"/>
                </a:lnTo>
                <a:lnTo>
                  <a:pt x="4482" y="816"/>
                </a:lnTo>
                <a:lnTo>
                  <a:pt x="4484" y="1194"/>
                </a:lnTo>
                <a:lnTo>
                  <a:pt x="4485" y="733"/>
                </a:lnTo>
                <a:lnTo>
                  <a:pt x="4486" y="489"/>
                </a:lnTo>
                <a:lnTo>
                  <a:pt x="4487" y="856"/>
                </a:lnTo>
                <a:lnTo>
                  <a:pt x="4488" y="1075"/>
                </a:lnTo>
                <a:lnTo>
                  <a:pt x="4489" y="1013"/>
                </a:lnTo>
                <a:lnTo>
                  <a:pt x="4491" y="960"/>
                </a:lnTo>
                <a:lnTo>
                  <a:pt x="4492" y="938"/>
                </a:lnTo>
                <a:lnTo>
                  <a:pt x="4494" y="1092"/>
                </a:lnTo>
                <a:lnTo>
                  <a:pt x="4495" y="836"/>
                </a:lnTo>
                <a:lnTo>
                  <a:pt x="4496" y="776"/>
                </a:lnTo>
                <a:lnTo>
                  <a:pt x="4497" y="1400"/>
                </a:lnTo>
                <a:lnTo>
                  <a:pt x="4498" y="906"/>
                </a:lnTo>
                <a:lnTo>
                  <a:pt x="4499" y="618"/>
                </a:lnTo>
                <a:lnTo>
                  <a:pt x="4500" y="345"/>
                </a:lnTo>
                <a:lnTo>
                  <a:pt x="4501" y="1138"/>
                </a:lnTo>
                <a:lnTo>
                  <a:pt x="4504" y="1152"/>
                </a:lnTo>
                <a:lnTo>
                  <a:pt x="4505" y="698"/>
                </a:lnTo>
                <a:lnTo>
                  <a:pt x="4506" y="804"/>
                </a:lnTo>
                <a:lnTo>
                  <a:pt x="4507" y="1197"/>
                </a:lnTo>
                <a:lnTo>
                  <a:pt x="4508" y="659"/>
                </a:lnTo>
                <a:lnTo>
                  <a:pt x="4509" y="936"/>
                </a:lnTo>
                <a:lnTo>
                  <a:pt x="4510" y="1153"/>
                </a:lnTo>
                <a:lnTo>
                  <a:pt x="4511" y="851"/>
                </a:lnTo>
                <a:lnTo>
                  <a:pt x="4513" y="799"/>
                </a:lnTo>
                <a:lnTo>
                  <a:pt x="4515" y="1128"/>
                </a:lnTo>
                <a:lnTo>
                  <a:pt x="4516" y="751"/>
                </a:lnTo>
                <a:lnTo>
                  <a:pt x="4517" y="966"/>
                </a:lnTo>
                <a:lnTo>
                  <a:pt x="4518" y="1214"/>
                </a:lnTo>
                <a:lnTo>
                  <a:pt x="4519" y="1517"/>
                </a:lnTo>
                <a:lnTo>
                  <a:pt x="4520" y="698"/>
                </a:lnTo>
                <a:lnTo>
                  <a:pt x="4521" y="212"/>
                </a:lnTo>
                <a:lnTo>
                  <a:pt x="4523" y="938"/>
                </a:lnTo>
                <a:lnTo>
                  <a:pt x="4524" y="1080"/>
                </a:lnTo>
                <a:lnTo>
                  <a:pt x="4526" y="933"/>
                </a:lnTo>
                <a:lnTo>
                  <a:pt x="4527" y="1214"/>
                </a:lnTo>
                <a:lnTo>
                  <a:pt x="4528" y="1277"/>
                </a:lnTo>
                <a:lnTo>
                  <a:pt x="4529" y="1044"/>
                </a:lnTo>
                <a:lnTo>
                  <a:pt x="4530" y="884"/>
                </a:lnTo>
                <a:lnTo>
                  <a:pt x="4532" y="601"/>
                </a:lnTo>
                <a:lnTo>
                  <a:pt x="4533" y="582"/>
                </a:lnTo>
                <a:lnTo>
                  <a:pt x="4534" y="1225"/>
                </a:lnTo>
                <a:lnTo>
                  <a:pt x="4535" y="797"/>
                </a:lnTo>
                <a:lnTo>
                  <a:pt x="4537" y="1605"/>
                </a:lnTo>
                <a:lnTo>
                  <a:pt x="4538" y="1026"/>
                </a:lnTo>
                <a:lnTo>
                  <a:pt x="4539" y="1450"/>
                </a:lnTo>
                <a:lnTo>
                  <a:pt x="4540" y="964"/>
                </a:lnTo>
                <a:lnTo>
                  <a:pt x="4542" y="1051"/>
                </a:lnTo>
                <a:lnTo>
                  <a:pt x="4543" y="1132"/>
                </a:lnTo>
                <a:lnTo>
                  <a:pt x="4544" y="1011"/>
                </a:lnTo>
                <a:lnTo>
                  <a:pt x="4545" y="737"/>
                </a:lnTo>
                <a:lnTo>
                  <a:pt x="4546" y="653"/>
                </a:lnTo>
                <a:lnTo>
                  <a:pt x="4548" y="1132"/>
                </a:lnTo>
                <a:lnTo>
                  <a:pt x="4549" y="478"/>
                </a:lnTo>
                <a:lnTo>
                  <a:pt x="4550" y="753"/>
                </a:lnTo>
                <a:lnTo>
                  <a:pt x="4552" y="795"/>
                </a:lnTo>
                <a:lnTo>
                  <a:pt x="4553" y="1133"/>
                </a:lnTo>
                <a:lnTo>
                  <a:pt x="4554" y="923"/>
                </a:lnTo>
                <a:lnTo>
                  <a:pt x="4555" y="864"/>
                </a:lnTo>
                <a:lnTo>
                  <a:pt x="4556" y="1231"/>
                </a:lnTo>
                <a:lnTo>
                  <a:pt x="4557" y="971"/>
                </a:lnTo>
                <a:lnTo>
                  <a:pt x="4558" y="1202"/>
                </a:lnTo>
                <a:lnTo>
                  <a:pt x="4561" y="1113"/>
                </a:lnTo>
                <a:lnTo>
                  <a:pt x="4562" y="663"/>
                </a:lnTo>
                <a:lnTo>
                  <a:pt x="4563" y="807"/>
                </a:lnTo>
                <a:lnTo>
                  <a:pt x="4564" y="1267"/>
                </a:lnTo>
                <a:lnTo>
                  <a:pt x="4565" y="1149"/>
                </a:lnTo>
                <a:lnTo>
                  <a:pt x="4566" y="1181"/>
                </a:lnTo>
                <a:lnTo>
                  <a:pt x="4567" y="1434"/>
                </a:lnTo>
                <a:lnTo>
                  <a:pt x="4568" y="671"/>
                </a:lnTo>
                <a:lnTo>
                  <a:pt x="4569" y="1139"/>
                </a:lnTo>
                <a:lnTo>
                  <a:pt x="4572" y="469"/>
                </a:lnTo>
                <a:lnTo>
                  <a:pt x="4573" y="1233"/>
                </a:lnTo>
                <a:lnTo>
                  <a:pt x="4574" y="1110"/>
                </a:lnTo>
                <a:lnTo>
                  <a:pt x="4575" y="1049"/>
                </a:lnTo>
                <a:lnTo>
                  <a:pt x="4576" y="1629"/>
                </a:lnTo>
                <a:lnTo>
                  <a:pt x="4577" y="940"/>
                </a:lnTo>
                <a:lnTo>
                  <a:pt x="4578" y="817"/>
                </a:lnTo>
                <a:lnTo>
                  <a:pt x="4579" y="1133"/>
                </a:lnTo>
                <a:lnTo>
                  <a:pt x="4581" y="835"/>
                </a:lnTo>
                <a:lnTo>
                  <a:pt x="4583" y="1071"/>
                </a:lnTo>
                <a:lnTo>
                  <a:pt x="4584" y="965"/>
                </a:lnTo>
                <a:lnTo>
                  <a:pt x="4585" y="1210"/>
                </a:lnTo>
                <a:lnTo>
                  <a:pt x="4586" y="872"/>
                </a:lnTo>
                <a:lnTo>
                  <a:pt x="4587" y="409"/>
                </a:lnTo>
                <a:lnTo>
                  <a:pt x="4588" y="1022"/>
                </a:lnTo>
                <a:lnTo>
                  <a:pt x="4590" y="2011"/>
                </a:lnTo>
                <a:lnTo>
                  <a:pt x="4591" y="1142"/>
                </a:lnTo>
                <a:lnTo>
                  <a:pt x="4592" y="1278"/>
                </a:lnTo>
                <a:lnTo>
                  <a:pt x="4594" y="1182"/>
                </a:lnTo>
                <a:lnTo>
                  <a:pt x="4595" y="1272"/>
                </a:lnTo>
                <a:lnTo>
                  <a:pt x="4596" y="919"/>
                </a:lnTo>
                <a:lnTo>
                  <a:pt x="4597" y="1238"/>
                </a:lnTo>
                <a:lnTo>
                  <a:pt x="4598" y="474"/>
                </a:lnTo>
                <a:lnTo>
                  <a:pt x="4600" y="496"/>
                </a:lnTo>
                <a:lnTo>
                  <a:pt x="4601" y="1138"/>
                </a:lnTo>
                <a:lnTo>
                  <a:pt x="4602" y="1334"/>
                </a:lnTo>
                <a:lnTo>
                  <a:pt x="4603" y="512"/>
                </a:lnTo>
                <a:lnTo>
                  <a:pt x="4605" y="1335"/>
                </a:lnTo>
                <a:lnTo>
                  <a:pt x="4606" y="804"/>
                </a:lnTo>
                <a:lnTo>
                  <a:pt x="4607" y="1136"/>
                </a:lnTo>
                <a:lnTo>
                  <a:pt x="4608" y="905"/>
                </a:lnTo>
                <a:lnTo>
                  <a:pt x="4610" y="1145"/>
                </a:lnTo>
                <a:lnTo>
                  <a:pt x="4611" y="778"/>
                </a:lnTo>
                <a:lnTo>
                  <a:pt x="4612" y="913"/>
                </a:lnTo>
                <a:lnTo>
                  <a:pt x="4613" y="1022"/>
                </a:lnTo>
                <a:lnTo>
                  <a:pt x="4614" y="936"/>
                </a:lnTo>
                <a:lnTo>
                  <a:pt x="4616" y="710"/>
                </a:lnTo>
                <a:lnTo>
                  <a:pt x="4617" y="1122"/>
                </a:lnTo>
                <a:lnTo>
                  <a:pt x="4619" y="1061"/>
                </a:lnTo>
                <a:lnTo>
                  <a:pt x="4620" y="1106"/>
                </a:lnTo>
                <a:lnTo>
                  <a:pt x="4621" y="941"/>
                </a:lnTo>
                <a:lnTo>
                  <a:pt x="4622" y="608"/>
                </a:lnTo>
                <a:lnTo>
                  <a:pt x="4623" y="805"/>
                </a:lnTo>
                <a:lnTo>
                  <a:pt x="4624" y="815"/>
                </a:lnTo>
                <a:lnTo>
                  <a:pt x="4625" y="1370"/>
                </a:lnTo>
                <a:lnTo>
                  <a:pt x="4626" y="1275"/>
                </a:lnTo>
                <a:lnTo>
                  <a:pt x="4629" y="768"/>
                </a:lnTo>
                <a:lnTo>
                  <a:pt x="4630" y="777"/>
                </a:lnTo>
                <a:lnTo>
                  <a:pt x="4631" y="931"/>
                </a:lnTo>
                <a:lnTo>
                  <a:pt x="4632" y="1234"/>
                </a:lnTo>
                <a:lnTo>
                  <a:pt x="4633" y="797"/>
                </a:lnTo>
                <a:lnTo>
                  <a:pt x="4634" y="893"/>
                </a:lnTo>
                <a:lnTo>
                  <a:pt x="4635" y="943"/>
                </a:lnTo>
                <a:lnTo>
                  <a:pt x="4636" y="774"/>
                </a:lnTo>
                <a:lnTo>
                  <a:pt x="4637" y="940"/>
                </a:lnTo>
                <a:lnTo>
                  <a:pt x="4640" y="1227"/>
                </a:lnTo>
                <a:lnTo>
                  <a:pt x="4641" y="1168"/>
                </a:lnTo>
                <a:lnTo>
                  <a:pt x="4642" y="1357"/>
                </a:lnTo>
                <a:lnTo>
                  <a:pt x="4643" y="1360"/>
                </a:lnTo>
                <a:lnTo>
                  <a:pt x="4644" y="1468"/>
                </a:lnTo>
                <a:lnTo>
                  <a:pt x="4645" y="1267"/>
                </a:lnTo>
                <a:lnTo>
                  <a:pt x="4646" y="1395"/>
                </a:lnTo>
                <a:lnTo>
                  <a:pt x="4648" y="830"/>
                </a:lnTo>
                <a:lnTo>
                  <a:pt x="4649" y="935"/>
                </a:lnTo>
                <a:lnTo>
                  <a:pt x="4651" y="897"/>
                </a:lnTo>
                <a:lnTo>
                  <a:pt x="4652" y="934"/>
                </a:lnTo>
                <a:lnTo>
                  <a:pt x="4653" y="870"/>
                </a:lnTo>
                <a:lnTo>
                  <a:pt x="4654" y="1172"/>
                </a:lnTo>
                <a:lnTo>
                  <a:pt x="4655" y="1200"/>
                </a:lnTo>
                <a:lnTo>
                  <a:pt x="4656" y="1019"/>
                </a:lnTo>
                <a:lnTo>
                  <a:pt x="4658" y="684"/>
                </a:lnTo>
                <a:lnTo>
                  <a:pt x="4659" y="426"/>
                </a:lnTo>
                <a:lnTo>
                  <a:pt x="4660" y="1075"/>
                </a:lnTo>
                <a:lnTo>
                  <a:pt x="4662" y="1449"/>
                </a:lnTo>
                <a:lnTo>
                  <a:pt x="4663" y="1168"/>
                </a:lnTo>
                <a:lnTo>
                  <a:pt x="4664" y="1258"/>
                </a:lnTo>
                <a:lnTo>
                  <a:pt x="4665" y="1129"/>
                </a:lnTo>
                <a:lnTo>
                  <a:pt x="4666" y="936"/>
                </a:lnTo>
                <a:lnTo>
                  <a:pt x="4668" y="1051"/>
                </a:lnTo>
                <a:lnTo>
                  <a:pt x="4669" y="361"/>
                </a:lnTo>
                <a:lnTo>
                  <a:pt x="4670" y="1198"/>
                </a:lnTo>
                <a:lnTo>
                  <a:pt x="4671" y="1315"/>
                </a:lnTo>
                <a:lnTo>
                  <a:pt x="4673" y="1019"/>
                </a:lnTo>
                <a:lnTo>
                  <a:pt x="4674" y="1327"/>
                </a:lnTo>
                <a:lnTo>
                  <a:pt x="4675" y="1026"/>
                </a:lnTo>
                <a:lnTo>
                  <a:pt x="4677" y="880"/>
                </a:lnTo>
                <a:lnTo>
                  <a:pt x="4678" y="1321"/>
                </a:lnTo>
                <a:lnTo>
                  <a:pt x="4679" y="935"/>
                </a:lnTo>
                <a:lnTo>
                  <a:pt x="4680" y="691"/>
                </a:lnTo>
                <a:lnTo>
                  <a:pt x="4681" y="1024"/>
                </a:lnTo>
                <a:lnTo>
                  <a:pt x="4682" y="1181"/>
                </a:lnTo>
                <a:lnTo>
                  <a:pt x="4683" y="936"/>
                </a:lnTo>
                <a:lnTo>
                  <a:pt x="4685" y="890"/>
                </a:lnTo>
                <a:lnTo>
                  <a:pt x="4687" y="843"/>
                </a:lnTo>
                <a:lnTo>
                  <a:pt x="4688" y="646"/>
                </a:lnTo>
                <a:lnTo>
                  <a:pt x="4689" y="723"/>
                </a:lnTo>
                <a:lnTo>
                  <a:pt x="4690" y="1246"/>
                </a:lnTo>
                <a:lnTo>
                  <a:pt x="4691" y="633"/>
                </a:lnTo>
                <a:lnTo>
                  <a:pt x="4692" y="1169"/>
                </a:lnTo>
                <a:lnTo>
                  <a:pt x="4693" y="1112"/>
                </a:lnTo>
                <a:lnTo>
                  <a:pt x="4694" y="1332"/>
                </a:lnTo>
                <a:lnTo>
                  <a:pt x="4697" y="1049"/>
                </a:lnTo>
                <a:lnTo>
                  <a:pt x="4698" y="1334"/>
                </a:lnTo>
                <a:lnTo>
                  <a:pt x="4699" y="1426"/>
                </a:lnTo>
                <a:lnTo>
                  <a:pt x="4700" y="1229"/>
                </a:lnTo>
                <a:lnTo>
                  <a:pt x="4701" y="896"/>
                </a:lnTo>
                <a:lnTo>
                  <a:pt x="4702" y="1182"/>
                </a:lnTo>
                <a:lnTo>
                  <a:pt x="4703" y="1146"/>
                </a:lnTo>
                <a:lnTo>
                  <a:pt x="4704" y="1279"/>
                </a:lnTo>
                <a:lnTo>
                  <a:pt x="4706" y="917"/>
                </a:lnTo>
                <a:lnTo>
                  <a:pt x="4708" y="694"/>
                </a:lnTo>
                <a:lnTo>
                  <a:pt x="4709" y="782"/>
                </a:lnTo>
                <a:lnTo>
                  <a:pt x="4710" y="857"/>
                </a:lnTo>
                <a:lnTo>
                  <a:pt x="4711" y="702"/>
                </a:lnTo>
                <a:lnTo>
                  <a:pt x="4712" y="527"/>
                </a:lnTo>
                <a:lnTo>
                  <a:pt x="4713" y="1087"/>
                </a:lnTo>
                <a:lnTo>
                  <a:pt x="4714" y="586"/>
                </a:lnTo>
                <a:lnTo>
                  <a:pt x="4716" y="1139"/>
                </a:lnTo>
                <a:lnTo>
                  <a:pt x="4717" y="1372"/>
                </a:lnTo>
                <a:lnTo>
                  <a:pt x="4719" y="1368"/>
                </a:lnTo>
                <a:lnTo>
                  <a:pt x="4720" y="1024"/>
                </a:lnTo>
                <a:lnTo>
                  <a:pt x="4721" y="677"/>
                </a:lnTo>
                <a:lnTo>
                  <a:pt x="4722" y="525"/>
                </a:lnTo>
                <a:lnTo>
                  <a:pt x="4723" y="1046"/>
                </a:lnTo>
                <a:lnTo>
                  <a:pt x="4725" y="365"/>
                </a:lnTo>
                <a:lnTo>
                  <a:pt x="4726" y="973"/>
                </a:lnTo>
                <a:lnTo>
                  <a:pt x="4727" y="716"/>
                </a:lnTo>
                <a:lnTo>
                  <a:pt x="4728" y="1195"/>
                </a:lnTo>
                <a:lnTo>
                  <a:pt x="4730" y="1056"/>
                </a:lnTo>
                <a:lnTo>
                  <a:pt x="4731" y="1236"/>
                </a:lnTo>
                <a:lnTo>
                  <a:pt x="4732" y="877"/>
                </a:lnTo>
                <a:lnTo>
                  <a:pt x="4733" y="914"/>
                </a:lnTo>
                <a:lnTo>
                  <a:pt x="4735" y="1253"/>
                </a:lnTo>
                <a:lnTo>
                  <a:pt x="4736" y="994"/>
                </a:lnTo>
                <a:lnTo>
                  <a:pt x="4737" y="1227"/>
                </a:lnTo>
                <a:lnTo>
                  <a:pt x="4738" y="512"/>
                </a:lnTo>
                <a:lnTo>
                  <a:pt x="4739" y="919"/>
                </a:lnTo>
                <a:lnTo>
                  <a:pt x="4741" y="584"/>
                </a:lnTo>
                <a:lnTo>
                  <a:pt x="4742" y="1010"/>
                </a:lnTo>
                <a:lnTo>
                  <a:pt x="4743" y="1059"/>
                </a:lnTo>
                <a:lnTo>
                  <a:pt x="4745" y="1233"/>
                </a:lnTo>
                <a:lnTo>
                  <a:pt x="4746" y="369"/>
                </a:lnTo>
                <a:lnTo>
                  <a:pt x="4747" y="1402"/>
                </a:lnTo>
                <a:lnTo>
                  <a:pt x="4748" y="1717"/>
                </a:lnTo>
                <a:lnTo>
                  <a:pt x="4749" y="791"/>
                </a:lnTo>
                <a:lnTo>
                  <a:pt x="4750" y="562"/>
                </a:lnTo>
                <a:lnTo>
                  <a:pt x="4751" y="865"/>
                </a:lnTo>
                <a:lnTo>
                  <a:pt x="4754" y="788"/>
                </a:lnTo>
                <a:lnTo>
                  <a:pt x="4755" y="1510"/>
                </a:lnTo>
                <a:lnTo>
                  <a:pt x="4756" y="1206"/>
                </a:lnTo>
                <a:lnTo>
                  <a:pt x="4757" y="1145"/>
                </a:lnTo>
                <a:lnTo>
                  <a:pt x="4758" y="674"/>
                </a:lnTo>
                <a:lnTo>
                  <a:pt x="4759" y="1036"/>
                </a:lnTo>
                <a:lnTo>
                  <a:pt x="4760" y="1172"/>
                </a:lnTo>
                <a:lnTo>
                  <a:pt x="4761" y="989"/>
                </a:lnTo>
                <a:lnTo>
                  <a:pt x="4762" y="1214"/>
                </a:lnTo>
                <a:lnTo>
                  <a:pt x="4765" y="1207"/>
                </a:lnTo>
                <a:lnTo>
                  <a:pt x="4766" y="1162"/>
                </a:lnTo>
                <a:lnTo>
                  <a:pt x="4767" y="1660"/>
                </a:lnTo>
                <a:lnTo>
                  <a:pt x="4768" y="954"/>
                </a:lnTo>
                <a:lnTo>
                  <a:pt x="4769" y="1053"/>
                </a:lnTo>
                <a:lnTo>
                  <a:pt x="4770" y="980"/>
                </a:lnTo>
                <a:lnTo>
                  <a:pt x="4771" y="1206"/>
                </a:lnTo>
                <a:lnTo>
                  <a:pt x="4772" y="1071"/>
                </a:lnTo>
                <a:lnTo>
                  <a:pt x="4774" y="1277"/>
                </a:lnTo>
                <a:lnTo>
                  <a:pt x="4776" y="840"/>
                </a:lnTo>
                <a:lnTo>
                  <a:pt x="4777" y="1002"/>
                </a:lnTo>
                <a:lnTo>
                  <a:pt x="4778" y="887"/>
                </a:lnTo>
                <a:lnTo>
                  <a:pt x="4779" y="960"/>
                </a:lnTo>
                <a:lnTo>
                  <a:pt x="4780" y="1254"/>
                </a:lnTo>
                <a:lnTo>
                  <a:pt x="4781" y="956"/>
                </a:lnTo>
                <a:lnTo>
                  <a:pt x="4783" y="1371"/>
                </a:lnTo>
                <a:lnTo>
                  <a:pt x="4784" y="796"/>
                </a:lnTo>
                <a:lnTo>
                  <a:pt x="4785" y="1163"/>
                </a:lnTo>
                <a:lnTo>
                  <a:pt x="4787" y="813"/>
                </a:lnTo>
                <a:lnTo>
                  <a:pt x="4788" y="1499"/>
                </a:lnTo>
                <a:lnTo>
                  <a:pt x="4789" y="1505"/>
                </a:lnTo>
                <a:lnTo>
                  <a:pt x="4790" y="1035"/>
                </a:lnTo>
                <a:lnTo>
                  <a:pt x="4791" y="833"/>
                </a:lnTo>
                <a:lnTo>
                  <a:pt x="4793" y="1082"/>
                </a:lnTo>
                <a:lnTo>
                  <a:pt x="4794" y="635"/>
                </a:lnTo>
                <a:lnTo>
                  <a:pt x="4795" y="1171"/>
                </a:lnTo>
                <a:lnTo>
                  <a:pt x="4796" y="863"/>
                </a:lnTo>
                <a:lnTo>
                  <a:pt x="4798" y="1228"/>
                </a:lnTo>
                <a:lnTo>
                  <a:pt x="4799" y="1124"/>
                </a:lnTo>
                <a:lnTo>
                  <a:pt x="4800" y="1000"/>
                </a:lnTo>
                <a:lnTo>
                  <a:pt x="4801" y="1445"/>
                </a:lnTo>
                <a:lnTo>
                  <a:pt x="4803" y="1025"/>
                </a:lnTo>
                <a:lnTo>
                  <a:pt x="4804" y="1169"/>
                </a:lnTo>
                <a:lnTo>
                  <a:pt x="4805" y="911"/>
                </a:lnTo>
                <a:lnTo>
                  <a:pt x="4806" y="1170"/>
                </a:lnTo>
                <a:lnTo>
                  <a:pt x="4807" y="893"/>
                </a:lnTo>
                <a:lnTo>
                  <a:pt x="4808" y="912"/>
                </a:lnTo>
                <a:lnTo>
                  <a:pt x="4810" y="1329"/>
                </a:lnTo>
                <a:lnTo>
                  <a:pt x="4812" y="1244"/>
                </a:lnTo>
                <a:lnTo>
                  <a:pt x="4813" y="781"/>
                </a:lnTo>
                <a:lnTo>
                  <a:pt x="4814" y="1209"/>
                </a:lnTo>
                <a:lnTo>
                  <a:pt x="4815" y="918"/>
                </a:lnTo>
                <a:lnTo>
                  <a:pt x="4816" y="1172"/>
                </a:lnTo>
                <a:lnTo>
                  <a:pt x="4817" y="1031"/>
                </a:lnTo>
                <a:lnTo>
                  <a:pt x="4818" y="873"/>
                </a:lnTo>
                <a:lnTo>
                  <a:pt x="4819" y="775"/>
                </a:lnTo>
                <a:lnTo>
                  <a:pt x="4822" y="608"/>
                </a:lnTo>
                <a:lnTo>
                  <a:pt x="4823" y="1118"/>
                </a:lnTo>
                <a:lnTo>
                  <a:pt x="4824" y="427"/>
                </a:lnTo>
                <a:lnTo>
                  <a:pt x="4825" y="979"/>
                </a:lnTo>
                <a:lnTo>
                  <a:pt x="4826" y="717"/>
                </a:lnTo>
                <a:lnTo>
                  <a:pt x="4827" y="1120"/>
                </a:lnTo>
                <a:lnTo>
                  <a:pt x="4828" y="981"/>
                </a:lnTo>
                <a:lnTo>
                  <a:pt x="4829" y="1364"/>
                </a:lnTo>
                <a:lnTo>
                  <a:pt x="4830" y="879"/>
                </a:lnTo>
                <a:lnTo>
                  <a:pt x="4833" y="1200"/>
                </a:lnTo>
                <a:lnTo>
                  <a:pt x="4834" y="756"/>
                </a:lnTo>
                <a:lnTo>
                  <a:pt x="4835" y="1351"/>
                </a:lnTo>
                <a:lnTo>
                  <a:pt x="4836" y="1357"/>
                </a:lnTo>
                <a:lnTo>
                  <a:pt x="4837" y="843"/>
                </a:lnTo>
                <a:lnTo>
                  <a:pt x="4838" y="864"/>
                </a:lnTo>
                <a:lnTo>
                  <a:pt x="4839" y="1521"/>
                </a:lnTo>
                <a:lnTo>
                  <a:pt x="4841" y="1429"/>
                </a:lnTo>
                <a:lnTo>
                  <a:pt x="4842" y="507"/>
                </a:lnTo>
                <a:lnTo>
                  <a:pt x="4844" y="747"/>
                </a:lnTo>
                <a:lnTo>
                  <a:pt x="4845" y="789"/>
                </a:lnTo>
                <a:lnTo>
                  <a:pt x="4846" y="1082"/>
                </a:lnTo>
                <a:lnTo>
                  <a:pt x="4847" y="924"/>
                </a:lnTo>
                <a:lnTo>
                  <a:pt x="4848" y="902"/>
                </a:lnTo>
                <a:lnTo>
                  <a:pt x="4849" y="1188"/>
                </a:lnTo>
                <a:lnTo>
                  <a:pt x="4851" y="770"/>
                </a:lnTo>
                <a:lnTo>
                  <a:pt x="4852" y="1054"/>
                </a:lnTo>
                <a:lnTo>
                  <a:pt x="4853" y="1456"/>
                </a:lnTo>
                <a:lnTo>
                  <a:pt x="4855" y="815"/>
                </a:lnTo>
                <a:lnTo>
                  <a:pt x="4856" y="1143"/>
                </a:lnTo>
                <a:lnTo>
                  <a:pt x="4857" y="1634"/>
                </a:lnTo>
                <a:lnTo>
                  <a:pt x="4858" y="1102"/>
                </a:lnTo>
                <a:lnTo>
                  <a:pt x="4859" y="1035"/>
                </a:lnTo>
                <a:lnTo>
                  <a:pt x="4861" y="1264"/>
                </a:lnTo>
                <a:lnTo>
                  <a:pt x="4862" y="1128"/>
                </a:lnTo>
                <a:lnTo>
                  <a:pt x="4863" y="797"/>
                </a:lnTo>
                <a:lnTo>
                  <a:pt x="4864" y="957"/>
                </a:lnTo>
                <a:lnTo>
                  <a:pt x="4866" y="1030"/>
                </a:lnTo>
                <a:lnTo>
                  <a:pt x="4867" y="1042"/>
                </a:lnTo>
                <a:lnTo>
                  <a:pt x="4868" y="849"/>
                </a:lnTo>
                <a:lnTo>
                  <a:pt x="4870" y="984"/>
                </a:lnTo>
                <a:lnTo>
                  <a:pt x="4871" y="438"/>
                </a:lnTo>
                <a:lnTo>
                  <a:pt x="4872" y="1208"/>
                </a:lnTo>
                <a:lnTo>
                  <a:pt x="4873" y="1020"/>
                </a:lnTo>
                <a:lnTo>
                  <a:pt x="4874" y="919"/>
                </a:lnTo>
                <a:lnTo>
                  <a:pt x="4875" y="526"/>
                </a:lnTo>
                <a:lnTo>
                  <a:pt x="4876" y="762"/>
                </a:lnTo>
                <a:lnTo>
                  <a:pt x="4878" y="813"/>
                </a:lnTo>
                <a:lnTo>
                  <a:pt x="4880" y="1155"/>
                </a:lnTo>
                <a:lnTo>
                  <a:pt x="4881" y="1054"/>
                </a:lnTo>
                <a:lnTo>
                  <a:pt x="4882" y="1173"/>
                </a:lnTo>
                <a:lnTo>
                  <a:pt x="4883" y="1179"/>
                </a:lnTo>
                <a:lnTo>
                  <a:pt x="4884" y="907"/>
                </a:lnTo>
                <a:lnTo>
                  <a:pt x="4885" y="526"/>
                </a:lnTo>
                <a:lnTo>
                  <a:pt x="4886" y="1439"/>
                </a:lnTo>
                <a:lnTo>
                  <a:pt x="4887" y="472"/>
                </a:lnTo>
                <a:lnTo>
                  <a:pt x="4890" y="1083"/>
                </a:lnTo>
                <a:lnTo>
                  <a:pt x="4891" y="1000"/>
                </a:lnTo>
                <a:lnTo>
                  <a:pt x="4892" y="1083"/>
                </a:lnTo>
                <a:lnTo>
                  <a:pt x="4893" y="747"/>
                </a:lnTo>
                <a:lnTo>
                  <a:pt x="4894" y="457"/>
                </a:lnTo>
                <a:lnTo>
                  <a:pt x="4895" y="1306"/>
                </a:lnTo>
                <a:lnTo>
                  <a:pt x="4896" y="1068"/>
                </a:lnTo>
                <a:lnTo>
                  <a:pt x="4897" y="727"/>
                </a:lnTo>
                <a:lnTo>
                  <a:pt x="4899" y="1090"/>
                </a:lnTo>
                <a:lnTo>
                  <a:pt x="4901" y="903"/>
                </a:lnTo>
                <a:lnTo>
                  <a:pt x="4902" y="702"/>
                </a:lnTo>
                <a:lnTo>
                  <a:pt x="4903" y="395"/>
                </a:lnTo>
                <a:lnTo>
                  <a:pt x="4904" y="1415"/>
                </a:lnTo>
                <a:lnTo>
                  <a:pt x="4905" y="1360"/>
                </a:lnTo>
                <a:lnTo>
                  <a:pt x="4906" y="1194"/>
                </a:lnTo>
                <a:lnTo>
                  <a:pt x="4907" y="899"/>
                </a:lnTo>
                <a:lnTo>
                  <a:pt x="4909" y="1230"/>
                </a:lnTo>
                <a:lnTo>
                  <a:pt x="4910" y="996"/>
                </a:lnTo>
                <a:lnTo>
                  <a:pt x="4912" y="964"/>
                </a:lnTo>
                <a:lnTo>
                  <a:pt x="4913" y="517"/>
                </a:lnTo>
                <a:lnTo>
                  <a:pt x="4914" y="1399"/>
                </a:lnTo>
                <a:lnTo>
                  <a:pt x="4915" y="708"/>
                </a:lnTo>
                <a:lnTo>
                  <a:pt x="4916" y="1156"/>
                </a:lnTo>
                <a:lnTo>
                  <a:pt x="4917" y="1234"/>
                </a:lnTo>
                <a:lnTo>
                  <a:pt x="4919" y="506"/>
                </a:lnTo>
                <a:lnTo>
                  <a:pt x="4920" y="542"/>
                </a:lnTo>
                <a:lnTo>
                  <a:pt x="4921" y="963"/>
                </a:lnTo>
                <a:lnTo>
                  <a:pt x="4923" y="965"/>
                </a:lnTo>
                <a:lnTo>
                  <a:pt x="4924" y="835"/>
                </a:lnTo>
                <a:lnTo>
                  <a:pt x="4925" y="1028"/>
                </a:lnTo>
                <a:lnTo>
                  <a:pt x="4926" y="1077"/>
                </a:lnTo>
                <a:lnTo>
                  <a:pt x="4928" y="1020"/>
                </a:lnTo>
                <a:lnTo>
                  <a:pt x="4929" y="1052"/>
                </a:lnTo>
                <a:lnTo>
                  <a:pt x="4930" y="973"/>
                </a:lnTo>
                <a:lnTo>
                  <a:pt x="4931" y="1152"/>
                </a:lnTo>
                <a:lnTo>
                  <a:pt x="4932" y="1225"/>
                </a:lnTo>
                <a:lnTo>
                  <a:pt x="4933" y="742"/>
                </a:lnTo>
                <a:lnTo>
                  <a:pt x="4935" y="1136"/>
                </a:lnTo>
                <a:lnTo>
                  <a:pt x="4936" y="1595"/>
                </a:lnTo>
                <a:lnTo>
                  <a:pt x="4938" y="943"/>
                </a:lnTo>
                <a:lnTo>
                  <a:pt x="4939" y="751"/>
                </a:lnTo>
                <a:lnTo>
                  <a:pt x="4940" y="1375"/>
                </a:lnTo>
                <a:lnTo>
                  <a:pt x="4941" y="1280"/>
                </a:lnTo>
                <a:lnTo>
                  <a:pt x="4942" y="799"/>
                </a:lnTo>
                <a:lnTo>
                  <a:pt x="4943" y="908"/>
                </a:lnTo>
                <a:lnTo>
                  <a:pt x="4944" y="710"/>
                </a:lnTo>
                <a:lnTo>
                  <a:pt x="4947" y="921"/>
                </a:lnTo>
                <a:lnTo>
                  <a:pt x="4948" y="849"/>
                </a:lnTo>
                <a:lnTo>
                  <a:pt x="4949" y="966"/>
                </a:lnTo>
                <a:lnTo>
                  <a:pt x="4950" y="1139"/>
                </a:lnTo>
                <a:lnTo>
                  <a:pt x="4951" y="848"/>
                </a:lnTo>
                <a:lnTo>
                  <a:pt x="4952" y="1303"/>
                </a:lnTo>
                <a:lnTo>
                  <a:pt x="4953" y="958"/>
                </a:lnTo>
                <a:lnTo>
                  <a:pt x="4954" y="1228"/>
                </a:lnTo>
                <a:lnTo>
                  <a:pt x="4955" y="174"/>
                </a:lnTo>
                <a:lnTo>
                  <a:pt x="4958" y="1665"/>
                </a:lnTo>
                <a:lnTo>
                  <a:pt x="4959" y="1295"/>
                </a:lnTo>
                <a:lnTo>
                  <a:pt x="4960" y="944"/>
                </a:lnTo>
                <a:lnTo>
                  <a:pt x="4961" y="864"/>
                </a:lnTo>
                <a:lnTo>
                  <a:pt x="4962" y="702"/>
                </a:lnTo>
                <a:lnTo>
                  <a:pt x="4963" y="1253"/>
                </a:lnTo>
                <a:lnTo>
                  <a:pt x="4964" y="728"/>
                </a:lnTo>
                <a:lnTo>
                  <a:pt x="4965" y="1360"/>
                </a:lnTo>
                <a:lnTo>
                  <a:pt x="4967" y="1552"/>
                </a:lnTo>
                <a:lnTo>
                  <a:pt x="4969" y="1241"/>
                </a:lnTo>
                <a:lnTo>
                  <a:pt x="4970" y="502"/>
                </a:lnTo>
                <a:lnTo>
                  <a:pt x="4971" y="1094"/>
                </a:lnTo>
                <a:lnTo>
                  <a:pt x="4972" y="1239"/>
                </a:lnTo>
                <a:lnTo>
                  <a:pt x="4973" y="1229"/>
                </a:lnTo>
                <a:lnTo>
                  <a:pt x="4974" y="961"/>
                </a:lnTo>
                <a:lnTo>
                  <a:pt x="4976" y="892"/>
                </a:lnTo>
                <a:lnTo>
                  <a:pt x="4977" y="1025"/>
                </a:lnTo>
                <a:lnTo>
                  <a:pt x="4978" y="1433"/>
                </a:lnTo>
                <a:lnTo>
                  <a:pt x="4980" y="963"/>
                </a:lnTo>
                <a:lnTo>
                  <a:pt x="4981" y="1215"/>
                </a:lnTo>
                <a:lnTo>
                  <a:pt x="4982" y="1464"/>
                </a:lnTo>
                <a:lnTo>
                  <a:pt x="4983" y="721"/>
                </a:lnTo>
                <a:lnTo>
                  <a:pt x="4984" y="658"/>
                </a:lnTo>
                <a:lnTo>
                  <a:pt x="4986" y="1522"/>
                </a:lnTo>
                <a:lnTo>
                  <a:pt x="4987" y="1039"/>
                </a:lnTo>
                <a:lnTo>
                  <a:pt x="4988" y="970"/>
                </a:lnTo>
                <a:lnTo>
                  <a:pt x="4989" y="1460"/>
                </a:lnTo>
                <a:lnTo>
                  <a:pt x="4991" y="1365"/>
                </a:lnTo>
                <a:lnTo>
                  <a:pt x="4992" y="1081"/>
                </a:lnTo>
                <a:lnTo>
                  <a:pt x="4993" y="829"/>
                </a:lnTo>
                <a:lnTo>
                  <a:pt x="4994" y="987"/>
                </a:lnTo>
                <a:lnTo>
                  <a:pt x="4996" y="1030"/>
                </a:lnTo>
                <a:lnTo>
                  <a:pt x="4997" y="811"/>
                </a:lnTo>
                <a:lnTo>
                  <a:pt x="4998" y="989"/>
                </a:lnTo>
                <a:lnTo>
                  <a:pt x="4999" y="1248"/>
                </a:lnTo>
                <a:lnTo>
                  <a:pt x="5000" y="931"/>
                </a:lnTo>
                <a:lnTo>
                  <a:pt x="5001" y="817"/>
                </a:lnTo>
                <a:lnTo>
                  <a:pt x="5003" y="1284"/>
                </a:lnTo>
                <a:lnTo>
                  <a:pt x="5005" y="819"/>
                </a:lnTo>
                <a:lnTo>
                  <a:pt x="5006" y="747"/>
                </a:lnTo>
                <a:lnTo>
                  <a:pt x="5007" y="961"/>
                </a:lnTo>
                <a:lnTo>
                  <a:pt x="5008" y="565"/>
                </a:lnTo>
                <a:lnTo>
                  <a:pt x="5009" y="645"/>
                </a:lnTo>
                <a:lnTo>
                  <a:pt x="5010" y="706"/>
                </a:lnTo>
                <a:lnTo>
                  <a:pt x="5011" y="957"/>
                </a:lnTo>
                <a:lnTo>
                  <a:pt x="5012" y="1046"/>
                </a:lnTo>
                <a:lnTo>
                  <a:pt x="5015" y="994"/>
                </a:lnTo>
                <a:lnTo>
                  <a:pt x="5016" y="727"/>
                </a:lnTo>
                <a:lnTo>
                  <a:pt x="5017" y="587"/>
                </a:lnTo>
                <a:lnTo>
                  <a:pt x="5018" y="1439"/>
                </a:lnTo>
                <a:lnTo>
                  <a:pt x="5019" y="721"/>
                </a:lnTo>
                <a:lnTo>
                  <a:pt x="5020" y="496"/>
                </a:lnTo>
                <a:lnTo>
                  <a:pt x="5021" y="760"/>
                </a:lnTo>
                <a:lnTo>
                  <a:pt x="5022" y="1071"/>
                </a:lnTo>
                <a:lnTo>
                  <a:pt x="5023" y="1197"/>
                </a:lnTo>
                <a:lnTo>
                  <a:pt x="5026" y="1259"/>
                </a:lnTo>
                <a:lnTo>
                  <a:pt x="5027" y="1112"/>
                </a:lnTo>
                <a:lnTo>
                  <a:pt x="5028" y="962"/>
                </a:lnTo>
                <a:lnTo>
                  <a:pt x="5029" y="875"/>
                </a:lnTo>
                <a:lnTo>
                  <a:pt x="5030" y="1208"/>
                </a:lnTo>
                <a:lnTo>
                  <a:pt x="5031" y="1004"/>
                </a:lnTo>
                <a:lnTo>
                  <a:pt x="5032" y="1153"/>
                </a:lnTo>
                <a:lnTo>
                  <a:pt x="5034" y="938"/>
                </a:lnTo>
                <a:lnTo>
                  <a:pt x="5035" y="1412"/>
                </a:lnTo>
                <a:lnTo>
                  <a:pt x="5037" y="952"/>
                </a:lnTo>
                <a:lnTo>
                  <a:pt x="5038" y="985"/>
                </a:lnTo>
                <a:lnTo>
                  <a:pt x="5039" y="710"/>
                </a:lnTo>
                <a:lnTo>
                  <a:pt x="5040" y="1080"/>
                </a:lnTo>
                <a:lnTo>
                  <a:pt x="5041" y="1136"/>
                </a:lnTo>
                <a:lnTo>
                  <a:pt x="5042" y="1112"/>
                </a:lnTo>
                <a:lnTo>
                  <a:pt x="5044" y="777"/>
                </a:lnTo>
                <a:lnTo>
                  <a:pt x="5045" y="502"/>
                </a:lnTo>
                <a:lnTo>
                  <a:pt x="5046" y="1465"/>
                </a:lnTo>
                <a:lnTo>
                  <a:pt x="5048" y="878"/>
                </a:lnTo>
                <a:lnTo>
                  <a:pt x="5049" y="609"/>
                </a:lnTo>
                <a:lnTo>
                  <a:pt x="5050" y="1254"/>
                </a:lnTo>
                <a:lnTo>
                  <a:pt x="5051" y="329"/>
                </a:lnTo>
                <a:lnTo>
                  <a:pt x="5052" y="1097"/>
                </a:lnTo>
                <a:lnTo>
                  <a:pt x="5054" y="640"/>
                </a:lnTo>
                <a:lnTo>
                  <a:pt x="5055" y="639"/>
                </a:lnTo>
                <a:lnTo>
                  <a:pt x="5056" y="1107"/>
                </a:lnTo>
                <a:lnTo>
                  <a:pt x="5057" y="1235"/>
                </a:lnTo>
                <a:lnTo>
                  <a:pt x="5058" y="563"/>
                </a:lnTo>
                <a:lnTo>
                  <a:pt x="5060" y="1365"/>
                </a:lnTo>
                <a:lnTo>
                  <a:pt x="5061" y="1089"/>
                </a:lnTo>
                <a:lnTo>
                  <a:pt x="5063" y="582"/>
                </a:lnTo>
                <a:lnTo>
                  <a:pt x="5064" y="1187"/>
                </a:lnTo>
                <a:lnTo>
                  <a:pt x="5065" y="792"/>
                </a:lnTo>
                <a:lnTo>
                  <a:pt x="5066" y="858"/>
                </a:lnTo>
                <a:lnTo>
                  <a:pt x="5067" y="1393"/>
                </a:lnTo>
                <a:lnTo>
                  <a:pt x="5068" y="922"/>
                </a:lnTo>
                <a:lnTo>
                  <a:pt x="5069" y="1441"/>
                </a:lnTo>
                <a:lnTo>
                  <a:pt x="5071" y="1283"/>
                </a:lnTo>
                <a:lnTo>
                  <a:pt x="5073" y="1366"/>
                </a:lnTo>
                <a:lnTo>
                  <a:pt x="5074" y="907"/>
                </a:lnTo>
                <a:lnTo>
                  <a:pt x="5075" y="928"/>
                </a:lnTo>
                <a:lnTo>
                  <a:pt x="5076" y="1097"/>
                </a:lnTo>
                <a:lnTo>
                  <a:pt x="5077" y="540"/>
                </a:lnTo>
                <a:lnTo>
                  <a:pt x="5078" y="690"/>
                </a:lnTo>
                <a:lnTo>
                  <a:pt x="5079" y="1670"/>
                </a:lnTo>
                <a:lnTo>
                  <a:pt x="5080" y="632"/>
                </a:lnTo>
                <a:lnTo>
                  <a:pt x="5083" y="1516"/>
                </a:lnTo>
                <a:lnTo>
                  <a:pt x="5084" y="919"/>
                </a:lnTo>
                <a:lnTo>
                  <a:pt x="5085" y="1152"/>
                </a:lnTo>
                <a:lnTo>
                  <a:pt x="5086" y="1189"/>
                </a:lnTo>
                <a:lnTo>
                  <a:pt x="5087" y="1136"/>
                </a:lnTo>
                <a:lnTo>
                  <a:pt x="5088" y="1539"/>
                </a:lnTo>
                <a:lnTo>
                  <a:pt x="5089" y="1180"/>
                </a:lnTo>
                <a:lnTo>
                  <a:pt x="5090" y="1308"/>
                </a:lnTo>
                <a:lnTo>
                  <a:pt x="5092" y="756"/>
                </a:lnTo>
                <a:lnTo>
                  <a:pt x="5094" y="1010"/>
                </a:lnTo>
                <a:lnTo>
                  <a:pt x="5095" y="1417"/>
                </a:lnTo>
                <a:lnTo>
                  <a:pt x="5096" y="914"/>
                </a:lnTo>
                <a:lnTo>
                  <a:pt x="5097" y="1196"/>
                </a:lnTo>
                <a:lnTo>
                  <a:pt x="5098" y="1225"/>
                </a:lnTo>
                <a:lnTo>
                  <a:pt x="5099" y="885"/>
                </a:lnTo>
                <a:lnTo>
                  <a:pt x="5100" y="1234"/>
                </a:lnTo>
                <a:lnTo>
                  <a:pt x="5102" y="867"/>
                </a:lnTo>
                <a:lnTo>
                  <a:pt x="5103" y="846"/>
                </a:lnTo>
                <a:lnTo>
                  <a:pt x="5105" y="1234"/>
                </a:lnTo>
                <a:lnTo>
                  <a:pt x="5106" y="1209"/>
                </a:lnTo>
                <a:lnTo>
                  <a:pt x="5107" y="918"/>
                </a:lnTo>
                <a:lnTo>
                  <a:pt x="5108" y="1053"/>
                </a:lnTo>
                <a:lnTo>
                  <a:pt x="5109" y="1038"/>
                </a:lnTo>
                <a:lnTo>
                  <a:pt x="5110" y="667"/>
                </a:lnTo>
                <a:lnTo>
                  <a:pt x="5112" y="1255"/>
                </a:lnTo>
                <a:lnTo>
                  <a:pt x="5113" y="1442"/>
                </a:lnTo>
                <a:lnTo>
                  <a:pt x="5114" y="971"/>
                </a:lnTo>
                <a:lnTo>
                  <a:pt x="5116" y="909"/>
                </a:lnTo>
                <a:lnTo>
                  <a:pt x="5117" y="997"/>
                </a:lnTo>
                <a:lnTo>
                  <a:pt x="5118" y="650"/>
                </a:lnTo>
                <a:lnTo>
                  <a:pt x="5119" y="1429"/>
                </a:lnTo>
                <a:lnTo>
                  <a:pt x="5121" y="1117"/>
                </a:lnTo>
                <a:lnTo>
                  <a:pt x="5122" y="859"/>
                </a:lnTo>
                <a:lnTo>
                  <a:pt x="5123" y="966"/>
                </a:lnTo>
                <a:lnTo>
                  <a:pt x="5124" y="859"/>
                </a:lnTo>
                <a:lnTo>
                  <a:pt x="5125" y="823"/>
                </a:lnTo>
                <a:lnTo>
                  <a:pt x="5126" y="1364"/>
                </a:lnTo>
                <a:lnTo>
                  <a:pt x="5128" y="1039"/>
                </a:lnTo>
                <a:lnTo>
                  <a:pt x="5129" y="874"/>
                </a:lnTo>
                <a:lnTo>
                  <a:pt x="5131" y="848"/>
                </a:lnTo>
                <a:lnTo>
                  <a:pt x="5132" y="1069"/>
                </a:lnTo>
                <a:lnTo>
                  <a:pt x="5133" y="1269"/>
                </a:lnTo>
                <a:lnTo>
                  <a:pt x="5134" y="1094"/>
                </a:lnTo>
                <a:lnTo>
                  <a:pt x="5135" y="286"/>
                </a:lnTo>
                <a:lnTo>
                  <a:pt x="5136" y="826"/>
                </a:lnTo>
                <a:lnTo>
                  <a:pt x="5137" y="749"/>
                </a:lnTo>
                <a:lnTo>
                  <a:pt x="5139" y="926"/>
                </a:lnTo>
                <a:lnTo>
                  <a:pt x="5141" y="982"/>
                </a:lnTo>
                <a:lnTo>
                  <a:pt x="5142" y="1020"/>
                </a:lnTo>
                <a:lnTo>
                  <a:pt x="5143" y="886"/>
                </a:lnTo>
                <a:lnTo>
                  <a:pt x="5144" y="963"/>
                </a:lnTo>
                <a:lnTo>
                  <a:pt x="5145" y="742"/>
                </a:lnTo>
                <a:lnTo>
                  <a:pt x="5146" y="555"/>
                </a:lnTo>
                <a:lnTo>
                  <a:pt x="5147" y="781"/>
                </a:lnTo>
                <a:lnTo>
                  <a:pt x="5148" y="1497"/>
                </a:lnTo>
                <a:lnTo>
                  <a:pt x="5151" y="1385"/>
                </a:lnTo>
                <a:lnTo>
                  <a:pt x="5152" y="1085"/>
                </a:lnTo>
                <a:lnTo>
                  <a:pt x="5153" y="1456"/>
                </a:lnTo>
                <a:lnTo>
                  <a:pt x="5154" y="828"/>
                </a:lnTo>
                <a:lnTo>
                  <a:pt x="5155" y="945"/>
                </a:lnTo>
                <a:lnTo>
                  <a:pt x="5156" y="943"/>
                </a:lnTo>
                <a:lnTo>
                  <a:pt x="5157" y="882"/>
                </a:lnTo>
                <a:lnTo>
                  <a:pt x="5158" y="928"/>
                </a:lnTo>
                <a:lnTo>
                  <a:pt x="5160" y="848"/>
                </a:lnTo>
                <a:lnTo>
                  <a:pt x="5162" y="1248"/>
                </a:lnTo>
                <a:lnTo>
                  <a:pt x="5163" y="989"/>
                </a:lnTo>
                <a:lnTo>
                  <a:pt x="5164" y="887"/>
                </a:lnTo>
                <a:lnTo>
                  <a:pt x="5165" y="716"/>
                </a:lnTo>
                <a:lnTo>
                  <a:pt x="5166" y="757"/>
                </a:lnTo>
                <a:lnTo>
                  <a:pt x="5167" y="872"/>
                </a:lnTo>
                <a:lnTo>
                  <a:pt x="5168" y="765"/>
                </a:lnTo>
                <a:lnTo>
                  <a:pt x="5170" y="698"/>
                </a:lnTo>
                <a:lnTo>
                  <a:pt x="5171" y="1261"/>
                </a:lnTo>
                <a:lnTo>
                  <a:pt x="5173" y="1419"/>
                </a:lnTo>
                <a:lnTo>
                  <a:pt x="5174" y="1240"/>
                </a:lnTo>
                <a:lnTo>
                  <a:pt x="5175" y="918"/>
                </a:lnTo>
                <a:lnTo>
                  <a:pt x="5176" y="628"/>
                </a:lnTo>
                <a:lnTo>
                  <a:pt x="5177" y="1025"/>
                </a:lnTo>
                <a:lnTo>
                  <a:pt x="5179" y="629"/>
                </a:lnTo>
                <a:lnTo>
                  <a:pt x="5180" y="1288"/>
                </a:lnTo>
                <a:lnTo>
                  <a:pt x="5181" y="999"/>
                </a:lnTo>
                <a:lnTo>
                  <a:pt x="5182" y="761"/>
                </a:lnTo>
                <a:lnTo>
                  <a:pt x="5183" y="1020"/>
                </a:lnTo>
                <a:lnTo>
                  <a:pt x="5185" y="625"/>
                </a:lnTo>
                <a:lnTo>
                  <a:pt x="5186" y="1078"/>
                </a:lnTo>
                <a:lnTo>
                  <a:pt x="5187" y="1181"/>
                </a:lnTo>
                <a:lnTo>
                  <a:pt x="5189" y="1165"/>
                </a:lnTo>
                <a:lnTo>
                  <a:pt x="5190" y="1739"/>
                </a:lnTo>
                <a:lnTo>
                  <a:pt x="5191" y="1097"/>
                </a:lnTo>
                <a:lnTo>
                  <a:pt x="5192" y="1436"/>
                </a:lnTo>
                <a:lnTo>
                  <a:pt x="5193" y="1039"/>
                </a:lnTo>
                <a:lnTo>
                  <a:pt x="5194" y="1046"/>
                </a:lnTo>
                <a:lnTo>
                  <a:pt x="5196" y="592"/>
                </a:lnTo>
                <a:lnTo>
                  <a:pt x="5198" y="1347"/>
                </a:lnTo>
                <a:lnTo>
                  <a:pt x="5199" y="1085"/>
                </a:lnTo>
                <a:lnTo>
                  <a:pt x="5200" y="857"/>
                </a:lnTo>
                <a:lnTo>
                  <a:pt x="5201" y="1069"/>
                </a:lnTo>
                <a:lnTo>
                  <a:pt x="5202" y="1011"/>
                </a:lnTo>
                <a:lnTo>
                  <a:pt x="5203" y="1022"/>
                </a:lnTo>
                <a:lnTo>
                  <a:pt x="5204" y="1238"/>
                </a:lnTo>
                <a:lnTo>
                  <a:pt x="5205" y="1245"/>
                </a:lnTo>
                <a:lnTo>
                  <a:pt x="5208" y="934"/>
                </a:lnTo>
                <a:lnTo>
                  <a:pt x="5209" y="814"/>
                </a:lnTo>
                <a:lnTo>
                  <a:pt x="5210" y="1010"/>
                </a:lnTo>
                <a:lnTo>
                  <a:pt x="5211" y="843"/>
                </a:lnTo>
                <a:lnTo>
                  <a:pt x="5212" y="1048"/>
                </a:lnTo>
                <a:lnTo>
                  <a:pt x="5213" y="848"/>
                </a:lnTo>
                <a:lnTo>
                  <a:pt x="5214" y="716"/>
                </a:lnTo>
                <a:lnTo>
                  <a:pt x="5215" y="1073"/>
                </a:lnTo>
                <a:lnTo>
                  <a:pt x="5216" y="763"/>
                </a:lnTo>
                <a:lnTo>
                  <a:pt x="5219" y="1306"/>
                </a:lnTo>
                <a:lnTo>
                  <a:pt x="5220" y="1221"/>
                </a:lnTo>
                <a:lnTo>
                  <a:pt x="5221" y="1019"/>
                </a:lnTo>
                <a:lnTo>
                  <a:pt x="5222" y="1019"/>
                </a:lnTo>
                <a:lnTo>
                  <a:pt x="5223" y="851"/>
                </a:lnTo>
                <a:lnTo>
                  <a:pt x="5224" y="858"/>
                </a:lnTo>
                <a:lnTo>
                  <a:pt x="5225" y="639"/>
                </a:lnTo>
                <a:lnTo>
                  <a:pt x="5227" y="905"/>
                </a:lnTo>
                <a:lnTo>
                  <a:pt x="5228" y="778"/>
                </a:lnTo>
                <a:lnTo>
                  <a:pt x="5230" y="1198"/>
                </a:lnTo>
                <a:lnTo>
                  <a:pt x="5231" y="806"/>
                </a:lnTo>
                <a:lnTo>
                  <a:pt x="5232" y="1158"/>
                </a:lnTo>
                <a:lnTo>
                  <a:pt x="5233" y="1120"/>
                </a:lnTo>
                <a:lnTo>
                  <a:pt x="5234" y="923"/>
                </a:lnTo>
                <a:lnTo>
                  <a:pt x="5235" y="1449"/>
                </a:lnTo>
                <a:lnTo>
                  <a:pt x="5237" y="1119"/>
                </a:lnTo>
                <a:lnTo>
                  <a:pt x="5238" y="1479"/>
                </a:lnTo>
                <a:lnTo>
                  <a:pt x="5239" y="1126"/>
                </a:lnTo>
                <a:lnTo>
                  <a:pt x="5241" y="1168"/>
                </a:lnTo>
                <a:lnTo>
                  <a:pt x="5242" y="768"/>
                </a:lnTo>
                <a:lnTo>
                  <a:pt x="5243" y="829"/>
                </a:lnTo>
                <a:lnTo>
                  <a:pt x="5244" y="1226"/>
                </a:lnTo>
                <a:lnTo>
                  <a:pt x="5245" y="671"/>
                </a:lnTo>
                <a:lnTo>
                  <a:pt x="5247" y="1050"/>
                </a:lnTo>
                <a:lnTo>
                  <a:pt x="5248" y="646"/>
                </a:lnTo>
                <a:lnTo>
                  <a:pt x="5249" y="952"/>
                </a:lnTo>
                <a:lnTo>
                  <a:pt x="5250" y="376"/>
                </a:lnTo>
                <a:lnTo>
                  <a:pt x="5251" y="1081"/>
                </a:lnTo>
                <a:lnTo>
                  <a:pt x="5253" y="1106"/>
                </a:lnTo>
                <a:lnTo>
                  <a:pt x="5254" y="1084"/>
                </a:lnTo>
                <a:lnTo>
                  <a:pt x="5256" y="767"/>
                </a:lnTo>
                <a:lnTo>
                  <a:pt x="5257" y="1273"/>
                </a:lnTo>
                <a:lnTo>
                  <a:pt x="5258" y="1371"/>
                </a:lnTo>
                <a:lnTo>
                  <a:pt x="5259" y="687"/>
                </a:lnTo>
                <a:lnTo>
                  <a:pt x="5260" y="1280"/>
                </a:lnTo>
                <a:lnTo>
                  <a:pt x="5261" y="1676"/>
                </a:lnTo>
                <a:lnTo>
                  <a:pt x="5262" y="1793"/>
                </a:lnTo>
                <a:lnTo>
                  <a:pt x="5264" y="929"/>
                </a:lnTo>
                <a:lnTo>
                  <a:pt x="5266" y="872"/>
                </a:lnTo>
                <a:lnTo>
                  <a:pt x="5267" y="616"/>
                </a:lnTo>
                <a:lnTo>
                  <a:pt x="5268" y="1143"/>
                </a:lnTo>
                <a:lnTo>
                  <a:pt x="5269" y="1039"/>
                </a:lnTo>
                <a:lnTo>
                  <a:pt x="5270" y="1097"/>
                </a:lnTo>
                <a:lnTo>
                  <a:pt x="5271" y="1375"/>
                </a:lnTo>
                <a:lnTo>
                  <a:pt x="5272" y="1014"/>
                </a:lnTo>
                <a:lnTo>
                  <a:pt x="5273" y="407"/>
                </a:lnTo>
                <a:lnTo>
                  <a:pt x="5276" y="833"/>
                </a:lnTo>
                <a:lnTo>
                  <a:pt x="5277" y="796"/>
                </a:lnTo>
                <a:lnTo>
                  <a:pt x="5278" y="1141"/>
                </a:lnTo>
                <a:lnTo>
                  <a:pt x="5279" y="263"/>
                </a:lnTo>
                <a:lnTo>
                  <a:pt x="5280" y="820"/>
                </a:lnTo>
                <a:lnTo>
                  <a:pt x="5281" y="867"/>
                </a:lnTo>
                <a:lnTo>
                  <a:pt x="5282" y="885"/>
                </a:lnTo>
                <a:lnTo>
                  <a:pt x="5283" y="1167"/>
                </a:lnTo>
                <a:lnTo>
                  <a:pt x="5285" y="830"/>
                </a:lnTo>
                <a:lnTo>
                  <a:pt x="5287" y="1058"/>
                </a:lnTo>
                <a:lnTo>
                  <a:pt x="5288" y="933"/>
                </a:lnTo>
                <a:lnTo>
                  <a:pt x="5289" y="1735"/>
                </a:lnTo>
                <a:lnTo>
                  <a:pt x="5290" y="1445"/>
                </a:lnTo>
                <a:lnTo>
                  <a:pt x="5291" y="713"/>
                </a:lnTo>
                <a:lnTo>
                  <a:pt x="5292" y="992"/>
                </a:lnTo>
                <a:lnTo>
                  <a:pt x="5293" y="1137"/>
                </a:lnTo>
                <a:lnTo>
                  <a:pt x="5295" y="1160"/>
                </a:lnTo>
                <a:lnTo>
                  <a:pt x="5296" y="954"/>
                </a:lnTo>
                <a:lnTo>
                  <a:pt x="5298" y="1209"/>
                </a:lnTo>
                <a:lnTo>
                  <a:pt x="5299" y="329"/>
                </a:lnTo>
                <a:lnTo>
                  <a:pt x="5300" y="1294"/>
                </a:lnTo>
                <a:lnTo>
                  <a:pt x="5301" y="851"/>
                </a:lnTo>
                <a:lnTo>
                  <a:pt x="5302" y="1059"/>
                </a:lnTo>
                <a:lnTo>
                  <a:pt x="5303" y="1049"/>
                </a:lnTo>
                <a:lnTo>
                  <a:pt x="5305" y="1431"/>
                </a:lnTo>
                <a:lnTo>
                  <a:pt x="5306" y="763"/>
                </a:lnTo>
                <a:lnTo>
                  <a:pt x="5307" y="1568"/>
                </a:lnTo>
                <a:lnTo>
                  <a:pt x="5308" y="1295"/>
                </a:lnTo>
                <a:lnTo>
                  <a:pt x="5310" y="808"/>
                </a:lnTo>
                <a:lnTo>
                  <a:pt x="5311" y="1010"/>
                </a:lnTo>
                <a:lnTo>
                  <a:pt x="5312" y="1296"/>
                </a:lnTo>
                <a:lnTo>
                  <a:pt x="5314" y="1412"/>
                </a:lnTo>
                <a:lnTo>
                  <a:pt x="5315" y="1167"/>
                </a:lnTo>
                <a:lnTo>
                  <a:pt x="5316" y="772"/>
                </a:lnTo>
                <a:lnTo>
                  <a:pt x="5317" y="470"/>
                </a:lnTo>
                <a:lnTo>
                  <a:pt x="5318" y="955"/>
                </a:lnTo>
                <a:lnTo>
                  <a:pt x="5319" y="1206"/>
                </a:lnTo>
                <a:lnTo>
                  <a:pt x="5321" y="1146"/>
                </a:lnTo>
                <a:lnTo>
                  <a:pt x="5322" y="1011"/>
                </a:lnTo>
                <a:lnTo>
                  <a:pt x="5324" y="1134"/>
                </a:lnTo>
                <a:lnTo>
                  <a:pt x="5325" y="680"/>
                </a:lnTo>
                <a:lnTo>
                  <a:pt x="5326" y="730"/>
                </a:lnTo>
                <a:lnTo>
                  <a:pt x="5327" y="1000"/>
                </a:lnTo>
                <a:lnTo>
                  <a:pt x="5328" y="921"/>
                </a:lnTo>
                <a:lnTo>
                  <a:pt x="5329" y="1324"/>
                </a:lnTo>
                <a:lnTo>
                  <a:pt x="5330" y="1025"/>
                </a:lnTo>
                <a:lnTo>
                  <a:pt x="5332" y="994"/>
                </a:lnTo>
                <a:lnTo>
                  <a:pt x="5334" y="1151"/>
                </a:lnTo>
                <a:lnTo>
                  <a:pt x="5335" y="841"/>
                </a:lnTo>
                <a:lnTo>
                  <a:pt x="5336" y="1283"/>
                </a:lnTo>
                <a:lnTo>
                  <a:pt x="5337" y="1288"/>
                </a:lnTo>
                <a:lnTo>
                  <a:pt x="5338" y="1101"/>
                </a:lnTo>
                <a:lnTo>
                  <a:pt x="5339" y="1489"/>
                </a:lnTo>
                <a:lnTo>
                  <a:pt x="5340" y="849"/>
                </a:lnTo>
                <a:lnTo>
                  <a:pt x="5341" y="1189"/>
                </a:lnTo>
                <a:lnTo>
                  <a:pt x="5344" y="719"/>
                </a:lnTo>
                <a:lnTo>
                  <a:pt x="5345" y="1159"/>
                </a:lnTo>
                <a:lnTo>
                  <a:pt x="5346" y="838"/>
                </a:lnTo>
                <a:lnTo>
                  <a:pt x="5347" y="926"/>
                </a:lnTo>
                <a:lnTo>
                  <a:pt x="5348" y="992"/>
                </a:lnTo>
                <a:lnTo>
                  <a:pt x="5349" y="1168"/>
                </a:lnTo>
                <a:lnTo>
                  <a:pt x="5350" y="1100"/>
                </a:lnTo>
                <a:lnTo>
                  <a:pt x="5351" y="1041"/>
                </a:lnTo>
                <a:lnTo>
                  <a:pt x="5353" y="1494"/>
                </a:lnTo>
                <a:lnTo>
                  <a:pt x="5355" y="1329"/>
                </a:lnTo>
                <a:lnTo>
                  <a:pt x="5356" y="1191"/>
                </a:lnTo>
                <a:lnTo>
                  <a:pt x="5357" y="934"/>
                </a:lnTo>
                <a:lnTo>
                  <a:pt x="5358" y="1224"/>
                </a:lnTo>
                <a:lnTo>
                  <a:pt x="5359" y="843"/>
                </a:lnTo>
                <a:lnTo>
                  <a:pt x="5360" y="1147"/>
                </a:lnTo>
                <a:lnTo>
                  <a:pt x="5361" y="1480"/>
                </a:lnTo>
                <a:lnTo>
                  <a:pt x="5363" y="960"/>
                </a:lnTo>
                <a:lnTo>
                  <a:pt x="5364" y="1015"/>
                </a:lnTo>
                <a:lnTo>
                  <a:pt x="5366" y="511"/>
                </a:lnTo>
                <a:lnTo>
                  <a:pt x="5367" y="1056"/>
                </a:lnTo>
                <a:lnTo>
                  <a:pt x="5368" y="1198"/>
                </a:lnTo>
                <a:lnTo>
                  <a:pt x="5369" y="450"/>
                </a:lnTo>
                <a:lnTo>
                  <a:pt x="5370" y="1216"/>
                </a:lnTo>
                <a:lnTo>
                  <a:pt x="5372" y="1081"/>
                </a:lnTo>
                <a:lnTo>
                  <a:pt x="5373" y="982"/>
                </a:lnTo>
                <a:lnTo>
                  <a:pt x="5374" y="662"/>
                </a:lnTo>
                <a:lnTo>
                  <a:pt x="5375" y="742"/>
                </a:lnTo>
                <a:lnTo>
                  <a:pt x="5376" y="599"/>
                </a:lnTo>
                <a:lnTo>
                  <a:pt x="5378" y="679"/>
                </a:lnTo>
                <a:lnTo>
                  <a:pt x="5379" y="1021"/>
                </a:lnTo>
                <a:lnTo>
                  <a:pt x="5380" y="906"/>
                </a:lnTo>
                <a:lnTo>
                  <a:pt x="5382" y="1003"/>
                </a:lnTo>
                <a:lnTo>
                  <a:pt x="5383" y="665"/>
                </a:lnTo>
                <a:lnTo>
                  <a:pt x="5384" y="312"/>
                </a:lnTo>
                <a:lnTo>
                  <a:pt x="5385" y="688"/>
                </a:lnTo>
                <a:lnTo>
                  <a:pt x="5386" y="394"/>
                </a:lnTo>
                <a:lnTo>
                  <a:pt x="5387" y="1309"/>
                </a:lnTo>
                <a:lnTo>
                  <a:pt x="5389" y="473"/>
                </a:lnTo>
                <a:lnTo>
                  <a:pt x="5390" y="1053"/>
                </a:lnTo>
                <a:lnTo>
                  <a:pt x="5392" y="855"/>
                </a:lnTo>
                <a:lnTo>
                  <a:pt x="5393" y="1237"/>
                </a:lnTo>
                <a:lnTo>
                  <a:pt x="5394" y="1114"/>
                </a:lnTo>
                <a:lnTo>
                  <a:pt x="5395" y="816"/>
                </a:lnTo>
                <a:lnTo>
                  <a:pt x="5396" y="902"/>
                </a:lnTo>
                <a:lnTo>
                  <a:pt x="5397" y="976"/>
                </a:lnTo>
                <a:lnTo>
                  <a:pt x="5398" y="1332"/>
                </a:lnTo>
                <a:lnTo>
                  <a:pt x="5401" y="788"/>
                </a:lnTo>
                <a:lnTo>
                  <a:pt x="5402" y="906"/>
                </a:lnTo>
                <a:lnTo>
                  <a:pt x="5403" y="824"/>
                </a:lnTo>
                <a:lnTo>
                  <a:pt x="5404" y="1078"/>
                </a:lnTo>
                <a:lnTo>
                  <a:pt x="5405" y="1333"/>
                </a:lnTo>
                <a:lnTo>
                  <a:pt x="5406" y="982"/>
                </a:lnTo>
                <a:lnTo>
                  <a:pt x="5407" y="741"/>
                </a:lnTo>
                <a:lnTo>
                  <a:pt x="5408" y="718"/>
                </a:lnTo>
                <a:lnTo>
                  <a:pt x="5409" y="382"/>
                </a:lnTo>
                <a:lnTo>
                  <a:pt x="5412" y="941"/>
                </a:lnTo>
                <a:lnTo>
                  <a:pt x="5413" y="1022"/>
                </a:lnTo>
                <a:lnTo>
                  <a:pt x="5414" y="729"/>
                </a:lnTo>
                <a:lnTo>
                  <a:pt x="5415" y="1212"/>
                </a:lnTo>
                <a:lnTo>
                  <a:pt x="5416" y="1240"/>
                </a:lnTo>
                <a:lnTo>
                  <a:pt x="5417" y="929"/>
                </a:lnTo>
                <a:lnTo>
                  <a:pt x="5418" y="1007"/>
                </a:lnTo>
                <a:lnTo>
                  <a:pt x="5419" y="941"/>
                </a:lnTo>
                <a:lnTo>
                  <a:pt x="5421" y="1040"/>
                </a:lnTo>
                <a:lnTo>
                  <a:pt x="5423" y="985"/>
                </a:lnTo>
                <a:lnTo>
                  <a:pt x="5424" y="1292"/>
                </a:lnTo>
                <a:lnTo>
                  <a:pt x="5425" y="843"/>
                </a:lnTo>
                <a:lnTo>
                  <a:pt x="5426" y="1019"/>
                </a:lnTo>
                <a:lnTo>
                  <a:pt x="5427" y="769"/>
                </a:lnTo>
                <a:lnTo>
                  <a:pt x="5428" y="1381"/>
                </a:lnTo>
                <a:lnTo>
                  <a:pt x="5430" y="1247"/>
                </a:lnTo>
                <a:lnTo>
                  <a:pt x="5431" y="371"/>
                </a:lnTo>
                <a:lnTo>
                  <a:pt x="5432" y="919"/>
                </a:lnTo>
                <a:lnTo>
                  <a:pt x="5433" y="621"/>
                </a:lnTo>
                <a:lnTo>
                  <a:pt x="5435" y="1162"/>
                </a:lnTo>
                <a:lnTo>
                  <a:pt x="5436" y="837"/>
                </a:lnTo>
                <a:lnTo>
                  <a:pt x="5437" y="940"/>
                </a:lnTo>
                <a:lnTo>
                  <a:pt x="5438" y="1039"/>
                </a:lnTo>
                <a:lnTo>
                  <a:pt x="5440" y="1044"/>
                </a:lnTo>
                <a:lnTo>
                  <a:pt x="5441" y="1165"/>
                </a:lnTo>
                <a:lnTo>
                  <a:pt x="5442" y="613"/>
                </a:lnTo>
                <a:lnTo>
                  <a:pt x="5443" y="1101"/>
                </a:lnTo>
                <a:lnTo>
                  <a:pt x="5444" y="1256"/>
                </a:lnTo>
                <a:lnTo>
                  <a:pt x="5446" y="857"/>
                </a:lnTo>
                <a:lnTo>
                  <a:pt x="5447" y="1081"/>
                </a:lnTo>
                <a:lnTo>
                  <a:pt x="5449" y="1275"/>
                </a:lnTo>
                <a:lnTo>
                  <a:pt x="5450" y="1277"/>
                </a:lnTo>
                <a:lnTo>
                  <a:pt x="5451" y="819"/>
                </a:lnTo>
                <a:lnTo>
                  <a:pt x="5452" y="1003"/>
                </a:lnTo>
                <a:lnTo>
                  <a:pt x="5453" y="312"/>
                </a:lnTo>
                <a:lnTo>
                  <a:pt x="5454" y="872"/>
                </a:lnTo>
                <a:lnTo>
                  <a:pt x="5455" y="1454"/>
                </a:lnTo>
                <a:lnTo>
                  <a:pt x="5457" y="579"/>
                </a:lnTo>
                <a:lnTo>
                  <a:pt x="5459" y="1305"/>
                </a:lnTo>
                <a:lnTo>
                  <a:pt x="5460" y="1419"/>
                </a:lnTo>
                <a:lnTo>
                  <a:pt x="5461" y="665"/>
                </a:lnTo>
                <a:lnTo>
                  <a:pt x="5462" y="1355"/>
                </a:lnTo>
                <a:lnTo>
                  <a:pt x="5463" y="1016"/>
                </a:lnTo>
                <a:lnTo>
                  <a:pt x="5464" y="918"/>
                </a:lnTo>
                <a:lnTo>
                  <a:pt x="5465" y="876"/>
                </a:lnTo>
                <a:lnTo>
                  <a:pt x="5466" y="1234"/>
                </a:lnTo>
                <a:lnTo>
                  <a:pt x="5469" y="965"/>
                </a:lnTo>
                <a:lnTo>
                  <a:pt x="5470" y="1593"/>
                </a:lnTo>
                <a:lnTo>
                  <a:pt x="5471" y="712"/>
                </a:lnTo>
                <a:lnTo>
                  <a:pt x="5472" y="1272"/>
                </a:lnTo>
                <a:lnTo>
                  <a:pt x="5473" y="1280"/>
                </a:lnTo>
                <a:lnTo>
                  <a:pt x="5474" y="1453"/>
                </a:lnTo>
                <a:lnTo>
                  <a:pt x="5475" y="721"/>
                </a:lnTo>
                <a:lnTo>
                  <a:pt x="5476" y="965"/>
                </a:lnTo>
                <a:lnTo>
                  <a:pt x="5478" y="1001"/>
                </a:lnTo>
                <a:lnTo>
                  <a:pt x="5480" y="856"/>
                </a:lnTo>
                <a:lnTo>
                  <a:pt x="5481" y="1302"/>
                </a:lnTo>
                <a:lnTo>
                  <a:pt x="5482" y="1267"/>
                </a:lnTo>
                <a:lnTo>
                  <a:pt x="5483" y="854"/>
                </a:lnTo>
                <a:lnTo>
                  <a:pt x="5484" y="901"/>
                </a:lnTo>
                <a:lnTo>
                  <a:pt x="5485" y="1547"/>
                </a:lnTo>
                <a:lnTo>
                  <a:pt x="5486" y="636"/>
                </a:lnTo>
                <a:lnTo>
                  <a:pt x="5488" y="894"/>
                </a:lnTo>
                <a:lnTo>
                  <a:pt x="5489" y="632"/>
                </a:lnTo>
                <a:lnTo>
                  <a:pt x="5491" y="707"/>
                </a:lnTo>
                <a:lnTo>
                  <a:pt x="5492" y="731"/>
                </a:lnTo>
                <a:lnTo>
                  <a:pt x="5493" y="765"/>
                </a:lnTo>
                <a:lnTo>
                  <a:pt x="5494" y="795"/>
                </a:lnTo>
                <a:lnTo>
                  <a:pt x="5495" y="916"/>
                </a:lnTo>
                <a:lnTo>
                  <a:pt x="5496" y="688"/>
                </a:lnTo>
                <a:lnTo>
                  <a:pt x="5498" y="1077"/>
                </a:lnTo>
                <a:lnTo>
                  <a:pt x="5499" y="165"/>
                </a:lnTo>
                <a:lnTo>
                  <a:pt x="5500" y="742"/>
                </a:lnTo>
                <a:lnTo>
                  <a:pt x="5501" y="1050"/>
                </a:lnTo>
                <a:lnTo>
                  <a:pt x="5503" y="574"/>
                </a:lnTo>
                <a:lnTo>
                  <a:pt x="5504" y="950"/>
                </a:lnTo>
                <a:lnTo>
                  <a:pt x="5505" y="1033"/>
                </a:lnTo>
                <a:lnTo>
                  <a:pt x="5507" y="1220"/>
                </a:lnTo>
                <a:lnTo>
                  <a:pt x="5508" y="561"/>
                </a:lnTo>
                <a:lnTo>
                  <a:pt x="5509" y="813"/>
                </a:lnTo>
                <a:lnTo>
                  <a:pt x="5510" y="977"/>
                </a:lnTo>
                <a:lnTo>
                  <a:pt x="5511" y="1390"/>
                </a:lnTo>
                <a:lnTo>
                  <a:pt x="5512" y="1358"/>
                </a:lnTo>
                <a:lnTo>
                  <a:pt x="5514" y="829"/>
                </a:lnTo>
                <a:lnTo>
                  <a:pt x="5515" y="805"/>
                </a:lnTo>
                <a:lnTo>
                  <a:pt x="5517" y="758"/>
                </a:lnTo>
                <a:lnTo>
                  <a:pt x="5518" y="493"/>
                </a:lnTo>
                <a:lnTo>
                  <a:pt x="5519" y="1404"/>
                </a:lnTo>
                <a:lnTo>
                  <a:pt x="5520" y="1119"/>
                </a:lnTo>
                <a:lnTo>
                  <a:pt x="5521" y="1074"/>
                </a:lnTo>
                <a:lnTo>
                  <a:pt x="5522" y="1210"/>
                </a:lnTo>
                <a:lnTo>
                  <a:pt x="5523" y="1355"/>
                </a:lnTo>
                <a:lnTo>
                  <a:pt x="5525" y="1041"/>
                </a:lnTo>
                <a:lnTo>
                  <a:pt x="5527" y="989"/>
                </a:lnTo>
                <a:lnTo>
                  <a:pt x="5528" y="983"/>
                </a:lnTo>
                <a:lnTo>
                  <a:pt x="5529" y="990"/>
                </a:lnTo>
                <a:lnTo>
                  <a:pt x="5530" y="1335"/>
                </a:lnTo>
                <a:lnTo>
                  <a:pt x="5531" y="569"/>
                </a:lnTo>
                <a:lnTo>
                  <a:pt x="5532" y="1403"/>
                </a:lnTo>
                <a:lnTo>
                  <a:pt x="5533" y="366"/>
                </a:lnTo>
                <a:lnTo>
                  <a:pt x="5534" y="882"/>
                </a:lnTo>
                <a:lnTo>
                  <a:pt x="5537" y="853"/>
                </a:lnTo>
                <a:lnTo>
                  <a:pt x="5538" y="1160"/>
                </a:lnTo>
                <a:lnTo>
                  <a:pt x="5539" y="982"/>
                </a:lnTo>
                <a:lnTo>
                  <a:pt x="5540" y="1409"/>
                </a:lnTo>
                <a:lnTo>
                  <a:pt x="5541" y="1155"/>
                </a:lnTo>
                <a:lnTo>
                  <a:pt x="5542" y="1063"/>
                </a:lnTo>
                <a:lnTo>
                  <a:pt x="5543" y="892"/>
                </a:lnTo>
                <a:lnTo>
                  <a:pt x="5544" y="1333"/>
                </a:lnTo>
                <a:lnTo>
                  <a:pt x="5546" y="1308"/>
                </a:lnTo>
                <a:lnTo>
                  <a:pt x="5548" y="1109"/>
                </a:lnTo>
                <a:lnTo>
                  <a:pt x="5549" y="1069"/>
                </a:lnTo>
                <a:lnTo>
                  <a:pt x="5550" y="1403"/>
                </a:lnTo>
                <a:lnTo>
                  <a:pt x="5551" y="938"/>
                </a:lnTo>
                <a:lnTo>
                  <a:pt x="5552" y="776"/>
                </a:lnTo>
                <a:lnTo>
                  <a:pt x="5553" y="1072"/>
                </a:lnTo>
                <a:lnTo>
                  <a:pt x="5554" y="586"/>
                </a:lnTo>
                <a:lnTo>
                  <a:pt x="5556" y="911"/>
                </a:lnTo>
                <a:lnTo>
                  <a:pt x="5557" y="1202"/>
                </a:lnTo>
                <a:lnTo>
                  <a:pt x="5558" y="1071"/>
                </a:lnTo>
                <a:lnTo>
                  <a:pt x="5560" y="928"/>
                </a:lnTo>
                <a:lnTo>
                  <a:pt x="5561" y="1430"/>
                </a:lnTo>
                <a:lnTo>
                  <a:pt x="5562" y="955"/>
                </a:lnTo>
                <a:lnTo>
                  <a:pt x="5563" y="1137"/>
                </a:lnTo>
                <a:lnTo>
                  <a:pt x="5565" y="1498"/>
                </a:lnTo>
                <a:lnTo>
                  <a:pt x="5566" y="1155"/>
                </a:lnTo>
                <a:lnTo>
                  <a:pt x="5567" y="751"/>
                </a:lnTo>
                <a:lnTo>
                  <a:pt x="5568" y="1045"/>
                </a:lnTo>
                <a:lnTo>
                  <a:pt x="5569" y="1323"/>
                </a:lnTo>
                <a:lnTo>
                  <a:pt x="5571" y="849"/>
                </a:lnTo>
                <a:lnTo>
                  <a:pt x="5572" y="1270"/>
                </a:lnTo>
                <a:lnTo>
                  <a:pt x="5573" y="923"/>
                </a:lnTo>
                <a:lnTo>
                  <a:pt x="5575" y="1635"/>
                </a:lnTo>
                <a:lnTo>
                  <a:pt x="5576" y="836"/>
                </a:lnTo>
                <a:lnTo>
                  <a:pt x="5577" y="1424"/>
                </a:lnTo>
                <a:lnTo>
                  <a:pt x="5578" y="771"/>
                </a:lnTo>
                <a:lnTo>
                  <a:pt x="5579" y="1303"/>
                </a:lnTo>
                <a:lnTo>
                  <a:pt x="5580" y="929"/>
                </a:lnTo>
                <a:lnTo>
                  <a:pt x="5582" y="1571"/>
                </a:lnTo>
                <a:lnTo>
                  <a:pt x="5583" y="1319"/>
                </a:lnTo>
                <a:lnTo>
                  <a:pt x="5585" y="582"/>
                </a:lnTo>
                <a:lnTo>
                  <a:pt x="5586" y="596"/>
                </a:lnTo>
                <a:lnTo>
                  <a:pt x="5587" y="1179"/>
                </a:lnTo>
                <a:lnTo>
                  <a:pt x="5588" y="780"/>
                </a:lnTo>
                <a:lnTo>
                  <a:pt x="5589" y="1099"/>
                </a:lnTo>
                <a:lnTo>
                  <a:pt x="5590" y="763"/>
                </a:lnTo>
                <a:lnTo>
                  <a:pt x="5591" y="1338"/>
                </a:lnTo>
                <a:lnTo>
                  <a:pt x="5594" y="894"/>
                </a:lnTo>
                <a:lnTo>
                  <a:pt x="5595" y="976"/>
                </a:lnTo>
                <a:lnTo>
                  <a:pt x="5596" y="1777"/>
                </a:lnTo>
                <a:lnTo>
                  <a:pt x="5597" y="1292"/>
                </a:lnTo>
                <a:lnTo>
                  <a:pt x="5598" y="1097"/>
                </a:lnTo>
                <a:lnTo>
                  <a:pt x="5599" y="1378"/>
                </a:lnTo>
                <a:lnTo>
                  <a:pt x="5600" y="1285"/>
                </a:lnTo>
                <a:lnTo>
                  <a:pt x="5601" y="1085"/>
                </a:lnTo>
                <a:lnTo>
                  <a:pt x="5602" y="948"/>
                </a:lnTo>
                <a:lnTo>
                  <a:pt x="5605" y="1452"/>
                </a:lnTo>
                <a:lnTo>
                  <a:pt x="5606" y="1334"/>
                </a:lnTo>
                <a:lnTo>
                  <a:pt x="5607" y="1494"/>
                </a:lnTo>
                <a:lnTo>
                  <a:pt x="5608" y="1316"/>
                </a:lnTo>
                <a:lnTo>
                  <a:pt x="5609" y="886"/>
                </a:lnTo>
                <a:lnTo>
                  <a:pt x="5610" y="933"/>
                </a:lnTo>
                <a:lnTo>
                  <a:pt x="5611" y="1239"/>
                </a:lnTo>
                <a:lnTo>
                  <a:pt x="5612" y="1016"/>
                </a:lnTo>
                <a:lnTo>
                  <a:pt x="5614" y="1153"/>
                </a:lnTo>
                <a:lnTo>
                  <a:pt x="5616" y="1303"/>
                </a:lnTo>
                <a:lnTo>
                  <a:pt x="5617" y="898"/>
                </a:lnTo>
                <a:lnTo>
                  <a:pt x="5618" y="1106"/>
                </a:lnTo>
                <a:lnTo>
                  <a:pt x="5619" y="1217"/>
                </a:lnTo>
                <a:lnTo>
                  <a:pt x="5620" y="956"/>
                </a:lnTo>
                <a:lnTo>
                  <a:pt x="5621" y="957"/>
                </a:lnTo>
                <a:lnTo>
                  <a:pt x="5623" y="925"/>
                </a:lnTo>
                <a:lnTo>
                  <a:pt x="5624" y="1009"/>
                </a:lnTo>
                <a:lnTo>
                  <a:pt x="5625" y="844"/>
                </a:lnTo>
                <a:lnTo>
                  <a:pt x="5626" y="878"/>
                </a:lnTo>
                <a:lnTo>
                  <a:pt x="5628" y="1172"/>
                </a:lnTo>
                <a:lnTo>
                  <a:pt x="5629" y="736"/>
                </a:lnTo>
                <a:lnTo>
                  <a:pt x="5630" y="911"/>
                </a:lnTo>
                <a:lnTo>
                  <a:pt x="5631" y="1064"/>
                </a:lnTo>
                <a:lnTo>
                  <a:pt x="5633" y="985"/>
                </a:lnTo>
                <a:lnTo>
                  <a:pt x="5634" y="1134"/>
                </a:lnTo>
                <a:lnTo>
                  <a:pt x="5635" y="741"/>
                </a:lnTo>
                <a:lnTo>
                  <a:pt x="5636" y="1071"/>
                </a:lnTo>
                <a:lnTo>
                  <a:pt x="5637" y="746"/>
                </a:lnTo>
                <a:lnTo>
                  <a:pt x="5639" y="572"/>
                </a:lnTo>
                <a:lnTo>
                  <a:pt x="5640" y="911"/>
                </a:lnTo>
                <a:lnTo>
                  <a:pt x="5641" y="813"/>
                </a:lnTo>
                <a:lnTo>
                  <a:pt x="5643" y="1287"/>
                </a:lnTo>
                <a:lnTo>
                  <a:pt x="5644" y="1014"/>
                </a:lnTo>
                <a:lnTo>
                  <a:pt x="5645" y="625"/>
                </a:lnTo>
                <a:lnTo>
                  <a:pt x="5646" y="837"/>
                </a:lnTo>
                <a:lnTo>
                  <a:pt x="5647" y="1159"/>
                </a:lnTo>
                <a:lnTo>
                  <a:pt x="5648" y="794"/>
                </a:lnTo>
                <a:lnTo>
                  <a:pt x="5650" y="918"/>
                </a:lnTo>
                <a:lnTo>
                  <a:pt x="5652" y="1189"/>
                </a:lnTo>
                <a:lnTo>
                  <a:pt x="5653" y="1300"/>
                </a:lnTo>
                <a:lnTo>
                  <a:pt x="5654" y="1202"/>
                </a:lnTo>
                <a:lnTo>
                  <a:pt x="5655" y="993"/>
                </a:lnTo>
                <a:lnTo>
                  <a:pt x="5656" y="1028"/>
                </a:lnTo>
                <a:lnTo>
                  <a:pt x="5657" y="670"/>
                </a:lnTo>
                <a:lnTo>
                  <a:pt x="5658" y="1017"/>
                </a:lnTo>
                <a:lnTo>
                  <a:pt x="5659" y="1102"/>
                </a:lnTo>
                <a:lnTo>
                  <a:pt x="5662" y="824"/>
                </a:lnTo>
                <a:lnTo>
                  <a:pt x="5663" y="1371"/>
                </a:lnTo>
                <a:lnTo>
                  <a:pt x="5664" y="1148"/>
                </a:lnTo>
                <a:lnTo>
                  <a:pt x="5665" y="1385"/>
                </a:lnTo>
                <a:lnTo>
                  <a:pt x="5666" y="938"/>
                </a:lnTo>
                <a:lnTo>
                  <a:pt x="5667" y="681"/>
                </a:lnTo>
                <a:lnTo>
                  <a:pt x="5668" y="1324"/>
                </a:lnTo>
                <a:lnTo>
                  <a:pt x="5669" y="784"/>
                </a:lnTo>
                <a:lnTo>
                  <a:pt x="5670" y="1001"/>
                </a:lnTo>
                <a:lnTo>
                  <a:pt x="5673" y="1263"/>
                </a:lnTo>
                <a:lnTo>
                  <a:pt x="5674" y="1005"/>
                </a:lnTo>
                <a:lnTo>
                  <a:pt x="5675" y="863"/>
                </a:lnTo>
                <a:lnTo>
                  <a:pt x="5676" y="1141"/>
                </a:lnTo>
                <a:lnTo>
                  <a:pt x="5677" y="1084"/>
                </a:lnTo>
                <a:lnTo>
                  <a:pt x="5678" y="808"/>
                </a:lnTo>
                <a:lnTo>
                  <a:pt x="5679" y="1246"/>
                </a:lnTo>
                <a:lnTo>
                  <a:pt x="5681" y="635"/>
                </a:lnTo>
                <a:lnTo>
                  <a:pt x="5682" y="1021"/>
                </a:lnTo>
                <a:lnTo>
                  <a:pt x="5684" y="475"/>
                </a:lnTo>
                <a:lnTo>
                  <a:pt x="5685" y="338"/>
                </a:lnTo>
                <a:lnTo>
                  <a:pt x="5686" y="1255"/>
                </a:lnTo>
                <a:lnTo>
                  <a:pt x="5687" y="1423"/>
                </a:lnTo>
                <a:lnTo>
                  <a:pt x="5688" y="1360"/>
                </a:lnTo>
                <a:lnTo>
                  <a:pt x="5689" y="1438"/>
                </a:lnTo>
                <a:lnTo>
                  <a:pt x="5691" y="362"/>
                </a:lnTo>
                <a:lnTo>
                  <a:pt x="5692" y="1206"/>
                </a:lnTo>
                <a:lnTo>
                  <a:pt x="5693" y="1399"/>
                </a:lnTo>
                <a:lnTo>
                  <a:pt x="5694" y="1034"/>
                </a:lnTo>
                <a:lnTo>
                  <a:pt x="5696" y="1113"/>
                </a:lnTo>
                <a:lnTo>
                  <a:pt x="5697" y="1000"/>
                </a:lnTo>
                <a:lnTo>
                  <a:pt x="5698" y="883"/>
                </a:lnTo>
                <a:lnTo>
                  <a:pt x="5700" y="713"/>
                </a:lnTo>
                <a:lnTo>
                  <a:pt x="5701" y="834"/>
                </a:lnTo>
                <a:lnTo>
                  <a:pt x="5702" y="1199"/>
                </a:lnTo>
                <a:lnTo>
                  <a:pt x="5703" y="895"/>
                </a:lnTo>
                <a:lnTo>
                  <a:pt x="5704" y="1399"/>
                </a:lnTo>
                <a:lnTo>
                  <a:pt x="5705" y="967"/>
                </a:lnTo>
                <a:lnTo>
                  <a:pt x="5707" y="671"/>
                </a:lnTo>
                <a:lnTo>
                  <a:pt x="5708" y="1026"/>
                </a:lnTo>
                <a:lnTo>
                  <a:pt x="5710" y="966"/>
                </a:lnTo>
                <a:lnTo>
                  <a:pt x="5711" y="693"/>
                </a:lnTo>
                <a:lnTo>
                  <a:pt x="5712" y="691"/>
                </a:lnTo>
                <a:lnTo>
                  <a:pt x="5713" y="1235"/>
                </a:lnTo>
                <a:lnTo>
                  <a:pt x="5714" y="201"/>
                </a:lnTo>
                <a:lnTo>
                  <a:pt x="5715" y="702"/>
                </a:lnTo>
                <a:lnTo>
                  <a:pt x="5716" y="1425"/>
                </a:lnTo>
                <a:lnTo>
                  <a:pt x="5718" y="907"/>
                </a:lnTo>
                <a:lnTo>
                  <a:pt x="5720" y="714"/>
                </a:lnTo>
                <a:lnTo>
                  <a:pt x="5721" y="1196"/>
                </a:lnTo>
                <a:lnTo>
                  <a:pt x="5722" y="914"/>
                </a:lnTo>
                <a:lnTo>
                  <a:pt x="5723" y="843"/>
                </a:lnTo>
                <a:lnTo>
                  <a:pt x="5724" y="970"/>
                </a:lnTo>
                <a:lnTo>
                  <a:pt x="5725" y="916"/>
                </a:lnTo>
                <a:lnTo>
                  <a:pt x="5726" y="778"/>
                </a:lnTo>
                <a:lnTo>
                  <a:pt x="5727" y="924"/>
                </a:lnTo>
                <a:lnTo>
                  <a:pt x="5730" y="1263"/>
                </a:lnTo>
                <a:lnTo>
                  <a:pt x="5731" y="1003"/>
                </a:lnTo>
                <a:lnTo>
                  <a:pt x="5732" y="826"/>
                </a:lnTo>
                <a:lnTo>
                  <a:pt x="5733" y="886"/>
                </a:lnTo>
                <a:lnTo>
                  <a:pt x="5734" y="403"/>
                </a:lnTo>
                <a:lnTo>
                  <a:pt x="5735" y="1029"/>
                </a:lnTo>
                <a:lnTo>
                  <a:pt x="5736" y="954"/>
                </a:lnTo>
                <a:lnTo>
                  <a:pt x="5737" y="982"/>
                </a:lnTo>
                <a:lnTo>
                  <a:pt x="5739" y="1160"/>
                </a:lnTo>
                <a:lnTo>
                  <a:pt x="5741" y="1397"/>
                </a:lnTo>
                <a:lnTo>
                  <a:pt x="5742" y="979"/>
                </a:lnTo>
                <a:lnTo>
                  <a:pt x="5743" y="1403"/>
                </a:lnTo>
                <a:lnTo>
                  <a:pt x="5744" y="548"/>
                </a:lnTo>
                <a:lnTo>
                  <a:pt x="5745" y="714"/>
                </a:lnTo>
                <a:lnTo>
                  <a:pt x="5746" y="1074"/>
                </a:lnTo>
                <a:lnTo>
                  <a:pt x="5747" y="923"/>
                </a:lnTo>
                <a:lnTo>
                  <a:pt x="5749" y="680"/>
                </a:lnTo>
                <a:lnTo>
                  <a:pt x="5750" y="1073"/>
                </a:lnTo>
                <a:lnTo>
                  <a:pt x="5751" y="819"/>
                </a:lnTo>
                <a:lnTo>
                  <a:pt x="5753" y="1056"/>
                </a:lnTo>
                <a:lnTo>
                  <a:pt x="5754" y="976"/>
                </a:lnTo>
                <a:lnTo>
                  <a:pt x="5755" y="1314"/>
                </a:lnTo>
                <a:lnTo>
                  <a:pt x="5756" y="1087"/>
                </a:lnTo>
                <a:lnTo>
                  <a:pt x="5758" y="678"/>
                </a:lnTo>
                <a:lnTo>
                  <a:pt x="5759" y="899"/>
                </a:lnTo>
                <a:lnTo>
                  <a:pt x="5760" y="974"/>
                </a:lnTo>
                <a:lnTo>
                  <a:pt x="5761" y="1228"/>
                </a:lnTo>
                <a:lnTo>
                  <a:pt x="5762" y="655"/>
                </a:lnTo>
                <a:lnTo>
                  <a:pt x="5764" y="1029"/>
                </a:lnTo>
                <a:lnTo>
                  <a:pt x="5765" y="950"/>
                </a:lnTo>
                <a:lnTo>
                  <a:pt x="5766" y="1089"/>
                </a:lnTo>
                <a:lnTo>
                  <a:pt x="5768" y="209"/>
                </a:lnTo>
                <a:lnTo>
                  <a:pt x="5769" y="894"/>
                </a:lnTo>
                <a:lnTo>
                  <a:pt x="5770" y="1227"/>
                </a:lnTo>
                <a:lnTo>
                  <a:pt x="5771" y="1108"/>
                </a:lnTo>
                <a:lnTo>
                  <a:pt x="5772" y="317"/>
                </a:lnTo>
                <a:lnTo>
                  <a:pt x="5773" y="992"/>
                </a:lnTo>
                <a:lnTo>
                  <a:pt x="5775" y="623"/>
                </a:lnTo>
                <a:lnTo>
                  <a:pt x="5776" y="1523"/>
                </a:lnTo>
                <a:lnTo>
                  <a:pt x="5778" y="474"/>
                </a:lnTo>
                <a:lnTo>
                  <a:pt x="5779" y="1298"/>
                </a:lnTo>
                <a:lnTo>
                  <a:pt x="5780" y="502"/>
                </a:lnTo>
                <a:lnTo>
                  <a:pt x="5781" y="1181"/>
                </a:lnTo>
                <a:lnTo>
                  <a:pt x="5782" y="964"/>
                </a:lnTo>
                <a:lnTo>
                  <a:pt x="5783" y="698"/>
                </a:lnTo>
                <a:lnTo>
                  <a:pt x="5784" y="779"/>
                </a:lnTo>
                <a:lnTo>
                  <a:pt x="5787" y="776"/>
                </a:lnTo>
                <a:lnTo>
                  <a:pt x="5788" y="1484"/>
                </a:lnTo>
                <a:lnTo>
                  <a:pt x="5789" y="706"/>
                </a:lnTo>
                <a:lnTo>
                  <a:pt x="5790" y="1130"/>
                </a:lnTo>
                <a:lnTo>
                  <a:pt x="5791" y="689"/>
                </a:lnTo>
                <a:lnTo>
                  <a:pt x="5792" y="938"/>
                </a:lnTo>
                <a:lnTo>
                  <a:pt x="5793" y="521"/>
                </a:lnTo>
                <a:lnTo>
                  <a:pt x="5794" y="1172"/>
                </a:lnTo>
                <a:lnTo>
                  <a:pt x="5795" y="517"/>
                </a:lnTo>
                <a:lnTo>
                  <a:pt x="5798" y="1166"/>
                </a:lnTo>
                <a:lnTo>
                  <a:pt x="5799" y="976"/>
                </a:lnTo>
                <a:lnTo>
                  <a:pt x="5800" y="897"/>
                </a:lnTo>
                <a:lnTo>
                  <a:pt x="5801" y="745"/>
                </a:lnTo>
                <a:lnTo>
                  <a:pt x="5802" y="1025"/>
                </a:lnTo>
                <a:lnTo>
                  <a:pt x="5803" y="679"/>
                </a:lnTo>
                <a:lnTo>
                  <a:pt x="5804" y="1133"/>
                </a:lnTo>
                <a:lnTo>
                  <a:pt x="5805" y="984"/>
                </a:lnTo>
                <a:lnTo>
                  <a:pt x="5807" y="1263"/>
                </a:lnTo>
                <a:lnTo>
                  <a:pt x="5809" y="1260"/>
                </a:lnTo>
                <a:lnTo>
                  <a:pt x="5810" y="1151"/>
                </a:lnTo>
                <a:lnTo>
                  <a:pt x="5811" y="1192"/>
                </a:lnTo>
                <a:lnTo>
                  <a:pt x="5812" y="1687"/>
                </a:lnTo>
                <a:lnTo>
                  <a:pt x="5813" y="1087"/>
                </a:lnTo>
                <a:lnTo>
                  <a:pt x="5814" y="875"/>
                </a:lnTo>
                <a:lnTo>
                  <a:pt x="5816" y="851"/>
                </a:lnTo>
                <a:lnTo>
                  <a:pt x="5817" y="898"/>
                </a:lnTo>
                <a:lnTo>
                  <a:pt x="5818" y="965"/>
                </a:lnTo>
                <a:lnTo>
                  <a:pt x="5819" y="1227"/>
                </a:lnTo>
                <a:lnTo>
                  <a:pt x="5821" y="1312"/>
                </a:lnTo>
                <a:lnTo>
                  <a:pt x="5822" y="1319"/>
                </a:lnTo>
                <a:lnTo>
                  <a:pt x="5823" y="1342"/>
                </a:lnTo>
                <a:lnTo>
                  <a:pt x="5824" y="989"/>
                </a:lnTo>
                <a:lnTo>
                  <a:pt x="5826" y="1415"/>
                </a:lnTo>
                <a:lnTo>
                  <a:pt x="5827" y="846"/>
                </a:lnTo>
                <a:lnTo>
                  <a:pt x="5828" y="976"/>
                </a:lnTo>
                <a:lnTo>
                  <a:pt x="5829" y="1021"/>
                </a:lnTo>
                <a:lnTo>
                  <a:pt x="5830" y="1391"/>
                </a:lnTo>
                <a:lnTo>
                  <a:pt x="5832" y="1118"/>
                </a:lnTo>
                <a:lnTo>
                  <a:pt x="5833" y="1014"/>
                </a:lnTo>
                <a:lnTo>
                  <a:pt x="5834" y="929"/>
                </a:lnTo>
                <a:lnTo>
                  <a:pt x="5836" y="967"/>
                </a:lnTo>
                <a:lnTo>
                  <a:pt x="5837" y="672"/>
                </a:lnTo>
                <a:lnTo>
                  <a:pt x="5838" y="609"/>
                </a:lnTo>
                <a:lnTo>
                  <a:pt x="5839" y="1707"/>
                </a:lnTo>
                <a:lnTo>
                  <a:pt x="5840" y="1035"/>
                </a:lnTo>
                <a:lnTo>
                  <a:pt x="5841" y="1352"/>
                </a:lnTo>
                <a:lnTo>
                  <a:pt x="5843" y="889"/>
                </a:lnTo>
                <a:lnTo>
                  <a:pt x="5845" y="1456"/>
                </a:lnTo>
                <a:lnTo>
                  <a:pt x="5846" y="1162"/>
                </a:lnTo>
                <a:lnTo>
                  <a:pt x="5847" y="1366"/>
                </a:lnTo>
                <a:lnTo>
                  <a:pt x="5848" y="950"/>
                </a:lnTo>
                <a:lnTo>
                  <a:pt x="5849" y="1137"/>
                </a:lnTo>
                <a:lnTo>
                  <a:pt x="5850" y="1113"/>
                </a:lnTo>
                <a:lnTo>
                  <a:pt x="5851" y="355"/>
                </a:lnTo>
                <a:lnTo>
                  <a:pt x="5852" y="927"/>
                </a:lnTo>
                <a:lnTo>
                  <a:pt x="5855" y="890"/>
                </a:lnTo>
                <a:lnTo>
                  <a:pt x="5856" y="860"/>
                </a:lnTo>
                <a:lnTo>
                  <a:pt x="5857" y="1494"/>
                </a:lnTo>
                <a:lnTo>
                  <a:pt x="5858" y="879"/>
                </a:lnTo>
                <a:lnTo>
                  <a:pt x="5859" y="1106"/>
                </a:lnTo>
                <a:lnTo>
                  <a:pt x="5860" y="909"/>
                </a:lnTo>
                <a:lnTo>
                  <a:pt x="5861" y="1043"/>
                </a:lnTo>
                <a:lnTo>
                  <a:pt x="5862" y="369"/>
                </a:lnTo>
                <a:lnTo>
                  <a:pt x="5863" y="1119"/>
                </a:lnTo>
                <a:lnTo>
                  <a:pt x="5866" y="1477"/>
                </a:lnTo>
                <a:lnTo>
                  <a:pt x="5867" y="830"/>
                </a:lnTo>
                <a:lnTo>
                  <a:pt x="5868" y="1287"/>
                </a:lnTo>
                <a:lnTo>
                  <a:pt x="5869" y="1273"/>
                </a:lnTo>
                <a:lnTo>
                  <a:pt x="5870" y="589"/>
                </a:lnTo>
                <a:lnTo>
                  <a:pt x="5871" y="1150"/>
                </a:lnTo>
                <a:lnTo>
                  <a:pt x="5872" y="1032"/>
                </a:lnTo>
                <a:lnTo>
                  <a:pt x="5874" y="835"/>
                </a:lnTo>
                <a:lnTo>
                  <a:pt x="5875" y="938"/>
                </a:lnTo>
                <a:lnTo>
                  <a:pt x="5876" y="1327"/>
                </a:lnTo>
                <a:lnTo>
                  <a:pt x="5878" y="1254"/>
                </a:lnTo>
                <a:lnTo>
                  <a:pt x="5879" y="581"/>
                </a:lnTo>
                <a:lnTo>
                  <a:pt x="5880" y="1336"/>
                </a:lnTo>
                <a:lnTo>
                  <a:pt x="5881" y="737"/>
                </a:lnTo>
                <a:lnTo>
                  <a:pt x="5882" y="1395"/>
                </a:lnTo>
                <a:lnTo>
                  <a:pt x="5884" y="1113"/>
                </a:lnTo>
                <a:lnTo>
                  <a:pt x="5885" y="1332"/>
                </a:lnTo>
                <a:lnTo>
                  <a:pt x="5886" y="990"/>
                </a:lnTo>
                <a:lnTo>
                  <a:pt x="5887" y="1772"/>
                </a:lnTo>
                <a:lnTo>
                  <a:pt x="5889" y="1067"/>
                </a:lnTo>
                <a:lnTo>
                  <a:pt x="5890" y="911"/>
                </a:lnTo>
                <a:lnTo>
                  <a:pt x="5891" y="968"/>
                </a:lnTo>
                <a:lnTo>
                  <a:pt x="5892" y="975"/>
                </a:lnTo>
                <a:lnTo>
                  <a:pt x="5894" y="1001"/>
                </a:lnTo>
                <a:lnTo>
                  <a:pt x="5895" y="499"/>
                </a:lnTo>
                <a:lnTo>
                  <a:pt x="5896" y="907"/>
                </a:lnTo>
                <a:lnTo>
                  <a:pt x="5897" y="1239"/>
                </a:lnTo>
                <a:lnTo>
                  <a:pt x="5898" y="636"/>
                </a:lnTo>
                <a:lnTo>
                  <a:pt x="5900" y="1060"/>
                </a:lnTo>
                <a:lnTo>
                  <a:pt x="5901" y="761"/>
                </a:lnTo>
                <a:lnTo>
                  <a:pt x="5903" y="831"/>
                </a:lnTo>
                <a:lnTo>
                  <a:pt x="5904" y="1289"/>
                </a:lnTo>
                <a:lnTo>
                  <a:pt x="5905" y="430"/>
                </a:lnTo>
                <a:lnTo>
                  <a:pt x="5906" y="883"/>
                </a:lnTo>
                <a:lnTo>
                  <a:pt x="5907" y="1080"/>
                </a:lnTo>
                <a:lnTo>
                  <a:pt x="5908" y="1575"/>
                </a:lnTo>
                <a:lnTo>
                  <a:pt x="5909" y="702"/>
                </a:lnTo>
                <a:lnTo>
                  <a:pt x="5911" y="449"/>
                </a:lnTo>
                <a:lnTo>
                  <a:pt x="5913" y="972"/>
                </a:lnTo>
                <a:lnTo>
                  <a:pt x="5914" y="1009"/>
                </a:lnTo>
                <a:lnTo>
                  <a:pt x="5915" y="1530"/>
                </a:lnTo>
                <a:lnTo>
                  <a:pt x="5916" y="1156"/>
                </a:lnTo>
                <a:lnTo>
                  <a:pt x="5917" y="1294"/>
                </a:lnTo>
                <a:lnTo>
                  <a:pt x="5918" y="1285"/>
                </a:lnTo>
                <a:lnTo>
                  <a:pt x="5919" y="1225"/>
                </a:lnTo>
                <a:lnTo>
                  <a:pt x="5920" y="788"/>
                </a:lnTo>
                <a:lnTo>
                  <a:pt x="5923" y="1078"/>
                </a:lnTo>
                <a:lnTo>
                  <a:pt x="5924" y="717"/>
                </a:lnTo>
                <a:lnTo>
                  <a:pt x="5925" y="1092"/>
                </a:lnTo>
                <a:lnTo>
                  <a:pt x="5926" y="749"/>
                </a:lnTo>
                <a:lnTo>
                  <a:pt x="5927" y="1293"/>
                </a:lnTo>
                <a:lnTo>
                  <a:pt x="5928" y="1187"/>
                </a:lnTo>
                <a:lnTo>
                  <a:pt x="5929" y="853"/>
                </a:lnTo>
                <a:lnTo>
                  <a:pt x="5930" y="935"/>
                </a:lnTo>
                <a:lnTo>
                  <a:pt x="5932" y="1146"/>
                </a:lnTo>
                <a:lnTo>
                  <a:pt x="5934" y="638"/>
                </a:lnTo>
                <a:lnTo>
                  <a:pt x="5935" y="1432"/>
                </a:lnTo>
                <a:lnTo>
                  <a:pt x="5936" y="933"/>
                </a:lnTo>
                <a:lnTo>
                  <a:pt x="5937" y="569"/>
                </a:lnTo>
                <a:lnTo>
                  <a:pt x="5938" y="966"/>
                </a:lnTo>
                <a:lnTo>
                  <a:pt x="5939" y="1152"/>
                </a:lnTo>
                <a:lnTo>
                  <a:pt x="5940" y="1051"/>
                </a:lnTo>
                <a:lnTo>
                  <a:pt x="5942" y="950"/>
                </a:lnTo>
                <a:lnTo>
                  <a:pt x="5943" y="1384"/>
                </a:lnTo>
                <a:lnTo>
                  <a:pt x="5944" y="1257"/>
                </a:lnTo>
                <a:lnTo>
                  <a:pt x="5946" y="1321"/>
                </a:lnTo>
                <a:lnTo>
                  <a:pt x="5947" y="893"/>
                </a:lnTo>
                <a:lnTo>
                  <a:pt x="5948" y="909"/>
                </a:lnTo>
                <a:lnTo>
                  <a:pt x="5949" y="973"/>
                </a:lnTo>
                <a:lnTo>
                  <a:pt x="5951" y="1321"/>
                </a:lnTo>
                <a:lnTo>
                  <a:pt x="5952" y="616"/>
                </a:lnTo>
                <a:lnTo>
                  <a:pt x="5953" y="1143"/>
                </a:lnTo>
                <a:lnTo>
                  <a:pt x="5954" y="1221"/>
                </a:lnTo>
                <a:lnTo>
                  <a:pt x="5955" y="1180"/>
                </a:lnTo>
                <a:lnTo>
                  <a:pt x="5957" y="1014"/>
                </a:lnTo>
                <a:lnTo>
                  <a:pt x="5958" y="841"/>
                </a:lnTo>
                <a:lnTo>
                  <a:pt x="5959" y="1591"/>
                </a:lnTo>
                <a:lnTo>
                  <a:pt x="5961" y="1108"/>
                </a:lnTo>
                <a:lnTo>
                  <a:pt x="5962" y="1080"/>
                </a:lnTo>
                <a:lnTo>
                  <a:pt x="5963" y="1407"/>
                </a:lnTo>
                <a:lnTo>
                  <a:pt x="5964" y="994"/>
                </a:lnTo>
                <a:lnTo>
                  <a:pt x="5965" y="1185"/>
                </a:lnTo>
                <a:lnTo>
                  <a:pt x="5966" y="955"/>
                </a:lnTo>
                <a:lnTo>
                  <a:pt x="5968" y="1163"/>
                </a:lnTo>
                <a:lnTo>
                  <a:pt x="5969" y="1145"/>
                </a:lnTo>
                <a:lnTo>
                  <a:pt x="5971" y="1303"/>
                </a:lnTo>
                <a:lnTo>
                  <a:pt x="5972" y="1013"/>
                </a:lnTo>
                <a:lnTo>
                  <a:pt x="5973" y="1305"/>
                </a:lnTo>
                <a:lnTo>
                  <a:pt x="5974" y="808"/>
                </a:lnTo>
                <a:lnTo>
                  <a:pt x="5975" y="932"/>
                </a:lnTo>
                <a:lnTo>
                  <a:pt x="5976" y="1407"/>
                </a:lnTo>
                <a:lnTo>
                  <a:pt x="5977" y="901"/>
                </a:lnTo>
                <a:lnTo>
                  <a:pt x="5980" y="1128"/>
                </a:lnTo>
                <a:lnTo>
                  <a:pt x="5981" y="1179"/>
                </a:lnTo>
                <a:lnTo>
                  <a:pt x="5982" y="767"/>
                </a:lnTo>
                <a:lnTo>
                  <a:pt x="5983" y="557"/>
                </a:lnTo>
                <a:lnTo>
                  <a:pt x="5984" y="935"/>
                </a:lnTo>
                <a:lnTo>
                  <a:pt x="5985" y="317"/>
                </a:lnTo>
                <a:lnTo>
                  <a:pt x="5986" y="1510"/>
                </a:lnTo>
                <a:lnTo>
                  <a:pt x="5987" y="1479"/>
                </a:lnTo>
                <a:lnTo>
                  <a:pt x="5988" y="1482"/>
                </a:lnTo>
                <a:lnTo>
                  <a:pt x="5991" y="917"/>
                </a:lnTo>
                <a:lnTo>
                  <a:pt x="5992" y="1089"/>
                </a:lnTo>
                <a:lnTo>
                  <a:pt x="5993" y="1273"/>
                </a:lnTo>
                <a:lnTo>
                  <a:pt x="5994" y="874"/>
                </a:lnTo>
                <a:lnTo>
                  <a:pt x="5995" y="1055"/>
                </a:lnTo>
                <a:lnTo>
                  <a:pt x="5996" y="678"/>
                </a:lnTo>
                <a:lnTo>
                  <a:pt x="5997" y="765"/>
                </a:lnTo>
                <a:lnTo>
                  <a:pt x="5998" y="1015"/>
                </a:lnTo>
                <a:lnTo>
                  <a:pt x="6000" y="747"/>
                </a:lnTo>
                <a:lnTo>
                  <a:pt x="6001" y="640"/>
                </a:lnTo>
                <a:lnTo>
                  <a:pt x="6003" y="547"/>
                </a:lnTo>
                <a:lnTo>
                  <a:pt x="6004" y="843"/>
                </a:lnTo>
                <a:lnTo>
                  <a:pt x="6005" y="929"/>
                </a:lnTo>
                <a:lnTo>
                  <a:pt x="6006" y="1844"/>
                </a:lnTo>
                <a:lnTo>
                  <a:pt x="6007" y="982"/>
                </a:lnTo>
                <a:lnTo>
                  <a:pt x="6009" y="955"/>
                </a:lnTo>
                <a:lnTo>
                  <a:pt x="6010" y="996"/>
                </a:lnTo>
                <a:lnTo>
                  <a:pt x="6011" y="1406"/>
                </a:lnTo>
                <a:lnTo>
                  <a:pt x="6012" y="894"/>
                </a:lnTo>
                <a:lnTo>
                  <a:pt x="6014" y="396"/>
                </a:lnTo>
                <a:lnTo>
                  <a:pt x="6015" y="1706"/>
                </a:lnTo>
                <a:lnTo>
                  <a:pt x="6016" y="1161"/>
                </a:lnTo>
                <a:lnTo>
                  <a:pt x="6017" y="1143"/>
                </a:lnTo>
                <a:lnTo>
                  <a:pt x="6019" y="1069"/>
                </a:lnTo>
                <a:lnTo>
                  <a:pt x="6020" y="1199"/>
                </a:lnTo>
                <a:lnTo>
                  <a:pt x="6021" y="463"/>
                </a:lnTo>
                <a:lnTo>
                  <a:pt x="6022" y="1191"/>
                </a:lnTo>
                <a:lnTo>
                  <a:pt x="6023" y="1090"/>
                </a:lnTo>
                <a:lnTo>
                  <a:pt x="6025" y="1199"/>
                </a:lnTo>
                <a:lnTo>
                  <a:pt x="6026" y="787"/>
                </a:lnTo>
                <a:lnTo>
                  <a:pt x="6027" y="1188"/>
                </a:lnTo>
                <a:lnTo>
                  <a:pt x="6029" y="1098"/>
                </a:lnTo>
                <a:lnTo>
                  <a:pt x="6030" y="1221"/>
                </a:lnTo>
                <a:lnTo>
                  <a:pt x="6031" y="826"/>
                </a:lnTo>
                <a:lnTo>
                  <a:pt x="6032" y="849"/>
                </a:lnTo>
                <a:lnTo>
                  <a:pt x="6033" y="1249"/>
                </a:lnTo>
                <a:lnTo>
                  <a:pt x="6034" y="882"/>
                </a:lnTo>
                <a:lnTo>
                  <a:pt x="6036" y="1070"/>
                </a:lnTo>
                <a:lnTo>
                  <a:pt x="6038" y="888"/>
                </a:lnTo>
                <a:lnTo>
                  <a:pt x="6039" y="788"/>
                </a:lnTo>
                <a:lnTo>
                  <a:pt x="6040" y="947"/>
                </a:lnTo>
                <a:lnTo>
                  <a:pt x="6041" y="1093"/>
                </a:lnTo>
                <a:lnTo>
                  <a:pt x="6042" y="1201"/>
                </a:lnTo>
                <a:lnTo>
                  <a:pt x="6043" y="1488"/>
                </a:lnTo>
                <a:lnTo>
                  <a:pt x="6044" y="913"/>
                </a:lnTo>
                <a:lnTo>
                  <a:pt x="6045" y="630"/>
                </a:lnTo>
                <a:lnTo>
                  <a:pt x="6048" y="720"/>
                </a:lnTo>
                <a:lnTo>
                  <a:pt x="6049" y="1363"/>
                </a:lnTo>
                <a:lnTo>
                  <a:pt x="6050" y="1123"/>
                </a:lnTo>
                <a:lnTo>
                  <a:pt x="6051" y="1044"/>
                </a:lnTo>
                <a:lnTo>
                  <a:pt x="6052" y="1302"/>
                </a:lnTo>
                <a:lnTo>
                  <a:pt x="6053" y="912"/>
                </a:lnTo>
                <a:lnTo>
                  <a:pt x="6054" y="1140"/>
                </a:lnTo>
                <a:lnTo>
                  <a:pt x="6055" y="1560"/>
                </a:lnTo>
                <a:lnTo>
                  <a:pt x="6056" y="1532"/>
                </a:lnTo>
                <a:lnTo>
                  <a:pt x="6059" y="1274"/>
                </a:lnTo>
                <a:lnTo>
                  <a:pt x="6060" y="821"/>
                </a:lnTo>
                <a:lnTo>
                  <a:pt x="6061" y="1327"/>
                </a:lnTo>
                <a:lnTo>
                  <a:pt x="6062" y="1200"/>
                </a:lnTo>
                <a:lnTo>
                  <a:pt x="6063" y="951"/>
                </a:lnTo>
                <a:lnTo>
                  <a:pt x="6064" y="1362"/>
                </a:lnTo>
                <a:lnTo>
                  <a:pt x="6065" y="722"/>
                </a:lnTo>
                <a:lnTo>
                  <a:pt x="6067" y="915"/>
                </a:lnTo>
                <a:lnTo>
                  <a:pt x="6068" y="917"/>
                </a:lnTo>
                <a:lnTo>
                  <a:pt x="6069" y="993"/>
                </a:lnTo>
                <a:lnTo>
                  <a:pt x="6071" y="667"/>
                </a:lnTo>
                <a:lnTo>
                  <a:pt x="6072" y="609"/>
                </a:lnTo>
                <a:lnTo>
                  <a:pt x="6073" y="1403"/>
                </a:lnTo>
                <a:lnTo>
                  <a:pt x="6074" y="955"/>
                </a:lnTo>
                <a:lnTo>
                  <a:pt x="6075" y="1094"/>
                </a:lnTo>
                <a:lnTo>
                  <a:pt x="6077" y="1159"/>
                </a:lnTo>
                <a:lnTo>
                  <a:pt x="6078" y="841"/>
                </a:lnTo>
                <a:lnTo>
                  <a:pt x="6079" y="684"/>
                </a:lnTo>
                <a:lnTo>
                  <a:pt x="6080" y="435"/>
                </a:lnTo>
                <a:lnTo>
                  <a:pt x="6082" y="1245"/>
                </a:lnTo>
                <a:lnTo>
                  <a:pt x="6083" y="1485"/>
                </a:lnTo>
                <a:lnTo>
                  <a:pt x="6084" y="864"/>
                </a:lnTo>
                <a:lnTo>
                  <a:pt x="6085" y="696"/>
                </a:lnTo>
                <a:lnTo>
                  <a:pt x="6087" y="1411"/>
                </a:lnTo>
                <a:lnTo>
                  <a:pt x="6088" y="1236"/>
                </a:lnTo>
                <a:lnTo>
                  <a:pt x="6089" y="1128"/>
                </a:lnTo>
                <a:lnTo>
                  <a:pt x="6090" y="420"/>
                </a:lnTo>
                <a:lnTo>
                  <a:pt x="6091" y="1247"/>
                </a:lnTo>
                <a:lnTo>
                  <a:pt x="6093" y="947"/>
                </a:lnTo>
                <a:lnTo>
                  <a:pt x="6094" y="1148"/>
                </a:lnTo>
                <a:lnTo>
                  <a:pt x="6096" y="741"/>
                </a:lnTo>
                <a:lnTo>
                  <a:pt x="6097" y="1675"/>
                </a:lnTo>
                <a:lnTo>
                  <a:pt x="6098" y="1157"/>
                </a:lnTo>
                <a:lnTo>
                  <a:pt x="6099" y="935"/>
                </a:lnTo>
                <a:lnTo>
                  <a:pt x="6100" y="1502"/>
                </a:lnTo>
                <a:lnTo>
                  <a:pt x="6101" y="916"/>
                </a:lnTo>
                <a:lnTo>
                  <a:pt x="6102" y="1305"/>
                </a:lnTo>
                <a:lnTo>
                  <a:pt x="6104" y="1169"/>
                </a:lnTo>
                <a:lnTo>
                  <a:pt x="6106" y="1194"/>
                </a:lnTo>
                <a:lnTo>
                  <a:pt x="6107" y="1077"/>
                </a:lnTo>
                <a:lnTo>
                  <a:pt x="6108" y="824"/>
                </a:lnTo>
                <a:lnTo>
                  <a:pt x="6109" y="1336"/>
                </a:lnTo>
                <a:lnTo>
                  <a:pt x="6110" y="1329"/>
                </a:lnTo>
                <a:lnTo>
                  <a:pt x="6111" y="1188"/>
                </a:lnTo>
                <a:lnTo>
                  <a:pt x="6112" y="1084"/>
                </a:lnTo>
                <a:lnTo>
                  <a:pt x="6113" y="1013"/>
                </a:lnTo>
                <a:lnTo>
                  <a:pt x="6116" y="759"/>
                </a:lnTo>
                <a:lnTo>
                  <a:pt x="6117" y="1305"/>
                </a:lnTo>
                <a:lnTo>
                  <a:pt x="6118" y="1141"/>
                </a:lnTo>
                <a:lnTo>
                  <a:pt x="6119" y="1028"/>
                </a:lnTo>
                <a:lnTo>
                  <a:pt x="6120" y="1133"/>
                </a:lnTo>
                <a:lnTo>
                  <a:pt x="6121" y="1176"/>
                </a:lnTo>
                <a:lnTo>
                  <a:pt x="6122" y="980"/>
                </a:lnTo>
                <a:lnTo>
                  <a:pt x="6123" y="1616"/>
                </a:lnTo>
                <a:lnTo>
                  <a:pt x="6125" y="945"/>
                </a:lnTo>
                <a:lnTo>
                  <a:pt x="6126" y="1511"/>
                </a:lnTo>
                <a:lnTo>
                  <a:pt x="6128" y="771"/>
                </a:lnTo>
                <a:lnTo>
                  <a:pt x="6129" y="1324"/>
                </a:lnTo>
                <a:lnTo>
                  <a:pt x="6130" y="1377"/>
                </a:lnTo>
                <a:lnTo>
                  <a:pt x="6131" y="1025"/>
                </a:lnTo>
                <a:lnTo>
                  <a:pt x="6132" y="844"/>
                </a:lnTo>
                <a:lnTo>
                  <a:pt x="6133" y="1367"/>
                </a:lnTo>
                <a:lnTo>
                  <a:pt x="6135" y="586"/>
                </a:lnTo>
                <a:lnTo>
                  <a:pt x="6136" y="912"/>
                </a:lnTo>
                <a:lnTo>
                  <a:pt x="6137" y="1393"/>
                </a:lnTo>
                <a:lnTo>
                  <a:pt x="6139" y="1122"/>
                </a:lnTo>
                <a:lnTo>
                  <a:pt x="6140" y="1598"/>
                </a:lnTo>
                <a:lnTo>
                  <a:pt x="6141" y="1211"/>
                </a:lnTo>
                <a:lnTo>
                  <a:pt x="6142" y="1155"/>
                </a:lnTo>
                <a:lnTo>
                  <a:pt x="6143" y="1177"/>
                </a:lnTo>
                <a:lnTo>
                  <a:pt x="6145" y="929"/>
                </a:lnTo>
                <a:lnTo>
                  <a:pt x="6146" y="648"/>
                </a:lnTo>
                <a:lnTo>
                  <a:pt x="6147" y="1122"/>
                </a:lnTo>
                <a:lnTo>
                  <a:pt x="6148" y="1475"/>
                </a:lnTo>
                <a:lnTo>
                  <a:pt x="6150" y="846"/>
                </a:lnTo>
                <a:lnTo>
                  <a:pt x="6151" y="826"/>
                </a:lnTo>
                <a:lnTo>
                  <a:pt x="6152" y="789"/>
                </a:lnTo>
                <a:lnTo>
                  <a:pt x="6154" y="1575"/>
                </a:lnTo>
                <a:lnTo>
                  <a:pt x="6155" y="1034"/>
                </a:lnTo>
                <a:lnTo>
                  <a:pt x="6156" y="1192"/>
                </a:lnTo>
                <a:lnTo>
                  <a:pt x="6157" y="1397"/>
                </a:lnTo>
                <a:lnTo>
                  <a:pt x="6158" y="980"/>
                </a:lnTo>
                <a:lnTo>
                  <a:pt x="6159" y="1274"/>
                </a:lnTo>
                <a:lnTo>
                  <a:pt x="6161" y="905"/>
                </a:lnTo>
                <a:lnTo>
                  <a:pt x="6162" y="1289"/>
                </a:lnTo>
                <a:lnTo>
                  <a:pt x="6164" y="1064"/>
                </a:lnTo>
                <a:lnTo>
                  <a:pt x="6165" y="840"/>
                </a:lnTo>
                <a:lnTo>
                  <a:pt x="6166" y="778"/>
                </a:lnTo>
                <a:lnTo>
                  <a:pt x="6167" y="810"/>
                </a:lnTo>
                <a:lnTo>
                  <a:pt x="6168" y="1561"/>
                </a:lnTo>
                <a:lnTo>
                  <a:pt x="6169" y="897"/>
                </a:lnTo>
                <a:lnTo>
                  <a:pt x="6170" y="1000"/>
                </a:lnTo>
                <a:lnTo>
                  <a:pt x="6172" y="1295"/>
                </a:lnTo>
                <a:lnTo>
                  <a:pt x="6174" y="977"/>
                </a:lnTo>
                <a:lnTo>
                  <a:pt x="6175" y="1118"/>
                </a:lnTo>
                <a:lnTo>
                  <a:pt x="6176" y="870"/>
                </a:lnTo>
                <a:lnTo>
                  <a:pt x="6177" y="776"/>
                </a:lnTo>
                <a:lnTo>
                  <a:pt x="6178" y="850"/>
                </a:lnTo>
                <a:lnTo>
                  <a:pt x="6179" y="999"/>
                </a:lnTo>
                <a:lnTo>
                  <a:pt x="6180" y="833"/>
                </a:lnTo>
                <a:lnTo>
                  <a:pt x="6181" y="1029"/>
                </a:lnTo>
                <a:lnTo>
                  <a:pt x="6184" y="1464"/>
                </a:lnTo>
                <a:lnTo>
                  <a:pt x="6185" y="1228"/>
                </a:lnTo>
                <a:lnTo>
                  <a:pt x="6186" y="1012"/>
                </a:lnTo>
                <a:lnTo>
                  <a:pt x="6187" y="895"/>
                </a:lnTo>
                <a:lnTo>
                  <a:pt x="6188" y="1230"/>
                </a:lnTo>
                <a:lnTo>
                  <a:pt x="6189" y="1080"/>
                </a:lnTo>
                <a:lnTo>
                  <a:pt x="6190" y="1054"/>
                </a:lnTo>
                <a:lnTo>
                  <a:pt x="6191" y="1250"/>
                </a:lnTo>
                <a:lnTo>
                  <a:pt x="6193" y="792"/>
                </a:lnTo>
                <a:lnTo>
                  <a:pt x="6194" y="1116"/>
                </a:lnTo>
                <a:lnTo>
                  <a:pt x="6196" y="800"/>
                </a:lnTo>
                <a:lnTo>
                  <a:pt x="6197" y="655"/>
                </a:lnTo>
                <a:lnTo>
                  <a:pt x="6198" y="1034"/>
                </a:lnTo>
                <a:lnTo>
                  <a:pt x="6199" y="1093"/>
                </a:lnTo>
                <a:lnTo>
                  <a:pt x="6200" y="1009"/>
                </a:lnTo>
                <a:lnTo>
                  <a:pt x="6202" y="1273"/>
                </a:lnTo>
                <a:lnTo>
                  <a:pt x="6203" y="976"/>
                </a:lnTo>
                <a:lnTo>
                  <a:pt x="6204" y="1325"/>
                </a:lnTo>
                <a:lnTo>
                  <a:pt x="6205" y="935"/>
                </a:lnTo>
                <a:lnTo>
                  <a:pt x="6207" y="839"/>
                </a:lnTo>
                <a:lnTo>
                  <a:pt x="6208" y="673"/>
                </a:lnTo>
                <a:lnTo>
                  <a:pt x="6209" y="1276"/>
                </a:lnTo>
                <a:lnTo>
                  <a:pt x="6210" y="727"/>
                </a:lnTo>
                <a:lnTo>
                  <a:pt x="6212" y="713"/>
                </a:lnTo>
                <a:lnTo>
                  <a:pt x="6213" y="1218"/>
                </a:lnTo>
                <a:lnTo>
                  <a:pt x="6214" y="1166"/>
                </a:lnTo>
                <a:lnTo>
                  <a:pt x="6215" y="1197"/>
                </a:lnTo>
                <a:lnTo>
                  <a:pt x="6216" y="903"/>
                </a:lnTo>
                <a:lnTo>
                  <a:pt x="6218" y="948"/>
                </a:lnTo>
                <a:lnTo>
                  <a:pt x="6219" y="665"/>
                </a:lnTo>
                <a:lnTo>
                  <a:pt x="6220" y="613"/>
                </a:lnTo>
                <a:lnTo>
                  <a:pt x="6222" y="655"/>
                </a:lnTo>
                <a:lnTo>
                  <a:pt x="6223" y="948"/>
                </a:lnTo>
                <a:lnTo>
                  <a:pt x="6224" y="946"/>
                </a:lnTo>
                <a:lnTo>
                  <a:pt x="6225" y="554"/>
                </a:lnTo>
                <a:lnTo>
                  <a:pt x="6226" y="1017"/>
                </a:lnTo>
                <a:lnTo>
                  <a:pt x="6227" y="739"/>
                </a:lnTo>
                <a:lnTo>
                  <a:pt x="6229" y="996"/>
                </a:lnTo>
                <a:lnTo>
                  <a:pt x="6231" y="980"/>
                </a:lnTo>
                <a:lnTo>
                  <a:pt x="6232" y="1239"/>
                </a:lnTo>
                <a:lnTo>
                  <a:pt x="6233" y="976"/>
                </a:lnTo>
                <a:lnTo>
                  <a:pt x="6234" y="1159"/>
                </a:lnTo>
                <a:lnTo>
                  <a:pt x="6235" y="997"/>
                </a:lnTo>
                <a:lnTo>
                  <a:pt x="6236" y="1331"/>
                </a:lnTo>
                <a:lnTo>
                  <a:pt x="6237" y="992"/>
                </a:lnTo>
                <a:lnTo>
                  <a:pt x="6238" y="1098"/>
                </a:lnTo>
                <a:lnTo>
                  <a:pt x="6241" y="843"/>
                </a:lnTo>
                <a:lnTo>
                  <a:pt x="6242" y="752"/>
                </a:lnTo>
                <a:lnTo>
                  <a:pt x="6243" y="576"/>
                </a:lnTo>
                <a:lnTo>
                  <a:pt x="6244" y="1257"/>
                </a:lnTo>
                <a:lnTo>
                  <a:pt x="6245" y="840"/>
                </a:lnTo>
                <a:lnTo>
                  <a:pt x="6246" y="669"/>
                </a:lnTo>
                <a:lnTo>
                  <a:pt x="6247" y="874"/>
                </a:lnTo>
                <a:lnTo>
                  <a:pt x="6248" y="1192"/>
                </a:lnTo>
                <a:lnTo>
                  <a:pt x="6249" y="895"/>
                </a:lnTo>
                <a:lnTo>
                  <a:pt x="6251" y="1403"/>
                </a:lnTo>
                <a:lnTo>
                  <a:pt x="6253" y="778"/>
                </a:lnTo>
                <a:lnTo>
                  <a:pt x="6254" y="351"/>
                </a:lnTo>
                <a:lnTo>
                  <a:pt x="6255" y="1044"/>
                </a:lnTo>
                <a:lnTo>
                  <a:pt x="6256" y="826"/>
                </a:lnTo>
                <a:lnTo>
                  <a:pt x="6257" y="802"/>
                </a:lnTo>
                <a:lnTo>
                  <a:pt x="6258" y="1346"/>
                </a:lnTo>
                <a:lnTo>
                  <a:pt x="6260" y="1435"/>
                </a:lnTo>
                <a:lnTo>
                  <a:pt x="6261" y="1744"/>
                </a:lnTo>
                <a:lnTo>
                  <a:pt x="6262" y="1065"/>
                </a:lnTo>
                <a:lnTo>
                  <a:pt x="6264" y="1150"/>
                </a:lnTo>
                <a:lnTo>
                  <a:pt x="6265" y="1172"/>
                </a:lnTo>
                <a:lnTo>
                  <a:pt x="6266" y="1137"/>
                </a:lnTo>
                <a:lnTo>
                  <a:pt x="6267" y="905"/>
                </a:lnTo>
                <a:lnTo>
                  <a:pt x="6268" y="1493"/>
                </a:lnTo>
                <a:lnTo>
                  <a:pt x="6270" y="859"/>
                </a:lnTo>
                <a:lnTo>
                  <a:pt x="6271" y="931"/>
                </a:lnTo>
                <a:lnTo>
                  <a:pt x="6272" y="1010"/>
                </a:lnTo>
                <a:lnTo>
                  <a:pt x="6273" y="1479"/>
                </a:lnTo>
                <a:lnTo>
                  <a:pt x="6275" y="687"/>
                </a:lnTo>
                <a:lnTo>
                  <a:pt x="6276" y="1081"/>
                </a:lnTo>
                <a:lnTo>
                  <a:pt x="6277" y="1165"/>
                </a:lnTo>
                <a:lnTo>
                  <a:pt x="6278" y="1269"/>
                </a:lnTo>
                <a:lnTo>
                  <a:pt x="6280" y="1303"/>
                </a:lnTo>
                <a:lnTo>
                  <a:pt x="6281" y="979"/>
                </a:lnTo>
                <a:lnTo>
                  <a:pt x="6282" y="1129"/>
                </a:lnTo>
                <a:lnTo>
                  <a:pt x="6283" y="1383"/>
                </a:lnTo>
                <a:lnTo>
                  <a:pt x="6284" y="950"/>
                </a:lnTo>
                <a:lnTo>
                  <a:pt x="6286" y="999"/>
                </a:lnTo>
                <a:lnTo>
                  <a:pt x="6287" y="1050"/>
                </a:lnTo>
                <a:lnTo>
                  <a:pt x="6289" y="1399"/>
                </a:lnTo>
                <a:lnTo>
                  <a:pt x="6290" y="1191"/>
                </a:lnTo>
                <a:lnTo>
                  <a:pt x="6291" y="1080"/>
                </a:lnTo>
                <a:lnTo>
                  <a:pt x="6292" y="785"/>
                </a:lnTo>
                <a:lnTo>
                  <a:pt x="6293" y="1333"/>
                </a:lnTo>
                <a:lnTo>
                  <a:pt x="6294" y="723"/>
                </a:lnTo>
                <a:lnTo>
                  <a:pt x="6295" y="883"/>
                </a:lnTo>
                <a:lnTo>
                  <a:pt x="6297" y="1148"/>
                </a:lnTo>
                <a:lnTo>
                  <a:pt x="6299" y="720"/>
                </a:lnTo>
                <a:lnTo>
                  <a:pt x="6300" y="937"/>
                </a:lnTo>
                <a:lnTo>
                  <a:pt x="6301" y="918"/>
                </a:lnTo>
                <a:lnTo>
                  <a:pt x="6302" y="964"/>
                </a:lnTo>
                <a:lnTo>
                  <a:pt x="6303" y="795"/>
                </a:lnTo>
                <a:lnTo>
                  <a:pt x="6304" y="1072"/>
                </a:lnTo>
                <a:lnTo>
                  <a:pt x="6305" y="981"/>
                </a:lnTo>
                <a:lnTo>
                  <a:pt x="6306" y="819"/>
                </a:lnTo>
                <a:lnTo>
                  <a:pt x="6309" y="857"/>
                </a:lnTo>
                <a:lnTo>
                  <a:pt x="6310" y="1465"/>
                </a:lnTo>
                <a:lnTo>
                  <a:pt x="6311" y="848"/>
                </a:lnTo>
                <a:lnTo>
                  <a:pt x="6312" y="1088"/>
                </a:lnTo>
                <a:lnTo>
                  <a:pt x="6313" y="1267"/>
                </a:lnTo>
                <a:lnTo>
                  <a:pt x="6314" y="1141"/>
                </a:lnTo>
                <a:lnTo>
                  <a:pt x="6315" y="1233"/>
                </a:lnTo>
                <a:lnTo>
                  <a:pt x="6316" y="1023"/>
                </a:lnTo>
                <a:lnTo>
                  <a:pt x="6318" y="1111"/>
                </a:lnTo>
                <a:lnTo>
                  <a:pt x="6319" y="1334"/>
                </a:lnTo>
                <a:lnTo>
                  <a:pt x="6321" y="916"/>
                </a:lnTo>
                <a:lnTo>
                  <a:pt x="6322" y="1146"/>
                </a:lnTo>
                <a:lnTo>
                  <a:pt x="6323" y="738"/>
                </a:lnTo>
                <a:lnTo>
                  <a:pt x="6324" y="762"/>
                </a:lnTo>
                <a:lnTo>
                  <a:pt x="6325" y="774"/>
                </a:lnTo>
                <a:lnTo>
                  <a:pt x="6326" y="1360"/>
                </a:lnTo>
                <a:lnTo>
                  <a:pt x="6328" y="1204"/>
                </a:lnTo>
                <a:lnTo>
                  <a:pt x="6329" y="961"/>
                </a:lnTo>
                <a:lnTo>
                  <a:pt x="6330" y="841"/>
                </a:lnTo>
                <a:lnTo>
                  <a:pt x="6332" y="1429"/>
                </a:lnTo>
                <a:lnTo>
                  <a:pt x="6333" y="586"/>
                </a:lnTo>
                <a:lnTo>
                  <a:pt x="6334" y="1146"/>
                </a:lnTo>
                <a:lnTo>
                  <a:pt x="6335" y="1503"/>
                </a:lnTo>
                <a:lnTo>
                  <a:pt x="6336" y="1120"/>
                </a:lnTo>
                <a:lnTo>
                  <a:pt x="6338" y="1219"/>
                </a:lnTo>
                <a:lnTo>
                  <a:pt x="6339" y="1826"/>
                </a:lnTo>
                <a:lnTo>
                  <a:pt x="6340" y="652"/>
                </a:lnTo>
                <a:lnTo>
                  <a:pt x="6341" y="494"/>
                </a:lnTo>
                <a:lnTo>
                  <a:pt x="6343" y="704"/>
                </a:lnTo>
                <a:lnTo>
                  <a:pt x="6344" y="1158"/>
                </a:lnTo>
                <a:lnTo>
                  <a:pt x="6345" y="1316"/>
                </a:lnTo>
                <a:lnTo>
                  <a:pt x="6347" y="1060"/>
                </a:lnTo>
                <a:lnTo>
                  <a:pt x="6348" y="1354"/>
                </a:lnTo>
                <a:lnTo>
                  <a:pt x="6349" y="933"/>
                </a:lnTo>
                <a:lnTo>
                  <a:pt x="6350" y="723"/>
                </a:lnTo>
                <a:lnTo>
                  <a:pt x="6351" y="594"/>
                </a:lnTo>
                <a:lnTo>
                  <a:pt x="6352" y="668"/>
                </a:lnTo>
                <a:lnTo>
                  <a:pt x="6354" y="1516"/>
                </a:lnTo>
                <a:lnTo>
                  <a:pt x="6355" y="847"/>
                </a:lnTo>
                <a:lnTo>
                  <a:pt x="6357" y="892"/>
                </a:lnTo>
                <a:lnTo>
                  <a:pt x="6358" y="809"/>
                </a:lnTo>
                <a:lnTo>
                  <a:pt x="6359" y="1319"/>
                </a:lnTo>
                <a:lnTo>
                  <a:pt x="6360" y="1185"/>
                </a:lnTo>
                <a:lnTo>
                  <a:pt x="6361" y="1080"/>
                </a:lnTo>
                <a:lnTo>
                  <a:pt x="6362" y="1098"/>
                </a:lnTo>
                <a:lnTo>
                  <a:pt x="6363" y="1005"/>
                </a:lnTo>
                <a:lnTo>
                  <a:pt x="6365" y="973"/>
                </a:lnTo>
                <a:lnTo>
                  <a:pt x="6367" y="1188"/>
                </a:lnTo>
                <a:lnTo>
                  <a:pt x="6368" y="845"/>
                </a:lnTo>
                <a:lnTo>
                  <a:pt x="6369" y="1609"/>
                </a:lnTo>
                <a:lnTo>
                  <a:pt x="6370" y="1331"/>
                </a:lnTo>
                <a:lnTo>
                  <a:pt x="6371" y="741"/>
                </a:lnTo>
                <a:lnTo>
                  <a:pt x="6372" y="1160"/>
                </a:lnTo>
                <a:lnTo>
                  <a:pt x="6373" y="1619"/>
                </a:lnTo>
                <a:lnTo>
                  <a:pt x="6374" y="681"/>
                </a:lnTo>
                <a:lnTo>
                  <a:pt x="6376" y="826"/>
                </a:lnTo>
                <a:lnTo>
                  <a:pt x="6378" y="1207"/>
                </a:lnTo>
                <a:lnTo>
                  <a:pt x="6379" y="1146"/>
                </a:lnTo>
                <a:lnTo>
                  <a:pt x="6380" y="834"/>
                </a:lnTo>
                <a:lnTo>
                  <a:pt x="6380" y="8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987480" y="259884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871560" y="3157560"/>
            <a:ext cx="175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6648480" y="259884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6532560" y="3157560"/>
            <a:ext cx="1755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6421320" y="413532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Ruido de 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246480" y="41353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Filtro pasab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F3C-5829-4A6F-BFBA-A3CAA64C1B53}" type="slidenum">
              <a:t>89</a:t>
            </a:fld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4200" y="172656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señales físicas, entre ellas las señales acústicas, so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emp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tinu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, están definidas en todo instante de tiemp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357-9AC7-487F-B5EE-BC0BDCCBEFFE}" type="slidenum">
              <a:t>9</a:t>
            </a:fld>
          </a:p>
        </p:txBody>
      </p:sp>
    </p:spTree>
  </p:cSld>
  <p:transition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medida que el ancho de banda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duc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 onda se va pareciendo a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e modulada en amplit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277-222B-402A-ABF6-CE525B51437E}" type="slidenum">
              <a:t>90</a:t>
            </a:fld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"/>
          <p:cNvGrpSpPr/>
          <p:nvPr/>
        </p:nvGrpSpPr>
        <p:grpSpPr>
          <a:xfrm>
            <a:off x="1482840" y="1092240"/>
            <a:ext cx="6217200" cy="4758480"/>
            <a:chOff x="1482840" y="1092240"/>
            <a:chExt cx="6217200" cy="4758480"/>
          </a:xfrm>
        </p:grpSpPr>
        <p:sp>
          <p:nvSpPr>
            <p:cNvPr id="2511" name=""/>
            <p:cNvSpPr/>
            <p:nvPr/>
          </p:nvSpPr>
          <p:spPr>
            <a:xfrm>
              <a:off x="2052000" y="2921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854720" y="27147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891440" y="1092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573440" y="3146400"/>
              <a:ext cx="41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(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 rot="16200000">
              <a:off x="1389240" y="1877400"/>
              <a:ext cx="4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14840" y="2922480"/>
              <a:ext cx="33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299360" y="2922480"/>
              <a:ext cx="33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281400" y="2922480"/>
              <a:ext cx="33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956200" y="2922480"/>
              <a:ext cx="33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558880" y="292248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900600" y="2922480"/>
              <a:ext cx="42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241960" y="2922480"/>
              <a:ext cx="4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583320" y="2922480"/>
              <a:ext cx="4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09880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77020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44016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11156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78296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45472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12468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79608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467480" y="280512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0988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23344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3670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5020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6352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7702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9034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0384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1719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30660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4401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5751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7101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8433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9765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1115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2465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3815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5147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6483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7829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91796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0515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1865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3197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4547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5897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7214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85612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9896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1246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2596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3928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5278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6628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7960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9310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0642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19784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33284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467480" y="280512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097000" y="1171440"/>
              <a:ext cx="5372280" cy="1625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877400" y="191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764000" y="2319480"/>
              <a:ext cx="28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770480" y="15048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2026800" y="28004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2026800" y="239400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2026800" y="198756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2026800" y="157968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>
              <a:off x="2026800" y="1171440"/>
              <a:ext cx="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098800" y="1268280"/>
              <a:ext cx="5371920" cy="1457280"/>
            </a:xfrm>
            <a:custGeom>
              <a:avLst/>
              <a:gdLst/>
              <a:ahLst/>
              <a:rect l="l" t="t" r="r" b="b"/>
              <a:pathLst>
                <a:path w="5107" h="1619">
                  <a:moveTo>
                    <a:pt x="0" y="1013"/>
                  </a:moveTo>
                  <a:lnTo>
                    <a:pt x="3" y="1025"/>
                  </a:lnTo>
                  <a:lnTo>
                    <a:pt x="6" y="1031"/>
                  </a:lnTo>
                  <a:lnTo>
                    <a:pt x="9" y="1035"/>
                  </a:lnTo>
                  <a:lnTo>
                    <a:pt x="11" y="1035"/>
                  </a:lnTo>
                  <a:lnTo>
                    <a:pt x="15" y="1030"/>
                  </a:lnTo>
                  <a:lnTo>
                    <a:pt x="18" y="1021"/>
                  </a:lnTo>
                  <a:lnTo>
                    <a:pt x="20" y="1009"/>
                  </a:lnTo>
                  <a:lnTo>
                    <a:pt x="24" y="992"/>
                  </a:lnTo>
                  <a:lnTo>
                    <a:pt x="26" y="973"/>
                  </a:lnTo>
                  <a:lnTo>
                    <a:pt x="29" y="950"/>
                  </a:lnTo>
                  <a:lnTo>
                    <a:pt x="32" y="924"/>
                  </a:lnTo>
                  <a:lnTo>
                    <a:pt x="35" y="896"/>
                  </a:lnTo>
                  <a:lnTo>
                    <a:pt x="38" y="865"/>
                  </a:lnTo>
                  <a:lnTo>
                    <a:pt x="40" y="834"/>
                  </a:lnTo>
                  <a:lnTo>
                    <a:pt x="44" y="802"/>
                  </a:lnTo>
                  <a:lnTo>
                    <a:pt x="47" y="768"/>
                  </a:lnTo>
                  <a:lnTo>
                    <a:pt x="49" y="736"/>
                  </a:lnTo>
                  <a:lnTo>
                    <a:pt x="53" y="704"/>
                  </a:lnTo>
                  <a:lnTo>
                    <a:pt x="55" y="673"/>
                  </a:lnTo>
                  <a:lnTo>
                    <a:pt x="58" y="645"/>
                  </a:lnTo>
                  <a:lnTo>
                    <a:pt x="61" y="618"/>
                  </a:lnTo>
                  <a:lnTo>
                    <a:pt x="64" y="595"/>
                  </a:lnTo>
                  <a:lnTo>
                    <a:pt x="67" y="575"/>
                  </a:lnTo>
                  <a:lnTo>
                    <a:pt x="69" y="558"/>
                  </a:lnTo>
                  <a:lnTo>
                    <a:pt x="73" y="547"/>
                  </a:lnTo>
                  <a:lnTo>
                    <a:pt x="76" y="539"/>
                  </a:lnTo>
                  <a:lnTo>
                    <a:pt x="78" y="536"/>
                  </a:lnTo>
                  <a:lnTo>
                    <a:pt x="82" y="537"/>
                  </a:lnTo>
                  <a:lnTo>
                    <a:pt x="84" y="543"/>
                  </a:lnTo>
                  <a:lnTo>
                    <a:pt x="87" y="553"/>
                  </a:lnTo>
                  <a:lnTo>
                    <a:pt x="90" y="569"/>
                  </a:lnTo>
                  <a:lnTo>
                    <a:pt x="93" y="589"/>
                  </a:lnTo>
                  <a:lnTo>
                    <a:pt x="96" y="612"/>
                  </a:lnTo>
                  <a:lnTo>
                    <a:pt x="98" y="639"/>
                  </a:lnTo>
                  <a:lnTo>
                    <a:pt x="102" y="669"/>
                  </a:lnTo>
                  <a:lnTo>
                    <a:pt x="104" y="702"/>
                  </a:lnTo>
                  <a:lnTo>
                    <a:pt x="107" y="736"/>
                  </a:lnTo>
                  <a:lnTo>
                    <a:pt x="111" y="772"/>
                  </a:lnTo>
                  <a:lnTo>
                    <a:pt x="113" y="807"/>
                  </a:lnTo>
                  <a:lnTo>
                    <a:pt x="116" y="844"/>
                  </a:lnTo>
                  <a:lnTo>
                    <a:pt x="118" y="880"/>
                  </a:lnTo>
                  <a:lnTo>
                    <a:pt x="122" y="914"/>
                  </a:lnTo>
                  <a:lnTo>
                    <a:pt x="125" y="947"/>
                  </a:lnTo>
                  <a:lnTo>
                    <a:pt x="127" y="977"/>
                  </a:lnTo>
                  <a:lnTo>
                    <a:pt x="131" y="1003"/>
                  </a:lnTo>
                  <a:lnTo>
                    <a:pt x="133" y="1027"/>
                  </a:lnTo>
                  <a:lnTo>
                    <a:pt x="136" y="1046"/>
                  </a:lnTo>
                  <a:lnTo>
                    <a:pt x="140" y="1060"/>
                  </a:lnTo>
                  <a:lnTo>
                    <a:pt x="142" y="1070"/>
                  </a:lnTo>
                  <a:lnTo>
                    <a:pt x="145" y="1075"/>
                  </a:lnTo>
                  <a:lnTo>
                    <a:pt x="147" y="1075"/>
                  </a:lnTo>
                  <a:lnTo>
                    <a:pt x="151" y="1069"/>
                  </a:lnTo>
                  <a:lnTo>
                    <a:pt x="154" y="1058"/>
                  </a:lnTo>
                  <a:lnTo>
                    <a:pt x="156" y="1043"/>
                  </a:lnTo>
                  <a:lnTo>
                    <a:pt x="160" y="1023"/>
                  </a:lnTo>
                  <a:lnTo>
                    <a:pt x="162" y="999"/>
                  </a:lnTo>
                  <a:lnTo>
                    <a:pt x="165" y="971"/>
                  </a:lnTo>
                  <a:lnTo>
                    <a:pt x="169" y="940"/>
                  </a:lnTo>
                  <a:lnTo>
                    <a:pt x="171" y="906"/>
                  </a:lnTo>
                  <a:lnTo>
                    <a:pt x="174" y="871"/>
                  </a:lnTo>
                  <a:lnTo>
                    <a:pt x="176" y="834"/>
                  </a:lnTo>
                  <a:lnTo>
                    <a:pt x="180" y="796"/>
                  </a:lnTo>
                  <a:lnTo>
                    <a:pt x="183" y="758"/>
                  </a:lnTo>
                  <a:lnTo>
                    <a:pt x="185" y="722"/>
                  </a:lnTo>
                  <a:lnTo>
                    <a:pt x="189" y="686"/>
                  </a:lnTo>
                  <a:lnTo>
                    <a:pt x="191" y="653"/>
                  </a:lnTo>
                  <a:lnTo>
                    <a:pt x="194" y="622"/>
                  </a:lnTo>
                  <a:lnTo>
                    <a:pt x="196" y="595"/>
                  </a:lnTo>
                  <a:lnTo>
                    <a:pt x="200" y="571"/>
                  </a:lnTo>
                  <a:lnTo>
                    <a:pt x="203" y="552"/>
                  </a:lnTo>
                  <a:lnTo>
                    <a:pt x="205" y="538"/>
                  </a:lnTo>
                  <a:lnTo>
                    <a:pt x="209" y="529"/>
                  </a:lnTo>
                  <a:lnTo>
                    <a:pt x="211" y="524"/>
                  </a:lnTo>
                  <a:lnTo>
                    <a:pt x="214" y="526"/>
                  </a:lnTo>
                  <a:lnTo>
                    <a:pt x="218" y="531"/>
                  </a:lnTo>
                  <a:lnTo>
                    <a:pt x="220" y="542"/>
                  </a:lnTo>
                  <a:lnTo>
                    <a:pt x="223" y="558"/>
                  </a:lnTo>
                  <a:lnTo>
                    <a:pt x="225" y="578"/>
                  </a:lnTo>
                  <a:lnTo>
                    <a:pt x="229" y="602"/>
                  </a:lnTo>
                  <a:lnTo>
                    <a:pt x="232" y="629"/>
                  </a:lnTo>
                  <a:lnTo>
                    <a:pt x="234" y="660"/>
                  </a:lnTo>
                  <a:lnTo>
                    <a:pt x="238" y="694"/>
                  </a:lnTo>
                  <a:lnTo>
                    <a:pt x="240" y="728"/>
                  </a:lnTo>
                  <a:lnTo>
                    <a:pt x="243" y="764"/>
                  </a:lnTo>
                  <a:lnTo>
                    <a:pt x="247" y="801"/>
                  </a:lnTo>
                  <a:lnTo>
                    <a:pt x="249" y="836"/>
                  </a:lnTo>
                  <a:lnTo>
                    <a:pt x="252" y="871"/>
                  </a:lnTo>
                  <a:lnTo>
                    <a:pt x="254" y="904"/>
                  </a:lnTo>
                  <a:lnTo>
                    <a:pt x="258" y="935"/>
                  </a:lnTo>
                  <a:lnTo>
                    <a:pt x="261" y="963"/>
                  </a:lnTo>
                  <a:lnTo>
                    <a:pt x="263" y="988"/>
                  </a:lnTo>
                  <a:lnTo>
                    <a:pt x="267" y="1009"/>
                  </a:lnTo>
                  <a:lnTo>
                    <a:pt x="269" y="1025"/>
                  </a:lnTo>
                  <a:lnTo>
                    <a:pt x="272" y="1037"/>
                  </a:lnTo>
                  <a:lnTo>
                    <a:pt x="276" y="1045"/>
                  </a:lnTo>
                  <a:lnTo>
                    <a:pt x="278" y="1047"/>
                  </a:lnTo>
                  <a:lnTo>
                    <a:pt x="281" y="1045"/>
                  </a:lnTo>
                  <a:lnTo>
                    <a:pt x="283" y="1038"/>
                  </a:lnTo>
                  <a:lnTo>
                    <a:pt x="287" y="1027"/>
                  </a:lnTo>
                  <a:lnTo>
                    <a:pt x="289" y="1011"/>
                  </a:lnTo>
                  <a:lnTo>
                    <a:pt x="292" y="991"/>
                  </a:lnTo>
                  <a:lnTo>
                    <a:pt x="296" y="969"/>
                  </a:lnTo>
                  <a:lnTo>
                    <a:pt x="298" y="943"/>
                  </a:lnTo>
                  <a:lnTo>
                    <a:pt x="301" y="914"/>
                  </a:lnTo>
                  <a:lnTo>
                    <a:pt x="304" y="884"/>
                  </a:lnTo>
                  <a:lnTo>
                    <a:pt x="307" y="853"/>
                  </a:lnTo>
                  <a:lnTo>
                    <a:pt x="310" y="822"/>
                  </a:lnTo>
                  <a:lnTo>
                    <a:pt x="312" y="791"/>
                  </a:lnTo>
                  <a:lnTo>
                    <a:pt x="316" y="759"/>
                  </a:lnTo>
                  <a:lnTo>
                    <a:pt x="318" y="729"/>
                  </a:lnTo>
                  <a:lnTo>
                    <a:pt x="321" y="703"/>
                  </a:lnTo>
                  <a:lnTo>
                    <a:pt x="325" y="677"/>
                  </a:lnTo>
                  <a:lnTo>
                    <a:pt x="327" y="655"/>
                  </a:lnTo>
                  <a:lnTo>
                    <a:pt x="330" y="635"/>
                  </a:lnTo>
                  <a:lnTo>
                    <a:pt x="333" y="619"/>
                  </a:lnTo>
                  <a:lnTo>
                    <a:pt x="336" y="607"/>
                  </a:lnTo>
                  <a:lnTo>
                    <a:pt x="339" y="599"/>
                  </a:lnTo>
                  <a:lnTo>
                    <a:pt x="341" y="596"/>
                  </a:lnTo>
                  <a:lnTo>
                    <a:pt x="345" y="595"/>
                  </a:lnTo>
                  <a:lnTo>
                    <a:pt x="347" y="599"/>
                  </a:lnTo>
                  <a:lnTo>
                    <a:pt x="350" y="607"/>
                  </a:lnTo>
                  <a:lnTo>
                    <a:pt x="354" y="618"/>
                  </a:lnTo>
                  <a:lnTo>
                    <a:pt x="356" y="632"/>
                  </a:lnTo>
                  <a:lnTo>
                    <a:pt x="359" y="649"/>
                  </a:lnTo>
                  <a:lnTo>
                    <a:pt x="362" y="669"/>
                  </a:lnTo>
                  <a:lnTo>
                    <a:pt x="365" y="690"/>
                  </a:lnTo>
                  <a:lnTo>
                    <a:pt x="368" y="714"/>
                  </a:lnTo>
                  <a:lnTo>
                    <a:pt x="370" y="737"/>
                  </a:lnTo>
                  <a:lnTo>
                    <a:pt x="374" y="762"/>
                  </a:lnTo>
                  <a:lnTo>
                    <a:pt x="376" y="786"/>
                  </a:lnTo>
                  <a:lnTo>
                    <a:pt x="379" y="811"/>
                  </a:lnTo>
                  <a:lnTo>
                    <a:pt x="382" y="833"/>
                  </a:lnTo>
                  <a:lnTo>
                    <a:pt x="385" y="855"/>
                  </a:lnTo>
                  <a:lnTo>
                    <a:pt x="388" y="874"/>
                  </a:lnTo>
                  <a:lnTo>
                    <a:pt x="391" y="892"/>
                  </a:lnTo>
                  <a:lnTo>
                    <a:pt x="394" y="906"/>
                  </a:lnTo>
                  <a:lnTo>
                    <a:pt x="396" y="919"/>
                  </a:lnTo>
                  <a:lnTo>
                    <a:pt x="399" y="928"/>
                  </a:lnTo>
                  <a:lnTo>
                    <a:pt x="403" y="934"/>
                  </a:lnTo>
                  <a:lnTo>
                    <a:pt x="405" y="938"/>
                  </a:lnTo>
                  <a:lnTo>
                    <a:pt x="408" y="939"/>
                  </a:lnTo>
                  <a:lnTo>
                    <a:pt x="411" y="935"/>
                  </a:lnTo>
                  <a:lnTo>
                    <a:pt x="414" y="931"/>
                  </a:lnTo>
                  <a:lnTo>
                    <a:pt x="417" y="923"/>
                  </a:lnTo>
                  <a:lnTo>
                    <a:pt x="420" y="913"/>
                  </a:lnTo>
                  <a:lnTo>
                    <a:pt x="423" y="902"/>
                  </a:lnTo>
                  <a:lnTo>
                    <a:pt x="425" y="889"/>
                  </a:lnTo>
                  <a:lnTo>
                    <a:pt x="428" y="874"/>
                  </a:lnTo>
                  <a:lnTo>
                    <a:pt x="432" y="860"/>
                  </a:lnTo>
                  <a:lnTo>
                    <a:pt x="434" y="844"/>
                  </a:lnTo>
                  <a:lnTo>
                    <a:pt x="437" y="827"/>
                  </a:lnTo>
                  <a:lnTo>
                    <a:pt x="440" y="813"/>
                  </a:lnTo>
                  <a:lnTo>
                    <a:pt x="443" y="797"/>
                  </a:lnTo>
                  <a:lnTo>
                    <a:pt x="446" y="784"/>
                  </a:lnTo>
                  <a:lnTo>
                    <a:pt x="449" y="771"/>
                  </a:lnTo>
                  <a:lnTo>
                    <a:pt x="452" y="759"/>
                  </a:lnTo>
                  <a:lnTo>
                    <a:pt x="454" y="751"/>
                  </a:lnTo>
                  <a:lnTo>
                    <a:pt x="458" y="743"/>
                  </a:lnTo>
                  <a:lnTo>
                    <a:pt x="460" y="736"/>
                  </a:lnTo>
                  <a:lnTo>
                    <a:pt x="463" y="732"/>
                  </a:lnTo>
                  <a:lnTo>
                    <a:pt x="466" y="729"/>
                  </a:lnTo>
                  <a:lnTo>
                    <a:pt x="469" y="729"/>
                  </a:lnTo>
                  <a:lnTo>
                    <a:pt x="472" y="730"/>
                  </a:lnTo>
                  <a:lnTo>
                    <a:pt x="474" y="734"/>
                  </a:lnTo>
                  <a:lnTo>
                    <a:pt x="478" y="737"/>
                  </a:lnTo>
                  <a:lnTo>
                    <a:pt x="481" y="743"/>
                  </a:lnTo>
                  <a:lnTo>
                    <a:pt x="483" y="749"/>
                  </a:lnTo>
                  <a:lnTo>
                    <a:pt x="487" y="756"/>
                  </a:lnTo>
                  <a:lnTo>
                    <a:pt x="489" y="764"/>
                  </a:lnTo>
                  <a:lnTo>
                    <a:pt x="492" y="771"/>
                  </a:lnTo>
                  <a:lnTo>
                    <a:pt x="495" y="778"/>
                  </a:lnTo>
                  <a:lnTo>
                    <a:pt x="498" y="785"/>
                  </a:lnTo>
                  <a:lnTo>
                    <a:pt x="501" y="792"/>
                  </a:lnTo>
                  <a:lnTo>
                    <a:pt x="503" y="797"/>
                  </a:lnTo>
                  <a:lnTo>
                    <a:pt x="507" y="802"/>
                  </a:lnTo>
                  <a:lnTo>
                    <a:pt x="510" y="806"/>
                  </a:lnTo>
                  <a:lnTo>
                    <a:pt x="512" y="808"/>
                  </a:lnTo>
                  <a:lnTo>
                    <a:pt x="516" y="810"/>
                  </a:lnTo>
                  <a:lnTo>
                    <a:pt x="518" y="810"/>
                  </a:lnTo>
                  <a:lnTo>
                    <a:pt x="521" y="808"/>
                  </a:lnTo>
                  <a:lnTo>
                    <a:pt x="524" y="807"/>
                  </a:lnTo>
                  <a:lnTo>
                    <a:pt x="527" y="804"/>
                  </a:lnTo>
                  <a:lnTo>
                    <a:pt x="530" y="800"/>
                  </a:lnTo>
                  <a:lnTo>
                    <a:pt x="532" y="795"/>
                  </a:lnTo>
                  <a:lnTo>
                    <a:pt x="536" y="791"/>
                  </a:lnTo>
                  <a:lnTo>
                    <a:pt x="539" y="785"/>
                  </a:lnTo>
                  <a:lnTo>
                    <a:pt x="541" y="779"/>
                  </a:lnTo>
                  <a:lnTo>
                    <a:pt x="545" y="775"/>
                  </a:lnTo>
                  <a:lnTo>
                    <a:pt x="547" y="769"/>
                  </a:lnTo>
                  <a:lnTo>
                    <a:pt x="550" y="766"/>
                  </a:lnTo>
                  <a:lnTo>
                    <a:pt x="552" y="763"/>
                  </a:lnTo>
                  <a:lnTo>
                    <a:pt x="556" y="762"/>
                  </a:lnTo>
                  <a:lnTo>
                    <a:pt x="559" y="761"/>
                  </a:lnTo>
                  <a:lnTo>
                    <a:pt x="561" y="761"/>
                  </a:lnTo>
                  <a:lnTo>
                    <a:pt x="565" y="763"/>
                  </a:lnTo>
                  <a:lnTo>
                    <a:pt x="567" y="767"/>
                  </a:lnTo>
                  <a:lnTo>
                    <a:pt x="570" y="772"/>
                  </a:lnTo>
                  <a:lnTo>
                    <a:pt x="574" y="778"/>
                  </a:lnTo>
                  <a:lnTo>
                    <a:pt x="576" y="786"/>
                  </a:lnTo>
                  <a:lnTo>
                    <a:pt x="579" y="795"/>
                  </a:lnTo>
                  <a:lnTo>
                    <a:pt x="581" y="805"/>
                  </a:lnTo>
                  <a:lnTo>
                    <a:pt x="585" y="816"/>
                  </a:lnTo>
                  <a:lnTo>
                    <a:pt x="588" y="827"/>
                  </a:lnTo>
                  <a:lnTo>
                    <a:pt x="590" y="840"/>
                  </a:lnTo>
                  <a:lnTo>
                    <a:pt x="594" y="851"/>
                  </a:lnTo>
                  <a:lnTo>
                    <a:pt x="596" y="862"/>
                  </a:lnTo>
                  <a:lnTo>
                    <a:pt x="599" y="873"/>
                  </a:lnTo>
                  <a:lnTo>
                    <a:pt x="603" y="883"/>
                  </a:lnTo>
                  <a:lnTo>
                    <a:pt x="605" y="891"/>
                  </a:lnTo>
                  <a:lnTo>
                    <a:pt x="608" y="899"/>
                  </a:lnTo>
                  <a:lnTo>
                    <a:pt x="610" y="903"/>
                  </a:lnTo>
                  <a:lnTo>
                    <a:pt x="614" y="906"/>
                  </a:lnTo>
                  <a:lnTo>
                    <a:pt x="617" y="908"/>
                  </a:lnTo>
                  <a:lnTo>
                    <a:pt x="619" y="906"/>
                  </a:lnTo>
                  <a:lnTo>
                    <a:pt x="623" y="903"/>
                  </a:lnTo>
                  <a:lnTo>
                    <a:pt x="625" y="896"/>
                  </a:lnTo>
                  <a:lnTo>
                    <a:pt x="628" y="888"/>
                  </a:lnTo>
                  <a:lnTo>
                    <a:pt x="632" y="876"/>
                  </a:lnTo>
                  <a:lnTo>
                    <a:pt x="634" y="863"/>
                  </a:lnTo>
                  <a:lnTo>
                    <a:pt x="637" y="847"/>
                  </a:lnTo>
                  <a:lnTo>
                    <a:pt x="639" y="831"/>
                  </a:lnTo>
                  <a:lnTo>
                    <a:pt x="643" y="812"/>
                  </a:lnTo>
                  <a:lnTo>
                    <a:pt x="645" y="792"/>
                  </a:lnTo>
                  <a:lnTo>
                    <a:pt x="648" y="771"/>
                  </a:lnTo>
                  <a:lnTo>
                    <a:pt x="652" y="749"/>
                  </a:lnTo>
                  <a:lnTo>
                    <a:pt x="654" y="729"/>
                  </a:lnTo>
                  <a:lnTo>
                    <a:pt x="657" y="708"/>
                  </a:lnTo>
                  <a:lnTo>
                    <a:pt x="659" y="689"/>
                  </a:lnTo>
                  <a:lnTo>
                    <a:pt x="663" y="671"/>
                  </a:lnTo>
                  <a:lnTo>
                    <a:pt x="666" y="655"/>
                  </a:lnTo>
                  <a:lnTo>
                    <a:pt x="668" y="641"/>
                  </a:lnTo>
                  <a:lnTo>
                    <a:pt x="672" y="630"/>
                  </a:lnTo>
                  <a:lnTo>
                    <a:pt x="674" y="621"/>
                  </a:lnTo>
                  <a:lnTo>
                    <a:pt x="677" y="617"/>
                  </a:lnTo>
                  <a:lnTo>
                    <a:pt x="681" y="615"/>
                  </a:lnTo>
                  <a:lnTo>
                    <a:pt x="683" y="617"/>
                  </a:lnTo>
                  <a:lnTo>
                    <a:pt x="686" y="622"/>
                  </a:lnTo>
                  <a:lnTo>
                    <a:pt x="688" y="631"/>
                  </a:lnTo>
                  <a:lnTo>
                    <a:pt x="692" y="644"/>
                  </a:lnTo>
                  <a:lnTo>
                    <a:pt x="695" y="660"/>
                  </a:lnTo>
                  <a:lnTo>
                    <a:pt x="697" y="679"/>
                  </a:lnTo>
                  <a:lnTo>
                    <a:pt x="701" y="702"/>
                  </a:lnTo>
                  <a:lnTo>
                    <a:pt x="703" y="726"/>
                  </a:lnTo>
                  <a:lnTo>
                    <a:pt x="706" y="753"/>
                  </a:lnTo>
                  <a:lnTo>
                    <a:pt x="710" y="781"/>
                  </a:lnTo>
                  <a:lnTo>
                    <a:pt x="712" y="811"/>
                  </a:lnTo>
                  <a:lnTo>
                    <a:pt x="715" y="841"/>
                  </a:lnTo>
                  <a:lnTo>
                    <a:pt x="717" y="871"/>
                  </a:lnTo>
                  <a:lnTo>
                    <a:pt x="721" y="900"/>
                  </a:lnTo>
                  <a:lnTo>
                    <a:pt x="724" y="928"/>
                  </a:lnTo>
                  <a:lnTo>
                    <a:pt x="726" y="953"/>
                  </a:lnTo>
                  <a:lnTo>
                    <a:pt x="730" y="978"/>
                  </a:lnTo>
                  <a:lnTo>
                    <a:pt x="732" y="999"/>
                  </a:lnTo>
                  <a:lnTo>
                    <a:pt x="735" y="1017"/>
                  </a:lnTo>
                  <a:lnTo>
                    <a:pt x="738" y="1030"/>
                  </a:lnTo>
                  <a:lnTo>
                    <a:pt x="741" y="1040"/>
                  </a:lnTo>
                  <a:lnTo>
                    <a:pt x="744" y="1045"/>
                  </a:lnTo>
                  <a:lnTo>
                    <a:pt x="746" y="1046"/>
                  </a:lnTo>
                  <a:lnTo>
                    <a:pt x="750" y="1042"/>
                  </a:lnTo>
                  <a:lnTo>
                    <a:pt x="752" y="1033"/>
                  </a:lnTo>
                  <a:lnTo>
                    <a:pt x="755" y="1020"/>
                  </a:lnTo>
                  <a:lnTo>
                    <a:pt x="759" y="1002"/>
                  </a:lnTo>
                  <a:lnTo>
                    <a:pt x="761" y="980"/>
                  </a:lnTo>
                  <a:lnTo>
                    <a:pt x="764" y="954"/>
                  </a:lnTo>
                  <a:lnTo>
                    <a:pt x="767" y="925"/>
                  </a:lnTo>
                  <a:lnTo>
                    <a:pt x="770" y="893"/>
                  </a:lnTo>
                  <a:lnTo>
                    <a:pt x="773" y="859"/>
                  </a:lnTo>
                  <a:lnTo>
                    <a:pt x="775" y="823"/>
                  </a:lnTo>
                  <a:lnTo>
                    <a:pt x="779" y="785"/>
                  </a:lnTo>
                  <a:lnTo>
                    <a:pt x="781" y="747"/>
                  </a:lnTo>
                  <a:lnTo>
                    <a:pt x="784" y="710"/>
                  </a:lnTo>
                  <a:lnTo>
                    <a:pt x="788" y="674"/>
                  </a:lnTo>
                  <a:lnTo>
                    <a:pt x="790" y="639"/>
                  </a:lnTo>
                  <a:lnTo>
                    <a:pt x="793" y="607"/>
                  </a:lnTo>
                  <a:lnTo>
                    <a:pt x="796" y="578"/>
                  </a:lnTo>
                  <a:lnTo>
                    <a:pt x="799" y="552"/>
                  </a:lnTo>
                  <a:lnTo>
                    <a:pt x="802" y="531"/>
                  </a:lnTo>
                  <a:lnTo>
                    <a:pt x="804" y="513"/>
                  </a:lnTo>
                  <a:lnTo>
                    <a:pt x="808" y="502"/>
                  </a:lnTo>
                  <a:lnTo>
                    <a:pt x="810" y="495"/>
                  </a:lnTo>
                  <a:lnTo>
                    <a:pt x="813" y="494"/>
                  </a:lnTo>
                  <a:lnTo>
                    <a:pt x="817" y="500"/>
                  </a:lnTo>
                  <a:lnTo>
                    <a:pt x="819" y="510"/>
                  </a:lnTo>
                  <a:lnTo>
                    <a:pt x="822" y="526"/>
                  </a:lnTo>
                  <a:lnTo>
                    <a:pt x="825" y="547"/>
                  </a:lnTo>
                  <a:lnTo>
                    <a:pt x="828" y="572"/>
                  </a:lnTo>
                  <a:lnTo>
                    <a:pt x="830" y="602"/>
                  </a:lnTo>
                  <a:lnTo>
                    <a:pt x="833" y="637"/>
                  </a:lnTo>
                  <a:lnTo>
                    <a:pt x="837" y="675"/>
                  </a:lnTo>
                  <a:lnTo>
                    <a:pt x="839" y="715"/>
                  </a:lnTo>
                  <a:lnTo>
                    <a:pt x="842" y="758"/>
                  </a:lnTo>
                  <a:lnTo>
                    <a:pt x="845" y="802"/>
                  </a:lnTo>
                  <a:lnTo>
                    <a:pt x="848" y="846"/>
                  </a:lnTo>
                  <a:lnTo>
                    <a:pt x="851" y="890"/>
                  </a:lnTo>
                  <a:lnTo>
                    <a:pt x="854" y="932"/>
                  </a:lnTo>
                  <a:lnTo>
                    <a:pt x="857" y="973"/>
                  </a:lnTo>
                  <a:lnTo>
                    <a:pt x="859" y="1011"/>
                  </a:lnTo>
                  <a:lnTo>
                    <a:pt x="862" y="1046"/>
                  </a:lnTo>
                  <a:lnTo>
                    <a:pt x="866" y="1077"/>
                  </a:lnTo>
                  <a:lnTo>
                    <a:pt x="868" y="1103"/>
                  </a:lnTo>
                  <a:lnTo>
                    <a:pt x="871" y="1123"/>
                  </a:lnTo>
                  <a:lnTo>
                    <a:pt x="874" y="1137"/>
                  </a:lnTo>
                  <a:lnTo>
                    <a:pt x="877" y="1146"/>
                  </a:lnTo>
                  <a:lnTo>
                    <a:pt x="880" y="1148"/>
                  </a:lnTo>
                  <a:lnTo>
                    <a:pt x="883" y="1144"/>
                  </a:lnTo>
                  <a:lnTo>
                    <a:pt x="886" y="1134"/>
                  </a:lnTo>
                  <a:lnTo>
                    <a:pt x="888" y="1117"/>
                  </a:lnTo>
                  <a:lnTo>
                    <a:pt x="891" y="1095"/>
                  </a:lnTo>
                  <a:lnTo>
                    <a:pt x="895" y="1067"/>
                  </a:lnTo>
                  <a:lnTo>
                    <a:pt x="897" y="1033"/>
                  </a:lnTo>
                  <a:lnTo>
                    <a:pt x="900" y="996"/>
                  </a:lnTo>
                  <a:lnTo>
                    <a:pt x="903" y="953"/>
                  </a:lnTo>
                  <a:lnTo>
                    <a:pt x="906" y="908"/>
                  </a:lnTo>
                  <a:lnTo>
                    <a:pt x="908" y="861"/>
                  </a:lnTo>
                  <a:lnTo>
                    <a:pt x="912" y="811"/>
                  </a:lnTo>
                  <a:lnTo>
                    <a:pt x="915" y="762"/>
                  </a:lnTo>
                  <a:lnTo>
                    <a:pt x="917" y="712"/>
                  </a:lnTo>
                  <a:lnTo>
                    <a:pt x="920" y="663"/>
                  </a:lnTo>
                  <a:lnTo>
                    <a:pt x="923" y="617"/>
                  </a:lnTo>
                  <a:lnTo>
                    <a:pt x="926" y="572"/>
                  </a:lnTo>
                  <a:lnTo>
                    <a:pt x="929" y="532"/>
                  </a:lnTo>
                  <a:lnTo>
                    <a:pt x="932" y="497"/>
                  </a:lnTo>
                  <a:lnTo>
                    <a:pt x="935" y="466"/>
                  </a:lnTo>
                  <a:lnTo>
                    <a:pt x="937" y="442"/>
                  </a:lnTo>
                  <a:lnTo>
                    <a:pt x="941" y="423"/>
                  </a:lnTo>
                  <a:lnTo>
                    <a:pt x="944" y="412"/>
                  </a:lnTo>
                  <a:lnTo>
                    <a:pt x="946" y="406"/>
                  </a:lnTo>
                  <a:lnTo>
                    <a:pt x="949" y="409"/>
                  </a:lnTo>
                  <a:lnTo>
                    <a:pt x="952" y="419"/>
                  </a:lnTo>
                  <a:lnTo>
                    <a:pt x="955" y="434"/>
                  </a:lnTo>
                  <a:lnTo>
                    <a:pt x="958" y="458"/>
                  </a:lnTo>
                  <a:lnTo>
                    <a:pt x="961" y="487"/>
                  </a:lnTo>
                  <a:lnTo>
                    <a:pt x="964" y="522"/>
                  </a:lnTo>
                  <a:lnTo>
                    <a:pt x="966" y="562"/>
                  </a:lnTo>
                  <a:lnTo>
                    <a:pt x="970" y="607"/>
                  </a:lnTo>
                  <a:lnTo>
                    <a:pt x="973" y="656"/>
                  </a:lnTo>
                  <a:lnTo>
                    <a:pt x="975" y="708"/>
                  </a:lnTo>
                  <a:lnTo>
                    <a:pt x="978" y="762"/>
                  </a:lnTo>
                  <a:lnTo>
                    <a:pt x="981" y="817"/>
                  </a:lnTo>
                  <a:lnTo>
                    <a:pt x="984" y="872"/>
                  </a:lnTo>
                  <a:lnTo>
                    <a:pt x="987" y="927"/>
                  </a:lnTo>
                  <a:lnTo>
                    <a:pt x="990" y="979"/>
                  </a:lnTo>
                  <a:lnTo>
                    <a:pt x="993" y="1028"/>
                  </a:lnTo>
                  <a:lnTo>
                    <a:pt x="995" y="1074"/>
                  </a:lnTo>
                  <a:lnTo>
                    <a:pt x="999" y="1115"/>
                  </a:lnTo>
                  <a:lnTo>
                    <a:pt x="1001" y="1149"/>
                  </a:lnTo>
                  <a:lnTo>
                    <a:pt x="1004" y="1179"/>
                  </a:lnTo>
                  <a:lnTo>
                    <a:pt x="1007" y="1202"/>
                  </a:lnTo>
                  <a:lnTo>
                    <a:pt x="1010" y="1217"/>
                  </a:lnTo>
                  <a:lnTo>
                    <a:pt x="1013" y="1225"/>
                  </a:lnTo>
                  <a:lnTo>
                    <a:pt x="1015" y="1225"/>
                  </a:lnTo>
                  <a:lnTo>
                    <a:pt x="1019" y="1217"/>
                  </a:lnTo>
                  <a:lnTo>
                    <a:pt x="1022" y="1203"/>
                  </a:lnTo>
                  <a:lnTo>
                    <a:pt x="1024" y="1179"/>
                  </a:lnTo>
                  <a:lnTo>
                    <a:pt x="1028" y="1149"/>
                  </a:lnTo>
                  <a:lnTo>
                    <a:pt x="1030" y="1114"/>
                  </a:lnTo>
                  <a:lnTo>
                    <a:pt x="1033" y="1070"/>
                  </a:lnTo>
                  <a:lnTo>
                    <a:pt x="1036" y="1023"/>
                  </a:lnTo>
                  <a:lnTo>
                    <a:pt x="1039" y="971"/>
                  </a:lnTo>
                  <a:lnTo>
                    <a:pt x="1042" y="915"/>
                  </a:lnTo>
                  <a:lnTo>
                    <a:pt x="1044" y="856"/>
                  </a:lnTo>
                  <a:lnTo>
                    <a:pt x="1048" y="797"/>
                  </a:lnTo>
                  <a:lnTo>
                    <a:pt x="1051" y="737"/>
                  </a:lnTo>
                  <a:lnTo>
                    <a:pt x="1053" y="678"/>
                  </a:lnTo>
                  <a:lnTo>
                    <a:pt x="1057" y="620"/>
                  </a:lnTo>
                  <a:lnTo>
                    <a:pt x="1059" y="566"/>
                  </a:lnTo>
                  <a:lnTo>
                    <a:pt x="1062" y="514"/>
                  </a:lnTo>
                  <a:lnTo>
                    <a:pt x="1065" y="469"/>
                  </a:lnTo>
                  <a:lnTo>
                    <a:pt x="1068" y="429"/>
                  </a:lnTo>
                  <a:lnTo>
                    <a:pt x="1071" y="395"/>
                  </a:lnTo>
                  <a:lnTo>
                    <a:pt x="1073" y="368"/>
                  </a:lnTo>
                  <a:lnTo>
                    <a:pt x="1077" y="351"/>
                  </a:lnTo>
                  <a:lnTo>
                    <a:pt x="1080" y="340"/>
                  </a:lnTo>
                  <a:lnTo>
                    <a:pt x="1082" y="337"/>
                  </a:lnTo>
                  <a:lnTo>
                    <a:pt x="1086" y="344"/>
                  </a:lnTo>
                  <a:lnTo>
                    <a:pt x="1088" y="358"/>
                  </a:lnTo>
                  <a:lnTo>
                    <a:pt x="1091" y="382"/>
                  </a:lnTo>
                  <a:lnTo>
                    <a:pt x="1093" y="412"/>
                  </a:lnTo>
                  <a:lnTo>
                    <a:pt x="1097" y="450"/>
                  </a:lnTo>
                  <a:lnTo>
                    <a:pt x="1100" y="494"/>
                  </a:lnTo>
                  <a:lnTo>
                    <a:pt x="1102" y="544"/>
                  </a:lnTo>
                  <a:lnTo>
                    <a:pt x="1106" y="600"/>
                  </a:lnTo>
                  <a:lnTo>
                    <a:pt x="1108" y="659"/>
                  </a:lnTo>
                  <a:lnTo>
                    <a:pt x="1111" y="722"/>
                  </a:lnTo>
                  <a:lnTo>
                    <a:pt x="1115" y="785"/>
                  </a:lnTo>
                  <a:lnTo>
                    <a:pt x="1117" y="850"/>
                  </a:lnTo>
                  <a:lnTo>
                    <a:pt x="1120" y="913"/>
                  </a:lnTo>
                  <a:lnTo>
                    <a:pt x="1122" y="974"/>
                  </a:lnTo>
                  <a:lnTo>
                    <a:pt x="1126" y="1033"/>
                  </a:lnTo>
                  <a:lnTo>
                    <a:pt x="1129" y="1088"/>
                  </a:lnTo>
                  <a:lnTo>
                    <a:pt x="1131" y="1138"/>
                  </a:lnTo>
                  <a:lnTo>
                    <a:pt x="1135" y="1182"/>
                  </a:lnTo>
                  <a:lnTo>
                    <a:pt x="1137" y="1217"/>
                  </a:lnTo>
                  <a:lnTo>
                    <a:pt x="1140" y="1246"/>
                  </a:lnTo>
                  <a:lnTo>
                    <a:pt x="1144" y="1267"/>
                  </a:lnTo>
                  <a:lnTo>
                    <a:pt x="1146" y="1279"/>
                  </a:lnTo>
                  <a:lnTo>
                    <a:pt x="1149" y="1282"/>
                  </a:lnTo>
                  <a:lnTo>
                    <a:pt x="1151" y="1276"/>
                  </a:lnTo>
                  <a:lnTo>
                    <a:pt x="1155" y="1261"/>
                  </a:lnTo>
                  <a:lnTo>
                    <a:pt x="1158" y="1237"/>
                  </a:lnTo>
                  <a:lnTo>
                    <a:pt x="1160" y="1206"/>
                  </a:lnTo>
                  <a:lnTo>
                    <a:pt x="1164" y="1166"/>
                  </a:lnTo>
                  <a:lnTo>
                    <a:pt x="1166" y="1119"/>
                  </a:lnTo>
                  <a:lnTo>
                    <a:pt x="1169" y="1067"/>
                  </a:lnTo>
                  <a:lnTo>
                    <a:pt x="1173" y="1009"/>
                  </a:lnTo>
                  <a:lnTo>
                    <a:pt x="1175" y="947"/>
                  </a:lnTo>
                  <a:lnTo>
                    <a:pt x="1178" y="882"/>
                  </a:lnTo>
                  <a:lnTo>
                    <a:pt x="1180" y="815"/>
                  </a:lnTo>
                  <a:lnTo>
                    <a:pt x="1184" y="748"/>
                  </a:lnTo>
                  <a:lnTo>
                    <a:pt x="1186" y="683"/>
                  </a:lnTo>
                  <a:lnTo>
                    <a:pt x="1189" y="618"/>
                  </a:lnTo>
                  <a:lnTo>
                    <a:pt x="1193" y="557"/>
                  </a:lnTo>
                  <a:lnTo>
                    <a:pt x="1195" y="500"/>
                  </a:lnTo>
                  <a:lnTo>
                    <a:pt x="1198" y="450"/>
                  </a:lnTo>
                  <a:lnTo>
                    <a:pt x="1200" y="405"/>
                  </a:lnTo>
                  <a:lnTo>
                    <a:pt x="1204" y="367"/>
                  </a:lnTo>
                  <a:lnTo>
                    <a:pt x="1207" y="338"/>
                  </a:lnTo>
                  <a:lnTo>
                    <a:pt x="1209" y="318"/>
                  </a:lnTo>
                  <a:lnTo>
                    <a:pt x="1213" y="306"/>
                  </a:lnTo>
                  <a:lnTo>
                    <a:pt x="1215" y="304"/>
                  </a:lnTo>
                  <a:lnTo>
                    <a:pt x="1218" y="312"/>
                  </a:lnTo>
                  <a:lnTo>
                    <a:pt x="1222" y="327"/>
                  </a:lnTo>
                  <a:lnTo>
                    <a:pt x="1224" y="353"/>
                  </a:lnTo>
                  <a:lnTo>
                    <a:pt x="1227" y="386"/>
                  </a:lnTo>
                  <a:lnTo>
                    <a:pt x="1229" y="428"/>
                  </a:lnTo>
                  <a:lnTo>
                    <a:pt x="1233" y="477"/>
                  </a:lnTo>
                  <a:lnTo>
                    <a:pt x="1236" y="531"/>
                  </a:lnTo>
                  <a:lnTo>
                    <a:pt x="1238" y="590"/>
                  </a:lnTo>
                  <a:lnTo>
                    <a:pt x="1242" y="654"/>
                  </a:lnTo>
                  <a:lnTo>
                    <a:pt x="1244" y="719"/>
                  </a:lnTo>
                  <a:lnTo>
                    <a:pt x="1247" y="787"/>
                  </a:lnTo>
                  <a:lnTo>
                    <a:pt x="1251" y="854"/>
                  </a:lnTo>
                  <a:lnTo>
                    <a:pt x="1253" y="921"/>
                  </a:lnTo>
                  <a:lnTo>
                    <a:pt x="1256" y="984"/>
                  </a:lnTo>
                  <a:lnTo>
                    <a:pt x="1258" y="1045"/>
                  </a:lnTo>
                  <a:lnTo>
                    <a:pt x="1262" y="1100"/>
                  </a:lnTo>
                  <a:lnTo>
                    <a:pt x="1265" y="1150"/>
                  </a:lnTo>
                  <a:lnTo>
                    <a:pt x="1267" y="1193"/>
                  </a:lnTo>
                  <a:lnTo>
                    <a:pt x="1271" y="1228"/>
                  </a:lnTo>
                  <a:lnTo>
                    <a:pt x="1273" y="1255"/>
                  </a:lnTo>
                  <a:lnTo>
                    <a:pt x="1276" y="1273"/>
                  </a:lnTo>
                  <a:lnTo>
                    <a:pt x="1279" y="1282"/>
                  </a:lnTo>
                  <a:lnTo>
                    <a:pt x="1282" y="1282"/>
                  </a:lnTo>
                  <a:lnTo>
                    <a:pt x="1285" y="1272"/>
                  </a:lnTo>
                  <a:lnTo>
                    <a:pt x="1287" y="1253"/>
                  </a:lnTo>
                  <a:lnTo>
                    <a:pt x="1291" y="1226"/>
                  </a:lnTo>
                  <a:lnTo>
                    <a:pt x="1293" y="1191"/>
                  </a:lnTo>
                  <a:lnTo>
                    <a:pt x="1296" y="1148"/>
                  </a:lnTo>
                  <a:lnTo>
                    <a:pt x="1300" y="1099"/>
                  </a:lnTo>
                  <a:lnTo>
                    <a:pt x="1302" y="1045"/>
                  </a:lnTo>
                  <a:lnTo>
                    <a:pt x="1305" y="984"/>
                  </a:lnTo>
                  <a:lnTo>
                    <a:pt x="1308" y="922"/>
                  </a:lnTo>
                  <a:lnTo>
                    <a:pt x="1311" y="857"/>
                  </a:lnTo>
                  <a:lnTo>
                    <a:pt x="1314" y="793"/>
                  </a:lnTo>
                  <a:lnTo>
                    <a:pt x="1316" y="727"/>
                  </a:lnTo>
                  <a:lnTo>
                    <a:pt x="1320" y="665"/>
                  </a:lnTo>
                  <a:lnTo>
                    <a:pt x="1322" y="605"/>
                  </a:lnTo>
                  <a:lnTo>
                    <a:pt x="1325" y="548"/>
                  </a:lnTo>
                  <a:lnTo>
                    <a:pt x="1329" y="497"/>
                  </a:lnTo>
                  <a:lnTo>
                    <a:pt x="1331" y="452"/>
                  </a:lnTo>
                  <a:lnTo>
                    <a:pt x="1334" y="414"/>
                  </a:lnTo>
                  <a:lnTo>
                    <a:pt x="1337" y="384"/>
                  </a:lnTo>
                  <a:lnTo>
                    <a:pt x="1340" y="362"/>
                  </a:lnTo>
                  <a:lnTo>
                    <a:pt x="1343" y="348"/>
                  </a:lnTo>
                  <a:lnTo>
                    <a:pt x="1345" y="344"/>
                  </a:lnTo>
                  <a:lnTo>
                    <a:pt x="1349" y="347"/>
                  </a:lnTo>
                  <a:lnTo>
                    <a:pt x="1351" y="361"/>
                  </a:lnTo>
                  <a:lnTo>
                    <a:pt x="1354" y="382"/>
                  </a:lnTo>
                  <a:lnTo>
                    <a:pt x="1357" y="411"/>
                  </a:lnTo>
                  <a:lnTo>
                    <a:pt x="1360" y="446"/>
                  </a:lnTo>
                  <a:lnTo>
                    <a:pt x="1363" y="490"/>
                  </a:lnTo>
                  <a:lnTo>
                    <a:pt x="1366" y="538"/>
                  </a:lnTo>
                  <a:lnTo>
                    <a:pt x="1369" y="590"/>
                  </a:lnTo>
                  <a:lnTo>
                    <a:pt x="1371" y="647"/>
                  </a:lnTo>
                  <a:lnTo>
                    <a:pt x="1374" y="705"/>
                  </a:lnTo>
                  <a:lnTo>
                    <a:pt x="1378" y="765"/>
                  </a:lnTo>
                  <a:lnTo>
                    <a:pt x="1380" y="825"/>
                  </a:lnTo>
                  <a:lnTo>
                    <a:pt x="1383" y="883"/>
                  </a:lnTo>
                  <a:lnTo>
                    <a:pt x="1386" y="940"/>
                  </a:lnTo>
                  <a:lnTo>
                    <a:pt x="1389" y="992"/>
                  </a:lnTo>
                  <a:lnTo>
                    <a:pt x="1392" y="1041"/>
                  </a:lnTo>
                  <a:lnTo>
                    <a:pt x="1395" y="1085"/>
                  </a:lnTo>
                  <a:lnTo>
                    <a:pt x="1398" y="1121"/>
                  </a:lnTo>
                  <a:lnTo>
                    <a:pt x="1400" y="1152"/>
                  </a:lnTo>
                  <a:lnTo>
                    <a:pt x="1403" y="1175"/>
                  </a:lnTo>
                  <a:lnTo>
                    <a:pt x="1407" y="1191"/>
                  </a:lnTo>
                  <a:lnTo>
                    <a:pt x="1409" y="1198"/>
                  </a:lnTo>
                  <a:lnTo>
                    <a:pt x="1412" y="1198"/>
                  </a:lnTo>
                  <a:lnTo>
                    <a:pt x="1415" y="1189"/>
                  </a:lnTo>
                  <a:lnTo>
                    <a:pt x="1418" y="1174"/>
                  </a:lnTo>
                  <a:lnTo>
                    <a:pt x="1421" y="1152"/>
                  </a:lnTo>
                  <a:lnTo>
                    <a:pt x="1424" y="1123"/>
                  </a:lnTo>
                  <a:lnTo>
                    <a:pt x="1427" y="1087"/>
                  </a:lnTo>
                  <a:lnTo>
                    <a:pt x="1429" y="1047"/>
                  </a:lnTo>
                  <a:lnTo>
                    <a:pt x="1432" y="1002"/>
                  </a:lnTo>
                  <a:lnTo>
                    <a:pt x="1436" y="954"/>
                  </a:lnTo>
                  <a:lnTo>
                    <a:pt x="1438" y="904"/>
                  </a:lnTo>
                  <a:lnTo>
                    <a:pt x="1441" y="853"/>
                  </a:lnTo>
                  <a:lnTo>
                    <a:pt x="1444" y="802"/>
                  </a:lnTo>
                  <a:lnTo>
                    <a:pt x="1447" y="752"/>
                  </a:lnTo>
                  <a:lnTo>
                    <a:pt x="1449" y="703"/>
                  </a:lnTo>
                  <a:lnTo>
                    <a:pt x="1453" y="657"/>
                  </a:lnTo>
                  <a:lnTo>
                    <a:pt x="1456" y="615"/>
                  </a:lnTo>
                  <a:lnTo>
                    <a:pt x="1458" y="576"/>
                  </a:lnTo>
                  <a:lnTo>
                    <a:pt x="1462" y="543"/>
                  </a:lnTo>
                  <a:lnTo>
                    <a:pt x="1464" y="516"/>
                  </a:lnTo>
                  <a:lnTo>
                    <a:pt x="1467" y="494"/>
                  </a:lnTo>
                  <a:lnTo>
                    <a:pt x="1470" y="480"/>
                  </a:lnTo>
                  <a:lnTo>
                    <a:pt x="1473" y="471"/>
                  </a:lnTo>
                  <a:lnTo>
                    <a:pt x="1476" y="470"/>
                  </a:lnTo>
                  <a:lnTo>
                    <a:pt x="1478" y="474"/>
                  </a:lnTo>
                  <a:lnTo>
                    <a:pt x="1482" y="485"/>
                  </a:lnTo>
                  <a:lnTo>
                    <a:pt x="1485" y="502"/>
                  </a:lnTo>
                  <a:lnTo>
                    <a:pt x="1487" y="524"/>
                  </a:lnTo>
                  <a:lnTo>
                    <a:pt x="1491" y="552"/>
                  </a:lnTo>
                  <a:lnTo>
                    <a:pt x="1493" y="583"/>
                  </a:lnTo>
                  <a:lnTo>
                    <a:pt x="1496" y="618"/>
                  </a:lnTo>
                  <a:lnTo>
                    <a:pt x="1499" y="656"/>
                  </a:lnTo>
                  <a:lnTo>
                    <a:pt x="1502" y="695"/>
                  </a:lnTo>
                  <a:lnTo>
                    <a:pt x="1505" y="735"/>
                  </a:lnTo>
                  <a:lnTo>
                    <a:pt x="1507" y="776"/>
                  </a:lnTo>
                  <a:lnTo>
                    <a:pt x="1511" y="816"/>
                  </a:lnTo>
                  <a:lnTo>
                    <a:pt x="1514" y="854"/>
                  </a:lnTo>
                  <a:lnTo>
                    <a:pt x="1516" y="890"/>
                  </a:lnTo>
                  <a:lnTo>
                    <a:pt x="1520" y="923"/>
                  </a:lnTo>
                  <a:lnTo>
                    <a:pt x="1522" y="953"/>
                  </a:lnTo>
                  <a:lnTo>
                    <a:pt x="1525" y="979"/>
                  </a:lnTo>
                  <a:lnTo>
                    <a:pt x="1528" y="1001"/>
                  </a:lnTo>
                  <a:lnTo>
                    <a:pt x="1531" y="1018"/>
                  </a:lnTo>
                  <a:lnTo>
                    <a:pt x="1534" y="1030"/>
                  </a:lnTo>
                  <a:lnTo>
                    <a:pt x="1536" y="1037"/>
                  </a:lnTo>
                  <a:lnTo>
                    <a:pt x="1540" y="1039"/>
                  </a:lnTo>
                  <a:lnTo>
                    <a:pt x="1542" y="1036"/>
                  </a:lnTo>
                  <a:lnTo>
                    <a:pt x="1545" y="1028"/>
                  </a:lnTo>
                  <a:lnTo>
                    <a:pt x="1549" y="1017"/>
                  </a:lnTo>
                  <a:lnTo>
                    <a:pt x="1551" y="1001"/>
                  </a:lnTo>
                  <a:lnTo>
                    <a:pt x="1554" y="981"/>
                  </a:lnTo>
                  <a:lnTo>
                    <a:pt x="1556" y="960"/>
                  </a:lnTo>
                  <a:lnTo>
                    <a:pt x="1560" y="935"/>
                  </a:lnTo>
                  <a:lnTo>
                    <a:pt x="1563" y="909"/>
                  </a:lnTo>
                  <a:lnTo>
                    <a:pt x="1565" y="881"/>
                  </a:lnTo>
                  <a:lnTo>
                    <a:pt x="1569" y="853"/>
                  </a:lnTo>
                  <a:lnTo>
                    <a:pt x="1571" y="825"/>
                  </a:lnTo>
                  <a:lnTo>
                    <a:pt x="1574" y="798"/>
                  </a:lnTo>
                  <a:lnTo>
                    <a:pt x="1578" y="773"/>
                  </a:lnTo>
                  <a:lnTo>
                    <a:pt x="1580" y="748"/>
                  </a:lnTo>
                  <a:lnTo>
                    <a:pt x="1583" y="726"/>
                  </a:lnTo>
                  <a:lnTo>
                    <a:pt x="1585" y="706"/>
                  </a:lnTo>
                  <a:lnTo>
                    <a:pt x="1589" y="689"/>
                  </a:lnTo>
                  <a:lnTo>
                    <a:pt x="1592" y="676"/>
                  </a:lnTo>
                  <a:lnTo>
                    <a:pt x="1594" y="665"/>
                  </a:lnTo>
                  <a:lnTo>
                    <a:pt x="1598" y="657"/>
                  </a:lnTo>
                  <a:lnTo>
                    <a:pt x="1600" y="654"/>
                  </a:lnTo>
                  <a:lnTo>
                    <a:pt x="1603" y="653"/>
                  </a:lnTo>
                  <a:lnTo>
                    <a:pt x="1607" y="655"/>
                  </a:lnTo>
                  <a:lnTo>
                    <a:pt x="1609" y="659"/>
                  </a:lnTo>
                  <a:lnTo>
                    <a:pt x="1612" y="667"/>
                  </a:lnTo>
                  <a:lnTo>
                    <a:pt x="1614" y="676"/>
                  </a:lnTo>
                  <a:lnTo>
                    <a:pt x="1618" y="687"/>
                  </a:lnTo>
                  <a:lnTo>
                    <a:pt x="1621" y="700"/>
                  </a:lnTo>
                  <a:lnTo>
                    <a:pt x="1623" y="715"/>
                  </a:lnTo>
                  <a:lnTo>
                    <a:pt x="1627" y="729"/>
                  </a:lnTo>
                  <a:lnTo>
                    <a:pt x="1629" y="744"/>
                  </a:lnTo>
                  <a:lnTo>
                    <a:pt x="1632" y="759"/>
                  </a:lnTo>
                  <a:lnTo>
                    <a:pt x="1634" y="774"/>
                  </a:lnTo>
                  <a:lnTo>
                    <a:pt x="1638" y="787"/>
                  </a:lnTo>
                  <a:lnTo>
                    <a:pt x="1641" y="801"/>
                  </a:lnTo>
                  <a:lnTo>
                    <a:pt x="1643" y="812"/>
                  </a:lnTo>
                  <a:lnTo>
                    <a:pt x="1647" y="822"/>
                  </a:lnTo>
                  <a:lnTo>
                    <a:pt x="1649" y="831"/>
                  </a:lnTo>
                  <a:lnTo>
                    <a:pt x="1652" y="837"/>
                  </a:lnTo>
                  <a:lnTo>
                    <a:pt x="1656" y="843"/>
                  </a:lnTo>
                  <a:lnTo>
                    <a:pt x="1658" y="846"/>
                  </a:lnTo>
                  <a:lnTo>
                    <a:pt x="1661" y="849"/>
                  </a:lnTo>
                  <a:lnTo>
                    <a:pt x="1663" y="850"/>
                  </a:lnTo>
                  <a:lnTo>
                    <a:pt x="1667" y="849"/>
                  </a:lnTo>
                  <a:lnTo>
                    <a:pt x="1670" y="847"/>
                  </a:lnTo>
                  <a:lnTo>
                    <a:pt x="1672" y="844"/>
                  </a:lnTo>
                  <a:lnTo>
                    <a:pt x="1676" y="841"/>
                  </a:lnTo>
                  <a:lnTo>
                    <a:pt x="1678" y="836"/>
                  </a:lnTo>
                  <a:lnTo>
                    <a:pt x="1681" y="833"/>
                  </a:lnTo>
                  <a:lnTo>
                    <a:pt x="1685" y="829"/>
                  </a:lnTo>
                  <a:lnTo>
                    <a:pt x="1687" y="824"/>
                  </a:lnTo>
                  <a:lnTo>
                    <a:pt x="1690" y="821"/>
                  </a:lnTo>
                  <a:lnTo>
                    <a:pt x="1692" y="817"/>
                  </a:lnTo>
                  <a:lnTo>
                    <a:pt x="1696" y="815"/>
                  </a:lnTo>
                  <a:lnTo>
                    <a:pt x="1699" y="814"/>
                  </a:lnTo>
                  <a:lnTo>
                    <a:pt x="1701" y="813"/>
                  </a:lnTo>
                  <a:lnTo>
                    <a:pt x="1705" y="813"/>
                  </a:lnTo>
                  <a:lnTo>
                    <a:pt x="1707" y="813"/>
                  </a:lnTo>
                  <a:lnTo>
                    <a:pt x="1710" y="815"/>
                  </a:lnTo>
                  <a:lnTo>
                    <a:pt x="1713" y="816"/>
                  </a:lnTo>
                  <a:lnTo>
                    <a:pt x="1716" y="820"/>
                  </a:lnTo>
                  <a:lnTo>
                    <a:pt x="1719" y="822"/>
                  </a:lnTo>
                  <a:lnTo>
                    <a:pt x="1721" y="825"/>
                  </a:lnTo>
                  <a:lnTo>
                    <a:pt x="1725" y="829"/>
                  </a:lnTo>
                  <a:lnTo>
                    <a:pt x="1727" y="831"/>
                  </a:lnTo>
                  <a:lnTo>
                    <a:pt x="1730" y="833"/>
                  </a:lnTo>
                  <a:lnTo>
                    <a:pt x="1734" y="835"/>
                  </a:lnTo>
                  <a:lnTo>
                    <a:pt x="1736" y="836"/>
                  </a:lnTo>
                  <a:lnTo>
                    <a:pt x="1739" y="836"/>
                  </a:lnTo>
                  <a:lnTo>
                    <a:pt x="1742" y="834"/>
                  </a:lnTo>
                  <a:lnTo>
                    <a:pt x="1745" y="832"/>
                  </a:lnTo>
                  <a:lnTo>
                    <a:pt x="1748" y="829"/>
                  </a:lnTo>
                  <a:lnTo>
                    <a:pt x="1750" y="823"/>
                  </a:lnTo>
                  <a:lnTo>
                    <a:pt x="1754" y="817"/>
                  </a:lnTo>
                  <a:lnTo>
                    <a:pt x="1756" y="810"/>
                  </a:lnTo>
                  <a:lnTo>
                    <a:pt x="1759" y="801"/>
                  </a:lnTo>
                  <a:lnTo>
                    <a:pt x="1763" y="791"/>
                  </a:lnTo>
                  <a:lnTo>
                    <a:pt x="1765" y="781"/>
                  </a:lnTo>
                  <a:lnTo>
                    <a:pt x="1768" y="769"/>
                  </a:lnTo>
                  <a:lnTo>
                    <a:pt x="1771" y="757"/>
                  </a:lnTo>
                  <a:lnTo>
                    <a:pt x="1774" y="746"/>
                  </a:lnTo>
                  <a:lnTo>
                    <a:pt x="1777" y="735"/>
                  </a:lnTo>
                  <a:lnTo>
                    <a:pt x="1779" y="725"/>
                  </a:lnTo>
                  <a:lnTo>
                    <a:pt x="1783" y="715"/>
                  </a:lnTo>
                  <a:lnTo>
                    <a:pt x="1785" y="707"/>
                  </a:lnTo>
                  <a:lnTo>
                    <a:pt x="1788" y="699"/>
                  </a:lnTo>
                  <a:lnTo>
                    <a:pt x="1792" y="695"/>
                  </a:lnTo>
                  <a:lnTo>
                    <a:pt x="1794" y="692"/>
                  </a:lnTo>
                  <a:lnTo>
                    <a:pt x="1797" y="690"/>
                  </a:lnTo>
                  <a:lnTo>
                    <a:pt x="1800" y="692"/>
                  </a:lnTo>
                  <a:lnTo>
                    <a:pt x="1803" y="695"/>
                  </a:lnTo>
                  <a:lnTo>
                    <a:pt x="1805" y="702"/>
                  </a:lnTo>
                  <a:lnTo>
                    <a:pt x="1808" y="709"/>
                  </a:lnTo>
                  <a:lnTo>
                    <a:pt x="1812" y="720"/>
                  </a:lnTo>
                  <a:lnTo>
                    <a:pt x="1814" y="733"/>
                  </a:lnTo>
                  <a:lnTo>
                    <a:pt x="1817" y="748"/>
                  </a:lnTo>
                  <a:lnTo>
                    <a:pt x="1820" y="764"/>
                  </a:lnTo>
                  <a:lnTo>
                    <a:pt x="1823" y="782"/>
                  </a:lnTo>
                  <a:lnTo>
                    <a:pt x="1826" y="801"/>
                  </a:lnTo>
                  <a:lnTo>
                    <a:pt x="1829" y="821"/>
                  </a:lnTo>
                  <a:lnTo>
                    <a:pt x="1832" y="840"/>
                  </a:lnTo>
                  <a:lnTo>
                    <a:pt x="1834" y="860"/>
                  </a:lnTo>
                  <a:lnTo>
                    <a:pt x="1837" y="879"/>
                  </a:lnTo>
                  <a:lnTo>
                    <a:pt x="1841" y="896"/>
                  </a:lnTo>
                  <a:lnTo>
                    <a:pt x="1843" y="912"/>
                  </a:lnTo>
                  <a:lnTo>
                    <a:pt x="1846" y="925"/>
                  </a:lnTo>
                  <a:lnTo>
                    <a:pt x="1849" y="938"/>
                  </a:lnTo>
                  <a:lnTo>
                    <a:pt x="1852" y="947"/>
                  </a:lnTo>
                  <a:lnTo>
                    <a:pt x="1855" y="952"/>
                  </a:lnTo>
                  <a:lnTo>
                    <a:pt x="1858" y="955"/>
                  </a:lnTo>
                  <a:lnTo>
                    <a:pt x="1861" y="955"/>
                  </a:lnTo>
                  <a:lnTo>
                    <a:pt x="1863" y="951"/>
                  </a:lnTo>
                  <a:lnTo>
                    <a:pt x="1866" y="944"/>
                  </a:lnTo>
                  <a:lnTo>
                    <a:pt x="1870" y="933"/>
                  </a:lnTo>
                  <a:lnTo>
                    <a:pt x="1872" y="920"/>
                  </a:lnTo>
                  <a:lnTo>
                    <a:pt x="1875" y="903"/>
                  </a:lnTo>
                  <a:lnTo>
                    <a:pt x="1878" y="884"/>
                  </a:lnTo>
                  <a:lnTo>
                    <a:pt x="1881" y="863"/>
                  </a:lnTo>
                  <a:lnTo>
                    <a:pt x="1884" y="840"/>
                  </a:lnTo>
                  <a:lnTo>
                    <a:pt x="1887" y="815"/>
                  </a:lnTo>
                  <a:lnTo>
                    <a:pt x="1890" y="791"/>
                  </a:lnTo>
                  <a:lnTo>
                    <a:pt x="1892" y="765"/>
                  </a:lnTo>
                  <a:lnTo>
                    <a:pt x="1895" y="741"/>
                  </a:lnTo>
                  <a:lnTo>
                    <a:pt x="1898" y="716"/>
                  </a:lnTo>
                  <a:lnTo>
                    <a:pt x="1901" y="694"/>
                  </a:lnTo>
                  <a:lnTo>
                    <a:pt x="1904" y="673"/>
                  </a:lnTo>
                  <a:lnTo>
                    <a:pt x="1907" y="655"/>
                  </a:lnTo>
                  <a:lnTo>
                    <a:pt x="1910" y="639"/>
                  </a:lnTo>
                  <a:lnTo>
                    <a:pt x="1912" y="627"/>
                  </a:lnTo>
                  <a:lnTo>
                    <a:pt x="1916" y="618"/>
                  </a:lnTo>
                  <a:lnTo>
                    <a:pt x="1919" y="614"/>
                  </a:lnTo>
                  <a:lnTo>
                    <a:pt x="1921" y="612"/>
                  </a:lnTo>
                  <a:lnTo>
                    <a:pt x="1924" y="616"/>
                  </a:lnTo>
                  <a:lnTo>
                    <a:pt x="1927" y="624"/>
                  </a:lnTo>
                  <a:lnTo>
                    <a:pt x="1930" y="634"/>
                  </a:lnTo>
                  <a:lnTo>
                    <a:pt x="1933" y="649"/>
                  </a:lnTo>
                  <a:lnTo>
                    <a:pt x="1936" y="667"/>
                  </a:lnTo>
                  <a:lnTo>
                    <a:pt x="1939" y="688"/>
                  </a:lnTo>
                  <a:lnTo>
                    <a:pt x="1941" y="712"/>
                  </a:lnTo>
                  <a:lnTo>
                    <a:pt x="1945" y="737"/>
                  </a:lnTo>
                  <a:lnTo>
                    <a:pt x="1948" y="764"/>
                  </a:lnTo>
                  <a:lnTo>
                    <a:pt x="1950" y="792"/>
                  </a:lnTo>
                  <a:lnTo>
                    <a:pt x="1953" y="820"/>
                  </a:lnTo>
                  <a:lnTo>
                    <a:pt x="1956" y="847"/>
                  </a:lnTo>
                  <a:lnTo>
                    <a:pt x="1959" y="874"/>
                  </a:lnTo>
                  <a:lnTo>
                    <a:pt x="1962" y="899"/>
                  </a:lnTo>
                  <a:lnTo>
                    <a:pt x="1965" y="922"/>
                  </a:lnTo>
                  <a:lnTo>
                    <a:pt x="1968" y="942"/>
                  </a:lnTo>
                  <a:lnTo>
                    <a:pt x="1970" y="960"/>
                  </a:lnTo>
                  <a:lnTo>
                    <a:pt x="1974" y="973"/>
                  </a:lnTo>
                  <a:lnTo>
                    <a:pt x="1977" y="982"/>
                  </a:lnTo>
                  <a:lnTo>
                    <a:pt x="1979" y="988"/>
                  </a:lnTo>
                  <a:lnTo>
                    <a:pt x="1982" y="990"/>
                  </a:lnTo>
                  <a:lnTo>
                    <a:pt x="1985" y="987"/>
                  </a:lnTo>
                  <a:lnTo>
                    <a:pt x="1988" y="980"/>
                  </a:lnTo>
                  <a:lnTo>
                    <a:pt x="1990" y="968"/>
                  </a:lnTo>
                  <a:lnTo>
                    <a:pt x="1994" y="953"/>
                  </a:lnTo>
                  <a:lnTo>
                    <a:pt x="1997" y="934"/>
                  </a:lnTo>
                  <a:lnTo>
                    <a:pt x="1999" y="913"/>
                  </a:lnTo>
                  <a:lnTo>
                    <a:pt x="2003" y="889"/>
                  </a:lnTo>
                  <a:lnTo>
                    <a:pt x="2005" y="863"/>
                  </a:lnTo>
                  <a:lnTo>
                    <a:pt x="2008" y="835"/>
                  </a:lnTo>
                  <a:lnTo>
                    <a:pt x="2011" y="807"/>
                  </a:lnTo>
                  <a:lnTo>
                    <a:pt x="2014" y="779"/>
                  </a:lnTo>
                  <a:lnTo>
                    <a:pt x="2017" y="752"/>
                  </a:lnTo>
                  <a:lnTo>
                    <a:pt x="2019" y="725"/>
                  </a:lnTo>
                  <a:lnTo>
                    <a:pt x="2023" y="700"/>
                  </a:lnTo>
                  <a:lnTo>
                    <a:pt x="2026" y="677"/>
                  </a:lnTo>
                  <a:lnTo>
                    <a:pt x="2028" y="658"/>
                  </a:lnTo>
                  <a:lnTo>
                    <a:pt x="2032" y="641"/>
                  </a:lnTo>
                  <a:lnTo>
                    <a:pt x="2034" y="629"/>
                  </a:lnTo>
                  <a:lnTo>
                    <a:pt x="2037" y="620"/>
                  </a:lnTo>
                  <a:lnTo>
                    <a:pt x="2040" y="616"/>
                  </a:lnTo>
                  <a:lnTo>
                    <a:pt x="2043" y="616"/>
                  </a:lnTo>
                  <a:lnTo>
                    <a:pt x="2046" y="620"/>
                  </a:lnTo>
                  <a:lnTo>
                    <a:pt x="2048" y="628"/>
                  </a:lnTo>
                  <a:lnTo>
                    <a:pt x="2052" y="640"/>
                  </a:lnTo>
                  <a:lnTo>
                    <a:pt x="2055" y="656"/>
                  </a:lnTo>
                  <a:lnTo>
                    <a:pt x="2057" y="675"/>
                  </a:lnTo>
                  <a:lnTo>
                    <a:pt x="2061" y="697"/>
                  </a:lnTo>
                  <a:lnTo>
                    <a:pt x="2063" y="720"/>
                  </a:lnTo>
                  <a:lnTo>
                    <a:pt x="2066" y="746"/>
                  </a:lnTo>
                  <a:lnTo>
                    <a:pt x="2069" y="773"/>
                  </a:lnTo>
                  <a:lnTo>
                    <a:pt x="2072" y="801"/>
                  </a:lnTo>
                  <a:lnTo>
                    <a:pt x="2075" y="827"/>
                  </a:lnTo>
                  <a:lnTo>
                    <a:pt x="2077" y="853"/>
                  </a:lnTo>
                  <a:lnTo>
                    <a:pt x="2081" y="878"/>
                  </a:lnTo>
                  <a:lnTo>
                    <a:pt x="2083" y="900"/>
                  </a:lnTo>
                  <a:lnTo>
                    <a:pt x="2086" y="920"/>
                  </a:lnTo>
                  <a:lnTo>
                    <a:pt x="2090" y="937"/>
                  </a:lnTo>
                  <a:lnTo>
                    <a:pt x="2092" y="949"/>
                  </a:lnTo>
                  <a:lnTo>
                    <a:pt x="2095" y="959"/>
                  </a:lnTo>
                  <a:lnTo>
                    <a:pt x="2097" y="963"/>
                  </a:lnTo>
                  <a:lnTo>
                    <a:pt x="2101" y="964"/>
                  </a:lnTo>
                  <a:lnTo>
                    <a:pt x="2104" y="962"/>
                  </a:lnTo>
                  <a:lnTo>
                    <a:pt x="2106" y="954"/>
                  </a:lnTo>
                  <a:lnTo>
                    <a:pt x="2110" y="943"/>
                  </a:lnTo>
                  <a:lnTo>
                    <a:pt x="2112" y="929"/>
                  </a:lnTo>
                  <a:lnTo>
                    <a:pt x="2115" y="911"/>
                  </a:lnTo>
                  <a:lnTo>
                    <a:pt x="2119" y="891"/>
                  </a:lnTo>
                  <a:lnTo>
                    <a:pt x="2121" y="869"/>
                  </a:lnTo>
                  <a:lnTo>
                    <a:pt x="2124" y="844"/>
                  </a:lnTo>
                  <a:lnTo>
                    <a:pt x="2126" y="818"/>
                  </a:lnTo>
                  <a:lnTo>
                    <a:pt x="2130" y="793"/>
                  </a:lnTo>
                  <a:lnTo>
                    <a:pt x="2133" y="767"/>
                  </a:lnTo>
                  <a:lnTo>
                    <a:pt x="2135" y="743"/>
                  </a:lnTo>
                  <a:lnTo>
                    <a:pt x="2139" y="719"/>
                  </a:lnTo>
                  <a:lnTo>
                    <a:pt x="2141" y="698"/>
                  </a:lnTo>
                  <a:lnTo>
                    <a:pt x="2144" y="680"/>
                  </a:lnTo>
                  <a:lnTo>
                    <a:pt x="2148" y="665"/>
                  </a:lnTo>
                  <a:lnTo>
                    <a:pt x="2150" y="654"/>
                  </a:lnTo>
                  <a:lnTo>
                    <a:pt x="2153" y="645"/>
                  </a:lnTo>
                  <a:lnTo>
                    <a:pt x="2155" y="641"/>
                  </a:lnTo>
                  <a:lnTo>
                    <a:pt x="2159" y="641"/>
                  </a:lnTo>
                  <a:lnTo>
                    <a:pt x="2161" y="645"/>
                  </a:lnTo>
                  <a:lnTo>
                    <a:pt x="2164" y="654"/>
                  </a:lnTo>
                  <a:lnTo>
                    <a:pt x="2168" y="665"/>
                  </a:lnTo>
                  <a:lnTo>
                    <a:pt x="2170" y="680"/>
                  </a:lnTo>
                  <a:lnTo>
                    <a:pt x="2173" y="699"/>
                  </a:lnTo>
                  <a:lnTo>
                    <a:pt x="2175" y="720"/>
                  </a:lnTo>
                  <a:lnTo>
                    <a:pt x="2179" y="743"/>
                  </a:lnTo>
                  <a:lnTo>
                    <a:pt x="2182" y="768"/>
                  </a:lnTo>
                  <a:lnTo>
                    <a:pt x="2184" y="793"/>
                  </a:lnTo>
                  <a:lnTo>
                    <a:pt x="2188" y="820"/>
                  </a:lnTo>
                  <a:lnTo>
                    <a:pt x="2190" y="844"/>
                  </a:lnTo>
                  <a:lnTo>
                    <a:pt x="2193" y="869"/>
                  </a:lnTo>
                  <a:lnTo>
                    <a:pt x="2197" y="891"/>
                  </a:lnTo>
                  <a:lnTo>
                    <a:pt x="2199" y="912"/>
                  </a:lnTo>
                  <a:lnTo>
                    <a:pt x="2202" y="929"/>
                  </a:lnTo>
                  <a:lnTo>
                    <a:pt x="2204" y="943"/>
                  </a:lnTo>
                  <a:lnTo>
                    <a:pt x="2208" y="953"/>
                  </a:lnTo>
                  <a:lnTo>
                    <a:pt x="2211" y="960"/>
                  </a:lnTo>
                  <a:lnTo>
                    <a:pt x="2213" y="962"/>
                  </a:lnTo>
                  <a:lnTo>
                    <a:pt x="2217" y="960"/>
                  </a:lnTo>
                  <a:lnTo>
                    <a:pt x="2219" y="953"/>
                  </a:lnTo>
                  <a:lnTo>
                    <a:pt x="2222" y="943"/>
                  </a:lnTo>
                  <a:lnTo>
                    <a:pt x="2226" y="929"/>
                  </a:lnTo>
                  <a:lnTo>
                    <a:pt x="2228" y="911"/>
                  </a:lnTo>
                  <a:lnTo>
                    <a:pt x="2231" y="890"/>
                  </a:lnTo>
                  <a:lnTo>
                    <a:pt x="2233" y="866"/>
                  </a:lnTo>
                  <a:lnTo>
                    <a:pt x="2237" y="841"/>
                  </a:lnTo>
                  <a:lnTo>
                    <a:pt x="2240" y="813"/>
                  </a:lnTo>
                  <a:lnTo>
                    <a:pt x="2242" y="785"/>
                  </a:lnTo>
                  <a:lnTo>
                    <a:pt x="2246" y="757"/>
                  </a:lnTo>
                  <a:lnTo>
                    <a:pt x="2248" y="730"/>
                  </a:lnTo>
                  <a:lnTo>
                    <a:pt x="2251" y="705"/>
                  </a:lnTo>
                  <a:lnTo>
                    <a:pt x="2254" y="680"/>
                  </a:lnTo>
                  <a:lnTo>
                    <a:pt x="2257" y="659"/>
                  </a:lnTo>
                  <a:lnTo>
                    <a:pt x="2260" y="641"/>
                  </a:lnTo>
                  <a:lnTo>
                    <a:pt x="2262" y="628"/>
                  </a:lnTo>
                  <a:lnTo>
                    <a:pt x="2266" y="617"/>
                  </a:lnTo>
                  <a:lnTo>
                    <a:pt x="2268" y="611"/>
                  </a:lnTo>
                  <a:lnTo>
                    <a:pt x="2271" y="610"/>
                  </a:lnTo>
                  <a:lnTo>
                    <a:pt x="2275" y="615"/>
                  </a:lnTo>
                  <a:lnTo>
                    <a:pt x="2277" y="622"/>
                  </a:lnTo>
                  <a:lnTo>
                    <a:pt x="2280" y="636"/>
                  </a:lnTo>
                  <a:lnTo>
                    <a:pt x="2283" y="653"/>
                  </a:lnTo>
                  <a:lnTo>
                    <a:pt x="2286" y="674"/>
                  </a:lnTo>
                  <a:lnTo>
                    <a:pt x="2289" y="698"/>
                  </a:lnTo>
                  <a:lnTo>
                    <a:pt x="2291" y="725"/>
                  </a:lnTo>
                  <a:lnTo>
                    <a:pt x="2295" y="755"/>
                  </a:lnTo>
                  <a:lnTo>
                    <a:pt x="2297" y="785"/>
                  </a:lnTo>
                  <a:lnTo>
                    <a:pt x="2300" y="817"/>
                  </a:lnTo>
                  <a:lnTo>
                    <a:pt x="2304" y="849"/>
                  </a:lnTo>
                  <a:lnTo>
                    <a:pt x="2306" y="880"/>
                  </a:lnTo>
                  <a:lnTo>
                    <a:pt x="2309" y="909"/>
                  </a:lnTo>
                  <a:lnTo>
                    <a:pt x="2312" y="937"/>
                  </a:lnTo>
                  <a:lnTo>
                    <a:pt x="2315" y="960"/>
                  </a:lnTo>
                  <a:lnTo>
                    <a:pt x="2318" y="981"/>
                  </a:lnTo>
                  <a:lnTo>
                    <a:pt x="2320" y="998"/>
                  </a:lnTo>
                  <a:lnTo>
                    <a:pt x="2324" y="1009"/>
                  </a:lnTo>
                  <a:lnTo>
                    <a:pt x="2326" y="1017"/>
                  </a:lnTo>
                  <a:lnTo>
                    <a:pt x="2329" y="1018"/>
                  </a:lnTo>
                  <a:lnTo>
                    <a:pt x="2333" y="1015"/>
                  </a:lnTo>
                  <a:lnTo>
                    <a:pt x="2335" y="1006"/>
                  </a:lnTo>
                  <a:lnTo>
                    <a:pt x="2338" y="992"/>
                  </a:lnTo>
                  <a:lnTo>
                    <a:pt x="2341" y="973"/>
                  </a:lnTo>
                  <a:lnTo>
                    <a:pt x="2344" y="950"/>
                  </a:lnTo>
                  <a:lnTo>
                    <a:pt x="2346" y="923"/>
                  </a:lnTo>
                  <a:lnTo>
                    <a:pt x="2349" y="893"/>
                  </a:lnTo>
                  <a:lnTo>
                    <a:pt x="2353" y="860"/>
                  </a:lnTo>
                  <a:lnTo>
                    <a:pt x="2355" y="825"/>
                  </a:lnTo>
                  <a:lnTo>
                    <a:pt x="2358" y="788"/>
                  </a:lnTo>
                  <a:lnTo>
                    <a:pt x="2361" y="753"/>
                  </a:lnTo>
                  <a:lnTo>
                    <a:pt x="2364" y="717"/>
                  </a:lnTo>
                  <a:lnTo>
                    <a:pt x="2367" y="683"/>
                  </a:lnTo>
                  <a:lnTo>
                    <a:pt x="2370" y="651"/>
                  </a:lnTo>
                  <a:lnTo>
                    <a:pt x="2373" y="622"/>
                  </a:lnTo>
                  <a:lnTo>
                    <a:pt x="2375" y="597"/>
                  </a:lnTo>
                  <a:lnTo>
                    <a:pt x="2378" y="577"/>
                  </a:lnTo>
                  <a:lnTo>
                    <a:pt x="2382" y="561"/>
                  </a:lnTo>
                  <a:lnTo>
                    <a:pt x="2384" y="550"/>
                  </a:lnTo>
                  <a:lnTo>
                    <a:pt x="2387" y="546"/>
                  </a:lnTo>
                  <a:lnTo>
                    <a:pt x="2390" y="547"/>
                  </a:lnTo>
                  <a:lnTo>
                    <a:pt x="2393" y="553"/>
                  </a:lnTo>
                  <a:lnTo>
                    <a:pt x="2396" y="567"/>
                  </a:lnTo>
                  <a:lnTo>
                    <a:pt x="2399" y="585"/>
                  </a:lnTo>
                  <a:lnTo>
                    <a:pt x="2402" y="608"/>
                  </a:lnTo>
                  <a:lnTo>
                    <a:pt x="2404" y="636"/>
                  </a:lnTo>
                  <a:lnTo>
                    <a:pt x="2407" y="668"/>
                  </a:lnTo>
                  <a:lnTo>
                    <a:pt x="2411" y="704"/>
                  </a:lnTo>
                  <a:lnTo>
                    <a:pt x="2413" y="741"/>
                  </a:lnTo>
                  <a:lnTo>
                    <a:pt x="2416" y="781"/>
                  </a:lnTo>
                  <a:lnTo>
                    <a:pt x="2419" y="821"/>
                  </a:lnTo>
                  <a:lnTo>
                    <a:pt x="2422" y="861"/>
                  </a:lnTo>
                  <a:lnTo>
                    <a:pt x="2425" y="900"/>
                  </a:lnTo>
                  <a:lnTo>
                    <a:pt x="2428" y="937"/>
                  </a:lnTo>
                  <a:lnTo>
                    <a:pt x="2431" y="970"/>
                  </a:lnTo>
                  <a:lnTo>
                    <a:pt x="2433" y="1001"/>
                  </a:lnTo>
                  <a:lnTo>
                    <a:pt x="2436" y="1027"/>
                  </a:lnTo>
                  <a:lnTo>
                    <a:pt x="2439" y="1048"/>
                  </a:lnTo>
                  <a:lnTo>
                    <a:pt x="2442" y="1062"/>
                  </a:lnTo>
                  <a:lnTo>
                    <a:pt x="2445" y="1072"/>
                  </a:lnTo>
                  <a:lnTo>
                    <a:pt x="2448" y="1075"/>
                  </a:lnTo>
                  <a:lnTo>
                    <a:pt x="2451" y="1072"/>
                  </a:lnTo>
                  <a:lnTo>
                    <a:pt x="2453" y="1062"/>
                  </a:lnTo>
                  <a:lnTo>
                    <a:pt x="2457" y="1047"/>
                  </a:lnTo>
                  <a:lnTo>
                    <a:pt x="2460" y="1026"/>
                  </a:lnTo>
                  <a:lnTo>
                    <a:pt x="2462" y="999"/>
                  </a:lnTo>
                  <a:lnTo>
                    <a:pt x="2466" y="968"/>
                  </a:lnTo>
                  <a:lnTo>
                    <a:pt x="2468" y="932"/>
                  </a:lnTo>
                  <a:lnTo>
                    <a:pt x="2471" y="893"/>
                  </a:lnTo>
                  <a:lnTo>
                    <a:pt x="2474" y="852"/>
                  </a:lnTo>
                  <a:lnTo>
                    <a:pt x="2477" y="810"/>
                  </a:lnTo>
                  <a:lnTo>
                    <a:pt x="2480" y="766"/>
                  </a:lnTo>
                  <a:lnTo>
                    <a:pt x="2482" y="724"/>
                  </a:lnTo>
                  <a:lnTo>
                    <a:pt x="2486" y="684"/>
                  </a:lnTo>
                  <a:lnTo>
                    <a:pt x="2489" y="645"/>
                  </a:lnTo>
                  <a:lnTo>
                    <a:pt x="2491" y="609"/>
                  </a:lnTo>
                  <a:lnTo>
                    <a:pt x="2495" y="579"/>
                  </a:lnTo>
                  <a:lnTo>
                    <a:pt x="2497" y="552"/>
                  </a:lnTo>
                  <a:lnTo>
                    <a:pt x="2500" y="532"/>
                  </a:lnTo>
                  <a:lnTo>
                    <a:pt x="2503" y="517"/>
                  </a:lnTo>
                  <a:lnTo>
                    <a:pt x="2506" y="509"/>
                  </a:lnTo>
                  <a:lnTo>
                    <a:pt x="2509" y="507"/>
                  </a:lnTo>
                  <a:lnTo>
                    <a:pt x="2511" y="512"/>
                  </a:lnTo>
                  <a:lnTo>
                    <a:pt x="2515" y="523"/>
                  </a:lnTo>
                  <a:lnTo>
                    <a:pt x="2518" y="541"/>
                  </a:lnTo>
                  <a:lnTo>
                    <a:pt x="2520" y="565"/>
                  </a:lnTo>
                  <a:lnTo>
                    <a:pt x="2524" y="593"/>
                  </a:lnTo>
                  <a:lnTo>
                    <a:pt x="2526" y="627"/>
                  </a:lnTo>
                  <a:lnTo>
                    <a:pt x="2529" y="665"/>
                  </a:lnTo>
                  <a:lnTo>
                    <a:pt x="2531" y="705"/>
                  </a:lnTo>
                  <a:lnTo>
                    <a:pt x="2535" y="748"/>
                  </a:lnTo>
                  <a:lnTo>
                    <a:pt x="2538" y="792"/>
                  </a:lnTo>
                  <a:lnTo>
                    <a:pt x="2540" y="836"/>
                  </a:lnTo>
                  <a:lnTo>
                    <a:pt x="2544" y="880"/>
                  </a:lnTo>
                  <a:lnTo>
                    <a:pt x="2546" y="921"/>
                  </a:lnTo>
                  <a:lnTo>
                    <a:pt x="2549" y="960"/>
                  </a:lnTo>
                  <a:lnTo>
                    <a:pt x="2553" y="994"/>
                  </a:lnTo>
                  <a:lnTo>
                    <a:pt x="2555" y="1026"/>
                  </a:lnTo>
                  <a:lnTo>
                    <a:pt x="2558" y="1050"/>
                  </a:lnTo>
                  <a:lnTo>
                    <a:pt x="2560" y="1070"/>
                  </a:lnTo>
                  <a:lnTo>
                    <a:pt x="2564" y="1084"/>
                  </a:lnTo>
                  <a:lnTo>
                    <a:pt x="2567" y="1090"/>
                  </a:lnTo>
                  <a:lnTo>
                    <a:pt x="2569" y="1090"/>
                  </a:lnTo>
                  <a:lnTo>
                    <a:pt x="2573" y="1084"/>
                  </a:lnTo>
                  <a:lnTo>
                    <a:pt x="2575" y="1071"/>
                  </a:lnTo>
                  <a:lnTo>
                    <a:pt x="2578" y="1051"/>
                  </a:lnTo>
                  <a:lnTo>
                    <a:pt x="2582" y="1027"/>
                  </a:lnTo>
                  <a:lnTo>
                    <a:pt x="2584" y="997"/>
                  </a:lnTo>
                  <a:lnTo>
                    <a:pt x="2587" y="961"/>
                  </a:lnTo>
                  <a:lnTo>
                    <a:pt x="2589" y="923"/>
                  </a:lnTo>
                  <a:lnTo>
                    <a:pt x="2593" y="882"/>
                  </a:lnTo>
                  <a:lnTo>
                    <a:pt x="2596" y="839"/>
                  </a:lnTo>
                  <a:lnTo>
                    <a:pt x="2598" y="795"/>
                  </a:lnTo>
                  <a:lnTo>
                    <a:pt x="2602" y="751"/>
                  </a:lnTo>
                  <a:lnTo>
                    <a:pt x="2604" y="708"/>
                  </a:lnTo>
                  <a:lnTo>
                    <a:pt x="2607" y="667"/>
                  </a:lnTo>
                  <a:lnTo>
                    <a:pt x="2609" y="630"/>
                  </a:lnTo>
                  <a:lnTo>
                    <a:pt x="2613" y="597"/>
                  </a:lnTo>
                  <a:lnTo>
                    <a:pt x="2616" y="568"/>
                  </a:lnTo>
                  <a:lnTo>
                    <a:pt x="2618" y="544"/>
                  </a:lnTo>
                  <a:lnTo>
                    <a:pt x="2622" y="527"/>
                  </a:lnTo>
                  <a:lnTo>
                    <a:pt x="2624" y="516"/>
                  </a:lnTo>
                  <a:lnTo>
                    <a:pt x="2627" y="511"/>
                  </a:lnTo>
                  <a:lnTo>
                    <a:pt x="2631" y="512"/>
                  </a:lnTo>
                  <a:lnTo>
                    <a:pt x="2633" y="521"/>
                  </a:lnTo>
                  <a:lnTo>
                    <a:pt x="2636" y="536"/>
                  </a:lnTo>
                  <a:lnTo>
                    <a:pt x="2638" y="557"/>
                  </a:lnTo>
                  <a:lnTo>
                    <a:pt x="2642" y="582"/>
                  </a:lnTo>
                  <a:lnTo>
                    <a:pt x="2645" y="614"/>
                  </a:lnTo>
                  <a:lnTo>
                    <a:pt x="2647" y="649"/>
                  </a:lnTo>
                  <a:lnTo>
                    <a:pt x="2651" y="688"/>
                  </a:lnTo>
                  <a:lnTo>
                    <a:pt x="2653" y="729"/>
                  </a:lnTo>
                  <a:lnTo>
                    <a:pt x="2656" y="772"/>
                  </a:lnTo>
                  <a:lnTo>
                    <a:pt x="2660" y="814"/>
                  </a:lnTo>
                  <a:lnTo>
                    <a:pt x="2662" y="857"/>
                  </a:lnTo>
                  <a:lnTo>
                    <a:pt x="2665" y="898"/>
                  </a:lnTo>
                  <a:lnTo>
                    <a:pt x="2667" y="937"/>
                  </a:lnTo>
                  <a:lnTo>
                    <a:pt x="2671" y="971"/>
                  </a:lnTo>
                  <a:lnTo>
                    <a:pt x="2674" y="1002"/>
                  </a:lnTo>
                  <a:lnTo>
                    <a:pt x="2676" y="1028"/>
                  </a:lnTo>
                  <a:lnTo>
                    <a:pt x="2680" y="1049"/>
                  </a:lnTo>
                  <a:lnTo>
                    <a:pt x="2682" y="1064"/>
                  </a:lnTo>
                  <a:lnTo>
                    <a:pt x="2685" y="1072"/>
                  </a:lnTo>
                  <a:lnTo>
                    <a:pt x="2689" y="1075"/>
                  </a:lnTo>
                  <a:lnTo>
                    <a:pt x="2691" y="1070"/>
                  </a:lnTo>
                  <a:lnTo>
                    <a:pt x="2694" y="1059"/>
                  </a:lnTo>
                  <a:lnTo>
                    <a:pt x="2696" y="1042"/>
                  </a:lnTo>
                  <a:lnTo>
                    <a:pt x="2700" y="1020"/>
                  </a:lnTo>
                  <a:lnTo>
                    <a:pt x="2702" y="992"/>
                  </a:lnTo>
                  <a:lnTo>
                    <a:pt x="2705" y="961"/>
                  </a:lnTo>
                  <a:lnTo>
                    <a:pt x="2709" y="925"/>
                  </a:lnTo>
                  <a:lnTo>
                    <a:pt x="2711" y="888"/>
                  </a:lnTo>
                  <a:lnTo>
                    <a:pt x="2714" y="847"/>
                  </a:lnTo>
                  <a:lnTo>
                    <a:pt x="2717" y="806"/>
                  </a:lnTo>
                  <a:lnTo>
                    <a:pt x="2720" y="765"/>
                  </a:lnTo>
                  <a:lnTo>
                    <a:pt x="2723" y="725"/>
                  </a:lnTo>
                  <a:lnTo>
                    <a:pt x="2725" y="686"/>
                  </a:lnTo>
                  <a:lnTo>
                    <a:pt x="2729" y="650"/>
                  </a:lnTo>
                  <a:lnTo>
                    <a:pt x="2731" y="619"/>
                  </a:lnTo>
                  <a:lnTo>
                    <a:pt x="2734" y="591"/>
                  </a:lnTo>
                  <a:lnTo>
                    <a:pt x="2738" y="569"/>
                  </a:lnTo>
                  <a:lnTo>
                    <a:pt x="2740" y="551"/>
                  </a:lnTo>
                  <a:lnTo>
                    <a:pt x="2743" y="540"/>
                  </a:lnTo>
                  <a:lnTo>
                    <a:pt x="2746" y="534"/>
                  </a:lnTo>
                  <a:lnTo>
                    <a:pt x="2749" y="536"/>
                  </a:lnTo>
                  <a:lnTo>
                    <a:pt x="2752" y="542"/>
                  </a:lnTo>
                  <a:lnTo>
                    <a:pt x="2754" y="556"/>
                  </a:lnTo>
                  <a:lnTo>
                    <a:pt x="2758" y="575"/>
                  </a:lnTo>
                  <a:lnTo>
                    <a:pt x="2760" y="598"/>
                  </a:lnTo>
                  <a:lnTo>
                    <a:pt x="2763" y="626"/>
                  </a:lnTo>
                  <a:lnTo>
                    <a:pt x="2767" y="658"/>
                  </a:lnTo>
                  <a:lnTo>
                    <a:pt x="2769" y="693"/>
                  </a:lnTo>
                  <a:lnTo>
                    <a:pt x="2772" y="730"/>
                  </a:lnTo>
                  <a:lnTo>
                    <a:pt x="2775" y="769"/>
                  </a:lnTo>
                  <a:lnTo>
                    <a:pt x="2778" y="808"/>
                  </a:lnTo>
                  <a:lnTo>
                    <a:pt x="2781" y="847"/>
                  </a:lnTo>
                  <a:lnTo>
                    <a:pt x="2783" y="885"/>
                  </a:lnTo>
                  <a:lnTo>
                    <a:pt x="2787" y="920"/>
                  </a:lnTo>
                  <a:lnTo>
                    <a:pt x="2789" y="952"/>
                  </a:lnTo>
                  <a:lnTo>
                    <a:pt x="2792" y="981"/>
                  </a:lnTo>
                  <a:lnTo>
                    <a:pt x="2795" y="1004"/>
                  </a:lnTo>
                  <a:lnTo>
                    <a:pt x="2798" y="1023"/>
                  </a:lnTo>
                  <a:lnTo>
                    <a:pt x="2801" y="1037"/>
                  </a:lnTo>
                  <a:lnTo>
                    <a:pt x="2804" y="1046"/>
                  </a:lnTo>
                  <a:lnTo>
                    <a:pt x="2807" y="1048"/>
                  </a:lnTo>
                  <a:lnTo>
                    <a:pt x="2809" y="1043"/>
                  </a:lnTo>
                  <a:lnTo>
                    <a:pt x="2812" y="1035"/>
                  </a:lnTo>
                  <a:lnTo>
                    <a:pt x="2816" y="1020"/>
                  </a:lnTo>
                  <a:lnTo>
                    <a:pt x="2818" y="1000"/>
                  </a:lnTo>
                  <a:lnTo>
                    <a:pt x="2821" y="976"/>
                  </a:lnTo>
                  <a:lnTo>
                    <a:pt x="2824" y="947"/>
                  </a:lnTo>
                  <a:lnTo>
                    <a:pt x="2827" y="915"/>
                  </a:lnTo>
                  <a:lnTo>
                    <a:pt x="2830" y="881"/>
                  </a:lnTo>
                  <a:lnTo>
                    <a:pt x="2833" y="845"/>
                  </a:lnTo>
                  <a:lnTo>
                    <a:pt x="2836" y="808"/>
                  </a:lnTo>
                  <a:lnTo>
                    <a:pt x="2838" y="772"/>
                  </a:lnTo>
                  <a:lnTo>
                    <a:pt x="2841" y="736"/>
                  </a:lnTo>
                  <a:lnTo>
                    <a:pt x="2845" y="702"/>
                  </a:lnTo>
                  <a:lnTo>
                    <a:pt x="2847" y="669"/>
                  </a:lnTo>
                  <a:lnTo>
                    <a:pt x="2850" y="641"/>
                  </a:lnTo>
                  <a:lnTo>
                    <a:pt x="2853" y="617"/>
                  </a:lnTo>
                  <a:lnTo>
                    <a:pt x="2856" y="596"/>
                  </a:lnTo>
                  <a:lnTo>
                    <a:pt x="2859" y="581"/>
                  </a:lnTo>
                  <a:lnTo>
                    <a:pt x="2862" y="570"/>
                  </a:lnTo>
                  <a:lnTo>
                    <a:pt x="2865" y="566"/>
                  </a:lnTo>
                  <a:lnTo>
                    <a:pt x="2867" y="566"/>
                  </a:lnTo>
                  <a:lnTo>
                    <a:pt x="2870" y="571"/>
                  </a:lnTo>
                  <a:lnTo>
                    <a:pt x="2874" y="582"/>
                  </a:lnTo>
                  <a:lnTo>
                    <a:pt x="2876" y="599"/>
                  </a:lnTo>
                  <a:lnTo>
                    <a:pt x="2879" y="619"/>
                  </a:lnTo>
                  <a:lnTo>
                    <a:pt x="2882" y="644"/>
                  </a:lnTo>
                  <a:lnTo>
                    <a:pt x="2885" y="671"/>
                  </a:lnTo>
                  <a:lnTo>
                    <a:pt x="2887" y="702"/>
                  </a:lnTo>
                  <a:lnTo>
                    <a:pt x="2891" y="734"/>
                  </a:lnTo>
                  <a:lnTo>
                    <a:pt x="2894" y="767"/>
                  </a:lnTo>
                  <a:lnTo>
                    <a:pt x="2896" y="801"/>
                  </a:lnTo>
                  <a:lnTo>
                    <a:pt x="2899" y="834"/>
                  </a:lnTo>
                  <a:lnTo>
                    <a:pt x="2902" y="866"/>
                  </a:lnTo>
                  <a:lnTo>
                    <a:pt x="2905" y="896"/>
                  </a:lnTo>
                  <a:lnTo>
                    <a:pt x="2908" y="924"/>
                  </a:lnTo>
                  <a:lnTo>
                    <a:pt x="2911" y="949"/>
                  </a:lnTo>
                  <a:lnTo>
                    <a:pt x="2914" y="969"/>
                  </a:lnTo>
                  <a:lnTo>
                    <a:pt x="2916" y="986"/>
                  </a:lnTo>
                  <a:lnTo>
                    <a:pt x="2920" y="998"/>
                  </a:lnTo>
                  <a:lnTo>
                    <a:pt x="2923" y="1004"/>
                  </a:lnTo>
                  <a:lnTo>
                    <a:pt x="2925" y="1008"/>
                  </a:lnTo>
                  <a:lnTo>
                    <a:pt x="2928" y="1004"/>
                  </a:lnTo>
                  <a:lnTo>
                    <a:pt x="2931" y="998"/>
                  </a:lnTo>
                  <a:lnTo>
                    <a:pt x="2934" y="986"/>
                  </a:lnTo>
                  <a:lnTo>
                    <a:pt x="2937" y="970"/>
                  </a:lnTo>
                  <a:lnTo>
                    <a:pt x="2940" y="951"/>
                  </a:lnTo>
                  <a:lnTo>
                    <a:pt x="2943" y="928"/>
                  </a:lnTo>
                  <a:lnTo>
                    <a:pt x="2945" y="902"/>
                  </a:lnTo>
                  <a:lnTo>
                    <a:pt x="2949" y="875"/>
                  </a:lnTo>
                  <a:lnTo>
                    <a:pt x="2952" y="846"/>
                  </a:lnTo>
                  <a:lnTo>
                    <a:pt x="2954" y="816"/>
                  </a:lnTo>
                  <a:lnTo>
                    <a:pt x="2957" y="787"/>
                  </a:lnTo>
                  <a:lnTo>
                    <a:pt x="2960" y="758"/>
                  </a:lnTo>
                  <a:lnTo>
                    <a:pt x="2963" y="732"/>
                  </a:lnTo>
                  <a:lnTo>
                    <a:pt x="2966" y="706"/>
                  </a:lnTo>
                  <a:lnTo>
                    <a:pt x="2969" y="684"/>
                  </a:lnTo>
                  <a:lnTo>
                    <a:pt x="2972" y="664"/>
                  </a:lnTo>
                  <a:lnTo>
                    <a:pt x="2974" y="648"/>
                  </a:lnTo>
                  <a:lnTo>
                    <a:pt x="2978" y="636"/>
                  </a:lnTo>
                  <a:lnTo>
                    <a:pt x="2980" y="627"/>
                  </a:lnTo>
                  <a:lnTo>
                    <a:pt x="2983" y="622"/>
                  </a:lnTo>
                  <a:lnTo>
                    <a:pt x="2986" y="622"/>
                  </a:lnTo>
                  <a:lnTo>
                    <a:pt x="2989" y="627"/>
                  </a:lnTo>
                  <a:lnTo>
                    <a:pt x="2992" y="635"/>
                  </a:lnTo>
                  <a:lnTo>
                    <a:pt x="2994" y="646"/>
                  </a:lnTo>
                  <a:lnTo>
                    <a:pt x="2998" y="660"/>
                  </a:lnTo>
                  <a:lnTo>
                    <a:pt x="3001" y="678"/>
                  </a:lnTo>
                  <a:lnTo>
                    <a:pt x="3003" y="698"/>
                  </a:lnTo>
                  <a:lnTo>
                    <a:pt x="3007" y="720"/>
                  </a:lnTo>
                  <a:lnTo>
                    <a:pt x="3009" y="743"/>
                  </a:lnTo>
                  <a:lnTo>
                    <a:pt x="3012" y="766"/>
                  </a:lnTo>
                  <a:lnTo>
                    <a:pt x="3015" y="791"/>
                  </a:lnTo>
                  <a:lnTo>
                    <a:pt x="3018" y="814"/>
                  </a:lnTo>
                  <a:lnTo>
                    <a:pt x="3021" y="836"/>
                  </a:lnTo>
                  <a:lnTo>
                    <a:pt x="3023" y="856"/>
                  </a:lnTo>
                  <a:lnTo>
                    <a:pt x="3027" y="875"/>
                  </a:lnTo>
                  <a:lnTo>
                    <a:pt x="3030" y="892"/>
                  </a:lnTo>
                  <a:lnTo>
                    <a:pt x="3032" y="905"/>
                  </a:lnTo>
                  <a:lnTo>
                    <a:pt x="3036" y="915"/>
                  </a:lnTo>
                  <a:lnTo>
                    <a:pt x="3038" y="923"/>
                  </a:lnTo>
                  <a:lnTo>
                    <a:pt x="3041" y="927"/>
                  </a:lnTo>
                  <a:lnTo>
                    <a:pt x="3044" y="928"/>
                  </a:lnTo>
                  <a:lnTo>
                    <a:pt x="3047" y="925"/>
                  </a:lnTo>
                  <a:lnTo>
                    <a:pt x="3050" y="920"/>
                  </a:lnTo>
                  <a:lnTo>
                    <a:pt x="3052" y="912"/>
                  </a:lnTo>
                  <a:lnTo>
                    <a:pt x="3056" y="901"/>
                  </a:lnTo>
                  <a:lnTo>
                    <a:pt x="3058" y="889"/>
                  </a:lnTo>
                  <a:lnTo>
                    <a:pt x="3061" y="874"/>
                  </a:lnTo>
                  <a:lnTo>
                    <a:pt x="3065" y="857"/>
                  </a:lnTo>
                  <a:lnTo>
                    <a:pt x="3067" y="841"/>
                  </a:lnTo>
                  <a:lnTo>
                    <a:pt x="3070" y="824"/>
                  </a:lnTo>
                  <a:lnTo>
                    <a:pt x="3072" y="807"/>
                  </a:lnTo>
                  <a:lnTo>
                    <a:pt x="3076" y="791"/>
                  </a:lnTo>
                  <a:lnTo>
                    <a:pt x="3079" y="775"/>
                  </a:lnTo>
                  <a:lnTo>
                    <a:pt x="3081" y="762"/>
                  </a:lnTo>
                  <a:lnTo>
                    <a:pt x="3085" y="749"/>
                  </a:lnTo>
                  <a:lnTo>
                    <a:pt x="3087" y="738"/>
                  </a:lnTo>
                  <a:lnTo>
                    <a:pt x="3090" y="730"/>
                  </a:lnTo>
                  <a:lnTo>
                    <a:pt x="3094" y="724"/>
                  </a:lnTo>
                  <a:lnTo>
                    <a:pt x="3096" y="720"/>
                  </a:lnTo>
                  <a:lnTo>
                    <a:pt x="3099" y="719"/>
                  </a:lnTo>
                  <a:lnTo>
                    <a:pt x="3101" y="720"/>
                  </a:lnTo>
                  <a:lnTo>
                    <a:pt x="3105" y="725"/>
                  </a:lnTo>
                  <a:lnTo>
                    <a:pt x="3108" y="730"/>
                  </a:lnTo>
                  <a:lnTo>
                    <a:pt x="3110" y="737"/>
                  </a:lnTo>
                  <a:lnTo>
                    <a:pt x="3114" y="746"/>
                  </a:lnTo>
                  <a:lnTo>
                    <a:pt x="3116" y="756"/>
                  </a:lnTo>
                  <a:lnTo>
                    <a:pt x="3119" y="767"/>
                  </a:lnTo>
                  <a:lnTo>
                    <a:pt x="3123" y="778"/>
                  </a:lnTo>
                  <a:lnTo>
                    <a:pt x="3125" y="790"/>
                  </a:lnTo>
                  <a:lnTo>
                    <a:pt x="3128" y="801"/>
                  </a:lnTo>
                  <a:lnTo>
                    <a:pt x="3130" y="811"/>
                  </a:lnTo>
                  <a:lnTo>
                    <a:pt x="3134" y="820"/>
                  </a:lnTo>
                  <a:lnTo>
                    <a:pt x="3137" y="827"/>
                  </a:lnTo>
                  <a:lnTo>
                    <a:pt x="3139" y="834"/>
                  </a:lnTo>
                  <a:lnTo>
                    <a:pt x="3143" y="839"/>
                  </a:lnTo>
                  <a:lnTo>
                    <a:pt x="3145" y="841"/>
                  </a:lnTo>
                  <a:lnTo>
                    <a:pt x="3148" y="842"/>
                  </a:lnTo>
                  <a:lnTo>
                    <a:pt x="3150" y="841"/>
                  </a:lnTo>
                  <a:lnTo>
                    <a:pt x="3154" y="837"/>
                  </a:lnTo>
                  <a:lnTo>
                    <a:pt x="3157" y="832"/>
                  </a:lnTo>
                  <a:lnTo>
                    <a:pt x="3159" y="825"/>
                  </a:lnTo>
                  <a:lnTo>
                    <a:pt x="3163" y="817"/>
                  </a:lnTo>
                  <a:lnTo>
                    <a:pt x="3165" y="808"/>
                  </a:lnTo>
                  <a:lnTo>
                    <a:pt x="3168" y="798"/>
                  </a:lnTo>
                  <a:lnTo>
                    <a:pt x="3172" y="787"/>
                  </a:lnTo>
                  <a:lnTo>
                    <a:pt x="3174" y="777"/>
                  </a:lnTo>
                  <a:lnTo>
                    <a:pt x="3177" y="767"/>
                  </a:lnTo>
                  <a:lnTo>
                    <a:pt x="3179" y="758"/>
                  </a:lnTo>
                  <a:lnTo>
                    <a:pt x="3183" y="749"/>
                  </a:lnTo>
                  <a:lnTo>
                    <a:pt x="3186" y="743"/>
                  </a:lnTo>
                  <a:lnTo>
                    <a:pt x="3188" y="737"/>
                  </a:lnTo>
                  <a:lnTo>
                    <a:pt x="3192" y="734"/>
                  </a:lnTo>
                  <a:lnTo>
                    <a:pt x="3194" y="733"/>
                  </a:lnTo>
                  <a:lnTo>
                    <a:pt x="3197" y="734"/>
                  </a:lnTo>
                  <a:lnTo>
                    <a:pt x="3201" y="737"/>
                  </a:lnTo>
                  <a:lnTo>
                    <a:pt x="3203" y="744"/>
                  </a:lnTo>
                  <a:lnTo>
                    <a:pt x="3206" y="752"/>
                  </a:lnTo>
                  <a:lnTo>
                    <a:pt x="3208" y="762"/>
                  </a:lnTo>
                  <a:lnTo>
                    <a:pt x="3212" y="774"/>
                  </a:lnTo>
                  <a:lnTo>
                    <a:pt x="3215" y="787"/>
                  </a:lnTo>
                  <a:lnTo>
                    <a:pt x="3217" y="802"/>
                  </a:lnTo>
                  <a:lnTo>
                    <a:pt x="3221" y="817"/>
                  </a:lnTo>
                  <a:lnTo>
                    <a:pt x="3223" y="834"/>
                  </a:lnTo>
                  <a:lnTo>
                    <a:pt x="3226" y="850"/>
                  </a:lnTo>
                  <a:lnTo>
                    <a:pt x="3230" y="865"/>
                  </a:lnTo>
                  <a:lnTo>
                    <a:pt x="3232" y="881"/>
                  </a:lnTo>
                  <a:lnTo>
                    <a:pt x="3235" y="894"/>
                  </a:lnTo>
                  <a:lnTo>
                    <a:pt x="3237" y="905"/>
                  </a:lnTo>
                  <a:lnTo>
                    <a:pt x="3241" y="914"/>
                  </a:lnTo>
                  <a:lnTo>
                    <a:pt x="3243" y="921"/>
                  </a:lnTo>
                  <a:lnTo>
                    <a:pt x="3246" y="924"/>
                  </a:lnTo>
                  <a:lnTo>
                    <a:pt x="3250" y="925"/>
                  </a:lnTo>
                  <a:lnTo>
                    <a:pt x="3252" y="922"/>
                  </a:lnTo>
                  <a:lnTo>
                    <a:pt x="3255" y="917"/>
                  </a:lnTo>
                  <a:lnTo>
                    <a:pt x="3258" y="908"/>
                  </a:lnTo>
                  <a:lnTo>
                    <a:pt x="3261" y="894"/>
                  </a:lnTo>
                  <a:lnTo>
                    <a:pt x="3264" y="879"/>
                  </a:lnTo>
                  <a:lnTo>
                    <a:pt x="3266" y="861"/>
                  </a:lnTo>
                  <a:lnTo>
                    <a:pt x="3270" y="840"/>
                  </a:lnTo>
                  <a:lnTo>
                    <a:pt x="3272" y="817"/>
                  </a:lnTo>
                  <a:lnTo>
                    <a:pt x="3275" y="793"/>
                  </a:lnTo>
                  <a:lnTo>
                    <a:pt x="3279" y="767"/>
                  </a:lnTo>
                  <a:lnTo>
                    <a:pt x="3281" y="742"/>
                  </a:lnTo>
                  <a:lnTo>
                    <a:pt x="3284" y="717"/>
                  </a:lnTo>
                  <a:lnTo>
                    <a:pt x="3287" y="693"/>
                  </a:lnTo>
                  <a:lnTo>
                    <a:pt x="3290" y="670"/>
                  </a:lnTo>
                  <a:lnTo>
                    <a:pt x="3293" y="650"/>
                  </a:lnTo>
                  <a:lnTo>
                    <a:pt x="3295" y="632"/>
                  </a:lnTo>
                  <a:lnTo>
                    <a:pt x="3299" y="618"/>
                  </a:lnTo>
                  <a:lnTo>
                    <a:pt x="3301" y="607"/>
                  </a:lnTo>
                  <a:lnTo>
                    <a:pt x="3304" y="601"/>
                  </a:lnTo>
                  <a:lnTo>
                    <a:pt x="3308" y="599"/>
                  </a:lnTo>
                  <a:lnTo>
                    <a:pt x="3310" y="601"/>
                  </a:lnTo>
                  <a:lnTo>
                    <a:pt x="3313" y="608"/>
                  </a:lnTo>
                  <a:lnTo>
                    <a:pt x="3316" y="619"/>
                  </a:lnTo>
                  <a:lnTo>
                    <a:pt x="3319" y="636"/>
                  </a:lnTo>
                  <a:lnTo>
                    <a:pt x="3322" y="656"/>
                  </a:lnTo>
                  <a:lnTo>
                    <a:pt x="3324" y="679"/>
                  </a:lnTo>
                  <a:lnTo>
                    <a:pt x="3328" y="707"/>
                  </a:lnTo>
                  <a:lnTo>
                    <a:pt x="3330" y="737"/>
                  </a:lnTo>
                  <a:lnTo>
                    <a:pt x="3333" y="769"/>
                  </a:lnTo>
                  <a:lnTo>
                    <a:pt x="3336" y="803"/>
                  </a:lnTo>
                  <a:lnTo>
                    <a:pt x="3339" y="839"/>
                  </a:lnTo>
                  <a:lnTo>
                    <a:pt x="3342" y="873"/>
                  </a:lnTo>
                  <a:lnTo>
                    <a:pt x="3345" y="906"/>
                  </a:lnTo>
                  <a:lnTo>
                    <a:pt x="3348" y="939"/>
                  </a:lnTo>
                  <a:lnTo>
                    <a:pt x="3350" y="968"/>
                  </a:lnTo>
                  <a:lnTo>
                    <a:pt x="3353" y="994"/>
                  </a:lnTo>
                  <a:lnTo>
                    <a:pt x="3357" y="1018"/>
                  </a:lnTo>
                  <a:lnTo>
                    <a:pt x="3359" y="1036"/>
                  </a:lnTo>
                  <a:lnTo>
                    <a:pt x="3362" y="1049"/>
                  </a:lnTo>
                  <a:lnTo>
                    <a:pt x="3365" y="1058"/>
                  </a:lnTo>
                  <a:lnTo>
                    <a:pt x="3368" y="1060"/>
                  </a:lnTo>
                  <a:lnTo>
                    <a:pt x="3371" y="1057"/>
                  </a:lnTo>
                  <a:lnTo>
                    <a:pt x="3374" y="1048"/>
                  </a:lnTo>
                  <a:lnTo>
                    <a:pt x="3377" y="1033"/>
                  </a:lnTo>
                  <a:lnTo>
                    <a:pt x="3379" y="1013"/>
                  </a:lnTo>
                  <a:lnTo>
                    <a:pt x="3382" y="989"/>
                  </a:lnTo>
                  <a:lnTo>
                    <a:pt x="3386" y="959"/>
                  </a:lnTo>
                  <a:lnTo>
                    <a:pt x="3388" y="925"/>
                  </a:lnTo>
                  <a:lnTo>
                    <a:pt x="3391" y="888"/>
                  </a:lnTo>
                  <a:lnTo>
                    <a:pt x="3394" y="849"/>
                  </a:lnTo>
                  <a:lnTo>
                    <a:pt x="3397" y="807"/>
                  </a:lnTo>
                  <a:lnTo>
                    <a:pt x="3400" y="765"/>
                  </a:lnTo>
                  <a:lnTo>
                    <a:pt x="3403" y="723"/>
                  </a:lnTo>
                  <a:lnTo>
                    <a:pt x="3406" y="683"/>
                  </a:lnTo>
                  <a:lnTo>
                    <a:pt x="3408" y="644"/>
                  </a:lnTo>
                  <a:lnTo>
                    <a:pt x="3411" y="607"/>
                  </a:lnTo>
                  <a:lnTo>
                    <a:pt x="3414" y="575"/>
                  </a:lnTo>
                  <a:lnTo>
                    <a:pt x="3417" y="547"/>
                  </a:lnTo>
                  <a:lnTo>
                    <a:pt x="3420" y="524"/>
                  </a:lnTo>
                  <a:lnTo>
                    <a:pt x="3423" y="508"/>
                  </a:lnTo>
                  <a:lnTo>
                    <a:pt x="3426" y="497"/>
                  </a:lnTo>
                  <a:lnTo>
                    <a:pt x="3428" y="492"/>
                  </a:lnTo>
                  <a:lnTo>
                    <a:pt x="3432" y="494"/>
                  </a:lnTo>
                  <a:lnTo>
                    <a:pt x="3435" y="503"/>
                  </a:lnTo>
                  <a:lnTo>
                    <a:pt x="3437" y="518"/>
                  </a:lnTo>
                  <a:lnTo>
                    <a:pt x="3441" y="540"/>
                  </a:lnTo>
                  <a:lnTo>
                    <a:pt x="3443" y="567"/>
                  </a:lnTo>
                  <a:lnTo>
                    <a:pt x="3446" y="599"/>
                  </a:lnTo>
                  <a:lnTo>
                    <a:pt x="3449" y="636"/>
                  </a:lnTo>
                  <a:lnTo>
                    <a:pt x="3452" y="676"/>
                  </a:lnTo>
                  <a:lnTo>
                    <a:pt x="3455" y="719"/>
                  </a:lnTo>
                  <a:lnTo>
                    <a:pt x="3457" y="765"/>
                  </a:lnTo>
                  <a:lnTo>
                    <a:pt x="3461" y="812"/>
                  </a:lnTo>
                  <a:lnTo>
                    <a:pt x="3464" y="857"/>
                  </a:lnTo>
                  <a:lnTo>
                    <a:pt x="3466" y="903"/>
                  </a:lnTo>
                  <a:lnTo>
                    <a:pt x="3470" y="945"/>
                  </a:lnTo>
                  <a:lnTo>
                    <a:pt x="3472" y="986"/>
                  </a:lnTo>
                  <a:lnTo>
                    <a:pt x="3475" y="1021"/>
                  </a:lnTo>
                  <a:lnTo>
                    <a:pt x="3478" y="1052"/>
                  </a:lnTo>
                  <a:lnTo>
                    <a:pt x="3481" y="1078"/>
                  </a:lnTo>
                  <a:lnTo>
                    <a:pt x="3484" y="1098"/>
                  </a:lnTo>
                  <a:lnTo>
                    <a:pt x="3486" y="1111"/>
                  </a:lnTo>
                  <a:lnTo>
                    <a:pt x="3490" y="1118"/>
                  </a:lnTo>
                  <a:lnTo>
                    <a:pt x="3493" y="1118"/>
                  </a:lnTo>
                  <a:lnTo>
                    <a:pt x="3495" y="1110"/>
                  </a:lnTo>
                  <a:lnTo>
                    <a:pt x="3499" y="1097"/>
                  </a:lnTo>
                  <a:lnTo>
                    <a:pt x="3501" y="1077"/>
                  </a:lnTo>
                  <a:lnTo>
                    <a:pt x="3504" y="1050"/>
                  </a:lnTo>
                  <a:lnTo>
                    <a:pt x="3506" y="1018"/>
                  </a:lnTo>
                  <a:lnTo>
                    <a:pt x="3510" y="982"/>
                  </a:lnTo>
                  <a:lnTo>
                    <a:pt x="3513" y="942"/>
                  </a:lnTo>
                  <a:lnTo>
                    <a:pt x="3515" y="899"/>
                  </a:lnTo>
                  <a:lnTo>
                    <a:pt x="3519" y="853"/>
                  </a:lnTo>
                  <a:lnTo>
                    <a:pt x="3521" y="807"/>
                  </a:lnTo>
                  <a:lnTo>
                    <a:pt x="3524" y="761"/>
                  </a:lnTo>
                  <a:lnTo>
                    <a:pt x="3528" y="716"/>
                  </a:lnTo>
                  <a:lnTo>
                    <a:pt x="3530" y="673"/>
                  </a:lnTo>
                  <a:lnTo>
                    <a:pt x="3533" y="632"/>
                  </a:lnTo>
                  <a:lnTo>
                    <a:pt x="3535" y="596"/>
                  </a:lnTo>
                  <a:lnTo>
                    <a:pt x="3539" y="565"/>
                  </a:lnTo>
                  <a:lnTo>
                    <a:pt x="3542" y="538"/>
                  </a:lnTo>
                  <a:lnTo>
                    <a:pt x="3544" y="518"/>
                  </a:lnTo>
                  <a:lnTo>
                    <a:pt x="3548" y="503"/>
                  </a:lnTo>
                  <a:lnTo>
                    <a:pt x="3550" y="495"/>
                  </a:lnTo>
                  <a:lnTo>
                    <a:pt x="3553" y="494"/>
                  </a:lnTo>
                  <a:lnTo>
                    <a:pt x="3557" y="500"/>
                  </a:lnTo>
                  <a:lnTo>
                    <a:pt x="3559" y="512"/>
                  </a:lnTo>
                  <a:lnTo>
                    <a:pt x="3562" y="530"/>
                  </a:lnTo>
                  <a:lnTo>
                    <a:pt x="3564" y="554"/>
                  </a:lnTo>
                  <a:lnTo>
                    <a:pt x="3568" y="583"/>
                  </a:lnTo>
                  <a:lnTo>
                    <a:pt x="3571" y="616"/>
                  </a:lnTo>
                  <a:lnTo>
                    <a:pt x="3573" y="653"/>
                  </a:lnTo>
                  <a:lnTo>
                    <a:pt x="3577" y="693"/>
                  </a:lnTo>
                  <a:lnTo>
                    <a:pt x="3579" y="734"/>
                  </a:lnTo>
                  <a:lnTo>
                    <a:pt x="3582" y="775"/>
                  </a:lnTo>
                  <a:lnTo>
                    <a:pt x="3586" y="817"/>
                  </a:lnTo>
                  <a:lnTo>
                    <a:pt x="3588" y="857"/>
                  </a:lnTo>
                  <a:lnTo>
                    <a:pt x="3591" y="896"/>
                  </a:lnTo>
                  <a:lnTo>
                    <a:pt x="3593" y="932"/>
                  </a:lnTo>
                  <a:lnTo>
                    <a:pt x="3597" y="964"/>
                  </a:lnTo>
                  <a:lnTo>
                    <a:pt x="3599" y="992"/>
                  </a:lnTo>
                  <a:lnTo>
                    <a:pt x="3602" y="1015"/>
                  </a:lnTo>
                  <a:lnTo>
                    <a:pt x="3606" y="1032"/>
                  </a:lnTo>
                  <a:lnTo>
                    <a:pt x="3608" y="1045"/>
                  </a:lnTo>
                  <a:lnTo>
                    <a:pt x="3611" y="1050"/>
                  </a:lnTo>
                  <a:lnTo>
                    <a:pt x="3613" y="1051"/>
                  </a:lnTo>
                  <a:lnTo>
                    <a:pt x="3617" y="1046"/>
                  </a:lnTo>
                  <a:lnTo>
                    <a:pt x="3620" y="1035"/>
                  </a:lnTo>
                  <a:lnTo>
                    <a:pt x="3622" y="1018"/>
                  </a:lnTo>
                  <a:lnTo>
                    <a:pt x="3626" y="997"/>
                  </a:lnTo>
                  <a:lnTo>
                    <a:pt x="3628" y="972"/>
                  </a:lnTo>
                  <a:lnTo>
                    <a:pt x="3631" y="944"/>
                  </a:lnTo>
                  <a:lnTo>
                    <a:pt x="3635" y="913"/>
                  </a:lnTo>
                  <a:lnTo>
                    <a:pt x="3637" y="880"/>
                  </a:lnTo>
                  <a:lnTo>
                    <a:pt x="3640" y="846"/>
                  </a:lnTo>
                  <a:lnTo>
                    <a:pt x="3642" y="812"/>
                  </a:lnTo>
                  <a:lnTo>
                    <a:pt x="3646" y="778"/>
                  </a:lnTo>
                  <a:lnTo>
                    <a:pt x="3649" y="747"/>
                  </a:lnTo>
                  <a:lnTo>
                    <a:pt x="3651" y="717"/>
                  </a:lnTo>
                  <a:lnTo>
                    <a:pt x="3655" y="690"/>
                  </a:lnTo>
                  <a:lnTo>
                    <a:pt x="3657" y="668"/>
                  </a:lnTo>
                  <a:lnTo>
                    <a:pt x="3660" y="648"/>
                  </a:lnTo>
                  <a:lnTo>
                    <a:pt x="3664" y="634"/>
                  </a:lnTo>
                  <a:lnTo>
                    <a:pt x="3666" y="624"/>
                  </a:lnTo>
                  <a:lnTo>
                    <a:pt x="3669" y="618"/>
                  </a:lnTo>
                  <a:lnTo>
                    <a:pt x="3671" y="618"/>
                  </a:lnTo>
                  <a:lnTo>
                    <a:pt x="3675" y="622"/>
                  </a:lnTo>
                  <a:lnTo>
                    <a:pt x="3678" y="630"/>
                  </a:lnTo>
                  <a:lnTo>
                    <a:pt x="3680" y="644"/>
                  </a:lnTo>
                  <a:lnTo>
                    <a:pt x="3684" y="659"/>
                  </a:lnTo>
                  <a:lnTo>
                    <a:pt x="3686" y="679"/>
                  </a:lnTo>
                  <a:lnTo>
                    <a:pt x="3689" y="702"/>
                  </a:lnTo>
                  <a:lnTo>
                    <a:pt x="3692" y="725"/>
                  </a:lnTo>
                  <a:lnTo>
                    <a:pt x="3695" y="749"/>
                  </a:lnTo>
                  <a:lnTo>
                    <a:pt x="3698" y="775"/>
                  </a:lnTo>
                  <a:lnTo>
                    <a:pt x="3700" y="800"/>
                  </a:lnTo>
                  <a:lnTo>
                    <a:pt x="3704" y="824"/>
                  </a:lnTo>
                  <a:lnTo>
                    <a:pt x="3706" y="846"/>
                  </a:lnTo>
                  <a:lnTo>
                    <a:pt x="3709" y="865"/>
                  </a:lnTo>
                  <a:lnTo>
                    <a:pt x="3713" y="882"/>
                  </a:lnTo>
                  <a:lnTo>
                    <a:pt x="3715" y="896"/>
                  </a:lnTo>
                  <a:lnTo>
                    <a:pt x="3718" y="905"/>
                  </a:lnTo>
                  <a:lnTo>
                    <a:pt x="3721" y="912"/>
                  </a:lnTo>
                  <a:lnTo>
                    <a:pt x="3724" y="913"/>
                  </a:lnTo>
                  <a:lnTo>
                    <a:pt x="3727" y="912"/>
                  </a:lnTo>
                  <a:lnTo>
                    <a:pt x="3729" y="905"/>
                  </a:lnTo>
                  <a:lnTo>
                    <a:pt x="3733" y="895"/>
                  </a:lnTo>
                  <a:lnTo>
                    <a:pt x="3735" y="883"/>
                  </a:lnTo>
                  <a:lnTo>
                    <a:pt x="3738" y="866"/>
                  </a:lnTo>
                  <a:lnTo>
                    <a:pt x="3742" y="849"/>
                  </a:lnTo>
                  <a:lnTo>
                    <a:pt x="3744" y="829"/>
                  </a:lnTo>
                  <a:lnTo>
                    <a:pt x="3747" y="807"/>
                  </a:lnTo>
                  <a:lnTo>
                    <a:pt x="3750" y="785"/>
                  </a:lnTo>
                  <a:lnTo>
                    <a:pt x="3753" y="764"/>
                  </a:lnTo>
                  <a:lnTo>
                    <a:pt x="3756" y="744"/>
                  </a:lnTo>
                  <a:lnTo>
                    <a:pt x="3758" y="725"/>
                  </a:lnTo>
                  <a:lnTo>
                    <a:pt x="3762" y="708"/>
                  </a:lnTo>
                  <a:lnTo>
                    <a:pt x="3764" y="695"/>
                  </a:lnTo>
                  <a:lnTo>
                    <a:pt x="3767" y="685"/>
                  </a:lnTo>
                  <a:lnTo>
                    <a:pt x="3771" y="678"/>
                  </a:lnTo>
                  <a:lnTo>
                    <a:pt x="3773" y="676"/>
                  </a:lnTo>
                  <a:lnTo>
                    <a:pt x="3776" y="678"/>
                  </a:lnTo>
                  <a:lnTo>
                    <a:pt x="3779" y="685"/>
                  </a:lnTo>
                  <a:lnTo>
                    <a:pt x="3782" y="696"/>
                  </a:lnTo>
                  <a:lnTo>
                    <a:pt x="3784" y="710"/>
                  </a:lnTo>
                  <a:lnTo>
                    <a:pt x="3787" y="728"/>
                  </a:lnTo>
                  <a:lnTo>
                    <a:pt x="3791" y="751"/>
                  </a:lnTo>
                  <a:lnTo>
                    <a:pt x="3793" y="775"/>
                  </a:lnTo>
                  <a:lnTo>
                    <a:pt x="3796" y="802"/>
                  </a:lnTo>
                  <a:lnTo>
                    <a:pt x="3799" y="830"/>
                  </a:lnTo>
                  <a:lnTo>
                    <a:pt x="3802" y="859"/>
                  </a:lnTo>
                  <a:lnTo>
                    <a:pt x="3805" y="886"/>
                  </a:lnTo>
                  <a:lnTo>
                    <a:pt x="3808" y="914"/>
                  </a:lnTo>
                  <a:lnTo>
                    <a:pt x="3811" y="940"/>
                  </a:lnTo>
                  <a:lnTo>
                    <a:pt x="3813" y="962"/>
                  </a:lnTo>
                  <a:lnTo>
                    <a:pt x="3816" y="982"/>
                  </a:lnTo>
                  <a:lnTo>
                    <a:pt x="3820" y="997"/>
                  </a:lnTo>
                  <a:lnTo>
                    <a:pt x="3822" y="1007"/>
                  </a:lnTo>
                  <a:lnTo>
                    <a:pt x="3825" y="1012"/>
                  </a:lnTo>
                  <a:lnTo>
                    <a:pt x="3828" y="1012"/>
                  </a:lnTo>
                  <a:lnTo>
                    <a:pt x="3831" y="1006"/>
                  </a:lnTo>
                  <a:lnTo>
                    <a:pt x="3834" y="993"/>
                  </a:lnTo>
                  <a:lnTo>
                    <a:pt x="3837" y="976"/>
                  </a:lnTo>
                  <a:lnTo>
                    <a:pt x="3840" y="952"/>
                  </a:lnTo>
                  <a:lnTo>
                    <a:pt x="3842" y="923"/>
                  </a:lnTo>
                  <a:lnTo>
                    <a:pt x="3845" y="890"/>
                  </a:lnTo>
                  <a:lnTo>
                    <a:pt x="3849" y="852"/>
                  </a:lnTo>
                  <a:lnTo>
                    <a:pt x="3851" y="812"/>
                  </a:lnTo>
                  <a:lnTo>
                    <a:pt x="3854" y="769"/>
                  </a:lnTo>
                  <a:lnTo>
                    <a:pt x="3857" y="725"/>
                  </a:lnTo>
                  <a:lnTo>
                    <a:pt x="3860" y="681"/>
                  </a:lnTo>
                  <a:lnTo>
                    <a:pt x="3862" y="638"/>
                  </a:lnTo>
                  <a:lnTo>
                    <a:pt x="3866" y="597"/>
                  </a:lnTo>
                  <a:lnTo>
                    <a:pt x="3869" y="558"/>
                  </a:lnTo>
                  <a:lnTo>
                    <a:pt x="3871" y="524"/>
                  </a:lnTo>
                  <a:lnTo>
                    <a:pt x="3874" y="495"/>
                  </a:lnTo>
                  <a:lnTo>
                    <a:pt x="3877" y="473"/>
                  </a:lnTo>
                  <a:lnTo>
                    <a:pt x="3880" y="456"/>
                  </a:lnTo>
                  <a:lnTo>
                    <a:pt x="3883" y="448"/>
                  </a:lnTo>
                  <a:lnTo>
                    <a:pt x="3886" y="448"/>
                  </a:lnTo>
                  <a:lnTo>
                    <a:pt x="3889" y="455"/>
                  </a:lnTo>
                  <a:lnTo>
                    <a:pt x="3891" y="471"/>
                  </a:lnTo>
                  <a:lnTo>
                    <a:pt x="3895" y="494"/>
                  </a:lnTo>
                  <a:lnTo>
                    <a:pt x="3898" y="527"/>
                  </a:lnTo>
                  <a:lnTo>
                    <a:pt x="3900" y="566"/>
                  </a:lnTo>
                  <a:lnTo>
                    <a:pt x="3903" y="611"/>
                  </a:lnTo>
                  <a:lnTo>
                    <a:pt x="3906" y="663"/>
                  </a:lnTo>
                  <a:lnTo>
                    <a:pt x="3909" y="719"/>
                  </a:lnTo>
                  <a:lnTo>
                    <a:pt x="3912" y="779"/>
                  </a:lnTo>
                  <a:lnTo>
                    <a:pt x="3915" y="842"/>
                  </a:lnTo>
                  <a:lnTo>
                    <a:pt x="3918" y="905"/>
                  </a:lnTo>
                  <a:lnTo>
                    <a:pt x="3920" y="968"/>
                  </a:lnTo>
                  <a:lnTo>
                    <a:pt x="3924" y="1029"/>
                  </a:lnTo>
                  <a:lnTo>
                    <a:pt x="3927" y="1087"/>
                  </a:lnTo>
                  <a:lnTo>
                    <a:pt x="3929" y="1139"/>
                  </a:lnTo>
                  <a:lnTo>
                    <a:pt x="3932" y="1186"/>
                  </a:lnTo>
                  <a:lnTo>
                    <a:pt x="3935" y="1226"/>
                  </a:lnTo>
                  <a:lnTo>
                    <a:pt x="3938" y="1257"/>
                  </a:lnTo>
                  <a:lnTo>
                    <a:pt x="3941" y="1280"/>
                  </a:lnTo>
                  <a:lnTo>
                    <a:pt x="3944" y="1292"/>
                  </a:lnTo>
                  <a:lnTo>
                    <a:pt x="3947" y="1293"/>
                  </a:lnTo>
                  <a:lnTo>
                    <a:pt x="3949" y="1283"/>
                  </a:lnTo>
                  <a:lnTo>
                    <a:pt x="3953" y="1263"/>
                  </a:lnTo>
                  <a:lnTo>
                    <a:pt x="3955" y="1232"/>
                  </a:lnTo>
                  <a:lnTo>
                    <a:pt x="3958" y="1191"/>
                  </a:lnTo>
                  <a:lnTo>
                    <a:pt x="3961" y="1140"/>
                  </a:lnTo>
                  <a:lnTo>
                    <a:pt x="3964" y="1081"/>
                  </a:lnTo>
                  <a:lnTo>
                    <a:pt x="3967" y="1015"/>
                  </a:lnTo>
                  <a:lnTo>
                    <a:pt x="3969" y="941"/>
                  </a:lnTo>
                  <a:lnTo>
                    <a:pt x="3973" y="863"/>
                  </a:lnTo>
                  <a:lnTo>
                    <a:pt x="3976" y="782"/>
                  </a:lnTo>
                  <a:lnTo>
                    <a:pt x="3978" y="699"/>
                  </a:lnTo>
                  <a:lnTo>
                    <a:pt x="3982" y="618"/>
                  </a:lnTo>
                  <a:lnTo>
                    <a:pt x="3984" y="538"/>
                  </a:lnTo>
                  <a:lnTo>
                    <a:pt x="3987" y="462"/>
                  </a:lnTo>
                  <a:lnTo>
                    <a:pt x="3990" y="392"/>
                  </a:lnTo>
                  <a:lnTo>
                    <a:pt x="3993" y="328"/>
                  </a:lnTo>
                  <a:lnTo>
                    <a:pt x="3996" y="275"/>
                  </a:lnTo>
                  <a:lnTo>
                    <a:pt x="3998" y="230"/>
                  </a:lnTo>
                  <a:lnTo>
                    <a:pt x="4002" y="198"/>
                  </a:lnTo>
                  <a:lnTo>
                    <a:pt x="4005" y="178"/>
                  </a:lnTo>
                  <a:lnTo>
                    <a:pt x="4007" y="170"/>
                  </a:lnTo>
                  <a:lnTo>
                    <a:pt x="4011" y="176"/>
                  </a:lnTo>
                  <a:lnTo>
                    <a:pt x="4013" y="195"/>
                  </a:lnTo>
                  <a:lnTo>
                    <a:pt x="4016" y="227"/>
                  </a:lnTo>
                  <a:lnTo>
                    <a:pt x="4019" y="272"/>
                  </a:lnTo>
                  <a:lnTo>
                    <a:pt x="4022" y="328"/>
                  </a:lnTo>
                  <a:lnTo>
                    <a:pt x="4025" y="395"/>
                  </a:lnTo>
                  <a:lnTo>
                    <a:pt x="4027" y="472"/>
                  </a:lnTo>
                  <a:lnTo>
                    <a:pt x="4031" y="558"/>
                  </a:lnTo>
                  <a:lnTo>
                    <a:pt x="4034" y="649"/>
                  </a:lnTo>
                  <a:lnTo>
                    <a:pt x="4036" y="745"/>
                  </a:lnTo>
                  <a:lnTo>
                    <a:pt x="4040" y="843"/>
                  </a:lnTo>
                  <a:lnTo>
                    <a:pt x="4042" y="942"/>
                  </a:lnTo>
                  <a:lnTo>
                    <a:pt x="4045" y="1039"/>
                  </a:lnTo>
                  <a:lnTo>
                    <a:pt x="4047" y="1133"/>
                  </a:lnTo>
                  <a:lnTo>
                    <a:pt x="4051" y="1219"/>
                  </a:lnTo>
                  <a:lnTo>
                    <a:pt x="4054" y="1300"/>
                  </a:lnTo>
                  <a:lnTo>
                    <a:pt x="4056" y="1370"/>
                  </a:lnTo>
                  <a:lnTo>
                    <a:pt x="4060" y="1429"/>
                  </a:lnTo>
                  <a:lnTo>
                    <a:pt x="4062" y="1476"/>
                  </a:lnTo>
                  <a:lnTo>
                    <a:pt x="4065" y="1508"/>
                  </a:lnTo>
                  <a:lnTo>
                    <a:pt x="4069" y="1527"/>
                  </a:lnTo>
                  <a:lnTo>
                    <a:pt x="4071" y="1530"/>
                  </a:lnTo>
                  <a:lnTo>
                    <a:pt x="4074" y="1518"/>
                  </a:lnTo>
                  <a:lnTo>
                    <a:pt x="4076" y="1491"/>
                  </a:lnTo>
                  <a:lnTo>
                    <a:pt x="4080" y="1449"/>
                  </a:lnTo>
                  <a:lnTo>
                    <a:pt x="4083" y="1393"/>
                  </a:lnTo>
                  <a:lnTo>
                    <a:pt x="4085" y="1325"/>
                  </a:lnTo>
                  <a:lnTo>
                    <a:pt x="4089" y="1245"/>
                  </a:lnTo>
                  <a:lnTo>
                    <a:pt x="4091" y="1155"/>
                  </a:lnTo>
                  <a:lnTo>
                    <a:pt x="4094" y="1056"/>
                  </a:lnTo>
                  <a:lnTo>
                    <a:pt x="4098" y="951"/>
                  </a:lnTo>
                  <a:lnTo>
                    <a:pt x="4100" y="842"/>
                  </a:lnTo>
                  <a:lnTo>
                    <a:pt x="4103" y="732"/>
                  </a:lnTo>
                  <a:lnTo>
                    <a:pt x="4105" y="621"/>
                  </a:lnTo>
                  <a:lnTo>
                    <a:pt x="4109" y="514"/>
                  </a:lnTo>
                  <a:lnTo>
                    <a:pt x="4112" y="412"/>
                  </a:lnTo>
                  <a:lnTo>
                    <a:pt x="4114" y="317"/>
                  </a:lnTo>
                  <a:lnTo>
                    <a:pt x="4118" y="231"/>
                  </a:lnTo>
                  <a:lnTo>
                    <a:pt x="4120" y="157"/>
                  </a:lnTo>
                  <a:lnTo>
                    <a:pt x="4123" y="96"/>
                  </a:lnTo>
                  <a:lnTo>
                    <a:pt x="4127" y="49"/>
                  </a:lnTo>
                  <a:lnTo>
                    <a:pt x="4129" y="16"/>
                  </a:lnTo>
                  <a:lnTo>
                    <a:pt x="4132" y="0"/>
                  </a:lnTo>
                  <a:lnTo>
                    <a:pt x="4134" y="0"/>
                  </a:lnTo>
                  <a:lnTo>
                    <a:pt x="4138" y="16"/>
                  </a:lnTo>
                  <a:lnTo>
                    <a:pt x="4140" y="50"/>
                  </a:lnTo>
                  <a:lnTo>
                    <a:pt x="4143" y="98"/>
                  </a:lnTo>
                  <a:lnTo>
                    <a:pt x="4147" y="161"/>
                  </a:lnTo>
                  <a:lnTo>
                    <a:pt x="4149" y="238"/>
                  </a:lnTo>
                  <a:lnTo>
                    <a:pt x="4152" y="326"/>
                  </a:lnTo>
                  <a:lnTo>
                    <a:pt x="4154" y="424"/>
                  </a:lnTo>
                  <a:lnTo>
                    <a:pt x="4158" y="531"/>
                  </a:lnTo>
                  <a:lnTo>
                    <a:pt x="4161" y="642"/>
                  </a:lnTo>
                  <a:lnTo>
                    <a:pt x="4163" y="758"/>
                  </a:lnTo>
                  <a:lnTo>
                    <a:pt x="4167" y="875"/>
                  </a:lnTo>
                  <a:lnTo>
                    <a:pt x="4169" y="991"/>
                  </a:lnTo>
                  <a:lnTo>
                    <a:pt x="4172" y="1103"/>
                  </a:lnTo>
                  <a:lnTo>
                    <a:pt x="4176" y="1208"/>
                  </a:lnTo>
                  <a:lnTo>
                    <a:pt x="4178" y="1305"/>
                  </a:lnTo>
                  <a:lnTo>
                    <a:pt x="4181" y="1393"/>
                  </a:lnTo>
                  <a:lnTo>
                    <a:pt x="4183" y="1468"/>
                  </a:lnTo>
                  <a:lnTo>
                    <a:pt x="4187" y="1529"/>
                  </a:lnTo>
                  <a:lnTo>
                    <a:pt x="4190" y="1575"/>
                  </a:lnTo>
                  <a:lnTo>
                    <a:pt x="4192" y="1606"/>
                  </a:lnTo>
                  <a:lnTo>
                    <a:pt x="4196" y="1619"/>
                  </a:lnTo>
                  <a:lnTo>
                    <a:pt x="4198" y="1617"/>
                  </a:lnTo>
                  <a:lnTo>
                    <a:pt x="4201" y="1597"/>
                  </a:lnTo>
                  <a:lnTo>
                    <a:pt x="4205" y="1561"/>
                  </a:lnTo>
                  <a:lnTo>
                    <a:pt x="4207" y="1509"/>
                  </a:lnTo>
                  <a:lnTo>
                    <a:pt x="4210" y="1443"/>
                  </a:lnTo>
                  <a:lnTo>
                    <a:pt x="4212" y="1364"/>
                  </a:lnTo>
                  <a:lnTo>
                    <a:pt x="4216" y="1273"/>
                  </a:lnTo>
                  <a:lnTo>
                    <a:pt x="4219" y="1173"/>
                  </a:lnTo>
                  <a:lnTo>
                    <a:pt x="4221" y="1065"/>
                  </a:lnTo>
                  <a:lnTo>
                    <a:pt x="4225" y="952"/>
                  </a:lnTo>
                  <a:lnTo>
                    <a:pt x="4227" y="836"/>
                  </a:lnTo>
                  <a:lnTo>
                    <a:pt x="4230" y="720"/>
                  </a:lnTo>
                  <a:lnTo>
                    <a:pt x="4233" y="606"/>
                  </a:lnTo>
                  <a:lnTo>
                    <a:pt x="4236" y="495"/>
                  </a:lnTo>
                  <a:lnTo>
                    <a:pt x="4239" y="392"/>
                  </a:lnTo>
                  <a:lnTo>
                    <a:pt x="4241" y="297"/>
                  </a:lnTo>
                  <a:lnTo>
                    <a:pt x="4245" y="213"/>
                  </a:lnTo>
                  <a:lnTo>
                    <a:pt x="4247" y="141"/>
                  </a:lnTo>
                  <a:lnTo>
                    <a:pt x="4250" y="82"/>
                  </a:lnTo>
                  <a:lnTo>
                    <a:pt x="4254" y="39"/>
                  </a:lnTo>
                  <a:lnTo>
                    <a:pt x="4256" y="11"/>
                  </a:lnTo>
                  <a:lnTo>
                    <a:pt x="4259" y="0"/>
                  </a:lnTo>
                  <a:lnTo>
                    <a:pt x="4262" y="4"/>
                  </a:lnTo>
                  <a:lnTo>
                    <a:pt x="4265" y="25"/>
                  </a:lnTo>
                  <a:lnTo>
                    <a:pt x="4268" y="61"/>
                  </a:lnTo>
                  <a:lnTo>
                    <a:pt x="4270" y="112"/>
                  </a:lnTo>
                  <a:lnTo>
                    <a:pt x="4274" y="177"/>
                  </a:lnTo>
                  <a:lnTo>
                    <a:pt x="4276" y="254"/>
                  </a:lnTo>
                  <a:lnTo>
                    <a:pt x="4279" y="342"/>
                  </a:lnTo>
                  <a:lnTo>
                    <a:pt x="4283" y="438"/>
                  </a:lnTo>
                  <a:lnTo>
                    <a:pt x="4285" y="540"/>
                  </a:lnTo>
                  <a:lnTo>
                    <a:pt x="4288" y="647"/>
                  </a:lnTo>
                  <a:lnTo>
                    <a:pt x="4291" y="756"/>
                  </a:lnTo>
                  <a:lnTo>
                    <a:pt x="4294" y="865"/>
                  </a:lnTo>
                  <a:lnTo>
                    <a:pt x="4297" y="972"/>
                  </a:lnTo>
                  <a:lnTo>
                    <a:pt x="4299" y="1075"/>
                  </a:lnTo>
                  <a:lnTo>
                    <a:pt x="4303" y="1172"/>
                  </a:lnTo>
                  <a:lnTo>
                    <a:pt x="4305" y="1258"/>
                  </a:lnTo>
                  <a:lnTo>
                    <a:pt x="4308" y="1335"/>
                  </a:lnTo>
                  <a:lnTo>
                    <a:pt x="4311" y="1401"/>
                  </a:lnTo>
                  <a:lnTo>
                    <a:pt x="4314" y="1455"/>
                  </a:lnTo>
                  <a:lnTo>
                    <a:pt x="4317" y="1493"/>
                  </a:lnTo>
                  <a:lnTo>
                    <a:pt x="4320" y="1518"/>
                  </a:lnTo>
                  <a:lnTo>
                    <a:pt x="4323" y="1527"/>
                  </a:lnTo>
                  <a:lnTo>
                    <a:pt x="4325" y="1522"/>
                  </a:lnTo>
                  <a:lnTo>
                    <a:pt x="4328" y="1502"/>
                  </a:lnTo>
                  <a:lnTo>
                    <a:pt x="4332" y="1469"/>
                  </a:lnTo>
                  <a:lnTo>
                    <a:pt x="4334" y="1422"/>
                  </a:lnTo>
                  <a:lnTo>
                    <a:pt x="4337" y="1363"/>
                  </a:lnTo>
                  <a:lnTo>
                    <a:pt x="4340" y="1293"/>
                  </a:lnTo>
                  <a:lnTo>
                    <a:pt x="4343" y="1215"/>
                  </a:lnTo>
                  <a:lnTo>
                    <a:pt x="4346" y="1128"/>
                  </a:lnTo>
                  <a:lnTo>
                    <a:pt x="4349" y="1037"/>
                  </a:lnTo>
                  <a:lnTo>
                    <a:pt x="4352" y="942"/>
                  </a:lnTo>
                  <a:lnTo>
                    <a:pt x="4354" y="845"/>
                  </a:lnTo>
                  <a:lnTo>
                    <a:pt x="4357" y="749"/>
                  </a:lnTo>
                  <a:lnTo>
                    <a:pt x="4361" y="655"/>
                  </a:lnTo>
                  <a:lnTo>
                    <a:pt x="4363" y="566"/>
                  </a:lnTo>
                  <a:lnTo>
                    <a:pt x="4366" y="482"/>
                  </a:lnTo>
                  <a:lnTo>
                    <a:pt x="4369" y="406"/>
                  </a:lnTo>
                  <a:lnTo>
                    <a:pt x="4372" y="340"/>
                  </a:lnTo>
                  <a:lnTo>
                    <a:pt x="4375" y="283"/>
                  </a:lnTo>
                  <a:lnTo>
                    <a:pt x="4378" y="237"/>
                  </a:lnTo>
                  <a:lnTo>
                    <a:pt x="4381" y="205"/>
                  </a:lnTo>
                  <a:lnTo>
                    <a:pt x="4383" y="184"/>
                  </a:lnTo>
                  <a:lnTo>
                    <a:pt x="4386" y="176"/>
                  </a:lnTo>
                  <a:lnTo>
                    <a:pt x="4390" y="180"/>
                  </a:lnTo>
                  <a:lnTo>
                    <a:pt x="4392" y="197"/>
                  </a:lnTo>
                  <a:lnTo>
                    <a:pt x="4395" y="226"/>
                  </a:lnTo>
                  <a:lnTo>
                    <a:pt x="4398" y="265"/>
                  </a:lnTo>
                  <a:lnTo>
                    <a:pt x="4401" y="315"/>
                  </a:lnTo>
                  <a:lnTo>
                    <a:pt x="4403" y="373"/>
                  </a:lnTo>
                  <a:lnTo>
                    <a:pt x="4407" y="439"/>
                  </a:lnTo>
                  <a:lnTo>
                    <a:pt x="4410" y="510"/>
                  </a:lnTo>
                  <a:lnTo>
                    <a:pt x="4412" y="586"/>
                  </a:lnTo>
                  <a:lnTo>
                    <a:pt x="4415" y="664"/>
                  </a:lnTo>
                  <a:lnTo>
                    <a:pt x="4418" y="743"/>
                  </a:lnTo>
                  <a:lnTo>
                    <a:pt x="4421" y="821"/>
                  </a:lnTo>
                  <a:lnTo>
                    <a:pt x="4424" y="898"/>
                  </a:lnTo>
                  <a:lnTo>
                    <a:pt x="4427" y="970"/>
                  </a:lnTo>
                  <a:lnTo>
                    <a:pt x="4430" y="1038"/>
                  </a:lnTo>
                  <a:lnTo>
                    <a:pt x="4432" y="1099"/>
                  </a:lnTo>
                  <a:lnTo>
                    <a:pt x="4436" y="1153"/>
                  </a:lnTo>
                  <a:lnTo>
                    <a:pt x="4439" y="1197"/>
                  </a:lnTo>
                  <a:lnTo>
                    <a:pt x="4441" y="1234"/>
                  </a:lnTo>
                  <a:lnTo>
                    <a:pt x="4445" y="1261"/>
                  </a:lnTo>
                  <a:lnTo>
                    <a:pt x="4447" y="1277"/>
                  </a:lnTo>
                  <a:lnTo>
                    <a:pt x="4450" y="1284"/>
                  </a:lnTo>
                  <a:lnTo>
                    <a:pt x="4453" y="1281"/>
                  </a:lnTo>
                  <a:lnTo>
                    <a:pt x="4456" y="1268"/>
                  </a:lnTo>
                  <a:lnTo>
                    <a:pt x="4459" y="1247"/>
                  </a:lnTo>
                  <a:lnTo>
                    <a:pt x="4461" y="1217"/>
                  </a:lnTo>
                  <a:lnTo>
                    <a:pt x="4465" y="1180"/>
                  </a:lnTo>
                  <a:lnTo>
                    <a:pt x="4468" y="1137"/>
                  </a:lnTo>
                  <a:lnTo>
                    <a:pt x="4470" y="1088"/>
                  </a:lnTo>
                  <a:lnTo>
                    <a:pt x="4474" y="1035"/>
                  </a:lnTo>
                  <a:lnTo>
                    <a:pt x="4476" y="979"/>
                  </a:lnTo>
                  <a:lnTo>
                    <a:pt x="4479" y="921"/>
                  </a:lnTo>
                  <a:lnTo>
                    <a:pt x="4482" y="862"/>
                  </a:lnTo>
                  <a:lnTo>
                    <a:pt x="4485" y="805"/>
                  </a:lnTo>
                  <a:lnTo>
                    <a:pt x="4488" y="748"/>
                  </a:lnTo>
                  <a:lnTo>
                    <a:pt x="4490" y="696"/>
                  </a:lnTo>
                  <a:lnTo>
                    <a:pt x="4494" y="646"/>
                  </a:lnTo>
                  <a:lnTo>
                    <a:pt x="4496" y="602"/>
                  </a:lnTo>
                  <a:lnTo>
                    <a:pt x="4499" y="562"/>
                  </a:lnTo>
                  <a:lnTo>
                    <a:pt x="4503" y="530"/>
                  </a:lnTo>
                  <a:lnTo>
                    <a:pt x="4505" y="503"/>
                  </a:lnTo>
                  <a:lnTo>
                    <a:pt x="4508" y="483"/>
                  </a:lnTo>
                  <a:lnTo>
                    <a:pt x="4510" y="470"/>
                  </a:lnTo>
                  <a:lnTo>
                    <a:pt x="4514" y="464"/>
                  </a:lnTo>
                  <a:lnTo>
                    <a:pt x="4517" y="464"/>
                  </a:lnTo>
                  <a:lnTo>
                    <a:pt x="4519" y="472"/>
                  </a:lnTo>
                  <a:lnTo>
                    <a:pt x="4523" y="484"/>
                  </a:lnTo>
                  <a:lnTo>
                    <a:pt x="4525" y="503"/>
                  </a:lnTo>
                  <a:lnTo>
                    <a:pt x="4528" y="526"/>
                  </a:lnTo>
                  <a:lnTo>
                    <a:pt x="4532" y="553"/>
                  </a:lnTo>
                  <a:lnTo>
                    <a:pt x="4534" y="583"/>
                  </a:lnTo>
                  <a:lnTo>
                    <a:pt x="4537" y="617"/>
                  </a:lnTo>
                  <a:lnTo>
                    <a:pt x="4539" y="651"/>
                  </a:lnTo>
                  <a:lnTo>
                    <a:pt x="4543" y="688"/>
                  </a:lnTo>
                  <a:lnTo>
                    <a:pt x="4546" y="724"/>
                  </a:lnTo>
                  <a:lnTo>
                    <a:pt x="4548" y="759"/>
                  </a:lnTo>
                  <a:lnTo>
                    <a:pt x="4552" y="794"/>
                  </a:lnTo>
                  <a:lnTo>
                    <a:pt x="4554" y="826"/>
                  </a:lnTo>
                  <a:lnTo>
                    <a:pt x="4557" y="856"/>
                  </a:lnTo>
                  <a:lnTo>
                    <a:pt x="4561" y="884"/>
                  </a:lnTo>
                  <a:lnTo>
                    <a:pt x="4563" y="909"/>
                  </a:lnTo>
                  <a:lnTo>
                    <a:pt x="4566" y="929"/>
                  </a:lnTo>
                  <a:lnTo>
                    <a:pt x="4568" y="947"/>
                  </a:lnTo>
                  <a:lnTo>
                    <a:pt x="4572" y="960"/>
                  </a:lnTo>
                  <a:lnTo>
                    <a:pt x="4575" y="970"/>
                  </a:lnTo>
                  <a:lnTo>
                    <a:pt x="4577" y="976"/>
                  </a:lnTo>
                  <a:lnTo>
                    <a:pt x="4581" y="978"/>
                  </a:lnTo>
                  <a:lnTo>
                    <a:pt x="4583" y="978"/>
                  </a:lnTo>
                  <a:lnTo>
                    <a:pt x="4586" y="973"/>
                  </a:lnTo>
                  <a:lnTo>
                    <a:pt x="4588" y="968"/>
                  </a:lnTo>
                  <a:lnTo>
                    <a:pt x="4592" y="959"/>
                  </a:lnTo>
                  <a:lnTo>
                    <a:pt x="4595" y="949"/>
                  </a:lnTo>
                  <a:lnTo>
                    <a:pt x="4597" y="937"/>
                  </a:lnTo>
                  <a:lnTo>
                    <a:pt x="4601" y="923"/>
                  </a:lnTo>
                  <a:lnTo>
                    <a:pt x="4603" y="910"/>
                  </a:lnTo>
                  <a:lnTo>
                    <a:pt x="4606" y="895"/>
                  </a:lnTo>
                  <a:lnTo>
                    <a:pt x="4610" y="882"/>
                  </a:lnTo>
                  <a:lnTo>
                    <a:pt x="4612" y="867"/>
                  </a:lnTo>
                  <a:lnTo>
                    <a:pt x="4615" y="854"/>
                  </a:lnTo>
                  <a:lnTo>
                    <a:pt x="4617" y="841"/>
                  </a:lnTo>
                  <a:lnTo>
                    <a:pt x="4621" y="829"/>
                  </a:lnTo>
                  <a:lnTo>
                    <a:pt x="4624" y="817"/>
                  </a:lnTo>
                  <a:lnTo>
                    <a:pt x="4626" y="807"/>
                  </a:lnTo>
                  <a:lnTo>
                    <a:pt x="4630" y="797"/>
                  </a:lnTo>
                  <a:lnTo>
                    <a:pt x="4632" y="788"/>
                  </a:lnTo>
                  <a:lnTo>
                    <a:pt x="4635" y="781"/>
                  </a:lnTo>
                  <a:lnTo>
                    <a:pt x="4639" y="774"/>
                  </a:lnTo>
                  <a:lnTo>
                    <a:pt x="4641" y="767"/>
                  </a:lnTo>
                  <a:lnTo>
                    <a:pt x="4644" y="761"/>
                  </a:lnTo>
                  <a:lnTo>
                    <a:pt x="4646" y="755"/>
                  </a:lnTo>
                  <a:lnTo>
                    <a:pt x="4650" y="749"/>
                  </a:lnTo>
                  <a:lnTo>
                    <a:pt x="4653" y="744"/>
                  </a:lnTo>
                  <a:lnTo>
                    <a:pt x="4655" y="739"/>
                  </a:lnTo>
                  <a:lnTo>
                    <a:pt x="4659" y="734"/>
                  </a:lnTo>
                  <a:lnTo>
                    <a:pt x="4661" y="728"/>
                  </a:lnTo>
                  <a:lnTo>
                    <a:pt x="4664" y="723"/>
                  </a:lnTo>
                  <a:lnTo>
                    <a:pt x="4668" y="717"/>
                  </a:lnTo>
                  <a:lnTo>
                    <a:pt x="4670" y="710"/>
                  </a:lnTo>
                  <a:lnTo>
                    <a:pt x="4673" y="705"/>
                  </a:lnTo>
                  <a:lnTo>
                    <a:pt x="4675" y="700"/>
                  </a:lnTo>
                  <a:lnTo>
                    <a:pt x="4679" y="695"/>
                  </a:lnTo>
                  <a:lnTo>
                    <a:pt x="4681" y="690"/>
                  </a:lnTo>
                  <a:lnTo>
                    <a:pt x="4684" y="687"/>
                  </a:lnTo>
                  <a:lnTo>
                    <a:pt x="4688" y="685"/>
                  </a:lnTo>
                  <a:lnTo>
                    <a:pt x="4690" y="684"/>
                  </a:lnTo>
                  <a:lnTo>
                    <a:pt x="4693" y="684"/>
                  </a:lnTo>
                  <a:lnTo>
                    <a:pt x="4696" y="685"/>
                  </a:lnTo>
                  <a:lnTo>
                    <a:pt x="4699" y="689"/>
                  </a:lnTo>
                  <a:lnTo>
                    <a:pt x="4702" y="695"/>
                  </a:lnTo>
                  <a:lnTo>
                    <a:pt x="4704" y="702"/>
                  </a:lnTo>
                  <a:lnTo>
                    <a:pt x="4708" y="712"/>
                  </a:lnTo>
                  <a:lnTo>
                    <a:pt x="4710" y="724"/>
                  </a:lnTo>
                  <a:lnTo>
                    <a:pt x="4713" y="737"/>
                  </a:lnTo>
                  <a:lnTo>
                    <a:pt x="4717" y="754"/>
                  </a:lnTo>
                  <a:lnTo>
                    <a:pt x="4719" y="772"/>
                  </a:lnTo>
                  <a:lnTo>
                    <a:pt x="4722" y="791"/>
                  </a:lnTo>
                  <a:lnTo>
                    <a:pt x="4725" y="811"/>
                  </a:lnTo>
                  <a:lnTo>
                    <a:pt x="4728" y="833"/>
                  </a:lnTo>
                  <a:lnTo>
                    <a:pt x="4731" y="854"/>
                  </a:lnTo>
                  <a:lnTo>
                    <a:pt x="4733" y="876"/>
                  </a:lnTo>
                  <a:lnTo>
                    <a:pt x="4737" y="899"/>
                  </a:lnTo>
                  <a:lnTo>
                    <a:pt x="4739" y="920"/>
                  </a:lnTo>
                  <a:lnTo>
                    <a:pt x="4742" y="940"/>
                  </a:lnTo>
                  <a:lnTo>
                    <a:pt x="4746" y="958"/>
                  </a:lnTo>
                  <a:lnTo>
                    <a:pt x="4748" y="973"/>
                  </a:lnTo>
                  <a:lnTo>
                    <a:pt x="4751" y="987"/>
                  </a:lnTo>
                  <a:lnTo>
                    <a:pt x="4754" y="997"/>
                  </a:lnTo>
                  <a:lnTo>
                    <a:pt x="4757" y="1003"/>
                  </a:lnTo>
                  <a:lnTo>
                    <a:pt x="4759" y="1007"/>
                  </a:lnTo>
                  <a:lnTo>
                    <a:pt x="4762" y="1006"/>
                  </a:lnTo>
                  <a:lnTo>
                    <a:pt x="4766" y="1001"/>
                  </a:lnTo>
                  <a:lnTo>
                    <a:pt x="4768" y="991"/>
                  </a:lnTo>
                  <a:lnTo>
                    <a:pt x="4771" y="979"/>
                  </a:lnTo>
                  <a:lnTo>
                    <a:pt x="4774" y="961"/>
                  </a:lnTo>
                  <a:lnTo>
                    <a:pt x="4777" y="940"/>
                  </a:lnTo>
                  <a:lnTo>
                    <a:pt x="4780" y="915"/>
                  </a:lnTo>
                  <a:lnTo>
                    <a:pt x="4783" y="888"/>
                  </a:lnTo>
                  <a:lnTo>
                    <a:pt x="4786" y="857"/>
                  </a:lnTo>
                  <a:lnTo>
                    <a:pt x="4788" y="826"/>
                  </a:lnTo>
                  <a:lnTo>
                    <a:pt x="4791" y="792"/>
                  </a:lnTo>
                  <a:lnTo>
                    <a:pt x="4795" y="758"/>
                  </a:lnTo>
                  <a:lnTo>
                    <a:pt x="4797" y="724"/>
                  </a:lnTo>
                  <a:lnTo>
                    <a:pt x="4800" y="689"/>
                  </a:lnTo>
                  <a:lnTo>
                    <a:pt x="4803" y="657"/>
                  </a:lnTo>
                  <a:lnTo>
                    <a:pt x="4806" y="627"/>
                  </a:lnTo>
                  <a:lnTo>
                    <a:pt x="4809" y="599"/>
                  </a:lnTo>
                  <a:lnTo>
                    <a:pt x="4812" y="576"/>
                  </a:lnTo>
                  <a:lnTo>
                    <a:pt x="4815" y="556"/>
                  </a:lnTo>
                  <a:lnTo>
                    <a:pt x="4817" y="539"/>
                  </a:lnTo>
                  <a:lnTo>
                    <a:pt x="4820" y="529"/>
                  </a:lnTo>
                  <a:lnTo>
                    <a:pt x="4824" y="523"/>
                  </a:lnTo>
                  <a:lnTo>
                    <a:pt x="4826" y="523"/>
                  </a:lnTo>
                  <a:lnTo>
                    <a:pt x="4829" y="529"/>
                  </a:lnTo>
                  <a:lnTo>
                    <a:pt x="4832" y="540"/>
                  </a:lnTo>
                  <a:lnTo>
                    <a:pt x="4835" y="556"/>
                  </a:lnTo>
                  <a:lnTo>
                    <a:pt x="4838" y="578"/>
                  </a:lnTo>
                  <a:lnTo>
                    <a:pt x="4841" y="605"/>
                  </a:lnTo>
                  <a:lnTo>
                    <a:pt x="4844" y="635"/>
                  </a:lnTo>
                  <a:lnTo>
                    <a:pt x="4846" y="669"/>
                  </a:lnTo>
                  <a:lnTo>
                    <a:pt x="4849" y="707"/>
                  </a:lnTo>
                  <a:lnTo>
                    <a:pt x="4852" y="746"/>
                  </a:lnTo>
                  <a:lnTo>
                    <a:pt x="4855" y="787"/>
                  </a:lnTo>
                  <a:lnTo>
                    <a:pt x="4858" y="830"/>
                  </a:lnTo>
                  <a:lnTo>
                    <a:pt x="4861" y="872"/>
                  </a:lnTo>
                  <a:lnTo>
                    <a:pt x="4864" y="912"/>
                  </a:lnTo>
                  <a:lnTo>
                    <a:pt x="4866" y="951"/>
                  </a:lnTo>
                  <a:lnTo>
                    <a:pt x="4870" y="987"/>
                  </a:lnTo>
                  <a:lnTo>
                    <a:pt x="4873" y="1019"/>
                  </a:lnTo>
                  <a:lnTo>
                    <a:pt x="4875" y="1048"/>
                  </a:lnTo>
                  <a:lnTo>
                    <a:pt x="4878" y="1070"/>
                  </a:lnTo>
                  <a:lnTo>
                    <a:pt x="4881" y="1088"/>
                  </a:lnTo>
                  <a:lnTo>
                    <a:pt x="4884" y="1100"/>
                  </a:lnTo>
                  <a:lnTo>
                    <a:pt x="4887" y="1106"/>
                  </a:lnTo>
                  <a:lnTo>
                    <a:pt x="4890" y="1106"/>
                  </a:lnTo>
                  <a:lnTo>
                    <a:pt x="4893" y="1099"/>
                  </a:lnTo>
                  <a:lnTo>
                    <a:pt x="4895" y="1086"/>
                  </a:lnTo>
                  <a:lnTo>
                    <a:pt x="4899" y="1067"/>
                  </a:lnTo>
                  <a:lnTo>
                    <a:pt x="4902" y="1042"/>
                  </a:lnTo>
                  <a:lnTo>
                    <a:pt x="4904" y="1012"/>
                  </a:lnTo>
                  <a:lnTo>
                    <a:pt x="4907" y="978"/>
                  </a:lnTo>
                  <a:lnTo>
                    <a:pt x="4910" y="940"/>
                  </a:lnTo>
                  <a:lnTo>
                    <a:pt x="4913" y="899"/>
                  </a:lnTo>
                  <a:lnTo>
                    <a:pt x="4916" y="855"/>
                  </a:lnTo>
                  <a:lnTo>
                    <a:pt x="4919" y="811"/>
                  </a:lnTo>
                  <a:lnTo>
                    <a:pt x="4922" y="766"/>
                  </a:lnTo>
                  <a:lnTo>
                    <a:pt x="4924" y="722"/>
                  </a:lnTo>
                  <a:lnTo>
                    <a:pt x="4928" y="679"/>
                  </a:lnTo>
                  <a:lnTo>
                    <a:pt x="4931" y="639"/>
                  </a:lnTo>
                  <a:lnTo>
                    <a:pt x="4933" y="602"/>
                  </a:lnTo>
                  <a:lnTo>
                    <a:pt x="4936" y="569"/>
                  </a:lnTo>
                  <a:lnTo>
                    <a:pt x="4939" y="541"/>
                  </a:lnTo>
                  <a:lnTo>
                    <a:pt x="4942" y="519"/>
                  </a:lnTo>
                  <a:lnTo>
                    <a:pt x="4944" y="501"/>
                  </a:lnTo>
                  <a:lnTo>
                    <a:pt x="4948" y="491"/>
                  </a:lnTo>
                  <a:lnTo>
                    <a:pt x="4951" y="487"/>
                  </a:lnTo>
                  <a:lnTo>
                    <a:pt x="4953" y="489"/>
                  </a:lnTo>
                  <a:lnTo>
                    <a:pt x="4957" y="498"/>
                  </a:lnTo>
                  <a:lnTo>
                    <a:pt x="4959" y="512"/>
                  </a:lnTo>
                  <a:lnTo>
                    <a:pt x="4962" y="533"/>
                  </a:lnTo>
                  <a:lnTo>
                    <a:pt x="4965" y="559"/>
                  </a:lnTo>
                  <a:lnTo>
                    <a:pt x="4968" y="590"/>
                  </a:lnTo>
                  <a:lnTo>
                    <a:pt x="4971" y="626"/>
                  </a:lnTo>
                  <a:lnTo>
                    <a:pt x="4973" y="664"/>
                  </a:lnTo>
                  <a:lnTo>
                    <a:pt x="4977" y="705"/>
                  </a:lnTo>
                  <a:lnTo>
                    <a:pt x="4980" y="748"/>
                  </a:lnTo>
                  <a:lnTo>
                    <a:pt x="4982" y="792"/>
                  </a:lnTo>
                  <a:lnTo>
                    <a:pt x="4986" y="835"/>
                  </a:lnTo>
                  <a:lnTo>
                    <a:pt x="4988" y="878"/>
                  </a:lnTo>
                  <a:lnTo>
                    <a:pt x="4991" y="918"/>
                  </a:lnTo>
                  <a:lnTo>
                    <a:pt x="4994" y="955"/>
                  </a:lnTo>
                  <a:lnTo>
                    <a:pt x="4997" y="989"/>
                  </a:lnTo>
                  <a:lnTo>
                    <a:pt x="5000" y="1019"/>
                  </a:lnTo>
                  <a:lnTo>
                    <a:pt x="5002" y="1043"/>
                  </a:lnTo>
                  <a:lnTo>
                    <a:pt x="5006" y="1062"/>
                  </a:lnTo>
                  <a:lnTo>
                    <a:pt x="5009" y="1077"/>
                  </a:lnTo>
                  <a:lnTo>
                    <a:pt x="5011" y="1085"/>
                  </a:lnTo>
                  <a:lnTo>
                    <a:pt x="5015" y="1086"/>
                  </a:lnTo>
                  <a:lnTo>
                    <a:pt x="5017" y="1081"/>
                  </a:lnTo>
                  <a:lnTo>
                    <a:pt x="5020" y="1070"/>
                  </a:lnTo>
                  <a:lnTo>
                    <a:pt x="5023" y="1055"/>
                  </a:lnTo>
                  <a:lnTo>
                    <a:pt x="5026" y="1033"/>
                  </a:lnTo>
                  <a:lnTo>
                    <a:pt x="5029" y="1007"/>
                  </a:lnTo>
                  <a:lnTo>
                    <a:pt x="5031" y="977"/>
                  </a:lnTo>
                  <a:lnTo>
                    <a:pt x="5035" y="943"/>
                  </a:lnTo>
                  <a:lnTo>
                    <a:pt x="5037" y="908"/>
                  </a:lnTo>
                  <a:lnTo>
                    <a:pt x="5040" y="870"/>
                  </a:lnTo>
                  <a:lnTo>
                    <a:pt x="5044" y="831"/>
                  </a:lnTo>
                  <a:lnTo>
                    <a:pt x="5046" y="791"/>
                  </a:lnTo>
                  <a:lnTo>
                    <a:pt x="5049" y="753"/>
                  </a:lnTo>
                  <a:lnTo>
                    <a:pt x="5051" y="716"/>
                  </a:lnTo>
                  <a:lnTo>
                    <a:pt x="5055" y="681"/>
                  </a:lnTo>
                  <a:lnTo>
                    <a:pt x="5058" y="649"/>
                  </a:lnTo>
                  <a:lnTo>
                    <a:pt x="5060" y="621"/>
                  </a:lnTo>
                  <a:lnTo>
                    <a:pt x="5064" y="598"/>
                  </a:lnTo>
                  <a:lnTo>
                    <a:pt x="5066" y="579"/>
                  </a:lnTo>
                  <a:lnTo>
                    <a:pt x="5069" y="565"/>
                  </a:lnTo>
                  <a:lnTo>
                    <a:pt x="5073" y="556"/>
                  </a:lnTo>
                  <a:lnTo>
                    <a:pt x="5075" y="552"/>
                  </a:lnTo>
                  <a:lnTo>
                    <a:pt x="5078" y="553"/>
                  </a:lnTo>
                  <a:lnTo>
                    <a:pt x="5080" y="560"/>
                  </a:lnTo>
                  <a:lnTo>
                    <a:pt x="5084" y="572"/>
                  </a:lnTo>
                  <a:lnTo>
                    <a:pt x="5087" y="589"/>
                  </a:lnTo>
                  <a:lnTo>
                    <a:pt x="5089" y="609"/>
                  </a:lnTo>
                  <a:lnTo>
                    <a:pt x="5093" y="634"/>
                  </a:lnTo>
                  <a:lnTo>
                    <a:pt x="5095" y="661"/>
                  </a:lnTo>
                  <a:lnTo>
                    <a:pt x="5098" y="690"/>
                  </a:lnTo>
                  <a:lnTo>
                    <a:pt x="5102" y="722"/>
                  </a:lnTo>
                  <a:lnTo>
                    <a:pt x="5104" y="754"/>
                  </a:lnTo>
                  <a:lnTo>
                    <a:pt x="5107" y="7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050200" y="5415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29540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0620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517480" y="54151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057480" y="54151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589200" y="54151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127400" y="541512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14620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68260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21936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755760" y="541512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8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9700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63520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17196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70836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24512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78296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31828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85468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39288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92928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466040" y="5295960"/>
              <a:ext cx="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09700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36520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63520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90340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1719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4401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7083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9765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24512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5147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78296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04972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3182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5864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8546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61228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3928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6610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92928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197840" y="529596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877400" y="521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769040" y="358776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510080" y="5637240"/>
              <a:ext cx="59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(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 rot="16200000">
              <a:off x="1015920" y="4363560"/>
              <a:ext cx="11761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me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781640" y="441324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726920" y="481968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726920" y="400860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>
              <a:off x="2027160" y="529920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>
              <a:off x="2027160" y="489276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>
              <a:off x="2027160" y="448632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>
              <a:off x="2027160" y="407988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>
              <a:off x="2027160" y="3673440"/>
              <a:ext cx="6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2097000" y="4613400"/>
              <a:ext cx="5367600" cy="680760"/>
            </a:xfrm>
            <a:custGeom>
              <a:avLst/>
              <a:gdLst/>
              <a:ahLst/>
              <a:rect l="l" t="t" r="r" b="b"/>
              <a:pathLst>
                <a:path w="6380" h="773">
                  <a:moveTo>
                    <a:pt x="0" y="773"/>
                  </a:moveTo>
                  <a:lnTo>
                    <a:pt x="35" y="767"/>
                  </a:lnTo>
                  <a:lnTo>
                    <a:pt x="69" y="767"/>
                  </a:lnTo>
                  <a:lnTo>
                    <a:pt x="103" y="767"/>
                  </a:lnTo>
                  <a:lnTo>
                    <a:pt x="137" y="767"/>
                  </a:lnTo>
                  <a:lnTo>
                    <a:pt x="172" y="767"/>
                  </a:lnTo>
                  <a:lnTo>
                    <a:pt x="207" y="767"/>
                  </a:lnTo>
                  <a:lnTo>
                    <a:pt x="241" y="767"/>
                  </a:lnTo>
                  <a:lnTo>
                    <a:pt x="275" y="767"/>
                  </a:lnTo>
                  <a:lnTo>
                    <a:pt x="309" y="767"/>
                  </a:lnTo>
                  <a:lnTo>
                    <a:pt x="344" y="767"/>
                  </a:lnTo>
                  <a:lnTo>
                    <a:pt x="378" y="767"/>
                  </a:lnTo>
                  <a:lnTo>
                    <a:pt x="413" y="767"/>
                  </a:lnTo>
                  <a:lnTo>
                    <a:pt x="446" y="767"/>
                  </a:lnTo>
                  <a:lnTo>
                    <a:pt x="481" y="767"/>
                  </a:lnTo>
                  <a:lnTo>
                    <a:pt x="516" y="767"/>
                  </a:lnTo>
                  <a:lnTo>
                    <a:pt x="550" y="767"/>
                  </a:lnTo>
                  <a:lnTo>
                    <a:pt x="584" y="767"/>
                  </a:lnTo>
                  <a:lnTo>
                    <a:pt x="618" y="767"/>
                  </a:lnTo>
                  <a:lnTo>
                    <a:pt x="653" y="767"/>
                  </a:lnTo>
                  <a:lnTo>
                    <a:pt x="687" y="767"/>
                  </a:lnTo>
                  <a:lnTo>
                    <a:pt x="722" y="766"/>
                  </a:lnTo>
                  <a:lnTo>
                    <a:pt x="755" y="766"/>
                  </a:lnTo>
                  <a:lnTo>
                    <a:pt x="790" y="766"/>
                  </a:lnTo>
                  <a:lnTo>
                    <a:pt x="825" y="766"/>
                  </a:lnTo>
                  <a:lnTo>
                    <a:pt x="859" y="766"/>
                  </a:lnTo>
                  <a:lnTo>
                    <a:pt x="894" y="766"/>
                  </a:lnTo>
                  <a:lnTo>
                    <a:pt x="927" y="766"/>
                  </a:lnTo>
                  <a:lnTo>
                    <a:pt x="962" y="766"/>
                  </a:lnTo>
                  <a:lnTo>
                    <a:pt x="996" y="766"/>
                  </a:lnTo>
                  <a:lnTo>
                    <a:pt x="1031" y="766"/>
                  </a:lnTo>
                  <a:lnTo>
                    <a:pt x="1064" y="765"/>
                  </a:lnTo>
                  <a:lnTo>
                    <a:pt x="1099" y="765"/>
                  </a:lnTo>
                  <a:lnTo>
                    <a:pt x="1134" y="765"/>
                  </a:lnTo>
                  <a:lnTo>
                    <a:pt x="1168" y="765"/>
                  </a:lnTo>
                  <a:lnTo>
                    <a:pt x="1203" y="765"/>
                  </a:lnTo>
                  <a:lnTo>
                    <a:pt x="1236" y="765"/>
                  </a:lnTo>
                  <a:lnTo>
                    <a:pt x="1271" y="765"/>
                  </a:lnTo>
                  <a:lnTo>
                    <a:pt x="1305" y="764"/>
                  </a:lnTo>
                  <a:lnTo>
                    <a:pt x="1340" y="764"/>
                  </a:lnTo>
                  <a:lnTo>
                    <a:pt x="1374" y="764"/>
                  </a:lnTo>
                  <a:lnTo>
                    <a:pt x="1408" y="764"/>
                  </a:lnTo>
                  <a:lnTo>
                    <a:pt x="1443" y="764"/>
                  </a:lnTo>
                  <a:lnTo>
                    <a:pt x="1477" y="763"/>
                  </a:lnTo>
                  <a:lnTo>
                    <a:pt x="1512" y="763"/>
                  </a:lnTo>
                  <a:lnTo>
                    <a:pt x="1545" y="763"/>
                  </a:lnTo>
                  <a:lnTo>
                    <a:pt x="1580" y="763"/>
                  </a:lnTo>
                  <a:lnTo>
                    <a:pt x="1614" y="762"/>
                  </a:lnTo>
                  <a:lnTo>
                    <a:pt x="1649" y="762"/>
                  </a:lnTo>
                  <a:lnTo>
                    <a:pt x="1683" y="762"/>
                  </a:lnTo>
                  <a:lnTo>
                    <a:pt x="1717" y="761"/>
                  </a:lnTo>
                  <a:lnTo>
                    <a:pt x="1752" y="761"/>
                  </a:lnTo>
                  <a:lnTo>
                    <a:pt x="1786" y="761"/>
                  </a:lnTo>
                  <a:lnTo>
                    <a:pt x="1821" y="760"/>
                  </a:lnTo>
                  <a:lnTo>
                    <a:pt x="1855" y="760"/>
                  </a:lnTo>
                  <a:lnTo>
                    <a:pt x="1889" y="759"/>
                  </a:lnTo>
                  <a:lnTo>
                    <a:pt x="1923" y="759"/>
                  </a:lnTo>
                  <a:lnTo>
                    <a:pt x="1958" y="757"/>
                  </a:lnTo>
                  <a:lnTo>
                    <a:pt x="1993" y="757"/>
                  </a:lnTo>
                  <a:lnTo>
                    <a:pt x="2026" y="756"/>
                  </a:lnTo>
                  <a:lnTo>
                    <a:pt x="2061" y="755"/>
                  </a:lnTo>
                  <a:lnTo>
                    <a:pt x="2095" y="755"/>
                  </a:lnTo>
                  <a:lnTo>
                    <a:pt x="2130" y="754"/>
                  </a:lnTo>
                  <a:lnTo>
                    <a:pt x="2164" y="753"/>
                  </a:lnTo>
                  <a:lnTo>
                    <a:pt x="2198" y="752"/>
                  </a:lnTo>
                  <a:lnTo>
                    <a:pt x="2232" y="751"/>
                  </a:lnTo>
                  <a:lnTo>
                    <a:pt x="2267" y="750"/>
                  </a:lnTo>
                  <a:lnTo>
                    <a:pt x="2302" y="749"/>
                  </a:lnTo>
                  <a:lnTo>
                    <a:pt x="2336" y="747"/>
                  </a:lnTo>
                  <a:lnTo>
                    <a:pt x="2370" y="745"/>
                  </a:lnTo>
                  <a:lnTo>
                    <a:pt x="2404" y="743"/>
                  </a:lnTo>
                  <a:lnTo>
                    <a:pt x="2439" y="741"/>
                  </a:lnTo>
                  <a:lnTo>
                    <a:pt x="2473" y="739"/>
                  </a:lnTo>
                  <a:lnTo>
                    <a:pt x="2507" y="736"/>
                  </a:lnTo>
                  <a:lnTo>
                    <a:pt x="2541" y="732"/>
                  </a:lnTo>
                  <a:lnTo>
                    <a:pt x="2576" y="729"/>
                  </a:lnTo>
                  <a:lnTo>
                    <a:pt x="2611" y="723"/>
                  </a:lnTo>
                  <a:lnTo>
                    <a:pt x="2645" y="715"/>
                  </a:lnTo>
                  <a:lnTo>
                    <a:pt x="2679" y="705"/>
                  </a:lnTo>
                  <a:lnTo>
                    <a:pt x="2713" y="691"/>
                  </a:lnTo>
                  <a:lnTo>
                    <a:pt x="2748" y="651"/>
                  </a:lnTo>
                  <a:lnTo>
                    <a:pt x="2782" y="595"/>
                  </a:lnTo>
                  <a:lnTo>
                    <a:pt x="2817" y="158"/>
                  </a:lnTo>
                  <a:lnTo>
                    <a:pt x="2850" y="100"/>
                  </a:lnTo>
                  <a:lnTo>
                    <a:pt x="2885" y="61"/>
                  </a:lnTo>
                  <a:lnTo>
                    <a:pt x="2920" y="23"/>
                  </a:lnTo>
                  <a:lnTo>
                    <a:pt x="2954" y="28"/>
                  </a:lnTo>
                  <a:lnTo>
                    <a:pt x="2988" y="187"/>
                  </a:lnTo>
                  <a:lnTo>
                    <a:pt x="3022" y="117"/>
                  </a:lnTo>
                  <a:lnTo>
                    <a:pt x="3057" y="81"/>
                  </a:lnTo>
                  <a:lnTo>
                    <a:pt x="3091" y="133"/>
                  </a:lnTo>
                  <a:lnTo>
                    <a:pt x="3126" y="163"/>
                  </a:lnTo>
                  <a:lnTo>
                    <a:pt x="3159" y="94"/>
                  </a:lnTo>
                  <a:lnTo>
                    <a:pt x="3194" y="78"/>
                  </a:lnTo>
                  <a:lnTo>
                    <a:pt x="3229" y="0"/>
                  </a:lnTo>
                  <a:lnTo>
                    <a:pt x="3263" y="25"/>
                  </a:lnTo>
                  <a:lnTo>
                    <a:pt x="3298" y="59"/>
                  </a:lnTo>
                  <a:lnTo>
                    <a:pt x="3331" y="41"/>
                  </a:lnTo>
                  <a:lnTo>
                    <a:pt x="3366" y="143"/>
                  </a:lnTo>
                  <a:lnTo>
                    <a:pt x="3400" y="111"/>
                  </a:lnTo>
                  <a:lnTo>
                    <a:pt x="3435" y="128"/>
                  </a:lnTo>
                  <a:lnTo>
                    <a:pt x="3468" y="74"/>
                  </a:lnTo>
                  <a:lnTo>
                    <a:pt x="3503" y="75"/>
                  </a:lnTo>
                  <a:lnTo>
                    <a:pt x="3538" y="149"/>
                  </a:lnTo>
                  <a:lnTo>
                    <a:pt x="3572" y="596"/>
                  </a:lnTo>
                  <a:lnTo>
                    <a:pt x="3607" y="651"/>
                  </a:lnTo>
                  <a:lnTo>
                    <a:pt x="3640" y="693"/>
                  </a:lnTo>
                  <a:lnTo>
                    <a:pt x="3675" y="707"/>
                  </a:lnTo>
                  <a:lnTo>
                    <a:pt x="3709" y="717"/>
                  </a:lnTo>
                  <a:lnTo>
                    <a:pt x="3744" y="724"/>
                  </a:lnTo>
                  <a:lnTo>
                    <a:pt x="3779" y="730"/>
                  </a:lnTo>
                  <a:lnTo>
                    <a:pt x="3812" y="734"/>
                  </a:lnTo>
                  <a:lnTo>
                    <a:pt x="3847" y="737"/>
                  </a:lnTo>
                  <a:lnTo>
                    <a:pt x="3881" y="740"/>
                  </a:lnTo>
                  <a:lnTo>
                    <a:pt x="3916" y="743"/>
                  </a:lnTo>
                  <a:lnTo>
                    <a:pt x="3949" y="745"/>
                  </a:lnTo>
                  <a:lnTo>
                    <a:pt x="3984" y="746"/>
                  </a:lnTo>
                  <a:lnTo>
                    <a:pt x="4018" y="749"/>
                  </a:lnTo>
                  <a:lnTo>
                    <a:pt x="4053" y="750"/>
                  </a:lnTo>
                  <a:lnTo>
                    <a:pt x="4088" y="751"/>
                  </a:lnTo>
                  <a:lnTo>
                    <a:pt x="4121" y="752"/>
                  </a:lnTo>
                  <a:lnTo>
                    <a:pt x="4156" y="753"/>
                  </a:lnTo>
                  <a:lnTo>
                    <a:pt x="4190" y="754"/>
                  </a:lnTo>
                  <a:lnTo>
                    <a:pt x="4225" y="755"/>
                  </a:lnTo>
                  <a:lnTo>
                    <a:pt x="4259" y="756"/>
                  </a:lnTo>
                  <a:lnTo>
                    <a:pt x="4293" y="757"/>
                  </a:lnTo>
                  <a:lnTo>
                    <a:pt x="4327" y="757"/>
                  </a:lnTo>
                  <a:lnTo>
                    <a:pt x="4362" y="759"/>
                  </a:lnTo>
                  <a:lnTo>
                    <a:pt x="4397" y="759"/>
                  </a:lnTo>
                  <a:lnTo>
                    <a:pt x="4430" y="760"/>
                  </a:lnTo>
                  <a:lnTo>
                    <a:pt x="4465" y="760"/>
                  </a:lnTo>
                  <a:lnTo>
                    <a:pt x="4499" y="761"/>
                  </a:lnTo>
                  <a:lnTo>
                    <a:pt x="4534" y="761"/>
                  </a:lnTo>
                  <a:lnTo>
                    <a:pt x="4568" y="762"/>
                  </a:lnTo>
                  <a:lnTo>
                    <a:pt x="4602" y="762"/>
                  </a:lnTo>
                  <a:lnTo>
                    <a:pt x="4636" y="762"/>
                  </a:lnTo>
                  <a:lnTo>
                    <a:pt x="4671" y="763"/>
                  </a:lnTo>
                  <a:lnTo>
                    <a:pt x="4706" y="763"/>
                  </a:lnTo>
                  <a:lnTo>
                    <a:pt x="4740" y="764"/>
                  </a:lnTo>
                  <a:lnTo>
                    <a:pt x="4774" y="764"/>
                  </a:lnTo>
                  <a:lnTo>
                    <a:pt x="4808" y="764"/>
                  </a:lnTo>
                  <a:lnTo>
                    <a:pt x="4843" y="764"/>
                  </a:lnTo>
                  <a:lnTo>
                    <a:pt x="4877" y="765"/>
                  </a:lnTo>
                  <a:lnTo>
                    <a:pt x="4911" y="765"/>
                  </a:lnTo>
                  <a:lnTo>
                    <a:pt x="4945" y="765"/>
                  </a:lnTo>
                  <a:lnTo>
                    <a:pt x="4980" y="765"/>
                  </a:lnTo>
                  <a:lnTo>
                    <a:pt x="5015" y="766"/>
                  </a:lnTo>
                  <a:lnTo>
                    <a:pt x="5049" y="766"/>
                  </a:lnTo>
                  <a:lnTo>
                    <a:pt x="5083" y="766"/>
                  </a:lnTo>
                  <a:lnTo>
                    <a:pt x="5117" y="766"/>
                  </a:lnTo>
                  <a:lnTo>
                    <a:pt x="5152" y="766"/>
                  </a:lnTo>
                  <a:lnTo>
                    <a:pt x="5186" y="767"/>
                  </a:lnTo>
                  <a:lnTo>
                    <a:pt x="5221" y="767"/>
                  </a:lnTo>
                  <a:lnTo>
                    <a:pt x="5254" y="767"/>
                  </a:lnTo>
                  <a:lnTo>
                    <a:pt x="5289" y="767"/>
                  </a:lnTo>
                  <a:lnTo>
                    <a:pt x="5324" y="767"/>
                  </a:lnTo>
                  <a:lnTo>
                    <a:pt x="5358" y="767"/>
                  </a:lnTo>
                  <a:lnTo>
                    <a:pt x="5392" y="769"/>
                  </a:lnTo>
                  <a:lnTo>
                    <a:pt x="5426" y="769"/>
                  </a:lnTo>
                  <a:lnTo>
                    <a:pt x="5461" y="769"/>
                  </a:lnTo>
                  <a:lnTo>
                    <a:pt x="5495" y="769"/>
                  </a:lnTo>
                  <a:lnTo>
                    <a:pt x="5530" y="769"/>
                  </a:lnTo>
                  <a:lnTo>
                    <a:pt x="5563" y="769"/>
                  </a:lnTo>
                  <a:lnTo>
                    <a:pt x="5598" y="769"/>
                  </a:lnTo>
                  <a:lnTo>
                    <a:pt x="5633" y="770"/>
                  </a:lnTo>
                  <a:lnTo>
                    <a:pt x="5667" y="770"/>
                  </a:lnTo>
                  <a:lnTo>
                    <a:pt x="5702" y="770"/>
                  </a:lnTo>
                  <a:lnTo>
                    <a:pt x="5735" y="770"/>
                  </a:lnTo>
                  <a:lnTo>
                    <a:pt x="5770" y="770"/>
                  </a:lnTo>
                  <a:lnTo>
                    <a:pt x="5804" y="770"/>
                  </a:lnTo>
                  <a:lnTo>
                    <a:pt x="5839" y="770"/>
                  </a:lnTo>
                  <a:lnTo>
                    <a:pt x="5872" y="770"/>
                  </a:lnTo>
                  <a:lnTo>
                    <a:pt x="5907" y="770"/>
                  </a:lnTo>
                  <a:lnTo>
                    <a:pt x="5942" y="771"/>
                  </a:lnTo>
                  <a:lnTo>
                    <a:pt x="5976" y="771"/>
                  </a:lnTo>
                  <a:lnTo>
                    <a:pt x="6011" y="771"/>
                  </a:lnTo>
                  <a:lnTo>
                    <a:pt x="6044" y="771"/>
                  </a:lnTo>
                  <a:lnTo>
                    <a:pt x="6079" y="771"/>
                  </a:lnTo>
                  <a:lnTo>
                    <a:pt x="6113" y="771"/>
                  </a:lnTo>
                  <a:lnTo>
                    <a:pt x="6148" y="771"/>
                  </a:lnTo>
                  <a:lnTo>
                    <a:pt x="6183" y="771"/>
                  </a:lnTo>
                  <a:lnTo>
                    <a:pt x="6216" y="771"/>
                  </a:lnTo>
                  <a:lnTo>
                    <a:pt x="6251" y="771"/>
                  </a:lnTo>
                  <a:lnTo>
                    <a:pt x="6285" y="771"/>
                  </a:lnTo>
                  <a:lnTo>
                    <a:pt x="6320" y="771"/>
                  </a:lnTo>
                  <a:lnTo>
                    <a:pt x="6353" y="771"/>
                  </a:lnTo>
                  <a:lnTo>
                    <a:pt x="6380" y="7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097000" y="3673440"/>
              <a:ext cx="5370480" cy="162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F41-FB75-498C-8CF9-E394E677FCEF}" type="slidenum">
              <a:t>91</a:t>
            </a:fld>
          </a:p>
        </p:txBody>
      </p:sp>
    </p:spTree>
  </p:cSld>
  <p:transition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0" name=""/>
          <p:cNvGrpSpPr/>
          <p:nvPr/>
        </p:nvGrpSpPr>
        <p:grpSpPr>
          <a:xfrm>
            <a:off x="1482840" y="1092240"/>
            <a:ext cx="6225480" cy="4772880"/>
            <a:chOff x="1482840" y="1092240"/>
            <a:chExt cx="6225480" cy="4772880"/>
          </a:xfrm>
        </p:grpSpPr>
        <p:sp>
          <p:nvSpPr>
            <p:cNvPr id="2641" name=""/>
            <p:cNvSpPr/>
            <p:nvPr/>
          </p:nvSpPr>
          <p:spPr>
            <a:xfrm>
              <a:off x="2055240" y="2927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382520" y="292752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03984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11804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19120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26580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50956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57984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65300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72760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800760" y="2927520"/>
              <a:ext cx="31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0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2101680" y="28098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638440" y="2809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176640" y="28098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713040" y="2809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51240" y="2809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789440" y="2809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326200" y="2809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864400" y="28098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400800" y="28098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939000" y="280980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475400" y="2809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37024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63844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9084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1766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44484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71304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9830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25124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5212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78944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05764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32620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59440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86440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13260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400800" y="2809800"/>
              <a:ext cx="144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6900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93900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207200" y="2809800"/>
              <a:ext cx="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475400" y="2809800"/>
              <a:ext cx="1800" cy="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529160" y="3151080"/>
              <a:ext cx="55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[s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>
              <a:off x="2030400" y="28083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>
              <a:off x="2030400" y="19940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2030400" y="117936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066400" y="240048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>
              <a:off x="2066400" y="199404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2066400" y="158580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2066400" y="117936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101680" y="1725480"/>
              <a:ext cx="5373720" cy="538200"/>
            </a:xfrm>
            <a:custGeom>
              <a:avLst/>
              <a:gdLst/>
              <a:ahLst/>
              <a:rect l="l" t="t" r="r" b="b"/>
              <a:pathLst>
                <a:path w="6380" h="365">
                  <a:moveTo>
                    <a:pt x="0" y="278"/>
                  </a:moveTo>
                  <a:lnTo>
                    <a:pt x="1" y="266"/>
                  </a:lnTo>
                  <a:lnTo>
                    <a:pt x="3" y="253"/>
                  </a:lnTo>
                  <a:lnTo>
                    <a:pt x="5" y="238"/>
                  </a:lnTo>
                  <a:lnTo>
                    <a:pt x="6" y="222"/>
                  </a:lnTo>
                  <a:lnTo>
                    <a:pt x="8" y="205"/>
                  </a:lnTo>
                  <a:lnTo>
                    <a:pt x="9" y="187"/>
                  </a:lnTo>
                  <a:lnTo>
                    <a:pt x="10" y="169"/>
                  </a:lnTo>
                  <a:lnTo>
                    <a:pt x="11" y="151"/>
                  </a:lnTo>
                  <a:lnTo>
                    <a:pt x="14" y="135"/>
                  </a:lnTo>
                  <a:lnTo>
                    <a:pt x="15" y="119"/>
                  </a:lnTo>
                  <a:lnTo>
                    <a:pt x="16" y="105"/>
                  </a:lnTo>
                  <a:lnTo>
                    <a:pt x="18" y="91"/>
                  </a:lnTo>
                  <a:lnTo>
                    <a:pt x="19" y="80"/>
                  </a:lnTo>
                  <a:lnTo>
                    <a:pt x="20" y="71"/>
                  </a:lnTo>
                  <a:lnTo>
                    <a:pt x="22" y="65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8"/>
                  </a:lnTo>
                  <a:lnTo>
                    <a:pt x="28" y="60"/>
                  </a:lnTo>
                  <a:lnTo>
                    <a:pt x="29" y="66"/>
                  </a:lnTo>
                  <a:lnTo>
                    <a:pt x="30" y="72"/>
                  </a:lnTo>
                  <a:lnTo>
                    <a:pt x="32" y="82"/>
                  </a:lnTo>
                  <a:lnTo>
                    <a:pt x="34" y="95"/>
                  </a:lnTo>
                  <a:lnTo>
                    <a:pt x="35" y="108"/>
                  </a:lnTo>
                  <a:lnTo>
                    <a:pt x="37" y="122"/>
                  </a:lnTo>
                  <a:lnTo>
                    <a:pt x="38" y="138"/>
                  </a:lnTo>
                  <a:lnTo>
                    <a:pt x="39" y="155"/>
                  </a:lnTo>
                  <a:lnTo>
                    <a:pt x="40" y="173"/>
                  </a:lnTo>
                  <a:lnTo>
                    <a:pt x="43" y="190"/>
                  </a:lnTo>
                  <a:lnTo>
                    <a:pt x="44" y="207"/>
                  </a:lnTo>
                  <a:lnTo>
                    <a:pt x="45" y="225"/>
                  </a:lnTo>
                  <a:lnTo>
                    <a:pt x="47" y="241"/>
                  </a:lnTo>
                  <a:lnTo>
                    <a:pt x="48" y="255"/>
                  </a:lnTo>
                  <a:lnTo>
                    <a:pt x="49" y="268"/>
                  </a:lnTo>
                  <a:lnTo>
                    <a:pt x="51" y="281"/>
                  </a:lnTo>
                  <a:lnTo>
                    <a:pt x="53" y="290"/>
                  </a:lnTo>
                  <a:lnTo>
                    <a:pt x="54" y="297"/>
                  </a:lnTo>
                  <a:lnTo>
                    <a:pt x="55" y="302"/>
                  </a:lnTo>
                  <a:lnTo>
                    <a:pt x="57" y="305"/>
                  </a:lnTo>
                  <a:lnTo>
                    <a:pt x="58" y="305"/>
                  </a:lnTo>
                  <a:lnTo>
                    <a:pt x="59" y="303"/>
                  </a:lnTo>
                  <a:lnTo>
                    <a:pt x="61" y="297"/>
                  </a:lnTo>
                  <a:lnTo>
                    <a:pt x="63" y="291"/>
                  </a:lnTo>
                  <a:lnTo>
                    <a:pt x="64" y="282"/>
                  </a:lnTo>
                  <a:lnTo>
                    <a:pt x="65" y="271"/>
                  </a:lnTo>
                  <a:lnTo>
                    <a:pt x="67" y="257"/>
                  </a:lnTo>
                  <a:lnTo>
                    <a:pt x="68" y="243"/>
                  </a:lnTo>
                  <a:lnTo>
                    <a:pt x="69" y="227"/>
                  </a:lnTo>
                  <a:lnTo>
                    <a:pt x="72" y="211"/>
                  </a:lnTo>
                  <a:lnTo>
                    <a:pt x="73" y="193"/>
                  </a:lnTo>
                  <a:lnTo>
                    <a:pt x="74" y="175"/>
                  </a:lnTo>
                  <a:lnTo>
                    <a:pt x="76" y="158"/>
                  </a:lnTo>
                  <a:lnTo>
                    <a:pt x="77" y="141"/>
                  </a:lnTo>
                  <a:lnTo>
                    <a:pt x="78" y="125"/>
                  </a:lnTo>
                  <a:lnTo>
                    <a:pt x="79" y="110"/>
                  </a:lnTo>
                  <a:lnTo>
                    <a:pt x="82" y="97"/>
                  </a:lnTo>
                  <a:lnTo>
                    <a:pt x="83" y="85"/>
                  </a:lnTo>
                  <a:lnTo>
                    <a:pt x="84" y="75"/>
                  </a:lnTo>
                  <a:lnTo>
                    <a:pt x="86" y="67"/>
                  </a:lnTo>
                  <a:lnTo>
                    <a:pt x="87" y="61"/>
                  </a:lnTo>
                  <a:lnTo>
                    <a:pt x="88" y="59"/>
                  </a:lnTo>
                  <a:lnTo>
                    <a:pt x="90" y="58"/>
                  </a:lnTo>
                  <a:lnTo>
                    <a:pt x="92" y="60"/>
                  </a:lnTo>
                  <a:lnTo>
                    <a:pt x="93" y="65"/>
                  </a:lnTo>
                  <a:lnTo>
                    <a:pt x="94" y="71"/>
                  </a:lnTo>
                  <a:lnTo>
                    <a:pt x="96" y="80"/>
                  </a:lnTo>
                  <a:lnTo>
                    <a:pt x="97" y="91"/>
                  </a:lnTo>
                  <a:lnTo>
                    <a:pt x="98" y="104"/>
                  </a:lnTo>
                  <a:lnTo>
                    <a:pt x="101" y="118"/>
                  </a:lnTo>
                  <a:lnTo>
                    <a:pt x="102" y="134"/>
                  </a:lnTo>
                  <a:lnTo>
                    <a:pt x="103" y="150"/>
                  </a:lnTo>
                  <a:lnTo>
                    <a:pt x="104" y="167"/>
                  </a:lnTo>
                  <a:lnTo>
                    <a:pt x="106" y="185"/>
                  </a:lnTo>
                  <a:lnTo>
                    <a:pt x="107" y="202"/>
                  </a:lnTo>
                  <a:lnTo>
                    <a:pt x="108" y="218"/>
                  </a:lnTo>
                  <a:lnTo>
                    <a:pt x="111" y="235"/>
                  </a:lnTo>
                  <a:lnTo>
                    <a:pt x="112" y="249"/>
                  </a:lnTo>
                  <a:lnTo>
                    <a:pt x="113" y="264"/>
                  </a:lnTo>
                  <a:lnTo>
                    <a:pt x="115" y="275"/>
                  </a:lnTo>
                  <a:lnTo>
                    <a:pt x="116" y="286"/>
                  </a:lnTo>
                  <a:lnTo>
                    <a:pt x="117" y="294"/>
                  </a:lnTo>
                  <a:lnTo>
                    <a:pt x="118" y="300"/>
                  </a:lnTo>
                  <a:lnTo>
                    <a:pt x="121" y="303"/>
                  </a:lnTo>
                  <a:lnTo>
                    <a:pt x="122" y="304"/>
                  </a:lnTo>
                  <a:lnTo>
                    <a:pt x="123" y="303"/>
                  </a:lnTo>
                  <a:lnTo>
                    <a:pt x="125" y="299"/>
                  </a:lnTo>
                  <a:lnTo>
                    <a:pt x="126" y="293"/>
                  </a:lnTo>
                  <a:lnTo>
                    <a:pt x="127" y="284"/>
                  </a:lnTo>
                  <a:lnTo>
                    <a:pt x="130" y="274"/>
                  </a:lnTo>
                  <a:lnTo>
                    <a:pt x="131" y="261"/>
                  </a:lnTo>
                  <a:lnTo>
                    <a:pt x="132" y="247"/>
                  </a:lnTo>
                  <a:lnTo>
                    <a:pt x="133" y="232"/>
                  </a:lnTo>
                  <a:lnTo>
                    <a:pt x="135" y="216"/>
                  </a:lnTo>
                  <a:lnTo>
                    <a:pt x="136" y="198"/>
                  </a:lnTo>
                  <a:lnTo>
                    <a:pt x="137" y="182"/>
                  </a:lnTo>
                  <a:lnTo>
                    <a:pt x="140" y="164"/>
                  </a:lnTo>
                  <a:lnTo>
                    <a:pt x="141" y="147"/>
                  </a:lnTo>
                  <a:lnTo>
                    <a:pt x="142" y="130"/>
                  </a:lnTo>
                  <a:lnTo>
                    <a:pt x="144" y="116"/>
                  </a:lnTo>
                  <a:lnTo>
                    <a:pt x="145" y="101"/>
                  </a:lnTo>
                  <a:lnTo>
                    <a:pt x="146" y="89"/>
                  </a:lnTo>
                  <a:lnTo>
                    <a:pt x="147" y="79"/>
                  </a:lnTo>
                  <a:lnTo>
                    <a:pt x="150" y="70"/>
                  </a:lnTo>
                  <a:lnTo>
                    <a:pt x="151" y="65"/>
                  </a:lnTo>
                  <a:lnTo>
                    <a:pt x="152" y="60"/>
                  </a:lnTo>
                  <a:lnTo>
                    <a:pt x="154" y="59"/>
                  </a:lnTo>
                  <a:lnTo>
                    <a:pt x="155" y="60"/>
                  </a:lnTo>
                  <a:lnTo>
                    <a:pt x="156" y="63"/>
                  </a:lnTo>
                  <a:lnTo>
                    <a:pt x="157" y="70"/>
                  </a:lnTo>
                  <a:lnTo>
                    <a:pt x="160" y="78"/>
                  </a:lnTo>
                  <a:lnTo>
                    <a:pt x="161" y="88"/>
                  </a:lnTo>
                  <a:lnTo>
                    <a:pt x="162" y="100"/>
                  </a:lnTo>
                  <a:lnTo>
                    <a:pt x="164" y="114"/>
                  </a:lnTo>
                  <a:lnTo>
                    <a:pt x="165" y="128"/>
                  </a:lnTo>
                  <a:lnTo>
                    <a:pt x="166" y="145"/>
                  </a:lnTo>
                  <a:lnTo>
                    <a:pt x="169" y="161"/>
                  </a:lnTo>
                  <a:lnTo>
                    <a:pt x="170" y="178"/>
                  </a:lnTo>
                  <a:lnTo>
                    <a:pt x="171" y="196"/>
                  </a:lnTo>
                  <a:lnTo>
                    <a:pt x="172" y="213"/>
                  </a:lnTo>
                  <a:lnTo>
                    <a:pt x="174" y="228"/>
                  </a:lnTo>
                  <a:lnTo>
                    <a:pt x="175" y="244"/>
                  </a:lnTo>
                  <a:lnTo>
                    <a:pt x="176" y="258"/>
                  </a:lnTo>
                  <a:lnTo>
                    <a:pt x="179" y="271"/>
                  </a:lnTo>
                  <a:lnTo>
                    <a:pt x="180" y="282"/>
                  </a:lnTo>
                  <a:lnTo>
                    <a:pt x="181" y="291"/>
                  </a:lnTo>
                  <a:lnTo>
                    <a:pt x="183" y="296"/>
                  </a:lnTo>
                  <a:lnTo>
                    <a:pt x="184" y="301"/>
                  </a:lnTo>
                  <a:lnTo>
                    <a:pt x="185" y="303"/>
                  </a:lnTo>
                  <a:lnTo>
                    <a:pt x="186" y="302"/>
                  </a:lnTo>
                  <a:lnTo>
                    <a:pt x="189" y="299"/>
                  </a:lnTo>
                  <a:lnTo>
                    <a:pt x="190" y="294"/>
                  </a:lnTo>
                  <a:lnTo>
                    <a:pt x="191" y="286"/>
                  </a:lnTo>
                  <a:lnTo>
                    <a:pt x="193" y="276"/>
                  </a:lnTo>
                  <a:lnTo>
                    <a:pt x="194" y="265"/>
                  </a:lnTo>
                  <a:lnTo>
                    <a:pt x="195" y="252"/>
                  </a:lnTo>
                  <a:lnTo>
                    <a:pt x="196" y="236"/>
                  </a:lnTo>
                  <a:lnTo>
                    <a:pt x="199" y="221"/>
                  </a:lnTo>
                  <a:lnTo>
                    <a:pt x="200" y="204"/>
                  </a:lnTo>
                  <a:lnTo>
                    <a:pt x="201" y="187"/>
                  </a:lnTo>
                  <a:lnTo>
                    <a:pt x="203" y="170"/>
                  </a:lnTo>
                  <a:lnTo>
                    <a:pt x="204" y="154"/>
                  </a:lnTo>
                  <a:lnTo>
                    <a:pt x="205" y="137"/>
                  </a:lnTo>
                  <a:lnTo>
                    <a:pt x="208" y="121"/>
                  </a:lnTo>
                  <a:lnTo>
                    <a:pt x="209" y="107"/>
                  </a:lnTo>
                  <a:lnTo>
                    <a:pt x="210" y="95"/>
                  </a:lnTo>
                  <a:lnTo>
                    <a:pt x="211" y="83"/>
                  </a:lnTo>
                  <a:lnTo>
                    <a:pt x="213" y="75"/>
                  </a:lnTo>
                  <a:lnTo>
                    <a:pt x="214" y="68"/>
                  </a:lnTo>
                  <a:lnTo>
                    <a:pt x="215" y="63"/>
                  </a:lnTo>
                  <a:lnTo>
                    <a:pt x="218" y="61"/>
                  </a:lnTo>
                  <a:lnTo>
                    <a:pt x="219" y="61"/>
                  </a:lnTo>
                  <a:lnTo>
                    <a:pt x="220" y="63"/>
                  </a:lnTo>
                  <a:lnTo>
                    <a:pt x="222" y="69"/>
                  </a:lnTo>
                  <a:lnTo>
                    <a:pt x="223" y="76"/>
                  </a:lnTo>
                  <a:lnTo>
                    <a:pt x="224" y="86"/>
                  </a:lnTo>
                  <a:lnTo>
                    <a:pt x="225" y="97"/>
                  </a:lnTo>
                  <a:lnTo>
                    <a:pt x="228" y="109"/>
                  </a:lnTo>
                  <a:lnTo>
                    <a:pt x="229" y="124"/>
                  </a:lnTo>
                  <a:lnTo>
                    <a:pt x="230" y="139"/>
                  </a:lnTo>
                  <a:lnTo>
                    <a:pt x="232" y="156"/>
                  </a:lnTo>
                  <a:lnTo>
                    <a:pt x="233" y="173"/>
                  </a:lnTo>
                  <a:lnTo>
                    <a:pt x="234" y="189"/>
                  </a:lnTo>
                  <a:lnTo>
                    <a:pt x="236" y="206"/>
                  </a:lnTo>
                  <a:lnTo>
                    <a:pt x="238" y="223"/>
                  </a:lnTo>
                  <a:lnTo>
                    <a:pt x="239" y="238"/>
                  </a:lnTo>
                  <a:lnTo>
                    <a:pt x="240" y="253"/>
                  </a:lnTo>
                  <a:lnTo>
                    <a:pt x="242" y="265"/>
                  </a:lnTo>
                  <a:lnTo>
                    <a:pt x="243" y="276"/>
                  </a:lnTo>
                  <a:lnTo>
                    <a:pt x="244" y="286"/>
                  </a:lnTo>
                  <a:lnTo>
                    <a:pt x="247" y="293"/>
                  </a:lnTo>
                  <a:lnTo>
                    <a:pt x="248" y="299"/>
                  </a:lnTo>
                  <a:lnTo>
                    <a:pt x="249" y="301"/>
                  </a:lnTo>
                  <a:lnTo>
                    <a:pt x="250" y="301"/>
                  </a:lnTo>
                  <a:lnTo>
                    <a:pt x="252" y="299"/>
                  </a:lnTo>
                  <a:lnTo>
                    <a:pt x="253" y="294"/>
                  </a:lnTo>
                  <a:lnTo>
                    <a:pt x="254" y="287"/>
                  </a:lnTo>
                  <a:lnTo>
                    <a:pt x="257" y="278"/>
                  </a:lnTo>
                  <a:lnTo>
                    <a:pt x="258" y="267"/>
                  </a:lnTo>
                  <a:lnTo>
                    <a:pt x="259" y="255"/>
                  </a:lnTo>
                  <a:lnTo>
                    <a:pt x="261" y="241"/>
                  </a:lnTo>
                  <a:lnTo>
                    <a:pt x="262" y="226"/>
                  </a:lnTo>
                  <a:lnTo>
                    <a:pt x="263" y="209"/>
                  </a:lnTo>
                  <a:lnTo>
                    <a:pt x="265" y="193"/>
                  </a:lnTo>
                  <a:lnTo>
                    <a:pt x="267" y="176"/>
                  </a:lnTo>
                  <a:lnTo>
                    <a:pt x="268" y="159"/>
                  </a:lnTo>
                  <a:lnTo>
                    <a:pt x="269" y="143"/>
                  </a:lnTo>
                  <a:lnTo>
                    <a:pt x="271" y="127"/>
                  </a:lnTo>
                  <a:lnTo>
                    <a:pt x="272" y="112"/>
                  </a:lnTo>
                  <a:lnTo>
                    <a:pt x="273" y="100"/>
                  </a:lnTo>
                  <a:lnTo>
                    <a:pt x="276" y="88"/>
                  </a:lnTo>
                  <a:lnTo>
                    <a:pt x="277" y="79"/>
                  </a:lnTo>
                  <a:lnTo>
                    <a:pt x="278" y="71"/>
                  </a:lnTo>
                  <a:lnTo>
                    <a:pt x="279" y="66"/>
                  </a:lnTo>
                  <a:lnTo>
                    <a:pt x="281" y="63"/>
                  </a:lnTo>
                  <a:lnTo>
                    <a:pt x="282" y="62"/>
                  </a:lnTo>
                  <a:lnTo>
                    <a:pt x="283" y="65"/>
                  </a:lnTo>
                  <a:lnTo>
                    <a:pt x="286" y="68"/>
                  </a:lnTo>
                  <a:lnTo>
                    <a:pt x="287" y="75"/>
                  </a:lnTo>
                  <a:lnTo>
                    <a:pt x="288" y="83"/>
                  </a:lnTo>
                  <a:lnTo>
                    <a:pt x="289" y="94"/>
                  </a:lnTo>
                  <a:lnTo>
                    <a:pt x="291" y="106"/>
                  </a:lnTo>
                  <a:lnTo>
                    <a:pt x="292" y="120"/>
                  </a:lnTo>
                  <a:lnTo>
                    <a:pt x="294" y="135"/>
                  </a:lnTo>
                  <a:lnTo>
                    <a:pt x="296" y="150"/>
                  </a:lnTo>
                  <a:lnTo>
                    <a:pt x="297" y="167"/>
                  </a:lnTo>
                  <a:lnTo>
                    <a:pt x="298" y="184"/>
                  </a:lnTo>
                  <a:lnTo>
                    <a:pt x="300" y="200"/>
                  </a:lnTo>
                  <a:lnTo>
                    <a:pt x="301" y="217"/>
                  </a:lnTo>
                  <a:lnTo>
                    <a:pt x="302" y="233"/>
                  </a:lnTo>
                  <a:lnTo>
                    <a:pt x="304" y="247"/>
                  </a:lnTo>
                  <a:lnTo>
                    <a:pt x="306" y="260"/>
                  </a:lnTo>
                  <a:lnTo>
                    <a:pt x="307" y="272"/>
                  </a:lnTo>
                  <a:lnTo>
                    <a:pt x="308" y="282"/>
                  </a:lnTo>
                  <a:lnTo>
                    <a:pt x="310" y="290"/>
                  </a:lnTo>
                  <a:lnTo>
                    <a:pt x="311" y="295"/>
                  </a:lnTo>
                  <a:lnTo>
                    <a:pt x="312" y="299"/>
                  </a:lnTo>
                  <a:lnTo>
                    <a:pt x="315" y="300"/>
                  </a:lnTo>
                  <a:lnTo>
                    <a:pt x="316" y="297"/>
                  </a:lnTo>
                  <a:lnTo>
                    <a:pt x="317" y="294"/>
                  </a:lnTo>
                  <a:lnTo>
                    <a:pt x="318" y="288"/>
                  </a:lnTo>
                  <a:lnTo>
                    <a:pt x="320" y="281"/>
                  </a:lnTo>
                  <a:lnTo>
                    <a:pt x="321" y="271"/>
                  </a:lnTo>
                  <a:lnTo>
                    <a:pt x="323" y="258"/>
                  </a:lnTo>
                  <a:lnTo>
                    <a:pt x="325" y="245"/>
                  </a:lnTo>
                  <a:lnTo>
                    <a:pt x="326" y="231"/>
                  </a:lnTo>
                  <a:lnTo>
                    <a:pt x="327" y="215"/>
                  </a:lnTo>
                  <a:lnTo>
                    <a:pt x="328" y="198"/>
                  </a:lnTo>
                  <a:lnTo>
                    <a:pt x="330" y="182"/>
                  </a:lnTo>
                  <a:lnTo>
                    <a:pt x="331" y="165"/>
                  </a:lnTo>
                  <a:lnTo>
                    <a:pt x="333" y="149"/>
                  </a:lnTo>
                  <a:lnTo>
                    <a:pt x="335" y="134"/>
                  </a:lnTo>
                  <a:lnTo>
                    <a:pt x="336" y="119"/>
                  </a:lnTo>
                  <a:lnTo>
                    <a:pt x="337" y="106"/>
                  </a:lnTo>
                  <a:lnTo>
                    <a:pt x="339" y="94"/>
                  </a:lnTo>
                  <a:lnTo>
                    <a:pt x="340" y="83"/>
                  </a:lnTo>
                  <a:lnTo>
                    <a:pt x="341" y="76"/>
                  </a:lnTo>
                  <a:lnTo>
                    <a:pt x="343" y="70"/>
                  </a:lnTo>
                  <a:lnTo>
                    <a:pt x="345" y="66"/>
                  </a:lnTo>
                  <a:lnTo>
                    <a:pt x="346" y="65"/>
                  </a:lnTo>
                  <a:lnTo>
                    <a:pt x="347" y="66"/>
                  </a:lnTo>
                  <a:lnTo>
                    <a:pt x="349" y="69"/>
                  </a:lnTo>
                  <a:lnTo>
                    <a:pt x="350" y="75"/>
                  </a:lnTo>
                  <a:lnTo>
                    <a:pt x="352" y="81"/>
                  </a:lnTo>
                  <a:lnTo>
                    <a:pt x="354" y="91"/>
                  </a:lnTo>
                  <a:lnTo>
                    <a:pt x="355" y="102"/>
                  </a:lnTo>
                  <a:lnTo>
                    <a:pt x="356" y="116"/>
                  </a:lnTo>
                  <a:lnTo>
                    <a:pt x="357" y="130"/>
                  </a:lnTo>
                  <a:lnTo>
                    <a:pt x="359" y="146"/>
                  </a:lnTo>
                  <a:lnTo>
                    <a:pt x="360" y="161"/>
                  </a:lnTo>
                  <a:lnTo>
                    <a:pt x="362" y="178"/>
                  </a:lnTo>
                  <a:lnTo>
                    <a:pt x="364" y="194"/>
                  </a:lnTo>
                  <a:lnTo>
                    <a:pt x="365" y="211"/>
                  </a:lnTo>
                  <a:lnTo>
                    <a:pt x="366" y="226"/>
                  </a:lnTo>
                  <a:lnTo>
                    <a:pt x="368" y="241"/>
                  </a:lnTo>
                  <a:lnTo>
                    <a:pt x="369" y="254"/>
                  </a:lnTo>
                  <a:lnTo>
                    <a:pt x="370" y="266"/>
                  </a:lnTo>
                  <a:lnTo>
                    <a:pt x="372" y="276"/>
                  </a:lnTo>
                  <a:lnTo>
                    <a:pt x="374" y="285"/>
                  </a:lnTo>
                  <a:lnTo>
                    <a:pt x="375" y="291"/>
                  </a:lnTo>
                  <a:lnTo>
                    <a:pt x="376" y="295"/>
                  </a:lnTo>
                  <a:lnTo>
                    <a:pt x="378" y="297"/>
                  </a:lnTo>
                  <a:lnTo>
                    <a:pt x="379" y="296"/>
                  </a:lnTo>
                  <a:lnTo>
                    <a:pt x="381" y="294"/>
                  </a:lnTo>
                  <a:lnTo>
                    <a:pt x="382" y="288"/>
                  </a:lnTo>
                  <a:lnTo>
                    <a:pt x="384" y="282"/>
                  </a:lnTo>
                  <a:lnTo>
                    <a:pt x="385" y="272"/>
                  </a:lnTo>
                  <a:lnTo>
                    <a:pt x="386" y="262"/>
                  </a:lnTo>
                  <a:lnTo>
                    <a:pt x="388" y="248"/>
                  </a:lnTo>
                  <a:lnTo>
                    <a:pt x="389" y="235"/>
                  </a:lnTo>
                  <a:lnTo>
                    <a:pt x="391" y="219"/>
                  </a:lnTo>
                  <a:lnTo>
                    <a:pt x="393" y="204"/>
                  </a:lnTo>
                  <a:lnTo>
                    <a:pt x="394" y="188"/>
                  </a:lnTo>
                  <a:lnTo>
                    <a:pt x="395" y="172"/>
                  </a:lnTo>
                  <a:lnTo>
                    <a:pt x="396" y="155"/>
                  </a:lnTo>
                  <a:lnTo>
                    <a:pt x="398" y="140"/>
                  </a:lnTo>
                  <a:lnTo>
                    <a:pt x="399" y="125"/>
                  </a:lnTo>
                  <a:lnTo>
                    <a:pt x="401" y="111"/>
                  </a:lnTo>
                  <a:lnTo>
                    <a:pt x="403" y="99"/>
                  </a:lnTo>
                  <a:lnTo>
                    <a:pt x="404" y="89"/>
                  </a:lnTo>
                  <a:lnTo>
                    <a:pt x="405" y="80"/>
                  </a:lnTo>
                  <a:lnTo>
                    <a:pt x="407" y="73"/>
                  </a:lnTo>
                  <a:lnTo>
                    <a:pt x="408" y="69"/>
                  </a:lnTo>
                  <a:lnTo>
                    <a:pt x="410" y="67"/>
                  </a:lnTo>
                  <a:lnTo>
                    <a:pt x="411" y="67"/>
                  </a:lnTo>
                  <a:lnTo>
                    <a:pt x="413" y="69"/>
                  </a:lnTo>
                  <a:lnTo>
                    <a:pt x="414" y="73"/>
                  </a:lnTo>
                  <a:lnTo>
                    <a:pt x="415" y="81"/>
                  </a:lnTo>
                  <a:lnTo>
                    <a:pt x="417" y="89"/>
                  </a:lnTo>
                  <a:lnTo>
                    <a:pt x="418" y="100"/>
                  </a:lnTo>
                  <a:lnTo>
                    <a:pt x="420" y="112"/>
                  </a:lnTo>
                  <a:lnTo>
                    <a:pt x="421" y="126"/>
                  </a:lnTo>
                  <a:lnTo>
                    <a:pt x="423" y="140"/>
                  </a:lnTo>
                  <a:lnTo>
                    <a:pt x="424" y="156"/>
                  </a:lnTo>
                  <a:lnTo>
                    <a:pt x="425" y="173"/>
                  </a:lnTo>
                  <a:lnTo>
                    <a:pt x="427" y="188"/>
                  </a:lnTo>
                  <a:lnTo>
                    <a:pt x="428" y="204"/>
                  </a:lnTo>
                  <a:lnTo>
                    <a:pt x="430" y="219"/>
                  </a:lnTo>
                  <a:lnTo>
                    <a:pt x="432" y="235"/>
                  </a:lnTo>
                  <a:lnTo>
                    <a:pt x="433" y="248"/>
                  </a:lnTo>
                  <a:lnTo>
                    <a:pt x="434" y="261"/>
                  </a:lnTo>
                  <a:lnTo>
                    <a:pt x="435" y="271"/>
                  </a:lnTo>
                  <a:lnTo>
                    <a:pt x="437" y="280"/>
                  </a:lnTo>
                  <a:lnTo>
                    <a:pt x="439" y="287"/>
                  </a:lnTo>
                  <a:lnTo>
                    <a:pt x="440" y="292"/>
                  </a:lnTo>
                  <a:lnTo>
                    <a:pt x="442" y="294"/>
                  </a:lnTo>
                  <a:lnTo>
                    <a:pt x="443" y="295"/>
                  </a:lnTo>
                  <a:lnTo>
                    <a:pt x="444" y="293"/>
                  </a:lnTo>
                  <a:lnTo>
                    <a:pt x="446" y="288"/>
                  </a:lnTo>
                  <a:lnTo>
                    <a:pt x="447" y="282"/>
                  </a:lnTo>
                  <a:lnTo>
                    <a:pt x="449" y="274"/>
                  </a:lnTo>
                  <a:lnTo>
                    <a:pt x="450" y="264"/>
                  </a:lnTo>
                  <a:lnTo>
                    <a:pt x="452" y="252"/>
                  </a:lnTo>
                  <a:lnTo>
                    <a:pt x="453" y="238"/>
                  </a:lnTo>
                  <a:lnTo>
                    <a:pt x="454" y="224"/>
                  </a:lnTo>
                  <a:lnTo>
                    <a:pt x="456" y="209"/>
                  </a:lnTo>
                  <a:lnTo>
                    <a:pt x="458" y="194"/>
                  </a:lnTo>
                  <a:lnTo>
                    <a:pt x="459" y="177"/>
                  </a:lnTo>
                  <a:lnTo>
                    <a:pt x="460" y="161"/>
                  </a:lnTo>
                  <a:lnTo>
                    <a:pt x="462" y="146"/>
                  </a:lnTo>
                  <a:lnTo>
                    <a:pt x="463" y="131"/>
                  </a:lnTo>
                  <a:lnTo>
                    <a:pt x="464" y="118"/>
                  </a:lnTo>
                  <a:lnTo>
                    <a:pt x="466" y="105"/>
                  </a:lnTo>
                  <a:lnTo>
                    <a:pt x="468" y="95"/>
                  </a:lnTo>
                  <a:lnTo>
                    <a:pt x="469" y="85"/>
                  </a:lnTo>
                  <a:lnTo>
                    <a:pt x="471" y="78"/>
                  </a:lnTo>
                  <a:lnTo>
                    <a:pt x="472" y="72"/>
                  </a:lnTo>
                  <a:lnTo>
                    <a:pt x="473" y="70"/>
                  </a:lnTo>
                  <a:lnTo>
                    <a:pt x="474" y="69"/>
                  </a:lnTo>
                  <a:lnTo>
                    <a:pt x="476" y="70"/>
                  </a:lnTo>
                  <a:lnTo>
                    <a:pt x="478" y="75"/>
                  </a:lnTo>
                  <a:lnTo>
                    <a:pt x="479" y="80"/>
                  </a:lnTo>
                  <a:lnTo>
                    <a:pt x="481" y="88"/>
                  </a:lnTo>
                  <a:lnTo>
                    <a:pt x="482" y="98"/>
                  </a:lnTo>
                  <a:lnTo>
                    <a:pt x="483" y="109"/>
                  </a:lnTo>
                  <a:lnTo>
                    <a:pt x="485" y="122"/>
                  </a:lnTo>
                  <a:lnTo>
                    <a:pt x="487" y="136"/>
                  </a:lnTo>
                  <a:lnTo>
                    <a:pt x="488" y="151"/>
                  </a:lnTo>
                  <a:lnTo>
                    <a:pt x="489" y="167"/>
                  </a:lnTo>
                  <a:lnTo>
                    <a:pt x="491" y="183"/>
                  </a:lnTo>
                  <a:lnTo>
                    <a:pt x="492" y="198"/>
                  </a:lnTo>
                  <a:lnTo>
                    <a:pt x="493" y="214"/>
                  </a:lnTo>
                  <a:lnTo>
                    <a:pt x="495" y="228"/>
                  </a:lnTo>
                  <a:lnTo>
                    <a:pt x="497" y="242"/>
                  </a:lnTo>
                  <a:lnTo>
                    <a:pt x="498" y="254"/>
                  </a:lnTo>
                  <a:lnTo>
                    <a:pt x="500" y="265"/>
                  </a:lnTo>
                  <a:lnTo>
                    <a:pt x="501" y="275"/>
                  </a:lnTo>
                  <a:lnTo>
                    <a:pt x="502" y="283"/>
                  </a:lnTo>
                  <a:lnTo>
                    <a:pt x="503" y="287"/>
                  </a:lnTo>
                  <a:lnTo>
                    <a:pt x="505" y="291"/>
                  </a:lnTo>
                  <a:lnTo>
                    <a:pt x="507" y="292"/>
                  </a:lnTo>
                  <a:lnTo>
                    <a:pt x="508" y="291"/>
                  </a:lnTo>
                  <a:lnTo>
                    <a:pt x="510" y="287"/>
                  </a:lnTo>
                  <a:lnTo>
                    <a:pt x="511" y="283"/>
                  </a:lnTo>
                  <a:lnTo>
                    <a:pt x="512" y="275"/>
                  </a:lnTo>
                  <a:lnTo>
                    <a:pt x="513" y="266"/>
                  </a:lnTo>
                  <a:lnTo>
                    <a:pt x="516" y="255"/>
                  </a:lnTo>
                  <a:lnTo>
                    <a:pt x="517" y="243"/>
                  </a:lnTo>
                  <a:lnTo>
                    <a:pt x="518" y="228"/>
                  </a:lnTo>
                  <a:lnTo>
                    <a:pt x="520" y="214"/>
                  </a:lnTo>
                  <a:lnTo>
                    <a:pt x="521" y="199"/>
                  </a:lnTo>
                  <a:lnTo>
                    <a:pt x="522" y="184"/>
                  </a:lnTo>
                  <a:lnTo>
                    <a:pt x="524" y="168"/>
                  </a:lnTo>
                  <a:lnTo>
                    <a:pt x="526" y="153"/>
                  </a:lnTo>
                  <a:lnTo>
                    <a:pt x="527" y="138"/>
                  </a:lnTo>
                  <a:lnTo>
                    <a:pt x="528" y="124"/>
                  </a:lnTo>
                  <a:lnTo>
                    <a:pt x="530" y="111"/>
                  </a:lnTo>
                  <a:lnTo>
                    <a:pt x="531" y="100"/>
                  </a:lnTo>
                  <a:lnTo>
                    <a:pt x="532" y="90"/>
                  </a:lnTo>
                  <a:lnTo>
                    <a:pt x="534" y="82"/>
                  </a:lnTo>
                  <a:lnTo>
                    <a:pt x="536" y="77"/>
                  </a:lnTo>
                  <a:lnTo>
                    <a:pt x="537" y="73"/>
                  </a:lnTo>
                  <a:lnTo>
                    <a:pt x="539" y="71"/>
                  </a:lnTo>
                  <a:lnTo>
                    <a:pt x="540" y="72"/>
                  </a:lnTo>
                  <a:lnTo>
                    <a:pt x="541" y="76"/>
                  </a:lnTo>
                  <a:lnTo>
                    <a:pt x="542" y="80"/>
                  </a:lnTo>
                  <a:lnTo>
                    <a:pt x="545" y="87"/>
                  </a:lnTo>
                  <a:lnTo>
                    <a:pt x="546" y="96"/>
                  </a:lnTo>
                  <a:lnTo>
                    <a:pt x="547" y="107"/>
                  </a:lnTo>
                  <a:lnTo>
                    <a:pt x="549" y="119"/>
                  </a:lnTo>
                  <a:lnTo>
                    <a:pt x="550" y="133"/>
                  </a:lnTo>
                  <a:lnTo>
                    <a:pt x="551" y="146"/>
                  </a:lnTo>
                  <a:lnTo>
                    <a:pt x="552" y="161"/>
                  </a:lnTo>
                  <a:lnTo>
                    <a:pt x="555" y="177"/>
                  </a:lnTo>
                  <a:lnTo>
                    <a:pt x="556" y="192"/>
                  </a:lnTo>
                  <a:lnTo>
                    <a:pt x="557" y="207"/>
                  </a:lnTo>
                  <a:lnTo>
                    <a:pt x="559" y="222"/>
                  </a:lnTo>
                  <a:lnTo>
                    <a:pt x="560" y="235"/>
                  </a:lnTo>
                  <a:lnTo>
                    <a:pt x="561" y="248"/>
                  </a:lnTo>
                  <a:lnTo>
                    <a:pt x="563" y="260"/>
                  </a:lnTo>
                  <a:lnTo>
                    <a:pt x="565" y="270"/>
                  </a:lnTo>
                  <a:lnTo>
                    <a:pt x="566" y="277"/>
                  </a:lnTo>
                  <a:lnTo>
                    <a:pt x="567" y="284"/>
                  </a:lnTo>
                  <a:lnTo>
                    <a:pt x="569" y="287"/>
                  </a:lnTo>
                  <a:lnTo>
                    <a:pt x="570" y="290"/>
                  </a:lnTo>
                  <a:lnTo>
                    <a:pt x="571" y="290"/>
                  </a:lnTo>
                  <a:lnTo>
                    <a:pt x="574" y="286"/>
                  </a:lnTo>
                  <a:lnTo>
                    <a:pt x="575" y="282"/>
                  </a:lnTo>
                  <a:lnTo>
                    <a:pt x="576" y="275"/>
                  </a:lnTo>
                  <a:lnTo>
                    <a:pt x="578" y="267"/>
                  </a:lnTo>
                  <a:lnTo>
                    <a:pt x="579" y="257"/>
                  </a:lnTo>
                  <a:lnTo>
                    <a:pt x="580" y="245"/>
                  </a:lnTo>
                  <a:lnTo>
                    <a:pt x="581" y="233"/>
                  </a:lnTo>
                  <a:lnTo>
                    <a:pt x="584" y="218"/>
                  </a:lnTo>
                  <a:lnTo>
                    <a:pt x="585" y="204"/>
                  </a:lnTo>
                  <a:lnTo>
                    <a:pt x="586" y="189"/>
                  </a:lnTo>
                  <a:lnTo>
                    <a:pt x="588" y="174"/>
                  </a:lnTo>
                  <a:lnTo>
                    <a:pt x="589" y="159"/>
                  </a:lnTo>
                  <a:lnTo>
                    <a:pt x="590" y="144"/>
                  </a:lnTo>
                  <a:lnTo>
                    <a:pt x="592" y="130"/>
                  </a:lnTo>
                  <a:lnTo>
                    <a:pt x="594" y="118"/>
                  </a:lnTo>
                  <a:lnTo>
                    <a:pt x="595" y="106"/>
                  </a:lnTo>
                  <a:lnTo>
                    <a:pt x="596" y="96"/>
                  </a:lnTo>
                  <a:lnTo>
                    <a:pt x="598" y="88"/>
                  </a:lnTo>
                  <a:lnTo>
                    <a:pt x="599" y="81"/>
                  </a:lnTo>
                  <a:lnTo>
                    <a:pt x="600" y="77"/>
                  </a:lnTo>
                  <a:lnTo>
                    <a:pt x="603" y="75"/>
                  </a:lnTo>
                  <a:lnTo>
                    <a:pt x="604" y="75"/>
                  </a:lnTo>
                  <a:lnTo>
                    <a:pt x="605" y="77"/>
                  </a:lnTo>
                  <a:lnTo>
                    <a:pt x="606" y="81"/>
                  </a:lnTo>
                  <a:lnTo>
                    <a:pt x="608" y="87"/>
                  </a:lnTo>
                  <a:lnTo>
                    <a:pt x="609" y="95"/>
                  </a:lnTo>
                  <a:lnTo>
                    <a:pt x="610" y="105"/>
                  </a:lnTo>
                  <a:lnTo>
                    <a:pt x="613" y="116"/>
                  </a:lnTo>
                  <a:lnTo>
                    <a:pt x="614" y="128"/>
                  </a:lnTo>
                  <a:lnTo>
                    <a:pt x="615" y="141"/>
                  </a:lnTo>
                  <a:lnTo>
                    <a:pt x="617" y="156"/>
                  </a:lnTo>
                  <a:lnTo>
                    <a:pt x="618" y="170"/>
                  </a:lnTo>
                  <a:lnTo>
                    <a:pt x="619" y="186"/>
                  </a:lnTo>
                  <a:lnTo>
                    <a:pt x="620" y="200"/>
                  </a:lnTo>
                  <a:lnTo>
                    <a:pt x="623" y="215"/>
                  </a:lnTo>
                  <a:lnTo>
                    <a:pt x="624" y="229"/>
                  </a:lnTo>
                  <a:lnTo>
                    <a:pt x="625" y="242"/>
                  </a:lnTo>
                  <a:lnTo>
                    <a:pt x="627" y="254"/>
                  </a:lnTo>
                  <a:lnTo>
                    <a:pt x="628" y="264"/>
                  </a:lnTo>
                  <a:lnTo>
                    <a:pt x="629" y="272"/>
                  </a:lnTo>
                  <a:lnTo>
                    <a:pt x="632" y="278"/>
                  </a:lnTo>
                  <a:lnTo>
                    <a:pt x="633" y="283"/>
                  </a:lnTo>
                  <a:lnTo>
                    <a:pt x="634" y="286"/>
                  </a:lnTo>
                  <a:lnTo>
                    <a:pt x="635" y="286"/>
                  </a:lnTo>
                  <a:lnTo>
                    <a:pt x="637" y="285"/>
                  </a:lnTo>
                  <a:lnTo>
                    <a:pt x="638" y="282"/>
                  </a:lnTo>
                  <a:lnTo>
                    <a:pt x="639" y="276"/>
                  </a:lnTo>
                  <a:lnTo>
                    <a:pt x="642" y="268"/>
                  </a:lnTo>
                  <a:lnTo>
                    <a:pt x="643" y="260"/>
                  </a:lnTo>
                  <a:lnTo>
                    <a:pt x="644" y="248"/>
                  </a:lnTo>
                  <a:lnTo>
                    <a:pt x="645" y="236"/>
                  </a:lnTo>
                  <a:lnTo>
                    <a:pt x="647" y="223"/>
                  </a:lnTo>
                  <a:lnTo>
                    <a:pt x="648" y="209"/>
                  </a:lnTo>
                  <a:lnTo>
                    <a:pt x="649" y="195"/>
                  </a:lnTo>
                  <a:lnTo>
                    <a:pt x="652" y="179"/>
                  </a:lnTo>
                  <a:lnTo>
                    <a:pt x="653" y="165"/>
                  </a:lnTo>
                  <a:lnTo>
                    <a:pt x="654" y="150"/>
                  </a:lnTo>
                  <a:lnTo>
                    <a:pt x="656" y="137"/>
                  </a:lnTo>
                  <a:lnTo>
                    <a:pt x="657" y="124"/>
                  </a:lnTo>
                  <a:lnTo>
                    <a:pt x="658" y="112"/>
                  </a:lnTo>
                  <a:lnTo>
                    <a:pt x="659" y="102"/>
                  </a:lnTo>
                  <a:lnTo>
                    <a:pt x="662" y="94"/>
                  </a:lnTo>
                  <a:lnTo>
                    <a:pt x="663" y="87"/>
                  </a:lnTo>
                  <a:lnTo>
                    <a:pt x="664" y="81"/>
                  </a:lnTo>
                  <a:lnTo>
                    <a:pt x="666" y="79"/>
                  </a:lnTo>
                  <a:lnTo>
                    <a:pt x="667" y="78"/>
                  </a:lnTo>
                  <a:lnTo>
                    <a:pt x="668" y="79"/>
                  </a:lnTo>
                  <a:lnTo>
                    <a:pt x="671" y="82"/>
                  </a:lnTo>
                  <a:lnTo>
                    <a:pt x="672" y="87"/>
                  </a:lnTo>
                  <a:lnTo>
                    <a:pt x="673" y="95"/>
                  </a:lnTo>
                  <a:lnTo>
                    <a:pt x="674" y="102"/>
                  </a:lnTo>
                  <a:lnTo>
                    <a:pt x="676" y="114"/>
                  </a:lnTo>
                  <a:lnTo>
                    <a:pt x="677" y="125"/>
                  </a:lnTo>
                  <a:lnTo>
                    <a:pt x="678" y="138"/>
                  </a:lnTo>
                  <a:lnTo>
                    <a:pt x="681" y="151"/>
                  </a:lnTo>
                  <a:lnTo>
                    <a:pt x="682" y="166"/>
                  </a:lnTo>
                  <a:lnTo>
                    <a:pt x="683" y="180"/>
                  </a:lnTo>
                  <a:lnTo>
                    <a:pt x="684" y="195"/>
                  </a:lnTo>
                  <a:lnTo>
                    <a:pt x="686" y="208"/>
                  </a:lnTo>
                  <a:lnTo>
                    <a:pt x="687" y="223"/>
                  </a:lnTo>
                  <a:lnTo>
                    <a:pt x="688" y="235"/>
                  </a:lnTo>
                  <a:lnTo>
                    <a:pt x="691" y="247"/>
                  </a:lnTo>
                  <a:lnTo>
                    <a:pt x="692" y="257"/>
                  </a:lnTo>
                  <a:lnTo>
                    <a:pt x="693" y="266"/>
                  </a:lnTo>
                  <a:lnTo>
                    <a:pt x="695" y="274"/>
                  </a:lnTo>
                  <a:lnTo>
                    <a:pt x="696" y="278"/>
                  </a:lnTo>
                  <a:lnTo>
                    <a:pt x="697" y="282"/>
                  </a:lnTo>
                  <a:lnTo>
                    <a:pt x="698" y="284"/>
                  </a:lnTo>
                  <a:lnTo>
                    <a:pt x="701" y="283"/>
                  </a:lnTo>
                  <a:lnTo>
                    <a:pt x="702" y="280"/>
                  </a:lnTo>
                  <a:lnTo>
                    <a:pt x="703" y="275"/>
                  </a:lnTo>
                  <a:lnTo>
                    <a:pt x="705" y="268"/>
                  </a:lnTo>
                  <a:lnTo>
                    <a:pt x="706" y="261"/>
                  </a:lnTo>
                  <a:lnTo>
                    <a:pt x="707" y="251"/>
                  </a:lnTo>
                  <a:lnTo>
                    <a:pt x="710" y="239"/>
                  </a:lnTo>
                  <a:lnTo>
                    <a:pt x="711" y="227"/>
                  </a:lnTo>
                  <a:lnTo>
                    <a:pt x="712" y="214"/>
                  </a:lnTo>
                  <a:lnTo>
                    <a:pt x="713" y="199"/>
                  </a:lnTo>
                  <a:lnTo>
                    <a:pt x="715" y="186"/>
                  </a:lnTo>
                  <a:lnTo>
                    <a:pt x="716" y="172"/>
                  </a:lnTo>
                  <a:lnTo>
                    <a:pt x="717" y="157"/>
                  </a:lnTo>
                  <a:lnTo>
                    <a:pt x="720" y="144"/>
                  </a:lnTo>
                  <a:lnTo>
                    <a:pt x="721" y="130"/>
                  </a:lnTo>
                  <a:lnTo>
                    <a:pt x="722" y="119"/>
                  </a:lnTo>
                  <a:lnTo>
                    <a:pt x="724" y="108"/>
                  </a:lnTo>
                  <a:lnTo>
                    <a:pt x="725" y="99"/>
                  </a:lnTo>
                  <a:lnTo>
                    <a:pt x="726" y="92"/>
                  </a:lnTo>
                  <a:lnTo>
                    <a:pt x="727" y="87"/>
                  </a:lnTo>
                  <a:lnTo>
                    <a:pt x="730" y="82"/>
                  </a:lnTo>
                  <a:lnTo>
                    <a:pt x="731" y="81"/>
                  </a:lnTo>
                  <a:lnTo>
                    <a:pt x="732" y="81"/>
                  </a:lnTo>
                  <a:lnTo>
                    <a:pt x="734" y="83"/>
                  </a:lnTo>
                  <a:lnTo>
                    <a:pt x="735" y="88"/>
                  </a:lnTo>
                  <a:lnTo>
                    <a:pt x="736" y="94"/>
                  </a:lnTo>
                  <a:lnTo>
                    <a:pt x="738" y="101"/>
                  </a:lnTo>
                  <a:lnTo>
                    <a:pt x="740" y="111"/>
                  </a:lnTo>
                  <a:lnTo>
                    <a:pt x="741" y="121"/>
                  </a:lnTo>
                  <a:lnTo>
                    <a:pt x="742" y="134"/>
                  </a:lnTo>
                  <a:lnTo>
                    <a:pt x="744" y="147"/>
                  </a:lnTo>
                  <a:lnTo>
                    <a:pt x="745" y="160"/>
                  </a:lnTo>
                  <a:lnTo>
                    <a:pt x="746" y="175"/>
                  </a:lnTo>
                  <a:lnTo>
                    <a:pt x="749" y="188"/>
                  </a:lnTo>
                  <a:lnTo>
                    <a:pt x="750" y="203"/>
                  </a:lnTo>
                  <a:lnTo>
                    <a:pt x="751" y="216"/>
                  </a:lnTo>
                  <a:lnTo>
                    <a:pt x="752" y="228"/>
                  </a:lnTo>
                  <a:lnTo>
                    <a:pt x="754" y="241"/>
                  </a:lnTo>
                  <a:lnTo>
                    <a:pt x="755" y="251"/>
                  </a:lnTo>
                  <a:lnTo>
                    <a:pt x="756" y="261"/>
                  </a:lnTo>
                  <a:lnTo>
                    <a:pt x="759" y="268"/>
                  </a:lnTo>
                  <a:lnTo>
                    <a:pt x="760" y="274"/>
                  </a:lnTo>
                  <a:lnTo>
                    <a:pt x="761" y="277"/>
                  </a:lnTo>
                  <a:lnTo>
                    <a:pt x="763" y="280"/>
                  </a:lnTo>
                  <a:lnTo>
                    <a:pt x="764" y="280"/>
                  </a:lnTo>
                  <a:lnTo>
                    <a:pt x="765" y="278"/>
                  </a:lnTo>
                  <a:lnTo>
                    <a:pt x="767" y="274"/>
                  </a:lnTo>
                  <a:lnTo>
                    <a:pt x="769" y="268"/>
                  </a:lnTo>
                  <a:lnTo>
                    <a:pt x="770" y="262"/>
                  </a:lnTo>
                  <a:lnTo>
                    <a:pt x="771" y="253"/>
                  </a:lnTo>
                  <a:lnTo>
                    <a:pt x="773" y="242"/>
                  </a:lnTo>
                  <a:lnTo>
                    <a:pt x="774" y="231"/>
                  </a:lnTo>
                  <a:lnTo>
                    <a:pt x="775" y="218"/>
                  </a:lnTo>
                  <a:lnTo>
                    <a:pt x="777" y="205"/>
                  </a:lnTo>
                  <a:lnTo>
                    <a:pt x="779" y="192"/>
                  </a:lnTo>
                  <a:lnTo>
                    <a:pt x="780" y="177"/>
                  </a:lnTo>
                  <a:lnTo>
                    <a:pt x="781" y="164"/>
                  </a:lnTo>
                  <a:lnTo>
                    <a:pt x="783" y="150"/>
                  </a:lnTo>
                  <a:lnTo>
                    <a:pt x="784" y="137"/>
                  </a:lnTo>
                  <a:lnTo>
                    <a:pt x="785" y="126"/>
                  </a:lnTo>
                  <a:lnTo>
                    <a:pt x="788" y="115"/>
                  </a:lnTo>
                  <a:lnTo>
                    <a:pt x="789" y="106"/>
                  </a:lnTo>
                  <a:lnTo>
                    <a:pt x="790" y="98"/>
                  </a:lnTo>
                  <a:lnTo>
                    <a:pt x="791" y="91"/>
                  </a:lnTo>
                  <a:lnTo>
                    <a:pt x="793" y="87"/>
                  </a:lnTo>
                  <a:lnTo>
                    <a:pt x="794" y="85"/>
                  </a:lnTo>
                  <a:lnTo>
                    <a:pt x="796" y="85"/>
                  </a:lnTo>
                  <a:lnTo>
                    <a:pt x="798" y="86"/>
                  </a:lnTo>
                  <a:lnTo>
                    <a:pt x="799" y="89"/>
                  </a:lnTo>
                  <a:lnTo>
                    <a:pt x="800" y="94"/>
                  </a:lnTo>
                  <a:lnTo>
                    <a:pt x="802" y="101"/>
                  </a:lnTo>
                  <a:lnTo>
                    <a:pt x="803" y="109"/>
                  </a:lnTo>
                  <a:lnTo>
                    <a:pt x="804" y="119"/>
                  </a:lnTo>
                  <a:lnTo>
                    <a:pt x="806" y="130"/>
                  </a:lnTo>
                  <a:lnTo>
                    <a:pt x="808" y="143"/>
                  </a:lnTo>
                  <a:lnTo>
                    <a:pt x="809" y="156"/>
                  </a:lnTo>
                  <a:lnTo>
                    <a:pt x="810" y="169"/>
                  </a:lnTo>
                  <a:lnTo>
                    <a:pt x="812" y="183"/>
                  </a:lnTo>
                  <a:lnTo>
                    <a:pt x="813" y="196"/>
                  </a:lnTo>
                  <a:lnTo>
                    <a:pt x="814" y="209"/>
                  </a:lnTo>
                  <a:lnTo>
                    <a:pt x="817" y="222"/>
                  </a:lnTo>
                  <a:lnTo>
                    <a:pt x="818" y="234"/>
                  </a:lnTo>
                  <a:lnTo>
                    <a:pt x="819" y="245"/>
                  </a:lnTo>
                  <a:lnTo>
                    <a:pt x="820" y="254"/>
                  </a:lnTo>
                  <a:lnTo>
                    <a:pt x="822" y="262"/>
                  </a:lnTo>
                  <a:lnTo>
                    <a:pt x="823" y="268"/>
                  </a:lnTo>
                  <a:lnTo>
                    <a:pt x="825" y="273"/>
                  </a:lnTo>
                  <a:lnTo>
                    <a:pt x="827" y="276"/>
                  </a:lnTo>
                  <a:lnTo>
                    <a:pt x="828" y="277"/>
                  </a:lnTo>
                  <a:lnTo>
                    <a:pt x="829" y="276"/>
                  </a:lnTo>
                  <a:lnTo>
                    <a:pt x="830" y="273"/>
                  </a:lnTo>
                  <a:lnTo>
                    <a:pt x="832" y="268"/>
                  </a:lnTo>
                  <a:lnTo>
                    <a:pt x="833" y="262"/>
                  </a:lnTo>
                  <a:lnTo>
                    <a:pt x="835" y="254"/>
                  </a:lnTo>
                  <a:lnTo>
                    <a:pt x="837" y="244"/>
                  </a:lnTo>
                  <a:lnTo>
                    <a:pt x="838" y="234"/>
                  </a:lnTo>
                  <a:lnTo>
                    <a:pt x="839" y="222"/>
                  </a:lnTo>
                  <a:lnTo>
                    <a:pt x="841" y="209"/>
                  </a:lnTo>
                  <a:lnTo>
                    <a:pt x="842" y="196"/>
                  </a:lnTo>
                  <a:lnTo>
                    <a:pt x="843" y="183"/>
                  </a:lnTo>
                  <a:lnTo>
                    <a:pt x="845" y="170"/>
                  </a:lnTo>
                  <a:lnTo>
                    <a:pt x="847" y="157"/>
                  </a:lnTo>
                  <a:lnTo>
                    <a:pt x="848" y="144"/>
                  </a:lnTo>
                  <a:lnTo>
                    <a:pt x="849" y="133"/>
                  </a:lnTo>
                  <a:lnTo>
                    <a:pt x="851" y="121"/>
                  </a:lnTo>
                  <a:lnTo>
                    <a:pt x="852" y="112"/>
                  </a:lnTo>
                  <a:lnTo>
                    <a:pt x="854" y="104"/>
                  </a:lnTo>
                  <a:lnTo>
                    <a:pt x="856" y="97"/>
                  </a:lnTo>
                  <a:lnTo>
                    <a:pt x="857" y="92"/>
                  </a:lnTo>
                  <a:lnTo>
                    <a:pt x="858" y="89"/>
                  </a:lnTo>
                  <a:lnTo>
                    <a:pt x="859" y="88"/>
                  </a:lnTo>
                  <a:lnTo>
                    <a:pt x="861" y="88"/>
                  </a:lnTo>
                  <a:lnTo>
                    <a:pt x="862" y="90"/>
                  </a:lnTo>
                  <a:lnTo>
                    <a:pt x="864" y="95"/>
                  </a:lnTo>
                  <a:lnTo>
                    <a:pt x="866" y="100"/>
                  </a:lnTo>
                  <a:lnTo>
                    <a:pt x="867" y="108"/>
                  </a:lnTo>
                  <a:lnTo>
                    <a:pt x="868" y="117"/>
                  </a:lnTo>
                  <a:lnTo>
                    <a:pt x="869" y="127"/>
                  </a:lnTo>
                  <a:lnTo>
                    <a:pt x="871" y="139"/>
                  </a:lnTo>
                  <a:lnTo>
                    <a:pt x="872" y="150"/>
                  </a:lnTo>
                  <a:lnTo>
                    <a:pt x="874" y="164"/>
                  </a:lnTo>
                  <a:lnTo>
                    <a:pt x="876" y="177"/>
                  </a:lnTo>
                  <a:lnTo>
                    <a:pt x="877" y="189"/>
                  </a:lnTo>
                  <a:lnTo>
                    <a:pt x="878" y="203"/>
                  </a:lnTo>
                  <a:lnTo>
                    <a:pt x="880" y="215"/>
                  </a:lnTo>
                  <a:lnTo>
                    <a:pt x="881" y="227"/>
                  </a:lnTo>
                  <a:lnTo>
                    <a:pt x="883" y="237"/>
                  </a:lnTo>
                  <a:lnTo>
                    <a:pt x="884" y="247"/>
                  </a:lnTo>
                  <a:lnTo>
                    <a:pt x="886" y="256"/>
                  </a:lnTo>
                  <a:lnTo>
                    <a:pt x="887" y="263"/>
                  </a:lnTo>
                  <a:lnTo>
                    <a:pt x="888" y="268"/>
                  </a:lnTo>
                  <a:lnTo>
                    <a:pt x="890" y="272"/>
                  </a:lnTo>
                  <a:lnTo>
                    <a:pt x="891" y="273"/>
                  </a:lnTo>
                  <a:lnTo>
                    <a:pt x="893" y="273"/>
                  </a:lnTo>
                  <a:lnTo>
                    <a:pt x="895" y="271"/>
                  </a:lnTo>
                  <a:lnTo>
                    <a:pt x="896" y="267"/>
                  </a:lnTo>
                  <a:lnTo>
                    <a:pt x="897" y="262"/>
                  </a:lnTo>
                  <a:lnTo>
                    <a:pt x="898" y="255"/>
                  </a:lnTo>
                  <a:lnTo>
                    <a:pt x="900" y="246"/>
                  </a:lnTo>
                  <a:lnTo>
                    <a:pt x="901" y="236"/>
                  </a:lnTo>
                  <a:lnTo>
                    <a:pt x="903" y="226"/>
                  </a:lnTo>
                  <a:lnTo>
                    <a:pt x="905" y="214"/>
                  </a:lnTo>
                  <a:lnTo>
                    <a:pt x="906" y="202"/>
                  </a:lnTo>
                  <a:lnTo>
                    <a:pt x="907" y="189"/>
                  </a:lnTo>
                  <a:lnTo>
                    <a:pt x="908" y="176"/>
                  </a:lnTo>
                  <a:lnTo>
                    <a:pt x="910" y="164"/>
                  </a:lnTo>
                  <a:lnTo>
                    <a:pt x="912" y="151"/>
                  </a:lnTo>
                  <a:lnTo>
                    <a:pt x="913" y="139"/>
                  </a:lnTo>
                  <a:lnTo>
                    <a:pt x="915" y="128"/>
                  </a:lnTo>
                  <a:lnTo>
                    <a:pt x="916" y="119"/>
                  </a:lnTo>
                  <a:lnTo>
                    <a:pt x="917" y="110"/>
                  </a:lnTo>
                  <a:lnTo>
                    <a:pt x="919" y="104"/>
                  </a:lnTo>
                  <a:lnTo>
                    <a:pt x="920" y="98"/>
                  </a:lnTo>
                  <a:lnTo>
                    <a:pt x="922" y="94"/>
                  </a:lnTo>
                  <a:lnTo>
                    <a:pt x="923" y="91"/>
                  </a:lnTo>
                  <a:lnTo>
                    <a:pt x="925" y="91"/>
                  </a:lnTo>
                  <a:lnTo>
                    <a:pt x="926" y="92"/>
                  </a:lnTo>
                  <a:lnTo>
                    <a:pt x="927" y="96"/>
                  </a:lnTo>
                  <a:lnTo>
                    <a:pt x="929" y="101"/>
                  </a:lnTo>
                  <a:lnTo>
                    <a:pt x="930" y="108"/>
                  </a:lnTo>
                  <a:lnTo>
                    <a:pt x="932" y="116"/>
                  </a:lnTo>
                  <a:lnTo>
                    <a:pt x="934" y="125"/>
                  </a:lnTo>
                  <a:lnTo>
                    <a:pt x="935" y="136"/>
                  </a:lnTo>
                  <a:lnTo>
                    <a:pt x="936" y="147"/>
                  </a:lnTo>
                  <a:lnTo>
                    <a:pt x="937" y="158"/>
                  </a:lnTo>
                  <a:lnTo>
                    <a:pt x="939" y="172"/>
                  </a:lnTo>
                  <a:lnTo>
                    <a:pt x="941" y="184"/>
                  </a:lnTo>
                  <a:lnTo>
                    <a:pt x="942" y="196"/>
                  </a:lnTo>
                  <a:lnTo>
                    <a:pt x="944" y="208"/>
                  </a:lnTo>
                  <a:lnTo>
                    <a:pt x="945" y="221"/>
                  </a:lnTo>
                  <a:lnTo>
                    <a:pt x="946" y="231"/>
                  </a:lnTo>
                  <a:lnTo>
                    <a:pt x="948" y="241"/>
                  </a:lnTo>
                  <a:lnTo>
                    <a:pt x="949" y="249"/>
                  </a:lnTo>
                  <a:lnTo>
                    <a:pt x="951" y="256"/>
                  </a:lnTo>
                  <a:lnTo>
                    <a:pt x="952" y="263"/>
                  </a:lnTo>
                  <a:lnTo>
                    <a:pt x="954" y="266"/>
                  </a:lnTo>
                  <a:lnTo>
                    <a:pt x="955" y="268"/>
                  </a:lnTo>
                  <a:lnTo>
                    <a:pt x="956" y="270"/>
                  </a:lnTo>
                  <a:lnTo>
                    <a:pt x="958" y="268"/>
                  </a:lnTo>
                  <a:lnTo>
                    <a:pt x="960" y="266"/>
                  </a:lnTo>
                  <a:lnTo>
                    <a:pt x="961" y="262"/>
                  </a:lnTo>
                  <a:lnTo>
                    <a:pt x="962" y="255"/>
                  </a:lnTo>
                  <a:lnTo>
                    <a:pt x="964" y="247"/>
                  </a:lnTo>
                  <a:lnTo>
                    <a:pt x="965" y="238"/>
                  </a:lnTo>
                  <a:lnTo>
                    <a:pt x="966" y="229"/>
                  </a:lnTo>
                  <a:lnTo>
                    <a:pt x="968" y="218"/>
                  </a:lnTo>
                  <a:lnTo>
                    <a:pt x="970" y="206"/>
                  </a:lnTo>
                  <a:lnTo>
                    <a:pt x="971" y="195"/>
                  </a:lnTo>
                  <a:lnTo>
                    <a:pt x="973" y="182"/>
                  </a:lnTo>
                  <a:lnTo>
                    <a:pt x="974" y="169"/>
                  </a:lnTo>
                  <a:lnTo>
                    <a:pt x="975" y="158"/>
                  </a:lnTo>
                  <a:lnTo>
                    <a:pt x="976" y="146"/>
                  </a:lnTo>
                  <a:lnTo>
                    <a:pt x="978" y="136"/>
                  </a:lnTo>
                  <a:lnTo>
                    <a:pt x="980" y="126"/>
                  </a:lnTo>
                  <a:lnTo>
                    <a:pt x="981" y="117"/>
                  </a:lnTo>
                  <a:lnTo>
                    <a:pt x="983" y="109"/>
                  </a:lnTo>
                  <a:lnTo>
                    <a:pt x="984" y="104"/>
                  </a:lnTo>
                  <a:lnTo>
                    <a:pt x="985" y="99"/>
                  </a:lnTo>
                  <a:lnTo>
                    <a:pt x="987" y="96"/>
                  </a:lnTo>
                  <a:lnTo>
                    <a:pt x="989" y="95"/>
                  </a:lnTo>
                  <a:lnTo>
                    <a:pt x="990" y="96"/>
                  </a:lnTo>
                  <a:lnTo>
                    <a:pt x="991" y="98"/>
                  </a:lnTo>
                  <a:lnTo>
                    <a:pt x="993" y="101"/>
                  </a:lnTo>
                  <a:lnTo>
                    <a:pt x="994" y="107"/>
                  </a:lnTo>
                  <a:lnTo>
                    <a:pt x="995" y="115"/>
                  </a:lnTo>
                  <a:lnTo>
                    <a:pt x="997" y="122"/>
                  </a:lnTo>
                  <a:lnTo>
                    <a:pt x="999" y="133"/>
                  </a:lnTo>
                  <a:lnTo>
                    <a:pt x="1000" y="143"/>
                  </a:lnTo>
                  <a:lnTo>
                    <a:pt x="1001" y="154"/>
                  </a:lnTo>
                  <a:lnTo>
                    <a:pt x="1003" y="166"/>
                  </a:lnTo>
                  <a:lnTo>
                    <a:pt x="1004" y="178"/>
                  </a:lnTo>
                  <a:lnTo>
                    <a:pt x="1005" y="189"/>
                  </a:lnTo>
                  <a:lnTo>
                    <a:pt x="1007" y="202"/>
                  </a:lnTo>
                  <a:lnTo>
                    <a:pt x="1009" y="213"/>
                  </a:lnTo>
                  <a:lnTo>
                    <a:pt x="1010" y="224"/>
                  </a:lnTo>
                  <a:lnTo>
                    <a:pt x="1012" y="234"/>
                  </a:lnTo>
                  <a:lnTo>
                    <a:pt x="1013" y="243"/>
                  </a:lnTo>
                  <a:lnTo>
                    <a:pt x="1014" y="251"/>
                  </a:lnTo>
                  <a:lnTo>
                    <a:pt x="1015" y="256"/>
                  </a:lnTo>
                  <a:lnTo>
                    <a:pt x="1018" y="262"/>
                  </a:lnTo>
                  <a:lnTo>
                    <a:pt x="1019" y="264"/>
                  </a:lnTo>
                  <a:lnTo>
                    <a:pt x="1020" y="266"/>
                  </a:lnTo>
                  <a:lnTo>
                    <a:pt x="1022" y="265"/>
                  </a:lnTo>
                  <a:lnTo>
                    <a:pt x="1023" y="264"/>
                  </a:lnTo>
                  <a:lnTo>
                    <a:pt x="1024" y="261"/>
                  </a:lnTo>
                  <a:lnTo>
                    <a:pt x="1026" y="255"/>
                  </a:lnTo>
                  <a:lnTo>
                    <a:pt x="1028" y="248"/>
                  </a:lnTo>
                  <a:lnTo>
                    <a:pt x="1029" y="241"/>
                  </a:lnTo>
                  <a:lnTo>
                    <a:pt x="1030" y="232"/>
                  </a:lnTo>
                  <a:lnTo>
                    <a:pt x="1032" y="222"/>
                  </a:lnTo>
                  <a:lnTo>
                    <a:pt x="1033" y="211"/>
                  </a:lnTo>
                  <a:lnTo>
                    <a:pt x="1034" y="199"/>
                  </a:lnTo>
                  <a:lnTo>
                    <a:pt x="1036" y="188"/>
                  </a:lnTo>
                  <a:lnTo>
                    <a:pt x="1038" y="176"/>
                  </a:lnTo>
                  <a:lnTo>
                    <a:pt x="1039" y="165"/>
                  </a:lnTo>
                  <a:lnTo>
                    <a:pt x="1041" y="153"/>
                  </a:lnTo>
                  <a:lnTo>
                    <a:pt x="1042" y="143"/>
                  </a:lnTo>
                  <a:lnTo>
                    <a:pt x="1043" y="133"/>
                  </a:lnTo>
                  <a:lnTo>
                    <a:pt x="1044" y="124"/>
                  </a:lnTo>
                  <a:lnTo>
                    <a:pt x="1047" y="116"/>
                  </a:lnTo>
                  <a:lnTo>
                    <a:pt x="1048" y="109"/>
                  </a:lnTo>
                  <a:lnTo>
                    <a:pt x="1049" y="105"/>
                  </a:lnTo>
                  <a:lnTo>
                    <a:pt x="1051" y="101"/>
                  </a:lnTo>
                  <a:lnTo>
                    <a:pt x="1052" y="99"/>
                  </a:lnTo>
                  <a:lnTo>
                    <a:pt x="1053" y="99"/>
                  </a:lnTo>
                  <a:lnTo>
                    <a:pt x="1054" y="100"/>
                  </a:lnTo>
                  <a:lnTo>
                    <a:pt x="1057" y="104"/>
                  </a:lnTo>
                  <a:lnTo>
                    <a:pt x="1058" y="108"/>
                  </a:lnTo>
                  <a:lnTo>
                    <a:pt x="1059" y="114"/>
                  </a:lnTo>
                  <a:lnTo>
                    <a:pt x="1061" y="121"/>
                  </a:lnTo>
                  <a:lnTo>
                    <a:pt x="1062" y="129"/>
                  </a:lnTo>
                  <a:lnTo>
                    <a:pt x="1063" y="139"/>
                  </a:lnTo>
                  <a:lnTo>
                    <a:pt x="1065" y="149"/>
                  </a:lnTo>
                  <a:lnTo>
                    <a:pt x="1067" y="160"/>
                  </a:lnTo>
                  <a:lnTo>
                    <a:pt x="1068" y="172"/>
                  </a:lnTo>
                  <a:lnTo>
                    <a:pt x="1069" y="184"/>
                  </a:lnTo>
                  <a:lnTo>
                    <a:pt x="1071" y="195"/>
                  </a:lnTo>
                  <a:lnTo>
                    <a:pt x="1072" y="206"/>
                  </a:lnTo>
                  <a:lnTo>
                    <a:pt x="1073" y="217"/>
                  </a:lnTo>
                  <a:lnTo>
                    <a:pt x="1076" y="227"/>
                  </a:lnTo>
                  <a:lnTo>
                    <a:pt x="1077" y="236"/>
                  </a:lnTo>
                  <a:lnTo>
                    <a:pt x="1078" y="244"/>
                  </a:lnTo>
                  <a:lnTo>
                    <a:pt x="1080" y="251"/>
                  </a:lnTo>
                  <a:lnTo>
                    <a:pt x="1081" y="255"/>
                  </a:lnTo>
                  <a:lnTo>
                    <a:pt x="1082" y="260"/>
                  </a:lnTo>
                  <a:lnTo>
                    <a:pt x="1083" y="262"/>
                  </a:lnTo>
                  <a:lnTo>
                    <a:pt x="1086" y="262"/>
                  </a:lnTo>
                  <a:lnTo>
                    <a:pt x="1087" y="262"/>
                  </a:lnTo>
                  <a:lnTo>
                    <a:pt x="1088" y="258"/>
                  </a:lnTo>
                  <a:lnTo>
                    <a:pt x="1090" y="255"/>
                  </a:lnTo>
                  <a:lnTo>
                    <a:pt x="1091" y="249"/>
                  </a:lnTo>
                  <a:lnTo>
                    <a:pt x="1092" y="242"/>
                  </a:lnTo>
                  <a:lnTo>
                    <a:pt x="1093" y="234"/>
                  </a:lnTo>
                  <a:lnTo>
                    <a:pt x="1096" y="225"/>
                  </a:lnTo>
                  <a:lnTo>
                    <a:pt x="1097" y="215"/>
                  </a:lnTo>
                  <a:lnTo>
                    <a:pt x="1098" y="205"/>
                  </a:lnTo>
                  <a:lnTo>
                    <a:pt x="1100" y="194"/>
                  </a:lnTo>
                  <a:lnTo>
                    <a:pt x="1101" y="183"/>
                  </a:lnTo>
                  <a:lnTo>
                    <a:pt x="1102" y="172"/>
                  </a:lnTo>
                  <a:lnTo>
                    <a:pt x="1105" y="160"/>
                  </a:lnTo>
                  <a:lnTo>
                    <a:pt x="1106" y="149"/>
                  </a:lnTo>
                  <a:lnTo>
                    <a:pt x="1107" y="139"/>
                  </a:lnTo>
                  <a:lnTo>
                    <a:pt x="1108" y="130"/>
                  </a:lnTo>
                  <a:lnTo>
                    <a:pt x="1110" y="122"/>
                  </a:lnTo>
                  <a:lnTo>
                    <a:pt x="1111" y="116"/>
                  </a:lnTo>
                  <a:lnTo>
                    <a:pt x="1112" y="110"/>
                  </a:lnTo>
                  <a:lnTo>
                    <a:pt x="1115" y="106"/>
                  </a:lnTo>
                  <a:lnTo>
                    <a:pt x="1116" y="104"/>
                  </a:lnTo>
                  <a:lnTo>
                    <a:pt x="1117" y="102"/>
                  </a:lnTo>
                  <a:lnTo>
                    <a:pt x="1119" y="102"/>
                  </a:lnTo>
                  <a:lnTo>
                    <a:pt x="1120" y="105"/>
                  </a:lnTo>
                  <a:lnTo>
                    <a:pt x="1121" y="109"/>
                  </a:lnTo>
                  <a:lnTo>
                    <a:pt x="1122" y="114"/>
                  </a:lnTo>
                  <a:lnTo>
                    <a:pt x="1125" y="120"/>
                  </a:lnTo>
                  <a:lnTo>
                    <a:pt x="1126" y="128"/>
                  </a:lnTo>
                  <a:lnTo>
                    <a:pt x="1127" y="136"/>
                  </a:lnTo>
                  <a:lnTo>
                    <a:pt x="1129" y="146"/>
                  </a:lnTo>
                  <a:lnTo>
                    <a:pt x="1130" y="156"/>
                  </a:lnTo>
                  <a:lnTo>
                    <a:pt x="1131" y="167"/>
                  </a:lnTo>
                  <a:lnTo>
                    <a:pt x="1132" y="177"/>
                  </a:lnTo>
                  <a:lnTo>
                    <a:pt x="1135" y="188"/>
                  </a:lnTo>
                  <a:lnTo>
                    <a:pt x="1136" y="199"/>
                  </a:lnTo>
                  <a:lnTo>
                    <a:pt x="1137" y="209"/>
                  </a:lnTo>
                  <a:lnTo>
                    <a:pt x="1139" y="219"/>
                  </a:lnTo>
                  <a:lnTo>
                    <a:pt x="1140" y="228"/>
                  </a:lnTo>
                  <a:lnTo>
                    <a:pt x="1141" y="237"/>
                  </a:lnTo>
                  <a:lnTo>
                    <a:pt x="1144" y="244"/>
                  </a:lnTo>
                  <a:lnTo>
                    <a:pt x="1145" y="249"/>
                  </a:lnTo>
                  <a:lnTo>
                    <a:pt x="1146" y="254"/>
                  </a:lnTo>
                  <a:lnTo>
                    <a:pt x="1147" y="257"/>
                  </a:lnTo>
                  <a:lnTo>
                    <a:pt x="1149" y="258"/>
                  </a:lnTo>
                  <a:lnTo>
                    <a:pt x="1150" y="258"/>
                  </a:lnTo>
                  <a:lnTo>
                    <a:pt x="1151" y="256"/>
                  </a:lnTo>
                  <a:lnTo>
                    <a:pt x="1154" y="254"/>
                  </a:lnTo>
                  <a:lnTo>
                    <a:pt x="1155" y="248"/>
                  </a:lnTo>
                  <a:lnTo>
                    <a:pt x="1156" y="243"/>
                  </a:lnTo>
                  <a:lnTo>
                    <a:pt x="1158" y="236"/>
                  </a:lnTo>
                  <a:lnTo>
                    <a:pt x="1159" y="228"/>
                  </a:lnTo>
                  <a:lnTo>
                    <a:pt x="1160" y="218"/>
                  </a:lnTo>
                  <a:lnTo>
                    <a:pt x="1161" y="209"/>
                  </a:lnTo>
                  <a:lnTo>
                    <a:pt x="1164" y="198"/>
                  </a:lnTo>
                  <a:lnTo>
                    <a:pt x="1165" y="188"/>
                  </a:lnTo>
                  <a:lnTo>
                    <a:pt x="1166" y="177"/>
                  </a:lnTo>
                  <a:lnTo>
                    <a:pt x="1168" y="167"/>
                  </a:lnTo>
                  <a:lnTo>
                    <a:pt x="1169" y="156"/>
                  </a:lnTo>
                  <a:lnTo>
                    <a:pt x="1170" y="147"/>
                  </a:lnTo>
                  <a:lnTo>
                    <a:pt x="1173" y="138"/>
                  </a:lnTo>
                  <a:lnTo>
                    <a:pt x="1174" y="129"/>
                  </a:lnTo>
                  <a:lnTo>
                    <a:pt x="1175" y="122"/>
                  </a:lnTo>
                  <a:lnTo>
                    <a:pt x="1176" y="116"/>
                  </a:lnTo>
                  <a:lnTo>
                    <a:pt x="1178" y="111"/>
                  </a:lnTo>
                  <a:lnTo>
                    <a:pt x="1179" y="108"/>
                  </a:lnTo>
                  <a:lnTo>
                    <a:pt x="1180" y="107"/>
                  </a:lnTo>
                  <a:lnTo>
                    <a:pt x="1183" y="106"/>
                  </a:lnTo>
                  <a:lnTo>
                    <a:pt x="1184" y="107"/>
                  </a:lnTo>
                  <a:lnTo>
                    <a:pt x="1185" y="110"/>
                  </a:lnTo>
                  <a:lnTo>
                    <a:pt x="1186" y="114"/>
                  </a:lnTo>
                  <a:lnTo>
                    <a:pt x="1188" y="119"/>
                  </a:lnTo>
                  <a:lnTo>
                    <a:pt x="1189" y="126"/>
                  </a:lnTo>
                  <a:lnTo>
                    <a:pt x="1190" y="134"/>
                  </a:lnTo>
                  <a:lnTo>
                    <a:pt x="1193" y="143"/>
                  </a:lnTo>
                  <a:lnTo>
                    <a:pt x="1194" y="151"/>
                  </a:lnTo>
                  <a:lnTo>
                    <a:pt x="1195" y="161"/>
                  </a:lnTo>
                  <a:lnTo>
                    <a:pt x="1197" y="172"/>
                  </a:lnTo>
                  <a:lnTo>
                    <a:pt x="1198" y="183"/>
                  </a:lnTo>
                  <a:lnTo>
                    <a:pt x="1199" y="193"/>
                  </a:lnTo>
                  <a:lnTo>
                    <a:pt x="1200" y="203"/>
                  </a:lnTo>
                  <a:lnTo>
                    <a:pt x="1203" y="213"/>
                  </a:lnTo>
                  <a:lnTo>
                    <a:pt x="1204" y="222"/>
                  </a:lnTo>
                  <a:lnTo>
                    <a:pt x="1205" y="229"/>
                  </a:lnTo>
                  <a:lnTo>
                    <a:pt x="1207" y="237"/>
                  </a:lnTo>
                  <a:lnTo>
                    <a:pt x="1208" y="243"/>
                  </a:lnTo>
                  <a:lnTo>
                    <a:pt x="1209" y="248"/>
                  </a:lnTo>
                  <a:lnTo>
                    <a:pt x="1212" y="252"/>
                  </a:lnTo>
                  <a:lnTo>
                    <a:pt x="1213" y="254"/>
                  </a:lnTo>
                  <a:lnTo>
                    <a:pt x="1214" y="255"/>
                  </a:lnTo>
                  <a:lnTo>
                    <a:pt x="1215" y="254"/>
                  </a:lnTo>
                  <a:lnTo>
                    <a:pt x="1217" y="252"/>
                  </a:lnTo>
                  <a:lnTo>
                    <a:pt x="1218" y="248"/>
                  </a:lnTo>
                  <a:lnTo>
                    <a:pt x="1219" y="244"/>
                  </a:lnTo>
                  <a:lnTo>
                    <a:pt x="1222" y="237"/>
                  </a:lnTo>
                  <a:lnTo>
                    <a:pt x="1223" y="231"/>
                  </a:lnTo>
                  <a:lnTo>
                    <a:pt x="1224" y="222"/>
                  </a:lnTo>
                  <a:lnTo>
                    <a:pt x="1225" y="213"/>
                  </a:lnTo>
                  <a:lnTo>
                    <a:pt x="1227" y="204"/>
                  </a:lnTo>
                  <a:lnTo>
                    <a:pt x="1228" y="194"/>
                  </a:lnTo>
                  <a:lnTo>
                    <a:pt x="1229" y="184"/>
                  </a:lnTo>
                  <a:lnTo>
                    <a:pt x="1232" y="174"/>
                  </a:lnTo>
                  <a:lnTo>
                    <a:pt x="1233" y="164"/>
                  </a:lnTo>
                  <a:lnTo>
                    <a:pt x="1234" y="154"/>
                  </a:lnTo>
                  <a:lnTo>
                    <a:pt x="1236" y="145"/>
                  </a:lnTo>
                  <a:lnTo>
                    <a:pt x="1237" y="137"/>
                  </a:lnTo>
                  <a:lnTo>
                    <a:pt x="1238" y="129"/>
                  </a:lnTo>
                  <a:lnTo>
                    <a:pt x="1240" y="122"/>
                  </a:lnTo>
                  <a:lnTo>
                    <a:pt x="1242" y="118"/>
                  </a:lnTo>
                  <a:lnTo>
                    <a:pt x="1243" y="114"/>
                  </a:lnTo>
                  <a:lnTo>
                    <a:pt x="1244" y="111"/>
                  </a:lnTo>
                  <a:lnTo>
                    <a:pt x="1246" y="110"/>
                  </a:lnTo>
                  <a:lnTo>
                    <a:pt x="1247" y="110"/>
                  </a:lnTo>
                  <a:lnTo>
                    <a:pt x="1248" y="111"/>
                  </a:lnTo>
                  <a:lnTo>
                    <a:pt x="1251" y="115"/>
                  </a:lnTo>
                  <a:lnTo>
                    <a:pt x="1252" y="119"/>
                  </a:lnTo>
                  <a:lnTo>
                    <a:pt x="1253" y="125"/>
                  </a:lnTo>
                  <a:lnTo>
                    <a:pt x="1254" y="131"/>
                  </a:lnTo>
                  <a:lnTo>
                    <a:pt x="1256" y="139"/>
                  </a:lnTo>
                  <a:lnTo>
                    <a:pt x="1257" y="147"/>
                  </a:lnTo>
                  <a:lnTo>
                    <a:pt x="1258" y="157"/>
                  </a:lnTo>
                  <a:lnTo>
                    <a:pt x="1261" y="166"/>
                  </a:lnTo>
                  <a:lnTo>
                    <a:pt x="1262" y="176"/>
                  </a:lnTo>
                  <a:lnTo>
                    <a:pt x="1263" y="186"/>
                  </a:lnTo>
                  <a:lnTo>
                    <a:pt x="1265" y="196"/>
                  </a:lnTo>
                  <a:lnTo>
                    <a:pt x="1266" y="205"/>
                  </a:lnTo>
                  <a:lnTo>
                    <a:pt x="1267" y="214"/>
                  </a:lnTo>
                  <a:lnTo>
                    <a:pt x="1269" y="223"/>
                  </a:lnTo>
                  <a:lnTo>
                    <a:pt x="1271" y="231"/>
                  </a:lnTo>
                  <a:lnTo>
                    <a:pt x="1272" y="236"/>
                  </a:lnTo>
                  <a:lnTo>
                    <a:pt x="1273" y="242"/>
                  </a:lnTo>
                  <a:lnTo>
                    <a:pt x="1275" y="246"/>
                  </a:lnTo>
                  <a:lnTo>
                    <a:pt x="1276" y="249"/>
                  </a:lnTo>
                  <a:lnTo>
                    <a:pt x="1277" y="251"/>
                  </a:lnTo>
                  <a:lnTo>
                    <a:pt x="1279" y="251"/>
                  </a:lnTo>
                  <a:lnTo>
                    <a:pt x="1281" y="249"/>
                  </a:lnTo>
                  <a:lnTo>
                    <a:pt x="1282" y="247"/>
                  </a:lnTo>
                  <a:lnTo>
                    <a:pt x="1283" y="243"/>
                  </a:lnTo>
                  <a:lnTo>
                    <a:pt x="1285" y="238"/>
                  </a:lnTo>
                  <a:lnTo>
                    <a:pt x="1286" y="232"/>
                  </a:lnTo>
                  <a:lnTo>
                    <a:pt x="1287" y="225"/>
                  </a:lnTo>
                  <a:lnTo>
                    <a:pt x="1290" y="217"/>
                  </a:lnTo>
                  <a:lnTo>
                    <a:pt x="1291" y="208"/>
                  </a:lnTo>
                  <a:lnTo>
                    <a:pt x="1292" y="199"/>
                  </a:lnTo>
                  <a:lnTo>
                    <a:pt x="1293" y="189"/>
                  </a:lnTo>
                  <a:lnTo>
                    <a:pt x="1295" y="180"/>
                  </a:lnTo>
                  <a:lnTo>
                    <a:pt x="1296" y="170"/>
                  </a:lnTo>
                  <a:lnTo>
                    <a:pt x="1298" y="161"/>
                  </a:lnTo>
                  <a:lnTo>
                    <a:pt x="1300" y="153"/>
                  </a:lnTo>
                  <a:lnTo>
                    <a:pt x="1301" y="144"/>
                  </a:lnTo>
                  <a:lnTo>
                    <a:pt x="1302" y="136"/>
                  </a:lnTo>
                  <a:lnTo>
                    <a:pt x="1304" y="129"/>
                  </a:lnTo>
                  <a:lnTo>
                    <a:pt x="1305" y="124"/>
                  </a:lnTo>
                  <a:lnTo>
                    <a:pt x="1306" y="119"/>
                  </a:lnTo>
                  <a:lnTo>
                    <a:pt x="1308" y="116"/>
                  </a:lnTo>
                  <a:lnTo>
                    <a:pt x="1310" y="114"/>
                  </a:lnTo>
                  <a:lnTo>
                    <a:pt x="1311" y="114"/>
                  </a:lnTo>
                  <a:lnTo>
                    <a:pt x="1312" y="115"/>
                  </a:lnTo>
                  <a:lnTo>
                    <a:pt x="1314" y="116"/>
                  </a:lnTo>
                  <a:lnTo>
                    <a:pt x="1315" y="119"/>
                  </a:lnTo>
                  <a:lnTo>
                    <a:pt x="1316" y="124"/>
                  </a:lnTo>
                  <a:lnTo>
                    <a:pt x="1318" y="130"/>
                  </a:lnTo>
                  <a:lnTo>
                    <a:pt x="1320" y="136"/>
                  </a:lnTo>
                  <a:lnTo>
                    <a:pt x="1321" y="144"/>
                  </a:lnTo>
                  <a:lnTo>
                    <a:pt x="1322" y="153"/>
                  </a:lnTo>
                  <a:lnTo>
                    <a:pt x="1324" y="161"/>
                  </a:lnTo>
                  <a:lnTo>
                    <a:pt x="1325" y="170"/>
                  </a:lnTo>
                  <a:lnTo>
                    <a:pt x="1327" y="179"/>
                  </a:lnTo>
                  <a:lnTo>
                    <a:pt x="1329" y="189"/>
                  </a:lnTo>
                  <a:lnTo>
                    <a:pt x="1330" y="198"/>
                  </a:lnTo>
                  <a:lnTo>
                    <a:pt x="1331" y="207"/>
                  </a:lnTo>
                  <a:lnTo>
                    <a:pt x="1332" y="215"/>
                  </a:lnTo>
                  <a:lnTo>
                    <a:pt x="1334" y="223"/>
                  </a:lnTo>
                  <a:lnTo>
                    <a:pt x="1335" y="229"/>
                  </a:lnTo>
                  <a:lnTo>
                    <a:pt x="1337" y="236"/>
                  </a:lnTo>
                  <a:lnTo>
                    <a:pt x="1339" y="241"/>
                  </a:lnTo>
                  <a:lnTo>
                    <a:pt x="1340" y="244"/>
                  </a:lnTo>
                  <a:lnTo>
                    <a:pt x="1341" y="246"/>
                  </a:lnTo>
                  <a:lnTo>
                    <a:pt x="1343" y="247"/>
                  </a:lnTo>
                  <a:lnTo>
                    <a:pt x="1344" y="247"/>
                  </a:lnTo>
                  <a:lnTo>
                    <a:pt x="1345" y="245"/>
                  </a:lnTo>
                  <a:lnTo>
                    <a:pt x="1347" y="243"/>
                  </a:lnTo>
                  <a:lnTo>
                    <a:pt x="1349" y="238"/>
                  </a:lnTo>
                  <a:lnTo>
                    <a:pt x="1350" y="234"/>
                  </a:lnTo>
                  <a:lnTo>
                    <a:pt x="1351" y="227"/>
                  </a:lnTo>
                  <a:lnTo>
                    <a:pt x="1353" y="221"/>
                  </a:lnTo>
                  <a:lnTo>
                    <a:pt x="1354" y="213"/>
                  </a:lnTo>
                  <a:lnTo>
                    <a:pt x="1356" y="204"/>
                  </a:lnTo>
                  <a:lnTo>
                    <a:pt x="1357" y="195"/>
                  </a:lnTo>
                  <a:lnTo>
                    <a:pt x="1359" y="186"/>
                  </a:lnTo>
                  <a:lnTo>
                    <a:pt x="1360" y="177"/>
                  </a:lnTo>
                  <a:lnTo>
                    <a:pt x="1361" y="168"/>
                  </a:lnTo>
                  <a:lnTo>
                    <a:pt x="1363" y="159"/>
                  </a:lnTo>
                  <a:lnTo>
                    <a:pt x="1364" y="151"/>
                  </a:lnTo>
                  <a:lnTo>
                    <a:pt x="1366" y="144"/>
                  </a:lnTo>
                  <a:lnTo>
                    <a:pt x="1368" y="136"/>
                  </a:lnTo>
                  <a:lnTo>
                    <a:pt x="1369" y="130"/>
                  </a:lnTo>
                  <a:lnTo>
                    <a:pt x="1370" y="126"/>
                  </a:lnTo>
                  <a:lnTo>
                    <a:pt x="1371" y="121"/>
                  </a:lnTo>
                  <a:lnTo>
                    <a:pt x="1373" y="119"/>
                  </a:lnTo>
                  <a:lnTo>
                    <a:pt x="1374" y="117"/>
                  </a:lnTo>
                  <a:lnTo>
                    <a:pt x="1376" y="117"/>
                  </a:lnTo>
                  <a:lnTo>
                    <a:pt x="1378" y="118"/>
                  </a:lnTo>
                  <a:lnTo>
                    <a:pt x="1379" y="120"/>
                  </a:lnTo>
                  <a:lnTo>
                    <a:pt x="1380" y="124"/>
                  </a:lnTo>
                  <a:lnTo>
                    <a:pt x="1382" y="128"/>
                  </a:lnTo>
                  <a:lnTo>
                    <a:pt x="1383" y="135"/>
                  </a:lnTo>
                  <a:lnTo>
                    <a:pt x="1385" y="140"/>
                  </a:lnTo>
                  <a:lnTo>
                    <a:pt x="1386" y="148"/>
                  </a:lnTo>
                  <a:lnTo>
                    <a:pt x="1388" y="156"/>
                  </a:lnTo>
                  <a:lnTo>
                    <a:pt x="1389" y="165"/>
                  </a:lnTo>
                  <a:lnTo>
                    <a:pt x="1390" y="174"/>
                  </a:lnTo>
                  <a:lnTo>
                    <a:pt x="1392" y="183"/>
                  </a:lnTo>
                  <a:lnTo>
                    <a:pt x="1393" y="192"/>
                  </a:lnTo>
                  <a:lnTo>
                    <a:pt x="1395" y="199"/>
                  </a:lnTo>
                  <a:lnTo>
                    <a:pt x="1397" y="208"/>
                  </a:lnTo>
                  <a:lnTo>
                    <a:pt x="1398" y="216"/>
                  </a:lnTo>
                  <a:lnTo>
                    <a:pt x="1399" y="223"/>
                  </a:lnTo>
                  <a:lnTo>
                    <a:pt x="1400" y="229"/>
                  </a:lnTo>
                  <a:lnTo>
                    <a:pt x="1402" y="234"/>
                  </a:lnTo>
                  <a:lnTo>
                    <a:pt x="1403" y="238"/>
                  </a:lnTo>
                  <a:lnTo>
                    <a:pt x="1405" y="242"/>
                  </a:lnTo>
                  <a:lnTo>
                    <a:pt x="1407" y="244"/>
                  </a:lnTo>
                  <a:lnTo>
                    <a:pt x="1408" y="244"/>
                  </a:lnTo>
                  <a:lnTo>
                    <a:pt x="1409" y="244"/>
                  </a:lnTo>
                  <a:lnTo>
                    <a:pt x="1410" y="242"/>
                  </a:lnTo>
                  <a:lnTo>
                    <a:pt x="1412" y="238"/>
                  </a:lnTo>
                  <a:lnTo>
                    <a:pt x="1414" y="235"/>
                  </a:lnTo>
                  <a:lnTo>
                    <a:pt x="1415" y="229"/>
                  </a:lnTo>
                  <a:lnTo>
                    <a:pt x="1417" y="224"/>
                  </a:lnTo>
                  <a:lnTo>
                    <a:pt x="1418" y="216"/>
                  </a:lnTo>
                  <a:lnTo>
                    <a:pt x="1419" y="209"/>
                  </a:lnTo>
                  <a:lnTo>
                    <a:pt x="1421" y="200"/>
                  </a:lnTo>
                  <a:lnTo>
                    <a:pt x="1422" y="193"/>
                  </a:lnTo>
                  <a:lnTo>
                    <a:pt x="1424" y="184"/>
                  </a:lnTo>
                  <a:lnTo>
                    <a:pt x="1425" y="175"/>
                  </a:lnTo>
                  <a:lnTo>
                    <a:pt x="1427" y="167"/>
                  </a:lnTo>
                  <a:lnTo>
                    <a:pt x="1428" y="158"/>
                  </a:lnTo>
                  <a:lnTo>
                    <a:pt x="1429" y="150"/>
                  </a:lnTo>
                  <a:lnTo>
                    <a:pt x="1431" y="144"/>
                  </a:lnTo>
                  <a:lnTo>
                    <a:pt x="1432" y="137"/>
                  </a:lnTo>
                  <a:lnTo>
                    <a:pt x="1434" y="131"/>
                  </a:lnTo>
                  <a:lnTo>
                    <a:pt x="1436" y="127"/>
                  </a:lnTo>
                  <a:lnTo>
                    <a:pt x="1437" y="124"/>
                  </a:lnTo>
                  <a:lnTo>
                    <a:pt x="1438" y="121"/>
                  </a:lnTo>
                  <a:lnTo>
                    <a:pt x="1439" y="120"/>
                  </a:lnTo>
                  <a:lnTo>
                    <a:pt x="1441" y="120"/>
                  </a:lnTo>
                  <a:lnTo>
                    <a:pt x="1443" y="121"/>
                  </a:lnTo>
                  <a:lnTo>
                    <a:pt x="1444" y="125"/>
                  </a:lnTo>
                  <a:lnTo>
                    <a:pt x="1446" y="128"/>
                  </a:lnTo>
                  <a:lnTo>
                    <a:pt x="1447" y="133"/>
                  </a:lnTo>
                  <a:lnTo>
                    <a:pt x="1448" y="138"/>
                  </a:lnTo>
                  <a:lnTo>
                    <a:pt x="1449" y="145"/>
                  </a:lnTo>
                  <a:lnTo>
                    <a:pt x="1451" y="151"/>
                  </a:lnTo>
                  <a:lnTo>
                    <a:pt x="1453" y="159"/>
                  </a:lnTo>
                  <a:lnTo>
                    <a:pt x="1454" y="167"/>
                  </a:lnTo>
                  <a:lnTo>
                    <a:pt x="1456" y="176"/>
                  </a:lnTo>
                  <a:lnTo>
                    <a:pt x="1457" y="184"/>
                  </a:lnTo>
                  <a:lnTo>
                    <a:pt x="1458" y="193"/>
                  </a:lnTo>
                  <a:lnTo>
                    <a:pt x="1460" y="200"/>
                  </a:lnTo>
                  <a:lnTo>
                    <a:pt x="1462" y="208"/>
                  </a:lnTo>
                  <a:lnTo>
                    <a:pt x="1463" y="216"/>
                  </a:lnTo>
                  <a:lnTo>
                    <a:pt x="1464" y="222"/>
                  </a:lnTo>
                  <a:lnTo>
                    <a:pt x="1466" y="228"/>
                  </a:lnTo>
                  <a:lnTo>
                    <a:pt x="1467" y="233"/>
                  </a:lnTo>
                  <a:lnTo>
                    <a:pt x="1468" y="236"/>
                  </a:lnTo>
                  <a:lnTo>
                    <a:pt x="1470" y="239"/>
                  </a:lnTo>
                  <a:lnTo>
                    <a:pt x="1472" y="241"/>
                  </a:lnTo>
                  <a:lnTo>
                    <a:pt x="1473" y="241"/>
                  </a:lnTo>
                  <a:lnTo>
                    <a:pt x="1475" y="239"/>
                  </a:lnTo>
                  <a:lnTo>
                    <a:pt x="1476" y="238"/>
                  </a:lnTo>
                  <a:lnTo>
                    <a:pt x="1477" y="235"/>
                  </a:lnTo>
                  <a:lnTo>
                    <a:pt x="1478" y="231"/>
                  </a:lnTo>
                  <a:lnTo>
                    <a:pt x="1480" y="226"/>
                  </a:lnTo>
                  <a:lnTo>
                    <a:pt x="1482" y="219"/>
                  </a:lnTo>
                  <a:lnTo>
                    <a:pt x="1483" y="213"/>
                  </a:lnTo>
                  <a:lnTo>
                    <a:pt x="1485" y="206"/>
                  </a:lnTo>
                  <a:lnTo>
                    <a:pt x="1486" y="198"/>
                  </a:lnTo>
                  <a:lnTo>
                    <a:pt x="1487" y="190"/>
                  </a:lnTo>
                  <a:lnTo>
                    <a:pt x="1489" y="182"/>
                  </a:lnTo>
                  <a:lnTo>
                    <a:pt x="1491" y="174"/>
                  </a:lnTo>
                  <a:lnTo>
                    <a:pt x="1492" y="166"/>
                  </a:lnTo>
                  <a:lnTo>
                    <a:pt x="1493" y="158"/>
                  </a:lnTo>
                  <a:lnTo>
                    <a:pt x="1495" y="150"/>
                  </a:lnTo>
                  <a:lnTo>
                    <a:pt x="1496" y="144"/>
                  </a:lnTo>
                  <a:lnTo>
                    <a:pt x="1497" y="138"/>
                  </a:lnTo>
                  <a:lnTo>
                    <a:pt x="1499" y="134"/>
                  </a:lnTo>
                  <a:lnTo>
                    <a:pt x="1501" y="129"/>
                  </a:lnTo>
                  <a:lnTo>
                    <a:pt x="1502" y="126"/>
                  </a:lnTo>
                  <a:lnTo>
                    <a:pt x="1503" y="125"/>
                  </a:lnTo>
                  <a:lnTo>
                    <a:pt x="1505" y="124"/>
                  </a:lnTo>
                  <a:lnTo>
                    <a:pt x="1506" y="124"/>
                  </a:lnTo>
                  <a:lnTo>
                    <a:pt x="1507" y="125"/>
                  </a:lnTo>
                  <a:lnTo>
                    <a:pt x="1509" y="128"/>
                  </a:lnTo>
                  <a:lnTo>
                    <a:pt x="1511" y="131"/>
                  </a:lnTo>
                  <a:lnTo>
                    <a:pt x="1512" y="136"/>
                  </a:lnTo>
                  <a:lnTo>
                    <a:pt x="1514" y="141"/>
                  </a:lnTo>
                  <a:lnTo>
                    <a:pt x="1515" y="147"/>
                  </a:lnTo>
                  <a:lnTo>
                    <a:pt x="1516" y="155"/>
                  </a:lnTo>
                  <a:lnTo>
                    <a:pt x="1517" y="161"/>
                  </a:lnTo>
                  <a:lnTo>
                    <a:pt x="1520" y="169"/>
                  </a:lnTo>
                  <a:lnTo>
                    <a:pt x="1521" y="177"/>
                  </a:lnTo>
                  <a:lnTo>
                    <a:pt x="1522" y="186"/>
                  </a:lnTo>
                  <a:lnTo>
                    <a:pt x="1524" y="194"/>
                  </a:lnTo>
                  <a:lnTo>
                    <a:pt x="1525" y="202"/>
                  </a:lnTo>
                  <a:lnTo>
                    <a:pt x="1526" y="208"/>
                  </a:lnTo>
                  <a:lnTo>
                    <a:pt x="1528" y="215"/>
                  </a:lnTo>
                  <a:lnTo>
                    <a:pt x="1530" y="222"/>
                  </a:lnTo>
                  <a:lnTo>
                    <a:pt x="1531" y="226"/>
                  </a:lnTo>
                  <a:lnTo>
                    <a:pt x="1532" y="231"/>
                  </a:lnTo>
                  <a:lnTo>
                    <a:pt x="1534" y="234"/>
                  </a:lnTo>
                  <a:lnTo>
                    <a:pt x="1535" y="236"/>
                  </a:lnTo>
                  <a:lnTo>
                    <a:pt x="1536" y="237"/>
                  </a:lnTo>
                  <a:lnTo>
                    <a:pt x="1538" y="238"/>
                  </a:lnTo>
                  <a:lnTo>
                    <a:pt x="1540" y="237"/>
                  </a:lnTo>
                  <a:lnTo>
                    <a:pt x="1541" y="235"/>
                  </a:lnTo>
                  <a:lnTo>
                    <a:pt x="1542" y="232"/>
                  </a:lnTo>
                  <a:lnTo>
                    <a:pt x="1544" y="228"/>
                  </a:lnTo>
                  <a:lnTo>
                    <a:pt x="1545" y="223"/>
                  </a:lnTo>
                  <a:lnTo>
                    <a:pt x="1546" y="217"/>
                  </a:lnTo>
                  <a:lnTo>
                    <a:pt x="1549" y="211"/>
                  </a:lnTo>
                  <a:lnTo>
                    <a:pt x="1550" y="204"/>
                  </a:lnTo>
                  <a:lnTo>
                    <a:pt x="1551" y="196"/>
                  </a:lnTo>
                  <a:lnTo>
                    <a:pt x="1553" y="188"/>
                  </a:lnTo>
                  <a:lnTo>
                    <a:pt x="1554" y="180"/>
                  </a:lnTo>
                  <a:lnTo>
                    <a:pt x="1555" y="173"/>
                  </a:lnTo>
                  <a:lnTo>
                    <a:pt x="1556" y="165"/>
                  </a:lnTo>
                  <a:lnTo>
                    <a:pt x="1559" y="158"/>
                  </a:lnTo>
                  <a:lnTo>
                    <a:pt x="1560" y="151"/>
                  </a:lnTo>
                  <a:lnTo>
                    <a:pt x="1561" y="145"/>
                  </a:lnTo>
                  <a:lnTo>
                    <a:pt x="1563" y="139"/>
                  </a:lnTo>
                  <a:lnTo>
                    <a:pt x="1564" y="135"/>
                  </a:lnTo>
                  <a:lnTo>
                    <a:pt x="1565" y="131"/>
                  </a:lnTo>
                  <a:lnTo>
                    <a:pt x="1567" y="128"/>
                  </a:lnTo>
                  <a:lnTo>
                    <a:pt x="1569" y="127"/>
                  </a:lnTo>
                  <a:lnTo>
                    <a:pt x="1570" y="126"/>
                  </a:lnTo>
                  <a:lnTo>
                    <a:pt x="1571" y="127"/>
                  </a:lnTo>
                  <a:lnTo>
                    <a:pt x="1573" y="128"/>
                  </a:lnTo>
                  <a:lnTo>
                    <a:pt x="1574" y="130"/>
                  </a:lnTo>
                  <a:lnTo>
                    <a:pt x="1575" y="134"/>
                  </a:lnTo>
                  <a:lnTo>
                    <a:pt x="1578" y="138"/>
                  </a:lnTo>
                  <a:lnTo>
                    <a:pt x="1579" y="144"/>
                  </a:lnTo>
                  <a:lnTo>
                    <a:pt x="1580" y="150"/>
                  </a:lnTo>
                  <a:lnTo>
                    <a:pt x="1581" y="156"/>
                  </a:lnTo>
                  <a:lnTo>
                    <a:pt x="1583" y="164"/>
                  </a:lnTo>
                  <a:lnTo>
                    <a:pt x="1584" y="170"/>
                  </a:lnTo>
                  <a:lnTo>
                    <a:pt x="1585" y="178"/>
                  </a:lnTo>
                  <a:lnTo>
                    <a:pt x="1588" y="186"/>
                  </a:lnTo>
                  <a:lnTo>
                    <a:pt x="1589" y="194"/>
                  </a:lnTo>
                  <a:lnTo>
                    <a:pt x="1590" y="200"/>
                  </a:lnTo>
                  <a:lnTo>
                    <a:pt x="1592" y="208"/>
                  </a:lnTo>
                  <a:lnTo>
                    <a:pt x="1593" y="214"/>
                  </a:lnTo>
                  <a:lnTo>
                    <a:pt x="1594" y="219"/>
                  </a:lnTo>
                  <a:lnTo>
                    <a:pt x="1595" y="225"/>
                  </a:lnTo>
                  <a:lnTo>
                    <a:pt x="1598" y="228"/>
                  </a:lnTo>
                  <a:lnTo>
                    <a:pt x="1599" y="232"/>
                  </a:lnTo>
                  <a:lnTo>
                    <a:pt x="1600" y="234"/>
                  </a:lnTo>
                  <a:lnTo>
                    <a:pt x="1602" y="235"/>
                  </a:lnTo>
                  <a:lnTo>
                    <a:pt x="1603" y="235"/>
                  </a:lnTo>
                  <a:lnTo>
                    <a:pt x="1604" y="234"/>
                  </a:lnTo>
                  <a:lnTo>
                    <a:pt x="1607" y="233"/>
                  </a:lnTo>
                  <a:lnTo>
                    <a:pt x="1608" y="229"/>
                  </a:lnTo>
                  <a:lnTo>
                    <a:pt x="1609" y="225"/>
                  </a:lnTo>
                  <a:lnTo>
                    <a:pt x="1610" y="221"/>
                  </a:lnTo>
                  <a:lnTo>
                    <a:pt x="1612" y="215"/>
                  </a:lnTo>
                  <a:lnTo>
                    <a:pt x="1613" y="209"/>
                  </a:lnTo>
                  <a:lnTo>
                    <a:pt x="1614" y="202"/>
                  </a:lnTo>
                  <a:lnTo>
                    <a:pt x="1617" y="195"/>
                  </a:lnTo>
                  <a:lnTo>
                    <a:pt x="1618" y="187"/>
                  </a:lnTo>
                  <a:lnTo>
                    <a:pt x="1619" y="180"/>
                  </a:lnTo>
                  <a:lnTo>
                    <a:pt x="1621" y="173"/>
                  </a:lnTo>
                  <a:lnTo>
                    <a:pt x="1622" y="166"/>
                  </a:lnTo>
                  <a:lnTo>
                    <a:pt x="1623" y="158"/>
                  </a:lnTo>
                  <a:lnTo>
                    <a:pt x="1624" y="153"/>
                  </a:lnTo>
                  <a:lnTo>
                    <a:pt x="1627" y="146"/>
                  </a:lnTo>
                  <a:lnTo>
                    <a:pt x="1628" y="141"/>
                  </a:lnTo>
                  <a:lnTo>
                    <a:pt x="1629" y="137"/>
                  </a:lnTo>
                  <a:lnTo>
                    <a:pt x="1631" y="133"/>
                  </a:lnTo>
                  <a:lnTo>
                    <a:pt x="1632" y="130"/>
                  </a:lnTo>
                  <a:lnTo>
                    <a:pt x="1633" y="129"/>
                  </a:lnTo>
                  <a:lnTo>
                    <a:pt x="1634" y="128"/>
                  </a:lnTo>
                  <a:lnTo>
                    <a:pt x="1637" y="129"/>
                  </a:lnTo>
                  <a:lnTo>
                    <a:pt x="1638" y="130"/>
                  </a:lnTo>
                  <a:lnTo>
                    <a:pt x="1639" y="133"/>
                  </a:lnTo>
                  <a:lnTo>
                    <a:pt x="1641" y="136"/>
                  </a:lnTo>
                  <a:lnTo>
                    <a:pt x="1642" y="140"/>
                  </a:lnTo>
                  <a:lnTo>
                    <a:pt x="1643" y="146"/>
                  </a:lnTo>
                  <a:lnTo>
                    <a:pt x="1646" y="151"/>
                  </a:lnTo>
                  <a:lnTo>
                    <a:pt x="1647" y="158"/>
                  </a:lnTo>
                  <a:lnTo>
                    <a:pt x="1648" y="165"/>
                  </a:lnTo>
                  <a:lnTo>
                    <a:pt x="1649" y="172"/>
                  </a:lnTo>
                  <a:lnTo>
                    <a:pt x="1651" y="179"/>
                  </a:lnTo>
                  <a:lnTo>
                    <a:pt x="1652" y="186"/>
                  </a:lnTo>
                  <a:lnTo>
                    <a:pt x="1653" y="194"/>
                  </a:lnTo>
                  <a:lnTo>
                    <a:pt x="1656" y="200"/>
                  </a:lnTo>
                  <a:lnTo>
                    <a:pt x="1657" y="207"/>
                  </a:lnTo>
                  <a:lnTo>
                    <a:pt x="1658" y="213"/>
                  </a:lnTo>
                  <a:lnTo>
                    <a:pt x="1660" y="218"/>
                  </a:lnTo>
                  <a:lnTo>
                    <a:pt x="1661" y="223"/>
                  </a:lnTo>
                  <a:lnTo>
                    <a:pt x="1662" y="227"/>
                  </a:lnTo>
                  <a:lnTo>
                    <a:pt x="1663" y="231"/>
                  </a:lnTo>
                  <a:lnTo>
                    <a:pt x="1666" y="232"/>
                  </a:lnTo>
                  <a:lnTo>
                    <a:pt x="1667" y="233"/>
                  </a:lnTo>
                  <a:lnTo>
                    <a:pt x="1668" y="233"/>
                  </a:lnTo>
                  <a:lnTo>
                    <a:pt x="1670" y="233"/>
                  </a:lnTo>
                  <a:lnTo>
                    <a:pt x="1671" y="231"/>
                  </a:lnTo>
                  <a:lnTo>
                    <a:pt x="1672" y="227"/>
                  </a:lnTo>
                  <a:lnTo>
                    <a:pt x="1673" y="224"/>
                  </a:lnTo>
                  <a:lnTo>
                    <a:pt x="1676" y="219"/>
                  </a:lnTo>
                  <a:lnTo>
                    <a:pt x="1677" y="214"/>
                  </a:lnTo>
                  <a:lnTo>
                    <a:pt x="1678" y="207"/>
                  </a:lnTo>
                  <a:lnTo>
                    <a:pt x="1680" y="202"/>
                  </a:lnTo>
                  <a:lnTo>
                    <a:pt x="1681" y="194"/>
                  </a:lnTo>
                  <a:lnTo>
                    <a:pt x="1682" y="187"/>
                  </a:lnTo>
                  <a:lnTo>
                    <a:pt x="1685" y="180"/>
                  </a:lnTo>
                  <a:lnTo>
                    <a:pt x="1686" y="173"/>
                  </a:lnTo>
                  <a:lnTo>
                    <a:pt x="1687" y="166"/>
                  </a:lnTo>
                  <a:lnTo>
                    <a:pt x="1688" y="159"/>
                  </a:lnTo>
                  <a:lnTo>
                    <a:pt x="1690" y="153"/>
                  </a:lnTo>
                  <a:lnTo>
                    <a:pt x="1691" y="147"/>
                  </a:lnTo>
                  <a:lnTo>
                    <a:pt x="1692" y="143"/>
                  </a:lnTo>
                  <a:lnTo>
                    <a:pt x="1695" y="138"/>
                  </a:lnTo>
                  <a:lnTo>
                    <a:pt x="1696" y="135"/>
                  </a:lnTo>
                  <a:lnTo>
                    <a:pt x="1697" y="133"/>
                  </a:lnTo>
                  <a:lnTo>
                    <a:pt x="1699" y="130"/>
                  </a:lnTo>
                  <a:lnTo>
                    <a:pt x="1700" y="130"/>
                  </a:lnTo>
                  <a:lnTo>
                    <a:pt x="1701" y="130"/>
                  </a:lnTo>
                  <a:lnTo>
                    <a:pt x="1702" y="133"/>
                  </a:lnTo>
                  <a:lnTo>
                    <a:pt x="1705" y="135"/>
                  </a:lnTo>
                  <a:lnTo>
                    <a:pt x="1706" y="138"/>
                  </a:lnTo>
                  <a:lnTo>
                    <a:pt x="1707" y="141"/>
                  </a:lnTo>
                  <a:lnTo>
                    <a:pt x="1709" y="147"/>
                  </a:lnTo>
                  <a:lnTo>
                    <a:pt x="1710" y="153"/>
                  </a:lnTo>
                  <a:lnTo>
                    <a:pt x="1711" y="158"/>
                  </a:lnTo>
                  <a:lnTo>
                    <a:pt x="1713" y="165"/>
                  </a:lnTo>
                  <a:lnTo>
                    <a:pt x="1715" y="172"/>
                  </a:lnTo>
                  <a:lnTo>
                    <a:pt x="1716" y="179"/>
                  </a:lnTo>
                  <a:lnTo>
                    <a:pt x="1717" y="186"/>
                  </a:lnTo>
                  <a:lnTo>
                    <a:pt x="1719" y="193"/>
                  </a:lnTo>
                  <a:lnTo>
                    <a:pt x="1720" y="199"/>
                  </a:lnTo>
                  <a:lnTo>
                    <a:pt x="1721" y="206"/>
                  </a:lnTo>
                  <a:lnTo>
                    <a:pt x="1724" y="212"/>
                  </a:lnTo>
                  <a:lnTo>
                    <a:pt x="1725" y="217"/>
                  </a:lnTo>
                  <a:lnTo>
                    <a:pt x="1726" y="222"/>
                  </a:lnTo>
                  <a:lnTo>
                    <a:pt x="1727" y="226"/>
                  </a:lnTo>
                  <a:lnTo>
                    <a:pt x="1729" y="228"/>
                  </a:lnTo>
                  <a:lnTo>
                    <a:pt x="1730" y="231"/>
                  </a:lnTo>
                  <a:lnTo>
                    <a:pt x="1731" y="232"/>
                  </a:lnTo>
                  <a:lnTo>
                    <a:pt x="1734" y="232"/>
                  </a:lnTo>
                  <a:lnTo>
                    <a:pt x="1735" y="231"/>
                  </a:lnTo>
                  <a:lnTo>
                    <a:pt x="1736" y="229"/>
                  </a:lnTo>
                  <a:lnTo>
                    <a:pt x="1738" y="226"/>
                  </a:lnTo>
                  <a:lnTo>
                    <a:pt x="1739" y="223"/>
                  </a:lnTo>
                  <a:lnTo>
                    <a:pt x="1740" y="218"/>
                  </a:lnTo>
                  <a:lnTo>
                    <a:pt x="1742" y="213"/>
                  </a:lnTo>
                  <a:lnTo>
                    <a:pt x="1744" y="207"/>
                  </a:lnTo>
                  <a:lnTo>
                    <a:pt x="1745" y="200"/>
                  </a:lnTo>
                  <a:lnTo>
                    <a:pt x="1746" y="194"/>
                  </a:lnTo>
                  <a:lnTo>
                    <a:pt x="1748" y="187"/>
                  </a:lnTo>
                  <a:lnTo>
                    <a:pt x="1749" y="180"/>
                  </a:lnTo>
                  <a:lnTo>
                    <a:pt x="1750" y="174"/>
                  </a:lnTo>
                  <a:lnTo>
                    <a:pt x="1753" y="167"/>
                  </a:lnTo>
                  <a:lnTo>
                    <a:pt x="1754" y="160"/>
                  </a:lnTo>
                  <a:lnTo>
                    <a:pt x="1755" y="154"/>
                  </a:lnTo>
                  <a:lnTo>
                    <a:pt x="1756" y="148"/>
                  </a:lnTo>
                  <a:lnTo>
                    <a:pt x="1758" y="144"/>
                  </a:lnTo>
                  <a:lnTo>
                    <a:pt x="1759" y="139"/>
                  </a:lnTo>
                  <a:lnTo>
                    <a:pt x="1760" y="136"/>
                  </a:lnTo>
                  <a:lnTo>
                    <a:pt x="1763" y="134"/>
                  </a:lnTo>
                  <a:lnTo>
                    <a:pt x="1764" y="133"/>
                  </a:lnTo>
                  <a:lnTo>
                    <a:pt x="1765" y="131"/>
                  </a:lnTo>
                  <a:lnTo>
                    <a:pt x="1766" y="131"/>
                  </a:lnTo>
                  <a:lnTo>
                    <a:pt x="1768" y="134"/>
                  </a:lnTo>
                  <a:lnTo>
                    <a:pt x="1769" y="136"/>
                  </a:lnTo>
                  <a:lnTo>
                    <a:pt x="1771" y="139"/>
                  </a:lnTo>
                  <a:lnTo>
                    <a:pt x="1773" y="143"/>
                  </a:lnTo>
                  <a:lnTo>
                    <a:pt x="1774" y="147"/>
                  </a:lnTo>
                  <a:lnTo>
                    <a:pt x="1775" y="153"/>
                  </a:lnTo>
                  <a:lnTo>
                    <a:pt x="1777" y="159"/>
                  </a:lnTo>
                  <a:lnTo>
                    <a:pt x="1778" y="165"/>
                  </a:lnTo>
                  <a:lnTo>
                    <a:pt x="1779" y="172"/>
                  </a:lnTo>
                  <a:lnTo>
                    <a:pt x="1781" y="179"/>
                  </a:lnTo>
                  <a:lnTo>
                    <a:pt x="1783" y="186"/>
                  </a:lnTo>
                  <a:lnTo>
                    <a:pt x="1784" y="193"/>
                  </a:lnTo>
                  <a:lnTo>
                    <a:pt x="1785" y="199"/>
                  </a:lnTo>
                  <a:lnTo>
                    <a:pt x="1787" y="205"/>
                  </a:lnTo>
                  <a:lnTo>
                    <a:pt x="1788" y="212"/>
                  </a:lnTo>
                  <a:lnTo>
                    <a:pt x="1789" y="216"/>
                  </a:lnTo>
                  <a:lnTo>
                    <a:pt x="1792" y="221"/>
                  </a:lnTo>
                  <a:lnTo>
                    <a:pt x="1793" y="225"/>
                  </a:lnTo>
                  <a:lnTo>
                    <a:pt x="1794" y="227"/>
                  </a:lnTo>
                  <a:lnTo>
                    <a:pt x="1795" y="229"/>
                  </a:lnTo>
                  <a:lnTo>
                    <a:pt x="1797" y="231"/>
                  </a:lnTo>
                  <a:lnTo>
                    <a:pt x="1798" y="231"/>
                  </a:lnTo>
                  <a:lnTo>
                    <a:pt x="1800" y="229"/>
                  </a:lnTo>
                  <a:lnTo>
                    <a:pt x="1802" y="228"/>
                  </a:lnTo>
                  <a:lnTo>
                    <a:pt x="1803" y="225"/>
                  </a:lnTo>
                  <a:lnTo>
                    <a:pt x="1804" y="222"/>
                  </a:lnTo>
                  <a:lnTo>
                    <a:pt x="1805" y="217"/>
                  </a:lnTo>
                  <a:lnTo>
                    <a:pt x="1807" y="213"/>
                  </a:lnTo>
                  <a:lnTo>
                    <a:pt x="1808" y="207"/>
                  </a:lnTo>
                  <a:lnTo>
                    <a:pt x="1810" y="200"/>
                  </a:lnTo>
                  <a:lnTo>
                    <a:pt x="1812" y="194"/>
                  </a:lnTo>
                  <a:lnTo>
                    <a:pt x="1813" y="187"/>
                  </a:lnTo>
                  <a:lnTo>
                    <a:pt x="1814" y="180"/>
                  </a:lnTo>
                  <a:lnTo>
                    <a:pt x="1816" y="174"/>
                  </a:lnTo>
                  <a:lnTo>
                    <a:pt x="1817" y="167"/>
                  </a:lnTo>
                  <a:lnTo>
                    <a:pt x="1818" y="160"/>
                  </a:lnTo>
                  <a:lnTo>
                    <a:pt x="1820" y="155"/>
                  </a:lnTo>
                  <a:lnTo>
                    <a:pt x="1822" y="149"/>
                  </a:lnTo>
                  <a:lnTo>
                    <a:pt x="1823" y="145"/>
                  </a:lnTo>
                  <a:lnTo>
                    <a:pt x="1824" y="140"/>
                  </a:lnTo>
                  <a:lnTo>
                    <a:pt x="1826" y="137"/>
                  </a:lnTo>
                  <a:lnTo>
                    <a:pt x="1827" y="135"/>
                  </a:lnTo>
                  <a:lnTo>
                    <a:pt x="1829" y="133"/>
                  </a:lnTo>
                  <a:lnTo>
                    <a:pt x="1831" y="133"/>
                  </a:lnTo>
                  <a:lnTo>
                    <a:pt x="1832" y="133"/>
                  </a:lnTo>
                  <a:lnTo>
                    <a:pt x="1833" y="134"/>
                  </a:lnTo>
                  <a:lnTo>
                    <a:pt x="1834" y="136"/>
                  </a:lnTo>
                  <a:lnTo>
                    <a:pt x="1836" y="139"/>
                  </a:lnTo>
                  <a:lnTo>
                    <a:pt x="1837" y="143"/>
                  </a:lnTo>
                  <a:lnTo>
                    <a:pt x="1839" y="147"/>
                  </a:lnTo>
                  <a:lnTo>
                    <a:pt x="1841" y="153"/>
                  </a:lnTo>
                  <a:lnTo>
                    <a:pt x="1842" y="158"/>
                  </a:lnTo>
                  <a:lnTo>
                    <a:pt x="1843" y="165"/>
                  </a:lnTo>
                  <a:lnTo>
                    <a:pt x="1845" y="172"/>
                  </a:lnTo>
                  <a:lnTo>
                    <a:pt x="1846" y="178"/>
                  </a:lnTo>
                  <a:lnTo>
                    <a:pt x="1847" y="185"/>
                  </a:lnTo>
                  <a:lnTo>
                    <a:pt x="1849" y="192"/>
                  </a:lnTo>
                  <a:lnTo>
                    <a:pt x="1851" y="198"/>
                  </a:lnTo>
                  <a:lnTo>
                    <a:pt x="1852" y="205"/>
                  </a:lnTo>
                  <a:lnTo>
                    <a:pt x="1853" y="211"/>
                  </a:lnTo>
                  <a:lnTo>
                    <a:pt x="1855" y="216"/>
                  </a:lnTo>
                  <a:lnTo>
                    <a:pt x="1856" y="221"/>
                  </a:lnTo>
                  <a:lnTo>
                    <a:pt x="1858" y="224"/>
                  </a:lnTo>
                  <a:lnTo>
                    <a:pt x="1859" y="227"/>
                  </a:lnTo>
                  <a:lnTo>
                    <a:pt x="1861" y="229"/>
                  </a:lnTo>
                  <a:lnTo>
                    <a:pt x="1862" y="231"/>
                  </a:lnTo>
                  <a:lnTo>
                    <a:pt x="1863" y="231"/>
                  </a:lnTo>
                  <a:lnTo>
                    <a:pt x="1865" y="229"/>
                  </a:lnTo>
                  <a:lnTo>
                    <a:pt x="1866" y="228"/>
                  </a:lnTo>
                  <a:lnTo>
                    <a:pt x="1868" y="225"/>
                  </a:lnTo>
                  <a:lnTo>
                    <a:pt x="1870" y="222"/>
                  </a:lnTo>
                  <a:lnTo>
                    <a:pt x="1871" y="218"/>
                  </a:lnTo>
                  <a:lnTo>
                    <a:pt x="1872" y="213"/>
                  </a:lnTo>
                  <a:lnTo>
                    <a:pt x="1873" y="207"/>
                  </a:lnTo>
                  <a:lnTo>
                    <a:pt x="1875" y="202"/>
                  </a:lnTo>
                  <a:lnTo>
                    <a:pt x="1876" y="195"/>
                  </a:lnTo>
                  <a:lnTo>
                    <a:pt x="1878" y="188"/>
                  </a:lnTo>
                  <a:lnTo>
                    <a:pt x="1880" y="182"/>
                  </a:lnTo>
                  <a:lnTo>
                    <a:pt x="1881" y="175"/>
                  </a:lnTo>
                  <a:lnTo>
                    <a:pt x="1882" y="168"/>
                  </a:lnTo>
                  <a:lnTo>
                    <a:pt x="1884" y="161"/>
                  </a:lnTo>
                  <a:lnTo>
                    <a:pt x="1885" y="155"/>
                  </a:lnTo>
                  <a:lnTo>
                    <a:pt x="1887" y="149"/>
                  </a:lnTo>
                  <a:lnTo>
                    <a:pt x="1888" y="145"/>
                  </a:lnTo>
                  <a:lnTo>
                    <a:pt x="1890" y="140"/>
                  </a:lnTo>
                  <a:lnTo>
                    <a:pt x="1891" y="137"/>
                  </a:lnTo>
                  <a:lnTo>
                    <a:pt x="1892" y="135"/>
                  </a:lnTo>
                  <a:lnTo>
                    <a:pt x="1894" y="133"/>
                  </a:lnTo>
                  <a:lnTo>
                    <a:pt x="1895" y="133"/>
                  </a:lnTo>
                  <a:lnTo>
                    <a:pt x="1897" y="133"/>
                  </a:lnTo>
                  <a:lnTo>
                    <a:pt x="1898" y="134"/>
                  </a:lnTo>
                  <a:lnTo>
                    <a:pt x="1900" y="136"/>
                  </a:lnTo>
                  <a:lnTo>
                    <a:pt x="1901" y="139"/>
                  </a:lnTo>
                  <a:lnTo>
                    <a:pt x="1902" y="143"/>
                  </a:lnTo>
                  <a:lnTo>
                    <a:pt x="1904" y="147"/>
                  </a:lnTo>
                  <a:lnTo>
                    <a:pt x="1905" y="153"/>
                  </a:lnTo>
                  <a:lnTo>
                    <a:pt x="1907" y="158"/>
                  </a:lnTo>
                  <a:lnTo>
                    <a:pt x="1909" y="165"/>
                  </a:lnTo>
                  <a:lnTo>
                    <a:pt x="1910" y="172"/>
                  </a:lnTo>
                  <a:lnTo>
                    <a:pt x="1911" y="178"/>
                  </a:lnTo>
                  <a:lnTo>
                    <a:pt x="1912" y="185"/>
                  </a:lnTo>
                  <a:lnTo>
                    <a:pt x="1914" y="192"/>
                  </a:lnTo>
                  <a:lnTo>
                    <a:pt x="1916" y="198"/>
                  </a:lnTo>
                  <a:lnTo>
                    <a:pt x="1917" y="204"/>
                  </a:lnTo>
                  <a:lnTo>
                    <a:pt x="1919" y="211"/>
                  </a:lnTo>
                  <a:lnTo>
                    <a:pt x="1920" y="215"/>
                  </a:lnTo>
                  <a:lnTo>
                    <a:pt x="1921" y="221"/>
                  </a:lnTo>
                  <a:lnTo>
                    <a:pt x="1923" y="224"/>
                  </a:lnTo>
                  <a:lnTo>
                    <a:pt x="1924" y="227"/>
                  </a:lnTo>
                  <a:lnTo>
                    <a:pt x="1926" y="229"/>
                  </a:lnTo>
                  <a:lnTo>
                    <a:pt x="1927" y="231"/>
                  </a:lnTo>
                  <a:lnTo>
                    <a:pt x="1929" y="231"/>
                  </a:lnTo>
                  <a:lnTo>
                    <a:pt x="1930" y="231"/>
                  </a:lnTo>
                  <a:lnTo>
                    <a:pt x="1931" y="228"/>
                  </a:lnTo>
                  <a:lnTo>
                    <a:pt x="1933" y="226"/>
                  </a:lnTo>
                  <a:lnTo>
                    <a:pt x="1934" y="223"/>
                  </a:lnTo>
                  <a:lnTo>
                    <a:pt x="1936" y="218"/>
                  </a:lnTo>
                  <a:lnTo>
                    <a:pt x="1937" y="214"/>
                  </a:lnTo>
                  <a:lnTo>
                    <a:pt x="1939" y="208"/>
                  </a:lnTo>
                  <a:lnTo>
                    <a:pt x="1940" y="202"/>
                  </a:lnTo>
                  <a:lnTo>
                    <a:pt x="1941" y="195"/>
                  </a:lnTo>
                  <a:lnTo>
                    <a:pt x="1943" y="188"/>
                  </a:lnTo>
                  <a:lnTo>
                    <a:pt x="1945" y="182"/>
                  </a:lnTo>
                  <a:lnTo>
                    <a:pt x="1946" y="175"/>
                  </a:lnTo>
                  <a:lnTo>
                    <a:pt x="1948" y="168"/>
                  </a:lnTo>
                  <a:lnTo>
                    <a:pt x="1949" y="161"/>
                  </a:lnTo>
                  <a:lnTo>
                    <a:pt x="1950" y="156"/>
                  </a:lnTo>
                  <a:lnTo>
                    <a:pt x="1951" y="150"/>
                  </a:lnTo>
                  <a:lnTo>
                    <a:pt x="1953" y="145"/>
                  </a:lnTo>
                  <a:lnTo>
                    <a:pt x="1955" y="140"/>
                  </a:lnTo>
                  <a:lnTo>
                    <a:pt x="1956" y="137"/>
                  </a:lnTo>
                  <a:lnTo>
                    <a:pt x="1958" y="135"/>
                  </a:lnTo>
                  <a:lnTo>
                    <a:pt x="1959" y="133"/>
                  </a:lnTo>
                  <a:lnTo>
                    <a:pt x="1960" y="131"/>
                  </a:lnTo>
                  <a:lnTo>
                    <a:pt x="1962" y="131"/>
                  </a:lnTo>
                  <a:lnTo>
                    <a:pt x="1964" y="133"/>
                  </a:lnTo>
                  <a:lnTo>
                    <a:pt x="1965" y="135"/>
                  </a:lnTo>
                  <a:lnTo>
                    <a:pt x="1966" y="138"/>
                  </a:lnTo>
                  <a:lnTo>
                    <a:pt x="1968" y="141"/>
                  </a:lnTo>
                  <a:lnTo>
                    <a:pt x="1969" y="146"/>
                  </a:lnTo>
                  <a:lnTo>
                    <a:pt x="1970" y="151"/>
                  </a:lnTo>
                  <a:lnTo>
                    <a:pt x="1972" y="157"/>
                  </a:lnTo>
                  <a:lnTo>
                    <a:pt x="1974" y="164"/>
                  </a:lnTo>
                  <a:lnTo>
                    <a:pt x="1975" y="170"/>
                  </a:lnTo>
                  <a:lnTo>
                    <a:pt x="1977" y="177"/>
                  </a:lnTo>
                  <a:lnTo>
                    <a:pt x="1978" y="184"/>
                  </a:lnTo>
                  <a:lnTo>
                    <a:pt x="1979" y="192"/>
                  </a:lnTo>
                  <a:lnTo>
                    <a:pt x="1980" y="198"/>
                  </a:lnTo>
                  <a:lnTo>
                    <a:pt x="1982" y="204"/>
                  </a:lnTo>
                  <a:lnTo>
                    <a:pt x="1984" y="211"/>
                  </a:lnTo>
                  <a:lnTo>
                    <a:pt x="1985" y="216"/>
                  </a:lnTo>
                  <a:lnTo>
                    <a:pt x="1987" y="221"/>
                  </a:lnTo>
                  <a:lnTo>
                    <a:pt x="1988" y="225"/>
                  </a:lnTo>
                  <a:lnTo>
                    <a:pt x="1989" y="227"/>
                  </a:lnTo>
                  <a:lnTo>
                    <a:pt x="1990" y="229"/>
                  </a:lnTo>
                  <a:lnTo>
                    <a:pt x="1993" y="232"/>
                  </a:lnTo>
                  <a:lnTo>
                    <a:pt x="1994" y="232"/>
                  </a:lnTo>
                  <a:lnTo>
                    <a:pt x="1995" y="231"/>
                  </a:lnTo>
                  <a:lnTo>
                    <a:pt x="1997" y="229"/>
                  </a:lnTo>
                  <a:lnTo>
                    <a:pt x="1998" y="227"/>
                  </a:lnTo>
                  <a:lnTo>
                    <a:pt x="1999" y="224"/>
                  </a:lnTo>
                  <a:lnTo>
                    <a:pt x="2001" y="219"/>
                  </a:lnTo>
                  <a:lnTo>
                    <a:pt x="2003" y="214"/>
                  </a:lnTo>
                  <a:lnTo>
                    <a:pt x="2004" y="208"/>
                  </a:lnTo>
                  <a:lnTo>
                    <a:pt x="2005" y="203"/>
                  </a:lnTo>
                  <a:lnTo>
                    <a:pt x="2007" y="196"/>
                  </a:lnTo>
                  <a:lnTo>
                    <a:pt x="2008" y="189"/>
                  </a:lnTo>
                  <a:lnTo>
                    <a:pt x="2009" y="182"/>
                  </a:lnTo>
                  <a:lnTo>
                    <a:pt x="2011" y="175"/>
                  </a:lnTo>
                  <a:lnTo>
                    <a:pt x="2013" y="168"/>
                  </a:lnTo>
                  <a:lnTo>
                    <a:pt x="2014" y="161"/>
                  </a:lnTo>
                  <a:lnTo>
                    <a:pt x="2016" y="155"/>
                  </a:lnTo>
                  <a:lnTo>
                    <a:pt x="2017" y="149"/>
                  </a:lnTo>
                  <a:lnTo>
                    <a:pt x="2018" y="144"/>
                  </a:lnTo>
                  <a:lnTo>
                    <a:pt x="2019" y="139"/>
                  </a:lnTo>
                  <a:lnTo>
                    <a:pt x="2022" y="136"/>
                  </a:lnTo>
                  <a:lnTo>
                    <a:pt x="2023" y="134"/>
                  </a:lnTo>
                  <a:lnTo>
                    <a:pt x="2024" y="131"/>
                  </a:lnTo>
                  <a:lnTo>
                    <a:pt x="2026" y="130"/>
                  </a:lnTo>
                  <a:lnTo>
                    <a:pt x="2027" y="130"/>
                  </a:lnTo>
                  <a:lnTo>
                    <a:pt x="2028" y="131"/>
                  </a:lnTo>
                  <a:lnTo>
                    <a:pt x="2029" y="134"/>
                  </a:lnTo>
                  <a:lnTo>
                    <a:pt x="2032" y="137"/>
                  </a:lnTo>
                  <a:lnTo>
                    <a:pt x="2033" y="140"/>
                  </a:lnTo>
                  <a:lnTo>
                    <a:pt x="2034" y="146"/>
                  </a:lnTo>
                  <a:lnTo>
                    <a:pt x="2036" y="150"/>
                  </a:lnTo>
                  <a:lnTo>
                    <a:pt x="2037" y="157"/>
                  </a:lnTo>
                  <a:lnTo>
                    <a:pt x="2038" y="163"/>
                  </a:lnTo>
                  <a:lnTo>
                    <a:pt x="2040" y="170"/>
                  </a:lnTo>
                  <a:lnTo>
                    <a:pt x="2042" y="177"/>
                  </a:lnTo>
                  <a:lnTo>
                    <a:pt x="2043" y="184"/>
                  </a:lnTo>
                  <a:lnTo>
                    <a:pt x="2044" y="192"/>
                  </a:lnTo>
                  <a:lnTo>
                    <a:pt x="2046" y="198"/>
                  </a:lnTo>
                  <a:lnTo>
                    <a:pt x="2047" y="205"/>
                  </a:lnTo>
                  <a:lnTo>
                    <a:pt x="2048" y="211"/>
                  </a:lnTo>
                  <a:lnTo>
                    <a:pt x="2051" y="216"/>
                  </a:lnTo>
                  <a:lnTo>
                    <a:pt x="2052" y="222"/>
                  </a:lnTo>
                  <a:lnTo>
                    <a:pt x="2053" y="225"/>
                  </a:lnTo>
                  <a:lnTo>
                    <a:pt x="2055" y="228"/>
                  </a:lnTo>
                  <a:lnTo>
                    <a:pt x="2056" y="232"/>
                  </a:lnTo>
                  <a:lnTo>
                    <a:pt x="2057" y="233"/>
                  </a:lnTo>
                  <a:lnTo>
                    <a:pt x="2058" y="233"/>
                  </a:lnTo>
                  <a:lnTo>
                    <a:pt x="2061" y="233"/>
                  </a:lnTo>
                  <a:lnTo>
                    <a:pt x="2062" y="231"/>
                  </a:lnTo>
                  <a:lnTo>
                    <a:pt x="2063" y="228"/>
                  </a:lnTo>
                  <a:lnTo>
                    <a:pt x="2065" y="225"/>
                  </a:lnTo>
                  <a:lnTo>
                    <a:pt x="2066" y="221"/>
                  </a:lnTo>
                  <a:lnTo>
                    <a:pt x="2067" y="215"/>
                  </a:lnTo>
                  <a:lnTo>
                    <a:pt x="2069" y="209"/>
                  </a:lnTo>
                  <a:lnTo>
                    <a:pt x="2071" y="203"/>
                  </a:lnTo>
                  <a:lnTo>
                    <a:pt x="2072" y="196"/>
                  </a:lnTo>
                  <a:lnTo>
                    <a:pt x="2073" y="189"/>
                  </a:lnTo>
                  <a:lnTo>
                    <a:pt x="2075" y="183"/>
                  </a:lnTo>
                  <a:lnTo>
                    <a:pt x="2076" y="175"/>
                  </a:lnTo>
                  <a:lnTo>
                    <a:pt x="2077" y="168"/>
                  </a:lnTo>
                  <a:lnTo>
                    <a:pt x="2080" y="160"/>
                  </a:lnTo>
                  <a:lnTo>
                    <a:pt x="2081" y="155"/>
                  </a:lnTo>
                  <a:lnTo>
                    <a:pt x="2082" y="148"/>
                  </a:lnTo>
                  <a:lnTo>
                    <a:pt x="2083" y="143"/>
                  </a:lnTo>
                  <a:lnTo>
                    <a:pt x="2085" y="138"/>
                  </a:lnTo>
                  <a:lnTo>
                    <a:pt x="2086" y="135"/>
                  </a:lnTo>
                  <a:lnTo>
                    <a:pt x="2087" y="131"/>
                  </a:lnTo>
                  <a:lnTo>
                    <a:pt x="2090" y="130"/>
                  </a:lnTo>
                  <a:lnTo>
                    <a:pt x="2091" y="129"/>
                  </a:lnTo>
                  <a:lnTo>
                    <a:pt x="2092" y="129"/>
                  </a:lnTo>
                  <a:lnTo>
                    <a:pt x="2094" y="130"/>
                  </a:lnTo>
                  <a:lnTo>
                    <a:pt x="2095" y="133"/>
                  </a:lnTo>
                  <a:lnTo>
                    <a:pt x="2096" y="136"/>
                  </a:lnTo>
                  <a:lnTo>
                    <a:pt x="2097" y="139"/>
                  </a:lnTo>
                  <a:lnTo>
                    <a:pt x="2100" y="145"/>
                  </a:lnTo>
                  <a:lnTo>
                    <a:pt x="2101" y="150"/>
                  </a:lnTo>
                  <a:lnTo>
                    <a:pt x="2102" y="156"/>
                  </a:lnTo>
                  <a:lnTo>
                    <a:pt x="2104" y="163"/>
                  </a:lnTo>
                  <a:lnTo>
                    <a:pt x="2105" y="169"/>
                  </a:lnTo>
                  <a:lnTo>
                    <a:pt x="2106" y="177"/>
                  </a:lnTo>
                  <a:lnTo>
                    <a:pt x="2109" y="185"/>
                  </a:lnTo>
                  <a:lnTo>
                    <a:pt x="2110" y="192"/>
                  </a:lnTo>
                  <a:lnTo>
                    <a:pt x="2111" y="199"/>
                  </a:lnTo>
                  <a:lnTo>
                    <a:pt x="2112" y="206"/>
                  </a:lnTo>
                  <a:lnTo>
                    <a:pt x="2114" y="212"/>
                  </a:lnTo>
                  <a:lnTo>
                    <a:pt x="2115" y="218"/>
                  </a:lnTo>
                  <a:lnTo>
                    <a:pt x="2116" y="223"/>
                  </a:lnTo>
                  <a:lnTo>
                    <a:pt x="2119" y="227"/>
                  </a:lnTo>
                  <a:lnTo>
                    <a:pt x="2120" y="231"/>
                  </a:lnTo>
                  <a:lnTo>
                    <a:pt x="2121" y="233"/>
                  </a:lnTo>
                  <a:lnTo>
                    <a:pt x="2122" y="234"/>
                  </a:lnTo>
                  <a:lnTo>
                    <a:pt x="2124" y="235"/>
                  </a:lnTo>
                  <a:lnTo>
                    <a:pt x="2125" y="234"/>
                  </a:lnTo>
                  <a:lnTo>
                    <a:pt x="2126" y="233"/>
                  </a:lnTo>
                  <a:lnTo>
                    <a:pt x="2129" y="229"/>
                  </a:lnTo>
                  <a:lnTo>
                    <a:pt x="2130" y="226"/>
                  </a:lnTo>
                  <a:lnTo>
                    <a:pt x="2131" y="222"/>
                  </a:lnTo>
                  <a:lnTo>
                    <a:pt x="2133" y="216"/>
                  </a:lnTo>
                  <a:lnTo>
                    <a:pt x="2134" y="211"/>
                  </a:lnTo>
                  <a:lnTo>
                    <a:pt x="2135" y="204"/>
                  </a:lnTo>
                  <a:lnTo>
                    <a:pt x="2136" y="197"/>
                  </a:lnTo>
                  <a:lnTo>
                    <a:pt x="2139" y="189"/>
                  </a:lnTo>
                  <a:lnTo>
                    <a:pt x="2140" y="182"/>
                  </a:lnTo>
                  <a:lnTo>
                    <a:pt x="2141" y="174"/>
                  </a:lnTo>
                  <a:lnTo>
                    <a:pt x="2143" y="167"/>
                  </a:lnTo>
                  <a:lnTo>
                    <a:pt x="2144" y="159"/>
                  </a:lnTo>
                  <a:lnTo>
                    <a:pt x="2145" y="153"/>
                  </a:lnTo>
                  <a:lnTo>
                    <a:pt x="2148" y="147"/>
                  </a:lnTo>
                  <a:lnTo>
                    <a:pt x="2149" y="141"/>
                  </a:lnTo>
                  <a:lnTo>
                    <a:pt x="2150" y="137"/>
                  </a:lnTo>
                  <a:lnTo>
                    <a:pt x="2151" y="133"/>
                  </a:lnTo>
                  <a:lnTo>
                    <a:pt x="2153" y="129"/>
                  </a:lnTo>
                  <a:lnTo>
                    <a:pt x="2154" y="128"/>
                  </a:lnTo>
                  <a:lnTo>
                    <a:pt x="2155" y="127"/>
                  </a:lnTo>
                  <a:lnTo>
                    <a:pt x="2158" y="127"/>
                  </a:lnTo>
                  <a:lnTo>
                    <a:pt x="2159" y="128"/>
                  </a:lnTo>
                  <a:lnTo>
                    <a:pt x="2160" y="130"/>
                  </a:lnTo>
                  <a:lnTo>
                    <a:pt x="2161" y="134"/>
                  </a:lnTo>
                  <a:lnTo>
                    <a:pt x="2163" y="138"/>
                  </a:lnTo>
                  <a:lnTo>
                    <a:pt x="2164" y="144"/>
                  </a:lnTo>
                  <a:lnTo>
                    <a:pt x="2165" y="149"/>
                  </a:lnTo>
                  <a:lnTo>
                    <a:pt x="2168" y="156"/>
                  </a:lnTo>
                  <a:lnTo>
                    <a:pt x="2169" y="163"/>
                  </a:lnTo>
                  <a:lnTo>
                    <a:pt x="2170" y="170"/>
                  </a:lnTo>
                  <a:lnTo>
                    <a:pt x="2172" y="177"/>
                  </a:lnTo>
                  <a:lnTo>
                    <a:pt x="2173" y="185"/>
                  </a:lnTo>
                  <a:lnTo>
                    <a:pt x="2174" y="193"/>
                  </a:lnTo>
                  <a:lnTo>
                    <a:pt x="2175" y="200"/>
                  </a:lnTo>
                  <a:lnTo>
                    <a:pt x="2178" y="207"/>
                  </a:lnTo>
                  <a:lnTo>
                    <a:pt x="2179" y="214"/>
                  </a:lnTo>
                  <a:lnTo>
                    <a:pt x="2180" y="219"/>
                  </a:lnTo>
                  <a:lnTo>
                    <a:pt x="2182" y="225"/>
                  </a:lnTo>
                  <a:lnTo>
                    <a:pt x="2183" y="229"/>
                  </a:lnTo>
                  <a:lnTo>
                    <a:pt x="2184" y="233"/>
                  </a:lnTo>
                  <a:lnTo>
                    <a:pt x="2187" y="235"/>
                  </a:lnTo>
                  <a:lnTo>
                    <a:pt x="2188" y="237"/>
                  </a:lnTo>
                  <a:lnTo>
                    <a:pt x="2189" y="237"/>
                  </a:lnTo>
                  <a:lnTo>
                    <a:pt x="2190" y="236"/>
                  </a:lnTo>
                  <a:lnTo>
                    <a:pt x="2192" y="234"/>
                  </a:lnTo>
                  <a:lnTo>
                    <a:pt x="2193" y="232"/>
                  </a:lnTo>
                  <a:lnTo>
                    <a:pt x="2194" y="227"/>
                  </a:lnTo>
                  <a:lnTo>
                    <a:pt x="2197" y="223"/>
                  </a:lnTo>
                  <a:lnTo>
                    <a:pt x="2198" y="217"/>
                  </a:lnTo>
                  <a:lnTo>
                    <a:pt x="2199" y="211"/>
                  </a:lnTo>
                  <a:lnTo>
                    <a:pt x="2201" y="204"/>
                  </a:lnTo>
                  <a:lnTo>
                    <a:pt x="2202" y="196"/>
                  </a:lnTo>
                  <a:lnTo>
                    <a:pt x="2203" y="188"/>
                  </a:lnTo>
                  <a:lnTo>
                    <a:pt x="2204" y="180"/>
                  </a:lnTo>
                  <a:lnTo>
                    <a:pt x="2207" y="173"/>
                  </a:lnTo>
                  <a:lnTo>
                    <a:pt x="2208" y="165"/>
                  </a:lnTo>
                  <a:lnTo>
                    <a:pt x="2209" y="158"/>
                  </a:lnTo>
                  <a:lnTo>
                    <a:pt x="2211" y="150"/>
                  </a:lnTo>
                  <a:lnTo>
                    <a:pt x="2212" y="145"/>
                  </a:lnTo>
                  <a:lnTo>
                    <a:pt x="2213" y="139"/>
                  </a:lnTo>
                  <a:lnTo>
                    <a:pt x="2215" y="134"/>
                  </a:lnTo>
                  <a:lnTo>
                    <a:pt x="2217" y="130"/>
                  </a:lnTo>
                  <a:lnTo>
                    <a:pt x="2218" y="127"/>
                  </a:lnTo>
                  <a:lnTo>
                    <a:pt x="2219" y="125"/>
                  </a:lnTo>
                  <a:lnTo>
                    <a:pt x="2221" y="125"/>
                  </a:lnTo>
                  <a:lnTo>
                    <a:pt x="2222" y="125"/>
                  </a:lnTo>
                  <a:lnTo>
                    <a:pt x="2223" y="126"/>
                  </a:lnTo>
                  <a:lnTo>
                    <a:pt x="2226" y="129"/>
                  </a:lnTo>
                  <a:lnTo>
                    <a:pt x="2227" y="133"/>
                  </a:lnTo>
                  <a:lnTo>
                    <a:pt x="2228" y="137"/>
                  </a:lnTo>
                  <a:lnTo>
                    <a:pt x="2229" y="143"/>
                  </a:lnTo>
                  <a:lnTo>
                    <a:pt x="2231" y="148"/>
                  </a:lnTo>
                  <a:lnTo>
                    <a:pt x="2232" y="155"/>
                  </a:lnTo>
                  <a:lnTo>
                    <a:pt x="2233" y="163"/>
                  </a:lnTo>
                  <a:lnTo>
                    <a:pt x="2236" y="170"/>
                  </a:lnTo>
                  <a:lnTo>
                    <a:pt x="2237" y="178"/>
                  </a:lnTo>
                  <a:lnTo>
                    <a:pt x="2238" y="186"/>
                  </a:lnTo>
                  <a:lnTo>
                    <a:pt x="2240" y="195"/>
                  </a:lnTo>
                  <a:lnTo>
                    <a:pt x="2241" y="203"/>
                  </a:lnTo>
                  <a:lnTo>
                    <a:pt x="2242" y="209"/>
                  </a:lnTo>
                  <a:lnTo>
                    <a:pt x="2244" y="216"/>
                  </a:lnTo>
                  <a:lnTo>
                    <a:pt x="2246" y="223"/>
                  </a:lnTo>
                  <a:lnTo>
                    <a:pt x="2247" y="228"/>
                  </a:lnTo>
                  <a:lnTo>
                    <a:pt x="2248" y="233"/>
                  </a:lnTo>
                  <a:lnTo>
                    <a:pt x="2250" y="236"/>
                  </a:lnTo>
                  <a:lnTo>
                    <a:pt x="2251" y="238"/>
                  </a:lnTo>
                  <a:lnTo>
                    <a:pt x="2252" y="239"/>
                  </a:lnTo>
                  <a:lnTo>
                    <a:pt x="2254" y="239"/>
                  </a:lnTo>
                  <a:lnTo>
                    <a:pt x="2256" y="238"/>
                  </a:lnTo>
                  <a:lnTo>
                    <a:pt x="2257" y="236"/>
                  </a:lnTo>
                  <a:lnTo>
                    <a:pt x="2258" y="233"/>
                  </a:lnTo>
                  <a:lnTo>
                    <a:pt x="2260" y="229"/>
                  </a:lnTo>
                  <a:lnTo>
                    <a:pt x="2261" y="224"/>
                  </a:lnTo>
                  <a:lnTo>
                    <a:pt x="2262" y="218"/>
                  </a:lnTo>
                  <a:lnTo>
                    <a:pt x="2265" y="211"/>
                  </a:lnTo>
                  <a:lnTo>
                    <a:pt x="2266" y="204"/>
                  </a:lnTo>
                  <a:lnTo>
                    <a:pt x="2267" y="196"/>
                  </a:lnTo>
                  <a:lnTo>
                    <a:pt x="2268" y="188"/>
                  </a:lnTo>
                  <a:lnTo>
                    <a:pt x="2270" y="179"/>
                  </a:lnTo>
                  <a:lnTo>
                    <a:pt x="2271" y="172"/>
                  </a:lnTo>
                  <a:lnTo>
                    <a:pt x="2273" y="163"/>
                  </a:lnTo>
                  <a:lnTo>
                    <a:pt x="2275" y="156"/>
                  </a:lnTo>
                  <a:lnTo>
                    <a:pt x="2276" y="148"/>
                  </a:lnTo>
                  <a:lnTo>
                    <a:pt x="2277" y="141"/>
                  </a:lnTo>
                  <a:lnTo>
                    <a:pt x="2279" y="136"/>
                  </a:lnTo>
                  <a:lnTo>
                    <a:pt x="2280" y="131"/>
                  </a:lnTo>
                  <a:lnTo>
                    <a:pt x="2281" y="127"/>
                  </a:lnTo>
                  <a:lnTo>
                    <a:pt x="2283" y="124"/>
                  </a:lnTo>
                  <a:lnTo>
                    <a:pt x="2285" y="122"/>
                  </a:lnTo>
                  <a:lnTo>
                    <a:pt x="2286" y="121"/>
                  </a:lnTo>
                  <a:lnTo>
                    <a:pt x="2287" y="122"/>
                  </a:lnTo>
                  <a:lnTo>
                    <a:pt x="2289" y="124"/>
                  </a:lnTo>
                  <a:lnTo>
                    <a:pt x="2290" y="127"/>
                  </a:lnTo>
                  <a:lnTo>
                    <a:pt x="2291" y="130"/>
                  </a:lnTo>
                  <a:lnTo>
                    <a:pt x="2294" y="136"/>
                  </a:lnTo>
                  <a:lnTo>
                    <a:pt x="2295" y="141"/>
                  </a:lnTo>
                  <a:lnTo>
                    <a:pt x="2296" y="148"/>
                  </a:lnTo>
                  <a:lnTo>
                    <a:pt x="2297" y="156"/>
                  </a:lnTo>
                  <a:lnTo>
                    <a:pt x="2299" y="164"/>
                  </a:lnTo>
                  <a:lnTo>
                    <a:pt x="2300" y="172"/>
                  </a:lnTo>
                  <a:lnTo>
                    <a:pt x="2302" y="180"/>
                  </a:lnTo>
                  <a:lnTo>
                    <a:pt x="2304" y="188"/>
                  </a:lnTo>
                  <a:lnTo>
                    <a:pt x="2305" y="197"/>
                  </a:lnTo>
                  <a:lnTo>
                    <a:pt x="2306" y="205"/>
                  </a:lnTo>
                  <a:lnTo>
                    <a:pt x="2307" y="213"/>
                  </a:lnTo>
                  <a:lnTo>
                    <a:pt x="2309" y="219"/>
                  </a:lnTo>
                  <a:lnTo>
                    <a:pt x="2310" y="226"/>
                  </a:lnTo>
                  <a:lnTo>
                    <a:pt x="2312" y="232"/>
                  </a:lnTo>
                  <a:lnTo>
                    <a:pt x="2314" y="236"/>
                  </a:lnTo>
                  <a:lnTo>
                    <a:pt x="2315" y="239"/>
                  </a:lnTo>
                  <a:lnTo>
                    <a:pt x="2316" y="242"/>
                  </a:lnTo>
                  <a:lnTo>
                    <a:pt x="2318" y="243"/>
                  </a:lnTo>
                  <a:lnTo>
                    <a:pt x="2319" y="243"/>
                  </a:lnTo>
                  <a:lnTo>
                    <a:pt x="2320" y="241"/>
                  </a:lnTo>
                  <a:lnTo>
                    <a:pt x="2322" y="238"/>
                  </a:lnTo>
                  <a:lnTo>
                    <a:pt x="2324" y="235"/>
                  </a:lnTo>
                  <a:lnTo>
                    <a:pt x="2325" y="231"/>
                  </a:lnTo>
                  <a:lnTo>
                    <a:pt x="2326" y="225"/>
                  </a:lnTo>
                  <a:lnTo>
                    <a:pt x="2328" y="218"/>
                  </a:lnTo>
                  <a:lnTo>
                    <a:pt x="2329" y="211"/>
                  </a:lnTo>
                  <a:lnTo>
                    <a:pt x="2331" y="203"/>
                  </a:lnTo>
                  <a:lnTo>
                    <a:pt x="2333" y="195"/>
                  </a:lnTo>
                  <a:lnTo>
                    <a:pt x="2334" y="186"/>
                  </a:lnTo>
                  <a:lnTo>
                    <a:pt x="2335" y="177"/>
                  </a:lnTo>
                  <a:lnTo>
                    <a:pt x="2336" y="169"/>
                  </a:lnTo>
                  <a:lnTo>
                    <a:pt x="2338" y="160"/>
                  </a:lnTo>
                  <a:lnTo>
                    <a:pt x="2339" y="153"/>
                  </a:lnTo>
                  <a:lnTo>
                    <a:pt x="2341" y="145"/>
                  </a:lnTo>
                  <a:lnTo>
                    <a:pt x="2343" y="138"/>
                  </a:lnTo>
                  <a:lnTo>
                    <a:pt x="2344" y="133"/>
                  </a:lnTo>
                  <a:lnTo>
                    <a:pt x="2345" y="127"/>
                  </a:lnTo>
                  <a:lnTo>
                    <a:pt x="2346" y="124"/>
                  </a:lnTo>
                  <a:lnTo>
                    <a:pt x="2348" y="120"/>
                  </a:lnTo>
                  <a:lnTo>
                    <a:pt x="2349" y="119"/>
                  </a:lnTo>
                  <a:lnTo>
                    <a:pt x="2351" y="119"/>
                  </a:lnTo>
                  <a:lnTo>
                    <a:pt x="2353" y="119"/>
                  </a:lnTo>
                  <a:lnTo>
                    <a:pt x="2354" y="121"/>
                  </a:lnTo>
                  <a:lnTo>
                    <a:pt x="2355" y="125"/>
                  </a:lnTo>
                  <a:lnTo>
                    <a:pt x="2357" y="129"/>
                  </a:lnTo>
                  <a:lnTo>
                    <a:pt x="2358" y="135"/>
                  </a:lnTo>
                  <a:lnTo>
                    <a:pt x="2360" y="141"/>
                  </a:lnTo>
                  <a:lnTo>
                    <a:pt x="2361" y="148"/>
                  </a:lnTo>
                  <a:lnTo>
                    <a:pt x="2363" y="156"/>
                  </a:lnTo>
                  <a:lnTo>
                    <a:pt x="2364" y="165"/>
                  </a:lnTo>
                  <a:lnTo>
                    <a:pt x="2365" y="174"/>
                  </a:lnTo>
                  <a:lnTo>
                    <a:pt x="2367" y="183"/>
                  </a:lnTo>
                  <a:lnTo>
                    <a:pt x="2368" y="192"/>
                  </a:lnTo>
                  <a:lnTo>
                    <a:pt x="2370" y="199"/>
                  </a:lnTo>
                  <a:lnTo>
                    <a:pt x="2372" y="208"/>
                  </a:lnTo>
                  <a:lnTo>
                    <a:pt x="2373" y="216"/>
                  </a:lnTo>
                  <a:lnTo>
                    <a:pt x="2374" y="223"/>
                  </a:lnTo>
                  <a:lnTo>
                    <a:pt x="2375" y="229"/>
                  </a:lnTo>
                  <a:lnTo>
                    <a:pt x="2377" y="235"/>
                  </a:lnTo>
                  <a:lnTo>
                    <a:pt x="2378" y="239"/>
                  </a:lnTo>
                  <a:lnTo>
                    <a:pt x="2380" y="243"/>
                  </a:lnTo>
                  <a:lnTo>
                    <a:pt x="2382" y="245"/>
                  </a:lnTo>
                  <a:lnTo>
                    <a:pt x="2383" y="245"/>
                  </a:lnTo>
                  <a:lnTo>
                    <a:pt x="2384" y="245"/>
                  </a:lnTo>
                  <a:lnTo>
                    <a:pt x="2385" y="243"/>
                  </a:lnTo>
                  <a:lnTo>
                    <a:pt x="2387" y="241"/>
                  </a:lnTo>
                  <a:lnTo>
                    <a:pt x="2389" y="236"/>
                  </a:lnTo>
                  <a:lnTo>
                    <a:pt x="2390" y="231"/>
                  </a:lnTo>
                  <a:lnTo>
                    <a:pt x="2392" y="225"/>
                  </a:lnTo>
                  <a:lnTo>
                    <a:pt x="2393" y="218"/>
                  </a:lnTo>
                  <a:lnTo>
                    <a:pt x="2394" y="211"/>
                  </a:lnTo>
                  <a:lnTo>
                    <a:pt x="2396" y="202"/>
                  </a:lnTo>
                  <a:lnTo>
                    <a:pt x="2397" y="193"/>
                  </a:lnTo>
                  <a:lnTo>
                    <a:pt x="2399" y="184"/>
                  </a:lnTo>
                  <a:lnTo>
                    <a:pt x="2400" y="175"/>
                  </a:lnTo>
                  <a:lnTo>
                    <a:pt x="2402" y="166"/>
                  </a:lnTo>
                  <a:lnTo>
                    <a:pt x="2403" y="157"/>
                  </a:lnTo>
                  <a:lnTo>
                    <a:pt x="2404" y="148"/>
                  </a:lnTo>
                  <a:lnTo>
                    <a:pt x="2406" y="141"/>
                  </a:lnTo>
                  <a:lnTo>
                    <a:pt x="2407" y="134"/>
                  </a:lnTo>
                  <a:lnTo>
                    <a:pt x="2409" y="128"/>
                  </a:lnTo>
                  <a:lnTo>
                    <a:pt x="2411" y="124"/>
                  </a:lnTo>
                  <a:lnTo>
                    <a:pt x="2412" y="119"/>
                  </a:lnTo>
                  <a:lnTo>
                    <a:pt x="2413" y="117"/>
                  </a:lnTo>
                  <a:lnTo>
                    <a:pt x="2414" y="116"/>
                  </a:lnTo>
                  <a:lnTo>
                    <a:pt x="2416" y="116"/>
                  </a:lnTo>
                  <a:lnTo>
                    <a:pt x="2418" y="117"/>
                  </a:lnTo>
                  <a:lnTo>
                    <a:pt x="2419" y="119"/>
                  </a:lnTo>
                  <a:lnTo>
                    <a:pt x="2421" y="124"/>
                  </a:lnTo>
                  <a:lnTo>
                    <a:pt x="2422" y="128"/>
                  </a:lnTo>
                  <a:lnTo>
                    <a:pt x="2423" y="135"/>
                  </a:lnTo>
                  <a:lnTo>
                    <a:pt x="2425" y="141"/>
                  </a:lnTo>
                  <a:lnTo>
                    <a:pt x="2426" y="149"/>
                  </a:lnTo>
                  <a:lnTo>
                    <a:pt x="2428" y="157"/>
                  </a:lnTo>
                  <a:lnTo>
                    <a:pt x="2429" y="166"/>
                  </a:lnTo>
                  <a:lnTo>
                    <a:pt x="2431" y="176"/>
                  </a:lnTo>
                  <a:lnTo>
                    <a:pt x="2432" y="185"/>
                  </a:lnTo>
                  <a:lnTo>
                    <a:pt x="2433" y="194"/>
                  </a:lnTo>
                  <a:lnTo>
                    <a:pt x="2435" y="204"/>
                  </a:lnTo>
                  <a:lnTo>
                    <a:pt x="2436" y="212"/>
                  </a:lnTo>
                  <a:lnTo>
                    <a:pt x="2438" y="221"/>
                  </a:lnTo>
                  <a:lnTo>
                    <a:pt x="2439" y="227"/>
                  </a:lnTo>
                  <a:lnTo>
                    <a:pt x="2441" y="234"/>
                  </a:lnTo>
                  <a:lnTo>
                    <a:pt x="2442" y="239"/>
                  </a:lnTo>
                  <a:lnTo>
                    <a:pt x="2443" y="244"/>
                  </a:lnTo>
                  <a:lnTo>
                    <a:pt x="2445" y="246"/>
                  </a:lnTo>
                  <a:lnTo>
                    <a:pt x="2447" y="248"/>
                  </a:lnTo>
                  <a:lnTo>
                    <a:pt x="2448" y="248"/>
                  </a:lnTo>
                  <a:lnTo>
                    <a:pt x="2450" y="247"/>
                  </a:lnTo>
                  <a:lnTo>
                    <a:pt x="2451" y="245"/>
                  </a:lnTo>
                  <a:lnTo>
                    <a:pt x="2452" y="242"/>
                  </a:lnTo>
                  <a:lnTo>
                    <a:pt x="2453" y="237"/>
                  </a:lnTo>
                  <a:lnTo>
                    <a:pt x="2455" y="232"/>
                  </a:lnTo>
                  <a:lnTo>
                    <a:pt x="2457" y="225"/>
                  </a:lnTo>
                  <a:lnTo>
                    <a:pt x="2458" y="217"/>
                  </a:lnTo>
                  <a:lnTo>
                    <a:pt x="2460" y="208"/>
                  </a:lnTo>
                  <a:lnTo>
                    <a:pt x="2461" y="199"/>
                  </a:lnTo>
                  <a:lnTo>
                    <a:pt x="2462" y="190"/>
                  </a:lnTo>
                  <a:lnTo>
                    <a:pt x="2464" y="180"/>
                  </a:lnTo>
                  <a:lnTo>
                    <a:pt x="2466" y="172"/>
                  </a:lnTo>
                  <a:lnTo>
                    <a:pt x="2467" y="161"/>
                  </a:lnTo>
                  <a:lnTo>
                    <a:pt x="2468" y="153"/>
                  </a:lnTo>
                  <a:lnTo>
                    <a:pt x="2470" y="145"/>
                  </a:lnTo>
                  <a:lnTo>
                    <a:pt x="2471" y="137"/>
                  </a:lnTo>
                  <a:lnTo>
                    <a:pt x="2472" y="130"/>
                  </a:lnTo>
                  <a:lnTo>
                    <a:pt x="2474" y="124"/>
                  </a:lnTo>
                  <a:lnTo>
                    <a:pt x="2476" y="119"/>
                  </a:lnTo>
                  <a:lnTo>
                    <a:pt x="2477" y="116"/>
                  </a:lnTo>
                  <a:lnTo>
                    <a:pt x="2478" y="114"/>
                  </a:lnTo>
                  <a:lnTo>
                    <a:pt x="2480" y="112"/>
                  </a:lnTo>
                  <a:lnTo>
                    <a:pt x="2481" y="112"/>
                  </a:lnTo>
                  <a:lnTo>
                    <a:pt x="2482" y="115"/>
                  </a:lnTo>
                  <a:lnTo>
                    <a:pt x="2484" y="118"/>
                  </a:lnTo>
                  <a:lnTo>
                    <a:pt x="2486" y="122"/>
                  </a:lnTo>
                  <a:lnTo>
                    <a:pt x="2487" y="128"/>
                  </a:lnTo>
                  <a:lnTo>
                    <a:pt x="2489" y="135"/>
                  </a:lnTo>
                  <a:lnTo>
                    <a:pt x="2490" y="143"/>
                  </a:lnTo>
                  <a:lnTo>
                    <a:pt x="2491" y="150"/>
                  </a:lnTo>
                  <a:lnTo>
                    <a:pt x="2492" y="159"/>
                  </a:lnTo>
                  <a:lnTo>
                    <a:pt x="2495" y="169"/>
                  </a:lnTo>
                  <a:lnTo>
                    <a:pt x="2496" y="179"/>
                  </a:lnTo>
                  <a:lnTo>
                    <a:pt x="2497" y="188"/>
                  </a:lnTo>
                  <a:lnTo>
                    <a:pt x="2499" y="198"/>
                  </a:lnTo>
                  <a:lnTo>
                    <a:pt x="2500" y="207"/>
                  </a:lnTo>
                  <a:lnTo>
                    <a:pt x="2501" y="216"/>
                  </a:lnTo>
                  <a:lnTo>
                    <a:pt x="2503" y="225"/>
                  </a:lnTo>
                  <a:lnTo>
                    <a:pt x="2505" y="232"/>
                  </a:lnTo>
                  <a:lnTo>
                    <a:pt x="2506" y="238"/>
                  </a:lnTo>
                  <a:lnTo>
                    <a:pt x="2507" y="244"/>
                  </a:lnTo>
                  <a:lnTo>
                    <a:pt x="2509" y="247"/>
                  </a:lnTo>
                  <a:lnTo>
                    <a:pt x="2510" y="251"/>
                  </a:lnTo>
                  <a:lnTo>
                    <a:pt x="2511" y="252"/>
                  </a:lnTo>
                  <a:lnTo>
                    <a:pt x="2513" y="252"/>
                  </a:lnTo>
                  <a:lnTo>
                    <a:pt x="2515" y="251"/>
                  </a:lnTo>
                  <a:lnTo>
                    <a:pt x="2516" y="247"/>
                  </a:lnTo>
                  <a:lnTo>
                    <a:pt x="2518" y="243"/>
                  </a:lnTo>
                  <a:lnTo>
                    <a:pt x="2519" y="238"/>
                  </a:lnTo>
                  <a:lnTo>
                    <a:pt x="2520" y="232"/>
                  </a:lnTo>
                  <a:lnTo>
                    <a:pt x="2521" y="224"/>
                  </a:lnTo>
                  <a:lnTo>
                    <a:pt x="2524" y="216"/>
                  </a:lnTo>
                  <a:lnTo>
                    <a:pt x="2525" y="206"/>
                  </a:lnTo>
                  <a:lnTo>
                    <a:pt x="2526" y="197"/>
                  </a:lnTo>
                  <a:lnTo>
                    <a:pt x="2528" y="187"/>
                  </a:lnTo>
                  <a:lnTo>
                    <a:pt x="2529" y="177"/>
                  </a:lnTo>
                  <a:lnTo>
                    <a:pt x="2530" y="167"/>
                  </a:lnTo>
                  <a:lnTo>
                    <a:pt x="2531" y="157"/>
                  </a:lnTo>
                  <a:lnTo>
                    <a:pt x="2534" y="148"/>
                  </a:lnTo>
                  <a:lnTo>
                    <a:pt x="2535" y="139"/>
                  </a:lnTo>
                  <a:lnTo>
                    <a:pt x="2536" y="131"/>
                  </a:lnTo>
                  <a:lnTo>
                    <a:pt x="2538" y="125"/>
                  </a:lnTo>
                  <a:lnTo>
                    <a:pt x="2539" y="119"/>
                  </a:lnTo>
                  <a:lnTo>
                    <a:pt x="2540" y="115"/>
                  </a:lnTo>
                  <a:lnTo>
                    <a:pt x="2542" y="111"/>
                  </a:lnTo>
                  <a:lnTo>
                    <a:pt x="2544" y="110"/>
                  </a:lnTo>
                  <a:lnTo>
                    <a:pt x="2545" y="109"/>
                  </a:lnTo>
                  <a:lnTo>
                    <a:pt x="2546" y="110"/>
                  </a:lnTo>
                  <a:lnTo>
                    <a:pt x="2548" y="112"/>
                  </a:lnTo>
                  <a:lnTo>
                    <a:pt x="2549" y="117"/>
                  </a:lnTo>
                  <a:lnTo>
                    <a:pt x="2550" y="121"/>
                  </a:lnTo>
                  <a:lnTo>
                    <a:pt x="2553" y="128"/>
                  </a:lnTo>
                  <a:lnTo>
                    <a:pt x="2554" y="136"/>
                  </a:lnTo>
                  <a:lnTo>
                    <a:pt x="2555" y="144"/>
                  </a:lnTo>
                  <a:lnTo>
                    <a:pt x="2557" y="153"/>
                  </a:lnTo>
                  <a:lnTo>
                    <a:pt x="2558" y="163"/>
                  </a:lnTo>
                  <a:lnTo>
                    <a:pt x="2559" y="173"/>
                  </a:lnTo>
                  <a:lnTo>
                    <a:pt x="2560" y="183"/>
                  </a:lnTo>
                  <a:lnTo>
                    <a:pt x="2563" y="193"/>
                  </a:lnTo>
                  <a:lnTo>
                    <a:pt x="2564" y="203"/>
                  </a:lnTo>
                  <a:lnTo>
                    <a:pt x="2565" y="213"/>
                  </a:lnTo>
                  <a:lnTo>
                    <a:pt x="2567" y="222"/>
                  </a:lnTo>
                  <a:lnTo>
                    <a:pt x="2568" y="229"/>
                  </a:lnTo>
                  <a:lnTo>
                    <a:pt x="2569" y="237"/>
                  </a:lnTo>
                  <a:lnTo>
                    <a:pt x="2570" y="243"/>
                  </a:lnTo>
                  <a:lnTo>
                    <a:pt x="2573" y="248"/>
                  </a:lnTo>
                  <a:lnTo>
                    <a:pt x="2574" y="252"/>
                  </a:lnTo>
                  <a:lnTo>
                    <a:pt x="2575" y="254"/>
                  </a:lnTo>
                  <a:lnTo>
                    <a:pt x="2577" y="255"/>
                  </a:lnTo>
                  <a:lnTo>
                    <a:pt x="2578" y="254"/>
                  </a:lnTo>
                  <a:lnTo>
                    <a:pt x="2579" y="253"/>
                  </a:lnTo>
                  <a:lnTo>
                    <a:pt x="2582" y="248"/>
                  </a:lnTo>
                  <a:lnTo>
                    <a:pt x="2583" y="244"/>
                  </a:lnTo>
                  <a:lnTo>
                    <a:pt x="2584" y="238"/>
                  </a:lnTo>
                  <a:lnTo>
                    <a:pt x="2585" y="231"/>
                  </a:lnTo>
                  <a:lnTo>
                    <a:pt x="2587" y="223"/>
                  </a:lnTo>
                  <a:lnTo>
                    <a:pt x="2588" y="214"/>
                  </a:lnTo>
                  <a:lnTo>
                    <a:pt x="2589" y="204"/>
                  </a:lnTo>
                  <a:lnTo>
                    <a:pt x="2592" y="194"/>
                  </a:lnTo>
                  <a:lnTo>
                    <a:pt x="2593" y="183"/>
                  </a:lnTo>
                  <a:lnTo>
                    <a:pt x="2594" y="173"/>
                  </a:lnTo>
                  <a:lnTo>
                    <a:pt x="2596" y="163"/>
                  </a:lnTo>
                  <a:lnTo>
                    <a:pt x="2597" y="153"/>
                  </a:lnTo>
                  <a:lnTo>
                    <a:pt x="2598" y="143"/>
                  </a:lnTo>
                  <a:lnTo>
                    <a:pt x="2599" y="135"/>
                  </a:lnTo>
                  <a:lnTo>
                    <a:pt x="2602" y="127"/>
                  </a:lnTo>
                  <a:lnTo>
                    <a:pt x="2603" y="120"/>
                  </a:lnTo>
                  <a:lnTo>
                    <a:pt x="2604" y="115"/>
                  </a:lnTo>
                  <a:lnTo>
                    <a:pt x="2606" y="110"/>
                  </a:lnTo>
                  <a:lnTo>
                    <a:pt x="2607" y="107"/>
                  </a:lnTo>
                  <a:lnTo>
                    <a:pt x="2608" y="106"/>
                  </a:lnTo>
                  <a:lnTo>
                    <a:pt x="2609" y="107"/>
                  </a:lnTo>
                  <a:lnTo>
                    <a:pt x="2612" y="108"/>
                  </a:lnTo>
                  <a:lnTo>
                    <a:pt x="2613" y="111"/>
                  </a:lnTo>
                  <a:lnTo>
                    <a:pt x="2614" y="116"/>
                  </a:lnTo>
                  <a:lnTo>
                    <a:pt x="2616" y="121"/>
                  </a:lnTo>
                  <a:lnTo>
                    <a:pt x="2617" y="129"/>
                  </a:lnTo>
                  <a:lnTo>
                    <a:pt x="2618" y="137"/>
                  </a:lnTo>
                  <a:lnTo>
                    <a:pt x="2621" y="146"/>
                  </a:lnTo>
                  <a:lnTo>
                    <a:pt x="2622" y="156"/>
                  </a:lnTo>
                  <a:lnTo>
                    <a:pt x="2623" y="166"/>
                  </a:lnTo>
                  <a:lnTo>
                    <a:pt x="2624" y="176"/>
                  </a:lnTo>
                  <a:lnTo>
                    <a:pt x="2626" y="187"/>
                  </a:lnTo>
                  <a:lnTo>
                    <a:pt x="2627" y="198"/>
                  </a:lnTo>
                  <a:lnTo>
                    <a:pt x="2628" y="208"/>
                  </a:lnTo>
                  <a:lnTo>
                    <a:pt x="2631" y="218"/>
                  </a:lnTo>
                  <a:lnTo>
                    <a:pt x="2632" y="227"/>
                  </a:lnTo>
                  <a:lnTo>
                    <a:pt x="2633" y="235"/>
                  </a:lnTo>
                  <a:lnTo>
                    <a:pt x="2635" y="243"/>
                  </a:lnTo>
                  <a:lnTo>
                    <a:pt x="2636" y="248"/>
                  </a:lnTo>
                  <a:lnTo>
                    <a:pt x="2637" y="253"/>
                  </a:lnTo>
                  <a:lnTo>
                    <a:pt x="2638" y="256"/>
                  </a:lnTo>
                  <a:lnTo>
                    <a:pt x="2641" y="258"/>
                  </a:lnTo>
                  <a:lnTo>
                    <a:pt x="2642" y="258"/>
                  </a:lnTo>
                  <a:lnTo>
                    <a:pt x="2643" y="257"/>
                  </a:lnTo>
                  <a:lnTo>
                    <a:pt x="2645" y="254"/>
                  </a:lnTo>
                  <a:lnTo>
                    <a:pt x="2646" y="249"/>
                  </a:lnTo>
                  <a:lnTo>
                    <a:pt x="2647" y="244"/>
                  </a:lnTo>
                  <a:lnTo>
                    <a:pt x="2650" y="237"/>
                  </a:lnTo>
                  <a:lnTo>
                    <a:pt x="2651" y="229"/>
                  </a:lnTo>
                  <a:lnTo>
                    <a:pt x="2652" y="221"/>
                  </a:lnTo>
                  <a:lnTo>
                    <a:pt x="2653" y="211"/>
                  </a:lnTo>
                  <a:lnTo>
                    <a:pt x="2655" y="200"/>
                  </a:lnTo>
                  <a:lnTo>
                    <a:pt x="2656" y="189"/>
                  </a:lnTo>
                  <a:lnTo>
                    <a:pt x="2657" y="178"/>
                  </a:lnTo>
                  <a:lnTo>
                    <a:pt x="2660" y="168"/>
                  </a:lnTo>
                  <a:lnTo>
                    <a:pt x="2661" y="157"/>
                  </a:lnTo>
                  <a:lnTo>
                    <a:pt x="2662" y="147"/>
                  </a:lnTo>
                  <a:lnTo>
                    <a:pt x="2663" y="137"/>
                  </a:lnTo>
                  <a:lnTo>
                    <a:pt x="2665" y="129"/>
                  </a:lnTo>
                  <a:lnTo>
                    <a:pt x="2666" y="121"/>
                  </a:lnTo>
                  <a:lnTo>
                    <a:pt x="2667" y="115"/>
                  </a:lnTo>
                  <a:lnTo>
                    <a:pt x="2670" y="109"/>
                  </a:lnTo>
                  <a:lnTo>
                    <a:pt x="2671" y="106"/>
                  </a:lnTo>
                  <a:lnTo>
                    <a:pt x="2672" y="104"/>
                  </a:lnTo>
                  <a:lnTo>
                    <a:pt x="2674" y="102"/>
                  </a:lnTo>
                  <a:lnTo>
                    <a:pt x="2675" y="104"/>
                  </a:lnTo>
                  <a:lnTo>
                    <a:pt x="2676" y="106"/>
                  </a:lnTo>
                  <a:lnTo>
                    <a:pt x="2677" y="110"/>
                  </a:lnTo>
                  <a:lnTo>
                    <a:pt x="2680" y="116"/>
                  </a:lnTo>
                  <a:lnTo>
                    <a:pt x="2681" y="122"/>
                  </a:lnTo>
                  <a:lnTo>
                    <a:pt x="2682" y="130"/>
                  </a:lnTo>
                  <a:lnTo>
                    <a:pt x="2684" y="139"/>
                  </a:lnTo>
                  <a:lnTo>
                    <a:pt x="2685" y="148"/>
                  </a:lnTo>
                  <a:lnTo>
                    <a:pt x="2686" y="159"/>
                  </a:lnTo>
                  <a:lnTo>
                    <a:pt x="2689" y="170"/>
                  </a:lnTo>
                  <a:lnTo>
                    <a:pt x="2690" y="182"/>
                  </a:lnTo>
                  <a:lnTo>
                    <a:pt x="2691" y="193"/>
                  </a:lnTo>
                  <a:lnTo>
                    <a:pt x="2692" y="203"/>
                  </a:lnTo>
                  <a:lnTo>
                    <a:pt x="2694" y="214"/>
                  </a:lnTo>
                  <a:lnTo>
                    <a:pt x="2695" y="224"/>
                  </a:lnTo>
                  <a:lnTo>
                    <a:pt x="2696" y="233"/>
                  </a:lnTo>
                  <a:lnTo>
                    <a:pt x="2699" y="241"/>
                  </a:lnTo>
                  <a:lnTo>
                    <a:pt x="2700" y="247"/>
                  </a:lnTo>
                  <a:lnTo>
                    <a:pt x="2701" y="254"/>
                  </a:lnTo>
                  <a:lnTo>
                    <a:pt x="2702" y="257"/>
                  </a:lnTo>
                  <a:lnTo>
                    <a:pt x="2704" y="261"/>
                  </a:lnTo>
                  <a:lnTo>
                    <a:pt x="2705" y="262"/>
                  </a:lnTo>
                  <a:lnTo>
                    <a:pt x="2706" y="261"/>
                  </a:lnTo>
                  <a:lnTo>
                    <a:pt x="2709" y="258"/>
                  </a:lnTo>
                  <a:lnTo>
                    <a:pt x="2710" y="255"/>
                  </a:lnTo>
                  <a:lnTo>
                    <a:pt x="2711" y="251"/>
                  </a:lnTo>
                  <a:lnTo>
                    <a:pt x="2713" y="244"/>
                  </a:lnTo>
                  <a:lnTo>
                    <a:pt x="2714" y="236"/>
                  </a:lnTo>
                  <a:lnTo>
                    <a:pt x="2715" y="227"/>
                  </a:lnTo>
                  <a:lnTo>
                    <a:pt x="2717" y="217"/>
                  </a:lnTo>
                  <a:lnTo>
                    <a:pt x="2719" y="207"/>
                  </a:lnTo>
                  <a:lnTo>
                    <a:pt x="2720" y="196"/>
                  </a:lnTo>
                  <a:lnTo>
                    <a:pt x="2721" y="185"/>
                  </a:lnTo>
                  <a:lnTo>
                    <a:pt x="2723" y="174"/>
                  </a:lnTo>
                  <a:lnTo>
                    <a:pt x="2724" y="161"/>
                  </a:lnTo>
                  <a:lnTo>
                    <a:pt x="2725" y="151"/>
                  </a:lnTo>
                  <a:lnTo>
                    <a:pt x="2728" y="140"/>
                  </a:lnTo>
                  <a:lnTo>
                    <a:pt x="2729" y="131"/>
                  </a:lnTo>
                  <a:lnTo>
                    <a:pt x="2730" y="122"/>
                  </a:lnTo>
                  <a:lnTo>
                    <a:pt x="2731" y="116"/>
                  </a:lnTo>
                  <a:lnTo>
                    <a:pt x="2733" y="109"/>
                  </a:lnTo>
                  <a:lnTo>
                    <a:pt x="2734" y="105"/>
                  </a:lnTo>
                  <a:lnTo>
                    <a:pt x="2735" y="101"/>
                  </a:lnTo>
                  <a:lnTo>
                    <a:pt x="2738" y="100"/>
                  </a:lnTo>
                  <a:lnTo>
                    <a:pt x="2739" y="100"/>
                  </a:lnTo>
                  <a:lnTo>
                    <a:pt x="2740" y="101"/>
                  </a:lnTo>
                  <a:lnTo>
                    <a:pt x="2742" y="105"/>
                  </a:lnTo>
                  <a:lnTo>
                    <a:pt x="2743" y="110"/>
                  </a:lnTo>
                  <a:lnTo>
                    <a:pt x="2744" y="116"/>
                  </a:lnTo>
                  <a:lnTo>
                    <a:pt x="2746" y="124"/>
                  </a:lnTo>
                  <a:lnTo>
                    <a:pt x="2748" y="133"/>
                  </a:lnTo>
                  <a:lnTo>
                    <a:pt x="2749" y="141"/>
                  </a:lnTo>
                  <a:lnTo>
                    <a:pt x="2750" y="153"/>
                  </a:lnTo>
                  <a:lnTo>
                    <a:pt x="2752" y="164"/>
                  </a:lnTo>
                  <a:lnTo>
                    <a:pt x="2753" y="175"/>
                  </a:lnTo>
                  <a:lnTo>
                    <a:pt x="2754" y="186"/>
                  </a:lnTo>
                  <a:lnTo>
                    <a:pt x="2756" y="198"/>
                  </a:lnTo>
                  <a:lnTo>
                    <a:pt x="2758" y="209"/>
                  </a:lnTo>
                  <a:lnTo>
                    <a:pt x="2759" y="219"/>
                  </a:lnTo>
                  <a:lnTo>
                    <a:pt x="2760" y="229"/>
                  </a:lnTo>
                  <a:lnTo>
                    <a:pt x="2762" y="238"/>
                  </a:lnTo>
                  <a:lnTo>
                    <a:pt x="2763" y="247"/>
                  </a:lnTo>
                  <a:lnTo>
                    <a:pt x="2764" y="253"/>
                  </a:lnTo>
                  <a:lnTo>
                    <a:pt x="2767" y="258"/>
                  </a:lnTo>
                  <a:lnTo>
                    <a:pt x="2768" y="262"/>
                  </a:lnTo>
                  <a:lnTo>
                    <a:pt x="2769" y="264"/>
                  </a:lnTo>
                  <a:lnTo>
                    <a:pt x="2770" y="264"/>
                  </a:lnTo>
                  <a:lnTo>
                    <a:pt x="2772" y="263"/>
                  </a:lnTo>
                  <a:lnTo>
                    <a:pt x="2773" y="261"/>
                  </a:lnTo>
                  <a:lnTo>
                    <a:pt x="2775" y="256"/>
                  </a:lnTo>
                  <a:lnTo>
                    <a:pt x="2777" y="249"/>
                  </a:lnTo>
                  <a:lnTo>
                    <a:pt x="2778" y="243"/>
                  </a:lnTo>
                  <a:lnTo>
                    <a:pt x="2779" y="234"/>
                  </a:lnTo>
                  <a:lnTo>
                    <a:pt x="2781" y="224"/>
                  </a:lnTo>
                  <a:lnTo>
                    <a:pt x="2782" y="214"/>
                  </a:lnTo>
                  <a:lnTo>
                    <a:pt x="2783" y="203"/>
                  </a:lnTo>
                  <a:lnTo>
                    <a:pt x="2785" y="190"/>
                  </a:lnTo>
                  <a:lnTo>
                    <a:pt x="2787" y="179"/>
                  </a:lnTo>
                  <a:lnTo>
                    <a:pt x="2788" y="167"/>
                  </a:lnTo>
                  <a:lnTo>
                    <a:pt x="2789" y="156"/>
                  </a:lnTo>
                  <a:lnTo>
                    <a:pt x="2791" y="145"/>
                  </a:lnTo>
                  <a:lnTo>
                    <a:pt x="2792" y="135"/>
                  </a:lnTo>
                  <a:lnTo>
                    <a:pt x="2793" y="125"/>
                  </a:lnTo>
                  <a:lnTo>
                    <a:pt x="2795" y="117"/>
                  </a:lnTo>
                  <a:lnTo>
                    <a:pt x="2797" y="110"/>
                  </a:lnTo>
                  <a:lnTo>
                    <a:pt x="2798" y="104"/>
                  </a:lnTo>
                  <a:lnTo>
                    <a:pt x="2799" y="100"/>
                  </a:lnTo>
                  <a:lnTo>
                    <a:pt x="2801" y="98"/>
                  </a:lnTo>
                  <a:lnTo>
                    <a:pt x="2802" y="97"/>
                  </a:lnTo>
                  <a:lnTo>
                    <a:pt x="2804" y="98"/>
                  </a:lnTo>
                  <a:lnTo>
                    <a:pt x="2806" y="100"/>
                  </a:lnTo>
                  <a:lnTo>
                    <a:pt x="2807" y="105"/>
                  </a:lnTo>
                  <a:lnTo>
                    <a:pt x="2808" y="110"/>
                  </a:lnTo>
                  <a:lnTo>
                    <a:pt x="2809" y="117"/>
                  </a:lnTo>
                  <a:lnTo>
                    <a:pt x="2811" y="126"/>
                  </a:lnTo>
                  <a:lnTo>
                    <a:pt x="2812" y="135"/>
                  </a:lnTo>
                  <a:lnTo>
                    <a:pt x="2814" y="146"/>
                  </a:lnTo>
                  <a:lnTo>
                    <a:pt x="2816" y="157"/>
                  </a:lnTo>
                  <a:lnTo>
                    <a:pt x="2817" y="168"/>
                  </a:lnTo>
                  <a:lnTo>
                    <a:pt x="2818" y="180"/>
                  </a:lnTo>
                  <a:lnTo>
                    <a:pt x="2820" y="193"/>
                  </a:lnTo>
                  <a:lnTo>
                    <a:pt x="2821" y="204"/>
                  </a:lnTo>
                  <a:lnTo>
                    <a:pt x="2822" y="216"/>
                  </a:lnTo>
                  <a:lnTo>
                    <a:pt x="2824" y="226"/>
                  </a:lnTo>
                  <a:lnTo>
                    <a:pt x="2826" y="236"/>
                  </a:lnTo>
                  <a:lnTo>
                    <a:pt x="2827" y="245"/>
                  </a:lnTo>
                  <a:lnTo>
                    <a:pt x="2828" y="253"/>
                  </a:lnTo>
                  <a:lnTo>
                    <a:pt x="2830" y="258"/>
                  </a:lnTo>
                  <a:lnTo>
                    <a:pt x="2831" y="263"/>
                  </a:lnTo>
                  <a:lnTo>
                    <a:pt x="2833" y="266"/>
                  </a:lnTo>
                  <a:lnTo>
                    <a:pt x="2834" y="267"/>
                  </a:lnTo>
                  <a:lnTo>
                    <a:pt x="2836" y="267"/>
                  </a:lnTo>
                  <a:lnTo>
                    <a:pt x="2837" y="265"/>
                  </a:lnTo>
                  <a:lnTo>
                    <a:pt x="2838" y="261"/>
                  </a:lnTo>
                  <a:lnTo>
                    <a:pt x="2840" y="255"/>
                  </a:lnTo>
                  <a:lnTo>
                    <a:pt x="2841" y="248"/>
                  </a:lnTo>
                  <a:lnTo>
                    <a:pt x="2843" y="241"/>
                  </a:lnTo>
                  <a:lnTo>
                    <a:pt x="2845" y="231"/>
                  </a:lnTo>
                  <a:lnTo>
                    <a:pt x="2846" y="221"/>
                  </a:lnTo>
                  <a:lnTo>
                    <a:pt x="2847" y="209"/>
                  </a:lnTo>
                  <a:lnTo>
                    <a:pt x="2848" y="197"/>
                  </a:lnTo>
                  <a:lnTo>
                    <a:pt x="2850" y="185"/>
                  </a:lnTo>
                  <a:lnTo>
                    <a:pt x="2851" y="173"/>
                  </a:lnTo>
                  <a:lnTo>
                    <a:pt x="2853" y="161"/>
                  </a:lnTo>
                  <a:lnTo>
                    <a:pt x="2855" y="149"/>
                  </a:lnTo>
                  <a:lnTo>
                    <a:pt x="2856" y="138"/>
                  </a:lnTo>
                  <a:lnTo>
                    <a:pt x="2857" y="128"/>
                  </a:lnTo>
                  <a:lnTo>
                    <a:pt x="2859" y="119"/>
                  </a:lnTo>
                  <a:lnTo>
                    <a:pt x="2860" y="110"/>
                  </a:lnTo>
                  <a:lnTo>
                    <a:pt x="2862" y="105"/>
                  </a:lnTo>
                  <a:lnTo>
                    <a:pt x="2863" y="99"/>
                  </a:lnTo>
                  <a:lnTo>
                    <a:pt x="2865" y="96"/>
                  </a:lnTo>
                  <a:lnTo>
                    <a:pt x="2866" y="94"/>
                  </a:lnTo>
                  <a:lnTo>
                    <a:pt x="2867" y="94"/>
                  </a:lnTo>
                  <a:lnTo>
                    <a:pt x="2869" y="96"/>
                  </a:lnTo>
                  <a:lnTo>
                    <a:pt x="2870" y="99"/>
                  </a:lnTo>
                  <a:lnTo>
                    <a:pt x="2872" y="105"/>
                  </a:lnTo>
                  <a:lnTo>
                    <a:pt x="2874" y="111"/>
                  </a:lnTo>
                  <a:lnTo>
                    <a:pt x="2875" y="119"/>
                  </a:lnTo>
                  <a:lnTo>
                    <a:pt x="2876" y="128"/>
                  </a:lnTo>
                  <a:lnTo>
                    <a:pt x="2877" y="139"/>
                  </a:lnTo>
                  <a:lnTo>
                    <a:pt x="2879" y="150"/>
                  </a:lnTo>
                  <a:lnTo>
                    <a:pt x="2880" y="161"/>
                  </a:lnTo>
                  <a:lnTo>
                    <a:pt x="2882" y="174"/>
                  </a:lnTo>
                  <a:lnTo>
                    <a:pt x="2884" y="187"/>
                  </a:lnTo>
                  <a:lnTo>
                    <a:pt x="2885" y="199"/>
                  </a:lnTo>
                  <a:lnTo>
                    <a:pt x="2886" y="212"/>
                  </a:lnTo>
                  <a:lnTo>
                    <a:pt x="2887" y="223"/>
                  </a:lnTo>
                  <a:lnTo>
                    <a:pt x="2889" y="233"/>
                  </a:lnTo>
                  <a:lnTo>
                    <a:pt x="2891" y="243"/>
                  </a:lnTo>
                  <a:lnTo>
                    <a:pt x="2892" y="252"/>
                  </a:lnTo>
                  <a:lnTo>
                    <a:pt x="2894" y="258"/>
                  </a:lnTo>
                  <a:lnTo>
                    <a:pt x="2895" y="264"/>
                  </a:lnTo>
                  <a:lnTo>
                    <a:pt x="2896" y="267"/>
                  </a:lnTo>
                  <a:lnTo>
                    <a:pt x="2898" y="270"/>
                  </a:lnTo>
                  <a:lnTo>
                    <a:pt x="2899" y="271"/>
                  </a:lnTo>
                  <a:lnTo>
                    <a:pt x="2901" y="268"/>
                  </a:lnTo>
                  <a:lnTo>
                    <a:pt x="2902" y="266"/>
                  </a:lnTo>
                  <a:lnTo>
                    <a:pt x="2904" y="261"/>
                  </a:lnTo>
                  <a:lnTo>
                    <a:pt x="2905" y="255"/>
                  </a:lnTo>
                  <a:lnTo>
                    <a:pt x="2906" y="247"/>
                  </a:lnTo>
                  <a:lnTo>
                    <a:pt x="2908" y="237"/>
                  </a:lnTo>
                  <a:lnTo>
                    <a:pt x="2909" y="227"/>
                  </a:lnTo>
                  <a:lnTo>
                    <a:pt x="2911" y="216"/>
                  </a:lnTo>
                  <a:lnTo>
                    <a:pt x="2913" y="204"/>
                  </a:lnTo>
                  <a:lnTo>
                    <a:pt x="2914" y="192"/>
                  </a:lnTo>
                  <a:lnTo>
                    <a:pt x="2915" y="179"/>
                  </a:lnTo>
                  <a:lnTo>
                    <a:pt x="2916" y="166"/>
                  </a:lnTo>
                  <a:lnTo>
                    <a:pt x="2918" y="154"/>
                  </a:lnTo>
                  <a:lnTo>
                    <a:pt x="2920" y="143"/>
                  </a:lnTo>
                  <a:lnTo>
                    <a:pt x="2921" y="131"/>
                  </a:lnTo>
                  <a:lnTo>
                    <a:pt x="2923" y="121"/>
                  </a:lnTo>
                  <a:lnTo>
                    <a:pt x="2924" y="112"/>
                  </a:lnTo>
                  <a:lnTo>
                    <a:pt x="2925" y="105"/>
                  </a:lnTo>
                  <a:lnTo>
                    <a:pt x="2926" y="99"/>
                  </a:lnTo>
                  <a:lnTo>
                    <a:pt x="2928" y="95"/>
                  </a:lnTo>
                  <a:lnTo>
                    <a:pt x="2930" y="91"/>
                  </a:lnTo>
                  <a:lnTo>
                    <a:pt x="2931" y="91"/>
                  </a:lnTo>
                  <a:lnTo>
                    <a:pt x="2933" y="92"/>
                  </a:lnTo>
                  <a:lnTo>
                    <a:pt x="2934" y="95"/>
                  </a:lnTo>
                  <a:lnTo>
                    <a:pt x="2935" y="99"/>
                  </a:lnTo>
                  <a:lnTo>
                    <a:pt x="2937" y="106"/>
                  </a:lnTo>
                  <a:lnTo>
                    <a:pt x="2938" y="112"/>
                  </a:lnTo>
                  <a:lnTo>
                    <a:pt x="2940" y="121"/>
                  </a:lnTo>
                  <a:lnTo>
                    <a:pt x="2941" y="133"/>
                  </a:lnTo>
                  <a:lnTo>
                    <a:pt x="2943" y="144"/>
                  </a:lnTo>
                  <a:lnTo>
                    <a:pt x="2944" y="155"/>
                  </a:lnTo>
                  <a:lnTo>
                    <a:pt x="2945" y="168"/>
                  </a:lnTo>
                  <a:lnTo>
                    <a:pt x="2947" y="180"/>
                  </a:lnTo>
                  <a:lnTo>
                    <a:pt x="2949" y="194"/>
                  </a:lnTo>
                  <a:lnTo>
                    <a:pt x="2950" y="206"/>
                  </a:lnTo>
                  <a:lnTo>
                    <a:pt x="2952" y="218"/>
                  </a:lnTo>
                  <a:lnTo>
                    <a:pt x="2953" y="229"/>
                  </a:lnTo>
                  <a:lnTo>
                    <a:pt x="2954" y="241"/>
                  </a:lnTo>
                  <a:lnTo>
                    <a:pt x="2955" y="249"/>
                  </a:lnTo>
                  <a:lnTo>
                    <a:pt x="2957" y="257"/>
                  </a:lnTo>
                  <a:lnTo>
                    <a:pt x="2959" y="264"/>
                  </a:lnTo>
                  <a:lnTo>
                    <a:pt x="2960" y="268"/>
                  </a:lnTo>
                  <a:lnTo>
                    <a:pt x="2962" y="272"/>
                  </a:lnTo>
                  <a:lnTo>
                    <a:pt x="2963" y="273"/>
                  </a:lnTo>
                  <a:lnTo>
                    <a:pt x="2964" y="273"/>
                  </a:lnTo>
                  <a:lnTo>
                    <a:pt x="2966" y="271"/>
                  </a:lnTo>
                  <a:lnTo>
                    <a:pt x="2968" y="266"/>
                  </a:lnTo>
                  <a:lnTo>
                    <a:pt x="2969" y="261"/>
                  </a:lnTo>
                  <a:lnTo>
                    <a:pt x="2970" y="253"/>
                  </a:lnTo>
                  <a:lnTo>
                    <a:pt x="2972" y="244"/>
                  </a:lnTo>
                  <a:lnTo>
                    <a:pt x="2973" y="234"/>
                  </a:lnTo>
                  <a:lnTo>
                    <a:pt x="2974" y="223"/>
                  </a:lnTo>
                  <a:lnTo>
                    <a:pt x="2976" y="211"/>
                  </a:lnTo>
                  <a:lnTo>
                    <a:pt x="2978" y="198"/>
                  </a:lnTo>
                  <a:lnTo>
                    <a:pt x="2979" y="185"/>
                  </a:lnTo>
                  <a:lnTo>
                    <a:pt x="2980" y="173"/>
                  </a:lnTo>
                  <a:lnTo>
                    <a:pt x="2982" y="159"/>
                  </a:lnTo>
                  <a:lnTo>
                    <a:pt x="2983" y="147"/>
                  </a:lnTo>
                  <a:lnTo>
                    <a:pt x="2984" y="135"/>
                  </a:lnTo>
                  <a:lnTo>
                    <a:pt x="2986" y="124"/>
                  </a:lnTo>
                  <a:lnTo>
                    <a:pt x="2988" y="115"/>
                  </a:lnTo>
                  <a:lnTo>
                    <a:pt x="2989" y="106"/>
                  </a:lnTo>
                  <a:lnTo>
                    <a:pt x="2991" y="99"/>
                  </a:lnTo>
                  <a:lnTo>
                    <a:pt x="2992" y="94"/>
                  </a:lnTo>
                  <a:lnTo>
                    <a:pt x="2993" y="90"/>
                  </a:lnTo>
                  <a:lnTo>
                    <a:pt x="2994" y="88"/>
                  </a:lnTo>
                  <a:lnTo>
                    <a:pt x="2997" y="89"/>
                  </a:lnTo>
                  <a:lnTo>
                    <a:pt x="2998" y="90"/>
                  </a:lnTo>
                  <a:lnTo>
                    <a:pt x="2999" y="95"/>
                  </a:lnTo>
                  <a:lnTo>
                    <a:pt x="3001" y="100"/>
                  </a:lnTo>
                  <a:lnTo>
                    <a:pt x="3002" y="107"/>
                  </a:lnTo>
                  <a:lnTo>
                    <a:pt x="3003" y="116"/>
                  </a:lnTo>
                  <a:lnTo>
                    <a:pt x="3005" y="126"/>
                  </a:lnTo>
                  <a:lnTo>
                    <a:pt x="3007" y="137"/>
                  </a:lnTo>
                  <a:lnTo>
                    <a:pt x="3008" y="148"/>
                  </a:lnTo>
                  <a:lnTo>
                    <a:pt x="3009" y="161"/>
                  </a:lnTo>
                  <a:lnTo>
                    <a:pt x="3011" y="175"/>
                  </a:lnTo>
                  <a:lnTo>
                    <a:pt x="3012" y="187"/>
                  </a:lnTo>
                  <a:lnTo>
                    <a:pt x="3013" y="200"/>
                  </a:lnTo>
                  <a:lnTo>
                    <a:pt x="3015" y="214"/>
                  </a:lnTo>
                  <a:lnTo>
                    <a:pt x="3017" y="226"/>
                  </a:lnTo>
                  <a:lnTo>
                    <a:pt x="3018" y="237"/>
                  </a:lnTo>
                  <a:lnTo>
                    <a:pt x="3019" y="247"/>
                  </a:lnTo>
                  <a:lnTo>
                    <a:pt x="3021" y="256"/>
                  </a:lnTo>
                  <a:lnTo>
                    <a:pt x="3022" y="263"/>
                  </a:lnTo>
                  <a:lnTo>
                    <a:pt x="3023" y="270"/>
                  </a:lnTo>
                  <a:lnTo>
                    <a:pt x="3026" y="273"/>
                  </a:lnTo>
                  <a:lnTo>
                    <a:pt x="3027" y="275"/>
                  </a:lnTo>
                  <a:lnTo>
                    <a:pt x="3028" y="275"/>
                  </a:lnTo>
                  <a:lnTo>
                    <a:pt x="3030" y="274"/>
                  </a:lnTo>
                  <a:lnTo>
                    <a:pt x="3031" y="271"/>
                  </a:lnTo>
                  <a:lnTo>
                    <a:pt x="3032" y="265"/>
                  </a:lnTo>
                  <a:lnTo>
                    <a:pt x="3033" y="258"/>
                  </a:lnTo>
                  <a:lnTo>
                    <a:pt x="3036" y="251"/>
                  </a:lnTo>
                  <a:lnTo>
                    <a:pt x="3037" y="241"/>
                  </a:lnTo>
                  <a:lnTo>
                    <a:pt x="3038" y="229"/>
                  </a:lnTo>
                  <a:lnTo>
                    <a:pt x="3040" y="217"/>
                  </a:lnTo>
                  <a:lnTo>
                    <a:pt x="3041" y="205"/>
                  </a:lnTo>
                  <a:lnTo>
                    <a:pt x="3042" y="192"/>
                  </a:lnTo>
                  <a:lnTo>
                    <a:pt x="3044" y="178"/>
                  </a:lnTo>
                  <a:lnTo>
                    <a:pt x="3046" y="165"/>
                  </a:lnTo>
                  <a:lnTo>
                    <a:pt x="3047" y="151"/>
                  </a:lnTo>
                  <a:lnTo>
                    <a:pt x="3048" y="139"/>
                  </a:lnTo>
                  <a:lnTo>
                    <a:pt x="3050" y="128"/>
                  </a:lnTo>
                  <a:lnTo>
                    <a:pt x="3051" y="117"/>
                  </a:lnTo>
                  <a:lnTo>
                    <a:pt x="3052" y="108"/>
                  </a:lnTo>
                  <a:lnTo>
                    <a:pt x="3055" y="100"/>
                  </a:lnTo>
                  <a:lnTo>
                    <a:pt x="3056" y="94"/>
                  </a:lnTo>
                  <a:lnTo>
                    <a:pt x="3057" y="89"/>
                  </a:lnTo>
                  <a:lnTo>
                    <a:pt x="3058" y="87"/>
                  </a:lnTo>
                  <a:lnTo>
                    <a:pt x="3060" y="86"/>
                  </a:lnTo>
                  <a:lnTo>
                    <a:pt x="3061" y="87"/>
                  </a:lnTo>
                  <a:lnTo>
                    <a:pt x="3062" y="90"/>
                  </a:lnTo>
                  <a:lnTo>
                    <a:pt x="3065" y="95"/>
                  </a:lnTo>
                  <a:lnTo>
                    <a:pt x="3066" y="101"/>
                  </a:lnTo>
                  <a:lnTo>
                    <a:pt x="3067" y="109"/>
                  </a:lnTo>
                  <a:lnTo>
                    <a:pt x="3069" y="119"/>
                  </a:lnTo>
                  <a:lnTo>
                    <a:pt x="3070" y="130"/>
                  </a:lnTo>
                  <a:lnTo>
                    <a:pt x="3071" y="141"/>
                  </a:lnTo>
                  <a:lnTo>
                    <a:pt x="3072" y="155"/>
                  </a:lnTo>
                  <a:lnTo>
                    <a:pt x="3075" y="168"/>
                  </a:lnTo>
                  <a:lnTo>
                    <a:pt x="3076" y="182"/>
                  </a:lnTo>
                  <a:lnTo>
                    <a:pt x="3077" y="195"/>
                  </a:lnTo>
                  <a:lnTo>
                    <a:pt x="3079" y="208"/>
                  </a:lnTo>
                  <a:lnTo>
                    <a:pt x="3080" y="222"/>
                  </a:lnTo>
                  <a:lnTo>
                    <a:pt x="3081" y="233"/>
                  </a:lnTo>
                  <a:lnTo>
                    <a:pt x="3084" y="244"/>
                  </a:lnTo>
                  <a:lnTo>
                    <a:pt x="3085" y="254"/>
                  </a:lnTo>
                  <a:lnTo>
                    <a:pt x="3086" y="262"/>
                  </a:lnTo>
                  <a:lnTo>
                    <a:pt x="3087" y="268"/>
                  </a:lnTo>
                  <a:lnTo>
                    <a:pt x="3089" y="274"/>
                  </a:lnTo>
                  <a:lnTo>
                    <a:pt x="3090" y="277"/>
                  </a:lnTo>
                  <a:lnTo>
                    <a:pt x="3091" y="278"/>
                  </a:lnTo>
                  <a:lnTo>
                    <a:pt x="3094" y="277"/>
                  </a:lnTo>
                  <a:lnTo>
                    <a:pt x="3095" y="275"/>
                  </a:lnTo>
                  <a:lnTo>
                    <a:pt x="3096" y="271"/>
                  </a:lnTo>
                  <a:lnTo>
                    <a:pt x="3098" y="264"/>
                  </a:lnTo>
                  <a:lnTo>
                    <a:pt x="3099" y="256"/>
                  </a:lnTo>
                  <a:lnTo>
                    <a:pt x="3100" y="246"/>
                  </a:lnTo>
                  <a:lnTo>
                    <a:pt x="3101" y="236"/>
                  </a:lnTo>
                  <a:lnTo>
                    <a:pt x="3104" y="224"/>
                  </a:lnTo>
                  <a:lnTo>
                    <a:pt x="3105" y="212"/>
                  </a:lnTo>
                  <a:lnTo>
                    <a:pt x="3106" y="198"/>
                  </a:lnTo>
                  <a:lnTo>
                    <a:pt x="3108" y="185"/>
                  </a:lnTo>
                  <a:lnTo>
                    <a:pt x="3109" y="170"/>
                  </a:lnTo>
                  <a:lnTo>
                    <a:pt x="3110" y="157"/>
                  </a:lnTo>
                  <a:lnTo>
                    <a:pt x="3111" y="144"/>
                  </a:lnTo>
                  <a:lnTo>
                    <a:pt x="3114" y="131"/>
                  </a:lnTo>
                  <a:lnTo>
                    <a:pt x="3115" y="120"/>
                  </a:lnTo>
                  <a:lnTo>
                    <a:pt x="3116" y="110"/>
                  </a:lnTo>
                  <a:lnTo>
                    <a:pt x="3118" y="101"/>
                  </a:lnTo>
                  <a:lnTo>
                    <a:pt x="3119" y="95"/>
                  </a:lnTo>
                  <a:lnTo>
                    <a:pt x="3120" y="89"/>
                  </a:lnTo>
                  <a:lnTo>
                    <a:pt x="3123" y="85"/>
                  </a:lnTo>
                  <a:lnTo>
                    <a:pt x="3124" y="83"/>
                  </a:lnTo>
                  <a:lnTo>
                    <a:pt x="3125" y="83"/>
                  </a:lnTo>
                  <a:lnTo>
                    <a:pt x="3126" y="86"/>
                  </a:lnTo>
                  <a:lnTo>
                    <a:pt x="3128" y="90"/>
                  </a:lnTo>
                  <a:lnTo>
                    <a:pt x="3129" y="96"/>
                  </a:lnTo>
                  <a:lnTo>
                    <a:pt x="3130" y="104"/>
                  </a:lnTo>
                  <a:lnTo>
                    <a:pt x="3133" y="112"/>
                  </a:lnTo>
                  <a:lnTo>
                    <a:pt x="3134" y="124"/>
                  </a:lnTo>
                  <a:lnTo>
                    <a:pt x="3135" y="136"/>
                  </a:lnTo>
                  <a:lnTo>
                    <a:pt x="3137" y="148"/>
                  </a:lnTo>
                  <a:lnTo>
                    <a:pt x="3138" y="161"/>
                  </a:lnTo>
                  <a:lnTo>
                    <a:pt x="3139" y="175"/>
                  </a:lnTo>
                  <a:lnTo>
                    <a:pt x="3140" y="189"/>
                  </a:lnTo>
                  <a:lnTo>
                    <a:pt x="3143" y="203"/>
                  </a:lnTo>
                  <a:lnTo>
                    <a:pt x="3144" y="216"/>
                  </a:lnTo>
                  <a:lnTo>
                    <a:pt x="3145" y="229"/>
                  </a:lnTo>
                  <a:lnTo>
                    <a:pt x="3147" y="241"/>
                  </a:lnTo>
                  <a:lnTo>
                    <a:pt x="3148" y="252"/>
                  </a:lnTo>
                  <a:lnTo>
                    <a:pt x="3149" y="261"/>
                  </a:lnTo>
                  <a:lnTo>
                    <a:pt x="3150" y="268"/>
                  </a:lnTo>
                  <a:lnTo>
                    <a:pt x="3153" y="274"/>
                  </a:lnTo>
                  <a:lnTo>
                    <a:pt x="3154" y="278"/>
                  </a:lnTo>
                  <a:lnTo>
                    <a:pt x="3155" y="281"/>
                  </a:lnTo>
                  <a:lnTo>
                    <a:pt x="3157" y="281"/>
                  </a:lnTo>
                  <a:lnTo>
                    <a:pt x="3158" y="278"/>
                  </a:lnTo>
                  <a:lnTo>
                    <a:pt x="3159" y="275"/>
                  </a:lnTo>
                  <a:lnTo>
                    <a:pt x="3162" y="270"/>
                  </a:lnTo>
                  <a:lnTo>
                    <a:pt x="3163" y="262"/>
                  </a:lnTo>
                  <a:lnTo>
                    <a:pt x="3164" y="253"/>
                  </a:lnTo>
                  <a:lnTo>
                    <a:pt x="3165" y="243"/>
                  </a:lnTo>
                  <a:lnTo>
                    <a:pt x="3167" y="231"/>
                  </a:lnTo>
                  <a:lnTo>
                    <a:pt x="3168" y="218"/>
                  </a:lnTo>
                  <a:lnTo>
                    <a:pt x="3169" y="205"/>
                  </a:lnTo>
                  <a:lnTo>
                    <a:pt x="3172" y="190"/>
                  </a:lnTo>
                  <a:lnTo>
                    <a:pt x="3173" y="177"/>
                  </a:lnTo>
                  <a:lnTo>
                    <a:pt x="3174" y="163"/>
                  </a:lnTo>
                  <a:lnTo>
                    <a:pt x="3176" y="149"/>
                  </a:lnTo>
                  <a:lnTo>
                    <a:pt x="3177" y="136"/>
                  </a:lnTo>
                  <a:lnTo>
                    <a:pt x="3178" y="124"/>
                  </a:lnTo>
                  <a:lnTo>
                    <a:pt x="3179" y="112"/>
                  </a:lnTo>
                  <a:lnTo>
                    <a:pt x="3182" y="104"/>
                  </a:lnTo>
                  <a:lnTo>
                    <a:pt x="3183" y="96"/>
                  </a:lnTo>
                  <a:lnTo>
                    <a:pt x="3184" y="89"/>
                  </a:lnTo>
                  <a:lnTo>
                    <a:pt x="3186" y="85"/>
                  </a:lnTo>
                  <a:lnTo>
                    <a:pt x="3187" y="81"/>
                  </a:lnTo>
                  <a:lnTo>
                    <a:pt x="3188" y="81"/>
                  </a:lnTo>
                  <a:lnTo>
                    <a:pt x="3191" y="82"/>
                  </a:lnTo>
                  <a:lnTo>
                    <a:pt x="3192" y="86"/>
                  </a:lnTo>
                  <a:lnTo>
                    <a:pt x="3193" y="91"/>
                  </a:lnTo>
                  <a:lnTo>
                    <a:pt x="3194" y="98"/>
                  </a:lnTo>
                  <a:lnTo>
                    <a:pt x="3196" y="107"/>
                  </a:lnTo>
                  <a:lnTo>
                    <a:pt x="3197" y="117"/>
                  </a:lnTo>
                  <a:lnTo>
                    <a:pt x="3198" y="129"/>
                  </a:lnTo>
                  <a:lnTo>
                    <a:pt x="3201" y="141"/>
                  </a:lnTo>
                  <a:lnTo>
                    <a:pt x="3202" y="155"/>
                  </a:lnTo>
                  <a:lnTo>
                    <a:pt x="3203" y="168"/>
                  </a:lnTo>
                  <a:lnTo>
                    <a:pt x="3204" y="183"/>
                  </a:lnTo>
                  <a:lnTo>
                    <a:pt x="3206" y="197"/>
                  </a:lnTo>
                  <a:lnTo>
                    <a:pt x="3207" y="211"/>
                  </a:lnTo>
                  <a:lnTo>
                    <a:pt x="3208" y="224"/>
                  </a:lnTo>
                  <a:lnTo>
                    <a:pt x="3211" y="236"/>
                  </a:lnTo>
                  <a:lnTo>
                    <a:pt x="3212" y="248"/>
                  </a:lnTo>
                  <a:lnTo>
                    <a:pt x="3213" y="258"/>
                  </a:lnTo>
                  <a:lnTo>
                    <a:pt x="3215" y="266"/>
                  </a:lnTo>
                  <a:lnTo>
                    <a:pt x="3216" y="274"/>
                  </a:lnTo>
                  <a:lnTo>
                    <a:pt x="3217" y="278"/>
                  </a:lnTo>
                  <a:lnTo>
                    <a:pt x="3219" y="282"/>
                  </a:lnTo>
                  <a:lnTo>
                    <a:pt x="3221" y="283"/>
                  </a:lnTo>
                  <a:lnTo>
                    <a:pt x="3222" y="282"/>
                  </a:lnTo>
                  <a:lnTo>
                    <a:pt x="3223" y="278"/>
                  </a:lnTo>
                  <a:lnTo>
                    <a:pt x="3225" y="274"/>
                  </a:lnTo>
                  <a:lnTo>
                    <a:pt x="3226" y="267"/>
                  </a:lnTo>
                  <a:lnTo>
                    <a:pt x="3227" y="258"/>
                  </a:lnTo>
                  <a:lnTo>
                    <a:pt x="3230" y="248"/>
                  </a:lnTo>
                  <a:lnTo>
                    <a:pt x="3231" y="237"/>
                  </a:lnTo>
                  <a:lnTo>
                    <a:pt x="3232" y="225"/>
                  </a:lnTo>
                  <a:lnTo>
                    <a:pt x="3233" y="212"/>
                  </a:lnTo>
                  <a:lnTo>
                    <a:pt x="3235" y="197"/>
                  </a:lnTo>
                  <a:lnTo>
                    <a:pt x="3236" y="183"/>
                  </a:lnTo>
                  <a:lnTo>
                    <a:pt x="3237" y="168"/>
                  </a:lnTo>
                  <a:lnTo>
                    <a:pt x="3240" y="155"/>
                  </a:lnTo>
                  <a:lnTo>
                    <a:pt x="3241" y="141"/>
                  </a:lnTo>
                  <a:lnTo>
                    <a:pt x="3242" y="128"/>
                  </a:lnTo>
                  <a:lnTo>
                    <a:pt x="3243" y="117"/>
                  </a:lnTo>
                  <a:lnTo>
                    <a:pt x="3245" y="106"/>
                  </a:lnTo>
                  <a:lnTo>
                    <a:pt x="3246" y="97"/>
                  </a:lnTo>
                  <a:lnTo>
                    <a:pt x="3248" y="90"/>
                  </a:lnTo>
                  <a:lnTo>
                    <a:pt x="3250" y="85"/>
                  </a:lnTo>
                  <a:lnTo>
                    <a:pt x="3251" y="80"/>
                  </a:lnTo>
                  <a:lnTo>
                    <a:pt x="3252" y="79"/>
                  </a:lnTo>
                  <a:lnTo>
                    <a:pt x="3254" y="80"/>
                  </a:lnTo>
                  <a:lnTo>
                    <a:pt x="3255" y="82"/>
                  </a:lnTo>
                  <a:lnTo>
                    <a:pt x="3256" y="87"/>
                  </a:lnTo>
                  <a:lnTo>
                    <a:pt x="3258" y="94"/>
                  </a:lnTo>
                  <a:lnTo>
                    <a:pt x="3260" y="101"/>
                  </a:lnTo>
                  <a:lnTo>
                    <a:pt x="3261" y="111"/>
                  </a:lnTo>
                  <a:lnTo>
                    <a:pt x="3262" y="122"/>
                  </a:lnTo>
                  <a:lnTo>
                    <a:pt x="3264" y="135"/>
                  </a:lnTo>
                  <a:lnTo>
                    <a:pt x="3265" y="148"/>
                  </a:lnTo>
                  <a:lnTo>
                    <a:pt x="3266" y="161"/>
                  </a:lnTo>
                  <a:lnTo>
                    <a:pt x="3269" y="176"/>
                  </a:lnTo>
                  <a:lnTo>
                    <a:pt x="3270" y="190"/>
                  </a:lnTo>
                  <a:lnTo>
                    <a:pt x="3271" y="205"/>
                  </a:lnTo>
                  <a:lnTo>
                    <a:pt x="3272" y="219"/>
                  </a:lnTo>
                  <a:lnTo>
                    <a:pt x="3274" y="232"/>
                  </a:lnTo>
                  <a:lnTo>
                    <a:pt x="3275" y="244"/>
                  </a:lnTo>
                  <a:lnTo>
                    <a:pt x="3277" y="255"/>
                  </a:lnTo>
                  <a:lnTo>
                    <a:pt x="3279" y="265"/>
                  </a:lnTo>
                  <a:lnTo>
                    <a:pt x="3280" y="273"/>
                  </a:lnTo>
                  <a:lnTo>
                    <a:pt x="3281" y="278"/>
                  </a:lnTo>
                  <a:lnTo>
                    <a:pt x="3282" y="282"/>
                  </a:lnTo>
                  <a:lnTo>
                    <a:pt x="3284" y="284"/>
                  </a:lnTo>
                  <a:lnTo>
                    <a:pt x="3285" y="284"/>
                  </a:lnTo>
                  <a:lnTo>
                    <a:pt x="3287" y="282"/>
                  </a:lnTo>
                  <a:lnTo>
                    <a:pt x="3289" y="278"/>
                  </a:lnTo>
                  <a:lnTo>
                    <a:pt x="3290" y="272"/>
                  </a:lnTo>
                  <a:lnTo>
                    <a:pt x="3291" y="264"/>
                  </a:lnTo>
                  <a:lnTo>
                    <a:pt x="3293" y="255"/>
                  </a:lnTo>
                  <a:lnTo>
                    <a:pt x="3294" y="244"/>
                  </a:lnTo>
                  <a:lnTo>
                    <a:pt x="3295" y="232"/>
                  </a:lnTo>
                  <a:lnTo>
                    <a:pt x="3297" y="218"/>
                  </a:lnTo>
                  <a:lnTo>
                    <a:pt x="3299" y="204"/>
                  </a:lnTo>
                  <a:lnTo>
                    <a:pt x="3300" y="189"/>
                  </a:lnTo>
                  <a:lnTo>
                    <a:pt x="3301" y="175"/>
                  </a:lnTo>
                  <a:lnTo>
                    <a:pt x="3303" y="160"/>
                  </a:lnTo>
                  <a:lnTo>
                    <a:pt x="3304" y="146"/>
                  </a:lnTo>
                  <a:lnTo>
                    <a:pt x="3306" y="133"/>
                  </a:lnTo>
                  <a:lnTo>
                    <a:pt x="3308" y="120"/>
                  </a:lnTo>
                  <a:lnTo>
                    <a:pt x="3309" y="109"/>
                  </a:lnTo>
                  <a:lnTo>
                    <a:pt x="3310" y="99"/>
                  </a:lnTo>
                  <a:lnTo>
                    <a:pt x="3311" y="91"/>
                  </a:lnTo>
                  <a:lnTo>
                    <a:pt x="3313" y="85"/>
                  </a:lnTo>
                  <a:lnTo>
                    <a:pt x="3314" y="80"/>
                  </a:lnTo>
                  <a:lnTo>
                    <a:pt x="3316" y="78"/>
                  </a:lnTo>
                  <a:lnTo>
                    <a:pt x="3318" y="77"/>
                  </a:lnTo>
                  <a:lnTo>
                    <a:pt x="3319" y="79"/>
                  </a:lnTo>
                  <a:lnTo>
                    <a:pt x="3320" y="82"/>
                  </a:lnTo>
                  <a:lnTo>
                    <a:pt x="3322" y="88"/>
                  </a:lnTo>
                  <a:lnTo>
                    <a:pt x="3323" y="96"/>
                  </a:lnTo>
                  <a:lnTo>
                    <a:pt x="3324" y="105"/>
                  </a:lnTo>
                  <a:lnTo>
                    <a:pt x="3326" y="116"/>
                  </a:lnTo>
                  <a:lnTo>
                    <a:pt x="3328" y="128"/>
                  </a:lnTo>
                  <a:lnTo>
                    <a:pt x="3329" y="141"/>
                  </a:lnTo>
                  <a:lnTo>
                    <a:pt x="3330" y="155"/>
                  </a:lnTo>
                  <a:lnTo>
                    <a:pt x="3332" y="169"/>
                  </a:lnTo>
                  <a:lnTo>
                    <a:pt x="3333" y="185"/>
                  </a:lnTo>
                  <a:lnTo>
                    <a:pt x="3335" y="199"/>
                  </a:lnTo>
                  <a:lnTo>
                    <a:pt x="3336" y="214"/>
                  </a:lnTo>
                  <a:lnTo>
                    <a:pt x="3338" y="227"/>
                  </a:lnTo>
                  <a:lnTo>
                    <a:pt x="3339" y="241"/>
                  </a:lnTo>
                  <a:lnTo>
                    <a:pt x="3340" y="252"/>
                  </a:lnTo>
                  <a:lnTo>
                    <a:pt x="3342" y="262"/>
                  </a:lnTo>
                  <a:lnTo>
                    <a:pt x="3343" y="271"/>
                  </a:lnTo>
                  <a:lnTo>
                    <a:pt x="3345" y="277"/>
                  </a:lnTo>
                  <a:lnTo>
                    <a:pt x="3347" y="283"/>
                  </a:lnTo>
                  <a:lnTo>
                    <a:pt x="3348" y="285"/>
                  </a:lnTo>
                  <a:lnTo>
                    <a:pt x="3349" y="286"/>
                  </a:lnTo>
                  <a:lnTo>
                    <a:pt x="3350" y="285"/>
                  </a:lnTo>
                  <a:lnTo>
                    <a:pt x="3352" y="282"/>
                  </a:lnTo>
                  <a:lnTo>
                    <a:pt x="3353" y="276"/>
                  </a:lnTo>
                  <a:lnTo>
                    <a:pt x="3355" y="270"/>
                  </a:lnTo>
                  <a:lnTo>
                    <a:pt x="3357" y="261"/>
                  </a:lnTo>
                  <a:lnTo>
                    <a:pt x="3358" y="249"/>
                  </a:lnTo>
                  <a:lnTo>
                    <a:pt x="3359" y="238"/>
                  </a:lnTo>
                  <a:lnTo>
                    <a:pt x="3361" y="225"/>
                  </a:lnTo>
                  <a:lnTo>
                    <a:pt x="3362" y="211"/>
                  </a:lnTo>
                  <a:lnTo>
                    <a:pt x="3364" y="196"/>
                  </a:lnTo>
                  <a:lnTo>
                    <a:pt x="3365" y="182"/>
                  </a:lnTo>
                  <a:lnTo>
                    <a:pt x="3367" y="167"/>
                  </a:lnTo>
                  <a:lnTo>
                    <a:pt x="3368" y="153"/>
                  </a:lnTo>
                  <a:lnTo>
                    <a:pt x="3369" y="138"/>
                  </a:lnTo>
                  <a:lnTo>
                    <a:pt x="3371" y="125"/>
                  </a:lnTo>
                  <a:lnTo>
                    <a:pt x="3372" y="112"/>
                  </a:lnTo>
                  <a:lnTo>
                    <a:pt x="3374" y="102"/>
                  </a:lnTo>
                  <a:lnTo>
                    <a:pt x="3375" y="94"/>
                  </a:lnTo>
                  <a:lnTo>
                    <a:pt x="3377" y="86"/>
                  </a:lnTo>
                  <a:lnTo>
                    <a:pt x="3378" y="80"/>
                  </a:lnTo>
                  <a:lnTo>
                    <a:pt x="3379" y="77"/>
                  </a:lnTo>
                  <a:lnTo>
                    <a:pt x="3381" y="76"/>
                  </a:lnTo>
                  <a:lnTo>
                    <a:pt x="3382" y="77"/>
                  </a:lnTo>
                  <a:lnTo>
                    <a:pt x="3384" y="79"/>
                  </a:lnTo>
                  <a:lnTo>
                    <a:pt x="3386" y="85"/>
                  </a:lnTo>
                  <a:lnTo>
                    <a:pt x="3387" y="91"/>
                  </a:lnTo>
                  <a:lnTo>
                    <a:pt x="3388" y="99"/>
                  </a:lnTo>
                  <a:lnTo>
                    <a:pt x="3389" y="110"/>
                  </a:lnTo>
                  <a:lnTo>
                    <a:pt x="3391" y="121"/>
                  </a:lnTo>
                  <a:lnTo>
                    <a:pt x="3393" y="135"/>
                  </a:lnTo>
                  <a:lnTo>
                    <a:pt x="3394" y="148"/>
                  </a:lnTo>
                  <a:lnTo>
                    <a:pt x="3396" y="163"/>
                  </a:lnTo>
                  <a:lnTo>
                    <a:pt x="3397" y="178"/>
                  </a:lnTo>
                  <a:lnTo>
                    <a:pt x="3398" y="193"/>
                  </a:lnTo>
                  <a:lnTo>
                    <a:pt x="3400" y="207"/>
                  </a:lnTo>
                  <a:lnTo>
                    <a:pt x="3401" y="222"/>
                  </a:lnTo>
                  <a:lnTo>
                    <a:pt x="3403" y="235"/>
                  </a:lnTo>
                  <a:lnTo>
                    <a:pt x="3404" y="247"/>
                  </a:lnTo>
                  <a:lnTo>
                    <a:pt x="3406" y="258"/>
                  </a:lnTo>
                  <a:lnTo>
                    <a:pt x="3407" y="268"/>
                  </a:lnTo>
                  <a:lnTo>
                    <a:pt x="3408" y="276"/>
                  </a:lnTo>
                  <a:lnTo>
                    <a:pt x="3410" y="282"/>
                  </a:lnTo>
                  <a:lnTo>
                    <a:pt x="3411" y="286"/>
                  </a:lnTo>
                  <a:lnTo>
                    <a:pt x="3413" y="287"/>
                  </a:lnTo>
                  <a:lnTo>
                    <a:pt x="3414" y="287"/>
                  </a:lnTo>
                  <a:lnTo>
                    <a:pt x="3416" y="285"/>
                  </a:lnTo>
                  <a:lnTo>
                    <a:pt x="3417" y="281"/>
                  </a:lnTo>
                  <a:lnTo>
                    <a:pt x="3418" y="274"/>
                  </a:lnTo>
                  <a:lnTo>
                    <a:pt x="3420" y="266"/>
                  </a:lnTo>
                  <a:lnTo>
                    <a:pt x="3422" y="256"/>
                  </a:lnTo>
                  <a:lnTo>
                    <a:pt x="3423" y="244"/>
                  </a:lnTo>
                  <a:lnTo>
                    <a:pt x="3425" y="232"/>
                  </a:lnTo>
                  <a:lnTo>
                    <a:pt x="3426" y="217"/>
                  </a:lnTo>
                  <a:lnTo>
                    <a:pt x="3427" y="203"/>
                  </a:lnTo>
                  <a:lnTo>
                    <a:pt x="3428" y="188"/>
                  </a:lnTo>
                  <a:lnTo>
                    <a:pt x="3430" y="173"/>
                  </a:lnTo>
                  <a:lnTo>
                    <a:pt x="3432" y="158"/>
                  </a:lnTo>
                  <a:lnTo>
                    <a:pt x="3433" y="144"/>
                  </a:lnTo>
                  <a:lnTo>
                    <a:pt x="3435" y="130"/>
                  </a:lnTo>
                  <a:lnTo>
                    <a:pt x="3436" y="117"/>
                  </a:lnTo>
                  <a:lnTo>
                    <a:pt x="3437" y="106"/>
                  </a:lnTo>
                  <a:lnTo>
                    <a:pt x="3439" y="96"/>
                  </a:lnTo>
                  <a:lnTo>
                    <a:pt x="3441" y="88"/>
                  </a:lnTo>
                  <a:lnTo>
                    <a:pt x="3442" y="81"/>
                  </a:lnTo>
                  <a:lnTo>
                    <a:pt x="3443" y="77"/>
                  </a:lnTo>
                  <a:lnTo>
                    <a:pt x="3445" y="75"/>
                  </a:lnTo>
                  <a:lnTo>
                    <a:pt x="3446" y="75"/>
                  </a:lnTo>
                  <a:lnTo>
                    <a:pt x="3447" y="76"/>
                  </a:lnTo>
                  <a:lnTo>
                    <a:pt x="3449" y="80"/>
                  </a:lnTo>
                  <a:lnTo>
                    <a:pt x="3451" y="87"/>
                  </a:lnTo>
                  <a:lnTo>
                    <a:pt x="3452" y="95"/>
                  </a:lnTo>
                  <a:lnTo>
                    <a:pt x="3454" y="105"/>
                  </a:lnTo>
                  <a:lnTo>
                    <a:pt x="3455" y="116"/>
                  </a:lnTo>
                  <a:lnTo>
                    <a:pt x="3456" y="128"/>
                  </a:lnTo>
                  <a:lnTo>
                    <a:pt x="3457" y="141"/>
                  </a:lnTo>
                  <a:lnTo>
                    <a:pt x="3459" y="156"/>
                  </a:lnTo>
                  <a:lnTo>
                    <a:pt x="3461" y="172"/>
                  </a:lnTo>
                  <a:lnTo>
                    <a:pt x="3462" y="186"/>
                  </a:lnTo>
                  <a:lnTo>
                    <a:pt x="3464" y="202"/>
                  </a:lnTo>
                  <a:lnTo>
                    <a:pt x="3465" y="216"/>
                  </a:lnTo>
                  <a:lnTo>
                    <a:pt x="3466" y="231"/>
                  </a:lnTo>
                  <a:lnTo>
                    <a:pt x="3467" y="243"/>
                  </a:lnTo>
                  <a:lnTo>
                    <a:pt x="3470" y="255"/>
                  </a:lnTo>
                  <a:lnTo>
                    <a:pt x="3471" y="265"/>
                  </a:lnTo>
                  <a:lnTo>
                    <a:pt x="3472" y="274"/>
                  </a:lnTo>
                  <a:lnTo>
                    <a:pt x="3474" y="281"/>
                  </a:lnTo>
                  <a:lnTo>
                    <a:pt x="3475" y="286"/>
                  </a:lnTo>
                  <a:lnTo>
                    <a:pt x="3476" y="288"/>
                  </a:lnTo>
                  <a:lnTo>
                    <a:pt x="3478" y="290"/>
                  </a:lnTo>
                  <a:lnTo>
                    <a:pt x="3480" y="287"/>
                  </a:lnTo>
                  <a:lnTo>
                    <a:pt x="3481" y="284"/>
                  </a:lnTo>
                  <a:lnTo>
                    <a:pt x="3482" y="278"/>
                  </a:lnTo>
                  <a:lnTo>
                    <a:pt x="3484" y="271"/>
                  </a:lnTo>
                  <a:lnTo>
                    <a:pt x="3485" y="262"/>
                  </a:lnTo>
                  <a:lnTo>
                    <a:pt x="3486" y="251"/>
                  </a:lnTo>
                  <a:lnTo>
                    <a:pt x="3488" y="238"/>
                  </a:lnTo>
                  <a:lnTo>
                    <a:pt x="3490" y="224"/>
                  </a:lnTo>
                  <a:lnTo>
                    <a:pt x="3491" y="211"/>
                  </a:lnTo>
                  <a:lnTo>
                    <a:pt x="3493" y="195"/>
                  </a:lnTo>
                  <a:lnTo>
                    <a:pt x="3494" y="179"/>
                  </a:lnTo>
                  <a:lnTo>
                    <a:pt x="3495" y="165"/>
                  </a:lnTo>
                  <a:lnTo>
                    <a:pt x="3496" y="149"/>
                  </a:lnTo>
                  <a:lnTo>
                    <a:pt x="3499" y="135"/>
                  </a:lnTo>
                  <a:lnTo>
                    <a:pt x="3500" y="121"/>
                  </a:lnTo>
                  <a:lnTo>
                    <a:pt x="3501" y="110"/>
                  </a:lnTo>
                  <a:lnTo>
                    <a:pt x="3503" y="99"/>
                  </a:lnTo>
                  <a:lnTo>
                    <a:pt x="3504" y="90"/>
                  </a:lnTo>
                  <a:lnTo>
                    <a:pt x="3505" y="82"/>
                  </a:lnTo>
                  <a:lnTo>
                    <a:pt x="3506" y="77"/>
                  </a:lnTo>
                  <a:lnTo>
                    <a:pt x="3509" y="73"/>
                  </a:lnTo>
                  <a:lnTo>
                    <a:pt x="3510" y="72"/>
                  </a:lnTo>
                  <a:lnTo>
                    <a:pt x="3511" y="73"/>
                  </a:lnTo>
                  <a:lnTo>
                    <a:pt x="3513" y="77"/>
                  </a:lnTo>
                  <a:lnTo>
                    <a:pt x="3514" y="82"/>
                  </a:lnTo>
                  <a:lnTo>
                    <a:pt x="3515" y="89"/>
                  </a:lnTo>
                  <a:lnTo>
                    <a:pt x="3517" y="99"/>
                  </a:lnTo>
                  <a:lnTo>
                    <a:pt x="3519" y="109"/>
                  </a:lnTo>
                  <a:lnTo>
                    <a:pt x="3520" y="121"/>
                  </a:lnTo>
                  <a:lnTo>
                    <a:pt x="3521" y="135"/>
                  </a:lnTo>
                  <a:lnTo>
                    <a:pt x="3523" y="149"/>
                  </a:lnTo>
                  <a:lnTo>
                    <a:pt x="3524" y="164"/>
                  </a:lnTo>
                  <a:lnTo>
                    <a:pt x="3525" y="179"/>
                  </a:lnTo>
                  <a:lnTo>
                    <a:pt x="3528" y="195"/>
                  </a:lnTo>
                  <a:lnTo>
                    <a:pt x="3529" y="211"/>
                  </a:lnTo>
                  <a:lnTo>
                    <a:pt x="3530" y="225"/>
                  </a:lnTo>
                  <a:lnTo>
                    <a:pt x="3532" y="238"/>
                  </a:lnTo>
                  <a:lnTo>
                    <a:pt x="3533" y="251"/>
                  </a:lnTo>
                  <a:lnTo>
                    <a:pt x="3534" y="262"/>
                  </a:lnTo>
                  <a:lnTo>
                    <a:pt x="3535" y="272"/>
                  </a:lnTo>
                  <a:lnTo>
                    <a:pt x="3538" y="280"/>
                  </a:lnTo>
                  <a:lnTo>
                    <a:pt x="3539" y="285"/>
                  </a:lnTo>
                  <a:lnTo>
                    <a:pt x="3540" y="288"/>
                  </a:lnTo>
                  <a:lnTo>
                    <a:pt x="3542" y="291"/>
                  </a:lnTo>
                  <a:lnTo>
                    <a:pt x="3543" y="290"/>
                  </a:lnTo>
                  <a:lnTo>
                    <a:pt x="3544" y="287"/>
                  </a:lnTo>
                  <a:lnTo>
                    <a:pt x="3546" y="282"/>
                  </a:lnTo>
                  <a:lnTo>
                    <a:pt x="3548" y="275"/>
                  </a:lnTo>
                  <a:lnTo>
                    <a:pt x="3549" y="266"/>
                  </a:lnTo>
                  <a:lnTo>
                    <a:pt x="3550" y="256"/>
                  </a:lnTo>
                  <a:lnTo>
                    <a:pt x="3552" y="244"/>
                  </a:lnTo>
                  <a:lnTo>
                    <a:pt x="3553" y="231"/>
                  </a:lnTo>
                  <a:lnTo>
                    <a:pt x="3554" y="217"/>
                  </a:lnTo>
                  <a:lnTo>
                    <a:pt x="3557" y="202"/>
                  </a:lnTo>
                  <a:lnTo>
                    <a:pt x="3558" y="187"/>
                  </a:lnTo>
                  <a:lnTo>
                    <a:pt x="3559" y="172"/>
                  </a:lnTo>
                  <a:lnTo>
                    <a:pt x="3560" y="156"/>
                  </a:lnTo>
                  <a:lnTo>
                    <a:pt x="3562" y="141"/>
                  </a:lnTo>
                  <a:lnTo>
                    <a:pt x="3563" y="127"/>
                  </a:lnTo>
                  <a:lnTo>
                    <a:pt x="3564" y="115"/>
                  </a:lnTo>
                  <a:lnTo>
                    <a:pt x="3567" y="102"/>
                  </a:lnTo>
                  <a:lnTo>
                    <a:pt x="3568" y="92"/>
                  </a:lnTo>
                  <a:lnTo>
                    <a:pt x="3569" y="85"/>
                  </a:lnTo>
                  <a:lnTo>
                    <a:pt x="3571" y="78"/>
                  </a:lnTo>
                  <a:lnTo>
                    <a:pt x="3572" y="73"/>
                  </a:lnTo>
                  <a:lnTo>
                    <a:pt x="3573" y="72"/>
                  </a:lnTo>
                  <a:lnTo>
                    <a:pt x="3574" y="72"/>
                  </a:lnTo>
                  <a:lnTo>
                    <a:pt x="3577" y="75"/>
                  </a:lnTo>
                  <a:lnTo>
                    <a:pt x="3578" y="79"/>
                  </a:lnTo>
                  <a:lnTo>
                    <a:pt x="3579" y="85"/>
                  </a:lnTo>
                  <a:lnTo>
                    <a:pt x="3581" y="94"/>
                  </a:lnTo>
                  <a:lnTo>
                    <a:pt x="3582" y="104"/>
                  </a:lnTo>
                  <a:lnTo>
                    <a:pt x="3583" y="116"/>
                  </a:lnTo>
                  <a:lnTo>
                    <a:pt x="3586" y="128"/>
                  </a:lnTo>
                  <a:lnTo>
                    <a:pt x="3587" y="143"/>
                  </a:lnTo>
                  <a:lnTo>
                    <a:pt x="3588" y="157"/>
                  </a:lnTo>
                  <a:lnTo>
                    <a:pt x="3589" y="173"/>
                  </a:lnTo>
                  <a:lnTo>
                    <a:pt x="3591" y="188"/>
                  </a:lnTo>
                  <a:lnTo>
                    <a:pt x="3592" y="204"/>
                  </a:lnTo>
                  <a:lnTo>
                    <a:pt x="3593" y="218"/>
                  </a:lnTo>
                  <a:lnTo>
                    <a:pt x="3596" y="233"/>
                  </a:lnTo>
                  <a:lnTo>
                    <a:pt x="3597" y="246"/>
                  </a:lnTo>
                  <a:lnTo>
                    <a:pt x="3598" y="258"/>
                  </a:lnTo>
                  <a:lnTo>
                    <a:pt x="3599" y="268"/>
                  </a:lnTo>
                  <a:lnTo>
                    <a:pt x="3601" y="277"/>
                  </a:lnTo>
                  <a:lnTo>
                    <a:pt x="3602" y="284"/>
                  </a:lnTo>
                  <a:lnTo>
                    <a:pt x="3603" y="288"/>
                  </a:lnTo>
                  <a:lnTo>
                    <a:pt x="3606" y="291"/>
                  </a:lnTo>
                  <a:lnTo>
                    <a:pt x="3607" y="292"/>
                  </a:lnTo>
                  <a:lnTo>
                    <a:pt x="3608" y="290"/>
                  </a:lnTo>
                  <a:lnTo>
                    <a:pt x="3610" y="286"/>
                  </a:lnTo>
                  <a:lnTo>
                    <a:pt x="3611" y="280"/>
                  </a:lnTo>
                  <a:lnTo>
                    <a:pt x="3612" y="272"/>
                  </a:lnTo>
                  <a:lnTo>
                    <a:pt x="3613" y="262"/>
                  </a:lnTo>
                  <a:lnTo>
                    <a:pt x="3616" y="251"/>
                  </a:lnTo>
                  <a:lnTo>
                    <a:pt x="3617" y="237"/>
                  </a:lnTo>
                  <a:lnTo>
                    <a:pt x="3618" y="224"/>
                  </a:lnTo>
                  <a:lnTo>
                    <a:pt x="3620" y="209"/>
                  </a:lnTo>
                  <a:lnTo>
                    <a:pt x="3621" y="194"/>
                  </a:lnTo>
                  <a:lnTo>
                    <a:pt x="3622" y="178"/>
                  </a:lnTo>
                  <a:lnTo>
                    <a:pt x="3625" y="163"/>
                  </a:lnTo>
                  <a:lnTo>
                    <a:pt x="3626" y="147"/>
                  </a:lnTo>
                  <a:lnTo>
                    <a:pt x="3627" y="133"/>
                  </a:lnTo>
                  <a:lnTo>
                    <a:pt x="3628" y="119"/>
                  </a:lnTo>
                  <a:lnTo>
                    <a:pt x="3630" y="107"/>
                  </a:lnTo>
                  <a:lnTo>
                    <a:pt x="3631" y="96"/>
                  </a:lnTo>
                  <a:lnTo>
                    <a:pt x="3632" y="87"/>
                  </a:lnTo>
                  <a:lnTo>
                    <a:pt x="3635" y="80"/>
                  </a:lnTo>
                  <a:lnTo>
                    <a:pt x="3636" y="75"/>
                  </a:lnTo>
                  <a:lnTo>
                    <a:pt x="3637" y="71"/>
                  </a:lnTo>
                  <a:lnTo>
                    <a:pt x="3638" y="70"/>
                  </a:lnTo>
                  <a:lnTo>
                    <a:pt x="3640" y="72"/>
                  </a:lnTo>
                  <a:lnTo>
                    <a:pt x="3641" y="76"/>
                  </a:lnTo>
                  <a:lnTo>
                    <a:pt x="3642" y="81"/>
                  </a:lnTo>
                  <a:lnTo>
                    <a:pt x="3645" y="89"/>
                  </a:lnTo>
                  <a:lnTo>
                    <a:pt x="3646" y="98"/>
                  </a:lnTo>
                  <a:lnTo>
                    <a:pt x="3647" y="109"/>
                  </a:lnTo>
                  <a:lnTo>
                    <a:pt x="3649" y="121"/>
                  </a:lnTo>
                  <a:lnTo>
                    <a:pt x="3650" y="136"/>
                  </a:lnTo>
                  <a:lnTo>
                    <a:pt x="3651" y="150"/>
                  </a:lnTo>
                  <a:lnTo>
                    <a:pt x="3652" y="166"/>
                  </a:lnTo>
                  <a:lnTo>
                    <a:pt x="3655" y="182"/>
                  </a:lnTo>
                  <a:lnTo>
                    <a:pt x="3656" y="197"/>
                  </a:lnTo>
                  <a:lnTo>
                    <a:pt x="3657" y="213"/>
                  </a:lnTo>
                  <a:lnTo>
                    <a:pt x="3659" y="227"/>
                  </a:lnTo>
                  <a:lnTo>
                    <a:pt x="3660" y="241"/>
                  </a:lnTo>
                  <a:lnTo>
                    <a:pt x="3661" y="253"/>
                  </a:lnTo>
                  <a:lnTo>
                    <a:pt x="3664" y="265"/>
                  </a:lnTo>
                  <a:lnTo>
                    <a:pt x="3665" y="274"/>
                  </a:lnTo>
                  <a:lnTo>
                    <a:pt x="3666" y="282"/>
                  </a:lnTo>
                  <a:lnTo>
                    <a:pt x="3667" y="287"/>
                  </a:lnTo>
                  <a:lnTo>
                    <a:pt x="3669" y="291"/>
                  </a:lnTo>
                  <a:lnTo>
                    <a:pt x="3670" y="293"/>
                  </a:lnTo>
                  <a:lnTo>
                    <a:pt x="3671" y="292"/>
                  </a:lnTo>
                  <a:lnTo>
                    <a:pt x="3674" y="288"/>
                  </a:lnTo>
                  <a:lnTo>
                    <a:pt x="3675" y="283"/>
                  </a:lnTo>
                  <a:lnTo>
                    <a:pt x="3676" y="276"/>
                  </a:lnTo>
                  <a:lnTo>
                    <a:pt x="3678" y="267"/>
                  </a:lnTo>
                  <a:lnTo>
                    <a:pt x="3679" y="256"/>
                  </a:lnTo>
                  <a:lnTo>
                    <a:pt x="3680" y="244"/>
                  </a:lnTo>
                  <a:lnTo>
                    <a:pt x="3681" y="231"/>
                  </a:lnTo>
                  <a:lnTo>
                    <a:pt x="3684" y="216"/>
                  </a:lnTo>
                  <a:lnTo>
                    <a:pt x="3685" y="200"/>
                  </a:lnTo>
                  <a:lnTo>
                    <a:pt x="3686" y="185"/>
                  </a:lnTo>
                  <a:lnTo>
                    <a:pt x="3688" y="169"/>
                  </a:lnTo>
                  <a:lnTo>
                    <a:pt x="3689" y="154"/>
                  </a:lnTo>
                  <a:lnTo>
                    <a:pt x="3690" y="139"/>
                  </a:lnTo>
                  <a:lnTo>
                    <a:pt x="3692" y="125"/>
                  </a:lnTo>
                  <a:lnTo>
                    <a:pt x="3694" y="111"/>
                  </a:lnTo>
                  <a:lnTo>
                    <a:pt x="3695" y="100"/>
                  </a:lnTo>
                  <a:lnTo>
                    <a:pt x="3696" y="90"/>
                  </a:lnTo>
                  <a:lnTo>
                    <a:pt x="3698" y="82"/>
                  </a:lnTo>
                  <a:lnTo>
                    <a:pt x="3699" y="76"/>
                  </a:lnTo>
                  <a:lnTo>
                    <a:pt x="3700" y="72"/>
                  </a:lnTo>
                  <a:lnTo>
                    <a:pt x="3703" y="70"/>
                  </a:lnTo>
                  <a:lnTo>
                    <a:pt x="3704" y="70"/>
                  </a:lnTo>
                  <a:lnTo>
                    <a:pt x="3705" y="72"/>
                  </a:lnTo>
                  <a:lnTo>
                    <a:pt x="3706" y="78"/>
                  </a:lnTo>
                  <a:lnTo>
                    <a:pt x="3708" y="85"/>
                  </a:lnTo>
                  <a:lnTo>
                    <a:pt x="3709" y="94"/>
                  </a:lnTo>
                  <a:lnTo>
                    <a:pt x="3710" y="104"/>
                  </a:lnTo>
                  <a:lnTo>
                    <a:pt x="3713" y="116"/>
                  </a:lnTo>
                  <a:lnTo>
                    <a:pt x="3714" y="129"/>
                  </a:lnTo>
                  <a:lnTo>
                    <a:pt x="3715" y="144"/>
                  </a:lnTo>
                  <a:lnTo>
                    <a:pt x="3717" y="158"/>
                  </a:lnTo>
                  <a:lnTo>
                    <a:pt x="3718" y="174"/>
                  </a:lnTo>
                  <a:lnTo>
                    <a:pt x="3719" y="189"/>
                  </a:lnTo>
                  <a:lnTo>
                    <a:pt x="3721" y="205"/>
                  </a:lnTo>
                  <a:lnTo>
                    <a:pt x="3723" y="221"/>
                  </a:lnTo>
                  <a:lnTo>
                    <a:pt x="3724" y="235"/>
                  </a:lnTo>
                  <a:lnTo>
                    <a:pt x="3725" y="248"/>
                  </a:lnTo>
                  <a:lnTo>
                    <a:pt x="3727" y="261"/>
                  </a:lnTo>
                  <a:lnTo>
                    <a:pt x="3728" y="271"/>
                  </a:lnTo>
                  <a:lnTo>
                    <a:pt x="3729" y="280"/>
                  </a:lnTo>
                  <a:lnTo>
                    <a:pt x="3731" y="286"/>
                  </a:lnTo>
                  <a:lnTo>
                    <a:pt x="3733" y="291"/>
                  </a:lnTo>
                  <a:lnTo>
                    <a:pt x="3734" y="293"/>
                  </a:lnTo>
                  <a:lnTo>
                    <a:pt x="3735" y="293"/>
                  </a:lnTo>
                  <a:lnTo>
                    <a:pt x="3737" y="291"/>
                  </a:lnTo>
                  <a:lnTo>
                    <a:pt x="3738" y="286"/>
                  </a:lnTo>
                  <a:lnTo>
                    <a:pt x="3739" y="281"/>
                  </a:lnTo>
                  <a:lnTo>
                    <a:pt x="3742" y="272"/>
                  </a:lnTo>
                  <a:lnTo>
                    <a:pt x="3743" y="262"/>
                  </a:lnTo>
                  <a:lnTo>
                    <a:pt x="3744" y="251"/>
                  </a:lnTo>
                  <a:lnTo>
                    <a:pt x="3745" y="237"/>
                  </a:lnTo>
                  <a:lnTo>
                    <a:pt x="3747" y="223"/>
                  </a:lnTo>
                  <a:lnTo>
                    <a:pt x="3748" y="208"/>
                  </a:lnTo>
                  <a:lnTo>
                    <a:pt x="3750" y="193"/>
                  </a:lnTo>
                  <a:lnTo>
                    <a:pt x="3752" y="176"/>
                  </a:lnTo>
                  <a:lnTo>
                    <a:pt x="3753" y="160"/>
                  </a:lnTo>
                  <a:lnTo>
                    <a:pt x="3754" y="146"/>
                  </a:lnTo>
                  <a:lnTo>
                    <a:pt x="3756" y="130"/>
                  </a:lnTo>
                  <a:lnTo>
                    <a:pt x="3757" y="117"/>
                  </a:lnTo>
                  <a:lnTo>
                    <a:pt x="3758" y="105"/>
                  </a:lnTo>
                  <a:lnTo>
                    <a:pt x="3760" y="95"/>
                  </a:lnTo>
                  <a:lnTo>
                    <a:pt x="3762" y="85"/>
                  </a:lnTo>
                  <a:lnTo>
                    <a:pt x="3763" y="78"/>
                  </a:lnTo>
                  <a:lnTo>
                    <a:pt x="3764" y="72"/>
                  </a:lnTo>
                  <a:lnTo>
                    <a:pt x="3766" y="70"/>
                  </a:lnTo>
                  <a:lnTo>
                    <a:pt x="3767" y="69"/>
                  </a:lnTo>
                  <a:lnTo>
                    <a:pt x="3768" y="71"/>
                  </a:lnTo>
                  <a:lnTo>
                    <a:pt x="3771" y="75"/>
                  </a:lnTo>
                  <a:lnTo>
                    <a:pt x="3772" y="80"/>
                  </a:lnTo>
                  <a:lnTo>
                    <a:pt x="3773" y="88"/>
                  </a:lnTo>
                  <a:lnTo>
                    <a:pt x="3774" y="98"/>
                  </a:lnTo>
                  <a:lnTo>
                    <a:pt x="3776" y="109"/>
                  </a:lnTo>
                  <a:lnTo>
                    <a:pt x="3777" y="122"/>
                  </a:lnTo>
                  <a:lnTo>
                    <a:pt x="3779" y="136"/>
                  </a:lnTo>
                  <a:lnTo>
                    <a:pt x="3781" y="151"/>
                  </a:lnTo>
                  <a:lnTo>
                    <a:pt x="3782" y="167"/>
                  </a:lnTo>
                  <a:lnTo>
                    <a:pt x="3783" y="183"/>
                  </a:lnTo>
                  <a:lnTo>
                    <a:pt x="3784" y="198"/>
                  </a:lnTo>
                  <a:lnTo>
                    <a:pt x="3786" y="214"/>
                  </a:lnTo>
                  <a:lnTo>
                    <a:pt x="3787" y="228"/>
                  </a:lnTo>
                  <a:lnTo>
                    <a:pt x="3789" y="243"/>
                  </a:lnTo>
                  <a:lnTo>
                    <a:pt x="3791" y="255"/>
                  </a:lnTo>
                  <a:lnTo>
                    <a:pt x="3792" y="266"/>
                  </a:lnTo>
                  <a:lnTo>
                    <a:pt x="3793" y="276"/>
                  </a:lnTo>
                  <a:lnTo>
                    <a:pt x="3795" y="284"/>
                  </a:lnTo>
                  <a:lnTo>
                    <a:pt x="3796" y="290"/>
                  </a:lnTo>
                  <a:lnTo>
                    <a:pt x="3797" y="293"/>
                  </a:lnTo>
                  <a:lnTo>
                    <a:pt x="3799" y="294"/>
                  </a:lnTo>
                  <a:lnTo>
                    <a:pt x="3801" y="293"/>
                  </a:lnTo>
                  <a:lnTo>
                    <a:pt x="3802" y="290"/>
                  </a:lnTo>
                  <a:lnTo>
                    <a:pt x="3803" y="284"/>
                  </a:lnTo>
                  <a:lnTo>
                    <a:pt x="3805" y="276"/>
                  </a:lnTo>
                  <a:lnTo>
                    <a:pt x="3806" y="267"/>
                  </a:lnTo>
                  <a:lnTo>
                    <a:pt x="3808" y="256"/>
                  </a:lnTo>
                  <a:lnTo>
                    <a:pt x="3810" y="244"/>
                  </a:lnTo>
                  <a:lnTo>
                    <a:pt x="3811" y="229"/>
                  </a:lnTo>
                  <a:lnTo>
                    <a:pt x="3812" y="215"/>
                  </a:lnTo>
                  <a:lnTo>
                    <a:pt x="3813" y="199"/>
                  </a:lnTo>
                  <a:lnTo>
                    <a:pt x="3815" y="184"/>
                  </a:lnTo>
                  <a:lnTo>
                    <a:pt x="3816" y="168"/>
                  </a:lnTo>
                  <a:lnTo>
                    <a:pt x="3818" y="153"/>
                  </a:lnTo>
                  <a:lnTo>
                    <a:pt x="3820" y="137"/>
                  </a:lnTo>
                  <a:lnTo>
                    <a:pt x="3821" y="124"/>
                  </a:lnTo>
                  <a:lnTo>
                    <a:pt x="3822" y="110"/>
                  </a:lnTo>
                  <a:lnTo>
                    <a:pt x="3823" y="98"/>
                  </a:lnTo>
                  <a:lnTo>
                    <a:pt x="3825" y="89"/>
                  </a:lnTo>
                  <a:lnTo>
                    <a:pt x="3826" y="80"/>
                  </a:lnTo>
                  <a:lnTo>
                    <a:pt x="3828" y="75"/>
                  </a:lnTo>
                  <a:lnTo>
                    <a:pt x="3830" y="70"/>
                  </a:lnTo>
                  <a:lnTo>
                    <a:pt x="3831" y="69"/>
                  </a:lnTo>
                  <a:lnTo>
                    <a:pt x="3832" y="69"/>
                  </a:lnTo>
                  <a:lnTo>
                    <a:pt x="3834" y="72"/>
                  </a:lnTo>
                  <a:lnTo>
                    <a:pt x="3835" y="77"/>
                  </a:lnTo>
                  <a:lnTo>
                    <a:pt x="3837" y="83"/>
                  </a:lnTo>
                  <a:lnTo>
                    <a:pt x="3838" y="94"/>
                  </a:lnTo>
                  <a:lnTo>
                    <a:pt x="3840" y="104"/>
                  </a:lnTo>
                  <a:lnTo>
                    <a:pt x="3841" y="116"/>
                  </a:lnTo>
                  <a:lnTo>
                    <a:pt x="3842" y="129"/>
                  </a:lnTo>
                  <a:lnTo>
                    <a:pt x="3844" y="144"/>
                  </a:lnTo>
                  <a:lnTo>
                    <a:pt x="3845" y="159"/>
                  </a:lnTo>
                  <a:lnTo>
                    <a:pt x="3847" y="175"/>
                  </a:lnTo>
                  <a:lnTo>
                    <a:pt x="3849" y="192"/>
                  </a:lnTo>
                  <a:lnTo>
                    <a:pt x="3850" y="207"/>
                  </a:lnTo>
                  <a:lnTo>
                    <a:pt x="3851" y="222"/>
                  </a:lnTo>
                  <a:lnTo>
                    <a:pt x="3852" y="236"/>
                  </a:lnTo>
                  <a:lnTo>
                    <a:pt x="3854" y="249"/>
                  </a:lnTo>
                  <a:lnTo>
                    <a:pt x="3855" y="262"/>
                  </a:lnTo>
                  <a:lnTo>
                    <a:pt x="3857" y="272"/>
                  </a:lnTo>
                  <a:lnTo>
                    <a:pt x="3859" y="281"/>
                  </a:lnTo>
                  <a:lnTo>
                    <a:pt x="3860" y="287"/>
                  </a:lnTo>
                  <a:lnTo>
                    <a:pt x="3861" y="292"/>
                  </a:lnTo>
                  <a:lnTo>
                    <a:pt x="3862" y="294"/>
                  </a:lnTo>
                  <a:lnTo>
                    <a:pt x="3864" y="294"/>
                  </a:lnTo>
                  <a:lnTo>
                    <a:pt x="3866" y="292"/>
                  </a:lnTo>
                  <a:lnTo>
                    <a:pt x="3867" y="287"/>
                  </a:lnTo>
                  <a:lnTo>
                    <a:pt x="3869" y="281"/>
                  </a:lnTo>
                  <a:lnTo>
                    <a:pt x="3870" y="272"/>
                  </a:lnTo>
                  <a:lnTo>
                    <a:pt x="3871" y="262"/>
                  </a:lnTo>
                  <a:lnTo>
                    <a:pt x="3873" y="249"/>
                  </a:lnTo>
                  <a:lnTo>
                    <a:pt x="3874" y="236"/>
                  </a:lnTo>
                  <a:lnTo>
                    <a:pt x="3876" y="222"/>
                  </a:lnTo>
                  <a:lnTo>
                    <a:pt x="3877" y="207"/>
                  </a:lnTo>
                  <a:lnTo>
                    <a:pt x="3879" y="192"/>
                  </a:lnTo>
                  <a:lnTo>
                    <a:pt x="3880" y="175"/>
                  </a:lnTo>
                  <a:lnTo>
                    <a:pt x="3881" y="159"/>
                  </a:lnTo>
                  <a:lnTo>
                    <a:pt x="3883" y="144"/>
                  </a:lnTo>
                  <a:lnTo>
                    <a:pt x="3884" y="129"/>
                  </a:lnTo>
                  <a:lnTo>
                    <a:pt x="3886" y="116"/>
                  </a:lnTo>
                  <a:lnTo>
                    <a:pt x="3888" y="104"/>
                  </a:lnTo>
                  <a:lnTo>
                    <a:pt x="3889" y="92"/>
                  </a:lnTo>
                  <a:lnTo>
                    <a:pt x="3890" y="83"/>
                  </a:lnTo>
                  <a:lnTo>
                    <a:pt x="3891" y="77"/>
                  </a:lnTo>
                  <a:lnTo>
                    <a:pt x="3893" y="71"/>
                  </a:lnTo>
                  <a:lnTo>
                    <a:pt x="3895" y="69"/>
                  </a:lnTo>
                  <a:lnTo>
                    <a:pt x="3896" y="68"/>
                  </a:lnTo>
                  <a:lnTo>
                    <a:pt x="3898" y="70"/>
                  </a:lnTo>
                  <a:lnTo>
                    <a:pt x="3899" y="75"/>
                  </a:lnTo>
                  <a:lnTo>
                    <a:pt x="3900" y="80"/>
                  </a:lnTo>
                  <a:lnTo>
                    <a:pt x="3902" y="88"/>
                  </a:lnTo>
                  <a:lnTo>
                    <a:pt x="3903" y="98"/>
                  </a:lnTo>
                  <a:lnTo>
                    <a:pt x="3905" y="110"/>
                  </a:lnTo>
                  <a:lnTo>
                    <a:pt x="3906" y="122"/>
                  </a:lnTo>
                  <a:lnTo>
                    <a:pt x="3908" y="137"/>
                  </a:lnTo>
                  <a:lnTo>
                    <a:pt x="3909" y="153"/>
                  </a:lnTo>
                  <a:lnTo>
                    <a:pt x="3910" y="168"/>
                  </a:lnTo>
                  <a:lnTo>
                    <a:pt x="3912" y="184"/>
                  </a:lnTo>
                  <a:lnTo>
                    <a:pt x="3913" y="199"/>
                  </a:lnTo>
                  <a:lnTo>
                    <a:pt x="3915" y="215"/>
                  </a:lnTo>
                  <a:lnTo>
                    <a:pt x="3916" y="231"/>
                  </a:lnTo>
                  <a:lnTo>
                    <a:pt x="3918" y="244"/>
                  </a:lnTo>
                  <a:lnTo>
                    <a:pt x="3919" y="256"/>
                  </a:lnTo>
                  <a:lnTo>
                    <a:pt x="3920" y="267"/>
                  </a:lnTo>
                  <a:lnTo>
                    <a:pt x="3922" y="277"/>
                  </a:lnTo>
                  <a:lnTo>
                    <a:pt x="3924" y="285"/>
                  </a:lnTo>
                  <a:lnTo>
                    <a:pt x="3925" y="290"/>
                  </a:lnTo>
                  <a:lnTo>
                    <a:pt x="3927" y="293"/>
                  </a:lnTo>
                  <a:lnTo>
                    <a:pt x="3928" y="294"/>
                  </a:lnTo>
                  <a:lnTo>
                    <a:pt x="3929" y="293"/>
                  </a:lnTo>
                  <a:lnTo>
                    <a:pt x="3930" y="290"/>
                  </a:lnTo>
                  <a:lnTo>
                    <a:pt x="3932" y="284"/>
                  </a:lnTo>
                  <a:lnTo>
                    <a:pt x="3934" y="276"/>
                  </a:lnTo>
                  <a:lnTo>
                    <a:pt x="3935" y="267"/>
                  </a:lnTo>
                  <a:lnTo>
                    <a:pt x="3937" y="256"/>
                  </a:lnTo>
                  <a:lnTo>
                    <a:pt x="3938" y="243"/>
                  </a:lnTo>
                  <a:lnTo>
                    <a:pt x="3939" y="229"/>
                  </a:lnTo>
                  <a:lnTo>
                    <a:pt x="3941" y="214"/>
                  </a:lnTo>
                  <a:lnTo>
                    <a:pt x="3943" y="198"/>
                  </a:lnTo>
                  <a:lnTo>
                    <a:pt x="3944" y="183"/>
                  </a:lnTo>
                  <a:lnTo>
                    <a:pt x="3945" y="167"/>
                  </a:lnTo>
                  <a:lnTo>
                    <a:pt x="3947" y="151"/>
                  </a:lnTo>
                  <a:lnTo>
                    <a:pt x="3948" y="136"/>
                  </a:lnTo>
                  <a:lnTo>
                    <a:pt x="3949" y="121"/>
                  </a:lnTo>
                  <a:lnTo>
                    <a:pt x="3951" y="109"/>
                  </a:lnTo>
                  <a:lnTo>
                    <a:pt x="3953" y="97"/>
                  </a:lnTo>
                  <a:lnTo>
                    <a:pt x="3954" y="88"/>
                  </a:lnTo>
                  <a:lnTo>
                    <a:pt x="3955" y="79"/>
                  </a:lnTo>
                  <a:lnTo>
                    <a:pt x="3957" y="73"/>
                  </a:lnTo>
                  <a:lnTo>
                    <a:pt x="3958" y="70"/>
                  </a:lnTo>
                  <a:lnTo>
                    <a:pt x="3959" y="68"/>
                  </a:lnTo>
                  <a:lnTo>
                    <a:pt x="3961" y="69"/>
                  </a:lnTo>
                  <a:lnTo>
                    <a:pt x="3963" y="71"/>
                  </a:lnTo>
                  <a:lnTo>
                    <a:pt x="3964" y="77"/>
                  </a:lnTo>
                  <a:lnTo>
                    <a:pt x="3966" y="83"/>
                  </a:lnTo>
                  <a:lnTo>
                    <a:pt x="3967" y="94"/>
                  </a:lnTo>
                  <a:lnTo>
                    <a:pt x="3968" y="104"/>
                  </a:lnTo>
                  <a:lnTo>
                    <a:pt x="3969" y="117"/>
                  </a:lnTo>
                  <a:lnTo>
                    <a:pt x="3972" y="130"/>
                  </a:lnTo>
                  <a:lnTo>
                    <a:pt x="3973" y="145"/>
                  </a:lnTo>
                  <a:lnTo>
                    <a:pt x="3974" y="160"/>
                  </a:lnTo>
                  <a:lnTo>
                    <a:pt x="3976" y="176"/>
                  </a:lnTo>
                  <a:lnTo>
                    <a:pt x="3977" y="193"/>
                  </a:lnTo>
                  <a:lnTo>
                    <a:pt x="3978" y="208"/>
                  </a:lnTo>
                  <a:lnTo>
                    <a:pt x="3980" y="223"/>
                  </a:lnTo>
                  <a:lnTo>
                    <a:pt x="3982" y="237"/>
                  </a:lnTo>
                  <a:lnTo>
                    <a:pt x="3983" y="251"/>
                  </a:lnTo>
                  <a:lnTo>
                    <a:pt x="3984" y="263"/>
                  </a:lnTo>
                  <a:lnTo>
                    <a:pt x="3986" y="273"/>
                  </a:lnTo>
                  <a:lnTo>
                    <a:pt x="3987" y="282"/>
                  </a:lnTo>
                  <a:lnTo>
                    <a:pt x="3988" y="287"/>
                  </a:lnTo>
                  <a:lnTo>
                    <a:pt x="3990" y="292"/>
                  </a:lnTo>
                  <a:lnTo>
                    <a:pt x="3992" y="294"/>
                  </a:lnTo>
                  <a:lnTo>
                    <a:pt x="3993" y="294"/>
                  </a:lnTo>
                  <a:lnTo>
                    <a:pt x="3995" y="292"/>
                  </a:lnTo>
                  <a:lnTo>
                    <a:pt x="3996" y="287"/>
                  </a:lnTo>
                  <a:lnTo>
                    <a:pt x="3997" y="281"/>
                  </a:lnTo>
                  <a:lnTo>
                    <a:pt x="3998" y="272"/>
                  </a:lnTo>
                  <a:lnTo>
                    <a:pt x="4001" y="262"/>
                  </a:lnTo>
                  <a:lnTo>
                    <a:pt x="4002" y="249"/>
                  </a:lnTo>
                  <a:lnTo>
                    <a:pt x="4003" y="236"/>
                  </a:lnTo>
                  <a:lnTo>
                    <a:pt x="4005" y="222"/>
                  </a:lnTo>
                  <a:lnTo>
                    <a:pt x="4006" y="206"/>
                  </a:lnTo>
                  <a:lnTo>
                    <a:pt x="4007" y="190"/>
                  </a:lnTo>
                  <a:lnTo>
                    <a:pt x="4008" y="175"/>
                  </a:lnTo>
                  <a:lnTo>
                    <a:pt x="4011" y="158"/>
                  </a:lnTo>
                  <a:lnTo>
                    <a:pt x="4012" y="144"/>
                  </a:lnTo>
                  <a:lnTo>
                    <a:pt x="4013" y="128"/>
                  </a:lnTo>
                  <a:lnTo>
                    <a:pt x="4015" y="115"/>
                  </a:lnTo>
                  <a:lnTo>
                    <a:pt x="4016" y="102"/>
                  </a:lnTo>
                  <a:lnTo>
                    <a:pt x="4017" y="92"/>
                  </a:lnTo>
                  <a:lnTo>
                    <a:pt x="4019" y="83"/>
                  </a:lnTo>
                  <a:lnTo>
                    <a:pt x="4021" y="76"/>
                  </a:lnTo>
                  <a:lnTo>
                    <a:pt x="4022" y="71"/>
                  </a:lnTo>
                  <a:lnTo>
                    <a:pt x="4023" y="69"/>
                  </a:lnTo>
                  <a:lnTo>
                    <a:pt x="4025" y="68"/>
                  </a:lnTo>
                  <a:lnTo>
                    <a:pt x="4026" y="70"/>
                  </a:lnTo>
                  <a:lnTo>
                    <a:pt x="4027" y="75"/>
                  </a:lnTo>
                  <a:lnTo>
                    <a:pt x="4030" y="80"/>
                  </a:lnTo>
                  <a:lnTo>
                    <a:pt x="4031" y="88"/>
                  </a:lnTo>
                  <a:lnTo>
                    <a:pt x="4032" y="98"/>
                  </a:lnTo>
                  <a:lnTo>
                    <a:pt x="4034" y="110"/>
                  </a:lnTo>
                  <a:lnTo>
                    <a:pt x="4035" y="124"/>
                  </a:lnTo>
                  <a:lnTo>
                    <a:pt x="4036" y="138"/>
                  </a:lnTo>
                  <a:lnTo>
                    <a:pt x="4037" y="153"/>
                  </a:lnTo>
                  <a:lnTo>
                    <a:pt x="4040" y="168"/>
                  </a:lnTo>
                  <a:lnTo>
                    <a:pt x="4041" y="185"/>
                  </a:lnTo>
                  <a:lnTo>
                    <a:pt x="4042" y="200"/>
                  </a:lnTo>
                  <a:lnTo>
                    <a:pt x="4044" y="216"/>
                  </a:lnTo>
                  <a:lnTo>
                    <a:pt x="4045" y="231"/>
                  </a:lnTo>
                  <a:lnTo>
                    <a:pt x="4046" y="245"/>
                  </a:lnTo>
                  <a:lnTo>
                    <a:pt x="4047" y="257"/>
                  </a:lnTo>
                  <a:lnTo>
                    <a:pt x="4050" y="268"/>
                  </a:lnTo>
                  <a:lnTo>
                    <a:pt x="4051" y="277"/>
                  </a:lnTo>
                  <a:lnTo>
                    <a:pt x="4052" y="285"/>
                  </a:lnTo>
                  <a:lnTo>
                    <a:pt x="4054" y="291"/>
                  </a:lnTo>
                  <a:lnTo>
                    <a:pt x="4055" y="294"/>
                  </a:lnTo>
                  <a:lnTo>
                    <a:pt x="4056" y="295"/>
                  </a:lnTo>
                  <a:lnTo>
                    <a:pt x="4059" y="293"/>
                  </a:lnTo>
                  <a:lnTo>
                    <a:pt x="4060" y="290"/>
                  </a:lnTo>
                  <a:lnTo>
                    <a:pt x="4061" y="284"/>
                  </a:lnTo>
                  <a:lnTo>
                    <a:pt x="4062" y="276"/>
                  </a:lnTo>
                  <a:lnTo>
                    <a:pt x="4064" y="267"/>
                  </a:lnTo>
                  <a:lnTo>
                    <a:pt x="4065" y="255"/>
                  </a:lnTo>
                  <a:lnTo>
                    <a:pt x="4066" y="243"/>
                  </a:lnTo>
                  <a:lnTo>
                    <a:pt x="4069" y="228"/>
                  </a:lnTo>
                  <a:lnTo>
                    <a:pt x="4070" y="214"/>
                  </a:lnTo>
                  <a:lnTo>
                    <a:pt x="4071" y="198"/>
                  </a:lnTo>
                  <a:lnTo>
                    <a:pt x="4073" y="183"/>
                  </a:lnTo>
                  <a:lnTo>
                    <a:pt x="4074" y="166"/>
                  </a:lnTo>
                  <a:lnTo>
                    <a:pt x="4075" y="150"/>
                  </a:lnTo>
                  <a:lnTo>
                    <a:pt x="4076" y="136"/>
                  </a:lnTo>
                  <a:lnTo>
                    <a:pt x="4079" y="121"/>
                  </a:lnTo>
                  <a:lnTo>
                    <a:pt x="4080" y="108"/>
                  </a:lnTo>
                  <a:lnTo>
                    <a:pt x="4081" y="97"/>
                  </a:lnTo>
                  <a:lnTo>
                    <a:pt x="4083" y="87"/>
                  </a:lnTo>
                  <a:lnTo>
                    <a:pt x="4084" y="79"/>
                  </a:lnTo>
                  <a:lnTo>
                    <a:pt x="4085" y="73"/>
                  </a:lnTo>
                  <a:lnTo>
                    <a:pt x="4086" y="70"/>
                  </a:lnTo>
                  <a:lnTo>
                    <a:pt x="4089" y="68"/>
                  </a:lnTo>
                  <a:lnTo>
                    <a:pt x="4090" y="69"/>
                  </a:lnTo>
                  <a:lnTo>
                    <a:pt x="4091" y="71"/>
                  </a:lnTo>
                  <a:lnTo>
                    <a:pt x="4093" y="77"/>
                  </a:lnTo>
                  <a:lnTo>
                    <a:pt x="4094" y="85"/>
                  </a:lnTo>
                  <a:lnTo>
                    <a:pt x="4095" y="94"/>
                  </a:lnTo>
                  <a:lnTo>
                    <a:pt x="4098" y="105"/>
                  </a:lnTo>
                  <a:lnTo>
                    <a:pt x="4099" y="117"/>
                  </a:lnTo>
                  <a:lnTo>
                    <a:pt x="4100" y="130"/>
                  </a:lnTo>
                  <a:lnTo>
                    <a:pt x="4101" y="145"/>
                  </a:lnTo>
                  <a:lnTo>
                    <a:pt x="4103" y="160"/>
                  </a:lnTo>
                  <a:lnTo>
                    <a:pt x="4104" y="177"/>
                  </a:lnTo>
                  <a:lnTo>
                    <a:pt x="4105" y="193"/>
                  </a:lnTo>
                  <a:lnTo>
                    <a:pt x="4108" y="208"/>
                  </a:lnTo>
                  <a:lnTo>
                    <a:pt x="4109" y="224"/>
                  </a:lnTo>
                  <a:lnTo>
                    <a:pt x="4110" y="238"/>
                  </a:lnTo>
                  <a:lnTo>
                    <a:pt x="4112" y="251"/>
                  </a:lnTo>
                  <a:lnTo>
                    <a:pt x="4113" y="263"/>
                  </a:lnTo>
                  <a:lnTo>
                    <a:pt x="4114" y="273"/>
                  </a:lnTo>
                  <a:lnTo>
                    <a:pt x="4115" y="282"/>
                  </a:lnTo>
                  <a:lnTo>
                    <a:pt x="4118" y="288"/>
                  </a:lnTo>
                  <a:lnTo>
                    <a:pt x="4119" y="292"/>
                  </a:lnTo>
                  <a:lnTo>
                    <a:pt x="4120" y="294"/>
                  </a:lnTo>
                  <a:lnTo>
                    <a:pt x="4122" y="294"/>
                  </a:lnTo>
                  <a:lnTo>
                    <a:pt x="4123" y="292"/>
                  </a:lnTo>
                  <a:lnTo>
                    <a:pt x="4124" y="287"/>
                  </a:lnTo>
                  <a:lnTo>
                    <a:pt x="4127" y="281"/>
                  </a:lnTo>
                  <a:lnTo>
                    <a:pt x="4128" y="272"/>
                  </a:lnTo>
                  <a:lnTo>
                    <a:pt x="4129" y="262"/>
                  </a:lnTo>
                  <a:lnTo>
                    <a:pt x="4130" y="249"/>
                  </a:lnTo>
                  <a:lnTo>
                    <a:pt x="4132" y="236"/>
                  </a:lnTo>
                  <a:lnTo>
                    <a:pt x="4133" y="222"/>
                  </a:lnTo>
                  <a:lnTo>
                    <a:pt x="4134" y="206"/>
                  </a:lnTo>
                  <a:lnTo>
                    <a:pt x="4137" y="190"/>
                  </a:lnTo>
                  <a:lnTo>
                    <a:pt x="4138" y="174"/>
                  </a:lnTo>
                  <a:lnTo>
                    <a:pt x="4139" y="158"/>
                  </a:lnTo>
                  <a:lnTo>
                    <a:pt x="4140" y="143"/>
                  </a:lnTo>
                  <a:lnTo>
                    <a:pt x="4142" y="128"/>
                  </a:lnTo>
                  <a:lnTo>
                    <a:pt x="4143" y="115"/>
                  </a:lnTo>
                  <a:lnTo>
                    <a:pt x="4144" y="102"/>
                  </a:lnTo>
                  <a:lnTo>
                    <a:pt x="4147" y="92"/>
                  </a:lnTo>
                  <a:lnTo>
                    <a:pt x="4148" y="83"/>
                  </a:lnTo>
                  <a:lnTo>
                    <a:pt x="4149" y="76"/>
                  </a:lnTo>
                  <a:lnTo>
                    <a:pt x="4151" y="71"/>
                  </a:lnTo>
                  <a:lnTo>
                    <a:pt x="4152" y="69"/>
                  </a:lnTo>
                  <a:lnTo>
                    <a:pt x="4153" y="68"/>
                  </a:lnTo>
                  <a:lnTo>
                    <a:pt x="4154" y="70"/>
                  </a:lnTo>
                  <a:lnTo>
                    <a:pt x="4157" y="75"/>
                  </a:lnTo>
                  <a:lnTo>
                    <a:pt x="4158" y="80"/>
                  </a:lnTo>
                  <a:lnTo>
                    <a:pt x="4159" y="89"/>
                  </a:lnTo>
                  <a:lnTo>
                    <a:pt x="4161" y="99"/>
                  </a:lnTo>
                  <a:lnTo>
                    <a:pt x="4162" y="110"/>
                  </a:lnTo>
                  <a:lnTo>
                    <a:pt x="4163" y="124"/>
                  </a:lnTo>
                  <a:lnTo>
                    <a:pt x="4166" y="138"/>
                  </a:lnTo>
                  <a:lnTo>
                    <a:pt x="4167" y="153"/>
                  </a:lnTo>
                  <a:lnTo>
                    <a:pt x="4168" y="168"/>
                  </a:lnTo>
                  <a:lnTo>
                    <a:pt x="4169" y="185"/>
                  </a:lnTo>
                  <a:lnTo>
                    <a:pt x="4171" y="200"/>
                  </a:lnTo>
                  <a:lnTo>
                    <a:pt x="4172" y="216"/>
                  </a:lnTo>
                  <a:lnTo>
                    <a:pt x="4173" y="231"/>
                  </a:lnTo>
                  <a:lnTo>
                    <a:pt x="4176" y="245"/>
                  </a:lnTo>
                  <a:lnTo>
                    <a:pt x="4177" y="257"/>
                  </a:lnTo>
                  <a:lnTo>
                    <a:pt x="4178" y="268"/>
                  </a:lnTo>
                  <a:lnTo>
                    <a:pt x="4179" y="277"/>
                  </a:lnTo>
                  <a:lnTo>
                    <a:pt x="4181" y="285"/>
                  </a:lnTo>
                  <a:lnTo>
                    <a:pt x="4182" y="291"/>
                  </a:lnTo>
                  <a:lnTo>
                    <a:pt x="4183" y="294"/>
                  </a:lnTo>
                  <a:lnTo>
                    <a:pt x="4186" y="294"/>
                  </a:lnTo>
                  <a:lnTo>
                    <a:pt x="4187" y="293"/>
                  </a:lnTo>
                  <a:lnTo>
                    <a:pt x="4188" y="290"/>
                  </a:lnTo>
                  <a:lnTo>
                    <a:pt x="4190" y="284"/>
                  </a:lnTo>
                  <a:lnTo>
                    <a:pt x="4191" y="276"/>
                  </a:lnTo>
                  <a:lnTo>
                    <a:pt x="4192" y="266"/>
                  </a:lnTo>
                  <a:lnTo>
                    <a:pt x="4194" y="255"/>
                  </a:lnTo>
                  <a:lnTo>
                    <a:pt x="4196" y="243"/>
                  </a:lnTo>
                  <a:lnTo>
                    <a:pt x="4197" y="228"/>
                  </a:lnTo>
                  <a:lnTo>
                    <a:pt x="4198" y="214"/>
                  </a:lnTo>
                  <a:lnTo>
                    <a:pt x="4200" y="198"/>
                  </a:lnTo>
                  <a:lnTo>
                    <a:pt x="4201" y="183"/>
                  </a:lnTo>
                  <a:lnTo>
                    <a:pt x="4202" y="166"/>
                  </a:lnTo>
                  <a:lnTo>
                    <a:pt x="4205" y="150"/>
                  </a:lnTo>
                  <a:lnTo>
                    <a:pt x="4206" y="136"/>
                  </a:lnTo>
                  <a:lnTo>
                    <a:pt x="4207" y="121"/>
                  </a:lnTo>
                  <a:lnTo>
                    <a:pt x="4208" y="109"/>
                  </a:lnTo>
                  <a:lnTo>
                    <a:pt x="4210" y="97"/>
                  </a:lnTo>
                  <a:lnTo>
                    <a:pt x="4211" y="88"/>
                  </a:lnTo>
                  <a:lnTo>
                    <a:pt x="4212" y="79"/>
                  </a:lnTo>
                  <a:lnTo>
                    <a:pt x="4215" y="73"/>
                  </a:lnTo>
                  <a:lnTo>
                    <a:pt x="4216" y="70"/>
                  </a:lnTo>
                  <a:lnTo>
                    <a:pt x="4217" y="68"/>
                  </a:lnTo>
                  <a:lnTo>
                    <a:pt x="4219" y="69"/>
                  </a:lnTo>
                  <a:lnTo>
                    <a:pt x="4220" y="72"/>
                  </a:lnTo>
                  <a:lnTo>
                    <a:pt x="4221" y="77"/>
                  </a:lnTo>
                  <a:lnTo>
                    <a:pt x="4223" y="85"/>
                  </a:lnTo>
                  <a:lnTo>
                    <a:pt x="4225" y="94"/>
                  </a:lnTo>
                  <a:lnTo>
                    <a:pt x="4226" y="105"/>
                  </a:lnTo>
                  <a:lnTo>
                    <a:pt x="4227" y="117"/>
                  </a:lnTo>
                  <a:lnTo>
                    <a:pt x="4229" y="130"/>
                  </a:lnTo>
                  <a:lnTo>
                    <a:pt x="4230" y="145"/>
                  </a:lnTo>
                  <a:lnTo>
                    <a:pt x="4231" y="160"/>
                  </a:lnTo>
                  <a:lnTo>
                    <a:pt x="4233" y="176"/>
                  </a:lnTo>
                  <a:lnTo>
                    <a:pt x="4235" y="193"/>
                  </a:lnTo>
                  <a:lnTo>
                    <a:pt x="4236" y="208"/>
                  </a:lnTo>
                  <a:lnTo>
                    <a:pt x="4237" y="223"/>
                  </a:lnTo>
                  <a:lnTo>
                    <a:pt x="4239" y="237"/>
                  </a:lnTo>
                  <a:lnTo>
                    <a:pt x="4240" y="251"/>
                  </a:lnTo>
                  <a:lnTo>
                    <a:pt x="4241" y="263"/>
                  </a:lnTo>
                  <a:lnTo>
                    <a:pt x="4244" y="273"/>
                  </a:lnTo>
                  <a:lnTo>
                    <a:pt x="4245" y="281"/>
                  </a:lnTo>
                  <a:lnTo>
                    <a:pt x="4246" y="287"/>
                  </a:lnTo>
                  <a:lnTo>
                    <a:pt x="4247" y="292"/>
                  </a:lnTo>
                  <a:lnTo>
                    <a:pt x="4249" y="294"/>
                  </a:lnTo>
                  <a:lnTo>
                    <a:pt x="4250" y="294"/>
                  </a:lnTo>
                  <a:lnTo>
                    <a:pt x="4252" y="292"/>
                  </a:lnTo>
                  <a:lnTo>
                    <a:pt x="4254" y="287"/>
                  </a:lnTo>
                  <a:lnTo>
                    <a:pt x="4255" y="281"/>
                  </a:lnTo>
                  <a:lnTo>
                    <a:pt x="4256" y="272"/>
                  </a:lnTo>
                  <a:lnTo>
                    <a:pt x="4258" y="262"/>
                  </a:lnTo>
                  <a:lnTo>
                    <a:pt x="4259" y="249"/>
                  </a:lnTo>
                  <a:lnTo>
                    <a:pt x="4260" y="236"/>
                  </a:lnTo>
                  <a:lnTo>
                    <a:pt x="4262" y="222"/>
                  </a:lnTo>
                  <a:lnTo>
                    <a:pt x="4264" y="206"/>
                  </a:lnTo>
                  <a:lnTo>
                    <a:pt x="4265" y="190"/>
                  </a:lnTo>
                  <a:lnTo>
                    <a:pt x="4266" y="175"/>
                  </a:lnTo>
                  <a:lnTo>
                    <a:pt x="4268" y="159"/>
                  </a:lnTo>
                  <a:lnTo>
                    <a:pt x="4269" y="144"/>
                  </a:lnTo>
                  <a:lnTo>
                    <a:pt x="4270" y="129"/>
                  </a:lnTo>
                  <a:lnTo>
                    <a:pt x="4272" y="116"/>
                  </a:lnTo>
                  <a:lnTo>
                    <a:pt x="4274" y="104"/>
                  </a:lnTo>
                  <a:lnTo>
                    <a:pt x="4275" y="92"/>
                  </a:lnTo>
                  <a:lnTo>
                    <a:pt x="4276" y="83"/>
                  </a:lnTo>
                  <a:lnTo>
                    <a:pt x="4278" y="77"/>
                  </a:lnTo>
                  <a:lnTo>
                    <a:pt x="4279" y="71"/>
                  </a:lnTo>
                  <a:lnTo>
                    <a:pt x="4281" y="69"/>
                  </a:lnTo>
                  <a:lnTo>
                    <a:pt x="4283" y="69"/>
                  </a:lnTo>
                  <a:lnTo>
                    <a:pt x="4284" y="70"/>
                  </a:lnTo>
                  <a:lnTo>
                    <a:pt x="4285" y="75"/>
                  </a:lnTo>
                  <a:lnTo>
                    <a:pt x="4286" y="80"/>
                  </a:lnTo>
                  <a:lnTo>
                    <a:pt x="4288" y="89"/>
                  </a:lnTo>
                  <a:lnTo>
                    <a:pt x="4289" y="99"/>
                  </a:lnTo>
                  <a:lnTo>
                    <a:pt x="4291" y="110"/>
                  </a:lnTo>
                  <a:lnTo>
                    <a:pt x="4293" y="124"/>
                  </a:lnTo>
                  <a:lnTo>
                    <a:pt x="4294" y="137"/>
                  </a:lnTo>
                  <a:lnTo>
                    <a:pt x="4295" y="153"/>
                  </a:lnTo>
                  <a:lnTo>
                    <a:pt x="4297" y="168"/>
                  </a:lnTo>
                  <a:lnTo>
                    <a:pt x="4298" y="184"/>
                  </a:lnTo>
                  <a:lnTo>
                    <a:pt x="4299" y="199"/>
                  </a:lnTo>
                  <a:lnTo>
                    <a:pt x="4301" y="215"/>
                  </a:lnTo>
                  <a:lnTo>
                    <a:pt x="4303" y="231"/>
                  </a:lnTo>
                  <a:lnTo>
                    <a:pt x="4304" y="244"/>
                  </a:lnTo>
                  <a:lnTo>
                    <a:pt x="4305" y="256"/>
                  </a:lnTo>
                  <a:lnTo>
                    <a:pt x="4307" y="267"/>
                  </a:lnTo>
                  <a:lnTo>
                    <a:pt x="4308" y="277"/>
                  </a:lnTo>
                  <a:lnTo>
                    <a:pt x="4310" y="284"/>
                  </a:lnTo>
                  <a:lnTo>
                    <a:pt x="4311" y="290"/>
                  </a:lnTo>
                  <a:lnTo>
                    <a:pt x="4313" y="293"/>
                  </a:lnTo>
                  <a:lnTo>
                    <a:pt x="4314" y="294"/>
                  </a:lnTo>
                  <a:lnTo>
                    <a:pt x="4315" y="293"/>
                  </a:lnTo>
                  <a:lnTo>
                    <a:pt x="4317" y="290"/>
                  </a:lnTo>
                  <a:lnTo>
                    <a:pt x="4318" y="284"/>
                  </a:lnTo>
                  <a:lnTo>
                    <a:pt x="4320" y="276"/>
                  </a:lnTo>
                  <a:lnTo>
                    <a:pt x="4322" y="267"/>
                  </a:lnTo>
                  <a:lnTo>
                    <a:pt x="4323" y="256"/>
                  </a:lnTo>
                  <a:lnTo>
                    <a:pt x="4324" y="243"/>
                  </a:lnTo>
                  <a:lnTo>
                    <a:pt x="4325" y="229"/>
                  </a:lnTo>
                  <a:lnTo>
                    <a:pt x="4327" y="214"/>
                  </a:lnTo>
                  <a:lnTo>
                    <a:pt x="4328" y="199"/>
                  </a:lnTo>
                  <a:lnTo>
                    <a:pt x="4330" y="183"/>
                  </a:lnTo>
                  <a:lnTo>
                    <a:pt x="4332" y="167"/>
                  </a:lnTo>
                  <a:lnTo>
                    <a:pt x="4333" y="151"/>
                  </a:lnTo>
                  <a:lnTo>
                    <a:pt x="4334" y="137"/>
                  </a:lnTo>
                  <a:lnTo>
                    <a:pt x="4336" y="122"/>
                  </a:lnTo>
                  <a:lnTo>
                    <a:pt x="4337" y="109"/>
                  </a:lnTo>
                  <a:lnTo>
                    <a:pt x="4339" y="98"/>
                  </a:lnTo>
                  <a:lnTo>
                    <a:pt x="4340" y="88"/>
                  </a:lnTo>
                  <a:lnTo>
                    <a:pt x="4342" y="80"/>
                  </a:lnTo>
                  <a:lnTo>
                    <a:pt x="4343" y="75"/>
                  </a:lnTo>
                  <a:lnTo>
                    <a:pt x="4344" y="70"/>
                  </a:lnTo>
                  <a:lnTo>
                    <a:pt x="4346" y="69"/>
                  </a:lnTo>
                  <a:lnTo>
                    <a:pt x="4347" y="69"/>
                  </a:lnTo>
                  <a:lnTo>
                    <a:pt x="4349" y="72"/>
                  </a:lnTo>
                  <a:lnTo>
                    <a:pt x="4351" y="77"/>
                  </a:lnTo>
                  <a:lnTo>
                    <a:pt x="4352" y="85"/>
                  </a:lnTo>
                  <a:lnTo>
                    <a:pt x="4353" y="94"/>
                  </a:lnTo>
                  <a:lnTo>
                    <a:pt x="4354" y="104"/>
                  </a:lnTo>
                  <a:lnTo>
                    <a:pt x="4356" y="116"/>
                  </a:lnTo>
                  <a:lnTo>
                    <a:pt x="4357" y="130"/>
                  </a:lnTo>
                  <a:lnTo>
                    <a:pt x="4359" y="145"/>
                  </a:lnTo>
                  <a:lnTo>
                    <a:pt x="4361" y="159"/>
                  </a:lnTo>
                  <a:lnTo>
                    <a:pt x="4362" y="176"/>
                  </a:lnTo>
                  <a:lnTo>
                    <a:pt x="4363" y="192"/>
                  </a:lnTo>
                  <a:lnTo>
                    <a:pt x="4364" y="207"/>
                  </a:lnTo>
                  <a:lnTo>
                    <a:pt x="4366" y="222"/>
                  </a:lnTo>
                  <a:lnTo>
                    <a:pt x="4368" y="236"/>
                  </a:lnTo>
                  <a:lnTo>
                    <a:pt x="4369" y="249"/>
                  </a:lnTo>
                  <a:lnTo>
                    <a:pt x="4371" y="262"/>
                  </a:lnTo>
                  <a:lnTo>
                    <a:pt x="4372" y="272"/>
                  </a:lnTo>
                  <a:lnTo>
                    <a:pt x="4373" y="281"/>
                  </a:lnTo>
                  <a:lnTo>
                    <a:pt x="4375" y="287"/>
                  </a:lnTo>
                  <a:lnTo>
                    <a:pt x="4376" y="292"/>
                  </a:lnTo>
                  <a:lnTo>
                    <a:pt x="4378" y="294"/>
                  </a:lnTo>
                  <a:lnTo>
                    <a:pt x="4379" y="294"/>
                  </a:lnTo>
                  <a:lnTo>
                    <a:pt x="4381" y="292"/>
                  </a:lnTo>
                  <a:lnTo>
                    <a:pt x="4382" y="287"/>
                  </a:lnTo>
                  <a:lnTo>
                    <a:pt x="4383" y="281"/>
                  </a:lnTo>
                  <a:lnTo>
                    <a:pt x="4385" y="272"/>
                  </a:lnTo>
                  <a:lnTo>
                    <a:pt x="4386" y="262"/>
                  </a:lnTo>
                  <a:lnTo>
                    <a:pt x="4388" y="249"/>
                  </a:lnTo>
                  <a:lnTo>
                    <a:pt x="4390" y="236"/>
                  </a:lnTo>
                  <a:lnTo>
                    <a:pt x="4391" y="223"/>
                  </a:lnTo>
                  <a:lnTo>
                    <a:pt x="4392" y="207"/>
                  </a:lnTo>
                  <a:lnTo>
                    <a:pt x="4393" y="192"/>
                  </a:lnTo>
                  <a:lnTo>
                    <a:pt x="4395" y="176"/>
                  </a:lnTo>
                  <a:lnTo>
                    <a:pt x="4397" y="160"/>
                  </a:lnTo>
                  <a:lnTo>
                    <a:pt x="4398" y="145"/>
                  </a:lnTo>
                  <a:lnTo>
                    <a:pt x="4400" y="130"/>
                  </a:lnTo>
                  <a:lnTo>
                    <a:pt x="4401" y="117"/>
                  </a:lnTo>
                  <a:lnTo>
                    <a:pt x="4402" y="105"/>
                  </a:lnTo>
                  <a:lnTo>
                    <a:pt x="4403" y="94"/>
                  </a:lnTo>
                  <a:lnTo>
                    <a:pt x="4405" y="85"/>
                  </a:lnTo>
                  <a:lnTo>
                    <a:pt x="4407" y="78"/>
                  </a:lnTo>
                  <a:lnTo>
                    <a:pt x="4408" y="72"/>
                  </a:lnTo>
                  <a:lnTo>
                    <a:pt x="4410" y="70"/>
                  </a:lnTo>
                  <a:lnTo>
                    <a:pt x="4411" y="69"/>
                  </a:lnTo>
                  <a:lnTo>
                    <a:pt x="4412" y="70"/>
                  </a:lnTo>
                  <a:lnTo>
                    <a:pt x="4414" y="75"/>
                  </a:lnTo>
                  <a:lnTo>
                    <a:pt x="4415" y="80"/>
                  </a:lnTo>
                  <a:lnTo>
                    <a:pt x="4417" y="88"/>
                  </a:lnTo>
                  <a:lnTo>
                    <a:pt x="4418" y="98"/>
                  </a:lnTo>
                  <a:lnTo>
                    <a:pt x="4420" y="109"/>
                  </a:lnTo>
                  <a:lnTo>
                    <a:pt x="4421" y="122"/>
                  </a:lnTo>
                  <a:lnTo>
                    <a:pt x="4422" y="137"/>
                  </a:lnTo>
                  <a:lnTo>
                    <a:pt x="4424" y="151"/>
                  </a:lnTo>
                  <a:lnTo>
                    <a:pt x="4426" y="167"/>
                  </a:lnTo>
                  <a:lnTo>
                    <a:pt x="4427" y="183"/>
                  </a:lnTo>
                  <a:lnTo>
                    <a:pt x="4429" y="198"/>
                  </a:lnTo>
                  <a:lnTo>
                    <a:pt x="4430" y="214"/>
                  </a:lnTo>
                  <a:lnTo>
                    <a:pt x="4431" y="228"/>
                  </a:lnTo>
                  <a:lnTo>
                    <a:pt x="4432" y="243"/>
                  </a:lnTo>
                  <a:lnTo>
                    <a:pt x="4434" y="255"/>
                  </a:lnTo>
                  <a:lnTo>
                    <a:pt x="4436" y="266"/>
                  </a:lnTo>
                  <a:lnTo>
                    <a:pt x="4437" y="276"/>
                  </a:lnTo>
                  <a:lnTo>
                    <a:pt x="4439" y="283"/>
                  </a:lnTo>
                  <a:lnTo>
                    <a:pt x="4440" y="288"/>
                  </a:lnTo>
                  <a:lnTo>
                    <a:pt x="4441" y="293"/>
                  </a:lnTo>
                  <a:lnTo>
                    <a:pt x="4443" y="294"/>
                  </a:lnTo>
                  <a:lnTo>
                    <a:pt x="4445" y="293"/>
                  </a:lnTo>
                  <a:lnTo>
                    <a:pt x="4446" y="290"/>
                  </a:lnTo>
                  <a:lnTo>
                    <a:pt x="4447" y="284"/>
                  </a:lnTo>
                  <a:lnTo>
                    <a:pt x="4449" y="276"/>
                  </a:lnTo>
                  <a:lnTo>
                    <a:pt x="4450" y="267"/>
                  </a:lnTo>
                  <a:lnTo>
                    <a:pt x="4451" y="256"/>
                  </a:lnTo>
                  <a:lnTo>
                    <a:pt x="4453" y="244"/>
                  </a:lnTo>
                  <a:lnTo>
                    <a:pt x="4455" y="231"/>
                  </a:lnTo>
                  <a:lnTo>
                    <a:pt x="4456" y="215"/>
                  </a:lnTo>
                  <a:lnTo>
                    <a:pt x="4457" y="200"/>
                  </a:lnTo>
                  <a:lnTo>
                    <a:pt x="4459" y="185"/>
                  </a:lnTo>
                  <a:lnTo>
                    <a:pt x="4460" y="168"/>
                  </a:lnTo>
                  <a:lnTo>
                    <a:pt x="4461" y="153"/>
                  </a:lnTo>
                  <a:lnTo>
                    <a:pt x="4463" y="138"/>
                  </a:lnTo>
                  <a:lnTo>
                    <a:pt x="4465" y="124"/>
                  </a:lnTo>
                  <a:lnTo>
                    <a:pt x="4466" y="111"/>
                  </a:lnTo>
                  <a:lnTo>
                    <a:pt x="4468" y="99"/>
                  </a:lnTo>
                  <a:lnTo>
                    <a:pt x="4469" y="89"/>
                  </a:lnTo>
                  <a:lnTo>
                    <a:pt x="4470" y="81"/>
                  </a:lnTo>
                  <a:lnTo>
                    <a:pt x="4471" y="75"/>
                  </a:lnTo>
                  <a:lnTo>
                    <a:pt x="4474" y="71"/>
                  </a:lnTo>
                  <a:lnTo>
                    <a:pt x="4475" y="69"/>
                  </a:lnTo>
                  <a:lnTo>
                    <a:pt x="4476" y="70"/>
                  </a:lnTo>
                  <a:lnTo>
                    <a:pt x="4478" y="72"/>
                  </a:lnTo>
                  <a:lnTo>
                    <a:pt x="4479" y="77"/>
                  </a:lnTo>
                  <a:lnTo>
                    <a:pt x="4480" y="83"/>
                  </a:lnTo>
                  <a:lnTo>
                    <a:pt x="4482" y="92"/>
                  </a:lnTo>
                  <a:lnTo>
                    <a:pt x="4484" y="104"/>
                  </a:lnTo>
                  <a:lnTo>
                    <a:pt x="4485" y="115"/>
                  </a:lnTo>
                  <a:lnTo>
                    <a:pt x="4486" y="128"/>
                  </a:lnTo>
                  <a:lnTo>
                    <a:pt x="4488" y="143"/>
                  </a:lnTo>
                  <a:lnTo>
                    <a:pt x="4489" y="158"/>
                  </a:lnTo>
                  <a:lnTo>
                    <a:pt x="4490" y="174"/>
                  </a:lnTo>
                  <a:lnTo>
                    <a:pt x="4492" y="189"/>
                  </a:lnTo>
                  <a:lnTo>
                    <a:pt x="4494" y="205"/>
                  </a:lnTo>
                  <a:lnTo>
                    <a:pt x="4495" y="221"/>
                  </a:lnTo>
                  <a:lnTo>
                    <a:pt x="4496" y="235"/>
                  </a:lnTo>
                  <a:lnTo>
                    <a:pt x="4498" y="248"/>
                  </a:lnTo>
                  <a:lnTo>
                    <a:pt x="4499" y="261"/>
                  </a:lnTo>
                  <a:lnTo>
                    <a:pt x="4500" y="271"/>
                  </a:lnTo>
                  <a:lnTo>
                    <a:pt x="4503" y="280"/>
                  </a:lnTo>
                  <a:lnTo>
                    <a:pt x="4504" y="286"/>
                  </a:lnTo>
                  <a:lnTo>
                    <a:pt x="4505" y="291"/>
                  </a:lnTo>
                  <a:lnTo>
                    <a:pt x="4507" y="293"/>
                  </a:lnTo>
                  <a:lnTo>
                    <a:pt x="4508" y="293"/>
                  </a:lnTo>
                  <a:lnTo>
                    <a:pt x="4509" y="292"/>
                  </a:lnTo>
                  <a:lnTo>
                    <a:pt x="4510" y="287"/>
                  </a:lnTo>
                  <a:lnTo>
                    <a:pt x="4513" y="281"/>
                  </a:lnTo>
                  <a:lnTo>
                    <a:pt x="4514" y="273"/>
                  </a:lnTo>
                  <a:lnTo>
                    <a:pt x="4515" y="263"/>
                  </a:lnTo>
                  <a:lnTo>
                    <a:pt x="4517" y="251"/>
                  </a:lnTo>
                  <a:lnTo>
                    <a:pt x="4518" y="238"/>
                  </a:lnTo>
                  <a:lnTo>
                    <a:pt x="4519" y="224"/>
                  </a:lnTo>
                  <a:lnTo>
                    <a:pt x="4521" y="208"/>
                  </a:lnTo>
                  <a:lnTo>
                    <a:pt x="4523" y="194"/>
                  </a:lnTo>
                  <a:lnTo>
                    <a:pt x="4524" y="177"/>
                  </a:lnTo>
                  <a:lnTo>
                    <a:pt x="4525" y="161"/>
                  </a:lnTo>
                  <a:lnTo>
                    <a:pt x="4527" y="146"/>
                  </a:lnTo>
                  <a:lnTo>
                    <a:pt x="4528" y="131"/>
                  </a:lnTo>
                  <a:lnTo>
                    <a:pt x="4529" y="118"/>
                  </a:lnTo>
                  <a:lnTo>
                    <a:pt x="4532" y="106"/>
                  </a:lnTo>
                  <a:lnTo>
                    <a:pt x="4533" y="95"/>
                  </a:lnTo>
                  <a:lnTo>
                    <a:pt x="4534" y="86"/>
                  </a:lnTo>
                  <a:lnTo>
                    <a:pt x="4535" y="78"/>
                  </a:lnTo>
                  <a:lnTo>
                    <a:pt x="4537" y="73"/>
                  </a:lnTo>
                  <a:lnTo>
                    <a:pt x="4538" y="70"/>
                  </a:lnTo>
                  <a:lnTo>
                    <a:pt x="4539" y="69"/>
                  </a:lnTo>
                  <a:lnTo>
                    <a:pt x="4542" y="70"/>
                  </a:lnTo>
                  <a:lnTo>
                    <a:pt x="4543" y="75"/>
                  </a:lnTo>
                  <a:lnTo>
                    <a:pt x="4544" y="80"/>
                  </a:lnTo>
                  <a:lnTo>
                    <a:pt x="4546" y="88"/>
                  </a:lnTo>
                  <a:lnTo>
                    <a:pt x="4547" y="97"/>
                  </a:lnTo>
                  <a:lnTo>
                    <a:pt x="4548" y="108"/>
                  </a:lnTo>
                  <a:lnTo>
                    <a:pt x="4549" y="121"/>
                  </a:lnTo>
                  <a:lnTo>
                    <a:pt x="4552" y="135"/>
                  </a:lnTo>
                  <a:lnTo>
                    <a:pt x="4553" y="149"/>
                  </a:lnTo>
                  <a:lnTo>
                    <a:pt x="4554" y="165"/>
                  </a:lnTo>
                  <a:lnTo>
                    <a:pt x="4556" y="180"/>
                  </a:lnTo>
                  <a:lnTo>
                    <a:pt x="4557" y="196"/>
                  </a:lnTo>
                  <a:lnTo>
                    <a:pt x="4558" y="212"/>
                  </a:lnTo>
                  <a:lnTo>
                    <a:pt x="4561" y="227"/>
                  </a:lnTo>
                  <a:lnTo>
                    <a:pt x="4562" y="241"/>
                  </a:lnTo>
                  <a:lnTo>
                    <a:pt x="4563" y="254"/>
                  </a:lnTo>
                  <a:lnTo>
                    <a:pt x="4564" y="265"/>
                  </a:lnTo>
                  <a:lnTo>
                    <a:pt x="4566" y="274"/>
                  </a:lnTo>
                  <a:lnTo>
                    <a:pt x="4567" y="282"/>
                  </a:lnTo>
                  <a:lnTo>
                    <a:pt x="4568" y="288"/>
                  </a:lnTo>
                  <a:lnTo>
                    <a:pt x="4571" y="292"/>
                  </a:lnTo>
                  <a:lnTo>
                    <a:pt x="4572" y="293"/>
                  </a:lnTo>
                  <a:lnTo>
                    <a:pt x="4573" y="293"/>
                  </a:lnTo>
                  <a:lnTo>
                    <a:pt x="4575" y="290"/>
                  </a:lnTo>
                  <a:lnTo>
                    <a:pt x="4576" y="285"/>
                  </a:lnTo>
                  <a:lnTo>
                    <a:pt x="4577" y="277"/>
                  </a:lnTo>
                  <a:lnTo>
                    <a:pt x="4578" y="268"/>
                  </a:lnTo>
                  <a:lnTo>
                    <a:pt x="4581" y="257"/>
                  </a:lnTo>
                  <a:lnTo>
                    <a:pt x="4582" y="245"/>
                  </a:lnTo>
                  <a:lnTo>
                    <a:pt x="4583" y="232"/>
                  </a:lnTo>
                  <a:lnTo>
                    <a:pt x="4585" y="217"/>
                  </a:lnTo>
                  <a:lnTo>
                    <a:pt x="4586" y="203"/>
                  </a:lnTo>
                  <a:lnTo>
                    <a:pt x="4587" y="186"/>
                  </a:lnTo>
                  <a:lnTo>
                    <a:pt x="4588" y="170"/>
                  </a:lnTo>
                  <a:lnTo>
                    <a:pt x="4591" y="155"/>
                  </a:lnTo>
                  <a:lnTo>
                    <a:pt x="4592" y="140"/>
                  </a:lnTo>
                  <a:lnTo>
                    <a:pt x="4593" y="126"/>
                  </a:lnTo>
                  <a:lnTo>
                    <a:pt x="4595" y="112"/>
                  </a:lnTo>
                  <a:lnTo>
                    <a:pt x="4596" y="101"/>
                  </a:lnTo>
                  <a:lnTo>
                    <a:pt x="4597" y="91"/>
                  </a:lnTo>
                  <a:lnTo>
                    <a:pt x="4600" y="82"/>
                  </a:lnTo>
                  <a:lnTo>
                    <a:pt x="4601" y="76"/>
                  </a:lnTo>
                  <a:lnTo>
                    <a:pt x="4602" y="71"/>
                  </a:lnTo>
                  <a:lnTo>
                    <a:pt x="4603" y="70"/>
                  </a:lnTo>
                  <a:lnTo>
                    <a:pt x="4605" y="70"/>
                  </a:lnTo>
                  <a:lnTo>
                    <a:pt x="4606" y="72"/>
                  </a:lnTo>
                  <a:lnTo>
                    <a:pt x="4607" y="77"/>
                  </a:lnTo>
                  <a:lnTo>
                    <a:pt x="4610" y="82"/>
                  </a:lnTo>
                  <a:lnTo>
                    <a:pt x="4611" y="91"/>
                  </a:lnTo>
                  <a:lnTo>
                    <a:pt x="4612" y="101"/>
                  </a:lnTo>
                  <a:lnTo>
                    <a:pt x="4614" y="114"/>
                  </a:lnTo>
                  <a:lnTo>
                    <a:pt x="4615" y="127"/>
                  </a:lnTo>
                  <a:lnTo>
                    <a:pt x="4616" y="141"/>
                  </a:lnTo>
                  <a:lnTo>
                    <a:pt x="4617" y="156"/>
                  </a:lnTo>
                  <a:lnTo>
                    <a:pt x="4620" y="172"/>
                  </a:lnTo>
                  <a:lnTo>
                    <a:pt x="4621" y="187"/>
                  </a:lnTo>
                  <a:lnTo>
                    <a:pt x="4622" y="203"/>
                  </a:lnTo>
                  <a:lnTo>
                    <a:pt x="4624" y="218"/>
                  </a:lnTo>
                  <a:lnTo>
                    <a:pt x="4625" y="233"/>
                  </a:lnTo>
                  <a:lnTo>
                    <a:pt x="4626" y="246"/>
                  </a:lnTo>
                  <a:lnTo>
                    <a:pt x="4627" y="258"/>
                  </a:lnTo>
                  <a:lnTo>
                    <a:pt x="4630" y="270"/>
                  </a:lnTo>
                  <a:lnTo>
                    <a:pt x="4631" y="278"/>
                  </a:lnTo>
                  <a:lnTo>
                    <a:pt x="4632" y="285"/>
                  </a:lnTo>
                  <a:lnTo>
                    <a:pt x="4634" y="290"/>
                  </a:lnTo>
                  <a:lnTo>
                    <a:pt x="4635" y="293"/>
                  </a:lnTo>
                  <a:lnTo>
                    <a:pt x="4636" y="293"/>
                  </a:lnTo>
                  <a:lnTo>
                    <a:pt x="4639" y="292"/>
                  </a:lnTo>
                  <a:lnTo>
                    <a:pt x="4640" y="287"/>
                  </a:lnTo>
                  <a:lnTo>
                    <a:pt x="4641" y="282"/>
                  </a:lnTo>
                  <a:lnTo>
                    <a:pt x="4642" y="274"/>
                  </a:lnTo>
                  <a:lnTo>
                    <a:pt x="4644" y="264"/>
                  </a:lnTo>
                  <a:lnTo>
                    <a:pt x="4645" y="253"/>
                  </a:lnTo>
                  <a:lnTo>
                    <a:pt x="4646" y="239"/>
                  </a:lnTo>
                  <a:lnTo>
                    <a:pt x="4649" y="226"/>
                  </a:lnTo>
                  <a:lnTo>
                    <a:pt x="4650" y="212"/>
                  </a:lnTo>
                  <a:lnTo>
                    <a:pt x="4651" y="196"/>
                  </a:lnTo>
                  <a:lnTo>
                    <a:pt x="4653" y="180"/>
                  </a:lnTo>
                  <a:lnTo>
                    <a:pt x="4654" y="164"/>
                  </a:lnTo>
                  <a:lnTo>
                    <a:pt x="4655" y="149"/>
                  </a:lnTo>
                  <a:lnTo>
                    <a:pt x="4656" y="134"/>
                  </a:lnTo>
                  <a:lnTo>
                    <a:pt x="4659" y="120"/>
                  </a:lnTo>
                  <a:lnTo>
                    <a:pt x="4660" y="108"/>
                  </a:lnTo>
                  <a:lnTo>
                    <a:pt x="4661" y="97"/>
                  </a:lnTo>
                  <a:lnTo>
                    <a:pt x="4663" y="87"/>
                  </a:lnTo>
                  <a:lnTo>
                    <a:pt x="4664" y="79"/>
                  </a:lnTo>
                  <a:lnTo>
                    <a:pt x="4665" y="73"/>
                  </a:lnTo>
                  <a:lnTo>
                    <a:pt x="4668" y="70"/>
                  </a:lnTo>
                  <a:lnTo>
                    <a:pt x="4669" y="69"/>
                  </a:lnTo>
                  <a:lnTo>
                    <a:pt x="4670" y="70"/>
                  </a:lnTo>
                  <a:lnTo>
                    <a:pt x="4671" y="73"/>
                  </a:lnTo>
                  <a:lnTo>
                    <a:pt x="4673" y="79"/>
                  </a:lnTo>
                  <a:lnTo>
                    <a:pt x="4674" y="86"/>
                  </a:lnTo>
                  <a:lnTo>
                    <a:pt x="4675" y="96"/>
                  </a:lnTo>
                  <a:lnTo>
                    <a:pt x="4678" y="107"/>
                  </a:lnTo>
                  <a:lnTo>
                    <a:pt x="4679" y="119"/>
                  </a:lnTo>
                  <a:lnTo>
                    <a:pt x="4680" y="133"/>
                  </a:lnTo>
                  <a:lnTo>
                    <a:pt x="4681" y="147"/>
                  </a:lnTo>
                  <a:lnTo>
                    <a:pt x="4683" y="163"/>
                  </a:lnTo>
                  <a:lnTo>
                    <a:pt x="4684" y="178"/>
                  </a:lnTo>
                  <a:lnTo>
                    <a:pt x="4685" y="194"/>
                  </a:lnTo>
                  <a:lnTo>
                    <a:pt x="4688" y="209"/>
                  </a:lnTo>
                  <a:lnTo>
                    <a:pt x="4689" y="224"/>
                  </a:lnTo>
                  <a:lnTo>
                    <a:pt x="4690" y="238"/>
                  </a:lnTo>
                  <a:lnTo>
                    <a:pt x="4692" y="252"/>
                  </a:lnTo>
                  <a:lnTo>
                    <a:pt x="4693" y="263"/>
                  </a:lnTo>
                  <a:lnTo>
                    <a:pt x="4694" y="273"/>
                  </a:lnTo>
                  <a:lnTo>
                    <a:pt x="4696" y="281"/>
                  </a:lnTo>
                  <a:lnTo>
                    <a:pt x="4698" y="287"/>
                  </a:lnTo>
                  <a:lnTo>
                    <a:pt x="4699" y="292"/>
                  </a:lnTo>
                  <a:lnTo>
                    <a:pt x="4700" y="293"/>
                  </a:lnTo>
                  <a:lnTo>
                    <a:pt x="4702" y="293"/>
                  </a:lnTo>
                  <a:lnTo>
                    <a:pt x="4703" y="291"/>
                  </a:lnTo>
                  <a:lnTo>
                    <a:pt x="4704" y="286"/>
                  </a:lnTo>
                  <a:lnTo>
                    <a:pt x="4707" y="278"/>
                  </a:lnTo>
                  <a:lnTo>
                    <a:pt x="4708" y="271"/>
                  </a:lnTo>
                  <a:lnTo>
                    <a:pt x="4709" y="260"/>
                  </a:lnTo>
                  <a:lnTo>
                    <a:pt x="4710" y="247"/>
                  </a:lnTo>
                  <a:lnTo>
                    <a:pt x="4712" y="234"/>
                  </a:lnTo>
                  <a:lnTo>
                    <a:pt x="4713" y="221"/>
                  </a:lnTo>
                  <a:lnTo>
                    <a:pt x="4714" y="205"/>
                  </a:lnTo>
                  <a:lnTo>
                    <a:pt x="4717" y="189"/>
                  </a:lnTo>
                  <a:lnTo>
                    <a:pt x="4718" y="174"/>
                  </a:lnTo>
                  <a:lnTo>
                    <a:pt x="4719" y="158"/>
                  </a:lnTo>
                  <a:lnTo>
                    <a:pt x="4720" y="143"/>
                  </a:lnTo>
                  <a:lnTo>
                    <a:pt x="4722" y="128"/>
                  </a:lnTo>
                  <a:lnTo>
                    <a:pt x="4723" y="115"/>
                  </a:lnTo>
                  <a:lnTo>
                    <a:pt x="4725" y="102"/>
                  </a:lnTo>
                  <a:lnTo>
                    <a:pt x="4727" y="92"/>
                  </a:lnTo>
                  <a:lnTo>
                    <a:pt x="4728" y="83"/>
                  </a:lnTo>
                  <a:lnTo>
                    <a:pt x="4729" y="77"/>
                  </a:lnTo>
                  <a:lnTo>
                    <a:pt x="4731" y="72"/>
                  </a:lnTo>
                  <a:lnTo>
                    <a:pt x="4732" y="70"/>
                  </a:lnTo>
                  <a:lnTo>
                    <a:pt x="4733" y="69"/>
                  </a:lnTo>
                  <a:lnTo>
                    <a:pt x="4735" y="71"/>
                  </a:lnTo>
                  <a:lnTo>
                    <a:pt x="4737" y="76"/>
                  </a:lnTo>
                  <a:lnTo>
                    <a:pt x="4738" y="81"/>
                  </a:lnTo>
                  <a:lnTo>
                    <a:pt x="4739" y="89"/>
                  </a:lnTo>
                  <a:lnTo>
                    <a:pt x="4741" y="99"/>
                  </a:lnTo>
                  <a:lnTo>
                    <a:pt x="4742" y="111"/>
                  </a:lnTo>
                  <a:lnTo>
                    <a:pt x="4743" y="124"/>
                  </a:lnTo>
                  <a:lnTo>
                    <a:pt x="4746" y="138"/>
                  </a:lnTo>
                  <a:lnTo>
                    <a:pt x="4747" y="154"/>
                  </a:lnTo>
                  <a:lnTo>
                    <a:pt x="4748" y="169"/>
                  </a:lnTo>
                  <a:lnTo>
                    <a:pt x="4749" y="185"/>
                  </a:lnTo>
                  <a:lnTo>
                    <a:pt x="4751" y="200"/>
                  </a:lnTo>
                  <a:lnTo>
                    <a:pt x="4752" y="216"/>
                  </a:lnTo>
                  <a:lnTo>
                    <a:pt x="4754" y="231"/>
                  </a:lnTo>
                  <a:lnTo>
                    <a:pt x="4756" y="244"/>
                  </a:lnTo>
                  <a:lnTo>
                    <a:pt x="4757" y="256"/>
                  </a:lnTo>
                  <a:lnTo>
                    <a:pt x="4758" y="267"/>
                  </a:lnTo>
                  <a:lnTo>
                    <a:pt x="4759" y="276"/>
                  </a:lnTo>
                  <a:lnTo>
                    <a:pt x="4761" y="284"/>
                  </a:lnTo>
                  <a:lnTo>
                    <a:pt x="4762" y="290"/>
                  </a:lnTo>
                  <a:lnTo>
                    <a:pt x="4764" y="293"/>
                  </a:lnTo>
                  <a:lnTo>
                    <a:pt x="4766" y="294"/>
                  </a:lnTo>
                  <a:lnTo>
                    <a:pt x="4767" y="293"/>
                  </a:lnTo>
                  <a:lnTo>
                    <a:pt x="4768" y="288"/>
                  </a:lnTo>
                  <a:lnTo>
                    <a:pt x="4770" y="283"/>
                  </a:lnTo>
                  <a:lnTo>
                    <a:pt x="4771" y="276"/>
                  </a:lnTo>
                  <a:lnTo>
                    <a:pt x="4772" y="266"/>
                  </a:lnTo>
                  <a:lnTo>
                    <a:pt x="4774" y="255"/>
                  </a:lnTo>
                  <a:lnTo>
                    <a:pt x="4776" y="243"/>
                  </a:lnTo>
                  <a:lnTo>
                    <a:pt x="4777" y="228"/>
                  </a:lnTo>
                  <a:lnTo>
                    <a:pt x="4778" y="214"/>
                  </a:lnTo>
                  <a:lnTo>
                    <a:pt x="4780" y="198"/>
                  </a:lnTo>
                  <a:lnTo>
                    <a:pt x="4781" y="183"/>
                  </a:lnTo>
                  <a:lnTo>
                    <a:pt x="4783" y="167"/>
                  </a:lnTo>
                  <a:lnTo>
                    <a:pt x="4785" y="151"/>
                  </a:lnTo>
                  <a:lnTo>
                    <a:pt x="4786" y="137"/>
                  </a:lnTo>
                  <a:lnTo>
                    <a:pt x="4787" y="122"/>
                  </a:lnTo>
                  <a:lnTo>
                    <a:pt x="4788" y="110"/>
                  </a:lnTo>
                  <a:lnTo>
                    <a:pt x="4790" y="98"/>
                  </a:lnTo>
                  <a:lnTo>
                    <a:pt x="4791" y="88"/>
                  </a:lnTo>
                  <a:lnTo>
                    <a:pt x="4793" y="80"/>
                  </a:lnTo>
                  <a:lnTo>
                    <a:pt x="4795" y="75"/>
                  </a:lnTo>
                  <a:lnTo>
                    <a:pt x="4796" y="70"/>
                  </a:lnTo>
                  <a:lnTo>
                    <a:pt x="4797" y="69"/>
                  </a:lnTo>
                  <a:lnTo>
                    <a:pt x="4799" y="69"/>
                  </a:lnTo>
                  <a:lnTo>
                    <a:pt x="4800" y="72"/>
                  </a:lnTo>
                  <a:lnTo>
                    <a:pt x="4801" y="77"/>
                  </a:lnTo>
                  <a:lnTo>
                    <a:pt x="4803" y="85"/>
                  </a:lnTo>
                  <a:lnTo>
                    <a:pt x="4805" y="94"/>
                  </a:lnTo>
                  <a:lnTo>
                    <a:pt x="4806" y="104"/>
                  </a:lnTo>
                  <a:lnTo>
                    <a:pt x="4807" y="116"/>
                  </a:lnTo>
                  <a:lnTo>
                    <a:pt x="4809" y="129"/>
                  </a:lnTo>
                  <a:lnTo>
                    <a:pt x="4810" y="144"/>
                  </a:lnTo>
                  <a:lnTo>
                    <a:pt x="4812" y="159"/>
                  </a:lnTo>
                  <a:lnTo>
                    <a:pt x="4813" y="175"/>
                  </a:lnTo>
                  <a:lnTo>
                    <a:pt x="4815" y="190"/>
                  </a:lnTo>
                  <a:lnTo>
                    <a:pt x="4816" y="206"/>
                  </a:lnTo>
                  <a:lnTo>
                    <a:pt x="4817" y="222"/>
                  </a:lnTo>
                  <a:lnTo>
                    <a:pt x="4819" y="236"/>
                  </a:lnTo>
                  <a:lnTo>
                    <a:pt x="4820" y="249"/>
                  </a:lnTo>
                  <a:lnTo>
                    <a:pt x="4822" y="262"/>
                  </a:lnTo>
                  <a:lnTo>
                    <a:pt x="4824" y="272"/>
                  </a:lnTo>
                  <a:lnTo>
                    <a:pt x="4825" y="281"/>
                  </a:lnTo>
                  <a:lnTo>
                    <a:pt x="4826" y="286"/>
                  </a:lnTo>
                  <a:lnTo>
                    <a:pt x="4827" y="292"/>
                  </a:lnTo>
                  <a:lnTo>
                    <a:pt x="4829" y="294"/>
                  </a:lnTo>
                  <a:lnTo>
                    <a:pt x="4830" y="294"/>
                  </a:lnTo>
                  <a:lnTo>
                    <a:pt x="4832" y="292"/>
                  </a:lnTo>
                  <a:lnTo>
                    <a:pt x="4834" y="287"/>
                  </a:lnTo>
                  <a:lnTo>
                    <a:pt x="4835" y="281"/>
                  </a:lnTo>
                  <a:lnTo>
                    <a:pt x="4836" y="273"/>
                  </a:lnTo>
                  <a:lnTo>
                    <a:pt x="4838" y="263"/>
                  </a:lnTo>
                  <a:lnTo>
                    <a:pt x="4839" y="251"/>
                  </a:lnTo>
                  <a:lnTo>
                    <a:pt x="4841" y="237"/>
                  </a:lnTo>
                  <a:lnTo>
                    <a:pt x="4842" y="224"/>
                  </a:lnTo>
                  <a:lnTo>
                    <a:pt x="4844" y="208"/>
                  </a:lnTo>
                  <a:lnTo>
                    <a:pt x="4845" y="193"/>
                  </a:lnTo>
                  <a:lnTo>
                    <a:pt x="4846" y="177"/>
                  </a:lnTo>
                  <a:lnTo>
                    <a:pt x="4848" y="160"/>
                  </a:lnTo>
                  <a:lnTo>
                    <a:pt x="4849" y="146"/>
                  </a:lnTo>
                  <a:lnTo>
                    <a:pt x="4851" y="131"/>
                  </a:lnTo>
                  <a:lnTo>
                    <a:pt x="4852" y="117"/>
                  </a:lnTo>
                  <a:lnTo>
                    <a:pt x="4854" y="105"/>
                  </a:lnTo>
                  <a:lnTo>
                    <a:pt x="4855" y="94"/>
                  </a:lnTo>
                  <a:lnTo>
                    <a:pt x="4856" y="85"/>
                  </a:lnTo>
                  <a:lnTo>
                    <a:pt x="4858" y="78"/>
                  </a:lnTo>
                  <a:lnTo>
                    <a:pt x="4859" y="72"/>
                  </a:lnTo>
                  <a:lnTo>
                    <a:pt x="4861" y="69"/>
                  </a:lnTo>
                  <a:lnTo>
                    <a:pt x="4863" y="68"/>
                  </a:lnTo>
                  <a:lnTo>
                    <a:pt x="4864" y="70"/>
                  </a:lnTo>
                  <a:lnTo>
                    <a:pt x="4865" y="73"/>
                  </a:lnTo>
                  <a:lnTo>
                    <a:pt x="4866" y="79"/>
                  </a:lnTo>
                  <a:lnTo>
                    <a:pt x="4868" y="87"/>
                  </a:lnTo>
                  <a:lnTo>
                    <a:pt x="4870" y="97"/>
                  </a:lnTo>
                  <a:lnTo>
                    <a:pt x="4871" y="108"/>
                  </a:lnTo>
                  <a:lnTo>
                    <a:pt x="4873" y="120"/>
                  </a:lnTo>
                  <a:lnTo>
                    <a:pt x="4874" y="135"/>
                  </a:lnTo>
                  <a:lnTo>
                    <a:pt x="4875" y="149"/>
                  </a:lnTo>
                  <a:lnTo>
                    <a:pt x="4877" y="165"/>
                  </a:lnTo>
                  <a:lnTo>
                    <a:pt x="4878" y="182"/>
                  </a:lnTo>
                  <a:lnTo>
                    <a:pt x="4880" y="197"/>
                  </a:lnTo>
                  <a:lnTo>
                    <a:pt x="4881" y="213"/>
                  </a:lnTo>
                  <a:lnTo>
                    <a:pt x="4883" y="227"/>
                  </a:lnTo>
                  <a:lnTo>
                    <a:pt x="4884" y="242"/>
                  </a:lnTo>
                  <a:lnTo>
                    <a:pt x="4885" y="254"/>
                  </a:lnTo>
                  <a:lnTo>
                    <a:pt x="4887" y="266"/>
                  </a:lnTo>
                  <a:lnTo>
                    <a:pt x="4888" y="275"/>
                  </a:lnTo>
                  <a:lnTo>
                    <a:pt x="4890" y="284"/>
                  </a:lnTo>
                  <a:lnTo>
                    <a:pt x="4892" y="290"/>
                  </a:lnTo>
                  <a:lnTo>
                    <a:pt x="4893" y="293"/>
                  </a:lnTo>
                  <a:lnTo>
                    <a:pt x="4894" y="294"/>
                  </a:lnTo>
                  <a:lnTo>
                    <a:pt x="4895" y="294"/>
                  </a:lnTo>
                  <a:lnTo>
                    <a:pt x="4897" y="291"/>
                  </a:lnTo>
                  <a:lnTo>
                    <a:pt x="4899" y="286"/>
                  </a:lnTo>
                  <a:lnTo>
                    <a:pt x="4900" y="278"/>
                  </a:lnTo>
                  <a:lnTo>
                    <a:pt x="4902" y="270"/>
                  </a:lnTo>
                  <a:lnTo>
                    <a:pt x="4903" y="258"/>
                  </a:lnTo>
                  <a:lnTo>
                    <a:pt x="4904" y="246"/>
                  </a:lnTo>
                  <a:lnTo>
                    <a:pt x="4905" y="233"/>
                  </a:lnTo>
                  <a:lnTo>
                    <a:pt x="4907" y="218"/>
                  </a:lnTo>
                  <a:lnTo>
                    <a:pt x="4909" y="203"/>
                  </a:lnTo>
                  <a:lnTo>
                    <a:pt x="4910" y="186"/>
                  </a:lnTo>
                  <a:lnTo>
                    <a:pt x="4912" y="170"/>
                  </a:lnTo>
                  <a:lnTo>
                    <a:pt x="4913" y="155"/>
                  </a:lnTo>
                  <a:lnTo>
                    <a:pt x="4914" y="139"/>
                  </a:lnTo>
                  <a:lnTo>
                    <a:pt x="4916" y="125"/>
                  </a:lnTo>
                  <a:lnTo>
                    <a:pt x="4917" y="111"/>
                  </a:lnTo>
                  <a:lnTo>
                    <a:pt x="4919" y="100"/>
                  </a:lnTo>
                  <a:lnTo>
                    <a:pt x="4920" y="89"/>
                  </a:lnTo>
                  <a:lnTo>
                    <a:pt x="4922" y="81"/>
                  </a:lnTo>
                  <a:lnTo>
                    <a:pt x="4923" y="75"/>
                  </a:lnTo>
                  <a:lnTo>
                    <a:pt x="4924" y="70"/>
                  </a:lnTo>
                  <a:lnTo>
                    <a:pt x="4926" y="68"/>
                  </a:lnTo>
                  <a:lnTo>
                    <a:pt x="4928" y="68"/>
                  </a:lnTo>
                  <a:lnTo>
                    <a:pt x="4929" y="70"/>
                  </a:lnTo>
                  <a:lnTo>
                    <a:pt x="4931" y="75"/>
                  </a:lnTo>
                  <a:lnTo>
                    <a:pt x="4932" y="81"/>
                  </a:lnTo>
                  <a:lnTo>
                    <a:pt x="4933" y="90"/>
                  </a:lnTo>
                  <a:lnTo>
                    <a:pt x="4934" y="100"/>
                  </a:lnTo>
                  <a:lnTo>
                    <a:pt x="4936" y="112"/>
                  </a:lnTo>
                  <a:lnTo>
                    <a:pt x="4938" y="126"/>
                  </a:lnTo>
                  <a:lnTo>
                    <a:pt x="4939" y="140"/>
                  </a:lnTo>
                  <a:lnTo>
                    <a:pt x="4941" y="156"/>
                  </a:lnTo>
                  <a:lnTo>
                    <a:pt x="4942" y="172"/>
                  </a:lnTo>
                  <a:lnTo>
                    <a:pt x="4943" y="187"/>
                  </a:lnTo>
                  <a:lnTo>
                    <a:pt x="4944" y="203"/>
                  </a:lnTo>
                  <a:lnTo>
                    <a:pt x="4947" y="218"/>
                  </a:lnTo>
                  <a:lnTo>
                    <a:pt x="4948" y="234"/>
                  </a:lnTo>
                  <a:lnTo>
                    <a:pt x="4949" y="247"/>
                  </a:lnTo>
                  <a:lnTo>
                    <a:pt x="4951" y="260"/>
                  </a:lnTo>
                  <a:lnTo>
                    <a:pt x="4952" y="271"/>
                  </a:lnTo>
                  <a:lnTo>
                    <a:pt x="4953" y="280"/>
                  </a:lnTo>
                  <a:lnTo>
                    <a:pt x="4955" y="286"/>
                  </a:lnTo>
                  <a:lnTo>
                    <a:pt x="4957" y="292"/>
                  </a:lnTo>
                  <a:lnTo>
                    <a:pt x="4958" y="295"/>
                  </a:lnTo>
                  <a:lnTo>
                    <a:pt x="4959" y="295"/>
                  </a:lnTo>
                  <a:lnTo>
                    <a:pt x="4961" y="294"/>
                  </a:lnTo>
                  <a:lnTo>
                    <a:pt x="4962" y="290"/>
                  </a:lnTo>
                  <a:lnTo>
                    <a:pt x="4963" y="284"/>
                  </a:lnTo>
                  <a:lnTo>
                    <a:pt x="4965" y="276"/>
                  </a:lnTo>
                  <a:lnTo>
                    <a:pt x="4967" y="266"/>
                  </a:lnTo>
                  <a:lnTo>
                    <a:pt x="4968" y="255"/>
                  </a:lnTo>
                  <a:lnTo>
                    <a:pt x="4970" y="242"/>
                  </a:lnTo>
                  <a:lnTo>
                    <a:pt x="4971" y="227"/>
                  </a:lnTo>
                  <a:lnTo>
                    <a:pt x="4972" y="212"/>
                  </a:lnTo>
                  <a:lnTo>
                    <a:pt x="4973" y="196"/>
                  </a:lnTo>
                  <a:lnTo>
                    <a:pt x="4976" y="180"/>
                  </a:lnTo>
                  <a:lnTo>
                    <a:pt x="4977" y="165"/>
                  </a:lnTo>
                  <a:lnTo>
                    <a:pt x="4978" y="148"/>
                  </a:lnTo>
                  <a:lnTo>
                    <a:pt x="4980" y="134"/>
                  </a:lnTo>
                  <a:lnTo>
                    <a:pt x="4981" y="119"/>
                  </a:lnTo>
                  <a:lnTo>
                    <a:pt x="4982" y="107"/>
                  </a:lnTo>
                  <a:lnTo>
                    <a:pt x="4983" y="95"/>
                  </a:lnTo>
                  <a:lnTo>
                    <a:pt x="4986" y="86"/>
                  </a:lnTo>
                  <a:lnTo>
                    <a:pt x="4987" y="78"/>
                  </a:lnTo>
                  <a:lnTo>
                    <a:pt x="4988" y="72"/>
                  </a:lnTo>
                  <a:lnTo>
                    <a:pt x="4990" y="68"/>
                  </a:lnTo>
                  <a:lnTo>
                    <a:pt x="4991" y="67"/>
                  </a:lnTo>
                  <a:lnTo>
                    <a:pt x="4992" y="68"/>
                  </a:lnTo>
                  <a:lnTo>
                    <a:pt x="4994" y="71"/>
                  </a:lnTo>
                  <a:lnTo>
                    <a:pt x="4996" y="76"/>
                  </a:lnTo>
                  <a:lnTo>
                    <a:pt x="4997" y="83"/>
                  </a:lnTo>
                  <a:lnTo>
                    <a:pt x="4998" y="94"/>
                  </a:lnTo>
                  <a:lnTo>
                    <a:pt x="5000" y="105"/>
                  </a:lnTo>
                  <a:lnTo>
                    <a:pt x="5001" y="117"/>
                  </a:lnTo>
                  <a:lnTo>
                    <a:pt x="5002" y="130"/>
                  </a:lnTo>
                  <a:lnTo>
                    <a:pt x="5005" y="146"/>
                  </a:lnTo>
                  <a:lnTo>
                    <a:pt x="5006" y="161"/>
                  </a:lnTo>
                  <a:lnTo>
                    <a:pt x="5007" y="177"/>
                  </a:lnTo>
                  <a:lnTo>
                    <a:pt x="5009" y="194"/>
                  </a:lnTo>
                  <a:lnTo>
                    <a:pt x="5010" y="209"/>
                  </a:lnTo>
                  <a:lnTo>
                    <a:pt x="5011" y="225"/>
                  </a:lnTo>
                  <a:lnTo>
                    <a:pt x="5012" y="239"/>
                  </a:lnTo>
                  <a:lnTo>
                    <a:pt x="5015" y="253"/>
                  </a:lnTo>
                  <a:lnTo>
                    <a:pt x="5016" y="265"/>
                  </a:lnTo>
                  <a:lnTo>
                    <a:pt x="5017" y="275"/>
                  </a:lnTo>
                  <a:lnTo>
                    <a:pt x="5019" y="283"/>
                  </a:lnTo>
                  <a:lnTo>
                    <a:pt x="5020" y="290"/>
                  </a:lnTo>
                  <a:lnTo>
                    <a:pt x="5021" y="294"/>
                  </a:lnTo>
                  <a:lnTo>
                    <a:pt x="5023" y="296"/>
                  </a:lnTo>
                  <a:lnTo>
                    <a:pt x="5025" y="296"/>
                  </a:lnTo>
                  <a:lnTo>
                    <a:pt x="5026" y="294"/>
                  </a:lnTo>
                  <a:lnTo>
                    <a:pt x="5027" y="288"/>
                  </a:lnTo>
                  <a:lnTo>
                    <a:pt x="5029" y="282"/>
                  </a:lnTo>
                  <a:lnTo>
                    <a:pt x="5030" y="273"/>
                  </a:lnTo>
                  <a:lnTo>
                    <a:pt x="5031" y="263"/>
                  </a:lnTo>
                  <a:lnTo>
                    <a:pt x="5034" y="251"/>
                  </a:lnTo>
                  <a:lnTo>
                    <a:pt x="5035" y="237"/>
                  </a:lnTo>
                  <a:lnTo>
                    <a:pt x="5036" y="222"/>
                  </a:lnTo>
                  <a:lnTo>
                    <a:pt x="5037" y="206"/>
                  </a:lnTo>
                  <a:lnTo>
                    <a:pt x="5039" y="190"/>
                  </a:lnTo>
                  <a:lnTo>
                    <a:pt x="5040" y="174"/>
                  </a:lnTo>
                  <a:lnTo>
                    <a:pt x="5041" y="158"/>
                  </a:lnTo>
                  <a:lnTo>
                    <a:pt x="5044" y="143"/>
                  </a:lnTo>
                  <a:lnTo>
                    <a:pt x="5045" y="128"/>
                  </a:lnTo>
                  <a:lnTo>
                    <a:pt x="5046" y="114"/>
                  </a:lnTo>
                  <a:lnTo>
                    <a:pt x="5048" y="101"/>
                  </a:lnTo>
                  <a:lnTo>
                    <a:pt x="5049" y="90"/>
                  </a:lnTo>
                  <a:lnTo>
                    <a:pt x="5050" y="81"/>
                  </a:lnTo>
                  <a:lnTo>
                    <a:pt x="5051" y="75"/>
                  </a:lnTo>
                  <a:lnTo>
                    <a:pt x="5054" y="69"/>
                  </a:lnTo>
                  <a:lnTo>
                    <a:pt x="5055" y="67"/>
                  </a:lnTo>
                  <a:lnTo>
                    <a:pt x="5056" y="66"/>
                  </a:lnTo>
                  <a:lnTo>
                    <a:pt x="5058" y="68"/>
                  </a:lnTo>
                  <a:lnTo>
                    <a:pt x="5059" y="71"/>
                  </a:lnTo>
                  <a:lnTo>
                    <a:pt x="5060" y="78"/>
                  </a:lnTo>
                  <a:lnTo>
                    <a:pt x="5063" y="86"/>
                  </a:lnTo>
                  <a:lnTo>
                    <a:pt x="5064" y="96"/>
                  </a:lnTo>
                  <a:lnTo>
                    <a:pt x="5065" y="108"/>
                  </a:lnTo>
                  <a:lnTo>
                    <a:pt x="5066" y="121"/>
                  </a:lnTo>
                  <a:lnTo>
                    <a:pt x="5068" y="136"/>
                  </a:lnTo>
                  <a:lnTo>
                    <a:pt x="5069" y="151"/>
                  </a:lnTo>
                  <a:lnTo>
                    <a:pt x="5070" y="167"/>
                  </a:lnTo>
                  <a:lnTo>
                    <a:pt x="5073" y="184"/>
                  </a:lnTo>
                  <a:lnTo>
                    <a:pt x="5074" y="199"/>
                  </a:lnTo>
                  <a:lnTo>
                    <a:pt x="5075" y="216"/>
                  </a:lnTo>
                  <a:lnTo>
                    <a:pt x="5076" y="231"/>
                  </a:lnTo>
                  <a:lnTo>
                    <a:pt x="5078" y="245"/>
                  </a:lnTo>
                  <a:lnTo>
                    <a:pt x="5079" y="258"/>
                  </a:lnTo>
                  <a:lnTo>
                    <a:pt x="5080" y="270"/>
                  </a:lnTo>
                  <a:lnTo>
                    <a:pt x="5083" y="280"/>
                  </a:lnTo>
                  <a:lnTo>
                    <a:pt x="5084" y="287"/>
                  </a:lnTo>
                  <a:lnTo>
                    <a:pt x="5085" y="293"/>
                  </a:lnTo>
                  <a:lnTo>
                    <a:pt x="5087" y="296"/>
                  </a:lnTo>
                  <a:lnTo>
                    <a:pt x="5088" y="297"/>
                  </a:lnTo>
                  <a:lnTo>
                    <a:pt x="5089" y="296"/>
                  </a:lnTo>
                  <a:lnTo>
                    <a:pt x="5090" y="293"/>
                  </a:lnTo>
                  <a:lnTo>
                    <a:pt x="5093" y="287"/>
                  </a:lnTo>
                  <a:lnTo>
                    <a:pt x="5094" y="280"/>
                  </a:lnTo>
                  <a:lnTo>
                    <a:pt x="5095" y="271"/>
                  </a:lnTo>
                  <a:lnTo>
                    <a:pt x="5097" y="260"/>
                  </a:lnTo>
                  <a:lnTo>
                    <a:pt x="5098" y="246"/>
                  </a:lnTo>
                  <a:lnTo>
                    <a:pt x="5099" y="232"/>
                  </a:lnTo>
                  <a:lnTo>
                    <a:pt x="5102" y="216"/>
                  </a:lnTo>
                  <a:lnTo>
                    <a:pt x="5103" y="200"/>
                  </a:lnTo>
                  <a:lnTo>
                    <a:pt x="5104" y="184"/>
                  </a:lnTo>
                  <a:lnTo>
                    <a:pt x="5105" y="168"/>
                  </a:lnTo>
                  <a:lnTo>
                    <a:pt x="5107" y="151"/>
                  </a:lnTo>
                  <a:lnTo>
                    <a:pt x="5108" y="136"/>
                  </a:lnTo>
                  <a:lnTo>
                    <a:pt x="5109" y="121"/>
                  </a:lnTo>
                  <a:lnTo>
                    <a:pt x="5112" y="108"/>
                  </a:lnTo>
                  <a:lnTo>
                    <a:pt x="5113" y="96"/>
                  </a:lnTo>
                  <a:lnTo>
                    <a:pt x="5114" y="86"/>
                  </a:lnTo>
                  <a:lnTo>
                    <a:pt x="5115" y="77"/>
                  </a:lnTo>
                  <a:lnTo>
                    <a:pt x="5117" y="71"/>
                  </a:lnTo>
                  <a:lnTo>
                    <a:pt x="5118" y="67"/>
                  </a:lnTo>
                  <a:lnTo>
                    <a:pt x="5119" y="65"/>
                  </a:lnTo>
                  <a:lnTo>
                    <a:pt x="5122" y="65"/>
                  </a:lnTo>
                  <a:lnTo>
                    <a:pt x="5123" y="68"/>
                  </a:lnTo>
                  <a:lnTo>
                    <a:pt x="5124" y="72"/>
                  </a:lnTo>
                  <a:lnTo>
                    <a:pt x="5126" y="79"/>
                  </a:lnTo>
                  <a:lnTo>
                    <a:pt x="5127" y="89"/>
                  </a:lnTo>
                  <a:lnTo>
                    <a:pt x="5128" y="99"/>
                  </a:lnTo>
                  <a:lnTo>
                    <a:pt x="5129" y="112"/>
                  </a:lnTo>
                  <a:lnTo>
                    <a:pt x="5132" y="126"/>
                  </a:lnTo>
                  <a:lnTo>
                    <a:pt x="5133" y="141"/>
                  </a:lnTo>
                  <a:lnTo>
                    <a:pt x="5134" y="157"/>
                  </a:lnTo>
                  <a:lnTo>
                    <a:pt x="5136" y="174"/>
                  </a:lnTo>
                  <a:lnTo>
                    <a:pt x="5137" y="189"/>
                  </a:lnTo>
                  <a:lnTo>
                    <a:pt x="5138" y="206"/>
                  </a:lnTo>
                  <a:lnTo>
                    <a:pt x="5141" y="222"/>
                  </a:lnTo>
                  <a:lnTo>
                    <a:pt x="5142" y="237"/>
                  </a:lnTo>
                  <a:lnTo>
                    <a:pt x="5143" y="251"/>
                  </a:lnTo>
                  <a:lnTo>
                    <a:pt x="5144" y="264"/>
                  </a:lnTo>
                  <a:lnTo>
                    <a:pt x="5146" y="275"/>
                  </a:lnTo>
                  <a:lnTo>
                    <a:pt x="5147" y="284"/>
                  </a:lnTo>
                  <a:lnTo>
                    <a:pt x="5148" y="291"/>
                  </a:lnTo>
                  <a:lnTo>
                    <a:pt x="5151" y="296"/>
                  </a:lnTo>
                  <a:lnTo>
                    <a:pt x="5152" y="299"/>
                  </a:lnTo>
                  <a:lnTo>
                    <a:pt x="5153" y="299"/>
                  </a:lnTo>
                  <a:lnTo>
                    <a:pt x="5155" y="297"/>
                  </a:lnTo>
                  <a:lnTo>
                    <a:pt x="5156" y="293"/>
                  </a:lnTo>
                  <a:lnTo>
                    <a:pt x="5157" y="286"/>
                  </a:lnTo>
                  <a:lnTo>
                    <a:pt x="5158" y="277"/>
                  </a:lnTo>
                  <a:lnTo>
                    <a:pt x="5161" y="267"/>
                  </a:lnTo>
                  <a:lnTo>
                    <a:pt x="5162" y="255"/>
                  </a:lnTo>
                  <a:lnTo>
                    <a:pt x="5163" y="242"/>
                  </a:lnTo>
                  <a:lnTo>
                    <a:pt x="5165" y="227"/>
                  </a:lnTo>
                  <a:lnTo>
                    <a:pt x="5166" y="211"/>
                  </a:lnTo>
                  <a:lnTo>
                    <a:pt x="5167" y="195"/>
                  </a:lnTo>
                  <a:lnTo>
                    <a:pt x="5168" y="178"/>
                  </a:lnTo>
                  <a:lnTo>
                    <a:pt x="5171" y="161"/>
                  </a:lnTo>
                  <a:lnTo>
                    <a:pt x="5172" y="145"/>
                  </a:lnTo>
                  <a:lnTo>
                    <a:pt x="5173" y="130"/>
                  </a:lnTo>
                  <a:lnTo>
                    <a:pt x="5175" y="116"/>
                  </a:lnTo>
                  <a:lnTo>
                    <a:pt x="5176" y="102"/>
                  </a:lnTo>
                  <a:lnTo>
                    <a:pt x="5177" y="90"/>
                  </a:lnTo>
                  <a:lnTo>
                    <a:pt x="5180" y="81"/>
                  </a:lnTo>
                  <a:lnTo>
                    <a:pt x="5181" y="73"/>
                  </a:lnTo>
                  <a:lnTo>
                    <a:pt x="5182" y="67"/>
                  </a:lnTo>
                  <a:lnTo>
                    <a:pt x="5183" y="63"/>
                  </a:lnTo>
                  <a:lnTo>
                    <a:pt x="5185" y="62"/>
                  </a:lnTo>
                  <a:lnTo>
                    <a:pt x="5186" y="63"/>
                  </a:lnTo>
                  <a:lnTo>
                    <a:pt x="5187" y="68"/>
                  </a:lnTo>
                  <a:lnTo>
                    <a:pt x="5190" y="73"/>
                  </a:lnTo>
                  <a:lnTo>
                    <a:pt x="5191" y="81"/>
                  </a:lnTo>
                  <a:lnTo>
                    <a:pt x="5192" y="91"/>
                  </a:lnTo>
                  <a:lnTo>
                    <a:pt x="5194" y="104"/>
                  </a:lnTo>
                  <a:lnTo>
                    <a:pt x="5195" y="116"/>
                  </a:lnTo>
                  <a:lnTo>
                    <a:pt x="5196" y="131"/>
                  </a:lnTo>
                  <a:lnTo>
                    <a:pt x="5198" y="147"/>
                  </a:lnTo>
                  <a:lnTo>
                    <a:pt x="5200" y="163"/>
                  </a:lnTo>
                  <a:lnTo>
                    <a:pt x="5201" y="179"/>
                  </a:lnTo>
                  <a:lnTo>
                    <a:pt x="5202" y="196"/>
                  </a:lnTo>
                  <a:lnTo>
                    <a:pt x="5204" y="213"/>
                  </a:lnTo>
                  <a:lnTo>
                    <a:pt x="5205" y="228"/>
                  </a:lnTo>
                  <a:lnTo>
                    <a:pt x="5206" y="244"/>
                  </a:lnTo>
                  <a:lnTo>
                    <a:pt x="5208" y="257"/>
                  </a:lnTo>
                  <a:lnTo>
                    <a:pt x="5210" y="270"/>
                  </a:lnTo>
                  <a:lnTo>
                    <a:pt x="5211" y="280"/>
                  </a:lnTo>
                  <a:lnTo>
                    <a:pt x="5212" y="288"/>
                  </a:lnTo>
                  <a:lnTo>
                    <a:pt x="5214" y="295"/>
                  </a:lnTo>
                  <a:lnTo>
                    <a:pt x="5215" y="299"/>
                  </a:lnTo>
                  <a:lnTo>
                    <a:pt x="5216" y="301"/>
                  </a:lnTo>
                  <a:lnTo>
                    <a:pt x="5219" y="301"/>
                  </a:lnTo>
                  <a:lnTo>
                    <a:pt x="5220" y="297"/>
                  </a:lnTo>
                  <a:lnTo>
                    <a:pt x="5221" y="292"/>
                  </a:lnTo>
                  <a:lnTo>
                    <a:pt x="5222" y="285"/>
                  </a:lnTo>
                  <a:lnTo>
                    <a:pt x="5224" y="275"/>
                  </a:lnTo>
                  <a:lnTo>
                    <a:pt x="5225" y="264"/>
                  </a:lnTo>
                  <a:lnTo>
                    <a:pt x="5227" y="251"/>
                  </a:lnTo>
                  <a:lnTo>
                    <a:pt x="5229" y="237"/>
                  </a:lnTo>
                  <a:lnTo>
                    <a:pt x="5230" y="222"/>
                  </a:lnTo>
                  <a:lnTo>
                    <a:pt x="5231" y="205"/>
                  </a:lnTo>
                  <a:lnTo>
                    <a:pt x="5233" y="188"/>
                  </a:lnTo>
                  <a:lnTo>
                    <a:pt x="5234" y="172"/>
                  </a:lnTo>
                  <a:lnTo>
                    <a:pt x="5235" y="155"/>
                  </a:lnTo>
                  <a:lnTo>
                    <a:pt x="5237" y="138"/>
                  </a:lnTo>
                  <a:lnTo>
                    <a:pt x="5239" y="124"/>
                  </a:lnTo>
                  <a:lnTo>
                    <a:pt x="5240" y="109"/>
                  </a:lnTo>
                  <a:lnTo>
                    <a:pt x="5241" y="96"/>
                  </a:lnTo>
                  <a:lnTo>
                    <a:pt x="5243" y="85"/>
                  </a:lnTo>
                  <a:lnTo>
                    <a:pt x="5244" y="76"/>
                  </a:lnTo>
                  <a:lnTo>
                    <a:pt x="5245" y="69"/>
                  </a:lnTo>
                  <a:lnTo>
                    <a:pt x="5248" y="63"/>
                  </a:lnTo>
                  <a:lnTo>
                    <a:pt x="5249" y="61"/>
                  </a:lnTo>
                  <a:lnTo>
                    <a:pt x="5250" y="61"/>
                  </a:lnTo>
                  <a:lnTo>
                    <a:pt x="5251" y="63"/>
                  </a:lnTo>
                  <a:lnTo>
                    <a:pt x="5253" y="68"/>
                  </a:lnTo>
                  <a:lnTo>
                    <a:pt x="5254" y="75"/>
                  </a:lnTo>
                  <a:lnTo>
                    <a:pt x="5256" y="83"/>
                  </a:lnTo>
                  <a:lnTo>
                    <a:pt x="5258" y="95"/>
                  </a:lnTo>
                  <a:lnTo>
                    <a:pt x="5259" y="107"/>
                  </a:lnTo>
                  <a:lnTo>
                    <a:pt x="5260" y="121"/>
                  </a:lnTo>
                  <a:lnTo>
                    <a:pt x="5261" y="136"/>
                  </a:lnTo>
                  <a:lnTo>
                    <a:pt x="5263" y="153"/>
                  </a:lnTo>
                  <a:lnTo>
                    <a:pt x="5264" y="169"/>
                  </a:lnTo>
                  <a:lnTo>
                    <a:pt x="5266" y="186"/>
                  </a:lnTo>
                  <a:lnTo>
                    <a:pt x="5268" y="203"/>
                  </a:lnTo>
                  <a:lnTo>
                    <a:pt x="5269" y="219"/>
                  </a:lnTo>
                  <a:lnTo>
                    <a:pt x="5270" y="235"/>
                  </a:lnTo>
                  <a:lnTo>
                    <a:pt x="5272" y="249"/>
                  </a:lnTo>
                  <a:lnTo>
                    <a:pt x="5273" y="263"/>
                  </a:lnTo>
                  <a:lnTo>
                    <a:pt x="5274" y="275"/>
                  </a:lnTo>
                  <a:lnTo>
                    <a:pt x="5276" y="285"/>
                  </a:lnTo>
                  <a:lnTo>
                    <a:pt x="5278" y="293"/>
                  </a:lnTo>
                  <a:lnTo>
                    <a:pt x="5279" y="299"/>
                  </a:lnTo>
                  <a:lnTo>
                    <a:pt x="5280" y="302"/>
                  </a:lnTo>
                  <a:lnTo>
                    <a:pt x="5282" y="303"/>
                  </a:lnTo>
                  <a:lnTo>
                    <a:pt x="5283" y="302"/>
                  </a:lnTo>
                  <a:lnTo>
                    <a:pt x="5285" y="297"/>
                  </a:lnTo>
                  <a:lnTo>
                    <a:pt x="5287" y="292"/>
                  </a:lnTo>
                  <a:lnTo>
                    <a:pt x="5288" y="283"/>
                  </a:lnTo>
                  <a:lnTo>
                    <a:pt x="5289" y="273"/>
                  </a:lnTo>
                  <a:lnTo>
                    <a:pt x="5290" y="261"/>
                  </a:lnTo>
                  <a:lnTo>
                    <a:pt x="5292" y="247"/>
                  </a:lnTo>
                  <a:lnTo>
                    <a:pt x="5293" y="232"/>
                  </a:lnTo>
                  <a:lnTo>
                    <a:pt x="5295" y="216"/>
                  </a:lnTo>
                  <a:lnTo>
                    <a:pt x="5297" y="199"/>
                  </a:lnTo>
                  <a:lnTo>
                    <a:pt x="5298" y="182"/>
                  </a:lnTo>
                  <a:lnTo>
                    <a:pt x="5299" y="165"/>
                  </a:lnTo>
                  <a:lnTo>
                    <a:pt x="5300" y="148"/>
                  </a:lnTo>
                  <a:lnTo>
                    <a:pt x="5302" y="131"/>
                  </a:lnTo>
                  <a:lnTo>
                    <a:pt x="5303" y="117"/>
                  </a:lnTo>
                  <a:lnTo>
                    <a:pt x="5305" y="102"/>
                  </a:lnTo>
                  <a:lnTo>
                    <a:pt x="5307" y="90"/>
                  </a:lnTo>
                  <a:lnTo>
                    <a:pt x="5308" y="79"/>
                  </a:lnTo>
                  <a:lnTo>
                    <a:pt x="5309" y="71"/>
                  </a:lnTo>
                  <a:lnTo>
                    <a:pt x="5311" y="65"/>
                  </a:lnTo>
                  <a:lnTo>
                    <a:pt x="5312" y="60"/>
                  </a:lnTo>
                  <a:lnTo>
                    <a:pt x="5314" y="59"/>
                  </a:lnTo>
                  <a:lnTo>
                    <a:pt x="5315" y="59"/>
                  </a:lnTo>
                  <a:lnTo>
                    <a:pt x="5317" y="62"/>
                  </a:lnTo>
                  <a:lnTo>
                    <a:pt x="5318" y="68"/>
                  </a:lnTo>
                  <a:lnTo>
                    <a:pt x="5319" y="76"/>
                  </a:lnTo>
                  <a:lnTo>
                    <a:pt x="5321" y="86"/>
                  </a:lnTo>
                  <a:lnTo>
                    <a:pt x="5322" y="98"/>
                  </a:lnTo>
                  <a:lnTo>
                    <a:pt x="5324" y="111"/>
                  </a:lnTo>
                  <a:lnTo>
                    <a:pt x="5326" y="126"/>
                  </a:lnTo>
                  <a:lnTo>
                    <a:pt x="5327" y="141"/>
                  </a:lnTo>
                  <a:lnTo>
                    <a:pt x="5328" y="158"/>
                  </a:lnTo>
                  <a:lnTo>
                    <a:pt x="5329" y="176"/>
                  </a:lnTo>
                  <a:lnTo>
                    <a:pt x="5331" y="193"/>
                  </a:lnTo>
                  <a:lnTo>
                    <a:pt x="5332" y="211"/>
                  </a:lnTo>
                  <a:lnTo>
                    <a:pt x="5334" y="227"/>
                  </a:lnTo>
                  <a:lnTo>
                    <a:pt x="5336" y="243"/>
                  </a:lnTo>
                  <a:lnTo>
                    <a:pt x="5337" y="257"/>
                  </a:lnTo>
                  <a:lnTo>
                    <a:pt x="5338" y="270"/>
                  </a:lnTo>
                  <a:lnTo>
                    <a:pt x="5339" y="281"/>
                  </a:lnTo>
                  <a:lnTo>
                    <a:pt x="5341" y="291"/>
                  </a:lnTo>
                  <a:lnTo>
                    <a:pt x="5343" y="297"/>
                  </a:lnTo>
                  <a:lnTo>
                    <a:pt x="5344" y="302"/>
                  </a:lnTo>
                  <a:lnTo>
                    <a:pt x="5346" y="305"/>
                  </a:lnTo>
                  <a:lnTo>
                    <a:pt x="5347" y="305"/>
                  </a:lnTo>
                  <a:lnTo>
                    <a:pt x="5348" y="302"/>
                  </a:lnTo>
                  <a:lnTo>
                    <a:pt x="5350" y="297"/>
                  </a:lnTo>
                  <a:lnTo>
                    <a:pt x="5351" y="291"/>
                  </a:lnTo>
                  <a:lnTo>
                    <a:pt x="5353" y="281"/>
                  </a:lnTo>
                  <a:lnTo>
                    <a:pt x="5354" y="270"/>
                  </a:lnTo>
                  <a:lnTo>
                    <a:pt x="5356" y="256"/>
                  </a:lnTo>
                  <a:lnTo>
                    <a:pt x="5357" y="242"/>
                  </a:lnTo>
                  <a:lnTo>
                    <a:pt x="5358" y="226"/>
                  </a:lnTo>
                  <a:lnTo>
                    <a:pt x="5360" y="209"/>
                  </a:lnTo>
                  <a:lnTo>
                    <a:pt x="5361" y="193"/>
                  </a:lnTo>
                  <a:lnTo>
                    <a:pt x="5363" y="175"/>
                  </a:lnTo>
                  <a:lnTo>
                    <a:pt x="5365" y="157"/>
                  </a:lnTo>
                  <a:lnTo>
                    <a:pt x="5366" y="140"/>
                  </a:lnTo>
                  <a:lnTo>
                    <a:pt x="5367" y="125"/>
                  </a:lnTo>
                  <a:lnTo>
                    <a:pt x="5368" y="109"/>
                  </a:lnTo>
                  <a:lnTo>
                    <a:pt x="5370" y="96"/>
                  </a:lnTo>
                  <a:lnTo>
                    <a:pt x="5372" y="83"/>
                  </a:lnTo>
                  <a:lnTo>
                    <a:pt x="5373" y="73"/>
                  </a:lnTo>
                  <a:lnTo>
                    <a:pt x="5375" y="66"/>
                  </a:lnTo>
                  <a:lnTo>
                    <a:pt x="5376" y="60"/>
                  </a:lnTo>
                  <a:lnTo>
                    <a:pt x="5377" y="57"/>
                  </a:lnTo>
                  <a:lnTo>
                    <a:pt x="5379" y="57"/>
                  </a:lnTo>
                  <a:lnTo>
                    <a:pt x="5380" y="58"/>
                  </a:lnTo>
                  <a:lnTo>
                    <a:pt x="5382" y="62"/>
                  </a:lnTo>
                  <a:lnTo>
                    <a:pt x="5383" y="69"/>
                  </a:lnTo>
                  <a:lnTo>
                    <a:pt x="5385" y="78"/>
                  </a:lnTo>
                  <a:lnTo>
                    <a:pt x="5386" y="88"/>
                  </a:lnTo>
                  <a:lnTo>
                    <a:pt x="5387" y="101"/>
                  </a:lnTo>
                  <a:lnTo>
                    <a:pt x="5389" y="116"/>
                  </a:lnTo>
                  <a:lnTo>
                    <a:pt x="5390" y="131"/>
                  </a:lnTo>
                  <a:lnTo>
                    <a:pt x="5392" y="148"/>
                  </a:lnTo>
                  <a:lnTo>
                    <a:pt x="5393" y="165"/>
                  </a:lnTo>
                  <a:lnTo>
                    <a:pt x="5395" y="183"/>
                  </a:lnTo>
                  <a:lnTo>
                    <a:pt x="5396" y="200"/>
                  </a:lnTo>
                  <a:lnTo>
                    <a:pt x="5397" y="217"/>
                  </a:lnTo>
                  <a:lnTo>
                    <a:pt x="5399" y="234"/>
                  </a:lnTo>
                  <a:lnTo>
                    <a:pt x="5401" y="249"/>
                  </a:lnTo>
                  <a:lnTo>
                    <a:pt x="5402" y="264"/>
                  </a:lnTo>
                  <a:lnTo>
                    <a:pt x="5404" y="276"/>
                  </a:lnTo>
                  <a:lnTo>
                    <a:pt x="5405" y="287"/>
                  </a:lnTo>
                  <a:lnTo>
                    <a:pt x="5406" y="296"/>
                  </a:lnTo>
                  <a:lnTo>
                    <a:pt x="5407" y="302"/>
                  </a:lnTo>
                  <a:lnTo>
                    <a:pt x="5409" y="306"/>
                  </a:lnTo>
                  <a:lnTo>
                    <a:pt x="5411" y="307"/>
                  </a:lnTo>
                  <a:lnTo>
                    <a:pt x="5412" y="306"/>
                  </a:lnTo>
                  <a:lnTo>
                    <a:pt x="5414" y="303"/>
                  </a:lnTo>
                  <a:lnTo>
                    <a:pt x="5415" y="297"/>
                  </a:lnTo>
                  <a:lnTo>
                    <a:pt x="5416" y="288"/>
                  </a:lnTo>
                  <a:lnTo>
                    <a:pt x="5418" y="278"/>
                  </a:lnTo>
                  <a:lnTo>
                    <a:pt x="5419" y="266"/>
                  </a:lnTo>
                  <a:lnTo>
                    <a:pt x="5421" y="253"/>
                  </a:lnTo>
                  <a:lnTo>
                    <a:pt x="5422" y="237"/>
                  </a:lnTo>
                  <a:lnTo>
                    <a:pt x="5424" y="221"/>
                  </a:lnTo>
                  <a:lnTo>
                    <a:pt x="5425" y="203"/>
                  </a:lnTo>
                  <a:lnTo>
                    <a:pt x="5426" y="185"/>
                  </a:lnTo>
                  <a:lnTo>
                    <a:pt x="5428" y="167"/>
                  </a:lnTo>
                  <a:lnTo>
                    <a:pt x="5430" y="150"/>
                  </a:lnTo>
                  <a:lnTo>
                    <a:pt x="5431" y="133"/>
                  </a:lnTo>
                  <a:lnTo>
                    <a:pt x="5432" y="117"/>
                  </a:lnTo>
                  <a:lnTo>
                    <a:pt x="5434" y="102"/>
                  </a:lnTo>
                  <a:lnTo>
                    <a:pt x="5435" y="89"/>
                  </a:lnTo>
                  <a:lnTo>
                    <a:pt x="5436" y="78"/>
                  </a:lnTo>
                  <a:lnTo>
                    <a:pt x="5438" y="68"/>
                  </a:lnTo>
                  <a:lnTo>
                    <a:pt x="5440" y="61"/>
                  </a:lnTo>
                  <a:lnTo>
                    <a:pt x="5441" y="57"/>
                  </a:lnTo>
                  <a:lnTo>
                    <a:pt x="5443" y="53"/>
                  </a:lnTo>
                  <a:lnTo>
                    <a:pt x="5444" y="55"/>
                  </a:lnTo>
                  <a:lnTo>
                    <a:pt x="5445" y="57"/>
                  </a:lnTo>
                  <a:lnTo>
                    <a:pt x="5446" y="62"/>
                  </a:lnTo>
                  <a:lnTo>
                    <a:pt x="5449" y="70"/>
                  </a:lnTo>
                  <a:lnTo>
                    <a:pt x="5450" y="80"/>
                  </a:lnTo>
                  <a:lnTo>
                    <a:pt x="5451" y="91"/>
                  </a:lnTo>
                  <a:lnTo>
                    <a:pt x="5453" y="106"/>
                  </a:lnTo>
                  <a:lnTo>
                    <a:pt x="5454" y="120"/>
                  </a:lnTo>
                  <a:lnTo>
                    <a:pt x="5455" y="137"/>
                  </a:lnTo>
                  <a:lnTo>
                    <a:pt x="5457" y="154"/>
                  </a:lnTo>
                  <a:lnTo>
                    <a:pt x="5459" y="172"/>
                  </a:lnTo>
                  <a:lnTo>
                    <a:pt x="5460" y="190"/>
                  </a:lnTo>
                  <a:lnTo>
                    <a:pt x="5461" y="208"/>
                  </a:lnTo>
                  <a:lnTo>
                    <a:pt x="5463" y="225"/>
                  </a:lnTo>
                  <a:lnTo>
                    <a:pt x="5464" y="242"/>
                  </a:lnTo>
                  <a:lnTo>
                    <a:pt x="5465" y="257"/>
                  </a:lnTo>
                  <a:lnTo>
                    <a:pt x="5467" y="271"/>
                  </a:lnTo>
                  <a:lnTo>
                    <a:pt x="5469" y="283"/>
                  </a:lnTo>
                  <a:lnTo>
                    <a:pt x="5470" y="293"/>
                  </a:lnTo>
                  <a:lnTo>
                    <a:pt x="5472" y="301"/>
                  </a:lnTo>
                  <a:lnTo>
                    <a:pt x="5473" y="306"/>
                  </a:lnTo>
                  <a:lnTo>
                    <a:pt x="5474" y="310"/>
                  </a:lnTo>
                  <a:lnTo>
                    <a:pt x="5475" y="311"/>
                  </a:lnTo>
                  <a:lnTo>
                    <a:pt x="5478" y="309"/>
                  </a:lnTo>
                  <a:lnTo>
                    <a:pt x="5479" y="304"/>
                  </a:lnTo>
                  <a:lnTo>
                    <a:pt x="5480" y="296"/>
                  </a:lnTo>
                  <a:lnTo>
                    <a:pt x="5482" y="287"/>
                  </a:lnTo>
                  <a:lnTo>
                    <a:pt x="5483" y="276"/>
                  </a:lnTo>
                  <a:lnTo>
                    <a:pt x="5484" y="263"/>
                  </a:lnTo>
                  <a:lnTo>
                    <a:pt x="5485" y="247"/>
                  </a:lnTo>
                  <a:lnTo>
                    <a:pt x="5488" y="232"/>
                  </a:lnTo>
                  <a:lnTo>
                    <a:pt x="5489" y="214"/>
                  </a:lnTo>
                  <a:lnTo>
                    <a:pt x="5490" y="196"/>
                  </a:lnTo>
                  <a:lnTo>
                    <a:pt x="5492" y="178"/>
                  </a:lnTo>
                  <a:lnTo>
                    <a:pt x="5493" y="159"/>
                  </a:lnTo>
                  <a:lnTo>
                    <a:pt x="5494" y="141"/>
                  </a:lnTo>
                  <a:lnTo>
                    <a:pt x="5496" y="125"/>
                  </a:lnTo>
                  <a:lnTo>
                    <a:pt x="5498" y="109"/>
                  </a:lnTo>
                  <a:lnTo>
                    <a:pt x="5499" y="95"/>
                  </a:lnTo>
                  <a:lnTo>
                    <a:pt x="5500" y="81"/>
                  </a:lnTo>
                  <a:lnTo>
                    <a:pt x="5502" y="71"/>
                  </a:lnTo>
                  <a:lnTo>
                    <a:pt x="5503" y="62"/>
                  </a:lnTo>
                  <a:lnTo>
                    <a:pt x="5504" y="56"/>
                  </a:lnTo>
                  <a:lnTo>
                    <a:pt x="5507" y="52"/>
                  </a:lnTo>
                  <a:lnTo>
                    <a:pt x="5508" y="51"/>
                  </a:lnTo>
                  <a:lnTo>
                    <a:pt x="5509" y="52"/>
                  </a:lnTo>
                  <a:lnTo>
                    <a:pt x="5511" y="56"/>
                  </a:lnTo>
                  <a:lnTo>
                    <a:pt x="5512" y="62"/>
                  </a:lnTo>
                  <a:lnTo>
                    <a:pt x="5513" y="71"/>
                  </a:lnTo>
                  <a:lnTo>
                    <a:pt x="5514" y="82"/>
                  </a:lnTo>
                  <a:lnTo>
                    <a:pt x="5517" y="96"/>
                  </a:lnTo>
                  <a:lnTo>
                    <a:pt x="5518" y="110"/>
                  </a:lnTo>
                  <a:lnTo>
                    <a:pt x="5519" y="126"/>
                  </a:lnTo>
                  <a:lnTo>
                    <a:pt x="5521" y="144"/>
                  </a:lnTo>
                  <a:lnTo>
                    <a:pt x="5522" y="161"/>
                  </a:lnTo>
                  <a:lnTo>
                    <a:pt x="5523" y="179"/>
                  </a:lnTo>
                  <a:lnTo>
                    <a:pt x="5524" y="198"/>
                  </a:lnTo>
                  <a:lnTo>
                    <a:pt x="5527" y="216"/>
                  </a:lnTo>
                  <a:lnTo>
                    <a:pt x="5528" y="234"/>
                  </a:lnTo>
                  <a:lnTo>
                    <a:pt x="5529" y="251"/>
                  </a:lnTo>
                  <a:lnTo>
                    <a:pt x="5531" y="265"/>
                  </a:lnTo>
                  <a:lnTo>
                    <a:pt x="5532" y="278"/>
                  </a:lnTo>
                  <a:lnTo>
                    <a:pt x="5533" y="291"/>
                  </a:lnTo>
                  <a:lnTo>
                    <a:pt x="5536" y="300"/>
                  </a:lnTo>
                  <a:lnTo>
                    <a:pt x="5537" y="306"/>
                  </a:lnTo>
                  <a:lnTo>
                    <a:pt x="5538" y="311"/>
                  </a:lnTo>
                  <a:lnTo>
                    <a:pt x="5539" y="313"/>
                  </a:lnTo>
                  <a:lnTo>
                    <a:pt x="5541" y="313"/>
                  </a:lnTo>
                  <a:lnTo>
                    <a:pt x="5542" y="310"/>
                  </a:lnTo>
                  <a:lnTo>
                    <a:pt x="5543" y="304"/>
                  </a:lnTo>
                  <a:lnTo>
                    <a:pt x="5546" y="295"/>
                  </a:lnTo>
                  <a:lnTo>
                    <a:pt x="5547" y="285"/>
                  </a:lnTo>
                  <a:lnTo>
                    <a:pt x="5548" y="273"/>
                  </a:lnTo>
                  <a:lnTo>
                    <a:pt x="5550" y="258"/>
                  </a:lnTo>
                  <a:lnTo>
                    <a:pt x="5551" y="242"/>
                  </a:lnTo>
                  <a:lnTo>
                    <a:pt x="5552" y="225"/>
                  </a:lnTo>
                  <a:lnTo>
                    <a:pt x="5553" y="207"/>
                  </a:lnTo>
                  <a:lnTo>
                    <a:pt x="5556" y="188"/>
                  </a:lnTo>
                  <a:lnTo>
                    <a:pt x="5557" y="169"/>
                  </a:lnTo>
                  <a:lnTo>
                    <a:pt x="5558" y="151"/>
                  </a:lnTo>
                  <a:lnTo>
                    <a:pt x="5560" y="134"/>
                  </a:lnTo>
                  <a:lnTo>
                    <a:pt x="5561" y="116"/>
                  </a:lnTo>
                  <a:lnTo>
                    <a:pt x="5562" y="100"/>
                  </a:lnTo>
                  <a:lnTo>
                    <a:pt x="5563" y="87"/>
                  </a:lnTo>
                  <a:lnTo>
                    <a:pt x="5566" y="75"/>
                  </a:lnTo>
                  <a:lnTo>
                    <a:pt x="5567" y="65"/>
                  </a:lnTo>
                  <a:lnTo>
                    <a:pt x="5568" y="57"/>
                  </a:lnTo>
                  <a:lnTo>
                    <a:pt x="5570" y="51"/>
                  </a:lnTo>
                  <a:lnTo>
                    <a:pt x="5571" y="48"/>
                  </a:lnTo>
                  <a:lnTo>
                    <a:pt x="5572" y="48"/>
                  </a:lnTo>
                  <a:lnTo>
                    <a:pt x="5575" y="50"/>
                  </a:lnTo>
                  <a:lnTo>
                    <a:pt x="5576" y="56"/>
                  </a:lnTo>
                  <a:lnTo>
                    <a:pt x="5577" y="63"/>
                  </a:lnTo>
                  <a:lnTo>
                    <a:pt x="5578" y="73"/>
                  </a:lnTo>
                  <a:lnTo>
                    <a:pt x="5580" y="86"/>
                  </a:lnTo>
                  <a:lnTo>
                    <a:pt x="5581" y="99"/>
                  </a:lnTo>
                  <a:lnTo>
                    <a:pt x="5582" y="115"/>
                  </a:lnTo>
                  <a:lnTo>
                    <a:pt x="5585" y="133"/>
                  </a:lnTo>
                  <a:lnTo>
                    <a:pt x="5586" y="150"/>
                  </a:lnTo>
                  <a:lnTo>
                    <a:pt x="5587" y="169"/>
                  </a:lnTo>
                  <a:lnTo>
                    <a:pt x="5589" y="188"/>
                  </a:lnTo>
                  <a:lnTo>
                    <a:pt x="5590" y="206"/>
                  </a:lnTo>
                  <a:lnTo>
                    <a:pt x="5591" y="225"/>
                  </a:lnTo>
                  <a:lnTo>
                    <a:pt x="5592" y="243"/>
                  </a:lnTo>
                  <a:lnTo>
                    <a:pt x="5595" y="258"/>
                  </a:lnTo>
                  <a:lnTo>
                    <a:pt x="5596" y="274"/>
                  </a:lnTo>
                  <a:lnTo>
                    <a:pt x="5597" y="286"/>
                  </a:lnTo>
                  <a:lnTo>
                    <a:pt x="5599" y="297"/>
                  </a:lnTo>
                  <a:lnTo>
                    <a:pt x="5600" y="306"/>
                  </a:lnTo>
                  <a:lnTo>
                    <a:pt x="5601" y="312"/>
                  </a:lnTo>
                  <a:lnTo>
                    <a:pt x="5604" y="315"/>
                  </a:lnTo>
                  <a:lnTo>
                    <a:pt x="5605" y="316"/>
                  </a:lnTo>
                  <a:lnTo>
                    <a:pt x="5606" y="315"/>
                  </a:lnTo>
                  <a:lnTo>
                    <a:pt x="5607" y="311"/>
                  </a:lnTo>
                  <a:lnTo>
                    <a:pt x="5609" y="303"/>
                  </a:lnTo>
                  <a:lnTo>
                    <a:pt x="5610" y="294"/>
                  </a:lnTo>
                  <a:lnTo>
                    <a:pt x="5611" y="282"/>
                  </a:lnTo>
                  <a:lnTo>
                    <a:pt x="5614" y="268"/>
                  </a:lnTo>
                  <a:lnTo>
                    <a:pt x="5615" y="253"/>
                  </a:lnTo>
                  <a:lnTo>
                    <a:pt x="5616" y="236"/>
                  </a:lnTo>
                  <a:lnTo>
                    <a:pt x="5617" y="218"/>
                  </a:lnTo>
                  <a:lnTo>
                    <a:pt x="5619" y="199"/>
                  </a:lnTo>
                  <a:lnTo>
                    <a:pt x="5620" y="180"/>
                  </a:lnTo>
                  <a:lnTo>
                    <a:pt x="5621" y="161"/>
                  </a:lnTo>
                  <a:lnTo>
                    <a:pt x="5624" y="143"/>
                  </a:lnTo>
                  <a:lnTo>
                    <a:pt x="5625" y="125"/>
                  </a:lnTo>
                  <a:lnTo>
                    <a:pt x="5626" y="108"/>
                  </a:lnTo>
                  <a:lnTo>
                    <a:pt x="5628" y="92"/>
                  </a:lnTo>
                  <a:lnTo>
                    <a:pt x="5629" y="78"/>
                  </a:lnTo>
                  <a:lnTo>
                    <a:pt x="5630" y="67"/>
                  </a:lnTo>
                  <a:lnTo>
                    <a:pt x="5631" y="58"/>
                  </a:lnTo>
                  <a:lnTo>
                    <a:pt x="5634" y="50"/>
                  </a:lnTo>
                  <a:lnTo>
                    <a:pt x="5635" y="46"/>
                  </a:lnTo>
                  <a:lnTo>
                    <a:pt x="5636" y="44"/>
                  </a:lnTo>
                  <a:lnTo>
                    <a:pt x="5638" y="46"/>
                  </a:lnTo>
                  <a:lnTo>
                    <a:pt x="5639" y="49"/>
                  </a:lnTo>
                  <a:lnTo>
                    <a:pt x="5640" y="56"/>
                  </a:lnTo>
                  <a:lnTo>
                    <a:pt x="5643" y="65"/>
                  </a:lnTo>
                  <a:lnTo>
                    <a:pt x="5644" y="76"/>
                  </a:lnTo>
                  <a:lnTo>
                    <a:pt x="5645" y="89"/>
                  </a:lnTo>
                  <a:lnTo>
                    <a:pt x="5646" y="105"/>
                  </a:lnTo>
                  <a:lnTo>
                    <a:pt x="5648" y="121"/>
                  </a:lnTo>
                  <a:lnTo>
                    <a:pt x="5649" y="139"/>
                  </a:lnTo>
                  <a:lnTo>
                    <a:pt x="5650" y="158"/>
                  </a:lnTo>
                  <a:lnTo>
                    <a:pt x="5653" y="177"/>
                  </a:lnTo>
                  <a:lnTo>
                    <a:pt x="5654" y="197"/>
                  </a:lnTo>
                  <a:lnTo>
                    <a:pt x="5655" y="216"/>
                  </a:lnTo>
                  <a:lnTo>
                    <a:pt x="5656" y="234"/>
                  </a:lnTo>
                  <a:lnTo>
                    <a:pt x="5658" y="252"/>
                  </a:lnTo>
                  <a:lnTo>
                    <a:pt x="5659" y="267"/>
                  </a:lnTo>
                  <a:lnTo>
                    <a:pt x="5660" y="282"/>
                  </a:lnTo>
                  <a:lnTo>
                    <a:pt x="5663" y="294"/>
                  </a:lnTo>
                  <a:lnTo>
                    <a:pt x="5664" y="304"/>
                  </a:lnTo>
                  <a:lnTo>
                    <a:pt x="5665" y="312"/>
                  </a:lnTo>
                  <a:lnTo>
                    <a:pt x="5667" y="317"/>
                  </a:lnTo>
                  <a:lnTo>
                    <a:pt x="5668" y="320"/>
                  </a:lnTo>
                  <a:lnTo>
                    <a:pt x="5669" y="320"/>
                  </a:lnTo>
                  <a:lnTo>
                    <a:pt x="5670" y="316"/>
                  </a:lnTo>
                  <a:lnTo>
                    <a:pt x="5673" y="311"/>
                  </a:lnTo>
                  <a:lnTo>
                    <a:pt x="5674" y="302"/>
                  </a:lnTo>
                  <a:lnTo>
                    <a:pt x="5675" y="292"/>
                  </a:lnTo>
                  <a:lnTo>
                    <a:pt x="5677" y="278"/>
                  </a:lnTo>
                  <a:lnTo>
                    <a:pt x="5678" y="264"/>
                  </a:lnTo>
                  <a:lnTo>
                    <a:pt x="5679" y="247"/>
                  </a:lnTo>
                  <a:lnTo>
                    <a:pt x="5682" y="229"/>
                  </a:lnTo>
                  <a:lnTo>
                    <a:pt x="5683" y="211"/>
                  </a:lnTo>
                  <a:lnTo>
                    <a:pt x="5684" y="190"/>
                  </a:lnTo>
                  <a:lnTo>
                    <a:pt x="5685" y="172"/>
                  </a:lnTo>
                  <a:lnTo>
                    <a:pt x="5687" y="151"/>
                  </a:lnTo>
                  <a:lnTo>
                    <a:pt x="5688" y="133"/>
                  </a:lnTo>
                  <a:lnTo>
                    <a:pt x="5689" y="115"/>
                  </a:lnTo>
                  <a:lnTo>
                    <a:pt x="5692" y="98"/>
                  </a:lnTo>
                  <a:lnTo>
                    <a:pt x="5693" y="83"/>
                  </a:lnTo>
                  <a:lnTo>
                    <a:pt x="5694" y="70"/>
                  </a:lnTo>
                  <a:lnTo>
                    <a:pt x="5696" y="59"/>
                  </a:lnTo>
                  <a:lnTo>
                    <a:pt x="5697" y="51"/>
                  </a:lnTo>
                  <a:lnTo>
                    <a:pt x="5698" y="44"/>
                  </a:lnTo>
                  <a:lnTo>
                    <a:pt x="5700" y="41"/>
                  </a:lnTo>
                  <a:lnTo>
                    <a:pt x="5702" y="41"/>
                  </a:lnTo>
                  <a:lnTo>
                    <a:pt x="5703" y="43"/>
                  </a:lnTo>
                  <a:lnTo>
                    <a:pt x="5704" y="49"/>
                  </a:lnTo>
                  <a:lnTo>
                    <a:pt x="5706" y="57"/>
                  </a:lnTo>
                  <a:lnTo>
                    <a:pt x="5707" y="67"/>
                  </a:lnTo>
                  <a:lnTo>
                    <a:pt x="5708" y="79"/>
                  </a:lnTo>
                  <a:lnTo>
                    <a:pt x="5710" y="94"/>
                  </a:lnTo>
                  <a:lnTo>
                    <a:pt x="5712" y="110"/>
                  </a:lnTo>
                  <a:lnTo>
                    <a:pt x="5713" y="128"/>
                  </a:lnTo>
                  <a:lnTo>
                    <a:pt x="5714" y="147"/>
                  </a:lnTo>
                  <a:lnTo>
                    <a:pt x="5716" y="166"/>
                  </a:lnTo>
                  <a:lnTo>
                    <a:pt x="5717" y="186"/>
                  </a:lnTo>
                  <a:lnTo>
                    <a:pt x="5718" y="206"/>
                  </a:lnTo>
                  <a:lnTo>
                    <a:pt x="5721" y="225"/>
                  </a:lnTo>
                  <a:lnTo>
                    <a:pt x="5722" y="244"/>
                  </a:lnTo>
                  <a:lnTo>
                    <a:pt x="5723" y="261"/>
                  </a:lnTo>
                  <a:lnTo>
                    <a:pt x="5724" y="277"/>
                  </a:lnTo>
                  <a:lnTo>
                    <a:pt x="5726" y="291"/>
                  </a:lnTo>
                  <a:lnTo>
                    <a:pt x="5727" y="302"/>
                  </a:lnTo>
                  <a:lnTo>
                    <a:pt x="5729" y="312"/>
                  </a:lnTo>
                  <a:lnTo>
                    <a:pt x="5731" y="319"/>
                  </a:lnTo>
                  <a:lnTo>
                    <a:pt x="5732" y="322"/>
                  </a:lnTo>
                  <a:lnTo>
                    <a:pt x="5733" y="323"/>
                  </a:lnTo>
                  <a:lnTo>
                    <a:pt x="5735" y="322"/>
                  </a:lnTo>
                  <a:lnTo>
                    <a:pt x="5736" y="317"/>
                  </a:lnTo>
                  <a:lnTo>
                    <a:pt x="5737" y="311"/>
                  </a:lnTo>
                  <a:lnTo>
                    <a:pt x="5739" y="301"/>
                  </a:lnTo>
                  <a:lnTo>
                    <a:pt x="5741" y="288"/>
                  </a:lnTo>
                  <a:lnTo>
                    <a:pt x="5742" y="274"/>
                  </a:lnTo>
                  <a:lnTo>
                    <a:pt x="5743" y="258"/>
                  </a:lnTo>
                  <a:lnTo>
                    <a:pt x="5745" y="241"/>
                  </a:lnTo>
                  <a:lnTo>
                    <a:pt x="5746" y="222"/>
                  </a:lnTo>
                  <a:lnTo>
                    <a:pt x="5747" y="202"/>
                  </a:lnTo>
                  <a:lnTo>
                    <a:pt x="5749" y="182"/>
                  </a:lnTo>
                  <a:lnTo>
                    <a:pt x="5751" y="161"/>
                  </a:lnTo>
                  <a:lnTo>
                    <a:pt x="5752" y="141"/>
                  </a:lnTo>
                  <a:lnTo>
                    <a:pt x="5753" y="122"/>
                  </a:lnTo>
                  <a:lnTo>
                    <a:pt x="5755" y="105"/>
                  </a:lnTo>
                  <a:lnTo>
                    <a:pt x="5756" y="89"/>
                  </a:lnTo>
                  <a:lnTo>
                    <a:pt x="5758" y="75"/>
                  </a:lnTo>
                  <a:lnTo>
                    <a:pt x="5760" y="61"/>
                  </a:lnTo>
                  <a:lnTo>
                    <a:pt x="5761" y="51"/>
                  </a:lnTo>
                  <a:lnTo>
                    <a:pt x="5762" y="44"/>
                  </a:lnTo>
                  <a:lnTo>
                    <a:pt x="5763" y="39"/>
                  </a:lnTo>
                  <a:lnTo>
                    <a:pt x="5765" y="38"/>
                  </a:lnTo>
                  <a:lnTo>
                    <a:pt x="5766" y="38"/>
                  </a:lnTo>
                  <a:lnTo>
                    <a:pt x="5768" y="42"/>
                  </a:lnTo>
                  <a:lnTo>
                    <a:pt x="5770" y="49"/>
                  </a:lnTo>
                  <a:lnTo>
                    <a:pt x="5771" y="58"/>
                  </a:lnTo>
                  <a:lnTo>
                    <a:pt x="5772" y="69"/>
                  </a:lnTo>
                  <a:lnTo>
                    <a:pt x="5774" y="83"/>
                  </a:lnTo>
                  <a:lnTo>
                    <a:pt x="5775" y="99"/>
                  </a:lnTo>
                  <a:lnTo>
                    <a:pt x="5776" y="117"/>
                  </a:lnTo>
                  <a:lnTo>
                    <a:pt x="5778" y="136"/>
                  </a:lnTo>
                  <a:lnTo>
                    <a:pt x="5780" y="155"/>
                  </a:lnTo>
                  <a:lnTo>
                    <a:pt x="5781" y="176"/>
                  </a:lnTo>
                  <a:lnTo>
                    <a:pt x="5782" y="196"/>
                  </a:lnTo>
                  <a:lnTo>
                    <a:pt x="5784" y="216"/>
                  </a:lnTo>
                  <a:lnTo>
                    <a:pt x="5785" y="236"/>
                  </a:lnTo>
                  <a:lnTo>
                    <a:pt x="5787" y="254"/>
                  </a:lnTo>
                  <a:lnTo>
                    <a:pt x="5788" y="271"/>
                  </a:lnTo>
                  <a:lnTo>
                    <a:pt x="5790" y="286"/>
                  </a:lnTo>
                  <a:lnTo>
                    <a:pt x="5791" y="300"/>
                  </a:lnTo>
                  <a:lnTo>
                    <a:pt x="5792" y="311"/>
                  </a:lnTo>
                  <a:lnTo>
                    <a:pt x="5794" y="319"/>
                  </a:lnTo>
                  <a:lnTo>
                    <a:pt x="5795" y="324"/>
                  </a:lnTo>
                  <a:lnTo>
                    <a:pt x="5797" y="327"/>
                  </a:lnTo>
                  <a:lnTo>
                    <a:pt x="5799" y="326"/>
                  </a:lnTo>
                  <a:lnTo>
                    <a:pt x="5800" y="324"/>
                  </a:lnTo>
                  <a:lnTo>
                    <a:pt x="5801" y="317"/>
                  </a:lnTo>
                  <a:lnTo>
                    <a:pt x="5802" y="310"/>
                  </a:lnTo>
                  <a:lnTo>
                    <a:pt x="5804" y="299"/>
                  </a:lnTo>
                  <a:lnTo>
                    <a:pt x="5805" y="284"/>
                  </a:lnTo>
                  <a:lnTo>
                    <a:pt x="5807" y="270"/>
                  </a:lnTo>
                  <a:lnTo>
                    <a:pt x="5809" y="252"/>
                  </a:lnTo>
                  <a:lnTo>
                    <a:pt x="5810" y="233"/>
                  </a:lnTo>
                  <a:lnTo>
                    <a:pt x="5811" y="213"/>
                  </a:lnTo>
                  <a:lnTo>
                    <a:pt x="5813" y="193"/>
                  </a:lnTo>
                  <a:lnTo>
                    <a:pt x="5814" y="172"/>
                  </a:lnTo>
                  <a:lnTo>
                    <a:pt x="5816" y="151"/>
                  </a:lnTo>
                  <a:lnTo>
                    <a:pt x="5817" y="131"/>
                  </a:lnTo>
                  <a:lnTo>
                    <a:pt x="5819" y="112"/>
                  </a:lnTo>
                  <a:lnTo>
                    <a:pt x="5820" y="95"/>
                  </a:lnTo>
                  <a:lnTo>
                    <a:pt x="5821" y="79"/>
                  </a:lnTo>
                  <a:lnTo>
                    <a:pt x="5823" y="65"/>
                  </a:lnTo>
                  <a:lnTo>
                    <a:pt x="5824" y="53"/>
                  </a:lnTo>
                  <a:lnTo>
                    <a:pt x="5826" y="44"/>
                  </a:lnTo>
                  <a:lnTo>
                    <a:pt x="5828" y="38"/>
                  </a:lnTo>
                  <a:lnTo>
                    <a:pt x="5829" y="34"/>
                  </a:lnTo>
                  <a:lnTo>
                    <a:pt x="5830" y="33"/>
                  </a:lnTo>
                  <a:lnTo>
                    <a:pt x="5831" y="36"/>
                  </a:lnTo>
                  <a:lnTo>
                    <a:pt x="5833" y="41"/>
                  </a:lnTo>
                  <a:lnTo>
                    <a:pt x="5834" y="49"/>
                  </a:lnTo>
                  <a:lnTo>
                    <a:pt x="5836" y="60"/>
                  </a:lnTo>
                  <a:lnTo>
                    <a:pt x="5838" y="73"/>
                  </a:lnTo>
                  <a:lnTo>
                    <a:pt x="5839" y="88"/>
                  </a:lnTo>
                  <a:lnTo>
                    <a:pt x="5840" y="106"/>
                  </a:lnTo>
                  <a:lnTo>
                    <a:pt x="5841" y="124"/>
                  </a:lnTo>
                  <a:lnTo>
                    <a:pt x="5843" y="144"/>
                  </a:lnTo>
                  <a:lnTo>
                    <a:pt x="5845" y="165"/>
                  </a:lnTo>
                  <a:lnTo>
                    <a:pt x="5846" y="186"/>
                  </a:lnTo>
                  <a:lnTo>
                    <a:pt x="5848" y="206"/>
                  </a:lnTo>
                  <a:lnTo>
                    <a:pt x="5849" y="227"/>
                  </a:lnTo>
                  <a:lnTo>
                    <a:pt x="5850" y="246"/>
                  </a:lnTo>
                  <a:lnTo>
                    <a:pt x="5852" y="265"/>
                  </a:lnTo>
                  <a:lnTo>
                    <a:pt x="5853" y="282"/>
                  </a:lnTo>
                  <a:lnTo>
                    <a:pt x="5855" y="296"/>
                  </a:lnTo>
                  <a:lnTo>
                    <a:pt x="5856" y="309"/>
                  </a:lnTo>
                  <a:lnTo>
                    <a:pt x="5858" y="319"/>
                  </a:lnTo>
                  <a:lnTo>
                    <a:pt x="5859" y="325"/>
                  </a:lnTo>
                  <a:lnTo>
                    <a:pt x="5860" y="330"/>
                  </a:lnTo>
                  <a:lnTo>
                    <a:pt x="5862" y="331"/>
                  </a:lnTo>
                  <a:lnTo>
                    <a:pt x="5863" y="330"/>
                  </a:lnTo>
                  <a:lnTo>
                    <a:pt x="5865" y="325"/>
                  </a:lnTo>
                  <a:lnTo>
                    <a:pt x="5867" y="317"/>
                  </a:lnTo>
                  <a:lnTo>
                    <a:pt x="5868" y="307"/>
                  </a:lnTo>
                  <a:lnTo>
                    <a:pt x="5869" y="295"/>
                  </a:lnTo>
                  <a:lnTo>
                    <a:pt x="5870" y="280"/>
                  </a:lnTo>
                  <a:lnTo>
                    <a:pt x="5872" y="263"/>
                  </a:lnTo>
                  <a:lnTo>
                    <a:pt x="5874" y="244"/>
                  </a:lnTo>
                  <a:lnTo>
                    <a:pt x="5875" y="224"/>
                  </a:lnTo>
                  <a:lnTo>
                    <a:pt x="5877" y="204"/>
                  </a:lnTo>
                  <a:lnTo>
                    <a:pt x="5878" y="183"/>
                  </a:lnTo>
                  <a:lnTo>
                    <a:pt x="5879" y="161"/>
                  </a:lnTo>
                  <a:lnTo>
                    <a:pt x="5880" y="140"/>
                  </a:lnTo>
                  <a:lnTo>
                    <a:pt x="5882" y="120"/>
                  </a:lnTo>
                  <a:lnTo>
                    <a:pt x="5884" y="101"/>
                  </a:lnTo>
                  <a:lnTo>
                    <a:pt x="5885" y="83"/>
                  </a:lnTo>
                  <a:lnTo>
                    <a:pt x="5887" y="69"/>
                  </a:lnTo>
                  <a:lnTo>
                    <a:pt x="5888" y="56"/>
                  </a:lnTo>
                  <a:lnTo>
                    <a:pt x="5889" y="44"/>
                  </a:lnTo>
                  <a:lnTo>
                    <a:pt x="5891" y="37"/>
                  </a:lnTo>
                  <a:lnTo>
                    <a:pt x="5892" y="31"/>
                  </a:lnTo>
                  <a:lnTo>
                    <a:pt x="5894" y="30"/>
                  </a:lnTo>
                  <a:lnTo>
                    <a:pt x="5895" y="30"/>
                  </a:lnTo>
                  <a:lnTo>
                    <a:pt x="5897" y="34"/>
                  </a:lnTo>
                  <a:lnTo>
                    <a:pt x="5898" y="41"/>
                  </a:lnTo>
                  <a:lnTo>
                    <a:pt x="5899" y="51"/>
                  </a:lnTo>
                  <a:lnTo>
                    <a:pt x="5901" y="63"/>
                  </a:lnTo>
                  <a:lnTo>
                    <a:pt x="5903" y="78"/>
                  </a:lnTo>
                  <a:lnTo>
                    <a:pt x="5904" y="95"/>
                  </a:lnTo>
                  <a:lnTo>
                    <a:pt x="5906" y="112"/>
                  </a:lnTo>
                  <a:lnTo>
                    <a:pt x="5907" y="133"/>
                  </a:lnTo>
                  <a:lnTo>
                    <a:pt x="5908" y="154"/>
                  </a:lnTo>
                  <a:lnTo>
                    <a:pt x="5909" y="175"/>
                  </a:lnTo>
                  <a:lnTo>
                    <a:pt x="5911" y="196"/>
                  </a:lnTo>
                  <a:lnTo>
                    <a:pt x="5913" y="217"/>
                  </a:lnTo>
                  <a:lnTo>
                    <a:pt x="5914" y="238"/>
                  </a:lnTo>
                  <a:lnTo>
                    <a:pt x="5916" y="257"/>
                  </a:lnTo>
                  <a:lnTo>
                    <a:pt x="5917" y="276"/>
                  </a:lnTo>
                  <a:lnTo>
                    <a:pt x="5918" y="292"/>
                  </a:lnTo>
                  <a:lnTo>
                    <a:pt x="5920" y="306"/>
                  </a:lnTo>
                  <a:lnTo>
                    <a:pt x="5921" y="317"/>
                  </a:lnTo>
                  <a:lnTo>
                    <a:pt x="5923" y="326"/>
                  </a:lnTo>
                  <a:lnTo>
                    <a:pt x="5924" y="332"/>
                  </a:lnTo>
                  <a:lnTo>
                    <a:pt x="5926" y="335"/>
                  </a:lnTo>
                  <a:lnTo>
                    <a:pt x="5927" y="335"/>
                  </a:lnTo>
                  <a:lnTo>
                    <a:pt x="5928" y="332"/>
                  </a:lnTo>
                  <a:lnTo>
                    <a:pt x="5930" y="325"/>
                  </a:lnTo>
                  <a:lnTo>
                    <a:pt x="5932" y="316"/>
                  </a:lnTo>
                  <a:lnTo>
                    <a:pt x="5933" y="304"/>
                  </a:lnTo>
                  <a:lnTo>
                    <a:pt x="5934" y="291"/>
                  </a:lnTo>
                  <a:lnTo>
                    <a:pt x="5936" y="274"/>
                  </a:lnTo>
                  <a:lnTo>
                    <a:pt x="5937" y="255"/>
                  </a:lnTo>
                  <a:lnTo>
                    <a:pt x="5938" y="236"/>
                  </a:lnTo>
                  <a:lnTo>
                    <a:pt x="5940" y="215"/>
                  </a:lnTo>
                  <a:lnTo>
                    <a:pt x="5942" y="194"/>
                  </a:lnTo>
                  <a:lnTo>
                    <a:pt x="5943" y="172"/>
                  </a:lnTo>
                  <a:lnTo>
                    <a:pt x="5945" y="149"/>
                  </a:lnTo>
                  <a:lnTo>
                    <a:pt x="5946" y="129"/>
                  </a:lnTo>
                  <a:lnTo>
                    <a:pt x="5947" y="109"/>
                  </a:lnTo>
                  <a:lnTo>
                    <a:pt x="5948" y="90"/>
                  </a:lnTo>
                  <a:lnTo>
                    <a:pt x="5951" y="73"/>
                  </a:lnTo>
                  <a:lnTo>
                    <a:pt x="5952" y="59"/>
                  </a:lnTo>
                  <a:lnTo>
                    <a:pt x="5953" y="46"/>
                  </a:lnTo>
                  <a:lnTo>
                    <a:pt x="5955" y="37"/>
                  </a:lnTo>
                  <a:lnTo>
                    <a:pt x="5956" y="30"/>
                  </a:lnTo>
                  <a:lnTo>
                    <a:pt x="5957" y="27"/>
                  </a:lnTo>
                  <a:lnTo>
                    <a:pt x="5959" y="26"/>
                  </a:lnTo>
                  <a:lnTo>
                    <a:pt x="5961" y="28"/>
                  </a:lnTo>
                  <a:lnTo>
                    <a:pt x="5962" y="33"/>
                  </a:lnTo>
                  <a:lnTo>
                    <a:pt x="5963" y="42"/>
                  </a:lnTo>
                  <a:lnTo>
                    <a:pt x="5965" y="53"/>
                  </a:lnTo>
                  <a:lnTo>
                    <a:pt x="5966" y="67"/>
                  </a:lnTo>
                  <a:lnTo>
                    <a:pt x="5967" y="83"/>
                  </a:lnTo>
                  <a:lnTo>
                    <a:pt x="5969" y="101"/>
                  </a:lnTo>
                  <a:lnTo>
                    <a:pt x="5971" y="121"/>
                  </a:lnTo>
                  <a:lnTo>
                    <a:pt x="5972" y="143"/>
                  </a:lnTo>
                  <a:lnTo>
                    <a:pt x="5973" y="164"/>
                  </a:lnTo>
                  <a:lnTo>
                    <a:pt x="5975" y="186"/>
                  </a:lnTo>
                  <a:lnTo>
                    <a:pt x="5976" y="208"/>
                  </a:lnTo>
                  <a:lnTo>
                    <a:pt x="5977" y="229"/>
                  </a:lnTo>
                  <a:lnTo>
                    <a:pt x="5980" y="251"/>
                  </a:lnTo>
                  <a:lnTo>
                    <a:pt x="5981" y="270"/>
                  </a:lnTo>
                  <a:lnTo>
                    <a:pt x="5982" y="287"/>
                  </a:lnTo>
                  <a:lnTo>
                    <a:pt x="5984" y="303"/>
                  </a:lnTo>
                  <a:lnTo>
                    <a:pt x="5985" y="315"/>
                  </a:lnTo>
                  <a:lnTo>
                    <a:pt x="5986" y="326"/>
                  </a:lnTo>
                  <a:lnTo>
                    <a:pt x="5987" y="333"/>
                  </a:lnTo>
                  <a:lnTo>
                    <a:pt x="5990" y="338"/>
                  </a:lnTo>
                  <a:lnTo>
                    <a:pt x="5991" y="340"/>
                  </a:lnTo>
                  <a:lnTo>
                    <a:pt x="5992" y="338"/>
                  </a:lnTo>
                  <a:lnTo>
                    <a:pt x="5994" y="333"/>
                  </a:lnTo>
                  <a:lnTo>
                    <a:pt x="5995" y="325"/>
                  </a:lnTo>
                  <a:lnTo>
                    <a:pt x="5996" y="314"/>
                  </a:lnTo>
                  <a:lnTo>
                    <a:pt x="5998" y="301"/>
                  </a:lnTo>
                  <a:lnTo>
                    <a:pt x="6000" y="285"/>
                  </a:lnTo>
                  <a:lnTo>
                    <a:pt x="6001" y="267"/>
                  </a:lnTo>
                  <a:lnTo>
                    <a:pt x="6002" y="247"/>
                  </a:lnTo>
                  <a:lnTo>
                    <a:pt x="6004" y="226"/>
                  </a:lnTo>
                  <a:lnTo>
                    <a:pt x="6005" y="205"/>
                  </a:lnTo>
                  <a:lnTo>
                    <a:pt x="6006" y="182"/>
                  </a:lnTo>
                  <a:lnTo>
                    <a:pt x="6009" y="159"/>
                  </a:lnTo>
                  <a:lnTo>
                    <a:pt x="6010" y="138"/>
                  </a:lnTo>
                  <a:lnTo>
                    <a:pt x="6011" y="117"/>
                  </a:lnTo>
                  <a:lnTo>
                    <a:pt x="6012" y="97"/>
                  </a:lnTo>
                  <a:lnTo>
                    <a:pt x="6014" y="78"/>
                  </a:lnTo>
                  <a:lnTo>
                    <a:pt x="6015" y="62"/>
                  </a:lnTo>
                  <a:lnTo>
                    <a:pt x="6016" y="48"/>
                  </a:lnTo>
                  <a:lnTo>
                    <a:pt x="6019" y="37"/>
                  </a:lnTo>
                  <a:lnTo>
                    <a:pt x="6020" y="29"/>
                  </a:lnTo>
                  <a:lnTo>
                    <a:pt x="6021" y="23"/>
                  </a:lnTo>
                  <a:lnTo>
                    <a:pt x="6023" y="21"/>
                  </a:lnTo>
                  <a:lnTo>
                    <a:pt x="6024" y="22"/>
                  </a:lnTo>
                  <a:lnTo>
                    <a:pt x="6025" y="27"/>
                  </a:lnTo>
                  <a:lnTo>
                    <a:pt x="6026" y="33"/>
                  </a:lnTo>
                  <a:lnTo>
                    <a:pt x="6029" y="44"/>
                  </a:lnTo>
                  <a:lnTo>
                    <a:pt x="6030" y="57"/>
                  </a:lnTo>
                  <a:lnTo>
                    <a:pt x="6031" y="72"/>
                  </a:lnTo>
                  <a:lnTo>
                    <a:pt x="6033" y="90"/>
                  </a:lnTo>
                  <a:lnTo>
                    <a:pt x="6034" y="110"/>
                  </a:lnTo>
                  <a:lnTo>
                    <a:pt x="6035" y="130"/>
                  </a:lnTo>
                  <a:lnTo>
                    <a:pt x="6038" y="153"/>
                  </a:lnTo>
                  <a:lnTo>
                    <a:pt x="6039" y="175"/>
                  </a:lnTo>
                  <a:lnTo>
                    <a:pt x="6040" y="198"/>
                  </a:lnTo>
                  <a:lnTo>
                    <a:pt x="6041" y="221"/>
                  </a:lnTo>
                  <a:lnTo>
                    <a:pt x="6043" y="242"/>
                  </a:lnTo>
                  <a:lnTo>
                    <a:pt x="6044" y="263"/>
                  </a:lnTo>
                  <a:lnTo>
                    <a:pt x="6045" y="282"/>
                  </a:lnTo>
                  <a:lnTo>
                    <a:pt x="6048" y="299"/>
                  </a:lnTo>
                  <a:lnTo>
                    <a:pt x="6049" y="313"/>
                  </a:lnTo>
                  <a:lnTo>
                    <a:pt x="6050" y="325"/>
                  </a:lnTo>
                  <a:lnTo>
                    <a:pt x="6052" y="334"/>
                  </a:lnTo>
                  <a:lnTo>
                    <a:pt x="6053" y="341"/>
                  </a:lnTo>
                  <a:lnTo>
                    <a:pt x="6054" y="343"/>
                  </a:lnTo>
                  <a:lnTo>
                    <a:pt x="6055" y="343"/>
                  </a:lnTo>
                  <a:lnTo>
                    <a:pt x="6058" y="340"/>
                  </a:lnTo>
                  <a:lnTo>
                    <a:pt x="6059" y="333"/>
                  </a:lnTo>
                  <a:lnTo>
                    <a:pt x="6060" y="323"/>
                  </a:lnTo>
                  <a:lnTo>
                    <a:pt x="6062" y="311"/>
                  </a:lnTo>
                  <a:lnTo>
                    <a:pt x="6063" y="295"/>
                  </a:lnTo>
                  <a:lnTo>
                    <a:pt x="6064" y="278"/>
                  </a:lnTo>
                  <a:lnTo>
                    <a:pt x="6065" y="258"/>
                  </a:lnTo>
                  <a:lnTo>
                    <a:pt x="6068" y="237"/>
                  </a:lnTo>
                  <a:lnTo>
                    <a:pt x="6069" y="216"/>
                  </a:lnTo>
                  <a:lnTo>
                    <a:pt x="6070" y="193"/>
                  </a:lnTo>
                  <a:lnTo>
                    <a:pt x="6072" y="169"/>
                  </a:lnTo>
                  <a:lnTo>
                    <a:pt x="6073" y="147"/>
                  </a:lnTo>
                  <a:lnTo>
                    <a:pt x="6074" y="125"/>
                  </a:lnTo>
                  <a:lnTo>
                    <a:pt x="6077" y="104"/>
                  </a:lnTo>
                  <a:lnTo>
                    <a:pt x="6078" y="85"/>
                  </a:lnTo>
                  <a:lnTo>
                    <a:pt x="6079" y="67"/>
                  </a:lnTo>
                  <a:lnTo>
                    <a:pt x="6080" y="51"/>
                  </a:lnTo>
                  <a:lnTo>
                    <a:pt x="6082" y="38"/>
                  </a:lnTo>
                  <a:lnTo>
                    <a:pt x="6083" y="28"/>
                  </a:lnTo>
                  <a:lnTo>
                    <a:pt x="6084" y="21"/>
                  </a:lnTo>
                  <a:lnTo>
                    <a:pt x="6087" y="18"/>
                  </a:lnTo>
                  <a:lnTo>
                    <a:pt x="6088" y="17"/>
                  </a:lnTo>
                  <a:lnTo>
                    <a:pt x="6089" y="20"/>
                  </a:lnTo>
                  <a:lnTo>
                    <a:pt x="6091" y="26"/>
                  </a:lnTo>
                  <a:lnTo>
                    <a:pt x="6092" y="36"/>
                  </a:lnTo>
                  <a:lnTo>
                    <a:pt x="6093" y="47"/>
                  </a:lnTo>
                  <a:lnTo>
                    <a:pt x="6094" y="62"/>
                  </a:lnTo>
                  <a:lnTo>
                    <a:pt x="6097" y="79"/>
                  </a:lnTo>
                  <a:lnTo>
                    <a:pt x="6098" y="98"/>
                  </a:lnTo>
                  <a:lnTo>
                    <a:pt x="6099" y="119"/>
                  </a:lnTo>
                  <a:lnTo>
                    <a:pt x="6101" y="141"/>
                  </a:lnTo>
                  <a:lnTo>
                    <a:pt x="6102" y="165"/>
                  </a:lnTo>
                  <a:lnTo>
                    <a:pt x="6103" y="187"/>
                  </a:lnTo>
                  <a:lnTo>
                    <a:pt x="6104" y="211"/>
                  </a:lnTo>
                  <a:lnTo>
                    <a:pt x="6107" y="234"/>
                  </a:lnTo>
                  <a:lnTo>
                    <a:pt x="6108" y="255"/>
                  </a:lnTo>
                  <a:lnTo>
                    <a:pt x="6109" y="275"/>
                  </a:lnTo>
                  <a:lnTo>
                    <a:pt x="6111" y="294"/>
                  </a:lnTo>
                  <a:lnTo>
                    <a:pt x="6112" y="310"/>
                  </a:lnTo>
                  <a:lnTo>
                    <a:pt x="6113" y="324"/>
                  </a:lnTo>
                  <a:lnTo>
                    <a:pt x="6116" y="334"/>
                  </a:lnTo>
                  <a:lnTo>
                    <a:pt x="6117" y="342"/>
                  </a:lnTo>
                  <a:lnTo>
                    <a:pt x="6118" y="346"/>
                  </a:lnTo>
                  <a:lnTo>
                    <a:pt x="6119" y="348"/>
                  </a:lnTo>
                  <a:lnTo>
                    <a:pt x="6121" y="345"/>
                  </a:lnTo>
                  <a:lnTo>
                    <a:pt x="6122" y="341"/>
                  </a:lnTo>
                  <a:lnTo>
                    <a:pt x="6123" y="332"/>
                  </a:lnTo>
                  <a:lnTo>
                    <a:pt x="6126" y="321"/>
                  </a:lnTo>
                  <a:lnTo>
                    <a:pt x="6127" y="306"/>
                  </a:lnTo>
                  <a:lnTo>
                    <a:pt x="6128" y="290"/>
                  </a:lnTo>
                  <a:lnTo>
                    <a:pt x="6130" y="271"/>
                  </a:lnTo>
                  <a:lnTo>
                    <a:pt x="6131" y="249"/>
                  </a:lnTo>
                  <a:lnTo>
                    <a:pt x="6132" y="227"/>
                  </a:lnTo>
                  <a:lnTo>
                    <a:pt x="6133" y="204"/>
                  </a:lnTo>
                  <a:lnTo>
                    <a:pt x="6136" y="180"/>
                  </a:lnTo>
                  <a:lnTo>
                    <a:pt x="6137" y="157"/>
                  </a:lnTo>
                  <a:lnTo>
                    <a:pt x="6138" y="134"/>
                  </a:lnTo>
                  <a:lnTo>
                    <a:pt x="6140" y="111"/>
                  </a:lnTo>
                  <a:lnTo>
                    <a:pt x="6141" y="90"/>
                  </a:lnTo>
                  <a:lnTo>
                    <a:pt x="6142" y="71"/>
                  </a:lnTo>
                  <a:lnTo>
                    <a:pt x="6145" y="55"/>
                  </a:lnTo>
                  <a:lnTo>
                    <a:pt x="6146" y="40"/>
                  </a:lnTo>
                  <a:lnTo>
                    <a:pt x="6147" y="29"/>
                  </a:lnTo>
                  <a:lnTo>
                    <a:pt x="6148" y="20"/>
                  </a:lnTo>
                  <a:lnTo>
                    <a:pt x="6150" y="14"/>
                  </a:lnTo>
                  <a:lnTo>
                    <a:pt x="6151" y="12"/>
                  </a:lnTo>
                  <a:lnTo>
                    <a:pt x="6152" y="14"/>
                  </a:lnTo>
                  <a:lnTo>
                    <a:pt x="6155" y="19"/>
                  </a:lnTo>
                  <a:lnTo>
                    <a:pt x="6156" y="27"/>
                  </a:lnTo>
                  <a:lnTo>
                    <a:pt x="6157" y="38"/>
                  </a:lnTo>
                  <a:lnTo>
                    <a:pt x="6158" y="51"/>
                  </a:lnTo>
                  <a:lnTo>
                    <a:pt x="6160" y="68"/>
                  </a:lnTo>
                  <a:lnTo>
                    <a:pt x="6161" y="87"/>
                  </a:lnTo>
                  <a:lnTo>
                    <a:pt x="6162" y="108"/>
                  </a:lnTo>
                  <a:lnTo>
                    <a:pt x="6165" y="130"/>
                  </a:lnTo>
                  <a:lnTo>
                    <a:pt x="6166" y="153"/>
                  </a:lnTo>
                  <a:lnTo>
                    <a:pt x="6167" y="177"/>
                  </a:lnTo>
                  <a:lnTo>
                    <a:pt x="6169" y="200"/>
                  </a:lnTo>
                  <a:lnTo>
                    <a:pt x="6170" y="225"/>
                  </a:lnTo>
                  <a:lnTo>
                    <a:pt x="6171" y="247"/>
                  </a:lnTo>
                  <a:lnTo>
                    <a:pt x="6172" y="268"/>
                  </a:lnTo>
                  <a:lnTo>
                    <a:pt x="6175" y="288"/>
                  </a:lnTo>
                  <a:lnTo>
                    <a:pt x="6176" y="306"/>
                  </a:lnTo>
                  <a:lnTo>
                    <a:pt x="6177" y="322"/>
                  </a:lnTo>
                  <a:lnTo>
                    <a:pt x="6179" y="334"/>
                  </a:lnTo>
                  <a:lnTo>
                    <a:pt x="6180" y="343"/>
                  </a:lnTo>
                  <a:lnTo>
                    <a:pt x="6181" y="350"/>
                  </a:lnTo>
                  <a:lnTo>
                    <a:pt x="6184" y="352"/>
                  </a:lnTo>
                  <a:lnTo>
                    <a:pt x="6185" y="352"/>
                  </a:lnTo>
                  <a:lnTo>
                    <a:pt x="6186" y="348"/>
                  </a:lnTo>
                  <a:lnTo>
                    <a:pt x="6187" y="340"/>
                  </a:lnTo>
                  <a:lnTo>
                    <a:pt x="6189" y="330"/>
                  </a:lnTo>
                  <a:lnTo>
                    <a:pt x="6190" y="316"/>
                  </a:lnTo>
                  <a:lnTo>
                    <a:pt x="6191" y="300"/>
                  </a:lnTo>
                  <a:lnTo>
                    <a:pt x="6194" y="282"/>
                  </a:lnTo>
                  <a:lnTo>
                    <a:pt x="6195" y="261"/>
                  </a:lnTo>
                  <a:lnTo>
                    <a:pt x="6196" y="238"/>
                  </a:lnTo>
                  <a:lnTo>
                    <a:pt x="6197" y="215"/>
                  </a:lnTo>
                  <a:lnTo>
                    <a:pt x="6199" y="192"/>
                  </a:lnTo>
                  <a:lnTo>
                    <a:pt x="6200" y="167"/>
                  </a:lnTo>
                  <a:lnTo>
                    <a:pt x="6202" y="143"/>
                  </a:lnTo>
                  <a:lnTo>
                    <a:pt x="6204" y="119"/>
                  </a:lnTo>
                  <a:lnTo>
                    <a:pt x="6205" y="97"/>
                  </a:lnTo>
                  <a:lnTo>
                    <a:pt x="6206" y="77"/>
                  </a:lnTo>
                  <a:lnTo>
                    <a:pt x="6208" y="59"/>
                  </a:lnTo>
                  <a:lnTo>
                    <a:pt x="6209" y="42"/>
                  </a:lnTo>
                  <a:lnTo>
                    <a:pt x="6210" y="29"/>
                  </a:lnTo>
                  <a:lnTo>
                    <a:pt x="6212" y="19"/>
                  </a:lnTo>
                  <a:lnTo>
                    <a:pt x="6214" y="12"/>
                  </a:lnTo>
                  <a:lnTo>
                    <a:pt x="6215" y="9"/>
                  </a:lnTo>
                  <a:lnTo>
                    <a:pt x="6216" y="9"/>
                  </a:lnTo>
                  <a:lnTo>
                    <a:pt x="6218" y="12"/>
                  </a:lnTo>
                  <a:lnTo>
                    <a:pt x="6219" y="19"/>
                  </a:lnTo>
                  <a:lnTo>
                    <a:pt x="6220" y="29"/>
                  </a:lnTo>
                  <a:lnTo>
                    <a:pt x="6223" y="41"/>
                  </a:lnTo>
                  <a:lnTo>
                    <a:pt x="6224" y="58"/>
                  </a:lnTo>
                  <a:lnTo>
                    <a:pt x="6225" y="76"/>
                  </a:lnTo>
                  <a:lnTo>
                    <a:pt x="6226" y="96"/>
                  </a:lnTo>
                  <a:lnTo>
                    <a:pt x="6228" y="118"/>
                  </a:lnTo>
                  <a:lnTo>
                    <a:pt x="6229" y="141"/>
                  </a:lnTo>
                  <a:lnTo>
                    <a:pt x="6231" y="166"/>
                  </a:lnTo>
                  <a:lnTo>
                    <a:pt x="6233" y="190"/>
                  </a:lnTo>
                  <a:lnTo>
                    <a:pt x="6234" y="215"/>
                  </a:lnTo>
                  <a:lnTo>
                    <a:pt x="6235" y="238"/>
                  </a:lnTo>
                  <a:lnTo>
                    <a:pt x="6236" y="262"/>
                  </a:lnTo>
                  <a:lnTo>
                    <a:pt x="6238" y="283"/>
                  </a:lnTo>
                  <a:lnTo>
                    <a:pt x="6239" y="302"/>
                  </a:lnTo>
                  <a:lnTo>
                    <a:pt x="6241" y="319"/>
                  </a:lnTo>
                  <a:lnTo>
                    <a:pt x="6243" y="333"/>
                  </a:lnTo>
                  <a:lnTo>
                    <a:pt x="6244" y="343"/>
                  </a:lnTo>
                  <a:lnTo>
                    <a:pt x="6245" y="351"/>
                  </a:lnTo>
                  <a:lnTo>
                    <a:pt x="6247" y="355"/>
                  </a:lnTo>
                  <a:lnTo>
                    <a:pt x="6248" y="356"/>
                  </a:lnTo>
                  <a:lnTo>
                    <a:pt x="6249" y="354"/>
                  </a:lnTo>
                  <a:lnTo>
                    <a:pt x="6251" y="348"/>
                  </a:lnTo>
                  <a:lnTo>
                    <a:pt x="6253" y="339"/>
                  </a:lnTo>
                  <a:lnTo>
                    <a:pt x="6254" y="326"/>
                  </a:lnTo>
                  <a:lnTo>
                    <a:pt x="6255" y="311"/>
                  </a:lnTo>
                  <a:lnTo>
                    <a:pt x="6257" y="293"/>
                  </a:lnTo>
                  <a:lnTo>
                    <a:pt x="6258" y="272"/>
                  </a:lnTo>
                  <a:lnTo>
                    <a:pt x="6260" y="251"/>
                  </a:lnTo>
                  <a:lnTo>
                    <a:pt x="6262" y="227"/>
                  </a:lnTo>
                  <a:lnTo>
                    <a:pt x="6263" y="203"/>
                  </a:lnTo>
                  <a:lnTo>
                    <a:pt x="6264" y="177"/>
                  </a:lnTo>
                  <a:lnTo>
                    <a:pt x="6265" y="153"/>
                  </a:lnTo>
                  <a:lnTo>
                    <a:pt x="6267" y="128"/>
                  </a:lnTo>
                  <a:lnTo>
                    <a:pt x="6268" y="105"/>
                  </a:lnTo>
                  <a:lnTo>
                    <a:pt x="6270" y="83"/>
                  </a:lnTo>
                  <a:lnTo>
                    <a:pt x="6272" y="63"/>
                  </a:lnTo>
                  <a:lnTo>
                    <a:pt x="6273" y="46"/>
                  </a:lnTo>
                  <a:lnTo>
                    <a:pt x="6274" y="31"/>
                  </a:lnTo>
                  <a:lnTo>
                    <a:pt x="6276" y="19"/>
                  </a:lnTo>
                  <a:lnTo>
                    <a:pt x="6277" y="11"/>
                  </a:lnTo>
                  <a:lnTo>
                    <a:pt x="6278" y="6"/>
                  </a:lnTo>
                  <a:lnTo>
                    <a:pt x="6280" y="3"/>
                  </a:lnTo>
                  <a:lnTo>
                    <a:pt x="6282" y="6"/>
                  </a:lnTo>
                  <a:lnTo>
                    <a:pt x="6283" y="11"/>
                  </a:lnTo>
                  <a:lnTo>
                    <a:pt x="6284" y="20"/>
                  </a:lnTo>
                  <a:lnTo>
                    <a:pt x="6286" y="32"/>
                  </a:lnTo>
                  <a:lnTo>
                    <a:pt x="6287" y="47"/>
                  </a:lnTo>
                  <a:lnTo>
                    <a:pt x="6289" y="65"/>
                  </a:lnTo>
                  <a:lnTo>
                    <a:pt x="6290" y="85"/>
                  </a:lnTo>
                  <a:lnTo>
                    <a:pt x="6292" y="107"/>
                  </a:lnTo>
                  <a:lnTo>
                    <a:pt x="6293" y="130"/>
                  </a:lnTo>
                  <a:lnTo>
                    <a:pt x="6294" y="155"/>
                  </a:lnTo>
                  <a:lnTo>
                    <a:pt x="6296" y="180"/>
                  </a:lnTo>
                  <a:lnTo>
                    <a:pt x="6297" y="205"/>
                  </a:lnTo>
                  <a:lnTo>
                    <a:pt x="6299" y="231"/>
                  </a:lnTo>
                  <a:lnTo>
                    <a:pt x="6301" y="254"/>
                  </a:lnTo>
                  <a:lnTo>
                    <a:pt x="6302" y="276"/>
                  </a:lnTo>
                  <a:lnTo>
                    <a:pt x="6303" y="296"/>
                  </a:lnTo>
                  <a:lnTo>
                    <a:pt x="6304" y="315"/>
                  </a:lnTo>
                  <a:lnTo>
                    <a:pt x="6306" y="331"/>
                  </a:lnTo>
                  <a:lnTo>
                    <a:pt x="6307" y="343"/>
                  </a:lnTo>
                  <a:lnTo>
                    <a:pt x="6309" y="353"/>
                  </a:lnTo>
                  <a:lnTo>
                    <a:pt x="6311" y="359"/>
                  </a:lnTo>
                  <a:lnTo>
                    <a:pt x="6312" y="361"/>
                  </a:lnTo>
                  <a:lnTo>
                    <a:pt x="6313" y="360"/>
                  </a:lnTo>
                  <a:lnTo>
                    <a:pt x="6315" y="355"/>
                  </a:lnTo>
                  <a:lnTo>
                    <a:pt x="6316" y="348"/>
                  </a:lnTo>
                  <a:lnTo>
                    <a:pt x="6318" y="335"/>
                  </a:lnTo>
                  <a:lnTo>
                    <a:pt x="6319" y="321"/>
                  </a:lnTo>
                  <a:lnTo>
                    <a:pt x="6321" y="303"/>
                  </a:lnTo>
                  <a:lnTo>
                    <a:pt x="6322" y="284"/>
                  </a:lnTo>
                  <a:lnTo>
                    <a:pt x="6323" y="262"/>
                  </a:lnTo>
                  <a:lnTo>
                    <a:pt x="6325" y="238"/>
                  </a:lnTo>
                  <a:lnTo>
                    <a:pt x="6326" y="214"/>
                  </a:lnTo>
                  <a:lnTo>
                    <a:pt x="6328" y="188"/>
                  </a:lnTo>
                  <a:lnTo>
                    <a:pt x="6329" y="163"/>
                  </a:lnTo>
                  <a:lnTo>
                    <a:pt x="6331" y="137"/>
                  </a:lnTo>
                  <a:lnTo>
                    <a:pt x="6332" y="112"/>
                  </a:lnTo>
                  <a:lnTo>
                    <a:pt x="6333" y="90"/>
                  </a:lnTo>
                  <a:lnTo>
                    <a:pt x="6335" y="69"/>
                  </a:lnTo>
                  <a:lnTo>
                    <a:pt x="6336" y="50"/>
                  </a:lnTo>
                  <a:lnTo>
                    <a:pt x="6338" y="33"/>
                  </a:lnTo>
                  <a:lnTo>
                    <a:pt x="6340" y="20"/>
                  </a:lnTo>
                  <a:lnTo>
                    <a:pt x="6341" y="10"/>
                  </a:lnTo>
                  <a:lnTo>
                    <a:pt x="6342" y="3"/>
                  </a:lnTo>
                  <a:lnTo>
                    <a:pt x="6343" y="0"/>
                  </a:lnTo>
                  <a:lnTo>
                    <a:pt x="6345" y="0"/>
                  </a:lnTo>
                  <a:lnTo>
                    <a:pt x="6347" y="4"/>
                  </a:lnTo>
                  <a:lnTo>
                    <a:pt x="6348" y="12"/>
                  </a:lnTo>
                  <a:lnTo>
                    <a:pt x="6350" y="22"/>
                  </a:lnTo>
                  <a:lnTo>
                    <a:pt x="6351" y="37"/>
                  </a:lnTo>
                  <a:lnTo>
                    <a:pt x="6352" y="53"/>
                  </a:lnTo>
                  <a:lnTo>
                    <a:pt x="6354" y="73"/>
                  </a:lnTo>
                  <a:lnTo>
                    <a:pt x="6355" y="96"/>
                  </a:lnTo>
                  <a:lnTo>
                    <a:pt x="6357" y="119"/>
                  </a:lnTo>
                  <a:lnTo>
                    <a:pt x="6358" y="144"/>
                  </a:lnTo>
                  <a:lnTo>
                    <a:pt x="6360" y="169"/>
                  </a:lnTo>
                  <a:lnTo>
                    <a:pt x="6361" y="195"/>
                  </a:lnTo>
                  <a:lnTo>
                    <a:pt x="6362" y="221"/>
                  </a:lnTo>
                  <a:lnTo>
                    <a:pt x="6364" y="245"/>
                  </a:lnTo>
                  <a:lnTo>
                    <a:pt x="6365" y="270"/>
                  </a:lnTo>
                  <a:lnTo>
                    <a:pt x="6367" y="291"/>
                  </a:lnTo>
                  <a:lnTo>
                    <a:pt x="6368" y="311"/>
                  </a:lnTo>
                  <a:lnTo>
                    <a:pt x="6370" y="327"/>
                  </a:lnTo>
                  <a:lnTo>
                    <a:pt x="6371" y="342"/>
                  </a:lnTo>
                  <a:lnTo>
                    <a:pt x="6372" y="353"/>
                  </a:lnTo>
                  <a:lnTo>
                    <a:pt x="6374" y="361"/>
                  </a:lnTo>
                  <a:lnTo>
                    <a:pt x="6376" y="365"/>
                  </a:lnTo>
                  <a:lnTo>
                    <a:pt x="6377" y="365"/>
                  </a:lnTo>
                  <a:lnTo>
                    <a:pt x="6379" y="362"/>
                  </a:lnTo>
                  <a:lnTo>
                    <a:pt x="6380" y="355"/>
                  </a:lnTo>
                  <a:lnTo>
                    <a:pt x="6380" y="3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100240" y="1179360"/>
              <a:ext cx="5373720" cy="162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61592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98576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30368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52072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05892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59532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133520" y="542304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9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15088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69052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22872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765480" y="5423040"/>
              <a:ext cx="40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 0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10168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38440" y="5300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17664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713040" y="5300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25304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789440" y="5300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326200" y="5300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86440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400800" y="5300640"/>
              <a:ext cx="1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939000" y="530064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475400" y="5300640"/>
              <a:ext cx="18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37024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63844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9084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31766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44484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71304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39830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2530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5212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78944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05764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32620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59440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86440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13260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400800" y="53006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67080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939000" y="5300640"/>
              <a:ext cx="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20720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475400" y="5300640"/>
              <a:ext cx="18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338720" y="5651640"/>
              <a:ext cx="96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[Hz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475400" y="3665520"/>
              <a:ext cx="1800" cy="162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475400" y="3665520"/>
              <a:ext cx="1800" cy="1623960"/>
            </a:xfrm>
            <a:custGeom>
              <a:avLst/>
              <a:gdLst/>
              <a:ahLst/>
              <a:rect l="l" t="t" r="r" b="b"/>
              <a:pathLst>
                <a:path w="0" h="1228">
                  <a:moveTo>
                    <a:pt x="0" y="0"/>
                  </a:moveTo>
                  <a:lnTo>
                    <a:pt x="0" y="0"/>
                  </a:lnTo>
                  <a:lnTo>
                    <a:pt x="0" y="12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101680" y="3665520"/>
              <a:ext cx="5373720" cy="1440"/>
            </a:xfrm>
            <a:custGeom>
              <a:avLst/>
              <a:gdLst/>
              <a:ahLst/>
              <a:rect l="l" t="t" r="r" b="b"/>
              <a:pathLst>
                <a:path w="6380" h="0">
                  <a:moveTo>
                    <a:pt x="6380" y="0"/>
                  </a:moveTo>
                  <a:lnTo>
                    <a:pt x="0" y="0"/>
                  </a:lnTo>
                  <a:lnTo>
                    <a:pt x="63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101680" y="3665520"/>
              <a:ext cx="5373720" cy="1440"/>
            </a:xfrm>
            <a:custGeom>
              <a:avLst/>
              <a:gdLst/>
              <a:ahLst/>
              <a:rect l="l" t="t" r="r" b="b"/>
              <a:pathLst>
                <a:path w="6380" h="0">
                  <a:moveTo>
                    <a:pt x="0" y="0"/>
                  </a:moveTo>
                  <a:lnTo>
                    <a:pt x="0" y="0"/>
                  </a:lnTo>
                  <a:lnTo>
                    <a:pt x="63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101680" y="5289480"/>
              <a:ext cx="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H="1">
              <a:off x="2030400" y="5289480"/>
              <a:ext cx="71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>
              <a:off x="2030400" y="447840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H="1">
              <a:off x="2030400" y="3665520"/>
              <a:ext cx="71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2066400" y="5289480"/>
              <a:ext cx="34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H="1">
              <a:off x="2066400" y="488160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2066400" y="447840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H="1">
              <a:off x="2066400" y="4070520"/>
              <a:ext cx="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2066400" y="3665520"/>
              <a:ext cx="3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101680" y="4498920"/>
              <a:ext cx="5373720" cy="782640"/>
            </a:xfrm>
            <a:custGeom>
              <a:avLst/>
              <a:gdLst/>
              <a:ahLst/>
              <a:rect l="l" t="t" r="r" b="b"/>
              <a:pathLst>
                <a:path w="6380" h="592">
                  <a:moveTo>
                    <a:pt x="0" y="591"/>
                  </a:moveTo>
                  <a:lnTo>
                    <a:pt x="11" y="591"/>
                  </a:lnTo>
                  <a:lnTo>
                    <a:pt x="55" y="591"/>
                  </a:lnTo>
                  <a:lnTo>
                    <a:pt x="97" y="591"/>
                  </a:lnTo>
                  <a:lnTo>
                    <a:pt x="141" y="591"/>
                  </a:lnTo>
                  <a:lnTo>
                    <a:pt x="183" y="591"/>
                  </a:lnTo>
                  <a:lnTo>
                    <a:pt x="227" y="591"/>
                  </a:lnTo>
                  <a:lnTo>
                    <a:pt x="269" y="591"/>
                  </a:lnTo>
                  <a:lnTo>
                    <a:pt x="312" y="591"/>
                  </a:lnTo>
                  <a:lnTo>
                    <a:pt x="355" y="591"/>
                  </a:lnTo>
                  <a:lnTo>
                    <a:pt x="398" y="591"/>
                  </a:lnTo>
                  <a:lnTo>
                    <a:pt x="441" y="590"/>
                  </a:lnTo>
                  <a:lnTo>
                    <a:pt x="484" y="590"/>
                  </a:lnTo>
                  <a:lnTo>
                    <a:pt x="527" y="590"/>
                  </a:lnTo>
                  <a:lnTo>
                    <a:pt x="570" y="590"/>
                  </a:lnTo>
                  <a:lnTo>
                    <a:pt x="613" y="590"/>
                  </a:lnTo>
                  <a:lnTo>
                    <a:pt x="656" y="590"/>
                  </a:lnTo>
                  <a:lnTo>
                    <a:pt x="698" y="590"/>
                  </a:lnTo>
                  <a:lnTo>
                    <a:pt x="742" y="590"/>
                  </a:lnTo>
                  <a:lnTo>
                    <a:pt x="784" y="589"/>
                  </a:lnTo>
                  <a:lnTo>
                    <a:pt x="827" y="589"/>
                  </a:lnTo>
                  <a:lnTo>
                    <a:pt x="870" y="589"/>
                  </a:lnTo>
                  <a:lnTo>
                    <a:pt x="913" y="589"/>
                  </a:lnTo>
                  <a:lnTo>
                    <a:pt x="956" y="589"/>
                  </a:lnTo>
                  <a:lnTo>
                    <a:pt x="999" y="589"/>
                  </a:lnTo>
                  <a:lnTo>
                    <a:pt x="1042" y="589"/>
                  </a:lnTo>
                  <a:lnTo>
                    <a:pt x="1084" y="587"/>
                  </a:lnTo>
                  <a:lnTo>
                    <a:pt x="1128" y="587"/>
                  </a:lnTo>
                  <a:lnTo>
                    <a:pt x="1170" y="587"/>
                  </a:lnTo>
                  <a:lnTo>
                    <a:pt x="1214" y="587"/>
                  </a:lnTo>
                  <a:lnTo>
                    <a:pt x="1256" y="587"/>
                  </a:lnTo>
                  <a:lnTo>
                    <a:pt x="1300" y="586"/>
                  </a:lnTo>
                  <a:lnTo>
                    <a:pt x="1342" y="586"/>
                  </a:lnTo>
                  <a:lnTo>
                    <a:pt x="1386" y="586"/>
                  </a:lnTo>
                  <a:lnTo>
                    <a:pt x="1428" y="586"/>
                  </a:lnTo>
                  <a:lnTo>
                    <a:pt x="1472" y="585"/>
                  </a:lnTo>
                  <a:lnTo>
                    <a:pt x="1514" y="585"/>
                  </a:lnTo>
                  <a:lnTo>
                    <a:pt x="1557" y="585"/>
                  </a:lnTo>
                  <a:lnTo>
                    <a:pt x="1600" y="584"/>
                  </a:lnTo>
                  <a:lnTo>
                    <a:pt x="1643" y="584"/>
                  </a:lnTo>
                  <a:lnTo>
                    <a:pt x="1686" y="584"/>
                  </a:lnTo>
                  <a:lnTo>
                    <a:pt x="1729" y="583"/>
                  </a:lnTo>
                  <a:lnTo>
                    <a:pt x="1772" y="583"/>
                  </a:lnTo>
                  <a:lnTo>
                    <a:pt x="1815" y="582"/>
                  </a:lnTo>
                  <a:lnTo>
                    <a:pt x="1858" y="582"/>
                  </a:lnTo>
                  <a:lnTo>
                    <a:pt x="1901" y="581"/>
                  </a:lnTo>
                  <a:lnTo>
                    <a:pt x="1943" y="581"/>
                  </a:lnTo>
                  <a:lnTo>
                    <a:pt x="1987" y="580"/>
                  </a:lnTo>
                  <a:lnTo>
                    <a:pt x="2029" y="580"/>
                  </a:lnTo>
                  <a:lnTo>
                    <a:pt x="2072" y="579"/>
                  </a:lnTo>
                  <a:lnTo>
                    <a:pt x="2115" y="577"/>
                  </a:lnTo>
                  <a:lnTo>
                    <a:pt x="2158" y="576"/>
                  </a:lnTo>
                  <a:lnTo>
                    <a:pt x="2201" y="575"/>
                  </a:lnTo>
                  <a:lnTo>
                    <a:pt x="2244" y="574"/>
                  </a:lnTo>
                  <a:lnTo>
                    <a:pt x="2287" y="573"/>
                  </a:lnTo>
                  <a:lnTo>
                    <a:pt x="2329" y="572"/>
                  </a:lnTo>
                  <a:lnTo>
                    <a:pt x="2373" y="570"/>
                  </a:lnTo>
                  <a:lnTo>
                    <a:pt x="2415" y="567"/>
                  </a:lnTo>
                  <a:lnTo>
                    <a:pt x="2459" y="565"/>
                  </a:lnTo>
                  <a:lnTo>
                    <a:pt x="2501" y="563"/>
                  </a:lnTo>
                  <a:lnTo>
                    <a:pt x="2545" y="559"/>
                  </a:lnTo>
                  <a:lnTo>
                    <a:pt x="2587" y="554"/>
                  </a:lnTo>
                  <a:lnTo>
                    <a:pt x="2631" y="548"/>
                  </a:lnTo>
                  <a:lnTo>
                    <a:pt x="2673" y="540"/>
                  </a:lnTo>
                  <a:lnTo>
                    <a:pt x="2717" y="527"/>
                  </a:lnTo>
                  <a:lnTo>
                    <a:pt x="2759" y="491"/>
                  </a:lnTo>
                  <a:lnTo>
                    <a:pt x="2802" y="449"/>
                  </a:lnTo>
                  <a:lnTo>
                    <a:pt x="2845" y="123"/>
                  </a:lnTo>
                  <a:lnTo>
                    <a:pt x="2888" y="43"/>
                  </a:lnTo>
                  <a:lnTo>
                    <a:pt x="2931" y="33"/>
                  </a:lnTo>
                  <a:lnTo>
                    <a:pt x="2974" y="23"/>
                  </a:lnTo>
                  <a:lnTo>
                    <a:pt x="3017" y="0"/>
                  </a:lnTo>
                  <a:lnTo>
                    <a:pt x="3060" y="10"/>
                  </a:lnTo>
                  <a:lnTo>
                    <a:pt x="3102" y="32"/>
                  </a:lnTo>
                  <a:lnTo>
                    <a:pt x="3146" y="32"/>
                  </a:lnTo>
                  <a:lnTo>
                    <a:pt x="3188" y="73"/>
                  </a:lnTo>
                  <a:lnTo>
                    <a:pt x="3231" y="23"/>
                  </a:lnTo>
                  <a:lnTo>
                    <a:pt x="3274" y="140"/>
                  </a:lnTo>
                  <a:lnTo>
                    <a:pt x="3317" y="77"/>
                  </a:lnTo>
                  <a:lnTo>
                    <a:pt x="3360" y="19"/>
                  </a:lnTo>
                  <a:lnTo>
                    <a:pt x="3403" y="32"/>
                  </a:lnTo>
                  <a:lnTo>
                    <a:pt x="3446" y="85"/>
                  </a:lnTo>
                  <a:lnTo>
                    <a:pt x="3488" y="442"/>
                  </a:lnTo>
                  <a:lnTo>
                    <a:pt x="3532" y="489"/>
                  </a:lnTo>
                  <a:lnTo>
                    <a:pt x="3574" y="525"/>
                  </a:lnTo>
                  <a:lnTo>
                    <a:pt x="3618" y="538"/>
                  </a:lnTo>
                  <a:lnTo>
                    <a:pt x="3660" y="547"/>
                  </a:lnTo>
                  <a:lnTo>
                    <a:pt x="3704" y="553"/>
                  </a:lnTo>
                  <a:lnTo>
                    <a:pt x="3746" y="559"/>
                  </a:lnTo>
                  <a:lnTo>
                    <a:pt x="3790" y="562"/>
                  </a:lnTo>
                  <a:lnTo>
                    <a:pt x="3832" y="565"/>
                  </a:lnTo>
                  <a:lnTo>
                    <a:pt x="3876" y="567"/>
                  </a:lnTo>
                  <a:lnTo>
                    <a:pt x="3918" y="570"/>
                  </a:lnTo>
                  <a:lnTo>
                    <a:pt x="3961" y="571"/>
                  </a:lnTo>
                  <a:lnTo>
                    <a:pt x="4004" y="573"/>
                  </a:lnTo>
                  <a:lnTo>
                    <a:pt x="4047" y="574"/>
                  </a:lnTo>
                  <a:lnTo>
                    <a:pt x="4090" y="575"/>
                  </a:lnTo>
                  <a:lnTo>
                    <a:pt x="4133" y="576"/>
                  </a:lnTo>
                  <a:lnTo>
                    <a:pt x="4176" y="577"/>
                  </a:lnTo>
                  <a:lnTo>
                    <a:pt x="4219" y="579"/>
                  </a:lnTo>
                  <a:lnTo>
                    <a:pt x="4262" y="580"/>
                  </a:lnTo>
                  <a:lnTo>
                    <a:pt x="4305" y="580"/>
                  </a:lnTo>
                  <a:lnTo>
                    <a:pt x="4347" y="581"/>
                  </a:lnTo>
                  <a:lnTo>
                    <a:pt x="4391" y="581"/>
                  </a:lnTo>
                  <a:lnTo>
                    <a:pt x="4433" y="582"/>
                  </a:lnTo>
                  <a:lnTo>
                    <a:pt x="4476" y="582"/>
                  </a:lnTo>
                  <a:lnTo>
                    <a:pt x="4519" y="583"/>
                  </a:lnTo>
                  <a:lnTo>
                    <a:pt x="4562" y="583"/>
                  </a:lnTo>
                  <a:lnTo>
                    <a:pt x="4605" y="584"/>
                  </a:lnTo>
                  <a:lnTo>
                    <a:pt x="4648" y="584"/>
                  </a:lnTo>
                  <a:lnTo>
                    <a:pt x="4691" y="584"/>
                  </a:lnTo>
                  <a:lnTo>
                    <a:pt x="4733" y="585"/>
                  </a:lnTo>
                  <a:lnTo>
                    <a:pt x="4777" y="585"/>
                  </a:lnTo>
                  <a:lnTo>
                    <a:pt x="4819" y="585"/>
                  </a:lnTo>
                  <a:lnTo>
                    <a:pt x="4863" y="586"/>
                  </a:lnTo>
                  <a:lnTo>
                    <a:pt x="4905" y="586"/>
                  </a:lnTo>
                  <a:lnTo>
                    <a:pt x="4949" y="586"/>
                  </a:lnTo>
                  <a:lnTo>
                    <a:pt x="4991" y="586"/>
                  </a:lnTo>
                  <a:lnTo>
                    <a:pt x="5035" y="587"/>
                  </a:lnTo>
                  <a:lnTo>
                    <a:pt x="5077" y="587"/>
                  </a:lnTo>
                  <a:lnTo>
                    <a:pt x="5121" y="587"/>
                  </a:lnTo>
                  <a:lnTo>
                    <a:pt x="5163" y="587"/>
                  </a:lnTo>
                  <a:lnTo>
                    <a:pt x="5206" y="587"/>
                  </a:lnTo>
                  <a:lnTo>
                    <a:pt x="5249" y="589"/>
                  </a:lnTo>
                  <a:lnTo>
                    <a:pt x="5292" y="589"/>
                  </a:lnTo>
                  <a:lnTo>
                    <a:pt x="5335" y="589"/>
                  </a:lnTo>
                  <a:lnTo>
                    <a:pt x="5378" y="589"/>
                  </a:lnTo>
                  <a:lnTo>
                    <a:pt x="5421" y="589"/>
                  </a:lnTo>
                  <a:lnTo>
                    <a:pt x="5464" y="589"/>
                  </a:lnTo>
                  <a:lnTo>
                    <a:pt x="5507" y="590"/>
                  </a:lnTo>
                  <a:lnTo>
                    <a:pt x="5550" y="590"/>
                  </a:lnTo>
                  <a:lnTo>
                    <a:pt x="5592" y="590"/>
                  </a:lnTo>
                  <a:lnTo>
                    <a:pt x="5636" y="590"/>
                  </a:lnTo>
                  <a:lnTo>
                    <a:pt x="5678" y="590"/>
                  </a:lnTo>
                  <a:lnTo>
                    <a:pt x="5721" y="590"/>
                  </a:lnTo>
                  <a:lnTo>
                    <a:pt x="5764" y="590"/>
                  </a:lnTo>
                  <a:lnTo>
                    <a:pt x="5807" y="590"/>
                  </a:lnTo>
                  <a:lnTo>
                    <a:pt x="5850" y="591"/>
                  </a:lnTo>
                  <a:lnTo>
                    <a:pt x="5892" y="591"/>
                  </a:lnTo>
                  <a:lnTo>
                    <a:pt x="5936" y="591"/>
                  </a:lnTo>
                  <a:lnTo>
                    <a:pt x="5978" y="591"/>
                  </a:lnTo>
                  <a:lnTo>
                    <a:pt x="6022" y="591"/>
                  </a:lnTo>
                  <a:lnTo>
                    <a:pt x="6064" y="591"/>
                  </a:lnTo>
                  <a:lnTo>
                    <a:pt x="6108" y="591"/>
                  </a:lnTo>
                  <a:lnTo>
                    <a:pt x="6150" y="591"/>
                  </a:lnTo>
                  <a:lnTo>
                    <a:pt x="6194" y="591"/>
                  </a:lnTo>
                  <a:lnTo>
                    <a:pt x="6236" y="591"/>
                  </a:lnTo>
                  <a:lnTo>
                    <a:pt x="6280" y="591"/>
                  </a:lnTo>
                  <a:lnTo>
                    <a:pt x="6322" y="592"/>
                  </a:lnTo>
                  <a:lnTo>
                    <a:pt x="6365" y="592"/>
                  </a:lnTo>
                  <a:lnTo>
                    <a:pt x="6380" y="5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2100240" y="3666960"/>
              <a:ext cx="5373720" cy="162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854720" y="271476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891440" y="1092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 rot="16200000">
              <a:off x="1389240" y="1877400"/>
              <a:ext cx="4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877400" y="1914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770480" y="150480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877400" y="521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769040" y="358776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rot="16200000">
              <a:off x="1015920" y="4363560"/>
              <a:ext cx="11761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me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781640" y="4413240"/>
              <a:ext cx="22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F27-4A7F-46A7-8209-880318CD4701}" type="slidenum">
              <a:t>92</a:t>
            </a:fld>
          </a:p>
        </p:txBody>
      </p:sp>
    </p:spTree>
  </p:cSld>
  <p:transition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754200" y="101844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volv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varía en forma lentamente aleatoria, pero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 med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uede estimarse c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2681280" y="4289400"/>
                <a:ext cx="3781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v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411</m:t>
                    </m:r>
                    <m:r>
                      <m:t xml:space="preserve"> </m:t>
                    </m:r>
                    <m:r>
                      <m:t xml:space="preserve">Δ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091-AE9F-4D0D-9F8A-8CE46393B9AD}" type="slidenum">
              <a:t>93</a:t>
            </a:fld>
          </a:p>
        </p:txBody>
      </p:sp>
    </p:spTree>
  </p:cSld>
  <p:transition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e comportamiento de los ruidos de banda angosta se conoce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tomodulación intrínse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D94-C304-4600-BB08-49B831C452DC}" type="slidenum">
              <a:t>94</a:t>
            </a:fld>
          </a:p>
        </p:txBody>
      </p:sp>
    </p:spTree>
  </p:cSld>
  <p:transition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iene aplicación en experiment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mascaramien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sustitución de tonos pur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E5F-10F4-48B0-967D-2F1A7D4BFD50}" type="slidenum">
              <a:t>95</a:t>
            </a:fld>
          </a:p>
        </p:txBody>
      </p:sp>
    </p:spTree>
  </p:cSld>
  <p:transition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Pul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9A1-6EA5-4741-82D2-5912AB9CC348}" type="slidenum">
              <a:t>96</a:t>
            </a:fld>
          </a:p>
        </p:txBody>
      </p:sp>
    </p:spTree>
  </p:cSld>
  <p:transition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754200" y="190440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algunos experimentos se requieren sonidos mu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rt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Pueden utilizarse para ello diversos tip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ul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D8DB-173C-415A-A6F8-E7664BFB5217}" type="slidenum">
              <a:t>97</a:t>
            </a:fld>
          </a:p>
        </p:txBody>
      </p:sp>
    </p:spTree>
  </p:cSld>
  <p:transition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754200" y="159948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bie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ulso ide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ría un puls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ctangul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mu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r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éstos no son adecuadamente reproducidos por los altavoces o auric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251-5F2D-48E9-A371-FF8A61A5F4B2}" type="slidenum">
              <a:t>98</a:t>
            </a:fld>
          </a:p>
        </p:txBody>
      </p:sp>
    </p:spTree>
  </p:cSld>
  <p:transition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754200" y="990360"/>
            <a:ext cx="763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se debe a que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este tipo de señal es casi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la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como el del ruido blanco) pero, a diferencia del ruido blanco, es muy corto por lo que excita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onanc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ropias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ransducto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6AE-2EDE-499C-966F-482C86FA585D}" type="slidenum">
              <a:t>9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05:27Z</dcterms:modified>
  <cp:revision>244</cp:revision>
  <dc:subject/>
  <dc:title>PSICOACÚSTICA  aplicada a la calidad acústica de espacios educativos.  Materiales absorbentes acústicos reciclados </dc:title>
</cp:coreProperties>
</file>