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AF43-2576-4FBA-A772-1F2B7C441D7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527A-7D2A-47B5-A29F-D5088370ED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ED62-75F8-4B73-BA18-80F4BEBE9CC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9DD-2C3E-4A0F-918D-241F984A544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92F-7E50-436F-B059-41C655AE2FA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7953-96BE-493A-8379-7BA7B2ACFC1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1D7F-27CA-4C2A-856F-5DBB6F81F4C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A1B-0A9D-418F-B35E-05E0845DD53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FE02-C7C8-47C5-A358-C2E639F2F9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E42A-A37B-40DB-A1C1-3F97725BCC7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AAD4-4224-47A8-AEB6-781C6FA424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0E40-66A9-4CEF-9EFB-439C14DCBF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B67F-0FC3-4AF9-A693-1660DFD665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E82A-4750-4F1B-AE97-A8649F387AE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EF9-F496-4E13-A3AB-E92C9A1CBC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5952-D688-4AED-A7D9-2657ECF4CEE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649-546A-4ACD-8AF9-99E7AD6D08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CA9F-F5E0-4F1D-9A20-CA6EB87E72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9BE-EF77-4E30-B4B0-A306CE4601C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3744-9230-4907-AD50-8DD002D6F36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245-4F0F-4CAB-A2E3-551414AA39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0C06-D351-4C08-8FA8-2EBDB8FAAD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9512-9F2E-447A-9220-1C3EA18715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86E-5BE9-4A2B-A5BF-1A0EC457CA4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508-0103-4B85-9D48-8202FA596E7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C41-7C1E-4298-8B7E-47151B0B146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AE5-DC53-4AC8-8CF0-FA5DC26D41B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1BD9-75B9-4552-9028-09CD690C3C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C254-4AE8-4CAE-B230-01C082E0E68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8A97-F9A7-48B9-8B54-D0B97D7BE5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3E36-1486-4940-82A5-8849ECA5E8B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F89E-D62B-4D14-806E-8DAE4AE410A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B90D-CEB7-4846-A115-9CC35B286E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3FD-C7D8-4636-A990-DC17933450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B779-83BE-4A9F-A172-5B4F2DBD1FD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75A6-5172-40DB-9B89-577D1FEE3CF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85E5-FFCF-4076-9915-E0E175C553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A83-EA8F-48B5-9934-BA380F5E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4FD-971F-4F5D-96B8-DCD3820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4F3-0B9E-4249-B321-E6D2DCDB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560-E75C-419E-876F-D369F66F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8A1-7915-44A9-A057-B31B4DFA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D4F-9250-4BDC-AC15-5E3E1485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626-00AC-4553-ABC2-CBF3E31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195-5A6B-41A9-9985-88DE057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8D5-29FF-4F5C-AA21-C5F1EED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637-B4E0-4913-8331-FAC5A8E2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890-73C6-431D-9C8B-15180B9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5E7-9BA1-4427-BBD2-A0424C6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F15D-E7CA-40AB-9AFF-B31F062F89F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BF5-99E5-469B-A7AD-CD1953CF7877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2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2CD-9377-4291-9E70-A99440295E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4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23F-CBC6-4925-9D81-872EFCEC97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5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386-C485-49CC-AE6F-E15849DCDF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7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5EE-2FE9-4EEE-808E-109232AF74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8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1C1-DE7E-4A12-9F6E-BB3EB9EA446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0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457-A8E8-46D9-8372-BA50FC4EA63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1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127-D189-47F6-B0C8-C97CA676C5D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3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A49-5AFE-4D1B-A995-6E5BD9F546C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4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685-9BF8-4178-904E-25ECC210305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6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03B-80F9-4498-BE30-EACC877AA4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42840" y="2885760"/>
            <a:ext cx="725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Direccion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376-E089-44D9-9385-65E9DB35EB5B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7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76B-24ED-4ECA-A33F-3B45AC539C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29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55D-DA58-4385-911F-F0AA265D10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6429240" y="765000"/>
            <a:ext cx="1619280" cy="1746360"/>
          </a:xfrm>
          <a:custGeom>
            <a:avLst/>
            <a:gdLst>
              <a:gd name="textAreaLeft" fmla="*/ 104760 w 1619280"/>
              <a:gd name="textAreaRight" fmla="*/ 1514520 w 1619280"/>
              <a:gd name="textAreaTop" fmla="*/ 104760 h 1746360"/>
              <a:gd name="textAreaBottom" fmla="*/ 1641600 h 1746360"/>
            </a:gdLst>
            <a:ahLst/>
            <a:rect l="textAreaLeft" t="textAreaTop" r="textAreaRight" b="textAreaBottom"/>
            <a:pathLst>
              <a:path w="21600" h="23295">
                <a:moveTo>
                  <a:pt x="0" y="0"/>
                </a:moveTo>
                <a:lnTo>
                  <a:pt x="21600" y="0"/>
                </a:lnTo>
                <a:lnTo>
                  <a:pt x="21600" y="23295"/>
                </a:lnTo>
                <a:lnTo>
                  <a:pt x="0" y="23295"/>
                </a:lnTo>
                <a:close/>
              </a:path>
              <a:path fill="lightenLess" w="21600" h="23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95">
                <a:moveTo>
                  <a:pt x="21600" y="0"/>
                </a:moveTo>
                <a:lnTo>
                  <a:pt x="21600" y="23295"/>
                </a:lnTo>
                <a:lnTo>
                  <a:pt x="20200" y="21895"/>
                </a:lnTo>
                <a:lnTo>
                  <a:pt x="20200" y="1400"/>
                </a:lnTo>
                <a:close/>
              </a:path>
              <a:path fill="darkenLess" w="21600" h="23295">
                <a:moveTo>
                  <a:pt x="21600" y="23295"/>
                </a:moveTo>
                <a:lnTo>
                  <a:pt x="0" y="23295"/>
                </a:lnTo>
                <a:lnTo>
                  <a:pt x="1400" y="21895"/>
                </a:lnTo>
                <a:lnTo>
                  <a:pt x="20200" y="21895"/>
                </a:lnTo>
                <a:close/>
              </a:path>
              <a:path fill="lighten" w="21600" h="23295">
                <a:moveTo>
                  <a:pt x="0" y="23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9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22-25E2-4DCF-B5A6-092E06C97A34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90720" y="139968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aminos entre la fuente y los oídos son de diferente longitud, por lo que se produce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 de tiempo interau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imbolizad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ITD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9B1-966C-46A6-BA1A-2C1DE28A5F0A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894320" y="-4482000"/>
            <a:ext cx="1099188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1494360" y="-4472640"/>
            <a:ext cx="1099116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933200" y="1533600"/>
            <a:ext cx="539100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190240" y="1514520"/>
            <a:ext cx="51627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51560" y="29732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8080" y="13478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410360" y="4173480"/>
            <a:ext cx="2469960" cy="996840"/>
            <a:chOff x="4410360" y="4173480"/>
            <a:chExt cx="2469960" cy="996840"/>
          </a:xfrm>
        </p:grpSpPr>
        <p:sp>
          <p:nvSpPr>
            <p:cNvPr id="343" name=""/>
            <p:cNvSpPr/>
            <p:nvPr/>
          </p:nvSpPr>
          <p:spPr>
            <a:xfrm>
              <a:off x="5744160" y="4173480"/>
              <a:ext cx="113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43400" y="46497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0360" y="4329000"/>
              <a:ext cx="23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ITD   =   </a:t>
              </a:r>
              <a:r>
                <a:rPr b="1" i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F7D-153A-40EB-AD0E-466AA44A5004}" type="slidenum">
              <a:t>24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90720" y="139968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hay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 de intensidad interau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IID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obedece a dos factores: la diferencia de distancia y la atenuación de la propia cabez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921-7743-4A9A-AB9B-25A990AC51C2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iferencia de distancia influye debido a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vergencia geométric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l campo sonoro (atenuación con la distanci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018-5A73-42BF-B2C3-AB06FE6E94D2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flipV="1">
            <a:off x="2565360" y="339732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65360" y="3292560"/>
            <a:ext cx="196920" cy="110880"/>
          </a:xfrm>
          <a:custGeom>
            <a:avLst/>
            <a:gdLst/>
            <a:ahLst/>
            <a:rect l="l" t="t" r="r" b="b"/>
            <a:pathLst>
              <a:path w="178" h="112">
                <a:moveTo>
                  <a:pt x="0" y="112"/>
                </a:moveTo>
                <a:lnTo>
                  <a:pt x="27" y="30"/>
                </a:lnTo>
                <a:lnTo>
                  <a:pt x="64" y="0"/>
                </a:lnTo>
                <a:lnTo>
                  <a:pt x="88" y="21"/>
                </a:lnTo>
                <a:lnTo>
                  <a:pt x="108" y="42"/>
                </a:lnTo>
                <a:lnTo>
                  <a:pt x="144" y="63"/>
                </a:lnTo>
                <a:lnTo>
                  <a:pt x="171" y="82"/>
                </a:lnTo>
                <a:lnTo>
                  <a:pt x="177" y="99"/>
                </a:lnTo>
                <a:lnTo>
                  <a:pt x="178" y="111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73360" y="267660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773360" y="4047480"/>
            <a:ext cx="411120" cy="81000"/>
          </a:xfrm>
          <a:custGeom>
            <a:avLst/>
            <a:gdLst/>
            <a:ahLst/>
            <a:rect l="l" t="t" r="r" b="b"/>
            <a:pathLst>
              <a:path w="1452" h="318">
                <a:moveTo>
                  <a:pt x="96" y="306"/>
                </a:moveTo>
                <a:lnTo>
                  <a:pt x="0" y="180"/>
                </a:lnTo>
                <a:lnTo>
                  <a:pt x="0" y="84"/>
                </a:lnTo>
                <a:lnTo>
                  <a:pt x="48" y="24"/>
                </a:lnTo>
                <a:lnTo>
                  <a:pt x="150" y="0"/>
                </a:lnTo>
                <a:lnTo>
                  <a:pt x="288" y="36"/>
                </a:lnTo>
                <a:lnTo>
                  <a:pt x="528" y="84"/>
                </a:lnTo>
                <a:lnTo>
                  <a:pt x="654" y="102"/>
                </a:lnTo>
                <a:lnTo>
                  <a:pt x="1032" y="54"/>
                </a:lnTo>
                <a:lnTo>
                  <a:pt x="1278" y="12"/>
                </a:lnTo>
                <a:lnTo>
                  <a:pt x="1404" y="42"/>
                </a:lnTo>
                <a:lnTo>
                  <a:pt x="1446" y="138"/>
                </a:lnTo>
                <a:lnTo>
                  <a:pt x="1452" y="240"/>
                </a:lnTo>
                <a:lnTo>
                  <a:pt x="1344" y="318"/>
                </a:lnTo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8000" y="2783880"/>
            <a:ext cx="1101240" cy="123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10" y="987"/>
                </a:moveTo>
                <a:arcTo wR="10800" hR="10800" stAng="-3919143" swAng="7942726"/>
                <a:lnTo>
                  <a:pt x="10800" y="10800"/>
                </a:lnTo>
                <a:close/>
              </a:path>
              <a:path fill="none" w="21600" h="21600">
                <a:moveTo>
                  <a:pt x="15310" y="987"/>
                </a:moveTo>
                <a:arcTo wR="10800" hR="10800" stAng="-3919143" swAng="7942726"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724400" y="2853360"/>
            <a:ext cx="760320" cy="10890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273852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9520" y="3132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2579040" y="3154320"/>
            <a:ext cx="19080" cy="5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49520" y="3537000"/>
            <a:ext cx="52560" cy="142920"/>
          </a:xfrm>
          <a:prstGeom prst="ellipse">
            <a:avLst/>
          </a:prstGeom>
          <a:gradFill rotWithShape="0">
            <a:gsLst>
              <a:gs pos="0">
                <a:srgbClr val="ddbcbc"/>
              </a:gs>
              <a:gs pos="100000">
                <a:srgbClr val="8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2579040" y="3558600"/>
            <a:ext cx="19080" cy="52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47680" y="3399840"/>
            <a:ext cx="1395360" cy="664920"/>
          </a:xfrm>
          <a:custGeom>
            <a:avLst/>
            <a:gdLst/>
            <a:ahLst/>
            <a:rect l="l" t="t" r="r" b="b"/>
            <a:pathLst>
              <a:path w="879" h="419">
                <a:moveTo>
                  <a:pt x="0" y="419"/>
                </a:moveTo>
                <a:lnTo>
                  <a:pt x="10" y="354"/>
                </a:lnTo>
                <a:lnTo>
                  <a:pt x="24" y="297"/>
                </a:lnTo>
                <a:lnTo>
                  <a:pt x="46" y="239"/>
                </a:lnTo>
                <a:lnTo>
                  <a:pt x="84" y="177"/>
                </a:lnTo>
                <a:lnTo>
                  <a:pt x="130" y="129"/>
                </a:lnTo>
                <a:lnTo>
                  <a:pt x="180" y="90"/>
                </a:lnTo>
                <a:lnTo>
                  <a:pt x="238" y="58"/>
                </a:lnTo>
                <a:lnTo>
                  <a:pt x="303" y="30"/>
                </a:lnTo>
                <a:lnTo>
                  <a:pt x="368" y="11"/>
                </a:lnTo>
                <a:lnTo>
                  <a:pt x="527" y="0"/>
                </a:lnTo>
                <a:lnTo>
                  <a:pt x="694" y="6"/>
                </a:lnTo>
                <a:lnTo>
                  <a:pt x="768" y="21"/>
                </a:lnTo>
                <a:lnTo>
                  <a:pt x="828" y="54"/>
                </a:lnTo>
                <a:lnTo>
                  <a:pt x="864" y="108"/>
                </a:lnTo>
                <a:lnTo>
                  <a:pt x="879" y="153"/>
                </a:lnTo>
                <a:lnTo>
                  <a:pt x="876" y="204"/>
                </a:lnTo>
                <a:lnTo>
                  <a:pt x="861" y="267"/>
                </a:lnTo>
                <a:lnTo>
                  <a:pt x="842" y="331"/>
                </a:lnTo>
                <a:lnTo>
                  <a:pt x="832" y="365"/>
                </a:lnTo>
                <a:lnTo>
                  <a:pt x="823" y="400"/>
                </a:lnTo>
                <a:lnTo>
                  <a:pt x="819" y="419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1894320" y="-4482000"/>
            <a:ext cx="1099188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494360" y="-4472640"/>
            <a:ext cx="10991160" cy="121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1933200" y="1533600"/>
            <a:ext cx="5391000" cy="74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90240" y="1514520"/>
            <a:ext cx="51627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651560" y="29732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58080" y="1347840"/>
            <a:ext cx="42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985920" y="4294080"/>
            <a:ext cx="4062240" cy="1074960"/>
            <a:chOff x="3985920" y="4294080"/>
            <a:chExt cx="4062240" cy="1074960"/>
          </a:xfrm>
        </p:grpSpPr>
        <p:sp>
          <p:nvSpPr>
            <p:cNvPr id="368" name=""/>
            <p:cNvSpPr/>
            <p:nvPr/>
          </p:nvSpPr>
          <p:spPr>
            <a:xfrm>
              <a:off x="3985920" y="4430520"/>
              <a:ext cx="40276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IID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diverg. geom.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Times New Roman"/>
                </a:rPr>
                <a:t> =   20 log 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625160" y="429408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5160" y="4789440"/>
              <a:ext cx="42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212-B3C1-4013-9DBB-B23D15610ABF}" type="slidenum">
              <a:t>27</a:t>
            </a:fld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85800" y="1399680"/>
            <a:ext cx="777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vergencia geométrica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importante cuando la fuente se encuentra muy cerca. Así, una diferencia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0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cm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distancia de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implica una diferencia menor qu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dB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BE1-D4B7-4BC4-9D6C-1FF3354502DC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493560" y="2729880"/>
            <a:ext cx="8156880" cy="1198440"/>
            <a:chOff x="493560" y="2729880"/>
            <a:chExt cx="8156880" cy="1198440"/>
          </a:xfrm>
        </p:grpSpPr>
        <p:sp>
          <p:nvSpPr>
            <p:cNvPr id="373" name=""/>
            <p:cNvSpPr/>
            <p:nvPr/>
          </p:nvSpPr>
          <p:spPr>
            <a:xfrm>
              <a:off x="493560" y="2909160"/>
              <a:ext cx="815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36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lang="es-ES_tradnl" sz="2800" spc="-1" strike="noStrike" baseline="-25000">
                  <a:solidFill>
                    <a:srgbClr val="333399"/>
                  </a:solidFill>
                  <a:latin typeface="Times New Roman"/>
                </a:rPr>
                <a:t>diverg. geom</a:t>
              </a: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   =   20 log  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</a:t>
              </a: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   =   0.83 d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00600" y="2729880"/>
              <a:ext cx="131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1,1 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00600" y="3285720"/>
              <a:ext cx="131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333399"/>
                  </a:solidFill>
                  <a:latin typeface="Times New Roman"/>
                </a:rPr>
                <a:t>1 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0A8-BEB5-4C37-91E6-E40A4D107B15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15524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audición no sólo permite obtener información semántica, sino además espacial.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reccionalidad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l sonido es una de las características espaciales bá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02C-4095-405C-A9E3-C35F98785784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dista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yor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e factor pierde importancia frente a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tenu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propi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b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D49-5B5C-4CC0-B90D-F79D97B9E2A5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atenuación de la cabeza se debe a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fecto pantall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que la misma causa en el oído menos expues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494-6EE6-4722-B43D-7834C09CFC7B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200916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ero a causa d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racció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producen variaciones del sonido percibido en un mismo oí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8EE-372B-4F5A-8E73-A62C8CD95C50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38080" y="20091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evalúa mediant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 de la cabeza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head related transfer function)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090-10DA-44B1-99F0-DD4EFDCA3472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38080" y="775440"/>
            <a:ext cx="74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presa la atenuación para diferentes ángulos y frecue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65360" y="4859280"/>
            <a:ext cx="1069920" cy="937800"/>
            <a:chOff x="2565360" y="4859280"/>
            <a:chExt cx="1069920" cy="937800"/>
          </a:xfrm>
        </p:grpSpPr>
        <p:sp>
          <p:nvSpPr>
            <p:cNvPr id="382" name=""/>
            <p:cNvSpPr/>
            <p:nvPr/>
          </p:nvSpPr>
          <p:spPr>
            <a:xfrm flipV="1">
              <a:off x="3505320" y="5325480"/>
              <a:ext cx="129960" cy="730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05320" y="5257080"/>
              <a:ext cx="129960" cy="730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81880" y="4859280"/>
              <a:ext cx="271800" cy="5364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981880" y="5743080"/>
              <a:ext cx="271800" cy="5364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840" y="4920120"/>
              <a:ext cx="727560" cy="81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2949120" y="4966560"/>
              <a:ext cx="502560" cy="71892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65360" y="4890600"/>
              <a:ext cx="925200" cy="43956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10800000">
              <a:off x="2565360" y="5329800"/>
              <a:ext cx="925200" cy="43956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94160" y="5150880"/>
              <a:ext cx="34920" cy="9396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3514680" y="5165280"/>
              <a:ext cx="1224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4160" y="5418360"/>
              <a:ext cx="34920" cy="9396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514680" y="5432760"/>
              <a:ext cx="1224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573960" y="3809880"/>
            <a:ext cx="125280" cy="1256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117960" y="3886200"/>
            <a:ext cx="35240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5330880"/>
            <a:ext cx="32641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1796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49880" y="4712400"/>
            <a:ext cx="12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zimu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803240" y="4023720"/>
            <a:ext cx="2616120" cy="26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93" y="6703"/>
                </a:moveTo>
                <a:arcTo wR="10800" hR="10800" stAng="-1337658" swAng="1337658"/>
                <a:lnTo>
                  <a:pt x="10800" y="10800"/>
                </a:lnTo>
                <a:close/>
              </a:path>
              <a:path fill="none" w="21600" h="21600">
                <a:moveTo>
                  <a:pt x="20793" y="6703"/>
                </a:moveTo>
                <a:arcTo wR="10800" hR="10800" stAng="-1337658" swAng="13376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92280" y="3886200"/>
            <a:ext cx="122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je intera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21400" y="49852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o medial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19A-6D1E-43C7-B6EA-9D287654F96E}" type="slidenum">
              <a:t>34</a:t>
            </a:fld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924280" y="1019160"/>
          <a:ext cx="4048200" cy="40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4280" y="1019160"/>
                    <a:ext cx="4048200" cy="4048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2903400" y="5067360"/>
            <a:ext cx="4089600" cy="185760"/>
            <a:chOff x="2903400" y="5067360"/>
            <a:chExt cx="4089600" cy="185760"/>
          </a:xfrm>
        </p:grpSpPr>
        <p:sp>
          <p:nvSpPr>
            <p:cNvPr id="405" name=""/>
            <p:cNvSpPr/>
            <p:nvPr/>
          </p:nvSpPr>
          <p:spPr>
            <a:xfrm>
              <a:off x="29034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930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82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2580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59440" y="5067360"/>
              <a:ext cx="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725560" y="996840"/>
            <a:ext cx="185760" cy="4089600"/>
            <a:chOff x="2725560" y="996840"/>
            <a:chExt cx="185760" cy="4089600"/>
          </a:xfrm>
        </p:grpSpPr>
        <p:sp>
          <p:nvSpPr>
            <p:cNvPr id="411" name=""/>
            <p:cNvSpPr/>
            <p:nvPr/>
          </p:nvSpPr>
          <p:spPr>
            <a:xfrm flipH="1">
              <a:off x="2725560" y="9968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725560" y="50864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725560" y="30416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725560" y="201924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725560" y="4052880"/>
              <a:ext cx="18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255744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5752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4824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00880" y="52059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3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34080" y="52059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8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43160" y="481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57560" y="38534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57560" y="285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57560" y="1786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57560" y="7959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00560" y="56329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Azimut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[º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200240" y="260532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 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[k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47E-2A8A-4780-8F53-C8170BBA31B2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33520" y="592920"/>
            <a:ext cx="8076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Arial"/>
              </a:rPr>
              <a:t>HRTF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puede medir mediante la construcción de maniquís que representen una persona promedio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347436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tualmente se utilizan en los sistemas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alidad virtua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simular la ubicación espacial de una fuent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A62-4A77-4D0B-B896-E0DF817B919F}" type="slidenum">
              <a:t>36</a:t>
            </a:fld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3A2-69C1-4F25-8553-A7552A18CE20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143-0F5F-40B1-B88C-850F42EA2E90}" type="slidenum">
              <a:t>38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1460160"/>
            <a:ext cx="7162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ireccionalidad del sonido, 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ángulo de proced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percibida fundamentalmente gracias a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binaur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dos oídos).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6DB-3909-4359-A547-C29A2B2E2E6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55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A84-234C-442F-B1D3-DCFD17EA1D9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6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912640" y="199440"/>
            <a:ext cx="2822040" cy="281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69" y="4099"/>
                </a:moveTo>
                <a:arcTo wR="10800" hR="10800" stAng="-2301147" swAng="2754113"/>
                <a:lnTo>
                  <a:pt x="10800" y="10800"/>
                </a:lnTo>
                <a:close/>
              </a:path>
              <a:path fill="none" w="21600" h="21600">
                <a:moveTo>
                  <a:pt x="19269" y="4099"/>
                </a:moveTo>
                <a:arcTo wR="10800" hR="10800" stAng="-2301147" swAng="2754113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2DD-351D-4014-90E5-71F5C64AF2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8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615200" y="-1046160"/>
            <a:ext cx="5410440" cy="540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35" y="4056"/>
                </a:moveTo>
                <a:arcTo wR="10800" hR="10800" stAng="-2318601" swAng="2728100"/>
                <a:lnTo>
                  <a:pt x="10800" y="10800"/>
                </a:lnTo>
                <a:close/>
              </a:path>
              <a:path fill="none" w="21600" h="21600">
                <a:moveTo>
                  <a:pt x="19235" y="4056"/>
                </a:moveTo>
                <a:arcTo wR="10800" hR="10800" stAng="-2318601" swAng="27281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5DC-3901-4C7E-9223-000290BDAC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99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316680" y="-2262600"/>
            <a:ext cx="7985160" cy="79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9" y="4023"/>
                </a:moveTo>
                <a:arcTo wR="10800" hR="10800" stAng="-2332063" swAng="2767740"/>
                <a:lnTo>
                  <a:pt x="10800" y="10800"/>
                </a:lnTo>
                <a:close/>
              </a:path>
              <a:path fill="none" w="21600" h="21600">
                <a:moveTo>
                  <a:pt x="19209" y="4023"/>
                </a:moveTo>
                <a:arcTo wR="10800" hR="10800" stAng="-2332063" swAng="276774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C5E-9213-4E2F-AAF1-D9ACC6E969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43000" y="2690640"/>
            <a:ext cx="1618920" cy="1418760"/>
            <a:chOff x="1143000" y="2690640"/>
            <a:chExt cx="1618920" cy="1418760"/>
          </a:xfrm>
        </p:grpSpPr>
        <p:sp>
          <p:nvSpPr>
            <p:cNvPr id="114" name=""/>
            <p:cNvSpPr/>
            <p:nvPr/>
          </p:nvSpPr>
          <p:spPr>
            <a:xfrm flipV="1">
              <a:off x="2565360" y="339732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5360" y="3292200"/>
              <a:ext cx="196560" cy="110880"/>
            </a:xfrm>
            <a:custGeom>
              <a:avLst/>
              <a:gdLst/>
              <a:ahLst/>
              <a:rect l="l" t="t" r="r" b="b"/>
              <a:pathLst>
                <a:path w="178" h="112">
                  <a:moveTo>
                    <a:pt x="0" y="112"/>
                  </a:moveTo>
                  <a:lnTo>
                    <a:pt x="27" y="30"/>
                  </a:lnTo>
                  <a:lnTo>
                    <a:pt x="64" y="0"/>
                  </a:lnTo>
                  <a:lnTo>
                    <a:pt x="88" y="21"/>
                  </a:lnTo>
                  <a:lnTo>
                    <a:pt x="108" y="42"/>
                  </a:lnTo>
                  <a:lnTo>
                    <a:pt x="144" y="63"/>
                  </a:lnTo>
                  <a:lnTo>
                    <a:pt x="171" y="82"/>
                  </a:lnTo>
                  <a:lnTo>
                    <a:pt x="177" y="99"/>
                  </a:lnTo>
                  <a:lnTo>
                    <a:pt x="178" y="111"/>
                  </a:ln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73000" y="26906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773000" y="4028040"/>
              <a:ext cx="411480" cy="81000"/>
            </a:xfrm>
            <a:custGeom>
              <a:avLst/>
              <a:gdLst/>
              <a:ahLst/>
              <a:rect l="l" t="t" r="r" b="b"/>
              <a:pathLst>
                <a:path w="1452" h="318">
                  <a:moveTo>
                    <a:pt x="96" y="306"/>
                  </a:moveTo>
                  <a:lnTo>
                    <a:pt x="0" y="180"/>
                  </a:lnTo>
                  <a:lnTo>
                    <a:pt x="0" y="84"/>
                  </a:lnTo>
                  <a:lnTo>
                    <a:pt x="48" y="24"/>
                  </a:lnTo>
                  <a:lnTo>
                    <a:pt x="150" y="0"/>
                  </a:lnTo>
                  <a:lnTo>
                    <a:pt x="288" y="36"/>
                  </a:lnTo>
                  <a:lnTo>
                    <a:pt x="528" y="84"/>
                  </a:lnTo>
                  <a:lnTo>
                    <a:pt x="654" y="102"/>
                  </a:lnTo>
                  <a:lnTo>
                    <a:pt x="1032" y="54"/>
                  </a:lnTo>
                  <a:lnTo>
                    <a:pt x="1278" y="12"/>
                  </a:lnTo>
                  <a:lnTo>
                    <a:pt x="1404" y="42"/>
                  </a:lnTo>
                  <a:lnTo>
                    <a:pt x="1446" y="138"/>
                  </a:lnTo>
                  <a:lnTo>
                    <a:pt x="1452" y="240"/>
                  </a:lnTo>
                  <a:lnTo>
                    <a:pt x="1344" y="318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47640" y="2782800"/>
              <a:ext cx="1101240" cy="12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10" y="987"/>
                  </a:moveTo>
                  <a:arcTo wR="10800" hR="10800" stAng="-3919143" swAng="7942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10" y="987"/>
                  </a:moveTo>
                  <a:arcTo wR="10800" hR="10800" stAng="-3919143" swAng="7942726"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724760" y="2853000"/>
              <a:ext cx="759960" cy="108828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3000" y="273816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0800000">
              <a:off x="1143000" y="3402720"/>
              <a:ext cx="1400400" cy="664920"/>
            </a:xfrm>
            <a:custGeom>
              <a:avLst/>
              <a:gdLst/>
              <a:ahLst/>
              <a:rect l="l" t="t" r="r" b="b"/>
              <a:pathLst>
                <a:path w="1266" h="672">
                  <a:moveTo>
                    <a:pt x="0" y="672"/>
                  </a:moveTo>
                  <a:lnTo>
                    <a:pt x="15" y="567"/>
                  </a:lnTo>
                  <a:lnTo>
                    <a:pt x="66" y="384"/>
                  </a:lnTo>
                  <a:lnTo>
                    <a:pt x="186" y="207"/>
                  </a:lnTo>
                  <a:lnTo>
                    <a:pt x="342" y="93"/>
                  </a:lnTo>
                  <a:lnTo>
                    <a:pt x="528" y="18"/>
                  </a:lnTo>
                  <a:lnTo>
                    <a:pt x="756" y="0"/>
                  </a:lnTo>
                  <a:lnTo>
                    <a:pt x="996" y="9"/>
                  </a:lnTo>
                  <a:lnTo>
                    <a:pt x="1197" y="81"/>
                  </a:lnTo>
                  <a:lnTo>
                    <a:pt x="1242" y="183"/>
                  </a:lnTo>
                  <a:lnTo>
                    <a:pt x="1266" y="327"/>
                  </a:lnTo>
                  <a:lnTo>
                    <a:pt x="1245" y="429"/>
                  </a:lnTo>
                  <a:lnTo>
                    <a:pt x="1209" y="531"/>
                  </a:lnTo>
                  <a:lnTo>
                    <a:pt x="1194" y="585"/>
                  </a:lnTo>
                  <a:lnTo>
                    <a:pt x="1182" y="642"/>
                  </a:lnTo>
                  <a:lnTo>
                    <a:pt x="1176" y="67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8800" y="313200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579760" y="315324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8800" y="3536640"/>
              <a:ext cx="52920" cy="142200"/>
            </a:xfrm>
            <a:prstGeom prst="ellipse">
              <a:avLst/>
            </a:prstGeom>
            <a:gradFill rotWithShape="0">
              <a:gsLst>
                <a:gs pos="0">
                  <a:srgbClr val="ddbcbc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579760" y="3557880"/>
              <a:ext cx="18720" cy="5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238880" y="1447920"/>
            <a:ext cx="190800" cy="190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980000" y="-3531600"/>
            <a:ext cx="10649160" cy="1063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22" y="4039"/>
                </a:moveTo>
                <a:arcTo wR="10800" hR="10800" stAng="-2325377" swAng="2757577"/>
                <a:lnTo>
                  <a:pt x="10800" y="10800"/>
                </a:lnTo>
                <a:close/>
              </a:path>
              <a:path fill="none" w="21600" h="21600">
                <a:moveTo>
                  <a:pt x="19222" y="4039"/>
                </a:moveTo>
                <a:arcTo wR="10800" hR="10800" stAng="-2325377" swAng="275757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5ED-FC0D-4CB1-8E7A-FD9095ECE2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26:28Z</dcterms:modified>
  <cp:revision>242</cp:revision>
  <dc:subject/>
  <dc:title>PSICOACÚSTICA  aplicada a la calidad acústica de espacios educativos.  Materiales absorbentes acústicos reciclados </dc:title>
</cp:coreProperties>
</file>