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B411-8AA4-48C6-B8C2-89E5D61B433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ítulo e información de conta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Sonóme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9085-53EB-4B7B-A62E-736D6AD6AFB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mplos de la relación entre presión sonora y nivel de presión son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A1D-9E9A-49FF-9DE1-C28DF0A804B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a partir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potencia acú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potencia acú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potencia acú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scriptores de la fuente y del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finición de frecu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nivel de presión son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finición de frecu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finición de frecu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Definición de frecu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Introducción al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Concepto de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alizador de espec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ición de nivel de presión son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jemplos de espectro de bandas de tercio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Espectro de bandas de oct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dición de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00C-57F3-4E65-85AF-346453EB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9A7-0B71-4076-9237-A7525004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5C4-5F5A-46CB-A851-A4A5CF2A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DEB-DFEE-451C-A39A-1C0E82CE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D50-EA3A-4015-96B7-924B8CAC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68F-C11A-4B88-B611-DFF03F4B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7307-E86E-4DBD-BE62-D3519F5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795-88A0-4465-8F73-A6DF2399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A71-1667-4EA4-9877-DC4E2DEE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E5D-4083-4231-ACF6-ED6BC0ED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951-10E1-4534-9BCB-806CF68B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C2C7-DE9C-47AC-85C5-ACB60D61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D916-9D09-4F68-94F6-A532E518931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3720" y="2061720"/>
            <a:ext cx="8296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9999"/>
                </a:solidFill>
                <a:latin typeface="Arial"/>
              </a:rPr>
              <a:t>Psicoacúst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5040"/>
            <a:ext cx="640080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ederico Miy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iversidad Nacional de Ros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fceia.unr.edu.ar/acu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miyara@fceia.unr.edu.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11360" y="299880"/>
            <a:ext cx="4121280" cy="15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A9E-2901-4637-9967-7A981A997405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70120" y="411948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35880" y="3900600"/>
            <a:ext cx="38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1880" y="292428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879560" y="2781360"/>
            <a:ext cx="5170320" cy="284040"/>
            <a:chOff x="1879560" y="2781360"/>
            <a:chExt cx="5170320" cy="284040"/>
          </a:xfrm>
        </p:grpSpPr>
        <p:grpSp>
          <p:nvGrpSpPr>
            <p:cNvPr id="349" name=""/>
            <p:cNvGrpSpPr/>
            <p:nvPr/>
          </p:nvGrpSpPr>
          <p:grpSpPr>
            <a:xfrm>
              <a:off x="1879560" y="2781360"/>
              <a:ext cx="864720" cy="284040"/>
              <a:chOff x="1879560" y="2781360"/>
              <a:chExt cx="864720" cy="28404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1879560" y="2781360"/>
                <a:ext cx="430200" cy="284040"/>
                <a:chOff x="1879560" y="2781360"/>
                <a:chExt cx="430200" cy="2840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87956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98720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9880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20212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311560" y="2781360"/>
                <a:ext cx="432720" cy="284040"/>
                <a:chOff x="2311560" y="2781360"/>
                <a:chExt cx="432720" cy="2840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31156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41920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3080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63664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2739600" y="2781360"/>
              <a:ext cx="864720" cy="284040"/>
              <a:chOff x="2739600" y="2781360"/>
              <a:chExt cx="864720" cy="28404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2739600" y="2781360"/>
                <a:ext cx="432000" cy="284040"/>
                <a:chOff x="2739600" y="2781360"/>
                <a:chExt cx="432000" cy="2840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73960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84724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95884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06396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170520" y="2781360"/>
                <a:ext cx="433800" cy="284040"/>
                <a:chOff x="3170520" y="2781360"/>
                <a:chExt cx="433800" cy="2840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17052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27924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39084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49668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1" name=""/>
            <p:cNvGrpSpPr/>
            <p:nvPr/>
          </p:nvGrpSpPr>
          <p:grpSpPr>
            <a:xfrm>
              <a:off x="3598920" y="2781360"/>
              <a:ext cx="861840" cy="284040"/>
              <a:chOff x="3598920" y="2781360"/>
              <a:chExt cx="861840" cy="28404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3598920" y="2781360"/>
                <a:ext cx="429480" cy="284040"/>
                <a:chOff x="3598920" y="2781360"/>
                <a:chExt cx="429480" cy="284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359892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70440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811320" y="292284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92076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028400" y="2781360"/>
                <a:ext cx="432360" cy="284040"/>
                <a:chOff x="4028400" y="2781360"/>
                <a:chExt cx="432360" cy="2840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02840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13784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242600" y="292284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35312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4458240" y="2781360"/>
              <a:ext cx="864720" cy="284040"/>
              <a:chOff x="4458240" y="2781360"/>
              <a:chExt cx="864720" cy="2840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4458240" y="2781360"/>
                <a:ext cx="430200" cy="284040"/>
                <a:chOff x="4458240" y="2781360"/>
                <a:chExt cx="430200" cy="2840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45824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56516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67208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78080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888440" y="2781360"/>
                <a:ext cx="434520" cy="284040"/>
                <a:chOff x="4888440" y="2781360"/>
                <a:chExt cx="434520" cy="284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88844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99788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10480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21532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"/>
            <p:cNvGrpSpPr/>
            <p:nvPr/>
          </p:nvGrpSpPr>
          <p:grpSpPr>
            <a:xfrm>
              <a:off x="5320080" y="2781360"/>
              <a:ext cx="864720" cy="284040"/>
              <a:chOff x="5320080" y="2781360"/>
              <a:chExt cx="864720" cy="284040"/>
            </a:xfrm>
          </p:grpSpPr>
          <p:sp>
            <p:nvSpPr>
              <p:cNvPr id="394" name=""/>
              <p:cNvSpPr/>
              <p:nvPr/>
            </p:nvSpPr>
            <p:spPr>
              <a:xfrm>
                <a:off x="5320080" y="278136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427720" y="278136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36440" y="292248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45160" y="292284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5751000" y="2781360"/>
                <a:ext cx="433800" cy="284040"/>
                <a:chOff x="5751000" y="2781360"/>
                <a:chExt cx="433800" cy="2840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75100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859720" y="278136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966640" y="292284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07716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3" name=""/>
            <p:cNvGrpSpPr/>
            <p:nvPr/>
          </p:nvGrpSpPr>
          <p:grpSpPr>
            <a:xfrm>
              <a:off x="6186600" y="2781360"/>
              <a:ext cx="863280" cy="284040"/>
              <a:chOff x="6186600" y="2781360"/>
              <a:chExt cx="863280" cy="28404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6186600" y="2781360"/>
                <a:ext cx="430560" cy="284040"/>
                <a:chOff x="6186600" y="2781360"/>
                <a:chExt cx="430560" cy="2840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18660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9424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00080" y="292284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0952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616440" y="2781360"/>
                <a:ext cx="433440" cy="284040"/>
                <a:chOff x="6616440" y="2781360"/>
                <a:chExt cx="433440" cy="2840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61644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26960" y="278136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832800" y="292284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942240" y="292284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0CB-DDAF-427E-B7B8-B0BE1DE9D8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70120" y="391968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35880" y="3700440"/>
            <a:ext cx="38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01880" y="311472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879560" y="2971800"/>
            <a:ext cx="5170320" cy="284040"/>
            <a:chOff x="1879560" y="2971800"/>
            <a:chExt cx="5170320" cy="284040"/>
          </a:xfrm>
        </p:grpSpPr>
        <p:grpSp>
          <p:nvGrpSpPr>
            <p:cNvPr id="419" name=""/>
            <p:cNvGrpSpPr/>
            <p:nvPr/>
          </p:nvGrpSpPr>
          <p:grpSpPr>
            <a:xfrm>
              <a:off x="1879560" y="2971800"/>
              <a:ext cx="864720" cy="284040"/>
              <a:chOff x="1879560" y="2971800"/>
              <a:chExt cx="864720" cy="28404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1879560" y="2971800"/>
                <a:ext cx="430200" cy="284040"/>
                <a:chOff x="1879560" y="2971800"/>
                <a:chExt cx="430200" cy="28404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187956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98720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09880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20212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311560" y="2971800"/>
                <a:ext cx="432720" cy="284040"/>
                <a:chOff x="2311560" y="2971800"/>
                <a:chExt cx="432720" cy="2840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31156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41920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3080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63664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2739600" y="2971800"/>
              <a:ext cx="864720" cy="284040"/>
              <a:chOff x="2739600" y="2971800"/>
              <a:chExt cx="864720" cy="28404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2739600" y="2971800"/>
                <a:ext cx="432000" cy="284040"/>
                <a:chOff x="2739600" y="2971800"/>
                <a:chExt cx="432000" cy="284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73960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84724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95884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06396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170520" y="2971800"/>
                <a:ext cx="433800" cy="284040"/>
                <a:chOff x="3170520" y="2971800"/>
                <a:chExt cx="433800" cy="2840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317052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27924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39084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49668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3598920" y="2971800"/>
              <a:ext cx="861840" cy="284040"/>
              <a:chOff x="3598920" y="2971800"/>
              <a:chExt cx="861840" cy="28404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3598920" y="2971800"/>
                <a:ext cx="429480" cy="284040"/>
                <a:chOff x="3598920" y="2971800"/>
                <a:chExt cx="429480" cy="2840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59892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70440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811320" y="3113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92076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028400" y="2971800"/>
                <a:ext cx="432360" cy="284040"/>
                <a:chOff x="4028400" y="2971800"/>
                <a:chExt cx="432360" cy="2840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02840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13784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242600" y="3113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35312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4458240" y="2971800"/>
              <a:ext cx="864720" cy="284040"/>
              <a:chOff x="4458240" y="2971800"/>
              <a:chExt cx="864720" cy="28404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4458240" y="2971800"/>
                <a:ext cx="430200" cy="284040"/>
                <a:chOff x="4458240" y="2971800"/>
                <a:chExt cx="430200" cy="28404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45824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6516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67208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78080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888440" y="2971800"/>
                <a:ext cx="434520" cy="284040"/>
                <a:chOff x="4888440" y="2971800"/>
                <a:chExt cx="434520" cy="2840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88844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99788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10480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1532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"/>
            <p:cNvGrpSpPr/>
            <p:nvPr/>
          </p:nvGrpSpPr>
          <p:grpSpPr>
            <a:xfrm>
              <a:off x="5320080" y="2971800"/>
              <a:ext cx="864720" cy="284040"/>
              <a:chOff x="5320080" y="2971800"/>
              <a:chExt cx="864720" cy="284040"/>
            </a:xfrm>
          </p:grpSpPr>
          <p:sp>
            <p:nvSpPr>
              <p:cNvPr id="464" name=""/>
              <p:cNvSpPr/>
              <p:nvPr/>
            </p:nvSpPr>
            <p:spPr>
              <a:xfrm>
                <a:off x="5320080" y="297180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27720" y="297180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36440" y="311292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45160" y="311328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5751000" y="2971800"/>
                <a:ext cx="433800" cy="284040"/>
                <a:chOff x="5751000" y="2971800"/>
                <a:chExt cx="433800" cy="2840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575100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859720" y="297180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66640" y="3113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07716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3" name=""/>
            <p:cNvGrpSpPr/>
            <p:nvPr/>
          </p:nvGrpSpPr>
          <p:grpSpPr>
            <a:xfrm>
              <a:off x="6186600" y="2971800"/>
              <a:ext cx="863280" cy="284040"/>
              <a:chOff x="6186600" y="2971800"/>
              <a:chExt cx="863280" cy="28404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6186600" y="2971800"/>
                <a:ext cx="430560" cy="284040"/>
                <a:chOff x="6186600" y="2971800"/>
                <a:chExt cx="430560" cy="28404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18660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29424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400080" y="3113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0952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6616440" y="2971800"/>
                <a:ext cx="433440" cy="284040"/>
                <a:chOff x="6616440" y="2971800"/>
                <a:chExt cx="433440" cy="2840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61644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726960" y="297180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832800" y="3113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942240" y="3113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306-0F6E-44A3-B1DB-6C51324C0C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70120" y="371952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35880" y="3500280"/>
            <a:ext cx="38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01880" y="332424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879560" y="3181320"/>
            <a:ext cx="5170320" cy="284040"/>
            <a:chOff x="1879560" y="3181320"/>
            <a:chExt cx="5170320" cy="284040"/>
          </a:xfrm>
        </p:grpSpPr>
        <p:grpSp>
          <p:nvGrpSpPr>
            <p:cNvPr id="489" name=""/>
            <p:cNvGrpSpPr/>
            <p:nvPr/>
          </p:nvGrpSpPr>
          <p:grpSpPr>
            <a:xfrm>
              <a:off x="1879560" y="3181320"/>
              <a:ext cx="864720" cy="284040"/>
              <a:chOff x="1879560" y="3181320"/>
              <a:chExt cx="864720" cy="28404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879560" y="3181320"/>
                <a:ext cx="430200" cy="284040"/>
                <a:chOff x="1879560" y="3181320"/>
                <a:chExt cx="430200" cy="2840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7956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8720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9880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20212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2311560" y="3181320"/>
                <a:ext cx="432720" cy="284040"/>
                <a:chOff x="2311560" y="3181320"/>
                <a:chExt cx="432720" cy="2840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231156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41920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3080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63664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"/>
            <p:cNvGrpSpPr/>
            <p:nvPr/>
          </p:nvGrpSpPr>
          <p:grpSpPr>
            <a:xfrm>
              <a:off x="2739600" y="3181320"/>
              <a:ext cx="864720" cy="284040"/>
              <a:chOff x="2739600" y="3181320"/>
              <a:chExt cx="864720" cy="2840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739600" y="3181320"/>
                <a:ext cx="432000" cy="284040"/>
                <a:chOff x="2739600" y="3181320"/>
                <a:chExt cx="432000" cy="2840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73960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84724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95884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06396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3170520" y="3181320"/>
                <a:ext cx="433800" cy="284040"/>
                <a:chOff x="3170520" y="3181320"/>
                <a:chExt cx="433800" cy="284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317052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27924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9084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49668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3598920" y="3181320"/>
              <a:ext cx="861840" cy="284040"/>
              <a:chOff x="3598920" y="3181320"/>
              <a:chExt cx="861840" cy="28404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3598920" y="3181320"/>
                <a:ext cx="429480" cy="284040"/>
                <a:chOff x="3598920" y="3181320"/>
                <a:chExt cx="429480" cy="2840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59892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70440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811320" y="332280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92076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4028400" y="3181320"/>
                <a:ext cx="432360" cy="284040"/>
                <a:chOff x="4028400" y="3181320"/>
                <a:chExt cx="432360" cy="2840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402840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13784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242600" y="332280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5312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"/>
            <p:cNvGrpSpPr/>
            <p:nvPr/>
          </p:nvGrpSpPr>
          <p:grpSpPr>
            <a:xfrm>
              <a:off x="4458240" y="3181320"/>
              <a:ext cx="864720" cy="284040"/>
              <a:chOff x="4458240" y="3181320"/>
              <a:chExt cx="864720" cy="28404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4458240" y="3181320"/>
                <a:ext cx="430200" cy="284040"/>
                <a:chOff x="4458240" y="3181320"/>
                <a:chExt cx="430200" cy="2840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45824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56516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67208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78080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4888440" y="3181320"/>
                <a:ext cx="434520" cy="284040"/>
                <a:chOff x="4888440" y="3181320"/>
                <a:chExt cx="434520" cy="2840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88844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99788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10480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21532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"/>
            <p:cNvGrpSpPr/>
            <p:nvPr/>
          </p:nvGrpSpPr>
          <p:grpSpPr>
            <a:xfrm>
              <a:off x="5320080" y="3181320"/>
              <a:ext cx="864720" cy="284040"/>
              <a:chOff x="5320080" y="3181320"/>
              <a:chExt cx="864720" cy="284040"/>
            </a:xfrm>
          </p:grpSpPr>
          <p:sp>
            <p:nvSpPr>
              <p:cNvPr id="534" name=""/>
              <p:cNvSpPr/>
              <p:nvPr/>
            </p:nvSpPr>
            <p:spPr>
              <a:xfrm>
                <a:off x="5320080" y="318132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7720" y="318132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36440" y="332244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645160" y="332280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5751000" y="3181320"/>
                <a:ext cx="433800" cy="284040"/>
                <a:chOff x="5751000" y="3181320"/>
                <a:chExt cx="433800" cy="2840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75100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859720" y="318132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966640" y="332280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07716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6186600" y="3181320"/>
              <a:ext cx="863280" cy="284040"/>
              <a:chOff x="6186600" y="3181320"/>
              <a:chExt cx="863280" cy="2840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6186600" y="3181320"/>
                <a:ext cx="430560" cy="284040"/>
                <a:chOff x="6186600" y="3181320"/>
                <a:chExt cx="430560" cy="28404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618660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29424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400080" y="332280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50952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6616440" y="3181320"/>
                <a:ext cx="433440" cy="284040"/>
                <a:chOff x="6616440" y="3181320"/>
                <a:chExt cx="433440" cy="2840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661644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726960" y="318132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832800" y="332280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942240" y="332280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FFF-9C7D-4ADA-BA66-43D90C18C2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70120" y="352440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879560" y="3376440"/>
            <a:ext cx="5170320" cy="284400"/>
            <a:chOff x="1879560" y="3376440"/>
            <a:chExt cx="5170320" cy="284400"/>
          </a:xfrm>
        </p:grpSpPr>
        <p:grpSp>
          <p:nvGrpSpPr>
            <p:cNvPr id="557" name=""/>
            <p:cNvGrpSpPr/>
            <p:nvPr/>
          </p:nvGrpSpPr>
          <p:grpSpPr>
            <a:xfrm>
              <a:off x="1879560" y="3376440"/>
              <a:ext cx="864720" cy="284400"/>
              <a:chOff x="1879560" y="3376440"/>
              <a:chExt cx="864720" cy="284400"/>
            </a:xfrm>
          </p:grpSpPr>
          <p:grpSp>
            <p:nvGrpSpPr>
              <p:cNvPr id="558" name=""/>
              <p:cNvGrpSpPr/>
              <p:nvPr/>
            </p:nvGrpSpPr>
            <p:grpSpPr>
              <a:xfrm>
                <a:off x="1879560" y="3376440"/>
                <a:ext cx="430200" cy="284400"/>
                <a:chOff x="1879560" y="3376440"/>
                <a:chExt cx="430200" cy="2844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87956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98720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9880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20212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311560" y="3376440"/>
                <a:ext cx="432720" cy="284400"/>
                <a:chOff x="2311560" y="3376440"/>
                <a:chExt cx="432720" cy="2844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231156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1920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53080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63664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2739600" y="3376440"/>
              <a:ext cx="864720" cy="284400"/>
              <a:chOff x="2739600" y="3376440"/>
              <a:chExt cx="864720" cy="284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2739600" y="3376440"/>
                <a:ext cx="432000" cy="284400"/>
                <a:chOff x="2739600" y="3376440"/>
                <a:chExt cx="432000" cy="2844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273960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84724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95884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06396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3170520" y="3376440"/>
                <a:ext cx="433800" cy="284400"/>
                <a:chOff x="3170520" y="3376440"/>
                <a:chExt cx="433800" cy="2844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317052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7924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39084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49668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9" name=""/>
            <p:cNvGrpSpPr/>
            <p:nvPr/>
          </p:nvGrpSpPr>
          <p:grpSpPr>
            <a:xfrm>
              <a:off x="3598920" y="3376440"/>
              <a:ext cx="861840" cy="284400"/>
              <a:chOff x="3598920" y="3376440"/>
              <a:chExt cx="861840" cy="284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3598920" y="3376440"/>
                <a:ext cx="429480" cy="284400"/>
                <a:chOff x="3598920" y="3376440"/>
                <a:chExt cx="429480" cy="28440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359892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70440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811320" y="3518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92076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028400" y="3376440"/>
                <a:ext cx="432360" cy="284400"/>
                <a:chOff x="4028400" y="3376440"/>
                <a:chExt cx="432360" cy="2844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02840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3784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242600" y="3518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35312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0" name=""/>
            <p:cNvGrpSpPr/>
            <p:nvPr/>
          </p:nvGrpSpPr>
          <p:grpSpPr>
            <a:xfrm>
              <a:off x="4458240" y="3376440"/>
              <a:ext cx="864720" cy="284400"/>
              <a:chOff x="4458240" y="3376440"/>
              <a:chExt cx="864720" cy="284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4458240" y="3376440"/>
                <a:ext cx="430200" cy="284400"/>
                <a:chOff x="4458240" y="3376440"/>
                <a:chExt cx="430200" cy="2844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445824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56516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67208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78080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4888440" y="3376440"/>
                <a:ext cx="434520" cy="284400"/>
                <a:chOff x="4888440" y="3376440"/>
                <a:chExt cx="434520" cy="2844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488844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99788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10480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21532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1" name=""/>
            <p:cNvGrpSpPr/>
            <p:nvPr/>
          </p:nvGrpSpPr>
          <p:grpSpPr>
            <a:xfrm>
              <a:off x="5320080" y="3376440"/>
              <a:ext cx="864720" cy="284400"/>
              <a:chOff x="5320080" y="3376440"/>
              <a:chExt cx="864720" cy="284400"/>
            </a:xfrm>
          </p:grpSpPr>
          <p:sp>
            <p:nvSpPr>
              <p:cNvPr id="602" name=""/>
              <p:cNvSpPr/>
              <p:nvPr/>
            </p:nvSpPr>
            <p:spPr>
              <a:xfrm>
                <a:off x="5320080" y="3376440"/>
                <a:ext cx="108360" cy="141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27720" y="3376440"/>
                <a:ext cx="108360" cy="141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36440" y="351792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45160" y="351792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5751000" y="3376440"/>
                <a:ext cx="433800" cy="284400"/>
                <a:chOff x="5751000" y="3376440"/>
                <a:chExt cx="433800" cy="2844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575100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859720" y="33764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966640" y="351828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07716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"/>
            <p:cNvGrpSpPr/>
            <p:nvPr/>
          </p:nvGrpSpPr>
          <p:grpSpPr>
            <a:xfrm>
              <a:off x="6186600" y="3376440"/>
              <a:ext cx="863280" cy="284400"/>
              <a:chOff x="6186600" y="3376440"/>
              <a:chExt cx="863280" cy="28440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6186600" y="3376440"/>
                <a:ext cx="430560" cy="284400"/>
                <a:chOff x="6186600" y="3376440"/>
                <a:chExt cx="430560" cy="2844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618660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29424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400080" y="3518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50952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6616440" y="3376440"/>
                <a:ext cx="433440" cy="284400"/>
                <a:chOff x="6616440" y="3376440"/>
                <a:chExt cx="433440" cy="28440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661644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726960" y="33764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832800" y="351828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942240" y="351828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2" name=""/>
          <p:cNvSpPr/>
          <p:nvPr/>
        </p:nvSpPr>
        <p:spPr>
          <a:xfrm>
            <a:off x="7535880" y="3335400"/>
            <a:ext cx="38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69960" y="1341360"/>
            <a:ext cx="641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4C0-F329-469B-AECE-7009C8088587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098800"/>
            <a:ext cx="77724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nivel de presión sonora</a:t>
            </a:r>
            <a:r>
              <a:rPr b="1" lang="en-US" sz="4000" spc="-1" strike="noStrike">
                <a:solidFill>
                  <a:srgbClr val="d24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 puede medir con u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sonómetro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D0B-E2F9-478F-9646-7E8FE8456F03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1004760" y="758880"/>
            <a:ext cx="7134480" cy="53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524-4EF6-424B-B717-3C5FAFBB8F82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https://auctions.c.yimg.jp/images.auctions.yahoo.co.jp/image/dr000/auc0405/users/98f5bfce3c6b90de08e35c3ddaa2508dd48581e9/i-img1200x900-1684816759shpabu257437.jpg"/>
          <p:cNvPicPr/>
          <p:nvPr/>
        </p:nvPicPr>
        <p:blipFill>
          <a:blip r:embed="rId2"/>
          <a:stretch/>
        </p:blipFill>
        <p:spPr>
          <a:xfrm>
            <a:off x="847800" y="633240"/>
            <a:ext cx="7448400" cy="559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EE2-FC90-4863-9762-6CEA253DFAA5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727200"/>
            <a:ext cx="77724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vel de presión sonora</a:t>
            </a:r>
            <a:r>
              <a:rPr b="1" lang="en-US" sz="4000" spc="-1" strike="noStrike">
                <a:solidFill>
                  <a:srgbClr val="d24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e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xpresa e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decibeles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dB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 y sus valores están comprendidos entre 0 dB (umbral de audición)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120 dB (umbral de dol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C24-088A-44F4-A6A8-9A0E79C05EDB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609480" y="1687320"/>
            <a:ext cx="7925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0,00002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0,0002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0,002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0,02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0,2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cc03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2,0 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dec" pos="1809720"/>
                <a:tab algn="dec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20,0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2460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62120" y="7351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095560"/>
                <a:tab algn="ctr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esión sonora (Pa)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L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Arial"/>
              </a:rPr>
              <a:t>p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(dB)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CB8-0844-453D-B753-E2CE212601E6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04920" y="1263240"/>
            <a:ext cx="85341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os valores inferiores a</a:t>
            </a:r>
            <a:r>
              <a:rPr b="1" lang="en-US" sz="4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20 dB</a:t>
            </a:r>
            <a:r>
              <a:rPr b="1" lang="en-US" sz="4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n muy inusuales, y muchas personas no los escuch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os valores superiores a</a:t>
            </a:r>
            <a:r>
              <a:rPr b="1" lang="en-US" sz="4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24600"/>
                </a:solidFill>
                <a:latin typeface="Arial"/>
              </a:rPr>
              <a:t>80 dB</a:t>
            </a:r>
            <a:r>
              <a:rPr b="1" lang="en-US" sz="4000" spc="-1" strike="noStrike">
                <a:solidFill>
                  <a:srgbClr val="99ffcc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 largo plazo son peligroso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ra la audición hu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004-F2BE-408B-AEE6-402E4E2D7172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rerrequisitos, </a:t>
            </a:r>
            <a:br>
              <a:rPr sz="4400"/>
            </a:b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erminología y simbología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10E-AFDF-4153-8F29-0E4DC25BA852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27200"/>
            <a:ext cx="777240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partir del nivel de presión sonora es posible despejar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</a:t>
            </a:r>
            <a:r>
              <a:rPr b="1" lang="es-ES_tradnl" sz="4000" spc="-1" strike="noStrike">
                <a:solidFill>
                  <a:srgbClr val="d24600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esión sonora efic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152800" y="3062160"/>
                <a:ext cx="46209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2790720" y="4919760"/>
                <a:ext cx="3376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29C-AEB6-4472-862D-B1AD0C25C38A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7268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jemplo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 el nivel de presión sonora es 60 dB, determinar la presión sonora efic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1208160" y="3743280"/>
                <a:ext cx="666576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DD2-6ACF-46E4-B756-8E90D00F39B4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Muchas veces en lugar de la presión sonora se requiere calcular l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presión sonora eficaz cuadrática,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s-ES_tradnl" sz="4000" spc="-1" strike="noStrike" baseline="-25000">
                <a:solidFill>
                  <a:srgbClr val="009999"/>
                </a:solidFill>
                <a:latin typeface="Arial"/>
              </a:rPr>
              <a:t>ef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3320" y="4383000"/>
                <a:ext cx="4797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A85-AADF-4CFE-8F75-412F901F0213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sto es porque la presión cuadrática se relaciona con la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energía acú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173320" y="4383000"/>
                <a:ext cx="4797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988-ED56-4DCC-BAFC-A7498012BE56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ra variable de interé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s la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potencia acústica,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finida como la energía acústica que emite una fuente por unidad de tie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27480" y="4383000"/>
                <a:ext cx="24890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95C-00A0-4FE6-B0E2-019772EC0ADF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acterizaremos la fuente a través de su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potencia acústica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simismo, caracterizaremos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 receptor a travé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nivel de presión son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A98-CC2A-4B0B-9445-320B05D4E5BF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TA 1: La fuente en general no puede caracterizarse por su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vel de presión sonora,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a que una misma fuente puede producir diferentes niveles según la distancia y la materialidad circundante (reflexiones, confinamient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0AB-BAE6-49E7-93B6-A2BB647EC12D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 2: El nivel de presión sonora es un atributo de l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inmis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no de l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emisión.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el oído tenemos inmi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B3A-AFDA-4F04-8BB3-070B215580E6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TA 3: En muchos casos lo que se conoce de la fuente es la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inmisión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e provoca en un punto receptor determinado, por lo que puede ser necesario obtener indirectamente su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potencia acús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E2F-0964-4ADA-B245-0A7CA2B008DF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3960" y="1301400"/>
            <a:ext cx="8236080" cy="38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sociada a la potencia acústica tenemo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intensidad acústic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s decir la potencia acústica por unidad de área, expresada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W/m</a:t>
            </a:r>
            <a:r>
              <a:rPr b="1" lang="es-ES_tradnl" sz="4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36C-5BEF-480C-8234-4E067133BD1A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uestra variable principal será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nivel de presión son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86160" y="2631960"/>
                <a:ext cx="395424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725480" y="4052880"/>
            <a:ext cx="569304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ef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esión sonora eficaz </a:t>
            </a:r>
            <a:br>
              <a:rPr sz="4000"/>
            </a:b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= 20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3BF-B5FD-474A-9FF4-9C6226FE8EC0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3960" y="704880"/>
            <a:ext cx="823608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a una onda plana,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puede calcular como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450800" y="2743200"/>
            <a:ext cx="522612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3446640" y="2189160"/>
                <a:ext cx="224928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0" name=""/>
          <p:cNvSpPr/>
          <p:nvPr/>
        </p:nvSpPr>
        <p:spPr>
          <a:xfrm>
            <a:off x="1133640" y="3832200"/>
            <a:ext cx="68752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:  Presión eficaz sonora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aire (1,2 kg/m</a:t>
            </a:r>
            <a:r>
              <a:rPr b="0" lang="es-E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3600"/>
            </a:br>
            <a:r>
              <a:rPr b="0" i="1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l sonido (345 m/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CF6-7AC4-4664-B8FE-03DD9EEDFC10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3960" y="2624040"/>
            <a:ext cx="823608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Espec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F46-067C-4DB2-B090-3FE7DA6A4E89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3960" y="475920"/>
            <a:ext cx="8236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uestra próxima variable es la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9999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 es decir la cantidad de ciclos por segundo de un sonido. Se expresa e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hertz (Hz)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se relaciona con la sensación de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grave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baja frecuencia) o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agudo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alta frecuenc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FC0-2D73-44B0-B11D-847B8B1DF715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 mayoría de los sonidos de la realidad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alabra hablad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músic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ruido ambiente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tienen más de una frecuencia simultánea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DE2-74A6-43C4-8604-C13AD2743A96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s propiedades de los materiale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dependen de la frecuencia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or ejemplo, una pared aísla mejor las altas frecuencias que las bajas frecuencias.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BA1-E94D-4753-9893-B35CF5C54971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por ello que se requiere conocer qué frecuencias componen los sonidos y ruidos. Esto se logra mediante 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análisis de espect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7A0-58EB-4A88-8E0A-A5E5C8368BE9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espectro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dica el contenido de frecuencias de un sonido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y se mide mediante u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analizador de espect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0C1-AB9B-4817-9E57-676DF59DF0FC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 rot="18834000">
            <a:off x="3763800" y="172800"/>
            <a:ext cx="1617840" cy="651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BBF-ECDF-43A1-B938-A167FC78DFE5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ay varias formas de expresar el espectro, siendo la más común 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espectro de bandas de octa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09D-0AAE-478E-9753-E50C6F073D08}" type="slidenum">
              <a:t>38</a:t>
            </a:fld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a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bandas de octava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ienen sucesivas frecuencias centrales, cada una de las cuales es el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doble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 la anterior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539-F969-4780-BEEA-89D676558DA8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41440"/>
            <a:ext cx="777240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o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403360" y="1662120"/>
                <a:ext cx="43372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85800" y="4017960"/>
            <a:ext cx="77724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valor eficaz e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medio energé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25480" y="2932200"/>
            <a:ext cx="56930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): Presión son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45A-863B-4137-B5C3-3234AA50B83E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 flipV="1">
            <a:off x="1069920" y="163152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01720" y="1162080"/>
            <a:ext cx="549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240" y="4232160"/>
            <a:ext cx="987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[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87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95440" y="2063880"/>
            <a:ext cx="771480" cy="24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66920" y="2882880"/>
            <a:ext cx="771480" cy="15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38400" y="3305160"/>
            <a:ext cx="771480" cy="11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09880" y="2987640"/>
            <a:ext cx="771480" cy="148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81360" y="3863880"/>
            <a:ext cx="771840" cy="6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53200" y="3719520"/>
            <a:ext cx="771480" cy="74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24680" y="4008600"/>
            <a:ext cx="771480" cy="46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5908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1305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90204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352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44500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1648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19080" y="4465800"/>
            <a:ext cx="6472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D19-E781-4FBD-98F9-F73DC22694F3}" type="slidenum">
              <a:t>40</a:t>
            </a:fld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 flipV="1">
            <a:off x="1069920" y="163152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01720" y="1162080"/>
            <a:ext cx="549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491240" y="4232160"/>
            <a:ext cx="987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[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19080" y="4479840"/>
            <a:ext cx="6472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87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95440" y="2063880"/>
            <a:ext cx="771480" cy="24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266920" y="2882880"/>
            <a:ext cx="771480" cy="15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038400" y="3305160"/>
            <a:ext cx="771480" cy="11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2987640"/>
            <a:ext cx="771480" cy="148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581360" y="3863880"/>
            <a:ext cx="771840" cy="6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53200" y="3719520"/>
            <a:ext cx="771480" cy="74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24680" y="4008600"/>
            <a:ext cx="771480" cy="46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35908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305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0204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67352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44500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21648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rot="16200000">
            <a:off x="4105080" y="2504520"/>
            <a:ext cx="257400" cy="5191200"/>
          </a:xfrm>
          <a:custGeom>
            <a:avLst/>
            <a:gdLst>
              <a:gd name="textAreaLeft" fmla="*/ 164520 w 257400"/>
              <a:gd name="textAreaRight" fmla="*/ 257760 w 257400"/>
              <a:gd name="textAreaTop" fmla="*/ 42480 h 5191200"/>
              <a:gd name="textAreaBottom" fmla="*/ 5148720 h 519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359080" y="5235480"/>
            <a:ext cx="36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Bandas de oc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8A8-5D1E-43F8-B07B-C1D4F58726EC}" type="slidenum">
              <a:t>41</a:t>
            </a:fld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 flipV="1">
            <a:off x="1069920" y="163152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01720" y="1162080"/>
            <a:ext cx="549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491240" y="4232160"/>
            <a:ext cx="987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[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19080" y="4479840"/>
            <a:ext cx="6472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587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95440" y="2063880"/>
            <a:ext cx="771480" cy="24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66920" y="2882880"/>
            <a:ext cx="771480" cy="15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038400" y="3305160"/>
            <a:ext cx="771480" cy="11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2987640"/>
            <a:ext cx="771480" cy="1481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581360" y="3863880"/>
            <a:ext cx="771840" cy="6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353200" y="3719520"/>
            <a:ext cx="771480" cy="74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24680" y="4008600"/>
            <a:ext cx="771480" cy="46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35908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1305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90204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7352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44500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21648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4105080" y="2504520"/>
            <a:ext cx="257400" cy="5191200"/>
          </a:xfrm>
          <a:custGeom>
            <a:avLst/>
            <a:gdLst>
              <a:gd name="textAreaLeft" fmla="*/ 164520 w 257400"/>
              <a:gd name="textAreaRight" fmla="*/ 257760 w 257400"/>
              <a:gd name="textAreaTop" fmla="*/ 42480 h 5191200"/>
              <a:gd name="textAreaBottom" fmla="*/ 5148720 h 519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359080" y="5235480"/>
            <a:ext cx="36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Bandas de oc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549600" y="259704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Times New Roman"/>
              </a:rPr>
              <a:t>7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02000" y="259704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Times New Roman"/>
              </a:rPr>
              <a:t>1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CCD-523C-44B8-88D5-8D10B7CF8185}" type="slidenum">
              <a:t>42</a:t>
            </a:fld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ste espectro es conveniente porque la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propiedades de los materiales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n general se dan para las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bandas de oct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6E9-C3F5-4E59-B00A-94C580127AE2}" type="slidenum">
              <a:t>43</a:t>
            </a:fld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69880" y="1274400"/>
            <a:ext cx="800424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ambién se utilizan las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bandas de tercio de octava,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que tienen sucesivas frecuencias centrales que son aproximadamente un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4000"/>
            </a:b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25 %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mayores que la anterior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13B-8813-41B7-83CC-C5CCC222EE64}" type="slidenum">
              <a:t>44</a:t>
            </a:fld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 flipV="1">
            <a:off x="1069920" y="163152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01720" y="1162080"/>
            <a:ext cx="549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491240" y="4232160"/>
            <a:ext cx="987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[H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919080" y="4479840"/>
            <a:ext cx="6472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587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495440" y="1873080"/>
            <a:ext cx="255600" cy="2595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63680" y="2906640"/>
            <a:ext cx="255600" cy="1562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25800" y="3157560"/>
            <a:ext cx="255600" cy="13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789360" y="3235320"/>
            <a:ext cx="254160" cy="12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49680" y="3602160"/>
            <a:ext cx="255600" cy="86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11800" y="3595680"/>
            <a:ext cx="255600" cy="87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073920" y="3836880"/>
            <a:ext cx="255600" cy="63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3493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11148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736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635360" y="451152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40720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178680" y="4511520"/>
            <a:ext cx="58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4105080" y="2504520"/>
            <a:ext cx="257400" cy="5191200"/>
          </a:xfrm>
          <a:custGeom>
            <a:avLst/>
            <a:gdLst>
              <a:gd name="textAreaLeft" fmla="*/ 164520 w 257400"/>
              <a:gd name="textAreaRight" fmla="*/ 257760 w 257400"/>
              <a:gd name="textAreaTop" fmla="*/ 42480 h 5191200"/>
              <a:gd name="textAreaBottom" fmla="*/ 5148720 h 519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5400" y="10800"/>
                  <a:pt x="0" y="10800"/>
                </a:cubicBezTo>
                <a:cubicBezTo>
                  <a:pt x="54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59080" y="5235480"/>
            <a:ext cx="367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Bandas de tercio de oc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720960" y="259704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Times New Roman"/>
              </a:rPr>
              <a:t>8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240080" y="2597040"/>
            <a:ext cx="587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Times New Roman"/>
              </a:rPr>
              <a:t>1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751040" y="2063880"/>
            <a:ext cx="255600" cy="24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08080" y="2496960"/>
            <a:ext cx="255600" cy="197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517840" y="2749680"/>
            <a:ext cx="255600" cy="171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71640" y="2997360"/>
            <a:ext cx="255600" cy="1471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81400" y="3305160"/>
            <a:ext cx="253800" cy="11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041720" y="2987640"/>
            <a:ext cx="252360" cy="1481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803840" y="3863880"/>
            <a:ext cx="255600" cy="60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565600" y="3819600"/>
            <a:ext cx="2556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27720" y="4008600"/>
            <a:ext cx="255600" cy="46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537000" y="3471840"/>
            <a:ext cx="252360" cy="99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295880" y="3154320"/>
            <a:ext cx="255600" cy="131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57640" y="3483000"/>
            <a:ext cx="255600" cy="985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819760" y="3719520"/>
            <a:ext cx="255600" cy="74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581880" y="4175280"/>
            <a:ext cx="255600" cy="293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D7F-D2C8-4C20-B507-2FC0A57FF933}" type="slidenum">
              <a:t>45</a:t>
            </a:fld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112860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e puede obtener también p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putador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usando software específico, por ejemplo el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Visual Analyse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que se puede descargar en forma gratuita de Internet.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B3A-D141-43F7-9328-E292861DBF93}" type="slidenum">
              <a:t>46</a:t>
            </a:fld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724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ra ello es necesario ingresar en la entrada de audio con una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señal calibrada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oveniente de un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sonómetr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A0C-73EE-423B-AC69-0E6E8B7673B5}" type="slidenum">
              <a:t>47</a:t>
            </a:fld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1112760" y="1979640"/>
            <a:ext cx="6918480" cy="2489040"/>
            <a:chOff x="1112760" y="1979640"/>
            <a:chExt cx="6918480" cy="2489040"/>
          </a:xfrm>
        </p:grpSpPr>
        <p:grpSp>
          <p:nvGrpSpPr>
            <p:cNvPr id="761" name=""/>
            <p:cNvGrpSpPr/>
            <p:nvPr/>
          </p:nvGrpSpPr>
          <p:grpSpPr>
            <a:xfrm>
              <a:off x="1112760" y="1979640"/>
              <a:ext cx="6918480" cy="2489040"/>
              <a:chOff x="1112760" y="1979640"/>
              <a:chExt cx="6918480" cy="2489040"/>
            </a:xfrm>
          </p:grpSpPr>
          <p:pic>
            <p:nvPicPr>
              <p:cNvPr id="7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48040" y="2300400"/>
                <a:ext cx="3283200" cy="21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"/>
              <p:cNvSpPr/>
              <p:nvPr/>
            </p:nvSpPr>
            <p:spPr>
              <a:xfrm>
                <a:off x="1206360" y="3075120"/>
                <a:ext cx="435240" cy="277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60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389240" y="1979640"/>
                <a:ext cx="69840" cy="873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12760" y="2854440"/>
                <a:ext cx="620640" cy="1371600"/>
              </a:xfrm>
              <a:custGeom>
                <a:avLst/>
                <a:gdLst>
                  <a:gd name="textAreaLeft" fmla="*/ 59760 w 620640"/>
                  <a:gd name="textAreaRight" fmla="*/ 560880 w 620640"/>
                  <a:gd name="textAreaTop" fmla="*/ 59760 h 1371600"/>
                  <a:gd name="textAreaBottom" fmla="*/ 1311840 h 1371600"/>
                </a:gdLst>
                <a:ahLst/>
                <a:rect l="textAreaLeft" t="textAreaTop" r="textAreaRight" b="textAreaBottom"/>
                <a:pathLst>
                  <a:path w="21600" h="47720">
                    <a:moveTo>
                      <a:pt x="7111" y="0"/>
                    </a:moveTo>
                    <a:arcTo wR="7111" hR="7111" stAng="16200000" swAng="-5400000"/>
                    <a:lnTo>
                      <a:pt x="0" y="40609"/>
                    </a:lnTo>
                    <a:arcTo wR="7111" hR="7111" stAng="10800000" swAng="-5400000"/>
                    <a:lnTo>
                      <a:pt x="14489" y="47720"/>
                    </a:lnTo>
                    <a:arcTo wR="7111" hR="7111" stAng="5400000" swAng="-5400000"/>
                    <a:lnTo>
                      <a:pt x="21600" y="7111"/>
                    </a:lnTo>
                    <a:arcTo wR="7111" hR="7111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35200" y="3841920"/>
                <a:ext cx="196920" cy="88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932120" y="3886200"/>
                <a:ext cx="28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1587600" y="3960720"/>
              <a:ext cx="14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alida 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36800" y="3505320"/>
              <a:ext cx="10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udio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206-8804-4C36-80B2-99C4786E1779}" type="slidenum">
              <a:t>48</a:t>
            </a:fld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0" y="460440"/>
            <a:ext cx="8997840" cy="594360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 flipH="1">
            <a:off x="1275480" y="5264280"/>
            <a:ext cx="1946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andas de oc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BA1-6A55-49F2-8429-EBE20BAD22DD}" type="slidenum">
              <a:t>49</a:t>
            </a:fld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39760"/>
            <a:ext cx="7772400" cy="28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La presión sonora es la diferencia entre la presión instantánea y la atmosférica (de equilibrio)</a:t>
            </a:r>
            <a:r>
              <a:rPr b="0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25480" y="4067280"/>
            <a:ext cx="56930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)  -  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D6B-7B48-48D9-926E-E27EFFE5CA87}" type="slidenum">
              <a:t>5</a:t>
            </a:fld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73080" y="460440"/>
            <a:ext cx="8997840" cy="59436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 flipH="1">
            <a:off x="1275480" y="5264280"/>
            <a:ext cx="209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Bandas de 1/3 oc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E46-8F4F-4F14-A72F-D75B5FA955A0}" type="slidenum">
              <a:t>50</a:t>
            </a:fld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724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psicoacústica es preferible trabajar c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má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tallad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Para ello se usa la transformada rápida de Fourier 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6BF-BF63-4B4B-8BB3-56156BDAC0D6}" type="slidenum">
              <a:t>51</a:t>
            </a:fld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0" y="460440"/>
            <a:ext cx="8997840" cy="594360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 flipH="1">
            <a:off x="1276200" y="5264280"/>
            <a:ext cx="2213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spectro 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6C8-DE88-43BC-A445-6689F6335C77}" type="slidenum">
              <a:t>52</a:t>
            </a:fld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79520" y="1309320"/>
            <a:ext cx="818496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 importante tener en cuenta qu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upone un modelo periódico de la señal por lo tanto implica seccionar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entan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empo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se supon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petida periódica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C0F-FD78-4CC7-B2EE-E0B7BC48A038}" type="slidenum">
              <a:t>53</a:t>
            </a:fld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80036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800360" y="1307880"/>
            <a:ext cx="0" cy="18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36760" y="1039680"/>
            <a:ext cx="735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676520" y="2278080"/>
            <a:ext cx="57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296120" y="2117880"/>
            <a:ext cx="515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98680" y="1311120"/>
            <a:ext cx="3805560" cy="1422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4350"/>
                </a:moveTo>
                <a:lnTo>
                  <a:pt x="194" y="13786"/>
                </a:lnTo>
                <a:lnTo>
                  <a:pt x="434" y="12407"/>
                </a:lnTo>
                <a:lnTo>
                  <a:pt x="550" y="9775"/>
                </a:lnTo>
                <a:lnTo>
                  <a:pt x="767" y="9650"/>
                </a:lnTo>
                <a:lnTo>
                  <a:pt x="818" y="10590"/>
                </a:lnTo>
                <a:lnTo>
                  <a:pt x="1012" y="12282"/>
                </a:lnTo>
                <a:lnTo>
                  <a:pt x="1201" y="13535"/>
                </a:lnTo>
                <a:lnTo>
                  <a:pt x="1377" y="12909"/>
                </a:lnTo>
                <a:lnTo>
                  <a:pt x="1571" y="14099"/>
                </a:lnTo>
                <a:lnTo>
                  <a:pt x="1788" y="12470"/>
                </a:lnTo>
                <a:lnTo>
                  <a:pt x="1903" y="9901"/>
                </a:lnTo>
                <a:lnTo>
                  <a:pt x="2005" y="7269"/>
                </a:lnTo>
                <a:lnTo>
                  <a:pt x="2171" y="6956"/>
                </a:lnTo>
                <a:lnTo>
                  <a:pt x="2365" y="8084"/>
                </a:lnTo>
                <a:lnTo>
                  <a:pt x="2504" y="9713"/>
                </a:lnTo>
                <a:lnTo>
                  <a:pt x="2721" y="10402"/>
                </a:lnTo>
                <a:lnTo>
                  <a:pt x="2851" y="10026"/>
                </a:lnTo>
                <a:lnTo>
                  <a:pt x="2966" y="8084"/>
                </a:lnTo>
                <a:lnTo>
                  <a:pt x="3091" y="9023"/>
                </a:lnTo>
                <a:lnTo>
                  <a:pt x="3423" y="12157"/>
                </a:lnTo>
                <a:lnTo>
                  <a:pt x="3835" y="10590"/>
                </a:lnTo>
                <a:lnTo>
                  <a:pt x="4320" y="8710"/>
                </a:lnTo>
                <a:lnTo>
                  <a:pt x="4537" y="9149"/>
                </a:lnTo>
                <a:lnTo>
                  <a:pt x="4754" y="10527"/>
                </a:lnTo>
                <a:lnTo>
                  <a:pt x="4796" y="12407"/>
                </a:lnTo>
                <a:lnTo>
                  <a:pt x="4805" y="12554"/>
                </a:lnTo>
                <a:lnTo>
                  <a:pt x="5064" y="15666"/>
                </a:lnTo>
                <a:lnTo>
                  <a:pt x="5304" y="16230"/>
                </a:lnTo>
                <a:lnTo>
                  <a:pt x="5498" y="15290"/>
                </a:lnTo>
                <a:lnTo>
                  <a:pt x="5715" y="14789"/>
                </a:lnTo>
                <a:lnTo>
                  <a:pt x="6122" y="14977"/>
                </a:lnTo>
                <a:lnTo>
                  <a:pt x="6505" y="13974"/>
                </a:lnTo>
                <a:lnTo>
                  <a:pt x="6681" y="10339"/>
                </a:lnTo>
                <a:lnTo>
                  <a:pt x="6851" y="7896"/>
                </a:lnTo>
                <a:lnTo>
                  <a:pt x="7207" y="6517"/>
                </a:lnTo>
                <a:lnTo>
                  <a:pt x="7240" y="6517"/>
                </a:lnTo>
                <a:lnTo>
                  <a:pt x="7641" y="6768"/>
                </a:lnTo>
                <a:lnTo>
                  <a:pt x="8025" y="8209"/>
                </a:lnTo>
                <a:lnTo>
                  <a:pt x="8487" y="9399"/>
                </a:lnTo>
                <a:lnTo>
                  <a:pt x="8972" y="7708"/>
                </a:lnTo>
                <a:lnTo>
                  <a:pt x="9046" y="5702"/>
                </a:lnTo>
                <a:lnTo>
                  <a:pt x="9263" y="4637"/>
                </a:lnTo>
                <a:lnTo>
                  <a:pt x="9499" y="6266"/>
                </a:lnTo>
                <a:lnTo>
                  <a:pt x="9503" y="6517"/>
                </a:lnTo>
                <a:lnTo>
                  <a:pt x="9841" y="11154"/>
                </a:lnTo>
                <a:lnTo>
                  <a:pt x="10081" y="9587"/>
                </a:lnTo>
                <a:lnTo>
                  <a:pt x="10340" y="10026"/>
                </a:lnTo>
                <a:lnTo>
                  <a:pt x="10464" y="13034"/>
                </a:lnTo>
                <a:lnTo>
                  <a:pt x="10825" y="18360"/>
                </a:lnTo>
                <a:lnTo>
                  <a:pt x="11143" y="19990"/>
                </a:lnTo>
                <a:lnTo>
                  <a:pt x="11425" y="18862"/>
                </a:lnTo>
                <a:lnTo>
                  <a:pt x="11467" y="18736"/>
                </a:lnTo>
                <a:lnTo>
                  <a:pt x="11795" y="14350"/>
                </a:lnTo>
                <a:lnTo>
                  <a:pt x="12128" y="11217"/>
                </a:lnTo>
                <a:lnTo>
                  <a:pt x="12395" y="12595"/>
                </a:lnTo>
                <a:lnTo>
                  <a:pt x="12460" y="15290"/>
                </a:lnTo>
                <a:lnTo>
                  <a:pt x="12636" y="16167"/>
                </a:lnTo>
                <a:lnTo>
                  <a:pt x="12853" y="15415"/>
                </a:lnTo>
                <a:lnTo>
                  <a:pt x="13070" y="12533"/>
                </a:lnTo>
                <a:lnTo>
                  <a:pt x="13329" y="14099"/>
                </a:lnTo>
                <a:lnTo>
                  <a:pt x="13329" y="16042"/>
                </a:lnTo>
                <a:lnTo>
                  <a:pt x="13624" y="17734"/>
                </a:lnTo>
                <a:lnTo>
                  <a:pt x="13980" y="16668"/>
                </a:lnTo>
                <a:lnTo>
                  <a:pt x="14156" y="13410"/>
                </a:lnTo>
                <a:lnTo>
                  <a:pt x="14327" y="10089"/>
                </a:lnTo>
                <a:lnTo>
                  <a:pt x="14710" y="8397"/>
                </a:lnTo>
                <a:lnTo>
                  <a:pt x="14719" y="8554"/>
                </a:lnTo>
                <a:lnTo>
                  <a:pt x="14927" y="9399"/>
                </a:lnTo>
                <a:lnTo>
                  <a:pt x="15144" y="6266"/>
                </a:lnTo>
                <a:lnTo>
                  <a:pt x="15260" y="627"/>
                </a:lnTo>
                <a:lnTo>
                  <a:pt x="15477" y="0"/>
                </a:lnTo>
                <a:lnTo>
                  <a:pt x="15602" y="1755"/>
                </a:lnTo>
                <a:lnTo>
                  <a:pt x="15870" y="5577"/>
                </a:lnTo>
                <a:lnTo>
                  <a:pt x="16128" y="7770"/>
                </a:lnTo>
                <a:lnTo>
                  <a:pt x="16447" y="7457"/>
                </a:lnTo>
                <a:lnTo>
                  <a:pt x="16563" y="6642"/>
                </a:lnTo>
                <a:lnTo>
                  <a:pt x="16687" y="7833"/>
                </a:lnTo>
                <a:lnTo>
                  <a:pt x="16808" y="12533"/>
                </a:lnTo>
                <a:lnTo>
                  <a:pt x="16808" y="12627"/>
                </a:lnTo>
                <a:lnTo>
                  <a:pt x="16932" y="13222"/>
                </a:lnTo>
                <a:lnTo>
                  <a:pt x="17122" y="12783"/>
                </a:lnTo>
                <a:lnTo>
                  <a:pt x="17357" y="10527"/>
                </a:lnTo>
                <a:lnTo>
                  <a:pt x="17533" y="14350"/>
                </a:lnTo>
                <a:lnTo>
                  <a:pt x="17842" y="17170"/>
                </a:lnTo>
                <a:lnTo>
                  <a:pt x="18134" y="16480"/>
                </a:lnTo>
                <a:lnTo>
                  <a:pt x="18392" y="17734"/>
                </a:lnTo>
                <a:lnTo>
                  <a:pt x="18896" y="15728"/>
                </a:lnTo>
                <a:lnTo>
                  <a:pt x="19196" y="12470"/>
                </a:lnTo>
                <a:lnTo>
                  <a:pt x="19446" y="14601"/>
                </a:lnTo>
                <a:lnTo>
                  <a:pt x="19496" y="19300"/>
                </a:lnTo>
                <a:lnTo>
                  <a:pt x="19995" y="162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82840" y="2514600"/>
            <a:ext cx="71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B56-DA33-428E-9E59-9DADC3212D81}" type="slidenum">
              <a:t>54</a:t>
            </a:fld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80036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800360" y="1307880"/>
            <a:ext cx="0" cy="18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36760" y="1039680"/>
            <a:ext cx="735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676520" y="2278080"/>
            <a:ext cx="57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296120" y="2117880"/>
            <a:ext cx="515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298680" y="1311120"/>
            <a:ext cx="3805560" cy="1422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4350"/>
                </a:moveTo>
                <a:lnTo>
                  <a:pt x="194" y="13786"/>
                </a:lnTo>
                <a:lnTo>
                  <a:pt x="434" y="12407"/>
                </a:lnTo>
                <a:lnTo>
                  <a:pt x="550" y="9775"/>
                </a:lnTo>
                <a:lnTo>
                  <a:pt x="767" y="9650"/>
                </a:lnTo>
                <a:lnTo>
                  <a:pt x="818" y="10590"/>
                </a:lnTo>
                <a:lnTo>
                  <a:pt x="1012" y="12282"/>
                </a:lnTo>
                <a:lnTo>
                  <a:pt x="1201" y="13535"/>
                </a:lnTo>
                <a:lnTo>
                  <a:pt x="1377" y="12909"/>
                </a:lnTo>
                <a:lnTo>
                  <a:pt x="1571" y="14099"/>
                </a:lnTo>
                <a:lnTo>
                  <a:pt x="1788" y="12470"/>
                </a:lnTo>
                <a:lnTo>
                  <a:pt x="1903" y="9901"/>
                </a:lnTo>
                <a:lnTo>
                  <a:pt x="2005" y="7269"/>
                </a:lnTo>
                <a:lnTo>
                  <a:pt x="2171" y="6956"/>
                </a:lnTo>
                <a:lnTo>
                  <a:pt x="2365" y="8084"/>
                </a:lnTo>
                <a:lnTo>
                  <a:pt x="2504" y="9713"/>
                </a:lnTo>
                <a:lnTo>
                  <a:pt x="2721" y="10402"/>
                </a:lnTo>
                <a:lnTo>
                  <a:pt x="2851" y="10026"/>
                </a:lnTo>
                <a:lnTo>
                  <a:pt x="2966" y="8084"/>
                </a:lnTo>
                <a:lnTo>
                  <a:pt x="3091" y="9023"/>
                </a:lnTo>
                <a:lnTo>
                  <a:pt x="3423" y="12157"/>
                </a:lnTo>
                <a:lnTo>
                  <a:pt x="3835" y="10590"/>
                </a:lnTo>
                <a:lnTo>
                  <a:pt x="4320" y="8710"/>
                </a:lnTo>
                <a:lnTo>
                  <a:pt x="4537" y="9149"/>
                </a:lnTo>
                <a:lnTo>
                  <a:pt x="4754" y="10527"/>
                </a:lnTo>
                <a:lnTo>
                  <a:pt x="4796" y="12407"/>
                </a:lnTo>
                <a:lnTo>
                  <a:pt x="4805" y="12554"/>
                </a:lnTo>
                <a:lnTo>
                  <a:pt x="5064" y="15666"/>
                </a:lnTo>
                <a:lnTo>
                  <a:pt x="5304" y="16230"/>
                </a:lnTo>
                <a:lnTo>
                  <a:pt x="5498" y="15290"/>
                </a:lnTo>
                <a:lnTo>
                  <a:pt x="5715" y="14789"/>
                </a:lnTo>
                <a:lnTo>
                  <a:pt x="6122" y="14977"/>
                </a:lnTo>
                <a:lnTo>
                  <a:pt x="6505" y="13974"/>
                </a:lnTo>
                <a:lnTo>
                  <a:pt x="6681" y="10339"/>
                </a:lnTo>
                <a:lnTo>
                  <a:pt x="6851" y="7896"/>
                </a:lnTo>
                <a:lnTo>
                  <a:pt x="7207" y="6517"/>
                </a:lnTo>
                <a:lnTo>
                  <a:pt x="7240" y="6517"/>
                </a:lnTo>
                <a:lnTo>
                  <a:pt x="7641" y="6768"/>
                </a:lnTo>
                <a:lnTo>
                  <a:pt x="8025" y="8209"/>
                </a:lnTo>
                <a:lnTo>
                  <a:pt x="8487" y="9399"/>
                </a:lnTo>
                <a:lnTo>
                  <a:pt x="8972" y="7708"/>
                </a:lnTo>
                <a:lnTo>
                  <a:pt x="9046" y="5702"/>
                </a:lnTo>
                <a:lnTo>
                  <a:pt x="9263" y="4637"/>
                </a:lnTo>
                <a:lnTo>
                  <a:pt x="9499" y="6266"/>
                </a:lnTo>
                <a:lnTo>
                  <a:pt x="9503" y="6517"/>
                </a:lnTo>
                <a:lnTo>
                  <a:pt x="9841" y="11154"/>
                </a:lnTo>
                <a:lnTo>
                  <a:pt x="10081" y="9587"/>
                </a:lnTo>
                <a:lnTo>
                  <a:pt x="10340" y="10026"/>
                </a:lnTo>
                <a:lnTo>
                  <a:pt x="10464" y="13034"/>
                </a:lnTo>
                <a:lnTo>
                  <a:pt x="10825" y="18360"/>
                </a:lnTo>
                <a:lnTo>
                  <a:pt x="11143" y="19990"/>
                </a:lnTo>
                <a:lnTo>
                  <a:pt x="11425" y="18862"/>
                </a:lnTo>
                <a:lnTo>
                  <a:pt x="11467" y="18736"/>
                </a:lnTo>
                <a:lnTo>
                  <a:pt x="11795" y="14350"/>
                </a:lnTo>
                <a:lnTo>
                  <a:pt x="12128" y="11217"/>
                </a:lnTo>
                <a:lnTo>
                  <a:pt x="12395" y="12595"/>
                </a:lnTo>
                <a:lnTo>
                  <a:pt x="12460" y="15290"/>
                </a:lnTo>
                <a:lnTo>
                  <a:pt x="12636" y="16167"/>
                </a:lnTo>
                <a:lnTo>
                  <a:pt x="12853" y="15415"/>
                </a:lnTo>
                <a:lnTo>
                  <a:pt x="13070" y="12533"/>
                </a:lnTo>
                <a:lnTo>
                  <a:pt x="13329" y="14099"/>
                </a:lnTo>
                <a:lnTo>
                  <a:pt x="13329" y="16042"/>
                </a:lnTo>
                <a:lnTo>
                  <a:pt x="13624" y="17734"/>
                </a:lnTo>
                <a:lnTo>
                  <a:pt x="13980" y="16668"/>
                </a:lnTo>
                <a:lnTo>
                  <a:pt x="14156" y="13410"/>
                </a:lnTo>
                <a:lnTo>
                  <a:pt x="14327" y="10089"/>
                </a:lnTo>
                <a:lnTo>
                  <a:pt x="14710" y="8397"/>
                </a:lnTo>
                <a:lnTo>
                  <a:pt x="14719" y="8554"/>
                </a:lnTo>
                <a:lnTo>
                  <a:pt x="14927" y="9399"/>
                </a:lnTo>
                <a:lnTo>
                  <a:pt x="15144" y="6266"/>
                </a:lnTo>
                <a:lnTo>
                  <a:pt x="15260" y="627"/>
                </a:lnTo>
                <a:lnTo>
                  <a:pt x="15477" y="0"/>
                </a:lnTo>
                <a:lnTo>
                  <a:pt x="15602" y="1755"/>
                </a:lnTo>
                <a:lnTo>
                  <a:pt x="15870" y="5577"/>
                </a:lnTo>
                <a:lnTo>
                  <a:pt x="16128" y="7770"/>
                </a:lnTo>
                <a:lnTo>
                  <a:pt x="16447" y="7457"/>
                </a:lnTo>
                <a:lnTo>
                  <a:pt x="16563" y="6642"/>
                </a:lnTo>
                <a:lnTo>
                  <a:pt x="16687" y="7833"/>
                </a:lnTo>
                <a:lnTo>
                  <a:pt x="16808" y="12533"/>
                </a:lnTo>
                <a:lnTo>
                  <a:pt x="16808" y="12627"/>
                </a:lnTo>
                <a:lnTo>
                  <a:pt x="16932" y="13222"/>
                </a:lnTo>
                <a:lnTo>
                  <a:pt x="17122" y="12783"/>
                </a:lnTo>
                <a:lnTo>
                  <a:pt x="17357" y="10527"/>
                </a:lnTo>
                <a:lnTo>
                  <a:pt x="17533" y="14350"/>
                </a:lnTo>
                <a:lnTo>
                  <a:pt x="17842" y="17170"/>
                </a:lnTo>
                <a:lnTo>
                  <a:pt x="18134" y="16480"/>
                </a:lnTo>
                <a:lnTo>
                  <a:pt x="18392" y="17734"/>
                </a:lnTo>
                <a:lnTo>
                  <a:pt x="18896" y="15728"/>
                </a:lnTo>
                <a:lnTo>
                  <a:pt x="19196" y="12470"/>
                </a:lnTo>
                <a:lnTo>
                  <a:pt x="19446" y="14601"/>
                </a:lnTo>
                <a:lnTo>
                  <a:pt x="19496" y="19300"/>
                </a:lnTo>
                <a:lnTo>
                  <a:pt x="19995" y="162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282840" y="2514600"/>
            <a:ext cx="71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267680" y="4408560"/>
            <a:ext cx="515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801800" y="3637080"/>
            <a:ext cx="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76520" y="4570560"/>
            <a:ext cx="57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01800" y="390528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97240" y="390204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07080" y="390204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3297240" y="425916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4807080" y="4259160"/>
            <a:ext cx="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463760" y="3321000"/>
            <a:ext cx="734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03960" y="3902040"/>
            <a:ext cx="746280" cy="714240"/>
          </a:xfrm>
          <a:custGeom>
            <a:avLst/>
            <a:gdLst/>
            <a:ahLst/>
            <a:rect l="l" t="t" r="r" b="b"/>
            <a:pathLst>
              <a:path w="849" h="731">
                <a:moveTo>
                  <a:pt x="0" y="370"/>
                </a:moveTo>
                <a:lnTo>
                  <a:pt x="61" y="224"/>
                </a:lnTo>
                <a:lnTo>
                  <a:pt x="115" y="50"/>
                </a:lnTo>
                <a:lnTo>
                  <a:pt x="147" y="0"/>
                </a:lnTo>
                <a:lnTo>
                  <a:pt x="183" y="18"/>
                </a:lnTo>
                <a:lnTo>
                  <a:pt x="213" y="183"/>
                </a:lnTo>
                <a:lnTo>
                  <a:pt x="220" y="206"/>
                </a:lnTo>
                <a:lnTo>
                  <a:pt x="255" y="132"/>
                </a:lnTo>
                <a:lnTo>
                  <a:pt x="263" y="50"/>
                </a:lnTo>
                <a:lnTo>
                  <a:pt x="291" y="23"/>
                </a:lnTo>
                <a:lnTo>
                  <a:pt x="348" y="279"/>
                </a:lnTo>
                <a:lnTo>
                  <a:pt x="380" y="228"/>
                </a:lnTo>
                <a:lnTo>
                  <a:pt x="425" y="667"/>
                </a:lnTo>
                <a:lnTo>
                  <a:pt x="465" y="594"/>
                </a:lnTo>
                <a:lnTo>
                  <a:pt x="543" y="585"/>
                </a:lnTo>
                <a:lnTo>
                  <a:pt x="543" y="601"/>
                </a:lnTo>
                <a:lnTo>
                  <a:pt x="576" y="712"/>
                </a:lnTo>
                <a:lnTo>
                  <a:pt x="612" y="731"/>
                </a:lnTo>
                <a:lnTo>
                  <a:pt x="638" y="708"/>
                </a:lnTo>
                <a:lnTo>
                  <a:pt x="670" y="525"/>
                </a:lnTo>
                <a:lnTo>
                  <a:pt x="713" y="365"/>
                </a:lnTo>
                <a:lnTo>
                  <a:pt x="742" y="448"/>
                </a:lnTo>
                <a:lnTo>
                  <a:pt x="769" y="438"/>
                </a:lnTo>
                <a:lnTo>
                  <a:pt x="805" y="301"/>
                </a:lnTo>
                <a:lnTo>
                  <a:pt x="849" y="27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6303960" y="425916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236760" y="4594320"/>
            <a:ext cx="268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799160" y="4594320"/>
            <a:ext cx="269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07200" y="4594320"/>
            <a:ext cx="269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801800" y="3822840"/>
            <a:ext cx="1498680" cy="1493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54E-C82B-44C6-A0E4-8484CE6BEA72}" type="slidenum">
              <a:t>55</a:t>
            </a:fld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2633760"/>
            <a:ext cx="777240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parecen algun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blem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2AA-5544-45F7-BC11-4E1FE6676C8A}" type="slidenum">
              <a:t>56</a:t>
            </a:fld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80036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1800360" y="1307880"/>
            <a:ext cx="0" cy="18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36760" y="1039680"/>
            <a:ext cx="735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676520" y="2278080"/>
            <a:ext cx="57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96120" y="2117880"/>
            <a:ext cx="515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98680" y="1311120"/>
            <a:ext cx="3805560" cy="1422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4350"/>
                </a:moveTo>
                <a:lnTo>
                  <a:pt x="194" y="13786"/>
                </a:lnTo>
                <a:lnTo>
                  <a:pt x="434" y="12407"/>
                </a:lnTo>
                <a:lnTo>
                  <a:pt x="550" y="9775"/>
                </a:lnTo>
                <a:lnTo>
                  <a:pt x="767" y="9650"/>
                </a:lnTo>
                <a:lnTo>
                  <a:pt x="818" y="10590"/>
                </a:lnTo>
                <a:lnTo>
                  <a:pt x="1012" y="12282"/>
                </a:lnTo>
                <a:lnTo>
                  <a:pt x="1201" y="13535"/>
                </a:lnTo>
                <a:lnTo>
                  <a:pt x="1377" y="12909"/>
                </a:lnTo>
                <a:lnTo>
                  <a:pt x="1571" y="14099"/>
                </a:lnTo>
                <a:lnTo>
                  <a:pt x="1788" y="12470"/>
                </a:lnTo>
                <a:lnTo>
                  <a:pt x="1903" y="9901"/>
                </a:lnTo>
                <a:lnTo>
                  <a:pt x="2005" y="7269"/>
                </a:lnTo>
                <a:lnTo>
                  <a:pt x="2171" y="6956"/>
                </a:lnTo>
                <a:lnTo>
                  <a:pt x="2365" y="8084"/>
                </a:lnTo>
                <a:lnTo>
                  <a:pt x="2504" y="9713"/>
                </a:lnTo>
                <a:lnTo>
                  <a:pt x="2721" y="10402"/>
                </a:lnTo>
                <a:lnTo>
                  <a:pt x="2851" y="10026"/>
                </a:lnTo>
                <a:lnTo>
                  <a:pt x="2966" y="8084"/>
                </a:lnTo>
                <a:lnTo>
                  <a:pt x="3091" y="9023"/>
                </a:lnTo>
                <a:lnTo>
                  <a:pt x="3423" y="12157"/>
                </a:lnTo>
                <a:lnTo>
                  <a:pt x="3835" y="10590"/>
                </a:lnTo>
                <a:lnTo>
                  <a:pt x="4320" y="8710"/>
                </a:lnTo>
                <a:lnTo>
                  <a:pt x="4537" y="9149"/>
                </a:lnTo>
                <a:lnTo>
                  <a:pt x="4754" y="10527"/>
                </a:lnTo>
                <a:lnTo>
                  <a:pt x="4796" y="12407"/>
                </a:lnTo>
                <a:lnTo>
                  <a:pt x="4805" y="12554"/>
                </a:lnTo>
                <a:lnTo>
                  <a:pt x="5064" y="15666"/>
                </a:lnTo>
                <a:lnTo>
                  <a:pt x="5304" y="16230"/>
                </a:lnTo>
                <a:lnTo>
                  <a:pt x="5498" y="15290"/>
                </a:lnTo>
                <a:lnTo>
                  <a:pt x="5715" y="14789"/>
                </a:lnTo>
                <a:lnTo>
                  <a:pt x="6122" y="14977"/>
                </a:lnTo>
                <a:lnTo>
                  <a:pt x="6505" y="13974"/>
                </a:lnTo>
                <a:lnTo>
                  <a:pt x="6681" y="10339"/>
                </a:lnTo>
                <a:lnTo>
                  <a:pt x="6851" y="7896"/>
                </a:lnTo>
                <a:lnTo>
                  <a:pt x="7207" y="6517"/>
                </a:lnTo>
                <a:lnTo>
                  <a:pt x="7240" y="6517"/>
                </a:lnTo>
                <a:lnTo>
                  <a:pt x="7641" y="6768"/>
                </a:lnTo>
                <a:lnTo>
                  <a:pt x="8025" y="8209"/>
                </a:lnTo>
                <a:lnTo>
                  <a:pt x="8487" y="9399"/>
                </a:lnTo>
                <a:lnTo>
                  <a:pt x="8972" y="7708"/>
                </a:lnTo>
                <a:lnTo>
                  <a:pt x="9046" y="5702"/>
                </a:lnTo>
                <a:lnTo>
                  <a:pt x="9263" y="4637"/>
                </a:lnTo>
                <a:lnTo>
                  <a:pt x="9499" y="6266"/>
                </a:lnTo>
                <a:lnTo>
                  <a:pt x="9503" y="6517"/>
                </a:lnTo>
                <a:lnTo>
                  <a:pt x="9841" y="11154"/>
                </a:lnTo>
                <a:lnTo>
                  <a:pt x="10081" y="9587"/>
                </a:lnTo>
                <a:lnTo>
                  <a:pt x="10340" y="10026"/>
                </a:lnTo>
                <a:lnTo>
                  <a:pt x="10464" y="13034"/>
                </a:lnTo>
                <a:lnTo>
                  <a:pt x="10825" y="18360"/>
                </a:lnTo>
                <a:lnTo>
                  <a:pt x="11143" y="19990"/>
                </a:lnTo>
                <a:lnTo>
                  <a:pt x="11425" y="18862"/>
                </a:lnTo>
                <a:lnTo>
                  <a:pt x="11467" y="18736"/>
                </a:lnTo>
                <a:lnTo>
                  <a:pt x="11795" y="14350"/>
                </a:lnTo>
                <a:lnTo>
                  <a:pt x="12128" y="11217"/>
                </a:lnTo>
                <a:lnTo>
                  <a:pt x="12395" y="12595"/>
                </a:lnTo>
                <a:lnTo>
                  <a:pt x="12460" y="15290"/>
                </a:lnTo>
                <a:lnTo>
                  <a:pt x="12636" y="16167"/>
                </a:lnTo>
                <a:lnTo>
                  <a:pt x="12853" y="15415"/>
                </a:lnTo>
                <a:lnTo>
                  <a:pt x="13070" y="12533"/>
                </a:lnTo>
                <a:lnTo>
                  <a:pt x="13329" y="14099"/>
                </a:lnTo>
                <a:lnTo>
                  <a:pt x="13329" y="16042"/>
                </a:lnTo>
                <a:lnTo>
                  <a:pt x="13624" y="17734"/>
                </a:lnTo>
                <a:lnTo>
                  <a:pt x="13980" y="16668"/>
                </a:lnTo>
                <a:lnTo>
                  <a:pt x="14156" y="13410"/>
                </a:lnTo>
                <a:lnTo>
                  <a:pt x="14327" y="10089"/>
                </a:lnTo>
                <a:lnTo>
                  <a:pt x="14710" y="8397"/>
                </a:lnTo>
                <a:lnTo>
                  <a:pt x="14719" y="8554"/>
                </a:lnTo>
                <a:lnTo>
                  <a:pt x="14927" y="9399"/>
                </a:lnTo>
                <a:lnTo>
                  <a:pt x="15144" y="6266"/>
                </a:lnTo>
                <a:lnTo>
                  <a:pt x="15260" y="627"/>
                </a:lnTo>
                <a:lnTo>
                  <a:pt x="15477" y="0"/>
                </a:lnTo>
                <a:lnTo>
                  <a:pt x="15602" y="1755"/>
                </a:lnTo>
                <a:lnTo>
                  <a:pt x="15870" y="5577"/>
                </a:lnTo>
                <a:lnTo>
                  <a:pt x="16128" y="7770"/>
                </a:lnTo>
                <a:lnTo>
                  <a:pt x="16447" y="7457"/>
                </a:lnTo>
                <a:lnTo>
                  <a:pt x="16563" y="6642"/>
                </a:lnTo>
                <a:lnTo>
                  <a:pt x="16687" y="7833"/>
                </a:lnTo>
                <a:lnTo>
                  <a:pt x="16808" y="12533"/>
                </a:lnTo>
                <a:lnTo>
                  <a:pt x="16808" y="12627"/>
                </a:lnTo>
                <a:lnTo>
                  <a:pt x="16932" y="13222"/>
                </a:lnTo>
                <a:lnTo>
                  <a:pt x="17122" y="12783"/>
                </a:lnTo>
                <a:lnTo>
                  <a:pt x="17357" y="10527"/>
                </a:lnTo>
                <a:lnTo>
                  <a:pt x="17533" y="14350"/>
                </a:lnTo>
                <a:lnTo>
                  <a:pt x="17842" y="17170"/>
                </a:lnTo>
                <a:lnTo>
                  <a:pt x="18134" y="16480"/>
                </a:lnTo>
                <a:lnTo>
                  <a:pt x="18392" y="17734"/>
                </a:lnTo>
                <a:lnTo>
                  <a:pt x="18896" y="15728"/>
                </a:lnTo>
                <a:lnTo>
                  <a:pt x="19196" y="12470"/>
                </a:lnTo>
                <a:lnTo>
                  <a:pt x="19446" y="14601"/>
                </a:lnTo>
                <a:lnTo>
                  <a:pt x="19496" y="19300"/>
                </a:lnTo>
                <a:lnTo>
                  <a:pt x="19995" y="162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82840" y="2514600"/>
            <a:ext cx="71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267680" y="4408560"/>
            <a:ext cx="515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801800" y="3637080"/>
            <a:ext cx="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76520" y="4570560"/>
            <a:ext cx="57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01800" y="390528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97240" y="390204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807080" y="3902040"/>
            <a:ext cx="1500120" cy="13082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297240" y="425916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807080" y="4259160"/>
            <a:ext cx="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463760" y="3321000"/>
            <a:ext cx="734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303960" y="3902040"/>
            <a:ext cx="746280" cy="714240"/>
          </a:xfrm>
          <a:custGeom>
            <a:avLst/>
            <a:gdLst/>
            <a:ahLst/>
            <a:rect l="l" t="t" r="r" b="b"/>
            <a:pathLst>
              <a:path w="849" h="731">
                <a:moveTo>
                  <a:pt x="0" y="370"/>
                </a:moveTo>
                <a:lnTo>
                  <a:pt x="61" y="224"/>
                </a:lnTo>
                <a:lnTo>
                  <a:pt x="115" y="50"/>
                </a:lnTo>
                <a:lnTo>
                  <a:pt x="147" y="0"/>
                </a:lnTo>
                <a:lnTo>
                  <a:pt x="183" y="18"/>
                </a:lnTo>
                <a:lnTo>
                  <a:pt x="213" y="183"/>
                </a:lnTo>
                <a:lnTo>
                  <a:pt x="220" y="206"/>
                </a:lnTo>
                <a:lnTo>
                  <a:pt x="255" y="132"/>
                </a:lnTo>
                <a:lnTo>
                  <a:pt x="263" y="50"/>
                </a:lnTo>
                <a:lnTo>
                  <a:pt x="291" y="23"/>
                </a:lnTo>
                <a:lnTo>
                  <a:pt x="348" y="279"/>
                </a:lnTo>
                <a:lnTo>
                  <a:pt x="380" y="228"/>
                </a:lnTo>
                <a:lnTo>
                  <a:pt x="425" y="667"/>
                </a:lnTo>
                <a:lnTo>
                  <a:pt x="465" y="594"/>
                </a:lnTo>
                <a:lnTo>
                  <a:pt x="543" y="585"/>
                </a:lnTo>
                <a:lnTo>
                  <a:pt x="543" y="601"/>
                </a:lnTo>
                <a:lnTo>
                  <a:pt x="576" y="712"/>
                </a:lnTo>
                <a:lnTo>
                  <a:pt x="612" y="731"/>
                </a:lnTo>
                <a:lnTo>
                  <a:pt x="638" y="708"/>
                </a:lnTo>
                <a:lnTo>
                  <a:pt x="670" y="525"/>
                </a:lnTo>
                <a:lnTo>
                  <a:pt x="713" y="365"/>
                </a:lnTo>
                <a:lnTo>
                  <a:pt x="742" y="448"/>
                </a:lnTo>
                <a:lnTo>
                  <a:pt x="769" y="438"/>
                </a:lnTo>
                <a:lnTo>
                  <a:pt x="805" y="301"/>
                </a:lnTo>
                <a:lnTo>
                  <a:pt x="849" y="27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303960" y="425916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236760" y="4594320"/>
            <a:ext cx="268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99160" y="4594320"/>
            <a:ext cx="269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307200" y="4594320"/>
            <a:ext cx="2696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801800" y="3822840"/>
            <a:ext cx="1498680" cy="1493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5400000">
            <a:off x="5094000" y="-568080"/>
            <a:ext cx="276120" cy="3641760"/>
          </a:xfrm>
          <a:custGeom>
            <a:avLst/>
            <a:gdLst>
              <a:gd name="textAreaLeft" fmla="*/ 176400 w 276120"/>
              <a:gd name="textAreaRight" fmla="*/ 276480 w 276120"/>
              <a:gd name="textAreaTop" fmla="*/ 54000 h 3641760"/>
              <a:gd name="textAreaBottom" fmla="*/ 3587760 h 364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3"/>
                  <a:pt x="10800" y="1026"/>
                </a:cubicBezTo>
                <a:lnTo>
                  <a:pt x="10800" y="9774"/>
                </a:lnTo>
                <a:cubicBezTo>
                  <a:pt x="10800" y="10287"/>
                  <a:pt x="5400" y="10800"/>
                  <a:pt x="0" y="10800"/>
                </a:cubicBezTo>
                <a:cubicBezTo>
                  <a:pt x="5400" y="10800"/>
                  <a:pt x="10800" y="11313"/>
                  <a:pt x="10800" y="11826"/>
                </a:cubicBezTo>
                <a:lnTo>
                  <a:pt x="10800" y="20574"/>
                </a:lnTo>
                <a:cubicBezTo>
                  <a:pt x="10800" y="2108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57760" y="673200"/>
            <a:ext cx="2711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1) Esto no se an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46240" y="4108320"/>
            <a:ext cx="695520" cy="6955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422520" y="5289480"/>
            <a:ext cx="4308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ste salto no estaba en la señal original y agrega contenido espectral espu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A36-BCBD-4412-899A-5DCCF42B6285}" type="slidenum">
              <a:t>57</a:t>
            </a:fld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98520"/>
            <a:ext cx="7772400" cy="24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única solución al primer problema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mediar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rias ventan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tempo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FB0-340C-484A-8012-BE68DBC1A855}" type="slidenum">
              <a:t>58</a:t>
            </a:fld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811160" y="1611360"/>
            <a:ext cx="148932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80036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1800360" y="1307880"/>
            <a:ext cx="0" cy="18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436760" y="1039680"/>
            <a:ext cx="7351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676520" y="2278080"/>
            <a:ext cx="57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296120" y="2117880"/>
            <a:ext cx="515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809720" y="1612800"/>
            <a:ext cx="1488960" cy="1306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09" y="3343"/>
                </a:lnTo>
                <a:lnTo>
                  <a:pt x="1323" y="750"/>
                </a:lnTo>
                <a:lnTo>
                  <a:pt x="1725" y="0"/>
                </a:lnTo>
                <a:lnTo>
                  <a:pt x="2138" y="273"/>
                </a:lnTo>
                <a:lnTo>
                  <a:pt x="2504" y="2729"/>
                </a:lnTo>
                <a:lnTo>
                  <a:pt x="2611" y="3070"/>
                </a:lnTo>
                <a:lnTo>
                  <a:pt x="3012" y="1978"/>
                </a:lnTo>
                <a:lnTo>
                  <a:pt x="3095" y="750"/>
                </a:lnTo>
                <a:lnTo>
                  <a:pt x="3414" y="341"/>
                </a:lnTo>
                <a:lnTo>
                  <a:pt x="4076" y="4161"/>
                </a:lnTo>
                <a:lnTo>
                  <a:pt x="4442" y="3411"/>
                </a:lnTo>
                <a:lnTo>
                  <a:pt x="4950" y="9960"/>
                </a:lnTo>
                <a:lnTo>
                  <a:pt x="5470" y="8869"/>
                </a:lnTo>
                <a:lnTo>
                  <a:pt x="6367" y="8732"/>
                </a:lnTo>
                <a:lnTo>
                  <a:pt x="6367" y="8971"/>
                </a:lnTo>
                <a:lnTo>
                  <a:pt x="6745" y="10642"/>
                </a:lnTo>
                <a:lnTo>
                  <a:pt x="7159" y="10915"/>
                </a:lnTo>
                <a:lnTo>
                  <a:pt x="7454" y="10574"/>
                </a:lnTo>
                <a:lnTo>
                  <a:pt x="7856" y="7845"/>
                </a:lnTo>
                <a:lnTo>
                  <a:pt x="8376" y="5458"/>
                </a:lnTo>
                <a:lnTo>
                  <a:pt x="8718" y="6686"/>
                </a:lnTo>
                <a:lnTo>
                  <a:pt x="9037" y="6549"/>
                </a:lnTo>
                <a:lnTo>
                  <a:pt x="9439" y="4503"/>
                </a:lnTo>
                <a:lnTo>
                  <a:pt x="9947" y="4161"/>
                </a:lnTo>
                <a:lnTo>
                  <a:pt x="10443" y="4844"/>
                </a:lnTo>
                <a:lnTo>
                  <a:pt x="11234" y="5048"/>
                </a:lnTo>
                <a:lnTo>
                  <a:pt x="11660" y="4639"/>
                </a:lnTo>
                <a:lnTo>
                  <a:pt x="12345" y="6208"/>
                </a:lnTo>
                <a:lnTo>
                  <a:pt x="12794" y="9483"/>
                </a:lnTo>
                <a:lnTo>
                  <a:pt x="13562" y="12689"/>
                </a:lnTo>
                <a:lnTo>
                  <a:pt x="14271" y="10642"/>
                </a:lnTo>
                <a:lnTo>
                  <a:pt x="14778" y="8732"/>
                </a:lnTo>
                <a:lnTo>
                  <a:pt x="15074" y="8255"/>
                </a:lnTo>
                <a:lnTo>
                  <a:pt x="15653" y="8869"/>
                </a:lnTo>
                <a:lnTo>
                  <a:pt x="16125" y="12143"/>
                </a:lnTo>
                <a:lnTo>
                  <a:pt x="17177" y="19989"/>
                </a:lnTo>
                <a:lnTo>
                  <a:pt x="17602" y="13576"/>
                </a:lnTo>
                <a:lnTo>
                  <a:pt x="17791" y="13167"/>
                </a:lnTo>
                <a:lnTo>
                  <a:pt x="18157" y="13712"/>
                </a:lnTo>
                <a:lnTo>
                  <a:pt x="18606" y="16032"/>
                </a:lnTo>
                <a:lnTo>
                  <a:pt x="19161" y="15077"/>
                </a:lnTo>
                <a:lnTo>
                  <a:pt x="19173" y="14861"/>
                </a:lnTo>
                <a:lnTo>
                  <a:pt x="19409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98680" y="1311120"/>
            <a:ext cx="3805560" cy="1422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4350"/>
                </a:moveTo>
                <a:lnTo>
                  <a:pt x="194" y="13786"/>
                </a:lnTo>
                <a:lnTo>
                  <a:pt x="434" y="12407"/>
                </a:lnTo>
                <a:lnTo>
                  <a:pt x="550" y="9775"/>
                </a:lnTo>
                <a:lnTo>
                  <a:pt x="767" y="9650"/>
                </a:lnTo>
                <a:lnTo>
                  <a:pt x="818" y="10590"/>
                </a:lnTo>
                <a:lnTo>
                  <a:pt x="1012" y="12282"/>
                </a:lnTo>
                <a:lnTo>
                  <a:pt x="1201" y="13535"/>
                </a:lnTo>
                <a:lnTo>
                  <a:pt x="1377" y="12909"/>
                </a:lnTo>
                <a:lnTo>
                  <a:pt x="1571" y="14099"/>
                </a:lnTo>
                <a:lnTo>
                  <a:pt x="1788" y="12470"/>
                </a:lnTo>
                <a:lnTo>
                  <a:pt x="1903" y="9901"/>
                </a:lnTo>
                <a:lnTo>
                  <a:pt x="2005" y="7269"/>
                </a:lnTo>
                <a:lnTo>
                  <a:pt x="2171" y="6956"/>
                </a:lnTo>
                <a:lnTo>
                  <a:pt x="2365" y="8084"/>
                </a:lnTo>
                <a:lnTo>
                  <a:pt x="2504" y="9713"/>
                </a:lnTo>
                <a:lnTo>
                  <a:pt x="2721" y="10402"/>
                </a:lnTo>
                <a:lnTo>
                  <a:pt x="2851" y="10026"/>
                </a:lnTo>
                <a:lnTo>
                  <a:pt x="2966" y="8084"/>
                </a:lnTo>
                <a:lnTo>
                  <a:pt x="3091" y="9023"/>
                </a:lnTo>
                <a:lnTo>
                  <a:pt x="3423" y="12157"/>
                </a:lnTo>
                <a:lnTo>
                  <a:pt x="3835" y="10590"/>
                </a:lnTo>
                <a:lnTo>
                  <a:pt x="4320" y="8710"/>
                </a:lnTo>
                <a:lnTo>
                  <a:pt x="4537" y="9149"/>
                </a:lnTo>
                <a:lnTo>
                  <a:pt x="4754" y="10527"/>
                </a:lnTo>
                <a:lnTo>
                  <a:pt x="4796" y="12407"/>
                </a:lnTo>
                <a:lnTo>
                  <a:pt x="4805" y="12554"/>
                </a:lnTo>
                <a:lnTo>
                  <a:pt x="5064" y="15666"/>
                </a:lnTo>
                <a:lnTo>
                  <a:pt x="5304" y="16230"/>
                </a:lnTo>
                <a:lnTo>
                  <a:pt x="5498" y="15290"/>
                </a:lnTo>
                <a:lnTo>
                  <a:pt x="5715" y="14789"/>
                </a:lnTo>
                <a:lnTo>
                  <a:pt x="6122" y="14977"/>
                </a:lnTo>
                <a:lnTo>
                  <a:pt x="6505" y="13974"/>
                </a:lnTo>
                <a:lnTo>
                  <a:pt x="6681" y="10339"/>
                </a:lnTo>
                <a:lnTo>
                  <a:pt x="6851" y="7896"/>
                </a:lnTo>
                <a:lnTo>
                  <a:pt x="7207" y="6517"/>
                </a:lnTo>
                <a:lnTo>
                  <a:pt x="7240" y="6517"/>
                </a:lnTo>
                <a:lnTo>
                  <a:pt x="7641" y="6768"/>
                </a:lnTo>
                <a:lnTo>
                  <a:pt x="8025" y="8209"/>
                </a:lnTo>
                <a:lnTo>
                  <a:pt x="8487" y="9399"/>
                </a:lnTo>
                <a:lnTo>
                  <a:pt x="8972" y="7708"/>
                </a:lnTo>
                <a:lnTo>
                  <a:pt x="9046" y="5702"/>
                </a:lnTo>
                <a:lnTo>
                  <a:pt x="9263" y="4637"/>
                </a:lnTo>
                <a:lnTo>
                  <a:pt x="9499" y="6266"/>
                </a:lnTo>
                <a:lnTo>
                  <a:pt x="9503" y="6517"/>
                </a:lnTo>
                <a:lnTo>
                  <a:pt x="9841" y="11154"/>
                </a:lnTo>
                <a:lnTo>
                  <a:pt x="10081" y="9587"/>
                </a:lnTo>
                <a:lnTo>
                  <a:pt x="10340" y="10026"/>
                </a:lnTo>
                <a:lnTo>
                  <a:pt x="10464" y="13034"/>
                </a:lnTo>
                <a:lnTo>
                  <a:pt x="10825" y="18360"/>
                </a:lnTo>
                <a:lnTo>
                  <a:pt x="11143" y="19990"/>
                </a:lnTo>
                <a:lnTo>
                  <a:pt x="11425" y="18862"/>
                </a:lnTo>
                <a:lnTo>
                  <a:pt x="11467" y="18736"/>
                </a:lnTo>
                <a:lnTo>
                  <a:pt x="11795" y="14350"/>
                </a:lnTo>
                <a:lnTo>
                  <a:pt x="12128" y="11217"/>
                </a:lnTo>
                <a:lnTo>
                  <a:pt x="12395" y="12595"/>
                </a:lnTo>
                <a:lnTo>
                  <a:pt x="12460" y="15290"/>
                </a:lnTo>
                <a:lnTo>
                  <a:pt x="12636" y="16167"/>
                </a:lnTo>
                <a:lnTo>
                  <a:pt x="12853" y="15415"/>
                </a:lnTo>
                <a:lnTo>
                  <a:pt x="13070" y="12533"/>
                </a:lnTo>
                <a:lnTo>
                  <a:pt x="13329" y="14099"/>
                </a:lnTo>
                <a:lnTo>
                  <a:pt x="13329" y="16042"/>
                </a:lnTo>
                <a:lnTo>
                  <a:pt x="13624" y="17734"/>
                </a:lnTo>
                <a:lnTo>
                  <a:pt x="13980" y="16668"/>
                </a:lnTo>
                <a:lnTo>
                  <a:pt x="14156" y="13410"/>
                </a:lnTo>
                <a:lnTo>
                  <a:pt x="14327" y="10089"/>
                </a:lnTo>
                <a:lnTo>
                  <a:pt x="14710" y="8397"/>
                </a:lnTo>
                <a:lnTo>
                  <a:pt x="14719" y="8554"/>
                </a:lnTo>
                <a:lnTo>
                  <a:pt x="14927" y="9399"/>
                </a:lnTo>
                <a:lnTo>
                  <a:pt x="15144" y="6266"/>
                </a:lnTo>
                <a:lnTo>
                  <a:pt x="15260" y="627"/>
                </a:lnTo>
                <a:lnTo>
                  <a:pt x="15477" y="0"/>
                </a:lnTo>
                <a:lnTo>
                  <a:pt x="15602" y="1755"/>
                </a:lnTo>
                <a:lnTo>
                  <a:pt x="15870" y="5577"/>
                </a:lnTo>
                <a:lnTo>
                  <a:pt x="16128" y="7770"/>
                </a:lnTo>
                <a:lnTo>
                  <a:pt x="16447" y="7457"/>
                </a:lnTo>
                <a:lnTo>
                  <a:pt x="16563" y="6642"/>
                </a:lnTo>
                <a:lnTo>
                  <a:pt x="16687" y="7833"/>
                </a:lnTo>
                <a:lnTo>
                  <a:pt x="16808" y="12533"/>
                </a:lnTo>
                <a:lnTo>
                  <a:pt x="16808" y="12627"/>
                </a:lnTo>
                <a:lnTo>
                  <a:pt x="16932" y="13222"/>
                </a:lnTo>
                <a:lnTo>
                  <a:pt x="17122" y="12783"/>
                </a:lnTo>
                <a:lnTo>
                  <a:pt x="17357" y="10527"/>
                </a:lnTo>
                <a:lnTo>
                  <a:pt x="17533" y="14350"/>
                </a:lnTo>
                <a:lnTo>
                  <a:pt x="17842" y="17170"/>
                </a:lnTo>
                <a:lnTo>
                  <a:pt x="18134" y="16480"/>
                </a:lnTo>
                <a:lnTo>
                  <a:pt x="18392" y="17734"/>
                </a:lnTo>
                <a:lnTo>
                  <a:pt x="18896" y="15728"/>
                </a:lnTo>
                <a:lnTo>
                  <a:pt x="19196" y="12470"/>
                </a:lnTo>
                <a:lnTo>
                  <a:pt x="19446" y="14601"/>
                </a:lnTo>
                <a:lnTo>
                  <a:pt x="19496" y="19300"/>
                </a:lnTo>
                <a:lnTo>
                  <a:pt x="19995" y="162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282840" y="2514600"/>
            <a:ext cx="714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9580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791240" y="1531800"/>
            <a:ext cx="1498320" cy="149256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298680" y="1774800"/>
            <a:ext cx="1498680" cy="690480"/>
          </a:xfrm>
          <a:custGeom>
            <a:avLst/>
            <a:gdLst/>
            <a:ahLst/>
            <a:rect l="l" t="t" r="r" b="b"/>
            <a:pathLst>
              <a:path w="944" h="435">
                <a:moveTo>
                  <a:pt x="0" y="351"/>
                </a:moveTo>
                <a:lnTo>
                  <a:pt x="23" y="326"/>
                </a:lnTo>
                <a:lnTo>
                  <a:pt x="52" y="264"/>
                </a:lnTo>
                <a:lnTo>
                  <a:pt x="66" y="146"/>
                </a:lnTo>
                <a:lnTo>
                  <a:pt x="92" y="140"/>
                </a:lnTo>
                <a:lnTo>
                  <a:pt x="98" y="182"/>
                </a:lnTo>
                <a:lnTo>
                  <a:pt x="121" y="258"/>
                </a:lnTo>
                <a:lnTo>
                  <a:pt x="144" y="314"/>
                </a:lnTo>
                <a:lnTo>
                  <a:pt x="165" y="286"/>
                </a:lnTo>
                <a:lnTo>
                  <a:pt x="188" y="340"/>
                </a:lnTo>
                <a:lnTo>
                  <a:pt x="214" y="267"/>
                </a:lnTo>
                <a:lnTo>
                  <a:pt x="228" y="152"/>
                </a:lnTo>
                <a:lnTo>
                  <a:pt x="240" y="34"/>
                </a:lnTo>
                <a:lnTo>
                  <a:pt x="260" y="20"/>
                </a:lnTo>
                <a:lnTo>
                  <a:pt x="283" y="70"/>
                </a:lnTo>
                <a:lnTo>
                  <a:pt x="300" y="143"/>
                </a:lnTo>
                <a:lnTo>
                  <a:pt x="326" y="174"/>
                </a:lnTo>
                <a:lnTo>
                  <a:pt x="342" y="157"/>
                </a:lnTo>
                <a:lnTo>
                  <a:pt x="355" y="70"/>
                </a:lnTo>
                <a:lnTo>
                  <a:pt x="370" y="112"/>
                </a:lnTo>
                <a:lnTo>
                  <a:pt x="410" y="253"/>
                </a:lnTo>
                <a:lnTo>
                  <a:pt x="460" y="182"/>
                </a:lnTo>
                <a:lnTo>
                  <a:pt x="518" y="98"/>
                </a:lnTo>
                <a:lnTo>
                  <a:pt x="544" y="118"/>
                </a:lnTo>
                <a:lnTo>
                  <a:pt x="570" y="180"/>
                </a:lnTo>
                <a:lnTo>
                  <a:pt x="575" y="264"/>
                </a:lnTo>
                <a:lnTo>
                  <a:pt x="576" y="270"/>
                </a:lnTo>
                <a:lnTo>
                  <a:pt x="607" y="410"/>
                </a:lnTo>
                <a:lnTo>
                  <a:pt x="636" y="435"/>
                </a:lnTo>
                <a:lnTo>
                  <a:pt x="659" y="393"/>
                </a:lnTo>
                <a:lnTo>
                  <a:pt x="685" y="371"/>
                </a:lnTo>
                <a:lnTo>
                  <a:pt x="734" y="379"/>
                </a:lnTo>
                <a:lnTo>
                  <a:pt x="780" y="334"/>
                </a:lnTo>
                <a:lnTo>
                  <a:pt x="801" y="171"/>
                </a:lnTo>
                <a:lnTo>
                  <a:pt x="821" y="62"/>
                </a:lnTo>
                <a:lnTo>
                  <a:pt x="864" y="0"/>
                </a:lnTo>
                <a:lnTo>
                  <a:pt x="868" y="0"/>
                </a:lnTo>
                <a:lnTo>
                  <a:pt x="916" y="11"/>
                </a:lnTo>
                <a:lnTo>
                  <a:pt x="944" y="48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782960" y="1311120"/>
            <a:ext cx="1505160" cy="1422720"/>
          </a:xfrm>
          <a:custGeom>
            <a:avLst/>
            <a:gdLst/>
            <a:ahLst/>
            <a:rect l="l" t="t" r="r" b="b"/>
            <a:pathLst>
              <a:path w="948" h="896">
                <a:moveTo>
                  <a:pt x="0" y="331"/>
                </a:moveTo>
                <a:lnTo>
                  <a:pt x="26" y="368"/>
                </a:lnTo>
                <a:lnTo>
                  <a:pt x="81" y="421"/>
                </a:lnTo>
                <a:lnTo>
                  <a:pt x="139" y="345"/>
                </a:lnTo>
                <a:lnTo>
                  <a:pt x="148" y="255"/>
                </a:lnTo>
                <a:lnTo>
                  <a:pt x="174" y="208"/>
                </a:lnTo>
                <a:lnTo>
                  <a:pt x="202" y="281"/>
                </a:lnTo>
                <a:lnTo>
                  <a:pt x="203" y="292"/>
                </a:lnTo>
                <a:lnTo>
                  <a:pt x="243" y="500"/>
                </a:lnTo>
                <a:lnTo>
                  <a:pt x="272" y="429"/>
                </a:lnTo>
                <a:lnTo>
                  <a:pt x="303" y="449"/>
                </a:lnTo>
                <a:lnTo>
                  <a:pt x="318" y="584"/>
                </a:lnTo>
                <a:lnTo>
                  <a:pt x="361" y="823"/>
                </a:lnTo>
                <a:lnTo>
                  <a:pt x="399" y="896"/>
                </a:lnTo>
                <a:lnTo>
                  <a:pt x="433" y="845"/>
                </a:lnTo>
                <a:lnTo>
                  <a:pt x="438" y="839"/>
                </a:lnTo>
                <a:lnTo>
                  <a:pt x="478" y="643"/>
                </a:lnTo>
                <a:lnTo>
                  <a:pt x="518" y="503"/>
                </a:lnTo>
                <a:lnTo>
                  <a:pt x="550" y="564"/>
                </a:lnTo>
                <a:lnTo>
                  <a:pt x="557" y="685"/>
                </a:lnTo>
                <a:lnTo>
                  <a:pt x="578" y="724"/>
                </a:lnTo>
                <a:lnTo>
                  <a:pt x="604" y="691"/>
                </a:lnTo>
                <a:lnTo>
                  <a:pt x="630" y="561"/>
                </a:lnTo>
                <a:lnTo>
                  <a:pt x="661" y="632"/>
                </a:lnTo>
                <a:lnTo>
                  <a:pt x="661" y="719"/>
                </a:lnTo>
                <a:lnTo>
                  <a:pt x="697" y="794"/>
                </a:lnTo>
                <a:lnTo>
                  <a:pt x="740" y="747"/>
                </a:lnTo>
                <a:lnTo>
                  <a:pt x="761" y="601"/>
                </a:lnTo>
                <a:lnTo>
                  <a:pt x="781" y="452"/>
                </a:lnTo>
                <a:lnTo>
                  <a:pt x="827" y="376"/>
                </a:lnTo>
                <a:lnTo>
                  <a:pt x="828" y="383"/>
                </a:lnTo>
                <a:lnTo>
                  <a:pt x="853" y="421"/>
                </a:lnTo>
                <a:lnTo>
                  <a:pt x="879" y="281"/>
                </a:lnTo>
                <a:lnTo>
                  <a:pt x="893" y="28"/>
                </a:lnTo>
                <a:lnTo>
                  <a:pt x="919" y="0"/>
                </a:lnTo>
                <a:lnTo>
                  <a:pt x="934" y="79"/>
                </a:lnTo>
                <a:lnTo>
                  <a:pt x="948" y="157"/>
                </a:ln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043520" y="3004920"/>
            <a:ext cx="2563560" cy="1371960"/>
            <a:chOff x="4043520" y="3004920"/>
            <a:chExt cx="2563560" cy="1371960"/>
          </a:xfrm>
        </p:grpSpPr>
        <p:sp>
          <p:nvSpPr>
            <p:cNvPr id="853" name=""/>
            <p:cNvSpPr/>
            <p:nvPr/>
          </p:nvSpPr>
          <p:spPr>
            <a:xfrm flipH="1" flipV="1">
              <a:off x="4043520" y="3004560"/>
              <a:ext cx="13708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43520" y="3021120"/>
              <a:ext cx="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724280" y="4376880"/>
              <a:ext cx="18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557440" y="3024360"/>
            <a:ext cx="4043520" cy="1857240"/>
            <a:chOff x="2557440" y="3024360"/>
            <a:chExt cx="4043520" cy="1857240"/>
          </a:xfrm>
        </p:grpSpPr>
        <p:sp>
          <p:nvSpPr>
            <p:cNvPr id="857" name=""/>
            <p:cNvSpPr/>
            <p:nvPr/>
          </p:nvSpPr>
          <p:spPr>
            <a:xfrm flipH="1" flipV="1">
              <a:off x="2557440" y="3509280"/>
              <a:ext cx="13708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57440" y="3024360"/>
              <a:ext cx="0" cy="11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38560" y="4881600"/>
              <a:ext cx="336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543640" y="2499840"/>
            <a:ext cx="1370880" cy="1371960"/>
            <a:chOff x="5543640" y="2499840"/>
            <a:chExt cx="1370880" cy="1371960"/>
          </a:xfrm>
        </p:grpSpPr>
        <p:sp>
          <p:nvSpPr>
            <p:cNvPr id="861" name=""/>
            <p:cNvSpPr/>
            <p:nvPr/>
          </p:nvSpPr>
          <p:spPr>
            <a:xfrm flipH="1" flipV="1">
              <a:off x="5543640" y="2499480"/>
              <a:ext cx="13708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543640" y="3027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24760" y="3871800"/>
              <a:ext cx="38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6570720" y="3692520"/>
            <a:ext cx="1522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spectr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570720" y="4229280"/>
            <a:ext cx="1522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Arial"/>
              </a:rPr>
              <a:t>Espectr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70720" y="4722840"/>
            <a:ext cx="1522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spectr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15120" y="5167440"/>
            <a:ext cx="260280" cy="520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70720" y="5740560"/>
            <a:ext cx="15224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spectro pro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9EC-EA06-4E16-9506-EBDDB045C021}" type="slidenum">
              <a:t>59</a:t>
            </a:fld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579680" y="1346040"/>
            <a:ext cx="6338880" cy="3623760"/>
            <a:chOff x="1579680" y="1346040"/>
            <a:chExt cx="6338880" cy="3623760"/>
          </a:xfrm>
        </p:grpSpPr>
        <p:sp>
          <p:nvSpPr>
            <p:cNvPr id="62" name=""/>
            <p:cNvSpPr/>
            <p:nvPr/>
          </p:nvSpPr>
          <p:spPr>
            <a:xfrm flipV="1">
              <a:off x="1901880" y="1709280"/>
              <a:ext cx="0" cy="32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0120" y="4748040"/>
              <a:ext cx="579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1880" y="2323800"/>
              <a:ext cx="526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1879560" y="2180880"/>
              <a:ext cx="5170320" cy="284400"/>
              <a:chOff x="1879560" y="2180880"/>
              <a:chExt cx="5170320" cy="2844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879560" y="2180880"/>
                <a:ext cx="864720" cy="284400"/>
                <a:chOff x="1879560" y="2180880"/>
                <a:chExt cx="864720" cy="28440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1879560" y="2180880"/>
                  <a:ext cx="430200" cy="284400"/>
                  <a:chOff x="1879560" y="2180880"/>
                  <a:chExt cx="430200" cy="2844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187956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8720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209880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220212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2311560" y="2180880"/>
                  <a:ext cx="432720" cy="284400"/>
                  <a:chOff x="2311560" y="2180880"/>
                  <a:chExt cx="432720" cy="28440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231156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41920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53080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63664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"/>
              <p:cNvGrpSpPr/>
              <p:nvPr/>
            </p:nvGrpSpPr>
            <p:grpSpPr>
              <a:xfrm>
                <a:off x="2739600" y="2180880"/>
                <a:ext cx="864720" cy="284400"/>
                <a:chOff x="2739600" y="2180880"/>
                <a:chExt cx="864720" cy="284400"/>
              </a:xfrm>
            </p:grpSpPr>
            <p:grpSp>
              <p:nvGrpSpPr>
                <p:cNvPr id="78" name=""/>
                <p:cNvGrpSpPr/>
                <p:nvPr/>
              </p:nvGrpSpPr>
              <p:grpSpPr>
                <a:xfrm>
                  <a:off x="2739600" y="2180880"/>
                  <a:ext cx="432000" cy="284400"/>
                  <a:chOff x="2739600" y="2180880"/>
                  <a:chExt cx="432000" cy="2844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273960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284724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95884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06396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3170520" y="2180880"/>
                  <a:ext cx="433800" cy="284400"/>
                  <a:chOff x="3170520" y="2180880"/>
                  <a:chExt cx="433800" cy="28440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317052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327924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339084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49668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3598920" y="2180880"/>
                <a:ext cx="861840" cy="284400"/>
                <a:chOff x="3598920" y="2180880"/>
                <a:chExt cx="861840" cy="28440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3598920" y="2180880"/>
                  <a:ext cx="429480" cy="284400"/>
                  <a:chOff x="3598920" y="2180880"/>
                  <a:chExt cx="429480" cy="28440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359892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70440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811320" y="2322720"/>
                    <a:ext cx="1083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92076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028400" y="2180880"/>
                  <a:ext cx="432360" cy="284400"/>
                  <a:chOff x="4028400" y="2180880"/>
                  <a:chExt cx="432360" cy="2844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02840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413784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242600" y="2322720"/>
                    <a:ext cx="1083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435312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" name=""/>
              <p:cNvGrpSpPr/>
              <p:nvPr/>
            </p:nvGrpSpPr>
            <p:grpSpPr>
              <a:xfrm>
                <a:off x="4458240" y="2180880"/>
                <a:ext cx="864720" cy="284400"/>
                <a:chOff x="4458240" y="2180880"/>
                <a:chExt cx="864720" cy="2844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4458240" y="2180880"/>
                  <a:ext cx="430200" cy="284400"/>
                  <a:chOff x="4458240" y="2180880"/>
                  <a:chExt cx="430200" cy="2844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445824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56516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67208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78080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4888440" y="2180880"/>
                  <a:ext cx="434520" cy="284400"/>
                  <a:chOff x="4888440" y="2180880"/>
                  <a:chExt cx="434520" cy="28440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488844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499788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10480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1532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5320080" y="2180880"/>
                <a:ext cx="864720" cy="284400"/>
                <a:chOff x="5320080" y="2180880"/>
                <a:chExt cx="864720" cy="284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320080" y="21808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427720" y="21808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536440" y="23223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645160" y="2322360"/>
                  <a:ext cx="10728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" name=""/>
                <p:cNvGrpSpPr/>
                <p:nvPr/>
              </p:nvGrpSpPr>
              <p:grpSpPr>
                <a:xfrm>
                  <a:off x="5751000" y="2180880"/>
                  <a:ext cx="433800" cy="284400"/>
                  <a:chOff x="5751000" y="2180880"/>
                  <a:chExt cx="433800" cy="28440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575100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859720" y="2180880"/>
                    <a:ext cx="10872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5966640" y="2322720"/>
                    <a:ext cx="1087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607716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6186600" y="2180880"/>
                <a:ext cx="863280" cy="284400"/>
                <a:chOff x="6186600" y="2180880"/>
                <a:chExt cx="863280" cy="2844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186600" y="2180880"/>
                  <a:ext cx="430560" cy="284400"/>
                  <a:chOff x="6186600" y="2180880"/>
                  <a:chExt cx="430560" cy="2844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18660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29424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400080" y="2322720"/>
                    <a:ext cx="1083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50952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6616440" y="2180880"/>
                  <a:ext cx="433440" cy="284400"/>
                  <a:chOff x="6616440" y="2180880"/>
                  <a:chExt cx="433440" cy="28440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661644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19980"/>
                        </a:moveTo>
                        <a:lnTo>
                          <a:pt x="1197" y="18394"/>
                        </a:lnTo>
                        <a:lnTo>
                          <a:pt x="2051" y="16650"/>
                        </a:lnTo>
                        <a:lnTo>
                          <a:pt x="2735" y="15461"/>
                        </a:lnTo>
                        <a:lnTo>
                          <a:pt x="3761" y="13796"/>
                        </a:lnTo>
                        <a:lnTo>
                          <a:pt x="4615" y="12250"/>
                        </a:lnTo>
                        <a:lnTo>
                          <a:pt x="5812" y="10942"/>
                        </a:lnTo>
                        <a:lnTo>
                          <a:pt x="6667" y="9633"/>
                        </a:lnTo>
                        <a:lnTo>
                          <a:pt x="7863" y="8325"/>
                        </a:lnTo>
                        <a:lnTo>
                          <a:pt x="8547" y="7096"/>
                        </a:lnTo>
                        <a:lnTo>
                          <a:pt x="10256" y="5946"/>
                        </a:lnTo>
                        <a:lnTo>
                          <a:pt x="11111" y="4876"/>
                        </a:lnTo>
                        <a:lnTo>
                          <a:pt x="11966" y="3925"/>
                        </a:lnTo>
                        <a:lnTo>
                          <a:pt x="12821" y="3092"/>
                        </a:lnTo>
                        <a:lnTo>
                          <a:pt x="14017" y="2379"/>
                        </a:lnTo>
                        <a:lnTo>
                          <a:pt x="15214" y="1546"/>
                        </a:lnTo>
                        <a:lnTo>
                          <a:pt x="16239" y="951"/>
                        </a:lnTo>
                        <a:lnTo>
                          <a:pt x="16752" y="595"/>
                        </a:lnTo>
                        <a:lnTo>
                          <a:pt x="17949" y="238"/>
                        </a:lnTo>
                        <a:lnTo>
                          <a:pt x="18803" y="0"/>
                        </a:lnTo>
                        <a:lnTo>
                          <a:pt x="19829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726960" y="2180880"/>
                    <a:ext cx="1083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980"/>
                        </a:moveTo>
                        <a:lnTo>
                          <a:pt x="18803" y="18394"/>
                        </a:lnTo>
                        <a:lnTo>
                          <a:pt x="17778" y="16947"/>
                        </a:lnTo>
                        <a:lnTo>
                          <a:pt x="16752" y="15461"/>
                        </a:lnTo>
                        <a:lnTo>
                          <a:pt x="16068" y="13796"/>
                        </a:lnTo>
                        <a:lnTo>
                          <a:pt x="15214" y="12250"/>
                        </a:lnTo>
                        <a:lnTo>
                          <a:pt x="14017" y="10942"/>
                        </a:lnTo>
                        <a:lnTo>
                          <a:pt x="12821" y="9633"/>
                        </a:lnTo>
                        <a:lnTo>
                          <a:pt x="11966" y="8325"/>
                        </a:lnTo>
                        <a:lnTo>
                          <a:pt x="11111" y="7096"/>
                        </a:lnTo>
                        <a:lnTo>
                          <a:pt x="10256" y="6065"/>
                        </a:lnTo>
                        <a:lnTo>
                          <a:pt x="8547" y="4876"/>
                        </a:lnTo>
                        <a:lnTo>
                          <a:pt x="7863" y="3925"/>
                        </a:lnTo>
                        <a:lnTo>
                          <a:pt x="6838" y="3211"/>
                        </a:lnTo>
                        <a:lnTo>
                          <a:pt x="5812" y="2379"/>
                        </a:lnTo>
                        <a:lnTo>
                          <a:pt x="4615" y="1546"/>
                        </a:lnTo>
                        <a:lnTo>
                          <a:pt x="3590" y="951"/>
                        </a:lnTo>
                        <a:lnTo>
                          <a:pt x="2735" y="595"/>
                        </a:lnTo>
                        <a:lnTo>
                          <a:pt x="1880" y="238"/>
                        </a:lnTo>
                        <a:lnTo>
                          <a:pt x="85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832800" y="2322720"/>
                    <a:ext cx="1083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197" y="1773"/>
                        </a:lnTo>
                        <a:lnTo>
                          <a:pt x="1880" y="3192"/>
                        </a:lnTo>
                        <a:lnTo>
                          <a:pt x="2564" y="4611"/>
                        </a:lnTo>
                        <a:lnTo>
                          <a:pt x="3761" y="6384"/>
                        </a:lnTo>
                        <a:lnTo>
                          <a:pt x="5128" y="7921"/>
                        </a:lnTo>
                        <a:lnTo>
                          <a:pt x="5812" y="9103"/>
                        </a:lnTo>
                        <a:lnTo>
                          <a:pt x="6667" y="10404"/>
                        </a:lnTo>
                        <a:lnTo>
                          <a:pt x="7521" y="11704"/>
                        </a:lnTo>
                        <a:lnTo>
                          <a:pt x="8547" y="13005"/>
                        </a:lnTo>
                        <a:lnTo>
                          <a:pt x="10256" y="14187"/>
                        </a:lnTo>
                        <a:lnTo>
                          <a:pt x="11111" y="15133"/>
                        </a:lnTo>
                        <a:lnTo>
                          <a:pt x="11966" y="16079"/>
                        </a:lnTo>
                        <a:lnTo>
                          <a:pt x="12821" y="16906"/>
                        </a:lnTo>
                        <a:lnTo>
                          <a:pt x="14017" y="17734"/>
                        </a:lnTo>
                        <a:lnTo>
                          <a:pt x="15214" y="18443"/>
                        </a:lnTo>
                        <a:lnTo>
                          <a:pt x="16239" y="19034"/>
                        </a:lnTo>
                        <a:lnTo>
                          <a:pt x="16752" y="19389"/>
                        </a:lnTo>
                        <a:lnTo>
                          <a:pt x="17778" y="19744"/>
                        </a:lnTo>
                        <a:lnTo>
                          <a:pt x="18803" y="19980"/>
                        </a:lnTo>
                        <a:lnTo>
                          <a:pt x="19829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942240" y="2322720"/>
                    <a:ext cx="10764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8" y="0"/>
                        </a:moveTo>
                        <a:lnTo>
                          <a:pt x="18793" y="1655"/>
                        </a:lnTo>
                        <a:lnTo>
                          <a:pt x="18103" y="3133"/>
                        </a:lnTo>
                        <a:lnTo>
                          <a:pt x="17414" y="4611"/>
                        </a:lnTo>
                        <a:lnTo>
                          <a:pt x="16379" y="6266"/>
                        </a:lnTo>
                        <a:lnTo>
                          <a:pt x="15345" y="7921"/>
                        </a:lnTo>
                        <a:lnTo>
                          <a:pt x="14138" y="9103"/>
                        </a:lnTo>
                        <a:lnTo>
                          <a:pt x="13276" y="10404"/>
                        </a:lnTo>
                        <a:lnTo>
                          <a:pt x="12414" y="11704"/>
                        </a:lnTo>
                        <a:lnTo>
                          <a:pt x="11379" y="12926"/>
                        </a:lnTo>
                        <a:lnTo>
                          <a:pt x="10345" y="14030"/>
                        </a:lnTo>
                        <a:lnTo>
                          <a:pt x="9138" y="15133"/>
                        </a:lnTo>
                        <a:lnTo>
                          <a:pt x="8103" y="15842"/>
                        </a:lnTo>
                        <a:lnTo>
                          <a:pt x="7241" y="16906"/>
                        </a:lnTo>
                        <a:lnTo>
                          <a:pt x="6034" y="17734"/>
                        </a:lnTo>
                        <a:lnTo>
                          <a:pt x="4655" y="18443"/>
                        </a:lnTo>
                        <a:lnTo>
                          <a:pt x="3621" y="19034"/>
                        </a:lnTo>
                        <a:lnTo>
                          <a:pt x="2759" y="19389"/>
                        </a:lnTo>
                        <a:lnTo>
                          <a:pt x="2069" y="19744"/>
                        </a:lnTo>
                        <a:lnTo>
                          <a:pt x="862" y="19980"/>
                        </a:lnTo>
                        <a:lnTo>
                          <a:pt x="0" y="1998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1" name=""/>
            <p:cNvSpPr/>
            <p:nvPr/>
          </p:nvSpPr>
          <p:spPr>
            <a:xfrm>
              <a:off x="7535880" y="4528800"/>
              <a:ext cx="3826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79680" y="2141280"/>
              <a:ext cx="3823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55640" y="1346040"/>
              <a:ext cx="544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A1F-45AB-4023-8A8B-BECAB0042CC4}" type="slidenum">
              <a:t>6</a:t>
            </a:fld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ólo sirve para señal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almente estab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el tiempo, o para las cuales no importen las variaciones instantán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8C1-DE06-4A7A-93AC-B2954E4A4480}" type="slidenum">
              <a:t>60</a:t>
            </a:fld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 flipH="1">
            <a:off x="685800" y="1274760"/>
            <a:ext cx="777240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Los espectr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FT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o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plej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ya que representa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as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El promedio se hace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mplitu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módulo) o bien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ergí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(módulo al cuadrad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8C5-DD2D-4A0E-9263-C327373CA367}" type="slidenum">
              <a:t>61</a:t>
            </a:fld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 flipH="1">
            <a:off x="685800" y="979560"/>
            <a:ext cx="77724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segundo proble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267680" y="3833640"/>
            <a:ext cx="515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1801800" y="3061800"/>
            <a:ext cx="0" cy="176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76520" y="3995640"/>
            <a:ext cx="57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801800" y="3330720"/>
            <a:ext cx="1500120" cy="13078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297240" y="3327480"/>
            <a:ext cx="1500120" cy="13078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07080" y="3327480"/>
            <a:ext cx="1500120" cy="130788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3297240" y="368460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4807080" y="3684600"/>
            <a:ext cx="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463760" y="2746440"/>
            <a:ext cx="73476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303960" y="3327480"/>
            <a:ext cx="746280" cy="714240"/>
          </a:xfrm>
          <a:custGeom>
            <a:avLst/>
            <a:gdLst/>
            <a:ahLst/>
            <a:rect l="l" t="t" r="r" b="b"/>
            <a:pathLst>
              <a:path w="849" h="731">
                <a:moveTo>
                  <a:pt x="0" y="370"/>
                </a:moveTo>
                <a:lnTo>
                  <a:pt x="61" y="224"/>
                </a:lnTo>
                <a:lnTo>
                  <a:pt x="115" y="50"/>
                </a:lnTo>
                <a:lnTo>
                  <a:pt x="147" y="0"/>
                </a:lnTo>
                <a:lnTo>
                  <a:pt x="183" y="18"/>
                </a:lnTo>
                <a:lnTo>
                  <a:pt x="213" y="183"/>
                </a:lnTo>
                <a:lnTo>
                  <a:pt x="220" y="206"/>
                </a:lnTo>
                <a:lnTo>
                  <a:pt x="255" y="132"/>
                </a:lnTo>
                <a:lnTo>
                  <a:pt x="263" y="50"/>
                </a:lnTo>
                <a:lnTo>
                  <a:pt x="291" y="23"/>
                </a:lnTo>
                <a:lnTo>
                  <a:pt x="348" y="279"/>
                </a:lnTo>
                <a:lnTo>
                  <a:pt x="380" y="228"/>
                </a:lnTo>
                <a:lnTo>
                  <a:pt x="425" y="667"/>
                </a:lnTo>
                <a:lnTo>
                  <a:pt x="465" y="594"/>
                </a:lnTo>
                <a:lnTo>
                  <a:pt x="543" y="585"/>
                </a:lnTo>
                <a:lnTo>
                  <a:pt x="543" y="601"/>
                </a:lnTo>
                <a:lnTo>
                  <a:pt x="576" y="712"/>
                </a:lnTo>
                <a:lnTo>
                  <a:pt x="612" y="731"/>
                </a:lnTo>
                <a:lnTo>
                  <a:pt x="638" y="708"/>
                </a:lnTo>
                <a:lnTo>
                  <a:pt x="670" y="525"/>
                </a:lnTo>
                <a:lnTo>
                  <a:pt x="713" y="365"/>
                </a:lnTo>
                <a:lnTo>
                  <a:pt x="742" y="448"/>
                </a:lnTo>
                <a:lnTo>
                  <a:pt x="769" y="438"/>
                </a:lnTo>
                <a:lnTo>
                  <a:pt x="805" y="301"/>
                </a:lnTo>
                <a:lnTo>
                  <a:pt x="849" y="279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6303960" y="3684600"/>
            <a:ext cx="1440" cy="35712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236760" y="4019400"/>
            <a:ext cx="2685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799160" y="4019400"/>
            <a:ext cx="2696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307200" y="4019400"/>
            <a:ext cx="26964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01800" y="3247920"/>
            <a:ext cx="1498680" cy="149400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946240" y="3533760"/>
            <a:ext cx="695520" cy="6955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422520" y="4714920"/>
            <a:ext cx="4308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Este salto no estaba en la señal original y agrega contenido espectral espu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DB2-A964-445C-858E-B2F5665FCF3F}" type="slidenum">
              <a:t>62</a:t>
            </a:fld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.. trae aparejada la introduc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ponentes espectr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no presentes en la señal original, especialmente e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a frecuenc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415-3298-4777-B003-C131FB3FBF8B}" type="slidenum">
              <a:t>63</a:t>
            </a:fld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73080" y="1438200"/>
            <a:ext cx="8997840" cy="478008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 flipH="1">
            <a:off x="1859040" y="596880"/>
            <a:ext cx="54259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Tono de 440 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9B56-461F-4619-8E03-1568FBA96ED6}" type="slidenum">
              <a:t>64</a:t>
            </a:fld>
          </a:p>
        </p:txBody>
      </p:sp>
    </p:spTree>
  </p:cSld>
  <p:transition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e fenómeno se conoce com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rrame espectral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s-ES_tradnl" sz="4000" spc="-1" strike="noStrike">
                <a:solidFill>
                  <a:srgbClr val="333399"/>
                </a:solidFill>
                <a:latin typeface="Arial"/>
              </a:rPr>
              <a:t>spectral leakag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11B-1D00-4811-B5B4-251B9408C5D7}" type="slidenum">
              <a:t>65</a:t>
            </a:fld>
          </a:p>
        </p:txBody>
      </p:sp>
    </p:spTree>
  </p:cSld>
  <p:transition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resuelve multiplicando por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unción “ventana”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atenúa la señal en los bor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3B0-82FB-4F9B-BCD1-7C8F2B77BE7B}" type="slidenum">
              <a:t>66</a:t>
            </a:fld>
          </a:p>
        </p:txBody>
      </p:sp>
    </p:spTree>
  </p:cSld>
  <p:transition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930240" y="1015920"/>
            <a:ext cx="2405160" cy="15098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238960" y="1536840"/>
            <a:ext cx="316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939960" y="826920"/>
            <a:ext cx="0" cy="178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25560" y="1098720"/>
            <a:ext cx="2435040" cy="13237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5526"/>
                </a:moveTo>
                <a:lnTo>
                  <a:pt x="715" y="3343"/>
                </a:lnTo>
                <a:lnTo>
                  <a:pt x="1347" y="750"/>
                </a:lnTo>
                <a:lnTo>
                  <a:pt x="1722" y="0"/>
                </a:lnTo>
                <a:lnTo>
                  <a:pt x="2144" y="273"/>
                </a:lnTo>
                <a:lnTo>
                  <a:pt x="2496" y="2729"/>
                </a:lnTo>
                <a:lnTo>
                  <a:pt x="2578" y="3070"/>
                </a:lnTo>
                <a:lnTo>
                  <a:pt x="2988" y="1978"/>
                </a:lnTo>
                <a:lnTo>
                  <a:pt x="3081" y="750"/>
                </a:lnTo>
                <a:lnTo>
                  <a:pt x="3409" y="341"/>
                </a:lnTo>
                <a:lnTo>
                  <a:pt x="4077" y="4161"/>
                </a:lnTo>
                <a:lnTo>
                  <a:pt x="4452" y="3411"/>
                </a:lnTo>
                <a:lnTo>
                  <a:pt x="4979" y="9960"/>
                </a:lnTo>
                <a:lnTo>
                  <a:pt x="5448" y="8869"/>
                </a:lnTo>
                <a:lnTo>
                  <a:pt x="6362" y="8732"/>
                </a:lnTo>
                <a:lnTo>
                  <a:pt x="6362" y="8971"/>
                </a:lnTo>
                <a:lnTo>
                  <a:pt x="6749" y="10642"/>
                </a:lnTo>
                <a:lnTo>
                  <a:pt x="7170" y="10915"/>
                </a:lnTo>
                <a:lnTo>
                  <a:pt x="7475" y="10574"/>
                </a:lnTo>
                <a:lnTo>
                  <a:pt x="7850" y="7845"/>
                </a:lnTo>
                <a:lnTo>
                  <a:pt x="8354" y="5458"/>
                </a:lnTo>
                <a:lnTo>
                  <a:pt x="8694" y="6686"/>
                </a:lnTo>
                <a:lnTo>
                  <a:pt x="9010" y="6549"/>
                </a:lnTo>
                <a:lnTo>
                  <a:pt x="9432" y="4503"/>
                </a:lnTo>
                <a:lnTo>
                  <a:pt x="9947" y="4161"/>
                </a:lnTo>
                <a:lnTo>
                  <a:pt x="10451" y="4844"/>
                </a:lnTo>
                <a:lnTo>
                  <a:pt x="11248" y="5048"/>
                </a:lnTo>
                <a:lnTo>
                  <a:pt x="11670" y="4639"/>
                </a:lnTo>
                <a:lnTo>
                  <a:pt x="12349" y="6208"/>
                </a:lnTo>
                <a:lnTo>
                  <a:pt x="12771" y="9483"/>
                </a:lnTo>
                <a:lnTo>
                  <a:pt x="13556" y="12689"/>
                </a:lnTo>
                <a:lnTo>
                  <a:pt x="14259" y="10642"/>
                </a:lnTo>
                <a:lnTo>
                  <a:pt x="14798" y="8732"/>
                </a:lnTo>
                <a:lnTo>
                  <a:pt x="15056" y="8255"/>
                </a:lnTo>
                <a:lnTo>
                  <a:pt x="15653" y="8869"/>
                </a:lnTo>
                <a:lnTo>
                  <a:pt x="16134" y="12143"/>
                </a:lnTo>
                <a:lnTo>
                  <a:pt x="17188" y="19989"/>
                </a:lnTo>
                <a:lnTo>
                  <a:pt x="17598" y="13576"/>
                </a:lnTo>
                <a:lnTo>
                  <a:pt x="17797" y="13167"/>
                </a:lnTo>
                <a:lnTo>
                  <a:pt x="18172" y="13712"/>
                </a:lnTo>
                <a:lnTo>
                  <a:pt x="18582" y="16032"/>
                </a:lnTo>
                <a:lnTo>
                  <a:pt x="19145" y="15077"/>
                </a:lnTo>
                <a:lnTo>
                  <a:pt x="19156" y="14861"/>
                </a:lnTo>
                <a:lnTo>
                  <a:pt x="19402" y="12484"/>
                </a:lnTo>
                <a:lnTo>
                  <a:pt x="19988" y="10915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22440" y="436680"/>
            <a:ext cx="701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213000" y="1795320"/>
            <a:ext cx="435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36560" y="1771560"/>
            <a:ext cx="763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622440" y="2579760"/>
            <a:ext cx="7932600" cy="1460520"/>
            <a:chOff x="622440" y="2579760"/>
            <a:chExt cx="7932600" cy="1460520"/>
          </a:xfrm>
        </p:grpSpPr>
        <p:sp>
          <p:nvSpPr>
            <p:cNvPr id="902" name=""/>
            <p:cNvSpPr/>
            <p:nvPr/>
          </p:nvSpPr>
          <p:spPr>
            <a:xfrm>
              <a:off x="8238960" y="3516480"/>
              <a:ext cx="3160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939960" y="2946240"/>
              <a:ext cx="0" cy="9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2440" y="2579760"/>
              <a:ext cx="701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933480" y="3180960"/>
              <a:ext cx="2419560" cy="578160"/>
              <a:chOff x="933480" y="3180960"/>
              <a:chExt cx="2419560" cy="578160"/>
            </a:xfrm>
          </p:grpSpPr>
          <p:grpSp>
            <p:nvGrpSpPr>
              <p:cNvPr id="906" name=""/>
              <p:cNvGrpSpPr/>
              <p:nvPr/>
            </p:nvGrpSpPr>
            <p:grpSpPr>
              <a:xfrm>
                <a:off x="933480" y="3180960"/>
                <a:ext cx="1210680" cy="578160"/>
                <a:chOff x="933480" y="3180960"/>
                <a:chExt cx="1210680" cy="57816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933480" y="3468600"/>
                  <a:ext cx="60516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flipV="1">
                  <a:off x="1537920" y="3180600"/>
                  <a:ext cx="60588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2142360" y="3180960"/>
                <a:ext cx="1210680" cy="578160"/>
                <a:chOff x="2142360" y="3180960"/>
                <a:chExt cx="1210680" cy="578160"/>
              </a:xfrm>
            </p:grpSpPr>
            <p:sp>
              <p:nvSpPr>
                <p:cNvPr id="910" name=""/>
                <p:cNvSpPr/>
                <p:nvPr/>
              </p:nvSpPr>
              <p:spPr>
                <a:xfrm flipV="1">
                  <a:off x="2142360" y="3180600"/>
                  <a:ext cx="60516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2746800" y="3468600"/>
                  <a:ext cx="60588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2" name=""/>
            <p:cNvSpPr/>
            <p:nvPr/>
          </p:nvSpPr>
          <p:spPr>
            <a:xfrm>
              <a:off x="736560" y="3765600"/>
              <a:ext cx="763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213000" y="3768840"/>
              <a:ext cx="435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22440" y="4051440"/>
            <a:ext cx="7932600" cy="2179440"/>
            <a:chOff x="622440" y="4051440"/>
            <a:chExt cx="7932600" cy="2179440"/>
          </a:xfrm>
        </p:grpSpPr>
        <p:sp>
          <p:nvSpPr>
            <p:cNvPr id="915" name=""/>
            <p:cNvSpPr/>
            <p:nvPr/>
          </p:nvSpPr>
          <p:spPr>
            <a:xfrm>
              <a:off x="941400" y="4630680"/>
              <a:ext cx="2405160" cy="1509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238960" y="5151600"/>
              <a:ext cx="3160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939960" y="4441680"/>
              <a:ext cx="0" cy="17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6560" y="5386320"/>
              <a:ext cx="763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41400" y="4989600"/>
              <a:ext cx="2401920" cy="554040"/>
            </a:xfrm>
            <a:custGeom>
              <a:avLst/>
              <a:gdLst/>
              <a:ahLst/>
              <a:rect l="l" t="t" r="r" b="b"/>
              <a:pathLst>
                <a:path w="1513" h="349">
                  <a:moveTo>
                    <a:pt x="0" y="246"/>
                  </a:moveTo>
                  <a:lnTo>
                    <a:pt x="34" y="244"/>
                  </a:lnTo>
                  <a:lnTo>
                    <a:pt x="88" y="231"/>
                  </a:lnTo>
                  <a:lnTo>
                    <a:pt x="115" y="213"/>
                  </a:lnTo>
                  <a:lnTo>
                    <a:pt x="148" y="184"/>
                  </a:lnTo>
                  <a:lnTo>
                    <a:pt x="178" y="205"/>
                  </a:lnTo>
                  <a:lnTo>
                    <a:pt x="183" y="201"/>
                  </a:lnTo>
                  <a:lnTo>
                    <a:pt x="213" y="153"/>
                  </a:lnTo>
                  <a:lnTo>
                    <a:pt x="226" y="139"/>
                  </a:lnTo>
                  <a:lnTo>
                    <a:pt x="255" y="142"/>
                  </a:lnTo>
                  <a:lnTo>
                    <a:pt x="306" y="132"/>
                  </a:lnTo>
                  <a:lnTo>
                    <a:pt x="334" y="142"/>
                  </a:lnTo>
                  <a:lnTo>
                    <a:pt x="374" y="241"/>
                  </a:lnTo>
                  <a:lnTo>
                    <a:pt x="408" y="211"/>
                  </a:lnTo>
                  <a:lnTo>
                    <a:pt x="479" y="214"/>
                  </a:lnTo>
                  <a:lnTo>
                    <a:pt x="510" y="270"/>
                  </a:lnTo>
                  <a:lnTo>
                    <a:pt x="545" y="271"/>
                  </a:lnTo>
                  <a:lnTo>
                    <a:pt x="564" y="259"/>
                  </a:lnTo>
                  <a:lnTo>
                    <a:pt x="594" y="153"/>
                  </a:lnTo>
                  <a:lnTo>
                    <a:pt x="633" y="72"/>
                  </a:lnTo>
                  <a:lnTo>
                    <a:pt x="659" y="105"/>
                  </a:lnTo>
                  <a:lnTo>
                    <a:pt x="683" y="99"/>
                  </a:lnTo>
                  <a:lnTo>
                    <a:pt x="715" y="14"/>
                  </a:lnTo>
                  <a:lnTo>
                    <a:pt x="755" y="0"/>
                  </a:lnTo>
                  <a:lnTo>
                    <a:pt x="794" y="28"/>
                  </a:lnTo>
                  <a:lnTo>
                    <a:pt x="855" y="37"/>
                  </a:lnTo>
                  <a:lnTo>
                    <a:pt x="887" y="19"/>
                  </a:lnTo>
                  <a:lnTo>
                    <a:pt x="939" y="85"/>
                  </a:lnTo>
                  <a:lnTo>
                    <a:pt x="972" y="221"/>
                  </a:lnTo>
                  <a:lnTo>
                    <a:pt x="1042" y="289"/>
                  </a:lnTo>
                  <a:lnTo>
                    <a:pt x="1086" y="270"/>
                  </a:lnTo>
                  <a:lnTo>
                    <a:pt x="1133" y="228"/>
                  </a:lnTo>
                  <a:lnTo>
                    <a:pt x="1154" y="210"/>
                  </a:lnTo>
                  <a:lnTo>
                    <a:pt x="1197" y="226"/>
                  </a:lnTo>
                  <a:lnTo>
                    <a:pt x="1229" y="332"/>
                  </a:lnTo>
                  <a:lnTo>
                    <a:pt x="1258" y="349"/>
                  </a:lnTo>
                  <a:lnTo>
                    <a:pt x="1308" y="319"/>
                  </a:lnTo>
                  <a:lnTo>
                    <a:pt x="1326" y="279"/>
                  </a:lnTo>
                  <a:lnTo>
                    <a:pt x="1354" y="270"/>
                  </a:lnTo>
                  <a:lnTo>
                    <a:pt x="1384" y="273"/>
                  </a:lnTo>
                  <a:lnTo>
                    <a:pt x="1410" y="268"/>
                  </a:lnTo>
                  <a:lnTo>
                    <a:pt x="1444" y="259"/>
                  </a:lnTo>
                  <a:lnTo>
                    <a:pt x="1476" y="259"/>
                  </a:lnTo>
                  <a:lnTo>
                    <a:pt x="1513" y="25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2440" y="4051440"/>
              <a:ext cx="701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13000" y="5410080"/>
              <a:ext cx="435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36840" y="4989600"/>
              <a:ext cx="2401920" cy="554040"/>
            </a:xfrm>
            <a:custGeom>
              <a:avLst/>
              <a:gdLst/>
              <a:ahLst/>
              <a:rect l="l" t="t" r="r" b="b"/>
              <a:pathLst>
                <a:path w="1513" h="349">
                  <a:moveTo>
                    <a:pt x="0" y="246"/>
                  </a:moveTo>
                  <a:lnTo>
                    <a:pt x="34" y="244"/>
                  </a:lnTo>
                  <a:lnTo>
                    <a:pt x="88" y="231"/>
                  </a:lnTo>
                  <a:lnTo>
                    <a:pt x="115" y="213"/>
                  </a:lnTo>
                  <a:lnTo>
                    <a:pt x="148" y="184"/>
                  </a:lnTo>
                  <a:lnTo>
                    <a:pt x="178" y="205"/>
                  </a:lnTo>
                  <a:lnTo>
                    <a:pt x="183" y="201"/>
                  </a:lnTo>
                  <a:lnTo>
                    <a:pt x="213" y="153"/>
                  </a:lnTo>
                  <a:lnTo>
                    <a:pt x="226" y="139"/>
                  </a:lnTo>
                  <a:lnTo>
                    <a:pt x="255" y="142"/>
                  </a:lnTo>
                  <a:lnTo>
                    <a:pt x="306" y="132"/>
                  </a:lnTo>
                  <a:lnTo>
                    <a:pt x="334" y="142"/>
                  </a:lnTo>
                  <a:lnTo>
                    <a:pt x="374" y="241"/>
                  </a:lnTo>
                  <a:lnTo>
                    <a:pt x="408" y="211"/>
                  </a:lnTo>
                  <a:lnTo>
                    <a:pt x="479" y="214"/>
                  </a:lnTo>
                  <a:lnTo>
                    <a:pt x="510" y="270"/>
                  </a:lnTo>
                  <a:lnTo>
                    <a:pt x="545" y="271"/>
                  </a:lnTo>
                  <a:lnTo>
                    <a:pt x="564" y="259"/>
                  </a:lnTo>
                  <a:lnTo>
                    <a:pt x="594" y="153"/>
                  </a:lnTo>
                  <a:lnTo>
                    <a:pt x="633" y="72"/>
                  </a:lnTo>
                  <a:lnTo>
                    <a:pt x="659" y="105"/>
                  </a:lnTo>
                  <a:lnTo>
                    <a:pt x="683" y="99"/>
                  </a:lnTo>
                  <a:lnTo>
                    <a:pt x="715" y="14"/>
                  </a:lnTo>
                  <a:lnTo>
                    <a:pt x="755" y="0"/>
                  </a:lnTo>
                  <a:lnTo>
                    <a:pt x="794" y="28"/>
                  </a:lnTo>
                  <a:lnTo>
                    <a:pt x="855" y="37"/>
                  </a:lnTo>
                  <a:lnTo>
                    <a:pt x="887" y="19"/>
                  </a:lnTo>
                  <a:lnTo>
                    <a:pt x="939" y="85"/>
                  </a:lnTo>
                  <a:lnTo>
                    <a:pt x="972" y="221"/>
                  </a:lnTo>
                  <a:lnTo>
                    <a:pt x="1042" y="289"/>
                  </a:lnTo>
                  <a:lnTo>
                    <a:pt x="1086" y="270"/>
                  </a:lnTo>
                  <a:lnTo>
                    <a:pt x="1133" y="228"/>
                  </a:lnTo>
                  <a:lnTo>
                    <a:pt x="1154" y="210"/>
                  </a:lnTo>
                  <a:lnTo>
                    <a:pt x="1197" y="226"/>
                  </a:lnTo>
                  <a:lnTo>
                    <a:pt x="1229" y="332"/>
                  </a:lnTo>
                  <a:lnTo>
                    <a:pt x="1258" y="349"/>
                  </a:lnTo>
                  <a:lnTo>
                    <a:pt x="1308" y="319"/>
                  </a:lnTo>
                  <a:lnTo>
                    <a:pt x="1326" y="279"/>
                  </a:lnTo>
                  <a:lnTo>
                    <a:pt x="1354" y="270"/>
                  </a:lnTo>
                  <a:lnTo>
                    <a:pt x="1384" y="273"/>
                  </a:lnTo>
                  <a:lnTo>
                    <a:pt x="1410" y="268"/>
                  </a:lnTo>
                  <a:lnTo>
                    <a:pt x="1444" y="259"/>
                  </a:lnTo>
                  <a:lnTo>
                    <a:pt x="1476" y="259"/>
                  </a:lnTo>
                  <a:lnTo>
                    <a:pt x="1513" y="25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16440" y="4989600"/>
              <a:ext cx="2401920" cy="554040"/>
            </a:xfrm>
            <a:custGeom>
              <a:avLst/>
              <a:gdLst/>
              <a:ahLst/>
              <a:rect l="l" t="t" r="r" b="b"/>
              <a:pathLst>
                <a:path w="1513" h="349">
                  <a:moveTo>
                    <a:pt x="0" y="246"/>
                  </a:moveTo>
                  <a:lnTo>
                    <a:pt x="34" y="244"/>
                  </a:lnTo>
                  <a:lnTo>
                    <a:pt x="88" y="231"/>
                  </a:lnTo>
                  <a:lnTo>
                    <a:pt x="115" y="213"/>
                  </a:lnTo>
                  <a:lnTo>
                    <a:pt x="148" y="184"/>
                  </a:lnTo>
                  <a:lnTo>
                    <a:pt x="178" y="205"/>
                  </a:lnTo>
                  <a:lnTo>
                    <a:pt x="183" y="201"/>
                  </a:lnTo>
                  <a:lnTo>
                    <a:pt x="213" y="153"/>
                  </a:lnTo>
                  <a:lnTo>
                    <a:pt x="226" y="139"/>
                  </a:lnTo>
                  <a:lnTo>
                    <a:pt x="255" y="142"/>
                  </a:lnTo>
                  <a:lnTo>
                    <a:pt x="306" y="132"/>
                  </a:lnTo>
                  <a:lnTo>
                    <a:pt x="334" y="142"/>
                  </a:lnTo>
                  <a:lnTo>
                    <a:pt x="374" y="241"/>
                  </a:lnTo>
                  <a:lnTo>
                    <a:pt x="408" y="211"/>
                  </a:lnTo>
                  <a:lnTo>
                    <a:pt x="479" y="214"/>
                  </a:lnTo>
                  <a:lnTo>
                    <a:pt x="510" y="270"/>
                  </a:lnTo>
                  <a:lnTo>
                    <a:pt x="545" y="271"/>
                  </a:lnTo>
                  <a:lnTo>
                    <a:pt x="564" y="259"/>
                  </a:lnTo>
                  <a:lnTo>
                    <a:pt x="594" y="153"/>
                  </a:lnTo>
                  <a:lnTo>
                    <a:pt x="633" y="72"/>
                  </a:lnTo>
                  <a:lnTo>
                    <a:pt x="659" y="105"/>
                  </a:lnTo>
                  <a:lnTo>
                    <a:pt x="683" y="99"/>
                  </a:lnTo>
                  <a:lnTo>
                    <a:pt x="715" y="14"/>
                  </a:lnTo>
                  <a:lnTo>
                    <a:pt x="755" y="0"/>
                  </a:lnTo>
                  <a:lnTo>
                    <a:pt x="794" y="28"/>
                  </a:lnTo>
                  <a:lnTo>
                    <a:pt x="855" y="37"/>
                  </a:lnTo>
                  <a:lnTo>
                    <a:pt x="887" y="19"/>
                  </a:lnTo>
                  <a:lnTo>
                    <a:pt x="939" y="85"/>
                  </a:lnTo>
                  <a:lnTo>
                    <a:pt x="972" y="221"/>
                  </a:lnTo>
                  <a:lnTo>
                    <a:pt x="1042" y="289"/>
                  </a:lnTo>
                  <a:lnTo>
                    <a:pt x="1086" y="270"/>
                  </a:lnTo>
                  <a:lnTo>
                    <a:pt x="1133" y="228"/>
                  </a:lnTo>
                  <a:lnTo>
                    <a:pt x="1154" y="210"/>
                  </a:lnTo>
                  <a:lnTo>
                    <a:pt x="1197" y="226"/>
                  </a:lnTo>
                  <a:lnTo>
                    <a:pt x="1229" y="332"/>
                  </a:lnTo>
                  <a:lnTo>
                    <a:pt x="1258" y="349"/>
                  </a:lnTo>
                  <a:lnTo>
                    <a:pt x="1308" y="319"/>
                  </a:lnTo>
                  <a:lnTo>
                    <a:pt x="1326" y="279"/>
                  </a:lnTo>
                  <a:lnTo>
                    <a:pt x="1354" y="270"/>
                  </a:lnTo>
                  <a:lnTo>
                    <a:pt x="1384" y="273"/>
                  </a:lnTo>
                  <a:lnTo>
                    <a:pt x="1410" y="268"/>
                  </a:lnTo>
                  <a:lnTo>
                    <a:pt x="1444" y="259"/>
                  </a:lnTo>
                  <a:lnTo>
                    <a:pt x="1476" y="259"/>
                  </a:lnTo>
                  <a:lnTo>
                    <a:pt x="1513" y="25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91080" y="541008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856640" y="541008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2784600" y="2924280"/>
            <a:ext cx="1473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Función “venta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005280" y="5045040"/>
            <a:ext cx="695160" cy="6955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611520" y="5775480"/>
            <a:ext cx="2871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99"/>
                </a:solidFill>
                <a:latin typeface="Arial"/>
              </a:rPr>
              <a:t>Desapareció el sa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44640" y="2427120"/>
            <a:ext cx="6159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C9A-96A0-4FD1-A85E-84EFBB2AEEA7}" type="slidenum">
              <a:t>67</a:t>
            </a:fld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 flipH="1">
            <a:off x="685800" y="714240"/>
            <a:ext cx="7772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Otros ejempl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591840" y="1960560"/>
            <a:ext cx="7917120" cy="3897360"/>
            <a:chOff x="591840" y="1960560"/>
            <a:chExt cx="7917120" cy="3897360"/>
          </a:xfrm>
        </p:grpSpPr>
        <p:sp>
          <p:nvSpPr>
            <p:cNvPr id="932" name=""/>
            <p:cNvSpPr/>
            <p:nvPr/>
          </p:nvSpPr>
          <p:spPr>
            <a:xfrm>
              <a:off x="905040" y="2119320"/>
              <a:ext cx="14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905040" y="2119320"/>
              <a:ext cx="360" cy="1386000"/>
            </a:xfrm>
            <a:custGeom>
              <a:avLst/>
              <a:gdLst/>
              <a:ahLst/>
              <a:rect l="l" t="t" r="r" b="b"/>
              <a:pathLst>
                <a:path w="0" h="1136">
                  <a:moveTo>
                    <a:pt x="0" y="0"/>
                  </a:moveTo>
                  <a:lnTo>
                    <a:pt x="0" y="0"/>
                  </a:lnTo>
                  <a:lnTo>
                    <a:pt x="0" y="1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05040" y="4073400"/>
              <a:ext cx="1440" cy="138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50680" y="3621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22560" y="3621240"/>
              <a:ext cx="33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266920" y="3621240"/>
              <a:ext cx="46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5040" y="3505320"/>
              <a:ext cx="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96960" y="3505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89240" y="3505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0504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0176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0028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8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9876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9548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940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9396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9104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61840" y="21193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05040" y="2119320"/>
              <a:ext cx="0" cy="13860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90480" y="2689200"/>
              <a:ext cx="9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820800" y="28177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861840" y="35053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861840" y="327816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861840" y="30463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861840" y="28177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861840" y="25891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861840" y="235908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05040" y="2114640"/>
              <a:ext cx="3176280" cy="1374840"/>
            </a:xfrm>
            <a:custGeom>
              <a:avLst/>
              <a:gdLst/>
              <a:ahLst/>
              <a:rect l="l" t="t" r="r" b="b"/>
              <a:pathLst>
                <a:path w="2716" h="974">
                  <a:moveTo>
                    <a:pt x="0" y="344"/>
                  </a:moveTo>
                  <a:lnTo>
                    <a:pt x="2" y="458"/>
                  </a:lnTo>
                  <a:lnTo>
                    <a:pt x="4" y="533"/>
                  </a:lnTo>
                  <a:lnTo>
                    <a:pt x="7" y="535"/>
                  </a:lnTo>
                  <a:lnTo>
                    <a:pt x="10" y="761"/>
                  </a:lnTo>
                  <a:lnTo>
                    <a:pt x="12" y="566"/>
                  </a:lnTo>
                  <a:lnTo>
                    <a:pt x="15" y="370"/>
                  </a:lnTo>
                  <a:lnTo>
                    <a:pt x="18" y="431"/>
                  </a:lnTo>
                  <a:lnTo>
                    <a:pt x="21" y="437"/>
                  </a:lnTo>
                  <a:lnTo>
                    <a:pt x="23" y="320"/>
                  </a:lnTo>
                  <a:lnTo>
                    <a:pt x="25" y="534"/>
                  </a:lnTo>
                  <a:lnTo>
                    <a:pt x="29" y="577"/>
                  </a:lnTo>
                  <a:lnTo>
                    <a:pt x="31" y="544"/>
                  </a:lnTo>
                  <a:lnTo>
                    <a:pt x="34" y="494"/>
                  </a:lnTo>
                  <a:lnTo>
                    <a:pt x="36" y="632"/>
                  </a:lnTo>
                  <a:lnTo>
                    <a:pt x="39" y="668"/>
                  </a:lnTo>
                  <a:lnTo>
                    <a:pt x="42" y="901"/>
                  </a:lnTo>
                  <a:lnTo>
                    <a:pt x="44" y="442"/>
                  </a:lnTo>
                  <a:lnTo>
                    <a:pt x="46" y="557"/>
                  </a:lnTo>
                  <a:lnTo>
                    <a:pt x="50" y="625"/>
                  </a:lnTo>
                  <a:lnTo>
                    <a:pt x="52" y="745"/>
                  </a:lnTo>
                  <a:lnTo>
                    <a:pt x="55" y="404"/>
                  </a:lnTo>
                  <a:lnTo>
                    <a:pt x="58" y="306"/>
                  </a:lnTo>
                  <a:lnTo>
                    <a:pt x="60" y="506"/>
                  </a:lnTo>
                  <a:lnTo>
                    <a:pt x="63" y="697"/>
                  </a:lnTo>
                  <a:lnTo>
                    <a:pt x="65" y="433"/>
                  </a:lnTo>
                  <a:lnTo>
                    <a:pt x="69" y="801"/>
                  </a:lnTo>
                  <a:lnTo>
                    <a:pt x="71" y="711"/>
                  </a:lnTo>
                  <a:lnTo>
                    <a:pt x="73" y="508"/>
                  </a:lnTo>
                  <a:lnTo>
                    <a:pt x="77" y="262"/>
                  </a:lnTo>
                  <a:lnTo>
                    <a:pt x="79" y="616"/>
                  </a:lnTo>
                  <a:lnTo>
                    <a:pt x="81" y="471"/>
                  </a:lnTo>
                  <a:lnTo>
                    <a:pt x="84" y="327"/>
                  </a:lnTo>
                  <a:lnTo>
                    <a:pt x="87" y="572"/>
                  </a:lnTo>
                  <a:lnTo>
                    <a:pt x="90" y="350"/>
                  </a:lnTo>
                  <a:lnTo>
                    <a:pt x="92" y="212"/>
                  </a:lnTo>
                  <a:lnTo>
                    <a:pt x="94" y="562"/>
                  </a:lnTo>
                  <a:lnTo>
                    <a:pt x="98" y="499"/>
                  </a:lnTo>
                  <a:lnTo>
                    <a:pt x="100" y="960"/>
                  </a:lnTo>
                  <a:lnTo>
                    <a:pt x="102" y="535"/>
                  </a:lnTo>
                  <a:lnTo>
                    <a:pt x="106" y="581"/>
                  </a:lnTo>
                  <a:lnTo>
                    <a:pt x="108" y="538"/>
                  </a:lnTo>
                  <a:lnTo>
                    <a:pt x="111" y="683"/>
                  </a:lnTo>
                  <a:lnTo>
                    <a:pt x="113" y="346"/>
                  </a:lnTo>
                  <a:lnTo>
                    <a:pt x="116" y="439"/>
                  </a:lnTo>
                  <a:lnTo>
                    <a:pt x="119" y="181"/>
                  </a:lnTo>
                  <a:lnTo>
                    <a:pt x="121" y="549"/>
                  </a:lnTo>
                  <a:lnTo>
                    <a:pt x="125" y="486"/>
                  </a:lnTo>
                  <a:lnTo>
                    <a:pt x="127" y="600"/>
                  </a:lnTo>
                  <a:lnTo>
                    <a:pt x="129" y="342"/>
                  </a:lnTo>
                  <a:lnTo>
                    <a:pt x="132" y="485"/>
                  </a:lnTo>
                  <a:lnTo>
                    <a:pt x="135" y="568"/>
                  </a:lnTo>
                  <a:lnTo>
                    <a:pt x="137" y="385"/>
                  </a:lnTo>
                  <a:lnTo>
                    <a:pt x="140" y="544"/>
                  </a:lnTo>
                  <a:lnTo>
                    <a:pt x="142" y="442"/>
                  </a:lnTo>
                  <a:lnTo>
                    <a:pt x="146" y="373"/>
                  </a:lnTo>
                  <a:lnTo>
                    <a:pt x="148" y="422"/>
                  </a:lnTo>
                  <a:lnTo>
                    <a:pt x="150" y="486"/>
                  </a:lnTo>
                  <a:lnTo>
                    <a:pt x="154" y="630"/>
                  </a:lnTo>
                  <a:lnTo>
                    <a:pt x="156" y="373"/>
                  </a:lnTo>
                  <a:lnTo>
                    <a:pt x="159" y="494"/>
                  </a:lnTo>
                  <a:lnTo>
                    <a:pt x="161" y="539"/>
                  </a:lnTo>
                  <a:lnTo>
                    <a:pt x="164" y="405"/>
                  </a:lnTo>
                  <a:lnTo>
                    <a:pt x="167" y="584"/>
                  </a:lnTo>
                  <a:lnTo>
                    <a:pt x="169" y="688"/>
                  </a:lnTo>
                  <a:lnTo>
                    <a:pt x="171" y="702"/>
                  </a:lnTo>
                  <a:lnTo>
                    <a:pt x="175" y="390"/>
                  </a:lnTo>
                  <a:lnTo>
                    <a:pt x="177" y="357"/>
                  </a:lnTo>
                  <a:lnTo>
                    <a:pt x="180" y="192"/>
                  </a:lnTo>
                  <a:lnTo>
                    <a:pt x="182" y="556"/>
                  </a:lnTo>
                  <a:lnTo>
                    <a:pt x="185" y="470"/>
                  </a:lnTo>
                  <a:lnTo>
                    <a:pt x="188" y="442"/>
                  </a:lnTo>
                  <a:lnTo>
                    <a:pt x="190" y="450"/>
                  </a:lnTo>
                  <a:lnTo>
                    <a:pt x="194" y="820"/>
                  </a:lnTo>
                  <a:lnTo>
                    <a:pt x="196" y="579"/>
                  </a:lnTo>
                  <a:lnTo>
                    <a:pt x="198" y="673"/>
                  </a:lnTo>
                  <a:lnTo>
                    <a:pt x="201" y="277"/>
                  </a:lnTo>
                  <a:lnTo>
                    <a:pt x="204" y="484"/>
                  </a:lnTo>
                  <a:lnTo>
                    <a:pt x="206" y="391"/>
                  </a:lnTo>
                  <a:lnTo>
                    <a:pt x="209" y="655"/>
                  </a:lnTo>
                  <a:lnTo>
                    <a:pt x="211" y="511"/>
                  </a:lnTo>
                  <a:lnTo>
                    <a:pt x="215" y="772"/>
                  </a:lnTo>
                  <a:lnTo>
                    <a:pt x="217" y="720"/>
                  </a:lnTo>
                  <a:lnTo>
                    <a:pt x="219" y="341"/>
                  </a:lnTo>
                  <a:lnTo>
                    <a:pt x="223" y="866"/>
                  </a:lnTo>
                  <a:lnTo>
                    <a:pt x="225" y="421"/>
                  </a:lnTo>
                  <a:lnTo>
                    <a:pt x="227" y="459"/>
                  </a:lnTo>
                  <a:lnTo>
                    <a:pt x="230" y="581"/>
                  </a:lnTo>
                  <a:lnTo>
                    <a:pt x="233" y="626"/>
                  </a:lnTo>
                  <a:lnTo>
                    <a:pt x="236" y="581"/>
                  </a:lnTo>
                  <a:lnTo>
                    <a:pt x="238" y="484"/>
                  </a:lnTo>
                  <a:lnTo>
                    <a:pt x="240" y="656"/>
                  </a:lnTo>
                  <a:lnTo>
                    <a:pt x="244" y="326"/>
                  </a:lnTo>
                  <a:lnTo>
                    <a:pt x="246" y="786"/>
                  </a:lnTo>
                  <a:lnTo>
                    <a:pt x="249" y="453"/>
                  </a:lnTo>
                  <a:lnTo>
                    <a:pt x="252" y="486"/>
                  </a:lnTo>
                  <a:lnTo>
                    <a:pt x="254" y="562"/>
                  </a:lnTo>
                  <a:lnTo>
                    <a:pt x="257" y="673"/>
                  </a:lnTo>
                  <a:lnTo>
                    <a:pt x="259" y="651"/>
                  </a:lnTo>
                  <a:lnTo>
                    <a:pt x="262" y="469"/>
                  </a:lnTo>
                  <a:lnTo>
                    <a:pt x="265" y="506"/>
                  </a:lnTo>
                  <a:lnTo>
                    <a:pt x="267" y="665"/>
                  </a:lnTo>
                  <a:lnTo>
                    <a:pt x="271" y="511"/>
                  </a:lnTo>
                  <a:lnTo>
                    <a:pt x="273" y="364"/>
                  </a:lnTo>
                  <a:lnTo>
                    <a:pt x="275" y="257"/>
                  </a:lnTo>
                  <a:lnTo>
                    <a:pt x="278" y="307"/>
                  </a:lnTo>
                  <a:lnTo>
                    <a:pt x="281" y="461"/>
                  </a:lnTo>
                  <a:lnTo>
                    <a:pt x="284" y="553"/>
                  </a:lnTo>
                  <a:lnTo>
                    <a:pt x="286" y="639"/>
                  </a:lnTo>
                  <a:lnTo>
                    <a:pt x="288" y="497"/>
                  </a:lnTo>
                  <a:lnTo>
                    <a:pt x="292" y="669"/>
                  </a:lnTo>
                  <a:lnTo>
                    <a:pt x="294" y="481"/>
                  </a:lnTo>
                  <a:lnTo>
                    <a:pt x="296" y="490"/>
                  </a:lnTo>
                  <a:lnTo>
                    <a:pt x="300" y="568"/>
                  </a:lnTo>
                  <a:lnTo>
                    <a:pt x="302" y="543"/>
                  </a:lnTo>
                  <a:lnTo>
                    <a:pt x="305" y="673"/>
                  </a:lnTo>
                  <a:lnTo>
                    <a:pt x="307" y="209"/>
                  </a:lnTo>
                  <a:lnTo>
                    <a:pt x="310" y="836"/>
                  </a:lnTo>
                  <a:lnTo>
                    <a:pt x="313" y="554"/>
                  </a:lnTo>
                  <a:lnTo>
                    <a:pt x="315" y="420"/>
                  </a:lnTo>
                  <a:lnTo>
                    <a:pt x="318" y="496"/>
                  </a:lnTo>
                  <a:lnTo>
                    <a:pt x="321" y="920"/>
                  </a:lnTo>
                  <a:lnTo>
                    <a:pt x="323" y="709"/>
                  </a:lnTo>
                  <a:lnTo>
                    <a:pt x="326" y="642"/>
                  </a:lnTo>
                  <a:lnTo>
                    <a:pt x="329" y="586"/>
                  </a:lnTo>
                  <a:lnTo>
                    <a:pt x="331" y="607"/>
                  </a:lnTo>
                  <a:lnTo>
                    <a:pt x="334" y="563"/>
                  </a:lnTo>
                  <a:lnTo>
                    <a:pt x="336" y="644"/>
                  </a:lnTo>
                  <a:lnTo>
                    <a:pt x="340" y="379"/>
                  </a:lnTo>
                  <a:lnTo>
                    <a:pt x="342" y="698"/>
                  </a:lnTo>
                  <a:lnTo>
                    <a:pt x="344" y="489"/>
                  </a:lnTo>
                  <a:lnTo>
                    <a:pt x="347" y="742"/>
                  </a:lnTo>
                  <a:lnTo>
                    <a:pt x="350" y="302"/>
                  </a:lnTo>
                  <a:lnTo>
                    <a:pt x="352" y="259"/>
                  </a:lnTo>
                  <a:lnTo>
                    <a:pt x="355" y="688"/>
                  </a:lnTo>
                  <a:lnTo>
                    <a:pt x="357" y="538"/>
                  </a:lnTo>
                  <a:lnTo>
                    <a:pt x="361" y="380"/>
                  </a:lnTo>
                  <a:lnTo>
                    <a:pt x="363" y="424"/>
                  </a:lnTo>
                  <a:lnTo>
                    <a:pt x="365" y="710"/>
                  </a:lnTo>
                  <a:lnTo>
                    <a:pt x="369" y="431"/>
                  </a:lnTo>
                  <a:lnTo>
                    <a:pt x="371" y="343"/>
                  </a:lnTo>
                  <a:lnTo>
                    <a:pt x="374" y="734"/>
                  </a:lnTo>
                  <a:lnTo>
                    <a:pt x="376" y="510"/>
                  </a:lnTo>
                  <a:lnTo>
                    <a:pt x="379" y="658"/>
                  </a:lnTo>
                  <a:lnTo>
                    <a:pt x="382" y="745"/>
                  </a:lnTo>
                  <a:lnTo>
                    <a:pt x="384" y="515"/>
                  </a:lnTo>
                  <a:lnTo>
                    <a:pt x="386" y="950"/>
                  </a:lnTo>
                  <a:lnTo>
                    <a:pt x="390" y="259"/>
                  </a:lnTo>
                  <a:lnTo>
                    <a:pt x="392" y="390"/>
                  </a:lnTo>
                  <a:lnTo>
                    <a:pt x="395" y="440"/>
                  </a:lnTo>
                  <a:lnTo>
                    <a:pt x="398" y="538"/>
                  </a:lnTo>
                  <a:lnTo>
                    <a:pt x="400" y="652"/>
                  </a:lnTo>
                  <a:lnTo>
                    <a:pt x="403" y="598"/>
                  </a:lnTo>
                  <a:lnTo>
                    <a:pt x="405" y="567"/>
                  </a:lnTo>
                  <a:lnTo>
                    <a:pt x="409" y="539"/>
                  </a:lnTo>
                  <a:lnTo>
                    <a:pt x="411" y="687"/>
                  </a:lnTo>
                  <a:lnTo>
                    <a:pt x="413" y="318"/>
                  </a:lnTo>
                  <a:lnTo>
                    <a:pt x="417" y="736"/>
                  </a:lnTo>
                  <a:lnTo>
                    <a:pt x="419" y="608"/>
                  </a:lnTo>
                  <a:lnTo>
                    <a:pt x="421" y="712"/>
                  </a:lnTo>
                  <a:lnTo>
                    <a:pt x="424" y="448"/>
                  </a:lnTo>
                  <a:lnTo>
                    <a:pt x="427" y="583"/>
                  </a:lnTo>
                  <a:lnTo>
                    <a:pt x="430" y="878"/>
                  </a:lnTo>
                  <a:lnTo>
                    <a:pt x="432" y="704"/>
                  </a:lnTo>
                  <a:lnTo>
                    <a:pt x="434" y="572"/>
                  </a:lnTo>
                  <a:lnTo>
                    <a:pt x="438" y="374"/>
                  </a:lnTo>
                  <a:lnTo>
                    <a:pt x="440" y="692"/>
                  </a:lnTo>
                  <a:lnTo>
                    <a:pt x="442" y="511"/>
                  </a:lnTo>
                  <a:lnTo>
                    <a:pt x="446" y="726"/>
                  </a:lnTo>
                  <a:lnTo>
                    <a:pt x="448" y="446"/>
                  </a:lnTo>
                  <a:lnTo>
                    <a:pt x="451" y="671"/>
                  </a:lnTo>
                  <a:lnTo>
                    <a:pt x="453" y="525"/>
                  </a:lnTo>
                  <a:lnTo>
                    <a:pt x="456" y="412"/>
                  </a:lnTo>
                  <a:lnTo>
                    <a:pt x="459" y="322"/>
                  </a:lnTo>
                  <a:lnTo>
                    <a:pt x="461" y="595"/>
                  </a:lnTo>
                  <a:lnTo>
                    <a:pt x="464" y="326"/>
                  </a:lnTo>
                  <a:lnTo>
                    <a:pt x="467" y="587"/>
                  </a:lnTo>
                  <a:lnTo>
                    <a:pt x="469" y="691"/>
                  </a:lnTo>
                  <a:lnTo>
                    <a:pt x="472" y="576"/>
                  </a:lnTo>
                  <a:lnTo>
                    <a:pt x="475" y="520"/>
                  </a:lnTo>
                  <a:lnTo>
                    <a:pt x="477" y="618"/>
                  </a:lnTo>
                  <a:lnTo>
                    <a:pt x="480" y="389"/>
                  </a:lnTo>
                  <a:lnTo>
                    <a:pt x="482" y="476"/>
                  </a:lnTo>
                  <a:lnTo>
                    <a:pt x="486" y="600"/>
                  </a:lnTo>
                  <a:lnTo>
                    <a:pt x="488" y="498"/>
                  </a:lnTo>
                  <a:lnTo>
                    <a:pt x="490" y="598"/>
                  </a:lnTo>
                  <a:lnTo>
                    <a:pt x="493" y="610"/>
                  </a:lnTo>
                  <a:lnTo>
                    <a:pt x="496" y="623"/>
                  </a:lnTo>
                  <a:lnTo>
                    <a:pt x="499" y="506"/>
                  </a:lnTo>
                  <a:lnTo>
                    <a:pt x="501" y="455"/>
                  </a:lnTo>
                  <a:lnTo>
                    <a:pt x="503" y="521"/>
                  </a:lnTo>
                  <a:lnTo>
                    <a:pt x="507" y="708"/>
                  </a:lnTo>
                  <a:lnTo>
                    <a:pt x="509" y="347"/>
                  </a:lnTo>
                  <a:lnTo>
                    <a:pt x="511" y="692"/>
                  </a:lnTo>
                  <a:lnTo>
                    <a:pt x="515" y="655"/>
                  </a:lnTo>
                  <a:lnTo>
                    <a:pt x="517" y="449"/>
                  </a:lnTo>
                  <a:lnTo>
                    <a:pt x="520" y="275"/>
                  </a:lnTo>
                  <a:lnTo>
                    <a:pt x="522" y="676"/>
                  </a:lnTo>
                  <a:lnTo>
                    <a:pt x="525" y="508"/>
                  </a:lnTo>
                  <a:lnTo>
                    <a:pt x="528" y="779"/>
                  </a:lnTo>
                  <a:lnTo>
                    <a:pt x="530" y="678"/>
                  </a:lnTo>
                  <a:lnTo>
                    <a:pt x="534" y="608"/>
                  </a:lnTo>
                  <a:lnTo>
                    <a:pt x="536" y="543"/>
                  </a:lnTo>
                  <a:lnTo>
                    <a:pt x="538" y="440"/>
                  </a:lnTo>
                  <a:lnTo>
                    <a:pt x="541" y="495"/>
                  </a:lnTo>
                  <a:lnTo>
                    <a:pt x="544" y="429"/>
                  </a:lnTo>
                  <a:lnTo>
                    <a:pt x="546" y="396"/>
                  </a:lnTo>
                  <a:lnTo>
                    <a:pt x="549" y="409"/>
                  </a:lnTo>
                  <a:lnTo>
                    <a:pt x="551" y="405"/>
                  </a:lnTo>
                  <a:lnTo>
                    <a:pt x="555" y="529"/>
                  </a:lnTo>
                  <a:lnTo>
                    <a:pt x="557" y="661"/>
                  </a:lnTo>
                  <a:lnTo>
                    <a:pt x="559" y="268"/>
                  </a:lnTo>
                  <a:lnTo>
                    <a:pt x="563" y="380"/>
                  </a:lnTo>
                  <a:lnTo>
                    <a:pt x="565" y="629"/>
                  </a:lnTo>
                  <a:lnTo>
                    <a:pt x="567" y="405"/>
                  </a:lnTo>
                  <a:lnTo>
                    <a:pt x="570" y="654"/>
                  </a:lnTo>
                  <a:lnTo>
                    <a:pt x="573" y="515"/>
                  </a:lnTo>
                  <a:lnTo>
                    <a:pt x="576" y="647"/>
                  </a:lnTo>
                  <a:lnTo>
                    <a:pt x="578" y="600"/>
                  </a:lnTo>
                  <a:lnTo>
                    <a:pt x="580" y="197"/>
                  </a:lnTo>
                  <a:lnTo>
                    <a:pt x="584" y="370"/>
                  </a:lnTo>
                  <a:lnTo>
                    <a:pt x="586" y="711"/>
                  </a:lnTo>
                  <a:lnTo>
                    <a:pt x="589" y="354"/>
                  </a:lnTo>
                  <a:lnTo>
                    <a:pt x="592" y="578"/>
                  </a:lnTo>
                  <a:lnTo>
                    <a:pt x="594" y="742"/>
                  </a:lnTo>
                  <a:lnTo>
                    <a:pt x="597" y="539"/>
                  </a:lnTo>
                  <a:lnTo>
                    <a:pt x="599" y="651"/>
                  </a:lnTo>
                  <a:lnTo>
                    <a:pt x="602" y="566"/>
                  </a:lnTo>
                  <a:lnTo>
                    <a:pt x="605" y="669"/>
                  </a:lnTo>
                  <a:lnTo>
                    <a:pt x="607" y="408"/>
                  </a:lnTo>
                  <a:lnTo>
                    <a:pt x="611" y="527"/>
                  </a:lnTo>
                  <a:lnTo>
                    <a:pt x="613" y="631"/>
                  </a:lnTo>
                  <a:lnTo>
                    <a:pt x="615" y="292"/>
                  </a:lnTo>
                  <a:lnTo>
                    <a:pt x="618" y="663"/>
                  </a:lnTo>
                  <a:lnTo>
                    <a:pt x="621" y="326"/>
                  </a:lnTo>
                  <a:lnTo>
                    <a:pt x="624" y="534"/>
                  </a:lnTo>
                  <a:lnTo>
                    <a:pt x="626" y="478"/>
                  </a:lnTo>
                  <a:lnTo>
                    <a:pt x="628" y="550"/>
                  </a:lnTo>
                  <a:lnTo>
                    <a:pt x="632" y="575"/>
                  </a:lnTo>
                  <a:lnTo>
                    <a:pt x="634" y="497"/>
                  </a:lnTo>
                  <a:lnTo>
                    <a:pt x="636" y="607"/>
                  </a:lnTo>
                  <a:lnTo>
                    <a:pt x="639" y="827"/>
                  </a:lnTo>
                  <a:lnTo>
                    <a:pt x="642" y="471"/>
                  </a:lnTo>
                  <a:lnTo>
                    <a:pt x="645" y="568"/>
                  </a:lnTo>
                  <a:lnTo>
                    <a:pt x="647" y="451"/>
                  </a:lnTo>
                  <a:lnTo>
                    <a:pt x="650" y="645"/>
                  </a:lnTo>
                  <a:lnTo>
                    <a:pt x="653" y="492"/>
                  </a:lnTo>
                  <a:lnTo>
                    <a:pt x="655" y="405"/>
                  </a:lnTo>
                  <a:lnTo>
                    <a:pt x="658" y="555"/>
                  </a:lnTo>
                  <a:lnTo>
                    <a:pt x="661" y="161"/>
                  </a:lnTo>
                  <a:lnTo>
                    <a:pt x="663" y="600"/>
                  </a:lnTo>
                  <a:lnTo>
                    <a:pt x="666" y="340"/>
                  </a:lnTo>
                  <a:lnTo>
                    <a:pt x="668" y="60"/>
                  </a:lnTo>
                  <a:lnTo>
                    <a:pt x="671" y="531"/>
                  </a:lnTo>
                  <a:lnTo>
                    <a:pt x="674" y="602"/>
                  </a:lnTo>
                  <a:lnTo>
                    <a:pt x="676" y="233"/>
                  </a:lnTo>
                  <a:lnTo>
                    <a:pt x="680" y="542"/>
                  </a:lnTo>
                  <a:lnTo>
                    <a:pt x="682" y="563"/>
                  </a:lnTo>
                  <a:lnTo>
                    <a:pt x="684" y="656"/>
                  </a:lnTo>
                  <a:lnTo>
                    <a:pt x="687" y="380"/>
                  </a:lnTo>
                  <a:lnTo>
                    <a:pt x="690" y="85"/>
                  </a:lnTo>
                  <a:lnTo>
                    <a:pt x="692" y="616"/>
                  </a:lnTo>
                  <a:lnTo>
                    <a:pt x="695" y="280"/>
                  </a:lnTo>
                  <a:lnTo>
                    <a:pt x="697" y="439"/>
                  </a:lnTo>
                  <a:lnTo>
                    <a:pt x="701" y="338"/>
                  </a:lnTo>
                  <a:lnTo>
                    <a:pt x="703" y="460"/>
                  </a:lnTo>
                  <a:lnTo>
                    <a:pt x="705" y="698"/>
                  </a:lnTo>
                  <a:lnTo>
                    <a:pt x="709" y="651"/>
                  </a:lnTo>
                  <a:lnTo>
                    <a:pt x="711" y="807"/>
                  </a:lnTo>
                  <a:lnTo>
                    <a:pt x="714" y="495"/>
                  </a:lnTo>
                  <a:lnTo>
                    <a:pt x="716" y="595"/>
                  </a:lnTo>
                  <a:lnTo>
                    <a:pt x="719" y="484"/>
                  </a:lnTo>
                  <a:lnTo>
                    <a:pt x="722" y="594"/>
                  </a:lnTo>
                  <a:lnTo>
                    <a:pt x="724" y="395"/>
                  </a:lnTo>
                  <a:lnTo>
                    <a:pt x="726" y="361"/>
                  </a:lnTo>
                  <a:lnTo>
                    <a:pt x="730" y="460"/>
                  </a:lnTo>
                  <a:lnTo>
                    <a:pt x="732" y="455"/>
                  </a:lnTo>
                  <a:lnTo>
                    <a:pt x="735" y="459"/>
                  </a:lnTo>
                  <a:lnTo>
                    <a:pt x="738" y="337"/>
                  </a:lnTo>
                  <a:lnTo>
                    <a:pt x="740" y="379"/>
                  </a:lnTo>
                  <a:lnTo>
                    <a:pt x="743" y="432"/>
                  </a:lnTo>
                  <a:lnTo>
                    <a:pt x="745" y="283"/>
                  </a:lnTo>
                  <a:lnTo>
                    <a:pt x="749" y="651"/>
                  </a:lnTo>
                  <a:lnTo>
                    <a:pt x="751" y="448"/>
                  </a:lnTo>
                  <a:lnTo>
                    <a:pt x="753" y="256"/>
                  </a:lnTo>
                  <a:lnTo>
                    <a:pt x="757" y="603"/>
                  </a:lnTo>
                  <a:lnTo>
                    <a:pt x="759" y="819"/>
                  </a:lnTo>
                  <a:lnTo>
                    <a:pt x="761" y="762"/>
                  </a:lnTo>
                  <a:lnTo>
                    <a:pt x="764" y="446"/>
                  </a:lnTo>
                  <a:lnTo>
                    <a:pt x="767" y="311"/>
                  </a:lnTo>
                  <a:lnTo>
                    <a:pt x="770" y="372"/>
                  </a:lnTo>
                  <a:lnTo>
                    <a:pt x="772" y="325"/>
                  </a:lnTo>
                  <a:lnTo>
                    <a:pt x="774" y="683"/>
                  </a:lnTo>
                  <a:lnTo>
                    <a:pt x="778" y="639"/>
                  </a:lnTo>
                  <a:lnTo>
                    <a:pt x="780" y="586"/>
                  </a:lnTo>
                  <a:lnTo>
                    <a:pt x="782" y="591"/>
                  </a:lnTo>
                  <a:lnTo>
                    <a:pt x="786" y="465"/>
                  </a:lnTo>
                  <a:lnTo>
                    <a:pt x="788" y="446"/>
                  </a:lnTo>
                  <a:lnTo>
                    <a:pt x="791" y="538"/>
                  </a:lnTo>
                  <a:lnTo>
                    <a:pt x="793" y="361"/>
                  </a:lnTo>
                  <a:lnTo>
                    <a:pt x="796" y="418"/>
                  </a:lnTo>
                  <a:lnTo>
                    <a:pt x="799" y="117"/>
                  </a:lnTo>
                  <a:lnTo>
                    <a:pt x="801" y="405"/>
                  </a:lnTo>
                  <a:lnTo>
                    <a:pt x="804" y="210"/>
                  </a:lnTo>
                  <a:lnTo>
                    <a:pt x="807" y="304"/>
                  </a:lnTo>
                  <a:lnTo>
                    <a:pt x="809" y="487"/>
                  </a:lnTo>
                  <a:lnTo>
                    <a:pt x="812" y="478"/>
                  </a:lnTo>
                  <a:lnTo>
                    <a:pt x="814" y="902"/>
                  </a:lnTo>
                  <a:lnTo>
                    <a:pt x="817" y="337"/>
                  </a:lnTo>
                  <a:lnTo>
                    <a:pt x="820" y="571"/>
                  </a:lnTo>
                  <a:lnTo>
                    <a:pt x="822" y="255"/>
                  </a:lnTo>
                  <a:lnTo>
                    <a:pt x="826" y="787"/>
                  </a:lnTo>
                  <a:lnTo>
                    <a:pt x="828" y="759"/>
                  </a:lnTo>
                  <a:lnTo>
                    <a:pt x="830" y="584"/>
                  </a:lnTo>
                  <a:lnTo>
                    <a:pt x="833" y="513"/>
                  </a:lnTo>
                  <a:lnTo>
                    <a:pt x="836" y="654"/>
                  </a:lnTo>
                  <a:lnTo>
                    <a:pt x="839" y="602"/>
                  </a:lnTo>
                  <a:lnTo>
                    <a:pt x="841" y="579"/>
                  </a:lnTo>
                  <a:lnTo>
                    <a:pt x="843" y="505"/>
                  </a:lnTo>
                  <a:lnTo>
                    <a:pt x="847" y="585"/>
                  </a:lnTo>
                  <a:lnTo>
                    <a:pt x="849" y="253"/>
                  </a:lnTo>
                  <a:lnTo>
                    <a:pt x="851" y="492"/>
                  </a:lnTo>
                  <a:lnTo>
                    <a:pt x="855" y="402"/>
                  </a:lnTo>
                  <a:lnTo>
                    <a:pt x="857" y="432"/>
                  </a:lnTo>
                  <a:lnTo>
                    <a:pt x="860" y="515"/>
                  </a:lnTo>
                  <a:lnTo>
                    <a:pt x="862" y="742"/>
                  </a:lnTo>
                  <a:lnTo>
                    <a:pt x="865" y="388"/>
                  </a:lnTo>
                  <a:lnTo>
                    <a:pt x="868" y="589"/>
                  </a:lnTo>
                  <a:lnTo>
                    <a:pt x="870" y="685"/>
                  </a:lnTo>
                  <a:lnTo>
                    <a:pt x="874" y="205"/>
                  </a:lnTo>
                  <a:lnTo>
                    <a:pt x="876" y="709"/>
                  </a:lnTo>
                  <a:lnTo>
                    <a:pt x="878" y="902"/>
                  </a:lnTo>
                  <a:lnTo>
                    <a:pt x="881" y="660"/>
                  </a:lnTo>
                  <a:lnTo>
                    <a:pt x="884" y="374"/>
                  </a:lnTo>
                  <a:lnTo>
                    <a:pt x="886" y="669"/>
                  </a:lnTo>
                  <a:lnTo>
                    <a:pt x="889" y="480"/>
                  </a:lnTo>
                  <a:lnTo>
                    <a:pt x="891" y="630"/>
                  </a:lnTo>
                  <a:lnTo>
                    <a:pt x="895" y="500"/>
                  </a:lnTo>
                  <a:lnTo>
                    <a:pt x="897" y="473"/>
                  </a:lnTo>
                  <a:lnTo>
                    <a:pt x="899" y="630"/>
                  </a:lnTo>
                  <a:lnTo>
                    <a:pt x="903" y="587"/>
                  </a:lnTo>
                  <a:lnTo>
                    <a:pt x="905" y="588"/>
                  </a:lnTo>
                  <a:lnTo>
                    <a:pt x="907" y="605"/>
                  </a:lnTo>
                  <a:lnTo>
                    <a:pt x="910" y="369"/>
                  </a:lnTo>
                  <a:lnTo>
                    <a:pt x="913" y="323"/>
                  </a:lnTo>
                  <a:lnTo>
                    <a:pt x="916" y="579"/>
                  </a:lnTo>
                  <a:lnTo>
                    <a:pt x="918" y="432"/>
                  </a:lnTo>
                  <a:lnTo>
                    <a:pt x="920" y="658"/>
                  </a:lnTo>
                  <a:lnTo>
                    <a:pt x="924" y="494"/>
                  </a:lnTo>
                  <a:lnTo>
                    <a:pt x="926" y="722"/>
                  </a:lnTo>
                  <a:lnTo>
                    <a:pt x="929" y="332"/>
                  </a:lnTo>
                  <a:lnTo>
                    <a:pt x="932" y="274"/>
                  </a:lnTo>
                  <a:lnTo>
                    <a:pt x="934" y="709"/>
                  </a:lnTo>
                  <a:lnTo>
                    <a:pt x="937" y="173"/>
                  </a:lnTo>
                  <a:lnTo>
                    <a:pt x="939" y="577"/>
                  </a:lnTo>
                  <a:lnTo>
                    <a:pt x="942" y="509"/>
                  </a:lnTo>
                  <a:lnTo>
                    <a:pt x="945" y="508"/>
                  </a:lnTo>
                  <a:lnTo>
                    <a:pt x="947" y="666"/>
                  </a:lnTo>
                  <a:lnTo>
                    <a:pt x="950" y="466"/>
                  </a:lnTo>
                  <a:lnTo>
                    <a:pt x="953" y="479"/>
                  </a:lnTo>
                  <a:lnTo>
                    <a:pt x="955" y="472"/>
                  </a:lnTo>
                  <a:lnTo>
                    <a:pt x="958" y="808"/>
                  </a:lnTo>
                  <a:lnTo>
                    <a:pt x="961" y="180"/>
                  </a:lnTo>
                  <a:lnTo>
                    <a:pt x="964" y="768"/>
                  </a:lnTo>
                  <a:lnTo>
                    <a:pt x="966" y="437"/>
                  </a:lnTo>
                  <a:lnTo>
                    <a:pt x="968" y="449"/>
                  </a:lnTo>
                  <a:lnTo>
                    <a:pt x="972" y="421"/>
                  </a:lnTo>
                  <a:lnTo>
                    <a:pt x="974" y="593"/>
                  </a:lnTo>
                  <a:lnTo>
                    <a:pt x="976" y="832"/>
                  </a:lnTo>
                  <a:lnTo>
                    <a:pt x="979" y="588"/>
                  </a:lnTo>
                  <a:lnTo>
                    <a:pt x="982" y="647"/>
                  </a:lnTo>
                  <a:lnTo>
                    <a:pt x="985" y="373"/>
                  </a:lnTo>
                  <a:lnTo>
                    <a:pt x="987" y="647"/>
                  </a:lnTo>
                  <a:lnTo>
                    <a:pt x="989" y="330"/>
                  </a:lnTo>
                  <a:lnTo>
                    <a:pt x="993" y="781"/>
                  </a:lnTo>
                  <a:lnTo>
                    <a:pt x="995" y="415"/>
                  </a:lnTo>
                  <a:lnTo>
                    <a:pt x="998" y="457"/>
                  </a:lnTo>
                  <a:lnTo>
                    <a:pt x="1001" y="547"/>
                  </a:lnTo>
                  <a:lnTo>
                    <a:pt x="1003" y="500"/>
                  </a:lnTo>
                  <a:lnTo>
                    <a:pt x="1006" y="356"/>
                  </a:lnTo>
                  <a:lnTo>
                    <a:pt x="1008" y="514"/>
                  </a:lnTo>
                  <a:lnTo>
                    <a:pt x="1011" y="529"/>
                  </a:lnTo>
                  <a:lnTo>
                    <a:pt x="1014" y="442"/>
                  </a:lnTo>
                  <a:lnTo>
                    <a:pt x="1016" y="624"/>
                  </a:lnTo>
                  <a:lnTo>
                    <a:pt x="1020" y="413"/>
                  </a:lnTo>
                  <a:lnTo>
                    <a:pt x="1022" y="326"/>
                  </a:lnTo>
                  <a:lnTo>
                    <a:pt x="1024" y="413"/>
                  </a:lnTo>
                  <a:lnTo>
                    <a:pt x="1027" y="555"/>
                  </a:lnTo>
                  <a:lnTo>
                    <a:pt x="1030" y="305"/>
                  </a:lnTo>
                  <a:lnTo>
                    <a:pt x="1032" y="437"/>
                  </a:lnTo>
                  <a:lnTo>
                    <a:pt x="1035" y="266"/>
                  </a:lnTo>
                  <a:lnTo>
                    <a:pt x="1037" y="350"/>
                  </a:lnTo>
                  <a:lnTo>
                    <a:pt x="1041" y="263"/>
                  </a:lnTo>
                  <a:lnTo>
                    <a:pt x="1043" y="640"/>
                  </a:lnTo>
                  <a:lnTo>
                    <a:pt x="1045" y="468"/>
                  </a:lnTo>
                  <a:lnTo>
                    <a:pt x="1049" y="641"/>
                  </a:lnTo>
                  <a:lnTo>
                    <a:pt x="1051" y="546"/>
                  </a:lnTo>
                  <a:lnTo>
                    <a:pt x="1054" y="668"/>
                  </a:lnTo>
                  <a:lnTo>
                    <a:pt x="1056" y="640"/>
                  </a:lnTo>
                  <a:lnTo>
                    <a:pt x="1059" y="507"/>
                  </a:lnTo>
                  <a:lnTo>
                    <a:pt x="1062" y="490"/>
                  </a:lnTo>
                  <a:lnTo>
                    <a:pt x="1064" y="198"/>
                  </a:lnTo>
                  <a:lnTo>
                    <a:pt x="1066" y="521"/>
                  </a:lnTo>
                  <a:lnTo>
                    <a:pt x="1070" y="712"/>
                  </a:lnTo>
                  <a:lnTo>
                    <a:pt x="1072" y="534"/>
                  </a:lnTo>
                  <a:lnTo>
                    <a:pt x="1075" y="366"/>
                  </a:lnTo>
                  <a:lnTo>
                    <a:pt x="1078" y="506"/>
                  </a:lnTo>
                  <a:lnTo>
                    <a:pt x="1080" y="554"/>
                  </a:lnTo>
                  <a:lnTo>
                    <a:pt x="1083" y="540"/>
                  </a:lnTo>
                  <a:lnTo>
                    <a:pt x="1085" y="540"/>
                  </a:lnTo>
                  <a:lnTo>
                    <a:pt x="1089" y="325"/>
                  </a:lnTo>
                  <a:lnTo>
                    <a:pt x="1091" y="498"/>
                  </a:lnTo>
                  <a:lnTo>
                    <a:pt x="1093" y="402"/>
                  </a:lnTo>
                  <a:lnTo>
                    <a:pt x="1096" y="430"/>
                  </a:lnTo>
                  <a:lnTo>
                    <a:pt x="1099" y="574"/>
                  </a:lnTo>
                  <a:lnTo>
                    <a:pt x="1101" y="575"/>
                  </a:lnTo>
                  <a:lnTo>
                    <a:pt x="1104" y="704"/>
                  </a:lnTo>
                  <a:lnTo>
                    <a:pt x="1107" y="645"/>
                  </a:lnTo>
                  <a:lnTo>
                    <a:pt x="1110" y="327"/>
                  </a:lnTo>
                  <a:lnTo>
                    <a:pt x="1112" y="421"/>
                  </a:lnTo>
                  <a:lnTo>
                    <a:pt x="1114" y="749"/>
                  </a:lnTo>
                  <a:lnTo>
                    <a:pt x="1118" y="119"/>
                  </a:lnTo>
                  <a:lnTo>
                    <a:pt x="1120" y="576"/>
                  </a:lnTo>
                  <a:lnTo>
                    <a:pt x="1122" y="321"/>
                  </a:lnTo>
                  <a:lnTo>
                    <a:pt x="1125" y="542"/>
                  </a:lnTo>
                  <a:lnTo>
                    <a:pt x="1128" y="530"/>
                  </a:lnTo>
                  <a:lnTo>
                    <a:pt x="1131" y="510"/>
                  </a:lnTo>
                  <a:lnTo>
                    <a:pt x="1133" y="404"/>
                  </a:lnTo>
                  <a:lnTo>
                    <a:pt x="1135" y="692"/>
                  </a:lnTo>
                  <a:lnTo>
                    <a:pt x="1139" y="538"/>
                  </a:lnTo>
                  <a:lnTo>
                    <a:pt x="1141" y="453"/>
                  </a:lnTo>
                  <a:lnTo>
                    <a:pt x="1144" y="75"/>
                  </a:lnTo>
                  <a:lnTo>
                    <a:pt x="1147" y="611"/>
                  </a:lnTo>
                  <a:lnTo>
                    <a:pt x="1149" y="545"/>
                  </a:lnTo>
                  <a:lnTo>
                    <a:pt x="1152" y="472"/>
                  </a:lnTo>
                  <a:lnTo>
                    <a:pt x="1154" y="596"/>
                  </a:lnTo>
                  <a:lnTo>
                    <a:pt x="1157" y="629"/>
                  </a:lnTo>
                  <a:lnTo>
                    <a:pt x="1160" y="955"/>
                  </a:lnTo>
                  <a:lnTo>
                    <a:pt x="1162" y="656"/>
                  </a:lnTo>
                  <a:lnTo>
                    <a:pt x="1166" y="776"/>
                  </a:lnTo>
                  <a:lnTo>
                    <a:pt x="1168" y="434"/>
                  </a:lnTo>
                  <a:lnTo>
                    <a:pt x="1170" y="383"/>
                  </a:lnTo>
                  <a:lnTo>
                    <a:pt x="1173" y="498"/>
                  </a:lnTo>
                  <a:lnTo>
                    <a:pt x="1176" y="429"/>
                  </a:lnTo>
                  <a:lnTo>
                    <a:pt x="1179" y="678"/>
                  </a:lnTo>
                  <a:lnTo>
                    <a:pt x="1181" y="646"/>
                  </a:lnTo>
                  <a:lnTo>
                    <a:pt x="1183" y="402"/>
                  </a:lnTo>
                  <a:lnTo>
                    <a:pt x="1187" y="520"/>
                  </a:lnTo>
                  <a:lnTo>
                    <a:pt x="1189" y="603"/>
                  </a:lnTo>
                  <a:lnTo>
                    <a:pt x="1191" y="538"/>
                  </a:lnTo>
                  <a:lnTo>
                    <a:pt x="1195" y="547"/>
                  </a:lnTo>
                  <a:lnTo>
                    <a:pt x="1197" y="550"/>
                  </a:lnTo>
                  <a:lnTo>
                    <a:pt x="1200" y="712"/>
                  </a:lnTo>
                  <a:lnTo>
                    <a:pt x="1202" y="547"/>
                  </a:lnTo>
                  <a:lnTo>
                    <a:pt x="1205" y="602"/>
                  </a:lnTo>
                  <a:lnTo>
                    <a:pt x="1208" y="440"/>
                  </a:lnTo>
                  <a:lnTo>
                    <a:pt x="1210" y="409"/>
                  </a:lnTo>
                  <a:lnTo>
                    <a:pt x="1214" y="99"/>
                  </a:lnTo>
                  <a:lnTo>
                    <a:pt x="1216" y="545"/>
                  </a:lnTo>
                  <a:lnTo>
                    <a:pt x="1218" y="415"/>
                  </a:lnTo>
                  <a:lnTo>
                    <a:pt x="1221" y="263"/>
                  </a:lnTo>
                  <a:lnTo>
                    <a:pt x="1224" y="595"/>
                  </a:lnTo>
                  <a:lnTo>
                    <a:pt x="1226" y="431"/>
                  </a:lnTo>
                  <a:lnTo>
                    <a:pt x="1229" y="313"/>
                  </a:lnTo>
                  <a:lnTo>
                    <a:pt x="1231" y="604"/>
                  </a:lnTo>
                  <a:lnTo>
                    <a:pt x="1235" y="312"/>
                  </a:lnTo>
                  <a:lnTo>
                    <a:pt x="1237" y="210"/>
                  </a:lnTo>
                  <a:lnTo>
                    <a:pt x="1239" y="410"/>
                  </a:lnTo>
                  <a:lnTo>
                    <a:pt x="1243" y="270"/>
                  </a:lnTo>
                  <a:lnTo>
                    <a:pt x="1245" y="467"/>
                  </a:lnTo>
                  <a:lnTo>
                    <a:pt x="1247" y="592"/>
                  </a:lnTo>
                  <a:lnTo>
                    <a:pt x="1250" y="581"/>
                  </a:lnTo>
                  <a:lnTo>
                    <a:pt x="1253" y="604"/>
                  </a:lnTo>
                  <a:lnTo>
                    <a:pt x="1256" y="618"/>
                  </a:lnTo>
                  <a:lnTo>
                    <a:pt x="1258" y="388"/>
                  </a:lnTo>
                  <a:lnTo>
                    <a:pt x="1260" y="324"/>
                  </a:lnTo>
                  <a:lnTo>
                    <a:pt x="1264" y="227"/>
                  </a:lnTo>
                  <a:lnTo>
                    <a:pt x="1266" y="510"/>
                  </a:lnTo>
                  <a:lnTo>
                    <a:pt x="1269" y="282"/>
                  </a:lnTo>
                  <a:lnTo>
                    <a:pt x="1271" y="621"/>
                  </a:lnTo>
                  <a:lnTo>
                    <a:pt x="1274" y="576"/>
                  </a:lnTo>
                  <a:lnTo>
                    <a:pt x="1277" y="250"/>
                  </a:lnTo>
                  <a:lnTo>
                    <a:pt x="1279" y="581"/>
                  </a:lnTo>
                  <a:lnTo>
                    <a:pt x="1282" y="390"/>
                  </a:lnTo>
                  <a:lnTo>
                    <a:pt x="1285" y="560"/>
                  </a:lnTo>
                  <a:lnTo>
                    <a:pt x="1287" y="388"/>
                  </a:lnTo>
                  <a:lnTo>
                    <a:pt x="1290" y="716"/>
                  </a:lnTo>
                  <a:lnTo>
                    <a:pt x="1293" y="873"/>
                  </a:lnTo>
                  <a:lnTo>
                    <a:pt x="1295" y="643"/>
                  </a:lnTo>
                  <a:lnTo>
                    <a:pt x="1298" y="665"/>
                  </a:lnTo>
                  <a:lnTo>
                    <a:pt x="1300" y="434"/>
                  </a:lnTo>
                  <a:lnTo>
                    <a:pt x="1304" y="572"/>
                  </a:lnTo>
                  <a:lnTo>
                    <a:pt x="1306" y="577"/>
                  </a:lnTo>
                  <a:lnTo>
                    <a:pt x="1308" y="317"/>
                  </a:lnTo>
                  <a:lnTo>
                    <a:pt x="1312" y="485"/>
                  </a:lnTo>
                  <a:lnTo>
                    <a:pt x="1314" y="565"/>
                  </a:lnTo>
                  <a:lnTo>
                    <a:pt x="1316" y="428"/>
                  </a:lnTo>
                  <a:lnTo>
                    <a:pt x="1319" y="298"/>
                  </a:lnTo>
                  <a:lnTo>
                    <a:pt x="1322" y="601"/>
                  </a:lnTo>
                  <a:lnTo>
                    <a:pt x="1325" y="649"/>
                  </a:lnTo>
                  <a:lnTo>
                    <a:pt x="1327" y="574"/>
                  </a:lnTo>
                  <a:lnTo>
                    <a:pt x="1329" y="817"/>
                  </a:lnTo>
                  <a:lnTo>
                    <a:pt x="1333" y="441"/>
                  </a:lnTo>
                  <a:lnTo>
                    <a:pt x="1335" y="558"/>
                  </a:lnTo>
                  <a:lnTo>
                    <a:pt x="1337" y="720"/>
                  </a:lnTo>
                  <a:lnTo>
                    <a:pt x="1341" y="520"/>
                  </a:lnTo>
                  <a:lnTo>
                    <a:pt x="1343" y="301"/>
                  </a:lnTo>
                  <a:lnTo>
                    <a:pt x="1346" y="405"/>
                  </a:lnTo>
                  <a:lnTo>
                    <a:pt x="1348" y="475"/>
                  </a:lnTo>
                  <a:lnTo>
                    <a:pt x="1351" y="537"/>
                  </a:lnTo>
                  <a:lnTo>
                    <a:pt x="1354" y="639"/>
                  </a:lnTo>
                  <a:lnTo>
                    <a:pt x="1356" y="636"/>
                  </a:lnTo>
                  <a:lnTo>
                    <a:pt x="1360" y="340"/>
                  </a:lnTo>
                  <a:lnTo>
                    <a:pt x="1362" y="790"/>
                  </a:lnTo>
                  <a:lnTo>
                    <a:pt x="1364" y="529"/>
                  </a:lnTo>
                  <a:lnTo>
                    <a:pt x="1367" y="414"/>
                  </a:lnTo>
                  <a:lnTo>
                    <a:pt x="1370" y="552"/>
                  </a:lnTo>
                  <a:lnTo>
                    <a:pt x="1372" y="772"/>
                  </a:lnTo>
                  <a:lnTo>
                    <a:pt x="1375" y="338"/>
                  </a:lnTo>
                  <a:lnTo>
                    <a:pt x="1377" y="350"/>
                  </a:lnTo>
                  <a:lnTo>
                    <a:pt x="1381" y="602"/>
                  </a:lnTo>
                  <a:lnTo>
                    <a:pt x="1383" y="579"/>
                  </a:lnTo>
                  <a:lnTo>
                    <a:pt x="1385" y="606"/>
                  </a:lnTo>
                  <a:lnTo>
                    <a:pt x="1389" y="385"/>
                  </a:lnTo>
                  <a:lnTo>
                    <a:pt x="1391" y="172"/>
                  </a:lnTo>
                  <a:lnTo>
                    <a:pt x="1394" y="664"/>
                  </a:lnTo>
                  <a:lnTo>
                    <a:pt x="1396" y="401"/>
                  </a:lnTo>
                  <a:lnTo>
                    <a:pt x="1399" y="517"/>
                  </a:lnTo>
                  <a:lnTo>
                    <a:pt x="1402" y="426"/>
                  </a:lnTo>
                  <a:lnTo>
                    <a:pt x="1404" y="359"/>
                  </a:lnTo>
                  <a:lnTo>
                    <a:pt x="1406" y="298"/>
                  </a:lnTo>
                  <a:lnTo>
                    <a:pt x="1410" y="625"/>
                  </a:lnTo>
                  <a:lnTo>
                    <a:pt x="1412" y="478"/>
                  </a:lnTo>
                  <a:lnTo>
                    <a:pt x="1415" y="500"/>
                  </a:lnTo>
                  <a:lnTo>
                    <a:pt x="1418" y="279"/>
                  </a:lnTo>
                  <a:lnTo>
                    <a:pt x="1420" y="488"/>
                  </a:lnTo>
                  <a:lnTo>
                    <a:pt x="1423" y="399"/>
                  </a:lnTo>
                  <a:lnTo>
                    <a:pt x="1425" y="697"/>
                  </a:lnTo>
                  <a:lnTo>
                    <a:pt x="1429" y="374"/>
                  </a:lnTo>
                  <a:lnTo>
                    <a:pt x="1431" y="374"/>
                  </a:lnTo>
                  <a:lnTo>
                    <a:pt x="1433" y="608"/>
                  </a:lnTo>
                  <a:lnTo>
                    <a:pt x="1436" y="472"/>
                  </a:lnTo>
                  <a:lnTo>
                    <a:pt x="1439" y="373"/>
                  </a:lnTo>
                  <a:lnTo>
                    <a:pt x="1441" y="681"/>
                  </a:lnTo>
                  <a:lnTo>
                    <a:pt x="1444" y="495"/>
                  </a:lnTo>
                  <a:lnTo>
                    <a:pt x="1446" y="494"/>
                  </a:lnTo>
                  <a:lnTo>
                    <a:pt x="1450" y="610"/>
                  </a:lnTo>
                  <a:lnTo>
                    <a:pt x="1452" y="390"/>
                  </a:lnTo>
                  <a:lnTo>
                    <a:pt x="1454" y="470"/>
                  </a:lnTo>
                  <a:lnTo>
                    <a:pt x="1458" y="584"/>
                  </a:lnTo>
                  <a:lnTo>
                    <a:pt x="1460" y="415"/>
                  </a:lnTo>
                  <a:lnTo>
                    <a:pt x="1462" y="448"/>
                  </a:lnTo>
                  <a:lnTo>
                    <a:pt x="1465" y="284"/>
                  </a:lnTo>
                  <a:lnTo>
                    <a:pt x="1468" y="334"/>
                  </a:lnTo>
                  <a:lnTo>
                    <a:pt x="1471" y="291"/>
                  </a:lnTo>
                  <a:lnTo>
                    <a:pt x="1473" y="331"/>
                  </a:lnTo>
                  <a:lnTo>
                    <a:pt x="1475" y="796"/>
                  </a:lnTo>
                  <a:lnTo>
                    <a:pt x="1479" y="575"/>
                  </a:lnTo>
                  <a:lnTo>
                    <a:pt x="1481" y="349"/>
                  </a:lnTo>
                  <a:lnTo>
                    <a:pt x="1484" y="502"/>
                  </a:lnTo>
                  <a:lnTo>
                    <a:pt x="1487" y="601"/>
                  </a:lnTo>
                  <a:lnTo>
                    <a:pt x="1489" y="449"/>
                  </a:lnTo>
                  <a:lnTo>
                    <a:pt x="1492" y="415"/>
                  </a:lnTo>
                  <a:lnTo>
                    <a:pt x="1494" y="815"/>
                  </a:lnTo>
                  <a:lnTo>
                    <a:pt x="1497" y="600"/>
                  </a:lnTo>
                  <a:lnTo>
                    <a:pt x="1500" y="331"/>
                  </a:lnTo>
                  <a:lnTo>
                    <a:pt x="1502" y="616"/>
                  </a:lnTo>
                  <a:lnTo>
                    <a:pt x="1506" y="375"/>
                  </a:lnTo>
                  <a:lnTo>
                    <a:pt x="1508" y="380"/>
                  </a:lnTo>
                  <a:lnTo>
                    <a:pt x="1510" y="598"/>
                  </a:lnTo>
                  <a:lnTo>
                    <a:pt x="1513" y="530"/>
                  </a:lnTo>
                  <a:lnTo>
                    <a:pt x="1516" y="439"/>
                  </a:lnTo>
                  <a:lnTo>
                    <a:pt x="1519" y="470"/>
                  </a:lnTo>
                  <a:lnTo>
                    <a:pt x="1521" y="140"/>
                  </a:lnTo>
                  <a:lnTo>
                    <a:pt x="1523" y="350"/>
                  </a:lnTo>
                  <a:lnTo>
                    <a:pt x="1527" y="573"/>
                  </a:lnTo>
                  <a:lnTo>
                    <a:pt x="1529" y="365"/>
                  </a:lnTo>
                  <a:lnTo>
                    <a:pt x="1531" y="705"/>
                  </a:lnTo>
                  <a:lnTo>
                    <a:pt x="1535" y="345"/>
                  </a:lnTo>
                  <a:lnTo>
                    <a:pt x="1537" y="651"/>
                  </a:lnTo>
                  <a:lnTo>
                    <a:pt x="1540" y="508"/>
                  </a:lnTo>
                  <a:lnTo>
                    <a:pt x="1542" y="463"/>
                  </a:lnTo>
                  <a:lnTo>
                    <a:pt x="1545" y="421"/>
                  </a:lnTo>
                  <a:lnTo>
                    <a:pt x="1548" y="408"/>
                  </a:lnTo>
                  <a:lnTo>
                    <a:pt x="1550" y="857"/>
                  </a:lnTo>
                  <a:lnTo>
                    <a:pt x="1553" y="616"/>
                  </a:lnTo>
                  <a:lnTo>
                    <a:pt x="1556" y="471"/>
                  </a:lnTo>
                  <a:lnTo>
                    <a:pt x="1558" y="731"/>
                  </a:lnTo>
                  <a:lnTo>
                    <a:pt x="1561" y="371"/>
                  </a:lnTo>
                  <a:lnTo>
                    <a:pt x="1564" y="469"/>
                  </a:lnTo>
                  <a:lnTo>
                    <a:pt x="1566" y="293"/>
                  </a:lnTo>
                  <a:lnTo>
                    <a:pt x="1569" y="515"/>
                  </a:lnTo>
                  <a:lnTo>
                    <a:pt x="1571" y="832"/>
                  </a:lnTo>
                  <a:lnTo>
                    <a:pt x="1575" y="660"/>
                  </a:lnTo>
                  <a:lnTo>
                    <a:pt x="1577" y="393"/>
                  </a:lnTo>
                  <a:lnTo>
                    <a:pt x="1579" y="463"/>
                  </a:lnTo>
                  <a:lnTo>
                    <a:pt x="1582" y="625"/>
                  </a:lnTo>
                  <a:lnTo>
                    <a:pt x="1585" y="473"/>
                  </a:lnTo>
                  <a:lnTo>
                    <a:pt x="1587" y="171"/>
                  </a:lnTo>
                  <a:lnTo>
                    <a:pt x="1590" y="255"/>
                  </a:lnTo>
                  <a:lnTo>
                    <a:pt x="1593" y="393"/>
                  </a:lnTo>
                  <a:lnTo>
                    <a:pt x="1596" y="386"/>
                  </a:lnTo>
                  <a:lnTo>
                    <a:pt x="1598" y="594"/>
                  </a:lnTo>
                  <a:lnTo>
                    <a:pt x="1600" y="674"/>
                  </a:lnTo>
                  <a:lnTo>
                    <a:pt x="1604" y="383"/>
                  </a:lnTo>
                  <a:lnTo>
                    <a:pt x="1606" y="266"/>
                  </a:lnTo>
                  <a:lnTo>
                    <a:pt x="1609" y="450"/>
                  </a:lnTo>
                  <a:lnTo>
                    <a:pt x="1611" y="526"/>
                  </a:lnTo>
                  <a:lnTo>
                    <a:pt x="1614" y="256"/>
                  </a:lnTo>
                  <a:lnTo>
                    <a:pt x="1617" y="286"/>
                  </a:lnTo>
                  <a:lnTo>
                    <a:pt x="1619" y="409"/>
                  </a:lnTo>
                  <a:lnTo>
                    <a:pt x="1621" y="370"/>
                  </a:lnTo>
                  <a:lnTo>
                    <a:pt x="1625" y="199"/>
                  </a:lnTo>
                  <a:lnTo>
                    <a:pt x="1627" y="537"/>
                  </a:lnTo>
                  <a:lnTo>
                    <a:pt x="1630" y="432"/>
                  </a:lnTo>
                  <a:lnTo>
                    <a:pt x="1633" y="586"/>
                  </a:lnTo>
                  <a:lnTo>
                    <a:pt x="1635" y="510"/>
                  </a:lnTo>
                  <a:lnTo>
                    <a:pt x="1638" y="568"/>
                  </a:lnTo>
                  <a:lnTo>
                    <a:pt x="1640" y="808"/>
                  </a:lnTo>
                  <a:lnTo>
                    <a:pt x="1644" y="614"/>
                  </a:lnTo>
                  <a:lnTo>
                    <a:pt x="1646" y="523"/>
                  </a:lnTo>
                  <a:lnTo>
                    <a:pt x="1648" y="458"/>
                  </a:lnTo>
                  <a:lnTo>
                    <a:pt x="1652" y="334"/>
                  </a:lnTo>
                  <a:lnTo>
                    <a:pt x="1654" y="404"/>
                  </a:lnTo>
                  <a:lnTo>
                    <a:pt x="1656" y="810"/>
                  </a:lnTo>
                  <a:lnTo>
                    <a:pt x="1659" y="422"/>
                  </a:lnTo>
                  <a:lnTo>
                    <a:pt x="1662" y="417"/>
                  </a:lnTo>
                  <a:lnTo>
                    <a:pt x="1665" y="236"/>
                  </a:lnTo>
                  <a:lnTo>
                    <a:pt x="1667" y="342"/>
                  </a:lnTo>
                  <a:lnTo>
                    <a:pt x="1669" y="230"/>
                  </a:lnTo>
                  <a:lnTo>
                    <a:pt x="1673" y="606"/>
                  </a:lnTo>
                  <a:lnTo>
                    <a:pt x="1675" y="761"/>
                  </a:lnTo>
                  <a:lnTo>
                    <a:pt x="1678" y="225"/>
                  </a:lnTo>
                  <a:lnTo>
                    <a:pt x="1681" y="356"/>
                  </a:lnTo>
                  <a:lnTo>
                    <a:pt x="1683" y="553"/>
                  </a:lnTo>
                  <a:lnTo>
                    <a:pt x="1686" y="552"/>
                  </a:lnTo>
                  <a:lnTo>
                    <a:pt x="1688" y="151"/>
                  </a:lnTo>
                  <a:lnTo>
                    <a:pt x="1691" y="602"/>
                  </a:lnTo>
                  <a:lnTo>
                    <a:pt x="1694" y="178"/>
                  </a:lnTo>
                  <a:lnTo>
                    <a:pt x="1696" y="660"/>
                  </a:lnTo>
                  <a:lnTo>
                    <a:pt x="1700" y="198"/>
                  </a:lnTo>
                  <a:lnTo>
                    <a:pt x="1702" y="685"/>
                  </a:lnTo>
                  <a:lnTo>
                    <a:pt x="1704" y="181"/>
                  </a:lnTo>
                  <a:lnTo>
                    <a:pt x="1707" y="421"/>
                  </a:lnTo>
                  <a:lnTo>
                    <a:pt x="1710" y="297"/>
                  </a:lnTo>
                  <a:lnTo>
                    <a:pt x="1712" y="477"/>
                  </a:lnTo>
                  <a:lnTo>
                    <a:pt x="1715" y="365"/>
                  </a:lnTo>
                  <a:lnTo>
                    <a:pt x="1717" y="496"/>
                  </a:lnTo>
                  <a:lnTo>
                    <a:pt x="1721" y="598"/>
                  </a:lnTo>
                  <a:lnTo>
                    <a:pt x="1723" y="263"/>
                  </a:lnTo>
                  <a:lnTo>
                    <a:pt x="1725" y="255"/>
                  </a:lnTo>
                  <a:lnTo>
                    <a:pt x="1728" y="409"/>
                  </a:lnTo>
                  <a:lnTo>
                    <a:pt x="1731" y="530"/>
                  </a:lnTo>
                  <a:lnTo>
                    <a:pt x="1734" y="496"/>
                  </a:lnTo>
                  <a:lnTo>
                    <a:pt x="1736" y="172"/>
                  </a:lnTo>
                  <a:lnTo>
                    <a:pt x="1739" y="974"/>
                  </a:lnTo>
                  <a:lnTo>
                    <a:pt x="1742" y="369"/>
                  </a:lnTo>
                  <a:lnTo>
                    <a:pt x="1744" y="147"/>
                  </a:lnTo>
                  <a:lnTo>
                    <a:pt x="1746" y="456"/>
                  </a:lnTo>
                  <a:lnTo>
                    <a:pt x="1750" y="332"/>
                  </a:lnTo>
                  <a:lnTo>
                    <a:pt x="1752" y="480"/>
                  </a:lnTo>
                  <a:lnTo>
                    <a:pt x="1755" y="409"/>
                  </a:lnTo>
                  <a:lnTo>
                    <a:pt x="1757" y="587"/>
                  </a:lnTo>
                  <a:lnTo>
                    <a:pt x="1760" y="409"/>
                  </a:lnTo>
                  <a:lnTo>
                    <a:pt x="1763" y="230"/>
                  </a:lnTo>
                  <a:lnTo>
                    <a:pt x="1765" y="0"/>
                  </a:lnTo>
                  <a:lnTo>
                    <a:pt x="1769" y="591"/>
                  </a:lnTo>
                  <a:lnTo>
                    <a:pt x="1771" y="402"/>
                  </a:lnTo>
                  <a:lnTo>
                    <a:pt x="1773" y="504"/>
                  </a:lnTo>
                  <a:lnTo>
                    <a:pt x="1776" y="603"/>
                  </a:lnTo>
                  <a:lnTo>
                    <a:pt x="1779" y="625"/>
                  </a:lnTo>
                  <a:lnTo>
                    <a:pt x="1781" y="614"/>
                  </a:lnTo>
                  <a:lnTo>
                    <a:pt x="1784" y="297"/>
                  </a:lnTo>
                  <a:lnTo>
                    <a:pt x="1786" y="419"/>
                  </a:lnTo>
                  <a:lnTo>
                    <a:pt x="1790" y="519"/>
                  </a:lnTo>
                  <a:lnTo>
                    <a:pt x="1792" y="589"/>
                  </a:lnTo>
                  <a:lnTo>
                    <a:pt x="1794" y="623"/>
                  </a:lnTo>
                  <a:lnTo>
                    <a:pt x="1798" y="536"/>
                  </a:lnTo>
                  <a:lnTo>
                    <a:pt x="1800" y="563"/>
                  </a:lnTo>
                  <a:lnTo>
                    <a:pt x="1802" y="540"/>
                  </a:lnTo>
                  <a:lnTo>
                    <a:pt x="1805" y="246"/>
                  </a:lnTo>
                  <a:lnTo>
                    <a:pt x="1808" y="687"/>
                  </a:lnTo>
                  <a:lnTo>
                    <a:pt x="1811" y="521"/>
                  </a:lnTo>
                  <a:lnTo>
                    <a:pt x="1813" y="436"/>
                  </a:lnTo>
                  <a:lnTo>
                    <a:pt x="1815" y="331"/>
                  </a:lnTo>
                  <a:lnTo>
                    <a:pt x="1819" y="562"/>
                  </a:lnTo>
                  <a:lnTo>
                    <a:pt x="1821" y="607"/>
                  </a:lnTo>
                  <a:lnTo>
                    <a:pt x="1824" y="586"/>
                  </a:lnTo>
                  <a:lnTo>
                    <a:pt x="1827" y="469"/>
                  </a:lnTo>
                  <a:lnTo>
                    <a:pt x="1829" y="533"/>
                  </a:lnTo>
                  <a:lnTo>
                    <a:pt x="1832" y="378"/>
                  </a:lnTo>
                  <a:lnTo>
                    <a:pt x="1834" y="644"/>
                  </a:lnTo>
                  <a:lnTo>
                    <a:pt x="1837" y="321"/>
                  </a:lnTo>
                  <a:lnTo>
                    <a:pt x="1840" y="501"/>
                  </a:lnTo>
                  <a:lnTo>
                    <a:pt x="1842" y="835"/>
                  </a:lnTo>
                  <a:lnTo>
                    <a:pt x="1846" y="539"/>
                  </a:lnTo>
                  <a:lnTo>
                    <a:pt x="1848" y="499"/>
                  </a:lnTo>
                  <a:lnTo>
                    <a:pt x="1850" y="382"/>
                  </a:lnTo>
                  <a:lnTo>
                    <a:pt x="1853" y="373"/>
                  </a:lnTo>
                  <a:lnTo>
                    <a:pt x="1856" y="865"/>
                  </a:lnTo>
                  <a:lnTo>
                    <a:pt x="1859" y="772"/>
                  </a:lnTo>
                  <a:lnTo>
                    <a:pt x="1861" y="407"/>
                  </a:lnTo>
                  <a:lnTo>
                    <a:pt x="1863" y="248"/>
                  </a:lnTo>
                  <a:lnTo>
                    <a:pt x="1867" y="705"/>
                  </a:lnTo>
                  <a:lnTo>
                    <a:pt x="1869" y="330"/>
                  </a:lnTo>
                  <a:lnTo>
                    <a:pt x="1871" y="752"/>
                  </a:lnTo>
                  <a:lnTo>
                    <a:pt x="1875" y="344"/>
                  </a:lnTo>
                  <a:lnTo>
                    <a:pt x="1877" y="437"/>
                  </a:lnTo>
                  <a:lnTo>
                    <a:pt x="1880" y="429"/>
                  </a:lnTo>
                  <a:lnTo>
                    <a:pt x="1882" y="548"/>
                  </a:lnTo>
                  <a:lnTo>
                    <a:pt x="1885" y="269"/>
                  </a:lnTo>
                  <a:lnTo>
                    <a:pt x="1888" y="623"/>
                  </a:lnTo>
                  <a:lnTo>
                    <a:pt x="1890" y="625"/>
                  </a:lnTo>
                  <a:lnTo>
                    <a:pt x="1893" y="430"/>
                  </a:lnTo>
                  <a:lnTo>
                    <a:pt x="1896" y="247"/>
                  </a:lnTo>
                  <a:lnTo>
                    <a:pt x="1898" y="602"/>
                  </a:lnTo>
                  <a:lnTo>
                    <a:pt x="1901" y="732"/>
                  </a:lnTo>
                  <a:lnTo>
                    <a:pt x="1903" y="496"/>
                  </a:lnTo>
                  <a:lnTo>
                    <a:pt x="1906" y="834"/>
                  </a:lnTo>
                  <a:lnTo>
                    <a:pt x="1909" y="409"/>
                  </a:lnTo>
                  <a:lnTo>
                    <a:pt x="1911" y="616"/>
                  </a:lnTo>
                  <a:lnTo>
                    <a:pt x="1915" y="543"/>
                  </a:lnTo>
                  <a:lnTo>
                    <a:pt x="1917" y="424"/>
                  </a:lnTo>
                  <a:lnTo>
                    <a:pt x="1919" y="618"/>
                  </a:lnTo>
                  <a:lnTo>
                    <a:pt x="1922" y="663"/>
                  </a:lnTo>
                  <a:lnTo>
                    <a:pt x="1925" y="531"/>
                  </a:lnTo>
                  <a:lnTo>
                    <a:pt x="1927" y="557"/>
                  </a:lnTo>
                  <a:lnTo>
                    <a:pt x="1930" y="458"/>
                  </a:lnTo>
                  <a:lnTo>
                    <a:pt x="1932" y="654"/>
                  </a:lnTo>
                  <a:lnTo>
                    <a:pt x="1936" y="586"/>
                  </a:lnTo>
                  <a:lnTo>
                    <a:pt x="1938" y="288"/>
                  </a:lnTo>
                  <a:lnTo>
                    <a:pt x="1940" y="501"/>
                  </a:lnTo>
                  <a:lnTo>
                    <a:pt x="1944" y="627"/>
                  </a:lnTo>
                  <a:lnTo>
                    <a:pt x="1946" y="476"/>
                  </a:lnTo>
                  <a:lnTo>
                    <a:pt x="1949" y="568"/>
                  </a:lnTo>
                  <a:lnTo>
                    <a:pt x="1951" y="243"/>
                  </a:lnTo>
                  <a:lnTo>
                    <a:pt x="1954" y="443"/>
                  </a:lnTo>
                  <a:lnTo>
                    <a:pt x="1957" y="422"/>
                  </a:lnTo>
                  <a:lnTo>
                    <a:pt x="1959" y="192"/>
                  </a:lnTo>
                  <a:lnTo>
                    <a:pt x="1961" y="444"/>
                  </a:lnTo>
                  <a:lnTo>
                    <a:pt x="1965" y="817"/>
                  </a:lnTo>
                  <a:lnTo>
                    <a:pt x="1967" y="475"/>
                  </a:lnTo>
                  <a:lnTo>
                    <a:pt x="1970" y="690"/>
                  </a:lnTo>
                  <a:lnTo>
                    <a:pt x="1973" y="278"/>
                  </a:lnTo>
                  <a:lnTo>
                    <a:pt x="1975" y="770"/>
                  </a:lnTo>
                  <a:lnTo>
                    <a:pt x="1978" y="543"/>
                  </a:lnTo>
                  <a:lnTo>
                    <a:pt x="1980" y="601"/>
                  </a:lnTo>
                  <a:lnTo>
                    <a:pt x="1984" y="480"/>
                  </a:lnTo>
                  <a:lnTo>
                    <a:pt x="1986" y="658"/>
                  </a:lnTo>
                  <a:lnTo>
                    <a:pt x="1988" y="423"/>
                  </a:lnTo>
                  <a:lnTo>
                    <a:pt x="1992" y="625"/>
                  </a:lnTo>
                  <a:lnTo>
                    <a:pt x="1994" y="375"/>
                  </a:lnTo>
                  <a:lnTo>
                    <a:pt x="1996" y="501"/>
                  </a:lnTo>
                  <a:lnTo>
                    <a:pt x="1999" y="900"/>
                  </a:lnTo>
                  <a:lnTo>
                    <a:pt x="2002" y="672"/>
                  </a:lnTo>
                  <a:lnTo>
                    <a:pt x="2005" y="433"/>
                  </a:lnTo>
                  <a:lnTo>
                    <a:pt x="2007" y="566"/>
                  </a:lnTo>
                  <a:lnTo>
                    <a:pt x="2009" y="770"/>
                  </a:lnTo>
                  <a:lnTo>
                    <a:pt x="2013" y="276"/>
                  </a:lnTo>
                  <a:lnTo>
                    <a:pt x="2015" y="478"/>
                  </a:lnTo>
                  <a:lnTo>
                    <a:pt x="2018" y="659"/>
                  </a:lnTo>
                  <a:lnTo>
                    <a:pt x="2021" y="433"/>
                  </a:lnTo>
                  <a:lnTo>
                    <a:pt x="2023" y="374"/>
                  </a:lnTo>
                  <a:lnTo>
                    <a:pt x="2026" y="455"/>
                  </a:lnTo>
                  <a:lnTo>
                    <a:pt x="2028" y="504"/>
                  </a:lnTo>
                  <a:lnTo>
                    <a:pt x="2031" y="239"/>
                  </a:lnTo>
                  <a:lnTo>
                    <a:pt x="2034" y="399"/>
                  </a:lnTo>
                  <a:lnTo>
                    <a:pt x="2036" y="243"/>
                  </a:lnTo>
                  <a:lnTo>
                    <a:pt x="2039" y="527"/>
                  </a:lnTo>
                  <a:lnTo>
                    <a:pt x="2042" y="646"/>
                  </a:lnTo>
                  <a:lnTo>
                    <a:pt x="2044" y="566"/>
                  </a:lnTo>
                  <a:lnTo>
                    <a:pt x="2047" y="562"/>
                  </a:lnTo>
                  <a:lnTo>
                    <a:pt x="2050" y="335"/>
                  </a:lnTo>
                  <a:lnTo>
                    <a:pt x="2052" y="829"/>
                  </a:lnTo>
                  <a:lnTo>
                    <a:pt x="2055" y="661"/>
                  </a:lnTo>
                  <a:lnTo>
                    <a:pt x="2057" y="507"/>
                  </a:lnTo>
                  <a:lnTo>
                    <a:pt x="2061" y="426"/>
                  </a:lnTo>
                  <a:lnTo>
                    <a:pt x="2063" y="649"/>
                  </a:lnTo>
                  <a:lnTo>
                    <a:pt x="2065" y="421"/>
                  </a:lnTo>
                  <a:lnTo>
                    <a:pt x="2068" y="492"/>
                  </a:lnTo>
                  <a:lnTo>
                    <a:pt x="2071" y="610"/>
                  </a:lnTo>
                  <a:lnTo>
                    <a:pt x="2074" y="520"/>
                  </a:lnTo>
                  <a:lnTo>
                    <a:pt x="2076" y="305"/>
                  </a:lnTo>
                  <a:lnTo>
                    <a:pt x="2078" y="394"/>
                  </a:lnTo>
                  <a:lnTo>
                    <a:pt x="2082" y="506"/>
                  </a:lnTo>
                  <a:lnTo>
                    <a:pt x="2084" y="422"/>
                  </a:lnTo>
                  <a:lnTo>
                    <a:pt x="2086" y="615"/>
                  </a:lnTo>
                  <a:lnTo>
                    <a:pt x="2090" y="500"/>
                  </a:lnTo>
                  <a:lnTo>
                    <a:pt x="2092" y="664"/>
                  </a:lnTo>
                  <a:lnTo>
                    <a:pt x="2095" y="469"/>
                  </a:lnTo>
                  <a:lnTo>
                    <a:pt x="2097" y="607"/>
                  </a:lnTo>
                  <a:lnTo>
                    <a:pt x="2100" y="689"/>
                  </a:lnTo>
                  <a:lnTo>
                    <a:pt x="2103" y="426"/>
                  </a:lnTo>
                  <a:lnTo>
                    <a:pt x="2105" y="163"/>
                  </a:lnTo>
                  <a:lnTo>
                    <a:pt x="2109" y="428"/>
                  </a:lnTo>
                  <a:lnTo>
                    <a:pt x="2111" y="458"/>
                  </a:lnTo>
                  <a:lnTo>
                    <a:pt x="2113" y="303"/>
                  </a:lnTo>
                  <a:lnTo>
                    <a:pt x="2116" y="342"/>
                  </a:lnTo>
                  <a:lnTo>
                    <a:pt x="2119" y="465"/>
                  </a:lnTo>
                  <a:lnTo>
                    <a:pt x="2121" y="742"/>
                  </a:lnTo>
                  <a:lnTo>
                    <a:pt x="2124" y="443"/>
                  </a:lnTo>
                  <a:lnTo>
                    <a:pt x="2126" y="665"/>
                  </a:lnTo>
                  <a:lnTo>
                    <a:pt x="2130" y="794"/>
                  </a:lnTo>
                  <a:lnTo>
                    <a:pt x="2132" y="530"/>
                  </a:lnTo>
                  <a:lnTo>
                    <a:pt x="2134" y="400"/>
                  </a:lnTo>
                  <a:lnTo>
                    <a:pt x="2138" y="490"/>
                  </a:lnTo>
                  <a:lnTo>
                    <a:pt x="2140" y="442"/>
                  </a:lnTo>
                  <a:lnTo>
                    <a:pt x="2142" y="555"/>
                  </a:lnTo>
                  <a:lnTo>
                    <a:pt x="2145" y="623"/>
                  </a:lnTo>
                  <a:lnTo>
                    <a:pt x="2148" y="357"/>
                  </a:lnTo>
                  <a:lnTo>
                    <a:pt x="2151" y="611"/>
                  </a:lnTo>
                  <a:lnTo>
                    <a:pt x="2153" y="468"/>
                  </a:lnTo>
                  <a:lnTo>
                    <a:pt x="2155" y="543"/>
                  </a:lnTo>
                  <a:lnTo>
                    <a:pt x="2159" y="172"/>
                  </a:lnTo>
                  <a:lnTo>
                    <a:pt x="2161" y="509"/>
                  </a:lnTo>
                  <a:lnTo>
                    <a:pt x="2164" y="621"/>
                  </a:lnTo>
                  <a:lnTo>
                    <a:pt x="2167" y="543"/>
                  </a:lnTo>
                  <a:lnTo>
                    <a:pt x="2169" y="222"/>
                  </a:lnTo>
                  <a:lnTo>
                    <a:pt x="2172" y="350"/>
                  </a:lnTo>
                  <a:lnTo>
                    <a:pt x="2174" y="736"/>
                  </a:lnTo>
                  <a:lnTo>
                    <a:pt x="2177" y="605"/>
                  </a:lnTo>
                  <a:lnTo>
                    <a:pt x="2180" y="444"/>
                  </a:lnTo>
                  <a:lnTo>
                    <a:pt x="2182" y="702"/>
                  </a:lnTo>
                  <a:lnTo>
                    <a:pt x="2185" y="444"/>
                  </a:lnTo>
                  <a:lnTo>
                    <a:pt x="2188" y="481"/>
                  </a:lnTo>
                  <a:lnTo>
                    <a:pt x="2190" y="320"/>
                  </a:lnTo>
                  <a:lnTo>
                    <a:pt x="2193" y="496"/>
                  </a:lnTo>
                  <a:lnTo>
                    <a:pt x="2196" y="499"/>
                  </a:lnTo>
                  <a:lnTo>
                    <a:pt x="2199" y="488"/>
                  </a:lnTo>
                  <a:lnTo>
                    <a:pt x="2201" y="769"/>
                  </a:lnTo>
                  <a:lnTo>
                    <a:pt x="2203" y="322"/>
                  </a:lnTo>
                  <a:lnTo>
                    <a:pt x="2207" y="577"/>
                  </a:lnTo>
                  <a:lnTo>
                    <a:pt x="2209" y="354"/>
                  </a:lnTo>
                  <a:lnTo>
                    <a:pt x="2211" y="651"/>
                  </a:lnTo>
                  <a:lnTo>
                    <a:pt x="2214" y="451"/>
                  </a:lnTo>
                  <a:lnTo>
                    <a:pt x="2217" y="755"/>
                  </a:lnTo>
                  <a:lnTo>
                    <a:pt x="2220" y="210"/>
                  </a:lnTo>
                  <a:lnTo>
                    <a:pt x="2222" y="600"/>
                  </a:lnTo>
                  <a:lnTo>
                    <a:pt x="2224" y="504"/>
                  </a:lnTo>
                  <a:lnTo>
                    <a:pt x="2228" y="288"/>
                  </a:lnTo>
                  <a:lnTo>
                    <a:pt x="2230" y="436"/>
                  </a:lnTo>
                  <a:lnTo>
                    <a:pt x="2233" y="209"/>
                  </a:lnTo>
                  <a:lnTo>
                    <a:pt x="2236" y="651"/>
                  </a:lnTo>
                  <a:lnTo>
                    <a:pt x="2238" y="719"/>
                  </a:lnTo>
                  <a:lnTo>
                    <a:pt x="2241" y="579"/>
                  </a:lnTo>
                  <a:lnTo>
                    <a:pt x="2243" y="443"/>
                  </a:lnTo>
                  <a:lnTo>
                    <a:pt x="2246" y="193"/>
                  </a:lnTo>
                  <a:lnTo>
                    <a:pt x="2249" y="895"/>
                  </a:lnTo>
                  <a:lnTo>
                    <a:pt x="2251" y="523"/>
                  </a:lnTo>
                  <a:lnTo>
                    <a:pt x="2255" y="336"/>
                  </a:lnTo>
                  <a:lnTo>
                    <a:pt x="2257" y="332"/>
                  </a:lnTo>
                  <a:lnTo>
                    <a:pt x="2259" y="354"/>
                  </a:lnTo>
                  <a:lnTo>
                    <a:pt x="2262" y="227"/>
                  </a:lnTo>
                  <a:lnTo>
                    <a:pt x="2265" y="378"/>
                  </a:lnTo>
                  <a:lnTo>
                    <a:pt x="2267" y="761"/>
                  </a:lnTo>
                  <a:lnTo>
                    <a:pt x="2270" y="602"/>
                  </a:lnTo>
                  <a:lnTo>
                    <a:pt x="2272" y="505"/>
                  </a:lnTo>
                  <a:lnTo>
                    <a:pt x="2276" y="306"/>
                  </a:lnTo>
                  <a:lnTo>
                    <a:pt x="2278" y="622"/>
                  </a:lnTo>
                  <a:lnTo>
                    <a:pt x="2280" y="934"/>
                  </a:lnTo>
                  <a:lnTo>
                    <a:pt x="2284" y="690"/>
                  </a:lnTo>
                  <a:lnTo>
                    <a:pt x="2286" y="569"/>
                  </a:lnTo>
                  <a:lnTo>
                    <a:pt x="2289" y="591"/>
                  </a:lnTo>
                  <a:lnTo>
                    <a:pt x="2291" y="476"/>
                  </a:lnTo>
                  <a:lnTo>
                    <a:pt x="2294" y="352"/>
                  </a:lnTo>
                  <a:lnTo>
                    <a:pt x="2297" y="517"/>
                  </a:lnTo>
                  <a:lnTo>
                    <a:pt x="2299" y="652"/>
                  </a:lnTo>
                  <a:lnTo>
                    <a:pt x="2301" y="741"/>
                  </a:lnTo>
                  <a:lnTo>
                    <a:pt x="2305" y="351"/>
                  </a:lnTo>
                  <a:lnTo>
                    <a:pt x="2307" y="634"/>
                  </a:lnTo>
                  <a:lnTo>
                    <a:pt x="2310" y="364"/>
                  </a:lnTo>
                  <a:lnTo>
                    <a:pt x="2313" y="583"/>
                  </a:lnTo>
                  <a:lnTo>
                    <a:pt x="2315" y="557"/>
                  </a:lnTo>
                  <a:lnTo>
                    <a:pt x="2318" y="438"/>
                  </a:lnTo>
                  <a:lnTo>
                    <a:pt x="2320" y="364"/>
                  </a:lnTo>
                  <a:lnTo>
                    <a:pt x="2324" y="489"/>
                  </a:lnTo>
                  <a:lnTo>
                    <a:pt x="2326" y="236"/>
                  </a:lnTo>
                  <a:lnTo>
                    <a:pt x="2328" y="785"/>
                  </a:lnTo>
                  <a:lnTo>
                    <a:pt x="2332" y="691"/>
                  </a:lnTo>
                  <a:lnTo>
                    <a:pt x="2334" y="352"/>
                  </a:lnTo>
                  <a:lnTo>
                    <a:pt x="2336" y="584"/>
                  </a:lnTo>
                  <a:lnTo>
                    <a:pt x="2339" y="557"/>
                  </a:lnTo>
                  <a:lnTo>
                    <a:pt x="2342" y="685"/>
                  </a:lnTo>
                  <a:lnTo>
                    <a:pt x="2345" y="506"/>
                  </a:lnTo>
                  <a:lnTo>
                    <a:pt x="2347" y="247"/>
                  </a:lnTo>
                  <a:lnTo>
                    <a:pt x="2349" y="824"/>
                  </a:lnTo>
                  <a:lnTo>
                    <a:pt x="2353" y="433"/>
                  </a:lnTo>
                  <a:lnTo>
                    <a:pt x="2355" y="415"/>
                  </a:lnTo>
                  <a:lnTo>
                    <a:pt x="2358" y="603"/>
                  </a:lnTo>
                  <a:lnTo>
                    <a:pt x="2360" y="436"/>
                  </a:lnTo>
                  <a:lnTo>
                    <a:pt x="2363" y="460"/>
                  </a:lnTo>
                  <a:lnTo>
                    <a:pt x="2366" y="562"/>
                  </a:lnTo>
                  <a:lnTo>
                    <a:pt x="2368" y="704"/>
                  </a:lnTo>
                  <a:lnTo>
                    <a:pt x="2371" y="90"/>
                  </a:lnTo>
                  <a:lnTo>
                    <a:pt x="2374" y="689"/>
                  </a:lnTo>
                  <a:lnTo>
                    <a:pt x="2376" y="567"/>
                  </a:lnTo>
                  <a:lnTo>
                    <a:pt x="2379" y="701"/>
                  </a:lnTo>
                  <a:lnTo>
                    <a:pt x="2382" y="420"/>
                  </a:lnTo>
                  <a:lnTo>
                    <a:pt x="2384" y="726"/>
                  </a:lnTo>
                  <a:lnTo>
                    <a:pt x="2387" y="506"/>
                  </a:lnTo>
                  <a:lnTo>
                    <a:pt x="2389" y="492"/>
                  </a:lnTo>
                  <a:lnTo>
                    <a:pt x="2392" y="434"/>
                  </a:lnTo>
                  <a:lnTo>
                    <a:pt x="2395" y="265"/>
                  </a:lnTo>
                  <a:lnTo>
                    <a:pt x="2397" y="214"/>
                  </a:lnTo>
                  <a:lnTo>
                    <a:pt x="2401" y="759"/>
                  </a:lnTo>
                  <a:lnTo>
                    <a:pt x="2403" y="501"/>
                  </a:lnTo>
                  <a:lnTo>
                    <a:pt x="2405" y="292"/>
                  </a:lnTo>
                  <a:lnTo>
                    <a:pt x="2408" y="247"/>
                  </a:lnTo>
                  <a:lnTo>
                    <a:pt x="2411" y="663"/>
                  </a:lnTo>
                  <a:lnTo>
                    <a:pt x="2414" y="478"/>
                  </a:lnTo>
                  <a:lnTo>
                    <a:pt x="2416" y="554"/>
                  </a:lnTo>
                  <a:lnTo>
                    <a:pt x="2418" y="742"/>
                  </a:lnTo>
                  <a:lnTo>
                    <a:pt x="2422" y="492"/>
                  </a:lnTo>
                  <a:lnTo>
                    <a:pt x="2424" y="737"/>
                  </a:lnTo>
                  <a:lnTo>
                    <a:pt x="2426" y="283"/>
                  </a:lnTo>
                  <a:lnTo>
                    <a:pt x="2430" y="562"/>
                  </a:lnTo>
                  <a:lnTo>
                    <a:pt x="2432" y="422"/>
                  </a:lnTo>
                  <a:lnTo>
                    <a:pt x="2435" y="579"/>
                  </a:lnTo>
                  <a:lnTo>
                    <a:pt x="2437" y="382"/>
                  </a:lnTo>
                  <a:lnTo>
                    <a:pt x="2440" y="465"/>
                  </a:lnTo>
                  <a:lnTo>
                    <a:pt x="2443" y="525"/>
                  </a:lnTo>
                  <a:lnTo>
                    <a:pt x="2445" y="345"/>
                  </a:lnTo>
                  <a:lnTo>
                    <a:pt x="2449" y="600"/>
                  </a:lnTo>
                  <a:lnTo>
                    <a:pt x="2451" y="718"/>
                  </a:lnTo>
                  <a:lnTo>
                    <a:pt x="2453" y="589"/>
                  </a:lnTo>
                  <a:lnTo>
                    <a:pt x="2456" y="721"/>
                  </a:lnTo>
                  <a:lnTo>
                    <a:pt x="2459" y="520"/>
                  </a:lnTo>
                  <a:lnTo>
                    <a:pt x="2461" y="465"/>
                  </a:lnTo>
                  <a:lnTo>
                    <a:pt x="2464" y="468"/>
                  </a:lnTo>
                  <a:lnTo>
                    <a:pt x="2466" y="187"/>
                  </a:lnTo>
                  <a:lnTo>
                    <a:pt x="2470" y="579"/>
                  </a:lnTo>
                  <a:lnTo>
                    <a:pt x="2472" y="528"/>
                  </a:lnTo>
                  <a:lnTo>
                    <a:pt x="2474" y="221"/>
                  </a:lnTo>
                  <a:lnTo>
                    <a:pt x="2478" y="674"/>
                  </a:lnTo>
                  <a:lnTo>
                    <a:pt x="2480" y="494"/>
                  </a:lnTo>
                  <a:lnTo>
                    <a:pt x="2482" y="438"/>
                  </a:lnTo>
                  <a:lnTo>
                    <a:pt x="2485" y="560"/>
                  </a:lnTo>
                  <a:lnTo>
                    <a:pt x="2488" y="624"/>
                  </a:lnTo>
                  <a:lnTo>
                    <a:pt x="2491" y="514"/>
                  </a:lnTo>
                  <a:lnTo>
                    <a:pt x="2493" y="273"/>
                  </a:lnTo>
                  <a:lnTo>
                    <a:pt x="2495" y="502"/>
                  </a:lnTo>
                  <a:lnTo>
                    <a:pt x="2499" y="196"/>
                  </a:lnTo>
                  <a:lnTo>
                    <a:pt x="2501" y="589"/>
                  </a:lnTo>
                  <a:lnTo>
                    <a:pt x="2504" y="491"/>
                  </a:lnTo>
                  <a:lnTo>
                    <a:pt x="2507" y="556"/>
                  </a:lnTo>
                  <a:lnTo>
                    <a:pt x="2509" y="364"/>
                  </a:lnTo>
                  <a:lnTo>
                    <a:pt x="2512" y="159"/>
                  </a:lnTo>
                  <a:lnTo>
                    <a:pt x="2514" y="611"/>
                  </a:lnTo>
                  <a:lnTo>
                    <a:pt x="2517" y="650"/>
                  </a:lnTo>
                  <a:lnTo>
                    <a:pt x="2520" y="480"/>
                  </a:lnTo>
                  <a:lnTo>
                    <a:pt x="2522" y="588"/>
                  </a:lnTo>
                  <a:lnTo>
                    <a:pt x="2525" y="533"/>
                  </a:lnTo>
                  <a:lnTo>
                    <a:pt x="2528" y="526"/>
                  </a:lnTo>
                  <a:lnTo>
                    <a:pt x="2530" y="586"/>
                  </a:lnTo>
                  <a:lnTo>
                    <a:pt x="2533" y="451"/>
                  </a:lnTo>
                  <a:lnTo>
                    <a:pt x="2535" y="575"/>
                  </a:lnTo>
                  <a:lnTo>
                    <a:pt x="2539" y="752"/>
                  </a:lnTo>
                  <a:lnTo>
                    <a:pt x="2541" y="507"/>
                  </a:lnTo>
                  <a:lnTo>
                    <a:pt x="2543" y="530"/>
                  </a:lnTo>
                  <a:lnTo>
                    <a:pt x="2547" y="256"/>
                  </a:lnTo>
                  <a:lnTo>
                    <a:pt x="2549" y="507"/>
                  </a:lnTo>
                  <a:lnTo>
                    <a:pt x="2551" y="514"/>
                  </a:lnTo>
                  <a:lnTo>
                    <a:pt x="2554" y="701"/>
                  </a:lnTo>
                  <a:lnTo>
                    <a:pt x="2557" y="538"/>
                  </a:lnTo>
                  <a:lnTo>
                    <a:pt x="2560" y="292"/>
                  </a:lnTo>
                  <a:lnTo>
                    <a:pt x="2562" y="426"/>
                  </a:lnTo>
                  <a:lnTo>
                    <a:pt x="2564" y="606"/>
                  </a:lnTo>
                  <a:lnTo>
                    <a:pt x="2568" y="817"/>
                  </a:lnTo>
                  <a:lnTo>
                    <a:pt x="2570" y="781"/>
                  </a:lnTo>
                  <a:lnTo>
                    <a:pt x="2573" y="299"/>
                  </a:lnTo>
                  <a:lnTo>
                    <a:pt x="2576" y="393"/>
                  </a:lnTo>
                  <a:lnTo>
                    <a:pt x="2578" y="615"/>
                  </a:lnTo>
                  <a:lnTo>
                    <a:pt x="2581" y="487"/>
                  </a:lnTo>
                  <a:lnTo>
                    <a:pt x="2583" y="456"/>
                  </a:lnTo>
                  <a:lnTo>
                    <a:pt x="2586" y="501"/>
                  </a:lnTo>
                  <a:lnTo>
                    <a:pt x="2589" y="542"/>
                  </a:lnTo>
                  <a:lnTo>
                    <a:pt x="2591" y="554"/>
                  </a:lnTo>
                  <a:lnTo>
                    <a:pt x="2595" y="526"/>
                  </a:lnTo>
                  <a:lnTo>
                    <a:pt x="2597" y="341"/>
                  </a:lnTo>
                  <a:lnTo>
                    <a:pt x="2599" y="380"/>
                  </a:lnTo>
                  <a:lnTo>
                    <a:pt x="2602" y="427"/>
                  </a:lnTo>
                  <a:lnTo>
                    <a:pt x="2605" y="517"/>
                  </a:lnTo>
                  <a:lnTo>
                    <a:pt x="2607" y="449"/>
                  </a:lnTo>
                  <a:lnTo>
                    <a:pt x="2610" y="212"/>
                  </a:lnTo>
                  <a:lnTo>
                    <a:pt x="2612" y="367"/>
                  </a:lnTo>
                  <a:lnTo>
                    <a:pt x="2616" y="544"/>
                  </a:lnTo>
                  <a:lnTo>
                    <a:pt x="2618" y="270"/>
                  </a:lnTo>
                  <a:lnTo>
                    <a:pt x="2620" y="243"/>
                  </a:lnTo>
                  <a:lnTo>
                    <a:pt x="2624" y="573"/>
                  </a:lnTo>
                  <a:lnTo>
                    <a:pt x="2626" y="468"/>
                  </a:lnTo>
                  <a:lnTo>
                    <a:pt x="2629" y="433"/>
                  </a:lnTo>
                  <a:lnTo>
                    <a:pt x="2631" y="317"/>
                  </a:lnTo>
                  <a:lnTo>
                    <a:pt x="2634" y="560"/>
                  </a:lnTo>
                  <a:lnTo>
                    <a:pt x="2637" y="625"/>
                  </a:lnTo>
                  <a:lnTo>
                    <a:pt x="2639" y="449"/>
                  </a:lnTo>
                  <a:lnTo>
                    <a:pt x="2641" y="433"/>
                  </a:lnTo>
                  <a:lnTo>
                    <a:pt x="2645" y="722"/>
                  </a:lnTo>
                  <a:lnTo>
                    <a:pt x="2647" y="724"/>
                  </a:lnTo>
                  <a:lnTo>
                    <a:pt x="2650" y="603"/>
                  </a:lnTo>
                  <a:lnTo>
                    <a:pt x="2653" y="308"/>
                  </a:lnTo>
                  <a:lnTo>
                    <a:pt x="2655" y="507"/>
                  </a:lnTo>
                  <a:lnTo>
                    <a:pt x="2658" y="701"/>
                  </a:lnTo>
                  <a:lnTo>
                    <a:pt x="2660" y="596"/>
                  </a:lnTo>
                  <a:lnTo>
                    <a:pt x="2664" y="576"/>
                  </a:lnTo>
                  <a:lnTo>
                    <a:pt x="2666" y="530"/>
                  </a:lnTo>
                  <a:lnTo>
                    <a:pt x="2668" y="521"/>
                  </a:lnTo>
                  <a:lnTo>
                    <a:pt x="2671" y="542"/>
                  </a:lnTo>
                  <a:lnTo>
                    <a:pt x="2674" y="533"/>
                  </a:lnTo>
                  <a:lnTo>
                    <a:pt x="2676" y="309"/>
                  </a:lnTo>
                  <a:lnTo>
                    <a:pt x="2679" y="477"/>
                  </a:lnTo>
                  <a:lnTo>
                    <a:pt x="2682" y="546"/>
                  </a:lnTo>
                  <a:lnTo>
                    <a:pt x="2685" y="745"/>
                  </a:lnTo>
                  <a:lnTo>
                    <a:pt x="2687" y="766"/>
                  </a:lnTo>
                  <a:lnTo>
                    <a:pt x="2689" y="693"/>
                  </a:lnTo>
                  <a:lnTo>
                    <a:pt x="2693" y="494"/>
                  </a:lnTo>
                  <a:lnTo>
                    <a:pt x="2695" y="173"/>
                  </a:lnTo>
                  <a:lnTo>
                    <a:pt x="2698" y="499"/>
                  </a:lnTo>
                  <a:lnTo>
                    <a:pt x="2700" y="417"/>
                  </a:lnTo>
                  <a:lnTo>
                    <a:pt x="2703" y="407"/>
                  </a:lnTo>
                  <a:lnTo>
                    <a:pt x="2706" y="486"/>
                  </a:lnTo>
                  <a:lnTo>
                    <a:pt x="2708" y="484"/>
                  </a:lnTo>
                  <a:lnTo>
                    <a:pt x="2710" y="436"/>
                  </a:lnTo>
                  <a:lnTo>
                    <a:pt x="2714" y="457"/>
                  </a:lnTo>
                  <a:lnTo>
                    <a:pt x="2716" y="748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05040" y="2119320"/>
              <a:ext cx="3187440" cy="1386000"/>
            </a:xfrm>
            <a:custGeom>
              <a:avLst/>
              <a:gdLst/>
              <a:ahLst/>
              <a:rect l="l" t="t" r="r" b="b"/>
              <a:pathLst>
                <a:path w="3186" h="1136">
                  <a:moveTo>
                    <a:pt x="0" y="113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6" y="0"/>
                  </a:lnTo>
                  <a:lnTo>
                    <a:pt x="3186" y="1136"/>
                  </a:lnTo>
                  <a:lnTo>
                    <a:pt x="3186" y="1136"/>
                  </a:lnTo>
                  <a:lnTo>
                    <a:pt x="0" y="1136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05040" y="4073400"/>
              <a:ext cx="360" cy="1389240"/>
            </a:xfrm>
            <a:custGeom>
              <a:avLst/>
              <a:gdLst/>
              <a:ahLst/>
              <a:rect l="l" t="t" r="r" b="b"/>
              <a:pathLst>
                <a:path w="0" h="1138">
                  <a:moveTo>
                    <a:pt x="0" y="0"/>
                  </a:moveTo>
                  <a:lnTo>
                    <a:pt x="0" y="0"/>
                  </a:lnTo>
                  <a:lnTo>
                    <a:pt x="0" y="1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56280" y="2119320"/>
              <a:ext cx="14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50680" y="5573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05040" y="5462640"/>
              <a:ext cx="0" cy="10008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905040" y="5462640"/>
              <a:ext cx="0" cy="493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67800" y="4624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840" y="50864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67800" y="4160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820800" y="523080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820800" y="47671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820800" y="430380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861840" y="546264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861840" y="523080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861840" y="499896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861840" y="476712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861840" y="453564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861840" y="430380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861840" y="4073400"/>
              <a:ext cx="432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05040" y="4073400"/>
              <a:ext cx="0" cy="13892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05040" y="4202280"/>
              <a:ext cx="3176280" cy="1180800"/>
            </a:xfrm>
            <a:custGeom>
              <a:avLst/>
              <a:gdLst/>
              <a:ahLst/>
              <a:rect l="l" t="t" r="r" b="b"/>
              <a:pathLst>
                <a:path w="2716" h="969">
                  <a:moveTo>
                    <a:pt x="0" y="464"/>
                  </a:moveTo>
                  <a:lnTo>
                    <a:pt x="2" y="464"/>
                  </a:lnTo>
                  <a:lnTo>
                    <a:pt x="4" y="464"/>
                  </a:lnTo>
                  <a:lnTo>
                    <a:pt x="7" y="464"/>
                  </a:lnTo>
                  <a:lnTo>
                    <a:pt x="10" y="464"/>
                  </a:lnTo>
                  <a:lnTo>
                    <a:pt x="12" y="464"/>
                  </a:lnTo>
                  <a:lnTo>
                    <a:pt x="15" y="464"/>
                  </a:lnTo>
                  <a:lnTo>
                    <a:pt x="18" y="464"/>
                  </a:lnTo>
                  <a:lnTo>
                    <a:pt x="21" y="464"/>
                  </a:lnTo>
                  <a:lnTo>
                    <a:pt x="23" y="464"/>
                  </a:lnTo>
                  <a:lnTo>
                    <a:pt x="25" y="464"/>
                  </a:lnTo>
                  <a:lnTo>
                    <a:pt x="29" y="464"/>
                  </a:lnTo>
                  <a:lnTo>
                    <a:pt x="31" y="464"/>
                  </a:lnTo>
                  <a:lnTo>
                    <a:pt x="34" y="464"/>
                  </a:lnTo>
                  <a:lnTo>
                    <a:pt x="36" y="464"/>
                  </a:lnTo>
                  <a:lnTo>
                    <a:pt x="39" y="464"/>
                  </a:lnTo>
                  <a:lnTo>
                    <a:pt x="42" y="465"/>
                  </a:lnTo>
                  <a:lnTo>
                    <a:pt x="44" y="464"/>
                  </a:lnTo>
                  <a:lnTo>
                    <a:pt x="46" y="464"/>
                  </a:lnTo>
                  <a:lnTo>
                    <a:pt x="50" y="465"/>
                  </a:lnTo>
                  <a:lnTo>
                    <a:pt x="52" y="465"/>
                  </a:lnTo>
                  <a:lnTo>
                    <a:pt x="55" y="464"/>
                  </a:lnTo>
                  <a:lnTo>
                    <a:pt x="58" y="463"/>
                  </a:lnTo>
                  <a:lnTo>
                    <a:pt x="60" y="464"/>
                  </a:lnTo>
                  <a:lnTo>
                    <a:pt x="63" y="465"/>
                  </a:lnTo>
                  <a:lnTo>
                    <a:pt x="65" y="464"/>
                  </a:lnTo>
                  <a:lnTo>
                    <a:pt x="69" y="466"/>
                  </a:lnTo>
                  <a:lnTo>
                    <a:pt x="71" y="466"/>
                  </a:lnTo>
                  <a:lnTo>
                    <a:pt x="73" y="464"/>
                  </a:lnTo>
                  <a:lnTo>
                    <a:pt x="77" y="461"/>
                  </a:lnTo>
                  <a:lnTo>
                    <a:pt x="79" y="465"/>
                  </a:lnTo>
                  <a:lnTo>
                    <a:pt x="81" y="464"/>
                  </a:lnTo>
                  <a:lnTo>
                    <a:pt x="84" y="461"/>
                  </a:lnTo>
                  <a:lnTo>
                    <a:pt x="87" y="465"/>
                  </a:lnTo>
                  <a:lnTo>
                    <a:pt x="90" y="461"/>
                  </a:lnTo>
                  <a:lnTo>
                    <a:pt x="92" y="460"/>
                  </a:lnTo>
                  <a:lnTo>
                    <a:pt x="94" y="465"/>
                  </a:lnTo>
                  <a:lnTo>
                    <a:pt x="98" y="464"/>
                  </a:lnTo>
                  <a:lnTo>
                    <a:pt x="100" y="471"/>
                  </a:lnTo>
                  <a:lnTo>
                    <a:pt x="102" y="465"/>
                  </a:lnTo>
                  <a:lnTo>
                    <a:pt x="106" y="465"/>
                  </a:lnTo>
                  <a:lnTo>
                    <a:pt x="108" y="465"/>
                  </a:lnTo>
                  <a:lnTo>
                    <a:pt x="111" y="467"/>
                  </a:lnTo>
                  <a:lnTo>
                    <a:pt x="113" y="460"/>
                  </a:lnTo>
                  <a:lnTo>
                    <a:pt x="116" y="463"/>
                  </a:lnTo>
                  <a:lnTo>
                    <a:pt x="119" y="457"/>
                  </a:lnTo>
                  <a:lnTo>
                    <a:pt x="121" y="465"/>
                  </a:lnTo>
                  <a:lnTo>
                    <a:pt x="125" y="464"/>
                  </a:lnTo>
                  <a:lnTo>
                    <a:pt x="127" y="466"/>
                  </a:lnTo>
                  <a:lnTo>
                    <a:pt x="129" y="459"/>
                  </a:lnTo>
                  <a:lnTo>
                    <a:pt x="132" y="464"/>
                  </a:lnTo>
                  <a:lnTo>
                    <a:pt x="135" y="466"/>
                  </a:lnTo>
                  <a:lnTo>
                    <a:pt x="137" y="460"/>
                  </a:lnTo>
                  <a:lnTo>
                    <a:pt x="140" y="465"/>
                  </a:lnTo>
                  <a:lnTo>
                    <a:pt x="142" y="461"/>
                  </a:lnTo>
                  <a:lnTo>
                    <a:pt x="146" y="459"/>
                  </a:lnTo>
                  <a:lnTo>
                    <a:pt x="148" y="461"/>
                  </a:lnTo>
                  <a:lnTo>
                    <a:pt x="150" y="464"/>
                  </a:lnTo>
                  <a:lnTo>
                    <a:pt x="154" y="468"/>
                  </a:lnTo>
                  <a:lnTo>
                    <a:pt x="156" y="459"/>
                  </a:lnTo>
                  <a:lnTo>
                    <a:pt x="159" y="464"/>
                  </a:lnTo>
                  <a:lnTo>
                    <a:pt x="161" y="466"/>
                  </a:lnTo>
                  <a:lnTo>
                    <a:pt x="164" y="460"/>
                  </a:lnTo>
                  <a:lnTo>
                    <a:pt x="167" y="467"/>
                  </a:lnTo>
                  <a:lnTo>
                    <a:pt x="169" y="473"/>
                  </a:lnTo>
                  <a:lnTo>
                    <a:pt x="171" y="473"/>
                  </a:lnTo>
                  <a:lnTo>
                    <a:pt x="175" y="458"/>
                  </a:lnTo>
                  <a:lnTo>
                    <a:pt x="177" y="457"/>
                  </a:lnTo>
                  <a:lnTo>
                    <a:pt x="180" y="448"/>
                  </a:lnTo>
                  <a:lnTo>
                    <a:pt x="182" y="467"/>
                  </a:lnTo>
                  <a:lnTo>
                    <a:pt x="185" y="463"/>
                  </a:lnTo>
                  <a:lnTo>
                    <a:pt x="188" y="460"/>
                  </a:lnTo>
                  <a:lnTo>
                    <a:pt x="190" y="461"/>
                  </a:lnTo>
                  <a:lnTo>
                    <a:pt x="194" y="483"/>
                  </a:lnTo>
                  <a:lnTo>
                    <a:pt x="196" y="468"/>
                  </a:lnTo>
                  <a:lnTo>
                    <a:pt x="198" y="475"/>
                  </a:lnTo>
                  <a:lnTo>
                    <a:pt x="201" y="450"/>
                  </a:lnTo>
                  <a:lnTo>
                    <a:pt x="204" y="463"/>
                  </a:lnTo>
                  <a:lnTo>
                    <a:pt x="206" y="457"/>
                  </a:lnTo>
                  <a:lnTo>
                    <a:pt x="209" y="474"/>
                  </a:lnTo>
                  <a:lnTo>
                    <a:pt x="211" y="465"/>
                  </a:lnTo>
                  <a:lnTo>
                    <a:pt x="215" y="483"/>
                  </a:lnTo>
                  <a:lnTo>
                    <a:pt x="217" y="479"/>
                  </a:lnTo>
                  <a:lnTo>
                    <a:pt x="219" y="453"/>
                  </a:lnTo>
                  <a:lnTo>
                    <a:pt x="223" y="492"/>
                  </a:lnTo>
                  <a:lnTo>
                    <a:pt x="225" y="458"/>
                  </a:lnTo>
                  <a:lnTo>
                    <a:pt x="227" y="460"/>
                  </a:lnTo>
                  <a:lnTo>
                    <a:pt x="230" y="470"/>
                  </a:lnTo>
                  <a:lnTo>
                    <a:pt x="233" y="475"/>
                  </a:lnTo>
                  <a:lnTo>
                    <a:pt x="236" y="470"/>
                  </a:lnTo>
                  <a:lnTo>
                    <a:pt x="238" y="463"/>
                  </a:lnTo>
                  <a:lnTo>
                    <a:pt x="240" y="478"/>
                  </a:lnTo>
                  <a:lnTo>
                    <a:pt x="244" y="448"/>
                  </a:lnTo>
                  <a:lnTo>
                    <a:pt x="246" y="490"/>
                  </a:lnTo>
                  <a:lnTo>
                    <a:pt x="249" y="459"/>
                  </a:lnTo>
                  <a:lnTo>
                    <a:pt x="252" y="463"/>
                  </a:lnTo>
                  <a:lnTo>
                    <a:pt x="254" y="470"/>
                  </a:lnTo>
                  <a:lnTo>
                    <a:pt x="257" y="482"/>
                  </a:lnTo>
                  <a:lnTo>
                    <a:pt x="259" y="479"/>
                  </a:lnTo>
                  <a:lnTo>
                    <a:pt x="262" y="460"/>
                  </a:lnTo>
                  <a:lnTo>
                    <a:pt x="265" y="465"/>
                  </a:lnTo>
                  <a:lnTo>
                    <a:pt x="267" y="482"/>
                  </a:lnTo>
                  <a:lnTo>
                    <a:pt x="271" y="465"/>
                  </a:lnTo>
                  <a:lnTo>
                    <a:pt x="273" y="448"/>
                  </a:lnTo>
                  <a:lnTo>
                    <a:pt x="275" y="436"/>
                  </a:lnTo>
                  <a:lnTo>
                    <a:pt x="278" y="441"/>
                  </a:lnTo>
                  <a:lnTo>
                    <a:pt x="281" y="459"/>
                  </a:lnTo>
                  <a:lnTo>
                    <a:pt x="284" y="470"/>
                  </a:lnTo>
                  <a:lnTo>
                    <a:pt x="286" y="482"/>
                  </a:lnTo>
                  <a:lnTo>
                    <a:pt x="288" y="464"/>
                  </a:lnTo>
                  <a:lnTo>
                    <a:pt x="292" y="486"/>
                  </a:lnTo>
                  <a:lnTo>
                    <a:pt x="294" y="461"/>
                  </a:lnTo>
                  <a:lnTo>
                    <a:pt x="296" y="463"/>
                  </a:lnTo>
                  <a:lnTo>
                    <a:pt x="300" y="474"/>
                  </a:lnTo>
                  <a:lnTo>
                    <a:pt x="302" y="470"/>
                  </a:lnTo>
                  <a:lnTo>
                    <a:pt x="305" y="488"/>
                  </a:lnTo>
                  <a:lnTo>
                    <a:pt x="307" y="422"/>
                  </a:lnTo>
                  <a:lnTo>
                    <a:pt x="310" y="513"/>
                  </a:lnTo>
                  <a:lnTo>
                    <a:pt x="313" y="471"/>
                  </a:lnTo>
                  <a:lnTo>
                    <a:pt x="315" y="453"/>
                  </a:lnTo>
                  <a:lnTo>
                    <a:pt x="318" y="464"/>
                  </a:lnTo>
                  <a:lnTo>
                    <a:pt x="321" y="528"/>
                  </a:lnTo>
                  <a:lnTo>
                    <a:pt x="323" y="496"/>
                  </a:lnTo>
                  <a:lnTo>
                    <a:pt x="326" y="486"/>
                  </a:lnTo>
                  <a:lnTo>
                    <a:pt x="329" y="478"/>
                  </a:lnTo>
                  <a:lnTo>
                    <a:pt x="331" y="482"/>
                  </a:lnTo>
                  <a:lnTo>
                    <a:pt x="334" y="475"/>
                  </a:lnTo>
                  <a:lnTo>
                    <a:pt x="336" y="488"/>
                  </a:lnTo>
                  <a:lnTo>
                    <a:pt x="340" y="444"/>
                  </a:lnTo>
                  <a:lnTo>
                    <a:pt x="342" y="498"/>
                  </a:lnTo>
                  <a:lnTo>
                    <a:pt x="344" y="463"/>
                  </a:lnTo>
                  <a:lnTo>
                    <a:pt x="347" y="507"/>
                  </a:lnTo>
                  <a:lnTo>
                    <a:pt x="350" y="428"/>
                  </a:lnTo>
                  <a:lnTo>
                    <a:pt x="352" y="420"/>
                  </a:lnTo>
                  <a:lnTo>
                    <a:pt x="355" y="499"/>
                  </a:lnTo>
                  <a:lnTo>
                    <a:pt x="357" y="471"/>
                  </a:lnTo>
                  <a:lnTo>
                    <a:pt x="361" y="441"/>
                  </a:lnTo>
                  <a:lnTo>
                    <a:pt x="363" y="449"/>
                  </a:lnTo>
                  <a:lnTo>
                    <a:pt x="365" y="505"/>
                  </a:lnTo>
                  <a:lnTo>
                    <a:pt x="369" y="450"/>
                  </a:lnTo>
                  <a:lnTo>
                    <a:pt x="371" y="432"/>
                  </a:lnTo>
                  <a:lnTo>
                    <a:pt x="374" y="513"/>
                  </a:lnTo>
                  <a:lnTo>
                    <a:pt x="376" y="466"/>
                  </a:lnTo>
                  <a:lnTo>
                    <a:pt x="379" y="497"/>
                  </a:lnTo>
                  <a:lnTo>
                    <a:pt x="382" y="516"/>
                  </a:lnTo>
                  <a:lnTo>
                    <a:pt x="384" y="467"/>
                  </a:lnTo>
                  <a:lnTo>
                    <a:pt x="386" y="563"/>
                  </a:lnTo>
                  <a:lnTo>
                    <a:pt x="390" y="411"/>
                  </a:lnTo>
                  <a:lnTo>
                    <a:pt x="392" y="439"/>
                  </a:lnTo>
                  <a:lnTo>
                    <a:pt x="395" y="450"/>
                  </a:lnTo>
                  <a:lnTo>
                    <a:pt x="398" y="473"/>
                  </a:lnTo>
                  <a:lnTo>
                    <a:pt x="400" y="499"/>
                  </a:lnTo>
                  <a:lnTo>
                    <a:pt x="403" y="487"/>
                  </a:lnTo>
                  <a:lnTo>
                    <a:pt x="405" y="480"/>
                  </a:lnTo>
                  <a:lnTo>
                    <a:pt x="409" y="474"/>
                  </a:lnTo>
                  <a:lnTo>
                    <a:pt x="411" y="509"/>
                  </a:lnTo>
                  <a:lnTo>
                    <a:pt x="413" y="419"/>
                  </a:lnTo>
                  <a:lnTo>
                    <a:pt x="417" y="523"/>
                  </a:lnTo>
                  <a:lnTo>
                    <a:pt x="419" y="492"/>
                  </a:lnTo>
                  <a:lnTo>
                    <a:pt x="421" y="518"/>
                  </a:lnTo>
                  <a:lnTo>
                    <a:pt x="424" y="450"/>
                  </a:lnTo>
                  <a:lnTo>
                    <a:pt x="427" y="486"/>
                  </a:lnTo>
                  <a:lnTo>
                    <a:pt x="430" y="564"/>
                  </a:lnTo>
                  <a:lnTo>
                    <a:pt x="432" y="519"/>
                  </a:lnTo>
                  <a:lnTo>
                    <a:pt x="434" y="484"/>
                  </a:lnTo>
                  <a:lnTo>
                    <a:pt x="438" y="429"/>
                  </a:lnTo>
                  <a:lnTo>
                    <a:pt x="440" y="517"/>
                  </a:lnTo>
                  <a:lnTo>
                    <a:pt x="442" y="467"/>
                  </a:lnTo>
                  <a:lnTo>
                    <a:pt x="446" y="528"/>
                  </a:lnTo>
                  <a:lnTo>
                    <a:pt x="448" y="449"/>
                  </a:lnTo>
                  <a:lnTo>
                    <a:pt x="451" y="514"/>
                  </a:lnTo>
                  <a:lnTo>
                    <a:pt x="453" y="471"/>
                  </a:lnTo>
                  <a:lnTo>
                    <a:pt x="456" y="438"/>
                  </a:lnTo>
                  <a:lnTo>
                    <a:pt x="459" y="411"/>
                  </a:lnTo>
                  <a:lnTo>
                    <a:pt x="461" y="493"/>
                  </a:lnTo>
                  <a:lnTo>
                    <a:pt x="464" y="411"/>
                  </a:lnTo>
                  <a:lnTo>
                    <a:pt x="467" y="492"/>
                  </a:lnTo>
                  <a:lnTo>
                    <a:pt x="469" y="524"/>
                  </a:lnTo>
                  <a:lnTo>
                    <a:pt x="472" y="488"/>
                  </a:lnTo>
                  <a:lnTo>
                    <a:pt x="475" y="470"/>
                  </a:lnTo>
                  <a:lnTo>
                    <a:pt x="477" y="503"/>
                  </a:lnTo>
                  <a:lnTo>
                    <a:pt x="480" y="428"/>
                  </a:lnTo>
                  <a:lnTo>
                    <a:pt x="482" y="456"/>
                  </a:lnTo>
                  <a:lnTo>
                    <a:pt x="486" y="497"/>
                  </a:lnTo>
                  <a:lnTo>
                    <a:pt x="488" y="464"/>
                  </a:lnTo>
                  <a:lnTo>
                    <a:pt x="490" y="497"/>
                  </a:lnTo>
                  <a:lnTo>
                    <a:pt x="493" y="502"/>
                  </a:lnTo>
                  <a:lnTo>
                    <a:pt x="496" y="506"/>
                  </a:lnTo>
                  <a:lnTo>
                    <a:pt x="499" y="467"/>
                  </a:lnTo>
                  <a:lnTo>
                    <a:pt x="501" y="448"/>
                  </a:lnTo>
                  <a:lnTo>
                    <a:pt x="503" y="471"/>
                  </a:lnTo>
                  <a:lnTo>
                    <a:pt x="507" y="538"/>
                  </a:lnTo>
                  <a:lnTo>
                    <a:pt x="509" y="409"/>
                  </a:lnTo>
                  <a:lnTo>
                    <a:pt x="511" y="534"/>
                  </a:lnTo>
                  <a:lnTo>
                    <a:pt x="515" y="522"/>
                  </a:lnTo>
                  <a:lnTo>
                    <a:pt x="517" y="446"/>
                  </a:lnTo>
                  <a:lnTo>
                    <a:pt x="520" y="380"/>
                  </a:lnTo>
                  <a:lnTo>
                    <a:pt x="522" y="531"/>
                  </a:lnTo>
                  <a:lnTo>
                    <a:pt x="525" y="468"/>
                  </a:lnTo>
                  <a:lnTo>
                    <a:pt x="528" y="571"/>
                  </a:lnTo>
                  <a:lnTo>
                    <a:pt x="530" y="533"/>
                  </a:lnTo>
                  <a:lnTo>
                    <a:pt x="534" y="506"/>
                  </a:lnTo>
                  <a:lnTo>
                    <a:pt x="536" y="482"/>
                  </a:lnTo>
                  <a:lnTo>
                    <a:pt x="538" y="440"/>
                  </a:lnTo>
                  <a:lnTo>
                    <a:pt x="541" y="463"/>
                  </a:lnTo>
                  <a:lnTo>
                    <a:pt x="544" y="436"/>
                  </a:lnTo>
                  <a:lnTo>
                    <a:pt x="546" y="422"/>
                  </a:lnTo>
                  <a:lnTo>
                    <a:pt x="549" y="427"/>
                  </a:lnTo>
                  <a:lnTo>
                    <a:pt x="551" y="425"/>
                  </a:lnTo>
                  <a:lnTo>
                    <a:pt x="555" y="477"/>
                  </a:lnTo>
                  <a:lnTo>
                    <a:pt x="557" y="532"/>
                  </a:lnTo>
                  <a:lnTo>
                    <a:pt x="559" y="366"/>
                  </a:lnTo>
                  <a:lnTo>
                    <a:pt x="563" y="413"/>
                  </a:lnTo>
                  <a:lnTo>
                    <a:pt x="565" y="519"/>
                  </a:lnTo>
                  <a:lnTo>
                    <a:pt x="567" y="424"/>
                  </a:lnTo>
                  <a:lnTo>
                    <a:pt x="570" y="532"/>
                  </a:lnTo>
                  <a:lnTo>
                    <a:pt x="573" y="470"/>
                  </a:lnTo>
                  <a:lnTo>
                    <a:pt x="576" y="529"/>
                  </a:lnTo>
                  <a:lnTo>
                    <a:pt x="578" y="509"/>
                  </a:lnTo>
                  <a:lnTo>
                    <a:pt x="580" y="328"/>
                  </a:lnTo>
                  <a:lnTo>
                    <a:pt x="584" y="405"/>
                  </a:lnTo>
                  <a:lnTo>
                    <a:pt x="586" y="562"/>
                  </a:lnTo>
                  <a:lnTo>
                    <a:pt x="589" y="397"/>
                  </a:lnTo>
                  <a:lnTo>
                    <a:pt x="592" y="502"/>
                  </a:lnTo>
                  <a:lnTo>
                    <a:pt x="594" y="579"/>
                  </a:lnTo>
                  <a:lnTo>
                    <a:pt x="597" y="484"/>
                  </a:lnTo>
                  <a:lnTo>
                    <a:pt x="599" y="536"/>
                  </a:lnTo>
                  <a:lnTo>
                    <a:pt x="602" y="496"/>
                  </a:lnTo>
                  <a:lnTo>
                    <a:pt x="605" y="546"/>
                  </a:lnTo>
                  <a:lnTo>
                    <a:pt x="607" y="420"/>
                  </a:lnTo>
                  <a:lnTo>
                    <a:pt x="611" y="478"/>
                  </a:lnTo>
                  <a:lnTo>
                    <a:pt x="613" y="528"/>
                  </a:lnTo>
                  <a:lnTo>
                    <a:pt x="615" y="361"/>
                  </a:lnTo>
                  <a:lnTo>
                    <a:pt x="618" y="546"/>
                  </a:lnTo>
                  <a:lnTo>
                    <a:pt x="621" y="377"/>
                  </a:lnTo>
                  <a:lnTo>
                    <a:pt x="624" y="482"/>
                  </a:lnTo>
                  <a:lnTo>
                    <a:pt x="626" y="454"/>
                  </a:lnTo>
                  <a:lnTo>
                    <a:pt x="628" y="490"/>
                  </a:lnTo>
                  <a:lnTo>
                    <a:pt x="632" y="503"/>
                  </a:lnTo>
                  <a:lnTo>
                    <a:pt x="634" y="463"/>
                  </a:lnTo>
                  <a:lnTo>
                    <a:pt x="636" y="522"/>
                  </a:lnTo>
                  <a:lnTo>
                    <a:pt x="639" y="638"/>
                  </a:lnTo>
                  <a:lnTo>
                    <a:pt x="642" y="449"/>
                  </a:lnTo>
                  <a:lnTo>
                    <a:pt x="645" y="502"/>
                  </a:lnTo>
                  <a:lnTo>
                    <a:pt x="647" y="438"/>
                  </a:lnTo>
                  <a:lnTo>
                    <a:pt x="650" y="543"/>
                  </a:lnTo>
                  <a:lnTo>
                    <a:pt x="653" y="460"/>
                  </a:lnTo>
                  <a:lnTo>
                    <a:pt x="655" y="412"/>
                  </a:lnTo>
                  <a:lnTo>
                    <a:pt x="658" y="495"/>
                  </a:lnTo>
                  <a:lnTo>
                    <a:pt x="661" y="275"/>
                  </a:lnTo>
                  <a:lnTo>
                    <a:pt x="663" y="521"/>
                  </a:lnTo>
                  <a:lnTo>
                    <a:pt x="666" y="374"/>
                  </a:lnTo>
                  <a:lnTo>
                    <a:pt x="668" y="214"/>
                  </a:lnTo>
                  <a:lnTo>
                    <a:pt x="671" y="483"/>
                  </a:lnTo>
                  <a:lnTo>
                    <a:pt x="674" y="524"/>
                  </a:lnTo>
                  <a:lnTo>
                    <a:pt x="676" y="310"/>
                  </a:lnTo>
                  <a:lnTo>
                    <a:pt x="680" y="489"/>
                  </a:lnTo>
                  <a:lnTo>
                    <a:pt x="682" y="502"/>
                  </a:lnTo>
                  <a:lnTo>
                    <a:pt x="684" y="556"/>
                  </a:lnTo>
                  <a:lnTo>
                    <a:pt x="687" y="393"/>
                  </a:lnTo>
                  <a:lnTo>
                    <a:pt x="690" y="216"/>
                  </a:lnTo>
                  <a:lnTo>
                    <a:pt x="692" y="535"/>
                  </a:lnTo>
                  <a:lnTo>
                    <a:pt x="695" y="332"/>
                  </a:lnTo>
                  <a:lnTo>
                    <a:pt x="697" y="428"/>
                  </a:lnTo>
                  <a:lnTo>
                    <a:pt x="701" y="367"/>
                  </a:lnTo>
                  <a:lnTo>
                    <a:pt x="703" y="440"/>
                  </a:lnTo>
                  <a:lnTo>
                    <a:pt x="705" y="587"/>
                  </a:lnTo>
                  <a:lnTo>
                    <a:pt x="709" y="558"/>
                  </a:lnTo>
                  <a:lnTo>
                    <a:pt x="711" y="657"/>
                  </a:lnTo>
                  <a:lnTo>
                    <a:pt x="714" y="461"/>
                  </a:lnTo>
                  <a:lnTo>
                    <a:pt x="716" y="525"/>
                  </a:lnTo>
                  <a:lnTo>
                    <a:pt x="719" y="455"/>
                  </a:lnTo>
                  <a:lnTo>
                    <a:pt x="722" y="525"/>
                  </a:lnTo>
                  <a:lnTo>
                    <a:pt x="724" y="397"/>
                  </a:lnTo>
                  <a:lnTo>
                    <a:pt x="726" y="374"/>
                  </a:lnTo>
                  <a:lnTo>
                    <a:pt x="730" y="439"/>
                  </a:lnTo>
                  <a:lnTo>
                    <a:pt x="732" y="435"/>
                  </a:lnTo>
                  <a:lnTo>
                    <a:pt x="735" y="438"/>
                  </a:lnTo>
                  <a:lnTo>
                    <a:pt x="738" y="357"/>
                  </a:lnTo>
                  <a:lnTo>
                    <a:pt x="740" y="383"/>
                  </a:lnTo>
                  <a:lnTo>
                    <a:pt x="743" y="419"/>
                  </a:lnTo>
                  <a:lnTo>
                    <a:pt x="745" y="319"/>
                  </a:lnTo>
                  <a:lnTo>
                    <a:pt x="749" y="566"/>
                  </a:lnTo>
                  <a:lnTo>
                    <a:pt x="751" y="429"/>
                  </a:lnTo>
                  <a:lnTo>
                    <a:pt x="753" y="299"/>
                  </a:lnTo>
                  <a:lnTo>
                    <a:pt x="757" y="536"/>
                  </a:lnTo>
                  <a:lnTo>
                    <a:pt x="759" y="685"/>
                  </a:lnTo>
                  <a:lnTo>
                    <a:pt x="761" y="647"/>
                  </a:lnTo>
                  <a:lnTo>
                    <a:pt x="764" y="427"/>
                  </a:lnTo>
                  <a:lnTo>
                    <a:pt x="767" y="332"/>
                  </a:lnTo>
                  <a:lnTo>
                    <a:pt x="770" y="374"/>
                  </a:lnTo>
                  <a:lnTo>
                    <a:pt x="772" y="341"/>
                  </a:lnTo>
                  <a:lnTo>
                    <a:pt x="774" y="595"/>
                  </a:lnTo>
                  <a:lnTo>
                    <a:pt x="778" y="564"/>
                  </a:lnTo>
                  <a:lnTo>
                    <a:pt x="780" y="527"/>
                  </a:lnTo>
                  <a:lnTo>
                    <a:pt x="782" y="531"/>
                  </a:lnTo>
                  <a:lnTo>
                    <a:pt x="786" y="439"/>
                  </a:lnTo>
                  <a:lnTo>
                    <a:pt x="788" y="426"/>
                  </a:lnTo>
                  <a:lnTo>
                    <a:pt x="791" y="493"/>
                  </a:lnTo>
                  <a:lnTo>
                    <a:pt x="793" y="362"/>
                  </a:lnTo>
                  <a:lnTo>
                    <a:pt x="796" y="403"/>
                  </a:lnTo>
                  <a:lnTo>
                    <a:pt x="799" y="180"/>
                  </a:lnTo>
                  <a:lnTo>
                    <a:pt x="801" y="395"/>
                  </a:lnTo>
                  <a:lnTo>
                    <a:pt x="804" y="247"/>
                  </a:lnTo>
                  <a:lnTo>
                    <a:pt x="807" y="318"/>
                  </a:lnTo>
                  <a:lnTo>
                    <a:pt x="809" y="455"/>
                  </a:lnTo>
                  <a:lnTo>
                    <a:pt x="812" y="448"/>
                  </a:lnTo>
                  <a:lnTo>
                    <a:pt x="814" y="772"/>
                  </a:lnTo>
                  <a:lnTo>
                    <a:pt x="817" y="341"/>
                  </a:lnTo>
                  <a:lnTo>
                    <a:pt x="820" y="519"/>
                  </a:lnTo>
                  <a:lnTo>
                    <a:pt x="822" y="275"/>
                  </a:lnTo>
                  <a:lnTo>
                    <a:pt x="826" y="688"/>
                  </a:lnTo>
                  <a:lnTo>
                    <a:pt x="828" y="668"/>
                  </a:lnTo>
                  <a:lnTo>
                    <a:pt x="830" y="531"/>
                  </a:lnTo>
                  <a:lnTo>
                    <a:pt x="833" y="475"/>
                  </a:lnTo>
                  <a:lnTo>
                    <a:pt x="836" y="586"/>
                  </a:lnTo>
                  <a:lnTo>
                    <a:pt x="839" y="545"/>
                  </a:lnTo>
                  <a:lnTo>
                    <a:pt x="841" y="528"/>
                  </a:lnTo>
                  <a:lnTo>
                    <a:pt x="843" y="468"/>
                  </a:lnTo>
                  <a:lnTo>
                    <a:pt x="847" y="533"/>
                  </a:lnTo>
                  <a:lnTo>
                    <a:pt x="849" y="266"/>
                  </a:lnTo>
                  <a:lnTo>
                    <a:pt x="851" y="458"/>
                  </a:lnTo>
                  <a:lnTo>
                    <a:pt x="855" y="386"/>
                  </a:lnTo>
                  <a:lnTo>
                    <a:pt x="857" y="410"/>
                  </a:lnTo>
                  <a:lnTo>
                    <a:pt x="860" y="477"/>
                  </a:lnTo>
                  <a:lnTo>
                    <a:pt x="862" y="664"/>
                  </a:lnTo>
                  <a:lnTo>
                    <a:pt x="865" y="372"/>
                  </a:lnTo>
                  <a:lnTo>
                    <a:pt x="868" y="540"/>
                  </a:lnTo>
                  <a:lnTo>
                    <a:pt x="870" y="620"/>
                  </a:lnTo>
                  <a:lnTo>
                    <a:pt x="874" y="218"/>
                  </a:lnTo>
                  <a:lnTo>
                    <a:pt x="876" y="641"/>
                  </a:lnTo>
                  <a:lnTo>
                    <a:pt x="878" y="804"/>
                  </a:lnTo>
                  <a:lnTo>
                    <a:pt x="881" y="600"/>
                  </a:lnTo>
                  <a:lnTo>
                    <a:pt x="884" y="358"/>
                  </a:lnTo>
                  <a:lnTo>
                    <a:pt x="886" y="609"/>
                  </a:lnTo>
                  <a:lnTo>
                    <a:pt x="889" y="448"/>
                  </a:lnTo>
                  <a:lnTo>
                    <a:pt x="891" y="576"/>
                  </a:lnTo>
                  <a:lnTo>
                    <a:pt x="895" y="465"/>
                  </a:lnTo>
                  <a:lnTo>
                    <a:pt x="897" y="442"/>
                  </a:lnTo>
                  <a:lnTo>
                    <a:pt x="899" y="577"/>
                  </a:lnTo>
                  <a:lnTo>
                    <a:pt x="903" y="542"/>
                  </a:lnTo>
                  <a:lnTo>
                    <a:pt x="905" y="542"/>
                  </a:lnTo>
                  <a:lnTo>
                    <a:pt x="907" y="557"/>
                  </a:lnTo>
                  <a:lnTo>
                    <a:pt x="910" y="350"/>
                  </a:lnTo>
                  <a:lnTo>
                    <a:pt x="913" y="309"/>
                  </a:lnTo>
                  <a:lnTo>
                    <a:pt x="916" y="535"/>
                  </a:lnTo>
                  <a:lnTo>
                    <a:pt x="918" y="405"/>
                  </a:lnTo>
                  <a:lnTo>
                    <a:pt x="920" y="605"/>
                  </a:lnTo>
                  <a:lnTo>
                    <a:pt x="924" y="459"/>
                  </a:lnTo>
                  <a:lnTo>
                    <a:pt x="926" y="664"/>
                  </a:lnTo>
                  <a:lnTo>
                    <a:pt x="929" y="313"/>
                  </a:lnTo>
                  <a:lnTo>
                    <a:pt x="932" y="261"/>
                  </a:lnTo>
                  <a:lnTo>
                    <a:pt x="934" y="654"/>
                  </a:lnTo>
                  <a:lnTo>
                    <a:pt x="937" y="168"/>
                  </a:lnTo>
                  <a:lnTo>
                    <a:pt x="939" y="536"/>
                  </a:lnTo>
                  <a:lnTo>
                    <a:pt x="942" y="474"/>
                  </a:lnTo>
                  <a:lnTo>
                    <a:pt x="945" y="473"/>
                  </a:lnTo>
                  <a:lnTo>
                    <a:pt x="947" y="619"/>
                  </a:lnTo>
                  <a:lnTo>
                    <a:pt x="950" y="434"/>
                  </a:lnTo>
                  <a:lnTo>
                    <a:pt x="953" y="446"/>
                  </a:lnTo>
                  <a:lnTo>
                    <a:pt x="955" y="439"/>
                  </a:lnTo>
                  <a:lnTo>
                    <a:pt x="958" y="754"/>
                  </a:lnTo>
                  <a:lnTo>
                    <a:pt x="961" y="166"/>
                  </a:lnTo>
                  <a:lnTo>
                    <a:pt x="964" y="717"/>
                  </a:lnTo>
                  <a:lnTo>
                    <a:pt x="966" y="406"/>
                  </a:lnTo>
                  <a:lnTo>
                    <a:pt x="968" y="417"/>
                  </a:lnTo>
                  <a:lnTo>
                    <a:pt x="972" y="391"/>
                  </a:lnTo>
                  <a:lnTo>
                    <a:pt x="974" y="554"/>
                  </a:lnTo>
                  <a:lnTo>
                    <a:pt x="976" y="782"/>
                  </a:lnTo>
                  <a:lnTo>
                    <a:pt x="979" y="550"/>
                  </a:lnTo>
                  <a:lnTo>
                    <a:pt x="982" y="606"/>
                  </a:lnTo>
                  <a:lnTo>
                    <a:pt x="985" y="343"/>
                  </a:lnTo>
                  <a:lnTo>
                    <a:pt x="987" y="608"/>
                  </a:lnTo>
                  <a:lnTo>
                    <a:pt x="989" y="301"/>
                  </a:lnTo>
                  <a:lnTo>
                    <a:pt x="993" y="738"/>
                  </a:lnTo>
                  <a:lnTo>
                    <a:pt x="995" y="382"/>
                  </a:lnTo>
                  <a:lnTo>
                    <a:pt x="998" y="424"/>
                  </a:lnTo>
                  <a:lnTo>
                    <a:pt x="1001" y="512"/>
                  </a:lnTo>
                  <a:lnTo>
                    <a:pt x="1003" y="466"/>
                  </a:lnTo>
                  <a:lnTo>
                    <a:pt x="1006" y="324"/>
                  </a:lnTo>
                  <a:lnTo>
                    <a:pt x="1008" y="478"/>
                  </a:lnTo>
                  <a:lnTo>
                    <a:pt x="1011" y="494"/>
                  </a:lnTo>
                  <a:lnTo>
                    <a:pt x="1014" y="408"/>
                  </a:lnTo>
                  <a:lnTo>
                    <a:pt x="1016" y="589"/>
                  </a:lnTo>
                  <a:lnTo>
                    <a:pt x="1020" y="379"/>
                  </a:lnTo>
                  <a:lnTo>
                    <a:pt x="1022" y="292"/>
                  </a:lnTo>
                  <a:lnTo>
                    <a:pt x="1024" y="379"/>
                  </a:lnTo>
                  <a:lnTo>
                    <a:pt x="1027" y="521"/>
                  </a:lnTo>
                  <a:lnTo>
                    <a:pt x="1030" y="270"/>
                  </a:lnTo>
                  <a:lnTo>
                    <a:pt x="1032" y="401"/>
                  </a:lnTo>
                  <a:lnTo>
                    <a:pt x="1035" y="228"/>
                  </a:lnTo>
                  <a:lnTo>
                    <a:pt x="1037" y="313"/>
                  </a:lnTo>
                  <a:lnTo>
                    <a:pt x="1041" y="224"/>
                  </a:lnTo>
                  <a:lnTo>
                    <a:pt x="1043" y="608"/>
                  </a:lnTo>
                  <a:lnTo>
                    <a:pt x="1045" y="432"/>
                  </a:lnTo>
                  <a:lnTo>
                    <a:pt x="1049" y="610"/>
                  </a:lnTo>
                  <a:lnTo>
                    <a:pt x="1051" y="513"/>
                  </a:lnTo>
                  <a:lnTo>
                    <a:pt x="1054" y="638"/>
                  </a:lnTo>
                  <a:lnTo>
                    <a:pt x="1056" y="610"/>
                  </a:lnTo>
                  <a:lnTo>
                    <a:pt x="1059" y="473"/>
                  </a:lnTo>
                  <a:lnTo>
                    <a:pt x="1062" y="456"/>
                  </a:lnTo>
                  <a:lnTo>
                    <a:pt x="1064" y="152"/>
                  </a:lnTo>
                  <a:lnTo>
                    <a:pt x="1066" y="488"/>
                  </a:lnTo>
                  <a:lnTo>
                    <a:pt x="1070" y="687"/>
                  </a:lnTo>
                  <a:lnTo>
                    <a:pt x="1072" y="500"/>
                  </a:lnTo>
                  <a:lnTo>
                    <a:pt x="1075" y="326"/>
                  </a:lnTo>
                  <a:lnTo>
                    <a:pt x="1078" y="471"/>
                  </a:lnTo>
                  <a:lnTo>
                    <a:pt x="1080" y="522"/>
                  </a:lnTo>
                  <a:lnTo>
                    <a:pt x="1083" y="508"/>
                  </a:lnTo>
                  <a:lnTo>
                    <a:pt x="1085" y="508"/>
                  </a:lnTo>
                  <a:lnTo>
                    <a:pt x="1089" y="281"/>
                  </a:lnTo>
                  <a:lnTo>
                    <a:pt x="1091" y="464"/>
                  </a:lnTo>
                  <a:lnTo>
                    <a:pt x="1093" y="361"/>
                  </a:lnTo>
                  <a:lnTo>
                    <a:pt x="1096" y="390"/>
                  </a:lnTo>
                  <a:lnTo>
                    <a:pt x="1099" y="544"/>
                  </a:lnTo>
                  <a:lnTo>
                    <a:pt x="1101" y="545"/>
                  </a:lnTo>
                  <a:lnTo>
                    <a:pt x="1104" y="683"/>
                  </a:lnTo>
                  <a:lnTo>
                    <a:pt x="1107" y="621"/>
                  </a:lnTo>
                  <a:lnTo>
                    <a:pt x="1110" y="280"/>
                  </a:lnTo>
                  <a:lnTo>
                    <a:pt x="1112" y="381"/>
                  </a:lnTo>
                  <a:lnTo>
                    <a:pt x="1114" y="734"/>
                  </a:lnTo>
                  <a:lnTo>
                    <a:pt x="1118" y="54"/>
                  </a:lnTo>
                  <a:lnTo>
                    <a:pt x="1120" y="547"/>
                  </a:lnTo>
                  <a:lnTo>
                    <a:pt x="1122" y="271"/>
                  </a:lnTo>
                  <a:lnTo>
                    <a:pt x="1125" y="511"/>
                  </a:lnTo>
                  <a:lnTo>
                    <a:pt x="1128" y="498"/>
                  </a:lnTo>
                  <a:lnTo>
                    <a:pt x="1131" y="477"/>
                  </a:lnTo>
                  <a:lnTo>
                    <a:pt x="1133" y="361"/>
                  </a:lnTo>
                  <a:lnTo>
                    <a:pt x="1135" y="676"/>
                  </a:lnTo>
                  <a:lnTo>
                    <a:pt x="1139" y="507"/>
                  </a:lnTo>
                  <a:lnTo>
                    <a:pt x="1141" y="415"/>
                  </a:lnTo>
                  <a:lnTo>
                    <a:pt x="1144" y="0"/>
                  </a:lnTo>
                  <a:lnTo>
                    <a:pt x="1147" y="586"/>
                  </a:lnTo>
                  <a:lnTo>
                    <a:pt x="1149" y="514"/>
                  </a:lnTo>
                  <a:lnTo>
                    <a:pt x="1152" y="435"/>
                  </a:lnTo>
                  <a:lnTo>
                    <a:pt x="1154" y="572"/>
                  </a:lnTo>
                  <a:lnTo>
                    <a:pt x="1157" y="608"/>
                  </a:lnTo>
                  <a:lnTo>
                    <a:pt x="1160" y="969"/>
                  </a:lnTo>
                  <a:lnTo>
                    <a:pt x="1162" y="639"/>
                  </a:lnTo>
                  <a:lnTo>
                    <a:pt x="1166" y="772"/>
                  </a:lnTo>
                  <a:lnTo>
                    <a:pt x="1168" y="392"/>
                  </a:lnTo>
                  <a:lnTo>
                    <a:pt x="1170" y="335"/>
                  </a:lnTo>
                  <a:lnTo>
                    <a:pt x="1173" y="464"/>
                  </a:lnTo>
                  <a:lnTo>
                    <a:pt x="1176" y="386"/>
                  </a:lnTo>
                  <a:lnTo>
                    <a:pt x="1179" y="664"/>
                  </a:lnTo>
                  <a:lnTo>
                    <a:pt x="1181" y="629"/>
                  </a:lnTo>
                  <a:lnTo>
                    <a:pt x="1183" y="357"/>
                  </a:lnTo>
                  <a:lnTo>
                    <a:pt x="1187" y="488"/>
                  </a:lnTo>
                  <a:lnTo>
                    <a:pt x="1189" y="581"/>
                  </a:lnTo>
                  <a:lnTo>
                    <a:pt x="1191" y="508"/>
                  </a:lnTo>
                  <a:lnTo>
                    <a:pt x="1195" y="518"/>
                  </a:lnTo>
                  <a:lnTo>
                    <a:pt x="1197" y="523"/>
                  </a:lnTo>
                  <a:lnTo>
                    <a:pt x="1200" y="705"/>
                  </a:lnTo>
                  <a:lnTo>
                    <a:pt x="1202" y="518"/>
                  </a:lnTo>
                  <a:lnTo>
                    <a:pt x="1205" y="581"/>
                  </a:lnTo>
                  <a:lnTo>
                    <a:pt x="1208" y="398"/>
                  </a:lnTo>
                  <a:lnTo>
                    <a:pt x="1210" y="362"/>
                  </a:lnTo>
                  <a:lnTo>
                    <a:pt x="1214" y="11"/>
                  </a:lnTo>
                  <a:lnTo>
                    <a:pt x="1216" y="517"/>
                  </a:lnTo>
                  <a:lnTo>
                    <a:pt x="1218" y="370"/>
                  </a:lnTo>
                  <a:lnTo>
                    <a:pt x="1221" y="195"/>
                  </a:lnTo>
                  <a:lnTo>
                    <a:pt x="1224" y="573"/>
                  </a:lnTo>
                  <a:lnTo>
                    <a:pt x="1226" y="388"/>
                  </a:lnTo>
                  <a:lnTo>
                    <a:pt x="1229" y="252"/>
                  </a:lnTo>
                  <a:lnTo>
                    <a:pt x="1231" y="584"/>
                  </a:lnTo>
                  <a:lnTo>
                    <a:pt x="1235" y="251"/>
                  </a:lnTo>
                  <a:lnTo>
                    <a:pt x="1237" y="133"/>
                  </a:lnTo>
                  <a:lnTo>
                    <a:pt x="1239" y="362"/>
                  </a:lnTo>
                  <a:lnTo>
                    <a:pt x="1243" y="203"/>
                  </a:lnTo>
                  <a:lnTo>
                    <a:pt x="1245" y="428"/>
                  </a:lnTo>
                  <a:lnTo>
                    <a:pt x="1247" y="571"/>
                  </a:lnTo>
                  <a:lnTo>
                    <a:pt x="1250" y="558"/>
                  </a:lnTo>
                  <a:lnTo>
                    <a:pt x="1253" y="585"/>
                  </a:lnTo>
                  <a:lnTo>
                    <a:pt x="1256" y="602"/>
                  </a:lnTo>
                  <a:lnTo>
                    <a:pt x="1258" y="335"/>
                  </a:lnTo>
                  <a:lnTo>
                    <a:pt x="1260" y="263"/>
                  </a:lnTo>
                  <a:lnTo>
                    <a:pt x="1264" y="151"/>
                  </a:lnTo>
                  <a:lnTo>
                    <a:pt x="1266" y="477"/>
                  </a:lnTo>
                  <a:lnTo>
                    <a:pt x="1269" y="213"/>
                  </a:lnTo>
                  <a:lnTo>
                    <a:pt x="1271" y="605"/>
                  </a:lnTo>
                  <a:lnTo>
                    <a:pt x="1274" y="554"/>
                  </a:lnTo>
                  <a:lnTo>
                    <a:pt x="1277" y="177"/>
                  </a:lnTo>
                  <a:lnTo>
                    <a:pt x="1279" y="560"/>
                  </a:lnTo>
                  <a:lnTo>
                    <a:pt x="1282" y="338"/>
                  </a:lnTo>
                  <a:lnTo>
                    <a:pt x="1285" y="536"/>
                  </a:lnTo>
                  <a:lnTo>
                    <a:pt x="1287" y="334"/>
                  </a:lnTo>
                  <a:lnTo>
                    <a:pt x="1290" y="716"/>
                  </a:lnTo>
                  <a:lnTo>
                    <a:pt x="1293" y="898"/>
                  </a:lnTo>
                  <a:lnTo>
                    <a:pt x="1295" y="632"/>
                  </a:lnTo>
                  <a:lnTo>
                    <a:pt x="1298" y="658"/>
                  </a:lnTo>
                  <a:lnTo>
                    <a:pt x="1300" y="389"/>
                  </a:lnTo>
                  <a:lnTo>
                    <a:pt x="1304" y="550"/>
                  </a:lnTo>
                  <a:lnTo>
                    <a:pt x="1306" y="555"/>
                  </a:lnTo>
                  <a:lnTo>
                    <a:pt x="1308" y="254"/>
                  </a:lnTo>
                  <a:lnTo>
                    <a:pt x="1312" y="448"/>
                  </a:lnTo>
                  <a:lnTo>
                    <a:pt x="1314" y="542"/>
                  </a:lnTo>
                  <a:lnTo>
                    <a:pt x="1316" y="381"/>
                  </a:lnTo>
                  <a:lnTo>
                    <a:pt x="1319" y="231"/>
                  </a:lnTo>
                  <a:lnTo>
                    <a:pt x="1322" y="583"/>
                  </a:lnTo>
                  <a:lnTo>
                    <a:pt x="1325" y="639"/>
                  </a:lnTo>
                  <a:lnTo>
                    <a:pt x="1327" y="552"/>
                  </a:lnTo>
                  <a:lnTo>
                    <a:pt x="1329" y="835"/>
                  </a:lnTo>
                  <a:lnTo>
                    <a:pt x="1333" y="397"/>
                  </a:lnTo>
                  <a:lnTo>
                    <a:pt x="1335" y="533"/>
                  </a:lnTo>
                  <a:lnTo>
                    <a:pt x="1337" y="722"/>
                  </a:lnTo>
                  <a:lnTo>
                    <a:pt x="1341" y="489"/>
                  </a:lnTo>
                  <a:lnTo>
                    <a:pt x="1343" y="233"/>
                  </a:lnTo>
                  <a:lnTo>
                    <a:pt x="1346" y="354"/>
                  </a:lnTo>
                  <a:lnTo>
                    <a:pt x="1348" y="436"/>
                  </a:lnTo>
                  <a:lnTo>
                    <a:pt x="1351" y="509"/>
                  </a:lnTo>
                  <a:lnTo>
                    <a:pt x="1354" y="628"/>
                  </a:lnTo>
                  <a:lnTo>
                    <a:pt x="1356" y="624"/>
                  </a:lnTo>
                  <a:lnTo>
                    <a:pt x="1360" y="278"/>
                  </a:lnTo>
                  <a:lnTo>
                    <a:pt x="1362" y="804"/>
                  </a:lnTo>
                  <a:lnTo>
                    <a:pt x="1364" y="499"/>
                  </a:lnTo>
                  <a:lnTo>
                    <a:pt x="1367" y="366"/>
                  </a:lnTo>
                  <a:lnTo>
                    <a:pt x="1370" y="526"/>
                  </a:lnTo>
                  <a:lnTo>
                    <a:pt x="1372" y="783"/>
                  </a:lnTo>
                  <a:lnTo>
                    <a:pt x="1375" y="276"/>
                  </a:lnTo>
                  <a:lnTo>
                    <a:pt x="1377" y="290"/>
                  </a:lnTo>
                  <a:lnTo>
                    <a:pt x="1381" y="584"/>
                  </a:lnTo>
                  <a:lnTo>
                    <a:pt x="1383" y="557"/>
                  </a:lnTo>
                  <a:lnTo>
                    <a:pt x="1385" y="590"/>
                  </a:lnTo>
                  <a:lnTo>
                    <a:pt x="1389" y="332"/>
                  </a:lnTo>
                  <a:lnTo>
                    <a:pt x="1391" y="84"/>
                  </a:lnTo>
                  <a:lnTo>
                    <a:pt x="1394" y="657"/>
                  </a:lnTo>
                  <a:lnTo>
                    <a:pt x="1396" y="350"/>
                  </a:lnTo>
                  <a:lnTo>
                    <a:pt x="1399" y="486"/>
                  </a:lnTo>
                  <a:lnTo>
                    <a:pt x="1402" y="379"/>
                  </a:lnTo>
                  <a:lnTo>
                    <a:pt x="1404" y="301"/>
                  </a:lnTo>
                  <a:lnTo>
                    <a:pt x="1406" y="231"/>
                  </a:lnTo>
                  <a:lnTo>
                    <a:pt x="1410" y="611"/>
                  </a:lnTo>
                  <a:lnTo>
                    <a:pt x="1412" y="440"/>
                  </a:lnTo>
                  <a:lnTo>
                    <a:pt x="1415" y="466"/>
                  </a:lnTo>
                  <a:lnTo>
                    <a:pt x="1418" y="209"/>
                  </a:lnTo>
                  <a:lnTo>
                    <a:pt x="1420" y="451"/>
                  </a:lnTo>
                  <a:lnTo>
                    <a:pt x="1423" y="348"/>
                  </a:lnTo>
                  <a:lnTo>
                    <a:pt x="1425" y="693"/>
                  </a:lnTo>
                  <a:lnTo>
                    <a:pt x="1429" y="319"/>
                  </a:lnTo>
                  <a:lnTo>
                    <a:pt x="1431" y="320"/>
                  </a:lnTo>
                  <a:lnTo>
                    <a:pt x="1433" y="592"/>
                  </a:lnTo>
                  <a:lnTo>
                    <a:pt x="1436" y="434"/>
                  </a:lnTo>
                  <a:lnTo>
                    <a:pt x="1439" y="319"/>
                  </a:lnTo>
                  <a:lnTo>
                    <a:pt x="1441" y="674"/>
                  </a:lnTo>
                  <a:lnTo>
                    <a:pt x="1444" y="459"/>
                  </a:lnTo>
                  <a:lnTo>
                    <a:pt x="1446" y="458"/>
                  </a:lnTo>
                  <a:lnTo>
                    <a:pt x="1450" y="591"/>
                  </a:lnTo>
                  <a:lnTo>
                    <a:pt x="1452" y="339"/>
                  </a:lnTo>
                  <a:lnTo>
                    <a:pt x="1454" y="431"/>
                  </a:lnTo>
                  <a:lnTo>
                    <a:pt x="1458" y="562"/>
                  </a:lnTo>
                  <a:lnTo>
                    <a:pt x="1460" y="368"/>
                  </a:lnTo>
                  <a:lnTo>
                    <a:pt x="1462" y="406"/>
                  </a:lnTo>
                  <a:lnTo>
                    <a:pt x="1465" y="217"/>
                  </a:lnTo>
                  <a:lnTo>
                    <a:pt x="1468" y="275"/>
                  </a:lnTo>
                  <a:lnTo>
                    <a:pt x="1471" y="225"/>
                  </a:lnTo>
                  <a:lnTo>
                    <a:pt x="1473" y="271"/>
                  </a:lnTo>
                  <a:lnTo>
                    <a:pt x="1475" y="804"/>
                  </a:lnTo>
                  <a:lnTo>
                    <a:pt x="1479" y="552"/>
                  </a:lnTo>
                  <a:lnTo>
                    <a:pt x="1481" y="293"/>
                  </a:lnTo>
                  <a:lnTo>
                    <a:pt x="1484" y="468"/>
                  </a:lnTo>
                  <a:lnTo>
                    <a:pt x="1487" y="581"/>
                  </a:lnTo>
                  <a:lnTo>
                    <a:pt x="1489" y="407"/>
                  </a:lnTo>
                  <a:lnTo>
                    <a:pt x="1492" y="369"/>
                  </a:lnTo>
                  <a:lnTo>
                    <a:pt x="1494" y="824"/>
                  </a:lnTo>
                  <a:lnTo>
                    <a:pt x="1497" y="579"/>
                  </a:lnTo>
                  <a:lnTo>
                    <a:pt x="1500" y="273"/>
                  </a:lnTo>
                  <a:lnTo>
                    <a:pt x="1502" y="598"/>
                  </a:lnTo>
                  <a:lnTo>
                    <a:pt x="1506" y="324"/>
                  </a:lnTo>
                  <a:lnTo>
                    <a:pt x="1508" y="330"/>
                  </a:lnTo>
                  <a:lnTo>
                    <a:pt x="1510" y="577"/>
                  </a:lnTo>
                  <a:lnTo>
                    <a:pt x="1513" y="500"/>
                  </a:lnTo>
                  <a:lnTo>
                    <a:pt x="1516" y="397"/>
                  </a:lnTo>
                  <a:lnTo>
                    <a:pt x="1519" y="431"/>
                  </a:lnTo>
                  <a:lnTo>
                    <a:pt x="1521" y="60"/>
                  </a:lnTo>
                  <a:lnTo>
                    <a:pt x="1523" y="296"/>
                  </a:lnTo>
                  <a:lnTo>
                    <a:pt x="1527" y="547"/>
                  </a:lnTo>
                  <a:lnTo>
                    <a:pt x="1529" y="314"/>
                  </a:lnTo>
                  <a:lnTo>
                    <a:pt x="1531" y="696"/>
                  </a:lnTo>
                  <a:lnTo>
                    <a:pt x="1535" y="292"/>
                  </a:lnTo>
                  <a:lnTo>
                    <a:pt x="1537" y="633"/>
                  </a:lnTo>
                  <a:lnTo>
                    <a:pt x="1540" y="474"/>
                  </a:lnTo>
                  <a:lnTo>
                    <a:pt x="1542" y="425"/>
                  </a:lnTo>
                  <a:lnTo>
                    <a:pt x="1545" y="378"/>
                  </a:lnTo>
                  <a:lnTo>
                    <a:pt x="1548" y="363"/>
                  </a:lnTo>
                  <a:lnTo>
                    <a:pt x="1550" y="863"/>
                  </a:lnTo>
                  <a:lnTo>
                    <a:pt x="1553" y="594"/>
                  </a:lnTo>
                  <a:lnTo>
                    <a:pt x="1556" y="434"/>
                  </a:lnTo>
                  <a:lnTo>
                    <a:pt x="1558" y="720"/>
                  </a:lnTo>
                  <a:lnTo>
                    <a:pt x="1561" y="322"/>
                  </a:lnTo>
                  <a:lnTo>
                    <a:pt x="1564" y="431"/>
                  </a:lnTo>
                  <a:lnTo>
                    <a:pt x="1566" y="237"/>
                  </a:lnTo>
                  <a:lnTo>
                    <a:pt x="1569" y="482"/>
                  </a:lnTo>
                  <a:lnTo>
                    <a:pt x="1571" y="828"/>
                  </a:lnTo>
                  <a:lnTo>
                    <a:pt x="1575" y="641"/>
                  </a:lnTo>
                  <a:lnTo>
                    <a:pt x="1577" y="349"/>
                  </a:lnTo>
                  <a:lnTo>
                    <a:pt x="1579" y="426"/>
                  </a:lnTo>
                  <a:lnTo>
                    <a:pt x="1582" y="602"/>
                  </a:lnTo>
                  <a:lnTo>
                    <a:pt x="1585" y="437"/>
                  </a:lnTo>
                  <a:lnTo>
                    <a:pt x="1587" y="109"/>
                  </a:lnTo>
                  <a:lnTo>
                    <a:pt x="1590" y="199"/>
                  </a:lnTo>
                  <a:lnTo>
                    <a:pt x="1593" y="349"/>
                  </a:lnTo>
                  <a:lnTo>
                    <a:pt x="1596" y="342"/>
                  </a:lnTo>
                  <a:lnTo>
                    <a:pt x="1598" y="567"/>
                  </a:lnTo>
                  <a:lnTo>
                    <a:pt x="1600" y="653"/>
                  </a:lnTo>
                  <a:lnTo>
                    <a:pt x="1604" y="340"/>
                  </a:lnTo>
                  <a:lnTo>
                    <a:pt x="1606" y="214"/>
                  </a:lnTo>
                  <a:lnTo>
                    <a:pt x="1609" y="411"/>
                  </a:lnTo>
                  <a:lnTo>
                    <a:pt x="1611" y="493"/>
                  </a:lnTo>
                  <a:lnTo>
                    <a:pt x="1614" y="205"/>
                  </a:lnTo>
                  <a:lnTo>
                    <a:pt x="1617" y="237"/>
                  </a:lnTo>
                  <a:lnTo>
                    <a:pt x="1619" y="368"/>
                  </a:lnTo>
                  <a:lnTo>
                    <a:pt x="1621" y="328"/>
                  </a:lnTo>
                  <a:lnTo>
                    <a:pt x="1625" y="146"/>
                  </a:lnTo>
                  <a:lnTo>
                    <a:pt x="1627" y="505"/>
                  </a:lnTo>
                  <a:lnTo>
                    <a:pt x="1630" y="393"/>
                  </a:lnTo>
                  <a:lnTo>
                    <a:pt x="1633" y="556"/>
                  </a:lnTo>
                  <a:lnTo>
                    <a:pt x="1635" y="477"/>
                  </a:lnTo>
                  <a:lnTo>
                    <a:pt x="1638" y="536"/>
                  </a:lnTo>
                  <a:lnTo>
                    <a:pt x="1640" y="788"/>
                  </a:lnTo>
                  <a:lnTo>
                    <a:pt x="1644" y="584"/>
                  </a:lnTo>
                  <a:lnTo>
                    <a:pt x="1646" y="489"/>
                  </a:lnTo>
                  <a:lnTo>
                    <a:pt x="1648" y="421"/>
                  </a:lnTo>
                  <a:lnTo>
                    <a:pt x="1652" y="293"/>
                  </a:lnTo>
                  <a:lnTo>
                    <a:pt x="1654" y="367"/>
                  </a:lnTo>
                  <a:lnTo>
                    <a:pt x="1656" y="787"/>
                  </a:lnTo>
                  <a:lnTo>
                    <a:pt x="1659" y="386"/>
                  </a:lnTo>
                  <a:lnTo>
                    <a:pt x="1662" y="380"/>
                  </a:lnTo>
                  <a:lnTo>
                    <a:pt x="1665" y="194"/>
                  </a:lnTo>
                  <a:lnTo>
                    <a:pt x="1667" y="303"/>
                  </a:lnTo>
                  <a:lnTo>
                    <a:pt x="1669" y="189"/>
                  </a:lnTo>
                  <a:lnTo>
                    <a:pt x="1673" y="574"/>
                  </a:lnTo>
                  <a:lnTo>
                    <a:pt x="1675" y="731"/>
                  </a:lnTo>
                  <a:lnTo>
                    <a:pt x="1678" y="186"/>
                  </a:lnTo>
                  <a:lnTo>
                    <a:pt x="1681" y="320"/>
                  </a:lnTo>
                  <a:lnTo>
                    <a:pt x="1683" y="519"/>
                  </a:lnTo>
                  <a:lnTo>
                    <a:pt x="1686" y="517"/>
                  </a:lnTo>
                  <a:lnTo>
                    <a:pt x="1688" y="115"/>
                  </a:lnTo>
                  <a:lnTo>
                    <a:pt x="1691" y="567"/>
                  </a:lnTo>
                  <a:lnTo>
                    <a:pt x="1694" y="142"/>
                  </a:lnTo>
                  <a:lnTo>
                    <a:pt x="1696" y="625"/>
                  </a:lnTo>
                  <a:lnTo>
                    <a:pt x="1700" y="165"/>
                  </a:lnTo>
                  <a:lnTo>
                    <a:pt x="1702" y="650"/>
                  </a:lnTo>
                  <a:lnTo>
                    <a:pt x="1704" y="149"/>
                  </a:lnTo>
                  <a:lnTo>
                    <a:pt x="1707" y="387"/>
                  </a:lnTo>
                  <a:lnTo>
                    <a:pt x="1710" y="265"/>
                  </a:lnTo>
                  <a:lnTo>
                    <a:pt x="1712" y="442"/>
                  </a:lnTo>
                  <a:lnTo>
                    <a:pt x="1715" y="333"/>
                  </a:lnTo>
                  <a:lnTo>
                    <a:pt x="1717" y="460"/>
                  </a:lnTo>
                  <a:lnTo>
                    <a:pt x="1721" y="562"/>
                  </a:lnTo>
                  <a:lnTo>
                    <a:pt x="1723" y="234"/>
                  </a:lnTo>
                  <a:lnTo>
                    <a:pt x="1725" y="227"/>
                  </a:lnTo>
                  <a:lnTo>
                    <a:pt x="1728" y="377"/>
                  </a:lnTo>
                  <a:lnTo>
                    <a:pt x="1731" y="495"/>
                  </a:lnTo>
                  <a:lnTo>
                    <a:pt x="1734" y="461"/>
                  </a:lnTo>
                  <a:lnTo>
                    <a:pt x="1736" y="151"/>
                  </a:lnTo>
                  <a:lnTo>
                    <a:pt x="1739" y="919"/>
                  </a:lnTo>
                  <a:lnTo>
                    <a:pt x="1742" y="340"/>
                  </a:lnTo>
                  <a:lnTo>
                    <a:pt x="1744" y="129"/>
                  </a:lnTo>
                  <a:lnTo>
                    <a:pt x="1746" y="422"/>
                  </a:lnTo>
                  <a:lnTo>
                    <a:pt x="1750" y="306"/>
                  </a:lnTo>
                  <a:lnTo>
                    <a:pt x="1752" y="446"/>
                  </a:lnTo>
                  <a:lnTo>
                    <a:pt x="1755" y="379"/>
                  </a:lnTo>
                  <a:lnTo>
                    <a:pt x="1757" y="547"/>
                  </a:lnTo>
                  <a:lnTo>
                    <a:pt x="1760" y="380"/>
                  </a:lnTo>
                  <a:lnTo>
                    <a:pt x="1763" y="215"/>
                  </a:lnTo>
                  <a:lnTo>
                    <a:pt x="1765" y="2"/>
                  </a:lnTo>
                  <a:lnTo>
                    <a:pt x="1769" y="550"/>
                  </a:lnTo>
                  <a:lnTo>
                    <a:pt x="1771" y="374"/>
                  </a:lnTo>
                  <a:lnTo>
                    <a:pt x="1773" y="468"/>
                  </a:lnTo>
                  <a:lnTo>
                    <a:pt x="1776" y="560"/>
                  </a:lnTo>
                  <a:lnTo>
                    <a:pt x="1779" y="579"/>
                  </a:lnTo>
                  <a:lnTo>
                    <a:pt x="1781" y="569"/>
                  </a:lnTo>
                  <a:lnTo>
                    <a:pt x="1784" y="281"/>
                  </a:lnTo>
                  <a:lnTo>
                    <a:pt x="1786" y="392"/>
                  </a:lnTo>
                  <a:lnTo>
                    <a:pt x="1790" y="483"/>
                  </a:lnTo>
                  <a:lnTo>
                    <a:pt x="1792" y="545"/>
                  </a:lnTo>
                  <a:lnTo>
                    <a:pt x="1794" y="575"/>
                  </a:lnTo>
                  <a:lnTo>
                    <a:pt x="1798" y="497"/>
                  </a:lnTo>
                  <a:lnTo>
                    <a:pt x="1800" y="522"/>
                  </a:lnTo>
                  <a:lnTo>
                    <a:pt x="1802" y="500"/>
                  </a:lnTo>
                  <a:lnTo>
                    <a:pt x="1805" y="241"/>
                  </a:lnTo>
                  <a:lnTo>
                    <a:pt x="1808" y="629"/>
                  </a:lnTo>
                  <a:lnTo>
                    <a:pt x="1811" y="485"/>
                  </a:lnTo>
                  <a:lnTo>
                    <a:pt x="1813" y="409"/>
                  </a:lnTo>
                  <a:lnTo>
                    <a:pt x="1815" y="318"/>
                  </a:lnTo>
                  <a:lnTo>
                    <a:pt x="1819" y="519"/>
                  </a:lnTo>
                  <a:lnTo>
                    <a:pt x="1821" y="558"/>
                  </a:lnTo>
                  <a:lnTo>
                    <a:pt x="1824" y="540"/>
                  </a:lnTo>
                  <a:lnTo>
                    <a:pt x="1827" y="439"/>
                  </a:lnTo>
                  <a:lnTo>
                    <a:pt x="1829" y="493"/>
                  </a:lnTo>
                  <a:lnTo>
                    <a:pt x="1832" y="361"/>
                  </a:lnTo>
                  <a:lnTo>
                    <a:pt x="1834" y="587"/>
                  </a:lnTo>
                  <a:lnTo>
                    <a:pt x="1837" y="314"/>
                  </a:lnTo>
                  <a:lnTo>
                    <a:pt x="1840" y="466"/>
                  </a:lnTo>
                  <a:lnTo>
                    <a:pt x="1842" y="746"/>
                  </a:lnTo>
                  <a:lnTo>
                    <a:pt x="1846" y="498"/>
                  </a:lnTo>
                  <a:lnTo>
                    <a:pt x="1848" y="465"/>
                  </a:lnTo>
                  <a:lnTo>
                    <a:pt x="1850" y="368"/>
                  </a:lnTo>
                  <a:lnTo>
                    <a:pt x="1853" y="360"/>
                  </a:lnTo>
                  <a:lnTo>
                    <a:pt x="1856" y="765"/>
                  </a:lnTo>
                  <a:lnTo>
                    <a:pt x="1859" y="688"/>
                  </a:lnTo>
                  <a:lnTo>
                    <a:pt x="1861" y="389"/>
                  </a:lnTo>
                  <a:lnTo>
                    <a:pt x="1863" y="261"/>
                  </a:lnTo>
                  <a:lnTo>
                    <a:pt x="1867" y="631"/>
                  </a:lnTo>
                  <a:lnTo>
                    <a:pt x="1869" y="328"/>
                  </a:lnTo>
                  <a:lnTo>
                    <a:pt x="1871" y="668"/>
                  </a:lnTo>
                  <a:lnTo>
                    <a:pt x="1875" y="340"/>
                  </a:lnTo>
                  <a:lnTo>
                    <a:pt x="1877" y="415"/>
                  </a:lnTo>
                  <a:lnTo>
                    <a:pt x="1880" y="409"/>
                  </a:lnTo>
                  <a:lnTo>
                    <a:pt x="1882" y="503"/>
                  </a:lnTo>
                  <a:lnTo>
                    <a:pt x="1885" y="284"/>
                  </a:lnTo>
                  <a:lnTo>
                    <a:pt x="1888" y="561"/>
                  </a:lnTo>
                  <a:lnTo>
                    <a:pt x="1890" y="563"/>
                  </a:lnTo>
                  <a:lnTo>
                    <a:pt x="1893" y="410"/>
                  </a:lnTo>
                  <a:lnTo>
                    <a:pt x="1896" y="270"/>
                  </a:lnTo>
                  <a:lnTo>
                    <a:pt x="1898" y="543"/>
                  </a:lnTo>
                  <a:lnTo>
                    <a:pt x="1901" y="643"/>
                  </a:lnTo>
                  <a:lnTo>
                    <a:pt x="1903" y="461"/>
                  </a:lnTo>
                  <a:lnTo>
                    <a:pt x="1906" y="719"/>
                  </a:lnTo>
                  <a:lnTo>
                    <a:pt x="1909" y="396"/>
                  </a:lnTo>
                  <a:lnTo>
                    <a:pt x="1911" y="552"/>
                  </a:lnTo>
                  <a:lnTo>
                    <a:pt x="1915" y="497"/>
                  </a:lnTo>
                  <a:lnTo>
                    <a:pt x="1917" y="408"/>
                  </a:lnTo>
                  <a:lnTo>
                    <a:pt x="1919" y="553"/>
                  </a:lnTo>
                  <a:lnTo>
                    <a:pt x="1922" y="585"/>
                  </a:lnTo>
                  <a:lnTo>
                    <a:pt x="1925" y="488"/>
                  </a:lnTo>
                  <a:lnTo>
                    <a:pt x="1927" y="507"/>
                  </a:lnTo>
                  <a:lnTo>
                    <a:pt x="1930" y="434"/>
                  </a:lnTo>
                  <a:lnTo>
                    <a:pt x="1932" y="576"/>
                  </a:lnTo>
                  <a:lnTo>
                    <a:pt x="1936" y="527"/>
                  </a:lnTo>
                  <a:lnTo>
                    <a:pt x="1938" y="313"/>
                  </a:lnTo>
                  <a:lnTo>
                    <a:pt x="1940" y="466"/>
                  </a:lnTo>
                  <a:lnTo>
                    <a:pt x="1944" y="555"/>
                  </a:lnTo>
                  <a:lnTo>
                    <a:pt x="1946" y="447"/>
                  </a:lnTo>
                  <a:lnTo>
                    <a:pt x="1949" y="513"/>
                  </a:lnTo>
                  <a:lnTo>
                    <a:pt x="1951" y="284"/>
                  </a:lnTo>
                  <a:lnTo>
                    <a:pt x="1954" y="425"/>
                  </a:lnTo>
                  <a:lnTo>
                    <a:pt x="1957" y="411"/>
                  </a:lnTo>
                  <a:lnTo>
                    <a:pt x="1959" y="253"/>
                  </a:lnTo>
                  <a:lnTo>
                    <a:pt x="1961" y="427"/>
                  </a:lnTo>
                  <a:lnTo>
                    <a:pt x="1965" y="681"/>
                  </a:lnTo>
                  <a:lnTo>
                    <a:pt x="1967" y="448"/>
                  </a:lnTo>
                  <a:lnTo>
                    <a:pt x="1970" y="593"/>
                  </a:lnTo>
                  <a:lnTo>
                    <a:pt x="1973" y="315"/>
                  </a:lnTo>
                  <a:lnTo>
                    <a:pt x="1975" y="645"/>
                  </a:lnTo>
                  <a:lnTo>
                    <a:pt x="1978" y="493"/>
                  </a:lnTo>
                  <a:lnTo>
                    <a:pt x="1980" y="532"/>
                  </a:lnTo>
                  <a:lnTo>
                    <a:pt x="1984" y="453"/>
                  </a:lnTo>
                  <a:lnTo>
                    <a:pt x="1986" y="567"/>
                  </a:lnTo>
                  <a:lnTo>
                    <a:pt x="1988" y="415"/>
                  </a:lnTo>
                  <a:lnTo>
                    <a:pt x="1992" y="546"/>
                  </a:lnTo>
                  <a:lnTo>
                    <a:pt x="1994" y="384"/>
                  </a:lnTo>
                  <a:lnTo>
                    <a:pt x="1996" y="466"/>
                  </a:lnTo>
                  <a:lnTo>
                    <a:pt x="1999" y="719"/>
                  </a:lnTo>
                  <a:lnTo>
                    <a:pt x="2002" y="573"/>
                  </a:lnTo>
                  <a:lnTo>
                    <a:pt x="2005" y="422"/>
                  </a:lnTo>
                  <a:lnTo>
                    <a:pt x="2007" y="506"/>
                  </a:lnTo>
                  <a:lnTo>
                    <a:pt x="2009" y="633"/>
                  </a:lnTo>
                  <a:lnTo>
                    <a:pt x="2013" y="326"/>
                  </a:lnTo>
                  <a:lnTo>
                    <a:pt x="2015" y="451"/>
                  </a:lnTo>
                  <a:lnTo>
                    <a:pt x="2018" y="562"/>
                  </a:lnTo>
                  <a:lnTo>
                    <a:pt x="2021" y="424"/>
                  </a:lnTo>
                  <a:lnTo>
                    <a:pt x="2023" y="389"/>
                  </a:lnTo>
                  <a:lnTo>
                    <a:pt x="2026" y="437"/>
                  </a:lnTo>
                  <a:lnTo>
                    <a:pt x="2028" y="467"/>
                  </a:lnTo>
                  <a:lnTo>
                    <a:pt x="2031" y="310"/>
                  </a:lnTo>
                  <a:lnTo>
                    <a:pt x="2034" y="405"/>
                  </a:lnTo>
                  <a:lnTo>
                    <a:pt x="2036" y="313"/>
                  </a:lnTo>
                  <a:lnTo>
                    <a:pt x="2039" y="480"/>
                  </a:lnTo>
                  <a:lnTo>
                    <a:pt x="2042" y="550"/>
                  </a:lnTo>
                  <a:lnTo>
                    <a:pt x="2044" y="503"/>
                  </a:lnTo>
                  <a:lnTo>
                    <a:pt x="2047" y="500"/>
                  </a:lnTo>
                  <a:lnTo>
                    <a:pt x="2050" y="371"/>
                  </a:lnTo>
                  <a:lnTo>
                    <a:pt x="2052" y="651"/>
                  </a:lnTo>
                  <a:lnTo>
                    <a:pt x="2055" y="555"/>
                  </a:lnTo>
                  <a:lnTo>
                    <a:pt x="2057" y="468"/>
                  </a:lnTo>
                  <a:lnTo>
                    <a:pt x="2061" y="424"/>
                  </a:lnTo>
                  <a:lnTo>
                    <a:pt x="2063" y="546"/>
                  </a:lnTo>
                  <a:lnTo>
                    <a:pt x="2065" y="421"/>
                  </a:lnTo>
                  <a:lnTo>
                    <a:pt x="2068" y="460"/>
                  </a:lnTo>
                  <a:lnTo>
                    <a:pt x="2071" y="524"/>
                  </a:lnTo>
                  <a:lnTo>
                    <a:pt x="2074" y="475"/>
                  </a:lnTo>
                  <a:lnTo>
                    <a:pt x="2076" y="361"/>
                  </a:lnTo>
                  <a:lnTo>
                    <a:pt x="2078" y="408"/>
                  </a:lnTo>
                  <a:lnTo>
                    <a:pt x="2082" y="468"/>
                  </a:lnTo>
                  <a:lnTo>
                    <a:pt x="2084" y="424"/>
                  </a:lnTo>
                  <a:lnTo>
                    <a:pt x="2086" y="524"/>
                  </a:lnTo>
                  <a:lnTo>
                    <a:pt x="2090" y="465"/>
                  </a:lnTo>
                  <a:lnTo>
                    <a:pt x="2092" y="548"/>
                  </a:lnTo>
                  <a:lnTo>
                    <a:pt x="2095" y="449"/>
                  </a:lnTo>
                  <a:lnTo>
                    <a:pt x="2097" y="519"/>
                  </a:lnTo>
                  <a:lnTo>
                    <a:pt x="2100" y="558"/>
                  </a:lnTo>
                  <a:lnTo>
                    <a:pt x="2103" y="428"/>
                  </a:lnTo>
                  <a:lnTo>
                    <a:pt x="2105" y="299"/>
                  </a:lnTo>
                  <a:lnTo>
                    <a:pt x="2109" y="429"/>
                  </a:lnTo>
                  <a:lnTo>
                    <a:pt x="2111" y="445"/>
                  </a:lnTo>
                  <a:lnTo>
                    <a:pt x="2113" y="369"/>
                  </a:lnTo>
                  <a:lnTo>
                    <a:pt x="2116" y="389"/>
                  </a:lnTo>
                  <a:lnTo>
                    <a:pt x="2119" y="448"/>
                  </a:lnTo>
                  <a:lnTo>
                    <a:pt x="2121" y="579"/>
                  </a:lnTo>
                  <a:lnTo>
                    <a:pt x="2124" y="438"/>
                  </a:lnTo>
                  <a:lnTo>
                    <a:pt x="2126" y="542"/>
                  </a:lnTo>
                  <a:lnTo>
                    <a:pt x="2130" y="600"/>
                  </a:lnTo>
                  <a:lnTo>
                    <a:pt x="2132" y="478"/>
                  </a:lnTo>
                  <a:lnTo>
                    <a:pt x="2134" y="419"/>
                  </a:lnTo>
                  <a:lnTo>
                    <a:pt x="2138" y="460"/>
                  </a:lnTo>
                  <a:lnTo>
                    <a:pt x="2140" y="438"/>
                  </a:lnTo>
                  <a:lnTo>
                    <a:pt x="2142" y="489"/>
                  </a:lnTo>
                  <a:lnTo>
                    <a:pt x="2145" y="518"/>
                  </a:lnTo>
                  <a:lnTo>
                    <a:pt x="2148" y="402"/>
                  </a:lnTo>
                  <a:lnTo>
                    <a:pt x="2151" y="513"/>
                  </a:lnTo>
                  <a:lnTo>
                    <a:pt x="2153" y="450"/>
                  </a:lnTo>
                  <a:lnTo>
                    <a:pt x="2155" y="483"/>
                  </a:lnTo>
                  <a:lnTo>
                    <a:pt x="2159" y="325"/>
                  </a:lnTo>
                  <a:lnTo>
                    <a:pt x="2161" y="468"/>
                  </a:lnTo>
                  <a:lnTo>
                    <a:pt x="2164" y="515"/>
                  </a:lnTo>
                  <a:lnTo>
                    <a:pt x="2167" y="482"/>
                  </a:lnTo>
                  <a:lnTo>
                    <a:pt x="2169" y="351"/>
                  </a:lnTo>
                  <a:lnTo>
                    <a:pt x="2172" y="403"/>
                  </a:lnTo>
                  <a:lnTo>
                    <a:pt x="2174" y="560"/>
                  </a:lnTo>
                  <a:lnTo>
                    <a:pt x="2177" y="506"/>
                  </a:lnTo>
                  <a:lnTo>
                    <a:pt x="2180" y="442"/>
                  </a:lnTo>
                  <a:lnTo>
                    <a:pt x="2182" y="544"/>
                  </a:lnTo>
                  <a:lnTo>
                    <a:pt x="2185" y="442"/>
                  </a:lnTo>
                  <a:lnTo>
                    <a:pt x="2188" y="457"/>
                  </a:lnTo>
                  <a:lnTo>
                    <a:pt x="2190" y="395"/>
                  </a:lnTo>
                  <a:lnTo>
                    <a:pt x="2193" y="463"/>
                  </a:lnTo>
                  <a:lnTo>
                    <a:pt x="2196" y="464"/>
                  </a:lnTo>
                  <a:lnTo>
                    <a:pt x="2199" y="459"/>
                  </a:lnTo>
                  <a:lnTo>
                    <a:pt x="2201" y="564"/>
                  </a:lnTo>
                  <a:lnTo>
                    <a:pt x="2203" y="399"/>
                  </a:lnTo>
                  <a:lnTo>
                    <a:pt x="2207" y="493"/>
                  </a:lnTo>
                  <a:lnTo>
                    <a:pt x="2209" y="411"/>
                  </a:lnTo>
                  <a:lnTo>
                    <a:pt x="2211" y="518"/>
                  </a:lnTo>
                  <a:lnTo>
                    <a:pt x="2214" y="447"/>
                  </a:lnTo>
                  <a:lnTo>
                    <a:pt x="2217" y="553"/>
                  </a:lnTo>
                  <a:lnTo>
                    <a:pt x="2220" y="363"/>
                  </a:lnTo>
                  <a:lnTo>
                    <a:pt x="2222" y="498"/>
                  </a:lnTo>
                  <a:lnTo>
                    <a:pt x="2224" y="466"/>
                  </a:lnTo>
                  <a:lnTo>
                    <a:pt x="2228" y="393"/>
                  </a:lnTo>
                  <a:lnTo>
                    <a:pt x="2230" y="442"/>
                  </a:lnTo>
                  <a:lnTo>
                    <a:pt x="2233" y="368"/>
                  </a:lnTo>
                  <a:lnTo>
                    <a:pt x="2236" y="514"/>
                  </a:lnTo>
                  <a:lnTo>
                    <a:pt x="2238" y="535"/>
                  </a:lnTo>
                  <a:lnTo>
                    <a:pt x="2241" y="489"/>
                  </a:lnTo>
                  <a:lnTo>
                    <a:pt x="2243" y="446"/>
                  </a:lnTo>
                  <a:lnTo>
                    <a:pt x="2246" y="368"/>
                  </a:lnTo>
                  <a:lnTo>
                    <a:pt x="2249" y="587"/>
                  </a:lnTo>
                  <a:lnTo>
                    <a:pt x="2251" y="471"/>
                  </a:lnTo>
                  <a:lnTo>
                    <a:pt x="2255" y="415"/>
                  </a:lnTo>
                  <a:lnTo>
                    <a:pt x="2257" y="413"/>
                  </a:lnTo>
                  <a:lnTo>
                    <a:pt x="2259" y="420"/>
                  </a:lnTo>
                  <a:lnTo>
                    <a:pt x="2262" y="383"/>
                  </a:lnTo>
                  <a:lnTo>
                    <a:pt x="2265" y="428"/>
                  </a:lnTo>
                  <a:lnTo>
                    <a:pt x="2267" y="540"/>
                  </a:lnTo>
                  <a:lnTo>
                    <a:pt x="2270" y="494"/>
                  </a:lnTo>
                  <a:lnTo>
                    <a:pt x="2272" y="466"/>
                  </a:lnTo>
                  <a:lnTo>
                    <a:pt x="2276" y="410"/>
                  </a:lnTo>
                  <a:lnTo>
                    <a:pt x="2278" y="498"/>
                  </a:lnTo>
                  <a:lnTo>
                    <a:pt x="2280" y="583"/>
                  </a:lnTo>
                  <a:lnTo>
                    <a:pt x="2284" y="516"/>
                  </a:lnTo>
                  <a:lnTo>
                    <a:pt x="2286" y="483"/>
                  </a:lnTo>
                  <a:lnTo>
                    <a:pt x="2289" y="488"/>
                  </a:lnTo>
                  <a:lnTo>
                    <a:pt x="2291" y="458"/>
                  </a:lnTo>
                  <a:lnTo>
                    <a:pt x="2294" y="426"/>
                  </a:lnTo>
                  <a:lnTo>
                    <a:pt x="2297" y="468"/>
                  </a:lnTo>
                  <a:lnTo>
                    <a:pt x="2299" y="503"/>
                  </a:lnTo>
                  <a:lnTo>
                    <a:pt x="2301" y="524"/>
                  </a:lnTo>
                  <a:lnTo>
                    <a:pt x="2305" y="427"/>
                  </a:lnTo>
                  <a:lnTo>
                    <a:pt x="2307" y="497"/>
                  </a:lnTo>
                  <a:lnTo>
                    <a:pt x="2310" y="431"/>
                  </a:lnTo>
                  <a:lnTo>
                    <a:pt x="2313" y="484"/>
                  </a:lnTo>
                  <a:lnTo>
                    <a:pt x="2315" y="478"/>
                  </a:lnTo>
                  <a:lnTo>
                    <a:pt x="2318" y="449"/>
                  </a:lnTo>
                  <a:lnTo>
                    <a:pt x="2320" y="432"/>
                  </a:lnTo>
                  <a:lnTo>
                    <a:pt x="2324" y="461"/>
                  </a:lnTo>
                  <a:lnTo>
                    <a:pt x="2326" y="405"/>
                  </a:lnTo>
                  <a:lnTo>
                    <a:pt x="2328" y="527"/>
                  </a:lnTo>
                  <a:lnTo>
                    <a:pt x="2332" y="506"/>
                  </a:lnTo>
                  <a:lnTo>
                    <a:pt x="2334" y="432"/>
                  </a:lnTo>
                  <a:lnTo>
                    <a:pt x="2336" y="482"/>
                  </a:lnTo>
                  <a:lnTo>
                    <a:pt x="2339" y="476"/>
                  </a:lnTo>
                  <a:lnTo>
                    <a:pt x="2342" y="503"/>
                  </a:lnTo>
                  <a:lnTo>
                    <a:pt x="2345" y="465"/>
                  </a:lnTo>
                  <a:lnTo>
                    <a:pt x="2347" y="413"/>
                  </a:lnTo>
                  <a:lnTo>
                    <a:pt x="2349" y="528"/>
                  </a:lnTo>
                  <a:lnTo>
                    <a:pt x="2353" y="451"/>
                  </a:lnTo>
                  <a:lnTo>
                    <a:pt x="2355" y="448"/>
                  </a:lnTo>
                  <a:lnTo>
                    <a:pt x="2358" y="484"/>
                  </a:lnTo>
                  <a:lnTo>
                    <a:pt x="2360" y="451"/>
                  </a:lnTo>
                  <a:lnTo>
                    <a:pt x="2363" y="457"/>
                  </a:lnTo>
                  <a:lnTo>
                    <a:pt x="2366" y="476"/>
                  </a:lnTo>
                  <a:lnTo>
                    <a:pt x="2368" y="502"/>
                  </a:lnTo>
                  <a:lnTo>
                    <a:pt x="2371" y="391"/>
                  </a:lnTo>
                  <a:lnTo>
                    <a:pt x="2374" y="497"/>
                  </a:lnTo>
                  <a:lnTo>
                    <a:pt x="2376" y="476"/>
                  </a:lnTo>
                  <a:lnTo>
                    <a:pt x="2379" y="498"/>
                  </a:lnTo>
                  <a:lnTo>
                    <a:pt x="2382" y="450"/>
                  </a:lnTo>
                  <a:lnTo>
                    <a:pt x="2384" y="502"/>
                  </a:lnTo>
                  <a:lnTo>
                    <a:pt x="2387" y="465"/>
                  </a:lnTo>
                  <a:lnTo>
                    <a:pt x="2389" y="463"/>
                  </a:lnTo>
                  <a:lnTo>
                    <a:pt x="2392" y="454"/>
                  </a:lnTo>
                  <a:lnTo>
                    <a:pt x="2395" y="427"/>
                  </a:lnTo>
                  <a:lnTo>
                    <a:pt x="2397" y="420"/>
                  </a:lnTo>
                  <a:lnTo>
                    <a:pt x="2401" y="503"/>
                  </a:lnTo>
                  <a:lnTo>
                    <a:pt x="2403" y="464"/>
                  </a:lnTo>
                  <a:lnTo>
                    <a:pt x="2405" y="434"/>
                  </a:lnTo>
                  <a:lnTo>
                    <a:pt x="2408" y="428"/>
                  </a:lnTo>
                  <a:lnTo>
                    <a:pt x="2411" y="487"/>
                  </a:lnTo>
                  <a:lnTo>
                    <a:pt x="2414" y="460"/>
                  </a:lnTo>
                  <a:lnTo>
                    <a:pt x="2416" y="471"/>
                  </a:lnTo>
                  <a:lnTo>
                    <a:pt x="2418" y="496"/>
                  </a:lnTo>
                  <a:lnTo>
                    <a:pt x="2422" y="463"/>
                  </a:lnTo>
                  <a:lnTo>
                    <a:pt x="2424" y="495"/>
                  </a:lnTo>
                  <a:lnTo>
                    <a:pt x="2426" y="436"/>
                  </a:lnTo>
                  <a:lnTo>
                    <a:pt x="2430" y="471"/>
                  </a:lnTo>
                  <a:lnTo>
                    <a:pt x="2432" y="455"/>
                  </a:lnTo>
                  <a:lnTo>
                    <a:pt x="2435" y="474"/>
                  </a:lnTo>
                  <a:lnTo>
                    <a:pt x="2437" y="450"/>
                  </a:lnTo>
                  <a:lnTo>
                    <a:pt x="2440" y="459"/>
                  </a:lnTo>
                  <a:lnTo>
                    <a:pt x="2443" y="467"/>
                  </a:lnTo>
                  <a:lnTo>
                    <a:pt x="2445" y="447"/>
                  </a:lnTo>
                  <a:lnTo>
                    <a:pt x="2449" y="475"/>
                  </a:lnTo>
                  <a:lnTo>
                    <a:pt x="2451" y="487"/>
                  </a:lnTo>
                  <a:lnTo>
                    <a:pt x="2453" y="474"/>
                  </a:lnTo>
                  <a:lnTo>
                    <a:pt x="2456" y="487"/>
                  </a:lnTo>
                  <a:lnTo>
                    <a:pt x="2459" y="466"/>
                  </a:lnTo>
                  <a:lnTo>
                    <a:pt x="2461" y="460"/>
                  </a:lnTo>
                  <a:lnTo>
                    <a:pt x="2464" y="460"/>
                  </a:lnTo>
                  <a:lnTo>
                    <a:pt x="2466" y="434"/>
                  </a:lnTo>
                  <a:lnTo>
                    <a:pt x="2470" y="471"/>
                  </a:lnTo>
                  <a:lnTo>
                    <a:pt x="2472" y="466"/>
                  </a:lnTo>
                  <a:lnTo>
                    <a:pt x="2474" y="439"/>
                  </a:lnTo>
                  <a:lnTo>
                    <a:pt x="2478" y="479"/>
                  </a:lnTo>
                  <a:lnTo>
                    <a:pt x="2480" y="464"/>
                  </a:lnTo>
                  <a:lnTo>
                    <a:pt x="2482" y="458"/>
                  </a:lnTo>
                  <a:lnTo>
                    <a:pt x="2485" y="469"/>
                  </a:lnTo>
                  <a:lnTo>
                    <a:pt x="2488" y="474"/>
                  </a:lnTo>
                  <a:lnTo>
                    <a:pt x="2491" y="465"/>
                  </a:lnTo>
                  <a:lnTo>
                    <a:pt x="2493" y="446"/>
                  </a:lnTo>
                  <a:lnTo>
                    <a:pt x="2495" y="464"/>
                  </a:lnTo>
                  <a:lnTo>
                    <a:pt x="2499" y="441"/>
                  </a:lnTo>
                  <a:lnTo>
                    <a:pt x="2501" y="470"/>
                  </a:lnTo>
                  <a:lnTo>
                    <a:pt x="2504" y="464"/>
                  </a:lnTo>
                  <a:lnTo>
                    <a:pt x="2507" y="468"/>
                  </a:lnTo>
                  <a:lnTo>
                    <a:pt x="2509" y="455"/>
                  </a:lnTo>
                  <a:lnTo>
                    <a:pt x="2512" y="441"/>
                  </a:lnTo>
                  <a:lnTo>
                    <a:pt x="2514" y="470"/>
                  </a:lnTo>
                  <a:lnTo>
                    <a:pt x="2517" y="473"/>
                  </a:lnTo>
                  <a:lnTo>
                    <a:pt x="2520" y="463"/>
                  </a:lnTo>
                  <a:lnTo>
                    <a:pt x="2522" y="469"/>
                  </a:lnTo>
                  <a:lnTo>
                    <a:pt x="2525" y="466"/>
                  </a:lnTo>
                  <a:lnTo>
                    <a:pt x="2528" y="465"/>
                  </a:lnTo>
                  <a:lnTo>
                    <a:pt x="2530" y="468"/>
                  </a:lnTo>
                  <a:lnTo>
                    <a:pt x="2533" y="461"/>
                  </a:lnTo>
                  <a:lnTo>
                    <a:pt x="2535" y="468"/>
                  </a:lnTo>
                  <a:lnTo>
                    <a:pt x="2539" y="476"/>
                  </a:lnTo>
                  <a:lnTo>
                    <a:pt x="2541" y="464"/>
                  </a:lnTo>
                  <a:lnTo>
                    <a:pt x="2543" y="465"/>
                  </a:lnTo>
                  <a:lnTo>
                    <a:pt x="2547" y="453"/>
                  </a:lnTo>
                  <a:lnTo>
                    <a:pt x="2549" y="464"/>
                  </a:lnTo>
                  <a:lnTo>
                    <a:pt x="2551" y="465"/>
                  </a:lnTo>
                  <a:lnTo>
                    <a:pt x="2554" y="473"/>
                  </a:lnTo>
                  <a:lnTo>
                    <a:pt x="2557" y="465"/>
                  </a:lnTo>
                  <a:lnTo>
                    <a:pt x="2560" y="456"/>
                  </a:lnTo>
                  <a:lnTo>
                    <a:pt x="2562" y="461"/>
                  </a:lnTo>
                  <a:lnTo>
                    <a:pt x="2564" y="468"/>
                  </a:lnTo>
                  <a:lnTo>
                    <a:pt x="2568" y="475"/>
                  </a:lnTo>
                  <a:lnTo>
                    <a:pt x="2570" y="474"/>
                  </a:lnTo>
                  <a:lnTo>
                    <a:pt x="2573" y="457"/>
                  </a:lnTo>
                  <a:lnTo>
                    <a:pt x="2576" y="460"/>
                  </a:lnTo>
                  <a:lnTo>
                    <a:pt x="2578" y="467"/>
                  </a:lnTo>
                  <a:lnTo>
                    <a:pt x="2581" y="464"/>
                  </a:lnTo>
                  <a:lnTo>
                    <a:pt x="2583" y="463"/>
                  </a:lnTo>
                  <a:lnTo>
                    <a:pt x="2586" y="464"/>
                  </a:lnTo>
                  <a:lnTo>
                    <a:pt x="2589" y="465"/>
                  </a:lnTo>
                  <a:lnTo>
                    <a:pt x="2591" y="465"/>
                  </a:lnTo>
                  <a:lnTo>
                    <a:pt x="2595" y="465"/>
                  </a:lnTo>
                  <a:lnTo>
                    <a:pt x="2597" y="460"/>
                  </a:lnTo>
                  <a:lnTo>
                    <a:pt x="2599" y="461"/>
                  </a:lnTo>
                  <a:lnTo>
                    <a:pt x="2602" y="463"/>
                  </a:lnTo>
                  <a:lnTo>
                    <a:pt x="2605" y="464"/>
                  </a:lnTo>
                  <a:lnTo>
                    <a:pt x="2607" y="463"/>
                  </a:lnTo>
                  <a:lnTo>
                    <a:pt x="2610" y="458"/>
                  </a:lnTo>
                  <a:lnTo>
                    <a:pt x="2612" y="461"/>
                  </a:lnTo>
                  <a:lnTo>
                    <a:pt x="2616" y="465"/>
                  </a:lnTo>
                  <a:lnTo>
                    <a:pt x="2618" y="460"/>
                  </a:lnTo>
                  <a:lnTo>
                    <a:pt x="2620" y="460"/>
                  </a:lnTo>
                  <a:lnTo>
                    <a:pt x="2624" y="465"/>
                  </a:lnTo>
                  <a:lnTo>
                    <a:pt x="2626" y="464"/>
                  </a:lnTo>
                  <a:lnTo>
                    <a:pt x="2629" y="463"/>
                  </a:lnTo>
                  <a:lnTo>
                    <a:pt x="2631" y="461"/>
                  </a:lnTo>
                  <a:lnTo>
                    <a:pt x="2634" y="465"/>
                  </a:lnTo>
                  <a:lnTo>
                    <a:pt x="2637" y="465"/>
                  </a:lnTo>
                  <a:lnTo>
                    <a:pt x="2639" y="464"/>
                  </a:lnTo>
                  <a:lnTo>
                    <a:pt x="2641" y="464"/>
                  </a:lnTo>
                  <a:lnTo>
                    <a:pt x="2645" y="466"/>
                  </a:lnTo>
                  <a:lnTo>
                    <a:pt x="2647" y="466"/>
                  </a:lnTo>
                  <a:lnTo>
                    <a:pt x="2650" y="465"/>
                  </a:lnTo>
                  <a:lnTo>
                    <a:pt x="2653" y="463"/>
                  </a:lnTo>
                  <a:lnTo>
                    <a:pt x="2655" y="464"/>
                  </a:lnTo>
                  <a:lnTo>
                    <a:pt x="2658" y="465"/>
                  </a:lnTo>
                  <a:lnTo>
                    <a:pt x="2660" y="465"/>
                  </a:lnTo>
                  <a:lnTo>
                    <a:pt x="2664" y="464"/>
                  </a:lnTo>
                  <a:lnTo>
                    <a:pt x="2666" y="464"/>
                  </a:lnTo>
                  <a:lnTo>
                    <a:pt x="2668" y="464"/>
                  </a:lnTo>
                  <a:lnTo>
                    <a:pt x="2671" y="464"/>
                  </a:lnTo>
                  <a:lnTo>
                    <a:pt x="2674" y="464"/>
                  </a:lnTo>
                  <a:lnTo>
                    <a:pt x="2676" y="464"/>
                  </a:lnTo>
                  <a:lnTo>
                    <a:pt x="2679" y="464"/>
                  </a:lnTo>
                  <a:lnTo>
                    <a:pt x="2682" y="464"/>
                  </a:lnTo>
                  <a:lnTo>
                    <a:pt x="2685" y="464"/>
                  </a:lnTo>
                  <a:lnTo>
                    <a:pt x="2687" y="464"/>
                  </a:lnTo>
                  <a:lnTo>
                    <a:pt x="2689" y="464"/>
                  </a:lnTo>
                  <a:lnTo>
                    <a:pt x="2693" y="464"/>
                  </a:lnTo>
                  <a:lnTo>
                    <a:pt x="2695" y="464"/>
                  </a:lnTo>
                  <a:lnTo>
                    <a:pt x="2698" y="464"/>
                  </a:lnTo>
                  <a:lnTo>
                    <a:pt x="2700" y="464"/>
                  </a:lnTo>
                  <a:lnTo>
                    <a:pt x="2703" y="464"/>
                  </a:lnTo>
                  <a:lnTo>
                    <a:pt x="2706" y="464"/>
                  </a:lnTo>
                  <a:lnTo>
                    <a:pt x="2708" y="464"/>
                  </a:lnTo>
                  <a:lnTo>
                    <a:pt x="2710" y="464"/>
                  </a:lnTo>
                  <a:lnTo>
                    <a:pt x="2714" y="464"/>
                  </a:lnTo>
                  <a:lnTo>
                    <a:pt x="2716" y="464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05040" y="4073400"/>
              <a:ext cx="3187440" cy="1389240"/>
            </a:xfrm>
            <a:custGeom>
              <a:avLst/>
              <a:gdLst/>
              <a:ahLst/>
              <a:rect l="l" t="t" r="r" b="b"/>
              <a:pathLst>
                <a:path w="3186" h="1138">
                  <a:moveTo>
                    <a:pt x="0" y="113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6" y="0"/>
                  </a:lnTo>
                  <a:lnTo>
                    <a:pt x="3186" y="1138"/>
                  </a:lnTo>
                  <a:lnTo>
                    <a:pt x="3186" y="1138"/>
                  </a:lnTo>
                  <a:lnTo>
                    <a:pt x="0" y="1138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905040" y="4073400"/>
              <a:ext cx="31874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56280" y="2119320"/>
              <a:ext cx="360" cy="1386000"/>
            </a:xfrm>
            <a:custGeom>
              <a:avLst/>
              <a:gdLst/>
              <a:ahLst/>
              <a:rect l="l" t="t" r="r" b="b"/>
              <a:pathLst>
                <a:path w="0" h="1136">
                  <a:moveTo>
                    <a:pt x="0" y="0"/>
                  </a:moveTo>
                  <a:lnTo>
                    <a:pt x="0" y="0"/>
                  </a:lnTo>
                  <a:lnTo>
                    <a:pt x="0" y="1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56280" y="4073400"/>
              <a:ext cx="1440" cy="138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00120" y="3621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17600" y="2655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841640" y="33480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917600" y="1960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072040" y="35053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5072040" y="281304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5072040" y="21193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5114520" y="350532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5114520" y="315900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114520" y="281304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5114520" y="246528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5114520" y="211932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56280" y="2119320"/>
              <a:ext cx="0" cy="13860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56280" y="2119320"/>
              <a:ext cx="3176640" cy="1386000"/>
            </a:xfrm>
            <a:custGeom>
              <a:avLst/>
              <a:gdLst/>
              <a:ahLst/>
              <a:rect l="l" t="t" r="r" b="b"/>
              <a:pathLst>
                <a:path w="2717" h="1136">
                  <a:moveTo>
                    <a:pt x="0" y="569"/>
                  </a:moveTo>
                  <a:lnTo>
                    <a:pt x="2" y="526"/>
                  </a:lnTo>
                  <a:lnTo>
                    <a:pt x="5" y="485"/>
                  </a:lnTo>
                  <a:lnTo>
                    <a:pt x="7" y="445"/>
                  </a:lnTo>
                  <a:lnTo>
                    <a:pt x="11" y="405"/>
                  </a:lnTo>
                  <a:lnTo>
                    <a:pt x="13" y="366"/>
                  </a:lnTo>
                  <a:lnTo>
                    <a:pt x="15" y="327"/>
                  </a:lnTo>
                  <a:lnTo>
                    <a:pt x="19" y="290"/>
                  </a:lnTo>
                  <a:lnTo>
                    <a:pt x="21" y="255"/>
                  </a:lnTo>
                  <a:lnTo>
                    <a:pt x="24" y="221"/>
                  </a:lnTo>
                  <a:lnTo>
                    <a:pt x="26" y="189"/>
                  </a:lnTo>
                  <a:lnTo>
                    <a:pt x="29" y="159"/>
                  </a:lnTo>
                  <a:lnTo>
                    <a:pt x="32" y="131"/>
                  </a:lnTo>
                  <a:lnTo>
                    <a:pt x="34" y="106"/>
                  </a:lnTo>
                  <a:lnTo>
                    <a:pt x="36" y="83"/>
                  </a:lnTo>
                  <a:lnTo>
                    <a:pt x="40" y="63"/>
                  </a:lnTo>
                  <a:lnTo>
                    <a:pt x="42" y="46"/>
                  </a:lnTo>
                  <a:lnTo>
                    <a:pt x="45" y="30"/>
                  </a:lnTo>
                  <a:lnTo>
                    <a:pt x="48" y="19"/>
                  </a:lnTo>
                  <a:lnTo>
                    <a:pt x="50" y="9"/>
                  </a:lnTo>
                  <a:lnTo>
                    <a:pt x="53" y="3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1" y="3"/>
                  </a:lnTo>
                  <a:lnTo>
                    <a:pt x="63" y="9"/>
                  </a:lnTo>
                  <a:lnTo>
                    <a:pt x="67" y="18"/>
                  </a:lnTo>
                  <a:lnTo>
                    <a:pt x="69" y="30"/>
                  </a:lnTo>
                  <a:lnTo>
                    <a:pt x="71" y="44"/>
                  </a:lnTo>
                  <a:lnTo>
                    <a:pt x="74" y="61"/>
                  </a:lnTo>
                  <a:lnTo>
                    <a:pt x="77" y="81"/>
                  </a:lnTo>
                  <a:lnTo>
                    <a:pt x="80" y="105"/>
                  </a:lnTo>
                  <a:lnTo>
                    <a:pt x="82" y="130"/>
                  </a:lnTo>
                  <a:lnTo>
                    <a:pt x="84" y="157"/>
                  </a:lnTo>
                  <a:lnTo>
                    <a:pt x="88" y="187"/>
                  </a:lnTo>
                  <a:lnTo>
                    <a:pt x="90" y="218"/>
                  </a:lnTo>
                  <a:lnTo>
                    <a:pt x="92" y="253"/>
                  </a:lnTo>
                  <a:lnTo>
                    <a:pt x="96" y="288"/>
                  </a:lnTo>
                  <a:lnTo>
                    <a:pt x="98" y="324"/>
                  </a:lnTo>
                  <a:lnTo>
                    <a:pt x="101" y="362"/>
                  </a:lnTo>
                  <a:lnTo>
                    <a:pt x="103" y="402"/>
                  </a:lnTo>
                  <a:lnTo>
                    <a:pt x="106" y="442"/>
                  </a:lnTo>
                  <a:lnTo>
                    <a:pt x="109" y="483"/>
                  </a:lnTo>
                  <a:lnTo>
                    <a:pt x="111" y="524"/>
                  </a:lnTo>
                  <a:lnTo>
                    <a:pt x="114" y="565"/>
                  </a:lnTo>
                  <a:lnTo>
                    <a:pt x="117" y="607"/>
                  </a:lnTo>
                  <a:lnTo>
                    <a:pt x="119" y="648"/>
                  </a:lnTo>
                  <a:lnTo>
                    <a:pt x="122" y="689"/>
                  </a:lnTo>
                  <a:lnTo>
                    <a:pt x="125" y="729"/>
                  </a:lnTo>
                  <a:lnTo>
                    <a:pt x="127" y="768"/>
                  </a:lnTo>
                  <a:lnTo>
                    <a:pt x="130" y="806"/>
                  </a:lnTo>
                  <a:lnTo>
                    <a:pt x="132" y="844"/>
                  </a:lnTo>
                  <a:lnTo>
                    <a:pt x="136" y="879"/>
                  </a:lnTo>
                  <a:lnTo>
                    <a:pt x="138" y="913"/>
                  </a:lnTo>
                  <a:lnTo>
                    <a:pt x="140" y="946"/>
                  </a:lnTo>
                  <a:lnTo>
                    <a:pt x="143" y="975"/>
                  </a:lnTo>
                  <a:lnTo>
                    <a:pt x="146" y="1003"/>
                  </a:lnTo>
                  <a:lnTo>
                    <a:pt x="149" y="1028"/>
                  </a:lnTo>
                  <a:lnTo>
                    <a:pt x="151" y="1052"/>
                  </a:lnTo>
                  <a:lnTo>
                    <a:pt x="154" y="1072"/>
                  </a:lnTo>
                  <a:lnTo>
                    <a:pt x="157" y="1090"/>
                  </a:lnTo>
                  <a:lnTo>
                    <a:pt x="159" y="1105"/>
                  </a:lnTo>
                  <a:lnTo>
                    <a:pt x="161" y="1118"/>
                  </a:lnTo>
                  <a:lnTo>
                    <a:pt x="165" y="1126"/>
                  </a:lnTo>
                  <a:lnTo>
                    <a:pt x="167" y="1133"/>
                  </a:lnTo>
                  <a:lnTo>
                    <a:pt x="170" y="1136"/>
                  </a:lnTo>
                  <a:lnTo>
                    <a:pt x="172" y="1136"/>
                  </a:lnTo>
                  <a:lnTo>
                    <a:pt x="175" y="1134"/>
                  </a:lnTo>
                  <a:lnTo>
                    <a:pt x="178" y="1129"/>
                  </a:lnTo>
                  <a:lnTo>
                    <a:pt x="180" y="1120"/>
                  </a:lnTo>
                  <a:lnTo>
                    <a:pt x="182" y="1107"/>
                  </a:lnTo>
                  <a:lnTo>
                    <a:pt x="186" y="1093"/>
                  </a:lnTo>
                  <a:lnTo>
                    <a:pt x="188" y="1076"/>
                  </a:lnTo>
                  <a:lnTo>
                    <a:pt x="191" y="1056"/>
                  </a:lnTo>
                  <a:lnTo>
                    <a:pt x="194" y="1034"/>
                  </a:lnTo>
                  <a:lnTo>
                    <a:pt x="196" y="1008"/>
                  </a:lnTo>
                  <a:lnTo>
                    <a:pt x="199" y="981"/>
                  </a:lnTo>
                  <a:lnTo>
                    <a:pt x="201" y="951"/>
                  </a:lnTo>
                  <a:lnTo>
                    <a:pt x="205" y="920"/>
                  </a:lnTo>
                  <a:lnTo>
                    <a:pt x="207" y="887"/>
                  </a:lnTo>
                  <a:lnTo>
                    <a:pt x="209" y="851"/>
                  </a:lnTo>
                  <a:lnTo>
                    <a:pt x="213" y="814"/>
                  </a:lnTo>
                  <a:lnTo>
                    <a:pt x="215" y="776"/>
                  </a:lnTo>
                  <a:lnTo>
                    <a:pt x="217" y="737"/>
                  </a:lnTo>
                  <a:lnTo>
                    <a:pt x="220" y="697"/>
                  </a:lnTo>
                  <a:lnTo>
                    <a:pt x="223" y="657"/>
                  </a:lnTo>
                  <a:lnTo>
                    <a:pt x="226" y="616"/>
                  </a:lnTo>
                  <a:lnTo>
                    <a:pt x="228" y="574"/>
                  </a:lnTo>
                  <a:lnTo>
                    <a:pt x="230" y="532"/>
                  </a:lnTo>
                  <a:lnTo>
                    <a:pt x="234" y="491"/>
                  </a:lnTo>
                  <a:lnTo>
                    <a:pt x="236" y="450"/>
                  </a:lnTo>
                  <a:lnTo>
                    <a:pt x="239" y="410"/>
                  </a:lnTo>
                  <a:lnTo>
                    <a:pt x="242" y="370"/>
                  </a:lnTo>
                  <a:lnTo>
                    <a:pt x="244" y="332"/>
                  </a:lnTo>
                  <a:lnTo>
                    <a:pt x="247" y="295"/>
                  </a:lnTo>
                  <a:lnTo>
                    <a:pt x="249" y="260"/>
                  </a:lnTo>
                  <a:lnTo>
                    <a:pt x="252" y="225"/>
                  </a:lnTo>
                  <a:lnTo>
                    <a:pt x="255" y="193"/>
                  </a:lnTo>
                  <a:lnTo>
                    <a:pt x="257" y="163"/>
                  </a:lnTo>
                  <a:lnTo>
                    <a:pt x="261" y="135"/>
                  </a:lnTo>
                  <a:lnTo>
                    <a:pt x="263" y="109"/>
                  </a:lnTo>
                  <a:lnTo>
                    <a:pt x="265" y="86"/>
                  </a:lnTo>
                  <a:lnTo>
                    <a:pt x="268" y="66"/>
                  </a:lnTo>
                  <a:lnTo>
                    <a:pt x="271" y="48"/>
                  </a:lnTo>
                  <a:lnTo>
                    <a:pt x="273" y="32"/>
                  </a:lnTo>
                  <a:lnTo>
                    <a:pt x="276" y="20"/>
                  </a:lnTo>
                  <a:lnTo>
                    <a:pt x="278" y="10"/>
                  </a:lnTo>
                  <a:lnTo>
                    <a:pt x="282" y="3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9" y="2"/>
                  </a:lnTo>
                  <a:lnTo>
                    <a:pt x="292" y="8"/>
                  </a:lnTo>
                  <a:lnTo>
                    <a:pt x="295" y="17"/>
                  </a:lnTo>
                  <a:lnTo>
                    <a:pt x="297" y="28"/>
                  </a:lnTo>
                  <a:lnTo>
                    <a:pt x="300" y="42"/>
                  </a:lnTo>
                  <a:lnTo>
                    <a:pt x="303" y="59"/>
                  </a:lnTo>
                  <a:lnTo>
                    <a:pt x="305" y="79"/>
                  </a:lnTo>
                  <a:lnTo>
                    <a:pt x="307" y="101"/>
                  </a:lnTo>
                  <a:lnTo>
                    <a:pt x="311" y="126"/>
                  </a:lnTo>
                  <a:lnTo>
                    <a:pt x="313" y="154"/>
                  </a:lnTo>
                  <a:lnTo>
                    <a:pt x="316" y="183"/>
                  </a:lnTo>
                  <a:lnTo>
                    <a:pt x="318" y="215"/>
                  </a:lnTo>
                  <a:lnTo>
                    <a:pt x="321" y="247"/>
                  </a:lnTo>
                  <a:lnTo>
                    <a:pt x="324" y="283"/>
                  </a:lnTo>
                  <a:lnTo>
                    <a:pt x="326" y="320"/>
                  </a:lnTo>
                  <a:lnTo>
                    <a:pt x="330" y="358"/>
                  </a:lnTo>
                  <a:lnTo>
                    <a:pt x="332" y="397"/>
                  </a:lnTo>
                  <a:lnTo>
                    <a:pt x="334" y="437"/>
                  </a:lnTo>
                  <a:lnTo>
                    <a:pt x="337" y="477"/>
                  </a:lnTo>
                  <a:lnTo>
                    <a:pt x="340" y="518"/>
                  </a:lnTo>
                  <a:lnTo>
                    <a:pt x="342" y="560"/>
                  </a:lnTo>
                  <a:lnTo>
                    <a:pt x="345" y="601"/>
                  </a:lnTo>
                  <a:lnTo>
                    <a:pt x="347" y="642"/>
                  </a:lnTo>
                  <a:lnTo>
                    <a:pt x="351" y="684"/>
                  </a:lnTo>
                  <a:lnTo>
                    <a:pt x="353" y="724"/>
                  </a:lnTo>
                  <a:lnTo>
                    <a:pt x="355" y="764"/>
                  </a:lnTo>
                  <a:lnTo>
                    <a:pt x="359" y="802"/>
                  </a:lnTo>
                  <a:lnTo>
                    <a:pt x="361" y="839"/>
                  </a:lnTo>
                  <a:lnTo>
                    <a:pt x="364" y="874"/>
                  </a:lnTo>
                  <a:lnTo>
                    <a:pt x="366" y="909"/>
                  </a:lnTo>
                  <a:lnTo>
                    <a:pt x="369" y="941"/>
                  </a:lnTo>
                  <a:lnTo>
                    <a:pt x="372" y="971"/>
                  </a:lnTo>
                  <a:lnTo>
                    <a:pt x="374" y="999"/>
                  </a:lnTo>
                  <a:lnTo>
                    <a:pt x="376" y="1025"/>
                  </a:lnTo>
                  <a:lnTo>
                    <a:pt x="380" y="1048"/>
                  </a:lnTo>
                  <a:lnTo>
                    <a:pt x="382" y="1070"/>
                  </a:lnTo>
                  <a:lnTo>
                    <a:pt x="385" y="1089"/>
                  </a:lnTo>
                  <a:lnTo>
                    <a:pt x="388" y="1103"/>
                  </a:lnTo>
                  <a:lnTo>
                    <a:pt x="390" y="1116"/>
                  </a:lnTo>
                  <a:lnTo>
                    <a:pt x="393" y="1125"/>
                  </a:lnTo>
                  <a:lnTo>
                    <a:pt x="395" y="1132"/>
                  </a:lnTo>
                  <a:lnTo>
                    <a:pt x="398" y="1136"/>
                  </a:lnTo>
                  <a:lnTo>
                    <a:pt x="401" y="1136"/>
                  </a:lnTo>
                  <a:lnTo>
                    <a:pt x="403" y="1134"/>
                  </a:lnTo>
                  <a:lnTo>
                    <a:pt x="407" y="1129"/>
                  </a:lnTo>
                  <a:lnTo>
                    <a:pt x="409" y="1121"/>
                  </a:lnTo>
                  <a:lnTo>
                    <a:pt x="411" y="1110"/>
                  </a:lnTo>
                  <a:lnTo>
                    <a:pt x="414" y="1095"/>
                  </a:lnTo>
                  <a:lnTo>
                    <a:pt x="417" y="1078"/>
                  </a:lnTo>
                  <a:lnTo>
                    <a:pt x="420" y="1058"/>
                  </a:lnTo>
                  <a:lnTo>
                    <a:pt x="422" y="1036"/>
                  </a:lnTo>
                  <a:lnTo>
                    <a:pt x="424" y="1012"/>
                  </a:lnTo>
                  <a:lnTo>
                    <a:pt x="428" y="985"/>
                  </a:lnTo>
                  <a:lnTo>
                    <a:pt x="430" y="956"/>
                  </a:lnTo>
                  <a:lnTo>
                    <a:pt x="432" y="925"/>
                  </a:lnTo>
                  <a:lnTo>
                    <a:pt x="436" y="891"/>
                  </a:lnTo>
                  <a:lnTo>
                    <a:pt x="438" y="855"/>
                  </a:lnTo>
                  <a:lnTo>
                    <a:pt x="441" y="820"/>
                  </a:lnTo>
                  <a:lnTo>
                    <a:pt x="443" y="782"/>
                  </a:lnTo>
                  <a:lnTo>
                    <a:pt x="446" y="743"/>
                  </a:lnTo>
                  <a:lnTo>
                    <a:pt x="449" y="703"/>
                  </a:lnTo>
                  <a:lnTo>
                    <a:pt x="451" y="661"/>
                  </a:lnTo>
                  <a:lnTo>
                    <a:pt x="454" y="621"/>
                  </a:lnTo>
                  <a:lnTo>
                    <a:pt x="457" y="579"/>
                  </a:lnTo>
                  <a:lnTo>
                    <a:pt x="459" y="537"/>
                  </a:lnTo>
                  <a:lnTo>
                    <a:pt x="462" y="496"/>
                  </a:lnTo>
                  <a:lnTo>
                    <a:pt x="464" y="456"/>
                  </a:lnTo>
                  <a:lnTo>
                    <a:pt x="467" y="415"/>
                  </a:lnTo>
                  <a:lnTo>
                    <a:pt x="470" y="376"/>
                  </a:lnTo>
                  <a:lnTo>
                    <a:pt x="472" y="337"/>
                  </a:lnTo>
                  <a:lnTo>
                    <a:pt x="476" y="300"/>
                  </a:lnTo>
                  <a:lnTo>
                    <a:pt x="478" y="264"/>
                  </a:lnTo>
                  <a:lnTo>
                    <a:pt x="480" y="230"/>
                  </a:lnTo>
                  <a:lnTo>
                    <a:pt x="483" y="197"/>
                  </a:lnTo>
                  <a:lnTo>
                    <a:pt x="486" y="167"/>
                  </a:lnTo>
                  <a:lnTo>
                    <a:pt x="489" y="138"/>
                  </a:lnTo>
                  <a:lnTo>
                    <a:pt x="491" y="112"/>
                  </a:lnTo>
                  <a:lnTo>
                    <a:pt x="493" y="89"/>
                  </a:lnTo>
                  <a:lnTo>
                    <a:pt x="497" y="68"/>
                  </a:lnTo>
                  <a:lnTo>
                    <a:pt x="499" y="50"/>
                  </a:lnTo>
                  <a:lnTo>
                    <a:pt x="501" y="34"/>
                  </a:lnTo>
                  <a:lnTo>
                    <a:pt x="505" y="21"/>
                  </a:lnTo>
                  <a:lnTo>
                    <a:pt x="507" y="11"/>
                  </a:lnTo>
                  <a:lnTo>
                    <a:pt x="510" y="4"/>
                  </a:lnTo>
                  <a:lnTo>
                    <a:pt x="512" y="1"/>
                  </a:lnTo>
                  <a:lnTo>
                    <a:pt x="515" y="0"/>
                  </a:lnTo>
                  <a:lnTo>
                    <a:pt x="518" y="2"/>
                  </a:lnTo>
                  <a:lnTo>
                    <a:pt x="520" y="6"/>
                  </a:lnTo>
                  <a:lnTo>
                    <a:pt x="522" y="15"/>
                  </a:lnTo>
                  <a:lnTo>
                    <a:pt x="526" y="25"/>
                  </a:lnTo>
                  <a:lnTo>
                    <a:pt x="528" y="40"/>
                  </a:lnTo>
                  <a:lnTo>
                    <a:pt x="531" y="57"/>
                  </a:lnTo>
                  <a:lnTo>
                    <a:pt x="534" y="76"/>
                  </a:lnTo>
                  <a:lnTo>
                    <a:pt x="536" y="98"/>
                  </a:lnTo>
                  <a:lnTo>
                    <a:pt x="539" y="122"/>
                  </a:lnTo>
                  <a:lnTo>
                    <a:pt x="541" y="149"/>
                  </a:lnTo>
                  <a:lnTo>
                    <a:pt x="545" y="179"/>
                  </a:lnTo>
                  <a:lnTo>
                    <a:pt x="547" y="211"/>
                  </a:lnTo>
                  <a:lnTo>
                    <a:pt x="549" y="243"/>
                  </a:lnTo>
                  <a:lnTo>
                    <a:pt x="553" y="279"/>
                  </a:lnTo>
                  <a:lnTo>
                    <a:pt x="555" y="314"/>
                  </a:lnTo>
                  <a:lnTo>
                    <a:pt x="557" y="352"/>
                  </a:lnTo>
                  <a:lnTo>
                    <a:pt x="560" y="391"/>
                  </a:lnTo>
                  <a:lnTo>
                    <a:pt x="563" y="431"/>
                  </a:lnTo>
                  <a:lnTo>
                    <a:pt x="566" y="472"/>
                  </a:lnTo>
                  <a:lnTo>
                    <a:pt x="568" y="513"/>
                  </a:lnTo>
                  <a:lnTo>
                    <a:pt x="570" y="554"/>
                  </a:lnTo>
                  <a:lnTo>
                    <a:pt x="574" y="595"/>
                  </a:lnTo>
                  <a:lnTo>
                    <a:pt x="576" y="637"/>
                  </a:lnTo>
                  <a:lnTo>
                    <a:pt x="579" y="678"/>
                  </a:lnTo>
                  <a:lnTo>
                    <a:pt x="582" y="718"/>
                  </a:lnTo>
                  <a:lnTo>
                    <a:pt x="584" y="758"/>
                  </a:lnTo>
                  <a:lnTo>
                    <a:pt x="587" y="796"/>
                  </a:lnTo>
                  <a:lnTo>
                    <a:pt x="589" y="834"/>
                  </a:lnTo>
                  <a:lnTo>
                    <a:pt x="592" y="870"/>
                  </a:lnTo>
                  <a:lnTo>
                    <a:pt x="595" y="904"/>
                  </a:lnTo>
                  <a:lnTo>
                    <a:pt x="597" y="937"/>
                  </a:lnTo>
                  <a:lnTo>
                    <a:pt x="600" y="968"/>
                  </a:lnTo>
                  <a:lnTo>
                    <a:pt x="603" y="996"/>
                  </a:lnTo>
                  <a:lnTo>
                    <a:pt x="605" y="1022"/>
                  </a:lnTo>
                  <a:lnTo>
                    <a:pt x="608" y="1046"/>
                  </a:lnTo>
                  <a:lnTo>
                    <a:pt x="611" y="1067"/>
                  </a:lnTo>
                  <a:lnTo>
                    <a:pt x="613" y="1085"/>
                  </a:lnTo>
                  <a:lnTo>
                    <a:pt x="616" y="1102"/>
                  </a:lnTo>
                  <a:lnTo>
                    <a:pt x="618" y="1114"/>
                  </a:lnTo>
                  <a:lnTo>
                    <a:pt x="622" y="1124"/>
                  </a:lnTo>
                  <a:lnTo>
                    <a:pt x="624" y="1132"/>
                  </a:lnTo>
                  <a:lnTo>
                    <a:pt x="626" y="1135"/>
                  </a:lnTo>
                  <a:lnTo>
                    <a:pt x="629" y="1136"/>
                  </a:lnTo>
                  <a:lnTo>
                    <a:pt x="632" y="1135"/>
                  </a:lnTo>
                  <a:lnTo>
                    <a:pt x="635" y="1130"/>
                  </a:lnTo>
                  <a:lnTo>
                    <a:pt x="637" y="1122"/>
                  </a:lnTo>
                  <a:lnTo>
                    <a:pt x="639" y="1111"/>
                  </a:lnTo>
                  <a:lnTo>
                    <a:pt x="643" y="1097"/>
                  </a:lnTo>
                  <a:lnTo>
                    <a:pt x="645" y="1081"/>
                  </a:lnTo>
                  <a:lnTo>
                    <a:pt x="647" y="1062"/>
                  </a:lnTo>
                  <a:lnTo>
                    <a:pt x="651" y="1039"/>
                  </a:lnTo>
                  <a:lnTo>
                    <a:pt x="653" y="1015"/>
                  </a:lnTo>
                  <a:lnTo>
                    <a:pt x="656" y="988"/>
                  </a:lnTo>
                  <a:lnTo>
                    <a:pt x="658" y="959"/>
                  </a:lnTo>
                  <a:lnTo>
                    <a:pt x="661" y="928"/>
                  </a:lnTo>
                  <a:lnTo>
                    <a:pt x="664" y="896"/>
                  </a:lnTo>
                  <a:lnTo>
                    <a:pt x="666" y="861"/>
                  </a:lnTo>
                  <a:lnTo>
                    <a:pt x="670" y="824"/>
                  </a:lnTo>
                  <a:lnTo>
                    <a:pt x="672" y="786"/>
                  </a:lnTo>
                  <a:lnTo>
                    <a:pt x="674" y="747"/>
                  </a:lnTo>
                  <a:lnTo>
                    <a:pt x="677" y="708"/>
                  </a:lnTo>
                  <a:lnTo>
                    <a:pt x="680" y="667"/>
                  </a:lnTo>
                  <a:lnTo>
                    <a:pt x="682" y="626"/>
                  </a:lnTo>
                  <a:lnTo>
                    <a:pt x="685" y="584"/>
                  </a:lnTo>
                  <a:lnTo>
                    <a:pt x="687" y="543"/>
                  </a:lnTo>
                  <a:lnTo>
                    <a:pt x="691" y="502"/>
                  </a:lnTo>
                  <a:lnTo>
                    <a:pt x="693" y="460"/>
                  </a:lnTo>
                  <a:lnTo>
                    <a:pt x="695" y="420"/>
                  </a:lnTo>
                  <a:lnTo>
                    <a:pt x="699" y="381"/>
                  </a:lnTo>
                  <a:lnTo>
                    <a:pt x="701" y="342"/>
                  </a:lnTo>
                  <a:lnTo>
                    <a:pt x="704" y="304"/>
                  </a:lnTo>
                  <a:lnTo>
                    <a:pt x="706" y="269"/>
                  </a:lnTo>
                  <a:lnTo>
                    <a:pt x="709" y="234"/>
                  </a:lnTo>
                  <a:lnTo>
                    <a:pt x="712" y="202"/>
                  </a:lnTo>
                  <a:lnTo>
                    <a:pt x="714" y="170"/>
                  </a:lnTo>
                  <a:lnTo>
                    <a:pt x="716" y="143"/>
                  </a:lnTo>
                  <a:lnTo>
                    <a:pt x="720" y="116"/>
                  </a:lnTo>
                  <a:lnTo>
                    <a:pt x="722" y="92"/>
                  </a:lnTo>
                  <a:lnTo>
                    <a:pt x="725" y="70"/>
                  </a:lnTo>
                  <a:lnTo>
                    <a:pt x="728" y="52"/>
                  </a:lnTo>
                  <a:lnTo>
                    <a:pt x="730" y="35"/>
                  </a:lnTo>
                  <a:lnTo>
                    <a:pt x="733" y="23"/>
                  </a:lnTo>
                  <a:lnTo>
                    <a:pt x="735" y="12"/>
                  </a:lnTo>
                  <a:lnTo>
                    <a:pt x="738" y="5"/>
                  </a:lnTo>
                  <a:lnTo>
                    <a:pt x="741" y="1"/>
                  </a:lnTo>
                  <a:lnTo>
                    <a:pt x="743" y="0"/>
                  </a:lnTo>
                  <a:lnTo>
                    <a:pt x="746" y="1"/>
                  </a:lnTo>
                  <a:lnTo>
                    <a:pt x="749" y="5"/>
                  </a:lnTo>
                  <a:lnTo>
                    <a:pt x="751" y="13"/>
                  </a:lnTo>
                  <a:lnTo>
                    <a:pt x="754" y="24"/>
                  </a:lnTo>
                  <a:lnTo>
                    <a:pt x="757" y="38"/>
                  </a:lnTo>
                  <a:lnTo>
                    <a:pt x="760" y="54"/>
                  </a:lnTo>
                  <a:lnTo>
                    <a:pt x="762" y="73"/>
                  </a:lnTo>
                  <a:lnTo>
                    <a:pt x="764" y="95"/>
                  </a:lnTo>
                  <a:lnTo>
                    <a:pt x="768" y="119"/>
                  </a:lnTo>
                  <a:lnTo>
                    <a:pt x="770" y="146"/>
                  </a:lnTo>
                  <a:lnTo>
                    <a:pt x="772" y="175"/>
                  </a:lnTo>
                  <a:lnTo>
                    <a:pt x="775" y="206"/>
                  </a:lnTo>
                  <a:lnTo>
                    <a:pt x="778" y="239"/>
                  </a:lnTo>
                  <a:lnTo>
                    <a:pt x="781" y="273"/>
                  </a:lnTo>
                  <a:lnTo>
                    <a:pt x="783" y="310"/>
                  </a:lnTo>
                  <a:lnTo>
                    <a:pt x="786" y="348"/>
                  </a:lnTo>
                  <a:lnTo>
                    <a:pt x="789" y="386"/>
                  </a:lnTo>
                  <a:lnTo>
                    <a:pt x="791" y="426"/>
                  </a:lnTo>
                  <a:lnTo>
                    <a:pt x="794" y="466"/>
                  </a:lnTo>
                  <a:lnTo>
                    <a:pt x="797" y="507"/>
                  </a:lnTo>
                  <a:lnTo>
                    <a:pt x="799" y="549"/>
                  </a:lnTo>
                  <a:lnTo>
                    <a:pt x="802" y="590"/>
                  </a:lnTo>
                  <a:lnTo>
                    <a:pt x="804" y="632"/>
                  </a:lnTo>
                  <a:lnTo>
                    <a:pt x="807" y="672"/>
                  </a:lnTo>
                  <a:lnTo>
                    <a:pt x="810" y="714"/>
                  </a:lnTo>
                  <a:lnTo>
                    <a:pt x="812" y="753"/>
                  </a:lnTo>
                  <a:lnTo>
                    <a:pt x="816" y="792"/>
                  </a:lnTo>
                  <a:lnTo>
                    <a:pt x="818" y="830"/>
                  </a:lnTo>
                  <a:lnTo>
                    <a:pt x="820" y="865"/>
                  </a:lnTo>
                  <a:lnTo>
                    <a:pt x="823" y="900"/>
                  </a:lnTo>
                  <a:lnTo>
                    <a:pt x="826" y="932"/>
                  </a:lnTo>
                  <a:lnTo>
                    <a:pt x="829" y="964"/>
                  </a:lnTo>
                  <a:lnTo>
                    <a:pt x="831" y="993"/>
                  </a:lnTo>
                  <a:lnTo>
                    <a:pt x="833" y="1018"/>
                  </a:lnTo>
                  <a:lnTo>
                    <a:pt x="837" y="1043"/>
                  </a:lnTo>
                  <a:lnTo>
                    <a:pt x="839" y="1064"/>
                  </a:lnTo>
                  <a:lnTo>
                    <a:pt x="841" y="1083"/>
                  </a:lnTo>
                  <a:lnTo>
                    <a:pt x="845" y="1100"/>
                  </a:lnTo>
                  <a:lnTo>
                    <a:pt x="847" y="1113"/>
                  </a:lnTo>
                  <a:lnTo>
                    <a:pt x="850" y="1123"/>
                  </a:lnTo>
                  <a:lnTo>
                    <a:pt x="852" y="1131"/>
                  </a:lnTo>
                  <a:lnTo>
                    <a:pt x="855" y="1135"/>
                  </a:lnTo>
                  <a:lnTo>
                    <a:pt x="858" y="1136"/>
                  </a:lnTo>
                  <a:lnTo>
                    <a:pt x="860" y="1135"/>
                  </a:lnTo>
                  <a:lnTo>
                    <a:pt x="862" y="1131"/>
                  </a:lnTo>
                  <a:lnTo>
                    <a:pt x="866" y="1123"/>
                  </a:lnTo>
                  <a:lnTo>
                    <a:pt x="868" y="1113"/>
                  </a:lnTo>
                  <a:lnTo>
                    <a:pt x="871" y="1100"/>
                  </a:lnTo>
                  <a:lnTo>
                    <a:pt x="874" y="1083"/>
                  </a:lnTo>
                  <a:lnTo>
                    <a:pt x="876" y="1064"/>
                  </a:lnTo>
                  <a:lnTo>
                    <a:pt x="879" y="1043"/>
                  </a:lnTo>
                  <a:lnTo>
                    <a:pt x="881" y="1018"/>
                  </a:lnTo>
                  <a:lnTo>
                    <a:pt x="885" y="993"/>
                  </a:lnTo>
                  <a:lnTo>
                    <a:pt x="887" y="964"/>
                  </a:lnTo>
                  <a:lnTo>
                    <a:pt x="889" y="932"/>
                  </a:lnTo>
                  <a:lnTo>
                    <a:pt x="893" y="900"/>
                  </a:lnTo>
                  <a:lnTo>
                    <a:pt x="895" y="865"/>
                  </a:lnTo>
                  <a:lnTo>
                    <a:pt x="897" y="829"/>
                  </a:lnTo>
                  <a:lnTo>
                    <a:pt x="900" y="792"/>
                  </a:lnTo>
                  <a:lnTo>
                    <a:pt x="903" y="753"/>
                  </a:lnTo>
                  <a:lnTo>
                    <a:pt x="906" y="713"/>
                  </a:lnTo>
                  <a:lnTo>
                    <a:pt x="908" y="672"/>
                  </a:lnTo>
                  <a:lnTo>
                    <a:pt x="910" y="631"/>
                  </a:lnTo>
                  <a:lnTo>
                    <a:pt x="914" y="590"/>
                  </a:lnTo>
                  <a:lnTo>
                    <a:pt x="916" y="549"/>
                  </a:lnTo>
                  <a:lnTo>
                    <a:pt x="919" y="507"/>
                  </a:lnTo>
                  <a:lnTo>
                    <a:pt x="921" y="466"/>
                  </a:lnTo>
                  <a:lnTo>
                    <a:pt x="924" y="426"/>
                  </a:lnTo>
                  <a:lnTo>
                    <a:pt x="927" y="386"/>
                  </a:lnTo>
                  <a:lnTo>
                    <a:pt x="929" y="348"/>
                  </a:lnTo>
                  <a:lnTo>
                    <a:pt x="932" y="310"/>
                  </a:lnTo>
                  <a:lnTo>
                    <a:pt x="935" y="273"/>
                  </a:lnTo>
                  <a:lnTo>
                    <a:pt x="937" y="239"/>
                  </a:lnTo>
                  <a:lnTo>
                    <a:pt x="940" y="206"/>
                  </a:lnTo>
                  <a:lnTo>
                    <a:pt x="943" y="175"/>
                  </a:lnTo>
                  <a:lnTo>
                    <a:pt x="945" y="146"/>
                  </a:lnTo>
                  <a:lnTo>
                    <a:pt x="948" y="119"/>
                  </a:lnTo>
                  <a:lnTo>
                    <a:pt x="950" y="95"/>
                  </a:lnTo>
                  <a:lnTo>
                    <a:pt x="953" y="73"/>
                  </a:lnTo>
                  <a:lnTo>
                    <a:pt x="956" y="54"/>
                  </a:lnTo>
                  <a:lnTo>
                    <a:pt x="958" y="38"/>
                  </a:lnTo>
                  <a:lnTo>
                    <a:pt x="962" y="24"/>
                  </a:lnTo>
                  <a:lnTo>
                    <a:pt x="964" y="13"/>
                  </a:lnTo>
                  <a:lnTo>
                    <a:pt x="966" y="5"/>
                  </a:lnTo>
                  <a:lnTo>
                    <a:pt x="969" y="1"/>
                  </a:lnTo>
                  <a:lnTo>
                    <a:pt x="972" y="0"/>
                  </a:lnTo>
                  <a:lnTo>
                    <a:pt x="975" y="1"/>
                  </a:lnTo>
                  <a:lnTo>
                    <a:pt x="977" y="5"/>
                  </a:lnTo>
                  <a:lnTo>
                    <a:pt x="979" y="12"/>
                  </a:lnTo>
                  <a:lnTo>
                    <a:pt x="983" y="23"/>
                  </a:lnTo>
                  <a:lnTo>
                    <a:pt x="985" y="35"/>
                  </a:lnTo>
                  <a:lnTo>
                    <a:pt x="987" y="52"/>
                  </a:lnTo>
                  <a:lnTo>
                    <a:pt x="991" y="71"/>
                  </a:lnTo>
                  <a:lnTo>
                    <a:pt x="993" y="92"/>
                  </a:lnTo>
                  <a:lnTo>
                    <a:pt x="996" y="116"/>
                  </a:lnTo>
                  <a:lnTo>
                    <a:pt x="998" y="143"/>
                  </a:lnTo>
                  <a:lnTo>
                    <a:pt x="1001" y="170"/>
                  </a:lnTo>
                  <a:lnTo>
                    <a:pt x="1004" y="202"/>
                  </a:lnTo>
                  <a:lnTo>
                    <a:pt x="1006" y="234"/>
                  </a:lnTo>
                  <a:lnTo>
                    <a:pt x="1010" y="269"/>
                  </a:lnTo>
                  <a:lnTo>
                    <a:pt x="1012" y="305"/>
                  </a:lnTo>
                  <a:lnTo>
                    <a:pt x="1014" y="342"/>
                  </a:lnTo>
                  <a:lnTo>
                    <a:pt x="1017" y="381"/>
                  </a:lnTo>
                  <a:lnTo>
                    <a:pt x="1020" y="420"/>
                  </a:lnTo>
                  <a:lnTo>
                    <a:pt x="1022" y="462"/>
                  </a:lnTo>
                  <a:lnTo>
                    <a:pt x="1025" y="502"/>
                  </a:lnTo>
                  <a:lnTo>
                    <a:pt x="1027" y="543"/>
                  </a:lnTo>
                  <a:lnTo>
                    <a:pt x="1031" y="585"/>
                  </a:lnTo>
                  <a:lnTo>
                    <a:pt x="1033" y="627"/>
                  </a:lnTo>
                  <a:lnTo>
                    <a:pt x="1035" y="667"/>
                  </a:lnTo>
                  <a:lnTo>
                    <a:pt x="1039" y="708"/>
                  </a:lnTo>
                  <a:lnTo>
                    <a:pt x="1041" y="748"/>
                  </a:lnTo>
                  <a:lnTo>
                    <a:pt x="1044" y="786"/>
                  </a:lnTo>
                  <a:lnTo>
                    <a:pt x="1046" y="824"/>
                  </a:lnTo>
                  <a:lnTo>
                    <a:pt x="1049" y="861"/>
                  </a:lnTo>
                  <a:lnTo>
                    <a:pt x="1052" y="896"/>
                  </a:lnTo>
                  <a:lnTo>
                    <a:pt x="1054" y="928"/>
                  </a:lnTo>
                  <a:lnTo>
                    <a:pt x="1056" y="959"/>
                  </a:lnTo>
                  <a:lnTo>
                    <a:pt x="1060" y="988"/>
                  </a:lnTo>
                  <a:lnTo>
                    <a:pt x="1062" y="1015"/>
                  </a:lnTo>
                  <a:lnTo>
                    <a:pt x="1065" y="1039"/>
                  </a:lnTo>
                  <a:lnTo>
                    <a:pt x="1068" y="1062"/>
                  </a:lnTo>
                  <a:lnTo>
                    <a:pt x="1070" y="1081"/>
                  </a:lnTo>
                  <a:lnTo>
                    <a:pt x="1073" y="1097"/>
                  </a:lnTo>
                  <a:lnTo>
                    <a:pt x="1075" y="1111"/>
                  </a:lnTo>
                  <a:lnTo>
                    <a:pt x="1078" y="1122"/>
                  </a:lnTo>
                  <a:lnTo>
                    <a:pt x="1081" y="1130"/>
                  </a:lnTo>
                  <a:lnTo>
                    <a:pt x="1083" y="1135"/>
                  </a:lnTo>
                  <a:lnTo>
                    <a:pt x="1086" y="1136"/>
                  </a:lnTo>
                  <a:lnTo>
                    <a:pt x="1089" y="1135"/>
                  </a:lnTo>
                  <a:lnTo>
                    <a:pt x="1091" y="1132"/>
                  </a:lnTo>
                  <a:lnTo>
                    <a:pt x="1094" y="1124"/>
                  </a:lnTo>
                  <a:lnTo>
                    <a:pt x="1096" y="1114"/>
                  </a:lnTo>
                  <a:lnTo>
                    <a:pt x="1100" y="1102"/>
                  </a:lnTo>
                  <a:lnTo>
                    <a:pt x="1102" y="1085"/>
                  </a:lnTo>
                  <a:lnTo>
                    <a:pt x="1104" y="1067"/>
                  </a:lnTo>
                  <a:lnTo>
                    <a:pt x="1108" y="1046"/>
                  </a:lnTo>
                  <a:lnTo>
                    <a:pt x="1110" y="1022"/>
                  </a:lnTo>
                  <a:lnTo>
                    <a:pt x="1112" y="996"/>
                  </a:lnTo>
                  <a:lnTo>
                    <a:pt x="1115" y="967"/>
                  </a:lnTo>
                  <a:lnTo>
                    <a:pt x="1118" y="937"/>
                  </a:lnTo>
                  <a:lnTo>
                    <a:pt x="1121" y="904"/>
                  </a:lnTo>
                  <a:lnTo>
                    <a:pt x="1123" y="870"/>
                  </a:lnTo>
                  <a:lnTo>
                    <a:pt x="1125" y="834"/>
                  </a:lnTo>
                  <a:lnTo>
                    <a:pt x="1129" y="796"/>
                  </a:lnTo>
                  <a:lnTo>
                    <a:pt x="1131" y="758"/>
                  </a:lnTo>
                  <a:lnTo>
                    <a:pt x="1134" y="718"/>
                  </a:lnTo>
                  <a:lnTo>
                    <a:pt x="1137" y="678"/>
                  </a:lnTo>
                  <a:lnTo>
                    <a:pt x="1139" y="637"/>
                  </a:lnTo>
                  <a:lnTo>
                    <a:pt x="1142" y="595"/>
                  </a:lnTo>
                  <a:lnTo>
                    <a:pt x="1144" y="554"/>
                  </a:lnTo>
                  <a:lnTo>
                    <a:pt x="1147" y="513"/>
                  </a:lnTo>
                  <a:lnTo>
                    <a:pt x="1150" y="472"/>
                  </a:lnTo>
                  <a:lnTo>
                    <a:pt x="1152" y="431"/>
                  </a:lnTo>
                  <a:lnTo>
                    <a:pt x="1156" y="391"/>
                  </a:lnTo>
                  <a:lnTo>
                    <a:pt x="1158" y="352"/>
                  </a:lnTo>
                  <a:lnTo>
                    <a:pt x="1160" y="314"/>
                  </a:lnTo>
                  <a:lnTo>
                    <a:pt x="1163" y="279"/>
                  </a:lnTo>
                  <a:lnTo>
                    <a:pt x="1166" y="243"/>
                  </a:lnTo>
                  <a:lnTo>
                    <a:pt x="1169" y="211"/>
                  </a:lnTo>
                  <a:lnTo>
                    <a:pt x="1171" y="179"/>
                  </a:lnTo>
                  <a:lnTo>
                    <a:pt x="1173" y="149"/>
                  </a:lnTo>
                  <a:lnTo>
                    <a:pt x="1177" y="122"/>
                  </a:lnTo>
                  <a:lnTo>
                    <a:pt x="1179" y="98"/>
                  </a:lnTo>
                  <a:lnTo>
                    <a:pt x="1181" y="76"/>
                  </a:lnTo>
                  <a:lnTo>
                    <a:pt x="1185" y="57"/>
                  </a:lnTo>
                  <a:lnTo>
                    <a:pt x="1187" y="40"/>
                  </a:lnTo>
                  <a:lnTo>
                    <a:pt x="1190" y="25"/>
                  </a:lnTo>
                  <a:lnTo>
                    <a:pt x="1192" y="14"/>
                  </a:lnTo>
                  <a:lnTo>
                    <a:pt x="1195" y="6"/>
                  </a:lnTo>
                  <a:lnTo>
                    <a:pt x="1198" y="2"/>
                  </a:lnTo>
                  <a:lnTo>
                    <a:pt x="1200" y="0"/>
                  </a:lnTo>
                  <a:lnTo>
                    <a:pt x="1202" y="1"/>
                  </a:lnTo>
                  <a:lnTo>
                    <a:pt x="1206" y="4"/>
                  </a:lnTo>
                  <a:lnTo>
                    <a:pt x="1208" y="11"/>
                  </a:lnTo>
                  <a:lnTo>
                    <a:pt x="1211" y="21"/>
                  </a:lnTo>
                  <a:lnTo>
                    <a:pt x="1214" y="34"/>
                  </a:lnTo>
                  <a:lnTo>
                    <a:pt x="1216" y="50"/>
                  </a:lnTo>
                  <a:lnTo>
                    <a:pt x="1219" y="68"/>
                  </a:lnTo>
                  <a:lnTo>
                    <a:pt x="1221" y="89"/>
                  </a:lnTo>
                  <a:lnTo>
                    <a:pt x="1225" y="112"/>
                  </a:lnTo>
                  <a:lnTo>
                    <a:pt x="1227" y="139"/>
                  </a:lnTo>
                  <a:lnTo>
                    <a:pt x="1229" y="167"/>
                  </a:lnTo>
                  <a:lnTo>
                    <a:pt x="1232" y="197"/>
                  </a:lnTo>
                  <a:lnTo>
                    <a:pt x="1235" y="230"/>
                  </a:lnTo>
                  <a:lnTo>
                    <a:pt x="1237" y="264"/>
                  </a:lnTo>
                  <a:lnTo>
                    <a:pt x="1240" y="300"/>
                  </a:lnTo>
                  <a:lnTo>
                    <a:pt x="1243" y="338"/>
                  </a:lnTo>
                  <a:lnTo>
                    <a:pt x="1246" y="376"/>
                  </a:lnTo>
                  <a:lnTo>
                    <a:pt x="1248" y="416"/>
                  </a:lnTo>
                  <a:lnTo>
                    <a:pt x="1250" y="456"/>
                  </a:lnTo>
                  <a:lnTo>
                    <a:pt x="1254" y="496"/>
                  </a:lnTo>
                  <a:lnTo>
                    <a:pt x="1256" y="537"/>
                  </a:lnTo>
                  <a:lnTo>
                    <a:pt x="1259" y="580"/>
                  </a:lnTo>
                  <a:lnTo>
                    <a:pt x="1261" y="621"/>
                  </a:lnTo>
                  <a:lnTo>
                    <a:pt x="1264" y="662"/>
                  </a:lnTo>
                  <a:lnTo>
                    <a:pt x="1267" y="703"/>
                  </a:lnTo>
                  <a:lnTo>
                    <a:pt x="1269" y="743"/>
                  </a:lnTo>
                  <a:lnTo>
                    <a:pt x="1271" y="782"/>
                  </a:lnTo>
                  <a:lnTo>
                    <a:pt x="1275" y="820"/>
                  </a:lnTo>
                  <a:lnTo>
                    <a:pt x="1277" y="855"/>
                  </a:lnTo>
                  <a:lnTo>
                    <a:pt x="1280" y="891"/>
                  </a:lnTo>
                  <a:lnTo>
                    <a:pt x="1283" y="925"/>
                  </a:lnTo>
                  <a:lnTo>
                    <a:pt x="1285" y="956"/>
                  </a:lnTo>
                  <a:lnTo>
                    <a:pt x="1288" y="985"/>
                  </a:lnTo>
                  <a:lnTo>
                    <a:pt x="1290" y="1012"/>
                  </a:lnTo>
                  <a:lnTo>
                    <a:pt x="1293" y="1037"/>
                  </a:lnTo>
                  <a:lnTo>
                    <a:pt x="1296" y="1060"/>
                  </a:lnTo>
                  <a:lnTo>
                    <a:pt x="1298" y="1078"/>
                  </a:lnTo>
                  <a:lnTo>
                    <a:pt x="1302" y="1095"/>
                  </a:lnTo>
                  <a:lnTo>
                    <a:pt x="1304" y="1110"/>
                  </a:lnTo>
                  <a:lnTo>
                    <a:pt x="1306" y="1121"/>
                  </a:lnTo>
                  <a:lnTo>
                    <a:pt x="1309" y="1130"/>
                  </a:lnTo>
                  <a:lnTo>
                    <a:pt x="1312" y="1134"/>
                  </a:lnTo>
                  <a:lnTo>
                    <a:pt x="1315" y="1136"/>
                  </a:lnTo>
                  <a:lnTo>
                    <a:pt x="1317" y="1136"/>
                  </a:lnTo>
                  <a:lnTo>
                    <a:pt x="1319" y="1132"/>
                  </a:lnTo>
                  <a:lnTo>
                    <a:pt x="1323" y="1125"/>
                  </a:lnTo>
                  <a:lnTo>
                    <a:pt x="1325" y="1116"/>
                  </a:lnTo>
                  <a:lnTo>
                    <a:pt x="1327" y="1103"/>
                  </a:lnTo>
                  <a:lnTo>
                    <a:pt x="1331" y="1087"/>
                  </a:lnTo>
                  <a:lnTo>
                    <a:pt x="1333" y="1070"/>
                  </a:lnTo>
                  <a:lnTo>
                    <a:pt x="1336" y="1048"/>
                  </a:lnTo>
                  <a:lnTo>
                    <a:pt x="1338" y="1025"/>
                  </a:lnTo>
                  <a:lnTo>
                    <a:pt x="1341" y="999"/>
                  </a:lnTo>
                  <a:lnTo>
                    <a:pt x="1344" y="971"/>
                  </a:lnTo>
                  <a:lnTo>
                    <a:pt x="1346" y="941"/>
                  </a:lnTo>
                  <a:lnTo>
                    <a:pt x="1350" y="909"/>
                  </a:lnTo>
                  <a:lnTo>
                    <a:pt x="1352" y="874"/>
                  </a:lnTo>
                  <a:lnTo>
                    <a:pt x="1354" y="839"/>
                  </a:lnTo>
                  <a:lnTo>
                    <a:pt x="1357" y="802"/>
                  </a:lnTo>
                  <a:lnTo>
                    <a:pt x="1360" y="763"/>
                  </a:lnTo>
                  <a:lnTo>
                    <a:pt x="1362" y="724"/>
                  </a:lnTo>
                  <a:lnTo>
                    <a:pt x="1365" y="684"/>
                  </a:lnTo>
                  <a:lnTo>
                    <a:pt x="1367" y="642"/>
                  </a:lnTo>
                  <a:lnTo>
                    <a:pt x="1371" y="601"/>
                  </a:lnTo>
                  <a:lnTo>
                    <a:pt x="1373" y="560"/>
                  </a:lnTo>
                  <a:lnTo>
                    <a:pt x="1375" y="518"/>
                  </a:lnTo>
                  <a:lnTo>
                    <a:pt x="1378" y="477"/>
                  </a:lnTo>
                  <a:lnTo>
                    <a:pt x="1381" y="437"/>
                  </a:lnTo>
                  <a:lnTo>
                    <a:pt x="1384" y="397"/>
                  </a:lnTo>
                  <a:lnTo>
                    <a:pt x="1386" y="358"/>
                  </a:lnTo>
                  <a:lnTo>
                    <a:pt x="1389" y="320"/>
                  </a:lnTo>
                  <a:lnTo>
                    <a:pt x="1392" y="283"/>
                  </a:lnTo>
                  <a:lnTo>
                    <a:pt x="1394" y="247"/>
                  </a:lnTo>
                  <a:lnTo>
                    <a:pt x="1396" y="214"/>
                  </a:lnTo>
                  <a:lnTo>
                    <a:pt x="1400" y="183"/>
                  </a:lnTo>
                  <a:lnTo>
                    <a:pt x="1402" y="154"/>
                  </a:lnTo>
                  <a:lnTo>
                    <a:pt x="1405" y="126"/>
                  </a:lnTo>
                  <a:lnTo>
                    <a:pt x="1407" y="101"/>
                  </a:lnTo>
                  <a:lnTo>
                    <a:pt x="1410" y="79"/>
                  </a:lnTo>
                  <a:lnTo>
                    <a:pt x="1413" y="59"/>
                  </a:lnTo>
                  <a:lnTo>
                    <a:pt x="1415" y="42"/>
                  </a:lnTo>
                  <a:lnTo>
                    <a:pt x="1418" y="28"/>
                  </a:lnTo>
                  <a:lnTo>
                    <a:pt x="1421" y="17"/>
                  </a:lnTo>
                  <a:lnTo>
                    <a:pt x="1423" y="8"/>
                  </a:lnTo>
                  <a:lnTo>
                    <a:pt x="1426" y="2"/>
                  </a:lnTo>
                  <a:lnTo>
                    <a:pt x="1429" y="0"/>
                  </a:lnTo>
                  <a:lnTo>
                    <a:pt x="1431" y="0"/>
                  </a:lnTo>
                  <a:lnTo>
                    <a:pt x="1434" y="3"/>
                  </a:lnTo>
                  <a:lnTo>
                    <a:pt x="1436" y="10"/>
                  </a:lnTo>
                  <a:lnTo>
                    <a:pt x="1440" y="20"/>
                  </a:lnTo>
                  <a:lnTo>
                    <a:pt x="1442" y="32"/>
                  </a:lnTo>
                  <a:lnTo>
                    <a:pt x="1444" y="48"/>
                  </a:lnTo>
                  <a:lnTo>
                    <a:pt x="1448" y="66"/>
                  </a:lnTo>
                  <a:lnTo>
                    <a:pt x="1450" y="86"/>
                  </a:lnTo>
                  <a:lnTo>
                    <a:pt x="1452" y="109"/>
                  </a:lnTo>
                  <a:lnTo>
                    <a:pt x="1455" y="135"/>
                  </a:lnTo>
                  <a:lnTo>
                    <a:pt x="1458" y="163"/>
                  </a:lnTo>
                  <a:lnTo>
                    <a:pt x="1461" y="194"/>
                  </a:lnTo>
                  <a:lnTo>
                    <a:pt x="1463" y="225"/>
                  </a:lnTo>
                  <a:lnTo>
                    <a:pt x="1465" y="260"/>
                  </a:lnTo>
                  <a:lnTo>
                    <a:pt x="1469" y="295"/>
                  </a:lnTo>
                  <a:lnTo>
                    <a:pt x="1471" y="332"/>
                  </a:lnTo>
                  <a:lnTo>
                    <a:pt x="1474" y="370"/>
                  </a:lnTo>
                  <a:lnTo>
                    <a:pt x="1477" y="410"/>
                  </a:lnTo>
                  <a:lnTo>
                    <a:pt x="1479" y="450"/>
                  </a:lnTo>
                  <a:lnTo>
                    <a:pt x="1482" y="491"/>
                  </a:lnTo>
                  <a:lnTo>
                    <a:pt x="1484" y="532"/>
                  </a:lnTo>
                  <a:lnTo>
                    <a:pt x="1487" y="574"/>
                  </a:lnTo>
                  <a:lnTo>
                    <a:pt x="1490" y="616"/>
                  </a:lnTo>
                  <a:lnTo>
                    <a:pt x="1492" y="657"/>
                  </a:lnTo>
                  <a:lnTo>
                    <a:pt x="1496" y="697"/>
                  </a:lnTo>
                  <a:lnTo>
                    <a:pt x="1498" y="737"/>
                  </a:lnTo>
                  <a:lnTo>
                    <a:pt x="1500" y="776"/>
                  </a:lnTo>
                  <a:lnTo>
                    <a:pt x="1503" y="814"/>
                  </a:lnTo>
                  <a:lnTo>
                    <a:pt x="1506" y="851"/>
                  </a:lnTo>
                  <a:lnTo>
                    <a:pt x="1509" y="887"/>
                  </a:lnTo>
                  <a:lnTo>
                    <a:pt x="1511" y="920"/>
                  </a:lnTo>
                  <a:lnTo>
                    <a:pt x="1513" y="951"/>
                  </a:lnTo>
                  <a:lnTo>
                    <a:pt x="1517" y="981"/>
                  </a:lnTo>
                  <a:lnTo>
                    <a:pt x="1519" y="1008"/>
                  </a:lnTo>
                  <a:lnTo>
                    <a:pt x="1521" y="1034"/>
                  </a:lnTo>
                  <a:lnTo>
                    <a:pt x="1525" y="1056"/>
                  </a:lnTo>
                  <a:lnTo>
                    <a:pt x="1527" y="1076"/>
                  </a:lnTo>
                  <a:lnTo>
                    <a:pt x="1530" y="1093"/>
                  </a:lnTo>
                  <a:lnTo>
                    <a:pt x="1532" y="1107"/>
                  </a:lnTo>
                  <a:lnTo>
                    <a:pt x="1535" y="1120"/>
                  </a:lnTo>
                  <a:lnTo>
                    <a:pt x="1538" y="1129"/>
                  </a:lnTo>
                  <a:lnTo>
                    <a:pt x="1540" y="1134"/>
                  </a:lnTo>
                  <a:lnTo>
                    <a:pt x="1542" y="1136"/>
                  </a:lnTo>
                  <a:lnTo>
                    <a:pt x="1546" y="1136"/>
                  </a:lnTo>
                  <a:lnTo>
                    <a:pt x="1548" y="1133"/>
                  </a:lnTo>
                  <a:lnTo>
                    <a:pt x="1551" y="1126"/>
                  </a:lnTo>
                  <a:lnTo>
                    <a:pt x="1553" y="1118"/>
                  </a:lnTo>
                  <a:lnTo>
                    <a:pt x="1556" y="1105"/>
                  </a:lnTo>
                  <a:lnTo>
                    <a:pt x="1559" y="1090"/>
                  </a:lnTo>
                  <a:lnTo>
                    <a:pt x="1561" y="1072"/>
                  </a:lnTo>
                  <a:lnTo>
                    <a:pt x="1565" y="1052"/>
                  </a:lnTo>
                  <a:lnTo>
                    <a:pt x="1567" y="1028"/>
                  </a:lnTo>
                  <a:lnTo>
                    <a:pt x="1569" y="1003"/>
                  </a:lnTo>
                  <a:lnTo>
                    <a:pt x="1572" y="975"/>
                  </a:lnTo>
                  <a:lnTo>
                    <a:pt x="1575" y="945"/>
                  </a:lnTo>
                  <a:lnTo>
                    <a:pt x="1577" y="913"/>
                  </a:lnTo>
                  <a:lnTo>
                    <a:pt x="1580" y="879"/>
                  </a:lnTo>
                  <a:lnTo>
                    <a:pt x="1582" y="843"/>
                  </a:lnTo>
                  <a:lnTo>
                    <a:pt x="1586" y="806"/>
                  </a:lnTo>
                  <a:lnTo>
                    <a:pt x="1588" y="768"/>
                  </a:lnTo>
                  <a:lnTo>
                    <a:pt x="1590" y="729"/>
                  </a:lnTo>
                  <a:lnTo>
                    <a:pt x="1594" y="689"/>
                  </a:lnTo>
                  <a:lnTo>
                    <a:pt x="1596" y="648"/>
                  </a:lnTo>
                  <a:lnTo>
                    <a:pt x="1599" y="607"/>
                  </a:lnTo>
                  <a:lnTo>
                    <a:pt x="1601" y="565"/>
                  </a:lnTo>
                  <a:lnTo>
                    <a:pt x="1604" y="524"/>
                  </a:lnTo>
                  <a:lnTo>
                    <a:pt x="1607" y="483"/>
                  </a:lnTo>
                  <a:lnTo>
                    <a:pt x="1609" y="442"/>
                  </a:lnTo>
                  <a:lnTo>
                    <a:pt x="1611" y="401"/>
                  </a:lnTo>
                  <a:lnTo>
                    <a:pt x="1615" y="362"/>
                  </a:lnTo>
                  <a:lnTo>
                    <a:pt x="1617" y="324"/>
                  </a:lnTo>
                  <a:lnTo>
                    <a:pt x="1620" y="288"/>
                  </a:lnTo>
                  <a:lnTo>
                    <a:pt x="1623" y="252"/>
                  </a:lnTo>
                  <a:lnTo>
                    <a:pt x="1625" y="218"/>
                  </a:lnTo>
                  <a:lnTo>
                    <a:pt x="1628" y="187"/>
                  </a:lnTo>
                  <a:lnTo>
                    <a:pt x="1630" y="157"/>
                  </a:lnTo>
                  <a:lnTo>
                    <a:pt x="1633" y="129"/>
                  </a:lnTo>
                  <a:lnTo>
                    <a:pt x="1636" y="105"/>
                  </a:lnTo>
                  <a:lnTo>
                    <a:pt x="1638" y="81"/>
                  </a:lnTo>
                  <a:lnTo>
                    <a:pt x="1642" y="61"/>
                  </a:lnTo>
                  <a:lnTo>
                    <a:pt x="1644" y="44"/>
                  </a:lnTo>
                  <a:lnTo>
                    <a:pt x="1646" y="29"/>
                  </a:lnTo>
                  <a:lnTo>
                    <a:pt x="1649" y="18"/>
                  </a:lnTo>
                  <a:lnTo>
                    <a:pt x="1652" y="9"/>
                  </a:lnTo>
                  <a:lnTo>
                    <a:pt x="1655" y="3"/>
                  </a:lnTo>
                  <a:lnTo>
                    <a:pt x="1657" y="0"/>
                  </a:lnTo>
                  <a:lnTo>
                    <a:pt x="1659" y="0"/>
                  </a:lnTo>
                  <a:lnTo>
                    <a:pt x="1663" y="3"/>
                  </a:lnTo>
                  <a:lnTo>
                    <a:pt x="1665" y="9"/>
                  </a:lnTo>
                  <a:lnTo>
                    <a:pt x="1667" y="19"/>
                  </a:lnTo>
                  <a:lnTo>
                    <a:pt x="1671" y="30"/>
                  </a:lnTo>
                  <a:lnTo>
                    <a:pt x="1673" y="46"/>
                  </a:lnTo>
                  <a:lnTo>
                    <a:pt x="1676" y="63"/>
                  </a:lnTo>
                  <a:lnTo>
                    <a:pt x="1678" y="83"/>
                  </a:lnTo>
                  <a:lnTo>
                    <a:pt x="1681" y="106"/>
                  </a:lnTo>
                  <a:lnTo>
                    <a:pt x="1684" y="131"/>
                  </a:lnTo>
                  <a:lnTo>
                    <a:pt x="1686" y="159"/>
                  </a:lnTo>
                  <a:lnTo>
                    <a:pt x="1689" y="189"/>
                  </a:lnTo>
                  <a:lnTo>
                    <a:pt x="1692" y="221"/>
                  </a:lnTo>
                  <a:lnTo>
                    <a:pt x="1694" y="255"/>
                  </a:lnTo>
                  <a:lnTo>
                    <a:pt x="1697" y="291"/>
                  </a:lnTo>
                  <a:lnTo>
                    <a:pt x="1700" y="328"/>
                  </a:lnTo>
                  <a:lnTo>
                    <a:pt x="1702" y="366"/>
                  </a:lnTo>
                  <a:lnTo>
                    <a:pt x="1705" y="405"/>
                  </a:lnTo>
                  <a:lnTo>
                    <a:pt x="1707" y="445"/>
                  </a:lnTo>
                  <a:lnTo>
                    <a:pt x="1711" y="486"/>
                  </a:lnTo>
                  <a:lnTo>
                    <a:pt x="1713" y="527"/>
                  </a:lnTo>
                  <a:lnTo>
                    <a:pt x="1715" y="569"/>
                  </a:lnTo>
                  <a:lnTo>
                    <a:pt x="1718" y="610"/>
                  </a:lnTo>
                  <a:lnTo>
                    <a:pt x="1721" y="651"/>
                  </a:lnTo>
                  <a:lnTo>
                    <a:pt x="1724" y="691"/>
                  </a:lnTo>
                  <a:lnTo>
                    <a:pt x="1726" y="732"/>
                  </a:lnTo>
                  <a:lnTo>
                    <a:pt x="1728" y="772"/>
                  </a:lnTo>
                  <a:lnTo>
                    <a:pt x="1732" y="810"/>
                  </a:lnTo>
                  <a:lnTo>
                    <a:pt x="1734" y="846"/>
                  </a:lnTo>
                  <a:lnTo>
                    <a:pt x="1736" y="882"/>
                  </a:lnTo>
                  <a:lnTo>
                    <a:pt x="1740" y="916"/>
                  </a:lnTo>
                  <a:lnTo>
                    <a:pt x="1742" y="947"/>
                  </a:lnTo>
                  <a:lnTo>
                    <a:pt x="1745" y="977"/>
                  </a:lnTo>
                  <a:lnTo>
                    <a:pt x="1747" y="1005"/>
                  </a:lnTo>
                  <a:lnTo>
                    <a:pt x="1750" y="1031"/>
                  </a:lnTo>
                  <a:lnTo>
                    <a:pt x="1753" y="1053"/>
                  </a:lnTo>
                  <a:lnTo>
                    <a:pt x="1755" y="1074"/>
                  </a:lnTo>
                  <a:lnTo>
                    <a:pt x="1757" y="1092"/>
                  </a:lnTo>
                  <a:lnTo>
                    <a:pt x="1761" y="1106"/>
                  </a:lnTo>
                  <a:lnTo>
                    <a:pt x="1763" y="1119"/>
                  </a:lnTo>
                  <a:lnTo>
                    <a:pt x="1766" y="1128"/>
                  </a:lnTo>
                  <a:lnTo>
                    <a:pt x="1769" y="1133"/>
                  </a:lnTo>
                  <a:lnTo>
                    <a:pt x="1771" y="1136"/>
                  </a:lnTo>
                  <a:lnTo>
                    <a:pt x="1774" y="1136"/>
                  </a:lnTo>
                  <a:lnTo>
                    <a:pt x="1776" y="1134"/>
                  </a:lnTo>
                  <a:lnTo>
                    <a:pt x="1780" y="1128"/>
                  </a:lnTo>
                  <a:lnTo>
                    <a:pt x="1782" y="1119"/>
                  </a:lnTo>
                  <a:lnTo>
                    <a:pt x="1784" y="1107"/>
                  </a:lnTo>
                  <a:lnTo>
                    <a:pt x="1788" y="1092"/>
                  </a:lnTo>
                  <a:lnTo>
                    <a:pt x="1790" y="1075"/>
                  </a:lnTo>
                  <a:lnTo>
                    <a:pt x="1792" y="1055"/>
                  </a:lnTo>
                  <a:lnTo>
                    <a:pt x="1795" y="1032"/>
                  </a:lnTo>
                  <a:lnTo>
                    <a:pt x="1798" y="1007"/>
                  </a:lnTo>
                  <a:lnTo>
                    <a:pt x="1801" y="979"/>
                  </a:lnTo>
                  <a:lnTo>
                    <a:pt x="1803" y="949"/>
                  </a:lnTo>
                  <a:lnTo>
                    <a:pt x="1805" y="918"/>
                  </a:lnTo>
                  <a:lnTo>
                    <a:pt x="1809" y="883"/>
                  </a:lnTo>
                  <a:lnTo>
                    <a:pt x="1811" y="849"/>
                  </a:lnTo>
                  <a:lnTo>
                    <a:pt x="1814" y="812"/>
                  </a:lnTo>
                  <a:lnTo>
                    <a:pt x="1817" y="774"/>
                  </a:lnTo>
                  <a:lnTo>
                    <a:pt x="1819" y="734"/>
                  </a:lnTo>
                  <a:lnTo>
                    <a:pt x="1822" y="695"/>
                  </a:lnTo>
                  <a:lnTo>
                    <a:pt x="1824" y="653"/>
                  </a:lnTo>
                  <a:lnTo>
                    <a:pt x="1827" y="612"/>
                  </a:lnTo>
                  <a:lnTo>
                    <a:pt x="1830" y="571"/>
                  </a:lnTo>
                  <a:lnTo>
                    <a:pt x="1832" y="530"/>
                  </a:lnTo>
                  <a:lnTo>
                    <a:pt x="1835" y="488"/>
                  </a:lnTo>
                  <a:lnTo>
                    <a:pt x="1838" y="447"/>
                  </a:lnTo>
                  <a:lnTo>
                    <a:pt x="1840" y="407"/>
                  </a:lnTo>
                  <a:lnTo>
                    <a:pt x="1843" y="368"/>
                  </a:lnTo>
                  <a:lnTo>
                    <a:pt x="1846" y="330"/>
                  </a:lnTo>
                  <a:lnTo>
                    <a:pt x="1849" y="292"/>
                  </a:lnTo>
                  <a:lnTo>
                    <a:pt x="1851" y="257"/>
                  </a:lnTo>
                  <a:lnTo>
                    <a:pt x="1853" y="223"/>
                  </a:lnTo>
                  <a:lnTo>
                    <a:pt x="1857" y="191"/>
                  </a:lnTo>
                  <a:lnTo>
                    <a:pt x="1859" y="162"/>
                  </a:lnTo>
                  <a:lnTo>
                    <a:pt x="1861" y="134"/>
                  </a:lnTo>
                  <a:lnTo>
                    <a:pt x="1864" y="108"/>
                  </a:lnTo>
                  <a:lnTo>
                    <a:pt x="1867" y="85"/>
                  </a:lnTo>
                  <a:lnTo>
                    <a:pt x="1870" y="64"/>
                  </a:lnTo>
                  <a:lnTo>
                    <a:pt x="1872" y="47"/>
                  </a:lnTo>
                  <a:lnTo>
                    <a:pt x="1875" y="31"/>
                  </a:lnTo>
                  <a:lnTo>
                    <a:pt x="1878" y="19"/>
                  </a:lnTo>
                  <a:lnTo>
                    <a:pt x="1880" y="10"/>
                  </a:lnTo>
                  <a:lnTo>
                    <a:pt x="1882" y="3"/>
                  </a:lnTo>
                  <a:lnTo>
                    <a:pt x="1886" y="0"/>
                  </a:lnTo>
                  <a:lnTo>
                    <a:pt x="1888" y="0"/>
                  </a:lnTo>
                  <a:lnTo>
                    <a:pt x="1891" y="2"/>
                  </a:lnTo>
                  <a:lnTo>
                    <a:pt x="1893" y="9"/>
                  </a:lnTo>
                  <a:lnTo>
                    <a:pt x="1896" y="17"/>
                  </a:lnTo>
                  <a:lnTo>
                    <a:pt x="1899" y="29"/>
                  </a:lnTo>
                  <a:lnTo>
                    <a:pt x="1901" y="43"/>
                  </a:lnTo>
                  <a:lnTo>
                    <a:pt x="1905" y="60"/>
                  </a:lnTo>
                  <a:lnTo>
                    <a:pt x="1907" y="80"/>
                  </a:lnTo>
                  <a:lnTo>
                    <a:pt x="1909" y="104"/>
                  </a:lnTo>
                  <a:lnTo>
                    <a:pt x="1912" y="128"/>
                  </a:lnTo>
                  <a:lnTo>
                    <a:pt x="1915" y="156"/>
                  </a:lnTo>
                  <a:lnTo>
                    <a:pt x="1917" y="185"/>
                  </a:lnTo>
                  <a:lnTo>
                    <a:pt x="1920" y="217"/>
                  </a:lnTo>
                  <a:lnTo>
                    <a:pt x="1922" y="251"/>
                  </a:lnTo>
                  <a:lnTo>
                    <a:pt x="1926" y="285"/>
                  </a:lnTo>
                  <a:lnTo>
                    <a:pt x="1928" y="322"/>
                  </a:lnTo>
                  <a:lnTo>
                    <a:pt x="1930" y="360"/>
                  </a:lnTo>
                  <a:lnTo>
                    <a:pt x="1934" y="399"/>
                  </a:lnTo>
                  <a:lnTo>
                    <a:pt x="1936" y="439"/>
                  </a:lnTo>
                  <a:lnTo>
                    <a:pt x="1939" y="481"/>
                  </a:lnTo>
                  <a:lnTo>
                    <a:pt x="1941" y="522"/>
                  </a:lnTo>
                  <a:lnTo>
                    <a:pt x="1944" y="563"/>
                  </a:lnTo>
                  <a:lnTo>
                    <a:pt x="1947" y="604"/>
                  </a:lnTo>
                  <a:lnTo>
                    <a:pt x="1949" y="646"/>
                  </a:lnTo>
                  <a:lnTo>
                    <a:pt x="1951" y="687"/>
                  </a:lnTo>
                  <a:lnTo>
                    <a:pt x="1955" y="727"/>
                  </a:lnTo>
                  <a:lnTo>
                    <a:pt x="1957" y="766"/>
                  </a:lnTo>
                  <a:lnTo>
                    <a:pt x="1960" y="804"/>
                  </a:lnTo>
                  <a:lnTo>
                    <a:pt x="1963" y="842"/>
                  </a:lnTo>
                  <a:lnTo>
                    <a:pt x="1965" y="878"/>
                  </a:lnTo>
                  <a:lnTo>
                    <a:pt x="1968" y="911"/>
                  </a:lnTo>
                  <a:lnTo>
                    <a:pt x="1970" y="944"/>
                  </a:lnTo>
                  <a:lnTo>
                    <a:pt x="1973" y="974"/>
                  </a:lnTo>
                  <a:lnTo>
                    <a:pt x="1976" y="1002"/>
                  </a:lnTo>
                  <a:lnTo>
                    <a:pt x="1978" y="1027"/>
                  </a:lnTo>
                  <a:lnTo>
                    <a:pt x="1982" y="1051"/>
                  </a:lnTo>
                  <a:lnTo>
                    <a:pt x="1984" y="1071"/>
                  </a:lnTo>
                  <a:lnTo>
                    <a:pt x="1986" y="1090"/>
                  </a:lnTo>
                  <a:lnTo>
                    <a:pt x="1989" y="1104"/>
                  </a:lnTo>
                  <a:lnTo>
                    <a:pt x="1992" y="1116"/>
                  </a:lnTo>
                  <a:lnTo>
                    <a:pt x="1995" y="1126"/>
                  </a:lnTo>
                  <a:lnTo>
                    <a:pt x="1997" y="1133"/>
                  </a:lnTo>
                  <a:lnTo>
                    <a:pt x="1999" y="1136"/>
                  </a:lnTo>
                  <a:lnTo>
                    <a:pt x="2003" y="1136"/>
                  </a:lnTo>
                  <a:lnTo>
                    <a:pt x="2005" y="1134"/>
                  </a:lnTo>
                  <a:lnTo>
                    <a:pt x="2007" y="1129"/>
                  </a:lnTo>
                  <a:lnTo>
                    <a:pt x="2010" y="1120"/>
                  </a:lnTo>
                  <a:lnTo>
                    <a:pt x="2013" y="1109"/>
                  </a:lnTo>
                  <a:lnTo>
                    <a:pt x="2016" y="1094"/>
                  </a:lnTo>
                  <a:lnTo>
                    <a:pt x="2018" y="1077"/>
                  </a:lnTo>
                  <a:lnTo>
                    <a:pt x="2021" y="1057"/>
                  </a:lnTo>
                  <a:lnTo>
                    <a:pt x="2024" y="1035"/>
                  </a:lnTo>
                  <a:lnTo>
                    <a:pt x="2026" y="1010"/>
                  </a:lnTo>
                  <a:lnTo>
                    <a:pt x="2029" y="983"/>
                  </a:lnTo>
                  <a:lnTo>
                    <a:pt x="2032" y="954"/>
                  </a:lnTo>
                  <a:lnTo>
                    <a:pt x="2034" y="922"/>
                  </a:lnTo>
                  <a:lnTo>
                    <a:pt x="2037" y="889"/>
                  </a:lnTo>
                  <a:lnTo>
                    <a:pt x="2039" y="853"/>
                  </a:lnTo>
                  <a:lnTo>
                    <a:pt x="2042" y="816"/>
                  </a:lnTo>
                  <a:lnTo>
                    <a:pt x="2045" y="778"/>
                  </a:lnTo>
                  <a:lnTo>
                    <a:pt x="2047" y="739"/>
                  </a:lnTo>
                  <a:lnTo>
                    <a:pt x="2051" y="699"/>
                  </a:lnTo>
                  <a:lnTo>
                    <a:pt x="2053" y="659"/>
                  </a:lnTo>
                  <a:lnTo>
                    <a:pt x="2055" y="618"/>
                  </a:lnTo>
                  <a:lnTo>
                    <a:pt x="2058" y="577"/>
                  </a:lnTo>
                  <a:lnTo>
                    <a:pt x="2061" y="535"/>
                  </a:lnTo>
                  <a:lnTo>
                    <a:pt x="2064" y="494"/>
                  </a:lnTo>
                  <a:lnTo>
                    <a:pt x="2066" y="453"/>
                  </a:lnTo>
                  <a:lnTo>
                    <a:pt x="2068" y="413"/>
                  </a:lnTo>
                  <a:lnTo>
                    <a:pt x="2072" y="372"/>
                  </a:lnTo>
                  <a:lnTo>
                    <a:pt x="2074" y="334"/>
                  </a:lnTo>
                  <a:lnTo>
                    <a:pt x="2076" y="298"/>
                  </a:lnTo>
                  <a:lnTo>
                    <a:pt x="2080" y="262"/>
                  </a:lnTo>
                  <a:lnTo>
                    <a:pt x="2082" y="227"/>
                  </a:lnTo>
                  <a:lnTo>
                    <a:pt x="2085" y="195"/>
                  </a:lnTo>
                  <a:lnTo>
                    <a:pt x="2087" y="165"/>
                  </a:lnTo>
                  <a:lnTo>
                    <a:pt x="2090" y="137"/>
                  </a:lnTo>
                  <a:lnTo>
                    <a:pt x="2093" y="111"/>
                  </a:lnTo>
                  <a:lnTo>
                    <a:pt x="2095" y="88"/>
                  </a:lnTo>
                  <a:lnTo>
                    <a:pt x="2097" y="67"/>
                  </a:lnTo>
                  <a:lnTo>
                    <a:pt x="2101" y="49"/>
                  </a:lnTo>
                  <a:lnTo>
                    <a:pt x="2103" y="33"/>
                  </a:lnTo>
                  <a:lnTo>
                    <a:pt x="2106" y="20"/>
                  </a:lnTo>
                  <a:lnTo>
                    <a:pt x="2109" y="11"/>
                  </a:lnTo>
                  <a:lnTo>
                    <a:pt x="2111" y="4"/>
                  </a:lnTo>
                  <a:lnTo>
                    <a:pt x="2114" y="0"/>
                  </a:lnTo>
                  <a:lnTo>
                    <a:pt x="2116" y="0"/>
                  </a:lnTo>
                  <a:lnTo>
                    <a:pt x="2120" y="2"/>
                  </a:lnTo>
                  <a:lnTo>
                    <a:pt x="2122" y="8"/>
                  </a:lnTo>
                  <a:lnTo>
                    <a:pt x="2124" y="15"/>
                  </a:lnTo>
                  <a:lnTo>
                    <a:pt x="2128" y="27"/>
                  </a:lnTo>
                  <a:lnTo>
                    <a:pt x="2130" y="41"/>
                  </a:lnTo>
                  <a:lnTo>
                    <a:pt x="2132" y="58"/>
                  </a:lnTo>
                  <a:lnTo>
                    <a:pt x="2135" y="78"/>
                  </a:lnTo>
                  <a:lnTo>
                    <a:pt x="2138" y="100"/>
                  </a:lnTo>
                  <a:lnTo>
                    <a:pt x="2141" y="125"/>
                  </a:lnTo>
                  <a:lnTo>
                    <a:pt x="2143" y="151"/>
                  </a:lnTo>
                  <a:lnTo>
                    <a:pt x="2145" y="182"/>
                  </a:lnTo>
                  <a:lnTo>
                    <a:pt x="2149" y="213"/>
                  </a:lnTo>
                  <a:lnTo>
                    <a:pt x="2151" y="246"/>
                  </a:lnTo>
                  <a:lnTo>
                    <a:pt x="2154" y="281"/>
                  </a:lnTo>
                  <a:lnTo>
                    <a:pt x="2157" y="318"/>
                  </a:lnTo>
                  <a:lnTo>
                    <a:pt x="2159" y="356"/>
                  </a:lnTo>
                  <a:lnTo>
                    <a:pt x="2162" y="395"/>
                  </a:lnTo>
                  <a:lnTo>
                    <a:pt x="2164" y="434"/>
                  </a:lnTo>
                  <a:lnTo>
                    <a:pt x="2167" y="475"/>
                  </a:lnTo>
                  <a:lnTo>
                    <a:pt x="2170" y="516"/>
                  </a:lnTo>
                  <a:lnTo>
                    <a:pt x="2172" y="558"/>
                  </a:lnTo>
                  <a:lnTo>
                    <a:pt x="2175" y="599"/>
                  </a:lnTo>
                  <a:lnTo>
                    <a:pt x="2178" y="640"/>
                  </a:lnTo>
                  <a:lnTo>
                    <a:pt x="2180" y="681"/>
                  </a:lnTo>
                  <a:lnTo>
                    <a:pt x="2183" y="722"/>
                  </a:lnTo>
                  <a:lnTo>
                    <a:pt x="2185" y="761"/>
                  </a:lnTo>
                  <a:lnTo>
                    <a:pt x="2189" y="800"/>
                  </a:lnTo>
                  <a:lnTo>
                    <a:pt x="2191" y="836"/>
                  </a:lnTo>
                  <a:lnTo>
                    <a:pt x="2193" y="872"/>
                  </a:lnTo>
                  <a:lnTo>
                    <a:pt x="2197" y="907"/>
                  </a:lnTo>
                  <a:lnTo>
                    <a:pt x="2199" y="939"/>
                  </a:lnTo>
                  <a:lnTo>
                    <a:pt x="2201" y="969"/>
                  </a:lnTo>
                  <a:lnTo>
                    <a:pt x="2204" y="998"/>
                  </a:lnTo>
                  <a:lnTo>
                    <a:pt x="2207" y="1024"/>
                  </a:lnTo>
                  <a:lnTo>
                    <a:pt x="2210" y="1047"/>
                  </a:lnTo>
                  <a:lnTo>
                    <a:pt x="2212" y="1068"/>
                  </a:lnTo>
                  <a:lnTo>
                    <a:pt x="2214" y="1087"/>
                  </a:lnTo>
                  <a:lnTo>
                    <a:pt x="2218" y="1103"/>
                  </a:lnTo>
                  <a:lnTo>
                    <a:pt x="2220" y="1115"/>
                  </a:lnTo>
                  <a:lnTo>
                    <a:pt x="2222" y="1125"/>
                  </a:lnTo>
                  <a:lnTo>
                    <a:pt x="2226" y="1132"/>
                  </a:lnTo>
                  <a:lnTo>
                    <a:pt x="2228" y="1136"/>
                  </a:lnTo>
                  <a:lnTo>
                    <a:pt x="2231" y="1136"/>
                  </a:lnTo>
                  <a:lnTo>
                    <a:pt x="2233" y="1134"/>
                  </a:lnTo>
                  <a:lnTo>
                    <a:pt x="2236" y="1130"/>
                  </a:lnTo>
                  <a:lnTo>
                    <a:pt x="2239" y="1122"/>
                  </a:lnTo>
                  <a:lnTo>
                    <a:pt x="2241" y="1111"/>
                  </a:lnTo>
                  <a:lnTo>
                    <a:pt x="2245" y="1096"/>
                  </a:lnTo>
                  <a:lnTo>
                    <a:pt x="2247" y="1080"/>
                  </a:lnTo>
                  <a:lnTo>
                    <a:pt x="2249" y="1061"/>
                  </a:lnTo>
                  <a:lnTo>
                    <a:pt x="2252" y="1038"/>
                  </a:lnTo>
                  <a:lnTo>
                    <a:pt x="2255" y="1014"/>
                  </a:lnTo>
                  <a:lnTo>
                    <a:pt x="2257" y="987"/>
                  </a:lnTo>
                  <a:lnTo>
                    <a:pt x="2260" y="957"/>
                  </a:lnTo>
                  <a:lnTo>
                    <a:pt x="2262" y="926"/>
                  </a:lnTo>
                  <a:lnTo>
                    <a:pt x="2266" y="893"/>
                  </a:lnTo>
                  <a:lnTo>
                    <a:pt x="2268" y="858"/>
                  </a:lnTo>
                  <a:lnTo>
                    <a:pt x="2270" y="822"/>
                  </a:lnTo>
                  <a:lnTo>
                    <a:pt x="2274" y="784"/>
                  </a:lnTo>
                  <a:lnTo>
                    <a:pt x="2276" y="745"/>
                  </a:lnTo>
                  <a:lnTo>
                    <a:pt x="2279" y="705"/>
                  </a:lnTo>
                  <a:lnTo>
                    <a:pt x="2281" y="665"/>
                  </a:lnTo>
                  <a:lnTo>
                    <a:pt x="2284" y="623"/>
                  </a:lnTo>
                  <a:lnTo>
                    <a:pt x="2287" y="582"/>
                  </a:lnTo>
                  <a:lnTo>
                    <a:pt x="2289" y="541"/>
                  </a:lnTo>
                  <a:lnTo>
                    <a:pt x="2291" y="500"/>
                  </a:lnTo>
                  <a:lnTo>
                    <a:pt x="2295" y="458"/>
                  </a:lnTo>
                  <a:lnTo>
                    <a:pt x="2297" y="418"/>
                  </a:lnTo>
                  <a:lnTo>
                    <a:pt x="2300" y="378"/>
                  </a:lnTo>
                  <a:lnTo>
                    <a:pt x="2303" y="340"/>
                  </a:lnTo>
                  <a:lnTo>
                    <a:pt x="2305" y="302"/>
                  </a:lnTo>
                  <a:lnTo>
                    <a:pt x="2308" y="266"/>
                  </a:lnTo>
                  <a:lnTo>
                    <a:pt x="2310" y="232"/>
                  </a:lnTo>
                  <a:lnTo>
                    <a:pt x="2313" y="199"/>
                  </a:lnTo>
                  <a:lnTo>
                    <a:pt x="2316" y="169"/>
                  </a:lnTo>
                  <a:lnTo>
                    <a:pt x="2318" y="140"/>
                  </a:lnTo>
                  <a:lnTo>
                    <a:pt x="2321" y="115"/>
                  </a:lnTo>
                  <a:lnTo>
                    <a:pt x="2324" y="90"/>
                  </a:lnTo>
                  <a:lnTo>
                    <a:pt x="2326" y="69"/>
                  </a:lnTo>
                  <a:lnTo>
                    <a:pt x="2329" y="51"/>
                  </a:lnTo>
                  <a:lnTo>
                    <a:pt x="2332" y="34"/>
                  </a:lnTo>
                  <a:lnTo>
                    <a:pt x="2335" y="22"/>
                  </a:lnTo>
                  <a:lnTo>
                    <a:pt x="2337" y="12"/>
                  </a:lnTo>
                  <a:lnTo>
                    <a:pt x="2339" y="4"/>
                  </a:lnTo>
                  <a:lnTo>
                    <a:pt x="2343" y="1"/>
                  </a:lnTo>
                  <a:lnTo>
                    <a:pt x="2345" y="0"/>
                  </a:lnTo>
                  <a:lnTo>
                    <a:pt x="2347" y="1"/>
                  </a:lnTo>
                  <a:lnTo>
                    <a:pt x="2350" y="6"/>
                  </a:lnTo>
                  <a:lnTo>
                    <a:pt x="2353" y="14"/>
                  </a:lnTo>
                  <a:lnTo>
                    <a:pt x="2356" y="25"/>
                  </a:lnTo>
                  <a:lnTo>
                    <a:pt x="2358" y="39"/>
                  </a:lnTo>
                  <a:lnTo>
                    <a:pt x="2360" y="56"/>
                  </a:lnTo>
                  <a:lnTo>
                    <a:pt x="2364" y="75"/>
                  </a:lnTo>
                  <a:lnTo>
                    <a:pt x="2366" y="97"/>
                  </a:lnTo>
                  <a:lnTo>
                    <a:pt x="2369" y="121"/>
                  </a:lnTo>
                  <a:lnTo>
                    <a:pt x="2372" y="148"/>
                  </a:lnTo>
                  <a:lnTo>
                    <a:pt x="2374" y="177"/>
                  </a:lnTo>
                  <a:lnTo>
                    <a:pt x="2377" y="208"/>
                  </a:lnTo>
                  <a:lnTo>
                    <a:pt x="2379" y="241"/>
                  </a:lnTo>
                  <a:lnTo>
                    <a:pt x="2382" y="276"/>
                  </a:lnTo>
                  <a:lnTo>
                    <a:pt x="2385" y="312"/>
                  </a:lnTo>
                  <a:lnTo>
                    <a:pt x="2387" y="350"/>
                  </a:lnTo>
                  <a:lnTo>
                    <a:pt x="2391" y="389"/>
                  </a:lnTo>
                  <a:lnTo>
                    <a:pt x="2393" y="429"/>
                  </a:lnTo>
                  <a:lnTo>
                    <a:pt x="2395" y="469"/>
                  </a:lnTo>
                  <a:lnTo>
                    <a:pt x="2398" y="511"/>
                  </a:lnTo>
                  <a:lnTo>
                    <a:pt x="2401" y="552"/>
                  </a:lnTo>
                  <a:lnTo>
                    <a:pt x="2404" y="593"/>
                  </a:lnTo>
                  <a:lnTo>
                    <a:pt x="2406" y="635"/>
                  </a:lnTo>
                  <a:lnTo>
                    <a:pt x="2408" y="676"/>
                  </a:lnTo>
                  <a:lnTo>
                    <a:pt x="2412" y="716"/>
                  </a:lnTo>
                  <a:lnTo>
                    <a:pt x="2414" y="756"/>
                  </a:lnTo>
                  <a:lnTo>
                    <a:pt x="2416" y="794"/>
                  </a:lnTo>
                  <a:lnTo>
                    <a:pt x="2420" y="832"/>
                  </a:lnTo>
                  <a:lnTo>
                    <a:pt x="2422" y="868"/>
                  </a:lnTo>
                  <a:lnTo>
                    <a:pt x="2425" y="902"/>
                  </a:lnTo>
                  <a:lnTo>
                    <a:pt x="2427" y="935"/>
                  </a:lnTo>
                  <a:lnTo>
                    <a:pt x="2430" y="966"/>
                  </a:lnTo>
                  <a:lnTo>
                    <a:pt x="2433" y="994"/>
                  </a:lnTo>
                  <a:lnTo>
                    <a:pt x="2435" y="1020"/>
                  </a:lnTo>
                  <a:lnTo>
                    <a:pt x="2437" y="1045"/>
                  </a:lnTo>
                  <a:lnTo>
                    <a:pt x="2441" y="1066"/>
                  </a:lnTo>
                  <a:lnTo>
                    <a:pt x="2443" y="1085"/>
                  </a:lnTo>
                  <a:lnTo>
                    <a:pt x="2446" y="1101"/>
                  </a:lnTo>
                  <a:lnTo>
                    <a:pt x="2449" y="1114"/>
                  </a:lnTo>
                  <a:lnTo>
                    <a:pt x="2451" y="1124"/>
                  </a:lnTo>
                  <a:lnTo>
                    <a:pt x="2454" y="1131"/>
                  </a:lnTo>
                  <a:lnTo>
                    <a:pt x="2456" y="1135"/>
                  </a:lnTo>
                  <a:lnTo>
                    <a:pt x="2460" y="1136"/>
                  </a:lnTo>
                  <a:lnTo>
                    <a:pt x="2462" y="1135"/>
                  </a:lnTo>
                  <a:lnTo>
                    <a:pt x="2464" y="1131"/>
                  </a:lnTo>
                  <a:lnTo>
                    <a:pt x="2467" y="1123"/>
                  </a:lnTo>
                  <a:lnTo>
                    <a:pt x="2470" y="1112"/>
                  </a:lnTo>
                  <a:lnTo>
                    <a:pt x="2472" y="1099"/>
                  </a:lnTo>
                  <a:lnTo>
                    <a:pt x="2475" y="1082"/>
                  </a:lnTo>
                  <a:lnTo>
                    <a:pt x="2478" y="1063"/>
                  </a:lnTo>
                  <a:lnTo>
                    <a:pt x="2481" y="1042"/>
                  </a:lnTo>
                  <a:lnTo>
                    <a:pt x="2483" y="1017"/>
                  </a:lnTo>
                  <a:lnTo>
                    <a:pt x="2485" y="990"/>
                  </a:lnTo>
                  <a:lnTo>
                    <a:pt x="2489" y="961"/>
                  </a:lnTo>
                  <a:lnTo>
                    <a:pt x="2491" y="930"/>
                  </a:lnTo>
                  <a:lnTo>
                    <a:pt x="2494" y="898"/>
                  </a:lnTo>
                  <a:lnTo>
                    <a:pt x="2496" y="863"/>
                  </a:lnTo>
                  <a:lnTo>
                    <a:pt x="2499" y="826"/>
                  </a:lnTo>
                  <a:lnTo>
                    <a:pt x="2502" y="788"/>
                  </a:lnTo>
                  <a:lnTo>
                    <a:pt x="2504" y="751"/>
                  </a:lnTo>
                  <a:lnTo>
                    <a:pt x="2507" y="710"/>
                  </a:lnTo>
                  <a:lnTo>
                    <a:pt x="2510" y="670"/>
                  </a:lnTo>
                  <a:lnTo>
                    <a:pt x="2512" y="629"/>
                  </a:lnTo>
                  <a:lnTo>
                    <a:pt x="2515" y="588"/>
                  </a:lnTo>
                  <a:lnTo>
                    <a:pt x="2518" y="546"/>
                  </a:lnTo>
                  <a:lnTo>
                    <a:pt x="2520" y="504"/>
                  </a:lnTo>
                  <a:lnTo>
                    <a:pt x="2523" y="464"/>
                  </a:lnTo>
                  <a:lnTo>
                    <a:pt x="2525" y="423"/>
                  </a:lnTo>
                  <a:lnTo>
                    <a:pt x="2529" y="384"/>
                  </a:lnTo>
                  <a:lnTo>
                    <a:pt x="2531" y="344"/>
                  </a:lnTo>
                  <a:lnTo>
                    <a:pt x="2533" y="307"/>
                  </a:lnTo>
                  <a:lnTo>
                    <a:pt x="2537" y="271"/>
                  </a:lnTo>
                  <a:lnTo>
                    <a:pt x="2539" y="236"/>
                  </a:lnTo>
                  <a:lnTo>
                    <a:pt x="2541" y="204"/>
                  </a:lnTo>
                  <a:lnTo>
                    <a:pt x="2544" y="173"/>
                  </a:lnTo>
                  <a:lnTo>
                    <a:pt x="2547" y="144"/>
                  </a:lnTo>
                  <a:lnTo>
                    <a:pt x="2550" y="118"/>
                  </a:lnTo>
                  <a:lnTo>
                    <a:pt x="2552" y="93"/>
                  </a:lnTo>
                  <a:lnTo>
                    <a:pt x="2554" y="72"/>
                  </a:lnTo>
                  <a:lnTo>
                    <a:pt x="2558" y="53"/>
                  </a:lnTo>
                  <a:lnTo>
                    <a:pt x="2560" y="37"/>
                  </a:lnTo>
                  <a:lnTo>
                    <a:pt x="2562" y="23"/>
                  </a:lnTo>
                  <a:lnTo>
                    <a:pt x="2566" y="13"/>
                  </a:lnTo>
                  <a:lnTo>
                    <a:pt x="2568" y="5"/>
                  </a:lnTo>
                  <a:lnTo>
                    <a:pt x="2571" y="1"/>
                  </a:lnTo>
                  <a:lnTo>
                    <a:pt x="2573" y="0"/>
                  </a:lnTo>
                  <a:lnTo>
                    <a:pt x="2576" y="1"/>
                  </a:lnTo>
                  <a:lnTo>
                    <a:pt x="2579" y="5"/>
                  </a:lnTo>
                  <a:lnTo>
                    <a:pt x="2581" y="13"/>
                  </a:lnTo>
                  <a:lnTo>
                    <a:pt x="2585" y="23"/>
                  </a:lnTo>
                  <a:lnTo>
                    <a:pt x="2587" y="37"/>
                  </a:lnTo>
                  <a:lnTo>
                    <a:pt x="2589" y="53"/>
                  </a:lnTo>
                  <a:lnTo>
                    <a:pt x="2592" y="72"/>
                  </a:lnTo>
                  <a:lnTo>
                    <a:pt x="2595" y="93"/>
                  </a:lnTo>
                  <a:lnTo>
                    <a:pt x="2597" y="118"/>
                  </a:lnTo>
                  <a:lnTo>
                    <a:pt x="2600" y="145"/>
                  </a:lnTo>
                  <a:lnTo>
                    <a:pt x="2602" y="173"/>
                  </a:lnTo>
                  <a:lnTo>
                    <a:pt x="2606" y="204"/>
                  </a:lnTo>
                  <a:lnTo>
                    <a:pt x="2608" y="236"/>
                  </a:lnTo>
                  <a:lnTo>
                    <a:pt x="2610" y="271"/>
                  </a:lnTo>
                  <a:lnTo>
                    <a:pt x="2614" y="308"/>
                  </a:lnTo>
                  <a:lnTo>
                    <a:pt x="2616" y="346"/>
                  </a:lnTo>
                  <a:lnTo>
                    <a:pt x="2619" y="384"/>
                  </a:lnTo>
                  <a:lnTo>
                    <a:pt x="2621" y="424"/>
                  </a:lnTo>
                  <a:lnTo>
                    <a:pt x="2624" y="464"/>
                  </a:lnTo>
                  <a:lnTo>
                    <a:pt x="2627" y="505"/>
                  </a:lnTo>
                  <a:lnTo>
                    <a:pt x="2629" y="546"/>
                  </a:lnTo>
                  <a:lnTo>
                    <a:pt x="2631" y="588"/>
                  </a:lnTo>
                  <a:lnTo>
                    <a:pt x="2635" y="629"/>
                  </a:lnTo>
                  <a:lnTo>
                    <a:pt x="2637" y="670"/>
                  </a:lnTo>
                  <a:lnTo>
                    <a:pt x="2640" y="710"/>
                  </a:lnTo>
                  <a:lnTo>
                    <a:pt x="2642" y="751"/>
                  </a:lnTo>
                  <a:lnTo>
                    <a:pt x="2645" y="790"/>
                  </a:lnTo>
                  <a:lnTo>
                    <a:pt x="2648" y="826"/>
                  </a:lnTo>
                  <a:lnTo>
                    <a:pt x="2650" y="863"/>
                  </a:lnTo>
                  <a:lnTo>
                    <a:pt x="2653" y="898"/>
                  </a:lnTo>
                  <a:lnTo>
                    <a:pt x="2656" y="931"/>
                  </a:lnTo>
                  <a:lnTo>
                    <a:pt x="2658" y="961"/>
                  </a:lnTo>
                  <a:lnTo>
                    <a:pt x="2661" y="990"/>
                  </a:lnTo>
                  <a:lnTo>
                    <a:pt x="2664" y="1017"/>
                  </a:lnTo>
                  <a:lnTo>
                    <a:pt x="2666" y="1042"/>
                  </a:lnTo>
                  <a:lnTo>
                    <a:pt x="2669" y="1063"/>
                  </a:lnTo>
                  <a:lnTo>
                    <a:pt x="2671" y="1082"/>
                  </a:lnTo>
                  <a:lnTo>
                    <a:pt x="2675" y="1099"/>
                  </a:lnTo>
                  <a:lnTo>
                    <a:pt x="2677" y="1112"/>
                  </a:lnTo>
                  <a:lnTo>
                    <a:pt x="2679" y="1123"/>
                  </a:lnTo>
                  <a:lnTo>
                    <a:pt x="2683" y="1131"/>
                  </a:lnTo>
                  <a:lnTo>
                    <a:pt x="2685" y="1135"/>
                  </a:lnTo>
                  <a:lnTo>
                    <a:pt x="2687" y="1136"/>
                  </a:lnTo>
                  <a:lnTo>
                    <a:pt x="2690" y="1135"/>
                  </a:lnTo>
                  <a:lnTo>
                    <a:pt x="2693" y="1131"/>
                  </a:lnTo>
                  <a:lnTo>
                    <a:pt x="2696" y="1124"/>
                  </a:lnTo>
                  <a:lnTo>
                    <a:pt x="2698" y="1114"/>
                  </a:lnTo>
                  <a:lnTo>
                    <a:pt x="2700" y="1101"/>
                  </a:lnTo>
                  <a:lnTo>
                    <a:pt x="2704" y="1084"/>
                  </a:lnTo>
                  <a:lnTo>
                    <a:pt x="2706" y="1065"/>
                  </a:lnTo>
                  <a:lnTo>
                    <a:pt x="2709" y="1044"/>
                  </a:lnTo>
                  <a:lnTo>
                    <a:pt x="2712" y="1020"/>
                  </a:lnTo>
                  <a:lnTo>
                    <a:pt x="2714" y="994"/>
                  </a:lnTo>
                  <a:lnTo>
                    <a:pt x="2717" y="966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56280" y="2119320"/>
              <a:ext cx="3187800" cy="1386000"/>
            </a:xfrm>
            <a:custGeom>
              <a:avLst/>
              <a:gdLst/>
              <a:ahLst/>
              <a:rect l="l" t="t" r="r" b="b"/>
              <a:pathLst>
                <a:path w="3186" h="1136">
                  <a:moveTo>
                    <a:pt x="0" y="113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6" y="0"/>
                  </a:lnTo>
                  <a:lnTo>
                    <a:pt x="3186" y="1136"/>
                  </a:lnTo>
                  <a:lnTo>
                    <a:pt x="3186" y="1136"/>
                  </a:lnTo>
                  <a:lnTo>
                    <a:pt x="0" y="1136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155920" y="2119320"/>
              <a:ext cx="31878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56280" y="4073400"/>
              <a:ext cx="360" cy="1389240"/>
            </a:xfrm>
            <a:custGeom>
              <a:avLst/>
              <a:gdLst/>
              <a:ahLst/>
              <a:rect l="l" t="t" r="r" b="b"/>
              <a:pathLst>
                <a:path w="0" h="1138">
                  <a:moveTo>
                    <a:pt x="0" y="0"/>
                  </a:moveTo>
                  <a:lnTo>
                    <a:pt x="0" y="0"/>
                  </a:lnTo>
                  <a:lnTo>
                    <a:pt x="0" y="1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00120" y="5573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46400" y="4610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70080" y="53020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46400" y="3916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5072040" y="546264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5072040" y="476712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5072040" y="407340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5114520" y="546264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5114520" y="511488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5114520" y="476712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5114520" y="441972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114520" y="4073400"/>
              <a:ext cx="4140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56280" y="4073400"/>
              <a:ext cx="0" cy="13892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156280" y="4078440"/>
              <a:ext cx="3176640" cy="1379520"/>
            </a:xfrm>
            <a:custGeom>
              <a:avLst/>
              <a:gdLst/>
              <a:ahLst/>
              <a:rect l="l" t="t" r="r" b="b"/>
              <a:pathLst>
                <a:path w="2717" h="1131">
                  <a:moveTo>
                    <a:pt x="0" y="565"/>
                  </a:moveTo>
                  <a:lnTo>
                    <a:pt x="2" y="565"/>
                  </a:lnTo>
                  <a:lnTo>
                    <a:pt x="5" y="565"/>
                  </a:lnTo>
                  <a:lnTo>
                    <a:pt x="7" y="565"/>
                  </a:lnTo>
                  <a:lnTo>
                    <a:pt x="11" y="565"/>
                  </a:lnTo>
                  <a:lnTo>
                    <a:pt x="13" y="565"/>
                  </a:lnTo>
                  <a:lnTo>
                    <a:pt x="15" y="565"/>
                  </a:lnTo>
                  <a:lnTo>
                    <a:pt x="19" y="565"/>
                  </a:lnTo>
                  <a:lnTo>
                    <a:pt x="21" y="565"/>
                  </a:lnTo>
                  <a:lnTo>
                    <a:pt x="24" y="565"/>
                  </a:lnTo>
                  <a:lnTo>
                    <a:pt x="26" y="565"/>
                  </a:lnTo>
                  <a:lnTo>
                    <a:pt x="29" y="565"/>
                  </a:lnTo>
                  <a:lnTo>
                    <a:pt x="32" y="565"/>
                  </a:lnTo>
                  <a:lnTo>
                    <a:pt x="34" y="564"/>
                  </a:lnTo>
                  <a:lnTo>
                    <a:pt x="36" y="564"/>
                  </a:lnTo>
                  <a:lnTo>
                    <a:pt x="40" y="564"/>
                  </a:lnTo>
                  <a:lnTo>
                    <a:pt x="42" y="564"/>
                  </a:lnTo>
                  <a:lnTo>
                    <a:pt x="45" y="564"/>
                  </a:lnTo>
                  <a:lnTo>
                    <a:pt x="48" y="564"/>
                  </a:lnTo>
                  <a:lnTo>
                    <a:pt x="50" y="562"/>
                  </a:lnTo>
                  <a:lnTo>
                    <a:pt x="53" y="562"/>
                  </a:lnTo>
                  <a:lnTo>
                    <a:pt x="55" y="562"/>
                  </a:lnTo>
                  <a:lnTo>
                    <a:pt x="58" y="562"/>
                  </a:lnTo>
                  <a:lnTo>
                    <a:pt x="61" y="562"/>
                  </a:lnTo>
                  <a:lnTo>
                    <a:pt x="63" y="561"/>
                  </a:lnTo>
                  <a:lnTo>
                    <a:pt x="67" y="561"/>
                  </a:lnTo>
                  <a:lnTo>
                    <a:pt x="69" y="561"/>
                  </a:lnTo>
                  <a:lnTo>
                    <a:pt x="71" y="561"/>
                  </a:lnTo>
                  <a:lnTo>
                    <a:pt x="74" y="561"/>
                  </a:lnTo>
                  <a:lnTo>
                    <a:pt x="77" y="561"/>
                  </a:lnTo>
                  <a:lnTo>
                    <a:pt x="80" y="561"/>
                  </a:lnTo>
                  <a:lnTo>
                    <a:pt x="82" y="561"/>
                  </a:lnTo>
                  <a:lnTo>
                    <a:pt x="84" y="561"/>
                  </a:lnTo>
                  <a:lnTo>
                    <a:pt x="88" y="561"/>
                  </a:lnTo>
                  <a:lnTo>
                    <a:pt x="90" y="561"/>
                  </a:lnTo>
                  <a:lnTo>
                    <a:pt x="92" y="561"/>
                  </a:lnTo>
                  <a:lnTo>
                    <a:pt x="96" y="561"/>
                  </a:lnTo>
                  <a:lnTo>
                    <a:pt x="98" y="561"/>
                  </a:lnTo>
                  <a:lnTo>
                    <a:pt x="101" y="562"/>
                  </a:lnTo>
                  <a:lnTo>
                    <a:pt x="103" y="562"/>
                  </a:lnTo>
                  <a:lnTo>
                    <a:pt x="106" y="562"/>
                  </a:lnTo>
                  <a:lnTo>
                    <a:pt x="109" y="564"/>
                  </a:lnTo>
                  <a:lnTo>
                    <a:pt x="111" y="564"/>
                  </a:lnTo>
                  <a:lnTo>
                    <a:pt x="114" y="565"/>
                  </a:lnTo>
                  <a:lnTo>
                    <a:pt x="117" y="566"/>
                  </a:lnTo>
                  <a:lnTo>
                    <a:pt x="119" y="566"/>
                  </a:lnTo>
                  <a:lnTo>
                    <a:pt x="122" y="567"/>
                  </a:lnTo>
                  <a:lnTo>
                    <a:pt x="125" y="568"/>
                  </a:lnTo>
                  <a:lnTo>
                    <a:pt x="127" y="569"/>
                  </a:lnTo>
                  <a:lnTo>
                    <a:pt x="130" y="570"/>
                  </a:lnTo>
                  <a:lnTo>
                    <a:pt x="132" y="571"/>
                  </a:lnTo>
                  <a:lnTo>
                    <a:pt x="136" y="572"/>
                  </a:lnTo>
                  <a:lnTo>
                    <a:pt x="138" y="574"/>
                  </a:lnTo>
                  <a:lnTo>
                    <a:pt x="140" y="575"/>
                  </a:lnTo>
                  <a:lnTo>
                    <a:pt x="143" y="576"/>
                  </a:lnTo>
                  <a:lnTo>
                    <a:pt x="146" y="577"/>
                  </a:lnTo>
                  <a:lnTo>
                    <a:pt x="149" y="578"/>
                  </a:lnTo>
                  <a:lnTo>
                    <a:pt x="151" y="579"/>
                  </a:lnTo>
                  <a:lnTo>
                    <a:pt x="154" y="580"/>
                  </a:lnTo>
                  <a:lnTo>
                    <a:pt x="157" y="581"/>
                  </a:lnTo>
                  <a:lnTo>
                    <a:pt x="159" y="583"/>
                  </a:lnTo>
                  <a:lnTo>
                    <a:pt x="161" y="584"/>
                  </a:lnTo>
                  <a:lnTo>
                    <a:pt x="165" y="585"/>
                  </a:lnTo>
                  <a:lnTo>
                    <a:pt x="167" y="586"/>
                  </a:lnTo>
                  <a:lnTo>
                    <a:pt x="170" y="586"/>
                  </a:lnTo>
                  <a:lnTo>
                    <a:pt x="172" y="587"/>
                  </a:lnTo>
                  <a:lnTo>
                    <a:pt x="175" y="588"/>
                  </a:lnTo>
                  <a:lnTo>
                    <a:pt x="178" y="588"/>
                  </a:lnTo>
                  <a:lnTo>
                    <a:pt x="180" y="588"/>
                  </a:lnTo>
                  <a:lnTo>
                    <a:pt x="182" y="588"/>
                  </a:lnTo>
                  <a:lnTo>
                    <a:pt x="186" y="588"/>
                  </a:lnTo>
                  <a:lnTo>
                    <a:pt x="188" y="588"/>
                  </a:lnTo>
                  <a:lnTo>
                    <a:pt x="191" y="588"/>
                  </a:lnTo>
                  <a:lnTo>
                    <a:pt x="194" y="588"/>
                  </a:lnTo>
                  <a:lnTo>
                    <a:pt x="196" y="587"/>
                  </a:lnTo>
                  <a:lnTo>
                    <a:pt x="199" y="586"/>
                  </a:lnTo>
                  <a:lnTo>
                    <a:pt x="201" y="585"/>
                  </a:lnTo>
                  <a:lnTo>
                    <a:pt x="205" y="584"/>
                  </a:lnTo>
                  <a:lnTo>
                    <a:pt x="207" y="583"/>
                  </a:lnTo>
                  <a:lnTo>
                    <a:pt x="209" y="581"/>
                  </a:lnTo>
                  <a:lnTo>
                    <a:pt x="213" y="579"/>
                  </a:lnTo>
                  <a:lnTo>
                    <a:pt x="215" y="577"/>
                  </a:lnTo>
                  <a:lnTo>
                    <a:pt x="217" y="575"/>
                  </a:lnTo>
                  <a:lnTo>
                    <a:pt x="220" y="572"/>
                  </a:lnTo>
                  <a:lnTo>
                    <a:pt x="223" y="570"/>
                  </a:lnTo>
                  <a:lnTo>
                    <a:pt x="226" y="568"/>
                  </a:lnTo>
                  <a:lnTo>
                    <a:pt x="228" y="565"/>
                  </a:lnTo>
                  <a:lnTo>
                    <a:pt x="230" y="562"/>
                  </a:lnTo>
                  <a:lnTo>
                    <a:pt x="234" y="559"/>
                  </a:lnTo>
                  <a:lnTo>
                    <a:pt x="236" y="556"/>
                  </a:lnTo>
                  <a:lnTo>
                    <a:pt x="239" y="554"/>
                  </a:lnTo>
                  <a:lnTo>
                    <a:pt x="242" y="550"/>
                  </a:lnTo>
                  <a:lnTo>
                    <a:pt x="244" y="547"/>
                  </a:lnTo>
                  <a:lnTo>
                    <a:pt x="247" y="543"/>
                  </a:lnTo>
                  <a:lnTo>
                    <a:pt x="249" y="540"/>
                  </a:lnTo>
                  <a:lnTo>
                    <a:pt x="252" y="537"/>
                  </a:lnTo>
                  <a:lnTo>
                    <a:pt x="255" y="533"/>
                  </a:lnTo>
                  <a:lnTo>
                    <a:pt x="257" y="530"/>
                  </a:lnTo>
                  <a:lnTo>
                    <a:pt x="261" y="527"/>
                  </a:lnTo>
                  <a:lnTo>
                    <a:pt x="263" y="523"/>
                  </a:lnTo>
                  <a:lnTo>
                    <a:pt x="265" y="521"/>
                  </a:lnTo>
                  <a:lnTo>
                    <a:pt x="268" y="518"/>
                  </a:lnTo>
                  <a:lnTo>
                    <a:pt x="271" y="516"/>
                  </a:lnTo>
                  <a:lnTo>
                    <a:pt x="273" y="513"/>
                  </a:lnTo>
                  <a:lnTo>
                    <a:pt x="276" y="511"/>
                  </a:lnTo>
                  <a:lnTo>
                    <a:pt x="278" y="509"/>
                  </a:lnTo>
                  <a:lnTo>
                    <a:pt x="282" y="507"/>
                  </a:lnTo>
                  <a:lnTo>
                    <a:pt x="284" y="506"/>
                  </a:lnTo>
                  <a:lnTo>
                    <a:pt x="286" y="504"/>
                  </a:lnTo>
                  <a:lnTo>
                    <a:pt x="289" y="503"/>
                  </a:lnTo>
                  <a:lnTo>
                    <a:pt x="292" y="503"/>
                  </a:lnTo>
                  <a:lnTo>
                    <a:pt x="295" y="503"/>
                  </a:lnTo>
                  <a:lnTo>
                    <a:pt x="297" y="503"/>
                  </a:lnTo>
                  <a:lnTo>
                    <a:pt x="300" y="504"/>
                  </a:lnTo>
                  <a:lnTo>
                    <a:pt x="303" y="504"/>
                  </a:lnTo>
                  <a:lnTo>
                    <a:pt x="305" y="507"/>
                  </a:lnTo>
                  <a:lnTo>
                    <a:pt x="307" y="508"/>
                  </a:lnTo>
                  <a:lnTo>
                    <a:pt x="311" y="510"/>
                  </a:lnTo>
                  <a:lnTo>
                    <a:pt x="313" y="512"/>
                  </a:lnTo>
                  <a:lnTo>
                    <a:pt x="316" y="516"/>
                  </a:lnTo>
                  <a:lnTo>
                    <a:pt x="318" y="519"/>
                  </a:lnTo>
                  <a:lnTo>
                    <a:pt x="321" y="522"/>
                  </a:lnTo>
                  <a:lnTo>
                    <a:pt x="324" y="527"/>
                  </a:lnTo>
                  <a:lnTo>
                    <a:pt x="326" y="531"/>
                  </a:lnTo>
                  <a:lnTo>
                    <a:pt x="330" y="536"/>
                  </a:lnTo>
                  <a:lnTo>
                    <a:pt x="332" y="541"/>
                  </a:lnTo>
                  <a:lnTo>
                    <a:pt x="334" y="546"/>
                  </a:lnTo>
                  <a:lnTo>
                    <a:pt x="337" y="551"/>
                  </a:lnTo>
                  <a:lnTo>
                    <a:pt x="340" y="558"/>
                  </a:lnTo>
                  <a:lnTo>
                    <a:pt x="342" y="564"/>
                  </a:lnTo>
                  <a:lnTo>
                    <a:pt x="345" y="570"/>
                  </a:lnTo>
                  <a:lnTo>
                    <a:pt x="347" y="576"/>
                  </a:lnTo>
                  <a:lnTo>
                    <a:pt x="351" y="583"/>
                  </a:lnTo>
                  <a:lnTo>
                    <a:pt x="353" y="589"/>
                  </a:lnTo>
                  <a:lnTo>
                    <a:pt x="355" y="596"/>
                  </a:lnTo>
                  <a:lnTo>
                    <a:pt x="359" y="603"/>
                  </a:lnTo>
                  <a:lnTo>
                    <a:pt x="361" y="609"/>
                  </a:lnTo>
                  <a:lnTo>
                    <a:pt x="364" y="616"/>
                  </a:lnTo>
                  <a:lnTo>
                    <a:pt x="366" y="623"/>
                  </a:lnTo>
                  <a:lnTo>
                    <a:pt x="369" y="628"/>
                  </a:lnTo>
                  <a:lnTo>
                    <a:pt x="372" y="635"/>
                  </a:lnTo>
                  <a:lnTo>
                    <a:pt x="374" y="641"/>
                  </a:lnTo>
                  <a:lnTo>
                    <a:pt x="376" y="646"/>
                  </a:lnTo>
                  <a:lnTo>
                    <a:pt x="380" y="652"/>
                  </a:lnTo>
                  <a:lnTo>
                    <a:pt x="382" y="656"/>
                  </a:lnTo>
                  <a:lnTo>
                    <a:pt x="385" y="661"/>
                  </a:lnTo>
                  <a:lnTo>
                    <a:pt x="388" y="665"/>
                  </a:lnTo>
                  <a:lnTo>
                    <a:pt x="390" y="668"/>
                  </a:lnTo>
                  <a:lnTo>
                    <a:pt x="393" y="672"/>
                  </a:lnTo>
                  <a:lnTo>
                    <a:pt x="395" y="675"/>
                  </a:lnTo>
                  <a:lnTo>
                    <a:pt x="398" y="676"/>
                  </a:lnTo>
                  <a:lnTo>
                    <a:pt x="401" y="678"/>
                  </a:lnTo>
                  <a:lnTo>
                    <a:pt x="403" y="680"/>
                  </a:lnTo>
                  <a:lnTo>
                    <a:pt x="407" y="680"/>
                  </a:lnTo>
                  <a:lnTo>
                    <a:pt x="409" y="680"/>
                  </a:lnTo>
                  <a:lnTo>
                    <a:pt x="411" y="678"/>
                  </a:lnTo>
                  <a:lnTo>
                    <a:pt x="414" y="676"/>
                  </a:lnTo>
                  <a:lnTo>
                    <a:pt x="417" y="674"/>
                  </a:lnTo>
                  <a:lnTo>
                    <a:pt x="420" y="672"/>
                  </a:lnTo>
                  <a:lnTo>
                    <a:pt x="422" y="667"/>
                  </a:lnTo>
                  <a:lnTo>
                    <a:pt x="424" y="663"/>
                  </a:lnTo>
                  <a:lnTo>
                    <a:pt x="428" y="658"/>
                  </a:lnTo>
                  <a:lnTo>
                    <a:pt x="430" y="653"/>
                  </a:lnTo>
                  <a:lnTo>
                    <a:pt x="432" y="646"/>
                  </a:lnTo>
                  <a:lnTo>
                    <a:pt x="436" y="639"/>
                  </a:lnTo>
                  <a:lnTo>
                    <a:pt x="438" y="633"/>
                  </a:lnTo>
                  <a:lnTo>
                    <a:pt x="441" y="625"/>
                  </a:lnTo>
                  <a:lnTo>
                    <a:pt x="443" y="616"/>
                  </a:lnTo>
                  <a:lnTo>
                    <a:pt x="446" y="607"/>
                  </a:lnTo>
                  <a:lnTo>
                    <a:pt x="449" y="598"/>
                  </a:lnTo>
                  <a:lnTo>
                    <a:pt x="451" y="588"/>
                  </a:lnTo>
                  <a:lnTo>
                    <a:pt x="454" y="578"/>
                  </a:lnTo>
                  <a:lnTo>
                    <a:pt x="457" y="568"/>
                  </a:lnTo>
                  <a:lnTo>
                    <a:pt x="459" y="557"/>
                  </a:lnTo>
                  <a:lnTo>
                    <a:pt x="462" y="546"/>
                  </a:lnTo>
                  <a:lnTo>
                    <a:pt x="464" y="536"/>
                  </a:lnTo>
                  <a:lnTo>
                    <a:pt x="467" y="525"/>
                  </a:lnTo>
                  <a:lnTo>
                    <a:pt x="470" y="513"/>
                  </a:lnTo>
                  <a:lnTo>
                    <a:pt x="472" y="502"/>
                  </a:lnTo>
                  <a:lnTo>
                    <a:pt x="476" y="492"/>
                  </a:lnTo>
                  <a:lnTo>
                    <a:pt x="478" y="481"/>
                  </a:lnTo>
                  <a:lnTo>
                    <a:pt x="480" y="471"/>
                  </a:lnTo>
                  <a:lnTo>
                    <a:pt x="483" y="461"/>
                  </a:lnTo>
                  <a:lnTo>
                    <a:pt x="486" y="451"/>
                  </a:lnTo>
                  <a:lnTo>
                    <a:pt x="489" y="442"/>
                  </a:lnTo>
                  <a:lnTo>
                    <a:pt x="491" y="433"/>
                  </a:lnTo>
                  <a:lnTo>
                    <a:pt x="493" y="425"/>
                  </a:lnTo>
                  <a:lnTo>
                    <a:pt x="497" y="417"/>
                  </a:lnTo>
                  <a:lnTo>
                    <a:pt x="499" y="411"/>
                  </a:lnTo>
                  <a:lnTo>
                    <a:pt x="501" y="404"/>
                  </a:lnTo>
                  <a:lnTo>
                    <a:pt x="505" y="398"/>
                  </a:lnTo>
                  <a:lnTo>
                    <a:pt x="507" y="394"/>
                  </a:lnTo>
                  <a:lnTo>
                    <a:pt x="510" y="391"/>
                  </a:lnTo>
                  <a:lnTo>
                    <a:pt x="512" y="388"/>
                  </a:lnTo>
                  <a:lnTo>
                    <a:pt x="515" y="386"/>
                  </a:lnTo>
                  <a:lnTo>
                    <a:pt x="518" y="385"/>
                  </a:lnTo>
                  <a:lnTo>
                    <a:pt x="520" y="385"/>
                  </a:lnTo>
                  <a:lnTo>
                    <a:pt x="522" y="386"/>
                  </a:lnTo>
                  <a:lnTo>
                    <a:pt x="526" y="388"/>
                  </a:lnTo>
                  <a:lnTo>
                    <a:pt x="528" y="391"/>
                  </a:lnTo>
                  <a:lnTo>
                    <a:pt x="531" y="395"/>
                  </a:lnTo>
                  <a:lnTo>
                    <a:pt x="534" y="401"/>
                  </a:lnTo>
                  <a:lnTo>
                    <a:pt x="536" y="406"/>
                  </a:lnTo>
                  <a:lnTo>
                    <a:pt x="539" y="413"/>
                  </a:lnTo>
                  <a:lnTo>
                    <a:pt x="541" y="421"/>
                  </a:lnTo>
                  <a:lnTo>
                    <a:pt x="545" y="430"/>
                  </a:lnTo>
                  <a:lnTo>
                    <a:pt x="547" y="440"/>
                  </a:lnTo>
                  <a:lnTo>
                    <a:pt x="549" y="451"/>
                  </a:lnTo>
                  <a:lnTo>
                    <a:pt x="553" y="462"/>
                  </a:lnTo>
                  <a:lnTo>
                    <a:pt x="555" y="474"/>
                  </a:lnTo>
                  <a:lnTo>
                    <a:pt x="557" y="487"/>
                  </a:lnTo>
                  <a:lnTo>
                    <a:pt x="560" y="500"/>
                  </a:lnTo>
                  <a:lnTo>
                    <a:pt x="563" y="514"/>
                  </a:lnTo>
                  <a:lnTo>
                    <a:pt x="566" y="529"/>
                  </a:lnTo>
                  <a:lnTo>
                    <a:pt x="568" y="545"/>
                  </a:lnTo>
                  <a:lnTo>
                    <a:pt x="570" y="559"/>
                  </a:lnTo>
                  <a:lnTo>
                    <a:pt x="574" y="575"/>
                  </a:lnTo>
                  <a:lnTo>
                    <a:pt x="576" y="591"/>
                  </a:lnTo>
                  <a:lnTo>
                    <a:pt x="579" y="607"/>
                  </a:lnTo>
                  <a:lnTo>
                    <a:pt x="582" y="623"/>
                  </a:lnTo>
                  <a:lnTo>
                    <a:pt x="584" y="639"/>
                  </a:lnTo>
                  <a:lnTo>
                    <a:pt x="587" y="655"/>
                  </a:lnTo>
                  <a:lnTo>
                    <a:pt x="589" y="671"/>
                  </a:lnTo>
                  <a:lnTo>
                    <a:pt x="592" y="685"/>
                  </a:lnTo>
                  <a:lnTo>
                    <a:pt x="595" y="700"/>
                  </a:lnTo>
                  <a:lnTo>
                    <a:pt x="597" y="714"/>
                  </a:lnTo>
                  <a:lnTo>
                    <a:pt x="600" y="728"/>
                  </a:lnTo>
                  <a:lnTo>
                    <a:pt x="603" y="741"/>
                  </a:lnTo>
                  <a:lnTo>
                    <a:pt x="605" y="753"/>
                  </a:lnTo>
                  <a:lnTo>
                    <a:pt x="608" y="764"/>
                  </a:lnTo>
                  <a:lnTo>
                    <a:pt x="611" y="774"/>
                  </a:lnTo>
                  <a:lnTo>
                    <a:pt x="613" y="784"/>
                  </a:lnTo>
                  <a:lnTo>
                    <a:pt x="616" y="792"/>
                  </a:lnTo>
                  <a:lnTo>
                    <a:pt x="618" y="799"/>
                  </a:lnTo>
                  <a:lnTo>
                    <a:pt x="622" y="806"/>
                  </a:lnTo>
                  <a:lnTo>
                    <a:pt x="624" y="810"/>
                  </a:lnTo>
                  <a:lnTo>
                    <a:pt x="626" y="813"/>
                  </a:lnTo>
                  <a:lnTo>
                    <a:pt x="629" y="816"/>
                  </a:lnTo>
                  <a:lnTo>
                    <a:pt x="632" y="817"/>
                  </a:lnTo>
                  <a:lnTo>
                    <a:pt x="635" y="817"/>
                  </a:lnTo>
                  <a:lnTo>
                    <a:pt x="637" y="815"/>
                  </a:lnTo>
                  <a:lnTo>
                    <a:pt x="639" y="811"/>
                  </a:lnTo>
                  <a:lnTo>
                    <a:pt x="643" y="807"/>
                  </a:lnTo>
                  <a:lnTo>
                    <a:pt x="645" y="801"/>
                  </a:lnTo>
                  <a:lnTo>
                    <a:pt x="647" y="793"/>
                  </a:lnTo>
                  <a:lnTo>
                    <a:pt x="651" y="784"/>
                  </a:lnTo>
                  <a:lnTo>
                    <a:pt x="653" y="774"/>
                  </a:lnTo>
                  <a:lnTo>
                    <a:pt x="656" y="763"/>
                  </a:lnTo>
                  <a:lnTo>
                    <a:pt x="658" y="751"/>
                  </a:lnTo>
                  <a:lnTo>
                    <a:pt x="661" y="738"/>
                  </a:lnTo>
                  <a:lnTo>
                    <a:pt x="664" y="722"/>
                  </a:lnTo>
                  <a:lnTo>
                    <a:pt x="666" y="706"/>
                  </a:lnTo>
                  <a:lnTo>
                    <a:pt x="670" y="690"/>
                  </a:lnTo>
                  <a:lnTo>
                    <a:pt x="672" y="672"/>
                  </a:lnTo>
                  <a:lnTo>
                    <a:pt x="674" y="653"/>
                  </a:lnTo>
                  <a:lnTo>
                    <a:pt x="677" y="634"/>
                  </a:lnTo>
                  <a:lnTo>
                    <a:pt x="680" y="614"/>
                  </a:lnTo>
                  <a:lnTo>
                    <a:pt x="682" y="594"/>
                  </a:lnTo>
                  <a:lnTo>
                    <a:pt x="685" y="574"/>
                  </a:lnTo>
                  <a:lnTo>
                    <a:pt x="687" y="552"/>
                  </a:lnTo>
                  <a:lnTo>
                    <a:pt x="691" y="531"/>
                  </a:lnTo>
                  <a:lnTo>
                    <a:pt x="693" y="509"/>
                  </a:lnTo>
                  <a:lnTo>
                    <a:pt x="695" y="488"/>
                  </a:lnTo>
                  <a:lnTo>
                    <a:pt x="699" y="467"/>
                  </a:lnTo>
                  <a:lnTo>
                    <a:pt x="701" y="446"/>
                  </a:lnTo>
                  <a:lnTo>
                    <a:pt x="704" y="425"/>
                  </a:lnTo>
                  <a:lnTo>
                    <a:pt x="706" y="406"/>
                  </a:lnTo>
                  <a:lnTo>
                    <a:pt x="709" y="386"/>
                  </a:lnTo>
                  <a:lnTo>
                    <a:pt x="712" y="368"/>
                  </a:lnTo>
                  <a:lnTo>
                    <a:pt x="714" y="350"/>
                  </a:lnTo>
                  <a:lnTo>
                    <a:pt x="716" y="334"/>
                  </a:lnTo>
                  <a:lnTo>
                    <a:pt x="720" y="318"/>
                  </a:lnTo>
                  <a:lnTo>
                    <a:pt x="722" y="304"/>
                  </a:lnTo>
                  <a:lnTo>
                    <a:pt x="725" y="290"/>
                  </a:lnTo>
                  <a:lnTo>
                    <a:pt x="728" y="278"/>
                  </a:lnTo>
                  <a:lnTo>
                    <a:pt x="730" y="268"/>
                  </a:lnTo>
                  <a:lnTo>
                    <a:pt x="733" y="259"/>
                  </a:lnTo>
                  <a:lnTo>
                    <a:pt x="735" y="251"/>
                  </a:lnTo>
                  <a:lnTo>
                    <a:pt x="738" y="246"/>
                  </a:lnTo>
                  <a:lnTo>
                    <a:pt x="741" y="241"/>
                  </a:lnTo>
                  <a:lnTo>
                    <a:pt x="743" y="239"/>
                  </a:lnTo>
                  <a:lnTo>
                    <a:pt x="746" y="238"/>
                  </a:lnTo>
                  <a:lnTo>
                    <a:pt x="749" y="239"/>
                  </a:lnTo>
                  <a:lnTo>
                    <a:pt x="751" y="241"/>
                  </a:lnTo>
                  <a:lnTo>
                    <a:pt x="754" y="247"/>
                  </a:lnTo>
                  <a:lnTo>
                    <a:pt x="757" y="252"/>
                  </a:lnTo>
                  <a:lnTo>
                    <a:pt x="760" y="261"/>
                  </a:lnTo>
                  <a:lnTo>
                    <a:pt x="762" y="270"/>
                  </a:lnTo>
                  <a:lnTo>
                    <a:pt x="764" y="282"/>
                  </a:lnTo>
                  <a:lnTo>
                    <a:pt x="768" y="295"/>
                  </a:lnTo>
                  <a:lnTo>
                    <a:pt x="770" y="310"/>
                  </a:lnTo>
                  <a:lnTo>
                    <a:pt x="772" y="326"/>
                  </a:lnTo>
                  <a:lnTo>
                    <a:pt x="775" y="344"/>
                  </a:lnTo>
                  <a:lnTo>
                    <a:pt x="778" y="363"/>
                  </a:lnTo>
                  <a:lnTo>
                    <a:pt x="781" y="383"/>
                  </a:lnTo>
                  <a:lnTo>
                    <a:pt x="783" y="405"/>
                  </a:lnTo>
                  <a:lnTo>
                    <a:pt x="786" y="427"/>
                  </a:lnTo>
                  <a:lnTo>
                    <a:pt x="789" y="451"/>
                  </a:lnTo>
                  <a:lnTo>
                    <a:pt x="791" y="475"/>
                  </a:lnTo>
                  <a:lnTo>
                    <a:pt x="794" y="501"/>
                  </a:lnTo>
                  <a:lnTo>
                    <a:pt x="797" y="527"/>
                  </a:lnTo>
                  <a:lnTo>
                    <a:pt x="799" y="552"/>
                  </a:lnTo>
                  <a:lnTo>
                    <a:pt x="802" y="579"/>
                  </a:lnTo>
                  <a:lnTo>
                    <a:pt x="804" y="606"/>
                  </a:lnTo>
                  <a:lnTo>
                    <a:pt x="807" y="633"/>
                  </a:lnTo>
                  <a:lnTo>
                    <a:pt x="810" y="658"/>
                  </a:lnTo>
                  <a:lnTo>
                    <a:pt x="812" y="685"/>
                  </a:lnTo>
                  <a:lnTo>
                    <a:pt x="816" y="711"/>
                  </a:lnTo>
                  <a:lnTo>
                    <a:pt x="818" y="736"/>
                  </a:lnTo>
                  <a:lnTo>
                    <a:pt x="820" y="761"/>
                  </a:lnTo>
                  <a:lnTo>
                    <a:pt x="823" y="784"/>
                  </a:lnTo>
                  <a:lnTo>
                    <a:pt x="826" y="808"/>
                  </a:lnTo>
                  <a:lnTo>
                    <a:pt x="829" y="829"/>
                  </a:lnTo>
                  <a:lnTo>
                    <a:pt x="831" y="849"/>
                  </a:lnTo>
                  <a:lnTo>
                    <a:pt x="833" y="868"/>
                  </a:lnTo>
                  <a:lnTo>
                    <a:pt x="837" y="886"/>
                  </a:lnTo>
                  <a:lnTo>
                    <a:pt x="839" y="903"/>
                  </a:lnTo>
                  <a:lnTo>
                    <a:pt x="841" y="916"/>
                  </a:lnTo>
                  <a:lnTo>
                    <a:pt x="845" y="929"/>
                  </a:lnTo>
                  <a:lnTo>
                    <a:pt x="847" y="939"/>
                  </a:lnTo>
                  <a:lnTo>
                    <a:pt x="850" y="948"/>
                  </a:lnTo>
                  <a:lnTo>
                    <a:pt x="852" y="955"/>
                  </a:lnTo>
                  <a:lnTo>
                    <a:pt x="855" y="961"/>
                  </a:lnTo>
                  <a:lnTo>
                    <a:pt x="858" y="963"/>
                  </a:lnTo>
                  <a:lnTo>
                    <a:pt x="860" y="963"/>
                  </a:lnTo>
                  <a:lnTo>
                    <a:pt x="862" y="962"/>
                  </a:lnTo>
                  <a:lnTo>
                    <a:pt x="866" y="958"/>
                  </a:lnTo>
                  <a:lnTo>
                    <a:pt x="868" y="952"/>
                  </a:lnTo>
                  <a:lnTo>
                    <a:pt x="871" y="944"/>
                  </a:lnTo>
                  <a:lnTo>
                    <a:pt x="874" y="934"/>
                  </a:lnTo>
                  <a:lnTo>
                    <a:pt x="876" y="922"/>
                  </a:lnTo>
                  <a:lnTo>
                    <a:pt x="879" y="907"/>
                  </a:lnTo>
                  <a:lnTo>
                    <a:pt x="881" y="892"/>
                  </a:lnTo>
                  <a:lnTo>
                    <a:pt x="885" y="874"/>
                  </a:lnTo>
                  <a:lnTo>
                    <a:pt x="887" y="854"/>
                  </a:lnTo>
                  <a:lnTo>
                    <a:pt x="889" y="831"/>
                  </a:lnTo>
                  <a:lnTo>
                    <a:pt x="893" y="809"/>
                  </a:lnTo>
                  <a:lnTo>
                    <a:pt x="895" y="784"/>
                  </a:lnTo>
                  <a:lnTo>
                    <a:pt x="897" y="758"/>
                  </a:lnTo>
                  <a:lnTo>
                    <a:pt x="900" y="731"/>
                  </a:lnTo>
                  <a:lnTo>
                    <a:pt x="903" y="703"/>
                  </a:lnTo>
                  <a:lnTo>
                    <a:pt x="906" y="673"/>
                  </a:lnTo>
                  <a:lnTo>
                    <a:pt x="908" y="643"/>
                  </a:lnTo>
                  <a:lnTo>
                    <a:pt x="910" y="613"/>
                  </a:lnTo>
                  <a:lnTo>
                    <a:pt x="914" y="581"/>
                  </a:lnTo>
                  <a:lnTo>
                    <a:pt x="916" y="550"/>
                  </a:lnTo>
                  <a:lnTo>
                    <a:pt x="919" y="519"/>
                  </a:lnTo>
                  <a:lnTo>
                    <a:pt x="921" y="487"/>
                  </a:lnTo>
                  <a:lnTo>
                    <a:pt x="924" y="455"/>
                  </a:lnTo>
                  <a:lnTo>
                    <a:pt x="927" y="424"/>
                  </a:lnTo>
                  <a:lnTo>
                    <a:pt x="929" y="394"/>
                  </a:lnTo>
                  <a:lnTo>
                    <a:pt x="932" y="364"/>
                  </a:lnTo>
                  <a:lnTo>
                    <a:pt x="935" y="336"/>
                  </a:lnTo>
                  <a:lnTo>
                    <a:pt x="937" y="308"/>
                  </a:lnTo>
                  <a:lnTo>
                    <a:pt x="940" y="281"/>
                  </a:lnTo>
                  <a:lnTo>
                    <a:pt x="943" y="256"/>
                  </a:lnTo>
                  <a:lnTo>
                    <a:pt x="945" y="232"/>
                  </a:lnTo>
                  <a:lnTo>
                    <a:pt x="948" y="210"/>
                  </a:lnTo>
                  <a:lnTo>
                    <a:pt x="950" y="190"/>
                  </a:lnTo>
                  <a:lnTo>
                    <a:pt x="953" y="171"/>
                  </a:lnTo>
                  <a:lnTo>
                    <a:pt x="956" y="154"/>
                  </a:lnTo>
                  <a:lnTo>
                    <a:pt x="958" y="141"/>
                  </a:lnTo>
                  <a:lnTo>
                    <a:pt x="962" y="129"/>
                  </a:lnTo>
                  <a:lnTo>
                    <a:pt x="964" y="118"/>
                  </a:lnTo>
                  <a:lnTo>
                    <a:pt x="966" y="111"/>
                  </a:lnTo>
                  <a:lnTo>
                    <a:pt x="969" y="105"/>
                  </a:lnTo>
                  <a:lnTo>
                    <a:pt x="972" y="103"/>
                  </a:lnTo>
                  <a:lnTo>
                    <a:pt x="975" y="103"/>
                  </a:lnTo>
                  <a:lnTo>
                    <a:pt x="977" y="105"/>
                  </a:lnTo>
                  <a:lnTo>
                    <a:pt x="979" y="110"/>
                  </a:lnTo>
                  <a:lnTo>
                    <a:pt x="983" y="116"/>
                  </a:lnTo>
                  <a:lnTo>
                    <a:pt x="985" y="126"/>
                  </a:lnTo>
                  <a:lnTo>
                    <a:pt x="987" y="139"/>
                  </a:lnTo>
                  <a:lnTo>
                    <a:pt x="991" y="152"/>
                  </a:lnTo>
                  <a:lnTo>
                    <a:pt x="993" y="169"/>
                  </a:lnTo>
                  <a:lnTo>
                    <a:pt x="996" y="188"/>
                  </a:lnTo>
                  <a:lnTo>
                    <a:pt x="998" y="209"/>
                  </a:lnTo>
                  <a:lnTo>
                    <a:pt x="1001" y="232"/>
                  </a:lnTo>
                  <a:lnTo>
                    <a:pt x="1004" y="257"/>
                  </a:lnTo>
                  <a:lnTo>
                    <a:pt x="1006" y="284"/>
                  </a:lnTo>
                  <a:lnTo>
                    <a:pt x="1010" y="311"/>
                  </a:lnTo>
                  <a:lnTo>
                    <a:pt x="1012" y="342"/>
                  </a:lnTo>
                  <a:lnTo>
                    <a:pt x="1014" y="373"/>
                  </a:lnTo>
                  <a:lnTo>
                    <a:pt x="1017" y="405"/>
                  </a:lnTo>
                  <a:lnTo>
                    <a:pt x="1020" y="439"/>
                  </a:lnTo>
                  <a:lnTo>
                    <a:pt x="1022" y="473"/>
                  </a:lnTo>
                  <a:lnTo>
                    <a:pt x="1025" y="508"/>
                  </a:lnTo>
                  <a:lnTo>
                    <a:pt x="1027" y="543"/>
                  </a:lnTo>
                  <a:lnTo>
                    <a:pt x="1031" y="579"/>
                  </a:lnTo>
                  <a:lnTo>
                    <a:pt x="1033" y="615"/>
                  </a:lnTo>
                  <a:lnTo>
                    <a:pt x="1035" y="651"/>
                  </a:lnTo>
                  <a:lnTo>
                    <a:pt x="1039" y="686"/>
                  </a:lnTo>
                  <a:lnTo>
                    <a:pt x="1041" y="721"/>
                  </a:lnTo>
                  <a:lnTo>
                    <a:pt x="1044" y="755"/>
                  </a:lnTo>
                  <a:lnTo>
                    <a:pt x="1046" y="789"/>
                  </a:lnTo>
                  <a:lnTo>
                    <a:pt x="1049" y="821"/>
                  </a:lnTo>
                  <a:lnTo>
                    <a:pt x="1052" y="852"/>
                  </a:lnTo>
                  <a:lnTo>
                    <a:pt x="1054" y="881"/>
                  </a:lnTo>
                  <a:lnTo>
                    <a:pt x="1056" y="910"/>
                  </a:lnTo>
                  <a:lnTo>
                    <a:pt x="1060" y="936"/>
                  </a:lnTo>
                  <a:lnTo>
                    <a:pt x="1062" y="961"/>
                  </a:lnTo>
                  <a:lnTo>
                    <a:pt x="1065" y="984"/>
                  </a:lnTo>
                  <a:lnTo>
                    <a:pt x="1068" y="1004"/>
                  </a:lnTo>
                  <a:lnTo>
                    <a:pt x="1070" y="1022"/>
                  </a:lnTo>
                  <a:lnTo>
                    <a:pt x="1073" y="1038"/>
                  </a:lnTo>
                  <a:lnTo>
                    <a:pt x="1075" y="1051"/>
                  </a:lnTo>
                  <a:lnTo>
                    <a:pt x="1078" y="1062"/>
                  </a:lnTo>
                  <a:lnTo>
                    <a:pt x="1081" y="1070"/>
                  </a:lnTo>
                  <a:lnTo>
                    <a:pt x="1083" y="1076"/>
                  </a:lnTo>
                  <a:lnTo>
                    <a:pt x="1086" y="1079"/>
                  </a:lnTo>
                  <a:lnTo>
                    <a:pt x="1089" y="1079"/>
                  </a:lnTo>
                  <a:lnTo>
                    <a:pt x="1091" y="1076"/>
                  </a:lnTo>
                  <a:lnTo>
                    <a:pt x="1094" y="1070"/>
                  </a:lnTo>
                  <a:lnTo>
                    <a:pt x="1096" y="1062"/>
                  </a:lnTo>
                  <a:lnTo>
                    <a:pt x="1100" y="1051"/>
                  </a:lnTo>
                  <a:lnTo>
                    <a:pt x="1102" y="1038"/>
                  </a:lnTo>
                  <a:lnTo>
                    <a:pt x="1104" y="1022"/>
                  </a:lnTo>
                  <a:lnTo>
                    <a:pt x="1108" y="1003"/>
                  </a:lnTo>
                  <a:lnTo>
                    <a:pt x="1110" y="982"/>
                  </a:lnTo>
                  <a:lnTo>
                    <a:pt x="1112" y="958"/>
                  </a:lnTo>
                  <a:lnTo>
                    <a:pt x="1115" y="933"/>
                  </a:lnTo>
                  <a:lnTo>
                    <a:pt x="1118" y="905"/>
                  </a:lnTo>
                  <a:lnTo>
                    <a:pt x="1121" y="876"/>
                  </a:lnTo>
                  <a:lnTo>
                    <a:pt x="1123" y="845"/>
                  </a:lnTo>
                  <a:lnTo>
                    <a:pt x="1125" y="811"/>
                  </a:lnTo>
                  <a:lnTo>
                    <a:pt x="1129" y="778"/>
                  </a:lnTo>
                  <a:lnTo>
                    <a:pt x="1131" y="742"/>
                  </a:lnTo>
                  <a:lnTo>
                    <a:pt x="1134" y="705"/>
                  </a:lnTo>
                  <a:lnTo>
                    <a:pt x="1137" y="667"/>
                  </a:lnTo>
                  <a:lnTo>
                    <a:pt x="1139" y="629"/>
                  </a:lnTo>
                  <a:lnTo>
                    <a:pt x="1142" y="590"/>
                  </a:lnTo>
                  <a:lnTo>
                    <a:pt x="1144" y="551"/>
                  </a:lnTo>
                  <a:lnTo>
                    <a:pt x="1147" y="512"/>
                  </a:lnTo>
                  <a:lnTo>
                    <a:pt x="1150" y="474"/>
                  </a:lnTo>
                  <a:lnTo>
                    <a:pt x="1152" y="435"/>
                  </a:lnTo>
                  <a:lnTo>
                    <a:pt x="1156" y="397"/>
                  </a:lnTo>
                  <a:lnTo>
                    <a:pt x="1158" y="361"/>
                  </a:lnTo>
                  <a:lnTo>
                    <a:pt x="1160" y="325"/>
                  </a:lnTo>
                  <a:lnTo>
                    <a:pt x="1163" y="289"/>
                  </a:lnTo>
                  <a:lnTo>
                    <a:pt x="1166" y="256"/>
                  </a:lnTo>
                  <a:lnTo>
                    <a:pt x="1169" y="223"/>
                  </a:lnTo>
                  <a:lnTo>
                    <a:pt x="1171" y="193"/>
                  </a:lnTo>
                  <a:lnTo>
                    <a:pt x="1173" y="165"/>
                  </a:lnTo>
                  <a:lnTo>
                    <a:pt x="1177" y="139"/>
                  </a:lnTo>
                  <a:lnTo>
                    <a:pt x="1179" y="115"/>
                  </a:lnTo>
                  <a:lnTo>
                    <a:pt x="1181" y="93"/>
                  </a:lnTo>
                  <a:lnTo>
                    <a:pt x="1185" y="74"/>
                  </a:lnTo>
                  <a:lnTo>
                    <a:pt x="1187" y="57"/>
                  </a:lnTo>
                  <a:lnTo>
                    <a:pt x="1190" y="43"/>
                  </a:lnTo>
                  <a:lnTo>
                    <a:pt x="1192" y="31"/>
                  </a:lnTo>
                  <a:lnTo>
                    <a:pt x="1195" y="24"/>
                  </a:lnTo>
                  <a:lnTo>
                    <a:pt x="1198" y="18"/>
                  </a:lnTo>
                  <a:lnTo>
                    <a:pt x="1200" y="15"/>
                  </a:lnTo>
                  <a:lnTo>
                    <a:pt x="1202" y="16"/>
                  </a:lnTo>
                  <a:lnTo>
                    <a:pt x="1206" y="18"/>
                  </a:lnTo>
                  <a:lnTo>
                    <a:pt x="1208" y="25"/>
                  </a:lnTo>
                  <a:lnTo>
                    <a:pt x="1211" y="34"/>
                  </a:lnTo>
                  <a:lnTo>
                    <a:pt x="1214" y="46"/>
                  </a:lnTo>
                  <a:lnTo>
                    <a:pt x="1216" y="60"/>
                  </a:lnTo>
                  <a:lnTo>
                    <a:pt x="1219" y="77"/>
                  </a:lnTo>
                  <a:lnTo>
                    <a:pt x="1221" y="97"/>
                  </a:lnTo>
                  <a:lnTo>
                    <a:pt x="1225" y="121"/>
                  </a:lnTo>
                  <a:lnTo>
                    <a:pt x="1227" y="145"/>
                  </a:lnTo>
                  <a:lnTo>
                    <a:pt x="1229" y="173"/>
                  </a:lnTo>
                  <a:lnTo>
                    <a:pt x="1232" y="202"/>
                  </a:lnTo>
                  <a:lnTo>
                    <a:pt x="1235" y="233"/>
                  </a:lnTo>
                  <a:lnTo>
                    <a:pt x="1237" y="267"/>
                  </a:lnTo>
                  <a:lnTo>
                    <a:pt x="1240" y="301"/>
                  </a:lnTo>
                  <a:lnTo>
                    <a:pt x="1243" y="338"/>
                  </a:lnTo>
                  <a:lnTo>
                    <a:pt x="1246" y="376"/>
                  </a:lnTo>
                  <a:lnTo>
                    <a:pt x="1248" y="414"/>
                  </a:lnTo>
                  <a:lnTo>
                    <a:pt x="1250" y="454"/>
                  </a:lnTo>
                  <a:lnTo>
                    <a:pt x="1254" y="494"/>
                  </a:lnTo>
                  <a:lnTo>
                    <a:pt x="1256" y="535"/>
                  </a:lnTo>
                  <a:lnTo>
                    <a:pt x="1259" y="576"/>
                  </a:lnTo>
                  <a:lnTo>
                    <a:pt x="1261" y="617"/>
                  </a:lnTo>
                  <a:lnTo>
                    <a:pt x="1264" y="657"/>
                  </a:lnTo>
                  <a:lnTo>
                    <a:pt x="1267" y="697"/>
                  </a:lnTo>
                  <a:lnTo>
                    <a:pt x="1269" y="738"/>
                  </a:lnTo>
                  <a:lnTo>
                    <a:pt x="1271" y="775"/>
                  </a:lnTo>
                  <a:lnTo>
                    <a:pt x="1275" y="813"/>
                  </a:lnTo>
                  <a:lnTo>
                    <a:pt x="1277" y="850"/>
                  </a:lnTo>
                  <a:lnTo>
                    <a:pt x="1280" y="885"/>
                  </a:lnTo>
                  <a:lnTo>
                    <a:pt x="1283" y="918"/>
                  </a:lnTo>
                  <a:lnTo>
                    <a:pt x="1285" y="950"/>
                  </a:lnTo>
                  <a:lnTo>
                    <a:pt x="1288" y="979"/>
                  </a:lnTo>
                  <a:lnTo>
                    <a:pt x="1290" y="1005"/>
                  </a:lnTo>
                  <a:lnTo>
                    <a:pt x="1293" y="1031"/>
                  </a:lnTo>
                  <a:lnTo>
                    <a:pt x="1296" y="1053"/>
                  </a:lnTo>
                  <a:lnTo>
                    <a:pt x="1298" y="1072"/>
                  </a:lnTo>
                  <a:lnTo>
                    <a:pt x="1302" y="1090"/>
                  </a:lnTo>
                  <a:lnTo>
                    <a:pt x="1304" y="1103"/>
                  </a:lnTo>
                  <a:lnTo>
                    <a:pt x="1306" y="1116"/>
                  </a:lnTo>
                  <a:lnTo>
                    <a:pt x="1309" y="1124"/>
                  </a:lnTo>
                  <a:lnTo>
                    <a:pt x="1312" y="1129"/>
                  </a:lnTo>
                  <a:lnTo>
                    <a:pt x="1315" y="1131"/>
                  </a:lnTo>
                  <a:lnTo>
                    <a:pt x="1317" y="1131"/>
                  </a:lnTo>
                  <a:lnTo>
                    <a:pt x="1319" y="1128"/>
                  </a:lnTo>
                  <a:lnTo>
                    <a:pt x="1323" y="1121"/>
                  </a:lnTo>
                  <a:lnTo>
                    <a:pt x="1325" y="1111"/>
                  </a:lnTo>
                  <a:lnTo>
                    <a:pt x="1327" y="1099"/>
                  </a:lnTo>
                  <a:lnTo>
                    <a:pt x="1331" y="1083"/>
                  </a:lnTo>
                  <a:lnTo>
                    <a:pt x="1333" y="1066"/>
                  </a:lnTo>
                  <a:lnTo>
                    <a:pt x="1336" y="1045"/>
                  </a:lnTo>
                  <a:lnTo>
                    <a:pt x="1338" y="1022"/>
                  </a:lnTo>
                  <a:lnTo>
                    <a:pt x="1341" y="995"/>
                  </a:lnTo>
                  <a:lnTo>
                    <a:pt x="1344" y="967"/>
                  </a:lnTo>
                  <a:lnTo>
                    <a:pt x="1346" y="937"/>
                  </a:lnTo>
                  <a:lnTo>
                    <a:pt x="1350" y="905"/>
                  </a:lnTo>
                  <a:lnTo>
                    <a:pt x="1352" y="871"/>
                  </a:lnTo>
                  <a:lnTo>
                    <a:pt x="1354" y="836"/>
                  </a:lnTo>
                  <a:lnTo>
                    <a:pt x="1357" y="798"/>
                  </a:lnTo>
                  <a:lnTo>
                    <a:pt x="1360" y="760"/>
                  </a:lnTo>
                  <a:lnTo>
                    <a:pt x="1362" y="720"/>
                  </a:lnTo>
                  <a:lnTo>
                    <a:pt x="1365" y="680"/>
                  </a:lnTo>
                  <a:lnTo>
                    <a:pt x="1367" y="639"/>
                  </a:lnTo>
                  <a:lnTo>
                    <a:pt x="1371" y="598"/>
                  </a:lnTo>
                  <a:lnTo>
                    <a:pt x="1373" y="557"/>
                  </a:lnTo>
                  <a:lnTo>
                    <a:pt x="1375" y="514"/>
                  </a:lnTo>
                  <a:lnTo>
                    <a:pt x="1378" y="474"/>
                  </a:lnTo>
                  <a:lnTo>
                    <a:pt x="1381" y="433"/>
                  </a:lnTo>
                  <a:lnTo>
                    <a:pt x="1384" y="393"/>
                  </a:lnTo>
                  <a:lnTo>
                    <a:pt x="1386" y="354"/>
                  </a:lnTo>
                  <a:lnTo>
                    <a:pt x="1389" y="316"/>
                  </a:lnTo>
                  <a:lnTo>
                    <a:pt x="1392" y="280"/>
                  </a:lnTo>
                  <a:lnTo>
                    <a:pt x="1394" y="245"/>
                  </a:lnTo>
                  <a:lnTo>
                    <a:pt x="1396" y="211"/>
                  </a:lnTo>
                  <a:lnTo>
                    <a:pt x="1400" y="180"/>
                  </a:lnTo>
                  <a:lnTo>
                    <a:pt x="1402" y="151"/>
                  </a:lnTo>
                  <a:lnTo>
                    <a:pt x="1405" y="124"/>
                  </a:lnTo>
                  <a:lnTo>
                    <a:pt x="1407" y="100"/>
                  </a:lnTo>
                  <a:lnTo>
                    <a:pt x="1410" y="77"/>
                  </a:lnTo>
                  <a:lnTo>
                    <a:pt x="1413" y="57"/>
                  </a:lnTo>
                  <a:lnTo>
                    <a:pt x="1415" y="40"/>
                  </a:lnTo>
                  <a:lnTo>
                    <a:pt x="1418" y="27"/>
                  </a:lnTo>
                  <a:lnTo>
                    <a:pt x="1421" y="16"/>
                  </a:lnTo>
                  <a:lnTo>
                    <a:pt x="1423" y="7"/>
                  </a:lnTo>
                  <a:lnTo>
                    <a:pt x="1426" y="2"/>
                  </a:lnTo>
                  <a:lnTo>
                    <a:pt x="1429" y="0"/>
                  </a:lnTo>
                  <a:lnTo>
                    <a:pt x="1431" y="0"/>
                  </a:lnTo>
                  <a:lnTo>
                    <a:pt x="1434" y="5"/>
                  </a:lnTo>
                  <a:lnTo>
                    <a:pt x="1436" y="11"/>
                  </a:lnTo>
                  <a:lnTo>
                    <a:pt x="1440" y="21"/>
                  </a:lnTo>
                  <a:lnTo>
                    <a:pt x="1442" y="34"/>
                  </a:lnTo>
                  <a:lnTo>
                    <a:pt x="1444" y="49"/>
                  </a:lnTo>
                  <a:lnTo>
                    <a:pt x="1448" y="67"/>
                  </a:lnTo>
                  <a:lnTo>
                    <a:pt x="1450" y="88"/>
                  </a:lnTo>
                  <a:lnTo>
                    <a:pt x="1452" y="112"/>
                  </a:lnTo>
                  <a:lnTo>
                    <a:pt x="1455" y="137"/>
                  </a:lnTo>
                  <a:lnTo>
                    <a:pt x="1458" y="165"/>
                  </a:lnTo>
                  <a:lnTo>
                    <a:pt x="1461" y="195"/>
                  </a:lnTo>
                  <a:lnTo>
                    <a:pt x="1463" y="227"/>
                  </a:lnTo>
                  <a:lnTo>
                    <a:pt x="1465" y="261"/>
                  </a:lnTo>
                  <a:lnTo>
                    <a:pt x="1469" y="296"/>
                  </a:lnTo>
                  <a:lnTo>
                    <a:pt x="1471" y="333"/>
                  </a:lnTo>
                  <a:lnTo>
                    <a:pt x="1474" y="371"/>
                  </a:lnTo>
                  <a:lnTo>
                    <a:pt x="1477" y="410"/>
                  </a:lnTo>
                  <a:lnTo>
                    <a:pt x="1479" y="449"/>
                  </a:lnTo>
                  <a:lnTo>
                    <a:pt x="1482" y="489"/>
                  </a:lnTo>
                  <a:lnTo>
                    <a:pt x="1484" y="530"/>
                  </a:lnTo>
                  <a:lnTo>
                    <a:pt x="1487" y="570"/>
                  </a:lnTo>
                  <a:lnTo>
                    <a:pt x="1490" y="610"/>
                  </a:lnTo>
                  <a:lnTo>
                    <a:pt x="1492" y="651"/>
                  </a:lnTo>
                  <a:lnTo>
                    <a:pt x="1496" y="691"/>
                  </a:lnTo>
                  <a:lnTo>
                    <a:pt x="1498" y="730"/>
                  </a:lnTo>
                  <a:lnTo>
                    <a:pt x="1500" y="768"/>
                  </a:lnTo>
                  <a:lnTo>
                    <a:pt x="1503" y="804"/>
                  </a:lnTo>
                  <a:lnTo>
                    <a:pt x="1506" y="840"/>
                  </a:lnTo>
                  <a:lnTo>
                    <a:pt x="1509" y="874"/>
                  </a:lnTo>
                  <a:lnTo>
                    <a:pt x="1511" y="906"/>
                  </a:lnTo>
                  <a:lnTo>
                    <a:pt x="1513" y="936"/>
                  </a:lnTo>
                  <a:lnTo>
                    <a:pt x="1517" y="964"/>
                  </a:lnTo>
                  <a:lnTo>
                    <a:pt x="1519" y="991"/>
                  </a:lnTo>
                  <a:lnTo>
                    <a:pt x="1521" y="1014"/>
                  </a:lnTo>
                  <a:lnTo>
                    <a:pt x="1525" y="1035"/>
                  </a:lnTo>
                  <a:lnTo>
                    <a:pt x="1527" y="1054"/>
                  </a:lnTo>
                  <a:lnTo>
                    <a:pt x="1530" y="1070"/>
                  </a:lnTo>
                  <a:lnTo>
                    <a:pt x="1532" y="1083"/>
                  </a:lnTo>
                  <a:lnTo>
                    <a:pt x="1535" y="1093"/>
                  </a:lnTo>
                  <a:lnTo>
                    <a:pt x="1538" y="1101"/>
                  </a:lnTo>
                  <a:lnTo>
                    <a:pt x="1540" y="1107"/>
                  </a:lnTo>
                  <a:lnTo>
                    <a:pt x="1542" y="1108"/>
                  </a:lnTo>
                  <a:lnTo>
                    <a:pt x="1546" y="1107"/>
                  </a:lnTo>
                  <a:lnTo>
                    <a:pt x="1548" y="1103"/>
                  </a:lnTo>
                  <a:lnTo>
                    <a:pt x="1551" y="1097"/>
                  </a:lnTo>
                  <a:lnTo>
                    <a:pt x="1553" y="1087"/>
                  </a:lnTo>
                  <a:lnTo>
                    <a:pt x="1556" y="1074"/>
                  </a:lnTo>
                  <a:lnTo>
                    <a:pt x="1559" y="1060"/>
                  </a:lnTo>
                  <a:lnTo>
                    <a:pt x="1561" y="1042"/>
                  </a:lnTo>
                  <a:lnTo>
                    <a:pt x="1565" y="1022"/>
                  </a:lnTo>
                  <a:lnTo>
                    <a:pt x="1567" y="1000"/>
                  </a:lnTo>
                  <a:lnTo>
                    <a:pt x="1569" y="974"/>
                  </a:lnTo>
                  <a:lnTo>
                    <a:pt x="1572" y="947"/>
                  </a:lnTo>
                  <a:lnTo>
                    <a:pt x="1575" y="918"/>
                  </a:lnTo>
                  <a:lnTo>
                    <a:pt x="1577" y="888"/>
                  </a:lnTo>
                  <a:lnTo>
                    <a:pt x="1580" y="856"/>
                  </a:lnTo>
                  <a:lnTo>
                    <a:pt x="1582" y="822"/>
                  </a:lnTo>
                  <a:lnTo>
                    <a:pt x="1586" y="788"/>
                  </a:lnTo>
                  <a:lnTo>
                    <a:pt x="1588" y="751"/>
                  </a:lnTo>
                  <a:lnTo>
                    <a:pt x="1590" y="714"/>
                  </a:lnTo>
                  <a:lnTo>
                    <a:pt x="1594" y="677"/>
                  </a:lnTo>
                  <a:lnTo>
                    <a:pt x="1596" y="638"/>
                  </a:lnTo>
                  <a:lnTo>
                    <a:pt x="1599" y="600"/>
                  </a:lnTo>
                  <a:lnTo>
                    <a:pt x="1601" y="562"/>
                  </a:lnTo>
                  <a:lnTo>
                    <a:pt x="1604" y="523"/>
                  </a:lnTo>
                  <a:lnTo>
                    <a:pt x="1607" y="485"/>
                  </a:lnTo>
                  <a:lnTo>
                    <a:pt x="1609" y="449"/>
                  </a:lnTo>
                  <a:lnTo>
                    <a:pt x="1611" y="412"/>
                  </a:lnTo>
                  <a:lnTo>
                    <a:pt x="1615" y="376"/>
                  </a:lnTo>
                  <a:lnTo>
                    <a:pt x="1617" y="342"/>
                  </a:lnTo>
                  <a:lnTo>
                    <a:pt x="1620" y="309"/>
                  </a:lnTo>
                  <a:lnTo>
                    <a:pt x="1623" y="277"/>
                  </a:lnTo>
                  <a:lnTo>
                    <a:pt x="1625" y="247"/>
                  </a:lnTo>
                  <a:lnTo>
                    <a:pt x="1628" y="219"/>
                  </a:lnTo>
                  <a:lnTo>
                    <a:pt x="1630" y="193"/>
                  </a:lnTo>
                  <a:lnTo>
                    <a:pt x="1633" y="169"/>
                  </a:lnTo>
                  <a:lnTo>
                    <a:pt x="1636" y="146"/>
                  </a:lnTo>
                  <a:lnTo>
                    <a:pt x="1638" y="127"/>
                  </a:lnTo>
                  <a:lnTo>
                    <a:pt x="1642" y="110"/>
                  </a:lnTo>
                  <a:lnTo>
                    <a:pt x="1644" y="95"/>
                  </a:lnTo>
                  <a:lnTo>
                    <a:pt x="1646" y="83"/>
                  </a:lnTo>
                  <a:lnTo>
                    <a:pt x="1649" y="74"/>
                  </a:lnTo>
                  <a:lnTo>
                    <a:pt x="1652" y="66"/>
                  </a:lnTo>
                  <a:lnTo>
                    <a:pt x="1655" y="63"/>
                  </a:lnTo>
                  <a:lnTo>
                    <a:pt x="1657" y="60"/>
                  </a:lnTo>
                  <a:lnTo>
                    <a:pt x="1659" y="62"/>
                  </a:lnTo>
                  <a:lnTo>
                    <a:pt x="1663" y="66"/>
                  </a:lnTo>
                  <a:lnTo>
                    <a:pt x="1665" y="73"/>
                  </a:lnTo>
                  <a:lnTo>
                    <a:pt x="1667" y="82"/>
                  </a:lnTo>
                  <a:lnTo>
                    <a:pt x="1671" y="93"/>
                  </a:lnTo>
                  <a:lnTo>
                    <a:pt x="1673" y="107"/>
                  </a:lnTo>
                  <a:lnTo>
                    <a:pt x="1676" y="124"/>
                  </a:lnTo>
                  <a:lnTo>
                    <a:pt x="1678" y="143"/>
                  </a:lnTo>
                  <a:lnTo>
                    <a:pt x="1681" y="163"/>
                  </a:lnTo>
                  <a:lnTo>
                    <a:pt x="1684" y="187"/>
                  </a:lnTo>
                  <a:lnTo>
                    <a:pt x="1686" y="211"/>
                  </a:lnTo>
                  <a:lnTo>
                    <a:pt x="1689" y="238"/>
                  </a:lnTo>
                  <a:lnTo>
                    <a:pt x="1692" y="267"/>
                  </a:lnTo>
                  <a:lnTo>
                    <a:pt x="1694" y="296"/>
                  </a:lnTo>
                  <a:lnTo>
                    <a:pt x="1697" y="327"/>
                  </a:lnTo>
                  <a:lnTo>
                    <a:pt x="1700" y="359"/>
                  </a:lnTo>
                  <a:lnTo>
                    <a:pt x="1702" y="392"/>
                  </a:lnTo>
                  <a:lnTo>
                    <a:pt x="1705" y="426"/>
                  </a:lnTo>
                  <a:lnTo>
                    <a:pt x="1707" y="460"/>
                  </a:lnTo>
                  <a:lnTo>
                    <a:pt x="1711" y="496"/>
                  </a:lnTo>
                  <a:lnTo>
                    <a:pt x="1713" y="530"/>
                  </a:lnTo>
                  <a:lnTo>
                    <a:pt x="1715" y="565"/>
                  </a:lnTo>
                  <a:lnTo>
                    <a:pt x="1718" y="599"/>
                  </a:lnTo>
                  <a:lnTo>
                    <a:pt x="1721" y="634"/>
                  </a:lnTo>
                  <a:lnTo>
                    <a:pt x="1724" y="667"/>
                  </a:lnTo>
                  <a:lnTo>
                    <a:pt x="1726" y="701"/>
                  </a:lnTo>
                  <a:lnTo>
                    <a:pt x="1728" y="733"/>
                  </a:lnTo>
                  <a:lnTo>
                    <a:pt x="1732" y="764"/>
                  </a:lnTo>
                  <a:lnTo>
                    <a:pt x="1734" y="794"/>
                  </a:lnTo>
                  <a:lnTo>
                    <a:pt x="1736" y="822"/>
                  </a:lnTo>
                  <a:lnTo>
                    <a:pt x="1740" y="849"/>
                  </a:lnTo>
                  <a:lnTo>
                    <a:pt x="1742" y="875"/>
                  </a:lnTo>
                  <a:lnTo>
                    <a:pt x="1745" y="898"/>
                  </a:lnTo>
                  <a:lnTo>
                    <a:pt x="1747" y="919"/>
                  </a:lnTo>
                  <a:lnTo>
                    <a:pt x="1750" y="939"/>
                  </a:lnTo>
                  <a:lnTo>
                    <a:pt x="1753" y="956"/>
                  </a:lnTo>
                  <a:lnTo>
                    <a:pt x="1755" y="972"/>
                  </a:lnTo>
                  <a:lnTo>
                    <a:pt x="1757" y="985"/>
                  </a:lnTo>
                  <a:lnTo>
                    <a:pt x="1761" y="995"/>
                  </a:lnTo>
                  <a:lnTo>
                    <a:pt x="1763" y="1003"/>
                  </a:lnTo>
                  <a:lnTo>
                    <a:pt x="1766" y="1010"/>
                  </a:lnTo>
                  <a:lnTo>
                    <a:pt x="1769" y="1013"/>
                  </a:lnTo>
                  <a:lnTo>
                    <a:pt x="1771" y="1014"/>
                  </a:lnTo>
                  <a:lnTo>
                    <a:pt x="1774" y="1013"/>
                  </a:lnTo>
                  <a:lnTo>
                    <a:pt x="1776" y="1009"/>
                  </a:lnTo>
                  <a:lnTo>
                    <a:pt x="1780" y="1003"/>
                  </a:lnTo>
                  <a:lnTo>
                    <a:pt x="1782" y="994"/>
                  </a:lnTo>
                  <a:lnTo>
                    <a:pt x="1784" y="984"/>
                  </a:lnTo>
                  <a:lnTo>
                    <a:pt x="1788" y="971"/>
                  </a:lnTo>
                  <a:lnTo>
                    <a:pt x="1790" y="956"/>
                  </a:lnTo>
                  <a:lnTo>
                    <a:pt x="1792" y="939"/>
                  </a:lnTo>
                  <a:lnTo>
                    <a:pt x="1795" y="921"/>
                  </a:lnTo>
                  <a:lnTo>
                    <a:pt x="1798" y="900"/>
                  </a:lnTo>
                  <a:lnTo>
                    <a:pt x="1801" y="878"/>
                  </a:lnTo>
                  <a:lnTo>
                    <a:pt x="1803" y="855"/>
                  </a:lnTo>
                  <a:lnTo>
                    <a:pt x="1805" y="829"/>
                  </a:lnTo>
                  <a:lnTo>
                    <a:pt x="1809" y="802"/>
                  </a:lnTo>
                  <a:lnTo>
                    <a:pt x="1811" y="775"/>
                  </a:lnTo>
                  <a:lnTo>
                    <a:pt x="1814" y="748"/>
                  </a:lnTo>
                  <a:lnTo>
                    <a:pt x="1817" y="717"/>
                  </a:lnTo>
                  <a:lnTo>
                    <a:pt x="1819" y="688"/>
                  </a:lnTo>
                  <a:lnTo>
                    <a:pt x="1822" y="658"/>
                  </a:lnTo>
                  <a:lnTo>
                    <a:pt x="1824" y="627"/>
                  </a:lnTo>
                  <a:lnTo>
                    <a:pt x="1827" y="597"/>
                  </a:lnTo>
                  <a:lnTo>
                    <a:pt x="1830" y="567"/>
                  </a:lnTo>
                  <a:lnTo>
                    <a:pt x="1832" y="537"/>
                  </a:lnTo>
                  <a:lnTo>
                    <a:pt x="1835" y="507"/>
                  </a:lnTo>
                  <a:lnTo>
                    <a:pt x="1838" y="477"/>
                  </a:lnTo>
                  <a:lnTo>
                    <a:pt x="1840" y="449"/>
                  </a:lnTo>
                  <a:lnTo>
                    <a:pt x="1843" y="421"/>
                  </a:lnTo>
                  <a:lnTo>
                    <a:pt x="1846" y="394"/>
                  </a:lnTo>
                  <a:lnTo>
                    <a:pt x="1849" y="368"/>
                  </a:lnTo>
                  <a:lnTo>
                    <a:pt x="1851" y="344"/>
                  </a:lnTo>
                  <a:lnTo>
                    <a:pt x="1853" y="320"/>
                  </a:lnTo>
                  <a:lnTo>
                    <a:pt x="1857" y="299"/>
                  </a:lnTo>
                  <a:lnTo>
                    <a:pt x="1859" y="279"/>
                  </a:lnTo>
                  <a:lnTo>
                    <a:pt x="1861" y="260"/>
                  </a:lnTo>
                  <a:lnTo>
                    <a:pt x="1864" y="243"/>
                  </a:lnTo>
                  <a:lnTo>
                    <a:pt x="1867" y="229"/>
                  </a:lnTo>
                  <a:lnTo>
                    <a:pt x="1870" y="217"/>
                  </a:lnTo>
                  <a:lnTo>
                    <a:pt x="1872" y="205"/>
                  </a:lnTo>
                  <a:lnTo>
                    <a:pt x="1875" y="197"/>
                  </a:lnTo>
                  <a:lnTo>
                    <a:pt x="1878" y="190"/>
                  </a:lnTo>
                  <a:lnTo>
                    <a:pt x="1880" y="185"/>
                  </a:lnTo>
                  <a:lnTo>
                    <a:pt x="1882" y="182"/>
                  </a:lnTo>
                  <a:lnTo>
                    <a:pt x="1886" y="182"/>
                  </a:lnTo>
                  <a:lnTo>
                    <a:pt x="1888" y="183"/>
                  </a:lnTo>
                  <a:lnTo>
                    <a:pt x="1891" y="187"/>
                  </a:lnTo>
                  <a:lnTo>
                    <a:pt x="1893" y="192"/>
                  </a:lnTo>
                  <a:lnTo>
                    <a:pt x="1896" y="200"/>
                  </a:lnTo>
                  <a:lnTo>
                    <a:pt x="1899" y="209"/>
                  </a:lnTo>
                  <a:lnTo>
                    <a:pt x="1901" y="220"/>
                  </a:lnTo>
                  <a:lnTo>
                    <a:pt x="1905" y="232"/>
                  </a:lnTo>
                  <a:lnTo>
                    <a:pt x="1907" y="247"/>
                  </a:lnTo>
                  <a:lnTo>
                    <a:pt x="1909" y="263"/>
                  </a:lnTo>
                  <a:lnTo>
                    <a:pt x="1912" y="281"/>
                  </a:lnTo>
                  <a:lnTo>
                    <a:pt x="1915" y="299"/>
                  </a:lnTo>
                  <a:lnTo>
                    <a:pt x="1917" y="320"/>
                  </a:lnTo>
                  <a:lnTo>
                    <a:pt x="1920" y="342"/>
                  </a:lnTo>
                  <a:lnTo>
                    <a:pt x="1922" y="364"/>
                  </a:lnTo>
                  <a:lnTo>
                    <a:pt x="1926" y="386"/>
                  </a:lnTo>
                  <a:lnTo>
                    <a:pt x="1928" y="411"/>
                  </a:lnTo>
                  <a:lnTo>
                    <a:pt x="1930" y="435"/>
                  </a:lnTo>
                  <a:lnTo>
                    <a:pt x="1934" y="460"/>
                  </a:lnTo>
                  <a:lnTo>
                    <a:pt x="1936" y="485"/>
                  </a:lnTo>
                  <a:lnTo>
                    <a:pt x="1939" y="511"/>
                  </a:lnTo>
                  <a:lnTo>
                    <a:pt x="1941" y="536"/>
                  </a:lnTo>
                  <a:lnTo>
                    <a:pt x="1944" y="561"/>
                  </a:lnTo>
                  <a:lnTo>
                    <a:pt x="1947" y="587"/>
                  </a:lnTo>
                  <a:lnTo>
                    <a:pt x="1949" y="612"/>
                  </a:lnTo>
                  <a:lnTo>
                    <a:pt x="1951" y="636"/>
                  </a:lnTo>
                  <a:lnTo>
                    <a:pt x="1955" y="659"/>
                  </a:lnTo>
                  <a:lnTo>
                    <a:pt x="1957" y="683"/>
                  </a:lnTo>
                  <a:lnTo>
                    <a:pt x="1960" y="704"/>
                  </a:lnTo>
                  <a:lnTo>
                    <a:pt x="1963" y="725"/>
                  </a:lnTo>
                  <a:lnTo>
                    <a:pt x="1965" y="745"/>
                  </a:lnTo>
                  <a:lnTo>
                    <a:pt x="1968" y="764"/>
                  </a:lnTo>
                  <a:lnTo>
                    <a:pt x="1970" y="782"/>
                  </a:lnTo>
                  <a:lnTo>
                    <a:pt x="1973" y="798"/>
                  </a:lnTo>
                  <a:lnTo>
                    <a:pt x="1976" y="813"/>
                  </a:lnTo>
                  <a:lnTo>
                    <a:pt x="1978" y="827"/>
                  </a:lnTo>
                  <a:lnTo>
                    <a:pt x="1982" y="838"/>
                  </a:lnTo>
                  <a:lnTo>
                    <a:pt x="1984" y="848"/>
                  </a:lnTo>
                  <a:lnTo>
                    <a:pt x="1986" y="857"/>
                  </a:lnTo>
                  <a:lnTo>
                    <a:pt x="1989" y="864"/>
                  </a:lnTo>
                  <a:lnTo>
                    <a:pt x="1992" y="869"/>
                  </a:lnTo>
                  <a:lnTo>
                    <a:pt x="1995" y="873"/>
                  </a:lnTo>
                  <a:lnTo>
                    <a:pt x="1997" y="875"/>
                  </a:lnTo>
                  <a:lnTo>
                    <a:pt x="1999" y="875"/>
                  </a:lnTo>
                  <a:lnTo>
                    <a:pt x="2003" y="874"/>
                  </a:lnTo>
                  <a:lnTo>
                    <a:pt x="2005" y="870"/>
                  </a:lnTo>
                  <a:lnTo>
                    <a:pt x="2007" y="866"/>
                  </a:lnTo>
                  <a:lnTo>
                    <a:pt x="2010" y="859"/>
                  </a:lnTo>
                  <a:lnTo>
                    <a:pt x="2013" y="851"/>
                  </a:lnTo>
                  <a:lnTo>
                    <a:pt x="2016" y="842"/>
                  </a:lnTo>
                  <a:lnTo>
                    <a:pt x="2018" y="831"/>
                  </a:lnTo>
                  <a:lnTo>
                    <a:pt x="2021" y="820"/>
                  </a:lnTo>
                  <a:lnTo>
                    <a:pt x="2024" y="807"/>
                  </a:lnTo>
                  <a:lnTo>
                    <a:pt x="2026" y="792"/>
                  </a:lnTo>
                  <a:lnTo>
                    <a:pt x="2029" y="777"/>
                  </a:lnTo>
                  <a:lnTo>
                    <a:pt x="2032" y="761"/>
                  </a:lnTo>
                  <a:lnTo>
                    <a:pt x="2034" y="743"/>
                  </a:lnTo>
                  <a:lnTo>
                    <a:pt x="2037" y="725"/>
                  </a:lnTo>
                  <a:lnTo>
                    <a:pt x="2039" y="707"/>
                  </a:lnTo>
                  <a:lnTo>
                    <a:pt x="2042" y="688"/>
                  </a:lnTo>
                  <a:lnTo>
                    <a:pt x="2045" y="668"/>
                  </a:lnTo>
                  <a:lnTo>
                    <a:pt x="2047" y="648"/>
                  </a:lnTo>
                  <a:lnTo>
                    <a:pt x="2051" y="629"/>
                  </a:lnTo>
                  <a:lnTo>
                    <a:pt x="2053" y="608"/>
                  </a:lnTo>
                  <a:lnTo>
                    <a:pt x="2055" y="588"/>
                  </a:lnTo>
                  <a:lnTo>
                    <a:pt x="2058" y="569"/>
                  </a:lnTo>
                  <a:lnTo>
                    <a:pt x="2061" y="549"/>
                  </a:lnTo>
                  <a:lnTo>
                    <a:pt x="2064" y="529"/>
                  </a:lnTo>
                  <a:lnTo>
                    <a:pt x="2066" y="510"/>
                  </a:lnTo>
                  <a:lnTo>
                    <a:pt x="2068" y="492"/>
                  </a:lnTo>
                  <a:lnTo>
                    <a:pt x="2072" y="474"/>
                  </a:lnTo>
                  <a:lnTo>
                    <a:pt x="2074" y="458"/>
                  </a:lnTo>
                  <a:lnTo>
                    <a:pt x="2076" y="441"/>
                  </a:lnTo>
                  <a:lnTo>
                    <a:pt x="2080" y="425"/>
                  </a:lnTo>
                  <a:lnTo>
                    <a:pt x="2082" y="411"/>
                  </a:lnTo>
                  <a:lnTo>
                    <a:pt x="2085" y="397"/>
                  </a:lnTo>
                  <a:lnTo>
                    <a:pt x="2087" y="385"/>
                  </a:lnTo>
                  <a:lnTo>
                    <a:pt x="2090" y="374"/>
                  </a:lnTo>
                  <a:lnTo>
                    <a:pt x="2093" y="364"/>
                  </a:lnTo>
                  <a:lnTo>
                    <a:pt x="2095" y="355"/>
                  </a:lnTo>
                  <a:lnTo>
                    <a:pt x="2097" y="347"/>
                  </a:lnTo>
                  <a:lnTo>
                    <a:pt x="2101" y="342"/>
                  </a:lnTo>
                  <a:lnTo>
                    <a:pt x="2103" y="336"/>
                  </a:lnTo>
                  <a:lnTo>
                    <a:pt x="2106" y="333"/>
                  </a:lnTo>
                  <a:lnTo>
                    <a:pt x="2109" y="330"/>
                  </a:lnTo>
                  <a:lnTo>
                    <a:pt x="2111" y="329"/>
                  </a:lnTo>
                  <a:lnTo>
                    <a:pt x="2114" y="329"/>
                  </a:lnTo>
                  <a:lnTo>
                    <a:pt x="2116" y="330"/>
                  </a:lnTo>
                  <a:lnTo>
                    <a:pt x="2120" y="334"/>
                  </a:lnTo>
                  <a:lnTo>
                    <a:pt x="2122" y="337"/>
                  </a:lnTo>
                  <a:lnTo>
                    <a:pt x="2124" y="343"/>
                  </a:lnTo>
                  <a:lnTo>
                    <a:pt x="2128" y="348"/>
                  </a:lnTo>
                  <a:lnTo>
                    <a:pt x="2130" y="356"/>
                  </a:lnTo>
                  <a:lnTo>
                    <a:pt x="2132" y="364"/>
                  </a:lnTo>
                  <a:lnTo>
                    <a:pt x="2135" y="373"/>
                  </a:lnTo>
                  <a:lnTo>
                    <a:pt x="2138" y="383"/>
                  </a:lnTo>
                  <a:lnTo>
                    <a:pt x="2141" y="394"/>
                  </a:lnTo>
                  <a:lnTo>
                    <a:pt x="2143" y="406"/>
                  </a:lnTo>
                  <a:lnTo>
                    <a:pt x="2145" y="419"/>
                  </a:lnTo>
                  <a:lnTo>
                    <a:pt x="2149" y="431"/>
                  </a:lnTo>
                  <a:lnTo>
                    <a:pt x="2151" y="444"/>
                  </a:lnTo>
                  <a:lnTo>
                    <a:pt x="2154" y="459"/>
                  </a:lnTo>
                  <a:lnTo>
                    <a:pt x="2157" y="473"/>
                  </a:lnTo>
                  <a:lnTo>
                    <a:pt x="2159" y="488"/>
                  </a:lnTo>
                  <a:lnTo>
                    <a:pt x="2162" y="502"/>
                  </a:lnTo>
                  <a:lnTo>
                    <a:pt x="2164" y="517"/>
                  </a:lnTo>
                  <a:lnTo>
                    <a:pt x="2167" y="531"/>
                  </a:lnTo>
                  <a:lnTo>
                    <a:pt x="2170" y="547"/>
                  </a:lnTo>
                  <a:lnTo>
                    <a:pt x="2172" y="561"/>
                  </a:lnTo>
                  <a:lnTo>
                    <a:pt x="2175" y="576"/>
                  </a:lnTo>
                  <a:lnTo>
                    <a:pt x="2178" y="589"/>
                  </a:lnTo>
                  <a:lnTo>
                    <a:pt x="2180" y="603"/>
                  </a:lnTo>
                  <a:lnTo>
                    <a:pt x="2183" y="616"/>
                  </a:lnTo>
                  <a:lnTo>
                    <a:pt x="2185" y="629"/>
                  </a:lnTo>
                  <a:lnTo>
                    <a:pt x="2189" y="642"/>
                  </a:lnTo>
                  <a:lnTo>
                    <a:pt x="2191" y="653"/>
                  </a:lnTo>
                  <a:lnTo>
                    <a:pt x="2193" y="664"/>
                  </a:lnTo>
                  <a:lnTo>
                    <a:pt x="2197" y="674"/>
                  </a:lnTo>
                  <a:lnTo>
                    <a:pt x="2199" y="683"/>
                  </a:lnTo>
                  <a:lnTo>
                    <a:pt x="2201" y="692"/>
                  </a:lnTo>
                  <a:lnTo>
                    <a:pt x="2204" y="700"/>
                  </a:lnTo>
                  <a:lnTo>
                    <a:pt x="2207" y="706"/>
                  </a:lnTo>
                  <a:lnTo>
                    <a:pt x="2210" y="713"/>
                  </a:lnTo>
                  <a:lnTo>
                    <a:pt x="2212" y="717"/>
                  </a:lnTo>
                  <a:lnTo>
                    <a:pt x="2214" y="722"/>
                  </a:lnTo>
                  <a:lnTo>
                    <a:pt x="2218" y="725"/>
                  </a:lnTo>
                  <a:lnTo>
                    <a:pt x="2220" y="728"/>
                  </a:lnTo>
                  <a:lnTo>
                    <a:pt x="2222" y="729"/>
                  </a:lnTo>
                  <a:lnTo>
                    <a:pt x="2226" y="730"/>
                  </a:lnTo>
                  <a:lnTo>
                    <a:pt x="2228" y="729"/>
                  </a:lnTo>
                  <a:lnTo>
                    <a:pt x="2231" y="728"/>
                  </a:lnTo>
                  <a:lnTo>
                    <a:pt x="2233" y="725"/>
                  </a:lnTo>
                  <a:lnTo>
                    <a:pt x="2236" y="722"/>
                  </a:lnTo>
                  <a:lnTo>
                    <a:pt x="2239" y="719"/>
                  </a:lnTo>
                  <a:lnTo>
                    <a:pt x="2241" y="714"/>
                  </a:lnTo>
                  <a:lnTo>
                    <a:pt x="2245" y="709"/>
                  </a:lnTo>
                  <a:lnTo>
                    <a:pt x="2247" y="703"/>
                  </a:lnTo>
                  <a:lnTo>
                    <a:pt x="2249" y="696"/>
                  </a:lnTo>
                  <a:lnTo>
                    <a:pt x="2252" y="688"/>
                  </a:lnTo>
                  <a:lnTo>
                    <a:pt x="2255" y="681"/>
                  </a:lnTo>
                  <a:lnTo>
                    <a:pt x="2257" y="673"/>
                  </a:lnTo>
                  <a:lnTo>
                    <a:pt x="2260" y="664"/>
                  </a:lnTo>
                  <a:lnTo>
                    <a:pt x="2262" y="655"/>
                  </a:lnTo>
                  <a:lnTo>
                    <a:pt x="2266" y="646"/>
                  </a:lnTo>
                  <a:lnTo>
                    <a:pt x="2268" y="637"/>
                  </a:lnTo>
                  <a:lnTo>
                    <a:pt x="2270" y="627"/>
                  </a:lnTo>
                  <a:lnTo>
                    <a:pt x="2274" y="617"/>
                  </a:lnTo>
                  <a:lnTo>
                    <a:pt x="2276" y="607"/>
                  </a:lnTo>
                  <a:lnTo>
                    <a:pt x="2279" y="597"/>
                  </a:lnTo>
                  <a:lnTo>
                    <a:pt x="2281" y="587"/>
                  </a:lnTo>
                  <a:lnTo>
                    <a:pt x="2284" y="578"/>
                  </a:lnTo>
                  <a:lnTo>
                    <a:pt x="2287" y="568"/>
                  </a:lnTo>
                  <a:lnTo>
                    <a:pt x="2289" y="558"/>
                  </a:lnTo>
                  <a:lnTo>
                    <a:pt x="2291" y="549"/>
                  </a:lnTo>
                  <a:lnTo>
                    <a:pt x="2295" y="540"/>
                  </a:lnTo>
                  <a:lnTo>
                    <a:pt x="2297" y="531"/>
                  </a:lnTo>
                  <a:lnTo>
                    <a:pt x="2300" y="523"/>
                  </a:lnTo>
                  <a:lnTo>
                    <a:pt x="2303" y="516"/>
                  </a:lnTo>
                  <a:lnTo>
                    <a:pt x="2305" y="508"/>
                  </a:lnTo>
                  <a:lnTo>
                    <a:pt x="2308" y="501"/>
                  </a:lnTo>
                  <a:lnTo>
                    <a:pt x="2310" y="496"/>
                  </a:lnTo>
                  <a:lnTo>
                    <a:pt x="2313" y="489"/>
                  </a:lnTo>
                  <a:lnTo>
                    <a:pt x="2316" y="484"/>
                  </a:lnTo>
                  <a:lnTo>
                    <a:pt x="2318" y="479"/>
                  </a:lnTo>
                  <a:lnTo>
                    <a:pt x="2321" y="475"/>
                  </a:lnTo>
                  <a:lnTo>
                    <a:pt x="2324" y="472"/>
                  </a:lnTo>
                  <a:lnTo>
                    <a:pt x="2326" y="469"/>
                  </a:lnTo>
                  <a:lnTo>
                    <a:pt x="2329" y="467"/>
                  </a:lnTo>
                  <a:lnTo>
                    <a:pt x="2332" y="464"/>
                  </a:lnTo>
                  <a:lnTo>
                    <a:pt x="2335" y="463"/>
                  </a:lnTo>
                  <a:lnTo>
                    <a:pt x="2337" y="463"/>
                  </a:lnTo>
                  <a:lnTo>
                    <a:pt x="2339" y="463"/>
                  </a:lnTo>
                  <a:lnTo>
                    <a:pt x="2343" y="463"/>
                  </a:lnTo>
                  <a:lnTo>
                    <a:pt x="2345" y="464"/>
                  </a:lnTo>
                  <a:lnTo>
                    <a:pt x="2347" y="467"/>
                  </a:lnTo>
                  <a:lnTo>
                    <a:pt x="2350" y="469"/>
                  </a:lnTo>
                  <a:lnTo>
                    <a:pt x="2353" y="471"/>
                  </a:lnTo>
                  <a:lnTo>
                    <a:pt x="2356" y="474"/>
                  </a:lnTo>
                  <a:lnTo>
                    <a:pt x="2358" y="478"/>
                  </a:lnTo>
                  <a:lnTo>
                    <a:pt x="2360" y="482"/>
                  </a:lnTo>
                  <a:lnTo>
                    <a:pt x="2364" y="485"/>
                  </a:lnTo>
                  <a:lnTo>
                    <a:pt x="2366" y="491"/>
                  </a:lnTo>
                  <a:lnTo>
                    <a:pt x="2369" y="496"/>
                  </a:lnTo>
                  <a:lnTo>
                    <a:pt x="2372" y="500"/>
                  </a:lnTo>
                  <a:lnTo>
                    <a:pt x="2374" y="506"/>
                  </a:lnTo>
                  <a:lnTo>
                    <a:pt x="2377" y="511"/>
                  </a:lnTo>
                  <a:lnTo>
                    <a:pt x="2379" y="517"/>
                  </a:lnTo>
                  <a:lnTo>
                    <a:pt x="2382" y="522"/>
                  </a:lnTo>
                  <a:lnTo>
                    <a:pt x="2385" y="528"/>
                  </a:lnTo>
                  <a:lnTo>
                    <a:pt x="2387" y="535"/>
                  </a:lnTo>
                  <a:lnTo>
                    <a:pt x="2391" y="540"/>
                  </a:lnTo>
                  <a:lnTo>
                    <a:pt x="2393" y="546"/>
                  </a:lnTo>
                  <a:lnTo>
                    <a:pt x="2395" y="551"/>
                  </a:lnTo>
                  <a:lnTo>
                    <a:pt x="2398" y="557"/>
                  </a:lnTo>
                  <a:lnTo>
                    <a:pt x="2401" y="562"/>
                  </a:lnTo>
                  <a:lnTo>
                    <a:pt x="2404" y="568"/>
                  </a:lnTo>
                  <a:lnTo>
                    <a:pt x="2406" y="574"/>
                  </a:lnTo>
                  <a:lnTo>
                    <a:pt x="2408" y="578"/>
                  </a:lnTo>
                  <a:lnTo>
                    <a:pt x="2412" y="583"/>
                  </a:lnTo>
                  <a:lnTo>
                    <a:pt x="2414" y="587"/>
                  </a:lnTo>
                  <a:lnTo>
                    <a:pt x="2416" y="591"/>
                  </a:lnTo>
                  <a:lnTo>
                    <a:pt x="2420" y="595"/>
                  </a:lnTo>
                  <a:lnTo>
                    <a:pt x="2422" y="599"/>
                  </a:lnTo>
                  <a:lnTo>
                    <a:pt x="2425" y="601"/>
                  </a:lnTo>
                  <a:lnTo>
                    <a:pt x="2427" y="605"/>
                  </a:lnTo>
                  <a:lnTo>
                    <a:pt x="2430" y="607"/>
                  </a:lnTo>
                  <a:lnTo>
                    <a:pt x="2433" y="609"/>
                  </a:lnTo>
                  <a:lnTo>
                    <a:pt x="2435" y="612"/>
                  </a:lnTo>
                  <a:lnTo>
                    <a:pt x="2437" y="614"/>
                  </a:lnTo>
                  <a:lnTo>
                    <a:pt x="2441" y="615"/>
                  </a:lnTo>
                  <a:lnTo>
                    <a:pt x="2443" y="616"/>
                  </a:lnTo>
                  <a:lnTo>
                    <a:pt x="2446" y="616"/>
                  </a:lnTo>
                  <a:lnTo>
                    <a:pt x="2449" y="616"/>
                  </a:lnTo>
                  <a:lnTo>
                    <a:pt x="2451" y="616"/>
                  </a:lnTo>
                  <a:lnTo>
                    <a:pt x="2454" y="616"/>
                  </a:lnTo>
                  <a:lnTo>
                    <a:pt x="2456" y="616"/>
                  </a:lnTo>
                  <a:lnTo>
                    <a:pt x="2460" y="615"/>
                  </a:lnTo>
                  <a:lnTo>
                    <a:pt x="2462" y="614"/>
                  </a:lnTo>
                  <a:lnTo>
                    <a:pt x="2464" y="613"/>
                  </a:lnTo>
                  <a:lnTo>
                    <a:pt x="2467" y="610"/>
                  </a:lnTo>
                  <a:lnTo>
                    <a:pt x="2470" y="609"/>
                  </a:lnTo>
                  <a:lnTo>
                    <a:pt x="2472" y="607"/>
                  </a:lnTo>
                  <a:lnTo>
                    <a:pt x="2475" y="605"/>
                  </a:lnTo>
                  <a:lnTo>
                    <a:pt x="2478" y="603"/>
                  </a:lnTo>
                  <a:lnTo>
                    <a:pt x="2481" y="600"/>
                  </a:lnTo>
                  <a:lnTo>
                    <a:pt x="2483" y="597"/>
                  </a:lnTo>
                  <a:lnTo>
                    <a:pt x="2485" y="595"/>
                  </a:lnTo>
                  <a:lnTo>
                    <a:pt x="2489" y="593"/>
                  </a:lnTo>
                  <a:lnTo>
                    <a:pt x="2491" y="589"/>
                  </a:lnTo>
                  <a:lnTo>
                    <a:pt x="2494" y="587"/>
                  </a:lnTo>
                  <a:lnTo>
                    <a:pt x="2496" y="584"/>
                  </a:lnTo>
                  <a:lnTo>
                    <a:pt x="2499" y="581"/>
                  </a:lnTo>
                  <a:lnTo>
                    <a:pt x="2502" y="578"/>
                  </a:lnTo>
                  <a:lnTo>
                    <a:pt x="2504" y="576"/>
                  </a:lnTo>
                  <a:lnTo>
                    <a:pt x="2507" y="574"/>
                  </a:lnTo>
                  <a:lnTo>
                    <a:pt x="2510" y="570"/>
                  </a:lnTo>
                  <a:lnTo>
                    <a:pt x="2512" y="568"/>
                  </a:lnTo>
                  <a:lnTo>
                    <a:pt x="2515" y="566"/>
                  </a:lnTo>
                  <a:lnTo>
                    <a:pt x="2518" y="564"/>
                  </a:lnTo>
                  <a:lnTo>
                    <a:pt x="2520" y="561"/>
                  </a:lnTo>
                  <a:lnTo>
                    <a:pt x="2523" y="559"/>
                  </a:lnTo>
                  <a:lnTo>
                    <a:pt x="2525" y="558"/>
                  </a:lnTo>
                  <a:lnTo>
                    <a:pt x="2529" y="556"/>
                  </a:lnTo>
                  <a:lnTo>
                    <a:pt x="2531" y="555"/>
                  </a:lnTo>
                  <a:lnTo>
                    <a:pt x="2533" y="552"/>
                  </a:lnTo>
                  <a:lnTo>
                    <a:pt x="2537" y="551"/>
                  </a:lnTo>
                  <a:lnTo>
                    <a:pt x="2539" y="550"/>
                  </a:lnTo>
                  <a:lnTo>
                    <a:pt x="2541" y="549"/>
                  </a:lnTo>
                  <a:lnTo>
                    <a:pt x="2544" y="549"/>
                  </a:lnTo>
                  <a:lnTo>
                    <a:pt x="2547" y="548"/>
                  </a:lnTo>
                  <a:lnTo>
                    <a:pt x="2550" y="548"/>
                  </a:lnTo>
                  <a:lnTo>
                    <a:pt x="2552" y="547"/>
                  </a:lnTo>
                  <a:lnTo>
                    <a:pt x="2554" y="547"/>
                  </a:lnTo>
                  <a:lnTo>
                    <a:pt x="2558" y="547"/>
                  </a:lnTo>
                  <a:lnTo>
                    <a:pt x="2560" y="547"/>
                  </a:lnTo>
                  <a:lnTo>
                    <a:pt x="2562" y="547"/>
                  </a:lnTo>
                  <a:lnTo>
                    <a:pt x="2566" y="547"/>
                  </a:lnTo>
                  <a:lnTo>
                    <a:pt x="2568" y="548"/>
                  </a:lnTo>
                  <a:lnTo>
                    <a:pt x="2571" y="548"/>
                  </a:lnTo>
                  <a:lnTo>
                    <a:pt x="2573" y="549"/>
                  </a:lnTo>
                  <a:lnTo>
                    <a:pt x="2576" y="549"/>
                  </a:lnTo>
                  <a:lnTo>
                    <a:pt x="2579" y="550"/>
                  </a:lnTo>
                  <a:lnTo>
                    <a:pt x="2581" y="551"/>
                  </a:lnTo>
                  <a:lnTo>
                    <a:pt x="2585" y="551"/>
                  </a:lnTo>
                  <a:lnTo>
                    <a:pt x="2587" y="552"/>
                  </a:lnTo>
                  <a:lnTo>
                    <a:pt x="2589" y="554"/>
                  </a:lnTo>
                  <a:lnTo>
                    <a:pt x="2592" y="554"/>
                  </a:lnTo>
                  <a:lnTo>
                    <a:pt x="2595" y="555"/>
                  </a:lnTo>
                  <a:lnTo>
                    <a:pt x="2597" y="556"/>
                  </a:lnTo>
                  <a:lnTo>
                    <a:pt x="2600" y="557"/>
                  </a:lnTo>
                  <a:lnTo>
                    <a:pt x="2602" y="558"/>
                  </a:lnTo>
                  <a:lnTo>
                    <a:pt x="2606" y="558"/>
                  </a:lnTo>
                  <a:lnTo>
                    <a:pt x="2608" y="559"/>
                  </a:lnTo>
                  <a:lnTo>
                    <a:pt x="2610" y="560"/>
                  </a:lnTo>
                  <a:lnTo>
                    <a:pt x="2614" y="561"/>
                  </a:lnTo>
                  <a:lnTo>
                    <a:pt x="2616" y="561"/>
                  </a:lnTo>
                  <a:lnTo>
                    <a:pt x="2619" y="562"/>
                  </a:lnTo>
                  <a:lnTo>
                    <a:pt x="2621" y="562"/>
                  </a:lnTo>
                  <a:lnTo>
                    <a:pt x="2624" y="564"/>
                  </a:lnTo>
                  <a:lnTo>
                    <a:pt x="2627" y="564"/>
                  </a:lnTo>
                  <a:lnTo>
                    <a:pt x="2629" y="565"/>
                  </a:lnTo>
                  <a:lnTo>
                    <a:pt x="2631" y="565"/>
                  </a:lnTo>
                  <a:lnTo>
                    <a:pt x="2635" y="566"/>
                  </a:lnTo>
                  <a:lnTo>
                    <a:pt x="2637" y="566"/>
                  </a:lnTo>
                  <a:lnTo>
                    <a:pt x="2640" y="566"/>
                  </a:lnTo>
                  <a:lnTo>
                    <a:pt x="2642" y="566"/>
                  </a:lnTo>
                  <a:lnTo>
                    <a:pt x="2645" y="567"/>
                  </a:lnTo>
                  <a:lnTo>
                    <a:pt x="2648" y="567"/>
                  </a:lnTo>
                  <a:lnTo>
                    <a:pt x="2650" y="567"/>
                  </a:lnTo>
                  <a:lnTo>
                    <a:pt x="2653" y="567"/>
                  </a:lnTo>
                  <a:lnTo>
                    <a:pt x="2656" y="567"/>
                  </a:lnTo>
                  <a:lnTo>
                    <a:pt x="2658" y="567"/>
                  </a:lnTo>
                  <a:lnTo>
                    <a:pt x="2661" y="567"/>
                  </a:lnTo>
                  <a:lnTo>
                    <a:pt x="2664" y="567"/>
                  </a:lnTo>
                  <a:lnTo>
                    <a:pt x="2666" y="567"/>
                  </a:lnTo>
                  <a:lnTo>
                    <a:pt x="2669" y="567"/>
                  </a:lnTo>
                  <a:lnTo>
                    <a:pt x="2671" y="566"/>
                  </a:lnTo>
                  <a:lnTo>
                    <a:pt x="2675" y="566"/>
                  </a:lnTo>
                  <a:lnTo>
                    <a:pt x="2677" y="566"/>
                  </a:lnTo>
                  <a:lnTo>
                    <a:pt x="2679" y="566"/>
                  </a:lnTo>
                  <a:lnTo>
                    <a:pt x="2683" y="566"/>
                  </a:lnTo>
                  <a:lnTo>
                    <a:pt x="2685" y="566"/>
                  </a:lnTo>
                  <a:lnTo>
                    <a:pt x="2687" y="566"/>
                  </a:lnTo>
                  <a:lnTo>
                    <a:pt x="2690" y="566"/>
                  </a:lnTo>
                  <a:lnTo>
                    <a:pt x="2693" y="566"/>
                  </a:lnTo>
                  <a:lnTo>
                    <a:pt x="2696" y="565"/>
                  </a:lnTo>
                  <a:lnTo>
                    <a:pt x="2698" y="565"/>
                  </a:lnTo>
                  <a:lnTo>
                    <a:pt x="2700" y="565"/>
                  </a:lnTo>
                  <a:lnTo>
                    <a:pt x="2704" y="565"/>
                  </a:lnTo>
                  <a:lnTo>
                    <a:pt x="2706" y="565"/>
                  </a:lnTo>
                  <a:lnTo>
                    <a:pt x="2709" y="565"/>
                  </a:lnTo>
                  <a:lnTo>
                    <a:pt x="2712" y="565"/>
                  </a:lnTo>
                  <a:lnTo>
                    <a:pt x="2714" y="565"/>
                  </a:lnTo>
                  <a:lnTo>
                    <a:pt x="2717" y="565"/>
                  </a:lnTo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156280" y="4073400"/>
              <a:ext cx="3187800" cy="1389240"/>
            </a:xfrm>
            <a:custGeom>
              <a:avLst/>
              <a:gdLst/>
              <a:ahLst/>
              <a:rect l="l" t="t" r="r" b="b"/>
              <a:pathLst>
                <a:path w="3186" h="1138">
                  <a:moveTo>
                    <a:pt x="0" y="113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86" y="0"/>
                  </a:lnTo>
                  <a:lnTo>
                    <a:pt x="3186" y="1138"/>
                  </a:lnTo>
                  <a:lnTo>
                    <a:pt x="3186" y="1138"/>
                  </a:lnTo>
                  <a:lnTo>
                    <a:pt x="0" y="1138"/>
                  </a:lnTo>
                  <a:close/>
                </a:path>
              </a:pathLst>
            </a:custGeom>
            <a:noFill/>
            <a:ln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22560" y="5583240"/>
              <a:ext cx="33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66920" y="5583240"/>
              <a:ext cx="46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05040" y="5467320"/>
              <a:ext cx="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96960" y="5467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9240" y="5467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90504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30176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70028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0988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49876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89548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2940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9396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9104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175600" y="5583240"/>
              <a:ext cx="33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519960" y="5583240"/>
              <a:ext cx="46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57720" y="5467320"/>
              <a:ext cx="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50000" y="5467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342280" y="5467320"/>
              <a:ext cx="1800" cy="10152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15772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5548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95296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5148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518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4852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4704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94700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344080" y="5467320"/>
              <a:ext cx="0" cy="525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175600" y="3621240"/>
              <a:ext cx="333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519960" y="3621240"/>
              <a:ext cx="46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57720" y="3505320"/>
              <a:ext cx="0" cy="1029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50000" y="3505320"/>
              <a:ext cx="1800" cy="1029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342280" y="3505320"/>
              <a:ext cx="1800" cy="10296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15772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5548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95296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148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518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4852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54704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94700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344080" y="3505320"/>
              <a:ext cx="0" cy="5220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7800" y="2214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820800" y="2357280"/>
              <a:ext cx="84240" cy="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820800" y="3278160"/>
              <a:ext cx="84240" cy="1440"/>
            </a:xfrm>
            <a:prstGeom prst="line">
              <a:avLst/>
            </a:prstGeom>
            <a:ln w="9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91840" y="3139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525-75AB-4EB7-BBB8-DA7EF541C053}" type="slidenum">
              <a:t>68</a:t>
            </a:fld>
          </a:p>
        </p:txBody>
      </p:sp>
    </p:spTree>
  </p:cSld>
  <p:transition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 flipH="1">
            <a:off x="685800" y="1851120"/>
            <a:ext cx="77724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abe preguntarse si el drástico cambio en la forma de onda n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alterará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indebidamente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E6E-E72D-4995-BFA8-6D0A08EBB04F}" type="slidenum">
              <a:t>69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70120" y="474804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1880" y="232416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79560" y="2181240"/>
            <a:ext cx="5170320" cy="284040"/>
            <a:chOff x="1879560" y="2181240"/>
            <a:chExt cx="5170320" cy="284040"/>
          </a:xfrm>
        </p:grpSpPr>
        <p:grpSp>
          <p:nvGrpSpPr>
            <p:cNvPr id="138" name=""/>
            <p:cNvGrpSpPr/>
            <p:nvPr/>
          </p:nvGrpSpPr>
          <p:grpSpPr>
            <a:xfrm>
              <a:off x="1879560" y="2181240"/>
              <a:ext cx="864720" cy="284040"/>
              <a:chOff x="1879560" y="2181240"/>
              <a:chExt cx="864720" cy="2840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1879560" y="2181240"/>
                <a:ext cx="430200" cy="284040"/>
                <a:chOff x="1879560" y="2181240"/>
                <a:chExt cx="430200" cy="284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87956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8720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9880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0212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311560" y="2181240"/>
                <a:ext cx="432720" cy="284040"/>
                <a:chOff x="2311560" y="2181240"/>
                <a:chExt cx="432720" cy="284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31156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41920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53080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63664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" name=""/>
            <p:cNvGrpSpPr/>
            <p:nvPr/>
          </p:nvGrpSpPr>
          <p:grpSpPr>
            <a:xfrm>
              <a:off x="2739600" y="2181240"/>
              <a:ext cx="864720" cy="284040"/>
              <a:chOff x="2739600" y="2181240"/>
              <a:chExt cx="864720" cy="2840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2739600" y="2181240"/>
                <a:ext cx="432000" cy="284040"/>
                <a:chOff x="2739600" y="2181240"/>
                <a:chExt cx="432000" cy="2840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73960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84724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5884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6396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170520" y="2181240"/>
                <a:ext cx="433800" cy="284040"/>
                <a:chOff x="3170520" y="2181240"/>
                <a:chExt cx="433800" cy="2840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17052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27924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39084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49668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" name=""/>
            <p:cNvGrpSpPr/>
            <p:nvPr/>
          </p:nvGrpSpPr>
          <p:grpSpPr>
            <a:xfrm>
              <a:off x="3598920" y="2181240"/>
              <a:ext cx="861840" cy="284040"/>
              <a:chOff x="3598920" y="2181240"/>
              <a:chExt cx="861840" cy="2840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598920" y="2181240"/>
                <a:ext cx="429480" cy="284040"/>
                <a:chOff x="3598920" y="2181240"/>
                <a:chExt cx="429480" cy="2840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59892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70440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811320" y="23227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2076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028400" y="2181240"/>
                <a:ext cx="432360" cy="284040"/>
                <a:chOff x="4028400" y="2181240"/>
                <a:chExt cx="432360" cy="2840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02840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13784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242600" y="23227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35312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4458240" y="2181240"/>
              <a:ext cx="864720" cy="284040"/>
              <a:chOff x="4458240" y="2181240"/>
              <a:chExt cx="864720" cy="28404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4458240" y="2181240"/>
                <a:ext cx="430200" cy="284040"/>
                <a:chOff x="4458240" y="2181240"/>
                <a:chExt cx="430200" cy="2840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45824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6516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67208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8080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888440" y="2181240"/>
                <a:ext cx="434520" cy="284040"/>
                <a:chOff x="4888440" y="2181240"/>
                <a:chExt cx="434520" cy="2840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88844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99788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0480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21532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5320080" y="2181240"/>
              <a:ext cx="864720" cy="284040"/>
              <a:chOff x="5320080" y="2181240"/>
              <a:chExt cx="864720" cy="284040"/>
            </a:xfrm>
          </p:grpSpPr>
          <p:sp>
            <p:nvSpPr>
              <p:cNvPr id="183" name=""/>
              <p:cNvSpPr/>
              <p:nvPr/>
            </p:nvSpPr>
            <p:spPr>
              <a:xfrm>
                <a:off x="5320080" y="218124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27720" y="218124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36440" y="232236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45160" y="232272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5751000" y="2181240"/>
                <a:ext cx="433800" cy="284040"/>
                <a:chOff x="5751000" y="2181240"/>
                <a:chExt cx="433800" cy="2840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75100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859720" y="21812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966640" y="23227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07716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6186600" y="2181240"/>
              <a:ext cx="863280" cy="284040"/>
              <a:chOff x="6186600" y="2181240"/>
              <a:chExt cx="863280" cy="28404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186600" y="2181240"/>
                <a:ext cx="430560" cy="284040"/>
                <a:chOff x="6186600" y="2181240"/>
                <a:chExt cx="430560" cy="2840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8660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29424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400080" y="23227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50952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616440" y="2181240"/>
                <a:ext cx="433440" cy="284040"/>
                <a:chOff x="6616440" y="2181240"/>
                <a:chExt cx="433440" cy="2840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61644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726960" y="21812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832800" y="23227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942240" y="23227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3" name=""/>
          <p:cNvSpPr/>
          <p:nvPr/>
        </p:nvSpPr>
        <p:spPr>
          <a:xfrm>
            <a:off x="7535880" y="4529160"/>
            <a:ext cx="38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92B-A5C0-4C18-BEFB-3829310BCD0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 flipH="1">
            <a:off x="685800" y="1488960"/>
            <a:ext cx="77724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La respuesta es que sí lo altera,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nsanchan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la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líneas espectral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empeorando, por lo tanto,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iscrimin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tonos de frecuencias muy cerca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291-03DF-455E-9224-F99C15ED5E11}" type="slidenum">
              <a:t>70</a:t>
            </a:fld>
          </a:p>
        </p:txBody>
      </p:sp>
    </p:spTree>
  </p:cSld>
  <p:transition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in embargo, en la mayoría de los casos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resultante e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más fiel a la realidad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que si se permiten los sal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F14-B571-4298-8620-001EFB34F6A0}" type="slidenum">
              <a:t>71</a:t>
            </a:fld>
          </a:p>
        </p:txBody>
      </p:sp>
    </p:spTree>
  </p:cSld>
  <p:transition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xisten muchos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tipos difere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ventanas, la elección de una u otra es una solución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mpromis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tre los parámetr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9F6-F059-4A7F-AEE4-5CFB84831B2A}" type="slidenum">
              <a:t>72</a:t>
            </a:fld>
          </a:p>
        </p:txBody>
      </p:sp>
    </p:spTree>
  </p:cSld>
  <p:transition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n general lo que está en juego es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educ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rrame espect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y el precio a pagar es ciert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érdida de discriminació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frecu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E2C5-09D2-4613-95AE-B8574C80A24E}" type="slidenum">
              <a:t>73</a:t>
            </a:fld>
          </a:p>
        </p:txBody>
      </p:sp>
    </p:spTree>
  </p:cSld>
  <p:transition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 flipH="1">
            <a:off x="903240" y="763560"/>
            <a:ext cx="7337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 falta de un criterio más exigente o específico, una de las más utilizadas es la ventana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Hann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1665360" y="3689280"/>
                <a:ext cx="59878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71" name=""/>
          <p:cNvGrpSpPr/>
          <p:nvPr/>
        </p:nvGrpSpPr>
        <p:grpSpPr>
          <a:xfrm>
            <a:off x="2898720" y="4648320"/>
            <a:ext cx="3348000" cy="1460520"/>
            <a:chOff x="2898720" y="4648320"/>
            <a:chExt cx="3348000" cy="1460520"/>
          </a:xfrm>
        </p:grpSpPr>
        <p:sp>
          <p:nvSpPr>
            <p:cNvPr id="1072" name=""/>
            <p:cNvSpPr/>
            <p:nvPr/>
          </p:nvSpPr>
          <p:spPr>
            <a:xfrm>
              <a:off x="5931000" y="5613480"/>
              <a:ext cx="315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3216240" y="5014800"/>
              <a:ext cx="0" cy="9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98720" y="4648320"/>
              <a:ext cx="701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"/>
            <p:cNvGrpSpPr/>
            <p:nvPr/>
          </p:nvGrpSpPr>
          <p:grpSpPr>
            <a:xfrm>
              <a:off x="3209760" y="5249520"/>
              <a:ext cx="2419560" cy="578160"/>
              <a:chOff x="3209760" y="5249520"/>
              <a:chExt cx="2419560" cy="5781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209760" y="5249520"/>
                <a:ext cx="1210680" cy="578160"/>
                <a:chOff x="3209760" y="5249520"/>
                <a:chExt cx="1210680" cy="578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209760" y="5537160"/>
                  <a:ext cx="60516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 flipV="1">
                  <a:off x="3814200" y="5249160"/>
                  <a:ext cx="60588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4418640" y="5249520"/>
                <a:ext cx="1210680" cy="578160"/>
                <a:chOff x="4418640" y="5249520"/>
                <a:chExt cx="1210680" cy="578160"/>
              </a:xfrm>
            </p:grpSpPr>
            <p:sp>
              <p:nvSpPr>
                <p:cNvPr id="1080" name=""/>
                <p:cNvSpPr/>
                <p:nvPr/>
              </p:nvSpPr>
              <p:spPr>
                <a:xfrm flipV="1">
                  <a:off x="4418640" y="5249160"/>
                  <a:ext cx="60516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>
                  <a:off x="5023080" y="5537160"/>
                  <a:ext cx="605880" cy="290520"/>
                </a:xfrm>
                <a:custGeom>
                  <a:avLst/>
                  <a:gdLst/>
                  <a:ahLst/>
                  <a:rect l="l" t="t" r="r" b="b"/>
                  <a:pathLst>
                    <a:path w="197" h="183">
                      <a:moveTo>
                        <a:pt x="197" y="0"/>
                      </a:moveTo>
                      <a:lnTo>
                        <a:pt x="188" y="15"/>
                      </a:lnTo>
                      <a:lnTo>
                        <a:pt x="167" y="42"/>
                      </a:lnTo>
                      <a:lnTo>
                        <a:pt x="137" y="83"/>
                      </a:lnTo>
                      <a:lnTo>
                        <a:pt x="128" y="95"/>
                      </a:lnTo>
                      <a:lnTo>
                        <a:pt x="107" y="119"/>
                      </a:lnTo>
                      <a:lnTo>
                        <a:pt x="98" y="129"/>
                      </a:lnTo>
                      <a:lnTo>
                        <a:pt x="77" y="149"/>
                      </a:lnTo>
                      <a:lnTo>
                        <a:pt x="60" y="162"/>
                      </a:lnTo>
                      <a:lnTo>
                        <a:pt x="51" y="169"/>
                      </a:lnTo>
                      <a:lnTo>
                        <a:pt x="39" y="174"/>
                      </a:lnTo>
                      <a:lnTo>
                        <a:pt x="25" y="180"/>
                      </a:lnTo>
                      <a:lnTo>
                        <a:pt x="16" y="182"/>
                      </a:lnTo>
                      <a:lnTo>
                        <a:pt x="9" y="182"/>
                      </a:lnTo>
                      <a:lnTo>
                        <a:pt x="0" y="183"/>
                      </a:lnTo>
                    </a:path>
                  </a:pathLst>
                </a:custGeom>
                <a:noFill/>
                <a:ln w="2844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2" name=""/>
            <p:cNvSpPr/>
            <p:nvPr/>
          </p:nvSpPr>
          <p:spPr>
            <a:xfrm>
              <a:off x="3013200" y="583416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489640" y="5837400"/>
              <a:ext cx="434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44960" y="4937040"/>
              <a:ext cx="7016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885-1D76-4897-9BA7-A5EED9994007}" type="slidenum">
              <a:t>74</a:t>
            </a:fld>
          </a:p>
        </p:txBody>
      </p:sp>
    </p:spTree>
  </p:cSld>
  <p:transition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paremos los espectros de un tono de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440 H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sin ventana y con vent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00F-1856-463D-AA9E-30BEA79F111F}" type="slidenum">
              <a:t>75</a:t>
            </a:fld>
          </a:p>
        </p:txBody>
      </p:sp>
    </p:spTree>
  </p:cSld>
  <p:transition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" descr=""/>
          <p:cNvPicPr/>
          <p:nvPr/>
        </p:nvPicPr>
        <p:blipFill>
          <a:blip r:embed="rId2"/>
          <a:stretch/>
        </p:blipFill>
        <p:spPr>
          <a:xfrm>
            <a:off x="73080" y="1438200"/>
            <a:ext cx="8997840" cy="478008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/>
          <p:nvPr/>
        </p:nvSpPr>
        <p:spPr>
          <a:xfrm flipH="1">
            <a:off x="903240" y="45720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Tono de 440 Hz, sin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5D6-BB66-4A50-8281-BD16AF9BDB0B}" type="slidenum">
              <a:t>76</a:t>
            </a:fld>
          </a:p>
        </p:txBody>
      </p:sp>
    </p:spTree>
  </p:cSld>
  <p:transition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 flipH="1">
            <a:off x="903240" y="45720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Tono de 440 Hz, ventana de H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2"/>
          <a:stretch/>
        </p:blipFill>
        <p:spPr>
          <a:xfrm>
            <a:off x="73080" y="1438200"/>
            <a:ext cx="8997840" cy="478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466-4716-4BEF-9529-8BB85FD10D23}" type="slidenum">
              <a:t>77</a:t>
            </a:fld>
          </a:p>
        </p:txBody>
      </p:sp>
    </p:spTree>
  </p:cSld>
  <p:transition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 flipH="1">
            <a:off x="903240" y="1488960"/>
            <a:ext cx="7337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Arial"/>
              </a:rPr>
              <a:t>Densidad espec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46B-6327-4090-BF84-3E846AD3B4D3}" type="slidenum">
              <a:t>78</a:t>
            </a:fld>
          </a:p>
        </p:txBody>
      </p:sp>
    </p:spTree>
  </p:cSld>
  <p:transition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 flipH="1">
            <a:off x="1004760" y="1197000"/>
            <a:ext cx="713448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espectr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de las señales muy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luctuant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las que no pueden identificarse tonos puros, como por ejemplo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mbiente, se describe por medio de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nsidad espectr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EF5-D893-406C-83EA-8004AF0221BC}" type="slidenum">
              <a:t>79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70120" y="452916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1880" y="251460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79560" y="2371680"/>
            <a:ext cx="5170320" cy="284040"/>
            <a:chOff x="1879560" y="2371680"/>
            <a:chExt cx="5170320" cy="284040"/>
          </a:xfrm>
        </p:grpSpPr>
        <p:grpSp>
          <p:nvGrpSpPr>
            <p:cNvPr id="208" name=""/>
            <p:cNvGrpSpPr/>
            <p:nvPr/>
          </p:nvGrpSpPr>
          <p:grpSpPr>
            <a:xfrm>
              <a:off x="1879560" y="2371680"/>
              <a:ext cx="864720" cy="284040"/>
              <a:chOff x="1879560" y="2371680"/>
              <a:chExt cx="864720" cy="2840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879560" y="2371680"/>
                <a:ext cx="430200" cy="284040"/>
                <a:chOff x="1879560" y="2371680"/>
                <a:chExt cx="430200" cy="2840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87956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98720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09880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0212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311560" y="2371680"/>
                <a:ext cx="432720" cy="284040"/>
                <a:chOff x="2311560" y="2371680"/>
                <a:chExt cx="432720" cy="2840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31156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41920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53080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63664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2739600" y="2371680"/>
              <a:ext cx="864720" cy="284040"/>
              <a:chOff x="2739600" y="2371680"/>
              <a:chExt cx="864720" cy="2840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2739600" y="2371680"/>
                <a:ext cx="432000" cy="284040"/>
                <a:chOff x="2739600" y="2371680"/>
                <a:chExt cx="432000" cy="284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73960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4724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884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6396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70520" y="2371680"/>
                <a:ext cx="433800" cy="284040"/>
                <a:chOff x="3170520" y="2371680"/>
                <a:chExt cx="433800" cy="2840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7052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27924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39084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49668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3598920" y="2371680"/>
              <a:ext cx="861840" cy="284040"/>
              <a:chOff x="3598920" y="2371680"/>
              <a:chExt cx="861840" cy="2840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3598920" y="2371680"/>
                <a:ext cx="429480" cy="284040"/>
                <a:chOff x="3598920" y="2371680"/>
                <a:chExt cx="429480" cy="2840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59892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70440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11320" y="25131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2076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028400" y="2371680"/>
                <a:ext cx="432360" cy="284040"/>
                <a:chOff x="4028400" y="2371680"/>
                <a:chExt cx="432360" cy="2840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02840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13784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242600" y="25131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35312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4458240" y="2371680"/>
              <a:ext cx="864720" cy="284040"/>
              <a:chOff x="4458240" y="2371680"/>
              <a:chExt cx="864720" cy="2840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458240" y="2371680"/>
                <a:ext cx="430200" cy="284040"/>
                <a:chOff x="4458240" y="2371680"/>
                <a:chExt cx="430200" cy="2840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45824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6516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7208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78080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888440" y="2371680"/>
                <a:ext cx="434520" cy="284040"/>
                <a:chOff x="4888440" y="2371680"/>
                <a:chExt cx="434520" cy="2840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88844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99788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0480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1532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5320080" y="2371680"/>
              <a:ext cx="864720" cy="284040"/>
              <a:chOff x="5320080" y="2371680"/>
              <a:chExt cx="864720" cy="284040"/>
            </a:xfrm>
          </p:grpSpPr>
          <p:sp>
            <p:nvSpPr>
              <p:cNvPr id="253" name=""/>
              <p:cNvSpPr/>
              <p:nvPr/>
            </p:nvSpPr>
            <p:spPr>
              <a:xfrm>
                <a:off x="5320080" y="237168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427720" y="237168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36440" y="251280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45160" y="251316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751000" y="2371680"/>
                <a:ext cx="433800" cy="284040"/>
                <a:chOff x="5751000" y="2371680"/>
                <a:chExt cx="433800" cy="2840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75100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859720" y="237168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66640" y="251316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7716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6186600" y="2371680"/>
              <a:ext cx="863280" cy="284040"/>
              <a:chOff x="6186600" y="2371680"/>
              <a:chExt cx="863280" cy="2840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186600" y="2371680"/>
                <a:ext cx="430560" cy="284040"/>
                <a:chOff x="6186600" y="2371680"/>
                <a:chExt cx="430560" cy="2840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18660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9424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400080" y="25131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50952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6616440" y="2371680"/>
                <a:ext cx="433440" cy="284040"/>
                <a:chOff x="6616440" y="2371680"/>
                <a:chExt cx="433440" cy="2840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661644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26960" y="237168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832800" y="251316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942240" y="251316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3" name=""/>
          <p:cNvSpPr/>
          <p:nvPr/>
        </p:nvSpPr>
        <p:spPr>
          <a:xfrm>
            <a:off x="7535880" y="4309920"/>
            <a:ext cx="382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AC7-42DE-4382-B4EE-0D985200B0D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 flipH="1">
            <a:off x="1004760" y="2098800"/>
            <a:ext cx="7134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Se define com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otencia med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largo plazo por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unidad de ancho de band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E6C-5E3B-4764-BB55-801931AE31C3}" type="slidenum">
              <a:t>80</a:t>
            </a:fld>
          </a:p>
        </p:txBody>
      </p:sp>
    </p:spTree>
  </p:cSld>
  <p:transition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 flipH="1">
            <a:off x="1004760" y="1566720"/>
            <a:ext cx="713448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NOTA: Si bien hablamos de </a:t>
            </a:r>
            <a:r>
              <a:rPr b="1" i="1" lang="es-ES_tradnl" sz="4000" spc="-1" strike="noStrike">
                <a:solidFill>
                  <a:srgbClr val="009999"/>
                </a:solidFill>
                <a:latin typeface="Arial"/>
              </a:rPr>
              <a:t>potencia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medi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en realidad nos referimos a cualquier variable asociada que se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proporcional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 la energía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3CC-0779-4826-A509-1C3F917F1CF1}" type="slidenum">
              <a:t>81</a:t>
            </a:fld>
          </a:p>
        </p:txBody>
      </p:sp>
    </p:spTree>
  </p:cSld>
  <p:transition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 flipH="1">
            <a:off x="1004760" y="1566720"/>
            <a:ext cx="713448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or ejemplo, velocidad al cuadrado, tensión eléctrica al  cuadrado, presión al cuadrado, etc. En general se toman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lores eficace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a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uadrad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579-3828-450F-AC21-886A9D69A71B}" type="slidenum">
              <a:t>82</a:t>
            </a:fld>
          </a:p>
        </p:txBody>
      </p:sp>
    </p:spTree>
  </p:cSld>
  <p:transition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 flipH="1">
            <a:off x="1004760" y="768240"/>
            <a:ext cx="71344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Formalmente,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2060640" y="1800360"/>
                <a:ext cx="502272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f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r>
                              <m:t xml:space="preserve">Δf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Δ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1" name=""/>
          <p:cNvGrpSpPr/>
          <p:nvPr/>
        </p:nvGrpSpPr>
        <p:grpSpPr>
          <a:xfrm>
            <a:off x="1004760" y="4057560"/>
            <a:ext cx="7134480" cy="1619280"/>
            <a:chOff x="1004760" y="4057560"/>
            <a:chExt cx="7134480" cy="1619280"/>
          </a:xfrm>
        </p:grpSpPr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1006560" y="4057560"/>
                  <a:ext cx="163656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f</m:t>
                          </m:r>
                          <m:r>
                            <m:t xml:space="preserve">,</m:t>
                          </m:r>
                          <m:r>
                            <m:t xml:space="preserve">Δf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f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03" name=""/>
            <p:cNvSpPr/>
            <p:nvPr/>
          </p:nvSpPr>
          <p:spPr>
            <a:xfrm flipH="1">
              <a:off x="1004760" y="4184640"/>
              <a:ext cx="713448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333399"/>
                  </a:solidFill>
                  <a:latin typeface="Arial"/>
                </a:rPr>
                <a:t>          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es la presión eficaz al cuadrado luego de atravesar un hipotético filtro centrado en </a:t>
              </a: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s-ES_tradnl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s-ES_tradnl" sz="2800" spc="-1" strike="noStrike">
                  <a:solidFill>
                    <a:srgbClr val="333399"/>
                  </a:solidFill>
                  <a:latin typeface="Arial"/>
                </a:rPr>
                <a:t>de ancho de banda</a:t>
              </a:r>
              <a:r>
                <a:rPr b="1" i="1" lang="es-ES_tradnl" sz="2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8F3-E0F6-4605-A320-530E6B3E7B5B}" type="slidenum">
              <a:t>83</a:t>
            </a:fld>
          </a:p>
        </p:txBody>
      </p:sp>
    </p:spTree>
  </p:cSld>
  <p:transition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820800" y="2336760"/>
            <a:ext cx="7500960" cy="1641600"/>
            <a:chOff x="820800" y="2336760"/>
            <a:chExt cx="7500960" cy="1641600"/>
          </a:xfrm>
        </p:grpSpPr>
        <p:sp>
          <p:nvSpPr>
            <p:cNvPr id="1105" name=""/>
            <p:cNvSpPr/>
            <p:nvPr/>
          </p:nvSpPr>
          <p:spPr>
            <a:xfrm>
              <a:off x="2095560" y="2336760"/>
              <a:ext cx="2481120" cy="16416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2281320" y="2534760"/>
              <a:ext cx="2111400" cy="1247040"/>
              <a:chOff x="2281320" y="2534760"/>
              <a:chExt cx="2111400" cy="1247040"/>
            </a:xfrm>
          </p:grpSpPr>
          <p:sp>
            <p:nvSpPr>
              <p:cNvPr id="1107" name=""/>
              <p:cNvSpPr/>
              <p:nvPr/>
            </p:nvSpPr>
            <p:spPr>
              <a:xfrm flipV="1">
                <a:off x="2368800" y="2534760"/>
                <a:ext cx="0" cy="9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281320" y="3463560"/>
                <a:ext cx="191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363760" y="2838240"/>
                <a:ext cx="1659240" cy="625320"/>
              </a:xfrm>
              <a:custGeom>
                <a:avLst/>
                <a:gdLst/>
                <a:ahLst/>
                <a:rect l="l" t="t" r="r" b="b"/>
                <a:pathLst>
                  <a:path w="1045" h="394">
                    <a:moveTo>
                      <a:pt x="0" y="394"/>
                    </a:moveTo>
                    <a:lnTo>
                      <a:pt x="391" y="393"/>
                    </a:lnTo>
                    <a:lnTo>
                      <a:pt x="391" y="0"/>
                    </a:lnTo>
                    <a:lnTo>
                      <a:pt x="671" y="0"/>
                    </a:lnTo>
                    <a:lnTo>
                      <a:pt x="671" y="393"/>
                    </a:lnTo>
                    <a:lnTo>
                      <a:pt x="1045" y="39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927520" y="3382920"/>
                <a:ext cx="47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854440" y="2866680"/>
                <a:ext cx="67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16440" y="3236760"/>
                <a:ext cx="47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1500120" y="3157560"/>
              <a:ext cx="5684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20800" y="286848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79920" y="2521080"/>
              <a:ext cx="13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i="1" lang="es-E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,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s-E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76680" y="3157560"/>
              <a:ext cx="1249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824440" y="2627280"/>
              <a:ext cx="1101960" cy="106056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029280" y="2897280"/>
              <a:ext cx="6984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ef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42240" y="3157560"/>
              <a:ext cx="5680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7431120" y="2854440"/>
              <a:ext cx="890640" cy="587520"/>
              <a:chOff x="7431120" y="2854440"/>
              <a:chExt cx="890640" cy="587520"/>
            </a:xfrm>
          </p:grpSpPr>
          <p:sp>
            <p:nvSpPr>
              <p:cNvPr id="1121" name=""/>
              <p:cNvSpPr/>
              <p:nvPr/>
            </p:nvSpPr>
            <p:spPr>
              <a:xfrm>
                <a:off x="7431120" y="2955960"/>
                <a:ext cx="89064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</a:t>
                </a:r>
                <a:r>
                  <a:rPr b="0" i="1" lang="es-E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es-E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</a:t>
                </a:r>
                <a:r>
                  <a:rPr b="0" lang="el-GR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i="1" lang="es-E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es-E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e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66200" y="2854440"/>
                <a:ext cx="360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966-9768-4B78-BD07-135ACF776CF3}" type="slidenum">
              <a:t>84</a:t>
            </a:fld>
          </a:p>
        </p:txBody>
      </p:sp>
    </p:spTree>
  </p:cSld>
  <p:transition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 flipH="1">
            <a:off x="1061280" y="623880"/>
            <a:ext cx="71341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mo consecuencia de la definición se puede obtener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valor eficaz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en un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anda de frecuencia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integrando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densidad espect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1685880" y="4413240"/>
                <a:ext cx="57704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bar>
                              <m:barPr>
                                <m:pos m:val="top"/>
                              </m:bar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df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05B-A514-4B83-A432-DC9F8279D451}" type="slidenum">
              <a:t>85</a:t>
            </a:fld>
          </a:p>
        </p:txBody>
      </p:sp>
    </p:spTree>
  </p:cSld>
  <p:transition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382760" y="4251240"/>
            <a:ext cx="626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527120" y="1900080"/>
            <a:ext cx="0" cy="25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103480" y="2309760"/>
            <a:ext cx="3629160" cy="1925640"/>
          </a:xfrm>
          <a:custGeom>
            <a:avLst/>
            <a:gdLst/>
            <a:ahLst/>
            <a:rect l="l" t="t" r="r" b="b"/>
            <a:pathLst>
              <a:path w="2286" h="1213">
                <a:moveTo>
                  <a:pt x="0" y="800"/>
                </a:moveTo>
                <a:lnTo>
                  <a:pt x="103" y="732"/>
                </a:lnTo>
                <a:lnTo>
                  <a:pt x="259" y="558"/>
                </a:lnTo>
                <a:lnTo>
                  <a:pt x="359" y="439"/>
                </a:lnTo>
                <a:lnTo>
                  <a:pt x="478" y="293"/>
                </a:lnTo>
                <a:lnTo>
                  <a:pt x="551" y="211"/>
                </a:lnTo>
                <a:lnTo>
                  <a:pt x="652" y="119"/>
                </a:lnTo>
                <a:lnTo>
                  <a:pt x="736" y="68"/>
                </a:lnTo>
                <a:lnTo>
                  <a:pt x="807" y="37"/>
                </a:lnTo>
                <a:lnTo>
                  <a:pt x="912" y="4"/>
                </a:lnTo>
                <a:lnTo>
                  <a:pt x="980" y="0"/>
                </a:lnTo>
                <a:lnTo>
                  <a:pt x="1036" y="10"/>
                </a:lnTo>
                <a:cubicBezTo>
                  <a:pt x="1068" y="21"/>
                  <a:pt x="1112" y="40"/>
                  <a:pt x="1155" y="74"/>
                </a:cubicBezTo>
                <a:lnTo>
                  <a:pt x="1292" y="211"/>
                </a:lnTo>
                <a:cubicBezTo>
                  <a:pt x="1339" y="250"/>
                  <a:pt x="1386" y="304"/>
                  <a:pt x="1444" y="340"/>
                </a:cubicBezTo>
                <a:cubicBezTo>
                  <a:pt x="1502" y="376"/>
                  <a:pt x="1592" y="412"/>
                  <a:pt x="1639" y="430"/>
                </a:cubicBezTo>
                <a:lnTo>
                  <a:pt x="1728" y="448"/>
                </a:lnTo>
                <a:lnTo>
                  <a:pt x="1813" y="449"/>
                </a:lnTo>
                <a:lnTo>
                  <a:pt x="1969" y="412"/>
                </a:lnTo>
                <a:lnTo>
                  <a:pt x="2164" y="336"/>
                </a:lnTo>
                <a:lnTo>
                  <a:pt x="2284" y="283"/>
                </a:lnTo>
                <a:lnTo>
                  <a:pt x="2286" y="1213"/>
                </a:lnTo>
                <a:lnTo>
                  <a:pt x="0" y="1213"/>
                </a:lnTo>
                <a:lnTo>
                  <a:pt x="0" y="8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19440" y="4267080"/>
            <a:ext cx="59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432400" y="4267080"/>
            <a:ext cx="5954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283520" y="4029120"/>
            <a:ext cx="59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013200" y="3200400"/>
                <a:ext cx="18097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d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168560" y="1324080"/>
                <a:ext cx="850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"/>
          <p:cNvSpPr/>
          <p:nvPr/>
        </p:nvSpPr>
        <p:spPr>
          <a:xfrm flipV="1">
            <a:off x="2085840" y="359424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5743440" y="2782800"/>
            <a:ext cx="0" cy="14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527120" y="2325600"/>
            <a:ext cx="5805720" cy="1627200"/>
          </a:xfrm>
          <a:custGeom>
            <a:avLst/>
            <a:gdLst/>
            <a:ahLst/>
            <a:rect l="l" t="t" r="r" b="b"/>
            <a:pathLst>
              <a:path w="3657" h="1025">
                <a:moveTo>
                  <a:pt x="0" y="906"/>
                </a:moveTo>
                <a:lnTo>
                  <a:pt x="135" y="884"/>
                </a:lnTo>
                <a:lnTo>
                  <a:pt x="238" y="860"/>
                </a:lnTo>
                <a:lnTo>
                  <a:pt x="363" y="800"/>
                </a:lnTo>
                <a:lnTo>
                  <a:pt x="466" y="732"/>
                </a:lnTo>
                <a:lnTo>
                  <a:pt x="622" y="558"/>
                </a:lnTo>
                <a:lnTo>
                  <a:pt x="722" y="439"/>
                </a:lnTo>
                <a:lnTo>
                  <a:pt x="841" y="293"/>
                </a:lnTo>
                <a:lnTo>
                  <a:pt x="914" y="211"/>
                </a:lnTo>
                <a:lnTo>
                  <a:pt x="1015" y="119"/>
                </a:lnTo>
                <a:lnTo>
                  <a:pt x="1099" y="68"/>
                </a:lnTo>
                <a:lnTo>
                  <a:pt x="1170" y="37"/>
                </a:lnTo>
                <a:lnTo>
                  <a:pt x="1275" y="4"/>
                </a:lnTo>
                <a:lnTo>
                  <a:pt x="1343" y="0"/>
                </a:lnTo>
                <a:lnTo>
                  <a:pt x="1399" y="10"/>
                </a:lnTo>
                <a:cubicBezTo>
                  <a:pt x="1431" y="21"/>
                  <a:pt x="1475" y="40"/>
                  <a:pt x="1518" y="74"/>
                </a:cubicBezTo>
                <a:lnTo>
                  <a:pt x="1655" y="211"/>
                </a:lnTo>
                <a:cubicBezTo>
                  <a:pt x="1702" y="250"/>
                  <a:pt x="1749" y="304"/>
                  <a:pt x="1807" y="340"/>
                </a:cubicBezTo>
                <a:cubicBezTo>
                  <a:pt x="1865" y="376"/>
                  <a:pt x="1955" y="412"/>
                  <a:pt x="2002" y="430"/>
                </a:cubicBezTo>
                <a:lnTo>
                  <a:pt x="2091" y="448"/>
                </a:lnTo>
                <a:lnTo>
                  <a:pt x="2176" y="449"/>
                </a:lnTo>
                <a:lnTo>
                  <a:pt x="2332" y="412"/>
                </a:lnTo>
                <a:lnTo>
                  <a:pt x="2527" y="336"/>
                </a:lnTo>
                <a:lnTo>
                  <a:pt x="2651" y="280"/>
                </a:lnTo>
                <a:lnTo>
                  <a:pt x="2747" y="256"/>
                </a:lnTo>
                <a:lnTo>
                  <a:pt x="2835" y="256"/>
                </a:lnTo>
                <a:lnTo>
                  <a:pt x="2899" y="268"/>
                </a:lnTo>
                <a:lnTo>
                  <a:pt x="2987" y="304"/>
                </a:lnTo>
                <a:lnTo>
                  <a:pt x="3083" y="376"/>
                </a:lnTo>
                <a:lnTo>
                  <a:pt x="3203" y="508"/>
                </a:lnTo>
                <a:lnTo>
                  <a:pt x="3271" y="592"/>
                </a:lnTo>
                <a:lnTo>
                  <a:pt x="3347" y="716"/>
                </a:lnTo>
                <a:cubicBezTo>
                  <a:pt x="3378" y="763"/>
                  <a:pt x="3386" y="784"/>
                  <a:pt x="3407" y="816"/>
                </a:cubicBezTo>
                <a:cubicBezTo>
                  <a:pt x="3428" y="848"/>
                  <a:pt x="3453" y="888"/>
                  <a:pt x="3471" y="912"/>
                </a:cubicBezTo>
                <a:cubicBezTo>
                  <a:pt x="3489" y="936"/>
                  <a:pt x="3501" y="947"/>
                  <a:pt x="3515" y="960"/>
                </a:cubicBezTo>
                <a:cubicBezTo>
                  <a:pt x="3530" y="969"/>
                  <a:pt x="3557" y="988"/>
                  <a:pt x="3557" y="988"/>
                </a:cubicBezTo>
                <a:lnTo>
                  <a:pt x="3657" y="1025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rot="5400000">
            <a:off x="3781800" y="275400"/>
            <a:ext cx="272880" cy="3671640"/>
          </a:xfrm>
          <a:custGeom>
            <a:avLst/>
            <a:gdLst>
              <a:gd name="textAreaLeft" fmla="*/ 174240 w 272880"/>
              <a:gd name="textAreaRight" fmla="*/ 272880 w 272880"/>
              <a:gd name="textAreaTop" fmla="*/ 57240 h 3671640"/>
              <a:gd name="textAreaBottom" fmla="*/ 361440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1"/>
                  <a:pt x="10800" y="1081"/>
                </a:cubicBezTo>
                <a:lnTo>
                  <a:pt x="10800" y="9719"/>
                </a:lnTo>
                <a:cubicBezTo>
                  <a:pt x="10800" y="10260"/>
                  <a:pt x="5400" y="10800"/>
                  <a:pt x="0" y="10800"/>
                </a:cubicBezTo>
                <a:cubicBezTo>
                  <a:pt x="5400" y="10800"/>
                  <a:pt x="10800" y="11341"/>
                  <a:pt x="10800" y="11881"/>
                </a:cubicBezTo>
                <a:lnTo>
                  <a:pt x="10800" y="20519"/>
                </a:lnTo>
                <a:cubicBezTo>
                  <a:pt x="10800" y="210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3173400" y="1160640"/>
                <a:ext cx="149076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E85-ADC1-406B-AD92-1860AFE462FE}" type="slidenum">
              <a:t>86</a:t>
            </a:fld>
          </a:p>
        </p:txBody>
      </p:sp>
    </p:spTree>
  </p:cSld>
  <p:transition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 flipH="1">
            <a:off x="721440" y="824040"/>
            <a:ext cx="7813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Rui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blanco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que tiene densidad espectral </a:t>
            </a:r>
            <a:r>
              <a:rPr b="0" i="1" lang="es-ES_tradnl" sz="40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constante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con la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fre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714240" y="3809880"/>
                <a:ext cx="738828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ba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df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K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df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C10A-411D-44A5-B4BC-12EBBB5FC1B2}" type="slidenum">
              <a:t>87</a:t>
            </a:fld>
          </a:p>
        </p:txBody>
      </p:sp>
    </p:spTree>
  </p:cSld>
  <p:transition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 flipH="1">
            <a:off x="721440" y="523800"/>
            <a:ext cx="7813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Ruido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osa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, que tiene densidad espectral </a:t>
            </a:r>
            <a:r>
              <a:rPr b="0" i="1" lang="es-ES_tradnl" sz="4000" spc="-1" strike="noStrike">
                <a:solidFill>
                  <a:srgbClr val="333399"/>
                </a:solidFill>
                <a:latin typeface="Times New Roman"/>
              </a:rPr>
              <a:t>K/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71600" y="3809880"/>
                <a:ext cx="787392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bar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df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r>
                                      <m:t xml:space="preserve">f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df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166-784D-411F-AF89-81F57FDD60C2}" type="slidenum">
              <a:t>88</a:t>
            </a:fld>
          </a:p>
        </p:txBody>
      </p:sp>
    </p:spTree>
  </p:cSld>
  <p:transition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 flipH="1">
            <a:off x="721440" y="552600"/>
            <a:ext cx="781380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Particularmente el </a:t>
            </a:r>
            <a:r>
              <a:rPr b="1" lang="es-ES_tradnl" sz="4000" spc="-1" strike="noStrike">
                <a:solidFill>
                  <a:srgbClr val="009999"/>
                </a:solidFill>
                <a:latin typeface="Arial"/>
              </a:rPr>
              <a:t>ruido rosa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tiene igual valor eficaz en todas las octav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925560" y="4389480"/>
                <a:ext cx="696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rot="16200000">
            <a:off x="7034760" y="4329720"/>
            <a:ext cx="208080" cy="1606680"/>
          </a:xfrm>
          <a:custGeom>
            <a:avLst/>
            <a:gdLst>
              <a:gd name="textAreaLeft" fmla="*/ 132840 w 208080"/>
              <a:gd name="textAreaRight" fmla="*/ 208440 w 208080"/>
              <a:gd name="textAreaTop" fmla="*/ 30960 h 1606680"/>
              <a:gd name="textAreaBottom" fmla="*/ 1575720 h 160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2"/>
                  <a:pt x="10800" y="1344"/>
                </a:cubicBezTo>
                <a:lnTo>
                  <a:pt x="10800" y="9456"/>
                </a:lnTo>
                <a:cubicBezTo>
                  <a:pt x="10800" y="10128"/>
                  <a:pt x="5400" y="10800"/>
                  <a:pt x="0" y="10800"/>
                </a:cubicBezTo>
                <a:cubicBezTo>
                  <a:pt x="5400" y="10800"/>
                  <a:pt x="10800" y="11472"/>
                  <a:pt x="10800" y="12144"/>
                </a:cubicBezTo>
                <a:lnTo>
                  <a:pt x="10800" y="20256"/>
                </a:lnTo>
                <a:cubicBezTo>
                  <a:pt x="10800" y="2092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938200" y="5345280"/>
            <a:ext cx="2400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99"/>
                </a:solidFill>
                <a:latin typeface="Arial"/>
              </a:rPr>
              <a:t>Independiente de la 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CFB-2A4A-4877-8C54-BFF7D2A5BC4B}" type="slidenum">
              <a:t>89</a:t>
            </a:fld>
          </a:p>
        </p:txBody>
      </p:sp>
    </p:spTree>
  </p:cSld>
  <p:transition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1901880" y="1709640"/>
            <a:ext cx="0" cy="326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70120" y="4329000"/>
            <a:ext cx="579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1880" y="2714760"/>
            <a:ext cx="526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879560" y="2571840"/>
            <a:ext cx="5170320" cy="284040"/>
            <a:chOff x="1879560" y="2571840"/>
            <a:chExt cx="5170320" cy="284040"/>
          </a:xfrm>
        </p:grpSpPr>
        <p:grpSp>
          <p:nvGrpSpPr>
            <p:cNvPr id="278" name=""/>
            <p:cNvGrpSpPr/>
            <p:nvPr/>
          </p:nvGrpSpPr>
          <p:grpSpPr>
            <a:xfrm>
              <a:off x="1879560" y="2571840"/>
              <a:ext cx="864720" cy="284040"/>
              <a:chOff x="1879560" y="2571840"/>
              <a:chExt cx="864720" cy="28404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879560" y="2571840"/>
                <a:ext cx="430200" cy="284040"/>
                <a:chOff x="1879560" y="2571840"/>
                <a:chExt cx="430200" cy="284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87956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98720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9880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20212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311560" y="2571840"/>
                <a:ext cx="432720" cy="284040"/>
                <a:chOff x="2311560" y="2571840"/>
                <a:chExt cx="432720" cy="2840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31156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41920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3080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3664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2739600" y="2571840"/>
              <a:ext cx="864720" cy="284040"/>
              <a:chOff x="2739600" y="2571840"/>
              <a:chExt cx="864720" cy="2840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739600" y="2571840"/>
                <a:ext cx="432000" cy="284040"/>
                <a:chOff x="2739600" y="2571840"/>
                <a:chExt cx="432000" cy="2840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73960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84724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95884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06396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170520" y="2571840"/>
                <a:ext cx="433800" cy="284040"/>
                <a:chOff x="3170520" y="2571840"/>
                <a:chExt cx="433800" cy="2840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17052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7924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39084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49668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3598920" y="2571840"/>
              <a:ext cx="861840" cy="284040"/>
              <a:chOff x="3598920" y="2571840"/>
              <a:chExt cx="861840" cy="28404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3598920" y="2571840"/>
                <a:ext cx="429480" cy="284040"/>
                <a:chOff x="3598920" y="2571840"/>
                <a:chExt cx="429480" cy="2840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59892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70440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11320" y="27133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92076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028400" y="2571840"/>
                <a:ext cx="432360" cy="284040"/>
                <a:chOff x="4028400" y="2571840"/>
                <a:chExt cx="432360" cy="2840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02840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13784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242600" y="27133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5312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458240" y="2571840"/>
              <a:ext cx="864720" cy="284040"/>
              <a:chOff x="4458240" y="2571840"/>
              <a:chExt cx="864720" cy="28404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4458240" y="2571840"/>
                <a:ext cx="430200" cy="284040"/>
                <a:chOff x="4458240" y="2571840"/>
                <a:chExt cx="430200" cy="2840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45824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56516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67208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78080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888440" y="2571840"/>
                <a:ext cx="434520" cy="284040"/>
                <a:chOff x="4888440" y="2571840"/>
                <a:chExt cx="434520" cy="2840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88844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99788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10480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21532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5320080" y="2571840"/>
              <a:ext cx="864720" cy="284040"/>
              <a:chOff x="5320080" y="2571840"/>
              <a:chExt cx="864720" cy="284040"/>
            </a:xfrm>
          </p:grpSpPr>
          <p:sp>
            <p:nvSpPr>
              <p:cNvPr id="323" name=""/>
              <p:cNvSpPr/>
              <p:nvPr/>
            </p:nvSpPr>
            <p:spPr>
              <a:xfrm>
                <a:off x="5320080" y="257184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80"/>
                    </a:moveTo>
                    <a:lnTo>
                      <a:pt x="1197" y="18394"/>
                    </a:lnTo>
                    <a:lnTo>
                      <a:pt x="2051" y="16650"/>
                    </a:lnTo>
                    <a:lnTo>
                      <a:pt x="2735" y="15461"/>
                    </a:lnTo>
                    <a:lnTo>
                      <a:pt x="3761" y="13796"/>
                    </a:lnTo>
                    <a:lnTo>
                      <a:pt x="4615" y="12250"/>
                    </a:lnTo>
                    <a:lnTo>
                      <a:pt x="5812" y="10942"/>
                    </a:lnTo>
                    <a:lnTo>
                      <a:pt x="6667" y="9633"/>
                    </a:lnTo>
                    <a:lnTo>
                      <a:pt x="7863" y="8325"/>
                    </a:lnTo>
                    <a:lnTo>
                      <a:pt x="8547" y="7096"/>
                    </a:lnTo>
                    <a:lnTo>
                      <a:pt x="10256" y="5946"/>
                    </a:lnTo>
                    <a:lnTo>
                      <a:pt x="11111" y="4876"/>
                    </a:lnTo>
                    <a:lnTo>
                      <a:pt x="11966" y="3925"/>
                    </a:lnTo>
                    <a:lnTo>
                      <a:pt x="12821" y="3092"/>
                    </a:lnTo>
                    <a:lnTo>
                      <a:pt x="14017" y="2379"/>
                    </a:lnTo>
                    <a:lnTo>
                      <a:pt x="15214" y="1546"/>
                    </a:lnTo>
                    <a:lnTo>
                      <a:pt x="16239" y="951"/>
                    </a:lnTo>
                    <a:lnTo>
                      <a:pt x="16752" y="595"/>
                    </a:lnTo>
                    <a:lnTo>
                      <a:pt x="17949" y="238"/>
                    </a:lnTo>
                    <a:lnTo>
                      <a:pt x="18803" y="0"/>
                    </a:lnTo>
                    <a:lnTo>
                      <a:pt x="1982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27720" y="2571840"/>
                <a:ext cx="108360" cy="141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9" y="19980"/>
                    </a:moveTo>
                    <a:lnTo>
                      <a:pt x="18803" y="18394"/>
                    </a:lnTo>
                    <a:lnTo>
                      <a:pt x="17778" y="16947"/>
                    </a:lnTo>
                    <a:lnTo>
                      <a:pt x="16752" y="15461"/>
                    </a:lnTo>
                    <a:lnTo>
                      <a:pt x="16068" y="13796"/>
                    </a:lnTo>
                    <a:lnTo>
                      <a:pt x="15214" y="12250"/>
                    </a:lnTo>
                    <a:lnTo>
                      <a:pt x="14017" y="10942"/>
                    </a:lnTo>
                    <a:lnTo>
                      <a:pt x="12821" y="9633"/>
                    </a:lnTo>
                    <a:lnTo>
                      <a:pt x="11966" y="8325"/>
                    </a:lnTo>
                    <a:lnTo>
                      <a:pt x="11111" y="7096"/>
                    </a:lnTo>
                    <a:lnTo>
                      <a:pt x="10256" y="6065"/>
                    </a:lnTo>
                    <a:lnTo>
                      <a:pt x="8547" y="4876"/>
                    </a:lnTo>
                    <a:lnTo>
                      <a:pt x="7863" y="3925"/>
                    </a:lnTo>
                    <a:lnTo>
                      <a:pt x="6838" y="3211"/>
                    </a:lnTo>
                    <a:lnTo>
                      <a:pt x="5812" y="2379"/>
                    </a:lnTo>
                    <a:lnTo>
                      <a:pt x="4615" y="1546"/>
                    </a:lnTo>
                    <a:lnTo>
                      <a:pt x="3590" y="951"/>
                    </a:lnTo>
                    <a:lnTo>
                      <a:pt x="2735" y="595"/>
                    </a:lnTo>
                    <a:lnTo>
                      <a:pt x="1880" y="238"/>
                    </a:lnTo>
                    <a:lnTo>
                      <a:pt x="855" y="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36440" y="2712960"/>
                <a:ext cx="10836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97" y="1773"/>
                    </a:lnTo>
                    <a:lnTo>
                      <a:pt x="1880" y="3192"/>
                    </a:lnTo>
                    <a:lnTo>
                      <a:pt x="2564" y="4611"/>
                    </a:lnTo>
                    <a:lnTo>
                      <a:pt x="3761" y="6384"/>
                    </a:lnTo>
                    <a:lnTo>
                      <a:pt x="5128" y="7921"/>
                    </a:lnTo>
                    <a:lnTo>
                      <a:pt x="5812" y="9103"/>
                    </a:lnTo>
                    <a:lnTo>
                      <a:pt x="6667" y="10404"/>
                    </a:lnTo>
                    <a:lnTo>
                      <a:pt x="7521" y="11704"/>
                    </a:lnTo>
                    <a:lnTo>
                      <a:pt x="8547" y="13005"/>
                    </a:lnTo>
                    <a:lnTo>
                      <a:pt x="10256" y="14187"/>
                    </a:lnTo>
                    <a:lnTo>
                      <a:pt x="11111" y="15133"/>
                    </a:lnTo>
                    <a:lnTo>
                      <a:pt x="11966" y="16079"/>
                    </a:lnTo>
                    <a:lnTo>
                      <a:pt x="12821" y="16906"/>
                    </a:lnTo>
                    <a:lnTo>
                      <a:pt x="14017" y="17734"/>
                    </a:lnTo>
                    <a:lnTo>
                      <a:pt x="15214" y="18443"/>
                    </a:lnTo>
                    <a:lnTo>
                      <a:pt x="16239" y="19034"/>
                    </a:lnTo>
                    <a:lnTo>
                      <a:pt x="16752" y="19389"/>
                    </a:lnTo>
                    <a:lnTo>
                      <a:pt x="17778" y="19744"/>
                    </a:lnTo>
                    <a:lnTo>
                      <a:pt x="18803" y="19980"/>
                    </a:lnTo>
                    <a:lnTo>
                      <a:pt x="19829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45160" y="2713320"/>
                <a:ext cx="107280" cy="142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28" y="0"/>
                    </a:moveTo>
                    <a:lnTo>
                      <a:pt x="18793" y="1655"/>
                    </a:lnTo>
                    <a:lnTo>
                      <a:pt x="18103" y="3133"/>
                    </a:lnTo>
                    <a:lnTo>
                      <a:pt x="17414" y="4611"/>
                    </a:lnTo>
                    <a:lnTo>
                      <a:pt x="16379" y="6266"/>
                    </a:lnTo>
                    <a:lnTo>
                      <a:pt x="15345" y="7921"/>
                    </a:lnTo>
                    <a:lnTo>
                      <a:pt x="14138" y="9103"/>
                    </a:lnTo>
                    <a:lnTo>
                      <a:pt x="13276" y="10404"/>
                    </a:lnTo>
                    <a:lnTo>
                      <a:pt x="12414" y="11704"/>
                    </a:lnTo>
                    <a:lnTo>
                      <a:pt x="11379" y="12926"/>
                    </a:lnTo>
                    <a:lnTo>
                      <a:pt x="10345" y="14030"/>
                    </a:lnTo>
                    <a:lnTo>
                      <a:pt x="9138" y="15133"/>
                    </a:lnTo>
                    <a:lnTo>
                      <a:pt x="8103" y="15842"/>
                    </a:lnTo>
                    <a:lnTo>
                      <a:pt x="7241" y="16906"/>
                    </a:lnTo>
                    <a:lnTo>
                      <a:pt x="6034" y="17734"/>
                    </a:lnTo>
                    <a:lnTo>
                      <a:pt x="4655" y="18443"/>
                    </a:lnTo>
                    <a:lnTo>
                      <a:pt x="3621" y="19034"/>
                    </a:lnTo>
                    <a:lnTo>
                      <a:pt x="2759" y="19389"/>
                    </a:lnTo>
                    <a:lnTo>
                      <a:pt x="2069" y="19744"/>
                    </a:lnTo>
                    <a:lnTo>
                      <a:pt x="862" y="19980"/>
                    </a:lnTo>
                    <a:lnTo>
                      <a:pt x="0" y="1998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5751000" y="2571840"/>
                <a:ext cx="433800" cy="284040"/>
                <a:chOff x="5751000" y="2571840"/>
                <a:chExt cx="433800" cy="2840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75100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859720" y="2571840"/>
                  <a:ext cx="10872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966640" y="2713320"/>
                  <a:ext cx="10872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07716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6186600" y="2571840"/>
              <a:ext cx="863280" cy="284040"/>
              <a:chOff x="6186600" y="2571840"/>
              <a:chExt cx="863280" cy="28404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6186600" y="2571840"/>
                <a:ext cx="430560" cy="284040"/>
                <a:chOff x="6186600" y="2571840"/>
                <a:chExt cx="430560" cy="2840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18660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29424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400080" y="27133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0952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616440" y="2571840"/>
                <a:ext cx="433440" cy="284040"/>
                <a:chOff x="6616440" y="2571840"/>
                <a:chExt cx="433440" cy="2840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61644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980"/>
                      </a:moveTo>
                      <a:lnTo>
                        <a:pt x="1197" y="18394"/>
                      </a:lnTo>
                      <a:lnTo>
                        <a:pt x="2051" y="16650"/>
                      </a:lnTo>
                      <a:lnTo>
                        <a:pt x="2735" y="15461"/>
                      </a:lnTo>
                      <a:lnTo>
                        <a:pt x="3761" y="13796"/>
                      </a:lnTo>
                      <a:lnTo>
                        <a:pt x="4615" y="12250"/>
                      </a:lnTo>
                      <a:lnTo>
                        <a:pt x="5812" y="10942"/>
                      </a:lnTo>
                      <a:lnTo>
                        <a:pt x="6667" y="9633"/>
                      </a:lnTo>
                      <a:lnTo>
                        <a:pt x="7863" y="8325"/>
                      </a:lnTo>
                      <a:lnTo>
                        <a:pt x="8547" y="7096"/>
                      </a:lnTo>
                      <a:lnTo>
                        <a:pt x="10256" y="5946"/>
                      </a:lnTo>
                      <a:lnTo>
                        <a:pt x="11111" y="4876"/>
                      </a:lnTo>
                      <a:lnTo>
                        <a:pt x="11966" y="3925"/>
                      </a:lnTo>
                      <a:lnTo>
                        <a:pt x="12821" y="3092"/>
                      </a:lnTo>
                      <a:lnTo>
                        <a:pt x="14017" y="2379"/>
                      </a:lnTo>
                      <a:lnTo>
                        <a:pt x="15214" y="1546"/>
                      </a:lnTo>
                      <a:lnTo>
                        <a:pt x="16239" y="951"/>
                      </a:lnTo>
                      <a:lnTo>
                        <a:pt x="16752" y="595"/>
                      </a:lnTo>
                      <a:lnTo>
                        <a:pt x="17949" y="238"/>
                      </a:lnTo>
                      <a:lnTo>
                        <a:pt x="18803" y="0"/>
                      </a:lnTo>
                      <a:lnTo>
                        <a:pt x="19829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726960" y="2571840"/>
                  <a:ext cx="108360" cy="141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9" y="19980"/>
                      </a:moveTo>
                      <a:lnTo>
                        <a:pt x="18803" y="18394"/>
                      </a:lnTo>
                      <a:lnTo>
                        <a:pt x="17778" y="16947"/>
                      </a:lnTo>
                      <a:lnTo>
                        <a:pt x="16752" y="15461"/>
                      </a:lnTo>
                      <a:lnTo>
                        <a:pt x="16068" y="13796"/>
                      </a:lnTo>
                      <a:lnTo>
                        <a:pt x="15214" y="12250"/>
                      </a:lnTo>
                      <a:lnTo>
                        <a:pt x="14017" y="10942"/>
                      </a:lnTo>
                      <a:lnTo>
                        <a:pt x="12821" y="9633"/>
                      </a:lnTo>
                      <a:lnTo>
                        <a:pt x="11966" y="8325"/>
                      </a:lnTo>
                      <a:lnTo>
                        <a:pt x="11111" y="7096"/>
                      </a:lnTo>
                      <a:lnTo>
                        <a:pt x="10256" y="6065"/>
                      </a:lnTo>
                      <a:lnTo>
                        <a:pt x="8547" y="4876"/>
                      </a:lnTo>
                      <a:lnTo>
                        <a:pt x="7863" y="3925"/>
                      </a:lnTo>
                      <a:lnTo>
                        <a:pt x="6838" y="3211"/>
                      </a:lnTo>
                      <a:lnTo>
                        <a:pt x="5812" y="2379"/>
                      </a:lnTo>
                      <a:lnTo>
                        <a:pt x="4615" y="1546"/>
                      </a:lnTo>
                      <a:lnTo>
                        <a:pt x="3590" y="951"/>
                      </a:lnTo>
                      <a:lnTo>
                        <a:pt x="2735" y="595"/>
                      </a:lnTo>
                      <a:lnTo>
                        <a:pt x="1880" y="238"/>
                      </a:lnTo>
                      <a:lnTo>
                        <a:pt x="85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832800" y="2713320"/>
                  <a:ext cx="10836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1197" y="1773"/>
                      </a:lnTo>
                      <a:lnTo>
                        <a:pt x="1880" y="3192"/>
                      </a:lnTo>
                      <a:lnTo>
                        <a:pt x="2564" y="4611"/>
                      </a:lnTo>
                      <a:lnTo>
                        <a:pt x="3761" y="6384"/>
                      </a:lnTo>
                      <a:lnTo>
                        <a:pt x="5128" y="7921"/>
                      </a:lnTo>
                      <a:lnTo>
                        <a:pt x="5812" y="9103"/>
                      </a:lnTo>
                      <a:lnTo>
                        <a:pt x="6667" y="10404"/>
                      </a:lnTo>
                      <a:lnTo>
                        <a:pt x="7521" y="11704"/>
                      </a:lnTo>
                      <a:lnTo>
                        <a:pt x="8547" y="13005"/>
                      </a:lnTo>
                      <a:lnTo>
                        <a:pt x="10256" y="14187"/>
                      </a:lnTo>
                      <a:lnTo>
                        <a:pt x="11111" y="15133"/>
                      </a:lnTo>
                      <a:lnTo>
                        <a:pt x="11966" y="16079"/>
                      </a:lnTo>
                      <a:lnTo>
                        <a:pt x="12821" y="16906"/>
                      </a:lnTo>
                      <a:lnTo>
                        <a:pt x="14017" y="17734"/>
                      </a:lnTo>
                      <a:lnTo>
                        <a:pt x="15214" y="18443"/>
                      </a:lnTo>
                      <a:lnTo>
                        <a:pt x="16239" y="19034"/>
                      </a:lnTo>
                      <a:lnTo>
                        <a:pt x="16752" y="19389"/>
                      </a:lnTo>
                      <a:lnTo>
                        <a:pt x="17778" y="19744"/>
                      </a:lnTo>
                      <a:lnTo>
                        <a:pt x="18803" y="19980"/>
                      </a:lnTo>
                      <a:lnTo>
                        <a:pt x="19829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942240" y="2713320"/>
                  <a:ext cx="107640" cy="1425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28" y="0"/>
                      </a:moveTo>
                      <a:lnTo>
                        <a:pt x="18793" y="1655"/>
                      </a:lnTo>
                      <a:lnTo>
                        <a:pt x="18103" y="3133"/>
                      </a:lnTo>
                      <a:lnTo>
                        <a:pt x="17414" y="4611"/>
                      </a:lnTo>
                      <a:lnTo>
                        <a:pt x="16379" y="6266"/>
                      </a:lnTo>
                      <a:lnTo>
                        <a:pt x="15345" y="7921"/>
                      </a:lnTo>
                      <a:lnTo>
                        <a:pt x="14138" y="9103"/>
                      </a:lnTo>
                      <a:lnTo>
                        <a:pt x="13276" y="10404"/>
                      </a:lnTo>
                      <a:lnTo>
                        <a:pt x="12414" y="11704"/>
                      </a:lnTo>
                      <a:lnTo>
                        <a:pt x="11379" y="12926"/>
                      </a:lnTo>
                      <a:lnTo>
                        <a:pt x="10345" y="14030"/>
                      </a:lnTo>
                      <a:lnTo>
                        <a:pt x="9138" y="15133"/>
                      </a:lnTo>
                      <a:lnTo>
                        <a:pt x="8103" y="15842"/>
                      </a:lnTo>
                      <a:lnTo>
                        <a:pt x="7241" y="16906"/>
                      </a:lnTo>
                      <a:lnTo>
                        <a:pt x="6034" y="17734"/>
                      </a:lnTo>
                      <a:lnTo>
                        <a:pt x="4655" y="18443"/>
                      </a:lnTo>
                      <a:lnTo>
                        <a:pt x="3621" y="19034"/>
                      </a:lnTo>
                      <a:lnTo>
                        <a:pt x="2759" y="19389"/>
                      </a:lnTo>
                      <a:lnTo>
                        <a:pt x="2069" y="19744"/>
                      </a:lnTo>
                      <a:lnTo>
                        <a:pt x="862" y="19980"/>
                      </a:lnTo>
                      <a:lnTo>
                        <a:pt x="0" y="199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"/>
          <p:cNvSpPr/>
          <p:nvPr/>
        </p:nvSpPr>
        <p:spPr>
          <a:xfrm>
            <a:off x="7535880" y="4110120"/>
            <a:ext cx="38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93A-1DE3-4FE8-A590-9D54D98C9CE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D03-7E6F-421D-B268-039C8FFA301C}" type="slidenum">
              <a:t>90</a:t>
            </a:fld>
          </a:p>
        </p:txBody>
      </p:sp>
    </p:spTree>
  </p:cSld>
  <p:transition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027080" y="455760"/>
            <a:ext cx="7089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d24600"/>
                </a:solidFill>
                <a:latin typeface="Arial"/>
                <a:ea typeface="Arial"/>
              </a:rPr>
              <a:t>Agradecimientos</a:t>
            </a:r>
            <a:br>
              <a:rPr sz="3600"/>
            </a:br>
            <a:r>
              <a:rPr b="1" lang="es-AR" sz="3600" spc="-1" strike="noStrike">
                <a:solidFill>
                  <a:srgbClr val="d24600"/>
                </a:solidFill>
                <a:latin typeface="Wingdings 2"/>
                <a:ea typeface="Wingdings 2"/>
              </a:rPr>
              <a:t>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Elizabeth Gonzál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Luis Marisqui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Universidad de la Re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99"/>
                </a:solidFill>
                <a:latin typeface="Arial"/>
                <a:ea typeface="Arial"/>
              </a:rPr>
              <a:t>María Victoria Góm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BCE-013E-4E76-AC40-2BF3118C3FA5}" type="slidenum">
              <a:t>91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15:39Z</dcterms:created>
  <dc:creator>WinuE</dc:creator>
  <dc:description/>
  <dc:language>en-US</dc:language>
  <cp:lastModifiedBy>Federico Miyara</cp:lastModifiedBy>
  <dcterms:modified xsi:type="dcterms:W3CDTF">2024-11-08T17:03:01Z</dcterms:modified>
  <cp:revision>222</cp:revision>
  <dc:subject/>
  <dc:title>PSICOACÚSTICA  aplicada a la calidad acústica de espacios educativos.  Materiales absorbentes acústicos reciclados </dc:title>
</cp:coreProperties>
</file>