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77DA-6AC3-4263-BE7E-0A925C52910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ítulo e información de conta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F756-DEC9-4941-AA1C-A626D39E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BB1-2448-4185-8B0A-FF2F66D3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9F26-C50E-49AE-A989-C082046B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73EE-DA22-4E08-BB02-74ADDE6C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37D-BC6C-4CC4-B61E-175B69D7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265-A85A-4F47-82BD-F60910B6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F68A-0076-401A-9AD7-BBFDE0E4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47D-F53B-4467-A51C-A756F714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95C-29BF-464F-9651-F70FC384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31EC-344E-4102-8CA3-50D20F90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8BF-88D9-411F-8AB4-B1D5AFD4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44C-7894-482D-B906-B1E60102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649A-534E-4674-8F0C-44A1002A8783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3720" y="2061720"/>
            <a:ext cx="8296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9999"/>
                </a:solidFill>
                <a:latin typeface="Arial"/>
              </a:rPr>
              <a:t>Psicoacúst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05040"/>
            <a:ext cx="64008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ederico Miy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iversidad Nacional de Ros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fceia.unr.edu.ar/acu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miyara@fceia.unr.edu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1360" y="299880"/>
            <a:ext cx="4121280" cy="15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8380-553E-4B58-86BA-30F447925C62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50800" y="812520"/>
            <a:ext cx="8042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te de un enfoqu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xperiment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y si bien el objeto principal es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udición human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la similitud morfológica y funcional del oído de todos los mamíferos hace que muchas veces se hagan estudios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odelos anim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359-A913-4A86-BF95-747AE21F2C3D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50800" y="1117080"/>
            <a:ext cx="8042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principio la psicoacústica busca vincular l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enómenos perceptiv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asociados a determinadas variables subjetivas, co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les físicas medib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como presión sonora, frecuencia, intensida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FB3-CD92-417B-A514-A81BF15E885F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50800" y="1726560"/>
            <a:ext cx="8042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Intenta obtene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odel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ualitativos y cuantitativos qu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xplique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l comportamiento de las variables o al menos permita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edecirl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193-2AF4-4ED8-9432-DEA5613D19FC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50800" y="1422000"/>
            <a:ext cx="8042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ado qu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udición human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tá íntimamente relacionada con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municación or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parato voc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onatori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también forma parte del objeto de estudio de la Psicoacús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19A-19A8-46E5-B6CB-6BD994E93B6A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50800" y="1117080"/>
            <a:ext cx="8042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efecto, muchas de las características d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udición human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tán hermanadas a las características d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ñal voc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a tal punto que se sospecha que su desarroll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volutiv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ha sid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arale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A3F3-0E1E-44DF-9027-AA9A388B775E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0800" y="1726560"/>
            <a:ext cx="8042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este curso nos ocuparemos principalmente de los aspect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uditiv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aunque también abordaremos algunos aspectos d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teligibilidad de la pala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4AD-55B0-437D-B4D6-6D7B6DECA526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8A5-EE0E-48D7-A432-63522E22D785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27080" y="455760"/>
            <a:ext cx="7089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d24600"/>
                </a:solidFill>
                <a:latin typeface="Arial"/>
                <a:ea typeface="Arial"/>
              </a:rPr>
              <a:t>Agradecimientos</a:t>
            </a:r>
            <a:br>
              <a:rPr sz="3600"/>
            </a:br>
            <a:r>
              <a:rPr b="1" lang="es-AR" sz="3600" spc="-1" strike="noStrike">
                <a:solidFill>
                  <a:srgbClr val="d24600"/>
                </a:solidFill>
                <a:latin typeface="Wingdings 2"/>
                <a:ea typeface="Wingdings 2"/>
              </a:rPr>
              <a:t>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Elizabeth Gonzál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Luis Marisquir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Universidad de la Re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María Victoria Góm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6A8-1C90-46C6-AC22-05B64EFD16D3}" type="slidenum">
              <a:t>17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9999"/>
                </a:solidFill>
                <a:latin typeface="Arial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DD4-774D-4B3A-9F69-0634C4F5AF96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4901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sicoacústica:</a:t>
            </a:r>
            <a:r>
              <a:rPr b="1" lang="es-ES_tradnl" sz="4000" spc="-1" strike="noStrike">
                <a:solidFill>
                  <a:srgbClr val="000099"/>
                </a:solidFill>
                <a:latin typeface="Arial"/>
              </a:rPr>
              <a:t> Disciplina que investiga la percepción y produccioón del sonido en el ser humano y otros animales</a:t>
            </a: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64B-27D3-429A-8F65-9AFCBD6AF443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4901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Ha sido desarrollada principalmente por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ingenieros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y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biofísicos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FD7-EBC5-4BC2-87D3-32B5D6FE3E48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3320" y="3673440"/>
            <a:ext cx="172584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György Békésy</a:t>
            </a:r>
            <a:r>
              <a:rPr b="1" lang="es-ES_tradnl" sz="4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8200" y="579600"/>
            <a:ext cx="2117520" cy="2968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HarveyFletcher1.jpg"/>
          <p:cNvPicPr/>
          <p:nvPr/>
        </p:nvPicPr>
        <p:blipFill>
          <a:blip r:embed="rId3"/>
          <a:stretch/>
        </p:blipFill>
        <p:spPr>
          <a:xfrm>
            <a:off x="2800440" y="576360"/>
            <a:ext cx="1914480" cy="295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Resultado de imagen"/>
          <p:cNvPicPr/>
          <p:nvPr/>
        </p:nvPicPr>
        <p:blipFill>
          <a:blip r:embed="rId4"/>
          <a:srcRect l="0" t="0" r="5905" b="8101"/>
          <a:stretch/>
        </p:blipFill>
        <p:spPr>
          <a:xfrm>
            <a:off x="4851360" y="581040"/>
            <a:ext cx="1870200" cy="2955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82960" y="3673440"/>
            <a:ext cx="154944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Harvey Flet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11560" y="3673440"/>
            <a:ext cx="154944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Stanley St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69240" y="3673440"/>
            <a:ext cx="154944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Eberhard Zwi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>
            <a:lum contrast="30000"/>
          </a:blip>
          <a:srcRect l="36447" t="29080" r="47685" b="24294"/>
          <a:stretch/>
        </p:blipFill>
        <p:spPr>
          <a:xfrm>
            <a:off x="6802560" y="593640"/>
            <a:ext cx="1881000" cy="294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80A9-58F6-403F-911F-437655CD28CB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42840" y="1117080"/>
            <a:ext cx="7258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Buena parte de sus orígenes fue motivada por el desarrollo temprano de l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municaciones eléctric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la necesidad de comprender l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dicion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ntro de las cuales debían maneja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7F8A-25BB-4E97-BCEC-CEC86E1728B6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42840" y="1726560"/>
            <a:ext cx="7258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enfoque disciplinar de la psicoacústica es el de las ciencias duras: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ísic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atemátic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adístic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genierí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E12-D8DD-4AC5-8770-37097C0FF20D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42840" y="1726560"/>
            <a:ext cx="7258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in llegar a la profundidad de la física y la matemática superiores, a menudo se apoya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étod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nfoqu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dichas cienci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895D-923E-46B1-BD55-EC3DC23DCA03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42840" y="812520"/>
            <a:ext cx="7258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principio tiene poco que ver con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sicologí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aunque ciertas cuestiones como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olestia por ruid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 su contracara el diseñ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aisajes sonor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utiliza lineamientos propios d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sicología experiment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D16-A384-4F10-AE56-F8D5D122D0BD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15:39Z</dcterms:created>
  <dc:creator>WinuE</dc:creator>
  <dc:description/>
  <dc:language>en-US</dc:language>
  <cp:lastModifiedBy>Federico Miyara</cp:lastModifiedBy>
  <dcterms:modified xsi:type="dcterms:W3CDTF">2024-11-08T16:41:42Z</dcterms:modified>
  <cp:revision>212</cp:revision>
  <dc:subject/>
  <dc:title>PSICOACÚSTICA  aplicada a la calidad acústica de espacios educativos.  Materiales absorbentes acústicos reciclados </dc:title>
</cp:coreProperties>
</file>