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5D43-0A47-49DC-B36F-641297267A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6908-F77F-4B74-B29C-AC54F5AFB73C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8E53-C723-4FF0-B458-B7157BA4D2F9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F706-D3FB-4F9D-A57B-5F8F3B41E4F6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33E9-E4C0-4D21-97AB-43ACAF1816B1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797-770E-4877-A72D-F65E933D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C8C-31FA-4710-B986-03179852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251-1894-44F0-A3F8-A9C75271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114-B6B1-42A3-A514-9DC21C53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7397-8E73-46EC-A87B-7A56A5B2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D49E-9B8B-4D6D-AC02-F7CCC6B9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6AA7-BBC5-460E-ADEB-1BE76C82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7B77-03E8-4BE6-8C25-B1CD82BC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5263-23E5-4401-A8DE-2021E494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1773-5B0C-4B99-95A8-461EBAAF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902E-0BB7-46A0-A309-5F92B2B4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5AF-BE89-4404-88F3-4167AC8F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DBE9-6169-4AD2-8218-EC394FC9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DF98-5DEC-4C17-BBBB-23C21EE0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FE4C-23FC-4135-81CC-40774982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4F2B-7F07-408E-AE19-45B1495E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560A-C269-4B49-88CA-606E8679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20D-50A2-4B9B-A8BF-9679BADB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2BC-B0F9-4ACD-990E-0ACEDA4C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19A-F336-4D8E-9583-C91A736B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1A6-050F-41DA-9F15-C17AC70C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710-210D-4308-A6F3-2A28B47C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9FB-DFBC-40F9-B712-A1AC2D06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57A-EA10-4E38-A72F-8F2FB1F1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F37E-453D-480F-BF8C-B9E295B12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E660-8E1B-42F6-B8AA-E5AF28042A2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9</a:t>
            </a: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MONITOREO DE LA CALIDAD DE POTENCIA</a:t>
            </a: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Requerimientos para los transductores </a:t>
            </a:r>
            <a:br>
              <a:rPr sz="4000"/>
            </a:b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Transformadores de tensión y corriente</a:t>
            </a: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cc"/>
                </a:solidFill>
                <a:latin typeface="Times New Roman"/>
              </a:rPr>
              <a:t>Nivel de señ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cc"/>
                </a:solidFill>
                <a:latin typeface="Times New Roman"/>
              </a:rPr>
              <a:t>Respuesta en frecuenci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cc"/>
                </a:solidFill>
                <a:latin typeface="Times New Roman"/>
              </a:rPr>
              <a:t>Características ambiental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cc00"/>
                </a:solidFill>
                <a:latin typeface="Times New Roman"/>
              </a:rPr>
              <a:t>Respuesta en frecuencia de un TV</a:t>
            </a:r>
            <a:br>
              <a:rPr sz="40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efecto de la carga: 1 Mohm y 100 ohm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3635280" y="4221000"/>
            <a:ext cx="5281560" cy="2457720"/>
            <a:chOff x="3635280" y="4221000"/>
            <a:chExt cx="5281560" cy="2457720"/>
          </a:xfrm>
        </p:grpSpPr>
        <p:pic>
          <p:nvPicPr>
            <p:cNvPr id="127" name="Picture 5" descr="93"/>
            <p:cNvPicPr/>
            <p:nvPr/>
          </p:nvPicPr>
          <p:blipFill>
            <a:blip r:embed="rId1"/>
            <a:srcRect l="0" t="49294" r="0" b="6515"/>
            <a:stretch/>
          </p:blipFill>
          <p:spPr>
            <a:xfrm>
              <a:off x="3635280" y="4221000"/>
              <a:ext cx="5281560" cy="24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6"/>
            <p:cNvSpPr/>
            <p:nvPr/>
          </p:nvSpPr>
          <p:spPr>
            <a:xfrm>
              <a:off x="5703840" y="6396120"/>
              <a:ext cx="131616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220011"/>
                  </a:solidFill>
                  <a:latin typeface="Times New Roman"/>
                </a:rPr>
                <a:t>Frecuencia (Hz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Group 7"/>
          <p:cNvGrpSpPr/>
          <p:nvPr/>
        </p:nvGrpSpPr>
        <p:grpSpPr>
          <a:xfrm>
            <a:off x="468360" y="1484280"/>
            <a:ext cx="5041800" cy="2447640"/>
            <a:chOff x="468360" y="1484280"/>
            <a:chExt cx="5041800" cy="2447640"/>
          </a:xfrm>
        </p:grpSpPr>
        <p:pic>
          <p:nvPicPr>
            <p:cNvPr id="130" name="Picture 8" descr="93"/>
            <p:cNvPicPr/>
            <p:nvPr/>
          </p:nvPicPr>
          <p:blipFill>
            <a:blip r:embed="rId2"/>
            <a:srcRect l="5344" t="3401" r="0" b="57509"/>
            <a:stretch/>
          </p:blipFill>
          <p:spPr>
            <a:xfrm>
              <a:off x="468360" y="1484280"/>
              <a:ext cx="5041800" cy="23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9"/>
            <p:cNvSpPr/>
            <p:nvPr/>
          </p:nvSpPr>
          <p:spPr>
            <a:xfrm>
              <a:off x="2554560" y="3610800"/>
              <a:ext cx="1359000" cy="32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220011"/>
                  </a:solidFill>
                  <a:latin typeface="Times New Roman"/>
                </a:rPr>
                <a:t>Frecuencia</a:t>
              </a:r>
              <a:r>
                <a:rPr b="1" lang="es-ES" sz="12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s-ES" sz="1200" spc="-1" strike="noStrike">
                  <a:solidFill>
                    <a:srgbClr val="220011"/>
                  </a:solidFill>
                  <a:latin typeface="Times New Roman"/>
                </a:rPr>
                <a:t>(Hz</a:t>
              </a:r>
              <a:r>
                <a:rPr b="1" lang="es-ES" sz="1200" spc="-1" strike="noStrike">
                  <a:solidFill>
                    <a:srgbClr val="ffffcc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2" name="Line 10"/>
          <p:cNvSpPr/>
          <p:nvPr/>
        </p:nvSpPr>
        <p:spPr>
          <a:xfrm>
            <a:off x="468360" y="3860640"/>
            <a:ext cx="5040360" cy="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12 CuadroTexto"/>
          <p:cNvSpPr/>
          <p:nvPr/>
        </p:nvSpPr>
        <p:spPr>
          <a:xfrm>
            <a:off x="5653440" y="1500120"/>
            <a:ext cx="28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CF= Factor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orrección de re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cc00"/>
                </a:solidFill>
                <a:latin typeface="Times New Roman"/>
              </a:rPr>
              <a:t>Respuesta en frecuencia de un TI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684360" y="1413000"/>
            <a:ext cx="8064360" cy="5256000"/>
            <a:chOff x="684360" y="1413000"/>
            <a:chExt cx="8064360" cy="5256000"/>
          </a:xfrm>
        </p:grpSpPr>
        <p:pic>
          <p:nvPicPr>
            <p:cNvPr id="137" name="Picture 5" descr="95"/>
            <p:cNvPicPr/>
            <p:nvPr/>
          </p:nvPicPr>
          <p:blipFill>
            <a:blip r:embed="rId1"/>
            <a:srcRect l="0" t="0" r="0" b="10342"/>
            <a:stretch/>
          </p:blipFill>
          <p:spPr>
            <a:xfrm>
              <a:off x="684360" y="1413000"/>
              <a:ext cx="8064360" cy="52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6"/>
            <p:cNvSpPr/>
            <p:nvPr/>
          </p:nvSpPr>
          <p:spPr>
            <a:xfrm>
              <a:off x="3996360" y="5953680"/>
              <a:ext cx="2016000" cy="59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220011"/>
                  </a:solidFill>
                  <a:latin typeface="Times New Roman"/>
                </a:rPr>
                <a:t>Frecuencia (Hz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1692360" y="2771640"/>
              <a:ext cx="4320000" cy="79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220011"/>
                  </a:solidFill>
                  <a:latin typeface="Times New Roman"/>
                </a:rPr>
                <a:t>Circuito equivalente pata obtener respuesta en frecuencia de un TI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220011"/>
                  </a:solidFill>
                  <a:latin typeface="Times New Roman"/>
                </a:rPr>
                <a:t>Tafo. Ideal       Arrollamiento primario        Arroll.  secundari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276360" y="5126400"/>
              <a:ext cx="273600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cc"/>
                  </a:solidFill>
                  <a:latin typeface="Times New Roman"/>
                </a:rPr>
                <a:t>Z</a:t>
              </a: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 Z excitación</a:t>
              </a:r>
              <a:r>
                <a:rPr b="1" lang="es-ES_tradnl" sz="800" spc="-1" strike="noStrike">
                  <a:solidFill>
                    <a:srgbClr val="ffffcc"/>
                  </a:solidFill>
                  <a:latin typeface="Times New Roman"/>
                </a:rPr>
                <a:t>   </a:t>
              </a: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C parásitas       Carg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3420360" y="5158080"/>
              <a:ext cx="20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2268360" y="3567240"/>
              <a:ext cx="3312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Clasificación de los disturbios por su ocurre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85840" y="17146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pendencia temporal (hora, día, semana, etc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pendencia estacional (verano o inviern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pendencia con las maniobras del sistema (transferencia de cargas, conexión de capacitores, etc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pendencia con el comportamiento de la carg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pendencia con el diseño del sistema eléctrico (puesta a tierra, línea aérea protegida, et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pendencia con el ciclo de carga de un usuario particular (horno de arco, bloqueo de motores, etc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Aleato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Nivel de información requerida para resultados representativos</a:t>
            </a: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6" name="Picture 31" descr="98"/>
          <p:cNvPicPr/>
          <p:nvPr/>
        </p:nvPicPr>
        <p:blipFill>
          <a:blip r:embed="rId1"/>
          <a:srcRect l="0" t="0" r="0" b="12498"/>
          <a:stretch/>
        </p:blipFill>
        <p:spPr>
          <a:xfrm>
            <a:off x="5072040" y="1714680"/>
            <a:ext cx="3273480" cy="2041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2" descr="97"/>
          <p:cNvPicPr/>
          <p:nvPr/>
        </p:nvPicPr>
        <p:blipFill>
          <a:blip r:embed="rId2"/>
          <a:srcRect l="0" t="0" r="0" b="56601"/>
          <a:stretch/>
        </p:blipFill>
        <p:spPr>
          <a:xfrm>
            <a:off x="571680" y="1643040"/>
            <a:ext cx="3747960" cy="206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99"/>
          <p:cNvPicPr/>
          <p:nvPr/>
        </p:nvPicPr>
        <p:blipFill>
          <a:blip r:embed="rId3"/>
          <a:srcRect l="6949" t="0" r="9036" b="7882"/>
          <a:stretch/>
        </p:blipFill>
        <p:spPr>
          <a:xfrm>
            <a:off x="179280" y="4005360"/>
            <a:ext cx="4356360" cy="2377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4" descr="100"/>
          <p:cNvPicPr/>
          <p:nvPr/>
        </p:nvPicPr>
        <p:blipFill>
          <a:blip r:embed="rId4"/>
          <a:srcRect l="0" t="0" r="0" b="10976"/>
          <a:stretch/>
        </p:blipFill>
        <p:spPr>
          <a:xfrm>
            <a:off x="4932360" y="4076640"/>
            <a:ext cx="3917880" cy="2224080"/>
          </a:xfrm>
          <a:prstGeom prst="rect">
            <a:avLst/>
          </a:prstGeom>
          <a:ln w="0">
            <a:noFill/>
          </a:ln>
        </p:spPr>
      </p:pic>
      <p:sp>
        <p:nvSpPr>
          <p:cNvPr id="150" name="8 CuadroTexto"/>
          <p:cNvSpPr/>
          <p:nvPr/>
        </p:nvSpPr>
        <p:spPr>
          <a:xfrm>
            <a:off x="7560" y="1285920"/>
            <a:ext cx="32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cc"/>
                </a:solidFill>
                <a:latin typeface="Times New Roman"/>
              </a:rPr>
              <a:t>Σ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= 52 períodos = 52 seman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9 CuadroTexto"/>
          <p:cNvSpPr/>
          <p:nvPr/>
        </p:nvSpPr>
        <p:spPr>
          <a:xfrm>
            <a:off x="5079600" y="1357200"/>
            <a:ext cx="32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cc"/>
                </a:solidFill>
                <a:latin typeface="Times New Roman"/>
              </a:rPr>
              <a:t>Σ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= 13 períodos = 52 seman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10 CuadroTexto"/>
          <p:cNvSpPr/>
          <p:nvPr/>
        </p:nvSpPr>
        <p:spPr>
          <a:xfrm>
            <a:off x="790920" y="639612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Tiempo entre disturb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11 Elipse"/>
          <p:cNvSpPr/>
          <p:nvPr/>
        </p:nvSpPr>
        <p:spPr>
          <a:xfrm>
            <a:off x="1285920" y="5429160"/>
            <a:ext cx="428760" cy="6429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12 CuadroTexto"/>
          <p:cNvSpPr/>
          <p:nvPr/>
        </p:nvSpPr>
        <p:spPr>
          <a:xfrm>
            <a:off x="149040" y="6000840"/>
            <a:ext cx="96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20011"/>
                </a:solidFill>
                <a:latin typeface="Times New Roman"/>
              </a:rPr>
              <a:t>Explosió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20011"/>
                </a:solidFill>
                <a:latin typeface="Times New Roman"/>
              </a:rPr>
              <a:t>de disturbio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55" name="14 Conector recto de flecha"/>
          <p:cNvCxnSpPr/>
          <p:nvPr/>
        </p:nvCxnSpPr>
        <p:spPr>
          <a:xfrm flipV="1">
            <a:off x="1000080" y="5928840"/>
            <a:ext cx="286560" cy="21528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6" name="16 Conector recto"/>
          <p:cNvSpPr/>
          <p:nvPr/>
        </p:nvSpPr>
        <p:spPr>
          <a:xfrm>
            <a:off x="857160" y="5072040"/>
            <a:ext cx="3143520" cy="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17 CuadroTexto"/>
          <p:cNvSpPr/>
          <p:nvPr/>
        </p:nvSpPr>
        <p:spPr>
          <a:xfrm>
            <a:off x="3934440" y="4929120"/>
            <a:ext cx="74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20011"/>
                </a:solidFill>
                <a:latin typeface="Times New Roman"/>
              </a:rPr>
              <a:t>Promedio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20011"/>
                </a:solidFill>
                <a:latin typeface="Times New Roman"/>
              </a:rPr>
              <a:t>½ hor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19 Elipse"/>
          <p:cNvSpPr/>
          <p:nvPr/>
        </p:nvSpPr>
        <p:spPr>
          <a:xfrm>
            <a:off x="3143160" y="5357880"/>
            <a:ext cx="428760" cy="428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20 Elipse"/>
          <p:cNvSpPr/>
          <p:nvPr/>
        </p:nvSpPr>
        <p:spPr>
          <a:xfrm>
            <a:off x="6357960" y="4000680"/>
            <a:ext cx="428760" cy="428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21 CuadroTexto"/>
          <p:cNvSpPr/>
          <p:nvPr/>
        </p:nvSpPr>
        <p:spPr>
          <a:xfrm>
            <a:off x="5650560" y="642924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Tiempo óptimo de monitore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61" name="23 Conector recto de flecha"/>
          <p:cNvCxnSpPr/>
          <p:nvPr/>
        </p:nvCxnSpPr>
        <p:spPr>
          <a:xfrm flipH="1" flipV="1">
            <a:off x="6643080" y="4571280"/>
            <a:ext cx="286200" cy="185796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2" name="25 Conector recto"/>
          <p:cNvSpPr/>
          <p:nvPr/>
        </p:nvSpPr>
        <p:spPr>
          <a:xfrm>
            <a:off x="7000920" y="5000760"/>
            <a:ext cx="128592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Otras consider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onocimiento del person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Información disponib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Preparación ini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Selección de localiz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Para diagnóstico, evaluación o predic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Instal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Alimentación y comunic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alibr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Umbrales de detec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2781000"/>
            <a:ext cx="266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Umbrales de detección sugeridos por IEEE 1159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3198960" y="0"/>
          <a:ext cx="5822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8960" y="0"/>
                    <a:ext cx="5822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cc00"/>
                </a:solidFill>
                <a:latin typeface="Times New Roman"/>
              </a:rPr>
              <a:t>Interpretación de resulta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00"/>
                </a:solidFill>
                <a:latin typeface="Times New Roman"/>
              </a:rPr>
              <a:t>Distribución de probabilida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00"/>
                </a:solidFill>
                <a:latin typeface="Times New Roman"/>
              </a:rPr>
              <a:t>Correl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00"/>
                </a:solidFill>
                <a:latin typeface="Times New Roman"/>
              </a:rPr>
              <a:t>Tendencias temporal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Diarias, semanales y estacion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Guía para correlación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síntoma - evento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arte I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324000" y="2133720"/>
          <a:ext cx="8496000" cy="444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33720"/>
                    <a:ext cx="8496000" cy="44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5 Elipse"/>
          <p:cNvSpPr/>
          <p:nvPr/>
        </p:nvSpPr>
        <p:spPr>
          <a:xfrm>
            <a:off x="3214800" y="4714920"/>
            <a:ext cx="28548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7 Elipse"/>
          <p:cNvSpPr/>
          <p:nvPr/>
        </p:nvSpPr>
        <p:spPr>
          <a:xfrm>
            <a:off x="3500280" y="4714920"/>
            <a:ext cx="28584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8 Elipse"/>
          <p:cNvSpPr/>
          <p:nvPr/>
        </p:nvSpPr>
        <p:spPr>
          <a:xfrm>
            <a:off x="3786120" y="4714920"/>
            <a:ext cx="28584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9 Elipse"/>
          <p:cNvSpPr/>
          <p:nvPr/>
        </p:nvSpPr>
        <p:spPr>
          <a:xfrm>
            <a:off x="3571920" y="4214880"/>
            <a:ext cx="28584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10 Elipse"/>
          <p:cNvSpPr/>
          <p:nvPr/>
        </p:nvSpPr>
        <p:spPr>
          <a:xfrm>
            <a:off x="2786040" y="4500720"/>
            <a:ext cx="285840" cy="28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11 Elipse"/>
          <p:cNvSpPr/>
          <p:nvPr/>
        </p:nvSpPr>
        <p:spPr>
          <a:xfrm>
            <a:off x="2928960" y="4714920"/>
            <a:ext cx="28584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12 Elipse"/>
          <p:cNvSpPr/>
          <p:nvPr/>
        </p:nvSpPr>
        <p:spPr>
          <a:xfrm>
            <a:off x="3071880" y="5786280"/>
            <a:ext cx="28584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13 Elipse"/>
          <p:cNvSpPr/>
          <p:nvPr/>
        </p:nvSpPr>
        <p:spPr>
          <a:xfrm>
            <a:off x="3357720" y="5786280"/>
            <a:ext cx="28548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14 Elipse"/>
          <p:cNvSpPr/>
          <p:nvPr/>
        </p:nvSpPr>
        <p:spPr>
          <a:xfrm>
            <a:off x="3643200" y="5786280"/>
            <a:ext cx="28584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370836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Guía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ara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rrelación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síntoma - evento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arte II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4073400" y="17640"/>
          <a:ext cx="5070600" cy="68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3400" y="17640"/>
                    <a:ext cx="50706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5 Rectángulo"/>
          <p:cNvSpPr/>
          <p:nvPr/>
        </p:nvSpPr>
        <p:spPr>
          <a:xfrm>
            <a:off x="4071960" y="5357880"/>
            <a:ext cx="1643040" cy="78588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6 Rectángulo"/>
          <p:cNvSpPr/>
          <p:nvPr/>
        </p:nvSpPr>
        <p:spPr>
          <a:xfrm>
            <a:off x="4071960" y="4500720"/>
            <a:ext cx="1643040" cy="142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7 Rectángulo"/>
          <p:cNvSpPr/>
          <p:nvPr/>
        </p:nvSpPr>
        <p:spPr>
          <a:xfrm>
            <a:off x="4071960" y="3929040"/>
            <a:ext cx="1643040" cy="1429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8 Rectángulo"/>
          <p:cNvSpPr/>
          <p:nvPr/>
        </p:nvSpPr>
        <p:spPr>
          <a:xfrm>
            <a:off x="5715000" y="571680"/>
            <a:ext cx="1643040" cy="142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9 Rectángulo"/>
          <p:cNvSpPr/>
          <p:nvPr/>
        </p:nvSpPr>
        <p:spPr>
          <a:xfrm>
            <a:off x="5786280" y="4071960"/>
            <a:ext cx="1643400" cy="1429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10 Rectángulo"/>
          <p:cNvSpPr/>
          <p:nvPr/>
        </p:nvSpPr>
        <p:spPr>
          <a:xfrm>
            <a:off x="5786280" y="4857840"/>
            <a:ext cx="1643400" cy="50004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11 Rectángulo"/>
          <p:cNvSpPr/>
          <p:nvPr/>
        </p:nvSpPr>
        <p:spPr>
          <a:xfrm>
            <a:off x="7429680" y="1000080"/>
            <a:ext cx="1643040" cy="50004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12 Rectángulo"/>
          <p:cNvSpPr/>
          <p:nvPr/>
        </p:nvSpPr>
        <p:spPr>
          <a:xfrm>
            <a:off x="7429680" y="2500200"/>
            <a:ext cx="1643040" cy="214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13 Rectángulo"/>
          <p:cNvSpPr/>
          <p:nvPr/>
        </p:nvSpPr>
        <p:spPr>
          <a:xfrm>
            <a:off x="7429680" y="3071880"/>
            <a:ext cx="1643040" cy="1429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MONITOREO DE LA CALIDAD DE POTENCIA</a:t>
            </a: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8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cc00"/>
                </a:solidFill>
                <a:latin typeface="Times New Roman"/>
              </a:rPr>
              <a:t>Objetivos del monitoreo: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825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cc"/>
                </a:solidFill>
                <a:latin typeface="Times New Roman"/>
              </a:rPr>
              <a:t>Evaluación (¿Qué ocurre?)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825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cc"/>
                </a:solidFill>
                <a:latin typeface="Times New Roman"/>
              </a:rPr>
              <a:t>Diagnóstico (¿Qué lo causa y como se soluciona?)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825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cc"/>
                </a:solidFill>
                <a:latin typeface="Times New Roman"/>
              </a:rPr>
              <a:t>Predicción (¿Cómo afectarán los cambios?)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825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c000"/>
                </a:solidFill>
                <a:latin typeface="Times New Roman"/>
              </a:rPr>
              <a:t>El objetivo fija el esquema de monitoreo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Reglas de oro del monitore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56760" y="107172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ience analizando los problemas simp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ruebe la razonabilidad de los da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o se deje entusiasmar por una solución fác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nozca perfectamente el funcionamiento, características y limitaciones del equipamiento de monitoreo emplead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usque lo obv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Evite la “parálisis del análisi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rigirse desde lo “grueso” a lo “fino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nducir el análisis como “pelando una cebolla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Desafíos futuro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9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Se estima que para el año 2010, el 60 % de la energía pasará a través de electrónica de potenc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El incremento en armónicas a nivel distribución está en el orden del 2 % anu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Se esperan grandes modificaciones en la estructura de los sistemas de distribución con la incorporación masiva de generación distribuid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Pasos futuros para armoniz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84582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ay varios frentes que deben atacarse en forma inmediata, com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ffff"/>
                </a:solidFill>
                <a:latin typeface="Times New Roman"/>
              </a:rPr>
              <a:t>Cambios en la operación del sistema eléctric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ffff"/>
                </a:solidFill>
                <a:latin typeface="Times New Roman"/>
              </a:rPr>
              <a:t>Mejor control del organismo regulad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ffff"/>
                </a:solidFill>
                <a:latin typeface="Times New Roman"/>
              </a:rPr>
              <a:t>Existencia de normas obligatorias y modern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ffff"/>
                </a:solidFill>
                <a:latin typeface="Times New Roman"/>
              </a:rPr>
              <a:t>Supervisión por parte de la municipalidad de los equipos e instalac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ffff"/>
                </a:solidFill>
                <a:latin typeface="Times New Roman"/>
              </a:rPr>
              <a:t>Concientización del usuari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800" spc="-1" strike="noStrike">
                <a:solidFill>
                  <a:srgbClr val="ffcc00"/>
                </a:solidFill>
                <a:latin typeface="Times New Roman"/>
              </a:rPr>
              <a:t>CONCLUSIONES</a:t>
            </a: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La situación actual puede ser mejorada en gran medida pero es necesario que cada uno de los cinco sectores involucrados </a:t>
            </a:r>
            <a:r>
              <a:rPr b="1" lang="es-ES_tradnl" sz="4400" spc="-1" strike="noStrike" u="sng">
                <a:solidFill>
                  <a:srgbClr val="66ffff"/>
                </a:solidFill>
                <a:uFillTx/>
                <a:latin typeface="Times New Roman"/>
              </a:rPr>
              <a:t>entienda</a:t>
            </a: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 los problemas sufridos por los restan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MUCHAS GRACI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Times New Roman"/>
              </a:rPr>
              <a:t>PREGUNTAS 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Tarjeta de Proble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48974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INFORME DE PERTURB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sta tarjeta debe ser usada solamente para informar de perturbaciones o interrupciones del servicio con duración no mayor a un minuto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Nombre:__________________________________________________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Dirección:_________________________________________________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Fecha de la interrupción o del hueco de tensión: __________________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¿Parpadearon las lámparas?  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Si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No.     ¿Cuantas veces ocurrió? 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¿A que hora del día se presentaron? ___________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¿Se apagaron las luces?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Si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No.             ¿Cuantas veces ocurrió? _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¿Debió Usted rearrancar los relojes o alguno de los siguientes equipos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Computadora personal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Vídeo reproducto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Horno de microondas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Televis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Otro equipo __________________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¿Salió de servicio su computadora?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Si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No.   ¿Cuantas veces ocurrió?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Describa su reacción a la perturbación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No se irrito         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Se irrito algo          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Se irrito much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¿Informo de alguno de estos problemas a su compañía local por teléfono?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Si   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No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Equipamiento de monitoreo</a:t>
            </a:r>
            <a:br>
              <a:rPr sz="40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Primera generació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00"/>
                </a:solidFill>
                <a:latin typeface="Times New Roman"/>
              </a:rPr>
              <a:t>Deficienci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evado volumen de información para procesar, que se empeora en gran medida con el aumento de puntos de medi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volumen de datos a transmitir está limitado por el mecanismo de comunic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 medida que se conoce con más profundidad al sistema, ciertos eventos no necesitan de análisis detallado. La información resumida es de mayor provecho que la detalla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valor real de un sistema de monitoreo radica en su habilidad para generar información de aplicación directa en la toma de decisiones, mas que el recolectar y almacenar elevados volúmenes de información sin procesar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Equipamiento de monitoreo</a:t>
            </a:r>
            <a:br>
              <a:rPr sz="40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Segunda generació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134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instrumento en sí mismo se transforma en una parte del sistema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ja de ser un mecanismo que crea información sin elaborar, contribuyendo al proceso de generación de informació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aplican algoritmos que analizan la información en bruto en el lugar donde se la obtie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osteriormente a filtrarla se la transmite empleando software y tecnologías de comunicaciones especi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oniéndola a disposición más rápidamente y en mayor cantidad de puntos que lo que era posible previamen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Equipamiento de monitoreo</a:t>
            </a:r>
            <a:br>
              <a:rPr sz="40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Tercera generació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corporación de herramientas para disminuir los tiempos y costos de comunicación mediante nuevas tecnologías de compresión de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sponibilidad de disparo inteligente para evitar registros de eventos normales y repetitivos, etc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eracción a través de la World Wide Web, comportándose cada equipo de monitoreo como una “web site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acilitan la interacción con otros sistemas como de operación y explotación de potencia, de protecciones, de detección de descargas atmosféricas en tiempo real, climatología, etc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cceso protegido por el clásico sistema de palabra clave en esquemas jerarquizados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Ejemplo de información suministrada por un moderno medidor de energí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7" name="Picture 4" descr="92"/>
          <p:cNvPicPr/>
          <p:nvPr/>
        </p:nvPicPr>
        <p:blipFill>
          <a:blip r:embed="rId1">
            <a:lum bright="12000"/>
          </a:blip>
          <a:srcRect l="1318" t="0" r="1410" b="2402"/>
          <a:stretch/>
        </p:blipFill>
        <p:spPr>
          <a:xfrm>
            <a:off x="1187280" y="1368360"/>
            <a:ext cx="66978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Tipos de equipos de monitoreo</a:t>
            </a: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00"/>
                </a:solidFill>
                <a:latin typeface="Times New Roman"/>
              </a:rPr>
              <a:t>Analizadores de régimen perman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Voltímetros, amperímetros, osciloscopios, espectrómetr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00"/>
                </a:solidFill>
                <a:latin typeface="Times New Roman"/>
              </a:rPr>
              <a:t>Analizadores de disturbi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nvencionales (alfanumérico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Alfanuméricos + Gráf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00"/>
                </a:solidFill>
                <a:latin typeface="Times New Roman"/>
              </a:rPr>
              <a:t>Tendencia a emplear equipo fijo en lugar de portáti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ás por razones comerciales y/o tarifar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Requerimientos generales</a:t>
            </a:r>
            <a:r>
              <a:rPr b="1" lang="es-ES" sz="4000" spc="-1" strike="noStrike">
                <a:solidFill>
                  <a:srgbClr val="ffcc00"/>
                </a:solidFill>
                <a:latin typeface="Times New Roman"/>
              </a:rPr>
              <a:t> del equipo de monitore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Señales a monitor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Almacenamiento y comunicación de da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Técnicas de medi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racterísticas del equipo EPRI DPQ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etección de transitorios, variación de valor eficaz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USUARIO</cp:lastModifiedBy>
  <dcterms:modified xsi:type="dcterms:W3CDTF">2008-10-07T23:34:15Z</dcterms:modified>
  <cp:revision>126</cp:revision>
  <dc:subject/>
  <dc:title>Sin título de diapositiva</dc:title>
</cp:coreProperties>
</file>