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7E70-76C5-4317-A1C4-651C11A3F0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5B4A-1749-42D9-9137-1856B5A93145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ED24-6820-42A1-93BD-61CC81AA37F9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537D-9B0A-440E-9B7B-EEED497828FC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6654-A288-4250-8626-9DC1272AFF7A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8482-B93E-460B-85FB-994EBB48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BFB-3433-4D1F-9484-FF0665DD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FB7-DC2D-4370-B4D5-E38F02F0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849-B656-4215-B03C-0D46DEDA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1D56-41EF-4D95-9A93-16CAB534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DD1E-C9E4-4BDB-ABFE-95ADD918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3FB6-7097-4A48-8408-297ABF9A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3FEE-6441-4380-8A85-0BB0FFA7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8773-BAC1-40AE-A815-0E79487E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EE6A-B926-4CBC-8276-06CD0029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DEFC-94C7-4A6D-8F88-46B9C2A7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F408-C7EA-4676-926D-3305FC7B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55E3-4653-4A6E-963E-7B644ED6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33B5-A124-4CC3-9DBF-2C72D81A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65E4-4BB1-400C-9D72-3F5298C4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001C-0291-45C3-86AE-26929CF5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8306-3809-4A03-AF9E-4DD4DF35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EBBC-EA12-497F-9993-E263F8DF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B818-32CD-4A28-AC42-70946760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FB72-FC01-455D-A354-B955DB51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80F-A1DE-4560-B606-F557ED01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D28F-0214-443C-B828-C21A4355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B7F-F4C7-4F6E-91CF-607A3921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EB59-B1D3-437D-9354-AC657D89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74B8-A770-4F35-B8E7-BE5261F8C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287F-CCF5-4784-8517-A1E817E0D27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Capítulo 9</a:t>
            </a:r>
            <a:br>
              <a:rPr sz="4400"/>
            </a:br>
            <a:br>
              <a:rPr sz="4400"/>
            </a:b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MONITOREO DE LA CALIDAD DE POTENCIA</a:t>
            </a:r>
            <a:r>
              <a:rPr b="0" lang="es-E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Requerimientos para los transductores </a:t>
            </a:r>
            <a:br>
              <a:rPr sz="4000"/>
            </a:br>
            <a:r>
              <a:rPr b="1" lang="es-ES_tradnl" sz="3200" spc="-1" strike="noStrike">
                <a:solidFill>
                  <a:srgbClr val="ffcc00"/>
                </a:solidFill>
                <a:latin typeface="Times New Roman"/>
              </a:rPr>
              <a:t>Transformadores de tensión y corriente</a:t>
            </a:r>
            <a:r>
              <a:rPr b="0" lang="es-E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cc"/>
                </a:solidFill>
                <a:latin typeface="Times New Roman"/>
              </a:rPr>
              <a:t>Nivel de seña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cc"/>
                </a:solidFill>
                <a:latin typeface="Times New Roman"/>
              </a:rPr>
              <a:t>Respuesta en frecuenci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cc"/>
                </a:solidFill>
                <a:latin typeface="Times New Roman"/>
              </a:rPr>
              <a:t>Características ambiental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cc00"/>
                </a:solidFill>
                <a:latin typeface="Times New Roman"/>
              </a:rPr>
              <a:t>Respuesta en frecuencia de un TV</a:t>
            </a:r>
            <a:br>
              <a:rPr sz="4000"/>
            </a:br>
            <a:r>
              <a:rPr b="0" lang="es-AR" sz="3200" spc="-1" strike="noStrike">
                <a:solidFill>
                  <a:srgbClr val="ffcc00"/>
                </a:solidFill>
                <a:latin typeface="Times New Roman"/>
              </a:rPr>
              <a:t>efecto de la carga: 1 Mohm y 100 ohm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3635280" y="4221000"/>
            <a:ext cx="5281560" cy="2457720"/>
            <a:chOff x="3635280" y="4221000"/>
            <a:chExt cx="5281560" cy="2457720"/>
          </a:xfrm>
        </p:grpSpPr>
        <p:pic>
          <p:nvPicPr>
            <p:cNvPr id="127" name="Picture 5" descr="93"/>
            <p:cNvPicPr/>
            <p:nvPr/>
          </p:nvPicPr>
          <p:blipFill>
            <a:blip r:embed="rId1"/>
            <a:srcRect l="0" t="49294" r="0" b="6515"/>
            <a:stretch/>
          </p:blipFill>
          <p:spPr>
            <a:xfrm>
              <a:off x="3635280" y="4221000"/>
              <a:ext cx="5281560" cy="24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6"/>
            <p:cNvSpPr/>
            <p:nvPr/>
          </p:nvSpPr>
          <p:spPr>
            <a:xfrm>
              <a:off x="5703840" y="6396120"/>
              <a:ext cx="131616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220011"/>
                  </a:solidFill>
                  <a:latin typeface="Times New Roman"/>
                </a:rPr>
                <a:t>Frecuencia (Hz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9" name="Group 7"/>
          <p:cNvGrpSpPr/>
          <p:nvPr/>
        </p:nvGrpSpPr>
        <p:grpSpPr>
          <a:xfrm>
            <a:off x="468360" y="1484280"/>
            <a:ext cx="5041800" cy="2447640"/>
            <a:chOff x="468360" y="1484280"/>
            <a:chExt cx="5041800" cy="2447640"/>
          </a:xfrm>
        </p:grpSpPr>
        <p:pic>
          <p:nvPicPr>
            <p:cNvPr id="130" name="Picture 8" descr="93"/>
            <p:cNvPicPr/>
            <p:nvPr/>
          </p:nvPicPr>
          <p:blipFill>
            <a:blip r:embed="rId2"/>
            <a:srcRect l="5344" t="3401" r="0" b="57509"/>
            <a:stretch/>
          </p:blipFill>
          <p:spPr>
            <a:xfrm>
              <a:off x="468360" y="1484280"/>
              <a:ext cx="5041800" cy="23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9"/>
            <p:cNvSpPr/>
            <p:nvPr/>
          </p:nvSpPr>
          <p:spPr>
            <a:xfrm>
              <a:off x="2554560" y="3610800"/>
              <a:ext cx="1359000" cy="32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220011"/>
                  </a:solidFill>
                  <a:latin typeface="Times New Roman"/>
                </a:rPr>
                <a:t>Frecuencia</a:t>
              </a:r>
              <a:r>
                <a:rPr b="1" lang="es-ES" sz="12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s-ES" sz="1200" spc="-1" strike="noStrike">
                  <a:solidFill>
                    <a:srgbClr val="220011"/>
                  </a:solidFill>
                  <a:latin typeface="Times New Roman"/>
                </a:rPr>
                <a:t>(Hz</a:t>
              </a:r>
              <a:r>
                <a:rPr b="1" lang="es-ES" sz="1200" spc="-1" strike="noStrike">
                  <a:solidFill>
                    <a:srgbClr val="ffffcc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2" name="Line 10"/>
          <p:cNvSpPr/>
          <p:nvPr/>
        </p:nvSpPr>
        <p:spPr>
          <a:xfrm>
            <a:off x="468360" y="3860640"/>
            <a:ext cx="5040360" cy="0"/>
          </a:xfrm>
          <a:prstGeom prst="line">
            <a:avLst/>
          </a:prstGeom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12 CuadroTexto"/>
          <p:cNvSpPr/>
          <p:nvPr/>
        </p:nvSpPr>
        <p:spPr>
          <a:xfrm>
            <a:off x="5653440" y="1500120"/>
            <a:ext cx="28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RCF= Factor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orrección de re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cc00"/>
                </a:solidFill>
                <a:latin typeface="Times New Roman"/>
              </a:rPr>
              <a:t>Respuesta en frecuencia de un TI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684360" y="1413000"/>
            <a:ext cx="8064360" cy="5256000"/>
            <a:chOff x="684360" y="1413000"/>
            <a:chExt cx="8064360" cy="5256000"/>
          </a:xfrm>
        </p:grpSpPr>
        <p:pic>
          <p:nvPicPr>
            <p:cNvPr id="137" name="Picture 5" descr="95"/>
            <p:cNvPicPr/>
            <p:nvPr/>
          </p:nvPicPr>
          <p:blipFill>
            <a:blip r:embed="rId1"/>
            <a:srcRect l="0" t="0" r="0" b="10342"/>
            <a:stretch/>
          </p:blipFill>
          <p:spPr>
            <a:xfrm>
              <a:off x="684360" y="1413000"/>
              <a:ext cx="8064360" cy="52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6"/>
            <p:cNvSpPr/>
            <p:nvPr/>
          </p:nvSpPr>
          <p:spPr>
            <a:xfrm>
              <a:off x="3996360" y="5953680"/>
              <a:ext cx="2016000" cy="59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220011"/>
                  </a:solidFill>
                  <a:latin typeface="Times New Roman"/>
                </a:rPr>
                <a:t>Frecuencia (Hz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Text Box 7"/>
            <p:cNvSpPr/>
            <p:nvPr/>
          </p:nvSpPr>
          <p:spPr>
            <a:xfrm>
              <a:off x="1692360" y="2771640"/>
              <a:ext cx="4320000" cy="79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220011"/>
                  </a:solidFill>
                  <a:latin typeface="Times New Roman"/>
                </a:rPr>
                <a:t>Circuito equivalente pata obtener respuesta en frecuencia de un TI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220011"/>
                  </a:solidFill>
                  <a:latin typeface="Times New Roman"/>
                </a:rPr>
                <a:t>Tafo. Ideal       Arrollamiento primario        Arroll.  secundari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3276360" y="5126400"/>
              <a:ext cx="273600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cc"/>
                  </a:solidFill>
                  <a:latin typeface="Times New Roman"/>
                </a:rPr>
                <a:t>Z</a:t>
              </a:r>
              <a:r>
                <a:rPr b="1" lang="es-ES_tradnl" sz="1200" spc="-1" strike="noStrike">
                  <a:solidFill>
                    <a:srgbClr val="220011"/>
                  </a:solidFill>
                  <a:latin typeface="Times New Roman"/>
                </a:rPr>
                <a:t> Z excitación</a:t>
              </a:r>
              <a:r>
                <a:rPr b="1" lang="es-ES_tradnl" sz="800" spc="-1" strike="noStrike">
                  <a:solidFill>
                    <a:srgbClr val="ffffcc"/>
                  </a:solidFill>
                  <a:latin typeface="Times New Roman"/>
                </a:rPr>
                <a:t>   </a:t>
              </a:r>
              <a:r>
                <a:rPr b="1" lang="es-ES_tradnl" sz="1200" spc="-1" strike="noStrike">
                  <a:solidFill>
                    <a:srgbClr val="220011"/>
                  </a:solidFill>
                  <a:latin typeface="Times New Roman"/>
                </a:rPr>
                <a:t>C parásitas       Carg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3420360" y="5158080"/>
              <a:ext cx="20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>
              <a:off x="2268360" y="3567240"/>
              <a:ext cx="3312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Clasificación de los disturbios por su ocurre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85840" y="171468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Dependencia temporal (hora, día, semana, etc.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Dependencia estacional (verano o invierno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Dependencia con las maniobras del sistema (transferencia de cargas, conexión de capacitores, etc.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Dependencia con el comportamiento de la carg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Dependencia con el diseño del sistema eléctrico (puesta a tierra, línea aérea protegida, et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Dependencia con el ciclo de carga de un usuario particular (horno de arco, bloqueo de motores, etc.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Aleato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Nivel de información requerida para resultados representativos</a:t>
            </a:r>
            <a:r>
              <a:rPr b="0" lang="es-E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6" name="Picture 31" descr="98"/>
          <p:cNvPicPr/>
          <p:nvPr/>
        </p:nvPicPr>
        <p:blipFill>
          <a:blip r:embed="rId1"/>
          <a:srcRect l="0" t="0" r="0" b="12498"/>
          <a:stretch/>
        </p:blipFill>
        <p:spPr>
          <a:xfrm>
            <a:off x="5072040" y="1714680"/>
            <a:ext cx="3273480" cy="2041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2" descr="97"/>
          <p:cNvPicPr/>
          <p:nvPr/>
        </p:nvPicPr>
        <p:blipFill>
          <a:blip r:embed="rId2"/>
          <a:srcRect l="0" t="0" r="0" b="56601"/>
          <a:stretch/>
        </p:blipFill>
        <p:spPr>
          <a:xfrm>
            <a:off x="571680" y="1643040"/>
            <a:ext cx="3747960" cy="2063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3" descr="99"/>
          <p:cNvPicPr/>
          <p:nvPr/>
        </p:nvPicPr>
        <p:blipFill>
          <a:blip r:embed="rId3"/>
          <a:srcRect l="6949" t="0" r="9036" b="7882"/>
          <a:stretch/>
        </p:blipFill>
        <p:spPr>
          <a:xfrm>
            <a:off x="179280" y="4005360"/>
            <a:ext cx="4356360" cy="2377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4" descr="100"/>
          <p:cNvPicPr/>
          <p:nvPr/>
        </p:nvPicPr>
        <p:blipFill>
          <a:blip r:embed="rId4"/>
          <a:srcRect l="0" t="0" r="0" b="10976"/>
          <a:stretch/>
        </p:blipFill>
        <p:spPr>
          <a:xfrm>
            <a:off x="4932360" y="4076640"/>
            <a:ext cx="3917880" cy="2224080"/>
          </a:xfrm>
          <a:prstGeom prst="rect">
            <a:avLst/>
          </a:prstGeom>
          <a:ln w="0">
            <a:noFill/>
          </a:ln>
        </p:spPr>
      </p:pic>
      <p:sp>
        <p:nvSpPr>
          <p:cNvPr id="150" name="8 CuadroTexto"/>
          <p:cNvSpPr/>
          <p:nvPr/>
        </p:nvSpPr>
        <p:spPr>
          <a:xfrm>
            <a:off x="7560" y="1285920"/>
            <a:ext cx="32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cc"/>
                </a:solidFill>
                <a:latin typeface="Times New Roman"/>
              </a:rPr>
              <a:t>Σ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 = 52 períodos = 52 seman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9 CuadroTexto"/>
          <p:cNvSpPr/>
          <p:nvPr/>
        </p:nvSpPr>
        <p:spPr>
          <a:xfrm>
            <a:off x="5079600" y="1357200"/>
            <a:ext cx="32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cc"/>
                </a:solidFill>
                <a:latin typeface="Times New Roman"/>
              </a:rPr>
              <a:t>Σ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 = 13 períodos = 52 seman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10 CuadroTexto"/>
          <p:cNvSpPr/>
          <p:nvPr/>
        </p:nvSpPr>
        <p:spPr>
          <a:xfrm>
            <a:off x="790920" y="639612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Tiempo entre disturb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11 Elipse"/>
          <p:cNvSpPr/>
          <p:nvPr/>
        </p:nvSpPr>
        <p:spPr>
          <a:xfrm>
            <a:off x="1285920" y="5429160"/>
            <a:ext cx="428760" cy="6429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12 CuadroTexto"/>
          <p:cNvSpPr/>
          <p:nvPr/>
        </p:nvSpPr>
        <p:spPr>
          <a:xfrm>
            <a:off x="149040" y="6000840"/>
            <a:ext cx="96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20011"/>
                </a:solidFill>
                <a:latin typeface="Times New Roman"/>
              </a:rPr>
              <a:t>Explosió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20011"/>
                </a:solidFill>
                <a:latin typeface="Times New Roman"/>
              </a:rPr>
              <a:t>de disturbio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55" name="14 Conector recto de flecha"/>
          <p:cNvCxnSpPr/>
          <p:nvPr/>
        </p:nvCxnSpPr>
        <p:spPr>
          <a:xfrm flipV="1">
            <a:off x="1000080" y="5928840"/>
            <a:ext cx="286560" cy="21528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6" name="16 Conector recto"/>
          <p:cNvSpPr/>
          <p:nvPr/>
        </p:nvSpPr>
        <p:spPr>
          <a:xfrm>
            <a:off x="857160" y="5072040"/>
            <a:ext cx="3143520" cy="14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17 CuadroTexto"/>
          <p:cNvSpPr/>
          <p:nvPr/>
        </p:nvSpPr>
        <p:spPr>
          <a:xfrm>
            <a:off x="3934440" y="4929120"/>
            <a:ext cx="74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20011"/>
                </a:solidFill>
                <a:latin typeface="Times New Roman"/>
              </a:rPr>
              <a:t>Promedio 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220011"/>
                </a:solidFill>
                <a:latin typeface="Times New Roman"/>
              </a:rPr>
              <a:t>½ hora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19 Elipse"/>
          <p:cNvSpPr/>
          <p:nvPr/>
        </p:nvSpPr>
        <p:spPr>
          <a:xfrm>
            <a:off x="3143160" y="5357880"/>
            <a:ext cx="428760" cy="4284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20 Elipse"/>
          <p:cNvSpPr/>
          <p:nvPr/>
        </p:nvSpPr>
        <p:spPr>
          <a:xfrm>
            <a:off x="6357960" y="4000680"/>
            <a:ext cx="428760" cy="4284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21 CuadroTexto"/>
          <p:cNvSpPr/>
          <p:nvPr/>
        </p:nvSpPr>
        <p:spPr>
          <a:xfrm>
            <a:off x="5650560" y="642924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</a:rPr>
              <a:t>Tiempo óptimo de monitore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61" name="23 Conector recto de flecha"/>
          <p:cNvCxnSpPr/>
          <p:nvPr/>
        </p:nvCxnSpPr>
        <p:spPr>
          <a:xfrm flipH="1" flipV="1">
            <a:off x="6643080" y="4571280"/>
            <a:ext cx="286200" cy="185796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2" name="25 Conector recto"/>
          <p:cNvSpPr/>
          <p:nvPr/>
        </p:nvSpPr>
        <p:spPr>
          <a:xfrm>
            <a:off x="7000920" y="5000760"/>
            <a:ext cx="128592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Otras considera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4240" y="1428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Conocimiento del person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Información disponibl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Preparación ini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Selección de localiz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Times New Roman"/>
              </a:rPr>
              <a:t>Para diagnóstico, evaluación o predic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Instal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Times New Roman"/>
              </a:rPr>
              <a:t>Alimentación y comunic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Calibr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cc"/>
                </a:solidFill>
                <a:latin typeface="Times New Roman"/>
              </a:rPr>
              <a:t>Umbrales de detec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2781000"/>
            <a:ext cx="266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Umbrales de detección sugeridos por IEEE 1159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3198960" y="0"/>
          <a:ext cx="58226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8960" y="0"/>
                    <a:ext cx="5822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cc00"/>
                </a:solidFill>
                <a:latin typeface="Times New Roman"/>
              </a:rPr>
              <a:t>Interpretación de resultad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cc00"/>
                </a:solidFill>
                <a:latin typeface="Times New Roman"/>
              </a:rPr>
              <a:t>Distribución de probabilida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cc00"/>
                </a:solidFill>
                <a:latin typeface="Times New Roman"/>
              </a:rPr>
              <a:t>Correl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cc00"/>
                </a:solidFill>
                <a:latin typeface="Times New Roman"/>
              </a:rPr>
              <a:t>Tendencias temporal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Times New Roman"/>
              </a:rPr>
              <a:t>Diarias, semanales y estacion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Guía para correlación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síntoma - evento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Parte I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324000" y="2133720"/>
          <a:ext cx="8496000" cy="444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33720"/>
                    <a:ext cx="8496000" cy="44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5 Elipse"/>
          <p:cNvSpPr/>
          <p:nvPr/>
        </p:nvSpPr>
        <p:spPr>
          <a:xfrm>
            <a:off x="3214800" y="4714920"/>
            <a:ext cx="285480" cy="285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7 Elipse"/>
          <p:cNvSpPr/>
          <p:nvPr/>
        </p:nvSpPr>
        <p:spPr>
          <a:xfrm>
            <a:off x="3500280" y="4714920"/>
            <a:ext cx="285840" cy="285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8 Elipse"/>
          <p:cNvSpPr/>
          <p:nvPr/>
        </p:nvSpPr>
        <p:spPr>
          <a:xfrm>
            <a:off x="3786120" y="4714920"/>
            <a:ext cx="285840" cy="285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9 Elipse"/>
          <p:cNvSpPr/>
          <p:nvPr/>
        </p:nvSpPr>
        <p:spPr>
          <a:xfrm>
            <a:off x="3571920" y="4214880"/>
            <a:ext cx="285840" cy="285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10 Elipse"/>
          <p:cNvSpPr/>
          <p:nvPr/>
        </p:nvSpPr>
        <p:spPr>
          <a:xfrm>
            <a:off x="2786040" y="4500720"/>
            <a:ext cx="285840" cy="28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11 Elipse"/>
          <p:cNvSpPr/>
          <p:nvPr/>
        </p:nvSpPr>
        <p:spPr>
          <a:xfrm>
            <a:off x="2928960" y="4714920"/>
            <a:ext cx="285840" cy="285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12 Elipse"/>
          <p:cNvSpPr/>
          <p:nvPr/>
        </p:nvSpPr>
        <p:spPr>
          <a:xfrm>
            <a:off x="3071880" y="5786280"/>
            <a:ext cx="285840" cy="285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13 Elipse"/>
          <p:cNvSpPr/>
          <p:nvPr/>
        </p:nvSpPr>
        <p:spPr>
          <a:xfrm>
            <a:off x="3357720" y="5786280"/>
            <a:ext cx="285480" cy="285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14 Elipse"/>
          <p:cNvSpPr/>
          <p:nvPr/>
        </p:nvSpPr>
        <p:spPr>
          <a:xfrm>
            <a:off x="3643200" y="5786280"/>
            <a:ext cx="285840" cy="285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370836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Guía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para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rrelación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síntoma - evento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Parte II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4073400" y="17640"/>
          <a:ext cx="5070600" cy="68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3400" y="17640"/>
                    <a:ext cx="50706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5 Rectángulo"/>
          <p:cNvSpPr/>
          <p:nvPr/>
        </p:nvSpPr>
        <p:spPr>
          <a:xfrm>
            <a:off x="4071960" y="5357880"/>
            <a:ext cx="1643040" cy="78588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50760" dir="5400000" blurRad="0" rotWithShape="0">
              <a:srgbClr val="ffff9e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6 Rectángulo"/>
          <p:cNvSpPr/>
          <p:nvPr/>
        </p:nvSpPr>
        <p:spPr>
          <a:xfrm>
            <a:off x="4071960" y="4500720"/>
            <a:ext cx="1643040" cy="1425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50760" dir="5400000" blurRad="0" rotWithShape="0">
              <a:srgbClr val="ffff9e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7 Rectángulo"/>
          <p:cNvSpPr/>
          <p:nvPr/>
        </p:nvSpPr>
        <p:spPr>
          <a:xfrm>
            <a:off x="4071960" y="3929040"/>
            <a:ext cx="1643040" cy="14292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50760" dir="5400000" blurRad="0" rotWithShape="0">
              <a:srgbClr val="ffff9e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8 Rectángulo"/>
          <p:cNvSpPr/>
          <p:nvPr/>
        </p:nvSpPr>
        <p:spPr>
          <a:xfrm>
            <a:off x="5715000" y="571680"/>
            <a:ext cx="1643040" cy="1425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50760" dir="5400000" blurRad="0" rotWithShape="0">
              <a:srgbClr val="ffff9e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9 Rectángulo"/>
          <p:cNvSpPr/>
          <p:nvPr/>
        </p:nvSpPr>
        <p:spPr>
          <a:xfrm>
            <a:off x="5786280" y="4071960"/>
            <a:ext cx="1643400" cy="14292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50760" dir="5400000" blurRad="0" rotWithShape="0">
              <a:srgbClr val="ffff9e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10 Rectángulo"/>
          <p:cNvSpPr/>
          <p:nvPr/>
        </p:nvSpPr>
        <p:spPr>
          <a:xfrm>
            <a:off x="5786280" y="4857840"/>
            <a:ext cx="1643400" cy="50004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50760" dir="5400000" blurRad="0" rotWithShape="0">
              <a:srgbClr val="ffff9e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11 Rectángulo"/>
          <p:cNvSpPr/>
          <p:nvPr/>
        </p:nvSpPr>
        <p:spPr>
          <a:xfrm>
            <a:off x="7429680" y="1000080"/>
            <a:ext cx="1643040" cy="50004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50760" dir="5400000" blurRad="0" rotWithShape="0">
              <a:srgbClr val="ffff9e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12 Rectángulo"/>
          <p:cNvSpPr/>
          <p:nvPr/>
        </p:nvSpPr>
        <p:spPr>
          <a:xfrm>
            <a:off x="7429680" y="2500200"/>
            <a:ext cx="1643040" cy="21456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50760" dir="5400000" blurRad="0" rotWithShape="0">
              <a:srgbClr val="ffff9e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13 Rectángulo"/>
          <p:cNvSpPr/>
          <p:nvPr/>
        </p:nvSpPr>
        <p:spPr>
          <a:xfrm>
            <a:off x="7429680" y="3071880"/>
            <a:ext cx="1643040" cy="14292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  <a:effectLst>
            <a:outerShdw dist="50760" dir="5400000" blurRad="0" rotWithShape="0">
              <a:srgbClr val="ffff9e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MONITOREO DE LA CALIDAD DE POTENCIA</a:t>
            </a:r>
            <a:r>
              <a:rPr b="0" lang="es-E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825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cc00"/>
                </a:solidFill>
                <a:latin typeface="Times New Roman"/>
              </a:rPr>
              <a:t>Objetivos del monitoreo:</a:t>
            </a: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825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ffcc"/>
                </a:solidFill>
                <a:latin typeface="Times New Roman"/>
              </a:rPr>
              <a:t>Evaluación (¿Qué ocurre?)</a:t>
            </a: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825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ffcc"/>
                </a:solidFill>
                <a:latin typeface="Times New Roman"/>
              </a:rPr>
              <a:t>Diagnóstico (¿Qué lo causa y como se soluciona?)</a:t>
            </a: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825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ffcc"/>
                </a:solidFill>
                <a:latin typeface="Times New Roman"/>
              </a:rPr>
              <a:t>Predicción (¿Cómo afectarán los cambios?)</a:t>
            </a: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825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c000"/>
                </a:solidFill>
                <a:latin typeface="Times New Roman"/>
              </a:rPr>
              <a:t>El objetivo fija el esquema de monitoreo</a:t>
            </a: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Reglas de oro del monitore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56760" y="1071720"/>
            <a:ext cx="857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mience analizando los problemas simp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ruebe la razonabilidad de los dat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No se deje entusiasmar por una solución fác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nozca perfectamente el funcionamiento, características y limitaciones del equipamiento de monitoreo emplead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Busque lo obv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Evite la “parálisis del análisi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irigirse desde lo “grueso” a lo “fino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nducir el análisis como “pelando una cebolla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Desafíos futuros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9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Se estima que para el año 2010, el 60 % de la energía pasará a través de electrónica de potenc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591120" indent="-591120">
              <a:spcBef>
                <a:spcPts val="9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El incremento en armónicas a nivel distribución está en el orden del 2 % anu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591120" indent="-591120">
              <a:spcBef>
                <a:spcPts val="9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Se esperan grandes modificaciones en la estructura de los sistemas de distribución con la incorporación masiva de generación distribuid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Pasos futuros para armoniz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125360"/>
            <a:ext cx="84582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Hay varios frentes que deben atacarse en forma inmediata, com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66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ffff"/>
                </a:solidFill>
                <a:latin typeface="Times New Roman"/>
              </a:rPr>
              <a:t>Cambios en la operación del sistema eléctric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66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ffff"/>
                </a:solidFill>
                <a:latin typeface="Times New Roman"/>
              </a:rPr>
              <a:t>Mejor control del organismo regulad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66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ffff"/>
                </a:solidFill>
                <a:latin typeface="Times New Roman"/>
              </a:rPr>
              <a:t>Existencia de normas obligatorias y modern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66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ffff"/>
                </a:solidFill>
                <a:latin typeface="Times New Roman"/>
              </a:rPr>
              <a:t>Supervisión por parte de la municipalidad de los equipos e instalac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66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ffff"/>
                </a:solidFill>
                <a:latin typeface="Times New Roman"/>
              </a:rPr>
              <a:t>Concientización del usuari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4800" spc="-1" strike="noStrike">
                <a:solidFill>
                  <a:srgbClr val="ffcc00"/>
                </a:solidFill>
                <a:latin typeface="Times New Roman"/>
              </a:rPr>
              <a:t>CONCLUSIONES</a:t>
            </a: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822960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La situación actual puede ser mejorada en gran medida pero es necesario que cada uno de los cinco sectores involucrados </a:t>
            </a:r>
            <a:r>
              <a:rPr b="1" lang="es-ES_tradnl" sz="4400" spc="-1" strike="noStrike" u="sng">
                <a:solidFill>
                  <a:srgbClr val="66ffff"/>
                </a:solidFill>
                <a:uFillTx/>
                <a:latin typeface="Times New Roman"/>
              </a:rPr>
              <a:t>entienda</a:t>
            </a: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 los problemas sufridos por los restan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MUCHAS GRACI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Times New Roman"/>
              </a:rPr>
              <a:t>PREGUNTAS 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00"/>
                </a:solidFill>
                <a:latin typeface="Times New Roman"/>
              </a:rPr>
              <a:t>Tarjeta de Problem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48974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INFORME DE PERTURB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sta tarjeta debe ser usada solamente para informar de perturbaciones o interrupciones del servicio con duración no mayor a un minuto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Nombre:_________________________________________________________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Dirección:________________________________________________________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Fecha de la interrupción o del hueco de tensión: _________________________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¿Parpadearon las lámparas?     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Si 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No.     ¿Cuantas veces ocurrió? _______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¿A que hora del día se presentaron? __________________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¿Se apagaron las luces?   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Si 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No.             ¿Cuantas veces ocurrió? ________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¿Debió Usted rearrancar los relojes o alguno de los siguientes equipos?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Computadora personal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Vídeo reproductor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Horno de microondas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Televis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Otro equipo _________________________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¿Salió de servicio su computadora?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Si 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No.   ¿Cuantas veces ocurrió?_____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Describa su reacción a la perturbación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       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No se irrito            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Se irrito algo             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Se irrito much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¿Informo de alguno de estos problemas a su compañía local por teléfono?  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Si       </a:t>
            </a:r>
            <a:r>
              <a:rPr b="0" lang="es-ES_tradnl" sz="1800" spc="-1" strike="noStrike">
                <a:solidFill>
                  <a:srgbClr val="ffffcc"/>
                </a:solidFill>
                <a:latin typeface="Symbol"/>
                <a:ea typeface="Symbol"/>
              </a:rPr>
              <a:t>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No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Equipamiento de monitoreo</a:t>
            </a:r>
            <a:br>
              <a:rPr sz="4000"/>
            </a:br>
            <a:r>
              <a:rPr b="0" lang="es-AR" sz="3200" spc="-1" strike="noStrike">
                <a:solidFill>
                  <a:srgbClr val="ffcc00"/>
                </a:solidFill>
                <a:latin typeface="Times New Roman"/>
              </a:rPr>
              <a:t>Primera generació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cc00"/>
                </a:solidFill>
                <a:latin typeface="Times New Roman"/>
              </a:rPr>
              <a:t>Deficienci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evado volumen de información para procesar, que se empeora en gran medida con el aumento de puntos de medi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volumen de datos a transmitir está limitado por el mecanismo de comunic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 medida que se conoce con más profundidad al sistema, ciertos eventos no necesitan de análisis detallado. La información resumida es de mayor provecho que la detallad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l valor real de un sistema de monitoreo radica en su habilidad para generar información de aplicación directa en la toma de decisiones, mas que el recolectar y almacenar elevados volúmenes de información sin procesar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Equipamiento de monitoreo</a:t>
            </a:r>
            <a:br>
              <a:rPr sz="4000"/>
            </a:br>
            <a:r>
              <a:rPr b="0" lang="es-AR" sz="3200" spc="-1" strike="noStrike">
                <a:solidFill>
                  <a:srgbClr val="ffcc00"/>
                </a:solidFill>
                <a:latin typeface="Times New Roman"/>
              </a:rPr>
              <a:t>Segunda generació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81342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l instrumento en sí mismo se transforma en una parte del sistema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eja de ser un mecanismo que crea información sin elaborar, contribuyendo al proceso de generación de información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 aplican algoritmos que analizan la información en bruto en el lugar donde se la obtie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osteriormente a filtrarla se la transmite empleando software y tecnologías de comunicaciones especi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oniéndola a disposición más rápidamente y en mayor cantidad de puntos que lo que era posible previamen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Equipamiento de monitoreo</a:t>
            </a:r>
            <a:br>
              <a:rPr sz="4000"/>
            </a:br>
            <a:r>
              <a:rPr b="0" lang="es-AR" sz="3200" spc="-1" strike="noStrike">
                <a:solidFill>
                  <a:srgbClr val="ffcc00"/>
                </a:solidFill>
                <a:latin typeface="Times New Roman"/>
              </a:rPr>
              <a:t>Tercera generació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corporación de herramientas para disminuir los tiempos y costos de comunicación mediante nuevas tecnologías de compresión de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isponibilidad de disparo inteligente para evitar registros de eventos normales y repetitivos, etc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teracción a través de la World Wide Web, comportándose cada equipo de monitoreo como una “web site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acilitan la interacción con otros sistemas como de operación y explotación de potencia, de protecciones, de detección de descargas atmosféricas en tiempo real, climatología, etc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cceso protegido por el clásico sistema de palabra clave en esquemas jerarquizados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Ejemplo de información suministrada por un moderno medidor de energí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7" name="Picture 4" descr="92"/>
          <p:cNvPicPr/>
          <p:nvPr/>
        </p:nvPicPr>
        <p:blipFill>
          <a:blip r:embed="rId1">
            <a:lum bright="12000"/>
          </a:blip>
          <a:srcRect l="1318" t="0" r="1410" b="2402"/>
          <a:stretch/>
        </p:blipFill>
        <p:spPr>
          <a:xfrm>
            <a:off x="1187280" y="1368360"/>
            <a:ext cx="669780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Tipos de equipos de monitoreo</a:t>
            </a: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cc00"/>
                </a:solidFill>
                <a:latin typeface="Times New Roman"/>
              </a:rPr>
              <a:t>Analizadores de régimen permanen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Voltímetros, amperímetros, osciloscopios, espectrómetr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cc00"/>
                </a:solidFill>
                <a:latin typeface="Times New Roman"/>
              </a:rPr>
              <a:t>Analizadores de disturbi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nvencionales (alfanumérico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Times New Roman"/>
              </a:rPr>
              <a:t>Alfanuméricos + Gráfic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cc00"/>
                </a:solidFill>
                <a:latin typeface="Times New Roman"/>
              </a:rPr>
              <a:t>Tendencia a emplear equipo fijo en lugar de portátil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ás por razones comerciales y/o tarifar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Requerimientos generales</a:t>
            </a:r>
            <a:r>
              <a:rPr b="1" lang="es-ES" sz="4000" spc="-1" strike="noStrike">
                <a:solidFill>
                  <a:srgbClr val="ffcc00"/>
                </a:solidFill>
                <a:latin typeface="Times New Roman"/>
              </a:rPr>
              <a:t> del equipo de monitore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Times New Roman"/>
              </a:rPr>
              <a:t>Señales a monitor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Times New Roman"/>
              </a:rPr>
              <a:t>Almacenamiento y comunicación de dat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Times New Roman"/>
              </a:rPr>
              <a:t>Técnicas de medi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aracterísticas del equipo EPRI DPQ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etección de transitorios, variación de valor eficaz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5T23:55:06Z</dcterms:created>
  <dc:creator>IPSEP</dc:creator>
  <dc:description/>
  <dc:language>en-US</dc:language>
  <cp:lastModifiedBy>USUARIO</cp:lastModifiedBy>
  <dcterms:modified xsi:type="dcterms:W3CDTF">2008-10-07T23:34:15Z</dcterms:modified>
  <cp:revision>126</cp:revision>
  <dc:subject/>
  <dc:title>Sin título de diapositiva</dc:title>
</cp:coreProperties>
</file>