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.wmf" ContentType="image/x-wmf"/>
  <Override PartName="/ppt/media/image32.wmf" ContentType="image/x-wmf"/>
  <Override PartName="/ppt/media/image18.jpeg" ContentType="image/jpeg"/>
  <Override PartName="/ppt/media/image16.jpeg" ContentType="image/jpeg"/>
  <Override PartName="/ppt/media/image35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14.wmf" ContentType="image/x-wmf"/>
  <Override PartName="/ppt/media/image22.jpeg" ContentType="image/jpeg"/>
  <Override PartName="/ppt/media/image39.png" ContentType="image/png"/>
  <Override PartName="/ppt/media/image42.wmf" ContentType="image/x-wmf"/>
  <Override PartName="/ppt/media/image1.jpeg" ContentType="image/jpeg"/>
  <Override PartName="/ppt/media/image10.png" ContentType="image/png"/>
  <Override PartName="/ppt/media/image9.jpeg" ContentType="image/jpeg"/>
  <Override PartName="/ppt/media/image23.wmf" ContentType="image/x-wmf"/>
  <Override PartName="/ppt/media/image38.png" ContentType="image/png"/>
  <Override PartName="/ppt/media/image34.wmf" ContentType="image/x-wmf"/>
  <Override PartName="/ppt/media/image36.png" ContentType="image/png"/>
  <Override PartName="/ppt/media/image37.png" ContentType="image/png"/>
  <Override PartName="/ppt/media/image41.png" ContentType="image/png"/>
  <Override PartName="/ppt/media/image31.wmf" ContentType="image/x-wmf"/>
  <Override PartName="/ppt/media/image46.png" ContentType="image/png"/>
  <Override PartName="/ppt/media/image6.wmf" ContentType="image/x-wmf"/>
  <Override PartName="/ppt/media/image19.jpeg" ContentType="image/jpeg"/>
  <Override PartName="/ppt/media/image29.wmf" ContentType="image/x-wmf"/>
  <Override PartName="/ppt/media/image43.wmf" ContentType="image/x-wmf"/>
  <Override PartName="/ppt/media/image44.wmf" ContentType="image/x-wmf"/>
  <Override PartName="/ppt/media/image45.png" ContentType="image/png"/>
  <Override PartName="/ppt/media/image33.wmf" ContentType="image/x-wmf"/>
  <Override PartName="/ppt/media/image13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7.wmf" ContentType="image/x-wmf"/>
  <Override PartName="/ppt/media/image20.jpeg" ContentType="image/jpeg"/>
  <Override PartName="/ppt/media/image17.jpeg" ContentType="image/jpeg"/>
  <Override PartName="/ppt/media/image11.wmf" ContentType="image/x-wmf"/>
  <Override PartName="/ppt/media/image5.jpeg" ContentType="image/jpeg"/>
  <Override PartName="/ppt/media/image40.png" ContentType="image/png"/>
  <Override PartName="/ppt/media/image8.wmf" ContentType="image/x-wmf"/>
  <Override PartName="/ppt/media/image4.jpeg" ContentType="image/jpeg"/>
  <Override PartName="/ppt/media/image28.wmf" ContentType="image/x-wmf"/>
  <Override PartName="/ppt/media/image3.jpeg" ContentType="image/jpe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F427-1F2C-4ECB-8AD3-AD9A4ECF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3336-61E3-48F7-8353-CA4F9DCB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52D9-B4A8-4035-9E31-C712CC31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153B-C221-4ACB-9FA8-30D3B774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9B45-245D-4B23-AC6E-E12F6FC3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0162-8620-4375-BEF2-FA774CA1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0F6A-B49B-4D73-904B-A526C0F5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B0BA-A7A0-498D-B37F-331E5EA0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A8EF-8270-4FCE-9E58-093D7AE3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EA8B-6CDD-49DA-875E-509F089F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E825-4826-4F6B-95E2-DC2F2543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8D41-C6D8-4B21-AA3C-10C39799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4CF5-AD0D-4CBD-90DB-F6F12F2E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4462-910C-4C00-BCC6-099E178B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B406-AA02-41F0-8177-3BC4B012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75A7-49E7-45AE-8BFC-EACC0654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B290-55E7-4920-98BB-C4969FE4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FC5F-5B56-4BE9-97BB-541447CA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0EDA-EE69-4425-AA23-6111B5D8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0541-5E09-4F0E-9664-8A3BF357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060C-1AF3-4CDF-80FD-9DBEAE01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6CCF-35D9-4679-881A-1B42713D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A398-763F-4CD6-998B-AE1C3DD3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ECD7-5FE3-46D9-A143-06E75146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9EBE-E060-4983-8A18-BAA9D46E85D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CE09-0A21-49FD-AC87-FA03408029A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349360"/>
            <a:ext cx="8353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Capítulo 8</a:t>
            </a:r>
            <a:br>
              <a:rPr sz="4400"/>
            </a:br>
            <a:br>
              <a:rPr sz="4400"/>
            </a:b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VARIACIONES DE TENSIÓN DE RÉGIMEN PERMANENTE</a:t>
            </a: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mportamiento de los equipos con tensión distinta a la nominal</a:t>
            </a:r>
            <a:br>
              <a:rPr sz="4000"/>
            </a:b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Motor trifásico, 10HP, 90% de carga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374840" y="2395440"/>
          <a:ext cx="6530760" cy="368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2395440"/>
                    <a:ext cx="653076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mportamiento de los equipos con tensión distinta a la nominal</a:t>
            </a:r>
            <a:br>
              <a:rPr sz="4000"/>
            </a:b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Motor trifásico, 10HP, 100% de carga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258920" y="2097000"/>
          <a:ext cx="6697800" cy="39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097000"/>
                    <a:ext cx="669780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mportamiento de los equipos con tensión distinta a la nominal</a:t>
            </a:r>
            <a:br>
              <a:rPr sz="4000"/>
            </a:b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Motor trifásico, 10HP, 120% de carga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403280" y="2179800"/>
          <a:ext cx="6624720" cy="388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179800"/>
                    <a:ext cx="662472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Comportamiento motor de inducción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13443" t="17498" r="8767" b="13585"/>
          <a:stretch/>
        </p:blipFill>
        <p:spPr>
          <a:xfrm>
            <a:off x="0" y="836640"/>
            <a:ext cx="4356000" cy="5616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rcRect l="13511" t="21152" r="8705" b="26733"/>
          <a:stretch/>
        </p:blipFill>
        <p:spPr>
          <a:xfrm>
            <a:off x="4427640" y="836640"/>
            <a:ext cx="4716360" cy="4514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003640" y="5589720"/>
            <a:ext cx="3672000" cy="11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Características nominales: 410 V, 60 Hz, 10 H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cc"/>
                </a:solidFill>
                <a:latin typeface="Times New Roman"/>
              </a:rPr>
              <a:t>EPRI, Research Project 1419-1/1981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cc00"/>
                </a:solidFill>
                <a:latin typeface="Times New Roman"/>
              </a:rPr>
              <a:t>Regulación de tensión: métodos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81000"/>
            <a:ext cx="91440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Uso de generadores distribuidos (como reguladores de tensió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Aplicación de Reguladores de tensión en subestaciones de distribu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Aplicación de condensadores en subestaciones de distribu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Balance de cargas en alimentadores prim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Incremento de la sección de los conducto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Paso de alimentación monofásica a trifás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Transferencia de carga a nuevos alimentado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Nuevas subestaciones y alimentado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Incremento del nivel de tensión prima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Aplicación de los reguladores de tensión en alimentadores prim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Aplicación de condensadores paralelo en alimentadores prim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Aplicación de condensadores serie en alimentadores prim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cc00"/>
                </a:solidFill>
                <a:latin typeface="Times New Roman"/>
              </a:rPr>
              <a:t>Reguladores de tensión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Reguladores para distribu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Transformador ferroresonan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Cambiador de tomas de estado sólid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Sintetizadores magnétic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Fuentes ininterrumpibles (UPS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Grupo moto-generado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Compensadores estátic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cc00"/>
                </a:solidFill>
                <a:latin typeface="Times New Roman"/>
              </a:rPr>
              <a:t>Regulador de tensión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981000"/>
            <a:ext cx="86421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Básicamente, un autotransformador con varios pasos en un bobinado seri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Mantiene la tensión constante sin importar la magnitud o el factor de potencia de la carg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Tipo Estación: monofásicos o trifásic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Tipo Distribución: Monofásic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De 25 a 1.000 kVA y 2,4 a 34,5 kV (en estación hasta 69kV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Típicamente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±10% en 32 pas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Reguladores para Distribución 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5970"/>
          <a:stretch/>
        </p:blipFill>
        <p:spPr>
          <a:xfrm>
            <a:off x="2195640" y="1622520"/>
            <a:ext cx="5184720" cy="4457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771640" y="6021360"/>
            <a:ext cx="3600720" cy="0"/>
          </a:xfrm>
          <a:prstGeom prst="line">
            <a:avLst/>
          </a:prstGeom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Reguladores para distribución II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187280" y="1268280"/>
            <a:ext cx="6769440" cy="5329080"/>
            <a:chOff x="1187280" y="1268280"/>
            <a:chExt cx="6769440" cy="532908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rcRect l="0" t="0" r="5518" b="9865"/>
            <a:stretch/>
          </p:blipFill>
          <p:spPr>
            <a:xfrm>
              <a:off x="1187280" y="1268280"/>
              <a:ext cx="6624360" cy="494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3169440" y="1668240"/>
              <a:ext cx="3481200" cy="3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220011"/>
                  </a:solidFill>
                  <a:latin typeface="Times New Roman"/>
                </a:rPr>
                <a:t>(a) Sin compensación de caída en línea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89480" y="4392360"/>
              <a:ext cx="4786920" cy="3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220011"/>
                  </a:solidFill>
                  <a:latin typeface="Times New Roman"/>
                </a:rPr>
                <a:t>(b) Con compensación de caída en línea, en este punto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4080" y="3094920"/>
              <a:ext cx="6092640" cy="64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220011"/>
                  </a:solidFill>
                  <a:latin typeface="Times New Roman"/>
                </a:rPr>
                <a:t>Perfil de tensión                                                                              Perfil de tensión con carga pico                                                                                 en valle de carga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64080" y="5949000"/>
              <a:ext cx="6092640" cy="64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220011"/>
                  </a:solidFill>
                  <a:latin typeface="Times New Roman"/>
                </a:rPr>
                <a:t>Perfil de tensión                                                                              Perfil de tensión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220011"/>
                  </a:solidFill>
                  <a:latin typeface="Times New Roman"/>
                </a:rPr>
                <a:t>con carga pico                                                                                 en valle de carga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7812000" y="1268280"/>
            <a:ext cx="289080" cy="532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87280" y="6093000"/>
            <a:ext cx="7207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Reguladores para distribución II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Rechazo de carg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55640" y="2060640"/>
            <a:ext cx="7416720" cy="4537080"/>
            <a:chOff x="755640" y="2060640"/>
            <a:chExt cx="7416720" cy="453708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rcRect l="0" t="0" r="0" b="17920"/>
            <a:stretch/>
          </p:blipFill>
          <p:spPr>
            <a:xfrm>
              <a:off x="755640" y="2060640"/>
              <a:ext cx="7416720" cy="45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946880" y="3140640"/>
              <a:ext cx="3020400" cy="86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220011"/>
                  </a:solidFill>
                  <a:latin typeface="Times New Roman"/>
                </a:rPr>
                <a:t>                   </a:t>
              </a:r>
              <a:r>
                <a:rPr b="0" lang="es-ES_tradnl" sz="1600" spc="-1" strike="noStrike">
                  <a:solidFill>
                    <a:srgbClr val="220011"/>
                  </a:solidFill>
                  <a:latin typeface="Times New Roman"/>
                </a:rPr>
                <a:t>Perfil</a:t>
              </a:r>
              <a:r>
                <a:rPr b="0" lang="es-ES_tradnl" sz="16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s-ES_tradnl" sz="1600" spc="-1" strike="noStrike">
                  <a:solidFill>
                    <a:srgbClr val="220011"/>
                  </a:solidFill>
                  <a:latin typeface="Times New Roman"/>
                </a:rPr>
                <a:t>de tensión luego   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220011"/>
                  </a:solidFill>
                  <a:latin typeface="Times New Roman"/>
                </a:rPr>
                <a:t>                      </a:t>
              </a:r>
              <a:r>
                <a:rPr b="0" lang="es-ES_tradnl" sz="1600" spc="-1" strike="noStrike">
                  <a:solidFill>
                    <a:srgbClr val="220011"/>
                  </a:solidFill>
                  <a:latin typeface="Times New Roman"/>
                </a:rPr>
                <a:t>del rechazo de carg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6280" y="5733360"/>
              <a:ext cx="3624480" cy="86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220011"/>
                  </a:solidFill>
                  <a:latin typeface="Times New Roman"/>
                </a:rPr>
                <a:t>Perfil de tensión antes</a:t>
              </a:r>
              <a:r>
                <a:rPr b="0" lang="es-ES_tradnl" sz="16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s-ES_tradnl" sz="1600" spc="-1" strike="noStrike">
                  <a:solidFill>
                    <a:srgbClr val="220011"/>
                  </a:solidFill>
                  <a:latin typeface="Times New Roman"/>
                </a:rPr>
                <a:t>del</a:t>
              </a:r>
              <a:r>
                <a:rPr b="0" lang="es-ES_tradnl" sz="16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s-ES_tradnl" sz="1600" spc="-1" strike="noStrike">
                  <a:solidFill>
                    <a:srgbClr val="220011"/>
                  </a:solidFill>
                  <a:latin typeface="Times New Roman"/>
                </a:rPr>
                <a:t>rechazo de carg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381636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Variaciones de tensión de régimen permanente</a:t>
            </a: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3645000"/>
            <a:ext cx="428472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R % = (V0 – Vn) / Vn  x 1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7072" t="0" r="4611" b="10161"/>
          <a:stretch/>
        </p:blipFill>
        <p:spPr>
          <a:xfrm>
            <a:off x="4859280" y="189000"/>
            <a:ext cx="4130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cc00"/>
                </a:solidFill>
                <a:latin typeface="Times New Roman"/>
              </a:rPr>
              <a:t>Regulador de tensión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1125360"/>
            <a:ext cx="864216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Se plantea un punto de regulación entre el regulador y el extremo final del alimentado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Esto se logra ajustando una resistencia y una reactancia en el Compensador de Caída de Línea (Line-Drop Compensator) del panel de control del regulador: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6251" t="0" r="0" b="0"/>
          <a:stretch/>
        </p:blipFill>
        <p:spPr>
          <a:xfrm>
            <a:off x="1835280" y="2235240"/>
            <a:ext cx="554508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34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cc00"/>
                </a:solidFill>
                <a:latin typeface="Times New Roman"/>
              </a:rPr>
              <a:t>Regulador de tensión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907920"/>
            <a:ext cx="86421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R</a:t>
            </a:r>
            <a:r>
              <a:rPr b="1" lang="es-ES_tradnl" sz="1600" spc="-1" strike="noStrike" baseline="-25000">
                <a:solidFill>
                  <a:srgbClr val="ffffcc"/>
                </a:solidFill>
                <a:latin typeface="Times New Roman"/>
                <a:ea typeface="Arial"/>
              </a:rPr>
              <a:t>eff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= Resistencia efectiva de un conductor desde el regulador hasta el punto de regulació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, caída de tensión debido a la resistencia de la línea de la sección </a:t>
            </a:r>
            <a:r>
              <a:rPr b="1" i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ith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del alimentador entre la estación y el punto de regulación, V/secció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 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, caída de tensión total debido a la resistencia de la línea del alimentador entre el regulador y el punto de regulación, V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, magnitud de la corriente de carga en el punto de regulación, 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, magnitud de la corriente de carga en la </a:t>
            </a:r>
            <a:r>
              <a:rPr b="1" i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ith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sección del alimentador, 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r</a:t>
            </a:r>
            <a:r>
              <a:rPr b="1" i="1" lang="es-ES_tradnl" sz="1600" spc="-1" strike="noStrike" baseline="-25000">
                <a:solidFill>
                  <a:srgbClr val="ffffcc"/>
                </a:solidFill>
                <a:latin typeface="Times New Roman"/>
                <a:ea typeface="Arial"/>
              </a:rPr>
              <a:t>a,i</a:t>
            </a:r>
            <a:r>
              <a:rPr b="1" i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, resistencia de un conductor del alimentador en la sección </a:t>
            </a:r>
            <a:r>
              <a:rPr b="1" i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ith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del alimentador, </a:t>
            </a:r>
            <a:r>
              <a:rPr b="1" lang="el-GR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Ω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/K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l</a:t>
            </a:r>
            <a:r>
              <a:rPr b="1" i="1" lang="es-ES_tradnl" sz="1600" spc="-1" strike="noStrike" baseline="-25000">
                <a:solidFill>
                  <a:srgbClr val="ffffcc"/>
                </a:solidFill>
                <a:latin typeface="Times New Roman"/>
                <a:ea typeface="Arial"/>
              </a:rPr>
              <a:t>i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, longitud de la </a:t>
            </a:r>
            <a:r>
              <a:rPr b="1" i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ith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sección del alimentador, K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348000" y="1268280"/>
                <a:ext cx="1260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276720" y="1916280"/>
                <a:ext cx="136836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D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979640" y="2852640"/>
                <a:ext cx="3743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D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95280" y="3573360"/>
                <a:ext cx="5032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24000" y="4292640"/>
                <a:ext cx="5997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D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39640" y="5084640"/>
                <a:ext cx="306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68360" y="5589720"/>
                <a:ext cx="35856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981000"/>
            <a:ext cx="86421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           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X</a:t>
            </a:r>
            <a:r>
              <a:rPr b="1" lang="es-ES_tradnl" sz="1600" spc="-1" strike="noStrike" baseline="-25000">
                <a:solidFill>
                  <a:srgbClr val="ffffcc"/>
                </a:solidFill>
                <a:latin typeface="Times New Roman"/>
                <a:ea typeface="Arial"/>
              </a:rPr>
              <a:t>eff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= Reactancia efectiva de un conductor desde el regulador hasta el punto de regulació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                     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Caída de tensión debido a la reactancia de la línea de la sección </a:t>
            </a:r>
            <a:r>
              <a:rPr b="1" i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ith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del alimentador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                     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entre la estación y el punto de regulación, V/secció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   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Caída de tensión total debido a la reactancia de la línea del alimentador entre el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                      </a:t>
            </a:r>
            <a:r>
              <a:rPr b="1" lang="es-ES_tradnl" sz="1600" spc="-1" strike="noStrike">
                <a:solidFill>
                  <a:srgbClr val="ffffcc"/>
                </a:solidFill>
                <a:latin typeface="Times New Roman"/>
                <a:ea typeface="Arial"/>
              </a:rPr>
              <a:t>regulador y el punto de regulación, V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419640" y="1484280"/>
                <a:ext cx="15127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492360" y="2276640"/>
                <a:ext cx="144000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D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835280" y="3429000"/>
                <a:ext cx="49687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D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95280" y="4292640"/>
                <a:ext cx="8636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D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24000" y="5391000"/>
                <a:ext cx="10080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D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34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Regulador de tens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Compensadores capacitiv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87280" y="1413000"/>
            <a:ext cx="698508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763280" y="2205000"/>
            <a:ext cx="5545080" cy="3529080"/>
            <a:chOff x="1763280" y="2205000"/>
            <a:chExt cx="5545080" cy="352908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rcRect l="18188" t="42870" r="0" b="14290"/>
            <a:stretch/>
          </p:blipFill>
          <p:spPr>
            <a:xfrm>
              <a:off x="2645640" y="3897360"/>
              <a:ext cx="4536720" cy="18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 flipV="1">
              <a:off x="3906000" y="2712600"/>
              <a:ext cx="0" cy="118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426360" y="2543400"/>
              <a:ext cx="0" cy="135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1763280" y="2712600"/>
              <a:ext cx="21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63640" y="2374200"/>
              <a:ext cx="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1763640" y="2374200"/>
              <a:ext cx="2142360" cy="33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63640" y="2712600"/>
              <a:ext cx="2142360" cy="3384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63640" y="2712600"/>
              <a:ext cx="2142360" cy="84600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58000" y="4743360"/>
              <a:ext cx="756000" cy="50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220011"/>
                  </a:solidFill>
                  <a:latin typeface="Times New Roman"/>
                </a:rPr>
                <a:t>carg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88000" y="2374200"/>
              <a:ext cx="0" cy="84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5796360" y="2543400"/>
              <a:ext cx="63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788000" y="2543400"/>
              <a:ext cx="88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70360" y="2374200"/>
              <a:ext cx="0" cy="3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360" y="2374200"/>
              <a:ext cx="0" cy="3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88000" y="2543400"/>
              <a:ext cx="1638360" cy="101520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96360" y="220500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96360" y="2881800"/>
              <a:ext cx="0" cy="3384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96360" y="2881800"/>
              <a:ext cx="630000" cy="3384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52360" y="4743360"/>
              <a:ext cx="756000" cy="50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220011"/>
                  </a:solidFill>
                  <a:latin typeface="Times New Roman"/>
                </a:rPr>
                <a:t>carg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52360" y="4743360"/>
              <a:ext cx="0" cy="338400"/>
            </a:xfrm>
            <a:prstGeom prst="line">
              <a:avLst/>
            </a:prstGeom>
            <a:ln w="88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867280" y="2205000"/>
            <a:ext cx="0" cy="360360"/>
          </a:xfrm>
          <a:prstGeom prst="line">
            <a:avLst/>
          </a:prstGeom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96000" y="2060640"/>
            <a:ext cx="0" cy="21600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br>
              <a:rPr sz="4000"/>
            </a:br>
            <a:r>
              <a:rPr b="0" lang="es-AR" sz="3200" spc="-1" strike="noStrike">
                <a:solidFill>
                  <a:srgbClr val="ffcc00"/>
                </a:solidFill>
                <a:latin typeface="Times New Roman"/>
              </a:rPr>
              <a:t>Método de Componentes Simétricas</a:t>
            </a:r>
            <a:br>
              <a:rPr sz="3200"/>
            </a:br>
            <a:r>
              <a:rPr b="0" lang="es-AR" sz="3200" spc="-1" strike="noStrike">
                <a:solidFill>
                  <a:srgbClr val="ffcc00"/>
                </a:solidFill>
                <a:latin typeface="Times New Roman"/>
              </a:rPr>
              <a:t>Magnitudes diferentes y/o ángulos distintos a 120°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344000" cy="3166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56480" y="5013360"/>
            <a:ext cx="817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6ffff"/>
                </a:solidFill>
                <a:latin typeface="Times New Roman"/>
              </a:rPr>
              <a:t>Porcentaje de desbalance = 100 x máxima desviación respecto al promedio / promedi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6ffff"/>
                </a:solidFill>
                <a:latin typeface="Times New Roman"/>
              </a:rPr>
              <a:t>(NEMA, IEE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5950080"/>
            <a:ext cx="847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6ffff"/>
                </a:solidFill>
                <a:latin typeface="Times New Roman"/>
              </a:rPr>
              <a:t>Factor de desbalance = 100 x voltaje de secuencia negativa / voltaje de secuencia positiva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6ffff"/>
                </a:solidFill>
                <a:latin typeface="Times New Roman"/>
              </a:rPr>
              <a:t>(IEEE, IEC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914400"/>
            <a:ext cx="8534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COMPONENTES SIMÉTRICAS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i="1" lang="es-ES_tradn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s tensiones o corrientes de un sistema trifásico pueden descomponerse como la suma de dos sistemas trifasicos, una de secuencia positiva y otro de secuencia negativa, mas una componente homopolar</a:t>
            </a:r>
            <a:r>
              <a:rPr b="0" i="1" lang="es-ES_tradnl" sz="1800" spc="-1" strike="noStrike">
                <a:solidFill>
                  <a:srgbClr val="ffffc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Donde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=-0,5+j0,866=1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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20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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y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r>
              <a:rPr b="0" i="1" lang="es-ES_tradnl" sz="18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=-0,5-j0,866=1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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0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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3673440" cy="17143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1476360" y="5589720"/>
            <a:ext cx="1905120" cy="5079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4643280" y="5589720"/>
            <a:ext cx="23623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692280"/>
            <a:ext cx="914400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ORIGEN DEL DESBALANCE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s corrientes de carga son equilibradas pero las impedancias del sistema desequilibradas. Por ejemplo: una carga trifásicas equilibrada es alimentada por una línea con desigual acoplamiento entre fas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s impedancias de los componentes del sistema son balanceadas pero las corrientes de carga son desequilibradas. En general esta será la razón fundamental del desbalanc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AFECTADOS POR EL DESBALANCE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Motores trifás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ntrol trifásico de velocidad de moto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Operación del siste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692280"/>
            <a:ext cx="853416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OPERACIÓN DEL SISTEMA: s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stema trifásico equilibra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i="1" lang="es-ES" sz="1800" spc="-1" strike="noStrike" baseline="-25000">
                <a:solidFill>
                  <a:srgbClr val="ffffcc"/>
                </a:solidFill>
                <a:latin typeface="Times New Roman"/>
              </a:rPr>
              <a:t>rms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:100V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692360" y="981000"/>
            <a:ext cx="5795640" cy="4248000"/>
            <a:chOff x="1692360" y="981000"/>
            <a:chExt cx="5795640" cy="4248000"/>
          </a:xfrm>
        </p:grpSpPr>
        <p:grpSp>
          <p:nvGrpSpPr>
            <p:cNvPr id="277" name=""/>
            <p:cNvGrpSpPr/>
            <p:nvPr/>
          </p:nvGrpSpPr>
          <p:grpSpPr>
            <a:xfrm>
              <a:off x="1990800" y="981000"/>
              <a:ext cx="5198760" cy="1009800"/>
              <a:chOff x="1990800" y="981000"/>
              <a:chExt cx="5198760" cy="1009800"/>
            </a:xfrm>
          </p:grpSpPr>
          <p:sp>
            <p:nvSpPr>
              <p:cNvPr id="278" name=""/>
              <p:cNvSpPr/>
              <p:nvPr/>
            </p:nvSpPr>
            <p:spPr>
              <a:xfrm>
                <a:off x="2528640" y="1239480"/>
                <a:ext cx="537480" cy="520200"/>
              </a:xfrm>
              <a:prstGeom prst="ellipse">
                <a:avLst/>
              </a:prstGeom>
              <a:noFill/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79" name=""/>
              <p:cNvGrpSpPr/>
              <p:nvPr/>
            </p:nvGrpSpPr>
            <p:grpSpPr>
              <a:xfrm>
                <a:off x="3903120" y="1327680"/>
                <a:ext cx="537120" cy="405000"/>
                <a:chOff x="3903120" y="1327680"/>
                <a:chExt cx="537120" cy="405000"/>
              </a:xfrm>
            </p:grpSpPr>
            <p:sp>
              <p:nvSpPr>
                <p:cNvPr id="280" name=""/>
                <p:cNvSpPr/>
                <p:nvPr/>
              </p:nvSpPr>
              <p:spPr>
                <a:xfrm flipH="1">
                  <a:off x="4373280" y="1514880"/>
                  <a:ext cx="66960" cy="21780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H="1" flipV="1">
                  <a:off x="4272480" y="132768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4171680" y="132768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 flipV="1">
                  <a:off x="4070880" y="132768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3970080" y="132768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903120" y="1514880"/>
                  <a:ext cx="66960" cy="21780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6" name=""/>
              <p:cNvSpPr/>
              <p:nvPr/>
            </p:nvSpPr>
            <p:spPr>
              <a:xfrm flipH="1">
                <a:off x="3066120" y="1501200"/>
                <a:ext cx="83628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158080" y="1443240"/>
                <a:ext cx="131760" cy="127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440600" y="1501200"/>
                <a:ext cx="71712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588400" y="1239480"/>
                <a:ext cx="597600" cy="46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ffffcc"/>
                    </a:solidFill>
                    <a:latin typeface="Arial"/>
                  </a:rPr>
                  <a:t>e</a:t>
                </a:r>
                <a:r>
                  <a:rPr b="0" i="1" lang="es-ES" sz="1200" spc="-1" strike="noStrike" baseline="-25000">
                    <a:solidFill>
                      <a:srgbClr val="ffffcc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723840" y="981000"/>
                <a:ext cx="89604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cc"/>
                    </a:solidFill>
                    <a:latin typeface="Arial"/>
                  </a:rPr>
                  <a:t>0,2</a:t>
                </a:r>
                <a:r>
                  <a:rPr b="0" i="1" lang="es-ES" sz="1200" spc="-1" strike="noStrike">
                    <a:solidFill>
                      <a:srgbClr val="ffffcc"/>
                    </a:solidFill>
                    <a:latin typeface="Times New Roman"/>
                  </a:rPr>
                  <a:t>Ω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277240" y="1528560"/>
                <a:ext cx="77652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92" name=""/>
              <p:cNvGrpSpPr/>
              <p:nvPr/>
            </p:nvGrpSpPr>
            <p:grpSpPr>
              <a:xfrm>
                <a:off x="6054120" y="1355040"/>
                <a:ext cx="537120" cy="405000"/>
                <a:chOff x="6054120" y="1355040"/>
                <a:chExt cx="537120" cy="405000"/>
              </a:xfrm>
            </p:grpSpPr>
            <p:sp>
              <p:nvSpPr>
                <p:cNvPr id="293" name=""/>
                <p:cNvSpPr/>
                <p:nvPr/>
              </p:nvSpPr>
              <p:spPr>
                <a:xfrm flipH="1">
                  <a:off x="6524280" y="1542240"/>
                  <a:ext cx="66960" cy="21780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 flipV="1">
                  <a:off x="6423480" y="135504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V="1">
                  <a:off x="6322680" y="135504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 flipV="1">
                  <a:off x="6221880" y="135504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V="1">
                  <a:off x="6121080" y="135504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054120" y="1542240"/>
                  <a:ext cx="66960" cy="21780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6591960" y="1586520"/>
                <a:ext cx="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591960" y="1528560"/>
                <a:ext cx="59760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874840" y="1008360"/>
                <a:ext cx="95580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cc"/>
                    </a:solidFill>
                    <a:latin typeface="Arial"/>
                  </a:rPr>
                  <a:t>3,91</a:t>
                </a:r>
                <a:r>
                  <a:rPr b="0" i="1" lang="es-ES" sz="1200" spc="-1" strike="noStrike">
                    <a:solidFill>
                      <a:srgbClr val="ffffcc"/>
                    </a:solidFill>
                    <a:latin typeface="Times New Roman"/>
                  </a:rPr>
                  <a:t>Ω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918680" y="1528560"/>
                <a:ext cx="597600" cy="46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ffffcc"/>
                    </a:solidFill>
                    <a:latin typeface="Arial"/>
                  </a:rPr>
                  <a:t>u</a:t>
                </a:r>
                <a:r>
                  <a:rPr b="0" i="1" lang="es-ES" sz="1200" spc="-1" strike="noStrike" baseline="-25000">
                    <a:solidFill>
                      <a:srgbClr val="ffffcc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1990800" y="1470960"/>
                <a:ext cx="53748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1990800" y="2048760"/>
              <a:ext cx="5198760" cy="1010160"/>
              <a:chOff x="1990800" y="2048760"/>
              <a:chExt cx="5198760" cy="1010160"/>
            </a:xfrm>
          </p:grpSpPr>
          <p:sp>
            <p:nvSpPr>
              <p:cNvPr id="305" name=""/>
              <p:cNvSpPr/>
              <p:nvPr/>
            </p:nvSpPr>
            <p:spPr>
              <a:xfrm>
                <a:off x="2528640" y="2307600"/>
                <a:ext cx="537480" cy="520200"/>
              </a:xfrm>
              <a:prstGeom prst="ellipse">
                <a:avLst/>
              </a:prstGeom>
              <a:noFill/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3903120" y="2395440"/>
                <a:ext cx="537120" cy="405000"/>
                <a:chOff x="3903120" y="2395440"/>
                <a:chExt cx="537120" cy="405000"/>
              </a:xfrm>
            </p:grpSpPr>
            <p:sp>
              <p:nvSpPr>
                <p:cNvPr id="307" name=""/>
                <p:cNvSpPr/>
                <p:nvPr/>
              </p:nvSpPr>
              <p:spPr>
                <a:xfrm flipH="1">
                  <a:off x="4373280" y="2582640"/>
                  <a:ext cx="66960" cy="21780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 flipV="1">
                  <a:off x="4272480" y="239544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4171680" y="239544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H="1" flipV="1">
                  <a:off x="4070880" y="239544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3970080" y="239544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903120" y="2582640"/>
                  <a:ext cx="66960" cy="21780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 flipH="1">
                <a:off x="3066120" y="2568960"/>
                <a:ext cx="83628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58080" y="2511360"/>
                <a:ext cx="131760" cy="127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440600" y="2568960"/>
                <a:ext cx="71712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588400" y="2307600"/>
                <a:ext cx="597600" cy="46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ffffcc"/>
                    </a:solidFill>
                    <a:latin typeface="Arial"/>
                  </a:rPr>
                  <a:t>e</a:t>
                </a:r>
                <a:r>
                  <a:rPr b="0" i="1" lang="es-ES" sz="1200" spc="-1" strike="noStrike" baseline="-25000">
                    <a:solidFill>
                      <a:srgbClr val="ffffcc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723840" y="2048760"/>
                <a:ext cx="89604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cc"/>
                    </a:solidFill>
                    <a:latin typeface="Arial"/>
                  </a:rPr>
                  <a:t>0,2</a:t>
                </a:r>
                <a:r>
                  <a:rPr b="0" i="1" lang="es-ES" sz="1200" spc="-1" strike="noStrike">
                    <a:solidFill>
                      <a:srgbClr val="ffffcc"/>
                    </a:solidFill>
                    <a:latin typeface="Times New Roman"/>
                  </a:rPr>
                  <a:t>Ω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77240" y="2596320"/>
                <a:ext cx="77652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6054120" y="2422800"/>
                <a:ext cx="537120" cy="405000"/>
                <a:chOff x="6054120" y="2422800"/>
                <a:chExt cx="537120" cy="405000"/>
              </a:xfrm>
            </p:grpSpPr>
            <p:sp>
              <p:nvSpPr>
                <p:cNvPr id="320" name=""/>
                <p:cNvSpPr/>
                <p:nvPr/>
              </p:nvSpPr>
              <p:spPr>
                <a:xfrm flipH="1">
                  <a:off x="6524280" y="2610000"/>
                  <a:ext cx="66960" cy="21780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 flipV="1">
                  <a:off x="6423480" y="242280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V="1">
                  <a:off x="6322680" y="242280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 flipV="1">
                  <a:off x="6221880" y="242280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V="1">
                  <a:off x="6121080" y="242280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054120" y="2610000"/>
                  <a:ext cx="66960" cy="21780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6591960" y="2654640"/>
                <a:ext cx="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91960" y="2596320"/>
                <a:ext cx="59760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874840" y="2076120"/>
                <a:ext cx="95580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cc"/>
                    </a:solidFill>
                    <a:latin typeface="Arial"/>
                  </a:rPr>
                  <a:t>3,91</a:t>
                </a:r>
                <a:r>
                  <a:rPr b="0" i="1" lang="es-ES" sz="1200" spc="-1" strike="noStrike">
                    <a:solidFill>
                      <a:srgbClr val="ffffcc"/>
                    </a:solidFill>
                    <a:latin typeface="Times New Roman"/>
                  </a:rPr>
                  <a:t>Ω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918680" y="2596320"/>
                <a:ext cx="597600" cy="4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ffffcc"/>
                    </a:solidFill>
                    <a:latin typeface="Arial"/>
                  </a:rPr>
                  <a:t>u</a:t>
                </a:r>
                <a:r>
                  <a:rPr b="0" i="1" lang="es-ES" sz="1200" spc="-1" strike="noStrike" baseline="-25000">
                    <a:solidFill>
                      <a:srgbClr val="ffffcc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1990800" y="2538720"/>
                <a:ext cx="53748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1990800" y="3147480"/>
              <a:ext cx="5198760" cy="1009800"/>
              <a:chOff x="1990800" y="3147480"/>
              <a:chExt cx="5198760" cy="1009800"/>
            </a:xfrm>
          </p:grpSpPr>
          <p:sp>
            <p:nvSpPr>
              <p:cNvPr id="332" name=""/>
              <p:cNvSpPr/>
              <p:nvPr/>
            </p:nvSpPr>
            <p:spPr>
              <a:xfrm>
                <a:off x="2528640" y="3405960"/>
                <a:ext cx="537480" cy="520200"/>
              </a:xfrm>
              <a:prstGeom prst="ellipse">
                <a:avLst/>
              </a:prstGeom>
              <a:noFill/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3903120" y="3494160"/>
                <a:ext cx="537120" cy="405000"/>
                <a:chOff x="3903120" y="3494160"/>
                <a:chExt cx="537120" cy="405000"/>
              </a:xfrm>
            </p:grpSpPr>
            <p:sp>
              <p:nvSpPr>
                <p:cNvPr id="334" name=""/>
                <p:cNvSpPr/>
                <p:nvPr/>
              </p:nvSpPr>
              <p:spPr>
                <a:xfrm flipH="1">
                  <a:off x="4373280" y="3681360"/>
                  <a:ext cx="66960" cy="21780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 flipV="1">
                  <a:off x="4272480" y="349416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V="1">
                  <a:off x="4171680" y="349416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 flipV="1">
                  <a:off x="4070880" y="349416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3970080" y="349416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903120" y="3681360"/>
                  <a:ext cx="66960" cy="21780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0" name=""/>
              <p:cNvSpPr/>
              <p:nvPr/>
            </p:nvSpPr>
            <p:spPr>
              <a:xfrm flipH="1">
                <a:off x="3066120" y="3667680"/>
                <a:ext cx="83628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158080" y="3609720"/>
                <a:ext cx="131760" cy="127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440600" y="3667680"/>
                <a:ext cx="71712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588400" y="3405960"/>
                <a:ext cx="597600" cy="46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ffffcc"/>
                    </a:solidFill>
                    <a:latin typeface="Arial"/>
                  </a:rPr>
                  <a:t>e</a:t>
                </a:r>
                <a:r>
                  <a:rPr b="0" i="1" lang="es-ES" sz="1200" spc="-1" strike="noStrike" baseline="-25000">
                    <a:solidFill>
                      <a:srgbClr val="ffffcc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723840" y="3147480"/>
                <a:ext cx="89604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cc"/>
                    </a:solidFill>
                    <a:latin typeface="Arial"/>
                  </a:rPr>
                  <a:t>0,2</a:t>
                </a:r>
                <a:r>
                  <a:rPr b="0" i="1" lang="es-ES" sz="1200" spc="-1" strike="noStrike">
                    <a:solidFill>
                      <a:srgbClr val="ffffcc"/>
                    </a:solidFill>
                    <a:latin typeface="Times New Roman"/>
                  </a:rPr>
                  <a:t>Ω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277240" y="3695040"/>
                <a:ext cx="77652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346" name=""/>
              <p:cNvGrpSpPr/>
              <p:nvPr/>
            </p:nvGrpSpPr>
            <p:grpSpPr>
              <a:xfrm>
                <a:off x="6054120" y="3521520"/>
                <a:ext cx="537120" cy="405000"/>
                <a:chOff x="6054120" y="3521520"/>
                <a:chExt cx="537120" cy="405000"/>
              </a:xfrm>
            </p:grpSpPr>
            <p:sp>
              <p:nvSpPr>
                <p:cNvPr id="347" name=""/>
                <p:cNvSpPr/>
                <p:nvPr/>
              </p:nvSpPr>
              <p:spPr>
                <a:xfrm flipH="1">
                  <a:off x="6524280" y="3708720"/>
                  <a:ext cx="66960" cy="21780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 flipV="1">
                  <a:off x="6423480" y="352152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V="1">
                  <a:off x="6322680" y="352152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 flipV="1">
                  <a:off x="6221880" y="352152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V="1">
                  <a:off x="6121080" y="3521520"/>
                  <a:ext cx="100800" cy="4046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054120" y="3708720"/>
                  <a:ext cx="66960" cy="21780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3" name=""/>
              <p:cNvSpPr/>
              <p:nvPr/>
            </p:nvSpPr>
            <p:spPr>
              <a:xfrm>
                <a:off x="6591960" y="3753000"/>
                <a:ext cx="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591960" y="3695040"/>
                <a:ext cx="59760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874840" y="3174840"/>
                <a:ext cx="95580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cc"/>
                    </a:solidFill>
                    <a:latin typeface="Arial"/>
                  </a:rPr>
                  <a:t>3,91</a:t>
                </a:r>
                <a:r>
                  <a:rPr b="0" i="1" lang="es-ES" sz="1200" spc="-1" strike="noStrike">
                    <a:solidFill>
                      <a:srgbClr val="ffffcc"/>
                    </a:solidFill>
                    <a:latin typeface="Times New Roman"/>
                  </a:rPr>
                  <a:t>Ω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918680" y="3695040"/>
                <a:ext cx="597600" cy="46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ffffcc"/>
                    </a:solidFill>
                    <a:latin typeface="Arial"/>
                  </a:rPr>
                  <a:t>u</a:t>
                </a:r>
                <a:r>
                  <a:rPr b="0" i="1" lang="es-ES" sz="1200" spc="-1" strike="noStrike" baseline="-25000">
                    <a:solidFill>
                      <a:srgbClr val="ffffcc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1990800" y="3637440"/>
                <a:ext cx="53748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1692360" y="1470960"/>
              <a:ext cx="597600" cy="3700440"/>
              <a:chOff x="1692360" y="1470960"/>
              <a:chExt cx="597600" cy="3700440"/>
            </a:xfrm>
          </p:grpSpPr>
          <p:sp>
            <p:nvSpPr>
              <p:cNvPr id="359" name=""/>
              <p:cNvSpPr/>
              <p:nvPr/>
            </p:nvSpPr>
            <p:spPr>
              <a:xfrm>
                <a:off x="1991160" y="1470960"/>
                <a:ext cx="0" cy="36424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692360" y="5113440"/>
                <a:ext cx="59760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811880" y="5171400"/>
                <a:ext cx="35820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931040" y="5171400"/>
                <a:ext cx="11952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6890760" y="1528560"/>
              <a:ext cx="597240" cy="3700440"/>
              <a:chOff x="6890760" y="1528560"/>
              <a:chExt cx="597240" cy="3700440"/>
            </a:xfrm>
          </p:grpSpPr>
          <p:sp>
            <p:nvSpPr>
              <p:cNvPr id="364" name=""/>
              <p:cNvSpPr/>
              <p:nvPr/>
            </p:nvSpPr>
            <p:spPr>
              <a:xfrm>
                <a:off x="7189200" y="1528560"/>
                <a:ext cx="0" cy="36424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890760" y="5171040"/>
                <a:ext cx="59724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010280" y="5229000"/>
                <a:ext cx="35820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129440" y="5229000"/>
                <a:ext cx="11952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3203640" y="4941720"/>
                <a:ext cx="244944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t xml:space="preserve">0,2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∗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1547640" y="5970600"/>
                <a:ext cx="619308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sumid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enerad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=</m:t>
                        </m:r>
                        <m:r>
                          <m:t xml:space="preserve">7,3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4000" y="692280"/>
            <a:ext cx="853416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OPERACIÓN DEL SISTEMA: s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stema trifásico desequilibra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i="1" lang="es-ES" sz="1800" spc="-1" strike="noStrike" baseline="-25000">
                <a:solidFill>
                  <a:srgbClr val="ffffcc"/>
                </a:solidFill>
                <a:latin typeface="Times New Roman"/>
              </a:rPr>
              <a:t>rms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:100V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ffffcc"/>
                </a:solidFill>
                <a:latin typeface="Times New Roman"/>
              </a:rPr>
              <a:t>r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83,33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º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ffffcc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00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120º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ffffcc"/>
                </a:solidFill>
                <a:latin typeface="Times New Roman"/>
              </a:rPr>
              <a:t>r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00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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º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195640" y="1197000"/>
            <a:ext cx="4824000" cy="3744720"/>
            <a:chOff x="2195640" y="1197000"/>
            <a:chExt cx="4824000" cy="3744720"/>
          </a:xfrm>
        </p:grpSpPr>
        <p:grpSp>
          <p:nvGrpSpPr>
            <p:cNvPr id="378" name=""/>
            <p:cNvGrpSpPr/>
            <p:nvPr/>
          </p:nvGrpSpPr>
          <p:grpSpPr>
            <a:xfrm>
              <a:off x="2443680" y="1197000"/>
              <a:ext cx="4326840" cy="889920"/>
              <a:chOff x="2443680" y="1197000"/>
              <a:chExt cx="4326840" cy="889920"/>
            </a:xfrm>
          </p:grpSpPr>
          <p:sp>
            <p:nvSpPr>
              <p:cNvPr id="379" name=""/>
              <p:cNvSpPr/>
              <p:nvPr/>
            </p:nvSpPr>
            <p:spPr>
              <a:xfrm>
                <a:off x="2891520" y="1424880"/>
                <a:ext cx="447480" cy="458280"/>
              </a:xfrm>
              <a:prstGeom prst="ellipse">
                <a:avLst/>
              </a:prstGeom>
              <a:noFill/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4035240" y="1502280"/>
                <a:ext cx="447120" cy="356760"/>
                <a:chOff x="4035240" y="1502280"/>
                <a:chExt cx="447120" cy="356760"/>
              </a:xfrm>
            </p:grpSpPr>
            <p:sp>
              <p:nvSpPr>
                <p:cNvPr id="381" name=""/>
                <p:cNvSpPr/>
                <p:nvPr/>
              </p:nvSpPr>
              <p:spPr>
                <a:xfrm flipH="1">
                  <a:off x="4426560" y="1666800"/>
                  <a:ext cx="55800" cy="1922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 flipV="1">
                  <a:off x="4342680" y="1502280"/>
                  <a:ext cx="83880" cy="35676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V="1">
                  <a:off x="4259160" y="1502280"/>
                  <a:ext cx="83880" cy="35676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H="1" flipV="1">
                  <a:off x="4174920" y="1502280"/>
                  <a:ext cx="83880" cy="35676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V="1">
                  <a:off x="4091400" y="1502280"/>
                  <a:ext cx="83880" cy="35676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035240" y="1666800"/>
                  <a:ext cx="55800" cy="1922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7" name=""/>
              <p:cNvSpPr/>
              <p:nvPr/>
            </p:nvSpPr>
            <p:spPr>
              <a:xfrm flipH="1">
                <a:off x="3339000" y="1655280"/>
                <a:ext cx="69624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079960" y="1604520"/>
                <a:ext cx="109800" cy="112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483080" y="1655280"/>
                <a:ext cx="59688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41200" y="1424880"/>
                <a:ext cx="4971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ffffcc"/>
                    </a:solidFill>
                    <a:latin typeface="Arial"/>
                  </a:rPr>
                  <a:t>e</a:t>
                </a:r>
                <a:r>
                  <a:rPr b="0" i="1" lang="es-ES" sz="1200" spc="-1" strike="noStrike" baseline="-25000">
                    <a:solidFill>
                      <a:srgbClr val="ffffcc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886200" y="1197000"/>
                <a:ext cx="74592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cc"/>
                    </a:solidFill>
                    <a:latin typeface="Arial"/>
                  </a:rPr>
                  <a:t>0,2</a:t>
                </a:r>
                <a:r>
                  <a:rPr b="0" i="1" lang="es-ES" sz="1200" spc="-1" strike="noStrike">
                    <a:solidFill>
                      <a:srgbClr val="ffffcc"/>
                    </a:solidFill>
                    <a:latin typeface="Times New Roman"/>
                  </a:rPr>
                  <a:t>Ω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179320" y="1679400"/>
                <a:ext cx="64656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393" name=""/>
              <p:cNvGrpSpPr/>
              <p:nvPr/>
            </p:nvGrpSpPr>
            <p:grpSpPr>
              <a:xfrm>
                <a:off x="5825880" y="1526400"/>
                <a:ext cx="447120" cy="356760"/>
                <a:chOff x="5825880" y="1526400"/>
                <a:chExt cx="447120" cy="356760"/>
              </a:xfrm>
            </p:grpSpPr>
            <p:sp>
              <p:nvSpPr>
                <p:cNvPr id="394" name=""/>
                <p:cNvSpPr/>
                <p:nvPr/>
              </p:nvSpPr>
              <p:spPr>
                <a:xfrm flipH="1">
                  <a:off x="6217200" y="1690920"/>
                  <a:ext cx="55800" cy="1922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 flipV="1">
                  <a:off x="6133320" y="1526400"/>
                  <a:ext cx="83880" cy="35676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6049800" y="1526400"/>
                  <a:ext cx="83880" cy="35676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H="1" flipV="1">
                  <a:off x="5965560" y="1526400"/>
                  <a:ext cx="83880" cy="35676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>
                  <a:off x="5882040" y="1526400"/>
                  <a:ext cx="83880" cy="35676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5825880" y="1690920"/>
                  <a:ext cx="55800" cy="19224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6273360" y="1730520"/>
                <a:ext cx="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73360" y="1679400"/>
                <a:ext cx="49716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676480" y="1221120"/>
                <a:ext cx="79560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cc"/>
                    </a:solidFill>
                    <a:latin typeface="Arial"/>
                  </a:rPr>
                  <a:t>1</a:t>
                </a:r>
                <a:r>
                  <a:rPr b="0" i="1" lang="es-ES" sz="1200" spc="-1" strike="noStrike">
                    <a:solidFill>
                      <a:srgbClr val="ffffcc"/>
                    </a:solidFill>
                    <a:latin typeface="Times New Roman"/>
                  </a:rPr>
                  <a:t>Ω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880880" y="1679400"/>
                <a:ext cx="497160" cy="40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ffffcc"/>
                    </a:solidFill>
                    <a:latin typeface="Arial"/>
                  </a:rPr>
                  <a:t>u</a:t>
                </a:r>
                <a:r>
                  <a:rPr b="0" i="1" lang="es-ES" sz="1200" spc="-1" strike="noStrike" baseline="-25000">
                    <a:solidFill>
                      <a:srgbClr val="ffffcc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2443680" y="1628640"/>
                <a:ext cx="44748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2891880" y="2366280"/>
              <a:ext cx="447480" cy="45864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4035960" y="2443680"/>
              <a:ext cx="447120" cy="356760"/>
              <a:chOff x="4035960" y="2443680"/>
              <a:chExt cx="447120" cy="356760"/>
            </a:xfrm>
          </p:grpSpPr>
          <p:sp>
            <p:nvSpPr>
              <p:cNvPr id="407" name=""/>
              <p:cNvSpPr/>
              <p:nvPr/>
            </p:nvSpPr>
            <p:spPr>
              <a:xfrm flipH="1">
                <a:off x="4427280" y="2608200"/>
                <a:ext cx="55800" cy="19224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 flipV="1">
                <a:off x="4343400" y="2443680"/>
                <a:ext cx="83880" cy="3567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4259880" y="2443680"/>
                <a:ext cx="83880" cy="3567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 flipV="1">
                <a:off x="4175640" y="2443680"/>
                <a:ext cx="83880" cy="3567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4092120" y="2443680"/>
                <a:ext cx="83880" cy="3567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035960" y="2608200"/>
                <a:ext cx="55800" cy="19224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 flipH="1">
              <a:off x="3339720" y="2597040"/>
              <a:ext cx="69624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80320" y="2545920"/>
              <a:ext cx="109800" cy="112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83440" y="2597040"/>
              <a:ext cx="5965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941560" y="2366280"/>
              <a:ext cx="4971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ffffcc"/>
                  </a:solidFill>
                  <a:latin typeface="Arial"/>
                </a:rPr>
                <a:t>e</a:t>
              </a:r>
              <a:r>
                <a:rPr b="0" i="1" lang="es-ES" sz="1200" spc="-1" strike="noStrike" baseline="-25000">
                  <a:solidFill>
                    <a:srgbClr val="ffffcc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86560" y="2138400"/>
              <a:ext cx="74592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0,2</a:t>
              </a:r>
              <a:r>
                <a:rPr b="0" i="1" lang="es-ES" sz="1200" spc="-1" strike="noStrike">
                  <a:solidFill>
                    <a:srgbClr val="ffffcc"/>
                  </a:solidFill>
                  <a:latin typeface="Times New Roman"/>
                </a:rPr>
                <a:t>Ω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73720" y="2672280"/>
              <a:ext cx="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81240" y="2621160"/>
              <a:ext cx="4971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ffffcc"/>
                  </a:solidFill>
                  <a:latin typeface="Arial"/>
                </a:rPr>
                <a:t>u</a:t>
              </a:r>
              <a:r>
                <a:rPr b="0" i="1" lang="es-ES" sz="1200" spc="-1" strike="noStrike" baseline="-25000">
                  <a:solidFill>
                    <a:srgbClr val="ffffcc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443680" y="2570400"/>
              <a:ext cx="447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91880" y="3335040"/>
              <a:ext cx="447480" cy="45864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4035960" y="3412080"/>
              <a:ext cx="447120" cy="356760"/>
              <a:chOff x="4035960" y="3412080"/>
              <a:chExt cx="447120" cy="356760"/>
            </a:xfrm>
          </p:grpSpPr>
          <p:sp>
            <p:nvSpPr>
              <p:cNvPr id="423" name=""/>
              <p:cNvSpPr/>
              <p:nvPr/>
            </p:nvSpPr>
            <p:spPr>
              <a:xfrm flipH="1">
                <a:off x="4427280" y="3576600"/>
                <a:ext cx="55800" cy="19224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 flipV="1">
                <a:off x="4343400" y="3412080"/>
                <a:ext cx="83880" cy="3567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4259880" y="3412080"/>
                <a:ext cx="83880" cy="3567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 flipV="1">
                <a:off x="4175640" y="3412080"/>
                <a:ext cx="83880" cy="3567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4092120" y="3412080"/>
                <a:ext cx="83880" cy="3567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035960" y="3576600"/>
                <a:ext cx="55800" cy="19224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 flipH="1">
              <a:off x="3339720" y="3565440"/>
              <a:ext cx="69624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080320" y="3514680"/>
              <a:ext cx="109800" cy="112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3440" y="3565440"/>
              <a:ext cx="5965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41560" y="3335040"/>
              <a:ext cx="4971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ffffcc"/>
                  </a:solidFill>
                  <a:latin typeface="Arial"/>
                </a:rPr>
                <a:t>e</a:t>
              </a:r>
              <a:r>
                <a:rPr b="0" i="1" lang="es-ES" sz="1200" spc="-1" strike="noStrike" baseline="-25000">
                  <a:solidFill>
                    <a:srgbClr val="ffffcc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86560" y="3106800"/>
              <a:ext cx="74592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0,2</a:t>
              </a:r>
              <a:r>
                <a:rPr b="0" i="1" lang="es-ES" sz="1200" spc="-1" strike="noStrike">
                  <a:solidFill>
                    <a:srgbClr val="ffffcc"/>
                  </a:solidFill>
                  <a:latin typeface="Times New Roman"/>
                </a:rPr>
                <a:t>Ω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73720" y="3640680"/>
              <a:ext cx="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81240" y="3589560"/>
              <a:ext cx="4971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ffffcc"/>
                  </a:solidFill>
                  <a:latin typeface="Arial"/>
                </a:rPr>
                <a:t>u</a:t>
              </a:r>
              <a:r>
                <a:rPr b="0" i="1" lang="es-ES" sz="1200" spc="-1" strike="noStrike" baseline="-25000">
                  <a:solidFill>
                    <a:srgbClr val="ffffcc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443680" y="3538800"/>
              <a:ext cx="447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2195640" y="1628640"/>
              <a:ext cx="497160" cy="3261600"/>
              <a:chOff x="2195640" y="1628640"/>
              <a:chExt cx="497160" cy="3261600"/>
            </a:xfrm>
          </p:grpSpPr>
          <p:sp>
            <p:nvSpPr>
              <p:cNvPr id="438" name=""/>
              <p:cNvSpPr/>
              <p:nvPr/>
            </p:nvSpPr>
            <p:spPr>
              <a:xfrm>
                <a:off x="2444040" y="1628640"/>
                <a:ext cx="0" cy="32104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195640" y="4839120"/>
                <a:ext cx="49716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295000" y="4890240"/>
                <a:ext cx="29808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394360" y="4890240"/>
                <a:ext cx="9936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6522480" y="1679760"/>
              <a:ext cx="497160" cy="3261960"/>
              <a:chOff x="6522480" y="1679760"/>
              <a:chExt cx="497160" cy="3261960"/>
            </a:xfrm>
          </p:grpSpPr>
          <p:sp>
            <p:nvSpPr>
              <p:cNvPr id="443" name=""/>
              <p:cNvSpPr/>
              <p:nvPr/>
            </p:nvSpPr>
            <p:spPr>
              <a:xfrm>
                <a:off x="6770880" y="1679760"/>
                <a:ext cx="0" cy="321084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522480" y="4890600"/>
                <a:ext cx="49716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621840" y="4941720"/>
                <a:ext cx="29808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721200" y="4941720"/>
                <a:ext cx="9936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932360" y="5224320"/>
                <a:ext cx="33130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t xml:space="preserve">0,2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sumid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3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24000" y="692280"/>
            <a:ext cx="853416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OPERACIÓN DEL SISTEMA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Sistema trifásico equilibrado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u012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=</a:t>
            </a: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A-1*urs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u0=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-5,55V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u1=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94,44V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u2=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-5,55V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is=it=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i0= i1= i2=ic/3=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27,78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PT=P0+P1+P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P0 = 3.u0.i0.cos(</a:t>
            </a:r>
            <a:r>
              <a:rPr b="0" i="1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0)=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0,46k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P1 = 3.u1.i1.cos(</a:t>
            </a:r>
            <a:r>
              <a:rPr b="0" i="1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1)=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7,87k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P2 = 3.u2.i2.cos(</a:t>
            </a:r>
            <a:r>
              <a:rPr b="0" i="1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2)=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0,46k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PT=P0+P1+P2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=6,95k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Pgenerada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= 3*100*27.78 = 100*83.33 = 8,334k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Subtensio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3809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Subtensiones de corta dur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No afectan a los equip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Subtensiones de larga dur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i afectan a los equipos que carecen de prot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cc00"/>
                </a:solidFill>
                <a:latin typeface="Times New Roman"/>
              </a:rPr>
              <a:t>El caso más común es debida a la falta de una fase en primario de transformadores de media tensión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788000" y="1019160"/>
          <a:ext cx="3816360" cy="28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019160"/>
                    <a:ext cx="3816360" cy="28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648320" y="4114800"/>
          <a:ext cx="3809880" cy="198108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  <a:gridCol w="635040"/>
                <a:gridCol w="635040"/>
                <a:gridCol w="635040"/>
                <a:gridCol w="635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r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t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r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s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t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,6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,3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,6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,3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696960" y="2268360"/>
          <a:ext cx="7423200" cy="719280"/>
        </p:xfrm>
        <a:graphic>
          <a:graphicData uri="http://schemas.openxmlformats.org/drawingml/2006/table">
            <a:tbl>
              <a:tblPr/>
              <a:tblGrid>
                <a:gridCol w="1623600"/>
                <a:gridCol w="5799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VU</a:t>
                      </a:r>
                      <a:r>
                        <a:rPr b="0" lang="es-ES_tradn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0 x Máxima desviación de tensión del valor medio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alor medio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4000" y="1413000"/>
            <a:ext cx="8534160" cy="55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DEFINICIONES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NEM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EE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Factor de Desbalance de Tensiones Complej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1442880" y="3382920"/>
          <a:ext cx="6666120" cy="719280"/>
        </p:xfrm>
        <a:graphic>
          <a:graphicData uri="http://schemas.openxmlformats.org/drawingml/2006/table">
            <a:tbl>
              <a:tblPr/>
              <a:tblGrid>
                <a:gridCol w="1020960"/>
                <a:gridCol w="4488840"/>
                <a:gridCol w="115632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UF</a:t>
                      </a:r>
                      <a:r>
                        <a:rPr b="0" lang="es-ES_tradn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0 x Tensión de Secuencia Negativa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0 x V</a:t>
                      </a:r>
                      <a:r>
                        <a:rPr b="0" i="1" lang="es-ES_tradnl" sz="20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ensión de Secuencia Posi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i="1" lang="es-ES_tradnl" sz="20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2627280" y="5084640"/>
                <a:ext cx="31687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U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4000" y="1052640"/>
            <a:ext cx="853416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EFECTO SOBRE MOTOR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presencia de una componente de secuencia negativa en las tensiones produce una corriente de la misma secuencia en una proporción entre 6 y 10 ve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Esto origina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Pérdida de efic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alentamiento y consecuente reducción de vida úti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uidos y vibrac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: 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clasificación de motor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2843280" y="1268280"/>
          <a:ext cx="6121440" cy="2560680"/>
        </p:xfrm>
        <a:graphic>
          <a:graphicData uri="http://schemas.openxmlformats.org/drawingml/2006/table">
            <a:tbl>
              <a:tblPr/>
              <a:tblGrid>
                <a:gridCol w="3241440"/>
                <a:gridCol w="2880000"/>
              </a:tblGrid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esbalance de tensiones (%)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esclasificación (%)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2916360" y="4221000"/>
          <a:ext cx="6048360" cy="2467080"/>
        </p:xfrm>
        <a:graphic>
          <a:graphicData uri="http://schemas.openxmlformats.org/drawingml/2006/table">
            <a:tbl>
              <a:tblPr/>
              <a:tblGrid>
                <a:gridCol w="3168360"/>
                <a:gridCol w="2880000"/>
              </a:tblGrid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esbalance de tensiones (%)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esclasificación (%)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3,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6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>
            <a:off x="182880" y="206064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NEMA (con PVU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3080" y="479736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IEC (con VUF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9640" y="1052640"/>
            <a:ext cx="835344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MOTOR EQUILIBRADO- TENSIONES DESEQUILIBRAD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Corrientes de secuencia del estat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476360" y="1989000"/>
                <a:ext cx="2808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PRN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PRN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PRN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PRN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4788000" y="1773360"/>
                <a:ext cx="21603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p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p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p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94" name="" descr=""/>
          <p:cNvPicPr/>
          <p:nvPr/>
        </p:nvPicPr>
        <p:blipFill>
          <a:blip r:embed="rId1"/>
          <a:srcRect l="8086" t="9509" r="5054" b="12607"/>
          <a:stretch/>
        </p:blipFill>
        <p:spPr>
          <a:xfrm>
            <a:off x="1187280" y="2997360"/>
            <a:ext cx="6193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68360" y="907920"/>
            <a:ext cx="83534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MOTOR EQUILIBRADO- TENSIONES DESEQUILIBRAD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Corrientes de línea del estat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971640" y="1728720"/>
          <a:ext cx="7345440" cy="483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28720"/>
                    <a:ext cx="734544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68360" y="1052640"/>
            <a:ext cx="835344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MOTOR EQUILIBRADO- TENSIONES DESEQUILIBRAD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Corrientes del rot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rcRect l="15293" t="0" r="16715" b="5087"/>
          <a:stretch/>
        </p:blipFill>
        <p:spPr>
          <a:xfrm>
            <a:off x="900000" y="1916280"/>
            <a:ext cx="75596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68360" y="1125360"/>
            <a:ext cx="835344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MOTOR EQUILIBRADO- TENSIONES DESEQUILIBRAD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Corrientes del rot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orriente de rotor Kv= 1.49 y </a:t>
            </a:r>
            <a:r>
              <a:rPr b="0" lang="en-US" sz="18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v = 96.73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1763640" y="2465280"/>
          <a:ext cx="5761080" cy="41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465280"/>
                    <a:ext cx="576108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8360" y="1341360"/>
            <a:ext cx="835344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MOTOR EQUILIBRADO- TENSIONES DESEQUILIBRAD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Corrientes del rot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orriente de rotor Kv= 5.37 y </a:t>
            </a:r>
            <a:r>
              <a:rPr b="0" lang="en-US" sz="18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v = 90.83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1835280" y="2637000"/>
          <a:ext cx="5473440" cy="39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637000"/>
                    <a:ext cx="5473440" cy="39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9640" y="1268280"/>
            <a:ext cx="835344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MOTOR EQUILIBRADO- TENSIONES DESEQUILIBRAD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1692360" y="2060640"/>
          <a:ext cx="5684760" cy="410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060640"/>
                    <a:ext cx="568476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8360" y="981000"/>
            <a:ext cx="849780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MOTOR DESEEQUILIBRADO- TENSIONES EQUILIBRAD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</a:rPr>
              <a:t>Corrientes de secuencia negativa para 3.5 y 10 % de desbalance en un bobinado del moto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2700360" y="1557360"/>
                <a:ext cx="31687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PRN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PRN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PRN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PRN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59" name="" descr=""/>
          <p:cNvPicPr/>
          <p:nvPr/>
        </p:nvPicPr>
        <p:blipFill>
          <a:blip r:embed="rId1"/>
          <a:srcRect l="6117" t="0" r="8185" b="0"/>
          <a:stretch/>
        </p:blipFill>
        <p:spPr>
          <a:xfrm>
            <a:off x="1042920" y="3357720"/>
            <a:ext cx="3024360" cy="266040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4788000" y="3284640"/>
            <a:ext cx="28796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mportamiento de los equipos con tensión distinta a la nominal</a:t>
            </a:r>
            <a:br>
              <a:rPr sz="4000"/>
            </a:b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Lámpara incandescente, fluorescente y halógena</a:t>
            </a: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4413"/>
          <a:stretch/>
        </p:blipFill>
        <p:spPr>
          <a:xfrm>
            <a:off x="250920" y="2133720"/>
            <a:ext cx="3159000" cy="4241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rcRect l="0" t="0" r="0" b="16106"/>
          <a:stretch/>
        </p:blipFill>
        <p:spPr>
          <a:xfrm>
            <a:off x="3780000" y="1844640"/>
            <a:ext cx="2877840" cy="244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rcRect l="0" t="0" r="0" b="15171"/>
          <a:stretch/>
        </p:blipFill>
        <p:spPr>
          <a:xfrm>
            <a:off x="6516720" y="4365720"/>
            <a:ext cx="262728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68360" y="981000"/>
            <a:ext cx="849780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MOTOR DESEEQUILIBRADO- TENSIONES EQUILIBRAD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</a:rPr>
              <a:t>Corrientes de línea para 6.9 % de desbalance en un bobinado del motor y tensiones equilibrada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3059280" y="1557360"/>
                <a:ext cx="240480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p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p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p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71" name="" descr=""/>
          <p:cNvPicPr/>
          <p:nvPr/>
        </p:nvPicPr>
        <p:blipFill>
          <a:blip r:embed="rId1"/>
          <a:srcRect l="9273" t="3692" r="9273" b="5418"/>
          <a:stretch/>
        </p:blipFill>
        <p:spPr>
          <a:xfrm>
            <a:off x="2700360" y="3500280"/>
            <a:ext cx="3166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5280" y="1413000"/>
            <a:ext cx="84978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MOTOR DESEQUILIBRA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</a:rPr>
              <a:t>6.9 % de desbalance en un bobinado (falta) y tres tipos de alimentació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rcRect l="4019" t="0" r="5226" b="13625"/>
          <a:stretch/>
        </p:blipFill>
        <p:spPr>
          <a:xfrm>
            <a:off x="179280" y="2573280"/>
            <a:ext cx="87854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5280" y="1052640"/>
            <a:ext cx="84978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FLUJOS DE POTENCIA DE SECUENCI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CASO 1: LAS 3 CARGAS SON BALANCEAD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CASO 2: SOLO LA CARGA C2 ES DESBALANCEAD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CASO 3: SOLO LA CARGA C1 ES DESBALANCEAD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CASO 4: LAS 3 CARGAS SON DESBALANCEADAS (C1 IGUAL DESBALANCE QUE EN EL CASO ANTERIOR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56883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95280" y="1052640"/>
            <a:ext cx="84978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FLUJOS DE POTENCIA DE SECUENCI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CASO 1: LAS 3 CARGAS SON BALANCEADA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CASO 2: SOLO LA CARGA C2 ES DESBALANCEAD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CASO 3: SOLO LA CARGA C1 ES DESBALANCEAD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CASO 4: LAS 3 CARGAS SON DESBALANCEADAS (C1 IGUAL DESBALANCE QUE EN EL CASO ANTERIOR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2340000" y="2781360"/>
          <a:ext cx="3886200" cy="396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781360"/>
                    <a:ext cx="388620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95280" y="1052640"/>
            <a:ext cx="84978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CONTROL DE VELOCIDAD DE MOTORES (ASD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rcRect l="5989" t="0" r="0" b="0"/>
          <a:stretch/>
        </p:blipFill>
        <p:spPr>
          <a:xfrm>
            <a:off x="250920" y="1844640"/>
            <a:ext cx="8569080" cy="404172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5219640" y="3933720"/>
            <a:ext cx="360360" cy="0"/>
          </a:xfrm>
          <a:prstGeom prst="line">
            <a:avLst/>
          </a:prstGeom>
          <a:ln w="381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95280" y="765000"/>
            <a:ext cx="8497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CONTROL DE VELOCIDAD DE MOTORES (ASD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TENSIONES EQUILIBRADA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97708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95280" y="765000"/>
            <a:ext cx="8497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CONTROL DE VELOCIDAD DE MOTORES (ASD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0,3% DE DESBALANCE DE LAS TENSION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1619280" y="1576440"/>
            <a:ext cx="60483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5280" y="765000"/>
            <a:ext cx="8497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CONTROL DE VELOCIDAD DE MOTORES (ASD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3,75% DE DESBALANCE DE LAS TENSION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19308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042920" y="639972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Kv = 1,5                                       Kv= 5,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1116000" y="4005360"/>
          <a:ext cx="308628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005360"/>
                    <a:ext cx="308628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1332000" y="765000"/>
          <a:ext cx="6970680" cy="3343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765000"/>
                    <a:ext cx="697068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5724360" y="4005360"/>
          <a:ext cx="3086280" cy="23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4005360"/>
                    <a:ext cx="308628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sbalances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estudio en componentes simétrica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"/>
          <a:srcRect l="3348" t="7922" r="6581" b="7235"/>
          <a:stretch/>
        </p:blipFill>
        <p:spPr>
          <a:xfrm>
            <a:off x="179280" y="2276640"/>
            <a:ext cx="4211640" cy="296532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2"/>
          <a:srcRect l="3503" t="6147" r="4040" b="0"/>
          <a:stretch/>
        </p:blipFill>
        <p:spPr>
          <a:xfrm>
            <a:off x="4567320" y="1484280"/>
            <a:ext cx="4252680" cy="491652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4572000" y="6453360"/>
            <a:ext cx="424800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mportamiento de los equipos con tensión distinta a la nominal</a:t>
            </a:r>
            <a:br>
              <a:rPr sz="4000"/>
            </a:br>
            <a:r>
              <a:rPr b="0" lang="es-ES_tradnl" sz="2600" spc="-1" strike="noStrike">
                <a:solidFill>
                  <a:srgbClr val="ffcc00"/>
                </a:solidFill>
                <a:latin typeface="Times New Roman"/>
              </a:rPr>
              <a:t>Horno Microondas, 1.500 W, 1 litro de agua, </a:t>
            </a:r>
            <a:r>
              <a:rPr b="0" lang="el-GR" sz="2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Δ</a:t>
            </a:r>
            <a:r>
              <a:rPr b="0" lang="es-AR" sz="2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 de 20,5 a 87,8 °C</a:t>
            </a: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332000" y="2435400"/>
          <a:ext cx="669600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435400"/>
                    <a:ext cx="669600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4335480" y="625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mportamiento de los equipos con tensión distinta a la nominal</a:t>
            </a:r>
            <a:br>
              <a:rPr sz="4000"/>
            </a:b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Freezer de 16 pies</a:t>
            </a:r>
            <a:r>
              <a:rPr b="0" lang="es-ES_tradnl" sz="3200" spc="-1" strike="noStrike" baseline="30000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, para 5 días</a:t>
            </a: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16000" y="2205000"/>
          <a:ext cx="6624720" cy="351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205000"/>
                    <a:ext cx="662472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mportamiento de los equipos con tensión distinta a la nominal</a:t>
            </a:r>
            <a:br>
              <a:rPr sz="4000"/>
            </a:b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Lavarropas de 5 kg, para un ciclo de lavado</a:t>
            </a: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87280" y="2239920"/>
          <a:ext cx="6624720" cy="35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239920"/>
                    <a:ext cx="662472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mportamiento de los equipos con tensión distinta a la nominal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Motor de 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inducción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3278"/>
          <a:stretch/>
        </p:blipFill>
        <p:spPr>
          <a:xfrm>
            <a:off x="0" y="2708280"/>
            <a:ext cx="3268800" cy="24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3492360" y="1197000"/>
          <a:ext cx="5651640" cy="5661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360" y="1197000"/>
                    <a:ext cx="56516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mportamiento de los equipos con tensión distinta a la nominal</a:t>
            </a:r>
            <a:br>
              <a:rPr sz="4000"/>
            </a:b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Motor trifásico, 10HP, en vacío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42880" y="2433600"/>
          <a:ext cx="6462720" cy="36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2880" y="2433600"/>
                    <a:ext cx="6462720" cy="36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5T23:55:06Z</dcterms:created>
  <dc:creator>IPSEP</dc:creator>
  <dc:description/>
  <dc:language>en-US</dc:language>
  <cp:lastModifiedBy>WinuE</cp:lastModifiedBy>
  <dcterms:modified xsi:type="dcterms:W3CDTF">2008-10-29T18:48:01Z</dcterms:modified>
  <cp:revision>123</cp:revision>
  <dc:subject/>
  <dc:title>Sin título de diapositiva</dc:title>
</cp:coreProperties>
</file>