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12.png" ContentType="image/png"/>
  <Override PartName="/ppt/media/image36.png" ContentType="image/png"/>
  <Override PartName="/ppt/media/image19.wmf" ContentType="image/x-wmf"/>
  <Override PartName="/ppt/media/image3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9766-A9CA-4700-82F4-02ADEAB29C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B29B-DB3F-404B-8A1B-F8B3F719D23B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F6AF-D698-4579-9C6B-6C95C68D2974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53C-1EE5-4F06-A18A-DFA4A3C8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63F-E908-442C-9118-CA0049DA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2E6-7609-49E5-8307-9323E47B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E23-65B7-49ED-913B-12E69C3C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0D1E-3907-4A3D-A7B9-D14ABAC9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2EF8-FC07-48FF-87E7-7EFD3903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B445-731E-4027-991A-77B9ADE2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91C2-2DCF-456D-A67B-EF37BFBA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816D-4240-4DA6-BD3C-558BDD58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C93B-055F-4245-92ED-8E0A0CB8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5C13-9898-42DB-9A24-F4D1F140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D66-8755-4215-9FE5-22F9BDF2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A0C1-A4DC-46FE-B8BA-4A467D81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6F6D-B26C-4735-8127-3D0A9416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054B-BB4B-4C9E-B49A-ED159EF2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5DC7-3631-42D6-822E-A13FEB5A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85CD-C9B8-4851-87C8-1A7566E9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28F-6825-42AC-AE19-08AABBF6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B14-C082-4488-8FA0-3AB31FAD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0D2-336F-41B0-9FE2-CB50940B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728-9BC6-4897-A609-F16670DF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ACC-5420-4DAE-9945-C6745CC2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6A3D-0C99-440F-B859-64363458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9BE-9342-43C5-A9B1-3ABD54D5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7E0A-02DD-43BF-94E7-A7C23ADE6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3D3F-BDA7-46A5-BD27-C3C5A3473D7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ssbeachdistillery.com/images/map-0312.gif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www.mtc.ca.gov/images/bridges/san_mateo_hayward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Capítulo 7</a:t>
            </a: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FLICKER O PARPADE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Efecto del horno de arco en el sistema eléctric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250920" y="1484280"/>
          <a:ext cx="5143320" cy="268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514332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Group 7"/>
          <p:cNvGrpSpPr/>
          <p:nvPr/>
        </p:nvGrpSpPr>
        <p:grpSpPr>
          <a:xfrm>
            <a:off x="2771640" y="1916280"/>
            <a:ext cx="1702080" cy="1028160"/>
            <a:chOff x="2771640" y="1916280"/>
            <a:chExt cx="1702080" cy="1028160"/>
          </a:xfrm>
        </p:grpSpPr>
        <p:sp>
          <p:nvSpPr>
            <p:cNvPr id="178" name="Text Box 8"/>
            <p:cNvSpPr/>
            <p:nvPr/>
          </p:nvSpPr>
          <p:spPr>
            <a:xfrm>
              <a:off x="2902320" y="1916280"/>
              <a:ext cx="1178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220011"/>
                  </a:solidFill>
                  <a:latin typeface="Times New Roman"/>
                </a:rPr>
                <a:t>Objetabl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902320" y="2373480"/>
              <a:ext cx="10472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220011"/>
                  </a:solidFill>
                  <a:latin typeface="Times New Roman"/>
                </a:rPr>
                <a:t>Zona límite</a:t>
              </a: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2902320" y="2716200"/>
              <a:ext cx="13093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220011"/>
                  </a:solidFill>
                  <a:latin typeface="Times New Roman"/>
                </a:rPr>
                <a:t>No objetabl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V="1">
              <a:off x="2771640" y="2487240"/>
              <a:ext cx="17020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2" name="Rectangle 13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3" name="Object 12"/>
          <p:cNvGraphicFramePr/>
          <p:nvPr/>
        </p:nvGraphicFramePr>
        <p:xfrm>
          <a:off x="3924360" y="4457880"/>
          <a:ext cx="4371840" cy="2400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457880"/>
                    <a:ext cx="437184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14"/>
          <p:cNvSpPr/>
          <p:nvPr/>
        </p:nvSpPr>
        <p:spPr>
          <a:xfrm>
            <a:off x="8115480" y="4508640"/>
            <a:ext cx="1028520" cy="12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baseline="30000">
                <a:solidFill>
                  <a:srgbClr val="220011"/>
                </a:solidFill>
                <a:latin typeface="Times New Roman"/>
              </a:rPr>
              <a:t>2</a:t>
            </a:r>
            <a:r>
              <a:rPr b="0" lang="es-ES_tradnl" sz="1200" spc="-1" strike="noStrike">
                <a:solidFill>
                  <a:srgbClr val="220011"/>
                </a:solidFill>
                <a:latin typeface="Symbol"/>
                <a:ea typeface="Symbol"/>
              </a:rPr>
              <a:t></a:t>
            </a: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n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baseline="30000">
                <a:solidFill>
                  <a:srgbClr val="220011"/>
                </a:solidFill>
                <a:latin typeface="Times New Roman"/>
              </a:rPr>
              <a:t>2</a:t>
            </a:r>
            <a:r>
              <a:rPr b="0" lang="es-ES_tradnl" sz="1200" spc="-1" strike="noStrike">
                <a:solidFill>
                  <a:srgbClr val="220011"/>
                </a:solidFill>
                <a:latin typeface="Symbol"/>
                <a:ea typeface="Symbol"/>
              </a:rPr>
              <a:t></a:t>
            </a: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1+0,8(n+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baseline="30000">
                <a:solidFill>
                  <a:srgbClr val="220011"/>
                </a:solidFill>
                <a:latin typeface="Times New Roman"/>
              </a:rPr>
              <a:t>2,5</a:t>
            </a:r>
            <a:r>
              <a:rPr b="0" lang="es-ES_tradnl" sz="1200" spc="-1" strike="noStrike">
                <a:solidFill>
                  <a:srgbClr val="220011"/>
                </a:solidFill>
                <a:latin typeface="Symbol"/>
                <a:ea typeface="Symbol"/>
              </a:rPr>
              <a:t></a:t>
            </a: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 </a:t>
            </a:r>
            <a:r>
              <a:rPr b="0" lang="es-ES_tradnl" sz="1200" spc="-1" strike="noStrike" baseline="30000">
                <a:solidFill>
                  <a:srgbClr val="220011"/>
                </a:solidFill>
                <a:latin typeface="Times New Roman"/>
              </a:rPr>
              <a:t>3</a:t>
            </a:r>
            <a:r>
              <a:rPr b="0" lang="es-ES_tradnl" sz="1200" spc="-1" strike="noStrike">
                <a:solidFill>
                  <a:srgbClr val="220011"/>
                </a:solidFill>
                <a:latin typeface="Symbol"/>
                <a:ea typeface="Symbol"/>
              </a:rPr>
              <a:t></a:t>
            </a: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baseline="30000">
                <a:solidFill>
                  <a:srgbClr val="220011"/>
                </a:solidFill>
                <a:latin typeface="Times New Roman"/>
              </a:rPr>
              <a:t>4</a:t>
            </a:r>
            <a:r>
              <a:rPr b="0" lang="es-ES_tradnl" sz="1200" spc="-1" strike="noStrike">
                <a:solidFill>
                  <a:srgbClr val="220011"/>
                </a:solidFill>
                <a:latin typeface="Symbol"/>
                <a:ea typeface="Symbol"/>
              </a:rPr>
              <a:t></a:t>
            </a:r>
            <a:r>
              <a:rPr b="0" lang="es-ES_tradnl" sz="1200" spc="-1" strike="noStrike">
                <a:solidFill>
                  <a:srgbClr val="220011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5796000" y="1773360"/>
            <a:ext cx="2205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Límite antigu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ns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&gt; 60 a 80 P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n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Límite Actu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ST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&lt;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Line 17"/>
          <p:cNvSpPr/>
          <p:nvPr/>
        </p:nvSpPr>
        <p:spPr>
          <a:xfrm flipV="1">
            <a:off x="1332000" y="2205000"/>
            <a:ext cx="374472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Line 18"/>
          <p:cNvSpPr/>
          <p:nvPr/>
        </p:nvSpPr>
        <p:spPr>
          <a:xfrm flipV="1">
            <a:off x="1332000" y="2492280"/>
            <a:ext cx="374472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Medidas de mitigación de Flick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Mejora de la ignición en el ar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Condensador Sincrón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Capacitores en paralel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Capacitores en seri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Compensación reactiva dinámic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Compensación activa y reac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Filtros activos y pasiv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Compensación empleando SV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2" name="Picture 4" descr="figura8"/>
          <p:cNvPicPr/>
          <p:nvPr/>
        </p:nvPicPr>
        <p:blipFill>
          <a:blip r:embed="rId1">
            <a:lum bright="16000"/>
          </a:blip>
          <a:srcRect l="0" t="0" r="0" b="32486"/>
          <a:stretch/>
        </p:blipFill>
        <p:spPr>
          <a:xfrm>
            <a:off x="5364000" y="3925800"/>
            <a:ext cx="3456000" cy="2932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figura13"/>
          <p:cNvPicPr/>
          <p:nvPr/>
        </p:nvPicPr>
        <p:blipFill>
          <a:blip r:embed="rId2"/>
          <a:stretch/>
        </p:blipFill>
        <p:spPr>
          <a:xfrm>
            <a:off x="179280" y="981000"/>
            <a:ext cx="5077080" cy="38260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9"/>
          <p:cNvSpPr/>
          <p:nvPr/>
        </p:nvSpPr>
        <p:spPr>
          <a:xfrm>
            <a:off x="684360" y="53006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recuencia de trabajo 1.650 H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Ejemplo práctico de compensac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6" name="Picture 6" descr="figura16"/>
          <p:cNvPicPr/>
          <p:nvPr/>
        </p:nvPicPr>
        <p:blipFill>
          <a:blip r:embed="rId1"/>
          <a:stretch/>
        </p:blipFill>
        <p:spPr>
          <a:xfrm>
            <a:off x="468360" y="4076640"/>
            <a:ext cx="3809880" cy="25383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971640" y="981000"/>
          <a:ext cx="2600280" cy="30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981000"/>
                    <a:ext cx="26002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Picture 9" descr="figura14"/>
          <p:cNvPicPr/>
          <p:nvPr/>
        </p:nvPicPr>
        <p:blipFill>
          <a:blip r:embed="rId4"/>
          <a:stretch/>
        </p:blipFill>
        <p:spPr>
          <a:xfrm>
            <a:off x="4635360" y="1052640"/>
            <a:ext cx="4508640" cy="56163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2"/>
          <p:cNvSpPr/>
          <p:nvPr/>
        </p:nvSpPr>
        <p:spPr>
          <a:xfrm>
            <a:off x="6948360" y="1773360"/>
            <a:ext cx="64800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Máquina de soldar: </a:t>
            </a:r>
            <a:r>
              <a:rPr b="0" lang="es-ES_tradnl" sz="3600" spc="-1" strike="noStrike">
                <a:solidFill>
                  <a:srgbClr val="ffcc00"/>
                </a:solidFill>
                <a:latin typeface="Times New Roman"/>
              </a:rPr>
              <a:t>de punt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3" name="Picture 4" descr="soldadora"/>
          <p:cNvPicPr/>
          <p:nvPr/>
        </p:nvPicPr>
        <p:blipFill>
          <a:blip r:embed="rId1"/>
          <a:srcRect l="5838" t="8699" r="9869" b="6341"/>
          <a:stretch/>
        </p:blipFill>
        <p:spPr>
          <a:xfrm>
            <a:off x="6411960" y="2276640"/>
            <a:ext cx="2408040" cy="3240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5" name="Object 6"/>
          <p:cNvGraphicFramePr/>
          <p:nvPr/>
        </p:nvGraphicFramePr>
        <p:xfrm>
          <a:off x="0" y="1052640"/>
          <a:ext cx="6172200" cy="31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52640"/>
                    <a:ext cx="6172200" cy="31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8"/>
          <p:cNvSpPr/>
          <p:nvPr/>
        </p:nvSpPr>
        <p:spPr>
          <a:xfrm>
            <a:off x="0" y="4365720"/>
            <a:ext cx="91440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               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P</a:t>
            </a:r>
            <a:r>
              <a:rPr b="0" lang="es-ES_tradnl" sz="1800" spc="-1" strike="noStrike" baseline="-25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= 0,36 (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V/V) (2 N)</a:t>
            </a:r>
            <a:r>
              <a:rPr b="0" lang="es-ES_tradnl" sz="1800" spc="-1" strike="noStrike" baseline="30000">
                <a:solidFill>
                  <a:srgbClr val="ffcc00"/>
                </a:solidFill>
                <a:latin typeface="Times New Roman"/>
              </a:rPr>
              <a:t>0,3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F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/V = fluctuación de t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N = número de puntos de soldadura por minu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 = factor de forma del equipo soldador (1,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itigación: </a:t>
            </a:r>
            <a:r>
              <a:rPr b="0" lang="es-ES_tradnl" sz="2200" spc="-1" strike="noStrike">
                <a:solidFill>
                  <a:srgbClr val="ffffcc"/>
                </a:solidFill>
                <a:latin typeface="Times New Roman"/>
              </a:rPr>
              <a:t>compensación reactiva simultánea con la corriente de soldadura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13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Generadores de energía eléctrica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impulsados por motor a explos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9" name="Picture 6" descr="fl4"/>
          <p:cNvPicPr/>
          <p:nvPr/>
        </p:nvPicPr>
        <p:blipFill>
          <a:blip r:embed="rId1"/>
          <a:stretch/>
        </p:blipFill>
        <p:spPr>
          <a:xfrm>
            <a:off x="324000" y="3933720"/>
            <a:ext cx="2958840" cy="1981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7-14-11"/>
          <p:cNvPicPr/>
          <p:nvPr/>
        </p:nvPicPr>
        <p:blipFill>
          <a:blip r:embed="rId2"/>
          <a:srcRect l="0" t="66608" r="0" b="0"/>
          <a:stretch/>
        </p:blipFill>
        <p:spPr>
          <a:xfrm>
            <a:off x="7020000" y="450864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7-12-11"/>
          <p:cNvPicPr/>
          <p:nvPr/>
        </p:nvPicPr>
        <p:blipFill>
          <a:blip r:embed="rId3"/>
          <a:srcRect l="0" t="-758" r="0" b="50960"/>
          <a:stretch/>
        </p:blipFill>
        <p:spPr>
          <a:xfrm>
            <a:off x="6948360" y="2205000"/>
            <a:ext cx="1979640" cy="1981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7-13-11"/>
          <p:cNvPicPr/>
          <p:nvPr/>
        </p:nvPicPr>
        <p:blipFill>
          <a:blip r:embed="rId4"/>
          <a:stretch/>
        </p:blipFill>
        <p:spPr>
          <a:xfrm>
            <a:off x="4140360" y="2349360"/>
            <a:ext cx="2414520" cy="3168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jefe"/>
          <p:cNvPicPr/>
          <p:nvPr/>
        </p:nvPicPr>
        <p:blipFill>
          <a:blip r:embed="rId5"/>
          <a:stretch/>
        </p:blipFill>
        <p:spPr>
          <a:xfrm>
            <a:off x="395280" y="1484280"/>
            <a:ext cx="3403440" cy="18208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4"/>
          <p:cNvSpPr/>
          <p:nvPr/>
        </p:nvSpPr>
        <p:spPr>
          <a:xfrm>
            <a:off x="4859280" y="126828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rupo Electrógeno, 900 rpm,          6 cilindros, 4 tiemp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10 Elipse"/>
          <p:cNvSpPr/>
          <p:nvPr/>
        </p:nvSpPr>
        <p:spPr>
          <a:xfrm>
            <a:off x="7215120" y="5715000"/>
            <a:ext cx="428760" cy="428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5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Generadores de energía eléctrica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impulsados por energía eólic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7" name="Picture 8" descr="fl7"/>
          <p:cNvPicPr/>
          <p:nvPr/>
        </p:nvPicPr>
        <p:blipFill>
          <a:blip r:embed="rId1"/>
          <a:srcRect l="4210" t="6331" r="0" b="23709"/>
          <a:stretch/>
        </p:blipFill>
        <p:spPr>
          <a:xfrm>
            <a:off x="395280" y="3730680"/>
            <a:ext cx="3529080" cy="2938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fl6"/>
          <p:cNvPicPr/>
          <p:nvPr/>
        </p:nvPicPr>
        <p:blipFill>
          <a:blip r:embed="rId2"/>
          <a:srcRect l="0" t="0" r="0" b="12655"/>
          <a:stretch/>
        </p:blipFill>
        <p:spPr>
          <a:xfrm>
            <a:off x="5072040" y="2133720"/>
            <a:ext cx="4071960" cy="47242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3"/>
          <p:cNvSpPr/>
          <p:nvPr/>
        </p:nvSpPr>
        <p:spPr>
          <a:xfrm>
            <a:off x="6877080" y="3860640"/>
            <a:ext cx="7621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5562720" y="3048120"/>
            <a:ext cx="457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0" y="1557360"/>
            <a:ext cx="579600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P</a:t>
            </a:r>
            <a:r>
              <a:rPr b="0" lang="es-ES_tradnl" sz="1400" spc="-1" strike="noStrike" baseline="-25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 = [cos </a:t>
            </a:r>
            <a:r>
              <a:rPr b="0" lang="es-ES_tradnl" sz="1800" spc="-1" strike="noStrike">
                <a:solidFill>
                  <a:srgbClr val="ffcc00"/>
                </a:solidFill>
                <a:latin typeface="Symbol"/>
                <a:ea typeface="Symbol"/>
              </a:rPr>
              <a:t></a:t>
            </a:r>
            <a:r>
              <a:rPr b="0" lang="es-ES_tradnl" sz="1800" spc="-1" strike="noStrike" baseline="-25000">
                <a:solidFill>
                  <a:srgbClr val="ffcc00"/>
                </a:solidFill>
                <a:latin typeface="Times New Roman"/>
              </a:rPr>
              <a:t>sc</a:t>
            </a: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 + dQ/dP  sin </a:t>
            </a:r>
            <a:r>
              <a:rPr b="0" lang="es-ES_tradnl" sz="1800" spc="-1" strike="noStrike">
                <a:solidFill>
                  <a:srgbClr val="ffcc00"/>
                </a:solidFill>
                <a:latin typeface="Symbol"/>
                <a:ea typeface="Symbol"/>
              </a:rPr>
              <a:t></a:t>
            </a:r>
            <a:r>
              <a:rPr b="0" lang="es-ES_tradnl" sz="1800" spc="-1" strike="noStrike" baseline="-25000">
                <a:solidFill>
                  <a:srgbClr val="ffcc00"/>
                </a:solidFill>
                <a:latin typeface="Times New Roman"/>
              </a:rPr>
              <a:t>sc</a:t>
            </a: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 ] S</a:t>
            </a:r>
            <a:r>
              <a:rPr b="0" lang="es-ES_tradnl" sz="1800" spc="-1" strike="noStrike" baseline="-25000">
                <a:solidFill>
                  <a:srgbClr val="ffcc00"/>
                </a:solidFill>
                <a:latin typeface="Times New Roman"/>
              </a:rPr>
              <a:t>wn</a:t>
            </a: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 / S</a:t>
            </a:r>
            <a:r>
              <a:rPr b="0" lang="es-ES_tradnl" sz="1800" spc="-1" strike="noStrike" baseline="-25000">
                <a:solidFill>
                  <a:srgbClr val="ffcc00"/>
                </a:solidFill>
                <a:latin typeface="Times New Roman"/>
              </a:rPr>
              <a:t>sc</a:t>
            </a: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  I</a:t>
            </a:r>
            <a:r>
              <a:rPr b="0" lang="es-ES_tradnl" sz="1800" spc="-1" strike="noStrike" baseline="-25000">
                <a:solidFill>
                  <a:srgbClr val="ffcc00"/>
                </a:solidFill>
                <a:latin typeface="Times New Roman"/>
              </a:rPr>
              <a:t>w</a:t>
            </a: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 f</a:t>
            </a:r>
            <a:r>
              <a:rPr b="0" lang="es-ES_tradnl" sz="1800" spc="-1" strike="noStrike" baseline="-25000">
                <a:solidFill>
                  <a:srgbClr val="ffcc00"/>
                </a:solidFill>
                <a:latin typeface="Times New Roman"/>
              </a:rPr>
              <a:t>w</a:t>
            </a: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(W)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Don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Symbol"/>
                <a:ea typeface="Symbol"/>
              </a:rPr>
              <a:t></a:t>
            </a:r>
            <a:r>
              <a:rPr b="0" lang="es-ES_tradnl" sz="1400" spc="-1" strike="noStrike" baseline="-25000">
                <a:solidFill>
                  <a:srgbClr val="ffffcc"/>
                </a:solidFill>
                <a:latin typeface="Times New Roman"/>
              </a:rPr>
              <a:t>sc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  =  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Ángulo de corto circui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 = 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Potencia reactiv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P = 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Potencia activ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ES_tradnl" sz="1400" spc="-1" strike="noStrike" baseline="-25000">
                <a:solidFill>
                  <a:srgbClr val="ffffcc"/>
                </a:solidFill>
                <a:latin typeface="Times New Roman"/>
              </a:rPr>
              <a:t>wn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Potencia nominal de la turbin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ES_tradnl" sz="1400" spc="-1" strike="noStrike" baseline="-25000">
                <a:solidFill>
                  <a:srgbClr val="ffffcc"/>
                </a:solidFill>
                <a:latin typeface="Times New Roman"/>
              </a:rPr>
              <a:t>sc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Potencia de cortocircuito del sistema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cc"/>
                </a:solidFill>
                <a:latin typeface="Times New Roman"/>
              </a:rPr>
              <a:t>w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Promedio de la turbulencia del viento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s-ES_tradnl" sz="1400" spc="-1" strike="noStrike" baseline="-25000">
                <a:solidFill>
                  <a:srgbClr val="ffffcc"/>
                </a:solidFill>
                <a:latin typeface="Times New Roman"/>
              </a:rPr>
              <a:t>w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  (W) = 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Coeficiente de flicker (función del viento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5940360" y="2781360"/>
            <a:ext cx="762120" cy="13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Oval 18"/>
          <p:cNvSpPr/>
          <p:nvPr/>
        </p:nvSpPr>
        <p:spPr>
          <a:xfrm>
            <a:off x="7093080" y="3284640"/>
            <a:ext cx="2872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1187280" y="3860640"/>
            <a:ext cx="27370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755640" y="4149720"/>
            <a:ext cx="431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4932360" y="1413000"/>
            <a:ext cx="396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66ffff"/>
                </a:solidFill>
                <a:latin typeface="Times New Roman"/>
              </a:rPr>
              <a:t>Ejemplo de sombra de torre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66ffff"/>
                </a:solidFill>
                <a:latin typeface="Times New Roman"/>
              </a:rPr>
              <a:t>1000 rpm, 3 palas </a:t>
            </a:r>
            <a:r>
              <a:rPr b="0" lang="es-AR" sz="16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0" lang="es-AR" sz="1600" spc="-1" strike="noStrike">
                <a:solidFill>
                  <a:srgbClr val="66ffff"/>
                </a:solidFill>
                <a:latin typeface="Times New Roman"/>
              </a:rPr>
              <a:t> 5,5 Hz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7" name="Picture 22" descr="Centrales%20Eólicas_archivos/aerogenerador.jpg"/>
          <p:cNvPicPr/>
          <p:nvPr/>
        </p:nvPicPr>
        <p:blipFill>
          <a:blip r:embed="rId3"/>
          <a:stretch/>
        </p:blipFill>
        <p:spPr>
          <a:xfrm>
            <a:off x="7383600" y="0"/>
            <a:ext cx="1760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Otros generadores de Flicker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Motores carga brusca, cíclicos o n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9" name="Picture 6" descr="fli12"/>
          <p:cNvPicPr/>
          <p:nvPr/>
        </p:nvPicPr>
        <p:blipFill>
          <a:blip r:embed="rId1"/>
          <a:srcRect l="0" t="0" r="0" b="4549"/>
          <a:stretch/>
        </p:blipFill>
        <p:spPr>
          <a:xfrm>
            <a:off x="324000" y="2060640"/>
            <a:ext cx="3933720" cy="3960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fl3"/>
          <p:cNvPicPr/>
          <p:nvPr/>
        </p:nvPicPr>
        <p:blipFill>
          <a:blip r:embed="rId2"/>
          <a:srcRect l="3173" t="0" r="3444" b="6217"/>
          <a:stretch/>
        </p:blipFill>
        <p:spPr>
          <a:xfrm>
            <a:off x="4916520" y="1341360"/>
            <a:ext cx="4127400" cy="50403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9"/>
          <p:cNvSpPr/>
          <p:nvPr/>
        </p:nvSpPr>
        <p:spPr>
          <a:xfrm>
            <a:off x="5076720" y="3789360"/>
            <a:ext cx="35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5580000" y="3645000"/>
            <a:ext cx="2808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539640" y="6156360"/>
            <a:ext cx="35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Motor mezclado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1.250 Hp, 6,6 kV </a:t>
            </a:r>
            <a:r>
              <a:rPr b="0" lang="es-ES_tradnl" sz="20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 4 H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4932360" y="63244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kW y kVA Perforadora de m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2340000" y="2421000"/>
            <a:ext cx="15112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826920" y="2637000"/>
            <a:ext cx="86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2050920" y="2708280"/>
            <a:ext cx="360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2556000" y="472428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1187280" y="4005360"/>
            <a:ext cx="216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Oval 19"/>
          <p:cNvSpPr/>
          <p:nvPr/>
        </p:nvSpPr>
        <p:spPr>
          <a:xfrm>
            <a:off x="8101080" y="2637000"/>
            <a:ext cx="792000" cy="86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324000" y="1268280"/>
            <a:ext cx="383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66ffff"/>
                </a:solidFill>
                <a:latin typeface="Times New Roman"/>
              </a:rPr>
              <a:t>Ejemplo de compresor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66ffff"/>
                </a:solidFill>
                <a:latin typeface="Times New Roman"/>
              </a:rPr>
              <a:t>1490 rpm, reducción 2,9; 514 rpm </a:t>
            </a:r>
            <a:r>
              <a:rPr b="0" lang="es-AR" sz="16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0" lang="es-AR" sz="1600" spc="-1" strike="noStrike">
                <a:solidFill>
                  <a:srgbClr val="66ffff"/>
                </a:solidFill>
                <a:latin typeface="Times New Roman"/>
              </a:rPr>
              <a:t>8,6 Hz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Flick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907920"/>
            <a:ext cx="462132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7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Times New Roman"/>
              </a:rPr>
              <a:t>Relación con Regulación y por ende con Invers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5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5320" indent="-175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nómeno altamente subjetiv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5320" indent="-175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unción de la respuesta del sistema lámpara-ojo-cerebr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5320" indent="-175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produce deterioro a equip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5320" indent="-175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imites establecidos por reglamentaciones nacionales e internacion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5320" indent="-1753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fusión con hueco de tensión cícl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4" descr="7-1"/>
          <p:cNvPicPr/>
          <p:nvPr/>
        </p:nvPicPr>
        <p:blipFill>
          <a:blip r:embed="rId1"/>
          <a:stretch/>
        </p:blipFill>
        <p:spPr>
          <a:xfrm>
            <a:off x="5105520" y="892080"/>
            <a:ext cx="3886200" cy="2543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3" name="Object 7"/>
          <p:cNvGraphicFramePr/>
          <p:nvPr/>
        </p:nvGraphicFramePr>
        <p:xfrm>
          <a:off x="4809960" y="4005360"/>
          <a:ext cx="4334040" cy="256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9960" y="4005360"/>
                    <a:ext cx="433404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8"/>
          <p:cNvSpPr/>
          <p:nvPr/>
        </p:nvSpPr>
        <p:spPr>
          <a:xfrm>
            <a:off x="6441480" y="4221000"/>
            <a:ext cx="22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Times New Roman"/>
              </a:rPr>
              <a:t>Límite de irri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Times New Roman"/>
              </a:rPr>
              <a:t>Límite de det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5866920" y="4797360"/>
            <a:ext cx="576360" cy="433440"/>
          </a:xfrm>
          <a:prstGeom prst="line">
            <a:avLst/>
          </a:prstGeom>
          <a:ln w="9360">
            <a:solidFill>
              <a:srgbClr val="9c0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6011640" y="4365720"/>
            <a:ext cx="431640" cy="288720"/>
          </a:xfrm>
          <a:prstGeom prst="line">
            <a:avLst/>
          </a:prstGeom>
          <a:ln w="9360">
            <a:solidFill>
              <a:srgbClr val="9c00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735600" y="35002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FFF 30 H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8459640" y="3716280"/>
            <a:ext cx="684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7750800" y="47628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Año 193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Variación de la sensac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2" name="Picture 4" descr="fli2"/>
          <p:cNvPicPr/>
          <p:nvPr/>
        </p:nvPicPr>
        <p:blipFill>
          <a:blip r:embed="rId1"/>
          <a:stretch/>
        </p:blipFill>
        <p:spPr>
          <a:xfrm>
            <a:off x="1692360" y="1125360"/>
            <a:ext cx="3376440" cy="20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fli3"/>
          <p:cNvPicPr/>
          <p:nvPr/>
        </p:nvPicPr>
        <p:blipFill>
          <a:blip r:embed="rId2"/>
          <a:stretch/>
        </p:blipFill>
        <p:spPr>
          <a:xfrm>
            <a:off x="5646600" y="1484280"/>
            <a:ext cx="3497400" cy="263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fli5ge"/>
          <p:cNvPicPr/>
          <p:nvPr/>
        </p:nvPicPr>
        <p:blipFill>
          <a:blip r:embed="rId3"/>
          <a:srcRect l="0" t="3527" r="2748" b="0"/>
          <a:stretch/>
        </p:blipFill>
        <p:spPr>
          <a:xfrm>
            <a:off x="324000" y="3554280"/>
            <a:ext cx="5256000" cy="3303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0" y="1268280"/>
            <a:ext cx="173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on nivel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lumin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651000" y="4149720"/>
            <a:ext cx="24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on la duración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la transi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648400" y="5670720"/>
            <a:ext cx="28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urva típica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mpresa distribuido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Detección e irrit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Posibles daños en una turbina debidos a Flicker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4" descr="fl8"/>
          <p:cNvPicPr/>
          <p:nvPr/>
        </p:nvPicPr>
        <p:blipFill>
          <a:blip r:embed="rId1"/>
          <a:srcRect l="0" t="0" r="0" b="29080"/>
          <a:stretch/>
        </p:blipFill>
        <p:spPr>
          <a:xfrm>
            <a:off x="250920" y="2421000"/>
            <a:ext cx="3193920" cy="418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l9"/>
          <p:cNvPicPr/>
          <p:nvPr/>
        </p:nvPicPr>
        <p:blipFill>
          <a:blip r:embed="rId2"/>
          <a:srcRect l="0" t="0" r="0" b="13926"/>
          <a:stretch/>
        </p:blipFill>
        <p:spPr>
          <a:xfrm>
            <a:off x="3995640" y="2565360"/>
            <a:ext cx="5148360" cy="36068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179280" y="1484280"/>
            <a:ext cx="333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Turbina 720 MW, convertidor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Amplitud 1,65 MW, 15-19 Hz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4062240" y="1557360"/>
            <a:ext cx="48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urbina 320 MW, convertidor está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xcitó segunda frecuencia natur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Efecto sobre el ser humano: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Puente</a:t>
            </a: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 San Mateo - Hayward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4" name="Picture 4" descr="map-03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484280"/>
            <a:ext cx="1282680" cy="129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san_mateo_br01"/>
          <p:cNvPicPr/>
          <p:nvPr/>
        </p:nvPicPr>
        <p:blipFill>
          <a:blip r:embed="rId3"/>
          <a:stretch/>
        </p:blipFill>
        <p:spPr>
          <a:xfrm>
            <a:off x="4572000" y="3357720"/>
            <a:ext cx="4403880" cy="3303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san_mateo_haywar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4581360"/>
            <a:ext cx="2449800" cy="1784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822960" y="39337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luminación act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752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Longitud del puente 11 km (7 milla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Velocidad crucero 90 km/h (55 millas/h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Iluminación horizon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Separación lámparas 3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Uniformidad 1,7: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Frecuencia 8,2 H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7 Elipse"/>
          <p:cNvSpPr/>
          <p:nvPr/>
        </p:nvSpPr>
        <p:spPr>
          <a:xfrm>
            <a:off x="6357960" y="2143080"/>
            <a:ext cx="285840" cy="285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Accidentes en puente San Mate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4896000" y="1773360"/>
          <a:ext cx="4248000" cy="238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6000" y="1773360"/>
                    <a:ext cx="424800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6"/>
          <p:cNvGraphicFramePr/>
          <p:nvPr/>
        </p:nvGraphicFramePr>
        <p:xfrm>
          <a:off x="0" y="2492280"/>
          <a:ext cx="4968720" cy="1548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92280"/>
                    <a:ext cx="496872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10"/>
          <p:cNvSpPr/>
          <p:nvPr/>
        </p:nvSpPr>
        <p:spPr>
          <a:xfrm>
            <a:off x="384840" y="765000"/>
            <a:ext cx="876996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Estímulo Fótic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omnolencia, estado hipnótico alcanzando extremos con convul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Situación Original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(Iluminación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Situación Actual: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(Iluminación elevada en parte del puent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arte sin cambio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ncremento del 78 % en relación accidentes noche/d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ncremento del 48 % en el porcentaje de accidentes nocturn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arte con cambio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cremento del 46 % en relación accidentes noche/d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cremento del 34 % en porcentaje de accidentes nocturn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915920"/>
            <a:ext cx="270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Historia resumid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3059280" y="189000"/>
          <a:ext cx="5751360" cy="645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89000"/>
                    <a:ext cx="5751360" cy="64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Oval 6"/>
          <p:cNvSpPr/>
          <p:nvPr/>
        </p:nvSpPr>
        <p:spPr>
          <a:xfrm>
            <a:off x="3708360" y="2924280"/>
            <a:ext cx="129528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4859280" y="4437000"/>
            <a:ext cx="16574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5867280" y="5445000"/>
            <a:ext cx="194472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3132000" y="6021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Generadores de Flicker</a:t>
            </a:r>
            <a:br>
              <a:rPr sz="4000"/>
            </a:b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Horno de arco (tipo Heroult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5" name="Picture 7" descr="7-8"/>
          <p:cNvPicPr/>
          <p:nvPr/>
        </p:nvPicPr>
        <p:blipFill>
          <a:blip r:embed="rId1"/>
          <a:stretch/>
        </p:blipFill>
        <p:spPr>
          <a:xfrm>
            <a:off x="5284800" y="1700280"/>
            <a:ext cx="3859200" cy="2187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figura2"/>
          <p:cNvPicPr/>
          <p:nvPr/>
        </p:nvPicPr>
        <p:blipFill>
          <a:blip r:embed="rId2"/>
          <a:stretch/>
        </p:blipFill>
        <p:spPr>
          <a:xfrm>
            <a:off x="5065560" y="4114800"/>
            <a:ext cx="3697560" cy="2463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1"/>
          <p:cNvSpPr/>
          <p:nvPr/>
        </p:nvSpPr>
        <p:spPr>
          <a:xfrm>
            <a:off x="-1080" y="1581120"/>
            <a:ext cx="537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Elevadas potencias individuales: 40 a 200MW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Alto factor de carga: 75 a 90%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Costo competitivo con el de combustible fósi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imes New Roman"/>
              </a:rPr>
              <a:t>Menos contaminant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12" descr="arc%20furnace"/>
          <p:cNvPicPr/>
          <p:nvPr/>
        </p:nvPicPr>
        <p:blipFill>
          <a:blip r:embed="rId3"/>
          <a:srcRect l="8938" t="0" r="0" b="0"/>
          <a:stretch/>
        </p:blipFill>
        <p:spPr>
          <a:xfrm>
            <a:off x="755640" y="3228840"/>
            <a:ext cx="3672000" cy="36291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"/>
          <p:cNvSpPr/>
          <p:nvPr/>
        </p:nvSpPr>
        <p:spPr>
          <a:xfrm>
            <a:off x="826920" y="3716280"/>
            <a:ext cx="122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lectrod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835280" y="4076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1042920" y="4365720"/>
            <a:ext cx="360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Oval 18"/>
          <p:cNvSpPr/>
          <p:nvPr/>
        </p:nvSpPr>
        <p:spPr>
          <a:xfrm>
            <a:off x="5148360" y="4221000"/>
            <a:ext cx="50472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aracterística de funcionamiento del horno de arc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900000" y="2781360"/>
          <a:ext cx="3810240" cy="253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81360"/>
                    <a:ext cx="3810240" cy="25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4"/>
          <p:cNvGraphicFramePr/>
          <p:nvPr/>
        </p:nvGraphicFramePr>
        <p:xfrm>
          <a:off x="1901880" y="1701720"/>
          <a:ext cx="5478480" cy="460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7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1880" y="1701720"/>
                    <a:ext cx="547848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16"/>
          <p:cNvSpPr/>
          <p:nvPr/>
        </p:nvSpPr>
        <p:spPr>
          <a:xfrm>
            <a:off x="7486560" y="5300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Tiempo (minutos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18"/>
          <p:cNvSpPr/>
          <p:nvPr/>
        </p:nvSpPr>
        <p:spPr>
          <a:xfrm flipV="1">
            <a:off x="2050920" y="4292640"/>
            <a:ext cx="0" cy="2016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9"/>
          <p:cNvSpPr/>
          <p:nvPr/>
        </p:nvSpPr>
        <p:spPr>
          <a:xfrm rot="16200000">
            <a:off x="1110240" y="5234040"/>
            <a:ext cx="187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Factor de potencia (pu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1908000" y="6381720"/>
            <a:ext cx="5472360" cy="0"/>
          </a:xfrm>
          <a:prstGeom prst="line">
            <a:avLst/>
          </a:prstGeom>
          <a:ln w="190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3998880" y="623736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Tiempo (minuto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Line 23"/>
          <p:cNvSpPr/>
          <p:nvPr/>
        </p:nvSpPr>
        <p:spPr>
          <a:xfrm>
            <a:off x="7308720" y="4437000"/>
            <a:ext cx="0" cy="187164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USUARIO</cp:lastModifiedBy>
  <dcterms:modified xsi:type="dcterms:W3CDTF">2008-10-22T15:45:56Z</dcterms:modified>
  <cp:revision>126</cp:revision>
  <dc:subject/>
  <dc:title>Sin título de diapositiva</dc:title>
</cp:coreProperties>
</file>