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5.png" ContentType="image/png"/>
  <Override PartName="/ppt/media/image42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2.wmf" ContentType="image/x-wmf"/>
  <Override PartName="/ppt/media/image4.png" ContentType="image/png"/>
  <Override PartName="/ppt/media/image30.wmf" ContentType="image/x-wmf"/>
  <Override PartName="/ppt/media/image33.jpeg" ContentType="image/jpeg"/>
  <Override PartName="/ppt/media/image27.png" ContentType="image/png"/>
  <Override PartName="/ppt/media/image13.wmf" ContentType="image/x-wmf"/>
  <Override PartName="/ppt/media/image43.jpeg" ContentType="image/jpeg"/>
  <Override PartName="/ppt/media/image5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0.jpeg" ContentType="image/jpeg"/>
  <Override PartName="/ppt/media/image11.wmf" ContentType="image/x-wmf"/>
  <Override PartName="/ppt/media/image17.jpeg" ContentType="image/jpeg"/>
  <Override PartName="/ppt/media/image26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3EAA-9246-4F35-89FE-45824F7305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0BC6-E000-4A90-BB2E-C0D7C4B45B7C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D389-181C-4B56-A057-A24DE7AF5C41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81A2-DD66-4EA8-BCF1-6EB9878DD006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E64C-24A8-48A6-8F2D-C35CE6171433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7860-100B-4143-9397-D36DC39B0E33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D41D-D2C2-4AD8-9F04-7E890EAA4FAE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595-6813-4AF4-B37E-E1C353CC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0D9-9F82-441B-B128-756E3E48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CAC-AE24-4314-B4F3-65AFF6A5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E22-98EC-40E0-9F76-FB88EB54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5345-1306-478E-A1DC-BF382978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4BF6-7722-470B-8A07-DFE73805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071F-3A3F-4835-86AD-4C42F639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9E4B-0D8E-484B-8B5E-50B40661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3559-5355-4671-A677-2048E815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E768-959E-47DA-9BB8-33779AB7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AC67-389D-4DBA-A58C-7AC354EA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BA8-A91B-4C51-B9CB-CE997099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244E-C105-4748-A189-D8A2E72B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D028-6063-4710-BBD0-F429B9DB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88A7-FFFF-4203-A250-1C7643F7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1164-FEF2-47A2-BFCF-1E6C941B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DD0E-0151-4BAC-B123-785680FF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A31-FC5F-41BA-A514-8164B7CC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2D1-2207-40AA-8E84-37AFCB69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D15-181D-42A6-BB0F-99CF8FD4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428-F0F1-4589-989E-0FC5C96E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238-C610-4EC5-BBB8-53CBFC69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040-6D96-4668-BDB2-5BC7D66B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904-767A-4791-A82B-9081B40A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8377-6967-4F85-8817-A604A7266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79FF-AC26-417B-A6A9-592C7DCA937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c00"/>
                </a:solidFill>
                <a:latin typeface="Times New Roman"/>
              </a:rPr>
              <a:t>Ondas normalizadas (ANSI)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fdeondas"/>
          <p:cNvPicPr/>
          <p:nvPr/>
        </p:nvPicPr>
        <p:blipFill>
          <a:blip r:embed="rId1"/>
          <a:srcRect l="35447" t="0" r="0" b="0"/>
          <a:stretch/>
        </p:blipFill>
        <p:spPr>
          <a:xfrm>
            <a:off x="0" y="836640"/>
            <a:ext cx="5616720" cy="280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deondas"/>
          <p:cNvPicPr/>
          <p:nvPr/>
        </p:nvPicPr>
        <p:blipFill>
          <a:blip r:embed="rId2"/>
          <a:srcRect l="0" t="0" r="63729" b="0"/>
          <a:stretch/>
        </p:blipFill>
        <p:spPr>
          <a:xfrm>
            <a:off x="5651640" y="3755880"/>
            <a:ext cx="3492360" cy="3102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724360" y="907920"/>
            <a:ext cx="25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Onda que simula la descarga atmosfér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627280" y="479736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Onda que simula la sobretensión transferida a baja tensión debida a descarga atmosfér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Times New Roman"/>
              </a:rPr>
              <a:t>Distribución por tipo de artefacto dañado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870120" y="1981080"/>
          <a:ext cx="79689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1981080"/>
                    <a:ext cx="79689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lasificar los artefactos en base a su sensibilidad a resultar dañ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Incidencia 9/99 - 12/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elevisores 38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utadora 11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quipos de música 7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vadora 6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adio receptor 6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quipos de frío 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Vídeo VHS 4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cc"/>
                </a:solidFill>
                <a:latin typeface="Times New Roman"/>
              </a:rPr>
              <a:t>Total 77 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6600"/>
                </a:solidFill>
                <a:latin typeface="Times New Roman"/>
              </a:rPr>
              <a:t>CUANTO CUESTA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96252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ño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levisores reclamados 13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arcas: S1 42%, S2 31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58% reclamos en 25 días (7% añ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24% reclamos en 5 días (1,4% año),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debidos a: 20% tormenta, 50% neutro cortado y 30 % energización neutr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6" name="Object 5"/>
          <p:cNvGraphicFramePr/>
          <p:nvPr/>
        </p:nvGraphicFramePr>
        <p:xfrm>
          <a:off x="4724280" y="4267080"/>
          <a:ext cx="38862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267080"/>
                    <a:ext cx="38862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jemplo típico de reclamos</a:t>
            </a:r>
            <a:br>
              <a:rPr sz="4400"/>
            </a:b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(país desarrollado)</a:t>
            </a:r>
            <a:br>
              <a:rPr sz="3200"/>
            </a:b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EE con 500.000 clientes, 157 reclamos durante un año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250920" y="2708280"/>
          <a:ext cx="8642160" cy="288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8280"/>
                    <a:ext cx="864216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Times New Roman"/>
              </a:rPr>
              <a:t>Ejemplos Típicos I</a:t>
            </a:r>
            <a:br>
              <a:rPr sz="4000"/>
            </a:br>
            <a:r>
              <a:rPr b="1" lang="es-ES" sz="3200" spc="-1" strike="noStrike">
                <a:solidFill>
                  <a:srgbClr val="ffcc00"/>
                </a:solidFill>
                <a:latin typeface="Times New Roman"/>
              </a:rPr>
              <a:t>(Argentina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2349000"/>
            <a:ext cx="81342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Número de usuarios: 320.000.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Número de reclamos anuales por daños: 3600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rcentaje de reclamos reales: 55 %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Costo anual de reparación: U$S 72.000.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Times New Roman"/>
              </a:rPr>
              <a:t>Ejemplos Típicos II</a:t>
            </a:r>
            <a:br>
              <a:rPr sz="4000"/>
            </a:br>
            <a:r>
              <a:rPr b="1" lang="es-ES" sz="3200" spc="-1" strike="noStrike">
                <a:solidFill>
                  <a:srgbClr val="ffcc00"/>
                </a:solidFill>
                <a:latin typeface="Times New Roman"/>
              </a:rPr>
              <a:t>(Latinoamérica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úmero de usuarios: 250.000.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úmero de reclamos anuales por daños: 320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Televisores: 32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quipos de sonido: 20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omputadoras y periféricos: 18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quipos de frío: 10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Teléfonos/fax: 7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sto anual de reparación: U$S 55.000.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ISIÓN EXTER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ndice de evaluació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imes New Roman"/>
              </a:rPr>
              <a:t>Número anual de reclamos por cada mil usuari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tribuidora Norteamericana (1988):  0,31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tribuidora Latinoamericana (2002): 1,98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tribuidora Argentina I (2002):         4,2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tribuidora Argentina I (2003):         5,6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tribuidora Argentina II (2003):      11,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Times New Roman"/>
              </a:rPr>
              <a:t>CRE (promedio 2000-2003):             11,72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Daños a artefactos</a:t>
            </a:r>
            <a:br>
              <a:rPr sz="44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Ejemplo clásico de problemática mal manejada por parte de las empresas eléctricas y organismos reguladore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 empresa eléctrica niega su responsabilidad en el dañ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usuario culpa siempre a la empr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 respuesta del organismo regulador no siempre es clara y coher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Usualmente se carece de especificaciones o normas a cumplir por los artefac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municipalidades no verifican las instalacion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finición de la responsabilidad o no del distribuidor en los daños al usua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458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n oportunidad de maniobras y actuación normal de protec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Responsabilidad eviden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rosera: error de conexión por parte de brigada, uso de motor sin protección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Responsabilidad ten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aga: sabotaje, punto de ingreso de la sobre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Invocación de Imposibilidad sobreviniente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de fuerza mayor y caso fortui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Dispositivos protectores lent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2" name="Picture 3" descr="1512"/>
          <p:cNvPicPr/>
          <p:nvPr/>
        </p:nvPicPr>
        <p:blipFill>
          <a:blip r:embed="rId1"/>
          <a:srcRect l="9740" t="42703" r="4240" b="39714"/>
          <a:stretch/>
        </p:blipFill>
        <p:spPr>
          <a:xfrm>
            <a:off x="179280" y="3213000"/>
            <a:ext cx="3888000" cy="1463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00360" y="98100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scargador gaseos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elocidad de respuesta          1 a 10 µ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apacidad de descarga del orden de 100 k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roblemas de sobredispar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DERIVAD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22"/>
          <p:cNvPicPr/>
          <p:nvPr/>
        </p:nvPicPr>
        <p:blipFill>
          <a:blip r:embed="rId2"/>
          <a:srcRect l="6079" t="4130" r="4543" b="17973"/>
          <a:stretch/>
        </p:blipFill>
        <p:spPr>
          <a:xfrm>
            <a:off x="4211640" y="3933720"/>
            <a:ext cx="468144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1512"/>
          <p:cNvPicPr/>
          <p:nvPr/>
        </p:nvPicPr>
        <p:blipFill>
          <a:blip r:embed="rId3"/>
          <a:srcRect l="16173" t="7074" r="14438" b="63559"/>
          <a:stretch/>
        </p:blipFill>
        <p:spPr>
          <a:xfrm>
            <a:off x="1332000" y="765000"/>
            <a:ext cx="1979640" cy="214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1512"/>
          <p:cNvPicPr/>
          <p:nvPr/>
        </p:nvPicPr>
        <p:blipFill>
          <a:blip r:embed="rId4"/>
          <a:srcRect l="6941" t="70344" r="0" b="0"/>
          <a:stretch/>
        </p:blipFill>
        <p:spPr>
          <a:xfrm>
            <a:off x="1042920" y="4941720"/>
            <a:ext cx="24494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Dispositivos protectores rápidos:</a:t>
            </a:r>
            <a:br>
              <a:rPr sz="4000"/>
            </a:br>
            <a:r>
              <a:rPr b="1" lang="es-ES_tradnl" sz="2800" spc="-1" strike="noStrike">
                <a:solidFill>
                  <a:srgbClr val="ffcc00"/>
                </a:solidFill>
                <a:latin typeface="Times New Roman"/>
              </a:rPr>
              <a:t>varistores y diodos de avalancha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49568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roblemas de vida út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elocidad de respuesta 1 a 10 ns y 1 a 10 ps para di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apacidad de descarga &lt;10 k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              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RECORTAD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Picture 4" descr="151"/>
          <p:cNvPicPr/>
          <p:nvPr/>
        </p:nvPicPr>
        <p:blipFill>
          <a:blip r:embed="rId1"/>
          <a:srcRect l="15422" t="36228" r="11526" b="37601"/>
          <a:stretch/>
        </p:blipFill>
        <p:spPr>
          <a:xfrm>
            <a:off x="250920" y="2492280"/>
            <a:ext cx="1368360" cy="115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50"/>
          <p:cNvPicPr/>
          <p:nvPr/>
        </p:nvPicPr>
        <p:blipFill>
          <a:blip r:embed="rId2"/>
          <a:srcRect l="0" t="6068" r="0" b="80337"/>
          <a:stretch/>
        </p:blipFill>
        <p:spPr>
          <a:xfrm>
            <a:off x="2124000" y="1557360"/>
            <a:ext cx="2446560" cy="647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5148360" y="587700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Picture 9" descr="151"/>
          <p:cNvPicPr/>
          <p:nvPr/>
        </p:nvPicPr>
        <p:blipFill>
          <a:blip r:embed="rId3"/>
          <a:srcRect l="11607" t="68678" r="7711" b="1913"/>
          <a:stretch/>
        </p:blipFill>
        <p:spPr>
          <a:xfrm>
            <a:off x="250920" y="3789360"/>
            <a:ext cx="151128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151"/>
          <p:cNvPicPr/>
          <p:nvPr/>
        </p:nvPicPr>
        <p:blipFill>
          <a:blip r:embed="rId4"/>
          <a:srcRect l="13393" t="0" r="13555" b="68928"/>
          <a:stretch/>
        </p:blipFill>
        <p:spPr>
          <a:xfrm>
            <a:off x="250920" y="90792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150"/>
          <p:cNvPicPr/>
          <p:nvPr/>
        </p:nvPicPr>
        <p:blipFill>
          <a:blip r:embed="rId5"/>
          <a:srcRect l="0" t="30235" r="0" b="54674"/>
          <a:stretch/>
        </p:blipFill>
        <p:spPr>
          <a:xfrm>
            <a:off x="2124000" y="2637000"/>
            <a:ext cx="2446560" cy="718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150"/>
          <p:cNvPicPr/>
          <p:nvPr/>
        </p:nvPicPr>
        <p:blipFill>
          <a:blip r:embed="rId6"/>
          <a:srcRect l="0" t="83934" r="11440" b="1700"/>
          <a:stretch/>
        </p:blipFill>
        <p:spPr>
          <a:xfrm>
            <a:off x="1763640" y="4941720"/>
            <a:ext cx="3024360" cy="955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150"/>
          <p:cNvPicPr/>
          <p:nvPr/>
        </p:nvPicPr>
        <p:blipFill>
          <a:blip r:embed="rId7">
            <a:lum contrast="40000"/>
          </a:blip>
          <a:srcRect l="8955" t="55996" r="2933" b="21386"/>
          <a:stretch/>
        </p:blipFill>
        <p:spPr>
          <a:xfrm>
            <a:off x="1835280" y="3500280"/>
            <a:ext cx="2947680" cy="147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Nueva imagen"/>
          <p:cNvPicPr/>
          <p:nvPr/>
        </p:nvPicPr>
        <p:blipFill>
          <a:blip r:embed="rId8"/>
          <a:srcRect l="0" t="0" r="6528" b="0"/>
          <a:stretch/>
        </p:blipFill>
        <p:spPr>
          <a:xfrm>
            <a:off x="4932360" y="3956040"/>
            <a:ext cx="4211640" cy="2901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150"/>
          <p:cNvPicPr/>
          <p:nvPr/>
        </p:nvPicPr>
        <p:blipFill>
          <a:blip r:embed="rId9"/>
          <a:srcRect l="17060" t="80171" r="7256" b="16073"/>
          <a:stretch/>
        </p:blipFill>
        <p:spPr>
          <a:xfrm>
            <a:off x="2050920" y="6021360"/>
            <a:ext cx="2374920" cy="230040"/>
          </a:xfrm>
          <a:prstGeom prst="rect">
            <a:avLst/>
          </a:prstGeom>
          <a:ln w="0">
            <a:noFill/>
          </a:ln>
        </p:spPr>
      </p:pic>
      <p:sp>
        <p:nvSpPr>
          <p:cNvPr id="179" name="Line 17"/>
          <p:cNvSpPr/>
          <p:nvPr/>
        </p:nvSpPr>
        <p:spPr>
          <a:xfrm>
            <a:off x="1908000" y="4941720"/>
            <a:ext cx="107964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c00"/>
                </a:solidFill>
                <a:latin typeface="Times New Roman"/>
              </a:rPr>
              <a:t>Ondas normalizadas (IEEE)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7" descr="15"/>
          <p:cNvPicPr/>
          <p:nvPr/>
        </p:nvPicPr>
        <p:blipFill>
          <a:blip r:embed="rId1"/>
          <a:srcRect l="4109" t="6004" r="0" b="0"/>
          <a:stretch/>
        </p:blipFill>
        <p:spPr>
          <a:xfrm>
            <a:off x="1332000" y="1050840"/>
            <a:ext cx="6264360" cy="5592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8"/>
          <p:cNvSpPr/>
          <p:nvPr/>
        </p:nvSpPr>
        <p:spPr>
          <a:xfrm>
            <a:off x="3059280" y="1413000"/>
            <a:ext cx="208908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5292720" y="5445000"/>
            <a:ext cx="151128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Operación de varisto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4211640" y="4365720"/>
            <a:ext cx="4657680" cy="2133360"/>
            <a:chOff x="4211640" y="4365720"/>
            <a:chExt cx="4657680" cy="2133360"/>
          </a:xfrm>
        </p:grpSpPr>
        <p:pic>
          <p:nvPicPr>
            <p:cNvPr id="182" name="Picture 4" descr="erico27"/>
            <p:cNvPicPr/>
            <p:nvPr/>
          </p:nvPicPr>
          <p:blipFill>
            <a:blip r:embed="rId1"/>
            <a:srcRect l="51973" t="20430" r="3765" b="49233"/>
            <a:stretch/>
          </p:blipFill>
          <p:spPr>
            <a:xfrm>
              <a:off x="4211640" y="4365720"/>
              <a:ext cx="4657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5"/>
            <p:cNvSpPr/>
            <p:nvPr/>
          </p:nvSpPr>
          <p:spPr>
            <a:xfrm>
              <a:off x="4704840" y="4365720"/>
              <a:ext cx="1288080" cy="9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cc"/>
                  </a:solidFill>
                  <a:latin typeface="Times New Roman"/>
                </a:rPr>
                <a:t>Nivel de recorte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995440" y="4365720"/>
              <a:ext cx="1090080" cy="9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7779240" y="4365720"/>
              <a:ext cx="1090080" cy="83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6490800" y="5203440"/>
              <a:ext cx="19800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4707000" y="5203440"/>
              <a:ext cx="59436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88" name="Picture 10" descr="erico27"/>
          <p:cNvPicPr/>
          <p:nvPr/>
        </p:nvPicPr>
        <p:blipFill>
          <a:blip r:embed="rId2"/>
          <a:srcRect l="5482" t="40026" r="62250" b="30118"/>
          <a:stretch/>
        </p:blipFill>
        <p:spPr>
          <a:xfrm>
            <a:off x="539640" y="1197000"/>
            <a:ext cx="5040360" cy="28116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1"/>
          <p:cNvSpPr/>
          <p:nvPr/>
        </p:nvSpPr>
        <p:spPr>
          <a:xfrm>
            <a:off x="539640" y="1268280"/>
            <a:ext cx="50403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   </a:t>
            </a: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Impulso                          Sobretensión                        Impuls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Transitorio                   de larga duración                Transitori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961920" y="2011320"/>
            <a:ext cx="244008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211640" y="1916280"/>
            <a:ext cx="60948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4643280" y="486900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20011"/>
                </a:solidFill>
                <a:latin typeface="Times New Roman"/>
              </a:rPr>
              <a:t>Nivel de recor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37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Varistores versus diodos de avalanch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4" name="Picture 3" descr="33"/>
          <p:cNvPicPr/>
          <p:nvPr/>
        </p:nvPicPr>
        <p:blipFill>
          <a:blip r:embed="rId1"/>
          <a:srcRect l="9711" t="15968" r="3234" b="19361"/>
          <a:stretch/>
        </p:blipFill>
        <p:spPr>
          <a:xfrm>
            <a:off x="755640" y="893880"/>
            <a:ext cx="7704000" cy="5910120"/>
          </a:xfrm>
          <a:prstGeom prst="rect">
            <a:avLst/>
          </a:prstGeom>
          <a:ln w="0">
            <a:noFill/>
          </a:ln>
        </p:spPr>
      </p:pic>
      <p:sp>
        <p:nvSpPr>
          <p:cNvPr id="195" name="Line 4"/>
          <p:cNvSpPr/>
          <p:nvPr/>
        </p:nvSpPr>
        <p:spPr>
          <a:xfrm>
            <a:off x="5435640" y="981000"/>
            <a:ext cx="2232000" cy="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Protector doble (acoplado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Rectangle 1028"/>
          <p:cNvSpPr/>
          <p:nvPr/>
        </p:nvSpPr>
        <p:spPr>
          <a:xfrm>
            <a:off x="0" y="4876920"/>
            <a:ext cx="2743200" cy="304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1029" descr="49"/>
          <p:cNvPicPr/>
          <p:nvPr/>
        </p:nvPicPr>
        <p:blipFill>
          <a:blip r:embed="rId1"/>
          <a:srcRect l="0" t="0" r="1887" b="12984"/>
          <a:stretch/>
        </p:blipFill>
        <p:spPr>
          <a:xfrm>
            <a:off x="324000" y="981000"/>
            <a:ext cx="84960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Operación de protector dob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0" name="Picture 4" descr="28"/>
          <p:cNvPicPr/>
          <p:nvPr/>
        </p:nvPicPr>
        <p:blipFill>
          <a:blip r:embed="rId1"/>
          <a:srcRect l="17509" t="0" r="19166" b="15653"/>
          <a:stretch/>
        </p:blipFill>
        <p:spPr>
          <a:xfrm>
            <a:off x="250920" y="1052640"/>
            <a:ext cx="4681440" cy="2746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30"/>
          <p:cNvPicPr/>
          <p:nvPr/>
        </p:nvPicPr>
        <p:blipFill>
          <a:blip r:embed="rId2"/>
          <a:srcRect l="13017" t="0" r="15455" b="10563"/>
          <a:stretch/>
        </p:blipFill>
        <p:spPr>
          <a:xfrm>
            <a:off x="5148360" y="3871800"/>
            <a:ext cx="3995640" cy="2986200"/>
          </a:xfrm>
          <a:prstGeom prst="rect">
            <a:avLst/>
          </a:prstGeom>
          <a:ln w="0">
            <a:noFill/>
          </a:ln>
        </p:spPr>
      </p:pic>
      <p:sp>
        <p:nvSpPr>
          <p:cNvPr id="202" name="Oval 9"/>
          <p:cNvSpPr/>
          <p:nvPr/>
        </p:nvSpPr>
        <p:spPr>
          <a:xfrm>
            <a:off x="2195640" y="3213000"/>
            <a:ext cx="223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6516720" y="6093000"/>
            <a:ext cx="22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nsayos de laboratorio: 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tipos de fuent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250920" y="1341360"/>
          <a:ext cx="327636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3276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9" name="Object 6"/>
          <p:cNvGraphicFramePr/>
          <p:nvPr/>
        </p:nvGraphicFramePr>
        <p:xfrm>
          <a:off x="3708360" y="1413000"/>
          <a:ext cx="5184720" cy="18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413000"/>
                    <a:ext cx="51847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2" name="Object 8"/>
          <p:cNvGraphicFramePr/>
          <p:nvPr/>
        </p:nvGraphicFramePr>
        <p:xfrm>
          <a:off x="1042920" y="4602240"/>
          <a:ext cx="720108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602240"/>
                    <a:ext cx="7201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10"/>
          <p:cNvSpPr/>
          <p:nvPr/>
        </p:nvSpPr>
        <p:spPr>
          <a:xfrm>
            <a:off x="1041840" y="31417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dio-reloj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4859280" y="3357720"/>
            <a:ext cx="31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onitor de P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3707640" y="407664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léfono - fa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nsayos de laboratorio: resultad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250920" y="836640"/>
          <a:ext cx="3024000" cy="17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302400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788000" y="1484280"/>
            <a:ext cx="435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ensayaron 13 equipos típicos disponibles en el mercad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metodología seguida se encuentra especificada en IRAM 2377, impulso 2.500 V. Por condiciones ambiente 2.800 V, reducidos al 50 %, 1.400V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odos ellos resultaron con fallas (daño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3"/>
          <a:srcRect l="7418" t="8973" r="3491" b="10555"/>
          <a:stretch/>
        </p:blipFill>
        <p:spPr>
          <a:xfrm>
            <a:off x="1116000" y="2781360"/>
            <a:ext cx="3527280" cy="1762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4"/>
          <a:srcRect l="9553" t="3686" r="4724" b="9469"/>
          <a:stretch/>
        </p:blipFill>
        <p:spPr>
          <a:xfrm>
            <a:off x="324000" y="4797360"/>
            <a:ext cx="3384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Modificación en la corriente de carg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4" name="Object 1031"/>
          <p:cNvGraphicFramePr/>
          <p:nvPr/>
        </p:nvGraphicFramePr>
        <p:xfrm>
          <a:off x="250920" y="981000"/>
          <a:ext cx="5113080" cy="24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511308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Picture 1034" descr=""/>
          <p:cNvPicPr/>
          <p:nvPr/>
        </p:nvPicPr>
        <p:blipFill>
          <a:blip r:embed="rId3"/>
          <a:srcRect l="1487" t="14441" r="8495" b="4492"/>
          <a:stretch/>
        </p:blipFill>
        <p:spPr>
          <a:xfrm>
            <a:off x="4572000" y="3789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Times New Roman"/>
              </a:rPr>
              <a:t>Problemas por equipos multi-puerto</a:t>
            </a:r>
            <a:br>
              <a:rPr sz="4000"/>
            </a:br>
            <a:r>
              <a:rPr b="0" lang="es-ES" sz="2800" spc="-1" strike="noStrike">
                <a:solidFill>
                  <a:srgbClr val="ffcc00"/>
                </a:solidFill>
                <a:latin typeface="Times New Roman"/>
              </a:rPr>
              <a:t>Impulso de corriente acoplado desde el puerto de potencia hacia el de dat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8" name="Picture 1027" descr="19"/>
          <p:cNvPicPr/>
          <p:nvPr/>
        </p:nvPicPr>
        <p:blipFill>
          <a:blip r:embed="rId1"/>
          <a:srcRect l="0" t="0" r="0" b="15050"/>
          <a:stretch/>
        </p:blipFill>
        <p:spPr>
          <a:xfrm>
            <a:off x="468360" y="1628640"/>
            <a:ext cx="835164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Nivel de tensión versus ocurrenci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0" name="Picture 4" descr="ocurrencia"/>
          <p:cNvPicPr/>
          <p:nvPr/>
        </p:nvPicPr>
        <p:blipFill>
          <a:blip r:embed="rId1"/>
          <a:srcRect l="3715" t="7635" r="0" b="4159"/>
          <a:stretch/>
        </p:blipFill>
        <p:spPr>
          <a:xfrm>
            <a:off x="971640" y="1074600"/>
            <a:ext cx="7488000" cy="5523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971640" y="64911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Fuentes: Goedbloed y Martzloff-Gruz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ulpabilidad o responsabilida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Debe eliminarse el 40 % de los reclamos falsos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Un importante porcentaje de daños se deben a errores de conexión por parte de la EE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Las instalaciones internas adolecen de importantes defectos y falencias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La característica acumulativa de la falla distorsiona el análisis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Muchos equipos de baja tensión generan sobretensiones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Por razones de precio, se eliminan las protecciones internas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Times New Roman"/>
              </a:rPr>
              <a:t>Comparación de ondas normalizadas</a:t>
            </a:r>
            <a:br>
              <a:rPr sz="4000"/>
            </a:br>
            <a:r>
              <a:rPr b="1" lang="es-ES" sz="3200" spc="-1" strike="noStrike">
                <a:solidFill>
                  <a:srgbClr val="ffcc00"/>
                </a:solidFill>
                <a:latin typeface="Times New Roman"/>
              </a:rPr>
              <a:t>100 kA, 8/20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µs versus 50 kA, 10/350 µ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5" name="Picture 6" descr="20"/>
          <p:cNvPicPr/>
          <p:nvPr/>
        </p:nvPicPr>
        <p:blipFill>
          <a:blip r:embed="rId1"/>
          <a:srcRect l="8605" t="2544" r="8605" b="6257"/>
          <a:stretch/>
        </p:blipFill>
        <p:spPr>
          <a:xfrm>
            <a:off x="179280" y="1197000"/>
            <a:ext cx="5545080" cy="5183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864760" y="1413000"/>
            <a:ext cx="302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ndas de form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8/20µs y 10/350µ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epresentan a descarg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tmosférica directa 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ducida, so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ínea eléctrica 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obre edificio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espectivamen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e indican efect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quivalentes ent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5 kA 10/350µs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40 kA 8/20µ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so 5.1, Daños en Tv, teléfonos y PC durante tormenta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Problema: puestas a tierra inadecuadas, por ello equipos interconectados presentan diferencias en el potencial de tierr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Solución: unir las tierras del cable de video, teléfono, etc. al electrodo de puesta a tierra de potencia; o sea, no unir las tres puestas a tierra sino unir los conductores que van a tierra en un punto y entonces ponerlos a tierra en forma conjunt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cc00"/>
                </a:solidFill>
                <a:latin typeface="Times New Roman"/>
              </a:rPr>
              <a:t>Caso 5.2, Seleccionadora de maní de planta blanqueadora con frecuentes salidas de servicio</a:t>
            </a: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54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roblema: se hicieron numerosas pruebas, como aislar la estructura del suelo (peligroso), utilizar puesta a tierra específica exclusiva (peligroso), alimentar con UPS estática y rotativa, y separar todos los conductores de protección evitando inyección de ruidos sin éxito; además funciona mejor en períodos lluviosos. Se monitoreo por todos lados, encontrando falso contacto entre dos partes de una  columnas de la estructur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lución: Soldar conductores que garanticen la puesta a tierra y equipotencialidad de la planta. La vibración y humedad colaboraba para lo aleatorio del fenómeno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8" name="Picture 4" descr="Dibujo 42"/>
          <p:cNvPicPr/>
          <p:nvPr/>
        </p:nvPicPr>
        <p:blipFill>
          <a:blip r:embed="rId1"/>
          <a:srcRect l="22873" t="0" r="3662" b="0"/>
          <a:stretch/>
        </p:blipFill>
        <p:spPr>
          <a:xfrm>
            <a:off x="5543640" y="2060640"/>
            <a:ext cx="36003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ffcc00"/>
                </a:solidFill>
                <a:latin typeface="Times New Roman"/>
              </a:rPr>
              <a:t>Caso 5.3, Computadora de oficina municipal con frecuentes salidas de servicio</a:t>
            </a: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56865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roblema: se presentaba el inconveniente en solo una de las PC de la oficina, registrándose impulsos entre neutro y tierra como los mostrados. Se encontró discontinuidad del conducto metálico por intercalar caños plásticos y no contar con conductor de protección (peligroso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lución: instalar el conductor de protección adecuadamente desde la PC hasta el tablero seccional. Es aconsejable no unir tales conductores con otras cargas quizás ruidos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1" name="Picture 4" descr="Dibujo 43"/>
          <p:cNvPicPr/>
          <p:nvPr/>
        </p:nvPicPr>
        <p:blipFill>
          <a:blip r:embed="rId1"/>
          <a:srcRect l="25604" t="5634" r="4812" b="4468"/>
          <a:stretch/>
        </p:blipFill>
        <p:spPr>
          <a:xfrm>
            <a:off x="5724360" y="2060640"/>
            <a:ext cx="324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so 5.4, Daño a triturador y balanza de planta de chatarra</a:t>
            </a:r>
            <a:r>
              <a:rPr b="1" lang="es-AR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36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Problema: el circuito eléctrico de la planta es en triángulo, por lo que contactos no francos a tierra que pasan inadvertidos provocan sobretensiones y altos riesgos de electrocución; se monitorearon sobre y subtensiones en el secundario sin que se detectaran en el primario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Solución: colocar el centro de uno de los lados del triángulo a tierra o en caso de mantener el circuito aislado, emplear detectores de falla a tierra (voltimétricos)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4" name="Picture 4" descr="Dibujo 44"/>
          <p:cNvPicPr/>
          <p:nvPr/>
        </p:nvPicPr>
        <p:blipFill>
          <a:blip r:embed="rId1"/>
          <a:srcRect l="22170" t="5299" r="4670" b="4837"/>
          <a:stretch/>
        </p:blipFill>
        <p:spPr>
          <a:xfrm>
            <a:off x="5364000" y="2060640"/>
            <a:ext cx="3600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so 5.5, Comercio con frecuente daño en PC´s, especialmente en el puerto de dat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Problema: por error en la conexión, algunas PC´s tenían intercambiados los conductores de protección y neutro, parte de la corriente de retorno (rica en armónicas) volvía por el conductor de protección, conductos, cañerías y estructura metálica; generando diferencias de potencial y corrientes por los conductores de datos debido a la creación de lazos de tierra, dañando los puer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Solución: corregir los errores de conex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00"/>
                </a:solidFill>
                <a:latin typeface="Times New Roman"/>
              </a:rPr>
              <a:t>Caso 5.6, Salida de servicio de cinta transportador de diarios impulsada por dos motores con variadores de velocida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785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roblema: al ser los conductores de protección muy largos y frente a la presencia de ruidos, los mismos se propagaban por los conductores de fase; ruidos que no eran detenidos por los filtros de los variadores, diseñados para armónic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lución: conectar los filtros y variadores a la estructura, cañerías y puesta a tierra específica, brindando mejor camino para los ruidos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763640" y="4029120"/>
            <a:ext cx="59054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so 5.8, Salidas de servicio diarias y daños a PC durante tormentas 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536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roblema: Máquina cortadora de tela comandada por PC, con transformador aislador sin unir tierra y neutro en el secundario; tal puesta a tierra sin unir a “estructura” y cañería para señal usada como conductor de protección. Se presentan lazos de corrientes de tierra entre transformador y estructura, y la descarga entra por conducto, pasa a computadora hacia tierra del transformad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lución: Unir las tierra transformador-estructura y el neutro, y colocar conductor de protección en reemplazo del conducto de señal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2" name="Picture 4" descr="yo n"/>
          <p:cNvPicPr/>
          <p:nvPr/>
        </p:nvPicPr>
        <p:blipFill>
          <a:blip r:embed="rId1"/>
          <a:stretch/>
        </p:blipFill>
        <p:spPr>
          <a:xfrm>
            <a:off x="5364000" y="2060640"/>
            <a:ext cx="37800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so 5.9, Centro de computo de aeropuerto con salidas de servicio y daño frecuente de PC´s y periféric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5689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Problema: Conductores de potencia y de señal muy próximos, numerosas fichas en tomacorrientes de distintos circuitos, gabinetes no puestos a tierra y puesta a tierra tipo industrial con conductores normales. Registraron numerosas perturbaciones de alta frecuencia en modo comú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Solución: Uso de malla de puesta a tierra de referencia, conectando cada PC y periférico entre si y con la malla, con conductores cortos y de baja impedancia. Prácticamente se eliminaron las perturbaciones, reduciendo amplitud y ocurrenc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5" name="Picture 4" descr="yo nnn"/>
          <p:cNvPicPr/>
          <p:nvPr/>
        </p:nvPicPr>
        <p:blipFill>
          <a:blip r:embed="rId1"/>
          <a:stretch/>
        </p:blipFill>
        <p:spPr>
          <a:xfrm>
            <a:off x="6084720" y="2133720"/>
            <a:ext cx="3059280" cy="2381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yo nnnn"/>
          <p:cNvPicPr/>
          <p:nvPr/>
        </p:nvPicPr>
        <p:blipFill>
          <a:blip r:embed="rId2"/>
          <a:stretch/>
        </p:blipFill>
        <p:spPr>
          <a:xfrm>
            <a:off x="6099120" y="5121360"/>
            <a:ext cx="3044880" cy="1736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yo nnnnn"/>
          <p:cNvPicPr/>
          <p:nvPr/>
        </p:nvPicPr>
        <p:blipFill>
          <a:blip r:embed="rId3"/>
          <a:stretch/>
        </p:blipFill>
        <p:spPr>
          <a:xfrm>
            <a:off x="684360" y="5157720"/>
            <a:ext cx="3752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so 5.10, Edificio universitario con importantes tensiones neutro - tierra y frecuentes salidas de servicio de PC´s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580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roblema: Carga compuesta fundamentalmente de PC´s y periféricos, generando fuerte distorsión de 3</a:t>
            </a:r>
            <a:r>
              <a:rPr b="0" lang="es-AR" sz="2400" spc="-1" strike="noStrike" baseline="30000">
                <a:solidFill>
                  <a:srgbClr val="ffffcc"/>
                </a:solidFill>
                <a:latin typeface="Times New Roman"/>
              </a:rPr>
              <a:t>ª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armónica, superando las corrientes por neutro a las fases. Elevada caída de tensión en neutro y por ello diferencia de potencial con tier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lución: Utilización de un inversor PWM que censa las corrientes de las fases e inyecta al neutro la corriente necesaria para su cancelación. Eliminando así la caída de tensión y diferencias de potencial neutro – tierr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0" name="Picture 4" descr="yo l"/>
          <p:cNvPicPr/>
          <p:nvPr/>
        </p:nvPicPr>
        <p:blipFill>
          <a:blip r:embed="rId1"/>
          <a:stretch/>
        </p:blipFill>
        <p:spPr>
          <a:xfrm>
            <a:off x="5508720" y="1916280"/>
            <a:ext cx="36352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Listado de Ondas Normalizad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carga atmosférica sobre línea: 100 kA, 8/20 µ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carga atmosférica sobre edificio: 15 kA, 10/350 µ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ransferencia de descarga a baja tensión: 500 A, 0,5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µs 100 kHz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peración de fusibles de alta capacidad de ruptura: 2 a 2,3 V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Times New Roman"/>
              </a:rPr>
              <a:t>nomin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, 10/1000 µ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bote de contactos en aire: 1 a 4 kV, 5/50 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pertura de contactos en aire: 2 a 2,8 V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Times New Roman"/>
              </a:rPr>
              <a:t>nomin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, 5 kHz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¿Que soportan los equipos?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Curva CBEMA o ITIC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0" name="Picture 4" descr="FIG2"/>
          <p:cNvPicPr/>
          <p:nvPr/>
        </p:nvPicPr>
        <p:blipFill>
          <a:blip r:embed="rId1"/>
          <a:srcRect l="3230" t="10126" r="1766" b="7835"/>
          <a:stretch/>
        </p:blipFill>
        <p:spPr>
          <a:xfrm>
            <a:off x="4716360" y="3465360"/>
            <a:ext cx="4241880" cy="3181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1" name="Picture 7" descr="pqp1fig2"/>
          <p:cNvPicPr/>
          <p:nvPr/>
        </p:nvPicPr>
        <p:blipFill>
          <a:blip r:embed="rId2"/>
          <a:srcRect l="0" t="0" r="0" b="7072"/>
          <a:stretch/>
        </p:blipFill>
        <p:spPr>
          <a:xfrm>
            <a:off x="250920" y="1484280"/>
            <a:ext cx="4321080" cy="3241800"/>
          </a:xfrm>
          <a:prstGeom prst="rect">
            <a:avLst/>
          </a:prstGeom>
          <a:ln w="0">
            <a:noFill/>
          </a:ln>
        </p:spPr>
      </p:pic>
      <p:sp>
        <p:nvSpPr>
          <p:cNvPr id="122" name="Line 8"/>
          <p:cNvSpPr/>
          <p:nvPr/>
        </p:nvSpPr>
        <p:spPr>
          <a:xfrm>
            <a:off x="5148360" y="3573360"/>
            <a:ext cx="3240000" cy="0"/>
          </a:xfrm>
          <a:prstGeom prst="line">
            <a:avLst/>
          </a:prstGeom>
          <a:ln w="228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268280"/>
            <a:ext cx="320364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¿Que soportan los equipos?</a:t>
            </a:r>
            <a:br>
              <a:rPr sz="4000"/>
            </a:br>
            <a:br>
              <a:rPr sz="4000"/>
            </a:b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Propuesta IEE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rcRect l="0" t="2333" r="3419" b="1183"/>
          <a:stretch/>
        </p:blipFill>
        <p:spPr>
          <a:xfrm>
            <a:off x="3594240" y="189000"/>
            <a:ext cx="52988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quipo eléctrico: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Relación entre ubicación y solicita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3" descr="iram2377"/>
          <p:cNvPicPr/>
          <p:nvPr/>
        </p:nvPicPr>
        <p:blipFill>
          <a:blip r:embed="rId1"/>
          <a:stretch/>
        </p:blipFill>
        <p:spPr>
          <a:xfrm>
            <a:off x="0" y="2071800"/>
            <a:ext cx="4427640" cy="3838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asa"/>
          <p:cNvPicPr/>
          <p:nvPr/>
        </p:nvPicPr>
        <p:blipFill>
          <a:blip r:embed="rId2"/>
          <a:stretch/>
        </p:blipFill>
        <p:spPr>
          <a:xfrm>
            <a:off x="4356000" y="1916280"/>
            <a:ext cx="4788000" cy="4483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0" y="2060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IRAM 2377-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7 CuadroTexto"/>
          <p:cNvSpPr/>
          <p:nvPr/>
        </p:nvSpPr>
        <p:spPr>
          <a:xfrm>
            <a:off x="12240" y="58579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on onda de impuls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istribución temporal de dañ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395280" y="4437000"/>
          <a:ext cx="3808440" cy="21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37000"/>
                    <a:ext cx="380844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5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1619280" y="981000"/>
          <a:ext cx="5400720" cy="322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981000"/>
                    <a:ext cx="540072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8"/>
          <p:cNvGraphicFramePr/>
          <p:nvPr/>
        </p:nvGraphicFramePr>
        <p:xfrm>
          <a:off x="5334120" y="4508640"/>
          <a:ext cx="3809880" cy="2090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508640"/>
                    <a:ext cx="380988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LASIFICACIÓN DE LOS ARTEFACTOS DEL USUARIO EN BASE A SU SUSCEPTIBILIDAD A SER DAÑAD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81532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érmicos simples </a:t>
            </a: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(planchas, estufas, duchas eléctricas, focos, etc.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ectromecánicos </a:t>
            </a: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(motores, lavadoras, ventiladores, heladeras, etc.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ectromecánicos con control electrónico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(freezers, aire acondicionado, lavadoras, algunos electrodomésticos, etc.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ectrónicos simples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(radios, microondas, teléfonos, etc.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ectrónicos multi-puerto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(televisores, video reproductoras, fax-teléfono, computadoras, impresoras, equipo médico de alta complejidad, etc.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USUARIO</cp:lastModifiedBy>
  <dcterms:modified xsi:type="dcterms:W3CDTF">2008-10-05T21:42:23Z</dcterms:modified>
  <cp:revision>163</cp:revision>
  <dc:subject/>
  <dc:title>Sin título de diapositiva</dc:title>
</cp:coreProperties>
</file>