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8.png" ContentType="image/png"/>
  <Override PartName="/ppt/media/image7.jpeg" ContentType="image/jpeg"/>
  <Override PartName="/ppt/media/image31.wmf" ContentType="image/x-wmf"/>
  <Override PartName="/ppt/media/image38.jpeg" ContentType="image/jpeg"/>
  <Override PartName="/ppt/media/image26.wmf" ContentType="image/x-wmf"/>
  <Override PartName="/ppt/media/image46.jpeg" ContentType="image/jpeg"/>
  <Override PartName="/ppt/media/image23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png" ContentType="image/png"/>
  <Override PartName="/ppt/media/image16.png" ContentType="image/png"/>
  <Override PartName="/ppt/media/image24.png" ContentType="image/png"/>
  <Override PartName="/ppt/media/image8.wmf" ContentType="image/x-wmf"/>
  <Override PartName="/ppt/media/image14.png" ContentType="image/png"/>
  <Override PartName="/ppt/media/image42.jpeg" ContentType="image/jpeg"/>
  <Override PartName="/ppt/media/image9.wmf" ContentType="image/x-wmf"/>
  <Override PartName="/ppt/media/image32.png" ContentType="image/png"/>
  <Override PartName="/ppt/media/image41.jpeg" ContentType="image/jpeg"/>
  <Override PartName="/ppt/media/image45.jpeg" ContentType="image/jpeg"/>
  <Override PartName="/ppt/media/image39.png" ContentType="image/png"/>
  <Override PartName="/ppt/media/image43.jpeg" ContentType="image/jpeg"/>
  <Override PartName="/ppt/media/image37.png" ContentType="image/png"/>
  <Override PartName="/ppt/media/image44.jpeg" ContentType="image/jpeg"/>
  <Override PartName="/ppt/media/image35.jpeg" ContentType="image/jpeg"/>
  <Override PartName="/ppt/media/image4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5.wmf" ContentType="image/x-wmf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59B-CCE1-4BD2-9771-B9B9D2168A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1714-BF73-44F3-9841-50A9DAA66526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6861-99D5-497E-9823-C579F43FE21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7DA9-0C74-459E-BCD2-2E06DCDC4D17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C97-FEFA-4217-A0C8-26C91A6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758-ADD7-4D6B-8EBA-366E1F7F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ACF-7F5A-4F2B-A9AC-1882BAAE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CD5-10C9-41B2-91DA-FCB8117A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FBCD-7912-4723-B376-8FB790B6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8D51-CF3A-443E-AF5E-6C1FDB45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B12C-9DEC-4CB3-8FA1-88A979AA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42E8-9130-423A-80D3-EE822B3C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D14E-5AEC-4102-BB24-202DDCFB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F0B2-88FA-4DFD-8B2E-4F8747D8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7822-AC39-470A-B51A-3FB63F1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CA6-2852-45C9-B29C-9A64CAED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606A-8DAE-479C-81BD-88247FF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B26C-2016-4457-B656-6ABECBF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337D-F920-4040-8B5B-235B391B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2CA1-FC8C-46F9-8A3D-0300F130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A853-E68E-42F4-A1B3-9F62594F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8A1-0D30-4362-8FB4-34290959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157-A1E9-46FE-9DC3-B21F20C9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139-4C17-4002-9D57-FE685F61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7A4-864E-4749-840B-A32A0DD3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1E7-1124-4B14-B774-6CA730E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F11-98CA-41D5-BE5B-06DAB58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6D6-F8DA-46E4-B053-6EBDB10B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6FA0-2E33-4C29-A019-4B6BE3729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B304-387E-45B9-923F-F85FEA4BE5D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5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SOBRETENSIONES GENERADAS EN EL SISTEMA ELÉCTRI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Operación de interrupto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7" name="Picture 4" descr="fig35"/>
          <p:cNvPicPr/>
          <p:nvPr/>
        </p:nvPicPr>
        <p:blipFill>
          <a:blip r:embed="rId1"/>
          <a:stretch/>
        </p:blipFill>
        <p:spPr>
          <a:xfrm>
            <a:off x="250920" y="1413000"/>
            <a:ext cx="4190760" cy="2409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fig37"/>
          <p:cNvPicPr/>
          <p:nvPr/>
        </p:nvPicPr>
        <p:blipFill>
          <a:blip r:embed="rId2"/>
          <a:stretch/>
        </p:blipFill>
        <p:spPr>
          <a:xfrm>
            <a:off x="4648320" y="1400040"/>
            <a:ext cx="4267080" cy="225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fig38"/>
          <p:cNvPicPr/>
          <p:nvPr/>
        </p:nvPicPr>
        <p:blipFill>
          <a:blip r:embed="rId3"/>
          <a:stretch/>
        </p:blipFill>
        <p:spPr>
          <a:xfrm>
            <a:off x="468360" y="4451400"/>
            <a:ext cx="4014720" cy="2406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rcRect l="0" t="0" r="0" b="8460"/>
          <a:stretch/>
        </p:blipFill>
        <p:spPr>
          <a:xfrm>
            <a:off x="5219640" y="4508640"/>
            <a:ext cx="3745080" cy="1512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178920" y="981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Resisti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94200" y="4005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apaciti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5148360" y="400536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undo r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571640" y="981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ducti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Extern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0" y="609480"/>
            <a:ext cx="5029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Principales característic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Transitorias de poca duració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Quién las gener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escargas atmosfér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aniobr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exión de capaci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Quién las sufr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Principalmente la micro-electr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 en daño a equip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Su transmis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Viaja a lo largo de las lín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Pasa a través de transform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ffff"/>
                </a:solidFill>
                <a:latin typeface="Times New Roman"/>
              </a:rPr>
              <a:t>Solucion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itar su gene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Instalar dispositivos protec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Object 11"/>
          <p:cNvGraphicFramePr/>
          <p:nvPr/>
        </p:nvGraphicFramePr>
        <p:xfrm>
          <a:off x="5003640" y="4149720"/>
          <a:ext cx="381024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4149720"/>
                    <a:ext cx="3810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3"/>
          <p:cNvGraphicFramePr/>
          <p:nvPr/>
        </p:nvGraphicFramePr>
        <p:xfrm>
          <a:off x="4932360" y="981000"/>
          <a:ext cx="3809880" cy="219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981000"/>
                    <a:ext cx="38098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exión de capaci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324000" y="3789360"/>
          <a:ext cx="500364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89360"/>
                    <a:ext cx="50036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3"/>
          <p:cNvGraphicFramePr/>
          <p:nvPr/>
        </p:nvGraphicFramePr>
        <p:xfrm>
          <a:off x="324000" y="1052640"/>
          <a:ext cx="511164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052640"/>
                    <a:ext cx="511164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17" descr="428"/>
          <p:cNvPicPr/>
          <p:nvPr/>
        </p:nvPicPr>
        <p:blipFill>
          <a:blip r:embed="rId5"/>
          <a:srcRect l="2382" t="0" r="6158" b="6414"/>
          <a:stretch/>
        </p:blipFill>
        <p:spPr>
          <a:xfrm>
            <a:off x="5791320" y="765000"/>
            <a:ext cx="3255840" cy="6093000"/>
          </a:xfrm>
          <a:prstGeom prst="rect">
            <a:avLst/>
          </a:prstGeom>
          <a:ln w="0">
            <a:noFill/>
          </a:ln>
        </p:spPr>
      </p:pic>
      <p:sp>
        <p:nvSpPr>
          <p:cNvPr id="177" name="Line 19"/>
          <p:cNvSpPr/>
          <p:nvPr/>
        </p:nvSpPr>
        <p:spPr>
          <a:xfrm flipV="1">
            <a:off x="5867280" y="3645000"/>
            <a:ext cx="0" cy="57600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agnificación capaciti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9" name="Picture 4" descr="13b1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16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7"/>
          <p:cNvGraphicFramePr/>
          <p:nvPr/>
        </p:nvGraphicFramePr>
        <p:xfrm>
          <a:off x="4648320" y="2565360"/>
          <a:ext cx="4495680" cy="2139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565360"/>
                    <a:ext cx="449568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11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Object 10"/>
          <p:cNvGraphicFramePr/>
          <p:nvPr/>
        </p:nvGraphicFramePr>
        <p:xfrm>
          <a:off x="250920" y="4005360"/>
          <a:ext cx="4105080" cy="2352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005360"/>
                    <a:ext cx="410508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2"/>
          <p:cNvSpPr/>
          <p:nvPr/>
        </p:nvSpPr>
        <p:spPr>
          <a:xfrm>
            <a:off x="4981680" y="5033880"/>
            <a:ext cx="418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Sobretensión en baja tens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4 pu con banco en media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 pu con cable en media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 a 2 pu con línea larga de m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5142600" y="1125360"/>
            <a:ext cx="3356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i: L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= L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e excita resona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ientras existe transito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26622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alla de línea co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8" name="Picture 4" descr="sobreten"/>
          <p:cNvPicPr/>
          <p:nvPr/>
        </p:nvPicPr>
        <p:blipFill>
          <a:blip r:embed="rId1"/>
          <a:stretch/>
        </p:blipFill>
        <p:spPr>
          <a:xfrm>
            <a:off x="2965320" y="189000"/>
            <a:ext cx="6178680" cy="6669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520560" y="2873520"/>
            <a:ext cx="233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cc &gt; 60 k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l = 2 a 8 k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V/dt = 12 kV/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alla en 10 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Internas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125000"/>
            <a:ext cx="4343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esconexión de carga inductiva empleando interruptores en vací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</a:t>
            </a:r>
            <a:r>
              <a:rPr b="1" lang="es-ES_tradnl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=I</a:t>
            </a:r>
            <a:r>
              <a:rPr b="1" lang="es-ES_tradnl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0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√L /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sistemas de 15 kV se generan 90 a 100 kV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Sobretensiones por actuación de protección limitado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4876920" y="1143000"/>
          <a:ext cx="373356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43000"/>
                    <a:ext cx="3733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"/>
          <p:cNvGraphicFramePr/>
          <p:nvPr/>
        </p:nvGraphicFramePr>
        <p:xfrm>
          <a:off x="4876920" y="4471920"/>
          <a:ext cx="3657600" cy="2386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471920"/>
                    <a:ext cx="36576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8"/>
          <p:cNvSpPr/>
          <p:nvPr/>
        </p:nvSpPr>
        <p:spPr>
          <a:xfrm>
            <a:off x="1547640" y="2349360"/>
            <a:ext cx="10083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obretensión por interrupción limitador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0" t="0" r="0" b="22807"/>
          <a:stretch/>
        </p:blipFill>
        <p:spPr>
          <a:xfrm>
            <a:off x="4643280" y="836640"/>
            <a:ext cx="4105440" cy="307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105080" cy="307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220"/>
          <p:cNvGraphicFramePr/>
          <p:nvPr/>
        </p:nvGraphicFramePr>
        <p:xfrm>
          <a:off x="0" y="5153040"/>
          <a:ext cx="5921280" cy="1682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3040"/>
                    <a:ext cx="59212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224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3" name="Object 223"/>
          <p:cNvGraphicFramePr/>
          <p:nvPr/>
        </p:nvGraphicFramePr>
        <p:xfrm>
          <a:off x="6012000" y="4221000"/>
          <a:ext cx="3132000" cy="235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4221000"/>
                    <a:ext cx="313200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2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25"/>
              <p:cNvSpPr txBox="1"/>
              <p:nvPr/>
            </p:nvSpPr>
            <p:spPr>
              <a:xfrm>
                <a:off x="250920" y="3933720"/>
                <a:ext cx="1152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7" name="Rectangle 22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27"/>
              <p:cNvSpPr txBox="1"/>
              <p:nvPr/>
            </p:nvSpPr>
            <p:spPr>
              <a:xfrm>
                <a:off x="1476360" y="4076640"/>
                <a:ext cx="2158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sSub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sub/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230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29"/>
              <p:cNvSpPr txBox="1"/>
              <p:nvPr/>
            </p:nvSpPr>
            <p:spPr>
              <a:xfrm>
                <a:off x="3924360" y="4100400"/>
                <a:ext cx="15112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34560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obretensiones generadas por fusibles de media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tensión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087720" y="295200"/>
          <a:ext cx="605628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7720" y="295200"/>
                    <a:ext cx="605628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7"/>
              <p:cNvSpPr txBox="1"/>
              <p:nvPr/>
            </p:nvSpPr>
            <p:spPr>
              <a:xfrm>
                <a:off x="468360" y="4005360"/>
                <a:ext cx="1942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Rectangle 9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39640" y="5229360"/>
                <a:ext cx="1584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Rectangle 12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Internas 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1" name="Object 10"/>
          <p:cNvGraphicFramePr/>
          <p:nvPr/>
        </p:nvGraphicFramePr>
        <p:xfrm>
          <a:off x="324000" y="981000"/>
          <a:ext cx="386388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38638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11" descr="429"/>
          <p:cNvPicPr/>
          <p:nvPr/>
        </p:nvPicPr>
        <p:blipFill>
          <a:blip r:embed="rId3"/>
          <a:srcRect l="0" t="0" r="0" b="14518"/>
          <a:stretch/>
        </p:blipFill>
        <p:spPr>
          <a:xfrm>
            <a:off x="4427640" y="2637000"/>
            <a:ext cx="4716360" cy="2412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3"/>
          <p:cNvSpPr/>
          <p:nvPr/>
        </p:nvSpPr>
        <p:spPr>
          <a:xfrm>
            <a:off x="4714200" y="907920"/>
            <a:ext cx="34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Transitorios rápidos (EF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nsayo normalizado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000 pulsos de 0,5 a 4 k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4285800" y="602136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Ahora IEC 61000-4-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25210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De corta duración</a:t>
            </a:r>
            <a:br>
              <a:rPr sz="4400"/>
            </a:b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7" name="Picture 3" descr="fig26"/>
          <p:cNvPicPr/>
          <p:nvPr/>
        </p:nvPicPr>
        <p:blipFill>
          <a:blip r:embed="rId1"/>
          <a:stretch/>
        </p:blipFill>
        <p:spPr>
          <a:xfrm>
            <a:off x="302256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generadas en el sistema eléctri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Transitoria impuls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Transitoria oscilatoria de maniobr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Transitoria impulsiva de maniobr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De corta dur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De larga dur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Su transferenc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Ondas normalizad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De corta duración II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Resonancia durante la conex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Picture 7" descr="430"/>
          <p:cNvPicPr/>
          <p:nvPr/>
        </p:nvPicPr>
        <p:blipFill>
          <a:blip r:embed="rId1"/>
          <a:srcRect l="2231" t="0" r="0" b="7746"/>
          <a:stretch/>
        </p:blipFill>
        <p:spPr>
          <a:xfrm>
            <a:off x="179280" y="1557360"/>
            <a:ext cx="4283280" cy="468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9b1"/>
          <p:cNvPicPr/>
          <p:nvPr/>
        </p:nvPicPr>
        <p:blipFill>
          <a:blip r:embed="rId2"/>
          <a:srcRect l="0" t="0" r="7080" b="28715"/>
          <a:stretch/>
        </p:blipFill>
        <p:spPr>
          <a:xfrm>
            <a:off x="4572000" y="1341360"/>
            <a:ext cx="4392720" cy="89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11"/>
          <p:cNvGraphicFramePr/>
          <p:nvPr/>
        </p:nvGraphicFramePr>
        <p:xfrm>
          <a:off x="4643280" y="2708280"/>
          <a:ext cx="4248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708280"/>
                    <a:ext cx="4248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Object 14"/>
              <p:cNvSpPr txBox="1"/>
              <p:nvPr/>
            </p:nvSpPr>
            <p:spPr>
              <a:xfrm>
                <a:off x="5651640" y="5226120"/>
                <a:ext cx="252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3"/>
              <p:cNvSpPr txBox="1"/>
              <p:nvPr/>
            </p:nvSpPr>
            <p:spPr>
              <a:xfrm>
                <a:off x="5940360" y="5805360"/>
                <a:ext cx="1871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Rectangle 16"/>
          <p:cNvSpPr/>
          <p:nvPr/>
        </p:nvSpPr>
        <p:spPr>
          <a:xfrm>
            <a:off x="3211920" y="318528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  <a:ea typeface="바탕"/>
              </a:rPr>
              <a:t>                                                     </a:t>
            </a:r>
            <a:r>
              <a:rPr b="0" lang="es-ES_tradnl" sz="1200" spc="-1" strike="noStrike">
                <a:solidFill>
                  <a:srgbClr val="ffffcc"/>
                </a:solidFill>
                <a:latin typeface="Times New Roman"/>
                <a:ea typeface="바탕"/>
              </a:rPr>
              <a:t>(5.3)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  <a:ea typeface="바탕"/>
              </a:rPr>
              <a:t>                             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3211560" y="3861720"/>
            <a:ext cx="24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  <a:ea typeface="바탕"/>
              </a:rPr>
              <a:t>                                                           </a:t>
            </a:r>
            <a:r>
              <a:rPr b="0" lang="es-ES" sz="11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11 CuadroTexto"/>
          <p:cNvSpPr/>
          <p:nvPr/>
        </p:nvSpPr>
        <p:spPr>
          <a:xfrm>
            <a:off x="870840" y="62150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sonancia con 2ª y 5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8560" y="475920"/>
            <a:ext cx="374508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De larga duració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9" name="Picture 5" descr="fig2-9b"/>
          <p:cNvPicPr/>
          <p:nvPr/>
        </p:nvPicPr>
        <p:blipFill>
          <a:blip r:embed="rId1"/>
          <a:stretch/>
        </p:blipFill>
        <p:spPr>
          <a:xfrm>
            <a:off x="179280" y="3827520"/>
            <a:ext cx="5688000" cy="30304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0" y="26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Object 10"/>
          <p:cNvGraphicFramePr/>
          <p:nvPr/>
        </p:nvGraphicFramePr>
        <p:xfrm>
          <a:off x="3960720" y="2060640"/>
          <a:ext cx="5183280" cy="16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720" y="2060640"/>
                    <a:ext cx="518328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Picture 13" descr="2b3"/>
          <p:cNvPicPr/>
          <p:nvPr/>
        </p:nvPicPr>
        <p:blipFill>
          <a:blip r:embed="rId4"/>
          <a:stretch/>
        </p:blipFill>
        <p:spPr>
          <a:xfrm>
            <a:off x="0" y="260280"/>
            <a:ext cx="56088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erroresona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7" name="Picture 4" descr="21b1"/>
          <p:cNvPicPr/>
          <p:nvPr/>
        </p:nvPicPr>
        <p:blipFill>
          <a:blip r:embed="rId1"/>
          <a:srcRect l="4805" t="0" r="0" b="0"/>
          <a:stretch/>
        </p:blipFill>
        <p:spPr>
          <a:xfrm>
            <a:off x="250920" y="981000"/>
            <a:ext cx="6121440" cy="2633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22b1"/>
          <p:cNvPicPr/>
          <p:nvPr/>
        </p:nvPicPr>
        <p:blipFill>
          <a:blip r:embed="rId2"/>
          <a:srcRect l="5921" t="48284" r="0" b="2145"/>
          <a:stretch/>
        </p:blipFill>
        <p:spPr>
          <a:xfrm>
            <a:off x="2556000" y="3905280"/>
            <a:ext cx="658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456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studio simplificado del fenómen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0" name="Picture 4" descr="fig3"/>
          <p:cNvPicPr/>
          <p:nvPr/>
        </p:nvPicPr>
        <p:blipFill>
          <a:blip r:embed="rId1"/>
          <a:srcRect l="0" t="0" r="0" b="8801"/>
          <a:stretch/>
        </p:blipFill>
        <p:spPr>
          <a:xfrm>
            <a:off x="214200" y="1071720"/>
            <a:ext cx="278460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fig 4"/>
          <p:cNvPicPr/>
          <p:nvPr/>
        </p:nvPicPr>
        <p:blipFill>
          <a:blip r:embed="rId2"/>
          <a:srcRect l="3691" t="2622" r="4281" b="9878"/>
          <a:stretch/>
        </p:blipFill>
        <p:spPr>
          <a:xfrm>
            <a:off x="3203640" y="1268280"/>
            <a:ext cx="5940360" cy="5241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4"/>
          <p:cNvSpPr/>
          <p:nvPr/>
        </p:nvSpPr>
        <p:spPr>
          <a:xfrm>
            <a:off x="4643280" y="1268280"/>
            <a:ext cx="1800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7 CuadroTexto"/>
          <p:cNvSpPr/>
          <p:nvPr/>
        </p:nvSpPr>
        <p:spPr>
          <a:xfrm>
            <a:off x="365400" y="4919760"/>
            <a:ext cx="221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gímen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fundamenta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ubarmónico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si-periódico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ó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sultados experiment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5" name="Picture 4" descr="fig 9"/>
          <p:cNvPicPr/>
          <p:nvPr/>
        </p:nvPicPr>
        <p:blipFill>
          <a:blip r:embed="rId1"/>
          <a:srcRect l="15212" t="0" r="10223" b="24026"/>
          <a:stretch/>
        </p:blipFill>
        <p:spPr>
          <a:xfrm>
            <a:off x="250920" y="98100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fig 10"/>
          <p:cNvPicPr/>
          <p:nvPr/>
        </p:nvPicPr>
        <p:blipFill>
          <a:blip r:embed="rId2"/>
          <a:srcRect l="0" t="0" r="0" b="23428"/>
          <a:stretch/>
        </p:blipFill>
        <p:spPr>
          <a:xfrm>
            <a:off x="4356000" y="3809880"/>
            <a:ext cx="4788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Resumen de sobretensiones transitoria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179280" y="1693800"/>
          <a:ext cx="896472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93800"/>
                    <a:ext cx="89647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obretensiones en función de su dur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685800" y="1700280"/>
          <a:ext cx="777240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Extern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2" name="Picture 4" descr="http://jaibana.udea.edu.co/programas/electrica/altatension/InformeDEAT/slide0012_image014.jpg"/>
          <p:cNvPicPr/>
          <p:nvPr/>
        </p:nvPicPr>
        <p:blipFill>
          <a:blip r:embed="rId1"/>
          <a:stretch/>
        </p:blipFill>
        <p:spPr>
          <a:xfrm>
            <a:off x="179280" y="873000"/>
            <a:ext cx="4321440" cy="323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280bis"/>
          <p:cNvPicPr/>
          <p:nvPr/>
        </p:nvPicPr>
        <p:blipFill>
          <a:blip r:embed="rId2"/>
          <a:stretch/>
        </p:blipFill>
        <p:spPr>
          <a:xfrm>
            <a:off x="4643280" y="4173480"/>
            <a:ext cx="4500720" cy="268452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>
            <a:off x="5148360" y="6597720"/>
            <a:ext cx="3816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8676720" y="6165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5148360" y="4941720"/>
            <a:ext cx="0" cy="165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9 CuadroTexto"/>
          <p:cNvSpPr/>
          <p:nvPr/>
        </p:nvSpPr>
        <p:spPr>
          <a:xfrm>
            <a:off x="4874760" y="2000160"/>
            <a:ext cx="40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Descargas repeti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sos registrados de más de 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50 % al menos 2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omedio 4 descarg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cargas atmosfér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4" descr="tipos"/>
          <p:cNvPicPr/>
          <p:nvPr/>
        </p:nvPicPr>
        <p:blipFill>
          <a:blip r:embed="rId1"/>
          <a:srcRect l="18073" t="0" r="18073" b="0"/>
          <a:stretch/>
        </p:blipFill>
        <p:spPr>
          <a:xfrm>
            <a:off x="250920" y="981000"/>
            <a:ext cx="3384360" cy="33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7"/>
          <p:cNvGraphicFramePr/>
          <p:nvPr/>
        </p:nvGraphicFramePr>
        <p:xfrm>
          <a:off x="4427640" y="1197000"/>
          <a:ext cx="4170240" cy="244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197000"/>
                    <a:ext cx="417024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11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10"/>
          <p:cNvGraphicFramePr/>
          <p:nvPr/>
        </p:nvGraphicFramePr>
        <p:xfrm>
          <a:off x="250920" y="4451400"/>
          <a:ext cx="4387680" cy="2406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451400"/>
                    <a:ext cx="4387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2"/>
          <p:cNvSpPr/>
          <p:nvPr/>
        </p:nvSpPr>
        <p:spPr>
          <a:xfrm>
            <a:off x="0" y="45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379120" y="4076640"/>
            <a:ext cx="383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Formas de onda normaliza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(típic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Tensión:   1,2/50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rriente: 8/20 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/350 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68360" y="1125360"/>
            <a:ext cx="1224000" cy="1366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Tipos de acoplamiento con la descarg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+rayos"/>
          <p:cNvPicPr/>
          <p:nvPr/>
        </p:nvPicPr>
        <p:blipFill>
          <a:blip r:embed="rId1"/>
          <a:srcRect l="0" t="0" r="0" b="22009"/>
          <a:stretch/>
        </p:blipFill>
        <p:spPr>
          <a:xfrm>
            <a:off x="3924360" y="4149720"/>
            <a:ext cx="5219640" cy="17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12"/>
          <p:cNvGraphicFramePr/>
          <p:nvPr/>
        </p:nvGraphicFramePr>
        <p:xfrm>
          <a:off x="395280" y="1197000"/>
          <a:ext cx="3808440" cy="201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97000"/>
                    <a:ext cx="38084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3" name="Object 15"/>
          <p:cNvGraphicFramePr/>
          <p:nvPr/>
        </p:nvGraphicFramePr>
        <p:xfrm>
          <a:off x="5076720" y="1557360"/>
          <a:ext cx="3456000" cy="1981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1557360"/>
                    <a:ext cx="34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8"/>
          <p:cNvGraphicFramePr/>
          <p:nvPr/>
        </p:nvGraphicFramePr>
        <p:xfrm>
          <a:off x="324000" y="4076640"/>
          <a:ext cx="3240000" cy="1824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6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4076640"/>
                    <a:ext cx="32400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19"/>
          <p:cNvSpPr/>
          <p:nvPr/>
        </p:nvSpPr>
        <p:spPr>
          <a:xfrm>
            <a:off x="539640" y="603576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l fenómeno ya no se detecta a 200 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cargas Electrostát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403280" y="1052640"/>
          <a:ext cx="6264360" cy="190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52640"/>
                    <a:ext cx="6264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7" descr=""/>
          <p:cNvPicPr/>
          <p:nvPr/>
        </p:nvPicPr>
        <p:blipFill>
          <a:blip r:embed="rId3"/>
          <a:srcRect l="0" t="32659" r="4451" b="0"/>
          <a:stretch/>
        </p:blipFill>
        <p:spPr>
          <a:xfrm>
            <a:off x="3132000" y="3213000"/>
            <a:ext cx="5867640" cy="3284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250920" y="3573360"/>
            <a:ext cx="273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uerpo humano como capacito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00 a 300 p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6 a 20 kV (H o 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0 a 20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 kV/ns o 2 10</a:t>
            </a:r>
            <a:r>
              <a:rPr b="0" lang="es-AR" sz="2400" spc="-1" strike="noStrike" baseline="30000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V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rgas estáticas típicas en instalaciones industri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1557360"/>
          <a:ext cx="7245360" cy="5211720"/>
        </p:xfrm>
        <a:graphic>
          <a:graphicData uri="http://schemas.openxmlformats.org/drawingml/2006/table">
            <a:tbl>
              <a:tblPr/>
              <a:tblGrid>
                <a:gridCol w="5016240"/>
                <a:gridCol w="2229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aus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otencial (kV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ersona con calzado de suela de gom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ersona con calzado suela goma sobre moquet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ana durante su preparació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,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bra sintética durante su preparació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ámina de PVC durante su fabricació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apel, en máquinas papelera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eluloide, por frotamient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rreas de transmisión a 3 m/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rreas de transmisión a 10 m/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nzol, saliendo por tubería de hierro a 1,5 m/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inturas líquidas de esmalte, bombeada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elo asfaltado y encerad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Oval 47"/>
          <p:cNvSpPr/>
          <p:nvPr/>
        </p:nvSpPr>
        <p:spPr>
          <a:xfrm>
            <a:off x="6516720" y="3933720"/>
            <a:ext cx="647640" cy="5032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6516720" y="5877000"/>
            <a:ext cx="647640" cy="5032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Impulsos Electromagnéticos Nuclea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179280" y="1557360"/>
            <a:ext cx="5040360" cy="4392720"/>
            <a:chOff x="179280" y="1557360"/>
            <a:chExt cx="5040360" cy="4392720"/>
          </a:xfrm>
        </p:grpSpPr>
        <p:pic>
          <p:nvPicPr>
            <p:cNvPr id="149" name="Picture 5" descr="b7"/>
            <p:cNvPicPr/>
            <p:nvPr/>
          </p:nvPicPr>
          <p:blipFill>
            <a:blip r:embed="rId1"/>
            <a:stretch/>
          </p:blipFill>
          <p:spPr>
            <a:xfrm>
              <a:off x="179280" y="1557360"/>
              <a:ext cx="5040360" cy="439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6"/>
            <p:cNvGrpSpPr/>
            <p:nvPr/>
          </p:nvGrpSpPr>
          <p:grpSpPr>
            <a:xfrm>
              <a:off x="526680" y="2748960"/>
              <a:ext cx="4171320" cy="2582280"/>
              <a:chOff x="526680" y="2748960"/>
              <a:chExt cx="4171320" cy="2582280"/>
            </a:xfrm>
          </p:grpSpPr>
          <p:sp>
            <p:nvSpPr>
              <p:cNvPr id="151" name="Text Box 7"/>
              <p:cNvSpPr/>
              <p:nvPr/>
            </p:nvSpPr>
            <p:spPr>
              <a:xfrm>
                <a:off x="3828960" y="4735440"/>
                <a:ext cx="869040" cy="39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220011"/>
                    </a:solidFill>
                    <a:latin typeface="Times New Roman"/>
                  </a:rPr>
                  <a:t>Tierra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Text Box 8"/>
              <p:cNvSpPr/>
              <p:nvPr/>
            </p:nvSpPr>
            <p:spPr>
              <a:xfrm>
                <a:off x="526680" y="3146400"/>
                <a:ext cx="1216440" cy="79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220011"/>
                    </a:solidFill>
                    <a:latin typeface="Times New Roman"/>
                  </a:rPr>
                  <a:t>Explosión Nuclea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Text Box 9"/>
              <p:cNvSpPr/>
              <p:nvPr/>
            </p:nvSpPr>
            <p:spPr>
              <a:xfrm>
                <a:off x="1395720" y="4338000"/>
                <a:ext cx="1042560" cy="99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220011"/>
                    </a:solidFill>
                    <a:latin typeface="Times New Roman"/>
                  </a:rPr>
                  <a:t>Región Fuente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Text Box 10"/>
              <p:cNvSpPr/>
              <p:nvPr/>
            </p:nvSpPr>
            <p:spPr>
              <a:xfrm>
                <a:off x="3655080" y="2748960"/>
                <a:ext cx="1042560" cy="79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Text Box 11"/>
          <p:cNvSpPr/>
          <p:nvPr/>
        </p:nvSpPr>
        <p:spPr>
          <a:xfrm>
            <a:off x="5292720" y="1052640"/>
            <a:ext cx="411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Antecedentes documen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xplosiones nuclear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xperimentales a 300 k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altur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USA, Atolón Johns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Francia, Atolón Mururo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Rusia, Kazajstá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n 1962 la explosión bloqueó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istemas de comunicacion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n Hawai y Rusia, a 1.400 k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distanc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50 kV/m, 10 ns, 5 kV/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afectan a zonas dentro de u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radio de 1.200 k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05T15:20:59Z</dcterms:modified>
  <cp:revision>138</cp:revision>
  <dc:subject/>
  <dc:title>Sin título de diapositiva</dc:title>
</cp:coreProperties>
</file>