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3.xlsx" ContentType="application/vnd.openxmlformats-officedocument.spreadsheetml.sheet"/>
  <Override PartName="/ppt/media/image13.jpeg" ContentType="image/jpeg"/>
  <Override PartName="/ppt/media/image12.png" ContentType="image/png"/>
  <Override PartName="/ppt/media/image11.wmf" ContentType="image/x-wmf"/>
  <Override PartName="/ppt/media/image3.png" ContentType="image/png"/>
  <Override PartName="/ppt/media/image9.wmf" ContentType="image/x-wmf"/>
  <Override PartName="/ppt/media/image8.png" ContentType="image/png"/>
  <Override PartName="/ppt/media/image14.jpeg" ContentType="image/jpeg"/>
  <Override PartName="/ppt/media/image20.wmf" ContentType="image/x-wmf"/>
  <Override PartName="/ppt/media/image19.png" ContentType="image/png"/>
  <Override PartName="/ppt/media/image17.wmf" ContentType="image/x-wmf"/>
  <Override PartName="/ppt/media/image15.jpeg" ContentType="image/jpeg"/>
  <Override PartName="/ppt/media/image16.jpeg" ContentType="image/jpeg"/>
  <Override PartName="/ppt/media/image1.wmf" ContentType="image/x-wmf"/>
  <Override PartName="/ppt/media/image2.wmf" ContentType="image/x-wmf"/>
  <Override PartName="/ppt/media/image5.png" ContentType="image/png"/>
  <Override PartName="/ppt/media/image6.png" ContentType="image/png"/>
  <Override PartName="/ppt/media/image18.png" ContentType="image/png"/>
  <Override PartName="/ppt/media/image7.jpeg" ContentType="image/jpeg"/>
  <Override PartName="/ppt/media/image10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4C68-A60E-435E-BB04-4FFD1227022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691B-339B-4FED-88F0-93E3A03CAD21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511C-9F68-46C8-AF34-BDBA20E7A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87A9-5FF9-43C2-9137-B1BFEE50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C555-A395-44FB-BE70-7EC1BC2EF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4596-B7D0-4977-9321-C35E20E39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A8FC-39B4-4973-A3B8-833D9E8E6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667B-350B-4B19-A7D3-A6EA86A6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3EC1-7712-43B4-AB3B-C82915AD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1A9C-204F-4104-B220-9E52BAFF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6FEC-D229-44F9-9488-5C947A28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2E5F-FD40-4D31-95B2-2DD1D860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86AA-6BC2-40E9-9E81-647CC40E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9BFC-8407-47EF-B4F6-896FF8F1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FCA1-C4EE-44F5-8B28-7F60E2B6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CA4D-F85D-4BAB-8C38-2B22B9F6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B31C-8D61-4D59-A377-F5161829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AA9B-79DF-4360-A0A8-90D5441D9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FF63-48FB-450E-8690-2E69189B4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6508-73EE-426A-BF9A-5E9003C4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4477-3253-43C3-B7D2-C0C7AFF5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8D89-CDF2-4051-859E-29F55C5D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38C3-0617-494D-A5D9-8803DEC2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8829-EAEE-4C1D-A7BE-4B23D5D1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5670-40FC-4E73-96EB-731FED1E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FB5D-74EA-455A-9384-B0219CA8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37E6-B4A1-4AD8-A8DC-9CCC6DC70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E6A8-0DC9-48E1-8B4F-512D0E0FFE7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19.png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Razones para el incremento de la Incidencia de los Huecos de Tensión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596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Situación actual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No se especifica </a:t>
            </a: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hoy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en las reglamentacion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istema próximo al límite de carg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esconocimiento respecto al fenómen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isparidad de su efecto según el tipo de usuari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Mayor sensibilidad del equipamient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Consecuencias indeseable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- Retardo en la actuación de las protecciones a fin de reducir áreas sin alimentación y mult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- Reducción de las tareas de mantenimient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00"/>
                </a:solidFill>
                <a:latin typeface="Times New Roman"/>
              </a:rPr>
              <a:t>Costos del usuario domiciliari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cc00"/>
                </a:solidFill>
                <a:latin typeface="Times New Roman"/>
              </a:rPr>
              <a:t>Sumamente variables: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cc"/>
                </a:solidFill>
                <a:latin typeface="Times New Roman"/>
              </a:rPr>
              <a:t>Resultados de encuestas varían desde 5,4 a 64 U$S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cc00"/>
                </a:solidFill>
                <a:latin typeface="Times New Roman"/>
              </a:rPr>
              <a:t>Altamente subjetivos: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cc"/>
                </a:solidFill>
                <a:latin typeface="Times New Roman"/>
              </a:rPr>
              <a:t>Baja correlación entre número de eventos y percepción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cc"/>
                </a:solidFill>
                <a:latin typeface="Times New Roman"/>
              </a:rPr>
              <a:t>Molestia poco relacionada con duración del evento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cc"/>
                </a:solidFill>
                <a:latin typeface="Times New Roman"/>
              </a:rPr>
              <a:t>Muy sensible con la información suministrada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cc"/>
                </a:solidFill>
                <a:latin typeface="Times New Roman"/>
              </a:rPr>
              <a:t>Oportunidad de la ocurrencia del evento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cc"/>
                </a:solidFill>
                <a:latin typeface="Times New Roman"/>
              </a:rPr>
              <a:t>Alta correlación con eventos recordado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cc"/>
                </a:solidFill>
                <a:latin typeface="Times New Roman"/>
              </a:rPr>
              <a:t>Altamente sensible con los consumidores especiale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Estudio de Unidades de Proceso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42" name="Object 5"/>
          <p:cNvGraphicFramePr/>
          <p:nvPr/>
        </p:nvGraphicFramePr>
        <p:xfrm>
          <a:off x="1979640" y="1052640"/>
          <a:ext cx="5400720" cy="198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052640"/>
                    <a:ext cx="5400720" cy="19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8"/>
          <p:cNvGraphicFramePr/>
          <p:nvPr/>
        </p:nvGraphicFramePr>
        <p:xfrm>
          <a:off x="0" y="3213000"/>
          <a:ext cx="3851280" cy="1828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13000"/>
                    <a:ext cx="38512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11"/>
          <p:cNvSpPr/>
          <p:nvPr/>
        </p:nvSpPr>
        <p:spPr>
          <a:xfrm>
            <a:off x="3851280" y="3429000"/>
            <a:ext cx="641520" cy="14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20011"/>
                </a:solidFill>
                <a:latin typeface="Times New Roman"/>
              </a:rPr>
              <a:t>UP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20011"/>
                </a:solidFill>
                <a:latin typeface="Times New Roman"/>
              </a:rPr>
              <a:t>UP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20011"/>
                </a:solidFill>
                <a:latin typeface="Times New Roman"/>
              </a:rPr>
              <a:t>UP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47" name="Object 14"/>
          <p:cNvGraphicFramePr/>
          <p:nvPr/>
        </p:nvGraphicFramePr>
        <p:xfrm>
          <a:off x="4500720" y="5143680"/>
          <a:ext cx="3743280" cy="1777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48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0720" y="5143680"/>
                    <a:ext cx="3743280" cy="17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17"/>
          <p:cNvSpPr/>
          <p:nvPr/>
        </p:nvSpPr>
        <p:spPr>
          <a:xfrm>
            <a:off x="8244000" y="5445000"/>
            <a:ext cx="641160" cy="11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20011"/>
                </a:solidFill>
                <a:latin typeface="Times New Roman"/>
              </a:rPr>
              <a:t>UP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20011"/>
                </a:solidFill>
                <a:latin typeface="Times New Roman"/>
              </a:rPr>
              <a:t>UP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20011"/>
                </a:solidFill>
                <a:latin typeface="Times New Roman"/>
              </a:rPr>
              <a:t>UP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Nuevo índice de calidad </a:t>
            </a:r>
            <a:br>
              <a:rPr sz="4000"/>
            </a:b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para Huecos de Tensión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250920" y="1643040"/>
          <a:ext cx="8893080" cy="312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643040"/>
                    <a:ext cx="8893080" cy="31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5 CuadroTexto"/>
          <p:cNvSpPr/>
          <p:nvPr/>
        </p:nvSpPr>
        <p:spPr>
          <a:xfrm>
            <a:off x="462600" y="5000760"/>
            <a:ext cx="836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SARFIx=</a:t>
            </a:r>
            <a:r>
              <a:rPr b="0" lang="el-GR" sz="2400" spc="-1" strike="noStrike">
                <a:solidFill>
                  <a:srgbClr val="ffffcc"/>
                </a:solidFill>
                <a:latin typeface="Times New Roman"/>
              </a:rPr>
              <a:t>Σ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Ni/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x  = umbral de tensión (rm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Ni=  número de usuarios que sufren un hueco de tensión menor a 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Nt= número total de usuarios del sistema en estudi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6 CuadroTexto"/>
          <p:cNvSpPr/>
          <p:nvPr/>
        </p:nvSpPr>
        <p:spPr>
          <a:xfrm>
            <a:off x="3429000" y="3643200"/>
            <a:ext cx="55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20011"/>
                </a:solidFill>
                <a:latin typeface="Times New Roman"/>
              </a:rPr>
              <a:t>  </a:t>
            </a:r>
            <a:r>
              <a:rPr b="0" lang="es-ES" sz="2000" spc="-1" strike="noStrike">
                <a:solidFill>
                  <a:srgbClr val="220011"/>
                </a:solidFill>
                <a:latin typeface="Times New Roman"/>
              </a:rPr>
              <a:t>0,5 a 30 c                30c a 3 s                3 s a 60 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Metodologías para localización I </a:t>
            </a:r>
            <a:br>
              <a:rPr sz="4000"/>
            </a:b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(con un solo punto de medición)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845820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Basadas en: Cambios en los flujos instantáneos de potencia y energía. Aguas abajo y aguas arrib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7" name="Picture 6" descr="Aguas abajo - energia"/>
          <p:cNvPicPr/>
          <p:nvPr/>
        </p:nvPicPr>
        <p:blipFill>
          <a:blip r:embed="rId1"/>
          <a:stretch/>
        </p:blipFill>
        <p:spPr>
          <a:xfrm>
            <a:off x="539640" y="2276640"/>
            <a:ext cx="3760920" cy="19810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5"/>
          <p:cNvSpPr/>
          <p:nvPr/>
        </p:nvSpPr>
        <p:spPr>
          <a:xfrm>
            <a:off x="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9" name="Picture 8" descr="Aguas abajo - potencia"/>
          <p:cNvPicPr/>
          <p:nvPr/>
        </p:nvPicPr>
        <p:blipFill>
          <a:blip r:embed="rId2"/>
          <a:stretch/>
        </p:blipFill>
        <p:spPr>
          <a:xfrm>
            <a:off x="539640" y="4581360"/>
            <a:ext cx="3749760" cy="2016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Aguas arriba - energia"/>
          <p:cNvPicPr/>
          <p:nvPr/>
        </p:nvPicPr>
        <p:blipFill>
          <a:blip r:embed="rId3"/>
          <a:stretch/>
        </p:blipFill>
        <p:spPr>
          <a:xfrm>
            <a:off x="5148360" y="2276640"/>
            <a:ext cx="3492360" cy="1944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Aguas arriba - potencia"/>
          <p:cNvPicPr/>
          <p:nvPr/>
        </p:nvPicPr>
        <p:blipFill>
          <a:blip r:embed="rId4"/>
          <a:stretch/>
        </p:blipFill>
        <p:spPr>
          <a:xfrm>
            <a:off x="5076720" y="4581360"/>
            <a:ext cx="36356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Metodologías para localización II </a:t>
            </a:r>
            <a:br>
              <a:rPr sz="4000"/>
            </a:b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(con un solo punto de medición)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Basadas e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Ángulo de salto de fase 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écnicas de inteligencia artifici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64" name="Object 7"/>
          <p:cNvGraphicFramePr/>
          <p:nvPr/>
        </p:nvGraphicFramePr>
        <p:xfrm>
          <a:off x="4799160" y="1981080"/>
          <a:ext cx="3508200" cy="198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9160" y="1981080"/>
                    <a:ext cx="350820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Rectangle 4"/>
          <p:cNvSpPr/>
          <p:nvPr/>
        </p:nvSpPr>
        <p:spPr>
          <a:xfrm>
            <a:off x="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67" name="Object 5"/>
          <p:cNvGraphicFramePr/>
          <p:nvPr/>
        </p:nvGraphicFramePr>
        <p:xfrm>
          <a:off x="4140360" y="1125360"/>
          <a:ext cx="4572000" cy="2867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1125360"/>
                    <a:ext cx="457200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11"/>
          <p:cNvGraphicFramePr/>
          <p:nvPr/>
        </p:nvGraphicFramePr>
        <p:xfrm>
          <a:off x="0" y="3990960"/>
          <a:ext cx="4859280" cy="28670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7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990960"/>
                    <a:ext cx="48592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1" name="Imagen 23" descr=""/>
          <p:cNvPicPr/>
          <p:nvPr/>
        </p:nvPicPr>
        <p:blipFill>
          <a:blip r:embed="rId7"/>
          <a:stretch/>
        </p:blipFill>
        <p:spPr>
          <a:xfrm>
            <a:off x="4932360" y="4154400"/>
            <a:ext cx="421164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osto de las Interrupciones y Huecos de Tensión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08" name="Object 11"/>
          <p:cNvGraphicFramePr/>
          <p:nvPr/>
        </p:nvGraphicFramePr>
        <p:xfrm>
          <a:off x="250920" y="1700280"/>
          <a:ext cx="4465440" cy="270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00280"/>
                    <a:ext cx="4465440" cy="27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14"/>
          <p:cNvGraphicFramePr/>
          <p:nvPr/>
        </p:nvGraphicFramePr>
        <p:xfrm>
          <a:off x="4716360" y="3789360"/>
          <a:ext cx="4427640" cy="2486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3789360"/>
                    <a:ext cx="442764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1267920"/>
            <a:ext cx="2878200" cy="33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ostos promedios industriales y comercial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3635280" y="0"/>
          <a:ext cx="477684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0"/>
                    <a:ext cx="47768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6944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Costos involucrados</a:t>
            </a:r>
            <a:br>
              <a:rPr sz="4000"/>
            </a:b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Valores promedios para </a:t>
            </a:r>
            <a:br>
              <a:rPr sz="3200"/>
            </a:b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grandes usuarios comerciales e industriale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nterrupción: 4 hs., sin preaviso:  U$S 75.000.-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                       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 h.,   sin preaviso:  U$S 40.000.-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                       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 h.,   con preaviso: U$S 23.000.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Micro-corte:                                  U$S 11.000.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Hueco de tensión:                 </a:t>
            </a: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      U$S  8.000.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Variación de costos</a:t>
            </a:r>
            <a:br>
              <a:rPr sz="4000"/>
            </a:b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industrial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8" name="Picture 9" descr="fece4"/>
          <p:cNvPicPr/>
          <p:nvPr/>
        </p:nvPicPr>
        <p:blipFill>
          <a:blip r:embed="rId1"/>
          <a:srcRect l="4516" t="17272" r="2107" b="5474"/>
          <a:stretch/>
        </p:blipFill>
        <p:spPr>
          <a:xfrm>
            <a:off x="5867280" y="2708280"/>
            <a:ext cx="2952720" cy="194472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4"/>
          <p:cNvGrpSpPr/>
          <p:nvPr/>
        </p:nvGrpSpPr>
        <p:grpSpPr>
          <a:xfrm>
            <a:off x="0" y="2205000"/>
            <a:ext cx="5435640" cy="3240000"/>
            <a:chOff x="0" y="2205000"/>
            <a:chExt cx="5435640" cy="3240000"/>
          </a:xfrm>
        </p:grpSpPr>
        <p:graphicFrame>
          <p:nvGraphicFramePr>
            <p:cNvPr id="120" name="Object 5"/>
            <p:cNvGraphicFramePr/>
            <p:nvPr/>
          </p:nvGraphicFramePr>
          <p:xfrm>
            <a:off x="0" y="2205000"/>
            <a:ext cx="5435640" cy="3240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1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2205000"/>
                      <a:ext cx="5435640" cy="324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2" name="Text Box 6"/>
            <p:cNvSpPr/>
            <p:nvPr/>
          </p:nvSpPr>
          <p:spPr>
            <a:xfrm>
              <a:off x="0" y="3098520"/>
              <a:ext cx="425880" cy="89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220011"/>
                  </a:solidFill>
                  <a:latin typeface="Times New Roman"/>
                </a:rPr>
                <a:t>U$S/kWh</a:t>
              </a:r>
              <a:endParaRPr b="0" lang="en-US" sz="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aphicFrame>
        <p:nvGraphicFramePr>
          <p:cNvPr id="123" name="Object 7"/>
          <p:cNvGraphicFramePr/>
          <p:nvPr/>
        </p:nvGraphicFramePr>
        <p:xfrm>
          <a:off x="5796000" y="907920"/>
          <a:ext cx="2952720" cy="1730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4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96000" y="907920"/>
                    <a:ext cx="295272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Picture 12" descr="fece5"/>
          <p:cNvPicPr/>
          <p:nvPr/>
        </p:nvPicPr>
        <p:blipFill>
          <a:blip r:embed="rId6"/>
          <a:srcRect l="4616" t="18261" r="2305" b="2066"/>
          <a:stretch/>
        </p:blipFill>
        <p:spPr>
          <a:xfrm>
            <a:off x="5867280" y="4724280"/>
            <a:ext cx="2881440" cy="2133720"/>
          </a:xfrm>
          <a:prstGeom prst="rect">
            <a:avLst/>
          </a:prstGeom>
          <a:ln w="0">
            <a:noFill/>
          </a:ln>
        </p:spPr>
      </p:pic>
      <p:sp>
        <p:nvSpPr>
          <p:cNvPr id="126" name="Line 15"/>
          <p:cNvSpPr/>
          <p:nvPr/>
        </p:nvSpPr>
        <p:spPr>
          <a:xfrm>
            <a:off x="755640" y="4508640"/>
            <a:ext cx="45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539640" y="544500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Costo de reparación 0,8 U$S/kW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5508720" y="189000"/>
            <a:ext cx="36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imes New Roman"/>
              </a:rPr>
              <a:t>% interrupción de 1 h en relación con el costo de la hora p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osto anual debido a micro-cortes y huecos de tensión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0" name="Picture 4" descr="figura13"/>
          <p:cNvPicPr/>
          <p:nvPr/>
        </p:nvPicPr>
        <p:blipFill>
          <a:blip r:embed="rId1"/>
          <a:stretch/>
        </p:blipFill>
        <p:spPr>
          <a:xfrm>
            <a:off x="0" y="1773360"/>
            <a:ext cx="1908000" cy="41148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1979640" y="1773360"/>
            <a:ext cx="1533600" cy="438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20011"/>
                </a:solidFill>
                <a:latin typeface="Times New Roman"/>
              </a:rPr>
              <a:t>Materia prim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20011"/>
                </a:solidFill>
                <a:latin typeface="Times New Roman"/>
              </a:rPr>
              <a:t>Golpeado y peinad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20011"/>
                </a:solidFill>
                <a:latin typeface="Times New Roman"/>
              </a:rPr>
              <a:t>Estirado de la fibr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20011"/>
                </a:solidFill>
                <a:latin typeface="Times New Roman"/>
              </a:rPr>
              <a:t>Formado de la hebr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20011"/>
                </a:solidFill>
                <a:latin typeface="Times New Roman"/>
              </a:rPr>
              <a:t>Enrollad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20011"/>
                </a:solidFill>
                <a:latin typeface="Times New Roman"/>
              </a:rPr>
              <a:t>Teñid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20011"/>
                </a:solidFill>
                <a:latin typeface="Times New Roman"/>
              </a:rPr>
              <a:t>Armado longitudina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20011"/>
                </a:solidFill>
                <a:latin typeface="Times New Roman"/>
              </a:rPr>
              <a:t>Entramad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20011"/>
                </a:solidFill>
                <a:latin typeface="Times New Roman"/>
              </a:rPr>
              <a:t>Producto fina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564000" y="1325520"/>
          <a:ext cx="5580000" cy="5060880"/>
        </p:xfrm>
        <a:graphic>
          <a:graphicData uri="http://schemas.openxmlformats.org/drawingml/2006/table">
            <a:tbl>
              <a:tblPr/>
              <a:tblGrid>
                <a:gridCol w="895320"/>
                <a:gridCol w="1395360"/>
                <a:gridCol w="690480"/>
                <a:gridCol w="962280"/>
                <a:gridCol w="963360"/>
                <a:gridCol w="67320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Etapas de trabajo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Equipos sensibles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Número total de eventos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Número de eventos que producen salidas de servicio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Pérdidas económicas U$S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Peso por-centual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Scutching + carding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Reles de control y contactores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171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 baseline="30000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(a)</a:t>
                      </a: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4.788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2,01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Drawing-out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Reles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(b)</a:t>
                      </a: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1.568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0,66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Spinning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Variadores de velocidad (PWM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188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158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 baseline="30000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(c)</a:t>
                      </a: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68.256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28,73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Spooling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Variadores de velocidad (PWM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188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158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(d)</a:t>
                      </a: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11.376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4,79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Dyeing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PLCs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(e)</a:t>
                      </a: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108.0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45,46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Warping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Microprocesadores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(f)</a:t>
                      </a: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Weaving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Variadores de velocidad (PWM)  y PLC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188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158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(g)</a:t>
                      </a: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33.97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14,31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Producción defectuosa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(f)</a:t>
                      </a: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9.6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4.04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237.558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00"/>
                </a:solidFill>
                <a:latin typeface="Times New Roman"/>
              </a:rPr>
              <a:t>Procedimiento de cálculo 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cc"/>
                </a:solidFill>
                <a:latin typeface="Times New Roman"/>
              </a:rPr>
              <a:t>(a), (b) La producción de esta etapa no está estrictamente conectada con la siguiente, debido a que entre ellas existe almacenamiento de material semi-elaborado o “colchón”. La detención por tiempo corto de esta etapa no afecta a la producción final, por lo que las pérdidas económicas se deben al tiempo requerido para el re-arranque del proceso. Para (a) el costo es de 1,4 U$S/minuto, necesitando 20 minutos por evento y al sufrir 171 eventos, resultan U$S 4.788. Similarmente para la etapa (b), con 1,6 U$S/minuto, 10 minutos y 98 eventos anuales, resulta U$S 1.568.-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cc"/>
                </a:solidFill>
                <a:latin typeface="Times New Roman"/>
              </a:rPr>
              <a:t>(c), (d) Las pérdidas económicas por la detención del proceso pueden calcularse como: C(c) (d) = Ne*Mc*Ts, donde Ne representa el número de eventos, Mc es el costo marginal de aproximadamente 4,8 U$S/minuto y Ts es el tiempo medio de interrupción por evento que llega a 1,5 hs para (c) y 15 minutos para (d). Resultando en el primer caso 158*4,8*90 = U$S 68.256, y U$S 11.376 en el segundo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00"/>
                </a:solidFill>
                <a:latin typeface="Times New Roman"/>
              </a:rPr>
              <a:t>Procedimiento de cálculo I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(e) Generalmente la detención del proceso genera la alteración del color del producto terminado. El proceso debe ser repetido, utilizando colores más oscuros, con un agregado de costo de aproximadamente 1,6 U$S/kg. Las pérdidas están dadas por  C(e) = Ne*Qd*1,6 donde Qd es la cantidad media de producto en la etapa de teñido, entre 2.000 y 2.500 kg, adoptando el valor medio. El costo es de 30*2.250*1,6 = U$S 108.000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(f) Los huecos de tensión no producen pérdidas, ya que el proceso es controlado en forma contínua por un operario  quien lo re-arranca inmediatamente se produce la detención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00"/>
                </a:solidFill>
                <a:latin typeface="Times New Roman"/>
              </a:rPr>
              <a:t>Procedimiento de cálculo II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cc"/>
                </a:solidFill>
                <a:latin typeface="Times New Roman"/>
              </a:rPr>
              <a:t>(g) Luego de la detención, cada equipo de entretejido requiere un rearranque manual que toma aproximadamente 2,5 minutos. Las pérdidas económicas se deben a pérdidas de producción dadas por C(g) = Ne*Mc*2,5 Nw/No, donde Nw es el número de dispositivos de tejido, aproximadamente 40, No es el número de operarios usualmente cuatro y Mc es el costo marginal de 8,6 U$S/minuto. Resultando igual a 158*8,6*2,5*40/4 = U$S 33.970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cc"/>
                </a:solidFill>
                <a:latin typeface="Times New Roman"/>
              </a:rPr>
              <a:t>(h) Además se debe agregar el monto de pérdidas por producción defectuosa, que para las características del equipamiento empleado es de U$S 9.600, en base a lo estimado por el Jefe de Línea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5T23:55:06Z</dcterms:created>
  <dc:creator>IPSEP</dc:creator>
  <dc:description/>
  <dc:language>en-US</dc:language>
  <cp:lastModifiedBy>USUARIO</cp:lastModifiedBy>
  <dcterms:modified xsi:type="dcterms:W3CDTF">2008-10-05T14:19:15Z</dcterms:modified>
  <cp:revision>117</cp:revision>
  <dc:subject/>
  <dc:title>Sin título de diapositiva</dc:title>
</cp:coreProperties>
</file>