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media/image13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20.wmf" ContentType="image/x-wmf"/>
  <Override PartName="/ppt/media/image19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5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1A06-9A21-4C78-8F2B-6580913023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C3F-B900-436C-9B0C-F5875F9A875D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64A-370C-4887-BE81-38149460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782-6906-44D7-A640-99E4A1B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DDD-DE15-402D-8442-19AFEA9F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2EC-E1C2-4746-8819-7A83F55F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3880-8809-4116-8A63-3E2FD8EC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CB50-B4FD-468D-A94A-BA068996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66F3-C522-42AE-B83A-0101A62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02F-D137-4CC5-B806-475BB3D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99E1-1C99-4BE0-BA6F-1EE0408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06A-F867-4827-B127-D921AE36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2A4-4E4D-4C2A-B909-DEFC33B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242-856E-4613-A96E-789BFF1B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07B7-3681-4D12-9752-A3D0318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82F-C0F2-42A3-8613-8AF9880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8CA-2B64-4F46-8B4B-B13AE2B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C9FD-7890-4432-A1E7-48A4ECC5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ACC1-A62E-43D5-B506-F58A3B2F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035-1AE4-4C71-88EC-A072B450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0AD-63F3-44B4-835E-D0EA83D3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908-28FB-4E13-9CF1-F27EAE56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B65-61D0-4569-840E-F3D4E90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E26-5A1C-4DB9-A0DD-134F3DD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A81-6126-462B-8DAC-3FC4C8FB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444-3055-4DD6-800D-7552727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AE1-360D-4DCA-81A2-AB69884A1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DF81-7196-4D72-B7AA-CFDD051C5A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azones para el incremento de la Incidencia de los Huecos de Tensión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59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ituación actu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se especifica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hoy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en las reglamentacion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stema próximo al límite de ca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onocimiento respecto al fenóme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aridad de su efecto según el tipo de usu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yor sensibilidad del equip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secuencias indeseabl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tardo en la actuación de las protecciones a fin de reducir áreas sin alimentación y mult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ducción de las tareas de manteni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Costos del usuario domicili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cc00"/>
                </a:solidFill>
                <a:latin typeface="Times New Roman"/>
              </a:rPr>
              <a:t>Sumamente variables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Resultados de encuestas varían desde 5,4 a 64 U$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cc00"/>
                </a:solidFill>
                <a:latin typeface="Times New Roman"/>
              </a:rPr>
              <a:t>Altamente subjetivos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Baja correlación entre número de eventos y percepció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Molestia poco relacionada con duración del evento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Muy sensible con la información suministrad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Oportunidad de la ocurrencia del evento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Alta correlación con eventos recordado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Altamente sensible con los consumidores especial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studio de Unidades de Proces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1979640" y="1052640"/>
          <a:ext cx="5400720" cy="198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052640"/>
                    <a:ext cx="540072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0" y="3213000"/>
          <a:ext cx="385128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13000"/>
                    <a:ext cx="3851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11"/>
          <p:cNvSpPr/>
          <p:nvPr/>
        </p:nvSpPr>
        <p:spPr>
          <a:xfrm>
            <a:off x="3851280" y="3429000"/>
            <a:ext cx="641520" cy="14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4500720" y="5143680"/>
          <a:ext cx="3743280" cy="1777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5143680"/>
                    <a:ext cx="3743280" cy="17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7"/>
          <p:cNvSpPr/>
          <p:nvPr/>
        </p:nvSpPr>
        <p:spPr>
          <a:xfrm>
            <a:off x="8244000" y="5445000"/>
            <a:ext cx="641160" cy="11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uevo índice de calidad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a Huecos de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250920" y="1643040"/>
          <a:ext cx="8893080" cy="31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43040"/>
                    <a:ext cx="889308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5 CuadroTexto"/>
          <p:cNvSpPr/>
          <p:nvPr/>
        </p:nvSpPr>
        <p:spPr>
          <a:xfrm>
            <a:off x="462600" y="5000760"/>
            <a:ext cx="836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ARFIx=</a:t>
            </a:r>
            <a:r>
              <a:rPr b="0" lang="el-GR" sz="2400" spc="-1" strike="noStrike">
                <a:solidFill>
                  <a:srgbClr val="ffffcc"/>
                </a:solidFill>
                <a:latin typeface="Times New Roman"/>
              </a:rPr>
              <a:t>Σ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Ni/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x  = umbral de tensión (rm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Ni=  número de usuarios que sufren un hueco de tensión menor a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Nt= número total de usuarios del sistema en estu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6 CuadroTexto"/>
          <p:cNvSpPr/>
          <p:nvPr/>
        </p:nvSpPr>
        <p:spPr>
          <a:xfrm>
            <a:off x="3429000" y="3643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11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220011"/>
                </a:solidFill>
                <a:latin typeface="Times New Roman"/>
              </a:rPr>
              <a:t>0,5 a 30 c                30c a 3 s                3 s a 60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etodologías para localización I 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(con un solo punto de medició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4582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as en: Cambios en los flujos instantáneos de potencia y energía. Aguas abajo y aguas arrib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Aguas abajo - energia"/>
          <p:cNvPicPr/>
          <p:nvPr/>
        </p:nvPicPr>
        <p:blipFill>
          <a:blip r:embed="rId1"/>
          <a:stretch/>
        </p:blipFill>
        <p:spPr>
          <a:xfrm>
            <a:off x="539640" y="2276640"/>
            <a:ext cx="3760920" cy="1981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8" descr="Aguas abajo - potencia"/>
          <p:cNvPicPr/>
          <p:nvPr/>
        </p:nvPicPr>
        <p:blipFill>
          <a:blip r:embed="rId2"/>
          <a:stretch/>
        </p:blipFill>
        <p:spPr>
          <a:xfrm>
            <a:off x="539640" y="4581360"/>
            <a:ext cx="3749760" cy="201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guas arriba - energia"/>
          <p:cNvPicPr/>
          <p:nvPr/>
        </p:nvPicPr>
        <p:blipFill>
          <a:blip r:embed="rId3"/>
          <a:stretch/>
        </p:blipFill>
        <p:spPr>
          <a:xfrm>
            <a:off x="5148360" y="2276640"/>
            <a:ext cx="34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Aguas arriba - potencia"/>
          <p:cNvPicPr/>
          <p:nvPr/>
        </p:nvPicPr>
        <p:blipFill>
          <a:blip r:embed="rId4"/>
          <a:stretch/>
        </p:blipFill>
        <p:spPr>
          <a:xfrm>
            <a:off x="5076720" y="4581360"/>
            <a:ext cx="363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etodologías para localización II 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(con un solo punto de medició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as e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Ángulo de salto de fase 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écnicas de inteligencia artifi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4799160" y="1981080"/>
          <a:ext cx="3508200" cy="19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8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140360" y="1125360"/>
          <a:ext cx="4572000" cy="28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125360"/>
                    <a:ext cx="45720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1"/>
          <p:cNvGraphicFramePr/>
          <p:nvPr/>
        </p:nvGraphicFramePr>
        <p:xfrm>
          <a:off x="0" y="3990960"/>
          <a:ext cx="4859280" cy="2867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90960"/>
                    <a:ext cx="4859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Imagen 23" descr=""/>
          <p:cNvPicPr/>
          <p:nvPr/>
        </p:nvPicPr>
        <p:blipFill>
          <a:blip r:embed="rId7"/>
          <a:stretch/>
        </p:blipFill>
        <p:spPr>
          <a:xfrm>
            <a:off x="4932360" y="4154400"/>
            <a:ext cx="42116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sto de las Interrupciones y Huecos de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250920" y="1700280"/>
          <a:ext cx="4465440" cy="27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446544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4"/>
          <p:cNvGraphicFramePr/>
          <p:nvPr/>
        </p:nvGraphicFramePr>
        <p:xfrm>
          <a:off x="4716360" y="3789360"/>
          <a:ext cx="4427640" cy="248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789360"/>
                    <a:ext cx="44276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2878200" cy="33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stos promedios industriales y comerci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635280" y="0"/>
          <a:ext cx="47768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0"/>
                    <a:ext cx="477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Costos involucrados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Valores promedios para </a:t>
            </a:r>
            <a:br>
              <a:rPr sz="32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grandes usuarios comerciales e industrial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rupción: 4 hs., sin preaviso:  U$S 75.000.-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 h.,   sin preaviso:  U$S 40.000.-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 h.,   con preaviso: U$S 23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icro-corte:                                  U$S 11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ueco de tensión:                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U$S  8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Variación de costos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industri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8" name="Picture 9" descr="fece4"/>
          <p:cNvPicPr/>
          <p:nvPr/>
        </p:nvPicPr>
        <p:blipFill>
          <a:blip r:embed="rId1"/>
          <a:srcRect l="4516" t="17272" r="2107" b="5474"/>
          <a:stretch/>
        </p:blipFill>
        <p:spPr>
          <a:xfrm>
            <a:off x="5867280" y="2708280"/>
            <a:ext cx="2952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4"/>
          <p:cNvGrpSpPr/>
          <p:nvPr/>
        </p:nvGrpSpPr>
        <p:grpSpPr>
          <a:xfrm>
            <a:off x="0" y="2205000"/>
            <a:ext cx="5435640" cy="3240000"/>
            <a:chOff x="0" y="2205000"/>
            <a:chExt cx="5435640" cy="324000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0" y="2205000"/>
            <a:ext cx="5435640" cy="32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205000"/>
                      <a:ext cx="5435640" cy="32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Text Box 6"/>
            <p:cNvSpPr/>
            <p:nvPr/>
          </p:nvSpPr>
          <p:spPr>
            <a:xfrm>
              <a:off x="0" y="3098520"/>
              <a:ext cx="42588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220011"/>
                  </a:solidFill>
                  <a:latin typeface="Times New Roman"/>
                </a:rPr>
                <a:t>U$S/kWh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23" name="Object 7"/>
          <p:cNvGraphicFramePr/>
          <p:nvPr/>
        </p:nvGraphicFramePr>
        <p:xfrm>
          <a:off x="5796000" y="907920"/>
          <a:ext cx="2952720" cy="17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907920"/>
                    <a:ext cx="2952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12" descr="fece5"/>
          <p:cNvPicPr/>
          <p:nvPr/>
        </p:nvPicPr>
        <p:blipFill>
          <a:blip r:embed="rId6"/>
          <a:srcRect l="4616" t="18261" r="2305" b="2066"/>
          <a:stretch/>
        </p:blipFill>
        <p:spPr>
          <a:xfrm>
            <a:off x="5867280" y="4724280"/>
            <a:ext cx="288144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Line 15"/>
          <p:cNvSpPr/>
          <p:nvPr/>
        </p:nvSpPr>
        <p:spPr>
          <a:xfrm>
            <a:off x="755640" y="4508640"/>
            <a:ext cx="45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39640" y="5445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sto de reparación 0,8 U$S/kW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508720" y="18900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% interrupción de 1 h en relación con el costo de la hora p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sto anual debido a micro-cortes y huecos de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4" descr="figura13"/>
          <p:cNvPicPr/>
          <p:nvPr/>
        </p:nvPicPr>
        <p:blipFill>
          <a:blip r:embed="rId1"/>
          <a:stretch/>
        </p:blipFill>
        <p:spPr>
          <a:xfrm>
            <a:off x="0" y="1773360"/>
            <a:ext cx="19080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979640" y="1773360"/>
            <a:ext cx="1533600" cy="43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Materia pri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Golpeado y pein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Estirado de la fibr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Formado de la hebr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Enroll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Teñi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Armado longitud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Entram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Producto f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64000" y="1325520"/>
          <a:ext cx="5580000" cy="5060880"/>
        </p:xfrm>
        <a:graphic>
          <a:graphicData uri="http://schemas.openxmlformats.org/drawingml/2006/table">
            <a:tbl>
              <a:tblPr/>
              <a:tblGrid>
                <a:gridCol w="895320"/>
                <a:gridCol w="1395360"/>
                <a:gridCol w="690480"/>
                <a:gridCol w="962280"/>
                <a:gridCol w="963360"/>
                <a:gridCol w="6732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Etapas de trabaj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Equipos sensibl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Número total de evento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Número de eventos que producen salidas de servici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érdidas económicas U$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eso por-centu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Scutching + card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Reles de control y contactor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.7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,0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rawing-ou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Rel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.56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Spinn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Variadores de velocidad (PWM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c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8.25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8,7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Spool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Variadores de velocidad (PWM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d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1.37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,7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ye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LC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e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8.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5,4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Warp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Microprocesador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f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Weav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Variadores de velocidad (PWM)  y PLC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g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3.97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4,3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roducción defectuos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f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.6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.0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37.5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Procedimiento de cálculo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a), (b) La producción de esta etapa no está estrictamente conectada con la siguiente, debido a que entre ellas existe almacenamiento de material semi-elaborado o “colchón”. La detención por tiempo corto de esta etapa no afecta a la producción final, por lo que las pérdidas económicas se deben al tiempo requerido para el re-arranque del proceso. Para (a) el costo es de 1,4 U$S/minuto, necesitando 20 minutos por evento y al sufrir 171 eventos, resultan U$S 4.788. Similarmente para la etapa (b), con 1,6 U$S/minuto, 10 minutos y 98 eventos anuales, resulta U$S 1.568.-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c), (d) Las pérdidas económicas por la detención del proceso pueden calcularse como: C(c) (d) = Ne*Mc*Ts, donde Ne representa el número de eventos, Mc es el costo marginal de aproximadamente 4,8 U$S/minuto y Ts es el tiempo medio de interrupción por evento que llega a 1,5 hs para (c) y 15 minutos para (d). Resultando en el primer caso 158*4,8*90 = U$S 68.256, y U$S 11.376 en el segund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Procedimiento de cálculo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e) Generalmente la detención del proceso genera la alteración del color del producto terminado. El proceso debe ser repetido, utilizando colores más oscuros, con un agregado de costo de aproximadamente 1,6 U$S/kg. Las pérdidas están dadas por  C(e) = Ne*Qd*1,6 donde Qd es la cantidad media de producto en la etapa de teñido, entre 2.000 y 2.500 kg, adoptando el valor medio. El costo es de 30*2.250*1,6 = U$S 108.00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f) Los huecos de tensión no producen pérdidas, ya que el proceso es controlado en forma contínua por un operario  quien lo re-arranca inmediatamente se produce la detenció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Procedimiento de cálculo I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g) Luego de la detención, cada equipo de entretejido requiere un rearranque manual que toma aproximadamente 2,5 minutos. Las pérdidas económicas se deben a pérdidas de producción dadas por C(g) = Ne*Mc*2,5 Nw/No, donde Nw es el número de dispositivos de tejido, aproximadamente 40, No es el número de operarios usualmente cuatro y Mc es el costo marginal de 8,6 U$S/minuto. Resultando igual a 158*8,6*2,5*40/4 = U$S 33.970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h) Además se debe agregar el monto de pérdidas por producción defectuosa, que para las características del equipamiento empleado es de U$S 9.600, en base a lo estimado por el Jefe de Líne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5T14:19:15Z</dcterms:modified>
  <cp:revision>117</cp:revision>
  <dc:subject/>
  <dc:title>Sin título de diapositiva</dc:title>
</cp:coreProperties>
</file>