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56.png" ContentType="image/png"/>
  <Override PartName="/ppt/media/image13.wmf" ContentType="image/x-wmf"/>
  <Override PartName="/ppt/media/image1.wmf" ContentType="image/x-wmf"/>
  <Override PartName="/ppt/media/image55.png" ContentType="image/png"/>
  <Override PartName="/ppt/media/image53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50.png" ContentType="image/png"/>
  <Override PartName="/ppt/media/image2.png" ContentType="image/png"/>
  <Override PartName="/ppt/media/image25.jpeg" ContentType="image/jpeg"/>
  <Override PartName="/ppt/media/image62.wmf" ContentType="image/x-wmf"/>
  <Override PartName="/ppt/media/image59.png" ContentType="image/png"/>
  <Override PartName="/ppt/media/image22.png" ContentType="image/png"/>
  <Override PartName="/ppt/media/image28.png" ContentType="image/png"/>
  <Override PartName="/ppt/media/image54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64.wmf" ContentType="image/x-wmf"/>
  <Override PartName="/ppt/media/image11.jpeg" ContentType="image/jpeg"/>
  <Override PartName="/ppt/media/image24.png" ContentType="image/png"/>
  <Override PartName="/ppt/media/image63.wmf" ContentType="image/x-wmf"/>
  <Override PartName="/ppt/media/image23.png" ContentType="image/png"/>
  <Override PartName="/ppt/media/image27.png" ContentType="image/png"/>
  <Override PartName="/ppt/media/image30.wmf" ContentType="image/x-wmf"/>
  <Override PartName="/ppt/media/image33.jpeg" ContentType="image/jpeg"/>
  <Override PartName="/ppt/media/image5.jpeg" ContentType="image/jpeg"/>
  <Override PartName="/ppt/media/image61.png" ContentType="image/png"/>
  <Override PartName="/ppt/media/image57.png" ContentType="image/png"/>
  <Override PartName="/ppt/media/image20.png" ContentType="image/png"/>
  <Override PartName="/ppt/media/image58.png" ContentType="image/png"/>
  <Override PartName="/ppt/media/image21.png" ContentType="image/png"/>
  <Override PartName="/ppt/media/image40.wmf" ContentType="image/x-wmf"/>
  <Override PartName="/ppt/media/image6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60.wmf" ContentType="image/x-wmf"/>
  <Override PartName="/ppt/media/image38.png" ContentType="image/png"/>
  <Override PartName="/ppt/media/image52.png" ContentType="image/png"/>
  <Override PartName="/ppt/media/image31.png" ContentType="image/png"/>
  <Override PartName="/ppt/media/image32.jpeg" ContentType="image/jpeg"/>
  <Override PartName="/ppt/media/image35.png" ContentType="image/png"/>
  <Override PartName="/ppt/media/image36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png" ContentType="image/png"/>
  <Override PartName="/ppt/media/image4.jpeg" ContentType="image/jpeg"/>
  <Override PartName="/ppt/media/image5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248-A088-4C64-969A-678BDC92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7E1-4C76-46B8-AAC2-298C288A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109-D420-4D70-89AF-24FBD46C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B34-D106-44FF-BC7B-2FCA6767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6068-E2D8-45D6-9223-DF6AC183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AEA-A6DA-4522-A004-8A2CCBB9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4151-3FE0-46C0-83A2-2813461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0046-C194-49E3-BDAA-5EB98A71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5C5C-DEE4-497C-AC6B-EB6D1F5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8502-E674-4A67-9BBA-54A43B5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E4D9-6AEF-4F11-A7AC-7A0CAA4D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B36-0ED3-4786-A8C0-24572219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7F6F-6B35-49E2-A3CC-C43F8701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CFC1-ACDF-4FBA-B93B-F37139DE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7B7B-AF65-4392-8E4A-3EF3C6CE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5386-12E2-4F61-A5EE-A424F9C8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2BAE-3A9C-4AC4-BEDF-28690E69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104-E324-49B8-8A02-1B1CE2A8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CCA-110F-4E5F-B125-06F6A29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4F1-5C42-4B11-BE9C-F66D1D3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3DD-0426-4300-9D72-A15D02FE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116-6FC1-43D9-9213-1554AE4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02C-758C-4106-9304-A0111028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D24-79BE-436D-BC3C-707BB0AA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AE7F-90E0-4238-88E7-CFCB64A31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837-8CB4-4384-878C-4A4C9138753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lobalspec.com/pix/VerticalNewsletter/PowerGeneration/CaterpillarC175_V1I3PG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png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itigación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Huecos de Tensió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3048120" y="0"/>
          <a:ext cx="58608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0"/>
                    <a:ext cx="586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456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Baterí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rcRect l="16758" t="41670" r="11653" b="0"/>
          <a:stretch/>
        </p:blipFill>
        <p:spPr>
          <a:xfrm>
            <a:off x="0" y="2492280"/>
            <a:ext cx="6156360" cy="4365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rcRect l="0" t="5246" r="0" b="66749"/>
          <a:stretch/>
        </p:blipFill>
        <p:spPr>
          <a:xfrm>
            <a:off x="2050920" y="333360"/>
            <a:ext cx="709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Almacenamiento en baterí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134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cc00"/>
                </a:solidFill>
                <a:latin typeface="Times New Roman"/>
              </a:rPr>
              <a:t>Ventaja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- Elevada capacidad de almacenamiento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cc00"/>
                </a:solidFill>
                <a:latin typeface="Times New Roman"/>
              </a:rPr>
              <a:t>Desventaja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Ecológicas: el plomo es altamente contaminante, usando en baterías el 80 % del plomo empleado y el 50 % de los metales peligroso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Requisitos especiales para su instalación (temperatura ambiente, ventilación, materiales no corrosibles, etc.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Confiabilidad: uso en serie y numerosos contacto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Número máximo de ciclos de descarga, según profundidad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Elevado costo de desactivació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Almacenamiento en campos magnétic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9" name="Picture 5" descr="D-SMES_one_line"/>
          <p:cNvPicPr/>
          <p:nvPr/>
        </p:nvPicPr>
        <p:blipFill>
          <a:blip r:embed="rId1"/>
          <a:stretch/>
        </p:blipFill>
        <p:spPr>
          <a:xfrm>
            <a:off x="826920" y="907920"/>
            <a:ext cx="5616720" cy="348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untitled"/>
          <p:cNvPicPr/>
          <p:nvPr/>
        </p:nvPicPr>
        <p:blipFill>
          <a:blip r:embed="rId2"/>
          <a:stretch/>
        </p:blipFill>
        <p:spPr>
          <a:xfrm>
            <a:off x="971640" y="4653000"/>
            <a:ext cx="3341520" cy="19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PA230018Installed"/>
          <p:cNvPicPr/>
          <p:nvPr/>
        </p:nvPicPr>
        <p:blipFill>
          <a:blip r:embed="rId3"/>
          <a:stretch/>
        </p:blipFill>
        <p:spPr>
          <a:xfrm>
            <a:off x="5435640" y="4554360"/>
            <a:ext cx="2808360" cy="210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3"/>
          <p:cNvSpPr/>
          <p:nvPr/>
        </p:nvSpPr>
        <p:spPr>
          <a:xfrm>
            <a:off x="6516720" y="1197000"/>
            <a:ext cx="2627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ímite actual 5 MJ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 comercial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4,3 H, 2,15 MJ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800 kVA, 1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Almacenamiento en campos magnétic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4" name="Picture 4" descr="new5JPG"/>
          <p:cNvPicPr/>
          <p:nvPr/>
        </p:nvPicPr>
        <p:blipFill>
          <a:blip r:embed="rId1"/>
          <a:srcRect l="5461" t="10251" r="0" b="0"/>
          <a:stretch/>
        </p:blipFill>
        <p:spPr>
          <a:xfrm>
            <a:off x="609480" y="1295280"/>
            <a:ext cx="8001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almacenador en campo magnétic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6" name="Picture 4" descr="new6"/>
          <p:cNvPicPr/>
          <p:nvPr/>
        </p:nvPicPr>
        <p:blipFill>
          <a:blip r:embed="rId1"/>
          <a:stretch/>
        </p:blipFill>
        <p:spPr>
          <a:xfrm>
            <a:off x="611280" y="1932120"/>
            <a:ext cx="81374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Almacenamiento en volante inercial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4" descr="flywheel_diagram"/>
          <p:cNvPicPr/>
          <p:nvPr/>
        </p:nvPicPr>
        <p:blipFill>
          <a:blip r:embed="rId1"/>
          <a:srcRect l="0" t="13661" r="0" b="0"/>
          <a:stretch/>
        </p:blipFill>
        <p:spPr>
          <a:xfrm>
            <a:off x="0" y="765000"/>
            <a:ext cx="4500720" cy="3149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0"/>
          <p:cNvSpPr/>
          <p:nvPr/>
        </p:nvSpPr>
        <p:spPr>
          <a:xfrm>
            <a:off x="1547640" y="4005360"/>
            <a:ext cx="6156360" cy="28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43"/>
          <p:cNvSpPr/>
          <p:nvPr/>
        </p:nvSpPr>
        <p:spPr>
          <a:xfrm>
            <a:off x="381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1" name="Group 31"/>
          <p:cNvGrpSpPr/>
          <p:nvPr/>
        </p:nvGrpSpPr>
        <p:grpSpPr>
          <a:xfrm>
            <a:off x="1619280" y="4356000"/>
            <a:ext cx="6084720" cy="2502000"/>
            <a:chOff x="1619280" y="4356000"/>
            <a:chExt cx="6084720" cy="2502000"/>
          </a:xfrm>
        </p:grpSpPr>
        <p:sp>
          <p:nvSpPr>
            <p:cNvPr id="182" name="Line 42"/>
            <p:cNvSpPr/>
            <p:nvPr/>
          </p:nvSpPr>
          <p:spPr>
            <a:xfrm>
              <a:off x="2698560" y="4756320"/>
              <a:ext cx="412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41"/>
            <p:cNvSpPr/>
            <p:nvPr/>
          </p:nvSpPr>
          <p:spPr>
            <a:xfrm>
              <a:off x="4661640" y="4756320"/>
              <a:ext cx="0" cy="140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Text Box 40"/>
            <p:cNvSpPr/>
            <p:nvPr/>
          </p:nvSpPr>
          <p:spPr>
            <a:xfrm>
              <a:off x="3189240" y="4556160"/>
              <a:ext cx="981360" cy="400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Rectificado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5250600" y="4556160"/>
              <a:ext cx="915840" cy="366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Inverso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Text Box 38"/>
            <p:cNvSpPr/>
            <p:nvPr/>
          </p:nvSpPr>
          <p:spPr>
            <a:xfrm>
              <a:off x="1619280" y="4556160"/>
              <a:ext cx="127584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Alimentación de alterna 50 Hz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Text Box 37"/>
            <p:cNvSpPr/>
            <p:nvPr/>
          </p:nvSpPr>
          <p:spPr>
            <a:xfrm>
              <a:off x="6428160" y="4556160"/>
              <a:ext cx="127584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Salida de alterna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o contínua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Text Box 36"/>
            <p:cNvSpPr/>
            <p:nvPr/>
          </p:nvSpPr>
          <p:spPr>
            <a:xfrm>
              <a:off x="4268880" y="4356000"/>
              <a:ext cx="88308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Barra de CC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Text Box 35"/>
            <p:cNvSpPr/>
            <p:nvPr/>
          </p:nvSpPr>
          <p:spPr>
            <a:xfrm>
              <a:off x="4170960" y="5256720"/>
              <a:ext cx="1079280" cy="500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Inversor bidireccional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Text Box 34"/>
            <p:cNvSpPr/>
            <p:nvPr/>
          </p:nvSpPr>
          <p:spPr>
            <a:xfrm>
              <a:off x="4072680" y="6157440"/>
              <a:ext cx="1275840" cy="600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Módulo de almacenamiento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en volant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Text Box 33"/>
            <p:cNvSpPr/>
            <p:nvPr/>
          </p:nvSpPr>
          <p:spPr>
            <a:xfrm>
              <a:off x="5544720" y="5356800"/>
              <a:ext cx="127584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Módulo electrónico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Text Box 32"/>
            <p:cNvSpPr/>
            <p:nvPr/>
          </p:nvSpPr>
          <p:spPr>
            <a:xfrm>
              <a:off x="5544720" y="6257520"/>
              <a:ext cx="127584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Módulo de almacenamiento de energía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3" name="Rectangle 53"/>
          <p:cNvSpPr/>
          <p:nvPr/>
        </p:nvSpPr>
        <p:spPr>
          <a:xfrm>
            <a:off x="4502160" y="231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54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2232000" cy="3168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6"/>
          <p:cNvSpPr/>
          <p:nvPr/>
        </p:nvSpPr>
        <p:spPr>
          <a:xfrm>
            <a:off x="7020000" y="765000"/>
            <a:ext cx="194472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Tiempo de soporte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Batería        900 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UPS rotativa 15 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Incidencia de h.v. y micro- corte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85 % &lt; 13 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87 % &lt; 900 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1600" spc="-1" strike="noStrike" baseline="-25000">
                <a:solidFill>
                  <a:srgbClr val="ffffcc"/>
                </a:solidFill>
                <a:latin typeface="Times New Roman"/>
              </a:rPr>
              <a:t>incidencia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    2 %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30.000 rpm, 2kWh,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140 kg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57"/>
          <p:cNvSpPr/>
          <p:nvPr/>
        </p:nvSpPr>
        <p:spPr>
          <a:xfrm>
            <a:off x="4211640" y="4724280"/>
            <a:ext cx="1008000" cy="0"/>
          </a:xfrm>
          <a:prstGeom prst="line">
            <a:avLst/>
          </a:prstGeom>
          <a:ln w="572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Line 58"/>
          <p:cNvSpPr/>
          <p:nvPr/>
        </p:nvSpPr>
        <p:spPr>
          <a:xfrm>
            <a:off x="2771640" y="4724280"/>
            <a:ext cx="432000" cy="0"/>
          </a:xfrm>
          <a:prstGeom prst="line">
            <a:avLst/>
          </a:prstGeom>
          <a:ln w="572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Line 59"/>
          <p:cNvSpPr/>
          <p:nvPr/>
        </p:nvSpPr>
        <p:spPr>
          <a:xfrm>
            <a:off x="6156360" y="4724280"/>
            <a:ext cx="287280" cy="0"/>
          </a:xfrm>
          <a:prstGeom prst="line">
            <a:avLst/>
          </a:prstGeom>
          <a:ln w="572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Almacenamiento en Volante Inercial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para regulación de voltaje y frecue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28760" y="3659040"/>
            <a:ext cx="3071520" cy="228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4" descr=""/>
          <p:cNvPicPr/>
          <p:nvPr/>
        </p:nvPicPr>
        <p:blipFill>
          <a:blip r:embed="rId2"/>
          <a:stretch/>
        </p:blipFill>
        <p:spPr>
          <a:xfrm>
            <a:off x="5334120" y="264312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202" name="6 CuadroTexto"/>
          <p:cNvSpPr/>
          <p:nvPr/>
        </p:nvSpPr>
        <p:spPr>
          <a:xfrm>
            <a:off x="296280" y="6027840"/>
            <a:ext cx="68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Unidades de 25kW/h, 100 k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otencias totales de 1 MW, adicionables hasta 20 M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428760" y="1357200"/>
            <a:ext cx="3429000" cy="2129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4000680" y="1357200"/>
            <a:ext cx="32860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07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Almacenamiento en supercapacit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6" name="Picture 4" descr="superc2"/>
          <p:cNvPicPr/>
          <p:nvPr/>
        </p:nvPicPr>
        <p:blipFill>
          <a:blip r:embed="rId1"/>
          <a:stretch/>
        </p:blipFill>
        <p:spPr>
          <a:xfrm>
            <a:off x="250920" y="692280"/>
            <a:ext cx="3754440" cy="388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superc3"/>
          <p:cNvPicPr/>
          <p:nvPr/>
        </p:nvPicPr>
        <p:blipFill>
          <a:blip r:embed="rId2"/>
          <a:stretch/>
        </p:blipFill>
        <p:spPr>
          <a:xfrm>
            <a:off x="4210200" y="1052640"/>
            <a:ext cx="4889520" cy="540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uperc"/>
          <p:cNvPicPr/>
          <p:nvPr/>
        </p:nvPicPr>
        <p:blipFill>
          <a:blip r:embed="rId3"/>
          <a:srcRect l="4346" t="6138" r="4636" b="0"/>
          <a:stretch/>
        </p:blipFill>
        <p:spPr>
          <a:xfrm>
            <a:off x="539640" y="4675320"/>
            <a:ext cx="30243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aración con los equipos tradicionales de almacenamiento de energí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5800" y="1981080"/>
          <a:ext cx="8062920" cy="425628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4560"/>
                <a:gridCol w="20160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363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ores típico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ores electroquímico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ería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e de tiempo (segundos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,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- 1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nas y centena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dad de energía (kJ / kg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– 0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- 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dad de potencia (kW / kg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nas en el pico de potenci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A la potencia de pico, promedio 0,3 a 2.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de 0,1 a 0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eldas de combustibl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962440" y="2952720"/>
            <a:ext cx="6181560" cy="390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fuelcell1"/>
          <p:cNvPicPr/>
          <p:nvPr/>
        </p:nvPicPr>
        <p:blipFill>
          <a:blip r:embed="rId2"/>
          <a:stretch/>
        </p:blipFill>
        <p:spPr>
          <a:xfrm>
            <a:off x="0" y="765000"/>
            <a:ext cx="4602240" cy="3283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9"/>
          <p:cNvSpPr/>
          <p:nvPr/>
        </p:nvSpPr>
        <p:spPr>
          <a:xfrm>
            <a:off x="1096920" y="3598920"/>
            <a:ext cx="27432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            </a:t>
            </a: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Ánodo        Electrolito     Cáto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0" y="1844640"/>
            <a:ext cx="8269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220011"/>
                </a:solidFill>
                <a:latin typeface="Times New Roman"/>
              </a:rPr>
              <a:t>Combustible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840120" y="2044800"/>
            <a:ext cx="731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220011"/>
                </a:solidFill>
                <a:latin typeface="Times New Roman"/>
              </a:rPr>
              <a:t>Oxidante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3932280" y="2044800"/>
            <a:ext cx="4572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5292720" y="836640"/>
            <a:ext cx="3382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ndimiento 50 a 60 % (motor explosión 30 %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Lentas 10 a 20 M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ápidas 50 k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Parques industriales de </a:t>
            </a:r>
            <a:br>
              <a:rPr sz="4000"/>
            </a:b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Alta Calidad de Potenci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Relevamiento del Electric Power Research Institute (EPRI) en 1990, preguntando a 750 empresas industriales norteamericanas </a:t>
            </a: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quien</a:t>
            </a: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 se debe hacer cargo de mejorar la C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Respuesta mayoritaria: la empresa distribuido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Las industrias están dispuestas a hacer contratos diferenci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Nacen los PPP (Premium Power Parks), instalaciones especiales para localizar consumidores exigentes y altamente contamina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Poseen tres circuitos de alimentación con las correspondientes interfases e interconexiones activ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Tipos de Celdas de Combustibl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rcRect l="0" t="9019" r="0" b="0"/>
          <a:stretch/>
        </p:blipFill>
        <p:spPr>
          <a:xfrm>
            <a:off x="468360" y="1052640"/>
            <a:ext cx="8244000" cy="5273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2240" y="6521400"/>
            <a:ext cx="89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MCFC, Molten carbonate; PAFC, Phosphoric acid; PEMFC,Proton exchange membrane; SOFC, Solid oxid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aración de tecnologías de almacenamient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3" name="Object 8"/>
          <p:cNvGraphicFramePr/>
          <p:nvPr/>
        </p:nvGraphicFramePr>
        <p:xfrm>
          <a:off x="179280" y="1268280"/>
          <a:ext cx="878544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7854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Generadores de arranque rápid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6" name="Picture 4" descr="CaterpillarC175_V1I3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108080"/>
            <a:ext cx="2952720" cy="1909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gas_turbine01"/>
          <p:cNvPicPr/>
          <p:nvPr/>
        </p:nvPicPr>
        <p:blipFill>
          <a:blip r:embed="rId3"/>
          <a:stretch/>
        </p:blipFill>
        <p:spPr>
          <a:xfrm>
            <a:off x="179280" y="399420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apstorne-MicroturbinesWEB"/>
          <p:cNvPicPr/>
          <p:nvPr/>
        </p:nvPicPr>
        <p:blipFill>
          <a:blip r:embed="rId4"/>
          <a:stretch/>
        </p:blipFill>
        <p:spPr>
          <a:xfrm>
            <a:off x="5508720" y="413064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5"/>
          <a:stretch/>
        </p:blipFill>
        <p:spPr>
          <a:xfrm>
            <a:off x="4716360" y="1268280"/>
            <a:ext cx="2220840" cy="26384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20400" y="3068640"/>
            <a:ext cx="37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otor de combustión inter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urbina de g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6947280" y="26370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croturbin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e g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Sistema híbrid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Los motores eléctricos frente a los huecos de tensión y microcort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cc"/>
                </a:solidFill>
                <a:latin typeface="Times New Roman"/>
              </a:rPr>
              <a:t>El motor debe mantenerse conectado el mayor tiempo posible a fin de reducir costo de pérdidas de producció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cc"/>
                </a:solidFill>
                <a:latin typeface="Times New Roman"/>
              </a:rPr>
              <a:t>Deben tenerse en cuenta las condiciones antes, durante y después del hueco de tensión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cc"/>
                </a:solidFill>
                <a:latin typeface="Times New Roman"/>
              </a:rPr>
              <a:t>No debe ponerse en riesgo la integridad del moto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cc"/>
                </a:solidFill>
                <a:latin typeface="Times New Roman"/>
              </a:rPr>
              <a:t>No es justificable extenderse más allá que el tiempo soportado por los restantes elementos de la línea de producció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conexión y re-conexión con circuito abierto (motor de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5,5 kW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7" name="Picture 4" descr="fig2"/>
          <p:cNvPicPr/>
          <p:nvPr/>
        </p:nvPicPr>
        <p:blipFill>
          <a:blip r:embed="rId1"/>
          <a:stretch/>
        </p:blipFill>
        <p:spPr>
          <a:xfrm>
            <a:off x="0" y="2924280"/>
            <a:ext cx="4572000" cy="3525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fig6"/>
          <p:cNvPicPr/>
          <p:nvPr/>
        </p:nvPicPr>
        <p:blipFill>
          <a:blip r:embed="rId2"/>
          <a:srcRect l="0" t="0" r="0" b="7306"/>
          <a:stretch/>
        </p:blipFill>
        <p:spPr>
          <a:xfrm>
            <a:off x="4716360" y="1268280"/>
            <a:ext cx="3419640" cy="2492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fig1"/>
          <p:cNvPicPr/>
          <p:nvPr/>
        </p:nvPicPr>
        <p:blipFill>
          <a:blip r:embed="rId3"/>
          <a:srcRect l="0" t="0" r="0" b="9501"/>
          <a:stretch/>
        </p:blipFill>
        <p:spPr>
          <a:xfrm>
            <a:off x="4716360" y="4292640"/>
            <a:ext cx="3505320" cy="2565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1"/>
          <p:cNvSpPr/>
          <p:nvPr/>
        </p:nvSpPr>
        <p:spPr>
          <a:xfrm>
            <a:off x="324000" y="1413000"/>
            <a:ext cx="431928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eléctromagnética = 0,3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mecánica en vacío = 27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cc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mecánica 85 % carga = 0,44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8172360" y="1341360"/>
            <a:ext cx="9716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1,35 p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85 %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0,37 p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vací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4788000" y="3789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Sin alimentación 95 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547640" y="64008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Desconexión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7236000" y="1484280"/>
            <a:ext cx="576000" cy="16574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7236000" y="5373720"/>
            <a:ext cx="576000" cy="93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Diferencia de tensión durante un hueco de tensión con rotación libre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043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4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rranque y re-arranque de moto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9" name="Picture 4" descr="fig4"/>
          <p:cNvPicPr/>
          <p:nvPr/>
        </p:nvPicPr>
        <p:blipFill>
          <a:blip r:embed="rId1"/>
          <a:srcRect l="0" t="0" r="0" b="7529"/>
          <a:stretch/>
        </p:blipFill>
        <p:spPr>
          <a:xfrm>
            <a:off x="4800600" y="3284640"/>
            <a:ext cx="4343400" cy="3349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fig1"/>
          <p:cNvPicPr/>
          <p:nvPr/>
        </p:nvPicPr>
        <p:blipFill>
          <a:blip r:embed="rId2"/>
          <a:srcRect l="0" t="0" r="0" b="10982"/>
          <a:stretch/>
        </p:blipFill>
        <p:spPr>
          <a:xfrm>
            <a:off x="250920" y="1413000"/>
            <a:ext cx="4248000" cy="29527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2"/>
          <p:cNvSpPr/>
          <p:nvPr/>
        </p:nvSpPr>
        <p:spPr>
          <a:xfrm>
            <a:off x="5219640" y="1989000"/>
            <a:ext cx="3635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eléctromagnética = 0,07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mecánica en corto = 0,1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(circuito cerrad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24000" y="4940280"/>
            <a:ext cx="434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ffff"/>
                </a:solidFill>
                <a:latin typeface="Times New Roman"/>
              </a:rPr>
              <a:t>Solo se presenta circuito abierto “puro”, cuando abre el contactor del motor, demás casos situación intermedia entre abierto y cortocircui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frente a huecos de tensión al 85, 43 y 30 %, 95 ms, carga 85 %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4" name="Picture 10" descr="fig5"/>
          <p:cNvPicPr/>
          <p:nvPr/>
        </p:nvPicPr>
        <p:blipFill>
          <a:blip r:embed="rId1"/>
          <a:srcRect l="0" t="0" r="0" b="13804"/>
          <a:stretch/>
        </p:blipFill>
        <p:spPr>
          <a:xfrm>
            <a:off x="179280" y="1700280"/>
            <a:ext cx="4680000" cy="3610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fig10"/>
          <p:cNvPicPr/>
          <p:nvPr/>
        </p:nvPicPr>
        <p:blipFill>
          <a:blip r:embed="rId2"/>
          <a:srcRect l="0" t="0" r="0" b="6660"/>
          <a:stretch/>
        </p:blipFill>
        <p:spPr>
          <a:xfrm>
            <a:off x="5435640" y="4194000"/>
            <a:ext cx="345600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13"/>
          <p:cNvGraphicFramePr/>
          <p:nvPr/>
        </p:nvGraphicFramePr>
        <p:xfrm>
          <a:off x="5148360" y="1773360"/>
          <a:ext cx="3168720" cy="20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773360"/>
                    <a:ext cx="316872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-arranque exitos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179280" y="1125360"/>
            <a:ext cx="4533840" cy="2869920"/>
            <a:chOff x="179280" y="1125360"/>
            <a:chExt cx="4533840" cy="2869920"/>
          </a:xfrm>
        </p:grpSpPr>
        <p:pic>
          <p:nvPicPr>
            <p:cNvPr id="260" name="Picture 13" descr="fig3"/>
            <p:cNvPicPr/>
            <p:nvPr/>
          </p:nvPicPr>
          <p:blipFill>
            <a:blip r:embed="rId1"/>
            <a:srcRect l="0" t="0" r="0" b="13669"/>
            <a:stretch/>
          </p:blipFill>
          <p:spPr>
            <a:xfrm>
              <a:off x="179280" y="1125360"/>
              <a:ext cx="4533840" cy="277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4"/>
            <p:cNvSpPr/>
            <p:nvPr/>
          </p:nvSpPr>
          <p:spPr>
            <a:xfrm>
              <a:off x="1874520" y="3721320"/>
              <a:ext cx="20116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Tiempo (segundo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Text Box 15"/>
            <p:cNvSpPr/>
            <p:nvPr/>
          </p:nvSpPr>
          <p:spPr>
            <a:xfrm>
              <a:off x="320040" y="1801440"/>
              <a:ext cx="365760" cy="127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Corriente (A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3" name="Group 16"/>
          <p:cNvGrpSpPr/>
          <p:nvPr/>
        </p:nvGrpSpPr>
        <p:grpSpPr>
          <a:xfrm>
            <a:off x="4800600" y="3500280"/>
            <a:ext cx="4343400" cy="3017880"/>
            <a:chOff x="4800600" y="3500280"/>
            <a:chExt cx="4343400" cy="3017880"/>
          </a:xfrm>
        </p:grpSpPr>
        <p:pic>
          <p:nvPicPr>
            <p:cNvPr id="264" name="Picture 17" descr="fig5"/>
            <p:cNvPicPr/>
            <p:nvPr/>
          </p:nvPicPr>
          <p:blipFill>
            <a:blip r:embed="rId2"/>
            <a:srcRect l="0" t="0" r="0" b="15454"/>
            <a:stretch/>
          </p:blipFill>
          <p:spPr>
            <a:xfrm>
              <a:off x="4800600" y="3500280"/>
              <a:ext cx="4343400" cy="28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18"/>
            <p:cNvSpPr/>
            <p:nvPr/>
          </p:nvSpPr>
          <p:spPr>
            <a:xfrm>
              <a:off x="6355080" y="6243840"/>
              <a:ext cx="18288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Tiempo (segundo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4800600" y="4231800"/>
              <a:ext cx="365760" cy="11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Tensión (V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Line 20"/>
            <p:cNvSpPr/>
            <p:nvPr/>
          </p:nvSpPr>
          <p:spPr>
            <a:xfrm>
              <a:off x="5166360" y="4323240"/>
              <a:ext cx="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Line 21"/>
          <p:cNvSpPr/>
          <p:nvPr/>
        </p:nvSpPr>
        <p:spPr>
          <a:xfrm>
            <a:off x="179280" y="3933720"/>
            <a:ext cx="1800360" cy="0"/>
          </a:xfrm>
          <a:prstGeom prst="line">
            <a:avLst/>
          </a:prstGeom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3851280" y="3933720"/>
            <a:ext cx="865080" cy="0"/>
          </a:xfrm>
          <a:prstGeom prst="line">
            <a:avLst/>
          </a:prstGeom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4788000" y="6381720"/>
            <a:ext cx="1584360" cy="0"/>
          </a:xfrm>
          <a:prstGeom prst="line">
            <a:avLst/>
          </a:prstGeom>
          <a:ln w="27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8172360" y="6381720"/>
            <a:ext cx="971640" cy="0"/>
          </a:xfrm>
          <a:prstGeom prst="line">
            <a:avLst/>
          </a:prstGeom>
          <a:ln w="27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squema típico de uso de mitigad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4" name="Picture 7" descr="abb3c"/>
          <p:cNvPicPr/>
          <p:nvPr/>
        </p:nvPicPr>
        <p:blipFill>
          <a:blip r:embed="rId1"/>
          <a:srcRect l="1121" t="1292" r="1401" b="0"/>
          <a:stretch/>
        </p:blipFill>
        <p:spPr>
          <a:xfrm>
            <a:off x="1258920" y="789120"/>
            <a:ext cx="6912000" cy="606888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>
            <a:off x="8101080" y="6021360"/>
            <a:ext cx="0" cy="360360"/>
          </a:xfrm>
          <a:prstGeom prst="line">
            <a:avLst/>
          </a:prstGeom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e-arranque fallid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3" name="Picture 8" descr="fig8"/>
          <p:cNvPicPr/>
          <p:nvPr/>
        </p:nvPicPr>
        <p:blipFill>
          <a:blip r:embed="rId1"/>
          <a:srcRect l="0" t="0" r="0" b="11539"/>
          <a:stretch/>
        </p:blipFill>
        <p:spPr>
          <a:xfrm>
            <a:off x="179280" y="1341360"/>
            <a:ext cx="4105440" cy="316548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1"/>
          <p:cNvGrpSpPr/>
          <p:nvPr/>
        </p:nvGrpSpPr>
        <p:grpSpPr>
          <a:xfrm>
            <a:off x="4500720" y="3357720"/>
            <a:ext cx="4643280" cy="3250800"/>
            <a:chOff x="4500720" y="3357720"/>
            <a:chExt cx="4643280" cy="3250800"/>
          </a:xfrm>
        </p:grpSpPr>
        <p:pic>
          <p:nvPicPr>
            <p:cNvPr id="275" name="Picture 12" descr="fig6"/>
            <p:cNvPicPr/>
            <p:nvPr/>
          </p:nvPicPr>
          <p:blipFill>
            <a:blip r:embed="rId2"/>
            <a:srcRect l="0" t="0" r="0" b="15192"/>
            <a:stretch/>
          </p:blipFill>
          <p:spPr>
            <a:xfrm>
              <a:off x="4500720" y="3357720"/>
              <a:ext cx="4643280" cy="30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13"/>
            <p:cNvSpPr/>
            <p:nvPr/>
          </p:nvSpPr>
          <p:spPr>
            <a:xfrm>
              <a:off x="6287400" y="6321960"/>
              <a:ext cx="1880640" cy="28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Tiempo (segundo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4594680" y="4122720"/>
              <a:ext cx="375840" cy="172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Tensión (V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8" name="Line 15"/>
          <p:cNvSpPr/>
          <p:nvPr/>
        </p:nvSpPr>
        <p:spPr>
          <a:xfrm>
            <a:off x="4500720" y="6453360"/>
            <a:ext cx="1800000" cy="0"/>
          </a:xfrm>
          <a:prstGeom prst="line">
            <a:avLst/>
          </a:prstGeom>
          <a:ln w="30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8101080" y="6453360"/>
            <a:ext cx="1042920" cy="0"/>
          </a:xfrm>
          <a:prstGeom prst="line">
            <a:avLst/>
          </a:prstGeom>
          <a:ln w="30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nergía Específica (en A2 s)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ara diferentes eventos</a:t>
            </a: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81" name="Object 4"/>
          <p:cNvGraphicFramePr/>
          <p:nvPr/>
        </p:nvGraphicFramePr>
        <p:xfrm>
          <a:off x="684360" y="1579680"/>
          <a:ext cx="785160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79680"/>
                    <a:ext cx="785160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fectos a considerar 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 el estudio de la prote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84" name="Picture 4" descr="fig10"/>
          <p:cNvPicPr/>
          <p:nvPr/>
        </p:nvPicPr>
        <p:blipFill>
          <a:blip r:embed="rId1"/>
          <a:srcRect l="0" t="0" r="0" b="8528"/>
          <a:stretch/>
        </p:blipFill>
        <p:spPr>
          <a:xfrm>
            <a:off x="228600" y="1600200"/>
            <a:ext cx="4267080" cy="3290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fig11"/>
          <p:cNvPicPr/>
          <p:nvPr/>
        </p:nvPicPr>
        <p:blipFill>
          <a:blip r:embed="rId2"/>
          <a:srcRect l="0" t="0" r="0" b="10886"/>
          <a:stretch/>
        </p:blipFill>
        <p:spPr>
          <a:xfrm>
            <a:off x="4724280" y="3124080"/>
            <a:ext cx="42674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Influencia del resto de la carg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148000" y="1916280"/>
            <a:ext cx="399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PCC: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punto de acoplamiento comú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lang="es-ES_tradnl" sz="2800" spc="-1" strike="noStrike" baseline="-25000">
                <a:solidFill>
                  <a:srgbClr val="ffffcc"/>
                </a:solidFill>
                <a:latin typeface="Times New Roman"/>
              </a:rPr>
              <a:t>ut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otor jaula de ardilla de 5,5 kW, 1500 rpm, 380 V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lang="es-ES_tradnl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otor auxiliar con potencia de 1 a 10 p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impedancia del sistema (efecto de recuperació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179280" y="1916280"/>
            <a:ext cx="496908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9" name="Group 20"/>
          <p:cNvGrpSpPr/>
          <p:nvPr/>
        </p:nvGrpSpPr>
        <p:grpSpPr>
          <a:xfrm>
            <a:off x="324000" y="2421000"/>
            <a:ext cx="4463640" cy="2520360"/>
            <a:chOff x="324000" y="2421000"/>
            <a:chExt cx="4463640" cy="2520360"/>
          </a:xfrm>
        </p:grpSpPr>
        <p:sp>
          <p:nvSpPr>
            <p:cNvPr id="290" name="Text Box 21"/>
            <p:cNvSpPr/>
            <p:nvPr/>
          </p:nvSpPr>
          <p:spPr>
            <a:xfrm>
              <a:off x="2930760" y="4555800"/>
              <a:ext cx="12027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Times New Roman"/>
                </a:rPr>
                <a:t>en ensay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Oval 22"/>
            <p:cNvSpPr/>
            <p:nvPr/>
          </p:nvSpPr>
          <p:spPr>
            <a:xfrm>
              <a:off x="366120" y="3566880"/>
              <a:ext cx="673920" cy="70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" sz="2000" spc="-1" strike="noStrike">
                  <a:solidFill>
                    <a:srgbClr val="660033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Line 23"/>
            <p:cNvSpPr/>
            <p:nvPr/>
          </p:nvSpPr>
          <p:spPr>
            <a:xfrm>
              <a:off x="1040040" y="393660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>
              <a:off x="2401920" y="3938040"/>
              <a:ext cx="41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Rectangle 25"/>
            <p:cNvSpPr/>
            <p:nvPr/>
          </p:nvSpPr>
          <p:spPr>
            <a:xfrm>
              <a:off x="1713240" y="3641040"/>
              <a:ext cx="67392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s-ES" sz="2000" spc="-1" strike="noStrike">
                  <a:solidFill>
                    <a:srgbClr val="660033"/>
                  </a:solidFill>
                  <a:latin typeface="Times New Roman"/>
                </a:rPr>
                <a:t>Z</a:t>
              </a:r>
              <a:r>
                <a:rPr b="0" lang="es-ES" sz="2000" spc="-1" strike="noStrike" baseline="-25000">
                  <a:solidFill>
                    <a:srgbClr val="6600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2429640" y="2421000"/>
              <a:ext cx="842400" cy="53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0" lang="es-MX" sz="1600" spc="-1" strike="noStrike">
                  <a:solidFill>
                    <a:srgbClr val="660033"/>
                  </a:solidFill>
                  <a:latin typeface="Times New Roman"/>
                </a:rPr>
                <a:t>P</a:t>
              </a:r>
              <a:r>
                <a:rPr b="0" lang="es-ES" sz="1600" spc="-1" strike="noStrike">
                  <a:solidFill>
                    <a:srgbClr val="660033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Oval 27"/>
            <p:cNvSpPr/>
            <p:nvPr/>
          </p:nvSpPr>
          <p:spPr>
            <a:xfrm>
              <a:off x="4113720" y="4188960"/>
              <a:ext cx="673920" cy="70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Times New Roman"/>
                </a:rPr>
                <a:t>M</a:t>
              </a:r>
              <a:r>
                <a:rPr b="0" lang="es-MX" sz="1600" spc="-1" strike="noStrike" baseline="-25000">
                  <a:solidFill>
                    <a:srgbClr val="660033"/>
                  </a:solidFill>
                  <a:latin typeface="Times New Roman"/>
                </a:rPr>
                <a:t>u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Oval 28"/>
            <p:cNvSpPr/>
            <p:nvPr/>
          </p:nvSpPr>
          <p:spPr>
            <a:xfrm>
              <a:off x="4113720" y="3009960"/>
              <a:ext cx="631800" cy="663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Line 29"/>
            <p:cNvSpPr/>
            <p:nvPr/>
          </p:nvSpPr>
          <p:spPr>
            <a:xfrm flipH="1">
              <a:off x="2850480" y="3335400"/>
              <a:ext cx="12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30"/>
            <p:cNvSpPr/>
            <p:nvPr/>
          </p:nvSpPr>
          <p:spPr>
            <a:xfrm flipH="1">
              <a:off x="2850480" y="4555800"/>
              <a:ext cx="12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Text Box 31"/>
            <p:cNvSpPr/>
            <p:nvPr/>
          </p:nvSpPr>
          <p:spPr>
            <a:xfrm>
              <a:off x="3057120" y="3366720"/>
              <a:ext cx="8524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660033"/>
                  </a:solidFill>
                  <a:latin typeface="Times New Roman"/>
                </a:rPr>
                <a:t>auxilia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Line 32"/>
            <p:cNvSpPr/>
            <p:nvPr/>
          </p:nvSpPr>
          <p:spPr>
            <a:xfrm>
              <a:off x="2834640" y="2940480"/>
              <a:ext cx="0" cy="178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33"/>
            <p:cNvSpPr/>
            <p:nvPr/>
          </p:nvSpPr>
          <p:spPr>
            <a:xfrm>
              <a:off x="324000" y="4276440"/>
              <a:ext cx="126252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Times New Roman"/>
                </a:rPr>
                <a:t>suministr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Text Box 34"/>
            <p:cNvSpPr/>
            <p:nvPr/>
          </p:nvSpPr>
          <p:spPr>
            <a:xfrm>
              <a:off x="4139640" y="3124440"/>
              <a:ext cx="5781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100" spc="-1" strike="noStrike">
                  <a:solidFill>
                    <a:srgbClr val="660033"/>
                  </a:solidFill>
                  <a:latin typeface="Times New Roman"/>
                </a:rPr>
                <a:t>M</a:t>
              </a:r>
              <a:r>
                <a:rPr b="0" lang="es-MX" sz="2100" spc="-1" strike="noStrike" baseline="-25000">
                  <a:solidFill>
                    <a:srgbClr val="660033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cc00"/>
                </a:solidFill>
                <a:latin typeface="Times New Roman"/>
              </a:rPr>
              <a:t>Proceso de arranque del motor bajo ensayo solo y con el motor auxiliar de 10 pu, V=0,96 pu</a:t>
            </a:r>
            <a:endParaRPr b="0" lang="en-US" sz="3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179280" y="1268280"/>
          <a:ext cx="4321440" cy="25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4321440" cy="25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8"/>
          <p:cNvGraphicFramePr/>
          <p:nvPr/>
        </p:nvGraphicFramePr>
        <p:xfrm>
          <a:off x="4356000" y="3989520"/>
          <a:ext cx="4788000" cy="271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989520"/>
                    <a:ext cx="478800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Proceso de re-arranque del motor bajo ensayo conjuntamente con el motor auxiliar, ambos con 100 % de carga, luego de un microcorte (0 V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10" name="Object 8"/>
          <p:cNvGraphicFramePr/>
          <p:nvPr/>
        </p:nvGraphicFramePr>
        <p:xfrm>
          <a:off x="3419640" y="2019240"/>
          <a:ext cx="554652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19240"/>
                    <a:ext cx="5546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Picture 9" descr=""/>
          <p:cNvPicPr/>
          <p:nvPr/>
        </p:nvPicPr>
        <p:blipFill>
          <a:blip r:embed="rId3"/>
          <a:srcRect l="6730" t="3620" r="3511" b="0"/>
          <a:stretch/>
        </p:blipFill>
        <p:spPr>
          <a:xfrm>
            <a:off x="179280" y="1844640"/>
            <a:ext cx="3024360" cy="2043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1"/>
          <p:cNvSpPr/>
          <p:nvPr/>
        </p:nvSpPr>
        <p:spPr>
          <a:xfrm>
            <a:off x="179280" y="3789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icrocorte de 72 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250920" y="6400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icrocorte de 130 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15" name="Object 13"/>
          <p:cNvGraphicFramePr/>
          <p:nvPr/>
        </p:nvGraphicFramePr>
        <p:xfrm>
          <a:off x="179280" y="4292640"/>
          <a:ext cx="2952720" cy="2111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292640"/>
                    <a:ext cx="29527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Comportamiento conjunto, con microcorte (0V) y hueco de tensión al 30 % ambos de 130 m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179280" y="1341360"/>
          <a:ext cx="417672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417672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7"/>
          <p:cNvGraphicFramePr/>
          <p:nvPr/>
        </p:nvGraphicFramePr>
        <p:xfrm>
          <a:off x="4643280" y="3846600"/>
          <a:ext cx="4500720" cy="3011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846600"/>
                    <a:ext cx="4500720" cy="30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367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Energía específica en función del tipo de event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500720" y="692280"/>
          <a:ext cx="4641840" cy="5516280"/>
        </p:xfrm>
        <a:graphic>
          <a:graphicData uri="http://schemas.openxmlformats.org/drawingml/2006/table">
            <a:tbl>
              <a:tblPr/>
              <a:tblGrid>
                <a:gridCol w="1726920"/>
                <a:gridCol w="971640"/>
                <a:gridCol w="971640"/>
                <a:gridCol w="971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erturbatio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pecific energy (A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) for given under-test motor load percentag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.i. 72 ms, 365 V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4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.i. 130 ms, 365 V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49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6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.i. 200 ms, 365 V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7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69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.i. 72 ms, 395 V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6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1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0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.s. 30 %, 130 ms, 365 V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9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6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.s. 365 V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5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9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.s. 365 V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309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33ccff"/>
                          </a:solidFill>
                          <a:latin typeface="Times New Roman"/>
                          <a:ea typeface="Times New Roman"/>
                        </a:rPr>
                        <a:t>609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Object 59"/>
          <p:cNvGraphicFramePr/>
          <p:nvPr/>
        </p:nvGraphicFramePr>
        <p:xfrm>
          <a:off x="0" y="1924200"/>
          <a:ext cx="428472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5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4200"/>
                    <a:ext cx="42847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63"/>
          <p:cNvSpPr/>
          <p:nvPr/>
        </p:nvSpPr>
        <p:spPr>
          <a:xfrm>
            <a:off x="179280" y="4797360"/>
            <a:ext cx="57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Note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.i. Short Interruption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.s. Voltage Sag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.s. Direct Start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.s. System Start (already connected moto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Procedimiento para determinar el tiempo máximo de motor conectad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108000" y="1557360"/>
          <a:ext cx="4464000" cy="215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7360"/>
                    <a:ext cx="446400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6"/>
          <p:cNvSpPr/>
          <p:nvPr/>
        </p:nvSpPr>
        <p:spPr>
          <a:xfrm>
            <a:off x="4572000" y="184464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4716360" y="1413000"/>
            <a:ext cx="4392720" cy="54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1. Curva evolvente de inmunidad de proces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2. Curva equivalente de motor en base a su velocidad y cupl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Δs = (1-V</a:t>
            </a:r>
            <a:r>
              <a:rPr b="0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)/(2 H) Δ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Donde: Δs = incremento de deslizamiento, V = magnitud del hueco de tensión, H = constante de inercia, Δt = dur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3. Pérdida de magnetización por aporte a la perturb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4. Separación de fases alimentación – auto generad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5. Efecto térmico y dinámico del re-arran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6. Influencia del resto de la carga (hot load pickup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3" name="Picture 11" descr=""/>
          <p:cNvPicPr/>
          <p:nvPr/>
        </p:nvPicPr>
        <p:blipFill>
          <a:blip r:embed="rId3"/>
          <a:srcRect l="3518" t="6809" r="2933" b="1702"/>
          <a:stretch/>
        </p:blipFill>
        <p:spPr>
          <a:xfrm>
            <a:off x="179280" y="4005360"/>
            <a:ext cx="4464000" cy="25113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2"/>
          <p:cNvSpPr/>
          <p:nvPr/>
        </p:nvSpPr>
        <p:spPr>
          <a:xfrm>
            <a:off x="179280" y="1557360"/>
            <a:ext cx="360360" cy="459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24000" y="6021360"/>
            <a:ext cx="360360" cy="459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-9360" y="6553080"/>
            <a:ext cx="509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cc00"/>
                </a:solidFill>
                <a:latin typeface="Times New Roman"/>
              </a:rPr>
              <a:t>Analogía con curva CBEMA para almacenamiento en forma inerci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fecto de la recuperación del sistema sobre la protección del motor de inducción, luego de un cortocircuit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19280" y="2349360"/>
            <a:ext cx="3924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 El motor suministra corriente al cortocircuito hasta la disipación de la totalidad de la energía almacenada en forma magnétic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imes New Roman"/>
              </a:rPr>
              <a:t>5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 Corriente de re-arranque o re-aceleració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9" name="Picture 4" descr="fig4"/>
          <p:cNvPicPr/>
          <p:nvPr/>
        </p:nvPicPr>
        <p:blipFill>
          <a:blip r:embed="rId1"/>
          <a:srcRect l="0" t="0" r="0" b="7529"/>
          <a:stretch/>
        </p:blipFill>
        <p:spPr>
          <a:xfrm>
            <a:off x="179280" y="2349360"/>
            <a:ext cx="4969080" cy="2016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2"/>
          <a:srcRect l="0" t="0" r="-5878" b="0"/>
          <a:stretch/>
        </p:blipFill>
        <p:spPr>
          <a:xfrm>
            <a:off x="468360" y="4789440"/>
            <a:ext cx="4174920" cy="17524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6"/>
          <p:cNvSpPr/>
          <p:nvPr/>
        </p:nvSpPr>
        <p:spPr>
          <a:xfrm>
            <a:off x="250920" y="2421000"/>
            <a:ext cx="360360" cy="459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468360" y="6524640"/>
            <a:ext cx="417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Transformador ferroresonante</a:t>
            </a:r>
            <a:br>
              <a:rPr sz="4000"/>
            </a:b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Monofásicos, potencia máxima 7,5 kVA, utilizable 75 %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324000" y="1197000"/>
            <a:ext cx="84960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0" name="Group 16"/>
          <p:cNvGrpSpPr/>
          <p:nvPr/>
        </p:nvGrpSpPr>
        <p:grpSpPr>
          <a:xfrm>
            <a:off x="4716360" y="3715920"/>
            <a:ext cx="4076640" cy="2185920"/>
            <a:chOff x="4716360" y="3715920"/>
            <a:chExt cx="4076640" cy="2185920"/>
          </a:xfrm>
        </p:grpSpPr>
        <p:pic>
          <p:nvPicPr>
            <p:cNvPr id="111" name="Picture 17" descr="new2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4914360" y="3792240"/>
              <a:ext cx="3878640" cy="19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8"/>
            <p:cNvSpPr/>
            <p:nvPr/>
          </p:nvSpPr>
          <p:spPr>
            <a:xfrm>
              <a:off x="5722200" y="5627880"/>
              <a:ext cx="24688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Carga del transformador ferroresonante (%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 rot="10800000">
              <a:off x="4716360" y="3715920"/>
              <a:ext cx="365760" cy="21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Tensión de alimentación (% mínimo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468000" y="3716280"/>
            <a:ext cx="3725640" cy="2041200"/>
            <a:chOff x="468000" y="3716280"/>
            <a:chExt cx="3725640" cy="2041200"/>
          </a:xfrm>
        </p:grpSpPr>
        <p:pic>
          <p:nvPicPr>
            <p:cNvPr id="115" name="Picture 21" descr="new3"/>
            <p:cNvPicPr/>
            <p:nvPr/>
          </p:nvPicPr>
          <p:blipFill>
            <a:blip r:embed="rId2"/>
            <a:stretch/>
          </p:blipFill>
          <p:spPr>
            <a:xfrm>
              <a:off x="643320" y="3716280"/>
              <a:ext cx="355032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22"/>
            <p:cNvSpPr/>
            <p:nvPr/>
          </p:nvSpPr>
          <p:spPr>
            <a:xfrm>
              <a:off x="2022480" y="5483520"/>
              <a:ext cx="10054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Tiempo (ciclo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Text Box 23"/>
            <p:cNvSpPr/>
            <p:nvPr/>
          </p:nvSpPr>
          <p:spPr>
            <a:xfrm rot="10800000">
              <a:off x="468000" y="4020480"/>
              <a:ext cx="36540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Tensión (%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8" name="Group 24"/>
          <p:cNvGrpSpPr/>
          <p:nvPr/>
        </p:nvGrpSpPr>
        <p:grpSpPr>
          <a:xfrm>
            <a:off x="2700360" y="1268280"/>
            <a:ext cx="3527280" cy="1944720"/>
            <a:chOff x="2700360" y="1268280"/>
            <a:chExt cx="3527280" cy="1944720"/>
          </a:xfrm>
        </p:grpSpPr>
        <p:pic>
          <p:nvPicPr>
            <p:cNvPr id="119" name="Picture 25" descr="new1"/>
            <p:cNvPicPr/>
            <p:nvPr/>
          </p:nvPicPr>
          <p:blipFill>
            <a:blip r:embed="rId3"/>
            <a:stretch/>
          </p:blipFill>
          <p:spPr>
            <a:xfrm>
              <a:off x="2808360" y="1268280"/>
              <a:ext cx="33804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26"/>
            <p:cNvSpPr/>
            <p:nvPr/>
          </p:nvSpPr>
          <p:spPr>
            <a:xfrm>
              <a:off x="2700360" y="1383480"/>
              <a:ext cx="1208520" cy="53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220011"/>
                  </a:solidFill>
                  <a:latin typeface="Times New Roman"/>
                </a:rPr>
                <a:t>Alimentación         WP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220011"/>
                  </a:solidFill>
                  <a:latin typeface="Tahoma"/>
                </a:rPr>
                <a:t>Arrollamiento primario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5577840" y="1916280"/>
              <a:ext cx="649800" cy="74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220011"/>
                  </a:solidFill>
                  <a:latin typeface="Times New Roman"/>
                </a:rPr>
                <a:t>Capacitor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220011"/>
                  </a:solidFill>
                  <a:latin typeface="Tahoma"/>
                </a:rPr>
                <a:t>Carg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4278240" y="1703160"/>
              <a:ext cx="1206720" cy="2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220011"/>
                  </a:solidFill>
                  <a:latin typeface="Times New Roman"/>
                </a:rPr>
                <a:t>Arrollam. compensador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>
              <a:off x="3071520" y="2449080"/>
              <a:ext cx="835200" cy="42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220011"/>
                  </a:solidFill>
                  <a:latin typeface="Times New Roman"/>
                </a:rPr>
                <a:t>Arrollamiento neutralizador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Text Box 30"/>
            <p:cNvSpPr/>
            <p:nvPr/>
          </p:nvSpPr>
          <p:spPr>
            <a:xfrm>
              <a:off x="4278240" y="2342520"/>
              <a:ext cx="835200" cy="46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220011"/>
                  </a:solidFill>
                  <a:latin typeface="Times New Roman"/>
                </a:rPr>
                <a:t>Arrollamiento secundario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4649760" y="2129400"/>
              <a:ext cx="402120" cy="24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220011"/>
                  </a:solidFill>
                  <a:latin typeface="Times New Roman"/>
                </a:rPr>
                <a:t>WS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4276440" y="2766600"/>
              <a:ext cx="556920" cy="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>
              <a:off x="4278240" y="1703160"/>
              <a:ext cx="0" cy="106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69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Desaceleración y Conexión fuera de fas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40000" y="1268280"/>
            <a:ext cx="4103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ω (t) = ω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imes New Roman"/>
              </a:rPr>
              <a:t>-τ1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t + A (1 – e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imes New Roman"/>
              </a:rPr>
              <a:t>-τ1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t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= (V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ω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/ (J ω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ω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= velocidad sincr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 = tensión de suminist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τ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= constante de tiempo mecá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= resistencia del circuito rotór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= cupla resul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J = momento de inerci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rcRect l="0" t="0" r="-9408" b="0"/>
          <a:stretch/>
        </p:blipFill>
        <p:spPr>
          <a:xfrm>
            <a:off x="179280" y="1052640"/>
            <a:ext cx="4464000" cy="2381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033800" cy="25765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7"/>
          <p:cNvSpPr/>
          <p:nvPr/>
        </p:nvSpPr>
        <p:spPr>
          <a:xfrm>
            <a:off x="468360" y="3500280"/>
            <a:ext cx="358560" cy="459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UPS simple e híbrida</a:t>
            </a:r>
            <a:br>
              <a:rPr sz="4000"/>
            </a:b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ndimiento del 80 al 93 %, conmutan en 8 m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9" name="Object 8"/>
          <p:cNvGraphicFramePr/>
          <p:nvPr/>
        </p:nvGraphicFramePr>
        <p:xfrm>
          <a:off x="324000" y="1413000"/>
          <a:ext cx="6840360" cy="21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68403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2"/>
          <p:cNvGraphicFramePr/>
          <p:nvPr/>
        </p:nvGraphicFramePr>
        <p:xfrm>
          <a:off x="1547640" y="4127400"/>
          <a:ext cx="7270920" cy="223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127400"/>
                    <a:ext cx="727092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5"/>
          <p:cNvSpPr/>
          <p:nvPr/>
        </p:nvSpPr>
        <p:spPr>
          <a:xfrm>
            <a:off x="5292720" y="242100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220011"/>
                </a:solidFill>
                <a:latin typeface="Times New Roman"/>
              </a:rPr>
              <a:t>Bypass manual o automátic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Equipos moto-generad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cc00"/>
                </a:solidFill>
                <a:latin typeface="Times New Roman"/>
              </a:rPr>
              <a:t>Ventaja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vita uso de bater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Aísla a la carga de la aliment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nterrumpe el camino para armónicas e interferenci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ermite uso de nuevas referencias de tier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Amplio rango de potencias disponibles: 5 a 300 k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ffff"/>
                </a:solidFill>
                <a:latin typeface="Times New Roman"/>
              </a:rPr>
              <a:t>Convencionales o solo inerciales</a:t>
            </a: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: entregan potencia desde 100 % hasta 90 % de n</a:t>
            </a:r>
            <a:r>
              <a:rPr b="0" lang="es-AR" sz="28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, respaldan carga de 10 a 20 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ffff"/>
                </a:solidFill>
                <a:latin typeface="Times New Roman"/>
              </a:rPr>
              <a:t>De polos escritos o excitación electrónica</a:t>
            </a: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: entregan potencia desde 100 % hasta 50 % de n</a:t>
            </a:r>
            <a:r>
              <a:rPr b="0" lang="es-AR" sz="28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, respaldan carga de 15 a 45 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mutadores electrónic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7" name="Picture 8" descr="abb12"/>
          <p:cNvPicPr/>
          <p:nvPr/>
        </p:nvPicPr>
        <p:blipFill>
          <a:blip r:embed="rId1"/>
          <a:stretch/>
        </p:blipFill>
        <p:spPr>
          <a:xfrm>
            <a:off x="360360" y="990720"/>
            <a:ext cx="4791240" cy="2781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4000680" y="1812960"/>
            <a:ext cx="761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220011"/>
                </a:solidFill>
                <a:latin typeface="Times New Roman"/>
              </a:rPr>
              <a:t>Alimentación ininterrumpida</a:t>
            </a: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348000" y="2637000"/>
            <a:ext cx="8222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220011"/>
                </a:solidFill>
                <a:latin typeface="Times New Roman"/>
              </a:rPr>
              <a:t>Carga crítica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762440" y="3459240"/>
            <a:ext cx="4240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5119560" y="3260880"/>
            <a:ext cx="4024440" cy="3597120"/>
            <a:chOff x="5119560" y="3260880"/>
            <a:chExt cx="4024440" cy="3597120"/>
          </a:xfrm>
        </p:grpSpPr>
        <p:pic>
          <p:nvPicPr>
            <p:cNvPr id="142" name="Picture 13" descr="abb11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119560" y="3260880"/>
              <a:ext cx="3993840" cy="35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4"/>
            <p:cNvSpPr/>
            <p:nvPr/>
          </p:nvSpPr>
          <p:spPr>
            <a:xfrm>
              <a:off x="8869680" y="326088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4" name="Text Box 15"/>
          <p:cNvSpPr/>
          <p:nvPr/>
        </p:nvSpPr>
        <p:spPr>
          <a:xfrm>
            <a:off x="5724360" y="981000"/>
            <a:ext cx="288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t = 4 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480 V, 5.000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27 kV, 1.200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38 kV, 600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68360" y="4221000"/>
            <a:ext cx="4464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Tiempo de conmut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Electromecánicos: 1 a 2 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ecánicos alta velocidad 20 a 30 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ecánicos – electrónicos 4 a 8 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6804000" y="5300640"/>
            <a:ext cx="792360" cy="1368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estaurador dinámico de tensión, DVR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8" name="Picture 4" descr="abb4"/>
          <p:cNvPicPr/>
          <p:nvPr/>
        </p:nvPicPr>
        <p:blipFill>
          <a:blip r:embed="rId1"/>
          <a:srcRect l="0" t="0" r="0" b="9950"/>
          <a:stretch/>
        </p:blipFill>
        <p:spPr>
          <a:xfrm>
            <a:off x="152280" y="1219320"/>
            <a:ext cx="4496040" cy="327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abb7"/>
          <p:cNvPicPr/>
          <p:nvPr/>
        </p:nvPicPr>
        <p:blipFill>
          <a:blip r:embed="rId2"/>
          <a:srcRect l="4703" t="23102" r="0" b="3188"/>
          <a:stretch/>
        </p:blipFill>
        <p:spPr>
          <a:xfrm>
            <a:off x="4716360" y="2949480"/>
            <a:ext cx="4427640" cy="3633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4788000" y="1125360"/>
            <a:ext cx="43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Potencia protegida 4 M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Energía almacenada 194 kJ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recuencia de operación 1,5 kHz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0920" y="4797360"/>
            <a:ext cx="374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Ejemplo comercial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Soporta huecos de tensión 50 % monofásicos o 62 % trifásicos durante 150 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Intensificador estátic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250920" y="1413000"/>
            <a:ext cx="4139640" cy="3240000"/>
            <a:chOff x="250920" y="1413000"/>
            <a:chExt cx="4139640" cy="3240000"/>
          </a:xfrm>
        </p:grpSpPr>
        <p:pic>
          <p:nvPicPr>
            <p:cNvPr id="154" name="Picture 12" descr="svb"/>
            <p:cNvPicPr/>
            <p:nvPr/>
          </p:nvPicPr>
          <p:blipFill>
            <a:blip r:embed="rId1"/>
            <a:srcRect l="0" t="0" r="0" b="54962"/>
            <a:stretch/>
          </p:blipFill>
          <p:spPr>
            <a:xfrm>
              <a:off x="250920" y="1413000"/>
              <a:ext cx="40856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/>
            <p:cNvSpPr/>
            <p:nvPr/>
          </p:nvSpPr>
          <p:spPr>
            <a:xfrm>
              <a:off x="361800" y="1981800"/>
              <a:ext cx="1066320" cy="44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220011"/>
                  </a:solidFill>
                  <a:latin typeface="Times New Roman"/>
                </a:rPr>
                <a:t>ENTRAD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3205800" y="3020400"/>
              <a:ext cx="473760" cy="89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220011"/>
                  </a:solidFill>
                  <a:latin typeface="Times New Roman"/>
                </a:rPr>
                <a:t>FILTRO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3916800" y="3020400"/>
              <a:ext cx="473760" cy="89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220011"/>
                  </a:solidFill>
                  <a:latin typeface="Times New Roman"/>
                </a:rPr>
                <a:t>CARGA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80240" y="2426760"/>
              <a:ext cx="4737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59" name="Picture 31" descr="svb"/>
          <p:cNvPicPr/>
          <p:nvPr/>
        </p:nvPicPr>
        <p:blipFill>
          <a:blip r:embed="rId2"/>
          <a:srcRect l="0" t="51692" r="0" b="8305"/>
          <a:stretch/>
        </p:blipFill>
        <p:spPr>
          <a:xfrm>
            <a:off x="4427640" y="2133720"/>
            <a:ext cx="4465440" cy="4319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2"/>
          <p:cNvSpPr/>
          <p:nvPr/>
        </p:nvSpPr>
        <p:spPr>
          <a:xfrm>
            <a:off x="539640" y="50846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Sin almacenamiento, tensión mínima residual 40 a 50 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243000" y="885960"/>
            <a:ext cx="40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6ffff"/>
                </a:solidFill>
                <a:latin typeface="Times New Roman"/>
              </a:rPr>
              <a:t>Conducción parcial, genera armónic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4562280" y="162864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6ffff"/>
                </a:solidFill>
                <a:latin typeface="Times New Roman"/>
              </a:rPr>
              <a:t>Conducción plena, regulación por sal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10-08-25T21:58:48Z</dcterms:modified>
  <cp:revision>149</cp:revision>
  <dc:subject/>
  <dc:title>Sin título de diapositiva</dc:title>
</cp:coreProperties>
</file>