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xlsx" ContentType="application/vnd.openxmlformats-officedocument.spreadsheetml.sheet"/>
  <Override PartName="/ppt/media/image59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25.wmf" ContentType="image/x-wmf"/>
  <Override PartName="/ppt/media/image68.png" ContentType="image/png"/>
  <Override PartName="/ppt/media/image44.wmf" ContentType="image/x-wmf"/>
  <Override PartName="/ppt/media/image41.png" ContentType="image/png"/>
  <Override PartName="/ppt/media/image42.wmf" ContentType="image/x-wmf"/>
  <Override PartName="/ppt/media/image85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93.png" ContentType="image/png"/>
  <Override PartName="/ppt/media/image35.png" ContentType="image/png"/>
  <Override PartName="/ppt/media/image34.wmf" ContentType="image/x-wmf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56.jpeg" ContentType="image/jpeg"/>
  <Override PartName="/ppt/media/image53.png" ContentType="image/png"/>
  <Override PartName="/ppt/media/image33.png" ContentType="image/png"/>
  <Override PartName="/ppt/media/image3.png" ContentType="image/png"/>
  <Override PartName="/ppt/media/image80.png" ContentType="image/png"/>
  <Override PartName="/ppt/media/image45.jpeg" ContentType="image/jpeg"/>
  <Override PartName="/ppt/media/image16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69.png" ContentType="image/png"/>
  <Override PartName="/ppt/media/image2.png" ContentType="image/png"/>
  <Override PartName="/ppt/media/image62.wmf" ContentType="image/x-wmf"/>
  <Override PartName="/ppt/media/image64.png" ContentType="image/png"/>
  <Override PartName="/ppt/media/image66.png" ContentType="image/png"/>
  <Override PartName="/ppt/media/image79.wmf" ContentType="image/x-wmf"/>
  <Override PartName="/ppt/media/image90.png" ContentType="image/png"/>
  <Override PartName="/ppt/media/image88.wmf" ContentType="image/x-wmf"/>
  <Override PartName="/ppt/media/image23.png" ContentType="image/png"/>
  <Override PartName="/ppt/media/image60.png" ContentType="image/png"/>
  <Override PartName="/ppt/media/image78.wmf" ContentType="image/x-wmf"/>
  <Override PartName="/ppt/media/image91.png" ContentType="image/png"/>
  <Override PartName="/ppt/media/image89.png" ContentType="image/png"/>
  <Override PartName="/ppt/media/image13.wmf" ContentType="image/x-wmf"/>
  <Override PartName="/ppt/media/image50.jpeg" ContentType="image/jpeg"/>
  <Override PartName="/ppt/media/image52.png" ContentType="image/png"/>
  <Override PartName="/ppt/media/image70.png" ContentType="image/png"/>
  <Override PartName="/ppt/media/image81.png" ContentType="image/png"/>
  <Override PartName="/ppt/media/image7.jpeg" ContentType="image/jpeg"/>
  <Override PartName="/ppt/media/image76.wmf" ContentType="image/x-wmf"/>
  <Override PartName="/ppt/media/image67.png" ContentType="image/png"/>
  <Override PartName="/ppt/media/image87.wmf" ContentType="image/x-wmf"/>
  <Override PartName="/ppt/media/image86.png" ContentType="image/png"/>
  <Override PartName="/ppt/media/image84.png" ContentType="image/png"/>
  <Override PartName="/ppt/media/image72.png" ContentType="image/png"/>
  <Override PartName="/ppt/media/image29.jpeg" ContentType="image/jpeg"/>
  <Override PartName="/ppt/media/image82.png" ContentType="image/png"/>
  <Override PartName="/ppt/media/image77.wmf" ContentType="image/x-wmf"/>
  <Override PartName="/ppt/media/image58.png" ContentType="image/png"/>
  <Override PartName="/ppt/media/image4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83.wmf" ContentType="image/x-wmf"/>
  <Override PartName="/ppt/media/image18.wmf" ContentType="image/x-wmf"/>
  <Override PartName="/ppt/media/image5.jpeg" ContentType="image/jpeg"/>
  <Override PartName="/ppt/media/image54.png" ContentType="image/png"/>
  <Override PartName="/ppt/media/image11.wmf" ContentType="image/x-wmf"/>
  <Override PartName="/ppt/media/image6.jpeg" ContentType="image/jpeg"/>
  <Override PartName="/ppt/media/image71.png" ContentType="image/png"/>
  <Override PartName="/ppt/media/image55.png" ContentType="image/png"/>
  <Override PartName="/ppt/media/image12.wmf" ContentType="image/x-wmf"/>
  <Override PartName="/ppt/media/image92.wmf" ContentType="image/x-wmf"/>
  <Override PartName="/ppt/media/image28.jpeg" ContentType="image/jpeg"/>
  <Override PartName="/ppt/media/image51.jpeg" ContentType="image/jpeg"/>
  <Override PartName="/ppt/media/image31.wmf" ContentType="image/x-wmf"/>
  <Override PartName="/ppt/media/image74.png" ContentType="image/png"/>
  <Override PartName="/ppt/media/image10.jpeg" ContentType="image/jpeg"/>
  <Override PartName="/ppt/media/image27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A079-6908-41BF-8E08-9D8AC40B53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069-DD90-41C2-9E57-BA4D0FD4805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43E0-C9CE-4F9B-AAF4-796CACF3773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A75-7CA2-474F-8AC6-E95DA275190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010-008A-4554-88F9-8F2AF274208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B85-27D5-4169-844D-91AD76E0CBF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444C-08C0-4A0A-90AE-81D2CC82EE5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075-5343-4F38-83D7-3E656D3BC96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12F3-E907-48C9-8816-F6ACD4F84B1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B82-D762-41CC-9FC8-BE5F1F4A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84F-CA56-42DD-ACB5-9B877F0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326-9F31-44AF-9710-7105E73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F40-0F00-4311-B9E6-AE64E0D1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4C3-1952-4328-9C76-58448335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4931-4C65-432D-9FDC-612813E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A0A1-BCF6-48B5-9C68-C8D4733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32C4-2634-4CA3-BD22-FDE2523E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BC76-7A85-4EFD-B88D-119490E7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BDCD-D9E9-457F-BFA5-BE3E3D1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5B84-28D6-4030-B750-37CE759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5D2-3357-4FE8-910E-A0C48700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7350-DFF1-47DF-82D8-AA3DB84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5541-9094-4600-90D8-18727428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67B-4C85-4967-95C9-F946270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5759-46D0-46EC-86A0-0D7736E6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5E6-AE41-49D9-B374-9563206F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923-F221-4064-8D8F-87B67AE5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4B7-940F-44FD-8BD2-9DA4FC3D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A34-5495-49F5-9724-8638A9C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EB2-B426-4D96-8940-2771F47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E81-1082-4F83-95E6-52254BA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37D-2F0A-43B6-B186-E5540B7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9DE-9B98-488E-9437-F901408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7BAE-797F-4D6F-A228-4BAA06384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5F6-AC09-4894-91E0-68D6A4353E1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4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75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7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3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Inmunidad a los huecos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3541680" y="4824360"/>
          <a:ext cx="560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4824360"/>
                    <a:ext cx="560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6" descr="semiF47"/>
          <p:cNvPicPr/>
          <p:nvPr/>
        </p:nvPicPr>
        <p:blipFill>
          <a:blip r:embed="rId3"/>
          <a:stretch/>
        </p:blipFill>
        <p:spPr>
          <a:xfrm>
            <a:off x="250920" y="98100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6 CuadroTexto"/>
          <p:cNvSpPr/>
          <p:nvPr/>
        </p:nvSpPr>
        <p:spPr>
          <a:xfrm>
            <a:off x="7247520" y="4357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IEEE 1346/199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7 CuadroTexto"/>
          <p:cNvSpPr/>
          <p:nvPr/>
        </p:nvSpPr>
        <p:spPr>
          <a:xfrm>
            <a:off x="5161320" y="1071720"/>
            <a:ext cx="39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BEMA: Computer Business Equip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anufacturer Associ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TIC: Information Technology Indus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ounc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EMI: Power Quality and Ride-through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ask For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, tiempo de apertura función ángulo de inici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rcRect l="0" t="0" r="-8637" b="0"/>
          <a:stretch/>
        </p:blipFill>
        <p:spPr>
          <a:xfrm>
            <a:off x="395280" y="981000"/>
            <a:ext cx="3492360" cy="207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2"/>
          <a:srcRect l="0" t="0" r="-8619" b="0"/>
          <a:stretch/>
        </p:blipFill>
        <p:spPr>
          <a:xfrm>
            <a:off x="5076720" y="981000"/>
            <a:ext cx="3672000" cy="208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3"/>
          <a:srcRect l="4741" t="3780" r="2371" b="3780"/>
          <a:stretch/>
        </p:blipFill>
        <p:spPr>
          <a:xfrm>
            <a:off x="3132000" y="3573360"/>
            <a:ext cx="2808360" cy="164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4"/>
          <a:srcRect l="4741" t="3780" r="2371" b="3780"/>
          <a:stretch/>
        </p:blipFill>
        <p:spPr>
          <a:xfrm>
            <a:off x="250920" y="4941720"/>
            <a:ext cx="2808360" cy="162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"/>
          <p:cNvPicPr/>
          <p:nvPr/>
        </p:nvPicPr>
        <p:blipFill>
          <a:blip r:embed="rId5"/>
          <a:srcRect l="2371" t="0" r="2371" b="3780"/>
          <a:stretch/>
        </p:blipFill>
        <p:spPr>
          <a:xfrm>
            <a:off x="6300720" y="5013360"/>
            <a:ext cx="2664000" cy="1554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3276720" y="5300640"/>
            <a:ext cx="2879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55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50 %     </a:t>
            </a:r>
            <a:r>
              <a:rPr b="1" lang="es-AR" sz="32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1" lang="es-AR" sz="3200" spc="-1" strike="noStrike" baseline="-25000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   6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41520" y="3068640"/>
            <a:ext cx="60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Comportamiento sin y con salto de fase (</a:t>
            </a:r>
            <a:r>
              <a:rPr b="0" lang="el-GR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θ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45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7215120" y="1285920"/>
            <a:ext cx="86364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2714760" y="1357200"/>
            <a:ext cx="86364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5351" t="20250" r="0" b="12663"/>
          <a:stretch/>
        </p:blipFill>
        <p:spPr>
          <a:xfrm>
            <a:off x="250920" y="1197000"/>
            <a:ext cx="3384360" cy="1967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rcRect l="0" t="0" r="-8240" b="0"/>
          <a:stretch/>
        </p:blipFill>
        <p:spPr>
          <a:xfrm>
            <a:off x="5148360" y="981000"/>
            <a:ext cx="3671640" cy="230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rcRect l="7066" t="18490" r="0" b="13071"/>
          <a:stretch/>
        </p:blipFill>
        <p:spPr>
          <a:xfrm>
            <a:off x="0" y="4508640"/>
            <a:ext cx="3313080" cy="20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rcRect l="5943" t="19277" r="0" b="10394"/>
          <a:stretch/>
        </p:blipFill>
        <p:spPr>
          <a:xfrm>
            <a:off x="5999040" y="4653000"/>
            <a:ext cx="3144960" cy="1923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3203640" y="3357720"/>
            <a:ext cx="316872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etardo de la apertu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=45%  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θ</a:t>
            </a:r>
            <a:r>
              <a:rPr b="0" lang="es-AR" sz="2400" spc="-1" strike="noStrike" baseline="-25000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=79 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Salto de f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0°              52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66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Cerrado             Abier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9528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      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611280" y="2924280"/>
            <a:ext cx="21564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1258920" y="2349000"/>
            <a:ext cx="64908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323640" y="3860640"/>
            <a:ext cx="21564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1187280" y="386064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4859280" y="4221000"/>
          <a:ext cx="428472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221000"/>
                    <a:ext cx="42847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8" name="Group 4"/>
          <p:cNvGrpSpPr/>
          <p:nvPr/>
        </p:nvGrpSpPr>
        <p:grpSpPr>
          <a:xfrm>
            <a:off x="468360" y="1052640"/>
            <a:ext cx="4559400" cy="2828880"/>
            <a:chOff x="468360" y="1052640"/>
            <a:chExt cx="4559400" cy="2828880"/>
          </a:xfrm>
        </p:grpSpPr>
        <p:graphicFrame>
          <p:nvGraphicFramePr>
            <p:cNvPr id="209" name="Object 5"/>
            <p:cNvGraphicFramePr/>
            <p:nvPr/>
          </p:nvGraphicFramePr>
          <p:xfrm>
            <a:off x="559800" y="1052640"/>
            <a:ext cx="4467960" cy="2828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1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9800" y="1052640"/>
                      <a:ext cx="4467960" cy="28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6"/>
            <p:cNvSpPr/>
            <p:nvPr/>
          </p:nvSpPr>
          <p:spPr>
            <a:xfrm>
              <a:off x="1657080" y="343008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Duración (m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3943800" y="3064320"/>
              <a:ext cx="7621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Ángul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68360" y="1967040"/>
              <a:ext cx="36576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Voltaje (%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Line 21"/>
          <p:cNvSpPr/>
          <p:nvPr/>
        </p:nvSpPr>
        <p:spPr>
          <a:xfrm>
            <a:off x="539640" y="1052640"/>
            <a:ext cx="0" cy="9363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539640" y="3141360"/>
            <a:ext cx="0" cy="718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Lámparas de vapor de sodi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7" name="Picture 7" descr="flicker"/>
          <p:cNvPicPr/>
          <p:nvPr/>
        </p:nvPicPr>
        <p:blipFill>
          <a:blip r:embed="rId1"/>
          <a:stretch/>
        </p:blipFill>
        <p:spPr>
          <a:xfrm>
            <a:off x="5076720" y="3774960"/>
            <a:ext cx="4067280" cy="2822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lamp1"/>
          <p:cNvPicPr/>
          <p:nvPr/>
        </p:nvPicPr>
        <p:blipFill>
          <a:blip r:embed="rId2"/>
          <a:stretch/>
        </p:blipFill>
        <p:spPr>
          <a:xfrm>
            <a:off x="179280" y="1557360"/>
            <a:ext cx="4681800" cy="2617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1"/>
          <p:cNvSpPr/>
          <p:nvPr/>
        </p:nvSpPr>
        <p:spPr>
          <a:xfrm>
            <a:off x="0" y="4214880"/>
            <a:ext cx="49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Hueco de tensión: 82 % (rms), 12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0 %, 20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6300720" y="4149720"/>
            <a:ext cx="503280" cy="187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Lámparas de vapor de sodi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2" name="Picture 13" descr="lamp2"/>
          <p:cNvPicPr/>
          <p:nvPr/>
        </p:nvPicPr>
        <p:blipFill>
          <a:blip r:embed="rId1"/>
          <a:stretch/>
        </p:blipFill>
        <p:spPr>
          <a:xfrm>
            <a:off x="250920" y="4351320"/>
            <a:ext cx="4465440" cy="23367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8"/>
          <p:cNvGrpSpPr/>
          <p:nvPr/>
        </p:nvGrpSpPr>
        <p:grpSpPr>
          <a:xfrm>
            <a:off x="0" y="1413000"/>
            <a:ext cx="4140360" cy="2736720"/>
            <a:chOff x="0" y="1413000"/>
            <a:chExt cx="4140360" cy="2736720"/>
          </a:xfrm>
        </p:grpSpPr>
        <p:graphicFrame>
          <p:nvGraphicFramePr>
            <p:cNvPr id="224" name="Object 9"/>
            <p:cNvGraphicFramePr/>
            <p:nvPr/>
          </p:nvGraphicFramePr>
          <p:xfrm>
            <a:off x="0" y="1413000"/>
            <a:ext cx="4140360" cy="27367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2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413000"/>
                      <a:ext cx="414036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6" name="Group 10"/>
            <p:cNvGrpSpPr/>
            <p:nvPr/>
          </p:nvGrpSpPr>
          <p:grpSpPr>
            <a:xfrm>
              <a:off x="788400" y="1630800"/>
              <a:ext cx="2168280" cy="1090080"/>
              <a:chOff x="788400" y="1630800"/>
              <a:chExt cx="2168280" cy="1090080"/>
            </a:xfrm>
          </p:grpSpPr>
          <p:sp>
            <p:nvSpPr>
              <p:cNvPr id="227" name="Text Box 11"/>
              <p:cNvSpPr/>
              <p:nvPr/>
            </p:nvSpPr>
            <p:spPr>
              <a:xfrm>
                <a:off x="788400" y="1630800"/>
                <a:ext cx="887040" cy="43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900" spc="-1" strike="noStrike">
                    <a:solidFill>
                      <a:srgbClr val="220011"/>
                    </a:solidFill>
                    <a:latin typeface="Times New Roman"/>
                  </a:rPr>
                  <a:t>Lámparas no se apagan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Text Box 12"/>
              <p:cNvSpPr/>
              <p:nvPr/>
            </p:nvSpPr>
            <p:spPr>
              <a:xfrm>
                <a:off x="2069640" y="2284920"/>
                <a:ext cx="887040" cy="43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900" spc="-1" strike="noStrike">
                    <a:solidFill>
                      <a:srgbClr val="220011"/>
                    </a:solidFill>
                    <a:latin typeface="Times New Roman"/>
                  </a:rPr>
                  <a:t>Lámparas se apagan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9" name="Object 15"/>
          <p:cNvGraphicFramePr/>
          <p:nvPr/>
        </p:nvGraphicFramePr>
        <p:xfrm>
          <a:off x="5003640" y="2344680"/>
          <a:ext cx="4140360" cy="2770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2344680"/>
                    <a:ext cx="414036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lectrodomést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1258920" y="1844640"/>
          <a:ext cx="6985080" cy="42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985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27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munidad frente a huecos de tensión de equipos disponibles localmen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2556000" y="189000"/>
          <a:ext cx="658800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89000"/>
                    <a:ext cx="6588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ncepto de Energía Específica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1143000" y="1000080"/>
          <a:ext cx="712944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00080"/>
                    <a:ext cx="71294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4 CuadroTexto"/>
          <p:cNvSpPr/>
          <p:nvPr/>
        </p:nvSpPr>
        <p:spPr>
          <a:xfrm>
            <a:off x="1508760" y="639612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Times New Roman"/>
              </a:rPr>
              <a:t>Tensión inherente de diseño y Energía almacen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ncepto de energía específica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ergía específica en corri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∫r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                             ∫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= 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(A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ergía específica en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∫C/2 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dt                         ∫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= 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(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fecto combinado y su conversión: importancia de la potencia de cortocircuito del sistema en el punto en estu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2484360" y="2421000"/>
            <a:ext cx="2374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2916360" y="4149720"/>
            <a:ext cx="1942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cepto de Energía Específica I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7" descr="fig2"/>
          <p:cNvPicPr/>
          <p:nvPr/>
        </p:nvPicPr>
        <p:blipFill>
          <a:blip r:embed="rId1"/>
          <a:stretch/>
        </p:blipFill>
        <p:spPr>
          <a:xfrm>
            <a:off x="324000" y="195912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ig4"/>
          <p:cNvPicPr/>
          <p:nvPr/>
        </p:nvPicPr>
        <p:blipFill>
          <a:blip r:embed="rId2"/>
          <a:stretch/>
        </p:blipFill>
        <p:spPr>
          <a:xfrm>
            <a:off x="5796000" y="14130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fig5"/>
          <p:cNvPicPr/>
          <p:nvPr/>
        </p:nvPicPr>
        <p:blipFill>
          <a:blip r:embed="rId3"/>
          <a:stretch/>
        </p:blipFill>
        <p:spPr>
          <a:xfrm>
            <a:off x="5940360" y="4383000"/>
            <a:ext cx="29401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munidad de computadoras person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4535640" y="1052640"/>
          <a:ext cx="4608360" cy="20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5640" y="1052640"/>
                    <a:ext cx="460836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9" descr="a1"/>
          <p:cNvPicPr/>
          <p:nvPr/>
        </p:nvPicPr>
        <p:blipFill>
          <a:blip r:embed="rId3"/>
          <a:stretch/>
        </p:blipFill>
        <p:spPr>
          <a:xfrm>
            <a:off x="0" y="1857240"/>
            <a:ext cx="3780000" cy="2840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195640" y="620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Incremento de costo de fuentes de P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11" descr="a2"/>
          <p:cNvPicPr/>
          <p:nvPr/>
        </p:nvPicPr>
        <p:blipFill>
          <a:blip r:embed="rId4"/>
          <a:srcRect l="3070" t="7275" r="5398" b="3629"/>
          <a:stretch/>
        </p:blipFill>
        <p:spPr>
          <a:xfrm>
            <a:off x="3924360" y="3321000"/>
            <a:ext cx="5219640" cy="3537000"/>
          </a:xfrm>
          <a:prstGeom prst="rect">
            <a:avLst/>
          </a:prstGeom>
          <a:ln w="0">
            <a:noFill/>
          </a:ln>
        </p:spPr>
      </p:pic>
      <p:sp>
        <p:nvSpPr>
          <p:cNvPr id="117" name="8 Elipse"/>
          <p:cNvSpPr/>
          <p:nvPr/>
        </p:nvSpPr>
        <p:spPr>
          <a:xfrm>
            <a:off x="7929720" y="2143080"/>
            <a:ext cx="500040" cy="214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6789240" y="207180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80%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302040" y="128592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ftware           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0" name="10 Conector recto de flecha"/>
          <p:cNvCxnSpPr/>
          <p:nvPr/>
        </p:nvCxnSpPr>
        <p:spPr>
          <a:xfrm flipH="1">
            <a:off x="713520" y="1714320"/>
            <a:ext cx="72360" cy="5007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21" name="11 Conector recto de flecha"/>
          <p:cNvCxnSpPr/>
          <p:nvPr/>
        </p:nvCxnSpPr>
        <p:spPr>
          <a:xfrm>
            <a:off x="928800" y="1714680"/>
            <a:ext cx="72000" cy="7149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22" name="12 Conector recto de flecha"/>
          <p:cNvCxnSpPr/>
          <p:nvPr/>
        </p:nvCxnSpPr>
        <p:spPr>
          <a:xfrm flipH="1">
            <a:off x="1928520" y="1714320"/>
            <a:ext cx="929520" cy="9291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plicación del concep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1" name="Picture 6" descr="fig3"/>
          <p:cNvPicPr/>
          <p:nvPr/>
        </p:nvPicPr>
        <p:blipFill>
          <a:blip r:embed="rId1"/>
          <a:srcRect l="1720" t="6772" r="0" b="7421"/>
          <a:stretch/>
        </p:blipFill>
        <p:spPr>
          <a:xfrm>
            <a:off x="179280" y="1125360"/>
            <a:ext cx="4464000" cy="2924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fig7"/>
          <p:cNvPicPr/>
          <p:nvPr/>
        </p:nvPicPr>
        <p:blipFill>
          <a:blip r:embed="rId2"/>
          <a:srcRect l="3374" t="6722" r="0" b="5881"/>
          <a:stretch/>
        </p:blipFill>
        <p:spPr>
          <a:xfrm>
            <a:off x="4788000" y="3714840"/>
            <a:ext cx="4356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plicación del concep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4" name="Picture 6" descr="fig8"/>
          <p:cNvPicPr/>
          <p:nvPr/>
        </p:nvPicPr>
        <p:blipFill>
          <a:blip r:embed="rId1"/>
          <a:srcRect l="3211" t="6398" r="2399" b="0"/>
          <a:stretch/>
        </p:blipFill>
        <p:spPr>
          <a:xfrm>
            <a:off x="179280" y="981000"/>
            <a:ext cx="4464000" cy="33195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6" name="Object 8"/>
          <p:cNvGraphicFramePr/>
          <p:nvPr/>
        </p:nvGraphicFramePr>
        <p:xfrm>
          <a:off x="4859280" y="3294000"/>
          <a:ext cx="4284720" cy="33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294000"/>
                    <a:ext cx="428472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Mejoras en la inmun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tenuar la magnit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ducir dur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minuir probabilidad de ocurre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000"/>
                </a:solidFill>
                <a:latin typeface="Times New Roman"/>
              </a:rPr>
              <a:t>Accione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ducir sensibilidad del equi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biar filosofía de prot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gregar equipos mitigad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ordinación 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de las protecciones contra sobrecorriente 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n la inmunidad frente a los huecos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Sistema típico rural: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combinación de dispositiv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17080" cy="3997440"/>
          </a:xfrm>
          <a:prstGeom prst="rect">
            <a:avLst/>
          </a:prstGeom>
          <a:ln w="0">
            <a:noFill/>
          </a:ln>
        </p:spPr>
      </p:pic>
      <p:sp>
        <p:nvSpPr>
          <p:cNvPr id="263" name="3 Rectángulo"/>
          <p:cNvSpPr/>
          <p:nvPr/>
        </p:nvSpPr>
        <p:spPr>
          <a:xfrm>
            <a:off x="8215200" y="5429160"/>
            <a:ext cx="500040" cy="50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peración de un reconectador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liminación fallas: 85% - 1°, 4% - 2° y 1% - 3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5" name="Picture 4" descr="fig2"/>
          <p:cNvPicPr/>
          <p:nvPr/>
        </p:nvPicPr>
        <p:blipFill>
          <a:blip r:embed="rId1"/>
          <a:stretch/>
        </p:blipFill>
        <p:spPr>
          <a:xfrm>
            <a:off x="611280" y="1405080"/>
            <a:ext cx="784836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3059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urva característica típic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 un reconectado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3627360" y="260280"/>
            <a:ext cx="5024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ordinación con la protección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9" name="Picture 7" descr="fig3a"/>
          <p:cNvPicPr/>
          <p:nvPr/>
        </p:nvPicPr>
        <p:blipFill>
          <a:blip r:embed="rId1"/>
          <a:srcRect l="4876" t="0" r="4053" b="0"/>
          <a:stretch/>
        </p:blipFill>
        <p:spPr>
          <a:xfrm>
            <a:off x="250920" y="1052640"/>
            <a:ext cx="4248000" cy="3498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ig3b"/>
          <p:cNvPicPr/>
          <p:nvPr/>
        </p:nvPicPr>
        <p:blipFill>
          <a:blip r:embed="rId2"/>
          <a:srcRect l="3402" t="0" r="1720" b="0"/>
          <a:stretch/>
        </p:blipFill>
        <p:spPr>
          <a:xfrm>
            <a:off x="4967280" y="3556080"/>
            <a:ext cx="4176720" cy="3301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470520" y="465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A + 2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7361640" y="25131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A + 3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ambio de ajuste de la prote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4" name="Picture 10" descr="fig6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fig4"/>
          <p:cNvPicPr/>
          <p:nvPr/>
        </p:nvPicPr>
        <p:blipFill>
          <a:blip r:embed="rId2"/>
          <a:stretch/>
        </p:blipFill>
        <p:spPr>
          <a:xfrm>
            <a:off x="5694480" y="1268280"/>
            <a:ext cx="3449520" cy="27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fig7"/>
          <p:cNvPicPr/>
          <p:nvPr/>
        </p:nvPicPr>
        <p:blipFill>
          <a:blip r:embed="rId3"/>
          <a:srcRect l="9827" t="9209" r="13592" b="5349"/>
          <a:stretch/>
        </p:blipFill>
        <p:spPr>
          <a:xfrm>
            <a:off x="5759280" y="4206960"/>
            <a:ext cx="3384720" cy="26510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6"/>
          <p:cNvSpPr/>
          <p:nvPr/>
        </p:nvSpPr>
        <p:spPr>
          <a:xfrm>
            <a:off x="2050920" y="6922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&lt;60 % - prob. 25 %, V&lt;10 % - probabilidad 10 %,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lación  daño/multa 2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92200" y="5249880"/>
            <a:ext cx="217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0" y="5157720"/>
            <a:ext cx="63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conexión rápida (25 a 30 ciclos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&lt;10 %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Int.10%)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es el 40 % V&lt;60%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Ss 25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5 % Int. evitadas con 1A3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5 % de 40 % es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34 % (1/3) menos de 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8 Elipse"/>
          <p:cNvSpPr/>
          <p:nvPr/>
        </p:nvSpPr>
        <p:spPr>
          <a:xfrm>
            <a:off x="2071800" y="642960"/>
            <a:ext cx="1143000" cy="57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9 CuadroTexto"/>
          <p:cNvSpPr/>
          <p:nvPr/>
        </p:nvSpPr>
        <p:spPr>
          <a:xfrm>
            <a:off x="6480" y="64296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S sa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servicio 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82" name="11 Conector recto de flecha"/>
          <p:cNvCxnSpPr>
            <a:endCxn id="277" idx="1"/>
          </p:cNvCxnSpPr>
          <p:nvPr/>
        </p:nvCxnSpPr>
        <p:spPr>
          <a:xfrm flipV="1">
            <a:off x="1785960" y="1102680"/>
            <a:ext cx="265680" cy="183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13 Conector recto de flecha"/>
          <p:cNvCxnSpPr/>
          <p:nvPr/>
        </p:nvCxnSpPr>
        <p:spPr>
          <a:xfrm flipV="1">
            <a:off x="7786800" y="2928600"/>
            <a:ext cx="2160" cy="85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15 Conector recto de flecha"/>
          <p:cNvCxnSpPr/>
          <p:nvPr/>
        </p:nvCxnSpPr>
        <p:spPr>
          <a:xfrm flipV="1">
            <a:off x="7786800" y="2928600"/>
            <a:ext cx="77832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17 Conector recto de flecha"/>
          <p:cNvCxnSpPr/>
          <p:nvPr/>
        </p:nvCxnSpPr>
        <p:spPr>
          <a:xfrm flipV="1">
            <a:off x="6643800" y="3214440"/>
            <a:ext cx="2160" cy="5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19 Conector recto de flecha"/>
          <p:cNvCxnSpPr/>
          <p:nvPr/>
        </p:nvCxnSpPr>
        <p:spPr>
          <a:xfrm>
            <a:off x="6643800" y="3214800"/>
            <a:ext cx="192960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cidencia de fall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8" name="Picture 3" descr="fig14"/>
          <p:cNvPicPr/>
          <p:nvPr/>
        </p:nvPicPr>
        <p:blipFill>
          <a:blip r:embed="rId1"/>
          <a:stretch/>
        </p:blipFill>
        <p:spPr>
          <a:xfrm>
            <a:off x="395280" y="1341360"/>
            <a:ext cx="84978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Inmunidad de los Programmable Logic Controlers (PLC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335772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CPU debido a su bajo consumo, posee alt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os periféricos (contactores, sensores, actuadores, etc.) se alimentan en forma separada y tienen baj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alta velocidad de barrido (200 ms, muchas veces exagerada) reduce l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robustez de todo el esquema debe ser equival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consejable memorizar “estado de máquina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3370680" y="1714680"/>
            <a:ext cx="252612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PU y unidade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trada y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4 CuadroTexto"/>
          <p:cNvSpPr/>
          <p:nvPr/>
        </p:nvSpPr>
        <p:spPr>
          <a:xfrm>
            <a:off x="3224880" y="2857680"/>
            <a:ext cx="3030480" cy="45972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uente de alimen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5 CuadroTexto"/>
          <p:cNvSpPr/>
          <p:nvPr/>
        </p:nvSpPr>
        <p:spPr>
          <a:xfrm>
            <a:off x="6569640" y="1714680"/>
            <a:ext cx="256428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eriféric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salida (órden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6 CuadroTexto"/>
          <p:cNvSpPr/>
          <p:nvPr/>
        </p:nvSpPr>
        <p:spPr>
          <a:xfrm>
            <a:off x="294840" y="1714680"/>
            <a:ext cx="236916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eriféric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entrada (da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9" name="8 Conector recto de flecha"/>
          <p:cNvCxnSpPr>
            <a:endCxn id="125" idx="2"/>
          </p:cNvCxnSpPr>
          <p:nvPr/>
        </p:nvCxnSpPr>
        <p:spPr>
          <a:xfrm flipH="1" flipV="1">
            <a:off x="4633560" y="2544120"/>
            <a:ext cx="10080" cy="31356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0" name="9 Conector recto de flecha"/>
          <p:cNvCxnSpPr/>
          <p:nvPr/>
        </p:nvCxnSpPr>
        <p:spPr>
          <a:xfrm>
            <a:off x="2714400" y="2142720"/>
            <a:ext cx="572040" cy="252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1" name="10 Conector recto de flecha"/>
          <p:cNvCxnSpPr>
            <a:stCxn id="125" idx="3"/>
          </p:cNvCxnSpPr>
          <p:nvPr/>
        </p:nvCxnSpPr>
        <p:spPr>
          <a:xfrm>
            <a:off x="5909760" y="2130120"/>
            <a:ext cx="591120" cy="1332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iclo recomendado para Reconectador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 una reconexión instantáne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4" descr="fig8"/>
          <p:cNvPicPr/>
          <p:nvPr/>
        </p:nvPicPr>
        <p:blipFill>
          <a:blip r:embed="rId1"/>
          <a:stretch/>
        </p:blipFill>
        <p:spPr>
          <a:xfrm>
            <a:off x="755640" y="1628640"/>
            <a:ext cx="813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umento de velocidad de la protección: </a:t>
            </a:r>
            <a:r>
              <a:rPr b="0" lang="es-ES_tradnl" sz="3000" spc="-1" strike="noStrike">
                <a:solidFill>
                  <a:srgbClr val="ffcc00"/>
                </a:solidFill>
                <a:latin typeface="Times New Roman"/>
              </a:rPr>
              <a:t>Sobre y Subtensiones permitidas Curvas CBEMA e ITIC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2" name="Picture 11" descr="FIG2"/>
          <p:cNvPicPr/>
          <p:nvPr/>
        </p:nvPicPr>
        <p:blipFill>
          <a:blip r:embed="rId1"/>
          <a:srcRect l="2728" t="14913" r="608" b="4378"/>
          <a:stretch/>
        </p:blipFill>
        <p:spPr>
          <a:xfrm>
            <a:off x="4568760" y="3214800"/>
            <a:ext cx="4575240" cy="343224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7"/>
          <p:cNvGrpSpPr/>
          <p:nvPr/>
        </p:nvGrpSpPr>
        <p:grpSpPr>
          <a:xfrm>
            <a:off x="-360" y="1428840"/>
            <a:ext cx="4501080" cy="3357360"/>
            <a:chOff x="-360" y="1428840"/>
            <a:chExt cx="4501080" cy="3357360"/>
          </a:xfrm>
        </p:grpSpPr>
        <p:pic>
          <p:nvPicPr>
            <p:cNvPr id="294" name="Picture 8" descr="pqp1fig2"/>
            <p:cNvPicPr/>
            <p:nvPr/>
          </p:nvPicPr>
          <p:blipFill>
            <a:blip r:embed="rId2"/>
            <a:stretch/>
          </p:blipFill>
          <p:spPr>
            <a:xfrm>
              <a:off x="0" y="1428840"/>
              <a:ext cx="450072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9"/>
            <p:cNvSpPr/>
            <p:nvPr/>
          </p:nvSpPr>
          <p:spPr>
            <a:xfrm rot="10800000">
              <a:off x="0" y="1659240"/>
              <a:ext cx="428760" cy="22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                </a:t>
              </a: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Tensión (%)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1524960" y="4199760"/>
              <a:ext cx="17701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Tiempo (ciclos)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7" name="8 Conector recto"/>
          <p:cNvSpPr/>
          <p:nvPr/>
        </p:nvSpPr>
        <p:spPr>
          <a:xfrm flipV="1">
            <a:off x="2857680" y="2143080"/>
            <a:ext cx="1440" cy="1643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9 CuadroTexto"/>
          <p:cNvSpPr/>
          <p:nvPr/>
        </p:nvSpPr>
        <p:spPr>
          <a:xfrm>
            <a:off x="2013480" y="214308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20011"/>
                </a:solidFill>
                <a:latin typeface="Times New Roman"/>
              </a:rPr>
              <a:t>Valor                Va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20011"/>
                </a:solidFill>
                <a:latin typeface="Times New Roman"/>
              </a:rPr>
              <a:t>Instantáneo       Efica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4545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peración de la protección limitadora (ACR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0" name="Picture 7" descr="rojo1"/>
          <p:cNvPicPr/>
          <p:nvPr/>
        </p:nvPicPr>
        <p:blipFill>
          <a:blip r:embed="rId1"/>
          <a:stretch/>
        </p:blipFill>
        <p:spPr>
          <a:xfrm>
            <a:off x="4500720" y="260280"/>
            <a:ext cx="4387680" cy="3816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rojo2"/>
          <p:cNvPicPr/>
          <p:nvPr/>
        </p:nvPicPr>
        <p:blipFill>
          <a:blip r:embed="rId2"/>
          <a:stretch/>
        </p:blipFill>
        <p:spPr>
          <a:xfrm>
            <a:off x="1403280" y="4221000"/>
            <a:ext cx="648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urvas características de interruptores  y fusib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3" name="Picture 7" descr="k2"/>
          <p:cNvPicPr/>
          <p:nvPr/>
        </p:nvPicPr>
        <p:blipFill>
          <a:blip r:embed="rId1"/>
          <a:stretch/>
        </p:blipFill>
        <p:spPr>
          <a:xfrm>
            <a:off x="4643280" y="2421000"/>
            <a:ext cx="42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k1"/>
          <p:cNvPicPr/>
          <p:nvPr/>
        </p:nvPicPr>
        <p:blipFill>
          <a:blip r:embed="rId2"/>
          <a:stretch/>
        </p:blipFill>
        <p:spPr>
          <a:xfrm>
            <a:off x="684360" y="1773360"/>
            <a:ext cx="34002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rincipios de funcionamiento de interruptores limitador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pulsión                         poliméri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6" name="Picture 10" descr="jef4"/>
          <p:cNvPicPr/>
          <p:nvPr/>
        </p:nvPicPr>
        <p:blipFill>
          <a:blip r:embed="rId1"/>
          <a:stretch/>
        </p:blipFill>
        <p:spPr>
          <a:xfrm>
            <a:off x="4067280" y="4714920"/>
            <a:ext cx="5076720" cy="1825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ig4"/>
          <p:cNvPicPr/>
          <p:nvPr/>
        </p:nvPicPr>
        <p:blipFill>
          <a:blip r:embed="rId2"/>
          <a:stretch/>
        </p:blipFill>
        <p:spPr>
          <a:xfrm>
            <a:off x="0" y="2276640"/>
            <a:ext cx="5470560" cy="1663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jef5"/>
          <p:cNvPicPr/>
          <p:nvPr/>
        </p:nvPicPr>
        <p:blipFill>
          <a:blip r:embed="rId3"/>
          <a:srcRect l="0" t="6250" r="0" b="0"/>
          <a:stretch/>
        </p:blipFill>
        <p:spPr>
          <a:xfrm>
            <a:off x="6156360" y="2174760"/>
            <a:ext cx="251784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ordinación por sobrecorrien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228600" y="914400"/>
          <a:ext cx="5511960" cy="29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55119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5"/>
          <p:cNvSpPr/>
          <p:nvPr/>
        </p:nvSpPr>
        <p:spPr>
          <a:xfrm>
            <a:off x="324000" y="4508640"/>
            <a:ext cx="30258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28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4" name="Group 7"/>
          <p:cNvGrpSpPr/>
          <p:nvPr/>
        </p:nvGrpSpPr>
        <p:grpSpPr>
          <a:xfrm>
            <a:off x="324000" y="4653000"/>
            <a:ext cx="3024000" cy="1584360"/>
            <a:chOff x="324000" y="4653000"/>
            <a:chExt cx="3024000" cy="1584360"/>
          </a:xfrm>
        </p:grpSpPr>
        <p:sp>
          <p:nvSpPr>
            <p:cNvPr id="315" name="Rectangle 8"/>
            <p:cNvSpPr/>
            <p:nvPr/>
          </p:nvSpPr>
          <p:spPr>
            <a:xfrm>
              <a:off x="2369520" y="5887800"/>
              <a:ext cx="35568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800" spc="-1" strike="noStrike" baseline="-30000">
                  <a:solidFill>
                    <a:srgbClr val="660033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324000" y="5617440"/>
              <a:ext cx="17784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>
              <a:off x="501840" y="57711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Line 11"/>
            <p:cNvSpPr/>
            <p:nvPr/>
          </p:nvSpPr>
          <p:spPr>
            <a:xfrm>
              <a:off x="1658160" y="5039640"/>
              <a:ext cx="0" cy="11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Line 12"/>
            <p:cNvSpPr/>
            <p:nvPr/>
          </p:nvSpPr>
          <p:spPr>
            <a:xfrm>
              <a:off x="1302120" y="57711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1658160" y="534708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Line 14"/>
            <p:cNvSpPr/>
            <p:nvPr/>
          </p:nvSpPr>
          <p:spPr>
            <a:xfrm>
              <a:off x="1658160" y="60415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946440" y="5617440"/>
              <a:ext cx="35568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800" spc="-1" strike="noStrike" baseline="-30000">
                  <a:solidFill>
                    <a:srgbClr val="660033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Line 16"/>
            <p:cNvSpPr/>
            <p:nvPr/>
          </p:nvSpPr>
          <p:spPr>
            <a:xfrm>
              <a:off x="2725560" y="6041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Line 17"/>
            <p:cNvSpPr/>
            <p:nvPr/>
          </p:nvSpPr>
          <p:spPr>
            <a:xfrm flipH="1">
              <a:off x="3170160" y="5771160"/>
              <a:ext cx="17784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 flipV="1">
              <a:off x="3170160" y="5887440"/>
              <a:ext cx="17784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Line 19"/>
            <p:cNvSpPr/>
            <p:nvPr/>
          </p:nvSpPr>
          <p:spPr>
            <a:xfrm flipH="1">
              <a:off x="3080880" y="5887800"/>
              <a:ext cx="26676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Line 20"/>
            <p:cNvSpPr/>
            <p:nvPr/>
          </p:nvSpPr>
          <p:spPr>
            <a:xfrm flipV="1">
              <a:off x="3259080" y="5887440"/>
              <a:ext cx="8892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2369520" y="5193360"/>
              <a:ext cx="53352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carg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1391040" y="4653000"/>
              <a:ext cx="53352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PAC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0" name="Rectangle 23"/>
          <p:cNvSpPr/>
          <p:nvPr/>
        </p:nvSpPr>
        <p:spPr>
          <a:xfrm>
            <a:off x="0" y="28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Object 24"/>
          <p:cNvGraphicFramePr/>
          <p:nvPr/>
        </p:nvGraphicFramePr>
        <p:xfrm>
          <a:off x="3780000" y="3990960"/>
          <a:ext cx="536400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990960"/>
                    <a:ext cx="53640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Oval 25"/>
          <p:cNvSpPr/>
          <p:nvPr/>
        </p:nvSpPr>
        <p:spPr>
          <a:xfrm>
            <a:off x="7020000" y="1052640"/>
            <a:ext cx="358560" cy="36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Oval 26"/>
          <p:cNvSpPr/>
          <p:nvPr/>
        </p:nvSpPr>
        <p:spPr>
          <a:xfrm>
            <a:off x="7020000" y="1268280"/>
            <a:ext cx="358560" cy="36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7236000" y="1628640"/>
            <a:ext cx="0" cy="505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6443640" y="2133720"/>
            <a:ext cx="165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7164360" y="177336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30"/>
          <p:cNvSpPr/>
          <p:nvPr/>
        </p:nvSpPr>
        <p:spPr>
          <a:xfrm>
            <a:off x="644364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7708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32"/>
          <p:cNvSpPr/>
          <p:nvPr/>
        </p:nvSpPr>
        <p:spPr>
          <a:xfrm>
            <a:off x="759636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33"/>
          <p:cNvSpPr/>
          <p:nvPr/>
        </p:nvSpPr>
        <p:spPr>
          <a:xfrm>
            <a:off x="810108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34"/>
          <p:cNvSpPr/>
          <p:nvPr/>
        </p:nvSpPr>
        <p:spPr>
          <a:xfrm>
            <a:off x="723600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637236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Rectangle 36"/>
          <p:cNvSpPr/>
          <p:nvPr/>
        </p:nvSpPr>
        <p:spPr>
          <a:xfrm>
            <a:off x="680400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716436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752472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802800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7236000" y="83664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8244000" y="1052640"/>
            <a:ext cx="1116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630 kV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1000 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100 A a 630 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aración curvas características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iempo - corriente con tiempo -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Picture 10" descr=""/>
          <p:cNvPicPr/>
          <p:nvPr/>
        </p:nvPicPr>
        <p:blipFill>
          <a:blip r:embed="rId1"/>
          <a:srcRect l="0" t="4111" r="0" b="20799"/>
          <a:stretch/>
        </p:blipFill>
        <p:spPr>
          <a:xfrm>
            <a:off x="250920" y="184464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2"/>
          <a:srcRect l="0" t="6694" r="0" b="21720"/>
          <a:stretch/>
        </p:blipFill>
        <p:spPr>
          <a:xfrm>
            <a:off x="5292720" y="162864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pqp1fig4"/>
          <p:cNvPicPr/>
          <p:nvPr/>
        </p:nvPicPr>
        <p:blipFill>
          <a:blip r:embed="rId3"/>
          <a:stretch/>
        </p:blipFill>
        <p:spPr>
          <a:xfrm>
            <a:off x="5364000" y="4535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mbio de la velocidad de la protecció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179280" y="2492280"/>
          <a:ext cx="5472360" cy="37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92280"/>
                    <a:ext cx="547236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7"/>
          <p:cNvSpPr/>
          <p:nvPr/>
        </p:nvSpPr>
        <p:spPr>
          <a:xfrm>
            <a:off x="6300720" y="1197000"/>
            <a:ext cx="2592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uración &lt; 100 ms o 5 cicl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agnitud 88, 77 y 66 %: fallas en baj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uración &gt; 300 ms o 15 cicl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agnitud de 24 a 88 %: fallas en media o alta tensión con duración excesi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826920" y="134136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00"/>
                </a:solidFill>
                <a:latin typeface="Times New Roman"/>
              </a:rPr>
              <a:t>Retardo para mejorar </a:t>
            </a:r>
            <a:br>
              <a:rPr sz="2800"/>
            </a:br>
            <a:r>
              <a:rPr b="0" lang="es-AR" sz="2800" spc="-1" strike="noStrike">
                <a:solidFill>
                  <a:srgbClr val="ffcc00"/>
                </a:solidFill>
                <a:latin typeface="Times New Roman"/>
              </a:rPr>
              <a:t>calidad de servic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124000" y="2997360"/>
            <a:ext cx="1008000" cy="863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3132000" y="3500280"/>
            <a:ext cx="1008360" cy="1008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Zona vulnerab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3" name="Picture 4" descr="fig28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ulnerabilidad en función de la distancia a la fall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Picture 7" descr="Dibujo1"/>
          <p:cNvPicPr/>
          <p:nvPr/>
        </p:nvPicPr>
        <p:blipFill>
          <a:blip r:embed="rId1"/>
          <a:stretch/>
        </p:blipFill>
        <p:spPr>
          <a:xfrm>
            <a:off x="4924440" y="1844640"/>
            <a:ext cx="4219560" cy="4545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0"/>
          <p:cNvSpPr/>
          <p:nvPr/>
        </p:nvSpPr>
        <p:spPr>
          <a:xfrm>
            <a:off x="-900000" y="16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50920" y="1557360"/>
          <a:ext cx="3457440" cy="4790880"/>
        </p:xfrm>
        <a:graphic>
          <a:graphicData uri="http://schemas.openxmlformats.org/drawingml/2006/table">
            <a:tbl>
              <a:tblPr/>
              <a:tblGrid>
                <a:gridCol w="716040"/>
                <a:gridCol w="1012680"/>
                <a:gridCol w="806400"/>
                <a:gridCol w="9223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o en fall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nsidad (A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sión residual (%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ción (s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68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9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3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4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1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6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3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4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2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8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3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4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5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3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Rectangle 374"/>
          <p:cNvSpPr/>
          <p:nvPr/>
        </p:nvSpPr>
        <p:spPr>
          <a:xfrm>
            <a:off x="0" y="55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Recomendaciones para mejor inmunidad de PLC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999720"/>
            <a:ext cx="87152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vitar diferencias entre la tensión nominal y la disponi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. Disponer de fuentes robustas para la CPU y para los módulos de entrada / sal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3. Prefiera alimentación en corriente contínua para la CPU y puertos de entrada / salida. Recomendable 40 % durante 12 cicl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4. Para auto-rango, emplear la mayor tensión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5. No sobrecargar la fuente de aliment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6. Uso de relays y contactores robustos, 40 al 55 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7. Mantener adecuadamente las baterías del PLC, guardan los programas y datos de memorias no voláti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8. Usar programación con “estado de máquina”  almacen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9. Verificar la robustez de la alimentación de las señales de entrad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. Utilizar solamente acondicionadores de potencia compatib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Coordinación en gráficos t - 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0" name="Picture 7" descr="FIG5"/>
          <p:cNvPicPr/>
          <p:nvPr/>
        </p:nvPicPr>
        <p:blipFill>
          <a:blip r:embed="rId1"/>
          <a:srcRect l="0" t="0" r="0" b="8323"/>
          <a:stretch/>
        </p:blipFill>
        <p:spPr>
          <a:xfrm>
            <a:off x="4716360" y="3446640"/>
            <a:ext cx="4170600" cy="3127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fig4n"/>
          <p:cNvPicPr/>
          <p:nvPr/>
        </p:nvPicPr>
        <p:blipFill>
          <a:blip r:embed="rId2"/>
          <a:stretch/>
        </p:blipFill>
        <p:spPr>
          <a:xfrm>
            <a:off x="250920" y="1413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squema completo de coordin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Picture 5" descr="fig6n"/>
          <p:cNvPicPr/>
          <p:nvPr/>
        </p:nvPicPr>
        <p:blipFill>
          <a:blip r:embed="rId1"/>
          <a:stretch/>
        </p:blipFill>
        <p:spPr>
          <a:xfrm>
            <a:off x="826920" y="1530360"/>
            <a:ext cx="7705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Conversión de curvas de inmunidad al plano t - i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5" name="Picture 7" descr="fig-1"/>
          <p:cNvPicPr/>
          <p:nvPr/>
        </p:nvPicPr>
        <p:blipFill>
          <a:blip r:embed="rId1"/>
          <a:srcRect l="0" t="0" r="0" b="-12742"/>
          <a:stretch/>
        </p:blipFill>
        <p:spPr>
          <a:xfrm>
            <a:off x="0" y="836640"/>
            <a:ext cx="1711440" cy="2016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0" y="2732040"/>
          <a:ext cx="3851280" cy="18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2040"/>
                    <a:ext cx="3851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0" y="4737240"/>
          <a:ext cx="3203640" cy="2022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37240"/>
                    <a:ext cx="320364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2"/>
          <p:cNvGraphicFramePr/>
          <p:nvPr/>
        </p:nvGraphicFramePr>
        <p:xfrm>
          <a:off x="5867280" y="5073480"/>
          <a:ext cx="2808360" cy="1784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83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5073480"/>
                    <a:ext cx="280836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033800" y="2205000"/>
          <a:ext cx="5110200" cy="26812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863640"/>
                <a:gridCol w="2230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s-A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ciclos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(pu del cortocircuito en el PCC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Rectangle 53"/>
          <p:cNvSpPr/>
          <p:nvPr/>
        </p:nvSpPr>
        <p:spPr>
          <a:xfrm>
            <a:off x="2635200" y="1170720"/>
            <a:ext cx="61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) = IPCC short-circuit x ( 100 –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) ) / 100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153"/>
          <p:cNvSpPr/>
          <p:nvPr/>
        </p:nvSpPr>
        <p:spPr>
          <a:xfrm>
            <a:off x="1908000" y="227664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BEMA t-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154"/>
          <p:cNvSpPr/>
          <p:nvPr/>
        </p:nvSpPr>
        <p:spPr>
          <a:xfrm>
            <a:off x="1332000" y="3716280"/>
            <a:ext cx="1368360" cy="20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155"/>
          <p:cNvSpPr/>
          <p:nvPr/>
        </p:nvSpPr>
        <p:spPr>
          <a:xfrm>
            <a:off x="3205080" y="62373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BEMA t-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156"/>
          <p:cNvSpPr/>
          <p:nvPr/>
        </p:nvSpPr>
        <p:spPr>
          <a:xfrm flipH="1">
            <a:off x="1619280" y="3213000"/>
            <a:ext cx="792000" cy="2016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3851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nversión de curvas de inmunidad al plano t - 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1" name="Object 3"/>
          <p:cNvGraphicFramePr/>
          <p:nvPr/>
        </p:nvGraphicFramePr>
        <p:xfrm>
          <a:off x="3711600" y="0"/>
          <a:ext cx="5429160" cy="31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0"/>
                    <a:ext cx="54291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4"/>
          <p:cNvGraphicFramePr/>
          <p:nvPr/>
        </p:nvGraphicFramePr>
        <p:xfrm>
          <a:off x="0" y="3352680"/>
          <a:ext cx="6443640" cy="350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52680"/>
                    <a:ext cx="644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6 CuadroTexto"/>
          <p:cNvSpPr/>
          <p:nvPr/>
        </p:nvSpPr>
        <p:spPr>
          <a:xfrm rot="16200000">
            <a:off x="87120" y="4574520"/>
            <a:ext cx="128556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iempo (s)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2414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ordinación en gráficos 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t -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98" name="Object 7"/>
          <p:cNvGraphicFramePr/>
          <p:nvPr/>
        </p:nvGraphicFramePr>
        <p:xfrm>
          <a:off x="3708360" y="260280"/>
          <a:ext cx="543564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60280"/>
                    <a:ext cx="54356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01" name="Object 9"/>
          <p:cNvGraphicFramePr/>
          <p:nvPr/>
        </p:nvGraphicFramePr>
        <p:xfrm>
          <a:off x="250920" y="3665520"/>
          <a:ext cx="5111640" cy="319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665520"/>
                    <a:ext cx="511164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Efecto de la Generación Distribui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4" name="Picture 4" descr="fig-2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73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fig-5"/>
          <p:cNvPicPr/>
          <p:nvPr/>
        </p:nvPicPr>
        <p:blipFill>
          <a:blip r:embed="rId2"/>
          <a:stretch/>
        </p:blipFill>
        <p:spPr>
          <a:xfrm>
            <a:off x="4284720" y="1077840"/>
            <a:ext cx="4608360" cy="4295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450720" y="5209920"/>
            <a:ext cx="869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pu] = 1–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)*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d)/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*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)*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)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+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 caso de cambio de posición, se estudia como “espejo”, Z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Z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8172360" y="6381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Sistema radial con inclusión de G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9" name="Picture 4" descr="fig-3"/>
          <p:cNvPicPr/>
          <p:nvPr/>
        </p:nvPicPr>
        <p:blipFill>
          <a:blip r:embed="rId1"/>
          <a:stretch/>
        </p:blipFill>
        <p:spPr>
          <a:xfrm>
            <a:off x="1763640" y="1052640"/>
            <a:ext cx="5394240" cy="212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0" y="3284640"/>
            <a:ext cx="4608360" cy="2251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Dibujo1"/>
          <p:cNvPicPr/>
          <p:nvPr/>
        </p:nvPicPr>
        <p:blipFill>
          <a:blip r:embed="rId3"/>
          <a:stretch/>
        </p:blipFill>
        <p:spPr>
          <a:xfrm>
            <a:off x="5292720" y="4508640"/>
            <a:ext cx="3672000" cy="2103120"/>
          </a:xfrm>
          <a:prstGeom prst="rect">
            <a:avLst/>
          </a:prstGeom>
          <a:ln w="0">
            <a:noFill/>
          </a:ln>
        </p:spPr>
      </p:pic>
      <p:sp>
        <p:nvSpPr>
          <p:cNvPr id="412" name="Oval 7"/>
          <p:cNvSpPr/>
          <p:nvPr/>
        </p:nvSpPr>
        <p:spPr>
          <a:xfrm>
            <a:off x="4067280" y="1700280"/>
            <a:ext cx="1009440" cy="15858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013440" y="34290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Operación fusible 0,066 pu</a:t>
            </a:r>
            <a:r>
              <a:rPr b="0" lang="es-AR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9"/>
          <p:cNvSpPr/>
          <p:nvPr/>
        </p:nvSpPr>
        <p:spPr>
          <a:xfrm flipH="1">
            <a:off x="7956720" y="3789360"/>
            <a:ext cx="863280" cy="93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495320" y="386064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alida de servicio (ss) ES 0,205 pu</a:t>
            </a:r>
            <a:r>
              <a:rPr b="0" lang="es-AR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5435640" y="4292640"/>
            <a:ext cx="136836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241560" y="5710320"/>
            <a:ext cx="422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i CB abre en 0,2 s ES ss en 0,42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i CB abre en 0,38 s F4 opera en 0,49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y ES no sale de servic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 flipV="1">
            <a:off x="4284720" y="5229360"/>
            <a:ext cx="32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 flipV="1">
            <a:off x="4284720" y="5734080"/>
            <a:ext cx="2303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15"/>
          <p:cNvSpPr/>
          <p:nvPr/>
        </p:nvSpPr>
        <p:spPr>
          <a:xfrm flipV="1">
            <a:off x="4211640" y="5660640"/>
            <a:ext cx="3097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16"/>
          <p:cNvSpPr/>
          <p:nvPr/>
        </p:nvSpPr>
        <p:spPr>
          <a:xfrm flipV="1">
            <a:off x="4284720" y="5516640"/>
            <a:ext cx="37432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8028000" y="4869000"/>
            <a:ext cx="0" cy="1224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8028000" y="486900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3780000" y="1413000"/>
            <a:ext cx="504720" cy="398880"/>
          </a:xfrm>
          <a:prstGeom prst="rect">
            <a:avLst/>
          </a:prstGeom>
          <a:noFill/>
          <a:ln w="9360">
            <a:solidFill>
              <a:srgbClr val="560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21"/>
          <p:cNvSpPr/>
          <p:nvPr/>
        </p:nvSpPr>
        <p:spPr>
          <a:xfrm>
            <a:off x="3995640" y="184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fecto de la GD en la coordin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7" name="Picture 4" descr="fig-7"/>
          <p:cNvPicPr/>
          <p:nvPr/>
        </p:nvPicPr>
        <p:blipFill>
          <a:blip r:embed="rId1"/>
          <a:stretch/>
        </p:blipFill>
        <p:spPr>
          <a:xfrm>
            <a:off x="684360" y="836640"/>
            <a:ext cx="3995640" cy="31068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4140360" y="4571640"/>
            <a:ext cx="414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 [pu]                    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 =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 / (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 +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) [pu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[pu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l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rf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 [pu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9" name="Picture 6" descr="fig-8"/>
          <p:cNvPicPr/>
          <p:nvPr/>
        </p:nvPicPr>
        <p:blipFill>
          <a:blip r:embed="rId2"/>
          <a:stretch/>
        </p:blipFill>
        <p:spPr>
          <a:xfrm>
            <a:off x="5724360" y="620640"/>
            <a:ext cx="3240360" cy="214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8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31" name="Object 7"/>
          <p:cNvGraphicFramePr/>
          <p:nvPr/>
        </p:nvGraphicFramePr>
        <p:xfrm>
          <a:off x="5878440" y="2924280"/>
          <a:ext cx="3265560" cy="233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8440" y="2924280"/>
                    <a:ext cx="32655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9"/>
          <p:cNvGraphicFramePr/>
          <p:nvPr/>
        </p:nvGraphicFramePr>
        <p:xfrm>
          <a:off x="395280" y="4100400"/>
          <a:ext cx="3456000" cy="2541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100400"/>
                    <a:ext cx="3456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414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Magnitud del hueco de tensión en circuitos con G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4140360" y="144360"/>
          <a:ext cx="500364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4360"/>
                    <a:ext cx="50036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7"/>
          <p:cNvSpPr/>
          <p:nvPr/>
        </p:nvSpPr>
        <p:spPr>
          <a:xfrm>
            <a:off x="0" y="4263480"/>
            <a:ext cx="8661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P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– (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//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D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[pu]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gnitud del hueco de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P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nsión de suminist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edancia de la fu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D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edancia de la fuente distribu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rriente de falla en corto circui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oncepto de conexión semi-rígid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42480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r = (87– 3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16 s = 520%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nr = (87– 3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04 s + (87– 8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12 s = 136%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32"/>
          <p:cNvSpPr/>
          <p:nvPr/>
        </p:nvSpPr>
        <p:spPr>
          <a:xfrm>
            <a:off x="468360" y="907920"/>
            <a:ext cx="3382920" cy="2448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2" name="Group 33"/>
          <p:cNvGrpSpPr/>
          <p:nvPr/>
        </p:nvGrpSpPr>
        <p:grpSpPr>
          <a:xfrm>
            <a:off x="611280" y="1125360"/>
            <a:ext cx="3292560" cy="2004840"/>
            <a:chOff x="611280" y="1125360"/>
            <a:chExt cx="3292560" cy="2004840"/>
          </a:xfrm>
        </p:grpSpPr>
        <p:sp>
          <p:nvSpPr>
            <p:cNvPr id="443" name="Text Box 34"/>
            <p:cNvSpPr/>
            <p:nvPr/>
          </p:nvSpPr>
          <p:spPr>
            <a:xfrm>
              <a:off x="611280" y="1125360"/>
              <a:ext cx="3292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s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   Z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s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                                      Z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f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fault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4" name="Group 35"/>
            <p:cNvGrpSpPr/>
            <p:nvPr/>
          </p:nvGrpSpPr>
          <p:grpSpPr>
            <a:xfrm>
              <a:off x="611280" y="1383480"/>
              <a:ext cx="3002040" cy="1458360"/>
              <a:chOff x="611280" y="1383480"/>
              <a:chExt cx="3002040" cy="1458360"/>
            </a:xfrm>
          </p:grpSpPr>
          <p:sp>
            <p:nvSpPr>
              <p:cNvPr id="445" name="Oval 36"/>
              <p:cNvSpPr/>
              <p:nvPr/>
            </p:nvSpPr>
            <p:spPr>
              <a:xfrm>
                <a:off x="611280" y="1474560"/>
                <a:ext cx="193680" cy="18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Oval 37"/>
              <p:cNvSpPr/>
              <p:nvPr/>
            </p:nvSpPr>
            <p:spPr>
              <a:xfrm>
                <a:off x="611280" y="2203920"/>
                <a:ext cx="193680" cy="18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Rectangle 38"/>
              <p:cNvSpPr/>
              <p:nvPr/>
            </p:nvSpPr>
            <p:spPr>
              <a:xfrm>
                <a:off x="1095480" y="147456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Rectangle 39"/>
              <p:cNvSpPr/>
              <p:nvPr/>
            </p:nvSpPr>
            <p:spPr>
              <a:xfrm>
                <a:off x="2838600" y="147456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Rectangle 40"/>
              <p:cNvSpPr/>
              <p:nvPr/>
            </p:nvSpPr>
            <p:spPr>
              <a:xfrm>
                <a:off x="1773360" y="220392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Rectangle 41"/>
              <p:cNvSpPr/>
              <p:nvPr/>
            </p:nvSpPr>
            <p:spPr>
              <a:xfrm>
                <a:off x="998640" y="220392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Rectangle 42"/>
              <p:cNvSpPr/>
              <p:nvPr/>
            </p:nvSpPr>
            <p:spPr>
              <a:xfrm>
                <a:off x="1773360" y="265968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Line 43"/>
              <p:cNvSpPr/>
              <p:nvPr/>
            </p:nvSpPr>
            <p:spPr>
              <a:xfrm>
                <a:off x="804960" y="156564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Line 44"/>
              <p:cNvSpPr/>
              <p:nvPr/>
            </p:nvSpPr>
            <p:spPr>
              <a:xfrm>
                <a:off x="1579680" y="1565640"/>
                <a:ext cx="12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Line 45"/>
              <p:cNvSpPr/>
              <p:nvPr/>
            </p:nvSpPr>
            <p:spPr>
              <a:xfrm>
                <a:off x="3322800" y="156564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Line 46"/>
              <p:cNvSpPr/>
              <p:nvPr/>
            </p:nvSpPr>
            <p:spPr>
              <a:xfrm>
                <a:off x="804960" y="229500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Line 47"/>
              <p:cNvSpPr/>
              <p:nvPr/>
            </p:nvSpPr>
            <p:spPr>
              <a:xfrm>
                <a:off x="1482840" y="229500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Line 48"/>
              <p:cNvSpPr/>
              <p:nvPr/>
            </p:nvSpPr>
            <p:spPr>
              <a:xfrm>
                <a:off x="1676520" y="2750760"/>
                <a:ext cx="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Line 49"/>
              <p:cNvSpPr/>
              <p:nvPr/>
            </p:nvSpPr>
            <p:spPr>
              <a:xfrm flipV="1">
                <a:off x="1676520" y="2295000"/>
                <a:ext cx="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Line 50"/>
              <p:cNvSpPr/>
              <p:nvPr/>
            </p:nvSpPr>
            <p:spPr>
              <a:xfrm>
                <a:off x="2257560" y="229500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Line 51"/>
              <p:cNvSpPr/>
              <p:nvPr/>
            </p:nvSpPr>
            <p:spPr>
              <a:xfrm flipV="1">
                <a:off x="2548080" y="1565280"/>
                <a:ext cx="0" cy="7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Line 52"/>
              <p:cNvSpPr/>
              <p:nvPr/>
            </p:nvSpPr>
            <p:spPr>
              <a:xfrm flipV="1">
                <a:off x="1676520" y="2112480"/>
                <a:ext cx="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Line 53"/>
              <p:cNvSpPr/>
              <p:nvPr/>
            </p:nvSpPr>
            <p:spPr>
              <a:xfrm>
                <a:off x="1676520" y="2112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Line 54"/>
              <p:cNvSpPr/>
              <p:nvPr/>
            </p:nvSpPr>
            <p:spPr>
              <a:xfrm>
                <a:off x="2160720" y="2112480"/>
                <a:ext cx="38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Line 55"/>
              <p:cNvSpPr/>
              <p:nvPr/>
            </p:nvSpPr>
            <p:spPr>
              <a:xfrm flipV="1">
                <a:off x="1967040" y="2021040"/>
                <a:ext cx="193680" cy="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Line 56"/>
              <p:cNvSpPr/>
              <p:nvPr/>
            </p:nvSpPr>
            <p:spPr>
              <a:xfrm flipH="1">
                <a:off x="3419640" y="1383480"/>
                <a:ext cx="1936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Line 57"/>
              <p:cNvSpPr/>
              <p:nvPr/>
            </p:nvSpPr>
            <p:spPr>
              <a:xfrm flipV="1">
                <a:off x="3419640" y="1474560"/>
                <a:ext cx="19368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Line 58"/>
              <p:cNvSpPr/>
              <p:nvPr/>
            </p:nvSpPr>
            <p:spPr>
              <a:xfrm flipH="1">
                <a:off x="3516120" y="1474560"/>
                <a:ext cx="9684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Text Box 59"/>
              <p:cNvSpPr/>
              <p:nvPr/>
            </p:nvSpPr>
            <p:spPr>
              <a:xfrm>
                <a:off x="611280" y="1854360"/>
                <a:ext cx="174312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DG     Z</a:t>
                </a:r>
                <a:r>
                  <a:rPr b="0" lang="es-ES" sz="1000" spc="-1" strike="noStrike" baseline="-25000">
                    <a:solidFill>
                      <a:srgbClr val="ffffcc"/>
                    </a:solidFill>
                    <a:latin typeface="Times New Roman"/>
                  </a:rPr>
                  <a:t>DG</a:t>
                </a: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              Z</a:t>
                </a:r>
                <a:r>
                  <a:rPr b="0" lang="es-ES" sz="1000" spc="-1" strike="noStrike" baseline="-25000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 &amp; CB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9" name="Text Box 60"/>
            <p:cNvSpPr/>
            <p:nvPr/>
          </p:nvSpPr>
          <p:spPr>
            <a:xfrm>
              <a:off x="1676520" y="2856960"/>
              <a:ext cx="7747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cc"/>
                  </a:solidFill>
                  <a:latin typeface="Times New Roman"/>
                </a:rPr>
                <a:t>Load (S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1" name="Object 61"/>
          <p:cNvGraphicFramePr/>
          <p:nvPr/>
        </p:nvGraphicFramePr>
        <p:xfrm>
          <a:off x="468360" y="4724280"/>
          <a:ext cx="3657600" cy="19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24280"/>
                    <a:ext cx="365760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500720" y="2349360"/>
          <a:ext cx="4464000" cy="4248360"/>
        </p:xfrm>
        <a:graphic>
          <a:graphicData uri="http://schemas.openxmlformats.org/drawingml/2006/table">
            <a:tbl>
              <a:tblPr/>
              <a:tblGrid>
                <a:gridCol w="1068120"/>
                <a:gridCol w="646200"/>
                <a:gridCol w="1455840"/>
                <a:gridCol w="129384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Impedanci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s-ES_tradnl" sz="1000" spc="-1" strike="noStrike" baseline="-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fall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éficit de energía específica con generación distribuida e impedancia limitador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éficit de energía específica sin generación distribuida e impedancia limitador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oh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  s-c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s-ES_tradnl" sz="10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s-ES_tradnl" sz="10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9.22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38.9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0.6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76.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6.0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88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3.31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757.1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6.28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7.8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62.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3.1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0.83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55.5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31.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4.8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52.2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 Box 774"/>
          <p:cNvSpPr/>
          <p:nvPr/>
        </p:nvSpPr>
        <p:spPr>
          <a:xfrm>
            <a:off x="4572000" y="1197000"/>
            <a:ext cx="4248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c00"/>
                </a:solidFill>
                <a:latin typeface="Times New Roman"/>
              </a:rPr>
              <a:t>Ejemplo: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 13,2 kV; P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ns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30 MVA, P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ngd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 3 MVA, l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 10 km, t= 40 m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ador de velocidad CA y C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5" name="Picture 6" descr="dcdrive"/>
          <p:cNvPicPr/>
          <p:nvPr/>
        </p:nvPicPr>
        <p:blipFill>
          <a:blip r:embed="rId1"/>
          <a:stretch/>
        </p:blipFill>
        <p:spPr>
          <a:xfrm>
            <a:off x="3203640" y="4368960"/>
            <a:ext cx="5940360" cy="248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cdrive"/>
          <p:cNvPicPr/>
          <p:nvPr/>
        </p:nvPicPr>
        <p:blipFill>
          <a:blip r:embed="rId2"/>
          <a:srcRect l="6222" t="5120" r="892" b="0"/>
          <a:stretch/>
        </p:blipFill>
        <p:spPr>
          <a:xfrm>
            <a:off x="0" y="1628640"/>
            <a:ext cx="5651640" cy="2440080"/>
          </a:xfrm>
          <a:prstGeom prst="rect">
            <a:avLst/>
          </a:prstGeom>
          <a:ln w="0">
            <a:noFill/>
          </a:ln>
        </p:spPr>
      </p:pic>
      <p:sp>
        <p:nvSpPr>
          <p:cNvPr id="137" name="6 Elipse"/>
          <p:cNvSpPr/>
          <p:nvPr/>
        </p:nvSpPr>
        <p:spPr>
          <a:xfrm>
            <a:off x="1714680" y="1357200"/>
            <a:ext cx="642600" cy="1714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5940360" y="1714680"/>
            <a:ext cx="296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Fabricantes exage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otección dur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eríodo de garantía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ituación que es lu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nten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fecto de la GD sobre los reconectad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6" name="Picture 4" descr="Dibujo3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9" name="Object 6"/>
          <p:cNvGraphicFramePr/>
          <p:nvPr/>
        </p:nvGraphicFramePr>
        <p:xfrm>
          <a:off x="5292720" y="4524480"/>
          <a:ext cx="3276720" cy="233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524480"/>
                    <a:ext cx="32767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Text Box 8"/>
          <p:cNvSpPr/>
          <p:nvPr/>
        </p:nvSpPr>
        <p:spPr>
          <a:xfrm>
            <a:off x="5339880" y="107316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sionización fal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364000" y="3933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sionización exito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24000" y="4869000"/>
            <a:ext cx="44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ámetros de ensay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 = 10 A, l de 90 a 205 mm y relación corrientes GD / sistema de 1/16 a 1/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ador de velocidad CA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250920" y="1484280"/>
          <a:ext cx="3809880" cy="27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380988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7" descr="g1"/>
          <p:cNvPicPr/>
          <p:nvPr/>
        </p:nvPicPr>
        <p:blipFill>
          <a:blip r:embed="rId3"/>
          <a:stretch/>
        </p:blipFill>
        <p:spPr>
          <a:xfrm>
            <a:off x="4067280" y="1341360"/>
            <a:ext cx="25938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9"/>
          <p:cNvGrpSpPr/>
          <p:nvPr/>
        </p:nvGrpSpPr>
        <p:grpSpPr>
          <a:xfrm>
            <a:off x="6681960" y="1341360"/>
            <a:ext cx="2462040" cy="4680000"/>
            <a:chOff x="6681960" y="1341360"/>
            <a:chExt cx="2462040" cy="4680000"/>
          </a:xfrm>
        </p:grpSpPr>
        <p:pic>
          <p:nvPicPr>
            <p:cNvPr id="144" name="Picture 10" descr="g2"/>
            <p:cNvPicPr/>
            <p:nvPr/>
          </p:nvPicPr>
          <p:blipFill>
            <a:blip r:embed="rId4"/>
            <a:stretch/>
          </p:blipFill>
          <p:spPr>
            <a:xfrm>
              <a:off x="6681960" y="1341360"/>
              <a:ext cx="246204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1"/>
            <p:cNvSpPr/>
            <p:nvPr/>
          </p:nvSpPr>
          <p:spPr>
            <a:xfrm>
              <a:off x="7139160" y="4470480"/>
              <a:ext cx="799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6" name="Rectangle 43"/>
          <p:cNvSpPr/>
          <p:nvPr/>
        </p:nvSpPr>
        <p:spPr>
          <a:xfrm>
            <a:off x="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1042920" y="1700280"/>
            <a:ext cx="2560680" cy="1279440"/>
            <a:chOff x="1042920" y="1700280"/>
            <a:chExt cx="2560680" cy="1279440"/>
          </a:xfrm>
        </p:grpSpPr>
        <p:sp>
          <p:nvSpPr>
            <p:cNvPr id="148" name="Text Box 42"/>
            <p:cNvSpPr/>
            <p:nvPr/>
          </p:nvSpPr>
          <p:spPr>
            <a:xfrm>
              <a:off x="2687040" y="2248560"/>
              <a:ext cx="91440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Rectificad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41"/>
            <p:cNvSpPr/>
            <p:nvPr/>
          </p:nvSpPr>
          <p:spPr>
            <a:xfrm>
              <a:off x="1591560" y="1700280"/>
              <a:ext cx="7315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vers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1591560" y="2065680"/>
              <a:ext cx="1005840" cy="27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obrecorrient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1042920" y="2431440"/>
              <a:ext cx="822960" cy="27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ub-voltaj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Line 38"/>
            <p:cNvSpPr/>
            <p:nvPr/>
          </p:nvSpPr>
          <p:spPr>
            <a:xfrm>
              <a:off x="1683000" y="2338200"/>
              <a:ext cx="457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1772640" y="2522880"/>
              <a:ext cx="0" cy="45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 flipV="1">
              <a:off x="3512160" y="2156760"/>
              <a:ext cx="9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35"/>
            <p:cNvSpPr/>
            <p:nvPr/>
          </p:nvSpPr>
          <p:spPr>
            <a:xfrm>
              <a:off x="3512160" y="2431440"/>
              <a:ext cx="9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2231640" y="1882800"/>
              <a:ext cx="45720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7" name="Rectangle 48"/>
          <p:cNvSpPr/>
          <p:nvPr/>
        </p:nvSpPr>
        <p:spPr>
          <a:xfrm>
            <a:off x="1800" y="265824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324000" y="4581360"/>
            <a:ext cx="316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Inmunidad por magnitud de tensió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4140360" y="6093000"/>
            <a:ext cx="500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Efecto del desbalance de tension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Estrategias de mitig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999720"/>
            <a:ext cx="88581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1. Compensar la fluctuación en la etapa de corriente contínua, manteniendo constante la cupla entregad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2. Esperar antes de reiniciar la marcha de la máquina, permitiendo la completa detención de la mism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3. Detener rápidamente para re-arrancar en condiciones similares al arranque normal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4. Re-arrancar luego de 300 ms a 2 s, permitiendo la desaparición de la fuerza magnetomotriz, siendo ideal disponer de detector de velocidad para reiniciar con la frecuencia correspondiente a la velocidad real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5. Re-sincronizar el inversor con la tensión generada por el motor en ese instante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6. Mantener sincronizado el motor, re-arrancando inmediatamente que retorna la tensión nominal, entregando energía cinética del motor al capacitor para reforzar su carga decreciente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7. Emplear alimentación de corriente contínua de barra común para varios ASDs, utilizando la energía regenerada por otros motores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1413000"/>
            <a:ext cx="8748360" cy="4895280"/>
            <a:chOff x="395280" y="1413000"/>
            <a:chExt cx="8748360" cy="4895280"/>
          </a:xfrm>
        </p:grpSpPr>
        <p:graphicFrame>
          <p:nvGraphicFramePr>
            <p:cNvPr id="165" name="Object 5"/>
            <p:cNvGraphicFramePr/>
            <p:nvPr/>
          </p:nvGraphicFramePr>
          <p:xfrm>
            <a:off x="395280" y="1548360"/>
            <a:ext cx="8217360" cy="475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548360"/>
                      <a:ext cx="8217360" cy="47599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220011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7" name="Text Box 6"/>
            <p:cNvSpPr/>
            <p:nvPr/>
          </p:nvSpPr>
          <p:spPr>
            <a:xfrm>
              <a:off x="3471840" y="1413000"/>
              <a:ext cx="5671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cc"/>
                  </a:solidFill>
                  <a:latin typeface="Tahoma"/>
                </a:rPr>
                <a:t>CONTACTOR TRIFÁSICO CON CONTACTOS AUXILIARES</a:t>
              </a:r>
              <a:endParaRPr b="0" lang="en-US" sz="2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2987640" y="1557360"/>
            <a:ext cx="28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Times New Roman"/>
              </a:rPr>
              <a:t>ESPIR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Times New Roman"/>
              </a:rPr>
              <a:t>EN COR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716360" y="2133720"/>
            <a:ext cx="115092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3716280"/>
          <a:ext cx="3778200" cy="27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6280"/>
                    <a:ext cx="37782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3995640" y="3789360"/>
          <a:ext cx="3527640" cy="265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789360"/>
                    <a:ext cx="35276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3429000" y="1000080"/>
          <a:ext cx="4175280" cy="2371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000080"/>
                    <a:ext cx="41752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0" y="1000080"/>
          <a:ext cx="3538440" cy="1973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000080"/>
                    <a:ext cx="353844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11"/>
          <p:cNvSpPr/>
          <p:nvPr/>
        </p:nvSpPr>
        <p:spPr>
          <a:xfrm>
            <a:off x="3423240" y="6461280"/>
            <a:ext cx="117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V</a:t>
            </a:r>
            <a:r>
              <a:rPr b="0" lang="es-AR" sz="2000" spc="-1" strike="noStrike" baseline="-25000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= 6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596360" y="1413000"/>
            <a:ext cx="1547640" cy="497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20011"/>
                </a:solidFill>
                <a:latin typeface="Times New Roman"/>
              </a:rPr>
              <a:t>Hueco de tensión con duración de ½ cic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Vh = 10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7956720" y="5084640"/>
            <a:ext cx="863280" cy="129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5T21:56:15Z</dcterms:modified>
  <cp:revision>171</cp:revision>
  <dc:subject/>
  <dc:title>Sin título de diapositiva</dc:title>
</cp:coreProperties>
</file>