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21.png" ContentType="image/png"/>
  <Override PartName="/ppt/media/image28.jpeg" ContentType="image/jpeg"/>
  <Override PartName="/ppt/media/image20.png" ContentType="image/png"/>
  <Override PartName="/ppt/media/image29.wmf" ContentType="image/x-wmf"/>
  <Override PartName="/ppt/media/image1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.wmf" ContentType="image/x-wmf"/>
  <Override PartName="/ppt/media/image32.wmf" ContentType="image/x-wmf"/>
  <Override PartName="/ppt/media/image26.png" ContentType="image/png"/>
  <Override PartName="/ppt/media/image17.jpeg" ContentType="image/jpeg"/>
  <Override PartName="/ppt/media/image31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4.png" ContentType="image/png"/>
  <Override PartName="/ppt/media/image9.png" ContentType="image/png"/>
  <Override PartName="/ppt/media/image44.jpeg" ContentType="image/jpeg"/>
  <Override PartName="/ppt/media/image37.wmf" ContentType="image/x-wmf"/>
  <Override PartName="/ppt/media/image46.jpeg" ContentType="image/jpeg"/>
  <Override PartName="/ppt/media/image38.wmf" ContentType="image/x-wmf"/>
  <Override PartName="/ppt/media/image39.wmf" ContentType="image/x-wmf"/>
  <Override PartName="/ppt/media/image47.jpeg" ContentType="image/jpeg"/>
  <Override PartName="/ppt/media/image36.wmf" ContentType="image/x-wmf"/>
  <Override PartName="/ppt/media/image48.jpeg" ContentType="image/jpeg"/>
  <Override PartName="/ppt/media/image8.png" ContentType="image/png"/>
  <Override PartName="/ppt/media/image16.wmf" ContentType="image/x-wmf"/>
  <Override PartName="/ppt/media/image45.jpeg" ContentType="image/jpeg"/>
  <Override PartName="/ppt/media/image12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40.jpeg" ContentType="image/jpeg"/>
  <Override PartName="/ppt/media/image13.jpeg" ContentType="image/jpeg"/>
  <Override PartName="/ppt/media/image23.png" ContentType="image/png"/>
  <Override PartName="/ppt/media/image27.png" ContentType="image/png"/>
  <Override PartName="/ppt/media/image30.wmf" ContentType="image/x-wmf"/>
  <Override PartName="/ppt/media/image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FE4B-BABB-4694-B9F5-AE64099392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E66A-E145-43BF-B591-3470E1051B0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B637-C966-4583-A362-772C6407A1F0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05C-6AFA-41DC-9AAC-C9B69FBF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F0F-E4D4-4A00-ABE7-5ECCD478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481-8D62-45AC-9275-E0537852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7E4-241E-4CBC-A2F2-0D8D53E2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1CF-02ED-4EBC-AFFF-3F84FD58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309F-3B77-4EE3-958A-92086F9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6567-0A07-4DA7-AEA6-8554DA40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3EF6-B6FB-4185-BCF7-987192AD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DD8C-AE87-4C66-9939-D89EBBA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8AB9-38C8-43A2-AC3C-231960D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7C99-29DF-4174-B3AA-E8AA978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B59-5995-4D05-AC67-360A20F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63A6-580B-41FB-898F-0B42F8F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BE4A-22B8-4E90-8EB8-196D91A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5B05-9DDB-4AFA-8A97-909E1F3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305E-B029-401F-94B2-E9F0E0A7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23E-7714-43C7-BAE8-33F8E382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C6D-30D6-4629-B199-0CAD66B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33E-A9D9-490D-A605-066F51B1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A6F-0F75-479C-84EA-48AC58C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4DF-3443-41E3-8D8E-C609346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DCA-E279-402A-8AC4-E051BD3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644-2F9B-47C8-9672-9923A2F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A0C-EF18-45D0-9766-56E5532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596-7F83-48F3-81E8-12272C3B6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DD5-3EF7-47AD-8F05-DB501AFABEA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2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4800" spc="-1" strike="noStrike">
                <a:solidFill>
                  <a:srgbClr val="66ffff"/>
                </a:solidFill>
                <a:latin typeface="Times New Roman"/>
              </a:rPr>
              <a:t>TERMINOLOGÍA Y DEFINICIONES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Sobretensiones Transitor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79280" y="968400"/>
          <a:ext cx="4537080" cy="26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68400"/>
                    <a:ext cx="45370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4140360" y="3838680"/>
          <a:ext cx="5003640" cy="2878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838680"/>
                    <a:ext cx="50036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7"/>
          <p:cNvSpPr/>
          <p:nvPr/>
        </p:nvSpPr>
        <p:spPr>
          <a:xfrm>
            <a:off x="1116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3 kAc, 2/3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86728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,8 pu, 1,1 kH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4793040" y="10717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mpuls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7 CuadroTexto"/>
          <p:cNvSpPr/>
          <p:nvPr/>
        </p:nvSpPr>
        <p:spPr>
          <a:xfrm>
            <a:off x="2505960" y="600084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Oscilator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Otros fenómenos importan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250920" y="1773360"/>
          <a:ext cx="6431040" cy="378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6431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DC offs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Desbal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Ferroresona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C Offset 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(por GIC, Geomagnetically Induced Currents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0" name="Picture 3" descr="geomagnetic 1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63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invertida"/>
          <p:cNvPicPr/>
          <p:nvPr/>
        </p:nvPicPr>
        <p:blipFill>
          <a:blip r:embed="rId2"/>
          <a:stretch/>
        </p:blipFill>
        <p:spPr>
          <a:xfrm>
            <a:off x="1763640" y="3875040"/>
            <a:ext cx="5761080" cy="2982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nvertido"/>
          <p:cNvPicPr/>
          <p:nvPr/>
        </p:nvPicPr>
        <p:blipFill>
          <a:blip r:embed="rId3"/>
          <a:stretch/>
        </p:blipFill>
        <p:spPr>
          <a:xfrm>
            <a:off x="5796000" y="1052640"/>
            <a:ext cx="3132000" cy="2735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4067280" y="1916280"/>
            <a:ext cx="23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Probabilida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de ocurre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0" y="4508640"/>
            <a:ext cx="16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rrientes registradas de 184 A y 200 A, en USA y Euro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534080" y="42926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duc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l ord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 a 6 V/k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4429080" y="907920"/>
            <a:ext cx="4714920" cy="4848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3141720"/>
            <a:ext cx="4753080" cy="3486240"/>
          </a:xfrm>
          <a:prstGeom prst="rect">
            <a:avLst/>
          </a:prstGeom>
          <a:ln w="0">
            <a:noFill/>
          </a:ln>
        </p:spPr>
      </p:pic>
      <p:sp>
        <p:nvSpPr>
          <p:cNvPr id="169" name="9 Elipse"/>
          <p:cNvSpPr/>
          <p:nvPr/>
        </p:nvSpPr>
        <p:spPr>
          <a:xfrm>
            <a:off x="1357200" y="1071720"/>
            <a:ext cx="1500480" cy="500040"/>
          </a:xfrm>
          <a:prstGeom prst="ellipse">
            <a:avLst/>
          </a:prstGeom>
          <a:solidFill>
            <a:srgbClr val="99004d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11 Conector recto"/>
          <p:cNvSpPr/>
          <p:nvPr/>
        </p:nvSpPr>
        <p:spPr>
          <a:xfrm>
            <a:off x="1143000" y="1357200"/>
            <a:ext cx="1714680" cy="142920"/>
          </a:xfrm>
          <a:prstGeom prst="line">
            <a:avLst/>
          </a:prstGeom>
          <a:ln w="12600">
            <a:solidFill>
              <a:srgbClr val="ffcc00">
                <a:alpha val="9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12 Conector recto"/>
          <p:cNvSpPr/>
          <p:nvPr/>
        </p:nvSpPr>
        <p:spPr>
          <a:xfrm>
            <a:off x="1143000" y="1285920"/>
            <a:ext cx="1714680" cy="71280"/>
          </a:xfrm>
          <a:prstGeom prst="line">
            <a:avLst/>
          </a:prstGeom>
          <a:ln w="12600">
            <a:solidFill>
              <a:srgbClr val="ffcc00">
                <a:alpha val="9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13 Conector recto"/>
          <p:cNvSpPr/>
          <p:nvPr/>
        </p:nvSpPr>
        <p:spPr>
          <a:xfrm>
            <a:off x="1143000" y="1214280"/>
            <a:ext cx="1714680" cy="1800"/>
          </a:xfrm>
          <a:prstGeom prst="line">
            <a:avLst/>
          </a:prstGeom>
          <a:ln w="12600">
            <a:solidFill>
              <a:srgbClr val="ffcc00">
                <a:alpha val="9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 rot="5400000">
            <a:off x="750600" y="-750600"/>
            <a:ext cx="3141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676680" y="642960"/>
            <a:ext cx="5467320" cy="401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0" y="3643200"/>
            <a:ext cx="4448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00080" y="3997440"/>
            <a:ext cx="8143920" cy="286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457440" cy="4000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4286160" y="642960"/>
            <a:ext cx="42674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Desbalance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Diferencias en magnitudes y ángul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59280" y="1413000"/>
            <a:ext cx="2808000" cy="20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3348000" y="1557360"/>
            <a:ext cx="2171880" cy="1809720"/>
            <a:chOff x="3348000" y="1557360"/>
            <a:chExt cx="2171880" cy="1809720"/>
          </a:xfrm>
        </p:grpSpPr>
        <p:sp>
          <p:nvSpPr>
            <p:cNvPr id="184" name="AutoShape 7"/>
            <p:cNvSpPr/>
            <p:nvPr/>
          </p:nvSpPr>
          <p:spPr>
            <a:xfrm>
              <a:off x="3348000" y="1557360"/>
              <a:ext cx="217188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4433400" y="2461680"/>
              <a:ext cx="869040" cy="79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V="1">
              <a:off x="4433400" y="1629000"/>
              <a:ext cx="434880" cy="8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>
              <a:off x="3456360" y="2461680"/>
              <a:ext cx="97668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88" name="Picture 11" descr="fig 8"/>
          <p:cNvPicPr/>
          <p:nvPr/>
        </p:nvPicPr>
        <p:blipFill>
          <a:blip r:embed="rId1"/>
          <a:stretch/>
        </p:blipFill>
        <p:spPr>
          <a:xfrm>
            <a:off x="971640" y="3645000"/>
            <a:ext cx="6769080" cy="29192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3348000" y="1557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95640" y="1413000"/>
            <a:ext cx="338436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                                 </a:t>
            </a: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66003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             </a:t>
            </a: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6600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                                </a:t>
            </a: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6600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ampo de tens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755640" y="1341360"/>
            <a:ext cx="7561440" cy="52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468360" y="1046160"/>
          <a:ext cx="784872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46160"/>
                    <a:ext cx="7848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10"/>
          <p:cNvSpPr/>
          <p:nvPr/>
        </p:nvSpPr>
        <p:spPr>
          <a:xfrm flipH="1">
            <a:off x="4427640" y="4941720"/>
            <a:ext cx="288720" cy="5032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5580000" y="4941720"/>
            <a:ext cx="216000" cy="5032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Interacción Calidad - Electrón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859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fecto de CE en Electrón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5720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fecto de Electrónica en 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50920" y="2583000"/>
          <a:ext cx="397656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83000"/>
                    <a:ext cx="397656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5003640" y="2492280"/>
          <a:ext cx="3924360" cy="306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492280"/>
                    <a:ext cx="39243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 rot="8281800">
            <a:off x="1161720" y="2884320"/>
            <a:ext cx="1284120" cy="47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Oval 8"/>
          <p:cNvSpPr/>
          <p:nvPr/>
        </p:nvSpPr>
        <p:spPr>
          <a:xfrm rot="12065400">
            <a:off x="1285920" y="2849040"/>
            <a:ext cx="2347920" cy="7905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Oval 9"/>
          <p:cNvSpPr/>
          <p:nvPr/>
        </p:nvSpPr>
        <p:spPr>
          <a:xfrm rot="10800000">
            <a:off x="2339640" y="4581000"/>
            <a:ext cx="1871640" cy="576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 rot="12065400">
            <a:off x="6361200" y="2975040"/>
            <a:ext cx="2060640" cy="7905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Oval 11"/>
          <p:cNvSpPr/>
          <p:nvPr/>
        </p:nvSpPr>
        <p:spPr>
          <a:xfrm rot="8281800">
            <a:off x="5949720" y="3162240"/>
            <a:ext cx="742680" cy="69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2"/>
          <p:cNvSpPr/>
          <p:nvPr/>
        </p:nvSpPr>
        <p:spPr>
          <a:xfrm rot="10800000">
            <a:off x="7019640" y="4868640"/>
            <a:ext cx="1439640" cy="215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de problemas I</a:t>
            </a: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0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Descrip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Un transformador de 75 kVA alimentando una estación de trabajo (work station) presentaba temperaturas de trabajo excesivas, a pesar de no entregar corriente en valor eficaz mayor que su valor nom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ausa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rriente de carga sumamente distorsionada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por armónicas, con 65 % de contenido de 3° armónica. Las pérdidas en el hierro de los transformadores son función casi cuadrática de la frecuencia. Bajo las condiciones mencionadas, el equipo es capaz de entregar solo el 82 % de su potencia nom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Reemplazo del transformador por otro de potencia mayor a 75/0,82 = 91,5 kVA, o el tamaño normalizado que le sigue, 100 kVA, con las consecuencias técnicas y económicas de requerir un sobre-dimensionamiento del 33 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2</a:t>
            </a: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Terminología y Definiciones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ormas IEEE e IE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748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Times New Roman"/>
              </a:rPr>
              <a:t>Tipos de problemas de Calidad de Potenc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rupciones y Huecos de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rmónicos, Inter y Subarmón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licker y Mues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tensiones transito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tensiones permanen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ubtens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sbala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de problemas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Descrip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Una de las computadoras críticas de una compañía de procesamiento de datos presentaba daños de disco rígido con frecuencia mensual, con la consiguiente pérdida de datos, y el tiempo requerido para las tareas de reinicio y repetición o realización de nuevos cálcul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ausa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La computadora posee un filtro acondicionador de potencia para el filtrado de transitorios de alta frecuencia y para permitir conectar el neutro a tierra. Además, se encuentra ubicada cerca de un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banco de capacitore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el cual se conecta cada día a las 8 hs. El acondicionador de potencia magnificaba el transitorio de conexión del banco de capacito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Reemplazo del acondicionador por simplemente un transformador aislador, que suministra la impedancia suficiente para amortiguar el transitorio y permite la conexión a tier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de problemas I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Descrip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Una fábrica de plásticos paga una multa significativa por bajo factor de potencia. Efectuado el cálculo y determinada la posición óptima del banco de capacitores, se efectúa la nueva medición, notando que en lugar de 0,69, el nuevo valor es 0,56 aún peor que el anteri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ausa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Existencia de accionamientos de motores (variadores de velocidad) con niveles de distorsión del 60 al 90 %.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Los capacitores compensan o corrigen solamente frecuencia fundamental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o sea mejoran el factor de potencia de desplazamiento. Si existe contaminación armónica, los volt-amperes a mayor frecuencia reducen el factor de potencia verdader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Instalar filtros para reducir el contenido de armónicas de los accionamientos de moto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iveles de Armónicas medidos en la Ciudad de Buenos Aires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0" y="1413000"/>
          <a:ext cx="4427640" cy="24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42764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7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1" name="Object 6"/>
          <p:cNvGraphicFramePr/>
          <p:nvPr/>
        </p:nvGraphicFramePr>
        <p:xfrm>
          <a:off x="0" y="3929040"/>
          <a:ext cx="4362480" cy="21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29040"/>
                    <a:ext cx="43624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9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4" name="Object 8"/>
          <p:cNvGraphicFramePr/>
          <p:nvPr/>
        </p:nvGraphicFramePr>
        <p:xfrm>
          <a:off x="4500720" y="1989000"/>
          <a:ext cx="4643280" cy="2181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989000"/>
                    <a:ext cx="46432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716360" y="4602240"/>
          <a:ext cx="4427640" cy="2255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602240"/>
                    <a:ext cx="442764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Oval 12"/>
          <p:cNvSpPr/>
          <p:nvPr/>
        </p:nvSpPr>
        <p:spPr>
          <a:xfrm>
            <a:off x="2771640" y="3500280"/>
            <a:ext cx="1224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324000" y="1773000"/>
            <a:ext cx="64764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14"/>
          <p:cNvSpPr/>
          <p:nvPr/>
        </p:nvSpPr>
        <p:spPr>
          <a:xfrm flipH="1">
            <a:off x="394920" y="2565360"/>
            <a:ext cx="108108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440" y="321300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0000"/>
                </a:solidFill>
                <a:latin typeface="Times New Roman"/>
              </a:rPr>
              <a:t>2,2: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853160" y="16286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imilar a curva típica de 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10800" y="6000840"/>
            <a:ext cx="4739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Valor más probable +/- 2% &lt;&lt; max. 8 %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c000"/>
                </a:solidFill>
                <a:latin typeface="Times New Roman"/>
              </a:rPr>
              <a:t>* P95 valores no superados por el 95 % de los registr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5508720" y="5734080"/>
            <a:ext cx="26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iveles de Flicker medidos en la Ciudad de Buenos Aires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0" y="1268280"/>
          <a:ext cx="4427640" cy="23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4427640" cy="23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7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1" name="Object 6"/>
          <p:cNvGraphicFramePr/>
          <p:nvPr/>
        </p:nvGraphicFramePr>
        <p:xfrm>
          <a:off x="0" y="3789360"/>
          <a:ext cx="4500720" cy="250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89360"/>
                    <a:ext cx="45007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9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4427640" y="1700280"/>
          <a:ext cx="4716360" cy="2219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700280"/>
                    <a:ext cx="471636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7" name="Object 10"/>
          <p:cNvGraphicFramePr/>
          <p:nvPr/>
        </p:nvGraphicFramePr>
        <p:xfrm>
          <a:off x="4500720" y="4422600"/>
          <a:ext cx="4643280" cy="2435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4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422600"/>
                    <a:ext cx="46432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Oval 12"/>
          <p:cNvSpPr/>
          <p:nvPr/>
        </p:nvSpPr>
        <p:spPr>
          <a:xfrm>
            <a:off x="2987640" y="3213000"/>
            <a:ext cx="1152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13"/>
          <p:cNvSpPr/>
          <p:nvPr/>
        </p:nvSpPr>
        <p:spPr>
          <a:xfrm flipV="1">
            <a:off x="250920" y="1557360"/>
            <a:ext cx="1296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395280" y="2491920"/>
            <a:ext cx="97164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60" y="2781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Times New Roman"/>
              </a:rPr>
              <a:t>4: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Oval 16"/>
          <p:cNvSpPr/>
          <p:nvPr/>
        </p:nvSpPr>
        <p:spPr>
          <a:xfrm>
            <a:off x="1979640" y="2708280"/>
            <a:ext cx="36036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4446000" y="124632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Similar a curva de carga comercial/industr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1800" y="6211800"/>
            <a:ext cx="44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Valor más probable +/- 0,2 &lt;&lt; max.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5219640" y="5589720"/>
            <a:ext cx="2305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5148360" y="5589720"/>
            <a:ext cx="295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(EPRI)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Huecos de Tensió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9" name="Picture 4" descr="200"/>
          <p:cNvPicPr/>
          <p:nvPr/>
        </p:nvPicPr>
        <p:blipFill>
          <a:blip r:embed="rId1"/>
          <a:stretch/>
        </p:blipFill>
        <p:spPr>
          <a:xfrm>
            <a:off x="0" y="3429000"/>
            <a:ext cx="5148360" cy="296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201"/>
          <p:cNvPicPr/>
          <p:nvPr/>
        </p:nvPicPr>
        <p:blipFill>
          <a:blip r:embed="rId2"/>
          <a:stretch/>
        </p:blipFill>
        <p:spPr>
          <a:xfrm>
            <a:off x="5410080" y="1557360"/>
            <a:ext cx="3733920" cy="1981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202"/>
          <p:cNvPicPr/>
          <p:nvPr/>
        </p:nvPicPr>
        <p:blipFill>
          <a:blip r:embed="rId3"/>
          <a:stretch/>
        </p:blipFill>
        <p:spPr>
          <a:xfrm>
            <a:off x="5334120" y="4286160"/>
            <a:ext cx="3809880" cy="1946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200"/>
          <p:cNvPicPr/>
          <p:nvPr/>
        </p:nvPicPr>
        <p:blipFill>
          <a:blip r:embed="rId4"/>
          <a:srcRect l="74864" t="12890" r="4024" b="67402"/>
          <a:stretch/>
        </p:blipFill>
        <p:spPr>
          <a:xfrm>
            <a:off x="0" y="1484280"/>
            <a:ext cx="2124000" cy="1143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1"/>
          <p:cNvSpPr/>
          <p:nvPr/>
        </p:nvSpPr>
        <p:spPr>
          <a:xfrm>
            <a:off x="2681280" y="136044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97,7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,3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00"/>
                </a:solidFill>
                <a:latin typeface="Times New Roman"/>
              </a:rPr>
              <a:t>48,1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,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12"/>
          <p:cNvSpPr/>
          <p:nvPr/>
        </p:nvSpPr>
        <p:spPr>
          <a:xfrm flipV="1">
            <a:off x="1908000" y="1628280"/>
            <a:ext cx="64800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1908000" y="1988640"/>
            <a:ext cx="792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979640" y="2276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835280" y="2492280"/>
            <a:ext cx="1008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835280" y="5229360"/>
            <a:ext cx="309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24000" y="4941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om. 67 %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6588000" y="314172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8590680" y="299736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Line 20"/>
          <p:cNvSpPr/>
          <p:nvPr/>
        </p:nvSpPr>
        <p:spPr>
          <a:xfrm flipV="1">
            <a:off x="3419640" y="4365360"/>
            <a:ext cx="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05092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om. 109 C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6500880" y="4286160"/>
            <a:ext cx="2016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19 Forma libre"/>
          <p:cNvSpPr/>
          <p:nvPr/>
        </p:nvSpPr>
        <p:spPr>
          <a:xfrm rot="2535600">
            <a:off x="7267320" y="4106880"/>
            <a:ext cx="338040" cy="2198520"/>
          </a:xfrm>
          <a:prstGeom prst="pie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Tensión en régimen permanente: magnitud y desbalanc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7" name="Picture 4" descr="203"/>
          <p:cNvPicPr/>
          <p:nvPr/>
        </p:nvPicPr>
        <p:blipFill>
          <a:blip r:embed="rId1"/>
          <a:stretch/>
        </p:blipFill>
        <p:spPr>
          <a:xfrm>
            <a:off x="0" y="1268280"/>
            <a:ext cx="4859280" cy="249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204"/>
          <p:cNvPicPr/>
          <p:nvPr/>
        </p:nvPicPr>
        <p:blipFill>
          <a:blip r:embed="rId2"/>
          <a:stretch/>
        </p:blipFill>
        <p:spPr>
          <a:xfrm>
            <a:off x="3924360" y="3997440"/>
            <a:ext cx="5219640" cy="249876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11280" y="1557360"/>
            <a:ext cx="1008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243480" y="2924280"/>
            <a:ext cx="29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37 % desbalance nul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75 % &lt; 1% desb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uy pocas &gt; 1,5 % desb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7164360" y="4581360"/>
            <a:ext cx="100800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Transitorios: magnitud y duració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3" name="Picture 4" descr="205"/>
          <p:cNvPicPr/>
          <p:nvPr/>
        </p:nvPicPr>
        <p:blipFill>
          <a:blip r:embed="rId1"/>
          <a:stretch/>
        </p:blipFill>
        <p:spPr>
          <a:xfrm>
            <a:off x="0" y="1484280"/>
            <a:ext cx="5076720" cy="2478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206"/>
          <p:cNvPicPr/>
          <p:nvPr/>
        </p:nvPicPr>
        <p:blipFill>
          <a:blip r:embed="rId2"/>
          <a:stretch/>
        </p:blipFill>
        <p:spPr>
          <a:xfrm>
            <a:off x="4140360" y="4070520"/>
            <a:ext cx="5003640" cy="2441520"/>
          </a:xfrm>
          <a:prstGeom prst="rect">
            <a:avLst/>
          </a:prstGeom>
          <a:ln w="0">
            <a:noFill/>
          </a:ln>
        </p:spPr>
      </p:pic>
      <p:sp>
        <p:nvSpPr>
          <p:cNvPr id="285" name="Oval 8"/>
          <p:cNvSpPr/>
          <p:nvPr/>
        </p:nvSpPr>
        <p:spPr>
          <a:xfrm>
            <a:off x="3203640" y="191628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162400" y="148428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77 % &lt; 1,25 p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3 % de 1,25 a 1,4 p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-9720" y="5661000"/>
            <a:ext cx="40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ayor probabilidad entre 3 y 7 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No hay eventos más largos que 16 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7236000" y="458136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Armónicas de tensión y corrient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0" name="Picture 4" descr="209"/>
          <p:cNvPicPr/>
          <p:nvPr/>
        </p:nvPicPr>
        <p:blipFill>
          <a:blip r:embed="rId1"/>
          <a:stretch/>
        </p:blipFill>
        <p:spPr>
          <a:xfrm>
            <a:off x="0" y="1268280"/>
            <a:ext cx="5003640" cy="2560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210"/>
          <p:cNvPicPr/>
          <p:nvPr/>
        </p:nvPicPr>
        <p:blipFill>
          <a:blip r:embed="rId2"/>
          <a:stretch/>
        </p:blipFill>
        <p:spPr>
          <a:xfrm>
            <a:off x="4211640" y="3913200"/>
            <a:ext cx="4932360" cy="2614680"/>
          </a:xfrm>
          <a:prstGeom prst="rect">
            <a:avLst/>
          </a:prstGeom>
          <a:ln w="0">
            <a:noFill/>
          </a:ln>
        </p:spPr>
      </p:pic>
      <p:sp>
        <p:nvSpPr>
          <p:cNvPr id="292" name="Oval 8"/>
          <p:cNvSpPr/>
          <p:nvPr/>
        </p:nvSpPr>
        <p:spPr>
          <a:xfrm>
            <a:off x="3203640" y="18446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7236000" y="45086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5110920" y="1341360"/>
            <a:ext cx="389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ayor probabilidad de 0,8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Casi no hay registros mayores a 3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uy inferiores al máximo de 8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15000" y="5157720"/>
            <a:ext cx="389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ayor probabilidad de 0,4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Casi no hay registros mayores a 5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uy inferiores al máximo de 20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Temas aparentemente priorita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cc"/>
                </a:solidFill>
                <a:latin typeface="Times New Roman"/>
              </a:rPr>
              <a:t>Todos los sectores involucrados manifiestan su preocupación por las interrupciones (frecuencia y duración) y apartamientos de la magnitud de tensión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cc"/>
                </a:solidFill>
                <a:latin typeface="Times New Roman"/>
              </a:rPr>
              <a:t>Muchos sectores, en numerosos países se interesan ahora en armónicas y flicker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cc"/>
                </a:solidFill>
                <a:latin typeface="Times New Roman"/>
              </a:rPr>
              <a:t>Algunos sectores en unos pocos países están preocupados por el desbalan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Que ocurre con los restantes evento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cc00"/>
                </a:solidFill>
                <a:latin typeface="Times New Roman"/>
              </a:rPr>
              <a:t>Temas candentes en la actualidad</a:t>
            </a:r>
            <a:br>
              <a:rPr sz="46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(se estudiarán en mayor detalle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66ffff"/>
                </a:solidFill>
                <a:latin typeface="Times New Roman"/>
              </a:rPr>
              <a:t>Huecos de tensión,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0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66ffff"/>
                </a:solidFill>
                <a:latin typeface="Times New Roman"/>
              </a:rPr>
              <a:t>Armónicas,  y 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0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66ffff"/>
                </a:solidFill>
                <a:latin typeface="Times New Roman"/>
              </a:rPr>
              <a:t>Sobretensiones que dañan a los artefactos del usuario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Interrup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Picture 6" descr="fig2"/>
          <p:cNvPicPr/>
          <p:nvPr/>
        </p:nvPicPr>
        <p:blipFill>
          <a:blip r:embed="rId1"/>
          <a:stretch/>
        </p:blipFill>
        <p:spPr>
          <a:xfrm>
            <a:off x="4572000" y="3573360"/>
            <a:ext cx="4356000" cy="28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8"/>
          <p:cNvGraphicFramePr/>
          <p:nvPr/>
        </p:nvGraphicFramePr>
        <p:xfrm>
          <a:off x="179280" y="981000"/>
          <a:ext cx="4500720" cy="255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4500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10"/>
          <p:cNvSpPr/>
          <p:nvPr/>
        </p:nvSpPr>
        <p:spPr>
          <a:xfrm>
            <a:off x="395280" y="364500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ef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= 1              0,7               0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340000" y="3429000"/>
            <a:ext cx="0" cy="79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780000" y="3500280"/>
            <a:ext cx="0" cy="720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7 CuadroTexto"/>
          <p:cNvSpPr/>
          <p:nvPr/>
        </p:nvSpPr>
        <p:spPr>
          <a:xfrm>
            <a:off x="4665600" y="1214280"/>
            <a:ext cx="444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000"/>
                </a:solidFill>
                <a:latin typeface="Times New Roman"/>
              </a:rPr>
              <a:t>Momentánea: 0,5 ciclo a 3 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000"/>
                </a:solidFill>
                <a:latin typeface="Times New Roman"/>
              </a:rPr>
              <a:t>Temporaria: 3 s a 1 minut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000"/>
                </a:solidFill>
                <a:latin typeface="Times New Roman"/>
              </a:rPr>
              <a:t>Sostenida: duración mayor a 1 minut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Huecos (Sags o Dips) y Swells de tensión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altos de fas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7" name="Picture 5" descr="fig2-2"/>
          <p:cNvPicPr/>
          <p:nvPr/>
        </p:nvPicPr>
        <p:blipFill>
          <a:blip r:embed="rId1"/>
          <a:stretch/>
        </p:blipFill>
        <p:spPr>
          <a:xfrm>
            <a:off x="228600" y="1219320"/>
            <a:ext cx="4572000" cy="32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6"/>
          <p:cNvGraphicFramePr/>
          <p:nvPr/>
        </p:nvGraphicFramePr>
        <p:xfrm>
          <a:off x="4952880" y="3803760"/>
          <a:ext cx="4191120" cy="30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803760"/>
                    <a:ext cx="419112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7"/>
          <p:cNvSpPr/>
          <p:nvPr/>
        </p:nvSpPr>
        <p:spPr>
          <a:xfrm>
            <a:off x="395280" y="450864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ef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= 1       0,75   1,25       1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763640" y="4292640"/>
            <a:ext cx="0" cy="79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484360" y="4365720"/>
            <a:ext cx="0" cy="718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492360" y="4365720"/>
            <a:ext cx="0" cy="718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940360" y="4724280"/>
            <a:ext cx="696960" cy="698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món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744720" cy="2965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11640" y="3040200"/>
            <a:ext cx="475128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món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5" descr="fig2-4"/>
          <p:cNvPicPr/>
          <p:nvPr/>
        </p:nvPicPr>
        <p:blipFill>
          <a:blip r:embed="rId1"/>
          <a:srcRect l="0" t="0" r="0" b="10854"/>
          <a:stretch/>
        </p:blipFill>
        <p:spPr>
          <a:xfrm>
            <a:off x="179280" y="907920"/>
            <a:ext cx="4407120" cy="3030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fig2-5"/>
          <p:cNvPicPr/>
          <p:nvPr/>
        </p:nvPicPr>
        <p:blipFill>
          <a:blip r:embed="rId2"/>
          <a:stretch/>
        </p:blipFill>
        <p:spPr>
          <a:xfrm>
            <a:off x="4800600" y="3422520"/>
            <a:ext cx="4114800" cy="3173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1042920" y="5157720"/>
            <a:ext cx="40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ubarmón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terarmón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042920" y="3933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esencia de 2ª y 5ª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mónicas y Factor de Pote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ctor de potencia verdadero y de desplaz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definición de la potencia reactiva frente a presencia de armón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oherencia de las indicaciones de los medidores de ener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edidor de inducción versus dig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licker  y Ran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79280" y="907920"/>
          <a:ext cx="4897440" cy="28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89744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3564000" y="4087800"/>
          <a:ext cx="5329080" cy="27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87800"/>
                    <a:ext cx="53290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5" descr="notches"/>
          <p:cNvPicPr/>
          <p:nvPr/>
        </p:nvPicPr>
        <p:blipFill>
          <a:blip r:embed="rId5"/>
          <a:stretch/>
        </p:blipFill>
        <p:spPr>
          <a:xfrm>
            <a:off x="6176880" y="692280"/>
            <a:ext cx="29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licker  y Ran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5989" t="0" r="0" b="0"/>
          <a:stretch/>
        </p:blipFill>
        <p:spPr>
          <a:xfrm>
            <a:off x="3071880" y="3929040"/>
            <a:ext cx="5869080" cy="276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cdrive"/>
          <p:cNvPicPr/>
          <p:nvPr/>
        </p:nvPicPr>
        <p:blipFill>
          <a:blip r:embed="rId2"/>
          <a:stretch/>
        </p:blipFill>
        <p:spPr>
          <a:xfrm>
            <a:off x="250920" y="907920"/>
            <a:ext cx="5940360" cy="2489400"/>
          </a:xfrm>
          <a:prstGeom prst="rect">
            <a:avLst/>
          </a:prstGeom>
          <a:ln w="0">
            <a:noFill/>
          </a:ln>
        </p:spPr>
      </p:pic>
      <p:sp>
        <p:nvSpPr>
          <p:cNvPr id="144" name="6 Elipse"/>
          <p:cNvSpPr/>
          <p:nvPr/>
        </p:nvSpPr>
        <p:spPr>
          <a:xfrm>
            <a:off x="1214280" y="1285920"/>
            <a:ext cx="1785960" cy="185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7 Elipse"/>
          <p:cNvSpPr/>
          <p:nvPr/>
        </p:nvSpPr>
        <p:spPr>
          <a:xfrm>
            <a:off x="3929040" y="4643280"/>
            <a:ext cx="1285920" cy="2000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5T12:54:29Z</dcterms:modified>
  <cp:revision>125</cp:revision>
  <dc:subject/>
  <dc:title>Sin título de diapositiva</dc:title>
</cp:coreProperties>
</file>