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2B1-6FBC-4579-AA32-9DF249D37E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231-E17E-48A5-8209-20FE9C96764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2FD-D931-41EA-9EB1-AF009FA97C17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258C-5CBF-4A65-9036-5DCB6159AFAF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7281-0A76-4294-96F7-9CA25D684300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9D9-F479-44B2-A334-6559CC76A73F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C99-72F0-42DD-8D11-FA804E0FCA6F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47A0-4844-49B9-99FB-C4DCED50097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0E4C-FC14-4E68-B611-9D2C11A818D8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A12-4307-4AAC-A786-F1DDA0A32578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25E7-AAB6-41B9-B98F-C018FF6D1F28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1D1E-4FD8-452F-B34E-A43A454C7AE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D21C-1387-46D4-9529-25D8DB59DF10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3A5B-E710-4382-9151-A7BB60C3DFF8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13AE-D1C8-451B-B433-3B24F52F3660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BE15-2312-4366-BBA7-5A722174666B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043-422C-4A8F-B559-D6D4FE07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2AC-05B3-414E-9BB9-EDFCB9E4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E3C-D168-4224-AA36-2E0E55A5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8F4-2D3F-4C8A-BCCF-D7548A9E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B32D-130F-4138-93BC-62AE2AE5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7049-CBB9-4372-AE0F-0DC9B49D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2F7D-10AA-4786-BFBF-06A6707F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8BAA-CB88-48F4-9ECA-D2FBB9BF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47DC-8251-44DB-A4D2-3DF65B4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3EC9-DB7E-4CE9-9F48-2C4F5198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070C-82B8-4EB5-B428-5AD37EE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EE4-8E4D-4BB9-B90F-F702B9C0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3B5A-CB33-4C55-8F7D-0A35CD2E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449C-6322-4339-9878-5AC180AE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F7A-8A34-428F-9858-D7C784F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168A-1E31-4814-87D4-F3043665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A46B-B7F6-404E-8C9B-5738EAB6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693-E1C0-42D5-A0CF-DF5CF1F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7AC-7774-42B2-AD35-C537247C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3FD-3405-4261-8A1B-C4411E26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807-CE87-4828-8E88-F0246DF0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846-BD30-4618-BEFA-9571E72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CA1-6781-4CF7-8BD2-745A16B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480-949A-41BD-8DA5-1CF6B065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90FC-89F5-40B5-8260-AA52BB48F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2E94-6896-4706-B86D-6F3690B78DF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3818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00"/>
                </a:solidFill>
                <a:latin typeface="Times New Roman"/>
              </a:rPr>
              <a:t>Calidad de Potencia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349000"/>
            <a:ext cx="7777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xtensión del concepto a Compatibilidad Electromagnét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 del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ambiente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conducción no galvánica y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frecuencias eleva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sayos típicos: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emisión e inmunidad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frente a campos electromagnético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s de los campos sobre la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sal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Seguridad persona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varios accidentes recientes con vehículos y en hospit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enómenos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difíciles de explic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orporación de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nuevos act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ferencias por 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auto-perturb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fectos esperados para los próximos añ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78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acto de la Generación Distribuid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ecimiento en la presencia de armón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remento de la incidencia de los Huecos de Ten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s en la identificación de responsabilidades por daños a equip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s de compatibilidad electromagné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Necesidad de nuevos índices de c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ectores o actores involucr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Empresa Eléctric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Organismo regulad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Usuari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Fabricante de equip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ffff"/>
                </a:solidFill>
                <a:latin typeface="Times New Roman"/>
              </a:rPr>
              <a:t>Municipalidad o alcaldí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n grandes discrepancias entre si y acusándose mutuamente de incumplimientos de funcione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Percepciones de los secto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395280" y="1347840"/>
          <a:ext cx="3889440" cy="30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7840"/>
                    <a:ext cx="38894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5" descr="fig1-2b"/>
          <p:cNvPicPr/>
          <p:nvPr/>
        </p:nvPicPr>
        <p:blipFill>
          <a:blip r:embed="rId3"/>
          <a:stretch/>
        </p:blipFill>
        <p:spPr>
          <a:xfrm>
            <a:off x="4859280" y="3429000"/>
            <a:ext cx="388944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403280" y="3789360"/>
            <a:ext cx="792360" cy="216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276720" y="2852640"/>
            <a:ext cx="792000" cy="216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-11160" y="4786200"/>
            <a:ext cx="46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uerza Mayor, Imposibilidad sobrevinient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 caso fortuito o Acción de D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858920" y="142884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eoría de los cuatro f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9" name="10 Conector recto de flecha"/>
          <p:cNvCxnSpPr/>
          <p:nvPr/>
        </p:nvCxnSpPr>
        <p:spPr>
          <a:xfrm flipV="1">
            <a:off x="1357200" y="4071600"/>
            <a:ext cx="215280" cy="714960"/>
          </a:xfrm>
          <a:prstGeom prst="straightConnector1">
            <a:avLst/>
          </a:prstGeom>
          <a:ln w="1584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mpresa Eléctr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Formación técnica y económica muy bue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rioriza el beneficio económico dejando de lado aspectos técnicos important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xplota la debilidad de los organismos regulador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Organismo Regulad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Capacidad técnica limitada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Posee fuertes cargas subjetiv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Emite señales débile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Inconsistencia entre respuest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imes New Roman"/>
              </a:rPr>
              <a:t>Es altamente susceptible a las influencias política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Usua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osee escasa formación técnic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Tiende a culpar a la empresa eléctrica de todos los problem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xplota su situación de presunta debilidad frente a la empres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Adquiere e instala el equipamiento sensible y contaminante sin evaluar las consecuenci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Fabricante de Equip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Produce equipos de baja inmunidad a las perturbaciones y altamente contaminante, a fin de minimizar costos, explotando el desconocimiento del usuario y la debilidad de las reglamentacion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Fomenta la utilización de equipos mitigadores, que solucionan algún problema pero crean o magnifican otro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Municipal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82000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En general no cumple la función de policía en lo que respecta a equipos e instalac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Su actuación se reduce normalmente a percibir un arancel por la “verificación en papel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La ocurrencia de accidentes fatales está comenzando a modificar la actual pasivida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Características de los equipos </a:t>
            </a:r>
            <a:br>
              <a:rPr sz="4000"/>
            </a:b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sensib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Tendencia general al aumento de sensibilidad a perturba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lidad directamente relacionada con pre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Marcas de reconocida calidad fabrican productos diferenciados para nuestro merc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trol “light” o inexist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cumulación de daño y “garantía de fabricante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o se informa su nivel de Inmun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 se entiende </a:t>
            </a:r>
            <a:r>
              <a:rPr b="1" lang="es-MX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</a:t>
            </a:r>
            <a:r>
              <a:rPr b="1" lang="es-MX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Calidad de Potenci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09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Times New Roman"/>
              </a:rPr>
              <a:t>Se dispone de Calidad de Potencia adecuada cuando la magnitud de tensión y frecuencia, como también la forma de onda de la tensión permiten que los equipos de uso final funcionen cumpliendo con sus especificaciones de diseñ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Times New Roman"/>
              </a:rPr>
              <a:t>Si no se reúnen estas condiciones, los equipos no funcionan como se espera y pueden ser afecta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tección de problemas evidentes de CP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134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recuentes interrup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evado número de equipos dañ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s equipos sensibles experimentan frecuentes salidas de servici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padeo de lámpar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ferencia de las comunica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ductores sobrecalentad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ransformadores con temperatura de trabajo excesiv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tección de problemas vagos de C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ibración en conductos metálica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s equipos sensibles pierden frecuentemente programas y ajuste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otores ruidos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quipos con fallas de operación esporád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oltaje contra tierra en lugares inesper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ducida vida útil de equip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padeo de lámpar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¿Arte o ciencia?, Factor suerte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Objetivos del estudio de CP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Maximizar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productividad y rentabilidad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la instalación del usuario final mediante mejoras en la CP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Determinar la CP del suministro eléctrico, desde el punto de vista del usuario, en un punto determinado del sistema, como por ejemplo para decidir respecto 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adicación de una industria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sensible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studio económico de pliegos par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concesión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servic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valuar las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exigencias o requerimient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relacionados con la calidad de potencia dentro de las instalaciones del usuario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Redacción de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eglamentacione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y especificación de límites de nivel de perturbaciones de régimen permanente y transitor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studio de ofertas para la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adquisición de equip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de medición y monitoreo de CP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Dilucidar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disputa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entre los participantes del sistema, normalmente entre la empresa distribuidora y el usuario o entre usuario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Construcción de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cuadros tarifario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Elaborar </a:t>
            </a:r>
            <a:r>
              <a:rPr b="0" lang="es-ES_tradnl" sz="2300" spc="-1" strike="noStrike">
                <a:solidFill>
                  <a:srgbClr val="ffcc00"/>
                </a:solidFill>
                <a:latin typeface="Times New Roman"/>
              </a:rPr>
              <a:t>recomendaciones</a:t>
            </a:r>
            <a:r>
              <a:rPr b="0" lang="es-ES_tradnl" sz="2300" spc="-1" strike="noStrike">
                <a:solidFill>
                  <a:srgbClr val="ffffcc"/>
                </a:solidFill>
                <a:latin typeface="Times New Roman"/>
              </a:rPr>
              <a:t> para la mejora de la CP, sugiriendo:. modificaciones del sistema de suministro, cambios de las instalaciones del usuario y consideraciones sobre equipos sensibles y correctores 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Algunas defini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7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Perturbación (permanente o transitor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v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quipo de uso fi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quipo sen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El efecto, en orden creciente, se clasifica e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funcionamiento incorrecto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salidas de servicio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reducción de vida útil (daño incipiente) 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ff"/>
                </a:solidFill>
                <a:latin typeface="Times New Roman"/>
              </a:rPr>
              <a:t>daño.</a:t>
            </a:r>
            <a:r>
              <a:rPr b="1" lang="es-MX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lidad de Potencia y Regul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sistema de penalización y el tarifario naturalmente incentivan a la empresa para expandirse y mantener al sistema hasta el punto donde el costo marginal de expansión y mantenimiento igualan al costo marginal de las penal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 esta manera se supone que el gobierno no debe entrar en la discusión y control de planes de inversión y estructura de cos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00"/>
                </a:solidFill>
                <a:latin typeface="Times New Roman"/>
              </a:rPr>
              <a:t>Calidad de Energía o de Potencia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Servicio Técnico (confiabilida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Producto Técnico (usabilida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imes New Roman"/>
              </a:rPr>
              <a:t>Calidad de Servicio Comercial (atención al usuario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volución del concepto de calidad de energía desde la década del 1980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ayoría de la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perturbacion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que afectan a los equipos hoy, han estado siempre presentes en los sistemas eléctric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ía a día la energía eléctrica con alta calidad es más imperiosa para la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actividad human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, en aplicaciones industriales, comerciales y domiciliari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s equipos de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uso fin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on cada día má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sensibl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a la CP y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a su vez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á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contaminante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cremento de potencias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unitarias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La competencia de </a:t>
            </a:r>
            <a:r>
              <a:rPr b="0" lang="es-MX" sz="2800" spc="-1" strike="noStrike">
                <a:solidFill>
                  <a:srgbClr val="ffcc00"/>
                </a:solidFill>
                <a:latin typeface="Times New Roman"/>
              </a:rPr>
              <a:t>mercado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y el </a:t>
            </a:r>
            <a:r>
              <a:rPr b="0" lang="es-MX" sz="2800" spc="-1" strike="noStrike">
                <a:solidFill>
                  <a:srgbClr val="ffcc00"/>
                </a:solidFill>
                <a:latin typeface="Times New Roman"/>
              </a:rPr>
              <a:t>desconocimiento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incrementan sensibilidad y nivel de contamin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ndices de inmunidad de equip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557360"/>
          <a:ext cx="8497800" cy="4816440"/>
        </p:xfrm>
        <a:graphic>
          <a:graphicData uri="http://schemas.openxmlformats.org/drawingml/2006/table">
            <a:tbl>
              <a:tblPr/>
              <a:tblGrid>
                <a:gridCol w="1365120"/>
                <a:gridCol w="2016360"/>
                <a:gridCol w="511632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Índi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jemplo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alt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otores, transformadores, lámparas incandescentes y cargas resistiv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moderad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lastos electrónicos, reles electromecánicos y de estado sólido, PLC y ASD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munidad baj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unicaciones, equipamiento procesador de datos y señales (PCs), equipamiento médico, et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volución de la electrónica</a:t>
            </a:r>
            <a:br>
              <a:rPr sz="4000"/>
            </a:b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Año 2000, 20-30 % EE; Hoy 2010, 50%; 2020, 60-70 % E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32860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siderables incrementos de valores nominales de Voltaje, Potencia y </a:t>
            </a: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Frecuenci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ímite a Julio 2010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4 kA y 8 kV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umento de potencias unitar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10" descr="fig1-1"/>
          <p:cNvPicPr/>
          <p:nvPr/>
        </p:nvPicPr>
        <p:blipFill>
          <a:blip r:embed="rId1"/>
          <a:stretch/>
        </p:blipFill>
        <p:spPr>
          <a:xfrm>
            <a:off x="3059280" y="1773360"/>
            <a:ext cx="5400360" cy="4457520"/>
          </a:xfrm>
          <a:prstGeom prst="rect">
            <a:avLst/>
          </a:prstGeom>
          <a:ln w="0">
            <a:noFill/>
          </a:ln>
        </p:spPr>
      </p:pic>
      <p:sp>
        <p:nvSpPr>
          <p:cNvPr id="122" name="Freeform 18"/>
          <p:cNvSpPr/>
          <p:nvPr/>
        </p:nvSpPr>
        <p:spPr>
          <a:xfrm>
            <a:off x="6700680" y="2949480"/>
            <a:ext cx="76320" cy="41400"/>
          </a:xfrm>
          <a:prstGeom prst="pie">
            <a:avLst/>
          </a:prstGeom>
          <a:noFill/>
          <a:ln w="2844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Freeform 20"/>
          <p:cNvSpPr/>
          <p:nvPr/>
        </p:nvSpPr>
        <p:spPr>
          <a:xfrm>
            <a:off x="6764400" y="2946240"/>
            <a:ext cx="101520" cy="1800"/>
          </a:xfrm>
          <a:prstGeom prst="pie">
            <a:avLst/>
          </a:prstGeom>
          <a:noFill/>
          <a:ln w="28440">
            <a:solidFill>
              <a:srgbClr val="220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oncepto de 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Punto de acoplamiento común (PAC)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800"/>
            </a:br>
            <a:r>
              <a:rPr b="1" lang="es-ES_tradnl" sz="4000" spc="-1" strike="noStrike">
                <a:solidFill>
                  <a:srgbClr val="ff6600"/>
                </a:solidFill>
                <a:latin typeface="Times New Roman"/>
              </a:rPr>
              <a:t>Regulación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4000" y="2060640"/>
            <a:ext cx="478152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042920" y="2438280"/>
            <a:ext cx="3757680" cy="2666880"/>
            <a:chOff x="1042920" y="2438280"/>
            <a:chExt cx="3757680" cy="2666880"/>
          </a:xfrm>
        </p:grpSpPr>
        <p:sp>
          <p:nvSpPr>
            <p:cNvPr id="127" name="Oval 5"/>
            <p:cNvSpPr/>
            <p:nvPr/>
          </p:nvSpPr>
          <p:spPr>
            <a:xfrm>
              <a:off x="1042920" y="2854080"/>
              <a:ext cx="34164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2921760" y="2472840"/>
              <a:ext cx="0" cy="263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>
              <a:off x="2955600" y="2680560"/>
              <a:ext cx="5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>
              <a:off x="4458600" y="2854080"/>
              <a:ext cx="27324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V="1">
              <a:off x="4458960" y="2985480"/>
              <a:ext cx="27324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 flipH="1">
              <a:off x="4254120" y="3114720"/>
              <a:ext cx="409680" cy="39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 flipV="1">
              <a:off x="4595400" y="2985480"/>
              <a:ext cx="13644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3502440" y="2438280"/>
              <a:ext cx="81972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Carg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1384560" y="2966400"/>
              <a:ext cx="15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2921760" y="395388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2921760" y="444744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2921760" y="49410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2921760" y="32958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1213560" y="3295800"/>
              <a:ext cx="853920" cy="49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Fuente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3263400" y="4118400"/>
              <a:ext cx="153720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Alimentadores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sano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Text Box 20"/>
            <p:cNvSpPr/>
            <p:nvPr/>
          </p:nvSpPr>
          <p:spPr>
            <a:xfrm>
              <a:off x="3263400" y="2966400"/>
              <a:ext cx="1366200" cy="14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Alimentado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en fall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4288320" y="395388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>
              <a:off x="4288320" y="444744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4117320" y="4941000"/>
              <a:ext cx="51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1725840" y="28022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>
              <a:off x="3092400" y="2966400"/>
              <a:ext cx="0" cy="3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Line 26"/>
            <p:cNvSpPr/>
            <p:nvPr/>
          </p:nvSpPr>
          <p:spPr>
            <a:xfrm>
              <a:off x="3605040" y="3460320"/>
              <a:ext cx="51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9" name="Rectangle 27"/>
          <p:cNvSpPr/>
          <p:nvPr/>
        </p:nvSpPr>
        <p:spPr>
          <a:xfrm>
            <a:off x="5435640" y="2349360"/>
            <a:ext cx="352908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940360" y="2492280"/>
            <a:ext cx="2830680" cy="1914120"/>
            <a:chOff x="5940360" y="2492280"/>
            <a:chExt cx="2830680" cy="1914120"/>
          </a:xfrm>
        </p:grpSpPr>
        <p:sp>
          <p:nvSpPr>
            <p:cNvPr id="151" name="Rectangle 29"/>
            <p:cNvSpPr/>
            <p:nvPr/>
          </p:nvSpPr>
          <p:spPr>
            <a:xfrm>
              <a:off x="7722360" y="3859200"/>
              <a:ext cx="41940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Z</a:t>
              </a:r>
              <a:r>
                <a:rPr b="0" lang="es-ES_tradnl" sz="1400" spc="-1" strike="noStrike" baseline="-25000">
                  <a:solidFill>
                    <a:srgbClr val="9c004e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5940360" y="3529080"/>
              <a:ext cx="209160" cy="31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31"/>
            <p:cNvSpPr/>
            <p:nvPr/>
          </p:nvSpPr>
          <p:spPr>
            <a:xfrm>
              <a:off x="6149520" y="370404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32"/>
            <p:cNvSpPr/>
            <p:nvPr/>
          </p:nvSpPr>
          <p:spPr>
            <a:xfrm>
              <a:off x="7407720" y="296172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Line 33"/>
            <p:cNvSpPr/>
            <p:nvPr/>
          </p:nvSpPr>
          <p:spPr>
            <a:xfrm>
              <a:off x="7093080" y="370404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>
              <a:off x="7407720" y="332316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>
              <a:off x="7407720" y="40950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Rectangle 36"/>
            <p:cNvSpPr/>
            <p:nvPr/>
          </p:nvSpPr>
          <p:spPr>
            <a:xfrm>
              <a:off x="6674400" y="3392280"/>
              <a:ext cx="41868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c004e"/>
                  </a:solidFill>
                  <a:latin typeface="Times New Roman"/>
                </a:rPr>
                <a:t>Z</a:t>
              </a:r>
              <a:r>
                <a:rPr b="0" lang="es-ES_tradnl" sz="1400" spc="-1" strike="noStrike" baseline="-25000">
                  <a:solidFill>
                    <a:srgbClr val="9c004e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8141760" y="40950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 flipH="1">
              <a:off x="8561520" y="3529080"/>
              <a:ext cx="2095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 flipV="1">
              <a:off x="8561520" y="3684960"/>
              <a:ext cx="209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 flipH="1">
              <a:off x="8404200" y="3836160"/>
              <a:ext cx="314640" cy="4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 flipV="1">
              <a:off x="8665920" y="3684960"/>
              <a:ext cx="10512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7407720" y="4095000"/>
              <a:ext cx="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 flipV="1">
              <a:off x="7407720" y="3859200"/>
              <a:ext cx="0" cy="46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Text Box 44"/>
            <p:cNvSpPr/>
            <p:nvPr/>
          </p:nvSpPr>
          <p:spPr>
            <a:xfrm>
              <a:off x="7827480" y="3036600"/>
              <a:ext cx="628920" cy="4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9c004e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Text Box 45"/>
            <p:cNvSpPr/>
            <p:nvPr/>
          </p:nvSpPr>
          <p:spPr>
            <a:xfrm>
              <a:off x="7146000" y="2492280"/>
              <a:ext cx="523800" cy="37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c004e"/>
                  </a:solidFill>
                  <a:latin typeface="Times New Roman"/>
                </a:rPr>
                <a:t>PAC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Rectangle 46"/>
          <p:cNvSpPr/>
          <p:nvPr/>
        </p:nvSpPr>
        <p:spPr>
          <a:xfrm>
            <a:off x="1692360" y="2852640"/>
            <a:ext cx="431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3203640" y="3213000"/>
            <a:ext cx="431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974880" y="285264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1692360" y="2781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c0099"/>
                </a:solidFill>
                <a:latin typeface="Times New Roman"/>
              </a:rPr>
              <a:t>Z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3203640" y="3213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c0099"/>
                </a:solidFill>
                <a:latin typeface="Times New Roman"/>
              </a:rPr>
              <a:t>Zf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5799240" y="357336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7T19:51:43Z</dcterms:modified>
  <cp:revision>124</cp:revision>
  <dc:subject/>
  <dc:title>Sin título de diapositiva</dc:title>
</cp:coreProperties>
</file>