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E12-4A0A-4230-8C53-56C2417D6E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6B6-157F-4DE2-9B26-D473A91538A0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2C1-3C81-4E13-8C0C-E219CD38BF6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81A9-F1DC-4013-9FF0-88EDE860704B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19E8-96D2-4E56-8392-F7EBA3A8C3B4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E84F-DA16-429C-9768-D8448022E163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5D0-6A20-4611-B578-F45CC50C7EAA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9210-8D91-48D3-AECC-00077BACA9F8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1652-412B-4A8B-ABDD-211F3CD47192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571-470A-445B-9B2E-9B829298300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A217-599B-48EF-977A-3B1C71D89459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E8FB-8A21-4551-808C-D3AD387C8DFA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3C7-3090-4490-A98C-EEAD72289859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D74-6FF4-4C01-9BF8-77E5918E4EEA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615-B7CF-4456-8C73-70E5149737D0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DF9B-8A55-48F3-8C87-A5E782DBF4D8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C5B-ACD8-43EA-AD10-8B3E40F7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630-F748-4376-B927-AC1C4080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C79-C191-4F8F-836F-50FAB3D3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481-CAE9-4BDD-BB2C-31199300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41CD-B6D7-4412-8B77-92F2C907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CB16-459A-4811-A6D6-3B460E9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FEBF-4346-41A0-8A1A-83433A4E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7A7A-B813-418F-930E-6C0818F6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1352-BFCE-4E4B-8B6D-6DBA03C8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ABC-274F-40F9-A961-AF755E6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5B4D-17C6-4A77-80FE-F76928D0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AFF-B837-4CAD-8CE0-46149C1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E465-D8B3-492D-895D-CFCDB18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7F6E-0EB0-41DF-8D37-ED242C5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DDFD-3320-4FE7-A5E0-BEB2B13A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C7C-1F56-4AA9-AA60-F9B464EB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EE4C-0F92-427F-9A16-E771BAA9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E26-FE90-42B1-A606-2F33047B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366-704D-4BAA-8C9E-8CA576FE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3DF-6F00-44C4-BC1C-F0649D87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EFD-0A30-48C6-B027-5658953E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8BE-75FD-4AA8-88AA-64DA5EE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AC1-E7E2-4452-967F-68A5CFB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C55-CC33-403C-ACDE-A204A15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6624-A188-4B97-9517-5D5413BEB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851-8B13-4805-8D3F-87357B698A7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3818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00"/>
                </a:solidFill>
                <a:latin typeface="Times New Roman"/>
              </a:rPr>
              <a:t>Calidad de Potencia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349000"/>
            <a:ext cx="7777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xtensión del concepto a Compatibilidad Electromagnét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 del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ambiente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conducción no galvánica y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frecuencias eleva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sayos típicos: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emisión e inmunidad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frente a campos electromagnético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s de los campos sobre la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sal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Seguridad persona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varios accidentes recientes con vehículos y en hospit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enómenos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difíciles de explic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orporación de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nuevos act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ferencias por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auto-perturb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fectos esperados para los próximos añ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78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acto de la Generación Distribuid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ecimiento en la presencia de armón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remento de la incidencia de los Huecos de Ten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s en la identificación de responsabilidades por daños a equip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s de compatibilidad electromagné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Necesidad de nuevos índices de c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ectores o actores involucr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Empresa Eléctric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Organismo regulad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Usuari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Fabricante de equip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Municipalidad o alcaldí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n grandes discrepancias entre si y acusándose mutuamente de incumplimientos de funcione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Percepciones de los secto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395280" y="1347840"/>
          <a:ext cx="3889440" cy="30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7840"/>
                    <a:ext cx="38894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5" descr="fig1-2b"/>
          <p:cNvPicPr/>
          <p:nvPr/>
        </p:nvPicPr>
        <p:blipFill>
          <a:blip r:embed="rId3"/>
          <a:stretch/>
        </p:blipFill>
        <p:spPr>
          <a:xfrm>
            <a:off x="4859280" y="3429000"/>
            <a:ext cx="388944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403280" y="3789360"/>
            <a:ext cx="792360" cy="216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276720" y="2852640"/>
            <a:ext cx="792000" cy="216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-11160" y="4786200"/>
            <a:ext cx="46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uerza Mayor, Imposibilidad sobrevinient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 caso fortuito o Acción de D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858920" y="142884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eoría de los cuatro f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9" name="10 Conector recto de flecha"/>
          <p:cNvCxnSpPr/>
          <p:nvPr/>
        </p:nvCxnSpPr>
        <p:spPr>
          <a:xfrm flipV="1">
            <a:off x="1357200" y="4071600"/>
            <a:ext cx="215280" cy="714960"/>
          </a:xfrm>
          <a:prstGeom prst="straightConnector1">
            <a:avLst/>
          </a:prstGeom>
          <a:ln w="1584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mpresa Eléctr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Formación técnica y económica muy bue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rioriza el beneficio económico dejando de lado aspectos técnicos important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xplota la debilidad de los organismos regulador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Organismo Regulad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Capacidad técnica limitada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Posee fuertes cargas subjetiv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Emite señales débile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Inconsistencia entre respuest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Es altamente susceptible a las influencias polític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Usua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osee escasa formación técnic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Tiende a culpar a la empresa eléctrica de todos los problem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xplota su situación de presunta debilidad frente a la empres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Adquiere e instala el equipamiento sensible y contaminante sin evaluar las consecuenci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Fabricante de Equip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roduce equipos de baja inmunidad a las perturbaciones y altamente contaminante, a fin de minimizar costos, explotando el desconocimiento del usuario y la debilidad de las reglamentacion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Fomenta la utilización de equipos mitigadores, que solucionan algún problema pero crean o magnifican otro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Municipal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82000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n general no cumple la función de policía en lo que respecta a equipos e instalac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Su actuación se reduce normalmente a percibir un arancel por la “verificación en papel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La ocurrencia de accidentes fatales está comenzando a modificar la actual pasivida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Características de los equipos </a:t>
            </a:r>
            <a:br>
              <a:rPr sz="4000"/>
            </a:b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sensib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Tendencia general al aumento de sensibilidad a perturba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lidad directamente relacionada con pre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Marcas de reconocida calidad fabrican productos diferenciados para nuestro merc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trol “light” o inexist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cumulación de daño y “garantía de fabricante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o se informa su nivel de Inmun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 se entiende </a:t>
            </a:r>
            <a:r>
              <a:rPr b="1" lang="es-MX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</a:t>
            </a:r>
            <a:r>
              <a:rPr b="1" lang="es-MX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Calidad de Potenci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09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Times New Roman"/>
              </a:rPr>
              <a:t>Se dispone de Calidad de Potencia adecuada cuando la magnitud de tensión y frecuencia, como también la forma de onda de la tensión permiten que los equipos de uso final funcionen cumpliendo con sus especificaciones de diseñ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Times New Roman"/>
              </a:rPr>
              <a:t>Si no se reúnen estas condiciones, los equipos no funcionan como se espera y pueden ser afecta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tección de problemas evidentes de CP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134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recuentes interrup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evado número de equipos dañ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s equipos sensibles experimentan frecuentes salidas de servici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padeo de lámpar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ferencia de las comunica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ductores sobrecalentad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ransformadores con temperatura de trabajo excesiv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tección de problemas vagos de C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ibración en conductos metálica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s equipos sensibles pierden frecuentemente programas y ajuste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ores ruidos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quipos con fallas de operación esporád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oltaje contra tierra en lugares inesper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ducida vida útil de equip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padeo de lámpar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¿Arte o ciencia?, Factor suerte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Objetivos del estudio de CP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Maximizar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productividad y rentabilidad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la instalación del usuario final mediante mejoras en la CP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Determinar la CP del suministro eléctrico, desde el punto de vista del usuario, en un punto determinado del sistema, como por ejemplo para decidir respecto 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adicación de una industria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sensible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studio económico de pliegos par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concesión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servic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valuar las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exigencias o requerimient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relacionados con la calidad de potencia dentro de las instalaciones del usuario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Redacción de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eglamentacione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y especificación de límites de nivel de perturbaciones de régimen permanente y transitor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studio de ofertas par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adquisición de equip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medición y monitoreo de CP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Dilucidar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disputa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entre los participantes del sistema, normalmente entre la empresa distribuidora y el usuario o entre usuar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Construcción de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cuadros tarifari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laborar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ecomendacione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para la mejora de la CP, sugiriendo:. modificaciones del sistema de suministro, cambios de las instalaciones del usuario y consideraciones sobre equipos sensibles y correctores 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Algunas defini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7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Perturbación (permanente o transitor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v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quipo de uso fi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quipo sen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l efecto, en orden creciente, se clasifica e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funcionamiento incorrecto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salidas de servicio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reducción de vida útil (daño incipiente) 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daño.</a:t>
            </a:r>
            <a:r>
              <a:rPr b="1" lang="es-MX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lidad de Potencia y Regul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sistema de penalización y el tarifario naturalmente incentivan a la empresa para expandirse y mantener al sistema hasta el punto donde el costo marginal de expansión y mantenimiento igualan al costo marginal de las penal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 esta manera se supone que el gobierno no debe entrar en la discusión y control de planes de inversión y estructura de cos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00"/>
                </a:solidFill>
                <a:latin typeface="Times New Roman"/>
              </a:rPr>
              <a:t>Calidad de Energía o de Potencia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Servicio Técnico (confiabilida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Producto Técnico (usabilida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Servicio Comercial (atención al usuario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volución del concepto de calidad de energía desde la década del 1980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ayoría de la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perturbacion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que afectan a los equipos hoy, han estado siempre presentes en los sistemas eléctric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ía a día la energía eléctrica con alta calidad es más imperiosa para la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actividad human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, en aplicaciones industriales, comerciales y domiciliari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s equipos de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uso fin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on cada día má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sensibl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a la CP y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a su vez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á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contaminant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cremento de potencia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unitaria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La competencia de </a:t>
            </a:r>
            <a:r>
              <a:rPr b="0" lang="es-MX" sz="2800" spc="-1" strike="noStrike">
                <a:solidFill>
                  <a:srgbClr val="ffcc00"/>
                </a:solidFill>
                <a:latin typeface="Times New Roman"/>
              </a:rPr>
              <a:t>mercado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y el </a:t>
            </a:r>
            <a:r>
              <a:rPr b="0" lang="es-MX" sz="2800" spc="-1" strike="noStrike">
                <a:solidFill>
                  <a:srgbClr val="ffcc00"/>
                </a:solidFill>
                <a:latin typeface="Times New Roman"/>
              </a:rPr>
              <a:t>desconocimiento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incrementan sensibilidad y nivel de contamin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ndices de inmunidad de equip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557360"/>
          <a:ext cx="8497800" cy="4816440"/>
        </p:xfrm>
        <a:graphic>
          <a:graphicData uri="http://schemas.openxmlformats.org/drawingml/2006/table">
            <a:tbl>
              <a:tblPr/>
              <a:tblGrid>
                <a:gridCol w="1365120"/>
                <a:gridCol w="2016360"/>
                <a:gridCol w="511632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Índi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jemplo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alt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otores, transformadores, lámparas incandescentes y cargas resistiv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moderad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lastos electrónicos, reles electromecánicos y de estado sólido, PLC y ASD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baj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unicaciones, equipamiento procesador de datos y señales (PCs), equipamiento médico, et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volución de la electrónica</a:t>
            </a:r>
            <a:br>
              <a:rPr sz="4000"/>
            </a:b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Año 2000, 20-30 % EE; Hoy 2010, 50%; 2020, 60-70 % E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32860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siderables incrementos de valores nominales de Voltaje, Potencia y </a:t>
            </a: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Frecuenci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ímite a Julio 2010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4 kA y 8 kV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umento de potencias unitar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10" descr="fig1-1"/>
          <p:cNvPicPr/>
          <p:nvPr/>
        </p:nvPicPr>
        <p:blipFill>
          <a:blip r:embed="rId1"/>
          <a:stretch/>
        </p:blipFill>
        <p:spPr>
          <a:xfrm>
            <a:off x="3059280" y="1773360"/>
            <a:ext cx="5400360" cy="4457520"/>
          </a:xfrm>
          <a:prstGeom prst="rect">
            <a:avLst/>
          </a:prstGeom>
          <a:ln w="0">
            <a:noFill/>
          </a:ln>
        </p:spPr>
      </p:pic>
      <p:sp>
        <p:nvSpPr>
          <p:cNvPr id="122" name="Freeform 18"/>
          <p:cNvSpPr/>
          <p:nvPr/>
        </p:nvSpPr>
        <p:spPr>
          <a:xfrm>
            <a:off x="6700680" y="2949480"/>
            <a:ext cx="76320" cy="41400"/>
          </a:xfrm>
          <a:prstGeom prst="pie">
            <a:avLst/>
          </a:prstGeom>
          <a:noFill/>
          <a:ln w="2844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Freeform 20"/>
          <p:cNvSpPr/>
          <p:nvPr/>
        </p:nvSpPr>
        <p:spPr>
          <a:xfrm>
            <a:off x="6764400" y="2946240"/>
            <a:ext cx="101520" cy="1800"/>
          </a:xfrm>
          <a:prstGeom prst="pie">
            <a:avLst/>
          </a:prstGeom>
          <a:noFill/>
          <a:ln w="2844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oncepto de 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Punto de acoplamiento común (PAC)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800"/>
            </a:br>
            <a:r>
              <a:rPr b="1" lang="es-ES_tradnl" sz="4000" spc="-1" strike="noStrike">
                <a:solidFill>
                  <a:srgbClr val="ff6600"/>
                </a:solidFill>
                <a:latin typeface="Times New Roman"/>
              </a:rPr>
              <a:t>Regulación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4000" y="2060640"/>
            <a:ext cx="478152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042920" y="2438280"/>
            <a:ext cx="3757680" cy="2666880"/>
            <a:chOff x="1042920" y="2438280"/>
            <a:chExt cx="3757680" cy="2666880"/>
          </a:xfrm>
        </p:grpSpPr>
        <p:sp>
          <p:nvSpPr>
            <p:cNvPr id="127" name="Oval 5"/>
            <p:cNvSpPr/>
            <p:nvPr/>
          </p:nvSpPr>
          <p:spPr>
            <a:xfrm>
              <a:off x="1042920" y="2854080"/>
              <a:ext cx="34164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2921760" y="2472840"/>
              <a:ext cx="0" cy="263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>
              <a:off x="2955600" y="2680560"/>
              <a:ext cx="5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>
              <a:off x="4458600" y="2854080"/>
              <a:ext cx="27324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V="1">
              <a:off x="4458960" y="2985480"/>
              <a:ext cx="27324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 flipH="1">
              <a:off x="4254120" y="3114720"/>
              <a:ext cx="409680" cy="39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 flipV="1">
              <a:off x="4595400" y="2985480"/>
              <a:ext cx="13644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3502440" y="2438280"/>
              <a:ext cx="81972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Carg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1384560" y="2966400"/>
              <a:ext cx="15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2921760" y="395388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2921760" y="444744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2921760" y="49410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2921760" y="32958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1213560" y="3295800"/>
              <a:ext cx="853920" cy="49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Fuente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3263400" y="4118400"/>
              <a:ext cx="153720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Alimentadores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sano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Text Box 20"/>
            <p:cNvSpPr/>
            <p:nvPr/>
          </p:nvSpPr>
          <p:spPr>
            <a:xfrm>
              <a:off x="3263400" y="2966400"/>
              <a:ext cx="1366200" cy="14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Alimentado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en fall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4288320" y="395388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>
              <a:off x="4288320" y="444744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4117320" y="4941000"/>
              <a:ext cx="51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1725840" y="28022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>
              <a:off x="3092400" y="2966400"/>
              <a:ext cx="0" cy="3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Line 26"/>
            <p:cNvSpPr/>
            <p:nvPr/>
          </p:nvSpPr>
          <p:spPr>
            <a:xfrm>
              <a:off x="3605040" y="3460320"/>
              <a:ext cx="51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9" name="Rectangle 27"/>
          <p:cNvSpPr/>
          <p:nvPr/>
        </p:nvSpPr>
        <p:spPr>
          <a:xfrm>
            <a:off x="5435640" y="2349360"/>
            <a:ext cx="352908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940360" y="2492280"/>
            <a:ext cx="2830680" cy="1914120"/>
            <a:chOff x="5940360" y="2492280"/>
            <a:chExt cx="2830680" cy="1914120"/>
          </a:xfrm>
        </p:grpSpPr>
        <p:sp>
          <p:nvSpPr>
            <p:cNvPr id="151" name="Rectangle 29"/>
            <p:cNvSpPr/>
            <p:nvPr/>
          </p:nvSpPr>
          <p:spPr>
            <a:xfrm>
              <a:off x="7722360" y="3859200"/>
              <a:ext cx="41940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Z</a:t>
              </a:r>
              <a:r>
                <a:rPr b="0" lang="es-ES_tradnl" sz="1400" spc="-1" strike="noStrike" baseline="-25000">
                  <a:solidFill>
                    <a:srgbClr val="9c004e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5940360" y="3529080"/>
              <a:ext cx="209160" cy="31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31"/>
            <p:cNvSpPr/>
            <p:nvPr/>
          </p:nvSpPr>
          <p:spPr>
            <a:xfrm>
              <a:off x="6149520" y="370404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32"/>
            <p:cNvSpPr/>
            <p:nvPr/>
          </p:nvSpPr>
          <p:spPr>
            <a:xfrm>
              <a:off x="7407720" y="296172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Line 33"/>
            <p:cNvSpPr/>
            <p:nvPr/>
          </p:nvSpPr>
          <p:spPr>
            <a:xfrm>
              <a:off x="7093080" y="370404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>
              <a:off x="7407720" y="332316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>
              <a:off x="7407720" y="40950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Rectangle 36"/>
            <p:cNvSpPr/>
            <p:nvPr/>
          </p:nvSpPr>
          <p:spPr>
            <a:xfrm>
              <a:off x="6674400" y="3392280"/>
              <a:ext cx="41868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Z</a:t>
              </a:r>
              <a:r>
                <a:rPr b="0" lang="es-ES_tradnl" sz="1400" spc="-1" strike="noStrike" baseline="-25000">
                  <a:solidFill>
                    <a:srgbClr val="9c004e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8141760" y="40950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 flipH="1">
              <a:off x="8561520" y="3529080"/>
              <a:ext cx="2095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 flipV="1">
              <a:off x="8561520" y="3684960"/>
              <a:ext cx="209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 flipH="1">
              <a:off x="8404200" y="3836160"/>
              <a:ext cx="314640" cy="4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 flipV="1">
              <a:off x="8665920" y="3684960"/>
              <a:ext cx="10512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7407720" y="4095000"/>
              <a:ext cx="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 flipV="1">
              <a:off x="7407720" y="3859200"/>
              <a:ext cx="0" cy="46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Text Box 44"/>
            <p:cNvSpPr/>
            <p:nvPr/>
          </p:nvSpPr>
          <p:spPr>
            <a:xfrm>
              <a:off x="7827480" y="3036600"/>
              <a:ext cx="62892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9c004e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Text Box 45"/>
            <p:cNvSpPr/>
            <p:nvPr/>
          </p:nvSpPr>
          <p:spPr>
            <a:xfrm>
              <a:off x="7146000" y="2492280"/>
              <a:ext cx="523800" cy="37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c004e"/>
                  </a:solidFill>
                  <a:latin typeface="Times New Roman"/>
                </a:rPr>
                <a:t>PAC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Rectangle 46"/>
          <p:cNvSpPr/>
          <p:nvPr/>
        </p:nvSpPr>
        <p:spPr>
          <a:xfrm>
            <a:off x="1692360" y="2852640"/>
            <a:ext cx="431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3203640" y="3213000"/>
            <a:ext cx="431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974880" y="285264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1692360" y="2781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c0099"/>
                </a:solidFill>
                <a:latin typeface="Times New Roman"/>
              </a:rPr>
              <a:t>Z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3203640" y="3213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c0099"/>
                </a:solidFill>
                <a:latin typeface="Times New Roman"/>
              </a:rPr>
              <a:t>Zf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5799240" y="357336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7T19:51:43Z</dcterms:modified>
  <cp:revision>124</cp:revision>
  <dc:subject/>
  <dc:title>Sin título de diapositiva</dc:title>
</cp:coreProperties>
</file>