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6E42-55B3-4EB8-BF39-58AF304234B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7D40-64B9-47A6-9A82-8882D815262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71F-D198-4E8C-995A-9CD4966E56B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099E-D73E-4A96-B71C-8C297C139B4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872D-07B7-49D2-9330-B4E86387A23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ED11-49D0-4C6A-949D-5FB05E03A2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479-E6C5-4DD1-B3E1-448F1F0E2B8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799-FE92-4EE8-9851-D54D37E9646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9EA9-A704-47FF-84BE-5E56C6848DD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89C2-303D-4F73-9CC6-42482C6B292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B4D0-276F-49EC-B3C0-086FEE69A34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631E-BF03-4480-90B0-82726B3968B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81B1-9ADA-46FE-8473-320C76EE36B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C6CE-FCEB-4F4A-9567-2C36839BB4E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B7F0-EF6A-4ADC-ADE6-3BFECF2386B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C151-E0C8-4B52-9A6A-7486631579E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BD5C-B2DF-4D51-80E9-0415B421106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ACC2-D823-4FE4-962F-48BF58315DE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D6A3-EE36-425B-A334-6865447A61E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FEF9-C70E-4ED6-AF4E-ABFDB3C4F08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575A-50D6-45B4-8A55-919743F192F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8B6A-8A4C-49B9-A999-416E66FD3A0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8636-104D-4C9A-849B-B3FB06DD0C7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9420-764D-4AF2-948D-E1C0FBBF5E9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D64F-FBB7-4160-89AC-D169481528F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82F4-6A51-426B-A57F-04FEFF477AD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EE03-202F-414F-B47E-C16DD3B2784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FBC7-7A67-4611-AC0E-714322EBDA8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5870-732B-4BAA-BB20-DBD02D61EEC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81F5-1663-40DA-B23C-B3E52484A2C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A9E6-5A2F-4A62-9665-8D4CA0CE9F3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1363-49DF-44C4-9AE6-F5887DD3DF0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0EB1-EFA8-4068-8431-C6BE95E2D5D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F333-EF21-4354-8CA3-A685710C249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6A80-FBD9-4AC6-8A41-88DF2848F53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845F-5C89-4175-A4E1-23EADD7F8C4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7D2-1B1C-4A28-937A-39FDAE40BED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E16-C209-4994-A9EB-9740E23C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6C8-522D-4A38-BFE6-F990FE34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B43-4127-495D-BFE7-EC19F0C7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EFE-717A-4590-944A-57A4D108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0BE-FA7D-4EB2-9D15-B9E58D87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EEB-E989-4FA6-A916-22F11D6F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6F3-58F4-49B9-86FF-373B71D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E7E-3494-47FF-9911-95BE164F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6C7-EE60-40AF-8512-487ACD9F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569-417B-4B43-940E-E0289735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B2E-617B-4407-BCBD-1E48A83E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B4B-214D-45AD-BB13-2C1E2BD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3AB-EA3B-4EC0-83EE-69A54C2FB95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908-DD8E-4D3C-977D-02D56DF7B2BC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2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912640" y="199440"/>
            <a:ext cx="2822040" cy="281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69" y="4099"/>
                </a:moveTo>
                <a:arcTo wR="10800" hR="10800" stAng="-2301147" swAng="2754113"/>
                <a:lnTo>
                  <a:pt x="10800" y="10800"/>
                </a:lnTo>
                <a:close/>
              </a:path>
              <a:path fill="none" w="21600" h="21600">
                <a:moveTo>
                  <a:pt x="19269" y="4099"/>
                </a:moveTo>
                <a:arcTo wR="10800" hR="10800" stAng="-2301147" swAng="275411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359-43AA-4663-AFC1-75A59D2C31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4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615200" y="-1046160"/>
            <a:ext cx="5410440" cy="54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35" y="4056"/>
                </a:moveTo>
                <a:arcTo wR="10800" hR="10800" stAng="-2318601" swAng="2728100"/>
                <a:lnTo>
                  <a:pt x="10800" y="10800"/>
                </a:lnTo>
                <a:close/>
              </a:path>
              <a:path fill="none" w="21600" h="21600">
                <a:moveTo>
                  <a:pt x="19235" y="4056"/>
                </a:moveTo>
                <a:arcTo wR="10800" hR="10800" stAng="-2318601" swAng="27281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3A4-815D-4D76-B75E-2265C66B337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5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3316680" y="-2262600"/>
            <a:ext cx="7985160" cy="79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9" y="4023"/>
                </a:moveTo>
                <a:arcTo wR="10800" hR="10800" stAng="-2332063" swAng="2767740"/>
                <a:lnTo>
                  <a:pt x="10800" y="10800"/>
                </a:lnTo>
                <a:close/>
              </a:path>
              <a:path fill="none" w="21600" h="21600">
                <a:moveTo>
                  <a:pt x="19209" y="4023"/>
                </a:moveTo>
                <a:arcTo wR="10800" hR="10800" stAng="-2332063" swAng="276774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842-963A-429E-A11C-BF9AD0F1F14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7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1980000" y="-3531600"/>
            <a:ext cx="10649160" cy="1063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86A-4B5F-462B-BD43-6FA24CFF26D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8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912640" y="199440"/>
            <a:ext cx="2822040" cy="281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69" y="4099"/>
                </a:moveTo>
                <a:arcTo wR="10800" hR="10800" stAng="-2301147" swAng="2754113"/>
                <a:lnTo>
                  <a:pt x="10800" y="10800"/>
                </a:lnTo>
                <a:close/>
              </a:path>
              <a:path fill="none" w="21600" h="21600">
                <a:moveTo>
                  <a:pt x="19269" y="4099"/>
                </a:moveTo>
                <a:arcTo wR="10800" hR="10800" stAng="-2301147" swAng="275411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CE7-2327-4244-AE38-F976AF99947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0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615200" y="-1046160"/>
            <a:ext cx="5410440" cy="54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35" y="4056"/>
                </a:moveTo>
                <a:arcTo wR="10800" hR="10800" stAng="-2318601" swAng="2728100"/>
                <a:lnTo>
                  <a:pt x="10800" y="10800"/>
                </a:lnTo>
                <a:close/>
              </a:path>
              <a:path fill="none" w="21600" h="21600">
                <a:moveTo>
                  <a:pt x="19235" y="4056"/>
                </a:moveTo>
                <a:arcTo wR="10800" hR="10800" stAng="-2318601" swAng="27281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758-1BD5-49EC-AA59-32DCA8D59B2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1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316680" y="-2262600"/>
            <a:ext cx="7985160" cy="79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9" y="4023"/>
                </a:moveTo>
                <a:arcTo wR="10800" hR="10800" stAng="-2332063" swAng="2767740"/>
                <a:lnTo>
                  <a:pt x="10800" y="10800"/>
                </a:lnTo>
                <a:close/>
              </a:path>
              <a:path fill="none" w="21600" h="21600">
                <a:moveTo>
                  <a:pt x="19209" y="4023"/>
                </a:moveTo>
                <a:arcTo wR="10800" hR="10800" stAng="-2332063" swAng="276774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4FF-81D0-46C0-9E01-0A76988C617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3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980000" y="-3531600"/>
            <a:ext cx="10649160" cy="1063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4BF-DCD2-4064-94A6-148EBE321F1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4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5912640" y="199440"/>
            <a:ext cx="2822040" cy="281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69" y="4099"/>
                </a:moveTo>
                <a:arcTo wR="10800" hR="10800" stAng="-2301147" swAng="2754113"/>
                <a:lnTo>
                  <a:pt x="10800" y="10800"/>
                </a:lnTo>
                <a:close/>
              </a:path>
              <a:path fill="none" w="21600" h="21600">
                <a:moveTo>
                  <a:pt x="19269" y="4099"/>
                </a:moveTo>
                <a:arcTo wR="10800" hR="10800" stAng="-2301147" swAng="275411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752-26F6-48BD-8E4D-111437FA6F5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6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4615200" y="-1046160"/>
            <a:ext cx="5410440" cy="54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35" y="4056"/>
                </a:moveTo>
                <a:arcTo wR="10800" hR="10800" stAng="-2318601" swAng="2728100"/>
                <a:lnTo>
                  <a:pt x="10800" y="10800"/>
                </a:lnTo>
                <a:close/>
              </a:path>
              <a:path fill="none" w="21600" h="21600">
                <a:moveTo>
                  <a:pt x="19235" y="4056"/>
                </a:moveTo>
                <a:arcTo wR="10800" hR="10800" stAng="-2318601" swAng="27281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69B-BAE2-4C6E-A8F3-888B0DE5692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42840" y="2885760"/>
            <a:ext cx="725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Direcciona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CF1-B61C-4327-969A-BA401D91D75E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7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316680" y="-2262600"/>
            <a:ext cx="7985160" cy="79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9" y="4023"/>
                </a:moveTo>
                <a:arcTo wR="10800" hR="10800" stAng="-2332063" swAng="2767740"/>
                <a:lnTo>
                  <a:pt x="10800" y="10800"/>
                </a:lnTo>
                <a:close/>
              </a:path>
              <a:path fill="none" w="21600" h="21600">
                <a:moveTo>
                  <a:pt x="19209" y="4023"/>
                </a:moveTo>
                <a:arcTo wR="10800" hR="10800" stAng="-2332063" swAng="276774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9F6-0CF2-485A-9747-ADFB1F4AD5D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9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980000" y="-3531600"/>
            <a:ext cx="10649160" cy="1063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F65-CFEF-4843-9DE0-4F4839871FD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flipV="1">
            <a:off x="2565360" y="339732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65360" y="329256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73360" y="267660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73360" y="404748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48000" y="2783880"/>
            <a:ext cx="1101240" cy="12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10" y="987"/>
                </a:moveTo>
                <a:arcTo wR="10800" hR="10800" stAng="-3919143" swAng="7942726"/>
                <a:lnTo>
                  <a:pt x="10800" y="10800"/>
                </a:lnTo>
                <a:close/>
              </a:path>
              <a:path fill="none" w="21600" h="21600">
                <a:moveTo>
                  <a:pt x="15310" y="987"/>
                </a:moveTo>
                <a:arcTo wR="10800" hR="10800" stAng="-3919143" swAng="7942726"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724400" y="2853360"/>
            <a:ext cx="760320" cy="10890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273852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3132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579040" y="3154320"/>
            <a:ext cx="19080" cy="5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49520" y="3537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2579040" y="3558600"/>
            <a:ext cx="19080" cy="52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3" action="ppaction://hlinksldjump"/>
          </p:cNvPr>
          <p:cNvSpPr/>
          <p:nvPr/>
        </p:nvSpPr>
        <p:spPr>
          <a:xfrm>
            <a:off x="6429240" y="765000"/>
            <a:ext cx="1619280" cy="1746360"/>
          </a:xfrm>
          <a:custGeom>
            <a:avLst/>
            <a:gdLst>
              <a:gd name="textAreaLeft" fmla="*/ 104760 w 1619280"/>
              <a:gd name="textAreaRight" fmla="*/ 1514520 w 1619280"/>
              <a:gd name="textAreaTop" fmla="*/ 104760 h 1746360"/>
              <a:gd name="textAreaBottom" fmla="*/ 1641600 h 1746360"/>
            </a:gdLst>
            <a:ahLst/>
            <a:rect l="textAreaLeft" t="textAreaTop" r="textAreaRight" b="textAreaBottom"/>
            <a:pathLst>
              <a:path w="21600" h="23295">
                <a:moveTo>
                  <a:pt x="0" y="0"/>
                </a:moveTo>
                <a:lnTo>
                  <a:pt x="21600" y="0"/>
                </a:lnTo>
                <a:lnTo>
                  <a:pt x="21600" y="23295"/>
                </a:lnTo>
                <a:lnTo>
                  <a:pt x="0" y="23295"/>
                </a:lnTo>
                <a:close/>
              </a:path>
              <a:path fill="lightenLess" w="21600" h="23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95">
                <a:moveTo>
                  <a:pt x="21600" y="0"/>
                </a:moveTo>
                <a:lnTo>
                  <a:pt x="21600" y="23295"/>
                </a:lnTo>
                <a:lnTo>
                  <a:pt x="20200" y="21895"/>
                </a:lnTo>
                <a:lnTo>
                  <a:pt x="20200" y="1400"/>
                </a:lnTo>
                <a:close/>
              </a:path>
              <a:path fill="darkenLess" w="21600" h="23295">
                <a:moveTo>
                  <a:pt x="21600" y="23295"/>
                </a:moveTo>
                <a:lnTo>
                  <a:pt x="0" y="23295"/>
                </a:lnTo>
                <a:lnTo>
                  <a:pt x="1400" y="21895"/>
                </a:lnTo>
                <a:lnTo>
                  <a:pt x="20200" y="21895"/>
                </a:lnTo>
                <a:close/>
              </a:path>
              <a:path fill="lighten" w="21600" h="23295">
                <a:moveTo>
                  <a:pt x="0" y="23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9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147680" y="339984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C58-E1E5-499B-AF2E-911911FD963E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90720" y="1399680"/>
            <a:ext cx="7162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caminos entre la fuente y los oídos son de diferente longitud, por lo que se produce un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cia de tiempo interau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imbolizad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ITD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03A-2580-4123-9BEC-1920ACD6F7AD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 flipV="1">
            <a:off x="2565360" y="339732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65360" y="329256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73360" y="267660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773360" y="404748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8000" y="2783880"/>
            <a:ext cx="1101240" cy="12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10" y="987"/>
                </a:moveTo>
                <a:arcTo wR="10800" hR="10800" stAng="-3919143" swAng="7942726"/>
                <a:lnTo>
                  <a:pt x="10800" y="10800"/>
                </a:lnTo>
                <a:close/>
              </a:path>
              <a:path fill="none" w="21600" h="21600">
                <a:moveTo>
                  <a:pt x="15310" y="987"/>
                </a:moveTo>
                <a:arcTo wR="10800" hR="10800" stAng="-3919143" swAng="7942726"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1724400" y="2853360"/>
            <a:ext cx="760320" cy="10890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273852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49520" y="3132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2579040" y="3154320"/>
            <a:ext cx="19080" cy="5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49520" y="3537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2579040" y="3558600"/>
            <a:ext cx="19080" cy="52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147680" y="339984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894320" y="-4482000"/>
            <a:ext cx="10991880" cy="121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1494360" y="-4472640"/>
            <a:ext cx="10991160" cy="121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933200" y="1533600"/>
            <a:ext cx="5391000" cy="74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190240" y="1514520"/>
            <a:ext cx="51627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51560" y="297324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8080" y="134784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410360" y="4173480"/>
            <a:ext cx="2469960" cy="996840"/>
            <a:chOff x="4410360" y="4173480"/>
            <a:chExt cx="2469960" cy="996840"/>
          </a:xfrm>
        </p:grpSpPr>
        <p:sp>
          <p:nvSpPr>
            <p:cNvPr id="343" name=""/>
            <p:cNvSpPr/>
            <p:nvPr/>
          </p:nvSpPr>
          <p:spPr>
            <a:xfrm>
              <a:off x="5744160" y="4173480"/>
              <a:ext cx="113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3400" y="46497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0360" y="4329000"/>
              <a:ext cx="233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ITD   =   </a:t>
              </a:r>
              <a:r>
                <a:rPr b="1" i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CA2-EF36-4739-99EA-3940DBC0638A}" type="slidenum">
              <a:t>24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90720" y="1399680"/>
            <a:ext cx="7162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ambién hay un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cia de intensidad interau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IID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que obedece a dos factores: la diferencia de distancia y la atenuación de la propia cabe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9EE-DAB7-4637-BBDE-0A6374F119C3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20091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diferencia de distancia influye debido a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vergencia geométric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l campo sonoro (atenuación con la distanci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9A2-B863-4C0F-8CDF-51D5CBF1E599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flipV="1">
            <a:off x="2565360" y="339732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65360" y="329256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73360" y="267660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773360" y="404748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8000" y="2783880"/>
            <a:ext cx="1101240" cy="12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10" y="987"/>
                </a:moveTo>
                <a:arcTo wR="10800" hR="10800" stAng="-3919143" swAng="7942726"/>
                <a:lnTo>
                  <a:pt x="10800" y="10800"/>
                </a:lnTo>
                <a:close/>
              </a:path>
              <a:path fill="none" w="21600" h="21600">
                <a:moveTo>
                  <a:pt x="15310" y="987"/>
                </a:moveTo>
                <a:arcTo wR="10800" hR="10800" stAng="-3919143" swAng="7942726"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724400" y="2853360"/>
            <a:ext cx="760320" cy="10890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273852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9520" y="3132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2579040" y="3154320"/>
            <a:ext cx="19080" cy="5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49520" y="3537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2579040" y="3558600"/>
            <a:ext cx="19080" cy="52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147680" y="339984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1894320" y="-4482000"/>
            <a:ext cx="10991880" cy="121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494360" y="-4472640"/>
            <a:ext cx="10991160" cy="121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933200" y="1533600"/>
            <a:ext cx="5391000" cy="74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90240" y="1514520"/>
            <a:ext cx="51627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51560" y="297324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58080" y="134784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985920" y="4294080"/>
            <a:ext cx="4062240" cy="1074960"/>
            <a:chOff x="3985920" y="4294080"/>
            <a:chExt cx="4062240" cy="1074960"/>
          </a:xfrm>
        </p:grpSpPr>
        <p:sp>
          <p:nvSpPr>
            <p:cNvPr id="368" name=""/>
            <p:cNvSpPr/>
            <p:nvPr/>
          </p:nvSpPr>
          <p:spPr>
            <a:xfrm>
              <a:off x="3985920" y="4430520"/>
              <a:ext cx="4027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IID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diverg. geom.</a:t>
              </a: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 =   20 log 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25160" y="42940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25160" y="47894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33E-1FA8-4A3C-8A0A-AED98A6AF6DB}" type="slidenum">
              <a:t>27</a:t>
            </a:fld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800" y="1399680"/>
            <a:ext cx="7772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vergencia geométrica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importante cuando la fuente se encuentra muy cerca. Así, una diferencia 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0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cm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distancia de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implica una diferencia menor qu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dB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7A5-3314-4E26-BFE6-9E939EBBEC06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493560" y="2729880"/>
            <a:ext cx="8156880" cy="1198440"/>
            <a:chOff x="493560" y="2729880"/>
            <a:chExt cx="8156880" cy="1198440"/>
          </a:xfrm>
        </p:grpSpPr>
        <p:sp>
          <p:nvSpPr>
            <p:cNvPr id="373" name=""/>
            <p:cNvSpPr/>
            <p:nvPr/>
          </p:nvSpPr>
          <p:spPr>
            <a:xfrm>
              <a:off x="493560" y="2909160"/>
              <a:ext cx="8156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</a:t>
              </a:r>
              <a:r>
                <a:rPr b="1" i="1" lang="es-ES_tradnl" sz="36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diverg. geom</a:t>
              </a:r>
              <a:r>
                <a:rPr b="1" lang="es-ES_tradnl" sz="3600" spc="-1" strike="noStrike">
                  <a:solidFill>
                    <a:srgbClr val="333399"/>
                  </a:solidFill>
                  <a:latin typeface="Times New Roman"/>
                </a:rPr>
                <a:t>   =   20 log  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</a:t>
              </a:r>
              <a:r>
                <a:rPr b="1" lang="es-ES_tradnl" sz="3600" spc="-1" strike="noStrike">
                  <a:solidFill>
                    <a:srgbClr val="333399"/>
                  </a:solidFill>
                  <a:latin typeface="Times New Roman"/>
                </a:rPr>
                <a:t>   =   0.83 d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00600" y="2729880"/>
              <a:ext cx="131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99"/>
                  </a:solidFill>
                  <a:latin typeface="Times New Roman"/>
                </a:rPr>
                <a:t>1,1 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00600" y="3285720"/>
              <a:ext cx="131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99"/>
                  </a:solidFill>
                  <a:latin typeface="Times New Roman"/>
                </a:rPr>
                <a:t>1 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CC9-F2BC-42BB-BD3C-A60C1719E735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155240"/>
            <a:ext cx="716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audición no sólo permite obtener información semántica, sino además espacial.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reccionalidad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l sonido es una de las características espaciales bá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B49-D840-4420-9CCF-698E64307D4D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20091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distanci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ayor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te factor pierde importancia frente a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tenu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propi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b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AF3-D4C7-456B-9DE6-DF2B83D0A45A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20091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atenuación de la cabeza se debe a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fecto pantall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que la misma causa en el oído menos expue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A40-1DD0-41C5-A444-B0520F7012AA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20091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ero a causa de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racción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producen variaciones del sonido percibido en un mismo oí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349-59FE-49C4-BF96-5C3E0DEE802A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38080" y="20091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se evalúa mediante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 de la cabeza,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HRTF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head related transfer function)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B02-6D94-48E0-A8F9-2D64D7320BD6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838080" y="775440"/>
            <a:ext cx="746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HRTF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xpresa la atenuación para diferentes ángulos y frecuen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65360" y="4859280"/>
            <a:ext cx="1069920" cy="937800"/>
            <a:chOff x="2565360" y="4859280"/>
            <a:chExt cx="1069920" cy="937800"/>
          </a:xfrm>
        </p:grpSpPr>
        <p:sp>
          <p:nvSpPr>
            <p:cNvPr id="382" name=""/>
            <p:cNvSpPr/>
            <p:nvPr/>
          </p:nvSpPr>
          <p:spPr>
            <a:xfrm flipV="1">
              <a:off x="3505320" y="5325480"/>
              <a:ext cx="129960" cy="730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05320" y="5257080"/>
              <a:ext cx="129960" cy="730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81880" y="4859280"/>
              <a:ext cx="271800" cy="5364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981880" y="5743080"/>
              <a:ext cx="271800" cy="5364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2840" y="4920120"/>
              <a:ext cx="727560" cy="81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2949120" y="4966560"/>
              <a:ext cx="502560" cy="71892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65360" y="4890600"/>
              <a:ext cx="925200" cy="43956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rot="10800000">
              <a:off x="2565360" y="5329800"/>
              <a:ext cx="925200" cy="43956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94160" y="5150880"/>
              <a:ext cx="34920" cy="9396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3514680" y="5165280"/>
              <a:ext cx="1224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94160" y="5418360"/>
              <a:ext cx="34920" cy="9396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3514680" y="5432760"/>
              <a:ext cx="1224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573960" y="3809880"/>
            <a:ext cx="125280" cy="125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117960" y="3886200"/>
            <a:ext cx="35240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9680" y="5330880"/>
            <a:ext cx="3264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1796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49880" y="471240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zimu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03240" y="4023720"/>
            <a:ext cx="2616120" cy="262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93" y="6703"/>
                </a:moveTo>
                <a:arcTo wR="10800" hR="10800" stAng="-1337658" swAng="1337658"/>
                <a:lnTo>
                  <a:pt x="10800" y="10800"/>
                </a:lnTo>
                <a:close/>
              </a:path>
              <a:path fill="none" w="21600" h="21600">
                <a:moveTo>
                  <a:pt x="20793" y="6703"/>
                </a:moveTo>
                <a:arcTo wR="10800" hR="10800" stAng="-1337658" swAng="133765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92280" y="3886200"/>
            <a:ext cx="122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je intera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21400" y="49852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o medial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CF0-90EE-4BD5-8FE0-C8295AB28EE2}" type="slidenum">
              <a:t>34</a:t>
            </a:fld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924280" y="1019160"/>
          <a:ext cx="4048200" cy="40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4280" y="1019160"/>
                    <a:ext cx="4048200" cy="4048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2903400" y="5067360"/>
            <a:ext cx="4089600" cy="185760"/>
            <a:chOff x="2903400" y="5067360"/>
            <a:chExt cx="4089600" cy="185760"/>
          </a:xfrm>
        </p:grpSpPr>
        <p:sp>
          <p:nvSpPr>
            <p:cNvPr id="405" name=""/>
            <p:cNvSpPr/>
            <p:nvPr/>
          </p:nvSpPr>
          <p:spPr>
            <a:xfrm>
              <a:off x="290340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9300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4820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2580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5944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725560" y="996840"/>
            <a:ext cx="185760" cy="4089600"/>
            <a:chOff x="2725560" y="996840"/>
            <a:chExt cx="185760" cy="4089600"/>
          </a:xfrm>
        </p:grpSpPr>
        <p:sp>
          <p:nvSpPr>
            <p:cNvPr id="411" name=""/>
            <p:cNvSpPr/>
            <p:nvPr/>
          </p:nvSpPr>
          <p:spPr>
            <a:xfrm flipH="1">
              <a:off x="2725560" y="99684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725560" y="508644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725560" y="304164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725560" y="201924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725560" y="405288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2557440" y="5205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57520" y="5205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48240" y="5205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00880" y="52059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3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34080" y="5205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8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43160" y="481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57560" y="38534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57560" y="285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57560" y="1786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57560" y="7959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00560" y="56329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zimut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[º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00240" y="260532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[k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353-E8B7-429D-ABE2-137A8CBDB777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33520" y="59292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HRTF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 puede medir mediante la construcción de maniquís que representen una persona promedio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34743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ctualmente se utilizan en los sistemas d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ealidad virtua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ra simular la ubicación espacial de una fuent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4DE-74F4-4F26-8C3C-C0733FC62EF2}" type="slidenum">
              <a:t>36</a:t>
            </a:fld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874-DD36-4836-B7A0-F5574A93CFB5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C9C-1B11-4398-8977-036B5E260DB8}" type="slidenum">
              <a:t>38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1460160"/>
            <a:ext cx="7162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direccionalidad del sonido, 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ángulo de proced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percibida fundamentalmente gracias a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ción binaura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dos oídos).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841-F150-4A52-8CAD-FEEFE3BA1F60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55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31E-28BF-47CF-9B07-9F3D1698AEB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6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912640" y="199440"/>
            <a:ext cx="2822040" cy="281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69" y="4099"/>
                </a:moveTo>
                <a:arcTo wR="10800" hR="10800" stAng="-2301147" swAng="2754113"/>
                <a:lnTo>
                  <a:pt x="10800" y="10800"/>
                </a:lnTo>
                <a:close/>
              </a:path>
              <a:path fill="none" w="21600" h="21600">
                <a:moveTo>
                  <a:pt x="19269" y="4099"/>
                </a:moveTo>
                <a:arcTo wR="10800" hR="10800" stAng="-2301147" swAng="275411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009-86C7-4BF6-92AA-74E54BB5447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8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615200" y="-1046160"/>
            <a:ext cx="5410440" cy="54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35" y="4056"/>
                </a:moveTo>
                <a:arcTo wR="10800" hR="10800" stAng="-2318601" swAng="2728100"/>
                <a:lnTo>
                  <a:pt x="10800" y="10800"/>
                </a:lnTo>
                <a:close/>
              </a:path>
              <a:path fill="none" w="21600" h="21600">
                <a:moveTo>
                  <a:pt x="19235" y="4056"/>
                </a:moveTo>
                <a:arcTo wR="10800" hR="10800" stAng="-2318601" swAng="27281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6D5-0AA8-46C1-8AA6-43D75EFB42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9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316680" y="-2262600"/>
            <a:ext cx="7985160" cy="79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9" y="4023"/>
                </a:moveTo>
                <a:arcTo wR="10800" hR="10800" stAng="-2332063" swAng="2767740"/>
                <a:lnTo>
                  <a:pt x="10800" y="10800"/>
                </a:lnTo>
                <a:close/>
              </a:path>
              <a:path fill="none" w="21600" h="21600">
                <a:moveTo>
                  <a:pt x="19209" y="4023"/>
                </a:moveTo>
                <a:arcTo wR="10800" hR="10800" stAng="-2332063" swAng="276774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204-D684-45CA-B2C5-C77C912E84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1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980000" y="-3531600"/>
            <a:ext cx="10649160" cy="1063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0E6-8C30-4826-9577-3DDE0EF893D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26:28Z</dcterms:modified>
  <cp:revision>242</cp:revision>
  <dc:subject/>
  <dc:title>PSICOACÚSTICA  aplicada a la calidad acústica de espacios educativos.  Materiales absorbentes acústicos reciclados </dc:title>
</cp:coreProperties>
</file>