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552-D8A5-4F23-814E-F4FBDDD0333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onóm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BFDC-D627-47D5-90E7-9E42C162A1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mplos de la relación entre presión sonora y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DD9-2D37-4AA6-B0C8-D135A7573B1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criptores de la fuente y del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troducción al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cepto de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alizador de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mplos de espectro de bandas de tercio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230-33CD-40F1-8353-BD86DC91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507-FC0B-4A29-B481-9600DAF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5CD-127D-496D-B565-4479F066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F22-CED3-41CE-9E99-CF81C6A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D1E-7FFF-43FE-B68A-1D04082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DBF-6863-4A66-B024-BB6C7BCD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CB2-64AA-4F40-A0E7-F11C13C5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1E5-2325-46EF-8D86-4EFD3CF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9EC-F41D-4513-9297-6FFBFB2E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66F-213D-4ED0-B214-4572BB5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ACC-25FF-4C19-9EE9-A0D9462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037-FC80-47DF-AF4C-5955C03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ADD-5653-456A-B809-E6C7A98F318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A7D-7A2D-4785-A323-DDCAAA1F7898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0120" y="411948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90060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1880" y="292428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879560" y="2781360"/>
            <a:ext cx="5170320" cy="284040"/>
            <a:chOff x="1879560" y="2781360"/>
            <a:chExt cx="5170320" cy="284040"/>
          </a:xfrm>
        </p:grpSpPr>
        <p:grpSp>
          <p:nvGrpSpPr>
            <p:cNvPr id="349" name=""/>
            <p:cNvGrpSpPr/>
            <p:nvPr/>
          </p:nvGrpSpPr>
          <p:grpSpPr>
            <a:xfrm>
              <a:off x="1879560" y="2781360"/>
              <a:ext cx="864720" cy="284040"/>
              <a:chOff x="1879560" y="2781360"/>
              <a:chExt cx="864720" cy="28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879560" y="2781360"/>
                <a:ext cx="430200" cy="284040"/>
                <a:chOff x="1879560" y="2781360"/>
                <a:chExt cx="430200" cy="2840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8795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9872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98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021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311560" y="2781360"/>
                <a:ext cx="432720" cy="284040"/>
                <a:chOff x="2311560" y="2781360"/>
                <a:chExt cx="432720" cy="2840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3115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4192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30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3664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2739600" y="2781360"/>
              <a:ext cx="864720" cy="284040"/>
              <a:chOff x="2739600" y="2781360"/>
              <a:chExt cx="864720" cy="2840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2739600" y="2781360"/>
                <a:ext cx="432000" cy="284040"/>
                <a:chOff x="2739600" y="2781360"/>
                <a:chExt cx="432000" cy="284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396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847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588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0639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170520" y="2781360"/>
                <a:ext cx="433800" cy="284040"/>
                <a:chOff x="3170520" y="2781360"/>
                <a:chExt cx="433800" cy="284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17052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279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3908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49668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"/>
            <p:cNvGrpSpPr/>
            <p:nvPr/>
          </p:nvGrpSpPr>
          <p:grpSpPr>
            <a:xfrm>
              <a:off x="3598920" y="2781360"/>
              <a:ext cx="861840" cy="284040"/>
              <a:chOff x="3598920" y="2781360"/>
              <a:chExt cx="861840" cy="2840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598920" y="2781360"/>
                <a:ext cx="429480" cy="284040"/>
                <a:chOff x="3598920" y="2781360"/>
                <a:chExt cx="429480" cy="284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59892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044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81132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9207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028400" y="2781360"/>
                <a:ext cx="432360" cy="284040"/>
                <a:chOff x="4028400" y="2781360"/>
                <a:chExt cx="432360" cy="284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0284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378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4260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3531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4458240" y="2781360"/>
              <a:ext cx="864720" cy="284040"/>
              <a:chOff x="4458240" y="2781360"/>
              <a:chExt cx="864720" cy="2840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58240" y="2781360"/>
                <a:ext cx="430200" cy="284040"/>
                <a:chOff x="4458240" y="2781360"/>
                <a:chExt cx="430200" cy="2840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458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5651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67208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78080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888440" y="2781360"/>
                <a:ext cx="434520" cy="284040"/>
                <a:chOff x="4888440" y="2781360"/>
                <a:chExt cx="434520" cy="284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8884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99788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104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2153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"/>
            <p:cNvGrpSpPr/>
            <p:nvPr/>
          </p:nvGrpSpPr>
          <p:grpSpPr>
            <a:xfrm>
              <a:off x="5320080" y="2781360"/>
              <a:ext cx="864720" cy="284040"/>
              <a:chOff x="5320080" y="2781360"/>
              <a:chExt cx="864720" cy="284040"/>
            </a:xfrm>
          </p:grpSpPr>
          <p:sp>
            <p:nvSpPr>
              <p:cNvPr id="394" name=""/>
              <p:cNvSpPr/>
              <p:nvPr/>
            </p:nvSpPr>
            <p:spPr>
              <a:xfrm>
                <a:off x="5320080" y="278136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27720" y="278136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36440" y="292248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45160" y="292284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5751000" y="2781360"/>
                <a:ext cx="433800" cy="284040"/>
                <a:chOff x="5751000" y="2781360"/>
                <a:chExt cx="433800" cy="2840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7510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85972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9666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0771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6186600" y="2781360"/>
              <a:ext cx="863280" cy="284040"/>
              <a:chOff x="6186600" y="2781360"/>
              <a:chExt cx="863280" cy="28404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6186600" y="2781360"/>
                <a:ext cx="430560" cy="284040"/>
                <a:chOff x="6186600" y="2781360"/>
                <a:chExt cx="430560" cy="284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1866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942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0008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095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616440" y="2781360"/>
                <a:ext cx="433440" cy="284040"/>
                <a:chOff x="6616440" y="2781360"/>
                <a:chExt cx="433440" cy="2840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6164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2696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280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4224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048-220B-442D-B4FC-5C1B7D4670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70120" y="391968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35880" y="370044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1880" y="3114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79560" y="2971800"/>
            <a:ext cx="5170320" cy="284040"/>
            <a:chOff x="1879560" y="2971800"/>
            <a:chExt cx="5170320" cy="284040"/>
          </a:xfrm>
        </p:grpSpPr>
        <p:grpSp>
          <p:nvGrpSpPr>
            <p:cNvPr id="419" name=""/>
            <p:cNvGrpSpPr/>
            <p:nvPr/>
          </p:nvGrpSpPr>
          <p:grpSpPr>
            <a:xfrm>
              <a:off x="1879560" y="2971800"/>
              <a:ext cx="864720" cy="284040"/>
              <a:chOff x="1879560" y="2971800"/>
              <a:chExt cx="864720" cy="28404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1879560" y="2971800"/>
                <a:ext cx="430200" cy="284040"/>
                <a:chOff x="1879560" y="2971800"/>
                <a:chExt cx="430200" cy="2840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8795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9872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98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2021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311560" y="2971800"/>
                <a:ext cx="432720" cy="284040"/>
                <a:chOff x="2311560" y="2971800"/>
                <a:chExt cx="432720" cy="284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3115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4192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30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63664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2739600" y="2971800"/>
              <a:ext cx="864720" cy="284040"/>
              <a:chOff x="2739600" y="2971800"/>
              <a:chExt cx="864720" cy="2840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739600" y="2971800"/>
                <a:ext cx="432000" cy="284040"/>
                <a:chOff x="2739600" y="2971800"/>
                <a:chExt cx="432000" cy="284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7396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847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9588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0639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170520" y="2971800"/>
                <a:ext cx="433800" cy="284040"/>
                <a:chOff x="3170520" y="2971800"/>
                <a:chExt cx="433800" cy="2840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17052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279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908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9668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3598920" y="2971800"/>
              <a:ext cx="861840" cy="284040"/>
              <a:chOff x="3598920" y="2971800"/>
              <a:chExt cx="861840" cy="2840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3598920" y="2971800"/>
                <a:ext cx="429480" cy="284040"/>
                <a:chOff x="3598920" y="2971800"/>
                <a:chExt cx="429480" cy="2840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59892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7044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81132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207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028400" y="2971800"/>
                <a:ext cx="432360" cy="284040"/>
                <a:chOff x="4028400" y="2971800"/>
                <a:chExt cx="432360" cy="2840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0284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1378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24260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531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4458240" y="2971800"/>
              <a:ext cx="864720" cy="284040"/>
              <a:chOff x="4458240" y="2971800"/>
              <a:chExt cx="864720" cy="2840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4458240" y="2971800"/>
                <a:ext cx="430200" cy="284040"/>
                <a:chOff x="4458240" y="2971800"/>
                <a:chExt cx="430200" cy="2840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458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651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67208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78080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888440" y="2971800"/>
                <a:ext cx="434520" cy="284040"/>
                <a:chOff x="4888440" y="2971800"/>
                <a:chExt cx="434520" cy="2840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8884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99788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104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53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320080" y="2971800"/>
              <a:ext cx="864720" cy="284040"/>
              <a:chOff x="5320080" y="2971800"/>
              <a:chExt cx="864720" cy="284040"/>
            </a:xfrm>
          </p:grpSpPr>
          <p:sp>
            <p:nvSpPr>
              <p:cNvPr id="464" name=""/>
              <p:cNvSpPr/>
              <p:nvPr/>
            </p:nvSpPr>
            <p:spPr>
              <a:xfrm>
                <a:off x="5320080" y="297180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27720" y="297180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36440" y="311292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45160" y="311328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5751000" y="2971800"/>
                <a:ext cx="433800" cy="284040"/>
                <a:chOff x="5751000" y="2971800"/>
                <a:chExt cx="433800" cy="2840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7510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85972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666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0771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6186600" y="2971800"/>
              <a:ext cx="863280" cy="284040"/>
              <a:chOff x="6186600" y="2971800"/>
              <a:chExt cx="863280" cy="28404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6186600" y="2971800"/>
                <a:ext cx="430560" cy="284040"/>
                <a:chOff x="6186600" y="2971800"/>
                <a:chExt cx="430560" cy="2840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1866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2942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0008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095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616440" y="2971800"/>
                <a:ext cx="433440" cy="284040"/>
                <a:chOff x="6616440" y="2971800"/>
                <a:chExt cx="433440" cy="28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6164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72696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83280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94224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6BA-AF09-4C24-8F0F-1F4B30F8DA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70120" y="371952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35880" y="350028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1880" y="332424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879560" y="3181320"/>
            <a:ext cx="5170320" cy="284040"/>
            <a:chOff x="1879560" y="3181320"/>
            <a:chExt cx="5170320" cy="284040"/>
          </a:xfrm>
        </p:grpSpPr>
        <p:grpSp>
          <p:nvGrpSpPr>
            <p:cNvPr id="489" name=""/>
            <p:cNvGrpSpPr/>
            <p:nvPr/>
          </p:nvGrpSpPr>
          <p:grpSpPr>
            <a:xfrm>
              <a:off x="1879560" y="3181320"/>
              <a:ext cx="864720" cy="284040"/>
              <a:chOff x="1879560" y="3181320"/>
              <a:chExt cx="864720" cy="28404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879560" y="3181320"/>
                <a:ext cx="430200" cy="284040"/>
                <a:chOff x="1879560" y="3181320"/>
                <a:chExt cx="430200" cy="2840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795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872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98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2021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311560" y="3181320"/>
                <a:ext cx="432720" cy="284040"/>
                <a:chOff x="2311560" y="3181320"/>
                <a:chExt cx="432720" cy="2840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3115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4192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30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63664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2739600" y="3181320"/>
              <a:ext cx="864720" cy="284040"/>
              <a:chOff x="2739600" y="3181320"/>
              <a:chExt cx="864720" cy="2840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739600" y="3181320"/>
                <a:ext cx="432000" cy="284040"/>
                <a:chOff x="2739600" y="3181320"/>
                <a:chExt cx="432000" cy="284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7396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847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9588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0639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70520" y="3181320"/>
                <a:ext cx="433800" cy="284040"/>
                <a:chOff x="3170520" y="3181320"/>
                <a:chExt cx="433800" cy="284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17052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279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908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9668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3598920" y="3181320"/>
              <a:ext cx="861840" cy="284040"/>
              <a:chOff x="3598920" y="3181320"/>
              <a:chExt cx="861840" cy="2840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598920" y="3181320"/>
                <a:ext cx="429480" cy="284040"/>
                <a:chOff x="3598920" y="3181320"/>
                <a:chExt cx="429480" cy="2840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59892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7044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1132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9207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028400" y="3181320"/>
                <a:ext cx="432360" cy="284040"/>
                <a:chOff x="4028400" y="3181320"/>
                <a:chExt cx="432360" cy="284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0284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1378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24260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531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4458240" y="3181320"/>
              <a:ext cx="864720" cy="284040"/>
              <a:chOff x="4458240" y="3181320"/>
              <a:chExt cx="864720" cy="28404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4458240" y="3181320"/>
                <a:ext cx="430200" cy="284040"/>
                <a:chOff x="4458240" y="3181320"/>
                <a:chExt cx="430200" cy="284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58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651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67208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78080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888440" y="3181320"/>
                <a:ext cx="434520" cy="284040"/>
                <a:chOff x="4888440" y="3181320"/>
                <a:chExt cx="434520" cy="284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8884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99788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04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2153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"/>
            <p:cNvGrpSpPr/>
            <p:nvPr/>
          </p:nvGrpSpPr>
          <p:grpSpPr>
            <a:xfrm>
              <a:off x="5320080" y="3181320"/>
              <a:ext cx="864720" cy="284040"/>
              <a:chOff x="5320080" y="3181320"/>
              <a:chExt cx="864720" cy="284040"/>
            </a:xfrm>
          </p:grpSpPr>
          <p:sp>
            <p:nvSpPr>
              <p:cNvPr id="534" name=""/>
              <p:cNvSpPr/>
              <p:nvPr/>
            </p:nvSpPr>
            <p:spPr>
              <a:xfrm>
                <a:off x="5320080" y="318132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7720" y="318132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36440" y="332244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45160" y="332280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5751000" y="3181320"/>
                <a:ext cx="433800" cy="284040"/>
                <a:chOff x="5751000" y="3181320"/>
                <a:chExt cx="433800" cy="2840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7510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85972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9666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771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6186600" y="3181320"/>
              <a:ext cx="863280" cy="284040"/>
              <a:chOff x="6186600" y="3181320"/>
              <a:chExt cx="863280" cy="2840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6186600" y="3181320"/>
                <a:ext cx="430560" cy="284040"/>
                <a:chOff x="6186600" y="3181320"/>
                <a:chExt cx="430560" cy="2840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61866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942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40008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5095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616440" y="3181320"/>
                <a:ext cx="433440" cy="284040"/>
                <a:chOff x="6616440" y="3181320"/>
                <a:chExt cx="433440" cy="2840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6164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72696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3280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94224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948-2773-4A8C-9E8C-18398407EC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70120" y="352440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879560" y="3376440"/>
            <a:ext cx="5170320" cy="284400"/>
            <a:chOff x="1879560" y="3376440"/>
            <a:chExt cx="5170320" cy="284400"/>
          </a:xfrm>
        </p:grpSpPr>
        <p:grpSp>
          <p:nvGrpSpPr>
            <p:cNvPr id="557" name=""/>
            <p:cNvGrpSpPr/>
            <p:nvPr/>
          </p:nvGrpSpPr>
          <p:grpSpPr>
            <a:xfrm>
              <a:off x="1879560" y="3376440"/>
              <a:ext cx="864720" cy="284400"/>
              <a:chOff x="1879560" y="3376440"/>
              <a:chExt cx="864720" cy="28440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879560" y="3376440"/>
                <a:ext cx="430200" cy="284400"/>
                <a:chOff x="1879560" y="3376440"/>
                <a:chExt cx="430200" cy="2844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8795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872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98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2021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311560" y="3376440"/>
                <a:ext cx="432720" cy="284400"/>
                <a:chOff x="2311560" y="3376440"/>
                <a:chExt cx="432720" cy="2844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3115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192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530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3664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2739600" y="3376440"/>
              <a:ext cx="864720" cy="284400"/>
              <a:chOff x="2739600" y="3376440"/>
              <a:chExt cx="864720" cy="284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739600" y="3376440"/>
                <a:ext cx="432000" cy="284400"/>
                <a:chOff x="2739600" y="3376440"/>
                <a:chExt cx="432000" cy="2844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7396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847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9588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639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3170520" y="3376440"/>
                <a:ext cx="433800" cy="284400"/>
                <a:chOff x="3170520" y="3376440"/>
                <a:chExt cx="433800" cy="284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17052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79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908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49668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3598920" y="3376440"/>
              <a:ext cx="861840" cy="284400"/>
              <a:chOff x="3598920" y="3376440"/>
              <a:chExt cx="861840" cy="284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3598920" y="3376440"/>
                <a:ext cx="429480" cy="284400"/>
                <a:chOff x="3598920" y="3376440"/>
                <a:chExt cx="429480" cy="2844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59892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7044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81132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9207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028400" y="3376440"/>
                <a:ext cx="432360" cy="284400"/>
                <a:chOff x="4028400" y="3376440"/>
                <a:chExt cx="432360" cy="2844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284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378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4260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3531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0" name=""/>
            <p:cNvGrpSpPr/>
            <p:nvPr/>
          </p:nvGrpSpPr>
          <p:grpSpPr>
            <a:xfrm>
              <a:off x="4458240" y="3376440"/>
              <a:ext cx="864720" cy="284400"/>
              <a:chOff x="4458240" y="3376440"/>
              <a:chExt cx="864720" cy="284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4458240" y="3376440"/>
                <a:ext cx="430200" cy="284400"/>
                <a:chOff x="4458240" y="3376440"/>
                <a:chExt cx="430200" cy="2844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458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5651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67208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8080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888440" y="3376440"/>
                <a:ext cx="434520" cy="284400"/>
                <a:chOff x="4888440" y="3376440"/>
                <a:chExt cx="434520" cy="2844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8884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99788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04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2153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"/>
            <p:cNvGrpSpPr/>
            <p:nvPr/>
          </p:nvGrpSpPr>
          <p:grpSpPr>
            <a:xfrm>
              <a:off x="5320080" y="3376440"/>
              <a:ext cx="864720" cy="284400"/>
              <a:chOff x="5320080" y="3376440"/>
              <a:chExt cx="864720" cy="284400"/>
            </a:xfrm>
          </p:grpSpPr>
          <p:sp>
            <p:nvSpPr>
              <p:cNvPr id="602" name=""/>
              <p:cNvSpPr/>
              <p:nvPr/>
            </p:nvSpPr>
            <p:spPr>
              <a:xfrm>
                <a:off x="5320080" y="3376440"/>
                <a:ext cx="108360" cy="141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27720" y="3376440"/>
                <a:ext cx="108360" cy="141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36440" y="351792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45160" y="35179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5751000" y="3376440"/>
                <a:ext cx="433800" cy="284400"/>
                <a:chOff x="5751000" y="3376440"/>
                <a:chExt cx="433800" cy="2844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7510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85972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666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0771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"/>
            <p:cNvGrpSpPr/>
            <p:nvPr/>
          </p:nvGrpSpPr>
          <p:grpSpPr>
            <a:xfrm>
              <a:off x="6186600" y="3376440"/>
              <a:ext cx="863280" cy="284400"/>
              <a:chOff x="6186600" y="3376440"/>
              <a:chExt cx="863280" cy="2844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6186600" y="3376440"/>
                <a:ext cx="430560" cy="284400"/>
                <a:chOff x="6186600" y="3376440"/>
                <a:chExt cx="430560" cy="2844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61866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2942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40008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095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616440" y="3376440"/>
                <a:ext cx="433440" cy="284400"/>
                <a:chOff x="6616440" y="3376440"/>
                <a:chExt cx="433440" cy="284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6164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72696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83280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4224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2" name=""/>
          <p:cNvSpPr/>
          <p:nvPr/>
        </p:nvSpPr>
        <p:spPr>
          <a:xfrm>
            <a:off x="7535880" y="333540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69960" y="1341360"/>
            <a:ext cx="641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FD1-48A4-457F-8827-51A4E11D0E8F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09880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puede medir con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onómetro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94B-2C2D-4733-B3A2-6A88E691E05E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004760" y="758880"/>
            <a:ext cx="713448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15F-E803-4F4D-A416-EFB12121842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https://auctions.c.yimg.jp/images.auctions.yahoo.co.jp/image/dr000/auc0405/users/98f5bfce3c6b90de08e35c3ddaa2508dd48581e9/i-img1200x900-1684816759shpabu257437.jpg"/>
          <p:cNvPicPr/>
          <p:nvPr/>
        </p:nvPicPr>
        <p:blipFill>
          <a:blip r:embed="rId2"/>
          <a:stretch/>
        </p:blipFill>
        <p:spPr>
          <a:xfrm>
            <a:off x="847800" y="633240"/>
            <a:ext cx="7448400" cy="559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656-F010-45E8-917E-1A11162DF908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27200"/>
            <a:ext cx="77724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presión sonora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presa e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ecibele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B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 y sus valores están comprendidos entre 0 dB (umbral de audición)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120 dB (umbral de dol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7BE-795D-49D3-BC4B-D2D7F58E14C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09480" y="1687320"/>
            <a:ext cx="7925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,0000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,000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00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0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2,0 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20,0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735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095560"/>
                <a:tab algn="ct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 (Pa)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L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Arial"/>
              </a:rPr>
              <a:t>p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(dB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6A4-4155-4AC9-9002-DA885250D95E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04920" y="1263240"/>
            <a:ext cx="8534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valores inferiores a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0 dB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n muy inusuales, y muchas personas no los escuch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valores superiores a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80 dB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largo plazo son peligroso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la audición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374-89F9-46B7-9EFD-28B9311692B3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rerrequisitos, </a:t>
            </a:r>
            <a:br>
              <a:rPr sz="4400"/>
            </a:b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erminología y simbología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A5C-07E7-4103-BB12-0D3C2D231796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27200"/>
            <a:ext cx="7772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partir del nivel de presión sonora es posible despejar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 efic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52800" y="3062160"/>
                <a:ext cx="46209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790720" y="4919760"/>
                <a:ext cx="3376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8E3-D708-4D3B-9D1D-03D24A3D1AE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26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jemplo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el nivel de presión sonora es 60 dB, determinar la presión sonora efic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208160" y="3743280"/>
                <a:ext cx="666576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911-6D6A-4E19-AEC2-68C389E213A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uchas veces en lugar de la presión sonora se requiere calcular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presión sonora eficaz cuadrática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Arial"/>
              </a:rPr>
              <a:t>ef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3320" y="4383000"/>
                <a:ext cx="4797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5EA-C867-4D51-A795-0BA53B982E6C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to es porque la presión cuadrática se relaciona con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nergía 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173320" y="4383000"/>
                <a:ext cx="4797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230-180A-4B9D-BE40-DBC91EF1CE81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ra variable de interé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a como la energía acústica que emite una fuente por unidad de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27480" y="4383000"/>
                <a:ext cx="24890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62E-0F20-4E1F-AF1C-3F18921F62AD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acterizaremos la fuente a través de su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simismo, caracterizaremo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receptor a travé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1AB-E8C5-46A8-BF40-8E553FD51C2C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A 1: La fuente en general no puede caracterizarse por su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presión sonora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a que una misma fuente puede producir diferentes niveles según la distancia y la materialidad circundante (reflexiones, confinamien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D68-0D53-49E9-9B76-BFECCB1D1D93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 2: El nivel de presión sonora es un atributo de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inmi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no de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emisión.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oído tenemos in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07-BE6D-4D5D-9CE9-A9F375872A36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A 3: En muchos casos lo que se conoce de la fuente es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inmisión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 provoca en un punto receptor determinado, por lo que puede ser necesario obtener indirectamente su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A4B-E3C8-48CC-ACCD-28C1417561DC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3960" y="1301400"/>
            <a:ext cx="823608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ociada a la potencia acústica tenemo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 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la potencia acústica por unidad de área, expresad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W/m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81B-5C14-49A3-A978-72DA43FA14AA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uestra variable principal será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86160" y="2631960"/>
                <a:ext cx="395424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25480" y="4052880"/>
            <a:ext cx="569304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ef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esión sonora eficaz </a:t>
            </a:r>
            <a:br>
              <a:rPr sz="40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= 20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A52-ECE0-48DA-9A2A-E13CD64FD671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3960" y="704880"/>
            <a:ext cx="823608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una onda plana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puede calcular como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50800" y="2743200"/>
            <a:ext cx="522612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3446640" y="2189160"/>
                <a:ext cx="22492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133640" y="3832200"/>
            <a:ext cx="6875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:  Presión eficaz sonora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aire (1,2 kg/m</a:t>
            </a:r>
            <a:r>
              <a:rPr b="0" lang="es-E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600"/>
            </a:br>
            <a:r>
              <a:rPr b="0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l sonido (345 m/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B2C-8AA1-4CC4-B6A5-66C12CAE22CC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3960" y="2624040"/>
            <a:ext cx="82360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Espec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1F2-15B8-47D4-8E9F-A1C695A9042F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3960" y="475920"/>
            <a:ext cx="8236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uestra próxima variable es la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 es decir la cantidad de ciclos por segundo de un sonido. Se expresa e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hertz (Hz)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se relaciona con la sensación de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grav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baja frecuencia) o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agudo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alta fre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6D1-E3BD-4ECF-B0B0-2BB044698D39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mayoría de los sonidos de la realidad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labra hablad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músic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ruido ambiente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tienen más de una frecuencia simultáne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81B-817F-40D2-93D8-2D6088E54984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 propiedades de los materiale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ependen de la 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r ejemplo, una pared aísla mejor las altas frecuencias que las bajas frecuencias.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729-3614-48C9-B0E0-68D6F9148DB7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por ello que se requiere conocer qué frecuencias componen los sonidos y ruidos. Esto se logra mediante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nálisis de espec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99E-A87A-410D-BA02-2F199899F396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spectro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dica el contenido de frecuencias de un sonido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se mide mediante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analizador de espec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A74-4A1C-4F4F-9B15-69E04A40E319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 rot="18834000">
            <a:off x="3763800" y="172800"/>
            <a:ext cx="1617840" cy="651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A72-1012-40AD-88D5-D4F504F09DD3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y varias formas de expresar el espectro, siendo la más común 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spectro de bandas de octa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878-DBF5-462F-A7E0-0364FB4D2372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bandas de octava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ienen sucesivas frecuencias centrales, cada una de las cuales es 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obl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la anterior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A0E-E484-4913-90B0-8398E7DDAFAB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03360" y="1662120"/>
                <a:ext cx="43372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4017960"/>
            <a:ext cx="77724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 eficaz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o energé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5480" y="2932200"/>
            <a:ext cx="569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: Presión son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AB5-38C8-4E2F-ACC8-68C203F924C5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19080" y="446580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9C1-8B17-4951-AD66-7F6530497895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DB8-929B-49CC-BB46-CCF28DCEF3EA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54960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7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0200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1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066-8EAF-4801-8C9B-DB13353A1D8D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te espectro es conveniente porque 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ropiedades de los materiale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 general se dan para 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bandas de oct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194-33C6-49BA-B2D1-90F944901C41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69880" y="1274400"/>
            <a:ext cx="800424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se utilizan las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bandas de tercio de octava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tienen sucesivas frecuencias centrales que son aproximadamente un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25 %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ayores que la anterior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B8A-BABB-41FE-8E97-CE96C64522A2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95440" y="1873080"/>
            <a:ext cx="255600" cy="2595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63680" y="2906640"/>
            <a:ext cx="25560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25800" y="3157560"/>
            <a:ext cx="255600" cy="13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789360" y="3235320"/>
            <a:ext cx="254160" cy="12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49680" y="3602160"/>
            <a:ext cx="255600" cy="86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11800" y="3595680"/>
            <a:ext cx="255600" cy="87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73920" y="3836880"/>
            <a:ext cx="255600" cy="63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93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111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73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353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072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1786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tercio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72096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8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24008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1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51040" y="2063880"/>
            <a:ext cx="25560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08080" y="2496960"/>
            <a:ext cx="255600" cy="197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17840" y="2749680"/>
            <a:ext cx="255600" cy="171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71640" y="2997360"/>
            <a:ext cx="255600" cy="147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81400" y="3305160"/>
            <a:ext cx="25380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041720" y="2987640"/>
            <a:ext cx="252360" cy="148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03840" y="3863880"/>
            <a:ext cx="25560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65600" y="3819600"/>
            <a:ext cx="2556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27720" y="4008600"/>
            <a:ext cx="25560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537000" y="3471840"/>
            <a:ext cx="252360" cy="99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295880" y="3154320"/>
            <a:ext cx="255600" cy="131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57640" y="3483000"/>
            <a:ext cx="255600" cy="98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19760" y="3719520"/>
            <a:ext cx="25560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581880" y="4175280"/>
            <a:ext cx="255600" cy="29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1E9-3C89-4475-BB65-A6876833E8E4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puede obtener también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utad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usando software específico, por ejemplo el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Visual Analys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se puede descargar en forma gratuita de Internet.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92C-D4BE-4F2C-8DAF-23ECC2AD4BD7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ello es necesario ingresar en la entrada de audio con un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eñal calibrada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veniente de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onóme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84C-0285-4C08-A95A-90CEB6D43F6C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1112760" y="1979640"/>
            <a:ext cx="6918480" cy="2489040"/>
            <a:chOff x="1112760" y="1979640"/>
            <a:chExt cx="6918480" cy="2489040"/>
          </a:xfrm>
        </p:grpSpPr>
        <p:grpSp>
          <p:nvGrpSpPr>
            <p:cNvPr id="761" name=""/>
            <p:cNvGrpSpPr/>
            <p:nvPr/>
          </p:nvGrpSpPr>
          <p:grpSpPr>
            <a:xfrm>
              <a:off x="1112760" y="1979640"/>
              <a:ext cx="6918480" cy="2489040"/>
              <a:chOff x="1112760" y="1979640"/>
              <a:chExt cx="6918480" cy="2489040"/>
            </a:xfrm>
          </p:grpSpPr>
          <p:pic>
            <p:nvPicPr>
              <p:cNvPr id="7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48040" y="2300400"/>
                <a:ext cx="3283200" cy="21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1206360" y="3075120"/>
                <a:ext cx="435240" cy="277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60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389240" y="1979640"/>
                <a:ext cx="69840" cy="873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12760" y="2854440"/>
                <a:ext cx="620640" cy="1371600"/>
              </a:xfrm>
              <a:custGeom>
                <a:avLst/>
                <a:gdLst>
                  <a:gd name="textAreaLeft" fmla="*/ 59760 w 620640"/>
                  <a:gd name="textAreaRight" fmla="*/ 560880 w 620640"/>
                  <a:gd name="textAreaTop" fmla="*/ 59760 h 1371600"/>
                  <a:gd name="textAreaBottom" fmla="*/ 1311840 h 1371600"/>
                </a:gdLst>
                <a:ahLst/>
                <a:rect l="textAreaLeft" t="textAreaTop" r="textAreaRight" b="textAreaBottom"/>
                <a:pathLst>
                  <a:path w="21600" h="47720">
                    <a:moveTo>
                      <a:pt x="7111" y="0"/>
                    </a:moveTo>
                    <a:arcTo wR="7111" hR="7111" stAng="16200000" swAng="-5400000"/>
                    <a:lnTo>
                      <a:pt x="0" y="40609"/>
                    </a:lnTo>
                    <a:arcTo wR="7111" hR="7111" stAng="10800000" swAng="-5400000"/>
                    <a:lnTo>
                      <a:pt x="14489" y="47720"/>
                    </a:lnTo>
                    <a:arcTo wR="7111" hR="7111" stAng="5400000" swAng="-5400000"/>
                    <a:lnTo>
                      <a:pt x="21600" y="7111"/>
                    </a:lnTo>
                    <a:arcTo wR="7111" hR="7111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35200" y="3841920"/>
                <a:ext cx="196920" cy="88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932120" y="38862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1587600" y="396072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da 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36800" y="3505320"/>
              <a:ext cx="10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udio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DFE-8579-45AD-BB04-7B4C8BBD60A5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 flipH="1">
            <a:off x="1275480" y="5264280"/>
            <a:ext cx="1946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andas de oc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D5F-31D7-4A66-981B-ED48E1414866}" type="slidenum">
              <a:t>49</a:t>
            </a:fld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3976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a presión sonora es la diferencia entre la presión instantánea y la atmosférica (de equilibrio)</a:t>
            </a:r>
            <a:r>
              <a:rPr b="0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25480" y="4067280"/>
            <a:ext cx="569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  -  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204-F665-4A3A-8DEC-11725252C92D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7308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 flipH="1">
            <a:off x="1275480" y="5264280"/>
            <a:ext cx="209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andas de 1/3 oc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EE9-CAE5-4DC2-8F12-9E5F74AE5558}" type="slidenum">
              <a:t>50</a:t>
            </a:fld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sicoacústica es preferible trabajar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tall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Para ello se usa la transformada rápida de Fourier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629-87E3-4F9D-8DC8-E9C97AC095C7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 flipH="1">
            <a:off x="1276200" y="5264280"/>
            <a:ext cx="2213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spectro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5DB-B98A-4EC6-A863-0A453793D1F7}" type="slidenum">
              <a:t>52</a:t>
            </a:fld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79520" y="1309320"/>
            <a:ext cx="81849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importante tener en cuenta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upone un modelo periódico de la señal por lo tanto implica secciona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ent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 supo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petida periódic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7D0-93B6-49E2-A3A3-9790E8EBFB6D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B0A-D679-4C01-B5D4-E92EFCF54FE0}" type="slidenum">
              <a:t>54</a:t>
            </a:fld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67680" y="440856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801800" y="36370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76520" y="457056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01800" y="390528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9724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0708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29724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807080" y="425916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463760" y="3321000"/>
            <a:ext cx="734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03960" y="390204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30396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36760" y="4594320"/>
            <a:ext cx="268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9916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0720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01800" y="3822840"/>
            <a:ext cx="1498680" cy="149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3FE-94A9-4779-8438-50AB70F385EB}" type="slidenum">
              <a:t>55</a:t>
            </a:fld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633760"/>
            <a:ext cx="777240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arecen algun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blem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E60-2910-414D-A667-314515D83531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67680" y="440856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801800" y="36370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457056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01800" y="390528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9724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0708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9724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807080" y="425916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463760" y="3321000"/>
            <a:ext cx="734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960" y="390204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30396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36760" y="4594320"/>
            <a:ext cx="268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9916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0720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01800" y="3822840"/>
            <a:ext cx="1498680" cy="149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5400000">
            <a:off x="5094000" y="-568080"/>
            <a:ext cx="276120" cy="3641760"/>
          </a:xfrm>
          <a:custGeom>
            <a:avLst/>
            <a:gdLst>
              <a:gd name="textAreaLeft" fmla="*/ 176400 w 276120"/>
              <a:gd name="textAreaRight" fmla="*/ 276480 w 276120"/>
              <a:gd name="textAreaTop" fmla="*/ 54000 h 3641760"/>
              <a:gd name="textAreaBottom" fmla="*/ 3587760 h 36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3"/>
                  <a:pt x="10800" y="1026"/>
                </a:cubicBezTo>
                <a:lnTo>
                  <a:pt x="10800" y="9774"/>
                </a:lnTo>
                <a:cubicBezTo>
                  <a:pt x="10800" y="10287"/>
                  <a:pt x="5400" y="10800"/>
                  <a:pt x="0" y="10800"/>
                </a:cubicBezTo>
                <a:cubicBezTo>
                  <a:pt x="5400" y="10800"/>
                  <a:pt x="10800" y="11313"/>
                  <a:pt x="10800" y="11826"/>
                </a:cubicBezTo>
                <a:lnTo>
                  <a:pt x="10800" y="20574"/>
                </a:lnTo>
                <a:cubicBezTo>
                  <a:pt x="10800" y="210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57760" y="673200"/>
            <a:ext cx="2711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1) Esto no se 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46240" y="4108320"/>
            <a:ext cx="69552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22520" y="5289480"/>
            <a:ext cx="4308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te salto no estaba en la señal original y agrega contenido espectral esp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4FE-DDAA-45E1-893E-0A93446DA67F}" type="slidenum">
              <a:t>57</a:t>
            </a:fld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98520"/>
            <a:ext cx="777240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única solución al primer problema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s ventan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empo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C6A-1921-4032-9BB4-10A67E0CD34D}" type="slidenum">
              <a:t>58</a:t>
            </a:fld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811160" y="1611360"/>
            <a:ext cx="148932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9580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79124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98680" y="1774800"/>
            <a:ext cx="1498680" cy="690480"/>
          </a:xfrm>
          <a:custGeom>
            <a:avLst/>
            <a:gdLst/>
            <a:ahLst/>
            <a:rect l="l" t="t" r="r" b="b"/>
            <a:pathLst>
              <a:path w="944" h="435">
                <a:moveTo>
                  <a:pt x="0" y="351"/>
                </a:moveTo>
                <a:lnTo>
                  <a:pt x="23" y="326"/>
                </a:lnTo>
                <a:lnTo>
                  <a:pt x="52" y="264"/>
                </a:lnTo>
                <a:lnTo>
                  <a:pt x="66" y="146"/>
                </a:lnTo>
                <a:lnTo>
                  <a:pt x="92" y="140"/>
                </a:lnTo>
                <a:lnTo>
                  <a:pt x="98" y="182"/>
                </a:lnTo>
                <a:lnTo>
                  <a:pt x="121" y="258"/>
                </a:lnTo>
                <a:lnTo>
                  <a:pt x="144" y="314"/>
                </a:lnTo>
                <a:lnTo>
                  <a:pt x="165" y="286"/>
                </a:lnTo>
                <a:lnTo>
                  <a:pt x="188" y="340"/>
                </a:lnTo>
                <a:lnTo>
                  <a:pt x="214" y="267"/>
                </a:lnTo>
                <a:lnTo>
                  <a:pt x="228" y="152"/>
                </a:lnTo>
                <a:lnTo>
                  <a:pt x="240" y="34"/>
                </a:lnTo>
                <a:lnTo>
                  <a:pt x="260" y="20"/>
                </a:lnTo>
                <a:lnTo>
                  <a:pt x="283" y="70"/>
                </a:lnTo>
                <a:lnTo>
                  <a:pt x="300" y="143"/>
                </a:lnTo>
                <a:lnTo>
                  <a:pt x="326" y="174"/>
                </a:lnTo>
                <a:lnTo>
                  <a:pt x="342" y="157"/>
                </a:lnTo>
                <a:lnTo>
                  <a:pt x="355" y="70"/>
                </a:lnTo>
                <a:lnTo>
                  <a:pt x="370" y="112"/>
                </a:lnTo>
                <a:lnTo>
                  <a:pt x="410" y="253"/>
                </a:lnTo>
                <a:lnTo>
                  <a:pt x="460" y="182"/>
                </a:lnTo>
                <a:lnTo>
                  <a:pt x="518" y="98"/>
                </a:lnTo>
                <a:lnTo>
                  <a:pt x="544" y="118"/>
                </a:lnTo>
                <a:lnTo>
                  <a:pt x="570" y="180"/>
                </a:lnTo>
                <a:lnTo>
                  <a:pt x="575" y="264"/>
                </a:lnTo>
                <a:lnTo>
                  <a:pt x="576" y="270"/>
                </a:lnTo>
                <a:lnTo>
                  <a:pt x="607" y="410"/>
                </a:lnTo>
                <a:lnTo>
                  <a:pt x="636" y="435"/>
                </a:lnTo>
                <a:lnTo>
                  <a:pt x="659" y="393"/>
                </a:lnTo>
                <a:lnTo>
                  <a:pt x="685" y="371"/>
                </a:lnTo>
                <a:lnTo>
                  <a:pt x="734" y="379"/>
                </a:lnTo>
                <a:lnTo>
                  <a:pt x="780" y="334"/>
                </a:lnTo>
                <a:lnTo>
                  <a:pt x="801" y="171"/>
                </a:lnTo>
                <a:lnTo>
                  <a:pt x="821" y="62"/>
                </a:lnTo>
                <a:lnTo>
                  <a:pt x="864" y="0"/>
                </a:lnTo>
                <a:lnTo>
                  <a:pt x="868" y="0"/>
                </a:lnTo>
                <a:lnTo>
                  <a:pt x="916" y="11"/>
                </a:lnTo>
                <a:lnTo>
                  <a:pt x="944" y="48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782960" y="1311120"/>
            <a:ext cx="1505160" cy="1422720"/>
          </a:xfrm>
          <a:custGeom>
            <a:avLst/>
            <a:gdLst/>
            <a:ahLst/>
            <a:rect l="l" t="t" r="r" b="b"/>
            <a:pathLst>
              <a:path w="948" h="896">
                <a:moveTo>
                  <a:pt x="0" y="331"/>
                </a:moveTo>
                <a:lnTo>
                  <a:pt x="26" y="368"/>
                </a:lnTo>
                <a:lnTo>
                  <a:pt x="81" y="421"/>
                </a:lnTo>
                <a:lnTo>
                  <a:pt x="139" y="345"/>
                </a:lnTo>
                <a:lnTo>
                  <a:pt x="148" y="255"/>
                </a:lnTo>
                <a:lnTo>
                  <a:pt x="174" y="208"/>
                </a:lnTo>
                <a:lnTo>
                  <a:pt x="202" y="281"/>
                </a:lnTo>
                <a:lnTo>
                  <a:pt x="203" y="292"/>
                </a:lnTo>
                <a:lnTo>
                  <a:pt x="243" y="500"/>
                </a:lnTo>
                <a:lnTo>
                  <a:pt x="272" y="429"/>
                </a:lnTo>
                <a:lnTo>
                  <a:pt x="303" y="449"/>
                </a:lnTo>
                <a:lnTo>
                  <a:pt x="318" y="584"/>
                </a:lnTo>
                <a:lnTo>
                  <a:pt x="361" y="823"/>
                </a:lnTo>
                <a:lnTo>
                  <a:pt x="399" y="896"/>
                </a:lnTo>
                <a:lnTo>
                  <a:pt x="433" y="845"/>
                </a:lnTo>
                <a:lnTo>
                  <a:pt x="438" y="839"/>
                </a:lnTo>
                <a:lnTo>
                  <a:pt x="478" y="643"/>
                </a:lnTo>
                <a:lnTo>
                  <a:pt x="518" y="503"/>
                </a:lnTo>
                <a:lnTo>
                  <a:pt x="550" y="564"/>
                </a:lnTo>
                <a:lnTo>
                  <a:pt x="557" y="685"/>
                </a:lnTo>
                <a:lnTo>
                  <a:pt x="578" y="724"/>
                </a:lnTo>
                <a:lnTo>
                  <a:pt x="604" y="691"/>
                </a:lnTo>
                <a:lnTo>
                  <a:pt x="630" y="561"/>
                </a:lnTo>
                <a:lnTo>
                  <a:pt x="661" y="632"/>
                </a:lnTo>
                <a:lnTo>
                  <a:pt x="661" y="719"/>
                </a:lnTo>
                <a:lnTo>
                  <a:pt x="697" y="794"/>
                </a:lnTo>
                <a:lnTo>
                  <a:pt x="740" y="747"/>
                </a:lnTo>
                <a:lnTo>
                  <a:pt x="761" y="601"/>
                </a:lnTo>
                <a:lnTo>
                  <a:pt x="781" y="452"/>
                </a:lnTo>
                <a:lnTo>
                  <a:pt x="827" y="376"/>
                </a:lnTo>
                <a:lnTo>
                  <a:pt x="828" y="383"/>
                </a:lnTo>
                <a:lnTo>
                  <a:pt x="853" y="421"/>
                </a:lnTo>
                <a:lnTo>
                  <a:pt x="879" y="281"/>
                </a:lnTo>
                <a:lnTo>
                  <a:pt x="893" y="28"/>
                </a:lnTo>
                <a:lnTo>
                  <a:pt x="919" y="0"/>
                </a:lnTo>
                <a:lnTo>
                  <a:pt x="934" y="79"/>
                </a:lnTo>
                <a:lnTo>
                  <a:pt x="948" y="157"/>
                </a:ln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043520" y="3004920"/>
            <a:ext cx="2563560" cy="1371960"/>
            <a:chOff x="4043520" y="3004920"/>
            <a:chExt cx="2563560" cy="1371960"/>
          </a:xfrm>
        </p:grpSpPr>
        <p:sp>
          <p:nvSpPr>
            <p:cNvPr id="853" name=""/>
            <p:cNvSpPr/>
            <p:nvPr/>
          </p:nvSpPr>
          <p:spPr>
            <a:xfrm flipH="1" flipV="1">
              <a:off x="4043520" y="300456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43520" y="30211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24280" y="4376880"/>
              <a:ext cx="18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557440" y="3024360"/>
            <a:ext cx="4043520" cy="1857240"/>
            <a:chOff x="2557440" y="3024360"/>
            <a:chExt cx="4043520" cy="1857240"/>
          </a:xfrm>
        </p:grpSpPr>
        <p:sp>
          <p:nvSpPr>
            <p:cNvPr id="857" name=""/>
            <p:cNvSpPr/>
            <p:nvPr/>
          </p:nvSpPr>
          <p:spPr>
            <a:xfrm flipH="1" flipV="1">
              <a:off x="2557440" y="350928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57440" y="3024360"/>
              <a:ext cx="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8560" y="4881600"/>
              <a:ext cx="336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543640" y="2499840"/>
            <a:ext cx="1370880" cy="1371960"/>
            <a:chOff x="5543640" y="2499840"/>
            <a:chExt cx="1370880" cy="1371960"/>
          </a:xfrm>
        </p:grpSpPr>
        <p:sp>
          <p:nvSpPr>
            <p:cNvPr id="861" name=""/>
            <p:cNvSpPr/>
            <p:nvPr/>
          </p:nvSpPr>
          <p:spPr>
            <a:xfrm flipH="1" flipV="1">
              <a:off x="5543640" y="249948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43640" y="3027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24760" y="3871800"/>
              <a:ext cx="38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6570720" y="3692520"/>
            <a:ext cx="1522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spectr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570720" y="4229280"/>
            <a:ext cx="1522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spectr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70720" y="4722840"/>
            <a:ext cx="1522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spect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15120" y="5167440"/>
            <a:ext cx="260280" cy="520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70720" y="5740560"/>
            <a:ext cx="15224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pectro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03F-27FA-4464-9EB9-5142D82C1E95}" type="slidenum">
              <a:t>59</a:t>
            </a:fld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579680" y="1346040"/>
            <a:ext cx="6338880" cy="3623760"/>
            <a:chOff x="1579680" y="1346040"/>
            <a:chExt cx="6338880" cy="3623760"/>
          </a:xfrm>
        </p:grpSpPr>
        <p:sp>
          <p:nvSpPr>
            <p:cNvPr id="62" name=""/>
            <p:cNvSpPr/>
            <p:nvPr/>
          </p:nvSpPr>
          <p:spPr>
            <a:xfrm flipV="1">
              <a:off x="1901880" y="1709280"/>
              <a:ext cx="0" cy="32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0120" y="4748040"/>
              <a:ext cx="579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1880" y="232380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879560" y="2180880"/>
              <a:ext cx="5170320" cy="284400"/>
              <a:chOff x="1879560" y="2180880"/>
              <a:chExt cx="5170320" cy="2844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879560" y="2180880"/>
                <a:ext cx="864720" cy="284400"/>
                <a:chOff x="1879560" y="2180880"/>
                <a:chExt cx="864720" cy="28440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879560" y="2180880"/>
                  <a:ext cx="430200" cy="284400"/>
                  <a:chOff x="1879560" y="2180880"/>
                  <a:chExt cx="430200" cy="2844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8795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872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098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2021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2311560" y="2180880"/>
                  <a:ext cx="432720" cy="284400"/>
                  <a:chOff x="2311560" y="2180880"/>
                  <a:chExt cx="432720" cy="2844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3115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4192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530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3664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"/>
              <p:cNvGrpSpPr/>
              <p:nvPr/>
            </p:nvGrpSpPr>
            <p:grpSpPr>
              <a:xfrm>
                <a:off x="2739600" y="2180880"/>
                <a:ext cx="864720" cy="284400"/>
                <a:chOff x="2739600" y="2180880"/>
                <a:chExt cx="864720" cy="28440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2739600" y="2180880"/>
                  <a:ext cx="432000" cy="284400"/>
                  <a:chOff x="2739600" y="2180880"/>
                  <a:chExt cx="432000" cy="2844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27396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847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9588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0639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3170520" y="2180880"/>
                  <a:ext cx="433800" cy="284400"/>
                  <a:chOff x="3170520" y="2180880"/>
                  <a:chExt cx="433800" cy="2844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17052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279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33908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49668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3598920" y="2180880"/>
                <a:ext cx="861840" cy="284400"/>
                <a:chOff x="3598920" y="2180880"/>
                <a:chExt cx="861840" cy="28440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3598920" y="2180880"/>
                  <a:ext cx="429480" cy="284400"/>
                  <a:chOff x="3598920" y="2180880"/>
                  <a:chExt cx="429480" cy="2844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59892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044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81132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9207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028400" y="2180880"/>
                  <a:ext cx="432360" cy="284400"/>
                  <a:chOff x="4028400" y="2180880"/>
                  <a:chExt cx="432360" cy="284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0284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1378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24260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3531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4458240" y="2180880"/>
                <a:ext cx="864720" cy="284400"/>
                <a:chOff x="4458240" y="2180880"/>
                <a:chExt cx="864720" cy="284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4458240" y="2180880"/>
                  <a:ext cx="430200" cy="284400"/>
                  <a:chOff x="4458240" y="2180880"/>
                  <a:chExt cx="430200" cy="284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458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5651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67208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78080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4888440" y="2180880"/>
                  <a:ext cx="434520" cy="284400"/>
                  <a:chOff x="4888440" y="2180880"/>
                  <a:chExt cx="434520" cy="2844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48884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99788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104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153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5320080" y="2180880"/>
                <a:ext cx="864720" cy="284400"/>
                <a:chOff x="5320080" y="2180880"/>
                <a:chExt cx="864720" cy="284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320080" y="21808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427720" y="21808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536440" y="23223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645160" y="2322360"/>
                  <a:ext cx="10728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751000" y="2180880"/>
                  <a:ext cx="433800" cy="284400"/>
                  <a:chOff x="5751000" y="2180880"/>
                  <a:chExt cx="433800" cy="2844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7510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85972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9666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771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186600" y="2180880"/>
                <a:ext cx="863280" cy="284400"/>
                <a:chOff x="6186600" y="2180880"/>
                <a:chExt cx="863280" cy="2844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186600" y="2180880"/>
                  <a:ext cx="430560" cy="284400"/>
                  <a:chOff x="6186600" y="2180880"/>
                  <a:chExt cx="430560" cy="2844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1866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942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40008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5095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616440" y="2180880"/>
                  <a:ext cx="433440" cy="284400"/>
                  <a:chOff x="6616440" y="2180880"/>
                  <a:chExt cx="433440" cy="284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66164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72696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83280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94224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1" name=""/>
            <p:cNvSpPr/>
            <p:nvPr/>
          </p:nvSpPr>
          <p:spPr>
            <a:xfrm>
              <a:off x="7535880" y="4528800"/>
              <a:ext cx="3826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9680" y="2141280"/>
              <a:ext cx="382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55640" y="1346040"/>
              <a:ext cx="54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5D3-1450-4AFD-8AB9-1B1064E5E210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ólo sirve para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almente esta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el tiempo, o para las cuales no importen las variaciones instantán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667-628C-48B5-9740-1E1160324E6A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 flipH="1">
            <a:off x="685800" y="1274760"/>
            <a:ext cx="77724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os espectr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lej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a que represen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El promedio se hace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módulo) o bien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erg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módulo al cuadrad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1D2-218D-4413-B6D6-2264C3E8C806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 flipH="1">
            <a:off x="685800" y="979560"/>
            <a:ext cx="77724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segundo proble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267680" y="383364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1801800" y="3061800"/>
            <a:ext cx="0" cy="176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6520" y="399564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01800" y="333072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297240" y="332748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07080" y="332748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297240" y="368460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4807080" y="368460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63760" y="2746440"/>
            <a:ext cx="734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303960" y="332748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303960" y="368460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236760" y="4019400"/>
            <a:ext cx="2685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799160" y="4019400"/>
            <a:ext cx="2696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307200" y="4019400"/>
            <a:ext cx="2696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01800" y="3247920"/>
            <a:ext cx="1498680" cy="14940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946240" y="3533760"/>
            <a:ext cx="69552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22520" y="4714920"/>
            <a:ext cx="4308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te salto no estaba en la señal original y agrega contenido espectral esp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016-5CF5-4AD1-B515-AD48580A7E71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 trae aparejada la introduc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onentes espect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no presentes en la señal original, especialmente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AF2-F48A-4E55-A221-7C85CF7838FA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 flipH="1">
            <a:off x="1859040" y="596880"/>
            <a:ext cx="54259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0D8-2765-46E0-B1FF-3DED2AA75626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fenómeno se conoce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rrame espectral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</a:rPr>
              <a:t>spectral leakag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AE6-1BDE-4621-BD20-CDDDD84C72EA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resuelve multiplicando po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“ventana”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atenúa la señal en los bor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39B-EFCC-41C7-8A97-65FCFB7015F9}" type="slidenum">
              <a:t>66</a:t>
            </a:fld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930240" y="1015920"/>
            <a:ext cx="2405160" cy="15098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238960" y="1536840"/>
            <a:ext cx="316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939960" y="826920"/>
            <a:ext cx="0" cy="17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25560" y="1098720"/>
            <a:ext cx="2435040" cy="1323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2440" y="436680"/>
            <a:ext cx="70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213000" y="1795320"/>
            <a:ext cx="435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36560" y="1771560"/>
            <a:ext cx="763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22440" y="2579760"/>
            <a:ext cx="7932600" cy="1460520"/>
            <a:chOff x="622440" y="2579760"/>
            <a:chExt cx="7932600" cy="1460520"/>
          </a:xfrm>
        </p:grpSpPr>
        <p:sp>
          <p:nvSpPr>
            <p:cNvPr id="902" name=""/>
            <p:cNvSpPr/>
            <p:nvPr/>
          </p:nvSpPr>
          <p:spPr>
            <a:xfrm>
              <a:off x="8238960" y="3516480"/>
              <a:ext cx="3160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39960" y="2946240"/>
              <a:ext cx="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2440" y="257976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933480" y="3180960"/>
              <a:ext cx="2419560" cy="578160"/>
              <a:chOff x="933480" y="3180960"/>
              <a:chExt cx="2419560" cy="5781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933480" y="3180960"/>
                <a:ext cx="1210680" cy="578160"/>
                <a:chOff x="933480" y="3180960"/>
                <a:chExt cx="1210680" cy="5781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933480" y="346860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>
                  <a:off x="1537920" y="318060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142360" y="3180960"/>
                <a:ext cx="1210680" cy="578160"/>
                <a:chOff x="2142360" y="3180960"/>
                <a:chExt cx="1210680" cy="578160"/>
              </a:xfrm>
            </p:grpSpPr>
            <p:sp>
              <p:nvSpPr>
                <p:cNvPr id="910" name=""/>
                <p:cNvSpPr/>
                <p:nvPr/>
              </p:nvSpPr>
              <p:spPr>
                <a:xfrm flipV="1">
                  <a:off x="2142360" y="318060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2746800" y="346860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2" name=""/>
            <p:cNvSpPr/>
            <p:nvPr/>
          </p:nvSpPr>
          <p:spPr>
            <a:xfrm>
              <a:off x="736560" y="3765600"/>
              <a:ext cx="76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13000" y="3768840"/>
              <a:ext cx="435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22440" y="4051440"/>
            <a:ext cx="7932600" cy="2179440"/>
            <a:chOff x="622440" y="4051440"/>
            <a:chExt cx="7932600" cy="2179440"/>
          </a:xfrm>
        </p:grpSpPr>
        <p:sp>
          <p:nvSpPr>
            <p:cNvPr id="915" name=""/>
            <p:cNvSpPr/>
            <p:nvPr/>
          </p:nvSpPr>
          <p:spPr>
            <a:xfrm>
              <a:off x="941400" y="4630680"/>
              <a:ext cx="2405160" cy="1509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38960" y="5151600"/>
              <a:ext cx="3160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939960" y="4441680"/>
              <a:ext cx="0" cy="17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560" y="5386320"/>
              <a:ext cx="76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4140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2440" y="405144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13000" y="5410080"/>
              <a:ext cx="435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3684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1644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91080" y="541008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56640" y="541008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2784600" y="2924280"/>
            <a:ext cx="1473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Función “venta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005280" y="5045040"/>
            <a:ext cx="69516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611520" y="5775480"/>
            <a:ext cx="287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Desapareció el s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44640" y="2427120"/>
            <a:ext cx="615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CFE-7083-4009-BA60-5E59D5FC2B35}" type="slidenum">
              <a:t>67</a:t>
            </a:fld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 flipH="1">
            <a:off x="685800" y="714240"/>
            <a:ext cx="7772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s ejempl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591840" y="1960560"/>
            <a:ext cx="7917120" cy="3897360"/>
            <a:chOff x="591840" y="1960560"/>
            <a:chExt cx="7917120" cy="3897360"/>
          </a:xfrm>
        </p:grpSpPr>
        <p:sp>
          <p:nvSpPr>
            <p:cNvPr id="932" name=""/>
            <p:cNvSpPr/>
            <p:nvPr/>
          </p:nvSpPr>
          <p:spPr>
            <a:xfrm>
              <a:off x="905040" y="2119320"/>
              <a:ext cx="14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05040" y="2119320"/>
              <a:ext cx="360" cy="1386000"/>
            </a:xfrm>
            <a:custGeom>
              <a:avLst/>
              <a:gdLst/>
              <a:ahLst/>
              <a:rect l="l" t="t" r="r" b="b"/>
              <a:pathLst>
                <a:path w="0" h="1136">
                  <a:moveTo>
                    <a:pt x="0" y="0"/>
                  </a:moveTo>
                  <a:lnTo>
                    <a:pt x="0" y="0"/>
                  </a:lnTo>
                  <a:lnTo>
                    <a:pt x="0" y="1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05040" y="4073400"/>
              <a:ext cx="1440" cy="13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50680" y="362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22560" y="3621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66920" y="3621240"/>
              <a:ext cx="46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5040" y="3505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96960" y="3505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89240" y="3505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5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017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002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987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954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940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939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91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61840" y="2119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0" cy="13860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90480" y="2689200"/>
              <a:ext cx="9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820800" y="28177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861840" y="3505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861840" y="327816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861840" y="3046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861840" y="28177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861840" y="25891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861840" y="235908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05040" y="2114640"/>
              <a:ext cx="3176280" cy="1374840"/>
            </a:xfrm>
            <a:custGeom>
              <a:avLst/>
              <a:gdLst/>
              <a:ahLst/>
              <a:rect l="l" t="t" r="r" b="b"/>
              <a:pathLst>
                <a:path w="2716" h="974">
                  <a:moveTo>
                    <a:pt x="0" y="344"/>
                  </a:moveTo>
                  <a:lnTo>
                    <a:pt x="2" y="458"/>
                  </a:lnTo>
                  <a:lnTo>
                    <a:pt x="4" y="533"/>
                  </a:lnTo>
                  <a:lnTo>
                    <a:pt x="7" y="535"/>
                  </a:lnTo>
                  <a:lnTo>
                    <a:pt x="10" y="761"/>
                  </a:lnTo>
                  <a:lnTo>
                    <a:pt x="12" y="566"/>
                  </a:lnTo>
                  <a:lnTo>
                    <a:pt x="15" y="370"/>
                  </a:lnTo>
                  <a:lnTo>
                    <a:pt x="18" y="431"/>
                  </a:lnTo>
                  <a:lnTo>
                    <a:pt x="21" y="437"/>
                  </a:lnTo>
                  <a:lnTo>
                    <a:pt x="23" y="320"/>
                  </a:lnTo>
                  <a:lnTo>
                    <a:pt x="25" y="534"/>
                  </a:lnTo>
                  <a:lnTo>
                    <a:pt x="29" y="577"/>
                  </a:lnTo>
                  <a:lnTo>
                    <a:pt x="31" y="544"/>
                  </a:lnTo>
                  <a:lnTo>
                    <a:pt x="34" y="494"/>
                  </a:lnTo>
                  <a:lnTo>
                    <a:pt x="36" y="632"/>
                  </a:lnTo>
                  <a:lnTo>
                    <a:pt x="39" y="668"/>
                  </a:lnTo>
                  <a:lnTo>
                    <a:pt x="42" y="901"/>
                  </a:lnTo>
                  <a:lnTo>
                    <a:pt x="44" y="442"/>
                  </a:lnTo>
                  <a:lnTo>
                    <a:pt x="46" y="557"/>
                  </a:lnTo>
                  <a:lnTo>
                    <a:pt x="50" y="625"/>
                  </a:lnTo>
                  <a:lnTo>
                    <a:pt x="52" y="745"/>
                  </a:lnTo>
                  <a:lnTo>
                    <a:pt x="55" y="404"/>
                  </a:lnTo>
                  <a:lnTo>
                    <a:pt x="58" y="306"/>
                  </a:lnTo>
                  <a:lnTo>
                    <a:pt x="60" y="506"/>
                  </a:lnTo>
                  <a:lnTo>
                    <a:pt x="63" y="697"/>
                  </a:lnTo>
                  <a:lnTo>
                    <a:pt x="65" y="433"/>
                  </a:lnTo>
                  <a:lnTo>
                    <a:pt x="69" y="801"/>
                  </a:lnTo>
                  <a:lnTo>
                    <a:pt x="71" y="711"/>
                  </a:lnTo>
                  <a:lnTo>
                    <a:pt x="73" y="508"/>
                  </a:lnTo>
                  <a:lnTo>
                    <a:pt x="77" y="262"/>
                  </a:lnTo>
                  <a:lnTo>
                    <a:pt x="79" y="616"/>
                  </a:lnTo>
                  <a:lnTo>
                    <a:pt x="81" y="471"/>
                  </a:lnTo>
                  <a:lnTo>
                    <a:pt x="84" y="327"/>
                  </a:lnTo>
                  <a:lnTo>
                    <a:pt x="87" y="572"/>
                  </a:lnTo>
                  <a:lnTo>
                    <a:pt x="90" y="350"/>
                  </a:lnTo>
                  <a:lnTo>
                    <a:pt x="92" y="212"/>
                  </a:lnTo>
                  <a:lnTo>
                    <a:pt x="94" y="562"/>
                  </a:lnTo>
                  <a:lnTo>
                    <a:pt x="98" y="499"/>
                  </a:lnTo>
                  <a:lnTo>
                    <a:pt x="100" y="960"/>
                  </a:lnTo>
                  <a:lnTo>
                    <a:pt x="102" y="535"/>
                  </a:lnTo>
                  <a:lnTo>
                    <a:pt x="106" y="581"/>
                  </a:lnTo>
                  <a:lnTo>
                    <a:pt x="108" y="538"/>
                  </a:lnTo>
                  <a:lnTo>
                    <a:pt x="111" y="683"/>
                  </a:lnTo>
                  <a:lnTo>
                    <a:pt x="113" y="346"/>
                  </a:lnTo>
                  <a:lnTo>
                    <a:pt x="116" y="439"/>
                  </a:lnTo>
                  <a:lnTo>
                    <a:pt x="119" y="181"/>
                  </a:lnTo>
                  <a:lnTo>
                    <a:pt x="121" y="549"/>
                  </a:lnTo>
                  <a:lnTo>
                    <a:pt x="125" y="486"/>
                  </a:lnTo>
                  <a:lnTo>
                    <a:pt x="127" y="600"/>
                  </a:lnTo>
                  <a:lnTo>
                    <a:pt x="129" y="342"/>
                  </a:lnTo>
                  <a:lnTo>
                    <a:pt x="132" y="485"/>
                  </a:lnTo>
                  <a:lnTo>
                    <a:pt x="135" y="568"/>
                  </a:lnTo>
                  <a:lnTo>
                    <a:pt x="137" y="385"/>
                  </a:lnTo>
                  <a:lnTo>
                    <a:pt x="140" y="544"/>
                  </a:lnTo>
                  <a:lnTo>
                    <a:pt x="142" y="442"/>
                  </a:lnTo>
                  <a:lnTo>
                    <a:pt x="146" y="373"/>
                  </a:lnTo>
                  <a:lnTo>
                    <a:pt x="148" y="422"/>
                  </a:lnTo>
                  <a:lnTo>
                    <a:pt x="150" y="486"/>
                  </a:lnTo>
                  <a:lnTo>
                    <a:pt x="154" y="630"/>
                  </a:lnTo>
                  <a:lnTo>
                    <a:pt x="156" y="373"/>
                  </a:lnTo>
                  <a:lnTo>
                    <a:pt x="159" y="494"/>
                  </a:lnTo>
                  <a:lnTo>
                    <a:pt x="161" y="539"/>
                  </a:lnTo>
                  <a:lnTo>
                    <a:pt x="164" y="405"/>
                  </a:lnTo>
                  <a:lnTo>
                    <a:pt x="167" y="584"/>
                  </a:lnTo>
                  <a:lnTo>
                    <a:pt x="169" y="688"/>
                  </a:lnTo>
                  <a:lnTo>
                    <a:pt x="171" y="702"/>
                  </a:lnTo>
                  <a:lnTo>
                    <a:pt x="175" y="390"/>
                  </a:lnTo>
                  <a:lnTo>
                    <a:pt x="177" y="357"/>
                  </a:lnTo>
                  <a:lnTo>
                    <a:pt x="180" y="192"/>
                  </a:lnTo>
                  <a:lnTo>
                    <a:pt x="182" y="556"/>
                  </a:lnTo>
                  <a:lnTo>
                    <a:pt x="185" y="470"/>
                  </a:lnTo>
                  <a:lnTo>
                    <a:pt x="188" y="442"/>
                  </a:lnTo>
                  <a:lnTo>
                    <a:pt x="190" y="450"/>
                  </a:lnTo>
                  <a:lnTo>
                    <a:pt x="194" y="820"/>
                  </a:lnTo>
                  <a:lnTo>
                    <a:pt x="196" y="579"/>
                  </a:lnTo>
                  <a:lnTo>
                    <a:pt x="198" y="673"/>
                  </a:lnTo>
                  <a:lnTo>
                    <a:pt x="201" y="277"/>
                  </a:lnTo>
                  <a:lnTo>
                    <a:pt x="204" y="484"/>
                  </a:lnTo>
                  <a:lnTo>
                    <a:pt x="206" y="391"/>
                  </a:lnTo>
                  <a:lnTo>
                    <a:pt x="209" y="655"/>
                  </a:lnTo>
                  <a:lnTo>
                    <a:pt x="211" y="511"/>
                  </a:lnTo>
                  <a:lnTo>
                    <a:pt x="215" y="772"/>
                  </a:lnTo>
                  <a:lnTo>
                    <a:pt x="217" y="720"/>
                  </a:lnTo>
                  <a:lnTo>
                    <a:pt x="219" y="341"/>
                  </a:lnTo>
                  <a:lnTo>
                    <a:pt x="223" y="866"/>
                  </a:lnTo>
                  <a:lnTo>
                    <a:pt x="225" y="421"/>
                  </a:lnTo>
                  <a:lnTo>
                    <a:pt x="227" y="459"/>
                  </a:lnTo>
                  <a:lnTo>
                    <a:pt x="230" y="581"/>
                  </a:lnTo>
                  <a:lnTo>
                    <a:pt x="233" y="626"/>
                  </a:lnTo>
                  <a:lnTo>
                    <a:pt x="236" y="581"/>
                  </a:lnTo>
                  <a:lnTo>
                    <a:pt x="238" y="484"/>
                  </a:lnTo>
                  <a:lnTo>
                    <a:pt x="240" y="656"/>
                  </a:lnTo>
                  <a:lnTo>
                    <a:pt x="244" y="326"/>
                  </a:lnTo>
                  <a:lnTo>
                    <a:pt x="246" y="786"/>
                  </a:lnTo>
                  <a:lnTo>
                    <a:pt x="249" y="453"/>
                  </a:lnTo>
                  <a:lnTo>
                    <a:pt x="252" y="486"/>
                  </a:lnTo>
                  <a:lnTo>
                    <a:pt x="254" y="562"/>
                  </a:lnTo>
                  <a:lnTo>
                    <a:pt x="257" y="673"/>
                  </a:lnTo>
                  <a:lnTo>
                    <a:pt x="259" y="651"/>
                  </a:lnTo>
                  <a:lnTo>
                    <a:pt x="262" y="469"/>
                  </a:lnTo>
                  <a:lnTo>
                    <a:pt x="265" y="506"/>
                  </a:lnTo>
                  <a:lnTo>
                    <a:pt x="267" y="665"/>
                  </a:lnTo>
                  <a:lnTo>
                    <a:pt x="271" y="511"/>
                  </a:lnTo>
                  <a:lnTo>
                    <a:pt x="273" y="364"/>
                  </a:lnTo>
                  <a:lnTo>
                    <a:pt x="275" y="257"/>
                  </a:lnTo>
                  <a:lnTo>
                    <a:pt x="278" y="307"/>
                  </a:lnTo>
                  <a:lnTo>
                    <a:pt x="281" y="461"/>
                  </a:lnTo>
                  <a:lnTo>
                    <a:pt x="284" y="553"/>
                  </a:lnTo>
                  <a:lnTo>
                    <a:pt x="286" y="639"/>
                  </a:lnTo>
                  <a:lnTo>
                    <a:pt x="288" y="497"/>
                  </a:lnTo>
                  <a:lnTo>
                    <a:pt x="292" y="669"/>
                  </a:lnTo>
                  <a:lnTo>
                    <a:pt x="294" y="481"/>
                  </a:lnTo>
                  <a:lnTo>
                    <a:pt x="296" y="490"/>
                  </a:lnTo>
                  <a:lnTo>
                    <a:pt x="300" y="568"/>
                  </a:lnTo>
                  <a:lnTo>
                    <a:pt x="302" y="543"/>
                  </a:lnTo>
                  <a:lnTo>
                    <a:pt x="305" y="673"/>
                  </a:lnTo>
                  <a:lnTo>
                    <a:pt x="307" y="209"/>
                  </a:lnTo>
                  <a:lnTo>
                    <a:pt x="310" y="836"/>
                  </a:lnTo>
                  <a:lnTo>
                    <a:pt x="313" y="554"/>
                  </a:lnTo>
                  <a:lnTo>
                    <a:pt x="315" y="420"/>
                  </a:lnTo>
                  <a:lnTo>
                    <a:pt x="318" y="496"/>
                  </a:lnTo>
                  <a:lnTo>
                    <a:pt x="321" y="920"/>
                  </a:lnTo>
                  <a:lnTo>
                    <a:pt x="323" y="709"/>
                  </a:lnTo>
                  <a:lnTo>
                    <a:pt x="326" y="642"/>
                  </a:lnTo>
                  <a:lnTo>
                    <a:pt x="329" y="586"/>
                  </a:lnTo>
                  <a:lnTo>
                    <a:pt x="331" y="607"/>
                  </a:lnTo>
                  <a:lnTo>
                    <a:pt x="334" y="563"/>
                  </a:lnTo>
                  <a:lnTo>
                    <a:pt x="336" y="644"/>
                  </a:lnTo>
                  <a:lnTo>
                    <a:pt x="340" y="379"/>
                  </a:lnTo>
                  <a:lnTo>
                    <a:pt x="342" y="698"/>
                  </a:lnTo>
                  <a:lnTo>
                    <a:pt x="344" y="489"/>
                  </a:lnTo>
                  <a:lnTo>
                    <a:pt x="347" y="742"/>
                  </a:lnTo>
                  <a:lnTo>
                    <a:pt x="350" y="302"/>
                  </a:lnTo>
                  <a:lnTo>
                    <a:pt x="352" y="259"/>
                  </a:lnTo>
                  <a:lnTo>
                    <a:pt x="355" y="688"/>
                  </a:lnTo>
                  <a:lnTo>
                    <a:pt x="357" y="538"/>
                  </a:lnTo>
                  <a:lnTo>
                    <a:pt x="361" y="380"/>
                  </a:lnTo>
                  <a:lnTo>
                    <a:pt x="363" y="424"/>
                  </a:lnTo>
                  <a:lnTo>
                    <a:pt x="365" y="710"/>
                  </a:lnTo>
                  <a:lnTo>
                    <a:pt x="369" y="431"/>
                  </a:lnTo>
                  <a:lnTo>
                    <a:pt x="371" y="343"/>
                  </a:lnTo>
                  <a:lnTo>
                    <a:pt x="374" y="734"/>
                  </a:lnTo>
                  <a:lnTo>
                    <a:pt x="376" y="510"/>
                  </a:lnTo>
                  <a:lnTo>
                    <a:pt x="379" y="658"/>
                  </a:lnTo>
                  <a:lnTo>
                    <a:pt x="382" y="745"/>
                  </a:lnTo>
                  <a:lnTo>
                    <a:pt x="384" y="515"/>
                  </a:lnTo>
                  <a:lnTo>
                    <a:pt x="386" y="950"/>
                  </a:lnTo>
                  <a:lnTo>
                    <a:pt x="390" y="259"/>
                  </a:lnTo>
                  <a:lnTo>
                    <a:pt x="392" y="390"/>
                  </a:lnTo>
                  <a:lnTo>
                    <a:pt x="395" y="440"/>
                  </a:lnTo>
                  <a:lnTo>
                    <a:pt x="398" y="538"/>
                  </a:lnTo>
                  <a:lnTo>
                    <a:pt x="400" y="652"/>
                  </a:lnTo>
                  <a:lnTo>
                    <a:pt x="403" y="598"/>
                  </a:lnTo>
                  <a:lnTo>
                    <a:pt x="405" y="567"/>
                  </a:lnTo>
                  <a:lnTo>
                    <a:pt x="409" y="539"/>
                  </a:lnTo>
                  <a:lnTo>
                    <a:pt x="411" y="687"/>
                  </a:lnTo>
                  <a:lnTo>
                    <a:pt x="413" y="318"/>
                  </a:lnTo>
                  <a:lnTo>
                    <a:pt x="417" y="736"/>
                  </a:lnTo>
                  <a:lnTo>
                    <a:pt x="419" y="608"/>
                  </a:lnTo>
                  <a:lnTo>
                    <a:pt x="421" y="712"/>
                  </a:lnTo>
                  <a:lnTo>
                    <a:pt x="424" y="448"/>
                  </a:lnTo>
                  <a:lnTo>
                    <a:pt x="427" y="583"/>
                  </a:lnTo>
                  <a:lnTo>
                    <a:pt x="430" y="878"/>
                  </a:lnTo>
                  <a:lnTo>
                    <a:pt x="432" y="704"/>
                  </a:lnTo>
                  <a:lnTo>
                    <a:pt x="434" y="572"/>
                  </a:lnTo>
                  <a:lnTo>
                    <a:pt x="438" y="374"/>
                  </a:lnTo>
                  <a:lnTo>
                    <a:pt x="440" y="692"/>
                  </a:lnTo>
                  <a:lnTo>
                    <a:pt x="442" y="511"/>
                  </a:lnTo>
                  <a:lnTo>
                    <a:pt x="446" y="726"/>
                  </a:lnTo>
                  <a:lnTo>
                    <a:pt x="448" y="446"/>
                  </a:lnTo>
                  <a:lnTo>
                    <a:pt x="451" y="671"/>
                  </a:lnTo>
                  <a:lnTo>
                    <a:pt x="453" y="525"/>
                  </a:lnTo>
                  <a:lnTo>
                    <a:pt x="456" y="412"/>
                  </a:lnTo>
                  <a:lnTo>
                    <a:pt x="459" y="322"/>
                  </a:lnTo>
                  <a:lnTo>
                    <a:pt x="461" y="595"/>
                  </a:lnTo>
                  <a:lnTo>
                    <a:pt x="464" y="326"/>
                  </a:lnTo>
                  <a:lnTo>
                    <a:pt x="467" y="587"/>
                  </a:lnTo>
                  <a:lnTo>
                    <a:pt x="469" y="691"/>
                  </a:lnTo>
                  <a:lnTo>
                    <a:pt x="472" y="576"/>
                  </a:lnTo>
                  <a:lnTo>
                    <a:pt x="475" y="520"/>
                  </a:lnTo>
                  <a:lnTo>
                    <a:pt x="477" y="618"/>
                  </a:lnTo>
                  <a:lnTo>
                    <a:pt x="480" y="389"/>
                  </a:lnTo>
                  <a:lnTo>
                    <a:pt x="482" y="476"/>
                  </a:lnTo>
                  <a:lnTo>
                    <a:pt x="486" y="600"/>
                  </a:lnTo>
                  <a:lnTo>
                    <a:pt x="488" y="498"/>
                  </a:lnTo>
                  <a:lnTo>
                    <a:pt x="490" y="598"/>
                  </a:lnTo>
                  <a:lnTo>
                    <a:pt x="493" y="610"/>
                  </a:lnTo>
                  <a:lnTo>
                    <a:pt x="496" y="623"/>
                  </a:lnTo>
                  <a:lnTo>
                    <a:pt x="499" y="506"/>
                  </a:lnTo>
                  <a:lnTo>
                    <a:pt x="501" y="455"/>
                  </a:lnTo>
                  <a:lnTo>
                    <a:pt x="503" y="521"/>
                  </a:lnTo>
                  <a:lnTo>
                    <a:pt x="507" y="708"/>
                  </a:lnTo>
                  <a:lnTo>
                    <a:pt x="509" y="347"/>
                  </a:lnTo>
                  <a:lnTo>
                    <a:pt x="511" y="692"/>
                  </a:lnTo>
                  <a:lnTo>
                    <a:pt x="515" y="655"/>
                  </a:lnTo>
                  <a:lnTo>
                    <a:pt x="517" y="449"/>
                  </a:lnTo>
                  <a:lnTo>
                    <a:pt x="520" y="275"/>
                  </a:lnTo>
                  <a:lnTo>
                    <a:pt x="522" y="676"/>
                  </a:lnTo>
                  <a:lnTo>
                    <a:pt x="525" y="508"/>
                  </a:lnTo>
                  <a:lnTo>
                    <a:pt x="528" y="779"/>
                  </a:lnTo>
                  <a:lnTo>
                    <a:pt x="530" y="678"/>
                  </a:lnTo>
                  <a:lnTo>
                    <a:pt x="534" y="608"/>
                  </a:lnTo>
                  <a:lnTo>
                    <a:pt x="536" y="543"/>
                  </a:lnTo>
                  <a:lnTo>
                    <a:pt x="538" y="440"/>
                  </a:lnTo>
                  <a:lnTo>
                    <a:pt x="541" y="495"/>
                  </a:lnTo>
                  <a:lnTo>
                    <a:pt x="544" y="429"/>
                  </a:lnTo>
                  <a:lnTo>
                    <a:pt x="546" y="396"/>
                  </a:lnTo>
                  <a:lnTo>
                    <a:pt x="549" y="409"/>
                  </a:lnTo>
                  <a:lnTo>
                    <a:pt x="551" y="405"/>
                  </a:lnTo>
                  <a:lnTo>
                    <a:pt x="555" y="529"/>
                  </a:lnTo>
                  <a:lnTo>
                    <a:pt x="557" y="661"/>
                  </a:lnTo>
                  <a:lnTo>
                    <a:pt x="559" y="268"/>
                  </a:lnTo>
                  <a:lnTo>
                    <a:pt x="563" y="380"/>
                  </a:lnTo>
                  <a:lnTo>
                    <a:pt x="565" y="629"/>
                  </a:lnTo>
                  <a:lnTo>
                    <a:pt x="567" y="405"/>
                  </a:lnTo>
                  <a:lnTo>
                    <a:pt x="570" y="654"/>
                  </a:lnTo>
                  <a:lnTo>
                    <a:pt x="573" y="515"/>
                  </a:lnTo>
                  <a:lnTo>
                    <a:pt x="576" y="647"/>
                  </a:lnTo>
                  <a:lnTo>
                    <a:pt x="578" y="600"/>
                  </a:lnTo>
                  <a:lnTo>
                    <a:pt x="580" y="197"/>
                  </a:lnTo>
                  <a:lnTo>
                    <a:pt x="584" y="370"/>
                  </a:lnTo>
                  <a:lnTo>
                    <a:pt x="586" y="711"/>
                  </a:lnTo>
                  <a:lnTo>
                    <a:pt x="589" y="354"/>
                  </a:lnTo>
                  <a:lnTo>
                    <a:pt x="592" y="578"/>
                  </a:lnTo>
                  <a:lnTo>
                    <a:pt x="594" y="742"/>
                  </a:lnTo>
                  <a:lnTo>
                    <a:pt x="597" y="539"/>
                  </a:lnTo>
                  <a:lnTo>
                    <a:pt x="599" y="651"/>
                  </a:lnTo>
                  <a:lnTo>
                    <a:pt x="602" y="566"/>
                  </a:lnTo>
                  <a:lnTo>
                    <a:pt x="605" y="669"/>
                  </a:lnTo>
                  <a:lnTo>
                    <a:pt x="607" y="408"/>
                  </a:lnTo>
                  <a:lnTo>
                    <a:pt x="611" y="527"/>
                  </a:lnTo>
                  <a:lnTo>
                    <a:pt x="613" y="631"/>
                  </a:lnTo>
                  <a:lnTo>
                    <a:pt x="615" y="292"/>
                  </a:lnTo>
                  <a:lnTo>
                    <a:pt x="618" y="663"/>
                  </a:lnTo>
                  <a:lnTo>
                    <a:pt x="621" y="326"/>
                  </a:lnTo>
                  <a:lnTo>
                    <a:pt x="624" y="534"/>
                  </a:lnTo>
                  <a:lnTo>
                    <a:pt x="626" y="478"/>
                  </a:lnTo>
                  <a:lnTo>
                    <a:pt x="628" y="550"/>
                  </a:lnTo>
                  <a:lnTo>
                    <a:pt x="632" y="575"/>
                  </a:lnTo>
                  <a:lnTo>
                    <a:pt x="634" y="497"/>
                  </a:lnTo>
                  <a:lnTo>
                    <a:pt x="636" y="607"/>
                  </a:lnTo>
                  <a:lnTo>
                    <a:pt x="639" y="827"/>
                  </a:lnTo>
                  <a:lnTo>
                    <a:pt x="642" y="471"/>
                  </a:lnTo>
                  <a:lnTo>
                    <a:pt x="645" y="568"/>
                  </a:lnTo>
                  <a:lnTo>
                    <a:pt x="647" y="451"/>
                  </a:lnTo>
                  <a:lnTo>
                    <a:pt x="650" y="645"/>
                  </a:lnTo>
                  <a:lnTo>
                    <a:pt x="653" y="492"/>
                  </a:lnTo>
                  <a:lnTo>
                    <a:pt x="655" y="405"/>
                  </a:lnTo>
                  <a:lnTo>
                    <a:pt x="658" y="555"/>
                  </a:lnTo>
                  <a:lnTo>
                    <a:pt x="661" y="161"/>
                  </a:lnTo>
                  <a:lnTo>
                    <a:pt x="663" y="600"/>
                  </a:lnTo>
                  <a:lnTo>
                    <a:pt x="666" y="340"/>
                  </a:lnTo>
                  <a:lnTo>
                    <a:pt x="668" y="60"/>
                  </a:lnTo>
                  <a:lnTo>
                    <a:pt x="671" y="531"/>
                  </a:lnTo>
                  <a:lnTo>
                    <a:pt x="674" y="602"/>
                  </a:lnTo>
                  <a:lnTo>
                    <a:pt x="676" y="233"/>
                  </a:lnTo>
                  <a:lnTo>
                    <a:pt x="680" y="542"/>
                  </a:lnTo>
                  <a:lnTo>
                    <a:pt x="682" y="563"/>
                  </a:lnTo>
                  <a:lnTo>
                    <a:pt x="684" y="656"/>
                  </a:lnTo>
                  <a:lnTo>
                    <a:pt x="687" y="380"/>
                  </a:lnTo>
                  <a:lnTo>
                    <a:pt x="690" y="85"/>
                  </a:lnTo>
                  <a:lnTo>
                    <a:pt x="692" y="616"/>
                  </a:lnTo>
                  <a:lnTo>
                    <a:pt x="695" y="280"/>
                  </a:lnTo>
                  <a:lnTo>
                    <a:pt x="697" y="439"/>
                  </a:lnTo>
                  <a:lnTo>
                    <a:pt x="701" y="338"/>
                  </a:lnTo>
                  <a:lnTo>
                    <a:pt x="703" y="460"/>
                  </a:lnTo>
                  <a:lnTo>
                    <a:pt x="705" y="698"/>
                  </a:lnTo>
                  <a:lnTo>
                    <a:pt x="709" y="651"/>
                  </a:lnTo>
                  <a:lnTo>
                    <a:pt x="711" y="807"/>
                  </a:lnTo>
                  <a:lnTo>
                    <a:pt x="714" y="495"/>
                  </a:lnTo>
                  <a:lnTo>
                    <a:pt x="716" y="595"/>
                  </a:lnTo>
                  <a:lnTo>
                    <a:pt x="719" y="484"/>
                  </a:lnTo>
                  <a:lnTo>
                    <a:pt x="722" y="594"/>
                  </a:lnTo>
                  <a:lnTo>
                    <a:pt x="724" y="395"/>
                  </a:lnTo>
                  <a:lnTo>
                    <a:pt x="726" y="361"/>
                  </a:lnTo>
                  <a:lnTo>
                    <a:pt x="730" y="460"/>
                  </a:lnTo>
                  <a:lnTo>
                    <a:pt x="732" y="455"/>
                  </a:lnTo>
                  <a:lnTo>
                    <a:pt x="735" y="459"/>
                  </a:lnTo>
                  <a:lnTo>
                    <a:pt x="738" y="337"/>
                  </a:lnTo>
                  <a:lnTo>
                    <a:pt x="740" y="379"/>
                  </a:lnTo>
                  <a:lnTo>
                    <a:pt x="743" y="432"/>
                  </a:lnTo>
                  <a:lnTo>
                    <a:pt x="745" y="283"/>
                  </a:lnTo>
                  <a:lnTo>
                    <a:pt x="749" y="651"/>
                  </a:lnTo>
                  <a:lnTo>
                    <a:pt x="751" y="448"/>
                  </a:lnTo>
                  <a:lnTo>
                    <a:pt x="753" y="256"/>
                  </a:lnTo>
                  <a:lnTo>
                    <a:pt x="757" y="603"/>
                  </a:lnTo>
                  <a:lnTo>
                    <a:pt x="759" y="819"/>
                  </a:lnTo>
                  <a:lnTo>
                    <a:pt x="761" y="762"/>
                  </a:lnTo>
                  <a:lnTo>
                    <a:pt x="764" y="446"/>
                  </a:lnTo>
                  <a:lnTo>
                    <a:pt x="767" y="311"/>
                  </a:lnTo>
                  <a:lnTo>
                    <a:pt x="770" y="372"/>
                  </a:lnTo>
                  <a:lnTo>
                    <a:pt x="772" y="325"/>
                  </a:lnTo>
                  <a:lnTo>
                    <a:pt x="774" y="683"/>
                  </a:lnTo>
                  <a:lnTo>
                    <a:pt x="778" y="639"/>
                  </a:lnTo>
                  <a:lnTo>
                    <a:pt x="780" y="586"/>
                  </a:lnTo>
                  <a:lnTo>
                    <a:pt x="782" y="591"/>
                  </a:lnTo>
                  <a:lnTo>
                    <a:pt x="786" y="465"/>
                  </a:lnTo>
                  <a:lnTo>
                    <a:pt x="788" y="446"/>
                  </a:lnTo>
                  <a:lnTo>
                    <a:pt x="791" y="538"/>
                  </a:lnTo>
                  <a:lnTo>
                    <a:pt x="793" y="361"/>
                  </a:lnTo>
                  <a:lnTo>
                    <a:pt x="796" y="418"/>
                  </a:lnTo>
                  <a:lnTo>
                    <a:pt x="799" y="117"/>
                  </a:lnTo>
                  <a:lnTo>
                    <a:pt x="801" y="405"/>
                  </a:lnTo>
                  <a:lnTo>
                    <a:pt x="804" y="210"/>
                  </a:lnTo>
                  <a:lnTo>
                    <a:pt x="807" y="304"/>
                  </a:lnTo>
                  <a:lnTo>
                    <a:pt x="809" y="487"/>
                  </a:lnTo>
                  <a:lnTo>
                    <a:pt x="812" y="478"/>
                  </a:lnTo>
                  <a:lnTo>
                    <a:pt x="814" y="902"/>
                  </a:lnTo>
                  <a:lnTo>
                    <a:pt x="817" y="337"/>
                  </a:lnTo>
                  <a:lnTo>
                    <a:pt x="820" y="571"/>
                  </a:lnTo>
                  <a:lnTo>
                    <a:pt x="822" y="255"/>
                  </a:lnTo>
                  <a:lnTo>
                    <a:pt x="826" y="787"/>
                  </a:lnTo>
                  <a:lnTo>
                    <a:pt x="828" y="759"/>
                  </a:lnTo>
                  <a:lnTo>
                    <a:pt x="830" y="584"/>
                  </a:lnTo>
                  <a:lnTo>
                    <a:pt x="833" y="513"/>
                  </a:lnTo>
                  <a:lnTo>
                    <a:pt x="836" y="654"/>
                  </a:lnTo>
                  <a:lnTo>
                    <a:pt x="839" y="602"/>
                  </a:lnTo>
                  <a:lnTo>
                    <a:pt x="841" y="579"/>
                  </a:lnTo>
                  <a:lnTo>
                    <a:pt x="843" y="505"/>
                  </a:lnTo>
                  <a:lnTo>
                    <a:pt x="847" y="585"/>
                  </a:lnTo>
                  <a:lnTo>
                    <a:pt x="849" y="253"/>
                  </a:lnTo>
                  <a:lnTo>
                    <a:pt x="851" y="492"/>
                  </a:lnTo>
                  <a:lnTo>
                    <a:pt x="855" y="402"/>
                  </a:lnTo>
                  <a:lnTo>
                    <a:pt x="857" y="432"/>
                  </a:lnTo>
                  <a:lnTo>
                    <a:pt x="860" y="515"/>
                  </a:lnTo>
                  <a:lnTo>
                    <a:pt x="862" y="742"/>
                  </a:lnTo>
                  <a:lnTo>
                    <a:pt x="865" y="388"/>
                  </a:lnTo>
                  <a:lnTo>
                    <a:pt x="868" y="589"/>
                  </a:lnTo>
                  <a:lnTo>
                    <a:pt x="870" y="685"/>
                  </a:lnTo>
                  <a:lnTo>
                    <a:pt x="874" y="205"/>
                  </a:lnTo>
                  <a:lnTo>
                    <a:pt x="876" y="709"/>
                  </a:lnTo>
                  <a:lnTo>
                    <a:pt x="878" y="902"/>
                  </a:lnTo>
                  <a:lnTo>
                    <a:pt x="881" y="660"/>
                  </a:lnTo>
                  <a:lnTo>
                    <a:pt x="884" y="374"/>
                  </a:lnTo>
                  <a:lnTo>
                    <a:pt x="886" y="669"/>
                  </a:lnTo>
                  <a:lnTo>
                    <a:pt x="889" y="480"/>
                  </a:lnTo>
                  <a:lnTo>
                    <a:pt x="891" y="630"/>
                  </a:lnTo>
                  <a:lnTo>
                    <a:pt x="895" y="500"/>
                  </a:lnTo>
                  <a:lnTo>
                    <a:pt x="897" y="473"/>
                  </a:lnTo>
                  <a:lnTo>
                    <a:pt x="899" y="630"/>
                  </a:lnTo>
                  <a:lnTo>
                    <a:pt x="903" y="587"/>
                  </a:lnTo>
                  <a:lnTo>
                    <a:pt x="905" y="588"/>
                  </a:lnTo>
                  <a:lnTo>
                    <a:pt x="907" y="605"/>
                  </a:lnTo>
                  <a:lnTo>
                    <a:pt x="910" y="369"/>
                  </a:lnTo>
                  <a:lnTo>
                    <a:pt x="913" y="323"/>
                  </a:lnTo>
                  <a:lnTo>
                    <a:pt x="916" y="579"/>
                  </a:lnTo>
                  <a:lnTo>
                    <a:pt x="918" y="432"/>
                  </a:lnTo>
                  <a:lnTo>
                    <a:pt x="920" y="658"/>
                  </a:lnTo>
                  <a:lnTo>
                    <a:pt x="924" y="494"/>
                  </a:lnTo>
                  <a:lnTo>
                    <a:pt x="926" y="722"/>
                  </a:lnTo>
                  <a:lnTo>
                    <a:pt x="929" y="332"/>
                  </a:lnTo>
                  <a:lnTo>
                    <a:pt x="932" y="274"/>
                  </a:lnTo>
                  <a:lnTo>
                    <a:pt x="934" y="709"/>
                  </a:lnTo>
                  <a:lnTo>
                    <a:pt x="937" y="173"/>
                  </a:lnTo>
                  <a:lnTo>
                    <a:pt x="939" y="577"/>
                  </a:lnTo>
                  <a:lnTo>
                    <a:pt x="942" y="509"/>
                  </a:lnTo>
                  <a:lnTo>
                    <a:pt x="945" y="508"/>
                  </a:lnTo>
                  <a:lnTo>
                    <a:pt x="947" y="666"/>
                  </a:lnTo>
                  <a:lnTo>
                    <a:pt x="950" y="466"/>
                  </a:lnTo>
                  <a:lnTo>
                    <a:pt x="953" y="479"/>
                  </a:lnTo>
                  <a:lnTo>
                    <a:pt x="955" y="472"/>
                  </a:lnTo>
                  <a:lnTo>
                    <a:pt x="958" y="808"/>
                  </a:lnTo>
                  <a:lnTo>
                    <a:pt x="961" y="180"/>
                  </a:lnTo>
                  <a:lnTo>
                    <a:pt x="964" y="768"/>
                  </a:lnTo>
                  <a:lnTo>
                    <a:pt x="966" y="437"/>
                  </a:lnTo>
                  <a:lnTo>
                    <a:pt x="968" y="449"/>
                  </a:lnTo>
                  <a:lnTo>
                    <a:pt x="972" y="421"/>
                  </a:lnTo>
                  <a:lnTo>
                    <a:pt x="974" y="593"/>
                  </a:lnTo>
                  <a:lnTo>
                    <a:pt x="976" y="832"/>
                  </a:lnTo>
                  <a:lnTo>
                    <a:pt x="979" y="588"/>
                  </a:lnTo>
                  <a:lnTo>
                    <a:pt x="982" y="647"/>
                  </a:lnTo>
                  <a:lnTo>
                    <a:pt x="985" y="373"/>
                  </a:lnTo>
                  <a:lnTo>
                    <a:pt x="987" y="647"/>
                  </a:lnTo>
                  <a:lnTo>
                    <a:pt x="989" y="330"/>
                  </a:lnTo>
                  <a:lnTo>
                    <a:pt x="993" y="781"/>
                  </a:lnTo>
                  <a:lnTo>
                    <a:pt x="995" y="415"/>
                  </a:lnTo>
                  <a:lnTo>
                    <a:pt x="998" y="457"/>
                  </a:lnTo>
                  <a:lnTo>
                    <a:pt x="1001" y="547"/>
                  </a:lnTo>
                  <a:lnTo>
                    <a:pt x="1003" y="500"/>
                  </a:lnTo>
                  <a:lnTo>
                    <a:pt x="1006" y="356"/>
                  </a:lnTo>
                  <a:lnTo>
                    <a:pt x="1008" y="514"/>
                  </a:lnTo>
                  <a:lnTo>
                    <a:pt x="1011" y="529"/>
                  </a:lnTo>
                  <a:lnTo>
                    <a:pt x="1014" y="442"/>
                  </a:lnTo>
                  <a:lnTo>
                    <a:pt x="1016" y="624"/>
                  </a:lnTo>
                  <a:lnTo>
                    <a:pt x="1020" y="413"/>
                  </a:lnTo>
                  <a:lnTo>
                    <a:pt x="1022" y="326"/>
                  </a:lnTo>
                  <a:lnTo>
                    <a:pt x="1024" y="413"/>
                  </a:lnTo>
                  <a:lnTo>
                    <a:pt x="1027" y="555"/>
                  </a:lnTo>
                  <a:lnTo>
                    <a:pt x="1030" y="305"/>
                  </a:lnTo>
                  <a:lnTo>
                    <a:pt x="1032" y="437"/>
                  </a:lnTo>
                  <a:lnTo>
                    <a:pt x="1035" y="266"/>
                  </a:lnTo>
                  <a:lnTo>
                    <a:pt x="1037" y="350"/>
                  </a:lnTo>
                  <a:lnTo>
                    <a:pt x="1041" y="263"/>
                  </a:lnTo>
                  <a:lnTo>
                    <a:pt x="1043" y="640"/>
                  </a:lnTo>
                  <a:lnTo>
                    <a:pt x="1045" y="468"/>
                  </a:lnTo>
                  <a:lnTo>
                    <a:pt x="1049" y="641"/>
                  </a:lnTo>
                  <a:lnTo>
                    <a:pt x="1051" y="546"/>
                  </a:lnTo>
                  <a:lnTo>
                    <a:pt x="1054" y="668"/>
                  </a:lnTo>
                  <a:lnTo>
                    <a:pt x="1056" y="640"/>
                  </a:lnTo>
                  <a:lnTo>
                    <a:pt x="1059" y="507"/>
                  </a:lnTo>
                  <a:lnTo>
                    <a:pt x="1062" y="490"/>
                  </a:lnTo>
                  <a:lnTo>
                    <a:pt x="1064" y="198"/>
                  </a:lnTo>
                  <a:lnTo>
                    <a:pt x="1066" y="521"/>
                  </a:lnTo>
                  <a:lnTo>
                    <a:pt x="1070" y="712"/>
                  </a:lnTo>
                  <a:lnTo>
                    <a:pt x="1072" y="534"/>
                  </a:lnTo>
                  <a:lnTo>
                    <a:pt x="1075" y="366"/>
                  </a:lnTo>
                  <a:lnTo>
                    <a:pt x="1078" y="506"/>
                  </a:lnTo>
                  <a:lnTo>
                    <a:pt x="1080" y="554"/>
                  </a:lnTo>
                  <a:lnTo>
                    <a:pt x="1083" y="540"/>
                  </a:lnTo>
                  <a:lnTo>
                    <a:pt x="1085" y="540"/>
                  </a:lnTo>
                  <a:lnTo>
                    <a:pt x="1089" y="325"/>
                  </a:lnTo>
                  <a:lnTo>
                    <a:pt x="1091" y="498"/>
                  </a:lnTo>
                  <a:lnTo>
                    <a:pt x="1093" y="402"/>
                  </a:lnTo>
                  <a:lnTo>
                    <a:pt x="1096" y="430"/>
                  </a:lnTo>
                  <a:lnTo>
                    <a:pt x="1099" y="574"/>
                  </a:lnTo>
                  <a:lnTo>
                    <a:pt x="1101" y="575"/>
                  </a:lnTo>
                  <a:lnTo>
                    <a:pt x="1104" y="704"/>
                  </a:lnTo>
                  <a:lnTo>
                    <a:pt x="1107" y="645"/>
                  </a:lnTo>
                  <a:lnTo>
                    <a:pt x="1110" y="327"/>
                  </a:lnTo>
                  <a:lnTo>
                    <a:pt x="1112" y="421"/>
                  </a:lnTo>
                  <a:lnTo>
                    <a:pt x="1114" y="749"/>
                  </a:lnTo>
                  <a:lnTo>
                    <a:pt x="1118" y="119"/>
                  </a:lnTo>
                  <a:lnTo>
                    <a:pt x="1120" y="576"/>
                  </a:lnTo>
                  <a:lnTo>
                    <a:pt x="1122" y="321"/>
                  </a:lnTo>
                  <a:lnTo>
                    <a:pt x="1125" y="542"/>
                  </a:lnTo>
                  <a:lnTo>
                    <a:pt x="1128" y="530"/>
                  </a:lnTo>
                  <a:lnTo>
                    <a:pt x="1131" y="510"/>
                  </a:lnTo>
                  <a:lnTo>
                    <a:pt x="1133" y="404"/>
                  </a:lnTo>
                  <a:lnTo>
                    <a:pt x="1135" y="692"/>
                  </a:lnTo>
                  <a:lnTo>
                    <a:pt x="1139" y="538"/>
                  </a:lnTo>
                  <a:lnTo>
                    <a:pt x="1141" y="453"/>
                  </a:lnTo>
                  <a:lnTo>
                    <a:pt x="1144" y="75"/>
                  </a:lnTo>
                  <a:lnTo>
                    <a:pt x="1147" y="611"/>
                  </a:lnTo>
                  <a:lnTo>
                    <a:pt x="1149" y="545"/>
                  </a:lnTo>
                  <a:lnTo>
                    <a:pt x="1152" y="472"/>
                  </a:lnTo>
                  <a:lnTo>
                    <a:pt x="1154" y="596"/>
                  </a:lnTo>
                  <a:lnTo>
                    <a:pt x="1157" y="629"/>
                  </a:lnTo>
                  <a:lnTo>
                    <a:pt x="1160" y="955"/>
                  </a:lnTo>
                  <a:lnTo>
                    <a:pt x="1162" y="656"/>
                  </a:lnTo>
                  <a:lnTo>
                    <a:pt x="1166" y="776"/>
                  </a:lnTo>
                  <a:lnTo>
                    <a:pt x="1168" y="434"/>
                  </a:lnTo>
                  <a:lnTo>
                    <a:pt x="1170" y="383"/>
                  </a:lnTo>
                  <a:lnTo>
                    <a:pt x="1173" y="498"/>
                  </a:lnTo>
                  <a:lnTo>
                    <a:pt x="1176" y="429"/>
                  </a:lnTo>
                  <a:lnTo>
                    <a:pt x="1179" y="678"/>
                  </a:lnTo>
                  <a:lnTo>
                    <a:pt x="1181" y="646"/>
                  </a:lnTo>
                  <a:lnTo>
                    <a:pt x="1183" y="402"/>
                  </a:lnTo>
                  <a:lnTo>
                    <a:pt x="1187" y="520"/>
                  </a:lnTo>
                  <a:lnTo>
                    <a:pt x="1189" y="603"/>
                  </a:lnTo>
                  <a:lnTo>
                    <a:pt x="1191" y="538"/>
                  </a:lnTo>
                  <a:lnTo>
                    <a:pt x="1195" y="547"/>
                  </a:lnTo>
                  <a:lnTo>
                    <a:pt x="1197" y="550"/>
                  </a:lnTo>
                  <a:lnTo>
                    <a:pt x="1200" y="712"/>
                  </a:lnTo>
                  <a:lnTo>
                    <a:pt x="1202" y="547"/>
                  </a:lnTo>
                  <a:lnTo>
                    <a:pt x="1205" y="602"/>
                  </a:lnTo>
                  <a:lnTo>
                    <a:pt x="1208" y="440"/>
                  </a:lnTo>
                  <a:lnTo>
                    <a:pt x="1210" y="409"/>
                  </a:lnTo>
                  <a:lnTo>
                    <a:pt x="1214" y="99"/>
                  </a:lnTo>
                  <a:lnTo>
                    <a:pt x="1216" y="545"/>
                  </a:lnTo>
                  <a:lnTo>
                    <a:pt x="1218" y="415"/>
                  </a:lnTo>
                  <a:lnTo>
                    <a:pt x="1221" y="263"/>
                  </a:lnTo>
                  <a:lnTo>
                    <a:pt x="1224" y="595"/>
                  </a:lnTo>
                  <a:lnTo>
                    <a:pt x="1226" y="431"/>
                  </a:lnTo>
                  <a:lnTo>
                    <a:pt x="1229" y="313"/>
                  </a:lnTo>
                  <a:lnTo>
                    <a:pt x="1231" y="604"/>
                  </a:lnTo>
                  <a:lnTo>
                    <a:pt x="1235" y="312"/>
                  </a:lnTo>
                  <a:lnTo>
                    <a:pt x="1237" y="210"/>
                  </a:lnTo>
                  <a:lnTo>
                    <a:pt x="1239" y="410"/>
                  </a:lnTo>
                  <a:lnTo>
                    <a:pt x="1243" y="270"/>
                  </a:lnTo>
                  <a:lnTo>
                    <a:pt x="1245" y="467"/>
                  </a:lnTo>
                  <a:lnTo>
                    <a:pt x="1247" y="592"/>
                  </a:lnTo>
                  <a:lnTo>
                    <a:pt x="1250" y="581"/>
                  </a:lnTo>
                  <a:lnTo>
                    <a:pt x="1253" y="604"/>
                  </a:lnTo>
                  <a:lnTo>
                    <a:pt x="1256" y="618"/>
                  </a:lnTo>
                  <a:lnTo>
                    <a:pt x="1258" y="388"/>
                  </a:lnTo>
                  <a:lnTo>
                    <a:pt x="1260" y="324"/>
                  </a:lnTo>
                  <a:lnTo>
                    <a:pt x="1264" y="227"/>
                  </a:lnTo>
                  <a:lnTo>
                    <a:pt x="1266" y="510"/>
                  </a:lnTo>
                  <a:lnTo>
                    <a:pt x="1269" y="282"/>
                  </a:lnTo>
                  <a:lnTo>
                    <a:pt x="1271" y="621"/>
                  </a:lnTo>
                  <a:lnTo>
                    <a:pt x="1274" y="576"/>
                  </a:lnTo>
                  <a:lnTo>
                    <a:pt x="1277" y="250"/>
                  </a:lnTo>
                  <a:lnTo>
                    <a:pt x="1279" y="581"/>
                  </a:lnTo>
                  <a:lnTo>
                    <a:pt x="1282" y="390"/>
                  </a:lnTo>
                  <a:lnTo>
                    <a:pt x="1285" y="560"/>
                  </a:lnTo>
                  <a:lnTo>
                    <a:pt x="1287" y="388"/>
                  </a:lnTo>
                  <a:lnTo>
                    <a:pt x="1290" y="716"/>
                  </a:lnTo>
                  <a:lnTo>
                    <a:pt x="1293" y="873"/>
                  </a:lnTo>
                  <a:lnTo>
                    <a:pt x="1295" y="643"/>
                  </a:lnTo>
                  <a:lnTo>
                    <a:pt x="1298" y="665"/>
                  </a:lnTo>
                  <a:lnTo>
                    <a:pt x="1300" y="434"/>
                  </a:lnTo>
                  <a:lnTo>
                    <a:pt x="1304" y="572"/>
                  </a:lnTo>
                  <a:lnTo>
                    <a:pt x="1306" y="577"/>
                  </a:lnTo>
                  <a:lnTo>
                    <a:pt x="1308" y="317"/>
                  </a:lnTo>
                  <a:lnTo>
                    <a:pt x="1312" y="485"/>
                  </a:lnTo>
                  <a:lnTo>
                    <a:pt x="1314" y="565"/>
                  </a:lnTo>
                  <a:lnTo>
                    <a:pt x="1316" y="428"/>
                  </a:lnTo>
                  <a:lnTo>
                    <a:pt x="1319" y="298"/>
                  </a:lnTo>
                  <a:lnTo>
                    <a:pt x="1322" y="601"/>
                  </a:lnTo>
                  <a:lnTo>
                    <a:pt x="1325" y="649"/>
                  </a:lnTo>
                  <a:lnTo>
                    <a:pt x="1327" y="574"/>
                  </a:lnTo>
                  <a:lnTo>
                    <a:pt x="1329" y="817"/>
                  </a:lnTo>
                  <a:lnTo>
                    <a:pt x="1333" y="441"/>
                  </a:lnTo>
                  <a:lnTo>
                    <a:pt x="1335" y="558"/>
                  </a:lnTo>
                  <a:lnTo>
                    <a:pt x="1337" y="720"/>
                  </a:lnTo>
                  <a:lnTo>
                    <a:pt x="1341" y="520"/>
                  </a:lnTo>
                  <a:lnTo>
                    <a:pt x="1343" y="301"/>
                  </a:lnTo>
                  <a:lnTo>
                    <a:pt x="1346" y="405"/>
                  </a:lnTo>
                  <a:lnTo>
                    <a:pt x="1348" y="475"/>
                  </a:lnTo>
                  <a:lnTo>
                    <a:pt x="1351" y="537"/>
                  </a:lnTo>
                  <a:lnTo>
                    <a:pt x="1354" y="639"/>
                  </a:lnTo>
                  <a:lnTo>
                    <a:pt x="1356" y="636"/>
                  </a:lnTo>
                  <a:lnTo>
                    <a:pt x="1360" y="340"/>
                  </a:lnTo>
                  <a:lnTo>
                    <a:pt x="1362" y="790"/>
                  </a:lnTo>
                  <a:lnTo>
                    <a:pt x="1364" y="529"/>
                  </a:lnTo>
                  <a:lnTo>
                    <a:pt x="1367" y="414"/>
                  </a:lnTo>
                  <a:lnTo>
                    <a:pt x="1370" y="552"/>
                  </a:lnTo>
                  <a:lnTo>
                    <a:pt x="1372" y="772"/>
                  </a:lnTo>
                  <a:lnTo>
                    <a:pt x="1375" y="338"/>
                  </a:lnTo>
                  <a:lnTo>
                    <a:pt x="1377" y="350"/>
                  </a:lnTo>
                  <a:lnTo>
                    <a:pt x="1381" y="602"/>
                  </a:lnTo>
                  <a:lnTo>
                    <a:pt x="1383" y="579"/>
                  </a:lnTo>
                  <a:lnTo>
                    <a:pt x="1385" y="606"/>
                  </a:lnTo>
                  <a:lnTo>
                    <a:pt x="1389" y="385"/>
                  </a:lnTo>
                  <a:lnTo>
                    <a:pt x="1391" y="172"/>
                  </a:lnTo>
                  <a:lnTo>
                    <a:pt x="1394" y="664"/>
                  </a:lnTo>
                  <a:lnTo>
                    <a:pt x="1396" y="401"/>
                  </a:lnTo>
                  <a:lnTo>
                    <a:pt x="1399" y="517"/>
                  </a:lnTo>
                  <a:lnTo>
                    <a:pt x="1402" y="426"/>
                  </a:lnTo>
                  <a:lnTo>
                    <a:pt x="1404" y="359"/>
                  </a:lnTo>
                  <a:lnTo>
                    <a:pt x="1406" y="298"/>
                  </a:lnTo>
                  <a:lnTo>
                    <a:pt x="1410" y="625"/>
                  </a:lnTo>
                  <a:lnTo>
                    <a:pt x="1412" y="478"/>
                  </a:lnTo>
                  <a:lnTo>
                    <a:pt x="1415" y="500"/>
                  </a:lnTo>
                  <a:lnTo>
                    <a:pt x="1418" y="279"/>
                  </a:lnTo>
                  <a:lnTo>
                    <a:pt x="1420" y="488"/>
                  </a:lnTo>
                  <a:lnTo>
                    <a:pt x="1423" y="399"/>
                  </a:lnTo>
                  <a:lnTo>
                    <a:pt x="1425" y="697"/>
                  </a:lnTo>
                  <a:lnTo>
                    <a:pt x="1429" y="374"/>
                  </a:lnTo>
                  <a:lnTo>
                    <a:pt x="1431" y="374"/>
                  </a:lnTo>
                  <a:lnTo>
                    <a:pt x="1433" y="608"/>
                  </a:lnTo>
                  <a:lnTo>
                    <a:pt x="1436" y="472"/>
                  </a:lnTo>
                  <a:lnTo>
                    <a:pt x="1439" y="373"/>
                  </a:lnTo>
                  <a:lnTo>
                    <a:pt x="1441" y="681"/>
                  </a:lnTo>
                  <a:lnTo>
                    <a:pt x="1444" y="495"/>
                  </a:lnTo>
                  <a:lnTo>
                    <a:pt x="1446" y="494"/>
                  </a:lnTo>
                  <a:lnTo>
                    <a:pt x="1450" y="610"/>
                  </a:lnTo>
                  <a:lnTo>
                    <a:pt x="1452" y="390"/>
                  </a:lnTo>
                  <a:lnTo>
                    <a:pt x="1454" y="470"/>
                  </a:lnTo>
                  <a:lnTo>
                    <a:pt x="1458" y="584"/>
                  </a:lnTo>
                  <a:lnTo>
                    <a:pt x="1460" y="415"/>
                  </a:lnTo>
                  <a:lnTo>
                    <a:pt x="1462" y="448"/>
                  </a:lnTo>
                  <a:lnTo>
                    <a:pt x="1465" y="284"/>
                  </a:lnTo>
                  <a:lnTo>
                    <a:pt x="1468" y="334"/>
                  </a:lnTo>
                  <a:lnTo>
                    <a:pt x="1471" y="291"/>
                  </a:lnTo>
                  <a:lnTo>
                    <a:pt x="1473" y="331"/>
                  </a:lnTo>
                  <a:lnTo>
                    <a:pt x="1475" y="796"/>
                  </a:lnTo>
                  <a:lnTo>
                    <a:pt x="1479" y="575"/>
                  </a:lnTo>
                  <a:lnTo>
                    <a:pt x="1481" y="349"/>
                  </a:lnTo>
                  <a:lnTo>
                    <a:pt x="1484" y="502"/>
                  </a:lnTo>
                  <a:lnTo>
                    <a:pt x="1487" y="601"/>
                  </a:lnTo>
                  <a:lnTo>
                    <a:pt x="1489" y="449"/>
                  </a:lnTo>
                  <a:lnTo>
                    <a:pt x="1492" y="415"/>
                  </a:lnTo>
                  <a:lnTo>
                    <a:pt x="1494" y="815"/>
                  </a:lnTo>
                  <a:lnTo>
                    <a:pt x="1497" y="600"/>
                  </a:lnTo>
                  <a:lnTo>
                    <a:pt x="1500" y="331"/>
                  </a:lnTo>
                  <a:lnTo>
                    <a:pt x="1502" y="616"/>
                  </a:lnTo>
                  <a:lnTo>
                    <a:pt x="1506" y="375"/>
                  </a:lnTo>
                  <a:lnTo>
                    <a:pt x="1508" y="380"/>
                  </a:lnTo>
                  <a:lnTo>
                    <a:pt x="1510" y="598"/>
                  </a:lnTo>
                  <a:lnTo>
                    <a:pt x="1513" y="530"/>
                  </a:lnTo>
                  <a:lnTo>
                    <a:pt x="1516" y="439"/>
                  </a:lnTo>
                  <a:lnTo>
                    <a:pt x="1519" y="470"/>
                  </a:lnTo>
                  <a:lnTo>
                    <a:pt x="1521" y="140"/>
                  </a:lnTo>
                  <a:lnTo>
                    <a:pt x="1523" y="350"/>
                  </a:lnTo>
                  <a:lnTo>
                    <a:pt x="1527" y="573"/>
                  </a:lnTo>
                  <a:lnTo>
                    <a:pt x="1529" y="365"/>
                  </a:lnTo>
                  <a:lnTo>
                    <a:pt x="1531" y="705"/>
                  </a:lnTo>
                  <a:lnTo>
                    <a:pt x="1535" y="345"/>
                  </a:lnTo>
                  <a:lnTo>
                    <a:pt x="1537" y="651"/>
                  </a:lnTo>
                  <a:lnTo>
                    <a:pt x="1540" y="508"/>
                  </a:lnTo>
                  <a:lnTo>
                    <a:pt x="1542" y="463"/>
                  </a:lnTo>
                  <a:lnTo>
                    <a:pt x="1545" y="421"/>
                  </a:lnTo>
                  <a:lnTo>
                    <a:pt x="1548" y="408"/>
                  </a:lnTo>
                  <a:lnTo>
                    <a:pt x="1550" y="857"/>
                  </a:lnTo>
                  <a:lnTo>
                    <a:pt x="1553" y="616"/>
                  </a:lnTo>
                  <a:lnTo>
                    <a:pt x="1556" y="471"/>
                  </a:lnTo>
                  <a:lnTo>
                    <a:pt x="1558" y="731"/>
                  </a:lnTo>
                  <a:lnTo>
                    <a:pt x="1561" y="371"/>
                  </a:lnTo>
                  <a:lnTo>
                    <a:pt x="1564" y="469"/>
                  </a:lnTo>
                  <a:lnTo>
                    <a:pt x="1566" y="293"/>
                  </a:lnTo>
                  <a:lnTo>
                    <a:pt x="1569" y="515"/>
                  </a:lnTo>
                  <a:lnTo>
                    <a:pt x="1571" y="832"/>
                  </a:lnTo>
                  <a:lnTo>
                    <a:pt x="1575" y="660"/>
                  </a:lnTo>
                  <a:lnTo>
                    <a:pt x="1577" y="393"/>
                  </a:lnTo>
                  <a:lnTo>
                    <a:pt x="1579" y="463"/>
                  </a:lnTo>
                  <a:lnTo>
                    <a:pt x="1582" y="625"/>
                  </a:lnTo>
                  <a:lnTo>
                    <a:pt x="1585" y="473"/>
                  </a:lnTo>
                  <a:lnTo>
                    <a:pt x="1587" y="171"/>
                  </a:lnTo>
                  <a:lnTo>
                    <a:pt x="1590" y="255"/>
                  </a:lnTo>
                  <a:lnTo>
                    <a:pt x="1593" y="393"/>
                  </a:lnTo>
                  <a:lnTo>
                    <a:pt x="1596" y="386"/>
                  </a:lnTo>
                  <a:lnTo>
                    <a:pt x="1598" y="594"/>
                  </a:lnTo>
                  <a:lnTo>
                    <a:pt x="1600" y="674"/>
                  </a:lnTo>
                  <a:lnTo>
                    <a:pt x="1604" y="383"/>
                  </a:lnTo>
                  <a:lnTo>
                    <a:pt x="1606" y="266"/>
                  </a:lnTo>
                  <a:lnTo>
                    <a:pt x="1609" y="450"/>
                  </a:lnTo>
                  <a:lnTo>
                    <a:pt x="1611" y="526"/>
                  </a:lnTo>
                  <a:lnTo>
                    <a:pt x="1614" y="256"/>
                  </a:lnTo>
                  <a:lnTo>
                    <a:pt x="1617" y="286"/>
                  </a:lnTo>
                  <a:lnTo>
                    <a:pt x="1619" y="409"/>
                  </a:lnTo>
                  <a:lnTo>
                    <a:pt x="1621" y="370"/>
                  </a:lnTo>
                  <a:lnTo>
                    <a:pt x="1625" y="199"/>
                  </a:lnTo>
                  <a:lnTo>
                    <a:pt x="1627" y="537"/>
                  </a:lnTo>
                  <a:lnTo>
                    <a:pt x="1630" y="432"/>
                  </a:lnTo>
                  <a:lnTo>
                    <a:pt x="1633" y="586"/>
                  </a:lnTo>
                  <a:lnTo>
                    <a:pt x="1635" y="510"/>
                  </a:lnTo>
                  <a:lnTo>
                    <a:pt x="1638" y="568"/>
                  </a:lnTo>
                  <a:lnTo>
                    <a:pt x="1640" y="808"/>
                  </a:lnTo>
                  <a:lnTo>
                    <a:pt x="1644" y="614"/>
                  </a:lnTo>
                  <a:lnTo>
                    <a:pt x="1646" y="523"/>
                  </a:lnTo>
                  <a:lnTo>
                    <a:pt x="1648" y="458"/>
                  </a:lnTo>
                  <a:lnTo>
                    <a:pt x="1652" y="334"/>
                  </a:lnTo>
                  <a:lnTo>
                    <a:pt x="1654" y="404"/>
                  </a:lnTo>
                  <a:lnTo>
                    <a:pt x="1656" y="810"/>
                  </a:lnTo>
                  <a:lnTo>
                    <a:pt x="1659" y="422"/>
                  </a:lnTo>
                  <a:lnTo>
                    <a:pt x="1662" y="417"/>
                  </a:lnTo>
                  <a:lnTo>
                    <a:pt x="1665" y="236"/>
                  </a:lnTo>
                  <a:lnTo>
                    <a:pt x="1667" y="342"/>
                  </a:lnTo>
                  <a:lnTo>
                    <a:pt x="1669" y="230"/>
                  </a:lnTo>
                  <a:lnTo>
                    <a:pt x="1673" y="606"/>
                  </a:lnTo>
                  <a:lnTo>
                    <a:pt x="1675" y="761"/>
                  </a:lnTo>
                  <a:lnTo>
                    <a:pt x="1678" y="225"/>
                  </a:lnTo>
                  <a:lnTo>
                    <a:pt x="1681" y="356"/>
                  </a:lnTo>
                  <a:lnTo>
                    <a:pt x="1683" y="553"/>
                  </a:lnTo>
                  <a:lnTo>
                    <a:pt x="1686" y="552"/>
                  </a:lnTo>
                  <a:lnTo>
                    <a:pt x="1688" y="151"/>
                  </a:lnTo>
                  <a:lnTo>
                    <a:pt x="1691" y="602"/>
                  </a:lnTo>
                  <a:lnTo>
                    <a:pt x="1694" y="178"/>
                  </a:lnTo>
                  <a:lnTo>
                    <a:pt x="1696" y="660"/>
                  </a:lnTo>
                  <a:lnTo>
                    <a:pt x="1700" y="198"/>
                  </a:lnTo>
                  <a:lnTo>
                    <a:pt x="1702" y="685"/>
                  </a:lnTo>
                  <a:lnTo>
                    <a:pt x="1704" y="181"/>
                  </a:lnTo>
                  <a:lnTo>
                    <a:pt x="1707" y="421"/>
                  </a:lnTo>
                  <a:lnTo>
                    <a:pt x="1710" y="297"/>
                  </a:lnTo>
                  <a:lnTo>
                    <a:pt x="1712" y="477"/>
                  </a:lnTo>
                  <a:lnTo>
                    <a:pt x="1715" y="365"/>
                  </a:lnTo>
                  <a:lnTo>
                    <a:pt x="1717" y="496"/>
                  </a:lnTo>
                  <a:lnTo>
                    <a:pt x="1721" y="598"/>
                  </a:lnTo>
                  <a:lnTo>
                    <a:pt x="1723" y="263"/>
                  </a:lnTo>
                  <a:lnTo>
                    <a:pt x="1725" y="255"/>
                  </a:lnTo>
                  <a:lnTo>
                    <a:pt x="1728" y="409"/>
                  </a:lnTo>
                  <a:lnTo>
                    <a:pt x="1731" y="530"/>
                  </a:lnTo>
                  <a:lnTo>
                    <a:pt x="1734" y="496"/>
                  </a:lnTo>
                  <a:lnTo>
                    <a:pt x="1736" y="172"/>
                  </a:lnTo>
                  <a:lnTo>
                    <a:pt x="1739" y="974"/>
                  </a:lnTo>
                  <a:lnTo>
                    <a:pt x="1742" y="369"/>
                  </a:lnTo>
                  <a:lnTo>
                    <a:pt x="1744" y="147"/>
                  </a:lnTo>
                  <a:lnTo>
                    <a:pt x="1746" y="456"/>
                  </a:lnTo>
                  <a:lnTo>
                    <a:pt x="1750" y="332"/>
                  </a:lnTo>
                  <a:lnTo>
                    <a:pt x="1752" y="480"/>
                  </a:lnTo>
                  <a:lnTo>
                    <a:pt x="1755" y="409"/>
                  </a:lnTo>
                  <a:lnTo>
                    <a:pt x="1757" y="587"/>
                  </a:lnTo>
                  <a:lnTo>
                    <a:pt x="1760" y="409"/>
                  </a:lnTo>
                  <a:lnTo>
                    <a:pt x="1763" y="230"/>
                  </a:lnTo>
                  <a:lnTo>
                    <a:pt x="1765" y="0"/>
                  </a:lnTo>
                  <a:lnTo>
                    <a:pt x="1769" y="591"/>
                  </a:lnTo>
                  <a:lnTo>
                    <a:pt x="1771" y="402"/>
                  </a:lnTo>
                  <a:lnTo>
                    <a:pt x="1773" y="504"/>
                  </a:lnTo>
                  <a:lnTo>
                    <a:pt x="1776" y="603"/>
                  </a:lnTo>
                  <a:lnTo>
                    <a:pt x="1779" y="625"/>
                  </a:lnTo>
                  <a:lnTo>
                    <a:pt x="1781" y="614"/>
                  </a:lnTo>
                  <a:lnTo>
                    <a:pt x="1784" y="297"/>
                  </a:lnTo>
                  <a:lnTo>
                    <a:pt x="1786" y="419"/>
                  </a:lnTo>
                  <a:lnTo>
                    <a:pt x="1790" y="519"/>
                  </a:lnTo>
                  <a:lnTo>
                    <a:pt x="1792" y="589"/>
                  </a:lnTo>
                  <a:lnTo>
                    <a:pt x="1794" y="623"/>
                  </a:lnTo>
                  <a:lnTo>
                    <a:pt x="1798" y="536"/>
                  </a:lnTo>
                  <a:lnTo>
                    <a:pt x="1800" y="563"/>
                  </a:lnTo>
                  <a:lnTo>
                    <a:pt x="1802" y="540"/>
                  </a:lnTo>
                  <a:lnTo>
                    <a:pt x="1805" y="246"/>
                  </a:lnTo>
                  <a:lnTo>
                    <a:pt x="1808" y="687"/>
                  </a:lnTo>
                  <a:lnTo>
                    <a:pt x="1811" y="521"/>
                  </a:lnTo>
                  <a:lnTo>
                    <a:pt x="1813" y="436"/>
                  </a:lnTo>
                  <a:lnTo>
                    <a:pt x="1815" y="331"/>
                  </a:lnTo>
                  <a:lnTo>
                    <a:pt x="1819" y="562"/>
                  </a:lnTo>
                  <a:lnTo>
                    <a:pt x="1821" y="607"/>
                  </a:lnTo>
                  <a:lnTo>
                    <a:pt x="1824" y="586"/>
                  </a:lnTo>
                  <a:lnTo>
                    <a:pt x="1827" y="469"/>
                  </a:lnTo>
                  <a:lnTo>
                    <a:pt x="1829" y="533"/>
                  </a:lnTo>
                  <a:lnTo>
                    <a:pt x="1832" y="378"/>
                  </a:lnTo>
                  <a:lnTo>
                    <a:pt x="1834" y="644"/>
                  </a:lnTo>
                  <a:lnTo>
                    <a:pt x="1837" y="321"/>
                  </a:lnTo>
                  <a:lnTo>
                    <a:pt x="1840" y="501"/>
                  </a:lnTo>
                  <a:lnTo>
                    <a:pt x="1842" y="835"/>
                  </a:lnTo>
                  <a:lnTo>
                    <a:pt x="1846" y="539"/>
                  </a:lnTo>
                  <a:lnTo>
                    <a:pt x="1848" y="499"/>
                  </a:lnTo>
                  <a:lnTo>
                    <a:pt x="1850" y="382"/>
                  </a:lnTo>
                  <a:lnTo>
                    <a:pt x="1853" y="373"/>
                  </a:lnTo>
                  <a:lnTo>
                    <a:pt x="1856" y="865"/>
                  </a:lnTo>
                  <a:lnTo>
                    <a:pt x="1859" y="772"/>
                  </a:lnTo>
                  <a:lnTo>
                    <a:pt x="1861" y="407"/>
                  </a:lnTo>
                  <a:lnTo>
                    <a:pt x="1863" y="248"/>
                  </a:lnTo>
                  <a:lnTo>
                    <a:pt x="1867" y="705"/>
                  </a:lnTo>
                  <a:lnTo>
                    <a:pt x="1869" y="330"/>
                  </a:lnTo>
                  <a:lnTo>
                    <a:pt x="1871" y="752"/>
                  </a:lnTo>
                  <a:lnTo>
                    <a:pt x="1875" y="344"/>
                  </a:lnTo>
                  <a:lnTo>
                    <a:pt x="1877" y="437"/>
                  </a:lnTo>
                  <a:lnTo>
                    <a:pt x="1880" y="429"/>
                  </a:lnTo>
                  <a:lnTo>
                    <a:pt x="1882" y="548"/>
                  </a:lnTo>
                  <a:lnTo>
                    <a:pt x="1885" y="269"/>
                  </a:lnTo>
                  <a:lnTo>
                    <a:pt x="1888" y="623"/>
                  </a:lnTo>
                  <a:lnTo>
                    <a:pt x="1890" y="625"/>
                  </a:lnTo>
                  <a:lnTo>
                    <a:pt x="1893" y="430"/>
                  </a:lnTo>
                  <a:lnTo>
                    <a:pt x="1896" y="247"/>
                  </a:lnTo>
                  <a:lnTo>
                    <a:pt x="1898" y="602"/>
                  </a:lnTo>
                  <a:lnTo>
                    <a:pt x="1901" y="732"/>
                  </a:lnTo>
                  <a:lnTo>
                    <a:pt x="1903" y="496"/>
                  </a:lnTo>
                  <a:lnTo>
                    <a:pt x="1906" y="834"/>
                  </a:lnTo>
                  <a:lnTo>
                    <a:pt x="1909" y="409"/>
                  </a:lnTo>
                  <a:lnTo>
                    <a:pt x="1911" y="616"/>
                  </a:lnTo>
                  <a:lnTo>
                    <a:pt x="1915" y="543"/>
                  </a:lnTo>
                  <a:lnTo>
                    <a:pt x="1917" y="424"/>
                  </a:lnTo>
                  <a:lnTo>
                    <a:pt x="1919" y="618"/>
                  </a:lnTo>
                  <a:lnTo>
                    <a:pt x="1922" y="663"/>
                  </a:lnTo>
                  <a:lnTo>
                    <a:pt x="1925" y="531"/>
                  </a:lnTo>
                  <a:lnTo>
                    <a:pt x="1927" y="557"/>
                  </a:lnTo>
                  <a:lnTo>
                    <a:pt x="1930" y="458"/>
                  </a:lnTo>
                  <a:lnTo>
                    <a:pt x="1932" y="654"/>
                  </a:lnTo>
                  <a:lnTo>
                    <a:pt x="1936" y="586"/>
                  </a:lnTo>
                  <a:lnTo>
                    <a:pt x="1938" y="288"/>
                  </a:lnTo>
                  <a:lnTo>
                    <a:pt x="1940" y="501"/>
                  </a:lnTo>
                  <a:lnTo>
                    <a:pt x="1944" y="627"/>
                  </a:lnTo>
                  <a:lnTo>
                    <a:pt x="1946" y="476"/>
                  </a:lnTo>
                  <a:lnTo>
                    <a:pt x="1949" y="568"/>
                  </a:lnTo>
                  <a:lnTo>
                    <a:pt x="1951" y="243"/>
                  </a:lnTo>
                  <a:lnTo>
                    <a:pt x="1954" y="443"/>
                  </a:lnTo>
                  <a:lnTo>
                    <a:pt x="1957" y="422"/>
                  </a:lnTo>
                  <a:lnTo>
                    <a:pt x="1959" y="192"/>
                  </a:lnTo>
                  <a:lnTo>
                    <a:pt x="1961" y="444"/>
                  </a:lnTo>
                  <a:lnTo>
                    <a:pt x="1965" y="817"/>
                  </a:lnTo>
                  <a:lnTo>
                    <a:pt x="1967" y="475"/>
                  </a:lnTo>
                  <a:lnTo>
                    <a:pt x="1970" y="690"/>
                  </a:lnTo>
                  <a:lnTo>
                    <a:pt x="1973" y="278"/>
                  </a:lnTo>
                  <a:lnTo>
                    <a:pt x="1975" y="770"/>
                  </a:lnTo>
                  <a:lnTo>
                    <a:pt x="1978" y="543"/>
                  </a:lnTo>
                  <a:lnTo>
                    <a:pt x="1980" y="601"/>
                  </a:lnTo>
                  <a:lnTo>
                    <a:pt x="1984" y="480"/>
                  </a:lnTo>
                  <a:lnTo>
                    <a:pt x="1986" y="658"/>
                  </a:lnTo>
                  <a:lnTo>
                    <a:pt x="1988" y="423"/>
                  </a:lnTo>
                  <a:lnTo>
                    <a:pt x="1992" y="625"/>
                  </a:lnTo>
                  <a:lnTo>
                    <a:pt x="1994" y="375"/>
                  </a:lnTo>
                  <a:lnTo>
                    <a:pt x="1996" y="501"/>
                  </a:lnTo>
                  <a:lnTo>
                    <a:pt x="1999" y="900"/>
                  </a:lnTo>
                  <a:lnTo>
                    <a:pt x="2002" y="672"/>
                  </a:lnTo>
                  <a:lnTo>
                    <a:pt x="2005" y="433"/>
                  </a:lnTo>
                  <a:lnTo>
                    <a:pt x="2007" y="566"/>
                  </a:lnTo>
                  <a:lnTo>
                    <a:pt x="2009" y="770"/>
                  </a:lnTo>
                  <a:lnTo>
                    <a:pt x="2013" y="276"/>
                  </a:lnTo>
                  <a:lnTo>
                    <a:pt x="2015" y="478"/>
                  </a:lnTo>
                  <a:lnTo>
                    <a:pt x="2018" y="659"/>
                  </a:lnTo>
                  <a:lnTo>
                    <a:pt x="2021" y="433"/>
                  </a:lnTo>
                  <a:lnTo>
                    <a:pt x="2023" y="374"/>
                  </a:lnTo>
                  <a:lnTo>
                    <a:pt x="2026" y="455"/>
                  </a:lnTo>
                  <a:lnTo>
                    <a:pt x="2028" y="504"/>
                  </a:lnTo>
                  <a:lnTo>
                    <a:pt x="2031" y="239"/>
                  </a:lnTo>
                  <a:lnTo>
                    <a:pt x="2034" y="399"/>
                  </a:lnTo>
                  <a:lnTo>
                    <a:pt x="2036" y="243"/>
                  </a:lnTo>
                  <a:lnTo>
                    <a:pt x="2039" y="527"/>
                  </a:lnTo>
                  <a:lnTo>
                    <a:pt x="2042" y="646"/>
                  </a:lnTo>
                  <a:lnTo>
                    <a:pt x="2044" y="566"/>
                  </a:lnTo>
                  <a:lnTo>
                    <a:pt x="2047" y="562"/>
                  </a:lnTo>
                  <a:lnTo>
                    <a:pt x="2050" y="335"/>
                  </a:lnTo>
                  <a:lnTo>
                    <a:pt x="2052" y="829"/>
                  </a:lnTo>
                  <a:lnTo>
                    <a:pt x="2055" y="661"/>
                  </a:lnTo>
                  <a:lnTo>
                    <a:pt x="2057" y="507"/>
                  </a:lnTo>
                  <a:lnTo>
                    <a:pt x="2061" y="426"/>
                  </a:lnTo>
                  <a:lnTo>
                    <a:pt x="2063" y="649"/>
                  </a:lnTo>
                  <a:lnTo>
                    <a:pt x="2065" y="421"/>
                  </a:lnTo>
                  <a:lnTo>
                    <a:pt x="2068" y="492"/>
                  </a:lnTo>
                  <a:lnTo>
                    <a:pt x="2071" y="610"/>
                  </a:lnTo>
                  <a:lnTo>
                    <a:pt x="2074" y="520"/>
                  </a:lnTo>
                  <a:lnTo>
                    <a:pt x="2076" y="305"/>
                  </a:lnTo>
                  <a:lnTo>
                    <a:pt x="2078" y="394"/>
                  </a:lnTo>
                  <a:lnTo>
                    <a:pt x="2082" y="506"/>
                  </a:lnTo>
                  <a:lnTo>
                    <a:pt x="2084" y="422"/>
                  </a:lnTo>
                  <a:lnTo>
                    <a:pt x="2086" y="615"/>
                  </a:lnTo>
                  <a:lnTo>
                    <a:pt x="2090" y="500"/>
                  </a:lnTo>
                  <a:lnTo>
                    <a:pt x="2092" y="664"/>
                  </a:lnTo>
                  <a:lnTo>
                    <a:pt x="2095" y="469"/>
                  </a:lnTo>
                  <a:lnTo>
                    <a:pt x="2097" y="607"/>
                  </a:lnTo>
                  <a:lnTo>
                    <a:pt x="2100" y="689"/>
                  </a:lnTo>
                  <a:lnTo>
                    <a:pt x="2103" y="426"/>
                  </a:lnTo>
                  <a:lnTo>
                    <a:pt x="2105" y="163"/>
                  </a:lnTo>
                  <a:lnTo>
                    <a:pt x="2109" y="428"/>
                  </a:lnTo>
                  <a:lnTo>
                    <a:pt x="2111" y="458"/>
                  </a:lnTo>
                  <a:lnTo>
                    <a:pt x="2113" y="303"/>
                  </a:lnTo>
                  <a:lnTo>
                    <a:pt x="2116" y="342"/>
                  </a:lnTo>
                  <a:lnTo>
                    <a:pt x="2119" y="465"/>
                  </a:lnTo>
                  <a:lnTo>
                    <a:pt x="2121" y="742"/>
                  </a:lnTo>
                  <a:lnTo>
                    <a:pt x="2124" y="443"/>
                  </a:lnTo>
                  <a:lnTo>
                    <a:pt x="2126" y="665"/>
                  </a:lnTo>
                  <a:lnTo>
                    <a:pt x="2130" y="794"/>
                  </a:lnTo>
                  <a:lnTo>
                    <a:pt x="2132" y="530"/>
                  </a:lnTo>
                  <a:lnTo>
                    <a:pt x="2134" y="400"/>
                  </a:lnTo>
                  <a:lnTo>
                    <a:pt x="2138" y="490"/>
                  </a:lnTo>
                  <a:lnTo>
                    <a:pt x="2140" y="442"/>
                  </a:lnTo>
                  <a:lnTo>
                    <a:pt x="2142" y="555"/>
                  </a:lnTo>
                  <a:lnTo>
                    <a:pt x="2145" y="623"/>
                  </a:lnTo>
                  <a:lnTo>
                    <a:pt x="2148" y="357"/>
                  </a:lnTo>
                  <a:lnTo>
                    <a:pt x="2151" y="611"/>
                  </a:lnTo>
                  <a:lnTo>
                    <a:pt x="2153" y="468"/>
                  </a:lnTo>
                  <a:lnTo>
                    <a:pt x="2155" y="543"/>
                  </a:lnTo>
                  <a:lnTo>
                    <a:pt x="2159" y="172"/>
                  </a:lnTo>
                  <a:lnTo>
                    <a:pt x="2161" y="509"/>
                  </a:lnTo>
                  <a:lnTo>
                    <a:pt x="2164" y="621"/>
                  </a:lnTo>
                  <a:lnTo>
                    <a:pt x="2167" y="543"/>
                  </a:lnTo>
                  <a:lnTo>
                    <a:pt x="2169" y="222"/>
                  </a:lnTo>
                  <a:lnTo>
                    <a:pt x="2172" y="350"/>
                  </a:lnTo>
                  <a:lnTo>
                    <a:pt x="2174" y="736"/>
                  </a:lnTo>
                  <a:lnTo>
                    <a:pt x="2177" y="605"/>
                  </a:lnTo>
                  <a:lnTo>
                    <a:pt x="2180" y="444"/>
                  </a:lnTo>
                  <a:lnTo>
                    <a:pt x="2182" y="702"/>
                  </a:lnTo>
                  <a:lnTo>
                    <a:pt x="2185" y="444"/>
                  </a:lnTo>
                  <a:lnTo>
                    <a:pt x="2188" y="481"/>
                  </a:lnTo>
                  <a:lnTo>
                    <a:pt x="2190" y="320"/>
                  </a:lnTo>
                  <a:lnTo>
                    <a:pt x="2193" y="496"/>
                  </a:lnTo>
                  <a:lnTo>
                    <a:pt x="2196" y="499"/>
                  </a:lnTo>
                  <a:lnTo>
                    <a:pt x="2199" y="488"/>
                  </a:lnTo>
                  <a:lnTo>
                    <a:pt x="2201" y="769"/>
                  </a:lnTo>
                  <a:lnTo>
                    <a:pt x="2203" y="322"/>
                  </a:lnTo>
                  <a:lnTo>
                    <a:pt x="2207" y="577"/>
                  </a:lnTo>
                  <a:lnTo>
                    <a:pt x="2209" y="354"/>
                  </a:lnTo>
                  <a:lnTo>
                    <a:pt x="2211" y="651"/>
                  </a:lnTo>
                  <a:lnTo>
                    <a:pt x="2214" y="451"/>
                  </a:lnTo>
                  <a:lnTo>
                    <a:pt x="2217" y="755"/>
                  </a:lnTo>
                  <a:lnTo>
                    <a:pt x="2220" y="210"/>
                  </a:lnTo>
                  <a:lnTo>
                    <a:pt x="2222" y="600"/>
                  </a:lnTo>
                  <a:lnTo>
                    <a:pt x="2224" y="504"/>
                  </a:lnTo>
                  <a:lnTo>
                    <a:pt x="2228" y="288"/>
                  </a:lnTo>
                  <a:lnTo>
                    <a:pt x="2230" y="436"/>
                  </a:lnTo>
                  <a:lnTo>
                    <a:pt x="2233" y="209"/>
                  </a:lnTo>
                  <a:lnTo>
                    <a:pt x="2236" y="651"/>
                  </a:lnTo>
                  <a:lnTo>
                    <a:pt x="2238" y="719"/>
                  </a:lnTo>
                  <a:lnTo>
                    <a:pt x="2241" y="579"/>
                  </a:lnTo>
                  <a:lnTo>
                    <a:pt x="2243" y="443"/>
                  </a:lnTo>
                  <a:lnTo>
                    <a:pt x="2246" y="193"/>
                  </a:lnTo>
                  <a:lnTo>
                    <a:pt x="2249" y="895"/>
                  </a:lnTo>
                  <a:lnTo>
                    <a:pt x="2251" y="523"/>
                  </a:lnTo>
                  <a:lnTo>
                    <a:pt x="2255" y="336"/>
                  </a:lnTo>
                  <a:lnTo>
                    <a:pt x="2257" y="332"/>
                  </a:lnTo>
                  <a:lnTo>
                    <a:pt x="2259" y="354"/>
                  </a:lnTo>
                  <a:lnTo>
                    <a:pt x="2262" y="227"/>
                  </a:lnTo>
                  <a:lnTo>
                    <a:pt x="2265" y="378"/>
                  </a:lnTo>
                  <a:lnTo>
                    <a:pt x="2267" y="761"/>
                  </a:lnTo>
                  <a:lnTo>
                    <a:pt x="2270" y="602"/>
                  </a:lnTo>
                  <a:lnTo>
                    <a:pt x="2272" y="505"/>
                  </a:lnTo>
                  <a:lnTo>
                    <a:pt x="2276" y="306"/>
                  </a:lnTo>
                  <a:lnTo>
                    <a:pt x="2278" y="622"/>
                  </a:lnTo>
                  <a:lnTo>
                    <a:pt x="2280" y="934"/>
                  </a:lnTo>
                  <a:lnTo>
                    <a:pt x="2284" y="690"/>
                  </a:lnTo>
                  <a:lnTo>
                    <a:pt x="2286" y="569"/>
                  </a:lnTo>
                  <a:lnTo>
                    <a:pt x="2289" y="591"/>
                  </a:lnTo>
                  <a:lnTo>
                    <a:pt x="2291" y="476"/>
                  </a:lnTo>
                  <a:lnTo>
                    <a:pt x="2294" y="352"/>
                  </a:lnTo>
                  <a:lnTo>
                    <a:pt x="2297" y="517"/>
                  </a:lnTo>
                  <a:lnTo>
                    <a:pt x="2299" y="652"/>
                  </a:lnTo>
                  <a:lnTo>
                    <a:pt x="2301" y="741"/>
                  </a:lnTo>
                  <a:lnTo>
                    <a:pt x="2305" y="351"/>
                  </a:lnTo>
                  <a:lnTo>
                    <a:pt x="2307" y="634"/>
                  </a:lnTo>
                  <a:lnTo>
                    <a:pt x="2310" y="364"/>
                  </a:lnTo>
                  <a:lnTo>
                    <a:pt x="2313" y="583"/>
                  </a:lnTo>
                  <a:lnTo>
                    <a:pt x="2315" y="557"/>
                  </a:lnTo>
                  <a:lnTo>
                    <a:pt x="2318" y="438"/>
                  </a:lnTo>
                  <a:lnTo>
                    <a:pt x="2320" y="364"/>
                  </a:lnTo>
                  <a:lnTo>
                    <a:pt x="2324" y="489"/>
                  </a:lnTo>
                  <a:lnTo>
                    <a:pt x="2326" y="236"/>
                  </a:lnTo>
                  <a:lnTo>
                    <a:pt x="2328" y="785"/>
                  </a:lnTo>
                  <a:lnTo>
                    <a:pt x="2332" y="691"/>
                  </a:lnTo>
                  <a:lnTo>
                    <a:pt x="2334" y="352"/>
                  </a:lnTo>
                  <a:lnTo>
                    <a:pt x="2336" y="584"/>
                  </a:lnTo>
                  <a:lnTo>
                    <a:pt x="2339" y="557"/>
                  </a:lnTo>
                  <a:lnTo>
                    <a:pt x="2342" y="685"/>
                  </a:lnTo>
                  <a:lnTo>
                    <a:pt x="2345" y="506"/>
                  </a:lnTo>
                  <a:lnTo>
                    <a:pt x="2347" y="247"/>
                  </a:lnTo>
                  <a:lnTo>
                    <a:pt x="2349" y="824"/>
                  </a:lnTo>
                  <a:lnTo>
                    <a:pt x="2353" y="433"/>
                  </a:lnTo>
                  <a:lnTo>
                    <a:pt x="2355" y="415"/>
                  </a:lnTo>
                  <a:lnTo>
                    <a:pt x="2358" y="603"/>
                  </a:lnTo>
                  <a:lnTo>
                    <a:pt x="2360" y="436"/>
                  </a:lnTo>
                  <a:lnTo>
                    <a:pt x="2363" y="460"/>
                  </a:lnTo>
                  <a:lnTo>
                    <a:pt x="2366" y="562"/>
                  </a:lnTo>
                  <a:lnTo>
                    <a:pt x="2368" y="704"/>
                  </a:lnTo>
                  <a:lnTo>
                    <a:pt x="2371" y="90"/>
                  </a:lnTo>
                  <a:lnTo>
                    <a:pt x="2374" y="689"/>
                  </a:lnTo>
                  <a:lnTo>
                    <a:pt x="2376" y="567"/>
                  </a:lnTo>
                  <a:lnTo>
                    <a:pt x="2379" y="701"/>
                  </a:lnTo>
                  <a:lnTo>
                    <a:pt x="2382" y="420"/>
                  </a:lnTo>
                  <a:lnTo>
                    <a:pt x="2384" y="726"/>
                  </a:lnTo>
                  <a:lnTo>
                    <a:pt x="2387" y="506"/>
                  </a:lnTo>
                  <a:lnTo>
                    <a:pt x="2389" y="492"/>
                  </a:lnTo>
                  <a:lnTo>
                    <a:pt x="2392" y="434"/>
                  </a:lnTo>
                  <a:lnTo>
                    <a:pt x="2395" y="265"/>
                  </a:lnTo>
                  <a:lnTo>
                    <a:pt x="2397" y="214"/>
                  </a:lnTo>
                  <a:lnTo>
                    <a:pt x="2401" y="759"/>
                  </a:lnTo>
                  <a:lnTo>
                    <a:pt x="2403" y="501"/>
                  </a:lnTo>
                  <a:lnTo>
                    <a:pt x="2405" y="292"/>
                  </a:lnTo>
                  <a:lnTo>
                    <a:pt x="2408" y="247"/>
                  </a:lnTo>
                  <a:lnTo>
                    <a:pt x="2411" y="663"/>
                  </a:lnTo>
                  <a:lnTo>
                    <a:pt x="2414" y="478"/>
                  </a:lnTo>
                  <a:lnTo>
                    <a:pt x="2416" y="554"/>
                  </a:lnTo>
                  <a:lnTo>
                    <a:pt x="2418" y="742"/>
                  </a:lnTo>
                  <a:lnTo>
                    <a:pt x="2422" y="492"/>
                  </a:lnTo>
                  <a:lnTo>
                    <a:pt x="2424" y="737"/>
                  </a:lnTo>
                  <a:lnTo>
                    <a:pt x="2426" y="283"/>
                  </a:lnTo>
                  <a:lnTo>
                    <a:pt x="2430" y="562"/>
                  </a:lnTo>
                  <a:lnTo>
                    <a:pt x="2432" y="422"/>
                  </a:lnTo>
                  <a:lnTo>
                    <a:pt x="2435" y="579"/>
                  </a:lnTo>
                  <a:lnTo>
                    <a:pt x="2437" y="382"/>
                  </a:lnTo>
                  <a:lnTo>
                    <a:pt x="2440" y="465"/>
                  </a:lnTo>
                  <a:lnTo>
                    <a:pt x="2443" y="525"/>
                  </a:lnTo>
                  <a:lnTo>
                    <a:pt x="2445" y="345"/>
                  </a:lnTo>
                  <a:lnTo>
                    <a:pt x="2449" y="600"/>
                  </a:lnTo>
                  <a:lnTo>
                    <a:pt x="2451" y="718"/>
                  </a:lnTo>
                  <a:lnTo>
                    <a:pt x="2453" y="589"/>
                  </a:lnTo>
                  <a:lnTo>
                    <a:pt x="2456" y="721"/>
                  </a:lnTo>
                  <a:lnTo>
                    <a:pt x="2459" y="520"/>
                  </a:lnTo>
                  <a:lnTo>
                    <a:pt x="2461" y="465"/>
                  </a:lnTo>
                  <a:lnTo>
                    <a:pt x="2464" y="468"/>
                  </a:lnTo>
                  <a:lnTo>
                    <a:pt x="2466" y="187"/>
                  </a:lnTo>
                  <a:lnTo>
                    <a:pt x="2470" y="579"/>
                  </a:lnTo>
                  <a:lnTo>
                    <a:pt x="2472" y="528"/>
                  </a:lnTo>
                  <a:lnTo>
                    <a:pt x="2474" y="221"/>
                  </a:lnTo>
                  <a:lnTo>
                    <a:pt x="2478" y="674"/>
                  </a:lnTo>
                  <a:lnTo>
                    <a:pt x="2480" y="494"/>
                  </a:lnTo>
                  <a:lnTo>
                    <a:pt x="2482" y="438"/>
                  </a:lnTo>
                  <a:lnTo>
                    <a:pt x="2485" y="560"/>
                  </a:lnTo>
                  <a:lnTo>
                    <a:pt x="2488" y="624"/>
                  </a:lnTo>
                  <a:lnTo>
                    <a:pt x="2491" y="514"/>
                  </a:lnTo>
                  <a:lnTo>
                    <a:pt x="2493" y="273"/>
                  </a:lnTo>
                  <a:lnTo>
                    <a:pt x="2495" y="502"/>
                  </a:lnTo>
                  <a:lnTo>
                    <a:pt x="2499" y="196"/>
                  </a:lnTo>
                  <a:lnTo>
                    <a:pt x="2501" y="589"/>
                  </a:lnTo>
                  <a:lnTo>
                    <a:pt x="2504" y="491"/>
                  </a:lnTo>
                  <a:lnTo>
                    <a:pt x="2507" y="556"/>
                  </a:lnTo>
                  <a:lnTo>
                    <a:pt x="2509" y="364"/>
                  </a:lnTo>
                  <a:lnTo>
                    <a:pt x="2512" y="159"/>
                  </a:lnTo>
                  <a:lnTo>
                    <a:pt x="2514" y="611"/>
                  </a:lnTo>
                  <a:lnTo>
                    <a:pt x="2517" y="650"/>
                  </a:lnTo>
                  <a:lnTo>
                    <a:pt x="2520" y="480"/>
                  </a:lnTo>
                  <a:lnTo>
                    <a:pt x="2522" y="588"/>
                  </a:lnTo>
                  <a:lnTo>
                    <a:pt x="2525" y="533"/>
                  </a:lnTo>
                  <a:lnTo>
                    <a:pt x="2528" y="526"/>
                  </a:lnTo>
                  <a:lnTo>
                    <a:pt x="2530" y="586"/>
                  </a:lnTo>
                  <a:lnTo>
                    <a:pt x="2533" y="451"/>
                  </a:lnTo>
                  <a:lnTo>
                    <a:pt x="2535" y="575"/>
                  </a:lnTo>
                  <a:lnTo>
                    <a:pt x="2539" y="752"/>
                  </a:lnTo>
                  <a:lnTo>
                    <a:pt x="2541" y="507"/>
                  </a:lnTo>
                  <a:lnTo>
                    <a:pt x="2543" y="530"/>
                  </a:lnTo>
                  <a:lnTo>
                    <a:pt x="2547" y="256"/>
                  </a:lnTo>
                  <a:lnTo>
                    <a:pt x="2549" y="507"/>
                  </a:lnTo>
                  <a:lnTo>
                    <a:pt x="2551" y="514"/>
                  </a:lnTo>
                  <a:lnTo>
                    <a:pt x="2554" y="701"/>
                  </a:lnTo>
                  <a:lnTo>
                    <a:pt x="2557" y="538"/>
                  </a:lnTo>
                  <a:lnTo>
                    <a:pt x="2560" y="292"/>
                  </a:lnTo>
                  <a:lnTo>
                    <a:pt x="2562" y="426"/>
                  </a:lnTo>
                  <a:lnTo>
                    <a:pt x="2564" y="606"/>
                  </a:lnTo>
                  <a:lnTo>
                    <a:pt x="2568" y="817"/>
                  </a:lnTo>
                  <a:lnTo>
                    <a:pt x="2570" y="781"/>
                  </a:lnTo>
                  <a:lnTo>
                    <a:pt x="2573" y="299"/>
                  </a:lnTo>
                  <a:lnTo>
                    <a:pt x="2576" y="393"/>
                  </a:lnTo>
                  <a:lnTo>
                    <a:pt x="2578" y="615"/>
                  </a:lnTo>
                  <a:lnTo>
                    <a:pt x="2581" y="487"/>
                  </a:lnTo>
                  <a:lnTo>
                    <a:pt x="2583" y="456"/>
                  </a:lnTo>
                  <a:lnTo>
                    <a:pt x="2586" y="501"/>
                  </a:lnTo>
                  <a:lnTo>
                    <a:pt x="2589" y="542"/>
                  </a:lnTo>
                  <a:lnTo>
                    <a:pt x="2591" y="554"/>
                  </a:lnTo>
                  <a:lnTo>
                    <a:pt x="2595" y="526"/>
                  </a:lnTo>
                  <a:lnTo>
                    <a:pt x="2597" y="341"/>
                  </a:lnTo>
                  <a:lnTo>
                    <a:pt x="2599" y="380"/>
                  </a:lnTo>
                  <a:lnTo>
                    <a:pt x="2602" y="427"/>
                  </a:lnTo>
                  <a:lnTo>
                    <a:pt x="2605" y="517"/>
                  </a:lnTo>
                  <a:lnTo>
                    <a:pt x="2607" y="449"/>
                  </a:lnTo>
                  <a:lnTo>
                    <a:pt x="2610" y="212"/>
                  </a:lnTo>
                  <a:lnTo>
                    <a:pt x="2612" y="367"/>
                  </a:lnTo>
                  <a:lnTo>
                    <a:pt x="2616" y="544"/>
                  </a:lnTo>
                  <a:lnTo>
                    <a:pt x="2618" y="270"/>
                  </a:lnTo>
                  <a:lnTo>
                    <a:pt x="2620" y="243"/>
                  </a:lnTo>
                  <a:lnTo>
                    <a:pt x="2624" y="573"/>
                  </a:lnTo>
                  <a:lnTo>
                    <a:pt x="2626" y="468"/>
                  </a:lnTo>
                  <a:lnTo>
                    <a:pt x="2629" y="433"/>
                  </a:lnTo>
                  <a:lnTo>
                    <a:pt x="2631" y="317"/>
                  </a:lnTo>
                  <a:lnTo>
                    <a:pt x="2634" y="560"/>
                  </a:lnTo>
                  <a:lnTo>
                    <a:pt x="2637" y="625"/>
                  </a:lnTo>
                  <a:lnTo>
                    <a:pt x="2639" y="449"/>
                  </a:lnTo>
                  <a:lnTo>
                    <a:pt x="2641" y="433"/>
                  </a:lnTo>
                  <a:lnTo>
                    <a:pt x="2645" y="722"/>
                  </a:lnTo>
                  <a:lnTo>
                    <a:pt x="2647" y="724"/>
                  </a:lnTo>
                  <a:lnTo>
                    <a:pt x="2650" y="603"/>
                  </a:lnTo>
                  <a:lnTo>
                    <a:pt x="2653" y="308"/>
                  </a:lnTo>
                  <a:lnTo>
                    <a:pt x="2655" y="507"/>
                  </a:lnTo>
                  <a:lnTo>
                    <a:pt x="2658" y="701"/>
                  </a:lnTo>
                  <a:lnTo>
                    <a:pt x="2660" y="596"/>
                  </a:lnTo>
                  <a:lnTo>
                    <a:pt x="2664" y="576"/>
                  </a:lnTo>
                  <a:lnTo>
                    <a:pt x="2666" y="530"/>
                  </a:lnTo>
                  <a:lnTo>
                    <a:pt x="2668" y="521"/>
                  </a:lnTo>
                  <a:lnTo>
                    <a:pt x="2671" y="542"/>
                  </a:lnTo>
                  <a:lnTo>
                    <a:pt x="2674" y="533"/>
                  </a:lnTo>
                  <a:lnTo>
                    <a:pt x="2676" y="309"/>
                  </a:lnTo>
                  <a:lnTo>
                    <a:pt x="2679" y="477"/>
                  </a:lnTo>
                  <a:lnTo>
                    <a:pt x="2682" y="546"/>
                  </a:lnTo>
                  <a:lnTo>
                    <a:pt x="2685" y="745"/>
                  </a:lnTo>
                  <a:lnTo>
                    <a:pt x="2687" y="766"/>
                  </a:lnTo>
                  <a:lnTo>
                    <a:pt x="2689" y="693"/>
                  </a:lnTo>
                  <a:lnTo>
                    <a:pt x="2693" y="494"/>
                  </a:lnTo>
                  <a:lnTo>
                    <a:pt x="2695" y="173"/>
                  </a:lnTo>
                  <a:lnTo>
                    <a:pt x="2698" y="499"/>
                  </a:lnTo>
                  <a:lnTo>
                    <a:pt x="2700" y="417"/>
                  </a:lnTo>
                  <a:lnTo>
                    <a:pt x="2703" y="407"/>
                  </a:lnTo>
                  <a:lnTo>
                    <a:pt x="2706" y="486"/>
                  </a:lnTo>
                  <a:lnTo>
                    <a:pt x="2708" y="484"/>
                  </a:lnTo>
                  <a:lnTo>
                    <a:pt x="2710" y="436"/>
                  </a:lnTo>
                  <a:lnTo>
                    <a:pt x="2714" y="457"/>
                  </a:lnTo>
                  <a:lnTo>
                    <a:pt x="2716" y="748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05040" y="2119320"/>
              <a:ext cx="3187440" cy="1386000"/>
            </a:xfrm>
            <a:custGeom>
              <a:avLst/>
              <a:gdLst/>
              <a:ahLst/>
              <a:rect l="l" t="t" r="r" b="b"/>
              <a:pathLst>
                <a:path w="3186" h="1136">
                  <a:moveTo>
                    <a:pt x="0" y="113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6"/>
                  </a:lnTo>
                  <a:lnTo>
                    <a:pt x="3186" y="1136"/>
                  </a:lnTo>
                  <a:lnTo>
                    <a:pt x="0" y="1136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05040" y="4073400"/>
              <a:ext cx="360" cy="1389240"/>
            </a:xfrm>
            <a:custGeom>
              <a:avLst/>
              <a:gdLst/>
              <a:ahLst/>
              <a:rect l="l" t="t" r="r" b="b"/>
              <a:pathLst>
                <a:path w="0" h="1138">
                  <a:moveTo>
                    <a:pt x="0" y="0"/>
                  </a:moveTo>
                  <a:lnTo>
                    <a:pt x="0" y="0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280" y="2119320"/>
              <a:ext cx="14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0680" y="557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05040" y="5462640"/>
              <a:ext cx="0" cy="1000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5040" y="5462640"/>
              <a:ext cx="0" cy="493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7800" y="4624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840" y="50864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780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820800" y="52308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20800" y="47671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820800" y="43038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861840" y="546264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861840" y="52308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861840" y="499896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861840" y="47671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61840" y="453564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861840" y="43038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861840" y="40734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5040" y="4073400"/>
              <a:ext cx="0" cy="13892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5040" y="4202280"/>
              <a:ext cx="3176280" cy="1180800"/>
            </a:xfrm>
            <a:custGeom>
              <a:avLst/>
              <a:gdLst/>
              <a:ahLst/>
              <a:rect l="l" t="t" r="r" b="b"/>
              <a:pathLst>
                <a:path w="2716" h="969">
                  <a:moveTo>
                    <a:pt x="0" y="464"/>
                  </a:moveTo>
                  <a:lnTo>
                    <a:pt x="2" y="464"/>
                  </a:lnTo>
                  <a:lnTo>
                    <a:pt x="4" y="464"/>
                  </a:lnTo>
                  <a:lnTo>
                    <a:pt x="7" y="464"/>
                  </a:lnTo>
                  <a:lnTo>
                    <a:pt x="10" y="464"/>
                  </a:lnTo>
                  <a:lnTo>
                    <a:pt x="12" y="464"/>
                  </a:lnTo>
                  <a:lnTo>
                    <a:pt x="15" y="464"/>
                  </a:lnTo>
                  <a:lnTo>
                    <a:pt x="18" y="464"/>
                  </a:lnTo>
                  <a:lnTo>
                    <a:pt x="21" y="464"/>
                  </a:lnTo>
                  <a:lnTo>
                    <a:pt x="23" y="464"/>
                  </a:lnTo>
                  <a:lnTo>
                    <a:pt x="25" y="464"/>
                  </a:lnTo>
                  <a:lnTo>
                    <a:pt x="29" y="464"/>
                  </a:lnTo>
                  <a:lnTo>
                    <a:pt x="31" y="464"/>
                  </a:lnTo>
                  <a:lnTo>
                    <a:pt x="34" y="464"/>
                  </a:lnTo>
                  <a:lnTo>
                    <a:pt x="36" y="464"/>
                  </a:lnTo>
                  <a:lnTo>
                    <a:pt x="39" y="464"/>
                  </a:lnTo>
                  <a:lnTo>
                    <a:pt x="42" y="465"/>
                  </a:lnTo>
                  <a:lnTo>
                    <a:pt x="44" y="464"/>
                  </a:lnTo>
                  <a:lnTo>
                    <a:pt x="46" y="464"/>
                  </a:lnTo>
                  <a:lnTo>
                    <a:pt x="50" y="465"/>
                  </a:lnTo>
                  <a:lnTo>
                    <a:pt x="52" y="465"/>
                  </a:lnTo>
                  <a:lnTo>
                    <a:pt x="55" y="464"/>
                  </a:lnTo>
                  <a:lnTo>
                    <a:pt x="58" y="463"/>
                  </a:lnTo>
                  <a:lnTo>
                    <a:pt x="60" y="464"/>
                  </a:lnTo>
                  <a:lnTo>
                    <a:pt x="63" y="465"/>
                  </a:lnTo>
                  <a:lnTo>
                    <a:pt x="65" y="464"/>
                  </a:lnTo>
                  <a:lnTo>
                    <a:pt x="69" y="466"/>
                  </a:lnTo>
                  <a:lnTo>
                    <a:pt x="71" y="466"/>
                  </a:lnTo>
                  <a:lnTo>
                    <a:pt x="73" y="464"/>
                  </a:lnTo>
                  <a:lnTo>
                    <a:pt x="77" y="461"/>
                  </a:lnTo>
                  <a:lnTo>
                    <a:pt x="79" y="465"/>
                  </a:lnTo>
                  <a:lnTo>
                    <a:pt x="81" y="464"/>
                  </a:lnTo>
                  <a:lnTo>
                    <a:pt x="84" y="461"/>
                  </a:lnTo>
                  <a:lnTo>
                    <a:pt x="87" y="465"/>
                  </a:lnTo>
                  <a:lnTo>
                    <a:pt x="90" y="461"/>
                  </a:lnTo>
                  <a:lnTo>
                    <a:pt x="92" y="460"/>
                  </a:lnTo>
                  <a:lnTo>
                    <a:pt x="94" y="465"/>
                  </a:lnTo>
                  <a:lnTo>
                    <a:pt x="98" y="464"/>
                  </a:lnTo>
                  <a:lnTo>
                    <a:pt x="100" y="471"/>
                  </a:lnTo>
                  <a:lnTo>
                    <a:pt x="102" y="465"/>
                  </a:lnTo>
                  <a:lnTo>
                    <a:pt x="106" y="465"/>
                  </a:lnTo>
                  <a:lnTo>
                    <a:pt x="108" y="465"/>
                  </a:lnTo>
                  <a:lnTo>
                    <a:pt x="111" y="467"/>
                  </a:lnTo>
                  <a:lnTo>
                    <a:pt x="113" y="460"/>
                  </a:lnTo>
                  <a:lnTo>
                    <a:pt x="116" y="463"/>
                  </a:lnTo>
                  <a:lnTo>
                    <a:pt x="119" y="457"/>
                  </a:lnTo>
                  <a:lnTo>
                    <a:pt x="121" y="465"/>
                  </a:lnTo>
                  <a:lnTo>
                    <a:pt x="125" y="464"/>
                  </a:lnTo>
                  <a:lnTo>
                    <a:pt x="127" y="466"/>
                  </a:lnTo>
                  <a:lnTo>
                    <a:pt x="129" y="459"/>
                  </a:lnTo>
                  <a:lnTo>
                    <a:pt x="132" y="464"/>
                  </a:lnTo>
                  <a:lnTo>
                    <a:pt x="135" y="466"/>
                  </a:lnTo>
                  <a:lnTo>
                    <a:pt x="137" y="460"/>
                  </a:lnTo>
                  <a:lnTo>
                    <a:pt x="140" y="465"/>
                  </a:lnTo>
                  <a:lnTo>
                    <a:pt x="142" y="461"/>
                  </a:lnTo>
                  <a:lnTo>
                    <a:pt x="146" y="459"/>
                  </a:lnTo>
                  <a:lnTo>
                    <a:pt x="148" y="461"/>
                  </a:lnTo>
                  <a:lnTo>
                    <a:pt x="150" y="464"/>
                  </a:lnTo>
                  <a:lnTo>
                    <a:pt x="154" y="468"/>
                  </a:lnTo>
                  <a:lnTo>
                    <a:pt x="156" y="459"/>
                  </a:lnTo>
                  <a:lnTo>
                    <a:pt x="159" y="464"/>
                  </a:lnTo>
                  <a:lnTo>
                    <a:pt x="161" y="466"/>
                  </a:lnTo>
                  <a:lnTo>
                    <a:pt x="164" y="460"/>
                  </a:lnTo>
                  <a:lnTo>
                    <a:pt x="167" y="467"/>
                  </a:lnTo>
                  <a:lnTo>
                    <a:pt x="169" y="473"/>
                  </a:lnTo>
                  <a:lnTo>
                    <a:pt x="171" y="473"/>
                  </a:lnTo>
                  <a:lnTo>
                    <a:pt x="175" y="458"/>
                  </a:lnTo>
                  <a:lnTo>
                    <a:pt x="177" y="457"/>
                  </a:lnTo>
                  <a:lnTo>
                    <a:pt x="180" y="448"/>
                  </a:lnTo>
                  <a:lnTo>
                    <a:pt x="182" y="467"/>
                  </a:lnTo>
                  <a:lnTo>
                    <a:pt x="185" y="463"/>
                  </a:lnTo>
                  <a:lnTo>
                    <a:pt x="188" y="460"/>
                  </a:lnTo>
                  <a:lnTo>
                    <a:pt x="190" y="461"/>
                  </a:lnTo>
                  <a:lnTo>
                    <a:pt x="194" y="483"/>
                  </a:lnTo>
                  <a:lnTo>
                    <a:pt x="196" y="468"/>
                  </a:lnTo>
                  <a:lnTo>
                    <a:pt x="198" y="475"/>
                  </a:lnTo>
                  <a:lnTo>
                    <a:pt x="201" y="450"/>
                  </a:lnTo>
                  <a:lnTo>
                    <a:pt x="204" y="463"/>
                  </a:lnTo>
                  <a:lnTo>
                    <a:pt x="206" y="457"/>
                  </a:lnTo>
                  <a:lnTo>
                    <a:pt x="209" y="474"/>
                  </a:lnTo>
                  <a:lnTo>
                    <a:pt x="211" y="465"/>
                  </a:lnTo>
                  <a:lnTo>
                    <a:pt x="215" y="483"/>
                  </a:lnTo>
                  <a:lnTo>
                    <a:pt x="217" y="479"/>
                  </a:lnTo>
                  <a:lnTo>
                    <a:pt x="219" y="453"/>
                  </a:lnTo>
                  <a:lnTo>
                    <a:pt x="223" y="492"/>
                  </a:lnTo>
                  <a:lnTo>
                    <a:pt x="225" y="458"/>
                  </a:lnTo>
                  <a:lnTo>
                    <a:pt x="227" y="460"/>
                  </a:lnTo>
                  <a:lnTo>
                    <a:pt x="230" y="470"/>
                  </a:lnTo>
                  <a:lnTo>
                    <a:pt x="233" y="475"/>
                  </a:lnTo>
                  <a:lnTo>
                    <a:pt x="236" y="470"/>
                  </a:lnTo>
                  <a:lnTo>
                    <a:pt x="238" y="463"/>
                  </a:lnTo>
                  <a:lnTo>
                    <a:pt x="240" y="478"/>
                  </a:lnTo>
                  <a:lnTo>
                    <a:pt x="244" y="448"/>
                  </a:lnTo>
                  <a:lnTo>
                    <a:pt x="246" y="490"/>
                  </a:lnTo>
                  <a:lnTo>
                    <a:pt x="249" y="459"/>
                  </a:lnTo>
                  <a:lnTo>
                    <a:pt x="252" y="463"/>
                  </a:lnTo>
                  <a:lnTo>
                    <a:pt x="254" y="470"/>
                  </a:lnTo>
                  <a:lnTo>
                    <a:pt x="257" y="482"/>
                  </a:lnTo>
                  <a:lnTo>
                    <a:pt x="259" y="479"/>
                  </a:lnTo>
                  <a:lnTo>
                    <a:pt x="262" y="460"/>
                  </a:lnTo>
                  <a:lnTo>
                    <a:pt x="265" y="465"/>
                  </a:lnTo>
                  <a:lnTo>
                    <a:pt x="267" y="482"/>
                  </a:lnTo>
                  <a:lnTo>
                    <a:pt x="271" y="465"/>
                  </a:lnTo>
                  <a:lnTo>
                    <a:pt x="273" y="448"/>
                  </a:lnTo>
                  <a:lnTo>
                    <a:pt x="275" y="436"/>
                  </a:lnTo>
                  <a:lnTo>
                    <a:pt x="278" y="441"/>
                  </a:lnTo>
                  <a:lnTo>
                    <a:pt x="281" y="459"/>
                  </a:lnTo>
                  <a:lnTo>
                    <a:pt x="284" y="470"/>
                  </a:lnTo>
                  <a:lnTo>
                    <a:pt x="286" y="482"/>
                  </a:lnTo>
                  <a:lnTo>
                    <a:pt x="288" y="464"/>
                  </a:lnTo>
                  <a:lnTo>
                    <a:pt x="292" y="486"/>
                  </a:lnTo>
                  <a:lnTo>
                    <a:pt x="294" y="461"/>
                  </a:lnTo>
                  <a:lnTo>
                    <a:pt x="296" y="463"/>
                  </a:lnTo>
                  <a:lnTo>
                    <a:pt x="300" y="474"/>
                  </a:lnTo>
                  <a:lnTo>
                    <a:pt x="302" y="470"/>
                  </a:lnTo>
                  <a:lnTo>
                    <a:pt x="305" y="488"/>
                  </a:lnTo>
                  <a:lnTo>
                    <a:pt x="307" y="422"/>
                  </a:lnTo>
                  <a:lnTo>
                    <a:pt x="310" y="513"/>
                  </a:lnTo>
                  <a:lnTo>
                    <a:pt x="313" y="471"/>
                  </a:lnTo>
                  <a:lnTo>
                    <a:pt x="315" y="453"/>
                  </a:lnTo>
                  <a:lnTo>
                    <a:pt x="318" y="464"/>
                  </a:lnTo>
                  <a:lnTo>
                    <a:pt x="321" y="528"/>
                  </a:lnTo>
                  <a:lnTo>
                    <a:pt x="323" y="496"/>
                  </a:lnTo>
                  <a:lnTo>
                    <a:pt x="326" y="486"/>
                  </a:lnTo>
                  <a:lnTo>
                    <a:pt x="329" y="478"/>
                  </a:lnTo>
                  <a:lnTo>
                    <a:pt x="331" y="482"/>
                  </a:lnTo>
                  <a:lnTo>
                    <a:pt x="334" y="475"/>
                  </a:lnTo>
                  <a:lnTo>
                    <a:pt x="336" y="488"/>
                  </a:lnTo>
                  <a:lnTo>
                    <a:pt x="340" y="444"/>
                  </a:lnTo>
                  <a:lnTo>
                    <a:pt x="342" y="498"/>
                  </a:lnTo>
                  <a:lnTo>
                    <a:pt x="344" y="463"/>
                  </a:lnTo>
                  <a:lnTo>
                    <a:pt x="347" y="507"/>
                  </a:lnTo>
                  <a:lnTo>
                    <a:pt x="350" y="428"/>
                  </a:lnTo>
                  <a:lnTo>
                    <a:pt x="352" y="420"/>
                  </a:lnTo>
                  <a:lnTo>
                    <a:pt x="355" y="499"/>
                  </a:lnTo>
                  <a:lnTo>
                    <a:pt x="357" y="471"/>
                  </a:lnTo>
                  <a:lnTo>
                    <a:pt x="361" y="441"/>
                  </a:lnTo>
                  <a:lnTo>
                    <a:pt x="363" y="449"/>
                  </a:lnTo>
                  <a:lnTo>
                    <a:pt x="365" y="505"/>
                  </a:lnTo>
                  <a:lnTo>
                    <a:pt x="369" y="450"/>
                  </a:lnTo>
                  <a:lnTo>
                    <a:pt x="371" y="432"/>
                  </a:lnTo>
                  <a:lnTo>
                    <a:pt x="374" y="513"/>
                  </a:lnTo>
                  <a:lnTo>
                    <a:pt x="376" y="466"/>
                  </a:lnTo>
                  <a:lnTo>
                    <a:pt x="379" y="497"/>
                  </a:lnTo>
                  <a:lnTo>
                    <a:pt x="382" y="516"/>
                  </a:lnTo>
                  <a:lnTo>
                    <a:pt x="384" y="467"/>
                  </a:lnTo>
                  <a:lnTo>
                    <a:pt x="386" y="563"/>
                  </a:lnTo>
                  <a:lnTo>
                    <a:pt x="390" y="411"/>
                  </a:lnTo>
                  <a:lnTo>
                    <a:pt x="392" y="439"/>
                  </a:lnTo>
                  <a:lnTo>
                    <a:pt x="395" y="450"/>
                  </a:lnTo>
                  <a:lnTo>
                    <a:pt x="398" y="473"/>
                  </a:lnTo>
                  <a:lnTo>
                    <a:pt x="400" y="499"/>
                  </a:lnTo>
                  <a:lnTo>
                    <a:pt x="403" y="487"/>
                  </a:lnTo>
                  <a:lnTo>
                    <a:pt x="405" y="480"/>
                  </a:lnTo>
                  <a:lnTo>
                    <a:pt x="409" y="474"/>
                  </a:lnTo>
                  <a:lnTo>
                    <a:pt x="411" y="509"/>
                  </a:lnTo>
                  <a:lnTo>
                    <a:pt x="413" y="419"/>
                  </a:lnTo>
                  <a:lnTo>
                    <a:pt x="417" y="523"/>
                  </a:lnTo>
                  <a:lnTo>
                    <a:pt x="419" y="492"/>
                  </a:lnTo>
                  <a:lnTo>
                    <a:pt x="421" y="518"/>
                  </a:lnTo>
                  <a:lnTo>
                    <a:pt x="424" y="450"/>
                  </a:lnTo>
                  <a:lnTo>
                    <a:pt x="427" y="486"/>
                  </a:lnTo>
                  <a:lnTo>
                    <a:pt x="430" y="564"/>
                  </a:lnTo>
                  <a:lnTo>
                    <a:pt x="432" y="519"/>
                  </a:lnTo>
                  <a:lnTo>
                    <a:pt x="434" y="484"/>
                  </a:lnTo>
                  <a:lnTo>
                    <a:pt x="438" y="429"/>
                  </a:lnTo>
                  <a:lnTo>
                    <a:pt x="440" y="517"/>
                  </a:lnTo>
                  <a:lnTo>
                    <a:pt x="442" y="467"/>
                  </a:lnTo>
                  <a:lnTo>
                    <a:pt x="446" y="528"/>
                  </a:lnTo>
                  <a:lnTo>
                    <a:pt x="448" y="449"/>
                  </a:lnTo>
                  <a:lnTo>
                    <a:pt x="451" y="514"/>
                  </a:lnTo>
                  <a:lnTo>
                    <a:pt x="453" y="471"/>
                  </a:lnTo>
                  <a:lnTo>
                    <a:pt x="456" y="438"/>
                  </a:lnTo>
                  <a:lnTo>
                    <a:pt x="459" y="411"/>
                  </a:lnTo>
                  <a:lnTo>
                    <a:pt x="461" y="493"/>
                  </a:lnTo>
                  <a:lnTo>
                    <a:pt x="464" y="411"/>
                  </a:lnTo>
                  <a:lnTo>
                    <a:pt x="467" y="492"/>
                  </a:lnTo>
                  <a:lnTo>
                    <a:pt x="469" y="524"/>
                  </a:lnTo>
                  <a:lnTo>
                    <a:pt x="472" y="488"/>
                  </a:lnTo>
                  <a:lnTo>
                    <a:pt x="475" y="470"/>
                  </a:lnTo>
                  <a:lnTo>
                    <a:pt x="477" y="503"/>
                  </a:lnTo>
                  <a:lnTo>
                    <a:pt x="480" y="428"/>
                  </a:lnTo>
                  <a:lnTo>
                    <a:pt x="482" y="456"/>
                  </a:lnTo>
                  <a:lnTo>
                    <a:pt x="486" y="497"/>
                  </a:lnTo>
                  <a:lnTo>
                    <a:pt x="488" y="464"/>
                  </a:lnTo>
                  <a:lnTo>
                    <a:pt x="490" y="497"/>
                  </a:lnTo>
                  <a:lnTo>
                    <a:pt x="493" y="502"/>
                  </a:lnTo>
                  <a:lnTo>
                    <a:pt x="496" y="506"/>
                  </a:lnTo>
                  <a:lnTo>
                    <a:pt x="499" y="467"/>
                  </a:lnTo>
                  <a:lnTo>
                    <a:pt x="501" y="448"/>
                  </a:lnTo>
                  <a:lnTo>
                    <a:pt x="503" y="471"/>
                  </a:lnTo>
                  <a:lnTo>
                    <a:pt x="507" y="538"/>
                  </a:lnTo>
                  <a:lnTo>
                    <a:pt x="509" y="409"/>
                  </a:lnTo>
                  <a:lnTo>
                    <a:pt x="511" y="534"/>
                  </a:lnTo>
                  <a:lnTo>
                    <a:pt x="515" y="522"/>
                  </a:lnTo>
                  <a:lnTo>
                    <a:pt x="517" y="446"/>
                  </a:lnTo>
                  <a:lnTo>
                    <a:pt x="520" y="380"/>
                  </a:lnTo>
                  <a:lnTo>
                    <a:pt x="522" y="531"/>
                  </a:lnTo>
                  <a:lnTo>
                    <a:pt x="525" y="468"/>
                  </a:lnTo>
                  <a:lnTo>
                    <a:pt x="528" y="571"/>
                  </a:lnTo>
                  <a:lnTo>
                    <a:pt x="530" y="533"/>
                  </a:lnTo>
                  <a:lnTo>
                    <a:pt x="534" y="506"/>
                  </a:lnTo>
                  <a:lnTo>
                    <a:pt x="536" y="482"/>
                  </a:lnTo>
                  <a:lnTo>
                    <a:pt x="538" y="440"/>
                  </a:lnTo>
                  <a:lnTo>
                    <a:pt x="541" y="463"/>
                  </a:lnTo>
                  <a:lnTo>
                    <a:pt x="544" y="436"/>
                  </a:lnTo>
                  <a:lnTo>
                    <a:pt x="546" y="422"/>
                  </a:lnTo>
                  <a:lnTo>
                    <a:pt x="549" y="427"/>
                  </a:lnTo>
                  <a:lnTo>
                    <a:pt x="551" y="425"/>
                  </a:lnTo>
                  <a:lnTo>
                    <a:pt x="555" y="477"/>
                  </a:lnTo>
                  <a:lnTo>
                    <a:pt x="557" y="532"/>
                  </a:lnTo>
                  <a:lnTo>
                    <a:pt x="559" y="366"/>
                  </a:lnTo>
                  <a:lnTo>
                    <a:pt x="563" y="413"/>
                  </a:lnTo>
                  <a:lnTo>
                    <a:pt x="565" y="519"/>
                  </a:lnTo>
                  <a:lnTo>
                    <a:pt x="567" y="424"/>
                  </a:lnTo>
                  <a:lnTo>
                    <a:pt x="570" y="532"/>
                  </a:lnTo>
                  <a:lnTo>
                    <a:pt x="573" y="470"/>
                  </a:lnTo>
                  <a:lnTo>
                    <a:pt x="576" y="529"/>
                  </a:lnTo>
                  <a:lnTo>
                    <a:pt x="578" y="509"/>
                  </a:lnTo>
                  <a:lnTo>
                    <a:pt x="580" y="328"/>
                  </a:lnTo>
                  <a:lnTo>
                    <a:pt x="584" y="405"/>
                  </a:lnTo>
                  <a:lnTo>
                    <a:pt x="586" y="562"/>
                  </a:lnTo>
                  <a:lnTo>
                    <a:pt x="589" y="397"/>
                  </a:lnTo>
                  <a:lnTo>
                    <a:pt x="592" y="502"/>
                  </a:lnTo>
                  <a:lnTo>
                    <a:pt x="594" y="579"/>
                  </a:lnTo>
                  <a:lnTo>
                    <a:pt x="597" y="484"/>
                  </a:lnTo>
                  <a:lnTo>
                    <a:pt x="599" y="536"/>
                  </a:lnTo>
                  <a:lnTo>
                    <a:pt x="602" y="496"/>
                  </a:lnTo>
                  <a:lnTo>
                    <a:pt x="605" y="546"/>
                  </a:lnTo>
                  <a:lnTo>
                    <a:pt x="607" y="420"/>
                  </a:lnTo>
                  <a:lnTo>
                    <a:pt x="611" y="478"/>
                  </a:lnTo>
                  <a:lnTo>
                    <a:pt x="613" y="528"/>
                  </a:lnTo>
                  <a:lnTo>
                    <a:pt x="615" y="361"/>
                  </a:lnTo>
                  <a:lnTo>
                    <a:pt x="618" y="546"/>
                  </a:lnTo>
                  <a:lnTo>
                    <a:pt x="621" y="377"/>
                  </a:lnTo>
                  <a:lnTo>
                    <a:pt x="624" y="482"/>
                  </a:lnTo>
                  <a:lnTo>
                    <a:pt x="626" y="454"/>
                  </a:lnTo>
                  <a:lnTo>
                    <a:pt x="628" y="490"/>
                  </a:lnTo>
                  <a:lnTo>
                    <a:pt x="632" y="503"/>
                  </a:lnTo>
                  <a:lnTo>
                    <a:pt x="634" y="463"/>
                  </a:lnTo>
                  <a:lnTo>
                    <a:pt x="636" y="522"/>
                  </a:lnTo>
                  <a:lnTo>
                    <a:pt x="639" y="638"/>
                  </a:lnTo>
                  <a:lnTo>
                    <a:pt x="642" y="449"/>
                  </a:lnTo>
                  <a:lnTo>
                    <a:pt x="645" y="502"/>
                  </a:lnTo>
                  <a:lnTo>
                    <a:pt x="647" y="438"/>
                  </a:lnTo>
                  <a:lnTo>
                    <a:pt x="650" y="543"/>
                  </a:lnTo>
                  <a:lnTo>
                    <a:pt x="653" y="460"/>
                  </a:lnTo>
                  <a:lnTo>
                    <a:pt x="655" y="412"/>
                  </a:lnTo>
                  <a:lnTo>
                    <a:pt x="658" y="495"/>
                  </a:lnTo>
                  <a:lnTo>
                    <a:pt x="661" y="275"/>
                  </a:lnTo>
                  <a:lnTo>
                    <a:pt x="663" y="521"/>
                  </a:lnTo>
                  <a:lnTo>
                    <a:pt x="666" y="374"/>
                  </a:lnTo>
                  <a:lnTo>
                    <a:pt x="668" y="214"/>
                  </a:lnTo>
                  <a:lnTo>
                    <a:pt x="671" y="483"/>
                  </a:lnTo>
                  <a:lnTo>
                    <a:pt x="674" y="524"/>
                  </a:lnTo>
                  <a:lnTo>
                    <a:pt x="676" y="310"/>
                  </a:lnTo>
                  <a:lnTo>
                    <a:pt x="680" y="489"/>
                  </a:lnTo>
                  <a:lnTo>
                    <a:pt x="682" y="502"/>
                  </a:lnTo>
                  <a:lnTo>
                    <a:pt x="684" y="556"/>
                  </a:lnTo>
                  <a:lnTo>
                    <a:pt x="687" y="393"/>
                  </a:lnTo>
                  <a:lnTo>
                    <a:pt x="690" y="216"/>
                  </a:lnTo>
                  <a:lnTo>
                    <a:pt x="692" y="535"/>
                  </a:lnTo>
                  <a:lnTo>
                    <a:pt x="695" y="332"/>
                  </a:lnTo>
                  <a:lnTo>
                    <a:pt x="697" y="428"/>
                  </a:lnTo>
                  <a:lnTo>
                    <a:pt x="701" y="367"/>
                  </a:lnTo>
                  <a:lnTo>
                    <a:pt x="703" y="440"/>
                  </a:lnTo>
                  <a:lnTo>
                    <a:pt x="705" y="587"/>
                  </a:lnTo>
                  <a:lnTo>
                    <a:pt x="709" y="558"/>
                  </a:lnTo>
                  <a:lnTo>
                    <a:pt x="711" y="657"/>
                  </a:lnTo>
                  <a:lnTo>
                    <a:pt x="714" y="461"/>
                  </a:lnTo>
                  <a:lnTo>
                    <a:pt x="716" y="525"/>
                  </a:lnTo>
                  <a:lnTo>
                    <a:pt x="719" y="455"/>
                  </a:lnTo>
                  <a:lnTo>
                    <a:pt x="722" y="525"/>
                  </a:lnTo>
                  <a:lnTo>
                    <a:pt x="724" y="397"/>
                  </a:lnTo>
                  <a:lnTo>
                    <a:pt x="726" y="374"/>
                  </a:lnTo>
                  <a:lnTo>
                    <a:pt x="730" y="439"/>
                  </a:lnTo>
                  <a:lnTo>
                    <a:pt x="732" y="435"/>
                  </a:lnTo>
                  <a:lnTo>
                    <a:pt x="735" y="438"/>
                  </a:lnTo>
                  <a:lnTo>
                    <a:pt x="738" y="357"/>
                  </a:lnTo>
                  <a:lnTo>
                    <a:pt x="740" y="383"/>
                  </a:lnTo>
                  <a:lnTo>
                    <a:pt x="743" y="419"/>
                  </a:lnTo>
                  <a:lnTo>
                    <a:pt x="745" y="319"/>
                  </a:lnTo>
                  <a:lnTo>
                    <a:pt x="749" y="566"/>
                  </a:lnTo>
                  <a:lnTo>
                    <a:pt x="751" y="429"/>
                  </a:lnTo>
                  <a:lnTo>
                    <a:pt x="753" y="299"/>
                  </a:lnTo>
                  <a:lnTo>
                    <a:pt x="757" y="536"/>
                  </a:lnTo>
                  <a:lnTo>
                    <a:pt x="759" y="685"/>
                  </a:lnTo>
                  <a:lnTo>
                    <a:pt x="761" y="647"/>
                  </a:lnTo>
                  <a:lnTo>
                    <a:pt x="764" y="427"/>
                  </a:lnTo>
                  <a:lnTo>
                    <a:pt x="767" y="332"/>
                  </a:lnTo>
                  <a:lnTo>
                    <a:pt x="770" y="374"/>
                  </a:lnTo>
                  <a:lnTo>
                    <a:pt x="772" y="341"/>
                  </a:lnTo>
                  <a:lnTo>
                    <a:pt x="774" y="595"/>
                  </a:lnTo>
                  <a:lnTo>
                    <a:pt x="778" y="564"/>
                  </a:lnTo>
                  <a:lnTo>
                    <a:pt x="780" y="527"/>
                  </a:lnTo>
                  <a:lnTo>
                    <a:pt x="782" y="531"/>
                  </a:lnTo>
                  <a:lnTo>
                    <a:pt x="786" y="439"/>
                  </a:lnTo>
                  <a:lnTo>
                    <a:pt x="788" y="426"/>
                  </a:lnTo>
                  <a:lnTo>
                    <a:pt x="791" y="493"/>
                  </a:lnTo>
                  <a:lnTo>
                    <a:pt x="793" y="362"/>
                  </a:lnTo>
                  <a:lnTo>
                    <a:pt x="796" y="403"/>
                  </a:lnTo>
                  <a:lnTo>
                    <a:pt x="799" y="180"/>
                  </a:lnTo>
                  <a:lnTo>
                    <a:pt x="801" y="395"/>
                  </a:lnTo>
                  <a:lnTo>
                    <a:pt x="804" y="247"/>
                  </a:lnTo>
                  <a:lnTo>
                    <a:pt x="807" y="318"/>
                  </a:lnTo>
                  <a:lnTo>
                    <a:pt x="809" y="455"/>
                  </a:lnTo>
                  <a:lnTo>
                    <a:pt x="812" y="448"/>
                  </a:lnTo>
                  <a:lnTo>
                    <a:pt x="814" y="772"/>
                  </a:lnTo>
                  <a:lnTo>
                    <a:pt x="817" y="341"/>
                  </a:lnTo>
                  <a:lnTo>
                    <a:pt x="820" y="519"/>
                  </a:lnTo>
                  <a:lnTo>
                    <a:pt x="822" y="275"/>
                  </a:lnTo>
                  <a:lnTo>
                    <a:pt x="826" y="688"/>
                  </a:lnTo>
                  <a:lnTo>
                    <a:pt x="828" y="668"/>
                  </a:lnTo>
                  <a:lnTo>
                    <a:pt x="830" y="531"/>
                  </a:lnTo>
                  <a:lnTo>
                    <a:pt x="833" y="475"/>
                  </a:lnTo>
                  <a:lnTo>
                    <a:pt x="836" y="586"/>
                  </a:lnTo>
                  <a:lnTo>
                    <a:pt x="839" y="545"/>
                  </a:lnTo>
                  <a:lnTo>
                    <a:pt x="841" y="528"/>
                  </a:lnTo>
                  <a:lnTo>
                    <a:pt x="843" y="468"/>
                  </a:lnTo>
                  <a:lnTo>
                    <a:pt x="847" y="533"/>
                  </a:lnTo>
                  <a:lnTo>
                    <a:pt x="849" y="266"/>
                  </a:lnTo>
                  <a:lnTo>
                    <a:pt x="851" y="458"/>
                  </a:lnTo>
                  <a:lnTo>
                    <a:pt x="855" y="386"/>
                  </a:lnTo>
                  <a:lnTo>
                    <a:pt x="857" y="410"/>
                  </a:lnTo>
                  <a:lnTo>
                    <a:pt x="860" y="477"/>
                  </a:lnTo>
                  <a:lnTo>
                    <a:pt x="862" y="664"/>
                  </a:lnTo>
                  <a:lnTo>
                    <a:pt x="865" y="372"/>
                  </a:lnTo>
                  <a:lnTo>
                    <a:pt x="868" y="540"/>
                  </a:lnTo>
                  <a:lnTo>
                    <a:pt x="870" y="620"/>
                  </a:lnTo>
                  <a:lnTo>
                    <a:pt x="874" y="218"/>
                  </a:lnTo>
                  <a:lnTo>
                    <a:pt x="876" y="641"/>
                  </a:lnTo>
                  <a:lnTo>
                    <a:pt x="878" y="804"/>
                  </a:lnTo>
                  <a:lnTo>
                    <a:pt x="881" y="600"/>
                  </a:lnTo>
                  <a:lnTo>
                    <a:pt x="884" y="358"/>
                  </a:lnTo>
                  <a:lnTo>
                    <a:pt x="886" y="609"/>
                  </a:lnTo>
                  <a:lnTo>
                    <a:pt x="889" y="448"/>
                  </a:lnTo>
                  <a:lnTo>
                    <a:pt x="891" y="576"/>
                  </a:lnTo>
                  <a:lnTo>
                    <a:pt x="895" y="465"/>
                  </a:lnTo>
                  <a:lnTo>
                    <a:pt x="897" y="442"/>
                  </a:lnTo>
                  <a:lnTo>
                    <a:pt x="899" y="577"/>
                  </a:lnTo>
                  <a:lnTo>
                    <a:pt x="903" y="542"/>
                  </a:lnTo>
                  <a:lnTo>
                    <a:pt x="905" y="542"/>
                  </a:lnTo>
                  <a:lnTo>
                    <a:pt x="907" y="557"/>
                  </a:lnTo>
                  <a:lnTo>
                    <a:pt x="910" y="350"/>
                  </a:lnTo>
                  <a:lnTo>
                    <a:pt x="913" y="309"/>
                  </a:lnTo>
                  <a:lnTo>
                    <a:pt x="916" y="535"/>
                  </a:lnTo>
                  <a:lnTo>
                    <a:pt x="918" y="405"/>
                  </a:lnTo>
                  <a:lnTo>
                    <a:pt x="920" y="605"/>
                  </a:lnTo>
                  <a:lnTo>
                    <a:pt x="924" y="459"/>
                  </a:lnTo>
                  <a:lnTo>
                    <a:pt x="926" y="664"/>
                  </a:lnTo>
                  <a:lnTo>
                    <a:pt x="929" y="313"/>
                  </a:lnTo>
                  <a:lnTo>
                    <a:pt x="932" y="261"/>
                  </a:lnTo>
                  <a:lnTo>
                    <a:pt x="934" y="654"/>
                  </a:lnTo>
                  <a:lnTo>
                    <a:pt x="937" y="168"/>
                  </a:lnTo>
                  <a:lnTo>
                    <a:pt x="939" y="536"/>
                  </a:lnTo>
                  <a:lnTo>
                    <a:pt x="942" y="474"/>
                  </a:lnTo>
                  <a:lnTo>
                    <a:pt x="945" y="473"/>
                  </a:lnTo>
                  <a:lnTo>
                    <a:pt x="947" y="619"/>
                  </a:lnTo>
                  <a:lnTo>
                    <a:pt x="950" y="434"/>
                  </a:lnTo>
                  <a:lnTo>
                    <a:pt x="953" y="446"/>
                  </a:lnTo>
                  <a:lnTo>
                    <a:pt x="955" y="439"/>
                  </a:lnTo>
                  <a:lnTo>
                    <a:pt x="958" y="754"/>
                  </a:lnTo>
                  <a:lnTo>
                    <a:pt x="961" y="166"/>
                  </a:lnTo>
                  <a:lnTo>
                    <a:pt x="964" y="717"/>
                  </a:lnTo>
                  <a:lnTo>
                    <a:pt x="966" y="406"/>
                  </a:lnTo>
                  <a:lnTo>
                    <a:pt x="968" y="417"/>
                  </a:lnTo>
                  <a:lnTo>
                    <a:pt x="972" y="391"/>
                  </a:lnTo>
                  <a:lnTo>
                    <a:pt x="974" y="554"/>
                  </a:lnTo>
                  <a:lnTo>
                    <a:pt x="976" y="782"/>
                  </a:lnTo>
                  <a:lnTo>
                    <a:pt x="979" y="550"/>
                  </a:lnTo>
                  <a:lnTo>
                    <a:pt x="982" y="606"/>
                  </a:lnTo>
                  <a:lnTo>
                    <a:pt x="985" y="343"/>
                  </a:lnTo>
                  <a:lnTo>
                    <a:pt x="987" y="608"/>
                  </a:lnTo>
                  <a:lnTo>
                    <a:pt x="989" y="301"/>
                  </a:lnTo>
                  <a:lnTo>
                    <a:pt x="993" y="738"/>
                  </a:lnTo>
                  <a:lnTo>
                    <a:pt x="995" y="382"/>
                  </a:lnTo>
                  <a:lnTo>
                    <a:pt x="998" y="424"/>
                  </a:lnTo>
                  <a:lnTo>
                    <a:pt x="1001" y="512"/>
                  </a:lnTo>
                  <a:lnTo>
                    <a:pt x="1003" y="466"/>
                  </a:lnTo>
                  <a:lnTo>
                    <a:pt x="1006" y="324"/>
                  </a:lnTo>
                  <a:lnTo>
                    <a:pt x="1008" y="478"/>
                  </a:lnTo>
                  <a:lnTo>
                    <a:pt x="1011" y="494"/>
                  </a:lnTo>
                  <a:lnTo>
                    <a:pt x="1014" y="408"/>
                  </a:lnTo>
                  <a:lnTo>
                    <a:pt x="1016" y="589"/>
                  </a:lnTo>
                  <a:lnTo>
                    <a:pt x="1020" y="379"/>
                  </a:lnTo>
                  <a:lnTo>
                    <a:pt x="1022" y="292"/>
                  </a:lnTo>
                  <a:lnTo>
                    <a:pt x="1024" y="379"/>
                  </a:lnTo>
                  <a:lnTo>
                    <a:pt x="1027" y="521"/>
                  </a:lnTo>
                  <a:lnTo>
                    <a:pt x="1030" y="270"/>
                  </a:lnTo>
                  <a:lnTo>
                    <a:pt x="1032" y="401"/>
                  </a:lnTo>
                  <a:lnTo>
                    <a:pt x="1035" y="228"/>
                  </a:lnTo>
                  <a:lnTo>
                    <a:pt x="1037" y="313"/>
                  </a:lnTo>
                  <a:lnTo>
                    <a:pt x="1041" y="224"/>
                  </a:lnTo>
                  <a:lnTo>
                    <a:pt x="1043" y="608"/>
                  </a:lnTo>
                  <a:lnTo>
                    <a:pt x="1045" y="432"/>
                  </a:lnTo>
                  <a:lnTo>
                    <a:pt x="1049" y="610"/>
                  </a:lnTo>
                  <a:lnTo>
                    <a:pt x="1051" y="513"/>
                  </a:lnTo>
                  <a:lnTo>
                    <a:pt x="1054" y="638"/>
                  </a:lnTo>
                  <a:lnTo>
                    <a:pt x="1056" y="610"/>
                  </a:lnTo>
                  <a:lnTo>
                    <a:pt x="1059" y="473"/>
                  </a:lnTo>
                  <a:lnTo>
                    <a:pt x="1062" y="456"/>
                  </a:lnTo>
                  <a:lnTo>
                    <a:pt x="1064" y="152"/>
                  </a:lnTo>
                  <a:lnTo>
                    <a:pt x="1066" y="488"/>
                  </a:lnTo>
                  <a:lnTo>
                    <a:pt x="1070" y="687"/>
                  </a:lnTo>
                  <a:lnTo>
                    <a:pt x="1072" y="500"/>
                  </a:lnTo>
                  <a:lnTo>
                    <a:pt x="1075" y="326"/>
                  </a:lnTo>
                  <a:lnTo>
                    <a:pt x="1078" y="471"/>
                  </a:lnTo>
                  <a:lnTo>
                    <a:pt x="1080" y="522"/>
                  </a:lnTo>
                  <a:lnTo>
                    <a:pt x="1083" y="508"/>
                  </a:lnTo>
                  <a:lnTo>
                    <a:pt x="1085" y="508"/>
                  </a:lnTo>
                  <a:lnTo>
                    <a:pt x="1089" y="281"/>
                  </a:lnTo>
                  <a:lnTo>
                    <a:pt x="1091" y="464"/>
                  </a:lnTo>
                  <a:lnTo>
                    <a:pt x="1093" y="361"/>
                  </a:lnTo>
                  <a:lnTo>
                    <a:pt x="1096" y="390"/>
                  </a:lnTo>
                  <a:lnTo>
                    <a:pt x="1099" y="544"/>
                  </a:lnTo>
                  <a:lnTo>
                    <a:pt x="1101" y="545"/>
                  </a:lnTo>
                  <a:lnTo>
                    <a:pt x="1104" y="683"/>
                  </a:lnTo>
                  <a:lnTo>
                    <a:pt x="1107" y="621"/>
                  </a:lnTo>
                  <a:lnTo>
                    <a:pt x="1110" y="280"/>
                  </a:lnTo>
                  <a:lnTo>
                    <a:pt x="1112" y="381"/>
                  </a:lnTo>
                  <a:lnTo>
                    <a:pt x="1114" y="734"/>
                  </a:lnTo>
                  <a:lnTo>
                    <a:pt x="1118" y="54"/>
                  </a:lnTo>
                  <a:lnTo>
                    <a:pt x="1120" y="547"/>
                  </a:lnTo>
                  <a:lnTo>
                    <a:pt x="1122" y="271"/>
                  </a:lnTo>
                  <a:lnTo>
                    <a:pt x="1125" y="511"/>
                  </a:lnTo>
                  <a:lnTo>
                    <a:pt x="1128" y="498"/>
                  </a:lnTo>
                  <a:lnTo>
                    <a:pt x="1131" y="477"/>
                  </a:lnTo>
                  <a:lnTo>
                    <a:pt x="1133" y="361"/>
                  </a:lnTo>
                  <a:lnTo>
                    <a:pt x="1135" y="676"/>
                  </a:lnTo>
                  <a:lnTo>
                    <a:pt x="1139" y="507"/>
                  </a:lnTo>
                  <a:lnTo>
                    <a:pt x="1141" y="415"/>
                  </a:lnTo>
                  <a:lnTo>
                    <a:pt x="1144" y="0"/>
                  </a:lnTo>
                  <a:lnTo>
                    <a:pt x="1147" y="586"/>
                  </a:lnTo>
                  <a:lnTo>
                    <a:pt x="1149" y="514"/>
                  </a:lnTo>
                  <a:lnTo>
                    <a:pt x="1152" y="435"/>
                  </a:lnTo>
                  <a:lnTo>
                    <a:pt x="1154" y="572"/>
                  </a:lnTo>
                  <a:lnTo>
                    <a:pt x="1157" y="608"/>
                  </a:lnTo>
                  <a:lnTo>
                    <a:pt x="1160" y="969"/>
                  </a:lnTo>
                  <a:lnTo>
                    <a:pt x="1162" y="639"/>
                  </a:lnTo>
                  <a:lnTo>
                    <a:pt x="1166" y="772"/>
                  </a:lnTo>
                  <a:lnTo>
                    <a:pt x="1168" y="392"/>
                  </a:lnTo>
                  <a:lnTo>
                    <a:pt x="1170" y="335"/>
                  </a:lnTo>
                  <a:lnTo>
                    <a:pt x="1173" y="464"/>
                  </a:lnTo>
                  <a:lnTo>
                    <a:pt x="1176" y="386"/>
                  </a:lnTo>
                  <a:lnTo>
                    <a:pt x="1179" y="664"/>
                  </a:lnTo>
                  <a:lnTo>
                    <a:pt x="1181" y="629"/>
                  </a:lnTo>
                  <a:lnTo>
                    <a:pt x="1183" y="357"/>
                  </a:lnTo>
                  <a:lnTo>
                    <a:pt x="1187" y="488"/>
                  </a:lnTo>
                  <a:lnTo>
                    <a:pt x="1189" y="581"/>
                  </a:lnTo>
                  <a:lnTo>
                    <a:pt x="1191" y="508"/>
                  </a:lnTo>
                  <a:lnTo>
                    <a:pt x="1195" y="518"/>
                  </a:lnTo>
                  <a:lnTo>
                    <a:pt x="1197" y="523"/>
                  </a:lnTo>
                  <a:lnTo>
                    <a:pt x="1200" y="705"/>
                  </a:lnTo>
                  <a:lnTo>
                    <a:pt x="1202" y="518"/>
                  </a:lnTo>
                  <a:lnTo>
                    <a:pt x="1205" y="581"/>
                  </a:lnTo>
                  <a:lnTo>
                    <a:pt x="1208" y="398"/>
                  </a:lnTo>
                  <a:lnTo>
                    <a:pt x="1210" y="362"/>
                  </a:lnTo>
                  <a:lnTo>
                    <a:pt x="1214" y="11"/>
                  </a:lnTo>
                  <a:lnTo>
                    <a:pt x="1216" y="517"/>
                  </a:lnTo>
                  <a:lnTo>
                    <a:pt x="1218" y="370"/>
                  </a:lnTo>
                  <a:lnTo>
                    <a:pt x="1221" y="195"/>
                  </a:lnTo>
                  <a:lnTo>
                    <a:pt x="1224" y="573"/>
                  </a:lnTo>
                  <a:lnTo>
                    <a:pt x="1226" y="388"/>
                  </a:lnTo>
                  <a:lnTo>
                    <a:pt x="1229" y="252"/>
                  </a:lnTo>
                  <a:lnTo>
                    <a:pt x="1231" y="584"/>
                  </a:lnTo>
                  <a:lnTo>
                    <a:pt x="1235" y="251"/>
                  </a:lnTo>
                  <a:lnTo>
                    <a:pt x="1237" y="133"/>
                  </a:lnTo>
                  <a:lnTo>
                    <a:pt x="1239" y="362"/>
                  </a:lnTo>
                  <a:lnTo>
                    <a:pt x="1243" y="203"/>
                  </a:lnTo>
                  <a:lnTo>
                    <a:pt x="1245" y="428"/>
                  </a:lnTo>
                  <a:lnTo>
                    <a:pt x="1247" y="571"/>
                  </a:lnTo>
                  <a:lnTo>
                    <a:pt x="1250" y="558"/>
                  </a:lnTo>
                  <a:lnTo>
                    <a:pt x="1253" y="585"/>
                  </a:lnTo>
                  <a:lnTo>
                    <a:pt x="1256" y="602"/>
                  </a:lnTo>
                  <a:lnTo>
                    <a:pt x="1258" y="335"/>
                  </a:lnTo>
                  <a:lnTo>
                    <a:pt x="1260" y="263"/>
                  </a:lnTo>
                  <a:lnTo>
                    <a:pt x="1264" y="151"/>
                  </a:lnTo>
                  <a:lnTo>
                    <a:pt x="1266" y="477"/>
                  </a:lnTo>
                  <a:lnTo>
                    <a:pt x="1269" y="213"/>
                  </a:lnTo>
                  <a:lnTo>
                    <a:pt x="1271" y="605"/>
                  </a:lnTo>
                  <a:lnTo>
                    <a:pt x="1274" y="554"/>
                  </a:lnTo>
                  <a:lnTo>
                    <a:pt x="1277" y="177"/>
                  </a:lnTo>
                  <a:lnTo>
                    <a:pt x="1279" y="560"/>
                  </a:lnTo>
                  <a:lnTo>
                    <a:pt x="1282" y="338"/>
                  </a:lnTo>
                  <a:lnTo>
                    <a:pt x="1285" y="536"/>
                  </a:lnTo>
                  <a:lnTo>
                    <a:pt x="1287" y="334"/>
                  </a:lnTo>
                  <a:lnTo>
                    <a:pt x="1290" y="716"/>
                  </a:lnTo>
                  <a:lnTo>
                    <a:pt x="1293" y="898"/>
                  </a:lnTo>
                  <a:lnTo>
                    <a:pt x="1295" y="632"/>
                  </a:lnTo>
                  <a:lnTo>
                    <a:pt x="1298" y="658"/>
                  </a:lnTo>
                  <a:lnTo>
                    <a:pt x="1300" y="389"/>
                  </a:lnTo>
                  <a:lnTo>
                    <a:pt x="1304" y="550"/>
                  </a:lnTo>
                  <a:lnTo>
                    <a:pt x="1306" y="555"/>
                  </a:lnTo>
                  <a:lnTo>
                    <a:pt x="1308" y="254"/>
                  </a:lnTo>
                  <a:lnTo>
                    <a:pt x="1312" y="448"/>
                  </a:lnTo>
                  <a:lnTo>
                    <a:pt x="1314" y="542"/>
                  </a:lnTo>
                  <a:lnTo>
                    <a:pt x="1316" y="381"/>
                  </a:lnTo>
                  <a:lnTo>
                    <a:pt x="1319" y="231"/>
                  </a:lnTo>
                  <a:lnTo>
                    <a:pt x="1322" y="583"/>
                  </a:lnTo>
                  <a:lnTo>
                    <a:pt x="1325" y="639"/>
                  </a:lnTo>
                  <a:lnTo>
                    <a:pt x="1327" y="552"/>
                  </a:lnTo>
                  <a:lnTo>
                    <a:pt x="1329" y="835"/>
                  </a:lnTo>
                  <a:lnTo>
                    <a:pt x="1333" y="397"/>
                  </a:lnTo>
                  <a:lnTo>
                    <a:pt x="1335" y="533"/>
                  </a:lnTo>
                  <a:lnTo>
                    <a:pt x="1337" y="722"/>
                  </a:lnTo>
                  <a:lnTo>
                    <a:pt x="1341" y="489"/>
                  </a:lnTo>
                  <a:lnTo>
                    <a:pt x="1343" y="233"/>
                  </a:lnTo>
                  <a:lnTo>
                    <a:pt x="1346" y="354"/>
                  </a:lnTo>
                  <a:lnTo>
                    <a:pt x="1348" y="436"/>
                  </a:lnTo>
                  <a:lnTo>
                    <a:pt x="1351" y="509"/>
                  </a:lnTo>
                  <a:lnTo>
                    <a:pt x="1354" y="628"/>
                  </a:lnTo>
                  <a:lnTo>
                    <a:pt x="1356" y="624"/>
                  </a:lnTo>
                  <a:lnTo>
                    <a:pt x="1360" y="278"/>
                  </a:lnTo>
                  <a:lnTo>
                    <a:pt x="1362" y="804"/>
                  </a:lnTo>
                  <a:lnTo>
                    <a:pt x="1364" y="499"/>
                  </a:lnTo>
                  <a:lnTo>
                    <a:pt x="1367" y="366"/>
                  </a:lnTo>
                  <a:lnTo>
                    <a:pt x="1370" y="526"/>
                  </a:lnTo>
                  <a:lnTo>
                    <a:pt x="1372" y="783"/>
                  </a:lnTo>
                  <a:lnTo>
                    <a:pt x="1375" y="276"/>
                  </a:lnTo>
                  <a:lnTo>
                    <a:pt x="1377" y="290"/>
                  </a:lnTo>
                  <a:lnTo>
                    <a:pt x="1381" y="584"/>
                  </a:lnTo>
                  <a:lnTo>
                    <a:pt x="1383" y="557"/>
                  </a:lnTo>
                  <a:lnTo>
                    <a:pt x="1385" y="590"/>
                  </a:lnTo>
                  <a:lnTo>
                    <a:pt x="1389" y="332"/>
                  </a:lnTo>
                  <a:lnTo>
                    <a:pt x="1391" y="84"/>
                  </a:lnTo>
                  <a:lnTo>
                    <a:pt x="1394" y="657"/>
                  </a:lnTo>
                  <a:lnTo>
                    <a:pt x="1396" y="350"/>
                  </a:lnTo>
                  <a:lnTo>
                    <a:pt x="1399" y="486"/>
                  </a:lnTo>
                  <a:lnTo>
                    <a:pt x="1402" y="379"/>
                  </a:lnTo>
                  <a:lnTo>
                    <a:pt x="1404" y="301"/>
                  </a:lnTo>
                  <a:lnTo>
                    <a:pt x="1406" y="231"/>
                  </a:lnTo>
                  <a:lnTo>
                    <a:pt x="1410" y="611"/>
                  </a:lnTo>
                  <a:lnTo>
                    <a:pt x="1412" y="440"/>
                  </a:lnTo>
                  <a:lnTo>
                    <a:pt x="1415" y="466"/>
                  </a:lnTo>
                  <a:lnTo>
                    <a:pt x="1418" y="209"/>
                  </a:lnTo>
                  <a:lnTo>
                    <a:pt x="1420" y="451"/>
                  </a:lnTo>
                  <a:lnTo>
                    <a:pt x="1423" y="348"/>
                  </a:lnTo>
                  <a:lnTo>
                    <a:pt x="1425" y="693"/>
                  </a:lnTo>
                  <a:lnTo>
                    <a:pt x="1429" y="319"/>
                  </a:lnTo>
                  <a:lnTo>
                    <a:pt x="1431" y="320"/>
                  </a:lnTo>
                  <a:lnTo>
                    <a:pt x="1433" y="592"/>
                  </a:lnTo>
                  <a:lnTo>
                    <a:pt x="1436" y="434"/>
                  </a:lnTo>
                  <a:lnTo>
                    <a:pt x="1439" y="319"/>
                  </a:lnTo>
                  <a:lnTo>
                    <a:pt x="1441" y="674"/>
                  </a:lnTo>
                  <a:lnTo>
                    <a:pt x="1444" y="459"/>
                  </a:lnTo>
                  <a:lnTo>
                    <a:pt x="1446" y="458"/>
                  </a:lnTo>
                  <a:lnTo>
                    <a:pt x="1450" y="591"/>
                  </a:lnTo>
                  <a:lnTo>
                    <a:pt x="1452" y="339"/>
                  </a:lnTo>
                  <a:lnTo>
                    <a:pt x="1454" y="431"/>
                  </a:lnTo>
                  <a:lnTo>
                    <a:pt x="1458" y="562"/>
                  </a:lnTo>
                  <a:lnTo>
                    <a:pt x="1460" y="368"/>
                  </a:lnTo>
                  <a:lnTo>
                    <a:pt x="1462" y="406"/>
                  </a:lnTo>
                  <a:lnTo>
                    <a:pt x="1465" y="217"/>
                  </a:lnTo>
                  <a:lnTo>
                    <a:pt x="1468" y="275"/>
                  </a:lnTo>
                  <a:lnTo>
                    <a:pt x="1471" y="225"/>
                  </a:lnTo>
                  <a:lnTo>
                    <a:pt x="1473" y="271"/>
                  </a:lnTo>
                  <a:lnTo>
                    <a:pt x="1475" y="804"/>
                  </a:lnTo>
                  <a:lnTo>
                    <a:pt x="1479" y="552"/>
                  </a:lnTo>
                  <a:lnTo>
                    <a:pt x="1481" y="293"/>
                  </a:lnTo>
                  <a:lnTo>
                    <a:pt x="1484" y="468"/>
                  </a:lnTo>
                  <a:lnTo>
                    <a:pt x="1487" y="581"/>
                  </a:lnTo>
                  <a:lnTo>
                    <a:pt x="1489" y="407"/>
                  </a:lnTo>
                  <a:lnTo>
                    <a:pt x="1492" y="369"/>
                  </a:lnTo>
                  <a:lnTo>
                    <a:pt x="1494" y="824"/>
                  </a:lnTo>
                  <a:lnTo>
                    <a:pt x="1497" y="579"/>
                  </a:lnTo>
                  <a:lnTo>
                    <a:pt x="1500" y="273"/>
                  </a:lnTo>
                  <a:lnTo>
                    <a:pt x="1502" y="598"/>
                  </a:lnTo>
                  <a:lnTo>
                    <a:pt x="1506" y="324"/>
                  </a:lnTo>
                  <a:lnTo>
                    <a:pt x="1508" y="330"/>
                  </a:lnTo>
                  <a:lnTo>
                    <a:pt x="1510" y="577"/>
                  </a:lnTo>
                  <a:lnTo>
                    <a:pt x="1513" y="500"/>
                  </a:lnTo>
                  <a:lnTo>
                    <a:pt x="1516" y="397"/>
                  </a:lnTo>
                  <a:lnTo>
                    <a:pt x="1519" y="431"/>
                  </a:lnTo>
                  <a:lnTo>
                    <a:pt x="1521" y="60"/>
                  </a:lnTo>
                  <a:lnTo>
                    <a:pt x="1523" y="296"/>
                  </a:lnTo>
                  <a:lnTo>
                    <a:pt x="1527" y="547"/>
                  </a:lnTo>
                  <a:lnTo>
                    <a:pt x="1529" y="314"/>
                  </a:lnTo>
                  <a:lnTo>
                    <a:pt x="1531" y="696"/>
                  </a:lnTo>
                  <a:lnTo>
                    <a:pt x="1535" y="292"/>
                  </a:lnTo>
                  <a:lnTo>
                    <a:pt x="1537" y="633"/>
                  </a:lnTo>
                  <a:lnTo>
                    <a:pt x="1540" y="474"/>
                  </a:lnTo>
                  <a:lnTo>
                    <a:pt x="1542" y="425"/>
                  </a:lnTo>
                  <a:lnTo>
                    <a:pt x="1545" y="378"/>
                  </a:lnTo>
                  <a:lnTo>
                    <a:pt x="1548" y="363"/>
                  </a:lnTo>
                  <a:lnTo>
                    <a:pt x="1550" y="863"/>
                  </a:lnTo>
                  <a:lnTo>
                    <a:pt x="1553" y="594"/>
                  </a:lnTo>
                  <a:lnTo>
                    <a:pt x="1556" y="434"/>
                  </a:lnTo>
                  <a:lnTo>
                    <a:pt x="1558" y="720"/>
                  </a:lnTo>
                  <a:lnTo>
                    <a:pt x="1561" y="322"/>
                  </a:lnTo>
                  <a:lnTo>
                    <a:pt x="1564" y="431"/>
                  </a:lnTo>
                  <a:lnTo>
                    <a:pt x="1566" y="237"/>
                  </a:lnTo>
                  <a:lnTo>
                    <a:pt x="1569" y="482"/>
                  </a:lnTo>
                  <a:lnTo>
                    <a:pt x="1571" y="828"/>
                  </a:lnTo>
                  <a:lnTo>
                    <a:pt x="1575" y="641"/>
                  </a:lnTo>
                  <a:lnTo>
                    <a:pt x="1577" y="349"/>
                  </a:lnTo>
                  <a:lnTo>
                    <a:pt x="1579" y="426"/>
                  </a:lnTo>
                  <a:lnTo>
                    <a:pt x="1582" y="602"/>
                  </a:lnTo>
                  <a:lnTo>
                    <a:pt x="1585" y="437"/>
                  </a:lnTo>
                  <a:lnTo>
                    <a:pt x="1587" y="109"/>
                  </a:lnTo>
                  <a:lnTo>
                    <a:pt x="1590" y="199"/>
                  </a:lnTo>
                  <a:lnTo>
                    <a:pt x="1593" y="349"/>
                  </a:lnTo>
                  <a:lnTo>
                    <a:pt x="1596" y="342"/>
                  </a:lnTo>
                  <a:lnTo>
                    <a:pt x="1598" y="567"/>
                  </a:lnTo>
                  <a:lnTo>
                    <a:pt x="1600" y="653"/>
                  </a:lnTo>
                  <a:lnTo>
                    <a:pt x="1604" y="340"/>
                  </a:lnTo>
                  <a:lnTo>
                    <a:pt x="1606" y="214"/>
                  </a:lnTo>
                  <a:lnTo>
                    <a:pt x="1609" y="411"/>
                  </a:lnTo>
                  <a:lnTo>
                    <a:pt x="1611" y="493"/>
                  </a:lnTo>
                  <a:lnTo>
                    <a:pt x="1614" y="205"/>
                  </a:lnTo>
                  <a:lnTo>
                    <a:pt x="1617" y="237"/>
                  </a:lnTo>
                  <a:lnTo>
                    <a:pt x="1619" y="368"/>
                  </a:lnTo>
                  <a:lnTo>
                    <a:pt x="1621" y="328"/>
                  </a:lnTo>
                  <a:lnTo>
                    <a:pt x="1625" y="146"/>
                  </a:lnTo>
                  <a:lnTo>
                    <a:pt x="1627" y="505"/>
                  </a:lnTo>
                  <a:lnTo>
                    <a:pt x="1630" y="393"/>
                  </a:lnTo>
                  <a:lnTo>
                    <a:pt x="1633" y="556"/>
                  </a:lnTo>
                  <a:lnTo>
                    <a:pt x="1635" y="477"/>
                  </a:lnTo>
                  <a:lnTo>
                    <a:pt x="1638" y="536"/>
                  </a:lnTo>
                  <a:lnTo>
                    <a:pt x="1640" y="788"/>
                  </a:lnTo>
                  <a:lnTo>
                    <a:pt x="1644" y="584"/>
                  </a:lnTo>
                  <a:lnTo>
                    <a:pt x="1646" y="489"/>
                  </a:lnTo>
                  <a:lnTo>
                    <a:pt x="1648" y="421"/>
                  </a:lnTo>
                  <a:lnTo>
                    <a:pt x="1652" y="293"/>
                  </a:lnTo>
                  <a:lnTo>
                    <a:pt x="1654" y="367"/>
                  </a:lnTo>
                  <a:lnTo>
                    <a:pt x="1656" y="787"/>
                  </a:lnTo>
                  <a:lnTo>
                    <a:pt x="1659" y="386"/>
                  </a:lnTo>
                  <a:lnTo>
                    <a:pt x="1662" y="380"/>
                  </a:lnTo>
                  <a:lnTo>
                    <a:pt x="1665" y="194"/>
                  </a:lnTo>
                  <a:lnTo>
                    <a:pt x="1667" y="303"/>
                  </a:lnTo>
                  <a:lnTo>
                    <a:pt x="1669" y="189"/>
                  </a:lnTo>
                  <a:lnTo>
                    <a:pt x="1673" y="574"/>
                  </a:lnTo>
                  <a:lnTo>
                    <a:pt x="1675" y="731"/>
                  </a:lnTo>
                  <a:lnTo>
                    <a:pt x="1678" y="186"/>
                  </a:lnTo>
                  <a:lnTo>
                    <a:pt x="1681" y="320"/>
                  </a:lnTo>
                  <a:lnTo>
                    <a:pt x="1683" y="519"/>
                  </a:lnTo>
                  <a:lnTo>
                    <a:pt x="1686" y="517"/>
                  </a:lnTo>
                  <a:lnTo>
                    <a:pt x="1688" y="115"/>
                  </a:lnTo>
                  <a:lnTo>
                    <a:pt x="1691" y="567"/>
                  </a:lnTo>
                  <a:lnTo>
                    <a:pt x="1694" y="142"/>
                  </a:lnTo>
                  <a:lnTo>
                    <a:pt x="1696" y="625"/>
                  </a:lnTo>
                  <a:lnTo>
                    <a:pt x="1700" y="165"/>
                  </a:lnTo>
                  <a:lnTo>
                    <a:pt x="1702" y="650"/>
                  </a:lnTo>
                  <a:lnTo>
                    <a:pt x="1704" y="149"/>
                  </a:lnTo>
                  <a:lnTo>
                    <a:pt x="1707" y="387"/>
                  </a:lnTo>
                  <a:lnTo>
                    <a:pt x="1710" y="265"/>
                  </a:lnTo>
                  <a:lnTo>
                    <a:pt x="1712" y="442"/>
                  </a:lnTo>
                  <a:lnTo>
                    <a:pt x="1715" y="333"/>
                  </a:lnTo>
                  <a:lnTo>
                    <a:pt x="1717" y="460"/>
                  </a:lnTo>
                  <a:lnTo>
                    <a:pt x="1721" y="562"/>
                  </a:lnTo>
                  <a:lnTo>
                    <a:pt x="1723" y="234"/>
                  </a:lnTo>
                  <a:lnTo>
                    <a:pt x="1725" y="227"/>
                  </a:lnTo>
                  <a:lnTo>
                    <a:pt x="1728" y="377"/>
                  </a:lnTo>
                  <a:lnTo>
                    <a:pt x="1731" y="495"/>
                  </a:lnTo>
                  <a:lnTo>
                    <a:pt x="1734" y="461"/>
                  </a:lnTo>
                  <a:lnTo>
                    <a:pt x="1736" y="151"/>
                  </a:lnTo>
                  <a:lnTo>
                    <a:pt x="1739" y="919"/>
                  </a:lnTo>
                  <a:lnTo>
                    <a:pt x="1742" y="340"/>
                  </a:lnTo>
                  <a:lnTo>
                    <a:pt x="1744" y="129"/>
                  </a:lnTo>
                  <a:lnTo>
                    <a:pt x="1746" y="422"/>
                  </a:lnTo>
                  <a:lnTo>
                    <a:pt x="1750" y="306"/>
                  </a:lnTo>
                  <a:lnTo>
                    <a:pt x="1752" y="446"/>
                  </a:lnTo>
                  <a:lnTo>
                    <a:pt x="1755" y="379"/>
                  </a:lnTo>
                  <a:lnTo>
                    <a:pt x="1757" y="547"/>
                  </a:lnTo>
                  <a:lnTo>
                    <a:pt x="1760" y="380"/>
                  </a:lnTo>
                  <a:lnTo>
                    <a:pt x="1763" y="215"/>
                  </a:lnTo>
                  <a:lnTo>
                    <a:pt x="1765" y="2"/>
                  </a:lnTo>
                  <a:lnTo>
                    <a:pt x="1769" y="550"/>
                  </a:lnTo>
                  <a:lnTo>
                    <a:pt x="1771" y="374"/>
                  </a:lnTo>
                  <a:lnTo>
                    <a:pt x="1773" y="468"/>
                  </a:lnTo>
                  <a:lnTo>
                    <a:pt x="1776" y="560"/>
                  </a:lnTo>
                  <a:lnTo>
                    <a:pt x="1779" y="579"/>
                  </a:lnTo>
                  <a:lnTo>
                    <a:pt x="1781" y="569"/>
                  </a:lnTo>
                  <a:lnTo>
                    <a:pt x="1784" y="281"/>
                  </a:lnTo>
                  <a:lnTo>
                    <a:pt x="1786" y="392"/>
                  </a:lnTo>
                  <a:lnTo>
                    <a:pt x="1790" y="483"/>
                  </a:lnTo>
                  <a:lnTo>
                    <a:pt x="1792" y="545"/>
                  </a:lnTo>
                  <a:lnTo>
                    <a:pt x="1794" y="575"/>
                  </a:lnTo>
                  <a:lnTo>
                    <a:pt x="1798" y="497"/>
                  </a:lnTo>
                  <a:lnTo>
                    <a:pt x="1800" y="522"/>
                  </a:lnTo>
                  <a:lnTo>
                    <a:pt x="1802" y="500"/>
                  </a:lnTo>
                  <a:lnTo>
                    <a:pt x="1805" y="241"/>
                  </a:lnTo>
                  <a:lnTo>
                    <a:pt x="1808" y="629"/>
                  </a:lnTo>
                  <a:lnTo>
                    <a:pt x="1811" y="485"/>
                  </a:lnTo>
                  <a:lnTo>
                    <a:pt x="1813" y="409"/>
                  </a:lnTo>
                  <a:lnTo>
                    <a:pt x="1815" y="318"/>
                  </a:lnTo>
                  <a:lnTo>
                    <a:pt x="1819" y="519"/>
                  </a:lnTo>
                  <a:lnTo>
                    <a:pt x="1821" y="558"/>
                  </a:lnTo>
                  <a:lnTo>
                    <a:pt x="1824" y="540"/>
                  </a:lnTo>
                  <a:lnTo>
                    <a:pt x="1827" y="439"/>
                  </a:lnTo>
                  <a:lnTo>
                    <a:pt x="1829" y="493"/>
                  </a:lnTo>
                  <a:lnTo>
                    <a:pt x="1832" y="361"/>
                  </a:lnTo>
                  <a:lnTo>
                    <a:pt x="1834" y="587"/>
                  </a:lnTo>
                  <a:lnTo>
                    <a:pt x="1837" y="314"/>
                  </a:lnTo>
                  <a:lnTo>
                    <a:pt x="1840" y="466"/>
                  </a:lnTo>
                  <a:lnTo>
                    <a:pt x="1842" y="746"/>
                  </a:lnTo>
                  <a:lnTo>
                    <a:pt x="1846" y="498"/>
                  </a:lnTo>
                  <a:lnTo>
                    <a:pt x="1848" y="465"/>
                  </a:lnTo>
                  <a:lnTo>
                    <a:pt x="1850" y="368"/>
                  </a:lnTo>
                  <a:lnTo>
                    <a:pt x="1853" y="360"/>
                  </a:lnTo>
                  <a:lnTo>
                    <a:pt x="1856" y="765"/>
                  </a:lnTo>
                  <a:lnTo>
                    <a:pt x="1859" y="688"/>
                  </a:lnTo>
                  <a:lnTo>
                    <a:pt x="1861" y="389"/>
                  </a:lnTo>
                  <a:lnTo>
                    <a:pt x="1863" y="261"/>
                  </a:lnTo>
                  <a:lnTo>
                    <a:pt x="1867" y="631"/>
                  </a:lnTo>
                  <a:lnTo>
                    <a:pt x="1869" y="328"/>
                  </a:lnTo>
                  <a:lnTo>
                    <a:pt x="1871" y="668"/>
                  </a:lnTo>
                  <a:lnTo>
                    <a:pt x="1875" y="340"/>
                  </a:lnTo>
                  <a:lnTo>
                    <a:pt x="1877" y="415"/>
                  </a:lnTo>
                  <a:lnTo>
                    <a:pt x="1880" y="409"/>
                  </a:lnTo>
                  <a:lnTo>
                    <a:pt x="1882" y="503"/>
                  </a:lnTo>
                  <a:lnTo>
                    <a:pt x="1885" y="284"/>
                  </a:lnTo>
                  <a:lnTo>
                    <a:pt x="1888" y="561"/>
                  </a:lnTo>
                  <a:lnTo>
                    <a:pt x="1890" y="563"/>
                  </a:lnTo>
                  <a:lnTo>
                    <a:pt x="1893" y="410"/>
                  </a:lnTo>
                  <a:lnTo>
                    <a:pt x="1896" y="270"/>
                  </a:lnTo>
                  <a:lnTo>
                    <a:pt x="1898" y="543"/>
                  </a:lnTo>
                  <a:lnTo>
                    <a:pt x="1901" y="643"/>
                  </a:lnTo>
                  <a:lnTo>
                    <a:pt x="1903" y="461"/>
                  </a:lnTo>
                  <a:lnTo>
                    <a:pt x="1906" y="719"/>
                  </a:lnTo>
                  <a:lnTo>
                    <a:pt x="1909" y="396"/>
                  </a:lnTo>
                  <a:lnTo>
                    <a:pt x="1911" y="552"/>
                  </a:lnTo>
                  <a:lnTo>
                    <a:pt x="1915" y="497"/>
                  </a:lnTo>
                  <a:lnTo>
                    <a:pt x="1917" y="408"/>
                  </a:lnTo>
                  <a:lnTo>
                    <a:pt x="1919" y="553"/>
                  </a:lnTo>
                  <a:lnTo>
                    <a:pt x="1922" y="585"/>
                  </a:lnTo>
                  <a:lnTo>
                    <a:pt x="1925" y="488"/>
                  </a:lnTo>
                  <a:lnTo>
                    <a:pt x="1927" y="507"/>
                  </a:lnTo>
                  <a:lnTo>
                    <a:pt x="1930" y="434"/>
                  </a:lnTo>
                  <a:lnTo>
                    <a:pt x="1932" y="576"/>
                  </a:lnTo>
                  <a:lnTo>
                    <a:pt x="1936" y="527"/>
                  </a:lnTo>
                  <a:lnTo>
                    <a:pt x="1938" y="313"/>
                  </a:lnTo>
                  <a:lnTo>
                    <a:pt x="1940" y="466"/>
                  </a:lnTo>
                  <a:lnTo>
                    <a:pt x="1944" y="555"/>
                  </a:lnTo>
                  <a:lnTo>
                    <a:pt x="1946" y="447"/>
                  </a:lnTo>
                  <a:lnTo>
                    <a:pt x="1949" y="513"/>
                  </a:lnTo>
                  <a:lnTo>
                    <a:pt x="1951" y="284"/>
                  </a:lnTo>
                  <a:lnTo>
                    <a:pt x="1954" y="425"/>
                  </a:lnTo>
                  <a:lnTo>
                    <a:pt x="1957" y="411"/>
                  </a:lnTo>
                  <a:lnTo>
                    <a:pt x="1959" y="253"/>
                  </a:lnTo>
                  <a:lnTo>
                    <a:pt x="1961" y="427"/>
                  </a:lnTo>
                  <a:lnTo>
                    <a:pt x="1965" y="681"/>
                  </a:lnTo>
                  <a:lnTo>
                    <a:pt x="1967" y="448"/>
                  </a:lnTo>
                  <a:lnTo>
                    <a:pt x="1970" y="593"/>
                  </a:lnTo>
                  <a:lnTo>
                    <a:pt x="1973" y="315"/>
                  </a:lnTo>
                  <a:lnTo>
                    <a:pt x="1975" y="645"/>
                  </a:lnTo>
                  <a:lnTo>
                    <a:pt x="1978" y="493"/>
                  </a:lnTo>
                  <a:lnTo>
                    <a:pt x="1980" y="532"/>
                  </a:lnTo>
                  <a:lnTo>
                    <a:pt x="1984" y="453"/>
                  </a:lnTo>
                  <a:lnTo>
                    <a:pt x="1986" y="567"/>
                  </a:lnTo>
                  <a:lnTo>
                    <a:pt x="1988" y="415"/>
                  </a:lnTo>
                  <a:lnTo>
                    <a:pt x="1992" y="546"/>
                  </a:lnTo>
                  <a:lnTo>
                    <a:pt x="1994" y="384"/>
                  </a:lnTo>
                  <a:lnTo>
                    <a:pt x="1996" y="466"/>
                  </a:lnTo>
                  <a:lnTo>
                    <a:pt x="1999" y="719"/>
                  </a:lnTo>
                  <a:lnTo>
                    <a:pt x="2002" y="573"/>
                  </a:lnTo>
                  <a:lnTo>
                    <a:pt x="2005" y="422"/>
                  </a:lnTo>
                  <a:lnTo>
                    <a:pt x="2007" y="506"/>
                  </a:lnTo>
                  <a:lnTo>
                    <a:pt x="2009" y="633"/>
                  </a:lnTo>
                  <a:lnTo>
                    <a:pt x="2013" y="326"/>
                  </a:lnTo>
                  <a:lnTo>
                    <a:pt x="2015" y="451"/>
                  </a:lnTo>
                  <a:lnTo>
                    <a:pt x="2018" y="562"/>
                  </a:lnTo>
                  <a:lnTo>
                    <a:pt x="2021" y="424"/>
                  </a:lnTo>
                  <a:lnTo>
                    <a:pt x="2023" y="389"/>
                  </a:lnTo>
                  <a:lnTo>
                    <a:pt x="2026" y="437"/>
                  </a:lnTo>
                  <a:lnTo>
                    <a:pt x="2028" y="467"/>
                  </a:lnTo>
                  <a:lnTo>
                    <a:pt x="2031" y="310"/>
                  </a:lnTo>
                  <a:lnTo>
                    <a:pt x="2034" y="405"/>
                  </a:lnTo>
                  <a:lnTo>
                    <a:pt x="2036" y="313"/>
                  </a:lnTo>
                  <a:lnTo>
                    <a:pt x="2039" y="480"/>
                  </a:lnTo>
                  <a:lnTo>
                    <a:pt x="2042" y="550"/>
                  </a:lnTo>
                  <a:lnTo>
                    <a:pt x="2044" y="503"/>
                  </a:lnTo>
                  <a:lnTo>
                    <a:pt x="2047" y="500"/>
                  </a:lnTo>
                  <a:lnTo>
                    <a:pt x="2050" y="371"/>
                  </a:lnTo>
                  <a:lnTo>
                    <a:pt x="2052" y="651"/>
                  </a:lnTo>
                  <a:lnTo>
                    <a:pt x="2055" y="555"/>
                  </a:lnTo>
                  <a:lnTo>
                    <a:pt x="2057" y="468"/>
                  </a:lnTo>
                  <a:lnTo>
                    <a:pt x="2061" y="424"/>
                  </a:lnTo>
                  <a:lnTo>
                    <a:pt x="2063" y="546"/>
                  </a:lnTo>
                  <a:lnTo>
                    <a:pt x="2065" y="421"/>
                  </a:lnTo>
                  <a:lnTo>
                    <a:pt x="2068" y="460"/>
                  </a:lnTo>
                  <a:lnTo>
                    <a:pt x="2071" y="524"/>
                  </a:lnTo>
                  <a:lnTo>
                    <a:pt x="2074" y="475"/>
                  </a:lnTo>
                  <a:lnTo>
                    <a:pt x="2076" y="361"/>
                  </a:lnTo>
                  <a:lnTo>
                    <a:pt x="2078" y="408"/>
                  </a:lnTo>
                  <a:lnTo>
                    <a:pt x="2082" y="468"/>
                  </a:lnTo>
                  <a:lnTo>
                    <a:pt x="2084" y="424"/>
                  </a:lnTo>
                  <a:lnTo>
                    <a:pt x="2086" y="524"/>
                  </a:lnTo>
                  <a:lnTo>
                    <a:pt x="2090" y="465"/>
                  </a:lnTo>
                  <a:lnTo>
                    <a:pt x="2092" y="548"/>
                  </a:lnTo>
                  <a:lnTo>
                    <a:pt x="2095" y="449"/>
                  </a:lnTo>
                  <a:lnTo>
                    <a:pt x="2097" y="519"/>
                  </a:lnTo>
                  <a:lnTo>
                    <a:pt x="2100" y="558"/>
                  </a:lnTo>
                  <a:lnTo>
                    <a:pt x="2103" y="428"/>
                  </a:lnTo>
                  <a:lnTo>
                    <a:pt x="2105" y="299"/>
                  </a:lnTo>
                  <a:lnTo>
                    <a:pt x="2109" y="429"/>
                  </a:lnTo>
                  <a:lnTo>
                    <a:pt x="2111" y="445"/>
                  </a:lnTo>
                  <a:lnTo>
                    <a:pt x="2113" y="369"/>
                  </a:lnTo>
                  <a:lnTo>
                    <a:pt x="2116" y="389"/>
                  </a:lnTo>
                  <a:lnTo>
                    <a:pt x="2119" y="448"/>
                  </a:lnTo>
                  <a:lnTo>
                    <a:pt x="2121" y="579"/>
                  </a:lnTo>
                  <a:lnTo>
                    <a:pt x="2124" y="438"/>
                  </a:lnTo>
                  <a:lnTo>
                    <a:pt x="2126" y="542"/>
                  </a:lnTo>
                  <a:lnTo>
                    <a:pt x="2130" y="600"/>
                  </a:lnTo>
                  <a:lnTo>
                    <a:pt x="2132" y="478"/>
                  </a:lnTo>
                  <a:lnTo>
                    <a:pt x="2134" y="419"/>
                  </a:lnTo>
                  <a:lnTo>
                    <a:pt x="2138" y="460"/>
                  </a:lnTo>
                  <a:lnTo>
                    <a:pt x="2140" y="438"/>
                  </a:lnTo>
                  <a:lnTo>
                    <a:pt x="2142" y="489"/>
                  </a:lnTo>
                  <a:lnTo>
                    <a:pt x="2145" y="518"/>
                  </a:lnTo>
                  <a:lnTo>
                    <a:pt x="2148" y="402"/>
                  </a:lnTo>
                  <a:lnTo>
                    <a:pt x="2151" y="513"/>
                  </a:lnTo>
                  <a:lnTo>
                    <a:pt x="2153" y="450"/>
                  </a:lnTo>
                  <a:lnTo>
                    <a:pt x="2155" y="483"/>
                  </a:lnTo>
                  <a:lnTo>
                    <a:pt x="2159" y="325"/>
                  </a:lnTo>
                  <a:lnTo>
                    <a:pt x="2161" y="468"/>
                  </a:lnTo>
                  <a:lnTo>
                    <a:pt x="2164" y="515"/>
                  </a:lnTo>
                  <a:lnTo>
                    <a:pt x="2167" y="482"/>
                  </a:lnTo>
                  <a:lnTo>
                    <a:pt x="2169" y="351"/>
                  </a:lnTo>
                  <a:lnTo>
                    <a:pt x="2172" y="403"/>
                  </a:lnTo>
                  <a:lnTo>
                    <a:pt x="2174" y="560"/>
                  </a:lnTo>
                  <a:lnTo>
                    <a:pt x="2177" y="506"/>
                  </a:lnTo>
                  <a:lnTo>
                    <a:pt x="2180" y="442"/>
                  </a:lnTo>
                  <a:lnTo>
                    <a:pt x="2182" y="544"/>
                  </a:lnTo>
                  <a:lnTo>
                    <a:pt x="2185" y="442"/>
                  </a:lnTo>
                  <a:lnTo>
                    <a:pt x="2188" y="457"/>
                  </a:lnTo>
                  <a:lnTo>
                    <a:pt x="2190" y="395"/>
                  </a:lnTo>
                  <a:lnTo>
                    <a:pt x="2193" y="463"/>
                  </a:lnTo>
                  <a:lnTo>
                    <a:pt x="2196" y="464"/>
                  </a:lnTo>
                  <a:lnTo>
                    <a:pt x="2199" y="459"/>
                  </a:lnTo>
                  <a:lnTo>
                    <a:pt x="2201" y="564"/>
                  </a:lnTo>
                  <a:lnTo>
                    <a:pt x="2203" y="399"/>
                  </a:lnTo>
                  <a:lnTo>
                    <a:pt x="2207" y="493"/>
                  </a:lnTo>
                  <a:lnTo>
                    <a:pt x="2209" y="411"/>
                  </a:lnTo>
                  <a:lnTo>
                    <a:pt x="2211" y="518"/>
                  </a:lnTo>
                  <a:lnTo>
                    <a:pt x="2214" y="447"/>
                  </a:lnTo>
                  <a:lnTo>
                    <a:pt x="2217" y="553"/>
                  </a:lnTo>
                  <a:lnTo>
                    <a:pt x="2220" y="363"/>
                  </a:lnTo>
                  <a:lnTo>
                    <a:pt x="2222" y="498"/>
                  </a:lnTo>
                  <a:lnTo>
                    <a:pt x="2224" y="466"/>
                  </a:lnTo>
                  <a:lnTo>
                    <a:pt x="2228" y="393"/>
                  </a:lnTo>
                  <a:lnTo>
                    <a:pt x="2230" y="442"/>
                  </a:lnTo>
                  <a:lnTo>
                    <a:pt x="2233" y="368"/>
                  </a:lnTo>
                  <a:lnTo>
                    <a:pt x="2236" y="514"/>
                  </a:lnTo>
                  <a:lnTo>
                    <a:pt x="2238" y="535"/>
                  </a:lnTo>
                  <a:lnTo>
                    <a:pt x="2241" y="489"/>
                  </a:lnTo>
                  <a:lnTo>
                    <a:pt x="2243" y="446"/>
                  </a:lnTo>
                  <a:lnTo>
                    <a:pt x="2246" y="368"/>
                  </a:lnTo>
                  <a:lnTo>
                    <a:pt x="2249" y="587"/>
                  </a:lnTo>
                  <a:lnTo>
                    <a:pt x="2251" y="471"/>
                  </a:lnTo>
                  <a:lnTo>
                    <a:pt x="2255" y="415"/>
                  </a:lnTo>
                  <a:lnTo>
                    <a:pt x="2257" y="413"/>
                  </a:lnTo>
                  <a:lnTo>
                    <a:pt x="2259" y="420"/>
                  </a:lnTo>
                  <a:lnTo>
                    <a:pt x="2262" y="383"/>
                  </a:lnTo>
                  <a:lnTo>
                    <a:pt x="2265" y="428"/>
                  </a:lnTo>
                  <a:lnTo>
                    <a:pt x="2267" y="540"/>
                  </a:lnTo>
                  <a:lnTo>
                    <a:pt x="2270" y="494"/>
                  </a:lnTo>
                  <a:lnTo>
                    <a:pt x="2272" y="466"/>
                  </a:lnTo>
                  <a:lnTo>
                    <a:pt x="2276" y="410"/>
                  </a:lnTo>
                  <a:lnTo>
                    <a:pt x="2278" y="498"/>
                  </a:lnTo>
                  <a:lnTo>
                    <a:pt x="2280" y="583"/>
                  </a:lnTo>
                  <a:lnTo>
                    <a:pt x="2284" y="516"/>
                  </a:lnTo>
                  <a:lnTo>
                    <a:pt x="2286" y="483"/>
                  </a:lnTo>
                  <a:lnTo>
                    <a:pt x="2289" y="488"/>
                  </a:lnTo>
                  <a:lnTo>
                    <a:pt x="2291" y="458"/>
                  </a:lnTo>
                  <a:lnTo>
                    <a:pt x="2294" y="426"/>
                  </a:lnTo>
                  <a:lnTo>
                    <a:pt x="2297" y="468"/>
                  </a:lnTo>
                  <a:lnTo>
                    <a:pt x="2299" y="503"/>
                  </a:lnTo>
                  <a:lnTo>
                    <a:pt x="2301" y="524"/>
                  </a:lnTo>
                  <a:lnTo>
                    <a:pt x="2305" y="427"/>
                  </a:lnTo>
                  <a:lnTo>
                    <a:pt x="2307" y="497"/>
                  </a:lnTo>
                  <a:lnTo>
                    <a:pt x="2310" y="431"/>
                  </a:lnTo>
                  <a:lnTo>
                    <a:pt x="2313" y="484"/>
                  </a:lnTo>
                  <a:lnTo>
                    <a:pt x="2315" y="478"/>
                  </a:lnTo>
                  <a:lnTo>
                    <a:pt x="2318" y="449"/>
                  </a:lnTo>
                  <a:lnTo>
                    <a:pt x="2320" y="432"/>
                  </a:lnTo>
                  <a:lnTo>
                    <a:pt x="2324" y="461"/>
                  </a:lnTo>
                  <a:lnTo>
                    <a:pt x="2326" y="405"/>
                  </a:lnTo>
                  <a:lnTo>
                    <a:pt x="2328" y="527"/>
                  </a:lnTo>
                  <a:lnTo>
                    <a:pt x="2332" y="506"/>
                  </a:lnTo>
                  <a:lnTo>
                    <a:pt x="2334" y="432"/>
                  </a:lnTo>
                  <a:lnTo>
                    <a:pt x="2336" y="482"/>
                  </a:lnTo>
                  <a:lnTo>
                    <a:pt x="2339" y="476"/>
                  </a:lnTo>
                  <a:lnTo>
                    <a:pt x="2342" y="503"/>
                  </a:lnTo>
                  <a:lnTo>
                    <a:pt x="2345" y="465"/>
                  </a:lnTo>
                  <a:lnTo>
                    <a:pt x="2347" y="413"/>
                  </a:lnTo>
                  <a:lnTo>
                    <a:pt x="2349" y="528"/>
                  </a:lnTo>
                  <a:lnTo>
                    <a:pt x="2353" y="451"/>
                  </a:lnTo>
                  <a:lnTo>
                    <a:pt x="2355" y="448"/>
                  </a:lnTo>
                  <a:lnTo>
                    <a:pt x="2358" y="484"/>
                  </a:lnTo>
                  <a:lnTo>
                    <a:pt x="2360" y="451"/>
                  </a:lnTo>
                  <a:lnTo>
                    <a:pt x="2363" y="457"/>
                  </a:lnTo>
                  <a:lnTo>
                    <a:pt x="2366" y="476"/>
                  </a:lnTo>
                  <a:lnTo>
                    <a:pt x="2368" y="502"/>
                  </a:lnTo>
                  <a:lnTo>
                    <a:pt x="2371" y="391"/>
                  </a:lnTo>
                  <a:lnTo>
                    <a:pt x="2374" y="497"/>
                  </a:lnTo>
                  <a:lnTo>
                    <a:pt x="2376" y="476"/>
                  </a:lnTo>
                  <a:lnTo>
                    <a:pt x="2379" y="498"/>
                  </a:lnTo>
                  <a:lnTo>
                    <a:pt x="2382" y="450"/>
                  </a:lnTo>
                  <a:lnTo>
                    <a:pt x="2384" y="502"/>
                  </a:lnTo>
                  <a:lnTo>
                    <a:pt x="2387" y="465"/>
                  </a:lnTo>
                  <a:lnTo>
                    <a:pt x="2389" y="463"/>
                  </a:lnTo>
                  <a:lnTo>
                    <a:pt x="2392" y="454"/>
                  </a:lnTo>
                  <a:lnTo>
                    <a:pt x="2395" y="427"/>
                  </a:lnTo>
                  <a:lnTo>
                    <a:pt x="2397" y="420"/>
                  </a:lnTo>
                  <a:lnTo>
                    <a:pt x="2401" y="503"/>
                  </a:lnTo>
                  <a:lnTo>
                    <a:pt x="2403" y="464"/>
                  </a:lnTo>
                  <a:lnTo>
                    <a:pt x="2405" y="434"/>
                  </a:lnTo>
                  <a:lnTo>
                    <a:pt x="2408" y="428"/>
                  </a:lnTo>
                  <a:lnTo>
                    <a:pt x="2411" y="487"/>
                  </a:lnTo>
                  <a:lnTo>
                    <a:pt x="2414" y="460"/>
                  </a:lnTo>
                  <a:lnTo>
                    <a:pt x="2416" y="471"/>
                  </a:lnTo>
                  <a:lnTo>
                    <a:pt x="2418" y="496"/>
                  </a:lnTo>
                  <a:lnTo>
                    <a:pt x="2422" y="463"/>
                  </a:lnTo>
                  <a:lnTo>
                    <a:pt x="2424" y="495"/>
                  </a:lnTo>
                  <a:lnTo>
                    <a:pt x="2426" y="436"/>
                  </a:lnTo>
                  <a:lnTo>
                    <a:pt x="2430" y="471"/>
                  </a:lnTo>
                  <a:lnTo>
                    <a:pt x="2432" y="455"/>
                  </a:lnTo>
                  <a:lnTo>
                    <a:pt x="2435" y="474"/>
                  </a:lnTo>
                  <a:lnTo>
                    <a:pt x="2437" y="450"/>
                  </a:lnTo>
                  <a:lnTo>
                    <a:pt x="2440" y="459"/>
                  </a:lnTo>
                  <a:lnTo>
                    <a:pt x="2443" y="467"/>
                  </a:lnTo>
                  <a:lnTo>
                    <a:pt x="2445" y="447"/>
                  </a:lnTo>
                  <a:lnTo>
                    <a:pt x="2449" y="475"/>
                  </a:lnTo>
                  <a:lnTo>
                    <a:pt x="2451" y="487"/>
                  </a:lnTo>
                  <a:lnTo>
                    <a:pt x="2453" y="474"/>
                  </a:lnTo>
                  <a:lnTo>
                    <a:pt x="2456" y="487"/>
                  </a:lnTo>
                  <a:lnTo>
                    <a:pt x="2459" y="466"/>
                  </a:lnTo>
                  <a:lnTo>
                    <a:pt x="2461" y="460"/>
                  </a:lnTo>
                  <a:lnTo>
                    <a:pt x="2464" y="460"/>
                  </a:lnTo>
                  <a:lnTo>
                    <a:pt x="2466" y="434"/>
                  </a:lnTo>
                  <a:lnTo>
                    <a:pt x="2470" y="471"/>
                  </a:lnTo>
                  <a:lnTo>
                    <a:pt x="2472" y="466"/>
                  </a:lnTo>
                  <a:lnTo>
                    <a:pt x="2474" y="439"/>
                  </a:lnTo>
                  <a:lnTo>
                    <a:pt x="2478" y="479"/>
                  </a:lnTo>
                  <a:lnTo>
                    <a:pt x="2480" y="464"/>
                  </a:lnTo>
                  <a:lnTo>
                    <a:pt x="2482" y="458"/>
                  </a:lnTo>
                  <a:lnTo>
                    <a:pt x="2485" y="469"/>
                  </a:lnTo>
                  <a:lnTo>
                    <a:pt x="2488" y="474"/>
                  </a:lnTo>
                  <a:lnTo>
                    <a:pt x="2491" y="465"/>
                  </a:lnTo>
                  <a:lnTo>
                    <a:pt x="2493" y="446"/>
                  </a:lnTo>
                  <a:lnTo>
                    <a:pt x="2495" y="464"/>
                  </a:lnTo>
                  <a:lnTo>
                    <a:pt x="2499" y="441"/>
                  </a:lnTo>
                  <a:lnTo>
                    <a:pt x="2501" y="470"/>
                  </a:lnTo>
                  <a:lnTo>
                    <a:pt x="2504" y="464"/>
                  </a:lnTo>
                  <a:lnTo>
                    <a:pt x="2507" y="468"/>
                  </a:lnTo>
                  <a:lnTo>
                    <a:pt x="2509" y="455"/>
                  </a:lnTo>
                  <a:lnTo>
                    <a:pt x="2512" y="441"/>
                  </a:lnTo>
                  <a:lnTo>
                    <a:pt x="2514" y="470"/>
                  </a:lnTo>
                  <a:lnTo>
                    <a:pt x="2517" y="473"/>
                  </a:lnTo>
                  <a:lnTo>
                    <a:pt x="2520" y="463"/>
                  </a:lnTo>
                  <a:lnTo>
                    <a:pt x="2522" y="469"/>
                  </a:lnTo>
                  <a:lnTo>
                    <a:pt x="2525" y="466"/>
                  </a:lnTo>
                  <a:lnTo>
                    <a:pt x="2528" y="465"/>
                  </a:lnTo>
                  <a:lnTo>
                    <a:pt x="2530" y="468"/>
                  </a:lnTo>
                  <a:lnTo>
                    <a:pt x="2533" y="461"/>
                  </a:lnTo>
                  <a:lnTo>
                    <a:pt x="2535" y="468"/>
                  </a:lnTo>
                  <a:lnTo>
                    <a:pt x="2539" y="476"/>
                  </a:lnTo>
                  <a:lnTo>
                    <a:pt x="2541" y="464"/>
                  </a:lnTo>
                  <a:lnTo>
                    <a:pt x="2543" y="465"/>
                  </a:lnTo>
                  <a:lnTo>
                    <a:pt x="2547" y="453"/>
                  </a:lnTo>
                  <a:lnTo>
                    <a:pt x="2549" y="464"/>
                  </a:lnTo>
                  <a:lnTo>
                    <a:pt x="2551" y="465"/>
                  </a:lnTo>
                  <a:lnTo>
                    <a:pt x="2554" y="473"/>
                  </a:lnTo>
                  <a:lnTo>
                    <a:pt x="2557" y="465"/>
                  </a:lnTo>
                  <a:lnTo>
                    <a:pt x="2560" y="456"/>
                  </a:lnTo>
                  <a:lnTo>
                    <a:pt x="2562" y="461"/>
                  </a:lnTo>
                  <a:lnTo>
                    <a:pt x="2564" y="468"/>
                  </a:lnTo>
                  <a:lnTo>
                    <a:pt x="2568" y="475"/>
                  </a:lnTo>
                  <a:lnTo>
                    <a:pt x="2570" y="474"/>
                  </a:lnTo>
                  <a:lnTo>
                    <a:pt x="2573" y="457"/>
                  </a:lnTo>
                  <a:lnTo>
                    <a:pt x="2576" y="460"/>
                  </a:lnTo>
                  <a:lnTo>
                    <a:pt x="2578" y="467"/>
                  </a:lnTo>
                  <a:lnTo>
                    <a:pt x="2581" y="464"/>
                  </a:lnTo>
                  <a:lnTo>
                    <a:pt x="2583" y="463"/>
                  </a:lnTo>
                  <a:lnTo>
                    <a:pt x="2586" y="464"/>
                  </a:lnTo>
                  <a:lnTo>
                    <a:pt x="2589" y="465"/>
                  </a:lnTo>
                  <a:lnTo>
                    <a:pt x="2591" y="465"/>
                  </a:lnTo>
                  <a:lnTo>
                    <a:pt x="2595" y="465"/>
                  </a:lnTo>
                  <a:lnTo>
                    <a:pt x="2597" y="460"/>
                  </a:lnTo>
                  <a:lnTo>
                    <a:pt x="2599" y="461"/>
                  </a:lnTo>
                  <a:lnTo>
                    <a:pt x="2602" y="463"/>
                  </a:lnTo>
                  <a:lnTo>
                    <a:pt x="2605" y="464"/>
                  </a:lnTo>
                  <a:lnTo>
                    <a:pt x="2607" y="463"/>
                  </a:lnTo>
                  <a:lnTo>
                    <a:pt x="2610" y="458"/>
                  </a:lnTo>
                  <a:lnTo>
                    <a:pt x="2612" y="461"/>
                  </a:lnTo>
                  <a:lnTo>
                    <a:pt x="2616" y="465"/>
                  </a:lnTo>
                  <a:lnTo>
                    <a:pt x="2618" y="460"/>
                  </a:lnTo>
                  <a:lnTo>
                    <a:pt x="2620" y="460"/>
                  </a:lnTo>
                  <a:lnTo>
                    <a:pt x="2624" y="465"/>
                  </a:lnTo>
                  <a:lnTo>
                    <a:pt x="2626" y="464"/>
                  </a:lnTo>
                  <a:lnTo>
                    <a:pt x="2629" y="463"/>
                  </a:lnTo>
                  <a:lnTo>
                    <a:pt x="2631" y="461"/>
                  </a:lnTo>
                  <a:lnTo>
                    <a:pt x="2634" y="465"/>
                  </a:lnTo>
                  <a:lnTo>
                    <a:pt x="2637" y="465"/>
                  </a:lnTo>
                  <a:lnTo>
                    <a:pt x="2639" y="464"/>
                  </a:lnTo>
                  <a:lnTo>
                    <a:pt x="2641" y="464"/>
                  </a:lnTo>
                  <a:lnTo>
                    <a:pt x="2645" y="466"/>
                  </a:lnTo>
                  <a:lnTo>
                    <a:pt x="2647" y="466"/>
                  </a:lnTo>
                  <a:lnTo>
                    <a:pt x="2650" y="465"/>
                  </a:lnTo>
                  <a:lnTo>
                    <a:pt x="2653" y="463"/>
                  </a:lnTo>
                  <a:lnTo>
                    <a:pt x="2655" y="464"/>
                  </a:lnTo>
                  <a:lnTo>
                    <a:pt x="2658" y="465"/>
                  </a:lnTo>
                  <a:lnTo>
                    <a:pt x="2660" y="465"/>
                  </a:lnTo>
                  <a:lnTo>
                    <a:pt x="2664" y="464"/>
                  </a:lnTo>
                  <a:lnTo>
                    <a:pt x="2666" y="464"/>
                  </a:lnTo>
                  <a:lnTo>
                    <a:pt x="2668" y="464"/>
                  </a:lnTo>
                  <a:lnTo>
                    <a:pt x="2671" y="464"/>
                  </a:lnTo>
                  <a:lnTo>
                    <a:pt x="2674" y="464"/>
                  </a:lnTo>
                  <a:lnTo>
                    <a:pt x="2676" y="464"/>
                  </a:lnTo>
                  <a:lnTo>
                    <a:pt x="2679" y="464"/>
                  </a:lnTo>
                  <a:lnTo>
                    <a:pt x="2682" y="464"/>
                  </a:lnTo>
                  <a:lnTo>
                    <a:pt x="2685" y="464"/>
                  </a:lnTo>
                  <a:lnTo>
                    <a:pt x="2687" y="464"/>
                  </a:lnTo>
                  <a:lnTo>
                    <a:pt x="2689" y="464"/>
                  </a:lnTo>
                  <a:lnTo>
                    <a:pt x="2693" y="464"/>
                  </a:lnTo>
                  <a:lnTo>
                    <a:pt x="2695" y="464"/>
                  </a:lnTo>
                  <a:lnTo>
                    <a:pt x="2698" y="464"/>
                  </a:lnTo>
                  <a:lnTo>
                    <a:pt x="2700" y="464"/>
                  </a:lnTo>
                  <a:lnTo>
                    <a:pt x="2703" y="464"/>
                  </a:lnTo>
                  <a:lnTo>
                    <a:pt x="2706" y="464"/>
                  </a:lnTo>
                  <a:lnTo>
                    <a:pt x="2708" y="464"/>
                  </a:lnTo>
                  <a:lnTo>
                    <a:pt x="2710" y="464"/>
                  </a:lnTo>
                  <a:lnTo>
                    <a:pt x="2714" y="464"/>
                  </a:lnTo>
                  <a:lnTo>
                    <a:pt x="2716" y="46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05040" y="4073400"/>
              <a:ext cx="3187440" cy="1389240"/>
            </a:xfrm>
            <a:custGeom>
              <a:avLst/>
              <a:gdLst/>
              <a:ahLst/>
              <a:rect l="l" t="t" r="r" b="b"/>
              <a:pathLst>
                <a:path w="3186" h="1138">
                  <a:moveTo>
                    <a:pt x="0" y="11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8"/>
                  </a:lnTo>
                  <a:lnTo>
                    <a:pt x="3186" y="1138"/>
                  </a:lnTo>
                  <a:lnTo>
                    <a:pt x="0" y="1138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905040" y="4073400"/>
              <a:ext cx="31874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56280" y="2119320"/>
              <a:ext cx="360" cy="1386000"/>
            </a:xfrm>
            <a:custGeom>
              <a:avLst/>
              <a:gdLst/>
              <a:ahLst/>
              <a:rect l="l" t="t" r="r" b="b"/>
              <a:pathLst>
                <a:path w="0" h="1136">
                  <a:moveTo>
                    <a:pt x="0" y="0"/>
                  </a:moveTo>
                  <a:lnTo>
                    <a:pt x="0" y="0"/>
                  </a:lnTo>
                  <a:lnTo>
                    <a:pt x="0" y="1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56280" y="4073400"/>
              <a:ext cx="1440" cy="13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0120" y="362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17600" y="2655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41640" y="33480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17600" y="1960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72040" y="35053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072040" y="281304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072040" y="21193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5114520" y="35053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14520" y="315900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114520" y="281304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5114520" y="246528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114520" y="21193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56280" y="2119320"/>
              <a:ext cx="0" cy="13860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6280" y="2119320"/>
              <a:ext cx="3176640" cy="1386000"/>
            </a:xfrm>
            <a:custGeom>
              <a:avLst/>
              <a:gdLst/>
              <a:ahLst/>
              <a:rect l="l" t="t" r="r" b="b"/>
              <a:pathLst>
                <a:path w="2717" h="1136">
                  <a:moveTo>
                    <a:pt x="0" y="569"/>
                  </a:moveTo>
                  <a:lnTo>
                    <a:pt x="2" y="526"/>
                  </a:lnTo>
                  <a:lnTo>
                    <a:pt x="5" y="485"/>
                  </a:lnTo>
                  <a:lnTo>
                    <a:pt x="7" y="445"/>
                  </a:lnTo>
                  <a:lnTo>
                    <a:pt x="11" y="405"/>
                  </a:lnTo>
                  <a:lnTo>
                    <a:pt x="13" y="366"/>
                  </a:lnTo>
                  <a:lnTo>
                    <a:pt x="15" y="327"/>
                  </a:lnTo>
                  <a:lnTo>
                    <a:pt x="19" y="290"/>
                  </a:lnTo>
                  <a:lnTo>
                    <a:pt x="21" y="255"/>
                  </a:lnTo>
                  <a:lnTo>
                    <a:pt x="24" y="221"/>
                  </a:lnTo>
                  <a:lnTo>
                    <a:pt x="26" y="189"/>
                  </a:lnTo>
                  <a:lnTo>
                    <a:pt x="29" y="159"/>
                  </a:lnTo>
                  <a:lnTo>
                    <a:pt x="32" y="131"/>
                  </a:lnTo>
                  <a:lnTo>
                    <a:pt x="34" y="106"/>
                  </a:lnTo>
                  <a:lnTo>
                    <a:pt x="36" y="83"/>
                  </a:lnTo>
                  <a:lnTo>
                    <a:pt x="40" y="63"/>
                  </a:lnTo>
                  <a:lnTo>
                    <a:pt x="42" y="46"/>
                  </a:lnTo>
                  <a:lnTo>
                    <a:pt x="45" y="30"/>
                  </a:lnTo>
                  <a:lnTo>
                    <a:pt x="48" y="19"/>
                  </a:lnTo>
                  <a:lnTo>
                    <a:pt x="50" y="9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3"/>
                  </a:lnTo>
                  <a:lnTo>
                    <a:pt x="63" y="9"/>
                  </a:lnTo>
                  <a:lnTo>
                    <a:pt x="67" y="18"/>
                  </a:lnTo>
                  <a:lnTo>
                    <a:pt x="69" y="30"/>
                  </a:lnTo>
                  <a:lnTo>
                    <a:pt x="71" y="44"/>
                  </a:lnTo>
                  <a:lnTo>
                    <a:pt x="74" y="61"/>
                  </a:lnTo>
                  <a:lnTo>
                    <a:pt x="77" y="81"/>
                  </a:lnTo>
                  <a:lnTo>
                    <a:pt x="80" y="105"/>
                  </a:lnTo>
                  <a:lnTo>
                    <a:pt x="82" y="130"/>
                  </a:lnTo>
                  <a:lnTo>
                    <a:pt x="84" y="157"/>
                  </a:lnTo>
                  <a:lnTo>
                    <a:pt x="88" y="187"/>
                  </a:lnTo>
                  <a:lnTo>
                    <a:pt x="90" y="218"/>
                  </a:lnTo>
                  <a:lnTo>
                    <a:pt x="92" y="253"/>
                  </a:lnTo>
                  <a:lnTo>
                    <a:pt x="96" y="288"/>
                  </a:lnTo>
                  <a:lnTo>
                    <a:pt x="98" y="324"/>
                  </a:lnTo>
                  <a:lnTo>
                    <a:pt x="101" y="362"/>
                  </a:lnTo>
                  <a:lnTo>
                    <a:pt x="103" y="402"/>
                  </a:lnTo>
                  <a:lnTo>
                    <a:pt x="106" y="442"/>
                  </a:lnTo>
                  <a:lnTo>
                    <a:pt x="109" y="483"/>
                  </a:lnTo>
                  <a:lnTo>
                    <a:pt x="111" y="524"/>
                  </a:lnTo>
                  <a:lnTo>
                    <a:pt x="114" y="565"/>
                  </a:lnTo>
                  <a:lnTo>
                    <a:pt x="117" y="607"/>
                  </a:lnTo>
                  <a:lnTo>
                    <a:pt x="119" y="648"/>
                  </a:lnTo>
                  <a:lnTo>
                    <a:pt x="122" y="689"/>
                  </a:lnTo>
                  <a:lnTo>
                    <a:pt x="125" y="729"/>
                  </a:lnTo>
                  <a:lnTo>
                    <a:pt x="127" y="768"/>
                  </a:lnTo>
                  <a:lnTo>
                    <a:pt x="130" y="806"/>
                  </a:lnTo>
                  <a:lnTo>
                    <a:pt x="132" y="844"/>
                  </a:lnTo>
                  <a:lnTo>
                    <a:pt x="136" y="879"/>
                  </a:lnTo>
                  <a:lnTo>
                    <a:pt x="138" y="913"/>
                  </a:lnTo>
                  <a:lnTo>
                    <a:pt x="140" y="946"/>
                  </a:lnTo>
                  <a:lnTo>
                    <a:pt x="143" y="975"/>
                  </a:lnTo>
                  <a:lnTo>
                    <a:pt x="146" y="1003"/>
                  </a:lnTo>
                  <a:lnTo>
                    <a:pt x="149" y="1028"/>
                  </a:lnTo>
                  <a:lnTo>
                    <a:pt x="151" y="1052"/>
                  </a:lnTo>
                  <a:lnTo>
                    <a:pt x="154" y="1072"/>
                  </a:lnTo>
                  <a:lnTo>
                    <a:pt x="157" y="1090"/>
                  </a:lnTo>
                  <a:lnTo>
                    <a:pt x="159" y="1105"/>
                  </a:lnTo>
                  <a:lnTo>
                    <a:pt x="161" y="1118"/>
                  </a:lnTo>
                  <a:lnTo>
                    <a:pt x="165" y="1126"/>
                  </a:lnTo>
                  <a:lnTo>
                    <a:pt x="167" y="1133"/>
                  </a:lnTo>
                  <a:lnTo>
                    <a:pt x="170" y="1136"/>
                  </a:lnTo>
                  <a:lnTo>
                    <a:pt x="172" y="1136"/>
                  </a:lnTo>
                  <a:lnTo>
                    <a:pt x="175" y="1134"/>
                  </a:lnTo>
                  <a:lnTo>
                    <a:pt x="178" y="1129"/>
                  </a:lnTo>
                  <a:lnTo>
                    <a:pt x="180" y="1120"/>
                  </a:lnTo>
                  <a:lnTo>
                    <a:pt x="182" y="1107"/>
                  </a:lnTo>
                  <a:lnTo>
                    <a:pt x="186" y="1093"/>
                  </a:lnTo>
                  <a:lnTo>
                    <a:pt x="188" y="1076"/>
                  </a:lnTo>
                  <a:lnTo>
                    <a:pt x="191" y="1056"/>
                  </a:lnTo>
                  <a:lnTo>
                    <a:pt x="194" y="1034"/>
                  </a:lnTo>
                  <a:lnTo>
                    <a:pt x="196" y="1008"/>
                  </a:lnTo>
                  <a:lnTo>
                    <a:pt x="199" y="981"/>
                  </a:lnTo>
                  <a:lnTo>
                    <a:pt x="201" y="951"/>
                  </a:lnTo>
                  <a:lnTo>
                    <a:pt x="205" y="920"/>
                  </a:lnTo>
                  <a:lnTo>
                    <a:pt x="207" y="887"/>
                  </a:lnTo>
                  <a:lnTo>
                    <a:pt x="209" y="851"/>
                  </a:lnTo>
                  <a:lnTo>
                    <a:pt x="213" y="814"/>
                  </a:lnTo>
                  <a:lnTo>
                    <a:pt x="215" y="776"/>
                  </a:lnTo>
                  <a:lnTo>
                    <a:pt x="217" y="737"/>
                  </a:lnTo>
                  <a:lnTo>
                    <a:pt x="220" y="697"/>
                  </a:lnTo>
                  <a:lnTo>
                    <a:pt x="223" y="657"/>
                  </a:lnTo>
                  <a:lnTo>
                    <a:pt x="226" y="616"/>
                  </a:lnTo>
                  <a:lnTo>
                    <a:pt x="228" y="574"/>
                  </a:lnTo>
                  <a:lnTo>
                    <a:pt x="230" y="532"/>
                  </a:lnTo>
                  <a:lnTo>
                    <a:pt x="234" y="491"/>
                  </a:lnTo>
                  <a:lnTo>
                    <a:pt x="236" y="450"/>
                  </a:lnTo>
                  <a:lnTo>
                    <a:pt x="239" y="410"/>
                  </a:lnTo>
                  <a:lnTo>
                    <a:pt x="242" y="370"/>
                  </a:lnTo>
                  <a:lnTo>
                    <a:pt x="244" y="332"/>
                  </a:lnTo>
                  <a:lnTo>
                    <a:pt x="247" y="295"/>
                  </a:lnTo>
                  <a:lnTo>
                    <a:pt x="249" y="260"/>
                  </a:lnTo>
                  <a:lnTo>
                    <a:pt x="252" y="225"/>
                  </a:lnTo>
                  <a:lnTo>
                    <a:pt x="255" y="193"/>
                  </a:lnTo>
                  <a:lnTo>
                    <a:pt x="257" y="163"/>
                  </a:lnTo>
                  <a:lnTo>
                    <a:pt x="261" y="135"/>
                  </a:lnTo>
                  <a:lnTo>
                    <a:pt x="263" y="109"/>
                  </a:lnTo>
                  <a:lnTo>
                    <a:pt x="265" y="86"/>
                  </a:lnTo>
                  <a:lnTo>
                    <a:pt x="268" y="66"/>
                  </a:lnTo>
                  <a:lnTo>
                    <a:pt x="271" y="48"/>
                  </a:lnTo>
                  <a:lnTo>
                    <a:pt x="273" y="32"/>
                  </a:lnTo>
                  <a:lnTo>
                    <a:pt x="276" y="20"/>
                  </a:lnTo>
                  <a:lnTo>
                    <a:pt x="278" y="10"/>
                  </a:lnTo>
                  <a:lnTo>
                    <a:pt x="282" y="3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2" y="8"/>
                  </a:lnTo>
                  <a:lnTo>
                    <a:pt x="295" y="17"/>
                  </a:lnTo>
                  <a:lnTo>
                    <a:pt x="297" y="28"/>
                  </a:lnTo>
                  <a:lnTo>
                    <a:pt x="300" y="42"/>
                  </a:lnTo>
                  <a:lnTo>
                    <a:pt x="303" y="59"/>
                  </a:lnTo>
                  <a:lnTo>
                    <a:pt x="305" y="79"/>
                  </a:lnTo>
                  <a:lnTo>
                    <a:pt x="307" y="101"/>
                  </a:lnTo>
                  <a:lnTo>
                    <a:pt x="311" y="126"/>
                  </a:lnTo>
                  <a:lnTo>
                    <a:pt x="313" y="154"/>
                  </a:lnTo>
                  <a:lnTo>
                    <a:pt x="316" y="183"/>
                  </a:lnTo>
                  <a:lnTo>
                    <a:pt x="318" y="215"/>
                  </a:lnTo>
                  <a:lnTo>
                    <a:pt x="321" y="247"/>
                  </a:lnTo>
                  <a:lnTo>
                    <a:pt x="324" y="283"/>
                  </a:lnTo>
                  <a:lnTo>
                    <a:pt x="326" y="320"/>
                  </a:lnTo>
                  <a:lnTo>
                    <a:pt x="330" y="358"/>
                  </a:lnTo>
                  <a:lnTo>
                    <a:pt x="332" y="397"/>
                  </a:lnTo>
                  <a:lnTo>
                    <a:pt x="334" y="437"/>
                  </a:lnTo>
                  <a:lnTo>
                    <a:pt x="337" y="477"/>
                  </a:lnTo>
                  <a:lnTo>
                    <a:pt x="340" y="518"/>
                  </a:lnTo>
                  <a:lnTo>
                    <a:pt x="342" y="560"/>
                  </a:lnTo>
                  <a:lnTo>
                    <a:pt x="345" y="601"/>
                  </a:lnTo>
                  <a:lnTo>
                    <a:pt x="347" y="642"/>
                  </a:lnTo>
                  <a:lnTo>
                    <a:pt x="351" y="684"/>
                  </a:lnTo>
                  <a:lnTo>
                    <a:pt x="353" y="724"/>
                  </a:lnTo>
                  <a:lnTo>
                    <a:pt x="355" y="764"/>
                  </a:lnTo>
                  <a:lnTo>
                    <a:pt x="359" y="802"/>
                  </a:lnTo>
                  <a:lnTo>
                    <a:pt x="361" y="839"/>
                  </a:lnTo>
                  <a:lnTo>
                    <a:pt x="364" y="874"/>
                  </a:lnTo>
                  <a:lnTo>
                    <a:pt x="366" y="909"/>
                  </a:lnTo>
                  <a:lnTo>
                    <a:pt x="369" y="941"/>
                  </a:lnTo>
                  <a:lnTo>
                    <a:pt x="372" y="971"/>
                  </a:lnTo>
                  <a:lnTo>
                    <a:pt x="374" y="999"/>
                  </a:lnTo>
                  <a:lnTo>
                    <a:pt x="376" y="1025"/>
                  </a:lnTo>
                  <a:lnTo>
                    <a:pt x="380" y="1048"/>
                  </a:lnTo>
                  <a:lnTo>
                    <a:pt x="382" y="1070"/>
                  </a:lnTo>
                  <a:lnTo>
                    <a:pt x="385" y="1089"/>
                  </a:lnTo>
                  <a:lnTo>
                    <a:pt x="388" y="1103"/>
                  </a:lnTo>
                  <a:lnTo>
                    <a:pt x="390" y="1116"/>
                  </a:lnTo>
                  <a:lnTo>
                    <a:pt x="393" y="1125"/>
                  </a:lnTo>
                  <a:lnTo>
                    <a:pt x="395" y="1132"/>
                  </a:lnTo>
                  <a:lnTo>
                    <a:pt x="398" y="1136"/>
                  </a:lnTo>
                  <a:lnTo>
                    <a:pt x="401" y="1136"/>
                  </a:lnTo>
                  <a:lnTo>
                    <a:pt x="403" y="1134"/>
                  </a:lnTo>
                  <a:lnTo>
                    <a:pt x="407" y="1129"/>
                  </a:lnTo>
                  <a:lnTo>
                    <a:pt x="409" y="1121"/>
                  </a:lnTo>
                  <a:lnTo>
                    <a:pt x="411" y="1110"/>
                  </a:lnTo>
                  <a:lnTo>
                    <a:pt x="414" y="1095"/>
                  </a:lnTo>
                  <a:lnTo>
                    <a:pt x="417" y="1078"/>
                  </a:lnTo>
                  <a:lnTo>
                    <a:pt x="420" y="1058"/>
                  </a:lnTo>
                  <a:lnTo>
                    <a:pt x="422" y="1036"/>
                  </a:lnTo>
                  <a:lnTo>
                    <a:pt x="424" y="1012"/>
                  </a:lnTo>
                  <a:lnTo>
                    <a:pt x="428" y="985"/>
                  </a:lnTo>
                  <a:lnTo>
                    <a:pt x="430" y="956"/>
                  </a:lnTo>
                  <a:lnTo>
                    <a:pt x="432" y="925"/>
                  </a:lnTo>
                  <a:lnTo>
                    <a:pt x="436" y="891"/>
                  </a:lnTo>
                  <a:lnTo>
                    <a:pt x="438" y="855"/>
                  </a:lnTo>
                  <a:lnTo>
                    <a:pt x="441" y="820"/>
                  </a:lnTo>
                  <a:lnTo>
                    <a:pt x="443" y="782"/>
                  </a:lnTo>
                  <a:lnTo>
                    <a:pt x="446" y="743"/>
                  </a:lnTo>
                  <a:lnTo>
                    <a:pt x="449" y="703"/>
                  </a:lnTo>
                  <a:lnTo>
                    <a:pt x="451" y="661"/>
                  </a:lnTo>
                  <a:lnTo>
                    <a:pt x="454" y="621"/>
                  </a:lnTo>
                  <a:lnTo>
                    <a:pt x="457" y="579"/>
                  </a:lnTo>
                  <a:lnTo>
                    <a:pt x="459" y="537"/>
                  </a:lnTo>
                  <a:lnTo>
                    <a:pt x="462" y="496"/>
                  </a:lnTo>
                  <a:lnTo>
                    <a:pt x="464" y="456"/>
                  </a:lnTo>
                  <a:lnTo>
                    <a:pt x="467" y="415"/>
                  </a:lnTo>
                  <a:lnTo>
                    <a:pt x="470" y="376"/>
                  </a:lnTo>
                  <a:lnTo>
                    <a:pt x="472" y="337"/>
                  </a:lnTo>
                  <a:lnTo>
                    <a:pt x="476" y="300"/>
                  </a:lnTo>
                  <a:lnTo>
                    <a:pt x="478" y="264"/>
                  </a:lnTo>
                  <a:lnTo>
                    <a:pt x="480" y="230"/>
                  </a:lnTo>
                  <a:lnTo>
                    <a:pt x="483" y="197"/>
                  </a:lnTo>
                  <a:lnTo>
                    <a:pt x="486" y="167"/>
                  </a:lnTo>
                  <a:lnTo>
                    <a:pt x="489" y="138"/>
                  </a:lnTo>
                  <a:lnTo>
                    <a:pt x="491" y="112"/>
                  </a:lnTo>
                  <a:lnTo>
                    <a:pt x="493" y="89"/>
                  </a:lnTo>
                  <a:lnTo>
                    <a:pt x="497" y="68"/>
                  </a:lnTo>
                  <a:lnTo>
                    <a:pt x="499" y="50"/>
                  </a:lnTo>
                  <a:lnTo>
                    <a:pt x="501" y="34"/>
                  </a:lnTo>
                  <a:lnTo>
                    <a:pt x="505" y="21"/>
                  </a:lnTo>
                  <a:lnTo>
                    <a:pt x="507" y="11"/>
                  </a:lnTo>
                  <a:lnTo>
                    <a:pt x="510" y="4"/>
                  </a:lnTo>
                  <a:lnTo>
                    <a:pt x="512" y="1"/>
                  </a:lnTo>
                  <a:lnTo>
                    <a:pt x="515" y="0"/>
                  </a:lnTo>
                  <a:lnTo>
                    <a:pt x="518" y="2"/>
                  </a:lnTo>
                  <a:lnTo>
                    <a:pt x="520" y="6"/>
                  </a:lnTo>
                  <a:lnTo>
                    <a:pt x="522" y="15"/>
                  </a:lnTo>
                  <a:lnTo>
                    <a:pt x="526" y="25"/>
                  </a:lnTo>
                  <a:lnTo>
                    <a:pt x="528" y="40"/>
                  </a:lnTo>
                  <a:lnTo>
                    <a:pt x="531" y="57"/>
                  </a:lnTo>
                  <a:lnTo>
                    <a:pt x="534" y="76"/>
                  </a:lnTo>
                  <a:lnTo>
                    <a:pt x="536" y="98"/>
                  </a:lnTo>
                  <a:lnTo>
                    <a:pt x="539" y="122"/>
                  </a:lnTo>
                  <a:lnTo>
                    <a:pt x="541" y="149"/>
                  </a:lnTo>
                  <a:lnTo>
                    <a:pt x="545" y="179"/>
                  </a:lnTo>
                  <a:lnTo>
                    <a:pt x="547" y="211"/>
                  </a:lnTo>
                  <a:lnTo>
                    <a:pt x="549" y="243"/>
                  </a:lnTo>
                  <a:lnTo>
                    <a:pt x="553" y="279"/>
                  </a:lnTo>
                  <a:lnTo>
                    <a:pt x="555" y="314"/>
                  </a:lnTo>
                  <a:lnTo>
                    <a:pt x="557" y="352"/>
                  </a:lnTo>
                  <a:lnTo>
                    <a:pt x="560" y="391"/>
                  </a:lnTo>
                  <a:lnTo>
                    <a:pt x="563" y="431"/>
                  </a:lnTo>
                  <a:lnTo>
                    <a:pt x="566" y="472"/>
                  </a:lnTo>
                  <a:lnTo>
                    <a:pt x="568" y="513"/>
                  </a:lnTo>
                  <a:lnTo>
                    <a:pt x="570" y="554"/>
                  </a:lnTo>
                  <a:lnTo>
                    <a:pt x="574" y="595"/>
                  </a:lnTo>
                  <a:lnTo>
                    <a:pt x="576" y="637"/>
                  </a:lnTo>
                  <a:lnTo>
                    <a:pt x="579" y="678"/>
                  </a:lnTo>
                  <a:lnTo>
                    <a:pt x="582" y="718"/>
                  </a:lnTo>
                  <a:lnTo>
                    <a:pt x="584" y="758"/>
                  </a:lnTo>
                  <a:lnTo>
                    <a:pt x="587" y="796"/>
                  </a:lnTo>
                  <a:lnTo>
                    <a:pt x="589" y="834"/>
                  </a:lnTo>
                  <a:lnTo>
                    <a:pt x="592" y="870"/>
                  </a:lnTo>
                  <a:lnTo>
                    <a:pt x="595" y="904"/>
                  </a:lnTo>
                  <a:lnTo>
                    <a:pt x="597" y="937"/>
                  </a:lnTo>
                  <a:lnTo>
                    <a:pt x="600" y="968"/>
                  </a:lnTo>
                  <a:lnTo>
                    <a:pt x="603" y="996"/>
                  </a:lnTo>
                  <a:lnTo>
                    <a:pt x="605" y="1022"/>
                  </a:lnTo>
                  <a:lnTo>
                    <a:pt x="608" y="1046"/>
                  </a:lnTo>
                  <a:lnTo>
                    <a:pt x="611" y="1067"/>
                  </a:lnTo>
                  <a:lnTo>
                    <a:pt x="613" y="1085"/>
                  </a:lnTo>
                  <a:lnTo>
                    <a:pt x="616" y="1102"/>
                  </a:lnTo>
                  <a:lnTo>
                    <a:pt x="618" y="1114"/>
                  </a:lnTo>
                  <a:lnTo>
                    <a:pt x="622" y="1124"/>
                  </a:lnTo>
                  <a:lnTo>
                    <a:pt x="624" y="1132"/>
                  </a:lnTo>
                  <a:lnTo>
                    <a:pt x="626" y="1135"/>
                  </a:lnTo>
                  <a:lnTo>
                    <a:pt x="629" y="1136"/>
                  </a:lnTo>
                  <a:lnTo>
                    <a:pt x="632" y="1135"/>
                  </a:lnTo>
                  <a:lnTo>
                    <a:pt x="635" y="1130"/>
                  </a:lnTo>
                  <a:lnTo>
                    <a:pt x="637" y="1122"/>
                  </a:lnTo>
                  <a:lnTo>
                    <a:pt x="639" y="1111"/>
                  </a:lnTo>
                  <a:lnTo>
                    <a:pt x="643" y="1097"/>
                  </a:lnTo>
                  <a:lnTo>
                    <a:pt x="645" y="1081"/>
                  </a:lnTo>
                  <a:lnTo>
                    <a:pt x="647" y="1062"/>
                  </a:lnTo>
                  <a:lnTo>
                    <a:pt x="651" y="1039"/>
                  </a:lnTo>
                  <a:lnTo>
                    <a:pt x="653" y="1015"/>
                  </a:lnTo>
                  <a:lnTo>
                    <a:pt x="656" y="988"/>
                  </a:lnTo>
                  <a:lnTo>
                    <a:pt x="658" y="959"/>
                  </a:lnTo>
                  <a:lnTo>
                    <a:pt x="661" y="928"/>
                  </a:lnTo>
                  <a:lnTo>
                    <a:pt x="664" y="896"/>
                  </a:lnTo>
                  <a:lnTo>
                    <a:pt x="666" y="861"/>
                  </a:lnTo>
                  <a:lnTo>
                    <a:pt x="670" y="824"/>
                  </a:lnTo>
                  <a:lnTo>
                    <a:pt x="672" y="786"/>
                  </a:lnTo>
                  <a:lnTo>
                    <a:pt x="674" y="747"/>
                  </a:lnTo>
                  <a:lnTo>
                    <a:pt x="677" y="708"/>
                  </a:lnTo>
                  <a:lnTo>
                    <a:pt x="680" y="667"/>
                  </a:lnTo>
                  <a:lnTo>
                    <a:pt x="682" y="626"/>
                  </a:lnTo>
                  <a:lnTo>
                    <a:pt x="685" y="584"/>
                  </a:lnTo>
                  <a:lnTo>
                    <a:pt x="687" y="543"/>
                  </a:lnTo>
                  <a:lnTo>
                    <a:pt x="691" y="502"/>
                  </a:lnTo>
                  <a:lnTo>
                    <a:pt x="693" y="460"/>
                  </a:lnTo>
                  <a:lnTo>
                    <a:pt x="695" y="420"/>
                  </a:lnTo>
                  <a:lnTo>
                    <a:pt x="699" y="381"/>
                  </a:lnTo>
                  <a:lnTo>
                    <a:pt x="701" y="342"/>
                  </a:lnTo>
                  <a:lnTo>
                    <a:pt x="704" y="304"/>
                  </a:lnTo>
                  <a:lnTo>
                    <a:pt x="706" y="269"/>
                  </a:lnTo>
                  <a:lnTo>
                    <a:pt x="709" y="234"/>
                  </a:lnTo>
                  <a:lnTo>
                    <a:pt x="712" y="202"/>
                  </a:lnTo>
                  <a:lnTo>
                    <a:pt x="714" y="170"/>
                  </a:lnTo>
                  <a:lnTo>
                    <a:pt x="716" y="143"/>
                  </a:lnTo>
                  <a:lnTo>
                    <a:pt x="720" y="116"/>
                  </a:lnTo>
                  <a:lnTo>
                    <a:pt x="722" y="92"/>
                  </a:lnTo>
                  <a:lnTo>
                    <a:pt x="725" y="70"/>
                  </a:lnTo>
                  <a:lnTo>
                    <a:pt x="728" y="52"/>
                  </a:lnTo>
                  <a:lnTo>
                    <a:pt x="730" y="35"/>
                  </a:lnTo>
                  <a:lnTo>
                    <a:pt x="733" y="23"/>
                  </a:lnTo>
                  <a:lnTo>
                    <a:pt x="735" y="12"/>
                  </a:lnTo>
                  <a:lnTo>
                    <a:pt x="738" y="5"/>
                  </a:lnTo>
                  <a:lnTo>
                    <a:pt x="741" y="1"/>
                  </a:lnTo>
                  <a:lnTo>
                    <a:pt x="743" y="0"/>
                  </a:lnTo>
                  <a:lnTo>
                    <a:pt x="746" y="1"/>
                  </a:lnTo>
                  <a:lnTo>
                    <a:pt x="749" y="5"/>
                  </a:lnTo>
                  <a:lnTo>
                    <a:pt x="751" y="13"/>
                  </a:lnTo>
                  <a:lnTo>
                    <a:pt x="754" y="24"/>
                  </a:lnTo>
                  <a:lnTo>
                    <a:pt x="757" y="38"/>
                  </a:lnTo>
                  <a:lnTo>
                    <a:pt x="760" y="54"/>
                  </a:lnTo>
                  <a:lnTo>
                    <a:pt x="762" y="73"/>
                  </a:lnTo>
                  <a:lnTo>
                    <a:pt x="764" y="95"/>
                  </a:lnTo>
                  <a:lnTo>
                    <a:pt x="768" y="119"/>
                  </a:lnTo>
                  <a:lnTo>
                    <a:pt x="770" y="146"/>
                  </a:lnTo>
                  <a:lnTo>
                    <a:pt x="772" y="175"/>
                  </a:lnTo>
                  <a:lnTo>
                    <a:pt x="775" y="206"/>
                  </a:lnTo>
                  <a:lnTo>
                    <a:pt x="778" y="239"/>
                  </a:lnTo>
                  <a:lnTo>
                    <a:pt x="781" y="273"/>
                  </a:lnTo>
                  <a:lnTo>
                    <a:pt x="783" y="310"/>
                  </a:lnTo>
                  <a:lnTo>
                    <a:pt x="786" y="348"/>
                  </a:lnTo>
                  <a:lnTo>
                    <a:pt x="789" y="386"/>
                  </a:lnTo>
                  <a:lnTo>
                    <a:pt x="791" y="426"/>
                  </a:lnTo>
                  <a:lnTo>
                    <a:pt x="794" y="466"/>
                  </a:lnTo>
                  <a:lnTo>
                    <a:pt x="797" y="507"/>
                  </a:lnTo>
                  <a:lnTo>
                    <a:pt x="799" y="549"/>
                  </a:lnTo>
                  <a:lnTo>
                    <a:pt x="802" y="590"/>
                  </a:lnTo>
                  <a:lnTo>
                    <a:pt x="804" y="632"/>
                  </a:lnTo>
                  <a:lnTo>
                    <a:pt x="807" y="672"/>
                  </a:lnTo>
                  <a:lnTo>
                    <a:pt x="810" y="714"/>
                  </a:lnTo>
                  <a:lnTo>
                    <a:pt x="812" y="753"/>
                  </a:lnTo>
                  <a:lnTo>
                    <a:pt x="816" y="792"/>
                  </a:lnTo>
                  <a:lnTo>
                    <a:pt x="818" y="830"/>
                  </a:lnTo>
                  <a:lnTo>
                    <a:pt x="820" y="865"/>
                  </a:lnTo>
                  <a:lnTo>
                    <a:pt x="823" y="900"/>
                  </a:lnTo>
                  <a:lnTo>
                    <a:pt x="826" y="932"/>
                  </a:lnTo>
                  <a:lnTo>
                    <a:pt x="829" y="964"/>
                  </a:lnTo>
                  <a:lnTo>
                    <a:pt x="831" y="993"/>
                  </a:lnTo>
                  <a:lnTo>
                    <a:pt x="833" y="1018"/>
                  </a:lnTo>
                  <a:lnTo>
                    <a:pt x="837" y="1043"/>
                  </a:lnTo>
                  <a:lnTo>
                    <a:pt x="839" y="1064"/>
                  </a:lnTo>
                  <a:lnTo>
                    <a:pt x="841" y="1083"/>
                  </a:lnTo>
                  <a:lnTo>
                    <a:pt x="845" y="1100"/>
                  </a:lnTo>
                  <a:lnTo>
                    <a:pt x="847" y="1113"/>
                  </a:lnTo>
                  <a:lnTo>
                    <a:pt x="850" y="1123"/>
                  </a:lnTo>
                  <a:lnTo>
                    <a:pt x="852" y="1131"/>
                  </a:lnTo>
                  <a:lnTo>
                    <a:pt x="855" y="1135"/>
                  </a:lnTo>
                  <a:lnTo>
                    <a:pt x="858" y="1136"/>
                  </a:lnTo>
                  <a:lnTo>
                    <a:pt x="860" y="1135"/>
                  </a:lnTo>
                  <a:lnTo>
                    <a:pt x="862" y="1131"/>
                  </a:lnTo>
                  <a:lnTo>
                    <a:pt x="866" y="1123"/>
                  </a:lnTo>
                  <a:lnTo>
                    <a:pt x="868" y="1113"/>
                  </a:lnTo>
                  <a:lnTo>
                    <a:pt x="871" y="1100"/>
                  </a:lnTo>
                  <a:lnTo>
                    <a:pt x="874" y="1083"/>
                  </a:lnTo>
                  <a:lnTo>
                    <a:pt x="876" y="1064"/>
                  </a:lnTo>
                  <a:lnTo>
                    <a:pt x="879" y="1043"/>
                  </a:lnTo>
                  <a:lnTo>
                    <a:pt x="881" y="1018"/>
                  </a:lnTo>
                  <a:lnTo>
                    <a:pt x="885" y="993"/>
                  </a:lnTo>
                  <a:lnTo>
                    <a:pt x="887" y="964"/>
                  </a:lnTo>
                  <a:lnTo>
                    <a:pt x="889" y="932"/>
                  </a:lnTo>
                  <a:lnTo>
                    <a:pt x="893" y="900"/>
                  </a:lnTo>
                  <a:lnTo>
                    <a:pt x="895" y="865"/>
                  </a:lnTo>
                  <a:lnTo>
                    <a:pt x="897" y="829"/>
                  </a:lnTo>
                  <a:lnTo>
                    <a:pt x="900" y="792"/>
                  </a:lnTo>
                  <a:lnTo>
                    <a:pt x="903" y="753"/>
                  </a:lnTo>
                  <a:lnTo>
                    <a:pt x="906" y="713"/>
                  </a:lnTo>
                  <a:lnTo>
                    <a:pt x="908" y="672"/>
                  </a:lnTo>
                  <a:lnTo>
                    <a:pt x="910" y="631"/>
                  </a:lnTo>
                  <a:lnTo>
                    <a:pt x="914" y="590"/>
                  </a:lnTo>
                  <a:lnTo>
                    <a:pt x="916" y="549"/>
                  </a:lnTo>
                  <a:lnTo>
                    <a:pt x="919" y="507"/>
                  </a:lnTo>
                  <a:lnTo>
                    <a:pt x="921" y="466"/>
                  </a:lnTo>
                  <a:lnTo>
                    <a:pt x="924" y="426"/>
                  </a:lnTo>
                  <a:lnTo>
                    <a:pt x="927" y="386"/>
                  </a:lnTo>
                  <a:lnTo>
                    <a:pt x="929" y="348"/>
                  </a:lnTo>
                  <a:lnTo>
                    <a:pt x="932" y="310"/>
                  </a:lnTo>
                  <a:lnTo>
                    <a:pt x="935" y="273"/>
                  </a:lnTo>
                  <a:lnTo>
                    <a:pt x="937" y="239"/>
                  </a:lnTo>
                  <a:lnTo>
                    <a:pt x="940" y="206"/>
                  </a:lnTo>
                  <a:lnTo>
                    <a:pt x="943" y="175"/>
                  </a:lnTo>
                  <a:lnTo>
                    <a:pt x="945" y="146"/>
                  </a:lnTo>
                  <a:lnTo>
                    <a:pt x="948" y="119"/>
                  </a:lnTo>
                  <a:lnTo>
                    <a:pt x="950" y="95"/>
                  </a:lnTo>
                  <a:lnTo>
                    <a:pt x="953" y="73"/>
                  </a:lnTo>
                  <a:lnTo>
                    <a:pt x="956" y="54"/>
                  </a:lnTo>
                  <a:lnTo>
                    <a:pt x="958" y="38"/>
                  </a:lnTo>
                  <a:lnTo>
                    <a:pt x="962" y="24"/>
                  </a:lnTo>
                  <a:lnTo>
                    <a:pt x="964" y="13"/>
                  </a:lnTo>
                  <a:lnTo>
                    <a:pt x="966" y="5"/>
                  </a:lnTo>
                  <a:lnTo>
                    <a:pt x="969" y="1"/>
                  </a:lnTo>
                  <a:lnTo>
                    <a:pt x="972" y="0"/>
                  </a:lnTo>
                  <a:lnTo>
                    <a:pt x="975" y="1"/>
                  </a:lnTo>
                  <a:lnTo>
                    <a:pt x="977" y="5"/>
                  </a:lnTo>
                  <a:lnTo>
                    <a:pt x="979" y="12"/>
                  </a:lnTo>
                  <a:lnTo>
                    <a:pt x="983" y="23"/>
                  </a:lnTo>
                  <a:lnTo>
                    <a:pt x="985" y="35"/>
                  </a:lnTo>
                  <a:lnTo>
                    <a:pt x="987" y="52"/>
                  </a:lnTo>
                  <a:lnTo>
                    <a:pt x="991" y="71"/>
                  </a:lnTo>
                  <a:lnTo>
                    <a:pt x="993" y="92"/>
                  </a:lnTo>
                  <a:lnTo>
                    <a:pt x="996" y="116"/>
                  </a:lnTo>
                  <a:lnTo>
                    <a:pt x="998" y="143"/>
                  </a:lnTo>
                  <a:lnTo>
                    <a:pt x="1001" y="170"/>
                  </a:lnTo>
                  <a:lnTo>
                    <a:pt x="1004" y="202"/>
                  </a:lnTo>
                  <a:lnTo>
                    <a:pt x="1006" y="234"/>
                  </a:lnTo>
                  <a:lnTo>
                    <a:pt x="1010" y="269"/>
                  </a:lnTo>
                  <a:lnTo>
                    <a:pt x="1012" y="305"/>
                  </a:lnTo>
                  <a:lnTo>
                    <a:pt x="1014" y="342"/>
                  </a:lnTo>
                  <a:lnTo>
                    <a:pt x="1017" y="381"/>
                  </a:lnTo>
                  <a:lnTo>
                    <a:pt x="1020" y="420"/>
                  </a:lnTo>
                  <a:lnTo>
                    <a:pt x="1022" y="462"/>
                  </a:lnTo>
                  <a:lnTo>
                    <a:pt x="1025" y="502"/>
                  </a:lnTo>
                  <a:lnTo>
                    <a:pt x="1027" y="543"/>
                  </a:lnTo>
                  <a:lnTo>
                    <a:pt x="1031" y="585"/>
                  </a:lnTo>
                  <a:lnTo>
                    <a:pt x="1033" y="627"/>
                  </a:lnTo>
                  <a:lnTo>
                    <a:pt x="1035" y="667"/>
                  </a:lnTo>
                  <a:lnTo>
                    <a:pt x="1039" y="708"/>
                  </a:lnTo>
                  <a:lnTo>
                    <a:pt x="1041" y="748"/>
                  </a:lnTo>
                  <a:lnTo>
                    <a:pt x="1044" y="786"/>
                  </a:lnTo>
                  <a:lnTo>
                    <a:pt x="1046" y="824"/>
                  </a:lnTo>
                  <a:lnTo>
                    <a:pt x="1049" y="861"/>
                  </a:lnTo>
                  <a:lnTo>
                    <a:pt x="1052" y="896"/>
                  </a:lnTo>
                  <a:lnTo>
                    <a:pt x="1054" y="928"/>
                  </a:lnTo>
                  <a:lnTo>
                    <a:pt x="1056" y="959"/>
                  </a:lnTo>
                  <a:lnTo>
                    <a:pt x="1060" y="988"/>
                  </a:lnTo>
                  <a:lnTo>
                    <a:pt x="1062" y="1015"/>
                  </a:lnTo>
                  <a:lnTo>
                    <a:pt x="1065" y="1039"/>
                  </a:lnTo>
                  <a:lnTo>
                    <a:pt x="1068" y="1062"/>
                  </a:lnTo>
                  <a:lnTo>
                    <a:pt x="1070" y="1081"/>
                  </a:lnTo>
                  <a:lnTo>
                    <a:pt x="1073" y="1097"/>
                  </a:lnTo>
                  <a:lnTo>
                    <a:pt x="1075" y="1111"/>
                  </a:lnTo>
                  <a:lnTo>
                    <a:pt x="1078" y="1122"/>
                  </a:lnTo>
                  <a:lnTo>
                    <a:pt x="1081" y="1130"/>
                  </a:lnTo>
                  <a:lnTo>
                    <a:pt x="1083" y="1135"/>
                  </a:lnTo>
                  <a:lnTo>
                    <a:pt x="1086" y="1136"/>
                  </a:lnTo>
                  <a:lnTo>
                    <a:pt x="1089" y="1135"/>
                  </a:lnTo>
                  <a:lnTo>
                    <a:pt x="1091" y="1132"/>
                  </a:lnTo>
                  <a:lnTo>
                    <a:pt x="1094" y="1124"/>
                  </a:lnTo>
                  <a:lnTo>
                    <a:pt x="1096" y="1114"/>
                  </a:lnTo>
                  <a:lnTo>
                    <a:pt x="1100" y="1102"/>
                  </a:lnTo>
                  <a:lnTo>
                    <a:pt x="1102" y="1085"/>
                  </a:lnTo>
                  <a:lnTo>
                    <a:pt x="1104" y="1067"/>
                  </a:lnTo>
                  <a:lnTo>
                    <a:pt x="1108" y="1046"/>
                  </a:lnTo>
                  <a:lnTo>
                    <a:pt x="1110" y="1022"/>
                  </a:lnTo>
                  <a:lnTo>
                    <a:pt x="1112" y="996"/>
                  </a:lnTo>
                  <a:lnTo>
                    <a:pt x="1115" y="967"/>
                  </a:lnTo>
                  <a:lnTo>
                    <a:pt x="1118" y="937"/>
                  </a:lnTo>
                  <a:lnTo>
                    <a:pt x="1121" y="904"/>
                  </a:lnTo>
                  <a:lnTo>
                    <a:pt x="1123" y="870"/>
                  </a:lnTo>
                  <a:lnTo>
                    <a:pt x="1125" y="834"/>
                  </a:lnTo>
                  <a:lnTo>
                    <a:pt x="1129" y="796"/>
                  </a:lnTo>
                  <a:lnTo>
                    <a:pt x="1131" y="758"/>
                  </a:lnTo>
                  <a:lnTo>
                    <a:pt x="1134" y="718"/>
                  </a:lnTo>
                  <a:lnTo>
                    <a:pt x="1137" y="678"/>
                  </a:lnTo>
                  <a:lnTo>
                    <a:pt x="1139" y="637"/>
                  </a:lnTo>
                  <a:lnTo>
                    <a:pt x="1142" y="595"/>
                  </a:lnTo>
                  <a:lnTo>
                    <a:pt x="1144" y="554"/>
                  </a:lnTo>
                  <a:lnTo>
                    <a:pt x="1147" y="513"/>
                  </a:lnTo>
                  <a:lnTo>
                    <a:pt x="1150" y="472"/>
                  </a:lnTo>
                  <a:lnTo>
                    <a:pt x="1152" y="431"/>
                  </a:lnTo>
                  <a:lnTo>
                    <a:pt x="1156" y="391"/>
                  </a:lnTo>
                  <a:lnTo>
                    <a:pt x="1158" y="352"/>
                  </a:lnTo>
                  <a:lnTo>
                    <a:pt x="1160" y="314"/>
                  </a:lnTo>
                  <a:lnTo>
                    <a:pt x="1163" y="279"/>
                  </a:lnTo>
                  <a:lnTo>
                    <a:pt x="1166" y="243"/>
                  </a:lnTo>
                  <a:lnTo>
                    <a:pt x="1169" y="211"/>
                  </a:lnTo>
                  <a:lnTo>
                    <a:pt x="1171" y="179"/>
                  </a:lnTo>
                  <a:lnTo>
                    <a:pt x="1173" y="149"/>
                  </a:lnTo>
                  <a:lnTo>
                    <a:pt x="1177" y="122"/>
                  </a:lnTo>
                  <a:lnTo>
                    <a:pt x="1179" y="98"/>
                  </a:lnTo>
                  <a:lnTo>
                    <a:pt x="1181" y="76"/>
                  </a:lnTo>
                  <a:lnTo>
                    <a:pt x="1185" y="57"/>
                  </a:lnTo>
                  <a:lnTo>
                    <a:pt x="1187" y="40"/>
                  </a:lnTo>
                  <a:lnTo>
                    <a:pt x="1190" y="25"/>
                  </a:lnTo>
                  <a:lnTo>
                    <a:pt x="1192" y="14"/>
                  </a:lnTo>
                  <a:lnTo>
                    <a:pt x="1195" y="6"/>
                  </a:lnTo>
                  <a:lnTo>
                    <a:pt x="1198" y="2"/>
                  </a:lnTo>
                  <a:lnTo>
                    <a:pt x="1200" y="0"/>
                  </a:lnTo>
                  <a:lnTo>
                    <a:pt x="1202" y="1"/>
                  </a:lnTo>
                  <a:lnTo>
                    <a:pt x="1206" y="4"/>
                  </a:lnTo>
                  <a:lnTo>
                    <a:pt x="1208" y="11"/>
                  </a:lnTo>
                  <a:lnTo>
                    <a:pt x="1211" y="21"/>
                  </a:lnTo>
                  <a:lnTo>
                    <a:pt x="1214" y="34"/>
                  </a:lnTo>
                  <a:lnTo>
                    <a:pt x="1216" y="50"/>
                  </a:lnTo>
                  <a:lnTo>
                    <a:pt x="1219" y="68"/>
                  </a:lnTo>
                  <a:lnTo>
                    <a:pt x="1221" y="89"/>
                  </a:lnTo>
                  <a:lnTo>
                    <a:pt x="1225" y="112"/>
                  </a:lnTo>
                  <a:lnTo>
                    <a:pt x="1227" y="139"/>
                  </a:lnTo>
                  <a:lnTo>
                    <a:pt x="1229" y="167"/>
                  </a:lnTo>
                  <a:lnTo>
                    <a:pt x="1232" y="197"/>
                  </a:lnTo>
                  <a:lnTo>
                    <a:pt x="1235" y="230"/>
                  </a:lnTo>
                  <a:lnTo>
                    <a:pt x="1237" y="264"/>
                  </a:lnTo>
                  <a:lnTo>
                    <a:pt x="1240" y="300"/>
                  </a:lnTo>
                  <a:lnTo>
                    <a:pt x="1243" y="338"/>
                  </a:lnTo>
                  <a:lnTo>
                    <a:pt x="1246" y="376"/>
                  </a:lnTo>
                  <a:lnTo>
                    <a:pt x="1248" y="416"/>
                  </a:lnTo>
                  <a:lnTo>
                    <a:pt x="1250" y="456"/>
                  </a:lnTo>
                  <a:lnTo>
                    <a:pt x="1254" y="496"/>
                  </a:lnTo>
                  <a:lnTo>
                    <a:pt x="1256" y="537"/>
                  </a:lnTo>
                  <a:lnTo>
                    <a:pt x="1259" y="580"/>
                  </a:lnTo>
                  <a:lnTo>
                    <a:pt x="1261" y="621"/>
                  </a:lnTo>
                  <a:lnTo>
                    <a:pt x="1264" y="662"/>
                  </a:lnTo>
                  <a:lnTo>
                    <a:pt x="1267" y="703"/>
                  </a:lnTo>
                  <a:lnTo>
                    <a:pt x="1269" y="743"/>
                  </a:lnTo>
                  <a:lnTo>
                    <a:pt x="1271" y="782"/>
                  </a:lnTo>
                  <a:lnTo>
                    <a:pt x="1275" y="820"/>
                  </a:lnTo>
                  <a:lnTo>
                    <a:pt x="1277" y="855"/>
                  </a:lnTo>
                  <a:lnTo>
                    <a:pt x="1280" y="891"/>
                  </a:lnTo>
                  <a:lnTo>
                    <a:pt x="1283" y="925"/>
                  </a:lnTo>
                  <a:lnTo>
                    <a:pt x="1285" y="956"/>
                  </a:lnTo>
                  <a:lnTo>
                    <a:pt x="1288" y="985"/>
                  </a:lnTo>
                  <a:lnTo>
                    <a:pt x="1290" y="1012"/>
                  </a:lnTo>
                  <a:lnTo>
                    <a:pt x="1293" y="1037"/>
                  </a:lnTo>
                  <a:lnTo>
                    <a:pt x="1296" y="1060"/>
                  </a:lnTo>
                  <a:lnTo>
                    <a:pt x="1298" y="1078"/>
                  </a:lnTo>
                  <a:lnTo>
                    <a:pt x="1302" y="1095"/>
                  </a:lnTo>
                  <a:lnTo>
                    <a:pt x="1304" y="1110"/>
                  </a:lnTo>
                  <a:lnTo>
                    <a:pt x="1306" y="1121"/>
                  </a:lnTo>
                  <a:lnTo>
                    <a:pt x="1309" y="1130"/>
                  </a:lnTo>
                  <a:lnTo>
                    <a:pt x="1312" y="1134"/>
                  </a:lnTo>
                  <a:lnTo>
                    <a:pt x="1315" y="1136"/>
                  </a:lnTo>
                  <a:lnTo>
                    <a:pt x="1317" y="1136"/>
                  </a:lnTo>
                  <a:lnTo>
                    <a:pt x="1319" y="1132"/>
                  </a:lnTo>
                  <a:lnTo>
                    <a:pt x="1323" y="1125"/>
                  </a:lnTo>
                  <a:lnTo>
                    <a:pt x="1325" y="1116"/>
                  </a:lnTo>
                  <a:lnTo>
                    <a:pt x="1327" y="1103"/>
                  </a:lnTo>
                  <a:lnTo>
                    <a:pt x="1331" y="1087"/>
                  </a:lnTo>
                  <a:lnTo>
                    <a:pt x="1333" y="1070"/>
                  </a:lnTo>
                  <a:lnTo>
                    <a:pt x="1336" y="1048"/>
                  </a:lnTo>
                  <a:lnTo>
                    <a:pt x="1338" y="1025"/>
                  </a:lnTo>
                  <a:lnTo>
                    <a:pt x="1341" y="999"/>
                  </a:lnTo>
                  <a:lnTo>
                    <a:pt x="1344" y="971"/>
                  </a:lnTo>
                  <a:lnTo>
                    <a:pt x="1346" y="941"/>
                  </a:lnTo>
                  <a:lnTo>
                    <a:pt x="1350" y="909"/>
                  </a:lnTo>
                  <a:lnTo>
                    <a:pt x="1352" y="874"/>
                  </a:lnTo>
                  <a:lnTo>
                    <a:pt x="1354" y="839"/>
                  </a:lnTo>
                  <a:lnTo>
                    <a:pt x="1357" y="802"/>
                  </a:lnTo>
                  <a:lnTo>
                    <a:pt x="1360" y="763"/>
                  </a:lnTo>
                  <a:lnTo>
                    <a:pt x="1362" y="724"/>
                  </a:lnTo>
                  <a:lnTo>
                    <a:pt x="1365" y="684"/>
                  </a:lnTo>
                  <a:lnTo>
                    <a:pt x="1367" y="642"/>
                  </a:lnTo>
                  <a:lnTo>
                    <a:pt x="1371" y="601"/>
                  </a:lnTo>
                  <a:lnTo>
                    <a:pt x="1373" y="560"/>
                  </a:lnTo>
                  <a:lnTo>
                    <a:pt x="1375" y="518"/>
                  </a:lnTo>
                  <a:lnTo>
                    <a:pt x="1378" y="477"/>
                  </a:lnTo>
                  <a:lnTo>
                    <a:pt x="1381" y="437"/>
                  </a:lnTo>
                  <a:lnTo>
                    <a:pt x="1384" y="397"/>
                  </a:lnTo>
                  <a:lnTo>
                    <a:pt x="1386" y="358"/>
                  </a:lnTo>
                  <a:lnTo>
                    <a:pt x="1389" y="320"/>
                  </a:lnTo>
                  <a:lnTo>
                    <a:pt x="1392" y="283"/>
                  </a:lnTo>
                  <a:lnTo>
                    <a:pt x="1394" y="247"/>
                  </a:lnTo>
                  <a:lnTo>
                    <a:pt x="1396" y="214"/>
                  </a:lnTo>
                  <a:lnTo>
                    <a:pt x="1400" y="183"/>
                  </a:lnTo>
                  <a:lnTo>
                    <a:pt x="1402" y="154"/>
                  </a:lnTo>
                  <a:lnTo>
                    <a:pt x="1405" y="126"/>
                  </a:lnTo>
                  <a:lnTo>
                    <a:pt x="1407" y="101"/>
                  </a:lnTo>
                  <a:lnTo>
                    <a:pt x="1410" y="79"/>
                  </a:lnTo>
                  <a:lnTo>
                    <a:pt x="1413" y="59"/>
                  </a:lnTo>
                  <a:lnTo>
                    <a:pt x="1415" y="42"/>
                  </a:lnTo>
                  <a:lnTo>
                    <a:pt x="1418" y="28"/>
                  </a:lnTo>
                  <a:lnTo>
                    <a:pt x="1421" y="17"/>
                  </a:lnTo>
                  <a:lnTo>
                    <a:pt x="1423" y="8"/>
                  </a:lnTo>
                  <a:lnTo>
                    <a:pt x="1426" y="2"/>
                  </a:lnTo>
                  <a:lnTo>
                    <a:pt x="1429" y="0"/>
                  </a:lnTo>
                  <a:lnTo>
                    <a:pt x="1431" y="0"/>
                  </a:lnTo>
                  <a:lnTo>
                    <a:pt x="1434" y="3"/>
                  </a:lnTo>
                  <a:lnTo>
                    <a:pt x="1436" y="10"/>
                  </a:lnTo>
                  <a:lnTo>
                    <a:pt x="1440" y="20"/>
                  </a:lnTo>
                  <a:lnTo>
                    <a:pt x="1442" y="32"/>
                  </a:lnTo>
                  <a:lnTo>
                    <a:pt x="1444" y="48"/>
                  </a:lnTo>
                  <a:lnTo>
                    <a:pt x="1448" y="66"/>
                  </a:lnTo>
                  <a:lnTo>
                    <a:pt x="1450" y="86"/>
                  </a:lnTo>
                  <a:lnTo>
                    <a:pt x="1452" y="109"/>
                  </a:lnTo>
                  <a:lnTo>
                    <a:pt x="1455" y="135"/>
                  </a:lnTo>
                  <a:lnTo>
                    <a:pt x="1458" y="163"/>
                  </a:lnTo>
                  <a:lnTo>
                    <a:pt x="1461" y="194"/>
                  </a:lnTo>
                  <a:lnTo>
                    <a:pt x="1463" y="225"/>
                  </a:lnTo>
                  <a:lnTo>
                    <a:pt x="1465" y="260"/>
                  </a:lnTo>
                  <a:lnTo>
                    <a:pt x="1469" y="295"/>
                  </a:lnTo>
                  <a:lnTo>
                    <a:pt x="1471" y="332"/>
                  </a:lnTo>
                  <a:lnTo>
                    <a:pt x="1474" y="370"/>
                  </a:lnTo>
                  <a:lnTo>
                    <a:pt x="1477" y="410"/>
                  </a:lnTo>
                  <a:lnTo>
                    <a:pt x="1479" y="450"/>
                  </a:lnTo>
                  <a:lnTo>
                    <a:pt x="1482" y="491"/>
                  </a:lnTo>
                  <a:lnTo>
                    <a:pt x="1484" y="532"/>
                  </a:lnTo>
                  <a:lnTo>
                    <a:pt x="1487" y="574"/>
                  </a:lnTo>
                  <a:lnTo>
                    <a:pt x="1490" y="616"/>
                  </a:lnTo>
                  <a:lnTo>
                    <a:pt x="1492" y="657"/>
                  </a:lnTo>
                  <a:lnTo>
                    <a:pt x="1496" y="697"/>
                  </a:lnTo>
                  <a:lnTo>
                    <a:pt x="1498" y="737"/>
                  </a:lnTo>
                  <a:lnTo>
                    <a:pt x="1500" y="776"/>
                  </a:lnTo>
                  <a:lnTo>
                    <a:pt x="1503" y="814"/>
                  </a:lnTo>
                  <a:lnTo>
                    <a:pt x="1506" y="851"/>
                  </a:lnTo>
                  <a:lnTo>
                    <a:pt x="1509" y="887"/>
                  </a:lnTo>
                  <a:lnTo>
                    <a:pt x="1511" y="920"/>
                  </a:lnTo>
                  <a:lnTo>
                    <a:pt x="1513" y="951"/>
                  </a:lnTo>
                  <a:lnTo>
                    <a:pt x="1517" y="981"/>
                  </a:lnTo>
                  <a:lnTo>
                    <a:pt x="1519" y="1008"/>
                  </a:lnTo>
                  <a:lnTo>
                    <a:pt x="1521" y="1034"/>
                  </a:lnTo>
                  <a:lnTo>
                    <a:pt x="1525" y="1056"/>
                  </a:lnTo>
                  <a:lnTo>
                    <a:pt x="1527" y="1076"/>
                  </a:lnTo>
                  <a:lnTo>
                    <a:pt x="1530" y="1093"/>
                  </a:lnTo>
                  <a:lnTo>
                    <a:pt x="1532" y="1107"/>
                  </a:lnTo>
                  <a:lnTo>
                    <a:pt x="1535" y="1120"/>
                  </a:lnTo>
                  <a:lnTo>
                    <a:pt x="1538" y="1129"/>
                  </a:lnTo>
                  <a:lnTo>
                    <a:pt x="1540" y="1134"/>
                  </a:lnTo>
                  <a:lnTo>
                    <a:pt x="1542" y="1136"/>
                  </a:lnTo>
                  <a:lnTo>
                    <a:pt x="1546" y="1136"/>
                  </a:lnTo>
                  <a:lnTo>
                    <a:pt x="1548" y="1133"/>
                  </a:lnTo>
                  <a:lnTo>
                    <a:pt x="1551" y="1126"/>
                  </a:lnTo>
                  <a:lnTo>
                    <a:pt x="1553" y="1118"/>
                  </a:lnTo>
                  <a:lnTo>
                    <a:pt x="1556" y="1105"/>
                  </a:lnTo>
                  <a:lnTo>
                    <a:pt x="1559" y="1090"/>
                  </a:lnTo>
                  <a:lnTo>
                    <a:pt x="1561" y="1072"/>
                  </a:lnTo>
                  <a:lnTo>
                    <a:pt x="1565" y="1052"/>
                  </a:lnTo>
                  <a:lnTo>
                    <a:pt x="1567" y="1028"/>
                  </a:lnTo>
                  <a:lnTo>
                    <a:pt x="1569" y="1003"/>
                  </a:lnTo>
                  <a:lnTo>
                    <a:pt x="1572" y="975"/>
                  </a:lnTo>
                  <a:lnTo>
                    <a:pt x="1575" y="945"/>
                  </a:lnTo>
                  <a:lnTo>
                    <a:pt x="1577" y="913"/>
                  </a:lnTo>
                  <a:lnTo>
                    <a:pt x="1580" y="879"/>
                  </a:lnTo>
                  <a:lnTo>
                    <a:pt x="1582" y="843"/>
                  </a:lnTo>
                  <a:lnTo>
                    <a:pt x="1586" y="806"/>
                  </a:lnTo>
                  <a:lnTo>
                    <a:pt x="1588" y="768"/>
                  </a:lnTo>
                  <a:lnTo>
                    <a:pt x="1590" y="729"/>
                  </a:lnTo>
                  <a:lnTo>
                    <a:pt x="1594" y="689"/>
                  </a:lnTo>
                  <a:lnTo>
                    <a:pt x="1596" y="648"/>
                  </a:lnTo>
                  <a:lnTo>
                    <a:pt x="1599" y="607"/>
                  </a:lnTo>
                  <a:lnTo>
                    <a:pt x="1601" y="565"/>
                  </a:lnTo>
                  <a:lnTo>
                    <a:pt x="1604" y="524"/>
                  </a:lnTo>
                  <a:lnTo>
                    <a:pt x="1607" y="483"/>
                  </a:lnTo>
                  <a:lnTo>
                    <a:pt x="1609" y="442"/>
                  </a:lnTo>
                  <a:lnTo>
                    <a:pt x="1611" y="401"/>
                  </a:lnTo>
                  <a:lnTo>
                    <a:pt x="1615" y="362"/>
                  </a:lnTo>
                  <a:lnTo>
                    <a:pt x="1617" y="324"/>
                  </a:lnTo>
                  <a:lnTo>
                    <a:pt x="1620" y="288"/>
                  </a:lnTo>
                  <a:lnTo>
                    <a:pt x="1623" y="252"/>
                  </a:lnTo>
                  <a:lnTo>
                    <a:pt x="1625" y="218"/>
                  </a:lnTo>
                  <a:lnTo>
                    <a:pt x="1628" y="187"/>
                  </a:lnTo>
                  <a:lnTo>
                    <a:pt x="1630" y="157"/>
                  </a:lnTo>
                  <a:lnTo>
                    <a:pt x="1633" y="129"/>
                  </a:lnTo>
                  <a:lnTo>
                    <a:pt x="1636" y="105"/>
                  </a:lnTo>
                  <a:lnTo>
                    <a:pt x="1638" y="81"/>
                  </a:lnTo>
                  <a:lnTo>
                    <a:pt x="1642" y="61"/>
                  </a:lnTo>
                  <a:lnTo>
                    <a:pt x="1644" y="44"/>
                  </a:lnTo>
                  <a:lnTo>
                    <a:pt x="1646" y="29"/>
                  </a:lnTo>
                  <a:lnTo>
                    <a:pt x="1649" y="18"/>
                  </a:lnTo>
                  <a:lnTo>
                    <a:pt x="1652" y="9"/>
                  </a:lnTo>
                  <a:lnTo>
                    <a:pt x="1655" y="3"/>
                  </a:lnTo>
                  <a:lnTo>
                    <a:pt x="1657" y="0"/>
                  </a:lnTo>
                  <a:lnTo>
                    <a:pt x="1659" y="0"/>
                  </a:lnTo>
                  <a:lnTo>
                    <a:pt x="1663" y="3"/>
                  </a:lnTo>
                  <a:lnTo>
                    <a:pt x="1665" y="9"/>
                  </a:lnTo>
                  <a:lnTo>
                    <a:pt x="1667" y="19"/>
                  </a:lnTo>
                  <a:lnTo>
                    <a:pt x="1671" y="30"/>
                  </a:lnTo>
                  <a:lnTo>
                    <a:pt x="1673" y="46"/>
                  </a:lnTo>
                  <a:lnTo>
                    <a:pt x="1676" y="63"/>
                  </a:lnTo>
                  <a:lnTo>
                    <a:pt x="1678" y="83"/>
                  </a:lnTo>
                  <a:lnTo>
                    <a:pt x="1681" y="106"/>
                  </a:lnTo>
                  <a:lnTo>
                    <a:pt x="1684" y="131"/>
                  </a:lnTo>
                  <a:lnTo>
                    <a:pt x="1686" y="159"/>
                  </a:lnTo>
                  <a:lnTo>
                    <a:pt x="1689" y="189"/>
                  </a:lnTo>
                  <a:lnTo>
                    <a:pt x="1692" y="221"/>
                  </a:lnTo>
                  <a:lnTo>
                    <a:pt x="1694" y="255"/>
                  </a:lnTo>
                  <a:lnTo>
                    <a:pt x="1697" y="291"/>
                  </a:lnTo>
                  <a:lnTo>
                    <a:pt x="1700" y="328"/>
                  </a:lnTo>
                  <a:lnTo>
                    <a:pt x="1702" y="366"/>
                  </a:lnTo>
                  <a:lnTo>
                    <a:pt x="1705" y="405"/>
                  </a:lnTo>
                  <a:lnTo>
                    <a:pt x="1707" y="445"/>
                  </a:lnTo>
                  <a:lnTo>
                    <a:pt x="1711" y="486"/>
                  </a:lnTo>
                  <a:lnTo>
                    <a:pt x="1713" y="527"/>
                  </a:lnTo>
                  <a:lnTo>
                    <a:pt x="1715" y="569"/>
                  </a:lnTo>
                  <a:lnTo>
                    <a:pt x="1718" y="610"/>
                  </a:lnTo>
                  <a:lnTo>
                    <a:pt x="1721" y="651"/>
                  </a:lnTo>
                  <a:lnTo>
                    <a:pt x="1724" y="691"/>
                  </a:lnTo>
                  <a:lnTo>
                    <a:pt x="1726" y="732"/>
                  </a:lnTo>
                  <a:lnTo>
                    <a:pt x="1728" y="772"/>
                  </a:lnTo>
                  <a:lnTo>
                    <a:pt x="1732" y="810"/>
                  </a:lnTo>
                  <a:lnTo>
                    <a:pt x="1734" y="846"/>
                  </a:lnTo>
                  <a:lnTo>
                    <a:pt x="1736" y="882"/>
                  </a:lnTo>
                  <a:lnTo>
                    <a:pt x="1740" y="916"/>
                  </a:lnTo>
                  <a:lnTo>
                    <a:pt x="1742" y="947"/>
                  </a:lnTo>
                  <a:lnTo>
                    <a:pt x="1745" y="977"/>
                  </a:lnTo>
                  <a:lnTo>
                    <a:pt x="1747" y="1005"/>
                  </a:lnTo>
                  <a:lnTo>
                    <a:pt x="1750" y="1031"/>
                  </a:lnTo>
                  <a:lnTo>
                    <a:pt x="1753" y="1053"/>
                  </a:lnTo>
                  <a:lnTo>
                    <a:pt x="1755" y="1074"/>
                  </a:lnTo>
                  <a:lnTo>
                    <a:pt x="1757" y="1092"/>
                  </a:lnTo>
                  <a:lnTo>
                    <a:pt x="1761" y="1106"/>
                  </a:lnTo>
                  <a:lnTo>
                    <a:pt x="1763" y="1119"/>
                  </a:lnTo>
                  <a:lnTo>
                    <a:pt x="1766" y="1128"/>
                  </a:lnTo>
                  <a:lnTo>
                    <a:pt x="1769" y="1133"/>
                  </a:lnTo>
                  <a:lnTo>
                    <a:pt x="1771" y="1136"/>
                  </a:lnTo>
                  <a:lnTo>
                    <a:pt x="1774" y="1136"/>
                  </a:lnTo>
                  <a:lnTo>
                    <a:pt x="1776" y="1134"/>
                  </a:lnTo>
                  <a:lnTo>
                    <a:pt x="1780" y="1128"/>
                  </a:lnTo>
                  <a:lnTo>
                    <a:pt x="1782" y="1119"/>
                  </a:lnTo>
                  <a:lnTo>
                    <a:pt x="1784" y="1107"/>
                  </a:lnTo>
                  <a:lnTo>
                    <a:pt x="1788" y="1092"/>
                  </a:lnTo>
                  <a:lnTo>
                    <a:pt x="1790" y="1075"/>
                  </a:lnTo>
                  <a:lnTo>
                    <a:pt x="1792" y="1055"/>
                  </a:lnTo>
                  <a:lnTo>
                    <a:pt x="1795" y="1032"/>
                  </a:lnTo>
                  <a:lnTo>
                    <a:pt x="1798" y="1007"/>
                  </a:lnTo>
                  <a:lnTo>
                    <a:pt x="1801" y="979"/>
                  </a:lnTo>
                  <a:lnTo>
                    <a:pt x="1803" y="949"/>
                  </a:lnTo>
                  <a:lnTo>
                    <a:pt x="1805" y="918"/>
                  </a:lnTo>
                  <a:lnTo>
                    <a:pt x="1809" y="883"/>
                  </a:lnTo>
                  <a:lnTo>
                    <a:pt x="1811" y="849"/>
                  </a:lnTo>
                  <a:lnTo>
                    <a:pt x="1814" y="812"/>
                  </a:lnTo>
                  <a:lnTo>
                    <a:pt x="1817" y="774"/>
                  </a:lnTo>
                  <a:lnTo>
                    <a:pt x="1819" y="734"/>
                  </a:lnTo>
                  <a:lnTo>
                    <a:pt x="1822" y="695"/>
                  </a:lnTo>
                  <a:lnTo>
                    <a:pt x="1824" y="653"/>
                  </a:lnTo>
                  <a:lnTo>
                    <a:pt x="1827" y="612"/>
                  </a:lnTo>
                  <a:lnTo>
                    <a:pt x="1830" y="571"/>
                  </a:lnTo>
                  <a:lnTo>
                    <a:pt x="1832" y="530"/>
                  </a:lnTo>
                  <a:lnTo>
                    <a:pt x="1835" y="488"/>
                  </a:lnTo>
                  <a:lnTo>
                    <a:pt x="1838" y="447"/>
                  </a:lnTo>
                  <a:lnTo>
                    <a:pt x="1840" y="407"/>
                  </a:lnTo>
                  <a:lnTo>
                    <a:pt x="1843" y="368"/>
                  </a:lnTo>
                  <a:lnTo>
                    <a:pt x="1846" y="330"/>
                  </a:lnTo>
                  <a:lnTo>
                    <a:pt x="1849" y="292"/>
                  </a:lnTo>
                  <a:lnTo>
                    <a:pt x="1851" y="257"/>
                  </a:lnTo>
                  <a:lnTo>
                    <a:pt x="1853" y="223"/>
                  </a:lnTo>
                  <a:lnTo>
                    <a:pt x="1857" y="191"/>
                  </a:lnTo>
                  <a:lnTo>
                    <a:pt x="1859" y="162"/>
                  </a:lnTo>
                  <a:lnTo>
                    <a:pt x="1861" y="134"/>
                  </a:lnTo>
                  <a:lnTo>
                    <a:pt x="1864" y="108"/>
                  </a:lnTo>
                  <a:lnTo>
                    <a:pt x="1867" y="85"/>
                  </a:lnTo>
                  <a:lnTo>
                    <a:pt x="1870" y="64"/>
                  </a:lnTo>
                  <a:lnTo>
                    <a:pt x="1872" y="47"/>
                  </a:lnTo>
                  <a:lnTo>
                    <a:pt x="1875" y="31"/>
                  </a:lnTo>
                  <a:lnTo>
                    <a:pt x="1878" y="19"/>
                  </a:lnTo>
                  <a:lnTo>
                    <a:pt x="1880" y="10"/>
                  </a:lnTo>
                  <a:lnTo>
                    <a:pt x="1882" y="3"/>
                  </a:lnTo>
                  <a:lnTo>
                    <a:pt x="1886" y="0"/>
                  </a:lnTo>
                  <a:lnTo>
                    <a:pt x="1888" y="0"/>
                  </a:lnTo>
                  <a:lnTo>
                    <a:pt x="1891" y="2"/>
                  </a:lnTo>
                  <a:lnTo>
                    <a:pt x="1893" y="9"/>
                  </a:lnTo>
                  <a:lnTo>
                    <a:pt x="1896" y="17"/>
                  </a:lnTo>
                  <a:lnTo>
                    <a:pt x="1899" y="29"/>
                  </a:lnTo>
                  <a:lnTo>
                    <a:pt x="1901" y="43"/>
                  </a:lnTo>
                  <a:lnTo>
                    <a:pt x="1905" y="60"/>
                  </a:lnTo>
                  <a:lnTo>
                    <a:pt x="1907" y="80"/>
                  </a:lnTo>
                  <a:lnTo>
                    <a:pt x="1909" y="104"/>
                  </a:lnTo>
                  <a:lnTo>
                    <a:pt x="1912" y="128"/>
                  </a:lnTo>
                  <a:lnTo>
                    <a:pt x="1915" y="156"/>
                  </a:lnTo>
                  <a:lnTo>
                    <a:pt x="1917" y="185"/>
                  </a:lnTo>
                  <a:lnTo>
                    <a:pt x="1920" y="217"/>
                  </a:lnTo>
                  <a:lnTo>
                    <a:pt x="1922" y="251"/>
                  </a:lnTo>
                  <a:lnTo>
                    <a:pt x="1926" y="285"/>
                  </a:lnTo>
                  <a:lnTo>
                    <a:pt x="1928" y="322"/>
                  </a:lnTo>
                  <a:lnTo>
                    <a:pt x="1930" y="360"/>
                  </a:lnTo>
                  <a:lnTo>
                    <a:pt x="1934" y="399"/>
                  </a:lnTo>
                  <a:lnTo>
                    <a:pt x="1936" y="439"/>
                  </a:lnTo>
                  <a:lnTo>
                    <a:pt x="1939" y="481"/>
                  </a:lnTo>
                  <a:lnTo>
                    <a:pt x="1941" y="522"/>
                  </a:lnTo>
                  <a:lnTo>
                    <a:pt x="1944" y="563"/>
                  </a:lnTo>
                  <a:lnTo>
                    <a:pt x="1947" y="604"/>
                  </a:lnTo>
                  <a:lnTo>
                    <a:pt x="1949" y="646"/>
                  </a:lnTo>
                  <a:lnTo>
                    <a:pt x="1951" y="687"/>
                  </a:lnTo>
                  <a:lnTo>
                    <a:pt x="1955" y="727"/>
                  </a:lnTo>
                  <a:lnTo>
                    <a:pt x="1957" y="766"/>
                  </a:lnTo>
                  <a:lnTo>
                    <a:pt x="1960" y="804"/>
                  </a:lnTo>
                  <a:lnTo>
                    <a:pt x="1963" y="842"/>
                  </a:lnTo>
                  <a:lnTo>
                    <a:pt x="1965" y="878"/>
                  </a:lnTo>
                  <a:lnTo>
                    <a:pt x="1968" y="911"/>
                  </a:lnTo>
                  <a:lnTo>
                    <a:pt x="1970" y="944"/>
                  </a:lnTo>
                  <a:lnTo>
                    <a:pt x="1973" y="974"/>
                  </a:lnTo>
                  <a:lnTo>
                    <a:pt x="1976" y="1002"/>
                  </a:lnTo>
                  <a:lnTo>
                    <a:pt x="1978" y="1027"/>
                  </a:lnTo>
                  <a:lnTo>
                    <a:pt x="1982" y="1051"/>
                  </a:lnTo>
                  <a:lnTo>
                    <a:pt x="1984" y="1071"/>
                  </a:lnTo>
                  <a:lnTo>
                    <a:pt x="1986" y="1090"/>
                  </a:lnTo>
                  <a:lnTo>
                    <a:pt x="1989" y="1104"/>
                  </a:lnTo>
                  <a:lnTo>
                    <a:pt x="1992" y="1116"/>
                  </a:lnTo>
                  <a:lnTo>
                    <a:pt x="1995" y="1126"/>
                  </a:lnTo>
                  <a:lnTo>
                    <a:pt x="1997" y="1133"/>
                  </a:lnTo>
                  <a:lnTo>
                    <a:pt x="1999" y="1136"/>
                  </a:lnTo>
                  <a:lnTo>
                    <a:pt x="2003" y="1136"/>
                  </a:lnTo>
                  <a:lnTo>
                    <a:pt x="2005" y="1134"/>
                  </a:lnTo>
                  <a:lnTo>
                    <a:pt x="2007" y="1129"/>
                  </a:lnTo>
                  <a:lnTo>
                    <a:pt x="2010" y="1120"/>
                  </a:lnTo>
                  <a:lnTo>
                    <a:pt x="2013" y="1109"/>
                  </a:lnTo>
                  <a:lnTo>
                    <a:pt x="2016" y="1094"/>
                  </a:lnTo>
                  <a:lnTo>
                    <a:pt x="2018" y="1077"/>
                  </a:lnTo>
                  <a:lnTo>
                    <a:pt x="2021" y="1057"/>
                  </a:lnTo>
                  <a:lnTo>
                    <a:pt x="2024" y="1035"/>
                  </a:lnTo>
                  <a:lnTo>
                    <a:pt x="2026" y="1010"/>
                  </a:lnTo>
                  <a:lnTo>
                    <a:pt x="2029" y="983"/>
                  </a:lnTo>
                  <a:lnTo>
                    <a:pt x="2032" y="954"/>
                  </a:lnTo>
                  <a:lnTo>
                    <a:pt x="2034" y="922"/>
                  </a:lnTo>
                  <a:lnTo>
                    <a:pt x="2037" y="889"/>
                  </a:lnTo>
                  <a:lnTo>
                    <a:pt x="2039" y="853"/>
                  </a:lnTo>
                  <a:lnTo>
                    <a:pt x="2042" y="816"/>
                  </a:lnTo>
                  <a:lnTo>
                    <a:pt x="2045" y="778"/>
                  </a:lnTo>
                  <a:lnTo>
                    <a:pt x="2047" y="739"/>
                  </a:lnTo>
                  <a:lnTo>
                    <a:pt x="2051" y="699"/>
                  </a:lnTo>
                  <a:lnTo>
                    <a:pt x="2053" y="659"/>
                  </a:lnTo>
                  <a:lnTo>
                    <a:pt x="2055" y="618"/>
                  </a:lnTo>
                  <a:lnTo>
                    <a:pt x="2058" y="577"/>
                  </a:lnTo>
                  <a:lnTo>
                    <a:pt x="2061" y="535"/>
                  </a:lnTo>
                  <a:lnTo>
                    <a:pt x="2064" y="494"/>
                  </a:lnTo>
                  <a:lnTo>
                    <a:pt x="2066" y="453"/>
                  </a:lnTo>
                  <a:lnTo>
                    <a:pt x="2068" y="413"/>
                  </a:lnTo>
                  <a:lnTo>
                    <a:pt x="2072" y="372"/>
                  </a:lnTo>
                  <a:lnTo>
                    <a:pt x="2074" y="334"/>
                  </a:lnTo>
                  <a:lnTo>
                    <a:pt x="2076" y="298"/>
                  </a:lnTo>
                  <a:lnTo>
                    <a:pt x="2080" y="262"/>
                  </a:lnTo>
                  <a:lnTo>
                    <a:pt x="2082" y="227"/>
                  </a:lnTo>
                  <a:lnTo>
                    <a:pt x="2085" y="195"/>
                  </a:lnTo>
                  <a:lnTo>
                    <a:pt x="2087" y="165"/>
                  </a:lnTo>
                  <a:lnTo>
                    <a:pt x="2090" y="137"/>
                  </a:lnTo>
                  <a:lnTo>
                    <a:pt x="2093" y="111"/>
                  </a:lnTo>
                  <a:lnTo>
                    <a:pt x="2095" y="88"/>
                  </a:lnTo>
                  <a:lnTo>
                    <a:pt x="2097" y="67"/>
                  </a:lnTo>
                  <a:lnTo>
                    <a:pt x="2101" y="49"/>
                  </a:lnTo>
                  <a:lnTo>
                    <a:pt x="2103" y="33"/>
                  </a:lnTo>
                  <a:lnTo>
                    <a:pt x="2106" y="20"/>
                  </a:lnTo>
                  <a:lnTo>
                    <a:pt x="2109" y="11"/>
                  </a:lnTo>
                  <a:lnTo>
                    <a:pt x="2111" y="4"/>
                  </a:lnTo>
                  <a:lnTo>
                    <a:pt x="2114" y="0"/>
                  </a:lnTo>
                  <a:lnTo>
                    <a:pt x="2116" y="0"/>
                  </a:lnTo>
                  <a:lnTo>
                    <a:pt x="2120" y="2"/>
                  </a:lnTo>
                  <a:lnTo>
                    <a:pt x="2122" y="8"/>
                  </a:lnTo>
                  <a:lnTo>
                    <a:pt x="2124" y="15"/>
                  </a:lnTo>
                  <a:lnTo>
                    <a:pt x="2128" y="27"/>
                  </a:lnTo>
                  <a:lnTo>
                    <a:pt x="2130" y="41"/>
                  </a:lnTo>
                  <a:lnTo>
                    <a:pt x="2132" y="58"/>
                  </a:lnTo>
                  <a:lnTo>
                    <a:pt x="2135" y="78"/>
                  </a:lnTo>
                  <a:lnTo>
                    <a:pt x="2138" y="100"/>
                  </a:lnTo>
                  <a:lnTo>
                    <a:pt x="2141" y="125"/>
                  </a:lnTo>
                  <a:lnTo>
                    <a:pt x="2143" y="151"/>
                  </a:lnTo>
                  <a:lnTo>
                    <a:pt x="2145" y="182"/>
                  </a:lnTo>
                  <a:lnTo>
                    <a:pt x="2149" y="213"/>
                  </a:lnTo>
                  <a:lnTo>
                    <a:pt x="2151" y="246"/>
                  </a:lnTo>
                  <a:lnTo>
                    <a:pt x="2154" y="281"/>
                  </a:lnTo>
                  <a:lnTo>
                    <a:pt x="2157" y="318"/>
                  </a:lnTo>
                  <a:lnTo>
                    <a:pt x="2159" y="356"/>
                  </a:lnTo>
                  <a:lnTo>
                    <a:pt x="2162" y="395"/>
                  </a:lnTo>
                  <a:lnTo>
                    <a:pt x="2164" y="434"/>
                  </a:lnTo>
                  <a:lnTo>
                    <a:pt x="2167" y="475"/>
                  </a:lnTo>
                  <a:lnTo>
                    <a:pt x="2170" y="516"/>
                  </a:lnTo>
                  <a:lnTo>
                    <a:pt x="2172" y="558"/>
                  </a:lnTo>
                  <a:lnTo>
                    <a:pt x="2175" y="599"/>
                  </a:lnTo>
                  <a:lnTo>
                    <a:pt x="2178" y="640"/>
                  </a:lnTo>
                  <a:lnTo>
                    <a:pt x="2180" y="681"/>
                  </a:lnTo>
                  <a:lnTo>
                    <a:pt x="2183" y="722"/>
                  </a:lnTo>
                  <a:lnTo>
                    <a:pt x="2185" y="761"/>
                  </a:lnTo>
                  <a:lnTo>
                    <a:pt x="2189" y="800"/>
                  </a:lnTo>
                  <a:lnTo>
                    <a:pt x="2191" y="836"/>
                  </a:lnTo>
                  <a:lnTo>
                    <a:pt x="2193" y="872"/>
                  </a:lnTo>
                  <a:lnTo>
                    <a:pt x="2197" y="907"/>
                  </a:lnTo>
                  <a:lnTo>
                    <a:pt x="2199" y="939"/>
                  </a:lnTo>
                  <a:lnTo>
                    <a:pt x="2201" y="969"/>
                  </a:lnTo>
                  <a:lnTo>
                    <a:pt x="2204" y="998"/>
                  </a:lnTo>
                  <a:lnTo>
                    <a:pt x="2207" y="1024"/>
                  </a:lnTo>
                  <a:lnTo>
                    <a:pt x="2210" y="1047"/>
                  </a:lnTo>
                  <a:lnTo>
                    <a:pt x="2212" y="1068"/>
                  </a:lnTo>
                  <a:lnTo>
                    <a:pt x="2214" y="1087"/>
                  </a:lnTo>
                  <a:lnTo>
                    <a:pt x="2218" y="1103"/>
                  </a:lnTo>
                  <a:lnTo>
                    <a:pt x="2220" y="1115"/>
                  </a:lnTo>
                  <a:lnTo>
                    <a:pt x="2222" y="1125"/>
                  </a:lnTo>
                  <a:lnTo>
                    <a:pt x="2226" y="1132"/>
                  </a:lnTo>
                  <a:lnTo>
                    <a:pt x="2228" y="1136"/>
                  </a:lnTo>
                  <a:lnTo>
                    <a:pt x="2231" y="1136"/>
                  </a:lnTo>
                  <a:lnTo>
                    <a:pt x="2233" y="1134"/>
                  </a:lnTo>
                  <a:lnTo>
                    <a:pt x="2236" y="1130"/>
                  </a:lnTo>
                  <a:lnTo>
                    <a:pt x="2239" y="1122"/>
                  </a:lnTo>
                  <a:lnTo>
                    <a:pt x="2241" y="1111"/>
                  </a:lnTo>
                  <a:lnTo>
                    <a:pt x="2245" y="1096"/>
                  </a:lnTo>
                  <a:lnTo>
                    <a:pt x="2247" y="1080"/>
                  </a:lnTo>
                  <a:lnTo>
                    <a:pt x="2249" y="1061"/>
                  </a:lnTo>
                  <a:lnTo>
                    <a:pt x="2252" y="1038"/>
                  </a:lnTo>
                  <a:lnTo>
                    <a:pt x="2255" y="1014"/>
                  </a:lnTo>
                  <a:lnTo>
                    <a:pt x="2257" y="987"/>
                  </a:lnTo>
                  <a:lnTo>
                    <a:pt x="2260" y="957"/>
                  </a:lnTo>
                  <a:lnTo>
                    <a:pt x="2262" y="926"/>
                  </a:lnTo>
                  <a:lnTo>
                    <a:pt x="2266" y="893"/>
                  </a:lnTo>
                  <a:lnTo>
                    <a:pt x="2268" y="858"/>
                  </a:lnTo>
                  <a:lnTo>
                    <a:pt x="2270" y="822"/>
                  </a:lnTo>
                  <a:lnTo>
                    <a:pt x="2274" y="784"/>
                  </a:lnTo>
                  <a:lnTo>
                    <a:pt x="2276" y="745"/>
                  </a:lnTo>
                  <a:lnTo>
                    <a:pt x="2279" y="705"/>
                  </a:lnTo>
                  <a:lnTo>
                    <a:pt x="2281" y="665"/>
                  </a:lnTo>
                  <a:lnTo>
                    <a:pt x="2284" y="623"/>
                  </a:lnTo>
                  <a:lnTo>
                    <a:pt x="2287" y="582"/>
                  </a:lnTo>
                  <a:lnTo>
                    <a:pt x="2289" y="541"/>
                  </a:lnTo>
                  <a:lnTo>
                    <a:pt x="2291" y="500"/>
                  </a:lnTo>
                  <a:lnTo>
                    <a:pt x="2295" y="458"/>
                  </a:lnTo>
                  <a:lnTo>
                    <a:pt x="2297" y="418"/>
                  </a:lnTo>
                  <a:lnTo>
                    <a:pt x="2300" y="378"/>
                  </a:lnTo>
                  <a:lnTo>
                    <a:pt x="2303" y="340"/>
                  </a:lnTo>
                  <a:lnTo>
                    <a:pt x="2305" y="302"/>
                  </a:lnTo>
                  <a:lnTo>
                    <a:pt x="2308" y="266"/>
                  </a:lnTo>
                  <a:lnTo>
                    <a:pt x="2310" y="232"/>
                  </a:lnTo>
                  <a:lnTo>
                    <a:pt x="2313" y="199"/>
                  </a:lnTo>
                  <a:lnTo>
                    <a:pt x="2316" y="169"/>
                  </a:lnTo>
                  <a:lnTo>
                    <a:pt x="2318" y="140"/>
                  </a:lnTo>
                  <a:lnTo>
                    <a:pt x="2321" y="115"/>
                  </a:lnTo>
                  <a:lnTo>
                    <a:pt x="2324" y="90"/>
                  </a:lnTo>
                  <a:lnTo>
                    <a:pt x="2326" y="69"/>
                  </a:lnTo>
                  <a:lnTo>
                    <a:pt x="2329" y="51"/>
                  </a:lnTo>
                  <a:lnTo>
                    <a:pt x="2332" y="34"/>
                  </a:lnTo>
                  <a:lnTo>
                    <a:pt x="2335" y="22"/>
                  </a:lnTo>
                  <a:lnTo>
                    <a:pt x="2337" y="12"/>
                  </a:lnTo>
                  <a:lnTo>
                    <a:pt x="2339" y="4"/>
                  </a:lnTo>
                  <a:lnTo>
                    <a:pt x="2343" y="1"/>
                  </a:lnTo>
                  <a:lnTo>
                    <a:pt x="2345" y="0"/>
                  </a:lnTo>
                  <a:lnTo>
                    <a:pt x="2347" y="1"/>
                  </a:lnTo>
                  <a:lnTo>
                    <a:pt x="2350" y="6"/>
                  </a:lnTo>
                  <a:lnTo>
                    <a:pt x="2353" y="14"/>
                  </a:lnTo>
                  <a:lnTo>
                    <a:pt x="2356" y="25"/>
                  </a:lnTo>
                  <a:lnTo>
                    <a:pt x="2358" y="39"/>
                  </a:lnTo>
                  <a:lnTo>
                    <a:pt x="2360" y="56"/>
                  </a:lnTo>
                  <a:lnTo>
                    <a:pt x="2364" y="75"/>
                  </a:lnTo>
                  <a:lnTo>
                    <a:pt x="2366" y="97"/>
                  </a:lnTo>
                  <a:lnTo>
                    <a:pt x="2369" y="121"/>
                  </a:lnTo>
                  <a:lnTo>
                    <a:pt x="2372" y="148"/>
                  </a:lnTo>
                  <a:lnTo>
                    <a:pt x="2374" y="177"/>
                  </a:lnTo>
                  <a:lnTo>
                    <a:pt x="2377" y="208"/>
                  </a:lnTo>
                  <a:lnTo>
                    <a:pt x="2379" y="241"/>
                  </a:lnTo>
                  <a:lnTo>
                    <a:pt x="2382" y="276"/>
                  </a:lnTo>
                  <a:lnTo>
                    <a:pt x="2385" y="312"/>
                  </a:lnTo>
                  <a:lnTo>
                    <a:pt x="2387" y="350"/>
                  </a:lnTo>
                  <a:lnTo>
                    <a:pt x="2391" y="389"/>
                  </a:lnTo>
                  <a:lnTo>
                    <a:pt x="2393" y="429"/>
                  </a:lnTo>
                  <a:lnTo>
                    <a:pt x="2395" y="469"/>
                  </a:lnTo>
                  <a:lnTo>
                    <a:pt x="2398" y="511"/>
                  </a:lnTo>
                  <a:lnTo>
                    <a:pt x="2401" y="552"/>
                  </a:lnTo>
                  <a:lnTo>
                    <a:pt x="2404" y="593"/>
                  </a:lnTo>
                  <a:lnTo>
                    <a:pt x="2406" y="635"/>
                  </a:lnTo>
                  <a:lnTo>
                    <a:pt x="2408" y="676"/>
                  </a:lnTo>
                  <a:lnTo>
                    <a:pt x="2412" y="716"/>
                  </a:lnTo>
                  <a:lnTo>
                    <a:pt x="2414" y="756"/>
                  </a:lnTo>
                  <a:lnTo>
                    <a:pt x="2416" y="794"/>
                  </a:lnTo>
                  <a:lnTo>
                    <a:pt x="2420" y="832"/>
                  </a:lnTo>
                  <a:lnTo>
                    <a:pt x="2422" y="868"/>
                  </a:lnTo>
                  <a:lnTo>
                    <a:pt x="2425" y="902"/>
                  </a:lnTo>
                  <a:lnTo>
                    <a:pt x="2427" y="935"/>
                  </a:lnTo>
                  <a:lnTo>
                    <a:pt x="2430" y="966"/>
                  </a:lnTo>
                  <a:lnTo>
                    <a:pt x="2433" y="994"/>
                  </a:lnTo>
                  <a:lnTo>
                    <a:pt x="2435" y="1020"/>
                  </a:lnTo>
                  <a:lnTo>
                    <a:pt x="2437" y="1045"/>
                  </a:lnTo>
                  <a:lnTo>
                    <a:pt x="2441" y="1066"/>
                  </a:lnTo>
                  <a:lnTo>
                    <a:pt x="2443" y="1085"/>
                  </a:lnTo>
                  <a:lnTo>
                    <a:pt x="2446" y="1101"/>
                  </a:lnTo>
                  <a:lnTo>
                    <a:pt x="2449" y="1114"/>
                  </a:lnTo>
                  <a:lnTo>
                    <a:pt x="2451" y="1124"/>
                  </a:lnTo>
                  <a:lnTo>
                    <a:pt x="2454" y="1131"/>
                  </a:lnTo>
                  <a:lnTo>
                    <a:pt x="2456" y="1135"/>
                  </a:lnTo>
                  <a:lnTo>
                    <a:pt x="2460" y="1136"/>
                  </a:lnTo>
                  <a:lnTo>
                    <a:pt x="2462" y="1135"/>
                  </a:lnTo>
                  <a:lnTo>
                    <a:pt x="2464" y="1131"/>
                  </a:lnTo>
                  <a:lnTo>
                    <a:pt x="2467" y="1123"/>
                  </a:lnTo>
                  <a:lnTo>
                    <a:pt x="2470" y="1112"/>
                  </a:lnTo>
                  <a:lnTo>
                    <a:pt x="2472" y="1099"/>
                  </a:lnTo>
                  <a:lnTo>
                    <a:pt x="2475" y="1082"/>
                  </a:lnTo>
                  <a:lnTo>
                    <a:pt x="2478" y="1063"/>
                  </a:lnTo>
                  <a:lnTo>
                    <a:pt x="2481" y="1042"/>
                  </a:lnTo>
                  <a:lnTo>
                    <a:pt x="2483" y="1017"/>
                  </a:lnTo>
                  <a:lnTo>
                    <a:pt x="2485" y="990"/>
                  </a:lnTo>
                  <a:lnTo>
                    <a:pt x="2489" y="961"/>
                  </a:lnTo>
                  <a:lnTo>
                    <a:pt x="2491" y="930"/>
                  </a:lnTo>
                  <a:lnTo>
                    <a:pt x="2494" y="898"/>
                  </a:lnTo>
                  <a:lnTo>
                    <a:pt x="2496" y="863"/>
                  </a:lnTo>
                  <a:lnTo>
                    <a:pt x="2499" y="826"/>
                  </a:lnTo>
                  <a:lnTo>
                    <a:pt x="2502" y="788"/>
                  </a:lnTo>
                  <a:lnTo>
                    <a:pt x="2504" y="751"/>
                  </a:lnTo>
                  <a:lnTo>
                    <a:pt x="2507" y="710"/>
                  </a:lnTo>
                  <a:lnTo>
                    <a:pt x="2510" y="670"/>
                  </a:lnTo>
                  <a:lnTo>
                    <a:pt x="2512" y="629"/>
                  </a:lnTo>
                  <a:lnTo>
                    <a:pt x="2515" y="588"/>
                  </a:lnTo>
                  <a:lnTo>
                    <a:pt x="2518" y="546"/>
                  </a:lnTo>
                  <a:lnTo>
                    <a:pt x="2520" y="504"/>
                  </a:lnTo>
                  <a:lnTo>
                    <a:pt x="2523" y="464"/>
                  </a:lnTo>
                  <a:lnTo>
                    <a:pt x="2525" y="423"/>
                  </a:lnTo>
                  <a:lnTo>
                    <a:pt x="2529" y="384"/>
                  </a:lnTo>
                  <a:lnTo>
                    <a:pt x="2531" y="344"/>
                  </a:lnTo>
                  <a:lnTo>
                    <a:pt x="2533" y="307"/>
                  </a:lnTo>
                  <a:lnTo>
                    <a:pt x="2537" y="271"/>
                  </a:lnTo>
                  <a:lnTo>
                    <a:pt x="2539" y="236"/>
                  </a:lnTo>
                  <a:lnTo>
                    <a:pt x="2541" y="204"/>
                  </a:lnTo>
                  <a:lnTo>
                    <a:pt x="2544" y="173"/>
                  </a:lnTo>
                  <a:lnTo>
                    <a:pt x="2547" y="144"/>
                  </a:lnTo>
                  <a:lnTo>
                    <a:pt x="2550" y="118"/>
                  </a:lnTo>
                  <a:lnTo>
                    <a:pt x="2552" y="93"/>
                  </a:lnTo>
                  <a:lnTo>
                    <a:pt x="2554" y="72"/>
                  </a:lnTo>
                  <a:lnTo>
                    <a:pt x="2558" y="53"/>
                  </a:lnTo>
                  <a:lnTo>
                    <a:pt x="2560" y="37"/>
                  </a:lnTo>
                  <a:lnTo>
                    <a:pt x="2562" y="23"/>
                  </a:lnTo>
                  <a:lnTo>
                    <a:pt x="2566" y="13"/>
                  </a:lnTo>
                  <a:lnTo>
                    <a:pt x="2568" y="5"/>
                  </a:lnTo>
                  <a:lnTo>
                    <a:pt x="2571" y="1"/>
                  </a:lnTo>
                  <a:lnTo>
                    <a:pt x="2573" y="0"/>
                  </a:lnTo>
                  <a:lnTo>
                    <a:pt x="2576" y="1"/>
                  </a:lnTo>
                  <a:lnTo>
                    <a:pt x="2579" y="5"/>
                  </a:lnTo>
                  <a:lnTo>
                    <a:pt x="2581" y="13"/>
                  </a:lnTo>
                  <a:lnTo>
                    <a:pt x="2585" y="23"/>
                  </a:lnTo>
                  <a:lnTo>
                    <a:pt x="2587" y="37"/>
                  </a:lnTo>
                  <a:lnTo>
                    <a:pt x="2589" y="53"/>
                  </a:lnTo>
                  <a:lnTo>
                    <a:pt x="2592" y="72"/>
                  </a:lnTo>
                  <a:lnTo>
                    <a:pt x="2595" y="93"/>
                  </a:lnTo>
                  <a:lnTo>
                    <a:pt x="2597" y="118"/>
                  </a:lnTo>
                  <a:lnTo>
                    <a:pt x="2600" y="145"/>
                  </a:lnTo>
                  <a:lnTo>
                    <a:pt x="2602" y="173"/>
                  </a:lnTo>
                  <a:lnTo>
                    <a:pt x="2606" y="204"/>
                  </a:lnTo>
                  <a:lnTo>
                    <a:pt x="2608" y="236"/>
                  </a:lnTo>
                  <a:lnTo>
                    <a:pt x="2610" y="271"/>
                  </a:lnTo>
                  <a:lnTo>
                    <a:pt x="2614" y="308"/>
                  </a:lnTo>
                  <a:lnTo>
                    <a:pt x="2616" y="346"/>
                  </a:lnTo>
                  <a:lnTo>
                    <a:pt x="2619" y="384"/>
                  </a:lnTo>
                  <a:lnTo>
                    <a:pt x="2621" y="424"/>
                  </a:lnTo>
                  <a:lnTo>
                    <a:pt x="2624" y="464"/>
                  </a:lnTo>
                  <a:lnTo>
                    <a:pt x="2627" y="505"/>
                  </a:lnTo>
                  <a:lnTo>
                    <a:pt x="2629" y="546"/>
                  </a:lnTo>
                  <a:lnTo>
                    <a:pt x="2631" y="588"/>
                  </a:lnTo>
                  <a:lnTo>
                    <a:pt x="2635" y="629"/>
                  </a:lnTo>
                  <a:lnTo>
                    <a:pt x="2637" y="670"/>
                  </a:lnTo>
                  <a:lnTo>
                    <a:pt x="2640" y="710"/>
                  </a:lnTo>
                  <a:lnTo>
                    <a:pt x="2642" y="751"/>
                  </a:lnTo>
                  <a:lnTo>
                    <a:pt x="2645" y="790"/>
                  </a:lnTo>
                  <a:lnTo>
                    <a:pt x="2648" y="826"/>
                  </a:lnTo>
                  <a:lnTo>
                    <a:pt x="2650" y="863"/>
                  </a:lnTo>
                  <a:lnTo>
                    <a:pt x="2653" y="898"/>
                  </a:lnTo>
                  <a:lnTo>
                    <a:pt x="2656" y="931"/>
                  </a:lnTo>
                  <a:lnTo>
                    <a:pt x="2658" y="961"/>
                  </a:lnTo>
                  <a:lnTo>
                    <a:pt x="2661" y="990"/>
                  </a:lnTo>
                  <a:lnTo>
                    <a:pt x="2664" y="1017"/>
                  </a:lnTo>
                  <a:lnTo>
                    <a:pt x="2666" y="1042"/>
                  </a:lnTo>
                  <a:lnTo>
                    <a:pt x="2669" y="1063"/>
                  </a:lnTo>
                  <a:lnTo>
                    <a:pt x="2671" y="1082"/>
                  </a:lnTo>
                  <a:lnTo>
                    <a:pt x="2675" y="1099"/>
                  </a:lnTo>
                  <a:lnTo>
                    <a:pt x="2677" y="1112"/>
                  </a:lnTo>
                  <a:lnTo>
                    <a:pt x="2679" y="1123"/>
                  </a:lnTo>
                  <a:lnTo>
                    <a:pt x="2683" y="1131"/>
                  </a:lnTo>
                  <a:lnTo>
                    <a:pt x="2685" y="1135"/>
                  </a:lnTo>
                  <a:lnTo>
                    <a:pt x="2687" y="1136"/>
                  </a:lnTo>
                  <a:lnTo>
                    <a:pt x="2690" y="1135"/>
                  </a:lnTo>
                  <a:lnTo>
                    <a:pt x="2693" y="1131"/>
                  </a:lnTo>
                  <a:lnTo>
                    <a:pt x="2696" y="1124"/>
                  </a:lnTo>
                  <a:lnTo>
                    <a:pt x="2698" y="1114"/>
                  </a:lnTo>
                  <a:lnTo>
                    <a:pt x="2700" y="1101"/>
                  </a:lnTo>
                  <a:lnTo>
                    <a:pt x="2704" y="1084"/>
                  </a:lnTo>
                  <a:lnTo>
                    <a:pt x="2706" y="1065"/>
                  </a:lnTo>
                  <a:lnTo>
                    <a:pt x="2709" y="1044"/>
                  </a:lnTo>
                  <a:lnTo>
                    <a:pt x="2712" y="1020"/>
                  </a:lnTo>
                  <a:lnTo>
                    <a:pt x="2714" y="994"/>
                  </a:lnTo>
                  <a:lnTo>
                    <a:pt x="2717" y="96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56280" y="2119320"/>
              <a:ext cx="3187800" cy="1386000"/>
            </a:xfrm>
            <a:custGeom>
              <a:avLst/>
              <a:gdLst/>
              <a:ahLst/>
              <a:rect l="l" t="t" r="r" b="b"/>
              <a:pathLst>
                <a:path w="3186" h="1136">
                  <a:moveTo>
                    <a:pt x="0" y="113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6"/>
                  </a:lnTo>
                  <a:lnTo>
                    <a:pt x="3186" y="1136"/>
                  </a:lnTo>
                  <a:lnTo>
                    <a:pt x="0" y="1136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155920" y="2119320"/>
              <a:ext cx="31878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56280" y="4073400"/>
              <a:ext cx="360" cy="1389240"/>
            </a:xfrm>
            <a:custGeom>
              <a:avLst/>
              <a:gdLst/>
              <a:ahLst/>
              <a:rect l="l" t="t" r="r" b="b"/>
              <a:pathLst>
                <a:path w="0" h="1138">
                  <a:moveTo>
                    <a:pt x="0" y="0"/>
                  </a:moveTo>
                  <a:lnTo>
                    <a:pt x="0" y="0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00120" y="557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46400" y="4610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0080" y="53020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46400" y="3916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5072040" y="546264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072040" y="47671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072040" y="40734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114520" y="546264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5114520" y="511488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5114520" y="47671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5114520" y="44197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114520" y="407340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56280" y="4073400"/>
              <a:ext cx="0" cy="13892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56280" y="4078440"/>
              <a:ext cx="3176640" cy="1379520"/>
            </a:xfrm>
            <a:custGeom>
              <a:avLst/>
              <a:gdLst/>
              <a:ahLst/>
              <a:rect l="l" t="t" r="r" b="b"/>
              <a:pathLst>
                <a:path w="2717" h="1131">
                  <a:moveTo>
                    <a:pt x="0" y="565"/>
                  </a:moveTo>
                  <a:lnTo>
                    <a:pt x="2" y="565"/>
                  </a:lnTo>
                  <a:lnTo>
                    <a:pt x="5" y="565"/>
                  </a:lnTo>
                  <a:lnTo>
                    <a:pt x="7" y="565"/>
                  </a:lnTo>
                  <a:lnTo>
                    <a:pt x="11" y="565"/>
                  </a:lnTo>
                  <a:lnTo>
                    <a:pt x="13" y="565"/>
                  </a:lnTo>
                  <a:lnTo>
                    <a:pt x="15" y="565"/>
                  </a:lnTo>
                  <a:lnTo>
                    <a:pt x="19" y="565"/>
                  </a:lnTo>
                  <a:lnTo>
                    <a:pt x="21" y="565"/>
                  </a:lnTo>
                  <a:lnTo>
                    <a:pt x="24" y="565"/>
                  </a:lnTo>
                  <a:lnTo>
                    <a:pt x="26" y="565"/>
                  </a:lnTo>
                  <a:lnTo>
                    <a:pt x="29" y="565"/>
                  </a:lnTo>
                  <a:lnTo>
                    <a:pt x="32" y="565"/>
                  </a:lnTo>
                  <a:lnTo>
                    <a:pt x="34" y="564"/>
                  </a:lnTo>
                  <a:lnTo>
                    <a:pt x="36" y="564"/>
                  </a:lnTo>
                  <a:lnTo>
                    <a:pt x="40" y="564"/>
                  </a:lnTo>
                  <a:lnTo>
                    <a:pt x="42" y="564"/>
                  </a:lnTo>
                  <a:lnTo>
                    <a:pt x="45" y="564"/>
                  </a:lnTo>
                  <a:lnTo>
                    <a:pt x="48" y="564"/>
                  </a:lnTo>
                  <a:lnTo>
                    <a:pt x="50" y="562"/>
                  </a:lnTo>
                  <a:lnTo>
                    <a:pt x="53" y="562"/>
                  </a:lnTo>
                  <a:lnTo>
                    <a:pt x="55" y="562"/>
                  </a:lnTo>
                  <a:lnTo>
                    <a:pt x="58" y="562"/>
                  </a:lnTo>
                  <a:lnTo>
                    <a:pt x="61" y="562"/>
                  </a:lnTo>
                  <a:lnTo>
                    <a:pt x="63" y="561"/>
                  </a:lnTo>
                  <a:lnTo>
                    <a:pt x="67" y="561"/>
                  </a:lnTo>
                  <a:lnTo>
                    <a:pt x="69" y="561"/>
                  </a:lnTo>
                  <a:lnTo>
                    <a:pt x="71" y="561"/>
                  </a:lnTo>
                  <a:lnTo>
                    <a:pt x="74" y="561"/>
                  </a:lnTo>
                  <a:lnTo>
                    <a:pt x="77" y="561"/>
                  </a:lnTo>
                  <a:lnTo>
                    <a:pt x="80" y="561"/>
                  </a:lnTo>
                  <a:lnTo>
                    <a:pt x="82" y="561"/>
                  </a:lnTo>
                  <a:lnTo>
                    <a:pt x="84" y="561"/>
                  </a:lnTo>
                  <a:lnTo>
                    <a:pt x="88" y="561"/>
                  </a:lnTo>
                  <a:lnTo>
                    <a:pt x="90" y="561"/>
                  </a:lnTo>
                  <a:lnTo>
                    <a:pt x="92" y="561"/>
                  </a:lnTo>
                  <a:lnTo>
                    <a:pt x="96" y="561"/>
                  </a:lnTo>
                  <a:lnTo>
                    <a:pt x="98" y="561"/>
                  </a:lnTo>
                  <a:lnTo>
                    <a:pt x="101" y="562"/>
                  </a:lnTo>
                  <a:lnTo>
                    <a:pt x="103" y="562"/>
                  </a:lnTo>
                  <a:lnTo>
                    <a:pt x="106" y="562"/>
                  </a:lnTo>
                  <a:lnTo>
                    <a:pt x="109" y="564"/>
                  </a:lnTo>
                  <a:lnTo>
                    <a:pt x="111" y="564"/>
                  </a:lnTo>
                  <a:lnTo>
                    <a:pt x="114" y="565"/>
                  </a:lnTo>
                  <a:lnTo>
                    <a:pt x="117" y="566"/>
                  </a:lnTo>
                  <a:lnTo>
                    <a:pt x="119" y="566"/>
                  </a:lnTo>
                  <a:lnTo>
                    <a:pt x="122" y="567"/>
                  </a:lnTo>
                  <a:lnTo>
                    <a:pt x="125" y="568"/>
                  </a:lnTo>
                  <a:lnTo>
                    <a:pt x="127" y="569"/>
                  </a:lnTo>
                  <a:lnTo>
                    <a:pt x="130" y="570"/>
                  </a:lnTo>
                  <a:lnTo>
                    <a:pt x="132" y="571"/>
                  </a:lnTo>
                  <a:lnTo>
                    <a:pt x="136" y="572"/>
                  </a:lnTo>
                  <a:lnTo>
                    <a:pt x="138" y="574"/>
                  </a:lnTo>
                  <a:lnTo>
                    <a:pt x="140" y="575"/>
                  </a:lnTo>
                  <a:lnTo>
                    <a:pt x="143" y="576"/>
                  </a:lnTo>
                  <a:lnTo>
                    <a:pt x="146" y="577"/>
                  </a:lnTo>
                  <a:lnTo>
                    <a:pt x="149" y="578"/>
                  </a:lnTo>
                  <a:lnTo>
                    <a:pt x="151" y="579"/>
                  </a:lnTo>
                  <a:lnTo>
                    <a:pt x="154" y="580"/>
                  </a:lnTo>
                  <a:lnTo>
                    <a:pt x="157" y="581"/>
                  </a:lnTo>
                  <a:lnTo>
                    <a:pt x="159" y="583"/>
                  </a:lnTo>
                  <a:lnTo>
                    <a:pt x="161" y="584"/>
                  </a:lnTo>
                  <a:lnTo>
                    <a:pt x="165" y="585"/>
                  </a:lnTo>
                  <a:lnTo>
                    <a:pt x="167" y="586"/>
                  </a:lnTo>
                  <a:lnTo>
                    <a:pt x="170" y="586"/>
                  </a:lnTo>
                  <a:lnTo>
                    <a:pt x="172" y="587"/>
                  </a:lnTo>
                  <a:lnTo>
                    <a:pt x="175" y="588"/>
                  </a:lnTo>
                  <a:lnTo>
                    <a:pt x="178" y="588"/>
                  </a:lnTo>
                  <a:lnTo>
                    <a:pt x="180" y="588"/>
                  </a:lnTo>
                  <a:lnTo>
                    <a:pt x="182" y="588"/>
                  </a:lnTo>
                  <a:lnTo>
                    <a:pt x="186" y="588"/>
                  </a:lnTo>
                  <a:lnTo>
                    <a:pt x="188" y="588"/>
                  </a:lnTo>
                  <a:lnTo>
                    <a:pt x="191" y="588"/>
                  </a:lnTo>
                  <a:lnTo>
                    <a:pt x="194" y="588"/>
                  </a:lnTo>
                  <a:lnTo>
                    <a:pt x="196" y="587"/>
                  </a:lnTo>
                  <a:lnTo>
                    <a:pt x="199" y="586"/>
                  </a:lnTo>
                  <a:lnTo>
                    <a:pt x="201" y="585"/>
                  </a:lnTo>
                  <a:lnTo>
                    <a:pt x="205" y="584"/>
                  </a:lnTo>
                  <a:lnTo>
                    <a:pt x="207" y="583"/>
                  </a:lnTo>
                  <a:lnTo>
                    <a:pt x="209" y="581"/>
                  </a:lnTo>
                  <a:lnTo>
                    <a:pt x="213" y="579"/>
                  </a:lnTo>
                  <a:lnTo>
                    <a:pt x="215" y="577"/>
                  </a:lnTo>
                  <a:lnTo>
                    <a:pt x="217" y="575"/>
                  </a:lnTo>
                  <a:lnTo>
                    <a:pt x="220" y="572"/>
                  </a:lnTo>
                  <a:lnTo>
                    <a:pt x="223" y="570"/>
                  </a:lnTo>
                  <a:lnTo>
                    <a:pt x="226" y="568"/>
                  </a:lnTo>
                  <a:lnTo>
                    <a:pt x="228" y="565"/>
                  </a:lnTo>
                  <a:lnTo>
                    <a:pt x="230" y="562"/>
                  </a:lnTo>
                  <a:lnTo>
                    <a:pt x="234" y="559"/>
                  </a:lnTo>
                  <a:lnTo>
                    <a:pt x="236" y="556"/>
                  </a:lnTo>
                  <a:lnTo>
                    <a:pt x="239" y="554"/>
                  </a:lnTo>
                  <a:lnTo>
                    <a:pt x="242" y="550"/>
                  </a:lnTo>
                  <a:lnTo>
                    <a:pt x="244" y="547"/>
                  </a:lnTo>
                  <a:lnTo>
                    <a:pt x="247" y="543"/>
                  </a:lnTo>
                  <a:lnTo>
                    <a:pt x="249" y="540"/>
                  </a:lnTo>
                  <a:lnTo>
                    <a:pt x="252" y="537"/>
                  </a:lnTo>
                  <a:lnTo>
                    <a:pt x="255" y="533"/>
                  </a:lnTo>
                  <a:lnTo>
                    <a:pt x="257" y="530"/>
                  </a:lnTo>
                  <a:lnTo>
                    <a:pt x="261" y="527"/>
                  </a:lnTo>
                  <a:lnTo>
                    <a:pt x="263" y="523"/>
                  </a:lnTo>
                  <a:lnTo>
                    <a:pt x="265" y="521"/>
                  </a:lnTo>
                  <a:lnTo>
                    <a:pt x="268" y="518"/>
                  </a:lnTo>
                  <a:lnTo>
                    <a:pt x="271" y="516"/>
                  </a:lnTo>
                  <a:lnTo>
                    <a:pt x="273" y="513"/>
                  </a:lnTo>
                  <a:lnTo>
                    <a:pt x="276" y="511"/>
                  </a:lnTo>
                  <a:lnTo>
                    <a:pt x="278" y="509"/>
                  </a:lnTo>
                  <a:lnTo>
                    <a:pt x="282" y="507"/>
                  </a:lnTo>
                  <a:lnTo>
                    <a:pt x="284" y="506"/>
                  </a:lnTo>
                  <a:lnTo>
                    <a:pt x="286" y="504"/>
                  </a:lnTo>
                  <a:lnTo>
                    <a:pt x="289" y="503"/>
                  </a:lnTo>
                  <a:lnTo>
                    <a:pt x="292" y="503"/>
                  </a:lnTo>
                  <a:lnTo>
                    <a:pt x="295" y="503"/>
                  </a:lnTo>
                  <a:lnTo>
                    <a:pt x="297" y="503"/>
                  </a:lnTo>
                  <a:lnTo>
                    <a:pt x="300" y="504"/>
                  </a:lnTo>
                  <a:lnTo>
                    <a:pt x="303" y="504"/>
                  </a:lnTo>
                  <a:lnTo>
                    <a:pt x="305" y="507"/>
                  </a:lnTo>
                  <a:lnTo>
                    <a:pt x="307" y="508"/>
                  </a:lnTo>
                  <a:lnTo>
                    <a:pt x="311" y="510"/>
                  </a:lnTo>
                  <a:lnTo>
                    <a:pt x="313" y="512"/>
                  </a:lnTo>
                  <a:lnTo>
                    <a:pt x="316" y="516"/>
                  </a:lnTo>
                  <a:lnTo>
                    <a:pt x="318" y="519"/>
                  </a:lnTo>
                  <a:lnTo>
                    <a:pt x="321" y="522"/>
                  </a:lnTo>
                  <a:lnTo>
                    <a:pt x="324" y="527"/>
                  </a:lnTo>
                  <a:lnTo>
                    <a:pt x="326" y="531"/>
                  </a:lnTo>
                  <a:lnTo>
                    <a:pt x="330" y="536"/>
                  </a:lnTo>
                  <a:lnTo>
                    <a:pt x="332" y="541"/>
                  </a:lnTo>
                  <a:lnTo>
                    <a:pt x="334" y="546"/>
                  </a:lnTo>
                  <a:lnTo>
                    <a:pt x="337" y="551"/>
                  </a:lnTo>
                  <a:lnTo>
                    <a:pt x="340" y="558"/>
                  </a:lnTo>
                  <a:lnTo>
                    <a:pt x="342" y="564"/>
                  </a:lnTo>
                  <a:lnTo>
                    <a:pt x="345" y="570"/>
                  </a:lnTo>
                  <a:lnTo>
                    <a:pt x="347" y="576"/>
                  </a:lnTo>
                  <a:lnTo>
                    <a:pt x="351" y="583"/>
                  </a:lnTo>
                  <a:lnTo>
                    <a:pt x="353" y="589"/>
                  </a:lnTo>
                  <a:lnTo>
                    <a:pt x="355" y="596"/>
                  </a:lnTo>
                  <a:lnTo>
                    <a:pt x="359" y="603"/>
                  </a:lnTo>
                  <a:lnTo>
                    <a:pt x="361" y="609"/>
                  </a:lnTo>
                  <a:lnTo>
                    <a:pt x="364" y="616"/>
                  </a:lnTo>
                  <a:lnTo>
                    <a:pt x="366" y="623"/>
                  </a:lnTo>
                  <a:lnTo>
                    <a:pt x="369" y="628"/>
                  </a:lnTo>
                  <a:lnTo>
                    <a:pt x="372" y="635"/>
                  </a:lnTo>
                  <a:lnTo>
                    <a:pt x="374" y="641"/>
                  </a:lnTo>
                  <a:lnTo>
                    <a:pt x="376" y="646"/>
                  </a:lnTo>
                  <a:lnTo>
                    <a:pt x="380" y="652"/>
                  </a:lnTo>
                  <a:lnTo>
                    <a:pt x="382" y="656"/>
                  </a:lnTo>
                  <a:lnTo>
                    <a:pt x="385" y="661"/>
                  </a:lnTo>
                  <a:lnTo>
                    <a:pt x="388" y="665"/>
                  </a:lnTo>
                  <a:lnTo>
                    <a:pt x="390" y="668"/>
                  </a:lnTo>
                  <a:lnTo>
                    <a:pt x="393" y="672"/>
                  </a:lnTo>
                  <a:lnTo>
                    <a:pt x="395" y="675"/>
                  </a:lnTo>
                  <a:lnTo>
                    <a:pt x="398" y="676"/>
                  </a:lnTo>
                  <a:lnTo>
                    <a:pt x="401" y="678"/>
                  </a:lnTo>
                  <a:lnTo>
                    <a:pt x="403" y="680"/>
                  </a:lnTo>
                  <a:lnTo>
                    <a:pt x="407" y="680"/>
                  </a:lnTo>
                  <a:lnTo>
                    <a:pt x="409" y="680"/>
                  </a:lnTo>
                  <a:lnTo>
                    <a:pt x="411" y="678"/>
                  </a:lnTo>
                  <a:lnTo>
                    <a:pt x="414" y="676"/>
                  </a:lnTo>
                  <a:lnTo>
                    <a:pt x="417" y="674"/>
                  </a:lnTo>
                  <a:lnTo>
                    <a:pt x="420" y="672"/>
                  </a:lnTo>
                  <a:lnTo>
                    <a:pt x="422" y="667"/>
                  </a:lnTo>
                  <a:lnTo>
                    <a:pt x="424" y="663"/>
                  </a:lnTo>
                  <a:lnTo>
                    <a:pt x="428" y="658"/>
                  </a:lnTo>
                  <a:lnTo>
                    <a:pt x="430" y="653"/>
                  </a:lnTo>
                  <a:lnTo>
                    <a:pt x="432" y="646"/>
                  </a:lnTo>
                  <a:lnTo>
                    <a:pt x="436" y="639"/>
                  </a:lnTo>
                  <a:lnTo>
                    <a:pt x="438" y="633"/>
                  </a:lnTo>
                  <a:lnTo>
                    <a:pt x="441" y="625"/>
                  </a:lnTo>
                  <a:lnTo>
                    <a:pt x="443" y="616"/>
                  </a:lnTo>
                  <a:lnTo>
                    <a:pt x="446" y="607"/>
                  </a:lnTo>
                  <a:lnTo>
                    <a:pt x="449" y="598"/>
                  </a:lnTo>
                  <a:lnTo>
                    <a:pt x="451" y="588"/>
                  </a:lnTo>
                  <a:lnTo>
                    <a:pt x="454" y="578"/>
                  </a:lnTo>
                  <a:lnTo>
                    <a:pt x="457" y="568"/>
                  </a:lnTo>
                  <a:lnTo>
                    <a:pt x="459" y="557"/>
                  </a:lnTo>
                  <a:lnTo>
                    <a:pt x="462" y="546"/>
                  </a:lnTo>
                  <a:lnTo>
                    <a:pt x="464" y="536"/>
                  </a:lnTo>
                  <a:lnTo>
                    <a:pt x="467" y="525"/>
                  </a:lnTo>
                  <a:lnTo>
                    <a:pt x="470" y="513"/>
                  </a:lnTo>
                  <a:lnTo>
                    <a:pt x="472" y="502"/>
                  </a:lnTo>
                  <a:lnTo>
                    <a:pt x="476" y="492"/>
                  </a:lnTo>
                  <a:lnTo>
                    <a:pt x="478" y="481"/>
                  </a:lnTo>
                  <a:lnTo>
                    <a:pt x="480" y="471"/>
                  </a:lnTo>
                  <a:lnTo>
                    <a:pt x="483" y="461"/>
                  </a:lnTo>
                  <a:lnTo>
                    <a:pt x="486" y="451"/>
                  </a:lnTo>
                  <a:lnTo>
                    <a:pt x="489" y="442"/>
                  </a:lnTo>
                  <a:lnTo>
                    <a:pt x="491" y="433"/>
                  </a:lnTo>
                  <a:lnTo>
                    <a:pt x="493" y="425"/>
                  </a:lnTo>
                  <a:lnTo>
                    <a:pt x="497" y="417"/>
                  </a:lnTo>
                  <a:lnTo>
                    <a:pt x="499" y="411"/>
                  </a:lnTo>
                  <a:lnTo>
                    <a:pt x="501" y="404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0" y="391"/>
                  </a:lnTo>
                  <a:lnTo>
                    <a:pt x="512" y="388"/>
                  </a:lnTo>
                  <a:lnTo>
                    <a:pt x="515" y="386"/>
                  </a:lnTo>
                  <a:lnTo>
                    <a:pt x="518" y="385"/>
                  </a:lnTo>
                  <a:lnTo>
                    <a:pt x="520" y="385"/>
                  </a:lnTo>
                  <a:lnTo>
                    <a:pt x="522" y="386"/>
                  </a:lnTo>
                  <a:lnTo>
                    <a:pt x="526" y="388"/>
                  </a:lnTo>
                  <a:lnTo>
                    <a:pt x="528" y="391"/>
                  </a:lnTo>
                  <a:lnTo>
                    <a:pt x="531" y="395"/>
                  </a:lnTo>
                  <a:lnTo>
                    <a:pt x="534" y="401"/>
                  </a:lnTo>
                  <a:lnTo>
                    <a:pt x="536" y="406"/>
                  </a:lnTo>
                  <a:lnTo>
                    <a:pt x="539" y="413"/>
                  </a:lnTo>
                  <a:lnTo>
                    <a:pt x="541" y="421"/>
                  </a:lnTo>
                  <a:lnTo>
                    <a:pt x="545" y="430"/>
                  </a:lnTo>
                  <a:lnTo>
                    <a:pt x="547" y="440"/>
                  </a:lnTo>
                  <a:lnTo>
                    <a:pt x="549" y="451"/>
                  </a:lnTo>
                  <a:lnTo>
                    <a:pt x="553" y="462"/>
                  </a:lnTo>
                  <a:lnTo>
                    <a:pt x="555" y="474"/>
                  </a:lnTo>
                  <a:lnTo>
                    <a:pt x="557" y="487"/>
                  </a:lnTo>
                  <a:lnTo>
                    <a:pt x="560" y="500"/>
                  </a:lnTo>
                  <a:lnTo>
                    <a:pt x="563" y="514"/>
                  </a:lnTo>
                  <a:lnTo>
                    <a:pt x="566" y="529"/>
                  </a:lnTo>
                  <a:lnTo>
                    <a:pt x="568" y="545"/>
                  </a:lnTo>
                  <a:lnTo>
                    <a:pt x="570" y="559"/>
                  </a:lnTo>
                  <a:lnTo>
                    <a:pt x="574" y="575"/>
                  </a:lnTo>
                  <a:lnTo>
                    <a:pt x="576" y="591"/>
                  </a:lnTo>
                  <a:lnTo>
                    <a:pt x="579" y="607"/>
                  </a:lnTo>
                  <a:lnTo>
                    <a:pt x="582" y="623"/>
                  </a:lnTo>
                  <a:lnTo>
                    <a:pt x="584" y="639"/>
                  </a:lnTo>
                  <a:lnTo>
                    <a:pt x="587" y="655"/>
                  </a:lnTo>
                  <a:lnTo>
                    <a:pt x="589" y="671"/>
                  </a:lnTo>
                  <a:lnTo>
                    <a:pt x="592" y="685"/>
                  </a:lnTo>
                  <a:lnTo>
                    <a:pt x="595" y="700"/>
                  </a:lnTo>
                  <a:lnTo>
                    <a:pt x="597" y="714"/>
                  </a:lnTo>
                  <a:lnTo>
                    <a:pt x="600" y="728"/>
                  </a:lnTo>
                  <a:lnTo>
                    <a:pt x="603" y="741"/>
                  </a:lnTo>
                  <a:lnTo>
                    <a:pt x="605" y="753"/>
                  </a:lnTo>
                  <a:lnTo>
                    <a:pt x="608" y="764"/>
                  </a:lnTo>
                  <a:lnTo>
                    <a:pt x="611" y="774"/>
                  </a:lnTo>
                  <a:lnTo>
                    <a:pt x="613" y="784"/>
                  </a:lnTo>
                  <a:lnTo>
                    <a:pt x="616" y="792"/>
                  </a:lnTo>
                  <a:lnTo>
                    <a:pt x="618" y="799"/>
                  </a:lnTo>
                  <a:lnTo>
                    <a:pt x="622" y="806"/>
                  </a:lnTo>
                  <a:lnTo>
                    <a:pt x="624" y="810"/>
                  </a:lnTo>
                  <a:lnTo>
                    <a:pt x="626" y="813"/>
                  </a:lnTo>
                  <a:lnTo>
                    <a:pt x="629" y="816"/>
                  </a:lnTo>
                  <a:lnTo>
                    <a:pt x="632" y="817"/>
                  </a:lnTo>
                  <a:lnTo>
                    <a:pt x="635" y="817"/>
                  </a:lnTo>
                  <a:lnTo>
                    <a:pt x="637" y="815"/>
                  </a:lnTo>
                  <a:lnTo>
                    <a:pt x="639" y="811"/>
                  </a:lnTo>
                  <a:lnTo>
                    <a:pt x="643" y="807"/>
                  </a:lnTo>
                  <a:lnTo>
                    <a:pt x="645" y="801"/>
                  </a:lnTo>
                  <a:lnTo>
                    <a:pt x="647" y="793"/>
                  </a:lnTo>
                  <a:lnTo>
                    <a:pt x="651" y="784"/>
                  </a:lnTo>
                  <a:lnTo>
                    <a:pt x="653" y="774"/>
                  </a:lnTo>
                  <a:lnTo>
                    <a:pt x="656" y="763"/>
                  </a:lnTo>
                  <a:lnTo>
                    <a:pt x="658" y="751"/>
                  </a:lnTo>
                  <a:lnTo>
                    <a:pt x="661" y="738"/>
                  </a:lnTo>
                  <a:lnTo>
                    <a:pt x="664" y="722"/>
                  </a:lnTo>
                  <a:lnTo>
                    <a:pt x="666" y="706"/>
                  </a:lnTo>
                  <a:lnTo>
                    <a:pt x="670" y="690"/>
                  </a:lnTo>
                  <a:lnTo>
                    <a:pt x="672" y="672"/>
                  </a:lnTo>
                  <a:lnTo>
                    <a:pt x="674" y="653"/>
                  </a:lnTo>
                  <a:lnTo>
                    <a:pt x="677" y="634"/>
                  </a:lnTo>
                  <a:lnTo>
                    <a:pt x="680" y="614"/>
                  </a:lnTo>
                  <a:lnTo>
                    <a:pt x="682" y="594"/>
                  </a:lnTo>
                  <a:lnTo>
                    <a:pt x="685" y="574"/>
                  </a:lnTo>
                  <a:lnTo>
                    <a:pt x="687" y="552"/>
                  </a:lnTo>
                  <a:lnTo>
                    <a:pt x="691" y="531"/>
                  </a:lnTo>
                  <a:lnTo>
                    <a:pt x="693" y="509"/>
                  </a:lnTo>
                  <a:lnTo>
                    <a:pt x="695" y="488"/>
                  </a:lnTo>
                  <a:lnTo>
                    <a:pt x="699" y="467"/>
                  </a:lnTo>
                  <a:lnTo>
                    <a:pt x="701" y="446"/>
                  </a:lnTo>
                  <a:lnTo>
                    <a:pt x="704" y="425"/>
                  </a:lnTo>
                  <a:lnTo>
                    <a:pt x="706" y="406"/>
                  </a:lnTo>
                  <a:lnTo>
                    <a:pt x="709" y="386"/>
                  </a:lnTo>
                  <a:lnTo>
                    <a:pt x="712" y="368"/>
                  </a:lnTo>
                  <a:lnTo>
                    <a:pt x="714" y="350"/>
                  </a:lnTo>
                  <a:lnTo>
                    <a:pt x="716" y="334"/>
                  </a:lnTo>
                  <a:lnTo>
                    <a:pt x="720" y="318"/>
                  </a:lnTo>
                  <a:lnTo>
                    <a:pt x="722" y="304"/>
                  </a:lnTo>
                  <a:lnTo>
                    <a:pt x="725" y="290"/>
                  </a:lnTo>
                  <a:lnTo>
                    <a:pt x="728" y="278"/>
                  </a:lnTo>
                  <a:lnTo>
                    <a:pt x="730" y="268"/>
                  </a:lnTo>
                  <a:lnTo>
                    <a:pt x="733" y="259"/>
                  </a:lnTo>
                  <a:lnTo>
                    <a:pt x="735" y="251"/>
                  </a:lnTo>
                  <a:lnTo>
                    <a:pt x="738" y="246"/>
                  </a:lnTo>
                  <a:lnTo>
                    <a:pt x="741" y="241"/>
                  </a:lnTo>
                  <a:lnTo>
                    <a:pt x="743" y="239"/>
                  </a:lnTo>
                  <a:lnTo>
                    <a:pt x="746" y="238"/>
                  </a:lnTo>
                  <a:lnTo>
                    <a:pt x="749" y="239"/>
                  </a:lnTo>
                  <a:lnTo>
                    <a:pt x="751" y="241"/>
                  </a:lnTo>
                  <a:lnTo>
                    <a:pt x="754" y="247"/>
                  </a:lnTo>
                  <a:lnTo>
                    <a:pt x="757" y="252"/>
                  </a:lnTo>
                  <a:lnTo>
                    <a:pt x="760" y="261"/>
                  </a:lnTo>
                  <a:lnTo>
                    <a:pt x="762" y="270"/>
                  </a:lnTo>
                  <a:lnTo>
                    <a:pt x="764" y="282"/>
                  </a:lnTo>
                  <a:lnTo>
                    <a:pt x="768" y="295"/>
                  </a:lnTo>
                  <a:lnTo>
                    <a:pt x="770" y="310"/>
                  </a:lnTo>
                  <a:lnTo>
                    <a:pt x="772" y="326"/>
                  </a:lnTo>
                  <a:lnTo>
                    <a:pt x="775" y="344"/>
                  </a:lnTo>
                  <a:lnTo>
                    <a:pt x="778" y="363"/>
                  </a:lnTo>
                  <a:lnTo>
                    <a:pt x="781" y="383"/>
                  </a:lnTo>
                  <a:lnTo>
                    <a:pt x="783" y="405"/>
                  </a:lnTo>
                  <a:lnTo>
                    <a:pt x="786" y="427"/>
                  </a:lnTo>
                  <a:lnTo>
                    <a:pt x="789" y="451"/>
                  </a:lnTo>
                  <a:lnTo>
                    <a:pt x="791" y="475"/>
                  </a:lnTo>
                  <a:lnTo>
                    <a:pt x="794" y="501"/>
                  </a:lnTo>
                  <a:lnTo>
                    <a:pt x="797" y="527"/>
                  </a:lnTo>
                  <a:lnTo>
                    <a:pt x="799" y="552"/>
                  </a:lnTo>
                  <a:lnTo>
                    <a:pt x="802" y="579"/>
                  </a:lnTo>
                  <a:lnTo>
                    <a:pt x="804" y="606"/>
                  </a:lnTo>
                  <a:lnTo>
                    <a:pt x="807" y="633"/>
                  </a:lnTo>
                  <a:lnTo>
                    <a:pt x="810" y="658"/>
                  </a:lnTo>
                  <a:lnTo>
                    <a:pt x="812" y="685"/>
                  </a:lnTo>
                  <a:lnTo>
                    <a:pt x="816" y="711"/>
                  </a:lnTo>
                  <a:lnTo>
                    <a:pt x="818" y="736"/>
                  </a:lnTo>
                  <a:lnTo>
                    <a:pt x="820" y="761"/>
                  </a:lnTo>
                  <a:lnTo>
                    <a:pt x="823" y="784"/>
                  </a:lnTo>
                  <a:lnTo>
                    <a:pt x="826" y="808"/>
                  </a:lnTo>
                  <a:lnTo>
                    <a:pt x="829" y="829"/>
                  </a:lnTo>
                  <a:lnTo>
                    <a:pt x="831" y="849"/>
                  </a:lnTo>
                  <a:lnTo>
                    <a:pt x="833" y="868"/>
                  </a:lnTo>
                  <a:lnTo>
                    <a:pt x="837" y="886"/>
                  </a:lnTo>
                  <a:lnTo>
                    <a:pt x="839" y="903"/>
                  </a:lnTo>
                  <a:lnTo>
                    <a:pt x="841" y="916"/>
                  </a:lnTo>
                  <a:lnTo>
                    <a:pt x="845" y="929"/>
                  </a:lnTo>
                  <a:lnTo>
                    <a:pt x="847" y="939"/>
                  </a:lnTo>
                  <a:lnTo>
                    <a:pt x="850" y="948"/>
                  </a:lnTo>
                  <a:lnTo>
                    <a:pt x="852" y="955"/>
                  </a:lnTo>
                  <a:lnTo>
                    <a:pt x="855" y="961"/>
                  </a:lnTo>
                  <a:lnTo>
                    <a:pt x="858" y="963"/>
                  </a:lnTo>
                  <a:lnTo>
                    <a:pt x="860" y="963"/>
                  </a:lnTo>
                  <a:lnTo>
                    <a:pt x="862" y="962"/>
                  </a:lnTo>
                  <a:lnTo>
                    <a:pt x="866" y="958"/>
                  </a:lnTo>
                  <a:lnTo>
                    <a:pt x="868" y="952"/>
                  </a:lnTo>
                  <a:lnTo>
                    <a:pt x="871" y="944"/>
                  </a:lnTo>
                  <a:lnTo>
                    <a:pt x="874" y="934"/>
                  </a:lnTo>
                  <a:lnTo>
                    <a:pt x="876" y="922"/>
                  </a:lnTo>
                  <a:lnTo>
                    <a:pt x="879" y="907"/>
                  </a:lnTo>
                  <a:lnTo>
                    <a:pt x="881" y="892"/>
                  </a:lnTo>
                  <a:lnTo>
                    <a:pt x="885" y="874"/>
                  </a:lnTo>
                  <a:lnTo>
                    <a:pt x="887" y="854"/>
                  </a:lnTo>
                  <a:lnTo>
                    <a:pt x="889" y="831"/>
                  </a:lnTo>
                  <a:lnTo>
                    <a:pt x="893" y="809"/>
                  </a:lnTo>
                  <a:lnTo>
                    <a:pt x="895" y="784"/>
                  </a:lnTo>
                  <a:lnTo>
                    <a:pt x="897" y="758"/>
                  </a:lnTo>
                  <a:lnTo>
                    <a:pt x="900" y="731"/>
                  </a:lnTo>
                  <a:lnTo>
                    <a:pt x="903" y="703"/>
                  </a:lnTo>
                  <a:lnTo>
                    <a:pt x="906" y="673"/>
                  </a:lnTo>
                  <a:lnTo>
                    <a:pt x="908" y="643"/>
                  </a:lnTo>
                  <a:lnTo>
                    <a:pt x="910" y="613"/>
                  </a:lnTo>
                  <a:lnTo>
                    <a:pt x="914" y="581"/>
                  </a:lnTo>
                  <a:lnTo>
                    <a:pt x="916" y="550"/>
                  </a:lnTo>
                  <a:lnTo>
                    <a:pt x="919" y="519"/>
                  </a:lnTo>
                  <a:lnTo>
                    <a:pt x="921" y="487"/>
                  </a:lnTo>
                  <a:lnTo>
                    <a:pt x="924" y="455"/>
                  </a:lnTo>
                  <a:lnTo>
                    <a:pt x="927" y="424"/>
                  </a:lnTo>
                  <a:lnTo>
                    <a:pt x="929" y="394"/>
                  </a:lnTo>
                  <a:lnTo>
                    <a:pt x="932" y="364"/>
                  </a:lnTo>
                  <a:lnTo>
                    <a:pt x="935" y="336"/>
                  </a:lnTo>
                  <a:lnTo>
                    <a:pt x="937" y="308"/>
                  </a:lnTo>
                  <a:lnTo>
                    <a:pt x="940" y="281"/>
                  </a:lnTo>
                  <a:lnTo>
                    <a:pt x="943" y="256"/>
                  </a:lnTo>
                  <a:lnTo>
                    <a:pt x="945" y="232"/>
                  </a:lnTo>
                  <a:lnTo>
                    <a:pt x="948" y="210"/>
                  </a:lnTo>
                  <a:lnTo>
                    <a:pt x="950" y="190"/>
                  </a:lnTo>
                  <a:lnTo>
                    <a:pt x="953" y="171"/>
                  </a:lnTo>
                  <a:lnTo>
                    <a:pt x="956" y="154"/>
                  </a:lnTo>
                  <a:lnTo>
                    <a:pt x="958" y="141"/>
                  </a:lnTo>
                  <a:lnTo>
                    <a:pt x="962" y="129"/>
                  </a:lnTo>
                  <a:lnTo>
                    <a:pt x="964" y="118"/>
                  </a:lnTo>
                  <a:lnTo>
                    <a:pt x="966" y="111"/>
                  </a:lnTo>
                  <a:lnTo>
                    <a:pt x="969" y="105"/>
                  </a:lnTo>
                  <a:lnTo>
                    <a:pt x="972" y="103"/>
                  </a:lnTo>
                  <a:lnTo>
                    <a:pt x="975" y="103"/>
                  </a:lnTo>
                  <a:lnTo>
                    <a:pt x="977" y="105"/>
                  </a:lnTo>
                  <a:lnTo>
                    <a:pt x="979" y="110"/>
                  </a:lnTo>
                  <a:lnTo>
                    <a:pt x="983" y="116"/>
                  </a:lnTo>
                  <a:lnTo>
                    <a:pt x="985" y="126"/>
                  </a:lnTo>
                  <a:lnTo>
                    <a:pt x="987" y="139"/>
                  </a:lnTo>
                  <a:lnTo>
                    <a:pt x="991" y="152"/>
                  </a:lnTo>
                  <a:lnTo>
                    <a:pt x="993" y="169"/>
                  </a:lnTo>
                  <a:lnTo>
                    <a:pt x="996" y="188"/>
                  </a:lnTo>
                  <a:lnTo>
                    <a:pt x="998" y="209"/>
                  </a:lnTo>
                  <a:lnTo>
                    <a:pt x="1001" y="232"/>
                  </a:lnTo>
                  <a:lnTo>
                    <a:pt x="1004" y="257"/>
                  </a:lnTo>
                  <a:lnTo>
                    <a:pt x="1006" y="284"/>
                  </a:lnTo>
                  <a:lnTo>
                    <a:pt x="1010" y="311"/>
                  </a:lnTo>
                  <a:lnTo>
                    <a:pt x="1012" y="342"/>
                  </a:lnTo>
                  <a:lnTo>
                    <a:pt x="1014" y="373"/>
                  </a:lnTo>
                  <a:lnTo>
                    <a:pt x="1017" y="405"/>
                  </a:lnTo>
                  <a:lnTo>
                    <a:pt x="1020" y="439"/>
                  </a:lnTo>
                  <a:lnTo>
                    <a:pt x="1022" y="473"/>
                  </a:lnTo>
                  <a:lnTo>
                    <a:pt x="1025" y="508"/>
                  </a:lnTo>
                  <a:lnTo>
                    <a:pt x="1027" y="543"/>
                  </a:lnTo>
                  <a:lnTo>
                    <a:pt x="1031" y="579"/>
                  </a:lnTo>
                  <a:lnTo>
                    <a:pt x="1033" y="615"/>
                  </a:lnTo>
                  <a:lnTo>
                    <a:pt x="1035" y="651"/>
                  </a:lnTo>
                  <a:lnTo>
                    <a:pt x="1039" y="686"/>
                  </a:lnTo>
                  <a:lnTo>
                    <a:pt x="1041" y="721"/>
                  </a:lnTo>
                  <a:lnTo>
                    <a:pt x="1044" y="755"/>
                  </a:lnTo>
                  <a:lnTo>
                    <a:pt x="1046" y="789"/>
                  </a:lnTo>
                  <a:lnTo>
                    <a:pt x="1049" y="821"/>
                  </a:lnTo>
                  <a:lnTo>
                    <a:pt x="1052" y="852"/>
                  </a:lnTo>
                  <a:lnTo>
                    <a:pt x="1054" y="881"/>
                  </a:lnTo>
                  <a:lnTo>
                    <a:pt x="1056" y="910"/>
                  </a:lnTo>
                  <a:lnTo>
                    <a:pt x="1060" y="936"/>
                  </a:lnTo>
                  <a:lnTo>
                    <a:pt x="1062" y="961"/>
                  </a:lnTo>
                  <a:lnTo>
                    <a:pt x="1065" y="984"/>
                  </a:lnTo>
                  <a:lnTo>
                    <a:pt x="1068" y="1004"/>
                  </a:lnTo>
                  <a:lnTo>
                    <a:pt x="1070" y="1022"/>
                  </a:lnTo>
                  <a:lnTo>
                    <a:pt x="1073" y="1038"/>
                  </a:lnTo>
                  <a:lnTo>
                    <a:pt x="1075" y="1051"/>
                  </a:lnTo>
                  <a:lnTo>
                    <a:pt x="1078" y="1062"/>
                  </a:lnTo>
                  <a:lnTo>
                    <a:pt x="1081" y="1070"/>
                  </a:lnTo>
                  <a:lnTo>
                    <a:pt x="1083" y="1076"/>
                  </a:lnTo>
                  <a:lnTo>
                    <a:pt x="1086" y="1079"/>
                  </a:lnTo>
                  <a:lnTo>
                    <a:pt x="1089" y="1079"/>
                  </a:lnTo>
                  <a:lnTo>
                    <a:pt x="1091" y="1076"/>
                  </a:lnTo>
                  <a:lnTo>
                    <a:pt x="1094" y="1070"/>
                  </a:lnTo>
                  <a:lnTo>
                    <a:pt x="1096" y="1062"/>
                  </a:lnTo>
                  <a:lnTo>
                    <a:pt x="1100" y="1051"/>
                  </a:lnTo>
                  <a:lnTo>
                    <a:pt x="1102" y="1038"/>
                  </a:lnTo>
                  <a:lnTo>
                    <a:pt x="1104" y="1022"/>
                  </a:lnTo>
                  <a:lnTo>
                    <a:pt x="1108" y="1003"/>
                  </a:lnTo>
                  <a:lnTo>
                    <a:pt x="1110" y="982"/>
                  </a:lnTo>
                  <a:lnTo>
                    <a:pt x="1112" y="958"/>
                  </a:lnTo>
                  <a:lnTo>
                    <a:pt x="1115" y="933"/>
                  </a:lnTo>
                  <a:lnTo>
                    <a:pt x="1118" y="905"/>
                  </a:lnTo>
                  <a:lnTo>
                    <a:pt x="1121" y="876"/>
                  </a:lnTo>
                  <a:lnTo>
                    <a:pt x="1123" y="845"/>
                  </a:lnTo>
                  <a:lnTo>
                    <a:pt x="1125" y="811"/>
                  </a:lnTo>
                  <a:lnTo>
                    <a:pt x="1129" y="778"/>
                  </a:lnTo>
                  <a:lnTo>
                    <a:pt x="1131" y="742"/>
                  </a:lnTo>
                  <a:lnTo>
                    <a:pt x="1134" y="705"/>
                  </a:lnTo>
                  <a:lnTo>
                    <a:pt x="1137" y="667"/>
                  </a:lnTo>
                  <a:lnTo>
                    <a:pt x="1139" y="629"/>
                  </a:lnTo>
                  <a:lnTo>
                    <a:pt x="1142" y="590"/>
                  </a:lnTo>
                  <a:lnTo>
                    <a:pt x="1144" y="551"/>
                  </a:lnTo>
                  <a:lnTo>
                    <a:pt x="1147" y="512"/>
                  </a:lnTo>
                  <a:lnTo>
                    <a:pt x="1150" y="474"/>
                  </a:lnTo>
                  <a:lnTo>
                    <a:pt x="1152" y="435"/>
                  </a:lnTo>
                  <a:lnTo>
                    <a:pt x="1156" y="397"/>
                  </a:lnTo>
                  <a:lnTo>
                    <a:pt x="1158" y="361"/>
                  </a:lnTo>
                  <a:lnTo>
                    <a:pt x="1160" y="325"/>
                  </a:lnTo>
                  <a:lnTo>
                    <a:pt x="1163" y="289"/>
                  </a:lnTo>
                  <a:lnTo>
                    <a:pt x="1166" y="256"/>
                  </a:lnTo>
                  <a:lnTo>
                    <a:pt x="1169" y="223"/>
                  </a:lnTo>
                  <a:lnTo>
                    <a:pt x="1171" y="193"/>
                  </a:lnTo>
                  <a:lnTo>
                    <a:pt x="1173" y="165"/>
                  </a:lnTo>
                  <a:lnTo>
                    <a:pt x="1177" y="139"/>
                  </a:lnTo>
                  <a:lnTo>
                    <a:pt x="1179" y="115"/>
                  </a:lnTo>
                  <a:lnTo>
                    <a:pt x="1181" y="93"/>
                  </a:lnTo>
                  <a:lnTo>
                    <a:pt x="1185" y="74"/>
                  </a:lnTo>
                  <a:lnTo>
                    <a:pt x="1187" y="57"/>
                  </a:lnTo>
                  <a:lnTo>
                    <a:pt x="1190" y="43"/>
                  </a:lnTo>
                  <a:lnTo>
                    <a:pt x="1192" y="31"/>
                  </a:lnTo>
                  <a:lnTo>
                    <a:pt x="1195" y="24"/>
                  </a:lnTo>
                  <a:lnTo>
                    <a:pt x="1198" y="18"/>
                  </a:lnTo>
                  <a:lnTo>
                    <a:pt x="1200" y="15"/>
                  </a:lnTo>
                  <a:lnTo>
                    <a:pt x="1202" y="16"/>
                  </a:lnTo>
                  <a:lnTo>
                    <a:pt x="1206" y="18"/>
                  </a:lnTo>
                  <a:lnTo>
                    <a:pt x="1208" y="25"/>
                  </a:lnTo>
                  <a:lnTo>
                    <a:pt x="1211" y="34"/>
                  </a:lnTo>
                  <a:lnTo>
                    <a:pt x="1214" y="46"/>
                  </a:lnTo>
                  <a:lnTo>
                    <a:pt x="1216" y="60"/>
                  </a:lnTo>
                  <a:lnTo>
                    <a:pt x="1219" y="77"/>
                  </a:lnTo>
                  <a:lnTo>
                    <a:pt x="1221" y="97"/>
                  </a:lnTo>
                  <a:lnTo>
                    <a:pt x="1225" y="121"/>
                  </a:lnTo>
                  <a:lnTo>
                    <a:pt x="1227" y="145"/>
                  </a:lnTo>
                  <a:lnTo>
                    <a:pt x="1229" y="173"/>
                  </a:lnTo>
                  <a:lnTo>
                    <a:pt x="1232" y="202"/>
                  </a:lnTo>
                  <a:lnTo>
                    <a:pt x="1235" y="233"/>
                  </a:lnTo>
                  <a:lnTo>
                    <a:pt x="1237" y="267"/>
                  </a:lnTo>
                  <a:lnTo>
                    <a:pt x="1240" y="301"/>
                  </a:lnTo>
                  <a:lnTo>
                    <a:pt x="1243" y="338"/>
                  </a:lnTo>
                  <a:lnTo>
                    <a:pt x="1246" y="376"/>
                  </a:lnTo>
                  <a:lnTo>
                    <a:pt x="1248" y="414"/>
                  </a:lnTo>
                  <a:lnTo>
                    <a:pt x="1250" y="454"/>
                  </a:lnTo>
                  <a:lnTo>
                    <a:pt x="1254" y="494"/>
                  </a:lnTo>
                  <a:lnTo>
                    <a:pt x="1256" y="535"/>
                  </a:lnTo>
                  <a:lnTo>
                    <a:pt x="1259" y="576"/>
                  </a:lnTo>
                  <a:lnTo>
                    <a:pt x="1261" y="617"/>
                  </a:lnTo>
                  <a:lnTo>
                    <a:pt x="1264" y="657"/>
                  </a:lnTo>
                  <a:lnTo>
                    <a:pt x="1267" y="697"/>
                  </a:lnTo>
                  <a:lnTo>
                    <a:pt x="1269" y="738"/>
                  </a:lnTo>
                  <a:lnTo>
                    <a:pt x="1271" y="775"/>
                  </a:lnTo>
                  <a:lnTo>
                    <a:pt x="1275" y="813"/>
                  </a:lnTo>
                  <a:lnTo>
                    <a:pt x="1277" y="850"/>
                  </a:lnTo>
                  <a:lnTo>
                    <a:pt x="1280" y="885"/>
                  </a:lnTo>
                  <a:lnTo>
                    <a:pt x="1283" y="918"/>
                  </a:lnTo>
                  <a:lnTo>
                    <a:pt x="1285" y="950"/>
                  </a:lnTo>
                  <a:lnTo>
                    <a:pt x="1288" y="979"/>
                  </a:lnTo>
                  <a:lnTo>
                    <a:pt x="1290" y="1005"/>
                  </a:lnTo>
                  <a:lnTo>
                    <a:pt x="1293" y="1031"/>
                  </a:lnTo>
                  <a:lnTo>
                    <a:pt x="1296" y="1053"/>
                  </a:lnTo>
                  <a:lnTo>
                    <a:pt x="1298" y="1072"/>
                  </a:lnTo>
                  <a:lnTo>
                    <a:pt x="1302" y="1090"/>
                  </a:lnTo>
                  <a:lnTo>
                    <a:pt x="1304" y="1103"/>
                  </a:lnTo>
                  <a:lnTo>
                    <a:pt x="1306" y="1116"/>
                  </a:lnTo>
                  <a:lnTo>
                    <a:pt x="1309" y="1124"/>
                  </a:lnTo>
                  <a:lnTo>
                    <a:pt x="1312" y="1129"/>
                  </a:lnTo>
                  <a:lnTo>
                    <a:pt x="1315" y="1131"/>
                  </a:lnTo>
                  <a:lnTo>
                    <a:pt x="1317" y="1131"/>
                  </a:lnTo>
                  <a:lnTo>
                    <a:pt x="1319" y="1128"/>
                  </a:lnTo>
                  <a:lnTo>
                    <a:pt x="1323" y="1121"/>
                  </a:lnTo>
                  <a:lnTo>
                    <a:pt x="1325" y="1111"/>
                  </a:lnTo>
                  <a:lnTo>
                    <a:pt x="1327" y="1099"/>
                  </a:lnTo>
                  <a:lnTo>
                    <a:pt x="1331" y="1083"/>
                  </a:lnTo>
                  <a:lnTo>
                    <a:pt x="1333" y="1066"/>
                  </a:lnTo>
                  <a:lnTo>
                    <a:pt x="1336" y="1045"/>
                  </a:lnTo>
                  <a:lnTo>
                    <a:pt x="1338" y="1022"/>
                  </a:lnTo>
                  <a:lnTo>
                    <a:pt x="1341" y="995"/>
                  </a:lnTo>
                  <a:lnTo>
                    <a:pt x="1344" y="967"/>
                  </a:lnTo>
                  <a:lnTo>
                    <a:pt x="1346" y="937"/>
                  </a:lnTo>
                  <a:lnTo>
                    <a:pt x="1350" y="905"/>
                  </a:lnTo>
                  <a:lnTo>
                    <a:pt x="1352" y="871"/>
                  </a:lnTo>
                  <a:lnTo>
                    <a:pt x="1354" y="836"/>
                  </a:lnTo>
                  <a:lnTo>
                    <a:pt x="1357" y="798"/>
                  </a:lnTo>
                  <a:lnTo>
                    <a:pt x="1360" y="760"/>
                  </a:lnTo>
                  <a:lnTo>
                    <a:pt x="1362" y="720"/>
                  </a:lnTo>
                  <a:lnTo>
                    <a:pt x="1365" y="680"/>
                  </a:lnTo>
                  <a:lnTo>
                    <a:pt x="1367" y="639"/>
                  </a:lnTo>
                  <a:lnTo>
                    <a:pt x="1371" y="598"/>
                  </a:lnTo>
                  <a:lnTo>
                    <a:pt x="1373" y="557"/>
                  </a:lnTo>
                  <a:lnTo>
                    <a:pt x="1375" y="514"/>
                  </a:lnTo>
                  <a:lnTo>
                    <a:pt x="1378" y="474"/>
                  </a:lnTo>
                  <a:lnTo>
                    <a:pt x="1381" y="433"/>
                  </a:lnTo>
                  <a:lnTo>
                    <a:pt x="1384" y="393"/>
                  </a:lnTo>
                  <a:lnTo>
                    <a:pt x="1386" y="354"/>
                  </a:lnTo>
                  <a:lnTo>
                    <a:pt x="1389" y="316"/>
                  </a:lnTo>
                  <a:lnTo>
                    <a:pt x="1392" y="280"/>
                  </a:lnTo>
                  <a:lnTo>
                    <a:pt x="1394" y="245"/>
                  </a:lnTo>
                  <a:lnTo>
                    <a:pt x="1396" y="211"/>
                  </a:lnTo>
                  <a:lnTo>
                    <a:pt x="1400" y="180"/>
                  </a:lnTo>
                  <a:lnTo>
                    <a:pt x="1402" y="151"/>
                  </a:lnTo>
                  <a:lnTo>
                    <a:pt x="1405" y="124"/>
                  </a:lnTo>
                  <a:lnTo>
                    <a:pt x="1407" y="100"/>
                  </a:lnTo>
                  <a:lnTo>
                    <a:pt x="1410" y="77"/>
                  </a:lnTo>
                  <a:lnTo>
                    <a:pt x="1413" y="57"/>
                  </a:lnTo>
                  <a:lnTo>
                    <a:pt x="1415" y="40"/>
                  </a:lnTo>
                  <a:lnTo>
                    <a:pt x="1418" y="27"/>
                  </a:lnTo>
                  <a:lnTo>
                    <a:pt x="1421" y="16"/>
                  </a:lnTo>
                  <a:lnTo>
                    <a:pt x="1423" y="7"/>
                  </a:lnTo>
                  <a:lnTo>
                    <a:pt x="1426" y="2"/>
                  </a:lnTo>
                  <a:lnTo>
                    <a:pt x="1429" y="0"/>
                  </a:lnTo>
                  <a:lnTo>
                    <a:pt x="1431" y="0"/>
                  </a:lnTo>
                  <a:lnTo>
                    <a:pt x="1434" y="5"/>
                  </a:lnTo>
                  <a:lnTo>
                    <a:pt x="1436" y="11"/>
                  </a:lnTo>
                  <a:lnTo>
                    <a:pt x="1440" y="21"/>
                  </a:lnTo>
                  <a:lnTo>
                    <a:pt x="1442" y="34"/>
                  </a:lnTo>
                  <a:lnTo>
                    <a:pt x="1444" y="49"/>
                  </a:lnTo>
                  <a:lnTo>
                    <a:pt x="1448" y="67"/>
                  </a:lnTo>
                  <a:lnTo>
                    <a:pt x="1450" y="88"/>
                  </a:lnTo>
                  <a:lnTo>
                    <a:pt x="1452" y="112"/>
                  </a:lnTo>
                  <a:lnTo>
                    <a:pt x="1455" y="137"/>
                  </a:lnTo>
                  <a:lnTo>
                    <a:pt x="1458" y="165"/>
                  </a:lnTo>
                  <a:lnTo>
                    <a:pt x="1461" y="195"/>
                  </a:lnTo>
                  <a:lnTo>
                    <a:pt x="1463" y="227"/>
                  </a:lnTo>
                  <a:lnTo>
                    <a:pt x="1465" y="261"/>
                  </a:lnTo>
                  <a:lnTo>
                    <a:pt x="1469" y="296"/>
                  </a:lnTo>
                  <a:lnTo>
                    <a:pt x="1471" y="333"/>
                  </a:lnTo>
                  <a:lnTo>
                    <a:pt x="1474" y="371"/>
                  </a:lnTo>
                  <a:lnTo>
                    <a:pt x="1477" y="410"/>
                  </a:lnTo>
                  <a:lnTo>
                    <a:pt x="1479" y="449"/>
                  </a:lnTo>
                  <a:lnTo>
                    <a:pt x="1482" y="489"/>
                  </a:lnTo>
                  <a:lnTo>
                    <a:pt x="1484" y="530"/>
                  </a:lnTo>
                  <a:lnTo>
                    <a:pt x="1487" y="570"/>
                  </a:lnTo>
                  <a:lnTo>
                    <a:pt x="1490" y="610"/>
                  </a:lnTo>
                  <a:lnTo>
                    <a:pt x="1492" y="651"/>
                  </a:lnTo>
                  <a:lnTo>
                    <a:pt x="1496" y="691"/>
                  </a:lnTo>
                  <a:lnTo>
                    <a:pt x="1498" y="730"/>
                  </a:lnTo>
                  <a:lnTo>
                    <a:pt x="1500" y="768"/>
                  </a:lnTo>
                  <a:lnTo>
                    <a:pt x="1503" y="804"/>
                  </a:lnTo>
                  <a:lnTo>
                    <a:pt x="1506" y="840"/>
                  </a:lnTo>
                  <a:lnTo>
                    <a:pt x="1509" y="874"/>
                  </a:lnTo>
                  <a:lnTo>
                    <a:pt x="1511" y="906"/>
                  </a:lnTo>
                  <a:lnTo>
                    <a:pt x="1513" y="936"/>
                  </a:lnTo>
                  <a:lnTo>
                    <a:pt x="1517" y="964"/>
                  </a:lnTo>
                  <a:lnTo>
                    <a:pt x="1519" y="991"/>
                  </a:lnTo>
                  <a:lnTo>
                    <a:pt x="1521" y="1014"/>
                  </a:lnTo>
                  <a:lnTo>
                    <a:pt x="1525" y="1035"/>
                  </a:lnTo>
                  <a:lnTo>
                    <a:pt x="1527" y="1054"/>
                  </a:lnTo>
                  <a:lnTo>
                    <a:pt x="1530" y="1070"/>
                  </a:lnTo>
                  <a:lnTo>
                    <a:pt x="1532" y="1083"/>
                  </a:lnTo>
                  <a:lnTo>
                    <a:pt x="1535" y="1093"/>
                  </a:lnTo>
                  <a:lnTo>
                    <a:pt x="1538" y="1101"/>
                  </a:lnTo>
                  <a:lnTo>
                    <a:pt x="1540" y="1107"/>
                  </a:lnTo>
                  <a:lnTo>
                    <a:pt x="1542" y="1108"/>
                  </a:lnTo>
                  <a:lnTo>
                    <a:pt x="1546" y="1107"/>
                  </a:lnTo>
                  <a:lnTo>
                    <a:pt x="1548" y="1103"/>
                  </a:lnTo>
                  <a:lnTo>
                    <a:pt x="1551" y="1097"/>
                  </a:lnTo>
                  <a:lnTo>
                    <a:pt x="1553" y="1087"/>
                  </a:lnTo>
                  <a:lnTo>
                    <a:pt x="1556" y="1074"/>
                  </a:lnTo>
                  <a:lnTo>
                    <a:pt x="1559" y="1060"/>
                  </a:lnTo>
                  <a:lnTo>
                    <a:pt x="1561" y="1042"/>
                  </a:lnTo>
                  <a:lnTo>
                    <a:pt x="1565" y="1022"/>
                  </a:lnTo>
                  <a:lnTo>
                    <a:pt x="1567" y="1000"/>
                  </a:lnTo>
                  <a:lnTo>
                    <a:pt x="1569" y="974"/>
                  </a:lnTo>
                  <a:lnTo>
                    <a:pt x="1572" y="947"/>
                  </a:lnTo>
                  <a:lnTo>
                    <a:pt x="1575" y="918"/>
                  </a:lnTo>
                  <a:lnTo>
                    <a:pt x="1577" y="888"/>
                  </a:lnTo>
                  <a:lnTo>
                    <a:pt x="1580" y="856"/>
                  </a:lnTo>
                  <a:lnTo>
                    <a:pt x="1582" y="822"/>
                  </a:lnTo>
                  <a:lnTo>
                    <a:pt x="1586" y="788"/>
                  </a:lnTo>
                  <a:lnTo>
                    <a:pt x="1588" y="751"/>
                  </a:lnTo>
                  <a:lnTo>
                    <a:pt x="1590" y="714"/>
                  </a:lnTo>
                  <a:lnTo>
                    <a:pt x="1594" y="677"/>
                  </a:lnTo>
                  <a:lnTo>
                    <a:pt x="1596" y="638"/>
                  </a:lnTo>
                  <a:lnTo>
                    <a:pt x="1599" y="600"/>
                  </a:lnTo>
                  <a:lnTo>
                    <a:pt x="1601" y="562"/>
                  </a:lnTo>
                  <a:lnTo>
                    <a:pt x="1604" y="523"/>
                  </a:lnTo>
                  <a:lnTo>
                    <a:pt x="1607" y="485"/>
                  </a:lnTo>
                  <a:lnTo>
                    <a:pt x="1609" y="449"/>
                  </a:lnTo>
                  <a:lnTo>
                    <a:pt x="1611" y="412"/>
                  </a:lnTo>
                  <a:lnTo>
                    <a:pt x="1615" y="376"/>
                  </a:lnTo>
                  <a:lnTo>
                    <a:pt x="1617" y="342"/>
                  </a:lnTo>
                  <a:lnTo>
                    <a:pt x="1620" y="309"/>
                  </a:lnTo>
                  <a:lnTo>
                    <a:pt x="1623" y="277"/>
                  </a:lnTo>
                  <a:lnTo>
                    <a:pt x="1625" y="247"/>
                  </a:lnTo>
                  <a:lnTo>
                    <a:pt x="1628" y="219"/>
                  </a:lnTo>
                  <a:lnTo>
                    <a:pt x="1630" y="193"/>
                  </a:lnTo>
                  <a:lnTo>
                    <a:pt x="1633" y="169"/>
                  </a:lnTo>
                  <a:lnTo>
                    <a:pt x="1636" y="146"/>
                  </a:lnTo>
                  <a:lnTo>
                    <a:pt x="1638" y="127"/>
                  </a:lnTo>
                  <a:lnTo>
                    <a:pt x="1642" y="110"/>
                  </a:lnTo>
                  <a:lnTo>
                    <a:pt x="1644" y="95"/>
                  </a:lnTo>
                  <a:lnTo>
                    <a:pt x="1646" y="83"/>
                  </a:lnTo>
                  <a:lnTo>
                    <a:pt x="1649" y="74"/>
                  </a:lnTo>
                  <a:lnTo>
                    <a:pt x="1652" y="66"/>
                  </a:lnTo>
                  <a:lnTo>
                    <a:pt x="1655" y="63"/>
                  </a:lnTo>
                  <a:lnTo>
                    <a:pt x="1657" y="60"/>
                  </a:lnTo>
                  <a:lnTo>
                    <a:pt x="1659" y="62"/>
                  </a:lnTo>
                  <a:lnTo>
                    <a:pt x="1663" y="66"/>
                  </a:lnTo>
                  <a:lnTo>
                    <a:pt x="1665" y="73"/>
                  </a:lnTo>
                  <a:lnTo>
                    <a:pt x="1667" y="82"/>
                  </a:lnTo>
                  <a:lnTo>
                    <a:pt x="1671" y="93"/>
                  </a:lnTo>
                  <a:lnTo>
                    <a:pt x="1673" y="107"/>
                  </a:lnTo>
                  <a:lnTo>
                    <a:pt x="1676" y="124"/>
                  </a:lnTo>
                  <a:lnTo>
                    <a:pt x="1678" y="143"/>
                  </a:lnTo>
                  <a:lnTo>
                    <a:pt x="1681" y="163"/>
                  </a:lnTo>
                  <a:lnTo>
                    <a:pt x="1684" y="187"/>
                  </a:lnTo>
                  <a:lnTo>
                    <a:pt x="1686" y="211"/>
                  </a:lnTo>
                  <a:lnTo>
                    <a:pt x="1689" y="238"/>
                  </a:lnTo>
                  <a:lnTo>
                    <a:pt x="1692" y="267"/>
                  </a:lnTo>
                  <a:lnTo>
                    <a:pt x="1694" y="296"/>
                  </a:lnTo>
                  <a:lnTo>
                    <a:pt x="1697" y="327"/>
                  </a:lnTo>
                  <a:lnTo>
                    <a:pt x="1700" y="359"/>
                  </a:lnTo>
                  <a:lnTo>
                    <a:pt x="1702" y="392"/>
                  </a:lnTo>
                  <a:lnTo>
                    <a:pt x="1705" y="426"/>
                  </a:lnTo>
                  <a:lnTo>
                    <a:pt x="1707" y="460"/>
                  </a:lnTo>
                  <a:lnTo>
                    <a:pt x="1711" y="496"/>
                  </a:lnTo>
                  <a:lnTo>
                    <a:pt x="1713" y="530"/>
                  </a:lnTo>
                  <a:lnTo>
                    <a:pt x="1715" y="565"/>
                  </a:lnTo>
                  <a:lnTo>
                    <a:pt x="1718" y="599"/>
                  </a:lnTo>
                  <a:lnTo>
                    <a:pt x="1721" y="634"/>
                  </a:lnTo>
                  <a:lnTo>
                    <a:pt x="1724" y="667"/>
                  </a:lnTo>
                  <a:lnTo>
                    <a:pt x="1726" y="701"/>
                  </a:lnTo>
                  <a:lnTo>
                    <a:pt x="1728" y="733"/>
                  </a:lnTo>
                  <a:lnTo>
                    <a:pt x="1732" y="764"/>
                  </a:lnTo>
                  <a:lnTo>
                    <a:pt x="1734" y="794"/>
                  </a:lnTo>
                  <a:lnTo>
                    <a:pt x="1736" y="822"/>
                  </a:lnTo>
                  <a:lnTo>
                    <a:pt x="1740" y="849"/>
                  </a:lnTo>
                  <a:lnTo>
                    <a:pt x="1742" y="875"/>
                  </a:lnTo>
                  <a:lnTo>
                    <a:pt x="1745" y="898"/>
                  </a:lnTo>
                  <a:lnTo>
                    <a:pt x="1747" y="919"/>
                  </a:lnTo>
                  <a:lnTo>
                    <a:pt x="1750" y="939"/>
                  </a:lnTo>
                  <a:lnTo>
                    <a:pt x="1753" y="956"/>
                  </a:lnTo>
                  <a:lnTo>
                    <a:pt x="1755" y="972"/>
                  </a:lnTo>
                  <a:lnTo>
                    <a:pt x="1757" y="985"/>
                  </a:lnTo>
                  <a:lnTo>
                    <a:pt x="1761" y="995"/>
                  </a:lnTo>
                  <a:lnTo>
                    <a:pt x="1763" y="1003"/>
                  </a:lnTo>
                  <a:lnTo>
                    <a:pt x="1766" y="1010"/>
                  </a:lnTo>
                  <a:lnTo>
                    <a:pt x="1769" y="1013"/>
                  </a:lnTo>
                  <a:lnTo>
                    <a:pt x="1771" y="1014"/>
                  </a:lnTo>
                  <a:lnTo>
                    <a:pt x="1774" y="1013"/>
                  </a:lnTo>
                  <a:lnTo>
                    <a:pt x="1776" y="1009"/>
                  </a:lnTo>
                  <a:lnTo>
                    <a:pt x="1780" y="1003"/>
                  </a:lnTo>
                  <a:lnTo>
                    <a:pt x="1782" y="994"/>
                  </a:lnTo>
                  <a:lnTo>
                    <a:pt x="1784" y="984"/>
                  </a:lnTo>
                  <a:lnTo>
                    <a:pt x="1788" y="971"/>
                  </a:lnTo>
                  <a:lnTo>
                    <a:pt x="1790" y="956"/>
                  </a:lnTo>
                  <a:lnTo>
                    <a:pt x="1792" y="939"/>
                  </a:lnTo>
                  <a:lnTo>
                    <a:pt x="1795" y="921"/>
                  </a:lnTo>
                  <a:lnTo>
                    <a:pt x="1798" y="900"/>
                  </a:lnTo>
                  <a:lnTo>
                    <a:pt x="1801" y="878"/>
                  </a:lnTo>
                  <a:lnTo>
                    <a:pt x="1803" y="855"/>
                  </a:lnTo>
                  <a:lnTo>
                    <a:pt x="1805" y="829"/>
                  </a:lnTo>
                  <a:lnTo>
                    <a:pt x="1809" y="802"/>
                  </a:lnTo>
                  <a:lnTo>
                    <a:pt x="1811" y="775"/>
                  </a:lnTo>
                  <a:lnTo>
                    <a:pt x="1814" y="748"/>
                  </a:lnTo>
                  <a:lnTo>
                    <a:pt x="1817" y="717"/>
                  </a:lnTo>
                  <a:lnTo>
                    <a:pt x="1819" y="688"/>
                  </a:lnTo>
                  <a:lnTo>
                    <a:pt x="1822" y="658"/>
                  </a:lnTo>
                  <a:lnTo>
                    <a:pt x="1824" y="627"/>
                  </a:lnTo>
                  <a:lnTo>
                    <a:pt x="1827" y="597"/>
                  </a:lnTo>
                  <a:lnTo>
                    <a:pt x="1830" y="567"/>
                  </a:lnTo>
                  <a:lnTo>
                    <a:pt x="1832" y="537"/>
                  </a:lnTo>
                  <a:lnTo>
                    <a:pt x="1835" y="507"/>
                  </a:lnTo>
                  <a:lnTo>
                    <a:pt x="1838" y="477"/>
                  </a:lnTo>
                  <a:lnTo>
                    <a:pt x="1840" y="449"/>
                  </a:lnTo>
                  <a:lnTo>
                    <a:pt x="1843" y="421"/>
                  </a:lnTo>
                  <a:lnTo>
                    <a:pt x="1846" y="394"/>
                  </a:lnTo>
                  <a:lnTo>
                    <a:pt x="1849" y="368"/>
                  </a:lnTo>
                  <a:lnTo>
                    <a:pt x="1851" y="344"/>
                  </a:lnTo>
                  <a:lnTo>
                    <a:pt x="1853" y="320"/>
                  </a:lnTo>
                  <a:lnTo>
                    <a:pt x="1857" y="299"/>
                  </a:lnTo>
                  <a:lnTo>
                    <a:pt x="1859" y="279"/>
                  </a:lnTo>
                  <a:lnTo>
                    <a:pt x="1861" y="260"/>
                  </a:lnTo>
                  <a:lnTo>
                    <a:pt x="1864" y="243"/>
                  </a:lnTo>
                  <a:lnTo>
                    <a:pt x="1867" y="229"/>
                  </a:lnTo>
                  <a:lnTo>
                    <a:pt x="1870" y="217"/>
                  </a:lnTo>
                  <a:lnTo>
                    <a:pt x="1872" y="205"/>
                  </a:lnTo>
                  <a:lnTo>
                    <a:pt x="1875" y="197"/>
                  </a:lnTo>
                  <a:lnTo>
                    <a:pt x="1878" y="190"/>
                  </a:lnTo>
                  <a:lnTo>
                    <a:pt x="1880" y="185"/>
                  </a:lnTo>
                  <a:lnTo>
                    <a:pt x="1882" y="182"/>
                  </a:lnTo>
                  <a:lnTo>
                    <a:pt x="1886" y="182"/>
                  </a:lnTo>
                  <a:lnTo>
                    <a:pt x="1888" y="183"/>
                  </a:lnTo>
                  <a:lnTo>
                    <a:pt x="1891" y="187"/>
                  </a:lnTo>
                  <a:lnTo>
                    <a:pt x="1893" y="192"/>
                  </a:lnTo>
                  <a:lnTo>
                    <a:pt x="1896" y="200"/>
                  </a:lnTo>
                  <a:lnTo>
                    <a:pt x="1899" y="209"/>
                  </a:lnTo>
                  <a:lnTo>
                    <a:pt x="1901" y="220"/>
                  </a:lnTo>
                  <a:lnTo>
                    <a:pt x="1905" y="232"/>
                  </a:lnTo>
                  <a:lnTo>
                    <a:pt x="1907" y="247"/>
                  </a:lnTo>
                  <a:lnTo>
                    <a:pt x="1909" y="263"/>
                  </a:lnTo>
                  <a:lnTo>
                    <a:pt x="1912" y="281"/>
                  </a:lnTo>
                  <a:lnTo>
                    <a:pt x="1915" y="299"/>
                  </a:lnTo>
                  <a:lnTo>
                    <a:pt x="1917" y="320"/>
                  </a:lnTo>
                  <a:lnTo>
                    <a:pt x="1920" y="342"/>
                  </a:lnTo>
                  <a:lnTo>
                    <a:pt x="1922" y="364"/>
                  </a:lnTo>
                  <a:lnTo>
                    <a:pt x="1926" y="386"/>
                  </a:lnTo>
                  <a:lnTo>
                    <a:pt x="1928" y="411"/>
                  </a:lnTo>
                  <a:lnTo>
                    <a:pt x="1930" y="435"/>
                  </a:lnTo>
                  <a:lnTo>
                    <a:pt x="1934" y="460"/>
                  </a:lnTo>
                  <a:lnTo>
                    <a:pt x="1936" y="485"/>
                  </a:lnTo>
                  <a:lnTo>
                    <a:pt x="1939" y="511"/>
                  </a:lnTo>
                  <a:lnTo>
                    <a:pt x="1941" y="536"/>
                  </a:lnTo>
                  <a:lnTo>
                    <a:pt x="1944" y="561"/>
                  </a:lnTo>
                  <a:lnTo>
                    <a:pt x="1947" y="587"/>
                  </a:lnTo>
                  <a:lnTo>
                    <a:pt x="1949" y="612"/>
                  </a:lnTo>
                  <a:lnTo>
                    <a:pt x="1951" y="636"/>
                  </a:lnTo>
                  <a:lnTo>
                    <a:pt x="1955" y="659"/>
                  </a:lnTo>
                  <a:lnTo>
                    <a:pt x="1957" y="683"/>
                  </a:lnTo>
                  <a:lnTo>
                    <a:pt x="1960" y="704"/>
                  </a:lnTo>
                  <a:lnTo>
                    <a:pt x="1963" y="725"/>
                  </a:lnTo>
                  <a:lnTo>
                    <a:pt x="1965" y="745"/>
                  </a:lnTo>
                  <a:lnTo>
                    <a:pt x="1968" y="764"/>
                  </a:lnTo>
                  <a:lnTo>
                    <a:pt x="1970" y="782"/>
                  </a:lnTo>
                  <a:lnTo>
                    <a:pt x="1973" y="798"/>
                  </a:lnTo>
                  <a:lnTo>
                    <a:pt x="1976" y="813"/>
                  </a:lnTo>
                  <a:lnTo>
                    <a:pt x="1978" y="827"/>
                  </a:lnTo>
                  <a:lnTo>
                    <a:pt x="1982" y="838"/>
                  </a:lnTo>
                  <a:lnTo>
                    <a:pt x="1984" y="848"/>
                  </a:lnTo>
                  <a:lnTo>
                    <a:pt x="1986" y="857"/>
                  </a:lnTo>
                  <a:lnTo>
                    <a:pt x="1989" y="864"/>
                  </a:lnTo>
                  <a:lnTo>
                    <a:pt x="1992" y="869"/>
                  </a:lnTo>
                  <a:lnTo>
                    <a:pt x="1995" y="873"/>
                  </a:lnTo>
                  <a:lnTo>
                    <a:pt x="1997" y="875"/>
                  </a:lnTo>
                  <a:lnTo>
                    <a:pt x="1999" y="875"/>
                  </a:lnTo>
                  <a:lnTo>
                    <a:pt x="2003" y="874"/>
                  </a:lnTo>
                  <a:lnTo>
                    <a:pt x="2005" y="870"/>
                  </a:lnTo>
                  <a:lnTo>
                    <a:pt x="2007" y="866"/>
                  </a:lnTo>
                  <a:lnTo>
                    <a:pt x="2010" y="859"/>
                  </a:lnTo>
                  <a:lnTo>
                    <a:pt x="2013" y="851"/>
                  </a:lnTo>
                  <a:lnTo>
                    <a:pt x="2016" y="842"/>
                  </a:lnTo>
                  <a:lnTo>
                    <a:pt x="2018" y="831"/>
                  </a:lnTo>
                  <a:lnTo>
                    <a:pt x="2021" y="820"/>
                  </a:lnTo>
                  <a:lnTo>
                    <a:pt x="2024" y="807"/>
                  </a:lnTo>
                  <a:lnTo>
                    <a:pt x="2026" y="792"/>
                  </a:lnTo>
                  <a:lnTo>
                    <a:pt x="2029" y="777"/>
                  </a:lnTo>
                  <a:lnTo>
                    <a:pt x="2032" y="761"/>
                  </a:lnTo>
                  <a:lnTo>
                    <a:pt x="2034" y="743"/>
                  </a:lnTo>
                  <a:lnTo>
                    <a:pt x="2037" y="725"/>
                  </a:lnTo>
                  <a:lnTo>
                    <a:pt x="2039" y="707"/>
                  </a:lnTo>
                  <a:lnTo>
                    <a:pt x="2042" y="688"/>
                  </a:lnTo>
                  <a:lnTo>
                    <a:pt x="2045" y="668"/>
                  </a:lnTo>
                  <a:lnTo>
                    <a:pt x="2047" y="648"/>
                  </a:lnTo>
                  <a:lnTo>
                    <a:pt x="2051" y="629"/>
                  </a:lnTo>
                  <a:lnTo>
                    <a:pt x="2053" y="608"/>
                  </a:lnTo>
                  <a:lnTo>
                    <a:pt x="2055" y="588"/>
                  </a:lnTo>
                  <a:lnTo>
                    <a:pt x="2058" y="569"/>
                  </a:lnTo>
                  <a:lnTo>
                    <a:pt x="2061" y="549"/>
                  </a:lnTo>
                  <a:lnTo>
                    <a:pt x="2064" y="529"/>
                  </a:lnTo>
                  <a:lnTo>
                    <a:pt x="2066" y="510"/>
                  </a:lnTo>
                  <a:lnTo>
                    <a:pt x="2068" y="492"/>
                  </a:lnTo>
                  <a:lnTo>
                    <a:pt x="2072" y="474"/>
                  </a:lnTo>
                  <a:lnTo>
                    <a:pt x="2074" y="458"/>
                  </a:lnTo>
                  <a:lnTo>
                    <a:pt x="2076" y="441"/>
                  </a:lnTo>
                  <a:lnTo>
                    <a:pt x="2080" y="425"/>
                  </a:lnTo>
                  <a:lnTo>
                    <a:pt x="2082" y="411"/>
                  </a:lnTo>
                  <a:lnTo>
                    <a:pt x="2085" y="397"/>
                  </a:lnTo>
                  <a:lnTo>
                    <a:pt x="2087" y="385"/>
                  </a:lnTo>
                  <a:lnTo>
                    <a:pt x="2090" y="374"/>
                  </a:lnTo>
                  <a:lnTo>
                    <a:pt x="2093" y="364"/>
                  </a:lnTo>
                  <a:lnTo>
                    <a:pt x="2095" y="355"/>
                  </a:lnTo>
                  <a:lnTo>
                    <a:pt x="2097" y="347"/>
                  </a:lnTo>
                  <a:lnTo>
                    <a:pt x="2101" y="342"/>
                  </a:lnTo>
                  <a:lnTo>
                    <a:pt x="2103" y="336"/>
                  </a:lnTo>
                  <a:lnTo>
                    <a:pt x="2106" y="333"/>
                  </a:lnTo>
                  <a:lnTo>
                    <a:pt x="2109" y="330"/>
                  </a:lnTo>
                  <a:lnTo>
                    <a:pt x="2111" y="329"/>
                  </a:lnTo>
                  <a:lnTo>
                    <a:pt x="2114" y="329"/>
                  </a:lnTo>
                  <a:lnTo>
                    <a:pt x="2116" y="330"/>
                  </a:lnTo>
                  <a:lnTo>
                    <a:pt x="2120" y="334"/>
                  </a:lnTo>
                  <a:lnTo>
                    <a:pt x="2122" y="337"/>
                  </a:lnTo>
                  <a:lnTo>
                    <a:pt x="2124" y="343"/>
                  </a:lnTo>
                  <a:lnTo>
                    <a:pt x="2128" y="348"/>
                  </a:lnTo>
                  <a:lnTo>
                    <a:pt x="2130" y="356"/>
                  </a:lnTo>
                  <a:lnTo>
                    <a:pt x="2132" y="364"/>
                  </a:lnTo>
                  <a:lnTo>
                    <a:pt x="2135" y="373"/>
                  </a:lnTo>
                  <a:lnTo>
                    <a:pt x="2138" y="383"/>
                  </a:lnTo>
                  <a:lnTo>
                    <a:pt x="2141" y="394"/>
                  </a:lnTo>
                  <a:lnTo>
                    <a:pt x="2143" y="406"/>
                  </a:lnTo>
                  <a:lnTo>
                    <a:pt x="2145" y="419"/>
                  </a:lnTo>
                  <a:lnTo>
                    <a:pt x="2149" y="431"/>
                  </a:lnTo>
                  <a:lnTo>
                    <a:pt x="2151" y="444"/>
                  </a:lnTo>
                  <a:lnTo>
                    <a:pt x="2154" y="459"/>
                  </a:lnTo>
                  <a:lnTo>
                    <a:pt x="2157" y="473"/>
                  </a:lnTo>
                  <a:lnTo>
                    <a:pt x="2159" y="488"/>
                  </a:lnTo>
                  <a:lnTo>
                    <a:pt x="2162" y="502"/>
                  </a:lnTo>
                  <a:lnTo>
                    <a:pt x="2164" y="517"/>
                  </a:lnTo>
                  <a:lnTo>
                    <a:pt x="2167" y="531"/>
                  </a:lnTo>
                  <a:lnTo>
                    <a:pt x="2170" y="547"/>
                  </a:lnTo>
                  <a:lnTo>
                    <a:pt x="2172" y="561"/>
                  </a:lnTo>
                  <a:lnTo>
                    <a:pt x="2175" y="576"/>
                  </a:lnTo>
                  <a:lnTo>
                    <a:pt x="2178" y="589"/>
                  </a:lnTo>
                  <a:lnTo>
                    <a:pt x="2180" y="603"/>
                  </a:lnTo>
                  <a:lnTo>
                    <a:pt x="2183" y="616"/>
                  </a:lnTo>
                  <a:lnTo>
                    <a:pt x="2185" y="629"/>
                  </a:lnTo>
                  <a:lnTo>
                    <a:pt x="2189" y="642"/>
                  </a:lnTo>
                  <a:lnTo>
                    <a:pt x="2191" y="653"/>
                  </a:lnTo>
                  <a:lnTo>
                    <a:pt x="2193" y="664"/>
                  </a:lnTo>
                  <a:lnTo>
                    <a:pt x="2197" y="674"/>
                  </a:lnTo>
                  <a:lnTo>
                    <a:pt x="2199" y="683"/>
                  </a:lnTo>
                  <a:lnTo>
                    <a:pt x="2201" y="692"/>
                  </a:lnTo>
                  <a:lnTo>
                    <a:pt x="2204" y="700"/>
                  </a:lnTo>
                  <a:lnTo>
                    <a:pt x="2207" y="706"/>
                  </a:lnTo>
                  <a:lnTo>
                    <a:pt x="2210" y="713"/>
                  </a:lnTo>
                  <a:lnTo>
                    <a:pt x="2212" y="717"/>
                  </a:lnTo>
                  <a:lnTo>
                    <a:pt x="2214" y="722"/>
                  </a:lnTo>
                  <a:lnTo>
                    <a:pt x="2218" y="725"/>
                  </a:lnTo>
                  <a:lnTo>
                    <a:pt x="2220" y="728"/>
                  </a:lnTo>
                  <a:lnTo>
                    <a:pt x="2222" y="729"/>
                  </a:lnTo>
                  <a:lnTo>
                    <a:pt x="2226" y="730"/>
                  </a:lnTo>
                  <a:lnTo>
                    <a:pt x="2228" y="729"/>
                  </a:lnTo>
                  <a:lnTo>
                    <a:pt x="2231" y="728"/>
                  </a:lnTo>
                  <a:lnTo>
                    <a:pt x="2233" y="725"/>
                  </a:lnTo>
                  <a:lnTo>
                    <a:pt x="2236" y="722"/>
                  </a:lnTo>
                  <a:lnTo>
                    <a:pt x="2239" y="719"/>
                  </a:lnTo>
                  <a:lnTo>
                    <a:pt x="2241" y="714"/>
                  </a:lnTo>
                  <a:lnTo>
                    <a:pt x="2245" y="709"/>
                  </a:lnTo>
                  <a:lnTo>
                    <a:pt x="2247" y="703"/>
                  </a:lnTo>
                  <a:lnTo>
                    <a:pt x="2249" y="696"/>
                  </a:lnTo>
                  <a:lnTo>
                    <a:pt x="2252" y="688"/>
                  </a:lnTo>
                  <a:lnTo>
                    <a:pt x="2255" y="681"/>
                  </a:lnTo>
                  <a:lnTo>
                    <a:pt x="2257" y="673"/>
                  </a:lnTo>
                  <a:lnTo>
                    <a:pt x="2260" y="664"/>
                  </a:lnTo>
                  <a:lnTo>
                    <a:pt x="2262" y="655"/>
                  </a:lnTo>
                  <a:lnTo>
                    <a:pt x="2266" y="646"/>
                  </a:lnTo>
                  <a:lnTo>
                    <a:pt x="2268" y="637"/>
                  </a:lnTo>
                  <a:lnTo>
                    <a:pt x="2270" y="627"/>
                  </a:lnTo>
                  <a:lnTo>
                    <a:pt x="2274" y="617"/>
                  </a:lnTo>
                  <a:lnTo>
                    <a:pt x="2276" y="607"/>
                  </a:lnTo>
                  <a:lnTo>
                    <a:pt x="2279" y="597"/>
                  </a:lnTo>
                  <a:lnTo>
                    <a:pt x="2281" y="587"/>
                  </a:lnTo>
                  <a:lnTo>
                    <a:pt x="2284" y="578"/>
                  </a:lnTo>
                  <a:lnTo>
                    <a:pt x="2287" y="568"/>
                  </a:lnTo>
                  <a:lnTo>
                    <a:pt x="2289" y="558"/>
                  </a:lnTo>
                  <a:lnTo>
                    <a:pt x="2291" y="549"/>
                  </a:lnTo>
                  <a:lnTo>
                    <a:pt x="2295" y="540"/>
                  </a:lnTo>
                  <a:lnTo>
                    <a:pt x="2297" y="531"/>
                  </a:lnTo>
                  <a:lnTo>
                    <a:pt x="2300" y="523"/>
                  </a:lnTo>
                  <a:lnTo>
                    <a:pt x="2303" y="516"/>
                  </a:lnTo>
                  <a:lnTo>
                    <a:pt x="2305" y="508"/>
                  </a:lnTo>
                  <a:lnTo>
                    <a:pt x="2308" y="501"/>
                  </a:lnTo>
                  <a:lnTo>
                    <a:pt x="2310" y="496"/>
                  </a:lnTo>
                  <a:lnTo>
                    <a:pt x="2313" y="489"/>
                  </a:lnTo>
                  <a:lnTo>
                    <a:pt x="2316" y="484"/>
                  </a:lnTo>
                  <a:lnTo>
                    <a:pt x="2318" y="479"/>
                  </a:lnTo>
                  <a:lnTo>
                    <a:pt x="2321" y="475"/>
                  </a:lnTo>
                  <a:lnTo>
                    <a:pt x="2324" y="472"/>
                  </a:lnTo>
                  <a:lnTo>
                    <a:pt x="2326" y="469"/>
                  </a:lnTo>
                  <a:lnTo>
                    <a:pt x="2329" y="467"/>
                  </a:lnTo>
                  <a:lnTo>
                    <a:pt x="2332" y="464"/>
                  </a:lnTo>
                  <a:lnTo>
                    <a:pt x="2335" y="463"/>
                  </a:lnTo>
                  <a:lnTo>
                    <a:pt x="2337" y="463"/>
                  </a:lnTo>
                  <a:lnTo>
                    <a:pt x="2339" y="463"/>
                  </a:lnTo>
                  <a:lnTo>
                    <a:pt x="2343" y="463"/>
                  </a:lnTo>
                  <a:lnTo>
                    <a:pt x="2345" y="464"/>
                  </a:lnTo>
                  <a:lnTo>
                    <a:pt x="2347" y="467"/>
                  </a:lnTo>
                  <a:lnTo>
                    <a:pt x="2350" y="469"/>
                  </a:lnTo>
                  <a:lnTo>
                    <a:pt x="2353" y="471"/>
                  </a:lnTo>
                  <a:lnTo>
                    <a:pt x="2356" y="474"/>
                  </a:lnTo>
                  <a:lnTo>
                    <a:pt x="2358" y="478"/>
                  </a:lnTo>
                  <a:lnTo>
                    <a:pt x="2360" y="482"/>
                  </a:lnTo>
                  <a:lnTo>
                    <a:pt x="2364" y="485"/>
                  </a:lnTo>
                  <a:lnTo>
                    <a:pt x="2366" y="491"/>
                  </a:lnTo>
                  <a:lnTo>
                    <a:pt x="2369" y="496"/>
                  </a:lnTo>
                  <a:lnTo>
                    <a:pt x="2372" y="500"/>
                  </a:lnTo>
                  <a:lnTo>
                    <a:pt x="2374" y="506"/>
                  </a:lnTo>
                  <a:lnTo>
                    <a:pt x="2377" y="511"/>
                  </a:lnTo>
                  <a:lnTo>
                    <a:pt x="2379" y="517"/>
                  </a:lnTo>
                  <a:lnTo>
                    <a:pt x="2382" y="522"/>
                  </a:lnTo>
                  <a:lnTo>
                    <a:pt x="2385" y="528"/>
                  </a:lnTo>
                  <a:lnTo>
                    <a:pt x="2387" y="535"/>
                  </a:lnTo>
                  <a:lnTo>
                    <a:pt x="2391" y="540"/>
                  </a:lnTo>
                  <a:lnTo>
                    <a:pt x="2393" y="546"/>
                  </a:lnTo>
                  <a:lnTo>
                    <a:pt x="2395" y="551"/>
                  </a:lnTo>
                  <a:lnTo>
                    <a:pt x="2398" y="557"/>
                  </a:lnTo>
                  <a:lnTo>
                    <a:pt x="2401" y="562"/>
                  </a:lnTo>
                  <a:lnTo>
                    <a:pt x="2404" y="568"/>
                  </a:lnTo>
                  <a:lnTo>
                    <a:pt x="2406" y="574"/>
                  </a:lnTo>
                  <a:lnTo>
                    <a:pt x="2408" y="578"/>
                  </a:lnTo>
                  <a:lnTo>
                    <a:pt x="2412" y="583"/>
                  </a:lnTo>
                  <a:lnTo>
                    <a:pt x="2414" y="587"/>
                  </a:lnTo>
                  <a:lnTo>
                    <a:pt x="2416" y="591"/>
                  </a:lnTo>
                  <a:lnTo>
                    <a:pt x="2420" y="595"/>
                  </a:lnTo>
                  <a:lnTo>
                    <a:pt x="2422" y="599"/>
                  </a:lnTo>
                  <a:lnTo>
                    <a:pt x="2425" y="601"/>
                  </a:lnTo>
                  <a:lnTo>
                    <a:pt x="2427" y="605"/>
                  </a:lnTo>
                  <a:lnTo>
                    <a:pt x="2430" y="607"/>
                  </a:lnTo>
                  <a:lnTo>
                    <a:pt x="2433" y="609"/>
                  </a:lnTo>
                  <a:lnTo>
                    <a:pt x="2435" y="612"/>
                  </a:lnTo>
                  <a:lnTo>
                    <a:pt x="2437" y="614"/>
                  </a:lnTo>
                  <a:lnTo>
                    <a:pt x="2441" y="615"/>
                  </a:lnTo>
                  <a:lnTo>
                    <a:pt x="2443" y="616"/>
                  </a:lnTo>
                  <a:lnTo>
                    <a:pt x="2446" y="616"/>
                  </a:lnTo>
                  <a:lnTo>
                    <a:pt x="2449" y="616"/>
                  </a:lnTo>
                  <a:lnTo>
                    <a:pt x="2451" y="616"/>
                  </a:lnTo>
                  <a:lnTo>
                    <a:pt x="2454" y="616"/>
                  </a:lnTo>
                  <a:lnTo>
                    <a:pt x="2456" y="616"/>
                  </a:lnTo>
                  <a:lnTo>
                    <a:pt x="2460" y="615"/>
                  </a:lnTo>
                  <a:lnTo>
                    <a:pt x="2462" y="614"/>
                  </a:lnTo>
                  <a:lnTo>
                    <a:pt x="2464" y="613"/>
                  </a:lnTo>
                  <a:lnTo>
                    <a:pt x="2467" y="610"/>
                  </a:lnTo>
                  <a:lnTo>
                    <a:pt x="2470" y="609"/>
                  </a:lnTo>
                  <a:lnTo>
                    <a:pt x="2472" y="607"/>
                  </a:lnTo>
                  <a:lnTo>
                    <a:pt x="2475" y="605"/>
                  </a:lnTo>
                  <a:lnTo>
                    <a:pt x="2478" y="603"/>
                  </a:lnTo>
                  <a:lnTo>
                    <a:pt x="2481" y="600"/>
                  </a:lnTo>
                  <a:lnTo>
                    <a:pt x="2483" y="597"/>
                  </a:lnTo>
                  <a:lnTo>
                    <a:pt x="2485" y="595"/>
                  </a:lnTo>
                  <a:lnTo>
                    <a:pt x="2489" y="593"/>
                  </a:lnTo>
                  <a:lnTo>
                    <a:pt x="2491" y="589"/>
                  </a:lnTo>
                  <a:lnTo>
                    <a:pt x="2494" y="587"/>
                  </a:lnTo>
                  <a:lnTo>
                    <a:pt x="2496" y="584"/>
                  </a:lnTo>
                  <a:lnTo>
                    <a:pt x="2499" y="581"/>
                  </a:lnTo>
                  <a:lnTo>
                    <a:pt x="2502" y="578"/>
                  </a:lnTo>
                  <a:lnTo>
                    <a:pt x="2504" y="576"/>
                  </a:lnTo>
                  <a:lnTo>
                    <a:pt x="2507" y="574"/>
                  </a:lnTo>
                  <a:lnTo>
                    <a:pt x="2510" y="570"/>
                  </a:lnTo>
                  <a:lnTo>
                    <a:pt x="2512" y="568"/>
                  </a:lnTo>
                  <a:lnTo>
                    <a:pt x="2515" y="566"/>
                  </a:lnTo>
                  <a:lnTo>
                    <a:pt x="2518" y="564"/>
                  </a:lnTo>
                  <a:lnTo>
                    <a:pt x="2520" y="561"/>
                  </a:lnTo>
                  <a:lnTo>
                    <a:pt x="2523" y="559"/>
                  </a:lnTo>
                  <a:lnTo>
                    <a:pt x="2525" y="558"/>
                  </a:lnTo>
                  <a:lnTo>
                    <a:pt x="2529" y="556"/>
                  </a:lnTo>
                  <a:lnTo>
                    <a:pt x="2531" y="555"/>
                  </a:lnTo>
                  <a:lnTo>
                    <a:pt x="2533" y="552"/>
                  </a:lnTo>
                  <a:lnTo>
                    <a:pt x="2537" y="551"/>
                  </a:lnTo>
                  <a:lnTo>
                    <a:pt x="2539" y="550"/>
                  </a:lnTo>
                  <a:lnTo>
                    <a:pt x="2541" y="549"/>
                  </a:lnTo>
                  <a:lnTo>
                    <a:pt x="2544" y="549"/>
                  </a:lnTo>
                  <a:lnTo>
                    <a:pt x="2547" y="548"/>
                  </a:lnTo>
                  <a:lnTo>
                    <a:pt x="2550" y="548"/>
                  </a:lnTo>
                  <a:lnTo>
                    <a:pt x="2552" y="547"/>
                  </a:lnTo>
                  <a:lnTo>
                    <a:pt x="2554" y="547"/>
                  </a:lnTo>
                  <a:lnTo>
                    <a:pt x="2558" y="547"/>
                  </a:lnTo>
                  <a:lnTo>
                    <a:pt x="2560" y="547"/>
                  </a:lnTo>
                  <a:lnTo>
                    <a:pt x="2562" y="547"/>
                  </a:lnTo>
                  <a:lnTo>
                    <a:pt x="2566" y="547"/>
                  </a:lnTo>
                  <a:lnTo>
                    <a:pt x="2568" y="548"/>
                  </a:lnTo>
                  <a:lnTo>
                    <a:pt x="2571" y="548"/>
                  </a:lnTo>
                  <a:lnTo>
                    <a:pt x="2573" y="549"/>
                  </a:lnTo>
                  <a:lnTo>
                    <a:pt x="2576" y="549"/>
                  </a:lnTo>
                  <a:lnTo>
                    <a:pt x="2579" y="550"/>
                  </a:lnTo>
                  <a:lnTo>
                    <a:pt x="2581" y="551"/>
                  </a:lnTo>
                  <a:lnTo>
                    <a:pt x="2585" y="551"/>
                  </a:lnTo>
                  <a:lnTo>
                    <a:pt x="2587" y="552"/>
                  </a:lnTo>
                  <a:lnTo>
                    <a:pt x="2589" y="554"/>
                  </a:lnTo>
                  <a:lnTo>
                    <a:pt x="2592" y="554"/>
                  </a:lnTo>
                  <a:lnTo>
                    <a:pt x="2595" y="555"/>
                  </a:lnTo>
                  <a:lnTo>
                    <a:pt x="2597" y="556"/>
                  </a:lnTo>
                  <a:lnTo>
                    <a:pt x="2600" y="557"/>
                  </a:lnTo>
                  <a:lnTo>
                    <a:pt x="2602" y="558"/>
                  </a:lnTo>
                  <a:lnTo>
                    <a:pt x="2606" y="558"/>
                  </a:lnTo>
                  <a:lnTo>
                    <a:pt x="2608" y="559"/>
                  </a:lnTo>
                  <a:lnTo>
                    <a:pt x="2610" y="560"/>
                  </a:lnTo>
                  <a:lnTo>
                    <a:pt x="2614" y="561"/>
                  </a:lnTo>
                  <a:lnTo>
                    <a:pt x="2616" y="561"/>
                  </a:lnTo>
                  <a:lnTo>
                    <a:pt x="2619" y="562"/>
                  </a:lnTo>
                  <a:lnTo>
                    <a:pt x="2621" y="562"/>
                  </a:lnTo>
                  <a:lnTo>
                    <a:pt x="2624" y="564"/>
                  </a:lnTo>
                  <a:lnTo>
                    <a:pt x="2627" y="564"/>
                  </a:lnTo>
                  <a:lnTo>
                    <a:pt x="2629" y="565"/>
                  </a:lnTo>
                  <a:lnTo>
                    <a:pt x="2631" y="565"/>
                  </a:lnTo>
                  <a:lnTo>
                    <a:pt x="2635" y="566"/>
                  </a:lnTo>
                  <a:lnTo>
                    <a:pt x="2637" y="566"/>
                  </a:lnTo>
                  <a:lnTo>
                    <a:pt x="2640" y="566"/>
                  </a:lnTo>
                  <a:lnTo>
                    <a:pt x="2642" y="566"/>
                  </a:lnTo>
                  <a:lnTo>
                    <a:pt x="2645" y="567"/>
                  </a:lnTo>
                  <a:lnTo>
                    <a:pt x="2648" y="567"/>
                  </a:lnTo>
                  <a:lnTo>
                    <a:pt x="2650" y="567"/>
                  </a:lnTo>
                  <a:lnTo>
                    <a:pt x="2653" y="567"/>
                  </a:lnTo>
                  <a:lnTo>
                    <a:pt x="2656" y="567"/>
                  </a:lnTo>
                  <a:lnTo>
                    <a:pt x="2658" y="567"/>
                  </a:lnTo>
                  <a:lnTo>
                    <a:pt x="2661" y="567"/>
                  </a:lnTo>
                  <a:lnTo>
                    <a:pt x="2664" y="567"/>
                  </a:lnTo>
                  <a:lnTo>
                    <a:pt x="2666" y="567"/>
                  </a:lnTo>
                  <a:lnTo>
                    <a:pt x="2669" y="567"/>
                  </a:lnTo>
                  <a:lnTo>
                    <a:pt x="2671" y="566"/>
                  </a:lnTo>
                  <a:lnTo>
                    <a:pt x="2675" y="566"/>
                  </a:lnTo>
                  <a:lnTo>
                    <a:pt x="2677" y="566"/>
                  </a:lnTo>
                  <a:lnTo>
                    <a:pt x="2679" y="566"/>
                  </a:lnTo>
                  <a:lnTo>
                    <a:pt x="2683" y="566"/>
                  </a:lnTo>
                  <a:lnTo>
                    <a:pt x="2685" y="566"/>
                  </a:lnTo>
                  <a:lnTo>
                    <a:pt x="2687" y="566"/>
                  </a:lnTo>
                  <a:lnTo>
                    <a:pt x="2690" y="566"/>
                  </a:lnTo>
                  <a:lnTo>
                    <a:pt x="2693" y="566"/>
                  </a:lnTo>
                  <a:lnTo>
                    <a:pt x="2696" y="565"/>
                  </a:lnTo>
                  <a:lnTo>
                    <a:pt x="2698" y="565"/>
                  </a:lnTo>
                  <a:lnTo>
                    <a:pt x="2700" y="565"/>
                  </a:lnTo>
                  <a:lnTo>
                    <a:pt x="2704" y="565"/>
                  </a:lnTo>
                  <a:lnTo>
                    <a:pt x="2706" y="565"/>
                  </a:lnTo>
                  <a:lnTo>
                    <a:pt x="2709" y="565"/>
                  </a:lnTo>
                  <a:lnTo>
                    <a:pt x="2712" y="565"/>
                  </a:lnTo>
                  <a:lnTo>
                    <a:pt x="2714" y="565"/>
                  </a:lnTo>
                  <a:lnTo>
                    <a:pt x="2717" y="565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56280" y="4073400"/>
              <a:ext cx="3187800" cy="1389240"/>
            </a:xfrm>
            <a:custGeom>
              <a:avLst/>
              <a:gdLst/>
              <a:ahLst/>
              <a:rect l="l" t="t" r="r" b="b"/>
              <a:pathLst>
                <a:path w="3186" h="1138">
                  <a:moveTo>
                    <a:pt x="0" y="11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8"/>
                  </a:lnTo>
                  <a:lnTo>
                    <a:pt x="3186" y="1138"/>
                  </a:lnTo>
                  <a:lnTo>
                    <a:pt x="0" y="1138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22560" y="5583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66920" y="5583240"/>
              <a:ext cx="46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05040" y="5467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9696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924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05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017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002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98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987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954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940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939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91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175600" y="5583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19960" y="5583240"/>
              <a:ext cx="46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57720" y="5467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5000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4228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5772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554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529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51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4852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47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9470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3440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75600" y="3621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519960" y="3621240"/>
              <a:ext cx="46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57720" y="3505320"/>
              <a:ext cx="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50000" y="3505320"/>
              <a:ext cx="180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42280" y="3505320"/>
              <a:ext cx="180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15772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54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529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14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51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4852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547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470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3440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7800" y="2214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820800" y="235728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820800" y="3278160"/>
              <a:ext cx="84240" cy="14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91840" y="313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431-82DC-4CB5-8F00-4D0B6DF4A964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be preguntarse si el drástico cambio en la forma de onda 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erará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ndebidament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05F-6B2E-4414-A7D0-AEEB86F98C90}" type="slidenum">
              <a:t>69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70120" y="474804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1880" y="232416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79560" y="2181240"/>
            <a:ext cx="5170320" cy="284040"/>
            <a:chOff x="1879560" y="2181240"/>
            <a:chExt cx="5170320" cy="284040"/>
          </a:xfrm>
        </p:grpSpPr>
        <p:grpSp>
          <p:nvGrpSpPr>
            <p:cNvPr id="138" name=""/>
            <p:cNvGrpSpPr/>
            <p:nvPr/>
          </p:nvGrpSpPr>
          <p:grpSpPr>
            <a:xfrm>
              <a:off x="1879560" y="2181240"/>
              <a:ext cx="864720" cy="284040"/>
              <a:chOff x="1879560" y="2181240"/>
              <a:chExt cx="864720" cy="2840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879560" y="2181240"/>
                <a:ext cx="430200" cy="284040"/>
                <a:chOff x="1879560" y="2181240"/>
                <a:chExt cx="430200" cy="284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8795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872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98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021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311560" y="2181240"/>
                <a:ext cx="432720" cy="284040"/>
                <a:chOff x="2311560" y="2181240"/>
                <a:chExt cx="432720" cy="284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3115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4192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30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3664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2739600" y="2181240"/>
              <a:ext cx="864720" cy="284040"/>
              <a:chOff x="2739600" y="2181240"/>
              <a:chExt cx="864720" cy="2840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739600" y="2181240"/>
                <a:ext cx="432000" cy="284040"/>
                <a:chOff x="2739600" y="2181240"/>
                <a:chExt cx="432000" cy="284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7396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47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588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639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70520" y="2181240"/>
                <a:ext cx="433800" cy="284040"/>
                <a:chOff x="3170520" y="2181240"/>
                <a:chExt cx="433800" cy="284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17052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9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3908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9668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3598920" y="2181240"/>
              <a:ext cx="861840" cy="284040"/>
              <a:chOff x="3598920" y="2181240"/>
              <a:chExt cx="861840" cy="2840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598920" y="2181240"/>
                <a:ext cx="429480" cy="284040"/>
                <a:chOff x="3598920" y="2181240"/>
                <a:chExt cx="429480" cy="284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59892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7044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81132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207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028400" y="2181240"/>
                <a:ext cx="432360" cy="284040"/>
                <a:chOff x="4028400" y="2181240"/>
                <a:chExt cx="432360" cy="284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0284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1378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24260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3531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4458240" y="2181240"/>
              <a:ext cx="864720" cy="284040"/>
              <a:chOff x="4458240" y="2181240"/>
              <a:chExt cx="864720" cy="2840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458240" y="2181240"/>
                <a:ext cx="430200" cy="284040"/>
                <a:chOff x="4458240" y="2181240"/>
                <a:chExt cx="430200" cy="284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458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651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7208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8080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888440" y="2181240"/>
                <a:ext cx="434520" cy="284040"/>
                <a:chOff x="4888440" y="2181240"/>
                <a:chExt cx="434520" cy="2840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884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99788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04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153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5320080" y="2181240"/>
              <a:ext cx="864720" cy="284040"/>
              <a:chOff x="5320080" y="2181240"/>
              <a:chExt cx="864720" cy="284040"/>
            </a:xfrm>
          </p:grpSpPr>
          <p:sp>
            <p:nvSpPr>
              <p:cNvPr id="183" name=""/>
              <p:cNvSpPr/>
              <p:nvPr/>
            </p:nvSpPr>
            <p:spPr>
              <a:xfrm>
                <a:off x="5320080" y="21812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27720" y="21812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36440" y="232236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23227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5751000" y="2181240"/>
                <a:ext cx="433800" cy="284040"/>
                <a:chOff x="5751000" y="2181240"/>
                <a:chExt cx="433800" cy="284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510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85972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666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771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186600" y="2181240"/>
              <a:ext cx="863280" cy="284040"/>
              <a:chOff x="6186600" y="2181240"/>
              <a:chExt cx="863280" cy="28404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186600" y="2181240"/>
                <a:ext cx="430560" cy="284040"/>
                <a:chOff x="6186600" y="2181240"/>
                <a:chExt cx="430560" cy="2840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866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2942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40008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5095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616440" y="2181240"/>
                <a:ext cx="433440" cy="284040"/>
                <a:chOff x="6616440" y="2181240"/>
                <a:chExt cx="433440" cy="284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6164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72696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83280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94224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"/>
          <p:cNvSpPr/>
          <p:nvPr/>
        </p:nvSpPr>
        <p:spPr>
          <a:xfrm>
            <a:off x="7535880" y="452916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479-71DF-4C27-A8D8-8A8F9F78836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 flipH="1">
            <a:off x="685800" y="1488960"/>
            <a:ext cx="7772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espuesta es que sí lo alter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sanchan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íneas espect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mpeorando, por lo tant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imin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tonos de frecuencias muy cerc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559-CA8B-4A01-91E9-28D7AFEBB632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, en la mayoría de los caso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ultante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 fiel a la rea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i se permiten los sa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865-43FA-4E93-A912-C932D93083BC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xisten much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pos difere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ventanas, la elección de una u otra es una solu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romis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os paráme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215-28F8-470B-A6F2-370B3DD5DCA5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lo que está en juego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duc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rrame 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l precio a pagar es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érdida de discrimin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frecu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A52-E5EB-453F-A96B-4E4E2D905FC0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 flipH="1">
            <a:off x="903240" y="763560"/>
            <a:ext cx="7337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falta de un criterio más exigente o específico, una de las más utilizadas es la ventan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an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665360" y="3689280"/>
                <a:ext cx="5987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71" name=""/>
          <p:cNvGrpSpPr/>
          <p:nvPr/>
        </p:nvGrpSpPr>
        <p:grpSpPr>
          <a:xfrm>
            <a:off x="2898720" y="4648320"/>
            <a:ext cx="3348000" cy="1460520"/>
            <a:chOff x="2898720" y="4648320"/>
            <a:chExt cx="3348000" cy="1460520"/>
          </a:xfrm>
        </p:grpSpPr>
        <p:sp>
          <p:nvSpPr>
            <p:cNvPr id="1072" name=""/>
            <p:cNvSpPr/>
            <p:nvPr/>
          </p:nvSpPr>
          <p:spPr>
            <a:xfrm>
              <a:off x="5931000" y="5613480"/>
              <a:ext cx="315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216240" y="5014800"/>
              <a:ext cx="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98720" y="464832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3209760" y="5249520"/>
              <a:ext cx="2419560" cy="578160"/>
              <a:chOff x="3209760" y="5249520"/>
              <a:chExt cx="2419560" cy="5781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209760" y="5249520"/>
                <a:ext cx="1210680" cy="578160"/>
                <a:chOff x="3209760" y="5249520"/>
                <a:chExt cx="1210680" cy="578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209760" y="553716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flipV="1">
                  <a:off x="3814200" y="524916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4418640" y="5249520"/>
                <a:ext cx="1210680" cy="578160"/>
                <a:chOff x="4418640" y="5249520"/>
                <a:chExt cx="1210680" cy="578160"/>
              </a:xfrm>
            </p:grpSpPr>
            <p:sp>
              <p:nvSpPr>
                <p:cNvPr id="1080" name=""/>
                <p:cNvSpPr/>
                <p:nvPr/>
              </p:nvSpPr>
              <p:spPr>
                <a:xfrm flipV="1">
                  <a:off x="4418640" y="524916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5023080" y="553716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2" name=""/>
            <p:cNvSpPr/>
            <p:nvPr/>
          </p:nvSpPr>
          <p:spPr>
            <a:xfrm>
              <a:off x="3013200" y="583416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89640" y="583740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44960" y="4937040"/>
              <a:ext cx="701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CB4-528D-4B0D-8C6A-A342277DF81D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paremos los espectros de un to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44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n ventana y con vent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A76-9BBC-4398-8953-9F5D3CFE350B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 flipH="1">
            <a:off x="903240" y="45720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, sin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DF9-8D33-4344-88B4-572EB5FEC7F3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 flipH="1">
            <a:off x="903240" y="45720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, ventana de H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AA8-9162-44FA-A4DC-964781563F9E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AB6-93F1-4EE8-BDB1-F48D5C2EEC78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 flipH="1">
            <a:off x="1004760" y="1197000"/>
            <a:ext cx="713448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s señales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luctu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las que no pueden identificarse tonos puros, como por ejempl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mbiente, se describe por medio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C4B-FFEB-4B99-AC1D-3593442B3008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70120" y="452916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1880" y="251460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79560" y="2371680"/>
            <a:ext cx="5170320" cy="284040"/>
            <a:chOff x="1879560" y="2371680"/>
            <a:chExt cx="5170320" cy="284040"/>
          </a:xfrm>
        </p:grpSpPr>
        <p:grpSp>
          <p:nvGrpSpPr>
            <p:cNvPr id="208" name=""/>
            <p:cNvGrpSpPr/>
            <p:nvPr/>
          </p:nvGrpSpPr>
          <p:grpSpPr>
            <a:xfrm>
              <a:off x="1879560" y="2371680"/>
              <a:ext cx="864720" cy="284040"/>
              <a:chOff x="1879560" y="2371680"/>
              <a:chExt cx="864720" cy="2840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879560" y="2371680"/>
                <a:ext cx="430200" cy="284040"/>
                <a:chOff x="1879560" y="2371680"/>
                <a:chExt cx="430200" cy="284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8795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9872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98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021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311560" y="2371680"/>
                <a:ext cx="432720" cy="284040"/>
                <a:chOff x="2311560" y="2371680"/>
                <a:chExt cx="432720" cy="2840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3115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4192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30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63664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2739600" y="2371680"/>
              <a:ext cx="864720" cy="284040"/>
              <a:chOff x="2739600" y="2371680"/>
              <a:chExt cx="864720" cy="2840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2739600" y="2371680"/>
                <a:ext cx="432000" cy="284040"/>
                <a:chOff x="2739600" y="2371680"/>
                <a:chExt cx="432000" cy="284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7396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47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88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639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70520" y="2371680"/>
                <a:ext cx="433800" cy="284040"/>
                <a:chOff x="3170520" y="2371680"/>
                <a:chExt cx="433800" cy="284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7052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79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908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49668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3598920" y="2371680"/>
              <a:ext cx="861840" cy="284040"/>
              <a:chOff x="3598920" y="2371680"/>
              <a:chExt cx="861840" cy="2840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598920" y="2371680"/>
                <a:ext cx="429480" cy="284040"/>
                <a:chOff x="3598920" y="2371680"/>
                <a:chExt cx="429480" cy="284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59892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7044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1132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207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028400" y="2371680"/>
                <a:ext cx="432360" cy="284040"/>
                <a:chOff x="4028400" y="2371680"/>
                <a:chExt cx="432360" cy="284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0284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378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260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3531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4458240" y="2371680"/>
              <a:ext cx="864720" cy="284040"/>
              <a:chOff x="4458240" y="2371680"/>
              <a:chExt cx="864720" cy="2840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458240" y="2371680"/>
                <a:ext cx="430200" cy="284040"/>
                <a:chOff x="4458240" y="2371680"/>
                <a:chExt cx="430200" cy="2840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458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651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208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8080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888440" y="2371680"/>
                <a:ext cx="434520" cy="284040"/>
                <a:chOff x="4888440" y="2371680"/>
                <a:chExt cx="434520" cy="284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884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9788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04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153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5320080" y="2371680"/>
              <a:ext cx="864720" cy="284040"/>
              <a:chOff x="5320080" y="2371680"/>
              <a:chExt cx="864720" cy="284040"/>
            </a:xfrm>
          </p:grpSpPr>
          <p:sp>
            <p:nvSpPr>
              <p:cNvPr id="253" name=""/>
              <p:cNvSpPr/>
              <p:nvPr/>
            </p:nvSpPr>
            <p:spPr>
              <a:xfrm>
                <a:off x="5320080" y="2371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27720" y="2371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36440" y="251280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45160" y="251316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751000" y="2371680"/>
                <a:ext cx="433800" cy="284040"/>
                <a:chOff x="5751000" y="2371680"/>
                <a:chExt cx="433800" cy="2840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7510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5972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666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771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6186600" y="2371680"/>
              <a:ext cx="863280" cy="284040"/>
              <a:chOff x="6186600" y="2371680"/>
              <a:chExt cx="863280" cy="2840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186600" y="2371680"/>
                <a:ext cx="430560" cy="284040"/>
                <a:chOff x="6186600" y="2371680"/>
                <a:chExt cx="430560" cy="2840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1866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942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0008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095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616440" y="2371680"/>
                <a:ext cx="433440" cy="284040"/>
                <a:chOff x="6616440" y="2371680"/>
                <a:chExt cx="433440" cy="2840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164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2696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83280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94224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3" name=""/>
          <p:cNvSpPr/>
          <p:nvPr/>
        </p:nvSpPr>
        <p:spPr>
          <a:xfrm>
            <a:off x="7535880" y="430992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2EA-6AAE-4321-9AFC-1E4ABF0E72A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 flipH="1">
            <a:off x="1004760" y="2098800"/>
            <a:ext cx="7134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fine com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tencia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rgo plazo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nidad de ancho de 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F75-6984-43F0-A7A6-DB948FE800E3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 flipH="1">
            <a:off x="1004760" y="1566720"/>
            <a:ext cx="71344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Si bien hablamos de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potenci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realidad nos referimos a cualquier variable asociada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 energí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9D1-1672-41ED-BA2D-9D75501D9736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 flipH="1">
            <a:off x="1004760" y="1566720"/>
            <a:ext cx="71344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velocidad al cuadrado, tensión eléctrica al  cuadrado, presión al cuadrado, etc. En general se tom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lores eficac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dr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F3B-CE63-4E35-8212-846C351A1E16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flipH="1">
            <a:off x="1004760" y="768240"/>
            <a:ext cx="7134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ormalmente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060640" y="1800360"/>
                <a:ext cx="50227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f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Δf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Δ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1" name=""/>
          <p:cNvGrpSpPr/>
          <p:nvPr/>
        </p:nvGrpSpPr>
        <p:grpSpPr>
          <a:xfrm>
            <a:off x="1004760" y="4057560"/>
            <a:ext cx="7134480" cy="1619280"/>
            <a:chOff x="1004760" y="4057560"/>
            <a:chExt cx="7134480" cy="1619280"/>
          </a:xfrm>
        </p:grpSpPr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1006560" y="4057560"/>
                  <a:ext cx="16365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,</m:t>
                          </m:r>
                          <m:r>
                            <m:t xml:space="preserve">Δf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03" name=""/>
            <p:cNvSpPr/>
            <p:nvPr/>
          </p:nvSpPr>
          <p:spPr>
            <a:xfrm flipH="1">
              <a:off x="1004760" y="4184640"/>
              <a:ext cx="71344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         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es la presión eficaz al cuadrado luego de atravesar un hipotético filtro centrado en </a:t>
              </a: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_tradnl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de ancho de banda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E72-5FE1-4746-982F-3353F8B39ED4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820800" y="2336760"/>
            <a:ext cx="7500960" cy="1641600"/>
            <a:chOff x="820800" y="2336760"/>
            <a:chExt cx="7500960" cy="1641600"/>
          </a:xfrm>
        </p:grpSpPr>
        <p:sp>
          <p:nvSpPr>
            <p:cNvPr id="1105" name=""/>
            <p:cNvSpPr/>
            <p:nvPr/>
          </p:nvSpPr>
          <p:spPr>
            <a:xfrm>
              <a:off x="2095560" y="2336760"/>
              <a:ext cx="2481120" cy="16416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2281320" y="2534760"/>
              <a:ext cx="2111400" cy="1247040"/>
              <a:chOff x="2281320" y="2534760"/>
              <a:chExt cx="2111400" cy="1247040"/>
            </a:xfrm>
          </p:grpSpPr>
          <p:sp>
            <p:nvSpPr>
              <p:cNvPr id="1107" name=""/>
              <p:cNvSpPr/>
              <p:nvPr/>
            </p:nvSpPr>
            <p:spPr>
              <a:xfrm flipV="1">
                <a:off x="2368800" y="2534760"/>
                <a:ext cx="0" cy="9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281320" y="3463560"/>
                <a:ext cx="19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363760" y="2838240"/>
                <a:ext cx="1659240" cy="625320"/>
              </a:xfrm>
              <a:custGeom>
                <a:avLst/>
                <a:gdLst/>
                <a:ahLst/>
                <a:rect l="l" t="t" r="r" b="b"/>
                <a:pathLst>
                  <a:path w="1045" h="394">
                    <a:moveTo>
                      <a:pt x="0" y="394"/>
                    </a:moveTo>
                    <a:lnTo>
                      <a:pt x="391" y="393"/>
                    </a:lnTo>
                    <a:lnTo>
                      <a:pt x="391" y="0"/>
                    </a:lnTo>
                    <a:lnTo>
                      <a:pt x="671" y="0"/>
                    </a:lnTo>
                    <a:lnTo>
                      <a:pt x="671" y="393"/>
                    </a:lnTo>
                    <a:lnTo>
                      <a:pt x="1045" y="39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927520" y="3382920"/>
                <a:ext cx="47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4440" y="2866680"/>
                <a:ext cx="67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16440" y="3236760"/>
                <a:ext cx="47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1500120" y="3157560"/>
              <a:ext cx="568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0800" y="286848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9920" y="2521080"/>
              <a:ext cx="13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i="1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,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6680" y="3157560"/>
              <a:ext cx="1249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24440" y="2627280"/>
              <a:ext cx="1101960" cy="1060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29280" y="2897280"/>
              <a:ext cx="6984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e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4224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7431120" y="2854440"/>
              <a:ext cx="890640" cy="587520"/>
              <a:chOff x="7431120" y="2854440"/>
              <a:chExt cx="890640" cy="587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7431120" y="2955960"/>
                <a:ext cx="89064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r>
                  <a:rPr b="0" i="1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e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66200" y="2854440"/>
                <a:ext cx="360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64-1263-4310-B1CB-10D841B298B0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 flipH="1">
            <a:off x="1061280" y="623880"/>
            <a:ext cx="71341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consecuencia de la definición se puede obtener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lor efica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 de frecue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ntegrand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1685880" y="4413240"/>
                <a:ext cx="57704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d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33A-8047-4EB7-86A3-6B5D1B3FAC99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82760" y="4251240"/>
            <a:ext cx="626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527120" y="1900080"/>
            <a:ext cx="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103480" y="2309760"/>
            <a:ext cx="3629160" cy="1925640"/>
          </a:xfrm>
          <a:custGeom>
            <a:avLst/>
            <a:gdLst/>
            <a:ahLst/>
            <a:rect l="l" t="t" r="r" b="b"/>
            <a:pathLst>
              <a:path w="2286" h="1213">
                <a:moveTo>
                  <a:pt x="0" y="800"/>
                </a:moveTo>
                <a:lnTo>
                  <a:pt x="103" y="732"/>
                </a:lnTo>
                <a:lnTo>
                  <a:pt x="259" y="558"/>
                </a:lnTo>
                <a:lnTo>
                  <a:pt x="359" y="439"/>
                </a:lnTo>
                <a:lnTo>
                  <a:pt x="478" y="293"/>
                </a:lnTo>
                <a:lnTo>
                  <a:pt x="551" y="211"/>
                </a:lnTo>
                <a:lnTo>
                  <a:pt x="652" y="119"/>
                </a:lnTo>
                <a:lnTo>
                  <a:pt x="736" y="68"/>
                </a:lnTo>
                <a:lnTo>
                  <a:pt x="807" y="37"/>
                </a:lnTo>
                <a:lnTo>
                  <a:pt x="912" y="4"/>
                </a:lnTo>
                <a:lnTo>
                  <a:pt x="980" y="0"/>
                </a:lnTo>
                <a:lnTo>
                  <a:pt x="1036" y="10"/>
                </a:lnTo>
                <a:cubicBezTo>
                  <a:pt x="1068" y="21"/>
                  <a:pt x="1112" y="40"/>
                  <a:pt x="1155" y="74"/>
                </a:cubicBezTo>
                <a:lnTo>
                  <a:pt x="1292" y="211"/>
                </a:lnTo>
                <a:cubicBezTo>
                  <a:pt x="1339" y="250"/>
                  <a:pt x="1386" y="304"/>
                  <a:pt x="1444" y="340"/>
                </a:cubicBezTo>
                <a:cubicBezTo>
                  <a:pt x="1502" y="376"/>
                  <a:pt x="1592" y="412"/>
                  <a:pt x="1639" y="430"/>
                </a:cubicBezTo>
                <a:lnTo>
                  <a:pt x="1728" y="448"/>
                </a:lnTo>
                <a:lnTo>
                  <a:pt x="1813" y="449"/>
                </a:lnTo>
                <a:lnTo>
                  <a:pt x="1969" y="412"/>
                </a:lnTo>
                <a:lnTo>
                  <a:pt x="2164" y="336"/>
                </a:lnTo>
                <a:lnTo>
                  <a:pt x="2284" y="283"/>
                </a:lnTo>
                <a:lnTo>
                  <a:pt x="2286" y="1213"/>
                </a:lnTo>
                <a:lnTo>
                  <a:pt x="0" y="1213"/>
                </a:lnTo>
                <a:lnTo>
                  <a:pt x="0" y="8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19440" y="4267080"/>
            <a:ext cx="59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432400" y="4267080"/>
            <a:ext cx="5954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283520" y="4029120"/>
            <a:ext cx="59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013200" y="3200400"/>
                <a:ext cx="18097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168560" y="1324080"/>
                <a:ext cx="850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 flipV="1">
            <a:off x="2085840" y="35942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5743440" y="2782800"/>
            <a:ext cx="0" cy="14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527120" y="2325600"/>
            <a:ext cx="5805720" cy="1627200"/>
          </a:xfrm>
          <a:custGeom>
            <a:avLst/>
            <a:gdLst/>
            <a:ahLst/>
            <a:rect l="l" t="t" r="r" b="b"/>
            <a:pathLst>
              <a:path w="3657" h="1025">
                <a:moveTo>
                  <a:pt x="0" y="906"/>
                </a:moveTo>
                <a:lnTo>
                  <a:pt x="135" y="884"/>
                </a:lnTo>
                <a:lnTo>
                  <a:pt x="238" y="860"/>
                </a:lnTo>
                <a:lnTo>
                  <a:pt x="363" y="800"/>
                </a:lnTo>
                <a:lnTo>
                  <a:pt x="466" y="732"/>
                </a:lnTo>
                <a:lnTo>
                  <a:pt x="622" y="558"/>
                </a:lnTo>
                <a:lnTo>
                  <a:pt x="722" y="439"/>
                </a:lnTo>
                <a:lnTo>
                  <a:pt x="841" y="293"/>
                </a:lnTo>
                <a:lnTo>
                  <a:pt x="914" y="211"/>
                </a:lnTo>
                <a:lnTo>
                  <a:pt x="1015" y="119"/>
                </a:lnTo>
                <a:lnTo>
                  <a:pt x="1099" y="68"/>
                </a:lnTo>
                <a:lnTo>
                  <a:pt x="1170" y="37"/>
                </a:lnTo>
                <a:lnTo>
                  <a:pt x="1275" y="4"/>
                </a:lnTo>
                <a:lnTo>
                  <a:pt x="1343" y="0"/>
                </a:lnTo>
                <a:lnTo>
                  <a:pt x="1399" y="10"/>
                </a:lnTo>
                <a:cubicBezTo>
                  <a:pt x="1431" y="21"/>
                  <a:pt x="1475" y="40"/>
                  <a:pt x="1518" y="74"/>
                </a:cubicBezTo>
                <a:lnTo>
                  <a:pt x="1655" y="211"/>
                </a:lnTo>
                <a:cubicBezTo>
                  <a:pt x="1702" y="250"/>
                  <a:pt x="1749" y="304"/>
                  <a:pt x="1807" y="340"/>
                </a:cubicBezTo>
                <a:cubicBezTo>
                  <a:pt x="1865" y="376"/>
                  <a:pt x="1955" y="412"/>
                  <a:pt x="2002" y="430"/>
                </a:cubicBezTo>
                <a:lnTo>
                  <a:pt x="2091" y="448"/>
                </a:lnTo>
                <a:lnTo>
                  <a:pt x="2176" y="449"/>
                </a:lnTo>
                <a:lnTo>
                  <a:pt x="2332" y="412"/>
                </a:lnTo>
                <a:lnTo>
                  <a:pt x="2527" y="336"/>
                </a:lnTo>
                <a:lnTo>
                  <a:pt x="2651" y="280"/>
                </a:lnTo>
                <a:lnTo>
                  <a:pt x="2747" y="256"/>
                </a:lnTo>
                <a:lnTo>
                  <a:pt x="2835" y="256"/>
                </a:lnTo>
                <a:lnTo>
                  <a:pt x="2899" y="268"/>
                </a:lnTo>
                <a:lnTo>
                  <a:pt x="2987" y="304"/>
                </a:lnTo>
                <a:lnTo>
                  <a:pt x="3083" y="376"/>
                </a:lnTo>
                <a:lnTo>
                  <a:pt x="3203" y="508"/>
                </a:lnTo>
                <a:lnTo>
                  <a:pt x="3271" y="592"/>
                </a:lnTo>
                <a:lnTo>
                  <a:pt x="3347" y="716"/>
                </a:lnTo>
                <a:cubicBezTo>
                  <a:pt x="3378" y="763"/>
                  <a:pt x="3386" y="784"/>
                  <a:pt x="3407" y="816"/>
                </a:cubicBezTo>
                <a:cubicBezTo>
                  <a:pt x="3428" y="848"/>
                  <a:pt x="3453" y="888"/>
                  <a:pt x="3471" y="912"/>
                </a:cubicBezTo>
                <a:cubicBezTo>
                  <a:pt x="3489" y="936"/>
                  <a:pt x="3501" y="947"/>
                  <a:pt x="3515" y="960"/>
                </a:cubicBezTo>
                <a:cubicBezTo>
                  <a:pt x="3530" y="969"/>
                  <a:pt x="3557" y="988"/>
                  <a:pt x="3557" y="988"/>
                </a:cubicBezTo>
                <a:lnTo>
                  <a:pt x="3657" y="102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3781800" y="275400"/>
            <a:ext cx="272880" cy="3671640"/>
          </a:xfrm>
          <a:custGeom>
            <a:avLst/>
            <a:gdLst>
              <a:gd name="textAreaLeft" fmla="*/ 174240 w 272880"/>
              <a:gd name="textAreaRight" fmla="*/ 272880 w 272880"/>
              <a:gd name="textAreaTop" fmla="*/ 57240 h 3671640"/>
              <a:gd name="textAreaBottom" fmla="*/ 361440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1"/>
                  <a:pt x="10800" y="1081"/>
                </a:cubicBezTo>
                <a:lnTo>
                  <a:pt x="10800" y="9719"/>
                </a:lnTo>
                <a:cubicBezTo>
                  <a:pt x="10800" y="10260"/>
                  <a:pt x="5400" y="10800"/>
                  <a:pt x="0" y="10800"/>
                </a:cubicBezTo>
                <a:cubicBezTo>
                  <a:pt x="5400" y="10800"/>
                  <a:pt x="10800" y="11341"/>
                  <a:pt x="10800" y="11881"/>
                </a:cubicBezTo>
                <a:lnTo>
                  <a:pt x="10800" y="20519"/>
                </a:lnTo>
                <a:cubicBezTo>
                  <a:pt x="10800" y="210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173400" y="1160640"/>
                <a:ext cx="14907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595-2CED-40EA-B8C9-0F5D35022A72}" type="slidenum">
              <a:t>86</a:t>
            </a:fld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 flipH="1">
            <a:off x="721440" y="824040"/>
            <a:ext cx="7813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u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lan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tiene densidad espectral </a:t>
            </a:r>
            <a:r>
              <a:rPr b="0" i="1" lang="es-ES_tradnl" sz="4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t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714240" y="3809880"/>
                <a:ext cx="738828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K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B96-B20E-4A7C-A031-2CB231BB4F41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 flipH="1">
            <a:off x="721440" y="523800"/>
            <a:ext cx="7813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u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os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tiene densidad espectral </a:t>
            </a:r>
            <a:r>
              <a:rPr b="0" i="1" lang="es-ES_tradnl" sz="4000" spc="-1" strike="noStrike">
                <a:solidFill>
                  <a:srgbClr val="333399"/>
                </a:solidFill>
                <a:latin typeface="Times New Roman"/>
              </a:rPr>
              <a:t>K/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71600" y="3809880"/>
                <a:ext cx="787392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69A-EFF9-4C8B-B20C-86F9C20D5ADE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 flipH="1">
            <a:off x="721440" y="552600"/>
            <a:ext cx="781380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ticularment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ros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igual valor eficaz en todas las octav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925560" y="4389480"/>
                <a:ext cx="696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rot="16200000">
            <a:off x="7034760" y="4329720"/>
            <a:ext cx="208080" cy="1606680"/>
          </a:xfrm>
          <a:custGeom>
            <a:avLst/>
            <a:gdLst>
              <a:gd name="textAreaLeft" fmla="*/ 132840 w 208080"/>
              <a:gd name="textAreaRight" fmla="*/ 208440 w 208080"/>
              <a:gd name="textAreaTop" fmla="*/ 30960 h 1606680"/>
              <a:gd name="textAreaBottom" fmla="*/ 1575720 h 160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2"/>
                  <a:pt x="10800" y="1344"/>
                </a:cubicBezTo>
                <a:lnTo>
                  <a:pt x="10800" y="9456"/>
                </a:lnTo>
                <a:cubicBezTo>
                  <a:pt x="10800" y="10128"/>
                  <a:pt x="5400" y="10800"/>
                  <a:pt x="0" y="10800"/>
                </a:cubicBezTo>
                <a:cubicBezTo>
                  <a:pt x="5400" y="10800"/>
                  <a:pt x="10800" y="11472"/>
                  <a:pt x="10800" y="12144"/>
                </a:cubicBezTo>
                <a:lnTo>
                  <a:pt x="10800" y="20256"/>
                </a:lnTo>
                <a:cubicBezTo>
                  <a:pt x="10800" y="2092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938200" y="5345280"/>
            <a:ext cx="2400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Independiente de la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564-75A7-46CE-B9B6-396AC5792563}" type="slidenum">
              <a:t>89</a:t>
            </a:fld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0120" y="432900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1880" y="271476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879560" y="2571840"/>
            <a:ext cx="5170320" cy="284040"/>
            <a:chOff x="1879560" y="2571840"/>
            <a:chExt cx="5170320" cy="284040"/>
          </a:xfrm>
        </p:grpSpPr>
        <p:grpSp>
          <p:nvGrpSpPr>
            <p:cNvPr id="278" name=""/>
            <p:cNvGrpSpPr/>
            <p:nvPr/>
          </p:nvGrpSpPr>
          <p:grpSpPr>
            <a:xfrm>
              <a:off x="1879560" y="2571840"/>
              <a:ext cx="864720" cy="284040"/>
              <a:chOff x="1879560" y="2571840"/>
              <a:chExt cx="864720" cy="2840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879560" y="2571840"/>
                <a:ext cx="430200" cy="284040"/>
                <a:chOff x="1879560" y="2571840"/>
                <a:chExt cx="430200" cy="284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8795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872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98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2021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311560" y="2571840"/>
                <a:ext cx="432720" cy="284040"/>
                <a:chOff x="2311560" y="2571840"/>
                <a:chExt cx="432720" cy="2840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3115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192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30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664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2739600" y="2571840"/>
              <a:ext cx="864720" cy="284040"/>
              <a:chOff x="2739600" y="2571840"/>
              <a:chExt cx="864720" cy="2840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739600" y="2571840"/>
                <a:ext cx="432000" cy="284040"/>
                <a:chOff x="2739600" y="2571840"/>
                <a:chExt cx="432000" cy="284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396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47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588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0639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170520" y="2571840"/>
                <a:ext cx="433800" cy="284040"/>
                <a:chOff x="3170520" y="2571840"/>
                <a:chExt cx="433800" cy="284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17052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79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3908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9668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3598920" y="2571840"/>
              <a:ext cx="861840" cy="284040"/>
              <a:chOff x="3598920" y="2571840"/>
              <a:chExt cx="861840" cy="2840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3598920" y="2571840"/>
                <a:ext cx="429480" cy="284040"/>
                <a:chOff x="3598920" y="2571840"/>
                <a:chExt cx="429480" cy="284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59892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7044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1132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9207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28400" y="2571840"/>
                <a:ext cx="432360" cy="284040"/>
                <a:chOff x="4028400" y="2571840"/>
                <a:chExt cx="432360" cy="2840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0284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378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4260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531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458240" y="2571840"/>
              <a:ext cx="864720" cy="284040"/>
              <a:chOff x="4458240" y="2571840"/>
              <a:chExt cx="864720" cy="2840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4458240" y="2571840"/>
                <a:ext cx="430200" cy="284040"/>
                <a:chOff x="4458240" y="2571840"/>
                <a:chExt cx="430200" cy="2840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458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5651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67208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78080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888440" y="2571840"/>
                <a:ext cx="434520" cy="284040"/>
                <a:chOff x="4888440" y="2571840"/>
                <a:chExt cx="434520" cy="284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8884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9788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104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2153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5320080" y="2571840"/>
              <a:ext cx="864720" cy="284040"/>
              <a:chOff x="5320080" y="2571840"/>
              <a:chExt cx="864720" cy="284040"/>
            </a:xfrm>
          </p:grpSpPr>
          <p:sp>
            <p:nvSpPr>
              <p:cNvPr id="323" name=""/>
              <p:cNvSpPr/>
              <p:nvPr/>
            </p:nvSpPr>
            <p:spPr>
              <a:xfrm>
                <a:off x="5320080" y="25718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27720" y="25718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36440" y="271296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45160" y="27133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751000" y="2571840"/>
                <a:ext cx="433800" cy="284040"/>
                <a:chOff x="5751000" y="2571840"/>
                <a:chExt cx="433800" cy="2840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510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5972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66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771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6186600" y="2571840"/>
              <a:ext cx="863280" cy="284040"/>
              <a:chOff x="6186600" y="2571840"/>
              <a:chExt cx="863280" cy="2840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186600" y="2571840"/>
                <a:ext cx="430560" cy="284040"/>
                <a:chOff x="6186600" y="2571840"/>
                <a:chExt cx="430560" cy="2840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1866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942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0008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095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616440" y="2571840"/>
                <a:ext cx="433440" cy="284040"/>
                <a:chOff x="6616440" y="2571840"/>
                <a:chExt cx="433440" cy="284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6164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72696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3280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4224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7535880" y="411012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EB1-D86E-4411-8E5F-405BD6DC44E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4A1-F5C9-4662-801E-E163B4E5E7F0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541-BEAD-43D5-B8D5-730139403A8C}" type="slidenum">
              <a:t>91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3:01Z</dcterms:modified>
  <cp:revision>222</cp:revision>
  <dc:subject/>
  <dc:title>PSICOACÚSTICA  aplicada a la calidad acústica de espacios educativos.  Materiales absorbentes acústicos reciclados </dc:title>
</cp:coreProperties>
</file>