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A1F05-B893-4883-986D-0E9EF295DC7A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Título e información de contac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B0700-44A1-4A1F-B4BC-1CAFC5FFC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61337-F929-47E4-A177-B77EF5FE8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60249-85BD-4FAD-A4C8-5C0BF8D98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0083F-6454-43CD-A98F-B1980DA90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32DBA-5CA2-46B4-8A27-5B1E4BE37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EDC95-EF46-4B6E-A792-98BB8DF64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50201-9E7C-4F3A-AA66-64476F99E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7BC49-E706-493D-8222-5F4B180D7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C6F97-73ED-4F0C-8D35-C2B9BED97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BCE64-5B34-4735-8301-BA88EC468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02063-6474-4C33-86CD-EA6BE8A34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1B336-519A-4364-A247-C42DFA216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C78E0-8D48-4B68-8772-887E8DCA8B4A}" type="slidenum">
              <a:rPr b="0" lang="es-ES_trad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23720" y="2061720"/>
            <a:ext cx="829656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0" spc="-1" strike="noStrike">
                <a:solidFill>
                  <a:srgbClr val="009999"/>
                </a:solidFill>
                <a:latin typeface="Arial"/>
              </a:rPr>
              <a:t>Psicoacústic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4505040"/>
            <a:ext cx="6400800" cy="17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Federico Miya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Universidad Nacional de Rosa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http://www.fceia.unr.edu.ar/acust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fmiyara@fceia.unr.edu.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2511360" y="299880"/>
            <a:ext cx="4121280" cy="1501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90760-CC4F-497F-BFD7-1A2C09A8C612}" type="slidenum">
              <a:t>1</a:t>
            </a:fld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"/>
          <p:cNvGrpSpPr/>
          <p:nvPr/>
        </p:nvGrpSpPr>
        <p:grpSpPr>
          <a:xfrm>
            <a:off x="426960" y="2362320"/>
            <a:ext cx="8288280" cy="2730240"/>
            <a:chOff x="426960" y="2362320"/>
            <a:chExt cx="8288280" cy="2730240"/>
          </a:xfrm>
        </p:grpSpPr>
        <p:sp>
          <p:nvSpPr>
            <p:cNvPr id="92" name=""/>
            <p:cNvSpPr/>
            <p:nvPr/>
          </p:nvSpPr>
          <p:spPr>
            <a:xfrm>
              <a:off x="3097080" y="3728880"/>
              <a:ext cx="54496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flipV="1">
              <a:off x="3270240" y="2365200"/>
              <a:ext cx="0" cy="2727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646440" y="2362320"/>
              <a:ext cx="455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2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451720" y="3530520"/>
              <a:ext cx="26352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20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3273120" y="2711520"/>
              <a:ext cx="4793760" cy="2038320"/>
              <a:chOff x="3273120" y="2711520"/>
              <a:chExt cx="4793760" cy="2038320"/>
            </a:xfrm>
          </p:grpSpPr>
          <p:grpSp>
            <p:nvGrpSpPr>
              <p:cNvPr id="97" name=""/>
              <p:cNvGrpSpPr/>
              <p:nvPr/>
            </p:nvGrpSpPr>
            <p:grpSpPr>
              <a:xfrm>
                <a:off x="3273120" y="2711520"/>
                <a:ext cx="1197720" cy="1018440"/>
                <a:chOff x="3273120" y="2711520"/>
                <a:chExt cx="1197720" cy="1018440"/>
              </a:xfrm>
            </p:grpSpPr>
            <p:sp>
              <p:nvSpPr>
                <p:cNvPr id="98" name=""/>
                <p:cNvSpPr/>
                <p:nvPr/>
              </p:nvSpPr>
              <p:spPr>
                <a:xfrm>
                  <a:off x="3273120" y="2711520"/>
                  <a:ext cx="599400" cy="10184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0" y="19981"/>
                      </a:moveTo>
                      <a:lnTo>
                        <a:pt x="1042" y="18390"/>
                      </a:lnTo>
                      <a:lnTo>
                        <a:pt x="1958" y="16873"/>
                      </a:lnTo>
                      <a:lnTo>
                        <a:pt x="3000" y="15356"/>
                      </a:lnTo>
                      <a:lnTo>
                        <a:pt x="3958" y="13747"/>
                      </a:lnTo>
                      <a:lnTo>
                        <a:pt x="5042" y="12340"/>
                      </a:lnTo>
                      <a:lnTo>
                        <a:pt x="5958" y="10953"/>
                      </a:lnTo>
                      <a:lnTo>
                        <a:pt x="7000" y="9584"/>
                      </a:lnTo>
                      <a:lnTo>
                        <a:pt x="7958" y="8252"/>
                      </a:lnTo>
                      <a:lnTo>
                        <a:pt x="9000" y="7012"/>
                      </a:lnTo>
                      <a:lnTo>
                        <a:pt x="10042" y="5920"/>
                      </a:lnTo>
                      <a:lnTo>
                        <a:pt x="11000" y="4847"/>
                      </a:lnTo>
                      <a:lnTo>
                        <a:pt x="12000" y="3793"/>
                      </a:lnTo>
                      <a:lnTo>
                        <a:pt x="12958" y="3016"/>
                      </a:lnTo>
                      <a:lnTo>
                        <a:pt x="14042" y="2239"/>
                      </a:lnTo>
                      <a:lnTo>
                        <a:pt x="14958" y="1536"/>
                      </a:lnTo>
                      <a:lnTo>
                        <a:pt x="16000" y="962"/>
                      </a:lnTo>
                      <a:lnTo>
                        <a:pt x="16958" y="592"/>
                      </a:lnTo>
                      <a:lnTo>
                        <a:pt x="18042" y="222"/>
                      </a:lnTo>
                      <a:lnTo>
                        <a:pt x="18917" y="37"/>
                      </a:lnTo>
                      <a:lnTo>
                        <a:pt x="19958" y="0"/>
                      </a:lnTo>
                    </a:path>
                  </a:pathLst>
                </a:custGeom>
                <a:noFill/>
                <a:ln w="2844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" name=""/>
                <p:cNvSpPr/>
                <p:nvPr/>
              </p:nvSpPr>
              <p:spPr>
                <a:xfrm>
                  <a:off x="3872520" y="2711520"/>
                  <a:ext cx="598320" cy="10184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58" y="19981"/>
                      </a:moveTo>
                      <a:lnTo>
                        <a:pt x="18958" y="18390"/>
                      </a:lnTo>
                      <a:lnTo>
                        <a:pt x="18042" y="16873"/>
                      </a:lnTo>
                      <a:lnTo>
                        <a:pt x="17000" y="15356"/>
                      </a:lnTo>
                      <a:lnTo>
                        <a:pt x="16042" y="13747"/>
                      </a:lnTo>
                      <a:lnTo>
                        <a:pt x="14958" y="12340"/>
                      </a:lnTo>
                      <a:lnTo>
                        <a:pt x="14042" y="10953"/>
                      </a:lnTo>
                      <a:lnTo>
                        <a:pt x="12958" y="9584"/>
                      </a:lnTo>
                      <a:lnTo>
                        <a:pt x="12000" y="8252"/>
                      </a:lnTo>
                      <a:lnTo>
                        <a:pt x="11000" y="7012"/>
                      </a:lnTo>
                      <a:lnTo>
                        <a:pt x="10042" y="5920"/>
                      </a:lnTo>
                      <a:lnTo>
                        <a:pt x="9000" y="4847"/>
                      </a:lnTo>
                      <a:lnTo>
                        <a:pt x="8000" y="3793"/>
                      </a:lnTo>
                      <a:lnTo>
                        <a:pt x="7000" y="3016"/>
                      </a:lnTo>
                      <a:lnTo>
                        <a:pt x="6042" y="2239"/>
                      </a:lnTo>
                      <a:lnTo>
                        <a:pt x="5042" y="1536"/>
                      </a:lnTo>
                      <a:lnTo>
                        <a:pt x="4000" y="962"/>
                      </a:lnTo>
                      <a:lnTo>
                        <a:pt x="3000" y="592"/>
                      </a:lnTo>
                      <a:lnTo>
                        <a:pt x="2042" y="222"/>
                      </a:lnTo>
                      <a:lnTo>
                        <a:pt x="1042" y="37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2844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0" name=""/>
              <p:cNvGrpSpPr/>
              <p:nvPr/>
            </p:nvGrpSpPr>
            <p:grpSpPr>
              <a:xfrm>
                <a:off x="4469040" y="3730680"/>
                <a:ext cx="1198080" cy="1019160"/>
                <a:chOff x="4469040" y="3730680"/>
                <a:chExt cx="1198080" cy="1019160"/>
              </a:xfrm>
            </p:grpSpPr>
            <p:sp>
              <p:nvSpPr>
                <p:cNvPr id="101" name=""/>
                <p:cNvSpPr/>
                <p:nvPr/>
              </p:nvSpPr>
              <p:spPr>
                <a:xfrm>
                  <a:off x="4469040" y="3730680"/>
                  <a:ext cx="599040" cy="10184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0" y="0"/>
                      </a:moveTo>
                      <a:lnTo>
                        <a:pt x="1042" y="1591"/>
                      </a:lnTo>
                      <a:lnTo>
                        <a:pt x="1958" y="3108"/>
                      </a:lnTo>
                      <a:lnTo>
                        <a:pt x="3000" y="4625"/>
                      </a:lnTo>
                      <a:lnTo>
                        <a:pt x="3958" y="6253"/>
                      </a:lnTo>
                      <a:lnTo>
                        <a:pt x="5042" y="7660"/>
                      </a:lnTo>
                      <a:lnTo>
                        <a:pt x="5958" y="9029"/>
                      </a:lnTo>
                      <a:lnTo>
                        <a:pt x="7000" y="10416"/>
                      </a:lnTo>
                      <a:lnTo>
                        <a:pt x="7958" y="11730"/>
                      </a:lnTo>
                      <a:lnTo>
                        <a:pt x="9000" y="12969"/>
                      </a:lnTo>
                      <a:lnTo>
                        <a:pt x="10042" y="14080"/>
                      </a:lnTo>
                      <a:lnTo>
                        <a:pt x="11000" y="15134"/>
                      </a:lnTo>
                      <a:lnTo>
                        <a:pt x="12000" y="16189"/>
                      </a:lnTo>
                      <a:lnTo>
                        <a:pt x="12958" y="16984"/>
                      </a:lnTo>
                      <a:lnTo>
                        <a:pt x="14042" y="17743"/>
                      </a:lnTo>
                      <a:lnTo>
                        <a:pt x="14958" y="18464"/>
                      </a:lnTo>
                      <a:lnTo>
                        <a:pt x="16000" y="19019"/>
                      </a:lnTo>
                      <a:lnTo>
                        <a:pt x="16958" y="19408"/>
                      </a:lnTo>
                      <a:lnTo>
                        <a:pt x="18042" y="19759"/>
                      </a:lnTo>
                      <a:lnTo>
                        <a:pt x="18917" y="19944"/>
                      </a:lnTo>
                      <a:lnTo>
                        <a:pt x="19958" y="19981"/>
                      </a:lnTo>
                    </a:path>
                  </a:pathLst>
                </a:custGeom>
                <a:noFill/>
                <a:ln w="2844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5068080" y="3731400"/>
                  <a:ext cx="599040" cy="10184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58" y="0"/>
                      </a:moveTo>
                      <a:lnTo>
                        <a:pt x="18958" y="1591"/>
                      </a:lnTo>
                      <a:lnTo>
                        <a:pt x="18042" y="3108"/>
                      </a:lnTo>
                      <a:lnTo>
                        <a:pt x="17000" y="4625"/>
                      </a:lnTo>
                      <a:lnTo>
                        <a:pt x="16042" y="6253"/>
                      </a:lnTo>
                      <a:lnTo>
                        <a:pt x="14958" y="7660"/>
                      </a:lnTo>
                      <a:lnTo>
                        <a:pt x="14042" y="9029"/>
                      </a:lnTo>
                      <a:lnTo>
                        <a:pt x="12958" y="10416"/>
                      </a:lnTo>
                      <a:lnTo>
                        <a:pt x="12000" y="11730"/>
                      </a:lnTo>
                      <a:lnTo>
                        <a:pt x="11000" y="12969"/>
                      </a:lnTo>
                      <a:lnTo>
                        <a:pt x="10042" y="14080"/>
                      </a:lnTo>
                      <a:lnTo>
                        <a:pt x="9000" y="15134"/>
                      </a:lnTo>
                      <a:lnTo>
                        <a:pt x="8000" y="16189"/>
                      </a:lnTo>
                      <a:lnTo>
                        <a:pt x="7000" y="16984"/>
                      </a:lnTo>
                      <a:lnTo>
                        <a:pt x="6042" y="17743"/>
                      </a:lnTo>
                      <a:lnTo>
                        <a:pt x="5042" y="18464"/>
                      </a:lnTo>
                      <a:lnTo>
                        <a:pt x="4000" y="19019"/>
                      </a:lnTo>
                      <a:lnTo>
                        <a:pt x="3000" y="19408"/>
                      </a:lnTo>
                      <a:lnTo>
                        <a:pt x="2042" y="19759"/>
                      </a:lnTo>
                      <a:lnTo>
                        <a:pt x="1042" y="19944"/>
                      </a:lnTo>
                      <a:lnTo>
                        <a:pt x="0" y="19981"/>
                      </a:lnTo>
                    </a:path>
                  </a:pathLst>
                </a:custGeom>
                <a:noFill/>
                <a:ln w="2844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3" name=""/>
              <p:cNvSpPr/>
              <p:nvPr/>
            </p:nvSpPr>
            <p:spPr>
              <a:xfrm>
                <a:off x="5667480" y="2711520"/>
                <a:ext cx="598320" cy="10191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19981"/>
                    </a:moveTo>
                    <a:lnTo>
                      <a:pt x="1042" y="18390"/>
                    </a:lnTo>
                    <a:lnTo>
                      <a:pt x="1958" y="16873"/>
                    </a:lnTo>
                    <a:lnTo>
                      <a:pt x="3000" y="15356"/>
                    </a:lnTo>
                    <a:lnTo>
                      <a:pt x="3958" y="13747"/>
                    </a:lnTo>
                    <a:lnTo>
                      <a:pt x="5042" y="12340"/>
                    </a:lnTo>
                    <a:lnTo>
                      <a:pt x="5958" y="10953"/>
                    </a:lnTo>
                    <a:lnTo>
                      <a:pt x="7000" y="9584"/>
                    </a:lnTo>
                    <a:lnTo>
                      <a:pt x="7958" y="8252"/>
                    </a:lnTo>
                    <a:lnTo>
                      <a:pt x="9000" y="7012"/>
                    </a:lnTo>
                    <a:lnTo>
                      <a:pt x="10042" y="5920"/>
                    </a:lnTo>
                    <a:lnTo>
                      <a:pt x="11000" y="4847"/>
                    </a:lnTo>
                    <a:lnTo>
                      <a:pt x="12000" y="3793"/>
                    </a:lnTo>
                    <a:lnTo>
                      <a:pt x="12958" y="3016"/>
                    </a:lnTo>
                    <a:lnTo>
                      <a:pt x="14042" y="2239"/>
                    </a:lnTo>
                    <a:lnTo>
                      <a:pt x="14958" y="1536"/>
                    </a:lnTo>
                    <a:lnTo>
                      <a:pt x="16000" y="962"/>
                    </a:lnTo>
                    <a:lnTo>
                      <a:pt x="16958" y="592"/>
                    </a:lnTo>
                    <a:lnTo>
                      <a:pt x="18042" y="222"/>
                    </a:lnTo>
                    <a:lnTo>
                      <a:pt x="18917" y="37"/>
                    </a:lnTo>
                    <a:lnTo>
                      <a:pt x="19958" y="0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6268320" y="2711520"/>
                <a:ext cx="597600" cy="10191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19981"/>
                    </a:moveTo>
                    <a:lnTo>
                      <a:pt x="18958" y="18390"/>
                    </a:lnTo>
                    <a:lnTo>
                      <a:pt x="18042" y="16873"/>
                    </a:lnTo>
                    <a:lnTo>
                      <a:pt x="17000" y="15356"/>
                    </a:lnTo>
                    <a:lnTo>
                      <a:pt x="16042" y="13747"/>
                    </a:lnTo>
                    <a:lnTo>
                      <a:pt x="14958" y="12340"/>
                    </a:lnTo>
                    <a:lnTo>
                      <a:pt x="14042" y="10953"/>
                    </a:lnTo>
                    <a:lnTo>
                      <a:pt x="12958" y="9584"/>
                    </a:lnTo>
                    <a:lnTo>
                      <a:pt x="12000" y="8252"/>
                    </a:lnTo>
                    <a:lnTo>
                      <a:pt x="11000" y="7012"/>
                    </a:lnTo>
                    <a:lnTo>
                      <a:pt x="10042" y="5920"/>
                    </a:lnTo>
                    <a:lnTo>
                      <a:pt x="9000" y="4847"/>
                    </a:lnTo>
                    <a:lnTo>
                      <a:pt x="8000" y="3793"/>
                    </a:lnTo>
                    <a:lnTo>
                      <a:pt x="7000" y="3016"/>
                    </a:lnTo>
                    <a:lnTo>
                      <a:pt x="6042" y="2239"/>
                    </a:lnTo>
                    <a:lnTo>
                      <a:pt x="5042" y="1536"/>
                    </a:lnTo>
                    <a:lnTo>
                      <a:pt x="4000" y="962"/>
                    </a:lnTo>
                    <a:lnTo>
                      <a:pt x="3000" y="592"/>
                    </a:lnTo>
                    <a:lnTo>
                      <a:pt x="2042" y="222"/>
                    </a:lnTo>
                    <a:lnTo>
                      <a:pt x="1042" y="37"/>
                    </a:lnTo>
                    <a:lnTo>
                      <a:pt x="0" y="0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6865920" y="3730680"/>
                <a:ext cx="598320" cy="10191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0"/>
                    </a:moveTo>
                    <a:lnTo>
                      <a:pt x="1042" y="1591"/>
                    </a:lnTo>
                    <a:lnTo>
                      <a:pt x="1958" y="3108"/>
                    </a:lnTo>
                    <a:lnTo>
                      <a:pt x="3000" y="4625"/>
                    </a:lnTo>
                    <a:lnTo>
                      <a:pt x="3958" y="6253"/>
                    </a:lnTo>
                    <a:lnTo>
                      <a:pt x="5042" y="7660"/>
                    </a:lnTo>
                    <a:lnTo>
                      <a:pt x="5958" y="9029"/>
                    </a:lnTo>
                    <a:lnTo>
                      <a:pt x="7000" y="10416"/>
                    </a:lnTo>
                    <a:lnTo>
                      <a:pt x="7958" y="11730"/>
                    </a:lnTo>
                    <a:lnTo>
                      <a:pt x="9000" y="12969"/>
                    </a:lnTo>
                    <a:lnTo>
                      <a:pt x="10042" y="14080"/>
                    </a:lnTo>
                    <a:lnTo>
                      <a:pt x="11000" y="15134"/>
                    </a:lnTo>
                    <a:lnTo>
                      <a:pt x="12000" y="16189"/>
                    </a:lnTo>
                    <a:lnTo>
                      <a:pt x="12958" y="16984"/>
                    </a:lnTo>
                    <a:lnTo>
                      <a:pt x="14042" y="17743"/>
                    </a:lnTo>
                    <a:lnTo>
                      <a:pt x="14958" y="18464"/>
                    </a:lnTo>
                    <a:lnTo>
                      <a:pt x="16000" y="19019"/>
                    </a:lnTo>
                    <a:lnTo>
                      <a:pt x="16958" y="19408"/>
                    </a:lnTo>
                    <a:lnTo>
                      <a:pt x="18042" y="19759"/>
                    </a:lnTo>
                    <a:lnTo>
                      <a:pt x="18917" y="19944"/>
                    </a:lnTo>
                    <a:lnTo>
                      <a:pt x="19958" y="19981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7469280" y="3730680"/>
                <a:ext cx="597600" cy="10191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0"/>
                    </a:moveTo>
                    <a:lnTo>
                      <a:pt x="18958" y="1591"/>
                    </a:lnTo>
                    <a:lnTo>
                      <a:pt x="18042" y="3108"/>
                    </a:lnTo>
                    <a:lnTo>
                      <a:pt x="17000" y="4625"/>
                    </a:lnTo>
                    <a:lnTo>
                      <a:pt x="16042" y="6253"/>
                    </a:lnTo>
                    <a:lnTo>
                      <a:pt x="14958" y="7660"/>
                    </a:lnTo>
                    <a:lnTo>
                      <a:pt x="14042" y="9029"/>
                    </a:lnTo>
                    <a:lnTo>
                      <a:pt x="12958" y="10416"/>
                    </a:lnTo>
                    <a:lnTo>
                      <a:pt x="12000" y="11730"/>
                    </a:lnTo>
                    <a:lnTo>
                      <a:pt x="11000" y="12969"/>
                    </a:lnTo>
                    <a:lnTo>
                      <a:pt x="10042" y="14080"/>
                    </a:lnTo>
                    <a:lnTo>
                      <a:pt x="9000" y="15134"/>
                    </a:lnTo>
                    <a:lnTo>
                      <a:pt x="8000" y="16189"/>
                    </a:lnTo>
                    <a:lnTo>
                      <a:pt x="7000" y="16984"/>
                    </a:lnTo>
                    <a:lnTo>
                      <a:pt x="6042" y="17743"/>
                    </a:lnTo>
                    <a:lnTo>
                      <a:pt x="5042" y="18464"/>
                    </a:lnTo>
                    <a:lnTo>
                      <a:pt x="4000" y="19019"/>
                    </a:lnTo>
                    <a:lnTo>
                      <a:pt x="3000" y="19408"/>
                    </a:lnTo>
                    <a:lnTo>
                      <a:pt x="2042" y="19759"/>
                    </a:lnTo>
                    <a:lnTo>
                      <a:pt x="1042" y="19944"/>
                    </a:lnTo>
                    <a:lnTo>
                      <a:pt x="0" y="19981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644400" y="2687760"/>
              <a:ext cx="2084400" cy="2085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26960" y="3728880"/>
              <a:ext cx="252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 flipV="1">
              <a:off x="1685880" y="2471760"/>
              <a:ext cx="0" cy="251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 flipV="1">
              <a:off x="1685880" y="2839680"/>
              <a:ext cx="536400" cy="879480"/>
            </a:xfrm>
            <a:prstGeom prst="line">
              <a:avLst/>
            </a:prstGeom>
            <a:ln w="2844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212920" y="2840040"/>
              <a:ext cx="1468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681360" y="2849400"/>
              <a:ext cx="0" cy="88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1224720" y="3268080"/>
              <a:ext cx="923400" cy="92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" y="10685"/>
                  </a:moveTo>
                  <a:arcTo wR="10800" hR="10800" stAng="-10763378" swAng="3529435"/>
                  <a:lnTo>
                    <a:pt x="10800" y="10800"/>
                  </a:lnTo>
                  <a:close/>
                </a:path>
                <a:path fill="none" w="21600" h="21600">
                  <a:moveTo>
                    <a:pt x="1" y="10685"/>
                  </a:moveTo>
                  <a:arcTo wR="10800" hR="10800" stAng="-10763378" swAng="3529435"/>
                </a:path>
              </a:pathLst>
            </a:custGeom>
            <a:noFill/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192040" y="2813040"/>
              <a:ext cx="50760" cy="507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998360" y="3243240"/>
              <a:ext cx="642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s-E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r>
                <a:rPr b="0" i="1" lang="es-ES" sz="1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i="1" lang="es-ES" sz="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s-ES" sz="1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16120" y="3686040"/>
              <a:ext cx="330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1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568840" y="3686040"/>
              <a:ext cx="330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1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959600" y="3686040"/>
              <a:ext cx="439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i="1" lang="es-ES" sz="1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0BB7E-A3E7-4F99-BB45-5A9CAF0FD80F}" type="slidenum">
              <a:t>10</a:t>
            </a:fld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6823080" y="5333040"/>
            <a:ext cx="106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F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 flipV="1">
            <a:off x="6626160" y="4890960"/>
            <a:ext cx="609840" cy="3780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68240" y="1654920"/>
            <a:ext cx="7607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También se puede agregar un ángulo de </a:t>
            </a:r>
            <a:r>
              <a:rPr b="1" lang="es-ES_tradnl" sz="4000" spc="-1" strike="noStrike">
                <a:solidFill>
                  <a:srgbClr val="ff0000"/>
                </a:solidFill>
                <a:latin typeface="Arial"/>
              </a:rPr>
              <a:t>fa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755720" y="4183920"/>
            <a:ext cx="5632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s-ES_tradnl" sz="4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)  =  </a:t>
            </a:r>
            <a:r>
              <a:rPr b="0" i="1" lang="es-ES_tradnl" sz="4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 sen(2</a:t>
            </a:r>
            <a:r>
              <a:rPr b="0" lang="es-ES_tradnl" sz="4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i="1" lang="es-ES_tradnl" sz="4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s-ES_tradn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4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s-ES_tradnl" sz="4000" spc="-1" strike="noStrike">
                <a:solidFill>
                  <a:srgbClr val="ff0000"/>
                </a:solidFill>
                <a:latin typeface="Symbol"/>
                <a:ea typeface="Symbol"/>
              </a:rPr>
              <a:t></a:t>
            </a: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400040" y="5333040"/>
            <a:ext cx="164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Arial"/>
              </a:rPr>
              <a:t>Señ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083040" y="5333040"/>
            <a:ext cx="164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Arial"/>
              </a:rPr>
              <a:t>Amplitu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935600" y="5333040"/>
            <a:ext cx="164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Arial"/>
              </a:rPr>
              <a:t>Frecuen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2270160" y="4890960"/>
            <a:ext cx="160200" cy="387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05280" y="4890960"/>
            <a:ext cx="0" cy="378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H="1" flipV="1">
            <a:off x="5551560" y="4890960"/>
            <a:ext cx="164880" cy="378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A9C65-EE28-41E2-A482-058566718951}" type="slidenum">
              <a:t>11</a:t>
            </a:fld>
          </a:p>
        </p:txBody>
      </p:sp>
    </p:spTree>
  </p:cSld>
  <p:transition>
    <p:fade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123920" y="2781360"/>
            <a:ext cx="433440" cy="9428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916360" y="3728880"/>
            <a:ext cx="5688000" cy="1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327480" y="2365200"/>
            <a:ext cx="0" cy="2727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389400" y="2362320"/>
            <a:ext cx="4554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8508960" y="3530520"/>
            <a:ext cx="26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330720" y="2711520"/>
            <a:ext cx="4793400" cy="2038320"/>
            <a:chOff x="3330720" y="2711520"/>
            <a:chExt cx="4793400" cy="2038320"/>
          </a:xfrm>
        </p:grpSpPr>
        <p:grpSp>
          <p:nvGrpSpPr>
            <p:cNvPr id="135" name=""/>
            <p:cNvGrpSpPr/>
            <p:nvPr/>
          </p:nvGrpSpPr>
          <p:grpSpPr>
            <a:xfrm>
              <a:off x="3330720" y="2711520"/>
              <a:ext cx="1197720" cy="1018440"/>
              <a:chOff x="3330720" y="2711520"/>
              <a:chExt cx="1197720" cy="1018440"/>
            </a:xfrm>
          </p:grpSpPr>
          <p:sp>
            <p:nvSpPr>
              <p:cNvPr id="136" name=""/>
              <p:cNvSpPr/>
              <p:nvPr/>
            </p:nvSpPr>
            <p:spPr>
              <a:xfrm>
                <a:off x="3330720" y="2711520"/>
                <a:ext cx="599400" cy="10184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19981"/>
                    </a:moveTo>
                    <a:lnTo>
                      <a:pt x="1042" y="18390"/>
                    </a:lnTo>
                    <a:lnTo>
                      <a:pt x="1958" y="16873"/>
                    </a:lnTo>
                    <a:lnTo>
                      <a:pt x="3000" y="15356"/>
                    </a:lnTo>
                    <a:lnTo>
                      <a:pt x="3958" y="13747"/>
                    </a:lnTo>
                    <a:lnTo>
                      <a:pt x="5042" y="12340"/>
                    </a:lnTo>
                    <a:lnTo>
                      <a:pt x="5958" y="10953"/>
                    </a:lnTo>
                    <a:lnTo>
                      <a:pt x="7000" y="9584"/>
                    </a:lnTo>
                    <a:lnTo>
                      <a:pt x="7958" y="8252"/>
                    </a:lnTo>
                    <a:lnTo>
                      <a:pt x="9000" y="7012"/>
                    </a:lnTo>
                    <a:lnTo>
                      <a:pt x="10042" y="5920"/>
                    </a:lnTo>
                    <a:lnTo>
                      <a:pt x="11000" y="4847"/>
                    </a:lnTo>
                    <a:lnTo>
                      <a:pt x="12000" y="3793"/>
                    </a:lnTo>
                    <a:lnTo>
                      <a:pt x="12958" y="3016"/>
                    </a:lnTo>
                    <a:lnTo>
                      <a:pt x="14042" y="2239"/>
                    </a:lnTo>
                    <a:lnTo>
                      <a:pt x="14958" y="1536"/>
                    </a:lnTo>
                    <a:lnTo>
                      <a:pt x="16000" y="962"/>
                    </a:lnTo>
                    <a:lnTo>
                      <a:pt x="16958" y="592"/>
                    </a:lnTo>
                    <a:lnTo>
                      <a:pt x="18042" y="222"/>
                    </a:lnTo>
                    <a:lnTo>
                      <a:pt x="18917" y="37"/>
                    </a:lnTo>
                    <a:lnTo>
                      <a:pt x="19958" y="0"/>
                    </a:lnTo>
                  </a:path>
                </a:pathLst>
              </a:custGeom>
              <a:noFill/>
              <a:ln w="12600">
                <a:solidFill>
                  <a:srgbClr val="0000ff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930120" y="2711520"/>
                <a:ext cx="598320" cy="10184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19981"/>
                    </a:moveTo>
                    <a:lnTo>
                      <a:pt x="18958" y="18390"/>
                    </a:lnTo>
                    <a:lnTo>
                      <a:pt x="18042" y="16873"/>
                    </a:lnTo>
                    <a:lnTo>
                      <a:pt x="17000" y="15356"/>
                    </a:lnTo>
                    <a:lnTo>
                      <a:pt x="16042" y="13747"/>
                    </a:lnTo>
                    <a:lnTo>
                      <a:pt x="14958" y="12340"/>
                    </a:lnTo>
                    <a:lnTo>
                      <a:pt x="14042" y="10953"/>
                    </a:lnTo>
                    <a:lnTo>
                      <a:pt x="12958" y="9584"/>
                    </a:lnTo>
                    <a:lnTo>
                      <a:pt x="12000" y="8252"/>
                    </a:lnTo>
                    <a:lnTo>
                      <a:pt x="11000" y="7012"/>
                    </a:lnTo>
                    <a:lnTo>
                      <a:pt x="10042" y="5920"/>
                    </a:lnTo>
                    <a:lnTo>
                      <a:pt x="9000" y="4847"/>
                    </a:lnTo>
                    <a:lnTo>
                      <a:pt x="8000" y="3793"/>
                    </a:lnTo>
                    <a:lnTo>
                      <a:pt x="7000" y="3016"/>
                    </a:lnTo>
                    <a:lnTo>
                      <a:pt x="6042" y="2239"/>
                    </a:lnTo>
                    <a:lnTo>
                      <a:pt x="5042" y="1536"/>
                    </a:lnTo>
                    <a:lnTo>
                      <a:pt x="4000" y="962"/>
                    </a:lnTo>
                    <a:lnTo>
                      <a:pt x="3000" y="592"/>
                    </a:lnTo>
                    <a:lnTo>
                      <a:pt x="2042" y="222"/>
                    </a:lnTo>
                    <a:lnTo>
                      <a:pt x="1042" y="37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ff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" name=""/>
            <p:cNvGrpSpPr/>
            <p:nvPr/>
          </p:nvGrpSpPr>
          <p:grpSpPr>
            <a:xfrm>
              <a:off x="4526640" y="3730680"/>
              <a:ext cx="1198080" cy="1019160"/>
              <a:chOff x="4526640" y="3730680"/>
              <a:chExt cx="1198080" cy="1019160"/>
            </a:xfrm>
          </p:grpSpPr>
          <p:sp>
            <p:nvSpPr>
              <p:cNvPr id="139" name=""/>
              <p:cNvSpPr/>
              <p:nvPr/>
            </p:nvSpPr>
            <p:spPr>
              <a:xfrm>
                <a:off x="4526640" y="3730680"/>
                <a:ext cx="599040" cy="10184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0"/>
                    </a:moveTo>
                    <a:lnTo>
                      <a:pt x="1042" y="1591"/>
                    </a:lnTo>
                    <a:lnTo>
                      <a:pt x="1958" y="3108"/>
                    </a:lnTo>
                    <a:lnTo>
                      <a:pt x="3000" y="4625"/>
                    </a:lnTo>
                    <a:lnTo>
                      <a:pt x="3958" y="6253"/>
                    </a:lnTo>
                    <a:lnTo>
                      <a:pt x="5042" y="7660"/>
                    </a:lnTo>
                    <a:lnTo>
                      <a:pt x="5958" y="9029"/>
                    </a:lnTo>
                    <a:lnTo>
                      <a:pt x="7000" y="10416"/>
                    </a:lnTo>
                    <a:lnTo>
                      <a:pt x="7958" y="11730"/>
                    </a:lnTo>
                    <a:lnTo>
                      <a:pt x="9000" y="12969"/>
                    </a:lnTo>
                    <a:lnTo>
                      <a:pt x="10042" y="14080"/>
                    </a:lnTo>
                    <a:lnTo>
                      <a:pt x="11000" y="15134"/>
                    </a:lnTo>
                    <a:lnTo>
                      <a:pt x="12000" y="16189"/>
                    </a:lnTo>
                    <a:lnTo>
                      <a:pt x="12958" y="16984"/>
                    </a:lnTo>
                    <a:lnTo>
                      <a:pt x="14042" y="17743"/>
                    </a:lnTo>
                    <a:lnTo>
                      <a:pt x="14958" y="18464"/>
                    </a:lnTo>
                    <a:lnTo>
                      <a:pt x="16000" y="19019"/>
                    </a:lnTo>
                    <a:lnTo>
                      <a:pt x="16958" y="19408"/>
                    </a:lnTo>
                    <a:lnTo>
                      <a:pt x="18042" y="19759"/>
                    </a:lnTo>
                    <a:lnTo>
                      <a:pt x="18917" y="19944"/>
                    </a:lnTo>
                    <a:lnTo>
                      <a:pt x="19958" y="19981"/>
                    </a:lnTo>
                  </a:path>
                </a:pathLst>
              </a:custGeom>
              <a:noFill/>
              <a:ln w="12600">
                <a:solidFill>
                  <a:srgbClr val="0000ff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25680" y="3731400"/>
                <a:ext cx="599040" cy="10184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0"/>
                    </a:moveTo>
                    <a:lnTo>
                      <a:pt x="18958" y="1591"/>
                    </a:lnTo>
                    <a:lnTo>
                      <a:pt x="18042" y="3108"/>
                    </a:lnTo>
                    <a:lnTo>
                      <a:pt x="17000" y="4625"/>
                    </a:lnTo>
                    <a:lnTo>
                      <a:pt x="16042" y="6253"/>
                    </a:lnTo>
                    <a:lnTo>
                      <a:pt x="14958" y="7660"/>
                    </a:lnTo>
                    <a:lnTo>
                      <a:pt x="14042" y="9029"/>
                    </a:lnTo>
                    <a:lnTo>
                      <a:pt x="12958" y="10416"/>
                    </a:lnTo>
                    <a:lnTo>
                      <a:pt x="12000" y="11730"/>
                    </a:lnTo>
                    <a:lnTo>
                      <a:pt x="11000" y="12969"/>
                    </a:lnTo>
                    <a:lnTo>
                      <a:pt x="10042" y="14080"/>
                    </a:lnTo>
                    <a:lnTo>
                      <a:pt x="9000" y="15134"/>
                    </a:lnTo>
                    <a:lnTo>
                      <a:pt x="8000" y="16189"/>
                    </a:lnTo>
                    <a:lnTo>
                      <a:pt x="7000" y="16984"/>
                    </a:lnTo>
                    <a:lnTo>
                      <a:pt x="6042" y="17743"/>
                    </a:lnTo>
                    <a:lnTo>
                      <a:pt x="5042" y="18464"/>
                    </a:lnTo>
                    <a:lnTo>
                      <a:pt x="4000" y="19019"/>
                    </a:lnTo>
                    <a:lnTo>
                      <a:pt x="3000" y="19408"/>
                    </a:lnTo>
                    <a:lnTo>
                      <a:pt x="2042" y="19759"/>
                    </a:lnTo>
                    <a:lnTo>
                      <a:pt x="1042" y="19944"/>
                    </a:lnTo>
                    <a:lnTo>
                      <a:pt x="0" y="19981"/>
                    </a:lnTo>
                  </a:path>
                </a:pathLst>
              </a:custGeom>
              <a:noFill/>
              <a:ln w="12600">
                <a:solidFill>
                  <a:srgbClr val="0000ff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1" name=""/>
            <p:cNvSpPr/>
            <p:nvPr/>
          </p:nvSpPr>
          <p:spPr>
            <a:xfrm>
              <a:off x="5725080" y="2711520"/>
              <a:ext cx="598320" cy="10191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19981"/>
                  </a:moveTo>
                  <a:lnTo>
                    <a:pt x="1042" y="18390"/>
                  </a:lnTo>
                  <a:lnTo>
                    <a:pt x="1958" y="16873"/>
                  </a:lnTo>
                  <a:lnTo>
                    <a:pt x="3000" y="15356"/>
                  </a:lnTo>
                  <a:lnTo>
                    <a:pt x="3958" y="13747"/>
                  </a:lnTo>
                  <a:lnTo>
                    <a:pt x="5042" y="12340"/>
                  </a:lnTo>
                  <a:lnTo>
                    <a:pt x="5958" y="10953"/>
                  </a:lnTo>
                  <a:lnTo>
                    <a:pt x="7000" y="9584"/>
                  </a:lnTo>
                  <a:lnTo>
                    <a:pt x="7958" y="8252"/>
                  </a:lnTo>
                  <a:lnTo>
                    <a:pt x="9000" y="7012"/>
                  </a:lnTo>
                  <a:lnTo>
                    <a:pt x="10042" y="5920"/>
                  </a:lnTo>
                  <a:lnTo>
                    <a:pt x="11000" y="4847"/>
                  </a:lnTo>
                  <a:lnTo>
                    <a:pt x="12000" y="3793"/>
                  </a:lnTo>
                  <a:lnTo>
                    <a:pt x="12958" y="3016"/>
                  </a:lnTo>
                  <a:lnTo>
                    <a:pt x="14042" y="2239"/>
                  </a:lnTo>
                  <a:lnTo>
                    <a:pt x="14958" y="1536"/>
                  </a:lnTo>
                  <a:lnTo>
                    <a:pt x="16000" y="962"/>
                  </a:lnTo>
                  <a:lnTo>
                    <a:pt x="16958" y="592"/>
                  </a:lnTo>
                  <a:lnTo>
                    <a:pt x="18042" y="222"/>
                  </a:lnTo>
                  <a:lnTo>
                    <a:pt x="18917" y="37"/>
                  </a:lnTo>
                  <a:lnTo>
                    <a:pt x="19958" y="0"/>
                  </a:lnTo>
                </a:path>
              </a:pathLst>
            </a:custGeom>
            <a:noFill/>
            <a:ln w="12600">
              <a:solidFill>
                <a:srgbClr val="0000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325560" y="2711520"/>
              <a:ext cx="597600" cy="10191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58" y="19981"/>
                  </a:moveTo>
                  <a:lnTo>
                    <a:pt x="18958" y="18390"/>
                  </a:lnTo>
                  <a:lnTo>
                    <a:pt x="18042" y="16873"/>
                  </a:lnTo>
                  <a:lnTo>
                    <a:pt x="17000" y="15356"/>
                  </a:lnTo>
                  <a:lnTo>
                    <a:pt x="16042" y="13747"/>
                  </a:lnTo>
                  <a:lnTo>
                    <a:pt x="14958" y="12340"/>
                  </a:lnTo>
                  <a:lnTo>
                    <a:pt x="14042" y="10953"/>
                  </a:lnTo>
                  <a:lnTo>
                    <a:pt x="12958" y="9584"/>
                  </a:lnTo>
                  <a:lnTo>
                    <a:pt x="12000" y="8252"/>
                  </a:lnTo>
                  <a:lnTo>
                    <a:pt x="11000" y="7012"/>
                  </a:lnTo>
                  <a:lnTo>
                    <a:pt x="10042" y="5920"/>
                  </a:lnTo>
                  <a:lnTo>
                    <a:pt x="9000" y="4847"/>
                  </a:lnTo>
                  <a:lnTo>
                    <a:pt x="8000" y="3793"/>
                  </a:lnTo>
                  <a:lnTo>
                    <a:pt x="7000" y="3016"/>
                  </a:lnTo>
                  <a:lnTo>
                    <a:pt x="6042" y="2239"/>
                  </a:lnTo>
                  <a:lnTo>
                    <a:pt x="5042" y="1536"/>
                  </a:lnTo>
                  <a:lnTo>
                    <a:pt x="4000" y="962"/>
                  </a:lnTo>
                  <a:lnTo>
                    <a:pt x="3000" y="592"/>
                  </a:lnTo>
                  <a:lnTo>
                    <a:pt x="2042" y="222"/>
                  </a:lnTo>
                  <a:lnTo>
                    <a:pt x="1042" y="37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923520" y="3730680"/>
              <a:ext cx="598320" cy="10191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1042" y="1591"/>
                  </a:lnTo>
                  <a:lnTo>
                    <a:pt x="1958" y="3108"/>
                  </a:lnTo>
                  <a:lnTo>
                    <a:pt x="3000" y="4625"/>
                  </a:lnTo>
                  <a:lnTo>
                    <a:pt x="3958" y="6253"/>
                  </a:lnTo>
                  <a:lnTo>
                    <a:pt x="5042" y="7660"/>
                  </a:lnTo>
                  <a:lnTo>
                    <a:pt x="5958" y="9029"/>
                  </a:lnTo>
                  <a:lnTo>
                    <a:pt x="7000" y="10416"/>
                  </a:lnTo>
                  <a:lnTo>
                    <a:pt x="7958" y="11730"/>
                  </a:lnTo>
                  <a:lnTo>
                    <a:pt x="9000" y="12969"/>
                  </a:lnTo>
                  <a:lnTo>
                    <a:pt x="10042" y="14080"/>
                  </a:lnTo>
                  <a:lnTo>
                    <a:pt x="11000" y="15134"/>
                  </a:lnTo>
                  <a:lnTo>
                    <a:pt x="12000" y="16189"/>
                  </a:lnTo>
                  <a:lnTo>
                    <a:pt x="12958" y="16984"/>
                  </a:lnTo>
                  <a:lnTo>
                    <a:pt x="14042" y="17743"/>
                  </a:lnTo>
                  <a:lnTo>
                    <a:pt x="14958" y="18464"/>
                  </a:lnTo>
                  <a:lnTo>
                    <a:pt x="16000" y="19019"/>
                  </a:lnTo>
                  <a:lnTo>
                    <a:pt x="16958" y="19408"/>
                  </a:lnTo>
                  <a:lnTo>
                    <a:pt x="18042" y="19759"/>
                  </a:lnTo>
                  <a:lnTo>
                    <a:pt x="18917" y="19944"/>
                  </a:lnTo>
                  <a:lnTo>
                    <a:pt x="19958" y="19981"/>
                  </a:lnTo>
                </a:path>
              </a:pathLst>
            </a:custGeom>
            <a:noFill/>
            <a:ln w="12600">
              <a:solidFill>
                <a:srgbClr val="0000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526520" y="3730680"/>
              <a:ext cx="597600" cy="10191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58" y="0"/>
                  </a:moveTo>
                  <a:lnTo>
                    <a:pt x="18958" y="1591"/>
                  </a:lnTo>
                  <a:lnTo>
                    <a:pt x="18042" y="3108"/>
                  </a:lnTo>
                  <a:lnTo>
                    <a:pt x="17000" y="4625"/>
                  </a:lnTo>
                  <a:lnTo>
                    <a:pt x="16042" y="6253"/>
                  </a:lnTo>
                  <a:lnTo>
                    <a:pt x="14958" y="7660"/>
                  </a:lnTo>
                  <a:lnTo>
                    <a:pt x="14042" y="9029"/>
                  </a:lnTo>
                  <a:lnTo>
                    <a:pt x="12958" y="10416"/>
                  </a:lnTo>
                  <a:lnTo>
                    <a:pt x="12000" y="11730"/>
                  </a:lnTo>
                  <a:lnTo>
                    <a:pt x="11000" y="12969"/>
                  </a:lnTo>
                  <a:lnTo>
                    <a:pt x="10042" y="14080"/>
                  </a:lnTo>
                  <a:lnTo>
                    <a:pt x="9000" y="15134"/>
                  </a:lnTo>
                  <a:lnTo>
                    <a:pt x="8000" y="16189"/>
                  </a:lnTo>
                  <a:lnTo>
                    <a:pt x="7000" y="16984"/>
                  </a:lnTo>
                  <a:lnTo>
                    <a:pt x="6042" y="17743"/>
                  </a:lnTo>
                  <a:lnTo>
                    <a:pt x="5042" y="18464"/>
                  </a:lnTo>
                  <a:lnTo>
                    <a:pt x="4000" y="19019"/>
                  </a:lnTo>
                  <a:lnTo>
                    <a:pt x="3000" y="19408"/>
                  </a:lnTo>
                  <a:lnTo>
                    <a:pt x="2042" y="19759"/>
                  </a:lnTo>
                  <a:lnTo>
                    <a:pt x="1042" y="19944"/>
                  </a:lnTo>
                  <a:lnTo>
                    <a:pt x="0" y="19981"/>
                  </a:lnTo>
                </a:path>
              </a:pathLst>
            </a:custGeom>
            <a:noFill/>
            <a:ln w="12600">
              <a:solidFill>
                <a:srgbClr val="0000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520560" y="2687760"/>
            <a:ext cx="2084400" cy="2085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12840" y="3728880"/>
            <a:ext cx="25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1562040" y="2471760"/>
            <a:ext cx="0" cy="2517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562040" y="2839680"/>
            <a:ext cx="536760" cy="879480"/>
          </a:xfrm>
          <a:prstGeom prst="line">
            <a:avLst/>
          </a:prstGeom>
          <a:ln w="12600">
            <a:solidFill>
              <a:srgbClr val="3333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1091520" y="3268080"/>
            <a:ext cx="923400" cy="925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" y="10685"/>
                </a:moveTo>
                <a:arcTo wR="10800" hR="10800" stAng="-10763378" swAng="3529435"/>
                <a:lnTo>
                  <a:pt x="10800" y="10800"/>
                </a:lnTo>
                <a:close/>
              </a:path>
              <a:path fill="none" w="21600" h="21600">
                <a:moveTo>
                  <a:pt x="1" y="10685"/>
                </a:moveTo>
                <a:arcTo wR="10800" hR="10800" stAng="-10763378" swAng="3529435"/>
              </a:path>
            </a:pathLst>
          </a:custGeom>
          <a:noFill/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073240" y="2817720"/>
            <a:ext cx="50760" cy="507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60480" y="3186000"/>
            <a:ext cx="64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i="1" lang="es-E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s-E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573360" y="3686040"/>
            <a:ext cx="33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626080" y="368604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8016840" y="3686040"/>
            <a:ext cx="43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s-E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382720" y="2707200"/>
            <a:ext cx="2390760" cy="2040840"/>
            <a:chOff x="5382720" y="2707200"/>
            <a:chExt cx="2390760" cy="2040840"/>
          </a:xfrm>
        </p:grpSpPr>
        <p:grpSp>
          <p:nvGrpSpPr>
            <p:cNvPr id="156" name=""/>
            <p:cNvGrpSpPr/>
            <p:nvPr/>
          </p:nvGrpSpPr>
          <p:grpSpPr>
            <a:xfrm>
              <a:off x="6579720" y="3726360"/>
              <a:ext cx="1193760" cy="1021680"/>
              <a:chOff x="6579720" y="3726360"/>
              <a:chExt cx="1193760" cy="1021680"/>
            </a:xfrm>
          </p:grpSpPr>
          <p:sp>
            <p:nvSpPr>
              <p:cNvPr id="157" name=""/>
              <p:cNvSpPr/>
              <p:nvPr/>
            </p:nvSpPr>
            <p:spPr>
              <a:xfrm flipH="1" flipV="1">
                <a:off x="7176600" y="3726360"/>
                <a:ext cx="596520" cy="10209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19981"/>
                    </a:moveTo>
                    <a:lnTo>
                      <a:pt x="1042" y="18390"/>
                    </a:lnTo>
                    <a:lnTo>
                      <a:pt x="1958" y="16873"/>
                    </a:lnTo>
                    <a:lnTo>
                      <a:pt x="3000" y="15356"/>
                    </a:lnTo>
                    <a:lnTo>
                      <a:pt x="3958" y="13747"/>
                    </a:lnTo>
                    <a:lnTo>
                      <a:pt x="5042" y="12340"/>
                    </a:lnTo>
                    <a:lnTo>
                      <a:pt x="5958" y="10953"/>
                    </a:lnTo>
                    <a:lnTo>
                      <a:pt x="7000" y="9584"/>
                    </a:lnTo>
                    <a:lnTo>
                      <a:pt x="7958" y="8252"/>
                    </a:lnTo>
                    <a:lnTo>
                      <a:pt x="9000" y="7012"/>
                    </a:lnTo>
                    <a:lnTo>
                      <a:pt x="10042" y="5920"/>
                    </a:lnTo>
                    <a:lnTo>
                      <a:pt x="11000" y="4847"/>
                    </a:lnTo>
                    <a:lnTo>
                      <a:pt x="12000" y="3793"/>
                    </a:lnTo>
                    <a:lnTo>
                      <a:pt x="12958" y="3016"/>
                    </a:lnTo>
                    <a:lnTo>
                      <a:pt x="14042" y="2239"/>
                    </a:lnTo>
                    <a:lnTo>
                      <a:pt x="14958" y="1536"/>
                    </a:lnTo>
                    <a:lnTo>
                      <a:pt x="16000" y="962"/>
                    </a:lnTo>
                    <a:lnTo>
                      <a:pt x="16958" y="592"/>
                    </a:lnTo>
                    <a:lnTo>
                      <a:pt x="18042" y="222"/>
                    </a:lnTo>
                    <a:lnTo>
                      <a:pt x="18917" y="37"/>
                    </a:lnTo>
                    <a:lnTo>
                      <a:pt x="19958" y="0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flipH="1" flipV="1">
                <a:off x="6579360" y="3727080"/>
                <a:ext cx="596520" cy="10209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19981"/>
                    </a:moveTo>
                    <a:lnTo>
                      <a:pt x="18958" y="18390"/>
                    </a:lnTo>
                    <a:lnTo>
                      <a:pt x="18042" y="16873"/>
                    </a:lnTo>
                    <a:lnTo>
                      <a:pt x="17000" y="15356"/>
                    </a:lnTo>
                    <a:lnTo>
                      <a:pt x="16042" y="13747"/>
                    </a:lnTo>
                    <a:lnTo>
                      <a:pt x="14958" y="12340"/>
                    </a:lnTo>
                    <a:lnTo>
                      <a:pt x="14042" y="10953"/>
                    </a:lnTo>
                    <a:lnTo>
                      <a:pt x="12958" y="9584"/>
                    </a:lnTo>
                    <a:lnTo>
                      <a:pt x="12000" y="8252"/>
                    </a:lnTo>
                    <a:lnTo>
                      <a:pt x="11000" y="7012"/>
                    </a:lnTo>
                    <a:lnTo>
                      <a:pt x="10042" y="5920"/>
                    </a:lnTo>
                    <a:lnTo>
                      <a:pt x="9000" y="4847"/>
                    </a:lnTo>
                    <a:lnTo>
                      <a:pt x="8000" y="3793"/>
                    </a:lnTo>
                    <a:lnTo>
                      <a:pt x="7000" y="3016"/>
                    </a:lnTo>
                    <a:lnTo>
                      <a:pt x="6042" y="2239"/>
                    </a:lnTo>
                    <a:lnTo>
                      <a:pt x="5042" y="1536"/>
                    </a:lnTo>
                    <a:lnTo>
                      <a:pt x="4000" y="962"/>
                    </a:lnTo>
                    <a:lnTo>
                      <a:pt x="3000" y="592"/>
                    </a:lnTo>
                    <a:lnTo>
                      <a:pt x="2042" y="222"/>
                    </a:lnTo>
                    <a:lnTo>
                      <a:pt x="1042" y="37"/>
                    </a:lnTo>
                    <a:lnTo>
                      <a:pt x="0" y="0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9" name=""/>
            <p:cNvGrpSpPr/>
            <p:nvPr/>
          </p:nvGrpSpPr>
          <p:grpSpPr>
            <a:xfrm>
              <a:off x="5382720" y="2707200"/>
              <a:ext cx="1195920" cy="1021320"/>
              <a:chOff x="5382720" y="2707200"/>
              <a:chExt cx="1195920" cy="1021320"/>
            </a:xfrm>
          </p:grpSpPr>
          <p:sp>
            <p:nvSpPr>
              <p:cNvPr id="160" name=""/>
              <p:cNvSpPr/>
              <p:nvPr/>
            </p:nvSpPr>
            <p:spPr>
              <a:xfrm flipH="1" flipV="1">
                <a:off x="5982480" y="2707560"/>
                <a:ext cx="596160" cy="10206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0"/>
                    </a:moveTo>
                    <a:lnTo>
                      <a:pt x="1042" y="1591"/>
                    </a:lnTo>
                    <a:lnTo>
                      <a:pt x="1958" y="3108"/>
                    </a:lnTo>
                    <a:lnTo>
                      <a:pt x="3000" y="4625"/>
                    </a:lnTo>
                    <a:lnTo>
                      <a:pt x="3958" y="6253"/>
                    </a:lnTo>
                    <a:lnTo>
                      <a:pt x="5042" y="7660"/>
                    </a:lnTo>
                    <a:lnTo>
                      <a:pt x="5958" y="9029"/>
                    </a:lnTo>
                    <a:lnTo>
                      <a:pt x="7000" y="10416"/>
                    </a:lnTo>
                    <a:lnTo>
                      <a:pt x="7958" y="11730"/>
                    </a:lnTo>
                    <a:lnTo>
                      <a:pt x="9000" y="12969"/>
                    </a:lnTo>
                    <a:lnTo>
                      <a:pt x="10042" y="14080"/>
                    </a:lnTo>
                    <a:lnTo>
                      <a:pt x="11000" y="15134"/>
                    </a:lnTo>
                    <a:lnTo>
                      <a:pt x="12000" y="16189"/>
                    </a:lnTo>
                    <a:lnTo>
                      <a:pt x="12958" y="16984"/>
                    </a:lnTo>
                    <a:lnTo>
                      <a:pt x="14042" y="17743"/>
                    </a:lnTo>
                    <a:lnTo>
                      <a:pt x="14958" y="18464"/>
                    </a:lnTo>
                    <a:lnTo>
                      <a:pt x="16000" y="19019"/>
                    </a:lnTo>
                    <a:lnTo>
                      <a:pt x="16958" y="19408"/>
                    </a:lnTo>
                    <a:lnTo>
                      <a:pt x="18042" y="19759"/>
                    </a:lnTo>
                    <a:lnTo>
                      <a:pt x="18917" y="19944"/>
                    </a:lnTo>
                    <a:lnTo>
                      <a:pt x="19958" y="19981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5382720" y="2706840"/>
                <a:ext cx="596160" cy="10206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0"/>
                    </a:moveTo>
                    <a:lnTo>
                      <a:pt x="18958" y="1591"/>
                    </a:lnTo>
                    <a:lnTo>
                      <a:pt x="18042" y="3108"/>
                    </a:lnTo>
                    <a:lnTo>
                      <a:pt x="17000" y="4625"/>
                    </a:lnTo>
                    <a:lnTo>
                      <a:pt x="16042" y="6253"/>
                    </a:lnTo>
                    <a:lnTo>
                      <a:pt x="14958" y="7660"/>
                    </a:lnTo>
                    <a:lnTo>
                      <a:pt x="14042" y="9029"/>
                    </a:lnTo>
                    <a:lnTo>
                      <a:pt x="12958" y="10416"/>
                    </a:lnTo>
                    <a:lnTo>
                      <a:pt x="12000" y="11730"/>
                    </a:lnTo>
                    <a:lnTo>
                      <a:pt x="11000" y="12969"/>
                    </a:lnTo>
                    <a:lnTo>
                      <a:pt x="10042" y="14080"/>
                    </a:lnTo>
                    <a:lnTo>
                      <a:pt x="9000" y="15134"/>
                    </a:lnTo>
                    <a:lnTo>
                      <a:pt x="8000" y="16189"/>
                    </a:lnTo>
                    <a:lnTo>
                      <a:pt x="7000" y="16984"/>
                    </a:lnTo>
                    <a:lnTo>
                      <a:pt x="6042" y="17743"/>
                    </a:lnTo>
                    <a:lnTo>
                      <a:pt x="5042" y="18464"/>
                    </a:lnTo>
                    <a:lnTo>
                      <a:pt x="4000" y="19019"/>
                    </a:lnTo>
                    <a:lnTo>
                      <a:pt x="3000" y="19408"/>
                    </a:lnTo>
                    <a:lnTo>
                      <a:pt x="2042" y="19759"/>
                    </a:lnTo>
                    <a:lnTo>
                      <a:pt x="1042" y="19944"/>
                    </a:lnTo>
                    <a:lnTo>
                      <a:pt x="0" y="19981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2" name=""/>
          <p:cNvGrpSpPr/>
          <p:nvPr/>
        </p:nvGrpSpPr>
        <p:grpSpPr>
          <a:xfrm>
            <a:off x="4189680" y="3727080"/>
            <a:ext cx="1193400" cy="1020600"/>
            <a:chOff x="4189680" y="3727080"/>
            <a:chExt cx="1193400" cy="1020600"/>
          </a:xfrm>
        </p:grpSpPr>
        <p:sp>
          <p:nvSpPr>
            <p:cNvPr id="163" name=""/>
            <p:cNvSpPr/>
            <p:nvPr/>
          </p:nvSpPr>
          <p:spPr>
            <a:xfrm flipH="1" flipV="1">
              <a:off x="4786200" y="3726720"/>
              <a:ext cx="596520" cy="10198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19981"/>
                  </a:moveTo>
                  <a:lnTo>
                    <a:pt x="1042" y="18390"/>
                  </a:lnTo>
                  <a:lnTo>
                    <a:pt x="1958" y="16873"/>
                  </a:lnTo>
                  <a:lnTo>
                    <a:pt x="3000" y="15356"/>
                  </a:lnTo>
                  <a:lnTo>
                    <a:pt x="3958" y="13747"/>
                  </a:lnTo>
                  <a:lnTo>
                    <a:pt x="5042" y="12340"/>
                  </a:lnTo>
                  <a:lnTo>
                    <a:pt x="5958" y="10953"/>
                  </a:lnTo>
                  <a:lnTo>
                    <a:pt x="7000" y="9584"/>
                  </a:lnTo>
                  <a:lnTo>
                    <a:pt x="7958" y="8252"/>
                  </a:lnTo>
                  <a:lnTo>
                    <a:pt x="9000" y="7012"/>
                  </a:lnTo>
                  <a:lnTo>
                    <a:pt x="10042" y="5920"/>
                  </a:lnTo>
                  <a:lnTo>
                    <a:pt x="11000" y="4847"/>
                  </a:lnTo>
                  <a:lnTo>
                    <a:pt x="12000" y="3793"/>
                  </a:lnTo>
                  <a:lnTo>
                    <a:pt x="12958" y="3016"/>
                  </a:lnTo>
                  <a:lnTo>
                    <a:pt x="14042" y="2239"/>
                  </a:lnTo>
                  <a:lnTo>
                    <a:pt x="14958" y="1536"/>
                  </a:lnTo>
                  <a:lnTo>
                    <a:pt x="16000" y="962"/>
                  </a:lnTo>
                  <a:lnTo>
                    <a:pt x="16958" y="592"/>
                  </a:lnTo>
                  <a:lnTo>
                    <a:pt x="18042" y="222"/>
                  </a:lnTo>
                  <a:lnTo>
                    <a:pt x="18917" y="37"/>
                  </a:lnTo>
                  <a:lnTo>
                    <a:pt x="19958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 flipH="1" flipV="1">
              <a:off x="4189680" y="3727440"/>
              <a:ext cx="596160" cy="10198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58" y="19981"/>
                  </a:moveTo>
                  <a:lnTo>
                    <a:pt x="18958" y="18390"/>
                  </a:lnTo>
                  <a:lnTo>
                    <a:pt x="18042" y="16873"/>
                  </a:lnTo>
                  <a:lnTo>
                    <a:pt x="17000" y="15356"/>
                  </a:lnTo>
                  <a:lnTo>
                    <a:pt x="16042" y="13747"/>
                  </a:lnTo>
                  <a:lnTo>
                    <a:pt x="14958" y="12340"/>
                  </a:lnTo>
                  <a:lnTo>
                    <a:pt x="14042" y="10953"/>
                  </a:lnTo>
                  <a:lnTo>
                    <a:pt x="12958" y="9584"/>
                  </a:lnTo>
                  <a:lnTo>
                    <a:pt x="12000" y="8252"/>
                  </a:lnTo>
                  <a:lnTo>
                    <a:pt x="11000" y="7012"/>
                  </a:lnTo>
                  <a:lnTo>
                    <a:pt x="10042" y="5920"/>
                  </a:lnTo>
                  <a:lnTo>
                    <a:pt x="9000" y="4847"/>
                  </a:lnTo>
                  <a:lnTo>
                    <a:pt x="8000" y="3793"/>
                  </a:lnTo>
                  <a:lnTo>
                    <a:pt x="7000" y="3016"/>
                  </a:lnTo>
                  <a:lnTo>
                    <a:pt x="6042" y="2239"/>
                  </a:lnTo>
                  <a:lnTo>
                    <a:pt x="5042" y="1536"/>
                  </a:lnTo>
                  <a:lnTo>
                    <a:pt x="4000" y="962"/>
                  </a:lnTo>
                  <a:lnTo>
                    <a:pt x="3000" y="592"/>
                  </a:lnTo>
                  <a:lnTo>
                    <a:pt x="2042" y="222"/>
                  </a:lnTo>
                  <a:lnTo>
                    <a:pt x="1042" y="37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"/>
          <p:cNvSpPr/>
          <p:nvPr/>
        </p:nvSpPr>
        <p:spPr>
          <a:xfrm flipH="1" flipV="1">
            <a:off x="3587760" y="2709720"/>
            <a:ext cx="596880" cy="102096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0" y="0"/>
                </a:moveTo>
                <a:lnTo>
                  <a:pt x="1042" y="1591"/>
                </a:lnTo>
                <a:lnTo>
                  <a:pt x="1958" y="3108"/>
                </a:lnTo>
                <a:lnTo>
                  <a:pt x="3000" y="4625"/>
                </a:lnTo>
                <a:lnTo>
                  <a:pt x="3958" y="6253"/>
                </a:lnTo>
                <a:lnTo>
                  <a:pt x="5042" y="7660"/>
                </a:lnTo>
                <a:lnTo>
                  <a:pt x="5958" y="9029"/>
                </a:lnTo>
                <a:lnTo>
                  <a:pt x="7000" y="10416"/>
                </a:lnTo>
                <a:lnTo>
                  <a:pt x="7958" y="11730"/>
                </a:lnTo>
                <a:lnTo>
                  <a:pt x="9000" y="12969"/>
                </a:lnTo>
                <a:lnTo>
                  <a:pt x="10042" y="14080"/>
                </a:lnTo>
                <a:lnTo>
                  <a:pt x="11000" y="15134"/>
                </a:lnTo>
                <a:lnTo>
                  <a:pt x="12000" y="16189"/>
                </a:lnTo>
                <a:lnTo>
                  <a:pt x="12958" y="16984"/>
                </a:lnTo>
                <a:lnTo>
                  <a:pt x="14042" y="17743"/>
                </a:lnTo>
                <a:lnTo>
                  <a:pt x="14958" y="18464"/>
                </a:lnTo>
                <a:lnTo>
                  <a:pt x="16000" y="19019"/>
                </a:lnTo>
                <a:lnTo>
                  <a:pt x="16958" y="19408"/>
                </a:lnTo>
                <a:lnTo>
                  <a:pt x="18042" y="19759"/>
                </a:lnTo>
                <a:lnTo>
                  <a:pt x="18917" y="19944"/>
                </a:lnTo>
                <a:lnTo>
                  <a:pt x="19958" y="1998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H="1" flipV="1">
            <a:off x="3330720" y="2709720"/>
            <a:ext cx="266400" cy="247680"/>
          </a:xfrm>
          <a:custGeom>
            <a:avLst/>
            <a:gdLst/>
            <a:ahLst/>
            <a:rect l="l" t="t" r="r" b="b"/>
            <a:pathLst>
              <a:path w="56" h="68">
                <a:moveTo>
                  <a:pt x="56" y="0"/>
                </a:moveTo>
                <a:lnTo>
                  <a:pt x="50" y="14"/>
                </a:lnTo>
                <a:lnTo>
                  <a:pt x="44" y="26"/>
                </a:lnTo>
                <a:lnTo>
                  <a:pt x="38" y="36"/>
                </a:lnTo>
                <a:lnTo>
                  <a:pt x="32" y="46"/>
                </a:lnTo>
                <a:lnTo>
                  <a:pt x="25" y="54"/>
                </a:lnTo>
                <a:lnTo>
                  <a:pt x="19" y="60"/>
                </a:lnTo>
                <a:lnTo>
                  <a:pt x="13" y="65"/>
                </a:lnTo>
                <a:lnTo>
                  <a:pt x="7" y="67"/>
                </a:lnTo>
                <a:lnTo>
                  <a:pt x="0" y="6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 flipV="1">
            <a:off x="7768440" y="2957400"/>
            <a:ext cx="328680" cy="773280"/>
          </a:xfrm>
          <a:custGeom>
            <a:avLst/>
            <a:gdLst/>
            <a:ahLst/>
            <a:rect l="l" t="t" r="r" b="b"/>
            <a:pathLst>
              <a:path w="69" h="213">
                <a:moveTo>
                  <a:pt x="69" y="0"/>
                </a:moveTo>
                <a:lnTo>
                  <a:pt x="57" y="44"/>
                </a:lnTo>
                <a:lnTo>
                  <a:pt x="44" y="88"/>
                </a:lnTo>
                <a:lnTo>
                  <a:pt x="32" y="127"/>
                </a:lnTo>
                <a:lnTo>
                  <a:pt x="25" y="146"/>
                </a:lnTo>
                <a:lnTo>
                  <a:pt x="19" y="165"/>
                </a:lnTo>
                <a:lnTo>
                  <a:pt x="13" y="182"/>
                </a:lnTo>
                <a:lnTo>
                  <a:pt x="7" y="198"/>
                </a:lnTo>
                <a:lnTo>
                  <a:pt x="0" y="21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117440" y="2782800"/>
            <a:ext cx="2611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38600" y="2787480"/>
            <a:ext cx="0" cy="947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1094400" y="3268800"/>
            <a:ext cx="921240" cy="923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5640" y="1312"/>
                </a:moveTo>
                <a:arcTo wR="10800" hR="10800" stAng="-7112303" swAng="3295984"/>
                <a:lnTo>
                  <a:pt x="10800" y="10800"/>
                </a:lnTo>
                <a:close/>
              </a:path>
              <a:path fill="none" w="21600" h="21600">
                <a:moveTo>
                  <a:pt x="5640" y="1312"/>
                </a:moveTo>
                <a:arcTo wR="10800" hR="10800" stAng="-7112303" swAng="3295984"/>
              </a:path>
            </a:pathLst>
          </a:custGeom>
          <a:noFill/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573360" y="3686040"/>
            <a:ext cx="33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626080" y="368604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8016840" y="3686040"/>
            <a:ext cx="43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s-E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389400" y="3927600"/>
            <a:ext cx="69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9999"/>
                </a:solidFill>
                <a:latin typeface="Times New Roman"/>
              </a:rPr>
              <a:t>2</a:t>
            </a:r>
            <a:r>
              <a:rPr b="0" lang="es-ES" sz="1800" spc="-1" strike="noStrike">
                <a:solidFill>
                  <a:srgbClr val="009999"/>
                </a:solidFill>
                <a:latin typeface="Symbol"/>
                <a:ea typeface="Symbol"/>
              </a:rPr>
              <a:t></a:t>
            </a:r>
            <a:r>
              <a:rPr b="0" i="1" lang="es-ES" sz="1800" spc="-1" strike="noStrike">
                <a:solidFill>
                  <a:srgbClr val="009999"/>
                </a:solidFill>
                <a:latin typeface="Times New Roman"/>
              </a:rPr>
              <a:t>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537160" y="3927600"/>
            <a:ext cx="50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9999"/>
                </a:solidFill>
                <a:latin typeface="Times New Roman"/>
              </a:rPr>
              <a:t>2</a:t>
            </a:r>
            <a:r>
              <a:rPr b="0" lang="es-ES" sz="1800" spc="-1" strike="noStrike">
                <a:solidFill>
                  <a:srgbClr val="009999"/>
                </a:solidFill>
                <a:latin typeface="Symbol"/>
                <a:ea typeface="Symbol"/>
              </a:rPr>
              <a:t>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956720" y="3927600"/>
            <a:ext cx="50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9999"/>
                </a:solidFill>
                <a:latin typeface="Times New Roman"/>
              </a:rPr>
              <a:t>4</a:t>
            </a:r>
            <a:r>
              <a:rPr b="0" lang="es-ES" sz="1800" spc="-1" strike="noStrike">
                <a:solidFill>
                  <a:srgbClr val="009999"/>
                </a:solidFill>
                <a:latin typeface="Symbol"/>
                <a:ea typeface="Symbol"/>
              </a:rPr>
              <a:t>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8420040" y="3927600"/>
            <a:ext cx="50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H="1" flipV="1">
            <a:off x="2993400" y="2957400"/>
            <a:ext cx="328680" cy="773280"/>
          </a:xfrm>
          <a:custGeom>
            <a:avLst/>
            <a:gdLst/>
            <a:ahLst/>
            <a:rect l="l" t="t" r="r" b="b"/>
            <a:pathLst>
              <a:path w="69" h="213">
                <a:moveTo>
                  <a:pt x="69" y="0"/>
                </a:moveTo>
                <a:lnTo>
                  <a:pt x="57" y="44"/>
                </a:lnTo>
                <a:lnTo>
                  <a:pt x="44" y="88"/>
                </a:lnTo>
                <a:lnTo>
                  <a:pt x="32" y="127"/>
                </a:lnTo>
                <a:lnTo>
                  <a:pt x="25" y="146"/>
                </a:lnTo>
                <a:lnTo>
                  <a:pt x="19" y="165"/>
                </a:lnTo>
                <a:lnTo>
                  <a:pt x="13" y="182"/>
                </a:lnTo>
                <a:lnTo>
                  <a:pt x="7" y="198"/>
                </a:lnTo>
                <a:lnTo>
                  <a:pt x="0" y="213"/>
                </a:lnTo>
              </a:path>
            </a:pathLst>
          </a:custGeom>
          <a:noFill/>
          <a:ln w="3816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646360" y="3927600"/>
            <a:ext cx="69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9999"/>
                </a:solidFill>
                <a:latin typeface="Symbol"/>
                <a:ea typeface="Symbol"/>
              </a:rPr>
              <a:t>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525680" y="2919240"/>
            <a:ext cx="35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096920" y="2755800"/>
            <a:ext cx="50760" cy="507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5E0DF-1FDA-40DD-87EC-FA7047F4DBF7}" type="slidenum">
              <a:t>12</a:t>
            </a:fld>
          </a:p>
        </p:txBody>
      </p:sp>
    </p:spTree>
  </p:cSld>
  <p:transition>
    <p:fade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942840" y="1726560"/>
            <a:ext cx="72583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Cuando una señal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senoidal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es procesada por un sistema lineal el resultado es otra señal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senoidal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de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diferente amplitud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y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diferente fa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B2EC0-35AB-4E89-A118-CB65FE4E3CF4}" type="slidenum">
              <a:t>13</a:t>
            </a:fld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3452760" y="565200"/>
            <a:ext cx="2235240" cy="1989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495520" y="1558800"/>
            <a:ext cx="9572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689440" y="1558800"/>
            <a:ext cx="9576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691080" y="13309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SISTE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668600" y="1258200"/>
            <a:ext cx="9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333399"/>
                </a:solidFill>
                <a:latin typeface="Times New Roman"/>
              </a:rPr>
              <a:t>x</a:t>
            </a:r>
            <a:r>
              <a:rPr b="0" lang="es-ES_tradnl" sz="2800" spc="-1" strike="noStrike">
                <a:solidFill>
                  <a:srgbClr val="333399"/>
                </a:solidFill>
                <a:latin typeface="Times New Roman"/>
              </a:rPr>
              <a:t>(</a:t>
            </a:r>
            <a:r>
              <a:rPr b="0" i="1" lang="es-ES_tradnl" sz="2800" spc="-1" strike="noStrike">
                <a:solidFill>
                  <a:srgbClr val="333399"/>
                </a:solidFill>
                <a:latin typeface="Times New Roman"/>
              </a:rPr>
              <a:t>t</a:t>
            </a:r>
            <a:r>
              <a:rPr b="0" lang="es-ES_tradnl" sz="2800" spc="-1" strike="noStrike">
                <a:solidFill>
                  <a:srgbClr val="333399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75400" y="1258200"/>
            <a:ext cx="9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0" lang="es-ES_tradnl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i="1" lang="es-ES_tradnl" sz="28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es-ES_tradnl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3640" y="3457440"/>
            <a:ext cx="54500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36800" y="3049560"/>
            <a:ext cx="0" cy="757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317680" y="2871720"/>
            <a:ext cx="4557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3333ff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118280" y="3259080"/>
            <a:ext cx="26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333399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1940040" y="3267000"/>
            <a:ext cx="4793400" cy="383760"/>
            <a:chOff x="1940040" y="3267000"/>
            <a:chExt cx="4793400" cy="383760"/>
          </a:xfrm>
        </p:grpSpPr>
        <p:grpSp>
          <p:nvGrpSpPr>
            <p:cNvPr id="194" name=""/>
            <p:cNvGrpSpPr/>
            <p:nvPr/>
          </p:nvGrpSpPr>
          <p:grpSpPr>
            <a:xfrm>
              <a:off x="1940040" y="3267000"/>
              <a:ext cx="1197720" cy="191880"/>
              <a:chOff x="1940040" y="3267000"/>
              <a:chExt cx="1197720" cy="191880"/>
            </a:xfrm>
          </p:grpSpPr>
          <p:sp>
            <p:nvSpPr>
              <p:cNvPr id="195" name=""/>
              <p:cNvSpPr/>
              <p:nvPr/>
            </p:nvSpPr>
            <p:spPr>
              <a:xfrm>
                <a:off x="1940040" y="3267000"/>
                <a:ext cx="599400" cy="1918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19981"/>
                    </a:moveTo>
                    <a:lnTo>
                      <a:pt x="1042" y="18390"/>
                    </a:lnTo>
                    <a:lnTo>
                      <a:pt x="1958" y="16873"/>
                    </a:lnTo>
                    <a:lnTo>
                      <a:pt x="3000" y="15356"/>
                    </a:lnTo>
                    <a:lnTo>
                      <a:pt x="3958" y="13747"/>
                    </a:lnTo>
                    <a:lnTo>
                      <a:pt x="5042" y="12340"/>
                    </a:lnTo>
                    <a:lnTo>
                      <a:pt x="5958" y="10953"/>
                    </a:lnTo>
                    <a:lnTo>
                      <a:pt x="7000" y="9584"/>
                    </a:lnTo>
                    <a:lnTo>
                      <a:pt x="7958" y="8252"/>
                    </a:lnTo>
                    <a:lnTo>
                      <a:pt x="9000" y="7012"/>
                    </a:lnTo>
                    <a:lnTo>
                      <a:pt x="10042" y="5920"/>
                    </a:lnTo>
                    <a:lnTo>
                      <a:pt x="11000" y="4847"/>
                    </a:lnTo>
                    <a:lnTo>
                      <a:pt x="12000" y="3793"/>
                    </a:lnTo>
                    <a:lnTo>
                      <a:pt x="12958" y="3016"/>
                    </a:lnTo>
                    <a:lnTo>
                      <a:pt x="14042" y="2239"/>
                    </a:lnTo>
                    <a:lnTo>
                      <a:pt x="14958" y="1536"/>
                    </a:lnTo>
                    <a:lnTo>
                      <a:pt x="16000" y="962"/>
                    </a:lnTo>
                    <a:lnTo>
                      <a:pt x="16958" y="592"/>
                    </a:lnTo>
                    <a:lnTo>
                      <a:pt x="18042" y="222"/>
                    </a:lnTo>
                    <a:lnTo>
                      <a:pt x="18917" y="37"/>
                    </a:lnTo>
                    <a:lnTo>
                      <a:pt x="19958" y="0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2539440" y="3267000"/>
                <a:ext cx="598320" cy="1918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19981"/>
                    </a:moveTo>
                    <a:lnTo>
                      <a:pt x="18958" y="18390"/>
                    </a:lnTo>
                    <a:lnTo>
                      <a:pt x="18042" y="16873"/>
                    </a:lnTo>
                    <a:lnTo>
                      <a:pt x="17000" y="15356"/>
                    </a:lnTo>
                    <a:lnTo>
                      <a:pt x="16042" y="13747"/>
                    </a:lnTo>
                    <a:lnTo>
                      <a:pt x="14958" y="12340"/>
                    </a:lnTo>
                    <a:lnTo>
                      <a:pt x="14042" y="10953"/>
                    </a:lnTo>
                    <a:lnTo>
                      <a:pt x="12958" y="9584"/>
                    </a:lnTo>
                    <a:lnTo>
                      <a:pt x="12000" y="8252"/>
                    </a:lnTo>
                    <a:lnTo>
                      <a:pt x="11000" y="7012"/>
                    </a:lnTo>
                    <a:lnTo>
                      <a:pt x="10042" y="5920"/>
                    </a:lnTo>
                    <a:lnTo>
                      <a:pt x="9000" y="4847"/>
                    </a:lnTo>
                    <a:lnTo>
                      <a:pt x="8000" y="3793"/>
                    </a:lnTo>
                    <a:lnTo>
                      <a:pt x="7000" y="3016"/>
                    </a:lnTo>
                    <a:lnTo>
                      <a:pt x="6042" y="2239"/>
                    </a:lnTo>
                    <a:lnTo>
                      <a:pt x="5042" y="1536"/>
                    </a:lnTo>
                    <a:lnTo>
                      <a:pt x="4000" y="962"/>
                    </a:lnTo>
                    <a:lnTo>
                      <a:pt x="3000" y="592"/>
                    </a:lnTo>
                    <a:lnTo>
                      <a:pt x="2042" y="222"/>
                    </a:lnTo>
                    <a:lnTo>
                      <a:pt x="1042" y="37"/>
                    </a:lnTo>
                    <a:lnTo>
                      <a:pt x="0" y="0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7" name=""/>
            <p:cNvGrpSpPr/>
            <p:nvPr/>
          </p:nvGrpSpPr>
          <p:grpSpPr>
            <a:xfrm>
              <a:off x="3135960" y="3458880"/>
              <a:ext cx="1198080" cy="191880"/>
              <a:chOff x="3135960" y="3458880"/>
              <a:chExt cx="1198080" cy="191880"/>
            </a:xfrm>
          </p:grpSpPr>
          <p:sp>
            <p:nvSpPr>
              <p:cNvPr id="198" name=""/>
              <p:cNvSpPr/>
              <p:nvPr/>
            </p:nvSpPr>
            <p:spPr>
              <a:xfrm>
                <a:off x="3135960" y="3458880"/>
                <a:ext cx="599040" cy="1918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0"/>
                    </a:moveTo>
                    <a:lnTo>
                      <a:pt x="1042" y="1591"/>
                    </a:lnTo>
                    <a:lnTo>
                      <a:pt x="1958" y="3108"/>
                    </a:lnTo>
                    <a:lnTo>
                      <a:pt x="3000" y="4625"/>
                    </a:lnTo>
                    <a:lnTo>
                      <a:pt x="3958" y="6253"/>
                    </a:lnTo>
                    <a:lnTo>
                      <a:pt x="5042" y="7660"/>
                    </a:lnTo>
                    <a:lnTo>
                      <a:pt x="5958" y="9029"/>
                    </a:lnTo>
                    <a:lnTo>
                      <a:pt x="7000" y="10416"/>
                    </a:lnTo>
                    <a:lnTo>
                      <a:pt x="7958" y="11730"/>
                    </a:lnTo>
                    <a:lnTo>
                      <a:pt x="9000" y="12969"/>
                    </a:lnTo>
                    <a:lnTo>
                      <a:pt x="10042" y="14080"/>
                    </a:lnTo>
                    <a:lnTo>
                      <a:pt x="11000" y="15134"/>
                    </a:lnTo>
                    <a:lnTo>
                      <a:pt x="12000" y="16189"/>
                    </a:lnTo>
                    <a:lnTo>
                      <a:pt x="12958" y="16984"/>
                    </a:lnTo>
                    <a:lnTo>
                      <a:pt x="14042" y="17743"/>
                    </a:lnTo>
                    <a:lnTo>
                      <a:pt x="14958" y="18464"/>
                    </a:lnTo>
                    <a:lnTo>
                      <a:pt x="16000" y="19019"/>
                    </a:lnTo>
                    <a:lnTo>
                      <a:pt x="16958" y="19408"/>
                    </a:lnTo>
                    <a:lnTo>
                      <a:pt x="18042" y="19759"/>
                    </a:lnTo>
                    <a:lnTo>
                      <a:pt x="18917" y="19944"/>
                    </a:lnTo>
                    <a:lnTo>
                      <a:pt x="19958" y="19981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3735000" y="3458880"/>
                <a:ext cx="599040" cy="1918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0"/>
                    </a:moveTo>
                    <a:lnTo>
                      <a:pt x="18958" y="1591"/>
                    </a:lnTo>
                    <a:lnTo>
                      <a:pt x="18042" y="3108"/>
                    </a:lnTo>
                    <a:lnTo>
                      <a:pt x="17000" y="4625"/>
                    </a:lnTo>
                    <a:lnTo>
                      <a:pt x="16042" y="6253"/>
                    </a:lnTo>
                    <a:lnTo>
                      <a:pt x="14958" y="7660"/>
                    </a:lnTo>
                    <a:lnTo>
                      <a:pt x="14042" y="9029"/>
                    </a:lnTo>
                    <a:lnTo>
                      <a:pt x="12958" y="10416"/>
                    </a:lnTo>
                    <a:lnTo>
                      <a:pt x="12000" y="11730"/>
                    </a:lnTo>
                    <a:lnTo>
                      <a:pt x="11000" y="12969"/>
                    </a:lnTo>
                    <a:lnTo>
                      <a:pt x="10042" y="14080"/>
                    </a:lnTo>
                    <a:lnTo>
                      <a:pt x="9000" y="15134"/>
                    </a:lnTo>
                    <a:lnTo>
                      <a:pt x="8000" y="16189"/>
                    </a:lnTo>
                    <a:lnTo>
                      <a:pt x="7000" y="16984"/>
                    </a:lnTo>
                    <a:lnTo>
                      <a:pt x="6042" y="17743"/>
                    </a:lnTo>
                    <a:lnTo>
                      <a:pt x="5042" y="18464"/>
                    </a:lnTo>
                    <a:lnTo>
                      <a:pt x="4000" y="19019"/>
                    </a:lnTo>
                    <a:lnTo>
                      <a:pt x="3000" y="19408"/>
                    </a:lnTo>
                    <a:lnTo>
                      <a:pt x="2042" y="19759"/>
                    </a:lnTo>
                    <a:lnTo>
                      <a:pt x="1042" y="19944"/>
                    </a:lnTo>
                    <a:lnTo>
                      <a:pt x="0" y="19981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0" name=""/>
            <p:cNvSpPr/>
            <p:nvPr/>
          </p:nvSpPr>
          <p:spPr>
            <a:xfrm>
              <a:off x="4334400" y="3267000"/>
              <a:ext cx="598320" cy="1918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19981"/>
                  </a:moveTo>
                  <a:lnTo>
                    <a:pt x="1042" y="18390"/>
                  </a:lnTo>
                  <a:lnTo>
                    <a:pt x="1958" y="16873"/>
                  </a:lnTo>
                  <a:lnTo>
                    <a:pt x="3000" y="15356"/>
                  </a:lnTo>
                  <a:lnTo>
                    <a:pt x="3958" y="13747"/>
                  </a:lnTo>
                  <a:lnTo>
                    <a:pt x="5042" y="12340"/>
                  </a:lnTo>
                  <a:lnTo>
                    <a:pt x="5958" y="10953"/>
                  </a:lnTo>
                  <a:lnTo>
                    <a:pt x="7000" y="9584"/>
                  </a:lnTo>
                  <a:lnTo>
                    <a:pt x="7958" y="8252"/>
                  </a:lnTo>
                  <a:lnTo>
                    <a:pt x="9000" y="7012"/>
                  </a:lnTo>
                  <a:lnTo>
                    <a:pt x="10042" y="5920"/>
                  </a:lnTo>
                  <a:lnTo>
                    <a:pt x="11000" y="4847"/>
                  </a:lnTo>
                  <a:lnTo>
                    <a:pt x="12000" y="3793"/>
                  </a:lnTo>
                  <a:lnTo>
                    <a:pt x="12958" y="3016"/>
                  </a:lnTo>
                  <a:lnTo>
                    <a:pt x="14042" y="2239"/>
                  </a:lnTo>
                  <a:lnTo>
                    <a:pt x="14958" y="1536"/>
                  </a:lnTo>
                  <a:lnTo>
                    <a:pt x="16000" y="962"/>
                  </a:lnTo>
                  <a:lnTo>
                    <a:pt x="16958" y="592"/>
                  </a:lnTo>
                  <a:lnTo>
                    <a:pt x="18042" y="222"/>
                  </a:lnTo>
                  <a:lnTo>
                    <a:pt x="18917" y="37"/>
                  </a:lnTo>
                  <a:lnTo>
                    <a:pt x="19958" y="0"/>
                  </a:ln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934880" y="3267000"/>
              <a:ext cx="597600" cy="1918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58" y="19981"/>
                  </a:moveTo>
                  <a:lnTo>
                    <a:pt x="18958" y="18390"/>
                  </a:lnTo>
                  <a:lnTo>
                    <a:pt x="18042" y="16873"/>
                  </a:lnTo>
                  <a:lnTo>
                    <a:pt x="17000" y="15356"/>
                  </a:lnTo>
                  <a:lnTo>
                    <a:pt x="16042" y="13747"/>
                  </a:lnTo>
                  <a:lnTo>
                    <a:pt x="14958" y="12340"/>
                  </a:lnTo>
                  <a:lnTo>
                    <a:pt x="14042" y="10953"/>
                  </a:lnTo>
                  <a:lnTo>
                    <a:pt x="12958" y="9584"/>
                  </a:lnTo>
                  <a:lnTo>
                    <a:pt x="12000" y="8252"/>
                  </a:lnTo>
                  <a:lnTo>
                    <a:pt x="11000" y="7012"/>
                  </a:lnTo>
                  <a:lnTo>
                    <a:pt x="10042" y="5920"/>
                  </a:lnTo>
                  <a:lnTo>
                    <a:pt x="9000" y="4847"/>
                  </a:lnTo>
                  <a:lnTo>
                    <a:pt x="8000" y="3793"/>
                  </a:lnTo>
                  <a:lnTo>
                    <a:pt x="7000" y="3016"/>
                  </a:lnTo>
                  <a:lnTo>
                    <a:pt x="6042" y="2239"/>
                  </a:lnTo>
                  <a:lnTo>
                    <a:pt x="5042" y="1536"/>
                  </a:lnTo>
                  <a:lnTo>
                    <a:pt x="4000" y="962"/>
                  </a:lnTo>
                  <a:lnTo>
                    <a:pt x="3000" y="592"/>
                  </a:lnTo>
                  <a:lnTo>
                    <a:pt x="2042" y="222"/>
                  </a:lnTo>
                  <a:lnTo>
                    <a:pt x="1042" y="37"/>
                  </a:ln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532840" y="3458880"/>
              <a:ext cx="598320" cy="1918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1042" y="1591"/>
                  </a:lnTo>
                  <a:lnTo>
                    <a:pt x="1958" y="3108"/>
                  </a:lnTo>
                  <a:lnTo>
                    <a:pt x="3000" y="4625"/>
                  </a:lnTo>
                  <a:lnTo>
                    <a:pt x="3958" y="6253"/>
                  </a:lnTo>
                  <a:lnTo>
                    <a:pt x="5042" y="7660"/>
                  </a:lnTo>
                  <a:lnTo>
                    <a:pt x="5958" y="9029"/>
                  </a:lnTo>
                  <a:lnTo>
                    <a:pt x="7000" y="10416"/>
                  </a:lnTo>
                  <a:lnTo>
                    <a:pt x="7958" y="11730"/>
                  </a:lnTo>
                  <a:lnTo>
                    <a:pt x="9000" y="12969"/>
                  </a:lnTo>
                  <a:lnTo>
                    <a:pt x="10042" y="14080"/>
                  </a:lnTo>
                  <a:lnTo>
                    <a:pt x="11000" y="15134"/>
                  </a:lnTo>
                  <a:lnTo>
                    <a:pt x="12000" y="16189"/>
                  </a:lnTo>
                  <a:lnTo>
                    <a:pt x="12958" y="16984"/>
                  </a:lnTo>
                  <a:lnTo>
                    <a:pt x="14042" y="17743"/>
                  </a:lnTo>
                  <a:lnTo>
                    <a:pt x="14958" y="18464"/>
                  </a:lnTo>
                  <a:lnTo>
                    <a:pt x="16000" y="19019"/>
                  </a:lnTo>
                  <a:lnTo>
                    <a:pt x="16958" y="19408"/>
                  </a:lnTo>
                  <a:lnTo>
                    <a:pt x="18042" y="19759"/>
                  </a:lnTo>
                  <a:lnTo>
                    <a:pt x="18917" y="19944"/>
                  </a:lnTo>
                  <a:lnTo>
                    <a:pt x="19958" y="19981"/>
                  </a:ln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135840" y="3458880"/>
              <a:ext cx="597600" cy="1918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58" y="0"/>
                  </a:moveTo>
                  <a:lnTo>
                    <a:pt x="18958" y="1591"/>
                  </a:lnTo>
                  <a:lnTo>
                    <a:pt x="18042" y="3108"/>
                  </a:lnTo>
                  <a:lnTo>
                    <a:pt x="17000" y="4625"/>
                  </a:lnTo>
                  <a:lnTo>
                    <a:pt x="16042" y="6253"/>
                  </a:lnTo>
                  <a:lnTo>
                    <a:pt x="14958" y="7660"/>
                  </a:lnTo>
                  <a:lnTo>
                    <a:pt x="14042" y="9029"/>
                  </a:lnTo>
                  <a:lnTo>
                    <a:pt x="12958" y="10416"/>
                  </a:lnTo>
                  <a:lnTo>
                    <a:pt x="12000" y="11730"/>
                  </a:lnTo>
                  <a:lnTo>
                    <a:pt x="11000" y="12969"/>
                  </a:lnTo>
                  <a:lnTo>
                    <a:pt x="10042" y="14080"/>
                  </a:lnTo>
                  <a:lnTo>
                    <a:pt x="9000" y="15134"/>
                  </a:lnTo>
                  <a:lnTo>
                    <a:pt x="8000" y="16189"/>
                  </a:lnTo>
                  <a:lnTo>
                    <a:pt x="7000" y="16984"/>
                  </a:lnTo>
                  <a:lnTo>
                    <a:pt x="6042" y="17743"/>
                  </a:lnTo>
                  <a:lnTo>
                    <a:pt x="5042" y="18464"/>
                  </a:lnTo>
                  <a:lnTo>
                    <a:pt x="4000" y="19019"/>
                  </a:lnTo>
                  <a:lnTo>
                    <a:pt x="3000" y="19408"/>
                  </a:lnTo>
                  <a:lnTo>
                    <a:pt x="2042" y="19759"/>
                  </a:lnTo>
                  <a:lnTo>
                    <a:pt x="1042" y="19944"/>
                  </a:lnTo>
                  <a:lnTo>
                    <a:pt x="0" y="19981"/>
                  </a:ln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4" name=""/>
          <p:cNvSpPr/>
          <p:nvPr/>
        </p:nvSpPr>
        <p:spPr>
          <a:xfrm>
            <a:off x="1066680" y="5494320"/>
            <a:ext cx="6147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1936800" y="4324320"/>
            <a:ext cx="0" cy="2098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606680" y="3952800"/>
            <a:ext cx="5857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0" lang="es-E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i="1" lang="es-ES" sz="24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es-E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118280" y="5295960"/>
            <a:ext cx="26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133880" y="54514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9999"/>
                </a:solidFill>
                <a:latin typeface="Times New Roman"/>
              </a:rPr>
              <a:t>2</a:t>
            </a:r>
            <a:r>
              <a:rPr b="0" lang="es-ES" sz="1800" spc="-1" strike="noStrike">
                <a:solidFill>
                  <a:srgbClr val="009999"/>
                </a:solidFill>
                <a:latin typeface="Symbol"/>
                <a:ea typeface="Symbol"/>
              </a:rPr>
              <a:t>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1617840" y="4675320"/>
            <a:ext cx="5088960" cy="1634760"/>
            <a:chOff x="1617840" y="4675320"/>
            <a:chExt cx="5088960" cy="1634760"/>
          </a:xfrm>
        </p:grpSpPr>
        <p:grpSp>
          <p:nvGrpSpPr>
            <p:cNvPr id="210" name=""/>
            <p:cNvGrpSpPr/>
            <p:nvPr/>
          </p:nvGrpSpPr>
          <p:grpSpPr>
            <a:xfrm>
              <a:off x="5189400" y="5491440"/>
              <a:ext cx="1193760" cy="818640"/>
              <a:chOff x="5189400" y="5491440"/>
              <a:chExt cx="1193760" cy="818640"/>
            </a:xfrm>
          </p:grpSpPr>
          <p:sp>
            <p:nvSpPr>
              <p:cNvPr id="211" name=""/>
              <p:cNvSpPr/>
              <p:nvPr/>
            </p:nvSpPr>
            <p:spPr>
              <a:xfrm flipH="1" flipV="1">
                <a:off x="5786280" y="5491440"/>
                <a:ext cx="596520" cy="81792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19981"/>
                    </a:moveTo>
                    <a:lnTo>
                      <a:pt x="1042" y="18390"/>
                    </a:lnTo>
                    <a:lnTo>
                      <a:pt x="1958" y="16873"/>
                    </a:lnTo>
                    <a:lnTo>
                      <a:pt x="3000" y="15356"/>
                    </a:lnTo>
                    <a:lnTo>
                      <a:pt x="3958" y="13747"/>
                    </a:lnTo>
                    <a:lnTo>
                      <a:pt x="5042" y="12340"/>
                    </a:lnTo>
                    <a:lnTo>
                      <a:pt x="5958" y="10953"/>
                    </a:lnTo>
                    <a:lnTo>
                      <a:pt x="7000" y="9584"/>
                    </a:lnTo>
                    <a:lnTo>
                      <a:pt x="7958" y="8252"/>
                    </a:lnTo>
                    <a:lnTo>
                      <a:pt x="9000" y="7012"/>
                    </a:lnTo>
                    <a:lnTo>
                      <a:pt x="10042" y="5920"/>
                    </a:lnTo>
                    <a:lnTo>
                      <a:pt x="11000" y="4847"/>
                    </a:lnTo>
                    <a:lnTo>
                      <a:pt x="12000" y="3793"/>
                    </a:lnTo>
                    <a:lnTo>
                      <a:pt x="12958" y="3016"/>
                    </a:lnTo>
                    <a:lnTo>
                      <a:pt x="14042" y="2239"/>
                    </a:lnTo>
                    <a:lnTo>
                      <a:pt x="14958" y="1536"/>
                    </a:lnTo>
                    <a:lnTo>
                      <a:pt x="16000" y="962"/>
                    </a:lnTo>
                    <a:lnTo>
                      <a:pt x="16958" y="592"/>
                    </a:lnTo>
                    <a:lnTo>
                      <a:pt x="18042" y="222"/>
                    </a:lnTo>
                    <a:lnTo>
                      <a:pt x="18917" y="37"/>
                    </a:lnTo>
                    <a:lnTo>
                      <a:pt x="19958" y="0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flipH="1" flipV="1">
                <a:off x="5189040" y="5492160"/>
                <a:ext cx="596520" cy="81792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19981"/>
                    </a:moveTo>
                    <a:lnTo>
                      <a:pt x="18958" y="18390"/>
                    </a:lnTo>
                    <a:lnTo>
                      <a:pt x="18042" y="16873"/>
                    </a:lnTo>
                    <a:lnTo>
                      <a:pt x="17000" y="15356"/>
                    </a:lnTo>
                    <a:lnTo>
                      <a:pt x="16042" y="13747"/>
                    </a:lnTo>
                    <a:lnTo>
                      <a:pt x="14958" y="12340"/>
                    </a:lnTo>
                    <a:lnTo>
                      <a:pt x="14042" y="10953"/>
                    </a:lnTo>
                    <a:lnTo>
                      <a:pt x="12958" y="9584"/>
                    </a:lnTo>
                    <a:lnTo>
                      <a:pt x="12000" y="8252"/>
                    </a:lnTo>
                    <a:lnTo>
                      <a:pt x="11000" y="7012"/>
                    </a:lnTo>
                    <a:lnTo>
                      <a:pt x="10042" y="5920"/>
                    </a:lnTo>
                    <a:lnTo>
                      <a:pt x="9000" y="4847"/>
                    </a:lnTo>
                    <a:lnTo>
                      <a:pt x="8000" y="3793"/>
                    </a:lnTo>
                    <a:lnTo>
                      <a:pt x="7000" y="3016"/>
                    </a:lnTo>
                    <a:lnTo>
                      <a:pt x="6042" y="2239"/>
                    </a:lnTo>
                    <a:lnTo>
                      <a:pt x="5042" y="1536"/>
                    </a:lnTo>
                    <a:lnTo>
                      <a:pt x="4000" y="962"/>
                    </a:lnTo>
                    <a:lnTo>
                      <a:pt x="3000" y="592"/>
                    </a:lnTo>
                    <a:lnTo>
                      <a:pt x="2042" y="222"/>
                    </a:lnTo>
                    <a:lnTo>
                      <a:pt x="1042" y="37"/>
                    </a:lnTo>
                    <a:lnTo>
                      <a:pt x="0" y="0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3" name=""/>
            <p:cNvGrpSpPr/>
            <p:nvPr/>
          </p:nvGrpSpPr>
          <p:grpSpPr>
            <a:xfrm>
              <a:off x="3992040" y="4675320"/>
              <a:ext cx="1195560" cy="818640"/>
              <a:chOff x="3992040" y="4675320"/>
              <a:chExt cx="1195560" cy="818640"/>
            </a:xfrm>
          </p:grpSpPr>
          <p:sp>
            <p:nvSpPr>
              <p:cNvPr id="214" name=""/>
              <p:cNvSpPr/>
              <p:nvPr/>
            </p:nvSpPr>
            <p:spPr>
              <a:xfrm flipH="1" flipV="1">
                <a:off x="4591440" y="4676040"/>
                <a:ext cx="596160" cy="81792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0"/>
                    </a:moveTo>
                    <a:lnTo>
                      <a:pt x="1042" y="1591"/>
                    </a:lnTo>
                    <a:lnTo>
                      <a:pt x="1958" y="3108"/>
                    </a:lnTo>
                    <a:lnTo>
                      <a:pt x="3000" y="4625"/>
                    </a:lnTo>
                    <a:lnTo>
                      <a:pt x="3958" y="6253"/>
                    </a:lnTo>
                    <a:lnTo>
                      <a:pt x="5042" y="7660"/>
                    </a:lnTo>
                    <a:lnTo>
                      <a:pt x="5958" y="9029"/>
                    </a:lnTo>
                    <a:lnTo>
                      <a:pt x="7000" y="10416"/>
                    </a:lnTo>
                    <a:lnTo>
                      <a:pt x="7958" y="11730"/>
                    </a:lnTo>
                    <a:lnTo>
                      <a:pt x="9000" y="12969"/>
                    </a:lnTo>
                    <a:lnTo>
                      <a:pt x="10042" y="14080"/>
                    </a:lnTo>
                    <a:lnTo>
                      <a:pt x="11000" y="15134"/>
                    </a:lnTo>
                    <a:lnTo>
                      <a:pt x="12000" y="16189"/>
                    </a:lnTo>
                    <a:lnTo>
                      <a:pt x="12958" y="16984"/>
                    </a:lnTo>
                    <a:lnTo>
                      <a:pt x="14042" y="17743"/>
                    </a:lnTo>
                    <a:lnTo>
                      <a:pt x="14958" y="18464"/>
                    </a:lnTo>
                    <a:lnTo>
                      <a:pt x="16000" y="19019"/>
                    </a:lnTo>
                    <a:lnTo>
                      <a:pt x="16958" y="19408"/>
                    </a:lnTo>
                    <a:lnTo>
                      <a:pt x="18042" y="19759"/>
                    </a:lnTo>
                    <a:lnTo>
                      <a:pt x="18917" y="19944"/>
                    </a:lnTo>
                    <a:lnTo>
                      <a:pt x="19958" y="19981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flipH="1" flipV="1">
                <a:off x="3992040" y="4675320"/>
                <a:ext cx="596160" cy="81792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0"/>
                    </a:moveTo>
                    <a:lnTo>
                      <a:pt x="18958" y="1591"/>
                    </a:lnTo>
                    <a:lnTo>
                      <a:pt x="18042" y="3108"/>
                    </a:lnTo>
                    <a:lnTo>
                      <a:pt x="17000" y="4625"/>
                    </a:lnTo>
                    <a:lnTo>
                      <a:pt x="16042" y="6253"/>
                    </a:lnTo>
                    <a:lnTo>
                      <a:pt x="14958" y="7660"/>
                    </a:lnTo>
                    <a:lnTo>
                      <a:pt x="14042" y="9029"/>
                    </a:lnTo>
                    <a:lnTo>
                      <a:pt x="12958" y="10416"/>
                    </a:lnTo>
                    <a:lnTo>
                      <a:pt x="12000" y="11730"/>
                    </a:lnTo>
                    <a:lnTo>
                      <a:pt x="11000" y="12969"/>
                    </a:lnTo>
                    <a:lnTo>
                      <a:pt x="10042" y="14080"/>
                    </a:lnTo>
                    <a:lnTo>
                      <a:pt x="9000" y="15134"/>
                    </a:lnTo>
                    <a:lnTo>
                      <a:pt x="8000" y="16189"/>
                    </a:lnTo>
                    <a:lnTo>
                      <a:pt x="7000" y="16984"/>
                    </a:lnTo>
                    <a:lnTo>
                      <a:pt x="6042" y="17743"/>
                    </a:lnTo>
                    <a:lnTo>
                      <a:pt x="5042" y="18464"/>
                    </a:lnTo>
                    <a:lnTo>
                      <a:pt x="4000" y="19019"/>
                    </a:lnTo>
                    <a:lnTo>
                      <a:pt x="3000" y="19408"/>
                    </a:lnTo>
                    <a:lnTo>
                      <a:pt x="2042" y="19759"/>
                    </a:lnTo>
                    <a:lnTo>
                      <a:pt x="1042" y="19944"/>
                    </a:lnTo>
                    <a:lnTo>
                      <a:pt x="0" y="19981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6" name=""/>
            <p:cNvSpPr/>
            <p:nvPr/>
          </p:nvSpPr>
          <p:spPr>
            <a:xfrm flipH="1" flipV="1">
              <a:off x="3395520" y="5492160"/>
              <a:ext cx="596880" cy="81612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19981"/>
                  </a:moveTo>
                  <a:lnTo>
                    <a:pt x="1042" y="18390"/>
                  </a:lnTo>
                  <a:lnTo>
                    <a:pt x="1958" y="16873"/>
                  </a:lnTo>
                  <a:lnTo>
                    <a:pt x="3000" y="15356"/>
                  </a:lnTo>
                  <a:lnTo>
                    <a:pt x="3958" y="13747"/>
                  </a:lnTo>
                  <a:lnTo>
                    <a:pt x="5042" y="12340"/>
                  </a:lnTo>
                  <a:lnTo>
                    <a:pt x="5958" y="10953"/>
                  </a:lnTo>
                  <a:lnTo>
                    <a:pt x="7000" y="9584"/>
                  </a:lnTo>
                  <a:lnTo>
                    <a:pt x="7958" y="8252"/>
                  </a:lnTo>
                  <a:lnTo>
                    <a:pt x="9000" y="7012"/>
                  </a:lnTo>
                  <a:lnTo>
                    <a:pt x="10042" y="5920"/>
                  </a:lnTo>
                  <a:lnTo>
                    <a:pt x="11000" y="4847"/>
                  </a:lnTo>
                  <a:lnTo>
                    <a:pt x="12000" y="3793"/>
                  </a:lnTo>
                  <a:lnTo>
                    <a:pt x="12958" y="3016"/>
                  </a:lnTo>
                  <a:lnTo>
                    <a:pt x="14042" y="2239"/>
                  </a:lnTo>
                  <a:lnTo>
                    <a:pt x="14958" y="1536"/>
                  </a:lnTo>
                  <a:lnTo>
                    <a:pt x="16000" y="962"/>
                  </a:lnTo>
                  <a:lnTo>
                    <a:pt x="16958" y="592"/>
                  </a:lnTo>
                  <a:lnTo>
                    <a:pt x="18042" y="222"/>
                  </a:lnTo>
                  <a:lnTo>
                    <a:pt x="18917" y="37"/>
                  </a:lnTo>
                  <a:lnTo>
                    <a:pt x="19958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 flipH="1" flipV="1">
              <a:off x="2798640" y="5493240"/>
              <a:ext cx="596880" cy="81612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58" y="19981"/>
                  </a:moveTo>
                  <a:lnTo>
                    <a:pt x="18958" y="18390"/>
                  </a:lnTo>
                  <a:lnTo>
                    <a:pt x="18042" y="16873"/>
                  </a:lnTo>
                  <a:lnTo>
                    <a:pt x="17000" y="15356"/>
                  </a:lnTo>
                  <a:lnTo>
                    <a:pt x="16042" y="13747"/>
                  </a:lnTo>
                  <a:lnTo>
                    <a:pt x="14958" y="12340"/>
                  </a:lnTo>
                  <a:lnTo>
                    <a:pt x="14042" y="10953"/>
                  </a:lnTo>
                  <a:lnTo>
                    <a:pt x="12958" y="9584"/>
                  </a:lnTo>
                  <a:lnTo>
                    <a:pt x="12000" y="8252"/>
                  </a:lnTo>
                  <a:lnTo>
                    <a:pt x="11000" y="7012"/>
                  </a:lnTo>
                  <a:lnTo>
                    <a:pt x="10042" y="5920"/>
                  </a:lnTo>
                  <a:lnTo>
                    <a:pt x="9000" y="4847"/>
                  </a:lnTo>
                  <a:lnTo>
                    <a:pt x="8000" y="3793"/>
                  </a:lnTo>
                  <a:lnTo>
                    <a:pt x="7000" y="3016"/>
                  </a:lnTo>
                  <a:lnTo>
                    <a:pt x="6042" y="2239"/>
                  </a:lnTo>
                  <a:lnTo>
                    <a:pt x="5042" y="1536"/>
                  </a:lnTo>
                  <a:lnTo>
                    <a:pt x="4000" y="962"/>
                  </a:lnTo>
                  <a:lnTo>
                    <a:pt x="3000" y="592"/>
                  </a:lnTo>
                  <a:lnTo>
                    <a:pt x="2042" y="222"/>
                  </a:lnTo>
                  <a:lnTo>
                    <a:pt x="1042" y="37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 flipH="1" flipV="1">
              <a:off x="2197080" y="4677840"/>
              <a:ext cx="596880" cy="8172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1042" y="1591"/>
                  </a:lnTo>
                  <a:lnTo>
                    <a:pt x="1958" y="3108"/>
                  </a:lnTo>
                  <a:lnTo>
                    <a:pt x="3000" y="4625"/>
                  </a:lnTo>
                  <a:lnTo>
                    <a:pt x="3958" y="6253"/>
                  </a:lnTo>
                  <a:lnTo>
                    <a:pt x="5042" y="7660"/>
                  </a:lnTo>
                  <a:lnTo>
                    <a:pt x="5958" y="9029"/>
                  </a:lnTo>
                  <a:lnTo>
                    <a:pt x="7000" y="10416"/>
                  </a:lnTo>
                  <a:lnTo>
                    <a:pt x="7958" y="11730"/>
                  </a:lnTo>
                  <a:lnTo>
                    <a:pt x="9000" y="12969"/>
                  </a:lnTo>
                  <a:lnTo>
                    <a:pt x="10042" y="14080"/>
                  </a:lnTo>
                  <a:lnTo>
                    <a:pt x="11000" y="15134"/>
                  </a:lnTo>
                  <a:lnTo>
                    <a:pt x="12000" y="16189"/>
                  </a:lnTo>
                  <a:lnTo>
                    <a:pt x="12958" y="16984"/>
                  </a:lnTo>
                  <a:lnTo>
                    <a:pt x="14042" y="17743"/>
                  </a:lnTo>
                  <a:lnTo>
                    <a:pt x="14958" y="18464"/>
                  </a:lnTo>
                  <a:lnTo>
                    <a:pt x="16000" y="19019"/>
                  </a:lnTo>
                  <a:lnTo>
                    <a:pt x="16958" y="19408"/>
                  </a:lnTo>
                  <a:lnTo>
                    <a:pt x="18042" y="19759"/>
                  </a:lnTo>
                  <a:lnTo>
                    <a:pt x="18917" y="19944"/>
                  </a:lnTo>
                  <a:lnTo>
                    <a:pt x="19958" y="1998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 flipH="1" flipV="1">
              <a:off x="1939320" y="4677120"/>
              <a:ext cx="266760" cy="198360"/>
            </a:xfrm>
            <a:custGeom>
              <a:avLst/>
              <a:gdLst/>
              <a:ahLst/>
              <a:rect l="l" t="t" r="r" b="b"/>
              <a:pathLst>
                <a:path w="56" h="68">
                  <a:moveTo>
                    <a:pt x="56" y="0"/>
                  </a:moveTo>
                  <a:lnTo>
                    <a:pt x="50" y="14"/>
                  </a:lnTo>
                  <a:lnTo>
                    <a:pt x="44" y="26"/>
                  </a:lnTo>
                  <a:lnTo>
                    <a:pt x="38" y="36"/>
                  </a:lnTo>
                  <a:lnTo>
                    <a:pt x="32" y="46"/>
                  </a:lnTo>
                  <a:lnTo>
                    <a:pt x="25" y="54"/>
                  </a:lnTo>
                  <a:lnTo>
                    <a:pt x="19" y="60"/>
                  </a:lnTo>
                  <a:lnTo>
                    <a:pt x="13" y="65"/>
                  </a:lnTo>
                  <a:lnTo>
                    <a:pt x="7" y="67"/>
                  </a:lnTo>
                  <a:lnTo>
                    <a:pt x="0" y="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 flipH="1" flipV="1">
              <a:off x="6377760" y="4875480"/>
              <a:ext cx="328680" cy="618840"/>
            </a:xfrm>
            <a:custGeom>
              <a:avLst/>
              <a:gdLst/>
              <a:ahLst/>
              <a:rect l="l" t="t" r="r" b="b"/>
              <a:pathLst>
                <a:path w="69" h="213">
                  <a:moveTo>
                    <a:pt x="69" y="0"/>
                  </a:moveTo>
                  <a:lnTo>
                    <a:pt x="57" y="44"/>
                  </a:lnTo>
                  <a:lnTo>
                    <a:pt x="44" y="88"/>
                  </a:lnTo>
                  <a:lnTo>
                    <a:pt x="32" y="127"/>
                  </a:lnTo>
                  <a:lnTo>
                    <a:pt x="25" y="146"/>
                  </a:lnTo>
                  <a:lnTo>
                    <a:pt x="19" y="165"/>
                  </a:lnTo>
                  <a:lnTo>
                    <a:pt x="13" y="182"/>
                  </a:lnTo>
                  <a:lnTo>
                    <a:pt x="7" y="198"/>
                  </a:lnTo>
                  <a:lnTo>
                    <a:pt x="0" y="21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 flipH="1" flipV="1">
              <a:off x="1617840" y="4875480"/>
              <a:ext cx="328320" cy="618840"/>
            </a:xfrm>
            <a:custGeom>
              <a:avLst/>
              <a:gdLst/>
              <a:ahLst/>
              <a:rect l="l" t="t" r="r" b="b"/>
              <a:pathLst>
                <a:path w="69" h="213">
                  <a:moveTo>
                    <a:pt x="69" y="0"/>
                  </a:moveTo>
                  <a:lnTo>
                    <a:pt x="57" y="44"/>
                  </a:lnTo>
                  <a:lnTo>
                    <a:pt x="44" y="88"/>
                  </a:lnTo>
                  <a:lnTo>
                    <a:pt x="32" y="127"/>
                  </a:lnTo>
                  <a:lnTo>
                    <a:pt x="25" y="146"/>
                  </a:lnTo>
                  <a:lnTo>
                    <a:pt x="19" y="165"/>
                  </a:lnTo>
                  <a:lnTo>
                    <a:pt x="13" y="182"/>
                  </a:lnTo>
                  <a:lnTo>
                    <a:pt x="7" y="198"/>
                  </a:lnTo>
                  <a:lnTo>
                    <a:pt x="0" y="21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1319040" y="545148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9999"/>
                </a:solidFill>
                <a:latin typeface="Symbol"/>
                <a:ea typeface="Symbol"/>
              </a:rPr>
              <a:t></a:t>
            </a:r>
            <a:r>
              <a:rPr b="0" lang="es-ES" sz="1800" spc="-1" strike="noStrike">
                <a:solidFill>
                  <a:srgbClr val="009999"/>
                </a:solidFill>
                <a:latin typeface="Symbol"/>
                <a:ea typeface="Symbol"/>
              </a:rPr>
              <a:t>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969920" y="4299120"/>
            <a:ext cx="455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606680" y="2690640"/>
            <a:ext cx="5857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333399"/>
                </a:solidFill>
                <a:latin typeface="Times New Roman"/>
              </a:rPr>
              <a:t>x</a:t>
            </a:r>
            <a:r>
              <a:rPr b="0" lang="es-ES" sz="2400" spc="-1" strike="noStrike">
                <a:solidFill>
                  <a:srgbClr val="333399"/>
                </a:solidFill>
                <a:latin typeface="Times New Roman"/>
              </a:rPr>
              <a:t>(</a:t>
            </a:r>
            <a:r>
              <a:rPr b="0" i="1" lang="es-ES" sz="2400" spc="-1" strike="noStrike">
                <a:solidFill>
                  <a:srgbClr val="333399"/>
                </a:solidFill>
                <a:latin typeface="Times New Roman"/>
              </a:rPr>
              <a:t>t</a:t>
            </a:r>
            <a:r>
              <a:rPr b="0" lang="es-ES" sz="2400" spc="-1" strike="noStrike">
                <a:solidFill>
                  <a:srgbClr val="333399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57040" y="4435560"/>
            <a:ext cx="131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9999"/>
                </a:solidFill>
                <a:latin typeface="Symbol"/>
                <a:ea typeface="Symbol"/>
              </a:rPr>
              <a:t></a:t>
            </a:r>
            <a:r>
              <a:rPr b="0" lang="es-ES" sz="3600" spc="-1" strike="noStrike">
                <a:solidFill>
                  <a:srgbClr val="009999"/>
                </a:solidFill>
                <a:latin typeface="Times New Roman"/>
              </a:rPr>
              <a:t> </a:t>
            </a:r>
            <a:r>
              <a:rPr b="0" lang="es-ES" sz="3600" spc="-1" strike="noStrike">
                <a:solidFill>
                  <a:srgbClr val="009999"/>
                </a:solidFill>
                <a:latin typeface="Times New Roman"/>
              </a:rPr>
              <a:t>&gt; 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235400" y="311472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554880" y="3129120"/>
            <a:ext cx="43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s-E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235400" y="51516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554880" y="5165640"/>
            <a:ext cx="43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s-E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499080" y="54514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9999"/>
                </a:solidFill>
                <a:latin typeface="Times New Roman"/>
              </a:rPr>
              <a:t>4</a:t>
            </a:r>
            <a:r>
              <a:rPr b="0" lang="es-ES" sz="1800" spc="-1" strike="noStrike">
                <a:solidFill>
                  <a:srgbClr val="009999"/>
                </a:solidFill>
                <a:latin typeface="Symbol"/>
                <a:ea typeface="Symbol"/>
              </a:rPr>
              <a:t>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133880" y="34495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9999"/>
                </a:solidFill>
                <a:latin typeface="Times New Roman"/>
              </a:rPr>
              <a:t>2</a:t>
            </a:r>
            <a:r>
              <a:rPr b="0" lang="es-ES" sz="1800" spc="-1" strike="noStrike">
                <a:solidFill>
                  <a:srgbClr val="009999"/>
                </a:solidFill>
                <a:latin typeface="Symbol"/>
                <a:ea typeface="Symbol"/>
              </a:rPr>
              <a:t>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499080" y="34495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9999"/>
                </a:solidFill>
                <a:latin typeface="Times New Roman"/>
              </a:rPr>
              <a:t>4</a:t>
            </a:r>
            <a:r>
              <a:rPr b="0" lang="es-ES" sz="1800" spc="-1" strike="noStrike">
                <a:solidFill>
                  <a:srgbClr val="009999"/>
                </a:solidFill>
                <a:latin typeface="Symbol"/>
                <a:ea typeface="Symbol"/>
              </a:rPr>
              <a:t>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C176F-07A4-4974-8395-DD23285EA83F}" type="slidenum">
              <a:t>14</a:t>
            </a:fld>
          </a:p>
        </p:txBody>
      </p:sp>
    </p:spTree>
  </p:cSld>
  <p:transition>
    <p:fade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3452760" y="565200"/>
            <a:ext cx="2235240" cy="1989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495520" y="1558800"/>
            <a:ext cx="9572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689440" y="1558800"/>
            <a:ext cx="9576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691080" y="13309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SISTE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668600" y="1258200"/>
            <a:ext cx="9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333399"/>
                </a:solidFill>
                <a:latin typeface="Times New Roman"/>
              </a:rPr>
              <a:t>x</a:t>
            </a:r>
            <a:r>
              <a:rPr b="0" lang="es-ES_tradnl" sz="2800" spc="-1" strike="noStrike">
                <a:solidFill>
                  <a:srgbClr val="333399"/>
                </a:solidFill>
                <a:latin typeface="Times New Roman"/>
              </a:rPr>
              <a:t>(</a:t>
            </a:r>
            <a:r>
              <a:rPr b="0" i="1" lang="es-ES_tradnl" sz="2800" spc="-1" strike="noStrike">
                <a:solidFill>
                  <a:srgbClr val="333399"/>
                </a:solidFill>
                <a:latin typeface="Times New Roman"/>
              </a:rPr>
              <a:t>t</a:t>
            </a:r>
            <a:r>
              <a:rPr b="0" lang="es-ES_tradnl" sz="2800" spc="-1" strike="noStrike">
                <a:solidFill>
                  <a:srgbClr val="333399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575400" y="1258200"/>
            <a:ext cx="9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0" lang="es-ES_tradnl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i="1" lang="es-ES_tradnl" sz="28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es-ES_tradnl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763640" y="3457440"/>
            <a:ext cx="54500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 flipV="1">
            <a:off x="1936800" y="3049560"/>
            <a:ext cx="0" cy="757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317680" y="2871720"/>
            <a:ext cx="4557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3333ff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118280" y="3259080"/>
            <a:ext cx="26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333399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3" name=""/>
          <p:cNvGrpSpPr/>
          <p:nvPr/>
        </p:nvGrpSpPr>
        <p:grpSpPr>
          <a:xfrm>
            <a:off x="1940040" y="3267000"/>
            <a:ext cx="4793400" cy="383760"/>
            <a:chOff x="1940040" y="3267000"/>
            <a:chExt cx="4793400" cy="383760"/>
          </a:xfrm>
        </p:grpSpPr>
        <p:grpSp>
          <p:nvGrpSpPr>
            <p:cNvPr id="244" name=""/>
            <p:cNvGrpSpPr/>
            <p:nvPr/>
          </p:nvGrpSpPr>
          <p:grpSpPr>
            <a:xfrm>
              <a:off x="1940040" y="3267000"/>
              <a:ext cx="1197720" cy="191880"/>
              <a:chOff x="1940040" y="3267000"/>
              <a:chExt cx="1197720" cy="191880"/>
            </a:xfrm>
          </p:grpSpPr>
          <p:sp>
            <p:nvSpPr>
              <p:cNvPr id="245" name=""/>
              <p:cNvSpPr/>
              <p:nvPr/>
            </p:nvSpPr>
            <p:spPr>
              <a:xfrm>
                <a:off x="1940040" y="3267000"/>
                <a:ext cx="599400" cy="1918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19981"/>
                    </a:moveTo>
                    <a:lnTo>
                      <a:pt x="1042" y="18390"/>
                    </a:lnTo>
                    <a:lnTo>
                      <a:pt x="1958" y="16873"/>
                    </a:lnTo>
                    <a:lnTo>
                      <a:pt x="3000" y="15356"/>
                    </a:lnTo>
                    <a:lnTo>
                      <a:pt x="3958" y="13747"/>
                    </a:lnTo>
                    <a:lnTo>
                      <a:pt x="5042" y="12340"/>
                    </a:lnTo>
                    <a:lnTo>
                      <a:pt x="5958" y="10953"/>
                    </a:lnTo>
                    <a:lnTo>
                      <a:pt x="7000" y="9584"/>
                    </a:lnTo>
                    <a:lnTo>
                      <a:pt x="7958" y="8252"/>
                    </a:lnTo>
                    <a:lnTo>
                      <a:pt x="9000" y="7012"/>
                    </a:lnTo>
                    <a:lnTo>
                      <a:pt x="10042" y="5920"/>
                    </a:lnTo>
                    <a:lnTo>
                      <a:pt x="11000" y="4847"/>
                    </a:lnTo>
                    <a:lnTo>
                      <a:pt x="12000" y="3793"/>
                    </a:lnTo>
                    <a:lnTo>
                      <a:pt x="12958" y="3016"/>
                    </a:lnTo>
                    <a:lnTo>
                      <a:pt x="14042" y="2239"/>
                    </a:lnTo>
                    <a:lnTo>
                      <a:pt x="14958" y="1536"/>
                    </a:lnTo>
                    <a:lnTo>
                      <a:pt x="16000" y="962"/>
                    </a:lnTo>
                    <a:lnTo>
                      <a:pt x="16958" y="592"/>
                    </a:lnTo>
                    <a:lnTo>
                      <a:pt x="18042" y="222"/>
                    </a:lnTo>
                    <a:lnTo>
                      <a:pt x="18917" y="37"/>
                    </a:lnTo>
                    <a:lnTo>
                      <a:pt x="19958" y="0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2539440" y="3267000"/>
                <a:ext cx="598320" cy="1918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19981"/>
                    </a:moveTo>
                    <a:lnTo>
                      <a:pt x="18958" y="18390"/>
                    </a:lnTo>
                    <a:lnTo>
                      <a:pt x="18042" y="16873"/>
                    </a:lnTo>
                    <a:lnTo>
                      <a:pt x="17000" y="15356"/>
                    </a:lnTo>
                    <a:lnTo>
                      <a:pt x="16042" y="13747"/>
                    </a:lnTo>
                    <a:lnTo>
                      <a:pt x="14958" y="12340"/>
                    </a:lnTo>
                    <a:lnTo>
                      <a:pt x="14042" y="10953"/>
                    </a:lnTo>
                    <a:lnTo>
                      <a:pt x="12958" y="9584"/>
                    </a:lnTo>
                    <a:lnTo>
                      <a:pt x="12000" y="8252"/>
                    </a:lnTo>
                    <a:lnTo>
                      <a:pt x="11000" y="7012"/>
                    </a:lnTo>
                    <a:lnTo>
                      <a:pt x="10042" y="5920"/>
                    </a:lnTo>
                    <a:lnTo>
                      <a:pt x="9000" y="4847"/>
                    </a:lnTo>
                    <a:lnTo>
                      <a:pt x="8000" y="3793"/>
                    </a:lnTo>
                    <a:lnTo>
                      <a:pt x="7000" y="3016"/>
                    </a:lnTo>
                    <a:lnTo>
                      <a:pt x="6042" y="2239"/>
                    </a:lnTo>
                    <a:lnTo>
                      <a:pt x="5042" y="1536"/>
                    </a:lnTo>
                    <a:lnTo>
                      <a:pt x="4000" y="962"/>
                    </a:lnTo>
                    <a:lnTo>
                      <a:pt x="3000" y="592"/>
                    </a:lnTo>
                    <a:lnTo>
                      <a:pt x="2042" y="222"/>
                    </a:lnTo>
                    <a:lnTo>
                      <a:pt x="1042" y="37"/>
                    </a:lnTo>
                    <a:lnTo>
                      <a:pt x="0" y="0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7" name=""/>
            <p:cNvGrpSpPr/>
            <p:nvPr/>
          </p:nvGrpSpPr>
          <p:grpSpPr>
            <a:xfrm>
              <a:off x="3135960" y="3458880"/>
              <a:ext cx="1198080" cy="191880"/>
              <a:chOff x="3135960" y="3458880"/>
              <a:chExt cx="1198080" cy="191880"/>
            </a:xfrm>
          </p:grpSpPr>
          <p:sp>
            <p:nvSpPr>
              <p:cNvPr id="248" name=""/>
              <p:cNvSpPr/>
              <p:nvPr/>
            </p:nvSpPr>
            <p:spPr>
              <a:xfrm>
                <a:off x="3135960" y="3458880"/>
                <a:ext cx="599040" cy="1918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0"/>
                    </a:moveTo>
                    <a:lnTo>
                      <a:pt x="1042" y="1591"/>
                    </a:lnTo>
                    <a:lnTo>
                      <a:pt x="1958" y="3108"/>
                    </a:lnTo>
                    <a:lnTo>
                      <a:pt x="3000" y="4625"/>
                    </a:lnTo>
                    <a:lnTo>
                      <a:pt x="3958" y="6253"/>
                    </a:lnTo>
                    <a:lnTo>
                      <a:pt x="5042" y="7660"/>
                    </a:lnTo>
                    <a:lnTo>
                      <a:pt x="5958" y="9029"/>
                    </a:lnTo>
                    <a:lnTo>
                      <a:pt x="7000" y="10416"/>
                    </a:lnTo>
                    <a:lnTo>
                      <a:pt x="7958" y="11730"/>
                    </a:lnTo>
                    <a:lnTo>
                      <a:pt x="9000" y="12969"/>
                    </a:lnTo>
                    <a:lnTo>
                      <a:pt x="10042" y="14080"/>
                    </a:lnTo>
                    <a:lnTo>
                      <a:pt x="11000" y="15134"/>
                    </a:lnTo>
                    <a:lnTo>
                      <a:pt x="12000" y="16189"/>
                    </a:lnTo>
                    <a:lnTo>
                      <a:pt x="12958" y="16984"/>
                    </a:lnTo>
                    <a:lnTo>
                      <a:pt x="14042" y="17743"/>
                    </a:lnTo>
                    <a:lnTo>
                      <a:pt x="14958" y="18464"/>
                    </a:lnTo>
                    <a:lnTo>
                      <a:pt x="16000" y="19019"/>
                    </a:lnTo>
                    <a:lnTo>
                      <a:pt x="16958" y="19408"/>
                    </a:lnTo>
                    <a:lnTo>
                      <a:pt x="18042" y="19759"/>
                    </a:lnTo>
                    <a:lnTo>
                      <a:pt x="18917" y="19944"/>
                    </a:lnTo>
                    <a:lnTo>
                      <a:pt x="19958" y="19981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3735000" y="3458880"/>
                <a:ext cx="599040" cy="1918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0"/>
                    </a:moveTo>
                    <a:lnTo>
                      <a:pt x="18958" y="1591"/>
                    </a:lnTo>
                    <a:lnTo>
                      <a:pt x="18042" y="3108"/>
                    </a:lnTo>
                    <a:lnTo>
                      <a:pt x="17000" y="4625"/>
                    </a:lnTo>
                    <a:lnTo>
                      <a:pt x="16042" y="6253"/>
                    </a:lnTo>
                    <a:lnTo>
                      <a:pt x="14958" y="7660"/>
                    </a:lnTo>
                    <a:lnTo>
                      <a:pt x="14042" y="9029"/>
                    </a:lnTo>
                    <a:lnTo>
                      <a:pt x="12958" y="10416"/>
                    </a:lnTo>
                    <a:lnTo>
                      <a:pt x="12000" y="11730"/>
                    </a:lnTo>
                    <a:lnTo>
                      <a:pt x="11000" y="12969"/>
                    </a:lnTo>
                    <a:lnTo>
                      <a:pt x="10042" y="14080"/>
                    </a:lnTo>
                    <a:lnTo>
                      <a:pt x="9000" y="15134"/>
                    </a:lnTo>
                    <a:lnTo>
                      <a:pt x="8000" y="16189"/>
                    </a:lnTo>
                    <a:lnTo>
                      <a:pt x="7000" y="16984"/>
                    </a:lnTo>
                    <a:lnTo>
                      <a:pt x="6042" y="17743"/>
                    </a:lnTo>
                    <a:lnTo>
                      <a:pt x="5042" y="18464"/>
                    </a:lnTo>
                    <a:lnTo>
                      <a:pt x="4000" y="19019"/>
                    </a:lnTo>
                    <a:lnTo>
                      <a:pt x="3000" y="19408"/>
                    </a:lnTo>
                    <a:lnTo>
                      <a:pt x="2042" y="19759"/>
                    </a:lnTo>
                    <a:lnTo>
                      <a:pt x="1042" y="19944"/>
                    </a:lnTo>
                    <a:lnTo>
                      <a:pt x="0" y="19981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334400" y="3267000"/>
              <a:ext cx="598320" cy="1918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19981"/>
                  </a:moveTo>
                  <a:lnTo>
                    <a:pt x="1042" y="18390"/>
                  </a:lnTo>
                  <a:lnTo>
                    <a:pt x="1958" y="16873"/>
                  </a:lnTo>
                  <a:lnTo>
                    <a:pt x="3000" y="15356"/>
                  </a:lnTo>
                  <a:lnTo>
                    <a:pt x="3958" y="13747"/>
                  </a:lnTo>
                  <a:lnTo>
                    <a:pt x="5042" y="12340"/>
                  </a:lnTo>
                  <a:lnTo>
                    <a:pt x="5958" y="10953"/>
                  </a:lnTo>
                  <a:lnTo>
                    <a:pt x="7000" y="9584"/>
                  </a:lnTo>
                  <a:lnTo>
                    <a:pt x="7958" y="8252"/>
                  </a:lnTo>
                  <a:lnTo>
                    <a:pt x="9000" y="7012"/>
                  </a:lnTo>
                  <a:lnTo>
                    <a:pt x="10042" y="5920"/>
                  </a:lnTo>
                  <a:lnTo>
                    <a:pt x="11000" y="4847"/>
                  </a:lnTo>
                  <a:lnTo>
                    <a:pt x="12000" y="3793"/>
                  </a:lnTo>
                  <a:lnTo>
                    <a:pt x="12958" y="3016"/>
                  </a:lnTo>
                  <a:lnTo>
                    <a:pt x="14042" y="2239"/>
                  </a:lnTo>
                  <a:lnTo>
                    <a:pt x="14958" y="1536"/>
                  </a:lnTo>
                  <a:lnTo>
                    <a:pt x="16000" y="962"/>
                  </a:lnTo>
                  <a:lnTo>
                    <a:pt x="16958" y="592"/>
                  </a:lnTo>
                  <a:lnTo>
                    <a:pt x="18042" y="222"/>
                  </a:lnTo>
                  <a:lnTo>
                    <a:pt x="18917" y="37"/>
                  </a:lnTo>
                  <a:lnTo>
                    <a:pt x="19958" y="0"/>
                  </a:ln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934880" y="3267000"/>
              <a:ext cx="597600" cy="1918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58" y="19981"/>
                  </a:moveTo>
                  <a:lnTo>
                    <a:pt x="18958" y="18390"/>
                  </a:lnTo>
                  <a:lnTo>
                    <a:pt x="18042" y="16873"/>
                  </a:lnTo>
                  <a:lnTo>
                    <a:pt x="17000" y="15356"/>
                  </a:lnTo>
                  <a:lnTo>
                    <a:pt x="16042" y="13747"/>
                  </a:lnTo>
                  <a:lnTo>
                    <a:pt x="14958" y="12340"/>
                  </a:lnTo>
                  <a:lnTo>
                    <a:pt x="14042" y="10953"/>
                  </a:lnTo>
                  <a:lnTo>
                    <a:pt x="12958" y="9584"/>
                  </a:lnTo>
                  <a:lnTo>
                    <a:pt x="12000" y="8252"/>
                  </a:lnTo>
                  <a:lnTo>
                    <a:pt x="11000" y="7012"/>
                  </a:lnTo>
                  <a:lnTo>
                    <a:pt x="10042" y="5920"/>
                  </a:lnTo>
                  <a:lnTo>
                    <a:pt x="9000" y="4847"/>
                  </a:lnTo>
                  <a:lnTo>
                    <a:pt x="8000" y="3793"/>
                  </a:lnTo>
                  <a:lnTo>
                    <a:pt x="7000" y="3016"/>
                  </a:lnTo>
                  <a:lnTo>
                    <a:pt x="6042" y="2239"/>
                  </a:lnTo>
                  <a:lnTo>
                    <a:pt x="5042" y="1536"/>
                  </a:lnTo>
                  <a:lnTo>
                    <a:pt x="4000" y="962"/>
                  </a:lnTo>
                  <a:lnTo>
                    <a:pt x="3000" y="592"/>
                  </a:lnTo>
                  <a:lnTo>
                    <a:pt x="2042" y="222"/>
                  </a:lnTo>
                  <a:lnTo>
                    <a:pt x="1042" y="37"/>
                  </a:ln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532840" y="3458880"/>
              <a:ext cx="598320" cy="1918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1042" y="1591"/>
                  </a:lnTo>
                  <a:lnTo>
                    <a:pt x="1958" y="3108"/>
                  </a:lnTo>
                  <a:lnTo>
                    <a:pt x="3000" y="4625"/>
                  </a:lnTo>
                  <a:lnTo>
                    <a:pt x="3958" y="6253"/>
                  </a:lnTo>
                  <a:lnTo>
                    <a:pt x="5042" y="7660"/>
                  </a:lnTo>
                  <a:lnTo>
                    <a:pt x="5958" y="9029"/>
                  </a:lnTo>
                  <a:lnTo>
                    <a:pt x="7000" y="10416"/>
                  </a:lnTo>
                  <a:lnTo>
                    <a:pt x="7958" y="11730"/>
                  </a:lnTo>
                  <a:lnTo>
                    <a:pt x="9000" y="12969"/>
                  </a:lnTo>
                  <a:lnTo>
                    <a:pt x="10042" y="14080"/>
                  </a:lnTo>
                  <a:lnTo>
                    <a:pt x="11000" y="15134"/>
                  </a:lnTo>
                  <a:lnTo>
                    <a:pt x="12000" y="16189"/>
                  </a:lnTo>
                  <a:lnTo>
                    <a:pt x="12958" y="16984"/>
                  </a:lnTo>
                  <a:lnTo>
                    <a:pt x="14042" y="17743"/>
                  </a:lnTo>
                  <a:lnTo>
                    <a:pt x="14958" y="18464"/>
                  </a:lnTo>
                  <a:lnTo>
                    <a:pt x="16000" y="19019"/>
                  </a:lnTo>
                  <a:lnTo>
                    <a:pt x="16958" y="19408"/>
                  </a:lnTo>
                  <a:lnTo>
                    <a:pt x="18042" y="19759"/>
                  </a:lnTo>
                  <a:lnTo>
                    <a:pt x="18917" y="19944"/>
                  </a:lnTo>
                  <a:lnTo>
                    <a:pt x="19958" y="19981"/>
                  </a:ln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135840" y="3458880"/>
              <a:ext cx="597600" cy="1918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58" y="0"/>
                  </a:moveTo>
                  <a:lnTo>
                    <a:pt x="18958" y="1591"/>
                  </a:lnTo>
                  <a:lnTo>
                    <a:pt x="18042" y="3108"/>
                  </a:lnTo>
                  <a:lnTo>
                    <a:pt x="17000" y="4625"/>
                  </a:lnTo>
                  <a:lnTo>
                    <a:pt x="16042" y="6253"/>
                  </a:lnTo>
                  <a:lnTo>
                    <a:pt x="14958" y="7660"/>
                  </a:lnTo>
                  <a:lnTo>
                    <a:pt x="14042" y="9029"/>
                  </a:lnTo>
                  <a:lnTo>
                    <a:pt x="12958" y="10416"/>
                  </a:lnTo>
                  <a:lnTo>
                    <a:pt x="12000" y="11730"/>
                  </a:lnTo>
                  <a:lnTo>
                    <a:pt x="11000" y="12969"/>
                  </a:lnTo>
                  <a:lnTo>
                    <a:pt x="10042" y="14080"/>
                  </a:lnTo>
                  <a:lnTo>
                    <a:pt x="9000" y="15134"/>
                  </a:lnTo>
                  <a:lnTo>
                    <a:pt x="8000" y="16189"/>
                  </a:lnTo>
                  <a:lnTo>
                    <a:pt x="7000" y="16984"/>
                  </a:lnTo>
                  <a:lnTo>
                    <a:pt x="6042" y="17743"/>
                  </a:lnTo>
                  <a:lnTo>
                    <a:pt x="5042" y="18464"/>
                  </a:lnTo>
                  <a:lnTo>
                    <a:pt x="4000" y="19019"/>
                  </a:lnTo>
                  <a:lnTo>
                    <a:pt x="3000" y="19408"/>
                  </a:lnTo>
                  <a:lnTo>
                    <a:pt x="2042" y="19759"/>
                  </a:lnTo>
                  <a:lnTo>
                    <a:pt x="1042" y="19944"/>
                  </a:lnTo>
                  <a:lnTo>
                    <a:pt x="0" y="19981"/>
                  </a:ln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4" name=""/>
          <p:cNvSpPr/>
          <p:nvPr/>
        </p:nvSpPr>
        <p:spPr>
          <a:xfrm>
            <a:off x="4235400" y="311472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554880" y="3129120"/>
            <a:ext cx="43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s-E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066680" y="5494320"/>
            <a:ext cx="6147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1936800" y="4324320"/>
            <a:ext cx="0" cy="2098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1606680" y="3952800"/>
            <a:ext cx="5857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0" lang="es-E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i="1" lang="es-ES" sz="24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es-E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7118280" y="5295960"/>
            <a:ext cx="26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35400" y="51516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554880" y="5165640"/>
            <a:ext cx="43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s-E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2260440" y="4675320"/>
            <a:ext cx="1194120" cy="819000"/>
            <a:chOff x="2260440" y="4675320"/>
            <a:chExt cx="1194120" cy="819000"/>
          </a:xfrm>
        </p:grpSpPr>
        <p:sp>
          <p:nvSpPr>
            <p:cNvPr id="263" name=""/>
            <p:cNvSpPr/>
            <p:nvPr/>
          </p:nvSpPr>
          <p:spPr>
            <a:xfrm>
              <a:off x="2260440" y="4676040"/>
              <a:ext cx="596520" cy="8182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19981"/>
                  </a:moveTo>
                  <a:lnTo>
                    <a:pt x="1042" y="18390"/>
                  </a:lnTo>
                  <a:lnTo>
                    <a:pt x="1958" y="16873"/>
                  </a:lnTo>
                  <a:lnTo>
                    <a:pt x="3000" y="15356"/>
                  </a:lnTo>
                  <a:lnTo>
                    <a:pt x="3958" y="13747"/>
                  </a:lnTo>
                  <a:lnTo>
                    <a:pt x="5042" y="12340"/>
                  </a:lnTo>
                  <a:lnTo>
                    <a:pt x="5958" y="10953"/>
                  </a:lnTo>
                  <a:lnTo>
                    <a:pt x="7000" y="9584"/>
                  </a:lnTo>
                  <a:lnTo>
                    <a:pt x="7958" y="8252"/>
                  </a:lnTo>
                  <a:lnTo>
                    <a:pt x="9000" y="7012"/>
                  </a:lnTo>
                  <a:lnTo>
                    <a:pt x="10042" y="5920"/>
                  </a:lnTo>
                  <a:lnTo>
                    <a:pt x="11000" y="4847"/>
                  </a:lnTo>
                  <a:lnTo>
                    <a:pt x="12000" y="3793"/>
                  </a:lnTo>
                  <a:lnTo>
                    <a:pt x="12958" y="3016"/>
                  </a:lnTo>
                  <a:lnTo>
                    <a:pt x="14042" y="2239"/>
                  </a:lnTo>
                  <a:lnTo>
                    <a:pt x="14958" y="1536"/>
                  </a:lnTo>
                  <a:lnTo>
                    <a:pt x="16000" y="962"/>
                  </a:lnTo>
                  <a:lnTo>
                    <a:pt x="16958" y="592"/>
                  </a:lnTo>
                  <a:lnTo>
                    <a:pt x="18042" y="222"/>
                  </a:lnTo>
                  <a:lnTo>
                    <a:pt x="18917" y="37"/>
                  </a:lnTo>
                  <a:lnTo>
                    <a:pt x="19958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858040" y="4675320"/>
              <a:ext cx="596520" cy="8182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58" y="19981"/>
                  </a:moveTo>
                  <a:lnTo>
                    <a:pt x="18958" y="18390"/>
                  </a:lnTo>
                  <a:lnTo>
                    <a:pt x="18042" y="16873"/>
                  </a:lnTo>
                  <a:lnTo>
                    <a:pt x="17000" y="15356"/>
                  </a:lnTo>
                  <a:lnTo>
                    <a:pt x="16042" y="13747"/>
                  </a:lnTo>
                  <a:lnTo>
                    <a:pt x="14958" y="12340"/>
                  </a:lnTo>
                  <a:lnTo>
                    <a:pt x="14042" y="10953"/>
                  </a:lnTo>
                  <a:lnTo>
                    <a:pt x="12958" y="9584"/>
                  </a:lnTo>
                  <a:lnTo>
                    <a:pt x="12000" y="8252"/>
                  </a:lnTo>
                  <a:lnTo>
                    <a:pt x="11000" y="7012"/>
                  </a:lnTo>
                  <a:lnTo>
                    <a:pt x="10042" y="5920"/>
                  </a:lnTo>
                  <a:lnTo>
                    <a:pt x="9000" y="4847"/>
                  </a:lnTo>
                  <a:lnTo>
                    <a:pt x="8000" y="3793"/>
                  </a:lnTo>
                  <a:lnTo>
                    <a:pt x="7000" y="3016"/>
                  </a:lnTo>
                  <a:lnTo>
                    <a:pt x="6042" y="2239"/>
                  </a:lnTo>
                  <a:lnTo>
                    <a:pt x="5042" y="1536"/>
                  </a:lnTo>
                  <a:lnTo>
                    <a:pt x="4000" y="962"/>
                  </a:lnTo>
                  <a:lnTo>
                    <a:pt x="3000" y="592"/>
                  </a:lnTo>
                  <a:lnTo>
                    <a:pt x="2042" y="222"/>
                  </a:lnTo>
                  <a:lnTo>
                    <a:pt x="1042" y="37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" name=""/>
          <p:cNvGrpSpPr/>
          <p:nvPr/>
        </p:nvGrpSpPr>
        <p:grpSpPr>
          <a:xfrm>
            <a:off x="3456000" y="5491080"/>
            <a:ext cx="1195200" cy="819360"/>
            <a:chOff x="3456000" y="5491080"/>
            <a:chExt cx="1195200" cy="819360"/>
          </a:xfrm>
        </p:grpSpPr>
        <p:sp>
          <p:nvSpPr>
            <p:cNvPr id="266" name=""/>
            <p:cNvSpPr/>
            <p:nvPr/>
          </p:nvSpPr>
          <p:spPr>
            <a:xfrm>
              <a:off x="3456000" y="5491080"/>
              <a:ext cx="595800" cy="8186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1042" y="1591"/>
                  </a:lnTo>
                  <a:lnTo>
                    <a:pt x="1958" y="3108"/>
                  </a:lnTo>
                  <a:lnTo>
                    <a:pt x="3000" y="4625"/>
                  </a:lnTo>
                  <a:lnTo>
                    <a:pt x="3958" y="6253"/>
                  </a:lnTo>
                  <a:lnTo>
                    <a:pt x="5042" y="7660"/>
                  </a:lnTo>
                  <a:lnTo>
                    <a:pt x="5958" y="9029"/>
                  </a:lnTo>
                  <a:lnTo>
                    <a:pt x="7000" y="10416"/>
                  </a:lnTo>
                  <a:lnTo>
                    <a:pt x="7958" y="11730"/>
                  </a:lnTo>
                  <a:lnTo>
                    <a:pt x="9000" y="12969"/>
                  </a:lnTo>
                  <a:lnTo>
                    <a:pt x="10042" y="14080"/>
                  </a:lnTo>
                  <a:lnTo>
                    <a:pt x="11000" y="15134"/>
                  </a:lnTo>
                  <a:lnTo>
                    <a:pt x="12000" y="16189"/>
                  </a:lnTo>
                  <a:lnTo>
                    <a:pt x="12958" y="16984"/>
                  </a:lnTo>
                  <a:lnTo>
                    <a:pt x="14042" y="17743"/>
                  </a:lnTo>
                  <a:lnTo>
                    <a:pt x="14958" y="18464"/>
                  </a:lnTo>
                  <a:lnTo>
                    <a:pt x="16000" y="19019"/>
                  </a:lnTo>
                  <a:lnTo>
                    <a:pt x="16958" y="19408"/>
                  </a:lnTo>
                  <a:lnTo>
                    <a:pt x="18042" y="19759"/>
                  </a:lnTo>
                  <a:lnTo>
                    <a:pt x="18917" y="19944"/>
                  </a:lnTo>
                  <a:lnTo>
                    <a:pt x="19958" y="1998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055400" y="5491800"/>
              <a:ext cx="595800" cy="8186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58" y="0"/>
                  </a:moveTo>
                  <a:lnTo>
                    <a:pt x="18958" y="1591"/>
                  </a:lnTo>
                  <a:lnTo>
                    <a:pt x="18042" y="3108"/>
                  </a:lnTo>
                  <a:lnTo>
                    <a:pt x="17000" y="4625"/>
                  </a:lnTo>
                  <a:lnTo>
                    <a:pt x="16042" y="6253"/>
                  </a:lnTo>
                  <a:lnTo>
                    <a:pt x="14958" y="7660"/>
                  </a:lnTo>
                  <a:lnTo>
                    <a:pt x="14042" y="9029"/>
                  </a:lnTo>
                  <a:lnTo>
                    <a:pt x="12958" y="10416"/>
                  </a:lnTo>
                  <a:lnTo>
                    <a:pt x="12000" y="11730"/>
                  </a:lnTo>
                  <a:lnTo>
                    <a:pt x="11000" y="12969"/>
                  </a:lnTo>
                  <a:lnTo>
                    <a:pt x="10042" y="14080"/>
                  </a:lnTo>
                  <a:lnTo>
                    <a:pt x="9000" y="15134"/>
                  </a:lnTo>
                  <a:lnTo>
                    <a:pt x="8000" y="16189"/>
                  </a:lnTo>
                  <a:lnTo>
                    <a:pt x="7000" y="16984"/>
                  </a:lnTo>
                  <a:lnTo>
                    <a:pt x="6042" y="17743"/>
                  </a:lnTo>
                  <a:lnTo>
                    <a:pt x="5042" y="18464"/>
                  </a:lnTo>
                  <a:lnTo>
                    <a:pt x="4000" y="19019"/>
                  </a:lnTo>
                  <a:lnTo>
                    <a:pt x="3000" y="19408"/>
                  </a:lnTo>
                  <a:lnTo>
                    <a:pt x="2042" y="19759"/>
                  </a:lnTo>
                  <a:lnTo>
                    <a:pt x="1042" y="19944"/>
                  </a:lnTo>
                  <a:lnTo>
                    <a:pt x="0" y="1998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4651200" y="4676760"/>
            <a:ext cx="597240" cy="81612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0" y="19981"/>
                </a:moveTo>
                <a:lnTo>
                  <a:pt x="1042" y="18390"/>
                </a:lnTo>
                <a:lnTo>
                  <a:pt x="1958" y="16873"/>
                </a:lnTo>
                <a:lnTo>
                  <a:pt x="3000" y="15356"/>
                </a:lnTo>
                <a:lnTo>
                  <a:pt x="3958" y="13747"/>
                </a:lnTo>
                <a:lnTo>
                  <a:pt x="5042" y="12340"/>
                </a:lnTo>
                <a:lnTo>
                  <a:pt x="5958" y="10953"/>
                </a:lnTo>
                <a:lnTo>
                  <a:pt x="7000" y="9584"/>
                </a:lnTo>
                <a:lnTo>
                  <a:pt x="7958" y="8252"/>
                </a:lnTo>
                <a:lnTo>
                  <a:pt x="9000" y="7012"/>
                </a:lnTo>
                <a:lnTo>
                  <a:pt x="10042" y="5920"/>
                </a:lnTo>
                <a:lnTo>
                  <a:pt x="11000" y="4847"/>
                </a:lnTo>
                <a:lnTo>
                  <a:pt x="12000" y="3793"/>
                </a:lnTo>
                <a:lnTo>
                  <a:pt x="12958" y="3016"/>
                </a:lnTo>
                <a:lnTo>
                  <a:pt x="14042" y="2239"/>
                </a:lnTo>
                <a:lnTo>
                  <a:pt x="14958" y="1536"/>
                </a:lnTo>
                <a:lnTo>
                  <a:pt x="16000" y="962"/>
                </a:lnTo>
                <a:lnTo>
                  <a:pt x="16958" y="592"/>
                </a:lnTo>
                <a:lnTo>
                  <a:pt x="18042" y="222"/>
                </a:lnTo>
                <a:lnTo>
                  <a:pt x="18917" y="37"/>
                </a:lnTo>
                <a:lnTo>
                  <a:pt x="19958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248440" y="4675320"/>
            <a:ext cx="596880" cy="81576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19958" y="19981"/>
                </a:moveTo>
                <a:lnTo>
                  <a:pt x="18958" y="18390"/>
                </a:lnTo>
                <a:lnTo>
                  <a:pt x="18042" y="16873"/>
                </a:lnTo>
                <a:lnTo>
                  <a:pt x="17000" y="15356"/>
                </a:lnTo>
                <a:lnTo>
                  <a:pt x="16042" y="13747"/>
                </a:lnTo>
                <a:lnTo>
                  <a:pt x="14958" y="12340"/>
                </a:lnTo>
                <a:lnTo>
                  <a:pt x="14042" y="10953"/>
                </a:lnTo>
                <a:lnTo>
                  <a:pt x="12958" y="9584"/>
                </a:lnTo>
                <a:lnTo>
                  <a:pt x="12000" y="8252"/>
                </a:lnTo>
                <a:lnTo>
                  <a:pt x="11000" y="7012"/>
                </a:lnTo>
                <a:lnTo>
                  <a:pt x="10042" y="5920"/>
                </a:lnTo>
                <a:lnTo>
                  <a:pt x="9000" y="4847"/>
                </a:lnTo>
                <a:lnTo>
                  <a:pt x="8000" y="3793"/>
                </a:lnTo>
                <a:lnTo>
                  <a:pt x="7000" y="3016"/>
                </a:lnTo>
                <a:lnTo>
                  <a:pt x="6042" y="2239"/>
                </a:lnTo>
                <a:lnTo>
                  <a:pt x="5042" y="1536"/>
                </a:lnTo>
                <a:lnTo>
                  <a:pt x="4000" y="962"/>
                </a:lnTo>
                <a:lnTo>
                  <a:pt x="3000" y="592"/>
                </a:lnTo>
                <a:lnTo>
                  <a:pt x="2042" y="222"/>
                </a:lnTo>
                <a:lnTo>
                  <a:pt x="1042" y="37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5850000" y="5489640"/>
            <a:ext cx="596880" cy="81756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0" y="0"/>
                </a:moveTo>
                <a:lnTo>
                  <a:pt x="1042" y="1591"/>
                </a:lnTo>
                <a:lnTo>
                  <a:pt x="1958" y="3108"/>
                </a:lnTo>
                <a:lnTo>
                  <a:pt x="3000" y="4625"/>
                </a:lnTo>
                <a:lnTo>
                  <a:pt x="3958" y="6253"/>
                </a:lnTo>
                <a:lnTo>
                  <a:pt x="5042" y="7660"/>
                </a:lnTo>
                <a:lnTo>
                  <a:pt x="5958" y="9029"/>
                </a:lnTo>
                <a:lnTo>
                  <a:pt x="7000" y="10416"/>
                </a:lnTo>
                <a:lnTo>
                  <a:pt x="7958" y="11730"/>
                </a:lnTo>
                <a:lnTo>
                  <a:pt x="9000" y="12969"/>
                </a:lnTo>
                <a:lnTo>
                  <a:pt x="10042" y="14080"/>
                </a:lnTo>
                <a:lnTo>
                  <a:pt x="11000" y="15134"/>
                </a:lnTo>
                <a:lnTo>
                  <a:pt x="12000" y="16189"/>
                </a:lnTo>
                <a:lnTo>
                  <a:pt x="12958" y="16984"/>
                </a:lnTo>
                <a:lnTo>
                  <a:pt x="14042" y="17743"/>
                </a:lnTo>
                <a:lnTo>
                  <a:pt x="14958" y="18464"/>
                </a:lnTo>
                <a:lnTo>
                  <a:pt x="16000" y="19019"/>
                </a:lnTo>
                <a:lnTo>
                  <a:pt x="16958" y="19408"/>
                </a:lnTo>
                <a:lnTo>
                  <a:pt x="18042" y="19759"/>
                </a:lnTo>
                <a:lnTo>
                  <a:pt x="18917" y="19944"/>
                </a:lnTo>
                <a:lnTo>
                  <a:pt x="19958" y="1998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437160" y="6108840"/>
            <a:ext cx="266760" cy="198360"/>
          </a:xfrm>
          <a:custGeom>
            <a:avLst/>
            <a:gdLst/>
            <a:ahLst/>
            <a:rect l="l" t="t" r="r" b="b"/>
            <a:pathLst>
              <a:path w="56" h="68">
                <a:moveTo>
                  <a:pt x="56" y="0"/>
                </a:moveTo>
                <a:lnTo>
                  <a:pt x="50" y="14"/>
                </a:lnTo>
                <a:lnTo>
                  <a:pt x="44" y="26"/>
                </a:lnTo>
                <a:lnTo>
                  <a:pt x="38" y="36"/>
                </a:lnTo>
                <a:lnTo>
                  <a:pt x="32" y="46"/>
                </a:lnTo>
                <a:lnTo>
                  <a:pt x="25" y="54"/>
                </a:lnTo>
                <a:lnTo>
                  <a:pt x="19" y="60"/>
                </a:lnTo>
                <a:lnTo>
                  <a:pt x="13" y="65"/>
                </a:lnTo>
                <a:lnTo>
                  <a:pt x="7" y="67"/>
                </a:lnTo>
                <a:lnTo>
                  <a:pt x="0" y="6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936800" y="5489640"/>
            <a:ext cx="328680" cy="619200"/>
          </a:xfrm>
          <a:custGeom>
            <a:avLst/>
            <a:gdLst/>
            <a:ahLst/>
            <a:rect l="l" t="t" r="r" b="b"/>
            <a:pathLst>
              <a:path w="69" h="213">
                <a:moveTo>
                  <a:pt x="69" y="0"/>
                </a:moveTo>
                <a:lnTo>
                  <a:pt x="57" y="44"/>
                </a:lnTo>
                <a:lnTo>
                  <a:pt x="44" y="88"/>
                </a:lnTo>
                <a:lnTo>
                  <a:pt x="32" y="127"/>
                </a:lnTo>
                <a:lnTo>
                  <a:pt x="25" y="146"/>
                </a:lnTo>
                <a:lnTo>
                  <a:pt x="19" y="165"/>
                </a:lnTo>
                <a:lnTo>
                  <a:pt x="13" y="182"/>
                </a:lnTo>
                <a:lnTo>
                  <a:pt x="7" y="198"/>
                </a:lnTo>
                <a:lnTo>
                  <a:pt x="0" y="21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131920" y="545148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9999"/>
                </a:solidFill>
                <a:latin typeface="Symbol"/>
                <a:ea typeface="Symbol"/>
              </a:rPr>
              <a:t></a:t>
            </a:r>
            <a:r>
              <a:rPr b="0" lang="es-ES" sz="1800" spc="-1" strike="noStrike">
                <a:solidFill>
                  <a:srgbClr val="009999"/>
                </a:solidFill>
                <a:latin typeface="Symbol"/>
                <a:ea typeface="Symbol"/>
              </a:rPr>
              <a:t>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624040" y="4299120"/>
            <a:ext cx="455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1606680" y="2690640"/>
            <a:ext cx="5857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333399"/>
                </a:solidFill>
                <a:latin typeface="Times New Roman"/>
              </a:rPr>
              <a:t>x</a:t>
            </a:r>
            <a:r>
              <a:rPr b="0" lang="es-ES" sz="2400" spc="-1" strike="noStrike">
                <a:solidFill>
                  <a:srgbClr val="333399"/>
                </a:solidFill>
                <a:latin typeface="Times New Roman"/>
              </a:rPr>
              <a:t>(</a:t>
            </a:r>
            <a:r>
              <a:rPr b="0" i="1" lang="es-ES" sz="2400" spc="-1" strike="noStrike">
                <a:solidFill>
                  <a:srgbClr val="333399"/>
                </a:solidFill>
                <a:latin typeface="Times New Roman"/>
              </a:rPr>
              <a:t>t</a:t>
            </a:r>
            <a:r>
              <a:rPr b="0" lang="es-ES" sz="2400" spc="-1" strike="noStrike">
                <a:solidFill>
                  <a:srgbClr val="333399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57040" y="4435560"/>
            <a:ext cx="131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9999"/>
                </a:solidFill>
                <a:latin typeface="Symbol"/>
                <a:ea typeface="Symbol"/>
              </a:rPr>
              <a:t></a:t>
            </a:r>
            <a:r>
              <a:rPr b="0" lang="es-ES" sz="3600" spc="-1" strike="noStrike">
                <a:solidFill>
                  <a:srgbClr val="009999"/>
                </a:solidFill>
                <a:latin typeface="Times New Roman"/>
              </a:rPr>
              <a:t> </a:t>
            </a:r>
            <a:r>
              <a:rPr b="0" lang="es-ES" sz="3600" spc="-1" strike="noStrike">
                <a:solidFill>
                  <a:srgbClr val="009999"/>
                </a:solidFill>
                <a:latin typeface="Times New Roman"/>
              </a:rPr>
              <a:t>&lt; 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133880" y="54514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9999"/>
                </a:solidFill>
                <a:latin typeface="Times New Roman"/>
              </a:rPr>
              <a:t>2</a:t>
            </a:r>
            <a:r>
              <a:rPr b="0" lang="es-ES" sz="1800" spc="-1" strike="noStrike">
                <a:solidFill>
                  <a:srgbClr val="009999"/>
                </a:solidFill>
                <a:latin typeface="Symbol"/>
                <a:ea typeface="Symbol"/>
              </a:rPr>
              <a:t>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499080" y="54514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9999"/>
                </a:solidFill>
                <a:latin typeface="Times New Roman"/>
              </a:rPr>
              <a:t>4</a:t>
            </a:r>
            <a:r>
              <a:rPr b="0" lang="es-ES" sz="1800" spc="-1" strike="noStrike">
                <a:solidFill>
                  <a:srgbClr val="009999"/>
                </a:solidFill>
                <a:latin typeface="Symbol"/>
                <a:ea typeface="Symbol"/>
              </a:rPr>
              <a:t>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133880" y="34495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9999"/>
                </a:solidFill>
                <a:latin typeface="Times New Roman"/>
              </a:rPr>
              <a:t>2</a:t>
            </a:r>
            <a:r>
              <a:rPr b="0" lang="es-ES" sz="1800" spc="-1" strike="noStrike">
                <a:solidFill>
                  <a:srgbClr val="009999"/>
                </a:solidFill>
                <a:latin typeface="Symbol"/>
                <a:ea typeface="Symbol"/>
              </a:rPr>
              <a:t>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499080" y="34495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9999"/>
                </a:solidFill>
                <a:latin typeface="Times New Roman"/>
              </a:rPr>
              <a:t>4</a:t>
            </a:r>
            <a:r>
              <a:rPr b="0" lang="es-ES" sz="1800" spc="-1" strike="noStrike">
                <a:solidFill>
                  <a:srgbClr val="009999"/>
                </a:solidFill>
                <a:latin typeface="Symbol"/>
                <a:ea typeface="Symbol"/>
              </a:rPr>
              <a:t>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047A8-FDB8-4DBB-829D-155AC01F7306}" type="slidenum">
              <a:t>15</a:t>
            </a:fld>
          </a:p>
        </p:txBody>
      </p:sp>
    </p:spTree>
  </p:cSld>
  <p:transition>
    <p:fade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826920" y="958320"/>
            <a:ext cx="7490160" cy="46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Ejemplo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Las mareas responden a la acción gravitatoria de la Luna y en menor medida del Sol, pero por la inercia del mar, se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retrasan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respecto al ciclo diario de estos astr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04A5A-3836-4644-8920-71CA98F6AFFB}" type="slidenum">
              <a:t>16</a:t>
            </a:fld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826920" y="1263240"/>
            <a:ext cx="7490160" cy="40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Ejemplo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La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inercia térmica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de la atmosfera hace que el ciclo de temperatura ambiente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retrase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respecto al ciclo de irradiación sol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8FCAA-30ED-4D48-AEFE-D2ACC6A65DCE}" type="slidenum">
              <a:t>17</a:t>
            </a:fld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942840" y="1726560"/>
            <a:ext cx="72583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Se introduce la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función de transferencia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como el cociente entre la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salida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y la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entrada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de un sistema. Es función de la frecuenc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D12A1-D25C-4F5F-9422-85FBAC945ACF}" type="slidenum">
              <a:t>18</a:t>
            </a:fld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826920" y="653760"/>
            <a:ext cx="7490160" cy="52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Ejemplo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Las variaciones de temperatura exterior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diarias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(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alta frecuencia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) son atenuadas por la pared, techo, etc. Las variaciones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estacionales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(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baja frecuencia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) no se atenú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D8670-3495-4F7D-B04C-2F25AAB2450F}" type="slidenum">
              <a:t>19</a:t>
            </a:fld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23720" y="1163520"/>
            <a:ext cx="8296560" cy="34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009999"/>
                </a:solidFill>
                <a:latin typeface="Arial"/>
              </a:rPr>
              <a:t>Introducción al concepto de función de transferencia y de impedanci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B9972-86AF-4333-8F00-EABE859497E3}" type="slidenum">
              <a:t>2</a:t>
            </a:fld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987480" y="958320"/>
            <a:ext cx="7169040" cy="46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Ejemplo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Los sonidos externos agudos (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alta frecuencia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)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son atenuados por las paredes. Los sonidos graves (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baja frecuencia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) no se atenú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DB7B3-F800-40C6-A0FE-E11CD0F9E415}" type="slidenum">
              <a:t>20</a:t>
            </a:fld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987480" y="653760"/>
            <a:ext cx="7169040" cy="52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Ejemplo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Si en el control de tonos de un amplificador se aplica ganancia en los graves (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baja frecuencia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)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éstos se acentúan, mientras que los agudos (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alta frecuencia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) no se alter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356B2-6344-4F25-AE1C-4BF9A82CC04D}" type="slidenum">
              <a:t>21</a:t>
            </a:fld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754200" y="899280"/>
            <a:ext cx="76356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En principio se podría intentar hacer el cociente entre los valores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instantáneos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de la salida y la entrad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2684520" y="3700440"/>
            <a:ext cx="3774600" cy="1625400"/>
            <a:chOff x="2684520" y="3700440"/>
            <a:chExt cx="3774600" cy="1625400"/>
          </a:xfrm>
        </p:grpSpPr>
        <p:sp>
          <p:nvSpPr>
            <p:cNvPr id="289" name=""/>
            <p:cNvSpPr/>
            <p:nvPr/>
          </p:nvSpPr>
          <p:spPr>
            <a:xfrm>
              <a:off x="4945680" y="3700440"/>
              <a:ext cx="1163880" cy="82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40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s-ES" sz="40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s-ES" sz="40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s-ES" sz="40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945680" y="4504320"/>
              <a:ext cx="1163880" cy="82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4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s-ES" sz="40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s-ES" sz="40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s-ES" sz="40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684520" y="4127040"/>
              <a:ext cx="3774600" cy="82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40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0" lang="es-ES" sz="40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s-ES" sz="40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s-ES" sz="40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r>
                <a:rPr b="1" lang="es-ES" sz="4000" spc="-1" strike="noStrike">
                  <a:solidFill>
                    <a:srgbClr val="000000"/>
                  </a:solidFill>
                  <a:latin typeface="Times New Roman"/>
                </a:rPr>
                <a:t>  =   </a:t>
              </a:r>
              <a:r>
                <a:rPr b="1" lang="es-ES" sz="4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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53A42-9DD1-4CA2-9C99-4A06F248AA56}" type="slidenum">
              <a:t>22</a:t>
            </a:fld>
          </a:p>
        </p:txBody>
      </p:sp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754200" y="1509120"/>
            <a:ext cx="7635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Esto funcionaría si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no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existiera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desfasaj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3" name=""/>
          <p:cNvGrpSpPr/>
          <p:nvPr/>
        </p:nvGrpSpPr>
        <p:grpSpPr>
          <a:xfrm>
            <a:off x="2684520" y="3700440"/>
            <a:ext cx="3774600" cy="1625400"/>
            <a:chOff x="2684520" y="3700440"/>
            <a:chExt cx="3774600" cy="1625400"/>
          </a:xfrm>
        </p:grpSpPr>
        <p:sp>
          <p:nvSpPr>
            <p:cNvPr id="294" name=""/>
            <p:cNvSpPr/>
            <p:nvPr/>
          </p:nvSpPr>
          <p:spPr>
            <a:xfrm>
              <a:off x="4945680" y="3700440"/>
              <a:ext cx="1163880" cy="82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40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s-ES" sz="40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s-ES" sz="40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s-ES" sz="40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945680" y="4504320"/>
              <a:ext cx="1163880" cy="82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4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s-ES" sz="40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s-ES" sz="40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s-ES" sz="40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2684520" y="4127040"/>
              <a:ext cx="3774600" cy="82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40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0" lang="es-ES" sz="40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s-ES" sz="40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s-ES" sz="40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r>
                <a:rPr b="1" lang="es-ES" sz="4000" spc="-1" strike="noStrike">
                  <a:solidFill>
                    <a:srgbClr val="000000"/>
                  </a:solidFill>
                  <a:latin typeface="Times New Roman"/>
                </a:rPr>
                <a:t>  =   </a:t>
              </a:r>
              <a:r>
                <a:rPr b="1" lang="es-ES" sz="4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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C43C1-6CA8-44B4-A12F-A321E3D2FF5E}" type="slidenum">
              <a:t>23</a:t>
            </a:fld>
          </a:p>
        </p:txBody>
      </p: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3522600" y="5292720"/>
            <a:ext cx="596880" cy="3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s-E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1924200" y="1784520"/>
            <a:ext cx="59688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s-E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938240" y="2584440"/>
            <a:ext cx="598680" cy="3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s-E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254240" y="3429000"/>
            <a:ext cx="693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8067600" y="3198960"/>
            <a:ext cx="3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1469880" y="2514600"/>
            <a:ext cx="6098760" cy="1830240"/>
            <a:chOff x="1469880" y="2514600"/>
            <a:chExt cx="6098760" cy="1830240"/>
          </a:xfrm>
        </p:grpSpPr>
        <p:grpSp>
          <p:nvGrpSpPr>
            <p:cNvPr id="303" name=""/>
            <p:cNvGrpSpPr/>
            <p:nvPr/>
          </p:nvGrpSpPr>
          <p:grpSpPr>
            <a:xfrm>
              <a:off x="1469880" y="2514600"/>
              <a:ext cx="1523520" cy="914400"/>
              <a:chOff x="1469880" y="2514600"/>
              <a:chExt cx="1523520" cy="914400"/>
            </a:xfrm>
          </p:grpSpPr>
          <p:sp>
            <p:nvSpPr>
              <p:cNvPr id="304" name=""/>
              <p:cNvSpPr/>
              <p:nvPr/>
            </p:nvSpPr>
            <p:spPr>
              <a:xfrm>
                <a:off x="1469880" y="2514600"/>
                <a:ext cx="762480" cy="9144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19981"/>
                    </a:moveTo>
                    <a:lnTo>
                      <a:pt x="1042" y="18390"/>
                    </a:lnTo>
                    <a:lnTo>
                      <a:pt x="1958" y="16873"/>
                    </a:lnTo>
                    <a:lnTo>
                      <a:pt x="3000" y="15356"/>
                    </a:lnTo>
                    <a:lnTo>
                      <a:pt x="3958" y="13747"/>
                    </a:lnTo>
                    <a:lnTo>
                      <a:pt x="5042" y="12340"/>
                    </a:lnTo>
                    <a:lnTo>
                      <a:pt x="5958" y="10953"/>
                    </a:lnTo>
                    <a:lnTo>
                      <a:pt x="7000" y="9584"/>
                    </a:lnTo>
                    <a:lnTo>
                      <a:pt x="7958" y="8252"/>
                    </a:lnTo>
                    <a:lnTo>
                      <a:pt x="9000" y="7012"/>
                    </a:lnTo>
                    <a:lnTo>
                      <a:pt x="10042" y="5920"/>
                    </a:lnTo>
                    <a:lnTo>
                      <a:pt x="11000" y="4847"/>
                    </a:lnTo>
                    <a:lnTo>
                      <a:pt x="12000" y="3793"/>
                    </a:lnTo>
                    <a:lnTo>
                      <a:pt x="12958" y="3016"/>
                    </a:lnTo>
                    <a:lnTo>
                      <a:pt x="14042" y="2239"/>
                    </a:lnTo>
                    <a:lnTo>
                      <a:pt x="14958" y="1536"/>
                    </a:lnTo>
                    <a:lnTo>
                      <a:pt x="16000" y="962"/>
                    </a:lnTo>
                    <a:lnTo>
                      <a:pt x="16958" y="592"/>
                    </a:lnTo>
                    <a:lnTo>
                      <a:pt x="18042" y="222"/>
                    </a:lnTo>
                    <a:lnTo>
                      <a:pt x="18917" y="37"/>
                    </a:lnTo>
                    <a:lnTo>
                      <a:pt x="19958" y="0"/>
                    </a:lnTo>
                  </a:path>
                </a:pathLst>
              </a:custGeom>
              <a:noFill/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2232360" y="2514600"/>
                <a:ext cx="761040" cy="9144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19981"/>
                    </a:moveTo>
                    <a:lnTo>
                      <a:pt x="18958" y="18390"/>
                    </a:lnTo>
                    <a:lnTo>
                      <a:pt x="18042" y="16873"/>
                    </a:lnTo>
                    <a:lnTo>
                      <a:pt x="17000" y="15356"/>
                    </a:lnTo>
                    <a:lnTo>
                      <a:pt x="16042" y="13747"/>
                    </a:lnTo>
                    <a:lnTo>
                      <a:pt x="14958" y="12340"/>
                    </a:lnTo>
                    <a:lnTo>
                      <a:pt x="14042" y="10953"/>
                    </a:lnTo>
                    <a:lnTo>
                      <a:pt x="12958" y="9584"/>
                    </a:lnTo>
                    <a:lnTo>
                      <a:pt x="12000" y="8252"/>
                    </a:lnTo>
                    <a:lnTo>
                      <a:pt x="11000" y="7012"/>
                    </a:lnTo>
                    <a:lnTo>
                      <a:pt x="10042" y="5920"/>
                    </a:lnTo>
                    <a:lnTo>
                      <a:pt x="9000" y="4847"/>
                    </a:lnTo>
                    <a:lnTo>
                      <a:pt x="8000" y="3793"/>
                    </a:lnTo>
                    <a:lnTo>
                      <a:pt x="7000" y="3016"/>
                    </a:lnTo>
                    <a:lnTo>
                      <a:pt x="6042" y="2239"/>
                    </a:lnTo>
                    <a:lnTo>
                      <a:pt x="5042" y="1536"/>
                    </a:lnTo>
                    <a:lnTo>
                      <a:pt x="4000" y="962"/>
                    </a:lnTo>
                    <a:lnTo>
                      <a:pt x="3000" y="592"/>
                    </a:lnTo>
                    <a:lnTo>
                      <a:pt x="2042" y="222"/>
                    </a:lnTo>
                    <a:lnTo>
                      <a:pt x="1042" y="37"/>
                    </a:lnTo>
                    <a:lnTo>
                      <a:pt x="0" y="0"/>
                    </a:lnTo>
                  </a:path>
                </a:pathLst>
              </a:custGeom>
              <a:noFill/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6" name=""/>
            <p:cNvGrpSpPr/>
            <p:nvPr/>
          </p:nvGrpSpPr>
          <p:grpSpPr>
            <a:xfrm>
              <a:off x="2991600" y="3429720"/>
              <a:ext cx="1524240" cy="915120"/>
              <a:chOff x="2991600" y="3429720"/>
              <a:chExt cx="1524240" cy="915120"/>
            </a:xfrm>
          </p:grpSpPr>
          <p:sp>
            <p:nvSpPr>
              <p:cNvPr id="307" name=""/>
              <p:cNvSpPr/>
              <p:nvPr/>
            </p:nvSpPr>
            <p:spPr>
              <a:xfrm>
                <a:off x="2991600" y="3429720"/>
                <a:ext cx="762120" cy="9144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0"/>
                    </a:moveTo>
                    <a:lnTo>
                      <a:pt x="1042" y="1591"/>
                    </a:lnTo>
                    <a:lnTo>
                      <a:pt x="1958" y="3108"/>
                    </a:lnTo>
                    <a:lnTo>
                      <a:pt x="3000" y="4625"/>
                    </a:lnTo>
                    <a:lnTo>
                      <a:pt x="3958" y="6253"/>
                    </a:lnTo>
                    <a:lnTo>
                      <a:pt x="5042" y="7660"/>
                    </a:lnTo>
                    <a:lnTo>
                      <a:pt x="5958" y="9029"/>
                    </a:lnTo>
                    <a:lnTo>
                      <a:pt x="7000" y="10416"/>
                    </a:lnTo>
                    <a:lnTo>
                      <a:pt x="7958" y="11730"/>
                    </a:lnTo>
                    <a:lnTo>
                      <a:pt x="9000" y="12969"/>
                    </a:lnTo>
                    <a:lnTo>
                      <a:pt x="10042" y="14080"/>
                    </a:lnTo>
                    <a:lnTo>
                      <a:pt x="11000" y="15134"/>
                    </a:lnTo>
                    <a:lnTo>
                      <a:pt x="12000" y="16189"/>
                    </a:lnTo>
                    <a:lnTo>
                      <a:pt x="12958" y="16984"/>
                    </a:lnTo>
                    <a:lnTo>
                      <a:pt x="14042" y="17743"/>
                    </a:lnTo>
                    <a:lnTo>
                      <a:pt x="14958" y="18464"/>
                    </a:lnTo>
                    <a:lnTo>
                      <a:pt x="16000" y="19019"/>
                    </a:lnTo>
                    <a:lnTo>
                      <a:pt x="16958" y="19408"/>
                    </a:lnTo>
                    <a:lnTo>
                      <a:pt x="18042" y="19759"/>
                    </a:lnTo>
                    <a:lnTo>
                      <a:pt x="18917" y="19944"/>
                    </a:lnTo>
                    <a:lnTo>
                      <a:pt x="19958" y="19981"/>
                    </a:lnTo>
                  </a:path>
                </a:pathLst>
              </a:custGeom>
              <a:noFill/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3753720" y="3430440"/>
                <a:ext cx="762120" cy="9144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0"/>
                    </a:moveTo>
                    <a:lnTo>
                      <a:pt x="18958" y="1591"/>
                    </a:lnTo>
                    <a:lnTo>
                      <a:pt x="18042" y="3108"/>
                    </a:lnTo>
                    <a:lnTo>
                      <a:pt x="17000" y="4625"/>
                    </a:lnTo>
                    <a:lnTo>
                      <a:pt x="16042" y="6253"/>
                    </a:lnTo>
                    <a:lnTo>
                      <a:pt x="14958" y="7660"/>
                    </a:lnTo>
                    <a:lnTo>
                      <a:pt x="14042" y="9029"/>
                    </a:lnTo>
                    <a:lnTo>
                      <a:pt x="12958" y="10416"/>
                    </a:lnTo>
                    <a:lnTo>
                      <a:pt x="12000" y="11730"/>
                    </a:lnTo>
                    <a:lnTo>
                      <a:pt x="11000" y="12969"/>
                    </a:lnTo>
                    <a:lnTo>
                      <a:pt x="10042" y="14080"/>
                    </a:lnTo>
                    <a:lnTo>
                      <a:pt x="9000" y="15134"/>
                    </a:lnTo>
                    <a:lnTo>
                      <a:pt x="8000" y="16189"/>
                    </a:lnTo>
                    <a:lnTo>
                      <a:pt x="7000" y="16984"/>
                    </a:lnTo>
                    <a:lnTo>
                      <a:pt x="6042" y="17743"/>
                    </a:lnTo>
                    <a:lnTo>
                      <a:pt x="5042" y="18464"/>
                    </a:lnTo>
                    <a:lnTo>
                      <a:pt x="4000" y="19019"/>
                    </a:lnTo>
                    <a:lnTo>
                      <a:pt x="3000" y="19408"/>
                    </a:lnTo>
                    <a:lnTo>
                      <a:pt x="2042" y="19759"/>
                    </a:lnTo>
                    <a:lnTo>
                      <a:pt x="1042" y="19944"/>
                    </a:lnTo>
                    <a:lnTo>
                      <a:pt x="0" y="19981"/>
                    </a:lnTo>
                  </a:path>
                </a:pathLst>
              </a:custGeom>
              <a:noFill/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9" name=""/>
            <p:cNvSpPr/>
            <p:nvPr/>
          </p:nvSpPr>
          <p:spPr>
            <a:xfrm>
              <a:off x="4516200" y="2514600"/>
              <a:ext cx="761040" cy="91512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19981"/>
                  </a:moveTo>
                  <a:lnTo>
                    <a:pt x="1042" y="18390"/>
                  </a:lnTo>
                  <a:lnTo>
                    <a:pt x="1958" y="16873"/>
                  </a:lnTo>
                  <a:lnTo>
                    <a:pt x="3000" y="15356"/>
                  </a:lnTo>
                  <a:lnTo>
                    <a:pt x="3958" y="13747"/>
                  </a:lnTo>
                  <a:lnTo>
                    <a:pt x="5042" y="12340"/>
                  </a:lnTo>
                  <a:lnTo>
                    <a:pt x="5958" y="10953"/>
                  </a:lnTo>
                  <a:lnTo>
                    <a:pt x="7000" y="9584"/>
                  </a:lnTo>
                  <a:lnTo>
                    <a:pt x="7958" y="8252"/>
                  </a:lnTo>
                  <a:lnTo>
                    <a:pt x="9000" y="7012"/>
                  </a:lnTo>
                  <a:lnTo>
                    <a:pt x="10042" y="5920"/>
                  </a:lnTo>
                  <a:lnTo>
                    <a:pt x="11000" y="4847"/>
                  </a:lnTo>
                  <a:lnTo>
                    <a:pt x="12000" y="3793"/>
                  </a:lnTo>
                  <a:lnTo>
                    <a:pt x="12958" y="3016"/>
                  </a:lnTo>
                  <a:lnTo>
                    <a:pt x="14042" y="2239"/>
                  </a:lnTo>
                  <a:lnTo>
                    <a:pt x="14958" y="1536"/>
                  </a:lnTo>
                  <a:lnTo>
                    <a:pt x="16000" y="962"/>
                  </a:lnTo>
                  <a:lnTo>
                    <a:pt x="16958" y="592"/>
                  </a:lnTo>
                  <a:lnTo>
                    <a:pt x="18042" y="222"/>
                  </a:lnTo>
                  <a:lnTo>
                    <a:pt x="18917" y="37"/>
                  </a:lnTo>
                  <a:lnTo>
                    <a:pt x="19958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5280120" y="2514600"/>
              <a:ext cx="760320" cy="91512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58" y="19981"/>
                  </a:moveTo>
                  <a:lnTo>
                    <a:pt x="18958" y="18390"/>
                  </a:lnTo>
                  <a:lnTo>
                    <a:pt x="18042" y="16873"/>
                  </a:lnTo>
                  <a:lnTo>
                    <a:pt x="17000" y="15356"/>
                  </a:lnTo>
                  <a:lnTo>
                    <a:pt x="16042" y="13747"/>
                  </a:lnTo>
                  <a:lnTo>
                    <a:pt x="14958" y="12340"/>
                  </a:lnTo>
                  <a:lnTo>
                    <a:pt x="14042" y="10953"/>
                  </a:lnTo>
                  <a:lnTo>
                    <a:pt x="12958" y="9584"/>
                  </a:lnTo>
                  <a:lnTo>
                    <a:pt x="12000" y="8252"/>
                  </a:lnTo>
                  <a:lnTo>
                    <a:pt x="11000" y="7012"/>
                  </a:lnTo>
                  <a:lnTo>
                    <a:pt x="10042" y="5920"/>
                  </a:lnTo>
                  <a:lnTo>
                    <a:pt x="9000" y="4847"/>
                  </a:lnTo>
                  <a:lnTo>
                    <a:pt x="8000" y="3793"/>
                  </a:lnTo>
                  <a:lnTo>
                    <a:pt x="7000" y="3016"/>
                  </a:lnTo>
                  <a:lnTo>
                    <a:pt x="6042" y="2239"/>
                  </a:lnTo>
                  <a:lnTo>
                    <a:pt x="5042" y="1536"/>
                  </a:lnTo>
                  <a:lnTo>
                    <a:pt x="4000" y="962"/>
                  </a:lnTo>
                  <a:lnTo>
                    <a:pt x="3000" y="592"/>
                  </a:lnTo>
                  <a:lnTo>
                    <a:pt x="2042" y="222"/>
                  </a:lnTo>
                  <a:lnTo>
                    <a:pt x="1042" y="37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040800" y="3429720"/>
              <a:ext cx="761040" cy="91512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1042" y="1591"/>
                  </a:lnTo>
                  <a:lnTo>
                    <a:pt x="1958" y="3108"/>
                  </a:lnTo>
                  <a:lnTo>
                    <a:pt x="3000" y="4625"/>
                  </a:lnTo>
                  <a:lnTo>
                    <a:pt x="3958" y="6253"/>
                  </a:lnTo>
                  <a:lnTo>
                    <a:pt x="5042" y="7660"/>
                  </a:lnTo>
                  <a:lnTo>
                    <a:pt x="5958" y="9029"/>
                  </a:lnTo>
                  <a:lnTo>
                    <a:pt x="7000" y="10416"/>
                  </a:lnTo>
                  <a:lnTo>
                    <a:pt x="7958" y="11730"/>
                  </a:lnTo>
                  <a:lnTo>
                    <a:pt x="9000" y="12969"/>
                  </a:lnTo>
                  <a:lnTo>
                    <a:pt x="10042" y="14080"/>
                  </a:lnTo>
                  <a:lnTo>
                    <a:pt x="11000" y="15134"/>
                  </a:lnTo>
                  <a:lnTo>
                    <a:pt x="12000" y="16189"/>
                  </a:lnTo>
                  <a:lnTo>
                    <a:pt x="12958" y="16984"/>
                  </a:lnTo>
                  <a:lnTo>
                    <a:pt x="14042" y="17743"/>
                  </a:lnTo>
                  <a:lnTo>
                    <a:pt x="14958" y="18464"/>
                  </a:lnTo>
                  <a:lnTo>
                    <a:pt x="16000" y="19019"/>
                  </a:lnTo>
                  <a:lnTo>
                    <a:pt x="16958" y="19408"/>
                  </a:lnTo>
                  <a:lnTo>
                    <a:pt x="18042" y="19759"/>
                  </a:lnTo>
                  <a:lnTo>
                    <a:pt x="18917" y="19944"/>
                  </a:lnTo>
                  <a:lnTo>
                    <a:pt x="19958" y="19981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808320" y="3429720"/>
              <a:ext cx="760320" cy="91512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58" y="0"/>
                  </a:moveTo>
                  <a:lnTo>
                    <a:pt x="18958" y="1591"/>
                  </a:lnTo>
                  <a:lnTo>
                    <a:pt x="18042" y="3108"/>
                  </a:lnTo>
                  <a:lnTo>
                    <a:pt x="17000" y="4625"/>
                  </a:lnTo>
                  <a:lnTo>
                    <a:pt x="16042" y="6253"/>
                  </a:lnTo>
                  <a:lnTo>
                    <a:pt x="14958" y="7660"/>
                  </a:lnTo>
                  <a:lnTo>
                    <a:pt x="14042" y="9029"/>
                  </a:lnTo>
                  <a:lnTo>
                    <a:pt x="12958" y="10416"/>
                  </a:lnTo>
                  <a:lnTo>
                    <a:pt x="12000" y="11730"/>
                  </a:lnTo>
                  <a:lnTo>
                    <a:pt x="11000" y="12969"/>
                  </a:lnTo>
                  <a:lnTo>
                    <a:pt x="10042" y="14080"/>
                  </a:lnTo>
                  <a:lnTo>
                    <a:pt x="9000" y="15134"/>
                  </a:lnTo>
                  <a:lnTo>
                    <a:pt x="8000" y="16189"/>
                  </a:lnTo>
                  <a:lnTo>
                    <a:pt x="7000" y="16984"/>
                  </a:lnTo>
                  <a:lnTo>
                    <a:pt x="6042" y="17743"/>
                  </a:lnTo>
                  <a:lnTo>
                    <a:pt x="5042" y="18464"/>
                  </a:lnTo>
                  <a:lnTo>
                    <a:pt x="4000" y="19019"/>
                  </a:lnTo>
                  <a:lnTo>
                    <a:pt x="3000" y="19408"/>
                  </a:lnTo>
                  <a:lnTo>
                    <a:pt x="2042" y="19759"/>
                  </a:lnTo>
                  <a:lnTo>
                    <a:pt x="1042" y="19944"/>
                  </a:lnTo>
                  <a:lnTo>
                    <a:pt x="0" y="19981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3" name=""/>
          <p:cNvGrpSpPr/>
          <p:nvPr/>
        </p:nvGrpSpPr>
        <p:grpSpPr>
          <a:xfrm>
            <a:off x="1480680" y="1599840"/>
            <a:ext cx="6082920" cy="3663360"/>
            <a:chOff x="1480680" y="1599840"/>
            <a:chExt cx="6082920" cy="3663360"/>
          </a:xfrm>
        </p:grpSpPr>
        <p:grpSp>
          <p:nvGrpSpPr>
            <p:cNvPr id="314" name=""/>
            <p:cNvGrpSpPr/>
            <p:nvPr/>
          </p:nvGrpSpPr>
          <p:grpSpPr>
            <a:xfrm>
              <a:off x="6040080" y="3427560"/>
              <a:ext cx="1523520" cy="1835640"/>
              <a:chOff x="6040080" y="3427560"/>
              <a:chExt cx="1523520" cy="1835640"/>
            </a:xfrm>
          </p:grpSpPr>
          <p:sp>
            <p:nvSpPr>
              <p:cNvPr id="315" name=""/>
              <p:cNvSpPr/>
              <p:nvPr/>
            </p:nvSpPr>
            <p:spPr>
              <a:xfrm flipH="1" flipV="1">
                <a:off x="6802560" y="3427200"/>
                <a:ext cx="761040" cy="18342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19981"/>
                    </a:moveTo>
                    <a:lnTo>
                      <a:pt x="1042" y="18390"/>
                    </a:lnTo>
                    <a:lnTo>
                      <a:pt x="1958" y="16873"/>
                    </a:lnTo>
                    <a:lnTo>
                      <a:pt x="3000" y="15356"/>
                    </a:lnTo>
                    <a:lnTo>
                      <a:pt x="3958" y="13747"/>
                    </a:lnTo>
                    <a:lnTo>
                      <a:pt x="5042" y="12340"/>
                    </a:lnTo>
                    <a:lnTo>
                      <a:pt x="5958" y="10953"/>
                    </a:lnTo>
                    <a:lnTo>
                      <a:pt x="7000" y="9584"/>
                    </a:lnTo>
                    <a:lnTo>
                      <a:pt x="7958" y="8252"/>
                    </a:lnTo>
                    <a:lnTo>
                      <a:pt x="9000" y="7012"/>
                    </a:lnTo>
                    <a:lnTo>
                      <a:pt x="10042" y="5920"/>
                    </a:lnTo>
                    <a:lnTo>
                      <a:pt x="11000" y="4847"/>
                    </a:lnTo>
                    <a:lnTo>
                      <a:pt x="12000" y="3793"/>
                    </a:lnTo>
                    <a:lnTo>
                      <a:pt x="12958" y="3016"/>
                    </a:lnTo>
                    <a:lnTo>
                      <a:pt x="14042" y="2239"/>
                    </a:lnTo>
                    <a:lnTo>
                      <a:pt x="14958" y="1536"/>
                    </a:lnTo>
                    <a:lnTo>
                      <a:pt x="16000" y="962"/>
                    </a:lnTo>
                    <a:lnTo>
                      <a:pt x="16958" y="592"/>
                    </a:lnTo>
                    <a:lnTo>
                      <a:pt x="18042" y="222"/>
                    </a:lnTo>
                    <a:lnTo>
                      <a:pt x="18917" y="37"/>
                    </a:lnTo>
                    <a:lnTo>
                      <a:pt x="19958" y="0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flipH="1" flipV="1">
                <a:off x="6040080" y="3428640"/>
                <a:ext cx="761040" cy="18342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19981"/>
                    </a:moveTo>
                    <a:lnTo>
                      <a:pt x="18958" y="18390"/>
                    </a:lnTo>
                    <a:lnTo>
                      <a:pt x="18042" y="16873"/>
                    </a:lnTo>
                    <a:lnTo>
                      <a:pt x="17000" y="15356"/>
                    </a:lnTo>
                    <a:lnTo>
                      <a:pt x="16042" y="13747"/>
                    </a:lnTo>
                    <a:lnTo>
                      <a:pt x="14958" y="12340"/>
                    </a:lnTo>
                    <a:lnTo>
                      <a:pt x="14042" y="10953"/>
                    </a:lnTo>
                    <a:lnTo>
                      <a:pt x="12958" y="9584"/>
                    </a:lnTo>
                    <a:lnTo>
                      <a:pt x="12000" y="8252"/>
                    </a:lnTo>
                    <a:lnTo>
                      <a:pt x="11000" y="7012"/>
                    </a:lnTo>
                    <a:lnTo>
                      <a:pt x="10042" y="5920"/>
                    </a:lnTo>
                    <a:lnTo>
                      <a:pt x="9000" y="4847"/>
                    </a:lnTo>
                    <a:lnTo>
                      <a:pt x="8000" y="3793"/>
                    </a:lnTo>
                    <a:lnTo>
                      <a:pt x="7000" y="3016"/>
                    </a:lnTo>
                    <a:lnTo>
                      <a:pt x="6042" y="2239"/>
                    </a:lnTo>
                    <a:lnTo>
                      <a:pt x="5042" y="1536"/>
                    </a:lnTo>
                    <a:lnTo>
                      <a:pt x="4000" y="962"/>
                    </a:lnTo>
                    <a:lnTo>
                      <a:pt x="3000" y="592"/>
                    </a:lnTo>
                    <a:lnTo>
                      <a:pt x="2042" y="222"/>
                    </a:lnTo>
                    <a:lnTo>
                      <a:pt x="1042" y="37"/>
                    </a:lnTo>
                    <a:lnTo>
                      <a:pt x="0" y="0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7" name=""/>
            <p:cNvGrpSpPr/>
            <p:nvPr/>
          </p:nvGrpSpPr>
          <p:grpSpPr>
            <a:xfrm>
              <a:off x="4511880" y="1599840"/>
              <a:ext cx="1526040" cy="1834920"/>
              <a:chOff x="4511880" y="1599840"/>
              <a:chExt cx="1526040" cy="1834920"/>
            </a:xfrm>
          </p:grpSpPr>
          <p:sp>
            <p:nvSpPr>
              <p:cNvPr id="318" name=""/>
              <p:cNvSpPr/>
              <p:nvPr/>
            </p:nvSpPr>
            <p:spPr>
              <a:xfrm flipH="1" flipV="1">
                <a:off x="5276880" y="1600920"/>
                <a:ext cx="760680" cy="18334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0"/>
                    </a:moveTo>
                    <a:lnTo>
                      <a:pt x="1042" y="1591"/>
                    </a:lnTo>
                    <a:lnTo>
                      <a:pt x="1958" y="3108"/>
                    </a:lnTo>
                    <a:lnTo>
                      <a:pt x="3000" y="4625"/>
                    </a:lnTo>
                    <a:lnTo>
                      <a:pt x="3958" y="6253"/>
                    </a:lnTo>
                    <a:lnTo>
                      <a:pt x="5042" y="7660"/>
                    </a:lnTo>
                    <a:lnTo>
                      <a:pt x="5958" y="9029"/>
                    </a:lnTo>
                    <a:lnTo>
                      <a:pt x="7000" y="10416"/>
                    </a:lnTo>
                    <a:lnTo>
                      <a:pt x="7958" y="11730"/>
                    </a:lnTo>
                    <a:lnTo>
                      <a:pt x="9000" y="12969"/>
                    </a:lnTo>
                    <a:lnTo>
                      <a:pt x="10042" y="14080"/>
                    </a:lnTo>
                    <a:lnTo>
                      <a:pt x="11000" y="15134"/>
                    </a:lnTo>
                    <a:lnTo>
                      <a:pt x="12000" y="16189"/>
                    </a:lnTo>
                    <a:lnTo>
                      <a:pt x="12958" y="16984"/>
                    </a:lnTo>
                    <a:lnTo>
                      <a:pt x="14042" y="17743"/>
                    </a:lnTo>
                    <a:lnTo>
                      <a:pt x="14958" y="18464"/>
                    </a:lnTo>
                    <a:lnTo>
                      <a:pt x="16000" y="19019"/>
                    </a:lnTo>
                    <a:lnTo>
                      <a:pt x="16958" y="19408"/>
                    </a:lnTo>
                    <a:lnTo>
                      <a:pt x="18042" y="19759"/>
                    </a:lnTo>
                    <a:lnTo>
                      <a:pt x="18917" y="19944"/>
                    </a:lnTo>
                    <a:lnTo>
                      <a:pt x="19958" y="19981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flipH="1" flipV="1">
                <a:off x="4511520" y="1599480"/>
                <a:ext cx="760680" cy="18334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0"/>
                    </a:moveTo>
                    <a:lnTo>
                      <a:pt x="18958" y="1591"/>
                    </a:lnTo>
                    <a:lnTo>
                      <a:pt x="18042" y="3108"/>
                    </a:lnTo>
                    <a:lnTo>
                      <a:pt x="17000" y="4625"/>
                    </a:lnTo>
                    <a:lnTo>
                      <a:pt x="16042" y="6253"/>
                    </a:lnTo>
                    <a:lnTo>
                      <a:pt x="14958" y="7660"/>
                    </a:lnTo>
                    <a:lnTo>
                      <a:pt x="14042" y="9029"/>
                    </a:lnTo>
                    <a:lnTo>
                      <a:pt x="12958" y="10416"/>
                    </a:lnTo>
                    <a:lnTo>
                      <a:pt x="12000" y="11730"/>
                    </a:lnTo>
                    <a:lnTo>
                      <a:pt x="11000" y="12969"/>
                    </a:lnTo>
                    <a:lnTo>
                      <a:pt x="10042" y="14080"/>
                    </a:lnTo>
                    <a:lnTo>
                      <a:pt x="9000" y="15134"/>
                    </a:lnTo>
                    <a:lnTo>
                      <a:pt x="8000" y="16189"/>
                    </a:lnTo>
                    <a:lnTo>
                      <a:pt x="7000" y="16984"/>
                    </a:lnTo>
                    <a:lnTo>
                      <a:pt x="6042" y="17743"/>
                    </a:lnTo>
                    <a:lnTo>
                      <a:pt x="5042" y="18464"/>
                    </a:lnTo>
                    <a:lnTo>
                      <a:pt x="4000" y="19019"/>
                    </a:lnTo>
                    <a:lnTo>
                      <a:pt x="3000" y="19408"/>
                    </a:lnTo>
                    <a:lnTo>
                      <a:pt x="2042" y="19759"/>
                    </a:lnTo>
                    <a:lnTo>
                      <a:pt x="1042" y="19944"/>
                    </a:lnTo>
                    <a:lnTo>
                      <a:pt x="0" y="19981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0" name=""/>
            <p:cNvSpPr/>
            <p:nvPr/>
          </p:nvSpPr>
          <p:spPr>
            <a:xfrm flipH="1" flipV="1">
              <a:off x="3750480" y="3431160"/>
              <a:ext cx="761760" cy="182772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19981"/>
                  </a:moveTo>
                  <a:lnTo>
                    <a:pt x="1042" y="18390"/>
                  </a:lnTo>
                  <a:lnTo>
                    <a:pt x="1958" y="16873"/>
                  </a:lnTo>
                  <a:lnTo>
                    <a:pt x="3000" y="15356"/>
                  </a:lnTo>
                  <a:lnTo>
                    <a:pt x="3958" y="13747"/>
                  </a:lnTo>
                  <a:lnTo>
                    <a:pt x="5042" y="12340"/>
                  </a:lnTo>
                  <a:lnTo>
                    <a:pt x="5958" y="10953"/>
                  </a:lnTo>
                  <a:lnTo>
                    <a:pt x="7000" y="9584"/>
                  </a:lnTo>
                  <a:lnTo>
                    <a:pt x="7958" y="8252"/>
                  </a:lnTo>
                  <a:lnTo>
                    <a:pt x="9000" y="7012"/>
                  </a:lnTo>
                  <a:lnTo>
                    <a:pt x="10042" y="5920"/>
                  </a:lnTo>
                  <a:lnTo>
                    <a:pt x="11000" y="4847"/>
                  </a:lnTo>
                  <a:lnTo>
                    <a:pt x="12000" y="3793"/>
                  </a:lnTo>
                  <a:lnTo>
                    <a:pt x="12958" y="3016"/>
                  </a:lnTo>
                  <a:lnTo>
                    <a:pt x="14042" y="2239"/>
                  </a:lnTo>
                  <a:lnTo>
                    <a:pt x="14958" y="1536"/>
                  </a:lnTo>
                  <a:lnTo>
                    <a:pt x="16000" y="962"/>
                  </a:lnTo>
                  <a:lnTo>
                    <a:pt x="16958" y="592"/>
                  </a:lnTo>
                  <a:lnTo>
                    <a:pt x="18042" y="222"/>
                  </a:lnTo>
                  <a:lnTo>
                    <a:pt x="18917" y="37"/>
                  </a:lnTo>
                  <a:lnTo>
                    <a:pt x="19958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 flipH="1" flipV="1">
              <a:off x="2988720" y="3434400"/>
              <a:ext cx="761760" cy="18284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58" y="19981"/>
                  </a:moveTo>
                  <a:lnTo>
                    <a:pt x="18958" y="18390"/>
                  </a:lnTo>
                  <a:lnTo>
                    <a:pt x="18042" y="16873"/>
                  </a:lnTo>
                  <a:lnTo>
                    <a:pt x="17000" y="15356"/>
                  </a:lnTo>
                  <a:lnTo>
                    <a:pt x="16042" y="13747"/>
                  </a:lnTo>
                  <a:lnTo>
                    <a:pt x="14958" y="12340"/>
                  </a:lnTo>
                  <a:lnTo>
                    <a:pt x="14042" y="10953"/>
                  </a:lnTo>
                  <a:lnTo>
                    <a:pt x="12958" y="9584"/>
                  </a:lnTo>
                  <a:lnTo>
                    <a:pt x="12000" y="8252"/>
                  </a:lnTo>
                  <a:lnTo>
                    <a:pt x="11000" y="7012"/>
                  </a:lnTo>
                  <a:lnTo>
                    <a:pt x="10042" y="5920"/>
                  </a:lnTo>
                  <a:lnTo>
                    <a:pt x="9000" y="4847"/>
                  </a:lnTo>
                  <a:lnTo>
                    <a:pt x="8000" y="3793"/>
                  </a:lnTo>
                  <a:lnTo>
                    <a:pt x="7000" y="3016"/>
                  </a:lnTo>
                  <a:lnTo>
                    <a:pt x="6042" y="2239"/>
                  </a:lnTo>
                  <a:lnTo>
                    <a:pt x="5042" y="1536"/>
                  </a:lnTo>
                  <a:lnTo>
                    <a:pt x="4000" y="962"/>
                  </a:lnTo>
                  <a:lnTo>
                    <a:pt x="3000" y="592"/>
                  </a:lnTo>
                  <a:lnTo>
                    <a:pt x="2042" y="222"/>
                  </a:lnTo>
                  <a:lnTo>
                    <a:pt x="1042" y="37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 flipH="1" flipV="1">
              <a:off x="2220840" y="1607400"/>
              <a:ext cx="761760" cy="18316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1042" y="1591"/>
                  </a:lnTo>
                  <a:lnTo>
                    <a:pt x="1958" y="3108"/>
                  </a:lnTo>
                  <a:lnTo>
                    <a:pt x="3000" y="4625"/>
                  </a:lnTo>
                  <a:lnTo>
                    <a:pt x="3958" y="6253"/>
                  </a:lnTo>
                  <a:lnTo>
                    <a:pt x="5042" y="7660"/>
                  </a:lnTo>
                  <a:lnTo>
                    <a:pt x="5958" y="9029"/>
                  </a:lnTo>
                  <a:lnTo>
                    <a:pt x="7000" y="10416"/>
                  </a:lnTo>
                  <a:lnTo>
                    <a:pt x="7958" y="11730"/>
                  </a:lnTo>
                  <a:lnTo>
                    <a:pt x="9000" y="12969"/>
                  </a:lnTo>
                  <a:lnTo>
                    <a:pt x="10042" y="14080"/>
                  </a:lnTo>
                  <a:lnTo>
                    <a:pt x="11000" y="15134"/>
                  </a:lnTo>
                  <a:lnTo>
                    <a:pt x="12000" y="16189"/>
                  </a:lnTo>
                  <a:lnTo>
                    <a:pt x="12958" y="16984"/>
                  </a:lnTo>
                  <a:lnTo>
                    <a:pt x="14042" y="17743"/>
                  </a:lnTo>
                  <a:lnTo>
                    <a:pt x="14958" y="18464"/>
                  </a:lnTo>
                  <a:lnTo>
                    <a:pt x="16000" y="19019"/>
                  </a:lnTo>
                  <a:lnTo>
                    <a:pt x="16958" y="19408"/>
                  </a:lnTo>
                  <a:lnTo>
                    <a:pt x="18042" y="19759"/>
                  </a:lnTo>
                  <a:lnTo>
                    <a:pt x="18917" y="19944"/>
                  </a:lnTo>
                  <a:lnTo>
                    <a:pt x="19958" y="1998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 flipH="1" flipV="1">
              <a:off x="1891440" y="1607400"/>
              <a:ext cx="340200" cy="444240"/>
            </a:xfrm>
            <a:custGeom>
              <a:avLst/>
              <a:gdLst/>
              <a:ahLst/>
              <a:rect l="l" t="t" r="r" b="b"/>
              <a:pathLst>
                <a:path w="56" h="68">
                  <a:moveTo>
                    <a:pt x="56" y="0"/>
                  </a:moveTo>
                  <a:lnTo>
                    <a:pt x="50" y="14"/>
                  </a:lnTo>
                  <a:lnTo>
                    <a:pt x="44" y="26"/>
                  </a:lnTo>
                  <a:lnTo>
                    <a:pt x="38" y="36"/>
                  </a:lnTo>
                  <a:lnTo>
                    <a:pt x="32" y="46"/>
                  </a:lnTo>
                  <a:lnTo>
                    <a:pt x="25" y="54"/>
                  </a:lnTo>
                  <a:lnTo>
                    <a:pt x="19" y="60"/>
                  </a:lnTo>
                  <a:lnTo>
                    <a:pt x="13" y="65"/>
                  </a:lnTo>
                  <a:lnTo>
                    <a:pt x="7" y="67"/>
                  </a:lnTo>
                  <a:lnTo>
                    <a:pt x="0" y="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 flipH="1" flipV="1">
              <a:off x="1480320" y="2050920"/>
              <a:ext cx="419400" cy="1387080"/>
            </a:xfrm>
            <a:custGeom>
              <a:avLst/>
              <a:gdLst/>
              <a:ahLst/>
              <a:rect l="l" t="t" r="r" b="b"/>
              <a:pathLst>
                <a:path w="69" h="213">
                  <a:moveTo>
                    <a:pt x="69" y="0"/>
                  </a:moveTo>
                  <a:lnTo>
                    <a:pt x="57" y="44"/>
                  </a:lnTo>
                  <a:lnTo>
                    <a:pt x="44" y="88"/>
                  </a:lnTo>
                  <a:lnTo>
                    <a:pt x="32" y="127"/>
                  </a:lnTo>
                  <a:lnTo>
                    <a:pt x="25" y="146"/>
                  </a:lnTo>
                  <a:lnTo>
                    <a:pt x="19" y="165"/>
                  </a:lnTo>
                  <a:lnTo>
                    <a:pt x="13" y="182"/>
                  </a:lnTo>
                  <a:lnTo>
                    <a:pt x="7" y="198"/>
                  </a:lnTo>
                  <a:lnTo>
                    <a:pt x="0" y="21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5" name=""/>
          <p:cNvSpPr/>
          <p:nvPr/>
        </p:nvSpPr>
        <p:spPr>
          <a:xfrm flipV="1">
            <a:off x="1965240" y="1906200"/>
            <a:ext cx="0" cy="153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3755880" y="343692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5786280" y="2513160"/>
            <a:ext cx="0" cy="925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695760" y="4330800"/>
            <a:ext cx="59688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s-E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818320" y="2303640"/>
            <a:ext cx="59688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s-E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178600" y="2778120"/>
            <a:ext cx="596880" cy="3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s-E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1792080" y="3395520"/>
            <a:ext cx="311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553920" y="3056040"/>
            <a:ext cx="311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597280" y="3395520"/>
            <a:ext cx="311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4" name=""/>
          <p:cNvGrpSpPr/>
          <p:nvPr/>
        </p:nvGrpSpPr>
        <p:grpSpPr>
          <a:xfrm>
            <a:off x="2671920" y="585720"/>
            <a:ext cx="5416560" cy="717480"/>
            <a:chOff x="2671920" y="585720"/>
            <a:chExt cx="5416560" cy="717480"/>
          </a:xfrm>
        </p:grpSpPr>
        <p:sp>
          <p:nvSpPr>
            <p:cNvPr id="335" name=""/>
            <p:cNvSpPr/>
            <p:nvPr/>
          </p:nvSpPr>
          <p:spPr>
            <a:xfrm>
              <a:off x="3861000" y="585720"/>
              <a:ext cx="58572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s-E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859560" y="933480"/>
              <a:ext cx="58572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s-E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671920" y="774720"/>
              <a:ext cx="5416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2400" spc="-1" strike="noStrike">
                  <a:solidFill>
                    <a:srgbClr val="000000"/>
                  </a:solidFill>
                  <a:latin typeface="Times New Roman"/>
                </a:rPr>
                <a:t>H   =   </a:t>
              </a:r>
              <a:r>
                <a:rPr b="0" i="1" lang="es-E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</a:t>
              </a:r>
              <a:r>
                <a:rPr b="0" i="1" lang="es-ES" sz="2400" spc="-1" strike="noStrike">
                  <a:solidFill>
                    <a:srgbClr val="000000"/>
                  </a:solidFill>
                  <a:latin typeface="Times New Roman"/>
                </a:rPr>
                <a:t>   =   </a:t>
              </a:r>
              <a:r>
                <a:rPr b="0" i="1" lang="es-E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</a:t>
              </a:r>
              <a:r>
                <a:rPr b="0" i="1" lang="es-ES" sz="2400" spc="-1" strike="noStrike">
                  <a:solidFill>
                    <a:srgbClr val="000000"/>
                  </a:solidFill>
                  <a:latin typeface="Times New Roman"/>
                </a:rPr>
                <a:t>   =   </a:t>
              </a:r>
              <a:r>
                <a:rPr b="0" i="1" lang="es-E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</a:t>
              </a:r>
              <a:r>
                <a:rPr b="0" i="1" lang="es-ES" sz="2400" spc="-1" strike="noStrike">
                  <a:solidFill>
                    <a:srgbClr val="000000"/>
                  </a:solidFill>
                  <a:latin typeface="Times New Roman"/>
                </a:rPr>
                <a:t>   =   </a:t>
              </a: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i="1" lang="es-E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5204160" y="585720"/>
              <a:ext cx="58572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s-E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202360" y="933480"/>
              <a:ext cx="58572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s-E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6404040" y="585720"/>
              <a:ext cx="58608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s-E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6402600" y="933480"/>
              <a:ext cx="58572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s-E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2" name=""/>
          <p:cNvSpPr/>
          <p:nvPr/>
        </p:nvSpPr>
        <p:spPr>
          <a:xfrm flipV="1">
            <a:off x="1476360" y="1391760"/>
            <a:ext cx="0" cy="3940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64F82-1475-4561-BD8A-B8EFFD7E1D05}" type="slidenum">
              <a:t>24</a:t>
            </a:fld>
          </a:p>
        </p:txBody>
      </p:sp>
    </p:spTree>
  </p:cSld>
  <p:transition>
    <p:fade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/>
          <p:nvPr/>
        </p:nvSpPr>
        <p:spPr>
          <a:xfrm>
            <a:off x="754200" y="1537560"/>
            <a:ext cx="76356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Habiendo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desfasaje 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los resultados dependerían del tiempo y darían valores extravagan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E1DEE-A2DD-4BAC-B3A5-C3AB51B1CFA6}" type="slidenum">
              <a:t>25</a:t>
            </a:fld>
          </a:p>
        </p:txBody>
      </p:sp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4" name=""/>
          <p:cNvGrpSpPr/>
          <p:nvPr/>
        </p:nvGrpSpPr>
        <p:grpSpPr>
          <a:xfrm>
            <a:off x="2131920" y="557280"/>
            <a:ext cx="2193840" cy="717480"/>
            <a:chOff x="2131920" y="557280"/>
            <a:chExt cx="2193840" cy="717480"/>
          </a:xfrm>
        </p:grpSpPr>
        <p:sp>
          <p:nvSpPr>
            <p:cNvPr id="345" name=""/>
            <p:cNvSpPr/>
            <p:nvPr/>
          </p:nvSpPr>
          <p:spPr>
            <a:xfrm>
              <a:off x="2958840" y="557280"/>
              <a:ext cx="58608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s-E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957400" y="905040"/>
              <a:ext cx="58572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s-E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131920" y="701640"/>
              <a:ext cx="219384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2400" spc="-1" strike="noStrike">
                  <a:solidFill>
                    <a:srgbClr val="000000"/>
                  </a:solidFill>
                  <a:latin typeface="Times New Roman"/>
                </a:rPr>
                <a:t>H  </a:t>
              </a: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=  </a:t>
              </a:r>
              <a:r>
                <a:rPr b="0" lang="es-E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</a:t>
              </a: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  =  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8" name=""/>
          <p:cNvGrpSpPr/>
          <p:nvPr/>
        </p:nvGrpSpPr>
        <p:grpSpPr>
          <a:xfrm>
            <a:off x="1136520" y="5607000"/>
            <a:ext cx="2628720" cy="717480"/>
            <a:chOff x="1136520" y="5607000"/>
            <a:chExt cx="2628720" cy="717480"/>
          </a:xfrm>
        </p:grpSpPr>
        <p:sp>
          <p:nvSpPr>
            <p:cNvPr id="349" name=""/>
            <p:cNvSpPr/>
            <p:nvPr/>
          </p:nvSpPr>
          <p:spPr>
            <a:xfrm>
              <a:off x="2044440" y="5607000"/>
              <a:ext cx="58572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s-E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043000" y="5954400"/>
              <a:ext cx="58572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s-E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136520" y="5795640"/>
              <a:ext cx="262872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2400" spc="-1" strike="noStrike">
                  <a:solidFill>
                    <a:srgbClr val="000000"/>
                  </a:solidFill>
                  <a:latin typeface="Times New Roman"/>
                </a:rPr>
                <a:t>H  </a:t>
              </a: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=  </a:t>
              </a:r>
              <a:r>
                <a:rPr b="0" lang="es-E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</a:t>
              </a: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  =  </a:t>
              </a:r>
              <a:r>
                <a:rPr b="0" lang="es-E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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2" name=""/>
          <p:cNvGrpSpPr/>
          <p:nvPr/>
        </p:nvGrpSpPr>
        <p:grpSpPr>
          <a:xfrm>
            <a:off x="5410080" y="833400"/>
            <a:ext cx="2193840" cy="717480"/>
            <a:chOff x="5410080" y="833400"/>
            <a:chExt cx="2193840" cy="717480"/>
          </a:xfrm>
        </p:grpSpPr>
        <p:sp>
          <p:nvSpPr>
            <p:cNvPr id="353" name=""/>
            <p:cNvSpPr/>
            <p:nvPr/>
          </p:nvSpPr>
          <p:spPr>
            <a:xfrm>
              <a:off x="6226200" y="833400"/>
              <a:ext cx="58572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s-E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224400" y="1180800"/>
              <a:ext cx="58608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s-E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5410080" y="979200"/>
              <a:ext cx="219384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2400" spc="-1" strike="noStrike">
                  <a:solidFill>
                    <a:srgbClr val="000000"/>
                  </a:solidFill>
                  <a:latin typeface="Times New Roman"/>
                </a:rPr>
                <a:t>H  </a:t>
              </a: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=  </a:t>
              </a:r>
              <a:r>
                <a:rPr b="0" lang="es-E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</a:t>
              </a: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  =  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6" name=""/>
          <p:cNvSpPr/>
          <p:nvPr/>
        </p:nvSpPr>
        <p:spPr>
          <a:xfrm flipV="1">
            <a:off x="2379600" y="1376280"/>
            <a:ext cx="755640" cy="812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7" name=""/>
          <p:cNvGrpSpPr/>
          <p:nvPr/>
        </p:nvGrpSpPr>
        <p:grpSpPr>
          <a:xfrm>
            <a:off x="1481040" y="2516040"/>
            <a:ext cx="6076440" cy="1800000"/>
            <a:chOff x="1481040" y="2516040"/>
            <a:chExt cx="6076440" cy="1800000"/>
          </a:xfrm>
        </p:grpSpPr>
        <p:grpSp>
          <p:nvGrpSpPr>
            <p:cNvPr id="358" name=""/>
            <p:cNvGrpSpPr/>
            <p:nvPr/>
          </p:nvGrpSpPr>
          <p:grpSpPr>
            <a:xfrm>
              <a:off x="1481040" y="2516040"/>
              <a:ext cx="1518480" cy="899280"/>
              <a:chOff x="1481040" y="2516040"/>
              <a:chExt cx="1518480" cy="899280"/>
            </a:xfrm>
          </p:grpSpPr>
          <p:sp>
            <p:nvSpPr>
              <p:cNvPr id="359" name=""/>
              <p:cNvSpPr/>
              <p:nvPr/>
            </p:nvSpPr>
            <p:spPr>
              <a:xfrm>
                <a:off x="1481040" y="2516040"/>
                <a:ext cx="759960" cy="8992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19981"/>
                    </a:moveTo>
                    <a:lnTo>
                      <a:pt x="1042" y="18390"/>
                    </a:lnTo>
                    <a:lnTo>
                      <a:pt x="1958" y="16873"/>
                    </a:lnTo>
                    <a:lnTo>
                      <a:pt x="3000" y="15356"/>
                    </a:lnTo>
                    <a:lnTo>
                      <a:pt x="3958" y="13747"/>
                    </a:lnTo>
                    <a:lnTo>
                      <a:pt x="5042" y="12340"/>
                    </a:lnTo>
                    <a:lnTo>
                      <a:pt x="5958" y="10953"/>
                    </a:lnTo>
                    <a:lnTo>
                      <a:pt x="7000" y="9584"/>
                    </a:lnTo>
                    <a:lnTo>
                      <a:pt x="7958" y="8252"/>
                    </a:lnTo>
                    <a:lnTo>
                      <a:pt x="9000" y="7012"/>
                    </a:lnTo>
                    <a:lnTo>
                      <a:pt x="10042" y="5920"/>
                    </a:lnTo>
                    <a:lnTo>
                      <a:pt x="11000" y="4847"/>
                    </a:lnTo>
                    <a:lnTo>
                      <a:pt x="12000" y="3793"/>
                    </a:lnTo>
                    <a:lnTo>
                      <a:pt x="12958" y="3016"/>
                    </a:lnTo>
                    <a:lnTo>
                      <a:pt x="14042" y="2239"/>
                    </a:lnTo>
                    <a:lnTo>
                      <a:pt x="14958" y="1536"/>
                    </a:lnTo>
                    <a:lnTo>
                      <a:pt x="16000" y="962"/>
                    </a:lnTo>
                    <a:lnTo>
                      <a:pt x="16958" y="592"/>
                    </a:lnTo>
                    <a:lnTo>
                      <a:pt x="18042" y="222"/>
                    </a:lnTo>
                    <a:lnTo>
                      <a:pt x="18917" y="37"/>
                    </a:lnTo>
                    <a:lnTo>
                      <a:pt x="19958" y="0"/>
                    </a:lnTo>
                  </a:path>
                </a:pathLst>
              </a:custGeom>
              <a:noFill/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2241000" y="2516040"/>
                <a:ext cx="758520" cy="8992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19981"/>
                    </a:moveTo>
                    <a:lnTo>
                      <a:pt x="18958" y="18390"/>
                    </a:lnTo>
                    <a:lnTo>
                      <a:pt x="18042" y="16873"/>
                    </a:lnTo>
                    <a:lnTo>
                      <a:pt x="17000" y="15356"/>
                    </a:lnTo>
                    <a:lnTo>
                      <a:pt x="16042" y="13747"/>
                    </a:lnTo>
                    <a:lnTo>
                      <a:pt x="14958" y="12340"/>
                    </a:lnTo>
                    <a:lnTo>
                      <a:pt x="14042" y="10953"/>
                    </a:lnTo>
                    <a:lnTo>
                      <a:pt x="12958" y="9584"/>
                    </a:lnTo>
                    <a:lnTo>
                      <a:pt x="12000" y="8252"/>
                    </a:lnTo>
                    <a:lnTo>
                      <a:pt x="11000" y="7012"/>
                    </a:lnTo>
                    <a:lnTo>
                      <a:pt x="10042" y="5920"/>
                    </a:lnTo>
                    <a:lnTo>
                      <a:pt x="9000" y="4847"/>
                    </a:lnTo>
                    <a:lnTo>
                      <a:pt x="8000" y="3793"/>
                    </a:lnTo>
                    <a:lnTo>
                      <a:pt x="7000" y="3016"/>
                    </a:lnTo>
                    <a:lnTo>
                      <a:pt x="6042" y="2239"/>
                    </a:lnTo>
                    <a:lnTo>
                      <a:pt x="5042" y="1536"/>
                    </a:lnTo>
                    <a:lnTo>
                      <a:pt x="4000" y="962"/>
                    </a:lnTo>
                    <a:lnTo>
                      <a:pt x="3000" y="592"/>
                    </a:lnTo>
                    <a:lnTo>
                      <a:pt x="2042" y="222"/>
                    </a:lnTo>
                    <a:lnTo>
                      <a:pt x="1042" y="37"/>
                    </a:lnTo>
                    <a:lnTo>
                      <a:pt x="0" y="0"/>
                    </a:lnTo>
                  </a:path>
                </a:pathLst>
              </a:custGeom>
              <a:noFill/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1" name=""/>
            <p:cNvGrpSpPr/>
            <p:nvPr/>
          </p:nvGrpSpPr>
          <p:grpSpPr>
            <a:xfrm>
              <a:off x="2997000" y="3416040"/>
              <a:ext cx="1518480" cy="900000"/>
              <a:chOff x="2997000" y="3416040"/>
              <a:chExt cx="1518480" cy="900000"/>
            </a:xfrm>
          </p:grpSpPr>
          <p:sp>
            <p:nvSpPr>
              <p:cNvPr id="362" name=""/>
              <p:cNvSpPr/>
              <p:nvPr/>
            </p:nvSpPr>
            <p:spPr>
              <a:xfrm>
                <a:off x="2997000" y="3416040"/>
                <a:ext cx="759240" cy="8992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0"/>
                    </a:moveTo>
                    <a:lnTo>
                      <a:pt x="1042" y="1591"/>
                    </a:lnTo>
                    <a:lnTo>
                      <a:pt x="1958" y="3108"/>
                    </a:lnTo>
                    <a:lnTo>
                      <a:pt x="3000" y="4625"/>
                    </a:lnTo>
                    <a:lnTo>
                      <a:pt x="3958" y="6253"/>
                    </a:lnTo>
                    <a:lnTo>
                      <a:pt x="5042" y="7660"/>
                    </a:lnTo>
                    <a:lnTo>
                      <a:pt x="5958" y="9029"/>
                    </a:lnTo>
                    <a:lnTo>
                      <a:pt x="7000" y="10416"/>
                    </a:lnTo>
                    <a:lnTo>
                      <a:pt x="7958" y="11730"/>
                    </a:lnTo>
                    <a:lnTo>
                      <a:pt x="9000" y="12969"/>
                    </a:lnTo>
                    <a:lnTo>
                      <a:pt x="10042" y="14080"/>
                    </a:lnTo>
                    <a:lnTo>
                      <a:pt x="11000" y="15134"/>
                    </a:lnTo>
                    <a:lnTo>
                      <a:pt x="12000" y="16189"/>
                    </a:lnTo>
                    <a:lnTo>
                      <a:pt x="12958" y="16984"/>
                    </a:lnTo>
                    <a:lnTo>
                      <a:pt x="14042" y="17743"/>
                    </a:lnTo>
                    <a:lnTo>
                      <a:pt x="14958" y="18464"/>
                    </a:lnTo>
                    <a:lnTo>
                      <a:pt x="16000" y="19019"/>
                    </a:lnTo>
                    <a:lnTo>
                      <a:pt x="16958" y="19408"/>
                    </a:lnTo>
                    <a:lnTo>
                      <a:pt x="18042" y="19759"/>
                    </a:lnTo>
                    <a:lnTo>
                      <a:pt x="18917" y="19944"/>
                    </a:lnTo>
                    <a:lnTo>
                      <a:pt x="19958" y="19981"/>
                    </a:lnTo>
                  </a:path>
                </a:pathLst>
              </a:custGeom>
              <a:noFill/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3756240" y="3416760"/>
                <a:ext cx="759240" cy="8992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0"/>
                    </a:moveTo>
                    <a:lnTo>
                      <a:pt x="18958" y="1591"/>
                    </a:lnTo>
                    <a:lnTo>
                      <a:pt x="18042" y="3108"/>
                    </a:lnTo>
                    <a:lnTo>
                      <a:pt x="17000" y="4625"/>
                    </a:lnTo>
                    <a:lnTo>
                      <a:pt x="16042" y="6253"/>
                    </a:lnTo>
                    <a:lnTo>
                      <a:pt x="14958" y="7660"/>
                    </a:lnTo>
                    <a:lnTo>
                      <a:pt x="14042" y="9029"/>
                    </a:lnTo>
                    <a:lnTo>
                      <a:pt x="12958" y="10416"/>
                    </a:lnTo>
                    <a:lnTo>
                      <a:pt x="12000" y="11730"/>
                    </a:lnTo>
                    <a:lnTo>
                      <a:pt x="11000" y="12969"/>
                    </a:lnTo>
                    <a:lnTo>
                      <a:pt x="10042" y="14080"/>
                    </a:lnTo>
                    <a:lnTo>
                      <a:pt x="9000" y="15134"/>
                    </a:lnTo>
                    <a:lnTo>
                      <a:pt x="8000" y="16189"/>
                    </a:lnTo>
                    <a:lnTo>
                      <a:pt x="7000" y="16984"/>
                    </a:lnTo>
                    <a:lnTo>
                      <a:pt x="6042" y="17743"/>
                    </a:lnTo>
                    <a:lnTo>
                      <a:pt x="5042" y="18464"/>
                    </a:lnTo>
                    <a:lnTo>
                      <a:pt x="4000" y="19019"/>
                    </a:lnTo>
                    <a:lnTo>
                      <a:pt x="3000" y="19408"/>
                    </a:lnTo>
                    <a:lnTo>
                      <a:pt x="2042" y="19759"/>
                    </a:lnTo>
                    <a:lnTo>
                      <a:pt x="1042" y="19944"/>
                    </a:lnTo>
                    <a:lnTo>
                      <a:pt x="0" y="19981"/>
                    </a:lnTo>
                  </a:path>
                </a:pathLst>
              </a:custGeom>
              <a:noFill/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4" name=""/>
            <p:cNvSpPr/>
            <p:nvPr/>
          </p:nvSpPr>
          <p:spPr>
            <a:xfrm>
              <a:off x="4516200" y="2516040"/>
              <a:ext cx="758160" cy="9000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19981"/>
                  </a:moveTo>
                  <a:lnTo>
                    <a:pt x="1042" y="18390"/>
                  </a:lnTo>
                  <a:lnTo>
                    <a:pt x="1958" y="16873"/>
                  </a:lnTo>
                  <a:lnTo>
                    <a:pt x="3000" y="15356"/>
                  </a:lnTo>
                  <a:lnTo>
                    <a:pt x="3958" y="13747"/>
                  </a:lnTo>
                  <a:lnTo>
                    <a:pt x="5042" y="12340"/>
                  </a:lnTo>
                  <a:lnTo>
                    <a:pt x="5958" y="10953"/>
                  </a:lnTo>
                  <a:lnTo>
                    <a:pt x="7000" y="9584"/>
                  </a:lnTo>
                  <a:lnTo>
                    <a:pt x="7958" y="8252"/>
                  </a:lnTo>
                  <a:lnTo>
                    <a:pt x="9000" y="7012"/>
                  </a:lnTo>
                  <a:lnTo>
                    <a:pt x="10042" y="5920"/>
                  </a:lnTo>
                  <a:lnTo>
                    <a:pt x="11000" y="4847"/>
                  </a:lnTo>
                  <a:lnTo>
                    <a:pt x="12000" y="3793"/>
                  </a:lnTo>
                  <a:lnTo>
                    <a:pt x="12958" y="3016"/>
                  </a:lnTo>
                  <a:lnTo>
                    <a:pt x="14042" y="2239"/>
                  </a:lnTo>
                  <a:lnTo>
                    <a:pt x="14958" y="1536"/>
                  </a:lnTo>
                  <a:lnTo>
                    <a:pt x="16000" y="962"/>
                  </a:lnTo>
                  <a:lnTo>
                    <a:pt x="16958" y="592"/>
                  </a:lnTo>
                  <a:lnTo>
                    <a:pt x="18042" y="222"/>
                  </a:lnTo>
                  <a:lnTo>
                    <a:pt x="18917" y="37"/>
                  </a:lnTo>
                  <a:lnTo>
                    <a:pt x="19958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277240" y="2516040"/>
              <a:ext cx="757440" cy="9000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58" y="19981"/>
                  </a:moveTo>
                  <a:lnTo>
                    <a:pt x="18958" y="18390"/>
                  </a:lnTo>
                  <a:lnTo>
                    <a:pt x="18042" y="16873"/>
                  </a:lnTo>
                  <a:lnTo>
                    <a:pt x="17000" y="15356"/>
                  </a:lnTo>
                  <a:lnTo>
                    <a:pt x="16042" y="13747"/>
                  </a:lnTo>
                  <a:lnTo>
                    <a:pt x="14958" y="12340"/>
                  </a:lnTo>
                  <a:lnTo>
                    <a:pt x="14042" y="10953"/>
                  </a:lnTo>
                  <a:lnTo>
                    <a:pt x="12958" y="9584"/>
                  </a:lnTo>
                  <a:lnTo>
                    <a:pt x="12000" y="8252"/>
                  </a:lnTo>
                  <a:lnTo>
                    <a:pt x="11000" y="7012"/>
                  </a:lnTo>
                  <a:lnTo>
                    <a:pt x="10042" y="5920"/>
                  </a:lnTo>
                  <a:lnTo>
                    <a:pt x="9000" y="4847"/>
                  </a:lnTo>
                  <a:lnTo>
                    <a:pt x="8000" y="3793"/>
                  </a:lnTo>
                  <a:lnTo>
                    <a:pt x="7000" y="3016"/>
                  </a:lnTo>
                  <a:lnTo>
                    <a:pt x="6042" y="2239"/>
                  </a:lnTo>
                  <a:lnTo>
                    <a:pt x="5042" y="1536"/>
                  </a:lnTo>
                  <a:lnTo>
                    <a:pt x="4000" y="962"/>
                  </a:lnTo>
                  <a:lnTo>
                    <a:pt x="3000" y="592"/>
                  </a:lnTo>
                  <a:lnTo>
                    <a:pt x="2042" y="222"/>
                  </a:lnTo>
                  <a:lnTo>
                    <a:pt x="1042" y="37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6035040" y="3416040"/>
              <a:ext cx="758160" cy="9000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1042" y="1591"/>
                  </a:lnTo>
                  <a:lnTo>
                    <a:pt x="1958" y="3108"/>
                  </a:lnTo>
                  <a:lnTo>
                    <a:pt x="3000" y="4625"/>
                  </a:lnTo>
                  <a:lnTo>
                    <a:pt x="3958" y="6253"/>
                  </a:lnTo>
                  <a:lnTo>
                    <a:pt x="5042" y="7660"/>
                  </a:lnTo>
                  <a:lnTo>
                    <a:pt x="5958" y="9029"/>
                  </a:lnTo>
                  <a:lnTo>
                    <a:pt x="7000" y="10416"/>
                  </a:lnTo>
                  <a:lnTo>
                    <a:pt x="7958" y="11730"/>
                  </a:lnTo>
                  <a:lnTo>
                    <a:pt x="9000" y="12969"/>
                  </a:lnTo>
                  <a:lnTo>
                    <a:pt x="10042" y="14080"/>
                  </a:lnTo>
                  <a:lnTo>
                    <a:pt x="11000" y="15134"/>
                  </a:lnTo>
                  <a:lnTo>
                    <a:pt x="12000" y="16189"/>
                  </a:lnTo>
                  <a:lnTo>
                    <a:pt x="12958" y="16984"/>
                  </a:lnTo>
                  <a:lnTo>
                    <a:pt x="14042" y="17743"/>
                  </a:lnTo>
                  <a:lnTo>
                    <a:pt x="14958" y="18464"/>
                  </a:lnTo>
                  <a:lnTo>
                    <a:pt x="16000" y="19019"/>
                  </a:lnTo>
                  <a:lnTo>
                    <a:pt x="16958" y="19408"/>
                  </a:lnTo>
                  <a:lnTo>
                    <a:pt x="18042" y="19759"/>
                  </a:lnTo>
                  <a:lnTo>
                    <a:pt x="18917" y="19944"/>
                  </a:lnTo>
                  <a:lnTo>
                    <a:pt x="19958" y="19981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6800040" y="3416040"/>
              <a:ext cx="757440" cy="9000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58" y="0"/>
                  </a:moveTo>
                  <a:lnTo>
                    <a:pt x="18958" y="1591"/>
                  </a:lnTo>
                  <a:lnTo>
                    <a:pt x="18042" y="3108"/>
                  </a:lnTo>
                  <a:lnTo>
                    <a:pt x="17000" y="4625"/>
                  </a:lnTo>
                  <a:lnTo>
                    <a:pt x="16042" y="6253"/>
                  </a:lnTo>
                  <a:lnTo>
                    <a:pt x="14958" y="7660"/>
                  </a:lnTo>
                  <a:lnTo>
                    <a:pt x="14042" y="9029"/>
                  </a:lnTo>
                  <a:lnTo>
                    <a:pt x="12958" y="10416"/>
                  </a:lnTo>
                  <a:lnTo>
                    <a:pt x="12000" y="11730"/>
                  </a:lnTo>
                  <a:lnTo>
                    <a:pt x="11000" y="12969"/>
                  </a:lnTo>
                  <a:lnTo>
                    <a:pt x="10042" y="14080"/>
                  </a:lnTo>
                  <a:lnTo>
                    <a:pt x="9000" y="15134"/>
                  </a:lnTo>
                  <a:lnTo>
                    <a:pt x="8000" y="16189"/>
                  </a:lnTo>
                  <a:lnTo>
                    <a:pt x="7000" y="16984"/>
                  </a:lnTo>
                  <a:lnTo>
                    <a:pt x="6042" y="17743"/>
                  </a:lnTo>
                  <a:lnTo>
                    <a:pt x="5042" y="18464"/>
                  </a:lnTo>
                  <a:lnTo>
                    <a:pt x="4000" y="19019"/>
                  </a:lnTo>
                  <a:lnTo>
                    <a:pt x="3000" y="19408"/>
                  </a:lnTo>
                  <a:lnTo>
                    <a:pt x="2042" y="19759"/>
                  </a:lnTo>
                  <a:lnTo>
                    <a:pt x="1042" y="19944"/>
                  </a:lnTo>
                  <a:lnTo>
                    <a:pt x="0" y="19981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8" name=""/>
          <p:cNvSpPr/>
          <p:nvPr/>
        </p:nvSpPr>
        <p:spPr>
          <a:xfrm>
            <a:off x="888840" y="3414600"/>
            <a:ext cx="727560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 flipV="1">
            <a:off x="1476360" y="1391760"/>
            <a:ext cx="0" cy="3940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8043840" y="3189240"/>
            <a:ext cx="3351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1" name=""/>
          <p:cNvGrpSpPr/>
          <p:nvPr/>
        </p:nvGrpSpPr>
        <p:grpSpPr>
          <a:xfrm>
            <a:off x="1073160" y="1616040"/>
            <a:ext cx="6450840" cy="3600000"/>
            <a:chOff x="1073160" y="1616040"/>
            <a:chExt cx="6450840" cy="3600000"/>
          </a:xfrm>
        </p:grpSpPr>
        <p:grpSp>
          <p:nvGrpSpPr>
            <p:cNvPr id="372" name=""/>
            <p:cNvGrpSpPr/>
            <p:nvPr/>
          </p:nvGrpSpPr>
          <p:grpSpPr>
            <a:xfrm>
              <a:off x="5600160" y="3413160"/>
              <a:ext cx="1513080" cy="1802880"/>
              <a:chOff x="5600160" y="3413160"/>
              <a:chExt cx="1513080" cy="1802880"/>
            </a:xfrm>
          </p:grpSpPr>
          <p:sp>
            <p:nvSpPr>
              <p:cNvPr id="373" name=""/>
              <p:cNvSpPr/>
              <p:nvPr/>
            </p:nvSpPr>
            <p:spPr>
              <a:xfrm flipH="1" flipV="1">
                <a:off x="6357240" y="3413160"/>
                <a:ext cx="756000" cy="18014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19981"/>
                    </a:moveTo>
                    <a:lnTo>
                      <a:pt x="1042" y="18390"/>
                    </a:lnTo>
                    <a:lnTo>
                      <a:pt x="1958" y="16873"/>
                    </a:lnTo>
                    <a:lnTo>
                      <a:pt x="3000" y="15356"/>
                    </a:lnTo>
                    <a:lnTo>
                      <a:pt x="3958" y="13747"/>
                    </a:lnTo>
                    <a:lnTo>
                      <a:pt x="5042" y="12340"/>
                    </a:lnTo>
                    <a:lnTo>
                      <a:pt x="5958" y="10953"/>
                    </a:lnTo>
                    <a:lnTo>
                      <a:pt x="7000" y="9584"/>
                    </a:lnTo>
                    <a:lnTo>
                      <a:pt x="7958" y="8252"/>
                    </a:lnTo>
                    <a:lnTo>
                      <a:pt x="9000" y="7012"/>
                    </a:lnTo>
                    <a:lnTo>
                      <a:pt x="10042" y="5920"/>
                    </a:lnTo>
                    <a:lnTo>
                      <a:pt x="11000" y="4847"/>
                    </a:lnTo>
                    <a:lnTo>
                      <a:pt x="12000" y="3793"/>
                    </a:lnTo>
                    <a:lnTo>
                      <a:pt x="12958" y="3016"/>
                    </a:lnTo>
                    <a:lnTo>
                      <a:pt x="14042" y="2239"/>
                    </a:lnTo>
                    <a:lnTo>
                      <a:pt x="14958" y="1536"/>
                    </a:lnTo>
                    <a:lnTo>
                      <a:pt x="16000" y="962"/>
                    </a:lnTo>
                    <a:lnTo>
                      <a:pt x="16958" y="592"/>
                    </a:lnTo>
                    <a:lnTo>
                      <a:pt x="18042" y="222"/>
                    </a:lnTo>
                    <a:lnTo>
                      <a:pt x="18917" y="37"/>
                    </a:lnTo>
                    <a:lnTo>
                      <a:pt x="19958" y="0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5600160" y="3414600"/>
                <a:ext cx="756000" cy="18014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19981"/>
                    </a:moveTo>
                    <a:lnTo>
                      <a:pt x="18958" y="18390"/>
                    </a:lnTo>
                    <a:lnTo>
                      <a:pt x="18042" y="16873"/>
                    </a:lnTo>
                    <a:lnTo>
                      <a:pt x="17000" y="15356"/>
                    </a:lnTo>
                    <a:lnTo>
                      <a:pt x="16042" y="13747"/>
                    </a:lnTo>
                    <a:lnTo>
                      <a:pt x="14958" y="12340"/>
                    </a:lnTo>
                    <a:lnTo>
                      <a:pt x="14042" y="10953"/>
                    </a:lnTo>
                    <a:lnTo>
                      <a:pt x="12958" y="9584"/>
                    </a:lnTo>
                    <a:lnTo>
                      <a:pt x="12000" y="8252"/>
                    </a:lnTo>
                    <a:lnTo>
                      <a:pt x="11000" y="7012"/>
                    </a:lnTo>
                    <a:lnTo>
                      <a:pt x="10042" y="5920"/>
                    </a:lnTo>
                    <a:lnTo>
                      <a:pt x="9000" y="4847"/>
                    </a:lnTo>
                    <a:lnTo>
                      <a:pt x="8000" y="3793"/>
                    </a:lnTo>
                    <a:lnTo>
                      <a:pt x="7000" y="3016"/>
                    </a:lnTo>
                    <a:lnTo>
                      <a:pt x="6042" y="2239"/>
                    </a:lnTo>
                    <a:lnTo>
                      <a:pt x="5042" y="1536"/>
                    </a:lnTo>
                    <a:lnTo>
                      <a:pt x="4000" y="962"/>
                    </a:lnTo>
                    <a:lnTo>
                      <a:pt x="3000" y="592"/>
                    </a:lnTo>
                    <a:lnTo>
                      <a:pt x="2042" y="222"/>
                    </a:lnTo>
                    <a:lnTo>
                      <a:pt x="1042" y="37"/>
                    </a:lnTo>
                    <a:lnTo>
                      <a:pt x="0" y="0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5" name=""/>
            <p:cNvGrpSpPr/>
            <p:nvPr/>
          </p:nvGrpSpPr>
          <p:grpSpPr>
            <a:xfrm>
              <a:off x="4082760" y="1616040"/>
              <a:ext cx="1515240" cy="1802880"/>
              <a:chOff x="4082760" y="1616040"/>
              <a:chExt cx="1515240" cy="1802880"/>
            </a:xfrm>
          </p:grpSpPr>
          <p:sp>
            <p:nvSpPr>
              <p:cNvPr id="376" name=""/>
              <p:cNvSpPr/>
              <p:nvPr/>
            </p:nvSpPr>
            <p:spPr>
              <a:xfrm flipH="1" flipV="1">
                <a:off x="4842720" y="1617480"/>
                <a:ext cx="755280" cy="18014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0"/>
                    </a:moveTo>
                    <a:lnTo>
                      <a:pt x="1042" y="1591"/>
                    </a:lnTo>
                    <a:lnTo>
                      <a:pt x="1958" y="3108"/>
                    </a:lnTo>
                    <a:lnTo>
                      <a:pt x="3000" y="4625"/>
                    </a:lnTo>
                    <a:lnTo>
                      <a:pt x="3958" y="6253"/>
                    </a:lnTo>
                    <a:lnTo>
                      <a:pt x="5042" y="7660"/>
                    </a:lnTo>
                    <a:lnTo>
                      <a:pt x="5958" y="9029"/>
                    </a:lnTo>
                    <a:lnTo>
                      <a:pt x="7000" y="10416"/>
                    </a:lnTo>
                    <a:lnTo>
                      <a:pt x="7958" y="11730"/>
                    </a:lnTo>
                    <a:lnTo>
                      <a:pt x="9000" y="12969"/>
                    </a:lnTo>
                    <a:lnTo>
                      <a:pt x="10042" y="14080"/>
                    </a:lnTo>
                    <a:lnTo>
                      <a:pt x="11000" y="15134"/>
                    </a:lnTo>
                    <a:lnTo>
                      <a:pt x="12000" y="16189"/>
                    </a:lnTo>
                    <a:lnTo>
                      <a:pt x="12958" y="16984"/>
                    </a:lnTo>
                    <a:lnTo>
                      <a:pt x="14042" y="17743"/>
                    </a:lnTo>
                    <a:lnTo>
                      <a:pt x="14958" y="18464"/>
                    </a:lnTo>
                    <a:lnTo>
                      <a:pt x="16000" y="19019"/>
                    </a:lnTo>
                    <a:lnTo>
                      <a:pt x="16958" y="19408"/>
                    </a:lnTo>
                    <a:lnTo>
                      <a:pt x="18042" y="19759"/>
                    </a:lnTo>
                    <a:lnTo>
                      <a:pt x="18917" y="19944"/>
                    </a:lnTo>
                    <a:lnTo>
                      <a:pt x="19958" y="19981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 flipH="1" flipV="1">
                <a:off x="4082760" y="1616040"/>
                <a:ext cx="755280" cy="18014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0"/>
                    </a:moveTo>
                    <a:lnTo>
                      <a:pt x="18958" y="1591"/>
                    </a:lnTo>
                    <a:lnTo>
                      <a:pt x="18042" y="3108"/>
                    </a:lnTo>
                    <a:lnTo>
                      <a:pt x="17000" y="4625"/>
                    </a:lnTo>
                    <a:lnTo>
                      <a:pt x="16042" y="6253"/>
                    </a:lnTo>
                    <a:lnTo>
                      <a:pt x="14958" y="7660"/>
                    </a:lnTo>
                    <a:lnTo>
                      <a:pt x="14042" y="9029"/>
                    </a:lnTo>
                    <a:lnTo>
                      <a:pt x="12958" y="10416"/>
                    </a:lnTo>
                    <a:lnTo>
                      <a:pt x="12000" y="11730"/>
                    </a:lnTo>
                    <a:lnTo>
                      <a:pt x="11000" y="12969"/>
                    </a:lnTo>
                    <a:lnTo>
                      <a:pt x="10042" y="14080"/>
                    </a:lnTo>
                    <a:lnTo>
                      <a:pt x="9000" y="15134"/>
                    </a:lnTo>
                    <a:lnTo>
                      <a:pt x="8000" y="16189"/>
                    </a:lnTo>
                    <a:lnTo>
                      <a:pt x="7000" y="16984"/>
                    </a:lnTo>
                    <a:lnTo>
                      <a:pt x="6042" y="17743"/>
                    </a:lnTo>
                    <a:lnTo>
                      <a:pt x="5042" y="18464"/>
                    </a:lnTo>
                    <a:lnTo>
                      <a:pt x="4000" y="19019"/>
                    </a:lnTo>
                    <a:lnTo>
                      <a:pt x="3000" y="19408"/>
                    </a:lnTo>
                    <a:lnTo>
                      <a:pt x="2042" y="19759"/>
                    </a:lnTo>
                    <a:lnTo>
                      <a:pt x="1042" y="19944"/>
                    </a:lnTo>
                    <a:lnTo>
                      <a:pt x="0" y="19981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8" name=""/>
            <p:cNvSpPr/>
            <p:nvPr/>
          </p:nvSpPr>
          <p:spPr>
            <a:xfrm flipH="1" flipV="1">
              <a:off x="3325680" y="3416400"/>
              <a:ext cx="756360" cy="179712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19981"/>
                  </a:moveTo>
                  <a:lnTo>
                    <a:pt x="1042" y="18390"/>
                  </a:lnTo>
                  <a:lnTo>
                    <a:pt x="1958" y="16873"/>
                  </a:lnTo>
                  <a:lnTo>
                    <a:pt x="3000" y="15356"/>
                  </a:lnTo>
                  <a:lnTo>
                    <a:pt x="3958" y="13747"/>
                  </a:lnTo>
                  <a:lnTo>
                    <a:pt x="5042" y="12340"/>
                  </a:lnTo>
                  <a:lnTo>
                    <a:pt x="5958" y="10953"/>
                  </a:lnTo>
                  <a:lnTo>
                    <a:pt x="7000" y="9584"/>
                  </a:lnTo>
                  <a:lnTo>
                    <a:pt x="7958" y="8252"/>
                  </a:lnTo>
                  <a:lnTo>
                    <a:pt x="9000" y="7012"/>
                  </a:lnTo>
                  <a:lnTo>
                    <a:pt x="10042" y="5920"/>
                  </a:lnTo>
                  <a:lnTo>
                    <a:pt x="11000" y="4847"/>
                  </a:lnTo>
                  <a:lnTo>
                    <a:pt x="12000" y="3793"/>
                  </a:lnTo>
                  <a:lnTo>
                    <a:pt x="12958" y="3016"/>
                  </a:lnTo>
                  <a:lnTo>
                    <a:pt x="14042" y="2239"/>
                  </a:lnTo>
                  <a:lnTo>
                    <a:pt x="14958" y="1536"/>
                  </a:lnTo>
                  <a:lnTo>
                    <a:pt x="16000" y="962"/>
                  </a:lnTo>
                  <a:lnTo>
                    <a:pt x="16958" y="592"/>
                  </a:lnTo>
                  <a:lnTo>
                    <a:pt x="18042" y="222"/>
                  </a:lnTo>
                  <a:lnTo>
                    <a:pt x="18917" y="37"/>
                  </a:lnTo>
                  <a:lnTo>
                    <a:pt x="19958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 flipH="1" flipV="1">
              <a:off x="2568960" y="3418920"/>
              <a:ext cx="756360" cy="179712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58" y="19981"/>
                  </a:moveTo>
                  <a:lnTo>
                    <a:pt x="18958" y="18390"/>
                  </a:lnTo>
                  <a:lnTo>
                    <a:pt x="18042" y="16873"/>
                  </a:lnTo>
                  <a:lnTo>
                    <a:pt x="17000" y="15356"/>
                  </a:lnTo>
                  <a:lnTo>
                    <a:pt x="16042" y="13747"/>
                  </a:lnTo>
                  <a:lnTo>
                    <a:pt x="14958" y="12340"/>
                  </a:lnTo>
                  <a:lnTo>
                    <a:pt x="14042" y="10953"/>
                  </a:lnTo>
                  <a:lnTo>
                    <a:pt x="12958" y="9584"/>
                  </a:lnTo>
                  <a:lnTo>
                    <a:pt x="12000" y="8252"/>
                  </a:lnTo>
                  <a:lnTo>
                    <a:pt x="11000" y="7012"/>
                  </a:lnTo>
                  <a:lnTo>
                    <a:pt x="10042" y="5920"/>
                  </a:lnTo>
                  <a:lnTo>
                    <a:pt x="9000" y="4847"/>
                  </a:lnTo>
                  <a:lnTo>
                    <a:pt x="8000" y="3793"/>
                  </a:lnTo>
                  <a:lnTo>
                    <a:pt x="7000" y="3016"/>
                  </a:lnTo>
                  <a:lnTo>
                    <a:pt x="6042" y="2239"/>
                  </a:lnTo>
                  <a:lnTo>
                    <a:pt x="5042" y="1536"/>
                  </a:lnTo>
                  <a:lnTo>
                    <a:pt x="4000" y="962"/>
                  </a:lnTo>
                  <a:lnTo>
                    <a:pt x="3000" y="592"/>
                  </a:lnTo>
                  <a:lnTo>
                    <a:pt x="2042" y="222"/>
                  </a:lnTo>
                  <a:lnTo>
                    <a:pt x="1042" y="37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 flipH="1" flipV="1">
              <a:off x="1806480" y="1620720"/>
              <a:ext cx="756360" cy="17996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1042" y="1591"/>
                  </a:lnTo>
                  <a:lnTo>
                    <a:pt x="1958" y="3108"/>
                  </a:lnTo>
                  <a:lnTo>
                    <a:pt x="3000" y="4625"/>
                  </a:lnTo>
                  <a:lnTo>
                    <a:pt x="3958" y="6253"/>
                  </a:lnTo>
                  <a:lnTo>
                    <a:pt x="5042" y="7660"/>
                  </a:lnTo>
                  <a:lnTo>
                    <a:pt x="5958" y="9029"/>
                  </a:lnTo>
                  <a:lnTo>
                    <a:pt x="7000" y="10416"/>
                  </a:lnTo>
                  <a:lnTo>
                    <a:pt x="7958" y="11730"/>
                  </a:lnTo>
                  <a:lnTo>
                    <a:pt x="9000" y="12969"/>
                  </a:lnTo>
                  <a:lnTo>
                    <a:pt x="10042" y="14080"/>
                  </a:lnTo>
                  <a:lnTo>
                    <a:pt x="11000" y="15134"/>
                  </a:lnTo>
                  <a:lnTo>
                    <a:pt x="12000" y="16189"/>
                  </a:lnTo>
                  <a:lnTo>
                    <a:pt x="12958" y="16984"/>
                  </a:lnTo>
                  <a:lnTo>
                    <a:pt x="14042" y="17743"/>
                  </a:lnTo>
                  <a:lnTo>
                    <a:pt x="14958" y="18464"/>
                  </a:lnTo>
                  <a:lnTo>
                    <a:pt x="16000" y="19019"/>
                  </a:lnTo>
                  <a:lnTo>
                    <a:pt x="16958" y="19408"/>
                  </a:lnTo>
                  <a:lnTo>
                    <a:pt x="18042" y="19759"/>
                  </a:lnTo>
                  <a:lnTo>
                    <a:pt x="18917" y="19944"/>
                  </a:lnTo>
                  <a:lnTo>
                    <a:pt x="19958" y="1998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 flipH="1" flipV="1">
              <a:off x="1480680" y="1620720"/>
              <a:ext cx="338040" cy="436680"/>
            </a:xfrm>
            <a:custGeom>
              <a:avLst/>
              <a:gdLst/>
              <a:ahLst/>
              <a:rect l="l" t="t" r="r" b="b"/>
              <a:pathLst>
                <a:path w="56" h="68">
                  <a:moveTo>
                    <a:pt x="56" y="0"/>
                  </a:moveTo>
                  <a:lnTo>
                    <a:pt x="50" y="14"/>
                  </a:lnTo>
                  <a:lnTo>
                    <a:pt x="44" y="26"/>
                  </a:lnTo>
                  <a:lnTo>
                    <a:pt x="38" y="36"/>
                  </a:lnTo>
                  <a:lnTo>
                    <a:pt x="32" y="46"/>
                  </a:lnTo>
                  <a:lnTo>
                    <a:pt x="25" y="54"/>
                  </a:lnTo>
                  <a:lnTo>
                    <a:pt x="19" y="60"/>
                  </a:lnTo>
                  <a:lnTo>
                    <a:pt x="13" y="65"/>
                  </a:lnTo>
                  <a:lnTo>
                    <a:pt x="7" y="67"/>
                  </a:lnTo>
                  <a:lnTo>
                    <a:pt x="0" y="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 flipH="1" flipV="1">
              <a:off x="7107120" y="2058480"/>
              <a:ext cx="416520" cy="1362960"/>
            </a:xfrm>
            <a:custGeom>
              <a:avLst/>
              <a:gdLst/>
              <a:ahLst/>
              <a:rect l="l" t="t" r="r" b="b"/>
              <a:pathLst>
                <a:path w="69" h="213">
                  <a:moveTo>
                    <a:pt x="69" y="0"/>
                  </a:moveTo>
                  <a:lnTo>
                    <a:pt x="57" y="44"/>
                  </a:lnTo>
                  <a:lnTo>
                    <a:pt x="44" y="88"/>
                  </a:lnTo>
                  <a:lnTo>
                    <a:pt x="32" y="127"/>
                  </a:lnTo>
                  <a:lnTo>
                    <a:pt x="25" y="146"/>
                  </a:lnTo>
                  <a:lnTo>
                    <a:pt x="19" y="165"/>
                  </a:lnTo>
                  <a:lnTo>
                    <a:pt x="13" y="182"/>
                  </a:lnTo>
                  <a:lnTo>
                    <a:pt x="7" y="198"/>
                  </a:lnTo>
                  <a:lnTo>
                    <a:pt x="0" y="21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 flipH="1" flipV="1">
              <a:off x="1072800" y="2058480"/>
              <a:ext cx="416160" cy="1362960"/>
            </a:xfrm>
            <a:custGeom>
              <a:avLst/>
              <a:gdLst/>
              <a:ahLst/>
              <a:rect l="l" t="t" r="r" b="b"/>
              <a:pathLst>
                <a:path w="69" h="213">
                  <a:moveTo>
                    <a:pt x="69" y="0"/>
                  </a:moveTo>
                  <a:lnTo>
                    <a:pt x="57" y="44"/>
                  </a:lnTo>
                  <a:lnTo>
                    <a:pt x="44" y="88"/>
                  </a:lnTo>
                  <a:lnTo>
                    <a:pt x="32" y="127"/>
                  </a:lnTo>
                  <a:lnTo>
                    <a:pt x="25" y="146"/>
                  </a:lnTo>
                  <a:lnTo>
                    <a:pt x="19" y="165"/>
                  </a:lnTo>
                  <a:lnTo>
                    <a:pt x="13" y="182"/>
                  </a:lnTo>
                  <a:lnTo>
                    <a:pt x="7" y="198"/>
                  </a:lnTo>
                  <a:lnTo>
                    <a:pt x="0" y="21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295360" y="2500200"/>
            <a:ext cx="0" cy="889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 flipV="1">
            <a:off x="2995560" y="3389040"/>
            <a:ext cx="0" cy="1384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 flipV="1">
            <a:off x="5589720" y="2716200"/>
            <a:ext cx="0" cy="690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2190600" y="2212920"/>
            <a:ext cx="741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s-E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1600200" y="2214720"/>
            <a:ext cx="74448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s-E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2373480" y="4633920"/>
            <a:ext cx="7412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s-E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860560" y="3075120"/>
            <a:ext cx="7430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s-E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4956120" y="3086280"/>
            <a:ext cx="7430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s-E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5470560" y="2455920"/>
            <a:ext cx="74448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s-E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2118240" y="3348000"/>
            <a:ext cx="311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2718360" y="3348000"/>
            <a:ext cx="311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340960" y="3348000"/>
            <a:ext cx="311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V="1">
            <a:off x="5645160" y="1638360"/>
            <a:ext cx="755640" cy="812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 flipH="1">
            <a:off x="2315880" y="5049720"/>
            <a:ext cx="500040" cy="538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9E2C8-02E0-4C76-B89F-4F229CA137DC}" type="slidenum">
              <a:t>26</a:t>
            </a:fld>
          </a:p>
        </p:txBody>
      </p:sp>
    </p:spTree>
  </p:cSld>
  <p:transition>
    <p:fade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500"/>
                            </p:stCondLst>
                            <p:childTnLst>
                              <p:par>
                                <p:cTn id="1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/>
          <p:nvPr/>
        </p:nvSpPr>
        <p:spPr>
          <a:xfrm>
            <a:off x="927000" y="937800"/>
            <a:ext cx="729000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La solución surge de observar que lo que se mantiene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invariante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en el tiempo es, por un lado, la razón entre las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amplitudes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, y, por el otro, la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fase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entre ambas onda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3BE06-7EA9-4DAF-B7CA-0E897C08C38C}" type="slidenum">
              <a:t>27</a:t>
            </a:fld>
          </a:p>
        </p:txBody>
      </p:sp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927000" y="1547280"/>
            <a:ext cx="7290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La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función de transferencia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se definirá como un número complejo cuyo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módulo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es el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cociente de amplitudes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y cuyo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argumento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es la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fa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6933E-E12B-41DE-88A4-A35AA084B2FD}" type="slidenum">
              <a:t>28</a:t>
            </a:fld>
          </a:p>
        </p:txBody>
      </p:sp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0" name=""/>
          <p:cNvGrpSpPr/>
          <p:nvPr/>
        </p:nvGrpSpPr>
        <p:grpSpPr>
          <a:xfrm>
            <a:off x="2639880" y="1747800"/>
            <a:ext cx="3862440" cy="1436760"/>
            <a:chOff x="2639880" y="1747800"/>
            <a:chExt cx="3862440" cy="1436760"/>
          </a:xfrm>
        </p:grpSpPr>
        <p:sp>
          <p:nvSpPr>
            <p:cNvPr id="401" name=""/>
            <p:cNvSpPr/>
            <p:nvPr/>
          </p:nvSpPr>
          <p:spPr>
            <a:xfrm>
              <a:off x="5221080" y="1747800"/>
              <a:ext cx="10479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4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5221080" y="2450880"/>
              <a:ext cx="1047960" cy="7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4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639880" y="2085840"/>
              <a:ext cx="38624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4400" spc="-1" strike="noStrike">
                  <a:solidFill>
                    <a:srgbClr val="000000"/>
                  </a:solidFill>
                  <a:latin typeface="Times New Roman"/>
                </a:rPr>
                <a:t>|H</a:t>
              </a:r>
              <a:r>
                <a:rPr b="0" lang="es-ES" sz="4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s-ES" sz="4400" spc="-1" strike="noStrike">
                  <a:solidFill>
                    <a:srgbClr val="000000"/>
                  </a:solidFill>
                  <a:latin typeface="Times New Roman"/>
                </a:rPr>
                <a:t>f </a:t>
              </a:r>
              <a:r>
                <a:rPr b="0" lang="es-ES" sz="4400" spc="-1" strike="noStrike">
                  <a:solidFill>
                    <a:srgbClr val="000000"/>
                  </a:solidFill>
                  <a:latin typeface="Times New Roman"/>
                </a:rPr>
                <a:t>)|</a:t>
              </a:r>
              <a:r>
                <a:rPr b="1" lang="es-ES" sz="4400" spc="-1" strike="noStrike">
                  <a:solidFill>
                    <a:srgbClr val="000000"/>
                  </a:solidFill>
                  <a:latin typeface="Times New Roman"/>
                </a:rPr>
                <a:t>   =   </a:t>
              </a:r>
              <a:r>
                <a:rPr b="1" lang="es-ES" sz="4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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4" name=""/>
          <p:cNvSpPr/>
          <p:nvPr/>
        </p:nvSpPr>
        <p:spPr>
          <a:xfrm>
            <a:off x="2639880" y="3914640"/>
            <a:ext cx="386244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arg(</a:t>
            </a:r>
            <a:r>
              <a:rPr b="0" i="1" lang="es-ES" sz="4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s-ES" sz="44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))</a:t>
            </a:r>
            <a:r>
              <a:rPr b="1" lang="es-ES" sz="4400" spc="-1" strike="noStrike">
                <a:solidFill>
                  <a:srgbClr val="000000"/>
                </a:solidFill>
                <a:latin typeface="Times New Roman"/>
              </a:rPr>
              <a:t>  =   </a:t>
            </a:r>
            <a:r>
              <a:rPr b="0" lang="es-ES" sz="4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D021F-BBA0-47DD-B6A3-19942D8CB110}" type="slidenum">
              <a:t>29</a:t>
            </a:fld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42840" y="1117080"/>
            <a:ext cx="725832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Dado un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sistema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cualquiera que procesa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señales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, como un amplificador, un filtro o una parte de un organismo vivo, podemos identificar una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excitación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o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entrada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y una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respuesta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o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salid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28CAF-47B2-45A1-AB88-E28790D7BB21}" type="slidenum">
              <a:t>3</a:t>
            </a:fld>
          </a:p>
        </p:txBody>
      </p:sp>
    </p:spTree>
  </p:cSld>
  <p:transition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5" name=""/>
          <p:cNvGrpSpPr/>
          <p:nvPr/>
        </p:nvGrpSpPr>
        <p:grpSpPr>
          <a:xfrm>
            <a:off x="1724040" y="587160"/>
            <a:ext cx="5692320" cy="5689080"/>
            <a:chOff x="1724040" y="587160"/>
            <a:chExt cx="5692320" cy="5689080"/>
          </a:xfrm>
        </p:grpSpPr>
        <p:sp>
          <p:nvSpPr>
            <p:cNvPr id="406" name=""/>
            <p:cNvSpPr/>
            <p:nvPr/>
          </p:nvSpPr>
          <p:spPr>
            <a:xfrm>
              <a:off x="2453040" y="1314000"/>
              <a:ext cx="4236120" cy="4233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1724040" y="3430800"/>
              <a:ext cx="5692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 flipV="1">
              <a:off x="4571280" y="587160"/>
              <a:ext cx="0" cy="568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 flipV="1">
              <a:off x="4571280" y="1657080"/>
              <a:ext cx="1163520" cy="1784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3571560" y="2433600"/>
              <a:ext cx="1999080" cy="2003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6757" y="1792"/>
                  </a:moveTo>
                  <a:arcTo wR="10800" hR="10800" stAng="-3391328" swAng="33683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6757" y="1792"/>
                  </a:moveTo>
                  <a:arcTo wR="10800" hR="10800" stAng="-3391328" swAng="3368325"/>
                </a:path>
              </a:pathLst>
            </a:custGeom>
            <a:noFill/>
            <a:ln w="9360">
              <a:solidFill>
                <a:srgbClr val="000000"/>
              </a:solidFill>
              <a:miter/>
              <a:headEnd len="med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1" name=""/>
          <p:cNvSpPr/>
          <p:nvPr/>
        </p:nvSpPr>
        <p:spPr>
          <a:xfrm>
            <a:off x="5679360" y="1141560"/>
            <a:ext cx="86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5435640" y="2549520"/>
            <a:ext cx="36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4581000" y="1716120"/>
            <a:ext cx="91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Times New Roman"/>
              </a:rPr>
              <a:t>|H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s-ES" sz="24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)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 flipH="1" flipV="1">
            <a:off x="5680800" y="1613880"/>
            <a:ext cx="104760" cy="1047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49F3A-07DB-4B14-8668-DDA1E12B9B33}" type="slidenum">
              <a:t>30</a:t>
            </a:fld>
          </a:p>
        </p:txBody>
      </p:sp>
    </p:spTree>
  </p:cSld>
  <p:transition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2454120" y="1314360"/>
            <a:ext cx="4235760" cy="42339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724040" y="3430440"/>
            <a:ext cx="5692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 flipV="1">
            <a:off x="4572000" y="587520"/>
            <a:ext cx="0" cy="5689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4572000" y="1657440"/>
            <a:ext cx="1163520" cy="1784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322800" y="1461960"/>
            <a:ext cx="149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Im</a:t>
            </a:r>
            <a:r>
              <a:rPr b="0" i="1" lang="es-ES" sz="24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s-ES" sz="24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 flipH="1">
            <a:off x="4572000" y="1663560"/>
            <a:ext cx="1146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742000" y="1654200"/>
            <a:ext cx="0" cy="1757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4992840" y="3408480"/>
            <a:ext cx="149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Re</a:t>
            </a:r>
            <a:r>
              <a:rPr b="0" i="1" lang="es-ES" sz="24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s-ES" sz="24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 flipH="1" flipV="1">
            <a:off x="5680800" y="1613880"/>
            <a:ext cx="104760" cy="1047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5679360" y="1141560"/>
            <a:ext cx="86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BA331-D2CF-417F-B020-0EB7989AFA11}" type="slidenum">
              <a:t>31</a:t>
            </a:fld>
          </a:p>
        </p:txBody>
      </p:sp>
    </p:spTree>
  </p:cSld>
  <p:transition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/>
          <p:nvPr/>
        </p:nvSpPr>
        <p:spPr>
          <a:xfrm>
            <a:off x="927000" y="1242720"/>
            <a:ext cx="7290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Algo muy interesante es que esta definición de función de transferencia permite un cálculo directo dentro del campo de los números complej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75407-C0DA-47E2-B66F-E8AFB61B14AE}" type="slidenum">
              <a:t>32</a:t>
            </a:fld>
          </a:p>
        </p:txBody>
      </p:sp>
    </p:spTree>
  </p:cSld>
  <p:transition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/>
          <p:nvPr/>
        </p:nvSpPr>
        <p:spPr>
          <a:xfrm>
            <a:off x="927000" y="2461320"/>
            <a:ext cx="7290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Para ello se introduce un nuevo concepto: el de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fas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57D8E-3323-4750-AA3E-D5815035D5CA}" type="slidenum">
              <a:t>33</a:t>
            </a:fld>
          </a:p>
        </p:txBody>
      </p:sp>
    </p:spTree>
  </p:cSld>
  <p:transition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/>
          <p:nvPr/>
        </p:nvSpPr>
        <p:spPr>
          <a:xfrm>
            <a:off x="927000" y="1547280"/>
            <a:ext cx="7290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Un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fasor 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es una forma de representar en un solo número (complejo) las dos propiedades de una onda senoidal: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amplitud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y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fa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5901E-B2D0-4641-ACDF-F8872A7944BB}" type="slidenum">
              <a:t>34</a:t>
            </a:fld>
          </a:p>
        </p:txBody>
      </p:sp>
    </p:spTree>
  </p:cSld>
  <p:transition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8" name=""/>
          <p:cNvGrpSpPr/>
          <p:nvPr/>
        </p:nvGrpSpPr>
        <p:grpSpPr>
          <a:xfrm>
            <a:off x="3325680" y="3537000"/>
            <a:ext cx="2492280" cy="2662920"/>
            <a:chOff x="3325680" y="3537000"/>
            <a:chExt cx="2492280" cy="2662920"/>
          </a:xfrm>
        </p:grpSpPr>
        <p:sp>
          <p:nvSpPr>
            <p:cNvPr id="429" name=""/>
            <p:cNvSpPr/>
            <p:nvPr/>
          </p:nvSpPr>
          <p:spPr>
            <a:xfrm>
              <a:off x="3421080" y="3792240"/>
              <a:ext cx="2303280" cy="22982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3325680" y="4943160"/>
              <a:ext cx="249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 flipV="1">
              <a:off x="4572000" y="3683880"/>
              <a:ext cx="0" cy="2516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 flipV="1">
              <a:off x="4572000" y="4053960"/>
              <a:ext cx="728640" cy="89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4027680" y="4399920"/>
              <a:ext cx="1088280" cy="1088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706" y="2497"/>
                  </a:moveTo>
                  <a:arcTo wR="10800" hR="10800" stAng="-3014961" swAng="29919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7706" y="2497"/>
                  </a:moveTo>
                  <a:arcTo wR="10800" hR="10800" stAng="-3014961" swAng="2991957"/>
                </a:path>
              </a:pathLst>
            </a:custGeom>
            <a:noFill/>
            <a:ln w="9360">
              <a:solidFill>
                <a:srgbClr val="000000"/>
              </a:solidFill>
              <a:miter/>
              <a:headEnd len="med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5114160" y="353700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032800" y="437328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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4588920" y="3935160"/>
              <a:ext cx="54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24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i="1" lang="es-E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Ẏ</a:t>
              </a:r>
              <a:r>
                <a:rPr b="0" i="1" lang="es-E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 flipV="1">
              <a:off x="5276880" y="4026600"/>
              <a:ext cx="56880" cy="56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8" name=""/>
          <p:cNvGrpSpPr/>
          <p:nvPr/>
        </p:nvGrpSpPr>
        <p:grpSpPr>
          <a:xfrm>
            <a:off x="1539720" y="220680"/>
            <a:ext cx="6062760" cy="3300480"/>
            <a:chOff x="1539720" y="220680"/>
            <a:chExt cx="6062760" cy="3300480"/>
          </a:xfrm>
        </p:grpSpPr>
        <p:sp>
          <p:nvSpPr>
            <p:cNvPr id="439" name=""/>
            <p:cNvSpPr/>
            <p:nvPr/>
          </p:nvSpPr>
          <p:spPr>
            <a:xfrm>
              <a:off x="1592280" y="2259000"/>
              <a:ext cx="5842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 flipV="1">
              <a:off x="2157480" y="669960"/>
              <a:ext cx="0" cy="2851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827360" y="220680"/>
              <a:ext cx="585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s-E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7338960" y="2060640"/>
              <a:ext cx="26352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4354560" y="2216160"/>
              <a:ext cx="53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9999"/>
                  </a:solidFill>
                  <a:latin typeface="Times New Roman"/>
                </a:rPr>
                <a:t>2</a:t>
              </a:r>
              <a:r>
                <a:rPr b="0" lang="es-ES" sz="1800" spc="-1" strike="noStrike">
                  <a:solidFill>
                    <a:srgbClr val="009999"/>
                  </a:solidFill>
                  <a:latin typeface="Symbol"/>
                  <a:ea typeface="Symbol"/>
                </a:rPr>
                <a:t>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4" name=""/>
            <p:cNvGrpSpPr/>
            <p:nvPr/>
          </p:nvGrpSpPr>
          <p:grpSpPr>
            <a:xfrm>
              <a:off x="1838520" y="1104840"/>
              <a:ext cx="5088960" cy="2304720"/>
              <a:chOff x="1838520" y="1104840"/>
              <a:chExt cx="5088960" cy="2304720"/>
            </a:xfrm>
          </p:grpSpPr>
          <p:grpSp>
            <p:nvGrpSpPr>
              <p:cNvPr id="445" name=""/>
              <p:cNvGrpSpPr/>
              <p:nvPr/>
            </p:nvGrpSpPr>
            <p:grpSpPr>
              <a:xfrm>
                <a:off x="5410080" y="2255400"/>
                <a:ext cx="1193760" cy="1154160"/>
                <a:chOff x="5410080" y="2255400"/>
                <a:chExt cx="1193760" cy="1154160"/>
              </a:xfrm>
            </p:grpSpPr>
            <p:sp>
              <p:nvSpPr>
                <p:cNvPr id="446" name=""/>
                <p:cNvSpPr/>
                <p:nvPr/>
              </p:nvSpPr>
              <p:spPr>
                <a:xfrm flipH="1" flipV="1">
                  <a:off x="6006960" y="2255400"/>
                  <a:ext cx="596520" cy="11534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0" y="19981"/>
                      </a:moveTo>
                      <a:lnTo>
                        <a:pt x="1042" y="18390"/>
                      </a:lnTo>
                      <a:lnTo>
                        <a:pt x="1958" y="16873"/>
                      </a:lnTo>
                      <a:lnTo>
                        <a:pt x="3000" y="15356"/>
                      </a:lnTo>
                      <a:lnTo>
                        <a:pt x="3958" y="13747"/>
                      </a:lnTo>
                      <a:lnTo>
                        <a:pt x="5042" y="12340"/>
                      </a:lnTo>
                      <a:lnTo>
                        <a:pt x="5958" y="10953"/>
                      </a:lnTo>
                      <a:lnTo>
                        <a:pt x="7000" y="9584"/>
                      </a:lnTo>
                      <a:lnTo>
                        <a:pt x="7958" y="8252"/>
                      </a:lnTo>
                      <a:lnTo>
                        <a:pt x="9000" y="7012"/>
                      </a:lnTo>
                      <a:lnTo>
                        <a:pt x="10042" y="5920"/>
                      </a:lnTo>
                      <a:lnTo>
                        <a:pt x="11000" y="4847"/>
                      </a:lnTo>
                      <a:lnTo>
                        <a:pt x="12000" y="3793"/>
                      </a:lnTo>
                      <a:lnTo>
                        <a:pt x="12958" y="3016"/>
                      </a:lnTo>
                      <a:lnTo>
                        <a:pt x="14042" y="2239"/>
                      </a:lnTo>
                      <a:lnTo>
                        <a:pt x="14958" y="1536"/>
                      </a:lnTo>
                      <a:lnTo>
                        <a:pt x="16000" y="962"/>
                      </a:lnTo>
                      <a:lnTo>
                        <a:pt x="16958" y="592"/>
                      </a:lnTo>
                      <a:lnTo>
                        <a:pt x="18042" y="222"/>
                      </a:lnTo>
                      <a:lnTo>
                        <a:pt x="18917" y="37"/>
                      </a:lnTo>
                      <a:lnTo>
                        <a:pt x="19958" y="0"/>
                      </a:ln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7" name=""/>
                <p:cNvSpPr/>
                <p:nvPr/>
              </p:nvSpPr>
              <p:spPr>
                <a:xfrm flipH="1" flipV="1">
                  <a:off x="5409720" y="2256120"/>
                  <a:ext cx="596520" cy="11534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58" y="19981"/>
                      </a:moveTo>
                      <a:lnTo>
                        <a:pt x="18958" y="18390"/>
                      </a:lnTo>
                      <a:lnTo>
                        <a:pt x="18042" y="16873"/>
                      </a:lnTo>
                      <a:lnTo>
                        <a:pt x="17000" y="15356"/>
                      </a:lnTo>
                      <a:lnTo>
                        <a:pt x="16042" y="13747"/>
                      </a:lnTo>
                      <a:lnTo>
                        <a:pt x="14958" y="12340"/>
                      </a:lnTo>
                      <a:lnTo>
                        <a:pt x="14042" y="10953"/>
                      </a:lnTo>
                      <a:lnTo>
                        <a:pt x="12958" y="9584"/>
                      </a:lnTo>
                      <a:lnTo>
                        <a:pt x="12000" y="8252"/>
                      </a:lnTo>
                      <a:lnTo>
                        <a:pt x="11000" y="7012"/>
                      </a:lnTo>
                      <a:lnTo>
                        <a:pt x="10042" y="5920"/>
                      </a:lnTo>
                      <a:lnTo>
                        <a:pt x="9000" y="4847"/>
                      </a:lnTo>
                      <a:lnTo>
                        <a:pt x="8000" y="3793"/>
                      </a:lnTo>
                      <a:lnTo>
                        <a:pt x="7000" y="3016"/>
                      </a:lnTo>
                      <a:lnTo>
                        <a:pt x="6042" y="2239"/>
                      </a:lnTo>
                      <a:lnTo>
                        <a:pt x="5042" y="1536"/>
                      </a:lnTo>
                      <a:lnTo>
                        <a:pt x="4000" y="962"/>
                      </a:lnTo>
                      <a:lnTo>
                        <a:pt x="3000" y="592"/>
                      </a:lnTo>
                      <a:lnTo>
                        <a:pt x="2042" y="222"/>
                      </a:lnTo>
                      <a:lnTo>
                        <a:pt x="1042" y="37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8" name=""/>
              <p:cNvGrpSpPr/>
              <p:nvPr/>
            </p:nvGrpSpPr>
            <p:grpSpPr>
              <a:xfrm>
                <a:off x="4212720" y="1104840"/>
                <a:ext cx="1195560" cy="1154160"/>
                <a:chOff x="4212720" y="1104840"/>
                <a:chExt cx="1195560" cy="1154160"/>
              </a:xfrm>
            </p:grpSpPr>
            <p:sp>
              <p:nvSpPr>
                <p:cNvPr id="449" name=""/>
                <p:cNvSpPr/>
                <p:nvPr/>
              </p:nvSpPr>
              <p:spPr>
                <a:xfrm flipH="1" flipV="1">
                  <a:off x="4812120" y="1105560"/>
                  <a:ext cx="596160" cy="11534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0" y="0"/>
                      </a:moveTo>
                      <a:lnTo>
                        <a:pt x="1042" y="1591"/>
                      </a:lnTo>
                      <a:lnTo>
                        <a:pt x="1958" y="3108"/>
                      </a:lnTo>
                      <a:lnTo>
                        <a:pt x="3000" y="4625"/>
                      </a:lnTo>
                      <a:lnTo>
                        <a:pt x="3958" y="6253"/>
                      </a:lnTo>
                      <a:lnTo>
                        <a:pt x="5042" y="7660"/>
                      </a:lnTo>
                      <a:lnTo>
                        <a:pt x="5958" y="9029"/>
                      </a:lnTo>
                      <a:lnTo>
                        <a:pt x="7000" y="10416"/>
                      </a:lnTo>
                      <a:lnTo>
                        <a:pt x="7958" y="11730"/>
                      </a:lnTo>
                      <a:lnTo>
                        <a:pt x="9000" y="12969"/>
                      </a:lnTo>
                      <a:lnTo>
                        <a:pt x="10042" y="14080"/>
                      </a:lnTo>
                      <a:lnTo>
                        <a:pt x="11000" y="15134"/>
                      </a:lnTo>
                      <a:lnTo>
                        <a:pt x="12000" y="16189"/>
                      </a:lnTo>
                      <a:lnTo>
                        <a:pt x="12958" y="16984"/>
                      </a:lnTo>
                      <a:lnTo>
                        <a:pt x="14042" y="17743"/>
                      </a:lnTo>
                      <a:lnTo>
                        <a:pt x="14958" y="18464"/>
                      </a:lnTo>
                      <a:lnTo>
                        <a:pt x="16000" y="19019"/>
                      </a:lnTo>
                      <a:lnTo>
                        <a:pt x="16958" y="19408"/>
                      </a:lnTo>
                      <a:lnTo>
                        <a:pt x="18042" y="19759"/>
                      </a:lnTo>
                      <a:lnTo>
                        <a:pt x="18917" y="19944"/>
                      </a:lnTo>
                      <a:lnTo>
                        <a:pt x="19958" y="19981"/>
                      </a:ln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0" name=""/>
                <p:cNvSpPr/>
                <p:nvPr/>
              </p:nvSpPr>
              <p:spPr>
                <a:xfrm flipH="1" flipV="1">
                  <a:off x="4212720" y="1104840"/>
                  <a:ext cx="596160" cy="11534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58" y="0"/>
                      </a:moveTo>
                      <a:lnTo>
                        <a:pt x="18958" y="1591"/>
                      </a:lnTo>
                      <a:lnTo>
                        <a:pt x="18042" y="3108"/>
                      </a:lnTo>
                      <a:lnTo>
                        <a:pt x="17000" y="4625"/>
                      </a:lnTo>
                      <a:lnTo>
                        <a:pt x="16042" y="6253"/>
                      </a:lnTo>
                      <a:lnTo>
                        <a:pt x="14958" y="7660"/>
                      </a:lnTo>
                      <a:lnTo>
                        <a:pt x="14042" y="9029"/>
                      </a:lnTo>
                      <a:lnTo>
                        <a:pt x="12958" y="10416"/>
                      </a:lnTo>
                      <a:lnTo>
                        <a:pt x="12000" y="11730"/>
                      </a:lnTo>
                      <a:lnTo>
                        <a:pt x="11000" y="12969"/>
                      </a:lnTo>
                      <a:lnTo>
                        <a:pt x="10042" y="14080"/>
                      </a:lnTo>
                      <a:lnTo>
                        <a:pt x="9000" y="15134"/>
                      </a:lnTo>
                      <a:lnTo>
                        <a:pt x="8000" y="16189"/>
                      </a:lnTo>
                      <a:lnTo>
                        <a:pt x="7000" y="16984"/>
                      </a:lnTo>
                      <a:lnTo>
                        <a:pt x="6042" y="17743"/>
                      </a:lnTo>
                      <a:lnTo>
                        <a:pt x="5042" y="18464"/>
                      </a:lnTo>
                      <a:lnTo>
                        <a:pt x="4000" y="19019"/>
                      </a:lnTo>
                      <a:lnTo>
                        <a:pt x="3000" y="19408"/>
                      </a:lnTo>
                      <a:lnTo>
                        <a:pt x="2042" y="19759"/>
                      </a:lnTo>
                      <a:lnTo>
                        <a:pt x="1042" y="19944"/>
                      </a:lnTo>
                      <a:lnTo>
                        <a:pt x="0" y="19981"/>
                      </a:ln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51" name=""/>
              <p:cNvSpPr/>
              <p:nvPr/>
            </p:nvSpPr>
            <p:spPr>
              <a:xfrm flipH="1" flipV="1">
                <a:off x="3616200" y="2257560"/>
                <a:ext cx="596880" cy="11505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19981"/>
                    </a:moveTo>
                    <a:lnTo>
                      <a:pt x="1042" y="18390"/>
                    </a:lnTo>
                    <a:lnTo>
                      <a:pt x="1958" y="16873"/>
                    </a:lnTo>
                    <a:lnTo>
                      <a:pt x="3000" y="15356"/>
                    </a:lnTo>
                    <a:lnTo>
                      <a:pt x="3958" y="13747"/>
                    </a:lnTo>
                    <a:lnTo>
                      <a:pt x="5042" y="12340"/>
                    </a:lnTo>
                    <a:lnTo>
                      <a:pt x="5958" y="10953"/>
                    </a:lnTo>
                    <a:lnTo>
                      <a:pt x="7000" y="9584"/>
                    </a:lnTo>
                    <a:lnTo>
                      <a:pt x="7958" y="8252"/>
                    </a:lnTo>
                    <a:lnTo>
                      <a:pt x="9000" y="7012"/>
                    </a:lnTo>
                    <a:lnTo>
                      <a:pt x="10042" y="5920"/>
                    </a:lnTo>
                    <a:lnTo>
                      <a:pt x="11000" y="4847"/>
                    </a:lnTo>
                    <a:lnTo>
                      <a:pt x="12000" y="3793"/>
                    </a:lnTo>
                    <a:lnTo>
                      <a:pt x="12958" y="3016"/>
                    </a:lnTo>
                    <a:lnTo>
                      <a:pt x="14042" y="2239"/>
                    </a:lnTo>
                    <a:lnTo>
                      <a:pt x="14958" y="1536"/>
                    </a:lnTo>
                    <a:lnTo>
                      <a:pt x="16000" y="962"/>
                    </a:lnTo>
                    <a:lnTo>
                      <a:pt x="16958" y="592"/>
                    </a:lnTo>
                    <a:lnTo>
                      <a:pt x="18042" y="222"/>
                    </a:lnTo>
                    <a:lnTo>
                      <a:pt x="18917" y="37"/>
                    </a:lnTo>
                    <a:lnTo>
                      <a:pt x="19958" y="0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 flipH="1" flipV="1">
                <a:off x="3019320" y="2259000"/>
                <a:ext cx="596880" cy="11505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19981"/>
                    </a:moveTo>
                    <a:lnTo>
                      <a:pt x="18958" y="18390"/>
                    </a:lnTo>
                    <a:lnTo>
                      <a:pt x="18042" y="16873"/>
                    </a:lnTo>
                    <a:lnTo>
                      <a:pt x="17000" y="15356"/>
                    </a:lnTo>
                    <a:lnTo>
                      <a:pt x="16042" y="13747"/>
                    </a:lnTo>
                    <a:lnTo>
                      <a:pt x="14958" y="12340"/>
                    </a:lnTo>
                    <a:lnTo>
                      <a:pt x="14042" y="10953"/>
                    </a:lnTo>
                    <a:lnTo>
                      <a:pt x="12958" y="9584"/>
                    </a:lnTo>
                    <a:lnTo>
                      <a:pt x="12000" y="8252"/>
                    </a:lnTo>
                    <a:lnTo>
                      <a:pt x="11000" y="7012"/>
                    </a:lnTo>
                    <a:lnTo>
                      <a:pt x="10042" y="5920"/>
                    </a:lnTo>
                    <a:lnTo>
                      <a:pt x="9000" y="4847"/>
                    </a:lnTo>
                    <a:lnTo>
                      <a:pt x="8000" y="3793"/>
                    </a:lnTo>
                    <a:lnTo>
                      <a:pt x="7000" y="3016"/>
                    </a:lnTo>
                    <a:lnTo>
                      <a:pt x="6042" y="2239"/>
                    </a:lnTo>
                    <a:lnTo>
                      <a:pt x="5042" y="1536"/>
                    </a:lnTo>
                    <a:lnTo>
                      <a:pt x="4000" y="962"/>
                    </a:lnTo>
                    <a:lnTo>
                      <a:pt x="3000" y="592"/>
                    </a:lnTo>
                    <a:lnTo>
                      <a:pt x="2042" y="222"/>
                    </a:lnTo>
                    <a:lnTo>
                      <a:pt x="1042" y="37"/>
                    </a:lnTo>
                    <a:lnTo>
                      <a:pt x="0" y="0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 flipH="1" flipV="1">
                <a:off x="2417760" y="1108440"/>
                <a:ext cx="596880" cy="11520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0"/>
                    </a:moveTo>
                    <a:lnTo>
                      <a:pt x="1042" y="1591"/>
                    </a:lnTo>
                    <a:lnTo>
                      <a:pt x="1958" y="3108"/>
                    </a:lnTo>
                    <a:lnTo>
                      <a:pt x="3000" y="4625"/>
                    </a:lnTo>
                    <a:lnTo>
                      <a:pt x="3958" y="6253"/>
                    </a:lnTo>
                    <a:lnTo>
                      <a:pt x="5042" y="7660"/>
                    </a:lnTo>
                    <a:lnTo>
                      <a:pt x="5958" y="9029"/>
                    </a:lnTo>
                    <a:lnTo>
                      <a:pt x="7000" y="10416"/>
                    </a:lnTo>
                    <a:lnTo>
                      <a:pt x="7958" y="11730"/>
                    </a:lnTo>
                    <a:lnTo>
                      <a:pt x="9000" y="12969"/>
                    </a:lnTo>
                    <a:lnTo>
                      <a:pt x="10042" y="14080"/>
                    </a:lnTo>
                    <a:lnTo>
                      <a:pt x="11000" y="15134"/>
                    </a:lnTo>
                    <a:lnTo>
                      <a:pt x="12000" y="16189"/>
                    </a:lnTo>
                    <a:lnTo>
                      <a:pt x="12958" y="16984"/>
                    </a:lnTo>
                    <a:lnTo>
                      <a:pt x="14042" y="17743"/>
                    </a:lnTo>
                    <a:lnTo>
                      <a:pt x="14958" y="18464"/>
                    </a:lnTo>
                    <a:lnTo>
                      <a:pt x="16000" y="19019"/>
                    </a:lnTo>
                    <a:lnTo>
                      <a:pt x="16958" y="19408"/>
                    </a:lnTo>
                    <a:lnTo>
                      <a:pt x="18042" y="19759"/>
                    </a:lnTo>
                    <a:lnTo>
                      <a:pt x="18917" y="19944"/>
                    </a:lnTo>
                    <a:lnTo>
                      <a:pt x="19958" y="19981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 flipH="1" flipV="1">
                <a:off x="2160000" y="1108440"/>
                <a:ext cx="266760" cy="279360"/>
              </a:xfrm>
              <a:custGeom>
                <a:avLst/>
                <a:gdLst/>
                <a:ahLst/>
                <a:rect l="l" t="t" r="r" b="b"/>
                <a:pathLst>
                  <a:path w="56" h="68">
                    <a:moveTo>
                      <a:pt x="56" y="0"/>
                    </a:moveTo>
                    <a:lnTo>
                      <a:pt x="50" y="14"/>
                    </a:lnTo>
                    <a:lnTo>
                      <a:pt x="44" y="26"/>
                    </a:lnTo>
                    <a:lnTo>
                      <a:pt x="38" y="36"/>
                    </a:lnTo>
                    <a:lnTo>
                      <a:pt x="32" y="46"/>
                    </a:lnTo>
                    <a:lnTo>
                      <a:pt x="25" y="54"/>
                    </a:lnTo>
                    <a:lnTo>
                      <a:pt x="19" y="60"/>
                    </a:lnTo>
                    <a:lnTo>
                      <a:pt x="13" y="65"/>
                    </a:lnTo>
                    <a:lnTo>
                      <a:pt x="7" y="67"/>
                    </a:lnTo>
                    <a:lnTo>
                      <a:pt x="0" y="68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 flipH="1" flipV="1">
                <a:off x="6598440" y="1387800"/>
                <a:ext cx="328680" cy="872640"/>
              </a:xfrm>
              <a:custGeom>
                <a:avLst/>
                <a:gdLst/>
                <a:ahLst/>
                <a:rect l="l" t="t" r="r" b="b"/>
                <a:pathLst>
                  <a:path w="69" h="213">
                    <a:moveTo>
                      <a:pt x="69" y="0"/>
                    </a:moveTo>
                    <a:lnTo>
                      <a:pt x="57" y="44"/>
                    </a:lnTo>
                    <a:lnTo>
                      <a:pt x="44" y="88"/>
                    </a:lnTo>
                    <a:lnTo>
                      <a:pt x="32" y="127"/>
                    </a:lnTo>
                    <a:lnTo>
                      <a:pt x="25" y="146"/>
                    </a:lnTo>
                    <a:lnTo>
                      <a:pt x="19" y="165"/>
                    </a:lnTo>
                    <a:lnTo>
                      <a:pt x="13" y="182"/>
                    </a:lnTo>
                    <a:lnTo>
                      <a:pt x="7" y="198"/>
                    </a:lnTo>
                    <a:lnTo>
                      <a:pt x="0" y="213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H="1" flipV="1">
                <a:off x="1838520" y="1387800"/>
                <a:ext cx="328320" cy="872640"/>
              </a:xfrm>
              <a:custGeom>
                <a:avLst/>
                <a:gdLst/>
                <a:ahLst/>
                <a:rect l="l" t="t" r="r" b="b"/>
                <a:pathLst>
                  <a:path w="69" h="213">
                    <a:moveTo>
                      <a:pt x="69" y="0"/>
                    </a:moveTo>
                    <a:lnTo>
                      <a:pt x="57" y="44"/>
                    </a:lnTo>
                    <a:lnTo>
                      <a:pt x="44" y="88"/>
                    </a:lnTo>
                    <a:lnTo>
                      <a:pt x="32" y="127"/>
                    </a:lnTo>
                    <a:lnTo>
                      <a:pt x="25" y="146"/>
                    </a:lnTo>
                    <a:lnTo>
                      <a:pt x="19" y="165"/>
                    </a:lnTo>
                    <a:lnTo>
                      <a:pt x="13" y="182"/>
                    </a:lnTo>
                    <a:lnTo>
                      <a:pt x="7" y="198"/>
                    </a:lnTo>
                    <a:lnTo>
                      <a:pt x="0" y="213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7" name=""/>
            <p:cNvSpPr/>
            <p:nvPr/>
          </p:nvSpPr>
          <p:spPr>
            <a:xfrm>
              <a:off x="1539720" y="2216160"/>
              <a:ext cx="50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1800" spc="-1" strike="noStrike">
                  <a:solidFill>
                    <a:srgbClr val="009999"/>
                  </a:solidFill>
                  <a:latin typeface="Symbol"/>
                  <a:ea typeface="Symbol"/>
                </a:rPr>
                <a:t></a:t>
              </a:r>
              <a:r>
                <a:rPr b="0" lang="es-ES" sz="1800" spc="-1" strike="noStrike">
                  <a:solidFill>
                    <a:srgbClr val="009999"/>
                  </a:solidFill>
                  <a:latin typeface="Symbol"/>
                  <a:ea typeface="Symbol"/>
                </a:rPr>
                <a:t>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2190600" y="735120"/>
              <a:ext cx="4557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4456080" y="1916280"/>
              <a:ext cx="330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1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6775560" y="1930320"/>
              <a:ext cx="439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i="1" lang="es-ES" sz="1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6719760" y="2216160"/>
              <a:ext cx="53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9999"/>
                  </a:solidFill>
                  <a:latin typeface="Times New Roman"/>
                </a:rPr>
                <a:t>4</a:t>
              </a:r>
              <a:r>
                <a:rPr b="0" lang="es-ES" sz="1800" spc="-1" strike="noStrike">
                  <a:solidFill>
                    <a:srgbClr val="009999"/>
                  </a:solidFill>
                  <a:latin typeface="Symbol"/>
                  <a:ea typeface="Symbol"/>
                </a:rPr>
                <a:t>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4762440" y="108900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B2ECB-CB15-4885-9056-E63B930C2B6D}" type="slidenum">
              <a:t>35</a:t>
            </a:fld>
          </a:p>
        </p:txBody>
      </p:sp>
    </p:spTree>
  </p:cSld>
  <p:transition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3" name=""/>
          <p:cNvGrpSpPr/>
          <p:nvPr/>
        </p:nvGrpSpPr>
        <p:grpSpPr>
          <a:xfrm>
            <a:off x="2754360" y="3537000"/>
            <a:ext cx="2492280" cy="2662920"/>
            <a:chOff x="2754360" y="3537000"/>
            <a:chExt cx="2492280" cy="2662920"/>
          </a:xfrm>
        </p:grpSpPr>
        <p:sp>
          <p:nvSpPr>
            <p:cNvPr id="464" name=""/>
            <p:cNvSpPr/>
            <p:nvPr/>
          </p:nvSpPr>
          <p:spPr>
            <a:xfrm>
              <a:off x="2849760" y="3792240"/>
              <a:ext cx="2303280" cy="22982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2754360" y="4943160"/>
              <a:ext cx="249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 flipV="1">
              <a:off x="4000680" y="3683880"/>
              <a:ext cx="0" cy="2516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4000680" y="4053960"/>
              <a:ext cx="728640" cy="89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3456360" y="4399920"/>
              <a:ext cx="1088280" cy="1088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706" y="2497"/>
                  </a:moveTo>
                  <a:arcTo wR="10800" hR="10800" stAng="-3014961" swAng="29919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7706" y="2497"/>
                  </a:moveTo>
                  <a:arcTo wR="10800" hR="10800" stAng="-3014961" swAng="2991957"/>
                </a:path>
              </a:pathLst>
            </a:custGeom>
            <a:noFill/>
            <a:ln w="9360">
              <a:solidFill>
                <a:srgbClr val="000000"/>
              </a:solidFill>
              <a:miter/>
              <a:headEnd len="med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4542840" y="353700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28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4461480" y="437328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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017600" y="3935160"/>
              <a:ext cx="54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2400" spc="-1" strike="noStrike">
                  <a:solidFill>
                    <a:srgbClr val="000000"/>
                  </a:solidFill>
                  <a:latin typeface="Times New Roman"/>
                </a:rPr>
                <a:t>|Y</a:t>
              </a:r>
              <a:r>
                <a:rPr b="0" i="1" lang="es-E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 flipH="1" flipV="1">
              <a:off x="4705560" y="4026600"/>
              <a:ext cx="56880" cy="56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1825560" y="220680"/>
            <a:ext cx="6062760" cy="3300480"/>
            <a:chOff x="1825560" y="220680"/>
            <a:chExt cx="6062760" cy="3300480"/>
          </a:xfrm>
        </p:grpSpPr>
        <p:sp>
          <p:nvSpPr>
            <p:cNvPr id="474" name=""/>
            <p:cNvSpPr/>
            <p:nvPr/>
          </p:nvSpPr>
          <p:spPr>
            <a:xfrm>
              <a:off x="1878120" y="2259000"/>
              <a:ext cx="5842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 flipV="1">
              <a:off x="2443320" y="669960"/>
              <a:ext cx="0" cy="2851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2113200" y="220680"/>
              <a:ext cx="585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s-E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7624800" y="2060640"/>
              <a:ext cx="26352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4640400" y="2216160"/>
              <a:ext cx="53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9999"/>
                  </a:solidFill>
                  <a:latin typeface="Times New Roman"/>
                </a:rPr>
                <a:t>2</a:t>
              </a:r>
              <a:r>
                <a:rPr b="0" lang="es-ES" sz="1800" spc="-1" strike="noStrike">
                  <a:solidFill>
                    <a:srgbClr val="009999"/>
                  </a:solidFill>
                  <a:latin typeface="Symbol"/>
                  <a:ea typeface="Symbol"/>
                </a:rPr>
                <a:t>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9" name=""/>
            <p:cNvGrpSpPr/>
            <p:nvPr/>
          </p:nvGrpSpPr>
          <p:grpSpPr>
            <a:xfrm>
              <a:off x="2124360" y="1104840"/>
              <a:ext cx="5088960" cy="2304720"/>
              <a:chOff x="2124360" y="1104840"/>
              <a:chExt cx="5088960" cy="2304720"/>
            </a:xfrm>
          </p:grpSpPr>
          <p:grpSp>
            <p:nvGrpSpPr>
              <p:cNvPr id="480" name=""/>
              <p:cNvGrpSpPr/>
              <p:nvPr/>
            </p:nvGrpSpPr>
            <p:grpSpPr>
              <a:xfrm>
                <a:off x="5695920" y="2255400"/>
                <a:ext cx="1193760" cy="1154160"/>
                <a:chOff x="5695920" y="2255400"/>
                <a:chExt cx="1193760" cy="1154160"/>
              </a:xfrm>
            </p:grpSpPr>
            <p:sp>
              <p:nvSpPr>
                <p:cNvPr id="481" name=""/>
                <p:cNvSpPr/>
                <p:nvPr/>
              </p:nvSpPr>
              <p:spPr>
                <a:xfrm flipH="1" flipV="1">
                  <a:off x="6292800" y="2255400"/>
                  <a:ext cx="596520" cy="11534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0" y="19981"/>
                      </a:moveTo>
                      <a:lnTo>
                        <a:pt x="1042" y="18390"/>
                      </a:lnTo>
                      <a:lnTo>
                        <a:pt x="1958" y="16873"/>
                      </a:lnTo>
                      <a:lnTo>
                        <a:pt x="3000" y="15356"/>
                      </a:lnTo>
                      <a:lnTo>
                        <a:pt x="3958" y="13747"/>
                      </a:lnTo>
                      <a:lnTo>
                        <a:pt x="5042" y="12340"/>
                      </a:lnTo>
                      <a:lnTo>
                        <a:pt x="5958" y="10953"/>
                      </a:lnTo>
                      <a:lnTo>
                        <a:pt x="7000" y="9584"/>
                      </a:lnTo>
                      <a:lnTo>
                        <a:pt x="7958" y="8252"/>
                      </a:lnTo>
                      <a:lnTo>
                        <a:pt x="9000" y="7012"/>
                      </a:lnTo>
                      <a:lnTo>
                        <a:pt x="10042" y="5920"/>
                      </a:lnTo>
                      <a:lnTo>
                        <a:pt x="11000" y="4847"/>
                      </a:lnTo>
                      <a:lnTo>
                        <a:pt x="12000" y="3793"/>
                      </a:lnTo>
                      <a:lnTo>
                        <a:pt x="12958" y="3016"/>
                      </a:lnTo>
                      <a:lnTo>
                        <a:pt x="14042" y="2239"/>
                      </a:lnTo>
                      <a:lnTo>
                        <a:pt x="14958" y="1536"/>
                      </a:lnTo>
                      <a:lnTo>
                        <a:pt x="16000" y="962"/>
                      </a:lnTo>
                      <a:lnTo>
                        <a:pt x="16958" y="592"/>
                      </a:lnTo>
                      <a:lnTo>
                        <a:pt x="18042" y="222"/>
                      </a:lnTo>
                      <a:lnTo>
                        <a:pt x="18917" y="37"/>
                      </a:lnTo>
                      <a:lnTo>
                        <a:pt x="19958" y="0"/>
                      </a:ln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2" name=""/>
                <p:cNvSpPr/>
                <p:nvPr/>
              </p:nvSpPr>
              <p:spPr>
                <a:xfrm flipH="1" flipV="1">
                  <a:off x="5695560" y="2256120"/>
                  <a:ext cx="596520" cy="11534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58" y="19981"/>
                      </a:moveTo>
                      <a:lnTo>
                        <a:pt x="18958" y="18390"/>
                      </a:lnTo>
                      <a:lnTo>
                        <a:pt x="18042" y="16873"/>
                      </a:lnTo>
                      <a:lnTo>
                        <a:pt x="17000" y="15356"/>
                      </a:lnTo>
                      <a:lnTo>
                        <a:pt x="16042" y="13747"/>
                      </a:lnTo>
                      <a:lnTo>
                        <a:pt x="14958" y="12340"/>
                      </a:lnTo>
                      <a:lnTo>
                        <a:pt x="14042" y="10953"/>
                      </a:lnTo>
                      <a:lnTo>
                        <a:pt x="12958" y="9584"/>
                      </a:lnTo>
                      <a:lnTo>
                        <a:pt x="12000" y="8252"/>
                      </a:lnTo>
                      <a:lnTo>
                        <a:pt x="11000" y="7012"/>
                      </a:lnTo>
                      <a:lnTo>
                        <a:pt x="10042" y="5920"/>
                      </a:lnTo>
                      <a:lnTo>
                        <a:pt x="9000" y="4847"/>
                      </a:lnTo>
                      <a:lnTo>
                        <a:pt x="8000" y="3793"/>
                      </a:lnTo>
                      <a:lnTo>
                        <a:pt x="7000" y="3016"/>
                      </a:lnTo>
                      <a:lnTo>
                        <a:pt x="6042" y="2239"/>
                      </a:lnTo>
                      <a:lnTo>
                        <a:pt x="5042" y="1536"/>
                      </a:lnTo>
                      <a:lnTo>
                        <a:pt x="4000" y="962"/>
                      </a:lnTo>
                      <a:lnTo>
                        <a:pt x="3000" y="592"/>
                      </a:lnTo>
                      <a:lnTo>
                        <a:pt x="2042" y="222"/>
                      </a:lnTo>
                      <a:lnTo>
                        <a:pt x="1042" y="37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3" name=""/>
              <p:cNvGrpSpPr/>
              <p:nvPr/>
            </p:nvGrpSpPr>
            <p:grpSpPr>
              <a:xfrm>
                <a:off x="4498560" y="1104840"/>
                <a:ext cx="1195560" cy="1154160"/>
                <a:chOff x="4498560" y="1104840"/>
                <a:chExt cx="1195560" cy="1154160"/>
              </a:xfrm>
            </p:grpSpPr>
            <p:sp>
              <p:nvSpPr>
                <p:cNvPr id="484" name=""/>
                <p:cNvSpPr/>
                <p:nvPr/>
              </p:nvSpPr>
              <p:spPr>
                <a:xfrm flipH="1" flipV="1">
                  <a:off x="5097960" y="1105560"/>
                  <a:ext cx="596160" cy="11534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0" y="0"/>
                      </a:moveTo>
                      <a:lnTo>
                        <a:pt x="1042" y="1591"/>
                      </a:lnTo>
                      <a:lnTo>
                        <a:pt x="1958" y="3108"/>
                      </a:lnTo>
                      <a:lnTo>
                        <a:pt x="3000" y="4625"/>
                      </a:lnTo>
                      <a:lnTo>
                        <a:pt x="3958" y="6253"/>
                      </a:lnTo>
                      <a:lnTo>
                        <a:pt x="5042" y="7660"/>
                      </a:lnTo>
                      <a:lnTo>
                        <a:pt x="5958" y="9029"/>
                      </a:lnTo>
                      <a:lnTo>
                        <a:pt x="7000" y="10416"/>
                      </a:lnTo>
                      <a:lnTo>
                        <a:pt x="7958" y="11730"/>
                      </a:lnTo>
                      <a:lnTo>
                        <a:pt x="9000" y="12969"/>
                      </a:lnTo>
                      <a:lnTo>
                        <a:pt x="10042" y="14080"/>
                      </a:lnTo>
                      <a:lnTo>
                        <a:pt x="11000" y="15134"/>
                      </a:lnTo>
                      <a:lnTo>
                        <a:pt x="12000" y="16189"/>
                      </a:lnTo>
                      <a:lnTo>
                        <a:pt x="12958" y="16984"/>
                      </a:lnTo>
                      <a:lnTo>
                        <a:pt x="14042" y="17743"/>
                      </a:lnTo>
                      <a:lnTo>
                        <a:pt x="14958" y="18464"/>
                      </a:lnTo>
                      <a:lnTo>
                        <a:pt x="16000" y="19019"/>
                      </a:lnTo>
                      <a:lnTo>
                        <a:pt x="16958" y="19408"/>
                      </a:lnTo>
                      <a:lnTo>
                        <a:pt x="18042" y="19759"/>
                      </a:lnTo>
                      <a:lnTo>
                        <a:pt x="18917" y="19944"/>
                      </a:lnTo>
                      <a:lnTo>
                        <a:pt x="19958" y="19981"/>
                      </a:ln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5" name=""/>
                <p:cNvSpPr/>
                <p:nvPr/>
              </p:nvSpPr>
              <p:spPr>
                <a:xfrm flipH="1" flipV="1">
                  <a:off x="4498560" y="1104840"/>
                  <a:ext cx="596160" cy="11534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58" y="0"/>
                      </a:moveTo>
                      <a:lnTo>
                        <a:pt x="18958" y="1591"/>
                      </a:lnTo>
                      <a:lnTo>
                        <a:pt x="18042" y="3108"/>
                      </a:lnTo>
                      <a:lnTo>
                        <a:pt x="17000" y="4625"/>
                      </a:lnTo>
                      <a:lnTo>
                        <a:pt x="16042" y="6253"/>
                      </a:lnTo>
                      <a:lnTo>
                        <a:pt x="14958" y="7660"/>
                      </a:lnTo>
                      <a:lnTo>
                        <a:pt x="14042" y="9029"/>
                      </a:lnTo>
                      <a:lnTo>
                        <a:pt x="12958" y="10416"/>
                      </a:lnTo>
                      <a:lnTo>
                        <a:pt x="12000" y="11730"/>
                      </a:lnTo>
                      <a:lnTo>
                        <a:pt x="11000" y="12969"/>
                      </a:lnTo>
                      <a:lnTo>
                        <a:pt x="10042" y="14080"/>
                      </a:lnTo>
                      <a:lnTo>
                        <a:pt x="9000" y="15134"/>
                      </a:lnTo>
                      <a:lnTo>
                        <a:pt x="8000" y="16189"/>
                      </a:lnTo>
                      <a:lnTo>
                        <a:pt x="7000" y="16984"/>
                      </a:lnTo>
                      <a:lnTo>
                        <a:pt x="6042" y="17743"/>
                      </a:lnTo>
                      <a:lnTo>
                        <a:pt x="5042" y="18464"/>
                      </a:lnTo>
                      <a:lnTo>
                        <a:pt x="4000" y="19019"/>
                      </a:lnTo>
                      <a:lnTo>
                        <a:pt x="3000" y="19408"/>
                      </a:lnTo>
                      <a:lnTo>
                        <a:pt x="2042" y="19759"/>
                      </a:lnTo>
                      <a:lnTo>
                        <a:pt x="1042" y="19944"/>
                      </a:lnTo>
                      <a:lnTo>
                        <a:pt x="0" y="19981"/>
                      </a:ln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86" name=""/>
              <p:cNvSpPr/>
              <p:nvPr/>
            </p:nvSpPr>
            <p:spPr>
              <a:xfrm flipH="1" flipV="1">
                <a:off x="3902040" y="2257560"/>
                <a:ext cx="596880" cy="11505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19981"/>
                    </a:moveTo>
                    <a:lnTo>
                      <a:pt x="1042" y="18390"/>
                    </a:lnTo>
                    <a:lnTo>
                      <a:pt x="1958" y="16873"/>
                    </a:lnTo>
                    <a:lnTo>
                      <a:pt x="3000" y="15356"/>
                    </a:lnTo>
                    <a:lnTo>
                      <a:pt x="3958" y="13747"/>
                    </a:lnTo>
                    <a:lnTo>
                      <a:pt x="5042" y="12340"/>
                    </a:lnTo>
                    <a:lnTo>
                      <a:pt x="5958" y="10953"/>
                    </a:lnTo>
                    <a:lnTo>
                      <a:pt x="7000" y="9584"/>
                    </a:lnTo>
                    <a:lnTo>
                      <a:pt x="7958" y="8252"/>
                    </a:lnTo>
                    <a:lnTo>
                      <a:pt x="9000" y="7012"/>
                    </a:lnTo>
                    <a:lnTo>
                      <a:pt x="10042" y="5920"/>
                    </a:lnTo>
                    <a:lnTo>
                      <a:pt x="11000" y="4847"/>
                    </a:lnTo>
                    <a:lnTo>
                      <a:pt x="12000" y="3793"/>
                    </a:lnTo>
                    <a:lnTo>
                      <a:pt x="12958" y="3016"/>
                    </a:lnTo>
                    <a:lnTo>
                      <a:pt x="14042" y="2239"/>
                    </a:lnTo>
                    <a:lnTo>
                      <a:pt x="14958" y="1536"/>
                    </a:lnTo>
                    <a:lnTo>
                      <a:pt x="16000" y="962"/>
                    </a:lnTo>
                    <a:lnTo>
                      <a:pt x="16958" y="592"/>
                    </a:lnTo>
                    <a:lnTo>
                      <a:pt x="18042" y="222"/>
                    </a:lnTo>
                    <a:lnTo>
                      <a:pt x="18917" y="37"/>
                    </a:lnTo>
                    <a:lnTo>
                      <a:pt x="19958" y="0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 flipH="1" flipV="1">
                <a:off x="3305160" y="2259000"/>
                <a:ext cx="596880" cy="11505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19981"/>
                    </a:moveTo>
                    <a:lnTo>
                      <a:pt x="18958" y="18390"/>
                    </a:lnTo>
                    <a:lnTo>
                      <a:pt x="18042" y="16873"/>
                    </a:lnTo>
                    <a:lnTo>
                      <a:pt x="17000" y="15356"/>
                    </a:lnTo>
                    <a:lnTo>
                      <a:pt x="16042" y="13747"/>
                    </a:lnTo>
                    <a:lnTo>
                      <a:pt x="14958" y="12340"/>
                    </a:lnTo>
                    <a:lnTo>
                      <a:pt x="14042" y="10953"/>
                    </a:lnTo>
                    <a:lnTo>
                      <a:pt x="12958" y="9584"/>
                    </a:lnTo>
                    <a:lnTo>
                      <a:pt x="12000" y="8252"/>
                    </a:lnTo>
                    <a:lnTo>
                      <a:pt x="11000" y="7012"/>
                    </a:lnTo>
                    <a:lnTo>
                      <a:pt x="10042" y="5920"/>
                    </a:lnTo>
                    <a:lnTo>
                      <a:pt x="9000" y="4847"/>
                    </a:lnTo>
                    <a:lnTo>
                      <a:pt x="8000" y="3793"/>
                    </a:lnTo>
                    <a:lnTo>
                      <a:pt x="7000" y="3016"/>
                    </a:lnTo>
                    <a:lnTo>
                      <a:pt x="6042" y="2239"/>
                    </a:lnTo>
                    <a:lnTo>
                      <a:pt x="5042" y="1536"/>
                    </a:lnTo>
                    <a:lnTo>
                      <a:pt x="4000" y="962"/>
                    </a:lnTo>
                    <a:lnTo>
                      <a:pt x="3000" y="592"/>
                    </a:lnTo>
                    <a:lnTo>
                      <a:pt x="2042" y="222"/>
                    </a:lnTo>
                    <a:lnTo>
                      <a:pt x="1042" y="37"/>
                    </a:lnTo>
                    <a:lnTo>
                      <a:pt x="0" y="0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 flipH="1" flipV="1">
                <a:off x="2703600" y="1108440"/>
                <a:ext cx="596880" cy="11520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0"/>
                    </a:moveTo>
                    <a:lnTo>
                      <a:pt x="1042" y="1591"/>
                    </a:lnTo>
                    <a:lnTo>
                      <a:pt x="1958" y="3108"/>
                    </a:lnTo>
                    <a:lnTo>
                      <a:pt x="3000" y="4625"/>
                    </a:lnTo>
                    <a:lnTo>
                      <a:pt x="3958" y="6253"/>
                    </a:lnTo>
                    <a:lnTo>
                      <a:pt x="5042" y="7660"/>
                    </a:lnTo>
                    <a:lnTo>
                      <a:pt x="5958" y="9029"/>
                    </a:lnTo>
                    <a:lnTo>
                      <a:pt x="7000" y="10416"/>
                    </a:lnTo>
                    <a:lnTo>
                      <a:pt x="7958" y="11730"/>
                    </a:lnTo>
                    <a:lnTo>
                      <a:pt x="9000" y="12969"/>
                    </a:lnTo>
                    <a:lnTo>
                      <a:pt x="10042" y="14080"/>
                    </a:lnTo>
                    <a:lnTo>
                      <a:pt x="11000" y="15134"/>
                    </a:lnTo>
                    <a:lnTo>
                      <a:pt x="12000" y="16189"/>
                    </a:lnTo>
                    <a:lnTo>
                      <a:pt x="12958" y="16984"/>
                    </a:lnTo>
                    <a:lnTo>
                      <a:pt x="14042" y="17743"/>
                    </a:lnTo>
                    <a:lnTo>
                      <a:pt x="14958" y="18464"/>
                    </a:lnTo>
                    <a:lnTo>
                      <a:pt x="16000" y="19019"/>
                    </a:lnTo>
                    <a:lnTo>
                      <a:pt x="16958" y="19408"/>
                    </a:lnTo>
                    <a:lnTo>
                      <a:pt x="18042" y="19759"/>
                    </a:lnTo>
                    <a:lnTo>
                      <a:pt x="18917" y="19944"/>
                    </a:lnTo>
                    <a:lnTo>
                      <a:pt x="19958" y="19981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 flipH="1" flipV="1">
                <a:off x="2445840" y="1108440"/>
                <a:ext cx="266760" cy="279360"/>
              </a:xfrm>
              <a:custGeom>
                <a:avLst/>
                <a:gdLst/>
                <a:ahLst/>
                <a:rect l="l" t="t" r="r" b="b"/>
                <a:pathLst>
                  <a:path w="56" h="68">
                    <a:moveTo>
                      <a:pt x="56" y="0"/>
                    </a:moveTo>
                    <a:lnTo>
                      <a:pt x="50" y="14"/>
                    </a:lnTo>
                    <a:lnTo>
                      <a:pt x="44" y="26"/>
                    </a:lnTo>
                    <a:lnTo>
                      <a:pt x="38" y="36"/>
                    </a:lnTo>
                    <a:lnTo>
                      <a:pt x="32" y="46"/>
                    </a:lnTo>
                    <a:lnTo>
                      <a:pt x="25" y="54"/>
                    </a:lnTo>
                    <a:lnTo>
                      <a:pt x="19" y="60"/>
                    </a:lnTo>
                    <a:lnTo>
                      <a:pt x="13" y="65"/>
                    </a:lnTo>
                    <a:lnTo>
                      <a:pt x="7" y="67"/>
                    </a:lnTo>
                    <a:lnTo>
                      <a:pt x="0" y="68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 flipH="1" flipV="1">
                <a:off x="6884280" y="1387800"/>
                <a:ext cx="328680" cy="872640"/>
              </a:xfrm>
              <a:custGeom>
                <a:avLst/>
                <a:gdLst/>
                <a:ahLst/>
                <a:rect l="l" t="t" r="r" b="b"/>
                <a:pathLst>
                  <a:path w="69" h="213">
                    <a:moveTo>
                      <a:pt x="69" y="0"/>
                    </a:moveTo>
                    <a:lnTo>
                      <a:pt x="57" y="44"/>
                    </a:lnTo>
                    <a:lnTo>
                      <a:pt x="44" y="88"/>
                    </a:lnTo>
                    <a:lnTo>
                      <a:pt x="32" y="127"/>
                    </a:lnTo>
                    <a:lnTo>
                      <a:pt x="25" y="146"/>
                    </a:lnTo>
                    <a:lnTo>
                      <a:pt x="19" y="165"/>
                    </a:lnTo>
                    <a:lnTo>
                      <a:pt x="13" y="182"/>
                    </a:lnTo>
                    <a:lnTo>
                      <a:pt x="7" y="198"/>
                    </a:lnTo>
                    <a:lnTo>
                      <a:pt x="0" y="213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 flipH="1" flipV="1">
                <a:off x="2124360" y="1387800"/>
                <a:ext cx="328320" cy="872640"/>
              </a:xfrm>
              <a:custGeom>
                <a:avLst/>
                <a:gdLst/>
                <a:ahLst/>
                <a:rect l="l" t="t" r="r" b="b"/>
                <a:pathLst>
                  <a:path w="69" h="213">
                    <a:moveTo>
                      <a:pt x="69" y="0"/>
                    </a:moveTo>
                    <a:lnTo>
                      <a:pt x="57" y="44"/>
                    </a:lnTo>
                    <a:lnTo>
                      <a:pt x="44" y="88"/>
                    </a:lnTo>
                    <a:lnTo>
                      <a:pt x="32" y="127"/>
                    </a:lnTo>
                    <a:lnTo>
                      <a:pt x="25" y="146"/>
                    </a:lnTo>
                    <a:lnTo>
                      <a:pt x="19" y="165"/>
                    </a:lnTo>
                    <a:lnTo>
                      <a:pt x="13" y="182"/>
                    </a:lnTo>
                    <a:lnTo>
                      <a:pt x="7" y="198"/>
                    </a:lnTo>
                    <a:lnTo>
                      <a:pt x="0" y="213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2" name=""/>
            <p:cNvSpPr/>
            <p:nvPr/>
          </p:nvSpPr>
          <p:spPr>
            <a:xfrm>
              <a:off x="1825560" y="2216160"/>
              <a:ext cx="50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1800" spc="-1" strike="noStrike">
                  <a:solidFill>
                    <a:srgbClr val="009999"/>
                  </a:solidFill>
                  <a:latin typeface="Symbol"/>
                  <a:ea typeface="Symbol"/>
                </a:rPr>
                <a:t></a:t>
              </a:r>
              <a:r>
                <a:rPr b="0" lang="es-ES" sz="1800" spc="-1" strike="noStrike">
                  <a:solidFill>
                    <a:srgbClr val="009999"/>
                  </a:solidFill>
                  <a:latin typeface="Symbol"/>
                  <a:ea typeface="Symbol"/>
                </a:rPr>
                <a:t>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476440" y="735120"/>
              <a:ext cx="4557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741920" y="1916280"/>
              <a:ext cx="330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1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7061400" y="1930320"/>
              <a:ext cx="439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i="1" lang="es-ES" sz="1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7005600" y="2216160"/>
              <a:ext cx="53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9999"/>
                  </a:solidFill>
                  <a:latin typeface="Times New Roman"/>
                </a:rPr>
                <a:t>4</a:t>
              </a:r>
              <a:r>
                <a:rPr b="0" lang="es-ES" sz="1800" spc="-1" strike="noStrike">
                  <a:solidFill>
                    <a:srgbClr val="009999"/>
                  </a:solidFill>
                  <a:latin typeface="Symbol"/>
                  <a:ea typeface="Symbol"/>
                </a:rPr>
                <a:t>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5048280" y="108900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8" name=""/>
          <p:cNvGrpSpPr/>
          <p:nvPr/>
        </p:nvGrpSpPr>
        <p:grpSpPr>
          <a:xfrm>
            <a:off x="2754360" y="3537000"/>
            <a:ext cx="2492280" cy="2662920"/>
            <a:chOff x="2754360" y="3537000"/>
            <a:chExt cx="2492280" cy="2662920"/>
          </a:xfrm>
        </p:grpSpPr>
        <p:sp>
          <p:nvSpPr>
            <p:cNvPr id="499" name=""/>
            <p:cNvSpPr/>
            <p:nvPr/>
          </p:nvSpPr>
          <p:spPr>
            <a:xfrm>
              <a:off x="2849760" y="3792240"/>
              <a:ext cx="2303280" cy="22982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2754360" y="4943160"/>
              <a:ext cx="249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 flipV="1">
              <a:off x="4000680" y="3683880"/>
              <a:ext cx="0" cy="2516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 flipV="1">
              <a:off x="4000680" y="4053960"/>
              <a:ext cx="728640" cy="89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3456360" y="4399920"/>
              <a:ext cx="1088280" cy="1088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706" y="2497"/>
                  </a:moveTo>
                  <a:arcTo wR="10800" hR="10800" stAng="-3014961" swAng="29919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7706" y="2497"/>
                  </a:moveTo>
                  <a:arcTo wR="10800" hR="10800" stAng="-3014961" swAng="2991957"/>
                </a:path>
              </a:pathLst>
            </a:custGeom>
            <a:noFill/>
            <a:ln w="9360">
              <a:solidFill>
                <a:srgbClr val="000000"/>
              </a:solidFill>
              <a:miter/>
              <a:headEnd len="med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4542840" y="353700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28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4461480" y="437328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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4017600" y="3935160"/>
              <a:ext cx="54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2400" spc="-1" strike="noStrike">
                  <a:solidFill>
                    <a:srgbClr val="000000"/>
                  </a:solidFill>
                  <a:latin typeface="Times New Roman"/>
                </a:rPr>
                <a:t>|Y</a:t>
              </a:r>
              <a:r>
                <a:rPr b="0" i="1" lang="es-E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 flipH="1" flipV="1">
              <a:off x="4705560" y="4026600"/>
              <a:ext cx="56880" cy="56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8" name=""/>
          <p:cNvGrpSpPr/>
          <p:nvPr/>
        </p:nvGrpSpPr>
        <p:grpSpPr>
          <a:xfrm>
            <a:off x="2754360" y="3537000"/>
            <a:ext cx="2492280" cy="2662920"/>
            <a:chOff x="2754360" y="3537000"/>
            <a:chExt cx="2492280" cy="2662920"/>
          </a:xfrm>
        </p:grpSpPr>
        <p:sp>
          <p:nvSpPr>
            <p:cNvPr id="509" name=""/>
            <p:cNvSpPr/>
            <p:nvPr/>
          </p:nvSpPr>
          <p:spPr>
            <a:xfrm>
              <a:off x="2849760" y="3792240"/>
              <a:ext cx="2303280" cy="22982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2754360" y="4943160"/>
              <a:ext cx="249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 flipV="1">
              <a:off x="4000680" y="3683880"/>
              <a:ext cx="0" cy="2516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 flipV="1">
              <a:off x="4000680" y="4053960"/>
              <a:ext cx="728640" cy="89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3456360" y="4399920"/>
              <a:ext cx="1088280" cy="1088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706" y="2497"/>
                  </a:moveTo>
                  <a:arcTo wR="10800" hR="10800" stAng="-3014961" swAng="29919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7706" y="2497"/>
                  </a:moveTo>
                  <a:arcTo wR="10800" hR="10800" stAng="-3014961" swAng="2991957"/>
                </a:path>
              </a:pathLst>
            </a:custGeom>
            <a:noFill/>
            <a:ln w="9360">
              <a:solidFill>
                <a:srgbClr val="000000"/>
              </a:solidFill>
              <a:miter/>
              <a:headEnd len="med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4542840" y="353700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4461480" y="437328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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4017600" y="3935160"/>
              <a:ext cx="54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24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i="1" lang="es-E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Ẏ</a:t>
              </a:r>
              <a:r>
                <a:rPr b="0" i="1" lang="es-E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 flipH="1" flipV="1">
              <a:off x="4705560" y="4026600"/>
              <a:ext cx="56880" cy="56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CE57B-AE2C-4FCA-A3FB-EA40EF1AE240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8" name=""/>
          <p:cNvGrpSpPr/>
          <p:nvPr/>
        </p:nvGrpSpPr>
        <p:grpSpPr>
          <a:xfrm>
            <a:off x="2182680" y="3537000"/>
            <a:ext cx="2492280" cy="2662920"/>
            <a:chOff x="2182680" y="3537000"/>
            <a:chExt cx="2492280" cy="2662920"/>
          </a:xfrm>
        </p:grpSpPr>
        <p:sp>
          <p:nvSpPr>
            <p:cNvPr id="519" name=""/>
            <p:cNvSpPr/>
            <p:nvPr/>
          </p:nvSpPr>
          <p:spPr>
            <a:xfrm>
              <a:off x="2278080" y="3792240"/>
              <a:ext cx="2303280" cy="22982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2182680" y="4943160"/>
              <a:ext cx="249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 flipV="1">
              <a:off x="3429000" y="3683880"/>
              <a:ext cx="0" cy="2516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 flipV="1">
              <a:off x="3429000" y="4053960"/>
              <a:ext cx="728640" cy="89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2884680" y="4399920"/>
              <a:ext cx="1088280" cy="1088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706" y="2497"/>
                  </a:moveTo>
                  <a:arcTo wR="10800" hR="10800" stAng="-3014961" swAng="29919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7706" y="2497"/>
                  </a:moveTo>
                  <a:arcTo wR="10800" hR="10800" stAng="-3014961" swAng="2991957"/>
                </a:path>
              </a:pathLst>
            </a:custGeom>
            <a:noFill/>
            <a:ln w="9360">
              <a:solidFill>
                <a:srgbClr val="000000"/>
              </a:solidFill>
              <a:miter/>
              <a:headEnd len="med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3971160" y="353700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3889800" y="437328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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3445920" y="3935160"/>
              <a:ext cx="54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24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i="1" lang="es-E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Ẏ</a:t>
              </a:r>
              <a:r>
                <a:rPr b="0" i="1" lang="es-E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 flipH="1" flipV="1">
              <a:off x="4133880" y="4026600"/>
              <a:ext cx="56880" cy="56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8" name=""/>
          <p:cNvGrpSpPr/>
          <p:nvPr/>
        </p:nvGrpSpPr>
        <p:grpSpPr>
          <a:xfrm>
            <a:off x="2111400" y="220680"/>
            <a:ext cx="6062760" cy="3300480"/>
            <a:chOff x="2111400" y="220680"/>
            <a:chExt cx="6062760" cy="3300480"/>
          </a:xfrm>
        </p:grpSpPr>
        <p:sp>
          <p:nvSpPr>
            <p:cNvPr id="529" name=""/>
            <p:cNvSpPr/>
            <p:nvPr/>
          </p:nvSpPr>
          <p:spPr>
            <a:xfrm>
              <a:off x="2163960" y="2259000"/>
              <a:ext cx="5842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 flipV="1">
              <a:off x="2729160" y="669960"/>
              <a:ext cx="0" cy="2851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399040" y="220680"/>
              <a:ext cx="585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s-E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7910640" y="2060640"/>
              <a:ext cx="26352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4926240" y="2216160"/>
              <a:ext cx="53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9999"/>
                  </a:solidFill>
                  <a:latin typeface="Times New Roman"/>
                </a:rPr>
                <a:t>2</a:t>
              </a:r>
              <a:r>
                <a:rPr b="0" lang="es-ES" sz="1800" spc="-1" strike="noStrike">
                  <a:solidFill>
                    <a:srgbClr val="009999"/>
                  </a:solidFill>
                  <a:latin typeface="Symbol"/>
                  <a:ea typeface="Symbol"/>
                </a:rPr>
                <a:t>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4" name=""/>
            <p:cNvGrpSpPr/>
            <p:nvPr/>
          </p:nvGrpSpPr>
          <p:grpSpPr>
            <a:xfrm>
              <a:off x="2410200" y="1104840"/>
              <a:ext cx="5088960" cy="2304720"/>
              <a:chOff x="2410200" y="1104840"/>
              <a:chExt cx="5088960" cy="2304720"/>
            </a:xfrm>
          </p:grpSpPr>
          <p:grpSp>
            <p:nvGrpSpPr>
              <p:cNvPr id="535" name=""/>
              <p:cNvGrpSpPr/>
              <p:nvPr/>
            </p:nvGrpSpPr>
            <p:grpSpPr>
              <a:xfrm>
                <a:off x="5981760" y="2255400"/>
                <a:ext cx="1193760" cy="1154160"/>
                <a:chOff x="5981760" y="2255400"/>
                <a:chExt cx="1193760" cy="1154160"/>
              </a:xfrm>
            </p:grpSpPr>
            <p:sp>
              <p:nvSpPr>
                <p:cNvPr id="536" name=""/>
                <p:cNvSpPr/>
                <p:nvPr/>
              </p:nvSpPr>
              <p:spPr>
                <a:xfrm flipH="1" flipV="1">
                  <a:off x="6578640" y="2255400"/>
                  <a:ext cx="596520" cy="11534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0" y="19981"/>
                      </a:moveTo>
                      <a:lnTo>
                        <a:pt x="1042" y="18390"/>
                      </a:lnTo>
                      <a:lnTo>
                        <a:pt x="1958" y="16873"/>
                      </a:lnTo>
                      <a:lnTo>
                        <a:pt x="3000" y="15356"/>
                      </a:lnTo>
                      <a:lnTo>
                        <a:pt x="3958" y="13747"/>
                      </a:lnTo>
                      <a:lnTo>
                        <a:pt x="5042" y="12340"/>
                      </a:lnTo>
                      <a:lnTo>
                        <a:pt x="5958" y="10953"/>
                      </a:lnTo>
                      <a:lnTo>
                        <a:pt x="7000" y="9584"/>
                      </a:lnTo>
                      <a:lnTo>
                        <a:pt x="7958" y="8252"/>
                      </a:lnTo>
                      <a:lnTo>
                        <a:pt x="9000" y="7012"/>
                      </a:lnTo>
                      <a:lnTo>
                        <a:pt x="10042" y="5920"/>
                      </a:lnTo>
                      <a:lnTo>
                        <a:pt x="11000" y="4847"/>
                      </a:lnTo>
                      <a:lnTo>
                        <a:pt x="12000" y="3793"/>
                      </a:lnTo>
                      <a:lnTo>
                        <a:pt x="12958" y="3016"/>
                      </a:lnTo>
                      <a:lnTo>
                        <a:pt x="14042" y="2239"/>
                      </a:lnTo>
                      <a:lnTo>
                        <a:pt x="14958" y="1536"/>
                      </a:lnTo>
                      <a:lnTo>
                        <a:pt x="16000" y="962"/>
                      </a:lnTo>
                      <a:lnTo>
                        <a:pt x="16958" y="592"/>
                      </a:lnTo>
                      <a:lnTo>
                        <a:pt x="18042" y="222"/>
                      </a:lnTo>
                      <a:lnTo>
                        <a:pt x="18917" y="37"/>
                      </a:lnTo>
                      <a:lnTo>
                        <a:pt x="19958" y="0"/>
                      </a:ln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 flipH="1" flipV="1">
                  <a:off x="5981400" y="2256120"/>
                  <a:ext cx="596520" cy="11534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58" y="19981"/>
                      </a:moveTo>
                      <a:lnTo>
                        <a:pt x="18958" y="18390"/>
                      </a:lnTo>
                      <a:lnTo>
                        <a:pt x="18042" y="16873"/>
                      </a:lnTo>
                      <a:lnTo>
                        <a:pt x="17000" y="15356"/>
                      </a:lnTo>
                      <a:lnTo>
                        <a:pt x="16042" y="13747"/>
                      </a:lnTo>
                      <a:lnTo>
                        <a:pt x="14958" y="12340"/>
                      </a:lnTo>
                      <a:lnTo>
                        <a:pt x="14042" y="10953"/>
                      </a:lnTo>
                      <a:lnTo>
                        <a:pt x="12958" y="9584"/>
                      </a:lnTo>
                      <a:lnTo>
                        <a:pt x="12000" y="8252"/>
                      </a:lnTo>
                      <a:lnTo>
                        <a:pt x="11000" y="7012"/>
                      </a:lnTo>
                      <a:lnTo>
                        <a:pt x="10042" y="5920"/>
                      </a:lnTo>
                      <a:lnTo>
                        <a:pt x="9000" y="4847"/>
                      </a:lnTo>
                      <a:lnTo>
                        <a:pt x="8000" y="3793"/>
                      </a:lnTo>
                      <a:lnTo>
                        <a:pt x="7000" y="3016"/>
                      </a:lnTo>
                      <a:lnTo>
                        <a:pt x="6042" y="2239"/>
                      </a:lnTo>
                      <a:lnTo>
                        <a:pt x="5042" y="1536"/>
                      </a:lnTo>
                      <a:lnTo>
                        <a:pt x="4000" y="962"/>
                      </a:lnTo>
                      <a:lnTo>
                        <a:pt x="3000" y="592"/>
                      </a:lnTo>
                      <a:lnTo>
                        <a:pt x="2042" y="222"/>
                      </a:lnTo>
                      <a:lnTo>
                        <a:pt x="1042" y="37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8" name=""/>
              <p:cNvGrpSpPr/>
              <p:nvPr/>
            </p:nvGrpSpPr>
            <p:grpSpPr>
              <a:xfrm>
                <a:off x="4784400" y="1104840"/>
                <a:ext cx="1195560" cy="1154160"/>
                <a:chOff x="4784400" y="1104840"/>
                <a:chExt cx="1195560" cy="1154160"/>
              </a:xfrm>
            </p:grpSpPr>
            <p:sp>
              <p:nvSpPr>
                <p:cNvPr id="539" name=""/>
                <p:cNvSpPr/>
                <p:nvPr/>
              </p:nvSpPr>
              <p:spPr>
                <a:xfrm flipH="1" flipV="1">
                  <a:off x="5383800" y="1105560"/>
                  <a:ext cx="596160" cy="11534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0" y="0"/>
                      </a:moveTo>
                      <a:lnTo>
                        <a:pt x="1042" y="1591"/>
                      </a:lnTo>
                      <a:lnTo>
                        <a:pt x="1958" y="3108"/>
                      </a:lnTo>
                      <a:lnTo>
                        <a:pt x="3000" y="4625"/>
                      </a:lnTo>
                      <a:lnTo>
                        <a:pt x="3958" y="6253"/>
                      </a:lnTo>
                      <a:lnTo>
                        <a:pt x="5042" y="7660"/>
                      </a:lnTo>
                      <a:lnTo>
                        <a:pt x="5958" y="9029"/>
                      </a:lnTo>
                      <a:lnTo>
                        <a:pt x="7000" y="10416"/>
                      </a:lnTo>
                      <a:lnTo>
                        <a:pt x="7958" y="11730"/>
                      </a:lnTo>
                      <a:lnTo>
                        <a:pt x="9000" y="12969"/>
                      </a:lnTo>
                      <a:lnTo>
                        <a:pt x="10042" y="14080"/>
                      </a:lnTo>
                      <a:lnTo>
                        <a:pt x="11000" y="15134"/>
                      </a:lnTo>
                      <a:lnTo>
                        <a:pt x="12000" y="16189"/>
                      </a:lnTo>
                      <a:lnTo>
                        <a:pt x="12958" y="16984"/>
                      </a:lnTo>
                      <a:lnTo>
                        <a:pt x="14042" y="17743"/>
                      </a:lnTo>
                      <a:lnTo>
                        <a:pt x="14958" y="18464"/>
                      </a:lnTo>
                      <a:lnTo>
                        <a:pt x="16000" y="19019"/>
                      </a:lnTo>
                      <a:lnTo>
                        <a:pt x="16958" y="19408"/>
                      </a:lnTo>
                      <a:lnTo>
                        <a:pt x="18042" y="19759"/>
                      </a:lnTo>
                      <a:lnTo>
                        <a:pt x="18917" y="19944"/>
                      </a:lnTo>
                      <a:lnTo>
                        <a:pt x="19958" y="19981"/>
                      </a:ln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0" name=""/>
                <p:cNvSpPr/>
                <p:nvPr/>
              </p:nvSpPr>
              <p:spPr>
                <a:xfrm flipH="1" flipV="1">
                  <a:off x="4784400" y="1104840"/>
                  <a:ext cx="596160" cy="11534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58" y="0"/>
                      </a:moveTo>
                      <a:lnTo>
                        <a:pt x="18958" y="1591"/>
                      </a:lnTo>
                      <a:lnTo>
                        <a:pt x="18042" y="3108"/>
                      </a:lnTo>
                      <a:lnTo>
                        <a:pt x="17000" y="4625"/>
                      </a:lnTo>
                      <a:lnTo>
                        <a:pt x="16042" y="6253"/>
                      </a:lnTo>
                      <a:lnTo>
                        <a:pt x="14958" y="7660"/>
                      </a:lnTo>
                      <a:lnTo>
                        <a:pt x="14042" y="9029"/>
                      </a:lnTo>
                      <a:lnTo>
                        <a:pt x="12958" y="10416"/>
                      </a:lnTo>
                      <a:lnTo>
                        <a:pt x="12000" y="11730"/>
                      </a:lnTo>
                      <a:lnTo>
                        <a:pt x="11000" y="12969"/>
                      </a:lnTo>
                      <a:lnTo>
                        <a:pt x="10042" y="14080"/>
                      </a:lnTo>
                      <a:lnTo>
                        <a:pt x="9000" y="15134"/>
                      </a:lnTo>
                      <a:lnTo>
                        <a:pt x="8000" y="16189"/>
                      </a:lnTo>
                      <a:lnTo>
                        <a:pt x="7000" y="16984"/>
                      </a:lnTo>
                      <a:lnTo>
                        <a:pt x="6042" y="17743"/>
                      </a:lnTo>
                      <a:lnTo>
                        <a:pt x="5042" y="18464"/>
                      </a:lnTo>
                      <a:lnTo>
                        <a:pt x="4000" y="19019"/>
                      </a:lnTo>
                      <a:lnTo>
                        <a:pt x="3000" y="19408"/>
                      </a:lnTo>
                      <a:lnTo>
                        <a:pt x="2042" y="19759"/>
                      </a:lnTo>
                      <a:lnTo>
                        <a:pt x="1042" y="19944"/>
                      </a:lnTo>
                      <a:lnTo>
                        <a:pt x="0" y="19981"/>
                      </a:ln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41" name=""/>
              <p:cNvSpPr/>
              <p:nvPr/>
            </p:nvSpPr>
            <p:spPr>
              <a:xfrm flipH="1" flipV="1">
                <a:off x="4187880" y="2257560"/>
                <a:ext cx="596880" cy="11505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19981"/>
                    </a:moveTo>
                    <a:lnTo>
                      <a:pt x="1042" y="18390"/>
                    </a:lnTo>
                    <a:lnTo>
                      <a:pt x="1958" y="16873"/>
                    </a:lnTo>
                    <a:lnTo>
                      <a:pt x="3000" y="15356"/>
                    </a:lnTo>
                    <a:lnTo>
                      <a:pt x="3958" y="13747"/>
                    </a:lnTo>
                    <a:lnTo>
                      <a:pt x="5042" y="12340"/>
                    </a:lnTo>
                    <a:lnTo>
                      <a:pt x="5958" y="10953"/>
                    </a:lnTo>
                    <a:lnTo>
                      <a:pt x="7000" y="9584"/>
                    </a:lnTo>
                    <a:lnTo>
                      <a:pt x="7958" y="8252"/>
                    </a:lnTo>
                    <a:lnTo>
                      <a:pt x="9000" y="7012"/>
                    </a:lnTo>
                    <a:lnTo>
                      <a:pt x="10042" y="5920"/>
                    </a:lnTo>
                    <a:lnTo>
                      <a:pt x="11000" y="4847"/>
                    </a:lnTo>
                    <a:lnTo>
                      <a:pt x="12000" y="3793"/>
                    </a:lnTo>
                    <a:lnTo>
                      <a:pt x="12958" y="3016"/>
                    </a:lnTo>
                    <a:lnTo>
                      <a:pt x="14042" y="2239"/>
                    </a:lnTo>
                    <a:lnTo>
                      <a:pt x="14958" y="1536"/>
                    </a:lnTo>
                    <a:lnTo>
                      <a:pt x="16000" y="962"/>
                    </a:lnTo>
                    <a:lnTo>
                      <a:pt x="16958" y="592"/>
                    </a:lnTo>
                    <a:lnTo>
                      <a:pt x="18042" y="222"/>
                    </a:lnTo>
                    <a:lnTo>
                      <a:pt x="18917" y="37"/>
                    </a:lnTo>
                    <a:lnTo>
                      <a:pt x="19958" y="0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 flipH="1" flipV="1">
                <a:off x="3591000" y="2259000"/>
                <a:ext cx="596880" cy="11505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19981"/>
                    </a:moveTo>
                    <a:lnTo>
                      <a:pt x="18958" y="18390"/>
                    </a:lnTo>
                    <a:lnTo>
                      <a:pt x="18042" y="16873"/>
                    </a:lnTo>
                    <a:lnTo>
                      <a:pt x="17000" y="15356"/>
                    </a:lnTo>
                    <a:lnTo>
                      <a:pt x="16042" y="13747"/>
                    </a:lnTo>
                    <a:lnTo>
                      <a:pt x="14958" y="12340"/>
                    </a:lnTo>
                    <a:lnTo>
                      <a:pt x="14042" y="10953"/>
                    </a:lnTo>
                    <a:lnTo>
                      <a:pt x="12958" y="9584"/>
                    </a:lnTo>
                    <a:lnTo>
                      <a:pt x="12000" y="8252"/>
                    </a:lnTo>
                    <a:lnTo>
                      <a:pt x="11000" y="7012"/>
                    </a:lnTo>
                    <a:lnTo>
                      <a:pt x="10042" y="5920"/>
                    </a:lnTo>
                    <a:lnTo>
                      <a:pt x="9000" y="4847"/>
                    </a:lnTo>
                    <a:lnTo>
                      <a:pt x="8000" y="3793"/>
                    </a:lnTo>
                    <a:lnTo>
                      <a:pt x="7000" y="3016"/>
                    </a:lnTo>
                    <a:lnTo>
                      <a:pt x="6042" y="2239"/>
                    </a:lnTo>
                    <a:lnTo>
                      <a:pt x="5042" y="1536"/>
                    </a:lnTo>
                    <a:lnTo>
                      <a:pt x="4000" y="962"/>
                    </a:lnTo>
                    <a:lnTo>
                      <a:pt x="3000" y="592"/>
                    </a:lnTo>
                    <a:lnTo>
                      <a:pt x="2042" y="222"/>
                    </a:lnTo>
                    <a:lnTo>
                      <a:pt x="1042" y="37"/>
                    </a:lnTo>
                    <a:lnTo>
                      <a:pt x="0" y="0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 flipH="1" flipV="1">
                <a:off x="2989440" y="1108440"/>
                <a:ext cx="596880" cy="11520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0"/>
                    </a:moveTo>
                    <a:lnTo>
                      <a:pt x="1042" y="1591"/>
                    </a:lnTo>
                    <a:lnTo>
                      <a:pt x="1958" y="3108"/>
                    </a:lnTo>
                    <a:lnTo>
                      <a:pt x="3000" y="4625"/>
                    </a:lnTo>
                    <a:lnTo>
                      <a:pt x="3958" y="6253"/>
                    </a:lnTo>
                    <a:lnTo>
                      <a:pt x="5042" y="7660"/>
                    </a:lnTo>
                    <a:lnTo>
                      <a:pt x="5958" y="9029"/>
                    </a:lnTo>
                    <a:lnTo>
                      <a:pt x="7000" y="10416"/>
                    </a:lnTo>
                    <a:lnTo>
                      <a:pt x="7958" y="11730"/>
                    </a:lnTo>
                    <a:lnTo>
                      <a:pt x="9000" y="12969"/>
                    </a:lnTo>
                    <a:lnTo>
                      <a:pt x="10042" y="14080"/>
                    </a:lnTo>
                    <a:lnTo>
                      <a:pt x="11000" y="15134"/>
                    </a:lnTo>
                    <a:lnTo>
                      <a:pt x="12000" y="16189"/>
                    </a:lnTo>
                    <a:lnTo>
                      <a:pt x="12958" y="16984"/>
                    </a:lnTo>
                    <a:lnTo>
                      <a:pt x="14042" y="17743"/>
                    </a:lnTo>
                    <a:lnTo>
                      <a:pt x="14958" y="18464"/>
                    </a:lnTo>
                    <a:lnTo>
                      <a:pt x="16000" y="19019"/>
                    </a:lnTo>
                    <a:lnTo>
                      <a:pt x="16958" y="19408"/>
                    </a:lnTo>
                    <a:lnTo>
                      <a:pt x="18042" y="19759"/>
                    </a:lnTo>
                    <a:lnTo>
                      <a:pt x="18917" y="19944"/>
                    </a:lnTo>
                    <a:lnTo>
                      <a:pt x="19958" y="19981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 flipH="1" flipV="1">
                <a:off x="2731680" y="1108440"/>
                <a:ext cx="266760" cy="279360"/>
              </a:xfrm>
              <a:custGeom>
                <a:avLst/>
                <a:gdLst/>
                <a:ahLst/>
                <a:rect l="l" t="t" r="r" b="b"/>
                <a:pathLst>
                  <a:path w="56" h="68">
                    <a:moveTo>
                      <a:pt x="56" y="0"/>
                    </a:moveTo>
                    <a:lnTo>
                      <a:pt x="50" y="14"/>
                    </a:lnTo>
                    <a:lnTo>
                      <a:pt x="44" y="26"/>
                    </a:lnTo>
                    <a:lnTo>
                      <a:pt x="38" y="36"/>
                    </a:lnTo>
                    <a:lnTo>
                      <a:pt x="32" y="46"/>
                    </a:lnTo>
                    <a:lnTo>
                      <a:pt x="25" y="54"/>
                    </a:lnTo>
                    <a:lnTo>
                      <a:pt x="19" y="60"/>
                    </a:lnTo>
                    <a:lnTo>
                      <a:pt x="13" y="65"/>
                    </a:lnTo>
                    <a:lnTo>
                      <a:pt x="7" y="67"/>
                    </a:lnTo>
                    <a:lnTo>
                      <a:pt x="0" y="68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 flipH="1" flipV="1">
                <a:off x="7170120" y="1387800"/>
                <a:ext cx="328680" cy="872640"/>
              </a:xfrm>
              <a:custGeom>
                <a:avLst/>
                <a:gdLst/>
                <a:ahLst/>
                <a:rect l="l" t="t" r="r" b="b"/>
                <a:pathLst>
                  <a:path w="69" h="213">
                    <a:moveTo>
                      <a:pt x="69" y="0"/>
                    </a:moveTo>
                    <a:lnTo>
                      <a:pt x="57" y="44"/>
                    </a:lnTo>
                    <a:lnTo>
                      <a:pt x="44" y="88"/>
                    </a:lnTo>
                    <a:lnTo>
                      <a:pt x="32" y="127"/>
                    </a:lnTo>
                    <a:lnTo>
                      <a:pt x="25" y="146"/>
                    </a:lnTo>
                    <a:lnTo>
                      <a:pt x="19" y="165"/>
                    </a:lnTo>
                    <a:lnTo>
                      <a:pt x="13" y="182"/>
                    </a:lnTo>
                    <a:lnTo>
                      <a:pt x="7" y="198"/>
                    </a:lnTo>
                    <a:lnTo>
                      <a:pt x="0" y="213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 flipH="1" flipV="1">
                <a:off x="2410200" y="1387800"/>
                <a:ext cx="328320" cy="872640"/>
              </a:xfrm>
              <a:custGeom>
                <a:avLst/>
                <a:gdLst/>
                <a:ahLst/>
                <a:rect l="l" t="t" r="r" b="b"/>
                <a:pathLst>
                  <a:path w="69" h="213">
                    <a:moveTo>
                      <a:pt x="69" y="0"/>
                    </a:moveTo>
                    <a:lnTo>
                      <a:pt x="57" y="44"/>
                    </a:lnTo>
                    <a:lnTo>
                      <a:pt x="44" y="88"/>
                    </a:lnTo>
                    <a:lnTo>
                      <a:pt x="32" y="127"/>
                    </a:lnTo>
                    <a:lnTo>
                      <a:pt x="25" y="146"/>
                    </a:lnTo>
                    <a:lnTo>
                      <a:pt x="19" y="165"/>
                    </a:lnTo>
                    <a:lnTo>
                      <a:pt x="13" y="182"/>
                    </a:lnTo>
                    <a:lnTo>
                      <a:pt x="7" y="198"/>
                    </a:lnTo>
                    <a:lnTo>
                      <a:pt x="0" y="213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7" name=""/>
            <p:cNvSpPr/>
            <p:nvPr/>
          </p:nvSpPr>
          <p:spPr>
            <a:xfrm>
              <a:off x="2111400" y="2216160"/>
              <a:ext cx="50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1800" spc="-1" strike="noStrike">
                  <a:solidFill>
                    <a:srgbClr val="009999"/>
                  </a:solidFill>
                  <a:latin typeface="Symbol"/>
                  <a:ea typeface="Symbol"/>
                </a:rPr>
                <a:t></a:t>
              </a:r>
              <a:r>
                <a:rPr b="0" lang="es-ES" sz="1800" spc="-1" strike="noStrike">
                  <a:solidFill>
                    <a:srgbClr val="009999"/>
                  </a:solidFill>
                  <a:latin typeface="Symbol"/>
                  <a:ea typeface="Symbol"/>
                </a:rPr>
                <a:t>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2762280" y="735120"/>
              <a:ext cx="4557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5027760" y="1916280"/>
              <a:ext cx="330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1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7347240" y="1930320"/>
              <a:ext cx="439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i="1" lang="es-ES" sz="1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7291440" y="2216160"/>
              <a:ext cx="53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9999"/>
                  </a:solidFill>
                  <a:latin typeface="Times New Roman"/>
                </a:rPr>
                <a:t>4</a:t>
              </a:r>
              <a:r>
                <a:rPr b="0" lang="es-ES" sz="1800" spc="-1" strike="noStrike">
                  <a:solidFill>
                    <a:srgbClr val="009999"/>
                  </a:solidFill>
                  <a:latin typeface="Symbol"/>
                  <a:ea typeface="Symbol"/>
                </a:rPr>
                <a:t>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334120" y="108900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87D9E-E357-493D-BE10-0DA4573B9780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3" name=""/>
          <p:cNvGrpSpPr/>
          <p:nvPr/>
        </p:nvGrpSpPr>
        <p:grpSpPr>
          <a:xfrm>
            <a:off x="1611360" y="3251160"/>
            <a:ext cx="2492280" cy="2664000"/>
            <a:chOff x="1611360" y="3251160"/>
            <a:chExt cx="2492280" cy="2664000"/>
          </a:xfrm>
        </p:grpSpPr>
        <p:sp>
          <p:nvSpPr>
            <p:cNvPr id="554" name=""/>
            <p:cNvSpPr/>
            <p:nvPr/>
          </p:nvSpPr>
          <p:spPr>
            <a:xfrm>
              <a:off x="1706760" y="3506760"/>
              <a:ext cx="2303280" cy="2298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1611360" y="4657680"/>
              <a:ext cx="249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 flipV="1">
              <a:off x="2857680" y="3398760"/>
              <a:ext cx="0" cy="2516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 flipV="1">
              <a:off x="2857680" y="3768840"/>
              <a:ext cx="728640" cy="89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313360" y="4114440"/>
              <a:ext cx="1088280" cy="108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706" y="2497"/>
                  </a:moveTo>
                  <a:arcTo wR="10800" hR="10800" stAng="-3014961" swAng="29919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7706" y="2497"/>
                  </a:moveTo>
                  <a:arcTo wR="10800" hR="10800" stAng="-3014961" swAng="2991957"/>
                </a:path>
              </a:pathLst>
            </a:custGeom>
            <a:noFill/>
            <a:ln w="9360">
              <a:solidFill>
                <a:srgbClr val="000000"/>
              </a:solidFill>
              <a:miter/>
              <a:headEnd len="med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399840" y="325116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3318480" y="408780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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874600" y="3649680"/>
              <a:ext cx="54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24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i="1" lang="es-E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Ẏ</a:t>
              </a:r>
              <a:r>
                <a:rPr b="0" i="1" lang="es-E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 flipH="1" flipV="1">
              <a:off x="3562560" y="3741840"/>
              <a:ext cx="56880" cy="568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3" name=""/>
          <p:cNvGrpSpPr/>
          <p:nvPr/>
        </p:nvGrpSpPr>
        <p:grpSpPr>
          <a:xfrm>
            <a:off x="2397240" y="220680"/>
            <a:ext cx="6062040" cy="3300480"/>
            <a:chOff x="2397240" y="220680"/>
            <a:chExt cx="6062040" cy="3300480"/>
          </a:xfrm>
        </p:grpSpPr>
        <p:sp>
          <p:nvSpPr>
            <p:cNvPr id="564" name=""/>
            <p:cNvSpPr/>
            <p:nvPr/>
          </p:nvSpPr>
          <p:spPr>
            <a:xfrm>
              <a:off x="2449440" y="2259000"/>
              <a:ext cx="58417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 flipV="1">
              <a:off x="3014640" y="669960"/>
              <a:ext cx="0" cy="2851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2684520" y="220680"/>
              <a:ext cx="585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s-E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8196120" y="2060640"/>
              <a:ext cx="26316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5211720" y="2216160"/>
              <a:ext cx="533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9999"/>
                  </a:solidFill>
                  <a:latin typeface="Times New Roman"/>
                </a:rPr>
                <a:t>2</a:t>
              </a:r>
              <a:r>
                <a:rPr b="0" lang="es-ES" sz="1800" spc="-1" strike="noStrike">
                  <a:solidFill>
                    <a:srgbClr val="009999"/>
                  </a:solidFill>
                  <a:latin typeface="Symbol"/>
                  <a:ea typeface="Symbol"/>
                </a:rPr>
                <a:t>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9" name=""/>
            <p:cNvGrpSpPr/>
            <p:nvPr/>
          </p:nvGrpSpPr>
          <p:grpSpPr>
            <a:xfrm>
              <a:off x="2695320" y="1104840"/>
              <a:ext cx="5088960" cy="2304720"/>
              <a:chOff x="2695320" y="1104840"/>
              <a:chExt cx="5088960" cy="2304720"/>
            </a:xfrm>
          </p:grpSpPr>
          <p:grpSp>
            <p:nvGrpSpPr>
              <p:cNvPr id="570" name=""/>
              <p:cNvGrpSpPr/>
              <p:nvPr/>
            </p:nvGrpSpPr>
            <p:grpSpPr>
              <a:xfrm>
                <a:off x="6266520" y="2255400"/>
                <a:ext cx="1193400" cy="1154160"/>
                <a:chOff x="6266520" y="2255400"/>
                <a:chExt cx="1193400" cy="1154160"/>
              </a:xfrm>
            </p:grpSpPr>
            <p:sp>
              <p:nvSpPr>
                <p:cNvPr id="571" name=""/>
                <p:cNvSpPr/>
                <p:nvPr/>
              </p:nvSpPr>
              <p:spPr>
                <a:xfrm flipH="1" flipV="1">
                  <a:off x="6863760" y="2255400"/>
                  <a:ext cx="596160" cy="11534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0" y="19981"/>
                      </a:moveTo>
                      <a:lnTo>
                        <a:pt x="1042" y="18390"/>
                      </a:lnTo>
                      <a:lnTo>
                        <a:pt x="1958" y="16873"/>
                      </a:lnTo>
                      <a:lnTo>
                        <a:pt x="3000" y="15356"/>
                      </a:lnTo>
                      <a:lnTo>
                        <a:pt x="3958" y="13747"/>
                      </a:lnTo>
                      <a:lnTo>
                        <a:pt x="5042" y="12340"/>
                      </a:lnTo>
                      <a:lnTo>
                        <a:pt x="5958" y="10953"/>
                      </a:lnTo>
                      <a:lnTo>
                        <a:pt x="7000" y="9584"/>
                      </a:lnTo>
                      <a:lnTo>
                        <a:pt x="7958" y="8252"/>
                      </a:lnTo>
                      <a:lnTo>
                        <a:pt x="9000" y="7012"/>
                      </a:lnTo>
                      <a:lnTo>
                        <a:pt x="10042" y="5920"/>
                      </a:lnTo>
                      <a:lnTo>
                        <a:pt x="11000" y="4847"/>
                      </a:lnTo>
                      <a:lnTo>
                        <a:pt x="12000" y="3793"/>
                      </a:lnTo>
                      <a:lnTo>
                        <a:pt x="12958" y="3016"/>
                      </a:lnTo>
                      <a:lnTo>
                        <a:pt x="14042" y="2239"/>
                      </a:lnTo>
                      <a:lnTo>
                        <a:pt x="14958" y="1536"/>
                      </a:lnTo>
                      <a:lnTo>
                        <a:pt x="16000" y="962"/>
                      </a:lnTo>
                      <a:lnTo>
                        <a:pt x="16958" y="592"/>
                      </a:lnTo>
                      <a:lnTo>
                        <a:pt x="18042" y="222"/>
                      </a:lnTo>
                      <a:lnTo>
                        <a:pt x="18917" y="37"/>
                      </a:lnTo>
                      <a:lnTo>
                        <a:pt x="19958" y="0"/>
                      </a:ln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2" name=""/>
                <p:cNvSpPr/>
                <p:nvPr/>
              </p:nvSpPr>
              <p:spPr>
                <a:xfrm flipH="1" flipV="1">
                  <a:off x="6266520" y="2256120"/>
                  <a:ext cx="596160" cy="11534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58" y="19981"/>
                      </a:moveTo>
                      <a:lnTo>
                        <a:pt x="18958" y="18390"/>
                      </a:lnTo>
                      <a:lnTo>
                        <a:pt x="18042" y="16873"/>
                      </a:lnTo>
                      <a:lnTo>
                        <a:pt x="17000" y="15356"/>
                      </a:lnTo>
                      <a:lnTo>
                        <a:pt x="16042" y="13747"/>
                      </a:lnTo>
                      <a:lnTo>
                        <a:pt x="14958" y="12340"/>
                      </a:lnTo>
                      <a:lnTo>
                        <a:pt x="14042" y="10953"/>
                      </a:lnTo>
                      <a:lnTo>
                        <a:pt x="12958" y="9584"/>
                      </a:lnTo>
                      <a:lnTo>
                        <a:pt x="12000" y="8252"/>
                      </a:lnTo>
                      <a:lnTo>
                        <a:pt x="11000" y="7012"/>
                      </a:lnTo>
                      <a:lnTo>
                        <a:pt x="10042" y="5920"/>
                      </a:lnTo>
                      <a:lnTo>
                        <a:pt x="9000" y="4847"/>
                      </a:lnTo>
                      <a:lnTo>
                        <a:pt x="8000" y="3793"/>
                      </a:lnTo>
                      <a:lnTo>
                        <a:pt x="7000" y="3016"/>
                      </a:lnTo>
                      <a:lnTo>
                        <a:pt x="6042" y="2239"/>
                      </a:lnTo>
                      <a:lnTo>
                        <a:pt x="5042" y="1536"/>
                      </a:lnTo>
                      <a:lnTo>
                        <a:pt x="4000" y="962"/>
                      </a:lnTo>
                      <a:lnTo>
                        <a:pt x="3000" y="592"/>
                      </a:lnTo>
                      <a:lnTo>
                        <a:pt x="2042" y="222"/>
                      </a:lnTo>
                      <a:lnTo>
                        <a:pt x="1042" y="37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73" name=""/>
              <p:cNvGrpSpPr/>
              <p:nvPr/>
            </p:nvGrpSpPr>
            <p:grpSpPr>
              <a:xfrm>
                <a:off x="5069880" y="1104840"/>
                <a:ext cx="1195200" cy="1154160"/>
                <a:chOff x="5069880" y="1104840"/>
                <a:chExt cx="1195200" cy="1154160"/>
              </a:xfrm>
            </p:grpSpPr>
            <p:sp>
              <p:nvSpPr>
                <p:cNvPr id="574" name=""/>
                <p:cNvSpPr/>
                <p:nvPr/>
              </p:nvSpPr>
              <p:spPr>
                <a:xfrm flipH="1" flipV="1">
                  <a:off x="5668920" y="1105560"/>
                  <a:ext cx="595800" cy="11534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0" y="0"/>
                      </a:moveTo>
                      <a:lnTo>
                        <a:pt x="1042" y="1591"/>
                      </a:lnTo>
                      <a:lnTo>
                        <a:pt x="1958" y="3108"/>
                      </a:lnTo>
                      <a:lnTo>
                        <a:pt x="3000" y="4625"/>
                      </a:lnTo>
                      <a:lnTo>
                        <a:pt x="3958" y="6253"/>
                      </a:lnTo>
                      <a:lnTo>
                        <a:pt x="5042" y="7660"/>
                      </a:lnTo>
                      <a:lnTo>
                        <a:pt x="5958" y="9029"/>
                      </a:lnTo>
                      <a:lnTo>
                        <a:pt x="7000" y="10416"/>
                      </a:lnTo>
                      <a:lnTo>
                        <a:pt x="7958" y="11730"/>
                      </a:lnTo>
                      <a:lnTo>
                        <a:pt x="9000" y="12969"/>
                      </a:lnTo>
                      <a:lnTo>
                        <a:pt x="10042" y="14080"/>
                      </a:lnTo>
                      <a:lnTo>
                        <a:pt x="11000" y="15134"/>
                      </a:lnTo>
                      <a:lnTo>
                        <a:pt x="12000" y="16189"/>
                      </a:lnTo>
                      <a:lnTo>
                        <a:pt x="12958" y="16984"/>
                      </a:lnTo>
                      <a:lnTo>
                        <a:pt x="14042" y="17743"/>
                      </a:lnTo>
                      <a:lnTo>
                        <a:pt x="14958" y="18464"/>
                      </a:lnTo>
                      <a:lnTo>
                        <a:pt x="16000" y="19019"/>
                      </a:lnTo>
                      <a:lnTo>
                        <a:pt x="16958" y="19408"/>
                      </a:lnTo>
                      <a:lnTo>
                        <a:pt x="18042" y="19759"/>
                      </a:lnTo>
                      <a:lnTo>
                        <a:pt x="18917" y="19944"/>
                      </a:lnTo>
                      <a:lnTo>
                        <a:pt x="19958" y="19981"/>
                      </a:ln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5" name=""/>
                <p:cNvSpPr/>
                <p:nvPr/>
              </p:nvSpPr>
              <p:spPr>
                <a:xfrm flipH="1" flipV="1">
                  <a:off x="5069520" y="1104840"/>
                  <a:ext cx="595800" cy="11534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58" y="0"/>
                      </a:moveTo>
                      <a:lnTo>
                        <a:pt x="18958" y="1591"/>
                      </a:lnTo>
                      <a:lnTo>
                        <a:pt x="18042" y="3108"/>
                      </a:lnTo>
                      <a:lnTo>
                        <a:pt x="17000" y="4625"/>
                      </a:lnTo>
                      <a:lnTo>
                        <a:pt x="16042" y="6253"/>
                      </a:lnTo>
                      <a:lnTo>
                        <a:pt x="14958" y="7660"/>
                      </a:lnTo>
                      <a:lnTo>
                        <a:pt x="14042" y="9029"/>
                      </a:lnTo>
                      <a:lnTo>
                        <a:pt x="12958" y="10416"/>
                      </a:lnTo>
                      <a:lnTo>
                        <a:pt x="12000" y="11730"/>
                      </a:lnTo>
                      <a:lnTo>
                        <a:pt x="11000" y="12969"/>
                      </a:lnTo>
                      <a:lnTo>
                        <a:pt x="10042" y="14080"/>
                      </a:lnTo>
                      <a:lnTo>
                        <a:pt x="9000" y="15134"/>
                      </a:lnTo>
                      <a:lnTo>
                        <a:pt x="8000" y="16189"/>
                      </a:lnTo>
                      <a:lnTo>
                        <a:pt x="7000" y="16984"/>
                      </a:lnTo>
                      <a:lnTo>
                        <a:pt x="6042" y="17743"/>
                      </a:lnTo>
                      <a:lnTo>
                        <a:pt x="5042" y="18464"/>
                      </a:lnTo>
                      <a:lnTo>
                        <a:pt x="4000" y="19019"/>
                      </a:lnTo>
                      <a:lnTo>
                        <a:pt x="3000" y="19408"/>
                      </a:lnTo>
                      <a:lnTo>
                        <a:pt x="2042" y="19759"/>
                      </a:lnTo>
                      <a:lnTo>
                        <a:pt x="1042" y="19944"/>
                      </a:lnTo>
                      <a:lnTo>
                        <a:pt x="0" y="19981"/>
                      </a:ln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6" name=""/>
              <p:cNvSpPr/>
              <p:nvPr/>
            </p:nvSpPr>
            <p:spPr>
              <a:xfrm flipH="1" flipV="1">
                <a:off x="4472280" y="2257560"/>
                <a:ext cx="596520" cy="11505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19981"/>
                    </a:moveTo>
                    <a:lnTo>
                      <a:pt x="1042" y="18390"/>
                    </a:lnTo>
                    <a:lnTo>
                      <a:pt x="1958" y="16873"/>
                    </a:lnTo>
                    <a:lnTo>
                      <a:pt x="3000" y="15356"/>
                    </a:lnTo>
                    <a:lnTo>
                      <a:pt x="3958" y="13747"/>
                    </a:lnTo>
                    <a:lnTo>
                      <a:pt x="5042" y="12340"/>
                    </a:lnTo>
                    <a:lnTo>
                      <a:pt x="5958" y="10953"/>
                    </a:lnTo>
                    <a:lnTo>
                      <a:pt x="7000" y="9584"/>
                    </a:lnTo>
                    <a:lnTo>
                      <a:pt x="7958" y="8252"/>
                    </a:lnTo>
                    <a:lnTo>
                      <a:pt x="9000" y="7012"/>
                    </a:lnTo>
                    <a:lnTo>
                      <a:pt x="10042" y="5920"/>
                    </a:lnTo>
                    <a:lnTo>
                      <a:pt x="11000" y="4847"/>
                    </a:lnTo>
                    <a:lnTo>
                      <a:pt x="12000" y="3793"/>
                    </a:lnTo>
                    <a:lnTo>
                      <a:pt x="12958" y="3016"/>
                    </a:lnTo>
                    <a:lnTo>
                      <a:pt x="14042" y="2239"/>
                    </a:lnTo>
                    <a:lnTo>
                      <a:pt x="14958" y="1536"/>
                    </a:lnTo>
                    <a:lnTo>
                      <a:pt x="16000" y="962"/>
                    </a:lnTo>
                    <a:lnTo>
                      <a:pt x="16958" y="592"/>
                    </a:lnTo>
                    <a:lnTo>
                      <a:pt x="18042" y="222"/>
                    </a:lnTo>
                    <a:lnTo>
                      <a:pt x="18917" y="37"/>
                    </a:lnTo>
                    <a:lnTo>
                      <a:pt x="19958" y="0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 flipH="1" flipV="1">
                <a:off x="3875400" y="2259000"/>
                <a:ext cx="596520" cy="11505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19981"/>
                    </a:moveTo>
                    <a:lnTo>
                      <a:pt x="18958" y="18390"/>
                    </a:lnTo>
                    <a:lnTo>
                      <a:pt x="18042" y="16873"/>
                    </a:lnTo>
                    <a:lnTo>
                      <a:pt x="17000" y="15356"/>
                    </a:lnTo>
                    <a:lnTo>
                      <a:pt x="16042" y="13747"/>
                    </a:lnTo>
                    <a:lnTo>
                      <a:pt x="14958" y="12340"/>
                    </a:lnTo>
                    <a:lnTo>
                      <a:pt x="14042" y="10953"/>
                    </a:lnTo>
                    <a:lnTo>
                      <a:pt x="12958" y="9584"/>
                    </a:lnTo>
                    <a:lnTo>
                      <a:pt x="12000" y="8252"/>
                    </a:lnTo>
                    <a:lnTo>
                      <a:pt x="11000" y="7012"/>
                    </a:lnTo>
                    <a:lnTo>
                      <a:pt x="10042" y="5920"/>
                    </a:lnTo>
                    <a:lnTo>
                      <a:pt x="9000" y="4847"/>
                    </a:lnTo>
                    <a:lnTo>
                      <a:pt x="8000" y="3793"/>
                    </a:lnTo>
                    <a:lnTo>
                      <a:pt x="7000" y="3016"/>
                    </a:lnTo>
                    <a:lnTo>
                      <a:pt x="6042" y="2239"/>
                    </a:lnTo>
                    <a:lnTo>
                      <a:pt x="5042" y="1536"/>
                    </a:lnTo>
                    <a:lnTo>
                      <a:pt x="4000" y="962"/>
                    </a:lnTo>
                    <a:lnTo>
                      <a:pt x="3000" y="592"/>
                    </a:lnTo>
                    <a:lnTo>
                      <a:pt x="2042" y="222"/>
                    </a:lnTo>
                    <a:lnTo>
                      <a:pt x="1042" y="37"/>
                    </a:lnTo>
                    <a:lnTo>
                      <a:pt x="0" y="0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 flipH="1" flipV="1">
                <a:off x="3273840" y="1108440"/>
                <a:ext cx="596520" cy="11520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0"/>
                    </a:moveTo>
                    <a:lnTo>
                      <a:pt x="1042" y="1591"/>
                    </a:lnTo>
                    <a:lnTo>
                      <a:pt x="1958" y="3108"/>
                    </a:lnTo>
                    <a:lnTo>
                      <a:pt x="3000" y="4625"/>
                    </a:lnTo>
                    <a:lnTo>
                      <a:pt x="3958" y="6253"/>
                    </a:lnTo>
                    <a:lnTo>
                      <a:pt x="5042" y="7660"/>
                    </a:lnTo>
                    <a:lnTo>
                      <a:pt x="5958" y="9029"/>
                    </a:lnTo>
                    <a:lnTo>
                      <a:pt x="7000" y="10416"/>
                    </a:lnTo>
                    <a:lnTo>
                      <a:pt x="7958" y="11730"/>
                    </a:lnTo>
                    <a:lnTo>
                      <a:pt x="9000" y="12969"/>
                    </a:lnTo>
                    <a:lnTo>
                      <a:pt x="10042" y="14080"/>
                    </a:lnTo>
                    <a:lnTo>
                      <a:pt x="11000" y="15134"/>
                    </a:lnTo>
                    <a:lnTo>
                      <a:pt x="12000" y="16189"/>
                    </a:lnTo>
                    <a:lnTo>
                      <a:pt x="12958" y="16984"/>
                    </a:lnTo>
                    <a:lnTo>
                      <a:pt x="14042" y="17743"/>
                    </a:lnTo>
                    <a:lnTo>
                      <a:pt x="14958" y="18464"/>
                    </a:lnTo>
                    <a:lnTo>
                      <a:pt x="16000" y="19019"/>
                    </a:lnTo>
                    <a:lnTo>
                      <a:pt x="16958" y="19408"/>
                    </a:lnTo>
                    <a:lnTo>
                      <a:pt x="18042" y="19759"/>
                    </a:lnTo>
                    <a:lnTo>
                      <a:pt x="18917" y="19944"/>
                    </a:lnTo>
                    <a:lnTo>
                      <a:pt x="19958" y="19981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 flipH="1" flipV="1">
                <a:off x="3017520" y="1108440"/>
                <a:ext cx="266400" cy="279360"/>
              </a:xfrm>
              <a:custGeom>
                <a:avLst/>
                <a:gdLst/>
                <a:ahLst/>
                <a:rect l="l" t="t" r="r" b="b"/>
                <a:pathLst>
                  <a:path w="56" h="68">
                    <a:moveTo>
                      <a:pt x="56" y="0"/>
                    </a:moveTo>
                    <a:lnTo>
                      <a:pt x="50" y="14"/>
                    </a:lnTo>
                    <a:lnTo>
                      <a:pt x="44" y="26"/>
                    </a:lnTo>
                    <a:lnTo>
                      <a:pt x="38" y="36"/>
                    </a:lnTo>
                    <a:lnTo>
                      <a:pt x="32" y="46"/>
                    </a:lnTo>
                    <a:lnTo>
                      <a:pt x="25" y="54"/>
                    </a:lnTo>
                    <a:lnTo>
                      <a:pt x="19" y="60"/>
                    </a:lnTo>
                    <a:lnTo>
                      <a:pt x="13" y="65"/>
                    </a:lnTo>
                    <a:lnTo>
                      <a:pt x="7" y="67"/>
                    </a:lnTo>
                    <a:lnTo>
                      <a:pt x="0" y="68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 flipH="1" flipV="1">
                <a:off x="7455960" y="1387800"/>
                <a:ext cx="328320" cy="872640"/>
              </a:xfrm>
              <a:custGeom>
                <a:avLst/>
                <a:gdLst/>
                <a:ahLst/>
                <a:rect l="l" t="t" r="r" b="b"/>
                <a:pathLst>
                  <a:path w="69" h="213">
                    <a:moveTo>
                      <a:pt x="69" y="0"/>
                    </a:moveTo>
                    <a:lnTo>
                      <a:pt x="57" y="44"/>
                    </a:lnTo>
                    <a:lnTo>
                      <a:pt x="44" y="88"/>
                    </a:lnTo>
                    <a:lnTo>
                      <a:pt x="32" y="127"/>
                    </a:lnTo>
                    <a:lnTo>
                      <a:pt x="25" y="146"/>
                    </a:lnTo>
                    <a:lnTo>
                      <a:pt x="19" y="165"/>
                    </a:lnTo>
                    <a:lnTo>
                      <a:pt x="13" y="182"/>
                    </a:lnTo>
                    <a:lnTo>
                      <a:pt x="7" y="198"/>
                    </a:lnTo>
                    <a:lnTo>
                      <a:pt x="0" y="213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 flipH="1" flipV="1">
                <a:off x="2694960" y="1387800"/>
                <a:ext cx="327960" cy="872640"/>
              </a:xfrm>
              <a:custGeom>
                <a:avLst/>
                <a:gdLst/>
                <a:ahLst/>
                <a:rect l="l" t="t" r="r" b="b"/>
                <a:pathLst>
                  <a:path w="69" h="213">
                    <a:moveTo>
                      <a:pt x="69" y="0"/>
                    </a:moveTo>
                    <a:lnTo>
                      <a:pt x="57" y="44"/>
                    </a:lnTo>
                    <a:lnTo>
                      <a:pt x="44" y="88"/>
                    </a:lnTo>
                    <a:lnTo>
                      <a:pt x="32" y="127"/>
                    </a:lnTo>
                    <a:lnTo>
                      <a:pt x="25" y="146"/>
                    </a:lnTo>
                    <a:lnTo>
                      <a:pt x="19" y="165"/>
                    </a:lnTo>
                    <a:lnTo>
                      <a:pt x="13" y="182"/>
                    </a:lnTo>
                    <a:lnTo>
                      <a:pt x="7" y="198"/>
                    </a:lnTo>
                    <a:lnTo>
                      <a:pt x="0" y="213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2" name=""/>
            <p:cNvSpPr/>
            <p:nvPr/>
          </p:nvSpPr>
          <p:spPr>
            <a:xfrm>
              <a:off x="2397240" y="2216160"/>
              <a:ext cx="50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1800" spc="-1" strike="noStrike">
                  <a:solidFill>
                    <a:srgbClr val="009999"/>
                  </a:solidFill>
                  <a:latin typeface="Symbol"/>
                  <a:ea typeface="Symbol"/>
                </a:rPr>
                <a:t></a:t>
              </a:r>
              <a:r>
                <a:rPr b="0" lang="es-ES" sz="1800" spc="-1" strike="noStrike">
                  <a:solidFill>
                    <a:srgbClr val="009999"/>
                  </a:solidFill>
                  <a:latin typeface="Symbol"/>
                  <a:ea typeface="Symbol"/>
                </a:rPr>
                <a:t>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3047760" y="735120"/>
              <a:ext cx="455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313240" y="1916280"/>
              <a:ext cx="32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1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7632720" y="1930320"/>
              <a:ext cx="43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i="1" lang="es-ES" sz="1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7576920" y="2216160"/>
              <a:ext cx="533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9999"/>
                  </a:solidFill>
                  <a:latin typeface="Times New Roman"/>
                </a:rPr>
                <a:t>4</a:t>
              </a:r>
              <a:r>
                <a:rPr b="0" lang="es-ES" sz="1800" spc="-1" strike="noStrike">
                  <a:solidFill>
                    <a:srgbClr val="009999"/>
                  </a:solidFill>
                  <a:latin typeface="Symbol"/>
                  <a:ea typeface="Symbol"/>
                </a:rPr>
                <a:t>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5619600" y="108900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EE76C-0522-458E-AFE8-73B364C72810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8" name=""/>
          <p:cNvGrpSpPr/>
          <p:nvPr/>
        </p:nvGrpSpPr>
        <p:grpSpPr>
          <a:xfrm>
            <a:off x="1039680" y="2679840"/>
            <a:ext cx="2492280" cy="2662920"/>
            <a:chOff x="1039680" y="2679840"/>
            <a:chExt cx="2492280" cy="2662920"/>
          </a:xfrm>
        </p:grpSpPr>
        <p:sp>
          <p:nvSpPr>
            <p:cNvPr id="589" name=""/>
            <p:cNvSpPr/>
            <p:nvPr/>
          </p:nvSpPr>
          <p:spPr>
            <a:xfrm>
              <a:off x="1135080" y="2935080"/>
              <a:ext cx="2303280" cy="22982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1039680" y="4086000"/>
              <a:ext cx="249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 flipV="1">
              <a:off x="2286000" y="2826720"/>
              <a:ext cx="0" cy="2516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 flipV="1">
              <a:off x="2286000" y="3196800"/>
              <a:ext cx="728640" cy="89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1741680" y="3542760"/>
              <a:ext cx="1088280" cy="1088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706" y="2497"/>
                  </a:moveTo>
                  <a:arcTo wR="10800" hR="10800" stAng="-3014961" swAng="29919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7706" y="2497"/>
                  </a:moveTo>
                  <a:arcTo wR="10800" hR="10800" stAng="-3014961" swAng="2991957"/>
                </a:path>
              </a:pathLst>
            </a:custGeom>
            <a:noFill/>
            <a:ln w="9360">
              <a:solidFill>
                <a:srgbClr val="000000"/>
              </a:solidFill>
              <a:miter/>
              <a:headEnd len="med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2828160" y="267984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28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2746800" y="351612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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2302920" y="3078000"/>
              <a:ext cx="54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24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i="1" lang="es-E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Ẏ</a:t>
              </a:r>
              <a:r>
                <a:rPr b="0" i="1" lang="es-E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 flipH="1" flipV="1">
              <a:off x="2990880" y="3169440"/>
              <a:ext cx="56880" cy="56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8" name=""/>
          <p:cNvGrpSpPr/>
          <p:nvPr/>
        </p:nvGrpSpPr>
        <p:grpSpPr>
          <a:xfrm>
            <a:off x="2540160" y="220680"/>
            <a:ext cx="6062040" cy="3300480"/>
            <a:chOff x="2540160" y="220680"/>
            <a:chExt cx="6062040" cy="3300480"/>
          </a:xfrm>
        </p:grpSpPr>
        <p:sp>
          <p:nvSpPr>
            <p:cNvPr id="599" name=""/>
            <p:cNvSpPr/>
            <p:nvPr/>
          </p:nvSpPr>
          <p:spPr>
            <a:xfrm>
              <a:off x="2592360" y="2259000"/>
              <a:ext cx="58417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 flipV="1">
              <a:off x="3157560" y="669960"/>
              <a:ext cx="0" cy="2851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2827440" y="220680"/>
              <a:ext cx="585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s-E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8339040" y="2060640"/>
              <a:ext cx="26316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5354640" y="2216160"/>
              <a:ext cx="533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9999"/>
                  </a:solidFill>
                  <a:latin typeface="Times New Roman"/>
                </a:rPr>
                <a:t>2</a:t>
              </a:r>
              <a:r>
                <a:rPr b="0" lang="es-ES" sz="1800" spc="-1" strike="noStrike">
                  <a:solidFill>
                    <a:srgbClr val="009999"/>
                  </a:solidFill>
                  <a:latin typeface="Symbol"/>
                  <a:ea typeface="Symbol"/>
                </a:rPr>
                <a:t>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4" name=""/>
            <p:cNvGrpSpPr/>
            <p:nvPr/>
          </p:nvGrpSpPr>
          <p:grpSpPr>
            <a:xfrm>
              <a:off x="2838240" y="1104840"/>
              <a:ext cx="5088960" cy="2304720"/>
              <a:chOff x="2838240" y="1104840"/>
              <a:chExt cx="5088960" cy="2304720"/>
            </a:xfrm>
          </p:grpSpPr>
          <p:grpSp>
            <p:nvGrpSpPr>
              <p:cNvPr id="605" name=""/>
              <p:cNvGrpSpPr/>
              <p:nvPr/>
            </p:nvGrpSpPr>
            <p:grpSpPr>
              <a:xfrm>
                <a:off x="6409440" y="2255400"/>
                <a:ext cx="1193400" cy="1154160"/>
                <a:chOff x="6409440" y="2255400"/>
                <a:chExt cx="1193400" cy="1154160"/>
              </a:xfrm>
            </p:grpSpPr>
            <p:sp>
              <p:nvSpPr>
                <p:cNvPr id="606" name=""/>
                <p:cNvSpPr/>
                <p:nvPr/>
              </p:nvSpPr>
              <p:spPr>
                <a:xfrm flipH="1" flipV="1">
                  <a:off x="7006680" y="2255400"/>
                  <a:ext cx="596160" cy="11534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0" y="19981"/>
                      </a:moveTo>
                      <a:lnTo>
                        <a:pt x="1042" y="18390"/>
                      </a:lnTo>
                      <a:lnTo>
                        <a:pt x="1958" y="16873"/>
                      </a:lnTo>
                      <a:lnTo>
                        <a:pt x="3000" y="15356"/>
                      </a:lnTo>
                      <a:lnTo>
                        <a:pt x="3958" y="13747"/>
                      </a:lnTo>
                      <a:lnTo>
                        <a:pt x="5042" y="12340"/>
                      </a:lnTo>
                      <a:lnTo>
                        <a:pt x="5958" y="10953"/>
                      </a:lnTo>
                      <a:lnTo>
                        <a:pt x="7000" y="9584"/>
                      </a:lnTo>
                      <a:lnTo>
                        <a:pt x="7958" y="8252"/>
                      </a:lnTo>
                      <a:lnTo>
                        <a:pt x="9000" y="7012"/>
                      </a:lnTo>
                      <a:lnTo>
                        <a:pt x="10042" y="5920"/>
                      </a:lnTo>
                      <a:lnTo>
                        <a:pt x="11000" y="4847"/>
                      </a:lnTo>
                      <a:lnTo>
                        <a:pt x="12000" y="3793"/>
                      </a:lnTo>
                      <a:lnTo>
                        <a:pt x="12958" y="3016"/>
                      </a:lnTo>
                      <a:lnTo>
                        <a:pt x="14042" y="2239"/>
                      </a:lnTo>
                      <a:lnTo>
                        <a:pt x="14958" y="1536"/>
                      </a:lnTo>
                      <a:lnTo>
                        <a:pt x="16000" y="962"/>
                      </a:lnTo>
                      <a:lnTo>
                        <a:pt x="16958" y="592"/>
                      </a:lnTo>
                      <a:lnTo>
                        <a:pt x="18042" y="222"/>
                      </a:lnTo>
                      <a:lnTo>
                        <a:pt x="18917" y="37"/>
                      </a:lnTo>
                      <a:lnTo>
                        <a:pt x="19958" y="0"/>
                      </a:ln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7" name=""/>
                <p:cNvSpPr/>
                <p:nvPr/>
              </p:nvSpPr>
              <p:spPr>
                <a:xfrm flipH="1" flipV="1">
                  <a:off x="6409440" y="2256120"/>
                  <a:ext cx="596160" cy="11534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58" y="19981"/>
                      </a:moveTo>
                      <a:lnTo>
                        <a:pt x="18958" y="18390"/>
                      </a:lnTo>
                      <a:lnTo>
                        <a:pt x="18042" y="16873"/>
                      </a:lnTo>
                      <a:lnTo>
                        <a:pt x="17000" y="15356"/>
                      </a:lnTo>
                      <a:lnTo>
                        <a:pt x="16042" y="13747"/>
                      </a:lnTo>
                      <a:lnTo>
                        <a:pt x="14958" y="12340"/>
                      </a:lnTo>
                      <a:lnTo>
                        <a:pt x="14042" y="10953"/>
                      </a:lnTo>
                      <a:lnTo>
                        <a:pt x="12958" y="9584"/>
                      </a:lnTo>
                      <a:lnTo>
                        <a:pt x="12000" y="8252"/>
                      </a:lnTo>
                      <a:lnTo>
                        <a:pt x="11000" y="7012"/>
                      </a:lnTo>
                      <a:lnTo>
                        <a:pt x="10042" y="5920"/>
                      </a:lnTo>
                      <a:lnTo>
                        <a:pt x="9000" y="4847"/>
                      </a:lnTo>
                      <a:lnTo>
                        <a:pt x="8000" y="3793"/>
                      </a:lnTo>
                      <a:lnTo>
                        <a:pt x="7000" y="3016"/>
                      </a:lnTo>
                      <a:lnTo>
                        <a:pt x="6042" y="2239"/>
                      </a:lnTo>
                      <a:lnTo>
                        <a:pt x="5042" y="1536"/>
                      </a:lnTo>
                      <a:lnTo>
                        <a:pt x="4000" y="962"/>
                      </a:lnTo>
                      <a:lnTo>
                        <a:pt x="3000" y="592"/>
                      </a:lnTo>
                      <a:lnTo>
                        <a:pt x="2042" y="222"/>
                      </a:lnTo>
                      <a:lnTo>
                        <a:pt x="1042" y="37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08" name=""/>
              <p:cNvGrpSpPr/>
              <p:nvPr/>
            </p:nvGrpSpPr>
            <p:grpSpPr>
              <a:xfrm>
                <a:off x="5212800" y="1104840"/>
                <a:ext cx="1195200" cy="1154160"/>
                <a:chOff x="5212800" y="1104840"/>
                <a:chExt cx="1195200" cy="1154160"/>
              </a:xfrm>
            </p:grpSpPr>
            <p:sp>
              <p:nvSpPr>
                <p:cNvPr id="609" name=""/>
                <p:cNvSpPr/>
                <p:nvPr/>
              </p:nvSpPr>
              <p:spPr>
                <a:xfrm flipH="1" flipV="1">
                  <a:off x="5811840" y="1105560"/>
                  <a:ext cx="595800" cy="11534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0" y="0"/>
                      </a:moveTo>
                      <a:lnTo>
                        <a:pt x="1042" y="1591"/>
                      </a:lnTo>
                      <a:lnTo>
                        <a:pt x="1958" y="3108"/>
                      </a:lnTo>
                      <a:lnTo>
                        <a:pt x="3000" y="4625"/>
                      </a:lnTo>
                      <a:lnTo>
                        <a:pt x="3958" y="6253"/>
                      </a:lnTo>
                      <a:lnTo>
                        <a:pt x="5042" y="7660"/>
                      </a:lnTo>
                      <a:lnTo>
                        <a:pt x="5958" y="9029"/>
                      </a:lnTo>
                      <a:lnTo>
                        <a:pt x="7000" y="10416"/>
                      </a:lnTo>
                      <a:lnTo>
                        <a:pt x="7958" y="11730"/>
                      </a:lnTo>
                      <a:lnTo>
                        <a:pt x="9000" y="12969"/>
                      </a:lnTo>
                      <a:lnTo>
                        <a:pt x="10042" y="14080"/>
                      </a:lnTo>
                      <a:lnTo>
                        <a:pt x="11000" y="15134"/>
                      </a:lnTo>
                      <a:lnTo>
                        <a:pt x="12000" y="16189"/>
                      </a:lnTo>
                      <a:lnTo>
                        <a:pt x="12958" y="16984"/>
                      </a:lnTo>
                      <a:lnTo>
                        <a:pt x="14042" y="17743"/>
                      </a:lnTo>
                      <a:lnTo>
                        <a:pt x="14958" y="18464"/>
                      </a:lnTo>
                      <a:lnTo>
                        <a:pt x="16000" y="19019"/>
                      </a:lnTo>
                      <a:lnTo>
                        <a:pt x="16958" y="19408"/>
                      </a:lnTo>
                      <a:lnTo>
                        <a:pt x="18042" y="19759"/>
                      </a:lnTo>
                      <a:lnTo>
                        <a:pt x="18917" y="19944"/>
                      </a:lnTo>
                      <a:lnTo>
                        <a:pt x="19958" y="19981"/>
                      </a:ln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0" name=""/>
                <p:cNvSpPr/>
                <p:nvPr/>
              </p:nvSpPr>
              <p:spPr>
                <a:xfrm flipH="1" flipV="1">
                  <a:off x="5212440" y="1104840"/>
                  <a:ext cx="595800" cy="11534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58" y="0"/>
                      </a:moveTo>
                      <a:lnTo>
                        <a:pt x="18958" y="1591"/>
                      </a:lnTo>
                      <a:lnTo>
                        <a:pt x="18042" y="3108"/>
                      </a:lnTo>
                      <a:lnTo>
                        <a:pt x="17000" y="4625"/>
                      </a:lnTo>
                      <a:lnTo>
                        <a:pt x="16042" y="6253"/>
                      </a:lnTo>
                      <a:lnTo>
                        <a:pt x="14958" y="7660"/>
                      </a:lnTo>
                      <a:lnTo>
                        <a:pt x="14042" y="9029"/>
                      </a:lnTo>
                      <a:lnTo>
                        <a:pt x="12958" y="10416"/>
                      </a:lnTo>
                      <a:lnTo>
                        <a:pt x="12000" y="11730"/>
                      </a:lnTo>
                      <a:lnTo>
                        <a:pt x="11000" y="12969"/>
                      </a:lnTo>
                      <a:lnTo>
                        <a:pt x="10042" y="14080"/>
                      </a:lnTo>
                      <a:lnTo>
                        <a:pt x="9000" y="15134"/>
                      </a:lnTo>
                      <a:lnTo>
                        <a:pt x="8000" y="16189"/>
                      </a:lnTo>
                      <a:lnTo>
                        <a:pt x="7000" y="16984"/>
                      </a:lnTo>
                      <a:lnTo>
                        <a:pt x="6042" y="17743"/>
                      </a:lnTo>
                      <a:lnTo>
                        <a:pt x="5042" y="18464"/>
                      </a:lnTo>
                      <a:lnTo>
                        <a:pt x="4000" y="19019"/>
                      </a:lnTo>
                      <a:lnTo>
                        <a:pt x="3000" y="19408"/>
                      </a:lnTo>
                      <a:lnTo>
                        <a:pt x="2042" y="19759"/>
                      </a:lnTo>
                      <a:lnTo>
                        <a:pt x="1042" y="19944"/>
                      </a:lnTo>
                      <a:lnTo>
                        <a:pt x="0" y="19981"/>
                      </a:ln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11" name=""/>
              <p:cNvSpPr/>
              <p:nvPr/>
            </p:nvSpPr>
            <p:spPr>
              <a:xfrm flipH="1" flipV="1">
                <a:off x="4615200" y="2257560"/>
                <a:ext cx="596520" cy="11505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19981"/>
                    </a:moveTo>
                    <a:lnTo>
                      <a:pt x="1042" y="18390"/>
                    </a:lnTo>
                    <a:lnTo>
                      <a:pt x="1958" y="16873"/>
                    </a:lnTo>
                    <a:lnTo>
                      <a:pt x="3000" y="15356"/>
                    </a:lnTo>
                    <a:lnTo>
                      <a:pt x="3958" y="13747"/>
                    </a:lnTo>
                    <a:lnTo>
                      <a:pt x="5042" y="12340"/>
                    </a:lnTo>
                    <a:lnTo>
                      <a:pt x="5958" y="10953"/>
                    </a:lnTo>
                    <a:lnTo>
                      <a:pt x="7000" y="9584"/>
                    </a:lnTo>
                    <a:lnTo>
                      <a:pt x="7958" y="8252"/>
                    </a:lnTo>
                    <a:lnTo>
                      <a:pt x="9000" y="7012"/>
                    </a:lnTo>
                    <a:lnTo>
                      <a:pt x="10042" y="5920"/>
                    </a:lnTo>
                    <a:lnTo>
                      <a:pt x="11000" y="4847"/>
                    </a:lnTo>
                    <a:lnTo>
                      <a:pt x="12000" y="3793"/>
                    </a:lnTo>
                    <a:lnTo>
                      <a:pt x="12958" y="3016"/>
                    </a:lnTo>
                    <a:lnTo>
                      <a:pt x="14042" y="2239"/>
                    </a:lnTo>
                    <a:lnTo>
                      <a:pt x="14958" y="1536"/>
                    </a:lnTo>
                    <a:lnTo>
                      <a:pt x="16000" y="962"/>
                    </a:lnTo>
                    <a:lnTo>
                      <a:pt x="16958" y="592"/>
                    </a:lnTo>
                    <a:lnTo>
                      <a:pt x="18042" y="222"/>
                    </a:lnTo>
                    <a:lnTo>
                      <a:pt x="18917" y="37"/>
                    </a:lnTo>
                    <a:lnTo>
                      <a:pt x="19958" y="0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flipH="1" flipV="1">
                <a:off x="4018320" y="2259000"/>
                <a:ext cx="596520" cy="11505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19981"/>
                    </a:moveTo>
                    <a:lnTo>
                      <a:pt x="18958" y="18390"/>
                    </a:lnTo>
                    <a:lnTo>
                      <a:pt x="18042" y="16873"/>
                    </a:lnTo>
                    <a:lnTo>
                      <a:pt x="17000" y="15356"/>
                    </a:lnTo>
                    <a:lnTo>
                      <a:pt x="16042" y="13747"/>
                    </a:lnTo>
                    <a:lnTo>
                      <a:pt x="14958" y="12340"/>
                    </a:lnTo>
                    <a:lnTo>
                      <a:pt x="14042" y="10953"/>
                    </a:lnTo>
                    <a:lnTo>
                      <a:pt x="12958" y="9584"/>
                    </a:lnTo>
                    <a:lnTo>
                      <a:pt x="12000" y="8252"/>
                    </a:lnTo>
                    <a:lnTo>
                      <a:pt x="11000" y="7012"/>
                    </a:lnTo>
                    <a:lnTo>
                      <a:pt x="10042" y="5920"/>
                    </a:lnTo>
                    <a:lnTo>
                      <a:pt x="9000" y="4847"/>
                    </a:lnTo>
                    <a:lnTo>
                      <a:pt x="8000" y="3793"/>
                    </a:lnTo>
                    <a:lnTo>
                      <a:pt x="7000" y="3016"/>
                    </a:lnTo>
                    <a:lnTo>
                      <a:pt x="6042" y="2239"/>
                    </a:lnTo>
                    <a:lnTo>
                      <a:pt x="5042" y="1536"/>
                    </a:lnTo>
                    <a:lnTo>
                      <a:pt x="4000" y="962"/>
                    </a:lnTo>
                    <a:lnTo>
                      <a:pt x="3000" y="592"/>
                    </a:lnTo>
                    <a:lnTo>
                      <a:pt x="2042" y="222"/>
                    </a:lnTo>
                    <a:lnTo>
                      <a:pt x="1042" y="37"/>
                    </a:lnTo>
                    <a:lnTo>
                      <a:pt x="0" y="0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flipH="1" flipV="1">
                <a:off x="3416760" y="1108440"/>
                <a:ext cx="596520" cy="11520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0"/>
                    </a:moveTo>
                    <a:lnTo>
                      <a:pt x="1042" y="1591"/>
                    </a:lnTo>
                    <a:lnTo>
                      <a:pt x="1958" y="3108"/>
                    </a:lnTo>
                    <a:lnTo>
                      <a:pt x="3000" y="4625"/>
                    </a:lnTo>
                    <a:lnTo>
                      <a:pt x="3958" y="6253"/>
                    </a:lnTo>
                    <a:lnTo>
                      <a:pt x="5042" y="7660"/>
                    </a:lnTo>
                    <a:lnTo>
                      <a:pt x="5958" y="9029"/>
                    </a:lnTo>
                    <a:lnTo>
                      <a:pt x="7000" y="10416"/>
                    </a:lnTo>
                    <a:lnTo>
                      <a:pt x="7958" y="11730"/>
                    </a:lnTo>
                    <a:lnTo>
                      <a:pt x="9000" y="12969"/>
                    </a:lnTo>
                    <a:lnTo>
                      <a:pt x="10042" y="14080"/>
                    </a:lnTo>
                    <a:lnTo>
                      <a:pt x="11000" y="15134"/>
                    </a:lnTo>
                    <a:lnTo>
                      <a:pt x="12000" y="16189"/>
                    </a:lnTo>
                    <a:lnTo>
                      <a:pt x="12958" y="16984"/>
                    </a:lnTo>
                    <a:lnTo>
                      <a:pt x="14042" y="17743"/>
                    </a:lnTo>
                    <a:lnTo>
                      <a:pt x="14958" y="18464"/>
                    </a:lnTo>
                    <a:lnTo>
                      <a:pt x="16000" y="19019"/>
                    </a:lnTo>
                    <a:lnTo>
                      <a:pt x="16958" y="19408"/>
                    </a:lnTo>
                    <a:lnTo>
                      <a:pt x="18042" y="19759"/>
                    </a:lnTo>
                    <a:lnTo>
                      <a:pt x="18917" y="19944"/>
                    </a:lnTo>
                    <a:lnTo>
                      <a:pt x="19958" y="19981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flipH="1" flipV="1">
                <a:off x="3160440" y="1108440"/>
                <a:ext cx="266400" cy="279360"/>
              </a:xfrm>
              <a:custGeom>
                <a:avLst/>
                <a:gdLst/>
                <a:ahLst/>
                <a:rect l="l" t="t" r="r" b="b"/>
                <a:pathLst>
                  <a:path w="56" h="68">
                    <a:moveTo>
                      <a:pt x="56" y="0"/>
                    </a:moveTo>
                    <a:lnTo>
                      <a:pt x="50" y="14"/>
                    </a:lnTo>
                    <a:lnTo>
                      <a:pt x="44" y="26"/>
                    </a:lnTo>
                    <a:lnTo>
                      <a:pt x="38" y="36"/>
                    </a:lnTo>
                    <a:lnTo>
                      <a:pt x="32" y="46"/>
                    </a:lnTo>
                    <a:lnTo>
                      <a:pt x="25" y="54"/>
                    </a:lnTo>
                    <a:lnTo>
                      <a:pt x="19" y="60"/>
                    </a:lnTo>
                    <a:lnTo>
                      <a:pt x="13" y="65"/>
                    </a:lnTo>
                    <a:lnTo>
                      <a:pt x="7" y="67"/>
                    </a:lnTo>
                    <a:lnTo>
                      <a:pt x="0" y="68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flipH="1" flipV="1">
                <a:off x="7598880" y="1387800"/>
                <a:ext cx="328320" cy="872640"/>
              </a:xfrm>
              <a:custGeom>
                <a:avLst/>
                <a:gdLst/>
                <a:ahLst/>
                <a:rect l="l" t="t" r="r" b="b"/>
                <a:pathLst>
                  <a:path w="69" h="213">
                    <a:moveTo>
                      <a:pt x="69" y="0"/>
                    </a:moveTo>
                    <a:lnTo>
                      <a:pt x="57" y="44"/>
                    </a:lnTo>
                    <a:lnTo>
                      <a:pt x="44" y="88"/>
                    </a:lnTo>
                    <a:lnTo>
                      <a:pt x="32" y="127"/>
                    </a:lnTo>
                    <a:lnTo>
                      <a:pt x="25" y="146"/>
                    </a:lnTo>
                    <a:lnTo>
                      <a:pt x="19" y="165"/>
                    </a:lnTo>
                    <a:lnTo>
                      <a:pt x="13" y="182"/>
                    </a:lnTo>
                    <a:lnTo>
                      <a:pt x="7" y="198"/>
                    </a:lnTo>
                    <a:lnTo>
                      <a:pt x="0" y="213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flipH="1" flipV="1">
                <a:off x="2837880" y="1387800"/>
                <a:ext cx="327960" cy="872640"/>
              </a:xfrm>
              <a:custGeom>
                <a:avLst/>
                <a:gdLst/>
                <a:ahLst/>
                <a:rect l="l" t="t" r="r" b="b"/>
                <a:pathLst>
                  <a:path w="69" h="213">
                    <a:moveTo>
                      <a:pt x="69" y="0"/>
                    </a:moveTo>
                    <a:lnTo>
                      <a:pt x="57" y="44"/>
                    </a:lnTo>
                    <a:lnTo>
                      <a:pt x="44" y="88"/>
                    </a:lnTo>
                    <a:lnTo>
                      <a:pt x="32" y="127"/>
                    </a:lnTo>
                    <a:lnTo>
                      <a:pt x="25" y="146"/>
                    </a:lnTo>
                    <a:lnTo>
                      <a:pt x="19" y="165"/>
                    </a:lnTo>
                    <a:lnTo>
                      <a:pt x="13" y="182"/>
                    </a:lnTo>
                    <a:lnTo>
                      <a:pt x="7" y="198"/>
                    </a:lnTo>
                    <a:lnTo>
                      <a:pt x="0" y="213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7" name=""/>
            <p:cNvSpPr/>
            <p:nvPr/>
          </p:nvSpPr>
          <p:spPr>
            <a:xfrm>
              <a:off x="2540160" y="2216160"/>
              <a:ext cx="50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1800" spc="-1" strike="noStrike">
                  <a:solidFill>
                    <a:srgbClr val="009999"/>
                  </a:solidFill>
                  <a:latin typeface="Symbol"/>
                  <a:ea typeface="Symbol"/>
                </a:rPr>
                <a:t></a:t>
              </a:r>
              <a:r>
                <a:rPr b="0" lang="es-ES" sz="1800" spc="-1" strike="noStrike">
                  <a:solidFill>
                    <a:srgbClr val="009999"/>
                  </a:solidFill>
                  <a:latin typeface="Symbol"/>
                  <a:ea typeface="Symbol"/>
                </a:rPr>
                <a:t>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3190680" y="735120"/>
              <a:ext cx="455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456160" y="1916280"/>
              <a:ext cx="32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1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7775640" y="1930320"/>
              <a:ext cx="43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i="1" lang="es-ES" sz="1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719840" y="2216160"/>
              <a:ext cx="533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9999"/>
                  </a:solidFill>
                  <a:latin typeface="Times New Roman"/>
                </a:rPr>
                <a:t>4</a:t>
              </a:r>
              <a:r>
                <a:rPr b="0" lang="es-ES" sz="1800" spc="-1" strike="noStrike">
                  <a:solidFill>
                    <a:srgbClr val="009999"/>
                  </a:solidFill>
                  <a:latin typeface="Symbol"/>
                  <a:ea typeface="Symbol"/>
                </a:rPr>
                <a:t>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5762520" y="108900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3FA52-AEE2-422A-988B-65DBF18F987D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452760" y="2438280"/>
            <a:ext cx="2235240" cy="198936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495520" y="3432240"/>
            <a:ext cx="95724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89440" y="3432240"/>
            <a:ext cx="95760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23920" y="3204000"/>
            <a:ext cx="142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Arial"/>
              </a:rPr>
              <a:t>Entr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419880" y="3204000"/>
            <a:ext cx="142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Arial"/>
              </a:rPr>
              <a:t>Sali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691080" y="32040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Arial"/>
              </a:rPr>
              <a:t>SISTE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906480" y="37807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9999"/>
                </a:solidFill>
                <a:latin typeface="Arial"/>
              </a:rPr>
              <a:t>(Excitació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34200" y="3782160"/>
            <a:ext cx="156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9999"/>
                </a:solidFill>
                <a:latin typeface="Arial"/>
              </a:rPr>
              <a:t>(Respuest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AA474-4F81-4929-9498-CD523DA95A71}" type="slidenum">
              <a:t>4</a:t>
            </a:fld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3" name=""/>
          <p:cNvGrpSpPr/>
          <p:nvPr/>
        </p:nvGrpSpPr>
        <p:grpSpPr>
          <a:xfrm>
            <a:off x="611280" y="2108160"/>
            <a:ext cx="2492280" cy="2664000"/>
            <a:chOff x="611280" y="2108160"/>
            <a:chExt cx="2492280" cy="2664000"/>
          </a:xfrm>
        </p:grpSpPr>
        <p:sp>
          <p:nvSpPr>
            <p:cNvPr id="624" name=""/>
            <p:cNvSpPr/>
            <p:nvPr/>
          </p:nvSpPr>
          <p:spPr>
            <a:xfrm>
              <a:off x="706680" y="2363760"/>
              <a:ext cx="2303280" cy="2298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611280" y="3514680"/>
              <a:ext cx="249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 flipV="1">
              <a:off x="1857600" y="2255760"/>
              <a:ext cx="0" cy="2516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 flipV="1">
              <a:off x="1857600" y="2625840"/>
              <a:ext cx="728640" cy="89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1313280" y="2971440"/>
              <a:ext cx="1088280" cy="108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706" y="2497"/>
                  </a:moveTo>
                  <a:arcTo wR="10800" hR="10800" stAng="-3014961" swAng="29919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7706" y="2497"/>
                  </a:moveTo>
                  <a:arcTo wR="10800" hR="10800" stAng="-3014961" swAng="2991957"/>
                </a:path>
              </a:pathLst>
            </a:custGeom>
            <a:noFill/>
            <a:ln w="9360">
              <a:solidFill>
                <a:srgbClr val="000000"/>
              </a:solidFill>
              <a:miter/>
              <a:headEnd len="med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2399760" y="210816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2318400" y="294480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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874520" y="2506680"/>
              <a:ext cx="54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24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i="1" lang="es-E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Ẏ</a:t>
              </a:r>
              <a:r>
                <a:rPr b="0" i="1" lang="es-E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 flipH="1" flipV="1">
              <a:off x="2562480" y="2598840"/>
              <a:ext cx="56880" cy="568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3" name=""/>
          <p:cNvGrpSpPr/>
          <p:nvPr/>
        </p:nvGrpSpPr>
        <p:grpSpPr>
          <a:xfrm>
            <a:off x="2682720" y="220680"/>
            <a:ext cx="6062760" cy="3300480"/>
            <a:chOff x="2682720" y="220680"/>
            <a:chExt cx="6062760" cy="3300480"/>
          </a:xfrm>
        </p:grpSpPr>
        <p:sp>
          <p:nvSpPr>
            <p:cNvPr id="634" name=""/>
            <p:cNvSpPr/>
            <p:nvPr/>
          </p:nvSpPr>
          <p:spPr>
            <a:xfrm>
              <a:off x="2735280" y="2259000"/>
              <a:ext cx="5842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 flipV="1">
              <a:off x="3300480" y="669960"/>
              <a:ext cx="0" cy="2851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970360" y="220680"/>
              <a:ext cx="585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s-E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8481960" y="2060640"/>
              <a:ext cx="26352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5497560" y="2216160"/>
              <a:ext cx="53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9999"/>
                  </a:solidFill>
                  <a:latin typeface="Times New Roman"/>
                </a:rPr>
                <a:t>2</a:t>
              </a:r>
              <a:r>
                <a:rPr b="0" lang="es-ES" sz="1800" spc="-1" strike="noStrike">
                  <a:solidFill>
                    <a:srgbClr val="009999"/>
                  </a:solidFill>
                  <a:latin typeface="Symbol"/>
                  <a:ea typeface="Symbol"/>
                </a:rPr>
                <a:t>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39" name=""/>
            <p:cNvGrpSpPr/>
            <p:nvPr/>
          </p:nvGrpSpPr>
          <p:grpSpPr>
            <a:xfrm>
              <a:off x="2981520" y="1104840"/>
              <a:ext cx="5088960" cy="2304720"/>
              <a:chOff x="2981520" y="1104840"/>
              <a:chExt cx="5088960" cy="2304720"/>
            </a:xfrm>
          </p:grpSpPr>
          <p:grpSp>
            <p:nvGrpSpPr>
              <p:cNvPr id="640" name=""/>
              <p:cNvGrpSpPr/>
              <p:nvPr/>
            </p:nvGrpSpPr>
            <p:grpSpPr>
              <a:xfrm>
                <a:off x="6553080" y="2255400"/>
                <a:ext cx="1193760" cy="1154160"/>
                <a:chOff x="6553080" y="2255400"/>
                <a:chExt cx="1193760" cy="1154160"/>
              </a:xfrm>
            </p:grpSpPr>
            <p:sp>
              <p:nvSpPr>
                <p:cNvPr id="641" name=""/>
                <p:cNvSpPr/>
                <p:nvPr/>
              </p:nvSpPr>
              <p:spPr>
                <a:xfrm flipH="1" flipV="1">
                  <a:off x="7149960" y="2255400"/>
                  <a:ext cx="596520" cy="11534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0" y="19981"/>
                      </a:moveTo>
                      <a:lnTo>
                        <a:pt x="1042" y="18390"/>
                      </a:lnTo>
                      <a:lnTo>
                        <a:pt x="1958" y="16873"/>
                      </a:lnTo>
                      <a:lnTo>
                        <a:pt x="3000" y="15356"/>
                      </a:lnTo>
                      <a:lnTo>
                        <a:pt x="3958" y="13747"/>
                      </a:lnTo>
                      <a:lnTo>
                        <a:pt x="5042" y="12340"/>
                      </a:lnTo>
                      <a:lnTo>
                        <a:pt x="5958" y="10953"/>
                      </a:lnTo>
                      <a:lnTo>
                        <a:pt x="7000" y="9584"/>
                      </a:lnTo>
                      <a:lnTo>
                        <a:pt x="7958" y="8252"/>
                      </a:lnTo>
                      <a:lnTo>
                        <a:pt x="9000" y="7012"/>
                      </a:lnTo>
                      <a:lnTo>
                        <a:pt x="10042" y="5920"/>
                      </a:lnTo>
                      <a:lnTo>
                        <a:pt x="11000" y="4847"/>
                      </a:lnTo>
                      <a:lnTo>
                        <a:pt x="12000" y="3793"/>
                      </a:lnTo>
                      <a:lnTo>
                        <a:pt x="12958" y="3016"/>
                      </a:lnTo>
                      <a:lnTo>
                        <a:pt x="14042" y="2239"/>
                      </a:lnTo>
                      <a:lnTo>
                        <a:pt x="14958" y="1536"/>
                      </a:lnTo>
                      <a:lnTo>
                        <a:pt x="16000" y="962"/>
                      </a:lnTo>
                      <a:lnTo>
                        <a:pt x="16958" y="592"/>
                      </a:lnTo>
                      <a:lnTo>
                        <a:pt x="18042" y="222"/>
                      </a:lnTo>
                      <a:lnTo>
                        <a:pt x="18917" y="37"/>
                      </a:lnTo>
                      <a:lnTo>
                        <a:pt x="19958" y="0"/>
                      </a:ln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2" name=""/>
                <p:cNvSpPr/>
                <p:nvPr/>
              </p:nvSpPr>
              <p:spPr>
                <a:xfrm flipH="1" flipV="1">
                  <a:off x="6552720" y="2256120"/>
                  <a:ext cx="596520" cy="11534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58" y="19981"/>
                      </a:moveTo>
                      <a:lnTo>
                        <a:pt x="18958" y="18390"/>
                      </a:lnTo>
                      <a:lnTo>
                        <a:pt x="18042" y="16873"/>
                      </a:lnTo>
                      <a:lnTo>
                        <a:pt x="17000" y="15356"/>
                      </a:lnTo>
                      <a:lnTo>
                        <a:pt x="16042" y="13747"/>
                      </a:lnTo>
                      <a:lnTo>
                        <a:pt x="14958" y="12340"/>
                      </a:lnTo>
                      <a:lnTo>
                        <a:pt x="14042" y="10953"/>
                      </a:lnTo>
                      <a:lnTo>
                        <a:pt x="12958" y="9584"/>
                      </a:lnTo>
                      <a:lnTo>
                        <a:pt x="12000" y="8252"/>
                      </a:lnTo>
                      <a:lnTo>
                        <a:pt x="11000" y="7012"/>
                      </a:lnTo>
                      <a:lnTo>
                        <a:pt x="10042" y="5920"/>
                      </a:lnTo>
                      <a:lnTo>
                        <a:pt x="9000" y="4847"/>
                      </a:lnTo>
                      <a:lnTo>
                        <a:pt x="8000" y="3793"/>
                      </a:lnTo>
                      <a:lnTo>
                        <a:pt x="7000" y="3016"/>
                      </a:lnTo>
                      <a:lnTo>
                        <a:pt x="6042" y="2239"/>
                      </a:lnTo>
                      <a:lnTo>
                        <a:pt x="5042" y="1536"/>
                      </a:lnTo>
                      <a:lnTo>
                        <a:pt x="4000" y="962"/>
                      </a:lnTo>
                      <a:lnTo>
                        <a:pt x="3000" y="592"/>
                      </a:lnTo>
                      <a:lnTo>
                        <a:pt x="2042" y="222"/>
                      </a:lnTo>
                      <a:lnTo>
                        <a:pt x="1042" y="37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43" name=""/>
              <p:cNvGrpSpPr/>
              <p:nvPr/>
            </p:nvGrpSpPr>
            <p:grpSpPr>
              <a:xfrm>
                <a:off x="5355720" y="1104840"/>
                <a:ext cx="1195560" cy="1154160"/>
                <a:chOff x="5355720" y="1104840"/>
                <a:chExt cx="1195560" cy="1154160"/>
              </a:xfrm>
            </p:grpSpPr>
            <p:sp>
              <p:nvSpPr>
                <p:cNvPr id="644" name=""/>
                <p:cNvSpPr/>
                <p:nvPr/>
              </p:nvSpPr>
              <p:spPr>
                <a:xfrm flipH="1" flipV="1">
                  <a:off x="5955120" y="1105560"/>
                  <a:ext cx="596160" cy="11534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0" y="0"/>
                      </a:moveTo>
                      <a:lnTo>
                        <a:pt x="1042" y="1591"/>
                      </a:lnTo>
                      <a:lnTo>
                        <a:pt x="1958" y="3108"/>
                      </a:lnTo>
                      <a:lnTo>
                        <a:pt x="3000" y="4625"/>
                      </a:lnTo>
                      <a:lnTo>
                        <a:pt x="3958" y="6253"/>
                      </a:lnTo>
                      <a:lnTo>
                        <a:pt x="5042" y="7660"/>
                      </a:lnTo>
                      <a:lnTo>
                        <a:pt x="5958" y="9029"/>
                      </a:lnTo>
                      <a:lnTo>
                        <a:pt x="7000" y="10416"/>
                      </a:lnTo>
                      <a:lnTo>
                        <a:pt x="7958" y="11730"/>
                      </a:lnTo>
                      <a:lnTo>
                        <a:pt x="9000" y="12969"/>
                      </a:lnTo>
                      <a:lnTo>
                        <a:pt x="10042" y="14080"/>
                      </a:lnTo>
                      <a:lnTo>
                        <a:pt x="11000" y="15134"/>
                      </a:lnTo>
                      <a:lnTo>
                        <a:pt x="12000" y="16189"/>
                      </a:lnTo>
                      <a:lnTo>
                        <a:pt x="12958" y="16984"/>
                      </a:lnTo>
                      <a:lnTo>
                        <a:pt x="14042" y="17743"/>
                      </a:lnTo>
                      <a:lnTo>
                        <a:pt x="14958" y="18464"/>
                      </a:lnTo>
                      <a:lnTo>
                        <a:pt x="16000" y="19019"/>
                      </a:lnTo>
                      <a:lnTo>
                        <a:pt x="16958" y="19408"/>
                      </a:lnTo>
                      <a:lnTo>
                        <a:pt x="18042" y="19759"/>
                      </a:lnTo>
                      <a:lnTo>
                        <a:pt x="18917" y="19944"/>
                      </a:lnTo>
                      <a:lnTo>
                        <a:pt x="19958" y="19981"/>
                      </a:ln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5" name=""/>
                <p:cNvSpPr/>
                <p:nvPr/>
              </p:nvSpPr>
              <p:spPr>
                <a:xfrm flipH="1" flipV="1">
                  <a:off x="5355720" y="1104840"/>
                  <a:ext cx="596160" cy="11534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58" y="0"/>
                      </a:moveTo>
                      <a:lnTo>
                        <a:pt x="18958" y="1591"/>
                      </a:lnTo>
                      <a:lnTo>
                        <a:pt x="18042" y="3108"/>
                      </a:lnTo>
                      <a:lnTo>
                        <a:pt x="17000" y="4625"/>
                      </a:lnTo>
                      <a:lnTo>
                        <a:pt x="16042" y="6253"/>
                      </a:lnTo>
                      <a:lnTo>
                        <a:pt x="14958" y="7660"/>
                      </a:lnTo>
                      <a:lnTo>
                        <a:pt x="14042" y="9029"/>
                      </a:lnTo>
                      <a:lnTo>
                        <a:pt x="12958" y="10416"/>
                      </a:lnTo>
                      <a:lnTo>
                        <a:pt x="12000" y="11730"/>
                      </a:lnTo>
                      <a:lnTo>
                        <a:pt x="11000" y="12969"/>
                      </a:lnTo>
                      <a:lnTo>
                        <a:pt x="10042" y="14080"/>
                      </a:lnTo>
                      <a:lnTo>
                        <a:pt x="9000" y="15134"/>
                      </a:lnTo>
                      <a:lnTo>
                        <a:pt x="8000" y="16189"/>
                      </a:lnTo>
                      <a:lnTo>
                        <a:pt x="7000" y="16984"/>
                      </a:lnTo>
                      <a:lnTo>
                        <a:pt x="6042" y="17743"/>
                      </a:lnTo>
                      <a:lnTo>
                        <a:pt x="5042" y="18464"/>
                      </a:lnTo>
                      <a:lnTo>
                        <a:pt x="4000" y="19019"/>
                      </a:lnTo>
                      <a:lnTo>
                        <a:pt x="3000" y="19408"/>
                      </a:lnTo>
                      <a:lnTo>
                        <a:pt x="2042" y="19759"/>
                      </a:lnTo>
                      <a:lnTo>
                        <a:pt x="1042" y="19944"/>
                      </a:lnTo>
                      <a:lnTo>
                        <a:pt x="0" y="19981"/>
                      </a:ln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6" name=""/>
              <p:cNvSpPr/>
              <p:nvPr/>
            </p:nvSpPr>
            <p:spPr>
              <a:xfrm flipH="1" flipV="1">
                <a:off x="4759200" y="2257560"/>
                <a:ext cx="596880" cy="11505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19981"/>
                    </a:moveTo>
                    <a:lnTo>
                      <a:pt x="1042" y="18390"/>
                    </a:lnTo>
                    <a:lnTo>
                      <a:pt x="1958" y="16873"/>
                    </a:lnTo>
                    <a:lnTo>
                      <a:pt x="3000" y="15356"/>
                    </a:lnTo>
                    <a:lnTo>
                      <a:pt x="3958" y="13747"/>
                    </a:lnTo>
                    <a:lnTo>
                      <a:pt x="5042" y="12340"/>
                    </a:lnTo>
                    <a:lnTo>
                      <a:pt x="5958" y="10953"/>
                    </a:lnTo>
                    <a:lnTo>
                      <a:pt x="7000" y="9584"/>
                    </a:lnTo>
                    <a:lnTo>
                      <a:pt x="7958" y="8252"/>
                    </a:lnTo>
                    <a:lnTo>
                      <a:pt x="9000" y="7012"/>
                    </a:lnTo>
                    <a:lnTo>
                      <a:pt x="10042" y="5920"/>
                    </a:lnTo>
                    <a:lnTo>
                      <a:pt x="11000" y="4847"/>
                    </a:lnTo>
                    <a:lnTo>
                      <a:pt x="12000" y="3793"/>
                    </a:lnTo>
                    <a:lnTo>
                      <a:pt x="12958" y="3016"/>
                    </a:lnTo>
                    <a:lnTo>
                      <a:pt x="14042" y="2239"/>
                    </a:lnTo>
                    <a:lnTo>
                      <a:pt x="14958" y="1536"/>
                    </a:lnTo>
                    <a:lnTo>
                      <a:pt x="16000" y="962"/>
                    </a:lnTo>
                    <a:lnTo>
                      <a:pt x="16958" y="592"/>
                    </a:lnTo>
                    <a:lnTo>
                      <a:pt x="18042" y="222"/>
                    </a:lnTo>
                    <a:lnTo>
                      <a:pt x="18917" y="37"/>
                    </a:lnTo>
                    <a:lnTo>
                      <a:pt x="19958" y="0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 flipH="1" flipV="1">
                <a:off x="4162320" y="2259000"/>
                <a:ext cx="596880" cy="11505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19981"/>
                    </a:moveTo>
                    <a:lnTo>
                      <a:pt x="18958" y="18390"/>
                    </a:lnTo>
                    <a:lnTo>
                      <a:pt x="18042" y="16873"/>
                    </a:lnTo>
                    <a:lnTo>
                      <a:pt x="17000" y="15356"/>
                    </a:lnTo>
                    <a:lnTo>
                      <a:pt x="16042" y="13747"/>
                    </a:lnTo>
                    <a:lnTo>
                      <a:pt x="14958" y="12340"/>
                    </a:lnTo>
                    <a:lnTo>
                      <a:pt x="14042" y="10953"/>
                    </a:lnTo>
                    <a:lnTo>
                      <a:pt x="12958" y="9584"/>
                    </a:lnTo>
                    <a:lnTo>
                      <a:pt x="12000" y="8252"/>
                    </a:lnTo>
                    <a:lnTo>
                      <a:pt x="11000" y="7012"/>
                    </a:lnTo>
                    <a:lnTo>
                      <a:pt x="10042" y="5920"/>
                    </a:lnTo>
                    <a:lnTo>
                      <a:pt x="9000" y="4847"/>
                    </a:lnTo>
                    <a:lnTo>
                      <a:pt x="8000" y="3793"/>
                    </a:lnTo>
                    <a:lnTo>
                      <a:pt x="7000" y="3016"/>
                    </a:lnTo>
                    <a:lnTo>
                      <a:pt x="6042" y="2239"/>
                    </a:lnTo>
                    <a:lnTo>
                      <a:pt x="5042" y="1536"/>
                    </a:lnTo>
                    <a:lnTo>
                      <a:pt x="4000" y="962"/>
                    </a:lnTo>
                    <a:lnTo>
                      <a:pt x="3000" y="592"/>
                    </a:lnTo>
                    <a:lnTo>
                      <a:pt x="2042" y="222"/>
                    </a:lnTo>
                    <a:lnTo>
                      <a:pt x="1042" y="37"/>
                    </a:lnTo>
                    <a:lnTo>
                      <a:pt x="0" y="0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 flipH="1" flipV="1">
                <a:off x="3560760" y="1108440"/>
                <a:ext cx="596880" cy="11520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0"/>
                    </a:moveTo>
                    <a:lnTo>
                      <a:pt x="1042" y="1591"/>
                    </a:lnTo>
                    <a:lnTo>
                      <a:pt x="1958" y="3108"/>
                    </a:lnTo>
                    <a:lnTo>
                      <a:pt x="3000" y="4625"/>
                    </a:lnTo>
                    <a:lnTo>
                      <a:pt x="3958" y="6253"/>
                    </a:lnTo>
                    <a:lnTo>
                      <a:pt x="5042" y="7660"/>
                    </a:lnTo>
                    <a:lnTo>
                      <a:pt x="5958" y="9029"/>
                    </a:lnTo>
                    <a:lnTo>
                      <a:pt x="7000" y="10416"/>
                    </a:lnTo>
                    <a:lnTo>
                      <a:pt x="7958" y="11730"/>
                    </a:lnTo>
                    <a:lnTo>
                      <a:pt x="9000" y="12969"/>
                    </a:lnTo>
                    <a:lnTo>
                      <a:pt x="10042" y="14080"/>
                    </a:lnTo>
                    <a:lnTo>
                      <a:pt x="11000" y="15134"/>
                    </a:lnTo>
                    <a:lnTo>
                      <a:pt x="12000" y="16189"/>
                    </a:lnTo>
                    <a:lnTo>
                      <a:pt x="12958" y="16984"/>
                    </a:lnTo>
                    <a:lnTo>
                      <a:pt x="14042" y="17743"/>
                    </a:lnTo>
                    <a:lnTo>
                      <a:pt x="14958" y="18464"/>
                    </a:lnTo>
                    <a:lnTo>
                      <a:pt x="16000" y="19019"/>
                    </a:lnTo>
                    <a:lnTo>
                      <a:pt x="16958" y="19408"/>
                    </a:lnTo>
                    <a:lnTo>
                      <a:pt x="18042" y="19759"/>
                    </a:lnTo>
                    <a:lnTo>
                      <a:pt x="18917" y="19944"/>
                    </a:lnTo>
                    <a:lnTo>
                      <a:pt x="19958" y="19981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 flipH="1" flipV="1">
                <a:off x="3303000" y="1108440"/>
                <a:ext cx="266760" cy="279360"/>
              </a:xfrm>
              <a:custGeom>
                <a:avLst/>
                <a:gdLst/>
                <a:ahLst/>
                <a:rect l="l" t="t" r="r" b="b"/>
                <a:pathLst>
                  <a:path w="56" h="68">
                    <a:moveTo>
                      <a:pt x="56" y="0"/>
                    </a:moveTo>
                    <a:lnTo>
                      <a:pt x="50" y="14"/>
                    </a:lnTo>
                    <a:lnTo>
                      <a:pt x="44" y="26"/>
                    </a:lnTo>
                    <a:lnTo>
                      <a:pt x="38" y="36"/>
                    </a:lnTo>
                    <a:lnTo>
                      <a:pt x="32" y="46"/>
                    </a:lnTo>
                    <a:lnTo>
                      <a:pt x="25" y="54"/>
                    </a:lnTo>
                    <a:lnTo>
                      <a:pt x="19" y="60"/>
                    </a:lnTo>
                    <a:lnTo>
                      <a:pt x="13" y="65"/>
                    </a:lnTo>
                    <a:lnTo>
                      <a:pt x="7" y="67"/>
                    </a:lnTo>
                    <a:lnTo>
                      <a:pt x="0" y="68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 flipH="1" flipV="1">
                <a:off x="7741440" y="1387800"/>
                <a:ext cx="328680" cy="872640"/>
              </a:xfrm>
              <a:custGeom>
                <a:avLst/>
                <a:gdLst/>
                <a:ahLst/>
                <a:rect l="l" t="t" r="r" b="b"/>
                <a:pathLst>
                  <a:path w="69" h="213">
                    <a:moveTo>
                      <a:pt x="69" y="0"/>
                    </a:moveTo>
                    <a:lnTo>
                      <a:pt x="57" y="44"/>
                    </a:lnTo>
                    <a:lnTo>
                      <a:pt x="44" y="88"/>
                    </a:lnTo>
                    <a:lnTo>
                      <a:pt x="32" y="127"/>
                    </a:lnTo>
                    <a:lnTo>
                      <a:pt x="25" y="146"/>
                    </a:lnTo>
                    <a:lnTo>
                      <a:pt x="19" y="165"/>
                    </a:lnTo>
                    <a:lnTo>
                      <a:pt x="13" y="182"/>
                    </a:lnTo>
                    <a:lnTo>
                      <a:pt x="7" y="198"/>
                    </a:lnTo>
                    <a:lnTo>
                      <a:pt x="0" y="213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 flipH="1" flipV="1">
                <a:off x="2981520" y="1387800"/>
                <a:ext cx="328320" cy="872640"/>
              </a:xfrm>
              <a:custGeom>
                <a:avLst/>
                <a:gdLst/>
                <a:ahLst/>
                <a:rect l="l" t="t" r="r" b="b"/>
                <a:pathLst>
                  <a:path w="69" h="213">
                    <a:moveTo>
                      <a:pt x="69" y="0"/>
                    </a:moveTo>
                    <a:lnTo>
                      <a:pt x="57" y="44"/>
                    </a:lnTo>
                    <a:lnTo>
                      <a:pt x="44" y="88"/>
                    </a:lnTo>
                    <a:lnTo>
                      <a:pt x="32" y="127"/>
                    </a:lnTo>
                    <a:lnTo>
                      <a:pt x="25" y="146"/>
                    </a:lnTo>
                    <a:lnTo>
                      <a:pt x="19" y="165"/>
                    </a:lnTo>
                    <a:lnTo>
                      <a:pt x="13" y="182"/>
                    </a:lnTo>
                    <a:lnTo>
                      <a:pt x="7" y="198"/>
                    </a:lnTo>
                    <a:lnTo>
                      <a:pt x="0" y="213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2" name=""/>
            <p:cNvSpPr/>
            <p:nvPr/>
          </p:nvSpPr>
          <p:spPr>
            <a:xfrm>
              <a:off x="2682720" y="2216160"/>
              <a:ext cx="50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1800" spc="-1" strike="noStrike">
                  <a:solidFill>
                    <a:srgbClr val="009999"/>
                  </a:solidFill>
                  <a:latin typeface="Symbol"/>
                  <a:ea typeface="Symbol"/>
                </a:rPr>
                <a:t></a:t>
              </a:r>
              <a:r>
                <a:rPr b="0" lang="es-ES" sz="1800" spc="-1" strike="noStrike">
                  <a:solidFill>
                    <a:srgbClr val="009999"/>
                  </a:solidFill>
                  <a:latin typeface="Symbol"/>
                  <a:ea typeface="Symbol"/>
                </a:rPr>
                <a:t>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3333600" y="735120"/>
              <a:ext cx="4557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5599080" y="1916280"/>
              <a:ext cx="330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1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7918560" y="1930320"/>
              <a:ext cx="439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i="1" lang="es-ES" sz="1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7862760" y="2216160"/>
              <a:ext cx="53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9999"/>
                  </a:solidFill>
                  <a:latin typeface="Times New Roman"/>
                </a:rPr>
                <a:t>4</a:t>
              </a:r>
              <a:r>
                <a:rPr b="0" lang="es-ES" sz="1800" spc="-1" strike="noStrike">
                  <a:solidFill>
                    <a:srgbClr val="009999"/>
                  </a:solidFill>
                  <a:latin typeface="Symbol"/>
                  <a:ea typeface="Symbol"/>
                </a:rPr>
                <a:t>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5905440" y="108900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B650F-4652-4110-BDA5-BE78AB8A396D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8" name=""/>
          <p:cNvGrpSpPr/>
          <p:nvPr/>
        </p:nvGrpSpPr>
        <p:grpSpPr>
          <a:xfrm>
            <a:off x="468360" y="1536840"/>
            <a:ext cx="2492280" cy="2662920"/>
            <a:chOff x="468360" y="1536840"/>
            <a:chExt cx="2492280" cy="2662920"/>
          </a:xfrm>
        </p:grpSpPr>
        <p:sp>
          <p:nvSpPr>
            <p:cNvPr id="659" name=""/>
            <p:cNvSpPr/>
            <p:nvPr/>
          </p:nvSpPr>
          <p:spPr>
            <a:xfrm>
              <a:off x="563760" y="1792080"/>
              <a:ext cx="2303280" cy="22982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468360" y="2943000"/>
              <a:ext cx="249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 flipV="1">
              <a:off x="1714680" y="1683720"/>
              <a:ext cx="0" cy="2516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 flipV="1">
              <a:off x="1714680" y="2053800"/>
              <a:ext cx="728640" cy="89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1170360" y="2399760"/>
              <a:ext cx="1088280" cy="1088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706" y="2497"/>
                  </a:moveTo>
                  <a:arcTo wR="10800" hR="10800" stAng="-3014961" swAng="29919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7706" y="2497"/>
                  </a:moveTo>
                  <a:arcTo wR="10800" hR="10800" stAng="-3014961" swAng="2991957"/>
                </a:path>
              </a:pathLst>
            </a:custGeom>
            <a:noFill/>
            <a:ln w="9360">
              <a:solidFill>
                <a:srgbClr val="000000"/>
              </a:solidFill>
              <a:miter/>
              <a:headEnd len="med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2256840" y="153684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2175480" y="237312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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1731600" y="1935000"/>
              <a:ext cx="54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24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i="1" lang="es-E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Ẏ</a:t>
              </a:r>
              <a:r>
                <a:rPr b="0" i="1" lang="es-E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 flipH="1" flipV="1">
              <a:off x="2419560" y="2026440"/>
              <a:ext cx="56880" cy="56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8" name=""/>
          <p:cNvGrpSpPr/>
          <p:nvPr/>
        </p:nvGrpSpPr>
        <p:grpSpPr>
          <a:xfrm>
            <a:off x="2825640" y="220680"/>
            <a:ext cx="6062760" cy="3300480"/>
            <a:chOff x="2825640" y="220680"/>
            <a:chExt cx="6062760" cy="3300480"/>
          </a:xfrm>
        </p:grpSpPr>
        <p:sp>
          <p:nvSpPr>
            <p:cNvPr id="669" name=""/>
            <p:cNvSpPr/>
            <p:nvPr/>
          </p:nvSpPr>
          <p:spPr>
            <a:xfrm>
              <a:off x="2878200" y="2259000"/>
              <a:ext cx="5842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 flipV="1">
              <a:off x="3443400" y="669960"/>
              <a:ext cx="0" cy="2851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3113280" y="220680"/>
              <a:ext cx="585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s-E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8624880" y="2060640"/>
              <a:ext cx="26352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5640480" y="2216160"/>
              <a:ext cx="53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9999"/>
                  </a:solidFill>
                  <a:latin typeface="Times New Roman"/>
                </a:rPr>
                <a:t>2</a:t>
              </a:r>
              <a:r>
                <a:rPr b="0" lang="es-ES" sz="1800" spc="-1" strike="noStrike">
                  <a:solidFill>
                    <a:srgbClr val="009999"/>
                  </a:solidFill>
                  <a:latin typeface="Symbol"/>
                  <a:ea typeface="Symbol"/>
                </a:rPr>
                <a:t>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74" name=""/>
            <p:cNvGrpSpPr/>
            <p:nvPr/>
          </p:nvGrpSpPr>
          <p:grpSpPr>
            <a:xfrm>
              <a:off x="3124440" y="1104840"/>
              <a:ext cx="5088960" cy="2304720"/>
              <a:chOff x="3124440" y="1104840"/>
              <a:chExt cx="5088960" cy="2304720"/>
            </a:xfrm>
          </p:grpSpPr>
          <p:grpSp>
            <p:nvGrpSpPr>
              <p:cNvPr id="675" name=""/>
              <p:cNvGrpSpPr/>
              <p:nvPr/>
            </p:nvGrpSpPr>
            <p:grpSpPr>
              <a:xfrm>
                <a:off x="6696000" y="2255400"/>
                <a:ext cx="1193760" cy="1154160"/>
                <a:chOff x="6696000" y="2255400"/>
                <a:chExt cx="1193760" cy="1154160"/>
              </a:xfrm>
            </p:grpSpPr>
            <p:sp>
              <p:nvSpPr>
                <p:cNvPr id="676" name=""/>
                <p:cNvSpPr/>
                <p:nvPr/>
              </p:nvSpPr>
              <p:spPr>
                <a:xfrm flipH="1" flipV="1">
                  <a:off x="7292880" y="2255400"/>
                  <a:ext cx="596520" cy="11534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0" y="19981"/>
                      </a:moveTo>
                      <a:lnTo>
                        <a:pt x="1042" y="18390"/>
                      </a:lnTo>
                      <a:lnTo>
                        <a:pt x="1958" y="16873"/>
                      </a:lnTo>
                      <a:lnTo>
                        <a:pt x="3000" y="15356"/>
                      </a:lnTo>
                      <a:lnTo>
                        <a:pt x="3958" y="13747"/>
                      </a:lnTo>
                      <a:lnTo>
                        <a:pt x="5042" y="12340"/>
                      </a:lnTo>
                      <a:lnTo>
                        <a:pt x="5958" y="10953"/>
                      </a:lnTo>
                      <a:lnTo>
                        <a:pt x="7000" y="9584"/>
                      </a:lnTo>
                      <a:lnTo>
                        <a:pt x="7958" y="8252"/>
                      </a:lnTo>
                      <a:lnTo>
                        <a:pt x="9000" y="7012"/>
                      </a:lnTo>
                      <a:lnTo>
                        <a:pt x="10042" y="5920"/>
                      </a:lnTo>
                      <a:lnTo>
                        <a:pt x="11000" y="4847"/>
                      </a:lnTo>
                      <a:lnTo>
                        <a:pt x="12000" y="3793"/>
                      </a:lnTo>
                      <a:lnTo>
                        <a:pt x="12958" y="3016"/>
                      </a:lnTo>
                      <a:lnTo>
                        <a:pt x="14042" y="2239"/>
                      </a:lnTo>
                      <a:lnTo>
                        <a:pt x="14958" y="1536"/>
                      </a:lnTo>
                      <a:lnTo>
                        <a:pt x="16000" y="962"/>
                      </a:lnTo>
                      <a:lnTo>
                        <a:pt x="16958" y="592"/>
                      </a:lnTo>
                      <a:lnTo>
                        <a:pt x="18042" y="222"/>
                      </a:lnTo>
                      <a:lnTo>
                        <a:pt x="18917" y="37"/>
                      </a:lnTo>
                      <a:lnTo>
                        <a:pt x="19958" y="0"/>
                      </a:ln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7" name=""/>
                <p:cNvSpPr/>
                <p:nvPr/>
              </p:nvSpPr>
              <p:spPr>
                <a:xfrm flipH="1" flipV="1">
                  <a:off x="6695640" y="2256120"/>
                  <a:ext cx="596520" cy="11534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58" y="19981"/>
                      </a:moveTo>
                      <a:lnTo>
                        <a:pt x="18958" y="18390"/>
                      </a:lnTo>
                      <a:lnTo>
                        <a:pt x="18042" y="16873"/>
                      </a:lnTo>
                      <a:lnTo>
                        <a:pt x="17000" y="15356"/>
                      </a:lnTo>
                      <a:lnTo>
                        <a:pt x="16042" y="13747"/>
                      </a:lnTo>
                      <a:lnTo>
                        <a:pt x="14958" y="12340"/>
                      </a:lnTo>
                      <a:lnTo>
                        <a:pt x="14042" y="10953"/>
                      </a:lnTo>
                      <a:lnTo>
                        <a:pt x="12958" y="9584"/>
                      </a:lnTo>
                      <a:lnTo>
                        <a:pt x="12000" y="8252"/>
                      </a:lnTo>
                      <a:lnTo>
                        <a:pt x="11000" y="7012"/>
                      </a:lnTo>
                      <a:lnTo>
                        <a:pt x="10042" y="5920"/>
                      </a:lnTo>
                      <a:lnTo>
                        <a:pt x="9000" y="4847"/>
                      </a:lnTo>
                      <a:lnTo>
                        <a:pt x="8000" y="3793"/>
                      </a:lnTo>
                      <a:lnTo>
                        <a:pt x="7000" y="3016"/>
                      </a:lnTo>
                      <a:lnTo>
                        <a:pt x="6042" y="2239"/>
                      </a:lnTo>
                      <a:lnTo>
                        <a:pt x="5042" y="1536"/>
                      </a:lnTo>
                      <a:lnTo>
                        <a:pt x="4000" y="962"/>
                      </a:lnTo>
                      <a:lnTo>
                        <a:pt x="3000" y="592"/>
                      </a:lnTo>
                      <a:lnTo>
                        <a:pt x="2042" y="222"/>
                      </a:lnTo>
                      <a:lnTo>
                        <a:pt x="1042" y="37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78" name=""/>
              <p:cNvGrpSpPr/>
              <p:nvPr/>
            </p:nvGrpSpPr>
            <p:grpSpPr>
              <a:xfrm>
                <a:off x="5498640" y="1104840"/>
                <a:ext cx="1195560" cy="1154160"/>
                <a:chOff x="5498640" y="1104840"/>
                <a:chExt cx="1195560" cy="1154160"/>
              </a:xfrm>
            </p:grpSpPr>
            <p:sp>
              <p:nvSpPr>
                <p:cNvPr id="679" name=""/>
                <p:cNvSpPr/>
                <p:nvPr/>
              </p:nvSpPr>
              <p:spPr>
                <a:xfrm flipH="1" flipV="1">
                  <a:off x="6098040" y="1105560"/>
                  <a:ext cx="596160" cy="11534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0" y="0"/>
                      </a:moveTo>
                      <a:lnTo>
                        <a:pt x="1042" y="1591"/>
                      </a:lnTo>
                      <a:lnTo>
                        <a:pt x="1958" y="3108"/>
                      </a:lnTo>
                      <a:lnTo>
                        <a:pt x="3000" y="4625"/>
                      </a:lnTo>
                      <a:lnTo>
                        <a:pt x="3958" y="6253"/>
                      </a:lnTo>
                      <a:lnTo>
                        <a:pt x="5042" y="7660"/>
                      </a:lnTo>
                      <a:lnTo>
                        <a:pt x="5958" y="9029"/>
                      </a:lnTo>
                      <a:lnTo>
                        <a:pt x="7000" y="10416"/>
                      </a:lnTo>
                      <a:lnTo>
                        <a:pt x="7958" y="11730"/>
                      </a:lnTo>
                      <a:lnTo>
                        <a:pt x="9000" y="12969"/>
                      </a:lnTo>
                      <a:lnTo>
                        <a:pt x="10042" y="14080"/>
                      </a:lnTo>
                      <a:lnTo>
                        <a:pt x="11000" y="15134"/>
                      </a:lnTo>
                      <a:lnTo>
                        <a:pt x="12000" y="16189"/>
                      </a:lnTo>
                      <a:lnTo>
                        <a:pt x="12958" y="16984"/>
                      </a:lnTo>
                      <a:lnTo>
                        <a:pt x="14042" y="17743"/>
                      </a:lnTo>
                      <a:lnTo>
                        <a:pt x="14958" y="18464"/>
                      </a:lnTo>
                      <a:lnTo>
                        <a:pt x="16000" y="19019"/>
                      </a:lnTo>
                      <a:lnTo>
                        <a:pt x="16958" y="19408"/>
                      </a:lnTo>
                      <a:lnTo>
                        <a:pt x="18042" y="19759"/>
                      </a:lnTo>
                      <a:lnTo>
                        <a:pt x="18917" y="19944"/>
                      </a:lnTo>
                      <a:lnTo>
                        <a:pt x="19958" y="19981"/>
                      </a:ln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0" name=""/>
                <p:cNvSpPr/>
                <p:nvPr/>
              </p:nvSpPr>
              <p:spPr>
                <a:xfrm flipH="1" flipV="1">
                  <a:off x="5498640" y="1104840"/>
                  <a:ext cx="596160" cy="11534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58" y="0"/>
                      </a:moveTo>
                      <a:lnTo>
                        <a:pt x="18958" y="1591"/>
                      </a:lnTo>
                      <a:lnTo>
                        <a:pt x="18042" y="3108"/>
                      </a:lnTo>
                      <a:lnTo>
                        <a:pt x="17000" y="4625"/>
                      </a:lnTo>
                      <a:lnTo>
                        <a:pt x="16042" y="6253"/>
                      </a:lnTo>
                      <a:lnTo>
                        <a:pt x="14958" y="7660"/>
                      </a:lnTo>
                      <a:lnTo>
                        <a:pt x="14042" y="9029"/>
                      </a:lnTo>
                      <a:lnTo>
                        <a:pt x="12958" y="10416"/>
                      </a:lnTo>
                      <a:lnTo>
                        <a:pt x="12000" y="11730"/>
                      </a:lnTo>
                      <a:lnTo>
                        <a:pt x="11000" y="12969"/>
                      </a:lnTo>
                      <a:lnTo>
                        <a:pt x="10042" y="14080"/>
                      </a:lnTo>
                      <a:lnTo>
                        <a:pt x="9000" y="15134"/>
                      </a:lnTo>
                      <a:lnTo>
                        <a:pt x="8000" y="16189"/>
                      </a:lnTo>
                      <a:lnTo>
                        <a:pt x="7000" y="16984"/>
                      </a:lnTo>
                      <a:lnTo>
                        <a:pt x="6042" y="17743"/>
                      </a:lnTo>
                      <a:lnTo>
                        <a:pt x="5042" y="18464"/>
                      </a:lnTo>
                      <a:lnTo>
                        <a:pt x="4000" y="19019"/>
                      </a:lnTo>
                      <a:lnTo>
                        <a:pt x="3000" y="19408"/>
                      </a:lnTo>
                      <a:lnTo>
                        <a:pt x="2042" y="19759"/>
                      </a:lnTo>
                      <a:lnTo>
                        <a:pt x="1042" y="19944"/>
                      </a:lnTo>
                      <a:lnTo>
                        <a:pt x="0" y="19981"/>
                      </a:ln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81" name=""/>
              <p:cNvSpPr/>
              <p:nvPr/>
            </p:nvSpPr>
            <p:spPr>
              <a:xfrm flipH="1" flipV="1">
                <a:off x="4902120" y="2257560"/>
                <a:ext cx="596880" cy="11505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19981"/>
                    </a:moveTo>
                    <a:lnTo>
                      <a:pt x="1042" y="18390"/>
                    </a:lnTo>
                    <a:lnTo>
                      <a:pt x="1958" y="16873"/>
                    </a:lnTo>
                    <a:lnTo>
                      <a:pt x="3000" y="15356"/>
                    </a:lnTo>
                    <a:lnTo>
                      <a:pt x="3958" y="13747"/>
                    </a:lnTo>
                    <a:lnTo>
                      <a:pt x="5042" y="12340"/>
                    </a:lnTo>
                    <a:lnTo>
                      <a:pt x="5958" y="10953"/>
                    </a:lnTo>
                    <a:lnTo>
                      <a:pt x="7000" y="9584"/>
                    </a:lnTo>
                    <a:lnTo>
                      <a:pt x="7958" y="8252"/>
                    </a:lnTo>
                    <a:lnTo>
                      <a:pt x="9000" y="7012"/>
                    </a:lnTo>
                    <a:lnTo>
                      <a:pt x="10042" y="5920"/>
                    </a:lnTo>
                    <a:lnTo>
                      <a:pt x="11000" y="4847"/>
                    </a:lnTo>
                    <a:lnTo>
                      <a:pt x="12000" y="3793"/>
                    </a:lnTo>
                    <a:lnTo>
                      <a:pt x="12958" y="3016"/>
                    </a:lnTo>
                    <a:lnTo>
                      <a:pt x="14042" y="2239"/>
                    </a:lnTo>
                    <a:lnTo>
                      <a:pt x="14958" y="1536"/>
                    </a:lnTo>
                    <a:lnTo>
                      <a:pt x="16000" y="962"/>
                    </a:lnTo>
                    <a:lnTo>
                      <a:pt x="16958" y="592"/>
                    </a:lnTo>
                    <a:lnTo>
                      <a:pt x="18042" y="222"/>
                    </a:lnTo>
                    <a:lnTo>
                      <a:pt x="18917" y="37"/>
                    </a:lnTo>
                    <a:lnTo>
                      <a:pt x="19958" y="0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 flipH="1" flipV="1">
                <a:off x="4305240" y="2259000"/>
                <a:ext cx="596880" cy="11505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19981"/>
                    </a:moveTo>
                    <a:lnTo>
                      <a:pt x="18958" y="18390"/>
                    </a:lnTo>
                    <a:lnTo>
                      <a:pt x="18042" y="16873"/>
                    </a:lnTo>
                    <a:lnTo>
                      <a:pt x="17000" y="15356"/>
                    </a:lnTo>
                    <a:lnTo>
                      <a:pt x="16042" y="13747"/>
                    </a:lnTo>
                    <a:lnTo>
                      <a:pt x="14958" y="12340"/>
                    </a:lnTo>
                    <a:lnTo>
                      <a:pt x="14042" y="10953"/>
                    </a:lnTo>
                    <a:lnTo>
                      <a:pt x="12958" y="9584"/>
                    </a:lnTo>
                    <a:lnTo>
                      <a:pt x="12000" y="8252"/>
                    </a:lnTo>
                    <a:lnTo>
                      <a:pt x="11000" y="7012"/>
                    </a:lnTo>
                    <a:lnTo>
                      <a:pt x="10042" y="5920"/>
                    </a:lnTo>
                    <a:lnTo>
                      <a:pt x="9000" y="4847"/>
                    </a:lnTo>
                    <a:lnTo>
                      <a:pt x="8000" y="3793"/>
                    </a:lnTo>
                    <a:lnTo>
                      <a:pt x="7000" y="3016"/>
                    </a:lnTo>
                    <a:lnTo>
                      <a:pt x="6042" y="2239"/>
                    </a:lnTo>
                    <a:lnTo>
                      <a:pt x="5042" y="1536"/>
                    </a:lnTo>
                    <a:lnTo>
                      <a:pt x="4000" y="962"/>
                    </a:lnTo>
                    <a:lnTo>
                      <a:pt x="3000" y="592"/>
                    </a:lnTo>
                    <a:lnTo>
                      <a:pt x="2042" y="222"/>
                    </a:lnTo>
                    <a:lnTo>
                      <a:pt x="1042" y="37"/>
                    </a:lnTo>
                    <a:lnTo>
                      <a:pt x="0" y="0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 flipH="1" flipV="1">
                <a:off x="3703680" y="1108440"/>
                <a:ext cx="596880" cy="11520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0"/>
                    </a:moveTo>
                    <a:lnTo>
                      <a:pt x="1042" y="1591"/>
                    </a:lnTo>
                    <a:lnTo>
                      <a:pt x="1958" y="3108"/>
                    </a:lnTo>
                    <a:lnTo>
                      <a:pt x="3000" y="4625"/>
                    </a:lnTo>
                    <a:lnTo>
                      <a:pt x="3958" y="6253"/>
                    </a:lnTo>
                    <a:lnTo>
                      <a:pt x="5042" y="7660"/>
                    </a:lnTo>
                    <a:lnTo>
                      <a:pt x="5958" y="9029"/>
                    </a:lnTo>
                    <a:lnTo>
                      <a:pt x="7000" y="10416"/>
                    </a:lnTo>
                    <a:lnTo>
                      <a:pt x="7958" y="11730"/>
                    </a:lnTo>
                    <a:lnTo>
                      <a:pt x="9000" y="12969"/>
                    </a:lnTo>
                    <a:lnTo>
                      <a:pt x="10042" y="14080"/>
                    </a:lnTo>
                    <a:lnTo>
                      <a:pt x="11000" y="15134"/>
                    </a:lnTo>
                    <a:lnTo>
                      <a:pt x="12000" y="16189"/>
                    </a:lnTo>
                    <a:lnTo>
                      <a:pt x="12958" y="16984"/>
                    </a:lnTo>
                    <a:lnTo>
                      <a:pt x="14042" y="17743"/>
                    </a:lnTo>
                    <a:lnTo>
                      <a:pt x="14958" y="18464"/>
                    </a:lnTo>
                    <a:lnTo>
                      <a:pt x="16000" y="19019"/>
                    </a:lnTo>
                    <a:lnTo>
                      <a:pt x="16958" y="19408"/>
                    </a:lnTo>
                    <a:lnTo>
                      <a:pt x="18042" y="19759"/>
                    </a:lnTo>
                    <a:lnTo>
                      <a:pt x="18917" y="19944"/>
                    </a:lnTo>
                    <a:lnTo>
                      <a:pt x="19958" y="19981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flipH="1" flipV="1">
                <a:off x="3445920" y="1108440"/>
                <a:ext cx="266760" cy="279360"/>
              </a:xfrm>
              <a:custGeom>
                <a:avLst/>
                <a:gdLst/>
                <a:ahLst/>
                <a:rect l="l" t="t" r="r" b="b"/>
                <a:pathLst>
                  <a:path w="56" h="68">
                    <a:moveTo>
                      <a:pt x="56" y="0"/>
                    </a:moveTo>
                    <a:lnTo>
                      <a:pt x="50" y="14"/>
                    </a:lnTo>
                    <a:lnTo>
                      <a:pt x="44" y="26"/>
                    </a:lnTo>
                    <a:lnTo>
                      <a:pt x="38" y="36"/>
                    </a:lnTo>
                    <a:lnTo>
                      <a:pt x="32" y="46"/>
                    </a:lnTo>
                    <a:lnTo>
                      <a:pt x="25" y="54"/>
                    </a:lnTo>
                    <a:lnTo>
                      <a:pt x="19" y="60"/>
                    </a:lnTo>
                    <a:lnTo>
                      <a:pt x="13" y="65"/>
                    </a:lnTo>
                    <a:lnTo>
                      <a:pt x="7" y="67"/>
                    </a:lnTo>
                    <a:lnTo>
                      <a:pt x="0" y="68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 flipH="1" flipV="1">
                <a:off x="7884360" y="1387800"/>
                <a:ext cx="328680" cy="872640"/>
              </a:xfrm>
              <a:custGeom>
                <a:avLst/>
                <a:gdLst/>
                <a:ahLst/>
                <a:rect l="l" t="t" r="r" b="b"/>
                <a:pathLst>
                  <a:path w="69" h="213">
                    <a:moveTo>
                      <a:pt x="69" y="0"/>
                    </a:moveTo>
                    <a:lnTo>
                      <a:pt x="57" y="44"/>
                    </a:lnTo>
                    <a:lnTo>
                      <a:pt x="44" y="88"/>
                    </a:lnTo>
                    <a:lnTo>
                      <a:pt x="32" y="127"/>
                    </a:lnTo>
                    <a:lnTo>
                      <a:pt x="25" y="146"/>
                    </a:lnTo>
                    <a:lnTo>
                      <a:pt x="19" y="165"/>
                    </a:lnTo>
                    <a:lnTo>
                      <a:pt x="13" y="182"/>
                    </a:lnTo>
                    <a:lnTo>
                      <a:pt x="7" y="198"/>
                    </a:lnTo>
                    <a:lnTo>
                      <a:pt x="0" y="213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 flipH="1" flipV="1">
                <a:off x="3124440" y="1387800"/>
                <a:ext cx="328320" cy="872640"/>
              </a:xfrm>
              <a:custGeom>
                <a:avLst/>
                <a:gdLst/>
                <a:ahLst/>
                <a:rect l="l" t="t" r="r" b="b"/>
                <a:pathLst>
                  <a:path w="69" h="213">
                    <a:moveTo>
                      <a:pt x="69" y="0"/>
                    </a:moveTo>
                    <a:lnTo>
                      <a:pt x="57" y="44"/>
                    </a:lnTo>
                    <a:lnTo>
                      <a:pt x="44" y="88"/>
                    </a:lnTo>
                    <a:lnTo>
                      <a:pt x="32" y="127"/>
                    </a:lnTo>
                    <a:lnTo>
                      <a:pt x="25" y="146"/>
                    </a:lnTo>
                    <a:lnTo>
                      <a:pt x="19" y="165"/>
                    </a:lnTo>
                    <a:lnTo>
                      <a:pt x="13" y="182"/>
                    </a:lnTo>
                    <a:lnTo>
                      <a:pt x="7" y="198"/>
                    </a:lnTo>
                    <a:lnTo>
                      <a:pt x="0" y="213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87" name=""/>
            <p:cNvSpPr/>
            <p:nvPr/>
          </p:nvSpPr>
          <p:spPr>
            <a:xfrm>
              <a:off x="2825640" y="2216160"/>
              <a:ext cx="50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1800" spc="-1" strike="noStrike">
                  <a:solidFill>
                    <a:srgbClr val="009999"/>
                  </a:solidFill>
                  <a:latin typeface="Symbol"/>
                  <a:ea typeface="Symbol"/>
                </a:rPr>
                <a:t></a:t>
              </a:r>
              <a:r>
                <a:rPr b="0" lang="es-ES" sz="1800" spc="-1" strike="noStrike">
                  <a:solidFill>
                    <a:srgbClr val="009999"/>
                  </a:solidFill>
                  <a:latin typeface="Symbol"/>
                  <a:ea typeface="Symbol"/>
                </a:rPr>
                <a:t>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3476520" y="735120"/>
              <a:ext cx="4557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5742000" y="1916280"/>
              <a:ext cx="330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1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8061480" y="1930320"/>
              <a:ext cx="439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i="1" lang="es-ES" sz="1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8005680" y="2216160"/>
              <a:ext cx="53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9999"/>
                  </a:solidFill>
                  <a:latin typeface="Times New Roman"/>
                </a:rPr>
                <a:t>4</a:t>
              </a:r>
              <a:r>
                <a:rPr b="0" lang="es-ES" sz="1800" spc="-1" strike="noStrike">
                  <a:solidFill>
                    <a:srgbClr val="009999"/>
                  </a:solidFill>
                  <a:latin typeface="Symbol"/>
                  <a:ea typeface="Symbol"/>
                </a:rPr>
                <a:t>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6048360" y="108900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AB1E5-5354-4E0C-A933-FEA8B2C7D012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3" name=""/>
          <p:cNvGrpSpPr/>
          <p:nvPr/>
        </p:nvGrpSpPr>
        <p:grpSpPr>
          <a:xfrm>
            <a:off x="297000" y="865080"/>
            <a:ext cx="2492280" cy="2664000"/>
            <a:chOff x="297000" y="865080"/>
            <a:chExt cx="2492280" cy="2664000"/>
          </a:xfrm>
        </p:grpSpPr>
        <p:sp>
          <p:nvSpPr>
            <p:cNvPr id="694" name=""/>
            <p:cNvSpPr/>
            <p:nvPr/>
          </p:nvSpPr>
          <p:spPr>
            <a:xfrm>
              <a:off x="392400" y="1120680"/>
              <a:ext cx="2303280" cy="2298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297000" y="2271600"/>
              <a:ext cx="249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 flipV="1">
              <a:off x="1543320" y="1012680"/>
              <a:ext cx="0" cy="2516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 flipV="1">
              <a:off x="1543320" y="1382760"/>
              <a:ext cx="728640" cy="89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999000" y="1728360"/>
              <a:ext cx="1088280" cy="108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706" y="2497"/>
                  </a:moveTo>
                  <a:arcTo wR="10800" hR="10800" stAng="-3014961" swAng="29919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7706" y="2497"/>
                  </a:moveTo>
                  <a:arcTo wR="10800" hR="10800" stAng="-3014961" swAng="2991957"/>
                </a:path>
              </a:pathLst>
            </a:custGeom>
            <a:noFill/>
            <a:ln w="9360">
              <a:solidFill>
                <a:srgbClr val="000000"/>
              </a:solidFill>
              <a:miter/>
              <a:headEnd len="med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2085480" y="86508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2004120" y="170172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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1560240" y="1263600"/>
              <a:ext cx="54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24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i="1" lang="es-E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Ẏ</a:t>
              </a:r>
              <a:r>
                <a:rPr b="0" i="1" lang="es-E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 flipH="1" flipV="1">
              <a:off x="2248200" y="1355760"/>
              <a:ext cx="56880" cy="568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3" name=""/>
          <p:cNvGrpSpPr/>
          <p:nvPr/>
        </p:nvGrpSpPr>
        <p:grpSpPr>
          <a:xfrm>
            <a:off x="2825640" y="220680"/>
            <a:ext cx="6062760" cy="3300480"/>
            <a:chOff x="2825640" y="220680"/>
            <a:chExt cx="6062760" cy="3300480"/>
          </a:xfrm>
        </p:grpSpPr>
        <p:sp>
          <p:nvSpPr>
            <p:cNvPr id="704" name=""/>
            <p:cNvSpPr/>
            <p:nvPr/>
          </p:nvSpPr>
          <p:spPr>
            <a:xfrm>
              <a:off x="2878200" y="2259000"/>
              <a:ext cx="5842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 flipV="1">
              <a:off x="3443400" y="669960"/>
              <a:ext cx="0" cy="2851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3113280" y="220680"/>
              <a:ext cx="585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s-E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8624880" y="2060640"/>
              <a:ext cx="26352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640480" y="2216160"/>
              <a:ext cx="53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9999"/>
                  </a:solidFill>
                  <a:latin typeface="Times New Roman"/>
                </a:rPr>
                <a:t>2</a:t>
              </a:r>
              <a:r>
                <a:rPr b="0" lang="es-ES" sz="1800" spc="-1" strike="noStrike">
                  <a:solidFill>
                    <a:srgbClr val="009999"/>
                  </a:solidFill>
                  <a:latin typeface="Symbol"/>
                  <a:ea typeface="Symbol"/>
                </a:rPr>
                <a:t>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09" name=""/>
            <p:cNvGrpSpPr/>
            <p:nvPr/>
          </p:nvGrpSpPr>
          <p:grpSpPr>
            <a:xfrm>
              <a:off x="3124440" y="1104840"/>
              <a:ext cx="5088960" cy="2304720"/>
              <a:chOff x="3124440" y="1104840"/>
              <a:chExt cx="5088960" cy="2304720"/>
            </a:xfrm>
          </p:grpSpPr>
          <p:grpSp>
            <p:nvGrpSpPr>
              <p:cNvPr id="710" name=""/>
              <p:cNvGrpSpPr/>
              <p:nvPr/>
            </p:nvGrpSpPr>
            <p:grpSpPr>
              <a:xfrm>
                <a:off x="6696000" y="2255400"/>
                <a:ext cx="1193760" cy="1154160"/>
                <a:chOff x="6696000" y="2255400"/>
                <a:chExt cx="1193760" cy="1154160"/>
              </a:xfrm>
            </p:grpSpPr>
            <p:sp>
              <p:nvSpPr>
                <p:cNvPr id="711" name=""/>
                <p:cNvSpPr/>
                <p:nvPr/>
              </p:nvSpPr>
              <p:spPr>
                <a:xfrm flipH="1" flipV="1">
                  <a:off x="7292880" y="2255400"/>
                  <a:ext cx="596520" cy="11534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0" y="19981"/>
                      </a:moveTo>
                      <a:lnTo>
                        <a:pt x="1042" y="18390"/>
                      </a:lnTo>
                      <a:lnTo>
                        <a:pt x="1958" y="16873"/>
                      </a:lnTo>
                      <a:lnTo>
                        <a:pt x="3000" y="15356"/>
                      </a:lnTo>
                      <a:lnTo>
                        <a:pt x="3958" y="13747"/>
                      </a:lnTo>
                      <a:lnTo>
                        <a:pt x="5042" y="12340"/>
                      </a:lnTo>
                      <a:lnTo>
                        <a:pt x="5958" y="10953"/>
                      </a:lnTo>
                      <a:lnTo>
                        <a:pt x="7000" y="9584"/>
                      </a:lnTo>
                      <a:lnTo>
                        <a:pt x="7958" y="8252"/>
                      </a:lnTo>
                      <a:lnTo>
                        <a:pt x="9000" y="7012"/>
                      </a:lnTo>
                      <a:lnTo>
                        <a:pt x="10042" y="5920"/>
                      </a:lnTo>
                      <a:lnTo>
                        <a:pt x="11000" y="4847"/>
                      </a:lnTo>
                      <a:lnTo>
                        <a:pt x="12000" y="3793"/>
                      </a:lnTo>
                      <a:lnTo>
                        <a:pt x="12958" y="3016"/>
                      </a:lnTo>
                      <a:lnTo>
                        <a:pt x="14042" y="2239"/>
                      </a:lnTo>
                      <a:lnTo>
                        <a:pt x="14958" y="1536"/>
                      </a:lnTo>
                      <a:lnTo>
                        <a:pt x="16000" y="962"/>
                      </a:lnTo>
                      <a:lnTo>
                        <a:pt x="16958" y="592"/>
                      </a:lnTo>
                      <a:lnTo>
                        <a:pt x="18042" y="222"/>
                      </a:lnTo>
                      <a:lnTo>
                        <a:pt x="18917" y="37"/>
                      </a:lnTo>
                      <a:lnTo>
                        <a:pt x="19958" y="0"/>
                      </a:ln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2" name=""/>
                <p:cNvSpPr/>
                <p:nvPr/>
              </p:nvSpPr>
              <p:spPr>
                <a:xfrm flipH="1" flipV="1">
                  <a:off x="6695640" y="2256120"/>
                  <a:ext cx="596520" cy="11534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58" y="19981"/>
                      </a:moveTo>
                      <a:lnTo>
                        <a:pt x="18958" y="18390"/>
                      </a:lnTo>
                      <a:lnTo>
                        <a:pt x="18042" y="16873"/>
                      </a:lnTo>
                      <a:lnTo>
                        <a:pt x="17000" y="15356"/>
                      </a:lnTo>
                      <a:lnTo>
                        <a:pt x="16042" y="13747"/>
                      </a:lnTo>
                      <a:lnTo>
                        <a:pt x="14958" y="12340"/>
                      </a:lnTo>
                      <a:lnTo>
                        <a:pt x="14042" y="10953"/>
                      </a:lnTo>
                      <a:lnTo>
                        <a:pt x="12958" y="9584"/>
                      </a:lnTo>
                      <a:lnTo>
                        <a:pt x="12000" y="8252"/>
                      </a:lnTo>
                      <a:lnTo>
                        <a:pt x="11000" y="7012"/>
                      </a:lnTo>
                      <a:lnTo>
                        <a:pt x="10042" y="5920"/>
                      </a:lnTo>
                      <a:lnTo>
                        <a:pt x="9000" y="4847"/>
                      </a:lnTo>
                      <a:lnTo>
                        <a:pt x="8000" y="3793"/>
                      </a:lnTo>
                      <a:lnTo>
                        <a:pt x="7000" y="3016"/>
                      </a:lnTo>
                      <a:lnTo>
                        <a:pt x="6042" y="2239"/>
                      </a:lnTo>
                      <a:lnTo>
                        <a:pt x="5042" y="1536"/>
                      </a:lnTo>
                      <a:lnTo>
                        <a:pt x="4000" y="962"/>
                      </a:lnTo>
                      <a:lnTo>
                        <a:pt x="3000" y="592"/>
                      </a:lnTo>
                      <a:lnTo>
                        <a:pt x="2042" y="222"/>
                      </a:lnTo>
                      <a:lnTo>
                        <a:pt x="1042" y="37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13" name=""/>
              <p:cNvGrpSpPr/>
              <p:nvPr/>
            </p:nvGrpSpPr>
            <p:grpSpPr>
              <a:xfrm>
                <a:off x="5498640" y="1104840"/>
                <a:ext cx="1195560" cy="1154160"/>
                <a:chOff x="5498640" y="1104840"/>
                <a:chExt cx="1195560" cy="1154160"/>
              </a:xfrm>
            </p:grpSpPr>
            <p:sp>
              <p:nvSpPr>
                <p:cNvPr id="714" name=""/>
                <p:cNvSpPr/>
                <p:nvPr/>
              </p:nvSpPr>
              <p:spPr>
                <a:xfrm flipH="1" flipV="1">
                  <a:off x="6098040" y="1105560"/>
                  <a:ext cx="596160" cy="11534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0" y="0"/>
                      </a:moveTo>
                      <a:lnTo>
                        <a:pt x="1042" y="1591"/>
                      </a:lnTo>
                      <a:lnTo>
                        <a:pt x="1958" y="3108"/>
                      </a:lnTo>
                      <a:lnTo>
                        <a:pt x="3000" y="4625"/>
                      </a:lnTo>
                      <a:lnTo>
                        <a:pt x="3958" y="6253"/>
                      </a:lnTo>
                      <a:lnTo>
                        <a:pt x="5042" y="7660"/>
                      </a:lnTo>
                      <a:lnTo>
                        <a:pt x="5958" y="9029"/>
                      </a:lnTo>
                      <a:lnTo>
                        <a:pt x="7000" y="10416"/>
                      </a:lnTo>
                      <a:lnTo>
                        <a:pt x="7958" y="11730"/>
                      </a:lnTo>
                      <a:lnTo>
                        <a:pt x="9000" y="12969"/>
                      </a:lnTo>
                      <a:lnTo>
                        <a:pt x="10042" y="14080"/>
                      </a:lnTo>
                      <a:lnTo>
                        <a:pt x="11000" y="15134"/>
                      </a:lnTo>
                      <a:lnTo>
                        <a:pt x="12000" y="16189"/>
                      </a:lnTo>
                      <a:lnTo>
                        <a:pt x="12958" y="16984"/>
                      </a:lnTo>
                      <a:lnTo>
                        <a:pt x="14042" y="17743"/>
                      </a:lnTo>
                      <a:lnTo>
                        <a:pt x="14958" y="18464"/>
                      </a:lnTo>
                      <a:lnTo>
                        <a:pt x="16000" y="19019"/>
                      </a:lnTo>
                      <a:lnTo>
                        <a:pt x="16958" y="19408"/>
                      </a:lnTo>
                      <a:lnTo>
                        <a:pt x="18042" y="19759"/>
                      </a:lnTo>
                      <a:lnTo>
                        <a:pt x="18917" y="19944"/>
                      </a:lnTo>
                      <a:lnTo>
                        <a:pt x="19958" y="19981"/>
                      </a:ln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5" name=""/>
                <p:cNvSpPr/>
                <p:nvPr/>
              </p:nvSpPr>
              <p:spPr>
                <a:xfrm flipH="1" flipV="1">
                  <a:off x="5498640" y="1104840"/>
                  <a:ext cx="596160" cy="11534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58" y="0"/>
                      </a:moveTo>
                      <a:lnTo>
                        <a:pt x="18958" y="1591"/>
                      </a:lnTo>
                      <a:lnTo>
                        <a:pt x="18042" y="3108"/>
                      </a:lnTo>
                      <a:lnTo>
                        <a:pt x="17000" y="4625"/>
                      </a:lnTo>
                      <a:lnTo>
                        <a:pt x="16042" y="6253"/>
                      </a:lnTo>
                      <a:lnTo>
                        <a:pt x="14958" y="7660"/>
                      </a:lnTo>
                      <a:lnTo>
                        <a:pt x="14042" y="9029"/>
                      </a:lnTo>
                      <a:lnTo>
                        <a:pt x="12958" y="10416"/>
                      </a:lnTo>
                      <a:lnTo>
                        <a:pt x="12000" y="11730"/>
                      </a:lnTo>
                      <a:lnTo>
                        <a:pt x="11000" y="12969"/>
                      </a:lnTo>
                      <a:lnTo>
                        <a:pt x="10042" y="14080"/>
                      </a:lnTo>
                      <a:lnTo>
                        <a:pt x="9000" y="15134"/>
                      </a:lnTo>
                      <a:lnTo>
                        <a:pt x="8000" y="16189"/>
                      </a:lnTo>
                      <a:lnTo>
                        <a:pt x="7000" y="16984"/>
                      </a:lnTo>
                      <a:lnTo>
                        <a:pt x="6042" y="17743"/>
                      </a:lnTo>
                      <a:lnTo>
                        <a:pt x="5042" y="18464"/>
                      </a:lnTo>
                      <a:lnTo>
                        <a:pt x="4000" y="19019"/>
                      </a:lnTo>
                      <a:lnTo>
                        <a:pt x="3000" y="19408"/>
                      </a:lnTo>
                      <a:lnTo>
                        <a:pt x="2042" y="19759"/>
                      </a:lnTo>
                      <a:lnTo>
                        <a:pt x="1042" y="19944"/>
                      </a:lnTo>
                      <a:lnTo>
                        <a:pt x="0" y="19981"/>
                      </a:ln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16" name=""/>
              <p:cNvSpPr/>
              <p:nvPr/>
            </p:nvSpPr>
            <p:spPr>
              <a:xfrm flipH="1" flipV="1">
                <a:off x="4902120" y="2257560"/>
                <a:ext cx="596880" cy="11505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19981"/>
                    </a:moveTo>
                    <a:lnTo>
                      <a:pt x="1042" y="18390"/>
                    </a:lnTo>
                    <a:lnTo>
                      <a:pt x="1958" y="16873"/>
                    </a:lnTo>
                    <a:lnTo>
                      <a:pt x="3000" y="15356"/>
                    </a:lnTo>
                    <a:lnTo>
                      <a:pt x="3958" y="13747"/>
                    </a:lnTo>
                    <a:lnTo>
                      <a:pt x="5042" y="12340"/>
                    </a:lnTo>
                    <a:lnTo>
                      <a:pt x="5958" y="10953"/>
                    </a:lnTo>
                    <a:lnTo>
                      <a:pt x="7000" y="9584"/>
                    </a:lnTo>
                    <a:lnTo>
                      <a:pt x="7958" y="8252"/>
                    </a:lnTo>
                    <a:lnTo>
                      <a:pt x="9000" y="7012"/>
                    </a:lnTo>
                    <a:lnTo>
                      <a:pt x="10042" y="5920"/>
                    </a:lnTo>
                    <a:lnTo>
                      <a:pt x="11000" y="4847"/>
                    </a:lnTo>
                    <a:lnTo>
                      <a:pt x="12000" y="3793"/>
                    </a:lnTo>
                    <a:lnTo>
                      <a:pt x="12958" y="3016"/>
                    </a:lnTo>
                    <a:lnTo>
                      <a:pt x="14042" y="2239"/>
                    </a:lnTo>
                    <a:lnTo>
                      <a:pt x="14958" y="1536"/>
                    </a:lnTo>
                    <a:lnTo>
                      <a:pt x="16000" y="962"/>
                    </a:lnTo>
                    <a:lnTo>
                      <a:pt x="16958" y="592"/>
                    </a:lnTo>
                    <a:lnTo>
                      <a:pt x="18042" y="222"/>
                    </a:lnTo>
                    <a:lnTo>
                      <a:pt x="18917" y="37"/>
                    </a:lnTo>
                    <a:lnTo>
                      <a:pt x="19958" y="0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 flipH="1" flipV="1">
                <a:off x="4305240" y="2259000"/>
                <a:ext cx="596880" cy="11505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19981"/>
                    </a:moveTo>
                    <a:lnTo>
                      <a:pt x="18958" y="18390"/>
                    </a:lnTo>
                    <a:lnTo>
                      <a:pt x="18042" y="16873"/>
                    </a:lnTo>
                    <a:lnTo>
                      <a:pt x="17000" y="15356"/>
                    </a:lnTo>
                    <a:lnTo>
                      <a:pt x="16042" y="13747"/>
                    </a:lnTo>
                    <a:lnTo>
                      <a:pt x="14958" y="12340"/>
                    </a:lnTo>
                    <a:lnTo>
                      <a:pt x="14042" y="10953"/>
                    </a:lnTo>
                    <a:lnTo>
                      <a:pt x="12958" y="9584"/>
                    </a:lnTo>
                    <a:lnTo>
                      <a:pt x="12000" y="8252"/>
                    </a:lnTo>
                    <a:lnTo>
                      <a:pt x="11000" y="7012"/>
                    </a:lnTo>
                    <a:lnTo>
                      <a:pt x="10042" y="5920"/>
                    </a:lnTo>
                    <a:lnTo>
                      <a:pt x="9000" y="4847"/>
                    </a:lnTo>
                    <a:lnTo>
                      <a:pt x="8000" y="3793"/>
                    </a:lnTo>
                    <a:lnTo>
                      <a:pt x="7000" y="3016"/>
                    </a:lnTo>
                    <a:lnTo>
                      <a:pt x="6042" y="2239"/>
                    </a:lnTo>
                    <a:lnTo>
                      <a:pt x="5042" y="1536"/>
                    </a:lnTo>
                    <a:lnTo>
                      <a:pt x="4000" y="962"/>
                    </a:lnTo>
                    <a:lnTo>
                      <a:pt x="3000" y="592"/>
                    </a:lnTo>
                    <a:lnTo>
                      <a:pt x="2042" y="222"/>
                    </a:lnTo>
                    <a:lnTo>
                      <a:pt x="1042" y="37"/>
                    </a:lnTo>
                    <a:lnTo>
                      <a:pt x="0" y="0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flipH="1" flipV="1">
                <a:off x="3703680" y="1108440"/>
                <a:ext cx="596880" cy="11520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0"/>
                    </a:moveTo>
                    <a:lnTo>
                      <a:pt x="1042" y="1591"/>
                    </a:lnTo>
                    <a:lnTo>
                      <a:pt x="1958" y="3108"/>
                    </a:lnTo>
                    <a:lnTo>
                      <a:pt x="3000" y="4625"/>
                    </a:lnTo>
                    <a:lnTo>
                      <a:pt x="3958" y="6253"/>
                    </a:lnTo>
                    <a:lnTo>
                      <a:pt x="5042" y="7660"/>
                    </a:lnTo>
                    <a:lnTo>
                      <a:pt x="5958" y="9029"/>
                    </a:lnTo>
                    <a:lnTo>
                      <a:pt x="7000" y="10416"/>
                    </a:lnTo>
                    <a:lnTo>
                      <a:pt x="7958" y="11730"/>
                    </a:lnTo>
                    <a:lnTo>
                      <a:pt x="9000" y="12969"/>
                    </a:lnTo>
                    <a:lnTo>
                      <a:pt x="10042" y="14080"/>
                    </a:lnTo>
                    <a:lnTo>
                      <a:pt x="11000" y="15134"/>
                    </a:lnTo>
                    <a:lnTo>
                      <a:pt x="12000" y="16189"/>
                    </a:lnTo>
                    <a:lnTo>
                      <a:pt x="12958" y="16984"/>
                    </a:lnTo>
                    <a:lnTo>
                      <a:pt x="14042" y="17743"/>
                    </a:lnTo>
                    <a:lnTo>
                      <a:pt x="14958" y="18464"/>
                    </a:lnTo>
                    <a:lnTo>
                      <a:pt x="16000" y="19019"/>
                    </a:lnTo>
                    <a:lnTo>
                      <a:pt x="16958" y="19408"/>
                    </a:lnTo>
                    <a:lnTo>
                      <a:pt x="18042" y="19759"/>
                    </a:lnTo>
                    <a:lnTo>
                      <a:pt x="18917" y="19944"/>
                    </a:lnTo>
                    <a:lnTo>
                      <a:pt x="19958" y="19981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 flipH="1" flipV="1">
                <a:off x="3445920" y="1108440"/>
                <a:ext cx="266760" cy="279360"/>
              </a:xfrm>
              <a:custGeom>
                <a:avLst/>
                <a:gdLst/>
                <a:ahLst/>
                <a:rect l="l" t="t" r="r" b="b"/>
                <a:pathLst>
                  <a:path w="56" h="68">
                    <a:moveTo>
                      <a:pt x="56" y="0"/>
                    </a:moveTo>
                    <a:lnTo>
                      <a:pt x="50" y="14"/>
                    </a:lnTo>
                    <a:lnTo>
                      <a:pt x="44" y="26"/>
                    </a:lnTo>
                    <a:lnTo>
                      <a:pt x="38" y="36"/>
                    </a:lnTo>
                    <a:lnTo>
                      <a:pt x="32" y="46"/>
                    </a:lnTo>
                    <a:lnTo>
                      <a:pt x="25" y="54"/>
                    </a:lnTo>
                    <a:lnTo>
                      <a:pt x="19" y="60"/>
                    </a:lnTo>
                    <a:lnTo>
                      <a:pt x="13" y="65"/>
                    </a:lnTo>
                    <a:lnTo>
                      <a:pt x="7" y="67"/>
                    </a:lnTo>
                    <a:lnTo>
                      <a:pt x="0" y="68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 flipH="1" flipV="1">
                <a:off x="7884360" y="1387800"/>
                <a:ext cx="328680" cy="872640"/>
              </a:xfrm>
              <a:custGeom>
                <a:avLst/>
                <a:gdLst/>
                <a:ahLst/>
                <a:rect l="l" t="t" r="r" b="b"/>
                <a:pathLst>
                  <a:path w="69" h="213">
                    <a:moveTo>
                      <a:pt x="69" y="0"/>
                    </a:moveTo>
                    <a:lnTo>
                      <a:pt x="57" y="44"/>
                    </a:lnTo>
                    <a:lnTo>
                      <a:pt x="44" y="88"/>
                    </a:lnTo>
                    <a:lnTo>
                      <a:pt x="32" y="127"/>
                    </a:lnTo>
                    <a:lnTo>
                      <a:pt x="25" y="146"/>
                    </a:lnTo>
                    <a:lnTo>
                      <a:pt x="19" y="165"/>
                    </a:lnTo>
                    <a:lnTo>
                      <a:pt x="13" y="182"/>
                    </a:lnTo>
                    <a:lnTo>
                      <a:pt x="7" y="198"/>
                    </a:lnTo>
                    <a:lnTo>
                      <a:pt x="0" y="213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flipH="1" flipV="1">
                <a:off x="3124440" y="1387800"/>
                <a:ext cx="328320" cy="872640"/>
              </a:xfrm>
              <a:custGeom>
                <a:avLst/>
                <a:gdLst/>
                <a:ahLst/>
                <a:rect l="l" t="t" r="r" b="b"/>
                <a:pathLst>
                  <a:path w="69" h="213">
                    <a:moveTo>
                      <a:pt x="69" y="0"/>
                    </a:moveTo>
                    <a:lnTo>
                      <a:pt x="57" y="44"/>
                    </a:lnTo>
                    <a:lnTo>
                      <a:pt x="44" y="88"/>
                    </a:lnTo>
                    <a:lnTo>
                      <a:pt x="32" y="127"/>
                    </a:lnTo>
                    <a:lnTo>
                      <a:pt x="25" y="146"/>
                    </a:lnTo>
                    <a:lnTo>
                      <a:pt x="19" y="165"/>
                    </a:lnTo>
                    <a:lnTo>
                      <a:pt x="13" y="182"/>
                    </a:lnTo>
                    <a:lnTo>
                      <a:pt x="7" y="198"/>
                    </a:lnTo>
                    <a:lnTo>
                      <a:pt x="0" y="213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22" name=""/>
            <p:cNvSpPr/>
            <p:nvPr/>
          </p:nvSpPr>
          <p:spPr>
            <a:xfrm>
              <a:off x="2825640" y="2216160"/>
              <a:ext cx="50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1800" spc="-1" strike="noStrike">
                  <a:solidFill>
                    <a:srgbClr val="009999"/>
                  </a:solidFill>
                  <a:latin typeface="Symbol"/>
                  <a:ea typeface="Symbol"/>
                </a:rPr>
                <a:t></a:t>
              </a:r>
              <a:r>
                <a:rPr b="0" lang="es-ES" sz="1800" spc="-1" strike="noStrike">
                  <a:solidFill>
                    <a:srgbClr val="009999"/>
                  </a:solidFill>
                  <a:latin typeface="Symbol"/>
                  <a:ea typeface="Symbol"/>
                </a:rPr>
                <a:t>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3476520" y="735120"/>
              <a:ext cx="4557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5742000" y="1916280"/>
              <a:ext cx="330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1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8061480" y="1930320"/>
              <a:ext cx="439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i="1" lang="es-ES" sz="1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8005680" y="2216160"/>
              <a:ext cx="53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9999"/>
                  </a:solidFill>
                  <a:latin typeface="Times New Roman"/>
                </a:rPr>
                <a:t>4</a:t>
              </a:r>
              <a:r>
                <a:rPr b="0" lang="es-ES" sz="1800" spc="-1" strike="noStrike">
                  <a:solidFill>
                    <a:srgbClr val="009999"/>
                  </a:solidFill>
                  <a:latin typeface="Symbol"/>
                  <a:ea typeface="Symbol"/>
                </a:rPr>
                <a:t>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6048360" y="108900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04369-C8F8-4D17-B498-FDF2C500E704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"/>
          <p:cNvSpPr/>
          <p:nvPr/>
        </p:nvSpPr>
        <p:spPr>
          <a:xfrm>
            <a:off x="2278080" y="1386000"/>
            <a:ext cx="1176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9" name=""/>
          <p:cNvGrpSpPr/>
          <p:nvPr/>
        </p:nvGrpSpPr>
        <p:grpSpPr>
          <a:xfrm>
            <a:off x="297000" y="865080"/>
            <a:ext cx="2492280" cy="2664000"/>
            <a:chOff x="297000" y="865080"/>
            <a:chExt cx="2492280" cy="2664000"/>
          </a:xfrm>
        </p:grpSpPr>
        <p:sp>
          <p:nvSpPr>
            <p:cNvPr id="730" name=""/>
            <p:cNvSpPr/>
            <p:nvPr/>
          </p:nvSpPr>
          <p:spPr>
            <a:xfrm>
              <a:off x="392400" y="1120680"/>
              <a:ext cx="2303280" cy="2298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297000" y="2271600"/>
              <a:ext cx="249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1543320" y="1012680"/>
              <a:ext cx="0" cy="2516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 flipV="1">
              <a:off x="1543320" y="1382760"/>
              <a:ext cx="728640" cy="89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999000" y="1728360"/>
              <a:ext cx="1088280" cy="108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706" y="2497"/>
                  </a:moveTo>
                  <a:arcTo wR="10800" hR="10800" stAng="-3014961" swAng="29919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7706" y="2497"/>
                  </a:moveTo>
                  <a:arcTo wR="10800" hR="10800" stAng="-3014961" swAng="2991957"/>
                </a:path>
              </a:pathLst>
            </a:custGeom>
            <a:noFill/>
            <a:ln w="9360">
              <a:solidFill>
                <a:srgbClr val="000000"/>
              </a:solidFill>
              <a:miter/>
              <a:headEnd len="med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2085480" y="86508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2004120" y="170172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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1560240" y="1263600"/>
              <a:ext cx="54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24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i="1" lang="es-E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Ẏ</a:t>
              </a:r>
              <a:r>
                <a:rPr b="0" i="1" lang="es-E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 flipH="1" flipV="1">
              <a:off x="2248200" y="1355760"/>
              <a:ext cx="56880" cy="568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9" name=""/>
          <p:cNvGrpSpPr/>
          <p:nvPr/>
        </p:nvGrpSpPr>
        <p:grpSpPr>
          <a:xfrm>
            <a:off x="2825640" y="220680"/>
            <a:ext cx="6062760" cy="3300480"/>
            <a:chOff x="2825640" y="220680"/>
            <a:chExt cx="6062760" cy="3300480"/>
          </a:xfrm>
        </p:grpSpPr>
        <p:sp>
          <p:nvSpPr>
            <p:cNvPr id="740" name=""/>
            <p:cNvSpPr/>
            <p:nvPr/>
          </p:nvSpPr>
          <p:spPr>
            <a:xfrm>
              <a:off x="2878200" y="2259000"/>
              <a:ext cx="5842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3443400" y="669960"/>
              <a:ext cx="0" cy="2851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3113280" y="220680"/>
              <a:ext cx="585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s-E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8624880" y="2060640"/>
              <a:ext cx="26352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5640480" y="2216160"/>
              <a:ext cx="53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9999"/>
                  </a:solidFill>
                  <a:latin typeface="Times New Roman"/>
                </a:rPr>
                <a:t>2</a:t>
              </a:r>
              <a:r>
                <a:rPr b="0" lang="es-ES" sz="1800" spc="-1" strike="noStrike">
                  <a:solidFill>
                    <a:srgbClr val="009999"/>
                  </a:solidFill>
                  <a:latin typeface="Symbol"/>
                  <a:ea typeface="Symbol"/>
                </a:rPr>
                <a:t>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45" name=""/>
            <p:cNvGrpSpPr/>
            <p:nvPr/>
          </p:nvGrpSpPr>
          <p:grpSpPr>
            <a:xfrm>
              <a:off x="3124440" y="1104840"/>
              <a:ext cx="5088960" cy="2304720"/>
              <a:chOff x="3124440" y="1104840"/>
              <a:chExt cx="5088960" cy="2304720"/>
            </a:xfrm>
          </p:grpSpPr>
          <p:grpSp>
            <p:nvGrpSpPr>
              <p:cNvPr id="746" name=""/>
              <p:cNvGrpSpPr/>
              <p:nvPr/>
            </p:nvGrpSpPr>
            <p:grpSpPr>
              <a:xfrm>
                <a:off x="6696000" y="2255400"/>
                <a:ext cx="1193760" cy="1154160"/>
                <a:chOff x="6696000" y="2255400"/>
                <a:chExt cx="1193760" cy="1154160"/>
              </a:xfrm>
            </p:grpSpPr>
            <p:sp>
              <p:nvSpPr>
                <p:cNvPr id="747" name=""/>
                <p:cNvSpPr/>
                <p:nvPr/>
              </p:nvSpPr>
              <p:spPr>
                <a:xfrm flipH="1" flipV="1">
                  <a:off x="7292880" y="2255400"/>
                  <a:ext cx="596520" cy="11534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0" y="19981"/>
                      </a:moveTo>
                      <a:lnTo>
                        <a:pt x="1042" y="18390"/>
                      </a:lnTo>
                      <a:lnTo>
                        <a:pt x="1958" y="16873"/>
                      </a:lnTo>
                      <a:lnTo>
                        <a:pt x="3000" y="15356"/>
                      </a:lnTo>
                      <a:lnTo>
                        <a:pt x="3958" y="13747"/>
                      </a:lnTo>
                      <a:lnTo>
                        <a:pt x="5042" y="12340"/>
                      </a:lnTo>
                      <a:lnTo>
                        <a:pt x="5958" y="10953"/>
                      </a:lnTo>
                      <a:lnTo>
                        <a:pt x="7000" y="9584"/>
                      </a:lnTo>
                      <a:lnTo>
                        <a:pt x="7958" y="8252"/>
                      </a:lnTo>
                      <a:lnTo>
                        <a:pt x="9000" y="7012"/>
                      </a:lnTo>
                      <a:lnTo>
                        <a:pt x="10042" y="5920"/>
                      </a:lnTo>
                      <a:lnTo>
                        <a:pt x="11000" y="4847"/>
                      </a:lnTo>
                      <a:lnTo>
                        <a:pt x="12000" y="3793"/>
                      </a:lnTo>
                      <a:lnTo>
                        <a:pt x="12958" y="3016"/>
                      </a:lnTo>
                      <a:lnTo>
                        <a:pt x="14042" y="2239"/>
                      </a:lnTo>
                      <a:lnTo>
                        <a:pt x="14958" y="1536"/>
                      </a:lnTo>
                      <a:lnTo>
                        <a:pt x="16000" y="962"/>
                      </a:lnTo>
                      <a:lnTo>
                        <a:pt x="16958" y="592"/>
                      </a:lnTo>
                      <a:lnTo>
                        <a:pt x="18042" y="222"/>
                      </a:lnTo>
                      <a:lnTo>
                        <a:pt x="18917" y="37"/>
                      </a:lnTo>
                      <a:lnTo>
                        <a:pt x="19958" y="0"/>
                      </a:ln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8" name=""/>
                <p:cNvSpPr/>
                <p:nvPr/>
              </p:nvSpPr>
              <p:spPr>
                <a:xfrm flipH="1" flipV="1">
                  <a:off x="6695640" y="2256120"/>
                  <a:ext cx="596520" cy="11534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58" y="19981"/>
                      </a:moveTo>
                      <a:lnTo>
                        <a:pt x="18958" y="18390"/>
                      </a:lnTo>
                      <a:lnTo>
                        <a:pt x="18042" y="16873"/>
                      </a:lnTo>
                      <a:lnTo>
                        <a:pt x="17000" y="15356"/>
                      </a:lnTo>
                      <a:lnTo>
                        <a:pt x="16042" y="13747"/>
                      </a:lnTo>
                      <a:lnTo>
                        <a:pt x="14958" y="12340"/>
                      </a:lnTo>
                      <a:lnTo>
                        <a:pt x="14042" y="10953"/>
                      </a:lnTo>
                      <a:lnTo>
                        <a:pt x="12958" y="9584"/>
                      </a:lnTo>
                      <a:lnTo>
                        <a:pt x="12000" y="8252"/>
                      </a:lnTo>
                      <a:lnTo>
                        <a:pt x="11000" y="7012"/>
                      </a:lnTo>
                      <a:lnTo>
                        <a:pt x="10042" y="5920"/>
                      </a:lnTo>
                      <a:lnTo>
                        <a:pt x="9000" y="4847"/>
                      </a:lnTo>
                      <a:lnTo>
                        <a:pt x="8000" y="3793"/>
                      </a:lnTo>
                      <a:lnTo>
                        <a:pt x="7000" y="3016"/>
                      </a:lnTo>
                      <a:lnTo>
                        <a:pt x="6042" y="2239"/>
                      </a:lnTo>
                      <a:lnTo>
                        <a:pt x="5042" y="1536"/>
                      </a:lnTo>
                      <a:lnTo>
                        <a:pt x="4000" y="962"/>
                      </a:lnTo>
                      <a:lnTo>
                        <a:pt x="3000" y="592"/>
                      </a:lnTo>
                      <a:lnTo>
                        <a:pt x="2042" y="222"/>
                      </a:lnTo>
                      <a:lnTo>
                        <a:pt x="1042" y="37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49" name=""/>
              <p:cNvGrpSpPr/>
              <p:nvPr/>
            </p:nvGrpSpPr>
            <p:grpSpPr>
              <a:xfrm>
                <a:off x="5498640" y="1104840"/>
                <a:ext cx="1195560" cy="1154160"/>
                <a:chOff x="5498640" y="1104840"/>
                <a:chExt cx="1195560" cy="1154160"/>
              </a:xfrm>
            </p:grpSpPr>
            <p:sp>
              <p:nvSpPr>
                <p:cNvPr id="750" name=""/>
                <p:cNvSpPr/>
                <p:nvPr/>
              </p:nvSpPr>
              <p:spPr>
                <a:xfrm flipH="1" flipV="1">
                  <a:off x="6098040" y="1105560"/>
                  <a:ext cx="596160" cy="11534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0" y="0"/>
                      </a:moveTo>
                      <a:lnTo>
                        <a:pt x="1042" y="1591"/>
                      </a:lnTo>
                      <a:lnTo>
                        <a:pt x="1958" y="3108"/>
                      </a:lnTo>
                      <a:lnTo>
                        <a:pt x="3000" y="4625"/>
                      </a:lnTo>
                      <a:lnTo>
                        <a:pt x="3958" y="6253"/>
                      </a:lnTo>
                      <a:lnTo>
                        <a:pt x="5042" y="7660"/>
                      </a:lnTo>
                      <a:lnTo>
                        <a:pt x="5958" y="9029"/>
                      </a:lnTo>
                      <a:lnTo>
                        <a:pt x="7000" y="10416"/>
                      </a:lnTo>
                      <a:lnTo>
                        <a:pt x="7958" y="11730"/>
                      </a:lnTo>
                      <a:lnTo>
                        <a:pt x="9000" y="12969"/>
                      </a:lnTo>
                      <a:lnTo>
                        <a:pt x="10042" y="14080"/>
                      </a:lnTo>
                      <a:lnTo>
                        <a:pt x="11000" y="15134"/>
                      </a:lnTo>
                      <a:lnTo>
                        <a:pt x="12000" y="16189"/>
                      </a:lnTo>
                      <a:lnTo>
                        <a:pt x="12958" y="16984"/>
                      </a:lnTo>
                      <a:lnTo>
                        <a:pt x="14042" y="17743"/>
                      </a:lnTo>
                      <a:lnTo>
                        <a:pt x="14958" y="18464"/>
                      </a:lnTo>
                      <a:lnTo>
                        <a:pt x="16000" y="19019"/>
                      </a:lnTo>
                      <a:lnTo>
                        <a:pt x="16958" y="19408"/>
                      </a:lnTo>
                      <a:lnTo>
                        <a:pt x="18042" y="19759"/>
                      </a:lnTo>
                      <a:lnTo>
                        <a:pt x="18917" y="19944"/>
                      </a:lnTo>
                      <a:lnTo>
                        <a:pt x="19958" y="19981"/>
                      </a:ln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1" name=""/>
                <p:cNvSpPr/>
                <p:nvPr/>
              </p:nvSpPr>
              <p:spPr>
                <a:xfrm flipH="1" flipV="1">
                  <a:off x="5498640" y="1104840"/>
                  <a:ext cx="596160" cy="11534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58" y="0"/>
                      </a:moveTo>
                      <a:lnTo>
                        <a:pt x="18958" y="1591"/>
                      </a:lnTo>
                      <a:lnTo>
                        <a:pt x="18042" y="3108"/>
                      </a:lnTo>
                      <a:lnTo>
                        <a:pt x="17000" y="4625"/>
                      </a:lnTo>
                      <a:lnTo>
                        <a:pt x="16042" y="6253"/>
                      </a:lnTo>
                      <a:lnTo>
                        <a:pt x="14958" y="7660"/>
                      </a:lnTo>
                      <a:lnTo>
                        <a:pt x="14042" y="9029"/>
                      </a:lnTo>
                      <a:lnTo>
                        <a:pt x="12958" y="10416"/>
                      </a:lnTo>
                      <a:lnTo>
                        <a:pt x="12000" y="11730"/>
                      </a:lnTo>
                      <a:lnTo>
                        <a:pt x="11000" y="12969"/>
                      </a:lnTo>
                      <a:lnTo>
                        <a:pt x="10042" y="14080"/>
                      </a:lnTo>
                      <a:lnTo>
                        <a:pt x="9000" y="15134"/>
                      </a:lnTo>
                      <a:lnTo>
                        <a:pt x="8000" y="16189"/>
                      </a:lnTo>
                      <a:lnTo>
                        <a:pt x="7000" y="16984"/>
                      </a:lnTo>
                      <a:lnTo>
                        <a:pt x="6042" y="17743"/>
                      </a:lnTo>
                      <a:lnTo>
                        <a:pt x="5042" y="18464"/>
                      </a:lnTo>
                      <a:lnTo>
                        <a:pt x="4000" y="19019"/>
                      </a:lnTo>
                      <a:lnTo>
                        <a:pt x="3000" y="19408"/>
                      </a:lnTo>
                      <a:lnTo>
                        <a:pt x="2042" y="19759"/>
                      </a:lnTo>
                      <a:lnTo>
                        <a:pt x="1042" y="19944"/>
                      </a:lnTo>
                      <a:lnTo>
                        <a:pt x="0" y="19981"/>
                      </a:ln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2" name=""/>
              <p:cNvSpPr/>
              <p:nvPr/>
            </p:nvSpPr>
            <p:spPr>
              <a:xfrm flipH="1" flipV="1">
                <a:off x="4902120" y="2257560"/>
                <a:ext cx="596880" cy="11505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19981"/>
                    </a:moveTo>
                    <a:lnTo>
                      <a:pt x="1042" y="18390"/>
                    </a:lnTo>
                    <a:lnTo>
                      <a:pt x="1958" y="16873"/>
                    </a:lnTo>
                    <a:lnTo>
                      <a:pt x="3000" y="15356"/>
                    </a:lnTo>
                    <a:lnTo>
                      <a:pt x="3958" y="13747"/>
                    </a:lnTo>
                    <a:lnTo>
                      <a:pt x="5042" y="12340"/>
                    </a:lnTo>
                    <a:lnTo>
                      <a:pt x="5958" y="10953"/>
                    </a:lnTo>
                    <a:lnTo>
                      <a:pt x="7000" y="9584"/>
                    </a:lnTo>
                    <a:lnTo>
                      <a:pt x="7958" y="8252"/>
                    </a:lnTo>
                    <a:lnTo>
                      <a:pt x="9000" y="7012"/>
                    </a:lnTo>
                    <a:lnTo>
                      <a:pt x="10042" y="5920"/>
                    </a:lnTo>
                    <a:lnTo>
                      <a:pt x="11000" y="4847"/>
                    </a:lnTo>
                    <a:lnTo>
                      <a:pt x="12000" y="3793"/>
                    </a:lnTo>
                    <a:lnTo>
                      <a:pt x="12958" y="3016"/>
                    </a:lnTo>
                    <a:lnTo>
                      <a:pt x="14042" y="2239"/>
                    </a:lnTo>
                    <a:lnTo>
                      <a:pt x="14958" y="1536"/>
                    </a:lnTo>
                    <a:lnTo>
                      <a:pt x="16000" y="962"/>
                    </a:lnTo>
                    <a:lnTo>
                      <a:pt x="16958" y="592"/>
                    </a:lnTo>
                    <a:lnTo>
                      <a:pt x="18042" y="222"/>
                    </a:lnTo>
                    <a:lnTo>
                      <a:pt x="18917" y="37"/>
                    </a:lnTo>
                    <a:lnTo>
                      <a:pt x="19958" y="0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 flipH="1" flipV="1">
                <a:off x="4305240" y="2259000"/>
                <a:ext cx="596880" cy="11505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19981"/>
                    </a:moveTo>
                    <a:lnTo>
                      <a:pt x="18958" y="18390"/>
                    </a:lnTo>
                    <a:lnTo>
                      <a:pt x="18042" y="16873"/>
                    </a:lnTo>
                    <a:lnTo>
                      <a:pt x="17000" y="15356"/>
                    </a:lnTo>
                    <a:lnTo>
                      <a:pt x="16042" y="13747"/>
                    </a:lnTo>
                    <a:lnTo>
                      <a:pt x="14958" y="12340"/>
                    </a:lnTo>
                    <a:lnTo>
                      <a:pt x="14042" y="10953"/>
                    </a:lnTo>
                    <a:lnTo>
                      <a:pt x="12958" y="9584"/>
                    </a:lnTo>
                    <a:lnTo>
                      <a:pt x="12000" y="8252"/>
                    </a:lnTo>
                    <a:lnTo>
                      <a:pt x="11000" y="7012"/>
                    </a:lnTo>
                    <a:lnTo>
                      <a:pt x="10042" y="5920"/>
                    </a:lnTo>
                    <a:lnTo>
                      <a:pt x="9000" y="4847"/>
                    </a:lnTo>
                    <a:lnTo>
                      <a:pt x="8000" y="3793"/>
                    </a:lnTo>
                    <a:lnTo>
                      <a:pt x="7000" y="3016"/>
                    </a:lnTo>
                    <a:lnTo>
                      <a:pt x="6042" y="2239"/>
                    </a:lnTo>
                    <a:lnTo>
                      <a:pt x="5042" y="1536"/>
                    </a:lnTo>
                    <a:lnTo>
                      <a:pt x="4000" y="962"/>
                    </a:lnTo>
                    <a:lnTo>
                      <a:pt x="3000" y="592"/>
                    </a:lnTo>
                    <a:lnTo>
                      <a:pt x="2042" y="222"/>
                    </a:lnTo>
                    <a:lnTo>
                      <a:pt x="1042" y="37"/>
                    </a:lnTo>
                    <a:lnTo>
                      <a:pt x="0" y="0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 flipH="1" flipV="1">
                <a:off x="3703680" y="1108440"/>
                <a:ext cx="596880" cy="11520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0"/>
                    </a:moveTo>
                    <a:lnTo>
                      <a:pt x="1042" y="1591"/>
                    </a:lnTo>
                    <a:lnTo>
                      <a:pt x="1958" y="3108"/>
                    </a:lnTo>
                    <a:lnTo>
                      <a:pt x="3000" y="4625"/>
                    </a:lnTo>
                    <a:lnTo>
                      <a:pt x="3958" y="6253"/>
                    </a:lnTo>
                    <a:lnTo>
                      <a:pt x="5042" y="7660"/>
                    </a:lnTo>
                    <a:lnTo>
                      <a:pt x="5958" y="9029"/>
                    </a:lnTo>
                    <a:lnTo>
                      <a:pt x="7000" y="10416"/>
                    </a:lnTo>
                    <a:lnTo>
                      <a:pt x="7958" y="11730"/>
                    </a:lnTo>
                    <a:lnTo>
                      <a:pt x="9000" y="12969"/>
                    </a:lnTo>
                    <a:lnTo>
                      <a:pt x="10042" y="14080"/>
                    </a:lnTo>
                    <a:lnTo>
                      <a:pt x="11000" y="15134"/>
                    </a:lnTo>
                    <a:lnTo>
                      <a:pt x="12000" y="16189"/>
                    </a:lnTo>
                    <a:lnTo>
                      <a:pt x="12958" y="16984"/>
                    </a:lnTo>
                    <a:lnTo>
                      <a:pt x="14042" y="17743"/>
                    </a:lnTo>
                    <a:lnTo>
                      <a:pt x="14958" y="18464"/>
                    </a:lnTo>
                    <a:lnTo>
                      <a:pt x="16000" y="19019"/>
                    </a:lnTo>
                    <a:lnTo>
                      <a:pt x="16958" y="19408"/>
                    </a:lnTo>
                    <a:lnTo>
                      <a:pt x="18042" y="19759"/>
                    </a:lnTo>
                    <a:lnTo>
                      <a:pt x="18917" y="19944"/>
                    </a:lnTo>
                    <a:lnTo>
                      <a:pt x="19958" y="19981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 flipH="1" flipV="1">
                <a:off x="3445920" y="1108440"/>
                <a:ext cx="266760" cy="279360"/>
              </a:xfrm>
              <a:custGeom>
                <a:avLst/>
                <a:gdLst/>
                <a:ahLst/>
                <a:rect l="l" t="t" r="r" b="b"/>
                <a:pathLst>
                  <a:path w="56" h="68">
                    <a:moveTo>
                      <a:pt x="56" y="0"/>
                    </a:moveTo>
                    <a:lnTo>
                      <a:pt x="50" y="14"/>
                    </a:lnTo>
                    <a:lnTo>
                      <a:pt x="44" y="26"/>
                    </a:lnTo>
                    <a:lnTo>
                      <a:pt x="38" y="36"/>
                    </a:lnTo>
                    <a:lnTo>
                      <a:pt x="32" y="46"/>
                    </a:lnTo>
                    <a:lnTo>
                      <a:pt x="25" y="54"/>
                    </a:lnTo>
                    <a:lnTo>
                      <a:pt x="19" y="60"/>
                    </a:lnTo>
                    <a:lnTo>
                      <a:pt x="13" y="65"/>
                    </a:lnTo>
                    <a:lnTo>
                      <a:pt x="7" y="67"/>
                    </a:lnTo>
                    <a:lnTo>
                      <a:pt x="0" y="68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 flipH="1" flipV="1">
                <a:off x="7884360" y="1387800"/>
                <a:ext cx="328680" cy="872640"/>
              </a:xfrm>
              <a:custGeom>
                <a:avLst/>
                <a:gdLst/>
                <a:ahLst/>
                <a:rect l="l" t="t" r="r" b="b"/>
                <a:pathLst>
                  <a:path w="69" h="213">
                    <a:moveTo>
                      <a:pt x="69" y="0"/>
                    </a:moveTo>
                    <a:lnTo>
                      <a:pt x="57" y="44"/>
                    </a:lnTo>
                    <a:lnTo>
                      <a:pt x="44" y="88"/>
                    </a:lnTo>
                    <a:lnTo>
                      <a:pt x="32" y="127"/>
                    </a:lnTo>
                    <a:lnTo>
                      <a:pt x="25" y="146"/>
                    </a:lnTo>
                    <a:lnTo>
                      <a:pt x="19" y="165"/>
                    </a:lnTo>
                    <a:lnTo>
                      <a:pt x="13" y="182"/>
                    </a:lnTo>
                    <a:lnTo>
                      <a:pt x="7" y="198"/>
                    </a:lnTo>
                    <a:lnTo>
                      <a:pt x="0" y="213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 flipH="1" flipV="1">
                <a:off x="3124440" y="1387800"/>
                <a:ext cx="328320" cy="872640"/>
              </a:xfrm>
              <a:custGeom>
                <a:avLst/>
                <a:gdLst/>
                <a:ahLst/>
                <a:rect l="l" t="t" r="r" b="b"/>
                <a:pathLst>
                  <a:path w="69" h="213">
                    <a:moveTo>
                      <a:pt x="69" y="0"/>
                    </a:moveTo>
                    <a:lnTo>
                      <a:pt x="57" y="44"/>
                    </a:lnTo>
                    <a:lnTo>
                      <a:pt x="44" y="88"/>
                    </a:lnTo>
                    <a:lnTo>
                      <a:pt x="32" y="127"/>
                    </a:lnTo>
                    <a:lnTo>
                      <a:pt x="25" y="146"/>
                    </a:lnTo>
                    <a:lnTo>
                      <a:pt x="19" y="165"/>
                    </a:lnTo>
                    <a:lnTo>
                      <a:pt x="13" y="182"/>
                    </a:lnTo>
                    <a:lnTo>
                      <a:pt x="7" y="198"/>
                    </a:lnTo>
                    <a:lnTo>
                      <a:pt x="0" y="213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8" name=""/>
            <p:cNvSpPr/>
            <p:nvPr/>
          </p:nvSpPr>
          <p:spPr>
            <a:xfrm>
              <a:off x="2825640" y="2216160"/>
              <a:ext cx="50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1800" spc="-1" strike="noStrike">
                  <a:solidFill>
                    <a:srgbClr val="009999"/>
                  </a:solidFill>
                  <a:latin typeface="Symbol"/>
                  <a:ea typeface="Symbol"/>
                </a:rPr>
                <a:t></a:t>
              </a:r>
              <a:r>
                <a:rPr b="0" lang="es-ES" sz="1800" spc="-1" strike="noStrike">
                  <a:solidFill>
                    <a:srgbClr val="009999"/>
                  </a:solidFill>
                  <a:latin typeface="Symbol"/>
                  <a:ea typeface="Symbol"/>
                </a:rPr>
                <a:t>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476520" y="735120"/>
              <a:ext cx="4557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5742000" y="1916280"/>
              <a:ext cx="330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1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8061480" y="1930320"/>
              <a:ext cx="439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i="1" lang="es-ES" sz="1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8005680" y="2216160"/>
              <a:ext cx="53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9999"/>
                  </a:solidFill>
                  <a:latin typeface="Times New Roman"/>
                </a:rPr>
                <a:t>4</a:t>
              </a:r>
              <a:r>
                <a:rPr b="0" lang="es-ES" sz="1800" spc="-1" strike="noStrike">
                  <a:solidFill>
                    <a:srgbClr val="009999"/>
                  </a:solidFill>
                  <a:latin typeface="Symbol"/>
                  <a:ea typeface="Symbol"/>
                </a:rPr>
                <a:t>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6048360" y="108900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4" name=""/>
          <p:cNvSpPr/>
          <p:nvPr/>
        </p:nvSpPr>
        <p:spPr>
          <a:xfrm>
            <a:off x="1546200" y="1120680"/>
            <a:ext cx="628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2433600" y="1117440"/>
            <a:ext cx="1252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F0EA4-FCA9-4348-A12B-D4F66257530B}" type="slidenum">
              <a:t>43</a:t>
            </a:fld>
          </a:p>
        </p:txBody>
      </p:sp>
    </p:spTree>
  </p:cSld>
  <p:transition>
    <p:fad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"/>
          <p:cNvSpPr/>
          <p:nvPr/>
        </p:nvSpPr>
        <p:spPr>
          <a:xfrm>
            <a:off x="927000" y="1047240"/>
            <a:ext cx="7290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Podemos considerar que la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función de transferencia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es el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cociente complejo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entre los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fasores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de la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salida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y la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entrad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C3AD6-8350-4A17-B480-EFECA0ABF15F}" type="slidenum">
              <a:t>44</a:t>
            </a:fld>
          </a:p>
        </p:txBody>
      </p:sp>
    </p:spTree>
  </p:cSld>
  <p:transition>
    <p:fade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7" name=""/>
          <p:cNvGrpSpPr/>
          <p:nvPr/>
        </p:nvGrpSpPr>
        <p:grpSpPr>
          <a:xfrm>
            <a:off x="2639880" y="2433600"/>
            <a:ext cx="3862440" cy="1479600"/>
            <a:chOff x="2639880" y="2433600"/>
            <a:chExt cx="3862440" cy="1479600"/>
          </a:xfrm>
        </p:grpSpPr>
        <p:grpSp>
          <p:nvGrpSpPr>
            <p:cNvPr id="768" name=""/>
            <p:cNvGrpSpPr/>
            <p:nvPr/>
          </p:nvGrpSpPr>
          <p:grpSpPr>
            <a:xfrm>
              <a:off x="5164200" y="2433600"/>
              <a:ext cx="1047600" cy="1479600"/>
              <a:chOff x="5164200" y="2433600"/>
              <a:chExt cx="1047600" cy="1479600"/>
            </a:xfrm>
          </p:grpSpPr>
          <p:sp>
            <p:nvSpPr>
              <p:cNvPr id="769" name=""/>
              <p:cNvSpPr/>
              <p:nvPr/>
            </p:nvSpPr>
            <p:spPr>
              <a:xfrm>
                <a:off x="5164200" y="2433600"/>
                <a:ext cx="104760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" sz="4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Ẏ</a:t>
                </a: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5164200" y="3179880"/>
                <a:ext cx="104760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" sz="4400" spc="-1" strike="noStrike">
                    <a:solidFill>
                      <a:srgbClr val="000000"/>
                    </a:solidFill>
                    <a:latin typeface="Times New Roman"/>
                  </a:rPr>
                  <a:t>Ẋ</a:t>
                </a: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1" name=""/>
            <p:cNvSpPr/>
            <p:nvPr/>
          </p:nvSpPr>
          <p:spPr>
            <a:xfrm>
              <a:off x="2639880" y="2714760"/>
              <a:ext cx="38624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44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0" lang="es-ES" sz="4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s-ES" sz="4400" spc="-1" strike="noStrike">
                  <a:solidFill>
                    <a:srgbClr val="000000"/>
                  </a:solidFill>
                  <a:latin typeface="Times New Roman"/>
                </a:rPr>
                <a:t>f </a:t>
              </a:r>
              <a:r>
                <a:rPr b="0" lang="es-ES" sz="4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1" lang="es-ES" sz="4400" spc="-1" strike="noStrike">
                  <a:solidFill>
                    <a:srgbClr val="000000"/>
                  </a:solidFill>
                  <a:latin typeface="Times New Roman"/>
                </a:rPr>
                <a:t>   =   </a:t>
              </a:r>
              <a:r>
                <a:rPr b="1" lang="es-ES" sz="4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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0B04B-321E-48C5-9FB6-31CE65C2540C}" type="slidenum">
              <a:t>45</a:t>
            </a:fld>
          </a:p>
        </p:txBody>
      </p:sp>
    </p:spTree>
  </p:cSld>
  <p:transition>
    <p:fade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"/>
          <p:cNvSpPr/>
          <p:nvPr/>
        </p:nvSpPr>
        <p:spPr>
          <a:xfrm>
            <a:off x="927000" y="1490040"/>
            <a:ext cx="7290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Esto se debe a que el módulo del cociente de dos complejos es el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cociente de los módulos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y la fase es la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resta de las fas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2CABB-BC32-42BC-9A81-16E34237AD84}" type="slidenum">
              <a:t>46</a:t>
            </a:fld>
          </a:p>
        </p:txBody>
      </p:sp>
    </p:spTree>
  </p:cSld>
  <p:transition>
    <p:fade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"/>
          <p:cNvSpPr/>
          <p:nvPr/>
        </p:nvSpPr>
        <p:spPr>
          <a:xfrm>
            <a:off x="1204920" y="3933720"/>
            <a:ext cx="67341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arg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" sz="4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s-ES" sz="44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s-ES" sz="4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=   arg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Ẏ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s-ES" sz="4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arg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s-E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 rot="16200000">
            <a:off x="4912200" y="4449960"/>
            <a:ext cx="290520" cy="1146240"/>
          </a:xfrm>
          <a:custGeom>
            <a:avLst/>
            <a:gdLst>
              <a:gd name="textAreaLeft" fmla="*/ 185760 w 290520"/>
              <a:gd name="textAreaRight" fmla="*/ 290880 w 290520"/>
              <a:gd name="textAreaTop" fmla="*/ 29880 h 1146240"/>
              <a:gd name="textAreaBottom" fmla="*/ 1116360 h 1146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 rot="16200000">
            <a:off x="6899760" y="4449960"/>
            <a:ext cx="290520" cy="1146240"/>
          </a:xfrm>
          <a:custGeom>
            <a:avLst/>
            <a:gdLst>
              <a:gd name="textAreaLeft" fmla="*/ 185760 w 290520"/>
              <a:gd name="textAreaRight" fmla="*/ 290880 w 290520"/>
              <a:gd name="textAreaTop" fmla="*/ 29880 h 1146240"/>
              <a:gd name="textAreaBottom" fmla="*/ 1116360 h 1146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4675320" y="5037120"/>
            <a:ext cx="752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0000"/>
                </a:solidFill>
                <a:latin typeface="Symbol"/>
                <a:ea typeface="Symbol"/>
              </a:rPr>
              <a:t>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6676920" y="5108400"/>
            <a:ext cx="7527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8" name=""/>
          <p:cNvGrpSpPr/>
          <p:nvPr/>
        </p:nvGrpSpPr>
        <p:grpSpPr>
          <a:xfrm>
            <a:off x="1508040" y="1768320"/>
            <a:ext cx="6127920" cy="1522440"/>
            <a:chOff x="1508040" y="1768320"/>
            <a:chExt cx="6127920" cy="1522440"/>
          </a:xfrm>
        </p:grpSpPr>
        <p:sp>
          <p:nvSpPr>
            <p:cNvPr id="779" name=""/>
            <p:cNvSpPr/>
            <p:nvPr/>
          </p:nvSpPr>
          <p:spPr>
            <a:xfrm>
              <a:off x="4479840" y="1768320"/>
              <a:ext cx="1047960" cy="7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4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|Ẏ|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4479840" y="2557440"/>
              <a:ext cx="10479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4400" spc="-1" strike="noStrike">
                  <a:solidFill>
                    <a:srgbClr val="000000"/>
                  </a:solidFill>
                  <a:latin typeface="Times New Roman"/>
                </a:rPr>
                <a:t>|Ẋ|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1508040" y="2135160"/>
              <a:ext cx="61279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4400" spc="-1" strike="noStrike">
                  <a:solidFill>
                    <a:srgbClr val="000000"/>
                  </a:solidFill>
                  <a:latin typeface="Times New Roman"/>
                </a:rPr>
                <a:t>|H</a:t>
              </a:r>
              <a:r>
                <a:rPr b="0" lang="es-ES" sz="4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s-ES" sz="4400" spc="-1" strike="noStrike">
                  <a:solidFill>
                    <a:srgbClr val="000000"/>
                  </a:solidFill>
                  <a:latin typeface="Times New Roman"/>
                </a:rPr>
                <a:t>f </a:t>
              </a:r>
              <a:r>
                <a:rPr b="0" lang="es-ES" sz="4400" spc="-1" strike="noStrike">
                  <a:solidFill>
                    <a:srgbClr val="000000"/>
                  </a:solidFill>
                  <a:latin typeface="Times New Roman"/>
                </a:rPr>
                <a:t>)|</a:t>
              </a:r>
              <a:r>
                <a:rPr b="1" lang="es-ES" sz="4400" spc="-1" strike="noStrike">
                  <a:solidFill>
                    <a:srgbClr val="000000"/>
                  </a:solidFill>
                  <a:latin typeface="Times New Roman"/>
                </a:rPr>
                <a:t>   =   </a:t>
              </a:r>
              <a:r>
                <a:rPr b="1" lang="es-ES" sz="4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</a:t>
              </a:r>
              <a:r>
                <a:rPr b="1" lang="es-ES" sz="4400" spc="-1" strike="noStrike">
                  <a:solidFill>
                    <a:srgbClr val="000000"/>
                  </a:solidFill>
                  <a:latin typeface="Times New Roman"/>
                </a:rPr>
                <a:t>   =   </a:t>
              </a:r>
              <a:r>
                <a:rPr b="1" lang="es-ES" sz="4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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6119640" y="1768320"/>
              <a:ext cx="1047960" cy="7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4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6119640" y="2557440"/>
              <a:ext cx="10479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4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2A128-92DC-4E61-B3D2-220C28EBFD48}" type="slidenum">
              <a:t>47</a:t>
            </a:fld>
          </a:p>
        </p:txBody>
      </p:sp>
    </p:spTree>
  </p:cSld>
  <p:transition>
    <p:fade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"/>
          <p:cNvSpPr/>
          <p:nvPr/>
        </p:nvSpPr>
        <p:spPr>
          <a:xfrm>
            <a:off x="927000" y="2099520"/>
            <a:ext cx="7290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Un caso particular de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función de transferencia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es la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impedanc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0430D-C7DF-468E-821E-8B19665EC6CE}" type="slidenum">
              <a:t>48</a:t>
            </a:fld>
          </a:p>
        </p:txBody>
      </p:sp>
    </p:spTree>
  </p:cSld>
  <p:transition>
    <p:fade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"/>
          <p:cNvSpPr/>
          <p:nvPr/>
        </p:nvSpPr>
        <p:spPr>
          <a:xfrm>
            <a:off x="927000" y="1794600"/>
            <a:ext cx="7290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La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 Impedancia 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es el cociente de fasores de dos tipos diferentes de variables cuyo producto es una potenc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298DC-37C8-4DD9-8A44-AAB83AE3FC73}" type="slidenum">
              <a:t>49</a:t>
            </a:fld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942840" y="812520"/>
            <a:ext cx="725832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Los conceptos de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entrada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y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salida 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son muy amplios. Nosotros nos centraremos en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señales físicas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como presión sonora, tensión eléctrica, temperatura, velocidad, desplazamiento, todas en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función del tiemp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5A1DB-D369-4143-AC4C-AEBCE9EB8D71}" type="slidenum">
              <a:t>5</a:t>
            </a:fld>
          </a:p>
        </p:txBody>
      </p:sp>
    </p:spTree>
  </p:cSld>
  <p:transition>
    <p:fade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"/>
          <p:cNvSpPr/>
          <p:nvPr/>
        </p:nvSpPr>
        <p:spPr>
          <a:xfrm>
            <a:off x="927000" y="1636200"/>
            <a:ext cx="7290000" cy="28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Ejemplo 1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Impedancia eléctrica 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es el cociente de fasores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tensión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y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corrien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46DA4-7660-49C2-8950-4CB21BD041E4}" type="slidenum">
              <a:t>50</a:t>
            </a:fld>
          </a:p>
        </p:txBody>
      </p:sp>
    </p:spTree>
  </p:cSld>
  <p:transition>
    <p:fade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"/>
          <p:cNvSpPr/>
          <p:nvPr/>
        </p:nvSpPr>
        <p:spPr>
          <a:xfrm>
            <a:off x="927000" y="1636200"/>
            <a:ext cx="7290000" cy="28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Ejemplo 2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Impedancia acústica 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es el cociente de fasores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presión sonora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y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caud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03A55-E407-4A10-8D11-FD52723BF2EC}" type="slidenum">
              <a:t>51</a:t>
            </a:fld>
          </a:p>
        </p:txBody>
      </p:sp>
    </p:spTree>
  </p:cSld>
  <p:transition>
    <p:fade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"/>
          <p:cNvSpPr/>
          <p:nvPr/>
        </p:nvSpPr>
        <p:spPr>
          <a:xfrm>
            <a:off x="927000" y="1636200"/>
            <a:ext cx="7290000" cy="28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Ejemplo 3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Impedancia mecánica 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es el cociente de fasores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fuerza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y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velocida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5184F-9A22-4509-9749-03D77AC0AC9D}" type="slidenum">
              <a:t>52</a:t>
            </a:fld>
          </a:p>
        </p:txBody>
      </p:sp>
    </p:spTree>
  </p:cSld>
  <p:transition>
    <p:fade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00E00-8CF6-49FB-9AF4-E2DF9AF2550C}" type="slidenum">
              <a:t>53</a:t>
            </a:fld>
          </a:p>
        </p:txBody>
      </p:sp>
    </p:spTree>
  </p:cSld>
  <p:transition>
    <p:fade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"/>
          <p:cNvSpPr/>
          <p:nvPr/>
        </p:nvSpPr>
        <p:spPr>
          <a:xfrm>
            <a:off x="1027080" y="455760"/>
            <a:ext cx="708984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d24600"/>
                </a:solidFill>
                <a:latin typeface="Arial"/>
                <a:ea typeface="Arial"/>
              </a:rPr>
              <a:t>Agradecimientos</a:t>
            </a:r>
            <a:br>
              <a:rPr sz="3600"/>
            </a:br>
            <a:r>
              <a:rPr b="1" lang="es-AR" sz="3600" spc="-1" strike="noStrike">
                <a:solidFill>
                  <a:srgbClr val="d24600"/>
                </a:solidFill>
                <a:latin typeface="Wingdings 2"/>
                <a:ea typeface="Wingdings 2"/>
              </a:rPr>
              <a:t>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009999"/>
                </a:solidFill>
                <a:latin typeface="Arial"/>
                <a:ea typeface="Arial"/>
              </a:rPr>
              <a:t>Elizabeth Gonzále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009999"/>
                </a:solidFill>
                <a:latin typeface="Arial"/>
                <a:ea typeface="Arial"/>
              </a:rPr>
              <a:t>Luis Marisquire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009999"/>
                </a:solidFill>
                <a:latin typeface="Arial"/>
                <a:ea typeface="Arial"/>
              </a:rPr>
              <a:t>Universidad de la Repúbl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009999"/>
                </a:solidFill>
                <a:latin typeface="Arial"/>
                <a:ea typeface="Arial"/>
              </a:rPr>
              <a:t>María Victoria Góme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6F510-BF7C-4196-94B4-586F43A59296}" type="slidenum">
              <a:t>54</a:t>
            </a:fld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723960" y="812160"/>
            <a:ext cx="7696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Ejemplo 1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52760" y="2438280"/>
            <a:ext cx="2235240" cy="198936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800440" y="3432240"/>
            <a:ext cx="65232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691080" y="32040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Arial"/>
              </a:rPr>
              <a:t>Pa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88000" y="3432240"/>
            <a:ext cx="65232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7720" y="3021120"/>
            <a:ext cx="2349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Arial"/>
              </a:rPr>
              <a:t>Temperatura exteri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315120" y="3021120"/>
            <a:ext cx="2349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Arial"/>
              </a:rPr>
              <a:t>Temperatura interi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7E13C-2645-45F7-87C0-5BE6D8F9EC79}" type="slidenum">
              <a:t>6</a:t>
            </a:fld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723960" y="812160"/>
            <a:ext cx="7696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Ejemplo 2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52760" y="2438280"/>
            <a:ext cx="2235240" cy="198936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800440" y="3432240"/>
            <a:ext cx="65232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691080" y="32040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Arial"/>
              </a:rPr>
              <a:t>Pa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88000" y="3432240"/>
            <a:ext cx="65232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77720" y="3021120"/>
            <a:ext cx="2349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Arial"/>
              </a:rPr>
              <a:t>Nivel sonoro exteri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315120" y="3021120"/>
            <a:ext cx="2349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Arial"/>
              </a:rPr>
              <a:t>Nivel sonoro interi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EA5C1-1520-4AC8-9738-B5B620621841}" type="slidenum">
              <a:t>7</a:t>
            </a:fld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723960" y="812160"/>
            <a:ext cx="7696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Ejemplo 3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452760" y="2438280"/>
            <a:ext cx="2235240" cy="198936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800440" y="3432240"/>
            <a:ext cx="65232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516480" y="2653560"/>
            <a:ext cx="2178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Arial"/>
              </a:rPr>
              <a:t>Amplificador de audio </a:t>
            </a:r>
            <a:br>
              <a:rPr sz="2400"/>
            </a:br>
            <a:r>
              <a:rPr b="1" lang="es-ES_tradnl" sz="2400" spc="-1" strike="noStrike">
                <a:solidFill>
                  <a:srgbClr val="333399"/>
                </a:solidFill>
                <a:latin typeface="Arial"/>
              </a:rPr>
              <a:t>+</a:t>
            </a:r>
            <a:br>
              <a:rPr sz="2400"/>
            </a:br>
            <a:r>
              <a:rPr b="1" lang="es-ES_tradnl" sz="2400" spc="-1" strike="noStrike">
                <a:solidFill>
                  <a:srgbClr val="333399"/>
                </a:solidFill>
                <a:latin typeface="Arial"/>
              </a:rPr>
              <a:t>Altavo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688000" y="3432240"/>
            <a:ext cx="65232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77720" y="3204000"/>
            <a:ext cx="234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Arial"/>
              </a:rPr>
              <a:t>Señal de aud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315120" y="3204000"/>
            <a:ext cx="247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Arial"/>
              </a:rPr>
              <a:t>Presión sono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F07A6-E404-4052-9144-CB4469C7F421}" type="slidenum">
              <a:t>8</a:t>
            </a:fld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768240" y="1045440"/>
            <a:ext cx="76075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Dentro de las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señales 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hay una familia muy importante, las señales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senoidales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, también llamadas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armónicas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942840" y="4183920"/>
            <a:ext cx="725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s-ES_tradnl" sz="4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)  =  </a:t>
            </a:r>
            <a:r>
              <a:rPr b="0" i="1" lang="es-ES_tradnl" sz="4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 sen(2</a:t>
            </a:r>
            <a:r>
              <a:rPr b="0" lang="es-ES_tradnl" sz="4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i="1" lang="es-ES_tradnl" sz="4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s-ES_tradn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4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728720" y="5333040"/>
            <a:ext cx="164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Arial"/>
              </a:rPr>
              <a:t>Señ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497400" y="5333040"/>
            <a:ext cx="164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Arial"/>
              </a:rPr>
              <a:t>Amplitu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416560" y="5333040"/>
            <a:ext cx="164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Arial"/>
              </a:rPr>
              <a:t>Frecuen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2612880" y="4890960"/>
            <a:ext cx="231840" cy="378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4319640" y="4890960"/>
            <a:ext cx="0" cy="378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5965920" y="4890960"/>
            <a:ext cx="231840" cy="378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FBD05-C855-4948-B218-36EDE1D70872}" type="slidenum">
              <a:t>9</a:t>
            </a:fld>
          </a:p>
        </p:txBody>
      </p:sp>
    </p:spTree>
  </p:cSld>
  <p:transition>
    <p:fade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1-08T05:15:39Z</dcterms:created>
  <dc:creator>WinuE</dc:creator>
  <dc:description/>
  <dc:language>en-US</dc:language>
  <cp:lastModifiedBy>Federico Miyara</cp:lastModifiedBy>
  <dcterms:modified xsi:type="dcterms:W3CDTF">2024-11-08T17:04:34Z</dcterms:modified>
  <cp:revision>216</cp:revision>
  <dc:subject/>
  <dc:title>PSICOACÚSTICA  aplicada a la calidad acústica de espacios educativos.  Materiales absorbentes acústicos reciclados </dc:title>
</cp:coreProperties>
</file>