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4CD-6C58-4F67-A443-CA00774A6E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3C6-27EA-4B36-AD98-34B2FF18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3CE-3B15-439B-9564-AA510D3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549-6ACC-40DE-A3E1-A4125557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CB6-A510-4739-86A0-C64F8C5E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109-3024-4458-8BD0-C47C04A4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61C-AC78-4AF6-B08C-81E005BA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9F2-02DD-4A05-B975-4E47776B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EC6-AA19-4900-84B9-FA8E601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566-EEB9-48AF-A600-510DF75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315-8960-4B6F-914A-97AC9B8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971-8458-4675-93CB-2FAAF59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6A5-7B0E-4387-BD3B-8395F0D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8F40-F478-4CE9-B54D-022AD3C4EC9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FC7-0301-42CB-8AB8-DE2F72EC61C4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0800" y="812520"/>
            <a:ext cx="804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te de un enfoqu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eriment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si bien el objeto principal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hum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similitud morfológica y funcional del oído de todos los mamíferos hace que muchas veces se hagan estudio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elos anim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9F7-8FBA-4AED-8BE3-7BCB294CC1C7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0800" y="1117080"/>
            <a:ext cx="804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ncipio la psicoacústica busca vincular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enómenos perceptiv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sociados a determinadas variables subjetivas,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físicas medi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omo presión sonora, frecuencia, intensida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EB5-3919-4215-B387-F3BC196FD3CD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50800" y="1726560"/>
            <a:ext cx="804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Intenta obten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e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ualitativos y cuantitativos qu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lique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comportamiento de las variables o al menos permit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decir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33F-E99B-425A-B70F-B75A9F07300E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50800" y="1422000"/>
            <a:ext cx="804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ado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hum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tá íntimamente relacionada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unicación o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parato voc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onatori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ambién forma parte del objeto de estudio de la Psicoacú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795-1DDE-4B62-80CE-3A860D4D7880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0800" y="1117080"/>
            <a:ext cx="804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fecto, muchas de las característica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hum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tán hermanadas a las característica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 voc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 tal punto que se sospecha que su desarrol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volutiv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 s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ral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C73-4394-4D22-9B6F-FF6AE4192A55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0800" y="1726560"/>
            <a:ext cx="804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ste curso nos ocuparemos principalmente de los aspect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tiv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unque también abordaremos algunos aspecto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ligibilidad de la pala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FCF-7471-41D1-9AD6-E7CF9DED9986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A18-C18B-495B-BFDB-70B0F9F62423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6BE-123F-4953-87D8-E3A3B5C48864}" type="slidenum">
              <a:t>17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EA3-E24D-47F1-9178-44A2A0023FF5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490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acústica:</a:t>
            </a: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 Disciplina que investiga la percepción y produccioón del sonido en el ser humano y otros animales</a:t>
            </a: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57A-F108-4541-B89E-FF1F87459B3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490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a sido desarrollada principalmente por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ngenieros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y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iofísicos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9BE-1D08-4517-8CAD-9CBD5E96DAB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3320" y="3673440"/>
            <a:ext cx="17258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yörgy Békésy</a:t>
            </a:r>
            <a:r>
              <a:rPr b="1" lang="es-ES_tradnl" sz="4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8200" y="579600"/>
            <a:ext cx="211752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arveyFletcher1.jpg"/>
          <p:cNvPicPr/>
          <p:nvPr/>
        </p:nvPicPr>
        <p:blipFill>
          <a:blip r:embed="rId3"/>
          <a:stretch/>
        </p:blipFill>
        <p:spPr>
          <a:xfrm>
            <a:off x="2800440" y="576360"/>
            <a:ext cx="1914480" cy="295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Resultado de imagen"/>
          <p:cNvPicPr/>
          <p:nvPr/>
        </p:nvPicPr>
        <p:blipFill>
          <a:blip r:embed="rId4"/>
          <a:srcRect l="0" t="0" r="5905" b="8101"/>
          <a:stretch/>
        </p:blipFill>
        <p:spPr>
          <a:xfrm>
            <a:off x="4851360" y="581040"/>
            <a:ext cx="1870200" cy="295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2960" y="3673440"/>
            <a:ext cx="15494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Harvey Flet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1560" y="3673440"/>
            <a:ext cx="15494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Stanley St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69240" y="3673440"/>
            <a:ext cx="15494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berhard Zw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>
            <a:lum contrast="30000"/>
          </a:blip>
          <a:srcRect l="36447" t="29080" r="47685" b="24294"/>
          <a:stretch/>
        </p:blipFill>
        <p:spPr>
          <a:xfrm>
            <a:off x="6802560" y="593640"/>
            <a:ext cx="1881000" cy="29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DBF-1947-488A-812F-B3C272B7698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2840" y="1117080"/>
            <a:ext cx="7258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Buena parte de sus orígenes fue motivada por el desarrollo temprano de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unicaciones eléctr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necesidad de comprender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di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ntro de las cuales debían manej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15E-0C0C-4BA5-963D-71B2479F4853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enfoque disciplinar de la psicoacústica es el de las ciencias duras: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ís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atemá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í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genierí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AEF-3599-4A3C-A2FE-5BF9F41BB75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llegar a la profundidad de la física y la matemática superiores, a menudo se apoya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éto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foqu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dichas cie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3EF-AC89-494E-9FCC-954F59DE8ED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42840" y="812520"/>
            <a:ext cx="725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ncipio tiene poco que ver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logí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unque ciertas cuestiones com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lestia por 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su contracara el diseñ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isajes sono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utiliza lineamientos propio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logía experiment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97E-CB12-4914-B86A-6919CE0A2C8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6:41:42Z</dcterms:modified>
  <cp:revision>212</cp:revision>
  <dc:subject/>
  <dc:title>PSICOACÚSTICA  aplicada a la calidad acústica de espacios educativos.  Materiales absorbentes acústicos reciclados </dc:title>
</cp:coreProperties>
</file>