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DD93-29EB-4847-B69B-2FA36E7C960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02F-37A1-463A-94A4-74685233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9E8-343D-4BF9-99C7-B293B7A6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EDF-A69C-4FD3-AAC3-2F7DD62F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E8A-F3AE-46B9-A919-1B2F6B5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C41-2B02-4BFE-8ED4-40526F67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29-1462-4708-924E-6D0987A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2F5-ADD9-49BC-BCC7-A578B8E3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122-ADBB-4A5F-ABA1-672E397D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C77-B73D-4431-B338-5B8C4ECF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CB3-766C-46DD-B9D9-80145D03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964-C665-41D6-9A70-2F55554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22E-E62B-490F-9DDD-3F6E5CD9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4DC-4CC8-4C71-BE42-A5CCCE36B03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6B-F07B-495E-988D-7CDCF7A52748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7680" y="1726560"/>
            <a:ext cx="810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sí, podemos englobar el conjunto de respuestas sensoriales que ocasiona un sonido dentro del rango auditivo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 son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A6A-8CC2-4C76-8AFE-E32A400229F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ero a los efectos de estudiar esta sensación conviene separarla en diversos aspectos cuantificables: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u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onor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go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erza de fluctu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68C-28F9-4795-B449-5DE37AE64793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7680" y="1726560"/>
            <a:ext cx="810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tonces en cada estudio que realicemos llamarem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la variable seleccionada, por ejemp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 de sono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7E9-A7FC-4977-99FE-D3CC3B100768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d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sociada a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uede depender de var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del 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3CE-FB70-48F8-89EC-D51F2FE0BDAE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onor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pende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r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7AD-CA0D-43E7-AC7F-5BFCA3D201B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suele suceder que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l estímul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 más peso que otras e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percepti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por ejempl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u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pende má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de la inten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E3B-D18D-452E-91ED-4D8232CC3555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7680" y="2915280"/>
            <a:ext cx="810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2F2-8F58-4012-8F7A-071B0AA20766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acú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utilizan los conceptos de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umbrales absolut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diferenci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 de sens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52F-9285-4A9B-9BEC-F1AB874A780A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llam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 absolut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un estímulo físico al val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ími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a situación en la que el estímu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o evoca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guna y aquella en la que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rcibe una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sociable al 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0FD-AF53-49FE-BD99-2D188F420965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60520" y="3451320"/>
            <a:ext cx="547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8120" y="336240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2400" y="1814400"/>
            <a:ext cx="0" cy="176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81400" y="323532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ím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29080" y="370836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mbral ab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9640" y="28605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231720" y="28605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8400" y="1908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 percibe la 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8640" y="1908000"/>
            <a:ext cx="19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 se percibe la 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941-4C29-4734-BEEF-42DD6EF3C73C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1649520"/>
            <a:ext cx="82965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Métodos utilizados en experimentos de Psicoacú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C6A-428C-43E2-B047-A02E4F7597E6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7680" y="2031480"/>
            <a:ext cx="8108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la determinación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í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a que en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ximida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umbral los sujetos experiment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d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5AF-1BEE-43CB-8DA3-BF8B7A8B617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lo se debe tanto 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ciones fisiológ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o psicológ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fecto memor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puede provocar sensación evocativa cuando ni siquiera está el 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DD2-01E4-43DF-AAF3-DCC8A6814610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V="1">
            <a:off x="1643040" y="2050920"/>
            <a:ext cx="0" cy="280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67000" y="4646520"/>
            <a:ext cx="573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8640" y="2523960"/>
            <a:ext cx="544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9560" y="2508120"/>
            <a:ext cx="0" cy="21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8640" y="3584520"/>
            <a:ext cx="55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94960" y="2558880"/>
            <a:ext cx="4843800" cy="2046240"/>
            <a:chOff x="1794960" y="2558880"/>
            <a:chExt cx="4843800" cy="2046240"/>
          </a:xfrm>
        </p:grpSpPr>
        <p:sp>
          <p:nvSpPr>
            <p:cNvPr id="85" name=""/>
            <p:cNvSpPr/>
            <p:nvPr/>
          </p:nvSpPr>
          <p:spPr>
            <a:xfrm>
              <a:off x="4217760" y="2558880"/>
              <a:ext cx="2421000" cy="1020600"/>
            </a:xfrm>
            <a:custGeom>
              <a:avLst/>
              <a:gdLst/>
              <a:ahLst/>
              <a:rect l="l" t="t" r="r" b="b"/>
              <a:pathLst>
                <a:path w="1525" h="643">
                  <a:moveTo>
                    <a:pt x="0" y="643"/>
                  </a:moveTo>
                  <a:lnTo>
                    <a:pt x="91" y="507"/>
                  </a:lnTo>
                  <a:lnTo>
                    <a:pt x="185" y="379"/>
                  </a:lnTo>
                  <a:lnTo>
                    <a:pt x="268" y="289"/>
                  </a:lnTo>
                  <a:lnTo>
                    <a:pt x="360" y="210"/>
                  </a:lnTo>
                  <a:lnTo>
                    <a:pt x="433" y="163"/>
                  </a:lnTo>
                  <a:lnTo>
                    <a:pt x="536" y="116"/>
                  </a:lnTo>
                  <a:lnTo>
                    <a:pt x="645" y="84"/>
                  </a:lnTo>
                  <a:lnTo>
                    <a:pt x="768" y="60"/>
                  </a:lnTo>
                  <a:lnTo>
                    <a:pt x="892" y="40"/>
                  </a:lnTo>
                  <a:lnTo>
                    <a:pt x="1038" y="22"/>
                  </a:lnTo>
                  <a:lnTo>
                    <a:pt x="1128" y="13"/>
                  </a:lnTo>
                  <a:lnTo>
                    <a:pt x="1194" y="9"/>
                  </a:lnTo>
                  <a:lnTo>
                    <a:pt x="1273" y="6"/>
                  </a:lnTo>
                  <a:lnTo>
                    <a:pt x="152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794600" y="3584160"/>
              <a:ext cx="2421000" cy="1020960"/>
            </a:xfrm>
            <a:custGeom>
              <a:avLst/>
              <a:gdLst/>
              <a:ahLst/>
              <a:rect l="l" t="t" r="r" b="b"/>
              <a:pathLst>
                <a:path w="1525" h="643">
                  <a:moveTo>
                    <a:pt x="0" y="643"/>
                  </a:moveTo>
                  <a:lnTo>
                    <a:pt x="91" y="507"/>
                  </a:lnTo>
                  <a:lnTo>
                    <a:pt x="185" y="379"/>
                  </a:lnTo>
                  <a:lnTo>
                    <a:pt x="268" y="289"/>
                  </a:lnTo>
                  <a:lnTo>
                    <a:pt x="360" y="210"/>
                  </a:lnTo>
                  <a:lnTo>
                    <a:pt x="433" y="163"/>
                  </a:lnTo>
                  <a:lnTo>
                    <a:pt x="536" y="116"/>
                  </a:lnTo>
                  <a:lnTo>
                    <a:pt x="645" y="84"/>
                  </a:lnTo>
                  <a:lnTo>
                    <a:pt x="768" y="60"/>
                  </a:lnTo>
                  <a:lnTo>
                    <a:pt x="892" y="40"/>
                  </a:lnTo>
                  <a:lnTo>
                    <a:pt x="1038" y="22"/>
                  </a:lnTo>
                  <a:lnTo>
                    <a:pt x="1128" y="13"/>
                  </a:lnTo>
                  <a:lnTo>
                    <a:pt x="1194" y="9"/>
                  </a:lnTo>
                  <a:lnTo>
                    <a:pt x="1273" y="6"/>
                  </a:lnTo>
                  <a:lnTo>
                    <a:pt x="152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92080" y="1271520"/>
            <a:ext cx="1505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robabilidad de producir sensación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4560" y="2410200"/>
            <a:ext cx="46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4560" y="3457800"/>
            <a:ext cx="46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4560" y="4372200"/>
            <a:ext cx="46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2440" y="4802400"/>
            <a:ext cx="123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Umb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59600" y="4371120"/>
            <a:ext cx="1235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ímulo fí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15040" y="2730240"/>
            <a:ext cx="216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e deben especificar las condiciones y parámetros aso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7AE-1467-4537-BEFD-949553E904F8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s ejemplos son el umbral de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audi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os umbrales inferior y superior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E35-D02D-4ABF-9C14-DE3DA9709EF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diferenci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s apenas percepti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scribe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crem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bsoluto o relativo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necesario para provocar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mbi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preciable e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F22-4B42-432A-B323-C12958E9A481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 pueden medir bajo estímu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t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ula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etectando un cambio entr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os nive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estímulo interrumpidos por un intervalo o ante un cambio continuo per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luctu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6BC-60D8-4665-B746-CAC2E3B97CBD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084320" y="1196280"/>
            <a:ext cx="7029360" cy="1922760"/>
            <a:chOff x="1084320" y="1196280"/>
            <a:chExt cx="7029360" cy="1922760"/>
          </a:xfrm>
        </p:grpSpPr>
        <p:sp>
          <p:nvSpPr>
            <p:cNvPr id="98" name=""/>
            <p:cNvSpPr/>
            <p:nvPr/>
          </p:nvSpPr>
          <p:spPr>
            <a:xfrm>
              <a:off x="4683240" y="131040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Nivel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9280" y="2901960"/>
              <a:ext cx="5342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757520" y="1644480"/>
              <a:ext cx="0" cy="136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5720" y="1841760"/>
              <a:ext cx="4734000" cy="1062000"/>
            </a:xfrm>
            <a:custGeom>
              <a:avLst/>
              <a:gdLst/>
              <a:ahLst/>
              <a:rect l="l" t="t" r="r" b="b"/>
              <a:pathLst>
                <a:path w="2982" h="669">
                  <a:moveTo>
                    <a:pt x="0" y="669"/>
                  </a:moveTo>
                  <a:lnTo>
                    <a:pt x="501" y="669"/>
                  </a:lnTo>
                  <a:lnTo>
                    <a:pt x="501" y="167"/>
                  </a:lnTo>
                  <a:lnTo>
                    <a:pt x="1235" y="167"/>
                  </a:lnTo>
                  <a:lnTo>
                    <a:pt x="1235" y="669"/>
                  </a:lnTo>
                  <a:lnTo>
                    <a:pt x="1848" y="669"/>
                  </a:lnTo>
                  <a:lnTo>
                    <a:pt x="1848" y="0"/>
                  </a:lnTo>
                  <a:lnTo>
                    <a:pt x="2573" y="0"/>
                  </a:lnTo>
                  <a:lnTo>
                    <a:pt x="2573" y="669"/>
                  </a:lnTo>
                  <a:lnTo>
                    <a:pt x="2982" y="6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62120" y="1607400"/>
              <a:ext cx="11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Nivel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04080" y="272016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84320" y="119628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Estím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4320" y="3962880"/>
            <a:ext cx="7029360" cy="1827720"/>
            <a:chOff x="1084320" y="3962880"/>
            <a:chExt cx="7029360" cy="1827720"/>
          </a:xfrm>
        </p:grpSpPr>
        <p:sp>
          <p:nvSpPr>
            <p:cNvPr id="106" name=""/>
            <p:cNvSpPr/>
            <p:nvPr/>
          </p:nvSpPr>
          <p:spPr>
            <a:xfrm>
              <a:off x="1619280" y="5586120"/>
              <a:ext cx="5342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57520" y="4328640"/>
              <a:ext cx="0" cy="136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757520" y="4549680"/>
              <a:ext cx="4882680" cy="230040"/>
              <a:chOff x="1757520" y="4549680"/>
              <a:chExt cx="4882680" cy="230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57520" y="4549680"/>
                <a:ext cx="3663720" cy="230040"/>
                <a:chOff x="1757520" y="4549680"/>
                <a:chExt cx="3663720" cy="23004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1757520" y="4549680"/>
                  <a:ext cx="2443320" cy="230040"/>
                  <a:chOff x="1757520" y="4549680"/>
                  <a:chExt cx="2443320" cy="23004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1757520" y="4549680"/>
                    <a:ext cx="1220400" cy="230040"/>
                    <a:chOff x="1757520" y="4549680"/>
                    <a:chExt cx="1220400" cy="230040"/>
                  </a:xfrm>
                </p:grpSpPr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1757520" y="4549680"/>
                      <a:ext cx="609120" cy="115200"/>
                      <a:chOff x="1757520" y="4549680"/>
                      <a:chExt cx="609120" cy="11520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1757520" y="454968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1"/>
                            </a:moveTo>
                            <a:lnTo>
                              <a:pt x="1042" y="18390"/>
                            </a:lnTo>
                            <a:lnTo>
                              <a:pt x="1958" y="16873"/>
                            </a:lnTo>
                            <a:lnTo>
                              <a:pt x="3000" y="15356"/>
                            </a:lnTo>
                            <a:lnTo>
                              <a:pt x="3958" y="13747"/>
                            </a:lnTo>
                            <a:lnTo>
                              <a:pt x="5042" y="12340"/>
                            </a:lnTo>
                            <a:lnTo>
                              <a:pt x="5958" y="10953"/>
                            </a:lnTo>
                            <a:lnTo>
                              <a:pt x="7000" y="9584"/>
                            </a:lnTo>
                            <a:lnTo>
                              <a:pt x="7958" y="8252"/>
                            </a:lnTo>
                            <a:lnTo>
                              <a:pt x="9000" y="7012"/>
                            </a:lnTo>
                            <a:lnTo>
                              <a:pt x="10042" y="5920"/>
                            </a:lnTo>
                            <a:lnTo>
                              <a:pt x="11000" y="4847"/>
                            </a:lnTo>
                            <a:lnTo>
                              <a:pt x="12000" y="3793"/>
                            </a:lnTo>
                            <a:lnTo>
                              <a:pt x="12958" y="3016"/>
                            </a:lnTo>
                            <a:lnTo>
                              <a:pt x="14042" y="2239"/>
                            </a:lnTo>
                            <a:lnTo>
                              <a:pt x="14958" y="1536"/>
                            </a:lnTo>
                            <a:lnTo>
                              <a:pt x="16000" y="962"/>
                            </a:lnTo>
                            <a:lnTo>
                              <a:pt x="16958" y="592"/>
                            </a:lnTo>
                            <a:lnTo>
                              <a:pt x="18042" y="222"/>
                            </a:lnTo>
                            <a:lnTo>
                              <a:pt x="18917" y="37"/>
                            </a:lnTo>
                            <a:lnTo>
                              <a:pt x="1995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062080" y="454968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19981"/>
                            </a:moveTo>
                            <a:lnTo>
                              <a:pt x="18958" y="18390"/>
                            </a:lnTo>
                            <a:lnTo>
                              <a:pt x="18042" y="16873"/>
                            </a:lnTo>
                            <a:lnTo>
                              <a:pt x="17000" y="15356"/>
                            </a:lnTo>
                            <a:lnTo>
                              <a:pt x="16042" y="13747"/>
                            </a:lnTo>
                            <a:lnTo>
                              <a:pt x="14958" y="12340"/>
                            </a:lnTo>
                            <a:lnTo>
                              <a:pt x="14042" y="10953"/>
                            </a:lnTo>
                            <a:lnTo>
                              <a:pt x="12958" y="9584"/>
                            </a:lnTo>
                            <a:lnTo>
                              <a:pt x="12000" y="8252"/>
                            </a:lnTo>
                            <a:lnTo>
                              <a:pt x="11000" y="7012"/>
                            </a:lnTo>
                            <a:lnTo>
                              <a:pt x="10042" y="5920"/>
                            </a:lnTo>
                            <a:lnTo>
                              <a:pt x="9000" y="4847"/>
                            </a:lnTo>
                            <a:lnTo>
                              <a:pt x="8000" y="3793"/>
                            </a:lnTo>
                            <a:lnTo>
                              <a:pt x="7000" y="3016"/>
                            </a:lnTo>
                            <a:lnTo>
                              <a:pt x="6042" y="2239"/>
                            </a:lnTo>
                            <a:lnTo>
                              <a:pt x="5042" y="1536"/>
                            </a:lnTo>
                            <a:lnTo>
                              <a:pt x="4000" y="962"/>
                            </a:lnTo>
                            <a:lnTo>
                              <a:pt x="3000" y="592"/>
                            </a:lnTo>
                            <a:lnTo>
                              <a:pt x="2042" y="222"/>
                            </a:lnTo>
                            <a:lnTo>
                              <a:pt x="1042" y="3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5" name=""/>
                    <p:cNvGrpSpPr/>
                    <p:nvPr/>
                  </p:nvGrpSpPr>
                  <p:grpSpPr>
                    <a:xfrm>
                      <a:off x="2368800" y="4664520"/>
                      <a:ext cx="609120" cy="115200"/>
                      <a:chOff x="2368800" y="4664520"/>
                      <a:chExt cx="609120" cy="115200"/>
                    </a:xfrm>
                  </p:grpSpPr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236880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042" y="1591"/>
                            </a:lnTo>
                            <a:lnTo>
                              <a:pt x="1958" y="3108"/>
                            </a:lnTo>
                            <a:lnTo>
                              <a:pt x="3000" y="4625"/>
                            </a:lnTo>
                            <a:lnTo>
                              <a:pt x="3958" y="6253"/>
                            </a:lnTo>
                            <a:lnTo>
                              <a:pt x="5042" y="7660"/>
                            </a:lnTo>
                            <a:lnTo>
                              <a:pt x="5958" y="9029"/>
                            </a:lnTo>
                            <a:lnTo>
                              <a:pt x="7000" y="10416"/>
                            </a:lnTo>
                            <a:lnTo>
                              <a:pt x="7958" y="11730"/>
                            </a:lnTo>
                            <a:lnTo>
                              <a:pt x="9000" y="12969"/>
                            </a:lnTo>
                            <a:lnTo>
                              <a:pt x="10042" y="14080"/>
                            </a:lnTo>
                            <a:lnTo>
                              <a:pt x="11000" y="15134"/>
                            </a:lnTo>
                            <a:lnTo>
                              <a:pt x="12000" y="16189"/>
                            </a:lnTo>
                            <a:lnTo>
                              <a:pt x="12958" y="16984"/>
                            </a:lnTo>
                            <a:lnTo>
                              <a:pt x="14042" y="17743"/>
                            </a:lnTo>
                            <a:lnTo>
                              <a:pt x="14958" y="18464"/>
                            </a:lnTo>
                            <a:lnTo>
                              <a:pt x="16000" y="19019"/>
                            </a:lnTo>
                            <a:lnTo>
                              <a:pt x="16958" y="19408"/>
                            </a:lnTo>
                            <a:lnTo>
                              <a:pt x="18042" y="19759"/>
                            </a:lnTo>
                            <a:lnTo>
                              <a:pt x="18917" y="19944"/>
                            </a:lnTo>
                            <a:lnTo>
                              <a:pt x="19958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267336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0"/>
                            </a:moveTo>
                            <a:lnTo>
                              <a:pt x="18958" y="1591"/>
                            </a:lnTo>
                            <a:lnTo>
                              <a:pt x="18042" y="3108"/>
                            </a:lnTo>
                            <a:lnTo>
                              <a:pt x="17000" y="4625"/>
                            </a:lnTo>
                            <a:lnTo>
                              <a:pt x="16042" y="6253"/>
                            </a:lnTo>
                            <a:lnTo>
                              <a:pt x="14958" y="7660"/>
                            </a:lnTo>
                            <a:lnTo>
                              <a:pt x="14042" y="9029"/>
                            </a:lnTo>
                            <a:lnTo>
                              <a:pt x="12958" y="10416"/>
                            </a:lnTo>
                            <a:lnTo>
                              <a:pt x="12000" y="11730"/>
                            </a:lnTo>
                            <a:lnTo>
                              <a:pt x="11000" y="12969"/>
                            </a:lnTo>
                            <a:lnTo>
                              <a:pt x="10042" y="14080"/>
                            </a:lnTo>
                            <a:lnTo>
                              <a:pt x="9000" y="15134"/>
                            </a:lnTo>
                            <a:lnTo>
                              <a:pt x="8000" y="16189"/>
                            </a:lnTo>
                            <a:lnTo>
                              <a:pt x="7000" y="16984"/>
                            </a:lnTo>
                            <a:lnTo>
                              <a:pt x="6042" y="17743"/>
                            </a:lnTo>
                            <a:lnTo>
                              <a:pt x="5042" y="18464"/>
                            </a:lnTo>
                            <a:lnTo>
                              <a:pt x="4000" y="19019"/>
                            </a:lnTo>
                            <a:lnTo>
                              <a:pt x="3000" y="19408"/>
                            </a:lnTo>
                            <a:lnTo>
                              <a:pt x="2042" y="19759"/>
                            </a:lnTo>
                            <a:lnTo>
                              <a:pt x="1042" y="19944"/>
                            </a:lnTo>
                            <a:lnTo>
                              <a:pt x="0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978640" y="4549680"/>
                    <a:ext cx="1222200" cy="230040"/>
                    <a:chOff x="2978640" y="4549680"/>
                    <a:chExt cx="1222200" cy="230040"/>
                  </a:xfrm>
                </p:grpSpPr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2978640" y="4549680"/>
                      <a:ext cx="610200" cy="115200"/>
                      <a:chOff x="2978640" y="4549680"/>
                      <a:chExt cx="610200" cy="11520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2978640" y="4549680"/>
                        <a:ext cx="30492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1"/>
                            </a:moveTo>
                            <a:lnTo>
                              <a:pt x="1042" y="18390"/>
                            </a:lnTo>
                            <a:lnTo>
                              <a:pt x="1958" y="16873"/>
                            </a:lnTo>
                            <a:lnTo>
                              <a:pt x="3000" y="15356"/>
                            </a:lnTo>
                            <a:lnTo>
                              <a:pt x="3958" y="13747"/>
                            </a:lnTo>
                            <a:lnTo>
                              <a:pt x="5042" y="12340"/>
                            </a:lnTo>
                            <a:lnTo>
                              <a:pt x="5958" y="10953"/>
                            </a:lnTo>
                            <a:lnTo>
                              <a:pt x="7000" y="9584"/>
                            </a:lnTo>
                            <a:lnTo>
                              <a:pt x="7958" y="8252"/>
                            </a:lnTo>
                            <a:lnTo>
                              <a:pt x="9000" y="7012"/>
                            </a:lnTo>
                            <a:lnTo>
                              <a:pt x="10042" y="5920"/>
                            </a:lnTo>
                            <a:lnTo>
                              <a:pt x="11000" y="4847"/>
                            </a:lnTo>
                            <a:lnTo>
                              <a:pt x="12000" y="3793"/>
                            </a:lnTo>
                            <a:lnTo>
                              <a:pt x="12958" y="3016"/>
                            </a:lnTo>
                            <a:lnTo>
                              <a:pt x="14042" y="2239"/>
                            </a:lnTo>
                            <a:lnTo>
                              <a:pt x="14958" y="1536"/>
                            </a:lnTo>
                            <a:lnTo>
                              <a:pt x="16000" y="962"/>
                            </a:lnTo>
                            <a:lnTo>
                              <a:pt x="16958" y="592"/>
                            </a:lnTo>
                            <a:lnTo>
                              <a:pt x="18042" y="222"/>
                            </a:lnTo>
                            <a:lnTo>
                              <a:pt x="18917" y="37"/>
                            </a:lnTo>
                            <a:lnTo>
                              <a:pt x="1995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283920" y="4549680"/>
                        <a:ext cx="30492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19981"/>
                            </a:moveTo>
                            <a:lnTo>
                              <a:pt x="18958" y="18390"/>
                            </a:lnTo>
                            <a:lnTo>
                              <a:pt x="18042" y="16873"/>
                            </a:lnTo>
                            <a:lnTo>
                              <a:pt x="17000" y="15356"/>
                            </a:lnTo>
                            <a:lnTo>
                              <a:pt x="16042" y="13747"/>
                            </a:lnTo>
                            <a:lnTo>
                              <a:pt x="14958" y="12340"/>
                            </a:lnTo>
                            <a:lnTo>
                              <a:pt x="14042" y="10953"/>
                            </a:lnTo>
                            <a:lnTo>
                              <a:pt x="12958" y="9584"/>
                            </a:lnTo>
                            <a:lnTo>
                              <a:pt x="12000" y="8252"/>
                            </a:lnTo>
                            <a:lnTo>
                              <a:pt x="11000" y="7012"/>
                            </a:lnTo>
                            <a:lnTo>
                              <a:pt x="10042" y="5920"/>
                            </a:lnTo>
                            <a:lnTo>
                              <a:pt x="9000" y="4847"/>
                            </a:lnTo>
                            <a:lnTo>
                              <a:pt x="8000" y="3793"/>
                            </a:lnTo>
                            <a:lnTo>
                              <a:pt x="7000" y="3016"/>
                            </a:lnTo>
                            <a:lnTo>
                              <a:pt x="6042" y="2239"/>
                            </a:lnTo>
                            <a:lnTo>
                              <a:pt x="5042" y="1536"/>
                            </a:lnTo>
                            <a:lnTo>
                              <a:pt x="4000" y="962"/>
                            </a:lnTo>
                            <a:lnTo>
                              <a:pt x="3000" y="592"/>
                            </a:lnTo>
                            <a:lnTo>
                              <a:pt x="2042" y="222"/>
                            </a:lnTo>
                            <a:lnTo>
                              <a:pt x="1042" y="3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3589560" y="4664520"/>
                      <a:ext cx="611280" cy="115200"/>
                      <a:chOff x="3589560" y="4664520"/>
                      <a:chExt cx="611280" cy="11520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58956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042" y="1591"/>
                            </a:lnTo>
                            <a:lnTo>
                              <a:pt x="1958" y="3108"/>
                            </a:lnTo>
                            <a:lnTo>
                              <a:pt x="3000" y="4625"/>
                            </a:lnTo>
                            <a:lnTo>
                              <a:pt x="3958" y="6253"/>
                            </a:lnTo>
                            <a:lnTo>
                              <a:pt x="5042" y="7660"/>
                            </a:lnTo>
                            <a:lnTo>
                              <a:pt x="5958" y="9029"/>
                            </a:lnTo>
                            <a:lnTo>
                              <a:pt x="7000" y="10416"/>
                            </a:lnTo>
                            <a:lnTo>
                              <a:pt x="7958" y="11730"/>
                            </a:lnTo>
                            <a:lnTo>
                              <a:pt x="9000" y="12969"/>
                            </a:lnTo>
                            <a:lnTo>
                              <a:pt x="10042" y="14080"/>
                            </a:lnTo>
                            <a:lnTo>
                              <a:pt x="11000" y="15134"/>
                            </a:lnTo>
                            <a:lnTo>
                              <a:pt x="12000" y="16189"/>
                            </a:lnTo>
                            <a:lnTo>
                              <a:pt x="12958" y="16984"/>
                            </a:lnTo>
                            <a:lnTo>
                              <a:pt x="14042" y="17743"/>
                            </a:lnTo>
                            <a:lnTo>
                              <a:pt x="14958" y="18464"/>
                            </a:lnTo>
                            <a:lnTo>
                              <a:pt x="16000" y="19019"/>
                            </a:lnTo>
                            <a:lnTo>
                              <a:pt x="16958" y="19408"/>
                            </a:lnTo>
                            <a:lnTo>
                              <a:pt x="18042" y="19759"/>
                            </a:lnTo>
                            <a:lnTo>
                              <a:pt x="18917" y="19944"/>
                            </a:lnTo>
                            <a:lnTo>
                              <a:pt x="19958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89628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0"/>
                            </a:moveTo>
                            <a:lnTo>
                              <a:pt x="18958" y="1591"/>
                            </a:lnTo>
                            <a:lnTo>
                              <a:pt x="18042" y="3108"/>
                            </a:lnTo>
                            <a:lnTo>
                              <a:pt x="17000" y="4625"/>
                            </a:lnTo>
                            <a:lnTo>
                              <a:pt x="16042" y="6253"/>
                            </a:lnTo>
                            <a:lnTo>
                              <a:pt x="14958" y="7660"/>
                            </a:lnTo>
                            <a:lnTo>
                              <a:pt x="14042" y="9029"/>
                            </a:lnTo>
                            <a:lnTo>
                              <a:pt x="12958" y="10416"/>
                            </a:lnTo>
                            <a:lnTo>
                              <a:pt x="12000" y="11730"/>
                            </a:lnTo>
                            <a:lnTo>
                              <a:pt x="11000" y="12969"/>
                            </a:lnTo>
                            <a:lnTo>
                              <a:pt x="10042" y="14080"/>
                            </a:lnTo>
                            <a:lnTo>
                              <a:pt x="9000" y="15134"/>
                            </a:lnTo>
                            <a:lnTo>
                              <a:pt x="8000" y="16189"/>
                            </a:lnTo>
                            <a:lnTo>
                              <a:pt x="7000" y="16984"/>
                            </a:lnTo>
                            <a:lnTo>
                              <a:pt x="6042" y="17743"/>
                            </a:lnTo>
                            <a:lnTo>
                              <a:pt x="5042" y="18464"/>
                            </a:lnTo>
                            <a:lnTo>
                              <a:pt x="4000" y="19019"/>
                            </a:lnTo>
                            <a:lnTo>
                              <a:pt x="3000" y="19408"/>
                            </a:lnTo>
                            <a:lnTo>
                              <a:pt x="2042" y="19759"/>
                            </a:lnTo>
                            <a:lnTo>
                              <a:pt x="1042" y="19944"/>
                            </a:lnTo>
                            <a:lnTo>
                              <a:pt x="0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4200120" y="4549680"/>
                  <a:ext cx="1221120" cy="230040"/>
                  <a:chOff x="4200120" y="4549680"/>
                  <a:chExt cx="1221120" cy="230040"/>
                </a:xfrm>
              </p:grpSpPr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4200120" y="4549680"/>
                    <a:ext cx="609840" cy="115200"/>
                    <a:chOff x="4200120" y="4549680"/>
                    <a:chExt cx="609840" cy="11520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200120" y="454968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505400" y="454968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4811400" y="4664520"/>
                    <a:ext cx="609840" cy="115200"/>
                    <a:chOff x="4811400" y="4664520"/>
                    <a:chExt cx="609840" cy="1152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811400" y="466452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5116680" y="466452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5419800" y="4549680"/>
                <a:ext cx="1220400" cy="230040"/>
                <a:chOff x="5419800" y="4549680"/>
                <a:chExt cx="1220400" cy="23004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5419800" y="4549680"/>
                  <a:ext cx="609120" cy="115200"/>
                  <a:chOff x="5419800" y="4549680"/>
                  <a:chExt cx="609120" cy="1152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419800" y="454968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724360" y="454968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031080" y="4664520"/>
                  <a:ext cx="609120" cy="115200"/>
                  <a:chOff x="6031080" y="4664520"/>
                  <a:chExt cx="609120" cy="1152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031080" y="466452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335640" y="466452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9" name=""/>
            <p:cNvSpPr/>
            <p:nvPr/>
          </p:nvSpPr>
          <p:spPr>
            <a:xfrm>
              <a:off x="3465360" y="403920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odul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4080" y="539172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4320" y="396288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Estím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91B-AABA-46EB-B353-349D7A32CFC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diferencias apenas perceptib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do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8A9-89BF-4954-9406-3E7C3D5729A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experimen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buscan encontrar un estímulo con ciertas características que se perciba co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ismo nive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ciert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otro sonid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249-E561-476A-93FE-D567F22E387D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203148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 podríamos buscar un to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50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mente sono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u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1 k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60 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5F1-4D05-44A6-A66E-956CCC2197C0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171-833A-4F62-B178-F8CCF5D1CC7D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083120" y="238068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gualmente son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00400" y="2055600"/>
            <a:ext cx="0" cy="29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1240" y="4805280"/>
            <a:ext cx="520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5760" y="357516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1120" y="304308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10040" y="366552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0440" y="3132000"/>
            <a:ext cx="0" cy="166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93560" y="3087720"/>
            <a:ext cx="134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12640" y="3619440"/>
            <a:ext cx="255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1000" y="3430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6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5760" y="48020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2520" y="4802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5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2320" y="168768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4760" y="2801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64160" y="4621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561400">
            <a:off x="4340880" y="2468880"/>
            <a:ext cx="206280" cy="1287360"/>
          </a:xfrm>
          <a:custGeom>
            <a:avLst/>
            <a:gdLst>
              <a:gd name="textAreaLeft" fmla="*/ 0 w 206280"/>
              <a:gd name="textAreaRight" fmla="*/ 74520 w 20628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D8E-1C83-4256-99E7-85BAF514D70F}" type="slidenum">
              <a:t>30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203148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el resultado está afectado por ciert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per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an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rasuj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rsu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B31-596B-42C1-8C67-63FF42A8E286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flipV="1">
            <a:off x="1935000" y="1835280"/>
            <a:ext cx="0" cy="34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5320" y="5024520"/>
            <a:ext cx="604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21200" y="3597120"/>
            <a:ext cx="8892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64040" y="370188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59320" y="2532240"/>
            <a:ext cx="0" cy="24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27080" y="3041640"/>
            <a:ext cx="301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949040" y="3649680"/>
            <a:ext cx="29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94040" y="3430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6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56520" y="5021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99600" y="5021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5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24760" y="140796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9240" y="2700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34320" y="4811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156280" y="3005280"/>
            <a:ext cx="1915920" cy="714240"/>
            <a:chOff x="5156280" y="3005280"/>
            <a:chExt cx="1915920" cy="714240"/>
          </a:xfrm>
        </p:grpSpPr>
        <p:sp>
          <p:nvSpPr>
            <p:cNvPr id="176" name=""/>
            <p:cNvSpPr/>
            <p:nvPr/>
          </p:nvSpPr>
          <p:spPr>
            <a:xfrm>
              <a:off x="5156280" y="3015720"/>
              <a:ext cx="19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Igualmente sono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6120" y="3005280"/>
              <a:ext cx="114120" cy="7142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18360 h 714240"/>
                <a:gd name="textAreaBottom" fmla="*/ 6958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16480" y="30956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6480" y="32432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6480" y="304308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16480" y="298116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16480" y="29336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16480" y="27716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6480" y="260496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16480" y="28670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16480" y="33908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16480" y="243828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86200" y="2152800"/>
            <a:ext cx="600120" cy="1900080"/>
            <a:chOff x="3886200" y="2152800"/>
            <a:chExt cx="600120" cy="1900080"/>
          </a:xfrm>
        </p:grpSpPr>
        <p:sp>
          <p:nvSpPr>
            <p:cNvPr id="189" name=""/>
            <p:cNvSpPr/>
            <p:nvPr/>
          </p:nvSpPr>
          <p:spPr>
            <a:xfrm flipV="1">
              <a:off x="3938760" y="2152800"/>
              <a:ext cx="0" cy="19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3805200" y="2471400"/>
              <a:ext cx="701640" cy="42552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4880" y="3035160"/>
              <a:ext cx="424080" cy="920880"/>
            </a:xfrm>
            <a:custGeom>
              <a:avLst/>
              <a:gdLst/>
              <a:ahLst/>
              <a:rect l="l" t="t" r="r" b="b"/>
              <a:pathLst>
                <a:path w="267" h="580">
                  <a:moveTo>
                    <a:pt x="2" y="580"/>
                  </a:moveTo>
                  <a:lnTo>
                    <a:pt x="1" y="380"/>
                  </a:lnTo>
                  <a:lnTo>
                    <a:pt x="0" y="350"/>
                  </a:lnTo>
                  <a:lnTo>
                    <a:pt x="1" y="328"/>
                  </a:lnTo>
                  <a:lnTo>
                    <a:pt x="3" y="298"/>
                  </a:lnTo>
                  <a:lnTo>
                    <a:pt x="6" y="269"/>
                  </a:lnTo>
                  <a:lnTo>
                    <a:pt x="12" y="243"/>
                  </a:lnTo>
                  <a:lnTo>
                    <a:pt x="18" y="228"/>
                  </a:lnTo>
                  <a:lnTo>
                    <a:pt x="24" y="214"/>
                  </a:lnTo>
                  <a:lnTo>
                    <a:pt x="33" y="200"/>
                  </a:lnTo>
                  <a:lnTo>
                    <a:pt x="43" y="186"/>
                  </a:lnTo>
                  <a:lnTo>
                    <a:pt x="59" y="169"/>
                  </a:lnTo>
                  <a:lnTo>
                    <a:pt x="74" y="156"/>
                  </a:lnTo>
                  <a:lnTo>
                    <a:pt x="97" y="139"/>
                  </a:lnTo>
                  <a:lnTo>
                    <a:pt x="120" y="123"/>
                  </a:lnTo>
                  <a:lnTo>
                    <a:pt x="141" y="109"/>
                  </a:lnTo>
                  <a:lnTo>
                    <a:pt x="165" y="95"/>
                  </a:lnTo>
                  <a:lnTo>
                    <a:pt x="188" y="81"/>
                  </a:lnTo>
                  <a:lnTo>
                    <a:pt x="206" y="69"/>
                  </a:lnTo>
                  <a:lnTo>
                    <a:pt x="220" y="60"/>
                  </a:lnTo>
                  <a:lnTo>
                    <a:pt x="234" y="49"/>
                  </a:lnTo>
                  <a:lnTo>
                    <a:pt x="247" y="38"/>
                  </a:lnTo>
                  <a:lnTo>
                    <a:pt x="256" y="27"/>
                  </a:lnTo>
                  <a:lnTo>
                    <a:pt x="262" y="18"/>
                  </a:lnTo>
                  <a:lnTo>
                    <a:pt x="266" y="7"/>
                  </a:lnTo>
                  <a:lnTo>
                    <a:pt x="267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6200" y="3962520"/>
              <a:ext cx="6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BC8-DBDE-44D2-9B0F-CE174EDAA82B}" type="slidenum">
              <a:t>32</a:t>
            </a:fld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26920" y="1117080"/>
            <a:ext cx="7490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últim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 de sens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busca obtener un estímulo tal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sociada sea mayor e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ada que la correspondiente a un estímul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ADA-2C8B-4B4B-B32D-9CA38C670A6B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podríamos busca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 sonido que s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a mitad de agu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un sonid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800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60 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0B8-23D6-48C0-A93E-8A44F9CE55DA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1843200" y="2169720"/>
            <a:ext cx="0" cy="296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919760"/>
            <a:ext cx="520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6200" y="261288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93920" y="374976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0480" y="2703600"/>
            <a:ext cx="0" cy="21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3851280"/>
            <a:ext cx="0" cy="10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36360" y="3794040"/>
            <a:ext cx="134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65560" y="246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69840" y="4916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80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39120" y="4863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31840" y="147312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Variable de s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89680" y="47214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ím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828800" y="2657520"/>
            <a:ext cx="323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75120" y="362124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CCE-3976-48E9-BB9D-2427B2481D9F}" type="slidenum">
              <a:t>35</a:t>
            </a:fld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determina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 de sens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una tar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 difíci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la búsqued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9C5-7C23-41D5-B1B0-1BA39297B991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4880" y="2031480"/>
            <a:ext cx="7194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lo se debe a que en general no hay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oción a prior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esca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on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sens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433-DABD-4DC9-8D9E-B4D1CD23DE08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74880" y="2031480"/>
            <a:ext cx="7194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algunos casos es posible sugerir pautas que lleven a una situación de búsqued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C41-1C2A-4790-A83E-C18ABC77834F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7680" y="2915280"/>
            <a:ext cx="810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Métod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CDB-3322-4856-A242-CACFA9CAEDE7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1726560"/>
            <a:ext cx="810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particularidades de las variables involucrada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acú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implican la necesidad de métodos específicos de experi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ADB-5FEE-4C91-AA70-F3D79DBB6117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la tarea de correlacion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de 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perceptiv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pueden utilizar varios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E33-EA40-4A48-9811-42C57D20092E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mer lugar tenemo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étodo de ajus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el sujeto controla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a variabl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cance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gú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ig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E46-E6D5-4133-8F38-0B93F11D1296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podrí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just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 de presión son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 sonido hasta que resul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mente sono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u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1F2-F9D4-41D2-8938-2263916999B0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74880" y="507600"/>
            <a:ext cx="7194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segundo lugar está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étodo de seguimi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n el que el sujeto controla la dirección de evolución (creciente o decreciente) de  una variabl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ratando de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mantenga en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gú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ig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CCE-AF7F-4E84-86EA-12C4B0025B4B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es el audiómetr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ékésy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el estado que se busca es el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bil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El sujeto hac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rece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nivel hasta s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b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uego lo hac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volver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udib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220-4EDC-4037-B646-99A0E9F90B08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equipo lleva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gis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st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mut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t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variación, lo que permite reconstruir los niveles que había en el momento de cada conmu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964-E1B5-4608-A1A1-EAFB9465D784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042920" y="770040"/>
            <a:ext cx="7058160" cy="5032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87480" y="6273720"/>
            <a:ext cx="721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Zwicker, Eberhard; Fastl, Hugo (1999) </a:t>
            </a:r>
            <a:r>
              <a:rPr b="1" i="1" lang="es-ES_tradnl" sz="1400" spc="-1" strike="noStrike">
                <a:solidFill>
                  <a:srgbClr val="333399"/>
                </a:solidFill>
                <a:latin typeface="Arial"/>
              </a:rPr>
              <a:t>Psychocoustics. Facts and models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. Sp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929-73D1-4651-A9F4-3BAC1ECCD036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tercer método es el de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s const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Se presenta una seri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es fij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variable de estímulo y ante cada uno el suje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cla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mp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n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di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seada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CF5-3D9D-48EE-A19B-2F9722727BB0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19200" y="4195800"/>
            <a:ext cx="470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156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0200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400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0720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43208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 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57192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59704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 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54500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51400" y="3973680"/>
            <a:ext cx="12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ím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393-EFC6-4A5B-9F12-D473CDA7A208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74880" y="1422000"/>
            <a:ext cx="719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es el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ometría ton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lásica, donde se presentan tonos de diferent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el sujeto dice si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cuch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no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801-4A8B-4B2B-AA6B-F0A9193BA2B9}" type="slidenum">
              <a:t>49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mer lugar debemos distinguir los concep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A5F-B7B2-4B45-B758-C679998CC8B1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74880" y="1422000"/>
            <a:ext cx="719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método suele ser más rápido y permite además particip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imultáneam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ujetos. La desventaja es que se pierde precis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010-D3FF-409B-98F7-32301FADF7D2}" type="slidenum">
              <a:t>50</a:t>
            </a:fld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43120" y="2031480"/>
            <a:ext cx="745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todos los métodos existe algún grad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per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los resultados, no só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rsuj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n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rasu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B67-F8FC-4493-88C9-3EB33FEBAE41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3120" y="2031480"/>
            <a:ext cx="745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l caso intersujetos se debe a la considerabl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il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existe entre diferentes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153-C81B-4625-AA58-DD74979C7C13}" type="slidenum">
              <a:t>52</a:t>
            </a:fld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3120" y="1726560"/>
            <a:ext cx="7457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reducirla se deben seleccionar aleatoria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ujet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o má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homogéne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ea posible a los efectos del estu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C2F-9E69-4D09-979B-FF75720C56D3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43120" y="812520"/>
            <a:ext cx="745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 si se desea obtener resultados par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ujetos otológicamente norm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preciso hacer un cribado entre los potenciales participantes descartando aquellos que present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omal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A89-16D8-4E87-B34D-25339F352913}" type="slidenum">
              <a:t>54</a:t>
            </a:fld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43120" y="812520"/>
            <a:ext cx="745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, por el contrario, se pretendiera estudiar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onocimiento de fonem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personas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hipoacus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ría preciso establecer grados de hipoacusia y promediar resultados para cada ni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1F1-E01D-40D3-8CD7-19FE6A005E12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43120" y="812520"/>
            <a:ext cx="745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studios donde participa un número considerable de sujetos conviene reporta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tribución estadí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cada resultado, por ejemp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edi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rti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o algun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rcenti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gnificati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65B-1289-48AA-AE03-BA7005C0F06D}" type="slidenum">
              <a:t>56</a:t>
            </a:fld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242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91120" y="247968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035600" y="3200400"/>
            <a:ext cx="8222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471492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21E-4AE0-4077-8766-7C519969C7EE}" type="slidenum">
              <a:t>57</a:t>
            </a:fld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727280" y="3168720"/>
            <a:ext cx="2308320" cy="1324080"/>
          </a:xfrm>
          <a:custGeom>
            <a:avLst/>
            <a:gdLst/>
            <a:ahLst/>
            <a:rect l="l" t="t" r="r" b="b"/>
            <a:pathLst>
              <a:path w="1454" h="834">
                <a:moveTo>
                  <a:pt x="0" y="834"/>
                </a:moveTo>
                <a:lnTo>
                  <a:pt x="342" y="834"/>
                </a:lnTo>
                <a:lnTo>
                  <a:pt x="486" y="824"/>
                </a:lnTo>
                <a:lnTo>
                  <a:pt x="554" y="822"/>
                </a:lnTo>
                <a:lnTo>
                  <a:pt x="656" y="808"/>
                </a:lnTo>
                <a:lnTo>
                  <a:pt x="768" y="784"/>
                </a:lnTo>
                <a:lnTo>
                  <a:pt x="880" y="744"/>
                </a:lnTo>
                <a:lnTo>
                  <a:pt x="1058" y="602"/>
                </a:lnTo>
                <a:lnTo>
                  <a:pt x="1142" y="490"/>
                </a:lnTo>
                <a:lnTo>
                  <a:pt x="1226" y="378"/>
                </a:lnTo>
                <a:lnTo>
                  <a:pt x="1290" y="272"/>
                </a:lnTo>
                <a:lnTo>
                  <a:pt x="1368" y="142"/>
                </a:lnTo>
                <a:lnTo>
                  <a:pt x="1454" y="0"/>
                </a:lnTo>
                <a:lnTo>
                  <a:pt x="1454" y="832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266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191120" y="247968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4035600" y="3200400"/>
            <a:ext cx="8222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49600" y="47307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68800" y="415836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8FD-C63E-477C-9CF9-98582A462327}" type="slidenum">
              <a:t>58</a:t>
            </a:fld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27280" y="2800440"/>
            <a:ext cx="2716200" cy="1695240"/>
          </a:xfrm>
          <a:custGeom>
            <a:avLst/>
            <a:gdLst/>
            <a:ahLst/>
            <a:rect l="l" t="t" r="r" b="b"/>
            <a:pathLst>
              <a:path w="1711" h="1068">
                <a:moveTo>
                  <a:pt x="0" y="1066"/>
                </a:moveTo>
                <a:lnTo>
                  <a:pt x="342" y="1066"/>
                </a:lnTo>
                <a:lnTo>
                  <a:pt x="486" y="1056"/>
                </a:lnTo>
                <a:lnTo>
                  <a:pt x="554" y="1054"/>
                </a:lnTo>
                <a:lnTo>
                  <a:pt x="656" y="1040"/>
                </a:lnTo>
                <a:lnTo>
                  <a:pt x="768" y="1016"/>
                </a:lnTo>
                <a:lnTo>
                  <a:pt x="880" y="976"/>
                </a:lnTo>
                <a:lnTo>
                  <a:pt x="1058" y="834"/>
                </a:lnTo>
                <a:lnTo>
                  <a:pt x="1142" y="722"/>
                </a:lnTo>
                <a:lnTo>
                  <a:pt x="1226" y="610"/>
                </a:lnTo>
                <a:lnTo>
                  <a:pt x="1290" y="504"/>
                </a:lnTo>
                <a:lnTo>
                  <a:pt x="1368" y="374"/>
                </a:lnTo>
                <a:lnTo>
                  <a:pt x="1536" y="126"/>
                </a:lnTo>
                <a:lnTo>
                  <a:pt x="1602" y="48"/>
                </a:lnTo>
                <a:lnTo>
                  <a:pt x="1656" y="20"/>
                </a:lnTo>
                <a:lnTo>
                  <a:pt x="1689" y="6"/>
                </a:lnTo>
                <a:lnTo>
                  <a:pt x="1711" y="0"/>
                </a:lnTo>
                <a:lnTo>
                  <a:pt x="1711" y="1068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291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191120" y="247968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035600" y="3200400"/>
            <a:ext cx="8222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49600" y="47307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35520" y="383472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5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A40-080E-4505-AD48-8287956691D2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7680" y="812520"/>
            <a:ext cx="8108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primera aproximación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enómeno fís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cuya presencia se encuentra un órgano sensorial. Sin embargo restringiremos el concepto limitándolo a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fís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ertinente asociada al fenóm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723-3CB3-433B-8FB5-DAACCC4FB47C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27280" y="2805120"/>
            <a:ext cx="3146400" cy="1693800"/>
          </a:xfrm>
          <a:custGeom>
            <a:avLst/>
            <a:gdLst/>
            <a:ahLst/>
            <a:rect l="l" t="t" r="r" b="b"/>
            <a:pathLst>
              <a:path w="1982" h="1067">
                <a:moveTo>
                  <a:pt x="0" y="1064"/>
                </a:moveTo>
                <a:lnTo>
                  <a:pt x="342" y="1064"/>
                </a:lnTo>
                <a:lnTo>
                  <a:pt x="486" y="1054"/>
                </a:lnTo>
                <a:lnTo>
                  <a:pt x="554" y="1052"/>
                </a:lnTo>
                <a:lnTo>
                  <a:pt x="656" y="1038"/>
                </a:lnTo>
                <a:lnTo>
                  <a:pt x="768" y="1014"/>
                </a:lnTo>
                <a:lnTo>
                  <a:pt x="880" y="974"/>
                </a:lnTo>
                <a:lnTo>
                  <a:pt x="1058" y="832"/>
                </a:lnTo>
                <a:lnTo>
                  <a:pt x="1142" y="720"/>
                </a:lnTo>
                <a:lnTo>
                  <a:pt x="1226" y="608"/>
                </a:lnTo>
                <a:lnTo>
                  <a:pt x="1290" y="502"/>
                </a:lnTo>
                <a:lnTo>
                  <a:pt x="1368" y="372"/>
                </a:lnTo>
                <a:lnTo>
                  <a:pt x="1454" y="230"/>
                </a:lnTo>
                <a:lnTo>
                  <a:pt x="1531" y="117"/>
                </a:lnTo>
                <a:lnTo>
                  <a:pt x="1581" y="71"/>
                </a:lnTo>
                <a:lnTo>
                  <a:pt x="1617" y="36"/>
                </a:lnTo>
                <a:lnTo>
                  <a:pt x="1714" y="0"/>
                </a:lnTo>
                <a:lnTo>
                  <a:pt x="1762" y="6"/>
                </a:lnTo>
                <a:lnTo>
                  <a:pt x="1810" y="33"/>
                </a:lnTo>
                <a:lnTo>
                  <a:pt x="1849" y="72"/>
                </a:lnTo>
                <a:lnTo>
                  <a:pt x="1906" y="132"/>
                </a:lnTo>
                <a:lnTo>
                  <a:pt x="1982" y="241"/>
                </a:lnTo>
                <a:lnTo>
                  <a:pt x="1982" y="1067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316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35600" y="3200400"/>
            <a:ext cx="8348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49600" y="47307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5480" y="383472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342-A03D-4EC0-A742-D0ED4757758A}" type="slidenum">
              <a:t>60</a:t>
            </a:fld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CC7-D7E2-446D-A9F9-33A00A96B457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35B-F6B5-4ED8-A687-92D26BDB8C61}" type="slidenum">
              <a:t>62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7680" y="2031480"/>
            <a:ext cx="8108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 ejemplo,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onid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cuanto fenómeno físico presente en el oído, sería en si mismo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C70-D61A-44B8-A4FF-0A75028D607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embargo podemos tomar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 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gún el caso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cho de ban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r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fundidad de modul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 dependiendo de qué estemos investiga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E63-074B-4AB5-87FB-07B6581C25D1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forma similar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un fenómen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rceptiv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puede abarcar varios aspectos de la respuesta, pero podemos, seleccion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perceptiv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1EE-BC77-45FB-A4AA-5075B06B108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20:45Z</dcterms:modified>
  <cp:revision>243</cp:revision>
  <dc:subject/>
  <dc:title>PSICOACÚSTICA  aplicada a la calidad acústica de espacios educativos.  Materiales absorbentes acústicos reciclados </dc:title>
</cp:coreProperties>
</file>