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0.jpeg" ContentType="image/jpe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DC6E-53C3-4D07-A7AA-BD20C348E6B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ítulo e información de conta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0CF1-EE13-465B-B0E4-064FC44C850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EB95-99A2-484D-85F7-B3F5E61A844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E530-FC05-4084-A78E-6741301A16B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70FB-850D-4291-8F46-DDE4B8BB026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9D23-198A-4CE4-ACAA-F9743F9C850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8465-1119-4BFD-8C86-A81EC7800F6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A50D-8F14-45B6-9BBA-480B53E40D8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0A6F-1221-42DD-9FC6-8254F022B0B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CD61-5BB2-4B16-BF27-6DE7DC2D905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7338-9E8F-4A34-A785-8C7545E350D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8518-9AEB-4502-B50F-8FBB087FC66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B741-6CD2-4CF3-8F8A-6B69B992096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4634-FCEA-4F79-A507-D5F2867083B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19BA-4CF0-439E-9CDF-DB569C01A72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B537-E155-4C6B-B1BE-F2431C4B594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4120-70D7-4F1C-8F68-22DAC23BBCE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1625-8D52-4FDB-9FB1-C912436F807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65EE-27FB-4EF4-BF34-C2AE2375B17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87A0-CB49-41E2-B6A2-61DA73D9724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747A-0245-4214-B804-378259714F5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7F86-02CB-4411-8755-C750BA82286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4BA0-D8C4-4F38-92B7-045D601E3A1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0306-54BF-42FA-B850-34E37B6464B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65A6-23FB-468B-9B29-88F5BE2D2EF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ECF6-0262-4A38-A671-55FD3BA4E0C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4CD5-7D76-40A8-A9BE-149C8D6909C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E983-BC9B-4DB0-8F0B-5D9E0BFDF64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9E5D-E1BF-4AD3-B747-BDAD1133D87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82CF-ACE6-44F2-B5E1-382F16DD196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1B5B-0F59-4CFF-B5AA-A66CBF9C576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BAB0-A51A-4A60-8E58-3A5A1B93DB3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F72B-23CB-42A7-9F2E-363E5C24B61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C602-359A-40FF-B668-CF557793AB8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4168-F8B6-489B-B5C9-00A85DB5960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C701-3ED4-4C7F-99E1-F8462000B83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6173-7676-4900-A6DD-0232A731114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240D-3768-4451-ABD7-D63D5313FF5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BB55-CC84-4519-AA22-1093EC5C9A4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BFBF-03AD-4FA0-B4F9-DCA89B2DC74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A983-215C-41F0-8F9C-9436155B386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300A-8985-4BDE-B943-90B492DAF9A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DA61-5F40-49F3-862D-6AC7A1DCF0B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5527-9455-431A-A4F0-20133E16A2A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9778-A6F0-4B85-AF46-D2A0C1B3F5A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9BF8-A8F9-478C-9E92-80E601D0C0C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9600-DF74-4D1F-B5B7-9FA05A2590C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8E71-9CED-4335-9B3C-52EDC54EA99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9FA1-BF84-4408-AE52-A6B66D647A1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FBC7-1077-4090-AE7A-B03845268DE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636A-8F29-4DDD-ABF7-45614B79691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C4F9-AC7A-4827-9DE3-79FD3C0A551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1928-4E57-4E2C-904F-7FFBD7DB146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6D3B-6BEC-419C-A6E8-BCC36559774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CFB3-59FC-4710-BF34-566FB80514B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BC4F-175D-450A-8573-8CE14D4D8B2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5CDA-C7BD-4FD1-A74B-B4614E24755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FB9F-7145-4163-9AF7-B082F1E4D0F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EFCD-246B-4C78-ADCC-22D66074A7A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B993-B079-4717-B9D8-719C1869894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C9E1-BC60-40B1-A4A6-81DCBAD3677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da banda tiene el mismo peso en la inteligibilidad to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C014-904E-4ED0-851F-A64B8B45AA3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 asigna un 5% de aporte máximo de cada banda a la inteligibilidad (de allí el 0,05). Cuando la relación señal / ruido es muy alta (muy buena), la inteligibilidad ya no mejora sino que alcanza el óptimo. Por eso es que si (S/R)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+ k &gt; 30 directamente se toma un aporte de 0,0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743A-ACD6-4E5F-B976-943134DBA44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uso de bandas de tercio de octava, cuyo aporte a la inteligibilidad total no es parejo implicará la necesidad de asignar un peso al aporte de cada band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B998-A19B-45CE-9E82-4CFFE646BF2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valor de pico no es igual, como se vio, al valor eficaz, por eso es que se usa la notación </a:t>
            </a:r>
            <a:r>
              <a:rPr b="0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en lugar de S/R, que se reserva para diferencia de niveles de presión sonora (que corresponden, por lo tanto, a valores eficacesI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8A23-8DB2-492D-BA2C-0277526F232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A54A-A119-45DF-A05F-ABE98BAA221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a curva es para el idioma inglés, pero hay similitudes entre los diversos idiom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7C5D-1CC6-4DE4-9647-1DAB718112E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236C-FCD9-4B73-A53D-9B61FEFD6A4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C53A-AF33-458B-9AD6-9121CEAFAD9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E4AF-3B96-4797-95FD-FB235C7A5D7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BCB3-9E36-4C66-9262-D9856519F98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60D9-8885-419C-B77F-FBDBDAD4234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73FD-ECF2-43F8-8B4C-709580C2BF3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A21D-BC1A-4CFA-85EC-3B6680899A8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441F-B309-4247-9C66-C4999A8CC32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D666-C1C1-42BC-8C9A-01F7ACB382C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2BEA-F69A-49ED-A1DE-CCF28BD5ACC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3DF9-3F0B-447C-93DD-A94B4AEFCCA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8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razón por la que la profundidad de la modulación disminuye es porqu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reverberación impiden que la amplitud decrezca tan rápidamente. Por ejemplo, si un ciclo dura 0,1 s (F = 10 Hz) y el tiempo de reverberación es 1s, en 0,1s la caída debida a la reverberación es de sólo 6 dB, es decir, hubo una caída a la mitad, y no a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ruido impide que la caída llegue hasta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bsérvese que la forma de la portadora se altera mucho, pero eso para este caso no interesa, ya que sólo estamos interesados en la envolv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C75B-1F8B-4EB1-A6DD-28750441F72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8E93-26BA-47CF-B4C2-1F6B07BB152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TF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siempre es una cantidad negativa de dB  o a lo sumo 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4F2A-5490-4717-BDA4-CC65C130D43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" sz="1200" spc="-1" strike="noStrike" baseline="-25000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0792-322E-47C4-A1F7-6C64427D638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l ser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TF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negativo o a lo sumo 0, el denominador es mayor o igual que 1, y por lo tanto cada sumando es menor o igual que 1, por lo que STI, por ser un promedio expresado en porcentaje, resulta menor o igual que el 100%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31BE-1B45-469A-86E4-CCDE3FB3850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BF73-5C99-4A63-BF5F-C88D441C72E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6A42-3662-4318-8BF7-C42AA06D969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8EA2-DE3C-47B3-92E5-43509070AB8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" sz="1200" spc="-1" strike="noStrike" baseline="-25000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36C0-3B5A-4709-A147-737DB11A0A9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" sz="1200" spc="-1" strike="noStrike" baseline="-25000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092A-FB53-444F-8C7E-FC79BD39EB9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" sz="1200" spc="-1" strike="noStrike" baseline="-25000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6986-F1BE-4BFF-A53E-A88287AFDBD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A087-D13A-40E0-94FD-EBD0C03B3F3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B8A5-0C55-4A52-B159-CCC7A928147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" sz="1200" spc="-1" strike="noStrike" baseline="-25000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DAEB-98DD-46E4-9549-1412A05DD62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A5CC-4947-4E51-A097-692A2622C83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C4BB-57A0-4ED8-BA0B-86B072E4DD3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588D-35CC-4DA2-9A3F-60128C5977A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2F4E-A382-46FE-AE9A-16C6F72B0F0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B58C-472F-486A-A219-DF32CCF2532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2576-9827-4D87-B8AC-EE7DF146871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 ser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TF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negativo o a lo sumo 0, el denominador es mayor o igual que 1, y por lo tanto cada sumando es menor o igual que 1, por lo que STI, por ser un promedio expresado en porcentaje, resulta menor o igual que el 100%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D9B4-DBEC-4E47-A348-60164003969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" sz="1200" spc="-1" strike="noStrike" baseline="-25000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86A8-6794-4535-838C-8B3D6FB6619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l ser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TF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negativo o a lo sumo 0, el denominador es mayor o igual que 1, y por lo tanto cada sumando es menor o igual que 1, por lo que STI, por ser un promedio expresado en porcentaje, resulta menor o igual que el 100%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A02C-318E-411F-B2B5-7F4042D45DD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566B-943E-4088-8E19-418EF58B7A5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EF16-E428-4C9B-B9E5-60C934B04A3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" sz="1200" spc="-1" strike="noStrike" baseline="-25000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BAAD-C19A-463C-9BEC-1350A5AE593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l ser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TF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negativo o a lo sumo 0, el denominador es mayor o igual que 1, y por lo tanto cada sumando es menor o igual que 1, por lo que STI, por ser un promedio expresado en porcentaje, resulta menor o igual que el 100%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3358-C575-45F4-A192-0005A25CB5F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C3C7-5A8E-4875-8BD3-AAEDD1105EC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957A-15F1-4785-AEC3-AA8C224D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07C5-BB00-4DFE-947B-8169DCCC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20C7-5ED9-4303-9D90-76D65382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B9C6-E8AB-4752-9607-E50A2CED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82A8-3329-4011-91ED-95FE3791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BFFB-5D91-4D73-AE21-D8F80A4A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BA41-1805-41DF-AE19-6DFC408B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73EE-C073-4397-926D-35C29F5F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374A-1B05-42CD-B16C-AE78D76C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F603-F605-4781-BDF1-1CF690C9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EBBF-D189-47BF-8DF3-9AC6DD7E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9014-E05C-48AA-BBF5-5E516BF6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E920-EC02-4D19-8FD3-EBB588E18F51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curioso.wav" TargetMode="External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file:///tmp/home/.config/libreoffice/4/user/gallery/curioso.wav" TargetMode="External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curioso.wav" TargetMode="External"/><Relationship Id="rId4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Voz_femenina_2s.wav" TargetMode="External"/><Relationship Id="rId3" Type="http://schemas.openxmlformats.org/officeDocument/2006/relationships/hyperlink" Target="file:///tmp/home/.config/libreoffice/4/user/gallery/Voz_masculina_2s.wa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Voz_femenina_2s.wav" TargetMode="External"/><Relationship Id="rId3" Type="http://schemas.openxmlformats.org/officeDocument/2006/relationships/hyperlink" Target="file:///tmp/home/.config/libreoffice/4/user/gallery/Voz_masculina_2s.wa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Voz_femenina_03_15Hz_2s.wa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file:///tmp/home/.config/libreoffice/4/user/gallery/Voz_femenina_03_15Hz_2s.wa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curioso.wav" TargetMode="External"/><Relationship Id="rId4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hyperlink" Target="file:///tmp/home/.config/libreoffice/4/user/gallery/Aula21_1_Voz_femenina___3.15Hz.wav" TargetMode="External"/><Relationship Id="rId4" Type="http://schemas.openxmlformats.org/officeDocument/2006/relationships/hyperlink" Target="file:///tmp/home/.config/libreoffice/4/user/gallery/Voz_femenina_03_15Hz_2s.wav" TargetMode="External"/><Relationship Id="rId5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file:///tmp/home/.config/libreoffice/4/user/gallery/Aula21_1_Voz_femenina___3.15Hz.wa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3720" y="2061720"/>
            <a:ext cx="8296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9999"/>
                </a:solidFill>
                <a:latin typeface="Arial"/>
              </a:rPr>
              <a:t>Psicoacúst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05040"/>
            <a:ext cx="640080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ederico Miy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iversidad Nacional de Ros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www.fceia.unr.edu.ar/acu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miyara@fceia.unr.edu.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11360" y="299880"/>
            <a:ext cx="4121280" cy="150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E39E-B9E2-4664-BD24-CBDE77E0CB8F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11280" y="2742480"/>
            <a:ext cx="79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mpliemos los tres primeros fonemas, /c/, /u/ y /r/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45AE-52DD-4653-9581-DCF8D3FCEF13}" type="slidenum">
              <a:t>10</a:t>
            </a:fld>
          </a:p>
        </p:txBody>
      </p:sp>
    </p:spTree>
  </p:cSld>
  <p:transition>
    <p:fade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"/>
          <p:cNvSpPr/>
          <p:nvPr/>
        </p:nvSpPr>
        <p:spPr>
          <a:xfrm>
            <a:off x="2247840" y="401040"/>
            <a:ext cx="485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BIBLIOGRAF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647640" y="1603080"/>
            <a:ext cx="7848720" cy="42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Miyara, Federico: “Control de Ruido”. Publicación electrónica en CD. Editorial ASOLOFAL, Rosario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Beranek, Leo L.: “Acústica”. Editorial Hispanoamericana S. A. Buenos Aires (Arg.),  196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Beranek, Leo L., Vér, István (eds.): “Noise and Vibration Control Engineering”. John Wiley.  New York  (USA),  199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Miyara, Federico: “Acústica y Sistemas de Sonido”. UNR Editora. Rosario (Arg.), 199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Harris, Cyril M.: “Handbook of Acoustical Measurements and Noise Control”. Acoustical Society of America.  Woodbury (USA), 199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Makrinenko, Leoni: “Acoustics of Auditoriums in Public Buildings”. Acoustical Society of America, Woodbury (USA), 199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1BC0-82CB-42B9-B189-7D5A44582B36}" type="slidenum">
              <a:t>100</a:t>
            </a:fld>
          </a:p>
        </p:txBody>
      </p:sp>
    </p:spTree>
  </p:cSld>
  <p:transition>
    <p:fade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"/>
          <p:cNvSpPr/>
          <p:nvPr/>
        </p:nvSpPr>
        <p:spPr>
          <a:xfrm>
            <a:off x="2247840" y="401040"/>
            <a:ext cx="485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BIBLIOGRAF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914400" y="1187280"/>
            <a:ext cx="76582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Barron, Michael: “Auditorium Acoustics and Architectural Design”. E &amp; FN Spon. Londres (UK), 199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Beranek, Leo L.: “Concert Opera Halls: How they Sound”. Acoustical Society of America.  New York  (USA),  19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Davis, Don; Davis, Carolyn: “Sound System Engineering”. SAMS (Prentice Hall Computer Publishing). Carmel, Indiana (USA), 19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Everest, F. Alton:  “The Master Handbook of  Acoustics”. McGraw-Hill. Blue Ridge Summit (USA) 198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Haas, Helmut: 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“The influence of a single echo on the audibility of speech”. Journal of the Audio Engineering Society, Vol 20, No 2, March 1972, pp 146-15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Times New Roman"/>
              </a:rPr>
              <a:t>IRAM 4070:1986</a:t>
            </a:r>
            <a:r>
              <a:rPr b="0" lang="es-AR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AR" sz="2000" spc="-1" strike="noStrike">
                <a:solidFill>
                  <a:srgbClr val="333399"/>
                </a:solidFill>
                <a:latin typeface="Times New Roman"/>
              </a:rPr>
              <a:t>“Ruidos. Procedimiento para su evaluación utilizando las curvas ‘NR’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9AA1-B64E-40A6-ADC7-69F608CD1401}" type="slidenum">
              <a:t>101</a:t>
            </a:fld>
          </a:p>
        </p:txBody>
      </p:sp>
    </p:spTree>
  </p:cSld>
  <p:transition>
    <p:fade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E2B0-F95A-49A9-BDB7-ACC464FBFDC8}" type="slidenum">
              <a:t>102</a:t>
            </a:fld>
          </a:p>
        </p:txBody>
      </p:sp>
    </p:spTree>
  </p:cSld>
  <p:transition>
    <p:fade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"/>
          <p:cNvSpPr/>
          <p:nvPr/>
        </p:nvSpPr>
        <p:spPr>
          <a:xfrm>
            <a:off x="685800" y="144792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333399"/>
                </a:solidFill>
                <a:latin typeface="Courier New"/>
              </a:rPr>
              <a:t>PROBLEM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4EB7-FB6F-4258-92BA-ADA4CC1CA4F6}" type="slidenum">
              <a:t>103</a:t>
            </a:fld>
          </a:p>
        </p:txBody>
      </p:sp>
    </p:spTree>
  </p:cSld>
  <p:transition>
    <p:fade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"/>
          <p:cNvSpPr/>
          <p:nvPr/>
        </p:nvSpPr>
        <p:spPr>
          <a:xfrm>
            <a:off x="685800" y="1447920"/>
            <a:ext cx="80773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.1.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En Acústica Musical una quinta justa es un intervalo cuya relación de frecuencias es 3:2. Verificar que una quinta temperada, es decir, un intervalo formado por 7 semitonos, coincide con mucha aproximación con una quinta ju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Obtener la frecuencia de un fa 2 octavas por debajo de la octava cent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61E4-C1F9-4AC1-817A-1F530EA7A069}" type="slidenum">
              <a:t>104</a:t>
            </a:fld>
          </a:p>
        </p:txBody>
      </p:sp>
    </p:spTree>
  </p:cSld>
  <p:transition>
    <p:fade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"/>
          <p:cNvSpPr/>
          <p:nvPr/>
        </p:nvSpPr>
        <p:spPr>
          <a:xfrm>
            <a:off x="685800" y="1646280"/>
            <a:ext cx="80773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imes New Roman"/>
              </a:rPr>
              <a:t>2.3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Determinar si un tono puro de 100 Hz y 70 dB es más o menos sonoro que uno de 700 Hz y 64 d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imes New Roman"/>
              </a:rPr>
              <a:t>2.4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Obtener el nivel de sonoridad en fon de un tono de 60 dB y 200 H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9D1F-FC64-4486-A4EE-D9D1B5A6C9D0}" type="slidenum">
              <a:t>105</a:t>
            </a:fld>
          </a:p>
        </p:txBody>
      </p:sp>
    </p:spTree>
  </p:cSld>
  <p:transition>
    <p:fade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"/>
          <p:cNvSpPr/>
          <p:nvPr/>
        </p:nvSpPr>
        <p:spPr>
          <a:xfrm>
            <a:off x="685800" y="1479600"/>
            <a:ext cx="80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imes New Roman"/>
              </a:rPr>
              <a:t>2.5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Luego de mejorar el aislamiento acústico de una habitación en la cual se produce un sonido de 90 Hz y 100 dB se obtiene, fuera de ella, un nivel sonoro de 35 dB. ¿Qué puede afirmarse de la efectividad del tratamiento? 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AB0A-6A41-4801-ADC3-A09005411385}" type="slidenum">
              <a:t>106</a:t>
            </a:fld>
          </a:p>
        </p:txBody>
      </p:sp>
    </p:spTree>
  </p:cSld>
  <p:transition>
    <p:fade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"/>
          <p:cNvSpPr/>
          <p:nvPr/>
        </p:nvSpPr>
        <p:spPr>
          <a:xfrm>
            <a:off x="685800" y="990720"/>
            <a:ext cx="807732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imes New Roman"/>
              </a:rPr>
              <a:t>2.6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¿Cuál es la sonoridad en son de un tono de 7 kHz y 61 d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imes New Roman"/>
              </a:rPr>
              <a:t>2.7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¿Cuál es la sonoridad de una onda cuadrada de 300 Hz y 80 dB? Sugerencia: Los armónicos de una onda cuadrada son de orden impar y sus amplitudes vienen dadas por </a:t>
            </a:r>
            <a:br>
              <a:rPr sz="3200"/>
            </a:b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4 </a:t>
            </a:r>
            <a:r>
              <a:rPr b="0" i="1" lang="es-ES" sz="32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i="1" lang="es-ES" sz="3200" spc="-1" strike="noStrike" baseline="-25000">
                <a:solidFill>
                  <a:srgbClr val="333399"/>
                </a:solidFill>
                <a:latin typeface="Times New Roman"/>
              </a:rPr>
              <a:t>máx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/(</a:t>
            </a:r>
            <a:r>
              <a:rPr b="0" i="1" lang="es-ES" sz="32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s-ES" sz="32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), donde </a:t>
            </a:r>
            <a:r>
              <a:rPr b="0" i="1" lang="es-ES" sz="32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 es el orden del armónico impar consider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B0DC-4087-4008-B0EA-C103ADD94FFC}" type="slidenum">
              <a:t>107</a:t>
            </a:fld>
          </a:p>
        </p:txBody>
      </p:sp>
    </p:spTree>
  </p:cSld>
  <p:transition>
    <p:fade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"/>
          <p:cNvSpPr/>
          <p:nvPr/>
        </p:nvSpPr>
        <p:spPr>
          <a:xfrm>
            <a:off x="685800" y="990720"/>
            <a:ext cx="8077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0" lang="es-ES_tradnl" sz="3200" spc="-1" strike="noStrike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a) Calcular la potencia sonora que llega al tímpano cuando se escucha un sonido de 60 dB. b) Determinar qué fracción de esa potencia llega al oído interno (ventana oval). Sugerencia: trabajar con la intensidad sonora, teniendo en cuenta las áreas del tímpano y la ventana oval, así como la ganancia mecánica del oído medio, suponiendo que éste no tiene pérdi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EA30-736C-470A-802F-A8EBE8CDBEDA}" type="slidenum">
              <a:t>108</a:t>
            </a:fld>
          </a:p>
        </p:txBody>
      </p:sp>
    </p:spTree>
  </p:cSld>
  <p:transition>
    <p:fade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"/>
          <p:cNvSpPr/>
          <p:nvPr/>
        </p:nvSpPr>
        <p:spPr>
          <a:xfrm>
            <a:off x="685800" y="990720"/>
            <a:ext cx="8077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0" lang="es-ES_tradnl" sz="3200" spc="-1" strike="noStrike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Un individuo es capaz de entender un 40% de las palabras tomadas de una lista de palabras fonéticamente balanceadas pronunciadas de manera de tener 20 dB en su oído. Indicar si su audición es normal o 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B814-5D6A-4F89-892C-8A07CEC06423}" type="slidenum">
              <a:t>109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03280" y="45943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99ff99"/>
                </a:solidFill>
                <a:latin typeface="Courier New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24360" y="45943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00"/>
                </a:solidFill>
                <a:latin typeface="Courier New"/>
              </a:rPr>
              <a:t>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67640" y="45943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9966"/>
                </a:solidFill>
                <a:latin typeface="Courier New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BF63-3053-4F8B-B6E4-BE6784201BBC}" type="slidenum">
              <a:t>11</a:t>
            </a:fld>
          </a:p>
        </p:txBody>
      </p:sp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"/>
          <p:cNvSpPr/>
          <p:nvPr/>
        </p:nvSpPr>
        <p:spPr>
          <a:xfrm>
            <a:off x="685800" y="1387440"/>
            <a:ext cx="80773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2.1</a:t>
            </a:r>
            <a:r>
              <a:rPr b="0" lang="es-ES_tradnl" sz="3200" spc="-1" strike="noStrike">
                <a:solidFill>
                  <a:srgbClr val="333399"/>
                </a:solidFill>
                <a:latin typeface="Times New Roman"/>
              </a:rPr>
              <a:t>0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Determinar el índice porcentual de articulación de frases cuando el nivel de presión sonora es de 30 dB, en ausencia de ru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2.1</a:t>
            </a:r>
            <a:r>
              <a:rPr b="0" lang="es-ES_tradnl" sz="32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Repetir el problema anterior cuando el nivel de presión sonora es de 40 dB pero el ruido ambiente es de 43 d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E50F-6A8B-48FA-90D8-3291BA04CC87}" type="slidenum">
              <a:t>110</a:t>
            </a:fld>
          </a:p>
        </p:txBody>
      </p:sp>
    </p:spTree>
  </p:cSld>
  <p:transition>
    <p:fade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"/>
          <p:cNvSpPr/>
          <p:nvPr/>
        </p:nvSpPr>
        <p:spPr>
          <a:xfrm>
            <a:off x="685800" y="990720"/>
            <a:ext cx="80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2.1</a:t>
            </a:r>
            <a:r>
              <a:rPr b="0" lang="es-ES_tradnl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En un ambiente hay un ruido rosa de 75 dB. Determinar si será posible comunicarse oralmente sin gritar a 2 m de distancia. Sugerencia: para calcular el espectro del ruido rosa tener en cuenta que el mismo tiene la misma energía en todas las bandas de octa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7BD4-E730-42F2-9013-3F4D870E5266}" type="slidenum">
              <a:t>111</a:t>
            </a:fld>
          </a:p>
        </p:txBody>
      </p:sp>
    </p:spTree>
  </p:cSld>
  <p:transition>
    <p:fade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"/>
          <p:cNvSpPr/>
          <p:nvPr/>
        </p:nvSpPr>
        <p:spPr>
          <a:xfrm>
            <a:off x="533520" y="458640"/>
            <a:ext cx="80769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2.1</a:t>
            </a:r>
            <a:r>
              <a:rPr b="0" lang="es-ES_tradnl" sz="32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El espectro promedio de la música de rock típica sube a razón de 18 dB por octava hasta los 80 Hz, y luego baja a razón de 6 dB por octava. a) Si el nivel sonoro máximo dentro de  una discoteca es de 105 dB, determinar el espectro de bandas de octava entre 31,5 Hz y 8 kHz. b) Si la atenuación provista por la pared medianera con una casa vecina se incrementa a razón de 12 dB por octava arrancando en 30 dB en la octava de 31,5 Hz, determinar si dicha casa cumple con el criterio NR para residencias urban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A5FE-373E-4079-BBDC-A13F65951F48}" type="slidenum">
              <a:t>112</a:t>
            </a:fld>
          </a:p>
        </p:txBody>
      </p:sp>
    </p:spTree>
  </p:cSld>
  <p:transition>
    <p:fade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"/>
          <p:cNvSpPr/>
          <p:nvPr/>
        </p:nvSpPr>
        <p:spPr>
          <a:xfrm flipV="1">
            <a:off x="1295280" y="1371600"/>
            <a:ext cx="0" cy="3657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219320" y="4800600"/>
            <a:ext cx="586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6919920" y="4550760"/>
            <a:ext cx="11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838080" y="594720"/>
            <a:ext cx="1177920" cy="777600"/>
            <a:chOff x="838080" y="594720"/>
            <a:chExt cx="1177920" cy="777600"/>
          </a:xfrm>
        </p:grpSpPr>
        <p:sp>
          <p:nvSpPr>
            <p:cNvPr id="1865" name=""/>
            <p:cNvSpPr/>
            <p:nvPr/>
          </p:nvSpPr>
          <p:spPr>
            <a:xfrm>
              <a:off x="838080" y="851760"/>
              <a:ext cx="117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r>
                <a:rPr b="1" lang="en-US" sz="2800" spc="-1" strike="noStrike" baseline="30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99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893520" y="5947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7" name=""/>
          <p:cNvSpPr/>
          <p:nvPr/>
        </p:nvSpPr>
        <p:spPr>
          <a:xfrm>
            <a:off x="3216240" y="20574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1488960" y="2057400"/>
            <a:ext cx="5133960" cy="2004840"/>
          </a:xfrm>
          <a:custGeom>
            <a:avLst/>
            <a:gdLst/>
            <a:ahLst/>
            <a:rect l="l" t="t" r="r" b="b"/>
            <a:pathLst>
              <a:path w="3234" h="134">
                <a:moveTo>
                  <a:pt x="0" y="120"/>
                </a:moveTo>
                <a:lnTo>
                  <a:pt x="1085" y="0"/>
                </a:lnTo>
                <a:lnTo>
                  <a:pt x="3234" y="134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2627280" y="4809240"/>
            <a:ext cx="11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80 </a:t>
            </a:r>
            <a:r>
              <a:rPr b="1" i="1" lang="es-ES_tradnl" sz="2800" spc="-1" strike="noStrike">
                <a:solidFill>
                  <a:srgbClr val="333399"/>
                </a:solidFill>
                <a:latin typeface="Times New Roman"/>
              </a:rPr>
              <a:t>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1159-8959-4849-89D7-B0E7211DD2C9}" type="slidenum">
              <a:t>113</a:t>
            </a:fld>
          </a:p>
        </p:txBody>
      </p:sp>
    </p:spTree>
  </p:cSld>
  <p:transition>
    <p:fade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A358-F1A1-4C9F-B890-A5F62704F343}" type="slidenum">
              <a:t>114</a:t>
            </a:fld>
          </a:p>
        </p:txBody>
      </p:sp>
    </p:spTree>
  </p:cSld>
  <p:transition>
    <p:fade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"/>
          <p:cNvSpPr/>
          <p:nvPr/>
        </p:nvSpPr>
        <p:spPr>
          <a:xfrm>
            <a:off x="1027080" y="455760"/>
            <a:ext cx="7089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d24600"/>
                </a:solidFill>
                <a:latin typeface="Arial"/>
                <a:ea typeface="Arial"/>
              </a:rPr>
              <a:t>Agradecimientos</a:t>
            </a:r>
            <a:br>
              <a:rPr sz="3600"/>
            </a:br>
            <a:r>
              <a:rPr b="1" lang="es-AR" sz="3600" spc="-1" strike="noStrike">
                <a:solidFill>
                  <a:srgbClr val="d24600"/>
                </a:solidFill>
                <a:latin typeface="Wingdings 2"/>
                <a:ea typeface="Wingdings 2"/>
              </a:rPr>
              <a:t>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Elizabeth Gonzál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Luis Marisquir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Universidad de la Re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María Victoria Góm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E7DD-DEA7-4424-9732-5027603FA0C6}" type="slidenum">
              <a:t>115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rId3"/>
          </p:cNvPr>
          <p:cNvSpPr/>
          <p:nvPr/>
        </p:nvSpPr>
        <p:spPr>
          <a:xfrm>
            <a:off x="404640" y="5692680"/>
            <a:ext cx="336600" cy="262080"/>
          </a:xfrm>
          <a:custGeom>
            <a:avLst/>
            <a:gdLst>
              <a:gd name="textAreaLeft" fmla="*/ 1440 w 336600"/>
              <a:gd name="textAreaRight" fmla="*/ 335160 w 336600"/>
              <a:gd name="textAreaTop" fmla="*/ 1440 h 262080"/>
              <a:gd name="textAreaBottom" fmla="*/ 260640 h 262080"/>
            </a:gdLst>
            <a:ahLst/>
            <a:rect l="textAreaLeft" t="textAreaTop" r="textAreaRight" b="textAreaBottom"/>
            <a:pathLst>
              <a:path w="27733" h="21600">
                <a:moveTo>
                  <a:pt x="0" y="0"/>
                </a:moveTo>
                <a:lnTo>
                  <a:pt x="27733" y="0"/>
                </a:lnTo>
                <a:lnTo>
                  <a:pt x="27733" y="21600"/>
                </a:lnTo>
                <a:lnTo>
                  <a:pt x="0" y="21600"/>
                </a:lnTo>
                <a:close/>
              </a:path>
              <a:path fill="lightenLess" w="27733" h="21600">
                <a:moveTo>
                  <a:pt x="0" y="0"/>
                </a:moveTo>
                <a:lnTo>
                  <a:pt x="27733" y="0"/>
                </a:lnTo>
                <a:lnTo>
                  <a:pt x="27612" y="121"/>
                </a:lnTo>
                <a:lnTo>
                  <a:pt x="121" y="121"/>
                </a:lnTo>
                <a:close/>
              </a:path>
              <a:path fill="darken" w="27733" h="21600">
                <a:moveTo>
                  <a:pt x="27733" y="0"/>
                </a:moveTo>
                <a:lnTo>
                  <a:pt x="27733" y="21600"/>
                </a:lnTo>
                <a:lnTo>
                  <a:pt x="27612" y="21479"/>
                </a:lnTo>
                <a:lnTo>
                  <a:pt x="27612" y="121"/>
                </a:lnTo>
                <a:close/>
              </a:path>
              <a:path fill="darkenLess" w="27733" h="21600">
                <a:moveTo>
                  <a:pt x="27733" y="21600"/>
                </a:moveTo>
                <a:lnTo>
                  <a:pt x="0" y="21600"/>
                </a:lnTo>
                <a:lnTo>
                  <a:pt x="121" y="21479"/>
                </a:lnTo>
                <a:lnTo>
                  <a:pt x="27612" y="21479"/>
                </a:lnTo>
                <a:close/>
              </a:path>
              <a:path fill="lighten" w="27733" h="21600">
                <a:moveTo>
                  <a:pt x="0" y="21600"/>
                </a:moveTo>
                <a:lnTo>
                  <a:pt x="0" y="0"/>
                </a:lnTo>
                <a:lnTo>
                  <a:pt x="121" y="121"/>
                </a:lnTo>
                <a:lnTo>
                  <a:pt x="121" y="21479"/>
                </a:lnTo>
                <a:close/>
              </a:path>
            </a:pathLst>
          </a:custGeom>
          <a:noFill/>
          <a:ln w="9360">
            <a:solidFill>
              <a:srgbClr val="80808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99ff99"/>
                </a:solidFill>
                <a:latin typeface="Courier New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00"/>
                </a:solidFill>
                <a:latin typeface="Courier New"/>
              </a:rPr>
              <a:t>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9966"/>
                </a:solidFill>
                <a:latin typeface="Courier New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ccff"/>
                </a:solidFill>
                <a:latin typeface="Courier New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66ffff"/>
                </a:solidFill>
                <a:latin typeface="Courier New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009999"/>
                </a:solidFill>
                <a:latin typeface="Courier New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66ffff"/>
                </a:solidFill>
                <a:latin typeface="Courier New"/>
              </a:rPr>
              <a:t>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00"/>
                </a:solidFill>
                <a:latin typeface="Courier New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9966"/>
                </a:solidFill>
                <a:latin typeface="Courier New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ccff"/>
                </a:solidFill>
                <a:latin typeface="Courier New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99ff99"/>
                </a:solidFill>
                <a:latin typeface="Courier New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F05C-9381-46D3-8A95-359D23632A50}" type="slidenum">
              <a:t>12</a:t>
            </a:fld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808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99ff99"/>
                </a:solidFill>
                <a:latin typeface="Courier New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00"/>
                </a:solidFill>
                <a:latin typeface="Courier New"/>
              </a:rPr>
              <a:t>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9966"/>
                </a:solidFill>
                <a:latin typeface="Courier New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ccff"/>
                </a:solidFill>
                <a:latin typeface="Courier New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66ffff"/>
                </a:solidFill>
                <a:latin typeface="Courier New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009999"/>
                </a:solidFill>
                <a:latin typeface="Courier New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66ffff"/>
                </a:solidFill>
                <a:latin typeface="Courier New"/>
              </a:rPr>
              <a:t>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00"/>
                </a:solidFill>
                <a:latin typeface="Courier New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9966"/>
                </a:solidFill>
                <a:latin typeface="Courier New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ccff"/>
                </a:solidFill>
                <a:latin typeface="Courier New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8660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99ff99"/>
                </a:solidFill>
                <a:latin typeface="Courier New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3"/>
          </p:cNvPr>
          <p:cNvSpPr/>
          <p:nvPr/>
        </p:nvSpPr>
        <p:spPr>
          <a:xfrm>
            <a:off x="404640" y="5692680"/>
            <a:ext cx="336600" cy="262080"/>
          </a:xfrm>
          <a:custGeom>
            <a:avLst/>
            <a:gdLst>
              <a:gd name="textAreaLeft" fmla="*/ 1440 w 336600"/>
              <a:gd name="textAreaRight" fmla="*/ 335160 w 336600"/>
              <a:gd name="textAreaTop" fmla="*/ 1440 h 262080"/>
              <a:gd name="textAreaBottom" fmla="*/ 260640 h 262080"/>
            </a:gdLst>
            <a:ahLst/>
            <a:rect l="textAreaLeft" t="textAreaTop" r="textAreaRight" b="textAreaBottom"/>
            <a:pathLst>
              <a:path w="27733" h="21600">
                <a:moveTo>
                  <a:pt x="0" y="0"/>
                </a:moveTo>
                <a:lnTo>
                  <a:pt x="27733" y="0"/>
                </a:lnTo>
                <a:lnTo>
                  <a:pt x="27733" y="21600"/>
                </a:lnTo>
                <a:lnTo>
                  <a:pt x="0" y="21600"/>
                </a:lnTo>
                <a:close/>
              </a:path>
              <a:path fill="lightenLess" w="27733" h="21600">
                <a:moveTo>
                  <a:pt x="0" y="0"/>
                </a:moveTo>
                <a:lnTo>
                  <a:pt x="27733" y="0"/>
                </a:lnTo>
                <a:lnTo>
                  <a:pt x="27612" y="121"/>
                </a:lnTo>
                <a:lnTo>
                  <a:pt x="121" y="121"/>
                </a:lnTo>
                <a:close/>
              </a:path>
              <a:path fill="darken" w="27733" h="21600">
                <a:moveTo>
                  <a:pt x="27733" y="0"/>
                </a:moveTo>
                <a:lnTo>
                  <a:pt x="27733" y="21600"/>
                </a:lnTo>
                <a:lnTo>
                  <a:pt x="27612" y="21479"/>
                </a:lnTo>
                <a:lnTo>
                  <a:pt x="27612" y="121"/>
                </a:lnTo>
                <a:close/>
              </a:path>
              <a:path fill="darkenLess" w="27733" h="21600">
                <a:moveTo>
                  <a:pt x="27733" y="21600"/>
                </a:moveTo>
                <a:lnTo>
                  <a:pt x="0" y="21600"/>
                </a:lnTo>
                <a:lnTo>
                  <a:pt x="121" y="21479"/>
                </a:lnTo>
                <a:lnTo>
                  <a:pt x="27612" y="21479"/>
                </a:lnTo>
                <a:close/>
              </a:path>
              <a:path fill="lighten" w="27733" h="21600">
                <a:moveTo>
                  <a:pt x="0" y="21600"/>
                </a:moveTo>
                <a:lnTo>
                  <a:pt x="0" y="0"/>
                </a:lnTo>
                <a:lnTo>
                  <a:pt x="121" y="121"/>
                </a:lnTo>
                <a:lnTo>
                  <a:pt x="121" y="21479"/>
                </a:lnTo>
                <a:close/>
              </a:path>
            </a:pathLst>
          </a:custGeom>
          <a:noFill/>
          <a:ln w="9360">
            <a:solidFill>
              <a:srgbClr val="80808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AD0C-329D-44DE-998C-2BD5D45881B9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71680" y="213300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as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vocales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ienen su energía principalmente en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baja frecuencia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. Las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consonantes,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n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alta frecuencia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.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1F7C-99BC-4C81-9F78-902D7F89EF73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04840" y="243756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s vocales son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ás</a:t>
            </a:r>
            <a:r>
              <a:rPr b="1" lang="es-ES_tradnl" sz="4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tensas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y en general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uran</a:t>
            </a:r>
            <a:r>
              <a:rPr b="1" lang="es-ES_tradnl" sz="4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ás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que las consonant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3AF0-5AAE-4145-A129-64BB1C9F06CE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14440" y="2437560"/>
            <a:ext cx="811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consecuencia la palabra se encuentra amenazada por el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uido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y l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4EB6-A694-4AE3-8CBD-5BF09DA21442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2437560"/>
            <a:ext cx="7010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l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uido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uede enmascarar total o parcialmente a las débiles consonant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2A31-8096-426D-A228-69E9EDBD6A09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14440" y="2133000"/>
            <a:ext cx="8115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a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everberación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uede superponer la energía de las vocales reflejada múltiples veces a las consonantes.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D892-9ACF-4BEC-9910-C6AFD538153A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14440" y="1523520"/>
            <a:ext cx="8115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a inteligibilidad se mide como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porcentaje de articulación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efinida como el promedio para varias personas de la cantidad de aciertos dividida por la cantidad de emisiones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9AD5-369C-4AB4-A101-5676B9A93AE8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42840" y="2581560"/>
            <a:ext cx="725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Inteligibilidad </a:t>
            </a:r>
            <a:br>
              <a:rPr sz="4400"/>
            </a:b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de la pala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D0ED-FD3C-4E53-9BF7-0CDE5BD5A92C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14440" y="2437560"/>
            <a:ext cx="811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ay tres tipos de porcentajes de articulación: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silábico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e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palabras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y de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frases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8F10-212F-4B16-97B0-73C2AE3DD271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14440" y="2437560"/>
            <a:ext cx="811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tos tres porcentajes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P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PAP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PAF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están relacionados entre sí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6284-6797-44D5-BF99-B64322E2C970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874880" y="4962600"/>
            <a:ext cx="668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41440" y="261612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41440" y="296244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1440" y="3306600"/>
            <a:ext cx="6685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0000" y="3656160"/>
            <a:ext cx="668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34960" y="401472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50800" y="440064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01840" y="4756320"/>
            <a:ext cx="706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49360" y="2295360"/>
            <a:ext cx="6685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77880" y="1936800"/>
            <a:ext cx="544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89040" y="1563840"/>
            <a:ext cx="544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94000" y="1219320"/>
            <a:ext cx="634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75000" y="4962600"/>
            <a:ext cx="587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3080" y="496260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11520" y="496260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81400" y="496260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48040" y="49626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16480" y="49626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91080" y="5443560"/>
            <a:ext cx="10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Times New Roman"/>
              </a:rPr>
              <a:t>PAS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77000" y="49500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6880" y="4950000"/>
            <a:ext cx="587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13520" y="49500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860560"/>
            <a:ext cx="83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Times New Roman"/>
              </a:rPr>
              <a:t>P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48480" y="4940280"/>
            <a:ext cx="588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00320" y="1349280"/>
            <a:ext cx="5668560" cy="3551400"/>
            <a:chOff x="2200320" y="1349280"/>
            <a:chExt cx="5668560" cy="3551400"/>
          </a:xfrm>
        </p:grpSpPr>
        <p:sp>
          <p:nvSpPr>
            <p:cNvPr id="153" name=""/>
            <p:cNvSpPr/>
            <p:nvPr/>
          </p:nvSpPr>
          <p:spPr>
            <a:xfrm>
              <a:off x="2203200" y="1353600"/>
              <a:ext cx="108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7236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3864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06360" y="1353600"/>
              <a:ext cx="108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74080" y="1353600"/>
              <a:ext cx="108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0952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7616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4460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4180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203200" y="4886640"/>
              <a:ext cx="565488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03200" y="4532760"/>
              <a:ext cx="565488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203200" y="4177080"/>
              <a:ext cx="56527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01400" y="3826440"/>
              <a:ext cx="565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00320" y="3112560"/>
              <a:ext cx="56613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06800" y="2067480"/>
              <a:ext cx="56505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08240" y="2410200"/>
              <a:ext cx="5651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01040" y="2760840"/>
              <a:ext cx="56538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201400" y="1352160"/>
              <a:ext cx="566748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2920" y="1706040"/>
              <a:ext cx="5651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01040" y="3471480"/>
              <a:ext cx="565668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14480" y="1349280"/>
              <a:ext cx="1080" cy="352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62760" y="1349280"/>
              <a:ext cx="720" cy="355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206800" y="1349280"/>
            <a:ext cx="5648040" cy="3533760"/>
          </a:xfrm>
          <a:custGeom>
            <a:avLst/>
            <a:gdLst/>
            <a:ahLst/>
            <a:rect l="l" t="t" r="r" b="b"/>
            <a:pathLst>
              <a:path w="5214" h="3268">
                <a:moveTo>
                  <a:pt x="0" y="3268"/>
                </a:moveTo>
                <a:lnTo>
                  <a:pt x="312" y="3070"/>
                </a:lnTo>
                <a:lnTo>
                  <a:pt x="580" y="2896"/>
                </a:lnTo>
                <a:lnTo>
                  <a:pt x="822" y="2728"/>
                </a:lnTo>
                <a:lnTo>
                  <a:pt x="1129" y="2506"/>
                </a:lnTo>
                <a:lnTo>
                  <a:pt x="1372" y="2323"/>
                </a:lnTo>
                <a:lnTo>
                  <a:pt x="1612" y="2125"/>
                </a:lnTo>
                <a:lnTo>
                  <a:pt x="1800" y="1948"/>
                </a:lnTo>
                <a:lnTo>
                  <a:pt x="1996" y="1741"/>
                </a:lnTo>
                <a:lnTo>
                  <a:pt x="2182" y="1522"/>
                </a:lnTo>
                <a:lnTo>
                  <a:pt x="2344" y="1315"/>
                </a:lnTo>
                <a:lnTo>
                  <a:pt x="2551" y="1060"/>
                </a:lnTo>
                <a:lnTo>
                  <a:pt x="2749" y="841"/>
                </a:lnTo>
                <a:lnTo>
                  <a:pt x="2935" y="664"/>
                </a:lnTo>
                <a:lnTo>
                  <a:pt x="3142" y="505"/>
                </a:lnTo>
                <a:lnTo>
                  <a:pt x="3316" y="403"/>
                </a:lnTo>
                <a:lnTo>
                  <a:pt x="3480" y="328"/>
                </a:lnTo>
                <a:lnTo>
                  <a:pt x="3654" y="268"/>
                </a:lnTo>
                <a:lnTo>
                  <a:pt x="3924" y="192"/>
                </a:lnTo>
                <a:lnTo>
                  <a:pt x="4186" y="133"/>
                </a:lnTo>
                <a:lnTo>
                  <a:pt x="4422" y="88"/>
                </a:lnTo>
                <a:lnTo>
                  <a:pt x="4716" y="42"/>
                </a:lnTo>
                <a:lnTo>
                  <a:pt x="4860" y="28"/>
                </a:lnTo>
                <a:lnTo>
                  <a:pt x="521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6A2-8979-4145-99F6-09D05F8EA616}" type="slidenum">
              <a:t>22</a:t>
            </a:fld>
          </a:p>
        </p:txBody>
      </p:sp>
    </p:spTree>
  </p:cSld>
  <p:transition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14440" y="1828080"/>
            <a:ext cx="8115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Vemos que ante un moderado porcentaje de articulación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ílab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e obtiene un alto porcentaje de articulación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alab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9C62-9C9E-470C-9196-7F530E060ED8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14440" y="1858320"/>
            <a:ext cx="8115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to se debe a que las personas muchas veces puede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conocer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una palabra aun si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ierde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lgú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etall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 su pronunci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8F38-C30F-482A-AB21-0F5A69B17787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871640" y="4952880"/>
            <a:ext cx="666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40000" y="2611440"/>
            <a:ext cx="666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0000" y="2957400"/>
            <a:ext cx="666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40000" y="3300480"/>
            <a:ext cx="666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38200" y="3649680"/>
            <a:ext cx="666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33520" y="4008600"/>
            <a:ext cx="6667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50800" y="4392720"/>
            <a:ext cx="665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00040" y="4748040"/>
            <a:ext cx="7048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49360" y="2290680"/>
            <a:ext cx="665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76440" y="1933560"/>
            <a:ext cx="5428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87600" y="1560600"/>
            <a:ext cx="5428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81120" y="1216080"/>
            <a:ext cx="5428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70320" y="4952880"/>
            <a:ext cx="58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35160" y="495288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02160" y="4952880"/>
            <a:ext cx="58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70240" y="4952880"/>
            <a:ext cx="586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35440" y="4952880"/>
            <a:ext cx="58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00640" y="495288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95680" y="5459400"/>
            <a:ext cx="1071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Times New Roman"/>
              </a:rPr>
              <a:t>PAP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61160" y="4940280"/>
            <a:ext cx="58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27800" y="4940280"/>
            <a:ext cx="58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93000" y="4940280"/>
            <a:ext cx="58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854440"/>
            <a:ext cx="113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Times New Roman"/>
              </a:rPr>
              <a:t>P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196720" y="1346040"/>
            <a:ext cx="5653440" cy="3535200"/>
            <a:chOff x="2196720" y="1346040"/>
            <a:chExt cx="5653440" cy="3535200"/>
          </a:xfrm>
        </p:grpSpPr>
        <p:sp>
          <p:nvSpPr>
            <p:cNvPr id="202" name=""/>
            <p:cNvSpPr/>
            <p:nvPr/>
          </p:nvSpPr>
          <p:spPr>
            <a:xfrm>
              <a:off x="2200320" y="1350720"/>
              <a:ext cx="1440" cy="352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70200" y="1350720"/>
              <a:ext cx="1440" cy="352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30360" y="1350720"/>
              <a:ext cx="1800" cy="352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97360" y="1350720"/>
              <a:ext cx="0" cy="352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60760" y="1350720"/>
              <a:ext cx="1440" cy="352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87920" y="1350720"/>
              <a:ext cx="1440" cy="352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56360" y="1350720"/>
              <a:ext cx="1440" cy="352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23000" y="1350720"/>
              <a:ext cx="1440" cy="352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27400" y="1350720"/>
              <a:ext cx="0" cy="352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2198520" y="4879800"/>
              <a:ext cx="5634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01760" y="4528800"/>
              <a:ext cx="5626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198520" y="4171680"/>
              <a:ext cx="5632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2201760" y="3831480"/>
              <a:ext cx="5634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01760" y="3111120"/>
              <a:ext cx="562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01760" y="2061720"/>
              <a:ext cx="5629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2201400" y="2404800"/>
              <a:ext cx="562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2196720" y="2757240"/>
              <a:ext cx="5632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2203200" y="1351800"/>
              <a:ext cx="5646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2207880" y="1706400"/>
              <a:ext cx="5630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2197080" y="3468240"/>
              <a:ext cx="5635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91440" y="1346040"/>
              <a:ext cx="1440" cy="352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21360" y="1347480"/>
              <a:ext cx="7920" cy="353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7526160" y="4950000"/>
            <a:ext cx="586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209680" y="1371600"/>
            <a:ext cx="5629320" cy="3533400"/>
            <a:chOff x="2209680" y="1371600"/>
            <a:chExt cx="5629320" cy="3533400"/>
          </a:xfrm>
        </p:grpSpPr>
        <p:sp>
          <p:nvSpPr>
            <p:cNvPr id="226" name=""/>
            <p:cNvSpPr/>
            <p:nvPr/>
          </p:nvSpPr>
          <p:spPr>
            <a:xfrm>
              <a:off x="3272040" y="1371600"/>
              <a:ext cx="4566960" cy="2299680"/>
            </a:xfrm>
            <a:custGeom>
              <a:avLst/>
              <a:gdLst/>
              <a:ahLst/>
              <a:rect l="l" t="t" r="r" b="b"/>
              <a:pathLst>
                <a:path w="4230" h="2130">
                  <a:moveTo>
                    <a:pt x="0" y="2130"/>
                  </a:moveTo>
                  <a:lnTo>
                    <a:pt x="120" y="1962"/>
                  </a:lnTo>
                  <a:lnTo>
                    <a:pt x="252" y="1800"/>
                  </a:lnTo>
                  <a:lnTo>
                    <a:pt x="458" y="1581"/>
                  </a:lnTo>
                  <a:lnTo>
                    <a:pt x="584" y="1455"/>
                  </a:lnTo>
                  <a:lnTo>
                    <a:pt x="756" y="1308"/>
                  </a:lnTo>
                  <a:lnTo>
                    <a:pt x="947" y="1161"/>
                  </a:lnTo>
                  <a:lnTo>
                    <a:pt x="1184" y="1002"/>
                  </a:lnTo>
                  <a:lnTo>
                    <a:pt x="1424" y="858"/>
                  </a:lnTo>
                  <a:lnTo>
                    <a:pt x="1632" y="738"/>
                  </a:lnTo>
                  <a:lnTo>
                    <a:pt x="1926" y="588"/>
                  </a:lnTo>
                  <a:lnTo>
                    <a:pt x="2153" y="489"/>
                  </a:lnTo>
                  <a:lnTo>
                    <a:pt x="2322" y="420"/>
                  </a:lnTo>
                  <a:lnTo>
                    <a:pt x="2508" y="354"/>
                  </a:lnTo>
                  <a:lnTo>
                    <a:pt x="2676" y="300"/>
                  </a:lnTo>
                  <a:lnTo>
                    <a:pt x="2946" y="228"/>
                  </a:lnTo>
                  <a:lnTo>
                    <a:pt x="3198" y="168"/>
                  </a:lnTo>
                  <a:lnTo>
                    <a:pt x="3438" y="120"/>
                  </a:lnTo>
                  <a:lnTo>
                    <a:pt x="3732" y="72"/>
                  </a:lnTo>
                  <a:lnTo>
                    <a:pt x="3930" y="42"/>
                  </a:lnTo>
                  <a:lnTo>
                    <a:pt x="4230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09680" y="3658320"/>
              <a:ext cx="1070640" cy="1246680"/>
            </a:xfrm>
            <a:custGeom>
              <a:avLst/>
              <a:gdLst/>
              <a:ahLst/>
              <a:rect l="l" t="t" r="r" b="b"/>
              <a:pathLst>
                <a:path w="992" h="1155">
                  <a:moveTo>
                    <a:pt x="992" y="0"/>
                  </a:moveTo>
                  <a:lnTo>
                    <a:pt x="876" y="171"/>
                  </a:lnTo>
                  <a:lnTo>
                    <a:pt x="774" y="321"/>
                  </a:lnTo>
                  <a:lnTo>
                    <a:pt x="702" y="423"/>
                  </a:lnTo>
                  <a:lnTo>
                    <a:pt x="630" y="525"/>
                  </a:lnTo>
                  <a:lnTo>
                    <a:pt x="522" y="693"/>
                  </a:lnTo>
                  <a:lnTo>
                    <a:pt x="426" y="831"/>
                  </a:lnTo>
                  <a:lnTo>
                    <a:pt x="330" y="951"/>
                  </a:lnTo>
                  <a:lnTo>
                    <a:pt x="275" y="1014"/>
                  </a:lnTo>
                  <a:lnTo>
                    <a:pt x="200" y="1080"/>
                  </a:lnTo>
                  <a:lnTo>
                    <a:pt x="137" y="1116"/>
                  </a:lnTo>
                  <a:lnTo>
                    <a:pt x="72" y="1143"/>
                  </a:lnTo>
                  <a:lnTo>
                    <a:pt x="0" y="1155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4A4B-F685-41E4-8CBE-4709DAB2C1CF}" type="slidenum">
              <a:t>25</a:t>
            </a:fld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14440" y="2133000"/>
            <a:ext cx="8115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nálogamente, aun perdiendo algun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alabr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l oyente pue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construir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la frase a partir del con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AC3B-B0A9-4426-B44B-E5108983E81A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14440" y="1669680"/>
            <a:ext cx="81151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EJ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i el porcentaje de articulación silábico es del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70 %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¿cuántas frases serán reconocidas de un total de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100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?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F281-EA3C-4C98-B4D3-4EA06BE049C9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874880" y="4962600"/>
            <a:ext cx="668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41440" y="261612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41440" y="296244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41440" y="3306600"/>
            <a:ext cx="6685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40000" y="3656160"/>
            <a:ext cx="668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34960" y="401472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50800" y="440064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01840" y="4756320"/>
            <a:ext cx="706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49360" y="2295360"/>
            <a:ext cx="6685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77880" y="1936800"/>
            <a:ext cx="544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89040" y="1563840"/>
            <a:ext cx="544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82560" y="1219320"/>
            <a:ext cx="546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75000" y="4962600"/>
            <a:ext cx="587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43080" y="496260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11520" y="496260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81400" y="496260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48040" y="49626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16480" y="49626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91080" y="5443560"/>
            <a:ext cx="10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Times New Roman"/>
              </a:rPr>
              <a:t>PAS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877000" y="49500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4950000"/>
            <a:ext cx="587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13520" y="49500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2860560"/>
            <a:ext cx="83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Times New Roman"/>
              </a:rPr>
              <a:t>P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48480" y="4940280"/>
            <a:ext cx="588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200320" y="1349280"/>
            <a:ext cx="5668560" cy="3551400"/>
            <a:chOff x="2200320" y="1349280"/>
            <a:chExt cx="5668560" cy="3551400"/>
          </a:xfrm>
        </p:grpSpPr>
        <p:sp>
          <p:nvSpPr>
            <p:cNvPr id="255" name=""/>
            <p:cNvSpPr/>
            <p:nvPr/>
          </p:nvSpPr>
          <p:spPr>
            <a:xfrm>
              <a:off x="2203200" y="1353600"/>
              <a:ext cx="108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7236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3864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06360" y="1353600"/>
              <a:ext cx="108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74080" y="1353600"/>
              <a:ext cx="108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60952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7616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4460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203200" y="4886640"/>
              <a:ext cx="565488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03200" y="4532760"/>
              <a:ext cx="565488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2203200" y="4177080"/>
              <a:ext cx="56527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01400" y="3826440"/>
              <a:ext cx="565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0320" y="3112560"/>
              <a:ext cx="56613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06800" y="2067480"/>
              <a:ext cx="56505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208240" y="2410200"/>
              <a:ext cx="5651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2201040" y="2760840"/>
              <a:ext cx="56538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201400" y="1352160"/>
              <a:ext cx="566748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212920" y="1706040"/>
              <a:ext cx="5651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2201040" y="3471480"/>
              <a:ext cx="565668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14480" y="1349280"/>
              <a:ext cx="1080" cy="352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862760" y="1349280"/>
              <a:ext cx="720" cy="355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206800" y="1349280"/>
            <a:ext cx="5648040" cy="3533760"/>
          </a:xfrm>
          <a:custGeom>
            <a:avLst/>
            <a:gdLst/>
            <a:ahLst/>
            <a:rect l="l" t="t" r="r" b="b"/>
            <a:pathLst>
              <a:path w="5214" h="3268">
                <a:moveTo>
                  <a:pt x="0" y="3268"/>
                </a:moveTo>
                <a:lnTo>
                  <a:pt x="312" y="3070"/>
                </a:lnTo>
                <a:lnTo>
                  <a:pt x="580" y="2896"/>
                </a:lnTo>
                <a:lnTo>
                  <a:pt x="822" y="2728"/>
                </a:lnTo>
                <a:lnTo>
                  <a:pt x="1129" y="2506"/>
                </a:lnTo>
                <a:lnTo>
                  <a:pt x="1372" y="2323"/>
                </a:lnTo>
                <a:lnTo>
                  <a:pt x="1612" y="2125"/>
                </a:lnTo>
                <a:lnTo>
                  <a:pt x="1800" y="1948"/>
                </a:lnTo>
                <a:lnTo>
                  <a:pt x="1996" y="1741"/>
                </a:lnTo>
                <a:lnTo>
                  <a:pt x="2182" y="1522"/>
                </a:lnTo>
                <a:lnTo>
                  <a:pt x="2344" y="1315"/>
                </a:lnTo>
                <a:lnTo>
                  <a:pt x="2551" y="1060"/>
                </a:lnTo>
                <a:lnTo>
                  <a:pt x="2749" y="841"/>
                </a:lnTo>
                <a:lnTo>
                  <a:pt x="2935" y="664"/>
                </a:lnTo>
                <a:lnTo>
                  <a:pt x="3142" y="505"/>
                </a:lnTo>
                <a:lnTo>
                  <a:pt x="3316" y="403"/>
                </a:lnTo>
                <a:lnTo>
                  <a:pt x="3480" y="328"/>
                </a:lnTo>
                <a:lnTo>
                  <a:pt x="3654" y="268"/>
                </a:lnTo>
                <a:lnTo>
                  <a:pt x="3924" y="192"/>
                </a:lnTo>
                <a:lnTo>
                  <a:pt x="4186" y="133"/>
                </a:lnTo>
                <a:lnTo>
                  <a:pt x="4422" y="88"/>
                </a:lnTo>
                <a:lnTo>
                  <a:pt x="4716" y="42"/>
                </a:lnTo>
                <a:lnTo>
                  <a:pt x="4860" y="28"/>
                </a:lnTo>
                <a:lnTo>
                  <a:pt x="521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09680" y="1636560"/>
            <a:ext cx="3965760" cy="3237120"/>
          </a:xfrm>
          <a:custGeom>
            <a:avLst/>
            <a:gdLst/>
            <a:ahLst/>
            <a:rect l="l" t="t" r="r" b="b"/>
            <a:pathLst>
              <a:path w="2496" h="2016">
                <a:moveTo>
                  <a:pt x="2496" y="2016"/>
                </a:moveTo>
                <a:lnTo>
                  <a:pt x="249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38280" y="1828800"/>
            <a:ext cx="835200" cy="38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9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DDE2-3ED0-4B6F-A273-05384E5AF683}" type="slidenum">
              <a:t>28</a:t>
            </a:fld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874880" y="4962600"/>
            <a:ext cx="668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41440" y="261612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1440" y="296244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41440" y="3306600"/>
            <a:ext cx="6685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40000" y="3656160"/>
            <a:ext cx="668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34960" y="401472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50800" y="440064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01840" y="4756320"/>
            <a:ext cx="706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49360" y="2295360"/>
            <a:ext cx="6685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77880" y="1936800"/>
            <a:ext cx="544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89040" y="1563840"/>
            <a:ext cx="544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82560" y="1219320"/>
            <a:ext cx="546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75000" y="4962600"/>
            <a:ext cx="587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3080" y="496260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11520" y="496260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81400" y="496260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748040" y="49626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16480" y="49626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91080" y="5443560"/>
            <a:ext cx="10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Times New Roman"/>
              </a:rPr>
              <a:t>PAP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877000" y="49500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446880" y="4950000"/>
            <a:ext cx="587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013520" y="49500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90720" y="2860560"/>
            <a:ext cx="83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Times New Roman"/>
              </a:rPr>
              <a:t>P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548480" y="4940280"/>
            <a:ext cx="588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200320" y="1349280"/>
            <a:ext cx="5668560" cy="3551400"/>
            <a:chOff x="2200320" y="1349280"/>
            <a:chExt cx="5668560" cy="3551400"/>
          </a:xfrm>
        </p:grpSpPr>
        <p:sp>
          <p:nvSpPr>
            <p:cNvPr id="305" name=""/>
            <p:cNvSpPr/>
            <p:nvPr/>
          </p:nvSpPr>
          <p:spPr>
            <a:xfrm>
              <a:off x="2203200" y="1353600"/>
              <a:ext cx="108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7236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3864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06360" y="1353600"/>
              <a:ext cx="108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74080" y="1353600"/>
              <a:ext cx="108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0952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7616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4460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4180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203200" y="4886640"/>
              <a:ext cx="565488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03200" y="4532760"/>
              <a:ext cx="565488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2203200" y="4177080"/>
              <a:ext cx="56527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01400" y="3826440"/>
              <a:ext cx="565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00320" y="3112560"/>
              <a:ext cx="56613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06800" y="2067480"/>
              <a:ext cx="56505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2208240" y="2410200"/>
              <a:ext cx="5651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201040" y="2760840"/>
              <a:ext cx="56538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2201400" y="1352160"/>
              <a:ext cx="566748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2212920" y="1706040"/>
              <a:ext cx="5651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201040" y="3471480"/>
              <a:ext cx="565668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14480" y="1349280"/>
              <a:ext cx="1080" cy="352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862760" y="1349280"/>
              <a:ext cx="720" cy="355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2209680" y="1390680"/>
            <a:ext cx="5629320" cy="3476160"/>
            <a:chOff x="2209680" y="1390680"/>
            <a:chExt cx="5629320" cy="3476160"/>
          </a:xfrm>
        </p:grpSpPr>
        <p:sp>
          <p:nvSpPr>
            <p:cNvPr id="328" name=""/>
            <p:cNvSpPr/>
            <p:nvPr/>
          </p:nvSpPr>
          <p:spPr>
            <a:xfrm>
              <a:off x="3272040" y="1390680"/>
              <a:ext cx="4566960" cy="2262240"/>
            </a:xfrm>
            <a:custGeom>
              <a:avLst/>
              <a:gdLst/>
              <a:ahLst/>
              <a:rect l="l" t="t" r="r" b="b"/>
              <a:pathLst>
                <a:path w="4230" h="2130">
                  <a:moveTo>
                    <a:pt x="0" y="2130"/>
                  </a:moveTo>
                  <a:lnTo>
                    <a:pt x="120" y="1962"/>
                  </a:lnTo>
                  <a:lnTo>
                    <a:pt x="252" y="1800"/>
                  </a:lnTo>
                  <a:lnTo>
                    <a:pt x="458" y="1581"/>
                  </a:lnTo>
                  <a:lnTo>
                    <a:pt x="584" y="1455"/>
                  </a:lnTo>
                  <a:lnTo>
                    <a:pt x="756" y="1308"/>
                  </a:lnTo>
                  <a:lnTo>
                    <a:pt x="947" y="1161"/>
                  </a:lnTo>
                  <a:lnTo>
                    <a:pt x="1184" y="1002"/>
                  </a:lnTo>
                  <a:lnTo>
                    <a:pt x="1424" y="858"/>
                  </a:lnTo>
                  <a:lnTo>
                    <a:pt x="1632" y="738"/>
                  </a:lnTo>
                  <a:lnTo>
                    <a:pt x="1926" y="588"/>
                  </a:lnTo>
                  <a:lnTo>
                    <a:pt x="2153" y="489"/>
                  </a:lnTo>
                  <a:lnTo>
                    <a:pt x="2322" y="420"/>
                  </a:lnTo>
                  <a:lnTo>
                    <a:pt x="2508" y="354"/>
                  </a:lnTo>
                  <a:lnTo>
                    <a:pt x="2676" y="300"/>
                  </a:lnTo>
                  <a:lnTo>
                    <a:pt x="2946" y="228"/>
                  </a:lnTo>
                  <a:lnTo>
                    <a:pt x="3198" y="168"/>
                  </a:lnTo>
                  <a:lnTo>
                    <a:pt x="3438" y="120"/>
                  </a:lnTo>
                  <a:lnTo>
                    <a:pt x="3732" y="72"/>
                  </a:lnTo>
                  <a:lnTo>
                    <a:pt x="3930" y="42"/>
                  </a:lnTo>
                  <a:lnTo>
                    <a:pt x="4230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09680" y="3640320"/>
              <a:ext cx="1070640" cy="1226520"/>
            </a:xfrm>
            <a:custGeom>
              <a:avLst/>
              <a:gdLst/>
              <a:ahLst/>
              <a:rect l="l" t="t" r="r" b="b"/>
              <a:pathLst>
                <a:path w="992" h="1155">
                  <a:moveTo>
                    <a:pt x="992" y="0"/>
                  </a:moveTo>
                  <a:lnTo>
                    <a:pt x="876" y="171"/>
                  </a:lnTo>
                  <a:lnTo>
                    <a:pt x="774" y="321"/>
                  </a:lnTo>
                  <a:lnTo>
                    <a:pt x="702" y="423"/>
                  </a:lnTo>
                  <a:lnTo>
                    <a:pt x="630" y="525"/>
                  </a:lnTo>
                  <a:lnTo>
                    <a:pt x="522" y="693"/>
                  </a:lnTo>
                  <a:lnTo>
                    <a:pt x="426" y="831"/>
                  </a:lnTo>
                  <a:lnTo>
                    <a:pt x="330" y="951"/>
                  </a:lnTo>
                  <a:lnTo>
                    <a:pt x="275" y="1014"/>
                  </a:lnTo>
                  <a:lnTo>
                    <a:pt x="200" y="1080"/>
                  </a:lnTo>
                  <a:lnTo>
                    <a:pt x="137" y="1116"/>
                  </a:lnTo>
                  <a:lnTo>
                    <a:pt x="72" y="1143"/>
                  </a:lnTo>
                  <a:lnTo>
                    <a:pt x="0" y="1155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2209680" y="1447920"/>
            <a:ext cx="5181840" cy="3429000"/>
          </a:xfrm>
          <a:custGeom>
            <a:avLst/>
            <a:gdLst/>
            <a:ahLst/>
            <a:rect l="l" t="t" r="r" b="b"/>
            <a:pathLst>
              <a:path w="3312" h="2160">
                <a:moveTo>
                  <a:pt x="3312" y="2160"/>
                </a:moveTo>
                <a:lnTo>
                  <a:pt x="3312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1676520"/>
            <a:ext cx="834840" cy="38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9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8C41-16A1-4F98-87D5-B01D0CDC4DF1}" type="slidenum">
              <a:t>29</a:t>
            </a:fld>
          </a:p>
        </p:txBody>
      </p: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14440" y="2437560"/>
            <a:ext cx="811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Un factor muy importante en una buena acústica es la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inteligibilidad de la palabra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0E2-B209-4AF0-8481-C2345E0F9C5E}" type="slidenum">
              <a:t>3</a:t>
            </a:fld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95320" y="2133000"/>
            <a:ext cx="7353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Vemos que con un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70 %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e sílabas correctas se reconocerán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92 %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e palabras y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97 %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e frases.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573B-54B0-4763-8484-451C4E2B8220}" type="slidenum">
              <a:t>30</a:t>
            </a:fld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895320" y="1523520"/>
            <a:ext cx="7353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l porcentaje de articulación silábica para ambientes típicos con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uy baja reverberación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uede estimarse en función del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nivel de la palabra.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FDB1-FD8E-4ACB-B14B-0D3A678B26DA}" type="slidenum">
              <a:t>31</a:t>
            </a:fld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1333440" y="1295280"/>
            <a:ext cx="800280" cy="3960720"/>
            <a:chOff x="1333440" y="1295280"/>
            <a:chExt cx="800280" cy="3960720"/>
          </a:xfrm>
        </p:grpSpPr>
        <p:sp>
          <p:nvSpPr>
            <p:cNvPr id="335" name=""/>
            <p:cNvSpPr/>
            <p:nvPr/>
          </p:nvSpPr>
          <p:spPr>
            <a:xfrm>
              <a:off x="1494000" y="306864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94000" y="271512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94000" y="34185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88960" y="377028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84280" y="414180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03360" y="45291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97160" y="4889880"/>
              <a:ext cx="66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98680" y="238788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03360" y="20235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17760" y="16437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333440" y="1295280"/>
              <a:ext cx="80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876920" y="5638680"/>
            <a:ext cx="11430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L</a:t>
            </a:r>
            <a:r>
              <a:rPr b="1" i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 [d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438280" y="5105520"/>
            <a:ext cx="6019560" cy="377280"/>
            <a:chOff x="2438280" y="5105520"/>
            <a:chExt cx="6019560" cy="377280"/>
          </a:xfrm>
        </p:grpSpPr>
        <p:sp>
          <p:nvSpPr>
            <p:cNvPr id="348" name=""/>
            <p:cNvSpPr/>
            <p:nvPr/>
          </p:nvSpPr>
          <p:spPr>
            <a:xfrm>
              <a:off x="243828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1940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9836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7912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15844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3920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50772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8704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6240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685800" y="2895480"/>
            <a:ext cx="914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PAS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025720" y="1447920"/>
            <a:ext cx="6203160" cy="3631680"/>
            <a:chOff x="2025720" y="1447920"/>
            <a:chExt cx="6203160" cy="3631680"/>
          </a:xfrm>
        </p:grpSpPr>
        <p:sp>
          <p:nvSpPr>
            <p:cNvPr id="359" name=""/>
            <p:cNvSpPr/>
            <p:nvPr/>
          </p:nvSpPr>
          <p:spPr>
            <a:xfrm flipH="1">
              <a:off x="2036520" y="5077800"/>
              <a:ext cx="6186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36520" y="4715640"/>
              <a:ext cx="6186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036160" y="4353120"/>
              <a:ext cx="6181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36520" y="3979800"/>
              <a:ext cx="6181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30760" y="3260160"/>
              <a:ext cx="6192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030760" y="2178000"/>
              <a:ext cx="6187320" cy="1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041560" y="2530080"/>
              <a:ext cx="6181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030400" y="2898000"/>
              <a:ext cx="6187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25720" y="1453320"/>
              <a:ext cx="6192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2046960" y="1815480"/>
              <a:ext cx="6181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3652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2556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0740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9644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78368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5492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4216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31200" y="1453320"/>
              <a:ext cx="180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7128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2030400" y="3628080"/>
              <a:ext cx="6187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223840" y="1447920"/>
              <a:ext cx="1800" cy="36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030400" y="1515960"/>
            <a:ext cx="6188040" cy="3551400"/>
          </a:xfrm>
          <a:custGeom>
            <a:avLst/>
            <a:gdLst/>
            <a:ahLst/>
            <a:rect l="l" t="t" r="r" b="b"/>
            <a:pathLst>
              <a:path w="3448" h="1979">
                <a:moveTo>
                  <a:pt x="0" y="1979"/>
                </a:moveTo>
                <a:lnTo>
                  <a:pt x="57" y="1970"/>
                </a:lnTo>
                <a:lnTo>
                  <a:pt x="107" y="1955"/>
                </a:lnTo>
                <a:lnTo>
                  <a:pt x="167" y="1937"/>
                </a:lnTo>
                <a:lnTo>
                  <a:pt x="241" y="1911"/>
                </a:lnTo>
                <a:lnTo>
                  <a:pt x="312" y="1878"/>
                </a:lnTo>
                <a:lnTo>
                  <a:pt x="363" y="1848"/>
                </a:lnTo>
                <a:lnTo>
                  <a:pt x="411" y="1818"/>
                </a:lnTo>
                <a:lnTo>
                  <a:pt x="464" y="1774"/>
                </a:lnTo>
                <a:lnTo>
                  <a:pt x="521" y="1717"/>
                </a:lnTo>
                <a:lnTo>
                  <a:pt x="565" y="1666"/>
                </a:lnTo>
                <a:lnTo>
                  <a:pt x="595" y="1622"/>
                </a:lnTo>
                <a:lnTo>
                  <a:pt x="625" y="1569"/>
                </a:lnTo>
                <a:lnTo>
                  <a:pt x="654" y="1512"/>
                </a:lnTo>
                <a:lnTo>
                  <a:pt x="681" y="1459"/>
                </a:lnTo>
                <a:lnTo>
                  <a:pt x="723" y="1367"/>
                </a:lnTo>
                <a:lnTo>
                  <a:pt x="773" y="1260"/>
                </a:lnTo>
                <a:lnTo>
                  <a:pt x="818" y="1168"/>
                </a:lnTo>
                <a:lnTo>
                  <a:pt x="877" y="1061"/>
                </a:lnTo>
                <a:lnTo>
                  <a:pt x="931" y="966"/>
                </a:lnTo>
                <a:lnTo>
                  <a:pt x="972" y="894"/>
                </a:lnTo>
                <a:lnTo>
                  <a:pt x="1011" y="829"/>
                </a:lnTo>
                <a:lnTo>
                  <a:pt x="1050" y="761"/>
                </a:lnTo>
                <a:lnTo>
                  <a:pt x="1097" y="678"/>
                </a:lnTo>
                <a:lnTo>
                  <a:pt x="1133" y="618"/>
                </a:lnTo>
                <a:lnTo>
                  <a:pt x="1171" y="559"/>
                </a:lnTo>
                <a:lnTo>
                  <a:pt x="1246" y="452"/>
                </a:lnTo>
                <a:lnTo>
                  <a:pt x="1320" y="363"/>
                </a:lnTo>
                <a:lnTo>
                  <a:pt x="1377" y="306"/>
                </a:lnTo>
                <a:lnTo>
                  <a:pt x="1421" y="271"/>
                </a:lnTo>
                <a:lnTo>
                  <a:pt x="1481" y="228"/>
                </a:lnTo>
                <a:lnTo>
                  <a:pt x="1541" y="193"/>
                </a:lnTo>
                <a:lnTo>
                  <a:pt x="1614" y="158"/>
                </a:lnTo>
                <a:lnTo>
                  <a:pt x="1739" y="113"/>
                </a:lnTo>
                <a:lnTo>
                  <a:pt x="1846" y="80"/>
                </a:lnTo>
                <a:lnTo>
                  <a:pt x="1941" y="60"/>
                </a:lnTo>
                <a:lnTo>
                  <a:pt x="2060" y="39"/>
                </a:lnTo>
                <a:lnTo>
                  <a:pt x="2224" y="18"/>
                </a:lnTo>
                <a:lnTo>
                  <a:pt x="2298" y="9"/>
                </a:lnTo>
                <a:lnTo>
                  <a:pt x="2482" y="3"/>
                </a:lnTo>
                <a:lnTo>
                  <a:pt x="2684" y="0"/>
                </a:lnTo>
                <a:lnTo>
                  <a:pt x="2759" y="0"/>
                </a:lnTo>
                <a:lnTo>
                  <a:pt x="3062" y="3"/>
                </a:lnTo>
                <a:lnTo>
                  <a:pt x="3353" y="18"/>
                </a:lnTo>
                <a:lnTo>
                  <a:pt x="3448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5114880"/>
            <a:ext cx="53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48CB-984F-4622-93D8-0907F186522B}" type="slidenum">
              <a:t>32</a:t>
            </a:fld>
          </a:p>
        </p:txBody>
      </p:sp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1333440" y="1295280"/>
            <a:ext cx="800280" cy="3960720"/>
            <a:chOff x="1333440" y="1295280"/>
            <a:chExt cx="800280" cy="3960720"/>
          </a:xfrm>
        </p:grpSpPr>
        <p:sp>
          <p:nvSpPr>
            <p:cNvPr id="383" name=""/>
            <p:cNvSpPr/>
            <p:nvPr/>
          </p:nvSpPr>
          <p:spPr>
            <a:xfrm>
              <a:off x="1494000" y="306864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94000" y="271512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94000" y="34185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88960" y="377028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4280" y="414180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503360" y="45291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397160" y="4889880"/>
              <a:ext cx="66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98680" y="238788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03360" y="20235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17760" y="16437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33440" y="1295280"/>
              <a:ext cx="80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4876920" y="5638680"/>
            <a:ext cx="11430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b2b2b2"/>
                </a:solidFill>
                <a:latin typeface="Times New Roman"/>
              </a:rPr>
              <a:t>L</a:t>
            </a:r>
            <a:r>
              <a:rPr b="1" i="1" lang="es-ES_tradnl" sz="2400" spc="-1" strike="noStrike" baseline="-25000">
                <a:solidFill>
                  <a:srgbClr val="b2b2b2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b2b2b2"/>
                </a:solidFill>
                <a:latin typeface="Times New Roman"/>
              </a:rPr>
              <a:t> [d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2438280" y="5105520"/>
            <a:ext cx="6019560" cy="377280"/>
            <a:chOff x="2438280" y="5105520"/>
            <a:chExt cx="6019560" cy="377280"/>
          </a:xfrm>
        </p:grpSpPr>
        <p:sp>
          <p:nvSpPr>
            <p:cNvPr id="396" name=""/>
            <p:cNvSpPr/>
            <p:nvPr/>
          </p:nvSpPr>
          <p:spPr>
            <a:xfrm>
              <a:off x="243828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940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79836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7912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5844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83920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50772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18704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86240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85800" y="2895480"/>
            <a:ext cx="914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Times New Roman"/>
              </a:rPr>
              <a:t>PAS</a:t>
            </a:r>
            <a:br>
              <a:rPr sz="2400"/>
            </a:b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025720" y="1447920"/>
            <a:ext cx="6203160" cy="3631680"/>
            <a:chOff x="2025720" y="1447920"/>
            <a:chExt cx="6203160" cy="3631680"/>
          </a:xfrm>
        </p:grpSpPr>
        <p:sp>
          <p:nvSpPr>
            <p:cNvPr id="407" name=""/>
            <p:cNvSpPr/>
            <p:nvPr/>
          </p:nvSpPr>
          <p:spPr>
            <a:xfrm flipH="1">
              <a:off x="2036520" y="5077800"/>
              <a:ext cx="6186960" cy="180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36520" y="4715640"/>
              <a:ext cx="6186960" cy="144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036160" y="4353120"/>
              <a:ext cx="6181560" cy="144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36520" y="3979800"/>
              <a:ext cx="6181560" cy="504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30760" y="3260160"/>
              <a:ext cx="6192720" cy="180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2030760" y="2178000"/>
              <a:ext cx="6187320" cy="1080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041560" y="2530080"/>
              <a:ext cx="6181560" cy="504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030400" y="2898000"/>
              <a:ext cx="6187320" cy="144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25720" y="1453320"/>
              <a:ext cx="6192720" cy="144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046960" y="1815480"/>
              <a:ext cx="6181920" cy="180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036520" y="1453320"/>
              <a:ext cx="1440" cy="36241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725560" y="1453320"/>
              <a:ext cx="1440" cy="36241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407400" y="1453320"/>
              <a:ext cx="1440" cy="36241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096440" y="1453320"/>
              <a:ext cx="1440" cy="36241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783680" y="1453320"/>
              <a:ext cx="1440" cy="36241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154920" y="1453320"/>
              <a:ext cx="1440" cy="36241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42160" y="1453320"/>
              <a:ext cx="1440" cy="36241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31200" y="1453320"/>
              <a:ext cx="1800" cy="36241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71280" y="1453320"/>
              <a:ext cx="1440" cy="36241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2030400" y="3628080"/>
              <a:ext cx="6187320" cy="180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223840" y="1447920"/>
              <a:ext cx="1800" cy="361908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2030400" y="1515960"/>
            <a:ext cx="6188040" cy="3551400"/>
          </a:xfrm>
          <a:custGeom>
            <a:avLst/>
            <a:gdLst/>
            <a:ahLst/>
            <a:rect l="l" t="t" r="r" b="b"/>
            <a:pathLst>
              <a:path w="3448" h="1979">
                <a:moveTo>
                  <a:pt x="0" y="1979"/>
                </a:moveTo>
                <a:lnTo>
                  <a:pt x="57" y="1970"/>
                </a:lnTo>
                <a:lnTo>
                  <a:pt x="107" y="1955"/>
                </a:lnTo>
                <a:lnTo>
                  <a:pt x="167" y="1937"/>
                </a:lnTo>
                <a:lnTo>
                  <a:pt x="241" y="1911"/>
                </a:lnTo>
                <a:lnTo>
                  <a:pt x="312" y="1878"/>
                </a:lnTo>
                <a:lnTo>
                  <a:pt x="363" y="1848"/>
                </a:lnTo>
                <a:lnTo>
                  <a:pt x="411" y="1818"/>
                </a:lnTo>
                <a:lnTo>
                  <a:pt x="464" y="1774"/>
                </a:lnTo>
                <a:lnTo>
                  <a:pt x="521" y="1717"/>
                </a:lnTo>
                <a:lnTo>
                  <a:pt x="565" y="1666"/>
                </a:lnTo>
                <a:lnTo>
                  <a:pt x="595" y="1622"/>
                </a:lnTo>
                <a:lnTo>
                  <a:pt x="625" y="1569"/>
                </a:lnTo>
                <a:lnTo>
                  <a:pt x="654" y="1512"/>
                </a:lnTo>
                <a:lnTo>
                  <a:pt x="681" y="1459"/>
                </a:lnTo>
                <a:lnTo>
                  <a:pt x="723" y="1367"/>
                </a:lnTo>
                <a:lnTo>
                  <a:pt x="773" y="1260"/>
                </a:lnTo>
                <a:lnTo>
                  <a:pt x="818" y="1168"/>
                </a:lnTo>
                <a:lnTo>
                  <a:pt x="877" y="1061"/>
                </a:lnTo>
                <a:lnTo>
                  <a:pt x="931" y="966"/>
                </a:lnTo>
                <a:lnTo>
                  <a:pt x="972" y="894"/>
                </a:lnTo>
                <a:lnTo>
                  <a:pt x="1011" y="829"/>
                </a:lnTo>
                <a:lnTo>
                  <a:pt x="1050" y="761"/>
                </a:lnTo>
                <a:lnTo>
                  <a:pt x="1097" y="678"/>
                </a:lnTo>
                <a:lnTo>
                  <a:pt x="1133" y="618"/>
                </a:lnTo>
                <a:lnTo>
                  <a:pt x="1171" y="559"/>
                </a:lnTo>
                <a:lnTo>
                  <a:pt x="1246" y="452"/>
                </a:lnTo>
                <a:lnTo>
                  <a:pt x="1320" y="363"/>
                </a:lnTo>
                <a:lnTo>
                  <a:pt x="1377" y="306"/>
                </a:lnTo>
                <a:lnTo>
                  <a:pt x="1421" y="271"/>
                </a:lnTo>
                <a:lnTo>
                  <a:pt x="1481" y="228"/>
                </a:lnTo>
                <a:lnTo>
                  <a:pt x="1541" y="193"/>
                </a:lnTo>
                <a:lnTo>
                  <a:pt x="1614" y="158"/>
                </a:lnTo>
                <a:lnTo>
                  <a:pt x="1739" y="113"/>
                </a:lnTo>
                <a:lnTo>
                  <a:pt x="1846" y="80"/>
                </a:lnTo>
                <a:lnTo>
                  <a:pt x="1941" y="60"/>
                </a:lnTo>
                <a:lnTo>
                  <a:pt x="2060" y="39"/>
                </a:lnTo>
                <a:lnTo>
                  <a:pt x="2224" y="18"/>
                </a:lnTo>
                <a:lnTo>
                  <a:pt x="2298" y="9"/>
                </a:lnTo>
                <a:lnTo>
                  <a:pt x="2482" y="3"/>
                </a:lnTo>
                <a:lnTo>
                  <a:pt x="2684" y="0"/>
                </a:lnTo>
                <a:lnTo>
                  <a:pt x="2759" y="0"/>
                </a:lnTo>
                <a:lnTo>
                  <a:pt x="3062" y="3"/>
                </a:lnTo>
                <a:lnTo>
                  <a:pt x="3353" y="18"/>
                </a:lnTo>
                <a:lnTo>
                  <a:pt x="3448" y="24"/>
                </a:ln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752480" y="5114880"/>
            <a:ext cx="53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95320" y="2742480"/>
            <a:ext cx="735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sí, para un nivel de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40 dB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...   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BEB-58AF-4475-AF37-4B9C1B882F3B}" type="slidenum">
              <a:t>33</a:t>
            </a:fld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1333440" y="1295280"/>
            <a:ext cx="800280" cy="3960720"/>
            <a:chOff x="1333440" y="1295280"/>
            <a:chExt cx="800280" cy="3960720"/>
          </a:xfrm>
        </p:grpSpPr>
        <p:sp>
          <p:nvSpPr>
            <p:cNvPr id="432" name=""/>
            <p:cNvSpPr/>
            <p:nvPr/>
          </p:nvSpPr>
          <p:spPr>
            <a:xfrm>
              <a:off x="1494000" y="306864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94000" y="271512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94000" y="34185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88960" y="377028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484280" y="414180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03360" y="45291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397160" y="4889880"/>
              <a:ext cx="66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498680" y="238788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503360" y="20235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517760" y="16437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33440" y="1295280"/>
              <a:ext cx="80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4876920" y="5638680"/>
            <a:ext cx="11430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L</a:t>
            </a:r>
            <a:r>
              <a:rPr b="1" i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 [d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438280" y="5105520"/>
            <a:ext cx="6019560" cy="377280"/>
            <a:chOff x="2438280" y="5105520"/>
            <a:chExt cx="6019560" cy="377280"/>
          </a:xfrm>
        </p:grpSpPr>
        <p:sp>
          <p:nvSpPr>
            <p:cNvPr id="445" name=""/>
            <p:cNvSpPr/>
            <p:nvPr/>
          </p:nvSpPr>
          <p:spPr>
            <a:xfrm>
              <a:off x="243828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1940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9836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47912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5844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83920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50772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8704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86240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85800" y="2895480"/>
            <a:ext cx="914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PAS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025720" y="1447920"/>
            <a:ext cx="6203160" cy="3631680"/>
            <a:chOff x="2025720" y="1447920"/>
            <a:chExt cx="6203160" cy="3631680"/>
          </a:xfrm>
        </p:grpSpPr>
        <p:sp>
          <p:nvSpPr>
            <p:cNvPr id="456" name=""/>
            <p:cNvSpPr/>
            <p:nvPr/>
          </p:nvSpPr>
          <p:spPr>
            <a:xfrm flipH="1">
              <a:off x="2036520" y="5077800"/>
              <a:ext cx="6186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36520" y="4715640"/>
              <a:ext cx="6186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036160" y="4353120"/>
              <a:ext cx="6181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36520" y="3979800"/>
              <a:ext cx="6181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30760" y="3260160"/>
              <a:ext cx="6192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2030760" y="2178000"/>
              <a:ext cx="6187320" cy="1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2041560" y="2530080"/>
              <a:ext cx="6181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2030400" y="2898000"/>
              <a:ext cx="6187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25720" y="1453320"/>
              <a:ext cx="6192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046960" y="1815480"/>
              <a:ext cx="6181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3652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2556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40740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9644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78368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5492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4216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531200" y="1453320"/>
              <a:ext cx="180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7128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2030400" y="3628080"/>
              <a:ext cx="6187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23840" y="1447920"/>
              <a:ext cx="1800" cy="36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2030400" y="1515960"/>
            <a:ext cx="6188040" cy="3551400"/>
          </a:xfrm>
          <a:custGeom>
            <a:avLst/>
            <a:gdLst/>
            <a:ahLst/>
            <a:rect l="l" t="t" r="r" b="b"/>
            <a:pathLst>
              <a:path w="3448" h="1979">
                <a:moveTo>
                  <a:pt x="0" y="1979"/>
                </a:moveTo>
                <a:lnTo>
                  <a:pt x="57" y="1970"/>
                </a:lnTo>
                <a:lnTo>
                  <a:pt x="107" y="1955"/>
                </a:lnTo>
                <a:lnTo>
                  <a:pt x="167" y="1937"/>
                </a:lnTo>
                <a:lnTo>
                  <a:pt x="241" y="1911"/>
                </a:lnTo>
                <a:lnTo>
                  <a:pt x="312" y="1878"/>
                </a:lnTo>
                <a:lnTo>
                  <a:pt x="363" y="1848"/>
                </a:lnTo>
                <a:lnTo>
                  <a:pt x="411" y="1818"/>
                </a:lnTo>
                <a:lnTo>
                  <a:pt x="464" y="1774"/>
                </a:lnTo>
                <a:lnTo>
                  <a:pt x="521" y="1717"/>
                </a:lnTo>
                <a:lnTo>
                  <a:pt x="565" y="1666"/>
                </a:lnTo>
                <a:lnTo>
                  <a:pt x="595" y="1622"/>
                </a:lnTo>
                <a:lnTo>
                  <a:pt x="625" y="1569"/>
                </a:lnTo>
                <a:lnTo>
                  <a:pt x="654" y="1512"/>
                </a:lnTo>
                <a:lnTo>
                  <a:pt x="681" y="1459"/>
                </a:lnTo>
                <a:lnTo>
                  <a:pt x="723" y="1367"/>
                </a:lnTo>
                <a:lnTo>
                  <a:pt x="773" y="1260"/>
                </a:lnTo>
                <a:lnTo>
                  <a:pt x="818" y="1168"/>
                </a:lnTo>
                <a:lnTo>
                  <a:pt x="877" y="1061"/>
                </a:lnTo>
                <a:lnTo>
                  <a:pt x="931" y="966"/>
                </a:lnTo>
                <a:lnTo>
                  <a:pt x="972" y="894"/>
                </a:lnTo>
                <a:lnTo>
                  <a:pt x="1011" y="829"/>
                </a:lnTo>
                <a:lnTo>
                  <a:pt x="1050" y="761"/>
                </a:lnTo>
                <a:lnTo>
                  <a:pt x="1097" y="678"/>
                </a:lnTo>
                <a:lnTo>
                  <a:pt x="1133" y="618"/>
                </a:lnTo>
                <a:lnTo>
                  <a:pt x="1171" y="559"/>
                </a:lnTo>
                <a:lnTo>
                  <a:pt x="1246" y="452"/>
                </a:lnTo>
                <a:lnTo>
                  <a:pt x="1320" y="363"/>
                </a:lnTo>
                <a:lnTo>
                  <a:pt x="1377" y="306"/>
                </a:lnTo>
                <a:lnTo>
                  <a:pt x="1421" y="271"/>
                </a:lnTo>
                <a:lnTo>
                  <a:pt x="1481" y="228"/>
                </a:lnTo>
                <a:lnTo>
                  <a:pt x="1541" y="193"/>
                </a:lnTo>
                <a:lnTo>
                  <a:pt x="1614" y="158"/>
                </a:lnTo>
                <a:lnTo>
                  <a:pt x="1739" y="113"/>
                </a:lnTo>
                <a:lnTo>
                  <a:pt x="1846" y="80"/>
                </a:lnTo>
                <a:lnTo>
                  <a:pt x="1941" y="60"/>
                </a:lnTo>
                <a:lnTo>
                  <a:pt x="2060" y="39"/>
                </a:lnTo>
                <a:lnTo>
                  <a:pt x="2224" y="18"/>
                </a:lnTo>
                <a:lnTo>
                  <a:pt x="2298" y="9"/>
                </a:lnTo>
                <a:lnTo>
                  <a:pt x="2482" y="3"/>
                </a:lnTo>
                <a:lnTo>
                  <a:pt x="2684" y="0"/>
                </a:lnTo>
                <a:lnTo>
                  <a:pt x="2759" y="0"/>
                </a:lnTo>
                <a:lnTo>
                  <a:pt x="3062" y="3"/>
                </a:lnTo>
                <a:lnTo>
                  <a:pt x="3353" y="18"/>
                </a:lnTo>
                <a:lnTo>
                  <a:pt x="3448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52480" y="5114880"/>
            <a:ext cx="53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043000" y="1881360"/>
            <a:ext cx="2738520" cy="3176280"/>
          </a:xfrm>
          <a:custGeom>
            <a:avLst/>
            <a:gdLst/>
            <a:ahLst/>
            <a:rect l="l" t="t" r="r" b="b"/>
            <a:pathLst>
              <a:path w="1776" h="2016">
                <a:moveTo>
                  <a:pt x="1776" y="2016"/>
                </a:moveTo>
                <a:lnTo>
                  <a:pt x="177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362320" y="2057400"/>
            <a:ext cx="834840" cy="3808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8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54CC-95BE-4338-A9D9-F1A837853EE1}" type="slidenum">
              <a:t>34</a:t>
            </a:fld>
          </a:p>
        </p:txBody>
      </p:sp>
    </p:spTree>
  </p:cSld>
  <p:transition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1333440" y="1295280"/>
            <a:ext cx="800280" cy="3960720"/>
            <a:chOff x="1333440" y="1295280"/>
            <a:chExt cx="800280" cy="3960720"/>
          </a:xfrm>
        </p:grpSpPr>
        <p:sp>
          <p:nvSpPr>
            <p:cNvPr id="482" name=""/>
            <p:cNvSpPr/>
            <p:nvPr/>
          </p:nvSpPr>
          <p:spPr>
            <a:xfrm>
              <a:off x="1494000" y="306864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494000" y="271512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94000" y="34185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488960" y="377028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84280" y="414180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503360" y="45291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97160" y="4889880"/>
              <a:ext cx="66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98680" y="238788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503360" y="20235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517760" y="16437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33440" y="1295280"/>
              <a:ext cx="80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4876920" y="5638680"/>
            <a:ext cx="11430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b2b2b2"/>
                </a:solidFill>
                <a:latin typeface="Times New Roman"/>
              </a:rPr>
              <a:t>L</a:t>
            </a:r>
            <a:r>
              <a:rPr b="1" i="1" lang="es-ES_tradnl" sz="2400" spc="-1" strike="noStrike" baseline="-25000">
                <a:solidFill>
                  <a:srgbClr val="b2b2b2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b2b2b2"/>
                </a:solidFill>
                <a:latin typeface="Times New Roman"/>
              </a:rPr>
              <a:t> [d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438280" y="5105520"/>
            <a:ext cx="6019560" cy="377280"/>
            <a:chOff x="2438280" y="5105520"/>
            <a:chExt cx="6019560" cy="377280"/>
          </a:xfrm>
        </p:grpSpPr>
        <p:sp>
          <p:nvSpPr>
            <p:cNvPr id="495" name=""/>
            <p:cNvSpPr/>
            <p:nvPr/>
          </p:nvSpPr>
          <p:spPr>
            <a:xfrm>
              <a:off x="243828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11940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79836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7912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15844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83920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0772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8704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86240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685800" y="2895480"/>
            <a:ext cx="914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Times New Roman"/>
              </a:rPr>
              <a:t>PAS</a:t>
            </a:r>
            <a:br>
              <a:rPr sz="2400"/>
            </a:b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2025720" y="1447920"/>
            <a:ext cx="6203160" cy="3631680"/>
            <a:chOff x="2025720" y="1447920"/>
            <a:chExt cx="6203160" cy="3631680"/>
          </a:xfrm>
        </p:grpSpPr>
        <p:sp>
          <p:nvSpPr>
            <p:cNvPr id="506" name=""/>
            <p:cNvSpPr/>
            <p:nvPr/>
          </p:nvSpPr>
          <p:spPr>
            <a:xfrm flipH="1">
              <a:off x="2036520" y="5077800"/>
              <a:ext cx="6186960" cy="180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36520" y="4715640"/>
              <a:ext cx="6186960" cy="144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2036160" y="4353120"/>
              <a:ext cx="6181560" cy="144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36520" y="3979800"/>
              <a:ext cx="6181560" cy="504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30760" y="3260160"/>
              <a:ext cx="6192720" cy="180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2030760" y="2178000"/>
              <a:ext cx="6187320" cy="1080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2041560" y="2530080"/>
              <a:ext cx="6181560" cy="504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030400" y="2898000"/>
              <a:ext cx="6187320" cy="144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25720" y="1453320"/>
              <a:ext cx="6192720" cy="144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2046960" y="1815480"/>
              <a:ext cx="6181920" cy="180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036520" y="1453320"/>
              <a:ext cx="1440" cy="362412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25560" y="1453320"/>
              <a:ext cx="1440" cy="362412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407400" y="1453320"/>
              <a:ext cx="1440" cy="362412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96440" y="1453320"/>
              <a:ext cx="1440" cy="362412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83680" y="1453320"/>
              <a:ext cx="1440" cy="362412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54920" y="1453320"/>
              <a:ext cx="1440" cy="362412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42160" y="1453320"/>
              <a:ext cx="1440" cy="362412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531200" y="1453320"/>
              <a:ext cx="1800" cy="362412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71280" y="1453320"/>
              <a:ext cx="1440" cy="362412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2030400" y="3628080"/>
              <a:ext cx="6187320" cy="180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223840" y="1447920"/>
              <a:ext cx="1800" cy="361908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2030400" y="1515960"/>
            <a:ext cx="6188040" cy="3551400"/>
          </a:xfrm>
          <a:custGeom>
            <a:avLst/>
            <a:gdLst/>
            <a:ahLst/>
            <a:rect l="l" t="t" r="r" b="b"/>
            <a:pathLst>
              <a:path w="3448" h="1979">
                <a:moveTo>
                  <a:pt x="0" y="1979"/>
                </a:moveTo>
                <a:lnTo>
                  <a:pt x="57" y="1970"/>
                </a:lnTo>
                <a:lnTo>
                  <a:pt x="107" y="1955"/>
                </a:lnTo>
                <a:lnTo>
                  <a:pt x="167" y="1937"/>
                </a:lnTo>
                <a:lnTo>
                  <a:pt x="241" y="1911"/>
                </a:lnTo>
                <a:lnTo>
                  <a:pt x="312" y="1878"/>
                </a:lnTo>
                <a:lnTo>
                  <a:pt x="363" y="1848"/>
                </a:lnTo>
                <a:lnTo>
                  <a:pt x="411" y="1818"/>
                </a:lnTo>
                <a:lnTo>
                  <a:pt x="464" y="1774"/>
                </a:lnTo>
                <a:lnTo>
                  <a:pt x="521" y="1717"/>
                </a:lnTo>
                <a:lnTo>
                  <a:pt x="565" y="1666"/>
                </a:lnTo>
                <a:lnTo>
                  <a:pt x="595" y="1622"/>
                </a:lnTo>
                <a:lnTo>
                  <a:pt x="625" y="1569"/>
                </a:lnTo>
                <a:lnTo>
                  <a:pt x="654" y="1512"/>
                </a:lnTo>
                <a:lnTo>
                  <a:pt x="681" y="1459"/>
                </a:lnTo>
                <a:lnTo>
                  <a:pt x="723" y="1367"/>
                </a:lnTo>
                <a:lnTo>
                  <a:pt x="773" y="1260"/>
                </a:lnTo>
                <a:lnTo>
                  <a:pt x="818" y="1168"/>
                </a:lnTo>
                <a:lnTo>
                  <a:pt x="877" y="1061"/>
                </a:lnTo>
                <a:lnTo>
                  <a:pt x="931" y="966"/>
                </a:lnTo>
                <a:lnTo>
                  <a:pt x="972" y="894"/>
                </a:lnTo>
                <a:lnTo>
                  <a:pt x="1011" y="829"/>
                </a:lnTo>
                <a:lnTo>
                  <a:pt x="1050" y="761"/>
                </a:lnTo>
                <a:lnTo>
                  <a:pt x="1097" y="678"/>
                </a:lnTo>
                <a:lnTo>
                  <a:pt x="1133" y="618"/>
                </a:lnTo>
                <a:lnTo>
                  <a:pt x="1171" y="559"/>
                </a:lnTo>
                <a:lnTo>
                  <a:pt x="1246" y="452"/>
                </a:lnTo>
                <a:lnTo>
                  <a:pt x="1320" y="363"/>
                </a:lnTo>
                <a:lnTo>
                  <a:pt x="1377" y="306"/>
                </a:lnTo>
                <a:lnTo>
                  <a:pt x="1421" y="271"/>
                </a:lnTo>
                <a:lnTo>
                  <a:pt x="1481" y="228"/>
                </a:lnTo>
                <a:lnTo>
                  <a:pt x="1541" y="193"/>
                </a:lnTo>
                <a:lnTo>
                  <a:pt x="1614" y="158"/>
                </a:lnTo>
                <a:lnTo>
                  <a:pt x="1739" y="113"/>
                </a:lnTo>
                <a:lnTo>
                  <a:pt x="1846" y="80"/>
                </a:lnTo>
                <a:lnTo>
                  <a:pt x="1941" y="60"/>
                </a:lnTo>
                <a:lnTo>
                  <a:pt x="2060" y="39"/>
                </a:lnTo>
                <a:lnTo>
                  <a:pt x="2224" y="18"/>
                </a:lnTo>
                <a:lnTo>
                  <a:pt x="2298" y="9"/>
                </a:lnTo>
                <a:lnTo>
                  <a:pt x="2482" y="3"/>
                </a:lnTo>
                <a:lnTo>
                  <a:pt x="2684" y="0"/>
                </a:lnTo>
                <a:lnTo>
                  <a:pt x="2759" y="0"/>
                </a:lnTo>
                <a:lnTo>
                  <a:pt x="3062" y="3"/>
                </a:lnTo>
                <a:lnTo>
                  <a:pt x="3353" y="18"/>
                </a:lnTo>
                <a:lnTo>
                  <a:pt x="3448" y="24"/>
                </a:ln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752480" y="5114880"/>
            <a:ext cx="53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043000" y="1881360"/>
            <a:ext cx="2738520" cy="3176280"/>
          </a:xfrm>
          <a:custGeom>
            <a:avLst/>
            <a:gdLst/>
            <a:ahLst/>
            <a:rect l="l" t="t" r="r" b="b"/>
            <a:pathLst>
              <a:path w="1776" h="2016">
                <a:moveTo>
                  <a:pt x="1776" y="2016"/>
                </a:moveTo>
                <a:lnTo>
                  <a:pt x="177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b2b2b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95320" y="2742480"/>
            <a:ext cx="735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... se percibe correctamente un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88 %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e la sílabas.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F87F-7626-43AF-B672-CF9A7C68F9BC}" type="slidenum">
              <a:t>35</a:t>
            </a:fld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895320" y="1828080"/>
            <a:ext cx="7353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l agregar ruido ambiente, la inteligibilidad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mpeor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para un mismo nivel vocal. Por ejemplo, para un ruido </a:t>
            </a:r>
            <a:br>
              <a:rPr sz="4000"/>
            </a:b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e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43 dB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...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2788-CF1B-43F5-90A1-AC1F6617A262}" type="slidenum">
              <a:t>36</a:t>
            </a:fld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"/>
          <p:cNvGrpSpPr/>
          <p:nvPr/>
        </p:nvGrpSpPr>
        <p:grpSpPr>
          <a:xfrm>
            <a:off x="1333440" y="1295280"/>
            <a:ext cx="800280" cy="3960720"/>
            <a:chOff x="1333440" y="1295280"/>
            <a:chExt cx="800280" cy="3960720"/>
          </a:xfrm>
        </p:grpSpPr>
        <p:sp>
          <p:nvSpPr>
            <p:cNvPr id="533" name=""/>
            <p:cNvSpPr/>
            <p:nvPr/>
          </p:nvSpPr>
          <p:spPr>
            <a:xfrm>
              <a:off x="1494000" y="306864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94000" y="271512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494000" y="34185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488960" y="377028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84280" y="414180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503360" y="45291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397160" y="4889880"/>
              <a:ext cx="66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98680" y="238788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503360" y="20235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517760" y="16437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33440" y="1295280"/>
              <a:ext cx="80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4876920" y="5638680"/>
            <a:ext cx="11430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L</a:t>
            </a:r>
            <a:r>
              <a:rPr b="1" i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 (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438280" y="5105520"/>
            <a:ext cx="6019560" cy="377280"/>
            <a:chOff x="2438280" y="5105520"/>
            <a:chExt cx="6019560" cy="377280"/>
          </a:xfrm>
        </p:grpSpPr>
        <p:sp>
          <p:nvSpPr>
            <p:cNvPr id="546" name=""/>
            <p:cNvSpPr/>
            <p:nvPr/>
          </p:nvSpPr>
          <p:spPr>
            <a:xfrm>
              <a:off x="243828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1940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9836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7912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5844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3920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0772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18704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86240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85800" y="2895480"/>
            <a:ext cx="914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PAS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025720" y="1447920"/>
            <a:ext cx="6203160" cy="3631680"/>
            <a:chOff x="2025720" y="1447920"/>
            <a:chExt cx="6203160" cy="3631680"/>
          </a:xfrm>
        </p:grpSpPr>
        <p:sp>
          <p:nvSpPr>
            <p:cNvPr id="557" name=""/>
            <p:cNvSpPr/>
            <p:nvPr/>
          </p:nvSpPr>
          <p:spPr>
            <a:xfrm flipH="1">
              <a:off x="2036520" y="5077800"/>
              <a:ext cx="6186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036520" y="4715640"/>
              <a:ext cx="6186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2036160" y="4353120"/>
              <a:ext cx="6181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036520" y="3979800"/>
              <a:ext cx="6181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030760" y="3260160"/>
              <a:ext cx="6192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2030760" y="2178000"/>
              <a:ext cx="6187320" cy="1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2041560" y="2530080"/>
              <a:ext cx="6181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2030400" y="2898000"/>
              <a:ext cx="6187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025720" y="1453320"/>
              <a:ext cx="6192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2046960" y="1815480"/>
              <a:ext cx="6181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03652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2556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0740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09644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78368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15492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4216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531200" y="1453320"/>
              <a:ext cx="180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47128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030400" y="3628080"/>
              <a:ext cx="6187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223840" y="1447920"/>
              <a:ext cx="1800" cy="36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2030400" y="1515960"/>
            <a:ext cx="6188040" cy="3551400"/>
          </a:xfrm>
          <a:custGeom>
            <a:avLst/>
            <a:gdLst/>
            <a:ahLst/>
            <a:rect l="l" t="t" r="r" b="b"/>
            <a:pathLst>
              <a:path w="3448" h="1979">
                <a:moveTo>
                  <a:pt x="0" y="1979"/>
                </a:moveTo>
                <a:lnTo>
                  <a:pt x="57" y="1970"/>
                </a:lnTo>
                <a:lnTo>
                  <a:pt x="107" y="1955"/>
                </a:lnTo>
                <a:lnTo>
                  <a:pt x="167" y="1937"/>
                </a:lnTo>
                <a:lnTo>
                  <a:pt x="241" y="1911"/>
                </a:lnTo>
                <a:lnTo>
                  <a:pt x="312" y="1878"/>
                </a:lnTo>
                <a:lnTo>
                  <a:pt x="363" y="1848"/>
                </a:lnTo>
                <a:lnTo>
                  <a:pt x="411" y="1818"/>
                </a:lnTo>
                <a:lnTo>
                  <a:pt x="464" y="1774"/>
                </a:lnTo>
                <a:lnTo>
                  <a:pt x="521" y="1717"/>
                </a:lnTo>
                <a:lnTo>
                  <a:pt x="565" y="1666"/>
                </a:lnTo>
                <a:lnTo>
                  <a:pt x="595" y="1622"/>
                </a:lnTo>
                <a:lnTo>
                  <a:pt x="625" y="1569"/>
                </a:lnTo>
                <a:lnTo>
                  <a:pt x="654" y="1512"/>
                </a:lnTo>
                <a:lnTo>
                  <a:pt x="681" y="1459"/>
                </a:lnTo>
                <a:lnTo>
                  <a:pt x="723" y="1367"/>
                </a:lnTo>
                <a:lnTo>
                  <a:pt x="773" y="1260"/>
                </a:lnTo>
                <a:lnTo>
                  <a:pt x="818" y="1168"/>
                </a:lnTo>
                <a:lnTo>
                  <a:pt x="877" y="1061"/>
                </a:lnTo>
                <a:lnTo>
                  <a:pt x="931" y="966"/>
                </a:lnTo>
                <a:lnTo>
                  <a:pt x="972" y="894"/>
                </a:lnTo>
                <a:lnTo>
                  <a:pt x="1011" y="829"/>
                </a:lnTo>
                <a:lnTo>
                  <a:pt x="1050" y="761"/>
                </a:lnTo>
                <a:lnTo>
                  <a:pt x="1097" y="678"/>
                </a:lnTo>
                <a:lnTo>
                  <a:pt x="1133" y="618"/>
                </a:lnTo>
                <a:lnTo>
                  <a:pt x="1171" y="559"/>
                </a:lnTo>
                <a:lnTo>
                  <a:pt x="1246" y="452"/>
                </a:lnTo>
                <a:lnTo>
                  <a:pt x="1320" y="363"/>
                </a:lnTo>
                <a:lnTo>
                  <a:pt x="1377" y="306"/>
                </a:lnTo>
                <a:lnTo>
                  <a:pt x="1421" y="271"/>
                </a:lnTo>
                <a:lnTo>
                  <a:pt x="1481" y="228"/>
                </a:lnTo>
                <a:lnTo>
                  <a:pt x="1541" y="193"/>
                </a:lnTo>
                <a:lnTo>
                  <a:pt x="1614" y="158"/>
                </a:lnTo>
                <a:lnTo>
                  <a:pt x="1739" y="113"/>
                </a:lnTo>
                <a:lnTo>
                  <a:pt x="1846" y="80"/>
                </a:lnTo>
                <a:lnTo>
                  <a:pt x="1941" y="60"/>
                </a:lnTo>
                <a:lnTo>
                  <a:pt x="2060" y="39"/>
                </a:lnTo>
                <a:lnTo>
                  <a:pt x="2224" y="18"/>
                </a:lnTo>
                <a:lnTo>
                  <a:pt x="2298" y="9"/>
                </a:lnTo>
                <a:lnTo>
                  <a:pt x="2482" y="3"/>
                </a:lnTo>
                <a:lnTo>
                  <a:pt x="2684" y="0"/>
                </a:lnTo>
                <a:lnTo>
                  <a:pt x="2759" y="0"/>
                </a:lnTo>
                <a:lnTo>
                  <a:pt x="3062" y="3"/>
                </a:lnTo>
                <a:lnTo>
                  <a:pt x="3353" y="18"/>
                </a:lnTo>
                <a:lnTo>
                  <a:pt x="3448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752480" y="5114880"/>
            <a:ext cx="53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C701-9A89-4D70-908E-DD6EA5AE28EB}" type="slidenum">
              <a:t>37</a:t>
            </a:fld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038320" y="1515960"/>
            <a:ext cx="6188040" cy="3551400"/>
          </a:xfrm>
          <a:custGeom>
            <a:avLst/>
            <a:gdLst/>
            <a:ahLst/>
            <a:rect l="l" t="t" r="r" b="b"/>
            <a:pathLst>
              <a:path w="3448" h="1979">
                <a:moveTo>
                  <a:pt x="0" y="1979"/>
                </a:moveTo>
                <a:lnTo>
                  <a:pt x="57" y="1970"/>
                </a:lnTo>
                <a:lnTo>
                  <a:pt x="107" y="1955"/>
                </a:lnTo>
                <a:lnTo>
                  <a:pt x="167" y="1937"/>
                </a:lnTo>
                <a:lnTo>
                  <a:pt x="241" y="1911"/>
                </a:lnTo>
                <a:lnTo>
                  <a:pt x="312" y="1878"/>
                </a:lnTo>
                <a:lnTo>
                  <a:pt x="363" y="1848"/>
                </a:lnTo>
                <a:lnTo>
                  <a:pt x="411" y="1818"/>
                </a:lnTo>
                <a:lnTo>
                  <a:pt x="464" y="1774"/>
                </a:lnTo>
                <a:lnTo>
                  <a:pt x="521" y="1717"/>
                </a:lnTo>
                <a:lnTo>
                  <a:pt x="565" y="1666"/>
                </a:lnTo>
                <a:lnTo>
                  <a:pt x="595" y="1622"/>
                </a:lnTo>
                <a:lnTo>
                  <a:pt x="625" y="1569"/>
                </a:lnTo>
                <a:lnTo>
                  <a:pt x="654" y="1512"/>
                </a:lnTo>
                <a:lnTo>
                  <a:pt x="681" y="1459"/>
                </a:lnTo>
                <a:lnTo>
                  <a:pt x="723" y="1367"/>
                </a:lnTo>
                <a:lnTo>
                  <a:pt x="773" y="1260"/>
                </a:lnTo>
                <a:lnTo>
                  <a:pt x="818" y="1168"/>
                </a:lnTo>
                <a:lnTo>
                  <a:pt x="877" y="1061"/>
                </a:lnTo>
                <a:lnTo>
                  <a:pt x="931" y="966"/>
                </a:lnTo>
                <a:lnTo>
                  <a:pt x="972" y="894"/>
                </a:lnTo>
                <a:lnTo>
                  <a:pt x="1011" y="829"/>
                </a:lnTo>
                <a:lnTo>
                  <a:pt x="1050" y="761"/>
                </a:lnTo>
                <a:lnTo>
                  <a:pt x="1097" y="678"/>
                </a:lnTo>
                <a:lnTo>
                  <a:pt x="1133" y="618"/>
                </a:lnTo>
                <a:lnTo>
                  <a:pt x="1171" y="559"/>
                </a:lnTo>
                <a:lnTo>
                  <a:pt x="1246" y="452"/>
                </a:lnTo>
                <a:lnTo>
                  <a:pt x="1320" y="363"/>
                </a:lnTo>
                <a:lnTo>
                  <a:pt x="1377" y="306"/>
                </a:lnTo>
                <a:lnTo>
                  <a:pt x="1421" y="271"/>
                </a:lnTo>
                <a:lnTo>
                  <a:pt x="1481" y="228"/>
                </a:lnTo>
                <a:lnTo>
                  <a:pt x="1541" y="193"/>
                </a:lnTo>
                <a:lnTo>
                  <a:pt x="1614" y="158"/>
                </a:lnTo>
                <a:lnTo>
                  <a:pt x="1739" y="113"/>
                </a:lnTo>
                <a:lnTo>
                  <a:pt x="1846" y="80"/>
                </a:lnTo>
                <a:lnTo>
                  <a:pt x="1941" y="60"/>
                </a:lnTo>
                <a:lnTo>
                  <a:pt x="2060" y="39"/>
                </a:lnTo>
                <a:lnTo>
                  <a:pt x="2224" y="18"/>
                </a:lnTo>
                <a:lnTo>
                  <a:pt x="2298" y="9"/>
                </a:lnTo>
                <a:lnTo>
                  <a:pt x="2482" y="3"/>
                </a:lnTo>
                <a:lnTo>
                  <a:pt x="2684" y="0"/>
                </a:lnTo>
                <a:lnTo>
                  <a:pt x="2759" y="0"/>
                </a:lnTo>
                <a:lnTo>
                  <a:pt x="3062" y="3"/>
                </a:lnTo>
                <a:lnTo>
                  <a:pt x="3353" y="18"/>
                </a:lnTo>
                <a:lnTo>
                  <a:pt x="3448" y="24"/>
                </a:lnTo>
              </a:path>
            </a:pathLst>
          </a:custGeom>
          <a:noFill/>
          <a:ln w="38160">
            <a:solidFill>
              <a:srgbClr val="333399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1333440" y="1295280"/>
            <a:ext cx="800280" cy="3960720"/>
            <a:chOff x="1333440" y="1295280"/>
            <a:chExt cx="800280" cy="3960720"/>
          </a:xfrm>
        </p:grpSpPr>
        <p:sp>
          <p:nvSpPr>
            <p:cNvPr id="582" name=""/>
            <p:cNvSpPr/>
            <p:nvPr/>
          </p:nvSpPr>
          <p:spPr>
            <a:xfrm>
              <a:off x="1494000" y="306864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494000" y="271512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494000" y="34185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488960" y="377028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484280" y="414180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03360" y="45291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397160" y="4889880"/>
              <a:ext cx="66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498680" y="238788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03360" y="20235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517760" y="16437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333440" y="1295280"/>
              <a:ext cx="80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4876920" y="5638680"/>
            <a:ext cx="11430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L</a:t>
            </a:r>
            <a:r>
              <a:rPr b="1" i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 (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2438280" y="5105520"/>
            <a:ext cx="6019560" cy="377280"/>
            <a:chOff x="2438280" y="5105520"/>
            <a:chExt cx="6019560" cy="377280"/>
          </a:xfrm>
        </p:grpSpPr>
        <p:sp>
          <p:nvSpPr>
            <p:cNvPr id="595" name=""/>
            <p:cNvSpPr/>
            <p:nvPr/>
          </p:nvSpPr>
          <p:spPr>
            <a:xfrm>
              <a:off x="243828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1940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9836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47912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15844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3920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0772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18704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86240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685800" y="2895480"/>
            <a:ext cx="914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PAS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2025720" y="1447920"/>
            <a:ext cx="6203160" cy="3631680"/>
            <a:chOff x="2025720" y="1447920"/>
            <a:chExt cx="6203160" cy="3631680"/>
          </a:xfrm>
        </p:grpSpPr>
        <p:sp>
          <p:nvSpPr>
            <p:cNvPr id="606" name=""/>
            <p:cNvSpPr/>
            <p:nvPr/>
          </p:nvSpPr>
          <p:spPr>
            <a:xfrm flipH="1">
              <a:off x="2036520" y="5077800"/>
              <a:ext cx="6186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036520" y="4715640"/>
              <a:ext cx="6186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2036160" y="4353120"/>
              <a:ext cx="6181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036520" y="3979800"/>
              <a:ext cx="6181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030760" y="3260160"/>
              <a:ext cx="6192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2030760" y="2178000"/>
              <a:ext cx="6187320" cy="1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2041560" y="2530080"/>
              <a:ext cx="6181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2030400" y="2898000"/>
              <a:ext cx="6187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025720" y="1453320"/>
              <a:ext cx="6192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2046960" y="1815480"/>
              <a:ext cx="6181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03652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72556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40740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9644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78368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5492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4216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531200" y="1453320"/>
              <a:ext cx="180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47128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2030400" y="3628080"/>
              <a:ext cx="6187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223840" y="1447920"/>
              <a:ext cx="1800" cy="36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1752480" y="5114880"/>
            <a:ext cx="53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438280" y="1515960"/>
            <a:ext cx="5775480" cy="3551400"/>
          </a:xfrm>
          <a:custGeom>
            <a:avLst/>
            <a:gdLst/>
            <a:ahLst/>
            <a:rect l="l" t="t" r="r" b="b"/>
            <a:pathLst>
              <a:path w="3638" h="2237">
                <a:moveTo>
                  <a:pt x="0" y="2237"/>
                </a:moveTo>
                <a:lnTo>
                  <a:pt x="64" y="2227"/>
                </a:lnTo>
                <a:lnTo>
                  <a:pt x="121" y="2210"/>
                </a:lnTo>
                <a:lnTo>
                  <a:pt x="189" y="2190"/>
                </a:lnTo>
                <a:lnTo>
                  <a:pt x="272" y="2160"/>
                </a:lnTo>
                <a:lnTo>
                  <a:pt x="353" y="2123"/>
                </a:lnTo>
                <a:lnTo>
                  <a:pt x="410" y="2089"/>
                </a:lnTo>
                <a:lnTo>
                  <a:pt x="465" y="2055"/>
                </a:lnTo>
                <a:lnTo>
                  <a:pt x="525" y="2005"/>
                </a:lnTo>
                <a:lnTo>
                  <a:pt x="589" y="1941"/>
                </a:lnTo>
                <a:lnTo>
                  <a:pt x="639" y="1883"/>
                </a:lnTo>
                <a:lnTo>
                  <a:pt x="673" y="1833"/>
                </a:lnTo>
                <a:lnTo>
                  <a:pt x="707" y="1774"/>
                </a:lnTo>
                <a:lnTo>
                  <a:pt x="739" y="1709"/>
                </a:lnTo>
                <a:lnTo>
                  <a:pt x="770" y="1649"/>
                </a:lnTo>
                <a:lnTo>
                  <a:pt x="817" y="1545"/>
                </a:lnTo>
                <a:lnTo>
                  <a:pt x="874" y="1424"/>
                </a:lnTo>
                <a:lnTo>
                  <a:pt x="925" y="1320"/>
                </a:lnTo>
                <a:lnTo>
                  <a:pt x="991" y="1199"/>
                </a:lnTo>
                <a:lnTo>
                  <a:pt x="1053" y="1092"/>
                </a:lnTo>
                <a:lnTo>
                  <a:pt x="1099" y="1011"/>
                </a:lnTo>
                <a:lnTo>
                  <a:pt x="1143" y="937"/>
                </a:lnTo>
                <a:lnTo>
                  <a:pt x="1187" y="860"/>
                </a:lnTo>
                <a:lnTo>
                  <a:pt x="1240" y="766"/>
                </a:lnTo>
                <a:lnTo>
                  <a:pt x="1281" y="699"/>
                </a:lnTo>
                <a:lnTo>
                  <a:pt x="1324" y="632"/>
                </a:lnTo>
                <a:lnTo>
                  <a:pt x="1409" y="511"/>
                </a:lnTo>
                <a:lnTo>
                  <a:pt x="1492" y="410"/>
                </a:lnTo>
                <a:lnTo>
                  <a:pt x="1557" y="346"/>
                </a:lnTo>
                <a:lnTo>
                  <a:pt x="1606" y="306"/>
                </a:lnTo>
                <a:lnTo>
                  <a:pt x="1674" y="258"/>
                </a:lnTo>
                <a:lnTo>
                  <a:pt x="1742" y="218"/>
                </a:lnTo>
                <a:lnTo>
                  <a:pt x="1825" y="179"/>
                </a:lnTo>
                <a:lnTo>
                  <a:pt x="1966" y="128"/>
                </a:lnTo>
                <a:lnTo>
                  <a:pt x="2087" y="90"/>
                </a:lnTo>
                <a:lnTo>
                  <a:pt x="2194" y="68"/>
                </a:lnTo>
                <a:lnTo>
                  <a:pt x="2329" y="44"/>
                </a:lnTo>
                <a:lnTo>
                  <a:pt x="2514" y="20"/>
                </a:lnTo>
                <a:lnTo>
                  <a:pt x="2598" y="10"/>
                </a:lnTo>
                <a:lnTo>
                  <a:pt x="2806" y="3"/>
                </a:lnTo>
                <a:lnTo>
                  <a:pt x="3034" y="0"/>
                </a:lnTo>
                <a:lnTo>
                  <a:pt x="3119" y="0"/>
                </a:lnTo>
                <a:lnTo>
                  <a:pt x="3462" y="3"/>
                </a:lnTo>
                <a:lnTo>
                  <a:pt x="3638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225A-DB4E-4ECE-B68D-EE77B3A630D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2038320" y="1515960"/>
            <a:ext cx="6188040" cy="3551400"/>
          </a:xfrm>
          <a:custGeom>
            <a:avLst/>
            <a:gdLst/>
            <a:ahLst/>
            <a:rect l="l" t="t" r="r" b="b"/>
            <a:pathLst>
              <a:path w="3448" h="1979">
                <a:moveTo>
                  <a:pt x="0" y="1979"/>
                </a:moveTo>
                <a:lnTo>
                  <a:pt x="57" y="1970"/>
                </a:lnTo>
                <a:lnTo>
                  <a:pt x="107" y="1955"/>
                </a:lnTo>
                <a:lnTo>
                  <a:pt x="167" y="1937"/>
                </a:lnTo>
                <a:lnTo>
                  <a:pt x="241" y="1911"/>
                </a:lnTo>
                <a:lnTo>
                  <a:pt x="312" y="1878"/>
                </a:lnTo>
                <a:lnTo>
                  <a:pt x="363" y="1848"/>
                </a:lnTo>
                <a:lnTo>
                  <a:pt x="411" y="1818"/>
                </a:lnTo>
                <a:lnTo>
                  <a:pt x="464" y="1774"/>
                </a:lnTo>
                <a:lnTo>
                  <a:pt x="521" y="1717"/>
                </a:lnTo>
                <a:lnTo>
                  <a:pt x="565" y="1666"/>
                </a:lnTo>
                <a:lnTo>
                  <a:pt x="595" y="1622"/>
                </a:lnTo>
                <a:lnTo>
                  <a:pt x="625" y="1569"/>
                </a:lnTo>
                <a:lnTo>
                  <a:pt x="654" y="1512"/>
                </a:lnTo>
                <a:lnTo>
                  <a:pt x="681" y="1459"/>
                </a:lnTo>
                <a:lnTo>
                  <a:pt x="723" y="1367"/>
                </a:lnTo>
                <a:lnTo>
                  <a:pt x="773" y="1260"/>
                </a:lnTo>
                <a:lnTo>
                  <a:pt x="818" y="1168"/>
                </a:lnTo>
                <a:lnTo>
                  <a:pt x="877" y="1061"/>
                </a:lnTo>
                <a:lnTo>
                  <a:pt x="931" y="966"/>
                </a:lnTo>
                <a:lnTo>
                  <a:pt x="972" y="894"/>
                </a:lnTo>
                <a:lnTo>
                  <a:pt x="1011" y="829"/>
                </a:lnTo>
                <a:lnTo>
                  <a:pt x="1050" y="761"/>
                </a:lnTo>
                <a:lnTo>
                  <a:pt x="1097" y="678"/>
                </a:lnTo>
                <a:lnTo>
                  <a:pt x="1133" y="618"/>
                </a:lnTo>
                <a:lnTo>
                  <a:pt x="1171" y="559"/>
                </a:lnTo>
                <a:lnTo>
                  <a:pt x="1246" y="452"/>
                </a:lnTo>
                <a:lnTo>
                  <a:pt x="1320" y="363"/>
                </a:lnTo>
                <a:lnTo>
                  <a:pt x="1377" y="306"/>
                </a:lnTo>
                <a:lnTo>
                  <a:pt x="1421" y="271"/>
                </a:lnTo>
                <a:lnTo>
                  <a:pt x="1481" y="228"/>
                </a:lnTo>
                <a:lnTo>
                  <a:pt x="1541" y="193"/>
                </a:lnTo>
                <a:lnTo>
                  <a:pt x="1614" y="158"/>
                </a:lnTo>
                <a:lnTo>
                  <a:pt x="1739" y="113"/>
                </a:lnTo>
                <a:lnTo>
                  <a:pt x="1846" y="80"/>
                </a:lnTo>
                <a:lnTo>
                  <a:pt x="1941" y="60"/>
                </a:lnTo>
                <a:lnTo>
                  <a:pt x="2060" y="39"/>
                </a:lnTo>
                <a:lnTo>
                  <a:pt x="2224" y="18"/>
                </a:lnTo>
                <a:lnTo>
                  <a:pt x="2298" y="9"/>
                </a:lnTo>
                <a:lnTo>
                  <a:pt x="2482" y="3"/>
                </a:lnTo>
                <a:lnTo>
                  <a:pt x="2684" y="0"/>
                </a:lnTo>
                <a:lnTo>
                  <a:pt x="2759" y="0"/>
                </a:lnTo>
                <a:lnTo>
                  <a:pt x="3062" y="3"/>
                </a:lnTo>
                <a:lnTo>
                  <a:pt x="3353" y="18"/>
                </a:lnTo>
                <a:lnTo>
                  <a:pt x="3448" y="24"/>
                </a:lnTo>
              </a:path>
            </a:pathLst>
          </a:custGeom>
          <a:noFill/>
          <a:ln w="38160">
            <a:solidFill>
              <a:srgbClr val="333399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333440" y="1295280"/>
            <a:ext cx="800280" cy="3960720"/>
            <a:chOff x="1333440" y="1295280"/>
            <a:chExt cx="800280" cy="3960720"/>
          </a:xfrm>
        </p:grpSpPr>
        <p:sp>
          <p:nvSpPr>
            <p:cNvPr id="631" name=""/>
            <p:cNvSpPr/>
            <p:nvPr/>
          </p:nvSpPr>
          <p:spPr>
            <a:xfrm>
              <a:off x="1494000" y="306864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94000" y="271512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94000" y="34185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88960" y="377028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84280" y="414180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503360" y="45291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397160" y="4889880"/>
              <a:ext cx="66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498680" y="238788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503360" y="20235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517760" y="16437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333440" y="1295280"/>
              <a:ext cx="80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4876920" y="5638680"/>
            <a:ext cx="11430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L</a:t>
            </a:r>
            <a:r>
              <a:rPr b="1" i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 (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438280" y="5105520"/>
            <a:ext cx="6019560" cy="377280"/>
            <a:chOff x="2438280" y="5105520"/>
            <a:chExt cx="6019560" cy="377280"/>
          </a:xfrm>
        </p:grpSpPr>
        <p:sp>
          <p:nvSpPr>
            <p:cNvPr id="644" name=""/>
            <p:cNvSpPr/>
            <p:nvPr/>
          </p:nvSpPr>
          <p:spPr>
            <a:xfrm>
              <a:off x="243828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11940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79836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47912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5844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3920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50772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18704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86240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685800" y="2895480"/>
            <a:ext cx="914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PAS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2025720" y="1447920"/>
            <a:ext cx="6203160" cy="3631680"/>
            <a:chOff x="2025720" y="1447920"/>
            <a:chExt cx="6203160" cy="3631680"/>
          </a:xfrm>
        </p:grpSpPr>
        <p:sp>
          <p:nvSpPr>
            <p:cNvPr id="655" name=""/>
            <p:cNvSpPr/>
            <p:nvPr/>
          </p:nvSpPr>
          <p:spPr>
            <a:xfrm flipH="1">
              <a:off x="2036520" y="5077800"/>
              <a:ext cx="6186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36520" y="4715640"/>
              <a:ext cx="6186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2036160" y="4353120"/>
              <a:ext cx="6181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036520" y="3979800"/>
              <a:ext cx="6181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030760" y="3260160"/>
              <a:ext cx="6192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030760" y="2178000"/>
              <a:ext cx="6187320" cy="1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2041560" y="2530080"/>
              <a:ext cx="6181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2030400" y="2898000"/>
              <a:ext cx="6187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025720" y="1453320"/>
              <a:ext cx="6192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2046960" y="1815480"/>
              <a:ext cx="6181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03652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72556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0740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09644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78368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15492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4216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31200" y="1453320"/>
              <a:ext cx="180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47128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2030400" y="3628080"/>
              <a:ext cx="6187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223840" y="1447920"/>
              <a:ext cx="1800" cy="36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1752480" y="5114880"/>
            <a:ext cx="53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43200" y="1515960"/>
            <a:ext cx="5495760" cy="3551400"/>
          </a:xfrm>
          <a:custGeom>
            <a:avLst/>
            <a:gdLst/>
            <a:ahLst/>
            <a:rect l="l" t="t" r="r" b="b"/>
            <a:pathLst>
              <a:path w="3462" h="2237">
                <a:moveTo>
                  <a:pt x="0" y="2237"/>
                </a:moveTo>
                <a:lnTo>
                  <a:pt x="64" y="2227"/>
                </a:lnTo>
                <a:lnTo>
                  <a:pt x="121" y="2210"/>
                </a:lnTo>
                <a:lnTo>
                  <a:pt x="189" y="2190"/>
                </a:lnTo>
                <a:lnTo>
                  <a:pt x="272" y="2160"/>
                </a:lnTo>
                <a:lnTo>
                  <a:pt x="353" y="2123"/>
                </a:lnTo>
                <a:lnTo>
                  <a:pt x="410" y="2089"/>
                </a:lnTo>
                <a:lnTo>
                  <a:pt x="465" y="2055"/>
                </a:lnTo>
                <a:lnTo>
                  <a:pt x="525" y="2005"/>
                </a:lnTo>
                <a:lnTo>
                  <a:pt x="589" y="1941"/>
                </a:lnTo>
                <a:lnTo>
                  <a:pt x="639" y="1883"/>
                </a:lnTo>
                <a:lnTo>
                  <a:pt x="673" y="1833"/>
                </a:lnTo>
                <a:lnTo>
                  <a:pt x="707" y="1774"/>
                </a:lnTo>
                <a:lnTo>
                  <a:pt x="739" y="1709"/>
                </a:lnTo>
                <a:lnTo>
                  <a:pt x="770" y="1649"/>
                </a:lnTo>
                <a:lnTo>
                  <a:pt x="817" y="1545"/>
                </a:lnTo>
                <a:lnTo>
                  <a:pt x="874" y="1424"/>
                </a:lnTo>
                <a:lnTo>
                  <a:pt x="925" y="1320"/>
                </a:lnTo>
                <a:lnTo>
                  <a:pt x="991" y="1199"/>
                </a:lnTo>
                <a:lnTo>
                  <a:pt x="1053" y="1092"/>
                </a:lnTo>
                <a:lnTo>
                  <a:pt x="1099" y="1011"/>
                </a:lnTo>
                <a:lnTo>
                  <a:pt x="1143" y="937"/>
                </a:lnTo>
                <a:lnTo>
                  <a:pt x="1187" y="860"/>
                </a:lnTo>
                <a:lnTo>
                  <a:pt x="1240" y="766"/>
                </a:lnTo>
                <a:lnTo>
                  <a:pt x="1281" y="699"/>
                </a:lnTo>
                <a:lnTo>
                  <a:pt x="1324" y="632"/>
                </a:lnTo>
                <a:lnTo>
                  <a:pt x="1409" y="511"/>
                </a:lnTo>
                <a:lnTo>
                  <a:pt x="1492" y="410"/>
                </a:lnTo>
                <a:lnTo>
                  <a:pt x="1557" y="346"/>
                </a:lnTo>
                <a:lnTo>
                  <a:pt x="1606" y="306"/>
                </a:lnTo>
                <a:lnTo>
                  <a:pt x="1674" y="258"/>
                </a:lnTo>
                <a:lnTo>
                  <a:pt x="1742" y="218"/>
                </a:lnTo>
                <a:lnTo>
                  <a:pt x="1825" y="179"/>
                </a:lnTo>
                <a:lnTo>
                  <a:pt x="1966" y="128"/>
                </a:lnTo>
                <a:lnTo>
                  <a:pt x="2087" y="90"/>
                </a:lnTo>
                <a:lnTo>
                  <a:pt x="2194" y="68"/>
                </a:lnTo>
                <a:lnTo>
                  <a:pt x="2329" y="44"/>
                </a:lnTo>
                <a:lnTo>
                  <a:pt x="2514" y="20"/>
                </a:lnTo>
                <a:lnTo>
                  <a:pt x="2598" y="10"/>
                </a:lnTo>
                <a:lnTo>
                  <a:pt x="2806" y="3"/>
                </a:lnTo>
                <a:lnTo>
                  <a:pt x="3034" y="0"/>
                </a:lnTo>
                <a:lnTo>
                  <a:pt x="3119" y="0"/>
                </a:lnTo>
                <a:lnTo>
                  <a:pt x="3462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5681-46C0-479B-8E82-AE3811679FE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14440" y="1828080"/>
            <a:ext cx="8115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ara comprender las causas de la pérdida de inteligibilidad tengamos en cuenta las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aracterísticas acústicas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e l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alabra habl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617E-36B8-46E7-A9F6-2193246248D4}" type="slidenum">
              <a:t>4</a:t>
            </a:fld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2038320" y="1515960"/>
            <a:ext cx="6188040" cy="3551400"/>
          </a:xfrm>
          <a:custGeom>
            <a:avLst/>
            <a:gdLst/>
            <a:ahLst/>
            <a:rect l="l" t="t" r="r" b="b"/>
            <a:pathLst>
              <a:path w="3448" h="1979">
                <a:moveTo>
                  <a:pt x="0" y="1979"/>
                </a:moveTo>
                <a:lnTo>
                  <a:pt x="57" y="1970"/>
                </a:lnTo>
                <a:lnTo>
                  <a:pt x="107" y="1955"/>
                </a:lnTo>
                <a:lnTo>
                  <a:pt x="167" y="1937"/>
                </a:lnTo>
                <a:lnTo>
                  <a:pt x="241" y="1911"/>
                </a:lnTo>
                <a:lnTo>
                  <a:pt x="312" y="1878"/>
                </a:lnTo>
                <a:lnTo>
                  <a:pt x="363" y="1848"/>
                </a:lnTo>
                <a:lnTo>
                  <a:pt x="411" y="1818"/>
                </a:lnTo>
                <a:lnTo>
                  <a:pt x="464" y="1774"/>
                </a:lnTo>
                <a:lnTo>
                  <a:pt x="521" y="1717"/>
                </a:lnTo>
                <a:lnTo>
                  <a:pt x="565" y="1666"/>
                </a:lnTo>
                <a:lnTo>
                  <a:pt x="595" y="1622"/>
                </a:lnTo>
                <a:lnTo>
                  <a:pt x="625" y="1569"/>
                </a:lnTo>
                <a:lnTo>
                  <a:pt x="654" y="1512"/>
                </a:lnTo>
                <a:lnTo>
                  <a:pt x="681" y="1459"/>
                </a:lnTo>
                <a:lnTo>
                  <a:pt x="723" y="1367"/>
                </a:lnTo>
                <a:lnTo>
                  <a:pt x="773" y="1260"/>
                </a:lnTo>
                <a:lnTo>
                  <a:pt x="818" y="1168"/>
                </a:lnTo>
                <a:lnTo>
                  <a:pt x="877" y="1061"/>
                </a:lnTo>
                <a:lnTo>
                  <a:pt x="931" y="966"/>
                </a:lnTo>
                <a:lnTo>
                  <a:pt x="972" y="894"/>
                </a:lnTo>
                <a:lnTo>
                  <a:pt x="1011" y="829"/>
                </a:lnTo>
                <a:lnTo>
                  <a:pt x="1050" y="761"/>
                </a:lnTo>
                <a:lnTo>
                  <a:pt x="1097" y="678"/>
                </a:lnTo>
                <a:lnTo>
                  <a:pt x="1133" y="618"/>
                </a:lnTo>
                <a:lnTo>
                  <a:pt x="1171" y="559"/>
                </a:lnTo>
                <a:lnTo>
                  <a:pt x="1246" y="452"/>
                </a:lnTo>
                <a:lnTo>
                  <a:pt x="1320" y="363"/>
                </a:lnTo>
                <a:lnTo>
                  <a:pt x="1377" y="306"/>
                </a:lnTo>
                <a:lnTo>
                  <a:pt x="1421" y="271"/>
                </a:lnTo>
                <a:lnTo>
                  <a:pt x="1481" y="228"/>
                </a:lnTo>
                <a:lnTo>
                  <a:pt x="1541" y="193"/>
                </a:lnTo>
                <a:lnTo>
                  <a:pt x="1614" y="158"/>
                </a:lnTo>
                <a:lnTo>
                  <a:pt x="1739" y="113"/>
                </a:lnTo>
                <a:lnTo>
                  <a:pt x="1846" y="80"/>
                </a:lnTo>
                <a:lnTo>
                  <a:pt x="1941" y="60"/>
                </a:lnTo>
                <a:lnTo>
                  <a:pt x="2060" y="39"/>
                </a:lnTo>
                <a:lnTo>
                  <a:pt x="2224" y="18"/>
                </a:lnTo>
                <a:lnTo>
                  <a:pt x="2298" y="9"/>
                </a:lnTo>
                <a:lnTo>
                  <a:pt x="2482" y="3"/>
                </a:lnTo>
                <a:lnTo>
                  <a:pt x="2684" y="0"/>
                </a:lnTo>
                <a:lnTo>
                  <a:pt x="2759" y="0"/>
                </a:lnTo>
                <a:lnTo>
                  <a:pt x="3062" y="3"/>
                </a:lnTo>
                <a:lnTo>
                  <a:pt x="3353" y="18"/>
                </a:lnTo>
                <a:lnTo>
                  <a:pt x="3448" y="24"/>
                </a:lnTo>
              </a:path>
            </a:pathLst>
          </a:custGeom>
          <a:noFill/>
          <a:ln w="38160">
            <a:solidFill>
              <a:srgbClr val="333399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333440" y="1295280"/>
            <a:ext cx="800280" cy="3960720"/>
            <a:chOff x="1333440" y="1295280"/>
            <a:chExt cx="800280" cy="3960720"/>
          </a:xfrm>
        </p:grpSpPr>
        <p:sp>
          <p:nvSpPr>
            <p:cNvPr id="680" name=""/>
            <p:cNvSpPr/>
            <p:nvPr/>
          </p:nvSpPr>
          <p:spPr>
            <a:xfrm>
              <a:off x="1494000" y="306864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494000" y="271512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494000" y="34185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488960" y="377028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484280" y="414180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503360" y="45291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397160" y="4889880"/>
              <a:ext cx="66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498680" y="238788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503360" y="20235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517760" y="16437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333440" y="1295280"/>
              <a:ext cx="80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4670280" y="5638680"/>
            <a:ext cx="1555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L</a:t>
            </a:r>
            <a:r>
              <a:rPr b="1" i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   (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2438280" y="5105520"/>
            <a:ext cx="6019560" cy="377280"/>
            <a:chOff x="2438280" y="5105520"/>
            <a:chExt cx="6019560" cy="377280"/>
          </a:xfrm>
        </p:grpSpPr>
        <p:sp>
          <p:nvSpPr>
            <p:cNvPr id="693" name=""/>
            <p:cNvSpPr/>
            <p:nvPr/>
          </p:nvSpPr>
          <p:spPr>
            <a:xfrm>
              <a:off x="243828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11940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9836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47912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15844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83920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50772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18704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86240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685800" y="2895480"/>
            <a:ext cx="914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PAS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2025720" y="1447920"/>
            <a:ext cx="6203160" cy="3631680"/>
            <a:chOff x="2025720" y="1447920"/>
            <a:chExt cx="6203160" cy="3631680"/>
          </a:xfrm>
        </p:grpSpPr>
        <p:sp>
          <p:nvSpPr>
            <p:cNvPr id="704" name=""/>
            <p:cNvSpPr/>
            <p:nvPr/>
          </p:nvSpPr>
          <p:spPr>
            <a:xfrm flipH="1">
              <a:off x="2036520" y="5077800"/>
              <a:ext cx="6186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036520" y="4715640"/>
              <a:ext cx="6186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2036160" y="4353120"/>
              <a:ext cx="6181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036520" y="3979800"/>
              <a:ext cx="6181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30760" y="3260160"/>
              <a:ext cx="6192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2030760" y="2178000"/>
              <a:ext cx="6187320" cy="1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2041560" y="2530080"/>
              <a:ext cx="6181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2030400" y="2898000"/>
              <a:ext cx="6187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25720" y="1453320"/>
              <a:ext cx="6192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2046960" y="1815480"/>
              <a:ext cx="6181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3652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2556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40740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09644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78368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15492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84216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531200" y="1453320"/>
              <a:ext cx="180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47128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2030400" y="3628080"/>
              <a:ext cx="6187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223840" y="1447920"/>
              <a:ext cx="1800" cy="36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1752480" y="5114880"/>
            <a:ext cx="53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048120" y="1515960"/>
            <a:ext cx="5165640" cy="3551400"/>
          </a:xfrm>
          <a:custGeom>
            <a:avLst/>
            <a:gdLst/>
            <a:ahLst/>
            <a:rect l="l" t="t" r="r" b="b"/>
            <a:pathLst>
              <a:path w="3254" h="2237">
                <a:moveTo>
                  <a:pt x="0" y="2237"/>
                </a:moveTo>
                <a:lnTo>
                  <a:pt x="64" y="2227"/>
                </a:lnTo>
                <a:lnTo>
                  <a:pt x="121" y="2210"/>
                </a:lnTo>
                <a:lnTo>
                  <a:pt x="189" y="2190"/>
                </a:lnTo>
                <a:lnTo>
                  <a:pt x="272" y="2160"/>
                </a:lnTo>
                <a:lnTo>
                  <a:pt x="353" y="2123"/>
                </a:lnTo>
                <a:lnTo>
                  <a:pt x="410" y="2089"/>
                </a:lnTo>
                <a:lnTo>
                  <a:pt x="465" y="2055"/>
                </a:lnTo>
                <a:lnTo>
                  <a:pt x="525" y="2005"/>
                </a:lnTo>
                <a:lnTo>
                  <a:pt x="589" y="1941"/>
                </a:lnTo>
                <a:lnTo>
                  <a:pt x="639" y="1883"/>
                </a:lnTo>
                <a:lnTo>
                  <a:pt x="673" y="1833"/>
                </a:lnTo>
                <a:lnTo>
                  <a:pt x="707" y="1774"/>
                </a:lnTo>
                <a:lnTo>
                  <a:pt x="739" y="1709"/>
                </a:lnTo>
                <a:lnTo>
                  <a:pt x="770" y="1649"/>
                </a:lnTo>
                <a:lnTo>
                  <a:pt x="817" y="1545"/>
                </a:lnTo>
                <a:lnTo>
                  <a:pt x="874" y="1424"/>
                </a:lnTo>
                <a:lnTo>
                  <a:pt x="925" y="1320"/>
                </a:lnTo>
                <a:lnTo>
                  <a:pt x="991" y="1199"/>
                </a:lnTo>
                <a:lnTo>
                  <a:pt x="1053" y="1092"/>
                </a:lnTo>
                <a:lnTo>
                  <a:pt x="1099" y="1011"/>
                </a:lnTo>
                <a:lnTo>
                  <a:pt x="1143" y="937"/>
                </a:lnTo>
                <a:lnTo>
                  <a:pt x="1187" y="860"/>
                </a:lnTo>
                <a:lnTo>
                  <a:pt x="1240" y="766"/>
                </a:lnTo>
                <a:lnTo>
                  <a:pt x="1281" y="699"/>
                </a:lnTo>
                <a:lnTo>
                  <a:pt x="1324" y="632"/>
                </a:lnTo>
                <a:lnTo>
                  <a:pt x="1409" y="511"/>
                </a:lnTo>
                <a:lnTo>
                  <a:pt x="1492" y="410"/>
                </a:lnTo>
                <a:lnTo>
                  <a:pt x="1557" y="346"/>
                </a:lnTo>
                <a:lnTo>
                  <a:pt x="1606" y="306"/>
                </a:lnTo>
                <a:lnTo>
                  <a:pt x="1674" y="258"/>
                </a:lnTo>
                <a:lnTo>
                  <a:pt x="1742" y="218"/>
                </a:lnTo>
                <a:lnTo>
                  <a:pt x="1825" y="179"/>
                </a:lnTo>
                <a:lnTo>
                  <a:pt x="1966" y="128"/>
                </a:lnTo>
                <a:lnTo>
                  <a:pt x="2087" y="90"/>
                </a:lnTo>
                <a:lnTo>
                  <a:pt x="2194" y="68"/>
                </a:lnTo>
                <a:lnTo>
                  <a:pt x="2329" y="44"/>
                </a:lnTo>
                <a:lnTo>
                  <a:pt x="2514" y="20"/>
                </a:lnTo>
                <a:lnTo>
                  <a:pt x="2598" y="10"/>
                </a:lnTo>
                <a:lnTo>
                  <a:pt x="2806" y="3"/>
                </a:lnTo>
                <a:lnTo>
                  <a:pt x="3034" y="0"/>
                </a:lnTo>
                <a:lnTo>
                  <a:pt x="3119" y="0"/>
                </a:lnTo>
                <a:lnTo>
                  <a:pt x="3254" y="2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A72E-9E85-4881-B646-F000528413FF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"/>
          <p:cNvGrpSpPr/>
          <p:nvPr/>
        </p:nvGrpSpPr>
        <p:grpSpPr>
          <a:xfrm>
            <a:off x="1333440" y="1295280"/>
            <a:ext cx="800280" cy="3960720"/>
            <a:chOff x="1333440" y="1295280"/>
            <a:chExt cx="800280" cy="3960720"/>
          </a:xfrm>
        </p:grpSpPr>
        <p:sp>
          <p:nvSpPr>
            <p:cNvPr id="728" name=""/>
            <p:cNvSpPr/>
            <p:nvPr/>
          </p:nvSpPr>
          <p:spPr>
            <a:xfrm>
              <a:off x="1494000" y="306864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494000" y="271512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494000" y="34185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488960" y="377028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484280" y="414180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503360" y="45291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397160" y="4889880"/>
              <a:ext cx="66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498680" y="238788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503360" y="20235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517760" y="16437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333440" y="1295280"/>
              <a:ext cx="80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4876920" y="5638680"/>
            <a:ext cx="11430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L</a:t>
            </a:r>
            <a:r>
              <a:rPr b="1" i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 (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38280" y="5105520"/>
            <a:ext cx="6019560" cy="377280"/>
            <a:chOff x="2438280" y="5105520"/>
            <a:chExt cx="6019560" cy="377280"/>
          </a:xfrm>
        </p:grpSpPr>
        <p:sp>
          <p:nvSpPr>
            <p:cNvPr id="741" name=""/>
            <p:cNvSpPr/>
            <p:nvPr/>
          </p:nvSpPr>
          <p:spPr>
            <a:xfrm>
              <a:off x="243828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11940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79836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7912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15844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83920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50772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18704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86240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685800" y="2895480"/>
            <a:ext cx="914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PAS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2025720" y="1447920"/>
            <a:ext cx="6203160" cy="3631680"/>
            <a:chOff x="2025720" y="1447920"/>
            <a:chExt cx="6203160" cy="3631680"/>
          </a:xfrm>
        </p:grpSpPr>
        <p:sp>
          <p:nvSpPr>
            <p:cNvPr id="752" name=""/>
            <p:cNvSpPr/>
            <p:nvPr/>
          </p:nvSpPr>
          <p:spPr>
            <a:xfrm flipH="1">
              <a:off x="2036520" y="5077800"/>
              <a:ext cx="6186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036520" y="4715640"/>
              <a:ext cx="6186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2036160" y="4353120"/>
              <a:ext cx="6181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036520" y="3979800"/>
              <a:ext cx="6181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030760" y="3260160"/>
              <a:ext cx="6192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2030760" y="2178000"/>
              <a:ext cx="6187320" cy="1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2041560" y="2530080"/>
              <a:ext cx="6181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2030400" y="2898000"/>
              <a:ext cx="6187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025720" y="1453320"/>
              <a:ext cx="6192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2046960" y="1815480"/>
              <a:ext cx="6181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03652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2556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40740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09644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78368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5492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84216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531200" y="1453320"/>
              <a:ext cx="180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7128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2030400" y="3628080"/>
              <a:ext cx="6187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223840" y="1447920"/>
              <a:ext cx="1800" cy="36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1752480" y="5114880"/>
            <a:ext cx="53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330720" y="1494000"/>
            <a:ext cx="4898880" cy="3568680"/>
          </a:xfrm>
          <a:custGeom>
            <a:avLst/>
            <a:gdLst/>
            <a:ahLst/>
            <a:rect l="l" t="t" r="r" b="b"/>
            <a:pathLst>
              <a:path w="4356" h="3172">
                <a:moveTo>
                  <a:pt x="0" y="3172"/>
                </a:moveTo>
                <a:lnTo>
                  <a:pt x="95" y="3156"/>
                </a:lnTo>
                <a:lnTo>
                  <a:pt x="174" y="3136"/>
                </a:lnTo>
                <a:lnTo>
                  <a:pt x="270" y="3106"/>
                </a:lnTo>
                <a:lnTo>
                  <a:pt x="383" y="3060"/>
                </a:lnTo>
                <a:lnTo>
                  <a:pt x="494" y="3009"/>
                </a:lnTo>
                <a:lnTo>
                  <a:pt x="587" y="2958"/>
                </a:lnTo>
                <a:lnTo>
                  <a:pt x="660" y="2914"/>
                </a:lnTo>
                <a:lnTo>
                  <a:pt x="750" y="2842"/>
                </a:lnTo>
                <a:lnTo>
                  <a:pt x="840" y="2752"/>
                </a:lnTo>
                <a:lnTo>
                  <a:pt x="900" y="2686"/>
                </a:lnTo>
                <a:lnTo>
                  <a:pt x="956" y="2604"/>
                </a:lnTo>
                <a:lnTo>
                  <a:pt x="1008" y="2512"/>
                </a:lnTo>
                <a:lnTo>
                  <a:pt x="1055" y="2424"/>
                </a:lnTo>
                <a:lnTo>
                  <a:pt x="1112" y="2304"/>
                </a:lnTo>
                <a:lnTo>
                  <a:pt x="1170" y="2182"/>
                </a:lnTo>
                <a:lnTo>
                  <a:pt x="1247" y="2010"/>
                </a:lnTo>
                <a:lnTo>
                  <a:pt x="1320" y="1864"/>
                </a:lnTo>
                <a:lnTo>
                  <a:pt x="1415" y="1683"/>
                </a:lnTo>
                <a:lnTo>
                  <a:pt x="1500" y="1534"/>
                </a:lnTo>
                <a:lnTo>
                  <a:pt x="1562" y="1425"/>
                </a:lnTo>
                <a:lnTo>
                  <a:pt x="1637" y="1302"/>
                </a:lnTo>
                <a:lnTo>
                  <a:pt x="1692" y="1210"/>
                </a:lnTo>
                <a:lnTo>
                  <a:pt x="1770" y="1072"/>
                </a:lnTo>
                <a:lnTo>
                  <a:pt x="1830" y="976"/>
                </a:lnTo>
                <a:lnTo>
                  <a:pt x="1890" y="880"/>
                </a:lnTo>
                <a:lnTo>
                  <a:pt x="2010" y="706"/>
                </a:lnTo>
                <a:lnTo>
                  <a:pt x="2130" y="562"/>
                </a:lnTo>
                <a:lnTo>
                  <a:pt x="2204" y="486"/>
                </a:lnTo>
                <a:lnTo>
                  <a:pt x="2292" y="412"/>
                </a:lnTo>
                <a:lnTo>
                  <a:pt x="2376" y="352"/>
                </a:lnTo>
                <a:lnTo>
                  <a:pt x="2478" y="292"/>
                </a:lnTo>
                <a:lnTo>
                  <a:pt x="2604" y="232"/>
                </a:lnTo>
                <a:lnTo>
                  <a:pt x="2798" y="159"/>
                </a:lnTo>
                <a:lnTo>
                  <a:pt x="2982" y="106"/>
                </a:lnTo>
                <a:lnTo>
                  <a:pt x="3102" y="76"/>
                </a:lnTo>
                <a:lnTo>
                  <a:pt x="3330" y="34"/>
                </a:lnTo>
                <a:lnTo>
                  <a:pt x="3503" y="15"/>
                </a:lnTo>
                <a:lnTo>
                  <a:pt x="3644" y="6"/>
                </a:lnTo>
                <a:lnTo>
                  <a:pt x="3740" y="0"/>
                </a:lnTo>
                <a:lnTo>
                  <a:pt x="3842" y="3"/>
                </a:lnTo>
                <a:lnTo>
                  <a:pt x="3966" y="10"/>
                </a:lnTo>
                <a:lnTo>
                  <a:pt x="4121" y="18"/>
                </a:lnTo>
                <a:lnTo>
                  <a:pt x="4356" y="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043000" y="3670200"/>
            <a:ext cx="2741760" cy="1387440"/>
          </a:xfrm>
          <a:custGeom>
            <a:avLst/>
            <a:gdLst/>
            <a:ahLst/>
            <a:rect l="l" t="t" r="r" b="b"/>
            <a:pathLst>
              <a:path w="1776" h="2016">
                <a:moveTo>
                  <a:pt x="1776" y="2016"/>
                </a:moveTo>
                <a:lnTo>
                  <a:pt x="177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362320" y="3048120"/>
            <a:ext cx="834840" cy="38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99"/>
                </a:solidFill>
                <a:latin typeface="Times New Roman"/>
              </a:rPr>
              <a:t>3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038320" y="1515960"/>
            <a:ext cx="6188040" cy="3551400"/>
          </a:xfrm>
          <a:custGeom>
            <a:avLst/>
            <a:gdLst/>
            <a:ahLst/>
            <a:rect l="l" t="t" r="r" b="b"/>
            <a:pathLst>
              <a:path w="3448" h="1979">
                <a:moveTo>
                  <a:pt x="0" y="1979"/>
                </a:moveTo>
                <a:lnTo>
                  <a:pt x="57" y="1970"/>
                </a:lnTo>
                <a:lnTo>
                  <a:pt x="107" y="1955"/>
                </a:lnTo>
                <a:lnTo>
                  <a:pt x="167" y="1937"/>
                </a:lnTo>
                <a:lnTo>
                  <a:pt x="241" y="1911"/>
                </a:lnTo>
                <a:lnTo>
                  <a:pt x="312" y="1878"/>
                </a:lnTo>
                <a:lnTo>
                  <a:pt x="363" y="1848"/>
                </a:lnTo>
                <a:lnTo>
                  <a:pt x="411" y="1818"/>
                </a:lnTo>
                <a:lnTo>
                  <a:pt x="464" y="1774"/>
                </a:lnTo>
                <a:lnTo>
                  <a:pt x="521" y="1717"/>
                </a:lnTo>
                <a:lnTo>
                  <a:pt x="565" y="1666"/>
                </a:lnTo>
                <a:lnTo>
                  <a:pt x="595" y="1622"/>
                </a:lnTo>
                <a:lnTo>
                  <a:pt x="625" y="1569"/>
                </a:lnTo>
                <a:lnTo>
                  <a:pt x="654" y="1512"/>
                </a:lnTo>
                <a:lnTo>
                  <a:pt x="681" y="1459"/>
                </a:lnTo>
                <a:lnTo>
                  <a:pt x="723" y="1367"/>
                </a:lnTo>
                <a:lnTo>
                  <a:pt x="773" y="1260"/>
                </a:lnTo>
                <a:lnTo>
                  <a:pt x="818" y="1168"/>
                </a:lnTo>
                <a:lnTo>
                  <a:pt x="877" y="1061"/>
                </a:lnTo>
                <a:lnTo>
                  <a:pt x="931" y="966"/>
                </a:lnTo>
                <a:lnTo>
                  <a:pt x="972" y="894"/>
                </a:lnTo>
                <a:lnTo>
                  <a:pt x="1011" y="829"/>
                </a:lnTo>
                <a:lnTo>
                  <a:pt x="1050" y="761"/>
                </a:lnTo>
                <a:lnTo>
                  <a:pt x="1097" y="678"/>
                </a:lnTo>
                <a:lnTo>
                  <a:pt x="1133" y="618"/>
                </a:lnTo>
                <a:lnTo>
                  <a:pt x="1171" y="559"/>
                </a:lnTo>
                <a:lnTo>
                  <a:pt x="1246" y="452"/>
                </a:lnTo>
                <a:lnTo>
                  <a:pt x="1320" y="363"/>
                </a:lnTo>
                <a:lnTo>
                  <a:pt x="1377" y="306"/>
                </a:lnTo>
                <a:lnTo>
                  <a:pt x="1421" y="271"/>
                </a:lnTo>
                <a:lnTo>
                  <a:pt x="1481" y="228"/>
                </a:lnTo>
                <a:lnTo>
                  <a:pt x="1541" y="193"/>
                </a:lnTo>
                <a:lnTo>
                  <a:pt x="1614" y="158"/>
                </a:lnTo>
                <a:lnTo>
                  <a:pt x="1739" y="113"/>
                </a:lnTo>
                <a:lnTo>
                  <a:pt x="1846" y="80"/>
                </a:lnTo>
                <a:lnTo>
                  <a:pt x="1941" y="60"/>
                </a:lnTo>
                <a:lnTo>
                  <a:pt x="2060" y="39"/>
                </a:lnTo>
                <a:lnTo>
                  <a:pt x="2224" y="18"/>
                </a:lnTo>
                <a:lnTo>
                  <a:pt x="2298" y="9"/>
                </a:lnTo>
                <a:lnTo>
                  <a:pt x="2482" y="3"/>
                </a:lnTo>
                <a:lnTo>
                  <a:pt x="2684" y="0"/>
                </a:lnTo>
                <a:lnTo>
                  <a:pt x="2759" y="0"/>
                </a:lnTo>
                <a:lnTo>
                  <a:pt x="3062" y="3"/>
                </a:lnTo>
                <a:lnTo>
                  <a:pt x="3353" y="18"/>
                </a:lnTo>
                <a:lnTo>
                  <a:pt x="3448" y="24"/>
                </a:lnTo>
              </a:path>
            </a:pathLst>
          </a:custGeom>
          <a:noFill/>
          <a:ln w="38160">
            <a:solidFill>
              <a:srgbClr val="333399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2825-3CAF-473B-AA1E-1ABB1433B276}" type="slidenum">
              <a:t>41</a:t>
            </a:fld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895320" y="2133000"/>
            <a:ext cx="7353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s posible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calificar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un lugar para la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audición de la palabra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ablada en función de la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articulación silábica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.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339B-DE37-4918-83CF-B7D8D00975C6}" type="slidenum">
              <a:t>42</a:t>
            </a:fld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457200" y="1568520"/>
            <a:ext cx="8229600" cy="36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ctr" pos="762120"/>
                <a:tab algn="ctr" pos="3429000"/>
                <a:tab algn="ctr" pos="6762600"/>
                <a:tab algn="r" pos="79056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ase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alificación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AS medio,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%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ctr" pos="762120"/>
                <a:tab algn="ctr" pos="3429000"/>
                <a:tab algn="ctr" pos="6762600"/>
                <a:tab algn="r" pos="79056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Excelente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&gt; 9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I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uena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80 - 90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I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atisfactoria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70 - 80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IV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No satisfactoria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&lt; 70</a:t>
            </a: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7658-59C0-4127-AE88-C8932C4EDD32}" type="slidenum">
              <a:t>43</a:t>
            </a:fld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895320" y="2133000"/>
            <a:ext cx="7353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os casos anteriores se referían 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ests subjetivos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con la participación de un equipo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oy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3B9-1D38-4B13-9B26-A8DC4D5AC95D}" type="slidenum">
              <a:t>44</a:t>
            </a:fld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176040" y="2133000"/>
            <a:ext cx="8791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Un primer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test objetivo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utiliza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20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andas de frecuencia cuyas contribuciones a la inteligibilidad son consideradas similares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.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FE38-8772-46DC-9F41-09660038D5B7}" type="slidenum">
              <a:t>45</a:t>
            </a:fld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176040" y="1828080"/>
            <a:ext cx="8791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Cada una de estas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bandas se determinó eliminando, por filtrado pasabanda,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bandas de ancho crecient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hasta que la articulación silábica cayera en un 5 %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F6EC-CDB5-405A-9437-00EF952C7954}" type="slidenum">
              <a:t>46</a:t>
            </a:fld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1386000" y="4808520"/>
            <a:ext cx="657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1577880" y="1062000"/>
            <a:ext cx="0" cy="395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725480" y="1914480"/>
            <a:ext cx="5970600" cy="2343240"/>
          </a:xfrm>
          <a:custGeom>
            <a:avLst/>
            <a:gdLst/>
            <a:ahLst/>
            <a:rect l="l" t="t" r="r" b="b"/>
            <a:pathLst>
              <a:path w="3761" h="1476">
                <a:moveTo>
                  <a:pt x="0" y="1414"/>
                </a:moveTo>
                <a:lnTo>
                  <a:pt x="79" y="1131"/>
                </a:lnTo>
                <a:lnTo>
                  <a:pt x="161" y="915"/>
                </a:lnTo>
                <a:lnTo>
                  <a:pt x="263" y="708"/>
                </a:lnTo>
                <a:lnTo>
                  <a:pt x="409" y="457"/>
                </a:lnTo>
                <a:lnTo>
                  <a:pt x="497" y="339"/>
                </a:lnTo>
                <a:lnTo>
                  <a:pt x="567" y="253"/>
                </a:lnTo>
                <a:lnTo>
                  <a:pt x="629" y="195"/>
                </a:lnTo>
                <a:lnTo>
                  <a:pt x="706" y="141"/>
                </a:lnTo>
                <a:lnTo>
                  <a:pt x="824" y="72"/>
                </a:lnTo>
                <a:lnTo>
                  <a:pt x="932" y="30"/>
                </a:lnTo>
                <a:lnTo>
                  <a:pt x="1025" y="9"/>
                </a:lnTo>
                <a:lnTo>
                  <a:pt x="1118" y="0"/>
                </a:lnTo>
                <a:lnTo>
                  <a:pt x="1198" y="2"/>
                </a:lnTo>
                <a:lnTo>
                  <a:pt x="1283" y="24"/>
                </a:lnTo>
                <a:lnTo>
                  <a:pt x="1375" y="67"/>
                </a:lnTo>
                <a:lnTo>
                  <a:pt x="1457" y="123"/>
                </a:lnTo>
                <a:lnTo>
                  <a:pt x="1556" y="234"/>
                </a:lnTo>
                <a:lnTo>
                  <a:pt x="1679" y="375"/>
                </a:lnTo>
                <a:lnTo>
                  <a:pt x="1811" y="519"/>
                </a:lnTo>
                <a:lnTo>
                  <a:pt x="1976" y="666"/>
                </a:lnTo>
                <a:lnTo>
                  <a:pt x="2118" y="764"/>
                </a:lnTo>
                <a:lnTo>
                  <a:pt x="2246" y="822"/>
                </a:lnTo>
                <a:lnTo>
                  <a:pt x="2388" y="856"/>
                </a:lnTo>
                <a:lnTo>
                  <a:pt x="2543" y="867"/>
                </a:lnTo>
                <a:lnTo>
                  <a:pt x="2722" y="856"/>
                </a:lnTo>
                <a:lnTo>
                  <a:pt x="2774" y="834"/>
                </a:lnTo>
                <a:lnTo>
                  <a:pt x="2819" y="810"/>
                </a:lnTo>
                <a:lnTo>
                  <a:pt x="2906" y="726"/>
                </a:lnTo>
                <a:lnTo>
                  <a:pt x="2993" y="642"/>
                </a:lnTo>
                <a:lnTo>
                  <a:pt x="3053" y="585"/>
                </a:lnTo>
                <a:lnTo>
                  <a:pt x="3101" y="555"/>
                </a:lnTo>
                <a:lnTo>
                  <a:pt x="3149" y="541"/>
                </a:lnTo>
                <a:lnTo>
                  <a:pt x="3182" y="543"/>
                </a:lnTo>
                <a:lnTo>
                  <a:pt x="3230" y="564"/>
                </a:lnTo>
                <a:lnTo>
                  <a:pt x="3284" y="603"/>
                </a:lnTo>
                <a:lnTo>
                  <a:pt x="3326" y="643"/>
                </a:lnTo>
                <a:lnTo>
                  <a:pt x="3413" y="744"/>
                </a:lnTo>
                <a:lnTo>
                  <a:pt x="3497" y="855"/>
                </a:lnTo>
                <a:lnTo>
                  <a:pt x="3605" y="1052"/>
                </a:lnTo>
                <a:lnTo>
                  <a:pt x="3677" y="1221"/>
                </a:lnTo>
                <a:lnTo>
                  <a:pt x="3761" y="14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800520" y="1984320"/>
            <a:ext cx="0" cy="28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976320" y="379800"/>
            <a:ext cx="1031400" cy="667800"/>
            <a:chOff x="976320" y="379800"/>
            <a:chExt cx="1031400" cy="667800"/>
          </a:xfrm>
        </p:grpSpPr>
        <p:sp>
          <p:nvSpPr>
            <p:cNvPr id="788" name=""/>
            <p:cNvSpPr/>
            <p:nvPr/>
          </p:nvSpPr>
          <p:spPr>
            <a:xfrm>
              <a:off x="1179360" y="587880"/>
              <a:ext cx="8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30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1" i="1" lang="es-ES_tradnl" sz="2400" spc="-1" strike="noStrike">
                  <a:solidFill>
                    <a:srgbClr val="333399"/>
                  </a:solidFill>
                  <a:latin typeface="Times New Roman"/>
                </a:rPr>
                <a:t>f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976320" y="379800"/>
              <a:ext cx="8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7877160" y="4540680"/>
            <a:ext cx="3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392640" y="475380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1392-6B53-4EE0-83F0-DD5ACB01E6F0}" type="slidenum">
              <a:t>47</a:t>
            </a:fld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1386000" y="4808520"/>
            <a:ext cx="657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1577880" y="1062000"/>
            <a:ext cx="0" cy="395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725480" y="1914480"/>
            <a:ext cx="5970600" cy="2886120"/>
          </a:xfrm>
          <a:custGeom>
            <a:avLst/>
            <a:gdLst/>
            <a:ahLst/>
            <a:rect l="l" t="t" r="r" b="b"/>
            <a:pathLst>
              <a:path w="3761" h="1818">
                <a:moveTo>
                  <a:pt x="0" y="1414"/>
                </a:moveTo>
                <a:lnTo>
                  <a:pt x="79" y="1131"/>
                </a:lnTo>
                <a:lnTo>
                  <a:pt x="161" y="915"/>
                </a:lnTo>
                <a:lnTo>
                  <a:pt x="263" y="708"/>
                </a:lnTo>
                <a:lnTo>
                  <a:pt x="409" y="457"/>
                </a:lnTo>
                <a:lnTo>
                  <a:pt x="497" y="339"/>
                </a:lnTo>
                <a:lnTo>
                  <a:pt x="567" y="253"/>
                </a:lnTo>
                <a:lnTo>
                  <a:pt x="629" y="195"/>
                </a:lnTo>
                <a:lnTo>
                  <a:pt x="706" y="141"/>
                </a:lnTo>
                <a:lnTo>
                  <a:pt x="824" y="72"/>
                </a:lnTo>
                <a:lnTo>
                  <a:pt x="932" y="30"/>
                </a:lnTo>
                <a:lnTo>
                  <a:pt x="1025" y="9"/>
                </a:lnTo>
                <a:lnTo>
                  <a:pt x="1118" y="0"/>
                </a:lnTo>
                <a:lnTo>
                  <a:pt x="1198" y="2"/>
                </a:lnTo>
                <a:lnTo>
                  <a:pt x="1199" y="1818"/>
                </a:lnTo>
                <a:lnTo>
                  <a:pt x="1409" y="1818"/>
                </a:lnTo>
                <a:lnTo>
                  <a:pt x="1409" y="84"/>
                </a:lnTo>
                <a:lnTo>
                  <a:pt x="1457" y="123"/>
                </a:lnTo>
                <a:lnTo>
                  <a:pt x="1556" y="234"/>
                </a:lnTo>
                <a:lnTo>
                  <a:pt x="1679" y="375"/>
                </a:lnTo>
                <a:lnTo>
                  <a:pt x="1811" y="519"/>
                </a:lnTo>
                <a:lnTo>
                  <a:pt x="1976" y="666"/>
                </a:lnTo>
                <a:lnTo>
                  <a:pt x="2118" y="764"/>
                </a:lnTo>
                <a:lnTo>
                  <a:pt x="2246" y="822"/>
                </a:lnTo>
                <a:lnTo>
                  <a:pt x="2388" y="856"/>
                </a:lnTo>
                <a:lnTo>
                  <a:pt x="2543" y="867"/>
                </a:lnTo>
                <a:lnTo>
                  <a:pt x="2722" y="856"/>
                </a:lnTo>
                <a:lnTo>
                  <a:pt x="2774" y="834"/>
                </a:lnTo>
                <a:lnTo>
                  <a:pt x="2819" y="810"/>
                </a:lnTo>
                <a:lnTo>
                  <a:pt x="2906" y="726"/>
                </a:lnTo>
                <a:lnTo>
                  <a:pt x="2993" y="642"/>
                </a:lnTo>
                <a:lnTo>
                  <a:pt x="3053" y="585"/>
                </a:lnTo>
                <a:lnTo>
                  <a:pt x="3101" y="555"/>
                </a:lnTo>
                <a:lnTo>
                  <a:pt x="3149" y="541"/>
                </a:lnTo>
                <a:lnTo>
                  <a:pt x="3182" y="543"/>
                </a:lnTo>
                <a:lnTo>
                  <a:pt x="3230" y="564"/>
                </a:lnTo>
                <a:lnTo>
                  <a:pt x="3284" y="603"/>
                </a:lnTo>
                <a:lnTo>
                  <a:pt x="3326" y="643"/>
                </a:lnTo>
                <a:lnTo>
                  <a:pt x="3413" y="744"/>
                </a:lnTo>
                <a:lnTo>
                  <a:pt x="3497" y="855"/>
                </a:lnTo>
                <a:lnTo>
                  <a:pt x="3605" y="1052"/>
                </a:lnTo>
                <a:lnTo>
                  <a:pt x="3677" y="1221"/>
                </a:lnTo>
                <a:lnTo>
                  <a:pt x="3761" y="14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800520" y="1984320"/>
            <a:ext cx="0" cy="28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976320" y="379800"/>
            <a:ext cx="1031400" cy="667800"/>
            <a:chOff x="976320" y="379800"/>
            <a:chExt cx="1031400" cy="667800"/>
          </a:xfrm>
        </p:grpSpPr>
        <p:sp>
          <p:nvSpPr>
            <p:cNvPr id="797" name=""/>
            <p:cNvSpPr/>
            <p:nvPr/>
          </p:nvSpPr>
          <p:spPr>
            <a:xfrm>
              <a:off x="1179360" y="587880"/>
              <a:ext cx="8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30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1" i="1" lang="es-ES_tradnl" sz="2400" spc="-1" strike="noStrike">
                  <a:solidFill>
                    <a:srgbClr val="333399"/>
                  </a:solidFill>
                  <a:latin typeface="Times New Roman"/>
                </a:rPr>
                <a:t>f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976320" y="379800"/>
              <a:ext cx="8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7877160" y="4540680"/>
            <a:ext cx="3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392640" y="475380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8D73-785E-4956-B2A2-9E3A2F966DA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1386000" y="4808520"/>
            <a:ext cx="657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1577880" y="1062000"/>
            <a:ext cx="0" cy="395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725480" y="1914480"/>
            <a:ext cx="5970600" cy="2886120"/>
          </a:xfrm>
          <a:custGeom>
            <a:avLst/>
            <a:gdLst/>
            <a:ahLst/>
            <a:rect l="l" t="t" r="r" b="b"/>
            <a:pathLst>
              <a:path w="3761" h="1818">
                <a:moveTo>
                  <a:pt x="0" y="1414"/>
                </a:moveTo>
                <a:lnTo>
                  <a:pt x="79" y="1131"/>
                </a:lnTo>
                <a:lnTo>
                  <a:pt x="161" y="915"/>
                </a:lnTo>
                <a:lnTo>
                  <a:pt x="263" y="708"/>
                </a:lnTo>
                <a:lnTo>
                  <a:pt x="409" y="457"/>
                </a:lnTo>
                <a:lnTo>
                  <a:pt x="497" y="339"/>
                </a:lnTo>
                <a:lnTo>
                  <a:pt x="567" y="253"/>
                </a:lnTo>
                <a:lnTo>
                  <a:pt x="629" y="195"/>
                </a:lnTo>
                <a:lnTo>
                  <a:pt x="706" y="141"/>
                </a:lnTo>
                <a:lnTo>
                  <a:pt x="824" y="72"/>
                </a:lnTo>
                <a:lnTo>
                  <a:pt x="932" y="30"/>
                </a:lnTo>
                <a:lnTo>
                  <a:pt x="1025" y="9"/>
                </a:lnTo>
                <a:lnTo>
                  <a:pt x="1118" y="0"/>
                </a:lnTo>
                <a:lnTo>
                  <a:pt x="1121" y="1818"/>
                </a:lnTo>
                <a:lnTo>
                  <a:pt x="1493" y="1818"/>
                </a:lnTo>
                <a:lnTo>
                  <a:pt x="1487" y="156"/>
                </a:lnTo>
                <a:lnTo>
                  <a:pt x="1556" y="234"/>
                </a:lnTo>
                <a:lnTo>
                  <a:pt x="1679" y="375"/>
                </a:lnTo>
                <a:lnTo>
                  <a:pt x="1811" y="519"/>
                </a:lnTo>
                <a:lnTo>
                  <a:pt x="1976" y="666"/>
                </a:lnTo>
                <a:lnTo>
                  <a:pt x="2118" y="764"/>
                </a:lnTo>
                <a:lnTo>
                  <a:pt x="2246" y="822"/>
                </a:lnTo>
                <a:lnTo>
                  <a:pt x="2388" y="856"/>
                </a:lnTo>
                <a:lnTo>
                  <a:pt x="2543" y="867"/>
                </a:lnTo>
                <a:lnTo>
                  <a:pt x="2722" y="856"/>
                </a:lnTo>
                <a:lnTo>
                  <a:pt x="2774" y="834"/>
                </a:lnTo>
                <a:lnTo>
                  <a:pt x="2819" y="810"/>
                </a:lnTo>
                <a:lnTo>
                  <a:pt x="2906" y="726"/>
                </a:lnTo>
                <a:lnTo>
                  <a:pt x="2993" y="642"/>
                </a:lnTo>
                <a:lnTo>
                  <a:pt x="3053" y="585"/>
                </a:lnTo>
                <a:lnTo>
                  <a:pt x="3101" y="555"/>
                </a:lnTo>
                <a:lnTo>
                  <a:pt x="3149" y="541"/>
                </a:lnTo>
                <a:lnTo>
                  <a:pt x="3182" y="543"/>
                </a:lnTo>
                <a:lnTo>
                  <a:pt x="3230" y="564"/>
                </a:lnTo>
                <a:lnTo>
                  <a:pt x="3284" y="603"/>
                </a:lnTo>
                <a:lnTo>
                  <a:pt x="3326" y="643"/>
                </a:lnTo>
                <a:lnTo>
                  <a:pt x="3413" y="744"/>
                </a:lnTo>
                <a:lnTo>
                  <a:pt x="3497" y="855"/>
                </a:lnTo>
                <a:lnTo>
                  <a:pt x="3605" y="1052"/>
                </a:lnTo>
                <a:lnTo>
                  <a:pt x="3677" y="1221"/>
                </a:lnTo>
                <a:lnTo>
                  <a:pt x="3761" y="14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800520" y="1984320"/>
            <a:ext cx="0" cy="28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976320" y="379800"/>
            <a:ext cx="1031400" cy="667800"/>
            <a:chOff x="976320" y="379800"/>
            <a:chExt cx="1031400" cy="667800"/>
          </a:xfrm>
        </p:grpSpPr>
        <p:sp>
          <p:nvSpPr>
            <p:cNvPr id="806" name=""/>
            <p:cNvSpPr/>
            <p:nvPr/>
          </p:nvSpPr>
          <p:spPr>
            <a:xfrm>
              <a:off x="1179360" y="587880"/>
              <a:ext cx="8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30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1" i="1" lang="es-ES_tradnl" sz="2400" spc="-1" strike="noStrike">
                  <a:solidFill>
                    <a:srgbClr val="333399"/>
                  </a:solidFill>
                  <a:latin typeface="Times New Roman"/>
                </a:rPr>
                <a:t>f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976320" y="379800"/>
              <a:ext cx="8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7877160" y="4540680"/>
            <a:ext cx="3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392640" y="475380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F1E-2323-4E66-AC66-1D9BCFF0281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737640"/>
            <a:ext cx="8534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os fonemas (mínimo fragmento con identidad fonética propia) que constituyen el lenguaje hablado se dividen en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vocales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y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consonantes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12992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s consonantes confieren mayor cantidad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form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que las voca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340-2E1F-4109-B174-4FED7F55B58E}" type="slidenum">
              <a:t>5</a:t>
            </a:fld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1386000" y="4808520"/>
            <a:ext cx="657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1577880" y="1062000"/>
            <a:ext cx="0" cy="395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725480" y="1928880"/>
            <a:ext cx="5970600" cy="2871720"/>
          </a:xfrm>
          <a:custGeom>
            <a:avLst/>
            <a:gdLst/>
            <a:ahLst/>
            <a:rect l="l" t="t" r="r" b="b"/>
            <a:pathLst>
              <a:path w="3761" h="1809">
                <a:moveTo>
                  <a:pt x="0" y="1405"/>
                </a:moveTo>
                <a:lnTo>
                  <a:pt x="79" y="1122"/>
                </a:lnTo>
                <a:lnTo>
                  <a:pt x="161" y="906"/>
                </a:lnTo>
                <a:lnTo>
                  <a:pt x="263" y="699"/>
                </a:lnTo>
                <a:lnTo>
                  <a:pt x="409" y="448"/>
                </a:lnTo>
                <a:lnTo>
                  <a:pt x="497" y="330"/>
                </a:lnTo>
                <a:lnTo>
                  <a:pt x="567" y="244"/>
                </a:lnTo>
                <a:lnTo>
                  <a:pt x="629" y="186"/>
                </a:lnTo>
                <a:lnTo>
                  <a:pt x="706" y="132"/>
                </a:lnTo>
                <a:lnTo>
                  <a:pt x="824" y="63"/>
                </a:lnTo>
                <a:lnTo>
                  <a:pt x="932" y="21"/>
                </a:lnTo>
                <a:lnTo>
                  <a:pt x="1025" y="0"/>
                </a:lnTo>
                <a:lnTo>
                  <a:pt x="1025" y="1809"/>
                </a:lnTo>
                <a:lnTo>
                  <a:pt x="1559" y="1803"/>
                </a:lnTo>
                <a:lnTo>
                  <a:pt x="1556" y="225"/>
                </a:lnTo>
                <a:lnTo>
                  <a:pt x="1679" y="366"/>
                </a:lnTo>
                <a:lnTo>
                  <a:pt x="1811" y="510"/>
                </a:lnTo>
                <a:lnTo>
                  <a:pt x="1976" y="657"/>
                </a:lnTo>
                <a:lnTo>
                  <a:pt x="2118" y="755"/>
                </a:lnTo>
                <a:lnTo>
                  <a:pt x="2246" y="813"/>
                </a:lnTo>
                <a:lnTo>
                  <a:pt x="2388" y="847"/>
                </a:lnTo>
                <a:lnTo>
                  <a:pt x="2543" y="858"/>
                </a:lnTo>
                <a:lnTo>
                  <a:pt x="2722" y="847"/>
                </a:lnTo>
                <a:lnTo>
                  <a:pt x="2774" y="825"/>
                </a:lnTo>
                <a:lnTo>
                  <a:pt x="2819" y="801"/>
                </a:lnTo>
                <a:lnTo>
                  <a:pt x="2906" y="717"/>
                </a:lnTo>
                <a:lnTo>
                  <a:pt x="2993" y="633"/>
                </a:lnTo>
                <a:lnTo>
                  <a:pt x="3053" y="576"/>
                </a:lnTo>
                <a:lnTo>
                  <a:pt x="3101" y="546"/>
                </a:lnTo>
                <a:lnTo>
                  <a:pt x="3149" y="532"/>
                </a:lnTo>
                <a:lnTo>
                  <a:pt x="3182" y="534"/>
                </a:lnTo>
                <a:lnTo>
                  <a:pt x="3230" y="555"/>
                </a:lnTo>
                <a:lnTo>
                  <a:pt x="3284" y="594"/>
                </a:lnTo>
                <a:lnTo>
                  <a:pt x="3326" y="634"/>
                </a:lnTo>
                <a:lnTo>
                  <a:pt x="3413" y="735"/>
                </a:lnTo>
                <a:lnTo>
                  <a:pt x="3497" y="846"/>
                </a:lnTo>
                <a:lnTo>
                  <a:pt x="3605" y="1043"/>
                </a:lnTo>
                <a:lnTo>
                  <a:pt x="3677" y="1212"/>
                </a:lnTo>
                <a:lnTo>
                  <a:pt x="3761" y="1467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800520" y="1984320"/>
            <a:ext cx="0" cy="28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976320" y="379800"/>
            <a:ext cx="1031400" cy="667800"/>
            <a:chOff x="976320" y="379800"/>
            <a:chExt cx="1031400" cy="667800"/>
          </a:xfrm>
        </p:grpSpPr>
        <p:sp>
          <p:nvSpPr>
            <p:cNvPr id="815" name=""/>
            <p:cNvSpPr/>
            <p:nvPr/>
          </p:nvSpPr>
          <p:spPr>
            <a:xfrm>
              <a:off x="1179360" y="587880"/>
              <a:ext cx="8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30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1" i="1" lang="es-ES_tradnl" sz="2400" spc="-1" strike="noStrike">
                  <a:solidFill>
                    <a:srgbClr val="333399"/>
                  </a:solidFill>
                  <a:latin typeface="Times New Roman"/>
                </a:rPr>
                <a:t>f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76320" y="379800"/>
              <a:ext cx="8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7877160" y="4540680"/>
            <a:ext cx="3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392640" y="475380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44C8-6F8F-4394-8C63-52DA145736C0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1386000" y="4808520"/>
            <a:ext cx="657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1577880" y="1062000"/>
            <a:ext cx="0" cy="395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725480" y="1962000"/>
            <a:ext cx="5970600" cy="2843280"/>
          </a:xfrm>
          <a:custGeom>
            <a:avLst/>
            <a:gdLst/>
            <a:ahLst/>
            <a:rect l="l" t="t" r="r" b="b"/>
            <a:pathLst>
              <a:path w="3761" h="1791">
                <a:moveTo>
                  <a:pt x="0" y="1384"/>
                </a:moveTo>
                <a:lnTo>
                  <a:pt x="79" y="1101"/>
                </a:lnTo>
                <a:lnTo>
                  <a:pt x="161" y="885"/>
                </a:lnTo>
                <a:lnTo>
                  <a:pt x="263" y="678"/>
                </a:lnTo>
                <a:lnTo>
                  <a:pt x="409" y="427"/>
                </a:lnTo>
                <a:lnTo>
                  <a:pt x="497" y="309"/>
                </a:lnTo>
                <a:lnTo>
                  <a:pt x="567" y="223"/>
                </a:lnTo>
                <a:lnTo>
                  <a:pt x="629" y="165"/>
                </a:lnTo>
                <a:lnTo>
                  <a:pt x="706" y="111"/>
                </a:lnTo>
                <a:lnTo>
                  <a:pt x="824" y="42"/>
                </a:lnTo>
                <a:lnTo>
                  <a:pt x="932" y="0"/>
                </a:lnTo>
                <a:lnTo>
                  <a:pt x="935" y="1788"/>
                </a:lnTo>
                <a:lnTo>
                  <a:pt x="1646" y="1791"/>
                </a:lnTo>
                <a:lnTo>
                  <a:pt x="1646" y="309"/>
                </a:lnTo>
                <a:lnTo>
                  <a:pt x="1679" y="345"/>
                </a:lnTo>
                <a:lnTo>
                  <a:pt x="1811" y="489"/>
                </a:lnTo>
                <a:lnTo>
                  <a:pt x="1976" y="636"/>
                </a:lnTo>
                <a:lnTo>
                  <a:pt x="2118" y="734"/>
                </a:lnTo>
                <a:lnTo>
                  <a:pt x="2246" y="792"/>
                </a:lnTo>
                <a:lnTo>
                  <a:pt x="2388" y="826"/>
                </a:lnTo>
                <a:lnTo>
                  <a:pt x="2543" y="837"/>
                </a:lnTo>
                <a:lnTo>
                  <a:pt x="2722" y="826"/>
                </a:lnTo>
                <a:lnTo>
                  <a:pt x="2774" y="804"/>
                </a:lnTo>
                <a:lnTo>
                  <a:pt x="2819" y="780"/>
                </a:lnTo>
                <a:lnTo>
                  <a:pt x="2906" y="696"/>
                </a:lnTo>
                <a:lnTo>
                  <a:pt x="2993" y="612"/>
                </a:lnTo>
                <a:lnTo>
                  <a:pt x="3053" y="555"/>
                </a:lnTo>
                <a:lnTo>
                  <a:pt x="3101" y="525"/>
                </a:lnTo>
                <a:lnTo>
                  <a:pt x="3149" y="511"/>
                </a:lnTo>
                <a:lnTo>
                  <a:pt x="3182" y="513"/>
                </a:lnTo>
                <a:lnTo>
                  <a:pt x="3230" y="534"/>
                </a:lnTo>
                <a:lnTo>
                  <a:pt x="3284" y="573"/>
                </a:lnTo>
                <a:lnTo>
                  <a:pt x="3326" y="613"/>
                </a:lnTo>
                <a:lnTo>
                  <a:pt x="3413" y="714"/>
                </a:lnTo>
                <a:lnTo>
                  <a:pt x="3497" y="825"/>
                </a:lnTo>
                <a:lnTo>
                  <a:pt x="3605" y="1022"/>
                </a:lnTo>
                <a:lnTo>
                  <a:pt x="3677" y="1191"/>
                </a:lnTo>
                <a:lnTo>
                  <a:pt x="3761" y="1446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800520" y="1984320"/>
            <a:ext cx="0" cy="28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976320" y="379800"/>
            <a:ext cx="1031400" cy="667800"/>
            <a:chOff x="976320" y="379800"/>
            <a:chExt cx="1031400" cy="667800"/>
          </a:xfrm>
        </p:grpSpPr>
        <p:sp>
          <p:nvSpPr>
            <p:cNvPr id="824" name=""/>
            <p:cNvSpPr/>
            <p:nvPr/>
          </p:nvSpPr>
          <p:spPr>
            <a:xfrm>
              <a:off x="1179360" y="587880"/>
              <a:ext cx="8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30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1" i="1" lang="es-ES_tradnl" sz="2400" spc="-1" strike="noStrike">
                  <a:solidFill>
                    <a:srgbClr val="333399"/>
                  </a:solidFill>
                  <a:latin typeface="Times New Roman"/>
                </a:rPr>
                <a:t>f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976320" y="379800"/>
              <a:ext cx="8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7877160" y="4540680"/>
            <a:ext cx="3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392640" y="475380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5457-5999-4E9D-BE3C-24A566110889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1386000" y="4808520"/>
            <a:ext cx="657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1577880" y="1062000"/>
            <a:ext cx="0" cy="395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725480" y="1962000"/>
            <a:ext cx="5970600" cy="2843280"/>
          </a:xfrm>
          <a:custGeom>
            <a:avLst/>
            <a:gdLst/>
            <a:ahLst/>
            <a:rect l="l" t="t" r="r" b="b"/>
            <a:pathLst>
              <a:path w="3761" h="1791">
                <a:moveTo>
                  <a:pt x="0" y="1384"/>
                </a:moveTo>
                <a:lnTo>
                  <a:pt x="79" y="1101"/>
                </a:lnTo>
                <a:lnTo>
                  <a:pt x="161" y="885"/>
                </a:lnTo>
                <a:lnTo>
                  <a:pt x="263" y="678"/>
                </a:lnTo>
                <a:lnTo>
                  <a:pt x="409" y="427"/>
                </a:lnTo>
                <a:lnTo>
                  <a:pt x="497" y="309"/>
                </a:lnTo>
                <a:lnTo>
                  <a:pt x="567" y="223"/>
                </a:lnTo>
                <a:lnTo>
                  <a:pt x="629" y="165"/>
                </a:lnTo>
                <a:lnTo>
                  <a:pt x="706" y="111"/>
                </a:lnTo>
                <a:lnTo>
                  <a:pt x="824" y="42"/>
                </a:lnTo>
                <a:lnTo>
                  <a:pt x="932" y="0"/>
                </a:lnTo>
                <a:lnTo>
                  <a:pt x="935" y="1788"/>
                </a:lnTo>
                <a:lnTo>
                  <a:pt x="1646" y="1791"/>
                </a:lnTo>
                <a:lnTo>
                  <a:pt x="1646" y="309"/>
                </a:lnTo>
                <a:lnTo>
                  <a:pt x="1679" y="345"/>
                </a:lnTo>
                <a:lnTo>
                  <a:pt x="1811" y="489"/>
                </a:lnTo>
                <a:lnTo>
                  <a:pt x="1976" y="636"/>
                </a:lnTo>
                <a:lnTo>
                  <a:pt x="2118" y="734"/>
                </a:lnTo>
                <a:lnTo>
                  <a:pt x="2246" y="792"/>
                </a:lnTo>
                <a:lnTo>
                  <a:pt x="2388" y="826"/>
                </a:lnTo>
                <a:lnTo>
                  <a:pt x="2543" y="837"/>
                </a:lnTo>
                <a:lnTo>
                  <a:pt x="2722" y="826"/>
                </a:lnTo>
                <a:lnTo>
                  <a:pt x="2774" y="804"/>
                </a:lnTo>
                <a:lnTo>
                  <a:pt x="2819" y="780"/>
                </a:lnTo>
                <a:lnTo>
                  <a:pt x="2906" y="696"/>
                </a:lnTo>
                <a:lnTo>
                  <a:pt x="2993" y="612"/>
                </a:lnTo>
                <a:lnTo>
                  <a:pt x="3053" y="555"/>
                </a:lnTo>
                <a:lnTo>
                  <a:pt x="3101" y="525"/>
                </a:lnTo>
                <a:lnTo>
                  <a:pt x="3149" y="511"/>
                </a:lnTo>
                <a:lnTo>
                  <a:pt x="3182" y="513"/>
                </a:lnTo>
                <a:lnTo>
                  <a:pt x="3230" y="534"/>
                </a:lnTo>
                <a:lnTo>
                  <a:pt x="3284" y="573"/>
                </a:lnTo>
                <a:lnTo>
                  <a:pt x="3326" y="613"/>
                </a:lnTo>
                <a:lnTo>
                  <a:pt x="3413" y="714"/>
                </a:lnTo>
                <a:lnTo>
                  <a:pt x="3497" y="825"/>
                </a:lnTo>
                <a:lnTo>
                  <a:pt x="3605" y="1022"/>
                </a:lnTo>
                <a:lnTo>
                  <a:pt x="3677" y="1191"/>
                </a:lnTo>
                <a:lnTo>
                  <a:pt x="3761" y="1446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800520" y="1984320"/>
            <a:ext cx="0" cy="28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976320" y="379800"/>
            <a:ext cx="1031400" cy="667800"/>
            <a:chOff x="976320" y="379800"/>
            <a:chExt cx="1031400" cy="667800"/>
          </a:xfrm>
        </p:grpSpPr>
        <p:sp>
          <p:nvSpPr>
            <p:cNvPr id="833" name=""/>
            <p:cNvSpPr/>
            <p:nvPr/>
          </p:nvSpPr>
          <p:spPr>
            <a:xfrm>
              <a:off x="1179360" y="587880"/>
              <a:ext cx="8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30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1" i="1" lang="es-ES_tradnl" sz="2400" spc="-1" strike="noStrike">
                  <a:solidFill>
                    <a:srgbClr val="333399"/>
                  </a:solidFill>
                  <a:latin typeface="Times New Roman"/>
                </a:rPr>
                <a:t>f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976320" y="379800"/>
              <a:ext cx="8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7877160" y="4540680"/>
            <a:ext cx="3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392640" y="475380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633920" y="1262160"/>
            <a:ext cx="22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99"/>
                </a:solidFill>
                <a:latin typeface="Arial"/>
              </a:rPr>
              <a:t>Inteligibilidad 9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462F-2032-4FC2-A222-2D467D8E57E5}" type="slidenum">
              <a:t>52</a:t>
            </a:fld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533520" y="1065960"/>
            <a:ext cx="8076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a inteligibilidad se calcula a partir del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índice de articulación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efinido como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438280" y="4052880"/>
            <a:ext cx="4267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AI   =        AI</a:t>
            </a:r>
            <a:r>
              <a:rPr b="1" i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i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     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610160" y="3835080"/>
            <a:ext cx="83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99"/>
                </a:solidFill>
                <a:latin typeface="Symbol"/>
                <a:ea typeface="Symbol"/>
              </a:rPr>
              <a:t>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667400" y="3915720"/>
            <a:ext cx="761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i =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667400" y="3530880"/>
            <a:ext cx="76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20     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40FE-EBFE-416C-803D-3F2724D73726}" type="slidenum">
              <a:t>53</a:t>
            </a:fld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533520" y="784440"/>
            <a:ext cx="80769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9999"/>
                </a:solidFill>
                <a:latin typeface="Times New Roman"/>
              </a:rPr>
              <a:t>AI</a:t>
            </a:r>
            <a:r>
              <a:rPr b="1" i="1" lang="es-ES_tradnl" sz="3600" spc="-1" strike="noStrike" baseline="-25000">
                <a:solidFill>
                  <a:srgbClr val="009999"/>
                </a:solidFill>
                <a:latin typeface="Times New Roman"/>
              </a:rPr>
              <a:t>i</a:t>
            </a:r>
            <a:r>
              <a:rPr b="1" lang="es-ES_tradnl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333399"/>
                </a:solidFill>
                <a:latin typeface="Arial"/>
              </a:rPr>
              <a:t>es la inteligibilidad de la banda </a:t>
            </a:r>
            <a:r>
              <a:rPr b="1" i="1" lang="es-ES_tradnl" sz="3600" spc="-1" strike="noStrike">
                <a:solidFill>
                  <a:srgbClr val="009999"/>
                </a:solidFill>
                <a:latin typeface="Times New Roman"/>
              </a:rPr>
              <a:t>i</a:t>
            </a:r>
            <a:r>
              <a:rPr b="1" lang="es-ES_tradnl" sz="3600" spc="-1" strike="noStrike">
                <a:solidFill>
                  <a:srgbClr val="333399"/>
                </a:solidFill>
                <a:latin typeface="Arial"/>
              </a:rPr>
              <a:t>, obtenida 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33520" y="2899800"/>
            <a:ext cx="1752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AI</a:t>
            </a:r>
            <a:r>
              <a:rPr b="1" i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i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   =  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724120" y="243828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276720" y="2499480"/>
            <a:ext cx="53337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0,05 ———    si</a:t>
            </a: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S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/</a:t>
            </a: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r>
              <a:rPr b="1" i="1" lang="es-ES_tradnl" sz="2800" spc="-1" strike="noStrike" baseline="-25000">
                <a:solidFill>
                  <a:srgbClr val="009999"/>
                </a:solidFill>
                <a:latin typeface="Times New Roman"/>
              </a:rPr>
              <a:t>i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9999"/>
                </a:solidFill>
                <a:latin typeface="Symbol"/>
                <a:ea typeface="Symbol"/>
              </a:rPr>
              <a:t>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886200" y="2137320"/>
            <a:ext cx="12463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S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/</a:t>
            </a: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r>
              <a:rPr b="1" i="1" lang="es-ES_tradnl" sz="2800" spc="-1" strike="noStrike" baseline="-25000">
                <a:solidFill>
                  <a:srgbClr val="0099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886200" y="2852640"/>
            <a:ext cx="1246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30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276720" y="3521880"/>
            <a:ext cx="53337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0,05                 si</a:t>
            </a: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S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/</a:t>
            </a: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r>
              <a:rPr b="1" i="1" lang="es-ES_tradnl" sz="2800" spc="-1" strike="noStrike" baseline="-25000">
                <a:solidFill>
                  <a:srgbClr val="009999"/>
                </a:solidFill>
                <a:latin typeface="Times New Roman"/>
              </a:rPr>
              <a:t>i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 &gt;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28600" y="4656240"/>
            <a:ext cx="86868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99"/>
                </a:solidFill>
                <a:latin typeface="Arial"/>
              </a:rPr>
              <a:t>donde</a:t>
            </a:r>
            <a:r>
              <a:rPr b="1" lang="es-ES_tradnl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s-ES_tradnl" sz="3600" spc="-1" strike="noStrike">
                <a:solidFill>
                  <a:srgbClr val="009999"/>
                </a:solidFill>
                <a:latin typeface="Times New Roman"/>
              </a:rPr>
              <a:t>S</a:t>
            </a:r>
            <a:r>
              <a:rPr b="1" lang="es-ES_tradnl" sz="3600" spc="-1" strike="noStrike">
                <a:solidFill>
                  <a:srgbClr val="009999"/>
                </a:solidFill>
                <a:latin typeface="Times New Roman"/>
              </a:rPr>
              <a:t>/</a:t>
            </a:r>
            <a:r>
              <a:rPr b="1" i="1" lang="es-ES_tradnl" sz="36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1" lang="es-ES_tradnl" sz="3600" spc="-1" strike="noStrike">
                <a:solidFill>
                  <a:srgbClr val="009999"/>
                </a:solidFill>
                <a:latin typeface="Times New Roman"/>
              </a:rPr>
              <a:t>)</a:t>
            </a:r>
            <a:r>
              <a:rPr b="1" i="1" lang="es-ES_tradnl" sz="3600" spc="-1" strike="noStrike" baseline="-25000">
                <a:solidFill>
                  <a:srgbClr val="009999"/>
                </a:solidFill>
                <a:latin typeface="Times New Roman"/>
              </a:rPr>
              <a:t>i</a:t>
            </a:r>
            <a:r>
              <a:rPr b="1" lang="es-ES_tradnl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333399"/>
                </a:solidFill>
                <a:latin typeface="Arial"/>
              </a:rPr>
              <a:t>es relación señal / ruido en</a:t>
            </a:r>
            <a:r>
              <a:rPr b="1" lang="es-ES_tradnl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9999"/>
                </a:solidFill>
                <a:latin typeface="Times New Roman"/>
              </a:rPr>
              <a:t>dB</a:t>
            </a:r>
            <a:r>
              <a:rPr b="1" i="1" lang="es-ES_tradnl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333399"/>
                </a:solidFill>
                <a:latin typeface="Arial"/>
              </a:rPr>
              <a:t>para la </a:t>
            </a:r>
            <a:r>
              <a:rPr b="1" i="1" lang="es-ES_tradnl" sz="36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1" lang="es-ES_tradnl" sz="3600" spc="-1" strike="noStrike">
                <a:solidFill>
                  <a:srgbClr val="333399"/>
                </a:solidFill>
                <a:latin typeface="Arial"/>
              </a:rPr>
              <a:t>-ésima b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9916-E532-45D9-9B3E-F019DD8F60B1}" type="slidenum">
              <a:t>54</a:t>
            </a:fld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533520" y="1355400"/>
            <a:ext cx="8076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lugar de utilizar bandas específicas, difíciles de obtener en los analizadores de espectro convencionales, otros métodos proponen la utilización de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bandas de tercio de octav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EF7-81FD-4DA5-844D-C2E1D2295334}" type="slidenum">
              <a:t>55</a:t>
            </a:fld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533520" y="795600"/>
            <a:ext cx="807696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le asigna un peso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q</a:t>
            </a:r>
            <a:r>
              <a:rPr b="1" i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i</a:t>
            </a:r>
            <a:r>
              <a:rPr b="1" i="1" lang="es-ES_tradnl" sz="40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 cada banda y se calcul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AI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co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2438280" y="2086560"/>
            <a:ext cx="4267080" cy="2551320"/>
            <a:chOff x="2438280" y="2086560"/>
            <a:chExt cx="4267080" cy="2551320"/>
          </a:xfrm>
        </p:grpSpPr>
        <p:sp>
          <p:nvSpPr>
            <p:cNvPr id="854" name=""/>
            <p:cNvSpPr/>
            <p:nvPr/>
          </p:nvSpPr>
          <p:spPr>
            <a:xfrm>
              <a:off x="2438280" y="2833560"/>
              <a:ext cx="42670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AI   =        q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i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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L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i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     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248000" y="2634480"/>
              <a:ext cx="838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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305240" y="2715480"/>
              <a:ext cx="7617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9999"/>
                  </a:solidFill>
                  <a:latin typeface="Times New Roman"/>
                </a:rPr>
                <a:t>i = </a:t>
              </a:r>
              <a:r>
                <a:rPr b="1" lang="en-US" sz="2400" spc="-1" strike="noStrike">
                  <a:solidFill>
                    <a:srgbClr val="009999"/>
                  </a:solidFill>
                  <a:latin typeface="Times New Roman"/>
                </a:rPr>
                <a:t>1</a:t>
              </a:r>
              <a:r>
                <a:rPr b="1" lang="en-US" sz="4000" spc="-1" strike="noStrike">
                  <a:solidFill>
                    <a:srgbClr val="009999"/>
                  </a:solidFill>
                  <a:latin typeface="Times New Roman"/>
                </a:rPr>
                <a:t>      </a:t>
              </a:r>
              <a:r>
                <a:rPr b="1" lang="en-US" sz="40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305240" y="2086560"/>
              <a:ext cx="761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9999"/>
                  </a:solidFill>
                  <a:latin typeface="Times New Roman"/>
                </a:rPr>
                <a:t>n</a:t>
              </a:r>
              <a:r>
                <a:rPr b="1" lang="en-US" sz="4000" spc="-1" strike="noStrike">
                  <a:solidFill>
                    <a:srgbClr val="009999"/>
                  </a:solidFill>
                  <a:latin typeface="Times New Roman"/>
                </a:rPr>
                <a:t>      </a:t>
              </a:r>
              <a:r>
                <a:rPr b="1" lang="en-US" sz="40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228600" y="4286520"/>
            <a:ext cx="868680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onde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Symbol"/>
                <a:ea typeface="Symbol"/>
              </a:rPr>
              <a:t>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L</a:t>
            </a:r>
            <a:r>
              <a:rPr b="1" i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i</a:t>
            </a:r>
            <a:r>
              <a:rPr b="1" lang="es-ES_tradnl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 la diferencia entre el nivel de pico de la voz y el nivel de ruido en la </a:t>
            </a:r>
            <a:r>
              <a:rPr b="1" i="1" lang="es-ES_tradnl" sz="40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-ésima band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BD01-D425-49DA-B139-08EDD89F8CFC}" type="slidenum">
              <a:t>56</a:t>
            </a:fld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609480" y="2133000"/>
            <a:ext cx="7925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 partir del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AI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obtiene el porcentaje de articulación silábica mediante curvas como la siguiente...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3234-06A2-4533-B8F2-5FE072D5CBC1}" type="slidenum">
              <a:t>57</a:t>
            </a:fld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1874880" y="4962600"/>
            <a:ext cx="668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41440" y="261612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441440" y="296244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441440" y="3306600"/>
            <a:ext cx="6685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440000" y="3656160"/>
            <a:ext cx="668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434960" y="401472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450800" y="440064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401840" y="4756320"/>
            <a:ext cx="706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449360" y="2295360"/>
            <a:ext cx="6685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577880" y="1936800"/>
            <a:ext cx="544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589040" y="1563840"/>
            <a:ext cx="544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582560" y="1219320"/>
            <a:ext cx="546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475000" y="4962600"/>
            <a:ext cx="587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043080" y="496260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611520" y="496260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181400" y="496260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748040" y="49626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316480" y="49626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591080" y="5443560"/>
            <a:ext cx="10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Times New Roman"/>
              </a:rPr>
              <a:t>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877000" y="49500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446880" y="4950000"/>
            <a:ext cx="587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013520" y="49500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990720" y="2860560"/>
            <a:ext cx="83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Times New Roman"/>
              </a:rPr>
              <a:t>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548480" y="4940280"/>
            <a:ext cx="588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2200320" y="1349280"/>
            <a:ext cx="5668560" cy="3551400"/>
            <a:chOff x="2200320" y="1349280"/>
            <a:chExt cx="5668560" cy="3551400"/>
          </a:xfrm>
        </p:grpSpPr>
        <p:sp>
          <p:nvSpPr>
            <p:cNvPr id="885" name=""/>
            <p:cNvSpPr/>
            <p:nvPr/>
          </p:nvSpPr>
          <p:spPr>
            <a:xfrm>
              <a:off x="2203200" y="1353600"/>
              <a:ext cx="108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77236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33864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906360" y="1353600"/>
              <a:ext cx="108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474080" y="1353600"/>
              <a:ext cx="108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60952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17616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74460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04180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2203200" y="4886640"/>
              <a:ext cx="565488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203200" y="4532760"/>
              <a:ext cx="565488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2203200" y="4177080"/>
              <a:ext cx="56527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201400" y="3826440"/>
              <a:ext cx="565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200320" y="3112560"/>
              <a:ext cx="56613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206800" y="2067480"/>
              <a:ext cx="56505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208240" y="2410200"/>
              <a:ext cx="5651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2201040" y="2760840"/>
              <a:ext cx="56538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2201400" y="1352160"/>
              <a:ext cx="566748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2212920" y="1706040"/>
              <a:ext cx="5651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2201040" y="3471480"/>
              <a:ext cx="565668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14480" y="1349280"/>
              <a:ext cx="1080" cy="352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862760" y="1349280"/>
              <a:ext cx="720" cy="355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2212920" y="1441440"/>
            <a:ext cx="5635800" cy="3427560"/>
          </a:xfrm>
          <a:custGeom>
            <a:avLst/>
            <a:gdLst/>
            <a:ahLst/>
            <a:rect l="l" t="t" r="r" b="b"/>
            <a:pathLst>
              <a:path w="3546" h="2164">
                <a:moveTo>
                  <a:pt x="0" y="2164"/>
                </a:moveTo>
                <a:lnTo>
                  <a:pt x="194" y="2072"/>
                </a:lnTo>
                <a:lnTo>
                  <a:pt x="354" y="1992"/>
                </a:lnTo>
                <a:lnTo>
                  <a:pt x="546" y="1864"/>
                </a:lnTo>
                <a:lnTo>
                  <a:pt x="714" y="1712"/>
                </a:lnTo>
                <a:lnTo>
                  <a:pt x="922" y="1504"/>
                </a:lnTo>
                <a:lnTo>
                  <a:pt x="1114" y="1272"/>
                </a:lnTo>
                <a:lnTo>
                  <a:pt x="1434" y="880"/>
                </a:lnTo>
                <a:lnTo>
                  <a:pt x="1618" y="704"/>
                </a:lnTo>
                <a:lnTo>
                  <a:pt x="1786" y="584"/>
                </a:lnTo>
                <a:lnTo>
                  <a:pt x="1954" y="480"/>
                </a:lnTo>
                <a:lnTo>
                  <a:pt x="2146" y="368"/>
                </a:lnTo>
                <a:lnTo>
                  <a:pt x="2330" y="280"/>
                </a:lnTo>
                <a:lnTo>
                  <a:pt x="2498" y="216"/>
                </a:lnTo>
                <a:lnTo>
                  <a:pt x="2874" y="112"/>
                </a:lnTo>
                <a:lnTo>
                  <a:pt x="3218" y="40"/>
                </a:lnTo>
                <a:lnTo>
                  <a:pt x="354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BE0F-895C-41A1-AD47-49487AFA3686}" type="slidenum">
              <a:t>58</a:t>
            </a:fld>
          </a:p>
        </p:txBody>
      </p:sp>
    </p:spTree>
  </p:cSld>
  <p:transition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533520" y="2269440"/>
            <a:ext cx="8076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También es posibl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alificar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rectament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la inteligibilidad a partir del índice de articul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74F4-C237-4B14-AF13-0C203F700708}" type="slidenum">
              <a:t>59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14440" y="914040"/>
            <a:ext cx="81151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s vocales son sonidos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uasi periódic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y por lo tanto poseen un espectro formado </a:t>
            </a:r>
            <a:br>
              <a:rPr sz="4000"/>
            </a:b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or un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undamental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y sus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rmónicos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.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s consonantes, en cambio, por lo general tienen un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pectro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redominantement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ntinuo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7C8C-DF9A-4144-AED6-88D7238C384B}" type="slidenum">
              <a:t>6</a:t>
            </a:fld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457200" y="1765800"/>
            <a:ext cx="82296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ctr" pos="762120"/>
                <a:tab algn="ctr" pos="3809880"/>
                <a:tab algn="ctr" pos="6953400"/>
                <a:tab algn="r" pos="79056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ase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alificación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AI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ctr" pos="762120"/>
                <a:tab algn="ctr" pos="3809880"/>
                <a:tab algn="ctr" pos="6953400"/>
                <a:tab algn="r" pos="79056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Excelente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&gt; 0,7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I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uena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0,5 - 0,7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I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atisfactoria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0,3 - 0,5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IV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No satisfactoria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0,1 - 0,3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Muy mala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&lt; 0,1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53B0-613B-4CCE-8AC9-71B00849496C}" type="slidenum">
              <a:t>60</a:t>
            </a:fld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533520" y="1659960"/>
            <a:ext cx="8076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Otro método es el que utiliza el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Índice de Transmisión de la Palabra,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STI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(speech transmission index) y su versión rápida,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RASTI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19E0-53ED-42B4-8405-C57FF85928E8}" type="slidenum">
              <a:t>61</a:t>
            </a:fld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533520" y="1659960"/>
            <a:ext cx="8076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tos métodos consisten en aplicar una señal modulada en amplitud y obtener l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unción de transferencia de modulación,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MT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1CBC-3E4B-43C7-A54E-B7FDDA89D215}" type="slidenum">
              <a:t>62</a:t>
            </a:fld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743040" y="1964520"/>
            <a:ext cx="7657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Una gran ventaja es que permite incluir también el efecto de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nmascaramiento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causado por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61AC-7899-4398-8A90-577FFDE67D97}" type="slidenum">
              <a:t>63</a:t>
            </a:fld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743040" y="532800"/>
            <a:ext cx="76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 utiliza una señal del tip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33520" y="2818800"/>
            <a:ext cx="8076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onde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s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t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)</a:t>
            </a:r>
            <a:r>
              <a:rPr b="1" lang="es-ES_tradnl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 la portadora, es decir bandas de ruido de octava entre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125 Hz</a:t>
            </a:r>
            <a:r>
              <a:rPr b="1" i="1" lang="es-ES_tradnl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8 kHz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i="1" lang="es-ES_tradnl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on frecuencias que van desde</a:t>
            </a:r>
            <a:br>
              <a:rPr sz="4000"/>
            </a:b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0,25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Hz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a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25 Hz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743040" y="1583640"/>
            <a:ext cx="7657920" cy="1106280"/>
            <a:chOff x="743040" y="1583640"/>
            <a:chExt cx="7657920" cy="1106280"/>
          </a:xfrm>
        </p:grpSpPr>
        <p:sp>
          <p:nvSpPr>
            <p:cNvPr id="916" name=""/>
            <p:cNvSpPr/>
            <p:nvPr/>
          </p:nvSpPr>
          <p:spPr>
            <a:xfrm>
              <a:off x="743040" y="1583640"/>
              <a:ext cx="765792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p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(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t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)   =   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P</a:t>
              </a:r>
              <a:r>
                <a:rPr b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o</a:t>
              </a:r>
              <a:r>
                <a:rPr b="1" lang="es-ES_tradnl" sz="4800" spc="-1" strike="noStrike">
                  <a:solidFill>
                    <a:srgbClr val="009999"/>
                  </a:solidFill>
                  <a:latin typeface="Times New Roman"/>
                </a:rPr>
                <a:t>   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1  +  sen 2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Ft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  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s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(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t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03720" y="1590480"/>
              <a:ext cx="9493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6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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981600" y="1695600"/>
              <a:ext cx="305568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B7A8-B547-47EB-B88F-298048744EE7}" type="slidenum">
              <a:t>64</a:t>
            </a:fld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743040" y="764640"/>
            <a:ext cx="7657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raíz cuadrada es para que la intensidad, que es proporcional al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uadrado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e la presión, esté modulada senoidalment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743040" y="4465800"/>
            <a:ext cx="7657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p</a:t>
            </a:r>
            <a:r>
              <a:rPr b="1" lang="es-ES_tradnl" sz="4000" spc="-1" strike="noStrike" baseline="30000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t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)   =  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P</a:t>
            </a:r>
            <a:r>
              <a:rPr b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es-ES_tradnl" sz="4000" spc="-1" strike="noStrike" baseline="30000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(1  +  sen 2</a:t>
            </a:r>
            <a:r>
              <a:rPr b="1" lang="es-ES_tradnl" sz="40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Ft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)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s</a:t>
            </a:r>
            <a:r>
              <a:rPr b="1" lang="es-ES_tradnl" sz="4000" spc="-1" strike="noStrike" baseline="30000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t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EDE5-0776-481E-A03A-3E4699773EA6}" type="slidenum">
              <a:t>65</a:t>
            </a:fld>
          </a:p>
        </p:txBody>
      </p:sp>
    </p:spTree>
  </p:cSld>
  <p:transition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458120" y="3120480"/>
            <a:ext cx="3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087560" y="1289880"/>
            <a:ext cx="11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1" lang="es-ES_tradnl" sz="2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s-ES_tradnl" sz="28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1606680" y="2036880"/>
            <a:ext cx="5140800" cy="2787120"/>
            <a:chOff x="1606680" y="2036880"/>
            <a:chExt cx="5140800" cy="2787120"/>
          </a:xfrm>
        </p:grpSpPr>
        <p:grpSp>
          <p:nvGrpSpPr>
            <p:cNvPr id="924" name=""/>
            <p:cNvGrpSpPr/>
            <p:nvPr/>
          </p:nvGrpSpPr>
          <p:grpSpPr>
            <a:xfrm>
              <a:off x="1606680" y="2036880"/>
              <a:ext cx="5140800" cy="1374480"/>
              <a:chOff x="1606680" y="2036880"/>
              <a:chExt cx="5140800" cy="1374480"/>
            </a:xfrm>
          </p:grpSpPr>
          <p:grpSp>
            <p:nvGrpSpPr>
              <p:cNvPr id="925" name=""/>
              <p:cNvGrpSpPr/>
              <p:nvPr/>
            </p:nvGrpSpPr>
            <p:grpSpPr>
              <a:xfrm>
                <a:off x="1606680" y="2036880"/>
                <a:ext cx="3428640" cy="1374480"/>
                <a:chOff x="1606680" y="2036880"/>
                <a:chExt cx="3428640" cy="1374480"/>
              </a:xfrm>
            </p:grpSpPr>
            <p:grpSp>
              <p:nvGrpSpPr>
                <p:cNvPr id="926" name=""/>
                <p:cNvGrpSpPr/>
                <p:nvPr/>
              </p:nvGrpSpPr>
              <p:grpSpPr>
                <a:xfrm>
                  <a:off x="1606680" y="2036880"/>
                  <a:ext cx="1712880" cy="1374480"/>
                  <a:chOff x="1606680" y="2036880"/>
                  <a:chExt cx="1712880" cy="1374480"/>
                </a:xfrm>
              </p:grpSpPr>
              <p:grpSp>
                <p:nvGrpSpPr>
                  <p:cNvPr id="927" name=""/>
                  <p:cNvGrpSpPr/>
                  <p:nvPr/>
                </p:nvGrpSpPr>
                <p:grpSpPr>
                  <a:xfrm>
                    <a:off x="1606680" y="2036880"/>
                    <a:ext cx="855360" cy="687240"/>
                    <a:chOff x="1606680" y="2036880"/>
                    <a:chExt cx="855360" cy="687240"/>
                  </a:xfrm>
                </p:grpSpPr>
                <p:sp>
                  <p:nvSpPr>
                    <p:cNvPr id="928" name=""/>
                    <p:cNvSpPr/>
                    <p:nvPr/>
                  </p:nvSpPr>
                  <p:spPr>
                    <a:xfrm>
                      <a:off x="1606680" y="203688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19981"/>
                          </a:moveTo>
                          <a:lnTo>
                            <a:pt x="1042" y="18390"/>
                          </a:lnTo>
                          <a:lnTo>
                            <a:pt x="1958" y="16873"/>
                          </a:lnTo>
                          <a:lnTo>
                            <a:pt x="3000" y="15356"/>
                          </a:lnTo>
                          <a:lnTo>
                            <a:pt x="3958" y="13747"/>
                          </a:lnTo>
                          <a:lnTo>
                            <a:pt x="5042" y="12340"/>
                          </a:lnTo>
                          <a:lnTo>
                            <a:pt x="5958" y="10953"/>
                          </a:lnTo>
                          <a:lnTo>
                            <a:pt x="7000" y="9584"/>
                          </a:lnTo>
                          <a:lnTo>
                            <a:pt x="7958" y="8252"/>
                          </a:lnTo>
                          <a:lnTo>
                            <a:pt x="9000" y="7012"/>
                          </a:lnTo>
                          <a:lnTo>
                            <a:pt x="10042" y="5920"/>
                          </a:lnTo>
                          <a:lnTo>
                            <a:pt x="11000" y="4847"/>
                          </a:lnTo>
                          <a:lnTo>
                            <a:pt x="12000" y="3793"/>
                          </a:lnTo>
                          <a:lnTo>
                            <a:pt x="12958" y="3016"/>
                          </a:lnTo>
                          <a:lnTo>
                            <a:pt x="14042" y="2239"/>
                          </a:lnTo>
                          <a:lnTo>
                            <a:pt x="14958" y="1536"/>
                          </a:lnTo>
                          <a:lnTo>
                            <a:pt x="16000" y="962"/>
                          </a:lnTo>
                          <a:lnTo>
                            <a:pt x="16958" y="592"/>
                          </a:lnTo>
                          <a:lnTo>
                            <a:pt x="18042" y="222"/>
                          </a:lnTo>
                          <a:lnTo>
                            <a:pt x="18917" y="37"/>
                          </a:lnTo>
                          <a:lnTo>
                            <a:pt x="19958" y="0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"/>
                    <p:cNvSpPr/>
                    <p:nvPr/>
                  </p:nvSpPr>
                  <p:spPr>
                    <a:xfrm>
                      <a:off x="2034360" y="203688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19981"/>
                          </a:moveTo>
                          <a:lnTo>
                            <a:pt x="18958" y="18390"/>
                          </a:lnTo>
                          <a:lnTo>
                            <a:pt x="18042" y="16873"/>
                          </a:lnTo>
                          <a:lnTo>
                            <a:pt x="17000" y="15356"/>
                          </a:lnTo>
                          <a:lnTo>
                            <a:pt x="16042" y="13747"/>
                          </a:lnTo>
                          <a:lnTo>
                            <a:pt x="14958" y="12340"/>
                          </a:lnTo>
                          <a:lnTo>
                            <a:pt x="14042" y="10953"/>
                          </a:lnTo>
                          <a:lnTo>
                            <a:pt x="12958" y="9584"/>
                          </a:lnTo>
                          <a:lnTo>
                            <a:pt x="12000" y="8252"/>
                          </a:lnTo>
                          <a:lnTo>
                            <a:pt x="11000" y="7012"/>
                          </a:lnTo>
                          <a:lnTo>
                            <a:pt x="10042" y="5920"/>
                          </a:lnTo>
                          <a:lnTo>
                            <a:pt x="9000" y="4847"/>
                          </a:lnTo>
                          <a:lnTo>
                            <a:pt x="8000" y="3793"/>
                          </a:lnTo>
                          <a:lnTo>
                            <a:pt x="7000" y="3016"/>
                          </a:lnTo>
                          <a:lnTo>
                            <a:pt x="6042" y="2239"/>
                          </a:lnTo>
                          <a:lnTo>
                            <a:pt x="5042" y="1536"/>
                          </a:lnTo>
                          <a:lnTo>
                            <a:pt x="4000" y="962"/>
                          </a:lnTo>
                          <a:lnTo>
                            <a:pt x="3000" y="592"/>
                          </a:lnTo>
                          <a:lnTo>
                            <a:pt x="2042" y="222"/>
                          </a:lnTo>
                          <a:lnTo>
                            <a:pt x="1042" y="3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0" name=""/>
                  <p:cNvGrpSpPr/>
                  <p:nvPr/>
                </p:nvGrpSpPr>
                <p:grpSpPr>
                  <a:xfrm>
                    <a:off x="2464200" y="2724120"/>
                    <a:ext cx="855360" cy="687240"/>
                    <a:chOff x="2464200" y="2724120"/>
                    <a:chExt cx="855360" cy="687240"/>
                  </a:xfrm>
                </p:grpSpPr>
                <p:sp>
                  <p:nvSpPr>
                    <p:cNvPr id="931" name=""/>
                    <p:cNvSpPr/>
                    <p:nvPr/>
                  </p:nvSpPr>
                  <p:spPr>
                    <a:xfrm>
                      <a:off x="2464200" y="272412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0"/>
                          </a:moveTo>
                          <a:lnTo>
                            <a:pt x="1042" y="1591"/>
                          </a:lnTo>
                          <a:lnTo>
                            <a:pt x="1958" y="3108"/>
                          </a:lnTo>
                          <a:lnTo>
                            <a:pt x="3000" y="4625"/>
                          </a:lnTo>
                          <a:lnTo>
                            <a:pt x="3958" y="6253"/>
                          </a:lnTo>
                          <a:lnTo>
                            <a:pt x="5042" y="7660"/>
                          </a:lnTo>
                          <a:lnTo>
                            <a:pt x="5958" y="9029"/>
                          </a:lnTo>
                          <a:lnTo>
                            <a:pt x="7000" y="10416"/>
                          </a:lnTo>
                          <a:lnTo>
                            <a:pt x="7958" y="11730"/>
                          </a:lnTo>
                          <a:lnTo>
                            <a:pt x="9000" y="12969"/>
                          </a:lnTo>
                          <a:lnTo>
                            <a:pt x="10042" y="14080"/>
                          </a:lnTo>
                          <a:lnTo>
                            <a:pt x="11000" y="15134"/>
                          </a:lnTo>
                          <a:lnTo>
                            <a:pt x="12000" y="16189"/>
                          </a:lnTo>
                          <a:lnTo>
                            <a:pt x="12958" y="16984"/>
                          </a:lnTo>
                          <a:lnTo>
                            <a:pt x="14042" y="17743"/>
                          </a:lnTo>
                          <a:lnTo>
                            <a:pt x="14958" y="18464"/>
                          </a:lnTo>
                          <a:lnTo>
                            <a:pt x="16000" y="19019"/>
                          </a:lnTo>
                          <a:lnTo>
                            <a:pt x="16958" y="19408"/>
                          </a:lnTo>
                          <a:lnTo>
                            <a:pt x="18042" y="19759"/>
                          </a:lnTo>
                          <a:lnTo>
                            <a:pt x="18917" y="19944"/>
                          </a:lnTo>
                          <a:lnTo>
                            <a:pt x="19958" y="19981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2" name=""/>
                    <p:cNvSpPr/>
                    <p:nvPr/>
                  </p:nvSpPr>
                  <p:spPr>
                    <a:xfrm>
                      <a:off x="2891880" y="272412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0"/>
                          </a:moveTo>
                          <a:lnTo>
                            <a:pt x="18958" y="1591"/>
                          </a:lnTo>
                          <a:lnTo>
                            <a:pt x="18042" y="3108"/>
                          </a:lnTo>
                          <a:lnTo>
                            <a:pt x="17000" y="4625"/>
                          </a:lnTo>
                          <a:lnTo>
                            <a:pt x="16042" y="6253"/>
                          </a:lnTo>
                          <a:lnTo>
                            <a:pt x="14958" y="7660"/>
                          </a:lnTo>
                          <a:lnTo>
                            <a:pt x="14042" y="9029"/>
                          </a:lnTo>
                          <a:lnTo>
                            <a:pt x="12958" y="10416"/>
                          </a:lnTo>
                          <a:lnTo>
                            <a:pt x="12000" y="11730"/>
                          </a:lnTo>
                          <a:lnTo>
                            <a:pt x="11000" y="12969"/>
                          </a:lnTo>
                          <a:lnTo>
                            <a:pt x="10042" y="14080"/>
                          </a:lnTo>
                          <a:lnTo>
                            <a:pt x="9000" y="15134"/>
                          </a:lnTo>
                          <a:lnTo>
                            <a:pt x="8000" y="16189"/>
                          </a:lnTo>
                          <a:lnTo>
                            <a:pt x="7000" y="16984"/>
                          </a:lnTo>
                          <a:lnTo>
                            <a:pt x="6042" y="17743"/>
                          </a:lnTo>
                          <a:lnTo>
                            <a:pt x="5042" y="18464"/>
                          </a:lnTo>
                          <a:lnTo>
                            <a:pt x="4000" y="19019"/>
                          </a:lnTo>
                          <a:lnTo>
                            <a:pt x="3000" y="19408"/>
                          </a:lnTo>
                          <a:lnTo>
                            <a:pt x="2042" y="19759"/>
                          </a:lnTo>
                          <a:lnTo>
                            <a:pt x="1042" y="19944"/>
                          </a:lnTo>
                          <a:lnTo>
                            <a:pt x="0" y="19981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33" name=""/>
                <p:cNvGrpSpPr/>
                <p:nvPr/>
              </p:nvGrpSpPr>
              <p:grpSpPr>
                <a:xfrm>
                  <a:off x="3320280" y="2036880"/>
                  <a:ext cx="1715040" cy="1374480"/>
                  <a:chOff x="3320280" y="2036880"/>
                  <a:chExt cx="1715040" cy="1374480"/>
                </a:xfrm>
              </p:grpSpPr>
              <p:grpSp>
                <p:nvGrpSpPr>
                  <p:cNvPr id="934" name=""/>
                  <p:cNvGrpSpPr/>
                  <p:nvPr/>
                </p:nvGrpSpPr>
                <p:grpSpPr>
                  <a:xfrm>
                    <a:off x="3320280" y="2036880"/>
                    <a:ext cx="855720" cy="687240"/>
                    <a:chOff x="3320280" y="2036880"/>
                    <a:chExt cx="855720" cy="687240"/>
                  </a:xfrm>
                </p:grpSpPr>
                <p:sp>
                  <p:nvSpPr>
                    <p:cNvPr id="935" name=""/>
                    <p:cNvSpPr/>
                    <p:nvPr/>
                  </p:nvSpPr>
                  <p:spPr>
                    <a:xfrm>
                      <a:off x="3320280" y="2036880"/>
                      <a:ext cx="42804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19981"/>
                          </a:moveTo>
                          <a:lnTo>
                            <a:pt x="1042" y="18390"/>
                          </a:lnTo>
                          <a:lnTo>
                            <a:pt x="1958" y="16873"/>
                          </a:lnTo>
                          <a:lnTo>
                            <a:pt x="3000" y="15356"/>
                          </a:lnTo>
                          <a:lnTo>
                            <a:pt x="3958" y="13747"/>
                          </a:lnTo>
                          <a:lnTo>
                            <a:pt x="5042" y="12340"/>
                          </a:lnTo>
                          <a:lnTo>
                            <a:pt x="5958" y="10953"/>
                          </a:lnTo>
                          <a:lnTo>
                            <a:pt x="7000" y="9584"/>
                          </a:lnTo>
                          <a:lnTo>
                            <a:pt x="7958" y="8252"/>
                          </a:lnTo>
                          <a:lnTo>
                            <a:pt x="9000" y="7012"/>
                          </a:lnTo>
                          <a:lnTo>
                            <a:pt x="10042" y="5920"/>
                          </a:lnTo>
                          <a:lnTo>
                            <a:pt x="11000" y="4847"/>
                          </a:lnTo>
                          <a:lnTo>
                            <a:pt x="12000" y="3793"/>
                          </a:lnTo>
                          <a:lnTo>
                            <a:pt x="12958" y="3016"/>
                          </a:lnTo>
                          <a:lnTo>
                            <a:pt x="14042" y="2239"/>
                          </a:lnTo>
                          <a:lnTo>
                            <a:pt x="14958" y="1536"/>
                          </a:lnTo>
                          <a:lnTo>
                            <a:pt x="16000" y="962"/>
                          </a:lnTo>
                          <a:lnTo>
                            <a:pt x="16958" y="592"/>
                          </a:lnTo>
                          <a:lnTo>
                            <a:pt x="18042" y="222"/>
                          </a:lnTo>
                          <a:lnTo>
                            <a:pt x="18917" y="37"/>
                          </a:lnTo>
                          <a:lnTo>
                            <a:pt x="19958" y="0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>
                      <a:off x="3748320" y="203688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19981"/>
                          </a:moveTo>
                          <a:lnTo>
                            <a:pt x="18958" y="18390"/>
                          </a:lnTo>
                          <a:lnTo>
                            <a:pt x="18042" y="16873"/>
                          </a:lnTo>
                          <a:lnTo>
                            <a:pt x="17000" y="15356"/>
                          </a:lnTo>
                          <a:lnTo>
                            <a:pt x="16042" y="13747"/>
                          </a:lnTo>
                          <a:lnTo>
                            <a:pt x="14958" y="12340"/>
                          </a:lnTo>
                          <a:lnTo>
                            <a:pt x="14042" y="10953"/>
                          </a:lnTo>
                          <a:lnTo>
                            <a:pt x="12958" y="9584"/>
                          </a:lnTo>
                          <a:lnTo>
                            <a:pt x="12000" y="8252"/>
                          </a:lnTo>
                          <a:lnTo>
                            <a:pt x="11000" y="7012"/>
                          </a:lnTo>
                          <a:lnTo>
                            <a:pt x="10042" y="5920"/>
                          </a:lnTo>
                          <a:lnTo>
                            <a:pt x="9000" y="4847"/>
                          </a:lnTo>
                          <a:lnTo>
                            <a:pt x="8000" y="3793"/>
                          </a:lnTo>
                          <a:lnTo>
                            <a:pt x="7000" y="3016"/>
                          </a:lnTo>
                          <a:lnTo>
                            <a:pt x="6042" y="2239"/>
                          </a:lnTo>
                          <a:lnTo>
                            <a:pt x="5042" y="1536"/>
                          </a:lnTo>
                          <a:lnTo>
                            <a:pt x="4000" y="962"/>
                          </a:lnTo>
                          <a:lnTo>
                            <a:pt x="3000" y="592"/>
                          </a:lnTo>
                          <a:lnTo>
                            <a:pt x="2042" y="222"/>
                          </a:lnTo>
                          <a:lnTo>
                            <a:pt x="1042" y="3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7" name=""/>
                  <p:cNvGrpSpPr/>
                  <p:nvPr/>
                </p:nvGrpSpPr>
                <p:grpSpPr>
                  <a:xfrm>
                    <a:off x="4178160" y="2724120"/>
                    <a:ext cx="857160" cy="687240"/>
                    <a:chOff x="4178160" y="2724120"/>
                    <a:chExt cx="857160" cy="687240"/>
                  </a:xfrm>
                </p:grpSpPr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4178160" y="272412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0"/>
                          </a:moveTo>
                          <a:lnTo>
                            <a:pt x="1042" y="1591"/>
                          </a:lnTo>
                          <a:lnTo>
                            <a:pt x="1958" y="3108"/>
                          </a:lnTo>
                          <a:lnTo>
                            <a:pt x="3000" y="4625"/>
                          </a:lnTo>
                          <a:lnTo>
                            <a:pt x="3958" y="6253"/>
                          </a:lnTo>
                          <a:lnTo>
                            <a:pt x="5042" y="7660"/>
                          </a:lnTo>
                          <a:lnTo>
                            <a:pt x="5958" y="9029"/>
                          </a:lnTo>
                          <a:lnTo>
                            <a:pt x="7000" y="10416"/>
                          </a:lnTo>
                          <a:lnTo>
                            <a:pt x="7958" y="11730"/>
                          </a:lnTo>
                          <a:lnTo>
                            <a:pt x="9000" y="12969"/>
                          </a:lnTo>
                          <a:lnTo>
                            <a:pt x="10042" y="14080"/>
                          </a:lnTo>
                          <a:lnTo>
                            <a:pt x="11000" y="15134"/>
                          </a:lnTo>
                          <a:lnTo>
                            <a:pt x="12000" y="16189"/>
                          </a:lnTo>
                          <a:lnTo>
                            <a:pt x="12958" y="16984"/>
                          </a:lnTo>
                          <a:lnTo>
                            <a:pt x="14042" y="17743"/>
                          </a:lnTo>
                          <a:lnTo>
                            <a:pt x="14958" y="18464"/>
                          </a:lnTo>
                          <a:lnTo>
                            <a:pt x="16000" y="19019"/>
                          </a:lnTo>
                          <a:lnTo>
                            <a:pt x="16958" y="19408"/>
                          </a:lnTo>
                          <a:lnTo>
                            <a:pt x="18042" y="19759"/>
                          </a:lnTo>
                          <a:lnTo>
                            <a:pt x="18917" y="19944"/>
                          </a:lnTo>
                          <a:lnTo>
                            <a:pt x="19958" y="19981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9" name=""/>
                    <p:cNvSpPr/>
                    <p:nvPr/>
                  </p:nvSpPr>
                  <p:spPr>
                    <a:xfrm>
                      <a:off x="4607280" y="2724120"/>
                      <a:ext cx="42804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0"/>
                          </a:moveTo>
                          <a:lnTo>
                            <a:pt x="18958" y="1591"/>
                          </a:lnTo>
                          <a:lnTo>
                            <a:pt x="18042" y="3108"/>
                          </a:lnTo>
                          <a:lnTo>
                            <a:pt x="17000" y="4625"/>
                          </a:lnTo>
                          <a:lnTo>
                            <a:pt x="16042" y="6253"/>
                          </a:lnTo>
                          <a:lnTo>
                            <a:pt x="14958" y="7660"/>
                          </a:lnTo>
                          <a:lnTo>
                            <a:pt x="14042" y="9029"/>
                          </a:lnTo>
                          <a:lnTo>
                            <a:pt x="12958" y="10416"/>
                          </a:lnTo>
                          <a:lnTo>
                            <a:pt x="12000" y="11730"/>
                          </a:lnTo>
                          <a:lnTo>
                            <a:pt x="11000" y="12969"/>
                          </a:lnTo>
                          <a:lnTo>
                            <a:pt x="10042" y="14080"/>
                          </a:lnTo>
                          <a:lnTo>
                            <a:pt x="9000" y="15134"/>
                          </a:lnTo>
                          <a:lnTo>
                            <a:pt x="8000" y="16189"/>
                          </a:lnTo>
                          <a:lnTo>
                            <a:pt x="7000" y="16984"/>
                          </a:lnTo>
                          <a:lnTo>
                            <a:pt x="6042" y="17743"/>
                          </a:lnTo>
                          <a:lnTo>
                            <a:pt x="5042" y="18464"/>
                          </a:lnTo>
                          <a:lnTo>
                            <a:pt x="4000" y="19019"/>
                          </a:lnTo>
                          <a:lnTo>
                            <a:pt x="3000" y="19408"/>
                          </a:lnTo>
                          <a:lnTo>
                            <a:pt x="2042" y="19759"/>
                          </a:lnTo>
                          <a:lnTo>
                            <a:pt x="1042" y="19944"/>
                          </a:lnTo>
                          <a:lnTo>
                            <a:pt x="0" y="19981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40" name=""/>
              <p:cNvGrpSpPr/>
              <p:nvPr/>
            </p:nvGrpSpPr>
            <p:grpSpPr>
              <a:xfrm>
                <a:off x="5034240" y="2036880"/>
                <a:ext cx="1713240" cy="1373040"/>
                <a:chOff x="5034240" y="2036880"/>
                <a:chExt cx="1713240" cy="1373040"/>
              </a:xfrm>
            </p:grpSpPr>
            <p:grpSp>
              <p:nvGrpSpPr>
                <p:cNvPr id="941" name=""/>
                <p:cNvGrpSpPr/>
                <p:nvPr/>
              </p:nvGrpSpPr>
              <p:grpSpPr>
                <a:xfrm>
                  <a:off x="5034240" y="2036880"/>
                  <a:ext cx="855720" cy="687240"/>
                  <a:chOff x="5034240" y="2036880"/>
                  <a:chExt cx="855720" cy="687240"/>
                </a:xfrm>
              </p:grpSpPr>
              <p:sp>
                <p:nvSpPr>
                  <p:cNvPr id="942" name=""/>
                  <p:cNvSpPr/>
                  <p:nvPr/>
                </p:nvSpPr>
                <p:spPr>
                  <a:xfrm>
                    <a:off x="5034240" y="2036880"/>
                    <a:ext cx="42804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1"/>
                        </a:moveTo>
                        <a:lnTo>
                          <a:pt x="1042" y="18390"/>
                        </a:lnTo>
                        <a:lnTo>
                          <a:pt x="1958" y="16873"/>
                        </a:lnTo>
                        <a:lnTo>
                          <a:pt x="3000" y="15356"/>
                        </a:lnTo>
                        <a:lnTo>
                          <a:pt x="3958" y="13747"/>
                        </a:lnTo>
                        <a:lnTo>
                          <a:pt x="5042" y="12340"/>
                        </a:lnTo>
                        <a:lnTo>
                          <a:pt x="5958" y="10953"/>
                        </a:lnTo>
                        <a:lnTo>
                          <a:pt x="7000" y="9584"/>
                        </a:lnTo>
                        <a:lnTo>
                          <a:pt x="7958" y="8252"/>
                        </a:lnTo>
                        <a:lnTo>
                          <a:pt x="9000" y="7012"/>
                        </a:lnTo>
                        <a:lnTo>
                          <a:pt x="10042" y="5920"/>
                        </a:lnTo>
                        <a:lnTo>
                          <a:pt x="11000" y="4847"/>
                        </a:lnTo>
                        <a:lnTo>
                          <a:pt x="12000" y="3793"/>
                        </a:lnTo>
                        <a:lnTo>
                          <a:pt x="12958" y="3016"/>
                        </a:lnTo>
                        <a:lnTo>
                          <a:pt x="14042" y="2239"/>
                        </a:lnTo>
                        <a:lnTo>
                          <a:pt x="14958" y="1536"/>
                        </a:lnTo>
                        <a:lnTo>
                          <a:pt x="16000" y="962"/>
                        </a:lnTo>
                        <a:lnTo>
                          <a:pt x="16958" y="592"/>
                        </a:lnTo>
                        <a:lnTo>
                          <a:pt x="18042" y="222"/>
                        </a:lnTo>
                        <a:lnTo>
                          <a:pt x="18917" y="37"/>
                        </a:lnTo>
                        <a:lnTo>
                          <a:pt x="19958" y="0"/>
                        </a:lnTo>
                      </a:path>
                    </a:pathLst>
                  </a:custGeom>
                  <a:noFill/>
                  <a:ln w="381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5462280" y="2036880"/>
                    <a:ext cx="42768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58" y="19981"/>
                        </a:moveTo>
                        <a:lnTo>
                          <a:pt x="18958" y="18390"/>
                        </a:lnTo>
                        <a:lnTo>
                          <a:pt x="18042" y="16873"/>
                        </a:lnTo>
                        <a:lnTo>
                          <a:pt x="17000" y="15356"/>
                        </a:lnTo>
                        <a:lnTo>
                          <a:pt x="16042" y="13747"/>
                        </a:lnTo>
                        <a:lnTo>
                          <a:pt x="14958" y="12340"/>
                        </a:lnTo>
                        <a:lnTo>
                          <a:pt x="14042" y="10953"/>
                        </a:lnTo>
                        <a:lnTo>
                          <a:pt x="12958" y="9584"/>
                        </a:lnTo>
                        <a:lnTo>
                          <a:pt x="12000" y="8252"/>
                        </a:lnTo>
                        <a:lnTo>
                          <a:pt x="11000" y="7012"/>
                        </a:lnTo>
                        <a:lnTo>
                          <a:pt x="10042" y="5920"/>
                        </a:lnTo>
                        <a:lnTo>
                          <a:pt x="9000" y="4847"/>
                        </a:lnTo>
                        <a:lnTo>
                          <a:pt x="8000" y="3793"/>
                        </a:lnTo>
                        <a:lnTo>
                          <a:pt x="7000" y="3016"/>
                        </a:lnTo>
                        <a:lnTo>
                          <a:pt x="6042" y="2239"/>
                        </a:lnTo>
                        <a:lnTo>
                          <a:pt x="5042" y="1536"/>
                        </a:lnTo>
                        <a:lnTo>
                          <a:pt x="4000" y="962"/>
                        </a:lnTo>
                        <a:lnTo>
                          <a:pt x="3000" y="592"/>
                        </a:lnTo>
                        <a:lnTo>
                          <a:pt x="2042" y="222"/>
                        </a:lnTo>
                        <a:lnTo>
                          <a:pt x="1042" y="3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81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4" name=""/>
                <p:cNvGrpSpPr/>
                <p:nvPr/>
              </p:nvGrpSpPr>
              <p:grpSpPr>
                <a:xfrm>
                  <a:off x="5891760" y="2722680"/>
                  <a:ext cx="855720" cy="687240"/>
                  <a:chOff x="5891760" y="2722680"/>
                  <a:chExt cx="855720" cy="687240"/>
                </a:xfrm>
              </p:grpSpPr>
              <p:sp>
                <p:nvSpPr>
                  <p:cNvPr id="945" name=""/>
                  <p:cNvSpPr/>
                  <p:nvPr/>
                </p:nvSpPr>
                <p:spPr>
                  <a:xfrm>
                    <a:off x="5891760" y="2722680"/>
                    <a:ext cx="42804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042" y="1591"/>
                        </a:lnTo>
                        <a:lnTo>
                          <a:pt x="1958" y="3108"/>
                        </a:lnTo>
                        <a:lnTo>
                          <a:pt x="3000" y="4625"/>
                        </a:lnTo>
                        <a:lnTo>
                          <a:pt x="3958" y="6253"/>
                        </a:lnTo>
                        <a:lnTo>
                          <a:pt x="5042" y="7660"/>
                        </a:lnTo>
                        <a:lnTo>
                          <a:pt x="5958" y="9029"/>
                        </a:lnTo>
                        <a:lnTo>
                          <a:pt x="7000" y="10416"/>
                        </a:lnTo>
                        <a:lnTo>
                          <a:pt x="7958" y="11730"/>
                        </a:lnTo>
                        <a:lnTo>
                          <a:pt x="9000" y="12969"/>
                        </a:lnTo>
                        <a:lnTo>
                          <a:pt x="10042" y="14080"/>
                        </a:lnTo>
                        <a:lnTo>
                          <a:pt x="11000" y="15134"/>
                        </a:lnTo>
                        <a:lnTo>
                          <a:pt x="12000" y="16189"/>
                        </a:lnTo>
                        <a:lnTo>
                          <a:pt x="12958" y="16984"/>
                        </a:lnTo>
                        <a:lnTo>
                          <a:pt x="14042" y="17743"/>
                        </a:lnTo>
                        <a:lnTo>
                          <a:pt x="14958" y="18464"/>
                        </a:lnTo>
                        <a:lnTo>
                          <a:pt x="16000" y="19019"/>
                        </a:lnTo>
                        <a:lnTo>
                          <a:pt x="16958" y="19408"/>
                        </a:lnTo>
                        <a:lnTo>
                          <a:pt x="18042" y="19759"/>
                        </a:lnTo>
                        <a:lnTo>
                          <a:pt x="18917" y="19944"/>
                        </a:lnTo>
                        <a:lnTo>
                          <a:pt x="19958" y="19981"/>
                        </a:lnTo>
                      </a:path>
                    </a:pathLst>
                  </a:custGeom>
                  <a:noFill/>
                  <a:ln w="381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6319800" y="2722680"/>
                    <a:ext cx="42768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58" y="0"/>
                        </a:moveTo>
                        <a:lnTo>
                          <a:pt x="18958" y="1591"/>
                        </a:lnTo>
                        <a:lnTo>
                          <a:pt x="18042" y="3108"/>
                        </a:lnTo>
                        <a:lnTo>
                          <a:pt x="17000" y="4625"/>
                        </a:lnTo>
                        <a:lnTo>
                          <a:pt x="16042" y="6253"/>
                        </a:lnTo>
                        <a:lnTo>
                          <a:pt x="14958" y="7660"/>
                        </a:lnTo>
                        <a:lnTo>
                          <a:pt x="14042" y="9029"/>
                        </a:lnTo>
                        <a:lnTo>
                          <a:pt x="12958" y="10416"/>
                        </a:lnTo>
                        <a:lnTo>
                          <a:pt x="12000" y="11730"/>
                        </a:lnTo>
                        <a:lnTo>
                          <a:pt x="11000" y="12969"/>
                        </a:lnTo>
                        <a:lnTo>
                          <a:pt x="10042" y="14080"/>
                        </a:lnTo>
                        <a:lnTo>
                          <a:pt x="9000" y="15134"/>
                        </a:lnTo>
                        <a:lnTo>
                          <a:pt x="8000" y="16189"/>
                        </a:lnTo>
                        <a:lnTo>
                          <a:pt x="7000" y="16984"/>
                        </a:lnTo>
                        <a:lnTo>
                          <a:pt x="6042" y="17743"/>
                        </a:lnTo>
                        <a:lnTo>
                          <a:pt x="5042" y="18464"/>
                        </a:lnTo>
                        <a:lnTo>
                          <a:pt x="4000" y="19019"/>
                        </a:lnTo>
                        <a:lnTo>
                          <a:pt x="3000" y="19408"/>
                        </a:lnTo>
                        <a:lnTo>
                          <a:pt x="2042" y="19759"/>
                        </a:lnTo>
                        <a:lnTo>
                          <a:pt x="1042" y="19944"/>
                        </a:lnTo>
                        <a:lnTo>
                          <a:pt x="0" y="19981"/>
                        </a:lnTo>
                      </a:path>
                    </a:pathLst>
                  </a:custGeom>
                  <a:noFill/>
                  <a:ln w="381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47" name=""/>
            <p:cNvGrpSpPr/>
            <p:nvPr/>
          </p:nvGrpSpPr>
          <p:grpSpPr>
            <a:xfrm>
              <a:off x="1606680" y="3449520"/>
              <a:ext cx="5140800" cy="1374480"/>
              <a:chOff x="1606680" y="3449520"/>
              <a:chExt cx="5140800" cy="1374480"/>
            </a:xfrm>
          </p:grpSpPr>
          <p:grpSp>
            <p:nvGrpSpPr>
              <p:cNvPr id="948" name=""/>
              <p:cNvGrpSpPr/>
              <p:nvPr/>
            </p:nvGrpSpPr>
            <p:grpSpPr>
              <a:xfrm>
                <a:off x="1606680" y="3449520"/>
                <a:ext cx="3428640" cy="1374480"/>
                <a:chOff x="1606680" y="3449520"/>
                <a:chExt cx="3428640" cy="1374480"/>
              </a:xfrm>
            </p:grpSpPr>
            <p:grpSp>
              <p:nvGrpSpPr>
                <p:cNvPr id="949" name=""/>
                <p:cNvGrpSpPr/>
                <p:nvPr/>
              </p:nvGrpSpPr>
              <p:grpSpPr>
                <a:xfrm>
                  <a:off x="1606680" y="3449520"/>
                  <a:ext cx="1712880" cy="1374480"/>
                  <a:chOff x="1606680" y="3449520"/>
                  <a:chExt cx="1712880" cy="1374480"/>
                </a:xfrm>
              </p:grpSpPr>
              <p:grpSp>
                <p:nvGrpSpPr>
                  <p:cNvPr id="950" name=""/>
                  <p:cNvGrpSpPr/>
                  <p:nvPr/>
                </p:nvGrpSpPr>
                <p:grpSpPr>
                  <a:xfrm>
                    <a:off x="1606680" y="4136760"/>
                    <a:ext cx="855360" cy="687240"/>
                    <a:chOff x="1606680" y="4136760"/>
                    <a:chExt cx="855360" cy="687240"/>
                  </a:xfrm>
                </p:grpSpPr>
                <p:sp>
                  <p:nvSpPr>
                    <p:cNvPr id="951" name=""/>
                    <p:cNvSpPr/>
                    <p:nvPr/>
                  </p:nvSpPr>
                  <p:spPr>
                    <a:xfrm flipV="1">
                      <a:off x="1606680" y="413640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19981"/>
                          </a:moveTo>
                          <a:lnTo>
                            <a:pt x="1042" y="18390"/>
                          </a:lnTo>
                          <a:lnTo>
                            <a:pt x="1958" y="16873"/>
                          </a:lnTo>
                          <a:lnTo>
                            <a:pt x="3000" y="15356"/>
                          </a:lnTo>
                          <a:lnTo>
                            <a:pt x="3958" y="13747"/>
                          </a:lnTo>
                          <a:lnTo>
                            <a:pt x="5042" y="12340"/>
                          </a:lnTo>
                          <a:lnTo>
                            <a:pt x="5958" y="10953"/>
                          </a:lnTo>
                          <a:lnTo>
                            <a:pt x="7000" y="9584"/>
                          </a:lnTo>
                          <a:lnTo>
                            <a:pt x="7958" y="8252"/>
                          </a:lnTo>
                          <a:lnTo>
                            <a:pt x="9000" y="7012"/>
                          </a:lnTo>
                          <a:lnTo>
                            <a:pt x="10042" y="5920"/>
                          </a:lnTo>
                          <a:lnTo>
                            <a:pt x="11000" y="4847"/>
                          </a:lnTo>
                          <a:lnTo>
                            <a:pt x="12000" y="3793"/>
                          </a:lnTo>
                          <a:lnTo>
                            <a:pt x="12958" y="3016"/>
                          </a:lnTo>
                          <a:lnTo>
                            <a:pt x="14042" y="2239"/>
                          </a:lnTo>
                          <a:lnTo>
                            <a:pt x="14958" y="1536"/>
                          </a:lnTo>
                          <a:lnTo>
                            <a:pt x="16000" y="962"/>
                          </a:lnTo>
                          <a:lnTo>
                            <a:pt x="16958" y="592"/>
                          </a:lnTo>
                          <a:lnTo>
                            <a:pt x="18042" y="222"/>
                          </a:lnTo>
                          <a:lnTo>
                            <a:pt x="18917" y="37"/>
                          </a:lnTo>
                          <a:lnTo>
                            <a:pt x="19958" y="0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"/>
                    <p:cNvSpPr/>
                    <p:nvPr/>
                  </p:nvSpPr>
                  <p:spPr>
                    <a:xfrm flipV="1">
                      <a:off x="2034360" y="413640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19981"/>
                          </a:moveTo>
                          <a:lnTo>
                            <a:pt x="18958" y="18390"/>
                          </a:lnTo>
                          <a:lnTo>
                            <a:pt x="18042" y="16873"/>
                          </a:lnTo>
                          <a:lnTo>
                            <a:pt x="17000" y="15356"/>
                          </a:lnTo>
                          <a:lnTo>
                            <a:pt x="16042" y="13747"/>
                          </a:lnTo>
                          <a:lnTo>
                            <a:pt x="14958" y="12340"/>
                          </a:lnTo>
                          <a:lnTo>
                            <a:pt x="14042" y="10953"/>
                          </a:lnTo>
                          <a:lnTo>
                            <a:pt x="12958" y="9584"/>
                          </a:lnTo>
                          <a:lnTo>
                            <a:pt x="12000" y="8252"/>
                          </a:lnTo>
                          <a:lnTo>
                            <a:pt x="11000" y="7012"/>
                          </a:lnTo>
                          <a:lnTo>
                            <a:pt x="10042" y="5920"/>
                          </a:lnTo>
                          <a:lnTo>
                            <a:pt x="9000" y="4847"/>
                          </a:lnTo>
                          <a:lnTo>
                            <a:pt x="8000" y="3793"/>
                          </a:lnTo>
                          <a:lnTo>
                            <a:pt x="7000" y="3016"/>
                          </a:lnTo>
                          <a:lnTo>
                            <a:pt x="6042" y="2239"/>
                          </a:lnTo>
                          <a:lnTo>
                            <a:pt x="5042" y="1536"/>
                          </a:lnTo>
                          <a:lnTo>
                            <a:pt x="4000" y="962"/>
                          </a:lnTo>
                          <a:lnTo>
                            <a:pt x="3000" y="592"/>
                          </a:lnTo>
                          <a:lnTo>
                            <a:pt x="2042" y="222"/>
                          </a:lnTo>
                          <a:lnTo>
                            <a:pt x="1042" y="3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"/>
                  <p:cNvGrpSpPr/>
                  <p:nvPr/>
                </p:nvGrpSpPr>
                <p:grpSpPr>
                  <a:xfrm>
                    <a:off x="2464200" y="3449520"/>
                    <a:ext cx="855360" cy="687240"/>
                    <a:chOff x="2464200" y="3449520"/>
                    <a:chExt cx="855360" cy="687240"/>
                  </a:xfrm>
                </p:grpSpPr>
                <p:sp>
                  <p:nvSpPr>
                    <p:cNvPr id="954" name=""/>
                    <p:cNvSpPr/>
                    <p:nvPr/>
                  </p:nvSpPr>
                  <p:spPr>
                    <a:xfrm flipV="1">
                      <a:off x="2464200" y="344916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0"/>
                          </a:moveTo>
                          <a:lnTo>
                            <a:pt x="1042" y="1591"/>
                          </a:lnTo>
                          <a:lnTo>
                            <a:pt x="1958" y="3108"/>
                          </a:lnTo>
                          <a:lnTo>
                            <a:pt x="3000" y="4625"/>
                          </a:lnTo>
                          <a:lnTo>
                            <a:pt x="3958" y="6253"/>
                          </a:lnTo>
                          <a:lnTo>
                            <a:pt x="5042" y="7660"/>
                          </a:lnTo>
                          <a:lnTo>
                            <a:pt x="5958" y="9029"/>
                          </a:lnTo>
                          <a:lnTo>
                            <a:pt x="7000" y="10416"/>
                          </a:lnTo>
                          <a:lnTo>
                            <a:pt x="7958" y="11730"/>
                          </a:lnTo>
                          <a:lnTo>
                            <a:pt x="9000" y="12969"/>
                          </a:lnTo>
                          <a:lnTo>
                            <a:pt x="10042" y="14080"/>
                          </a:lnTo>
                          <a:lnTo>
                            <a:pt x="11000" y="15134"/>
                          </a:lnTo>
                          <a:lnTo>
                            <a:pt x="12000" y="16189"/>
                          </a:lnTo>
                          <a:lnTo>
                            <a:pt x="12958" y="16984"/>
                          </a:lnTo>
                          <a:lnTo>
                            <a:pt x="14042" y="17743"/>
                          </a:lnTo>
                          <a:lnTo>
                            <a:pt x="14958" y="18464"/>
                          </a:lnTo>
                          <a:lnTo>
                            <a:pt x="16000" y="19019"/>
                          </a:lnTo>
                          <a:lnTo>
                            <a:pt x="16958" y="19408"/>
                          </a:lnTo>
                          <a:lnTo>
                            <a:pt x="18042" y="19759"/>
                          </a:lnTo>
                          <a:lnTo>
                            <a:pt x="18917" y="19944"/>
                          </a:lnTo>
                          <a:lnTo>
                            <a:pt x="19958" y="19981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"/>
                    <p:cNvSpPr/>
                    <p:nvPr/>
                  </p:nvSpPr>
                  <p:spPr>
                    <a:xfrm flipV="1">
                      <a:off x="2891880" y="344916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0"/>
                          </a:moveTo>
                          <a:lnTo>
                            <a:pt x="18958" y="1591"/>
                          </a:lnTo>
                          <a:lnTo>
                            <a:pt x="18042" y="3108"/>
                          </a:lnTo>
                          <a:lnTo>
                            <a:pt x="17000" y="4625"/>
                          </a:lnTo>
                          <a:lnTo>
                            <a:pt x="16042" y="6253"/>
                          </a:lnTo>
                          <a:lnTo>
                            <a:pt x="14958" y="7660"/>
                          </a:lnTo>
                          <a:lnTo>
                            <a:pt x="14042" y="9029"/>
                          </a:lnTo>
                          <a:lnTo>
                            <a:pt x="12958" y="10416"/>
                          </a:lnTo>
                          <a:lnTo>
                            <a:pt x="12000" y="11730"/>
                          </a:lnTo>
                          <a:lnTo>
                            <a:pt x="11000" y="12969"/>
                          </a:lnTo>
                          <a:lnTo>
                            <a:pt x="10042" y="14080"/>
                          </a:lnTo>
                          <a:lnTo>
                            <a:pt x="9000" y="15134"/>
                          </a:lnTo>
                          <a:lnTo>
                            <a:pt x="8000" y="16189"/>
                          </a:lnTo>
                          <a:lnTo>
                            <a:pt x="7000" y="16984"/>
                          </a:lnTo>
                          <a:lnTo>
                            <a:pt x="6042" y="17743"/>
                          </a:lnTo>
                          <a:lnTo>
                            <a:pt x="5042" y="18464"/>
                          </a:lnTo>
                          <a:lnTo>
                            <a:pt x="4000" y="19019"/>
                          </a:lnTo>
                          <a:lnTo>
                            <a:pt x="3000" y="19408"/>
                          </a:lnTo>
                          <a:lnTo>
                            <a:pt x="2042" y="19759"/>
                          </a:lnTo>
                          <a:lnTo>
                            <a:pt x="1042" y="19944"/>
                          </a:lnTo>
                          <a:lnTo>
                            <a:pt x="0" y="19981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56" name=""/>
                <p:cNvGrpSpPr/>
                <p:nvPr/>
              </p:nvGrpSpPr>
              <p:grpSpPr>
                <a:xfrm>
                  <a:off x="3320280" y="3449520"/>
                  <a:ext cx="1715040" cy="1374480"/>
                  <a:chOff x="3320280" y="3449520"/>
                  <a:chExt cx="1715040" cy="1374480"/>
                </a:xfrm>
              </p:grpSpPr>
              <p:grpSp>
                <p:nvGrpSpPr>
                  <p:cNvPr id="957" name=""/>
                  <p:cNvGrpSpPr/>
                  <p:nvPr/>
                </p:nvGrpSpPr>
                <p:grpSpPr>
                  <a:xfrm>
                    <a:off x="3320280" y="4136760"/>
                    <a:ext cx="855720" cy="687240"/>
                    <a:chOff x="3320280" y="4136760"/>
                    <a:chExt cx="855720" cy="687240"/>
                  </a:xfrm>
                </p:grpSpPr>
                <p:sp>
                  <p:nvSpPr>
                    <p:cNvPr id="958" name=""/>
                    <p:cNvSpPr/>
                    <p:nvPr/>
                  </p:nvSpPr>
                  <p:spPr>
                    <a:xfrm flipV="1">
                      <a:off x="3320280" y="4136400"/>
                      <a:ext cx="42804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19981"/>
                          </a:moveTo>
                          <a:lnTo>
                            <a:pt x="1042" y="18390"/>
                          </a:lnTo>
                          <a:lnTo>
                            <a:pt x="1958" y="16873"/>
                          </a:lnTo>
                          <a:lnTo>
                            <a:pt x="3000" y="15356"/>
                          </a:lnTo>
                          <a:lnTo>
                            <a:pt x="3958" y="13747"/>
                          </a:lnTo>
                          <a:lnTo>
                            <a:pt x="5042" y="12340"/>
                          </a:lnTo>
                          <a:lnTo>
                            <a:pt x="5958" y="10953"/>
                          </a:lnTo>
                          <a:lnTo>
                            <a:pt x="7000" y="9584"/>
                          </a:lnTo>
                          <a:lnTo>
                            <a:pt x="7958" y="8252"/>
                          </a:lnTo>
                          <a:lnTo>
                            <a:pt x="9000" y="7012"/>
                          </a:lnTo>
                          <a:lnTo>
                            <a:pt x="10042" y="5920"/>
                          </a:lnTo>
                          <a:lnTo>
                            <a:pt x="11000" y="4847"/>
                          </a:lnTo>
                          <a:lnTo>
                            <a:pt x="12000" y="3793"/>
                          </a:lnTo>
                          <a:lnTo>
                            <a:pt x="12958" y="3016"/>
                          </a:lnTo>
                          <a:lnTo>
                            <a:pt x="14042" y="2239"/>
                          </a:lnTo>
                          <a:lnTo>
                            <a:pt x="14958" y="1536"/>
                          </a:lnTo>
                          <a:lnTo>
                            <a:pt x="16000" y="962"/>
                          </a:lnTo>
                          <a:lnTo>
                            <a:pt x="16958" y="592"/>
                          </a:lnTo>
                          <a:lnTo>
                            <a:pt x="18042" y="222"/>
                          </a:lnTo>
                          <a:lnTo>
                            <a:pt x="18917" y="37"/>
                          </a:lnTo>
                          <a:lnTo>
                            <a:pt x="19958" y="0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 flipV="1">
                      <a:off x="3748320" y="413640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19981"/>
                          </a:moveTo>
                          <a:lnTo>
                            <a:pt x="18958" y="18390"/>
                          </a:lnTo>
                          <a:lnTo>
                            <a:pt x="18042" y="16873"/>
                          </a:lnTo>
                          <a:lnTo>
                            <a:pt x="17000" y="15356"/>
                          </a:lnTo>
                          <a:lnTo>
                            <a:pt x="16042" y="13747"/>
                          </a:lnTo>
                          <a:lnTo>
                            <a:pt x="14958" y="12340"/>
                          </a:lnTo>
                          <a:lnTo>
                            <a:pt x="14042" y="10953"/>
                          </a:lnTo>
                          <a:lnTo>
                            <a:pt x="12958" y="9584"/>
                          </a:lnTo>
                          <a:lnTo>
                            <a:pt x="12000" y="8252"/>
                          </a:lnTo>
                          <a:lnTo>
                            <a:pt x="11000" y="7012"/>
                          </a:lnTo>
                          <a:lnTo>
                            <a:pt x="10042" y="5920"/>
                          </a:lnTo>
                          <a:lnTo>
                            <a:pt x="9000" y="4847"/>
                          </a:lnTo>
                          <a:lnTo>
                            <a:pt x="8000" y="3793"/>
                          </a:lnTo>
                          <a:lnTo>
                            <a:pt x="7000" y="3016"/>
                          </a:lnTo>
                          <a:lnTo>
                            <a:pt x="6042" y="2239"/>
                          </a:lnTo>
                          <a:lnTo>
                            <a:pt x="5042" y="1536"/>
                          </a:lnTo>
                          <a:lnTo>
                            <a:pt x="4000" y="962"/>
                          </a:lnTo>
                          <a:lnTo>
                            <a:pt x="3000" y="592"/>
                          </a:lnTo>
                          <a:lnTo>
                            <a:pt x="2042" y="222"/>
                          </a:lnTo>
                          <a:lnTo>
                            <a:pt x="1042" y="3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0" name=""/>
                  <p:cNvGrpSpPr/>
                  <p:nvPr/>
                </p:nvGrpSpPr>
                <p:grpSpPr>
                  <a:xfrm>
                    <a:off x="4178160" y="3449520"/>
                    <a:ext cx="857160" cy="687240"/>
                    <a:chOff x="4178160" y="3449520"/>
                    <a:chExt cx="857160" cy="687240"/>
                  </a:xfrm>
                </p:grpSpPr>
                <p:sp>
                  <p:nvSpPr>
                    <p:cNvPr id="961" name=""/>
                    <p:cNvSpPr/>
                    <p:nvPr/>
                  </p:nvSpPr>
                  <p:spPr>
                    <a:xfrm flipV="1">
                      <a:off x="4178160" y="344916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0"/>
                          </a:moveTo>
                          <a:lnTo>
                            <a:pt x="1042" y="1591"/>
                          </a:lnTo>
                          <a:lnTo>
                            <a:pt x="1958" y="3108"/>
                          </a:lnTo>
                          <a:lnTo>
                            <a:pt x="3000" y="4625"/>
                          </a:lnTo>
                          <a:lnTo>
                            <a:pt x="3958" y="6253"/>
                          </a:lnTo>
                          <a:lnTo>
                            <a:pt x="5042" y="7660"/>
                          </a:lnTo>
                          <a:lnTo>
                            <a:pt x="5958" y="9029"/>
                          </a:lnTo>
                          <a:lnTo>
                            <a:pt x="7000" y="10416"/>
                          </a:lnTo>
                          <a:lnTo>
                            <a:pt x="7958" y="11730"/>
                          </a:lnTo>
                          <a:lnTo>
                            <a:pt x="9000" y="12969"/>
                          </a:lnTo>
                          <a:lnTo>
                            <a:pt x="10042" y="14080"/>
                          </a:lnTo>
                          <a:lnTo>
                            <a:pt x="11000" y="15134"/>
                          </a:lnTo>
                          <a:lnTo>
                            <a:pt x="12000" y="16189"/>
                          </a:lnTo>
                          <a:lnTo>
                            <a:pt x="12958" y="16984"/>
                          </a:lnTo>
                          <a:lnTo>
                            <a:pt x="14042" y="17743"/>
                          </a:lnTo>
                          <a:lnTo>
                            <a:pt x="14958" y="18464"/>
                          </a:lnTo>
                          <a:lnTo>
                            <a:pt x="16000" y="19019"/>
                          </a:lnTo>
                          <a:lnTo>
                            <a:pt x="16958" y="19408"/>
                          </a:lnTo>
                          <a:lnTo>
                            <a:pt x="18042" y="19759"/>
                          </a:lnTo>
                          <a:lnTo>
                            <a:pt x="18917" y="19944"/>
                          </a:lnTo>
                          <a:lnTo>
                            <a:pt x="19958" y="19981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2" name=""/>
                    <p:cNvSpPr/>
                    <p:nvPr/>
                  </p:nvSpPr>
                  <p:spPr>
                    <a:xfrm flipV="1">
                      <a:off x="4607280" y="3449160"/>
                      <a:ext cx="42804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0"/>
                          </a:moveTo>
                          <a:lnTo>
                            <a:pt x="18958" y="1591"/>
                          </a:lnTo>
                          <a:lnTo>
                            <a:pt x="18042" y="3108"/>
                          </a:lnTo>
                          <a:lnTo>
                            <a:pt x="17000" y="4625"/>
                          </a:lnTo>
                          <a:lnTo>
                            <a:pt x="16042" y="6253"/>
                          </a:lnTo>
                          <a:lnTo>
                            <a:pt x="14958" y="7660"/>
                          </a:lnTo>
                          <a:lnTo>
                            <a:pt x="14042" y="9029"/>
                          </a:lnTo>
                          <a:lnTo>
                            <a:pt x="12958" y="10416"/>
                          </a:lnTo>
                          <a:lnTo>
                            <a:pt x="12000" y="11730"/>
                          </a:lnTo>
                          <a:lnTo>
                            <a:pt x="11000" y="12969"/>
                          </a:lnTo>
                          <a:lnTo>
                            <a:pt x="10042" y="14080"/>
                          </a:lnTo>
                          <a:lnTo>
                            <a:pt x="9000" y="15134"/>
                          </a:lnTo>
                          <a:lnTo>
                            <a:pt x="8000" y="16189"/>
                          </a:lnTo>
                          <a:lnTo>
                            <a:pt x="7000" y="16984"/>
                          </a:lnTo>
                          <a:lnTo>
                            <a:pt x="6042" y="17743"/>
                          </a:lnTo>
                          <a:lnTo>
                            <a:pt x="5042" y="18464"/>
                          </a:lnTo>
                          <a:lnTo>
                            <a:pt x="4000" y="19019"/>
                          </a:lnTo>
                          <a:lnTo>
                            <a:pt x="3000" y="19408"/>
                          </a:lnTo>
                          <a:lnTo>
                            <a:pt x="2042" y="19759"/>
                          </a:lnTo>
                          <a:lnTo>
                            <a:pt x="1042" y="19944"/>
                          </a:lnTo>
                          <a:lnTo>
                            <a:pt x="0" y="19981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63" name=""/>
              <p:cNvGrpSpPr/>
              <p:nvPr/>
            </p:nvGrpSpPr>
            <p:grpSpPr>
              <a:xfrm>
                <a:off x="5034240" y="3450960"/>
                <a:ext cx="1713240" cy="1373040"/>
                <a:chOff x="5034240" y="3450960"/>
                <a:chExt cx="1713240" cy="1373040"/>
              </a:xfrm>
            </p:grpSpPr>
            <p:grpSp>
              <p:nvGrpSpPr>
                <p:cNvPr id="964" name=""/>
                <p:cNvGrpSpPr/>
                <p:nvPr/>
              </p:nvGrpSpPr>
              <p:grpSpPr>
                <a:xfrm>
                  <a:off x="5034240" y="4136760"/>
                  <a:ext cx="855720" cy="687240"/>
                  <a:chOff x="5034240" y="4136760"/>
                  <a:chExt cx="855720" cy="687240"/>
                </a:xfrm>
              </p:grpSpPr>
              <p:sp>
                <p:nvSpPr>
                  <p:cNvPr id="965" name=""/>
                  <p:cNvSpPr/>
                  <p:nvPr/>
                </p:nvSpPr>
                <p:spPr>
                  <a:xfrm flipV="1">
                    <a:off x="5034240" y="4136400"/>
                    <a:ext cx="42804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1"/>
                        </a:moveTo>
                        <a:lnTo>
                          <a:pt x="1042" y="18390"/>
                        </a:lnTo>
                        <a:lnTo>
                          <a:pt x="1958" y="16873"/>
                        </a:lnTo>
                        <a:lnTo>
                          <a:pt x="3000" y="15356"/>
                        </a:lnTo>
                        <a:lnTo>
                          <a:pt x="3958" y="13747"/>
                        </a:lnTo>
                        <a:lnTo>
                          <a:pt x="5042" y="12340"/>
                        </a:lnTo>
                        <a:lnTo>
                          <a:pt x="5958" y="10953"/>
                        </a:lnTo>
                        <a:lnTo>
                          <a:pt x="7000" y="9584"/>
                        </a:lnTo>
                        <a:lnTo>
                          <a:pt x="7958" y="8252"/>
                        </a:lnTo>
                        <a:lnTo>
                          <a:pt x="9000" y="7012"/>
                        </a:lnTo>
                        <a:lnTo>
                          <a:pt x="10042" y="5920"/>
                        </a:lnTo>
                        <a:lnTo>
                          <a:pt x="11000" y="4847"/>
                        </a:lnTo>
                        <a:lnTo>
                          <a:pt x="12000" y="3793"/>
                        </a:lnTo>
                        <a:lnTo>
                          <a:pt x="12958" y="3016"/>
                        </a:lnTo>
                        <a:lnTo>
                          <a:pt x="14042" y="2239"/>
                        </a:lnTo>
                        <a:lnTo>
                          <a:pt x="14958" y="1536"/>
                        </a:lnTo>
                        <a:lnTo>
                          <a:pt x="16000" y="962"/>
                        </a:lnTo>
                        <a:lnTo>
                          <a:pt x="16958" y="592"/>
                        </a:lnTo>
                        <a:lnTo>
                          <a:pt x="18042" y="222"/>
                        </a:lnTo>
                        <a:lnTo>
                          <a:pt x="18917" y="37"/>
                        </a:lnTo>
                        <a:lnTo>
                          <a:pt x="19958" y="0"/>
                        </a:lnTo>
                      </a:path>
                    </a:pathLst>
                  </a:custGeom>
                  <a:noFill/>
                  <a:ln w="381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 flipV="1">
                    <a:off x="5462280" y="4136400"/>
                    <a:ext cx="42768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58" y="19981"/>
                        </a:moveTo>
                        <a:lnTo>
                          <a:pt x="18958" y="18390"/>
                        </a:lnTo>
                        <a:lnTo>
                          <a:pt x="18042" y="16873"/>
                        </a:lnTo>
                        <a:lnTo>
                          <a:pt x="17000" y="15356"/>
                        </a:lnTo>
                        <a:lnTo>
                          <a:pt x="16042" y="13747"/>
                        </a:lnTo>
                        <a:lnTo>
                          <a:pt x="14958" y="12340"/>
                        </a:lnTo>
                        <a:lnTo>
                          <a:pt x="14042" y="10953"/>
                        </a:lnTo>
                        <a:lnTo>
                          <a:pt x="12958" y="9584"/>
                        </a:lnTo>
                        <a:lnTo>
                          <a:pt x="12000" y="8252"/>
                        </a:lnTo>
                        <a:lnTo>
                          <a:pt x="11000" y="7012"/>
                        </a:lnTo>
                        <a:lnTo>
                          <a:pt x="10042" y="5920"/>
                        </a:lnTo>
                        <a:lnTo>
                          <a:pt x="9000" y="4847"/>
                        </a:lnTo>
                        <a:lnTo>
                          <a:pt x="8000" y="3793"/>
                        </a:lnTo>
                        <a:lnTo>
                          <a:pt x="7000" y="3016"/>
                        </a:lnTo>
                        <a:lnTo>
                          <a:pt x="6042" y="2239"/>
                        </a:lnTo>
                        <a:lnTo>
                          <a:pt x="5042" y="1536"/>
                        </a:lnTo>
                        <a:lnTo>
                          <a:pt x="4000" y="962"/>
                        </a:lnTo>
                        <a:lnTo>
                          <a:pt x="3000" y="592"/>
                        </a:lnTo>
                        <a:lnTo>
                          <a:pt x="2042" y="222"/>
                        </a:lnTo>
                        <a:lnTo>
                          <a:pt x="1042" y="3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81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7" name=""/>
                <p:cNvGrpSpPr/>
                <p:nvPr/>
              </p:nvGrpSpPr>
              <p:grpSpPr>
                <a:xfrm>
                  <a:off x="5891760" y="3450960"/>
                  <a:ext cx="855720" cy="687240"/>
                  <a:chOff x="5891760" y="3450960"/>
                  <a:chExt cx="855720" cy="687240"/>
                </a:xfrm>
              </p:grpSpPr>
              <p:sp>
                <p:nvSpPr>
                  <p:cNvPr id="968" name=""/>
                  <p:cNvSpPr/>
                  <p:nvPr/>
                </p:nvSpPr>
                <p:spPr>
                  <a:xfrm flipV="1">
                    <a:off x="5891760" y="3450600"/>
                    <a:ext cx="42804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042" y="1591"/>
                        </a:lnTo>
                        <a:lnTo>
                          <a:pt x="1958" y="3108"/>
                        </a:lnTo>
                        <a:lnTo>
                          <a:pt x="3000" y="4625"/>
                        </a:lnTo>
                        <a:lnTo>
                          <a:pt x="3958" y="6253"/>
                        </a:lnTo>
                        <a:lnTo>
                          <a:pt x="5042" y="7660"/>
                        </a:lnTo>
                        <a:lnTo>
                          <a:pt x="5958" y="9029"/>
                        </a:lnTo>
                        <a:lnTo>
                          <a:pt x="7000" y="10416"/>
                        </a:lnTo>
                        <a:lnTo>
                          <a:pt x="7958" y="11730"/>
                        </a:lnTo>
                        <a:lnTo>
                          <a:pt x="9000" y="12969"/>
                        </a:lnTo>
                        <a:lnTo>
                          <a:pt x="10042" y="14080"/>
                        </a:lnTo>
                        <a:lnTo>
                          <a:pt x="11000" y="15134"/>
                        </a:lnTo>
                        <a:lnTo>
                          <a:pt x="12000" y="16189"/>
                        </a:lnTo>
                        <a:lnTo>
                          <a:pt x="12958" y="16984"/>
                        </a:lnTo>
                        <a:lnTo>
                          <a:pt x="14042" y="17743"/>
                        </a:lnTo>
                        <a:lnTo>
                          <a:pt x="14958" y="18464"/>
                        </a:lnTo>
                        <a:lnTo>
                          <a:pt x="16000" y="19019"/>
                        </a:lnTo>
                        <a:lnTo>
                          <a:pt x="16958" y="19408"/>
                        </a:lnTo>
                        <a:lnTo>
                          <a:pt x="18042" y="19759"/>
                        </a:lnTo>
                        <a:lnTo>
                          <a:pt x="18917" y="19944"/>
                        </a:lnTo>
                        <a:lnTo>
                          <a:pt x="19958" y="19981"/>
                        </a:lnTo>
                      </a:path>
                    </a:pathLst>
                  </a:custGeom>
                  <a:noFill/>
                  <a:ln w="381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 flipV="1">
                    <a:off x="6319800" y="3450600"/>
                    <a:ext cx="42768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58" y="0"/>
                        </a:moveTo>
                        <a:lnTo>
                          <a:pt x="18958" y="1591"/>
                        </a:lnTo>
                        <a:lnTo>
                          <a:pt x="18042" y="3108"/>
                        </a:lnTo>
                        <a:lnTo>
                          <a:pt x="17000" y="4625"/>
                        </a:lnTo>
                        <a:lnTo>
                          <a:pt x="16042" y="6253"/>
                        </a:lnTo>
                        <a:lnTo>
                          <a:pt x="14958" y="7660"/>
                        </a:lnTo>
                        <a:lnTo>
                          <a:pt x="14042" y="9029"/>
                        </a:lnTo>
                        <a:lnTo>
                          <a:pt x="12958" y="10416"/>
                        </a:lnTo>
                        <a:lnTo>
                          <a:pt x="12000" y="11730"/>
                        </a:lnTo>
                        <a:lnTo>
                          <a:pt x="11000" y="12969"/>
                        </a:lnTo>
                        <a:lnTo>
                          <a:pt x="10042" y="14080"/>
                        </a:lnTo>
                        <a:lnTo>
                          <a:pt x="9000" y="15134"/>
                        </a:lnTo>
                        <a:lnTo>
                          <a:pt x="8000" y="16189"/>
                        </a:lnTo>
                        <a:lnTo>
                          <a:pt x="7000" y="16984"/>
                        </a:lnTo>
                        <a:lnTo>
                          <a:pt x="6042" y="17743"/>
                        </a:lnTo>
                        <a:lnTo>
                          <a:pt x="5042" y="18464"/>
                        </a:lnTo>
                        <a:lnTo>
                          <a:pt x="4000" y="19019"/>
                        </a:lnTo>
                        <a:lnTo>
                          <a:pt x="3000" y="19408"/>
                        </a:lnTo>
                        <a:lnTo>
                          <a:pt x="2042" y="19759"/>
                        </a:lnTo>
                        <a:lnTo>
                          <a:pt x="1042" y="19944"/>
                        </a:lnTo>
                        <a:lnTo>
                          <a:pt x="0" y="19981"/>
                        </a:lnTo>
                      </a:path>
                    </a:pathLst>
                  </a:custGeom>
                  <a:noFill/>
                  <a:ln w="381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970" name=""/>
          <p:cNvGrpSpPr/>
          <p:nvPr/>
        </p:nvGrpSpPr>
        <p:grpSpPr>
          <a:xfrm>
            <a:off x="1603440" y="2090880"/>
            <a:ext cx="5164200" cy="2743200"/>
            <a:chOff x="1603440" y="2090880"/>
            <a:chExt cx="5164200" cy="2743200"/>
          </a:xfrm>
        </p:grpSpPr>
        <p:grpSp>
          <p:nvGrpSpPr>
            <p:cNvPr id="971" name=""/>
            <p:cNvGrpSpPr/>
            <p:nvPr/>
          </p:nvGrpSpPr>
          <p:grpSpPr>
            <a:xfrm>
              <a:off x="1603440" y="2633760"/>
              <a:ext cx="77400" cy="791640"/>
              <a:chOff x="1603440" y="2633760"/>
              <a:chExt cx="77400" cy="791640"/>
            </a:xfrm>
          </p:grpSpPr>
          <p:sp>
            <p:nvSpPr>
              <p:cNvPr id="972" name=""/>
              <p:cNvSpPr/>
              <p:nvPr/>
            </p:nvSpPr>
            <p:spPr>
              <a:xfrm>
                <a:off x="1603440" y="263376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1641240" y="263376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1681200" y="3426120"/>
              <a:ext cx="77400" cy="974520"/>
              <a:chOff x="1681200" y="3426120"/>
              <a:chExt cx="77400" cy="974520"/>
            </a:xfrm>
          </p:grpSpPr>
          <p:sp>
            <p:nvSpPr>
              <p:cNvPr id="975" name=""/>
              <p:cNvSpPr/>
              <p:nvPr/>
            </p:nvSpPr>
            <p:spPr>
              <a:xfrm flipV="1">
                <a:off x="1681200" y="342576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 flipV="1">
                <a:off x="1719000" y="342576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"/>
            <p:cNvGrpSpPr/>
            <p:nvPr/>
          </p:nvGrpSpPr>
          <p:grpSpPr>
            <a:xfrm>
              <a:off x="1758960" y="2295360"/>
              <a:ext cx="77400" cy="1130040"/>
              <a:chOff x="1758960" y="2295360"/>
              <a:chExt cx="77400" cy="1130040"/>
            </a:xfrm>
          </p:grpSpPr>
          <p:sp>
            <p:nvSpPr>
              <p:cNvPr id="978" name=""/>
              <p:cNvSpPr/>
              <p:nvPr/>
            </p:nvSpPr>
            <p:spPr>
              <a:xfrm>
                <a:off x="1758960" y="229536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H="1">
                <a:off x="1796760" y="229536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0" name=""/>
            <p:cNvGrpSpPr/>
            <p:nvPr/>
          </p:nvGrpSpPr>
          <p:grpSpPr>
            <a:xfrm>
              <a:off x="1836720" y="3425760"/>
              <a:ext cx="77400" cy="1288800"/>
              <a:chOff x="1836720" y="3425760"/>
              <a:chExt cx="77400" cy="1288800"/>
            </a:xfrm>
          </p:grpSpPr>
          <p:sp>
            <p:nvSpPr>
              <p:cNvPr id="981" name=""/>
              <p:cNvSpPr/>
              <p:nvPr/>
            </p:nvSpPr>
            <p:spPr>
              <a:xfrm flipV="1">
                <a:off x="1836720" y="342576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 flipV="1">
                <a:off x="1874520" y="342576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1914480" y="2090880"/>
              <a:ext cx="77400" cy="1334520"/>
              <a:chOff x="1914480" y="2090880"/>
              <a:chExt cx="77400" cy="1334520"/>
            </a:xfrm>
          </p:grpSpPr>
          <p:sp>
            <p:nvSpPr>
              <p:cNvPr id="984" name=""/>
              <p:cNvSpPr/>
              <p:nvPr/>
            </p:nvSpPr>
            <p:spPr>
              <a:xfrm>
                <a:off x="1914480" y="209088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1952280" y="209088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1992240" y="3426480"/>
              <a:ext cx="77400" cy="1407600"/>
              <a:chOff x="1992240" y="3426480"/>
              <a:chExt cx="77400" cy="1407600"/>
            </a:xfrm>
          </p:grpSpPr>
          <p:sp>
            <p:nvSpPr>
              <p:cNvPr id="987" name=""/>
              <p:cNvSpPr/>
              <p:nvPr/>
            </p:nvSpPr>
            <p:spPr>
              <a:xfrm flipV="1">
                <a:off x="1992240" y="3426480"/>
                <a:ext cx="39240" cy="1407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 flipV="1">
                <a:off x="2030040" y="3426480"/>
                <a:ext cx="39240" cy="1407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2070000" y="2090880"/>
              <a:ext cx="77400" cy="1334520"/>
              <a:chOff x="2070000" y="2090880"/>
              <a:chExt cx="77400" cy="1334520"/>
            </a:xfrm>
          </p:grpSpPr>
          <p:sp>
            <p:nvSpPr>
              <p:cNvPr id="990" name=""/>
              <p:cNvSpPr/>
              <p:nvPr/>
            </p:nvSpPr>
            <p:spPr>
              <a:xfrm>
                <a:off x="2070000" y="209088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H="1">
                <a:off x="2107800" y="209088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2147760" y="3425760"/>
              <a:ext cx="77400" cy="1288800"/>
              <a:chOff x="2147760" y="3425760"/>
              <a:chExt cx="77400" cy="1288800"/>
            </a:xfrm>
          </p:grpSpPr>
          <p:sp>
            <p:nvSpPr>
              <p:cNvPr id="993" name=""/>
              <p:cNvSpPr/>
              <p:nvPr/>
            </p:nvSpPr>
            <p:spPr>
              <a:xfrm flipV="1">
                <a:off x="2147760" y="342576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 flipV="1">
                <a:off x="2185560" y="342576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2225520" y="2295360"/>
              <a:ext cx="77760" cy="1130040"/>
              <a:chOff x="2225520" y="2295360"/>
              <a:chExt cx="77760" cy="1130040"/>
            </a:xfrm>
          </p:grpSpPr>
          <p:sp>
            <p:nvSpPr>
              <p:cNvPr id="996" name=""/>
              <p:cNvSpPr/>
              <p:nvPr/>
            </p:nvSpPr>
            <p:spPr>
              <a:xfrm>
                <a:off x="2225520" y="229536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2263680" y="229536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2303640" y="3426120"/>
              <a:ext cx="77400" cy="974520"/>
              <a:chOff x="2303640" y="3426120"/>
              <a:chExt cx="77400" cy="974520"/>
            </a:xfrm>
          </p:grpSpPr>
          <p:sp>
            <p:nvSpPr>
              <p:cNvPr id="999" name=""/>
              <p:cNvSpPr/>
              <p:nvPr/>
            </p:nvSpPr>
            <p:spPr>
              <a:xfrm flipV="1">
                <a:off x="2303640" y="342576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 flipV="1">
                <a:off x="2341440" y="342576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2381400" y="2633760"/>
              <a:ext cx="77400" cy="791640"/>
              <a:chOff x="2381400" y="2633760"/>
              <a:chExt cx="77400" cy="791640"/>
            </a:xfrm>
          </p:grpSpPr>
          <p:sp>
            <p:nvSpPr>
              <p:cNvPr id="1002" name=""/>
              <p:cNvSpPr/>
              <p:nvPr/>
            </p:nvSpPr>
            <p:spPr>
              <a:xfrm>
                <a:off x="2381400" y="263376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2419200" y="263376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2463840" y="3425400"/>
              <a:ext cx="77400" cy="622440"/>
              <a:chOff x="2463840" y="3425400"/>
              <a:chExt cx="77400" cy="622440"/>
            </a:xfrm>
          </p:grpSpPr>
          <p:sp>
            <p:nvSpPr>
              <p:cNvPr id="1005" name=""/>
              <p:cNvSpPr/>
              <p:nvPr/>
            </p:nvSpPr>
            <p:spPr>
              <a:xfrm flipV="1">
                <a:off x="2463840" y="3425040"/>
                <a:ext cx="39240" cy="622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 flipV="1">
                <a:off x="2501640" y="3425040"/>
                <a:ext cx="39240" cy="622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2541600" y="3017880"/>
              <a:ext cx="77400" cy="407880"/>
              <a:chOff x="2541600" y="3017880"/>
              <a:chExt cx="77400" cy="407880"/>
            </a:xfrm>
          </p:grpSpPr>
          <p:sp>
            <p:nvSpPr>
              <p:cNvPr id="1008" name=""/>
              <p:cNvSpPr/>
              <p:nvPr/>
            </p:nvSpPr>
            <p:spPr>
              <a:xfrm>
                <a:off x="2541600" y="3017880"/>
                <a:ext cx="39240" cy="40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2579400" y="3017880"/>
                <a:ext cx="39240" cy="40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2619360" y="3425760"/>
              <a:ext cx="77400" cy="271440"/>
              <a:chOff x="2619360" y="3425760"/>
              <a:chExt cx="77400" cy="271440"/>
            </a:xfrm>
          </p:grpSpPr>
          <p:sp>
            <p:nvSpPr>
              <p:cNvPr id="1011" name=""/>
              <p:cNvSpPr/>
              <p:nvPr/>
            </p:nvSpPr>
            <p:spPr>
              <a:xfrm flipV="1">
                <a:off x="2619360" y="3425760"/>
                <a:ext cx="39240" cy="271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 flipV="1">
                <a:off x="2657160" y="3425760"/>
                <a:ext cx="39240" cy="271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2697120" y="3303720"/>
              <a:ext cx="77400" cy="122040"/>
              <a:chOff x="2697120" y="3303720"/>
              <a:chExt cx="77400" cy="122040"/>
            </a:xfrm>
          </p:grpSpPr>
          <p:sp>
            <p:nvSpPr>
              <p:cNvPr id="1014" name=""/>
              <p:cNvSpPr/>
              <p:nvPr/>
            </p:nvSpPr>
            <p:spPr>
              <a:xfrm>
                <a:off x="2697120" y="3303720"/>
                <a:ext cx="39240" cy="122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>
                <a:off x="2734920" y="3303720"/>
                <a:ext cx="39240" cy="122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2774880" y="3425760"/>
              <a:ext cx="77400" cy="47520"/>
              <a:chOff x="2774880" y="3425760"/>
              <a:chExt cx="77400" cy="47520"/>
            </a:xfrm>
          </p:grpSpPr>
          <p:sp>
            <p:nvSpPr>
              <p:cNvPr id="1017" name=""/>
              <p:cNvSpPr/>
              <p:nvPr/>
            </p:nvSpPr>
            <p:spPr>
              <a:xfrm flipV="1">
                <a:off x="2774880" y="342576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H="1" flipV="1">
                <a:off x="2812680" y="342576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2852640" y="3408480"/>
              <a:ext cx="77400" cy="17280"/>
              <a:chOff x="2852640" y="3408480"/>
              <a:chExt cx="77400" cy="17280"/>
            </a:xfrm>
          </p:grpSpPr>
          <p:sp>
            <p:nvSpPr>
              <p:cNvPr id="1020" name=""/>
              <p:cNvSpPr/>
              <p:nvPr/>
            </p:nvSpPr>
            <p:spPr>
              <a:xfrm>
                <a:off x="2852640" y="3408480"/>
                <a:ext cx="39240" cy="172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>
                <a:off x="2890440" y="3408480"/>
                <a:ext cx="39240" cy="172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4102560" y="2633760"/>
              <a:ext cx="77400" cy="791640"/>
              <a:chOff x="4102560" y="2633760"/>
              <a:chExt cx="77400" cy="791640"/>
            </a:xfrm>
          </p:grpSpPr>
          <p:sp>
            <p:nvSpPr>
              <p:cNvPr id="1023" name=""/>
              <p:cNvSpPr/>
              <p:nvPr/>
            </p:nvSpPr>
            <p:spPr>
              <a:xfrm flipH="1">
                <a:off x="4140360" y="263376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102560" y="263376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4024800" y="3426120"/>
              <a:ext cx="77400" cy="974520"/>
              <a:chOff x="4024800" y="3426120"/>
              <a:chExt cx="77400" cy="974520"/>
            </a:xfrm>
          </p:grpSpPr>
          <p:sp>
            <p:nvSpPr>
              <p:cNvPr id="1026" name=""/>
              <p:cNvSpPr/>
              <p:nvPr/>
            </p:nvSpPr>
            <p:spPr>
              <a:xfrm flipH="1" flipV="1">
                <a:off x="4062600" y="342576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4024800" y="342576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3947040" y="2295360"/>
              <a:ext cx="77400" cy="1130040"/>
              <a:chOff x="3947040" y="2295360"/>
              <a:chExt cx="77400" cy="1130040"/>
            </a:xfrm>
          </p:grpSpPr>
          <p:sp>
            <p:nvSpPr>
              <p:cNvPr id="1029" name=""/>
              <p:cNvSpPr/>
              <p:nvPr/>
            </p:nvSpPr>
            <p:spPr>
              <a:xfrm flipH="1">
                <a:off x="3984840" y="229536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947040" y="229536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3868560" y="3425760"/>
              <a:ext cx="77760" cy="1288800"/>
              <a:chOff x="3868560" y="3425760"/>
              <a:chExt cx="77760" cy="1288800"/>
            </a:xfrm>
          </p:grpSpPr>
          <p:sp>
            <p:nvSpPr>
              <p:cNvPr id="1032" name=""/>
              <p:cNvSpPr/>
              <p:nvPr/>
            </p:nvSpPr>
            <p:spPr>
              <a:xfrm flipH="1" flipV="1">
                <a:off x="3906720" y="342576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3868560" y="342576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3791160" y="2090880"/>
              <a:ext cx="77400" cy="1334520"/>
              <a:chOff x="3791160" y="2090880"/>
              <a:chExt cx="77400" cy="1334520"/>
            </a:xfrm>
          </p:grpSpPr>
          <p:sp>
            <p:nvSpPr>
              <p:cNvPr id="1035" name=""/>
              <p:cNvSpPr/>
              <p:nvPr/>
            </p:nvSpPr>
            <p:spPr>
              <a:xfrm flipH="1">
                <a:off x="3828960" y="209088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791160" y="209088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3713400" y="3426480"/>
              <a:ext cx="77400" cy="1407600"/>
              <a:chOff x="3713400" y="3426480"/>
              <a:chExt cx="77400" cy="1407600"/>
            </a:xfrm>
          </p:grpSpPr>
          <p:sp>
            <p:nvSpPr>
              <p:cNvPr id="1038" name=""/>
              <p:cNvSpPr/>
              <p:nvPr/>
            </p:nvSpPr>
            <p:spPr>
              <a:xfrm flipH="1" flipV="1">
                <a:off x="3751200" y="3426480"/>
                <a:ext cx="39240" cy="1407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V="1">
                <a:off x="3713400" y="3426480"/>
                <a:ext cx="39240" cy="1407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3635640" y="2090880"/>
              <a:ext cx="77400" cy="1334520"/>
              <a:chOff x="3635640" y="2090880"/>
              <a:chExt cx="77400" cy="1334520"/>
            </a:xfrm>
          </p:grpSpPr>
          <p:sp>
            <p:nvSpPr>
              <p:cNvPr id="1041" name=""/>
              <p:cNvSpPr/>
              <p:nvPr/>
            </p:nvSpPr>
            <p:spPr>
              <a:xfrm flipH="1">
                <a:off x="3673440" y="209088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635640" y="209088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3557880" y="3425760"/>
              <a:ext cx="77400" cy="1288800"/>
              <a:chOff x="3557880" y="3425760"/>
              <a:chExt cx="77400" cy="1288800"/>
            </a:xfrm>
          </p:grpSpPr>
          <p:sp>
            <p:nvSpPr>
              <p:cNvPr id="1044" name=""/>
              <p:cNvSpPr/>
              <p:nvPr/>
            </p:nvSpPr>
            <p:spPr>
              <a:xfrm flipH="1" flipV="1">
                <a:off x="3595680" y="342576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V="1">
                <a:off x="3557880" y="342576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3480120" y="2295360"/>
              <a:ext cx="77400" cy="1130040"/>
              <a:chOff x="3480120" y="2295360"/>
              <a:chExt cx="77400" cy="1130040"/>
            </a:xfrm>
          </p:grpSpPr>
          <p:sp>
            <p:nvSpPr>
              <p:cNvPr id="1047" name=""/>
              <p:cNvSpPr/>
              <p:nvPr/>
            </p:nvSpPr>
            <p:spPr>
              <a:xfrm flipH="1">
                <a:off x="3517920" y="229536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480120" y="229536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3402360" y="3426120"/>
              <a:ext cx="77400" cy="974520"/>
              <a:chOff x="3402360" y="3426120"/>
              <a:chExt cx="77400" cy="974520"/>
            </a:xfrm>
          </p:grpSpPr>
          <p:sp>
            <p:nvSpPr>
              <p:cNvPr id="1050" name=""/>
              <p:cNvSpPr/>
              <p:nvPr/>
            </p:nvSpPr>
            <p:spPr>
              <a:xfrm flipH="1" flipV="1">
                <a:off x="3440160" y="342576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V="1">
                <a:off x="3402360" y="342576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3324600" y="2633760"/>
              <a:ext cx="77400" cy="791640"/>
              <a:chOff x="3324600" y="2633760"/>
              <a:chExt cx="77400" cy="791640"/>
            </a:xfrm>
          </p:grpSpPr>
          <p:sp>
            <p:nvSpPr>
              <p:cNvPr id="1053" name=""/>
              <p:cNvSpPr/>
              <p:nvPr/>
            </p:nvSpPr>
            <p:spPr>
              <a:xfrm flipH="1">
                <a:off x="3362400" y="263376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324600" y="263376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3242160" y="3425400"/>
              <a:ext cx="77400" cy="622440"/>
              <a:chOff x="3242160" y="3425400"/>
              <a:chExt cx="77400" cy="622440"/>
            </a:xfrm>
          </p:grpSpPr>
          <p:sp>
            <p:nvSpPr>
              <p:cNvPr id="1056" name=""/>
              <p:cNvSpPr/>
              <p:nvPr/>
            </p:nvSpPr>
            <p:spPr>
              <a:xfrm flipH="1" flipV="1">
                <a:off x="3279960" y="3425040"/>
                <a:ext cx="39240" cy="622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V="1">
                <a:off x="3242160" y="3425040"/>
                <a:ext cx="39240" cy="622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3164400" y="3017880"/>
              <a:ext cx="77400" cy="407880"/>
              <a:chOff x="3164400" y="3017880"/>
              <a:chExt cx="77400" cy="407880"/>
            </a:xfrm>
          </p:grpSpPr>
          <p:sp>
            <p:nvSpPr>
              <p:cNvPr id="1059" name=""/>
              <p:cNvSpPr/>
              <p:nvPr/>
            </p:nvSpPr>
            <p:spPr>
              <a:xfrm flipH="1">
                <a:off x="3202200" y="3017880"/>
                <a:ext cx="39240" cy="40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64400" y="3017880"/>
                <a:ext cx="39240" cy="40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3086640" y="3425760"/>
              <a:ext cx="77400" cy="271440"/>
              <a:chOff x="3086640" y="3425760"/>
              <a:chExt cx="77400" cy="271440"/>
            </a:xfrm>
          </p:grpSpPr>
          <p:sp>
            <p:nvSpPr>
              <p:cNvPr id="1062" name=""/>
              <p:cNvSpPr/>
              <p:nvPr/>
            </p:nvSpPr>
            <p:spPr>
              <a:xfrm flipH="1" flipV="1">
                <a:off x="3124440" y="3425760"/>
                <a:ext cx="39240" cy="271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3086640" y="3425760"/>
                <a:ext cx="39240" cy="271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3008160" y="3303720"/>
              <a:ext cx="77760" cy="122040"/>
              <a:chOff x="3008160" y="3303720"/>
              <a:chExt cx="77760" cy="122040"/>
            </a:xfrm>
          </p:grpSpPr>
          <p:sp>
            <p:nvSpPr>
              <p:cNvPr id="1065" name=""/>
              <p:cNvSpPr/>
              <p:nvPr/>
            </p:nvSpPr>
            <p:spPr>
              <a:xfrm flipH="1">
                <a:off x="3046320" y="3303720"/>
                <a:ext cx="39240" cy="122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008160" y="3303720"/>
                <a:ext cx="39240" cy="122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2930760" y="3425760"/>
              <a:ext cx="77400" cy="47520"/>
              <a:chOff x="2930760" y="3425760"/>
              <a:chExt cx="77400" cy="47520"/>
            </a:xfrm>
          </p:grpSpPr>
          <p:sp>
            <p:nvSpPr>
              <p:cNvPr id="1068" name=""/>
              <p:cNvSpPr/>
              <p:nvPr/>
            </p:nvSpPr>
            <p:spPr>
              <a:xfrm flipH="1" flipV="1">
                <a:off x="2968560" y="342576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V="1">
                <a:off x="2930760" y="342576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0" name=""/>
            <p:cNvSpPr/>
            <p:nvPr/>
          </p:nvSpPr>
          <p:spPr>
            <a:xfrm flipV="1">
              <a:off x="4179960" y="3425040"/>
              <a:ext cx="39600" cy="622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 flipV="1">
              <a:off x="4218120" y="3425040"/>
              <a:ext cx="39600" cy="622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257720" y="3017880"/>
              <a:ext cx="39600" cy="40788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4295880" y="3017880"/>
              <a:ext cx="39600" cy="40788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4335480" y="3425760"/>
              <a:ext cx="39600" cy="271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4373640" y="3425760"/>
              <a:ext cx="39600" cy="271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413240" y="3303720"/>
              <a:ext cx="39600" cy="1220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4451400" y="3303720"/>
              <a:ext cx="39600" cy="1220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4491000" y="3425760"/>
              <a:ext cx="39600" cy="4752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 flipV="1">
              <a:off x="4529160" y="3425760"/>
              <a:ext cx="39600" cy="4752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"/>
            <p:cNvGrpSpPr/>
            <p:nvPr/>
          </p:nvGrpSpPr>
          <p:grpSpPr>
            <a:xfrm>
              <a:off x="5826600" y="2633760"/>
              <a:ext cx="77400" cy="791640"/>
              <a:chOff x="5826600" y="2633760"/>
              <a:chExt cx="77400" cy="791640"/>
            </a:xfrm>
          </p:grpSpPr>
          <p:sp>
            <p:nvSpPr>
              <p:cNvPr id="1081" name=""/>
              <p:cNvSpPr/>
              <p:nvPr/>
            </p:nvSpPr>
            <p:spPr>
              <a:xfrm flipH="1">
                <a:off x="5864400" y="263376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826600" y="263376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"/>
            <p:cNvGrpSpPr/>
            <p:nvPr/>
          </p:nvGrpSpPr>
          <p:grpSpPr>
            <a:xfrm>
              <a:off x="5748840" y="3426120"/>
              <a:ext cx="77400" cy="974520"/>
              <a:chOff x="5748840" y="3426120"/>
              <a:chExt cx="77400" cy="974520"/>
            </a:xfrm>
          </p:grpSpPr>
          <p:sp>
            <p:nvSpPr>
              <p:cNvPr id="1084" name=""/>
              <p:cNvSpPr/>
              <p:nvPr/>
            </p:nvSpPr>
            <p:spPr>
              <a:xfrm flipH="1" flipV="1">
                <a:off x="5786640" y="342576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V="1">
                <a:off x="5748840" y="342576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5671080" y="2295360"/>
              <a:ext cx="77400" cy="1130040"/>
              <a:chOff x="5671080" y="2295360"/>
              <a:chExt cx="77400" cy="1130040"/>
            </a:xfrm>
          </p:grpSpPr>
          <p:sp>
            <p:nvSpPr>
              <p:cNvPr id="1087" name=""/>
              <p:cNvSpPr/>
              <p:nvPr/>
            </p:nvSpPr>
            <p:spPr>
              <a:xfrm flipH="1">
                <a:off x="5708880" y="229536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671080" y="229536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5592600" y="3425760"/>
              <a:ext cx="77760" cy="1288800"/>
              <a:chOff x="5592600" y="3425760"/>
              <a:chExt cx="77760" cy="1288800"/>
            </a:xfrm>
          </p:grpSpPr>
          <p:sp>
            <p:nvSpPr>
              <p:cNvPr id="1090" name=""/>
              <p:cNvSpPr/>
              <p:nvPr/>
            </p:nvSpPr>
            <p:spPr>
              <a:xfrm flipH="1" flipV="1">
                <a:off x="5630760" y="342576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V="1">
                <a:off x="5592600" y="342576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5515200" y="2090880"/>
              <a:ext cx="77400" cy="1334520"/>
              <a:chOff x="5515200" y="2090880"/>
              <a:chExt cx="77400" cy="1334520"/>
            </a:xfrm>
          </p:grpSpPr>
          <p:sp>
            <p:nvSpPr>
              <p:cNvPr id="1093" name=""/>
              <p:cNvSpPr/>
              <p:nvPr/>
            </p:nvSpPr>
            <p:spPr>
              <a:xfrm flipH="1">
                <a:off x="5553000" y="209088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515200" y="209088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5437440" y="3426480"/>
              <a:ext cx="77400" cy="1407600"/>
              <a:chOff x="5437440" y="3426480"/>
              <a:chExt cx="77400" cy="1407600"/>
            </a:xfrm>
          </p:grpSpPr>
          <p:sp>
            <p:nvSpPr>
              <p:cNvPr id="1096" name=""/>
              <p:cNvSpPr/>
              <p:nvPr/>
            </p:nvSpPr>
            <p:spPr>
              <a:xfrm flipH="1" flipV="1">
                <a:off x="5475240" y="3426480"/>
                <a:ext cx="39240" cy="1407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V="1">
                <a:off x="5437440" y="3426480"/>
                <a:ext cx="39240" cy="1407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5359680" y="2090880"/>
              <a:ext cx="77400" cy="1334520"/>
              <a:chOff x="5359680" y="2090880"/>
              <a:chExt cx="77400" cy="1334520"/>
            </a:xfrm>
          </p:grpSpPr>
          <p:sp>
            <p:nvSpPr>
              <p:cNvPr id="1099" name=""/>
              <p:cNvSpPr/>
              <p:nvPr/>
            </p:nvSpPr>
            <p:spPr>
              <a:xfrm flipH="1">
                <a:off x="5397480" y="209088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359680" y="209088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1" name=""/>
            <p:cNvGrpSpPr/>
            <p:nvPr/>
          </p:nvGrpSpPr>
          <p:grpSpPr>
            <a:xfrm>
              <a:off x="5281920" y="3425760"/>
              <a:ext cx="77400" cy="1288800"/>
              <a:chOff x="5281920" y="3425760"/>
              <a:chExt cx="77400" cy="1288800"/>
            </a:xfrm>
          </p:grpSpPr>
          <p:sp>
            <p:nvSpPr>
              <p:cNvPr id="1102" name=""/>
              <p:cNvSpPr/>
              <p:nvPr/>
            </p:nvSpPr>
            <p:spPr>
              <a:xfrm flipH="1" flipV="1">
                <a:off x="5319720" y="342576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V="1">
                <a:off x="5281920" y="342576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4" name=""/>
            <p:cNvGrpSpPr/>
            <p:nvPr/>
          </p:nvGrpSpPr>
          <p:grpSpPr>
            <a:xfrm>
              <a:off x="5204160" y="2295360"/>
              <a:ext cx="77400" cy="1130040"/>
              <a:chOff x="5204160" y="2295360"/>
              <a:chExt cx="77400" cy="1130040"/>
            </a:xfrm>
          </p:grpSpPr>
          <p:sp>
            <p:nvSpPr>
              <p:cNvPr id="1105" name=""/>
              <p:cNvSpPr/>
              <p:nvPr/>
            </p:nvSpPr>
            <p:spPr>
              <a:xfrm flipH="1">
                <a:off x="5241960" y="229536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04160" y="229536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5126400" y="3426120"/>
              <a:ext cx="77400" cy="974520"/>
              <a:chOff x="5126400" y="3426120"/>
              <a:chExt cx="77400" cy="974520"/>
            </a:xfrm>
          </p:grpSpPr>
          <p:sp>
            <p:nvSpPr>
              <p:cNvPr id="1108" name=""/>
              <p:cNvSpPr/>
              <p:nvPr/>
            </p:nvSpPr>
            <p:spPr>
              <a:xfrm flipH="1" flipV="1">
                <a:off x="5164200" y="342576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5126400" y="342576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5048640" y="2633760"/>
              <a:ext cx="77400" cy="791640"/>
              <a:chOff x="5048640" y="2633760"/>
              <a:chExt cx="77400" cy="791640"/>
            </a:xfrm>
          </p:grpSpPr>
          <p:sp>
            <p:nvSpPr>
              <p:cNvPr id="1111" name=""/>
              <p:cNvSpPr/>
              <p:nvPr/>
            </p:nvSpPr>
            <p:spPr>
              <a:xfrm flipH="1">
                <a:off x="5086440" y="263376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048640" y="263376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4966200" y="3425400"/>
              <a:ext cx="77400" cy="622440"/>
              <a:chOff x="4966200" y="3425400"/>
              <a:chExt cx="77400" cy="622440"/>
            </a:xfrm>
          </p:grpSpPr>
          <p:sp>
            <p:nvSpPr>
              <p:cNvPr id="1114" name=""/>
              <p:cNvSpPr/>
              <p:nvPr/>
            </p:nvSpPr>
            <p:spPr>
              <a:xfrm flipH="1" flipV="1">
                <a:off x="5004000" y="3425040"/>
                <a:ext cx="39240" cy="622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V="1">
                <a:off x="4966200" y="3425040"/>
                <a:ext cx="39240" cy="622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6" name=""/>
            <p:cNvGrpSpPr/>
            <p:nvPr/>
          </p:nvGrpSpPr>
          <p:grpSpPr>
            <a:xfrm>
              <a:off x="4888440" y="3017880"/>
              <a:ext cx="77400" cy="407880"/>
              <a:chOff x="4888440" y="3017880"/>
              <a:chExt cx="77400" cy="407880"/>
            </a:xfrm>
          </p:grpSpPr>
          <p:sp>
            <p:nvSpPr>
              <p:cNvPr id="1117" name=""/>
              <p:cNvSpPr/>
              <p:nvPr/>
            </p:nvSpPr>
            <p:spPr>
              <a:xfrm flipH="1">
                <a:off x="4926240" y="3017880"/>
                <a:ext cx="39240" cy="40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888440" y="3017880"/>
                <a:ext cx="39240" cy="40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"/>
            <p:cNvGrpSpPr/>
            <p:nvPr/>
          </p:nvGrpSpPr>
          <p:grpSpPr>
            <a:xfrm>
              <a:off x="4809960" y="3425760"/>
              <a:ext cx="77760" cy="271440"/>
              <a:chOff x="4809960" y="3425760"/>
              <a:chExt cx="77760" cy="271440"/>
            </a:xfrm>
          </p:grpSpPr>
          <p:sp>
            <p:nvSpPr>
              <p:cNvPr id="1120" name=""/>
              <p:cNvSpPr/>
              <p:nvPr/>
            </p:nvSpPr>
            <p:spPr>
              <a:xfrm flipH="1" flipV="1">
                <a:off x="4848120" y="3425760"/>
                <a:ext cx="39240" cy="271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V="1">
                <a:off x="4809960" y="3425760"/>
                <a:ext cx="39240" cy="271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2" name=""/>
            <p:cNvGrpSpPr/>
            <p:nvPr/>
          </p:nvGrpSpPr>
          <p:grpSpPr>
            <a:xfrm>
              <a:off x="4732560" y="3303720"/>
              <a:ext cx="77400" cy="122040"/>
              <a:chOff x="4732560" y="3303720"/>
              <a:chExt cx="77400" cy="122040"/>
            </a:xfrm>
          </p:grpSpPr>
          <p:sp>
            <p:nvSpPr>
              <p:cNvPr id="1123" name=""/>
              <p:cNvSpPr/>
              <p:nvPr/>
            </p:nvSpPr>
            <p:spPr>
              <a:xfrm flipH="1">
                <a:off x="4770360" y="3303720"/>
                <a:ext cx="39240" cy="122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732560" y="3303720"/>
                <a:ext cx="39240" cy="122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4654800" y="3425760"/>
              <a:ext cx="77400" cy="47520"/>
              <a:chOff x="4654800" y="3425760"/>
              <a:chExt cx="77400" cy="47520"/>
            </a:xfrm>
          </p:grpSpPr>
          <p:sp>
            <p:nvSpPr>
              <p:cNvPr id="1126" name=""/>
              <p:cNvSpPr/>
              <p:nvPr/>
            </p:nvSpPr>
            <p:spPr>
              <a:xfrm flipH="1" flipV="1">
                <a:off x="4692600" y="342576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4654800" y="342576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8" name=""/>
            <p:cNvSpPr/>
            <p:nvPr/>
          </p:nvSpPr>
          <p:spPr>
            <a:xfrm flipV="1">
              <a:off x="5904000" y="3425040"/>
              <a:ext cx="39600" cy="622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 flipV="1">
              <a:off x="5942160" y="3425040"/>
              <a:ext cx="39600" cy="622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981760" y="3017880"/>
              <a:ext cx="39600" cy="40788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6019920" y="3017880"/>
              <a:ext cx="39600" cy="40788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6059520" y="3425760"/>
              <a:ext cx="39600" cy="271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 flipV="1">
              <a:off x="6097680" y="3425760"/>
              <a:ext cx="39600" cy="271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137280" y="3303720"/>
              <a:ext cx="39600" cy="1220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6175440" y="3303720"/>
              <a:ext cx="39600" cy="1220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6215040" y="3425760"/>
              <a:ext cx="39600" cy="4752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 flipV="1">
              <a:off x="6253200" y="3425760"/>
              <a:ext cx="39600" cy="4752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8" name=""/>
            <p:cNvGrpSpPr/>
            <p:nvPr/>
          </p:nvGrpSpPr>
          <p:grpSpPr>
            <a:xfrm>
              <a:off x="4568760" y="3408480"/>
              <a:ext cx="77400" cy="17280"/>
              <a:chOff x="4568760" y="3408480"/>
              <a:chExt cx="77400" cy="17280"/>
            </a:xfrm>
          </p:grpSpPr>
          <p:sp>
            <p:nvSpPr>
              <p:cNvPr id="1139" name=""/>
              <p:cNvSpPr/>
              <p:nvPr/>
            </p:nvSpPr>
            <p:spPr>
              <a:xfrm>
                <a:off x="4568760" y="3408480"/>
                <a:ext cx="39240" cy="172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H="1">
                <a:off x="4606560" y="3408480"/>
                <a:ext cx="39240" cy="172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6690240" y="3425400"/>
              <a:ext cx="77400" cy="622440"/>
              <a:chOff x="6690240" y="3425400"/>
              <a:chExt cx="77400" cy="622440"/>
            </a:xfrm>
          </p:grpSpPr>
          <p:sp>
            <p:nvSpPr>
              <p:cNvPr id="1142" name=""/>
              <p:cNvSpPr/>
              <p:nvPr/>
            </p:nvSpPr>
            <p:spPr>
              <a:xfrm flipH="1" flipV="1">
                <a:off x="6728040" y="3425040"/>
                <a:ext cx="39240" cy="622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V="1">
                <a:off x="6690240" y="3425040"/>
                <a:ext cx="39240" cy="622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6611760" y="3017880"/>
              <a:ext cx="77760" cy="407880"/>
              <a:chOff x="6611760" y="3017880"/>
              <a:chExt cx="77760" cy="407880"/>
            </a:xfrm>
          </p:grpSpPr>
          <p:sp>
            <p:nvSpPr>
              <p:cNvPr id="1145" name=""/>
              <p:cNvSpPr/>
              <p:nvPr/>
            </p:nvSpPr>
            <p:spPr>
              <a:xfrm flipH="1">
                <a:off x="6649920" y="3017880"/>
                <a:ext cx="39240" cy="40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611760" y="3017880"/>
                <a:ext cx="39240" cy="40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6534360" y="3425760"/>
              <a:ext cx="77400" cy="271440"/>
              <a:chOff x="6534360" y="3425760"/>
              <a:chExt cx="77400" cy="271440"/>
            </a:xfrm>
          </p:grpSpPr>
          <p:sp>
            <p:nvSpPr>
              <p:cNvPr id="1148" name=""/>
              <p:cNvSpPr/>
              <p:nvPr/>
            </p:nvSpPr>
            <p:spPr>
              <a:xfrm flipH="1" flipV="1">
                <a:off x="6572160" y="3425760"/>
                <a:ext cx="39240" cy="271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6534360" y="3425760"/>
                <a:ext cx="39240" cy="271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6456600" y="3303720"/>
              <a:ext cx="77400" cy="122040"/>
              <a:chOff x="6456600" y="3303720"/>
              <a:chExt cx="77400" cy="122040"/>
            </a:xfrm>
          </p:grpSpPr>
          <p:sp>
            <p:nvSpPr>
              <p:cNvPr id="1151" name=""/>
              <p:cNvSpPr/>
              <p:nvPr/>
            </p:nvSpPr>
            <p:spPr>
              <a:xfrm flipH="1">
                <a:off x="6494400" y="3303720"/>
                <a:ext cx="39240" cy="122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456600" y="3303720"/>
                <a:ext cx="39240" cy="122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6378840" y="3425760"/>
              <a:ext cx="77400" cy="47520"/>
              <a:chOff x="6378840" y="3425760"/>
              <a:chExt cx="77400" cy="47520"/>
            </a:xfrm>
          </p:grpSpPr>
          <p:sp>
            <p:nvSpPr>
              <p:cNvPr id="1154" name=""/>
              <p:cNvSpPr/>
              <p:nvPr/>
            </p:nvSpPr>
            <p:spPr>
              <a:xfrm flipH="1" flipV="1">
                <a:off x="6416640" y="342576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6378840" y="342576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6292800" y="3408480"/>
              <a:ext cx="77400" cy="17280"/>
              <a:chOff x="6292800" y="3408480"/>
              <a:chExt cx="77400" cy="17280"/>
            </a:xfrm>
          </p:grpSpPr>
          <p:sp>
            <p:nvSpPr>
              <p:cNvPr id="1157" name=""/>
              <p:cNvSpPr/>
              <p:nvPr/>
            </p:nvSpPr>
            <p:spPr>
              <a:xfrm>
                <a:off x="6292800" y="3408480"/>
                <a:ext cx="39240" cy="172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H="1">
                <a:off x="6330600" y="3408480"/>
                <a:ext cx="39240" cy="172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9" name=""/>
          <p:cNvSpPr/>
          <p:nvPr/>
        </p:nvSpPr>
        <p:spPr>
          <a:xfrm>
            <a:off x="1469880" y="3427560"/>
            <a:ext cx="5954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1595520" y="1885680"/>
            <a:ext cx="0" cy="293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82DE-3356-4CA1-9BB5-6EF9778A5DBE}" type="slidenum">
              <a:t>66</a:t>
            </a:fld>
          </a:p>
        </p:txBody>
      </p:sp>
    </p:spTree>
  </p:cSld>
  <p:transition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/>
          <p:nvPr/>
        </p:nvSpPr>
        <p:spPr>
          <a:xfrm>
            <a:off x="743040" y="1964520"/>
            <a:ext cx="7657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a señal recibida tendrá una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enor amplitud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e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odulación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 causa del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uido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y de la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everberació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FB42-88A0-4D17-8E65-05E2B9EF0D24}" type="slidenum">
              <a:t>67</a:t>
            </a:fld>
          </a:p>
        </p:txBody>
      </p:sp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228600" y="2227320"/>
            <a:ext cx="8686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p</a:t>
            </a:r>
            <a:r>
              <a:rPr b="1" lang="es-ES_tradnl" sz="4000" spc="-1" strike="noStrike" baseline="30000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t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) = 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P</a:t>
            </a:r>
            <a:r>
              <a:rPr b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es-ES_tradnl" sz="4000" spc="-1" strike="noStrike" baseline="30000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(1  + 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m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) sen 2</a:t>
            </a:r>
            <a:r>
              <a:rPr b="1" lang="es-ES_tradnl" sz="40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t -</a:t>
            </a:r>
            <a:r>
              <a:rPr b="1" lang="es-ES_tradnl" sz="4000" spc="-1" strike="noStrike">
                <a:solidFill>
                  <a:srgbClr val="009999"/>
                </a:solidFill>
                <a:latin typeface="Symbol"/>
                <a:ea typeface="Symbol"/>
              </a:rPr>
              <a:t>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))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t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533520" y="3641040"/>
            <a:ext cx="8076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onde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m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)</a:t>
            </a:r>
            <a:r>
              <a:rPr b="1" lang="es-ES_tradnl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 la reducción en la profundidad de la modulación y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Symbol"/>
                <a:ea typeface="Symbol"/>
              </a:rPr>
              <a:t>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un eventual retardo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743040" y="548640"/>
            <a:ext cx="765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presión cuadrática de la señal recibida será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0398-F995-4BB5-B782-DF73F97B9378}" type="slidenum">
              <a:t>68</a:t>
            </a:fld>
          </a:p>
        </p:txBody>
      </p:sp>
    </p:spTree>
  </p:cSld>
  <p:transition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"/>
          <p:cNvSpPr/>
          <p:nvPr/>
        </p:nvSpPr>
        <p:spPr>
          <a:xfrm>
            <a:off x="7458120" y="1905840"/>
            <a:ext cx="3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87560" y="75600"/>
            <a:ext cx="11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p</a:t>
            </a:r>
            <a:r>
              <a:rPr b="1" lang="es-ES_tradnl" sz="2800" spc="-1" strike="noStrike" baseline="30000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t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1603440" y="876240"/>
            <a:ext cx="5164200" cy="2743200"/>
            <a:chOff x="1603440" y="876240"/>
            <a:chExt cx="5164200" cy="2743200"/>
          </a:xfrm>
        </p:grpSpPr>
        <p:grpSp>
          <p:nvGrpSpPr>
            <p:cNvPr id="1168" name=""/>
            <p:cNvGrpSpPr/>
            <p:nvPr/>
          </p:nvGrpSpPr>
          <p:grpSpPr>
            <a:xfrm>
              <a:off x="1603440" y="1419120"/>
              <a:ext cx="77400" cy="791640"/>
              <a:chOff x="1603440" y="1419120"/>
              <a:chExt cx="77400" cy="791640"/>
            </a:xfrm>
          </p:grpSpPr>
          <p:sp>
            <p:nvSpPr>
              <p:cNvPr id="1169" name=""/>
              <p:cNvSpPr/>
              <p:nvPr/>
            </p:nvSpPr>
            <p:spPr>
              <a:xfrm>
                <a:off x="1603440" y="141912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H="1">
                <a:off x="1641240" y="141912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1681200" y="2211480"/>
              <a:ext cx="77400" cy="974520"/>
              <a:chOff x="1681200" y="2211480"/>
              <a:chExt cx="77400" cy="974520"/>
            </a:xfrm>
          </p:grpSpPr>
          <p:sp>
            <p:nvSpPr>
              <p:cNvPr id="1172" name=""/>
              <p:cNvSpPr/>
              <p:nvPr/>
            </p:nvSpPr>
            <p:spPr>
              <a:xfrm flipV="1">
                <a:off x="1681200" y="221112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 flipV="1">
                <a:off x="1719000" y="221112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1758960" y="1080720"/>
              <a:ext cx="77400" cy="1130040"/>
              <a:chOff x="1758960" y="1080720"/>
              <a:chExt cx="77400" cy="1130040"/>
            </a:xfrm>
          </p:grpSpPr>
          <p:sp>
            <p:nvSpPr>
              <p:cNvPr id="1175" name=""/>
              <p:cNvSpPr/>
              <p:nvPr/>
            </p:nvSpPr>
            <p:spPr>
              <a:xfrm>
                <a:off x="1758960" y="108072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>
                <a:off x="1796760" y="108072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1836720" y="2211120"/>
              <a:ext cx="77400" cy="1288800"/>
              <a:chOff x="1836720" y="2211120"/>
              <a:chExt cx="77400" cy="1288800"/>
            </a:xfrm>
          </p:grpSpPr>
          <p:sp>
            <p:nvSpPr>
              <p:cNvPr id="1178" name=""/>
              <p:cNvSpPr/>
              <p:nvPr/>
            </p:nvSpPr>
            <p:spPr>
              <a:xfrm flipV="1">
                <a:off x="1836720" y="221112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H="1" flipV="1">
                <a:off x="1874520" y="221112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1914480" y="876240"/>
              <a:ext cx="77400" cy="1334520"/>
              <a:chOff x="1914480" y="876240"/>
              <a:chExt cx="77400" cy="1334520"/>
            </a:xfrm>
          </p:grpSpPr>
          <p:sp>
            <p:nvSpPr>
              <p:cNvPr id="1181" name=""/>
              <p:cNvSpPr/>
              <p:nvPr/>
            </p:nvSpPr>
            <p:spPr>
              <a:xfrm>
                <a:off x="1914480" y="87624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>
                <a:off x="1952280" y="87624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1992240" y="2211840"/>
              <a:ext cx="77400" cy="1407600"/>
              <a:chOff x="1992240" y="2211840"/>
              <a:chExt cx="77400" cy="1407600"/>
            </a:xfrm>
          </p:grpSpPr>
          <p:sp>
            <p:nvSpPr>
              <p:cNvPr id="1184" name=""/>
              <p:cNvSpPr/>
              <p:nvPr/>
            </p:nvSpPr>
            <p:spPr>
              <a:xfrm flipV="1">
                <a:off x="1992240" y="2211840"/>
                <a:ext cx="39240" cy="1407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 flipV="1">
                <a:off x="2030040" y="2211840"/>
                <a:ext cx="39240" cy="1407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6" name=""/>
            <p:cNvGrpSpPr/>
            <p:nvPr/>
          </p:nvGrpSpPr>
          <p:grpSpPr>
            <a:xfrm>
              <a:off x="2070000" y="876240"/>
              <a:ext cx="77400" cy="1334520"/>
              <a:chOff x="2070000" y="876240"/>
              <a:chExt cx="77400" cy="1334520"/>
            </a:xfrm>
          </p:grpSpPr>
          <p:sp>
            <p:nvSpPr>
              <p:cNvPr id="1187" name=""/>
              <p:cNvSpPr/>
              <p:nvPr/>
            </p:nvSpPr>
            <p:spPr>
              <a:xfrm>
                <a:off x="2070000" y="87624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H="1">
                <a:off x="2107800" y="87624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9" name=""/>
            <p:cNvGrpSpPr/>
            <p:nvPr/>
          </p:nvGrpSpPr>
          <p:grpSpPr>
            <a:xfrm>
              <a:off x="2147760" y="2211120"/>
              <a:ext cx="77400" cy="1288800"/>
              <a:chOff x="2147760" y="2211120"/>
              <a:chExt cx="77400" cy="1288800"/>
            </a:xfrm>
          </p:grpSpPr>
          <p:sp>
            <p:nvSpPr>
              <p:cNvPr id="1190" name=""/>
              <p:cNvSpPr/>
              <p:nvPr/>
            </p:nvSpPr>
            <p:spPr>
              <a:xfrm flipV="1">
                <a:off x="2147760" y="221112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 flipV="1">
                <a:off x="2185560" y="221112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2225520" y="1080720"/>
              <a:ext cx="77760" cy="1130040"/>
              <a:chOff x="2225520" y="1080720"/>
              <a:chExt cx="77760" cy="1130040"/>
            </a:xfrm>
          </p:grpSpPr>
          <p:sp>
            <p:nvSpPr>
              <p:cNvPr id="1193" name=""/>
              <p:cNvSpPr/>
              <p:nvPr/>
            </p:nvSpPr>
            <p:spPr>
              <a:xfrm>
                <a:off x="2225520" y="108072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H="1">
                <a:off x="2263680" y="108072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"/>
            <p:cNvGrpSpPr/>
            <p:nvPr/>
          </p:nvGrpSpPr>
          <p:grpSpPr>
            <a:xfrm>
              <a:off x="2303640" y="2211480"/>
              <a:ext cx="77400" cy="974520"/>
              <a:chOff x="2303640" y="2211480"/>
              <a:chExt cx="77400" cy="974520"/>
            </a:xfrm>
          </p:grpSpPr>
          <p:sp>
            <p:nvSpPr>
              <p:cNvPr id="1196" name=""/>
              <p:cNvSpPr/>
              <p:nvPr/>
            </p:nvSpPr>
            <p:spPr>
              <a:xfrm flipV="1">
                <a:off x="2303640" y="221112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H="1" flipV="1">
                <a:off x="2341440" y="221112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8" name=""/>
            <p:cNvGrpSpPr/>
            <p:nvPr/>
          </p:nvGrpSpPr>
          <p:grpSpPr>
            <a:xfrm>
              <a:off x="2381400" y="1419120"/>
              <a:ext cx="77400" cy="791640"/>
              <a:chOff x="2381400" y="1419120"/>
              <a:chExt cx="77400" cy="791640"/>
            </a:xfrm>
          </p:grpSpPr>
          <p:sp>
            <p:nvSpPr>
              <p:cNvPr id="1199" name=""/>
              <p:cNvSpPr/>
              <p:nvPr/>
            </p:nvSpPr>
            <p:spPr>
              <a:xfrm>
                <a:off x="2381400" y="141912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H="1">
                <a:off x="2419200" y="141912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2463840" y="2210760"/>
              <a:ext cx="77400" cy="622440"/>
              <a:chOff x="2463840" y="2210760"/>
              <a:chExt cx="77400" cy="622440"/>
            </a:xfrm>
          </p:grpSpPr>
          <p:sp>
            <p:nvSpPr>
              <p:cNvPr id="1202" name=""/>
              <p:cNvSpPr/>
              <p:nvPr/>
            </p:nvSpPr>
            <p:spPr>
              <a:xfrm flipV="1">
                <a:off x="2463840" y="2210400"/>
                <a:ext cx="39240" cy="622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 flipV="1">
                <a:off x="2501640" y="2210400"/>
                <a:ext cx="39240" cy="622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2541600" y="1803240"/>
              <a:ext cx="77400" cy="407880"/>
              <a:chOff x="2541600" y="1803240"/>
              <a:chExt cx="77400" cy="407880"/>
            </a:xfrm>
          </p:grpSpPr>
          <p:sp>
            <p:nvSpPr>
              <p:cNvPr id="1205" name=""/>
              <p:cNvSpPr/>
              <p:nvPr/>
            </p:nvSpPr>
            <p:spPr>
              <a:xfrm>
                <a:off x="2541600" y="1803240"/>
                <a:ext cx="39240" cy="40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H="1">
                <a:off x="2579400" y="1803240"/>
                <a:ext cx="39240" cy="40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7" name=""/>
            <p:cNvGrpSpPr/>
            <p:nvPr/>
          </p:nvGrpSpPr>
          <p:grpSpPr>
            <a:xfrm>
              <a:off x="2619360" y="2211120"/>
              <a:ext cx="77400" cy="271440"/>
              <a:chOff x="2619360" y="2211120"/>
              <a:chExt cx="77400" cy="271440"/>
            </a:xfrm>
          </p:grpSpPr>
          <p:sp>
            <p:nvSpPr>
              <p:cNvPr id="1208" name=""/>
              <p:cNvSpPr/>
              <p:nvPr/>
            </p:nvSpPr>
            <p:spPr>
              <a:xfrm flipV="1">
                <a:off x="2619360" y="2211120"/>
                <a:ext cx="39240" cy="271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H="1" flipV="1">
                <a:off x="2657160" y="2211120"/>
                <a:ext cx="39240" cy="271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2697120" y="2089080"/>
              <a:ext cx="77400" cy="122040"/>
              <a:chOff x="2697120" y="2089080"/>
              <a:chExt cx="77400" cy="122040"/>
            </a:xfrm>
          </p:grpSpPr>
          <p:sp>
            <p:nvSpPr>
              <p:cNvPr id="1211" name=""/>
              <p:cNvSpPr/>
              <p:nvPr/>
            </p:nvSpPr>
            <p:spPr>
              <a:xfrm>
                <a:off x="2697120" y="2089080"/>
                <a:ext cx="39240" cy="122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2734920" y="2089080"/>
                <a:ext cx="39240" cy="122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2774880" y="2211120"/>
              <a:ext cx="77400" cy="47520"/>
              <a:chOff x="2774880" y="2211120"/>
              <a:chExt cx="77400" cy="47520"/>
            </a:xfrm>
          </p:grpSpPr>
          <p:sp>
            <p:nvSpPr>
              <p:cNvPr id="1214" name=""/>
              <p:cNvSpPr/>
              <p:nvPr/>
            </p:nvSpPr>
            <p:spPr>
              <a:xfrm flipV="1">
                <a:off x="2774880" y="221112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H="1" flipV="1">
                <a:off x="2812680" y="221112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2852640" y="2193840"/>
              <a:ext cx="77400" cy="17280"/>
              <a:chOff x="2852640" y="2193840"/>
              <a:chExt cx="77400" cy="17280"/>
            </a:xfrm>
          </p:grpSpPr>
          <p:sp>
            <p:nvSpPr>
              <p:cNvPr id="1217" name=""/>
              <p:cNvSpPr/>
              <p:nvPr/>
            </p:nvSpPr>
            <p:spPr>
              <a:xfrm>
                <a:off x="2852640" y="2193840"/>
                <a:ext cx="39240" cy="172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H="1">
                <a:off x="2890440" y="2193840"/>
                <a:ext cx="39240" cy="172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4102560" y="1419120"/>
              <a:ext cx="77400" cy="791640"/>
              <a:chOff x="4102560" y="1419120"/>
              <a:chExt cx="77400" cy="791640"/>
            </a:xfrm>
          </p:grpSpPr>
          <p:sp>
            <p:nvSpPr>
              <p:cNvPr id="1220" name=""/>
              <p:cNvSpPr/>
              <p:nvPr/>
            </p:nvSpPr>
            <p:spPr>
              <a:xfrm flipH="1">
                <a:off x="4140360" y="141912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102560" y="141912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2" name=""/>
            <p:cNvGrpSpPr/>
            <p:nvPr/>
          </p:nvGrpSpPr>
          <p:grpSpPr>
            <a:xfrm>
              <a:off x="4024800" y="2211480"/>
              <a:ext cx="77400" cy="974520"/>
              <a:chOff x="4024800" y="2211480"/>
              <a:chExt cx="77400" cy="974520"/>
            </a:xfrm>
          </p:grpSpPr>
          <p:sp>
            <p:nvSpPr>
              <p:cNvPr id="1223" name=""/>
              <p:cNvSpPr/>
              <p:nvPr/>
            </p:nvSpPr>
            <p:spPr>
              <a:xfrm flipH="1" flipV="1">
                <a:off x="4062600" y="221112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flipV="1">
                <a:off x="4024800" y="221112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3947040" y="1080720"/>
              <a:ext cx="77400" cy="1130040"/>
              <a:chOff x="3947040" y="1080720"/>
              <a:chExt cx="77400" cy="1130040"/>
            </a:xfrm>
          </p:grpSpPr>
          <p:sp>
            <p:nvSpPr>
              <p:cNvPr id="1226" name=""/>
              <p:cNvSpPr/>
              <p:nvPr/>
            </p:nvSpPr>
            <p:spPr>
              <a:xfrm flipH="1">
                <a:off x="3984840" y="108072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947040" y="108072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3868560" y="2211120"/>
              <a:ext cx="77760" cy="1288800"/>
              <a:chOff x="3868560" y="2211120"/>
              <a:chExt cx="77760" cy="1288800"/>
            </a:xfrm>
          </p:grpSpPr>
          <p:sp>
            <p:nvSpPr>
              <p:cNvPr id="1229" name=""/>
              <p:cNvSpPr/>
              <p:nvPr/>
            </p:nvSpPr>
            <p:spPr>
              <a:xfrm flipH="1" flipV="1">
                <a:off x="3906720" y="221112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V="1">
                <a:off x="3868560" y="221112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1" name=""/>
            <p:cNvGrpSpPr/>
            <p:nvPr/>
          </p:nvGrpSpPr>
          <p:grpSpPr>
            <a:xfrm>
              <a:off x="3791160" y="876240"/>
              <a:ext cx="77400" cy="1334520"/>
              <a:chOff x="3791160" y="876240"/>
              <a:chExt cx="77400" cy="1334520"/>
            </a:xfrm>
          </p:grpSpPr>
          <p:sp>
            <p:nvSpPr>
              <p:cNvPr id="1232" name=""/>
              <p:cNvSpPr/>
              <p:nvPr/>
            </p:nvSpPr>
            <p:spPr>
              <a:xfrm flipH="1">
                <a:off x="3828960" y="87624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791160" y="87624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3713400" y="2211840"/>
              <a:ext cx="77400" cy="1407600"/>
              <a:chOff x="3713400" y="2211840"/>
              <a:chExt cx="77400" cy="1407600"/>
            </a:xfrm>
          </p:grpSpPr>
          <p:sp>
            <p:nvSpPr>
              <p:cNvPr id="1235" name=""/>
              <p:cNvSpPr/>
              <p:nvPr/>
            </p:nvSpPr>
            <p:spPr>
              <a:xfrm flipH="1" flipV="1">
                <a:off x="3751200" y="2211840"/>
                <a:ext cx="39240" cy="1407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V="1">
                <a:off x="3713400" y="2211840"/>
                <a:ext cx="39240" cy="1407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3635640" y="876240"/>
              <a:ext cx="77400" cy="1334520"/>
              <a:chOff x="3635640" y="876240"/>
              <a:chExt cx="77400" cy="1334520"/>
            </a:xfrm>
          </p:grpSpPr>
          <p:sp>
            <p:nvSpPr>
              <p:cNvPr id="1238" name=""/>
              <p:cNvSpPr/>
              <p:nvPr/>
            </p:nvSpPr>
            <p:spPr>
              <a:xfrm flipH="1">
                <a:off x="3673440" y="87624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635640" y="87624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0" name=""/>
            <p:cNvGrpSpPr/>
            <p:nvPr/>
          </p:nvGrpSpPr>
          <p:grpSpPr>
            <a:xfrm>
              <a:off x="3557880" y="2211120"/>
              <a:ext cx="77400" cy="1288800"/>
              <a:chOff x="3557880" y="2211120"/>
              <a:chExt cx="77400" cy="1288800"/>
            </a:xfrm>
          </p:grpSpPr>
          <p:sp>
            <p:nvSpPr>
              <p:cNvPr id="1241" name=""/>
              <p:cNvSpPr/>
              <p:nvPr/>
            </p:nvSpPr>
            <p:spPr>
              <a:xfrm flipH="1" flipV="1">
                <a:off x="3595680" y="221112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V="1">
                <a:off x="3557880" y="221112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3480120" y="1080720"/>
              <a:ext cx="77400" cy="1130040"/>
              <a:chOff x="3480120" y="1080720"/>
              <a:chExt cx="77400" cy="1130040"/>
            </a:xfrm>
          </p:grpSpPr>
          <p:sp>
            <p:nvSpPr>
              <p:cNvPr id="1244" name=""/>
              <p:cNvSpPr/>
              <p:nvPr/>
            </p:nvSpPr>
            <p:spPr>
              <a:xfrm flipH="1">
                <a:off x="3517920" y="108072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480120" y="108072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3402360" y="2211480"/>
              <a:ext cx="77400" cy="974520"/>
              <a:chOff x="3402360" y="2211480"/>
              <a:chExt cx="77400" cy="974520"/>
            </a:xfrm>
          </p:grpSpPr>
          <p:sp>
            <p:nvSpPr>
              <p:cNvPr id="1247" name=""/>
              <p:cNvSpPr/>
              <p:nvPr/>
            </p:nvSpPr>
            <p:spPr>
              <a:xfrm flipH="1" flipV="1">
                <a:off x="3440160" y="221112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V="1">
                <a:off x="3402360" y="221112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3324600" y="1419120"/>
              <a:ext cx="77400" cy="791640"/>
              <a:chOff x="3324600" y="1419120"/>
              <a:chExt cx="77400" cy="791640"/>
            </a:xfrm>
          </p:grpSpPr>
          <p:sp>
            <p:nvSpPr>
              <p:cNvPr id="1250" name=""/>
              <p:cNvSpPr/>
              <p:nvPr/>
            </p:nvSpPr>
            <p:spPr>
              <a:xfrm flipH="1">
                <a:off x="3362400" y="141912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324600" y="141912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3242160" y="2210760"/>
              <a:ext cx="77400" cy="622440"/>
              <a:chOff x="3242160" y="2210760"/>
              <a:chExt cx="77400" cy="622440"/>
            </a:xfrm>
          </p:grpSpPr>
          <p:sp>
            <p:nvSpPr>
              <p:cNvPr id="1253" name=""/>
              <p:cNvSpPr/>
              <p:nvPr/>
            </p:nvSpPr>
            <p:spPr>
              <a:xfrm flipH="1" flipV="1">
                <a:off x="3279960" y="2210400"/>
                <a:ext cx="39240" cy="622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V="1">
                <a:off x="3242160" y="2210400"/>
                <a:ext cx="39240" cy="622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5" name=""/>
            <p:cNvGrpSpPr/>
            <p:nvPr/>
          </p:nvGrpSpPr>
          <p:grpSpPr>
            <a:xfrm>
              <a:off x="3164400" y="1803240"/>
              <a:ext cx="77400" cy="407880"/>
              <a:chOff x="3164400" y="1803240"/>
              <a:chExt cx="77400" cy="407880"/>
            </a:xfrm>
          </p:grpSpPr>
          <p:sp>
            <p:nvSpPr>
              <p:cNvPr id="1256" name=""/>
              <p:cNvSpPr/>
              <p:nvPr/>
            </p:nvSpPr>
            <p:spPr>
              <a:xfrm flipH="1">
                <a:off x="3202200" y="1803240"/>
                <a:ext cx="39240" cy="40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164400" y="1803240"/>
                <a:ext cx="39240" cy="40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"/>
            <p:cNvGrpSpPr/>
            <p:nvPr/>
          </p:nvGrpSpPr>
          <p:grpSpPr>
            <a:xfrm>
              <a:off x="3086640" y="2211120"/>
              <a:ext cx="77400" cy="271440"/>
              <a:chOff x="3086640" y="2211120"/>
              <a:chExt cx="77400" cy="271440"/>
            </a:xfrm>
          </p:grpSpPr>
          <p:sp>
            <p:nvSpPr>
              <p:cNvPr id="1259" name=""/>
              <p:cNvSpPr/>
              <p:nvPr/>
            </p:nvSpPr>
            <p:spPr>
              <a:xfrm flipH="1" flipV="1">
                <a:off x="3124440" y="2211120"/>
                <a:ext cx="39240" cy="271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3086640" y="2211120"/>
                <a:ext cx="39240" cy="271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1" name=""/>
            <p:cNvGrpSpPr/>
            <p:nvPr/>
          </p:nvGrpSpPr>
          <p:grpSpPr>
            <a:xfrm>
              <a:off x="3008160" y="2089080"/>
              <a:ext cx="77760" cy="122040"/>
              <a:chOff x="3008160" y="2089080"/>
              <a:chExt cx="77760" cy="122040"/>
            </a:xfrm>
          </p:grpSpPr>
          <p:sp>
            <p:nvSpPr>
              <p:cNvPr id="1262" name=""/>
              <p:cNvSpPr/>
              <p:nvPr/>
            </p:nvSpPr>
            <p:spPr>
              <a:xfrm flipH="1">
                <a:off x="3046320" y="2089080"/>
                <a:ext cx="39240" cy="122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3008160" y="2089080"/>
                <a:ext cx="39240" cy="122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2930760" y="2211120"/>
              <a:ext cx="77400" cy="47520"/>
              <a:chOff x="2930760" y="2211120"/>
              <a:chExt cx="77400" cy="47520"/>
            </a:xfrm>
          </p:grpSpPr>
          <p:sp>
            <p:nvSpPr>
              <p:cNvPr id="1265" name=""/>
              <p:cNvSpPr/>
              <p:nvPr/>
            </p:nvSpPr>
            <p:spPr>
              <a:xfrm flipH="1" flipV="1">
                <a:off x="2968560" y="221112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2930760" y="221112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7" name=""/>
            <p:cNvSpPr/>
            <p:nvPr/>
          </p:nvSpPr>
          <p:spPr>
            <a:xfrm flipV="1">
              <a:off x="4179960" y="2210400"/>
              <a:ext cx="39600" cy="622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 flipV="1">
              <a:off x="4218120" y="2210400"/>
              <a:ext cx="39600" cy="622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257720" y="1803240"/>
              <a:ext cx="39600" cy="40788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4295880" y="1803240"/>
              <a:ext cx="39600" cy="40788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V="1">
              <a:off x="4335480" y="2211120"/>
              <a:ext cx="39600" cy="271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 flipV="1">
              <a:off x="4373640" y="2211120"/>
              <a:ext cx="39600" cy="271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413240" y="2089080"/>
              <a:ext cx="39600" cy="1220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4451400" y="2089080"/>
              <a:ext cx="39600" cy="1220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4491000" y="2211120"/>
              <a:ext cx="39600" cy="4752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 flipV="1">
              <a:off x="4529160" y="2211120"/>
              <a:ext cx="39600" cy="4752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7" name=""/>
            <p:cNvGrpSpPr/>
            <p:nvPr/>
          </p:nvGrpSpPr>
          <p:grpSpPr>
            <a:xfrm>
              <a:off x="5826600" y="1419120"/>
              <a:ext cx="77400" cy="791640"/>
              <a:chOff x="5826600" y="1419120"/>
              <a:chExt cx="77400" cy="791640"/>
            </a:xfrm>
          </p:grpSpPr>
          <p:sp>
            <p:nvSpPr>
              <p:cNvPr id="1278" name=""/>
              <p:cNvSpPr/>
              <p:nvPr/>
            </p:nvSpPr>
            <p:spPr>
              <a:xfrm flipH="1">
                <a:off x="5864400" y="141912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826600" y="141912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"/>
            <p:cNvGrpSpPr/>
            <p:nvPr/>
          </p:nvGrpSpPr>
          <p:grpSpPr>
            <a:xfrm>
              <a:off x="5748840" y="2211480"/>
              <a:ext cx="77400" cy="974520"/>
              <a:chOff x="5748840" y="2211480"/>
              <a:chExt cx="77400" cy="974520"/>
            </a:xfrm>
          </p:grpSpPr>
          <p:sp>
            <p:nvSpPr>
              <p:cNvPr id="1281" name=""/>
              <p:cNvSpPr/>
              <p:nvPr/>
            </p:nvSpPr>
            <p:spPr>
              <a:xfrm flipH="1" flipV="1">
                <a:off x="5786640" y="221112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V="1">
                <a:off x="5748840" y="221112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3" name=""/>
            <p:cNvGrpSpPr/>
            <p:nvPr/>
          </p:nvGrpSpPr>
          <p:grpSpPr>
            <a:xfrm>
              <a:off x="5671080" y="1080720"/>
              <a:ext cx="77400" cy="1130040"/>
              <a:chOff x="5671080" y="1080720"/>
              <a:chExt cx="77400" cy="1130040"/>
            </a:xfrm>
          </p:grpSpPr>
          <p:sp>
            <p:nvSpPr>
              <p:cNvPr id="1284" name=""/>
              <p:cNvSpPr/>
              <p:nvPr/>
            </p:nvSpPr>
            <p:spPr>
              <a:xfrm flipH="1">
                <a:off x="5708880" y="108072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671080" y="108072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6" name=""/>
            <p:cNvGrpSpPr/>
            <p:nvPr/>
          </p:nvGrpSpPr>
          <p:grpSpPr>
            <a:xfrm>
              <a:off x="5592600" y="2211120"/>
              <a:ext cx="77760" cy="1288800"/>
              <a:chOff x="5592600" y="2211120"/>
              <a:chExt cx="77760" cy="1288800"/>
            </a:xfrm>
          </p:grpSpPr>
          <p:sp>
            <p:nvSpPr>
              <p:cNvPr id="1287" name=""/>
              <p:cNvSpPr/>
              <p:nvPr/>
            </p:nvSpPr>
            <p:spPr>
              <a:xfrm flipH="1" flipV="1">
                <a:off x="5630760" y="221112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V="1">
                <a:off x="5592600" y="221112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9" name=""/>
            <p:cNvGrpSpPr/>
            <p:nvPr/>
          </p:nvGrpSpPr>
          <p:grpSpPr>
            <a:xfrm>
              <a:off x="5515200" y="876240"/>
              <a:ext cx="77400" cy="1334520"/>
              <a:chOff x="5515200" y="876240"/>
              <a:chExt cx="77400" cy="1334520"/>
            </a:xfrm>
          </p:grpSpPr>
          <p:sp>
            <p:nvSpPr>
              <p:cNvPr id="1290" name=""/>
              <p:cNvSpPr/>
              <p:nvPr/>
            </p:nvSpPr>
            <p:spPr>
              <a:xfrm flipH="1">
                <a:off x="5553000" y="87624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515200" y="87624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2" name=""/>
            <p:cNvGrpSpPr/>
            <p:nvPr/>
          </p:nvGrpSpPr>
          <p:grpSpPr>
            <a:xfrm>
              <a:off x="5437440" y="2211840"/>
              <a:ext cx="77400" cy="1407600"/>
              <a:chOff x="5437440" y="2211840"/>
              <a:chExt cx="77400" cy="1407600"/>
            </a:xfrm>
          </p:grpSpPr>
          <p:sp>
            <p:nvSpPr>
              <p:cNvPr id="1293" name=""/>
              <p:cNvSpPr/>
              <p:nvPr/>
            </p:nvSpPr>
            <p:spPr>
              <a:xfrm flipH="1" flipV="1">
                <a:off x="5475240" y="2211840"/>
                <a:ext cx="39240" cy="1407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V="1">
                <a:off x="5437440" y="2211840"/>
                <a:ext cx="39240" cy="1407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5" name=""/>
            <p:cNvGrpSpPr/>
            <p:nvPr/>
          </p:nvGrpSpPr>
          <p:grpSpPr>
            <a:xfrm>
              <a:off x="5359680" y="876240"/>
              <a:ext cx="77400" cy="1334520"/>
              <a:chOff x="5359680" y="876240"/>
              <a:chExt cx="77400" cy="1334520"/>
            </a:xfrm>
          </p:grpSpPr>
          <p:sp>
            <p:nvSpPr>
              <p:cNvPr id="1296" name=""/>
              <p:cNvSpPr/>
              <p:nvPr/>
            </p:nvSpPr>
            <p:spPr>
              <a:xfrm flipH="1">
                <a:off x="5397480" y="87624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359680" y="87624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8" name=""/>
            <p:cNvGrpSpPr/>
            <p:nvPr/>
          </p:nvGrpSpPr>
          <p:grpSpPr>
            <a:xfrm>
              <a:off x="5281920" y="2211120"/>
              <a:ext cx="77400" cy="1288800"/>
              <a:chOff x="5281920" y="2211120"/>
              <a:chExt cx="77400" cy="1288800"/>
            </a:xfrm>
          </p:grpSpPr>
          <p:sp>
            <p:nvSpPr>
              <p:cNvPr id="1299" name=""/>
              <p:cNvSpPr/>
              <p:nvPr/>
            </p:nvSpPr>
            <p:spPr>
              <a:xfrm flipH="1" flipV="1">
                <a:off x="5319720" y="221112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V="1">
                <a:off x="5281920" y="221112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1" name=""/>
            <p:cNvGrpSpPr/>
            <p:nvPr/>
          </p:nvGrpSpPr>
          <p:grpSpPr>
            <a:xfrm>
              <a:off x="5204160" y="1080720"/>
              <a:ext cx="77400" cy="1130040"/>
              <a:chOff x="5204160" y="1080720"/>
              <a:chExt cx="77400" cy="1130040"/>
            </a:xfrm>
          </p:grpSpPr>
          <p:sp>
            <p:nvSpPr>
              <p:cNvPr id="1302" name=""/>
              <p:cNvSpPr/>
              <p:nvPr/>
            </p:nvSpPr>
            <p:spPr>
              <a:xfrm flipH="1">
                <a:off x="5241960" y="108072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204160" y="108072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5126400" y="2211480"/>
              <a:ext cx="77400" cy="974520"/>
              <a:chOff x="5126400" y="2211480"/>
              <a:chExt cx="77400" cy="974520"/>
            </a:xfrm>
          </p:grpSpPr>
          <p:sp>
            <p:nvSpPr>
              <p:cNvPr id="1305" name=""/>
              <p:cNvSpPr/>
              <p:nvPr/>
            </p:nvSpPr>
            <p:spPr>
              <a:xfrm flipH="1" flipV="1">
                <a:off x="5164200" y="221112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V="1">
                <a:off x="5126400" y="221112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5048640" y="1419120"/>
              <a:ext cx="77400" cy="791640"/>
              <a:chOff x="5048640" y="1419120"/>
              <a:chExt cx="77400" cy="791640"/>
            </a:xfrm>
          </p:grpSpPr>
          <p:sp>
            <p:nvSpPr>
              <p:cNvPr id="1308" name=""/>
              <p:cNvSpPr/>
              <p:nvPr/>
            </p:nvSpPr>
            <p:spPr>
              <a:xfrm flipH="1">
                <a:off x="5086440" y="141912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048640" y="141912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0" name=""/>
            <p:cNvGrpSpPr/>
            <p:nvPr/>
          </p:nvGrpSpPr>
          <p:grpSpPr>
            <a:xfrm>
              <a:off x="4966200" y="2210760"/>
              <a:ext cx="77400" cy="622440"/>
              <a:chOff x="4966200" y="2210760"/>
              <a:chExt cx="77400" cy="622440"/>
            </a:xfrm>
          </p:grpSpPr>
          <p:sp>
            <p:nvSpPr>
              <p:cNvPr id="1311" name=""/>
              <p:cNvSpPr/>
              <p:nvPr/>
            </p:nvSpPr>
            <p:spPr>
              <a:xfrm flipH="1" flipV="1">
                <a:off x="5004000" y="2210400"/>
                <a:ext cx="39240" cy="622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V="1">
                <a:off x="4966200" y="2210400"/>
                <a:ext cx="39240" cy="622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3" name=""/>
            <p:cNvGrpSpPr/>
            <p:nvPr/>
          </p:nvGrpSpPr>
          <p:grpSpPr>
            <a:xfrm>
              <a:off x="4888440" y="1803240"/>
              <a:ext cx="77400" cy="407880"/>
              <a:chOff x="4888440" y="1803240"/>
              <a:chExt cx="77400" cy="407880"/>
            </a:xfrm>
          </p:grpSpPr>
          <p:sp>
            <p:nvSpPr>
              <p:cNvPr id="1314" name=""/>
              <p:cNvSpPr/>
              <p:nvPr/>
            </p:nvSpPr>
            <p:spPr>
              <a:xfrm flipH="1">
                <a:off x="4926240" y="1803240"/>
                <a:ext cx="39240" cy="40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4888440" y="1803240"/>
                <a:ext cx="39240" cy="40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"/>
            <p:cNvGrpSpPr/>
            <p:nvPr/>
          </p:nvGrpSpPr>
          <p:grpSpPr>
            <a:xfrm>
              <a:off x="4809960" y="2211120"/>
              <a:ext cx="77760" cy="271440"/>
              <a:chOff x="4809960" y="2211120"/>
              <a:chExt cx="77760" cy="271440"/>
            </a:xfrm>
          </p:grpSpPr>
          <p:sp>
            <p:nvSpPr>
              <p:cNvPr id="1317" name=""/>
              <p:cNvSpPr/>
              <p:nvPr/>
            </p:nvSpPr>
            <p:spPr>
              <a:xfrm flipH="1" flipV="1">
                <a:off x="4848120" y="2211120"/>
                <a:ext cx="39240" cy="271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V="1">
                <a:off x="4809960" y="2211120"/>
                <a:ext cx="39240" cy="271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"/>
            <p:cNvGrpSpPr/>
            <p:nvPr/>
          </p:nvGrpSpPr>
          <p:grpSpPr>
            <a:xfrm>
              <a:off x="4732560" y="2089080"/>
              <a:ext cx="77400" cy="122040"/>
              <a:chOff x="4732560" y="2089080"/>
              <a:chExt cx="77400" cy="122040"/>
            </a:xfrm>
          </p:grpSpPr>
          <p:sp>
            <p:nvSpPr>
              <p:cNvPr id="1320" name=""/>
              <p:cNvSpPr/>
              <p:nvPr/>
            </p:nvSpPr>
            <p:spPr>
              <a:xfrm flipH="1">
                <a:off x="4770360" y="2089080"/>
                <a:ext cx="39240" cy="122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732560" y="2089080"/>
                <a:ext cx="39240" cy="122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2" name=""/>
            <p:cNvGrpSpPr/>
            <p:nvPr/>
          </p:nvGrpSpPr>
          <p:grpSpPr>
            <a:xfrm>
              <a:off x="4654800" y="2211120"/>
              <a:ext cx="77400" cy="47520"/>
              <a:chOff x="4654800" y="2211120"/>
              <a:chExt cx="77400" cy="47520"/>
            </a:xfrm>
          </p:grpSpPr>
          <p:sp>
            <p:nvSpPr>
              <p:cNvPr id="1323" name=""/>
              <p:cNvSpPr/>
              <p:nvPr/>
            </p:nvSpPr>
            <p:spPr>
              <a:xfrm flipH="1" flipV="1">
                <a:off x="4692600" y="221112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V="1">
                <a:off x="4654800" y="221112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5" name=""/>
            <p:cNvSpPr/>
            <p:nvPr/>
          </p:nvSpPr>
          <p:spPr>
            <a:xfrm flipV="1">
              <a:off x="5904000" y="2210400"/>
              <a:ext cx="39600" cy="622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 flipV="1">
              <a:off x="5942160" y="2210400"/>
              <a:ext cx="39600" cy="622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981760" y="1803240"/>
              <a:ext cx="39600" cy="40788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>
              <a:off x="6019920" y="1803240"/>
              <a:ext cx="39600" cy="40788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V="1">
              <a:off x="6059520" y="2211120"/>
              <a:ext cx="39600" cy="271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 flipV="1">
              <a:off x="6097680" y="2211120"/>
              <a:ext cx="39600" cy="271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137280" y="2089080"/>
              <a:ext cx="39600" cy="1220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6175440" y="2089080"/>
              <a:ext cx="39600" cy="1220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6215040" y="2211120"/>
              <a:ext cx="39600" cy="4752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 flipV="1">
              <a:off x="6253200" y="2211120"/>
              <a:ext cx="39600" cy="4752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4568760" y="2193840"/>
              <a:ext cx="77400" cy="17280"/>
              <a:chOff x="4568760" y="2193840"/>
              <a:chExt cx="77400" cy="17280"/>
            </a:xfrm>
          </p:grpSpPr>
          <p:sp>
            <p:nvSpPr>
              <p:cNvPr id="1336" name=""/>
              <p:cNvSpPr/>
              <p:nvPr/>
            </p:nvSpPr>
            <p:spPr>
              <a:xfrm>
                <a:off x="4568760" y="2193840"/>
                <a:ext cx="39240" cy="172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4606560" y="2193840"/>
                <a:ext cx="39240" cy="172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"/>
            <p:cNvGrpSpPr/>
            <p:nvPr/>
          </p:nvGrpSpPr>
          <p:grpSpPr>
            <a:xfrm>
              <a:off x="6690240" y="2210760"/>
              <a:ext cx="77400" cy="622440"/>
              <a:chOff x="6690240" y="2210760"/>
              <a:chExt cx="77400" cy="622440"/>
            </a:xfrm>
          </p:grpSpPr>
          <p:sp>
            <p:nvSpPr>
              <p:cNvPr id="1339" name=""/>
              <p:cNvSpPr/>
              <p:nvPr/>
            </p:nvSpPr>
            <p:spPr>
              <a:xfrm flipH="1" flipV="1">
                <a:off x="6728040" y="2210400"/>
                <a:ext cx="39240" cy="622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V="1">
                <a:off x="6690240" y="2210400"/>
                <a:ext cx="39240" cy="622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"/>
            <p:cNvGrpSpPr/>
            <p:nvPr/>
          </p:nvGrpSpPr>
          <p:grpSpPr>
            <a:xfrm>
              <a:off x="6611760" y="1803240"/>
              <a:ext cx="77760" cy="407880"/>
              <a:chOff x="6611760" y="1803240"/>
              <a:chExt cx="77760" cy="407880"/>
            </a:xfrm>
          </p:grpSpPr>
          <p:sp>
            <p:nvSpPr>
              <p:cNvPr id="1342" name=""/>
              <p:cNvSpPr/>
              <p:nvPr/>
            </p:nvSpPr>
            <p:spPr>
              <a:xfrm flipH="1">
                <a:off x="6649920" y="1803240"/>
                <a:ext cx="39240" cy="40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611760" y="1803240"/>
                <a:ext cx="39240" cy="40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6534360" y="2211120"/>
              <a:ext cx="77400" cy="271440"/>
              <a:chOff x="6534360" y="2211120"/>
              <a:chExt cx="77400" cy="271440"/>
            </a:xfrm>
          </p:grpSpPr>
          <p:sp>
            <p:nvSpPr>
              <p:cNvPr id="1345" name=""/>
              <p:cNvSpPr/>
              <p:nvPr/>
            </p:nvSpPr>
            <p:spPr>
              <a:xfrm flipH="1" flipV="1">
                <a:off x="6572160" y="2211120"/>
                <a:ext cx="39240" cy="271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V="1">
                <a:off x="6534360" y="2211120"/>
                <a:ext cx="39240" cy="271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"/>
            <p:cNvGrpSpPr/>
            <p:nvPr/>
          </p:nvGrpSpPr>
          <p:grpSpPr>
            <a:xfrm>
              <a:off x="6456600" y="2089080"/>
              <a:ext cx="77400" cy="122040"/>
              <a:chOff x="6456600" y="2089080"/>
              <a:chExt cx="77400" cy="122040"/>
            </a:xfrm>
          </p:grpSpPr>
          <p:sp>
            <p:nvSpPr>
              <p:cNvPr id="1348" name=""/>
              <p:cNvSpPr/>
              <p:nvPr/>
            </p:nvSpPr>
            <p:spPr>
              <a:xfrm flipH="1">
                <a:off x="6494400" y="2089080"/>
                <a:ext cx="39240" cy="122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456600" y="2089080"/>
                <a:ext cx="39240" cy="122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"/>
            <p:cNvGrpSpPr/>
            <p:nvPr/>
          </p:nvGrpSpPr>
          <p:grpSpPr>
            <a:xfrm>
              <a:off x="6378840" y="2211120"/>
              <a:ext cx="77400" cy="47520"/>
              <a:chOff x="6378840" y="2211120"/>
              <a:chExt cx="77400" cy="47520"/>
            </a:xfrm>
          </p:grpSpPr>
          <p:sp>
            <p:nvSpPr>
              <p:cNvPr id="1351" name=""/>
              <p:cNvSpPr/>
              <p:nvPr/>
            </p:nvSpPr>
            <p:spPr>
              <a:xfrm flipH="1" flipV="1">
                <a:off x="6416640" y="221112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V="1">
                <a:off x="6378840" y="221112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3" name=""/>
            <p:cNvGrpSpPr/>
            <p:nvPr/>
          </p:nvGrpSpPr>
          <p:grpSpPr>
            <a:xfrm>
              <a:off x="6292800" y="2193840"/>
              <a:ext cx="77400" cy="17280"/>
              <a:chOff x="6292800" y="2193840"/>
              <a:chExt cx="77400" cy="17280"/>
            </a:xfrm>
          </p:grpSpPr>
          <p:sp>
            <p:nvSpPr>
              <p:cNvPr id="1354" name=""/>
              <p:cNvSpPr/>
              <p:nvPr/>
            </p:nvSpPr>
            <p:spPr>
              <a:xfrm>
                <a:off x="6292800" y="2193840"/>
                <a:ext cx="39240" cy="172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H="1">
                <a:off x="6330600" y="2193840"/>
                <a:ext cx="39240" cy="172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6" name=""/>
          <p:cNvSpPr/>
          <p:nvPr/>
        </p:nvSpPr>
        <p:spPr>
          <a:xfrm>
            <a:off x="1469880" y="2212920"/>
            <a:ext cx="5954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1595520" y="671040"/>
            <a:ext cx="0" cy="293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7458120" y="5110920"/>
            <a:ext cx="3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1087560" y="3656880"/>
            <a:ext cx="11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p</a:t>
            </a:r>
            <a:r>
              <a:rPr b="1" lang="es-ES_tradnl" sz="2800" spc="-1" strike="noStrike" baseline="30000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t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469880" y="5418000"/>
            <a:ext cx="5954760" cy="1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1595520" y="4209840"/>
            <a:ext cx="0" cy="226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1606680" y="822240"/>
            <a:ext cx="5140800" cy="2787120"/>
            <a:chOff x="1606680" y="822240"/>
            <a:chExt cx="5140800" cy="2787120"/>
          </a:xfrm>
        </p:grpSpPr>
        <p:grpSp>
          <p:nvGrpSpPr>
            <p:cNvPr id="1363" name=""/>
            <p:cNvGrpSpPr/>
            <p:nvPr/>
          </p:nvGrpSpPr>
          <p:grpSpPr>
            <a:xfrm>
              <a:off x="1606680" y="822240"/>
              <a:ext cx="5140800" cy="1374480"/>
              <a:chOff x="1606680" y="822240"/>
              <a:chExt cx="5140800" cy="1374480"/>
            </a:xfrm>
          </p:grpSpPr>
          <p:grpSp>
            <p:nvGrpSpPr>
              <p:cNvPr id="1364" name=""/>
              <p:cNvGrpSpPr/>
              <p:nvPr/>
            </p:nvGrpSpPr>
            <p:grpSpPr>
              <a:xfrm>
                <a:off x="1606680" y="822240"/>
                <a:ext cx="3428640" cy="1374480"/>
                <a:chOff x="1606680" y="822240"/>
                <a:chExt cx="3428640" cy="1374480"/>
              </a:xfrm>
            </p:grpSpPr>
            <p:grpSp>
              <p:nvGrpSpPr>
                <p:cNvPr id="1365" name=""/>
                <p:cNvGrpSpPr/>
                <p:nvPr/>
              </p:nvGrpSpPr>
              <p:grpSpPr>
                <a:xfrm>
                  <a:off x="1606680" y="822240"/>
                  <a:ext cx="1712880" cy="1374480"/>
                  <a:chOff x="1606680" y="822240"/>
                  <a:chExt cx="1712880" cy="1374480"/>
                </a:xfrm>
              </p:grpSpPr>
              <p:grpSp>
                <p:nvGrpSpPr>
                  <p:cNvPr id="1366" name=""/>
                  <p:cNvGrpSpPr/>
                  <p:nvPr/>
                </p:nvGrpSpPr>
                <p:grpSpPr>
                  <a:xfrm>
                    <a:off x="1606680" y="822240"/>
                    <a:ext cx="855360" cy="687240"/>
                    <a:chOff x="1606680" y="822240"/>
                    <a:chExt cx="855360" cy="687240"/>
                  </a:xfrm>
                </p:grpSpPr>
                <p:sp>
                  <p:nvSpPr>
                    <p:cNvPr id="1367" name=""/>
                    <p:cNvSpPr/>
                    <p:nvPr/>
                  </p:nvSpPr>
                  <p:spPr>
                    <a:xfrm>
                      <a:off x="1606680" y="82224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19981"/>
                          </a:moveTo>
                          <a:lnTo>
                            <a:pt x="1042" y="18390"/>
                          </a:lnTo>
                          <a:lnTo>
                            <a:pt x="1958" y="16873"/>
                          </a:lnTo>
                          <a:lnTo>
                            <a:pt x="3000" y="15356"/>
                          </a:lnTo>
                          <a:lnTo>
                            <a:pt x="3958" y="13747"/>
                          </a:lnTo>
                          <a:lnTo>
                            <a:pt x="5042" y="12340"/>
                          </a:lnTo>
                          <a:lnTo>
                            <a:pt x="5958" y="10953"/>
                          </a:lnTo>
                          <a:lnTo>
                            <a:pt x="7000" y="9584"/>
                          </a:lnTo>
                          <a:lnTo>
                            <a:pt x="7958" y="8252"/>
                          </a:lnTo>
                          <a:lnTo>
                            <a:pt x="9000" y="7012"/>
                          </a:lnTo>
                          <a:lnTo>
                            <a:pt x="10042" y="5920"/>
                          </a:lnTo>
                          <a:lnTo>
                            <a:pt x="11000" y="4847"/>
                          </a:lnTo>
                          <a:lnTo>
                            <a:pt x="12000" y="3793"/>
                          </a:lnTo>
                          <a:lnTo>
                            <a:pt x="12958" y="3016"/>
                          </a:lnTo>
                          <a:lnTo>
                            <a:pt x="14042" y="2239"/>
                          </a:lnTo>
                          <a:lnTo>
                            <a:pt x="14958" y="1536"/>
                          </a:lnTo>
                          <a:lnTo>
                            <a:pt x="16000" y="962"/>
                          </a:lnTo>
                          <a:lnTo>
                            <a:pt x="16958" y="592"/>
                          </a:lnTo>
                          <a:lnTo>
                            <a:pt x="18042" y="222"/>
                          </a:lnTo>
                          <a:lnTo>
                            <a:pt x="18917" y="37"/>
                          </a:lnTo>
                          <a:lnTo>
                            <a:pt x="1995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8" name=""/>
                    <p:cNvSpPr/>
                    <p:nvPr/>
                  </p:nvSpPr>
                  <p:spPr>
                    <a:xfrm>
                      <a:off x="2034360" y="82224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19981"/>
                          </a:moveTo>
                          <a:lnTo>
                            <a:pt x="18958" y="18390"/>
                          </a:lnTo>
                          <a:lnTo>
                            <a:pt x="18042" y="16873"/>
                          </a:lnTo>
                          <a:lnTo>
                            <a:pt x="17000" y="15356"/>
                          </a:lnTo>
                          <a:lnTo>
                            <a:pt x="16042" y="13747"/>
                          </a:lnTo>
                          <a:lnTo>
                            <a:pt x="14958" y="12340"/>
                          </a:lnTo>
                          <a:lnTo>
                            <a:pt x="14042" y="10953"/>
                          </a:lnTo>
                          <a:lnTo>
                            <a:pt x="12958" y="9584"/>
                          </a:lnTo>
                          <a:lnTo>
                            <a:pt x="12000" y="8252"/>
                          </a:lnTo>
                          <a:lnTo>
                            <a:pt x="11000" y="7012"/>
                          </a:lnTo>
                          <a:lnTo>
                            <a:pt x="10042" y="5920"/>
                          </a:lnTo>
                          <a:lnTo>
                            <a:pt x="9000" y="4847"/>
                          </a:lnTo>
                          <a:lnTo>
                            <a:pt x="8000" y="3793"/>
                          </a:lnTo>
                          <a:lnTo>
                            <a:pt x="7000" y="3016"/>
                          </a:lnTo>
                          <a:lnTo>
                            <a:pt x="6042" y="2239"/>
                          </a:lnTo>
                          <a:lnTo>
                            <a:pt x="5042" y="1536"/>
                          </a:lnTo>
                          <a:lnTo>
                            <a:pt x="4000" y="962"/>
                          </a:lnTo>
                          <a:lnTo>
                            <a:pt x="3000" y="592"/>
                          </a:lnTo>
                          <a:lnTo>
                            <a:pt x="2042" y="222"/>
                          </a:lnTo>
                          <a:lnTo>
                            <a:pt x="1042" y="3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9" name=""/>
                  <p:cNvGrpSpPr/>
                  <p:nvPr/>
                </p:nvGrpSpPr>
                <p:grpSpPr>
                  <a:xfrm>
                    <a:off x="2464200" y="1509480"/>
                    <a:ext cx="855360" cy="687240"/>
                    <a:chOff x="2464200" y="1509480"/>
                    <a:chExt cx="855360" cy="687240"/>
                  </a:xfrm>
                </p:grpSpPr>
                <p:sp>
                  <p:nvSpPr>
                    <p:cNvPr id="1370" name=""/>
                    <p:cNvSpPr/>
                    <p:nvPr/>
                  </p:nvSpPr>
                  <p:spPr>
                    <a:xfrm>
                      <a:off x="2464200" y="150948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0"/>
                          </a:moveTo>
                          <a:lnTo>
                            <a:pt x="1042" y="1591"/>
                          </a:lnTo>
                          <a:lnTo>
                            <a:pt x="1958" y="3108"/>
                          </a:lnTo>
                          <a:lnTo>
                            <a:pt x="3000" y="4625"/>
                          </a:lnTo>
                          <a:lnTo>
                            <a:pt x="3958" y="6253"/>
                          </a:lnTo>
                          <a:lnTo>
                            <a:pt x="5042" y="7660"/>
                          </a:lnTo>
                          <a:lnTo>
                            <a:pt x="5958" y="9029"/>
                          </a:lnTo>
                          <a:lnTo>
                            <a:pt x="7000" y="10416"/>
                          </a:lnTo>
                          <a:lnTo>
                            <a:pt x="7958" y="11730"/>
                          </a:lnTo>
                          <a:lnTo>
                            <a:pt x="9000" y="12969"/>
                          </a:lnTo>
                          <a:lnTo>
                            <a:pt x="10042" y="14080"/>
                          </a:lnTo>
                          <a:lnTo>
                            <a:pt x="11000" y="15134"/>
                          </a:lnTo>
                          <a:lnTo>
                            <a:pt x="12000" y="16189"/>
                          </a:lnTo>
                          <a:lnTo>
                            <a:pt x="12958" y="16984"/>
                          </a:lnTo>
                          <a:lnTo>
                            <a:pt x="14042" y="17743"/>
                          </a:lnTo>
                          <a:lnTo>
                            <a:pt x="14958" y="18464"/>
                          </a:lnTo>
                          <a:lnTo>
                            <a:pt x="16000" y="19019"/>
                          </a:lnTo>
                          <a:lnTo>
                            <a:pt x="16958" y="19408"/>
                          </a:lnTo>
                          <a:lnTo>
                            <a:pt x="18042" y="19759"/>
                          </a:lnTo>
                          <a:lnTo>
                            <a:pt x="18917" y="19944"/>
                          </a:lnTo>
                          <a:lnTo>
                            <a:pt x="19958" y="1998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1" name=""/>
                    <p:cNvSpPr/>
                    <p:nvPr/>
                  </p:nvSpPr>
                  <p:spPr>
                    <a:xfrm>
                      <a:off x="2891880" y="150948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0"/>
                          </a:moveTo>
                          <a:lnTo>
                            <a:pt x="18958" y="1591"/>
                          </a:lnTo>
                          <a:lnTo>
                            <a:pt x="18042" y="3108"/>
                          </a:lnTo>
                          <a:lnTo>
                            <a:pt x="17000" y="4625"/>
                          </a:lnTo>
                          <a:lnTo>
                            <a:pt x="16042" y="6253"/>
                          </a:lnTo>
                          <a:lnTo>
                            <a:pt x="14958" y="7660"/>
                          </a:lnTo>
                          <a:lnTo>
                            <a:pt x="14042" y="9029"/>
                          </a:lnTo>
                          <a:lnTo>
                            <a:pt x="12958" y="10416"/>
                          </a:lnTo>
                          <a:lnTo>
                            <a:pt x="12000" y="11730"/>
                          </a:lnTo>
                          <a:lnTo>
                            <a:pt x="11000" y="12969"/>
                          </a:lnTo>
                          <a:lnTo>
                            <a:pt x="10042" y="14080"/>
                          </a:lnTo>
                          <a:lnTo>
                            <a:pt x="9000" y="15134"/>
                          </a:lnTo>
                          <a:lnTo>
                            <a:pt x="8000" y="16189"/>
                          </a:lnTo>
                          <a:lnTo>
                            <a:pt x="7000" y="16984"/>
                          </a:lnTo>
                          <a:lnTo>
                            <a:pt x="6042" y="17743"/>
                          </a:lnTo>
                          <a:lnTo>
                            <a:pt x="5042" y="18464"/>
                          </a:lnTo>
                          <a:lnTo>
                            <a:pt x="4000" y="19019"/>
                          </a:lnTo>
                          <a:lnTo>
                            <a:pt x="3000" y="19408"/>
                          </a:lnTo>
                          <a:lnTo>
                            <a:pt x="2042" y="19759"/>
                          </a:lnTo>
                          <a:lnTo>
                            <a:pt x="1042" y="19944"/>
                          </a:lnTo>
                          <a:lnTo>
                            <a:pt x="0" y="1998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72" name=""/>
                <p:cNvGrpSpPr/>
                <p:nvPr/>
              </p:nvGrpSpPr>
              <p:grpSpPr>
                <a:xfrm>
                  <a:off x="3320280" y="822240"/>
                  <a:ext cx="1715040" cy="1374480"/>
                  <a:chOff x="3320280" y="822240"/>
                  <a:chExt cx="1715040" cy="1374480"/>
                </a:xfrm>
              </p:grpSpPr>
              <p:grpSp>
                <p:nvGrpSpPr>
                  <p:cNvPr id="1373" name=""/>
                  <p:cNvGrpSpPr/>
                  <p:nvPr/>
                </p:nvGrpSpPr>
                <p:grpSpPr>
                  <a:xfrm>
                    <a:off x="3320280" y="822240"/>
                    <a:ext cx="855720" cy="687240"/>
                    <a:chOff x="3320280" y="822240"/>
                    <a:chExt cx="855720" cy="687240"/>
                  </a:xfrm>
                </p:grpSpPr>
                <p:sp>
                  <p:nvSpPr>
                    <p:cNvPr id="1374" name=""/>
                    <p:cNvSpPr/>
                    <p:nvPr/>
                  </p:nvSpPr>
                  <p:spPr>
                    <a:xfrm>
                      <a:off x="3320280" y="822240"/>
                      <a:ext cx="42804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19981"/>
                          </a:moveTo>
                          <a:lnTo>
                            <a:pt x="1042" y="18390"/>
                          </a:lnTo>
                          <a:lnTo>
                            <a:pt x="1958" y="16873"/>
                          </a:lnTo>
                          <a:lnTo>
                            <a:pt x="3000" y="15356"/>
                          </a:lnTo>
                          <a:lnTo>
                            <a:pt x="3958" y="13747"/>
                          </a:lnTo>
                          <a:lnTo>
                            <a:pt x="5042" y="12340"/>
                          </a:lnTo>
                          <a:lnTo>
                            <a:pt x="5958" y="10953"/>
                          </a:lnTo>
                          <a:lnTo>
                            <a:pt x="7000" y="9584"/>
                          </a:lnTo>
                          <a:lnTo>
                            <a:pt x="7958" y="8252"/>
                          </a:lnTo>
                          <a:lnTo>
                            <a:pt x="9000" y="7012"/>
                          </a:lnTo>
                          <a:lnTo>
                            <a:pt x="10042" y="5920"/>
                          </a:lnTo>
                          <a:lnTo>
                            <a:pt x="11000" y="4847"/>
                          </a:lnTo>
                          <a:lnTo>
                            <a:pt x="12000" y="3793"/>
                          </a:lnTo>
                          <a:lnTo>
                            <a:pt x="12958" y="3016"/>
                          </a:lnTo>
                          <a:lnTo>
                            <a:pt x="14042" y="2239"/>
                          </a:lnTo>
                          <a:lnTo>
                            <a:pt x="14958" y="1536"/>
                          </a:lnTo>
                          <a:lnTo>
                            <a:pt x="16000" y="962"/>
                          </a:lnTo>
                          <a:lnTo>
                            <a:pt x="16958" y="592"/>
                          </a:lnTo>
                          <a:lnTo>
                            <a:pt x="18042" y="222"/>
                          </a:lnTo>
                          <a:lnTo>
                            <a:pt x="18917" y="37"/>
                          </a:lnTo>
                          <a:lnTo>
                            <a:pt x="1995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5" name=""/>
                    <p:cNvSpPr/>
                    <p:nvPr/>
                  </p:nvSpPr>
                  <p:spPr>
                    <a:xfrm>
                      <a:off x="3748320" y="82224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19981"/>
                          </a:moveTo>
                          <a:lnTo>
                            <a:pt x="18958" y="18390"/>
                          </a:lnTo>
                          <a:lnTo>
                            <a:pt x="18042" y="16873"/>
                          </a:lnTo>
                          <a:lnTo>
                            <a:pt x="17000" y="15356"/>
                          </a:lnTo>
                          <a:lnTo>
                            <a:pt x="16042" y="13747"/>
                          </a:lnTo>
                          <a:lnTo>
                            <a:pt x="14958" y="12340"/>
                          </a:lnTo>
                          <a:lnTo>
                            <a:pt x="14042" y="10953"/>
                          </a:lnTo>
                          <a:lnTo>
                            <a:pt x="12958" y="9584"/>
                          </a:lnTo>
                          <a:lnTo>
                            <a:pt x="12000" y="8252"/>
                          </a:lnTo>
                          <a:lnTo>
                            <a:pt x="11000" y="7012"/>
                          </a:lnTo>
                          <a:lnTo>
                            <a:pt x="10042" y="5920"/>
                          </a:lnTo>
                          <a:lnTo>
                            <a:pt x="9000" y="4847"/>
                          </a:lnTo>
                          <a:lnTo>
                            <a:pt x="8000" y="3793"/>
                          </a:lnTo>
                          <a:lnTo>
                            <a:pt x="7000" y="3016"/>
                          </a:lnTo>
                          <a:lnTo>
                            <a:pt x="6042" y="2239"/>
                          </a:lnTo>
                          <a:lnTo>
                            <a:pt x="5042" y="1536"/>
                          </a:lnTo>
                          <a:lnTo>
                            <a:pt x="4000" y="962"/>
                          </a:lnTo>
                          <a:lnTo>
                            <a:pt x="3000" y="592"/>
                          </a:lnTo>
                          <a:lnTo>
                            <a:pt x="2042" y="222"/>
                          </a:lnTo>
                          <a:lnTo>
                            <a:pt x="1042" y="3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6" name=""/>
                  <p:cNvGrpSpPr/>
                  <p:nvPr/>
                </p:nvGrpSpPr>
                <p:grpSpPr>
                  <a:xfrm>
                    <a:off x="4178160" y="1509480"/>
                    <a:ext cx="857160" cy="687240"/>
                    <a:chOff x="4178160" y="1509480"/>
                    <a:chExt cx="857160" cy="687240"/>
                  </a:xfrm>
                </p:grpSpPr>
                <p:sp>
                  <p:nvSpPr>
                    <p:cNvPr id="1377" name=""/>
                    <p:cNvSpPr/>
                    <p:nvPr/>
                  </p:nvSpPr>
                  <p:spPr>
                    <a:xfrm>
                      <a:off x="4178160" y="150948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0"/>
                          </a:moveTo>
                          <a:lnTo>
                            <a:pt x="1042" y="1591"/>
                          </a:lnTo>
                          <a:lnTo>
                            <a:pt x="1958" y="3108"/>
                          </a:lnTo>
                          <a:lnTo>
                            <a:pt x="3000" y="4625"/>
                          </a:lnTo>
                          <a:lnTo>
                            <a:pt x="3958" y="6253"/>
                          </a:lnTo>
                          <a:lnTo>
                            <a:pt x="5042" y="7660"/>
                          </a:lnTo>
                          <a:lnTo>
                            <a:pt x="5958" y="9029"/>
                          </a:lnTo>
                          <a:lnTo>
                            <a:pt x="7000" y="10416"/>
                          </a:lnTo>
                          <a:lnTo>
                            <a:pt x="7958" y="11730"/>
                          </a:lnTo>
                          <a:lnTo>
                            <a:pt x="9000" y="12969"/>
                          </a:lnTo>
                          <a:lnTo>
                            <a:pt x="10042" y="14080"/>
                          </a:lnTo>
                          <a:lnTo>
                            <a:pt x="11000" y="15134"/>
                          </a:lnTo>
                          <a:lnTo>
                            <a:pt x="12000" y="16189"/>
                          </a:lnTo>
                          <a:lnTo>
                            <a:pt x="12958" y="16984"/>
                          </a:lnTo>
                          <a:lnTo>
                            <a:pt x="14042" y="17743"/>
                          </a:lnTo>
                          <a:lnTo>
                            <a:pt x="14958" y="18464"/>
                          </a:lnTo>
                          <a:lnTo>
                            <a:pt x="16000" y="19019"/>
                          </a:lnTo>
                          <a:lnTo>
                            <a:pt x="16958" y="19408"/>
                          </a:lnTo>
                          <a:lnTo>
                            <a:pt x="18042" y="19759"/>
                          </a:lnTo>
                          <a:lnTo>
                            <a:pt x="18917" y="19944"/>
                          </a:lnTo>
                          <a:lnTo>
                            <a:pt x="19958" y="1998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8" name=""/>
                    <p:cNvSpPr/>
                    <p:nvPr/>
                  </p:nvSpPr>
                  <p:spPr>
                    <a:xfrm>
                      <a:off x="4607280" y="1509480"/>
                      <a:ext cx="42804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0"/>
                          </a:moveTo>
                          <a:lnTo>
                            <a:pt x="18958" y="1591"/>
                          </a:lnTo>
                          <a:lnTo>
                            <a:pt x="18042" y="3108"/>
                          </a:lnTo>
                          <a:lnTo>
                            <a:pt x="17000" y="4625"/>
                          </a:lnTo>
                          <a:lnTo>
                            <a:pt x="16042" y="6253"/>
                          </a:lnTo>
                          <a:lnTo>
                            <a:pt x="14958" y="7660"/>
                          </a:lnTo>
                          <a:lnTo>
                            <a:pt x="14042" y="9029"/>
                          </a:lnTo>
                          <a:lnTo>
                            <a:pt x="12958" y="10416"/>
                          </a:lnTo>
                          <a:lnTo>
                            <a:pt x="12000" y="11730"/>
                          </a:lnTo>
                          <a:lnTo>
                            <a:pt x="11000" y="12969"/>
                          </a:lnTo>
                          <a:lnTo>
                            <a:pt x="10042" y="14080"/>
                          </a:lnTo>
                          <a:lnTo>
                            <a:pt x="9000" y="15134"/>
                          </a:lnTo>
                          <a:lnTo>
                            <a:pt x="8000" y="16189"/>
                          </a:lnTo>
                          <a:lnTo>
                            <a:pt x="7000" y="16984"/>
                          </a:lnTo>
                          <a:lnTo>
                            <a:pt x="6042" y="17743"/>
                          </a:lnTo>
                          <a:lnTo>
                            <a:pt x="5042" y="18464"/>
                          </a:lnTo>
                          <a:lnTo>
                            <a:pt x="4000" y="19019"/>
                          </a:lnTo>
                          <a:lnTo>
                            <a:pt x="3000" y="19408"/>
                          </a:lnTo>
                          <a:lnTo>
                            <a:pt x="2042" y="19759"/>
                          </a:lnTo>
                          <a:lnTo>
                            <a:pt x="1042" y="19944"/>
                          </a:lnTo>
                          <a:lnTo>
                            <a:pt x="0" y="1998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379" name=""/>
              <p:cNvGrpSpPr/>
              <p:nvPr/>
            </p:nvGrpSpPr>
            <p:grpSpPr>
              <a:xfrm>
                <a:off x="5034240" y="822240"/>
                <a:ext cx="1713240" cy="1373040"/>
                <a:chOff x="5034240" y="822240"/>
                <a:chExt cx="1713240" cy="1373040"/>
              </a:xfrm>
            </p:grpSpPr>
            <p:grpSp>
              <p:nvGrpSpPr>
                <p:cNvPr id="1380" name=""/>
                <p:cNvGrpSpPr/>
                <p:nvPr/>
              </p:nvGrpSpPr>
              <p:grpSpPr>
                <a:xfrm>
                  <a:off x="5034240" y="822240"/>
                  <a:ext cx="855720" cy="687240"/>
                  <a:chOff x="5034240" y="822240"/>
                  <a:chExt cx="855720" cy="687240"/>
                </a:xfrm>
              </p:grpSpPr>
              <p:sp>
                <p:nvSpPr>
                  <p:cNvPr id="1381" name=""/>
                  <p:cNvSpPr/>
                  <p:nvPr/>
                </p:nvSpPr>
                <p:spPr>
                  <a:xfrm>
                    <a:off x="5034240" y="822240"/>
                    <a:ext cx="42804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1"/>
                        </a:moveTo>
                        <a:lnTo>
                          <a:pt x="1042" y="18390"/>
                        </a:lnTo>
                        <a:lnTo>
                          <a:pt x="1958" y="16873"/>
                        </a:lnTo>
                        <a:lnTo>
                          <a:pt x="3000" y="15356"/>
                        </a:lnTo>
                        <a:lnTo>
                          <a:pt x="3958" y="13747"/>
                        </a:lnTo>
                        <a:lnTo>
                          <a:pt x="5042" y="12340"/>
                        </a:lnTo>
                        <a:lnTo>
                          <a:pt x="5958" y="10953"/>
                        </a:lnTo>
                        <a:lnTo>
                          <a:pt x="7000" y="9584"/>
                        </a:lnTo>
                        <a:lnTo>
                          <a:pt x="7958" y="8252"/>
                        </a:lnTo>
                        <a:lnTo>
                          <a:pt x="9000" y="7012"/>
                        </a:lnTo>
                        <a:lnTo>
                          <a:pt x="10042" y="5920"/>
                        </a:lnTo>
                        <a:lnTo>
                          <a:pt x="11000" y="4847"/>
                        </a:lnTo>
                        <a:lnTo>
                          <a:pt x="12000" y="3793"/>
                        </a:lnTo>
                        <a:lnTo>
                          <a:pt x="12958" y="3016"/>
                        </a:lnTo>
                        <a:lnTo>
                          <a:pt x="14042" y="2239"/>
                        </a:lnTo>
                        <a:lnTo>
                          <a:pt x="14958" y="1536"/>
                        </a:lnTo>
                        <a:lnTo>
                          <a:pt x="16000" y="962"/>
                        </a:lnTo>
                        <a:lnTo>
                          <a:pt x="16958" y="592"/>
                        </a:lnTo>
                        <a:lnTo>
                          <a:pt x="18042" y="222"/>
                        </a:lnTo>
                        <a:lnTo>
                          <a:pt x="18917" y="37"/>
                        </a:lnTo>
                        <a:lnTo>
                          <a:pt x="1995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5462280" y="822240"/>
                    <a:ext cx="42768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58" y="19981"/>
                        </a:moveTo>
                        <a:lnTo>
                          <a:pt x="18958" y="18390"/>
                        </a:lnTo>
                        <a:lnTo>
                          <a:pt x="18042" y="16873"/>
                        </a:lnTo>
                        <a:lnTo>
                          <a:pt x="17000" y="15356"/>
                        </a:lnTo>
                        <a:lnTo>
                          <a:pt x="16042" y="13747"/>
                        </a:lnTo>
                        <a:lnTo>
                          <a:pt x="14958" y="12340"/>
                        </a:lnTo>
                        <a:lnTo>
                          <a:pt x="14042" y="10953"/>
                        </a:lnTo>
                        <a:lnTo>
                          <a:pt x="12958" y="9584"/>
                        </a:lnTo>
                        <a:lnTo>
                          <a:pt x="12000" y="8252"/>
                        </a:lnTo>
                        <a:lnTo>
                          <a:pt x="11000" y="7012"/>
                        </a:lnTo>
                        <a:lnTo>
                          <a:pt x="10042" y="5920"/>
                        </a:lnTo>
                        <a:lnTo>
                          <a:pt x="9000" y="4847"/>
                        </a:lnTo>
                        <a:lnTo>
                          <a:pt x="8000" y="3793"/>
                        </a:lnTo>
                        <a:lnTo>
                          <a:pt x="7000" y="3016"/>
                        </a:lnTo>
                        <a:lnTo>
                          <a:pt x="6042" y="2239"/>
                        </a:lnTo>
                        <a:lnTo>
                          <a:pt x="5042" y="1536"/>
                        </a:lnTo>
                        <a:lnTo>
                          <a:pt x="4000" y="962"/>
                        </a:lnTo>
                        <a:lnTo>
                          <a:pt x="3000" y="592"/>
                        </a:lnTo>
                        <a:lnTo>
                          <a:pt x="2042" y="222"/>
                        </a:lnTo>
                        <a:lnTo>
                          <a:pt x="1042" y="3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3" name=""/>
                <p:cNvGrpSpPr/>
                <p:nvPr/>
              </p:nvGrpSpPr>
              <p:grpSpPr>
                <a:xfrm>
                  <a:off x="5891760" y="1508040"/>
                  <a:ext cx="855720" cy="687240"/>
                  <a:chOff x="5891760" y="1508040"/>
                  <a:chExt cx="855720" cy="687240"/>
                </a:xfrm>
              </p:grpSpPr>
              <p:sp>
                <p:nvSpPr>
                  <p:cNvPr id="1384" name=""/>
                  <p:cNvSpPr/>
                  <p:nvPr/>
                </p:nvSpPr>
                <p:spPr>
                  <a:xfrm>
                    <a:off x="5891760" y="1508040"/>
                    <a:ext cx="42804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042" y="1591"/>
                        </a:lnTo>
                        <a:lnTo>
                          <a:pt x="1958" y="3108"/>
                        </a:lnTo>
                        <a:lnTo>
                          <a:pt x="3000" y="4625"/>
                        </a:lnTo>
                        <a:lnTo>
                          <a:pt x="3958" y="6253"/>
                        </a:lnTo>
                        <a:lnTo>
                          <a:pt x="5042" y="7660"/>
                        </a:lnTo>
                        <a:lnTo>
                          <a:pt x="5958" y="9029"/>
                        </a:lnTo>
                        <a:lnTo>
                          <a:pt x="7000" y="10416"/>
                        </a:lnTo>
                        <a:lnTo>
                          <a:pt x="7958" y="11730"/>
                        </a:lnTo>
                        <a:lnTo>
                          <a:pt x="9000" y="12969"/>
                        </a:lnTo>
                        <a:lnTo>
                          <a:pt x="10042" y="14080"/>
                        </a:lnTo>
                        <a:lnTo>
                          <a:pt x="11000" y="15134"/>
                        </a:lnTo>
                        <a:lnTo>
                          <a:pt x="12000" y="16189"/>
                        </a:lnTo>
                        <a:lnTo>
                          <a:pt x="12958" y="16984"/>
                        </a:lnTo>
                        <a:lnTo>
                          <a:pt x="14042" y="17743"/>
                        </a:lnTo>
                        <a:lnTo>
                          <a:pt x="14958" y="18464"/>
                        </a:lnTo>
                        <a:lnTo>
                          <a:pt x="16000" y="19019"/>
                        </a:lnTo>
                        <a:lnTo>
                          <a:pt x="16958" y="19408"/>
                        </a:lnTo>
                        <a:lnTo>
                          <a:pt x="18042" y="19759"/>
                        </a:lnTo>
                        <a:lnTo>
                          <a:pt x="18917" y="19944"/>
                        </a:lnTo>
                        <a:lnTo>
                          <a:pt x="19958" y="19981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"/>
                  <p:cNvSpPr/>
                  <p:nvPr/>
                </p:nvSpPr>
                <p:spPr>
                  <a:xfrm>
                    <a:off x="6319800" y="1508040"/>
                    <a:ext cx="42768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58" y="0"/>
                        </a:moveTo>
                        <a:lnTo>
                          <a:pt x="18958" y="1591"/>
                        </a:lnTo>
                        <a:lnTo>
                          <a:pt x="18042" y="3108"/>
                        </a:lnTo>
                        <a:lnTo>
                          <a:pt x="17000" y="4625"/>
                        </a:lnTo>
                        <a:lnTo>
                          <a:pt x="16042" y="6253"/>
                        </a:lnTo>
                        <a:lnTo>
                          <a:pt x="14958" y="7660"/>
                        </a:lnTo>
                        <a:lnTo>
                          <a:pt x="14042" y="9029"/>
                        </a:lnTo>
                        <a:lnTo>
                          <a:pt x="12958" y="10416"/>
                        </a:lnTo>
                        <a:lnTo>
                          <a:pt x="12000" y="11730"/>
                        </a:lnTo>
                        <a:lnTo>
                          <a:pt x="11000" y="12969"/>
                        </a:lnTo>
                        <a:lnTo>
                          <a:pt x="10042" y="14080"/>
                        </a:lnTo>
                        <a:lnTo>
                          <a:pt x="9000" y="15134"/>
                        </a:lnTo>
                        <a:lnTo>
                          <a:pt x="8000" y="16189"/>
                        </a:lnTo>
                        <a:lnTo>
                          <a:pt x="7000" y="16984"/>
                        </a:lnTo>
                        <a:lnTo>
                          <a:pt x="6042" y="17743"/>
                        </a:lnTo>
                        <a:lnTo>
                          <a:pt x="5042" y="18464"/>
                        </a:lnTo>
                        <a:lnTo>
                          <a:pt x="4000" y="19019"/>
                        </a:lnTo>
                        <a:lnTo>
                          <a:pt x="3000" y="19408"/>
                        </a:lnTo>
                        <a:lnTo>
                          <a:pt x="2042" y="19759"/>
                        </a:lnTo>
                        <a:lnTo>
                          <a:pt x="1042" y="19944"/>
                        </a:lnTo>
                        <a:lnTo>
                          <a:pt x="0" y="19981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86" name=""/>
            <p:cNvGrpSpPr/>
            <p:nvPr/>
          </p:nvGrpSpPr>
          <p:grpSpPr>
            <a:xfrm>
              <a:off x="1606680" y="2234880"/>
              <a:ext cx="5140800" cy="1374480"/>
              <a:chOff x="1606680" y="2234880"/>
              <a:chExt cx="5140800" cy="1374480"/>
            </a:xfrm>
          </p:grpSpPr>
          <p:grpSp>
            <p:nvGrpSpPr>
              <p:cNvPr id="1387" name=""/>
              <p:cNvGrpSpPr/>
              <p:nvPr/>
            </p:nvGrpSpPr>
            <p:grpSpPr>
              <a:xfrm>
                <a:off x="1606680" y="2234880"/>
                <a:ext cx="3428640" cy="1374480"/>
                <a:chOff x="1606680" y="2234880"/>
                <a:chExt cx="3428640" cy="1374480"/>
              </a:xfrm>
            </p:grpSpPr>
            <p:grpSp>
              <p:nvGrpSpPr>
                <p:cNvPr id="1388" name=""/>
                <p:cNvGrpSpPr/>
                <p:nvPr/>
              </p:nvGrpSpPr>
              <p:grpSpPr>
                <a:xfrm>
                  <a:off x="1606680" y="2234880"/>
                  <a:ext cx="1712880" cy="1374480"/>
                  <a:chOff x="1606680" y="2234880"/>
                  <a:chExt cx="1712880" cy="1374480"/>
                </a:xfrm>
              </p:grpSpPr>
              <p:grpSp>
                <p:nvGrpSpPr>
                  <p:cNvPr id="1389" name=""/>
                  <p:cNvGrpSpPr/>
                  <p:nvPr/>
                </p:nvGrpSpPr>
                <p:grpSpPr>
                  <a:xfrm>
                    <a:off x="1606680" y="2922120"/>
                    <a:ext cx="855360" cy="687240"/>
                    <a:chOff x="1606680" y="2922120"/>
                    <a:chExt cx="855360" cy="687240"/>
                  </a:xfrm>
                </p:grpSpPr>
                <p:sp>
                  <p:nvSpPr>
                    <p:cNvPr id="1390" name=""/>
                    <p:cNvSpPr/>
                    <p:nvPr/>
                  </p:nvSpPr>
                  <p:spPr>
                    <a:xfrm flipV="1">
                      <a:off x="1606680" y="292176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19981"/>
                          </a:moveTo>
                          <a:lnTo>
                            <a:pt x="1042" y="18390"/>
                          </a:lnTo>
                          <a:lnTo>
                            <a:pt x="1958" y="16873"/>
                          </a:lnTo>
                          <a:lnTo>
                            <a:pt x="3000" y="15356"/>
                          </a:lnTo>
                          <a:lnTo>
                            <a:pt x="3958" y="13747"/>
                          </a:lnTo>
                          <a:lnTo>
                            <a:pt x="5042" y="12340"/>
                          </a:lnTo>
                          <a:lnTo>
                            <a:pt x="5958" y="10953"/>
                          </a:lnTo>
                          <a:lnTo>
                            <a:pt x="7000" y="9584"/>
                          </a:lnTo>
                          <a:lnTo>
                            <a:pt x="7958" y="8252"/>
                          </a:lnTo>
                          <a:lnTo>
                            <a:pt x="9000" y="7012"/>
                          </a:lnTo>
                          <a:lnTo>
                            <a:pt x="10042" y="5920"/>
                          </a:lnTo>
                          <a:lnTo>
                            <a:pt x="11000" y="4847"/>
                          </a:lnTo>
                          <a:lnTo>
                            <a:pt x="12000" y="3793"/>
                          </a:lnTo>
                          <a:lnTo>
                            <a:pt x="12958" y="3016"/>
                          </a:lnTo>
                          <a:lnTo>
                            <a:pt x="14042" y="2239"/>
                          </a:lnTo>
                          <a:lnTo>
                            <a:pt x="14958" y="1536"/>
                          </a:lnTo>
                          <a:lnTo>
                            <a:pt x="16000" y="962"/>
                          </a:lnTo>
                          <a:lnTo>
                            <a:pt x="16958" y="592"/>
                          </a:lnTo>
                          <a:lnTo>
                            <a:pt x="18042" y="222"/>
                          </a:lnTo>
                          <a:lnTo>
                            <a:pt x="18917" y="37"/>
                          </a:lnTo>
                          <a:lnTo>
                            <a:pt x="1995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1" name=""/>
                    <p:cNvSpPr/>
                    <p:nvPr/>
                  </p:nvSpPr>
                  <p:spPr>
                    <a:xfrm flipV="1">
                      <a:off x="2034360" y="292176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19981"/>
                          </a:moveTo>
                          <a:lnTo>
                            <a:pt x="18958" y="18390"/>
                          </a:lnTo>
                          <a:lnTo>
                            <a:pt x="18042" y="16873"/>
                          </a:lnTo>
                          <a:lnTo>
                            <a:pt x="17000" y="15356"/>
                          </a:lnTo>
                          <a:lnTo>
                            <a:pt x="16042" y="13747"/>
                          </a:lnTo>
                          <a:lnTo>
                            <a:pt x="14958" y="12340"/>
                          </a:lnTo>
                          <a:lnTo>
                            <a:pt x="14042" y="10953"/>
                          </a:lnTo>
                          <a:lnTo>
                            <a:pt x="12958" y="9584"/>
                          </a:lnTo>
                          <a:lnTo>
                            <a:pt x="12000" y="8252"/>
                          </a:lnTo>
                          <a:lnTo>
                            <a:pt x="11000" y="7012"/>
                          </a:lnTo>
                          <a:lnTo>
                            <a:pt x="10042" y="5920"/>
                          </a:lnTo>
                          <a:lnTo>
                            <a:pt x="9000" y="4847"/>
                          </a:lnTo>
                          <a:lnTo>
                            <a:pt x="8000" y="3793"/>
                          </a:lnTo>
                          <a:lnTo>
                            <a:pt x="7000" y="3016"/>
                          </a:lnTo>
                          <a:lnTo>
                            <a:pt x="6042" y="2239"/>
                          </a:lnTo>
                          <a:lnTo>
                            <a:pt x="5042" y="1536"/>
                          </a:lnTo>
                          <a:lnTo>
                            <a:pt x="4000" y="962"/>
                          </a:lnTo>
                          <a:lnTo>
                            <a:pt x="3000" y="592"/>
                          </a:lnTo>
                          <a:lnTo>
                            <a:pt x="2042" y="222"/>
                          </a:lnTo>
                          <a:lnTo>
                            <a:pt x="1042" y="3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2" name=""/>
                  <p:cNvGrpSpPr/>
                  <p:nvPr/>
                </p:nvGrpSpPr>
                <p:grpSpPr>
                  <a:xfrm>
                    <a:off x="2464200" y="2234880"/>
                    <a:ext cx="855360" cy="687240"/>
                    <a:chOff x="2464200" y="2234880"/>
                    <a:chExt cx="855360" cy="687240"/>
                  </a:xfrm>
                </p:grpSpPr>
                <p:sp>
                  <p:nvSpPr>
                    <p:cNvPr id="1393" name=""/>
                    <p:cNvSpPr/>
                    <p:nvPr/>
                  </p:nvSpPr>
                  <p:spPr>
                    <a:xfrm flipV="1">
                      <a:off x="2464200" y="223452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0"/>
                          </a:moveTo>
                          <a:lnTo>
                            <a:pt x="1042" y="1591"/>
                          </a:lnTo>
                          <a:lnTo>
                            <a:pt x="1958" y="3108"/>
                          </a:lnTo>
                          <a:lnTo>
                            <a:pt x="3000" y="4625"/>
                          </a:lnTo>
                          <a:lnTo>
                            <a:pt x="3958" y="6253"/>
                          </a:lnTo>
                          <a:lnTo>
                            <a:pt x="5042" y="7660"/>
                          </a:lnTo>
                          <a:lnTo>
                            <a:pt x="5958" y="9029"/>
                          </a:lnTo>
                          <a:lnTo>
                            <a:pt x="7000" y="10416"/>
                          </a:lnTo>
                          <a:lnTo>
                            <a:pt x="7958" y="11730"/>
                          </a:lnTo>
                          <a:lnTo>
                            <a:pt x="9000" y="12969"/>
                          </a:lnTo>
                          <a:lnTo>
                            <a:pt x="10042" y="14080"/>
                          </a:lnTo>
                          <a:lnTo>
                            <a:pt x="11000" y="15134"/>
                          </a:lnTo>
                          <a:lnTo>
                            <a:pt x="12000" y="16189"/>
                          </a:lnTo>
                          <a:lnTo>
                            <a:pt x="12958" y="16984"/>
                          </a:lnTo>
                          <a:lnTo>
                            <a:pt x="14042" y="17743"/>
                          </a:lnTo>
                          <a:lnTo>
                            <a:pt x="14958" y="18464"/>
                          </a:lnTo>
                          <a:lnTo>
                            <a:pt x="16000" y="19019"/>
                          </a:lnTo>
                          <a:lnTo>
                            <a:pt x="16958" y="19408"/>
                          </a:lnTo>
                          <a:lnTo>
                            <a:pt x="18042" y="19759"/>
                          </a:lnTo>
                          <a:lnTo>
                            <a:pt x="18917" y="19944"/>
                          </a:lnTo>
                          <a:lnTo>
                            <a:pt x="19958" y="1998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4" name=""/>
                    <p:cNvSpPr/>
                    <p:nvPr/>
                  </p:nvSpPr>
                  <p:spPr>
                    <a:xfrm flipV="1">
                      <a:off x="2891880" y="223452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0"/>
                          </a:moveTo>
                          <a:lnTo>
                            <a:pt x="18958" y="1591"/>
                          </a:lnTo>
                          <a:lnTo>
                            <a:pt x="18042" y="3108"/>
                          </a:lnTo>
                          <a:lnTo>
                            <a:pt x="17000" y="4625"/>
                          </a:lnTo>
                          <a:lnTo>
                            <a:pt x="16042" y="6253"/>
                          </a:lnTo>
                          <a:lnTo>
                            <a:pt x="14958" y="7660"/>
                          </a:lnTo>
                          <a:lnTo>
                            <a:pt x="14042" y="9029"/>
                          </a:lnTo>
                          <a:lnTo>
                            <a:pt x="12958" y="10416"/>
                          </a:lnTo>
                          <a:lnTo>
                            <a:pt x="12000" y="11730"/>
                          </a:lnTo>
                          <a:lnTo>
                            <a:pt x="11000" y="12969"/>
                          </a:lnTo>
                          <a:lnTo>
                            <a:pt x="10042" y="14080"/>
                          </a:lnTo>
                          <a:lnTo>
                            <a:pt x="9000" y="15134"/>
                          </a:lnTo>
                          <a:lnTo>
                            <a:pt x="8000" y="16189"/>
                          </a:lnTo>
                          <a:lnTo>
                            <a:pt x="7000" y="16984"/>
                          </a:lnTo>
                          <a:lnTo>
                            <a:pt x="6042" y="17743"/>
                          </a:lnTo>
                          <a:lnTo>
                            <a:pt x="5042" y="18464"/>
                          </a:lnTo>
                          <a:lnTo>
                            <a:pt x="4000" y="19019"/>
                          </a:lnTo>
                          <a:lnTo>
                            <a:pt x="3000" y="19408"/>
                          </a:lnTo>
                          <a:lnTo>
                            <a:pt x="2042" y="19759"/>
                          </a:lnTo>
                          <a:lnTo>
                            <a:pt x="1042" y="19944"/>
                          </a:lnTo>
                          <a:lnTo>
                            <a:pt x="0" y="1998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95" name=""/>
                <p:cNvGrpSpPr/>
                <p:nvPr/>
              </p:nvGrpSpPr>
              <p:grpSpPr>
                <a:xfrm>
                  <a:off x="3320280" y="2234880"/>
                  <a:ext cx="1715040" cy="1374480"/>
                  <a:chOff x="3320280" y="2234880"/>
                  <a:chExt cx="1715040" cy="1374480"/>
                </a:xfrm>
              </p:grpSpPr>
              <p:grpSp>
                <p:nvGrpSpPr>
                  <p:cNvPr id="1396" name=""/>
                  <p:cNvGrpSpPr/>
                  <p:nvPr/>
                </p:nvGrpSpPr>
                <p:grpSpPr>
                  <a:xfrm>
                    <a:off x="3320280" y="2922120"/>
                    <a:ext cx="855720" cy="687240"/>
                    <a:chOff x="3320280" y="2922120"/>
                    <a:chExt cx="855720" cy="687240"/>
                  </a:xfrm>
                </p:grpSpPr>
                <p:sp>
                  <p:nvSpPr>
                    <p:cNvPr id="1397" name=""/>
                    <p:cNvSpPr/>
                    <p:nvPr/>
                  </p:nvSpPr>
                  <p:spPr>
                    <a:xfrm flipV="1">
                      <a:off x="3320280" y="2921760"/>
                      <a:ext cx="42804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19981"/>
                          </a:moveTo>
                          <a:lnTo>
                            <a:pt x="1042" y="18390"/>
                          </a:lnTo>
                          <a:lnTo>
                            <a:pt x="1958" y="16873"/>
                          </a:lnTo>
                          <a:lnTo>
                            <a:pt x="3000" y="15356"/>
                          </a:lnTo>
                          <a:lnTo>
                            <a:pt x="3958" y="13747"/>
                          </a:lnTo>
                          <a:lnTo>
                            <a:pt x="5042" y="12340"/>
                          </a:lnTo>
                          <a:lnTo>
                            <a:pt x="5958" y="10953"/>
                          </a:lnTo>
                          <a:lnTo>
                            <a:pt x="7000" y="9584"/>
                          </a:lnTo>
                          <a:lnTo>
                            <a:pt x="7958" y="8252"/>
                          </a:lnTo>
                          <a:lnTo>
                            <a:pt x="9000" y="7012"/>
                          </a:lnTo>
                          <a:lnTo>
                            <a:pt x="10042" y="5920"/>
                          </a:lnTo>
                          <a:lnTo>
                            <a:pt x="11000" y="4847"/>
                          </a:lnTo>
                          <a:lnTo>
                            <a:pt x="12000" y="3793"/>
                          </a:lnTo>
                          <a:lnTo>
                            <a:pt x="12958" y="3016"/>
                          </a:lnTo>
                          <a:lnTo>
                            <a:pt x="14042" y="2239"/>
                          </a:lnTo>
                          <a:lnTo>
                            <a:pt x="14958" y="1536"/>
                          </a:lnTo>
                          <a:lnTo>
                            <a:pt x="16000" y="962"/>
                          </a:lnTo>
                          <a:lnTo>
                            <a:pt x="16958" y="592"/>
                          </a:lnTo>
                          <a:lnTo>
                            <a:pt x="18042" y="222"/>
                          </a:lnTo>
                          <a:lnTo>
                            <a:pt x="18917" y="37"/>
                          </a:lnTo>
                          <a:lnTo>
                            <a:pt x="1995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8" name=""/>
                    <p:cNvSpPr/>
                    <p:nvPr/>
                  </p:nvSpPr>
                  <p:spPr>
                    <a:xfrm flipV="1">
                      <a:off x="3748320" y="292176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19981"/>
                          </a:moveTo>
                          <a:lnTo>
                            <a:pt x="18958" y="18390"/>
                          </a:lnTo>
                          <a:lnTo>
                            <a:pt x="18042" y="16873"/>
                          </a:lnTo>
                          <a:lnTo>
                            <a:pt x="17000" y="15356"/>
                          </a:lnTo>
                          <a:lnTo>
                            <a:pt x="16042" y="13747"/>
                          </a:lnTo>
                          <a:lnTo>
                            <a:pt x="14958" y="12340"/>
                          </a:lnTo>
                          <a:lnTo>
                            <a:pt x="14042" y="10953"/>
                          </a:lnTo>
                          <a:lnTo>
                            <a:pt x="12958" y="9584"/>
                          </a:lnTo>
                          <a:lnTo>
                            <a:pt x="12000" y="8252"/>
                          </a:lnTo>
                          <a:lnTo>
                            <a:pt x="11000" y="7012"/>
                          </a:lnTo>
                          <a:lnTo>
                            <a:pt x="10042" y="5920"/>
                          </a:lnTo>
                          <a:lnTo>
                            <a:pt x="9000" y="4847"/>
                          </a:lnTo>
                          <a:lnTo>
                            <a:pt x="8000" y="3793"/>
                          </a:lnTo>
                          <a:lnTo>
                            <a:pt x="7000" y="3016"/>
                          </a:lnTo>
                          <a:lnTo>
                            <a:pt x="6042" y="2239"/>
                          </a:lnTo>
                          <a:lnTo>
                            <a:pt x="5042" y="1536"/>
                          </a:lnTo>
                          <a:lnTo>
                            <a:pt x="4000" y="962"/>
                          </a:lnTo>
                          <a:lnTo>
                            <a:pt x="3000" y="592"/>
                          </a:lnTo>
                          <a:lnTo>
                            <a:pt x="2042" y="222"/>
                          </a:lnTo>
                          <a:lnTo>
                            <a:pt x="1042" y="3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9" name=""/>
                  <p:cNvGrpSpPr/>
                  <p:nvPr/>
                </p:nvGrpSpPr>
                <p:grpSpPr>
                  <a:xfrm>
                    <a:off x="4178160" y="2234880"/>
                    <a:ext cx="857160" cy="687240"/>
                    <a:chOff x="4178160" y="2234880"/>
                    <a:chExt cx="857160" cy="687240"/>
                  </a:xfrm>
                </p:grpSpPr>
                <p:sp>
                  <p:nvSpPr>
                    <p:cNvPr id="1400" name=""/>
                    <p:cNvSpPr/>
                    <p:nvPr/>
                  </p:nvSpPr>
                  <p:spPr>
                    <a:xfrm flipV="1">
                      <a:off x="4178160" y="223452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0"/>
                          </a:moveTo>
                          <a:lnTo>
                            <a:pt x="1042" y="1591"/>
                          </a:lnTo>
                          <a:lnTo>
                            <a:pt x="1958" y="3108"/>
                          </a:lnTo>
                          <a:lnTo>
                            <a:pt x="3000" y="4625"/>
                          </a:lnTo>
                          <a:lnTo>
                            <a:pt x="3958" y="6253"/>
                          </a:lnTo>
                          <a:lnTo>
                            <a:pt x="5042" y="7660"/>
                          </a:lnTo>
                          <a:lnTo>
                            <a:pt x="5958" y="9029"/>
                          </a:lnTo>
                          <a:lnTo>
                            <a:pt x="7000" y="10416"/>
                          </a:lnTo>
                          <a:lnTo>
                            <a:pt x="7958" y="11730"/>
                          </a:lnTo>
                          <a:lnTo>
                            <a:pt x="9000" y="12969"/>
                          </a:lnTo>
                          <a:lnTo>
                            <a:pt x="10042" y="14080"/>
                          </a:lnTo>
                          <a:lnTo>
                            <a:pt x="11000" y="15134"/>
                          </a:lnTo>
                          <a:lnTo>
                            <a:pt x="12000" y="16189"/>
                          </a:lnTo>
                          <a:lnTo>
                            <a:pt x="12958" y="16984"/>
                          </a:lnTo>
                          <a:lnTo>
                            <a:pt x="14042" y="17743"/>
                          </a:lnTo>
                          <a:lnTo>
                            <a:pt x="14958" y="18464"/>
                          </a:lnTo>
                          <a:lnTo>
                            <a:pt x="16000" y="19019"/>
                          </a:lnTo>
                          <a:lnTo>
                            <a:pt x="16958" y="19408"/>
                          </a:lnTo>
                          <a:lnTo>
                            <a:pt x="18042" y="19759"/>
                          </a:lnTo>
                          <a:lnTo>
                            <a:pt x="18917" y="19944"/>
                          </a:lnTo>
                          <a:lnTo>
                            <a:pt x="19958" y="1998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1" name=""/>
                    <p:cNvSpPr/>
                    <p:nvPr/>
                  </p:nvSpPr>
                  <p:spPr>
                    <a:xfrm flipV="1">
                      <a:off x="4607280" y="2234520"/>
                      <a:ext cx="42804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0"/>
                          </a:moveTo>
                          <a:lnTo>
                            <a:pt x="18958" y="1591"/>
                          </a:lnTo>
                          <a:lnTo>
                            <a:pt x="18042" y="3108"/>
                          </a:lnTo>
                          <a:lnTo>
                            <a:pt x="17000" y="4625"/>
                          </a:lnTo>
                          <a:lnTo>
                            <a:pt x="16042" y="6253"/>
                          </a:lnTo>
                          <a:lnTo>
                            <a:pt x="14958" y="7660"/>
                          </a:lnTo>
                          <a:lnTo>
                            <a:pt x="14042" y="9029"/>
                          </a:lnTo>
                          <a:lnTo>
                            <a:pt x="12958" y="10416"/>
                          </a:lnTo>
                          <a:lnTo>
                            <a:pt x="12000" y="11730"/>
                          </a:lnTo>
                          <a:lnTo>
                            <a:pt x="11000" y="12969"/>
                          </a:lnTo>
                          <a:lnTo>
                            <a:pt x="10042" y="14080"/>
                          </a:lnTo>
                          <a:lnTo>
                            <a:pt x="9000" y="15134"/>
                          </a:lnTo>
                          <a:lnTo>
                            <a:pt x="8000" y="16189"/>
                          </a:lnTo>
                          <a:lnTo>
                            <a:pt x="7000" y="16984"/>
                          </a:lnTo>
                          <a:lnTo>
                            <a:pt x="6042" y="17743"/>
                          </a:lnTo>
                          <a:lnTo>
                            <a:pt x="5042" y="18464"/>
                          </a:lnTo>
                          <a:lnTo>
                            <a:pt x="4000" y="19019"/>
                          </a:lnTo>
                          <a:lnTo>
                            <a:pt x="3000" y="19408"/>
                          </a:lnTo>
                          <a:lnTo>
                            <a:pt x="2042" y="19759"/>
                          </a:lnTo>
                          <a:lnTo>
                            <a:pt x="1042" y="19944"/>
                          </a:lnTo>
                          <a:lnTo>
                            <a:pt x="0" y="1998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02" name=""/>
              <p:cNvGrpSpPr/>
              <p:nvPr/>
            </p:nvGrpSpPr>
            <p:grpSpPr>
              <a:xfrm>
                <a:off x="5034240" y="2236320"/>
                <a:ext cx="1713240" cy="1373040"/>
                <a:chOff x="5034240" y="2236320"/>
                <a:chExt cx="1713240" cy="1373040"/>
              </a:xfrm>
            </p:grpSpPr>
            <p:grpSp>
              <p:nvGrpSpPr>
                <p:cNvPr id="1403" name=""/>
                <p:cNvGrpSpPr/>
                <p:nvPr/>
              </p:nvGrpSpPr>
              <p:grpSpPr>
                <a:xfrm>
                  <a:off x="5034240" y="2922120"/>
                  <a:ext cx="855720" cy="687240"/>
                  <a:chOff x="5034240" y="2922120"/>
                  <a:chExt cx="855720" cy="687240"/>
                </a:xfrm>
              </p:grpSpPr>
              <p:sp>
                <p:nvSpPr>
                  <p:cNvPr id="1404" name=""/>
                  <p:cNvSpPr/>
                  <p:nvPr/>
                </p:nvSpPr>
                <p:spPr>
                  <a:xfrm flipV="1">
                    <a:off x="5034240" y="2921760"/>
                    <a:ext cx="42804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1"/>
                        </a:moveTo>
                        <a:lnTo>
                          <a:pt x="1042" y="18390"/>
                        </a:lnTo>
                        <a:lnTo>
                          <a:pt x="1958" y="16873"/>
                        </a:lnTo>
                        <a:lnTo>
                          <a:pt x="3000" y="15356"/>
                        </a:lnTo>
                        <a:lnTo>
                          <a:pt x="3958" y="13747"/>
                        </a:lnTo>
                        <a:lnTo>
                          <a:pt x="5042" y="12340"/>
                        </a:lnTo>
                        <a:lnTo>
                          <a:pt x="5958" y="10953"/>
                        </a:lnTo>
                        <a:lnTo>
                          <a:pt x="7000" y="9584"/>
                        </a:lnTo>
                        <a:lnTo>
                          <a:pt x="7958" y="8252"/>
                        </a:lnTo>
                        <a:lnTo>
                          <a:pt x="9000" y="7012"/>
                        </a:lnTo>
                        <a:lnTo>
                          <a:pt x="10042" y="5920"/>
                        </a:lnTo>
                        <a:lnTo>
                          <a:pt x="11000" y="4847"/>
                        </a:lnTo>
                        <a:lnTo>
                          <a:pt x="12000" y="3793"/>
                        </a:lnTo>
                        <a:lnTo>
                          <a:pt x="12958" y="3016"/>
                        </a:lnTo>
                        <a:lnTo>
                          <a:pt x="14042" y="2239"/>
                        </a:lnTo>
                        <a:lnTo>
                          <a:pt x="14958" y="1536"/>
                        </a:lnTo>
                        <a:lnTo>
                          <a:pt x="16000" y="962"/>
                        </a:lnTo>
                        <a:lnTo>
                          <a:pt x="16958" y="592"/>
                        </a:lnTo>
                        <a:lnTo>
                          <a:pt x="18042" y="222"/>
                        </a:lnTo>
                        <a:lnTo>
                          <a:pt x="18917" y="37"/>
                        </a:lnTo>
                        <a:lnTo>
                          <a:pt x="1995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 flipV="1">
                    <a:off x="5462280" y="2921760"/>
                    <a:ext cx="42768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58" y="19981"/>
                        </a:moveTo>
                        <a:lnTo>
                          <a:pt x="18958" y="18390"/>
                        </a:lnTo>
                        <a:lnTo>
                          <a:pt x="18042" y="16873"/>
                        </a:lnTo>
                        <a:lnTo>
                          <a:pt x="17000" y="15356"/>
                        </a:lnTo>
                        <a:lnTo>
                          <a:pt x="16042" y="13747"/>
                        </a:lnTo>
                        <a:lnTo>
                          <a:pt x="14958" y="12340"/>
                        </a:lnTo>
                        <a:lnTo>
                          <a:pt x="14042" y="10953"/>
                        </a:lnTo>
                        <a:lnTo>
                          <a:pt x="12958" y="9584"/>
                        </a:lnTo>
                        <a:lnTo>
                          <a:pt x="12000" y="8252"/>
                        </a:lnTo>
                        <a:lnTo>
                          <a:pt x="11000" y="7012"/>
                        </a:lnTo>
                        <a:lnTo>
                          <a:pt x="10042" y="5920"/>
                        </a:lnTo>
                        <a:lnTo>
                          <a:pt x="9000" y="4847"/>
                        </a:lnTo>
                        <a:lnTo>
                          <a:pt x="8000" y="3793"/>
                        </a:lnTo>
                        <a:lnTo>
                          <a:pt x="7000" y="3016"/>
                        </a:lnTo>
                        <a:lnTo>
                          <a:pt x="6042" y="2239"/>
                        </a:lnTo>
                        <a:lnTo>
                          <a:pt x="5042" y="1536"/>
                        </a:lnTo>
                        <a:lnTo>
                          <a:pt x="4000" y="962"/>
                        </a:lnTo>
                        <a:lnTo>
                          <a:pt x="3000" y="592"/>
                        </a:lnTo>
                        <a:lnTo>
                          <a:pt x="2042" y="222"/>
                        </a:lnTo>
                        <a:lnTo>
                          <a:pt x="1042" y="3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6" name=""/>
                <p:cNvGrpSpPr/>
                <p:nvPr/>
              </p:nvGrpSpPr>
              <p:grpSpPr>
                <a:xfrm>
                  <a:off x="5891760" y="2236320"/>
                  <a:ext cx="855720" cy="687240"/>
                  <a:chOff x="5891760" y="2236320"/>
                  <a:chExt cx="855720" cy="687240"/>
                </a:xfrm>
              </p:grpSpPr>
              <p:sp>
                <p:nvSpPr>
                  <p:cNvPr id="1407" name=""/>
                  <p:cNvSpPr/>
                  <p:nvPr/>
                </p:nvSpPr>
                <p:spPr>
                  <a:xfrm flipV="1">
                    <a:off x="5891760" y="2235960"/>
                    <a:ext cx="42804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042" y="1591"/>
                        </a:lnTo>
                        <a:lnTo>
                          <a:pt x="1958" y="3108"/>
                        </a:lnTo>
                        <a:lnTo>
                          <a:pt x="3000" y="4625"/>
                        </a:lnTo>
                        <a:lnTo>
                          <a:pt x="3958" y="6253"/>
                        </a:lnTo>
                        <a:lnTo>
                          <a:pt x="5042" y="7660"/>
                        </a:lnTo>
                        <a:lnTo>
                          <a:pt x="5958" y="9029"/>
                        </a:lnTo>
                        <a:lnTo>
                          <a:pt x="7000" y="10416"/>
                        </a:lnTo>
                        <a:lnTo>
                          <a:pt x="7958" y="11730"/>
                        </a:lnTo>
                        <a:lnTo>
                          <a:pt x="9000" y="12969"/>
                        </a:lnTo>
                        <a:lnTo>
                          <a:pt x="10042" y="14080"/>
                        </a:lnTo>
                        <a:lnTo>
                          <a:pt x="11000" y="15134"/>
                        </a:lnTo>
                        <a:lnTo>
                          <a:pt x="12000" y="16189"/>
                        </a:lnTo>
                        <a:lnTo>
                          <a:pt x="12958" y="16984"/>
                        </a:lnTo>
                        <a:lnTo>
                          <a:pt x="14042" y="17743"/>
                        </a:lnTo>
                        <a:lnTo>
                          <a:pt x="14958" y="18464"/>
                        </a:lnTo>
                        <a:lnTo>
                          <a:pt x="16000" y="19019"/>
                        </a:lnTo>
                        <a:lnTo>
                          <a:pt x="16958" y="19408"/>
                        </a:lnTo>
                        <a:lnTo>
                          <a:pt x="18042" y="19759"/>
                        </a:lnTo>
                        <a:lnTo>
                          <a:pt x="18917" y="19944"/>
                        </a:lnTo>
                        <a:lnTo>
                          <a:pt x="19958" y="19981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 flipV="1">
                    <a:off x="6319800" y="2235960"/>
                    <a:ext cx="42768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58" y="0"/>
                        </a:moveTo>
                        <a:lnTo>
                          <a:pt x="18958" y="1591"/>
                        </a:lnTo>
                        <a:lnTo>
                          <a:pt x="18042" y="3108"/>
                        </a:lnTo>
                        <a:lnTo>
                          <a:pt x="17000" y="4625"/>
                        </a:lnTo>
                        <a:lnTo>
                          <a:pt x="16042" y="6253"/>
                        </a:lnTo>
                        <a:lnTo>
                          <a:pt x="14958" y="7660"/>
                        </a:lnTo>
                        <a:lnTo>
                          <a:pt x="14042" y="9029"/>
                        </a:lnTo>
                        <a:lnTo>
                          <a:pt x="12958" y="10416"/>
                        </a:lnTo>
                        <a:lnTo>
                          <a:pt x="12000" y="11730"/>
                        </a:lnTo>
                        <a:lnTo>
                          <a:pt x="11000" y="12969"/>
                        </a:lnTo>
                        <a:lnTo>
                          <a:pt x="10042" y="14080"/>
                        </a:lnTo>
                        <a:lnTo>
                          <a:pt x="9000" y="15134"/>
                        </a:lnTo>
                        <a:lnTo>
                          <a:pt x="8000" y="16189"/>
                        </a:lnTo>
                        <a:lnTo>
                          <a:pt x="7000" y="16984"/>
                        </a:lnTo>
                        <a:lnTo>
                          <a:pt x="6042" y="17743"/>
                        </a:lnTo>
                        <a:lnTo>
                          <a:pt x="5042" y="18464"/>
                        </a:lnTo>
                        <a:lnTo>
                          <a:pt x="4000" y="19019"/>
                        </a:lnTo>
                        <a:lnTo>
                          <a:pt x="3000" y="19408"/>
                        </a:lnTo>
                        <a:lnTo>
                          <a:pt x="2042" y="19759"/>
                        </a:lnTo>
                        <a:lnTo>
                          <a:pt x="1042" y="19944"/>
                        </a:lnTo>
                        <a:lnTo>
                          <a:pt x="0" y="19981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409" name=""/>
          <p:cNvGrpSpPr/>
          <p:nvPr/>
        </p:nvGrpSpPr>
        <p:grpSpPr>
          <a:xfrm>
            <a:off x="2066760" y="4491000"/>
            <a:ext cx="4697280" cy="1866600"/>
            <a:chOff x="2066760" y="4491000"/>
            <a:chExt cx="4697280" cy="1866600"/>
          </a:xfrm>
        </p:grpSpPr>
        <p:grpSp>
          <p:nvGrpSpPr>
            <p:cNvPr id="1410" name=""/>
            <p:cNvGrpSpPr/>
            <p:nvPr/>
          </p:nvGrpSpPr>
          <p:grpSpPr>
            <a:xfrm>
              <a:off x="4487760" y="4803840"/>
              <a:ext cx="77760" cy="612360"/>
              <a:chOff x="4487760" y="4803840"/>
              <a:chExt cx="77760" cy="612360"/>
            </a:xfrm>
          </p:grpSpPr>
          <p:sp>
            <p:nvSpPr>
              <p:cNvPr id="1411" name=""/>
              <p:cNvSpPr/>
              <p:nvPr/>
            </p:nvSpPr>
            <p:spPr>
              <a:xfrm>
                <a:off x="4487760" y="4803840"/>
                <a:ext cx="39600" cy="6123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4525920" y="4803840"/>
                <a:ext cx="39600" cy="6123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2066760" y="5416560"/>
              <a:ext cx="77400" cy="902880"/>
              <a:chOff x="2066760" y="5416560"/>
              <a:chExt cx="77400" cy="902880"/>
            </a:xfrm>
          </p:grpSpPr>
          <p:sp>
            <p:nvSpPr>
              <p:cNvPr id="1414" name=""/>
              <p:cNvSpPr/>
              <p:nvPr/>
            </p:nvSpPr>
            <p:spPr>
              <a:xfrm flipV="1">
                <a:off x="2066760" y="5416560"/>
                <a:ext cx="39240" cy="902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 flipV="1">
                <a:off x="2104560" y="5416560"/>
                <a:ext cx="39240" cy="902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2144520" y="4503600"/>
              <a:ext cx="77400" cy="912600"/>
              <a:chOff x="2144520" y="4503600"/>
              <a:chExt cx="77400" cy="912600"/>
            </a:xfrm>
          </p:grpSpPr>
          <p:sp>
            <p:nvSpPr>
              <p:cNvPr id="1417" name=""/>
              <p:cNvSpPr/>
              <p:nvPr/>
            </p:nvSpPr>
            <p:spPr>
              <a:xfrm>
                <a:off x="2144520" y="4503600"/>
                <a:ext cx="39240" cy="912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2182320" y="4503600"/>
                <a:ext cx="39240" cy="912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9" name=""/>
            <p:cNvGrpSpPr/>
            <p:nvPr/>
          </p:nvGrpSpPr>
          <p:grpSpPr>
            <a:xfrm>
              <a:off x="2222280" y="5416920"/>
              <a:ext cx="77400" cy="936360"/>
              <a:chOff x="2222280" y="5416920"/>
              <a:chExt cx="77400" cy="936360"/>
            </a:xfrm>
          </p:grpSpPr>
          <p:sp>
            <p:nvSpPr>
              <p:cNvPr id="1420" name=""/>
              <p:cNvSpPr/>
              <p:nvPr/>
            </p:nvSpPr>
            <p:spPr>
              <a:xfrm flipV="1">
                <a:off x="2222280" y="5416560"/>
                <a:ext cx="39240" cy="9363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 flipV="1">
                <a:off x="2260080" y="5416560"/>
                <a:ext cx="39240" cy="9363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2" name=""/>
            <p:cNvGrpSpPr/>
            <p:nvPr/>
          </p:nvGrpSpPr>
          <p:grpSpPr>
            <a:xfrm>
              <a:off x="2300040" y="4498920"/>
              <a:ext cx="77400" cy="917280"/>
              <a:chOff x="2300040" y="4498920"/>
              <a:chExt cx="77400" cy="917280"/>
            </a:xfrm>
          </p:grpSpPr>
          <p:sp>
            <p:nvSpPr>
              <p:cNvPr id="1423" name=""/>
              <p:cNvSpPr/>
              <p:nvPr/>
            </p:nvSpPr>
            <p:spPr>
              <a:xfrm>
                <a:off x="2300040" y="4498920"/>
                <a:ext cx="39240" cy="9172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H="1">
                <a:off x="2337840" y="4498920"/>
                <a:ext cx="39240" cy="9172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5" name=""/>
            <p:cNvGrpSpPr/>
            <p:nvPr/>
          </p:nvGrpSpPr>
          <p:grpSpPr>
            <a:xfrm>
              <a:off x="2377800" y="5416560"/>
              <a:ext cx="77400" cy="902880"/>
              <a:chOff x="2377800" y="5416560"/>
              <a:chExt cx="77400" cy="902880"/>
            </a:xfrm>
          </p:grpSpPr>
          <p:sp>
            <p:nvSpPr>
              <p:cNvPr id="1426" name=""/>
              <p:cNvSpPr/>
              <p:nvPr/>
            </p:nvSpPr>
            <p:spPr>
              <a:xfrm flipV="1">
                <a:off x="2377800" y="5416560"/>
                <a:ext cx="39240" cy="902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flipH="1" flipV="1">
                <a:off x="2415600" y="5416560"/>
                <a:ext cx="39240" cy="902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8" name=""/>
            <p:cNvGrpSpPr/>
            <p:nvPr/>
          </p:nvGrpSpPr>
          <p:grpSpPr>
            <a:xfrm>
              <a:off x="2455560" y="4556160"/>
              <a:ext cx="77760" cy="860040"/>
              <a:chOff x="2455560" y="4556160"/>
              <a:chExt cx="77760" cy="860040"/>
            </a:xfrm>
          </p:grpSpPr>
          <p:sp>
            <p:nvSpPr>
              <p:cNvPr id="1429" name=""/>
              <p:cNvSpPr/>
              <p:nvPr/>
            </p:nvSpPr>
            <p:spPr>
              <a:xfrm>
                <a:off x="2455560" y="4556160"/>
                <a:ext cx="39240" cy="86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2493720" y="4556160"/>
                <a:ext cx="39240" cy="86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1" name=""/>
            <p:cNvGrpSpPr/>
            <p:nvPr/>
          </p:nvGrpSpPr>
          <p:grpSpPr>
            <a:xfrm>
              <a:off x="2533680" y="5416920"/>
              <a:ext cx="77400" cy="812520"/>
              <a:chOff x="2533680" y="5416920"/>
              <a:chExt cx="77400" cy="812520"/>
            </a:xfrm>
          </p:grpSpPr>
          <p:sp>
            <p:nvSpPr>
              <p:cNvPr id="1432" name=""/>
              <p:cNvSpPr/>
              <p:nvPr/>
            </p:nvSpPr>
            <p:spPr>
              <a:xfrm flipV="1">
                <a:off x="2533680" y="5416560"/>
                <a:ext cx="39240" cy="812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 flipV="1">
                <a:off x="2571480" y="5416560"/>
                <a:ext cx="39240" cy="812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4" name=""/>
            <p:cNvGrpSpPr/>
            <p:nvPr/>
          </p:nvGrpSpPr>
          <p:grpSpPr>
            <a:xfrm>
              <a:off x="2611440" y="4673520"/>
              <a:ext cx="77400" cy="742680"/>
              <a:chOff x="2611440" y="4673520"/>
              <a:chExt cx="77400" cy="742680"/>
            </a:xfrm>
          </p:grpSpPr>
          <p:sp>
            <p:nvSpPr>
              <p:cNvPr id="1435" name=""/>
              <p:cNvSpPr/>
              <p:nvPr/>
            </p:nvSpPr>
            <p:spPr>
              <a:xfrm>
                <a:off x="2611440" y="4673520"/>
                <a:ext cx="39240" cy="7426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H="1">
                <a:off x="2649240" y="4673520"/>
                <a:ext cx="39240" cy="7426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2693880" y="5416200"/>
              <a:ext cx="77400" cy="677880"/>
              <a:chOff x="2693880" y="5416200"/>
              <a:chExt cx="77400" cy="677880"/>
            </a:xfrm>
          </p:grpSpPr>
          <p:sp>
            <p:nvSpPr>
              <p:cNvPr id="1438" name=""/>
              <p:cNvSpPr/>
              <p:nvPr/>
            </p:nvSpPr>
            <p:spPr>
              <a:xfrm flipV="1">
                <a:off x="2693880" y="5415840"/>
                <a:ext cx="39240" cy="67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H="1" flipV="1">
                <a:off x="2731680" y="5415840"/>
                <a:ext cx="39240" cy="67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0" name=""/>
            <p:cNvGrpSpPr/>
            <p:nvPr/>
          </p:nvGrpSpPr>
          <p:grpSpPr>
            <a:xfrm>
              <a:off x="2771640" y="4807080"/>
              <a:ext cx="77400" cy="609480"/>
              <a:chOff x="2771640" y="4807080"/>
              <a:chExt cx="77400" cy="609480"/>
            </a:xfrm>
          </p:grpSpPr>
          <p:sp>
            <p:nvSpPr>
              <p:cNvPr id="1441" name=""/>
              <p:cNvSpPr/>
              <p:nvPr/>
            </p:nvSpPr>
            <p:spPr>
              <a:xfrm>
                <a:off x="2771640" y="4807080"/>
                <a:ext cx="39240" cy="6094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>
                <a:off x="2809440" y="4807080"/>
                <a:ext cx="39240" cy="6094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2849400" y="5416200"/>
              <a:ext cx="77400" cy="571320"/>
              <a:chOff x="2849400" y="5416200"/>
              <a:chExt cx="77400" cy="571320"/>
            </a:xfrm>
          </p:grpSpPr>
          <p:sp>
            <p:nvSpPr>
              <p:cNvPr id="1444" name=""/>
              <p:cNvSpPr/>
              <p:nvPr/>
            </p:nvSpPr>
            <p:spPr>
              <a:xfrm flipV="1">
                <a:off x="2849400" y="5415840"/>
                <a:ext cx="39240" cy="5713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H="1" flipV="1">
                <a:off x="2887200" y="5415840"/>
                <a:ext cx="39240" cy="5713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2927160" y="4889520"/>
              <a:ext cx="77400" cy="527040"/>
              <a:chOff x="2927160" y="4889520"/>
              <a:chExt cx="77400" cy="527040"/>
            </a:xfrm>
          </p:grpSpPr>
          <p:sp>
            <p:nvSpPr>
              <p:cNvPr id="1447" name=""/>
              <p:cNvSpPr/>
              <p:nvPr/>
            </p:nvSpPr>
            <p:spPr>
              <a:xfrm>
                <a:off x="2927160" y="4889520"/>
                <a:ext cx="39240" cy="527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>
                <a:off x="2964960" y="4889520"/>
                <a:ext cx="39240" cy="527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9" name=""/>
            <p:cNvGrpSpPr/>
            <p:nvPr/>
          </p:nvGrpSpPr>
          <p:grpSpPr>
            <a:xfrm>
              <a:off x="3004920" y="5416200"/>
              <a:ext cx="77400" cy="490680"/>
              <a:chOff x="3004920" y="5416200"/>
              <a:chExt cx="77400" cy="490680"/>
            </a:xfrm>
          </p:grpSpPr>
          <p:sp>
            <p:nvSpPr>
              <p:cNvPr id="1450" name=""/>
              <p:cNvSpPr/>
              <p:nvPr/>
            </p:nvSpPr>
            <p:spPr>
              <a:xfrm flipV="1">
                <a:off x="3004920" y="5415840"/>
                <a:ext cx="39240" cy="4906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 flipV="1">
                <a:off x="3042720" y="5415840"/>
                <a:ext cx="39240" cy="4906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2" name=""/>
            <p:cNvGrpSpPr/>
            <p:nvPr/>
          </p:nvGrpSpPr>
          <p:grpSpPr>
            <a:xfrm>
              <a:off x="3082680" y="4933800"/>
              <a:ext cx="77400" cy="482760"/>
              <a:chOff x="3082680" y="4933800"/>
              <a:chExt cx="77400" cy="482760"/>
            </a:xfrm>
          </p:grpSpPr>
          <p:sp>
            <p:nvSpPr>
              <p:cNvPr id="1453" name=""/>
              <p:cNvSpPr/>
              <p:nvPr/>
            </p:nvSpPr>
            <p:spPr>
              <a:xfrm>
                <a:off x="3082680" y="4933800"/>
                <a:ext cx="39240" cy="4827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H="1">
                <a:off x="3120480" y="4933800"/>
                <a:ext cx="39240" cy="4827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4332600" y="4680000"/>
              <a:ext cx="77400" cy="736200"/>
              <a:chOff x="4332600" y="4680000"/>
              <a:chExt cx="77400" cy="736200"/>
            </a:xfrm>
          </p:grpSpPr>
          <p:sp>
            <p:nvSpPr>
              <p:cNvPr id="1456" name=""/>
              <p:cNvSpPr/>
              <p:nvPr/>
            </p:nvSpPr>
            <p:spPr>
              <a:xfrm flipH="1">
                <a:off x="4370400" y="4680000"/>
                <a:ext cx="39240" cy="7362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4332600" y="4680000"/>
                <a:ext cx="39240" cy="7362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8" name=""/>
            <p:cNvGrpSpPr/>
            <p:nvPr/>
          </p:nvGrpSpPr>
          <p:grpSpPr>
            <a:xfrm>
              <a:off x="4254840" y="5416560"/>
              <a:ext cx="77400" cy="815760"/>
              <a:chOff x="4254840" y="5416560"/>
              <a:chExt cx="77400" cy="815760"/>
            </a:xfrm>
          </p:grpSpPr>
          <p:sp>
            <p:nvSpPr>
              <p:cNvPr id="1459" name=""/>
              <p:cNvSpPr/>
              <p:nvPr/>
            </p:nvSpPr>
            <p:spPr>
              <a:xfrm flipH="1" flipV="1">
                <a:off x="4292640" y="5416560"/>
                <a:ext cx="39240" cy="8157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V="1">
                <a:off x="4254840" y="5416560"/>
                <a:ext cx="39240" cy="8157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4177080" y="4565520"/>
              <a:ext cx="77400" cy="850680"/>
              <a:chOff x="4177080" y="4565520"/>
              <a:chExt cx="77400" cy="850680"/>
            </a:xfrm>
          </p:grpSpPr>
          <p:sp>
            <p:nvSpPr>
              <p:cNvPr id="1462" name=""/>
              <p:cNvSpPr/>
              <p:nvPr/>
            </p:nvSpPr>
            <p:spPr>
              <a:xfrm flipH="1">
                <a:off x="4214880" y="4565520"/>
                <a:ext cx="39240" cy="8506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4177080" y="4565520"/>
                <a:ext cx="39240" cy="8506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"/>
            <p:cNvGrpSpPr/>
            <p:nvPr/>
          </p:nvGrpSpPr>
          <p:grpSpPr>
            <a:xfrm>
              <a:off x="4098600" y="5416560"/>
              <a:ext cx="77760" cy="909360"/>
              <a:chOff x="4098600" y="5416560"/>
              <a:chExt cx="77760" cy="909360"/>
            </a:xfrm>
          </p:grpSpPr>
          <p:sp>
            <p:nvSpPr>
              <p:cNvPr id="1465" name=""/>
              <p:cNvSpPr/>
              <p:nvPr/>
            </p:nvSpPr>
            <p:spPr>
              <a:xfrm flipH="1" flipV="1">
                <a:off x="4136760" y="5416560"/>
                <a:ext cx="39240" cy="9093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V="1">
                <a:off x="4098600" y="5416560"/>
                <a:ext cx="39240" cy="9093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4021200" y="4491000"/>
              <a:ext cx="77400" cy="925200"/>
              <a:chOff x="4021200" y="4491000"/>
              <a:chExt cx="77400" cy="925200"/>
            </a:xfrm>
          </p:grpSpPr>
          <p:sp>
            <p:nvSpPr>
              <p:cNvPr id="1468" name=""/>
              <p:cNvSpPr/>
              <p:nvPr/>
            </p:nvSpPr>
            <p:spPr>
              <a:xfrm flipH="1">
                <a:off x="4059000" y="4491000"/>
                <a:ext cx="39240" cy="9252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4021200" y="4491000"/>
                <a:ext cx="39240" cy="9252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0" name=""/>
            <p:cNvGrpSpPr/>
            <p:nvPr/>
          </p:nvGrpSpPr>
          <p:grpSpPr>
            <a:xfrm>
              <a:off x="3943440" y="5416560"/>
              <a:ext cx="77400" cy="941040"/>
              <a:chOff x="3943440" y="5416560"/>
              <a:chExt cx="77400" cy="941040"/>
            </a:xfrm>
          </p:grpSpPr>
          <p:sp>
            <p:nvSpPr>
              <p:cNvPr id="1471" name=""/>
              <p:cNvSpPr/>
              <p:nvPr/>
            </p:nvSpPr>
            <p:spPr>
              <a:xfrm flipH="1" flipV="1">
                <a:off x="3981240" y="5416560"/>
                <a:ext cx="39240" cy="941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V="1">
                <a:off x="3943440" y="5416560"/>
                <a:ext cx="39240" cy="941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"/>
            <p:cNvGrpSpPr/>
            <p:nvPr/>
          </p:nvGrpSpPr>
          <p:grpSpPr>
            <a:xfrm>
              <a:off x="3865680" y="4491000"/>
              <a:ext cx="77400" cy="925200"/>
              <a:chOff x="3865680" y="4491000"/>
              <a:chExt cx="77400" cy="925200"/>
            </a:xfrm>
          </p:grpSpPr>
          <p:sp>
            <p:nvSpPr>
              <p:cNvPr id="1474" name=""/>
              <p:cNvSpPr/>
              <p:nvPr/>
            </p:nvSpPr>
            <p:spPr>
              <a:xfrm flipH="1">
                <a:off x="3903480" y="4491000"/>
                <a:ext cx="39240" cy="9252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865680" y="4491000"/>
                <a:ext cx="39240" cy="9252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"/>
            <p:cNvGrpSpPr/>
            <p:nvPr/>
          </p:nvGrpSpPr>
          <p:grpSpPr>
            <a:xfrm>
              <a:off x="3787920" y="5416560"/>
              <a:ext cx="77400" cy="909360"/>
              <a:chOff x="3787920" y="5416560"/>
              <a:chExt cx="77400" cy="909360"/>
            </a:xfrm>
          </p:grpSpPr>
          <p:sp>
            <p:nvSpPr>
              <p:cNvPr id="1477" name=""/>
              <p:cNvSpPr/>
              <p:nvPr/>
            </p:nvSpPr>
            <p:spPr>
              <a:xfrm flipH="1" flipV="1">
                <a:off x="3825720" y="5416560"/>
                <a:ext cx="39240" cy="9093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V="1">
                <a:off x="3787920" y="5416560"/>
                <a:ext cx="39240" cy="9093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3710160" y="4565520"/>
              <a:ext cx="77400" cy="850680"/>
              <a:chOff x="3710160" y="4565520"/>
              <a:chExt cx="77400" cy="850680"/>
            </a:xfrm>
          </p:grpSpPr>
          <p:sp>
            <p:nvSpPr>
              <p:cNvPr id="1480" name=""/>
              <p:cNvSpPr/>
              <p:nvPr/>
            </p:nvSpPr>
            <p:spPr>
              <a:xfrm flipH="1">
                <a:off x="3747960" y="4565520"/>
                <a:ext cx="39240" cy="8506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710160" y="4565520"/>
                <a:ext cx="39240" cy="8506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3632400" y="5416920"/>
              <a:ext cx="77400" cy="812520"/>
              <a:chOff x="3632400" y="5416920"/>
              <a:chExt cx="77400" cy="812520"/>
            </a:xfrm>
          </p:grpSpPr>
          <p:sp>
            <p:nvSpPr>
              <p:cNvPr id="1483" name=""/>
              <p:cNvSpPr/>
              <p:nvPr/>
            </p:nvSpPr>
            <p:spPr>
              <a:xfrm flipH="1" flipV="1">
                <a:off x="3670200" y="5416560"/>
                <a:ext cx="39240" cy="812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V="1">
                <a:off x="3632400" y="5416560"/>
                <a:ext cx="39240" cy="812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3554640" y="4680000"/>
              <a:ext cx="77400" cy="736200"/>
              <a:chOff x="3554640" y="4680000"/>
              <a:chExt cx="77400" cy="736200"/>
            </a:xfrm>
          </p:grpSpPr>
          <p:sp>
            <p:nvSpPr>
              <p:cNvPr id="1486" name=""/>
              <p:cNvSpPr/>
              <p:nvPr/>
            </p:nvSpPr>
            <p:spPr>
              <a:xfrm flipH="1">
                <a:off x="3592440" y="4680000"/>
                <a:ext cx="39240" cy="7362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554640" y="4680000"/>
                <a:ext cx="39240" cy="7362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3472200" y="5416200"/>
              <a:ext cx="77400" cy="677880"/>
              <a:chOff x="3472200" y="5416200"/>
              <a:chExt cx="77400" cy="677880"/>
            </a:xfrm>
          </p:grpSpPr>
          <p:sp>
            <p:nvSpPr>
              <p:cNvPr id="1489" name=""/>
              <p:cNvSpPr/>
              <p:nvPr/>
            </p:nvSpPr>
            <p:spPr>
              <a:xfrm flipH="1" flipV="1">
                <a:off x="3510000" y="5415840"/>
                <a:ext cx="39240" cy="67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V="1">
                <a:off x="3472200" y="5415840"/>
                <a:ext cx="39240" cy="67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3394440" y="4799160"/>
              <a:ext cx="77400" cy="617400"/>
              <a:chOff x="3394440" y="4799160"/>
              <a:chExt cx="77400" cy="617400"/>
            </a:xfrm>
          </p:grpSpPr>
          <p:sp>
            <p:nvSpPr>
              <p:cNvPr id="1492" name=""/>
              <p:cNvSpPr/>
              <p:nvPr/>
            </p:nvSpPr>
            <p:spPr>
              <a:xfrm flipH="1">
                <a:off x="3432240" y="4799160"/>
                <a:ext cx="39240" cy="6174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394440" y="4799160"/>
                <a:ext cx="39240" cy="6174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4" name=""/>
            <p:cNvGrpSpPr/>
            <p:nvPr/>
          </p:nvGrpSpPr>
          <p:grpSpPr>
            <a:xfrm>
              <a:off x="3316680" y="5416200"/>
              <a:ext cx="77400" cy="571320"/>
              <a:chOff x="3316680" y="5416200"/>
              <a:chExt cx="77400" cy="571320"/>
            </a:xfrm>
          </p:grpSpPr>
          <p:sp>
            <p:nvSpPr>
              <p:cNvPr id="1495" name=""/>
              <p:cNvSpPr/>
              <p:nvPr/>
            </p:nvSpPr>
            <p:spPr>
              <a:xfrm flipH="1" flipV="1">
                <a:off x="3354480" y="5415840"/>
                <a:ext cx="39240" cy="5713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V="1">
                <a:off x="3316680" y="5415840"/>
                <a:ext cx="39240" cy="5713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3238200" y="4903920"/>
              <a:ext cx="77760" cy="512640"/>
              <a:chOff x="3238200" y="4903920"/>
              <a:chExt cx="77760" cy="512640"/>
            </a:xfrm>
          </p:grpSpPr>
          <p:sp>
            <p:nvSpPr>
              <p:cNvPr id="1498" name=""/>
              <p:cNvSpPr/>
              <p:nvPr/>
            </p:nvSpPr>
            <p:spPr>
              <a:xfrm flipH="1">
                <a:off x="3276360" y="4903920"/>
                <a:ext cx="39240" cy="512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238200" y="4903920"/>
                <a:ext cx="39240" cy="512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"/>
            <p:cNvGrpSpPr/>
            <p:nvPr/>
          </p:nvGrpSpPr>
          <p:grpSpPr>
            <a:xfrm>
              <a:off x="3160800" y="5416200"/>
              <a:ext cx="77400" cy="490680"/>
              <a:chOff x="3160800" y="5416200"/>
              <a:chExt cx="77400" cy="490680"/>
            </a:xfrm>
          </p:grpSpPr>
          <p:sp>
            <p:nvSpPr>
              <p:cNvPr id="1501" name=""/>
              <p:cNvSpPr/>
              <p:nvPr/>
            </p:nvSpPr>
            <p:spPr>
              <a:xfrm flipH="1" flipV="1">
                <a:off x="3198600" y="5415840"/>
                <a:ext cx="39240" cy="4906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V="1">
                <a:off x="3160800" y="5415840"/>
                <a:ext cx="39240" cy="4906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3" name=""/>
            <p:cNvGrpSpPr/>
            <p:nvPr/>
          </p:nvGrpSpPr>
          <p:grpSpPr>
            <a:xfrm>
              <a:off x="4410000" y="5416560"/>
              <a:ext cx="77760" cy="677520"/>
              <a:chOff x="4410000" y="5416560"/>
              <a:chExt cx="77760" cy="677520"/>
            </a:xfrm>
          </p:grpSpPr>
          <p:sp>
            <p:nvSpPr>
              <p:cNvPr id="1504" name=""/>
              <p:cNvSpPr/>
              <p:nvPr/>
            </p:nvSpPr>
            <p:spPr>
              <a:xfrm flipV="1">
                <a:off x="4410000" y="5416560"/>
                <a:ext cx="39600" cy="67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flipH="1" flipV="1">
                <a:off x="4448160" y="5416560"/>
                <a:ext cx="39600" cy="67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6" name=""/>
            <p:cNvGrpSpPr/>
            <p:nvPr/>
          </p:nvGrpSpPr>
          <p:grpSpPr>
            <a:xfrm>
              <a:off x="4565520" y="5416200"/>
              <a:ext cx="77760" cy="570600"/>
              <a:chOff x="4565520" y="5416200"/>
              <a:chExt cx="77760" cy="570600"/>
            </a:xfrm>
          </p:grpSpPr>
          <p:sp>
            <p:nvSpPr>
              <p:cNvPr id="1507" name=""/>
              <p:cNvSpPr/>
              <p:nvPr/>
            </p:nvSpPr>
            <p:spPr>
              <a:xfrm flipV="1">
                <a:off x="4565520" y="5415840"/>
                <a:ext cx="39600" cy="570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H="1" flipV="1">
                <a:off x="4603680" y="5415840"/>
                <a:ext cx="39600" cy="570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"/>
            <p:cNvGrpSpPr/>
            <p:nvPr/>
          </p:nvGrpSpPr>
          <p:grpSpPr>
            <a:xfrm>
              <a:off x="4643280" y="4889520"/>
              <a:ext cx="77760" cy="525600"/>
              <a:chOff x="4643280" y="4889520"/>
              <a:chExt cx="77760" cy="525600"/>
            </a:xfrm>
          </p:grpSpPr>
          <p:sp>
            <p:nvSpPr>
              <p:cNvPr id="1510" name=""/>
              <p:cNvSpPr/>
              <p:nvPr/>
            </p:nvSpPr>
            <p:spPr>
              <a:xfrm>
                <a:off x="4643280" y="4889520"/>
                <a:ext cx="39600" cy="525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H="1">
                <a:off x="4681440" y="4889520"/>
                <a:ext cx="39600" cy="525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4721040" y="5416200"/>
              <a:ext cx="77760" cy="504360"/>
              <a:chOff x="4721040" y="5416200"/>
              <a:chExt cx="77760" cy="504360"/>
            </a:xfrm>
          </p:grpSpPr>
          <p:sp>
            <p:nvSpPr>
              <p:cNvPr id="1513" name=""/>
              <p:cNvSpPr/>
              <p:nvPr/>
            </p:nvSpPr>
            <p:spPr>
              <a:xfrm flipV="1">
                <a:off x="4721040" y="5415840"/>
                <a:ext cx="39600" cy="5043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H="1" flipV="1">
                <a:off x="4759200" y="5415840"/>
                <a:ext cx="39600" cy="5043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"/>
            <p:cNvGrpSpPr/>
            <p:nvPr/>
          </p:nvGrpSpPr>
          <p:grpSpPr>
            <a:xfrm>
              <a:off x="6056640" y="4675320"/>
              <a:ext cx="77400" cy="740880"/>
              <a:chOff x="6056640" y="4675320"/>
              <a:chExt cx="77400" cy="740880"/>
            </a:xfrm>
          </p:grpSpPr>
          <p:sp>
            <p:nvSpPr>
              <p:cNvPr id="1516" name=""/>
              <p:cNvSpPr/>
              <p:nvPr/>
            </p:nvSpPr>
            <p:spPr>
              <a:xfrm flipH="1">
                <a:off x="6094440" y="4675320"/>
                <a:ext cx="39240" cy="740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6056640" y="4675320"/>
                <a:ext cx="39240" cy="740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"/>
            <p:cNvGrpSpPr/>
            <p:nvPr/>
          </p:nvGrpSpPr>
          <p:grpSpPr>
            <a:xfrm>
              <a:off x="5978880" y="5416560"/>
              <a:ext cx="77400" cy="817200"/>
              <a:chOff x="5978880" y="5416560"/>
              <a:chExt cx="77400" cy="817200"/>
            </a:xfrm>
          </p:grpSpPr>
          <p:sp>
            <p:nvSpPr>
              <p:cNvPr id="1519" name=""/>
              <p:cNvSpPr/>
              <p:nvPr/>
            </p:nvSpPr>
            <p:spPr>
              <a:xfrm flipH="1" flipV="1">
                <a:off x="6016680" y="5416560"/>
                <a:ext cx="39240" cy="8172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V="1">
                <a:off x="5978880" y="5416560"/>
                <a:ext cx="39240" cy="8172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5901120" y="4570560"/>
              <a:ext cx="77400" cy="845640"/>
              <a:chOff x="5901120" y="4570560"/>
              <a:chExt cx="77400" cy="845640"/>
            </a:xfrm>
          </p:grpSpPr>
          <p:sp>
            <p:nvSpPr>
              <p:cNvPr id="1522" name=""/>
              <p:cNvSpPr/>
              <p:nvPr/>
            </p:nvSpPr>
            <p:spPr>
              <a:xfrm flipH="1">
                <a:off x="5938920" y="4570560"/>
                <a:ext cx="39240" cy="845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901120" y="4570560"/>
                <a:ext cx="39240" cy="845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4" name=""/>
            <p:cNvGrpSpPr/>
            <p:nvPr/>
          </p:nvGrpSpPr>
          <p:grpSpPr>
            <a:xfrm>
              <a:off x="5822640" y="5416920"/>
              <a:ext cx="77760" cy="907560"/>
              <a:chOff x="5822640" y="5416920"/>
              <a:chExt cx="77760" cy="907560"/>
            </a:xfrm>
          </p:grpSpPr>
          <p:sp>
            <p:nvSpPr>
              <p:cNvPr id="1525" name=""/>
              <p:cNvSpPr/>
              <p:nvPr/>
            </p:nvSpPr>
            <p:spPr>
              <a:xfrm flipH="1" flipV="1">
                <a:off x="5860800" y="5416560"/>
                <a:ext cx="39240" cy="9075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V="1">
                <a:off x="5822640" y="5416560"/>
                <a:ext cx="39240" cy="9075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7" name=""/>
            <p:cNvGrpSpPr/>
            <p:nvPr/>
          </p:nvGrpSpPr>
          <p:grpSpPr>
            <a:xfrm>
              <a:off x="5745240" y="4500720"/>
              <a:ext cx="77400" cy="915480"/>
              <a:chOff x="5745240" y="4500720"/>
              <a:chExt cx="77400" cy="915480"/>
            </a:xfrm>
          </p:grpSpPr>
          <p:sp>
            <p:nvSpPr>
              <p:cNvPr id="1528" name=""/>
              <p:cNvSpPr/>
              <p:nvPr/>
            </p:nvSpPr>
            <p:spPr>
              <a:xfrm flipH="1">
                <a:off x="5783040" y="4500720"/>
                <a:ext cx="39240" cy="9154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5745240" y="4500720"/>
                <a:ext cx="39240" cy="9154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"/>
            <p:cNvGrpSpPr/>
            <p:nvPr/>
          </p:nvGrpSpPr>
          <p:grpSpPr>
            <a:xfrm>
              <a:off x="5667480" y="5416560"/>
              <a:ext cx="77400" cy="933120"/>
              <a:chOff x="5667480" y="5416560"/>
              <a:chExt cx="77400" cy="933120"/>
            </a:xfrm>
          </p:grpSpPr>
          <p:sp>
            <p:nvSpPr>
              <p:cNvPr id="1531" name=""/>
              <p:cNvSpPr/>
              <p:nvPr/>
            </p:nvSpPr>
            <p:spPr>
              <a:xfrm flipH="1" flipV="1">
                <a:off x="5705280" y="5416560"/>
                <a:ext cx="39240" cy="9331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5667480" y="5416560"/>
                <a:ext cx="39240" cy="9331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5589720" y="4500720"/>
              <a:ext cx="77400" cy="915480"/>
              <a:chOff x="5589720" y="4500720"/>
              <a:chExt cx="77400" cy="915480"/>
            </a:xfrm>
          </p:grpSpPr>
          <p:sp>
            <p:nvSpPr>
              <p:cNvPr id="1534" name=""/>
              <p:cNvSpPr/>
              <p:nvPr/>
            </p:nvSpPr>
            <p:spPr>
              <a:xfrm flipH="1">
                <a:off x="5627520" y="4500720"/>
                <a:ext cx="39240" cy="9154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589720" y="4500720"/>
                <a:ext cx="39240" cy="9154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5511960" y="5416920"/>
              <a:ext cx="77400" cy="907560"/>
              <a:chOff x="5511960" y="5416920"/>
              <a:chExt cx="77400" cy="907560"/>
            </a:xfrm>
          </p:grpSpPr>
          <p:sp>
            <p:nvSpPr>
              <p:cNvPr id="1537" name=""/>
              <p:cNvSpPr/>
              <p:nvPr/>
            </p:nvSpPr>
            <p:spPr>
              <a:xfrm flipH="1" flipV="1">
                <a:off x="5549760" y="5416560"/>
                <a:ext cx="39240" cy="9075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flipV="1">
                <a:off x="5511960" y="5416560"/>
                <a:ext cx="39240" cy="9075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9" name=""/>
            <p:cNvGrpSpPr/>
            <p:nvPr/>
          </p:nvGrpSpPr>
          <p:grpSpPr>
            <a:xfrm>
              <a:off x="5434200" y="4570560"/>
              <a:ext cx="77400" cy="845640"/>
              <a:chOff x="5434200" y="4570560"/>
              <a:chExt cx="77400" cy="845640"/>
            </a:xfrm>
          </p:grpSpPr>
          <p:sp>
            <p:nvSpPr>
              <p:cNvPr id="1540" name=""/>
              <p:cNvSpPr/>
              <p:nvPr/>
            </p:nvSpPr>
            <p:spPr>
              <a:xfrm flipH="1">
                <a:off x="5472000" y="4570560"/>
                <a:ext cx="39240" cy="845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434200" y="4570560"/>
                <a:ext cx="39240" cy="845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"/>
            <p:cNvGrpSpPr/>
            <p:nvPr/>
          </p:nvGrpSpPr>
          <p:grpSpPr>
            <a:xfrm>
              <a:off x="5356440" y="5416560"/>
              <a:ext cx="77400" cy="817200"/>
              <a:chOff x="5356440" y="5416560"/>
              <a:chExt cx="77400" cy="817200"/>
            </a:xfrm>
          </p:grpSpPr>
          <p:sp>
            <p:nvSpPr>
              <p:cNvPr id="1543" name=""/>
              <p:cNvSpPr/>
              <p:nvPr/>
            </p:nvSpPr>
            <p:spPr>
              <a:xfrm flipH="1" flipV="1">
                <a:off x="5394240" y="5416560"/>
                <a:ext cx="39240" cy="8172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V="1">
                <a:off x="5356440" y="5416560"/>
                <a:ext cx="39240" cy="8172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5278680" y="4675320"/>
              <a:ext cx="77400" cy="740880"/>
              <a:chOff x="5278680" y="4675320"/>
              <a:chExt cx="77400" cy="740880"/>
            </a:xfrm>
          </p:grpSpPr>
          <p:sp>
            <p:nvSpPr>
              <p:cNvPr id="1546" name=""/>
              <p:cNvSpPr/>
              <p:nvPr/>
            </p:nvSpPr>
            <p:spPr>
              <a:xfrm flipH="1">
                <a:off x="5316480" y="4675320"/>
                <a:ext cx="39240" cy="740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278680" y="4675320"/>
                <a:ext cx="39240" cy="740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5196240" y="5416920"/>
              <a:ext cx="77400" cy="696600"/>
              <a:chOff x="5196240" y="5416920"/>
              <a:chExt cx="77400" cy="696600"/>
            </a:xfrm>
          </p:grpSpPr>
          <p:sp>
            <p:nvSpPr>
              <p:cNvPr id="1549" name=""/>
              <p:cNvSpPr/>
              <p:nvPr/>
            </p:nvSpPr>
            <p:spPr>
              <a:xfrm flipH="1" flipV="1">
                <a:off x="5234040" y="5416560"/>
                <a:ext cx="39240" cy="696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V="1">
                <a:off x="5196240" y="5416560"/>
                <a:ext cx="39240" cy="696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5118480" y="4786200"/>
              <a:ext cx="77400" cy="630360"/>
              <a:chOff x="5118480" y="4786200"/>
              <a:chExt cx="77400" cy="630360"/>
            </a:xfrm>
          </p:grpSpPr>
          <p:sp>
            <p:nvSpPr>
              <p:cNvPr id="1552" name=""/>
              <p:cNvSpPr/>
              <p:nvPr/>
            </p:nvSpPr>
            <p:spPr>
              <a:xfrm flipH="1">
                <a:off x="5156280" y="4786200"/>
                <a:ext cx="39240" cy="6303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118480" y="4786200"/>
                <a:ext cx="39240" cy="6303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5040000" y="5416560"/>
              <a:ext cx="77760" cy="579600"/>
              <a:chOff x="5040000" y="5416560"/>
              <a:chExt cx="77760" cy="579600"/>
            </a:xfrm>
          </p:grpSpPr>
          <p:sp>
            <p:nvSpPr>
              <p:cNvPr id="1555" name=""/>
              <p:cNvSpPr/>
              <p:nvPr/>
            </p:nvSpPr>
            <p:spPr>
              <a:xfrm flipH="1" flipV="1">
                <a:off x="5078160" y="5416560"/>
                <a:ext cx="39240" cy="579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V="1">
                <a:off x="5040000" y="5416560"/>
                <a:ext cx="39240" cy="579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4962600" y="4889520"/>
              <a:ext cx="77400" cy="527040"/>
              <a:chOff x="4962600" y="4889520"/>
              <a:chExt cx="77400" cy="527040"/>
            </a:xfrm>
          </p:grpSpPr>
          <p:sp>
            <p:nvSpPr>
              <p:cNvPr id="1558" name=""/>
              <p:cNvSpPr/>
              <p:nvPr/>
            </p:nvSpPr>
            <p:spPr>
              <a:xfrm flipH="1">
                <a:off x="5000400" y="4889520"/>
                <a:ext cx="39240" cy="527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4962600" y="4889520"/>
                <a:ext cx="39240" cy="527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4884840" y="5416200"/>
              <a:ext cx="77400" cy="507960"/>
              <a:chOff x="4884840" y="5416200"/>
              <a:chExt cx="77400" cy="507960"/>
            </a:xfrm>
          </p:grpSpPr>
          <p:sp>
            <p:nvSpPr>
              <p:cNvPr id="1561" name=""/>
              <p:cNvSpPr/>
              <p:nvPr/>
            </p:nvSpPr>
            <p:spPr>
              <a:xfrm flipH="1" flipV="1">
                <a:off x="4922640" y="5415840"/>
                <a:ext cx="39240" cy="5079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V="1">
                <a:off x="4884840" y="5415840"/>
                <a:ext cx="39240" cy="5079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3" name=""/>
            <p:cNvSpPr/>
            <p:nvPr/>
          </p:nvSpPr>
          <p:spPr>
            <a:xfrm flipV="1">
              <a:off x="6134040" y="5415840"/>
              <a:ext cx="39600" cy="622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 flipV="1">
              <a:off x="6172200" y="5415840"/>
              <a:ext cx="39600" cy="622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"/>
            <p:cNvGrpSpPr/>
            <p:nvPr/>
          </p:nvGrpSpPr>
          <p:grpSpPr>
            <a:xfrm>
              <a:off x="6211800" y="4805280"/>
              <a:ext cx="77760" cy="610920"/>
              <a:chOff x="6211800" y="4805280"/>
              <a:chExt cx="77760" cy="610920"/>
            </a:xfrm>
          </p:grpSpPr>
          <p:sp>
            <p:nvSpPr>
              <p:cNvPr id="1566" name=""/>
              <p:cNvSpPr/>
              <p:nvPr/>
            </p:nvSpPr>
            <p:spPr>
              <a:xfrm>
                <a:off x="6211800" y="4805280"/>
                <a:ext cx="39600" cy="6109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H="1">
                <a:off x="6249960" y="4805280"/>
                <a:ext cx="39600" cy="6109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8" name=""/>
            <p:cNvGrpSpPr/>
            <p:nvPr/>
          </p:nvGrpSpPr>
          <p:grpSpPr>
            <a:xfrm>
              <a:off x="6289560" y="5416200"/>
              <a:ext cx="77760" cy="559800"/>
              <a:chOff x="6289560" y="5416200"/>
              <a:chExt cx="77760" cy="559800"/>
            </a:xfrm>
          </p:grpSpPr>
          <p:sp>
            <p:nvSpPr>
              <p:cNvPr id="1569" name=""/>
              <p:cNvSpPr/>
              <p:nvPr/>
            </p:nvSpPr>
            <p:spPr>
              <a:xfrm flipV="1">
                <a:off x="6289560" y="5415840"/>
                <a:ext cx="39600" cy="559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H="1" flipV="1">
                <a:off x="6327720" y="5415840"/>
                <a:ext cx="39600" cy="559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1" name=""/>
            <p:cNvGrpSpPr/>
            <p:nvPr/>
          </p:nvGrpSpPr>
          <p:grpSpPr>
            <a:xfrm>
              <a:off x="6367320" y="4908600"/>
              <a:ext cx="77760" cy="506520"/>
              <a:chOff x="6367320" y="4908600"/>
              <a:chExt cx="77760" cy="506520"/>
            </a:xfrm>
          </p:grpSpPr>
          <p:sp>
            <p:nvSpPr>
              <p:cNvPr id="1572" name=""/>
              <p:cNvSpPr/>
              <p:nvPr/>
            </p:nvSpPr>
            <p:spPr>
              <a:xfrm>
                <a:off x="6367320" y="4908600"/>
                <a:ext cx="39600" cy="506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6405480" y="4908600"/>
                <a:ext cx="39600" cy="506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4" name=""/>
            <p:cNvGrpSpPr/>
            <p:nvPr/>
          </p:nvGrpSpPr>
          <p:grpSpPr>
            <a:xfrm>
              <a:off x="6445080" y="5416560"/>
              <a:ext cx="77760" cy="501120"/>
              <a:chOff x="6445080" y="5416560"/>
              <a:chExt cx="77760" cy="501120"/>
            </a:xfrm>
          </p:grpSpPr>
          <p:sp>
            <p:nvSpPr>
              <p:cNvPr id="1575" name=""/>
              <p:cNvSpPr/>
              <p:nvPr/>
            </p:nvSpPr>
            <p:spPr>
              <a:xfrm flipV="1">
                <a:off x="6445080" y="5416560"/>
                <a:ext cx="39600" cy="5011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H="1" flipV="1">
                <a:off x="6483240" y="5416560"/>
                <a:ext cx="39600" cy="5011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7" name=""/>
            <p:cNvGrpSpPr/>
            <p:nvPr/>
          </p:nvGrpSpPr>
          <p:grpSpPr>
            <a:xfrm>
              <a:off x="4798800" y="4933800"/>
              <a:ext cx="77400" cy="482760"/>
              <a:chOff x="4798800" y="4933800"/>
              <a:chExt cx="77400" cy="482760"/>
            </a:xfrm>
          </p:grpSpPr>
          <p:sp>
            <p:nvSpPr>
              <p:cNvPr id="1578" name=""/>
              <p:cNvSpPr/>
              <p:nvPr/>
            </p:nvSpPr>
            <p:spPr>
              <a:xfrm>
                <a:off x="4798800" y="4933800"/>
                <a:ext cx="39240" cy="4827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4836600" y="4933800"/>
                <a:ext cx="39240" cy="4827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0" name=""/>
            <p:cNvGrpSpPr/>
            <p:nvPr/>
          </p:nvGrpSpPr>
          <p:grpSpPr>
            <a:xfrm>
              <a:off x="6686640" y="4883040"/>
              <a:ext cx="77400" cy="533520"/>
              <a:chOff x="6686640" y="4883040"/>
              <a:chExt cx="77400" cy="533520"/>
            </a:xfrm>
          </p:grpSpPr>
          <p:sp>
            <p:nvSpPr>
              <p:cNvPr id="1581" name=""/>
              <p:cNvSpPr/>
              <p:nvPr/>
            </p:nvSpPr>
            <p:spPr>
              <a:xfrm flipH="1">
                <a:off x="6724440" y="4883040"/>
                <a:ext cx="39240" cy="533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6686640" y="4883040"/>
                <a:ext cx="39240" cy="533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3" name=""/>
            <p:cNvGrpSpPr/>
            <p:nvPr/>
          </p:nvGrpSpPr>
          <p:grpSpPr>
            <a:xfrm>
              <a:off x="6608880" y="5416560"/>
              <a:ext cx="77400" cy="504720"/>
              <a:chOff x="6608880" y="5416560"/>
              <a:chExt cx="77400" cy="504720"/>
            </a:xfrm>
          </p:grpSpPr>
          <p:sp>
            <p:nvSpPr>
              <p:cNvPr id="1584" name=""/>
              <p:cNvSpPr/>
              <p:nvPr/>
            </p:nvSpPr>
            <p:spPr>
              <a:xfrm flipH="1" flipV="1">
                <a:off x="6646680" y="5416560"/>
                <a:ext cx="39240" cy="5047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V="1">
                <a:off x="6608880" y="5416560"/>
                <a:ext cx="39240" cy="5047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6" name=""/>
            <p:cNvGrpSpPr/>
            <p:nvPr/>
          </p:nvGrpSpPr>
          <p:grpSpPr>
            <a:xfrm>
              <a:off x="6522840" y="4932360"/>
              <a:ext cx="77400" cy="484200"/>
              <a:chOff x="6522840" y="4932360"/>
              <a:chExt cx="77400" cy="484200"/>
            </a:xfrm>
          </p:grpSpPr>
          <p:sp>
            <p:nvSpPr>
              <p:cNvPr id="1587" name=""/>
              <p:cNvSpPr/>
              <p:nvPr/>
            </p:nvSpPr>
            <p:spPr>
              <a:xfrm>
                <a:off x="6522840" y="4932360"/>
                <a:ext cx="39240" cy="4842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H="1">
                <a:off x="6560640" y="4932360"/>
                <a:ext cx="39240" cy="4842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9" name=""/>
          <p:cNvGrpSpPr/>
          <p:nvPr/>
        </p:nvGrpSpPr>
        <p:grpSpPr>
          <a:xfrm>
            <a:off x="1836720" y="4495680"/>
            <a:ext cx="857160" cy="219240"/>
            <a:chOff x="1836720" y="4495680"/>
            <a:chExt cx="857160" cy="219240"/>
          </a:xfrm>
        </p:grpSpPr>
        <p:sp>
          <p:nvSpPr>
            <p:cNvPr id="1590" name=""/>
            <p:cNvSpPr/>
            <p:nvPr/>
          </p:nvSpPr>
          <p:spPr>
            <a:xfrm>
              <a:off x="1836720" y="4495680"/>
              <a:ext cx="428400" cy="219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265120" y="4495680"/>
              <a:ext cx="428760" cy="219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1836720" y="6127920"/>
            <a:ext cx="857160" cy="218880"/>
            <a:chOff x="1836720" y="6127920"/>
            <a:chExt cx="857160" cy="218880"/>
          </a:xfrm>
        </p:grpSpPr>
        <p:sp>
          <p:nvSpPr>
            <p:cNvPr id="1593" name=""/>
            <p:cNvSpPr/>
            <p:nvPr/>
          </p:nvSpPr>
          <p:spPr>
            <a:xfrm flipV="1">
              <a:off x="1836720" y="6127920"/>
              <a:ext cx="428400" cy="218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2265120" y="6127920"/>
              <a:ext cx="428760" cy="218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5" name=""/>
          <p:cNvGrpSpPr/>
          <p:nvPr/>
        </p:nvGrpSpPr>
        <p:grpSpPr>
          <a:xfrm>
            <a:off x="1833480" y="4708440"/>
            <a:ext cx="77400" cy="730080"/>
            <a:chOff x="1833480" y="4708440"/>
            <a:chExt cx="77400" cy="730080"/>
          </a:xfrm>
        </p:grpSpPr>
        <p:sp>
          <p:nvSpPr>
            <p:cNvPr id="1596" name=""/>
            <p:cNvSpPr/>
            <p:nvPr/>
          </p:nvSpPr>
          <p:spPr>
            <a:xfrm>
              <a:off x="1833480" y="4708440"/>
              <a:ext cx="39240" cy="73008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1871280" y="4708440"/>
              <a:ext cx="39240" cy="73008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1911240" y="5438880"/>
            <a:ext cx="77400" cy="794880"/>
            <a:chOff x="1911240" y="5438880"/>
            <a:chExt cx="77400" cy="794880"/>
          </a:xfrm>
        </p:grpSpPr>
        <p:sp>
          <p:nvSpPr>
            <p:cNvPr id="1599" name=""/>
            <p:cNvSpPr/>
            <p:nvPr/>
          </p:nvSpPr>
          <p:spPr>
            <a:xfrm flipV="1">
              <a:off x="1911240" y="5438880"/>
              <a:ext cx="39240" cy="79488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H="1" flipV="1">
              <a:off x="1949040" y="5438880"/>
              <a:ext cx="39240" cy="79488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1" name=""/>
          <p:cNvGrpSpPr/>
          <p:nvPr/>
        </p:nvGrpSpPr>
        <p:grpSpPr>
          <a:xfrm>
            <a:off x="1989000" y="4586400"/>
            <a:ext cx="77400" cy="852120"/>
            <a:chOff x="1989000" y="4586400"/>
            <a:chExt cx="77400" cy="852120"/>
          </a:xfrm>
        </p:grpSpPr>
        <p:sp>
          <p:nvSpPr>
            <p:cNvPr id="1602" name=""/>
            <p:cNvSpPr/>
            <p:nvPr/>
          </p:nvSpPr>
          <p:spPr>
            <a:xfrm>
              <a:off x="1989000" y="4586400"/>
              <a:ext cx="39240" cy="85212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2026800" y="4586400"/>
              <a:ext cx="39240" cy="85212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4" name=""/>
          <p:cNvGrpSpPr/>
          <p:nvPr/>
        </p:nvGrpSpPr>
        <p:grpSpPr>
          <a:xfrm>
            <a:off x="1756080" y="5438880"/>
            <a:ext cx="77400" cy="682560"/>
            <a:chOff x="1756080" y="5438880"/>
            <a:chExt cx="77400" cy="682560"/>
          </a:xfrm>
        </p:grpSpPr>
        <p:sp>
          <p:nvSpPr>
            <p:cNvPr id="1605" name=""/>
            <p:cNvSpPr/>
            <p:nvPr/>
          </p:nvSpPr>
          <p:spPr>
            <a:xfrm flipH="1" flipV="1">
              <a:off x="1793880" y="5438880"/>
              <a:ext cx="39240" cy="68256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V="1">
              <a:off x="1756080" y="5438880"/>
              <a:ext cx="39240" cy="68256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7" name=""/>
          <p:cNvGrpSpPr/>
          <p:nvPr/>
        </p:nvGrpSpPr>
        <p:grpSpPr>
          <a:xfrm>
            <a:off x="1678320" y="4808520"/>
            <a:ext cx="77400" cy="630360"/>
            <a:chOff x="1678320" y="4808520"/>
            <a:chExt cx="77400" cy="630360"/>
          </a:xfrm>
        </p:grpSpPr>
        <p:sp>
          <p:nvSpPr>
            <p:cNvPr id="1608" name=""/>
            <p:cNvSpPr/>
            <p:nvPr/>
          </p:nvSpPr>
          <p:spPr>
            <a:xfrm flipH="1">
              <a:off x="1716120" y="4808520"/>
              <a:ext cx="39240" cy="63036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678320" y="4808520"/>
              <a:ext cx="39240" cy="63036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0" name=""/>
          <p:cNvGrpSpPr/>
          <p:nvPr/>
        </p:nvGrpSpPr>
        <p:grpSpPr>
          <a:xfrm>
            <a:off x="1600560" y="5438880"/>
            <a:ext cx="77400" cy="588960"/>
            <a:chOff x="1600560" y="5438880"/>
            <a:chExt cx="77400" cy="588960"/>
          </a:xfrm>
        </p:grpSpPr>
        <p:sp>
          <p:nvSpPr>
            <p:cNvPr id="1611" name=""/>
            <p:cNvSpPr/>
            <p:nvPr/>
          </p:nvSpPr>
          <p:spPr>
            <a:xfrm flipH="1" flipV="1">
              <a:off x="1638360" y="5438880"/>
              <a:ext cx="39240" cy="58896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1600560" y="5438880"/>
              <a:ext cx="39240" cy="58896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"/>
          <p:cNvGrpSpPr/>
          <p:nvPr/>
        </p:nvGrpSpPr>
        <p:grpSpPr>
          <a:xfrm>
            <a:off x="1601640" y="4495680"/>
            <a:ext cx="5164200" cy="1851120"/>
            <a:chOff x="1601640" y="4495680"/>
            <a:chExt cx="5164200" cy="1851120"/>
          </a:xfrm>
        </p:grpSpPr>
        <p:grpSp>
          <p:nvGrpSpPr>
            <p:cNvPr id="1614" name=""/>
            <p:cNvGrpSpPr/>
            <p:nvPr/>
          </p:nvGrpSpPr>
          <p:grpSpPr>
            <a:xfrm>
              <a:off x="1601640" y="5908320"/>
              <a:ext cx="5164200" cy="438480"/>
              <a:chOff x="1601640" y="5908320"/>
              <a:chExt cx="5164200" cy="438480"/>
            </a:xfrm>
          </p:grpSpPr>
          <p:grpSp>
            <p:nvGrpSpPr>
              <p:cNvPr id="1615" name=""/>
              <p:cNvGrpSpPr/>
              <p:nvPr/>
            </p:nvGrpSpPr>
            <p:grpSpPr>
              <a:xfrm>
                <a:off x="2693880" y="5908320"/>
                <a:ext cx="856800" cy="219240"/>
                <a:chOff x="2693880" y="5908320"/>
                <a:chExt cx="856800" cy="219240"/>
              </a:xfrm>
            </p:grpSpPr>
            <p:sp>
              <p:nvSpPr>
                <p:cNvPr id="1616" name=""/>
                <p:cNvSpPr/>
                <p:nvPr/>
              </p:nvSpPr>
              <p:spPr>
                <a:xfrm flipV="1">
                  <a:off x="2693880" y="5907960"/>
                  <a:ext cx="428400" cy="2192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042" y="1591"/>
                      </a:lnTo>
                      <a:lnTo>
                        <a:pt x="1958" y="3108"/>
                      </a:lnTo>
                      <a:lnTo>
                        <a:pt x="3000" y="4625"/>
                      </a:lnTo>
                      <a:lnTo>
                        <a:pt x="3958" y="6253"/>
                      </a:lnTo>
                      <a:lnTo>
                        <a:pt x="5042" y="7660"/>
                      </a:lnTo>
                      <a:lnTo>
                        <a:pt x="5958" y="9029"/>
                      </a:lnTo>
                      <a:lnTo>
                        <a:pt x="7000" y="10416"/>
                      </a:lnTo>
                      <a:lnTo>
                        <a:pt x="7958" y="11730"/>
                      </a:lnTo>
                      <a:lnTo>
                        <a:pt x="9000" y="12969"/>
                      </a:lnTo>
                      <a:lnTo>
                        <a:pt x="10042" y="14080"/>
                      </a:lnTo>
                      <a:lnTo>
                        <a:pt x="11000" y="15134"/>
                      </a:lnTo>
                      <a:lnTo>
                        <a:pt x="12000" y="16189"/>
                      </a:lnTo>
                      <a:lnTo>
                        <a:pt x="12958" y="16984"/>
                      </a:lnTo>
                      <a:lnTo>
                        <a:pt x="14042" y="17743"/>
                      </a:lnTo>
                      <a:lnTo>
                        <a:pt x="14958" y="18464"/>
                      </a:lnTo>
                      <a:lnTo>
                        <a:pt x="16000" y="19019"/>
                      </a:lnTo>
                      <a:lnTo>
                        <a:pt x="16958" y="19408"/>
                      </a:lnTo>
                      <a:lnTo>
                        <a:pt x="18042" y="19759"/>
                      </a:lnTo>
                      <a:lnTo>
                        <a:pt x="18917" y="19944"/>
                      </a:lnTo>
                      <a:lnTo>
                        <a:pt x="19958" y="19981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flipV="1">
                  <a:off x="3122280" y="5907960"/>
                  <a:ext cx="428400" cy="2192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0"/>
                      </a:moveTo>
                      <a:lnTo>
                        <a:pt x="18958" y="1591"/>
                      </a:lnTo>
                      <a:lnTo>
                        <a:pt x="18042" y="3108"/>
                      </a:lnTo>
                      <a:lnTo>
                        <a:pt x="17000" y="4625"/>
                      </a:lnTo>
                      <a:lnTo>
                        <a:pt x="16042" y="6253"/>
                      </a:lnTo>
                      <a:lnTo>
                        <a:pt x="14958" y="7660"/>
                      </a:lnTo>
                      <a:lnTo>
                        <a:pt x="14042" y="9029"/>
                      </a:lnTo>
                      <a:lnTo>
                        <a:pt x="12958" y="10416"/>
                      </a:lnTo>
                      <a:lnTo>
                        <a:pt x="12000" y="11730"/>
                      </a:lnTo>
                      <a:lnTo>
                        <a:pt x="11000" y="12969"/>
                      </a:lnTo>
                      <a:lnTo>
                        <a:pt x="10042" y="14080"/>
                      </a:lnTo>
                      <a:lnTo>
                        <a:pt x="9000" y="15134"/>
                      </a:lnTo>
                      <a:lnTo>
                        <a:pt x="8000" y="16189"/>
                      </a:lnTo>
                      <a:lnTo>
                        <a:pt x="7000" y="16984"/>
                      </a:lnTo>
                      <a:lnTo>
                        <a:pt x="6042" y="17743"/>
                      </a:lnTo>
                      <a:lnTo>
                        <a:pt x="5042" y="18464"/>
                      </a:lnTo>
                      <a:lnTo>
                        <a:pt x="4000" y="19019"/>
                      </a:lnTo>
                      <a:lnTo>
                        <a:pt x="3000" y="19408"/>
                      </a:lnTo>
                      <a:lnTo>
                        <a:pt x="2042" y="19759"/>
                      </a:lnTo>
                      <a:lnTo>
                        <a:pt x="1042" y="19944"/>
                      </a:lnTo>
                      <a:lnTo>
                        <a:pt x="0" y="19981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8" name=""/>
              <p:cNvGrpSpPr/>
              <p:nvPr/>
            </p:nvGrpSpPr>
            <p:grpSpPr>
              <a:xfrm>
                <a:off x="3551040" y="5908680"/>
                <a:ext cx="1714320" cy="437760"/>
                <a:chOff x="3551040" y="5908680"/>
                <a:chExt cx="1714320" cy="437760"/>
              </a:xfrm>
            </p:grpSpPr>
            <p:grpSp>
              <p:nvGrpSpPr>
                <p:cNvPr id="1619" name=""/>
                <p:cNvGrpSpPr/>
                <p:nvPr/>
              </p:nvGrpSpPr>
              <p:grpSpPr>
                <a:xfrm>
                  <a:off x="3551040" y="6127560"/>
                  <a:ext cx="855720" cy="218880"/>
                  <a:chOff x="3551040" y="6127560"/>
                  <a:chExt cx="855720" cy="218880"/>
                </a:xfrm>
              </p:grpSpPr>
              <p:sp>
                <p:nvSpPr>
                  <p:cNvPr id="1620" name=""/>
                  <p:cNvSpPr/>
                  <p:nvPr/>
                </p:nvSpPr>
                <p:spPr>
                  <a:xfrm flipV="1">
                    <a:off x="3551040" y="6127560"/>
                    <a:ext cx="42804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1"/>
                        </a:moveTo>
                        <a:lnTo>
                          <a:pt x="1042" y="18390"/>
                        </a:lnTo>
                        <a:lnTo>
                          <a:pt x="1958" y="16873"/>
                        </a:lnTo>
                        <a:lnTo>
                          <a:pt x="3000" y="15356"/>
                        </a:lnTo>
                        <a:lnTo>
                          <a:pt x="3958" y="13747"/>
                        </a:lnTo>
                        <a:lnTo>
                          <a:pt x="5042" y="12340"/>
                        </a:lnTo>
                        <a:lnTo>
                          <a:pt x="5958" y="10953"/>
                        </a:lnTo>
                        <a:lnTo>
                          <a:pt x="7000" y="9584"/>
                        </a:lnTo>
                        <a:lnTo>
                          <a:pt x="7958" y="8252"/>
                        </a:lnTo>
                        <a:lnTo>
                          <a:pt x="9000" y="7012"/>
                        </a:lnTo>
                        <a:lnTo>
                          <a:pt x="10042" y="5920"/>
                        </a:lnTo>
                        <a:lnTo>
                          <a:pt x="11000" y="4847"/>
                        </a:lnTo>
                        <a:lnTo>
                          <a:pt x="12000" y="3793"/>
                        </a:lnTo>
                        <a:lnTo>
                          <a:pt x="12958" y="3016"/>
                        </a:lnTo>
                        <a:lnTo>
                          <a:pt x="14042" y="2239"/>
                        </a:lnTo>
                        <a:lnTo>
                          <a:pt x="14958" y="1536"/>
                        </a:lnTo>
                        <a:lnTo>
                          <a:pt x="16000" y="962"/>
                        </a:lnTo>
                        <a:lnTo>
                          <a:pt x="16958" y="592"/>
                        </a:lnTo>
                        <a:lnTo>
                          <a:pt x="18042" y="222"/>
                        </a:lnTo>
                        <a:lnTo>
                          <a:pt x="18917" y="37"/>
                        </a:lnTo>
                        <a:lnTo>
                          <a:pt x="1995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 flipV="1">
                    <a:off x="3979080" y="6127560"/>
                    <a:ext cx="42768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58" y="19981"/>
                        </a:moveTo>
                        <a:lnTo>
                          <a:pt x="18958" y="18390"/>
                        </a:lnTo>
                        <a:lnTo>
                          <a:pt x="18042" y="16873"/>
                        </a:lnTo>
                        <a:lnTo>
                          <a:pt x="17000" y="15356"/>
                        </a:lnTo>
                        <a:lnTo>
                          <a:pt x="16042" y="13747"/>
                        </a:lnTo>
                        <a:lnTo>
                          <a:pt x="14958" y="12340"/>
                        </a:lnTo>
                        <a:lnTo>
                          <a:pt x="14042" y="10953"/>
                        </a:lnTo>
                        <a:lnTo>
                          <a:pt x="12958" y="9584"/>
                        </a:lnTo>
                        <a:lnTo>
                          <a:pt x="12000" y="8252"/>
                        </a:lnTo>
                        <a:lnTo>
                          <a:pt x="11000" y="7012"/>
                        </a:lnTo>
                        <a:lnTo>
                          <a:pt x="10042" y="5920"/>
                        </a:lnTo>
                        <a:lnTo>
                          <a:pt x="9000" y="4847"/>
                        </a:lnTo>
                        <a:lnTo>
                          <a:pt x="8000" y="3793"/>
                        </a:lnTo>
                        <a:lnTo>
                          <a:pt x="7000" y="3016"/>
                        </a:lnTo>
                        <a:lnTo>
                          <a:pt x="6042" y="2239"/>
                        </a:lnTo>
                        <a:lnTo>
                          <a:pt x="5042" y="1536"/>
                        </a:lnTo>
                        <a:lnTo>
                          <a:pt x="4000" y="962"/>
                        </a:lnTo>
                        <a:lnTo>
                          <a:pt x="3000" y="592"/>
                        </a:lnTo>
                        <a:lnTo>
                          <a:pt x="2042" y="222"/>
                        </a:lnTo>
                        <a:lnTo>
                          <a:pt x="1042" y="3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2" name=""/>
                <p:cNvGrpSpPr/>
                <p:nvPr/>
              </p:nvGrpSpPr>
              <p:grpSpPr>
                <a:xfrm>
                  <a:off x="4408560" y="5908680"/>
                  <a:ext cx="856800" cy="218880"/>
                  <a:chOff x="4408560" y="5908680"/>
                  <a:chExt cx="856800" cy="218880"/>
                </a:xfrm>
              </p:grpSpPr>
              <p:sp>
                <p:nvSpPr>
                  <p:cNvPr id="1623" name=""/>
                  <p:cNvSpPr/>
                  <p:nvPr/>
                </p:nvSpPr>
                <p:spPr>
                  <a:xfrm flipV="1">
                    <a:off x="4408560" y="5908680"/>
                    <a:ext cx="42768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042" y="1591"/>
                        </a:lnTo>
                        <a:lnTo>
                          <a:pt x="1958" y="3108"/>
                        </a:lnTo>
                        <a:lnTo>
                          <a:pt x="3000" y="4625"/>
                        </a:lnTo>
                        <a:lnTo>
                          <a:pt x="3958" y="6253"/>
                        </a:lnTo>
                        <a:lnTo>
                          <a:pt x="5042" y="7660"/>
                        </a:lnTo>
                        <a:lnTo>
                          <a:pt x="5958" y="9029"/>
                        </a:lnTo>
                        <a:lnTo>
                          <a:pt x="7000" y="10416"/>
                        </a:lnTo>
                        <a:lnTo>
                          <a:pt x="7958" y="11730"/>
                        </a:lnTo>
                        <a:lnTo>
                          <a:pt x="9000" y="12969"/>
                        </a:lnTo>
                        <a:lnTo>
                          <a:pt x="10042" y="14080"/>
                        </a:lnTo>
                        <a:lnTo>
                          <a:pt x="11000" y="15134"/>
                        </a:lnTo>
                        <a:lnTo>
                          <a:pt x="12000" y="16189"/>
                        </a:lnTo>
                        <a:lnTo>
                          <a:pt x="12958" y="16984"/>
                        </a:lnTo>
                        <a:lnTo>
                          <a:pt x="14042" y="17743"/>
                        </a:lnTo>
                        <a:lnTo>
                          <a:pt x="14958" y="18464"/>
                        </a:lnTo>
                        <a:lnTo>
                          <a:pt x="16000" y="19019"/>
                        </a:lnTo>
                        <a:lnTo>
                          <a:pt x="16958" y="19408"/>
                        </a:lnTo>
                        <a:lnTo>
                          <a:pt x="18042" y="19759"/>
                        </a:lnTo>
                        <a:lnTo>
                          <a:pt x="18917" y="19944"/>
                        </a:lnTo>
                        <a:lnTo>
                          <a:pt x="19958" y="19981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"/>
                  <p:cNvSpPr/>
                  <p:nvPr/>
                </p:nvSpPr>
                <p:spPr>
                  <a:xfrm flipV="1">
                    <a:off x="4837320" y="5908680"/>
                    <a:ext cx="42804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58" y="0"/>
                        </a:moveTo>
                        <a:lnTo>
                          <a:pt x="18958" y="1591"/>
                        </a:lnTo>
                        <a:lnTo>
                          <a:pt x="18042" y="3108"/>
                        </a:lnTo>
                        <a:lnTo>
                          <a:pt x="17000" y="4625"/>
                        </a:lnTo>
                        <a:lnTo>
                          <a:pt x="16042" y="6253"/>
                        </a:lnTo>
                        <a:lnTo>
                          <a:pt x="14958" y="7660"/>
                        </a:lnTo>
                        <a:lnTo>
                          <a:pt x="14042" y="9029"/>
                        </a:lnTo>
                        <a:lnTo>
                          <a:pt x="12958" y="10416"/>
                        </a:lnTo>
                        <a:lnTo>
                          <a:pt x="12000" y="11730"/>
                        </a:lnTo>
                        <a:lnTo>
                          <a:pt x="11000" y="12969"/>
                        </a:lnTo>
                        <a:lnTo>
                          <a:pt x="10042" y="14080"/>
                        </a:lnTo>
                        <a:lnTo>
                          <a:pt x="9000" y="15134"/>
                        </a:lnTo>
                        <a:lnTo>
                          <a:pt x="8000" y="16189"/>
                        </a:lnTo>
                        <a:lnTo>
                          <a:pt x="7000" y="16984"/>
                        </a:lnTo>
                        <a:lnTo>
                          <a:pt x="6042" y="17743"/>
                        </a:lnTo>
                        <a:lnTo>
                          <a:pt x="5042" y="18464"/>
                        </a:lnTo>
                        <a:lnTo>
                          <a:pt x="4000" y="19019"/>
                        </a:lnTo>
                        <a:lnTo>
                          <a:pt x="3000" y="19408"/>
                        </a:lnTo>
                        <a:lnTo>
                          <a:pt x="2042" y="19759"/>
                        </a:lnTo>
                        <a:lnTo>
                          <a:pt x="1042" y="19944"/>
                        </a:lnTo>
                        <a:lnTo>
                          <a:pt x="0" y="19981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25" name=""/>
              <p:cNvGrpSpPr/>
              <p:nvPr/>
            </p:nvGrpSpPr>
            <p:grpSpPr>
              <a:xfrm>
                <a:off x="5263920" y="5908320"/>
                <a:ext cx="1501920" cy="438480"/>
                <a:chOff x="5263920" y="5908320"/>
                <a:chExt cx="1501920" cy="438480"/>
              </a:xfrm>
            </p:grpSpPr>
            <p:grpSp>
              <p:nvGrpSpPr>
                <p:cNvPr id="1626" name=""/>
                <p:cNvGrpSpPr/>
                <p:nvPr/>
              </p:nvGrpSpPr>
              <p:grpSpPr>
                <a:xfrm>
                  <a:off x="5263920" y="6127920"/>
                  <a:ext cx="857160" cy="218880"/>
                  <a:chOff x="5263920" y="6127920"/>
                  <a:chExt cx="857160" cy="218880"/>
                </a:xfrm>
              </p:grpSpPr>
              <p:sp>
                <p:nvSpPr>
                  <p:cNvPr id="1627" name=""/>
                  <p:cNvSpPr/>
                  <p:nvPr/>
                </p:nvSpPr>
                <p:spPr>
                  <a:xfrm flipV="1">
                    <a:off x="5263920" y="6127920"/>
                    <a:ext cx="42876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1"/>
                        </a:moveTo>
                        <a:lnTo>
                          <a:pt x="1042" y="18390"/>
                        </a:lnTo>
                        <a:lnTo>
                          <a:pt x="1958" y="16873"/>
                        </a:lnTo>
                        <a:lnTo>
                          <a:pt x="3000" y="15356"/>
                        </a:lnTo>
                        <a:lnTo>
                          <a:pt x="3958" y="13747"/>
                        </a:lnTo>
                        <a:lnTo>
                          <a:pt x="5042" y="12340"/>
                        </a:lnTo>
                        <a:lnTo>
                          <a:pt x="5958" y="10953"/>
                        </a:lnTo>
                        <a:lnTo>
                          <a:pt x="7000" y="9584"/>
                        </a:lnTo>
                        <a:lnTo>
                          <a:pt x="7958" y="8252"/>
                        </a:lnTo>
                        <a:lnTo>
                          <a:pt x="9000" y="7012"/>
                        </a:lnTo>
                        <a:lnTo>
                          <a:pt x="10042" y="5920"/>
                        </a:lnTo>
                        <a:lnTo>
                          <a:pt x="11000" y="4847"/>
                        </a:lnTo>
                        <a:lnTo>
                          <a:pt x="12000" y="3793"/>
                        </a:lnTo>
                        <a:lnTo>
                          <a:pt x="12958" y="3016"/>
                        </a:lnTo>
                        <a:lnTo>
                          <a:pt x="14042" y="2239"/>
                        </a:lnTo>
                        <a:lnTo>
                          <a:pt x="14958" y="1536"/>
                        </a:lnTo>
                        <a:lnTo>
                          <a:pt x="16000" y="962"/>
                        </a:lnTo>
                        <a:lnTo>
                          <a:pt x="16958" y="592"/>
                        </a:lnTo>
                        <a:lnTo>
                          <a:pt x="18042" y="222"/>
                        </a:lnTo>
                        <a:lnTo>
                          <a:pt x="18917" y="37"/>
                        </a:lnTo>
                        <a:lnTo>
                          <a:pt x="1995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 flipV="1">
                    <a:off x="5692680" y="6127920"/>
                    <a:ext cx="42840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58" y="19981"/>
                        </a:moveTo>
                        <a:lnTo>
                          <a:pt x="18958" y="18390"/>
                        </a:lnTo>
                        <a:lnTo>
                          <a:pt x="18042" y="16873"/>
                        </a:lnTo>
                        <a:lnTo>
                          <a:pt x="17000" y="15356"/>
                        </a:lnTo>
                        <a:lnTo>
                          <a:pt x="16042" y="13747"/>
                        </a:lnTo>
                        <a:lnTo>
                          <a:pt x="14958" y="12340"/>
                        </a:lnTo>
                        <a:lnTo>
                          <a:pt x="14042" y="10953"/>
                        </a:lnTo>
                        <a:lnTo>
                          <a:pt x="12958" y="9584"/>
                        </a:lnTo>
                        <a:lnTo>
                          <a:pt x="12000" y="8252"/>
                        </a:lnTo>
                        <a:lnTo>
                          <a:pt x="11000" y="7012"/>
                        </a:lnTo>
                        <a:lnTo>
                          <a:pt x="10042" y="5920"/>
                        </a:lnTo>
                        <a:lnTo>
                          <a:pt x="9000" y="4847"/>
                        </a:lnTo>
                        <a:lnTo>
                          <a:pt x="8000" y="3793"/>
                        </a:lnTo>
                        <a:lnTo>
                          <a:pt x="7000" y="3016"/>
                        </a:lnTo>
                        <a:lnTo>
                          <a:pt x="6042" y="2239"/>
                        </a:lnTo>
                        <a:lnTo>
                          <a:pt x="5042" y="1536"/>
                        </a:lnTo>
                        <a:lnTo>
                          <a:pt x="4000" y="962"/>
                        </a:lnTo>
                        <a:lnTo>
                          <a:pt x="3000" y="592"/>
                        </a:lnTo>
                        <a:lnTo>
                          <a:pt x="2042" y="222"/>
                        </a:lnTo>
                        <a:lnTo>
                          <a:pt x="1042" y="3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9" name=""/>
                <p:cNvGrpSpPr/>
                <p:nvPr/>
              </p:nvGrpSpPr>
              <p:grpSpPr>
                <a:xfrm>
                  <a:off x="6121080" y="5908320"/>
                  <a:ext cx="644760" cy="219240"/>
                  <a:chOff x="6121080" y="5908320"/>
                  <a:chExt cx="644760" cy="219240"/>
                </a:xfrm>
              </p:grpSpPr>
              <p:sp>
                <p:nvSpPr>
                  <p:cNvPr id="1630" name=""/>
                  <p:cNvSpPr/>
                  <p:nvPr/>
                </p:nvSpPr>
                <p:spPr>
                  <a:xfrm flipV="1">
                    <a:off x="6121080" y="5907960"/>
                    <a:ext cx="428760" cy="21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042" y="1591"/>
                        </a:lnTo>
                        <a:lnTo>
                          <a:pt x="1958" y="3108"/>
                        </a:lnTo>
                        <a:lnTo>
                          <a:pt x="3000" y="4625"/>
                        </a:lnTo>
                        <a:lnTo>
                          <a:pt x="3958" y="6253"/>
                        </a:lnTo>
                        <a:lnTo>
                          <a:pt x="5042" y="7660"/>
                        </a:lnTo>
                        <a:lnTo>
                          <a:pt x="5958" y="9029"/>
                        </a:lnTo>
                        <a:lnTo>
                          <a:pt x="7000" y="10416"/>
                        </a:lnTo>
                        <a:lnTo>
                          <a:pt x="7958" y="11730"/>
                        </a:lnTo>
                        <a:lnTo>
                          <a:pt x="9000" y="12969"/>
                        </a:lnTo>
                        <a:lnTo>
                          <a:pt x="10042" y="14080"/>
                        </a:lnTo>
                        <a:lnTo>
                          <a:pt x="11000" y="15134"/>
                        </a:lnTo>
                        <a:lnTo>
                          <a:pt x="12000" y="16189"/>
                        </a:lnTo>
                        <a:lnTo>
                          <a:pt x="12958" y="16984"/>
                        </a:lnTo>
                        <a:lnTo>
                          <a:pt x="14042" y="17743"/>
                        </a:lnTo>
                        <a:lnTo>
                          <a:pt x="14958" y="18464"/>
                        </a:lnTo>
                        <a:lnTo>
                          <a:pt x="16000" y="19019"/>
                        </a:lnTo>
                        <a:lnTo>
                          <a:pt x="16958" y="19408"/>
                        </a:lnTo>
                        <a:lnTo>
                          <a:pt x="18042" y="19759"/>
                        </a:lnTo>
                        <a:lnTo>
                          <a:pt x="18917" y="19944"/>
                        </a:lnTo>
                        <a:lnTo>
                          <a:pt x="19958" y="19981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>
                    <a:off x="6549840" y="5908680"/>
                    <a:ext cx="21600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41">
                        <a:moveTo>
                          <a:pt x="136" y="41"/>
                        </a:moveTo>
                        <a:lnTo>
                          <a:pt x="122" y="34"/>
                        </a:lnTo>
                        <a:lnTo>
                          <a:pt x="108" y="26"/>
                        </a:lnTo>
                        <a:lnTo>
                          <a:pt x="95" y="21"/>
                        </a:lnTo>
                        <a:lnTo>
                          <a:pt x="82" y="16"/>
                        </a:lnTo>
                        <a:lnTo>
                          <a:pt x="68" y="11"/>
                        </a:lnTo>
                        <a:lnTo>
                          <a:pt x="54" y="7"/>
                        </a:lnTo>
                        <a:lnTo>
                          <a:pt x="41" y="4"/>
                        </a:lnTo>
                        <a:lnTo>
                          <a:pt x="28" y="2"/>
                        </a:lnTo>
                        <a:lnTo>
                          <a:pt x="1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32" name=""/>
              <p:cNvSpPr/>
              <p:nvPr/>
            </p:nvSpPr>
            <p:spPr>
              <a:xfrm>
                <a:off x="1601640" y="5962680"/>
                <a:ext cx="233280" cy="165240"/>
              </a:xfrm>
              <a:custGeom>
                <a:avLst/>
                <a:gdLst/>
                <a:ahLst/>
                <a:rect l="l" t="t" r="r" b="b"/>
                <a:pathLst>
                  <a:path w="147" h="104">
                    <a:moveTo>
                      <a:pt x="147" y="104"/>
                    </a:moveTo>
                    <a:lnTo>
                      <a:pt x="134" y="93"/>
                    </a:lnTo>
                    <a:lnTo>
                      <a:pt x="122" y="83"/>
                    </a:lnTo>
                    <a:lnTo>
                      <a:pt x="108" y="72"/>
                    </a:lnTo>
                    <a:lnTo>
                      <a:pt x="95" y="61"/>
                    </a:lnTo>
                    <a:lnTo>
                      <a:pt x="80" y="51"/>
                    </a:lnTo>
                    <a:lnTo>
                      <a:pt x="68" y="42"/>
                    </a:lnTo>
                    <a:lnTo>
                      <a:pt x="53" y="32"/>
                    </a:lnTo>
                    <a:lnTo>
                      <a:pt x="40" y="23"/>
                    </a:lnTo>
                    <a:lnTo>
                      <a:pt x="27" y="15"/>
                    </a:lnTo>
                    <a:lnTo>
                      <a:pt x="14" y="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3" name=""/>
            <p:cNvGrpSpPr/>
            <p:nvPr/>
          </p:nvGrpSpPr>
          <p:grpSpPr>
            <a:xfrm>
              <a:off x="1601640" y="4495680"/>
              <a:ext cx="5164200" cy="438120"/>
              <a:chOff x="1601640" y="4495680"/>
              <a:chExt cx="5164200" cy="438120"/>
            </a:xfrm>
          </p:grpSpPr>
          <p:grpSp>
            <p:nvGrpSpPr>
              <p:cNvPr id="1634" name=""/>
              <p:cNvGrpSpPr/>
              <p:nvPr/>
            </p:nvGrpSpPr>
            <p:grpSpPr>
              <a:xfrm>
                <a:off x="3551040" y="4495680"/>
                <a:ext cx="1714320" cy="437760"/>
                <a:chOff x="3551040" y="4495680"/>
                <a:chExt cx="1714320" cy="437760"/>
              </a:xfrm>
            </p:grpSpPr>
            <p:grpSp>
              <p:nvGrpSpPr>
                <p:cNvPr id="1635" name=""/>
                <p:cNvGrpSpPr/>
                <p:nvPr/>
              </p:nvGrpSpPr>
              <p:grpSpPr>
                <a:xfrm>
                  <a:off x="3551040" y="4495680"/>
                  <a:ext cx="855720" cy="218880"/>
                  <a:chOff x="3551040" y="4495680"/>
                  <a:chExt cx="855720" cy="218880"/>
                </a:xfrm>
              </p:grpSpPr>
              <p:sp>
                <p:nvSpPr>
                  <p:cNvPr id="1636" name=""/>
                  <p:cNvSpPr/>
                  <p:nvPr/>
                </p:nvSpPr>
                <p:spPr>
                  <a:xfrm>
                    <a:off x="3551040" y="4495680"/>
                    <a:ext cx="42804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1"/>
                        </a:moveTo>
                        <a:lnTo>
                          <a:pt x="1042" y="18390"/>
                        </a:lnTo>
                        <a:lnTo>
                          <a:pt x="1958" y="16873"/>
                        </a:lnTo>
                        <a:lnTo>
                          <a:pt x="3000" y="15356"/>
                        </a:lnTo>
                        <a:lnTo>
                          <a:pt x="3958" y="13747"/>
                        </a:lnTo>
                        <a:lnTo>
                          <a:pt x="5042" y="12340"/>
                        </a:lnTo>
                        <a:lnTo>
                          <a:pt x="5958" y="10953"/>
                        </a:lnTo>
                        <a:lnTo>
                          <a:pt x="7000" y="9584"/>
                        </a:lnTo>
                        <a:lnTo>
                          <a:pt x="7958" y="8252"/>
                        </a:lnTo>
                        <a:lnTo>
                          <a:pt x="9000" y="7012"/>
                        </a:lnTo>
                        <a:lnTo>
                          <a:pt x="10042" y="5920"/>
                        </a:lnTo>
                        <a:lnTo>
                          <a:pt x="11000" y="4847"/>
                        </a:lnTo>
                        <a:lnTo>
                          <a:pt x="12000" y="3793"/>
                        </a:lnTo>
                        <a:lnTo>
                          <a:pt x="12958" y="3016"/>
                        </a:lnTo>
                        <a:lnTo>
                          <a:pt x="14042" y="2239"/>
                        </a:lnTo>
                        <a:lnTo>
                          <a:pt x="14958" y="1536"/>
                        </a:lnTo>
                        <a:lnTo>
                          <a:pt x="16000" y="962"/>
                        </a:lnTo>
                        <a:lnTo>
                          <a:pt x="16958" y="592"/>
                        </a:lnTo>
                        <a:lnTo>
                          <a:pt x="18042" y="222"/>
                        </a:lnTo>
                        <a:lnTo>
                          <a:pt x="18917" y="37"/>
                        </a:lnTo>
                        <a:lnTo>
                          <a:pt x="1995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>
                    <a:off x="3979080" y="4495680"/>
                    <a:ext cx="42768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58" y="19981"/>
                        </a:moveTo>
                        <a:lnTo>
                          <a:pt x="18958" y="18390"/>
                        </a:lnTo>
                        <a:lnTo>
                          <a:pt x="18042" y="16873"/>
                        </a:lnTo>
                        <a:lnTo>
                          <a:pt x="17000" y="15356"/>
                        </a:lnTo>
                        <a:lnTo>
                          <a:pt x="16042" y="13747"/>
                        </a:lnTo>
                        <a:lnTo>
                          <a:pt x="14958" y="12340"/>
                        </a:lnTo>
                        <a:lnTo>
                          <a:pt x="14042" y="10953"/>
                        </a:lnTo>
                        <a:lnTo>
                          <a:pt x="12958" y="9584"/>
                        </a:lnTo>
                        <a:lnTo>
                          <a:pt x="12000" y="8252"/>
                        </a:lnTo>
                        <a:lnTo>
                          <a:pt x="11000" y="7012"/>
                        </a:lnTo>
                        <a:lnTo>
                          <a:pt x="10042" y="5920"/>
                        </a:lnTo>
                        <a:lnTo>
                          <a:pt x="9000" y="4847"/>
                        </a:lnTo>
                        <a:lnTo>
                          <a:pt x="8000" y="3793"/>
                        </a:lnTo>
                        <a:lnTo>
                          <a:pt x="7000" y="3016"/>
                        </a:lnTo>
                        <a:lnTo>
                          <a:pt x="6042" y="2239"/>
                        </a:lnTo>
                        <a:lnTo>
                          <a:pt x="5042" y="1536"/>
                        </a:lnTo>
                        <a:lnTo>
                          <a:pt x="4000" y="962"/>
                        </a:lnTo>
                        <a:lnTo>
                          <a:pt x="3000" y="592"/>
                        </a:lnTo>
                        <a:lnTo>
                          <a:pt x="2042" y="222"/>
                        </a:lnTo>
                        <a:lnTo>
                          <a:pt x="1042" y="3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8" name=""/>
                <p:cNvGrpSpPr/>
                <p:nvPr/>
              </p:nvGrpSpPr>
              <p:grpSpPr>
                <a:xfrm>
                  <a:off x="4408560" y="4714560"/>
                  <a:ext cx="856800" cy="218880"/>
                  <a:chOff x="4408560" y="4714560"/>
                  <a:chExt cx="856800" cy="218880"/>
                </a:xfrm>
              </p:grpSpPr>
              <p:sp>
                <p:nvSpPr>
                  <p:cNvPr id="1639" name=""/>
                  <p:cNvSpPr/>
                  <p:nvPr/>
                </p:nvSpPr>
                <p:spPr>
                  <a:xfrm>
                    <a:off x="4408560" y="4714560"/>
                    <a:ext cx="42768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042" y="1591"/>
                        </a:lnTo>
                        <a:lnTo>
                          <a:pt x="1958" y="3108"/>
                        </a:lnTo>
                        <a:lnTo>
                          <a:pt x="3000" y="4625"/>
                        </a:lnTo>
                        <a:lnTo>
                          <a:pt x="3958" y="6253"/>
                        </a:lnTo>
                        <a:lnTo>
                          <a:pt x="5042" y="7660"/>
                        </a:lnTo>
                        <a:lnTo>
                          <a:pt x="5958" y="9029"/>
                        </a:lnTo>
                        <a:lnTo>
                          <a:pt x="7000" y="10416"/>
                        </a:lnTo>
                        <a:lnTo>
                          <a:pt x="7958" y="11730"/>
                        </a:lnTo>
                        <a:lnTo>
                          <a:pt x="9000" y="12969"/>
                        </a:lnTo>
                        <a:lnTo>
                          <a:pt x="10042" y="14080"/>
                        </a:lnTo>
                        <a:lnTo>
                          <a:pt x="11000" y="15134"/>
                        </a:lnTo>
                        <a:lnTo>
                          <a:pt x="12000" y="16189"/>
                        </a:lnTo>
                        <a:lnTo>
                          <a:pt x="12958" y="16984"/>
                        </a:lnTo>
                        <a:lnTo>
                          <a:pt x="14042" y="17743"/>
                        </a:lnTo>
                        <a:lnTo>
                          <a:pt x="14958" y="18464"/>
                        </a:lnTo>
                        <a:lnTo>
                          <a:pt x="16000" y="19019"/>
                        </a:lnTo>
                        <a:lnTo>
                          <a:pt x="16958" y="19408"/>
                        </a:lnTo>
                        <a:lnTo>
                          <a:pt x="18042" y="19759"/>
                        </a:lnTo>
                        <a:lnTo>
                          <a:pt x="18917" y="19944"/>
                        </a:lnTo>
                        <a:lnTo>
                          <a:pt x="19958" y="19981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"/>
                  <p:cNvSpPr/>
                  <p:nvPr/>
                </p:nvSpPr>
                <p:spPr>
                  <a:xfrm>
                    <a:off x="4837320" y="4714560"/>
                    <a:ext cx="42804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58" y="0"/>
                        </a:moveTo>
                        <a:lnTo>
                          <a:pt x="18958" y="1591"/>
                        </a:lnTo>
                        <a:lnTo>
                          <a:pt x="18042" y="3108"/>
                        </a:lnTo>
                        <a:lnTo>
                          <a:pt x="17000" y="4625"/>
                        </a:lnTo>
                        <a:lnTo>
                          <a:pt x="16042" y="6253"/>
                        </a:lnTo>
                        <a:lnTo>
                          <a:pt x="14958" y="7660"/>
                        </a:lnTo>
                        <a:lnTo>
                          <a:pt x="14042" y="9029"/>
                        </a:lnTo>
                        <a:lnTo>
                          <a:pt x="12958" y="10416"/>
                        </a:lnTo>
                        <a:lnTo>
                          <a:pt x="12000" y="11730"/>
                        </a:lnTo>
                        <a:lnTo>
                          <a:pt x="11000" y="12969"/>
                        </a:lnTo>
                        <a:lnTo>
                          <a:pt x="10042" y="14080"/>
                        </a:lnTo>
                        <a:lnTo>
                          <a:pt x="9000" y="15134"/>
                        </a:lnTo>
                        <a:lnTo>
                          <a:pt x="8000" y="16189"/>
                        </a:lnTo>
                        <a:lnTo>
                          <a:pt x="7000" y="16984"/>
                        </a:lnTo>
                        <a:lnTo>
                          <a:pt x="6042" y="17743"/>
                        </a:lnTo>
                        <a:lnTo>
                          <a:pt x="5042" y="18464"/>
                        </a:lnTo>
                        <a:lnTo>
                          <a:pt x="4000" y="19019"/>
                        </a:lnTo>
                        <a:lnTo>
                          <a:pt x="3000" y="19408"/>
                        </a:lnTo>
                        <a:lnTo>
                          <a:pt x="2042" y="19759"/>
                        </a:lnTo>
                        <a:lnTo>
                          <a:pt x="1042" y="19944"/>
                        </a:lnTo>
                        <a:lnTo>
                          <a:pt x="0" y="19981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1" name=""/>
              <p:cNvGrpSpPr/>
              <p:nvPr/>
            </p:nvGrpSpPr>
            <p:grpSpPr>
              <a:xfrm>
                <a:off x="5263920" y="4495680"/>
                <a:ext cx="1501920" cy="438120"/>
                <a:chOff x="5263920" y="4495680"/>
                <a:chExt cx="1501920" cy="438120"/>
              </a:xfrm>
            </p:grpSpPr>
            <p:grpSp>
              <p:nvGrpSpPr>
                <p:cNvPr id="1642" name=""/>
                <p:cNvGrpSpPr/>
                <p:nvPr/>
              </p:nvGrpSpPr>
              <p:grpSpPr>
                <a:xfrm>
                  <a:off x="5263920" y="4495680"/>
                  <a:ext cx="857160" cy="219240"/>
                  <a:chOff x="5263920" y="4495680"/>
                  <a:chExt cx="857160" cy="219240"/>
                </a:xfrm>
              </p:grpSpPr>
              <p:sp>
                <p:nvSpPr>
                  <p:cNvPr id="1643" name=""/>
                  <p:cNvSpPr/>
                  <p:nvPr/>
                </p:nvSpPr>
                <p:spPr>
                  <a:xfrm>
                    <a:off x="5263920" y="4495680"/>
                    <a:ext cx="428760" cy="21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1"/>
                        </a:moveTo>
                        <a:lnTo>
                          <a:pt x="1042" y="18390"/>
                        </a:lnTo>
                        <a:lnTo>
                          <a:pt x="1958" y="16873"/>
                        </a:lnTo>
                        <a:lnTo>
                          <a:pt x="3000" y="15356"/>
                        </a:lnTo>
                        <a:lnTo>
                          <a:pt x="3958" y="13747"/>
                        </a:lnTo>
                        <a:lnTo>
                          <a:pt x="5042" y="12340"/>
                        </a:lnTo>
                        <a:lnTo>
                          <a:pt x="5958" y="10953"/>
                        </a:lnTo>
                        <a:lnTo>
                          <a:pt x="7000" y="9584"/>
                        </a:lnTo>
                        <a:lnTo>
                          <a:pt x="7958" y="8252"/>
                        </a:lnTo>
                        <a:lnTo>
                          <a:pt x="9000" y="7012"/>
                        </a:lnTo>
                        <a:lnTo>
                          <a:pt x="10042" y="5920"/>
                        </a:lnTo>
                        <a:lnTo>
                          <a:pt x="11000" y="4847"/>
                        </a:lnTo>
                        <a:lnTo>
                          <a:pt x="12000" y="3793"/>
                        </a:lnTo>
                        <a:lnTo>
                          <a:pt x="12958" y="3016"/>
                        </a:lnTo>
                        <a:lnTo>
                          <a:pt x="14042" y="2239"/>
                        </a:lnTo>
                        <a:lnTo>
                          <a:pt x="14958" y="1536"/>
                        </a:lnTo>
                        <a:lnTo>
                          <a:pt x="16000" y="962"/>
                        </a:lnTo>
                        <a:lnTo>
                          <a:pt x="16958" y="592"/>
                        </a:lnTo>
                        <a:lnTo>
                          <a:pt x="18042" y="222"/>
                        </a:lnTo>
                        <a:lnTo>
                          <a:pt x="18917" y="37"/>
                        </a:lnTo>
                        <a:lnTo>
                          <a:pt x="1995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>
                    <a:off x="5692680" y="4495680"/>
                    <a:ext cx="428400" cy="21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58" y="19981"/>
                        </a:moveTo>
                        <a:lnTo>
                          <a:pt x="18958" y="18390"/>
                        </a:lnTo>
                        <a:lnTo>
                          <a:pt x="18042" y="16873"/>
                        </a:lnTo>
                        <a:lnTo>
                          <a:pt x="17000" y="15356"/>
                        </a:lnTo>
                        <a:lnTo>
                          <a:pt x="16042" y="13747"/>
                        </a:lnTo>
                        <a:lnTo>
                          <a:pt x="14958" y="12340"/>
                        </a:lnTo>
                        <a:lnTo>
                          <a:pt x="14042" y="10953"/>
                        </a:lnTo>
                        <a:lnTo>
                          <a:pt x="12958" y="9584"/>
                        </a:lnTo>
                        <a:lnTo>
                          <a:pt x="12000" y="8252"/>
                        </a:lnTo>
                        <a:lnTo>
                          <a:pt x="11000" y="7012"/>
                        </a:lnTo>
                        <a:lnTo>
                          <a:pt x="10042" y="5920"/>
                        </a:lnTo>
                        <a:lnTo>
                          <a:pt x="9000" y="4847"/>
                        </a:lnTo>
                        <a:lnTo>
                          <a:pt x="8000" y="3793"/>
                        </a:lnTo>
                        <a:lnTo>
                          <a:pt x="7000" y="3016"/>
                        </a:lnTo>
                        <a:lnTo>
                          <a:pt x="6042" y="2239"/>
                        </a:lnTo>
                        <a:lnTo>
                          <a:pt x="5042" y="1536"/>
                        </a:lnTo>
                        <a:lnTo>
                          <a:pt x="4000" y="962"/>
                        </a:lnTo>
                        <a:lnTo>
                          <a:pt x="3000" y="592"/>
                        </a:lnTo>
                        <a:lnTo>
                          <a:pt x="2042" y="222"/>
                        </a:lnTo>
                        <a:lnTo>
                          <a:pt x="1042" y="3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5" name=""/>
                <p:cNvGrpSpPr/>
                <p:nvPr/>
              </p:nvGrpSpPr>
              <p:grpSpPr>
                <a:xfrm>
                  <a:off x="6121080" y="4714920"/>
                  <a:ext cx="644760" cy="218880"/>
                  <a:chOff x="6121080" y="4714920"/>
                  <a:chExt cx="644760" cy="218880"/>
                </a:xfrm>
              </p:grpSpPr>
              <p:sp>
                <p:nvSpPr>
                  <p:cNvPr id="1646" name=""/>
                  <p:cNvSpPr/>
                  <p:nvPr/>
                </p:nvSpPr>
                <p:spPr>
                  <a:xfrm>
                    <a:off x="6121080" y="4714920"/>
                    <a:ext cx="42876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042" y="1591"/>
                        </a:lnTo>
                        <a:lnTo>
                          <a:pt x="1958" y="3108"/>
                        </a:lnTo>
                        <a:lnTo>
                          <a:pt x="3000" y="4625"/>
                        </a:lnTo>
                        <a:lnTo>
                          <a:pt x="3958" y="6253"/>
                        </a:lnTo>
                        <a:lnTo>
                          <a:pt x="5042" y="7660"/>
                        </a:lnTo>
                        <a:lnTo>
                          <a:pt x="5958" y="9029"/>
                        </a:lnTo>
                        <a:lnTo>
                          <a:pt x="7000" y="10416"/>
                        </a:lnTo>
                        <a:lnTo>
                          <a:pt x="7958" y="11730"/>
                        </a:lnTo>
                        <a:lnTo>
                          <a:pt x="9000" y="12969"/>
                        </a:lnTo>
                        <a:lnTo>
                          <a:pt x="10042" y="14080"/>
                        </a:lnTo>
                        <a:lnTo>
                          <a:pt x="11000" y="15134"/>
                        </a:lnTo>
                        <a:lnTo>
                          <a:pt x="12000" y="16189"/>
                        </a:lnTo>
                        <a:lnTo>
                          <a:pt x="12958" y="16984"/>
                        </a:lnTo>
                        <a:lnTo>
                          <a:pt x="14042" y="17743"/>
                        </a:lnTo>
                        <a:lnTo>
                          <a:pt x="14958" y="18464"/>
                        </a:lnTo>
                        <a:lnTo>
                          <a:pt x="16000" y="19019"/>
                        </a:lnTo>
                        <a:lnTo>
                          <a:pt x="16958" y="19408"/>
                        </a:lnTo>
                        <a:lnTo>
                          <a:pt x="18042" y="19759"/>
                        </a:lnTo>
                        <a:lnTo>
                          <a:pt x="18917" y="19944"/>
                        </a:lnTo>
                        <a:lnTo>
                          <a:pt x="19958" y="19981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7" name=""/>
                  <p:cNvSpPr/>
                  <p:nvPr/>
                </p:nvSpPr>
                <p:spPr>
                  <a:xfrm>
                    <a:off x="6549840" y="4869000"/>
                    <a:ext cx="2160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41">
                        <a:moveTo>
                          <a:pt x="136" y="0"/>
                        </a:moveTo>
                        <a:lnTo>
                          <a:pt x="122" y="7"/>
                        </a:lnTo>
                        <a:lnTo>
                          <a:pt x="108" y="15"/>
                        </a:lnTo>
                        <a:lnTo>
                          <a:pt x="95" y="20"/>
                        </a:lnTo>
                        <a:lnTo>
                          <a:pt x="82" y="25"/>
                        </a:lnTo>
                        <a:lnTo>
                          <a:pt x="68" y="30"/>
                        </a:lnTo>
                        <a:lnTo>
                          <a:pt x="54" y="34"/>
                        </a:lnTo>
                        <a:lnTo>
                          <a:pt x="41" y="37"/>
                        </a:lnTo>
                        <a:lnTo>
                          <a:pt x="28" y="39"/>
                        </a:lnTo>
                        <a:lnTo>
                          <a:pt x="14" y="41"/>
                        </a:lnTo>
                        <a:lnTo>
                          <a:pt x="0" y="41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8" name=""/>
              <p:cNvGrpSpPr/>
              <p:nvPr/>
            </p:nvGrpSpPr>
            <p:grpSpPr>
              <a:xfrm>
                <a:off x="2693880" y="4714920"/>
                <a:ext cx="856800" cy="218880"/>
                <a:chOff x="2693880" y="4714920"/>
                <a:chExt cx="856800" cy="218880"/>
              </a:xfrm>
            </p:grpSpPr>
            <p:sp>
              <p:nvSpPr>
                <p:cNvPr id="1649" name=""/>
                <p:cNvSpPr/>
                <p:nvPr/>
              </p:nvSpPr>
              <p:spPr>
                <a:xfrm>
                  <a:off x="2693880" y="4714920"/>
                  <a:ext cx="428400" cy="218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042" y="1591"/>
                      </a:lnTo>
                      <a:lnTo>
                        <a:pt x="1958" y="3108"/>
                      </a:lnTo>
                      <a:lnTo>
                        <a:pt x="3000" y="4625"/>
                      </a:lnTo>
                      <a:lnTo>
                        <a:pt x="3958" y="6253"/>
                      </a:lnTo>
                      <a:lnTo>
                        <a:pt x="5042" y="7660"/>
                      </a:lnTo>
                      <a:lnTo>
                        <a:pt x="5958" y="9029"/>
                      </a:lnTo>
                      <a:lnTo>
                        <a:pt x="7000" y="10416"/>
                      </a:lnTo>
                      <a:lnTo>
                        <a:pt x="7958" y="11730"/>
                      </a:lnTo>
                      <a:lnTo>
                        <a:pt x="9000" y="12969"/>
                      </a:lnTo>
                      <a:lnTo>
                        <a:pt x="10042" y="14080"/>
                      </a:lnTo>
                      <a:lnTo>
                        <a:pt x="11000" y="15134"/>
                      </a:lnTo>
                      <a:lnTo>
                        <a:pt x="12000" y="16189"/>
                      </a:lnTo>
                      <a:lnTo>
                        <a:pt x="12958" y="16984"/>
                      </a:lnTo>
                      <a:lnTo>
                        <a:pt x="14042" y="17743"/>
                      </a:lnTo>
                      <a:lnTo>
                        <a:pt x="14958" y="18464"/>
                      </a:lnTo>
                      <a:lnTo>
                        <a:pt x="16000" y="19019"/>
                      </a:lnTo>
                      <a:lnTo>
                        <a:pt x="16958" y="19408"/>
                      </a:lnTo>
                      <a:lnTo>
                        <a:pt x="18042" y="19759"/>
                      </a:lnTo>
                      <a:lnTo>
                        <a:pt x="18917" y="19944"/>
                      </a:lnTo>
                      <a:lnTo>
                        <a:pt x="19958" y="19981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3122280" y="4714920"/>
                  <a:ext cx="428400" cy="218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0"/>
                      </a:moveTo>
                      <a:lnTo>
                        <a:pt x="18958" y="1591"/>
                      </a:lnTo>
                      <a:lnTo>
                        <a:pt x="18042" y="3108"/>
                      </a:lnTo>
                      <a:lnTo>
                        <a:pt x="17000" y="4625"/>
                      </a:lnTo>
                      <a:lnTo>
                        <a:pt x="16042" y="6253"/>
                      </a:lnTo>
                      <a:lnTo>
                        <a:pt x="14958" y="7660"/>
                      </a:lnTo>
                      <a:lnTo>
                        <a:pt x="14042" y="9029"/>
                      </a:lnTo>
                      <a:lnTo>
                        <a:pt x="12958" y="10416"/>
                      </a:lnTo>
                      <a:lnTo>
                        <a:pt x="12000" y="11730"/>
                      </a:lnTo>
                      <a:lnTo>
                        <a:pt x="11000" y="12969"/>
                      </a:lnTo>
                      <a:lnTo>
                        <a:pt x="10042" y="14080"/>
                      </a:lnTo>
                      <a:lnTo>
                        <a:pt x="9000" y="15134"/>
                      </a:lnTo>
                      <a:lnTo>
                        <a:pt x="8000" y="16189"/>
                      </a:lnTo>
                      <a:lnTo>
                        <a:pt x="7000" y="16984"/>
                      </a:lnTo>
                      <a:lnTo>
                        <a:pt x="6042" y="17743"/>
                      </a:lnTo>
                      <a:lnTo>
                        <a:pt x="5042" y="18464"/>
                      </a:lnTo>
                      <a:lnTo>
                        <a:pt x="4000" y="19019"/>
                      </a:lnTo>
                      <a:lnTo>
                        <a:pt x="3000" y="19408"/>
                      </a:lnTo>
                      <a:lnTo>
                        <a:pt x="2042" y="19759"/>
                      </a:lnTo>
                      <a:lnTo>
                        <a:pt x="1042" y="19944"/>
                      </a:lnTo>
                      <a:lnTo>
                        <a:pt x="0" y="19981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1" name=""/>
              <p:cNvSpPr/>
              <p:nvPr/>
            </p:nvSpPr>
            <p:spPr>
              <a:xfrm flipV="1">
                <a:off x="1601640" y="4714920"/>
                <a:ext cx="233280" cy="164880"/>
              </a:xfrm>
              <a:custGeom>
                <a:avLst/>
                <a:gdLst/>
                <a:ahLst/>
                <a:rect l="l" t="t" r="r" b="b"/>
                <a:pathLst>
                  <a:path w="147" h="104">
                    <a:moveTo>
                      <a:pt x="147" y="104"/>
                    </a:moveTo>
                    <a:lnTo>
                      <a:pt x="134" y="93"/>
                    </a:lnTo>
                    <a:lnTo>
                      <a:pt x="122" y="83"/>
                    </a:lnTo>
                    <a:lnTo>
                      <a:pt x="108" y="72"/>
                    </a:lnTo>
                    <a:lnTo>
                      <a:pt x="95" y="61"/>
                    </a:lnTo>
                    <a:lnTo>
                      <a:pt x="80" y="51"/>
                    </a:lnTo>
                    <a:lnTo>
                      <a:pt x="68" y="42"/>
                    </a:lnTo>
                    <a:lnTo>
                      <a:pt x="53" y="32"/>
                    </a:lnTo>
                    <a:lnTo>
                      <a:pt x="40" y="23"/>
                    </a:lnTo>
                    <a:lnTo>
                      <a:pt x="27" y="15"/>
                    </a:lnTo>
                    <a:lnTo>
                      <a:pt x="14" y="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2" name=""/>
          <p:cNvSpPr/>
          <p:nvPr/>
        </p:nvSpPr>
        <p:spPr>
          <a:xfrm>
            <a:off x="611280" y="1189080"/>
            <a:ext cx="117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611280" y="4384440"/>
            <a:ext cx="117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P</a:t>
            </a:r>
            <a:r>
              <a:rPr b="1" lang="es-ES_tradnl" sz="2800" spc="-1" strike="noStrike" baseline="-25000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es-ES_tradnl" sz="2800" spc="-1" strike="noStrike" baseline="30000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4" name=""/>
          <p:cNvGrpSpPr/>
          <p:nvPr/>
        </p:nvGrpSpPr>
        <p:grpSpPr>
          <a:xfrm>
            <a:off x="1606680" y="822240"/>
            <a:ext cx="5160960" cy="682560"/>
            <a:chOff x="1606680" y="822240"/>
            <a:chExt cx="5160960" cy="682560"/>
          </a:xfrm>
        </p:grpSpPr>
        <p:sp>
          <p:nvSpPr>
            <p:cNvPr id="1655" name=""/>
            <p:cNvSpPr/>
            <p:nvPr/>
          </p:nvSpPr>
          <p:spPr>
            <a:xfrm>
              <a:off x="1606680" y="1504800"/>
              <a:ext cx="516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437080" y="822240"/>
              <a:ext cx="131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7" name=""/>
          <p:cNvGrpSpPr/>
          <p:nvPr/>
        </p:nvGrpSpPr>
        <p:grpSpPr>
          <a:xfrm>
            <a:off x="1606680" y="4478400"/>
            <a:ext cx="5160960" cy="236520"/>
            <a:chOff x="1606680" y="4478400"/>
            <a:chExt cx="5160960" cy="236520"/>
          </a:xfrm>
        </p:grpSpPr>
        <p:sp>
          <p:nvSpPr>
            <p:cNvPr id="1658" name=""/>
            <p:cNvSpPr/>
            <p:nvPr/>
          </p:nvSpPr>
          <p:spPr>
            <a:xfrm>
              <a:off x="1606680" y="4714920"/>
              <a:ext cx="516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705640" y="4478400"/>
              <a:ext cx="104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0" name=""/>
          <p:cNvSpPr/>
          <p:nvPr/>
        </p:nvSpPr>
        <p:spPr>
          <a:xfrm flipV="1">
            <a:off x="6651720" y="822240"/>
            <a:ext cx="0" cy="68256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6686640" y="447192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6823080" y="807840"/>
            <a:ext cx="117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P</a:t>
            </a:r>
            <a:r>
              <a:rPr b="1" lang="es-ES_tradnl" sz="2800" spc="-1" strike="noStrike" baseline="-25000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es-ES_tradnl" sz="2800" spc="-1" strike="noStrike" baseline="30000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6823080" y="4300560"/>
            <a:ext cx="148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P</a:t>
            </a:r>
            <a:r>
              <a:rPr b="1" lang="es-ES_tradnl" sz="2800" spc="-1" strike="noStrike" baseline="-25000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es-ES_tradnl" sz="2800" spc="-1" strike="noStrike" baseline="30000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es-ES_tradnl" sz="2800" spc="-1" strike="noStrike" baseline="-25000">
                <a:solidFill>
                  <a:srgbClr val="009999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m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C241-1FAE-4562-8410-7C6985A279E7}" type="slidenum">
              <a:t>69</a:t>
            </a:fld>
          </a:p>
        </p:txBody>
      </p:sp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2920" y="2742480"/>
            <a:ext cx="705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Veamos el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oscilogram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e una palabra.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C3F4-2044-4E75-B721-CCE53B59922D}" type="slidenum">
              <a:t>7</a:t>
            </a:fld>
          </a:p>
        </p:txBody>
      </p:sp>
    </p:spTree>
  </p:cSld>
  <p:transition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"/>
          <p:cNvSpPr/>
          <p:nvPr/>
        </p:nvSpPr>
        <p:spPr>
          <a:xfrm>
            <a:off x="743040" y="913680"/>
            <a:ext cx="7657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 define la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función de transferencia de modulación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m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743040" y="3260160"/>
            <a:ext cx="76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MTF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   =   10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log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 m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)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2CB8-9EB9-424B-86A3-9ACFAF7DD7CE}" type="slidenum">
              <a:t>70</a:t>
            </a:fld>
          </a:p>
        </p:txBody>
      </p:sp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/>
          <p:nvPr/>
        </p:nvSpPr>
        <p:spPr>
          <a:xfrm>
            <a:off x="298440" y="565920"/>
            <a:ext cx="8548560" cy="52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ara el estudio se obtienen 98 valores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m</a:t>
            </a:r>
            <a:r>
              <a:rPr b="1" i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ik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e la función de transferencia de modulación para las envolventes de frecuencias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4000"/>
            </a:b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i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i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=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0,63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Hz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a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12,5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Hz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plicadas a bandas de ruido centradas en las frecuencias de octava</a:t>
            </a:r>
            <a:br>
              <a:rPr sz="4000"/>
            </a:b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i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k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 = 125 Hz a 8 kHz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6B6B-AF65-4AF6-86E8-0EA04BB2E006}" type="slidenum">
              <a:t>71</a:t>
            </a:fld>
          </a:p>
        </p:txBody>
      </p:sp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"/>
          <p:cNvSpPr/>
          <p:nvPr/>
        </p:nvSpPr>
        <p:spPr>
          <a:xfrm>
            <a:off x="743040" y="393480"/>
            <a:ext cx="7657920" cy="45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gún Makrinenko, para el estudio se obtienen las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MTF</a:t>
            </a:r>
            <a:r>
              <a:rPr b="1" i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i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para las frecuencias </a:t>
            </a:r>
            <a:br>
              <a:rPr sz="4000"/>
            </a:b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i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i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=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0,25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Hz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25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Hz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y luego se calcula el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índice se transferencia de la palabra,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STI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del siguiente mod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8" name=""/>
          <p:cNvGrpSpPr/>
          <p:nvPr/>
        </p:nvGrpSpPr>
        <p:grpSpPr>
          <a:xfrm>
            <a:off x="533520" y="4728240"/>
            <a:ext cx="8076960" cy="2551320"/>
            <a:chOff x="533520" y="4728240"/>
            <a:chExt cx="8076960" cy="2551320"/>
          </a:xfrm>
        </p:grpSpPr>
        <p:sp>
          <p:nvSpPr>
            <p:cNvPr id="1669" name=""/>
            <p:cNvSpPr/>
            <p:nvPr/>
          </p:nvSpPr>
          <p:spPr>
            <a:xfrm>
              <a:off x="533520" y="5460120"/>
              <a:ext cx="8076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9999"/>
                  </a:solidFill>
                  <a:latin typeface="Times New Roman"/>
                </a:rPr>
                <a:t>STI   =   ——       —————</a:t>
              </a:r>
              <a:r>
                <a:rPr b="1" lang="en-US" sz="4000" spc="-1" strike="noStrike">
                  <a:solidFill>
                    <a:srgbClr val="009999"/>
                  </a:solidFill>
                  <a:latin typeface="Times New Roman"/>
                </a:rPr>
                <a:t>     </a:t>
              </a:r>
              <a:r>
                <a:rPr b="1" lang="en-US" sz="40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0" name=""/>
            <p:cNvGrpSpPr/>
            <p:nvPr/>
          </p:nvGrpSpPr>
          <p:grpSpPr>
            <a:xfrm>
              <a:off x="4190760" y="4728240"/>
              <a:ext cx="838080" cy="2551320"/>
              <a:chOff x="4190760" y="4728240"/>
              <a:chExt cx="838080" cy="2551320"/>
            </a:xfrm>
          </p:grpSpPr>
          <p:sp>
            <p:nvSpPr>
              <p:cNvPr id="1671" name=""/>
              <p:cNvSpPr/>
              <p:nvPr/>
            </p:nvSpPr>
            <p:spPr>
              <a:xfrm>
                <a:off x="4190760" y="5276520"/>
                <a:ext cx="83808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009999"/>
                    </a:solidFill>
                    <a:latin typeface="Symbol"/>
                    <a:ea typeface="Symbol"/>
                  </a:rPr>
                  <a:t>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4247640" y="5357160"/>
                <a:ext cx="761760" cy="19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99"/>
                    </a:solidFill>
                    <a:latin typeface="Times New Roman"/>
                  </a:rPr>
                  <a:t>i = </a:t>
                </a:r>
                <a:r>
                  <a:rPr b="1" lang="en-US" sz="2400" spc="-1" strike="noStrike">
                    <a:solidFill>
                      <a:srgbClr val="009999"/>
                    </a:solidFill>
                    <a:latin typeface="Times New Roman"/>
                  </a:rPr>
                  <a:t>1</a:t>
                </a:r>
                <a:r>
                  <a:rPr b="1" lang="en-US" sz="4000" spc="-1" strike="noStrike">
                    <a:solidFill>
                      <a:srgbClr val="009999"/>
                    </a:solidFill>
                    <a:latin typeface="Times New Roman"/>
                  </a:rPr>
                  <a:t>      </a:t>
                </a:r>
                <a:r>
                  <a:rPr b="1" lang="en-US" sz="4000" spc="-1" strike="noStrike">
                    <a:solidFill>
                      <a:srgbClr val="009999"/>
                    </a:solidFill>
                    <a:latin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4247640" y="4728240"/>
                <a:ext cx="76176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99"/>
                    </a:solidFill>
                    <a:latin typeface="Times New Roman"/>
                  </a:rPr>
                  <a:t>21</a:t>
                </a:r>
                <a:r>
                  <a:rPr b="1" lang="en-US" sz="4000" spc="-1" strike="noStrike">
                    <a:solidFill>
                      <a:srgbClr val="009999"/>
                    </a:solidFill>
                    <a:latin typeface="Times New Roman"/>
                  </a:rPr>
                  <a:t>      </a:t>
                </a:r>
                <a:r>
                  <a:rPr b="1" lang="en-US" sz="4000" spc="-1" strike="noStrike">
                    <a:solidFill>
                      <a:srgbClr val="009999"/>
                    </a:solidFill>
                    <a:latin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4" name=""/>
            <p:cNvSpPr/>
            <p:nvPr/>
          </p:nvSpPr>
          <p:spPr>
            <a:xfrm>
              <a:off x="5086080" y="5518080"/>
              <a:ext cx="27810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9999"/>
                  </a:solidFill>
                  <a:latin typeface="Times New Roman"/>
                </a:rPr>
                <a:t>1 – 0,3 </a:t>
              </a:r>
              <a:r>
                <a:rPr b="1" i="1" lang="es-ES_tradnl" sz="3600" spc="-1" strike="noStrike">
                  <a:solidFill>
                    <a:srgbClr val="009999"/>
                  </a:solidFill>
                  <a:latin typeface="Times New Roman"/>
                </a:rPr>
                <a:t>MTF</a:t>
              </a:r>
              <a:r>
                <a:rPr b="1" i="1" lang="es-ES_tradnl" sz="3600" spc="-1" strike="noStrike" baseline="-25000">
                  <a:solidFill>
                    <a:srgbClr val="009999"/>
                  </a:solidFill>
                  <a:latin typeface="Times New Roman"/>
                </a:rPr>
                <a:t>i</a:t>
              </a:r>
              <a:r>
                <a:rPr b="1" lang="es-ES_tradnl" sz="3600" spc="-1" strike="noStrike">
                  <a:solidFill>
                    <a:srgbClr val="009999"/>
                  </a:solidFill>
                  <a:latin typeface="Times New Roman"/>
                </a:rPr>
                <a:t>     </a:t>
              </a:r>
              <a:r>
                <a:rPr b="1" lang="es-ES_tradnl" sz="36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276360" y="4888440"/>
              <a:ext cx="1066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999"/>
                  </a:solidFill>
                  <a:latin typeface="Times New Roman"/>
                </a:rPr>
                <a:t>100     </a:t>
              </a:r>
              <a:r>
                <a:rPr b="1" lang="en-US" sz="40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276360" y="5837760"/>
              <a:ext cx="106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999"/>
                  </a:solidFill>
                  <a:latin typeface="Times New Roman"/>
                </a:rPr>
                <a:t>2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562360" y="5215680"/>
              <a:ext cx="182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99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EBE8-7077-4F2D-B2A1-C86A65020FA5}" type="slidenum">
              <a:t>72</a:t>
            </a:fld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>
            <a:off x="298440" y="1009800"/>
            <a:ext cx="854856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ara cad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m</a:t>
            </a:r>
            <a:r>
              <a:rPr b="1" i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ik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obtiene una relación señal/ruido aparente mediante la expresió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9" name=""/>
          <p:cNvGrpSpPr/>
          <p:nvPr/>
        </p:nvGrpSpPr>
        <p:grpSpPr>
          <a:xfrm>
            <a:off x="1922400" y="3645000"/>
            <a:ext cx="5298840" cy="1495440"/>
            <a:chOff x="1922400" y="3645000"/>
            <a:chExt cx="5298840" cy="1495440"/>
          </a:xfrm>
        </p:grpSpPr>
        <p:sp>
          <p:nvSpPr>
            <p:cNvPr id="1680" name=""/>
            <p:cNvSpPr/>
            <p:nvPr/>
          </p:nvSpPr>
          <p:spPr>
            <a:xfrm>
              <a:off x="1922400" y="3995640"/>
              <a:ext cx="52830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S/R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apar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 =  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10 log 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——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449680" y="4353120"/>
              <a:ext cx="17715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1 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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m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i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449680" y="3645000"/>
              <a:ext cx="17715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m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i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57E2-C1F0-488D-906B-83AB0BF13C27}" type="slidenum">
              <a:t>73</a:t>
            </a:fld>
          </a:p>
        </p:txBody>
      </p:sp>
    </p:spTree>
  </p:cSld>
  <p:transition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"/>
          <p:cNvSpPr/>
          <p:nvPr/>
        </p:nvSpPr>
        <p:spPr>
          <a:xfrm>
            <a:off x="298440" y="332640"/>
            <a:ext cx="854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efecto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1025640" y="2203200"/>
            <a:ext cx="80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1" lang="es-ES_tradnl" sz="2800" spc="-1" strike="noStrike" baseline="-25000">
                <a:solidFill>
                  <a:srgbClr val="333399"/>
                </a:solidFill>
                <a:latin typeface="Times New Roman"/>
              </a:rPr>
              <a:t>o</a:t>
            </a:r>
            <a:r>
              <a:rPr b="1" lang="es-ES_tradnl" sz="2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7613640" y="3293280"/>
            <a:ext cx="3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1243080" y="1475640"/>
            <a:ext cx="11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1" lang="es-ES_tradnl" sz="2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s-ES_tradnl" sz="28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1625760" y="3571920"/>
            <a:ext cx="5954400" cy="1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1751040" y="2028600"/>
            <a:ext cx="0" cy="1687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9" name=""/>
          <p:cNvGrpSpPr/>
          <p:nvPr/>
        </p:nvGrpSpPr>
        <p:grpSpPr>
          <a:xfrm>
            <a:off x="1757520" y="2314440"/>
            <a:ext cx="4948200" cy="438120"/>
            <a:chOff x="1757520" y="2314440"/>
            <a:chExt cx="4948200" cy="438120"/>
          </a:xfrm>
        </p:grpSpPr>
        <p:grpSp>
          <p:nvGrpSpPr>
            <p:cNvPr id="1690" name=""/>
            <p:cNvGrpSpPr/>
            <p:nvPr/>
          </p:nvGrpSpPr>
          <p:grpSpPr>
            <a:xfrm>
              <a:off x="1992240" y="2314440"/>
              <a:ext cx="857160" cy="219240"/>
              <a:chOff x="1992240" y="2314440"/>
              <a:chExt cx="857160" cy="219240"/>
            </a:xfrm>
          </p:grpSpPr>
          <p:sp>
            <p:nvSpPr>
              <p:cNvPr id="1691" name=""/>
              <p:cNvSpPr/>
              <p:nvPr/>
            </p:nvSpPr>
            <p:spPr>
              <a:xfrm>
                <a:off x="1992240" y="2314440"/>
                <a:ext cx="428400" cy="219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2420640" y="2314440"/>
                <a:ext cx="428760" cy="219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3706920" y="2314440"/>
              <a:ext cx="1713600" cy="437760"/>
              <a:chOff x="3706920" y="2314440"/>
              <a:chExt cx="1713600" cy="437760"/>
            </a:xfrm>
          </p:grpSpPr>
          <p:grpSp>
            <p:nvGrpSpPr>
              <p:cNvPr id="1694" name=""/>
              <p:cNvGrpSpPr/>
              <p:nvPr/>
            </p:nvGrpSpPr>
            <p:grpSpPr>
              <a:xfrm>
                <a:off x="3706920" y="2314440"/>
                <a:ext cx="855000" cy="218880"/>
                <a:chOff x="3706920" y="2314440"/>
                <a:chExt cx="855000" cy="218880"/>
              </a:xfrm>
            </p:grpSpPr>
            <p:sp>
              <p:nvSpPr>
                <p:cNvPr id="1695" name=""/>
                <p:cNvSpPr/>
                <p:nvPr/>
              </p:nvSpPr>
              <p:spPr>
                <a:xfrm>
                  <a:off x="3706920" y="2314440"/>
                  <a:ext cx="427680" cy="218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1"/>
                      </a:moveTo>
                      <a:lnTo>
                        <a:pt x="1042" y="18390"/>
                      </a:lnTo>
                      <a:lnTo>
                        <a:pt x="1958" y="16873"/>
                      </a:lnTo>
                      <a:lnTo>
                        <a:pt x="3000" y="15356"/>
                      </a:lnTo>
                      <a:lnTo>
                        <a:pt x="3958" y="13747"/>
                      </a:lnTo>
                      <a:lnTo>
                        <a:pt x="5042" y="12340"/>
                      </a:lnTo>
                      <a:lnTo>
                        <a:pt x="5958" y="10953"/>
                      </a:lnTo>
                      <a:lnTo>
                        <a:pt x="7000" y="9584"/>
                      </a:lnTo>
                      <a:lnTo>
                        <a:pt x="7958" y="8252"/>
                      </a:lnTo>
                      <a:lnTo>
                        <a:pt x="9000" y="7012"/>
                      </a:lnTo>
                      <a:lnTo>
                        <a:pt x="10042" y="5920"/>
                      </a:lnTo>
                      <a:lnTo>
                        <a:pt x="11000" y="4847"/>
                      </a:lnTo>
                      <a:lnTo>
                        <a:pt x="12000" y="3793"/>
                      </a:lnTo>
                      <a:lnTo>
                        <a:pt x="12958" y="3016"/>
                      </a:lnTo>
                      <a:lnTo>
                        <a:pt x="14042" y="2239"/>
                      </a:lnTo>
                      <a:lnTo>
                        <a:pt x="14958" y="1536"/>
                      </a:lnTo>
                      <a:lnTo>
                        <a:pt x="16000" y="962"/>
                      </a:lnTo>
                      <a:lnTo>
                        <a:pt x="16958" y="592"/>
                      </a:lnTo>
                      <a:lnTo>
                        <a:pt x="18042" y="222"/>
                      </a:lnTo>
                      <a:lnTo>
                        <a:pt x="18917" y="37"/>
                      </a:lnTo>
                      <a:lnTo>
                        <a:pt x="19958" y="0"/>
                      </a:lnTo>
                    </a:path>
                  </a:pathLst>
                </a:custGeom>
                <a:noFill/>
                <a:ln w="3816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4134600" y="2314440"/>
                  <a:ext cx="427320" cy="218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19981"/>
                      </a:moveTo>
                      <a:lnTo>
                        <a:pt x="18958" y="18390"/>
                      </a:lnTo>
                      <a:lnTo>
                        <a:pt x="18042" y="16873"/>
                      </a:lnTo>
                      <a:lnTo>
                        <a:pt x="17000" y="15356"/>
                      </a:lnTo>
                      <a:lnTo>
                        <a:pt x="16042" y="13747"/>
                      </a:lnTo>
                      <a:lnTo>
                        <a:pt x="14958" y="12340"/>
                      </a:lnTo>
                      <a:lnTo>
                        <a:pt x="14042" y="10953"/>
                      </a:lnTo>
                      <a:lnTo>
                        <a:pt x="12958" y="9584"/>
                      </a:lnTo>
                      <a:lnTo>
                        <a:pt x="12000" y="8252"/>
                      </a:lnTo>
                      <a:lnTo>
                        <a:pt x="11000" y="7012"/>
                      </a:lnTo>
                      <a:lnTo>
                        <a:pt x="10042" y="5920"/>
                      </a:lnTo>
                      <a:lnTo>
                        <a:pt x="9000" y="4847"/>
                      </a:lnTo>
                      <a:lnTo>
                        <a:pt x="8000" y="3793"/>
                      </a:lnTo>
                      <a:lnTo>
                        <a:pt x="7000" y="3016"/>
                      </a:lnTo>
                      <a:lnTo>
                        <a:pt x="6042" y="2239"/>
                      </a:lnTo>
                      <a:lnTo>
                        <a:pt x="5042" y="1536"/>
                      </a:lnTo>
                      <a:lnTo>
                        <a:pt x="4000" y="962"/>
                      </a:lnTo>
                      <a:lnTo>
                        <a:pt x="3000" y="592"/>
                      </a:lnTo>
                      <a:lnTo>
                        <a:pt x="2042" y="222"/>
                      </a:lnTo>
                      <a:lnTo>
                        <a:pt x="1042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7" name=""/>
              <p:cNvGrpSpPr/>
              <p:nvPr/>
            </p:nvGrpSpPr>
            <p:grpSpPr>
              <a:xfrm>
                <a:off x="4564080" y="2533320"/>
                <a:ext cx="856440" cy="218880"/>
                <a:chOff x="4564080" y="2533320"/>
                <a:chExt cx="856440" cy="218880"/>
              </a:xfrm>
            </p:grpSpPr>
            <p:sp>
              <p:nvSpPr>
                <p:cNvPr id="1698" name=""/>
                <p:cNvSpPr/>
                <p:nvPr/>
              </p:nvSpPr>
              <p:spPr>
                <a:xfrm>
                  <a:off x="4564080" y="2533320"/>
                  <a:ext cx="427320" cy="218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042" y="1591"/>
                      </a:lnTo>
                      <a:lnTo>
                        <a:pt x="1958" y="3108"/>
                      </a:lnTo>
                      <a:lnTo>
                        <a:pt x="3000" y="4625"/>
                      </a:lnTo>
                      <a:lnTo>
                        <a:pt x="3958" y="6253"/>
                      </a:lnTo>
                      <a:lnTo>
                        <a:pt x="5042" y="7660"/>
                      </a:lnTo>
                      <a:lnTo>
                        <a:pt x="5958" y="9029"/>
                      </a:lnTo>
                      <a:lnTo>
                        <a:pt x="7000" y="10416"/>
                      </a:lnTo>
                      <a:lnTo>
                        <a:pt x="7958" y="11730"/>
                      </a:lnTo>
                      <a:lnTo>
                        <a:pt x="9000" y="12969"/>
                      </a:lnTo>
                      <a:lnTo>
                        <a:pt x="10042" y="14080"/>
                      </a:lnTo>
                      <a:lnTo>
                        <a:pt x="11000" y="15134"/>
                      </a:lnTo>
                      <a:lnTo>
                        <a:pt x="12000" y="16189"/>
                      </a:lnTo>
                      <a:lnTo>
                        <a:pt x="12958" y="16984"/>
                      </a:lnTo>
                      <a:lnTo>
                        <a:pt x="14042" y="17743"/>
                      </a:lnTo>
                      <a:lnTo>
                        <a:pt x="14958" y="18464"/>
                      </a:lnTo>
                      <a:lnTo>
                        <a:pt x="16000" y="19019"/>
                      </a:lnTo>
                      <a:lnTo>
                        <a:pt x="16958" y="19408"/>
                      </a:lnTo>
                      <a:lnTo>
                        <a:pt x="18042" y="19759"/>
                      </a:lnTo>
                      <a:lnTo>
                        <a:pt x="18917" y="19944"/>
                      </a:lnTo>
                      <a:lnTo>
                        <a:pt x="19958" y="19981"/>
                      </a:lnTo>
                    </a:path>
                  </a:pathLst>
                </a:custGeom>
                <a:noFill/>
                <a:ln w="3816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4992840" y="2533320"/>
                  <a:ext cx="427680" cy="218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0"/>
                      </a:moveTo>
                      <a:lnTo>
                        <a:pt x="18958" y="1591"/>
                      </a:lnTo>
                      <a:lnTo>
                        <a:pt x="18042" y="3108"/>
                      </a:lnTo>
                      <a:lnTo>
                        <a:pt x="17000" y="4625"/>
                      </a:lnTo>
                      <a:lnTo>
                        <a:pt x="16042" y="6253"/>
                      </a:lnTo>
                      <a:lnTo>
                        <a:pt x="14958" y="7660"/>
                      </a:lnTo>
                      <a:lnTo>
                        <a:pt x="14042" y="9029"/>
                      </a:lnTo>
                      <a:lnTo>
                        <a:pt x="12958" y="10416"/>
                      </a:lnTo>
                      <a:lnTo>
                        <a:pt x="12000" y="11730"/>
                      </a:lnTo>
                      <a:lnTo>
                        <a:pt x="11000" y="12969"/>
                      </a:lnTo>
                      <a:lnTo>
                        <a:pt x="10042" y="14080"/>
                      </a:lnTo>
                      <a:lnTo>
                        <a:pt x="9000" y="15134"/>
                      </a:lnTo>
                      <a:lnTo>
                        <a:pt x="8000" y="16189"/>
                      </a:lnTo>
                      <a:lnTo>
                        <a:pt x="7000" y="16984"/>
                      </a:lnTo>
                      <a:lnTo>
                        <a:pt x="6042" y="17743"/>
                      </a:lnTo>
                      <a:lnTo>
                        <a:pt x="5042" y="18464"/>
                      </a:lnTo>
                      <a:lnTo>
                        <a:pt x="4000" y="19019"/>
                      </a:lnTo>
                      <a:lnTo>
                        <a:pt x="3000" y="19408"/>
                      </a:lnTo>
                      <a:lnTo>
                        <a:pt x="2042" y="19759"/>
                      </a:lnTo>
                      <a:lnTo>
                        <a:pt x="1042" y="19944"/>
                      </a:lnTo>
                      <a:lnTo>
                        <a:pt x="0" y="19981"/>
                      </a:lnTo>
                    </a:path>
                  </a:pathLst>
                </a:custGeom>
                <a:noFill/>
                <a:ln w="3816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0" name=""/>
            <p:cNvGrpSpPr/>
            <p:nvPr/>
          </p:nvGrpSpPr>
          <p:grpSpPr>
            <a:xfrm>
              <a:off x="5419800" y="2314440"/>
              <a:ext cx="857160" cy="219240"/>
              <a:chOff x="5419800" y="2314440"/>
              <a:chExt cx="857160" cy="219240"/>
            </a:xfrm>
          </p:grpSpPr>
          <p:sp>
            <p:nvSpPr>
              <p:cNvPr id="1701" name=""/>
              <p:cNvSpPr/>
              <p:nvPr/>
            </p:nvSpPr>
            <p:spPr>
              <a:xfrm>
                <a:off x="5419800" y="2314440"/>
                <a:ext cx="428760" cy="219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5848560" y="2314440"/>
                <a:ext cx="428400" cy="219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3" name=""/>
            <p:cNvSpPr/>
            <p:nvPr/>
          </p:nvSpPr>
          <p:spPr>
            <a:xfrm>
              <a:off x="6276960" y="2533680"/>
              <a:ext cx="428760" cy="218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4" name=""/>
            <p:cNvGrpSpPr/>
            <p:nvPr/>
          </p:nvGrpSpPr>
          <p:grpSpPr>
            <a:xfrm>
              <a:off x="2849400" y="2533680"/>
              <a:ext cx="857520" cy="218880"/>
              <a:chOff x="2849400" y="2533680"/>
              <a:chExt cx="857520" cy="218880"/>
            </a:xfrm>
          </p:grpSpPr>
          <p:sp>
            <p:nvSpPr>
              <p:cNvPr id="1705" name=""/>
              <p:cNvSpPr/>
              <p:nvPr/>
            </p:nvSpPr>
            <p:spPr>
              <a:xfrm>
                <a:off x="2849400" y="2533680"/>
                <a:ext cx="428760" cy="218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381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278160" y="2533680"/>
                <a:ext cx="428760" cy="218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381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7" name=""/>
            <p:cNvSpPr/>
            <p:nvPr/>
          </p:nvSpPr>
          <p:spPr>
            <a:xfrm flipV="1">
              <a:off x="1757520" y="2532960"/>
              <a:ext cx="233280" cy="165240"/>
            </a:xfrm>
            <a:custGeom>
              <a:avLst/>
              <a:gdLst/>
              <a:ahLst/>
              <a:rect l="l" t="t" r="r" b="b"/>
              <a:pathLst>
                <a:path w="147" h="104">
                  <a:moveTo>
                    <a:pt x="147" y="104"/>
                  </a:moveTo>
                  <a:lnTo>
                    <a:pt x="134" y="93"/>
                  </a:lnTo>
                  <a:lnTo>
                    <a:pt x="122" y="83"/>
                  </a:lnTo>
                  <a:lnTo>
                    <a:pt x="108" y="72"/>
                  </a:lnTo>
                  <a:lnTo>
                    <a:pt x="95" y="61"/>
                  </a:lnTo>
                  <a:lnTo>
                    <a:pt x="80" y="51"/>
                  </a:lnTo>
                  <a:lnTo>
                    <a:pt x="68" y="42"/>
                  </a:lnTo>
                  <a:lnTo>
                    <a:pt x="53" y="32"/>
                  </a:lnTo>
                  <a:lnTo>
                    <a:pt x="40" y="23"/>
                  </a:lnTo>
                  <a:lnTo>
                    <a:pt x="27" y="15"/>
                  </a:lnTo>
                  <a:lnTo>
                    <a:pt x="14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8" name=""/>
          <p:cNvSpPr/>
          <p:nvPr/>
        </p:nvSpPr>
        <p:spPr>
          <a:xfrm>
            <a:off x="1762200" y="2533680"/>
            <a:ext cx="516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6912000" y="23803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ñ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 flipV="1">
            <a:off x="3278160" y="2785680"/>
            <a:ext cx="0" cy="77796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 flipV="1">
            <a:off x="5864400" y="2538000"/>
            <a:ext cx="0" cy="102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6705720" y="27622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5959440" y="2816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ñal + ru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3278160" y="2854800"/>
            <a:ext cx="10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ru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 flipV="1">
            <a:off x="6842160" y="25239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6" name=""/>
          <p:cNvGrpSpPr/>
          <p:nvPr/>
        </p:nvGrpSpPr>
        <p:grpSpPr>
          <a:xfrm>
            <a:off x="1119240" y="4388760"/>
            <a:ext cx="6904080" cy="2130480"/>
            <a:chOff x="1119240" y="4388760"/>
            <a:chExt cx="6904080" cy="2130480"/>
          </a:xfrm>
        </p:grpSpPr>
        <p:sp>
          <p:nvSpPr>
            <p:cNvPr id="1717" name=""/>
            <p:cNvSpPr/>
            <p:nvPr/>
          </p:nvSpPr>
          <p:spPr>
            <a:xfrm>
              <a:off x="2759040" y="5096880"/>
              <a:ext cx="1400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S + 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919600" y="4388760"/>
              <a:ext cx="1079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119240" y="4739400"/>
              <a:ext cx="6904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m  =  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———  =  ————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740560" y="4388760"/>
              <a:ext cx="1079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1" name=""/>
            <p:cNvGrpSpPr/>
            <p:nvPr/>
          </p:nvGrpSpPr>
          <p:grpSpPr>
            <a:xfrm>
              <a:off x="5016600" y="5163480"/>
              <a:ext cx="2527200" cy="1355760"/>
              <a:chOff x="5016600" y="5163480"/>
              <a:chExt cx="2527200" cy="1355760"/>
            </a:xfrm>
          </p:grpSpPr>
          <p:sp>
            <p:nvSpPr>
              <p:cNvPr id="1722" name=""/>
              <p:cNvSpPr/>
              <p:nvPr/>
            </p:nvSpPr>
            <p:spPr>
              <a:xfrm>
                <a:off x="5016600" y="5447520"/>
                <a:ext cx="2527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0" spc="-1" strike="noStrike">
                    <a:solidFill>
                      <a:srgbClr val="009999"/>
                    </a:solidFill>
                    <a:latin typeface="Times New Roman"/>
                  </a:rPr>
                  <a:t>1 + </a:t>
                </a:r>
                <a:r>
                  <a:rPr b="1" lang="es-ES_tradnl" sz="4000" spc="-1" strike="noStrike">
                    <a:solidFill>
                      <a:srgbClr val="009999"/>
                    </a:solidFill>
                    <a:latin typeface="Times New Roman"/>
                    <a:ea typeface="Times New Roman"/>
                  </a:rPr>
                  <a:t>———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5934240" y="51634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0" spc="-1" strike="noStrike">
                    <a:solidFill>
                      <a:srgbClr val="009999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934240" y="58158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4000" spc="-1" strike="noStrike">
                    <a:solidFill>
                      <a:srgbClr val="009999"/>
                    </a:solidFill>
                    <a:latin typeface="Times New Roman"/>
                  </a:rPr>
                  <a:t>S</a:t>
                </a:r>
                <a:r>
                  <a:rPr b="1" lang="es-ES_tradnl" sz="4000" spc="-1" strike="noStrike">
                    <a:solidFill>
                      <a:srgbClr val="009999"/>
                    </a:solidFill>
                    <a:latin typeface="Times New Roman"/>
                  </a:rPr>
                  <a:t>/</a:t>
                </a:r>
                <a:r>
                  <a:rPr b="1" i="1" lang="es-ES_tradnl" sz="4000" spc="-1" strike="noStrike">
                    <a:solidFill>
                      <a:srgbClr val="009999"/>
                    </a:solidFill>
                    <a:latin typeface="Times New Roman"/>
                  </a:rPr>
                  <a:t>R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171B-28CA-45A2-B811-B42A9DE3A0E8}" type="slidenum">
              <a:t>74</a:t>
            </a:fld>
          </a:p>
        </p:txBody>
      </p:sp>
    </p:spTree>
  </p:cSld>
  <p:transition>
    <p:fad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"/>
          <p:cNvSpPr/>
          <p:nvPr/>
        </p:nvSpPr>
        <p:spPr>
          <a:xfrm>
            <a:off x="298440" y="1107360"/>
            <a:ext cx="854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e donde, despejando la relación señal/ruido, se obtie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6" name=""/>
          <p:cNvGrpSpPr/>
          <p:nvPr/>
        </p:nvGrpSpPr>
        <p:grpSpPr>
          <a:xfrm>
            <a:off x="1930320" y="2955240"/>
            <a:ext cx="5283360" cy="1411560"/>
            <a:chOff x="1930320" y="2955240"/>
            <a:chExt cx="5283360" cy="1411560"/>
          </a:xfrm>
        </p:grpSpPr>
        <p:sp>
          <p:nvSpPr>
            <p:cNvPr id="1727" name=""/>
            <p:cNvSpPr/>
            <p:nvPr/>
          </p:nvSpPr>
          <p:spPr>
            <a:xfrm>
              <a:off x="1930320" y="3305880"/>
              <a:ext cx="528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S/R =  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10 log 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——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157720" y="3663360"/>
              <a:ext cx="177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1 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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157720" y="2955240"/>
              <a:ext cx="177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AE1E-F41E-4239-AF0D-B752A515C2DA}" type="slidenum">
              <a:t>75</a:t>
            </a:fld>
          </a:p>
        </p:txBody>
      </p:sp>
    </p:spTree>
  </p:cSld>
  <p:transition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"/>
          <p:cNvSpPr/>
          <p:nvPr/>
        </p:nvSpPr>
        <p:spPr>
          <a:xfrm>
            <a:off x="0" y="691560"/>
            <a:ext cx="8877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tas relaciones señal/ruido aparentes se normalizan entre 0 y 1 mediante la expresió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1" name=""/>
          <p:cNvGrpSpPr/>
          <p:nvPr/>
        </p:nvGrpSpPr>
        <p:grpSpPr>
          <a:xfrm>
            <a:off x="1198440" y="2824200"/>
            <a:ext cx="6480000" cy="1453320"/>
            <a:chOff x="1198440" y="2824200"/>
            <a:chExt cx="6480000" cy="1453320"/>
          </a:xfrm>
        </p:grpSpPr>
        <p:sp>
          <p:nvSpPr>
            <p:cNvPr id="1732" name=""/>
            <p:cNvSpPr/>
            <p:nvPr/>
          </p:nvSpPr>
          <p:spPr>
            <a:xfrm>
              <a:off x="1198440" y="3152880"/>
              <a:ext cx="64800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TI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ik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 =  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10 log 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————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071680" y="3574080"/>
              <a:ext cx="1498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647960" y="2824200"/>
              <a:ext cx="23464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S/R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ik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 + 1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5" name=""/>
          <p:cNvSpPr/>
          <p:nvPr/>
        </p:nvSpPr>
        <p:spPr>
          <a:xfrm>
            <a:off x="133200" y="4580640"/>
            <a:ext cx="887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NOTA: Los valores menores que 0 o mayores que 1 se truncan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47BB-4726-424A-A458-495DA25EDA82}" type="slidenum">
              <a:t>76</a:t>
            </a:fld>
          </a:p>
        </p:txBody>
      </p:sp>
    </p:spTree>
  </p:cSld>
  <p:transition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6" name=""/>
          <p:cNvGrpSpPr/>
          <p:nvPr/>
        </p:nvGrpSpPr>
        <p:grpSpPr>
          <a:xfrm>
            <a:off x="133200" y="936000"/>
            <a:ext cx="8877600" cy="4995360"/>
            <a:chOff x="133200" y="936000"/>
            <a:chExt cx="8877600" cy="4995360"/>
          </a:xfrm>
        </p:grpSpPr>
        <p:sp>
          <p:nvSpPr>
            <p:cNvPr id="1737" name=""/>
            <p:cNvSpPr/>
            <p:nvPr/>
          </p:nvSpPr>
          <p:spPr>
            <a:xfrm>
              <a:off x="133200" y="936000"/>
              <a:ext cx="8877600" cy="49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ctr" pos="1606680"/>
                  <a:tab algn="ctr" pos="4660920"/>
                  <a:tab algn="ctr" pos="71820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Se obtienen los siguientes valores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2500"/>
                </a:spcBef>
                <a:tabLst>
                  <a:tab algn="l" pos="0"/>
                  <a:tab algn="ctr" pos="1606680"/>
                  <a:tab algn="ctr" pos="4660920"/>
                  <a:tab algn="ctr" pos="71820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m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	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S/R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	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T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2500"/>
                </a:spcBef>
                <a:tabLst>
                  <a:tab algn="l" pos="0"/>
                  <a:tab algn="ctr" pos="1606680"/>
                  <a:tab algn="ctr" pos="4660920"/>
                  <a:tab algn="ctr" pos="71820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0,9690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15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1,000</a:t>
              </a:r>
              <a:br>
                <a:rPr sz="4000"/>
              </a:b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0.7500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4,8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0,659</a:t>
              </a:r>
              <a:br>
                <a:rPr sz="4000"/>
              </a:b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0,5000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0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0,500</a:t>
              </a:r>
              <a:br>
                <a:rPr sz="4000"/>
              </a:b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 0,2500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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4,8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0,341 </a:t>
              </a:r>
              <a:br>
                <a:rPr sz="4000"/>
              </a:b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0,0307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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15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0,000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079640" y="2343240"/>
              <a:ext cx="6984720" cy="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8D1-A546-4528-89C4-D1FBCABE4B06}" type="slidenum">
              <a:t>77</a:t>
            </a:fld>
          </a:p>
        </p:txBody>
      </p:sp>
    </p:spTree>
  </p:cSld>
  <p:transition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"/>
          <p:cNvSpPr/>
          <p:nvPr/>
        </p:nvSpPr>
        <p:spPr>
          <a:xfrm>
            <a:off x="133200" y="1412280"/>
            <a:ext cx="887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 val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33200" y="4796640"/>
            <a:ext cx="887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denomin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índice de transmi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1" name=""/>
          <p:cNvGrpSpPr/>
          <p:nvPr/>
        </p:nvGrpSpPr>
        <p:grpSpPr>
          <a:xfrm>
            <a:off x="1332000" y="2824200"/>
            <a:ext cx="6480000" cy="1453320"/>
            <a:chOff x="1332000" y="2824200"/>
            <a:chExt cx="6480000" cy="1453320"/>
          </a:xfrm>
        </p:grpSpPr>
        <p:sp>
          <p:nvSpPr>
            <p:cNvPr id="1742" name=""/>
            <p:cNvSpPr/>
            <p:nvPr/>
          </p:nvSpPr>
          <p:spPr>
            <a:xfrm>
              <a:off x="1332000" y="3152880"/>
              <a:ext cx="64800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TI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ik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 =  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10 log 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————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205240" y="3574080"/>
              <a:ext cx="1498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781520" y="2824200"/>
              <a:ext cx="23464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S/R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ik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 + 1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BD28-17B9-4BC4-A846-E81DA6CDF5D5}" type="slidenum">
              <a:t>78</a:t>
            </a:fld>
          </a:p>
        </p:txBody>
      </p:sp>
    </p:spTree>
  </p:cSld>
  <p:transition>
    <p:fad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"/>
          <p:cNvSpPr/>
          <p:nvPr/>
        </p:nvSpPr>
        <p:spPr>
          <a:xfrm>
            <a:off x="579600" y="680400"/>
            <a:ext cx="7984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os 14 índices de transmisión para cada banda de ruido se promedian obteniendose el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índice de transmisión medio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ara esa band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6" name=""/>
          <p:cNvGrpSpPr/>
          <p:nvPr/>
        </p:nvGrpSpPr>
        <p:grpSpPr>
          <a:xfrm>
            <a:off x="1917720" y="4060080"/>
            <a:ext cx="5308560" cy="2033280"/>
            <a:chOff x="1917720" y="4060080"/>
            <a:chExt cx="5308560" cy="2033280"/>
          </a:xfrm>
        </p:grpSpPr>
        <p:sp>
          <p:nvSpPr>
            <p:cNvPr id="1747" name=""/>
            <p:cNvSpPr/>
            <p:nvPr/>
          </p:nvSpPr>
          <p:spPr>
            <a:xfrm>
              <a:off x="1917720" y="4581360"/>
              <a:ext cx="53085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MTI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k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 =  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——          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TI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i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000400" y="4125240"/>
              <a:ext cx="1054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96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∑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957480" y="4980960"/>
              <a:ext cx="905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1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957480" y="4272840"/>
              <a:ext cx="905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005440" y="557280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009999"/>
                  </a:solidFill>
                  <a:latin typeface="Times New Roman"/>
                </a:rPr>
                <a:t>i</a:t>
              </a:r>
              <a:r>
                <a:rPr b="1" lang="es-ES_tradnl" sz="2800" spc="-1" strike="noStrike">
                  <a:solidFill>
                    <a:srgbClr val="009999"/>
                  </a:solidFill>
                  <a:latin typeface="Times New Roman"/>
                </a:rPr>
                <a:t> =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983120" y="406008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9999"/>
                  </a:solidFill>
                  <a:latin typeface="Times New Roman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B84E-6504-45A3-8F27-C27A275F26E1}" type="slidenum">
              <a:t>79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rId3"/>
          </p:cNvPr>
          <p:cNvSpPr/>
          <p:nvPr/>
        </p:nvSpPr>
        <p:spPr>
          <a:xfrm>
            <a:off x="403200" y="5699160"/>
            <a:ext cx="336600" cy="262080"/>
          </a:xfrm>
          <a:custGeom>
            <a:avLst/>
            <a:gdLst>
              <a:gd name="textAreaLeft" fmla="*/ 1440 w 336600"/>
              <a:gd name="textAreaRight" fmla="*/ 335160 w 336600"/>
              <a:gd name="textAreaTop" fmla="*/ 1440 h 262080"/>
              <a:gd name="textAreaBottom" fmla="*/ 260640 h 262080"/>
            </a:gdLst>
            <a:ahLst/>
            <a:rect l="textAreaLeft" t="textAreaTop" r="textAreaRight" b="textAreaBottom"/>
            <a:pathLst>
              <a:path w="27733" h="21600">
                <a:moveTo>
                  <a:pt x="0" y="0"/>
                </a:moveTo>
                <a:lnTo>
                  <a:pt x="27733" y="0"/>
                </a:lnTo>
                <a:lnTo>
                  <a:pt x="27733" y="21600"/>
                </a:lnTo>
                <a:lnTo>
                  <a:pt x="0" y="21600"/>
                </a:lnTo>
                <a:close/>
              </a:path>
              <a:path fill="lightenLess" w="27733" h="21600">
                <a:moveTo>
                  <a:pt x="0" y="0"/>
                </a:moveTo>
                <a:lnTo>
                  <a:pt x="27733" y="0"/>
                </a:lnTo>
                <a:lnTo>
                  <a:pt x="27612" y="121"/>
                </a:lnTo>
                <a:lnTo>
                  <a:pt x="121" y="121"/>
                </a:lnTo>
                <a:close/>
              </a:path>
              <a:path fill="darken" w="27733" h="21600">
                <a:moveTo>
                  <a:pt x="27733" y="0"/>
                </a:moveTo>
                <a:lnTo>
                  <a:pt x="27733" y="21600"/>
                </a:lnTo>
                <a:lnTo>
                  <a:pt x="27612" y="21479"/>
                </a:lnTo>
                <a:lnTo>
                  <a:pt x="27612" y="121"/>
                </a:lnTo>
                <a:close/>
              </a:path>
              <a:path fill="darkenLess" w="27733" h="21600">
                <a:moveTo>
                  <a:pt x="27733" y="21600"/>
                </a:moveTo>
                <a:lnTo>
                  <a:pt x="0" y="21600"/>
                </a:lnTo>
                <a:lnTo>
                  <a:pt x="121" y="21479"/>
                </a:lnTo>
                <a:lnTo>
                  <a:pt x="27612" y="21479"/>
                </a:lnTo>
                <a:close/>
              </a:path>
              <a:path fill="lighten" w="27733" h="21600">
                <a:moveTo>
                  <a:pt x="0" y="21600"/>
                </a:moveTo>
                <a:lnTo>
                  <a:pt x="0" y="0"/>
                </a:lnTo>
                <a:lnTo>
                  <a:pt x="121" y="121"/>
                </a:lnTo>
                <a:lnTo>
                  <a:pt x="121" y="21479"/>
                </a:lnTo>
                <a:close/>
              </a:path>
            </a:pathLst>
          </a:custGeom>
          <a:noFill/>
          <a:ln w="9360">
            <a:solidFill>
              <a:srgbClr val="80808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2819520"/>
            <a:ext cx="342720" cy="838080"/>
          </a:xfrm>
          <a:prstGeom prst="rect">
            <a:avLst/>
          </a:prstGeom>
          <a:noFill/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5943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99ff99"/>
                </a:solidFill>
                <a:latin typeface="Courier New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45943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00"/>
                </a:solidFill>
                <a:latin typeface="Courier New"/>
              </a:rPr>
              <a:t>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45943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9966"/>
                </a:solidFill>
                <a:latin typeface="Courier New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45943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ccff"/>
                </a:solidFill>
                <a:latin typeface="Courier New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45943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66ffff"/>
                </a:solidFill>
                <a:latin typeface="Courier New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45943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009999"/>
                </a:solidFill>
                <a:latin typeface="Courier New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5943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5943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66ffff"/>
                </a:solidFill>
                <a:latin typeface="Courier New"/>
              </a:rPr>
              <a:t>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45943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00"/>
                </a:solidFill>
                <a:latin typeface="Courier New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45943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9966"/>
                </a:solidFill>
                <a:latin typeface="Courier New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45943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ccff"/>
                </a:solidFill>
                <a:latin typeface="Courier New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86600" y="45943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99ff99"/>
                </a:solidFill>
                <a:latin typeface="Courier New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2362320"/>
            <a:ext cx="457200" cy="1752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38200" y="2819520"/>
            <a:ext cx="304920" cy="838080"/>
          </a:xfrm>
          <a:prstGeom prst="rect">
            <a:avLst/>
          </a:prstGeom>
          <a:noFill/>
          <a:ln w="1908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0640" y="2133720"/>
            <a:ext cx="495360" cy="2209680"/>
          </a:xfrm>
          <a:prstGeom prst="rect">
            <a:avLst/>
          </a:prstGeom>
          <a:noFill/>
          <a:ln w="1908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43240" y="1676520"/>
            <a:ext cx="399960" cy="3124080"/>
          </a:xfrm>
          <a:prstGeom prst="rect">
            <a:avLst/>
          </a:prstGeom>
          <a:noFill/>
          <a:ln w="190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90720" y="1600200"/>
            <a:ext cx="638280" cy="327672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76520" y="2295360"/>
            <a:ext cx="486000" cy="188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10040" y="2781360"/>
            <a:ext cx="485640" cy="914400"/>
          </a:xfrm>
          <a:prstGeom prst="rect">
            <a:avLst/>
          </a:prstGeom>
          <a:noFill/>
          <a:ln w="190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52920" y="2552760"/>
            <a:ext cx="457200" cy="13716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67360" y="2819520"/>
            <a:ext cx="1409760" cy="838080"/>
          </a:xfrm>
          <a:prstGeom prst="rect">
            <a:avLst/>
          </a:prstGeom>
          <a:noFill/>
          <a:ln w="1908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3048120"/>
            <a:ext cx="209520" cy="380880"/>
          </a:xfrm>
          <a:prstGeom prst="rect">
            <a:avLst/>
          </a:prstGeom>
          <a:noFill/>
          <a:ln w="1908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19840" y="2819520"/>
            <a:ext cx="1104840" cy="838080"/>
          </a:xfrm>
          <a:prstGeom prst="rect">
            <a:avLst/>
          </a:prstGeom>
          <a:noFill/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4614-7FA6-4872-A2F7-C2A13D70FA99}" type="slidenum">
              <a:t>8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/>
          <p:nvPr/>
        </p:nvSpPr>
        <p:spPr>
          <a:xfrm>
            <a:off x="395280" y="802440"/>
            <a:ext cx="83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Finalmente, los 7 valores del índice de transmisión medio se promedian con una ponderació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4" name=""/>
          <p:cNvGrpSpPr/>
          <p:nvPr/>
        </p:nvGrpSpPr>
        <p:grpSpPr>
          <a:xfrm>
            <a:off x="1979640" y="3499560"/>
            <a:ext cx="5184720" cy="2033640"/>
            <a:chOff x="1979640" y="3499560"/>
            <a:chExt cx="5184720" cy="2033640"/>
          </a:xfrm>
        </p:grpSpPr>
        <p:sp>
          <p:nvSpPr>
            <p:cNvPr id="1755" name=""/>
            <p:cNvSpPr/>
            <p:nvPr/>
          </p:nvSpPr>
          <p:spPr>
            <a:xfrm>
              <a:off x="1979640" y="4094280"/>
              <a:ext cx="51847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STI  =         </a:t>
              </a:r>
              <a:r>
                <a:rPr b="1" lang="el-GR" sz="40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α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k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M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TI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6" name=""/>
            <p:cNvGrpSpPr/>
            <p:nvPr/>
          </p:nvGrpSpPr>
          <p:grpSpPr>
            <a:xfrm>
              <a:off x="3924360" y="3499560"/>
              <a:ext cx="1101600" cy="2033640"/>
              <a:chOff x="3924360" y="3499560"/>
              <a:chExt cx="1101600" cy="2033640"/>
            </a:xfrm>
          </p:grpSpPr>
          <p:sp>
            <p:nvSpPr>
              <p:cNvPr id="1757" name=""/>
              <p:cNvSpPr/>
              <p:nvPr/>
            </p:nvSpPr>
            <p:spPr>
              <a:xfrm>
                <a:off x="3942000" y="3565080"/>
                <a:ext cx="10540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9600" spc="-1" strike="noStrike">
                    <a:solidFill>
                      <a:srgbClr val="009999"/>
                    </a:solidFill>
                    <a:latin typeface="Times New Roman"/>
                    <a:ea typeface="Times New Roman"/>
                  </a:rPr>
                  <a:t>∑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946680" y="5012640"/>
                <a:ext cx="1079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800" spc="-1" strike="noStrike">
                    <a:solidFill>
                      <a:srgbClr val="009999"/>
                    </a:solidFill>
                    <a:latin typeface="Times New Roman"/>
                  </a:rPr>
                  <a:t>k</a:t>
                </a:r>
                <a:r>
                  <a:rPr b="1" lang="es-ES_tradnl" sz="2800" spc="-1" strike="noStrike">
                    <a:solidFill>
                      <a:srgbClr val="009999"/>
                    </a:solidFill>
                    <a:latin typeface="Times New Roman"/>
                  </a:rPr>
                  <a:t> = 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924360" y="3499560"/>
                <a:ext cx="107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9999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26F0-5977-41B5-BB72-7B810F6BED99}" type="slidenum">
              <a:t>80</a:t>
            </a:fld>
          </a:p>
        </p:txBody>
      </p:sp>
    </p:spTree>
  </p:cSld>
  <p:transition>
    <p:fad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"/>
          <p:cNvSpPr/>
          <p:nvPr/>
        </p:nvSpPr>
        <p:spPr>
          <a:xfrm>
            <a:off x="133200" y="1065240"/>
            <a:ext cx="88776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s ponderaciones </a:t>
            </a:r>
            <a:r>
              <a:rPr b="1" lang="el-GR" sz="4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α</a:t>
            </a:r>
            <a:r>
              <a:rPr b="1" i="1" lang="es-ES_tradnl" sz="4000" spc="-1" strike="noStrike" baseline="-25000">
                <a:solidFill>
                  <a:srgbClr val="009999"/>
                </a:solidFill>
                <a:latin typeface="Times New Roman"/>
                <a:ea typeface="Arial"/>
              </a:rPr>
              <a:t>k</a:t>
            </a:r>
            <a:r>
              <a:rPr b="1" i="1" lang="es-ES_tradnl" sz="4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tán tabuladas para varones y mujer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1" name=""/>
          <p:cNvGrpSpPr/>
          <p:nvPr/>
        </p:nvGrpSpPr>
        <p:grpSpPr>
          <a:xfrm>
            <a:off x="1979640" y="3499560"/>
            <a:ext cx="5184720" cy="2033640"/>
            <a:chOff x="1979640" y="3499560"/>
            <a:chExt cx="5184720" cy="2033640"/>
          </a:xfrm>
        </p:grpSpPr>
        <p:sp>
          <p:nvSpPr>
            <p:cNvPr id="1762" name=""/>
            <p:cNvSpPr/>
            <p:nvPr/>
          </p:nvSpPr>
          <p:spPr>
            <a:xfrm>
              <a:off x="1979640" y="4094280"/>
              <a:ext cx="51847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STI  =         </a:t>
              </a:r>
              <a:r>
                <a:rPr b="1" lang="el-GR" sz="40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α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k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M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TI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3924360" y="3499560"/>
              <a:ext cx="1101600" cy="2033640"/>
              <a:chOff x="3924360" y="3499560"/>
              <a:chExt cx="1101600" cy="2033640"/>
            </a:xfrm>
          </p:grpSpPr>
          <p:sp>
            <p:nvSpPr>
              <p:cNvPr id="1764" name=""/>
              <p:cNvSpPr/>
              <p:nvPr/>
            </p:nvSpPr>
            <p:spPr>
              <a:xfrm>
                <a:off x="3942000" y="3565080"/>
                <a:ext cx="10540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9600" spc="-1" strike="noStrike">
                    <a:solidFill>
                      <a:srgbClr val="009999"/>
                    </a:solidFill>
                    <a:latin typeface="Times New Roman"/>
                    <a:ea typeface="Times New Roman"/>
                  </a:rPr>
                  <a:t>∑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946680" y="5012640"/>
                <a:ext cx="1079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800" spc="-1" strike="noStrike">
                    <a:solidFill>
                      <a:srgbClr val="009999"/>
                    </a:solidFill>
                    <a:latin typeface="Times New Roman"/>
                  </a:rPr>
                  <a:t>k</a:t>
                </a:r>
                <a:r>
                  <a:rPr b="1" lang="es-ES_tradnl" sz="2800" spc="-1" strike="noStrike">
                    <a:solidFill>
                      <a:srgbClr val="009999"/>
                    </a:solidFill>
                    <a:latin typeface="Times New Roman"/>
                  </a:rPr>
                  <a:t> = 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924360" y="3499560"/>
                <a:ext cx="107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9999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1504-48A3-4753-8AFB-0894BA7C79AC}" type="slidenum">
              <a:t>81</a:t>
            </a:fld>
          </a:p>
        </p:txBody>
      </p:sp>
    </p:spTree>
  </p:cSld>
  <p:transition>
    <p:fad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"/>
          <p:cNvSpPr/>
          <p:nvPr/>
        </p:nvSpPr>
        <p:spPr>
          <a:xfrm>
            <a:off x="395280" y="110736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 valor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TI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 el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índice de transmisión de la palabra</a:t>
            </a:r>
            <a:r>
              <a:rPr b="1" lang="es-ES_trad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8" name=""/>
          <p:cNvGrpSpPr/>
          <p:nvPr/>
        </p:nvGrpSpPr>
        <p:grpSpPr>
          <a:xfrm>
            <a:off x="1979640" y="3499560"/>
            <a:ext cx="5184720" cy="2033640"/>
            <a:chOff x="1979640" y="3499560"/>
            <a:chExt cx="5184720" cy="2033640"/>
          </a:xfrm>
        </p:grpSpPr>
        <p:sp>
          <p:nvSpPr>
            <p:cNvPr id="1769" name=""/>
            <p:cNvSpPr/>
            <p:nvPr/>
          </p:nvSpPr>
          <p:spPr>
            <a:xfrm>
              <a:off x="1979640" y="4094280"/>
              <a:ext cx="51847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STI  =         </a:t>
              </a:r>
              <a:r>
                <a:rPr b="1" lang="el-GR" sz="40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α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k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M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TI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0" name=""/>
            <p:cNvGrpSpPr/>
            <p:nvPr/>
          </p:nvGrpSpPr>
          <p:grpSpPr>
            <a:xfrm>
              <a:off x="3924360" y="3499560"/>
              <a:ext cx="1101600" cy="2033640"/>
              <a:chOff x="3924360" y="3499560"/>
              <a:chExt cx="1101600" cy="2033640"/>
            </a:xfrm>
          </p:grpSpPr>
          <p:sp>
            <p:nvSpPr>
              <p:cNvPr id="1771" name=""/>
              <p:cNvSpPr/>
              <p:nvPr/>
            </p:nvSpPr>
            <p:spPr>
              <a:xfrm>
                <a:off x="3942000" y="3565080"/>
                <a:ext cx="10540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9600" spc="-1" strike="noStrike">
                    <a:solidFill>
                      <a:srgbClr val="009999"/>
                    </a:solidFill>
                    <a:latin typeface="Times New Roman"/>
                    <a:ea typeface="Times New Roman"/>
                  </a:rPr>
                  <a:t>∑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946680" y="5012640"/>
                <a:ext cx="1079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800" spc="-1" strike="noStrike">
                    <a:solidFill>
                      <a:srgbClr val="009999"/>
                    </a:solidFill>
                    <a:latin typeface="Times New Roman"/>
                  </a:rPr>
                  <a:t>k</a:t>
                </a:r>
                <a:r>
                  <a:rPr b="1" lang="es-ES_tradnl" sz="2800" spc="-1" strike="noStrike">
                    <a:solidFill>
                      <a:srgbClr val="009999"/>
                    </a:solidFill>
                    <a:latin typeface="Times New Roman"/>
                  </a:rPr>
                  <a:t> = 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924360" y="3499560"/>
                <a:ext cx="107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9999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FBAF-A215-4B47-8F80-C2AB59AAF027}" type="slidenum">
              <a:t>82</a:t>
            </a:fld>
          </a:p>
        </p:txBody>
      </p:sp>
    </p:spTree>
  </p:cSld>
  <p:transition>
    <p:fad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"/>
          <p:cNvSpPr/>
          <p:nvPr/>
        </p:nvSpPr>
        <p:spPr>
          <a:xfrm>
            <a:off x="395280" y="1483920"/>
            <a:ext cx="8353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ha determinado experimentalmente una relación entre el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TI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y el porcentaje de articulación de palabras, dada en la gráfca que sigue…</a:t>
            </a:r>
            <a:r>
              <a:rPr b="1" lang="es-ES_trad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5855-3F0D-41E4-9DBD-B6F9D8A199B1}" type="slidenum">
              <a:t>83</a:t>
            </a:fld>
          </a:p>
        </p:txBody>
      </p:sp>
    </p:spTree>
  </p:cSld>
  <p:transition>
    <p:fad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"/>
          <p:cNvSpPr/>
          <p:nvPr/>
        </p:nvSpPr>
        <p:spPr>
          <a:xfrm>
            <a:off x="1874880" y="4962600"/>
            <a:ext cx="668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1441440" y="261612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1441440" y="296244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441440" y="3306600"/>
            <a:ext cx="6685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440000" y="3656160"/>
            <a:ext cx="668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434960" y="401472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450800" y="440064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401840" y="4756320"/>
            <a:ext cx="706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449360" y="2295360"/>
            <a:ext cx="6685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577880" y="1936800"/>
            <a:ext cx="544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589040" y="1563840"/>
            <a:ext cx="544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1582560" y="1219320"/>
            <a:ext cx="546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2475000" y="4962600"/>
            <a:ext cx="587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3043080" y="496260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3611520" y="496260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4181400" y="496260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4748040" y="49626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5316480" y="49626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4591080" y="5443560"/>
            <a:ext cx="10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Times New Roman"/>
              </a:rPr>
              <a:t>STI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5877000" y="49500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6446880" y="4950000"/>
            <a:ext cx="587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7013520" y="49500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990720" y="2860560"/>
            <a:ext cx="83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Times New Roman"/>
              </a:rPr>
              <a:t>P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7548480" y="4940280"/>
            <a:ext cx="588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2200320" y="1349280"/>
            <a:ext cx="5668560" cy="3551400"/>
            <a:chOff x="2200320" y="1349280"/>
            <a:chExt cx="5668560" cy="3551400"/>
          </a:xfrm>
        </p:grpSpPr>
        <p:sp>
          <p:nvSpPr>
            <p:cNvPr id="1800" name=""/>
            <p:cNvSpPr/>
            <p:nvPr/>
          </p:nvSpPr>
          <p:spPr>
            <a:xfrm>
              <a:off x="2203200" y="1353600"/>
              <a:ext cx="108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77236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33864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906360" y="1353600"/>
              <a:ext cx="108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474080" y="1353600"/>
              <a:ext cx="108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60952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17616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74460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04180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H="1">
              <a:off x="2203200" y="4886640"/>
              <a:ext cx="565488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203200" y="4532760"/>
              <a:ext cx="565488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>
              <a:off x="2203200" y="4177080"/>
              <a:ext cx="56527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201400" y="3826440"/>
              <a:ext cx="565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200320" y="3112560"/>
              <a:ext cx="56613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206800" y="2067480"/>
              <a:ext cx="56505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H="1">
              <a:off x="2208240" y="2410200"/>
              <a:ext cx="5651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2201040" y="2760840"/>
              <a:ext cx="56538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V="1">
              <a:off x="2201400" y="1352160"/>
              <a:ext cx="566748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2212920" y="1706040"/>
              <a:ext cx="5651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H="1">
              <a:off x="2201040" y="3471480"/>
              <a:ext cx="565668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7314480" y="1349280"/>
              <a:ext cx="1080" cy="352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862760" y="1349280"/>
              <a:ext cx="720" cy="355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2" name=""/>
          <p:cNvSpPr/>
          <p:nvPr/>
        </p:nvSpPr>
        <p:spPr>
          <a:xfrm>
            <a:off x="3067200" y="1390680"/>
            <a:ext cx="4800600" cy="3124080"/>
          </a:xfrm>
          <a:custGeom>
            <a:avLst/>
            <a:gdLst/>
            <a:ahLst/>
            <a:rect l="l" t="t" r="r" b="b"/>
            <a:pathLst>
              <a:path w="3024" h="1968">
                <a:moveTo>
                  <a:pt x="0" y="1968"/>
                </a:moveTo>
                <a:lnTo>
                  <a:pt x="81" y="1752"/>
                </a:lnTo>
                <a:lnTo>
                  <a:pt x="168" y="1542"/>
                </a:lnTo>
                <a:lnTo>
                  <a:pt x="288" y="1296"/>
                </a:lnTo>
                <a:lnTo>
                  <a:pt x="432" y="1086"/>
                </a:lnTo>
                <a:lnTo>
                  <a:pt x="600" y="864"/>
                </a:lnTo>
                <a:lnTo>
                  <a:pt x="741" y="717"/>
                </a:lnTo>
                <a:lnTo>
                  <a:pt x="888" y="588"/>
                </a:lnTo>
                <a:lnTo>
                  <a:pt x="1053" y="465"/>
                </a:lnTo>
                <a:lnTo>
                  <a:pt x="1236" y="348"/>
                </a:lnTo>
                <a:lnTo>
                  <a:pt x="1407" y="267"/>
                </a:lnTo>
                <a:lnTo>
                  <a:pt x="1584" y="204"/>
                </a:lnTo>
                <a:lnTo>
                  <a:pt x="1752" y="156"/>
                </a:lnTo>
                <a:lnTo>
                  <a:pt x="1959" y="111"/>
                </a:lnTo>
                <a:lnTo>
                  <a:pt x="2115" y="87"/>
                </a:lnTo>
                <a:lnTo>
                  <a:pt x="2316" y="60"/>
                </a:lnTo>
                <a:lnTo>
                  <a:pt x="30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705D-69FF-46EA-A2B7-0AD1622FC0BF}" type="slidenum">
              <a:t>84</a:t>
            </a:fld>
          </a:p>
        </p:txBody>
      </p:sp>
    </p:spTree>
  </p:cSld>
  <p:transition>
    <p:fad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/>
          <p:nvPr/>
        </p:nvSpPr>
        <p:spPr>
          <a:xfrm>
            <a:off x="343080" y="1431360"/>
            <a:ext cx="8458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NOTA: Este método puede mejorarse agregando un término que tiene en cuenta el enmascaramiento que produce una banda de ruido de octava en la siguiente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>
            <a:hlinkClick r:id="rId2"/>
          </p:cNvPr>
          <p:cNvSpPr/>
          <p:nvPr/>
        </p:nvSpPr>
        <p:spPr>
          <a:xfrm>
            <a:off x="4140360" y="4305240"/>
            <a:ext cx="2743200" cy="533520"/>
          </a:xfrm>
          <a:custGeom>
            <a:avLst/>
            <a:gdLst>
              <a:gd name="textAreaLeft" fmla="*/ 34560 w 2743200"/>
              <a:gd name="textAreaRight" fmla="*/ 2708640 w 2743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11000" h="21600">
                <a:moveTo>
                  <a:pt x="0" y="0"/>
                </a:moveTo>
                <a:lnTo>
                  <a:pt x="111000" y="0"/>
                </a:lnTo>
                <a:lnTo>
                  <a:pt x="111000" y="21600"/>
                </a:lnTo>
                <a:lnTo>
                  <a:pt x="0" y="21600"/>
                </a:lnTo>
                <a:close/>
              </a:path>
              <a:path fill="lightenLess" w="111000" h="21600">
                <a:moveTo>
                  <a:pt x="0" y="0"/>
                </a:moveTo>
                <a:lnTo>
                  <a:pt x="111000" y="0"/>
                </a:lnTo>
                <a:lnTo>
                  <a:pt x="109600" y="1400"/>
                </a:lnTo>
                <a:lnTo>
                  <a:pt x="1400" y="1400"/>
                </a:lnTo>
                <a:close/>
              </a:path>
              <a:path fill="darken" w="111000" h="21600">
                <a:moveTo>
                  <a:pt x="111000" y="0"/>
                </a:moveTo>
                <a:lnTo>
                  <a:pt x="111000" y="21600"/>
                </a:lnTo>
                <a:lnTo>
                  <a:pt x="109600" y="20200"/>
                </a:lnTo>
                <a:lnTo>
                  <a:pt x="109600" y="1400"/>
                </a:lnTo>
                <a:close/>
              </a:path>
              <a:path fill="darkenLess" w="111000" h="21600">
                <a:moveTo>
                  <a:pt x="111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600" y="20200"/>
                </a:lnTo>
                <a:close/>
              </a:path>
              <a:path fill="lighten" w="111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>
            <a:hlinkClick r:id="rId3"/>
          </p:cNvPr>
          <p:cNvSpPr/>
          <p:nvPr/>
        </p:nvSpPr>
        <p:spPr>
          <a:xfrm>
            <a:off x="2971800" y="4952880"/>
            <a:ext cx="3124080" cy="533520"/>
          </a:xfrm>
          <a:custGeom>
            <a:avLst/>
            <a:gdLst>
              <a:gd name="textAreaLeft" fmla="*/ 34560 w 3124080"/>
              <a:gd name="textAreaRight" fmla="*/ 3089520 w 3124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26410" h="21600">
                <a:moveTo>
                  <a:pt x="0" y="0"/>
                </a:moveTo>
                <a:lnTo>
                  <a:pt x="126410" y="0"/>
                </a:lnTo>
                <a:lnTo>
                  <a:pt x="126410" y="21600"/>
                </a:lnTo>
                <a:lnTo>
                  <a:pt x="0" y="21600"/>
                </a:lnTo>
                <a:close/>
              </a:path>
              <a:path fill="lightenLess" w="126410" h="21600">
                <a:moveTo>
                  <a:pt x="0" y="0"/>
                </a:moveTo>
                <a:lnTo>
                  <a:pt x="126410" y="0"/>
                </a:lnTo>
                <a:lnTo>
                  <a:pt x="125010" y="1400"/>
                </a:lnTo>
                <a:lnTo>
                  <a:pt x="1400" y="1400"/>
                </a:lnTo>
                <a:close/>
              </a:path>
              <a:path fill="darken" w="126410" h="21600">
                <a:moveTo>
                  <a:pt x="126410" y="0"/>
                </a:moveTo>
                <a:lnTo>
                  <a:pt x="126410" y="21600"/>
                </a:lnTo>
                <a:lnTo>
                  <a:pt x="125010" y="20200"/>
                </a:lnTo>
                <a:lnTo>
                  <a:pt x="125010" y="1400"/>
                </a:lnTo>
                <a:close/>
              </a:path>
              <a:path fill="darkenLess" w="126410" h="21600">
                <a:moveTo>
                  <a:pt x="126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010" y="20200"/>
                </a:lnTo>
                <a:close/>
              </a:path>
              <a:path fill="lighten" w="126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4128-8F50-430A-975D-22A24F290BB1}" type="slidenum">
              <a:t>85</a:t>
            </a:fld>
          </a:p>
        </p:txBody>
      </p:sp>
    </p:spTree>
  </p:cSld>
  <p:transition>
    <p:fad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"/>
          <p:cNvSpPr/>
          <p:nvPr/>
        </p:nvSpPr>
        <p:spPr>
          <a:xfrm>
            <a:off x="343080" y="1126800"/>
            <a:ext cx="8458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ara las mediciones se sigue el protocolo de la norma </a:t>
            </a:r>
            <a:br>
              <a:rPr sz="4000"/>
            </a:b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EC 60268-16</a:t>
            </a: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s-ES_tradnl" sz="4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sintetizan señales formadas por un ruido con espectro promedio igual al de las voces</a:t>
            </a:r>
            <a:r>
              <a:rPr b="1" lang="es-ES_tradnl" sz="4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emeninas</a:t>
            </a:r>
            <a:r>
              <a:rPr b="1" lang="es-ES_tradnl" sz="4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s-ES_tradnl" sz="4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asculinas</a:t>
            </a:r>
            <a:r>
              <a:rPr b="1" lang="es-ES_tradnl" sz="4000" spc="-1" strike="noStrike">
                <a:solidFill>
                  <a:srgbClr val="99ff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>
            <a:hlinkClick r:id="rId2"/>
          </p:cNvPr>
          <p:cNvSpPr/>
          <p:nvPr/>
        </p:nvSpPr>
        <p:spPr>
          <a:xfrm>
            <a:off x="4140360" y="4305240"/>
            <a:ext cx="2743200" cy="533520"/>
          </a:xfrm>
          <a:custGeom>
            <a:avLst/>
            <a:gdLst>
              <a:gd name="textAreaLeft" fmla="*/ 34560 w 2743200"/>
              <a:gd name="textAreaRight" fmla="*/ 2708640 w 2743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11000" h="21600">
                <a:moveTo>
                  <a:pt x="0" y="0"/>
                </a:moveTo>
                <a:lnTo>
                  <a:pt x="111000" y="0"/>
                </a:lnTo>
                <a:lnTo>
                  <a:pt x="111000" y="21600"/>
                </a:lnTo>
                <a:lnTo>
                  <a:pt x="0" y="21600"/>
                </a:lnTo>
                <a:close/>
              </a:path>
              <a:path fill="lightenLess" w="111000" h="21600">
                <a:moveTo>
                  <a:pt x="0" y="0"/>
                </a:moveTo>
                <a:lnTo>
                  <a:pt x="111000" y="0"/>
                </a:lnTo>
                <a:lnTo>
                  <a:pt x="109600" y="1400"/>
                </a:lnTo>
                <a:lnTo>
                  <a:pt x="1400" y="1400"/>
                </a:lnTo>
                <a:close/>
              </a:path>
              <a:path fill="darken" w="111000" h="21600">
                <a:moveTo>
                  <a:pt x="111000" y="0"/>
                </a:moveTo>
                <a:lnTo>
                  <a:pt x="111000" y="21600"/>
                </a:lnTo>
                <a:lnTo>
                  <a:pt x="109600" y="20200"/>
                </a:lnTo>
                <a:lnTo>
                  <a:pt x="109600" y="1400"/>
                </a:lnTo>
                <a:close/>
              </a:path>
              <a:path fill="darkenLess" w="111000" h="21600">
                <a:moveTo>
                  <a:pt x="111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600" y="20200"/>
                </a:lnTo>
                <a:close/>
              </a:path>
              <a:path fill="lighten" w="111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>
            <a:hlinkClick r:id="rId3"/>
          </p:cNvPr>
          <p:cNvSpPr/>
          <p:nvPr/>
        </p:nvSpPr>
        <p:spPr>
          <a:xfrm>
            <a:off x="2971800" y="4952880"/>
            <a:ext cx="3124080" cy="533520"/>
          </a:xfrm>
          <a:custGeom>
            <a:avLst/>
            <a:gdLst>
              <a:gd name="textAreaLeft" fmla="*/ 34560 w 3124080"/>
              <a:gd name="textAreaRight" fmla="*/ 3089520 w 3124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26410" h="21600">
                <a:moveTo>
                  <a:pt x="0" y="0"/>
                </a:moveTo>
                <a:lnTo>
                  <a:pt x="126410" y="0"/>
                </a:lnTo>
                <a:lnTo>
                  <a:pt x="126410" y="21600"/>
                </a:lnTo>
                <a:lnTo>
                  <a:pt x="0" y="21600"/>
                </a:lnTo>
                <a:close/>
              </a:path>
              <a:path fill="lightenLess" w="126410" h="21600">
                <a:moveTo>
                  <a:pt x="0" y="0"/>
                </a:moveTo>
                <a:lnTo>
                  <a:pt x="126410" y="0"/>
                </a:lnTo>
                <a:lnTo>
                  <a:pt x="125010" y="1400"/>
                </a:lnTo>
                <a:lnTo>
                  <a:pt x="1400" y="1400"/>
                </a:lnTo>
                <a:close/>
              </a:path>
              <a:path fill="darken" w="126410" h="21600">
                <a:moveTo>
                  <a:pt x="126410" y="0"/>
                </a:moveTo>
                <a:lnTo>
                  <a:pt x="126410" y="21600"/>
                </a:lnTo>
                <a:lnTo>
                  <a:pt x="125010" y="20200"/>
                </a:lnTo>
                <a:lnTo>
                  <a:pt x="125010" y="1400"/>
                </a:lnTo>
                <a:close/>
              </a:path>
              <a:path fill="darkenLess" w="126410" h="21600">
                <a:moveTo>
                  <a:pt x="126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010" y="20200"/>
                </a:lnTo>
                <a:close/>
              </a:path>
              <a:path fill="lighten" w="126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1376-46C8-424F-8CEC-70C0A4C1A89B}" type="slidenum">
              <a:t>86</a:t>
            </a:fld>
          </a:p>
        </p:txBody>
      </p:sp>
    </p:spTree>
  </p:cSld>
  <p:transition>
    <p:fade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"/>
          <p:cNvSpPr/>
          <p:nvPr/>
        </p:nvSpPr>
        <p:spPr>
          <a:xfrm>
            <a:off x="343080" y="234576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tas señales se modularon en amplitud con diversas frecuencias, por ejemplo</a:t>
            </a:r>
            <a:r>
              <a:rPr b="1" lang="es-ES_tradnl" sz="4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3,15 Hz</a:t>
            </a:r>
            <a:r>
              <a:rPr b="1" lang="es-ES_tradnl" sz="4000" spc="-1" strike="noStrike">
                <a:solidFill>
                  <a:srgbClr val="99ff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>
            <a:hlinkClick r:id="rId2"/>
          </p:cNvPr>
          <p:cNvSpPr/>
          <p:nvPr/>
        </p:nvSpPr>
        <p:spPr>
          <a:xfrm>
            <a:off x="6515280" y="3695760"/>
            <a:ext cx="2286000" cy="533520"/>
          </a:xfrm>
          <a:custGeom>
            <a:avLst/>
            <a:gdLst>
              <a:gd name="textAreaLeft" fmla="*/ 34560 w 2286000"/>
              <a:gd name="textAreaRight" fmla="*/ 2251440 w 2286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92503" h="21600">
                <a:moveTo>
                  <a:pt x="0" y="0"/>
                </a:moveTo>
                <a:lnTo>
                  <a:pt x="92503" y="0"/>
                </a:lnTo>
                <a:lnTo>
                  <a:pt x="92503" y="21600"/>
                </a:lnTo>
                <a:lnTo>
                  <a:pt x="0" y="21600"/>
                </a:lnTo>
                <a:close/>
              </a:path>
              <a:path fill="lightenLess" w="92503" h="21600">
                <a:moveTo>
                  <a:pt x="0" y="0"/>
                </a:moveTo>
                <a:lnTo>
                  <a:pt x="92503" y="0"/>
                </a:lnTo>
                <a:lnTo>
                  <a:pt x="91103" y="1400"/>
                </a:lnTo>
                <a:lnTo>
                  <a:pt x="1400" y="1400"/>
                </a:lnTo>
                <a:close/>
              </a:path>
              <a:path fill="darken" w="92503" h="21600">
                <a:moveTo>
                  <a:pt x="92503" y="0"/>
                </a:moveTo>
                <a:lnTo>
                  <a:pt x="92503" y="21600"/>
                </a:lnTo>
                <a:lnTo>
                  <a:pt x="91103" y="20200"/>
                </a:lnTo>
                <a:lnTo>
                  <a:pt x="91103" y="1400"/>
                </a:lnTo>
                <a:close/>
              </a:path>
              <a:path fill="darkenLess" w="92503" h="21600">
                <a:moveTo>
                  <a:pt x="925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103" y="20200"/>
                </a:lnTo>
                <a:close/>
              </a:path>
              <a:path fill="lighten" w="925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045D-E1B7-46C0-855F-58EAA9F3FDD7}" type="slidenum">
              <a:t>87</a:t>
            </a:fld>
          </a:p>
        </p:txBody>
      </p:sp>
    </p:spTree>
  </p:cSld>
  <p:transition>
    <p:fad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2" name="">
            <a:hlinkClick r:id="rId3"/>
          </p:cNvPr>
          <p:cNvSpPr/>
          <p:nvPr/>
        </p:nvSpPr>
        <p:spPr>
          <a:xfrm>
            <a:off x="399960" y="5692680"/>
            <a:ext cx="333360" cy="250920"/>
          </a:xfrm>
          <a:custGeom>
            <a:avLst/>
            <a:gdLst>
              <a:gd name="textAreaLeft" fmla="*/ 0 w 333360"/>
              <a:gd name="textAreaRight" fmla="*/ 333720 w 333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8687" h="21600">
                <a:moveTo>
                  <a:pt x="0" y="0"/>
                </a:moveTo>
                <a:lnTo>
                  <a:pt x="28687" y="0"/>
                </a:lnTo>
                <a:lnTo>
                  <a:pt x="28687" y="21600"/>
                </a:lnTo>
                <a:lnTo>
                  <a:pt x="0" y="21600"/>
                </a:lnTo>
                <a:close/>
              </a:path>
              <a:path fill="lightenLess" w="28687" h="21600">
                <a:moveTo>
                  <a:pt x="0" y="0"/>
                </a:moveTo>
                <a:lnTo>
                  <a:pt x="28687" y="0"/>
                </a:lnTo>
                <a:lnTo>
                  <a:pt x="28687" y="0"/>
                </a:lnTo>
                <a:lnTo>
                  <a:pt x="0" y="0"/>
                </a:lnTo>
                <a:close/>
              </a:path>
              <a:path fill="darken" w="28687" h="21600">
                <a:moveTo>
                  <a:pt x="28687" y="0"/>
                </a:moveTo>
                <a:lnTo>
                  <a:pt x="28687" y="21600"/>
                </a:lnTo>
                <a:lnTo>
                  <a:pt x="28687" y="21600"/>
                </a:lnTo>
                <a:lnTo>
                  <a:pt x="28687" y="0"/>
                </a:lnTo>
                <a:close/>
              </a:path>
              <a:path fill="darkenLess" w="28687" h="21600">
                <a:moveTo>
                  <a:pt x="28687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8687" y="21600"/>
                </a:lnTo>
                <a:close/>
              </a:path>
              <a:path fill="lighten" w="28687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9D3E-02C1-4FB5-BAC6-4CA28A25C426}" type="slidenum">
              <a:t>88</a:t>
            </a:fld>
          </a:p>
        </p:txBody>
      </p:sp>
    </p:spTree>
  </p:cSld>
  <p:transition>
    <p:fad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"/>
          <p:cNvSpPr/>
          <p:nvPr/>
        </p:nvSpPr>
        <p:spPr>
          <a:xfrm>
            <a:off x="343080" y="1736280"/>
            <a:ext cx="8458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reviamente al ensayo se calibra el nivel medio de la señal para que coincida con el nivel equivalente del habla tal como se utiliza en el ambiente.</a:t>
            </a:r>
            <a:r>
              <a:rPr b="1" lang="es-ES_tradnl" sz="40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690F-E9AC-4C8A-B0B0-E728295CD98B}" type="slidenum">
              <a:t>89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rId3"/>
          </p:cNvPr>
          <p:cNvSpPr/>
          <p:nvPr/>
        </p:nvSpPr>
        <p:spPr>
          <a:xfrm>
            <a:off x="403200" y="5699160"/>
            <a:ext cx="336600" cy="262080"/>
          </a:xfrm>
          <a:custGeom>
            <a:avLst/>
            <a:gdLst>
              <a:gd name="textAreaLeft" fmla="*/ 1440 w 336600"/>
              <a:gd name="textAreaRight" fmla="*/ 335160 w 336600"/>
              <a:gd name="textAreaTop" fmla="*/ 1440 h 262080"/>
              <a:gd name="textAreaBottom" fmla="*/ 260640 h 262080"/>
            </a:gdLst>
            <a:ahLst/>
            <a:rect l="textAreaLeft" t="textAreaTop" r="textAreaRight" b="textAreaBottom"/>
            <a:pathLst>
              <a:path w="27733" h="21600">
                <a:moveTo>
                  <a:pt x="0" y="0"/>
                </a:moveTo>
                <a:lnTo>
                  <a:pt x="27733" y="0"/>
                </a:lnTo>
                <a:lnTo>
                  <a:pt x="27733" y="21600"/>
                </a:lnTo>
                <a:lnTo>
                  <a:pt x="0" y="21600"/>
                </a:lnTo>
                <a:close/>
              </a:path>
              <a:path fill="lightenLess" w="27733" h="21600">
                <a:moveTo>
                  <a:pt x="0" y="0"/>
                </a:moveTo>
                <a:lnTo>
                  <a:pt x="27733" y="0"/>
                </a:lnTo>
                <a:lnTo>
                  <a:pt x="27612" y="121"/>
                </a:lnTo>
                <a:lnTo>
                  <a:pt x="121" y="121"/>
                </a:lnTo>
                <a:close/>
              </a:path>
              <a:path fill="darken" w="27733" h="21600">
                <a:moveTo>
                  <a:pt x="27733" y="0"/>
                </a:moveTo>
                <a:lnTo>
                  <a:pt x="27733" y="21600"/>
                </a:lnTo>
                <a:lnTo>
                  <a:pt x="27612" y="21479"/>
                </a:lnTo>
                <a:lnTo>
                  <a:pt x="27612" y="121"/>
                </a:lnTo>
                <a:close/>
              </a:path>
              <a:path fill="darkenLess" w="27733" h="21600">
                <a:moveTo>
                  <a:pt x="27733" y="21600"/>
                </a:moveTo>
                <a:lnTo>
                  <a:pt x="0" y="21600"/>
                </a:lnTo>
                <a:lnTo>
                  <a:pt x="121" y="21479"/>
                </a:lnTo>
                <a:lnTo>
                  <a:pt x="27612" y="21479"/>
                </a:lnTo>
                <a:close/>
              </a:path>
              <a:path fill="lighten" w="27733" h="21600">
                <a:moveTo>
                  <a:pt x="0" y="21600"/>
                </a:moveTo>
                <a:lnTo>
                  <a:pt x="0" y="0"/>
                </a:lnTo>
                <a:lnTo>
                  <a:pt x="121" y="121"/>
                </a:lnTo>
                <a:lnTo>
                  <a:pt x="121" y="21479"/>
                </a:lnTo>
                <a:close/>
              </a:path>
            </a:pathLst>
          </a:custGeom>
          <a:noFill/>
          <a:ln w="9360">
            <a:solidFill>
              <a:srgbClr val="80808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085760"/>
            <a:ext cx="1447920" cy="427680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115A-48B7-4749-B258-2A0C83EEFD0A}" type="slidenum">
              <a:t>9</a:t>
            </a:fld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4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80FE-0EC4-473F-8896-49668C72F3BC}" type="slidenum">
              <a:t>90</a:t>
            </a:fld>
          </a:p>
        </p:txBody>
      </p:sp>
    </p:spTree>
  </p:cSld>
  <p:transition>
    <p:fade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5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55E7-49D3-4AC5-9414-AB83685D17FD}" type="slidenum">
              <a:t>91</a:t>
            </a:fld>
          </a:p>
        </p:txBody>
      </p:sp>
    </p:spTree>
  </p:cSld>
  <p:transition>
    <p:fade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"/>
          <p:cNvSpPr/>
          <p:nvPr/>
        </p:nvSpPr>
        <p:spPr>
          <a:xfrm>
            <a:off x="343080" y="204084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respuesta del ambiente se graba digitalmente para su posterior análisis por computadora</a:t>
            </a:r>
            <a:r>
              <a:rPr b="1" lang="es-ES_tradnl" sz="4000" spc="-1" strike="noStrike">
                <a:solidFill>
                  <a:srgbClr val="99ff99"/>
                </a:solidFill>
                <a:latin typeface="Courier Ne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D6B6-87BB-4C94-BBF2-80C8E5A908C8}" type="slidenum">
              <a:t>92</a:t>
            </a:fld>
          </a:p>
        </p:txBody>
      </p:sp>
    </p:spTree>
  </p:cSld>
  <p:transition>
    <p:fad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7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1838" name="">
            <a:hlinkClick r:id="rId3"/>
          </p:cNvPr>
          <p:cNvSpPr/>
          <p:nvPr/>
        </p:nvSpPr>
        <p:spPr>
          <a:xfrm>
            <a:off x="7086600" y="1523880"/>
            <a:ext cx="333360" cy="250920"/>
          </a:xfrm>
          <a:custGeom>
            <a:avLst/>
            <a:gdLst>
              <a:gd name="textAreaLeft" fmla="*/ 0 w 333360"/>
              <a:gd name="textAreaRight" fmla="*/ 333720 w 333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8687" h="21600">
                <a:moveTo>
                  <a:pt x="0" y="0"/>
                </a:moveTo>
                <a:lnTo>
                  <a:pt x="28687" y="0"/>
                </a:lnTo>
                <a:lnTo>
                  <a:pt x="28687" y="21600"/>
                </a:lnTo>
                <a:lnTo>
                  <a:pt x="0" y="21600"/>
                </a:lnTo>
                <a:close/>
              </a:path>
              <a:path fill="lightenLess" w="28687" h="21600">
                <a:moveTo>
                  <a:pt x="0" y="0"/>
                </a:moveTo>
                <a:lnTo>
                  <a:pt x="28687" y="0"/>
                </a:lnTo>
                <a:lnTo>
                  <a:pt x="28687" y="0"/>
                </a:lnTo>
                <a:lnTo>
                  <a:pt x="0" y="0"/>
                </a:lnTo>
                <a:close/>
              </a:path>
              <a:path fill="darken" w="28687" h="21600">
                <a:moveTo>
                  <a:pt x="28687" y="0"/>
                </a:moveTo>
                <a:lnTo>
                  <a:pt x="28687" y="21600"/>
                </a:lnTo>
                <a:lnTo>
                  <a:pt x="28687" y="21600"/>
                </a:lnTo>
                <a:lnTo>
                  <a:pt x="28687" y="0"/>
                </a:lnTo>
                <a:close/>
              </a:path>
              <a:path fill="darkenLess" w="28687" h="21600">
                <a:moveTo>
                  <a:pt x="28687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8687" y="21600"/>
                </a:lnTo>
                <a:close/>
              </a:path>
              <a:path fill="lighten" w="28687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>
            <a:hlinkClick r:id="rId4"/>
          </p:cNvPr>
          <p:cNvSpPr/>
          <p:nvPr/>
        </p:nvSpPr>
        <p:spPr>
          <a:xfrm>
            <a:off x="1028880" y="1447920"/>
            <a:ext cx="533160" cy="555480"/>
          </a:xfrm>
          <a:custGeom>
            <a:avLst/>
            <a:gdLst>
              <a:gd name="textAreaLeft" fmla="*/ 0 w 533160"/>
              <a:gd name="textAreaRight" fmla="*/ 533520 w 53316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2504">
                <a:moveTo>
                  <a:pt x="0" y="0"/>
                </a:moveTo>
                <a:lnTo>
                  <a:pt x="21600" y="0"/>
                </a:lnTo>
                <a:lnTo>
                  <a:pt x="21600" y="22504"/>
                </a:lnTo>
                <a:lnTo>
                  <a:pt x="0" y="22504"/>
                </a:lnTo>
                <a:close/>
              </a:path>
              <a:path fill="lightenLess" w="21600" h="22504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2504">
                <a:moveTo>
                  <a:pt x="21600" y="0"/>
                </a:moveTo>
                <a:lnTo>
                  <a:pt x="21600" y="22504"/>
                </a:lnTo>
                <a:lnTo>
                  <a:pt x="21600" y="22504"/>
                </a:lnTo>
                <a:lnTo>
                  <a:pt x="21600" y="0"/>
                </a:lnTo>
                <a:close/>
              </a:path>
              <a:path fill="darkenLess" w="21600" h="22504">
                <a:moveTo>
                  <a:pt x="21600" y="22504"/>
                </a:moveTo>
                <a:lnTo>
                  <a:pt x="0" y="22504"/>
                </a:lnTo>
                <a:lnTo>
                  <a:pt x="0" y="22504"/>
                </a:lnTo>
                <a:lnTo>
                  <a:pt x="21600" y="22504"/>
                </a:lnTo>
                <a:close/>
              </a:path>
              <a:path fill="lighten" w="21600" h="22504">
                <a:moveTo>
                  <a:pt x="0" y="22504"/>
                </a:moveTo>
                <a:lnTo>
                  <a:pt x="0" y="0"/>
                </a:lnTo>
                <a:lnTo>
                  <a:pt x="0" y="0"/>
                </a:lnTo>
                <a:lnTo>
                  <a:pt x="0" y="2250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D287-DA49-451F-9E53-6A572F7FAE4A}" type="slidenum">
              <a:t>93</a:t>
            </a:fld>
          </a:p>
        </p:txBody>
      </p:sp>
    </p:spTree>
  </p:cSld>
  <p:transition>
    <p:fad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1" name="">
            <a:hlinkClick r:id="rId3"/>
          </p:cNvPr>
          <p:cNvSpPr/>
          <p:nvPr/>
        </p:nvSpPr>
        <p:spPr>
          <a:xfrm>
            <a:off x="399960" y="5692680"/>
            <a:ext cx="333360" cy="250920"/>
          </a:xfrm>
          <a:custGeom>
            <a:avLst/>
            <a:gdLst>
              <a:gd name="textAreaLeft" fmla="*/ 0 w 333360"/>
              <a:gd name="textAreaRight" fmla="*/ 333720 w 333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8687" h="21600">
                <a:moveTo>
                  <a:pt x="0" y="0"/>
                </a:moveTo>
                <a:lnTo>
                  <a:pt x="28687" y="0"/>
                </a:lnTo>
                <a:lnTo>
                  <a:pt x="28687" y="21600"/>
                </a:lnTo>
                <a:lnTo>
                  <a:pt x="0" y="21600"/>
                </a:lnTo>
                <a:close/>
              </a:path>
              <a:path fill="lightenLess" w="28687" h="21600">
                <a:moveTo>
                  <a:pt x="0" y="0"/>
                </a:moveTo>
                <a:lnTo>
                  <a:pt x="28687" y="0"/>
                </a:lnTo>
                <a:lnTo>
                  <a:pt x="28687" y="0"/>
                </a:lnTo>
                <a:lnTo>
                  <a:pt x="0" y="0"/>
                </a:lnTo>
                <a:close/>
              </a:path>
              <a:path fill="darken" w="28687" h="21600">
                <a:moveTo>
                  <a:pt x="28687" y="0"/>
                </a:moveTo>
                <a:lnTo>
                  <a:pt x="28687" y="21600"/>
                </a:lnTo>
                <a:lnTo>
                  <a:pt x="28687" y="21600"/>
                </a:lnTo>
                <a:lnTo>
                  <a:pt x="28687" y="0"/>
                </a:lnTo>
                <a:close/>
              </a:path>
              <a:path fill="darkenLess" w="28687" h="21600">
                <a:moveTo>
                  <a:pt x="28687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8687" y="21600"/>
                </a:lnTo>
                <a:close/>
              </a:path>
              <a:path fill="lighten" w="28687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5EE5-6F9B-42F2-8B77-31A1D625EF36}" type="slidenum">
              <a:t>94</a:t>
            </a:fld>
          </a:p>
        </p:txBody>
      </p:sp>
    </p:spTree>
  </p:cSld>
  <p:transition>
    <p:fade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"/>
          <p:cNvSpPr/>
          <p:nvPr/>
        </p:nvSpPr>
        <p:spPr>
          <a:xfrm>
            <a:off x="343080" y="204084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Finalmente, se calculan los índices de transmisión de la palabra mediante un programa apropi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364C-F223-4546-808B-F5C6D14A58BE}" type="slidenum">
              <a:t>95</a:t>
            </a:fld>
          </a:p>
        </p:txBody>
      </p:sp>
    </p:spTree>
  </p:cSld>
  <p:transition>
    <p:fade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"/>
          <p:cNvSpPr/>
          <p:nvPr/>
        </p:nvSpPr>
        <p:spPr>
          <a:xfrm>
            <a:off x="343080" y="1736280"/>
            <a:ext cx="8458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Como ejemplo, veamos los índices de modulación obtenidos en el caso de un aula cuya acústica era considerad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eficient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por sus usuarios </a:t>
            </a:r>
            <a:r>
              <a:rPr b="1" lang="es-ES_tradnl" sz="4000" spc="-1" strike="noStrike">
                <a:solidFill>
                  <a:srgbClr val="333399"/>
                </a:solidFill>
                <a:latin typeface="Courier Ne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8194-5CD1-40F1-AEB7-34A25D82E545}" type="slidenum">
              <a:t>96</a:t>
            </a:fld>
          </a:p>
        </p:txBody>
      </p:sp>
    </p:spTree>
  </p:cSld>
  <p:transition>
    <p:fade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4" name=""/>
          <p:cNvGraphicFramePr/>
          <p:nvPr/>
        </p:nvGraphicFramePr>
        <p:xfrm>
          <a:off x="415800" y="754200"/>
          <a:ext cx="8702640" cy="5624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5800" y="754200"/>
                    <a:ext cx="8702640" cy="56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F7FF-0579-485E-A475-1505B1E10D0B}" type="slidenum">
              <a:t>97</a:t>
            </a:fld>
          </a:p>
        </p:txBody>
      </p:sp>
    </p:spTree>
  </p:cSld>
  <p:transition>
    <p:fade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"/>
          <p:cNvSpPr/>
          <p:nvPr/>
        </p:nvSpPr>
        <p:spPr>
          <a:xfrm>
            <a:off x="0" y="1113840"/>
            <a:ext cx="91440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ara voces femeninas se obtuv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TI = 0,46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resultado que no garantiza más que un</a:t>
            </a:r>
            <a:r>
              <a:rPr b="1" lang="es-ES_tradnl" sz="4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70%</a:t>
            </a:r>
            <a:r>
              <a:rPr b="1" lang="es-ES_tradnl" sz="4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e articulación de palabras, lo cual corrobora lo observado por los usu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5A70-0F51-49EC-A1A8-D31E1A511F69}" type="slidenum">
              <a:t>98</a:t>
            </a:fld>
          </a:p>
        </p:txBody>
      </p:sp>
    </p:spTree>
  </p:cSld>
  <p:transition>
    <p:fade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0DA9-2EA3-4F6C-B1A0-6722C6D3BE47}" type="slidenum">
              <a:t>9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5:15:39Z</dcterms:created>
  <dc:creator>WinuE</dc:creator>
  <dc:description/>
  <dc:language>en-US</dc:language>
  <cp:lastModifiedBy>Federico Miyara</cp:lastModifiedBy>
  <dcterms:modified xsi:type="dcterms:W3CDTF">2024-11-08T17:34:17Z</dcterms:modified>
  <cp:revision>244</cp:revision>
  <dc:subject/>
  <dc:title>PSICOACÚSTICA  aplicada a la calidad acústica de espacios educativos.  Materiales absorbentes acústicos reciclados </dc:title>
</cp:coreProperties>
</file>